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507A-FACE-4CF8-88D7-F1F4D7A3D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upports for overseas students (visa etc.); cos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el rekap anggaran. Research for students theses; Komponen khusus: - pengurusan internasional studen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upports for overseas students (visa etc.); cos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5DC6-67FF-4AFF-82F8-326564D8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EA92-A343-4F4D-BB36-8C59DA50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C0C7-55AC-4015-94E5-60013255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0D85-003C-4497-BA13-A81CE6FF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A6AE-A33E-489F-8F7F-5DB65B8D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58B0-0B1F-4C59-8955-9F373B43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DFA1-47A1-43AA-B416-B717142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4CE-91D9-4A10-BB76-F294EA9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9901-7C3E-4816-B7CF-A0DFEFC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8288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8E3F-AE4C-4C1D-84D3-B302B487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DD66-0223-49D4-9F04-B0D5E3E4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E046-4B82-43BF-9631-4410520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BDFA-1EB0-4544-A24A-6251CEA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D36C-A0E8-430F-8AC5-99A807E5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289E-954B-4392-B93A-BDD797E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D9C3-946B-4048-A1C7-CA441343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3319-4665-4388-8AB2-A709C7B3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B62A-5DB8-4918-94C3-AC29CA0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DE04-812D-473E-AD19-6ABF7FB9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2B72-00FC-4CA6-9AB2-98E8E1FB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8288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0FC8-9FCE-403F-BDF3-557347E0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F6F0-3AF4-4EDA-97F6-9727F0B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0170-932B-479F-8464-5FA368C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96FB-0F83-46DB-824E-6712B52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9858-DD4B-4C4F-A5DC-DB57EEA74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76320" y="76320"/>
          <a:ext cx="1600200" cy="157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60020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A78E-6328-4E98-AE40-9190C192F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PROGRAM HIBAH KOMPETISI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BERBASIS INSTITUS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nduan Penyusunan Propos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kator Kinerja (Tema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etapkan oleh pengus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indikasikan daya saing global dalam bidang akademik, seper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reditasi internasion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did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kasi, sitasi, haki/pat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eli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petitive gra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utasi over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tan dengan unit inte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pengembangan secara keseluruhan merupakan program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ingat jumlah dana yang terbatas, PT dapat menetapkan unit-unit internal tertentu yang akan dijadikan sebagai unit utama pelaksan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PT dengan struktur sederhana (seperti akademi atau sekolah tinggi) program pengembangan dapat mencakup seluruh PT sekali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it dimaksud adalah unit sumber daya sesuai dengan statuta/ART perguruan ting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kripsi umum PH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si Program: 3 tah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 PT mengajukan 1 (satu) proposal, dapat memuat 1, 2 atau 3 te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ar pagu per-tema per tah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 A ≤ 2 M, B ≤ 3 M, C ≤ 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us disesuaikan dengan kebutuhan program (level of complexity or sophist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enang PHK-I Batch I tidak eligible untuk ik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 yg sdh sampai site visit pd Batch I tapi gagal, bisa langsung ke FULL Prop (tema &amp; prog sa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guruan Tinggi dikelompokkan dalam 5 (lima) kelompok (Univ/Inst, Poli, S.Tinggi, Akademi, PT S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cuali utk kelompok PT Seni, dibuat sub-kelompok yg dilandasi oleh tema yg diaj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  I: Hanya mengajukan Tem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 II: Mengajukan Tama A dan B atau B S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ompok III: Mengajukan Tem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es dan Kriteria Selek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ksi mencakup evaluasi proposal dan kunjungan ke 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ing-masing tahap melibatkan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al: prop awal + prop lengk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awal bersifat singkat; untuk melihat kemampuan perencanaan dan kapasitas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lengkap memuat informasi detil tentang program pengembangan yang diusul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eria selek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aw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pemimpinan dan komitmen inst       35%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alitas laporan evaluasi diri               35%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epatan strategi dan program          30%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iteria selek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al lengk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itmen pada good governance            15%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litas laporan evaluasi diri                    30%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 dan relevansi program                     35%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ayakan investasi dan sustainability     20%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ga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ponen biaya dibuat lebih fleksibel sejalan dengan semangat oton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ntabilitas pengusul dalam pemanfaatan dana akan dicek oleh otoritas yang ada (inspektorat, B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onen Bi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K-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adaan Barang dan J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kerjaan Si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mbangan St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ntif St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ponen Khus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jeme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K-I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adaan Barang dan J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kerjaan Si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mbangan St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ntif St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ngembangan Program untuk Tema A da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ponen Khusu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tuk tem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jeme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ubahan dalam Komp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asing dimungkinkan utk tema B sepanjang ada justifikasi yg ku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latihan singkat atau maga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puti </a:t>
            </a:r>
            <a:r>
              <a:rPr b="0" lang="id-ID" sz="3200" spc="-1" strike="noStrike">
                <a:solidFill>
                  <a:srgbClr val="ff3300"/>
                </a:solidFill>
                <a:latin typeface="Arial"/>
              </a:rPr>
              <a:t>staf akademik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dan staf non-akadem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Top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K lama vs PHK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 dan deskripsi PH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Panduan B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gembangan program untuk tema A dan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okakarya, pelatihan manajemen,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policy study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pengembangan kurikulum dan sejenisnya yang 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tidak bersifat ruti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us dilaksanakan di lingkungan k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okakarya/seminar/pelatihan interna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ana maksimum adalah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15.000.000,- untuk ti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giata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yang dapat digunakan untuk honor dan perjalanan narasumber/pembicara serta penyelengara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Jumlah total kegiat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lokakarya, seminar, atau pelatihan inte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maksimum </a:t>
            </a: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5 (lima) kegiatan per tahun untuk masing-masing tema hibah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id-ID" sz="2400" spc="-1" strike="noStrike">
                <a:solidFill>
                  <a:srgbClr val="ff3300"/>
                </a:solidFill>
                <a:latin typeface="Arial"/>
              </a:rPr>
              <a:t>olicy study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ana maksimum adalah 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50.000.000,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tuk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iap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study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umlah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study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idak lebih dari </a:t>
            </a: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5 (lima)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selama periode hibah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523880"/>
            <a:ext cx="403848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asional &amp; kont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b-2: Indikator Kine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mekanisme pelaksa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4: Ringkasan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5: Usulan Program Pengemb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6: Rekapitulasi Angg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lengkap (dijilid terpis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905120"/>
            <a:ext cx="4038840" cy="45720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 ekseku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ingkasan ren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2: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Rancangan Global Program Pengemb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36760" y="13716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7760" y="10666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Leng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KUME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Aw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engkapi dengan dokumen renstra (terpis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di prop aw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tuk penetapan tema dan incep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Leng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omodasi atas saran reviewer dijelaskan dalam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di prop lengka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k pengembangan aktiv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 di body, detil di dokumen terpi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gelolaan Kegia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harapkan untuk diintegrasikan dengan struktur dan fungsi yang 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orong terjadinya internalisasi project activities ke dalam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si utama yang harus 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aksana kegiatan (integ pada akademik atau struktur yg rele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elola pengadaan dan keuangan (integ pd ad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reporting (integ pada I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23880" y="2438280"/>
            <a:ext cx="609624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erima Kasi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ngkasan rencana strategis pengembangan institu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formasi ringkas tentang rencana strategis pengembangan perguruan tinggi ya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saat ini dijalankan dan dijadikan landa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ntuk penyusunan rencana program pengemban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Hasil evalua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atas pelaksanaan rens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serta capaian hingga akhir tahun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ingkasan Evaluasi Diri di tingkat P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Laporan evaluasi diri di tingkat institusi yang terkait erat dengan usulan program pengembangan yang diaj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si Diri-Proposal A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si diri pada tingkat perguru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Analisis lingkungan ekste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pelaksanaan, hasil, dan dampak </a:t>
            </a: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berbagai hibah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pendanaan sebelumnya yang telah diperoleh oleh instit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Evaluasi sistem tatakelola dan organisasi perguru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kinerja dan manajemen program akadem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ketersediaan dan manajemen sumberd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Evaluasi sistem penjaminan mutu di tingkat instit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ingkasan hasil analisis dengan menggunakan metode yang sesu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3300"/>
                </a:solidFill>
                <a:latin typeface="Arial"/>
              </a:rPr>
              <a:t>Ringkasan strategi/solusi alternatif untuk menyelesaikan persoalan yang teridentifikasi atau strategi untuk mengembangkan potensi yang 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Nilai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indikator kinerja utama dan indikator kinerja penunj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128280"/>
            <a:ext cx="9144000" cy="7038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utir (c), (e) dan (f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landasan utama dalam pengajuan Tema 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uti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salah satu landasan pengajuan program untuk Tema B atau Tem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Analisis </a:t>
            </a:r>
            <a:r>
              <a:rPr b="0" lang="sv-SE" sz="3200" spc="-1" strike="noStrike">
                <a:solidFill>
                  <a:srgbClr val="ff3300"/>
                </a:solidFill>
                <a:latin typeface="Arial"/>
                <a:ea typeface="SimSun"/>
              </a:rPr>
              <a:t>lingkungan eks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hasil analisis atas lingkungan eksternal perguruan tinggi yang rele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mencakup peluang dan tantangan yang dihadapi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terkait dengan tema yang diaj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Evaluasi pelaksanaan, hasil, dan dampak</a:t>
            </a:r>
            <a:r>
              <a:rPr b="0" lang="sv-SE" sz="3200" spc="-1" strike="noStrike">
                <a:solidFill>
                  <a:srgbClr val="ff3300"/>
                </a:solidFill>
                <a:latin typeface="Arial"/>
                <a:ea typeface="SimSun"/>
              </a:rPr>
              <a:t> berbagai hibah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 pendanaan sebelumnya yang telah diperoleh oleh institu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Pelaksanaan, hasil serta dampak hibah program hib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Kesulitan yang dihadapi (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lesson learnt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) pada pelaksanaan hib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Daftar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sv-SE" sz="2800" spc="-1" strike="noStrike">
                <a:solidFill>
                  <a:srgbClr val="ff3300"/>
                </a:solidFill>
                <a:latin typeface="Arial"/>
                <a:ea typeface="SimSun"/>
              </a:rPr>
              <a:t>hibah kompetisi dari Ditjen Dikti dan hibah lainnya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 serta unit penerimanya </a:t>
            </a:r>
            <a:r>
              <a:rPr b="0" i="1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perlu disertak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K (lama) vs PH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disusun oleh Departemen/Jurusan atau Fakultas (secara indepen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ksanaan program oleh unit pengus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 di tk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an Pimpinan (seleksi internal, menyetujui D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/aktivitas dikembangkan secara indep oleh msng2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ber daya unit pengus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asi di unit pengus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disusun perguruan tinggi (terintegra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ksanaan program oleh institusi dg melibatkan unit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mpinan: menetapkan strategi dan sasaran, tanggungjawab langsung pelaksa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ikemb dg melihat problem di unit2 yang diajukan; dimungkinkan utk menyusun aktivitas lintas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ber daya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asi disesuaikan kebutuhan unit; bis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SimSun"/>
              </a:rPr>
              <a:t>Evaluasi </a:t>
            </a:r>
            <a:r>
              <a:rPr b="0" lang="fi-FI" sz="3200" spc="-1" strike="noStrike">
                <a:solidFill>
                  <a:srgbClr val="ff3300"/>
                </a:solidFill>
                <a:latin typeface="Arial"/>
                <a:ea typeface="SimSun"/>
              </a:rPr>
              <a:t>sistem tatakelola dan organisasi perguruan tingg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evaluasi atas organisasi dan sistem tatakelola (</a:t>
            </a:r>
            <a:r>
              <a:rPr b="0" i="1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governance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) yang saat ini diterapkan di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upaya untuk menemukenali persoalan yang dihadapi instit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SimSun"/>
              </a:rPr>
              <a:t>evaluasi didasari atas suatu acuan normatif untuk menetapkan efektivitas dan efisiensi sistem tatakelola dan organsiasi yang 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SimSun"/>
              </a:rPr>
              <a:t>Evaluasi </a:t>
            </a:r>
            <a:r>
              <a:rPr b="0" lang="es-ES" sz="2800" spc="-1" strike="noStrike">
                <a:solidFill>
                  <a:srgbClr val="ff3300"/>
                </a:solidFill>
                <a:latin typeface="Arial"/>
                <a:ea typeface="SimSun"/>
              </a:rPr>
              <a:t>kinerja dan manajemen program akademi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sil evaluasi penyelenggaraan program akademik oleh perguruan tinggi yang mencakup kegiatan 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pendidikan (seluruh jenjang pendidikan), penelitian, dan layanan pada masyara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6684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SimSun"/>
              </a:rPr>
              <a:t>Melandasi kesimpulan tentang kinerja program akademik (efisiensi internal, mutu dan relevansi serta daya saing perguruan ting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SimSun"/>
              </a:rPr>
              <a:t>Evaluasi manajemen program akademik mencakup </a:t>
            </a:r>
            <a:r>
              <a:rPr b="0" lang="sv-SE" sz="2400" spc="-1" strike="noStrike">
                <a:solidFill>
                  <a:srgbClr val="ff3300"/>
                </a:solidFill>
                <a:latin typeface="Arial"/>
                <a:ea typeface="SimSun"/>
              </a:rPr>
              <a:t>siklus lengkap proses manaj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SimSun"/>
              </a:rPr>
              <a:t>Evaluasi </a:t>
            </a:r>
            <a:r>
              <a:rPr b="0" lang="nl-NL" sz="2800" spc="-1" strike="noStrike">
                <a:solidFill>
                  <a:srgbClr val="ff3300"/>
                </a:solidFill>
                <a:latin typeface="Arial"/>
                <a:ea typeface="SimSun"/>
              </a:rPr>
              <a:t>ketersediaan dan manajemen sumber da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asil evaluasi terhadap </a:t>
            </a:r>
            <a:r>
              <a:rPr b="0" lang="nl-NL" sz="2400" spc="-1" strike="noStrike">
                <a:solidFill>
                  <a:srgbClr val="ff3300"/>
                </a:solidFill>
                <a:latin typeface="Arial"/>
                <a:ea typeface="SimSun"/>
              </a:rPr>
              <a:t>ketersediaan sumber day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serta </a:t>
            </a:r>
            <a:r>
              <a:rPr b="0" lang="nl-NL" sz="2400" spc="-1" strike="noStrike">
                <a:solidFill>
                  <a:srgbClr val="ff3300"/>
                </a:solidFill>
                <a:latin typeface="Arial"/>
                <a:ea typeface="SimSun"/>
              </a:rPr>
              <a:t>sistem manajemen sumber day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yang diterapkan di perguruan tin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Sumber daya manusia (staf akademik dan non-akademik), keuangan, informasi, sarana dan prasa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spek ketersediaan dan kecukup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evaluasi kelayakan dan daya dukung (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service lev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) sumber daya  perguruan tinggi untuk menyelenggarakan kegiatan akadem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spek manajem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evaluasi siklus lengkap proses manaje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SimSun"/>
              </a:rPr>
              <a:t>Evaluasi </a:t>
            </a:r>
            <a:r>
              <a:rPr b="0" lang="fi-FI" sz="3200" spc="-1" strike="noStrike">
                <a:solidFill>
                  <a:srgbClr val="ff3300"/>
                </a:solidFill>
                <a:latin typeface="Arial"/>
                <a:ea typeface="SimSun"/>
              </a:rPr>
              <a:t>sistem penjaminan mutu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SimSun"/>
              </a:rPr>
              <a:t> di tingkat institu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evaluasi penerapan sistem penjaminan mutu di tingkat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5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sistem manajemen mutu, kelembagaan, dan sumber daya pelaksana 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PT yang </a:t>
            </a:r>
            <a:r>
              <a:rPr b="0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belum mempunyai unit penjaminan mu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5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jelaskan bagaimana </a:t>
            </a:r>
            <a:r>
              <a:rPr b="0" lang="fi-FI" sz="2400" spc="-1" strike="noStrike">
                <a:solidFill>
                  <a:srgbClr val="ff3300"/>
                </a:solidFill>
                <a:latin typeface="Arial"/>
                <a:ea typeface="SimSun"/>
              </a:rPr>
              <a:t>kegiatan penjaminan mutu tersebut dilaksanaka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  <a:ea typeface="SimSun"/>
              </a:rPr>
              <a:t> serta rencana pengembangan ke de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00"/>
                </a:solidFill>
                <a:latin typeface="Arial"/>
                <a:ea typeface="SimSun"/>
              </a:rPr>
              <a:t>Ringkasan hasil analis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SimSun"/>
              </a:rPr>
              <a:t> dengan menggunakan metode yang sesu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Ringkasan kesimpulan hasil evaluasi diri yang dilandasi a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960" indent="-4572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Arial"/>
                <a:ea typeface="SimSun"/>
              </a:rPr>
              <a:t>kelemahan atau permasalaha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960" indent="-4572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  <a:ea typeface="SimSun"/>
              </a:rPr>
              <a:t>kekuatan atau potens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960" indent="-4572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Arial"/>
                <a:ea typeface="SimSun"/>
              </a:rPr>
              <a:t>peluang dan tant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0640" indent="-4334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arus </a:t>
            </a:r>
            <a:r>
              <a:rPr b="0" lang="nl-NL" sz="2400" spc="-1" strike="noStrike">
                <a:solidFill>
                  <a:srgbClr val="ff3300"/>
                </a:solidFill>
                <a:latin typeface="Arial"/>
                <a:ea typeface="SimSun"/>
              </a:rPr>
              <a:t>mencerminkan posisi relati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perguruan tinggi serta </a:t>
            </a:r>
            <a:r>
              <a:rPr b="0" lang="nl-NL" sz="2400" spc="-1" strike="noStrike">
                <a:solidFill>
                  <a:srgbClr val="ff3300"/>
                </a:solidFill>
                <a:latin typeface="Arial"/>
                <a:ea typeface="SimSun"/>
              </a:rPr>
              <a:t>menjadi das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untuk menetapkan pilihan strategi yang diaju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3300"/>
                </a:solidFill>
                <a:latin typeface="Arial"/>
                <a:ea typeface="SimSun"/>
              </a:rPr>
              <a:t>Ringkasan strategi/solusi alterna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SimSun"/>
              </a:rPr>
              <a:t>Merupakan hasil sintesa dari kesimpulan evaluasi di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Solusi alternatif untuk menyelesaikan persoalan yang teridentif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Strategi untuk mengembangkan potensi yang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Nilai </a:t>
            </a:r>
            <a:r>
              <a:rPr b="0" i="1" lang="sv-SE" sz="3200" spc="-1" strike="noStrike">
                <a:solidFill>
                  <a:srgbClr val="ff3300"/>
                </a:solidFill>
                <a:latin typeface="Arial"/>
                <a:ea typeface="SimSun"/>
              </a:rPr>
              <a:t>baseline</a:t>
            </a:r>
            <a:r>
              <a:rPr b="0" lang="sv-SE" sz="3200" spc="-1" strike="noStrike">
                <a:solidFill>
                  <a:srgbClr val="ff3300"/>
                </a:solidFill>
                <a:latin typeface="Arial"/>
                <a:ea typeface="SimSun"/>
              </a:rPr>
              <a:t> indikator kinerja utama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 dan </a:t>
            </a:r>
            <a:r>
              <a:rPr b="0" lang="sv-SE" sz="3200" spc="-1" strike="noStrike">
                <a:solidFill>
                  <a:srgbClr val="ff3300"/>
                </a:solidFill>
                <a:latin typeface="Arial"/>
                <a:ea typeface="SimSun"/>
              </a:rPr>
              <a:t>indikator kinerja penunja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awal: Bab II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Rancangan global program pengemba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3300"/>
                </a:solidFill>
                <a:latin typeface="Arial"/>
                <a:ea typeface="SimSun"/>
              </a:rPr>
              <a:t>Penetapan tema program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 dan </a:t>
            </a:r>
            <a:r>
              <a:rPr b="0" lang="sv-SE" sz="2800" spc="-1" strike="noStrike">
                <a:solidFill>
                  <a:srgbClr val="ff3300"/>
                </a:solidFill>
                <a:latin typeface="Arial"/>
                <a:ea typeface="SimSun"/>
              </a:rPr>
              <a:t>rasional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atas pemilihan tema dan unit internal yang dilibatkan (sesuai dengan hasil evaluasi dir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Deskripsi ringkas program pengembangan untuk masing-masing tema yang diajukan (</a:t>
            </a:r>
            <a:r>
              <a:rPr b="0" i="1" lang="sv-SE" sz="2800" spc="-1" strike="noStrike">
                <a:solidFill>
                  <a:srgbClr val="ff3300"/>
                </a:solidFill>
                <a:latin typeface="Arial"/>
                <a:ea typeface="SimSun"/>
              </a:rPr>
              <a:t>inception or preliminary plan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SimSun"/>
              </a:rPr>
              <a:t>judul kegi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  <a:ea typeface="SimSun"/>
              </a:rPr>
              <a:t>penjelasan umum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SimSun"/>
              </a:rPr>
              <a:t> tentang tujuan dan rancangan umum kegi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3300"/>
                </a:solidFill>
                <a:latin typeface="Arial"/>
                <a:ea typeface="SimSun"/>
              </a:rPr>
              <a:t>keterkaitannya dengan unit atau program studi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SimSun"/>
              </a:rPr>
              <a:t> yang dipil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1676520"/>
            <a:ext cx="4495680" cy="4952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asional &amp; kont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b-2: Indikator Kine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Mekanisme pelaksa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4: Ringkasan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5: Usulan Program                                           Pengemb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6: Rekapitulasi Angg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lengkap (dijilid terpis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514600"/>
            <a:ext cx="3810240" cy="327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esa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kasan ekseku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1: Ringkasan ren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2: Ringkasan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-3: Rancangan Global Program Pengemb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7680" y="205740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7760" y="121932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Leng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asional dan kontek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ingkasan </a:t>
            </a:r>
            <a:r>
              <a:rPr b="1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rencana pengembangan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 yang diusulkan dilihat dalam perspektif rencana pengembangan institusi secara keseluruhan (</a:t>
            </a:r>
            <a:r>
              <a:rPr b="1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renstra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), berikut </a:t>
            </a:r>
            <a:r>
              <a:rPr b="1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output, </a:t>
            </a:r>
            <a:r>
              <a:rPr b="1" i="1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outcome</a:t>
            </a:r>
            <a:r>
              <a:rPr b="1" lang="fi-FI" sz="2800" spc="-1" strike="noStrike">
                <a:solidFill>
                  <a:srgbClr val="ff3300"/>
                </a:solidFill>
                <a:latin typeface="Arial"/>
                <a:ea typeface="SimSun"/>
              </a:rPr>
              <a:t> dan dampak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 yang diharapkan dari program yang diusul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I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Indikator Kine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erisi usul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indikator kinerja utama dan indikator kinerja tamba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esuai dengan tema dan fokus pengemb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Untuk masing-masing 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indikator kinerja utama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juga dibutuhkan 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indikator kinerja sp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s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f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ik yang dapat lebih rinci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mencerminkan tingkat kemajuan dalam upaya mencapai sasaran indikator kinerja uta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dikator kinerja diukur pad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tingkat perguru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tinggi dan pad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unit dan/atau program studi terk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 pengukuran indikator kinerja secara ring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8580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juan PH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  <a:ea typeface="SimSun"/>
              </a:rPr>
              <a:t>meningkatan mutu dan relevansi PT; menuju PT yang sehat, otonom, dan berkontribusi pada daya saing bang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SimSun"/>
              </a:rPr>
              <a:t>Peningkatan kapasitas institusional dan mutu manajemen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eningkatan mutu, relevansi dan efisiensi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engembangan program ungg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III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SimSun"/>
              </a:rPr>
              <a:t>Mekanisme Pelaksanaan Kegiatan di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rganisasi pelaksanaan kegiatan, baik di tingkat institusi maupun di tingkat unit internal yang dilibat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ekanisme koordinasi, serta mekanisme monitoring dan evaluasi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ekanisme dan sistem pengelolaan keuangan, serta sistem pengadaan barang dan j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engelolaan kegiatan di tingkat perguruan tinggi diharapk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imSun"/>
              </a:rPr>
              <a:t>dikoordinasikan oleh pejabat  di perguruan tinggi sesuai dengan tupoksi yang rele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IV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5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Ringkasan Evaluasi di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id-ID" sz="3200" spc="-1" strike="noStrike">
                <a:solidFill>
                  <a:srgbClr val="ff3300"/>
                </a:solidFill>
                <a:latin typeface="Arial"/>
              </a:rPr>
              <a:t>encakup 2 (dua) bag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kesimpulan hasil evaluasi diri tingkat perguruan tin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ingkasan hasil evaluasi diri unit-unit dan/atau program studi yang terlibat pada masing-masing tema yang diusu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3960" y="5805360"/>
            <a:ext cx="7113240" cy="520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oran Evaluasi diri lengkap dijilid terpi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angka Pikir Laporan Evaluasi Diri Lengk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em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difokuskan pada </a:t>
            </a:r>
            <a:r>
              <a:rPr b="0" lang="id-ID" sz="2800" spc="-1" strike="noStrike">
                <a:solidFill>
                  <a:srgbClr val="ff3300"/>
                </a:solidFill>
                <a:latin typeface="Arial"/>
              </a:rPr>
              <a:t>kapasitas manajemen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unit-unit terkait dan kontribusinya terhadap kinerja perguruan tingg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encakup antara lain kebijakan, kelembagaan, sistem pengelolaan yang saat ini berjalan dan kinerjanya, kualitas sumberdaya manusia dan sarana serta prasarana pada unit-unit terk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angka Pikir Laporan Evaluasi Diri Lengk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861840" indent="-46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ema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encakup aspek </a:t>
            </a:r>
            <a:r>
              <a:rPr b="0" lang="id-ID" sz="2800" spc="-1" strike="noStrike">
                <a:solidFill>
                  <a:srgbClr val="ff3300"/>
                </a:solidFill>
                <a:latin typeface="Arial"/>
              </a:rPr>
              <a:t>kinerja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program pendidikan (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 proses, 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dan dampak), kinerja program penelitian dan pemberdayaan masyarakat, ketersediaan dan manajemen sumberdaya pada unit dan/atau program studi terk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Tema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emberi tekanan pada </a:t>
            </a:r>
            <a:r>
              <a:rPr b="0" lang="id-ID" sz="2800" spc="-1" strike="noStrike">
                <a:solidFill>
                  <a:srgbClr val="ff3300"/>
                </a:solidFill>
                <a:latin typeface="Arial"/>
              </a:rPr>
              <a:t>rekam jejak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program pendidikan, penelitian dan layanan masyarakat serta kerja sama pada unit dan/atau program studi terk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V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0 hala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Usulan Program Pengemba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Berisi usula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SimSun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da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SimSun"/>
              </a:rPr>
              <a:t>rincian aktiv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untu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SimSun"/>
              </a:rPr>
              <a:t>masing-masing t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Setiap aktivitas dapat melibatka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SimSun"/>
              </a:rPr>
              <a:t>lebih dari satu unit dan/atau program stu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, sesuai dengan kebutuh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Program yang diusulkan merupaka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SimSun"/>
              </a:rPr>
              <a:t>program perguruan tingg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truktur Usulan Program Pengembang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6D59-3996-4B96-AD52-0DF91BDA6640}" type="slidenum">
              <a:rPr b="0" lang="id-ID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1027"/>
          <p:cNvGrpSpPr/>
          <p:nvPr/>
        </p:nvGrpSpPr>
        <p:grpSpPr>
          <a:xfrm>
            <a:off x="438120" y="2114640"/>
            <a:ext cx="2658960" cy="4066920"/>
            <a:chOff x="438120" y="2114640"/>
            <a:chExt cx="2658960" cy="4066920"/>
          </a:xfrm>
        </p:grpSpPr>
        <p:pic>
          <p:nvPicPr>
            <p:cNvPr id="219" name="Rectangle 1027" descr=""/>
            <p:cNvPicPr/>
            <p:nvPr/>
          </p:nvPicPr>
          <p:blipFill>
            <a:blip r:embed="rId1"/>
            <a:stretch/>
          </p:blipFill>
          <p:spPr>
            <a:xfrm>
              <a:off x="438120" y="2114640"/>
              <a:ext cx="265896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213372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……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Content Placeholder 8"/>
          <p:cNvGrpSpPr/>
          <p:nvPr/>
        </p:nvGrpSpPr>
        <p:grpSpPr>
          <a:xfrm>
            <a:off x="3260880" y="2114640"/>
            <a:ext cx="2663640" cy="4066920"/>
            <a:chOff x="3260880" y="2114640"/>
            <a:chExt cx="2663640" cy="4066920"/>
          </a:xfrm>
        </p:grpSpPr>
        <p:pic>
          <p:nvPicPr>
            <p:cNvPr id="222" name="Content Placeholder 8" descr=""/>
            <p:cNvPicPr/>
            <p:nvPr/>
          </p:nvPicPr>
          <p:blipFill>
            <a:blip r:embed="rId2"/>
            <a:stretch/>
          </p:blipFill>
          <p:spPr>
            <a:xfrm>
              <a:off x="3260880" y="2114640"/>
              <a:ext cx="266364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282840" y="213372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4680" indent="-2746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 indent="-2746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…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Content Placeholder 8"/>
          <p:cNvGrpSpPr/>
          <p:nvPr/>
        </p:nvGrpSpPr>
        <p:grpSpPr>
          <a:xfrm>
            <a:off x="6089760" y="2114640"/>
            <a:ext cx="2657520" cy="4066920"/>
            <a:chOff x="6089760" y="2114640"/>
            <a:chExt cx="2657520" cy="4066920"/>
          </a:xfrm>
        </p:grpSpPr>
        <p:pic>
          <p:nvPicPr>
            <p:cNvPr id="225" name="Content Placeholder 8" descr=""/>
            <p:cNvPicPr/>
            <p:nvPr/>
          </p:nvPicPr>
          <p:blipFill>
            <a:blip r:embed="rId3"/>
            <a:stretch/>
          </p:blipFill>
          <p:spPr>
            <a:xfrm>
              <a:off x="6089760" y="2114640"/>
              <a:ext cx="265752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108840" y="213372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Gill Sans MT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.…………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Lengkap: Bab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SimSun"/>
              </a:rPr>
              <a:t>Rekapitulasi Angg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apitulasi Dana Institusi Tiap Komponen Biaya Selama 3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kapitulasi Dana Institusi Tiap Tema Selama 3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A: Manajemen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ujukan untuk meningkatkan mutu manajemen PT, khususnya mencak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sistem tatakelola dan organisasi perguruan tingg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manajemen program akademi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manajemen keuang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manajemen sumberdaya manus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manajemen sarana dan prasara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mutu manajemen data dan informa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sistem penjaminan mutu perguru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aran akhir : Goo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le, transparent,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tan: Dengan memperhatikan mandat dan kharakteristik instit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kator Kinerja (Tema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terapkannya organisasi yang efisi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efek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erfungsinya sistem pencatatan/perekaman dan pengelolaan data yang terintegr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erfungsinya sistem administrasi dan pengelolaan program akadem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poran keuangan perguruan tinggi dapat diau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erfungsinya sistem pengadaan dan sistem inventarisasi barang dan a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erfungsinya sistem manajemen sumber daya manu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dasarkan atas sistem ”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merit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erfungsinya sistem penjaminan mutu secara efekt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5927760"/>
            <a:ext cx="47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I di atas adalah TARGET bukan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B: Mutu, Relevansi dan Efisiensi 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cakup dua area pengembangan, yai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ingkatan efisiensi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ingkatan efisiensi eksternal (mutu dan relev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, berdasarkan hasil ED, menetapkan utk memilih salah satu atau kedua area di 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udi yg ditingkatkan jenja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jana untuk Univ/Inst/Sekolah Tin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loma 3 untuk Politeknik/Akad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kator Kinerja (Tema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isiensi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ka Efisiensi Eduk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E staff termanfaatkan &amp; Tingkat utilisasi fasil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isiensi Eks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a saing lul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si pendapatan insitusi diluar kontribusi mahasis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gungjawab so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si mahasiswa dari keluarga kurang mam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fokus pada efisiensi internal maka gunakan 1,2,5; jika efisiensi external atau keduanya, gunakan seluruh ind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C: Unggu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ggulan = daya saing global dalam bidang akade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 bukti prestasi sebelumnya (track rec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sial untuk dijadikan niche perguruan ting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Unggulan = sekumpulan kegiatan yang sinergy dan koheren untuk mencapai suatu unggulan tert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at mencakup aspek penelitian dan/atau pendidikan pada jenjang pascasarj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ibusi pada aspek pendidikan pada program pendidikan reguler tetap harus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9:16:08Z</dcterms:created>
  <dc:creator>Chan Basaruddin</dc:creator>
  <dc:description/>
  <dc:language>en-US</dc:language>
  <cp:lastModifiedBy>User</cp:lastModifiedBy>
  <dcterms:modified xsi:type="dcterms:W3CDTF">2007-11-14T07:09:21Z</dcterms:modified>
  <cp:revision>104</cp:revision>
  <dc:subject/>
  <dc:title>Pola dan Skema Pendanaan Pendidikan Tinggi</dc:title>
</cp:coreProperties>
</file>