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5.png" ContentType="image/png"/>
  <Override PartName="/ppt/media/image37.png" ContentType="image/png"/>
  <Override PartName="/ppt/media/image38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7.wmf" ContentType="image/x-wmf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3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Hibah Kompetisi Berbasis Institu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dt" idx="49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E4B6-25F2-4212-85F3-D861512C9B8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 type="ftr" idx="50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misi PHK DPT Dik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 type="sldNum" idx="51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DD4F-0C63-4417-B939-9E877D24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Header Placeholder 3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 Hibah Kompetisi Berbasis Institusi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3" name="Date Placeholder 4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C890-F23C-4987-BBCA-F7C282B759F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4" name="Footer Placeholder 5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misi PHK DPT Dikti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5" name="Slide Number Placeholder 6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699B-744C-47AB-BBC6-7898D6A43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1B6-387D-469D-B8F3-DD3AD08C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F23-613F-40BB-8CD5-4434C347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EF367-9366-4C83-B62A-1D1B8DA5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96112-E124-4737-8B91-7E23E91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AECB5-D7DB-4F58-B83F-4442FBCD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C10DF0-211E-4AE1-AC08-923FF054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15531-E1ED-4886-9A4B-5198F41C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4A3E-AEBD-461F-9529-61B287B9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17E71-6AEC-4379-B1FD-E269E456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E17B2-88E3-446F-8086-F2F6428D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0D2FF-53FF-46FE-87DD-9D2437D4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87651-35DE-4364-ACCB-2CC3A65D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20A-6B5D-4CEB-BCDA-879F26AF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0D00D-E5B0-429D-8DCE-56B7A6CD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3F21B-D7BC-4FA1-9269-27F5E18B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12671-E894-42CB-A06A-78D39BBA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4172D-984A-4188-800E-C316AB26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486AA-7DC7-41B9-B118-F9D8C06A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5C6C7-B7FD-4A53-9AF6-EE61884D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882A2-198F-4A8E-8F2E-F7DADABA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1B1AF-8275-46A3-BA59-5C4D9D8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247C3-9B18-42B0-8573-E2FE4F90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3FC30-4AD7-435A-A11A-89725206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809-C3AD-4609-9202-ED45D414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2C192-464F-47D8-AE54-51F9B717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27B1A-9DDE-47B1-B768-0EA4C47A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555E6-90AD-43E1-8B23-927EADC7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22DA1-F7EA-456A-8C3B-FA16241E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6340F-F382-4190-B61A-65150247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72D09-715A-4B7C-AABF-62BD8DAE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80149-F58F-466C-9BA7-5F2B243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FA474-C8BF-4A7C-BDD5-FA3089A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25B57-F4DA-445E-BC5E-992A3AD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C1720-7C18-4929-9652-FB43CD61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DF4D-5221-4D0B-BF3C-D5BAAD22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127B1D-FBC8-4D45-94ED-33072756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388E25-0EBB-4E40-A119-645EAF95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14819-9C8B-47CC-926B-20EAAE8C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F237B-5637-4C28-B344-B422CC8C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7086CE-B2CE-4510-BA1D-37A93F4E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F94EDA-7C45-46AC-BD06-297F809A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B7DBF-AC42-4261-B5FE-4A78B63B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DC320-9B94-4B48-B815-A8717037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2DA4A-A3A9-4043-A9BF-3808C818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9075C-AE90-4976-BBAF-9F2FF6D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31B5-6C3A-4EE1-B2F5-25B36EE9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F2FC89-0D55-438E-BE25-945936CC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18025-D2A6-4565-A7F3-8A25A29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73B00-FE7B-48EF-A5C3-44554136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524DD-EE80-4723-8C23-32089515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91532E-10DD-4EFD-9BF5-FA65ADCA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3A61E-F555-426B-A046-E851EE59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9847F-A0E2-4ECF-AE0C-FE5C8258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FA10C-3AD7-40B9-AE0B-FE5B78CB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687F0-A291-44AB-AD26-2DEE9276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3237A-0485-4917-BA1A-7A96958D4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1DCA-3B77-48D9-9061-9CD5D908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9935B-A80D-4865-A9E8-0E15A726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70C16-76D0-44EB-8E56-15F0D42E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9DD71-C5C2-4FCF-AD7C-090DCD76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164404-6360-4C5A-A788-28D38825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254AA-CB03-402C-A9B3-ED8DE538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E150A-E9F7-458B-B42B-D8912DD93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FBC14-1FAB-4FA3-BDD5-4A4F0175C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86E41F-347B-48F1-9101-24C15F41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A6EAE-2AF9-47A5-8454-C6B8391F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FB3E2-16C9-4573-9D7F-2AE63FAF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B646-4491-4581-84E3-7887D93F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B855B-7F52-4B31-9710-B96FFF91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6D2A5-BC09-46D2-ACC8-EA4FEE90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B7663-C308-4AC0-8B34-040344D3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C53B2-5F93-4C0E-A5D1-C241293A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E124F-D97D-43F7-9180-F0A0D616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386A22-D122-427E-B521-126EB965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302047-19C9-4696-B823-2FDE3199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51AD92-A55C-41B9-AB25-CF944075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0036DD-3694-4349-BED8-15B7D4F6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F1FD4-3E99-4531-A4E1-2F5B7F9E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AFDF5-CA55-4F3B-AC2B-2E09F20A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D0E414-CD86-47D2-85A7-18136E9E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5EF47-2CA7-4D91-836D-4FF465BE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1D840-9E00-41E5-9EE9-06F8BA13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7E2CD-1730-41FE-8D4C-C20637B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433C8D-EF78-46ED-B47D-19A3632D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7BD69-1798-4C72-B93C-FCC6B0AD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32FE1-FDA2-416B-87F5-42E96344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13708-1256-4EFE-A155-4C17123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EF795-3E89-4C66-821F-DA837B8E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6F0DB-78AD-40F6-A813-19E32672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BAC8-CE98-464A-9062-63297738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15B77-CFB1-4133-B6F0-68509D9B4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9D1EA5-DECA-4479-B621-3940ADC7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3ADAD5-BDAC-4A60-8E79-A1E1C95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ACCFD7-4F34-4959-BB1A-F79C07FC8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DA768B-D1FD-4BA6-96B6-44332EE9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474767-A70E-45D2-92E4-762A916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53143-692F-4E08-B743-DC0F01B6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722327-AF2D-471D-BCFD-EC0AF5F6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BB5DE2-7051-4291-8250-75620510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10852-6723-48D2-ADB7-ED2299E1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8BFC7-A2BE-4194-810A-D712D4F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A38CDA-8A14-497D-884A-758E6EDC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D1C7D2-4238-4735-860B-1A9B43D4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B477DC-96D7-493F-BBD4-F8D24290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6C7-7A9E-4985-9D76-AA5D56630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F52F-24C8-4D70-858F-FF40D708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65C0-555C-4BA3-9E7F-81FCD86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006A-DF6F-46FA-B747-D05471DB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8192-1F40-4AA6-9411-949A93E9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39CE-EB1F-4090-A99A-EE2977BF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CBA45-2D6E-4861-BD0F-CA340A31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ECE3A-130C-4A96-A587-AC37609F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AD50E-425E-4366-AA49-A406092A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DC934-9F6A-4C29-A245-DAFE5B26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6F6C-370F-4D16-AD87-E0C719F1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96B-3CD4-4DA4-8316-CAE5F66B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5A686-0A8B-4351-BE90-1B32CC82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CB0C-493B-4D9E-9050-9F6E774D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24AE5-37D4-421B-9485-50AA2069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6BE3E-5B07-40E0-9063-F6479FA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9FB95-9362-4925-B30B-800D7A03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AD442-5382-4854-B593-32A20BBC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5AB2-1E9E-40E1-8A14-921D5E96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2D711-E47B-4071-9BCA-E8D6F22AA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20C1F-D82C-4EF7-9FFF-578A0844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92184-A907-45F4-AC66-F4FCDD6D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EBF-75EF-437D-B240-73764BEC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5748E-2152-4374-83C4-D14DC350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D12E-7745-4180-81FA-0FBA965B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EEC42-B656-4C0E-906D-8AA2A299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929EE-BF10-4A4F-BB1D-FF0A9865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C322-6881-4B9F-A038-A34B3B95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7B430-C6F9-4AC0-96DB-E2A9EC86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FFFE8-BCA0-47A9-A772-A70C36C3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860B-C3C3-4654-BFDD-94814A53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5A737-2104-46D4-B6B6-9B0BECFB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96FE0-48A6-46A8-A6EA-1215CA9BB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87E-F447-4635-BB38-DEBCC090A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B7BCA-2F4B-4581-8A3A-87A07C0F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2BBC-A5FF-4DB8-9157-38A7D3DB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1D486-AD32-4766-B5BB-FDF66D6F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6CAFE-4AF9-4E93-B12B-BD09AC59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F8D11-6C55-48CF-9128-F467F0BC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6839D-5099-4E16-B281-19CE2413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0D30C-ED4D-4FC0-B304-F0E40B69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CC377-666E-44C8-A314-6455AA17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429FD-BAEF-4F28-B83B-AF31992C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69B6F-9FED-40D0-B51B-49920145B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464-4CE1-4911-B174-E80CEA82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36F88-509A-4FBA-86F7-09689E911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60B3-A5CC-47F7-ACAD-0E1C0607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6B4F2-CF66-4F8D-BA49-88BFCCDE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108C0-4550-4FD8-85A1-D7103EAC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93E5E-85E4-4EB9-A068-40FF35B0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81617-7BEB-4F45-9BAC-6EBC1026D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392E7-1CD2-4DA2-A0D2-8A5B468E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5DAD-24A2-480B-87E6-A84BAF14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18BE4-BF46-4EB6-A63F-EE77D4F3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8B74-4BFE-42AD-BF4C-C75CF54F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198-72CA-48A2-9140-64893FD3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03721-1237-4A7F-B354-3B165330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AA9B2-A005-46E6-8E47-7031E1CA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09D73-E4AF-41C9-97CD-E4FBFE83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A72A6-CC15-49E0-A662-61D1C28B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FAEC9-238E-49CB-AE5F-5FE429AA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E0098-39F7-4722-A7A9-724E23CD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E3F6D-A991-47FB-B8BD-11169600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1985F-F5A3-4854-89C8-EF7D60FE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ECC74-5C0D-4027-9883-0F36F307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80E7-FA64-4F68-A574-B0A03CBE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6072-B05C-498A-AEFB-E20662B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44FBE-4473-40EC-BBC3-21F2F0EA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EA71E-A225-4961-A90B-7FABBB18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5F645-8460-4BA9-BF65-E8679272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6A610-9E67-4E16-A992-0175013C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73B5E-A522-4F80-A3D8-300154A2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F5CC0-1FAD-4F93-80DF-530DFFD8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99EE9-F0DD-4DF8-82B9-5482B9AA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39935-8323-4F89-9D5C-688151DD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D437C-91AB-4265-9D4A-2A25D7F8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84DD7-4263-486D-87F2-949FDE41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E1D6-2E2B-492F-8FA7-0468F8EF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F5590-B503-4C5C-82F3-CA82A3A3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6562-B1D9-46D3-AB65-0567C14B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E8D16-61C4-4263-ADED-4E87AEC5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2A5D8-12EA-4000-94F2-CFAB6E3E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4AE22-0B32-4432-BC53-6BA80312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13318-7375-46DB-8017-6CBED57C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6452-F980-4602-A670-DD2FD1F9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80F33-0C3D-4A17-ACE6-D14B528A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288FB-1325-467A-AE51-D64FFC61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61E830-3143-4C17-9A35-C13A462C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37CA-CB9D-42AC-A4E6-572A7143B21C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4C6B-381C-4A4E-8C1B-130065FF80DD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7965-A56C-405A-9B28-F7A9AA35338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E824-18AA-4D53-BFD8-75C2AE4A9AC1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457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3E2-1C7F-4185-BF31-FF8BC11E256B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C6F0-7283-4B87-8226-4FE0EB352C25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0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0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0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0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508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9FFE-AD24-4277-9389-3D3C2E3C6676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43516-718E-490D-8B2A-55C27F8EA610}" type="slidenum">
              <a:rPr b="0" lang="id-ID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559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427C-2778-468F-8A40-97C50E907A98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FA59-519D-432C-BB66-0A97114C2360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0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0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0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60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60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pic>
        <p:nvPicPr>
          <p:cNvPr id="610" name="Picture 3" descr="D:\My Documents\Dikti\Logo\Diknas2.gif"/>
          <p:cNvPicPr/>
          <p:nvPr/>
        </p:nvPicPr>
        <p:blipFill>
          <a:blip r:embed="rId5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0908-DE43-413D-BCAD-F7C91FB96612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11945-7D36-484C-8297-AFC54C8FECEC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3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4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5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940B-AF32-4D58-AAE3-F758D7B9B5C4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FCE4-FF95-48EA-8199-2D425B121E40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8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69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0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70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2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703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70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5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6"/>
          </p:nvPr>
        </p:nvSpPr>
        <p:spPr>
          <a:xfrm>
            <a:off x="2819520" y="6488280"/>
            <a:ext cx="1295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5A98-4DBC-44A9-A009-78E8C3A497EF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7"/>
          </p:nvPr>
        </p:nvSpPr>
        <p:spPr>
          <a:xfrm>
            <a:off x="4267080" y="6488280"/>
            <a:ext cx="289584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48"/>
          </p:nvPr>
        </p:nvSpPr>
        <p:spPr>
          <a:xfrm>
            <a:off x="7315200" y="6488280"/>
            <a:ext cx="1295280" cy="2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526B-95D9-44A0-BC1D-A7CA8F28CCE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7586-F46E-41DE-BC45-02E7C91A7487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A2DE-CDFE-413E-A030-24997A9EE559}" type="slidenum">
              <a:rPr b="0" lang="id-ID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grpSp>
          <p:nvGrpSpPr>
            <p:cNvPr id="55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3" descr="D:\My Documents\Dikti\Logo\Diknas2.gif"/>
          <p:cNvPicPr/>
          <p:nvPr/>
        </p:nvPicPr>
        <p:blipFill>
          <a:blip r:embed="rId2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1A6D-30B3-4021-B43F-BED51DB24D0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5ACA-45F6-4D10-8285-BAFF480A4845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3" name="Picture 3" descr="D:\My Documents\Dikti\Logo\Diknas2.gif"/>
          <p:cNvPicPr/>
          <p:nvPr/>
        </p:nvPicPr>
        <p:blipFill>
          <a:blip r:embed="rId2"/>
          <a:stretch/>
        </p:blipFill>
        <p:spPr>
          <a:xfrm>
            <a:off x="8275680" y="46080"/>
            <a:ext cx="822240" cy="8064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33FC-CDDE-4FA7-9749-1DC7C23EB9A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F35A-3903-4536-A3FB-706205842BC0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E67B-CBA5-410E-8E6E-F59D1178B77E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dde9ec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5CE-B762-4F6E-8684-44D925A34745}" type="slidenum">
              <a:rPr b="0" lang="id-ID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5371-DB64-4306-8BD4-6333BB1F93E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2849-A171-4F19-921B-D1136FCDEDF1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4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C374-B460-4F28-99DF-2EAE0CD68C19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D629-61C7-4C6B-8426-4C27D5D96EA3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FAAE-DE51-4D94-A4CA-234E8D1485FB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071E-906D-4A78-B722-9443773CBCB7}" type="slidenum">
              <a:rPr b="0" lang="id-ID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62A1-1996-4999-B7A3-099E9F13ED55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dde9ec"/>
                </a:solidFill>
                <a:latin typeface="Times New Roman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F822-40C5-4004-A258-CADD053D1C3E}" type="slidenum">
              <a:rPr b="0" lang="id-ID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24.png"/><Relationship Id="rId18" Type="http://schemas.openxmlformats.org/officeDocument/2006/relationships/hyperlink" Target="file:///tmp/home/.config/libreoffice/4/user/gallery/camera.wav" TargetMode="External"/><Relationship Id="rId19" Type="http://schemas.openxmlformats.org/officeDocument/2006/relationships/image" Target="../media/image25.png"/><Relationship Id="rId20" Type="http://schemas.openxmlformats.org/officeDocument/2006/relationships/hyperlink" Target="file:///tmp/home/.config/libreoffice/4/user/gallery/camera.wav" TargetMode="External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slideLayout" Target="../slideLayouts/slideLayout37.xml"/><Relationship Id="rId2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hyperlink" Target="file:///tmp/home/.config/libreoffice/4/user/gallery/camera.wav" TargetMode="External"/><Relationship Id="rId14" Type="http://schemas.openxmlformats.org/officeDocument/2006/relationships/image" Target="../media/image38.png"/><Relationship Id="rId15" Type="http://schemas.openxmlformats.org/officeDocument/2006/relationships/image" Target="../media/image22.png"/><Relationship Id="rId16" Type="http://schemas.openxmlformats.org/officeDocument/2006/relationships/image" Target="../media/image23.png"/><Relationship Id="rId17" Type="http://schemas.openxmlformats.org/officeDocument/2006/relationships/image" Target="../media/image39.png"/><Relationship Id="rId18" Type="http://schemas.openxmlformats.org/officeDocument/2006/relationships/hyperlink" Target="file:///tmp/home/.config/libreoffice/4/user/gallery/camera.wav" TargetMode="External"/><Relationship Id="rId19" Type="http://schemas.openxmlformats.org/officeDocument/2006/relationships/image" Target="../media/image40.png"/><Relationship Id="rId20" Type="http://schemas.openxmlformats.org/officeDocument/2006/relationships/image" Target="../media/image41.png"/><Relationship Id="rId21" Type="http://schemas.openxmlformats.org/officeDocument/2006/relationships/image" Target="../media/image42.png"/><Relationship Id="rId22" Type="http://schemas.openxmlformats.org/officeDocument/2006/relationships/image" Target="../media/image43.png"/><Relationship Id="rId23" Type="http://schemas.openxmlformats.org/officeDocument/2006/relationships/image" Target="../media/image44.png"/><Relationship Id="rId24" Type="http://schemas.openxmlformats.org/officeDocument/2006/relationships/hyperlink" Target="file:///tmp/home/.config/libreoffice/4/user/gallery/camera.wav" TargetMode="External"/><Relationship Id="rId25" Type="http://schemas.openxmlformats.org/officeDocument/2006/relationships/image" Target="../media/image45.png"/><Relationship Id="rId26" Type="http://schemas.openxmlformats.org/officeDocument/2006/relationships/hyperlink" Target="file:///tmp/home/.config/libreoffice/4/user/gallery/camera.wav" TargetMode="External"/><Relationship Id="rId27" Type="http://schemas.openxmlformats.org/officeDocument/2006/relationships/image" Target="../media/image46.png"/><Relationship Id="rId28" Type="http://schemas.openxmlformats.org/officeDocument/2006/relationships/hyperlink" Target="file:///tmp/home/.config/libreoffice/4/user/gallery/camera.wav" TargetMode="External"/><Relationship Id="rId29" Type="http://schemas.openxmlformats.org/officeDocument/2006/relationships/image" Target="../media/image47.png"/><Relationship Id="rId30" Type="http://schemas.openxmlformats.org/officeDocument/2006/relationships/image" Target="../media/image48.png"/><Relationship Id="rId3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8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525680" y="1535040"/>
            <a:ext cx="6426000" cy="27432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Benguiat Bk BT"/>
              </a:rPr>
              <a:t>PROGRAM HIBAH KOMPETISI BERBASIS INSTITUSI: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ff"/>
                </a:solidFill>
                <a:latin typeface="Benguiat Bk BT"/>
              </a:rPr>
              <a:t>Penyusunan Program Pengembangan </a:t>
            </a:r>
            <a:br>
              <a:rPr sz="2800"/>
            </a:b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53"/>
                </a:solidFill>
                <a:latin typeface="Technical"/>
              </a:rPr>
              <a:t>Dewan Pendidikan Tinggi</a:t>
            </a:r>
            <a:br>
              <a:rPr sz="2000"/>
            </a:br>
            <a:r>
              <a:rPr b="1" lang="en-US" sz="2000" spc="-1" strike="noStrike">
                <a:solidFill>
                  <a:srgbClr val="464653"/>
                </a:solidFill>
                <a:latin typeface="Technical"/>
              </a:rPr>
              <a:t>Direktorat Jenderal Pendidikan Tinggi</a:t>
            </a:r>
            <a:br>
              <a:rPr sz="2000"/>
            </a:br>
            <a:r>
              <a:rPr b="1" lang="en-US" sz="2000" spc="-1" strike="noStrike">
                <a:solidFill>
                  <a:srgbClr val="464653"/>
                </a:solidFill>
                <a:latin typeface="Technical"/>
              </a:rPr>
              <a:t>Departemen Pendidikan Nasional</a:t>
            </a:r>
            <a:br>
              <a:rPr sz="2000"/>
            </a:br>
            <a:r>
              <a:rPr b="1" lang="en-US" sz="1500" spc="-1" strike="noStrike">
                <a:solidFill>
                  <a:srgbClr val="464653"/>
                </a:solidFill>
                <a:latin typeface="Gill Sans MT"/>
              </a:rPr>
              <a:t>19-20 Nopember, 2007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Aspek Pengembangan Tema 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83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30920" indent="-43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ningkatan mutu sistem tatakelola dan organisasi perguruan tinggi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ningkatan mutu manajemen program akademik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ningkatan mutu manajemen keuangan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ningkatan mutu manajemen sumberdaya manusia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ningkatan mutu manajemen sarana dan prasarana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ningkatan mutu manajemen data dan informasi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30920" indent="-43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000000"/>
                </a:solidFill>
                <a:latin typeface="Constantia"/>
              </a:rPr>
              <a:t>peningkatan sistem penjaminan mutu perguruan tingg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oh Tema 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0" name=""/>
          <p:cNvSpPr txBox="1"/>
          <p:nvPr/>
        </p:nvSpPr>
        <p:spPr>
          <a:xfrm>
            <a:off x="457200" y="1204920"/>
            <a:ext cx="8229600" cy="56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Kapasitas institusi dan manajemen P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ssue dalam Evaluasi Dir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KRS dan KHS selalu terlambat karena aliran data tidak lancar dan belum terta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eningkatan Mutu Manajemen Program Akademik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75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Aktivitas: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75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Penataan lalulintas data akademik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engembangan sistem informasi manajemen terpad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A0C2-FD7F-41EF-A810-2CD7714199A6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2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3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2C1B-F2D7-44DC-818A-8517ACD9173E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Aspek Pengembangan Tema B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nstantia"/>
              </a:rPr>
              <a:t>Efisiensi Interna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nstantia"/>
              </a:rPr>
              <a:t>Efisiensi Eksternal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onstantia"/>
              </a:rPr>
              <a:t>Tanggung-jawab Sosia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toh Tema B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457200" y="1477800"/>
            <a:ext cx="82296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utu, relevansi dan efisien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sue dalam Evaluasi Dir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sa studi tinggi, proporsi mahasiswa mengulang tingg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ya saing rendah karena kurangnya keahlian d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softskil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dustri lokal mengharapkan univ. meningkatkan layan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gram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ningkatan kualitas lulusan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ktivita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995480" indent="-221400">
              <a:lnSpc>
                <a:spcPct val="90000"/>
              </a:lnSpc>
              <a:spcBef>
                <a:spcPts val="47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engembangan metode pengajaran innovative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995480" indent="-221400">
              <a:lnSpc>
                <a:spcPct val="90000"/>
              </a:lnSpc>
              <a:spcBef>
                <a:spcPts val="47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enguatan substansi kompetensi sesuai dengan bidang keilmua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ningkatan peran PT dalam pemberdayaan masyarak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ktivitas: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995480" indent="-221400">
              <a:lnSpc>
                <a:spcPct val="90000"/>
              </a:lnSpc>
              <a:spcBef>
                <a:spcPts val="47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eningkatan riset terapan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995480" indent="-221400">
              <a:lnSpc>
                <a:spcPct val="90000"/>
              </a:lnSpc>
              <a:spcBef>
                <a:spcPts val="476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Peningkatan kerjasama dengan Pemda dan Industri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B3D6-85A6-413D-9D11-0E2998FC818E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9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0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CB93C-8F4A-4FCF-9008-1839BF580A63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Contoh Tema C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2" name=""/>
          <p:cNvSpPr txBox="1"/>
          <p:nvPr/>
        </p:nvSpPr>
        <p:spPr>
          <a:xfrm>
            <a:off x="457200" y="1606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Hasil Evaluasi diri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556920" indent="-2163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rack record penelitian, kerjasama nasional dan internasional dalam bidang tertent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56920" indent="-2163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ll performed PS dan pusat penelitian relevan dengan track recordny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Program Unggulan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lvl="1" marL="556920" indent="-21636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mbangun academic excellence bertaraf internasiona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075320" indent="-216360">
              <a:lnSpc>
                <a:spcPct val="90000"/>
              </a:lnSpc>
              <a:spcBef>
                <a:spcPts val="6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nstantia"/>
              </a:rPr>
              <a:t>Aktivitas: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3" marL="1407960" indent="-200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ningkatan kerjasama dan publikasi internas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5692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34BF-A6DD-4F0B-BDAF-E150AD3461ED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4" name="Footer Placeholder 5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5" name="Slide Number Placeholder 6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0E86-AEC9-49D4-991A-78351D1E6A0A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104840" y="1327320"/>
            <a:ext cx="7315200" cy="1930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enyusunan Rancangan Global Program Pengembangan Pada </a:t>
            </a:r>
            <a:r>
              <a:rPr b="0" lang="en-US" sz="4000" spc="-1" strike="noStrike">
                <a:solidFill>
                  <a:srgbClr val="cc3300"/>
                </a:solidFill>
                <a:latin typeface="Calibri"/>
              </a:rPr>
              <a:t>Proposal Awal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7" name="Date Placeholder 2"/>
          <p:cNvSpPr/>
          <p:nvPr/>
        </p:nvSpPr>
        <p:spPr>
          <a:xfrm>
            <a:off x="6400800" y="635472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06D4-250D-49A9-9EC9-62499523EB47}" type="datetime">
              <a:rPr b="0" lang="en-US" sz="1400" spc="-1" strike="noStrike">
                <a:solidFill>
                  <a:srgbClr val="04617b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8" name="Footer Placeholder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04617b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9" name="Slide Number Placeholder 4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8BE8-D72B-460C-92B6-A2BCD655723A}" type="slidenum">
              <a:rPr b="0" lang="id-ID" sz="1400" spc="-1" strike="noStrike">
                <a:solidFill>
                  <a:srgbClr val="04617b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0" name=""/>
          <p:cNvSpPr/>
          <p:nvPr/>
        </p:nvSpPr>
        <p:spPr>
          <a:xfrm>
            <a:off x="457200" y="3429000"/>
            <a:ext cx="822960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ub-Topik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639720" indent="-245880">
              <a:lnSpc>
                <a:spcPct val="100000"/>
              </a:lnSpc>
              <a:spcBef>
                <a:spcPts val="7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Konsep Penyusunan Proposal Awal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lvl="1" marL="639720" indent="-245880">
              <a:lnSpc>
                <a:spcPct val="100000"/>
              </a:lnSpc>
              <a:spcBef>
                <a:spcPts val="7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Penyusunan Bab 3. Rancangan Global Program Pengembangan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lvl="1" marL="639720" indent="-245880">
              <a:lnSpc>
                <a:spcPct val="100000"/>
              </a:lnSpc>
              <a:spcBef>
                <a:spcPts val="7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Pelajaran dari Proposal Awal Batch 1</a:t>
            </a:r>
            <a:endParaRPr b="0" lang="en-US" sz="31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Rectangle 36"/>
          <p:cNvGrpSpPr/>
          <p:nvPr/>
        </p:nvGrpSpPr>
        <p:grpSpPr>
          <a:xfrm>
            <a:off x="3413160" y="3565440"/>
            <a:ext cx="2365200" cy="2030400"/>
            <a:chOff x="3413160" y="3565440"/>
            <a:chExt cx="2365200" cy="2030400"/>
          </a:xfrm>
        </p:grpSpPr>
        <p:pic>
          <p:nvPicPr>
            <p:cNvPr id="992" name="Rectangle 36" descr=""/>
            <p:cNvPicPr/>
            <p:nvPr/>
          </p:nvPicPr>
          <p:blipFill>
            <a:blip r:embed="rId1"/>
            <a:stretch/>
          </p:blipFill>
          <p:spPr>
            <a:xfrm>
              <a:off x="3413160" y="3565440"/>
              <a:ext cx="2365200" cy="20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3" name=""/>
            <p:cNvSpPr/>
            <p:nvPr/>
          </p:nvSpPr>
          <p:spPr>
            <a:xfrm>
              <a:off x="3454560" y="3660840"/>
              <a:ext cx="2234880" cy="18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94" name="Text Box 7"/>
          <p:cNvGrpSpPr/>
          <p:nvPr/>
        </p:nvGrpSpPr>
        <p:grpSpPr>
          <a:xfrm>
            <a:off x="3529080" y="3693960"/>
            <a:ext cx="2170080" cy="920880"/>
            <a:chOff x="3529080" y="3693960"/>
            <a:chExt cx="2170080" cy="920880"/>
          </a:xfrm>
        </p:grpSpPr>
        <p:pic>
          <p:nvPicPr>
            <p:cNvPr id="995" name="Text Box 7" descr=""/>
            <p:cNvPicPr/>
            <p:nvPr/>
          </p:nvPicPr>
          <p:blipFill>
            <a:blip r:embed="rId2"/>
            <a:stretch/>
          </p:blipFill>
          <p:spPr>
            <a:xfrm>
              <a:off x="3529080" y="3693960"/>
              <a:ext cx="217008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3573360" y="3763080"/>
              <a:ext cx="2035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Rencana Awal Program Pengembang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97" name="Text Box 7"/>
          <p:cNvGrpSpPr/>
          <p:nvPr/>
        </p:nvGrpSpPr>
        <p:grpSpPr>
          <a:xfrm>
            <a:off x="3529080" y="4645080"/>
            <a:ext cx="2170080" cy="439560"/>
            <a:chOff x="3529080" y="4645080"/>
            <a:chExt cx="2170080" cy="439560"/>
          </a:xfrm>
        </p:grpSpPr>
        <p:pic>
          <p:nvPicPr>
            <p:cNvPr id="998" name="Text Box 7" descr=""/>
            <p:cNvPicPr/>
            <p:nvPr/>
          </p:nvPicPr>
          <p:blipFill>
            <a:blip r:embed="rId3"/>
            <a:stretch/>
          </p:blipFill>
          <p:spPr>
            <a:xfrm>
              <a:off x="3529080" y="4645080"/>
              <a:ext cx="2170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9" name=""/>
            <p:cNvSpPr/>
            <p:nvPr/>
          </p:nvSpPr>
          <p:spPr>
            <a:xfrm>
              <a:off x="3573360" y="468756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Tema Terpilih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0" name="Text Box 7"/>
          <p:cNvGrpSpPr/>
          <p:nvPr/>
        </p:nvGrpSpPr>
        <p:grpSpPr>
          <a:xfrm>
            <a:off x="3529080" y="5114880"/>
            <a:ext cx="2170080" cy="438120"/>
            <a:chOff x="3529080" y="5114880"/>
            <a:chExt cx="2170080" cy="438120"/>
          </a:xfrm>
        </p:grpSpPr>
        <p:pic>
          <p:nvPicPr>
            <p:cNvPr id="1001" name="Text Box 7" descr=""/>
            <p:cNvPicPr/>
            <p:nvPr/>
          </p:nvPicPr>
          <p:blipFill>
            <a:blip r:embed="rId4"/>
            <a:stretch/>
          </p:blipFill>
          <p:spPr>
            <a:xfrm>
              <a:off x="3529080" y="5114880"/>
              <a:ext cx="217008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2" name=""/>
            <p:cNvSpPr/>
            <p:nvPr/>
          </p:nvSpPr>
          <p:spPr>
            <a:xfrm>
              <a:off x="3573360" y="515664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Unit Terpilih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03" name="Elbow Connector 21"/>
          <p:cNvCxnSpPr>
            <a:stCxn id="995" idx="2"/>
            <a:endCxn id="998" idx="0"/>
          </p:cNvCxnSpPr>
          <p:nvPr/>
        </p:nvCxnSpPr>
        <p:spPr>
          <a:xfrm flipH="1">
            <a:off x="4589280" y="4527360"/>
            <a:ext cx="2160" cy="10044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04" name="Elbow Connector 21"/>
          <p:cNvCxnSpPr>
            <a:stCxn id="998" idx="2"/>
            <a:endCxn id="1001" idx="0"/>
          </p:cNvCxnSpPr>
          <p:nvPr/>
        </p:nvCxnSpPr>
        <p:spPr>
          <a:xfrm flipH="1">
            <a:off x="4589280" y="4935240"/>
            <a:ext cx="2160" cy="2214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005" name="Rectangle 33"/>
          <p:cNvGrpSpPr/>
          <p:nvPr/>
        </p:nvGrpSpPr>
        <p:grpSpPr>
          <a:xfrm>
            <a:off x="6443640" y="1700280"/>
            <a:ext cx="2371680" cy="2023920"/>
            <a:chOff x="6443640" y="1700280"/>
            <a:chExt cx="2371680" cy="2023920"/>
          </a:xfrm>
        </p:grpSpPr>
        <p:pic>
          <p:nvPicPr>
            <p:cNvPr id="1006" name="Rectangle 33" descr=""/>
            <p:cNvPicPr/>
            <p:nvPr/>
          </p:nvPicPr>
          <p:blipFill>
            <a:blip r:embed="rId5"/>
            <a:stretch/>
          </p:blipFill>
          <p:spPr>
            <a:xfrm>
              <a:off x="6443640" y="1700280"/>
              <a:ext cx="2371680" cy="20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7" name=""/>
            <p:cNvSpPr/>
            <p:nvPr/>
          </p:nvSpPr>
          <p:spPr>
            <a:xfrm>
              <a:off x="6488280" y="1798560"/>
              <a:ext cx="223488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08" name="Freeform 94"/>
          <p:cNvGrpSpPr/>
          <p:nvPr/>
        </p:nvGrpSpPr>
        <p:grpSpPr>
          <a:xfrm>
            <a:off x="146160" y="2090880"/>
            <a:ext cx="3151080" cy="1487520"/>
            <a:chOff x="146160" y="2090880"/>
            <a:chExt cx="3151080" cy="1487520"/>
          </a:xfrm>
        </p:grpSpPr>
        <p:pic>
          <p:nvPicPr>
            <p:cNvPr id="1009" name="Freeform 94" descr=""/>
            <p:cNvPicPr/>
            <p:nvPr/>
          </p:nvPicPr>
          <p:blipFill>
            <a:blip r:embed="rId6"/>
            <a:stretch/>
          </p:blipFill>
          <p:spPr>
            <a:xfrm>
              <a:off x="146160" y="2090880"/>
              <a:ext cx="315108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0" name=""/>
            <p:cNvSpPr/>
            <p:nvPr/>
          </p:nvSpPr>
          <p:spPr>
            <a:xfrm>
              <a:off x="162000" y="2108160"/>
              <a:ext cx="312588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Konsep Penyusunan Proposal Aw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2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A625-9107-44A9-A36C-9D7BA6CAF1F7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4104-49B0-4124-9419-593BA861E4D1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15" name="Text Box 5"/>
          <p:cNvGrpSpPr/>
          <p:nvPr/>
        </p:nvGrpSpPr>
        <p:grpSpPr>
          <a:xfrm>
            <a:off x="487440" y="1322280"/>
            <a:ext cx="2116080" cy="446040"/>
            <a:chOff x="487440" y="1322280"/>
            <a:chExt cx="2116080" cy="446040"/>
          </a:xfrm>
        </p:grpSpPr>
        <p:pic>
          <p:nvPicPr>
            <p:cNvPr id="1016" name="Text Box 5" descr=""/>
            <p:cNvPicPr/>
            <p:nvPr/>
          </p:nvPicPr>
          <p:blipFill>
            <a:blip r:embed="rId7"/>
            <a:stretch/>
          </p:blipFill>
          <p:spPr>
            <a:xfrm>
              <a:off x="487440" y="1322280"/>
              <a:ext cx="21160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7" name=""/>
            <p:cNvSpPr/>
            <p:nvPr/>
          </p:nvSpPr>
          <p:spPr>
            <a:xfrm>
              <a:off x="533520" y="1365480"/>
              <a:ext cx="197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Situasi Sekar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18" name="Text Box 7"/>
          <p:cNvGrpSpPr/>
          <p:nvPr/>
        </p:nvGrpSpPr>
        <p:grpSpPr>
          <a:xfrm>
            <a:off x="6566040" y="1311120"/>
            <a:ext cx="2170080" cy="444600"/>
            <a:chOff x="6566040" y="1311120"/>
            <a:chExt cx="2170080" cy="444600"/>
          </a:xfrm>
        </p:grpSpPr>
        <p:pic>
          <p:nvPicPr>
            <p:cNvPr id="1019" name="Text Box 7" descr=""/>
            <p:cNvPicPr/>
            <p:nvPr/>
          </p:nvPicPr>
          <p:blipFill>
            <a:blip r:embed="rId8"/>
            <a:stretch/>
          </p:blipFill>
          <p:spPr>
            <a:xfrm>
              <a:off x="6566040" y="131112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0" name=""/>
            <p:cNvSpPr/>
            <p:nvPr/>
          </p:nvSpPr>
          <p:spPr>
            <a:xfrm>
              <a:off x="6605640" y="135756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Situasi Mendat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21" name="AutoShape 6"/>
          <p:cNvGrpSpPr/>
          <p:nvPr/>
        </p:nvGrpSpPr>
        <p:grpSpPr>
          <a:xfrm>
            <a:off x="2951280" y="1170000"/>
            <a:ext cx="3309840" cy="719280"/>
            <a:chOff x="2951280" y="1170000"/>
            <a:chExt cx="3309840" cy="719280"/>
          </a:xfrm>
        </p:grpSpPr>
        <p:pic>
          <p:nvPicPr>
            <p:cNvPr id="1022" name="AutoShape 6" descr="White marble"/>
            <p:cNvPicPr/>
            <p:nvPr/>
          </p:nvPicPr>
          <p:blipFill>
            <a:blip r:embed="rId9"/>
            <a:stretch/>
          </p:blipFill>
          <p:spPr>
            <a:xfrm>
              <a:off x="2951280" y="1170000"/>
              <a:ext cx="3309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3" name=""/>
            <p:cNvSpPr/>
            <p:nvPr/>
          </p:nvSpPr>
          <p:spPr>
            <a:xfrm>
              <a:off x="3490920" y="1359000"/>
              <a:ext cx="22795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 maju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24" name="Text Box 5"/>
          <p:cNvGrpSpPr/>
          <p:nvPr/>
        </p:nvGrpSpPr>
        <p:grpSpPr>
          <a:xfrm>
            <a:off x="201600" y="2200320"/>
            <a:ext cx="1395360" cy="676080"/>
            <a:chOff x="201600" y="2200320"/>
            <a:chExt cx="1395360" cy="676080"/>
          </a:xfrm>
        </p:grpSpPr>
        <p:pic>
          <p:nvPicPr>
            <p:cNvPr id="1025" name="Text Box 5" descr=""/>
            <p:cNvPicPr/>
            <p:nvPr/>
          </p:nvPicPr>
          <p:blipFill>
            <a:blip r:embed="rId10"/>
            <a:stretch/>
          </p:blipFill>
          <p:spPr>
            <a:xfrm>
              <a:off x="201600" y="2200320"/>
              <a:ext cx="139536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6" name=""/>
            <p:cNvSpPr/>
            <p:nvPr/>
          </p:nvSpPr>
          <p:spPr>
            <a:xfrm>
              <a:off x="244440" y="2360880"/>
              <a:ext cx="12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Posisi (Data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27" name="Text Box 5"/>
          <p:cNvGrpSpPr/>
          <p:nvPr/>
        </p:nvGrpSpPr>
        <p:grpSpPr>
          <a:xfrm>
            <a:off x="1920960" y="2200320"/>
            <a:ext cx="1395360" cy="676080"/>
            <a:chOff x="1920960" y="2200320"/>
            <a:chExt cx="1395360" cy="676080"/>
          </a:xfrm>
        </p:grpSpPr>
        <p:pic>
          <p:nvPicPr>
            <p:cNvPr id="1028" name="Text Box 5" descr=""/>
            <p:cNvPicPr/>
            <p:nvPr/>
          </p:nvPicPr>
          <p:blipFill>
            <a:blip r:embed="rId11"/>
            <a:stretch/>
          </p:blipFill>
          <p:spPr>
            <a:xfrm>
              <a:off x="1920960" y="2200320"/>
              <a:ext cx="139536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9" name=""/>
            <p:cNvSpPr/>
            <p:nvPr/>
          </p:nvSpPr>
          <p:spPr>
            <a:xfrm>
              <a:off x="1965240" y="2254320"/>
              <a:ext cx="126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Analisis Situa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30" name="Text Box 5"/>
          <p:cNvGrpSpPr/>
          <p:nvPr/>
        </p:nvGrpSpPr>
        <p:grpSpPr>
          <a:xfrm>
            <a:off x="1017720" y="3097080"/>
            <a:ext cx="1469880" cy="444600"/>
            <a:chOff x="1017720" y="3097080"/>
            <a:chExt cx="1469880" cy="444600"/>
          </a:xfrm>
        </p:grpSpPr>
        <p:pic>
          <p:nvPicPr>
            <p:cNvPr id="1031" name="Text Box 5" descr=""/>
            <p:cNvPicPr/>
            <p:nvPr/>
          </p:nvPicPr>
          <p:blipFill>
            <a:blip r:embed="rId12"/>
            <a:stretch/>
          </p:blipFill>
          <p:spPr>
            <a:xfrm>
              <a:off x="1017720" y="3097080"/>
              <a:ext cx="14698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"/>
            <p:cNvSpPr/>
            <p:nvPr/>
          </p:nvSpPr>
          <p:spPr>
            <a:xfrm>
              <a:off x="1058760" y="3140280"/>
              <a:ext cx="133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Kesimpul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33" name="Elbow Connector 69"/>
          <p:cNvCxnSpPr>
            <a:stCxn id="1016" idx="2"/>
            <a:endCxn id="1025" idx="0"/>
          </p:cNvCxnSpPr>
          <p:nvPr/>
        </p:nvCxnSpPr>
        <p:spPr>
          <a:xfrm rot="5400000">
            <a:off x="912240" y="1634760"/>
            <a:ext cx="570600" cy="65016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34" name="Elbow Connector 70"/>
          <p:cNvCxnSpPr>
            <a:stCxn id="1016" idx="2"/>
            <a:endCxn id="1028" idx="0"/>
          </p:cNvCxnSpPr>
          <p:nvPr/>
        </p:nvCxnSpPr>
        <p:spPr>
          <a:xfrm flipH="1" rot="16200000">
            <a:off x="1772640" y="1422720"/>
            <a:ext cx="570600" cy="107352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35" name="Elbow Connector 73"/>
          <p:cNvCxnSpPr>
            <a:stCxn id="1025" idx="3"/>
            <a:endCxn id="1028" idx="1"/>
          </p:cNvCxnSpPr>
          <p:nvPr/>
        </p:nvCxnSpPr>
        <p:spPr>
          <a:xfrm>
            <a:off x="1503000" y="2514600"/>
            <a:ext cx="46260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36" name="Elbow Connector 76"/>
          <p:cNvCxnSpPr>
            <a:stCxn id="1025" idx="2"/>
            <a:endCxn id="1031" idx="0"/>
          </p:cNvCxnSpPr>
          <p:nvPr/>
        </p:nvCxnSpPr>
        <p:spPr>
          <a:xfrm flipH="1" rot="16200000">
            <a:off x="1122120" y="2534760"/>
            <a:ext cx="354600" cy="85320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37" name="Elbow Connector 76"/>
          <p:cNvCxnSpPr>
            <a:stCxn id="1028" idx="2"/>
            <a:endCxn id="1031" idx="0"/>
          </p:cNvCxnSpPr>
          <p:nvPr/>
        </p:nvCxnSpPr>
        <p:spPr>
          <a:xfrm rot="5400000">
            <a:off x="1982880" y="2526120"/>
            <a:ext cx="354600" cy="87084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038" name="AutoShape 5"/>
          <p:cNvGrpSpPr/>
          <p:nvPr/>
        </p:nvGrpSpPr>
        <p:grpSpPr>
          <a:xfrm>
            <a:off x="139680" y="2908440"/>
            <a:ext cx="2914560" cy="2004840"/>
            <a:chOff x="139680" y="2908440"/>
            <a:chExt cx="2914560" cy="2004840"/>
          </a:xfrm>
        </p:grpSpPr>
        <p:pic>
          <p:nvPicPr>
            <p:cNvPr id="1039" name="AutoShape 5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139680" y="2908440"/>
              <a:ext cx="291456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0" name=""/>
            <p:cNvSpPr/>
            <p:nvPr/>
          </p:nvSpPr>
          <p:spPr>
            <a:xfrm>
              <a:off x="587520" y="3851280"/>
              <a:ext cx="2025360" cy="86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e5d78"/>
                  </a:solidFill>
                  <a:latin typeface="Arial Black"/>
                </a:rPr>
                <a:t>Ringkasan Evaluasi Diri Institusi</a:t>
              </a:r>
              <a:br>
                <a:rPr sz="1600"/>
              </a:br>
              <a:r>
                <a:rPr b="0" lang="en-US" sz="1600" spc="-1" strike="noStrike">
                  <a:solidFill>
                    <a:srgbClr val="3e5d78"/>
                  </a:solidFill>
                  <a:latin typeface="Arial Black"/>
                </a:rPr>
                <a:t>(Bab 2)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41" name="Text Box 7"/>
          <p:cNvGrpSpPr/>
          <p:nvPr/>
        </p:nvGrpSpPr>
        <p:grpSpPr>
          <a:xfrm>
            <a:off x="6566040" y="1871640"/>
            <a:ext cx="2170080" cy="444600"/>
            <a:chOff x="6566040" y="1871640"/>
            <a:chExt cx="2170080" cy="444600"/>
          </a:xfrm>
        </p:grpSpPr>
        <p:pic>
          <p:nvPicPr>
            <p:cNvPr id="1042" name="Text Box 7" descr=""/>
            <p:cNvPicPr/>
            <p:nvPr/>
          </p:nvPicPr>
          <p:blipFill>
            <a:blip r:embed="rId15"/>
            <a:stretch/>
          </p:blipFill>
          <p:spPr>
            <a:xfrm>
              <a:off x="6566040" y="187164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6605640" y="191664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Vi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44" name="Text Box 7"/>
          <p:cNvGrpSpPr/>
          <p:nvPr/>
        </p:nvGrpSpPr>
        <p:grpSpPr>
          <a:xfrm>
            <a:off x="6566040" y="2432160"/>
            <a:ext cx="2170080" cy="439560"/>
            <a:chOff x="6566040" y="2432160"/>
            <a:chExt cx="2170080" cy="439560"/>
          </a:xfrm>
        </p:grpSpPr>
        <p:pic>
          <p:nvPicPr>
            <p:cNvPr id="1045" name="Text Box 7" descr=""/>
            <p:cNvPicPr/>
            <p:nvPr/>
          </p:nvPicPr>
          <p:blipFill>
            <a:blip r:embed="rId16"/>
            <a:stretch/>
          </p:blipFill>
          <p:spPr>
            <a:xfrm>
              <a:off x="6566040" y="2432160"/>
              <a:ext cx="2170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"/>
            <p:cNvSpPr/>
            <p:nvPr/>
          </p:nvSpPr>
          <p:spPr>
            <a:xfrm>
              <a:off x="6605640" y="247356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Mi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47" name="Text Box 7"/>
          <p:cNvGrpSpPr/>
          <p:nvPr/>
        </p:nvGrpSpPr>
        <p:grpSpPr>
          <a:xfrm>
            <a:off x="6566040" y="3097080"/>
            <a:ext cx="2170080" cy="444600"/>
            <a:chOff x="6566040" y="3097080"/>
            <a:chExt cx="2170080" cy="444600"/>
          </a:xfrm>
        </p:grpSpPr>
        <p:pic>
          <p:nvPicPr>
            <p:cNvPr id="1048" name="Text Box 7" descr=""/>
            <p:cNvPicPr/>
            <p:nvPr/>
          </p:nvPicPr>
          <p:blipFill>
            <a:blip r:embed="rId17"/>
            <a:stretch/>
          </p:blipFill>
          <p:spPr>
            <a:xfrm>
              <a:off x="6566040" y="309708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9" name=""/>
            <p:cNvSpPr/>
            <p:nvPr/>
          </p:nvSpPr>
          <p:spPr>
            <a:xfrm>
              <a:off x="6605640" y="314028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Tujuan Institu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50" name="Elbow Connector 21"/>
          <p:cNvCxnSpPr>
            <a:stCxn id="1019" idx="2"/>
            <a:endCxn id="1042" idx="0"/>
          </p:cNvCxnSpPr>
          <p:nvPr/>
        </p:nvCxnSpPr>
        <p:spPr>
          <a:xfrm flipH="1">
            <a:off x="7622280" y="1665360"/>
            <a:ext cx="2520" cy="2433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51" name="Elbow Connector 21"/>
          <p:cNvCxnSpPr>
            <a:stCxn id="1042" idx="2"/>
            <a:endCxn id="1045" idx="0"/>
          </p:cNvCxnSpPr>
          <p:nvPr/>
        </p:nvCxnSpPr>
        <p:spPr>
          <a:xfrm flipH="1">
            <a:off x="7622280" y="2215800"/>
            <a:ext cx="2520" cy="2448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052" name="Elbow Connector 21"/>
          <p:cNvCxnSpPr>
            <a:stCxn id="1045" idx="2"/>
            <a:endCxn id="1048" idx="0"/>
          </p:cNvCxnSpPr>
          <p:nvPr/>
        </p:nvCxnSpPr>
        <p:spPr>
          <a:xfrm flipH="1">
            <a:off x="7622280" y="2782440"/>
            <a:ext cx="2520" cy="35964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1053" name="Straight Connector 28"/>
          <p:cNvSpPr/>
          <p:nvPr/>
        </p:nvSpPr>
        <p:spPr>
          <a:xfrm>
            <a:off x="2392200" y="3294000"/>
            <a:ext cx="520920" cy="0"/>
          </a:xfrm>
          <a:prstGeom prst="line">
            <a:avLst/>
          </a:prstGeom>
          <a:ln w="28440">
            <a:solidFill>
              <a:srgbClr val="727ca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4" name="Straight Connector 29"/>
          <p:cNvSpPr/>
          <p:nvPr/>
        </p:nvSpPr>
        <p:spPr>
          <a:xfrm>
            <a:off x="6084720" y="3294000"/>
            <a:ext cx="520920" cy="1800"/>
          </a:xfrm>
          <a:prstGeom prst="line">
            <a:avLst/>
          </a:prstGeom>
          <a:ln w="28440">
            <a:solidFill>
              <a:srgbClr val="727ca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055" name="AutoShape 5"/>
          <p:cNvGrpSpPr/>
          <p:nvPr/>
        </p:nvGrpSpPr>
        <p:grpSpPr>
          <a:xfrm>
            <a:off x="5778360" y="3505320"/>
            <a:ext cx="3206880" cy="1328760"/>
            <a:chOff x="5778360" y="3505320"/>
            <a:chExt cx="3206880" cy="1328760"/>
          </a:xfrm>
        </p:grpSpPr>
        <p:pic>
          <p:nvPicPr>
            <p:cNvPr id="1056" name="AutoShape 5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5778360" y="3505320"/>
              <a:ext cx="32068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7" name=""/>
            <p:cNvSpPr/>
            <p:nvPr/>
          </p:nvSpPr>
          <p:spPr>
            <a:xfrm>
              <a:off x="6269040" y="4048200"/>
              <a:ext cx="223668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e5d78"/>
                  </a:solidFill>
                  <a:latin typeface="Arial Black"/>
                </a:rPr>
                <a:t>Ringkasan Renstra Institusi (Bab 1)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058" name="Elbow Connector 21"/>
          <p:cNvCxnSpPr>
            <a:endCxn id="995" idx="0"/>
          </p:cNvCxnSpPr>
          <p:nvPr/>
        </p:nvCxnSpPr>
        <p:spPr>
          <a:xfrm>
            <a:off x="4586760" y="3234960"/>
            <a:ext cx="3960" cy="4993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059" name="AutoShape 5"/>
          <p:cNvGrpSpPr/>
          <p:nvPr/>
        </p:nvGrpSpPr>
        <p:grpSpPr>
          <a:xfrm>
            <a:off x="176040" y="4316400"/>
            <a:ext cx="3372120" cy="1998720"/>
            <a:chOff x="176040" y="4316400"/>
            <a:chExt cx="3372120" cy="1998720"/>
          </a:xfrm>
        </p:grpSpPr>
        <p:pic>
          <p:nvPicPr>
            <p:cNvPr id="1060" name="AutoShape 5" descr="">
              <a:hlinkClick r:id="rId20"/>
            </p:cNvPr>
            <p:cNvPicPr/>
            <p:nvPr/>
          </p:nvPicPr>
          <p:blipFill>
            <a:blip r:embed="rId21"/>
            <a:stretch/>
          </p:blipFill>
          <p:spPr>
            <a:xfrm>
              <a:off x="176040" y="4316400"/>
              <a:ext cx="3372120" cy="19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665280" y="5257800"/>
              <a:ext cx="222552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3300"/>
                  </a:solidFill>
                  <a:latin typeface="Arial Black"/>
                </a:rPr>
                <a:t>Rancangan Global Program Pengembangan (Bab 3)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062" name="AutoShape 6"/>
          <p:cNvGrpSpPr/>
          <p:nvPr/>
        </p:nvGrpSpPr>
        <p:grpSpPr>
          <a:xfrm>
            <a:off x="2871720" y="2955960"/>
            <a:ext cx="3303720" cy="725400"/>
            <a:chOff x="2871720" y="2955960"/>
            <a:chExt cx="3303720" cy="725400"/>
          </a:xfrm>
        </p:grpSpPr>
        <p:pic>
          <p:nvPicPr>
            <p:cNvPr id="1063" name="AutoShape 6" descr="White marble"/>
            <p:cNvPicPr/>
            <p:nvPr/>
          </p:nvPicPr>
          <p:blipFill>
            <a:blip r:embed="rId22"/>
            <a:stretch/>
          </p:blipFill>
          <p:spPr>
            <a:xfrm>
              <a:off x="2871720" y="2955960"/>
              <a:ext cx="330372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408480" y="3146400"/>
              <a:ext cx="22795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strategi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random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Format Proposal Awal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6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205B4-1D7C-4110-B117-0B914016BA41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06C0-60D3-471F-AA91-DFD24456375B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57200" y="1218960"/>
            <a:ext cx="8229600" cy="44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Halaman judul/</a:t>
            </a:r>
            <a:r>
              <a:rPr b="0" i="1" lang="id-ID" sz="2000" spc="-1" strike="noStrike">
                <a:solidFill>
                  <a:srgbClr val="000000"/>
                </a:solidFill>
                <a:latin typeface="Gill Sans MT"/>
              </a:rPr>
              <a:t>co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Halaman identifikas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Halaman pengesah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Daftar is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Ringkasan eksekuti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Bab 1: Ringkasan rencana strategis pengembangan institus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Bab 2: Ringkasan laporan evaluasi diri di tingkat perguruan tingg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cc3300"/>
                </a:solidFill>
                <a:latin typeface="Gill Sans MT"/>
              </a:rPr>
              <a:t>Bab 3: Rancangan global program pengembang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Lampiran, berisi data dan informasi pendukung yang relevan dengan isi propos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452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Bab 3. </a:t>
            </a:r>
            <a:r>
              <a:rPr b="0" lang="id-ID" sz="3600" spc="-1" strike="noStrike">
                <a:solidFill>
                  <a:srgbClr val="464653"/>
                </a:solidFill>
                <a:latin typeface="Bookman Old Style"/>
              </a:rPr>
              <a:t>Rancangan global program pengembangan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1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B65C-CCF3-4323-8264-ABBD45CB9845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A8C-1538-4254-984F-AA552F944DC6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733040"/>
            <a:ext cx="8229600" cy="29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20680" indent="-2206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Berisi 2 bagian: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443520" indent="-220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64653"/>
                </a:solidFill>
                <a:latin typeface="Gill Sans MT"/>
              </a:rPr>
              <a:t>Penetapan tema program dan ra</a:t>
            </a:r>
            <a:r>
              <a:rPr b="0" lang="en-US" sz="3600" spc="-1" strike="noStrike">
                <a:solidFill>
                  <a:srgbClr val="464653"/>
                </a:solidFill>
                <a:latin typeface="Gill Sans MT"/>
              </a:rPr>
              <a:t>s</a:t>
            </a:r>
            <a:r>
              <a:rPr b="0" lang="id-ID" sz="3600" spc="-1" strike="noStrike">
                <a:solidFill>
                  <a:srgbClr val="464653"/>
                </a:solidFill>
                <a:latin typeface="Gill Sans MT"/>
              </a:rPr>
              <a:t>ional atas pemilihan tema dan unit internal yang dilibatkan</a:t>
            </a:r>
            <a:r>
              <a:rPr b="0" lang="en-US" sz="3600" spc="-1" strike="noStrike">
                <a:solidFill>
                  <a:srgbClr val="464653"/>
                </a:solidFill>
                <a:latin typeface="Gill Sans MT"/>
              </a:rPr>
              <a:t>.</a:t>
            </a:r>
            <a:endParaRPr b="0" lang="en-US" sz="3600" spc="-1" strike="noStrike">
              <a:solidFill>
                <a:srgbClr val="464653"/>
              </a:solidFill>
              <a:latin typeface="Gill Sans MT"/>
            </a:endParaRPr>
          </a:p>
          <a:p>
            <a:pPr lvl="1" marL="443520" indent="-2206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464653"/>
                </a:solidFill>
                <a:latin typeface="Gill Sans MT"/>
              </a:rPr>
              <a:t>Deskripsi ringkas program pengembangan untuk </a:t>
            </a:r>
            <a:r>
              <a:rPr b="0" lang="id-ID" sz="3600" spc="-1" strike="noStrike" u="sng">
                <a:solidFill>
                  <a:srgbClr val="cc3300"/>
                </a:solidFill>
                <a:uFillTx/>
                <a:latin typeface="Gill Sans MT"/>
              </a:rPr>
              <a:t>masing-masing tema</a:t>
            </a:r>
            <a:r>
              <a:rPr b="0" lang="id-ID" sz="3600" spc="-1" strike="noStrike">
                <a:solidFill>
                  <a:srgbClr val="464653"/>
                </a:solidFill>
                <a:latin typeface="Gill Sans MT"/>
              </a:rPr>
              <a:t> yang diajukan</a:t>
            </a:r>
            <a:endParaRPr b="0" lang="en-US" sz="36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403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Bab 3. </a:t>
            </a:r>
            <a:r>
              <a:rPr b="0" lang="id-ID" sz="3600" spc="-1" strike="noStrike">
                <a:solidFill>
                  <a:srgbClr val="464653"/>
                </a:solidFill>
                <a:latin typeface="Bookman Old Style"/>
              </a:rPr>
              <a:t>Rancangan global program pengembangan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6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E822-454F-45C1-9028-E8B0707D72E4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941A-2B07-4D06-B3E2-617DE8C8B129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457200" y="1925640"/>
            <a:ext cx="82296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Penetapan tema program dan r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id-ID" sz="2800" spc="-1" strike="noStrike">
                <a:solidFill>
                  <a:srgbClr val="000000"/>
                </a:solidFill>
                <a:latin typeface="Gill Sans MT"/>
              </a:rPr>
              <a:t>ional atas pemilihan tema dan unit internal yang dilibatka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3640" indent="-2509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</a:t>
            </a:r>
            <a:r>
              <a:rPr b="0" lang="id-ID" sz="2400" spc="-1" strike="noStrike">
                <a:solidFill>
                  <a:srgbClr val="464653"/>
                </a:solidFill>
                <a:latin typeface="Gill Sans MT"/>
              </a:rPr>
              <a:t>ecara ringkas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ampaikan </a:t>
            </a:r>
            <a:r>
              <a:rPr b="0" lang="id-ID" sz="2400" spc="-1" strike="noStrike">
                <a:solidFill>
                  <a:srgbClr val="cc3300"/>
                </a:solidFill>
                <a:latin typeface="Gill Sans MT"/>
              </a:rPr>
              <a:t>masalah utama</a:t>
            </a:r>
            <a:r>
              <a:rPr b="0" lang="id-ID" sz="2400" spc="-1" strike="noStrike">
                <a:solidFill>
                  <a:srgbClr val="464653"/>
                </a:solidFill>
                <a:latin typeface="Gill Sans MT"/>
              </a:rPr>
              <a:t> yang dihadapi dan </a:t>
            </a:r>
            <a:r>
              <a:rPr b="0" lang="id-ID" sz="2400" spc="-1" strike="noStrike">
                <a:solidFill>
                  <a:srgbClr val="cc3300"/>
                </a:solidFill>
                <a:latin typeface="Gill Sans MT"/>
              </a:rPr>
              <a:t>potensi yang ada</a:t>
            </a:r>
            <a:r>
              <a:rPr b="0" lang="id-ID" sz="2400" spc="-1" strike="noStrike">
                <a:solidFill>
                  <a:srgbClr val="464653"/>
                </a:solidFill>
                <a:latin typeface="Gill Sans MT"/>
              </a:rPr>
              <a:t> di perguruan tinggi 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esuai dengan </a:t>
            </a:r>
            <a:r>
              <a:rPr b="0" lang="id-ID" sz="2400" spc="-1" strike="noStrike">
                <a:solidFill>
                  <a:srgbClr val="464653"/>
                </a:solidFill>
                <a:latin typeface="Gill Sans MT"/>
              </a:rPr>
              <a:t>dengan hasil evaluasi diri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tingkat institusi</a:t>
            </a:r>
            <a:r>
              <a:rPr b="0" lang="id-ID" sz="2400" spc="-1" strike="noStrike">
                <a:solidFill>
                  <a:srgbClr val="464653"/>
                </a:solidFill>
                <a:latin typeface="Gill Sans MT"/>
              </a:rPr>
              <a:t>.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ampaikan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</a:rPr>
              <a:t>alasan-alasan dan justifikasi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institusi atas pemilihan tem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3640" indent="-25092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ampaikan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</a:rPr>
              <a:t>alasan-alasan pemilihan unit terkait</a:t>
            </a: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 pada masing-masing tema yang dipilih sesuai dengan hasil evaluasi terhadap kinerja dan pengelolaan akademik serta evaluasi terhadap manajemen institusi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Topik: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etapan Tema dan Pengembangan Program/Aktivit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yusunan Rancangan Global Program Pengembangan Pada </a:t>
            </a:r>
            <a:r>
              <a:rPr b="0" lang="en-US" sz="3200" spc="-1" strike="noStrike">
                <a:solidFill>
                  <a:srgbClr val="cc3300"/>
                </a:solidFill>
                <a:latin typeface="Gill Sans MT"/>
              </a:rPr>
              <a:t>Proposal Aw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yusunan Usulan Program Pengembangan Pada </a:t>
            </a:r>
            <a:r>
              <a:rPr b="0" lang="en-US" sz="3200" spc="-1" strike="noStrike">
                <a:solidFill>
                  <a:srgbClr val="cc3300"/>
                </a:solidFill>
                <a:latin typeface="Gill Sans MT"/>
              </a:rPr>
              <a:t>Proposal Lengkap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Bab 3. </a:t>
            </a:r>
            <a:r>
              <a:rPr b="0" lang="id-ID" sz="3600" spc="-1" strike="noStrike">
                <a:solidFill>
                  <a:srgbClr val="464653"/>
                </a:solidFill>
                <a:latin typeface="Bookman Old Style"/>
              </a:rPr>
              <a:t>Rancangan global program pengembangan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1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633C-697A-44B2-AF6E-69F11FE3C6A7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2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3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91FA-5EEC-45F8-8658-ACE1E7B0A54C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457200" y="192096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Deskripsi ringkas </a:t>
            </a:r>
            <a:r>
              <a:rPr b="0" lang="id-ID" sz="2400" spc="-1" strike="noStrike">
                <a:solidFill>
                  <a:srgbClr val="cc3300"/>
                </a:solidFill>
                <a:latin typeface="Gill Sans MT"/>
              </a:rPr>
              <a:t>program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</a:rPr>
              <a:t>-program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 pengembangan untuk </a:t>
            </a:r>
            <a:r>
              <a:rPr b="0" lang="id-ID" sz="2400" spc="-1" strike="noStrike" u="sng">
                <a:solidFill>
                  <a:srgbClr val="0000cc"/>
                </a:solidFill>
                <a:uFillTx/>
                <a:latin typeface="Gill Sans MT"/>
              </a:rPr>
              <a:t>masing-masing tema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 yang diajuk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ampaikan i</a:t>
            </a:r>
            <a:r>
              <a:rPr b="0" lang="id-ID" sz="2400" spc="-1" strike="noStrike">
                <a:solidFill>
                  <a:srgbClr val="464653"/>
                </a:solidFill>
                <a:latin typeface="Gill Sans MT"/>
              </a:rPr>
              <a:t>nformasi ringkas tentang: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judul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/aktivitas</a:t>
            </a: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penjelasan umum tentang tujua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Gill Sans MT"/>
              </a:rPr>
              <a:t>rancangan umum kegiatan serta kaitannya dengan unit atau program studi yang dipilih.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butkan unit atau program studi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</a:rPr>
              <a:t>dimana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ktivitas ini akan diterapk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tatan: Ditulis dalam bentuk </a:t>
            </a:r>
            <a:r>
              <a:rPr b="0" lang="en-US" sz="2400" spc="-1" strike="noStrike">
                <a:solidFill>
                  <a:srgbClr val="cc3300"/>
                </a:solidFill>
                <a:latin typeface="Gill Sans MT"/>
              </a:rPr>
              <a:t>narasi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bukan hany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point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tau judul-judul aktivita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Bab 3. </a:t>
            </a:r>
            <a:r>
              <a:rPr b="0" lang="id-ID" sz="3600" spc="-1" strike="noStrike">
                <a:solidFill>
                  <a:srgbClr val="464653"/>
                </a:solidFill>
                <a:latin typeface="Bookman Old Style"/>
              </a:rPr>
              <a:t>Rancangan global program pengembangan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86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CDE0-0E76-43AA-B08D-E4B83EB5A457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7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8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AB4A-E31F-400A-A459-2F26EDB33A00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558800"/>
            <a:ext cx="8229600" cy="24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sasi penulisa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8240" indent="-2480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3.1. </a:t>
            </a:r>
            <a:r>
              <a:rPr b="0" lang="sv-SE" sz="2400" spc="-1" strike="noStrike">
                <a:solidFill>
                  <a:srgbClr val="464653"/>
                </a:solidFill>
                <a:latin typeface="Gill Sans MT"/>
              </a:rPr>
              <a:t>Penetapan Tema Program, Unit Terkait dan Rasionalny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498240" indent="-2480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464653"/>
                </a:solidFill>
                <a:latin typeface="Gill Sans MT"/>
              </a:rPr>
              <a:t>3.2. </a:t>
            </a:r>
            <a:r>
              <a:rPr b="0" lang="id-ID" sz="2400" spc="-1" strike="noStrike">
                <a:solidFill>
                  <a:srgbClr val="464653"/>
                </a:solidFill>
                <a:latin typeface="Gill Sans MT"/>
              </a:rPr>
              <a:t>Deskripsi Ringkas Program Pengembang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a 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a B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a 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"/>
          <p:cNvSpPr/>
          <p:nvPr/>
        </p:nvSpPr>
        <p:spPr>
          <a:xfrm>
            <a:off x="874800" y="4398840"/>
            <a:ext cx="7392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tuk setiap program yang diusulk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pat melibatkan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lebih dari satu unit terkait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suai dengan kebutuhan yang tercermin dalam evaluasi dir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dalamnya bisa terdiri dari beberapa aktivita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Apa yang </a:t>
            </a:r>
            <a:r>
              <a:rPr b="0" lang="en-US" sz="3200" spc="-1" strike="noStrike">
                <a:solidFill>
                  <a:srgbClr val="cc3300"/>
                </a:solidFill>
                <a:latin typeface="Bookman Old Style"/>
              </a:rPr>
              <a:t>belum perlu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disampaikan pada Bab 3 Proposal Awal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5920"/>
            <a:ext cx="8229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skripsi rinci aktivit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adwal pelaksana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arget indikator kinerja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ggar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elajaran dari Proposal Awal Batch 1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Bookman Old Style"/>
              </a:rPr>
              <a:t>Rancangan Global Program Pengembang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5" name="Date Placeholder 2"/>
          <p:cNvSpPr/>
          <p:nvPr/>
        </p:nvSpPr>
        <p:spPr>
          <a:xfrm>
            <a:off x="6400800" y="635472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7411-ED8E-46EF-966A-CFFE24F3B5FD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6" name="Footer Placeholder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7" name="Slide Number Placeholder 4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EFE4-DC98-4E3E-824B-94AB46DB685A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Kesalahan Umum: Pemilihan te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milihan tema tidak terkait dengan hasil evaluasi dir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maksaan pemilihan tema tertentu, walaupun tidak sesuai dengan masalah yang dihadapi insitusi sebagaimana disampaikan dalam 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Semua masalah dipaksakan dimuarakan pada manajemen untuk mengarah pada tema A</a:t>
            </a:r>
            <a:endParaRPr b="0" lang="en-US" sz="25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milihan tema tidak sesuai dengan kapasitas institus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Track record penelitian dan kerjasama serta kinerja akademik tidak mendukung pemilihan tema C</a:t>
            </a:r>
            <a:endParaRPr b="0" lang="en-US" sz="25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Kesalahan Umum: Pemilihan unit terkait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milihan unit terkait tidak berdasarkan pada hasil evaluasi dir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Tidak disampaikan alasan mengapa unit tersebut yang dipilih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Keragaan unit yang dipilih tidak tercermin pada evaluasi diri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lvl="2" marL="731520" indent="-2034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dak ada analisis posisi relatif P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dak ada prioritas unit yang diikutsertakan dalam program dan tidak mempertimbangkan efektifitas progra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87080" indent="-24264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seluruh Jurusan di institusi ybs (lebih dari 10) dilibatkan dalam satu program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4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Kesalahan Umum: Deskripsi ringkas program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milihan program untuk masing-masing tema tidak relevan dengan PD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milihan program tidak didukung dengan hasil evaluasi dir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dak jelas keterkaitan antara program yang diusulkan dengan program yang sedang dijalankan (terutama bagi institusi yang sedang menjalankan PHK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Bookman Old Style"/>
              </a:rPr>
              <a:t>Kesalahan Umum: Deskripsi ringkas program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gram yang diusulkan bersifat sangat um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53"/>
                </a:solidFill>
                <a:latin typeface="Gill Sans MT"/>
              </a:rPr>
              <a:t>Tidak menyampaikan masalah spesifik yang akan ditangani dan tujuan yang akan dicapai dengan program yang dipilih</a:t>
            </a:r>
            <a:endParaRPr b="0" lang="en-US" sz="28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dak mencerminkan bagaimana program itu akan dilaksanak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Hanya daftar program atau aktivitas</a:t>
            </a:r>
            <a:endParaRPr b="0" lang="en-US" sz="2500" spc="-1" strike="noStrike">
              <a:solidFill>
                <a:srgbClr val="464653"/>
              </a:solidFill>
              <a:latin typeface="Gill Sans MT"/>
            </a:endParaRPr>
          </a:p>
          <a:p>
            <a:pPr lvl="1" marL="536400" indent="-26712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53"/>
                </a:solidFill>
                <a:latin typeface="Gill Sans MT"/>
              </a:rPr>
              <a:t>Hanya menyampaikan masalah</a:t>
            </a:r>
            <a:endParaRPr b="0" lang="en-US" sz="2500" spc="-1" strike="noStrike">
              <a:solidFill>
                <a:srgbClr val="464653"/>
              </a:solidFill>
              <a:latin typeface="Gill Sans MT"/>
            </a:endParaRPr>
          </a:p>
          <a:p>
            <a:pPr marL="267120" indent="-26712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dak menjelaskan dimana/pada unit apa program tersebut akan dilaksanak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/>
          </p:nvPr>
        </p:nvSpPr>
        <p:spPr>
          <a:xfrm>
            <a:off x="457200" y="3218040"/>
            <a:ext cx="82296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-Topi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Konsep Penyusunan Proposal Lengkap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Struktur Bab 5. Usulan Program Pengembangan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Gill Sans MT"/>
              </a:rPr>
              <a:t>Rincian Aktivitas</a:t>
            </a: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  <a:p>
            <a:pPr lvl="1" marL="54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title"/>
          </p:nvPr>
        </p:nvSpPr>
        <p:spPr>
          <a:xfrm>
            <a:off x="457200" y="15494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Penyusunan Usulan Program Pengembangan Pada </a:t>
            </a:r>
            <a:br>
              <a:rPr sz="3600"/>
            </a:br>
            <a:r>
              <a:rPr b="0" lang="en-US" sz="3600" spc="-1" strike="noStrike">
                <a:solidFill>
                  <a:srgbClr val="cc3300"/>
                </a:solidFill>
                <a:latin typeface="Bookman Old Style"/>
              </a:rPr>
              <a:t>Proposal Lengkap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8" name="Rectangle 79"/>
          <p:cNvGrpSpPr/>
          <p:nvPr/>
        </p:nvGrpSpPr>
        <p:grpSpPr>
          <a:xfrm>
            <a:off x="3432240" y="3408480"/>
            <a:ext cx="2328840" cy="2936880"/>
            <a:chOff x="3432240" y="3408480"/>
            <a:chExt cx="2328840" cy="2936880"/>
          </a:xfrm>
        </p:grpSpPr>
        <p:pic>
          <p:nvPicPr>
            <p:cNvPr id="1109" name="Rectangle 79" descr=""/>
            <p:cNvPicPr/>
            <p:nvPr/>
          </p:nvPicPr>
          <p:blipFill>
            <a:blip r:embed="rId1"/>
            <a:stretch/>
          </p:blipFill>
          <p:spPr>
            <a:xfrm>
              <a:off x="3432240" y="3408480"/>
              <a:ext cx="2328840" cy="293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0" name=""/>
            <p:cNvSpPr/>
            <p:nvPr/>
          </p:nvSpPr>
          <p:spPr>
            <a:xfrm>
              <a:off x="3476520" y="3503520"/>
              <a:ext cx="2195640" cy="28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11" name="Text Box 7"/>
          <p:cNvGrpSpPr/>
          <p:nvPr/>
        </p:nvGrpSpPr>
        <p:grpSpPr>
          <a:xfrm>
            <a:off x="3529080" y="4164120"/>
            <a:ext cx="2170080" cy="444240"/>
            <a:chOff x="3529080" y="4164120"/>
            <a:chExt cx="2170080" cy="444240"/>
          </a:xfrm>
        </p:grpSpPr>
        <p:pic>
          <p:nvPicPr>
            <p:cNvPr id="1112" name="Text Box 7" descr=""/>
            <p:cNvPicPr/>
            <p:nvPr/>
          </p:nvPicPr>
          <p:blipFill>
            <a:blip r:embed="rId2"/>
            <a:stretch/>
          </p:blipFill>
          <p:spPr>
            <a:xfrm>
              <a:off x="3529080" y="4164120"/>
              <a:ext cx="217008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3573360" y="420732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Aktivitas 1, 2, …, </a:t>
              </a:r>
              <a:r>
                <a:rPr b="0" i="1" lang="en-US" sz="1400" spc="-1" strike="noStrike">
                  <a:solidFill>
                    <a:srgbClr val="c00000"/>
                  </a:solidFill>
                  <a:latin typeface="Arial Black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14" name="Text Box 7"/>
          <p:cNvGrpSpPr/>
          <p:nvPr/>
        </p:nvGrpSpPr>
        <p:grpSpPr>
          <a:xfrm>
            <a:off x="3529080" y="5261040"/>
            <a:ext cx="2182680" cy="658800"/>
            <a:chOff x="3529080" y="5261040"/>
            <a:chExt cx="2182680" cy="658800"/>
          </a:xfrm>
        </p:grpSpPr>
        <p:pic>
          <p:nvPicPr>
            <p:cNvPr id="1115" name="Text Box 7" descr=""/>
            <p:cNvPicPr/>
            <p:nvPr/>
          </p:nvPicPr>
          <p:blipFill>
            <a:blip r:embed="rId3"/>
            <a:stretch/>
          </p:blipFill>
          <p:spPr>
            <a:xfrm>
              <a:off x="3529080" y="5261040"/>
              <a:ext cx="21826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3573360" y="5307120"/>
              <a:ext cx="203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Sumberdaya yang dibutuhk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17" name="Text Box 7"/>
          <p:cNvGrpSpPr/>
          <p:nvPr/>
        </p:nvGrpSpPr>
        <p:grpSpPr>
          <a:xfrm>
            <a:off x="3529080" y="5919840"/>
            <a:ext cx="2170080" cy="444600"/>
            <a:chOff x="3529080" y="5919840"/>
            <a:chExt cx="2170080" cy="444600"/>
          </a:xfrm>
        </p:grpSpPr>
        <p:pic>
          <p:nvPicPr>
            <p:cNvPr id="1118" name="Text Box 7" descr=""/>
            <p:cNvPicPr/>
            <p:nvPr/>
          </p:nvPicPr>
          <p:blipFill>
            <a:blip r:embed="rId4"/>
            <a:stretch/>
          </p:blipFill>
          <p:spPr>
            <a:xfrm>
              <a:off x="3529080" y="591984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>
              <a:off x="3573360" y="5963040"/>
              <a:ext cx="203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Kebutuhan Dan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20" name="Rectangle 33"/>
          <p:cNvGrpSpPr/>
          <p:nvPr/>
        </p:nvGrpSpPr>
        <p:grpSpPr>
          <a:xfrm>
            <a:off x="6443640" y="1700280"/>
            <a:ext cx="2371680" cy="2311200"/>
            <a:chOff x="6443640" y="1700280"/>
            <a:chExt cx="2371680" cy="2311200"/>
          </a:xfrm>
        </p:grpSpPr>
        <p:pic>
          <p:nvPicPr>
            <p:cNvPr id="1121" name="Rectangle 33" descr=""/>
            <p:cNvPicPr/>
            <p:nvPr/>
          </p:nvPicPr>
          <p:blipFill>
            <a:blip r:embed="rId5"/>
            <a:stretch/>
          </p:blipFill>
          <p:spPr>
            <a:xfrm>
              <a:off x="6443640" y="1700280"/>
              <a:ext cx="237168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6488280" y="1798560"/>
              <a:ext cx="2234880" cy="21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23" name="Freeform 94"/>
          <p:cNvGrpSpPr/>
          <p:nvPr/>
        </p:nvGrpSpPr>
        <p:grpSpPr>
          <a:xfrm>
            <a:off x="146160" y="2090880"/>
            <a:ext cx="3151080" cy="1334880"/>
            <a:chOff x="146160" y="2090880"/>
            <a:chExt cx="3151080" cy="1334880"/>
          </a:xfrm>
        </p:grpSpPr>
        <p:pic>
          <p:nvPicPr>
            <p:cNvPr id="1124" name="Freeform 94" descr=""/>
            <p:cNvPicPr/>
            <p:nvPr/>
          </p:nvPicPr>
          <p:blipFill>
            <a:blip r:embed="rId6"/>
            <a:stretch/>
          </p:blipFill>
          <p:spPr>
            <a:xfrm>
              <a:off x="146160" y="2090880"/>
              <a:ext cx="315108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>
              <a:off x="162000" y="2108160"/>
              <a:ext cx="3125880" cy="13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Konsep Penyusunan </a:t>
            </a: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Proposal Lengka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7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BDD5-C2EC-475F-9F49-68E01239DD1A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8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9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AD34-5B5B-4F0A-861B-8B756A172327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30" name="Text Box 5"/>
          <p:cNvGrpSpPr/>
          <p:nvPr/>
        </p:nvGrpSpPr>
        <p:grpSpPr>
          <a:xfrm>
            <a:off x="487440" y="1322280"/>
            <a:ext cx="2116080" cy="446040"/>
            <a:chOff x="487440" y="1322280"/>
            <a:chExt cx="2116080" cy="446040"/>
          </a:xfrm>
        </p:grpSpPr>
        <p:pic>
          <p:nvPicPr>
            <p:cNvPr id="1131" name="Text Box 5" descr=""/>
            <p:cNvPicPr/>
            <p:nvPr/>
          </p:nvPicPr>
          <p:blipFill>
            <a:blip r:embed="rId7"/>
            <a:stretch/>
          </p:blipFill>
          <p:spPr>
            <a:xfrm>
              <a:off x="487440" y="1322280"/>
              <a:ext cx="21160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2" name=""/>
            <p:cNvSpPr/>
            <p:nvPr/>
          </p:nvSpPr>
          <p:spPr>
            <a:xfrm>
              <a:off x="533520" y="1365480"/>
              <a:ext cx="197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Situasi Sekar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33" name="Text Box 7"/>
          <p:cNvGrpSpPr/>
          <p:nvPr/>
        </p:nvGrpSpPr>
        <p:grpSpPr>
          <a:xfrm>
            <a:off x="6566040" y="1311120"/>
            <a:ext cx="2170080" cy="444600"/>
            <a:chOff x="6566040" y="1311120"/>
            <a:chExt cx="2170080" cy="444600"/>
          </a:xfrm>
        </p:grpSpPr>
        <p:pic>
          <p:nvPicPr>
            <p:cNvPr id="1134" name="Text Box 7" descr=""/>
            <p:cNvPicPr/>
            <p:nvPr/>
          </p:nvPicPr>
          <p:blipFill>
            <a:blip r:embed="rId8"/>
            <a:stretch/>
          </p:blipFill>
          <p:spPr>
            <a:xfrm>
              <a:off x="6566040" y="131112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"/>
            <p:cNvSpPr/>
            <p:nvPr/>
          </p:nvSpPr>
          <p:spPr>
            <a:xfrm>
              <a:off x="6605640" y="135756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Situasi Mendatang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36" name="AutoShape 6"/>
          <p:cNvGrpSpPr/>
          <p:nvPr/>
        </p:nvGrpSpPr>
        <p:grpSpPr>
          <a:xfrm>
            <a:off x="2951280" y="1170000"/>
            <a:ext cx="3309840" cy="719280"/>
            <a:chOff x="2951280" y="1170000"/>
            <a:chExt cx="3309840" cy="719280"/>
          </a:xfrm>
        </p:grpSpPr>
        <p:pic>
          <p:nvPicPr>
            <p:cNvPr id="1137" name="AutoShape 6" descr="White marble"/>
            <p:cNvPicPr/>
            <p:nvPr/>
          </p:nvPicPr>
          <p:blipFill>
            <a:blip r:embed="rId9"/>
            <a:stretch/>
          </p:blipFill>
          <p:spPr>
            <a:xfrm>
              <a:off x="2951280" y="1170000"/>
              <a:ext cx="33098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"/>
            <p:cNvSpPr/>
            <p:nvPr/>
          </p:nvSpPr>
          <p:spPr>
            <a:xfrm>
              <a:off x="3490920" y="1359000"/>
              <a:ext cx="22795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maju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39" name="Text Box 5"/>
          <p:cNvGrpSpPr/>
          <p:nvPr/>
        </p:nvGrpSpPr>
        <p:grpSpPr>
          <a:xfrm>
            <a:off x="201600" y="2176560"/>
            <a:ext cx="1395360" cy="627120"/>
            <a:chOff x="201600" y="2176560"/>
            <a:chExt cx="1395360" cy="627120"/>
          </a:xfrm>
        </p:grpSpPr>
        <p:pic>
          <p:nvPicPr>
            <p:cNvPr id="1140" name="Text Box 5" descr=""/>
            <p:cNvPicPr/>
            <p:nvPr/>
          </p:nvPicPr>
          <p:blipFill>
            <a:blip r:embed="rId10"/>
            <a:stretch/>
          </p:blipFill>
          <p:spPr>
            <a:xfrm>
              <a:off x="201600" y="2176560"/>
              <a:ext cx="13953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1" name=""/>
            <p:cNvSpPr/>
            <p:nvPr/>
          </p:nvSpPr>
          <p:spPr>
            <a:xfrm>
              <a:off x="244440" y="2325240"/>
              <a:ext cx="12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Posisi (Data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42" name="Text Box 5"/>
          <p:cNvGrpSpPr/>
          <p:nvPr/>
        </p:nvGrpSpPr>
        <p:grpSpPr>
          <a:xfrm>
            <a:off x="1920960" y="2176560"/>
            <a:ext cx="1395360" cy="627120"/>
            <a:chOff x="1920960" y="2176560"/>
            <a:chExt cx="1395360" cy="627120"/>
          </a:xfrm>
        </p:grpSpPr>
        <p:pic>
          <p:nvPicPr>
            <p:cNvPr id="1143" name="Text Box 5" descr=""/>
            <p:cNvPicPr/>
            <p:nvPr/>
          </p:nvPicPr>
          <p:blipFill>
            <a:blip r:embed="rId11"/>
            <a:stretch/>
          </p:blipFill>
          <p:spPr>
            <a:xfrm>
              <a:off x="1920960" y="2176560"/>
              <a:ext cx="139536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"/>
            <p:cNvSpPr/>
            <p:nvPr/>
          </p:nvSpPr>
          <p:spPr>
            <a:xfrm>
              <a:off x="1965240" y="2218680"/>
              <a:ext cx="126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Analisis Situa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45" name="Text Box 5"/>
          <p:cNvGrpSpPr/>
          <p:nvPr/>
        </p:nvGrpSpPr>
        <p:grpSpPr>
          <a:xfrm>
            <a:off x="1011240" y="2938320"/>
            <a:ext cx="1469880" cy="457200"/>
            <a:chOff x="1011240" y="2938320"/>
            <a:chExt cx="1469880" cy="457200"/>
          </a:xfrm>
        </p:grpSpPr>
        <p:pic>
          <p:nvPicPr>
            <p:cNvPr id="1146" name="Text Box 5" descr=""/>
            <p:cNvPicPr/>
            <p:nvPr/>
          </p:nvPicPr>
          <p:blipFill>
            <a:blip r:embed="rId12"/>
            <a:stretch/>
          </p:blipFill>
          <p:spPr>
            <a:xfrm>
              <a:off x="1011240" y="2938320"/>
              <a:ext cx="1469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7" name=""/>
            <p:cNvSpPr/>
            <p:nvPr/>
          </p:nvSpPr>
          <p:spPr>
            <a:xfrm>
              <a:off x="1054080" y="2988000"/>
              <a:ext cx="13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e736a"/>
                  </a:solidFill>
                  <a:latin typeface="Arial Black"/>
                </a:rPr>
                <a:t>Kesimpul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148" name="Elbow Connector 69"/>
          <p:cNvCxnSpPr>
            <a:stCxn id="1131" idx="2"/>
            <a:endCxn id="1140" idx="0"/>
          </p:cNvCxnSpPr>
          <p:nvPr/>
        </p:nvCxnSpPr>
        <p:spPr>
          <a:xfrm rot="5400000">
            <a:off x="912240" y="1634760"/>
            <a:ext cx="570600" cy="65016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149" name="Elbow Connector 70"/>
          <p:cNvCxnSpPr>
            <a:stCxn id="1131" idx="2"/>
            <a:endCxn id="1143" idx="0"/>
          </p:cNvCxnSpPr>
          <p:nvPr/>
        </p:nvCxnSpPr>
        <p:spPr>
          <a:xfrm flipH="1" rot="16200000">
            <a:off x="1772640" y="1422720"/>
            <a:ext cx="570600" cy="107352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150" name="Elbow Connector 73"/>
          <p:cNvCxnSpPr>
            <a:stCxn id="1140" idx="3"/>
            <a:endCxn id="1143" idx="1"/>
          </p:cNvCxnSpPr>
          <p:nvPr/>
        </p:nvCxnSpPr>
        <p:spPr>
          <a:xfrm>
            <a:off x="1503000" y="2478240"/>
            <a:ext cx="46260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151" name="Elbow Connector 76"/>
          <p:cNvCxnSpPr>
            <a:stCxn id="1140" idx="2"/>
            <a:endCxn id="1146" idx="0"/>
          </p:cNvCxnSpPr>
          <p:nvPr/>
        </p:nvCxnSpPr>
        <p:spPr>
          <a:xfrm flipH="1" rot="16200000">
            <a:off x="1162080" y="2422440"/>
            <a:ext cx="267120" cy="847080"/>
          </a:xfrm>
          <a:prstGeom prst="bentConnector3">
            <a:avLst>
              <a:gd name="adj1" fmla="val 49932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152" name="Elbow Connector 76"/>
          <p:cNvCxnSpPr>
            <a:stCxn id="1143" idx="2"/>
            <a:endCxn id="1146" idx="0"/>
          </p:cNvCxnSpPr>
          <p:nvPr/>
        </p:nvCxnSpPr>
        <p:spPr>
          <a:xfrm rot="5400000">
            <a:off x="2023560" y="2407680"/>
            <a:ext cx="267120" cy="876960"/>
          </a:xfrm>
          <a:prstGeom prst="bentConnector3">
            <a:avLst>
              <a:gd name="adj1" fmla="val 49932"/>
            </a:avLst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153" name="AutoShape 5"/>
          <p:cNvGrpSpPr/>
          <p:nvPr/>
        </p:nvGrpSpPr>
        <p:grpSpPr>
          <a:xfrm>
            <a:off x="-23760" y="2828880"/>
            <a:ext cx="3095640" cy="1657440"/>
            <a:chOff x="-23760" y="2828880"/>
            <a:chExt cx="3095640" cy="1657440"/>
          </a:xfrm>
        </p:grpSpPr>
        <p:pic>
          <p:nvPicPr>
            <p:cNvPr id="1154" name="AutoShape 5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-23760" y="2828880"/>
              <a:ext cx="30956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5" name=""/>
            <p:cNvSpPr/>
            <p:nvPr/>
          </p:nvSpPr>
          <p:spPr>
            <a:xfrm>
              <a:off x="447840" y="3703680"/>
              <a:ext cx="2158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Ringkasan Analisis Evaluasi Diri</a:t>
              </a:r>
              <a:br>
                <a:rPr sz="1400"/>
              </a:b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(Bab 4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56" name="Text Box 7"/>
          <p:cNvGrpSpPr/>
          <p:nvPr/>
        </p:nvGrpSpPr>
        <p:grpSpPr>
          <a:xfrm>
            <a:off x="6566040" y="1871640"/>
            <a:ext cx="2170080" cy="444600"/>
            <a:chOff x="6566040" y="1871640"/>
            <a:chExt cx="2170080" cy="444600"/>
          </a:xfrm>
        </p:grpSpPr>
        <p:pic>
          <p:nvPicPr>
            <p:cNvPr id="1157" name="Text Box 7" descr=""/>
            <p:cNvPicPr/>
            <p:nvPr/>
          </p:nvPicPr>
          <p:blipFill>
            <a:blip r:embed="rId15"/>
            <a:stretch/>
          </p:blipFill>
          <p:spPr>
            <a:xfrm>
              <a:off x="6566040" y="187164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8" name=""/>
            <p:cNvSpPr/>
            <p:nvPr/>
          </p:nvSpPr>
          <p:spPr>
            <a:xfrm>
              <a:off x="6605640" y="191664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Vi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59" name="Text Box 7"/>
          <p:cNvGrpSpPr/>
          <p:nvPr/>
        </p:nvGrpSpPr>
        <p:grpSpPr>
          <a:xfrm>
            <a:off x="6566040" y="2432160"/>
            <a:ext cx="2170080" cy="439560"/>
            <a:chOff x="6566040" y="2432160"/>
            <a:chExt cx="2170080" cy="439560"/>
          </a:xfrm>
        </p:grpSpPr>
        <p:pic>
          <p:nvPicPr>
            <p:cNvPr id="1160" name="Text Box 7" descr=""/>
            <p:cNvPicPr/>
            <p:nvPr/>
          </p:nvPicPr>
          <p:blipFill>
            <a:blip r:embed="rId16"/>
            <a:stretch/>
          </p:blipFill>
          <p:spPr>
            <a:xfrm>
              <a:off x="6566040" y="2432160"/>
              <a:ext cx="217008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6605640" y="247356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Mi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62" name="Text Box 7"/>
          <p:cNvGrpSpPr/>
          <p:nvPr/>
        </p:nvGrpSpPr>
        <p:grpSpPr>
          <a:xfrm>
            <a:off x="6566040" y="2944800"/>
            <a:ext cx="2170080" cy="444600"/>
            <a:chOff x="6566040" y="2944800"/>
            <a:chExt cx="2170080" cy="444600"/>
          </a:xfrm>
        </p:grpSpPr>
        <p:pic>
          <p:nvPicPr>
            <p:cNvPr id="1163" name="Text Box 7" descr=""/>
            <p:cNvPicPr/>
            <p:nvPr/>
          </p:nvPicPr>
          <p:blipFill>
            <a:blip r:embed="rId17"/>
            <a:stretch/>
          </p:blipFill>
          <p:spPr>
            <a:xfrm>
              <a:off x="6566040" y="294480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4" name=""/>
            <p:cNvSpPr/>
            <p:nvPr/>
          </p:nvSpPr>
          <p:spPr>
            <a:xfrm>
              <a:off x="6605640" y="298800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Tujuan Institusi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165" name="Elbow Connector 21"/>
          <p:cNvCxnSpPr>
            <a:stCxn id="1134" idx="2"/>
            <a:endCxn id="1157" idx="0"/>
          </p:cNvCxnSpPr>
          <p:nvPr/>
        </p:nvCxnSpPr>
        <p:spPr>
          <a:xfrm flipH="1">
            <a:off x="7622280" y="1665360"/>
            <a:ext cx="2520" cy="2433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166" name="Elbow Connector 21"/>
          <p:cNvCxnSpPr>
            <a:stCxn id="1157" idx="2"/>
            <a:endCxn id="1160" idx="0"/>
          </p:cNvCxnSpPr>
          <p:nvPr/>
        </p:nvCxnSpPr>
        <p:spPr>
          <a:xfrm flipH="1">
            <a:off x="7622280" y="2215800"/>
            <a:ext cx="2520" cy="2448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167" name="Elbow Connector 21"/>
          <p:cNvCxnSpPr>
            <a:stCxn id="1160" idx="2"/>
            <a:endCxn id="1163" idx="0"/>
          </p:cNvCxnSpPr>
          <p:nvPr/>
        </p:nvCxnSpPr>
        <p:spPr>
          <a:xfrm flipH="1">
            <a:off x="7622280" y="2782800"/>
            <a:ext cx="2520" cy="2073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sp>
        <p:nvSpPr>
          <p:cNvPr id="1168" name="Straight Connector 28"/>
          <p:cNvSpPr/>
          <p:nvPr/>
        </p:nvSpPr>
        <p:spPr>
          <a:xfrm>
            <a:off x="2386080" y="3141720"/>
            <a:ext cx="523800" cy="0"/>
          </a:xfrm>
          <a:prstGeom prst="line">
            <a:avLst/>
          </a:prstGeom>
          <a:ln w="28440">
            <a:solidFill>
              <a:srgbClr val="727ca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9" name="Straight Connector 29"/>
          <p:cNvSpPr/>
          <p:nvPr/>
        </p:nvSpPr>
        <p:spPr>
          <a:xfrm>
            <a:off x="6081840" y="3141720"/>
            <a:ext cx="523800" cy="1440"/>
          </a:xfrm>
          <a:prstGeom prst="line">
            <a:avLst/>
          </a:prstGeom>
          <a:ln w="28440">
            <a:solidFill>
              <a:srgbClr val="727ca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170" name="AutoShape 5"/>
          <p:cNvGrpSpPr/>
          <p:nvPr/>
        </p:nvGrpSpPr>
        <p:grpSpPr>
          <a:xfrm>
            <a:off x="3490920" y="1920960"/>
            <a:ext cx="3101760" cy="768240"/>
            <a:chOff x="3490920" y="1920960"/>
            <a:chExt cx="3101760" cy="768240"/>
          </a:xfrm>
        </p:grpSpPr>
        <p:pic>
          <p:nvPicPr>
            <p:cNvPr id="1171" name="AutoShape 5" descr="">
              <a:hlinkClick r:id="rId18"/>
            </p:cNvPr>
            <p:cNvPicPr/>
            <p:nvPr/>
          </p:nvPicPr>
          <p:blipFill>
            <a:blip r:embed="rId19"/>
            <a:stretch/>
          </p:blipFill>
          <p:spPr>
            <a:xfrm>
              <a:off x="3490920" y="1920960"/>
              <a:ext cx="31017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875040" y="2054160"/>
              <a:ext cx="17445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Rasional &amp; Konteks (Bab 1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173" name="Elbow Connector 21"/>
          <p:cNvCxnSpPr>
            <a:endCxn id="1174" idx="0"/>
          </p:cNvCxnSpPr>
          <p:nvPr/>
        </p:nvCxnSpPr>
        <p:spPr>
          <a:xfrm flipH="1">
            <a:off x="4590360" y="3025440"/>
            <a:ext cx="1080" cy="5241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175" name="AutoShape 6"/>
          <p:cNvGrpSpPr/>
          <p:nvPr/>
        </p:nvGrpSpPr>
        <p:grpSpPr>
          <a:xfrm>
            <a:off x="2865600" y="2803680"/>
            <a:ext cx="3309840" cy="725400"/>
            <a:chOff x="2865600" y="2803680"/>
            <a:chExt cx="3309840" cy="725400"/>
          </a:xfrm>
        </p:grpSpPr>
        <p:pic>
          <p:nvPicPr>
            <p:cNvPr id="1176" name="AutoShape 6" descr="White marble"/>
            <p:cNvPicPr/>
            <p:nvPr/>
          </p:nvPicPr>
          <p:blipFill>
            <a:blip r:embed="rId20"/>
            <a:stretch/>
          </p:blipFill>
          <p:spPr>
            <a:xfrm>
              <a:off x="2865600" y="2803680"/>
              <a:ext cx="330984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3405240" y="2994120"/>
              <a:ext cx="227952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 Black"/>
                </a:rPr>
                <a:t>langkah strategi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78" name="Text Box 7"/>
          <p:cNvGrpSpPr/>
          <p:nvPr/>
        </p:nvGrpSpPr>
        <p:grpSpPr>
          <a:xfrm>
            <a:off x="6566040" y="3468600"/>
            <a:ext cx="2170080" cy="444600"/>
            <a:chOff x="6566040" y="3468600"/>
            <a:chExt cx="2170080" cy="444600"/>
          </a:xfrm>
        </p:grpSpPr>
        <p:pic>
          <p:nvPicPr>
            <p:cNvPr id="1179" name="Text Box 7" descr=""/>
            <p:cNvPicPr/>
            <p:nvPr/>
          </p:nvPicPr>
          <p:blipFill>
            <a:blip r:embed="rId21"/>
            <a:stretch/>
          </p:blipFill>
          <p:spPr>
            <a:xfrm>
              <a:off x="6566040" y="3468600"/>
              <a:ext cx="2170080" cy="4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"/>
            <p:cNvSpPr/>
            <p:nvPr/>
          </p:nvSpPr>
          <p:spPr>
            <a:xfrm>
              <a:off x="6605640" y="3515040"/>
              <a:ext cx="203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00000"/>
                  </a:solidFill>
                  <a:latin typeface="Arial Black"/>
                </a:rPr>
                <a:t>Outcome</a:t>
              </a: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 &amp; </a:t>
              </a:r>
              <a:r>
                <a:rPr b="0" i="1" lang="en-US" sz="1400" spc="-1" strike="noStrike">
                  <a:solidFill>
                    <a:srgbClr val="c00000"/>
                  </a:solidFill>
                  <a:latin typeface="Arial Black"/>
                </a:rPr>
                <a:t>Impact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181" name="Elbow Connector 21"/>
          <p:cNvCxnSpPr>
            <a:stCxn id="1163" idx="2"/>
            <a:endCxn id="1179" idx="0"/>
          </p:cNvCxnSpPr>
          <p:nvPr/>
        </p:nvCxnSpPr>
        <p:spPr>
          <a:xfrm flipH="1">
            <a:off x="7622280" y="3296880"/>
            <a:ext cx="2520" cy="2199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182" name="Text Box 7"/>
          <p:cNvGrpSpPr/>
          <p:nvPr/>
        </p:nvGrpSpPr>
        <p:grpSpPr>
          <a:xfrm>
            <a:off x="6566040" y="4595760"/>
            <a:ext cx="2170080" cy="646200"/>
            <a:chOff x="6566040" y="4595760"/>
            <a:chExt cx="2170080" cy="646200"/>
          </a:xfrm>
        </p:grpSpPr>
        <p:pic>
          <p:nvPicPr>
            <p:cNvPr id="1183" name="Text Box 7" descr=""/>
            <p:cNvPicPr/>
            <p:nvPr/>
          </p:nvPicPr>
          <p:blipFill>
            <a:blip r:embed="rId22"/>
            <a:stretch/>
          </p:blipFill>
          <p:spPr>
            <a:xfrm>
              <a:off x="6566040" y="4595760"/>
              <a:ext cx="2170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4" name=""/>
            <p:cNvSpPr/>
            <p:nvPr/>
          </p:nvSpPr>
          <p:spPr>
            <a:xfrm>
              <a:off x="6605640" y="4640760"/>
              <a:ext cx="2035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Indikator Kinerja Utam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185" name="Elbow Connector 21"/>
          <p:cNvCxnSpPr>
            <a:stCxn id="1179" idx="2"/>
            <a:endCxn id="1183" idx="0"/>
          </p:cNvCxnSpPr>
          <p:nvPr/>
        </p:nvCxnSpPr>
        <p:spPr>
          <a:xfrm flipH="1">
            <a:off x="7622280" y="3823920"/>
            <a:ext cx="2520" cy="8262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186" name="Elbow Connector 21"/>
          <p:cNvCxnSpPr>
            <a:stCxn id="1187" idx="2"/>
            <a:endCxn id="1115" idx="0"/>
          </p:cNvCxnSpPr>
          <p:nvPr/>
        </p:nvCxnSpPr>
        <p:spPr>
          <a:xfrm flipH="1">
            <a:off x="4589280" y="5153040"/>
            <a:ext cx="2160" cy="1548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cxnSp>
        <p:nvCxnSpPr>
          <p:cNvPr id="1188" name="Elbow Connector 21"/>
          <p:cNvCxnSpPr>
            <a:stCxn id="1115" idx="2"/>
            <a:endCxn id="1118" idx="0"/>
          </p:cNvCxnSpPr>
          <p:nvPr/>
        </p:nvCxnSpPr>
        <p:spPr>
          <a:xfrm flipH="1">
            <a:off x="4589280" y="5829480"/>
            <a:ext cx="2160" cy="13536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189" name="Text Box 7"/>
          <p:cNvGrpSpPr/>
          <p:nvPr/>
        </p:nvGrpSpPr>
        <p:grpSpPr>
          <a:xfrm>
            <a:off x="3529080" y="3505320"/>
            <a:ext cx="2170080" cy="658800"/>
            <a:chOff x="3529080" y="3505320"/>
            <a:chExt cx="2170080" cy="658800"/>
          </a:xfrm>
        </p:grpSpPr>
        <p:pic>
          <p:nvPicPr>
            <p:cNvPr id="1190" name="Text Box 7" descr=""/>
            <p:cNvPicPr/>
            <p:nvPr/>
          </p:nvPicPr>
          <p:blipFill>
            <a:blip r:embed="rId23"/>
            <a:stretch/>
          </p:blipFill>
          <p:spPr>
            <a:xfrm>
              <a:off x="3529080" y="3505320"/>
              <a:ext cx="21700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3573360" y="3551400"/>
              <a:ext cx="203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Usulan Program Pengembangan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192" name="AutoShape 5"/>
          <p:cNvGrpSpPr/>
          <p:nvPr/>
        </p:nvGrpSpPr>
        <p:grpSpPr>
          <a:xfrm>
            <a:off x="341280" y="5041800"/>
            <a:ext cx="3219480" cy="1303560"/>
            <a:chOff x="341280" y="5041800"/>
            <a:chExt cx="3219480" cy="1303560"/>
          </a:xfrm>
        </p:grpSpPr>
        <p:pic>
          <p:nvPicPr>
            <p:cNvPr id="1193" name="AutoShape 5" descr="">
              <a:hlinkClick r:id="rId24"/>
            </p:cNvPr>
            <p:cNvPicPr/>
            <p:nvPr/>
          </p:nvPicPr>
          <p:blipFill>
            <a:blip r:embed="rId25"/>
            <a:stretch/>
          </p:blipFill>
          <p:spPr>
            <a:xfrm>
              <a:off x="341280" y="5041800"/>
              <a:ext cx="321948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"/>
            <p:cNvSpPr/>
            <p:nvPr/>
          </p:nvSpPr>
          <p:spPr>
            <a:xfrm>
              <a:off x="811080" y="5661000"/>
              <a:ext cx="21542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3300"/>
                  </a:solidFill>
                  <a:latin typeface="Arial Black"/>
                </a:rPr>
                <a:t>Usulan Program Pengembangan (Bab 5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195" name="Elbow Connector 21"/>
          <p:cNvCxnSpPr>
            <a:stCxn id="1190" idx="2"/>
            <a:endCxn id="1112" idx="0"/>
          </p:cNvCxnSpPr>
          <p:nvPr/>
        </p:nvCxnSpPr>
        <p:spPr>
          <a:xfrm flipH="1">
            <a:off x="4589280" y="4073040"/>
            <a:ext cx="2160" cy="13428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  <p:grpSp>
        <p:nvGrpSpPr>
          <p:cNvPr id="1196" name="AutoShape 5"/>
          <p:cNvGrpSpPr/>
          <p:nvPr/>
        </p:nvGrpSpPr>
        <p:grpSpPr>
          <a:xfrm>
            <a:off x="243000" y="4000680"/>
            <a:ext cx="3286080" cy="1371600"/>
            <a:chOff x="243000" y="4000680"/>
            <a:chExt cx="3286080" cy="1371600"/>
          </a:xfrm>
        </p:grpSpPr>
        <p:pic>
          <p:nvPicPr>
            <p:cNvPr id="1197" name="AutoShape 5" descr="">
              <a:hlinkClick r:id="rId26"/>
            </p:cNvPr>
            <p:cNvPicPr/>
            <p:nvPr/>
          </p:nvPicPr>
          <p:blipFill>
            <a:blip r:embed="rId27"/>
            <a:stretch/>
          </p:blipFill>
          <p:spPr>
            <a:xfrm>
              <a:off x="243000" y="4000680"/>
              <a:ext cx="32860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8" name=""/>
            <p:cNvSpPr/>
            <p:nvPr/>
          </p:nvSpPr>
          <p:spPr>
            <a:xfrm>
              <a:off x="650880" y="4740480"/>
              <a:ext cx="184176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Mekanisme Pelaksanaan</a:t>
              </a:r>
              <a:br>
                <a:rPr sz="1400"/>
              </a:b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(Bab 3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199" name="Elbow Connector 21"/>
          <p:cNvCxnSpPr>
            <a:endCxn id="1183" idx="1"/>
          </p:cNvCxnSpPr>
          <p:nvPr/>
        </p:nvCxnSpPr>
        <p:spPr>
          <a:xfrm flipV="1">
            <a:off x="5486040" y="4899960"/>
            <a:ext cx="1119960" cy="5400"/>
          </a:xfrm>
          <a:prstGeom prst="straightConnector1">
            <a:avLst/>
          </a:prstGeom>
          <a:ln w="25560">
            <a:solidFill>
              <a:srgbClr val="727ca3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200" name="AutoShape 5"/>
          <p:cNvGrpSpPr/>
          <p:nvPr/>
        </p:nvGrpSpPr>
        <p:grpSpPr>
          <a:xfrm>
            <a:off x="6175440" y="5029200"/>
            <a:ext cx="2766960" cy="1042920"/>
            <a:chOff x="6175440" y="5029200"/>
            <a:chExt cx="2766960" cy="1042920"/>
          </a:xfrm>
        </p:grpSpPr>
        <p:pic>
          <p:nvPicPr>
            <p:cNvPr id="1201" name="AutoShape 5" descr="">
              <a:hlinkClick r:id="rId28"/>
            </p:cNvPr>
            <p:cNvPicPr/>
            <p:nvPr/>
          </p:nvPicPr>
          <p:blipFill>
            <a:blip r:embed="rId29"/>
            <a:stretch/>
          </p:blipFill>
          <p:spPr>
            <a:xfrm>
              <a:off x="6175440" y="5029200"/>
              <a:ext cx="27669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2" name=""/>
            <p:cNvSpPr/>
            <p:nvPr/>
          </p:nvSpPr>
          <p:spPr>
            <a:xfrm>
              <a:off x="6597720" y="5532480"/>
              <a:ext cx="19288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e5d78"/>
                  </a:solidFill>
                  <a:latin typeface="Arial Black"/>
                </a:rPr>
                <a:t>Indikator Kinerja Utama (Bab 2)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03" name="Text Box 7"/>
          <p:cNvGrpSpPr/>
          <p:nvPr/>
        </p:nvGrpSpPr>
        <p:grpSpPr>
          <a:xfrm>
            <a:off x="3529080" y="4595760"/>
            <a:ext cx="2170080" cy="646200"/>
            <a:chOff x="3529080" y="4595760"/>
            <a:chExt cx="2170080" cy="646200"/>
          </a:xfrm>
        </p:grpSpPr>
        <p:pic>
          <p:nvPicPr>
            <p:cNvPr id="1204" name="Text Box 7" descr=""/>
            <p:cNvPicPr/>
            <p:nvPr/>
          </p:nvPicPr>
          <p:blipFill>
            <a:blip r:embed="rId30"/>
            <a:stretch/>
          </p:blipFill>
          <p:spPr>
            <a:xfrm>
              <a:off x="3529080" y="4595760"/>
              <a:ext cx="21700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"/>
            <p:cNvSpPr/>
            <p:nvPr/>
          </p:nvSpPr>
          <p:spPr>
            <a:xfrm>
              <a:off x="3573360" y="4640760"/>
              <a:ext cx="2035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00000"/>
                  </a:solidFill>
                  <a:latin typeface="Arial Black"/>
                </a:rPr>
                <a:t>Indikator Kinerja Aktivita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cxnSp>
        <p:nvCxnSpPr>
          <p:cNvPr id="1206" name="Elbow Connector 21"/>
          <p:cNvCxnSpPr>
            <a:stCxn id="1112" idx="2"/>
            <a:endCxn id="1204" idx="0"/>
          </p:cNvCxnSpPr>
          <p:nvPr/>
        </p:nvCxnSpPr>
        <p:spPr>
          <a:xfrm flipH="1">
            <a:off x="4589280" y="4514400"/>
            <a:ext cx="2160" cy="135720"/>
          </a:xfrm>
          <a:prstGeom prst="straightConnector1">
            <a:avLst/>
          </a:prstGeom>
          <a:ln w="25560">
            <a:solidFill>
              <a:srgbClr val="727ca3"/>
            </a:solidFill>
            <a:miter/>
            <a:tailEnd len="med" type="triangle" w="med"/>
          </a:ln>
        </p:spPr>
      </p:cxnSp>
    </p:spTree>
  </p:cSld>
  <p:transition>
    <p:random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5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4" dur="5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2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2500"/>
                            </p:stCondLst>
                            <p:childTnLst>
                              <p:par>
                                <p:cTn id="5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500"/>
                            </p:stCondLst>
                            <p:childTnLst>
                              <p:par>
                                <p:cTn id="5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4000"/>
                            </p:stCondLst>
                            <p:childTnLst>
                              <p:par>
                                <p:cTn id="5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9500"/>
                            </p:stCondLst>
                            <p:childTnLst>
                              <p:par>
                                <p:cTn id="5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806480"/>
            <a:ext cx="803916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53"/>
                </a:solidFill>
                <a:latin typeface="Bookman Old Style"/>
              </a:rPr>
              <a:t>Penetapan Tema dan Pengembangan Program/Aktivitas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239840" y="3428640"/>
            <a:ext cx="716904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-Topik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gaimana menetapkan tem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engembangan Program/Aktivit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Struktur Proposal Lengkap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8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7312-AD0F-4F8B-B762-D101845A9700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3343-7287-43F7-9AEA-9D1CBE3B7708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Halaman judul/</a:t>
            </a:r>
            <a:r>
              <a:rPr b="0" i="1" lang="id-ID" sz="2000" spc="-1" strike="noStrike">
                <a:solidFill>
                  <a:srgbClr val="000000"/>
                </a:solidFill>
                <a:latin typeface="Gill Sans MT"/>
              </a:rPr>
              <a:t>co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Halaman identifikas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Halaman pengesah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Daftar is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Ringkasan eksekuti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ill Sans MT"/>
              </a:rPr>
              <a:t>Bab 1: Rasional dan kontek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Bab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: Indikator kinerja ut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ill Sans MT"/>
              </a:rPr>
              <a:t>Bab 3: Mekanisme pelaksanaan kegiatan di Perguruan Tinggi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ill Sans MT"/>
              </a:rPr>
              <a:t>Bab 4: Ringkasan Laporan evaluasi di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cc3300"/>
                </a:solidFill>
                <a:latin typeface="Gill Sans MT"/>
              </a:rPr>
              <a:t>Bab </a:t>
            </a:r>
            <a:r>
              <a:rPr b="1" lang="en-US" sz="3200" spc="-1" strike="noStrike">
                <a:solidFill>
                  <a:srgbClr val="cc3300"/>
                </a:solidFill>
                <a:latin typeface="Gill Sans MT"/>
              </a:rPr>
              <a:t>5</a:t>
            </a:r>
            <a:r>
              <a:rPr b="1" lang="id-ID" sz="3200" spc="-1" strike="noStrike">
                <a:solidFill>
                  <a:srgbClr val="cc3300"/>
                </a:solidFill>
                <a:latin typeface="Gill Sans MT"/>
              </a:rPr>
              <a:t>: Usulan program pengembanga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Bab 6: Rekapitulasi Anggara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Lampira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Gill Sans MT"/>
              </a:rPr>
              <a:t>Laporan lengkap hasil evaluasi diri (dijilid terpisah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ab 5: Usulan Program Pengembanga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3" name="Date Placeholder 5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321B-8A16-4031-9763-0744CD77123A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4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5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975A-EB92-4227-9A01-06E64359AEF1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549360" y="1708200"/>
            <a:ext cx="8045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erisi </a:t>
            </a:r>
            <a:r>
              <a:rPr b="0" lang="id-ID" sz="3200" spc="-1" strike="noStrike">
                <a:solidFill>
                  <a:srgbClr val="000000"/>
                </a:solidFill>
                <a:latin typeface="Gill Sans MT"/>
              </a:rPr>
              <a:t>usulan program dan rincian aktivitas untuk masing-masing tema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Gill Sans MT"/>
              </a:rPr>
              <a:t>Program yang diusulkan merupakan </a:t>
            </a:r>
            <a:r>
              <a:rPr b="0" lang="id-ID" sz="3200" spc="-1" strike="noStrike">
                <a:solidFill>
                  <a:srgbClr val="cc3300"/>
                </a:solidFill>
                <a:latin typeface="Gill Sans MT"/>
              </a:rPr>
              <a:t>program perguruan tinggi</a:t>
            </a:r>
            <a:r>
              <a:rPr b="0" lang="id-ID" sz="32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id-ID" sz="3200" spc="-1" strike="noStrike">
                <a:solidFill>
                  <a:srgbClr val="cc3300"/>
                </a:solidFill>
                <a:latin typeface="Gill Sans MT"/>
              </a:rPr>
              <a:t>bukan kompilasi</a:t>
            </a:r>
            <a:r>
              <a:rPr b="0" lang="id-ID" sz="3200" spc="-1" strike="noStrike">
                <a:solidFill>
                  <a:srgbClr val="000000"/>
                </a:solidFill>
                <a:latin typeface="Gill Sans MT"/>
              </a:rPr>
              <a:t> dari aktivitas yang diusulkan oleh masing-masing unit internal terkait.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ktivitas untuk masing-masing program dari setiap tema harus </a:t>
            </a:r>
            <a:r>
              <a:rPr b="0" lang="en-US" sz="3200" spc="-1" strike="noStrike">
                <a:solidFill>
                  <a:srgbClr val="cc3300"/>
                </a:solidFill>
                <a:latin typeface="Gill Sans MT"/>
              </a:rPr>
              <a:t>dideskripsikan secara rinci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Struktur Usulan Program Pengembangan Pada Proposal Lengkap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8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C515-9AA4-4CE9-8972-CF48F4FDCD50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9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0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4CFD-B1D2-4C28-A276-1070ADF19C25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1" name="Text Placeholder 6"/>
          <p:cNvSpPr/>
          <p:nvPr/>
        </p:nvSpPr>
        <p:spPr>
          <a:xfrm>
            <a:off x="457200" y="1285920"/>
            <a:ext cx="836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ulan Program Pengembangan disusun menurut struktur sebagai berikut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222" name="Rectangle 1027"/>
          <p:cNvGrpSpPr/>
          <p:nvPr/>
        </p:nvGrpSpPr>
        <p:grpSpPr>
          <a:xfrm>
            <a:off x="438120" y="2228760"/>
            <a:ext cx="2658960" cy="4066920"/>
            <a:chOff x="438120" y="2228760"/>
            <a:chExt cx="2658960" cy="4066920"/>
          </a:xfrm>
        </p:grpSpPr>
        <p:pic>
          <p:nvPicPr>
            <p:cNvPr id="1223" name="Rectangle 1027" descr=""/>
            <p:cNvPicPr/>
            <p:nvPr/>
          </p:nvPicPr>
          <p:blipFill>
            <a:blip r:embed="rId1"/>
            <a:stretch/>
          </p:blipFill>
          <p:spPr>
            <a:xfrm>
              <a:off x="438120" y="2228760"/>
              <a:ext cx="265896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457200" y="224784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A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1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1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9064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9064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n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2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…………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25" name="Content Placeholder 8"/>
          <p:cNvGrpSpPr/>
          <p:nvPr/>
        </p:nvGrpSpPr>
        <p:grpSpPr>
          <a:xfrm>
            <a:off x="3260880" y="2228760"/>
            <a:ext cx="2663640" cy="4066920"/>
            <a:chOff x="3260880" y="2228760"/>
            <a:chExt cx="2663640" cy="4066920"/>
          </a:xfrm>
        </p:grpSpPr>
        <p:pic>
          <p:nvPicPr>
            <p:cNvPr id="1226" name="Content Placeholder 8" descr=""/>
            <p:cNvPicPr/>
            <p:nvPr/>
          </p:nvPicPr>
          <p:blipFill>
            <a:blip r:embed="rId2"/>
            <a:stretch/>
          </p:blipFill>
          <p:spPr>
            <a:xfrm>
              <a:off x="3260880" y="2228760"/>
              <a:ext cx="266364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7" name=""/>
            <p:cNvSpPr/>
            <p:nvPr/>
          </p:nvSpPr>
          <p:spPr>
            <a:xfrm>
              <a:off x="3282840" y="224784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4680" indent="-2746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B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marL="274680" indent="-2746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1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1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08200" indent="-2606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n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marL="274680" indent="-2746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2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533520" indent="-26064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…………</a:t>
              </a: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..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1228" name="Content Placeholder 8"/>
          <p:cNvGrpSpPr/>
          <p:nvPr/>
        </p:nvGrpSpPr>
        <p:grpSpPr>
          <a:xfrm>
            <a:off x="6089760" y="2228760"/>
            <a:ext cx="2657520" cy="4066920"/>
            <a:chOff x="6089760" y="2228760"/>
            <a:chExt cx="2657520" cy="4066920"/>
          </a:xfrm>
        </p:grpSpPr>
        <p:pic>
          <p:nvPicPr>
            <p:cNvPr id="1229" name="Content Placeholder 8" descr=""/>
            <p:cNvPicPr/>
            <p:nvPr/>
          </p:nvPicPr>
          <p:blipFill>
            <a:blip r:embed="rId3"/>
            <a:stretch/>
          </p:blipFill>
          <p:spPr>
            <a:xfrm>
              <a:off x="6089760" y="2228760"/>
              <a:ext cx="2657520" cy="40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"/>
            <p:cNvSpPr/>
            <p:nvPr/>
          </p:nvSpPr>
          <p:spPr>
            <a:xfrm>
              <a:off x="6108840" y="2247840"/>
              <a:ext cx="2627280" cy="403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ema C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marL="514440" indent="-51444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1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1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9064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2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lvl="2" marL="89064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	</a:t>
              </a:r>
              <a:r>
                <a:rPr b="0" lang="en-US" sz="2200" spc="-1" strike="noStrike">
                  <a:solidFill>
                    <a:srgbClr val="cc3300"/>
                  </a:solidFill>
                  <a:latin typeface="Gill Sans MT"/>
                  <a:ea typeface="Arial"/>
                </a:rPr>
                <a:t>Unit terkait</a:t>
              </a:r>
              <a:endParaRPr b="0" lang="en-US" sz="22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buClr>
                  <a:srgbClr val="ff0000"/>
                </a:buClr>
                <a:buSzPct val="76000"/>
                <a:buFont typeface="Gill Sans MT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Aktivitas n</a:t>
              </a:r>
              <a:endParaRPr b="0" lang="en-US" sz="2500" spc="-1" strike="noStrike">
                <a:solidFill>
                  <a:srgbClr val="000000"/>
                </a:solidFill>
                <a:latin typeface="Garamond"/>
              </a:endParaRPr>
            </a:p>
            <a:p>
              <a:pPr marL="514440" indent="-514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Program 2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…………</a:t>
              </a: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  <a:ea typeface="Arial"/>
                </a:rPr>
                <a:t>..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615960" indent="-34308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incian Aktivit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32" name="Date Placeholder 5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C279-8BF7-46B3-A1C0-69EF6DBDEAC6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BB1-5D78-4910-B8F6-B9E43F21D009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549360" y="1390680"/>
            <a:ext cx="8045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dul Aktivitas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Latar belakang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Rasional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Tuju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Mekanisme dan Rancang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Jadwal Pelaksana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Indikator kinerja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Sumberdaya dan dana yang dibutuhk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Keberlanjutan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Gill Sans MT"/>
              </a:rPr>
              <a:t>Unit terkait 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Penanggungjawab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udul Aktivitas 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9040" indent="-2534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Gill Sans MT"/>
              </a:rPr>
              <a:t>dst</a:t>
            </a:r>
            <a:endParaRPr b="0" lang="en-US" sz="2400" spc="-1" strike="noStrike">
              <a:solidFill>
                <a:srgbClr val="464653"/>
              </a:solidFill>
              <a:latin typeface="Gill Sans MT"/>
            </a:endParaRPr>
          </a:p>
        </p:txBody>
      </p:sp>
      <p:sp>
        <p:nvSpPr>
          <p:cNvPr id="1236" name=""/>
          <p:cNvSpPr/>
          <p:nvPr/>
        </p:nvSpPr>
        <p:spPr>
          <a:xfrm>
            <a:off x="722160" y="5014800"/>
            <a:ext cx="2035440" cy="441360"/>
          </a:xfrm>
          <a:prstGeom prst="ellipse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7" name=""/>
          <p:cNvSpPr/>
          <p:nvPr/>
        </p:nvSpPr>
        <p:spPr>
          <a:xfrm>
            <a:off x="5178600" y="4603680"/>
            <a:ext cx="3493800" cy="1244520"/>
          </a:xfrm>
          <a:prstGeom prst="wedgeRectCallout">
            <a:avLst>
              <a:gd name="adj1" fmla="val -121375"/>
              <a:gd name="adj2" fmla="val -752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butkan unit utama yang bertanggung jawab dan unit terkait dalam pelaksanaan aktivita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"/>
          <p:cNvSpPr/>
          <p:nvPr/>
        </p:nvSpPr>
        <p:spPr>
          <a:xfrm>
            <a:off x="2707560" y="4753080"/>
            <a:ext cx="409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Garamond"/>
              </a:rPr>
              <a:t>Selamat Bekerja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9" name=""/>
          <p:cNvSpPr/>
          <p:nvPr/>
        </p:nvSpPr>
        <p:spPr>
          <a:xfrm>
            <a:off x="3205440" y="5708520"/>
            <a:ext cx="32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Garamond"/>
              </a:rPr>
              <a:t>Terimakasih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2"/>
          <a:stretch/>
        </p:blipFill>
        <p:spPr>
          <a:xfrm>
            <a:off x="1359000" y="1417680"/>
            <a:ext cx="6659640" cy="326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ips Penyusunan Aktivita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2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3" name="Date Placeholder 2"/>
          <p:cNvSpPr/>
          <p:nvPr/>
        </p:nvSpPr>
        <p:spPr>
          <a:xfrm>
            <a:off x="6400800" y="635472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1F5F-1E48-4ADF-AE3E-E6E50C3E12E4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4" name="Footer Placeholder 3"/>
          <p:cNvSpPr/>
          <p:nvPr/>
        </p:nvSpPr>
        <p:spPr>
          <a:xfrm>
            <a:off x="2898720" y="6354720"/>
            <a:ext cx="347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1216080" y="63547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BA02-0D1A-4541-B6B7-477140623F66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arakteristik Aktivitas yang bai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F085-574B-431C-9D0F-E7BAC2C1164A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C930-3D39-4FF7-B73E-B8E77683F68F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dasarkan pada hasil evaluasi diri yang komprehen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menuhi misi dan tujuan institus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elas dan komprehesi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ari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Latar Belakang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ampai dengan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Keberlanjuta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jelas keterkaitanny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Feasi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nggaran, sumberdaya, jadwal saling sesua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rlanju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danya perbaikan yang sistematis d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rciptanya kebiasaan-kebiasaan baik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Benguiat Bk BT"/>
              </a:rPr>
              <a:t>Penetapan Usulan Aktivitas</a:t>
            </a:r>
            <a:r>
              <a:rPr b="1" lang="en-US" sz="6300" spc="-1" strike="noStrike">
                <a:solidFill>
                  <a:srgbClr val="04617b"/>
                </a:solidFill>
                <a:latin typeface="Benguiat Bk BT"/>
              </a:rPr>
              <a:t> </a:t>
            </a:r>
            <a:br>
              <a:rPr sz="6300"/>
            </a:br>
            <a:endParaRPr b="0" lang="en-US" sz="6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KETENTUAN DALAM PEMBUATAN PROPOSAL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Palatino"/>
              </a:rPr>
              <a:t>INVESTMENT-BASED</a:t>
            </a:r>
            <a:r>
              <a:rPr b="1" lang="en-US" sz="2400" spc="-1" strike="noStrike">
                <a:solidFill>
                  <a:srgbClr val="0000ff"/>
                </a:solidFill>
                <a:latin typeface="Palatino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Palatino"/>
              </a:rPr>
              <a:t>PROPOSAL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harus berubah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menjadi </a:t>
            </a:r>
            <a:r>
              <a:rPr b="1" i="1" lang="en-US" sz="2400" spc="-1" strike="noStrike">
                <a:solidFill>
                  <a:srgbClr val="ff0000"/>
                </a:solidFill>
                <a:latin typeface="Palatino"/>
              </a:rPr>
              <a:t>OUTCOME-BASED PROPOS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15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Palatino"/>
              </a:rPr>
              <a:t>INVESTASI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tidak boleh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diklaim sebagai </a:t>
            </a:r>
            <a:r>
              <a:rPr b="1" lang="en-US" sz="2400" spc="-1" strike="noStrike">
                <a:solidFill>
                  <a:srgbClr val="ff0000"/>
                </a:solidFill>
                <a:latin typeface="Palatino"/>
              </a:rPr>
              <a:t>AKTIVI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3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1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1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Benguiat Bk BT"/>
              </a:rPr>
              <a:t>Penetapan Usulan Aktivitas</a:t>
            </a:r>
            <a:r>
              <a:rPr b="1" lang="en-US" sz="6300" spc="-1" strike="noStrike">
                <a:solidFill>
                  <a:srgbClr val="04617b"/>
                </a:solidFill>
                <a:latin typeface="Benguiat Bk BT"/>
              </a:rPr>
              <a:t> </a:t>
            </a:r>
            <a:br>
              <a:rPr sz="6300"/>
            </a:br>
            <a:endParaRPr b="0" lang="en-US" sz="6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221904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Ketentuan dalam penetapan suatu aktivitas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ktivitas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bukan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merupakan kegiatan investasi (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invesmen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ktivitas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haru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mempunyai alasan 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engapa aktivitas tersebut dibutuhka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engapa aktivitas tersebut dipili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9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Benguiat Bk BT"/>
              </a:rPr>
              <a:t>Investasi</a:t>
            </a:r>
            <a:r>
              <a:rPr b="0" lang="en-US" sz="24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erupakan suatu </a:t>
            </a:r>
            <a:r>
              <a:rPr b="1" i="1" lang="en-US" sz="2400" spc="-1" strike="noStrike" u="sng">
                <a:solidFill>
                  <a:srgbClr val="cc0000"/>
                </a:solidFill>
                <a:uFillTx/>
                <a:latin typeface="Palatino"/>
              </a:rPr>
              <a:t>konsekuensi logis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dari adanya suatu aktivit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3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1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0"/>
                                        <p:tgtEl>
                                          <p:spTgt spid="1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1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1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enyusunan Aktivi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at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pa tujuan kegiatan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pa dampak kegiatan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y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engapa kegiatan ini diadakan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Mengapa kegiatan ini penting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en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Kapan kegiatan ini dimulai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Kapan kegiatan ini berakhir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How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agaimana kegiatan ini dimulai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Bagaimana sumberdaya dikerahkan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ere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Dimana (dalam struktur organisasi) kegiatan akan dilaksanakan? (unit organisasi mana yang paling terlibat ?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3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Benguiat Bk BT"/>
              </a:rPr>
              <a:t>Wh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1188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iapa yang berperan kunci (</a:t>
            </a:r>
            <a:r>
              <a:rPr b="0" i="1" lang="en-US" sz="1900" spc="-1" strike="noStrike">
                <a:solidFill>
                  <a:srgbClr val="ff0000"/>
                </a:solidFill>
                <a:latin typeface="Constantia"/>
              </a:rPr>
              <a:t>key-actor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) dalam kegiatan ?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12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E1D6-F440-4B3B-AD8A-4A22BCE949C0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5B07-0655-4FCC-81A5-8CEFE9D23903}" type="slidenum">
              <a:rPr b="0" lang="id-ID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1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2000"/>
                                        <p:tgtEl>
                                          <p:spTgt spid="1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1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1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2000"/>
                                        <p:tgtEl>
                                          <p:spTgt spid="1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1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2000"/>
                                        <p:tgtEl>
                                          <p:spTgt spid="1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2000"/>
                                        <p:tgtEl>
                                          <p:spTgt spid="12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2819520" y="1905120"/>
            <a:ext cx="4066920" cy="4248000"/>
            <a:chOff x="2819520" y="1905120"/>
            <a:chExt cx="4066920" cy="4248000"/>
          </a:xfrm>
        </p:grpSpPr>
        <p:sp>
          <p:nvSpPr>
            <p:cNvPr id="761" name=""/>
            <p:cNvSpPr/>
            <p:nvPr/>
          </p:nvSpPr>
          <p:spPr>
            <a:xfrm>
              <a:off x="2819520" y="1905120"/>
              <a:ext cx="4066920" cy="4248000"/>
            </a:xfrm>
            <a:prstGeom prst="rightArrow">
              <a:avLst>
                <a:gd name="adj1" fmla="val 79593"/>
                <a:gd name="adj2" fmla="val 5409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985000" y="3784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124080" y="4191120"/>
            <a:ext cx="1819080" cy="828000"/>
            <a:chOff x="3124080" y="4191120"/>
            <a:chExt cx="1819080" cy="828000"/>
          </a:xfrm>
        </p:grpSpPr>
        <p:sp>
          <p:nvSpPr>
            <p:cNvPr id="764" name=""/>
            <p:cNvSpPr/>
            <p:nvPr/>
          </p:nvSpPr>
          <p:spPr>
            <a:xfrm>
              <a:off x="3124080" y="4191120"/>
              <a:ext cx="1819080" cy="71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3146040" y="4566240"/>
              <a:ext cx="1130400" cy="452880"/>
              <a:chOff x="3146040" y="4566240"/>
              <a:chExt cx="1130400" cy="452880"/>
            </a:xfrm>
          </p:grpSpPr>
          <p:sp>
            <p:nvSpPr>
              <p:cNvPr id="766" name=""/>
              <p:cNvSpPr/>
              <p:nvPr/>
            </p:nvSpPr>
            <p:spPr>
              <a:xfrm>
                <a:off x="3146040" y="4566240"/>
                <a:ext cx="1130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Tema C</a:t>
                </a:r>
                <a:endParaRPr b="0" lang="en-US" sz="20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146040" y="4745160"/>
                <a:ext cx="18432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048120" y="3048120"/>
            <a:ext cx="2238120" cy="812520"/>
            <a:chOff x="3048120" y="3048120"/>
            <a:chExt cx="2238120" cy="812520"/>
          </a:xfrm>
        </p:grpSpPr>
        <p:sp>
          <p:nvSpPr>
            <p:cNvPr id="769" name=""/>
            <p:cNvSpPr/>
            <p:nvPr/>
          </p:nvSpPr>
          <p:spPr>
            <a:xfrm>
              <a:off x="3048120" y="3095640"/>
              <a:ext cx="2238120" cy="76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079440" y="3048120"/>
              <a:ext cx="1129320" cy="515160"/>
              <a:chOff x="3079440" y="3048120"/>
              <a:chExt cx="1129320" cy="515160"/>
            </a:xfrm>
          </p:grpSpPr>
          <p:sp>
            <p:nvSpPr>
              <p:cNvPr id="771" name=""/>
              <p:cNvSpPr/>
              <p:nvPr/>
            </p:nvSpPr>
            <p:spPr>
              <a:xfrm>
                <a:off x="3084840" y="3048120"/>
                <a:ext cx="1123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Tema A</a:t>
                </a:r>
                <a:endParaRPr b="0" lang="en-US" sz="20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079440" y="3288960"/>
                <a:ext cx="1839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773" name=""/>
          <p:cNvGrpSpPr/>
          <p:nvPr/>
        </p:nvGrpSpPr>
        <p:grpSpPr>
          <a:xfrm>
            <a:off x="4267080" y="3730680"/>
            <a:ext cx="1847880" cy="765000"/>
            <a:chOff x="4267080" y="3730680"/>
            <a:chExt cx="1847880" cy="765000"/>
          </a:xfrm>
        </p:grpSpPr>
        <p:sp>
          <p:nvSpPr>
            <p:cNvPr id="774" name=""/>
            <p:cNvSpPr/>
            <p:nvPr/>
          </p:nvSpPr>
          <p:spPr>
            <a:xfrm>
              <a:off x="4267080" y="3772080"/>
              <a:ext cx="1847880" cy="7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4280040" y="3730680"/>
              <a:ext cx="1134720" cy="459360"/>
              <a:chOff x="4280040" y="3730680"/>
              <a:chExt cx="1134720" cy="459360"/>
            </a:xfrm>
          </p:grpSpPr>
          <p:sp>
            <p:nvSpPr>
              <p:cNvPr id="776" name=""/>
              <p:cNvSpPr/>
              <p:nvPr/>
            </p:nvSpPr>
            <p:spPr>
              <a:xfrm>
                <a:off x="4280040" y="3730680"/>
                <a:ext cx="113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ahoma"/>
                  </a:rPr>
                  <a:t>Tema B</a:t>
                </a:r>
                <a:endParaRPr b="0" lang="en-US" sz="20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280040" y="3915000"/>
                <a:ext cx="1839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</p:grpSp>
      <p:grpSp>
        <p:nvGrpSpPr>
          <p:cNvPr id="778" name=""/>
          <p:cNvGrpSpPr/>
          <p:nvPr/>
        </p:nvGrpSpPr>
        <p:grpSpPr>
          <a:xfrm>
            <a:off x="-16920" y="2162160"/>
            <a:ext cx="2786760" cy="4486320"/>
            <a:chOff x="-16920" y="2162160"/>
            <a:chExt cx="2786760" cy="4486320"/>
          </a:xfrm>
        </p:grpSpPr>
        <p:sp>
          <p:nvSpPr>
            <p:cNvPr id="779" name=""/>
            <p:cNvSpPr/>
            <p:nvPr/>
          </p:nvSpPr>
          <p:spPr>
            <a:xfrm>
              <a:off x="30600" y="2162160"/>
              <a:ext cx="2739240" cy="4486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242280" y="2257200"/>
              <a:ext cx="1992240" cy="1123920"/>
              <a:chOff x="242280" y="2257200"/>
              <a:chExt cx="1992240" cy="1123920"/>
            </a:xfrm>
          </p:grpSpPr>
          <p:grpSp>
            <p:nvGrpSpPr>
              <p:cNvPr id="781" name=""/>
              <p:cNvGrpSpPr/>
              <p:nvPr/>
            </p:nvGrpSpPr>
            <p:grpSpPr>
              <a:xfrm>
                <a:off x="597960" y="2562120"/>
                <a:ext cx="1636560" cy="819000"/>
                <a:chOff x="597960" y="2562120"/>
                <a:chExt cx="1636560" cy="81900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97960" y="2562120"/>
                  <a:ext cx="163656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graphicFrame>
              <p:nvGraphicFramePr>
                <p:cNvPr id="783" name=""/>
                <p:cNvGraphicFramePr/>
                <p:nvPr/>
              </p:nvGraphicFramePr>
              <p:xfrm>
                <a:off x="665280" y="2647440"/>
                <a:ext cx="1489680" cy="63792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784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65280" y="2647440"/>
                          <a:ext cx="1489680" cy="63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785" name=""/>
              <p:cNvGrpSpPr/>
              <p:nvPr/>
            </p:nvGrpSpPr>
            <p:grpSpPr>
              <a:xfrm>
                <a:off x="420120" y="2409480"/>
                <a:ext cx="1636200" cy="819360"/>
                <a:chOff x="420120" y="2409480"/>
                <a:chExt cx="1636200" cy="81936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420120" y="2409480"/>
                  <a:ext cx="1636200" cy="81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graphicFrame>
              <p:nvGraphicFramePr>
                <p:cNvPr id="787" name=""/>
                <p:cNvGraphicFramePr/>
                <p:nvPr/>
              </p:nvGraphicFramePr>
              <p:xfrm>
                <a:off x="487440" y="2495160"/>
                <a:ext cx="1489320" cy="63828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88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87440" y="2495160"/>
                          <a:ext cx="1489320" cy="638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789" name=""/>
              <p:cNvGrpSpPr/>
              <p:nvPr/>
            </p:nvGrpSpPr>
            <p:grpSpPr>
              <a:xfrm>
                <a:off x="242280" y="2257200"/>
                <a:ext cx="1635840" cy="819000"/>
                <a:chOff x="242280" y="2257200"/>
                <a:chExt cx="1635840" cy="81900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242280" y="2257200"/>
                  <a:ext cx="163584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grpSp>
              <p:nvGrpSpPr>
                <p:cNvPr id="791" name=""/>
                <p:cNvGrpSpPr/>
                <p:nvPr/>
              </p:nvGrpSpPr>
              <p:grpSpPr>
                <a:xfrm>
                  <a:off x="342360" y="2342880"/>
                  <a:ext cx="1357560" cy="628560"/>
                  <a:chOff x="342360" y="2342880"/>
                  <a:chExt cx="1357560" cy="628560"/>
                </a:xfrm>
              </p:grpSpPr>
              <p:sp>
                <p:nvSpPr>
                  <p:cNvPr id="792" name=""/>
                  <p:cNvSpPr/>
                  <p:nvPr/>
                </p:nvSpPr>
                <p:spPr>
                  <a:xfrm>
                    <a:off x="342360" y="2962080"/>
                    <a:ext cx="13575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32" h="3">
                        <a:moveTo>
                          <a:pt x="0" y="3"/>
                        </a:moveTo>
                        <a:lnTo>
                          <a:pt x="73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342360" y="2790720"/>
                    <a:ext cx="1348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342360" y="2438280"/>
                    <a:ext cx="13485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342360" y="2668320"/>
                    <a:ext cx="134244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26" h="426">
                        <a:moveTo>
                          <a:pt x="0" y="426"/>
                        </a:moveTo>
                        <a:cubicBezTo>
                          <a:pt x="281" y="373"/>
                          <a:pt x="1065" y="175"/>
                          <a:pt x="1686" y="108"/>
                        </a:cubicBezTo>
                        <a:cubicBezTo>
                          <a:pt x="2430" y="0"/>
                          <a:pt x="3301" y="42"/>
                          <a:pt x="3726" y="2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342360" y="2544480"/>
                    <a:ext cx="132948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3690" h="902">
                        <a:moveTo>
                          <a:pt x="0" y="902"/>
                        </a:moveTo>
                        <a:cubicBezTo>
                          <a:pt x="309" y="777"/>
                          <a:pt x="1239" y="300"/>
                          <a:pt x="1854" y="152"/>
                        </a:cubicBezTo>
                        <a:cubicBezTo>
                          <a:pt x="2470" y="0"/>
                          <a:pt x="3308" y="43"/>
                          <a:pt x="3690" y="1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342360" y="2419200"/>
                    <a:ext cx="1335240" cy="360360"/>
                  </a:xfrm>
                  <a:custGeom>
                    <a:avLst/>
                    <a:gdLst/>
                    <a:ahLst/>
                    <a:rect l="l" t="t" r="r" b="b"/>
                    <a:pathLst>
                      <a:path w="3708" h="1379">
                        <a:moveTo>
                          <a:pt x="0" y="1379"/>
                        </a:moveTo>
                        <a:cubicBezTo>
                          <a:pt x="121" y="1310"/>
                          <a:pt x="408" y="1199"/>
                          <a:pt x="726" y="965"/>
                        </a:cubicBezTo>
                        <a:cubicBezTo>
                          <a:pt x="1044" y="731"/>
                          <a:pt x="1643" y="298"/>
                          <a:pt x="2118" y="149"/>
                        </a:cubicBezTo>
                        <a:cubicBezTo>
                          <a:pt x="2593" y="0"/>
                          <a:pt x="3377" y="34"/>
                          <a:pt x="3708" y="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342360" y="2342880"/>
                    <a:ext cx="14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400">
                        <a:moveTo>
                          <a:pt x="0" y="0"/>
                        </a:moveTo>
                        <a:lnTo>
                          <a:pt x="3" y="240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Garamond"/>
                    </a:endParaRPr>
                  </a:p>
                </p:txBody>
              </p:sp>
            </p:grpSp>
          </p:grpSp>
        </p:grpSp>
        <p:grpSp>
          <p:nvGrpSpPr>
            <p:cNvPr id="799" name=""/>
            <p:cNvGrpSpPr/>
            <p:nvPr/>
          </p:nvGrpSpPr>
          <p:grpSpPr>
            <a:xfrm>
              <a:off x="264600" y="3409920"/>
              <a:ext cx="1948320" cy="1123920"/>
              <a:chOff x="264600" y="3409920"/>
              <a:chExt cx="1948320" cy="112392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484920" y="3714840"/>
                <a:ext cx="1728000" cy="819000"/>
                <a:chOff x="484920" y="3714840"/>
                <a:chExt cx="1728000" cy="81900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84920" y="3714840"/>
                  <a:ext cx="172800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graphicFrame>
              <p:nvGraphicFramePr>
                <p:cNvPr id="802" name=""/>
                <p:cNvGraphicFramePr/>
                <p:nvPr/>
              </p:nvGraphicFramePr>
              <p:xfrm>
                <a:off x="556200" y="3800160"/>
                <a:ext cx="1572840" cy="637920"/>
              </p:xfrm>
              <a:graphic>
                <a:graphicData uri="http://schemas.openxmlformats.org/presentationml/2006/ole">
                  <p:oleObj progId="Excel.Sheet.12" r:id="rId5" spid="">
                    <p:embed/>
                    <p:pic>
                      <p:nvPicPr>
                        <p:cNvPr id="803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556200" y="3800160"/>
                          <a:ext cx="1572840" cy="63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804" name=""/>
              <p:cNvGrpSpPr/>
              <p:nvPr/>
            </p:nvGrpSpPr>
            <p:grpSpPr>
              <a:xfrm>
                <a:off x="374760" y="3562560"/>
                <a:ext cx="1728000" cy="819000"/>
                <a:chOff x="374760" y="3562560"/>
                <a:chExt cx="1728000" cy="819000"/>
              </a:xfrm>
            </p:grpSpPr>
            <p:sp>
              <p:nvSpPr>
                <p:cNvPr id="805" name=""/>
                <p:cNvSpPr/>
                <p:nvPr/>
              </p:nvSpPr>
              <p:spPr>
                <a:xfrm>
                  <a:off x="374760" y="3562560"/>
                  <a:ext cx="1728000" cy="819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graphicFrame>
              <p:nvGraphicFramePr>
                <p:cNvPr id="806" name=""/>
                <p:cNvGraphicFramePr/>
                <p:nvPr/>
              </p:nvGraphicFramePr>
              <p:xfrm>
                <a:off x="446040" y="3647880"/>
                <a:ext cx="1572840" cy="637920"/>
              </p:xfrm>
              <a:graphic>
                <a:graphicData uri="http://schemas.openxmlformats.org/presentationml/2006/ole">
                  <p:oleObj progId="Excel.Sheet.12" r:id="rId7" spid="">
                    <p:embed/>
                    <p:pic>
                      <p:nvPicPr>
                        <p:cNvPr id="80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446040" y="3647880"/>
                          <a:ext cx="1572840" cy="637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808" name=""/>
              <p:cNvGrpSpPr/>
              <p:nvPr/>
            </p:nvGrpSpPr>
            <p:grpSpPr>
              <a:xfrm>
                <a:off x="264600" y="3409920"/>
                <a:ext cx="1728000" cy="819360"/>
                <a:chOff x="264600" y="3409920"/>
                <a:chExt cx="1728000" cy="81936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264600" y="3409920"/>
                  <a:ext cx="1728000" cy="819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Garamond"/>
                  </a:endParaRPr>
                </a:p>
              </p:txBody>
            </p:sp>
            <p:graphicFrame>
              <p:nvGraphicFramePr>
                <p:cNvPr id="810" name=""/>
                <p:cNvGraphicFramePr/>
                <p:nvPr/>
              </p:nvGraphicFramePr>
              <p:xfrm>
                <a:off x="335880" y="3495600"/>
                <a:ext cx="1572840" cy="638280"/>
              </p:xfrm>
              <a:graphic>
                <a:graphicData uri="http://schemas.openxmlformats.org/presentationml/2006/ole">
                  <p:oleObj progId="Excel.Sheet.12" r:id="rId9" spid="">
                    <p:embed/>
                    <p:pic>
                      <p:nvPicPr>
                        <p:cNvPr id="811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35880" y="3495600"/>
                          <a:ext cx="1572840" cy="6382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grpSp>
          <p:nvGrpSpPr>
            <p:cNvPr id="812" name=""/>
            <p:cNvGrpSpPr/>
            <p:nvPr/>
          </p:nvGrpSpPr>
          <p:grpSpPr>
            <a:xfrm>
              <a:off x="491040" y="4600440"/>
              <a:ext cx="1363320" cy="1238040"/>
              <a:chOff x="491040" y="4600440"/>
              <a:chExt cx="1363320" cy="1238040"/>
            </a:xfrm>
          </p:grpSpPr>
          <p:sp>
            <p:nvSpPr>
              <p:cNvPr id="813" name=""/>
              <p:cNvSpPr/>
              <p:nvPr/>
            </p:nvSpPr>
            <p:spPr>
              <a:xfrm>
                <a:off x="664200" y="4774320"/>
                <a:ext cx="260640" cy="372960"/>
              </a:xfrm>
              <a:custGeom>
                <a:avLst/>
                <a:gdLst/>
                <a:ahLst/>
                <a:rect l="l" t="t" r="r" b="b"/>
                <a:pathLst>
                  <a:path w="2201" h="3517">
                    <a:moveTo>
                      <a:pt x="23" y="3517"/>
                    </a:moveTo>
                    <a:lnTo>
                      <a:pt x="0" y="0"/>
                    </a:lnTo>
                    <a:lnTo>
                      <a:pt x="9" y="75"/>
                    </a:lnTo>
                    <a:lnTo>
                      <a:pt x="46" y="140"/>
                    </a:lnTo>
                    <a:lnTo>
                      <a:pt x="89" y="198"/>
                    </a:lnTo>
                    <a:lnTo>
                      <a:pt x="166" y="268"/>
                    </a:lnTo>
                    <a:lnTo>
                      <a:pt x="252" y="320"/>
                    </a:lnTo>
                    <a:lnTo>
                      <a:pt x="357" y="366"/>
                    </a:lnTo>
                    <a:lnTo>
                      <a:pt x="477" y="406"/>
                    </a:lnTo>
                    <a:lnTo>
                      <a:pt x="615" y="447"/>
                    </a:lnTo>
                    <a:lnTo>
                      <a:pt x="754" y="470"/>
                    </a:lnTo>
                    <a:lnTo>
                      <a:pt x="910" y="488"/>
                    </a:lnTo>
                    <a:lnTo>
                      <a:pt x="1068" y="492"/>
                    </a:lnTo>
                    <a:lnTo>
                      <a:pt x="1227" y="488"/>
                    </a:lnTo>
                    <a:lnTo>
                      <a:pt x="1375" y="477"/>
                    </a:lnTo>
                    <a:lnTo>
                      <a:pt x="1520" y="454"/>
                    </a:lnTo>
                    <a:lnTo>
                      <a:pt x="1663" y="431"/>
                    </a:lnTo>
                    <a:lnTo>
                      <a:pt x="1787" y="382"/>
                    </a:lnTo>
                    <a:lnTo>
                      <a:pt x="1901" y="343"/>
                    </a:lnTo>
                    <a:lnTo>
                      <a:pt x="1998" y="295"/>
                    </a:lnTo>
                    <a:lnTo>
                      <a:pt x="2086" y="232"/>
                    </a:lnTo>
                    <a:lnTo>
                      <a:pt x="2144" y="171"/>
                    </a:lnTo>
                    <a:lnTo>
                      <a:pt x="2178" y="106"/>
                    </a:lnTo>
                    <a:lnTo>
                      <a:pt x="2201" y="34"/>
                    </a:lnTo>
                    <a:lnTo>
                      <a:pt x="2201" y="0"/>
                    </a:lnTo>
                    <a:lnTo>
                      <a:pt x="2201" y="3517"/>
                    </a:lnTo>
                    <a:lnTo>
                      <a:pt x="23" y="35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963360" y="4630680"/>
                <a:ext cx="260640" cy="375120"/>
              </a:xfrm>
              <a:custGeom>
                <a:avLst/>
                <a:gdLst/>
                <a:ahLst/>
                <a:rect l="l" t="t" r="r" b="b"/>
                <a:pathLst>
                  <a:path w="2200" h="3524">
                    <a:moveTo>
                      <a:pt x="23" y="3524"/>
                    </a:moveTo>
                    <a:lnTo>
                      <a:pt x="0" y="0"/>
                    </a:lnTo>
                    <a:lnTo>
                      <a:pt x="11" y="75"/>
                    </a:lnTo>
                    <a:lnTo>
                      <a:pt x="45" y="143"/>
                    </a:lnTo>
                    <a:lnTo>
                      <a:pt x="89" y="201"/>
                    </a:lnTo>
                    <a:lnTo>
                      <a:pt x="162" y="271"/>
                    </a:lnTo>
                    <a:lnTo>
                      <a:pt x="250" y="322"/>
                    </a:lnTo>
                    <a:lnTo>
                      <a:pt x="356" y="377"/>
                    </a:lnTo>
                    <a:lnTo>
                      <a:pt x="479" y="417"/>
                    </a:lnTo>
                    <a:lnTo>
                      <a:pt x="618" y="454"/>
                    </a:lnTo>
                    <a:lnTo>
                      <a:pt x="753" y="478"/>
                    </a:lnTo>
                    <a:lnTo>
                      <a:pt x="909" y="495"/>
                    </a:lnTo>
                    <a:lnTo>
                      <a:pt x="1066" y="497"/>
                    </a:lnTo>
                    <a:lnTo>
                      <a:pt x="1225" y="495"/>
                    </a:lnTo>
                    <a:lnTo>
                      <a:pt x="1370" y="485"/>
                    </a:lnTo>
                    <a:lnTo>
                      <a:pt x="1519" y="465"/>
                    </a:lnTo>
                    <a:lnTo>
                      <a:pt x="1660" y="435"/>
                    </a:lnTo>
                    <a:lnTo>
                      <a:pt x="1789" y="390"/>
                    </a:lnTo>
                    <a:lnTo>
                      <a:pt x="1900" y="350"/>
                    </a:lnTo>
                    <a:lnTo>
                      <a:pt x="2000" y="298"/>
                    </a:lnTo>
                    <a:lnTo>
                      <a:pt x="2085" y="234"/>
                    </a:lnTo>
                    <a:lnTo>
                      <a:pt x="2143" y="174"/>
                    </a:lnTo>
                    <a:lnTo>
                      <a:pt x="2177" y="109"/>
                    </a:lnTo>
                    <a:lnTo>
                      <a:pt x="2200" y="38"/>
                    </a:lnTo>
                    <a:lnTo>
                      <a:pt x="2200" y="0"/>
                    </a:lnTo>
                    <a:lnTo>
                      <a:pt x="2200" y="3524"/>
                    </a:lnTo>
                    <a:lnTo>
                      <a:pt x="23" y="352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262160" y="4701960"/>
                <a:ext cx="260640" cy="374760"/>
              </a:xfrm>
              <a:custGeom>
                <a:avLst/>
                <a:gdLst/>
                <a:ahLst/>
                <a:rect l="l" t="t" r="r" b="b"/>
                <a:pathLst>
                  <a:path w="2197" h="3514">
                    <a:moveTo>
                      <a:pt x="24" y="3514"/>
                    </a:moveTo>
                    <a:lnTo>
                      <a:pt x="0" y="0"/>
                    </a:lnTo>
                    <a:lnTo>
                      <a:pt x="11" y="74"/>
                    </a:lnTo>
                    <a:lnTo>
                      <a:pt x="45" y="134"/>
                    </a:lnTo>
                    <a:lnTo>
                      <a:pt x="89" y="195"/>
                    </a:lnTo>
                    <a:lnTo>
                      <a:pt x="166" y="263"/>
                    </a:lnTo>
                    <a:lnTo>
                      <a:pt x="254" y="321"/>
                    </a:lnTo>
                    <a:lnTo>
                      <a:pt x="356" y="368"/>
                    </a:lnTo>
                    <a:lnTo>
                      <a:pt x="476" y="410"/>
                    </a:lnTo>
                    <a:lnTo>
                      <a:pt x="619" y="449"/>
                    </a:lnTo>
                    <a:lnTo>
                      <a:pt x="757" y="472"/>
                    </a:lnTo>
                    <a:lnTo>
                      <a:pt x="911" y="490"/>
                    </a:lnTo>
                    <a:lnTo>
                      <a:pt x="1068" y="490"/>
                    </a:lnTo>
                    <a:lnTo>
                      <a:pt x="1225" y="490"/>
                    </a:lnTo>
                    <a:lnTo>
                      <a:pt x="1370" y="479"/>
                    </a:lnTo>
                    <a:lnTo>
                      <a:pt x="1521" y="456"/>
                    </a:lnTo>
                    <a:lnTo>
                      <a:pt x="1658" y="426"/>
                    </a:lnTo>
                    <a:lnTo>
                      <a:pt x="1793" y="381"/>
                    </a:lnTo>
                    <a:lnTo>
                      <a:pt x="1904" y="340"/>
                    </a:lnTo>
                    <a:lnTo>
                      <a:pt x="2004" y="290"/>
                    </a:lnTo>
                    <a:lnTo>
                      <a:pt x="2082" y="226"/>
                    </a:lnTo>
                    <a:lnTo>
                      <a:pt x="2143" y="165"/>
                    </a:lnTo>
                    <a:lnTo>
                      <a:pt x="2177" y="100"/>
                    </a:lnTo>
                    <a:lnTo>
                      <a:pt x="2197" y="32"/>
                    </a:lnTo>
                    <a:lnTo>
                      <a:pt x="2197" y="0"/>
                    </a:lnTo>
                    <a:lnTo>
                      <a:pt x="2197" y="3514"/>
                    </a:lnTo>
                    <a:lnTo>
                      <a:pt x="24" y="3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572480" y="4786200"/>
                <a:ext cx="260640" cy="372600"/>
              </a:xfrm>
              <a:custGeom>
                <a:avLst/>
                <a:gdLst/>
                <a:ahLst/>
                <a:rect l="l" t="t" r="r" b="b"/>
                <a:pathLst>
                  <a:path w="2199" h="3514">
                    <a:moveTo>
                      <a:pt x="27" y="3514"/>
                    </a:moveTo>
                    <a:lnTo>
                      <a:pt x="0" y="0"/>
                    </a:lnTo>
                    <a:lnTo>
                      <a:pt x="15" y="73"/>
                    </a:lnTo>
                    <a:lnTo>
                      <a:pt x="51" y="142"/>
                    </a:lnTo>
                    <a:lnTo>
                      <a:pt x="92" y="195"/>
                    </a:lnTo>
                    <a:lnTo>
                      <a:pt x="169" y="263"/>
                    </a:lnTo>
                    <a:lnTo>
                      <a:pt x="257" y="321"/>
                    </a:lnTo>
                    <a:lnTo>
                      <a:pt x="357" y="367"/>
                    </a:lnTo>
                    <a:lnTo>
                      <a:pt x="483" y="410"/>
                    </a:lnTo>
                    <a:lnTo>
                      <a:pt x="621" y="445"/>
                    </a:lnTo>
                    <a:lnTo>
                      <a:pt x="759" y="470"/>
                    </a:lnTo>
                    <a:lnTo>
                      <a:pt x="913" y="487"/>
                    </a:lnTo>
                    <a:lnTo>
                      <a:pt x="1070" y="494"/>
                    </a:lnTo>
                    <a:lnTo>
                      <a:pt x="1228" y="487"/>
                    </a:lnTo>
                    <a:lnTo>
                      <a:pt x="1377" y="476"/>
                    </a:lnTo>
                    <a:lnTo>
                      <a:pt x="1528" y="456"/>
                    </a:lnTo>
                    <a:lnTo>
                      <a:pt x="1662" y="426"/>
                    </a:lnTo>
                    <a:lnTo>
                      <a:pt x="1788" y="382"/>
                    </a:lnTo>
                    <a:lnTo>
                      <a:pt x="1903" y="340"/>
                    </a:lnTo>
                    <a:lnTo>
                      <a:pt x="2000" y="287"/>
                    </a:lnTo>
                    <a:lnTo>
                      <a:pt x="2088" y="233"/>
                    </a:lnTo>
                    <a:lnTo>
                      <a:pt x="2145" y="168"/>
                    </a:lnTo>
                    <a:lnTo>
                      <a:pt x="2180" y="104"/>
                    </a:lnTo>
                    <a:lnTo>
                      <a:pt x="2199" y="34"/>
                    </a:lnTo>
                    <a:lnTo>
                      <a:pt x="2199" y="0"/>
                    </a:lnTo>
                    <a:lnTo>
                      <a:pt x="2199" y="3514"/>
                    </a:lnTo>
                    <a:lnTo>
                      <a:pt x="27" y="351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91040" y="4755240"/>
                <a:ext cx="455400" cy="1081080"/>
              </a:xfrm>
              <a:custGeom>
                <a:avLst/>
                <a:gdLst/>
                <a:ahLst/>
                <a:rect l="l" t="t" r="r" b="b"/>
                <a:pathLst>
                  <a:path w="3831" h="10170">
                    <a:moveTo>
                      <a:pt x="0" y="6000"/>
                    </a:moveTo>
                    <a:lnTo>
                      <a:pt x="1309" y="0"/>
                    </a:lnTo>
                    <a:lnTo>
                      <a:pt x="1490" y="0"/>
                    </a:lnTo>
                    <a:lnTo>
                      <a:pt x="1481" y="3143"/>
                    </a:lnTo>
                    <a:lnTo>
                      <a:pt x="1481" y="3215"/>
                    </a:lnTo>
                    <a:lnTo>
                      <a:pt x="1513" y="3282"/>
                    </a:lnTo>
                    <a:lnTo>
                      <a:pt x="1562" y="3353"/>
                    </a:lnTo>
                    <a:lnTo>
                      <a:pt x="1636" y="3411"/>
                    </a:lnTo>
                    <a:lnTo>
                      <a:pt x="1731" y="3461"/>
                    </a:lnTo>
                    <a:lnTo>
                      <a:pt x="1821" y="3515"/>
                    </a:lnTo>
                    <a:lnTo>
                      <a:pt x="1946" y="3552"/>
                    </a:lnTo>
                    <a:lnTo>
                      <a:pt x="2082" y="3594"/>
                    </a:lnTo>
                    <a:lnTo>
                      <a:pt x="2223" y="3618"/>
                    </a:lnTo>
                    <a:lnTo>
                      <a:pt x="2368" y="3634"/>
                    </a:lnTo>
                    <a:lnTo>
                      <a:pt x="2519" y="3641"/>
                    </a:lnTo>
                    <a:lnTo>
                      <a:pt x="2681" y="3641"/>
                    </a:lnTo>
                    <a:lnTo>
                      <a:pt x="2819" y="3625"/>
                    </a:lnTo>
                    <a:lnTo>
                      <a:pt x="2964" y="3603"/>
                    </a:lnTo>
                    <a:lnTo>
                      <a:pt x="3107" y="3575"/>
                    </a:lnTo>
                    <a:lnTo>
                      <a:pt x="3225" y="3540"/>
                    </a:lnTo>
                    <a:lnTo>
                      <a:pt x="3340" y="3488"/>
                    </a:lnTo>
                    <a:lnTo>
                      <a:pt x="3447" y="3434"/>
                    </a:lnTo>
                    <a:lnTo>
                      <a:pt x="3521" y="3377"/>
                    </a:lnTo>
                    <a:lnTo>
                      <a:pt x="3579" y="3312"/>
                    </a:lnTo>
                    <a:lnTo>
                      <a:pt x="3618" y="3246"/>
                    </a:lnTo>
                    <a:lnTo>
                      <a:pt x="3633" y="3174"/>
                    </a:lnTo>
                    <a:lnTo>
                      <a:pt x="3643" y="3143"/>
                    </a:lnTo>
                    <a:lnTo>
                      <a:pt x="3643" y="0"/>
                    </a:lnTo>
                    <a:lnTo>
                      <a:pt x="3831" y="0"/>
                    </a:lnTo>
                    <a:lnTo>
                      <a:pt x="3831" y="3793"/>
                    </a:lnTo>
                    <a:lnTo>
                      <a:pt x="2556" y="9655"/>
                    </a:lnTo>
                    <a:lnTo>
                      <a:pt x="2499" y="9746"/>
                    </a:lnTo>
                    <a:lnTo>
                      <a:pt x="2445" y="9821"/>
                    </a:lnTo>
                    <a:lnTo>
                      <a:pt x="2368" y="9891"/>
                    </a:lnTo>
                    <a:lnTo>
                      <a:pt x="2280" y="9952"/>
                    </a:lnTo>
                    <a:lnTo>
                      <a:pt x="2159" y="10006"/>
                    </a:lnTo>
                    <a:lnTo>
                      <a:pt x="2034" y="10058"/>
                    </a:lnTo>
                    <a:lnTo>
                      <a:pt x="1896" y="10098"/>
                    </a:lnTo>
                    <a:lnTo>
                      <a:pt x="1744" y="10129"/>
                    </a:lnTo>
                    <a:lnTo>
                      <a:pt x="1590" y="10156"/>
                    </a:lnTo>
                    <a:lnTo>
                      <a:pt x="1424" y="10166"/>
                    </a:lnTo>
                    <a:lnTo>
                      <a:pt x="1259" y="10170"/>
                    </a:lnTo>
                    <a:lnTo>
                      <a:pt x="1091" y="10166"/>
                    </a:lnTo>
                    <a:lnTo>
                      <a:pt x="925" y="10147"/>
                    </a:lnTo>
                    <a:lnTo>
                      <a:pt x="769" y="10123"/>
                    </a:lnTo>
                    <a:lnTo>
                      <a:pt x="618" y="10088"/>
                    </a:lnTo>
                    <a:lnTo>
                      <a:pt x="483" y="10054"/>
                    </a:lnTo>
                    <a:lnTo>
                      <a:pt x="358" y="9997"/>
                    </a:lnTo>
                    <a:lnTo>
                      <a:pt x="250" y="9943"/>
                    </a:lnTo>
                    <a:lnTo>
                      <a:pt x="159" y="9875"/>
                    </a:lnTo>
                    <a:lnTo>
                      <a:pt x="84" y="9811"/>
                    </a:lnTo>
                    <a:lnTo>
                      <a:pt x="38" y="9737"/>
                    </a:lnTo>
                    <a:lnTo>
                      <a:pt x="4" y="9703"/>
                    </a:lnTo>
                    <a:lnTo>
                      <a:pt x="0" y="600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946440" y="4600440"/>
                <a:ext cx="907920" cy="1238040"/>
              </a:xfrm>
              <a:custGeom>
                <a:avLst/>
                <a:gdLst/>
                <a:ahLst/>
                <a:rect l="l" t="t" r="r" b="b"/>
                <a:pathLst>
                  <a:path w="7652" h="11636">
                    <a:moveTo>
                      <a:pt x="7473" y="4604"/>
                    </a:moveTo>
                    <a:lnTo>
                      <a:pt x="7473" y="4617"/>
                    </a:lnTo>
                    <a:lnTo>
                      <a:pt x="7457" y="4692"/>
                    </a:lnTo>
                    <a:lnTo>
                      <a:pt x="7415" y="4758"/>
                    </a:lnTo>
                    <a:lnTo>
                      <a:pt x="7351" y="4823"/>
                    </a:lnTo>
                    <a:lnTo>
                      <a:pt x="7285" y="4884"/>
                    </a:lnTo>
                    <a:lnTo>
                      <a:pt x="7185" y="4944"/>
                    </a:lnTo>
                    <a:lnTo>
                      <a:pt x="7072" y="4995"/>
                    </a:lnTo>
                    <a:lnTo>
                      <a:pt x="6943" y="5026"/>
                    </a:lnTo>
                    <a:lnTo>
                      <a:pt x="6812" y="5067"/>
                    </a:lnTo>
                    <a:lnTo>
                      <a:pt x="6670" y="5087"/>
                    </a:lnTo>
                    <a:lnTo>
                      <a:pt x="6516" y="5101"/>
                    </a:lnTo>
                    <a:lnTo>
                      <a:pt x="6356" y="5101"/>
                    </a:lnTo>
                    <a:lnTo>
                      <a:pt x="6201" y="5098"/>
                    </a:lnTo>
                    <a:lnTo>
                      <a:pt x="6052" y="5080"/>
                    </a:lnTo>
                    <a:lnTo>
                      <a:pt x="5905" y="5053"/>
                    </a:lnTo>
                    <a:lnTo>
                      <a:pt x="5776" y="5021"/>
                    </a:lnTo>
                    <a:lnTo>
                      <a:pt x="5655" y="4971"/>
                    </a:lnTo>
                    <a:lnTo>
                      <a:pt x="5548" y="4932"/>
                    </a:lnTo>
                    <a:lnTo>
                      <a:pt x="5453" y="4864"/>
                    </a:lnTo>
                    <a:lnTo>
                      <a:pt x="5388" y="4806"/>
                    </a:lnTo>
                    <a:lnTo>
                      <a:pt x="5335" y="4742"/>
                    </a:lnTo>
                    <a:lnTo>
                      <a:pt x="5304" y="4670"/>
                    </a:lnTo>
                    <a:lnTo>
                      <a:pt x="5295" y="4604"/>
                    </a:lnTo>
                    <a:lnTo>
                      <a:pt x="5277" y="4447"/>
                    </a:lnTo>
                    <a:lnTo>
                      <a:pt x="5277" y="1446"/>
                    </a:lnTo>
                    <a:lnTo>
                      <a:pt x="5099" y="1446"/>
                    </a:lnTo>
                    <a:lnTo>
                      <a:pt x="5099" y="749"/>
                    </a:lnTo>
                    <a:lnTo>
                      <a:pt x="4913" y="749"/>
                    </a:lnTo>
                    <a:lnTo>
                      <a:pt x="4913" y="3792"/>
                    </a:lnTo>
                    <a:lnTo>
                      <a:pt x="4911" y="3882"/>
                    </a:lnTo>
                    <a:lnTo>
                      <a:pt x="4911" y="3912"/>
                    </a:lnTo>
                    <a:lnTo>
                      <a:pt x="4889" y="3980"/>
                    </a:lnTo>
                    <a:lnTo>
                      <a:pt x="4854" y="4045"/>
                    </a:lnTo>
                    <a:lnTo>
                      <a:pt x="4796" y="4109"/>
                    </a:lnTo>
                    <a:lnTo>
                      <a:pt x="4719" y="4172"/>
                    </a:lnTo>
                    <a:lnTo>
                      <a:pt x="4612" y="4221"/>
                    </a:lnTo>
                    <a:lnTo>
                      <a:pt x="4505" y="4268"/>
                    </a:lnTo>
                    <a:lnTo>
                      <a:pt x="4371" y="4309"/>
                    </a:lnTo>
                    <a:lnTo>
                      <a:pt x="4236" y="4332"/>
                    </a:lnTo>
                    <a:lnTo>
                      <a:pt x="4083" y="4359"/>
                    </a:lnTo>
                    <a:lnTo>
                      <a:pt x="3925" y="4370"/>
                    </a:lnTo>
                    <a:lnTo>
                      <a:pt x="3780" y="4370"/>
                    </a:lnTo>
                    <a:lnTo>
                      <a:pt x="3621" y="4367"/>
                    </a:lnTo>
                    <a:lnTo>
                      <a:pt x="3471" y="4352"/>
                    </a:lnTo>
                    <a:lnTo>
                      <a:pt x="3333" y="4318"/>
                    </a:lnTo>
                    <a:lnTo>
                      <a:pt x="3190" y="4291"/>
                    </a:lnTo>
                    <a:lnTo>
                      <a:pt x="3065" y="4252"/>
                    </a:lnTo>
                    <a:lnTo>
                      <a:pt x="2965" y="4195"/>
                    </a:lnTo>
                    <a:lnTo>
                      <a:pt x="2880" y="4142"/>
                    </a:lnTo>
                    <a:lnTo>
                      <a:pt x="2803" y="4082"/>
                    </a:lnTo>
                    <a:lnTo>
                      <a:pt x="2750" y="4018"/>
                    </a:lnTo>
                    <a:lnTo>
                      <a:pt x="2722" y="3946"/>
                    </a:lnTo>
                    <a:lnTo>
                      <a:pt x="2715" y="3882"/>
                    </a:lnTo>
                    <a:lnTo>
                      <a:pt x="2732" y="3792"/>
                    </a:lnTo>
                    <a:lnTo>
                      <a:pt x="2732" y="749"/>
                    </a:lnTo>
                    <a:lnTo>
                      <a:pt x="2553" y="749"/>
                    </a:lnTo>
                    <a:lnTo>
                      <a:pt x="2553" y="0"/>
                    </a:lnTo>
                    <a:lnTo>
                      <a:pt x="2363" y="0"/>
                    </a:lnTo>
                    <a:lnTo>
                      <a:pt x="2363" y="3043"/>
                    </a:lnTo>
                    <a:lnTo>
                      <a:pt x="2367" y="3161"/>
                    </a:lnTo>
                    <a:lnTo>
                      <a:pt x="2363" y="3192"/>
                    </a:lnTo>
                    <a:lnTo>
                      <a:pt x="2344" y="3265"/>
                    </a:lnTo>
                    <a:lnTo>
                      <a:pt x="2310" y="3330"/>
                    </a:lnTo>
                    <a:lnTo>
                      <a:pt x="2251" y="3392"/>
                    </a:lnTo>
                    <a:lnTo>
                      <a:pt x="2169" y="3453"/>
                    </a:lnTo>
                    <a:lnTo>
                      <a:pt x="2067" y="3506"/>
                    </a:lnTo>
                    <a:lnTo>
                      <a:pt x="1956" y="3544"/>
                    </a:lnTo>
                    <a:lnTo>
                      <a:pt x="1825" y="3591"/>
                    </a:lnTo>
                    <a:lnTo>
                      <a:pt x="1690" y="3621"/>
                    </a:lnTo>
                    <a:lnTo>
                      <a:pt x="1537" y="3639"/>
                    </a:lnTo>
                    <a:lnTo>
                      <a:pt x="1390" y="3651"/>
                    </a:lnTo>
                    <a:lnTo>
                      <a:pt x="1230" y="3655"/>
                    </a:lnTo>
                    <a:lnTo>
                      <a:pt x="1076" y="3651"/>
                    </a:lnTo>
                    <a:lnTo>
                      <a:pt x="927" y="3635"/>
                    </a:lnTo>
                    <a:lnTo>
                      <a:pt x="784" y="3612"/>
                    </a:lnTo>
                    <a:lnTo>
                      <a:pt x="650" y="3571"/>
                    </a:lnTo>
                    <a:lnTo>
                      <a:pt x="526" y="3530"/>
                    </a:lnTo>
                    <a:lnTo>
                      <a:pt x="415" y="3483"/>
                    </a:lnTo>
                    <a:lnTo>
                      <a:pt x="328" y="3429"/>
                    </a:lnTo>
                    <a:lnTo>
                      <a:pt x="251" y="3353"/>
                    </a:lnTo>
                    <a:lnTo>
                      <a:pt x="205" y="3299"/>
                    </a:lnTo>
                    <a:lnTo>
                      <a:pt x="174" y="3233"/>
                    </a:lnTo>
                    <a:lnTo>
                      <a:pt x="173" y="3161"/>
                    </a:lnTo>
                    <a:lnTo>
                      <a:pt x="173" y="27"/>
                    </a:lnTo>
                    <a:lnTo>
                      <a:pt x="0" y="27"/>
                    </a:lnTo>
                    <a:lnTo>
                      <a:pt x="0" y="11053"/>
                    </a:lnTo>
                    <a:lnTo>
                      <a:pt x="0" y="11125"/>
                    </a:lnTo>
                    <a:lnTo>
                      <a:pt x="35" y="11199"/>
                    </a:lnTo>
                    <a:lnTo>
                      <a:pt x="81" y="11271"/>
                    </a:lnTo>
                    <a:lnTo>
                      <a:pt x="151" y="11341"/>
                    </a:lnTo>
                    <a:lnTo>
                      <a:pt x="243" y="11402"/>
                    </a:lnTo>
                    <a:lnTo>
                      <a:pt x="354" y="11459"/>
                    </a:lnTo>
                    <a:lnTo>
                      <a:pt x="480" y="11513"/>
                    </a:lnTo>
                    <a:lnTo>
                      <a:pt x="614" y="11559"/>
                    </a:lnTo>
                    <a:lnTo>
                      <a:pt x="766" y="11585"/>
                    </a:lnTo>
                    <a:lnTo>
                      <a:pt x="923" y="11612"/>
                    </a:lnTo>
                    <a:lnTo>
                      <a:pt x="1086" y="11632"/>
                    </a:lnTo>
                    <a:lnTo>
                      <a:pt x="1258" y="11636"/>
                    </a:lnTo>
                    <a:lnTo>
                      <a:pt x="1421" y="11632"/>
                    </a:lnTo>
                    <a:lnTo>
                      <a:pt x="1582" y="11616"/>
                    </a:lnTo>
                    <a:lnTo>
                      <a:pt x="1748" y="11593"/>
                    </a:lnTo>
                    <a:lnTo>
                      <a:pt x="1893" y="11562"/>
                    </a:lnTo>
                    <a:lnTo>
                      <a:pt x="2036" y="11524"/>
                    </a:lnTo>
                    <a:lnTo>
                      <a:pt x="2162" y="11473"/>
                    </a:lnTo>
                    <a:lnTo>
                      <a:pt x="2277" y="11423"/>
                    </a:lnTo>
                    <a:lnTo>
                      <a:pt x="2367" y="11348"/>
                    </a:lnTo>
                    <a:lnTo>
                      <a:pt x="2442" y="11283"/>
                    </a:lnTo>
                    <a:lnTo>
                      <a:pt x="2492" y="11210"/>
                    </a:lnTo>
                    <a:lnTo>
                      <a:pt x="2577" y="11199"/>
                    </a:lnTo>
                    <a:lnTo>
                      <a:pt x="2630" y="11271"/>
                    </a:lnTo>
                    <a:lnTo>
                      <a:pt x="2700" y="11341"/>
                    </a:lnTo>
                    <a:lnTo>
                      <a:pt x="2793" y="11402"/>
                    </a:lnTo>
                    <a:lnTo>
                      <a:pt x="2900" y="11459"/>
                    </a:lnTo>
                    <a:lnTo>
                      <a:pt x="3026" y="11513"/>
                    </a:lnTo>
                    <a:lnTo>
                      <a:pt x="3167" y="11559"/>
                    </a:lnTo>
                    <a:lnTo>
                      <a:pt x="3311" y="11585"/>
                    </a:lnTo>
                    <a:lnTo>
                      <a:pt x="3471" y="11612"/>
                    </a:lnTo>
                    <a:lnTo>
                      <a:pt x="3629" y="11632"/>
                    </a:lnTo>
                    <a:lnTo>
                      <a:pt x="3794" y="11636"/>
                    </a:lnTo>
                    <a:lnTo>
                      <a:pt x="3966" y="11632"/>
                    </a:lnTo>
                    <a:lnTo>
                      <a:pt x="4128" y="11616"/>
                    </a:lnTo>
                    <a:lnTo>
                      <a:pt x="4290" y="11593"/>
                    </a:lnTo>
                    <a:lnTo>
                      <a:pt x="4439" y="11562"/>
                    </a:lnTo>
                    <a:lnTo>
                      <a:pt x="4580" y="11524"/>
                    </a:lnTo>
                    <a:lnTo>
                      <a:pt x="4700" y="11473"/>
                    </a:lnTo>
                    <a:lnTo>
                      <a:pt x="4819" y="11423"/>
                    </a:lnTo>
                    <a:lnTo>
                      <a:pt x="4911" y="11348"/>
                    </a:lnTo>
                    <a:lnTo>
                      <a:pt x="4991" y="11283"/>
                    </a:lnTo>
                    <a:lnTo>
                      <a:pt x="5042" y="11210"/>
                    </a:lnTo>
                    <a:lnTo>
                      <a:pt x="5122" y="11199"/>
                    </a:lnTo>
                    <a:lnTo>
                      <a:pt x="5176" y="11271"/>
                    </a:lnTo>
                    <a:lnTo>
                      <a:pt x="5238" y="11341"/>
                    </a:lnTo>
                    <a:lnTo>
                      <a:pt x="5335" y="11402"/>
                    </a:lnTo>
                    <a:lnTo>
                      <a:pt x="5446" y="11459"/>
                    </a:lnTo>
                    <a:lnTo>
                      <a:pt x="5575" y="11513"/>
                    </a:lnTo>
                    <a:lnTo>
                      <a:pt x="5714" y="11559"/>
                    </a:lnTo>
                    <a:lnTo>
                      <a:pt x="5854" y="11585"/>
                    </a:lnTo>
                    <a:lnTo>
                      <a:pt x="6013" y="11612"/>
                    </a:lnTo>
                    <a:lnTo>
                      <a:pt x="6171" y="11632"/>
                    </a:lnTo>
                    <a:lnTo>
                      <a:pt x="6347" y="11636"/>
                    </a:lnTo>
                    <a:lnTo>
                      <a:pt x="6516" y="11632"/>
                    </a:lnTo>
                    <a:lnTo>
                      <a:pt x="6680" y="11616"/>
                    </a:lnTo>
                    <a:lnTo>
                      <a:pt x="6839" y="11593"/>
                    </a:lnTo>
                    <a:lnTo>
                      <a:pt x="6993" y="11562"/>
                    </a:lnTo>
                    <a:lnTo>
                      <a:pt x="7128" y="11524"/>
                    </a:lnTo>
                    <a:lnTo>
                      <a:pt x="7250" y="11473"/>
                    </a:lnTo>
                    <a:lnTo>
                      <a:pt x="7365" y="11423"/>
                    </a:lnTo>
                    <a:lnTo>
                      <a:pt x="7457" y="11348"/>
                    </a:lnTo>
                    <a:lnTo>
                      <a:pt x="7530" y="11283"/>
                    </a:lnTo>
                    <a:lnTo>
                      <a:pt x="7587" y="11210"/>
                    </a:lnTo>
                    <a:lnTo>
                      <a:pt x="7621" y="11138"/>
                    </a:lnTo>
                    <a:lnTo>
                      <a:pt x="7634" y="11067"/>
                    </a:lnTo>
                    <a:lnTo>
                      <a:pt x="7634" y="11053"/>
                    </a:lnTo>
                    <a:lnTo>
                      <a:pt x="7652" y="10915"/>
                    </a:lnTo>
                    <a:lnTo>
                      <a:pt x="7652" y="1446"/>
                    </a:lnTo>
                    <a:lnTo>
                      <a:pt x="7473" y="1446"/>
                    </a:lnTo>
                    <a:lnTo>
                      <a:pt x="7473" y="4447"/>
                    </a:lnTo>
                    <a:lnTo>
                      <a:pt x="7473" y="4604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>
              <a:off x="-16920" y="5808600"/>
              <a:ext cx="2687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Laporan Evaluasi 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Diri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4876920" y="152280"/>
            <a:ext cx="4190760" cy="1752840"/>
            <a:chOff x="4876920" y="152280"/>
            <a:chExt cx="4190760" cy="1752840"/>
          </a:xfrm>
        </p:grpSpPr>
        <p:sp>
          <p:nvSpPr>
            <p:cNvPr id="821" name=""/>
            <p:cNvSpPr/>
            <p:nvPr/>
          </p:nvSpPr>
          <p:spPr>
            <a:xfrm>
              <a:off x="4876920" y="152280"/>
              <a:ext cx="4190760" cy="1752840"/>
            </a:xfrm>
            <a:prstGeom prst="rect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de9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52880" y="202320"/>
              <a:ext cx="4038120" cy="165240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gram 1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Aktivita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gram 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50000"/>
                <a:buFont typeface="Monotype Sort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Aktivita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Program n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SzPct val="70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Aktivita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638680" y="1980720"/>
            <a:ext cx="990720" cy="762120"/>
            <a:chOff x="5638680" y="1980720"/>
            <a:chExt cx="990720" cy="762120"/>
          </a:xfrm>
        </p:grpSpPr>
        <p:sp>
          <p:nvSpPr>
            <p:cNvPr id="824" name=""/>
            <p:cNvSpPr/>
            <p:nvPr/>
          </p:nvSpPr>
          <p:spPr>
            <a:xfrm flipV="1">
              <a:off x="5638680" y="2239200"/>
              <a:ext cx="574560" cy="50004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6332400" y="1980360"/>
              <a:ext cx="297000" cy="35748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5976720" y="1982160"/>
              <a:ext cx="354240" cy="22212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5638680" y="2063160"/>
              <a:ext cx="990720" cy="67932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efa9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828" name=""/>
          <p:cNvSpPr/>
          <p:nvPr/>
        </p:nvSpPr>
        <p:spPr>
          <a:xfrm>
            <a:off x="2791080" y="6019920"/>
            <a:ext cx="3809520" cy="459720"/>
          </a:xfrm>
          <a:prstGeom prst="rect">
            <a:avLst/>
          </a:prstGeom>
          <a:noFill/>
          <a:ln w="936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Benguiat Bk BT"/>
              </a:rPr>
              <a:t>Program Pengembanga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9" name=""/>
          <p:cNvSpPr/>
          <p:nvPr/>
        </p:nvSpPr>
        <p:spPr>
          <a:xfrm>
            <a:off x="7924680" y="3505320"/>
            <a:ext cx="114300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D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0" name=""/>
          <p:cNvSpPr/>
          <p:nvPr/>
        </p:nvSpPr>
        <p:spPr>
          <a:xfrm>
            <a:off x="6934320" y="3200400"/>
            <a:ext cx="838080" cy="1676520"/>
          </a:xfrm>
          <a:prstGeom prst="rect">
            <a:avLst/>
          </a:prstGeom>
          <a:solidFill>
            <a:srgbClr val="a8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Date Placeholder 4"/>
          <p:cNvSpPr/>
          <p:nvPr/>
        </p:nvSpPr>
        <p:spPr>
          <a:xfrm>
            <a:off x="2819520" y="6488280"/>
            <a:ext cx="1295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FE7-16F1-4C89-8A1F-51817ADC8CB9}" type="datetime">
              <a:rPr b="0" lang="en-US" sz="1200" spc="-1" strike="noStrike">
                <a:solidFill>
                  <a:srgbClr val="045c75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2" name="Footer Placeholder 5"/>
          <p:cNvSpPr/>
          <p:nvPr/>
        </p:nvSpPr>
        <p:spPr>
          <a:xfrm>
            <a:off x="4267080" y="6488280"/>
            <a:ext cx="2895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Garamond"/>
              </a:rPr>
              <a:t>PHK Institusi TA-2008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3" name="Slide Number Placeholder 6"/>
          <p:cNvSpPr/>
          <p:nvPr/>
        </p:nvSpPr>
        <p:spPr>
          <a:xfrm>
            <a:off x="7315200" y="6488280"/>
            <a:ext cx="1295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E5F8-998A-4242-BA9A-A5BB257DD3D7}" type="slidenum">
              <a:rPr b="0" lang="en-US" sz="1200" spc="-1" strike="noStrike">
                <a:solidFill>
                  <a:srgbClr val="045c75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4" name="Rectangle 104"/>
          <p:cNvSpPr/>
          <p:nvPr/>
        </p:nvSpPr>
        <p:spPr>
          <a:xfrm>
            <a:off x="2281320" y="1376280"/>
            <a:ext cx="3477960" cy="2225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5" name="Freeform 146"/>
          <p:cNvSpPr/>
          <p:nvPr/>
        </p:nvSpPr>
        <p:spPr>
          <a:xfrm>
            <a:off x="1590840" y="1542960"/>
            <a:ext cx="4697280" cy="1089000"/>
          </a:xfrm>
          <a:prstGeom prst="pie">
            <a:avLst/>
          </a:prstGeom>
          <a:solidFill>
            <a:srgbClr val="21979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2590560" y="90360"/>
            <a:ext cx="6019560" cy="1190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incian Aktivit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3736440"/>
            <a:ext cx="8153280" cy="24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Latar belakang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Rasional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Tuju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Mekanisme dan Rancang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Indikator kinerja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id-ID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Sumberdaya dan dana yang dibutuhk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jadwal Pelaksana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Keberlanjutan</a:t>
            </a:r>
            <a:r>
              <a:rPr b="0" lang="id-ID" sz="20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i="1" lang="id-ID" sz="2000" spc="-1" strike="noStrike">
                <a:solidFill>
                  <a:srgbClr val="000000"/>
                </a:solidFill>
                <a:latin typeface="Constantia"/>
              </a:rPr>
              <a:t>Penanggungjawab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onstantia"/>
              </a:rPr>
              <a:t>Catatan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: SP </a:t>
            </a:r>
            <a:r>
              <a:rPr b="0" lang="id-ID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sub-proses, sub-kegiatan; </a:t>
            </a:r>
            <a:r>
              <a:rPr b="0" lang="id-ID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 sub-proses terpilih; </a:t>
            </a:r>
            <a:r>
              <a:rPr b="0" lang="id-ID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sumberdaya dan dana yang dibutuhkan harus sesuai dengan </a:t>
            </a:r>
            <a:r>
              <a:rPr b="0" i="1" lang="id-ID" sz="1800" spc="-1" strike="noStrike">
                <a:solidFill>
                  <a:srgbClr val="000000"/>
                </a:solidFill>
                <a:latin typeface="Constantia"/>
              </a:rPr>
              <a:t>komponen proyek yang diijinkan</a:t>
            </a:r>
            <a:r>
              <a:rPr b="0" lang="id-ID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8" name="Oval 103"/>
          <p:cNvSpPr/>
          <p:nvPr/>
        </p:nvSpPr>
        <p:spPr>
          <a:xfrm>
            <a:off x="453960" y="2112840"/>
            <a:ext cx="1567080" cy="752760"/>
          </a:xfrm>
          <a:prstGeom prst="ellipse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Input</a:t>
            </a: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/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9" name="AutoShape 105"/>
          <p:cNvSpPr/>
          <p:nvPr/>
        </p:nvSpPr>
        <p:spPr>
          <a:xfrm>
            <a:off x="5946840" y="2330280"/>
            <a:ext cx="852480" cy="319320"/>
          </a:xfrm>
          <a:prstGeom prst="flowChartAlternateProcess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0" name="Oval 106"/>
          <p:cNvSpPr/>
          <p:nvPr/>
        </p:nvSpPr>
        <p:spPr>
          <a:xfrm>
            <a:off x="7134120" y="2268360"/>
            <a:ext cx="1422360" cy="441360"/>
          </a:xfrm>
          <a:prstGeom prst="ellipse">
            <a:avLst/>
          </a:prstGeom>
          <a:solidFill>
            <a:srgbClr val="e2d7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Garamond"/>
              </a:rPr>
              <a:t>Outcome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271" name="AutoShape 107"/>
          <p:cNvCxnSpPr>
            <a:stCxn id="1268" idx="6"/>
            <a:endCxn id="1264" idx="1"/>
          </p:cNvCxnSpPr>
          <p:nvPr/>
        </p:nvCxnSpPr>
        <p:spPr>
          <a:xfrm>
            <a:off x="2020680" y="2488680"/>
            <a:ext cx="261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2" name="AutoShape 108"/>
          <p:cNvCxnSpPr>
            <a:stCxn id="1273" idx="6"/>
            <a:endCxn id="1269" idx="1"/>
          </p:cNvCxnSpPr>
          <p:nvPr/>
        </p:nvCxnSpPr>
        <p:spPr>
          <a:xfrm>
            <a:off x="5555880" y="2488680"/>
            <a:ext cx="391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4" name="AutoShape 109"/>
          <p:cNvCxnSpPr>
            <a:stCxn id="1269" idx="3"/>
            <a:endCxn id="1270" idx="2"/>
          </p:cNvCxnSpPr>
          <p:nvPr/>
        </p:nvCxnSpPr>
        <p:spPr>
          <a:xfrm flipV="1">
            <a:off x="6799320" y="2488320"/>
            <a:ext cx="335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5" name="Text Box 110"/>
          <p:cNvSpPr/>
          <p:nvPr/>
        </p:nvSpPr>
        <p:spPr>
          <a:xfrm>
            <a:off x="603360" y="1765440"/>
            <a:ext cx="41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Œ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6" name="Text Box 111"/>
          <p:cNvSpPr/>
          <p:nvPr/>
        </p:nvSpPr>
        <p:spPr>
          <a:xfrm>
            <a:off x="2100240" y="1044720"/>
            <a:ext cx="41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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7" name="Text Box 112"/>
          <p:cNvSpPr/>
          <p:nvPr/>
        </p:nvSpPr>
        <p:spPr>
          <a:xfrm>
            <a:off x="6535800" y="1862280"/>
            <a:ext cx="419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Ž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8" name="Oval 113"/>
          <p:cNvSpPr/>
          <p:nvPr/>
        </p:nvSpPr>
        <p:spPr>
          <a:xfrm>
            <a:off x="2622600" y="1706400"/>
            <a:ext cx="434880" cy="435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9" name="Oval 114"/>
          <p:cNvSpPr/>
          <p:nvPr/>
        </p:nvSpPr>
        <p:spPr>
          <a:xfrm>
            <a:off x="2585880" y="2286000"/>
            <a:ext cx="43524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0" name="Oval 115"/>
          <p:cNvSpPr/>
          <p:nvPr/>
        </p:nvSpPr>
        <p:spPr>
          <a:xfrm>
            <a:off x="2579760" y="305280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1" name="Oval 116"/>
          <p:cNvSpPr/>
          <p:nvPr/>
        </p:nvSpPr>
        <p:spPr>
          <a:xfrm>
            <a:off x="3297240" y="230040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2" name="Oval 117"/>
          <p:cNvSpPr/>
          <p:nvPr/>
        </p:nvSpPr>
        <p:spPr>
          <a:xfrm>
            <a:off x="4151160" y="2314440"/>
            <a:ext cx="433440" cy="435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3" name="Oval 118"/>
          <p:cNvSpPr/>
          <p:nvPr/>
        </p:nvSpPr>
        <p:spPr>
          <a:xfrm>
            <a:off x="4735440" y="1706400"/>
            <a:ext cx="434880" cy="435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3" name="Oval 119"/>
          <p:cNvSpPr/>
          <p:nvPr/>
        </p:nvSpPr>
        <p:spPr>
          <a:xfrm>
            <a:off x="5121360" y="2271600"/>
            <a:ext cx="434880" cy="433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4" name="Oval 120"/>
          <p:cNvSpPr/>
          <p:nvPr/>
        </p:nvSpPr>
        <p:spPr>
          <a:xfrm>
            <a:off x="3274920" y="1446120"/>
            <a:ext cx="433440" cy="435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5" name="Oval 121"/>
          <p:cNvSpPr/>
          <p:nvPr/>
        </p:nvSpPr>
        <p:spPr>
          <a:xfrm>
            <a:off x="3317760" y="303840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6" name="Oval 122"/>
          <p:cNvSpPr/>
          <p:nvPr/>
        </p:nvSpPr>
        <p:spPr>
          <a:xfrm>
            <a:off x="4027320" y="295128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7" name="Oval 123"/>
          <p:cNvSpPr/>
          <p:nvPr/>
        </p:nvSpPr>
        <p:spPr>
          <a:xfrm>
            <a:off x="4041720" y="1474920"/>
            <a:ext cx="4334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8" name="Oval 124"/>
          <p:cNvSpPr/>
          <p:nvPr/>
        </p:nvSpPr>
        <p:spPr>
          <a:xfrm>
            <a:off x="4778280" y="2835360"/>
            <a:ext cx="435240" cy="434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Garamond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cxnSp>
        <p:nvCxnSpPr>
          <p:cNvPr id="1289" name="AutoShape 125"/>
          <p:cNvCxnSpPr>
            <a:stCxn id="1264" idx="1"/>
            <a:endCxn id="1278" idx="3"/>
          </p:cNvCxnSpPr>
          <p:nvPr/>
        </p:nvCxnSpPr>
        <p:spPr>
          <a:xfrm flipV="1">
            <a:off x="2280960" y="2077560"/>
            <a:ext cx="407160" cy="4118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0" name="AutoShape 126"/>
          <p:cNvCxnSpPr>
            <a:stCxn id="1264" idx="1"/>
            <a:endCxn id="1279" idx="2"/>
          </p:cNvCxnSpPr>
          <p:nvPr/>
        </p:nvCxnSpPr>
        <p:spPr>
          <a:xfrm>
            <a:off x="2281320" y="2489040"/>
            <a:ext cx="30528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1" name="AutoShape 127"/>
          <p:cNvCxnSpPr>
            <a:stCxn id="1264" idx="1"/>
            <a:endCxn id="1280" idx="1"/>
          </p:cNvCxnSpPr>
          <p:nvPr/>
        </p:nvCxnSpPr>
        <p:spPr>
          <a:xfrm>
            <a:off x="2280960" y="2489040"/>
            <a:ext cx="362520" cy="6278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2" name="AutoShape 128"/>
          <p:cNvCxnSpPr>
            <a:stCxn id="1279" idx="7"/>
            <a:endCxn id="1284" idx="3"/>
          </p:cNvCxnSpPr>
          <p:nvPr/>
        </p:nvCxnSpPr>
        <p:spPr>
          <a:xfrm flipV="1">
            <a:off x="2957040" y="1816920"/>
            <a:ext cx="381960" cy="5324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3" name="AutoShape 129"/>
          <p:cNvCxnSpPr>
            <a:stCxn id="1284" idx="6"/>
            <a:endCxn id="1287" idx="2"/>
          </p:cNvCxnSpPr>
          <p:nvPr/>
        </p:nvCxnSpPr>
        <p:spPr>
          <a:xfrm>
            <a:off x="3708360" y="1663560"/>
            <a:ext cx="334080" cy="295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4" name="AutoShape 130"/>
          <p:cNvCxnSpPr>
            <a:stCxn id="1280" idx="6"/>
            <a:endCxn id="1285" idx="2"/>
          </p:cNvCxnSpPr>
          <p:nvPr/>
        </p:nvCxnSpPr>
        <p:spPr>
          <a:xfrm flipV="1">
            <a:off x="3013200" y="3255480"/>
            <a:ext cx="305280" cy="15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5" name="AutoShape 131"/>
          <p:cNvCxnSpPr>
            <a:stCxn id="1279" idx="6"/>
            <a:endCxn id="1281" idx="2"/>
          </p:cNvCxnSpPr>
          <p:nvPr/>
        </p:nvCxnSpPr>
        <p:spPr>
          <a:xfrm>
            <a:off x="3020760" y="2503440"/>
            <a:ext cx="276840" cy="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6" name="AutoShape 132"/>
          <p:cNvCxnSpPr>
            <a:stCxn id="1278" idx="7"/>
            <a:endCxn id="1284" idx="2"/>
          </p:cNvCxnSpPr>
          <p:nvPr/>
        </p:nvCxnSpPr>
        <p:spPr>
          <a:xfrm flipV="1">
            <a:off x="2994120" y="1663200"/>
            <a:ext cx="281520" cy="107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7" name="AutoShape 133"/>
          <p:cNvCxnSpPr>
            <a:stCxn id="1279" idx="5"/>
            <a:endCxn id="1285" idx="1"/>
          </p:cNvCxnSpPr>
          <p:nvPr/>
        </p:nvCxnSpPr>
        <p:spPr>
          <a:xfrm>
            <a:off x="2957400" y="2655720"/>
            <a:ext cx="424800" cy="447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8" name="AutoShape 134"/>
          <p:cNvCxnSpPr>
            <a:stCxn id="1284" idx="5"/>
            <a:endCxn id="1282" idx="1"/>
          </p:cNvCxnSpPr>
          <p:nvPr/>
        </p:nvCxnSpPr>
        <p:spPr>
          <a:xfrm>
            <a:off x="3644640" y="1817280"/>
            <a:ext cx="570600" cy="5612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9" name="AutoShape 135"/>
          <p:cNvCxnSpPr>
            <a:stCxn id="1281" idx="5"/>
            <a:endCxn id="1286" idx="1"/>
          </p:cNvCxnSpPr>
          <p:nvPr/>
        </p:nvCxnSpPr>
        <p:spPr>
          <a:xfrm>
            <a:off x="3666960" y="2669760"/>
            <a:ext cx="424800" cy="3452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0" name="AutoShape 136"/>
          <p:cNvCxnSpPr>
            <a:stCxn id="1281" idx="6"/>
            <a:endCxn id="1282" idx="2"/>
          </p:cNvCxnSpPr>
          <p:nvPr/>
        </p:nvCxnSpPr>
        <p:spPr>
          <a:xfrm>
            <a:off x="3730680" y="2517840"/>
            <a:ext cx="421200" cy="15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1" name="AutoShape 137"/>
          <p:cNvCxnSpPr>
            <a:stCxn id="1285" idx="6"/>
            <a:endCxn id="1286" idx="2"/>
          </p:cNvCxnSpPr>
          <p:nvPr/>
        </p:nvCxnSpPr>
        <p:spPr>
          <a:xfrm flipV="1">
            <a:off x="3750840" y="3168360"/>
            <a:ext cx="276840" cy="878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2" name="AutoShape 138"/>
          <p:cNvCxnSpPr>
            <a:stCxn id="1287" idx="6"/>
            <a:endCxn id="1283" idx="1"/>
          </p:cNvCxnSpPr>
          <p:nvPr/>
        </p:nvCxnSpPr>
        <p:spPr>
          <a:xfrm>
            <a:off x="4475160" y="1692360"/>
            <a:ext cx="32472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3" name="AutoShape 139"/>
          <p:cNvCxnSpPr>
            <a:stCxn id="1283" idx="5"/>
            <a:endCxn id="1273" idx="0"/>
          </p:cNvCxnSpPr>
          <p:nvPr/>
        </p:nvCxnSpPr>
        <p:spPr>
          <a:xfrm>
            <a:off x="5106960" y="2077920"/>
            <a:ext cx="2325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4" name="AutoShape 140"/>
          <p:cNvCxnSpPr>
            <a:stCxn id="1286" idx="6"/>
            <a:endCxn id="1288" idx="2"/>
          </p:cNvCxnSpPr>
          <p:nvPr/>
        </p:nvCxnSpPr>
        <p:spPr>
          <a:xfrm flipV="1">
            <a:off x="4460760" y="3052440"/>
            <a:ext cx="317880" cy="1166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5" name="AutoShape 141"/>
          <p:cNvCxnSpPr>
            <a:stCxn id="1288" idx="7"/>
            <a:endCxn id="1273" idx="4"/>
          </p:cNvCxnSpPr>
          <p:nvPr/>
        </p:nvCxnSpPr>
        <p:spPr>
          <a:xfrm flipV="1">
            <a:off x="5149440" y="2704320"/>
            <a:ext cx="189720" cy="1962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6" name="AutoShape 142"/>
          <p:cNvCxnSpPr>
            <a:stCxn id="1282" idx="6"/>
            <a:endCxn id="1273" idx="2"/>
          </p:cNvCxnSpPr>
          <p:nvPr/>
        </p:nvCxnSpPr>
        <p:spPr>
          <a:xfrm flipV="1">
            <a:off x="4584240" y="2488680"/>
            <a:ext cx="537480" cy="439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7" name="AutoShape 143"/>
          <p:cNvCxnSpPr>
            <a:stCxn id="1282" idx="7"/>
            <a:endCxn id="1283" idx="3"/>
          </p:cNvCxnSpPr>
          <p:nvPr/>
        </p:nvCxnSpPr>
        <p:spPr>
          <a:xfrm flipV="1">
            <a:off x="4521240" y="2077920"/>
            <a:ext cx="278280" cy="3006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8" name="AutoShape 144"/>
          <p:cNvCxnSpPr>
            <a:stCxn id="1282" idx="5"/>
            <a:endCxn id="1288" idx="1"/>
          </p:cNvCxnSpPr>
          <p:nvPr/>
        </p:nvCxnSpPr>
        <p:spPr>
          <a:xfrm>
            <a:off x="4520880" y="2685960"/>
            <a:ext cx="322920" cy="2152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9" name="AutoShape 145"/>
          <p:cNvCxnSpPr>
            <a:stCxn id="1281" idx="7"/>
            <a:endCxn id="1287" idx="3"/>
          </p:cNvCxnSpPr>
          <p:nvPr/>
        </p:nvCxnSpPr>
        <p:spPr>
          <a:xfrm flipV="1">
            <a:off x="3666960" y="1845720"/>
            <a:ext cx="439200" cy="51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5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5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6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500"/>
                            </p:stCondLst>
                            <p:childTnLst>
                              <p:par>
                                <p:cTn id="6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3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7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50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2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00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00"/>
                            </p:stCondLst>
                            <p:childTnLst>
                              <p:par>
                                <p:cTn id="7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"/>
                            </p:stCondLst>
                            <p:childTnLst>
                              <p:par>
                                <p:cTn id="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500"/>
                            </p:stCondLst>
                            <p:childTnLst>
                              <p:par>
                                <p:cTn id="7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30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5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40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500"/>
                            </p:stCondLst>
                            <p:childTnLst>
                              <p:par>
                                <p:cTn id="7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0"/>
                                        <p:tgtEl>
                                          <p:spTgt spid="1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1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Tema dalam PHK 2008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2" name="Date Placeholder 2"/>
          <p:cNvSpPr/>
          <p:nvPr/>
        </p:nvSpPr>
        <p:spPr>
          <a:xfrm>
            <a:off x="640080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4E3-464C-47D9-8D53-BAB99EFC8EAA}" type="datetime">
              <a:rPr b="0" lang="en-US" sz="1400" spc="-1" strike="noStrike">
                <a:solidFill>
                  <a:srgbClr val="464653"/>
                </a:solidFill>
                <a:latin typeface="Garamond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3" name="Footer Placeholder 3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464653"/>
                </a:solidFill>
                <a:latin typeface="Garamond"/>
              </a:rPr>
              <a:t>PHK Institusi TA-2008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4" name="Slide Number Placeholder 4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C134-09E7-40F1-A07E-3A1032313A62}" type="slidenum">
              <a:rPr b="0" lang="id-ID" sz="1400" spc="-1" strike="noStrike">
                <a:solidFill>
                  <a:srgbClr val="464653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Gill Sans MT"/>
              </a:rPr>
              <a:t>Tema A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: Peningkatan kapasitas institusional dan mutu manajemen perguruan tinggi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Gill Sans MT"/>
              </a:rPr>
              <a:t>Tema B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: Peningkatan mutu, relevansi dan efisiensi Program Studi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Gill Sans MT"/>
              </a:rPr>
              <a:t>Tema C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: Pengembangan program unggulan perguruan tinggi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agaimana menetapkan tema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7" name=""/>
          <p:cNvSpPr/>
          <p:nvPr/>
        </p:nvSpPr>
        <p:spPr>
          <a:xfrm>
            <a:off x="798480" y="215568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8" name=""/>
          <p:cNvSpPr/>
          <p:nvPr/>
        </p:nvSpPr>
        <p:spPr>
          <a:xfrm>
            <a:off x="1603440" y="260676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9" name=""/>
          <p:cNvSpPr/>
          <p:nvPr/>
        </p:nvSpPr>
        <p:spPr>
          <a:xfrm>
            <a:off x="1494000" y="2070000"/>
            <a:ext cx="60300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0" name=""/>
          <p:cNvSpPr/>
          <p:nvPr/>
        </p:nvSpPr>
        <p:spPr>
          <a:xfrm>
            <a:off x="1492200" y="351144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1" name=""/>
          <p:cNvSpPr/>
          <p:nvPr/>
        </p:nvSpPr>
        <p:spPr>
          <a:xfrm>
            <a:off x="838080" y="307800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2" name=""/>
          <p:cNvSpPr/>
          <p:nvPr/>
        </p:nvSpPr>
        <p:spPr>
          <a:xfrm>
            <a:off x="463680" y="2673360"/>
            <a:ext cx="60300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3" name=""/>
          <p:cNvSpPr/>
          <p:nvPr/>
        </p:nvSpPr>
        <p:spPr>
          <a:xfrm>
            <a:off x="1111320" y="2602080"/>
            <a:ext cx="603360" cy="6188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4" name=""/>
          <p:cNvSpPr/>
          <p:nvPr/>
        </p:nvSpPr>
        <p:spPr>
          <a:xfrm>
            <a:off x="2004840" y="2389320"/>
            <a:ext cx="603360" cy="6188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5" name=""/>
          <p:cNvSpPr/>
          <p:nvPr/>
        </p:nvSpPr>
        <p:spPr>
          <a:xfrm>
            <a:off x="396720" y="321300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6" name=""/>
          <p:cNvSpPr/>
          <p:nvPr/>
        </p:nvSpPr>
        <p:spPr>
          <a:xfrm>
            <a:off x="941400" y="368604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7" name=""/>
          <p:cNvSpPr/>
          <p:nvPr/>
        </p:nvSpPr>
        <p:spPr>
          <a:xfrm>
            <a:off x="1384200" y="299232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8" name=""/>
          <p:cNvSpPr/>
          <p:nvPr/>
        </p:nvSpPr>
        <p:spPr>
          <a:xfrm>
            <a:off x="1357200" y="410040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9" name=""/>
          <p:cNvSpPr/>
          <p:nvPr/>
        </p:nvSpPr>
        <p:spPr>
          <a:xfrm>
            <a:off x="365040" y="4527720"/>
            <a:ext cx="603360" cy="6188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0" name=""/>
          <p:cNvSpPr/>
          <p:nvPr/>
        </p:nvSpPr>
        <p:spPr>
          <a:xfrm>
            <a:off x="2496960" y="3400560"/>
            <a:ext cx="603360" cy="6188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1" name=""/>
          <p:cNvSpPr/>
          <p:nvPr/>
        </p:nvSpPr>
        <p:spPr>
          <a:xfrm>
            <a:off x="428760" y="3822840"/>
            <a:ext cx="603000" cy="6188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2" name=""/>
          <p:cNvSpPr/>
          <p:nvPr/>
        </p:nvSpPr>
        <p:spPr>
          <a:xfrm>
            <a:off x="1914480" y="319716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3" name=""/>
          <p:cNvSpPr/>
          <p:nvPr/>
        </p:nvSpPr>
        <p:spPr>
          <a:xfrm>
            <a:off x="1290600" y="461016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4" name=""/>
          <p:cNvSpPr/>
          <p:nvPr/>
        </p:nvSpPr>
        <p:spPr>
          <a:xfrm>
            <a:off x="2265480" y="2909880"/>
            <a:ext cx="60300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5" name=""/>
          <p:cNvSpPr/>
          <p:nvPr/>
        </p:nvSpPr>
        <p:spPr>
          <a:xfrm>
            <a:off x="1976400" y="373212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6" name=""/>
          <p:cNvSpPr/>
          <p:nvPr/>
        </p:nvSpPr>
        <p:spPr>
          <a:xfrm>
            <a:off x="1911240" y="424188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7" name=""/>
          <p:cNvSpPr/>
          <p:nvPr/>
        </p:nvSpPr>
        <p:spPr>
          <a:xfrm>
            <a:off x="860400" y="4826160"/>
            <a:ext cx="603360" cy="61884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8" name=""/>
          <p:cNvSpPr/>
          <p:nvPr/>
        </p:nvSpPr>
        <p:spPr>
          <a:xfrm>
            <a:off x="735120" y="4230720"/>
            <a:ext cx="60300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9" name=""/>
          <p:cNvSpPr/>
          <p:nvPr/>
        </p:nvSpPr>
        <p:spPr>
          <a:xfrm>
            <a:off x="559800" y="137160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kar masala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0" name=""/>
          <p:cNvSpPr/>
          <p:nvPr/>
        </p:nvSpPr>
        <p:spPr>
          <a:xfrm>
            <a:off x="4687920" y="187632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1" name=""/>
          <p:cNvSpPr/>
          <p:nvPr/>
        </p:nvSpPr>
        <p:spPr>
          <a:xfrm>
            <a:off x="5064120" y="253512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2" name=""/>
          <p:cNvSpPr/>
          <p:nvPr/>
        </p:nvSpPr>
        <p:spPr>
          <a:xfrm>
            <a:off x="4808520" y="214632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3" name=""/>
          <p:cNvSpPr/>
          <p:nvPr/>
        </p:nvSpPr>
        <p:spPr>
          <a:xfrm>
            <a:off x="5248440" y="1994040"/>
            <a:ext cx="603000" cy="61884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4" name=""/>
          <p:cNvSpPr/>
          <p:nvPr/>
        </p:nvSpPr>
        <p:spPr>
          <a:xfrm>
            <a:off x="4754520" y="2916360"/>
            <a:ext cx="603360" cy="61884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5" name=""/>
          <p:cNvSpPr/>
          <p:nvPr/>
        </p:nvSpPr>
        <p:spPr>
          <a:xfrm>
            <a:off x="4468680" y="2602080"/>
            <a:ext cx="603360" cy="61884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6" name=""/>
          <p:cNvSpPr/>
          <p:nvPr/>
        </p:nvSpPr>
        <p:spPr>
          <a:xfrm>
            <a:off x="5264280" y="5105520"/>
            <a:ext cx="603000" cy="6188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7" name=""/>
          <p:cNvSpPr/>
          <p:nvPr/>
        </p:nvSpPr>
        <p:spPr>
          <a:xfrm>
            <a:off x="5030640" y="558792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8" name=""/>
          <p:cNvSpPr/>
          <p:nvPr/>
        </p:nvSpPr>
        <p:spPr>
          <a:xfrm>
            <a:off x="3903840" y="4362480"/>
            <a:ext cx="60300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9" name=""/>
          <p:cNvSpPr/>
          <p:nvPr/>
        </p:nvSpPr>
        <p:spPr>
          <a:xfrm>
            <a:off x="4448160" y="4481640"/>
            <a:ext cx="603360" cy="6188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0" name=""/>
          <p:cNvSpPr/>
          <p:nvPr/>
        </p:nvSpPr>
        <p:spPr>
          <a:xfrm>
            <a:off x="5022720" y="5380200"/>
            <a:ext cx="603360" cy="61884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1" name=""/>
          <p:cNvSpPr/>
          <p:nvPr/>
        </p:nvSpPr>
        <p:spPr>
          <a:xfrm>
            <a:off x="5038560" y="462924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2" name=""/>
          <p:cNvSpPr/>
          <p:nvPr/>
        </p:nvSpPr>
        <p:spPr>
          <a:xfrm>
            <a:off x="4551480" y="4952880"/>
            <a:ext cx="60300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3" name=""/>
          <p:cNvSpPr/>
          <p:nvPr/>
        </p:nvSpPr>
        <p:spPr>
          <a:xfrm>
            <a:off x="3836880" y="547848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4" name=""/>
          <p:cNvSpPr/>
          <p:nvPr/>
        </p:nvSpPr>
        <p:spPr>
          <a:xfrm>
            <a:off x="4083120" y="492768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5" name=""/>
          <p:cNvSpPr/>
          <p:nvPr/>
        </p:nvSpPr>
        <p:spPr>
          <a:xfrm>
            <a:off x="4386240" y="549432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6" name=""/>
          <p:cNvSpPr/>
          <p:nvPr/>
        </p:nvSpPr>
        <p:spPr>
          <a:xfrm>
            <a:off x="3571920" y="4902120"/>
            <a:ext cx="603360" cy="619200"/>
          </a:xfrm>
          <a:prstGeom prst="ellipse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7" name=""/>
          <p:cNvSpPr/>
          <p:nvPr/>
        </p:nvSpPr>
        <p:spPr>
          <a:xfrm>
            <a:off x="4100400" y="258768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8" name=""/>
          <p:cNvSpPr/>
          <p:nvPr/>
        </p:nvSpPr>
        <p:spPr>
          <a:xfrm>
            <a:off x="5554800" y="2494080"/>
            <a:ext cx="603000" cy="61884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9" name=""/>
          <p:cNvSpPr/>
          <p:nvPr/>
        </p:nvSpPr>
        <p:spPr>
          <a:xfrm>
            <a:off x="5283360" y="3063960"/>
            <a:ext cx="60300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0" name=""/>
          <p:cNvSpPr/>
          <p:nvPr/>
        </p:nvSpPr>
        <p:spPr>
          <a:xfrm>
            <a:off x="3803760" y="2219400"/>
            <a:ext cx="60300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1" name=""/>
          <p:cNvSpPr/>
          <p:nvPr/>
        </p:nvSpPr>
        <p:spPr>
          <a:xfrm rot="18763200">
            <a:off x="4194000" y="2080800"/>
            <a:ext cx="603360" cy="619200"/>
          </a:xfrm>
          <a:prstGeom prst="ellipse">
            <a:avLst/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2" name=""/>
          <p:cNvSpPr/>
          <p:nvPr/>
        </p:nvSpPr>
        <p:spPr>
          <a:xfrm>
            <a:off x="2787840" y="6130800"/>
            <a:ext cx="4524120" cy="520560"/>
          </a:xfrm>
          <a:prstGeom prst="rect">
            <a:avLst/>
          </a:prstGeom>
          <a:noFill/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salah kinerja akademi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3" name=""/>
          <p:cNvSpPr/>
          <p:nvPr/>
        </p:nvSpPr>
        <p:spPr>
          <a:xfrm>
            <a:off x="3436920" y="3575160"/>
            <a:ext cx="3669120" cy="520560"/>
          </a:xfrm>
          <a:prstGeom prst="rect">
            <a:avLst/>
          </a:prstGeom>
          <a:noFill/>
          <a:ln w="936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salah manajeme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4" name=""/>
          <p:cNvSpPr/>
          <p:nvPr/>
        </p:nvSpPr>
        <p:spPr>
          <a:xfrm>
            <a:off x="6281640" y="2583000"/>
            <a:ext cx="649440" cy="604800"/>
          </a:xfrm>
          <a:prstGeom prst="rightArrow">
            <a:avLst>
              <a:gd name="adj1" fmla="val 50000"/>
              <a:gd name="adj2" fmla="val 26845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5" name=""/>
          <p:cNvSpPr/>
          <p:nvPr/>
        </p:nvSpPr>
        <p:spPr>
          <a:xfrm>
            <a:off x="6087960" y="4971960"/>
            <a:ext cx="649440" cy="604800"/>
          </a:xfrm>
          <a:prstGeom prst="rightArrow">
            <a:avLst>
              <a:gd name="adj1" fmla="val 50000"/>
              <a:gd name="adj2" fmla="val 26845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6" name=""/>
          <p:cNvSpPr/>
          <p:nvPr/>
        </p:nvSpPr>
        <p:spPr>
          <a:xfrm>
            <a:off x="7034040" y="2190600"/>
            <a:ext cx="208152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 Pengembanga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6709680" y="4481640"/>
            <a:ext cx="24652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ngembanga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8" name=""/>
          <p:cNvSpPr/>
          <p:nvPr/>
        </p:nvSpPr>
        <p:spPr>
          <a:xfrm>
            <a:off x="3171960" y="2744640"/>
            <a:ext cx="649080" cy="605160"/>
          </a:xfrm>
          <a:prstGeom prst="rightArrow">
            <a:avLst>
              <a:gd name="adj1" fmla="val 50000"/>
              <a:gd name="adj2" fmla="val 26814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9" name=""/>
          <p:cNvSpPr/>
          <p:nvPr/>
        </p:nvSpPr>
        <p:spPr>
          <a:xfrm>
            <a:off x="2673360" y="4788000"/>
            <a:ext cx="649440" cy="604800"/>
          </a:xfrm>
          <a:prstGeom prst="rightArrow">
            <a:avLst>
              <a:gd name="adj1" fmla="val 50000"/>
              <a:gd name="adj2" fmla="val 26845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0" name=""/>
          <p:cNvSpPr/>
          <p:nvPr/>
        </p:nvSpPr>
        <p:spPr>
          <a:xfrm>
            <a:off x="7005600" y="3067200"/>
            <a:ext cx="2119320" cy="398880"/>
          </a:xfrm>
          <a:prstGeom prst="rect">
            <a:avLst/>
          </a:prstGeom>
          <a:solidFill>
            <a:srgbClr val="727ca3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ema A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1" name=""/>
          <p:cNvSpPr/>
          <p:nvPr/>
        </p:nvSpPr>
        <p:spPr>
          <a:xfrm>
            <a:off x="6918480" y="5330880"/>
            <a:ext cx="2000160" cy="459720"/>
          </a:xfrm>
          <a:prstGeom prst="rect">
            <a:avLst/>
          </a:prstGeom>
          <a:solidFill>
            <a:srgbClr val="660033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MT"/>
              </a:rPr>
              <a:t>Tema 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Bagaimana menetapkan tema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93" name=""/>
          <p:cNvSpPr/>
          <p:nvPr/>
        </p:nvSpPr>
        <p:spPr>
          <a:xfrm>
            <a:off x="447840" y="1249200"/>
            <a:ext cx="3117600" cy="39333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ademic Excellence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ck record penelitia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ck record kerjasama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ll performed PS atau unit pendukung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4" name=""/>
          <p:cNvSpPr/>
          <p:nvPr/>
        </p:nvSpPr>
        <p:spPr>
          <a:xfrm>
            <a:off x="3878280" y="2405160"/>
            <a:ext cx="944640" cy="368280"/>
          </a:xfrm>
          <a:prstGeom prst="rightArrow">
            <a:avLst>
              <a:gd name="adj1" fmla="val 50000"/>
              <a:gd name="adj2" fmla="val 64125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5" name=""/>
          <p:cNvSpPr/>
          <p:nvPr/>
        </p:nvSpPr>
        <p:spPr>
          <a:xfrm>
            <a:off x="5083200" y="2004840"/>
            <a:ext cx="3354480" cy="9471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oritas untuk mencapai vis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6" name=""/>
          <p:cNvSpPr/>
          <p:nvPr/>
        </p:nvSpPr>
        <p:spPr>
          <a:xfrm>
            <a:off x="6622920" y="3052800"/>
            <a:ext cx="382680" cy="679320"/>
          </a:xfrm>
          <a:prstGeom prst="downArrow">
            <a:avLst>
              <a:gd name="adj1" fmla="val 50000"/>
              <a:gd name="adj2" fmla="val 44379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7" name=""/>
          <p:cNvSpPr/>
          <p:nvPr/>
        </p:nvSpPr>
        <p:spPr>
          <a:xfrm>
            <a:off x="5018040" y="3778200"/>
            <a:ext cx="3457800" cy="137376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ogram Unggulan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it terkai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8" name=""/>
          <p:cNvSpPr/>
          <p:nvPr/>
        </p:nvSpPr>
        <p:spPr>
          <a:xfrm>
            <a:off x="6597720" y="4799160"/>
            <a:ext cx="426960" cy="618840"/>
          </a:xfrm>
          <a:prstGeom prst="downArrow">
            <a:avLst>
              <a:gd name="adj1" fmla="val 50000"/>
              <a:gd name="adj2" fmla="val 36235"/>
            </a:avLst>
          </a:prstGeom>
          <a:solidFill>
            <a:srgbClr val="727c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9" name=""/>
          <p:cNvSpPr/>
          <p:nvPr/>
        </p:nvSpPr>
        <p:spPr>
          <a:xfrm>
            <a:off x="5618160" y="5508720"/>
            <a:ext cx="2409840" cy="520560"/>
          </a:xfrm>
          <a:prstGeom prst="rect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Tema C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/>
          <p:nvPr/>
        </p:nvSpPr>
        <p:spPr>
          <a:xfrm>
            <a:off x="6253200" y="1039680"/>
            <a:ext cx="944640" cy="4853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4830840" y="3357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11120" y="25704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53"/>
                </a:solidFill>
                <a:latin typeface="Benguiat Bk BT"/>
              </a:rPr>
              <a:t>Penetapan tema, program dan unit terkait</a:t>
            </a:r>
            <a:br>
              <a:rPr sz="4000"/>
            </a:b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03" name=""/>
          <p:cNvSpPr/>
          <p:nvPr/>
        </p:nvSpPr>
        <p:spPr>
          <a:xfrm>
            <a:off x="2438280" y="1541520"/>
            <a:ext cx="1363680" cy="230040"/>
          </a:xfrm>
          <a:custGeom>
            <a:avLst/>
            <a:gdLst/>
            <a:ahLst/>
            <a:rect l="l" t="t" r="r" b="b"/>
            <a:pathLst>
              <a:path w="859" h="145">
                <a:moveTo>
                  <a:pt x="0" y="145"/>
                </a:moveTo>
                <a:lnTo>
                  <a:pt x="386" y="143"/>
                </a:lnTo>
                <a:lnTo>
                  <a:pt x="386" y="0"/>
                </a:lnTo>
                <a:lnTo>
                  <a:pt x="859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4" name=""/>
          <p:cNvSpPr/>
          <p:nvPr/>
        </p:nvSpPr>
        <p:spPr>
          <a:xfrm>
            <a:off x="2438280" y="1768320"/>
            <a:ext cx="1346400" cy="312840"/>
          </a:xfrm>
          <a:custGeom>
            <a:avLst/>
            <a:gdLst/>
            <a:ahLst/>
            <a:rect l="l" t="t" r="r" b="b"/>
            <a:pathLst>
              <a:path w="848" h="197">
                <a:moveTo>
                  <a:pt x="0" y="2"/>
                </a:moveTo>
                <a:lnTo>
                  <a:pt x="386" y="0"/>
                </a:lnTo>
                <a:lnTo>
                  <a:pt x="386" y="197"/>
                </a:lnTo>
                <a:lnTo>
                  <a:pt x="848" y="19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5" name=""/>
          <p:cNvSpPr/>
          <p:nvPr/>
        </p:nvSpPr>
        <p:spPr>
          <a:xfrm>
            <a:off x="2438280" y="276228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288"/>
                </a:moveTo>
                <a:lnTo>
                  <a:pt x="386" y="287"/>
                </a:lnTo>
                <a:lnTo>
                  <a:pt x="386" y="1"/>
                </a:lnTo>
                <a:lnTo>
                  <a:pt x="8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6" name=""/>
          <p:cNvSpPr/>
          <p:nvPr/>
        </p:nvSpPr>
        <p:spPr>
          <a:xfrm>
            <a:off x="2438280" y="3218040"/>
            <a:ext cx="1371600" cy="77760"/>
          </a:xfrm>
          <a:custGeom>
            <a:avLst/>
            <a:gdLst/>
            <a:ahLst/>
            <a:rect l="l" t="t" r="r" b="b"/>
            <a:pathLst>
              <a:path w="864" h="49">
                <a:moveTo>
                  <a:pt x="0" y="1"/>
                </a:moveTo>
                <a:lnTo>
                  <a:pt x="386" y="0"/>
                </a:lnTo>
                <a:lnTo>
                  <a:pt x="386" y="48"/>
                </a:lnTo>
                <a:lnTo>
                  <a:pt x="864" y="4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7" name=""/>
          <p:cNvSpPr/>
          <p:nvPr/>
        </p:nvSpPr>
        <p:spPr>
          <a:xfrm>
            <a:off x="2438280" y="3218040"/>
            <a:ext cx="1371600" cy="610920"/>
          </a:xfrm>
          <a:custGeom>
            <a:avLst/>
            <a:gdLst/>
            <a:ahLst/>
            <a:rect l="l" t="t" r="r" b="b"/>
            <a:pathLst>
              <a:path w="864" h="385">
                <a:moveTo>
                  <a:pt x="0" y="1"/>
                </a:moveTo>
                <a:lnTo>
                  <a:pt x="386" y="0"/>
                </a:lnTo>
                <a:lnTo>
                  <a:pt x="386" y="383"/>
                </a:lnTo>
                <a:lnTo>
                  <a:pt x="864" y="3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8" name=""/>
          <p:cNvSpPr/>
          <p:nvPr/>
        </p:nvSpPr>
        <p:spPr>
          <a:xfrm>
            <a:off x="2438280" y="4438800"/>
            <a:ext cx="1371600" cy="53316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0" y="336"/>
                </a:moveTo>
                <a:lnTo>
                  <a:pt x="386" y="336"/>
                </a:lnTo>
                <a:lnTo>
                  <a:pt x="386" y="1"/>
                </a:lnTo>
                <a:lnTo>
                  <a:pt x="86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9" name=""/>
          <p:cNvSpPr/>
          <p:nvPr/>
        </p:nvSpPr>
        <p:spPr>
          <a:xfrm>
            <a:off x="2438280" y="497196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0" name=""/>
          <p:cNvSpPr/>
          <p:nvPr/>
        </p:nvSpPr>
        <p:spPr>
          <a:xfrm>
            <a:off x="2438280" y="4971960"/>
            <a:ext cx="1371600" cy="533520"/>
          </a:xfrm>
          <a:custGeom>
            <a:avLst/>
            <a:gdLst/>
            <a:ahLst/>
            <a:rect l="l" t="t" r="r" b="b"/>
            <a:pathLst>
              <a:path w="864" h="336">
                <a:moveTo>
                  <a:pt x="0" y="0"/>
                </a:moveTo>
                <a:lnTo>
                  <a:pt x="386" y="0"/>
                </a:lnTo>
                <a:lnTo>
                  <a:pt x="386" y="334"/>
                </a:lnTo>
                <a:lnTo>
                  <a:pt x="864" y="33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143000" y="1308240"/>
            <a:ext cx="1513800" cy="831240"/>
            <a:chOff x="1143000" y="1308240"/>
            <a:chExt cx="1513800" cy="831240"/>
          </a:xfrm>
        </p:grpSpPr>
        <p:sp>
          <p:nvSpPr>
            <p:cNvPr id="912" name=""/>
            <p:cNvSpPr/>
            <p:nvPr/>
          </p:nvSpPr>
          <p:spPr>
            <a:xfrm>
              <a:off x="1143000" y="1308240"/>
              <a:ext cx="1447560" cy="831240"/>
            </a:xfrm>
            <a:prstGeom prst="rect">
              <a:avLst/>
            </a:prstGeom>
            <a:solidFill>
              <a:srgbClr val="6b56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202040" y="1334160"/>
              <a:ext cx="145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salah 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najemen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509760" y="4514760"/>
            <a:ext cx="2395080" cy="937440"/>
            <a:chOff x="509760" y="4514760"/>
            <a:chExt cx="2395080" cy="937440"/>
          </a:xfrm>
        </p:grpSpPr>
        <p:sp>
          <p:nvSpPr>
            <p:cNvPr id="915" name=""/>
            <p:cNvSpPr/>
            <p:nvPr/>
          </p:nvSpPr>
          <p:spPr>
            <a:xfrm>
              <a:off x="509760" y="4514760"/>
              <a:ext cx="1967760" cy="9374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91840" y="4544280"/>
              <a:ext cx="231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ademic Excellence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888840" y="2722680"/>
            <a:ext cx="2091960" cy="1064520"/>
            <a:chOff x="888840" y="2722680"/>
            <a:chExt cx="2091960" cy="1064520"/>
          </a:xfrm>
        </p:grpSpPr>
        <p:sp>
          <p:nvSpPr>
            <p:cNvPr id="918" name=""/>
            <p:cNvSpPr/>
            <p:nvPr/>
          </p:nvSpPr>
          <p:spPr>
            <a:xfrm>
              <a:off x="888840" y="2722680"/>
              <a:ext cx="1536120" cy="1064520"/>
            </a:xfrm>
            <a:prstGeom prst="rect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952920" y="2755080"/>
              <a:ext cx="20278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salah 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kinerja 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kademik</a:t>
              </a:r>
              <a:endParaRPr b="0" lang="en-US" sz="20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3760920" y="1314360"/>
            <a:ext cx="1572480" cy="457200"/>
            <a:chOff x="3760920" y="1314360"/>
            <a:chExt cx="1572480" cy="457200"/>
          </a:xfrm>
        </p:grpSpPr>
        <p:sp>
          <p:nvSpPr>
            <p:cNvPr id="921" name=""/>
            <p:cNvSpPr/>
            <p:nvPr/>
          </p:nvSpPr>
          <p:spPr>
            <a:xfrm>
              <a:off x="3760920" y="1314360"/>
              <a:ext cx="1269000" cy="457200"/>
            </a:xfrm>
            <a:prstGeom prst="rect">
              <a:avLst/>
            </a:prstGeom>
            <a:solidFill>
              <a:srgbClr val="6b56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32560" y="1376280"/>
              <a:ext cx="150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 A1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3657600" y="2533680"/>
            <a:ext cx="1604520" cy="457200"/>
            <a:chOff x="3657600" y="2533680"/>
            <a:chExt cx="1604520" cy="457200"/>
          </a:xfrm>
        </p:grpSpPr>
        <p:sp>
          <p:nvSpPr>
            <p:cNvPr id="924" name=""/>
            <p:cNvSpPr/>
            <p:nvPr/>
          </p:nvSpPr>
          <p:spPr>
            <a:xfrm>
              <a:off x="3657600" y="2533680"/>
              <a:ext cx="1305360" cy="457200"/>
            </a:xfrm>
            <a:prstGeom prst="rect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731400" y="2595600"/>
              <a:ext cx="153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 B1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3657600" y="3067200"/>
            <a:ext cx="1321560" cy="457200"/>
            <a:chOff x="3657600" y="3067200"/>
            <a:chExt cx="1321560" cy="457200"/>
          </a:xfrm>
        </p:grpSpPr>
        <p:sp>
          <p:nvSpPr>
            <p:cNvPr id="927" name=""/>
            <p:cNvSpPr/>
            <p:nvPr/>
          </p:nvSpPr>
          <p:spPr>
            <a:xfrm>
              <a:off x="3657600" y="3067200"/>
              <a:ext cx="1278000" cy="457200"/>
            </a:xfrm>
            <a:prstGeom prst="rect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731760" y="3129120"/>
              <a:ext cx="124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 B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657600" y="4210200"/>
            <a:ext cx="1587240" cy="457200"/>
            <a:chOff x="3657600" y="4210200"/>
            <a:chExt cx="1587240" cy="457200"/>
          </a:xfrm>
        </p:grpSpPr>
        <p:sp>
          <p:nvSpPr>
            <p:cNvPr id="930" name=""/>
            <p:cNvSpPr/>
            <p:nvPr/>
          </p:nvSpPr>
          <p:spPr>
            <a:xfrm>
              <a:off x="3657600" y="4210200"/>
              <a:ext cx="128052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729960" y="4272120"/>
              <a:ext cx="151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 C1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3657600" y="5276880"/>
            <a:ext cx="1572480" cy="457200"/>
            <a:chOff x="3657600" y="5276880"/>
            <a:chExt cx="1572480" cy="457200"/>
          </a:xfrm>
        </p:grpSpPr>
        <p:sp>
          <p:nvSpPr>
            <p:cNvPr id="933" name=""/>
            <p:cNvSpPr/>
            <p:nvPr/>
          </p:nvSpPr>
          <p:spPr>
            <a:xfrm>
              <a:off x="3657600" y="5276880"/>
              <a:ext cx="126900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29240" y="5338800"/>
              <a:ext cx="150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 C3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657600" y="3600360"/>
            <a:ext cx="1559880" cy="457200"/>
            <a:chOff x="3657600" y="3600360"/>
            <a:chExt cx="1559880" cy="457200"/>
          </a:xfrm>
        </p:grpSpPr>
        <p:sp>
          <p:nvSpPr>
            <p:cNvPr id="936" name=""/>
            <p:cNvSpPr/>
            <p:nvPr/>
          </p:nvSpPr>
          <p:spPr>
            <a:xfrm>
              <a:off x="3657600" y="3600360"/>
              <a:ext cx="1269360" cy="457200"/>
            </a:xfrm>
            <a:prstGeom prst="rect">
              <a:avLst/>
            </a:prstGeom>
            <a:solidFill>
              <a:srgbClr val="b3ce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729240" y="3662280"/>
              <a:ext cx="148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 B3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7749000" y="1131840"/>
            <a:ext cx="1221480" cy="997920"/>
            <a:chOff x="7749000" y="1131840"/>
            <a:chExt cx="1221480" cy="997920"/>
          </a:xfrm>
        </p:grpSpPr>
        <p:pic>
          <p:nvPicPr>
            <p:cNvPr id="939" name="" descr=""/>
            <p:cNvPicPr/>
            <p:nvPr/>
          </p:nvPicPr>
          <p:blipFill>
            <a:blip r:embed="rId1"/>
            <a:stretch/>
          </p:blipFill>
          <p:spPr>
            <a:xfrm>
              <a:off x="8083440" y="1131840"/>
              <a:ext cx="551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749000" y="1670040"/>
              <a:ext cx="1221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ema A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7525800" y="2879640"/>
            <a:ext cx="1372320" cy="1008000"/>
            <a:chOff x="7525800" y="2879640"/>
            <a:chExt cx="1372320" cy="1008000"/>
          </a:xfrm>
        </p:grpSpPr>
        <p:pic>
          <p:nvPicPr>
            <p:cNvPr id="942" name="" descr=""/>
            <p:cNvPicPr/>
            <p:nvPr/>
          </p:nvPicPr>
          <p:blipFill>
            <a:blip r:embed="rId2"/>
            <a:stretch/>
          </p:blipFill>
          <p:spPr>
            <a:xfrm>
              <a:off x="7937280" y="2879640"/>
              <a:ext cx="550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525800" y="3367080"/>
              <a:ext cx="137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ma B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44" name=""/>
          <p:cNvGrpSpPr/>
          <p:nvPr/>
        </p:nvGrpSpPr>
        <p:grpSpPr>
          <a:xfrm>
            <a:off x="7605360" y="4673520"/>
            <a:ext cx="1392480" cy="1008000"/>
            <a:chOff x="7605360" y="4673520"/>
            <a:chExt cx="1392480" cy="1008000"/>
          </a:xfrm>
        </p:grpSpPr>
        <p:pic>
          <p:nvPicPr>
            <p:cNvPr id="945" name="" descr=""/>
            <p:cNvPicPr/>
            <p:nvPr/>
          </p:nvPicPr>
          <p:blipFill>
            <a:blip r:embed="rId3"/>
            <a:stretch/>
          </p:blipFill>
          <p:spPr>
            <a:xfrm>
              <a:off x="8026200" y="4673520"/>
              <a:ext cx="55116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7605360" y="5160960"/>
              <a:ext cx="139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ema C</a:t>
              </a:r>
              <a:endParaRPr b="0" lang="en-US" sz="2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47" name=""/>
          <p:cNvSpPr/>
          <p:nvPr/>
        </p:nvSpPr>
        <p:spPr>
          <a:xfrm>
            <a:off x="4757760" y="1619280"/>
            <a:ext cx="1447920" cy="457200"/>
          </a:xfrm>
          <a:custGeom>
            <a:avLst/>
            <a:gdLst/>
            <a:ahLst/>
            <a:rect l="l" t="t" r="r" b="b"/>
            <a:pathLst>
              <a:path w="754" h="355">
                <a:moveTo>
                  <a:pt x="754" y="20"/>
                </a:moveTo>
                <a:cubicBezTo>
                  <a:pt x="667" y="25"/>
                  <a:pt x="300" y="0"/>
                  <a:pt x="231" y="44"/>
                </a:cubicBezTo>
                <a:cubicBezTo>
                  <a:pt x="202" y="142"/>
                  <a:pt x="403" y="211"/>
                  <a:pt x="341" y="283"/>
                </a:cubicBezTo>
                <a:cubicBezTo>
                  <a:pt x="279" y="355"/>
                  <a:pt x="71" y="323"/>
                  <a:pt x="0" y="3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800600" y="4971960"/>
            <a:ext cx="1447920" cy="457200"/>
          </a:xfrm>
          <a:custGeom>
            <a:avLst/>
            <a:gdLst/>
            <a:ahLst/>
            <a:rect l="l" t="t" r="r" b="b"/>
            <a:pathLst>
              <a:path w="754" h="355">
                <a:moveTo>
                  <a:pt x="754" y="20"/>
                </a:moveTo>
                <a:cubicBezTo>
                  <a:pt x="667" y="25"/>
                  <a:pt x="300" y="0"/>
                  <a:pt x="231" y="44"/>
                </a:cubicBezTo>
                <a:cubicBezTo>
                  <a:pt x="202" y="142"/>
                  <a:pt x="403" y="211"/>
                  <a:pt x="341" y="283"/>
                </a:cubicBezTo>
                <a:cubicBezTo>
                  <a:pt x="279" y="355"/>
                  <a:pt x="71" y="323"/>
                  <a:pt x="0" y="33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3772080" y="1847880"/>
            <a:ext cx="1571040" cy="457200"/>
            <a:chOff x="3772080" y="1847880"/>
            <a:chExt cx="1571040" cy="457200"/>
          </a:xfrm>
        </p:grpSpPr>
        <p:sp>
          <p:nvSpPr>
            <p:cNvPr id="950" name=""/>
            <p:cNvSpPr/>
            <p:nvPr/>
          </p:nvSpPr>
          <p:spPr>
            <a:xfrm>
              <a:off x="3772080" y="1847880"/>
              <a:ext cx="1267560" cy="457200"/>
            </a:xfrm>
            <a:prstGeom prst="rect">
              <a:avLst/>
            </a:prstGeom>
            <a:solidFill>
              <a:srgbClr val="6b56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843720" y="1909800"/>
              <a:ext cx="149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 A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657600" y="4743360"/>
            <a:ext cx="1601280" cy="457200"/>
            <a:chOff x="3657600" y="4743360"/>
            <a:chExt cx="1601280" cy="457200"/>
          </a:xfrm>
        </p:grpSpPr>
        <p:sp>
          <p:nvSpPr>
            <p:cNvPr id="953" name=""/>
            <p:cNvSpPr/>
            <p:nvPr/>
          </p:nvSpPr>
          <p:spPr>
            <a:xfrm>
              <a:off x="3657600" y="4743360"/>
              <a:ext cx="1291680" cy="4572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30680" y="4805280"/>
              <a:ext cx="152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gram C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955" name=""/>
          <p:cNvSpPr/>
          <p:nvPr/>
        </p:nvSpPr>
        <p:spPr>
          <a:xfrm>
            <a:off x="6269040" y="1224000"/>
            <a:ext cx="929160" cy="1008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6" name=""/>
          <p:cNvSpPr/>
          <p:nvPr/>
        </p:nvSpPr>
        <p:spPr>
          <a:xfrm>
            <a:off x="6254640" y="2868480"/>
            <a:ext cx="929160" cy="10087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7" name=""/>
          <p:cNvSpPr/>
          <p:nvPr/>
        </p:nvSpPr>
        <p:spPr>
          <a:xfrm>
            <a:off x="6278400" y="4716360"/>
            <a:ext cx="929160" cy="1008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2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it 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7242120" y="1601640"/>
            <a:ext cx="449280" cy="3681720"/>
            <a:chOff x="7242120" y="1601640"/>
            <a:chExt cx="449280" cy="3681720"/>
          </a:xfrm>
        </p:grpSpPr>
        <p:sp>
          <p:nvSpPr>
            <p:cNvPr id="959" name=""/>
            <p:cNvSpPr/>
            <p:nvPr/>
          </p:nvSpPr>
          <p:spPr>
            <a:xfrm>
              <a:off x="7270920" y="1601640"/>
              <a:ext cx="412560" cy="236520"/>
            </a:xfrm>
            <a:prstGeom prst="rightArrow">
              <a:avLst>
                <a:gd name="adj1" fmla="val 50000"/>
                <a:gd name="adj2" fmla="val 4360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42120" y="3218040"/>
              <a:ext cx="412920" cy="236520"/>
            </a:xfrm>
            <a:prstGeom prst="rightArrow">
              <a:avLst>
                <a:gd name="adj1" fmla="val 50000"/>
                <a:gd name="adj2" fmla="val 43645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278840" y="5046840"/>
              <a:ext cx="412560" cy="236520"/>
            </a:xfrm>
            <a:prstGeom prst="rightArrow">
              <a:avLst>
                <a:gd name="adj1" fmla="val 50000"/>
                <a:gd name="adj2" fmla="val 43607"/>
              </a:avLst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1606680" y="5753160"/>
            <a:ext cx="7527600" cy="1322280"/>
            <a:chOff x="1606680" y="5753160"/>
            <a:chExt cx="7527600" cy="1322280"/>
          </a:xfrm>
        </p:grpSpPr>
        <p:sp>
          <p:nvSpPr>
            <p:cNvPr id="963" name=""/>
            <p:cNvSpPr/>
            <p:nvPr/>
          </p:nvSpPr>
          <p:spPr>
            <a:xfrm>
              <a:off x="1606680" y="6249960"/>
              <a:ext cx="7527600" cy="825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Ditetapkan berdasarkan ED dan prioritas untuk mencapai visi 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647040" y="5877000"/>
              <a:ext cx="446040" cy="323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66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81800" y="5753160"/>
              <a:ext cx="446040" cy="4269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66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1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1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800" y="2505240"/>
            <a:ext cx="7772400" cy="138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Pengembangan program dan aktivita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0:14:59Z</dcterms:created>
  <dc:creator>Komisi PHK DPT Dikti</dc:creator>
  <dc:description/>
  <dc:language>en-US</dc:language>
  <cp:lastModifiedBy>Personal</cp:lastModifiedBy>
  <dcterms:modified xsi:type="dcterms:W3CDTF">2007-11-14T22:27:47Z</dcterms:modified>
  <cp:revision>520</cp:revision>
  <dc:subject>Pelatihan Penyusunan Proposal</dc:subject>
  <dc:title>Program Hibah Kompetisi Institusi</dc:title>
</cp:coreProperties>
</file>