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A548-277A-471F-83C6-AA2D093B5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A9A6-46B5-4694-8125-2076B9B2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82E6-A202-4F01-91C2-C665D2A33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47F9-D954-41CA-B187-F7BED4BCB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2FAD-5CEB-46AA-8821-E15E51642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E9D6-037C-49A0-91D0-75459740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E2F9-A068-43C7-B333-39BF8F36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DFA3-C81C-45EA-998F-EFE1CF7C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3826-77CF-44DC-BB62-C19287ED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E08E-E235-4374-B6D8-996A24E8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1A6C-DFEF-4CCE-A25C-D50AAC6A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7910-4E67-49D2-93F4-C8CFF64B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FF7B-3F2C-451F-965B-C5AD6FCF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7E90-2DBF-412E-B171-BF1EFD53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82D8-613A-4615-A788-4EE93B20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DC96-C8EB-4837-B97A-0564C5C89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5948-E98B-47D8-860E-C30A7D3AE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9E345-6990-4655-810F-9CCBB27E0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5DF1F-6D16-4F5B-9E2A-F53CDAD0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E520E-25FC-4F79-839F-2500CDCE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8D488-6A7A-488C-B6D7-0672A58B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AB081-9129-4A94-A39A-2EF24550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65EA-3EAA-409E-860E-0108B3C4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0903F-060F-4C3F-ABA7-2332C68E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79B8C-72AE-4B49-A075-87D0B993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9EB17-60D2-4470-98C9-8FB42E9C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22F4D-FF50-4029-B4B7-F3E1A011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6033C-FE86-43C8-AB4F-78DE8EE6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40813-59E1-4F88-AADF-96002E089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9E1B5-CBA0-4BDD-9C38-76CC31ED4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CC40A-1E8A-4998-BB8A-0A2199B19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2BC33-444D-4F42-B175-89C5AE96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F3428-638C-4DA9-BEE6-A2855ECB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62F8-7223-4246-8E25-A1C6CCCB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15646-7735-40CD-96B5-5AFEA6F1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E997C-3FC4-4FA6-8FBB-5FFBEEEF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DFC0A-BFE9-4DFB-B510-4E382D2A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DCBA0-0A3D-46F8-A56F-92EB0A66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3901B-C6F2-4588-B0A3-4F80FCC8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B132B-DBE3-4D0B-A100-2D5B9AB0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73E3C-C369-4692-8FAE-B066428C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C5198-DAFA-448D-AAA7-A117ADB85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216D0-108F-4CC8-8BA7-F90FAF51E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255B-E726-457C-955C-BCBA6EA1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9694-763E-4A79-915E-7D845718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6818-5B63-4238-A464-70882CBE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215E-83FC-4AA2-8F2D-622D277F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EB66-94E4-4C9F-BD88-936B5B88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A697-7EEC-40FC-A891-34CB52FDC2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F855-FBF7-46B6-B89B-3F6989AB8A3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152280" y="55627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151920" y="58669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C782-51F0-4529-93FF-96E43EF3C886}" type="slidenum"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500120" y="170820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152280" y="5486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151920" y="5791320"/>
            <a:ext cx="26672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535C-7CF4-46D6-A27D-0F45F5B05E23}" type="slidenum"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Pengorganisasian dan Analisis Data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latihan Penulisan Proposal PHK-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karta 19 – 20 November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Data “time series”, misal IPK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04920" y="1828800"/>
          <a:ext cx="8686800" cy="4302000"/>
        </p:xfrm>
        <a:graphic>
          <a:graphicData uri="http://schemas.openxmlformats.org/drawingml/2006/table">
            <a:tbl>
              <a:tblPr/>
              <a:tblGrid>
                <a:gridCol w="1447920"/>
                <a:gridCol w="1447560"/>
                <a:gridCol w="1447920"/>
                <a:gridCol w="1447920"/>
                <a:gridCol w="1447560"/>
                <a:gridCol w="1447920"/>
              </a:tblGrid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E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k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p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s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04920" y="6264360"/>
          <a:ext cx="8610120" cy="365040"/>
        </p:xfrm>
        <a:graphic>
          <a:graphicData uri="http://schemas.openxmlformats.org/drawingml/2006/table">
            <a:tbl>
              <a:tblPr/>
              <a:tblGrid>
                <a:gridCol w="1434600"/>
                <a:gridCol w="1435320"/>
                <a:gridCol w="1434960"/>
                <a:gridCol w="1435320"/>
                <a:gridCol w="1434960"/>
                <a:gridCol w="143496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ta-r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Data “time series”, misal IPK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04920" y="1828800"/>
          <a:ext cx="8686800" cy="4302000"/>
        </p:xfrm>
        <a:graphic>
          <a:graphicData uri="http://schemas.openxmlformats.org/drawingml/2006/table">
            <a:tbl>
              <a:tblPr/>
              <a:tblGrid>
                <a:gridCol w="1447920"/>
                <a:gridCol w="1447560"/>
                <a:gridCol w="1447920"/>
                <a:gridCol w="1447920"/>
                <a:gridCol w="1447560"/>
                <a:gridCol w="1447920"/>
              </a:tblGrid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E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k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p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s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228600" y="6308640"/>
          <a:ext cx="8763120" cy="455760"/>
        </p:xfrm>
        <a:graphic>
          <a:graphicData uri="http://schemas.openxmlformats.org/drawingml/2006/table">
            <a:tbl>
              <a:tblPr/>
              <a:tblGrid>
                <a:gridCol w="1460520"/>
                <a:gridCol w="1460520"/>
                <a:gridCol w="1460520"/>
                <a:gridCol w="1460520"/>
                <a:gridCol w="1460520"/>
                <a:gridCol w="146052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g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30040" y="1112760"/>
            <a:ext cx="8677440" cy="53276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Scatter diagram : IPK dan Lama Studi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3240" y="6432480"/>
            <a:ext cx="7831440" cy="368280"/>
          </a:xfrm>
          <a:prstGeom prst="rect">
            <a:avLst/>
          </a:prstGeom>
          <a:solidFill>
            <a:srgbClr val="fce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eries data, terjadi perbaikan simultan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068480" y="2281320"/>
            <a:ext cx="6554160" cy="3587760"/>
            <a:chOff x="1068480" y="2281320"/>
            <a:chExt cx="6554160" cy="3587760"/>
          </a:xfrm>
        </p:grpSpPr>
        <p:sp>
          <p:nvSpPr>
            <p:cNvPr id="214" name=""/>
            <p:cNvSpPr/>
            <p:nvPr/>
          </p:nvSpPr>
          <p:spPr>
            <a:xfrm>
              <a:off x="1877760" y="2286000"/>
              <a:ext cx="0" cy="3014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1520" y="2286000"/>
              <a:ext cx="0" cy="3014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08000" y="2286000"/>
              <a:ext cx="0" cy="3014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43280" y="2281320"/>
              <a:ext cx="0" cy="3014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97280" y="2286000"/>
              <a:ext cx="0" cy="3014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89360" y="2281320"/>
              <a:ext cx="0" cy="3014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68480" y="5513400"/>
              <a:ext cx="1039320" cy="35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ase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93600" y="5513400"/>
              <a:ext cx="1039320" cy="35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ear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11240" y="5494320"/>
              <a:ext cx="1039320" cy="35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ear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30320" y="5494320"/>
              <a:ext cx="1039320" cy="35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ear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51200" y="5494320"/>
              <a:ext cx="1039320" cy="35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ear 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98720" y="5499000"/>
              <a:ext cx="1039680" cy="35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ear 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82960" y="5494320"/>
              <a:ext cx="1039680" cy="35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Apa yang dapat ditarik 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kembangan menurut wak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K dan lama studi membaik secara simult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udahkan mendapatkan gambaran aw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cirian mulai bisa dilakuk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carian akar masalah lebih muda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elurusan lebih dalam, gunakan data / informasi kualitat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rikan “lesson learne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han untuk kegiatan berik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04920" y="-6934320"/>
            <a:ext cx="15163560" cy="121604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Histogram : Posisi relatif berbagai P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"/>
          <p:cNvSpPr/>
          <p:nvPr/>
        </p:nvSpPr>
        <p:spPr>
          <a:xfrm>
            <a:off x="762120" y="50130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66"/>
                </a:solidFill>
                <a:latin typeface="Arial"/>
              </a:rPr>
              <a:t>Program Studi :  A, </a:t>
            </a:r>
            <a:r>
              <a:rPr b="0" lang="sv-SE" sz="24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0" lang="sv-SE" sz="24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sv-SE" sz="2400" spc="-1" strike="noStrike">
                <a:solidFill>
                  <a:srgbClr val="66ff33"/>
                </a:solidFill>
                <a:latin typeface="Arial"/>
              </a:rPr>
              <a:t>C</a:t>
            </a:r>
            <a:r>
              <a:rPr b="0" lang="sv-SE" sz="2400" spc="-1" strike="noStrike">
                <a:solidFill>
                  <a:srgbClr val="000066"/>
                </a:solidFill>
                <a:latin typeface="Arial"/>
              </a:rPr>
              <a:t>, 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66"/>
                </a:solidFill>
                <a:latin typeface="Arial"/>
              </a:rPr>
              <a:t>Memudahkan untuk menarik inform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pa yang dapat ditarik 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Yang dibuang A masih lebih baik dari ¼ yang diterima oleh C, 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Jika keempatnya di Fakultas yang sama, penerimaan di tingkat Fakultas akan meningkatkan kualitas input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Analisa lebih komplek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T dengan banyak 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sifikasi PS dan tema yang dipili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variate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ontoh : Data PT dengan 33 Dep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57200" y="1828800"/>
          <a:ext cx="8229600" cy="3097080"/>
        </p:xfrm>
        <a:graphic>
          <a:graphicData uri="http://schemas.openxmlformats.org/drawingml/2006/table">
            <a:tbl>
              <a:tblPr/>
              <a:tblGrid>
                <a:gridCol w="415800"/>
                <a:gridCol w="1057320"/>
                <a:gridCol w="600120"/>
                <a:gridCol w="874800"/>
                <a:gridCol w="1003320"/>
                <a:gridCol w="636480"/>
                <a:gridCol w="549360"/>
                <a:gridCol w="727200"/>
                <a:gridCol w="644400"/>
                <a:gridCol w="758880"/>
                <a:gridCol w="961920"/>
              </a:tblGrid>
              <a:tr h="246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SimSun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SimSun"/>
                        </a:rPr>
                        <a:t>Departem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 Narrow"/>
                          <a:ea typeface="SimSun"/>
                        </a:rPr>
                        <a:t>Indikator Kinerja Efisiensi, Mutu dan Relevans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SimSun"/>
                        </a:rPr>
                        <a:t>EPB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SimSun"/>
                        </a:rPr>
                        <a:t>IP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 Narrow"/>
                          <a:ea typeface="SimSun"/>
                        </a:rPr>
                        <a:t>P-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 Narrow"/>
                          <a:ea typeface="SimSun"/>
                        </a:rPr>
                        <a:t>(Kur Lama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 Narrow"/>
                          <a:ea typeface="SimSun"/>
                        </a:rPr>
                        <a:t>(%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 Narrow"/>
                          <a:ea typeface="SimSun"/>
                        </a:rPr>
                        <a:t>P-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 Narrow"/>
                          <a:ea typeface="SimSun"/>
                        </a:rPr>
                        <a:t>(Kur Mami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 Narrow"/>
                          <a:ea typeface="SimSun"/>
                        </a:rPr>
                        <a:t>(%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 Narrow"/>
                          <a:ea typeface="SimSun"/>
                        </a:rPr>
                        <a:t>IP_TP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 Narrow"/>
                          <a:ea typeface="SimSun"/>
                        </a:rPr>
                        <a:t>≥ </a:t>
                      </a: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 Narrow"/>
                          <a:ea typeface="SimSun"/>
                        </a:rPr>
                        <a:t>2,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 Narrow"/>
                          <a:ea typeface="SimSun"/>
                        </a:rPr>
                        <a:t>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SimSun"/>
                        </a:rPr>
                        <a:t>PH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SimSun"/>
                        </a:rPr>
                        <a:t>48/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SimSun"/>
                        </a:rPr>
                        <a:t>JL/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SimSun"/>
                        </a:rPr>
                        <a:t>(100-DO) 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SimSun"/>
                        </a:rPr>
                        <a:t>Kulia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G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.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44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85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6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8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R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.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43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56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8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8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6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.9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ITSL/TN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.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32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0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8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.0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GM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29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1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9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8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.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K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.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88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0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8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.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Rata-r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4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6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8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td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70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1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7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533520" y="5334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gaimana mendapatkan “helicopter view’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CA dan Analisis Gerombol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rcRect l="2192" t="3091" r="8138" b="3300"/>
          <a:stretch/>
        </p:blipFill>
        <p:spPr>
          <a:xfrm>
            <a:off x="762120" y="1798560"/>
            <a:ext cx="6248160" cy="4954680"/>
          </a:xfrm>
          <a:prstGeom prst="rect">
            <a:avLst/>
          </a:prstGeom>
          <a:ln w="0">
            <a:noFill/>
          </a:ln>
        </p:spPr>
      </p:pic>
      <p:grpSp>
        <p:nvGrpSpPr>
          <p:cNvPr id="241" name=""/>
          <p:cNvGrpSpPr/>
          <p:nvPr/>
        </p:nvGrpSpPr>
        <p:grpSpPr>
          <a:xfrm>
            <a:off x="1501200" y="3521880"/>
            <a:ext cx="5423760" cy="2311560"/>
            <a:chOff x="1501200" y="3521880"/>
            <a:chExt cx="5423760" cy="2311560"/>
          </a:xfrm>
        </p:grpSpPr>
        <p:sp>
          <p:nvSpPr>
            <p:cNvPr id="242" name=""/>
            <p:cNvSpPr/>
            <p:nvPr/>
          </p:nvSpPr>
          <p:spPr>
            <a:xfrm rot="3132000">
              <a:off x="3555360" y="5186160"/>
              <a:ext cx="443160" cy="585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2892000">
              <a:off x="5369040" y="4550040"/>
              <a:ext cx="1126080" cy="752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6861200">
              <a:off x="1834200" y="3547080"/>
              <a:ext cx="1902600" cy="224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417560" y="4247640"/>
              <a:ext cx="2354400" cy="235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427800">
              <a:off x="2752200" y="4211280"/>
              <a:ext cx="1173240" cy="9140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427800">
              <a:off x="4350240" y="4149000"/>
              <a:ext cx="492840" cy="4244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427800">
              <a:off x="6407640" y="4191840"/>
              <a:ext cx="492840" cy="4244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427800">
              <a:off x="5609520" y="4324680"/>
              <a:ext cx="301680" cy="272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8374400">
              <a:off x="1824480" y="3911400"/>
              <a:ext cx="821160" cy="9943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7212800">
              <a:off x="2263320" y="4353480"/>
              <a:ext cx="605880" cy="16837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Dendrogra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09680" y="1987560"/>
            <a:ext cx="840096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gan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icopter view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s statistika yang rele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ustr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ut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Apa yang ditarik 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 pengelompokkan sebagai penci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njukkan pol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ar dan arah pengembang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okasi sumberda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oritas untuk menggapai vi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gantung kelengkapan para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alah kompleks diwakili beberap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gikut sertaan dalam tema terten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enutup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gan ditelan bulat-bulat, hanya cont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gan dijadikan contoh m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kan resep mas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reatifitas pe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Kerja Kelompok; </a:t>
            </a:r>
            <a:br>
              <a:rPr sz="4000"/>
            </a:b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Universitas Bona Ventura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rbagai jeni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DM : Dosen dan penunj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hasiswa dan Lul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es Pendidik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na dan Prasarana, Laboratorium, Perpustak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jas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gaimana menarik “helicopter view”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dalaman tingkat PS sudah cukup ma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Fokus Disko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pek SDM Universitas Bona Ven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si dasar untuk tema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K dan lama stu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si dasar untuk tema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ja Kelomp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amat Beker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Aspek SD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52280" y="1676520"/>
          <a:ext cx="8915400" cy="5048280"/>
        </p:xfrm>
        <a:graphic>
          <a:graphicData uri="http://schemas.openxmlformats.org/drawingml/2006/table">
            <a:tbl>
              <a:tblPr/>
              <a:tblGrid>
                <a:gridCol w="852480"/>
                <a:gridCol w="901800"/>
                <a:gridCol w="708120"/>
                <a:gridCol w="696960"/>
                <a:gridCol w="695160"/>
                <a:gridCol w="696960"/>
                <a:gridCol w="695160"/>
                <a:gridCol w="696960"/>
                <a:gridCol w="695520"/>
                <a:gridCol w="639720"/>
                <a:gridCol w="696960"/>
                <a:gridCol w="939600"/>
              </a:tblGrid>
              <a:tr h="3988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Un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9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GOLONGAN/RUA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JUMLA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II/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II/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II/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II/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V/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V/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V/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V/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V/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i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a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ilsa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Ge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Aspek SD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52280" y="1828800"/>
          <a:ext cx="8915400" cy="4587840"/>
        </p:xfrm>
        <a:graphic>
          <a:graphicData uri="http://schemas.openxmlformats.org/drawingml/2006/table">
            <a:tbl>
              <a:tblPr/>
              <a:tblGrid>
                <a:gridCol w="852480"/>
                <a:gridCol w="901800"/>
                <a:gridCol w="708120"/>
                <a:gridCol w="696960"/>
                <a:gridCol w="695160"/>
                <a:gridCol w="696960"/>
                <a:gridCol w="695160"/>
                <a:gridCol w="696960"/>
                <a:gridCol w="695520"/>
                <a:gridCol w="639720"/>
                <a:gridCol w="696960"/>
                <a:gridCol w="939600"/>
              </a:tblGrid>
              <a:tr h="3988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Un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9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GOLONGAN/RUA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JUMLA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II/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II/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II/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II/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V/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V/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V/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V/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V/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IS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Aspek SD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52280" y="1828800"/>
          <a:ext cx="8915400" cy="4587840"/>
        </p:xfrm>
        <a:graphic>
          <a:graphicData uri="http://schemas.openxmlformats.org/drawingml/2006/table">
            <a:tbl>
              <a:tblPr/>
              <a:tblGrid>
                <a:gridCol w="852480"/>
                <a:gridCol w="901800"/>
                <a:gridCol w="708120"/>
                <a:gridCol w="696960"/>
                <a:gridCol w="695160"/>
                <a:gridCol w="696960"/>
                <a:gridCol w="695160"/>
                <a:gridCol w="696960"/>
                <a:gridCol w="695520"/>
                <a:gridCol w="639720"/>
                <a:gridCol w="696960"/>
                <a:gridCol w="939600"/>
              </a:tblGrid>
              <a:tr h="3988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Un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9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GOLONGAN/RUA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JUMLA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II/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II/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II/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II/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V/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V/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V/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V/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V/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K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Hu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I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ap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Aspek SD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52280" y="1828800"/>
          <a:ext cx="8915400" cy="4346640"/>
        </p:xfrm>
        <a:graphic>
          <a:graphicData uri="http://schemas.openxmlformats.org/drawingml/2006/table">
            <a:tbl>
              <a:tblPr/>
              <a:tblGrid>
                <a:gridCol w="852480"/>
                <a:gridCol w="901800"/>
                <a:gridCol w="708120"/>
                <a:gridCol w="696960"/>
                <a:gridCol w="695160"/>
                <a:gridCol w="696960"/>
                <a:gridCol w="695160"/>
                <a:gridCol w="696960"/>
                <a:gridCol w="695520"/>
                <a:gridCol w="639720"/>
                <a:gridCol w="696960"/>
                <a:gridCol w="939600"/>
              </a:tblGrid>
              <a:tr h="3988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Un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9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GOLONGAN/RUA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JUMLA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II/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II/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II/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II/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V/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V/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V/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V/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V/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sik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JUMLA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s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IPK vs Rasio Mahasiswa/Dose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990720" y="1841400"/>
          <a:ext cx="6781680" cy="488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41400"/>
                    <a:ext cx="6781680" cy="48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Lama studi vs Rasio M/D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457200" y="1789200"/>
          <a:ext cx="792468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9200"/>
                    <a:ext cx="79246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enganta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kan kuliah statist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pirasi untuk analisis pada level institu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reasi untuk memahami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ovasi untuk menarik inform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gian dari evaluasi di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golah atribut evaluasi di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Informasi yang dapat ditarik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enganta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urasi dan kebenara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nis data yang dapat digunak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ghubungkan antar data secara sederh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a menarik kesimpu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tutan dan langkah ker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itan dengan analisis SW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a yang diusulk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Upaya mendapatkan “helicopter view”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17960" indent="-41796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gumpulan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7960" indent="-41796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isi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7840" indent="-38808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krip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26160" indent="-416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fis secara integra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26160" indent="-416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kuran pemusatan dan penyeba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7840" indent="-38808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isis Inferen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26160" indent="-416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ji-uji hipot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7840" indent="-38808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dik Peubah g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26160" indent="-416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isis gero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26160" indent="-416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A d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7960" indent="-41796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rikan informa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7960" indent="-41796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gambilan keputus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7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Data di Perguruan Tinggi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: mahasiswa, staf, sarana, dana, manajeria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es : PBM, kehadiran, lama studi, waktu layanan, sebaran beban kerja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: Nilai, IP, IPK, 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comes : kinerja tri-dharma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act : lama tunggu kerja, perolehan hibah, kerjasama, pengakuan nasional/internasiona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/informasi kualitat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gaimana menarik informasi level institusi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Analisis Sederhana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aan universi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si relatif terhadap rataan universi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njukkan pol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berikan petunjuk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Ilustrasi Deskriptif;Box-plot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bandingan grantee dan non-grantee QUE</a:t>
            </a: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" y="1119240"/>
            <a:ext cx="7467480" cy="61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Apa yang dapat ditarik 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x-plot untuk membandingk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ngkasan ukuran pemusatan dan penyebar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aan, median, mo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il, kis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bandingan dalam kerangka universi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elurusan lebih dalam; informasi kualitatif digunak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rikan “lesson learne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han untuk kegiatan berik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7T12:11:35Z</dcterms:created>
  <dc:creator>VGN-T150</dc:creator>
  <dc:description/>
  <dc:language>en-US</dc:language>
  <cp:lastModifiedBy> USER</cp:lastModifiedBy>
  <dcterms:modified xsi:type="dcterms:W3CDTF">2007-11-19T10:19:52Z</dcterms:modified>
  <cp:revision>21</cp:revision>
  <dc:subject/>
  <dc:title>Memahami Data, Menarik Informas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