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35.png" ContentType="image/png"/>
  <Override PartName="/ppt/media/image1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839-F7EC-45A3-9C87-A884D07C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6F5-CC86-4FB7-B2F1-F62768C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E05-64B2-4373-9285-4C005771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6B3-8C19-4B4A-AC75-C880048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C72C-8E88-400F-8478-EF7FC408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F7D6-28C9-416A-A833-6BD47A42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9A22-F2A7-4A88-8739-EFFBD89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7381-7F19-4BFD-AD33-27365CB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62D-B4A1-4475-8F31-DAB090D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8563-C5E3-461E-8197-9036C98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D6F-3ECB-4F69-B25C-37845A8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D12-A392-42D3-997E-FE6A97C5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D39-EDAE-477B-A377-2358DC2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D5E-37D4-4391-9A8E-F42202D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0EAA-0414-4251-A457-BD09ECE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2DE-640F-451E-857B-EAF9D1D9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0E83-2133-4DF1-B638-9F55635D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05D-DEFC-4D26-B7A9-8CA35B9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CB4-F820-4FB7-82B9-CAE6FDF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78C-0475-4970-BE77-60E1680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300-5C6B-462D-8C37-F2AAA09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7B5-0E2A-4041-BD2C-06854C5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38A-B4BC-4855-B789-D33D18D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EC1-3CBD-41FF-AFAD-90BB05D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6E5-6AC8-45D1-8683-4C5B918AA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FC8-DC80-4422-8CB9-9ADCBCF8B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2.bin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2.bin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2.bin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2.bin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7264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Manajemen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rguruan Tinggi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November 19-20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"/>
          <p:cNvGrpSpPr/>
          <p:nvPr/>
        </p:nvGrpSpPr>
        <p:grpSpPr>
          <a:xfrm>
            <a:off x="7086600" y="838080"/>
            <a:ext cx="2057400" cy="6019920"/>
            <a:chOff x="7086600" y="838080"/>
            <a:chExt cx="2057400" cy="6019920"/>
          </a:xfrm>
        </p:grpSpPr>
        <p:sp>
          <p:nvSpPr>
            <p:cNvPr id="811" name=""/>
            <p:cNvSpPr/>
            <p:nvPr/>
          </p:nvSpPr>
          <p:spPr>
            <a:xfrm>
              <a:off x="7086600" y="838080"/>
              <a:ext cx="2057400" cy="60199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6019920"/>
                <a:gd name="textAreaBottom" fmla="*/ 5919480 h 6019920"/>
              </a:gdLst>
              <a:ahLst/>
              <a:rect l="textAreaLeft" t="textAreaTop" r="textAreaRight" b="textAreaBottom"/>
              <a:pathLst>
                <a:path w="21600" h="63194">
                  <a:moveTo>
                    <a:pt x="3600" y="0"/>
                  </a:moveTo>
                  <a:arcTo wR="3600" hR="3600" stAng="16200000" swAng="-5400000"/>
                  <a:lnTo>
                    <a:pt x="0" y="59594"/>
                  </a:lnTo>
                  <a:arcTo wR="3600" hR="3600" stAng="10800000" swAng="-5400000"/>
                  <a:lnTo>
                    <a:pt x="18000" y="63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086600" y="838080"/>
              <a:ext cx="1905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External Stakeholder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514600" y="160020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5200" y="1981080"/>
            <a:ext cx="138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95200" y="1981080"/>
            <a:ext cx="0" cy="47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144792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865600" y="1353960"/>
            <a:ext cx="1806480" cy="2035800"/>
            <a:chOff x="2865600" y="1353960"/>
            <a:chExt cx="1806480" cy="2035800"/>
          </a:xfrm>
        </p:grpSpPr>
        <p:sp>
          <p:nvSpPr>
            <p:cNvPr id="818" name=""/>
            <p:cNvSpPr/>
            <p:nvPr/>
          </p:nvSpPr>
          <p:spPr>
            <a:xfrm>
              <a:off x="2865600" y="1353960"/>
              <a:ext cx="1806480" cy="1544400"/>
            </a:xfrm>
            <a:prstGeom prst="rect">
              <a:avLst/>
            </a:prstGeom>
            <a:solidFill>
              <a:srgbClr val="e1e1b7"/>
            </a:solidFill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3041640" y="1393560"/>
              <a:ext cx="583920" cy="809280"/>
              <a:chOff x="3041640" y="1393560"/>
              <a:chExt cx="583920" cy="809280"/>
            </a:xfrm>
          </p:grpSpPr>
          <p:sp>
            <p:nvSpPr>
              <p:cNvPr id="820" name=""/>
              <p:cNvSpPr/>
              <p:nvPr/>
            </p:nvSpPr>
            <p:spPr>
              <a:xfrm flipH="1">
                <a:off x="3174840" y="1522800"/>
                <a:ext cx="146880" cy="7164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043080" y="1603800"/>
                <a:ext cx="218880" cy="35388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3215160" y="1716840"/>
                <a:ext cx="70560" cy="6156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141720" y="1601280"/>
                <a:ext cx="483480" cy="60156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282120" y="1393560"/>
                <a:ext cx="248760" cy="25164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305880" y="1491120"/>
                <a:ext cx="111240" cy="12240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3398040" y="1539360"/>
                <a:ext cx="11880" cy="93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069000" y="1795320"/>
                <a:ext cx="86040" cy="11160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304800" y="1397520"/>
                <a:ext cx="64440" cy="4932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3304080" y="144144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323880" y="14911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279600" y="1470600"/>
                <a:ext cx="37080" cy="4104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317040" y="1524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324240" y="153108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332520" y="1544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318120" y="1566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353040" y="1546200"/>
                <a:ext cx="54000" cy="6732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349800" y="159300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41880" y="1442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353760" y="14443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351600" y="144288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3392280" y="1503360"/>
                <a:ext cx="11880" cy="234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441600" y="156132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380040" y="1394640"/>
                <a:ext cx="55080" cy="6192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418920" y="1398600"/>
                <a:ext cx="90720" cy="174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506040" y="156384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438000" y="1475640"/>
                <a:ext cx="28440" cy="921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3400560" y="1539360"/>
                <a:ext cx="11880" cy="1512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3408840" y="1495080"/>
                <a:ext cx="22680" cy="4932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423600" y="151308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439440" y="15296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405600" y="1575000"/>
                <a:ext cx="52560" cy="11016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384000" y="160524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455640" y="1579320"/>
                <a:ext cx="42840" cy="5220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503520" y="1587240"/>
                <a:ext cx="53640" cy="10044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403440" y="16876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393360" y="1700280"/>
                <a:ext cx="82440" cy="8928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380040" y="1766520"/>
                <a:ext cx="91080" cy="9612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3331440" y="1780200"/>
                <a:ext cx="113760" cy="6048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381480" y="1657440"/>
                <a:ext cx="21240" cy="8532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201840" y="1701720"/>
                <a:ext cx="420120" cy="39096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3521880" y="1771920"/>
                <a:ext cx="56160" cy="11160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549600" y="18997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267000" y="1751400"/>
                <a:ext cx="123120" cy="56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3318120" y="1839240"/>
                <a:ext cx="50040" cy="10044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581640" y="1803600"/>
                <a:ext cx="43920" cy="18576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07320" y="18586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495600" y="199224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440160" y="2023920"/>
                <a:ext cx="184320" cy="1530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3453120" y="2097000"/>
                <a:ext cx="89640" cy="327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451320" y="218376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435840" y="217116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3421440" y="2077200"/>
                <a:ext cx="118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566880" y="1703160"/>
                <a:ext cx="140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287160" y="153216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285000" y="15310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273840" y="15559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043080" y="1541880"/>
                <a:ext cx="247680" cy="9756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3204720" y="1517400"/>
                <a:ext cx="309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3277080" y="15228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239280" y="1524240"/>
                <a:ext cx="3456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267000" y="152820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293280" y="157644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178080" y="1657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182040" y="1547640"/>
                <a:ext cx="12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259800" y="16203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3178080" y="1678320"/>
                <a:ext cx="81360" cy="6300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64680" y="1603800"/>
                <a:ext cx="11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3133440" y="1706040"/>
                <a:ext cx="118440" cy="15948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3258360" y="190152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280680" y="1873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3266640" y="1878120"/>
                <a:ext cx="10440" cy="3816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3254400" y="18615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211560" y="1851840"/>
                <a:ext cx="28440" cy="468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3154320" y="1882080"/>
                <a:ext cx="81360" cy="702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079800" y="1791360"/>
                <a:ext cx="50040" cy="327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116880" y="187236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3081240" y="1855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3079800" y="1888920"/>
                <a:ext cx="46440" cy="2484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066840" y="184068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057480" y="185580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042720" y="1927800"/>
                <a:ext cx="122040" cy="3024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041640" y="1646640"/>
                <a:ext cx="1080" cy="27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351960" y="174852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3325320" y="1643760"/>
                <a:ext cx="50040" cy="9648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258000" y="172080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3693960" y="2055600"/>
              <a:ext cx="91872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"/>
            <a:stretch/>
          </p:blipFill>
          <p:spPr>
            <a:xfrm>
              <a:off x="3790800" y="1417320"/>
              <a:ext cx="82512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2907360" y="2638080"/>
              <a:ext cx="17078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ses Belaj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engajar; Riset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" descr=""/>
            <p:cNvPicPr/>
            <p:nvPr/>
          </p:nvPicPr>
          <p:blipFill>
            <a:blip r:embed="rId3"/>
            <a:stretch/>
          </p:blipFill>
          <p:spPr>
            <a:xfrm>
              <a:off x="2954160" y="2071440"/>
              <a:ext cx="65052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"/>
          <p:cNvGrpSpPr/>
          <p:nvPr/>
        </p:nvGrpSpPr>
        <p:grpSpPr>
          <a:xfrm>
            <a:off x="1072440" y="1455840"/>
            <a:ext cx="1738080" cy="1351080"/>
            <a:chOff x="1072440" y="1455840"/>
            <a:chExt cx="1738080" cy="1351080"/>
          </a:xfrm>
        </p:grpSpPr>
        <p:sp>
          <p:nvSpPr>
            <p:cNvPr id="911" name=""/>
            <p:cNvSpPr/>
            <p:nvPr/>
          </p:nvSpPr>
          <p:spPr>
            <a:xfrm>
              <a:off x="1072440" y="243864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lon Mahasi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4"/>
            <a:stretch/>
          </p:blipFill>
          <p:spPr>
            <a:xfrm>
              <a:off x="1608120" y="1455840"/>
              <a:ext cx="8031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4095000" y="2202840"/>
            <a:ext cx="3272760" cy="3183840"/>
            <a:chOff x="4095000" y="2202840"/>
            <a:chExt cx="3272760" cy="3183840"/>
          </a:xfrm>
        </p:grpSpPr>
        <p:sp>
          <p:nvSpPr>
            <p:cNvPr id="914" name=""/>
            <p:cNvSpPr/>
            <p:nvPr/>
          </p:nvSpPr>
          <p:spPr>
            <a:xfrm flipH="1" rot="2479200">
              <a:off x="4342680" y="2895480"/>
              <a:ext cx="2776320" cy="1798560"/>
            </a:xfrm>
            <a:prstGeom prst="rightArrow">
              <a:avLst>
                <a:gd name="adj1" fmla="val 75343"/>
                <a:gd name="adj2" fmla="val 56342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4867560" y="3104280"/>
              <a:ext cx="2060280" cy="1984320"/>
              <a:chOff x="4867560" y="3104280"/>
              <a:chExt cx="2060280" cy="1984320"/>
            </a:xfrm>
          </p:grpSpPr>
          <p:pic>
            <p:nvPicPr>
              <p:cNvPr id="91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26240" y="3899880"/>
                <a:ext cx="110160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67560" y="3104280"/>
                <a:ext cx="109980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"/>
              <p:cNvSpPr/>
              <p:nvPr/>
            </p:nvSpPr>
            <p:spPr>
              <a:xfrm>
                <a:off x="5603400" y="4254120"/>
                <a:ext cx="122940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Siste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enjamin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ut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9" name=""/>
          <p:cNvSpPr/>
          <p:nvPr/>
        </p:nvSpPr>
        <p:spPr>
          <a:xfrm>
            <a:off x="1725840" y="76320"/>
            <a:ext cx="6433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3ce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okus Pengembangan PH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914400"/>
            <a:ext cx="701028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921360" y="1447920"/>
            <a:ext cx="2298960" cy="5183640"/>
            <a:chOff x="6921360" y="1447920"/>
            <a:chExt cx="2298960" cy="5183640"/>
          </a:xfrm>
        </p:grpSpPr>
        <p:sp>
          <p:nvSpPr>
            <p:cNvPr id="922" name=""/>
            <p:cNvSpPr/>
            <p:nvPr/>
          </p:nvSpPr>
          <p:spPr>
            <a:xfrm>
              <a:off x="7924680" y="64008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24680" y="5005440"/>
              <a:ext cx="228600" cy="228600"/>
            </a:xfrm>
            <a:prstGeom prst="downArrow">
              <a:avLst>
                <a:gd name="adj1" fmla="val 56944"/>
                <a:gd name="adj2" fmla="val 5138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48680" y="1447920"/>
              <a:ext cx="1360440" cy="188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921360" y="1584360"/>
              <a:ext cx="2298960" cy="5047200"/>
              <a:chOff x="6921360" y="1584360"/>
              <a:chExt cx="2298960" cy="5047200"/>
            </a:xfrm>
          </p:grpSpPr>
          <p:pic>
            <p:nvPicPr>
              <p:cNvPr id="92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3800" y="5310360"/>
                <a:ext cx="10414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7" name=""/>
              <p:cNvSpPr/>
              <p:nvPr/>
            </p:nvSpPr>
            <p:spPr>
              <a:xfrm>
                <a:off x="7324560" y="623268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Demand P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7043040" y="1584360"/>
                <a:ext cx="2014200" cy="2106000"/>
                <a:chOff x="7043040" y="1584360"/>
                <a:chExt cx="2014200" cy="2106000"/>
              </a:xfrm>
            </p:grpSpPr>
            <p:pic>
              <p:nvPicPr>
                <p:cNvPr id="9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473960" y="1584360"/>
                  <a:ext cx="119376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15200" y="2367000"/>
                  <a:ext cx="1241280" cy="83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1" name=""/>
                <p:cNvSpPr/>
                <p:nvPr/>
              </p:nvSpPr>
              <p:spPr>
                <a:xfrm>
                  <a:off x="7043040" y="3121200"/>
                  <a:ext cx="20142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 “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Pasar”/Duni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kerja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6921360" y="3505320"/>
                <a:ext cx="2298960" cy="2108520"/>
                <a:chOff x="6921360" y="3505320"/>
                <a:chExt cx="2298960" cy="21085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7914960" y="3505320"/>
                  <a:ext cx="228600" cy="228600"/>
                </a:xfrm>
                <a:prstGeom prst="downArrow">
                  <a:avLst>
                    <a:gd name="adj1" fmla="val 56944"/>
                    <a:gd name="adj2" fmla="val 51389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6921360" y="3733920"/>
                  <a:ext cx="2298960" cy="1879920"/>
                  <a:chOff x="6921360" y="3733920"/>
                  <a:chExt cx="2298960" cy="1879920"/>
                </a:xfrm>
              </p:grpSpPr>
              <p:pic>
                <p:nvPicPr>
                  <p:cNvPr id="9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10040" y="3733920"/>
                    <a:ext cx="9144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6" name=""/>
                  <p:cNvSpPr/>
                  <p:nvPr/>
                </p:nvSpPr>
                <p:spPr>
                  <a:xfrm>
                    <a:off x="6921360" y="4422600"/>
                    <a:ext cx="229896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“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Apresiasi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Masyarakat Luas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emerintah, Swasta,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GOs, dl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37" name=""/>
          <p:cNvGrpSpPr/>
          <p:nvPr/>
        </p:nvGrpSpPr>
        <p:grpSpPr>
          <a:xfrm>
            <a:off x="914400" y="3352320"/>
            <a:ext cx="6061320" cy="3331440"/>
            <a:chOff x="914400" y="3352320"/>
            <a:chExt cx="6061320" cy="3331440"/>
          </a:xfrm>
        </p:grpSpPr>
        <p:sp>
          <p:nvSpPr>
            <p:cNvPr id="938" name=""/>
            <p:cNvSpPr/>
            <p:nvPr/>
          </p:nvSpPr>
          <p:spPr>
            <a:xfrm rot="16200000">
              <a:off x="2131920" y="2134800"/>
              <a:ext cx="3279960" cy="57150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5715000"/>
                <a:gd name="textAreaBottom" fmla="*/ 5715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916" y="0"/>
                  </a:lnTo>
                  <a:lnTo>
                    <a:pt x="21600" y="10800"/>
                  </a:lnTo>
                  <a:lnTo>
                    <a:pt x="59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092320" y="4863960"/>
              <a:ext cx="3487680" cy="986040"/>
              <a:chOff x="2092320" y="4863960"/>
              <a:chExt cx="3487680" cy="986040"/>
            </a:xfrm>
          </p:grpSpPr>
          <p:sp>
            <p:nvSpPr>
              <p:cNvPr id="940" name=""/>
              <p:cNvSpPr/>
              <p:nvPr/>
            </p:nvSpPr>
            <p:spPr>
              <a:xfrm>
                <a:off x="2092320" y="4863960"/>
                <a:ext cx="3487680" cy="822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6520" y="4946760"/>
                <a:ext cx="870120" cy="72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9840" y="4927680"/>
                <a:ext cx="100332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43240" y="4938840"/>
                <a:ext cx="136836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"/>
              <p:cNvSpPr/>
              <p:nvPr/>
            </p:nvSpPr>
            <p:spPr>
              <a:xfrm>
                <a:off x="3125880" y="534816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MANAJEM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2970720" y="3925800"/>
              <a:ext cx="1678680" cy="924480"/>
              <a:chOff x="2970720" y="3925800"/>
              <a:chExt cx="1678680" cy="924480"/>
            </a:xfrm>
          </p:grpSpPr>
          <p:sp>
            <p:nvSpPr>
              <p:cNvPr id="946" name=""/>
              <p:cNvSpPr/>
              <p:nvPr/>
            </p:nvSpPr>
            <p:spPr>
              <a:xfrm>
                <a:off x="3235320" y="3925800"/>
                <a:ext cx="1155600" cy="89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47" name=""/>
              <p:cNvGraphicFramePr/>
              <p:nvPr/>
            </p:nvGraphicFramePr>
            <p:xfrm>
              <a:off x="3247920" y="3948120"/>
              <a:ext cx="1032120" cy="687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948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247920" y="3948120"/>
                        <a:ext cx="103212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9" name=""/>
              <p:cNvSpPr/>
              <p:nvPr/>
            </p:nvSpPr>
            <p:spPr>
              <a:xfrm>
                <a:off x="2970720" y="4451400"/>
                <a:ext cx="16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Kepemimpin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914400" y="5571360"/>
              <a:ext cx="6061320" cy="1112400"/>
              <a:chOff x="914400" y="5571360"/>
              <a:chExt cx="6061320" cy="1112400"/>
            </a:xfrm>
          </p:grpSpPr>
          <p:grpSp>
            <p:nvGrpSpPr>
              <p:cNvPr id="951" name=""/>
              <p:cNvGrpSpPr/>
              <p:nvPr/>
            </p:nvGrpSpPr>
            <p:grpSpPr>
              <a:xfrm>
                <a:off x="914400" y="5721480"/>
                <a:ext cx="5697000" cy="962280"/>
                <a:chOff x="914400" y="5721480"/>
                <a:chExt cx="5697000" cy="9622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914400" y="5721480"/>
                  <a:ext cx="5697000" cy="90144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e1e1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877840" y="6284880"/>
                  <a:ext cx="180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Benguiat Bk BT"/>
                    </a:rPr>
                    <a:t>SUMBERDAY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1677600" y="5753160"/>
                <a:ext cx="1180440" cy="891360"/>
                <a:chOff x="1677600" y="5753160"/>
                <a:chExt cx="1180440" cy="891360"/>
              </a:xfrm>
            </p:grpSpPr>
            <p:pic>
              <p:nvPicPr>
                <p:cNvPr id="95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66880" y="5753160"/>
                  <a:ext cx="103680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6" name=""/>
                <p:cNvSpPr/>
                <p:nvPr/>
              </p:nvSpPr>
              <p:spPr>
                <a:xfrm>
                  <a:off x="1677600" y="6307200"/>
                  <a:ext cx="1180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Dosen&amp;Sta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3359160" y="5715000"/>
                <a:ext cx="1404360" cy="679320"/>
                <a:chOff x="3359160" y="5715000"/>
                <a:chExt cx="1404360" cy="679320"/>
              </a:xfrm>
            </p:grpSpPr>
            <p:pic>
              <p:nvPicPr>
                <p:cNvPr id="95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4280" y="5715000"/>
                  <a:ext cx="106848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9" name=""/>
                <p:cNvSpPr/>
                <p:nvPr/>
              </p:nvSpPr>
              <p:spPr>
                <a:xfrm>
                  <a:off x="3359160" y="6026040"/>
                  <a:ext cx="140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Fasilitas Fisi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496760" y="5780160"/>
                <a:ext cx="1253520" cy="849960"/>
                <a:chOff x="4496760" y="5780160"/>
                <a:chExt cx="1253520" cy="84996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4811400" y="5780160"/>
                  <a:ext cx="384120" cy="547560"/>
                  <a:chOff x="4811400" y="5780160"/>
                  <a:chExt cx="384120" cy="54756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4990680" y="5899680"/>
                    <a:ext cx="15876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3010">
                        <a:moveTo>
                          <a:pt x="707" y="1346"/>
                        </a:moveTo>
                        <a:lnTo>
                          <a:pt x="707" y="2408"/>
                        </a:lnTo>
                        <a:lnTo>
                          <a:pt x="494" y="3010"/>
                        </a:lnTo>
                        <a:lnTo>
                          <a:pt x="1307" y="3010"/>
                        </a:lnTo>
                        <a:lnTo>
                          <a:pt x="1307" y="462"/>
                        </a:lnTo>
                        <a:lnTo>
                          <a:pt x="458" y="0"/>
                        </a:lnTo>
                        <a:lnTo>
                          <a:pt x="0" y="920"/>
                        </a:lnTo>
                        <a:lnTo>
                          <a:pt x="707" y="134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4839840" y="6058080"/>
                    <a:ext cx="236520" cy="196920"/>
                    <a:chOff x="4839840" y="6058080"/>
                    <a:chExt cx="236520" cy="1969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4839840" y="6103080"/>
                      <a:ext cx="154800" cy="151920"/>
                      <a:chOff x="4839840" y="6103080"/>
                      <a:chExt cx="154800" cy="1519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4839840" y="6103080"/>
                        <a:ext cx="154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1241">
                            <a:moveTo>
                              <a:pt x="42" y="574"/>
                            </a:moveTo>
                            <a:lnTo>
                              <a:pt x="669" y="889"/>
                            </a:lnTo>
                            <a:lnTo>
                              <a:pt x="635" y="956"/>
                            </a:lnTo>
                            <a:lnTo>
                              <a:pt x="740" y="1100"/>
                            </a:lnTo>
                            <a:lnTo>
                              <a:pt x="954" y="639"/>
                            </a:lnTo>
                            <a:lnTo>
                              <a:pt x="989" y="462"/>
                            </a:lnTo>
                            <a:lnTo>
                              <a:pt x="908" y="514"/>
                            </a:lnTo>
                            <a:lnTo>
                              <a:pt x="177" y="141"/>
                            </a:lnTo>
                            <a:lnTo>
                              <a:pt x="247" y="0"/>
                            </a:lnTo>
                            <a:lnTo>
                              <a:pt x="1095" y="390"/>
                            </a:lnTo>
                            <a:lnTo>
                              <a:pt x="1129" y="321"/>
                            </a:lnTo>
                            <a:lnTo>
                              <a:pt x="1270" y="390"/>
                            </a:lnTo>
                            <a:lnTo>
                              <a:pt x="1200" y="568"/>
                            </a:lnTo>
                            <a:lnTo>
                              <a:pt x="1023" y="709"/>
                            </a:lnTo>
                            <a:lnTo>
                              <a:pt x="774" y="1241"/>
                            </a:lnTo>
                            <a:lnTo>
                              <a:pt x="424" y="1030"/>
                            </a:lnTo>
                            <a:lnTo>
                              <a:pt x="0" y="673"/>
                            </a:lnTo>
                            <a:lnTo>
                              <a:pt x="42" y="57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4840920" y="6172920"/>
                        <a:ext cx="8064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388">
                            <a:moveTo>
                              <a:pt x="32" y="0"/>
                            </a:moveTo>
                            <a:lnTo>
                              <a:pt x="661" y="317"/>
                            </a:lnTo>
                            <a:lnTo>
                              <a:pt x="625" y="388"/>
                            </a:lnTo>
                            <a:lnTo>
                              <a:pt x="0" y="7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4852440" y="6058080"/>
                      <a:ext cx="223920" cy="84240"/>
                      <a:chOff x="4852440" y="6058080"/>
                      <a:chExt cx="223920" cy="8424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4852440" y="6058080"/>
                        <a:ext cx="2239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6" h="691">
                            <a:moveTo>
                              <a:pt x="80" y="0"/>
                            </a:moveTo>
                            <a:lnTo>
                              <a:pt x="1173" y="549"/>
                            </a:lnTo>
                            <a:lnTo>
                              <a:pt x="1836" y="549"/>
                            </a:lnTo>
                            <a:lnTo>
                              <a:pt x="1836" y="691"/>
                            </a:lnTo>
                            <a:lnTo>
                              <a:pt x="1042" y="691"/>
                            </a:lnTo>
                            <a:lnTo>
                              <a:pt x="0" y="159"/>
                            </a:lnTo>
                            <a:lnTo>
                              <a:pt x="8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4856760" y="6073200"/>
                        <a:ext cx="13104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4858920" y="6084000"/>
                      <a:ext cx="1206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583">
                          <a:moveTo>
                            <a:pt x="54" y="0"/>
                          </a:moveTo>
                          <a:lnTo>
                            <a:pt x="0" y="113"/>
                          </a:lnTo>
                          <a:lnTo>
                            <a:pt x="938" y="583"/>
                          </a:lnTo>
                          <a:lnTo>
                            <a:pt x="990" y="468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4908600" y="5780160"/>
                    <a:ext cx="180360" cy="297720"/>
                    <a:chOff x="4908600" y="5780160"/>
                    <a:chExt cx="180360" cy="29772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4921200" y="6018840"/>
                      <a:ext cx="51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76">
                          <a:moveTo>
                            <a:pt x="105" y="0"/>
                          </a:moveTo>
                          <a:lnTo>
                            <a:pt x="0" y="213"/>
                          </a:lnTo>
                          <a:lnTo>
                            <a:pt x="326" y="376"/>
                          </a:lnTo>
                          <a:lnTo>
                            <a:pt x="426" y="177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73" name=""/>
                    <p:cNvGrpSpPr/>
                    <p:nvPr/>
                  </p:nvGrpSpPr>
                  <p:grpSpPr>
                    <a:xfrm>
                      <a:off x="4938840" y="5869440"/>
                      <a:ext cx="111960" cy="155880"/>
                      <a:chOff x="4938840" y="5869440"/>
                      <a:chExt cx="111960" cy="155880"/>
                    </a:xfrm>
                  </p:grpSpPr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4938840" y="5869440"/>
                        <a:ext cx="11196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1275">
                            <a:moveTo>
                              <a:pt x="530" y="0"/>
                            </a:moveTo>
                            <a:lnTo>
                              <a:pt x="918" y="211"/>
                            </a:lnTo>
                            <a:lnTo>
                              <a:pt x="390" y="1275"/>
                            </a:lnTo>
                            <a:lnTo>
                              <a:pt x="0" y="1061"/>
                            </a:lnTo>
                            <a:lnTo>
                              <a:pt x="53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4951800" y="5882400"/>
                        <a:ext cx="730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1062">
                            <a:moveTo>
                              <a:pt x="529" y="0"/>
                            </a:moveTo>
                            <a:lnTo>
                              <a:pt x="0" y="1026"/>
                            </a:lnTo>
                            <a:lnTo>
                              <a:pt x="71" y="1062"/>
                            </a:lnTo>
                            <a:lnTo>
                              <a:pt x="597" y="40"/>
                            </a:lnTo>
                            <a:lnTo>
                              <a:pt x="529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4994640" y="5780160"/>
                      <a:ext cx="94320" cy="123840"/>
                      <a:chOff x="4994640" y="5780160"/>
                      <a:chExt cx="94320" cy="12384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034960" y="5793120"/>
                        <a:ext cx="4284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446">
                            <a:moveTo>
                              <a:pt x="179" y="0"/>
                            </a:moveTo>
                            <a:lnTo>
                              <a:pt x="0" y="327"/>
                            </a:lnTo>
                            <a:lnTo>
                              <a:pt x="205" y="446"/>
                            </a:lnTo>
                            <a:lnTo>
                              <a:pt x="354" y="88"/>
                            </a:lnTo>
                            <a:lnTo>
                              <a:pt x="179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5016960" y="5846760"/>
                        <a:ext cx="3744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255">
                            <a:moveTo>
                              <a:pt x="66" y="0"/>
                            </a:moveTo>
                            <a:lnTo>
                              <a:pt x="0" y="114"/>
                            </a:lnTo>
                            <a:lnTo>
                              <a:pt x="249" y="255"/>
                            </a:lnTo>
                            <a:lnTo>
                              <a:pt x="309" y="132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79" name=""/>
                      <p:cNvGrpSpPr/>
                      <p:nvPr/>
                    </p:nvGrpSpPr>
                    <p:grpSpPr>
                      <a:xfrm>
                        <a:off x="4994640" y="5852160"/>
                        <a:ext cx="68400" cy="51840"/>
                        <a:chOff x="4994640" y="5852160"/>
                        <a:chExt cx="68400" cy="51840"/>
                      </a:xfrm>
                    </p:grpSpPr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>
                          <a:off x="4994640" y="5852160"/>
                          <a:ext cx="6840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425">
                              <a:moveTo>
                                <a:pt x="70" y="0"/>
                              </a:moveTo>
                              <a:lnTo>
                                <a:pt x="564" y="283"/>
                              </a:lnTo>
                              <a:lnTo>
                                <a:pt x="494" y="425"/>
                              </a:lnTo>
                              <a:lnTo>
                                <a:pt x="0" y="142"/>
                              </a:lnTo>
                              <a:lnTo>
                                <a:pt x="7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81" name=""/>
                        <p:cNvGrpSpPr/>
                        <p:nvPr/>
                      </p:nvGrpSpPr>
                      <p:grpSpPr>
                        <a:xfrm>
                          <a:off x="4997520" y="5853960"/>
                          <a:ext cx="62280" cy="48600"/>
                          <a:chOff x="4997520" y="5853960"/>
                          <a:chExt cx="62280" cy="48600"/>
                        </a:xfrm>
                      </p:grpSpPr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 flipH="1">
                            <a:off x="4997520" y="585396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 flipH="1">
                            <a:off x="5004720" y="5857920"/>
                            <a:ext cx="864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 flipH="1">
                            <a:off x="5051520" y="58856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 flipH="1">
                            <a:off x="5000400" y="58554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 flipH="1">
                            <a:off x="5010120" y="5861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 flipH="1">
                            <a:off x="5025960" y="5870520"/>
                            <a:ext cx="792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8" name=""/>
                          <p:cNvSpPr/>
                          <p:nvPr/>
                        </p:nvSpPr>
                        <p:spPr>
                          <a:xfrm flipH="1">
                            <a:off x="5048280" y="5883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9" name=""/>
                          <p:cNvSpPr/>
                          <p:nvPr/>
                        </p:nvSpPr>
                        <p:spPr>
                          <a:xfrm flipH="1">
                            <a:off x="5043960" y="58813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0" name=""/>
                          <p:cNvSpPr/>
                          <p:nvPr/>
                        </p:nvSpPr>
                        <p:spPr>
                          <a:xfrm flipH="1">
                            <a:off x="5039640" y="58784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1" name=""/>
                          <p:cNvSpPr/>
                          <p:nvPr/>
                        </p:nvSpPr>
                        <p:spPr>
                          <a:xfrm flipH="1">
                            <a:off x="5034600" y="58748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2" name=""/>
                          <p:cNvSpPr/>
                          <p:nvPr/>
                        </p:nvSpPr>
                        <p:spPr>
                          <a:xfrm flipH="1">
                            <a:off x="5017320" y="58654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3" name=""/>
                      <p:cNvGrpSpPr/>
                      <p:nvPr/>
                    </p:nvGrpSpPr>
                    <p:grpSpPr>
                      <a:xfrm>
                        <a:off x="5016240" y="5826240"/>
                        <a:ext cx="55800" cy="43560"/>
                        <a:chOff x="5016240" y="5826240"/>
                        <a:chExt cx="55800" cy="43560"/>
                      </a:xfrm>
                    </p:grpSpPr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5016240" y="5826240"/>
                          <a:ext cx="55800" cy="4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0" h="357">
                              <a:moveTo>
                                <a:pt x="0" y="138"/>
                              </a:moveTo>
                              <a:lnTo>
                                <a:pt x="385" y="357"/>
                              </a:lnTo>
                              <a:lnTo>
                                <a:pt x="460" y="213"/>
                              </a:lnTo>
                              <a:lnTo>
                                <a:pt x="68" y="0"/>
                              </a:lnTo>
                              <a:lnTo>
                                <a:pt x="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95" name=""/>
                        <p:cNvGrpSpPr/>
                        <p:nvPr/>
                      </p:nvGrpSpPr>
                      <p:grpSpPr>
                        <a:xfrm>
                          <a:off x="5017680" y="5826960"/>
                          <a:ext cx="51480" cy="41400"/>
                          <a:chOff x="5017680" y="5826960"/>
                          <a:chExt cx="51480" cy="41400"/>
                        </a:xfrm>
                      </p:grpSpPr>
                      <p:sp>
                        <p:nvSpPr>
                          <p:cNvPr id="996" name=""/>
                          <p:cNvSpPr/>
                          <p:nvPr/>
                        </p:nvSpPr>
                        <p:spPr>
                          <a:xfrm flipH="1">
                            <a:off x="5037120" y="583776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7" name=""/>
                          <p:cNvSpPr/>
                          <p:nvPr/>
                        </p:nvSpPr>
                        <p:spPr>
                          <a:xfrm flipH="1">
                            <a:off x="5019840" y="582840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8" name=""/>
                          <p:cNvSpPr/>
                          <p:nvPr/>
                        </p:nvSpPr>
                        <p:spPr>
                          <a:xfrm flipH="1">
                            <a:off x="5054040" y="5847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9" name=""/>
                          <p:cNvSpPr/>
                          <p:nvPr/>
                        </p:nvSpPr>
                        <p:spPr>
                          <a:xfrm flipH="1">
                            <a:off x="5017680" y="582696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 flipH="1">
                            <a:off x="5023080" y="582984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1" name=""/>
                          <p:cNvSpPr/>
                          <p:nvPr/>
                        </p:nvSpPr>
                        <p:spPr>
                          <a:xfrm flipH="1">
                            <a:off x="5031720" y="583488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 flipH="1">
                            <a:off x="5058720" y="58492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 flipH="1">
                            <a:off x="5060880" y="58510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4" name=""/>
                          <p:cNvSpPr/>
                          <p:nvPr/>
                        </p:nvSpPr>
                        <p:spPr>
                          <a:xfrm flipH="1">
                            <a:off x="5056560" y="5848560"/>
                            <a:ext cx="864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5" name=""/>
                          <p:cNvSpPr/>
                          <p:nvPr/>
                        </p:nvSpPr>
                        <p:spPr>
                          <a:xfrm flipH="1">
                            <a:off x="5051520" y="584532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 flipH="1">
                            <a:off x="5027040" y="5832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 flipH="1">
                            <a:off x="5043240" y="5841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 flipH="1">
                            <a:off x="5047200" y="5843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9" name=""/>
                      <p:cNvGrpSpPr/>
                      <p:nvPr/>
                    </p:nvGrpSpPr>
                    <p:grpSpPr>
                      <a:xfrm>
                        <a:off x="5051520" y="5780160"/>
                        <a:ext cx="37440" cy="27000"/>
                        <a:chOff x="5051520" y="5780160"/>
                        <a:chExt cx="37440" cy="27000"/>
                      </a:xfrm>
                    </p:grpSpPr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>
                          <a:off x="5051520" y="5780160"/>
                          <a:ext cx="374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19">
                              <a:moveTo>
                                <a:pt x="0" y="85"/>
                              </a:moveTo>
                              <a:lnTo>
                                <a:pt x="263" y="219"/>
                              </a:lnTo>
                              <a:lnTo>
                                <a:pt x="309" y="131"/>
                              </a:lnTo>
                              <a:lnTo>
                                <a:pt x="42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11" name=""/>
                        <p:cNvGrpSpPr/>
                        <p:nvPr/>
                      </p:nvGrpSpPr>
                      <p:grpSpPr>
                        <a:xfrm>
                          <a:off x="5051880" y="5780520"/>
                          <a:ext cx="35640" cy="25920"/>
                          <a:chOff x="5051880" y="5780520"/>
                          <a:chExt cx="35640" cy="25920"/>
                        </a:xfrm>
                      </p:grpSpPr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 flipH="1">
                            <a:off x="5051880" y="578052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 flipH="1">
                            <a:off x="5082480" y="57960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4" name=""/>
                          <p:cNvSpPr/>
                          <p:nvPr/>
                        </p:nvSpPr>
                        <p:spPr>
                          <a:xfrm flipH="1">
                            <a:off x="5052960" y="578124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5" name=""/>
                          <p:cNvSpPr/>
                          <p:nvPr/>
                        </p:nvSpPr>
                        <p:spPr>
                          <a:xfrm flipH="1">
                            <a:off x="5080680" y="579492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6" name=""/>
                          <p:cNvSpPr/>
                          <p:nvPr/>
                        </p:nvSpPr>
                        <p:spPr>
                          <a:xfrm flipH="1">
                            <a:off x="5054760" y="578196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 flipH="1">
                            <a:off x="5056560" y="57826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 flipH="1">
                            <a:off x="5079240" y="57942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9" name=""/>
                          <p:cNvSpPr/>
                          <p:nvPr/>
                        </p:nvSpPr>
                        <p:spPr>
                          <a:xfrm flipH="1">
                            <a:off x="5077080" y="579348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0" name=""/>
                          <p:cNvSpPr/>
                          <p:nvPr/>
                        </p:nvSpPr>
                        <p:spPr>
                          <a:xfrm flipH="1">
                            <a:off x="5058000" y="57837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1" name=""/>
                          <p:cNvSpPr/>
                          <p:nvPr/>
                        </p:nvSpPr>
                        <p:spPr>
                          <a:xfrm flipH="1">
                            <a:off x="5074560" y="579204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2" name=""/>
                          <p:cNvSpPr/>
                          <p:nvPr/>
                        </p:nvSpPr>
                        <p:spPr>
                          <a:xfrm flipH="1">
                            <a:off x="5061240" y="57852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3" name=""/>
                          <p:cNvSpPr/>
                          <p:nvPr/>
                        </p:nvSpPr>
                        <p:spPr>
                          <a:xfrm flipH="1">
                            <a:off x="5072040" y="57909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 flipH="1">
                            <a:off x="5064480" y="578700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 flipH="1">
                            <a:off x="5068080" y="57888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4908600" y="6041160"/>
                      <a:ext cx="61200" cy="36720"/>
                      <a:chOff x="4908600" y="6041160"/>
                      <a:chExt cx="61200" cy="3672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4908600" y="6041160"/>
                        <a:ext cx="6120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03">
                            <a:moveTo>
                              <a:pt x="36" y="0"/>
                            </a:moveTo>
                            <a:lnTo>
                              <a:pt x="502" y="235"/>
                            </a:lnTo>
                            <a:lnTo>
                              <a:pt x="468" y="303"/>
                            </a:lnTo>
                            <a:lnTo>
                              <a:pt x="0" y="70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8" name=""/>
                      <p:cNvGrpSpPr/>
                      <p:nvPr/>
                    </p:nvGrpSpPr>
                    <p:grpSpPr>
                      <a:xfrm>
                        <a:off x="4910400" y="6042600"/>
                        <a:ext cx="57240" cy="34560"/>
                        <a:chOff x="4910400" y="6042600"/>
                        <a:chExt cx="57240" cy="34560"/>
                      </a:xfrm>
                    </p:grpSpPr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 flipH="1">
                          <a:off x="4910400" y="60426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 flipH="1">
                          <a:off x="4912920" y="604368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 flipH="1">
                          <a:off x="4964040" y="606924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 flipH="1">
                          <a:off x="4915080" y="60447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 flipH="1">
                          <a:off x="4918680" y="60465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 flipH="1">
                          <a:off x="4923360" y="604872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flipH="1">
                          <a:off x="4928760" y="605124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 flipH="1">
                          <a:off x="4933080" y="605340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 flipH="1">
                          <a:off x="4961880" y="6068520"/>
                          <a:ext cx="3960" cy="7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H="1">
                          <a:off x="4959000" y="606708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H="1">
                          <a:off x="4957200" y="60660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H="1">
                          <a:off x="4955040" y="606456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H="1">
                          <a:off x="4952160" y="606276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H="1">
                          <a:off x="4947480" y="606132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 flipH="1">
                          <a:off x="4943160" y="605844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H="1">
                          <a:off x="4938480" y="605592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4921200" y="5995080"/>
                      <a:ext cx="73080" cy="52920"/>
                      <a:chOff x="4921200" y="5995080"/>
                      <a:chExt cx="73080" cy="52920"/>
                    </a:xfrm>
                  </p:grpSpPr>
                  <p:sp>
                    <p:nvSpPr>
                      <p:cNvPr id="1046" name=""/>
                      <p:cNvSpPr/>
                      <p:nvPr/>
                    </p:nvSpPr>
                    <p:spPr>
                      <a:xfrm>
                        <a:off x="4921200" y="5995080"/>
                        <a:ext cx="7308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432">
                            <a:moveTo>
                              <a:pt x="71" y="0"/>
                            </a:moveTo>
                            <a:lnTo>
                              <a:pt x="599" y="288"/>
                            </a:lnTo>
                            <a:lnTo>
                              <a:pt x="529" y="432"/>
                            </a:lnTo>
                            <a:lnTo>
                              <a:pt x="0" y="141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7" name=""/>
                      <p:cNvGrpSpPr/>
                      <p:nvPr/>
                    </p:nvGrpSpPr>
                    <p:grpSpPr>
                      <a:xfrm>
                        <a:off x="4923720" y="5996880"/>
                        <a:ext cx="67320" cy="49680"/>
                        <a:chOff x="4923720" y="5996880"/>
                        <a:chExt cx="67320" cy="49680"/>
                      </a:xfrm>
                    </p:grpSpPr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H="1">
                          <a:off x="4931280" y="6000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 flipH="1">
                          <a:off x="4982760" y="60292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>
                          <a:off x="4926960" y="59986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>
                          <a:off x="4936320" y="60033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 flipH="1">
                          <a:off x="4948560" y="60105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>
                          <a:off x="4980240" y="6027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>
                          <a:off x="4977000" y="6026040"/>
                          <a:ext cx="86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 flipH="1">
                          <a:off x="4973040" y="602352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>
                          <a:off x="4956840" y="60148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>
                          <a:off x="4942440" y="600660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 flipH="1">
                          <a:off x="4968360" y="602136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H="1">
                          <a:off x="4963680" y="601812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H="1">
                          <a:off x="4923720" y="59968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4811400" y="6268320"/>
                    <a:ext cx="384120" cy="59400"/>
                    <a:chOff x="4811400" y="6268320"/>
                    <a:chExt cx="384120" cy="5940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4811400" y="6299640"/>
                      <a:ext cx="384120" cy="280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4839840" y="6268320"/>
                      <a:ext cx="326520" cy="302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4" name=""/>
                <p:cNvSpPr/>
                <p:nvPr/>
              </p:nvSpPr>
              <p:spPr>
                <a:xfrm>
                  <a:off x="4496760" y="6292800"/>
                  <a:ext cx="125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Laborator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2608560" y="5571360"/>
                <a:ext cx="910080" cy="818280"/>
                <a:chOff x="2608560" y="5571360"/>
                <a:chExt cx="910080" cy="81828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2608560" y="5571360"/>
                  <a:ext cx="910080" cy="735120"/>
                  <a:chOff x="2608560" y="5571360"/>
                  <a:chExt cx="910080" cy="735120"/>
                </a:xfrm>
              </p:grpSpPr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2608560" y="5571360"/>
                    <a:ext cx="910080" cy="735120"/>
                    <a:chOff x="2608560" y="5571360"/>
                    <a:chExt cx="910080" cy="735120"/>
                  </a:xfrm>
                </p:grpSpPr>
                <p:grpSp>
                  <p:nvGrpSpPr>
                    <p:cNvPr id="1068" name=""/>
                    <p:cNvGrpSpPr/>
                    <p:nvPr/>
                  </p:nvGrpSpPr>
                  <p:grpSpPr>
                    <a:xfrm>
                      <a:off x="2608560" y="5571360"/>
                      <a:ext cx="910080" cy="735120"/>
                      <a:chOff x="2608560" y="5571360"/>
                      <a:chExt cx="910080" cy="735120"/>
                    </a:xfrm>
                  </p:grpSpPr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2608560" y="5571360"/>
                        <a:ext cx="910080" cy="735120"/>
                        <a:chOff x="2608560" y="5571360"/>
                        <a:chExt cx="910080" cy="735120"/>
                      </a:xfrm>
                    </p:grpSpPr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 rot="1408800">
                          <a:off x="2638080" y="5847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200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2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 rot="1408800">
                          <a:off x="2641320" y="58402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3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rot="1408800">
                          <a:off x="2644920" y="5832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 rot="1408800">
                          <a:off x="2647800" y="58248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rot="1408800">
                          <a:off x="2651400" y="58168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rot="1408800">
                          <a:off x="2654640" y="5808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9"/>
                              </a:lnTo>
                              <a:lnTo>
                                <a:pt x="2459" y="292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5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6" name=""/>
                        <p:cNvSpPr/>
                        <p:nvPr/>
                      </p:nvSpPr>
                      <p:spPr>
                        <a:xfrm rot="1408800">
                          <a:off x="2657880" y="58014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rot="1408800">
                          <a:off x="2661840" y="5793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3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rot="1408800">
                          <a:off x="2665080" y="5785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6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6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 rot="1408800">
                          <a:off x="2668320" y="5778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0" name=""/>
                        <p:cNvSpPr/>
                        <p:nvPr/>
                      </p:nvSpPr>
                      <p:spPr>
                        <a:xfrm rot="1408800">
                          <a:off x="2671560" y="5770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6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 rot="1408800">
                          <a:off x="2674800" y="57625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 rot="1408800">
                          <a:off x="2678400" y="5754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8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0"/>
                              </a:lnTo>
                              <a:lnTo>
                                <a:pt x="2276" y="416"/>
                              </a:lnTo>
                              <a:lnTo>
                                <a:pt x="2085" y="569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3" name=""/>
                        <p:cNvSpPr/>
                        <p:nvPr/>
                      </p:nvSpPr>
                      <p:spPr>
                        <a:xfrm rot="1408800">
                          <a:off x="2681640" y="57470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6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 rot="1408800">
                          <a:off x="2685240" y="57394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 rot="1408800">
                          <a:off x="2688840" y="5731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4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2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6" name=""/>
                        <p:cNvSpPr/>
                        <p:nvPr/>
                      </p:nvSpPr>
                      <p:spPr>
                        <a:xfrm rot="1408800">
                          <a:off x="2692080" y="57240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 rot="1408800">
                          <a:off x="2695320" y="57164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5">
                              <a:moveTo>
                                <a:pt x="0" y="2050"/>
                              </a:moveTo>
                              <a:lnTo>
                                <a:pt x="1608" y="2855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18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7"/>
                              </a:lnTo>
                              <a:lnTo>
                                <a:pt x="1363" y="1100"/>
                              </a:lnTo>
                              <a:lnTo>
                                <a:pt x="1084" y="1259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8" name=""/>
                      <p:cNvGrpSpPr/>
                      <p:nvPr/>
                    </p:nvGrpSpPr>
                    <p:grpSpPr>
                      <a:xfrm>
                        <a:off x="2741400" y="5622480"/>
                        <a:ext cx="703080" cy="497880"/>
                        <a:chOff x="2741400" y="5622480"/>
                        <a:chExt cx="703080" cy="497880"/>
                      </a:xfrm>
                    </p:grpSpPr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 rot="1408800">
                          <a:off x="2765520" y="5742000"/>
                          <a:ext cx="654480" cy="25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5" h="2355">
                              <a:moveTo>
                                <a:pt x="0" y="1690"/>
                              </a:moveTo>
                              <a:lnTo>
                                <a:pt x="1325" y="2355"/>
                              </a:lnTo>
                              <a:lnTo>
                                <a:pt x="1536" y="2160"/>
                              </a:lnTo>
                              <a:lnTo>
                                <a:pt x="1733" y="1977"/>
                              </a:lnTo>
                              <a:lnTo>
                                <a:pt x="1923" y="1811"/>
                              </a:lnTo>
                              <a:lnTo>
                                <a:pt x="2138" y="1638"/>
                              </a:lnTo>
                              <a:lnTo>
                                <a:pt x="2295" y="1508"/>
                              </a:lnTo>
                              <a:lnTo>
                                <a:pt x="2519" y="1351"/>
                              </a:lnTo>
                              <a:lnTo>
                                <a:pt x="2748" y="1186"/>
                              </a:lnTo>
                              <a:lnTo>
                                <a:pt x="2939" y="1040"/>
                              </a:lnTo>
                              <a:lnTo>
                                <a:pt x="3112" y="923"/>
                              </a:lnTo>
                              <a:lnTo>
                                <a:pt x="3280" y="811"/>
                              </a:lnTo>
                              <a:lnTo>
                                <a:pt x="3447" y="701"/>
                              </a:lnTo>
                              <a:lnTo>
                                <a:pt x="3615" y="594"/>
                              </a:lnTo>
                              <a:lnTo>
                                <a:pt x="2421" y="0"/>
                              </a:lnTo>
                              <a:lnTo>
                                <a:pt x="2226" y="112"/>
                              </a:lnTo>
                              <a:lnTo>
                                <a:pt x="2026" y="239"/>
                              </a:lnTo>
                              <a:lnTo>
                                <a:pt x="1875" y="343"/>
                              </a:lnTo>
                              <a:lnTo>
                                <a:pt x="1718" y="470"/>
                              </a:lnTo>
                              <a:lnTo>
                                <a:pt x="1550" y="604"/>
                              </a:lnTo>
                              <a:lnTo>
                                <a:pt x="1385" y="747"/>
                              </a:lnTo>
                              <a:lnTo>
                                <a:pt x="1122" y="907"/>
                              </a:lnTo>
                              <a:lnTo>
                                <a:pt x="918" y="1022"/>
                              </a:lnTo>
                              <a:lnTo>
                                <a:pt x="677" y="1178"/>
                              </a:lnTo>
                              <a:lnTo>
                                <a:pt x="440" y="1343"/>
                              </a:lnTo>
                              <a:lnTo>
                                <a:pt x="225" y="1500"/>
                              </a:lnTo>
                              <a:lnTo>
                                <a:pt x="0" y="169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 rot="1408800">
                          <a:off x="2786400" y="5749200"/>
                          <a:ext cx="614520" cy="24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4" h="2221">
                              <a:moveTo>
                                <a:pt x="0" y="1612"/>
                              </a:moveTo>
                              <a:lnTo>
                                <a:pt x="1206" y="2221"/>
                              </a:lnTo>
                              <a:lnTo>
                                <a:pt x="1407" y="2022"/>
                              </a:lnTo>
                              <a:lnTo>
                                <a:pt x="1624" y="1831"/>
                              </a:lnTo>
                              <a:lnTo>
                                <a:pt x="1796" y="1679"/>
                              </a:lnTo>
                              <a:lnTo>
                                <a:pt x="1989" y="1524"/>
                              </a:lnTo>
                              <a:lnTo>
                                <a:pt x="2131" y="1409"/>
                              </a:lnTo>
                              <a:lnTo>
                                <a:pt x="2332" y="1267"/>
                              </a:lnTo>
                              <a:lnTo>
                                <a:pt x="2537" y="1118"/>
                              </a:lnTo>
                              <a:lnTo>
                                <a:pt x="2711" y="988"/>
                              </a:lnTo>
                              <a:lnTo>
                                <a:pt x="2868" y="881"/>
                              </a:lnTo>
                              <a:lnTo>
                                <a:pt x="3017" y="781"/>
                              </a:lnTo>
                              <a:lnTo>
                                <a:pt x="3195" y="667"/>
                              </a:lnTo>
                              <a:lnTo>
                                <a:pt x="3394" y="536"/>
                              </a:lnTo>
                              <a:lnTo>
                                <a:pt x="2308" y="0"/>
                              </a:lnTo>
                              <a:lnTo>
                                <a:pt x="2119" y="113"/>
                              </a:lnTo>
                              <a:lnTo>
                                <a:pt x="1927" y="229"/>
                              </a:lnTo>
                              <a:lnTo>
                                <a:pt x="1752" y="359"/>
                              </a:lnTo>
                              <a:lnTo>
                                <a:pt x="1610" y="472"/>
                              </a:lnTo>
                              <a:lnTo>
                                <a:pt x="1459" y="594"/>
                              </a:lnTo>
                              <a:lnTo>
                                <a:pt x="1312" y="723"/>
                              </a:lnTo>
                              <a:lnTo>
                                <a:pt x="1074" y="865"/>
                              </a:lnTo>
                              <a:lnTo>
                                <a:pt x="891" y="972"/>
                              </a:lnTo>
                              <a:lnTo>
                                <a:pt x="674" y="1110"/>
                              </a:lnTo>
                              <a:lnTo>
                                <a:pt x="473" y="1261"/>
                              </a:lnTo>
                              <a:lnTo>
                                <a:pt x="265" y="1414"/>
                              </a:lnTo>
                              <a:lnTo>
                                <a:pt x="0" y="1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91" name=""/>
                    <p:cNvGrpSpPr/>
                    <p:nvPr/>
                  </p:nvGrpSpPr>
                  <p:grpSpPr>
                    <a:xfrm>
                      <a:off x="2815560" y="5804280"/>
                      <a:ext cx="562320" cy="132120"/>
                      <a:chOff x="2815560" y="5804280"/>
                      <a:chExt cx="562320" cy="132120"/>
                    </a:xfrm>
                  </p:grpSpPr>
                  <p:grpSp>
                    <p:nvGrpSpPr>
                      <p:cNvPr id="1092" name=""/>
                      <p:cNvGrpSpPr/>
                      <p:nvPr/>
                    </p:nvGrpSpPr>
                    <p:grpSpPr>
                      <a:xfrm>
                        <a:off x="2815560" y="5808240"/>
                        <a:ext cx="62640" cy="9360"/>
                        <a:chOff x="2815560" y="5808240"/>
                        <a:chExt cx="62640" cy="9360"/>
                      </a:xfrm>
                    </p:grpSpPr>
                    <p:sp>
                      <p:nvSpPr>
                        <p:cNvPr id="1093" name=""/>
                        <p:cNvSpPr/>
                        <p:nvPr/>
                      </p:nvSpPr>
                      <p:spPr>
                        <a:xfrm flipV="1">
                          <a:off x="2815560" y="580824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 flipV="1">
                          <a:off x="2824920" y="581616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5" name=""/>
                      <p:cNvGrpSpPr/>
                      <p:nvPr/>
                    </p:nvGrpSpPr>
                    <p:grpSpPr>
                      <a:xfrm>
                        <a:off x="2954880" y="5921280"/>
                        <a:ext cx="59400" cy="15120"/>
                        <a:chOff x="2954880" y="5921280"/>
                        <a:chExt cx="59400" cy="15120"/>
                      </a:xfrm>
                    </p:grpSpPr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 flipV="1">
                          <a:off x="2954880" y="5921280"/>
                          <a:ext cx="4752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 flipV="1">
                          <a:off x="2966400" y="5931360"/>
                          <a:ext cx="4788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8" name=""/>
                      <p:cNvGrpSpPr/>
                      <p:nvPr/>
                    </p:nvGrpSpPr>
                    <p:grpSpPr>
                      <a:xfrm>
                        <a:off x="3321000" y="5914800"/>
                        <a:ext cx="56880" cy="11160"/>
                        <a:chOff x="3321000" y="5914800"/>
                        <a:chExt cx="56880" cy="11160"/>
                      </a:xfrm>
                    </p:grpSpPr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 flipH="1" flipV="1">
                          <a:off x="3332160" y="5924880"/>
                          <a:ext cx="45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 flipH="1" flipV="1">
                          <a:off x="3321000" y="5914800"/>
                          <a:ext cx="450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3197880" y="5810040"/>
                        <a:ext cx="53280" cy="10440"/>
                        <a:chOff x="3197880" y="5810040"/>
                        <a:chExt cx="53280" cy="10440"/>
                      </a:xfrm>
                    </p:grpSpPr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 flipH="1" flipV="1">
                          <a:off x="3197880" y="5810040"/>
                          <a:ext cx="4392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 flipH="1" flipV="1">
                          <a:off x="3206880" y="5818320"/>
                          <a:ext cx="4428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4" name=""/>
                      <p:cNvGrpSpPr/>
                      <p:nvPr/>
                    </p:nvGrpSpPr>
                    <p:grpSpPr>
                      <a:xfrm>
                        <a:off x="3042360" y="5804280"/>
                        <a:ext cx="167040" cy="127800"/>
                        <a:chOff x="3042360" y="5804280"/>
                        <a:chExt cx="167040" cy="127800"/>
                      </a:xfrm>
                    </p:grpSpPr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 rot="1408800">
                          <a:off x="3051000" y="5830560"/>
                          <a:ext cx="1486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 rot="1408800">
                          <a:off x="3051720" y="5830920"/>
                          <a:ext cx="1486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107" name=""/>
                  <p:cNvSpPr/>
                  <p:nvPr/>
                </p:nvSpPr>
                <p:spPr>
                  <a:xfrm rot="1408800">
                    <a:off x="2972520" y="5822640"/>
                    <a:ext cx="252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" h="2070">
                        <a:moveTo>
                          <a:pt x="0" y="0"/>
                        </a:moveTo>
                        <a:lnTo>
                          <a:pt x="1397" y="723"/>
                        </a:lnTo>
                        <a:lnTo>
                          <a:pt x="1395" y="207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8" name=""/>
                <p:cNvSpPr/>
                <p:nvPr/>
              </p:nvSpPr>
              <p:spPr>
                <a:xfrm>
                  <a:off x="2777040" y="6021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915120" y="5843520"/>
                <a:ext cx="936720" cy="631080"/>
                <a:chOff x="915120" y="5843520"/>
                <a:chExt cx="936720" cy="631080"/>
              </a:xfrm>
            </p:grpSpPr>
            <p:grpSp>
              <p:nvGrpSpPr>
                <p:cNvPr id="1110" name=""/>
                <p:cNvGrpSpPr/>
                <p:nvPr/>
              </p:nvGrpSpPr>
              <p:grpSpPr>
                <a:xfrm>
                  <a:off x="946080" y="5843520"/>
                  <a:ext cx="800280" cy="384120"/>
                  <a:chOff x="946080" y="5843520"/>
                  <a:chExt cx="800280" cy="38412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>
                    <a:off x="1050840" y="6041880"/>
                    <a:ext cx="592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541">
                        <a:moveTo>
                          <a:pt x="0" y="540"/>
                        </a:moveTo>
                        <a:lnTo>
                          <a:pt x="0" y="0"/>
                        </a:lnTo>
                        <a:lnTo>
                          <a:pt x="3888" y="0"/>
                        </a:lnTo>
                        <a:lnTo>
                          <a:pt x="3888" y="541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1352520" y="593892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1241280" y="5843520"/>
                    <a:ext cx="209520" cy="95400"/>
                  </a:xfrm>
                  <a:prstGeom prst="rect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946080" y="6132600"/>
                    <a:ext cx="800280" cy="95040"/>
                    <a:chOff x="946080" y="6132600"/>
                    <a:chExt cx="800280" cy="95040"/>
                  </a:xfrm>
                </p:grpSpPr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124452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>
                      <a:off x="153684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94608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18" name=""/>
                <p:cNvSpPr/>
                <p:nvPr/>
              </p:nvSpPr>
              <p:spPr>
                <a:xfrm>
                  <a:off x="915120" y="6167520"/>
                  <a:ext cx="93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Organisa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869800" y="5715000"/>
                <a:ext cx="1105920" cy="834840"/>
                <a:chOff x="5869800" y="5715000"/>
                <a:chExt cx="1105920" cy="83484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869800" y="6181560"/>
                  <a:ext cx="110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Kuriku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1" name=""/>
                <p:cNvGrpSpPr/>
                <p:nvPr/>
              </p:nvGrpSpPr>
              <p:grpSpPr>
                <a:xfrm>
                  <a:off x="5945040" y="5715000"/>
                  <a:ext cx="579240" cy="614160"/>
                  <a:chOff x="5945040" y="5715000"/>
                  <a:chExt cx="579240" cy="614160"/>
                </a:xfrm>
              </p:grpSpPr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6032160" y="5715000"/>
                    <a:ext cx="492120" cy="614160"/>
                    <a:chOff x="6032160" y="5715000"/>
                    <a:chExt cx="492120" cy="614160"/>
                  </a:xfrm>
                </p:grpSpPr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6234840" y="5721120"/>
                      <a:ext cx="1756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1" h="1468">
                          <a:moveTo>
                            <a:pt x="1338" y="0"/>
                          </a:moveTo>
                          <a:lnTo>
                            <a:pt x="1178" y="382"/>
                          </a:lnTo>
                          <a:lnTo>
                            <a:pt x="426" y="252"/>
                          </a:lnTo>
                          <a:lnTo>
                            <a:pt x="160" y="417"/>
                          </a:lnTo>
                          <a:lnTo>
                            <a:pt x="0" y="711"/>
                          </a:lnTo>
                          <a:lnTo>
                            <a:pt x="68" y="964"/>
                          </a:lnTo>
                          <a:lnTo>
                            <a:pt x="492" y="1175"/>
                          </a:lnTo>
                          <a:lnTo>
                            <a:pt x="2222" y="1468"/>
                          </a:lnTo>
                          <a:lnTo>
                            <a:pt x="2189" y="1175"/>
                          </a:lnTo>
                          <a:lnTo>
                            <a:pt x="2316" y="922"/>
                          </a:lnTo>
                          <a:lnTo>
                            <a:pt x="2641" y="839"/>
                          </a:lnTo>
                          <a:lnTo>
                            <a:pt x="2549" y="627"/>
                          </a:lnTo>
                          <a:lnTo>
                            <a:pt x="1896" y="503"/>
                          </a:lnTo>
                          <a:lnTo>
                            <a:pt x="2056" y="210"/>
                          </a:lnTo>
                          <a:lnTo>
                            <a:pt x="1338" y="0"/>
                          </a:lnTo>
                          <a:close/>
                        </a:path>
                      </a:pathLst>
                    </a:custGeom>
                    <a:solidFill>
                      <a:srgbClr val="00eaff"/>
                    </a:solidFill>
                    <a:ln w="0">
                      <a:solidFill>
                        <a:srgbClr val="00ea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6240960" y="5751000"/>
                      <a:ext cx="13896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8" h="676">
                          <a:moveTo>
                            <a:pt x="59" y="0"/>
                          </a:moveTo>
                          <a:lnTo>
                            <a:pt x="2088" y="382"/>
                          </a:lnTo>
                          <a:lnTo>
                            <a:pt x="1923" y="505"/>
                          </a:lnTo>
                          <a:lnTo>
                            <a:pt x="1821" y="676"/>
                          </a:lnTo>
                          <a:lnTo>
                            <a:pt x="1729" y="547"/>
                          </a:lnTo>
                          <a:lnTo>
                            <a:pt x="1630" y="630"/>
                          </a:lnTo>
                          <a:lnTo>
                            <a:pt x="1529" y="505"/>
                          </a:lnTo>
                          <a:lnTo>
                            <a:pt x="1336" y="547"/>
                          </a:lnTo>
                          <a:lnTo>
                            <a:pt x="1272" y="466"/>
                          </a:lnTo>
                          <a:lnTo>
                            <a:pt x="1077" y="505"/>
                          </a:lnTo>
                          <a:lnTo>
                            <a:pt x="1010" y="422"/>
                          </a:lnTo>
                          <a:lnTo>
                            <a:pt x="846" y="466"/>
                          </a:lnTo>
                          <a:lnTo>
                            <a:pt x="777" y="382"/>
                          </a:lnTo>
                          <a:lnTo>
                            <a:pt x="617" y="466"/>
                          </a:lnTo>
                          <a:lnTo>
                            <a:pt x="553" y="340"/>
                          </a:lnTo>
                          <a:lnTo>
                            <a:pt x="391" y="382"/>
                          </a:lnTo>
                          <a:lnTo>
                            <a:pt x="360" y="254"/>
                          </a:lnTo>
                          <a:lnTo>
                            <a:pt x="127" y="340"/>
                          </a:lnTo>
                          <a:lnTo>
                            <a:pt x="94" y="210"/>
                          </a:lnTo>
                          <a:lnTo>
                            <a:pt x="0" y="129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6088680" y="6122880"/>
                      <a:ext cx="27864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7" h="2181">
                          <a:moveTo>
                            <a:pt x="0" y="1215"/>
                          </a:moveTo>
                          <a:lnTo>
                            <a:pt x="2872" y="1805"/>
                          </a:lnTo>
                          <a:lnTo>
                            <a:pt x="4177" y="0"/>
                          </a:lnTo>
                          <a:lnTo>
                            <a:pt x="2805" y="2181"/>
                          </a:lnTo>
                          <a:lnTo>
                            <a:pt x="0" y="12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6135120" y="5715000"/>
                      <a:ext cx="3729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2" h="2694">
                          <a:moveTo>
                            <a:pt x="0" y="2694"/>
                          </a:moveTo>
                          <a:lnTo>
                            <a:pt x="459" y="2104"/>
                          </a:lnTo>
                          <a:lnTo>
                            <a:pt x="685" y="1418"/>
                          </a:lnTo>
                          <a:lnTo>
                            <a:pt x="770" y="1023"/>
                          </a:lnTo>
                          <a:lnTo>
                            <a:pt x="846" y="531"/>
                          </a:lnTo>
                          <a:lnTo>
                            <a:pt x="1471" y="713"/>
                          </a:lnTo>
                          <a:lnTo>
                            <a:pt x="1686" y="432"/>
                          </a:lnTo>
                          <a:lnTo>
                            <a:pt x="1923" y="337"/>
                          </a:lnTo>
                          <a:lnTo>
                            <a:pt x="2688" y="425"/>
                          </a:lnTo>
                          <a:lnTo>
                            <a:pt x="2820" y="50"/>
                          </a:lnTo>
                          <a:lnTo>
                            <a:pt x="3218" y="0"/>
                          </a:lnTo>
                          <a:lnTo>
                            <a:pt x="3503" y="83"/>
                          </a:lnTo>
                          <a:lnTo>
                            <a:pt x="3686" y="337"/>
                          </a:lnTo>
                          <a:lnTo>
                            <a:pt x="3613" y="630"/>
                          </a:lnTo>
                          <a:lnTo>
                            <a:pt x="4332" y="757"/>
                          </a:lnTo>
                          <a:lnTo>
                            <a:pt x="4459" y="1049"/>
                          </a:lnTo>
                          <a:lnTo>
                            <a:pt x="4459" y="1221"/>
                          </a:lnTo>
                          <a:lnTo>
                            <a:pt x="5294" y="1316"/>
                          </a:lnTo>
                          <a:lnTo>
                            <a:pt x="5602" y="1316"/>
                          </a:lnTo>
                          <a:lnTo>
                            <a:pt x="4487" y="1304"/>
                          </a:lnTo>
                          <a:lnTo>
                            <a:pt x="3806" y="1137"/>
                          </a:lnTo>
                          <a:lnTo>
                            <a:pt x="3686" y="1418"/>
                          </a:lnTo>
                          <a:lnTo>
                            <a:pt x="3914" y="1515"/>
                          </a:lnTo>
                          <a:lnTo>
                            <a:pt x="3707" y="1943"/>
                          </a:lnTo>
                          <a:lnTo>
                            <a:pt x="1764" y="1611"/>
                          </a:lnTo>
                          <a:lnTo>
                            <a:pt x="1962" y="1176"/>
                          </a:lnTo>
                          <a:lnTo>
                            <a:pt x="3602" y="1475"/>
                          </a:lnTo>
                          <a:lnTo>
                            <a:pt x="3525" y="1221"/>
                          </a:lnTo>
                          <a:lnTo>
                            <a:pt x="3613" y="1023"/>
                          </a:lnTo>
                          <a:lnTo>
                            <a:pt x="3936" y="757"/>
                          </a:lnTo>
                          <a:lnTo>
                            <a:pt x="3149" y="630"/>
                          </a:lnTo>
                          <a:lnTo>
                            <a:pt x="3378" y="337"/>
                          </a:lnTo>
                          <a:lnTo>
                            <a:pt x="3310" y="171"/>
                          </a:lnTo>
                          <a:lnTo>
                            <a:pt x="3073" y="138"/>
                          </a:lnTo>
                          <a:lnTo>
                            <a:pt x="2923" y="171"/>
                          </a:lnTo>
                          <a:lnTo>
                            <a:pt x="2762" y="531"/>
                          </a:lnTo>
                          <a:lnTo>
                            <a:pt x="1934" y="425"/>
                          </a:lnTo>
                          <a:lnTo>
                            <a:pt x="1630" y="674"/>
                          </a:lnTo>
                          <a:lnTo>
                            <a:pt x="1614" y="918"/>
                          </a:lnTo>
                          <a:lnTo>
                            <a:pt x="1764" y="1122"/>
                          </a:lnTo>
                          <a:lnTo>
                            <a:pt x="1923" y="1221"/>
                          </a:lnTo>
                          <a:lnTo>
                            <a:pt x="1614" y="1122"/>
                          </a:lnTo>
                          <a:lnTo>
                            <a:pt x="1459" y="1023"/>
                          </a:lnTo>
                          <a:lnTo>
                            <a:pt x="1459" y="823"/>
                          </a:lnTo>
                          <a:lnTo>
                            <a:pt x="913" y="674"/>
                          </a:lnTo>
                          <a:lnTo>
                            <a:pt x="685" y="1805"/>
                          </a:lnTo>
                          <a:lnTo>
                            <a:pt x="0" y="26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6032160" y="5808600"/>
                      <a:ext cx="4921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2" h="7285">
                          <a:moveTo>
                            <a:pt x="6995" y="102"/>
                          </a:moveTo>
                          <a:lnTo>
                            <a:pt x="5916" y="2362"/>
                          </a:lnTo>
                          <a:lnTo>
                            <a:pt x="4689" y="4226"/>
                          </a:lnTo>
                          <a:lnTo>
                            <a:pt x="3536" y="5806"/>
                          </a:lnTo>
                          <a:lnTo>
                            <a:pt x="1927" y="5612"/>
                          </a:lnTo>
                          <a:lnTo>
                            <a:pt x="998" y="5414"/>
                          </a:lnTo>
                          <a:lnTo>
                            <a:pt x="3536" y="6006"/>
                          </a:lnTo>
                          <a:lnTo>
                            <a:pt x="4463" y="4923"/>
                          </a:lnTo>
                          <a:lnTo>
                            <a:pt x="5386" y="3548"/>
                          </a:lnTo>
                          <a:lnTo>
                            <a:pt x="6451" y="1571"/>
                          </a:lnTo>
                          <a:lnTo>
                            <a:pt x="5226" y="4039"/>
                          </a:lnTo>
                          <a:lnTo>
                            <a:pt x="3733" y="6513"/>
                          </a:lnTo>
                          <a:lnTo>
                            <a:pt x="5840" y="3445"/>
                          </a:lnTo>
                          <a:lnTo>
                            <a:pt x="5043" y="5127"/>
                          </a:lnTo>
                          <a:lnTo>
                            <a:pt x="3995" y="6888"/>
                          </a:lnTo>
                          <a:lnTo>
                            <a:pt x="2806" y="6513"/>
                          </a:lnTo>
                          <a:lnTo>
                            <a:pt x="1697" y="6216"/>
                          </a:lnTo>
                          <a:lnTo>
                            <a:pt x="0" y="5907"/>
                          </a:lnTo>
                          <a:lnTo>
                            <a:pt x="2225" y="6490"/>
                          </a:lnTo>
                          <a:lnTo>
                            <a:pt x="3767" y="7082"/>
                          </a:lnTo>
                          <a:lnTo>
                            <a:pt x="4153" y="7285"/>
                          </a:lnTo>
                          <a:lnTo>
                            <a:pt x="5916" y="3741"/>
                          </a:lnTo>
                          <a:lnTo>
                            <a:pt x="6995" y="1378"/>
                          </a:lnTo>
                          <a:lnTo>
                            <a:pt x="7382" y="295"/>
                          </a:lnTo>
                          <a:lnTo>
                            <a:pt x="7071" y="396"/>
                          </a:lnTo>
                          <a:lnTo>
                            <a:pt x="7225" y="0"/>
                          </a:lnTo>
                          <a:lnTo>
                            <a:pt x="6995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6050880" y="6205320"/>
                      <a:ext cx="22320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3" h="1048">
                          <a:moveTo>
                            <a:pt x="0" y="0"/>
                          </a:moveTo>
                          <a:lnTo>
                            <a:pt x="3255" y="793"/>
                          </a:lnTo>
                          <a:lnTo>
                            <a:pt x="3353" y="10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5945040" y="5765040"/>
                    <a:ext cx="57852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5" h="800">
                        <a:moveTo>
                          <a:pt x="473" y="0"/>
                        </a:moveTo>
                        <a:lnTo>
                          <a:pt x="445" y="134"/>
                        </a:lnTo>
                        <a:cubicBezTo>
                          <a:pt x="407" y="194"/>
                          <a:pt x="336" y="290"/>
                          <a:pt x="246" y="362"/>
                        </a:cubicBezTo>
                        <a:cubicBezTo>
                          <a:pt x="156" y="434"/>
                          <a:pt x="0" y="585"/>
                          <a:pt x="3" y="650"/>
                        </a:cubicBezTo>
                        <a:lnTo>
                          <a:pt x="291" y="756"/>
                        </a:lnTo>
                        <a:cubicBezTo>
                          <a:pt x="392" y="781"/>
                          <a:pt x="501" y="796"/>
                          <a:pt x="609" y="800"/>
                        </a:cubicBezTo>
                        <a:cubicBezTo>
                          <a:pt x="700" y="748"/>
                          <a:pt x="781" y="542"/>
                          <a:pt x="865" y="428"/>
                        </a:cubicBezTo>
                        <a:cubicBezTo>
                          <a:pt x="949" y="314"/>
                          <a:pt x="1005" y="152"/>
                          <a:pt x="1041" y="90"/>
                        </a:cubicBezTo>
                        <a:cubicBezTo>
                          <a:pt x="1044" y="84"/>
                          <a:pt x="1085" y="78"/>
                          <a:pt x="1065" y="76"/>
                        </a:cubicBezTo>
                        <a:cubicBezTo>
                          <a:pt x="1045" y="74"/>
                          <a:pt x="962" y="81"/>
                          <a:pt x="923" y="78"/>
                        </a:cubicBezTo>
                        <a:lnTo>
                          <a:pt x="833" y="56"/>
                        </a:lnTo>
                        <a:lnTo>
                          <a:pt x="819" y="92"/>
                        </a:lnTo>
                        <a:lnTo>
                          <a:pt x="849" y="100"/>
                        </a:lnTo>
                        <a:lnTo>
                          <a:pt x="817" y="156"/>
                        </a:lnTo>
                        <a:lnTo>
                          <a:pt x="575" y="112"/>
                        </a:lnTo>
                        <a:lnTo>
                          <a:pt x="601" y="66"/>
                        </a:lnTo>
                        <a:lnTo>
                          <a:pt x="539" y="40"/>
                        </a:lnTo>
                        <a:lnTo>
                          <a:pt x="539" y="14"/>
                        </a:lnTo>
                        <a:lnTo>
                          <a:pt x="473" y="0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5028120" y="5715000"/>
                <a:ext cx="1275120" cy="689760"/>
                <a:chOff x="5028120" y="5715000"/>
                <a:chExt cx="1275120" cy="68976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5449680" y="5715000"/>
                  <a:ext cx="387000" cy="474840"/>
                  <a:chOff x="5449680" y="5715000"/>
                  <a:chExt cx="387000" cy="4748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5498640" y="578160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1" h="3517">
                        <a:moveTo>
                          <a:pt x="23" y="3517"/>
                        </a:moveTo>
                        <a:lnTo>
                          <a:pt x="0" y="0"/>
                        </a:lnTo>
                        <a:lnTo>
                          <a:pt x="9" y="75"/>
                        </a:lnTo>
                        <a:lnTo>
                          <a:pt x="46" y="140"/>
                        </a:lnTo>
                        <a:lnTo>
                          <a:pt x="89" y="198"/>
                        </a:lnTo>
                        <a:lnTo>
                          <a:pt x="166" y="268"/>
                        </a:lnTo>
                        <a:lnTo>
                          <a:pt x="252" y="320"/>
                        </a:lnTo>
                        <a:lnTo>
                          <a:pt x="357" y="366"/>
                        </a:lnTo>
                        <a:lnTo>
                          <a:pt x="477" y="406"/>
                        </a:lnTo>
                        <a:lnTo>
                          <a:pt x="615" y="447"/>
                        </a:lnTo>
                        <a:lnTo>
                          <a:pt x="754" y="470"/>
                        </a:lnTo>
                        <a:lnTo>
                          <a:pt x="910" y="488"/>
                        </a:lnTo>
                        <a:lnTo>
                          <a:pt x="1068" y="492"/>
                        </a:lnTo>
                        <a:lnTo>
                          <a:pt x="1227" y="488"/>
                        </a:lnTo>
                        <a:lnTo>
                          <a:pt x="1375" y="477"/>
                        </a:lnTo>
                        <a:lnTo>
                          <a:pt x="1520" y="454"/>
                        </a:lnTo>
                        <a:lnTo>
                          <a:pt x="1663" y="431"/>
                        </a:lnTo>
                        <a:lnTo>
                          <a:pt x="1787" y="382"/>
                        </a:lnTo>
                        <a:lnTo>
                          <a:pt x="1901" y="343"/>
                        </a:lnTo>
                        <a:lnTo>
                          <a:pt x="1998" y="295"/>
                        </a:lnTo>
                        <a:lnTo>
                          <a:pt x="2086" y="232"/>
                        </a:lnTo>
                        <a:lnTo>
                          <a:pt x="2144" y="171"/>
                        </a:lnTo>
                        <a:lnTo>
                          <a:pt x="2178" y="106"/>
                        </a:lnTo>
                        <a:lnTo>
                          <a:pt x="2201" y="34"/>
                        </a:lnTo>
                        <a:lnTo>
                          <a:pt x="2201" y="0"/>
                        </a:lnTo>
                        <a:lnTo>
                          <a:pt x="2201" y="3517"/>
                        </a:lnTo>
                        <a:lnTo>
                          <a:pt x="23" y="35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5583960" y="5726520"/>
                    <a:ext cx="738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0" h="3524">
                        <a:moveTo>
                          <a:pt x="23" y="3524"/>
                        </a:moveTo>
                        <a:lnTo>
                          <a:pt x="0" y="0"/>
                        </a:lnTo>
                        <a:lnTo>
                          <a:pt x="11" y="75"/>
                        </a:lnTo>
                        <a:lnTo>
                          <a:pt x="45" y="143"/>
                        </a:lnTo>
                        <a:lnTo>
                          <a:pt x="89" y="201"/>
                        </a:lnTo>
                        <a:lnTo>
                          <a:pt x="162" y="271"/>
                        </a:lnTo>
                        <a:lnTo>
                          <a:pt x="250" y="322"/>
                        </a:lnTo>
                        <a:lnTo>
                          <a:pt x="356" y="377"/>
                        </a:lnTo>
                        <a:lnTo>
                          <a:pt x="479" y="417"/>
                        </a:lnTo>
                        <a:lnTo>
                          <a:pt x="618" y="454"/>
                        </a:lnTo>
                        <a:lnTo>
                          <a:pt x="753" y="478"/>
                        </a:lnTo>
                        <a:lnTo>
                          <a:pt x="909" y="495"/>
                        </a:lnTo>
                        <a:lnTo>
                          <a:pt x="1066" y="497"/>
                        </a:lnTo>
                        <a:lnTo>
                          <a:pt x="1225" y="495"/>
                        </a:lnTo>
                        <a:lnTo>
                          <a:pt x="1370" y="485"/>
                        </a:lnTo>
                        <a:lnTo>
                          <a:pt x="1519" y="465"/>
                        </a:lnTo>
                        <a:lnTo>
                          <a:pt x="1660" y="435"/>
                        </a:lnTo>
                        <a:lnTo>
                          <a:pt x="1789" y="390"/>
                        </a:lnTo>
                        <a:lnTo>
                          <a:pt x="1900" y="350"/>
                        </a:lnTo>
                        <a:lnTo>
                          <a:pt x="2000" y="298"/>
                        </a:lnTo>
                        <a:lnTo>
                          <a:pt x="2085" y="234"/>
                        </a:lnTo>
                        <a:lnTo>
                          <a:pt x="2143" y="174"/>
                        </a:lnTo>
                        <a:lnTo>
                          <a:pt x="2177" y="109"/>
                        </a:lnTo>
                        <a:lnTo>
                          <a:pt x="2200" y="38"/>
                        </a:lnTo>
                        <a:lnTo>
                          <a:pt x="2200" y="0"/>
                        </a:lnTo>
                        <a:lnTo>
                          <a:pt x="2200" y="3524"/>
                        </a:lnTo>
                        <a:lnTo>
                          <a:pt x="23" y="35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5668920" y="5753880"/>
                    <a:ext cx="7380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3514">
                        <a:moveTo>
                          <a:pt x="24" y="3514"/>
                        </a:moveTo>
                        <a:lnTo>
                          <a:pt x="0" y="0"/>
                        </a:lnTo>
                        <a:lnTo>
                          <a:pt x="11" y="74"/>
                        </a:lnTo>
                        <a:lnTo>
                          <a:pt x="45" y="134"/>
                        </a:lnTo>
                        <a:lnTo>
                          <a:pt x="89" y="195"/>
                        </a:lnTo>
                        <a:lnTo>
                          <a:pt x="166" y="263"/>
                        </a:lnTo>
                        <a:lnTo>
                          <a:pt x="254" y="321"/>
                        </a:lnTo>
                        <a:lnTo>
                          <a:pt x="356" y="368"/>
                        </a:lnTo>
                        <a:lnTo>
                          <a:pt x="476" y="410"/>
                        </a:lnTo>
                        <a:lnTo>
                          <a:pt x="619" y="449"/>
                        </a:lnTo>
                        <a:lnTo>
                          <a:pt x="757" y="472"/>
                        </a:lnTo>
                        <a:lnTo>
                          <a:pt x="911" y="490"/>
                        </a:lnTo>
                        <a:lnTo>
                          <a:pt x="1068" y="490"/>
                        </a:lnTo>
                        <a:lnTo>
                          <a:pt x="1225" y="490"/>
                        </a:lnTo>
                        <a:lnTo>
                          <a:pt x="1370" y="479"/>
                        </a:lnTo>
                        <a:lnTo>
                          <a:pt x="1521" y="456"/>
                        </a:lnTo>
                        <a:lnTo>
                          <a:pt x="1658" y="426"/>
                        </a:lnTo>
                        <a:lnTo>
                          <a:pt x="1793" y="381"/>
                        </a:lnTo>
                        <a:lnTo>
                          <a:pt x="1904" y="340"/>
                        </a:lnTo>
                        <a:lnTo>
                          <a:pt x="2004" y="290"/>
                        </a:lnTo>
                        <a:lnTo>
                          <a:pt x="2082" y="226"/>
                        </a:lnTo>
                        <a:lnTo>
                          <a:pt x="2143" y="165"/>
                        </a:lnTo>
                        <a:lnTo>
                          <a:pt x="2177" y="100"/>
                        </a:lnTo>
                        <a:lnTo>
                          <a:pt x="2197" y="32"/>
                        </a:lnTo>
                        <a:lnTo>
                          <a:pt x="2197" y="0"/>
                        </a:lnTo>
                        <a:lnTo>
                          <a:pt x="2197" y="3514"/>
                        </a:lnTo>
                        <a:lnTo>
                          <a:pt x="24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5756760" y="578592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9" h="3514">
                        <a:moveTo>
                          <a:pt x="27" y="3514"/>
                        </a:moveTo>
                        <a:lnTo>
                          <a:pt x="0" y="0"/>
                        </a:lnTo>
                        <a:lnTo>
                          <a:pt x="15" y="73"/>
                        </a:lnTo>
                        <a:lnTo>
                          <a:pt x="51" y="142"/>
                        </a:lnTo>
                        <a:lnTo>
                          <a:pt x="92" y="195"/>
                        </a:lnTo>
                        <a:lnTo>
                          <a:pt x="169" y="263"/>
                        </a:lnTo>
                        <a:lnTo>
                          <a:pt x="257" y="321"/>
                        </a:lnTo>
                        <a:lnTo>
                          <a:pt x="357" y="367"/>
                        </a:lnTo>
                        <a:lnTo>
                          <a:pt x="483" y="410"/>
                        </a:lnTo>
                        <a:lnTo>
                          <a:pt x="621" y="445"/>
                        </a:lnTo>
                        <a:lnTo>
                          <a:pt x="759" y="470"/>
                        </a:lnTo>
                        <a:lnTo>
                          <a:pt x="913" y="487"/>
                        </a:lnTo>
                        <a:lnTo>
                          <a:pt x="1070" y="494"/>
                        </a:lnTo>
                        <a:lnTo>
                          <a:pt x="1228" y="487"/>
                        </a:lnTo>
                        <a:lnTo>
                          <a:pt x="1377" y="476"/>
                        </a:lnTo>
                        <a:lnTo>
                          <a:pt x="1528" y="456"/>
                        </a:lnTo>
                        <a:lnTo>
                          <a:pt x="1662" y="426"/>
                        </a:lnTo>
                        <a:lnTo>
                          <a:pt x="1788" y="382"/>
                        </a:lnTo>
                        <a:lnTo>
                          <a:pt x="1903" y="340"/>
                        </a:lnTo>
                        <a:lnTo>
                          <a:pt x="2000" y="287"/>
                        </a:lnTo>
                        <a:lnTo>
                          <a:pt x="2088" y="233"/>
                        </a:lnTo>
                        <a:lnTo>
                          <a:pt x="2145" y="168"/>
                        </a:lnTo>
                        <a:lnTo>
                          <a:pt x="2180" y="104"/>
                        </a:lnTo>
                        <a:lnTo>
                          <a:pt x="2199" y="34"/>
                        </a:lnTo>
                        <a:lnTo>
                          <a:pt x="2199" y="0"/>
                        </a:lnTo>
                        <a:lnTo>
                          <a:pt x="2199" y="3514"/>
                        </a:lnTo>
                        <a:lnTo>
                          <a:pt x="27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449680" y="5774400"/>
                    <a:ext cx="12924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1" h="10170">
                        <a:moveTo>
                          <a:pt x="0" y="6000"/>
                        </a:moveTo>
                        <a:lnTo>
                          <a:pt x="1309" y="0"/>
                        </a:lnTo>
                        <a:lnTo>
                          <a:pt x="1490" y="0"/>
                        </a:lnTo>
                        <a:lnTo>
                          <a:pt x="1481" y="3143"/>
                        </a:lnTo>
                        <a:lnTo>
                          <a:pt x="1481" y="3215"/>
                        </a:lnTo>
                        <a:lnTo>
                          <a:pt x="1513" y="3282"/>
                        </a:lnTo>
                        <a:lnTo>
                          <a:pt x="1562" y="3353"/>
                        </a:lnTo>
                        <a:lnTo>
                          <a:pt x="1636" y="3411"/>
                        </a:lnTo>
                        <a:lnTo>
                          <a:pt x="1731" y="3461"/>
                        </a:lnTo>
                        <a:lnTo>
                          <a:pt x="1821" y="3515"/>
                        </a:lnTo>
                        <a:lnTo>
                          <a:pt x="1946" y="3552"/>
                        </a:lnTo>
                        <a:lnTo>
                          <a:pt x="2082" y="3594"/>
                        </a:lnTo>
                        <a:lnTo>
                          <a:pt x="2223" y="3618"/>
                        </a:lnTo>
                        <a:lnTo>
                          <a:pt x="2368" y="3634"/>
                        </a:lnTo>
                        <a:lnTo>
                          <a:pt x="2519" y="3641"/>
                        </a:lnTo>
                        <a:lnTo>
                          <a:pt x="2681" y="3641"/>
                        </a:lnTo>
                        <a:lnTo>
                          <a:pt x="2819" y="3625"/>
                        </a:lnTo>
                        <a:lnTo>
                          <a:pt x="2964" y="3603"/>
                        </a:lnTo>
                        <a:lnTo>
                          <a:pt x="3107" y="3575"/>
                        </a:lnTo>
                        <a:lnTo>
                          <a:pt x="3225" y="3540"/>
                        </a:lnTo>
                        <a:lnTo>
                          <a:pt x="3340" y="3488"/>
                        </a:lnTo>
                        <a:lnTo>
                          <a:pt x="3447" y="3434"/>
                        </a:lnTo>
                        <a:lnTo>
                          <a:pt x="3521" y="3377"/>
                        </a:lnTo>
                        <a:lnTo>
                          <a:pt x="3579" y="3312"/>
                        </a:lnTo>
                        <a:lnTo>
                          <a:pt x="3618" y="3246"/>
                        </a:lnTo>
                        <a:lnTo>
                          <a:pt x="3633" y="3174"/>
                        </a:lnTo>
                        <a:lnTo>
                          <a:pt x="3643" y="3143"/>
                        </a:lnTo>
                        <a:lnTo>
                          <a:pt x="3643" y="0"/>
                        </a:lnTo>
                        <a:lnTo>
                          <a:pt x="3831" y="0"/>
                        </a:lnTo>
                        <a:lnTo>
                          <a:pt x="3831" y="3793"/>
                        </a:lnTo>
                        <a:lnTo>
                          <a:pt x="2556" y="9655"/>
                        </a:lnTo>
                        <a:lnTo>
                          <a:pt x="2499" y="9746"/>
                        </a:lnTo>
                        <a:lnTo>
                          <a:pt x="2445" y="9821"/>
                        </a:lnTo>
                        <a:lnTo>
                          <a:pt x="2368" y="9891"/>
                        </a:lnTo>
                        <a:lnTo>
                          <a:pt x="2280" y="9952"/>
                        </a:lnTo>
                        <a:lnTo>
                          <a:pt x="2159" y="10006"/>
                        </a:lnTo>
                        <a:lnTo>
                          <a:pt x="2034" y="10058"/>
                        </a:lnTo>
                        <a:lnTo>
                          <a:pt x="1896" y="10098"/>
                        </a:lnTo>
                        <a:lnTo>
                          <a:pt x="1744" y="10129"/>
                        </a:lnTo>
                        <a:lnTo>
                          <a:pt x="1590" y="10156"/>
                        </a:lnTo>
                        <a:lnTo>
                          <a:pt x="1424" y="10166"/>
                        </a:lnTo>
                        <a:lnTo>
                          <a:pt x="1259" y="10170"/>
                        </a:lnTo>
                        <a:lnTo>
                          <a:pt x="1091" y="10166"/>
                        </a:lnTo>
                        <a:lnTo>
                          <a:pt x="925" y="10147"/>
                        </a:lnTo>
                        <a:lnTo>
                          <a:pt x="769" y="10123"/>
                        </a:lnTo>
                        <a:lnTo>
                          <a:pt x="618" y="10088"/>
                        </a:lnTo>
                        <a:lnTo>
                          <a:pt x="483" y="10054"/>
                        </a:lnTo>
                        <a:lnTo>
                          <a:pt x="358" y="9997"/>
                        </a:lnTo>
                        <a:lnTo>
                          <a:pt x="250" y="9943"/>
                        </a:lnTo>
                        <a:lnTo>
                          <a:pt x="159" y="9875"/>
                        </a:lnTo>
                        <a:lnTo>
                          <a:pt x="84" y="9811"/>
                        </a:lnTo>
                        <a:lnTo>
                          <a:pt x="38" y="9737"/>
                        </a:lnTo>
                        <a:lnTo>
                          <a:pt x="4" y="9703"/>
                        </a:lnTo>
                        <a:lnTo>
                          <a:pt x="0" y="6000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5578920" y="5715000"/>
                    <a:ext cx="25776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652" h="11636">
                        <a:moveTo>
                          <a:pt x="7473" y="4604"/>
                        </a:moveTo>
                        <a:lnTo>
                          <a:pt x="7473" y="4617"/>
                        </a:lnTo>
                        <a:lnTo>
                          <a:pt x="7457" y="4692"/>
                        </a:lnTo>
                        <a:lnTo>
                          <a:pt x="7415" y="4758"/>
                        </a:lnTo>
                        <a:lnTo>
                          <a:pt x="7351" y="4823"/>
                        </a:lnTo>
                        <a:lnTo>
                          <a:pt x="7285" y="4884"/>
                        </a:lnTo>
                        <a:lnTo>
                          <a:pt x="7185" y="4944"/>
                        </a:lnTo>
                        <a:lnTo>
                          <a:pt x="7072" y="4995"/>
                        </a:lnTo>
                        <a:lnTo>
                          <a:pt x="6943" y="5026"/>
                        </a:lnTo>
                        <a:lnTo>
                          <a:pt x="6812" y="5067"/>
                        </a:lnTo>
                        <a:lnTo>
                          <a:pt x="6670" y="5087"/>
                        </a:lnTo>
                        <a:lnTo>
                          <a:pt x="6516" y="5101"/>
                        </a:lnTo>
                        <a:lnTo>
                          <a:pt x="6356" y="5101"/>
                        </a:lnTo>
                        <a:lnTo>
                          <a:pt x="6201" y="5098"/>
                        </a:lnTo>
                        <a:lnTo>
                          <a:pt x="6052" y="5080"/>
                        </a:lnTo>
                        <a:lnTo>
                          <a:pt x="5905" y="5053"/>
                        </a:lnTo>
                        <a:lnTo>
                          <a:pt x="5776" y="5021"/>
                        </a:lnTo>
                        <a:lnTo>
                          <a:pt x="5655" y="4971"/>
                        </a:lnTo>
                        <a:lnTo>
                          <a:pt x="5548" y="4932"/>
                        </a:lnTo>
                        <a:lnTo>
                          <a:pt x="5453" y="4864"/>
                        </a:lnTo>
                        <a:lnTo>
                          <a:pt x="5388" y="4806"/>
                        </a:lnTo>
                        <a:lnTo>
                          <a:pt x="5335" y="4742"/>
                        </a:lnTo>
                        <a:lnTo>
                          <a:pt x="5304" y="4670"/>
                        </a:lnTo>
                        <a:lnTo>
                          <a:pt x="5295" y="4604"/>
                        </a:lnTo>
                        <a:lnTo>
                          <a:pt x="5277" y="4447"/>
                        </a:lnTo>
                        <a:lnTo>
                          <a:pt x="5277" y="1446"/>
                        </a:lnTo>
                        <a:lnTo>
                          <a:pt x="5099" y="1446"/>
                        </a:lnTo>
                        <a:lnTo>
                          <a:pt x="5099" y="749"/>
                        </a:lnTo>
                        <a:lnTo>
                          <a:pt x="4913" y="749"/>
                        </a:lnTo>
                        <a:lnTo>
                          <a:pt x="4913" y="3792"/>
                        </a:lnTo>
                        <a:lnTo>
                          <a:pt x="4911" y="3882"/>
                        </a:lnTo>
                        <a:lnTo>
                          <a:pt x="4911" y="3912"/>
                        </a:lnTo>
                        <a:lnTo>
                          <a:pt x="4889" y="3980"/>
                        </a:lnTo>
                        <a:lnTo>
                          <a:pt x="4854" y="4045"/>
                        </a:lnTo>
                        <a:lnTo>
                          <a:pt x="4796" y="4109"/>
                        </a:lnTo>
                        <a:lnTo>
                          <a:pt x="4719" y="4172"/>
                        </a:lnTo>
                        <a:lnTo>
                          <a:pt x="4612" y="4221"/>
                        </a:lnTo>
                        <a:lnTo>
                          <a:pt x="4505" y="4268"/>
                        </a:lnTo>
                        <a:lnTo>
                          <a:pt x="4371" y="4309"/>
                        </a:lnTo>
                        <a:lnTo>
                          <a:pt x="4236" y="4332"/>
                        </a:lnTo>
                        <a:lnTo>
                          <a:pt x="4083" y="4359"/>
                        </a:lnTo>
                        <a:lnTo>
                          <a:pt x="3925" y="4370"/>
                        </a:lnTo>
                        <a:lnTo>
                          <a:pt x="3780" y="4370"/>
                        </a:lnTo>
                        <a:lnTo>
                          <a:pt x="3621" y="4367"/>
                        </a:lnTo>
                        <a:lnTo>
                          <a:pt x="3471" y="4352"/>
                        </a:lnTo>
                        <a:lnTo>
                          <a:pt x="3333" y="4318"/>
                        </a:lnTo>
                        <a:lnTo>
                          <a:pt x="3190" y="4291"/>
                        </a:lnTo>
                        <a:lnTo>
                          <a:pt x="3065" y="4252"/>
                        </a:lnTo>
                        <a:lnTo>
                          <a:pt x="2965" y="4195"/>
                        </a:lnTo>
                        <a:lnTo>
                          <a:pt x="2880" y="4142"/>
                        </a:lnTo>
                        <a:lnTo>
                          <a:pt x="2803" y="4082"/>
                        </a:lnTo>
                        <a:lnTo>
                          <a:pt x="2750" y="4018"/>
                        </a:lnTo>
                        <a:lnTo>
                          <a:pt x="2722" y="3946"/>
                        </a:lnTo>
                        <a:lnTo>
                          <a:pt x="2715" y="3882"/>
                        </a:lnTo>
                        <a:lnTo>
                          <a:pt x="2732" y="3792"/>
                        </a:lnTo>
                        <a:lnTo>
                          <a:pt x="2732" y="749"/>
                        </a:lnTo>
                        <a:lnTo>
                          <a:pt x="2553" y="749"/>
                        </a:lnTo>
                        <a:lnTo>
                          <a:pt x="2553" y="0"/>
                        </a:lnTo>
                        <a:lnTo>
                          <a:pt x="2363" y="0"/>
                        </a:lnTo>
                        <a:lnTo>
                          <a:pt x="2363" y="3043"/>
                        </a:lnTo>
                        <a:lnTo>
                          <a:pt x="2367" y="3161"/>
                        </a:lnTo>
                        <a:lnTo>
                          <a:pt x="2363" y="3192"/>
                        </a:lnTo>
                        <a:lnTo>
                          <a:pt x="2344" y="3265"/>
                        </a:lnTo>
                        <a:lnTo>
                          <a:pt x="2310" y="3330"/>
                        </a:lnTo>
                        <a:lnTo>
                          <a:pt x="2251" y="3392"/>
                        </a:lnTo>
                        <a:lnTo>
                          <a:pt x="2169" y="3453"/>
                        </a:lnTo>
                        <a:lnTo>
                          <a:pt x="2067" y="3506"/>
                        </a:lnTo>
                        <a:lnTo>
                          <a:pt x="1956" y="3544"/>
                        </a:lnTo>
                        <a:lnTo>
                          <a:pt x="1825" y="3591"/>
                        </a:lnTo>
                        <a:lnTo>
                          <a:pt x="1690" y="3621"/>
                        </a:lnTo>
                        <a:lnTo>
                          <a:pt x="1537" y="3639"/>
                        </a:lnTo>
                        <a:lnTo>
                          <a:pt x="1390" y="3651"/>
                        </a:lnTo>
                        <a:lnTo>
                          <a:pt x="1230" y="3655"/>
                        </a:lnTo>
                        <a:lnTo>
                          <a:pt x="1076" y="3651"/>
                        </a:lnTo>
                        <a:lnTo>
                          <a:pt x="927" y="3635"/>
                        </a:lnTo>
                        <a:lnTo>
                          <a:pt x="784" y="3612"/>
                        </a:lnTo>
                        <a:lnTo>
                          <a:pt x="650" y="3571"/>
                        </a:lnTo>
                        <a:lnTo>
                          <a:pt x="526" y="3530"/>
                        </a:lnTo>
                        <a:lnTo>
                          <a:pt x="415" y="3483"/>
                        </a:lnTo>
                        <a:lnTo>
                          <a:pt x="328" y="3429"/>
                        </a:lnTo>
                        <a:lnTo>
                          <a:pt x="251" y="3353"/>
                        </a:lnTo>
                        <a:lnTo>
                          <a:pt x="205" y="3299"/>
                        </a:lnTo>
                        <a:lnTo>
                          <a:pt x="174" y="3233"/>
                        </a:lnTo>
                        <a:lnTo>
                          <a:pt x="173" y="3161"/>
                        </a:lnTo>
                        <a:lnTo>
                          <a:pt x="173" y="27"/>
                        </a:lnTo>
                        <a:lnTo>
                          <a:pt x="0" y="27"/>
                        </a:lnTo>
                        <a:lnTo>
                          <a:pt x="0" y="11053"/>
                        </a:lnTo>
                        <a:lnTo>
                          <a:pt x="0" y="11125"/>
                        </a:lnTo>
                        <a:lnTo>
                          <a:pt x="35" y="11199"/>
                        </a:lnTo>
                        <a:lnTo>
                          <a:pt x="81" y="11271"/>
                        </a:lnTo>
                        <a:lnTo>
                          <a:pt x="151" y="11341"/>
                        </a:lnTo>
                        <a:lnTo>
                          <a:pt x="243" y="11402"/>
                        </a:lnTo>
                        <a:lnTo>
                          <a:pt x="354" y="11459"/>
                        </a:lnTo>
                        <a:lnTo>
                          <a:pt x="480" y="11513"/>
                        </a:lnTo>
                        <a:lnTo>
                          <a:pt x="614" y="11559"/>
                        </a:lnTo>
                        <a:lnTo>
                          <a:pt x="766" y="11585"/>
                        </a:lnTo>
                        <a:lnTo>
                          <a:pt x="923" y="11612"/>
                        </a:lnTo>
                        <a:lnTo>
                          <a:pt x="1086" y="11632"/>
                        </a:lnTo>
                        <a:lnTo>
                          <a:pt x="1258" y="11636"/>
                        </a:lnTo>
                        <a:lnTo>
                          <a:pt x="1421" y="11632"/>
                        </a:lnTo>
                        <a:lnTo>
                          <a:pt x="1582" y="11616"/>
                        </a:lnTo>
                        <a:lnTo>
                          <a:pt x="1748" y="11593"/>
                        </a:lnTo>
                        <a:lnTo>
                          <a:pt x="1893" y="11562"/>
                        </a:lnTo>
                        <a:lnTo>
                          <a:pt x="2036" y="11524"/>
                        </a:lnTo>
                        <a:lnTo>
                          <a:pt x="2162" y="11473"/>
                        </a:lnTo>
                        <a:lnTo>
                          <a:pt x="2277" y="11423"/>
                        </a:lnTo>
                        <a:lnTo>
                          <a:pt x="2367" y="11348"/>
                        </a:lnTo>
                        <a:lnTo>
                          <a:pt x="2442" y="11283"/>
                        </a:lnTo>
                        <a:lnTo>
                          <a:pt x="2492" y="11210"/>
                        </a:lnTo>
                        <a:lnTo>
                          <a:pt x="2577" y="11199"/>
                        </a:lnTo>
                        <a:lnTo>
                          <a:pt x="2630" y="11271"/>
                        </a:lnTo>
                        <a:lnTo>
                          <a:pt x="2700" y="11341"/>
                        </a:lnTo>
                        <a:lnTo>
                          <a:pt x="2793" y="11402"/>
                        </a:lnTo>
                        <a:lnTo>
                          <a:pt x="2900" y="11459"/>
                        </a:lnTo>
                        <a:lnTo>
                          <a:pt x="3026" y="11513"/>
                        </a:lnTo>
                        <a:lnTo>
                          <a:pt x="3167" y="11559"/>
                        </a:lnTo>
                        <a:lnTo>
                          <a:pt x="3311" y="11585"/>
                        </a:lnTo>
                        <a:lnTo>
                          <a:pt x="3471" y="11612"/>
                        </a:lnTo>
                        <a:lnTo>
                          <a:pt x="3629" y="11632"/>
                        </a:lnTo>
                        <a:lnTo>
                          <a:pt x="3794" y="11636"/>
                        </a:lnTo>
                        <a:lnTo>
                          <a:pt x="3966" y="11632"/>
                        </a:lnTo>
                        <a:lnTo>
                          <a:pt x="4128" y="11616"/>
                        </a:lnTo>
                        <a:lnTo>
                          <a:pt x="4290" y="11593"/>
                        </a:lnTo>
                        <a:lnTo>
                          <a:pt x="4439" y="11562"/>
                        </a:lnTo>
                        <a:lnTo>
                          <a:pt x="4580" y="11524"/>
                        </a:lnTo>
                        <a:lnTo>
                          <a:pt x="4700" y="11473"/>
                        </a:lnTo>
                        <a:lnTo>
                          <a:pt x="4819" y="11423"/>
                        </a:lnTo>
                        <a:lnTo>
                          <a:pt x="4911" y="11348"/>
                        </a:lnTo>
                        <a:lnTo>
                          <a:pt x="4991" y="11283"/>
                        </a:lnTo>
                        <a:lnTo>
                          <a:pt x="5042" y="11210"/>
                        </a:lnTo>
                        <a:lnTo>
                          <a:pt x="5122" y="11199"/>
                        </a:lnTo>
                        <a:lnTo>
                          <a:pt x="5176" y="11271"/>
                        </a:lnTo>
                        <a:lnTo>
                          <a:pt x="5238" y="11341"/>
                        </a:lnTo>
                        <a:lnTo>
                          <a:pt x="5335" y="11402"/>
                        </a:lnTo>
                        <a:lnTo>
                          <a:pt x="5446" y="11459"/>
                        </a:lnTo>
                        <a:lnTo>
                          <a:pt x="5575" y="11513"/>
                        </a:lnTo>
                        <a:lnTo>
                          <a:pt x="5714" y="11559"/>
                        </a:lnTo>
                        <a:lnTo>
                          <a:pt x="5854" y="11585"/>
                        </a:lnTo>
                        <a:lnTo>
                          <a:pt x="6013" y="11612"/>
                        </a:lnTo>
                        <a:lnTo>
                          <a:pt x="6171" y="11632"/>
                        </a:lnTo>
                        <a:lnTo>
                          <a:pt x="6347" y="11636"/>
                        </a:lnTo>
                        <a:lnTo>
                          <a:pt x="6516" y="11632"/>
                        </a:lnTo>
                        <a:lnTo>
                          <a:pt x="6680" y="11616"/>
                        </a:lnTo>
                        <a:lnTo>
                          <a:pt x="6839" y="11593"/>
                        </a:lnTo>
                        <a:lnTo>
                          <a:pt x="6993" y="11562"/>
                        </a:lnTo>
                        <a:lnTo>
                          <a:pt x="7128" y="11524"/>
                        </a:lnTo>
                        <a:lnTo>
                          <a:pt x="7250" y="11473"/>
                        </a:lnTo>
                        <a:lnTo>
                          <a:pt x="7365" y="11423"/>
                        </a:lnTo>
                        <a:lnTo>
                          <a:pt x="7457" y="11348"/>
                        </a:lnTo>
                        <a:lnTo>
                          <a:pt x="7530" y="11283"/>
                        </a:lnTo>
                        <a:lnTo>
                          <a:pt x="7587" y="11210"/>
                        </a:lnTo>
                        <a:lnTo>
                          <a:pt x="7621" y="11138"/>
                        </a:lnTo>
                        <a:lnTo>
                          <a:pt x="7634" y="11067"/>
                        </a:lnTo>
                        <a:lnTo>
                          <a:pt x="7634" y="11053"/>
                        </a:lnTo>
                        <a:lnTo>
                          <a:pt x="7652" y="10915"/>
                        </a:lnTo>
                        <a:lnTo>
                          <a:pt x="7652" y="1446"/>
                        </a:lnTo>
                        <a:lnTo>
                          <a:pt x="7473" y="1446"/>
                        </a:lnTo>
                        <a:lnTo>
                          <a:pt x="7473" y="4447"/>
                        </a:lnTo>
                        <a:lnTo>
                          <a:pt x="7473" y="4604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8" name=""/>
                <p:cNvSpPr/>
                <p:nvPr/>
              </p:nvSpPr>
              <p:spPr>
                <a:xfrm>
                  <a:off x="5028120" y="6067440"/>
                  <a:ext cx="127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Perpustaka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9" name=""/>
          <p:cNvGrpSpPr/>
          <p:nvPr/>
        </p:nvGrpSpPr>
        <p:grpSpPr>
          <a:xfrm>
            <a:off x="4855320" y="1066680"/>
            <a:ext cx="1850400" cy="1905120"/>
            <a:chOff x="4855320" y="1066680"/>
            <a:chExt cx="1850400" cy="1905120"/>
          </a:xfrm>
        </p:grpSpPr>
        <p:grpSp>
          <p:nvGrpSpPr>
            <p:cNvPr id="1140" name=""/>
            <p:cNvGrpSpPr/>
            <p:nvPr/>
          </p:nvGrpSpPr>
          <p:grpSpPr>
            <a:xfrm>
              <a:off x="5029200" y="1066680"/>
              <a:ext cx="1676520" cy="1905120"/>
              <a:chOff x="5029200" y="1066680"/>
              <a:chExt cx="1676520" cy="190512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5486400" y="1066680"/>
                <a:ext cx="1219320" cy="1905120"/>
                <a:chOff x="5486400" y="1066680"/>
                <a:chExt cx="1219320" cy="190512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5486400" y="1066680"/>
                  <a:ext cx="1219320" cy="1905120"/>
                </a:xfrm>
                <a:prstGeom prst="flowChartMultidocument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562720" y="1143000"/>
                  <a:ext cx="1066680" cy="16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 Narrow"/>
                    </a:rPr>
                    <a:t>Patents, HAKI, TTG, Artikel, Publikasi/ IPTEKS bermu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4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29200" y="1143000"/>
                <a:ext cx="630360" cy="11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5" name=""/>
            <p:cNvSpPr/>
            <p:nvPr/>
          </p:nvSpPr>
          <p:spPr>
            <a:xfrm>
              <a:off x="4855320" y="22305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arj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41920" y="2348280"/>
            <a:ext cx="3124800" cy="3045240"/>
            <a:chOff x="241920" y="2348280"/>
            <a:chExt cx="3124800" cy="3045240"/>
          </a:xfrm>
        </p:grpSpPr>
        <p:sp>
          <p:nvSpPr>
            <p:cNvPr id="1147" name=""/>
            <p:cNvSpPr/>
            <p:nvPr/>
          </p:nvSpPr>
          <p:spPr>
            <a:xfrm rot="19120800">
              <a:off x="492120" y="2997000"/>
              <a:ext cx="2624040" cy="1747800"/>
            </a:xfrm>
            <a:prstGeom prst="rightArrow">
              <a:avLst>
                <a:gd name="adj1" fmla="val 75343"/>
                <a:gd name="adj2" fmla="val 54799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730440" y="3097440"/>
              <a:ext cx="1938600" cy="2084760"/>
              <a:chOff x="730440" y="3097440"/>
              <a:chExt cx="1938600" cy="2084760"/>
            </a:xfrm>
          </p:grpSpPr>
          <p:pic>
            <p:nvPicPr>
              <p:cNvPr id="114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82360" y="3744720"/>
                <a:ext cx="1143720" cy="774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50" name=""/>
              <p:cNvGraphicFramePr/>
              <p:nvPr/>
            </p:nvGraphicFramePr>
            <p:xfrm>
              <a:off x="1480680" y="3097440"/>
              <a:ext cx="1188360" cy="7920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151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480680" y="3097440"/>
                        <a:ext cx="118836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2" name=""/>
              <p:cNvSpPr/>
              <p:nvPr/>
            </p:nvSpPr>
            <p:spPr>
              <a:xfrm>
                <a:off x="730440" y="4430520"/>
                <a:ext cx="119736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asyarak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Akademik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&amp; Pegawa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"/>
          <p:cNvSpPr/>
          <p:nvPr/>
        </p:nvSpPr>
        <p:spPr>
          <a:xfrm>
            <a:off x="6550200" y="1422360"/>
            <a:ext cx="841320" cy="1092240"/>
          </a:xfrm>
          <a:custGeom>
            <a:avLst/>
            <a:gdLst>
              <a:gd name="textAreaLeft" fmla="*/ 131400 w 841320"/>
              <a:gd name="textAreaRight" fmla="*/ 629280 w 841320"/>
              <a:gd name="textAreaTop" fmla="*/ 274680 h 1092240"/>
              <a:gd name="textAreaBottom" fmla="*/ 817560 h 1092240"/>
            </a:gdLst>
            <a:ahLst/>
            <a:rect l="textAreaLeft" t="textAreaTop" r="textAreaRight" b="textAreaBottom"/>
            <a:pathLst>
              <a:path w="21600" h="21600">
                <a:moveTo>
                  <a:pt x="3375" y="5432"/>
                </a:moveTo>
                <a:lnTo>
                  <a:pt x="10640" y="5432"/>
                </a:lnTo>
                <a:lnTo>
                  <a:pt x="10640" y="0"/>
                </a:lnTo>
                <a:lnTo>
                  <a:pt x="21600" y="10800"/>
                </a:lnTo>
                <a:lnTo>
                  <a:pt x="10640" y="21600"/>
                </a:lnTo>
                <a:lnTo>
                  <a:pt x="10640" y="16168"/>
                </a:lnTo>
                <a:lnTo>
                  <a:pt x="3375" y="16168"/>
                </a:lnTo>
                <a:close/>
              </a:path>
              <a:path w="21600" h="21600">
                <a:moveTo>
                  <a:pt x="0" y="5432"/>
                </a:moveTo>
                <a:lnTo>
                  <a:pt x="675" y="5432"/>
                </a:lnTo>
                <a:lnTo>
                  <a:pt x="675" y="16168"/>
                </a:lnTo>
                <a:lnTo>
                  <a:pt x="0" y="16168"/>
                </a:lnTo>
                <a:close/>
              </a:path>
              <a:path w="21600" h="21600">
                <a:moveTo>
                  <a:pt x="1350" y="5432"/>
                </a:moveTo>
                <a:lnTo>
                  <a:pt x="2700" y="5432"/>
                </a:lnTo>
                <a:lnTo>
                  <a:pt x="2700" y="16168"/>
                </a:lnTo>
                <a:lnTo>
                  <a:pt x="1350" y="16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04920" y="6553080"/>
            <a:ext cx="7629480" cy="152640"/>
            <a:chOff x="304920" y="6553080"/>
            <a:chExt cx="7629480" cy="152640"/>
          </a:xfrm>
        </p:grpSpPr>
        <p:sp>
          <p:nvSpPr>
            <p:cNvPr id="1155" name=""/>
            <p:cNvSpPr/>
            <p:nvPr/>
          </p:nvSpPr>
          <p:spPr>
            <a:xfrm>
              <a:off x="304920" y="6705720"/>
              <a:ext cx="762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924680" y="65530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57200" y="1066680"/>
            <a:ext cx="3733560" cy="3200040"/>
            <a:chOff x="457200" y="1066680"/>
            <a:chExt cx="3733560" cy="3200040"/>
          </a:xfrm>
        </p:grpSpPr>
        <p:sp>
          <p:nvSpPr>
            <p:cNvPr id="1158" name=""/>
            <p:cNvSpPr/>
            <p:nvPr/>
          </p:nvSpPr>
          <p:spPr>
            <a:xfrm>
              <a:off x="457200" y="1066680"/>
              <a:ext cx="3733560" cy="320004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61760" y="1605600"/>
              <a:ext cx="2050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Benguiat Bk BT"/>
                </a:rPr>
                <a:t>A-2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4495680" y="914400"/>
            <a:ext cx="4267080" cy="3047760"/>
            <a:chOff x="4495680" y="914400"/>
            <a:chExt cx="4267080" cy="3047760"/>
          </a:xfrm>
        </p:grpSpPr>
        <p:sp>
          <p:nvSpPr>
            <p:cNvPr id="1161" name=""/>
            <p:cNvSpPr/>
            <p:nvPr/>
          </p:nvSpPr>
          <p:spPr>
            <a:xfrm>
              <a:off x="4495680" y="914400"/>
              <a:ext cx="4267080" cy="3047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42360" y="1427760"/>
              <a:ext cx="2050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Benguiat Bk BT"/>
                </a:rPr>
                <a:t>A-3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514600" y="4114800"/>
            <a:ext cx="2514600" cy="2514600"/>
            <a:chOff x="2514600" y="4114800"/>
            <a:chExt cx="2514600" cy="2514600"/>
          </a:xfrm>
        </p:grpSpPr>
        <p:sp>
          <p:nvSpPr>
            <p:cNvPr id="1164" name=""/>
            <p:cNvSpPr/>
            <p:nvPr/>
          </p:nvSpPr>
          <p:spPr>
            <a:xfrm>
              <a:off x="2514600" y="4114800"/>
              <a:ext cx="2514600" cy="25146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46440" y="4538520"/>
              <a:ext cx="2050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Benguiat Bk BT"/>
                </a:rPr>
                <a:t>A-1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7086600" y="838080"/>
            <a:ext cx="2057400" cy="6019920"/>
            <a:chOff x="7086600" y="838080"/>
            <a:chExt cx="2057400" cy="6019920"/>
          </a:xfrm>
        </p:grpSpPr>
        <p:sp>
          <p:nvSpPr>
            <p:cNvPr id="1167" name=""/>
            <p:cNvSpPr/>
            <p:nvPr/>
          </p:nvSpPr>
          <p:spPr>
            <a:xfrm>
              <a:off x="7086600" y="838080"/>
              <a:ext cx="2057400" cy="60199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6019920"/>
                <a:gd name="textAreaBottom" fmla="*/ 5919480 h 6019920"/>
              </a:gdLst>
              <a:ahLst/>
              <a:rect l="textAreaLeft" t="textAreaTop" r="textAreaRight" b="textAreaBottom"/>
              <a:pathLst>
                <a:path w="21600" h="63194">
                  <a:moveTo>
                    <a:pt x="3600" y="0"/>
                  </a:moveTo>
                  <a:arcTo wR="3600" hR="3600" stAng="16200000" swAng="-5400000"/>
                  <a:lnTo>
                    <a:pt x="0" y="59594"/>
                  </a:lnTo>
                  <a:arcTo wR="3600" hR="3600" stAng="10800000" swAng="-5400000"/>
                  <a:lnTo>
                    <a:pt x="18000" y="63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86600" y="838080"/>
              <a:ext cx="1905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External Stakeholder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2514600" y="160020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95200" y="1981080"/>
            <a:ext cx="138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95200" y="1981080"/>
            <a:ext cx="0" cy="47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14600" y="144792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2865600" y="1353960"/>
            <a:ext cx="1806480" cy="2035800"/>
            <a:chOff x="2865600" y="1353960"/>
            <a:chExt cx="1806480" cy="2035800"/>
          </a:xfrm>
        </p:grpSpPr>
        <p:sp>
          <p:nvSpPr>
            <p:cNvPr id="1174" name=""/>
            <p:cNvSpPr/>
            <p:nvPr/>
          </p:nvSpPr>
          <p:spPr>
            <a:xfrm>
              <a:off x="2865600" y="1353960"/>
              <a:ext cx="1806480" cy="1544400"/>
            </a:xfrm>
            <a:prstGeom prst="rect">
              <a:avLst/>
            </a:prstGeom>
            <a:solidFill>
              <a:srgbClr val="e1e1b7"/>
            </a:solidFill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3041640" y="1393560"/>
              <a:ext cx="583920" cy="809280"/>
              <a:chOff x="3041640" y="1393560"/>
              <a:chExt cx="583920" cy="80928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3174840" y="1522800"/>
                <a:ext cx="146880" cy="7164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3043080" y="1603800"/>
                <a:ext cx="218880" cy="35388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3215160" y="1716840"/>
                <a:ext cx="70560" cy="6156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3141720" y="1601280"/>
                <a:ext cx="483480" cy="60156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3282120" y="1393560"/>
                <a:ext cx="248760" cy="25164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3305880" y="1491120"/>
                <a:ext cx="111240" cy="12240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3398040" y="1539360"/>
                <a:ext cx="11880" cy="93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3069000" y="1795320"/>
                <a:ext cx="86040" cy="11160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3304800" y="1397520"/>
                <a:ext cx="64440" cy="4932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3304080" y="144144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3323880" y="14911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279600" y="1470600"/>
                <a:ext cx="37080" cy="4104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3317040" y="1524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3324240" y="153108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3332520" y="1544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318120" y="1566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3353040" y="1546200"/>
                <a:ext cx="54000" cy="6732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3349800" y="159300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3341880" y="1442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353760" y="14443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351600" y="144288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3392280" y="1503360"/>
                <a:ext cx="11880" cy="234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3441600" y="156132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380040" y="1394640"/>
                <a:ext cx="55080" cy="6192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3418920" y="1398600"/>
                <a:ext cx="90720" cy="174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3506040" y="156384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3438000" y="1475640"/>
                <a:ext cx="28440" cy="921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3400560" y="1539360"/>
                <a:ext cx="11880" cy="1512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408840" y="1495080"/>
                <a:ext cx="22680" cy="4932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3423600" y="151308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3439440" y="15296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3405600" y="1575000"/>
                <a:ext cx="52560" cy="11016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384000" y="160524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3455640" y="1579320"/>
                <a:ext cx="42840" cy="5220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3503520" y="1587240"/>
                <a:ext cx="53640" cy="10044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403440" y="16876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393360" y="1700280"/>
                <a:ext cx="82440" cy="8928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3380040" y="1766520"/>
                <a:ext cx="91080" cy="9612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3331440" y="1780200"/>
                <a:ext cx="113760" cy="6048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3381480" y="1657440"/>
                <a:ext cx="21240" cy="8532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201840" y="1701720"/>
                <a:ext cx="420120" cy="39096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3521880" y="1771920"/>
                <a:ext cx="56160" cy="11160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549600" y="18997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267000" y="1751400"/>
                <a:ext cx="123120" cy="56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3318120" y="1839240"/>
                <a:ext cx="50040" cy="10044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3581640" y="1803600"/>
                <a:ext cx="43920" cy="18576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3307320" y="18586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3495600" y="199224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3440160" y="2023920"/>
                <a:ext cx="184320" cy="1530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3453120" y="2097000"/>
                <a:ext cx="89640" cy="327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3451320" y="218376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3435840" y="217116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 flipV="1">
                <a:off x="3421440" y="2077200"/>
                <a:ext cx="118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6880" y="1703160"/>
                <a:ext cx="140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3287160" y="153216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3285000" y="15310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3273840" y="15559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3043080" y="1541880"/>
                <a:ext cx="247680" cy="9756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3204720" y="1517400"/>
                <a:ext cx="309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3277080" y="15228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3239280" y="1524240"/>
                <a:ext cx="3456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3267000" y="152820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3293280" y="157644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3178080" y="1657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3182040" y="1547640"/>
                <a:ext cx="12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3259800" y="16203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3178080" y="1678320"/>
                <a:ext cx="81360" cy="6300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64680" y="1603800"/>
                <a:ext cx="11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3133440" y="1706040"/>
                <a:ext cx="118440" cy="15948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258360" y="190152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3280680" y="1873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266640" y="1878120"/>
                <a:ext cx="10440" cy="3816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3254400" y="18615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211560" y="1851840"/>
                <a:ext cx="28440" cy="468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3154320" y="1882080"/>
                <a:ext cx="81360" cy="702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3079800" y="1791360"/>
                <a:ext cx="50040" cy="327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3116880" y="187236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081240" y="1855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079800" y="1888920"/>
                <a:ext cx="46440" cy="2484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3066840" y="184068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3057480" y="185580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042720" y="1927800"/>
                <a:ext cx="122040" cy="3024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3041640" y="1646640"/>
                <a:ext cx="1080" cy="27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3351960" y="174852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3325320" y="1643760"/>
                <a:ext cx="50040" cy="9648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3258000" y="172080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62" name="" descr=""/>
            <p:cNvPicPr/>
            <p:nvPr/>
          </p:nvPicPr>
          <p:blipFill>
            <a:blip r:embed="rId1"/>
            <a:stretch/>
          </p:blipFill>
          <p:spPr>
            <a:xfrm>
              <a:off x="3693960" y="2055600"/>
              <a:ext cx="91872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2"/>
            <a:stretch/>
          </p:blipFill>
          <p:spPr>
            <a:xfrm>
              <a:off x="3790800" y="1417320"/>
              <a:ext cx="82512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2907360" y="2638080"/>
              <a:ext cx="17078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ses Belaj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engajar; Riset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5" name="" descr=""/>
            <p:cNvPicPr/>
            <p:nvPr/>
          </p:nvPicPr>
          <p:blipFill>
            <a:blip r:embed="rId3"/>
            <a:stretch/>
          </p:blipFill>
          <p:spPr>
            <a:xfrm>
              <a:off x="2954160" y="2071440"/>
              <a:ext cx="65052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6" name=""/>
          <p:cNvGrpSpPr/>
          <p:nvPr/>
        </p:nvGrpSpPr>
        <p:grpSpPr>
          <a:xfrm>
            <a:off x="1072440" y="1455840"/>
            <a:ext cx="1738080" cy="1351080"/>
            <a:chOff x="1072440" y="1455840"/>
            <a:chExt cx="1738080" cy="1351080"/>
          </a:xfrm>
        </p:grpSpPr>
        <p:sp>
          <p:nvSpPr>
            <p:cNvPr id="1267" name=""/>
            <p:cNvSpPr/>
            <p:nvPr/>
          </p:nvSpPr>
          <p:spPr>
            <a:xfrm>
              <a:off x="1072440" y="243864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lon Mahasi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8" name="" descr=""/>
            <p:cNvPicPr/>
            <p:nvPr/>
          </p:nvPicPr>
          <p:blipFill>
            <a:blip r:embed="rId4"/>
            <a:stretch/>
          </p:blipFill>
          <p:spPr>
            <a:xfrm>
              <a:off x="1608120" y="1455840"/>
              <a:ext cx="8031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9" name=""/>
          <p:cNvGrpSpPr/>
          <p:nvPr/>
        </p:nvGrpSpPr>
        <p:grpSpPr>
          <a:xfrm>
            <a:off x="4095000" y="2202840"/>
            <a:ext cx="3272760" cy="3183840"/>
            <a:chOff x="4095000" y="2202840"/>
            <a:chExt cx="3272760" cy="3183840"/>
          </a:xfrm>
        </p:grpSpPr>
        <p:sp>
          <p:nvSpPr>
            <p:cNvPr id="1270" name=""/>
            <p:cNvSpPr/>
            <p:nvPr/>
          </p:nvSpPr>
          <p:spPr>
            <a:xfrm flipH="1" rot="2479200">
              <a:off x="4342680" y="2895480"/>
              <a:ext cx="2776320" cy="1798560"/>
            </a:xfrm>
            <a:prstGeom prst="rightArrow">
              <a:avLst>
                <a:gd name="adj1" fmla="val 75343"/>
                <a:gd name="adj2" fmla="val 56342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4867560" y="3104280"/>
              <a:ext cx="2060280" cy="1984320"/>
              <a:chOff x="4867560" y="3104280"/>
              <a:chExt cx="2060280" cy="1984320"/>
            </a:xfrm>
          </p:grpSpPr>
          <p:pic>
            <p:nvPicPr>
              <p:cNvPr id="127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26240" y="3899880"/>
                <a:ext cx="110160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67560" y="3104280"/>
                <a:ext cx="109980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"/>
              <p:cNvSpPr/>
              <p:nvPr/>
            </p:nvSpPr>
            <p:spPr>
              <a:xfrm>
                <a:off x="5603400" y="4254120"/>
                <a:ext cx="122940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Siste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enjamin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ut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5" name=""/>
          <p:cNvSpPr/>
          <p:nvPr/>
        </p:nvSpPr>
        <p:spPr>
          <a:xfrm>
            <a:off x="1726560" y="76320"/>
            <a:ext cx="5315040" cy="116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3ce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okus Pengembang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ema PHK-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6921360" y="1447920"/>
            <a:ext cx="2298960" cy="5183640"/>
            <a:chOff x="6921360" y="1447920"/>
            <a:chExt cx="2298960" cy="5183640"/>
          </a:xfrm>
        </p:grpSpPr>
        <p:sp>
          <p:nvSpPr>
            <p:cNvPr id="1277" name=""/>
            <p:cNvSpPr/>
            <p:nvPr/>
          </p:nvSpPr>
          <p:spPr>
            <a:xfrm>
              <a:off x="7924680" y="64008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24680" y="5005440"/>
              <a:ext cx="228600" cy="228600"/>
            </a:xfrm>
            <a:prstGeom prst="downArrow">
              <a:avLst>
                <a:gd name="adj1" fmla="val 56944"/>
                <a:gd name="adj2" fmla="val 5138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48680" y="1447920"/>
              <a:ext cx="1360440" cy="188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"/>
            <p:cNvGrpSpPr/>
            <p:nvPr/>
          </p:nvGrpSpPr>
          <p:grpSpPr>
            <a:xfrm>
              <a:off x="6921360" y="1584360"/>
              <a:ext cx="2298960" cy="5047200"/>
              <a:chOff x="6921360" y="1584360"/>
              <a:chExt cx="2298960" cy="50472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3800" y="5310360"/>
                <a:ext cx="10414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2" name=""/>
              <p:cNvSpPr/>
              <p:nvPr/>
            </p:nvSpPr>
            <p:spPr>
              <a:xfrm>
                <a:off x="7324560" y="623268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Demand P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3" name=""/>
              <p:cNvGrpSpPr/>
              <p:nvPr/>
            </p:nvGrpSpPr>
            <p:grpSpPr>
              <a:xfrm>
                <a:off x="7043040" y="1584360"/>
                <a:ext cx="2014200" cy="2106000"/>
                <a:chOff x="7043040" y="1584360"/>
                <a:chExt cx="2014200" cy="2106000"/>
              </a:xfrm>
            </p:grpSpPr>
            <p:pic>
              <p:nvPicPr>
                <p:cNvPr id="128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473960" y="1584360"/>
                  <a:ext cx="119376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15200" y="2367000"/>
                  <a:ext cx="1241280" cy="83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6" name=""/>
                <p:cNvSpPr/>
                <p:nvPr/>
              </p:nvSpPr>
              <p:spPr>
                <a:xfrm>
                  <a:off x="7043040" y="3121200"/>
                  <a:ext cx="20142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 “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Pasar”/Duni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kerja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921360" y="3505320"/>
                <a:ext cx="2298960" cy="2108520"/>
                <a:chOff x="6921360" y="3505320"/>
                <a:chExt cx="2298960" cy="210852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7914960" y="3505320"/>
                  <a:ext cx="228600" cy="228600"/>
                </a:xfrm>
                <a:prstGeom prst="downArrow">
                  <a:avLst>
                    <a:gd name="adj1" fmla="val 56944"/>
                    <a:gd name="adj2" fmla="val 51389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6921360" y="3733920"/>
                  <a:ext cx="2298960" cy="1879920"/>
                  <a:chOff x="6921360" y="3733920"/>
                  <a:chExt cx="2298960" cy="1879920"/>
                </a:xfrm>
              </p:grpSpPr>
              <p:pic>
                <p:nvPicPr>
                  <p:cNvPr id="1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10040" y="3733920"/>
                    <a:ext cx="9144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1" name=""/>
                  <p:cNvSpPr/>
                  <p:nvPr/>
                </p:nvSpPr>
                <p:spPr>
                  <a:xfrm>
                    <a:off x="6921360" y="4422600"/>
                    <a:ext cx="229896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“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Apresiasi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Masyarakat Luas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emerintah, Swasta,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GOs, dl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92" name=""/>
          <p:cNvGrpSpPr/>
          <p:nvPr/>
        </p:nvGrpSpPr>
        <p:grpSpPr>
          <a:xfrm>
            <a:off x="914400" y="3352320"/>
            <a:ext cx="6061320" cy="3331440"/>
            <a:chOff x="914400" y="3352320"/>
            <a:chExt cx="6061320" cy="3331440"/>
          </a:xfrm>
        </p:grpSpPr>
        <p:sp>
          <p:nvSpPr>
            <p:cNvPr id="1293" name=""/>
            <p:cNvSpPr/>
            <p:nvPr/>
          </p:nvSpPr>
          <p:spPr>
            <a:xfrm rot="16200000">
              <a:off x="2131920" y="2134800"/>
              <a:ext cx="3279960" cy="57150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5715000"/>
                <a:gd name="textAreaBottom" fmla="*/ 5715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916" y="0"/>
                  </a:lnTo>
                  <a:lnTo>
                    <a:pt x="21600" y="10800"/>
                  </a:lnTo>
                  <a:lnTo>
                    <a:pt x="59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2092320" y="4863960"/>
              <a:ext cx="3487680" cy="986040"/>
              <a:chOff x="2092320" y="4863960"/>
              <a:chExt cx="3487680" cy="986040"/>
            </a:xfrm>
          </p:grpSpPr>
          <p:sp>
            <p:nvSpPr>
              <p:cNvPr id="1295" name=""/>
              <p:cNvSpPr/>
              <p:nvPr/>
            </p:nvSpPr>
            <p:spPr>
              <a:xfrm>
                <a:off x="2092320" y="4863960"/>
                <a:ext cx="3487680" cy="822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6520" y="4946760"/>
                <a:ext cx="870120" cy="72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9840" y="4927680"/>
                <a:ext cx="100332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43240" y="4938840"/>
                <a:ext cx="136836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9" name=""/>
              <p:cNvSpPr/>
              <p:nvPr/>
            </p:nvSpPr>
            <p:spPr>
              <a:xfrm>
                <a:off x="3125880" y="534816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MANAJEM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2970720" y="3925800"/>
              <a:ext cx="1678680" cy="924480"/>
              <a:chOff x="2970720" y="3925800"/>
              <a:chExt cx="1678680" cy="924480"/>
            </a:xfrm>
          </p:grpSpPr>
          <p:sp>
            <p:nvSpPr>
              <p:cNvPr id="1301" name=""/>
              <p:cNvSpPr/>
              <p:nvPr/>
            </p:nvSpPr>
            <p:spPr>
              <a:xfrm>
                <a:off x="3235320" y="3925800"/>
                <a:ext cx="1155600" cy="89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2" name=""/>
              <p:cNvGraphicFramePr/>
              <p:nvPr/>
            </p:nvGraphicFramePr>
            <p:xfrm>
              <a:off x="3247920" y="3948120"/>
              <a:ext cx="1032120" cy="687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30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247920" y="3948120"/>
                        <a:ext cx="103212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4" name=""/>
              <p:cNvSpPr/>
              <p:nvPr/>
            </p:nvSpPr>
            <p:spPr>
              <a:xfrm>
                <a:off x="2970720" y="4451400"/>
                <a:ext cx="16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Kepemimpin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14400" y="5571360"/>
              <a:ext cx="6061320" cy="1112400"/>
              <a:chOff x="914400" y="5571360"/>
              <a:chExt cx="6061320" cy="111240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914400" y="5721480"/>
                <a:ext cx="5697000" cy="962280"/>
                <a:chOff x="914400" y="5721480"/>
                <a:chExt cx="5697000" cy="96228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914400" y="5721480"/>
                  <a:ext cx="5697000" cy="90144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e1e1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877840" y="6284880"/>
                  <a:ext cx="180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Benguiat Bk BT"/>
                    </a:rPr>
                    <a:t>SUMBERDAY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677600" y="5753160"/>
                <a:ext cx="1180440" cy="891360"/>
                <a:chOff x="1677600" y="5753160"/>
                <a:chExt cx="1180440" cy="891360"/>
              </a:xfrm>
            </p:grpSpPr>
            <p:pic>
              <p:nvPicPr>
                <p:cNvPr id="131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66880" y="5753160"/>
                  <a:ext cx="103680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1" name=""/>
                <p:cNvSpPr/>
                <p:nvPr/>
              </p:nvSpPr>
              <p:spPr>
                <a:xfrm>
                  <a:off x="1677600" y="6307200"/>
                  <a:ext cx="1180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Dosen&amp;Sta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3359160" y="5715000"/>
                <a:ext cx="1404360" cy="679320"/>
                <a:chOff x="3359160" y="5715000"/>
                <a:chExt cx="1404360" cy="679320"/>
              </a:xfrm>
            </p:grpSpPr>
            <p:pic>
              <p:nvPicPr>
                <p:cNvPr id="1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4280" y="5715000"/>
                  <a:ext cx="106848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4" name=""/>
                <p:cNvSpPr/>
                <p:nvPr/>
              </p:nvSpPr>
              <p:spPr>
                <a:xfrm>
                  <a:off x="3359160" y="6026040"/>
                  <a:ext cx="140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Fasilitas Fisi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4496760" y="5780160"/>
                <a:ext cx="1253520" cy="849960"/>
                <a:chOff x="4496760" y="5780160"/>
                <a:chExt cx="1253520" cy="849960"/>
              </a:xfrm>
            </p:grpSpPr>
            <p:grpSp>
              <p:nvGrpSpPr>
                <p:cNvPr id="1316" name=""/>
                <p:cNvGrpSpPr/>
                <p:nvPr/>
              </p:nvGrpSpPr>
              <p:grpSpPr>
                <a:xfrm>
                  <a:off x="4811400" y="5780160"/>
                  <a:ext cx="384120" cy="547560"/>
                  <a:chOff x="4811400" y="5780160"/>
                  <a:chExt cx="384120" cy="547560"/>
                </a:xfrm>
              </p:grpSpPr>
              <p:sp>
                <p:nvSpPr>
                  <p:cNvPr id="1317" name=""/>
                  <p:cNvSpPr/>
                  <p:nvPr/>
                </p:nvSpPr>
                <p:spPr>
                  <a:xfrm>
                    <a:off x="4990680" y="5899680"/>
                    <a:ext cx="15876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3010">
                        <a:moveTo>
                          <a:pt x="707" y="1346"/>
                        </a:moveTo>
                        <a:lnTo>
                          <a:pt x="707" y="2408"/>
                        </a:lnTo>
                        <a:lnTo>
                          <a:pt x="494" y="3010"/>
                        </a:lnTo>
                        <a:lnTo>
                          <a:pt x="1307" y="3010"/>
                        </a:lnTo>
                        <a:lnTo>
                          <a:pt x="1307" y="462"/>
                        </a:lnTo>
                        <a:lnTo>
                          <a:pt x="458" y="0"/>
                        </a:lnTo>
                        <a:lnTo>
                          <a:pt x="0" y="920"/>
                        </a:lnTo>
                        <a:lnTo>
                          <a:pt x="707" y="134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4839840" y="6058080"/>
                    <a:ext cx="236520" cy="196920"/>
                    <a:chOff x="4839840" y="6058080"/>
                    <a:chExt cx="236520" cy="196920"/>
                  </a:xfrm>
                </p:grpSpPr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4839840" y="6103080"/>
                      <a:ext cx="154800" cy="151920"/>
                      <a:chOff x="4839840" y="6103080"/>
                      <a:chExt cx="154800" cy="15192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4839840" y="6103080"/>
                        <a:ext cx="154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1241">
                            <a:moveTo>
                              <a:pt x="42" y="574"/>
                            </a:moveTo>
                            <a:lnTo>
                              <a:pt x="669" y="889"/>
                            </a:lnTo>
                            <a:lnTo>
                              <a:pt x="635" y="956"/>
                            </a:lnTo>
                            <a:lnTo>
                              <a:pt x="740" y="1100"/>
                            </a:lnTo>
                            <a:lnTo>
                              <a:pt x="954" y="639"/>
                            </a:lnTo>
                            <a:lnTo>
                              <a:pt x="989" y="462"/>
                            </a:lnTo>
                            <a:lnTo>
                              <a:pt x="908" y="514"/>
                            </a:lnTo>
                            <a:lnTo>
                              <a:pt x="177" y="141"/>
                            </a:lnTo>
                            <a:lnTo>
                              <a:pt x="247" y="0"/>
                            </a:lnTo>
                            <a:lnTo>
                              <a:pt x="1095" y="390"/>
                            </a:lnTo>
                            <a:lnTo>
                              <a:pt x="1129" y="321"/>
                            </a:lnTo>
                            <a:lnTo>
                              <a:pt x="1270" y="390"/>
                            </a:lnTo>
                            <a:lnTo>
                              <a:pt x="1200" y="568"/>
                            </a:lnTo>
                            <a:lnTo>
                              <a:pt x="1023" y="709"/>
                            </a:lnTo>
                            <a:lnTo>
                              <a:pt x="774" y="1241"/>
                            </a:lnTo>
                            <a:lnTo>
                              <a:pt x="424" y="1030"/>
                            </a:lnTo>
                            <a:lnTo>
                              <a:pt x="0" y="673"/>
                            </a:lnTo>
                            <a:lnTo>
                              <a:pt x="42" y="57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4840920" y="6172920"/>
                        <a:ext cx="8064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388">
                            <a:moveTo>
                              <a:pt x="32" y="0"/>
                            </a:moveTo>
                            <a:lnTo>
                              <a:pt x="661" y="317"/>
                            </a:lnTo>
                            <a:lnTo>
                              <a:pt x="625" y="388"/>
                            </a:lnTo>
                            <a:lnTo>
                              <a:pt x="0" y="7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2" name=""/>
                    <p:cNvGrpSpPr/>
                    <p:nvPr/>
                  </p:nvGrpSpPr>
                  <p:grpSpPr>
                    <a:xfrm>
                      <a:off x="4852440" y="6058080"/>
                      <a:ext cx="223920" cy="84240"/>
                      <a:chOff x="4852440" y="6058080"/>
                      <a:chExt cx="223920" cy="84240"/>
                    </a:xfrm>
                  </p:grpSpPr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4852440" y="6058080"/>
                        <a:ext cx="2239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6" h="691">
                            <a:moveTo>
                              <a:pt x="80" y="0"/>
                            </a:moveTo>
                            <a:lnTo>
                              <a:pt x="1173" y="549"/>
                            </a:lnTo>
                            <a:lnTo>
                              <a:pt x="1836" y="549"/>
                            </a:lnTo>
                            <a:lnTo>
                              <a:pt x="1836" y="691"/>
                            </a:lnTo>
                            <a:lnTo>
                              <a:pt x="1042" y="691"/>
                            </a:lnTo>
                            <a:lnTo>
                              <a:pt x="0" y="159"/>
                            </a:lnTo>
                            <a:lnTo>
                              <a:pt x="8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4856760" y="6073200"/>
                        <a:ext cx="13104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25" name=""/>
                    <p:cNvSpPr/>
                    <p:nvPr/>
                  </p:nvSpPr>
                  <p:spPr>
                    <a:xfrm>
                      <a:off x="4858920" y="6084000"/>
                      <a:ext cx="1206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583">
                          <a:moveTo>
                            <a:pt x="54" y="0"/>
                          </a:moveTo>
                          <a:lnTo>
                            <a:pt x="0" y="113"/>
                          </a:lnTo>
                          <a:lnTo>
                            <a:pt x="938" y="583"/>
                          </a:lnTo>
                          <a:lnTo>
                            <a:pt x="990" y="468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6" name=""/>
                  <p:cNvGrpSpPr/>
                  <p:nvPr/>
                </p:nvGrpSpPr>
                <p:grpSpPr>
                  <a:xfrm>
                    <a:off x="4908600" y="5780160"/>
                    <a:ext cx="180360" cy="297720"/>
                    <a:chOff x="4908600" y="5780160"/>
                    <a:chExt cx="180360" cy="297720"/>
                  </a:xfrm>
                </p:grpSpPr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4921200" y="6018840"/>
                      <a:ext cx="51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76">
                          <a:moveTo>
                            <a:pt x="105" y="0"/>
                          </a:moveTo>
                          <a:lnTo>
                            <a:pt x="0" y="213"/>
                          </a:lnTo>
                          <a:lnTo>
                            <a:pt x="326" y="376"/>
                          </a:lnTo>
                          <a:lnTo>
                            <a:pt x="426" y="177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4938840" y="5869440"/>
                      <a:ext cx="111960" cy="155880"/>
                      <a:chOff x="4938840" y="5869440"/>
                      <a:chExt cx="111960" cy="155880"/>
                    </a:xfrm>
                  </p:grpSpPr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4938840" y="5869440"/>
                        <a:ext cx="11196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1275">
                            <a:moveTo>
                              <a:pt x="530" y="0"/>
                            </a:moveTo>
                            <a:lnTo>
                              <a:pt x="918" y="211"/>
                            </a:lnTo>
                            <a:lnTo>
                              <a:pt x="390" y="1275"/>
                            </a:lnTo>
                            <a:lnTo>
                              <a:pt x="0" y="1061"/>
                            </a:lnTo>
                            <a:lnTo>
                              <a:pt x="53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4951800" y="5882400"/>
                        <a:ext cx="730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1062">
                            <a:moveTo>
                              <a:pt x="529" y="0"/>
                            </a:moveTo>
                            <a:lnTo>
                              <a:pt x="0" y="1026"/>
                            </a:lnTo>
                            <a:lnTo>
                              <a:pt x="71" y="1062"/>
                            </a:lnTo>
                            <a:lnTo>
                              <a:pt x="597" y="40"/>
                            </a:lnTo>
                            <a:lnTo>
                              <a:pt x="529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1" name=""/>
                    <p:cNvGrpSpPr/>
                    <p:nvPr/>
                  </p:nvGrpSpPr>
                  <p:grpSpPr>
                    <a:xfrm>
                      <a:off x="4994640" y="5780160"/>
                      <a:ext cx="94320" cy="123840"/>
                      <a:chOff x="4994640" y="5780160"/>
                      <a:chExt cx="94320" cy="123840"/>
                    </a:xfrm>
                  </p:grpSpPr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5034960" y="5793120"/>
                        <a:ext cx="4284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446">
                            <a:moveTo>
                              <a:pt x="179" y="0"/>
                            </a:moveTo>
                            <a:lnTo>
                              <a:pt x="0" y="327"/>
                            </a:lnTo>
                            <a:lnTo>
                              <a:pt x="205" y="446"/>
                            </a:lnTo>
                            <a:lnTo>
                              <a:pt x="354" y="88"/>
                            </a:lnTo>
                            <a:lnTo>
                              <a:pt x="179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5016960" y="5846760"/>
                        <a:ext cx="3744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255">
                            <a:moveTo>
                              <a:pt x="66" y="0"/>
                            </a:moveTo>
                            <a:lnTo>
                              <a:pt x="0" y="114"/>
                            </a:lnTo>
                            <a:lnTo>
                              <a:pt x="249" y="255"/>
                            </a:lnTo>
                            <a:lnTo>
                              <a:pt x="309" y="132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4994640" y="5852160"/>
                        <a:ext cx="68400" cy="51840"/>
                        <a:chOff x="4994640" y="5852160"/>
                        <a:chExt cx="68400" cy="5184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4994640" y="5852160"/>
                          <a:ext cx="6840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425">
                              <a:moveTo>
                                <a:pt x="70" y="0"/>
                              </a:moveTo>
                              <a:lnTo>
                                <a:pt x="564" y="283"/>
                              </a:lnTo>
                              <a:lnTo>
                                <a:pt x="494" y="425"/>
                              </a:lnTo>
                              <a:lnTo>
                                <a:pt x="0" y="142"/>
                              </a:lnTo>
                              <a:lnTo>
                                <a:pt x="7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36" name=""/>
                        <p:cNvGrpSpPr/>
                        <p:nvPr/>
                      </p:nvGrpSpPr>
                      <p:grpSpPr>
                        <a:xfrm>
                          <a:off x="4997520" y="5853960"/>
                          <a:ext cx="62280" cy="48600"/>
                          <a:chOff x="4997520" y="5853960"/>
                          <a:chExt cx="62280" cy="48600"/>
                        </a:xfrm>
                      </p:grpSpPr>
                      <p:sp>
                        <p:nvSpPr>
                          <p:cNvPr id="1337" name=""/>
                          <p:cNvSpPr/>
                          <p:nvPr/>
                        </p:nvSpPr>
                        <p:spPr>
                          <a:xfrm flipH="1">
                            <a:off x="4997520" y="585396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8" name=""/>
                          <p:cNvSpPr/>
                          <p:nvPr/>
                        </p:nvSpPr>
                        <p:spPr>
                          <a:xfrm flipH="1">
                            <a:off x="5004720" y="5857920"/>
                            <a:ext cx="864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9" name=""/>
                          <p:cNvSpPr/>
                          <p:nvPr/>
                        </p:nvSpPr>
                        <p:spPr>
                          <a:xfrm flipH="1">
                            <a:off x="5051520" y="58856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0" name=""/>
                          <p:cNvSpPr/>
                          <p:nvPr/>
                        </p:nvSpPr>
                        <p:spPr>
                          <a:xfrm flipH="1">
                            <a:off x="5000400" y="58554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1" name=""/>
                          <p:cNvSpPr/>
                          <p:nvPr/>
                        </p:nvSpPr>
                        <p:spPr>
                          <a:xfrm flipH="1">
                            <a:off x="5010120" y="5861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2" name=""/>
                          <p:cNvSpPr/>
                          <p:nvPr/>
                        </p:nvSpPr>
                        <p:spPr>
                          <a:xfrm flipH="1">
                            <a:off x="5025960" y="5870520"/>
                            <a:ext cx="792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3" name=""/>
                          <p:cNvSpPr/>
                          <p:nvPr/>
                        </p:nvSpPr>
                        <p:spPr>
                          <a:xfrm flipH="1">
                            <a:off x="5048280" y="5883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4" name=""/>
                          <p:cNvSpPr/>
                          <p:nvPr/>
                        </p:nvSpPr>
                        <p:spPr>
                          <a:xfrm flipH="1">
                            <a:off x="5043960" y="58813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/>
                          <p:nvPr/>
                        </p:nvSpPr>
                        <p:spPr>
                          <a:xfrm flipH="1">
                            <a:off x="5039640" y="58784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6" name=""/>
                          <p:cNvSpPr/>
                          <p:nvPr/>
                        </p:nvSpPr>
                        <p:spPr>
                          <a:xfrm flipH="1">
                            <a:off x="5034600" y="58748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7" name=""/>
                          <p:cNvSpPr/>
                          <p:nvPr/>
                        </p:nvSpPr>
                        <p:spPr>
                          <a:xfrm flipH="1">
                            <a:off x="5017320" y="58654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48" name=""/>
                      <p:cNvGrpSpPr/>
                      <p:nvPr/>
                    </p:nvGrpSpPr>
                    <p:grpSpPr>
                      <a:xfrm>
                        <a:off x="5016240" y="5826240"/>
                        <a:ext cx="55800" cy="43560"/>
                        <a:chOff x="5016240" y="5826240"/>
                        <a:chExt cx="55800" cy="43560"/>
                      </a:xfrm>
                    </p:grpSpPr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>
                          <a:off x="5016240" y="5826240"/>
                          <a:ext cx="55800" cy="4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0" h="357">
                              <a:moveTo>
                                <a:pt x="0" y="138"/>
                              </a:moveTo>
                              <a:lnTo>
                                <a:pt x="385" y="357"/>
                              </a:lnTo>
                              <a:lnTo>
                                <a:pt x="460" y="213"/>
                              </a:lnTo>
                              <a:lnTo>
                                <a:pt x="68" y="0"/>
                              </a:lnTo>
                              <a:lnTo>
                                <a:pt x="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50" name=""/>
                        <p:cNvGrpSpPr/>
                        <p:nvPr/>
                      </p:nvGrpSpPr>
                      <p:grpSpPr>
                        <a:xfrm>
                          <a:off x="5017680" y="5826960"/>
                          <a:ext cx="51480" cy="41400"/>
                          <a:chOff x="5017680" y="5826960"/>
                          <a:chExt cx="51480" cy="41400"/>
                        </a:xfrm>
                      </p:grpSpPr>
                      <p:sp>
                        <p:nvSpPr>
                          <p:cNvPr id="1351" name=""/>
                          <p:cNvSpPr/>
                          <p:nvPr/>
                        </p:nvSpPr>
                        <p:spPr>
                          <a:xfrm flipH="1">
                            <a:off x="5037120" y="583776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2" name=""/>
                          <p:cNvSpPr/>
                          <p:nvPr/>
                        </p:nvSpPr>
                        <p:spPr>
                          <a:xfrm flipH="1">
                            <a:off x="5019840" y="582840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3" name=""/>
                          <p:cNvSpPr/>
                          <p:nvPr/>
                        </p:nvSpPr>
                        <p:spPr>
                          <a:xfrm flipH="1">
                            <a:off x="5054040" y="5847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4" name=""/>
                          <p:cNvSpPr/>
                          <p:nvPr/>
                        </p:nvSpPr>
                        <p:spPr>
                          <a:xfrm flipH="1">
                            <a:off x="5017680" y="582696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5" name=""/>
                          <p:cNvSpPr/>
                          <p:nvPr/>
                        </p:nvSpPr>
                        <p:spPr>
                          <a:xfrm flipH="1">
                            <a:off x="5023080" y="582984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6" name=""/>
                          <p:cNvSpPr/>
                          <p:nvPr/>
                        </p:nvSpPr>
                        <p:spPr>
                          <a:xfrm flipH="1">
                            <a:off x="5031720" y="583488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7" name=""/>
                          <p:cNvSpPr/>
                          <p:nvPr/>
                        </p:nvSpPr>
                        <p:spPr>
                          <a:xfrm flipH="1">
                            <a:off x="5058720" y="58492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8" name=""/>
                          <p:cNvSpPr/>
                          <p:nvPr/>
                        </p:nvSpPr>
                        <p:spPr>
                          <a:xfrm flipH="1">
                            <a:off x="5060880" y="58510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59" name=""/>
                          <p:cNvSpPr/>
                          <p:nvPr/>
                        </p:nvSpPr>
                        <p:spPr>
                          <a:xfrm flipH="1">
                            <a:off x="5056560" y="5848560"/>
                            <a:ext cx="864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0" name=""/>
                          <p:cNvSpPr/>
                          <p:nvPr/>
                        </p:nvSpPr>
                        <p:spPr>
                          <a:xfrm flipH="1">
                            <a:off x="5051520" y="584532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1" name=""/>
                          <p:cNvSpPr/>
                          <p:nvPr/>
                        </p:nvSpPr>
                        <p:spPr>
                          <a:xfrm flipH="1">
                            <a:off x="5027040" y="5832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2" name=""/>
                          <p:cNvSpPr/>
                          <p:nvPr/>
                        </p:nvSpPr>
                        <p:spPr>
                          <a:xfrm flipH="1">
                            <a:off x="5043240" y="5841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3" name=""/>
                          <p:cNvSpPr/>
                          <p:nvPr/>
                        </p:nvSpPr>
                        <p:spPr>
                          <a:xfrm flipH="1">
                            <a:off x="5047200" y="5843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64" name=""/>
                      <p:cNvGrpSpPr/>
                      <p:nvPr/>
                    </p:nvGrpSpPr>
                    <p:grpSpPr>
                      <a:xfrm>
                        <a:off x="5051520" y="5780160"/>
                        <a:ext cx="37440" cy="27000"/>
                        <a:chOff x="5051520" y="5780160"/>
                        <a:chExt cx="37440" cy="27000"/>
                      </a:xfrm>
                    </p:grpSpPr>
                    <p:sp>
                      <p:nvSpPr>
                        <p:cNvPr id="1365" name=""/>
                        <p:cNvSpPr/>
                        <p:nvPr/>
                      </p:nvSpPr>
                      <p:spPr>
                        <a:xfrm>
                          <a:off x="5051520" y="5780160"/>
                          <a:ext cx="374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19">
                              <a:moveTo>
                                <a:pt x="0" y="85"/>
                              </a:moveTo>
                              <a:lnTo>
                                <a:pt x="263" y="219"/>
                              </a:lnTo>
                              <a:lnTo>
                                <a:pt x="309" y="131"/>
                              </a:lnTo>
                              <a:lnTo>
                                <a:pt x="42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66" name=""/>
                        <p:cNvGrpSpPr/>
                        <p:nvPr/>
                      </p:nvGrpSpPr>
                      <p:grpSpPr>
                        <a:xfrm>
                          <a:off x="5051880" y="5780520"/>
                          <a:ext cx="35640" cy="25920"/>
                          <a:chOff x="5051880" y="5780520"/>
                          <a:chExt cx="35640" cy="25920"/>
                        </a:xfrm>
                      </p:grpSpPr>
                      <p:sp>
                        <p:nvSpPr>
                          <p:cNvPr id="1367" name=""/>
                          <p:cNvSpPr/>
                          <p:nvPr/>
                        </p:nvSpPr>
                        <p:spPr>
                          <a:xfrm flipH="1">
                            <a:off x="5051880" y="578052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8" name=""/>
                          <p:cNvSpPr/>
                          <p:nvPr/>
                        </p:nvSpPr>
                        <p:spPr>
                          <a:xfrm flipH="1">
                            <a:off x="5082480" y="57960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9" name=""/>
                          <p:cNvSpPr/>
                          <p:nvPr/>
                        </p:nvSpPr>
                        <p:spPr>
                          <a:xfrm flipH="1">
                            <a:off x="5052960" y="578124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0" name=""/>
                          <p:cNvSpPr/>
                          <p:nvPr/>
                        </p:nvSpPr>
                        <p:spPr>
                          <a:xfrm flipH="1">
                            <a:off x="5080680" y="579492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1" name=""/>
                          <p:cNvSpPr/>
                          <p:nvPr/>
                        </p:nvSpPr>
                        <p:spPr>
                          <a:xfrm flipH="1">
                            <a:off x="5054760" y="578196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2" name=""/>
                          <p:cNvSpPr/>
                          <p:nvPr/>
                        </p:nvSpPr>
                        <p:spPr>
                          <a:xfrm flipH="1">
                            <a:off x="5056560" y="57826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3" name=""/>
                          <p:cNvSpPr/>
                          <p:nvPr/>
                        </p:nvSpPr>
                        <p:spPr>
                          <a:xfrm flipH="1">
                            <a:off x="5079240" y="57942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4" name=""/>
                          <p:cNvSpPr/>
                          <p:nvPr/>
                        </p:nvSpPr>
                        <p:spPr>
                          <a:xfrm flipH="1">
                            <a:off x="5077080" y="579348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5" name=""/>
                          <p:cNvSpPr/>
                          <p:nvPr/>
                        </p:nvSpPr>
                        <p:spPr>
                          <a:xfrm flipH="1">
                            <a:off x="5058000" y="57837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6" name=""/>
                          <p:cNvSpPr/>
                          <p:nvPr/>
                        </p:nvSpPr>
                        <p:spPr>
                          <a:xfrm flipH="1">
                            <a:off x="5074560" y="579204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7" name=""/>
                          <p:cNvSpPr/>
                          <p:nvPr/>
                        </p:nvSpPr>
                        <p:spPr>
                          <a:xfrm flipH="1">
                            <a:off x="5061240" y="57852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8" name=""/>
                          <p:cNvSpPr/>
                          <p:nvPr/>
                        </p:nvSpPr>
                        <p:spPr>
                          <a:xfrm flipH="1">
                            <a:off x="5072040" y="57909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9" name=""/>
                          <p:cNvSpPr/>
                          <p:nvPr/>
                        </p:nvSpPr>
                        <p:spPr>
                          <a:xfrm flipH="1">
                            <a:off x="5064480" y="578700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0" name=""/>
                          <p:cNvSpPr/>
                          <p:nvPr/>
                        </p:nvSpPr>
                        <p:spPr>
                          <a:xfrm flipH="1">
                            <a:off x="5068080" y="57888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381" name=""/>
                    <p:cNvGrpSpPr/>
                    <p:nvPr/>
                  </p:nvGrpSpPr>
                  <p:grpSpPr>
                    <a:xfrm>
                      <a:off x="4908600" y="6041160"/>
                      <a:ext cx="61200" cy="36720"/>
                      <a:chOff x="4908600" y="6041160"/>
                      <a:chExt cx="61200" cy="36720"/>
                    </a:xfrm>
                  </p:grpSpPr>
                  <p:sp>
                    <p:nvSpPr>
                      <p:cNvPr id="1382" name=""/>
                      <p:cNvSpPr/>
                      <p:nvPr/>
                    </p:nvSpPr>
                    <p:spPr>
                      <a:xfrm>
                        <a:off x="4908600" y="6041160"/>
                        <a:ext cx="6120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03">
                            <a:moveTo>
                              <a:pt x="36" y="0"/>
                            </a:moveTo>
                            <a:lnTo>
                              <a:pt x="502" y="235"/>
                            </a:lnTo>
                            <a:lnTo>
                              <a:pt x="468" y="303"/>
                            </a:lnTo>
                            <a:lnTo>
                              <a:pt x="0" y="70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83" name=""/>
                      <p:cNvGrpSpPr/>
                      <p:nvPr/>
                    </p:nvGrpSpPr>
                    <p:grpSpPr>
                      <a:xfrm>
                        <a:off x="4910400" y="6042600"/>
                        <a:ext cx="57240" cy="34560"/>
                        <a:chOff x="4910400" y="6042600"/>
                        <a:chExt cx="57240" cy="34560"/>
                      </a:xfrm>
                    </p:grpSpPr>
                    <p:sp>
                      <p:nvSpPr>
                        <p:cNvPr id="1384" name=""/>
                        <p:cNvSpPr/>
                        <p:nvPr/>
                      </p:nvSpPr>
                      <p:spPr>
                        <a:xfrm flipH="1">
                          <a:off x="4910400" y="60426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 flipH="1">
                          <a:off x="4912920" y="604368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6" name=""/>
                        <p:cNvSpPr/>
                        <p:nvPr/>
                      </p:nvSpPr>
                      <p:spPr>
                        <a:xfrm flipH="1">
                          <a:off x="4964040" y="606924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7" name=""/>
                        <p:cNvSpPr/>
                        <p:nvPr/>
                      </p:nvSpPr>
                      <p:spPr>
                        <a:xfrm flipH="1">
                          <a:off x="4915080" y="60447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 flipH="1">
                          <a:off x="4918680" y="60465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9" name=""/>
                        <p:cNvSpPr/>
                        <p:nvPr/>
                      </p:nvSpPr>
                      <p:spPr>
                        <a:xfrm flipH="1">
                          <a:off x="4923360" y="604872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0" name=""/>
                        <p:cNvSpPr/>
                        <p:nvPr/>
                      </p:nvSpPr>
                      <p:spPr>
                        <a:xfrm flipH="1">
                          <a:off x="4928760" y="605124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1" name=""/>
                        <p:cNvSpPr/>
                        <p:nvPr/>
                      </p:nvSpPr>
                      <p:spPr>
                        <a:xfrm flipH="1">
                          <a:off x="4933080" y="605340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2" name=""/>
                        <p:cNvSpPr/>
                        <p:nvPr/>
                      </p:nvSpPr>
                      <p:spPr>
                        <a:xfrm flipH="1">
                          <a:off x="4961880" y="6068520"/>
                          <a:ext cx="3960" cy="7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3" name=""/>
                        <p:cNvSpPr/>
                        <p:nvPr/>
                      </p:nvSpPr>
                      <p:spPr>
                        <a:xfrm flipH="1">
                          <a:off x="4959000" y="606708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 flipH="1">
                          <a:off x="4957200" y="60660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5" name=""/>
                        <p:cNvSpPr/>
                        <p:nvPr/>
                      </p:nvSpPr>
                      <p:spPr>
                        <a:xfrm flipH="1">
                          <a:off x="4955040" y="606456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6" name=""/>
                        <p:cNvSpPr/>
                        <p:nvPr/>
                      </p:nvSpPr>
                      <p:spPr>
                        <a:xfrm flipH="1">
                          <a:off x="4952160" y="606276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 flipH="1">
                          <a:off x="4947480" y="606132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 flipH="1">
                          <a:off x="4943160" y="605844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9" name=""/>
                        <p:cNvSpPr/>
                        <p:nvPr/>
                      </p:nvSpPr>
                      <p:spPr>
                        <a:xfrm flipH="1">
                          <a:off x="4938480" y="605592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0" name=""/>
                    <p:cNvGrpSpPr/>
                    <p:nvPr/>
                  </p:nvGrpSpPr>
                  <p:grpSpPr>
                    <a:xfrm>
                      <a:off x="4921200" y="5995080"/>
                      <a:ext cx="73080" cy="52920"/>
                      <a:chOff x="4921200" y="5995080"/>
                      <a:chExt cx="73080" cy="52920"/>
                    </a:xfrm>
                  </p:grpSpPr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4921200" y="5995080"/>
                        <a:ext cx="7308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432">
                            <a:moveTo>
                              <a:pt x="71" y="0"/>
                            </a:moveTo>
                            <a:lnTo>
                              <a:pt x="599" y="288"/>
                            </a:lnTo>
                            <a:lnTo>
                              <a:pt x="529" y="432"/>
                            </a:lnTo>
                            <a:lnTo>
                              <a:pt x="0" y="141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02" name=""/>
                      <p:cNvGrpSpPr/>
                      <p:nvPr/>
                    </p:nvGrpSpPr>
                    <p:grpSpPr>
                      <a:xfrm>
                        <a:off x="4923720" y="5996880"/>
                        <a:ext cx="67320" cy="49680"/>
                        <a:chOff x="4923720" y="5996880"/>
                        <a:chExt cx="67320" cy="49680"/>
                      </a:xfrm>
                    </p:grpSpPr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 flipH="1">
                          <a:off x="4931280" y="6000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4" name=""/>
                        <p:cNvSpPr/>
                        <p:nvPr/>
                      </p:nvSpPr>
                      <p:spPr>
                        <a:xfrm flipH="1">
                          <a:off x="4982760" y="60292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 flipH="1">
                          <a:off x="4926960" y="59986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6" name=""/>
                        <p:cNvSpPr/>
                        <p:nvPr/>
                      </p:nvSpPr>
                      <p:spPr>
                        <a:xfrm flipH="1">
                          <a:off x="4936320" y="60033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7" name=""/>
                        <p:cNvSpPr/>
                        <p:nvPr/>
                      </p:nvSpPr>
                      <p:spPr>
                        <a:xfrm flipH="1">
                          <a:off x="4948560" y="60105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8" name=""/>
                        <p:cNvSpPr/>
                        <p:nvPr/>
                      </p:nvSpPr>
                      <p:spPr>
                        <a:xfrm flipH="1">
                          <a:off x="4980240" y="6027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 flipH="1">
                          <a:off x="4977000" y="6026040"/>
                          <a:ext cx="86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0" name=""/>
                        <p:cNvSpPr/>
                        <p:nvPr/>
                      </p:nvSpPr>
                      <p:spPr>
                        <a:xfrm flipH="1">
                          <a:off x="4973040" y="602352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1" name=""/>
                        <p:cNvSpPr/>
                        <p:nvPr/>
                      </p:nvSpPr>
                      <p:spPr>
                        <a:xfrm flipH="1">
                          <a:off x="4956840" y="60148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 flipH="1">
                          <a:off x="4942440" y="600660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3" name=""/>
                        <p:cNvSpPr/>
                        <p:nvPr/>
                      </p:nvSpPr>
                      <p:spPr>
                        <a:xfrm flipH="1">
                          <a:off x="4968360" y="602136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4" name=""/>
                        <p:cNvSpPr/>
                        <p:nvPr/>
                      </p:nvSpPr>
                      <p:spPr>
                        <a:xfrm flipH="1">
                          <a:off x="4963680" y="601812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5" name=""/>
                        <p:cNvSpPr/>
                        <p:nvPr/>
                      </p:nvSpPr>
                      <p:spPr>
                        <a:xfrm flipH="1">
                          <a:off x="4923720" y="59968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4811400" y="6268320"/>
                    <a:ext cx="384120" cy="59400"/>
                    <a:chOff x="4811400" y="6268320"/>
                    <a:chExt cx="384120" cy="5940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4811400" y="6299640"/>
                      <a:ext cx="384120" cy="280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4839840" y="6268320"/>
                      <a:ext cx="326520" cy="302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19" name=""/>
                <p:cNvSpPr/>
                <p:nvPr/>
              </p:nvSpPr>
              <p:spPr>
                <a:xfrm>
                  <a:off x="4496760" y="6292800"/>
                  <a:ext cx="125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Laborator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2608560" y="5571360"/>
                <a:ext cx="910080" cy="818280"/>
                <a:chOff x="2608560" y="5571360"/>
                <a:chExt cx="910080" cy="818280"/>
              </a:xfrm>
            </p:grpSpPr>
            <p:grpSp>
              <p:nvGrpSpPr>
                <p:cNvPr id="1421" name=""/>
                <p:cNvGrpSpPr/>
                <p:nvPr/>
              </p:nvGrpSpPr>
              <p:grpSpPr>
                <a:xfrm>
                  <a:off x="2608560" y="5571360"/>
                  <a:ext cx="910080" cy="735120"/>
                  <a:chOff x="2608560" y="5571360"/>
                  <a:chExt cx="910080" cy="73512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2608560" y="5571360"/>
                    <a:ext cx="910080" cy="735120"/>
                    <a:chOff x="2608560" y="5571360"/>
                    <a:chExt cx="910080" cy="735120"/>
                  </a:xfrm>
                </p:grpSpPr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2608560" y="5571360"/>
                      <a:ext cx="910080" cy="735120"/>
                      <a:chOff x="2608560" y="5571360"/>
                      <a:chExt cx="910080" cy="735120"/>
                    </a:xfrm>
                  </p:grpSpPr>
                  <p:grpSp>
                    <p:nvGrpSpPr>
                      <p:cNvPr id="1424" name=""/>
                      <p:cNvGrpSpPr/>
                      <p:nvPr/>
                    </p:nvGrpSpPr>
                    <p:grpSpPr>
                      <a:xfrm>
                        <a:off x="2608560" y="5571360"/>
                        <a:ext cx="910080" cy="735120"/>
                        <a:chOff x="2608560" y="5571360"/>
                        <a:chExt cx="910080" cy="735120"/>
                      </a:xfrm>
                    </p:grpSpPr>
                    <p:sp>
                      <p:nvSpPr>
                        <p:cNvPr id="1425" name=""/>
                        <p:cNvSpPr/>
                        <p:nvPr/>
                      </p:nvSpPr>
                      <p:spPr>
                        <a:xfrm rot="1408800">
                          <a:off x="2638080" y="5847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200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2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6" name=""/>
                        <p:cNvSpPr/>
                        <p:nvPr/>
                      </p:nvSpPr>
                      <p:spPr>
                        <a:xfrm rot="1408800">
                          <a:off x="2641320" y="58402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3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7" name=""/>
                        <p:cNvSpPr/>
                        <p:nvPr/>
                      </p:nvSpPr>
                      <p:spPr>
                        <a:xfrm rot="1408800">
                          <a:off x="2644920" y="5832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8" name=""/>
                        <p:cNvSpPr/>
                        <p:nvPr/>
                      </p:nvSpPr>
                      <p:spPr>
                        <a:xfrm rot="1408800">
                          <a:off x="2647800" y="58248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9" name=""/>
                        <p:cNvSpPr/>
                        <p:nvPr/>
                      </p:nvSpPr>
                      <p:spPr>
                        <a:xfrm rot="1408800">
                          <a:off x="2651400" y="58168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0" name=""/>
                        <p:cNvSpPr/>
                        <p:nvPr/>
                      </p:nvSpPr>
                      <p:spPr>
                        <a:xfrm rot="1408800">
                          <a:off x="2654640" y="5808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9"/>
                              </a:lnTo>
                              <a:lnTo>
                                <a:pt x="2459" y="292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5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1" name=""/>
                        <p:cNvSpPr/>
                        <p:nvPr/>
                      </p:nvSpPr>
                      <p:spPr>
                        <a:xfrm rot="1408800">
                          <a:off x="2657880" y="58014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2" name=""/>
                        <p:cNvSpPr/>
                        <p:nvPr/>
                      </p:nvSpPr>
                      <p:spPr>
                        <a:xfrm rot="1408800">
                          <a:off x="2661840" y="5793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3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3" name=""/>
                        <p:cNvSpPr/>
                        <p:nvPr/>
                      </p:nvSpPr>
                      <p:spPr>
                        <a:xfrm rot="1408800">
                          <a:off x="2665080" y="5785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6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6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4" name=""/>
                        <p:cNvSpPr/>
                        <p:nvPr/>
                      </p:nvSpPr>
                      <p:spPr>
                        <a:xfrm rot="1408800">
                          <a:off x="2668320" y="5778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5" name=""/>
                        <p:cNvSpPr/>
                        <p:nvPr/>
                      </p:nvSpPr>
                      <p:spPr>
                        <a:xfrm rot="1408800">
                          <a:off x="2671560" y="5770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6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6" name=""/>
                        <p:cNvSpPr/>
                        <p:nvPr/>
                      </p:nvSpPr>
                      <p:spPr>
                        <a:xfrm rot="1408800">
                          <a:off x="2674800" y="57625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7" name=""/>
                        <p:cNvSpPr/>
                        <p:nvPr/>
                      </p:nvSpPr>
                      <p:spPr>
                        <a:xfrm rot="1408800">
                          <a:off x="2678400" y="5754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8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0"/>
                              </a:lnTo>
                              <a:lnTo>
                                <a:pt x="2276" y="416"/>
                              </a:lnTo>
                              <a:lnTo>
                                <a:pt x="2085" y="569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8" name=""/>
                        <p:cNvSpPr/>
                        <p:nvPr/>
                      </p:nvSpPr>
                      <p:spPr>
                        <a:xfrm rot="1408800">
                          <a:off x="2681640" y="57470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6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9" name=""/>
                        <p:cNvSpPr/>
                        <p:nvPr/>
                      </p:nvSpPr>
                      <p:spPr>
                        <a:xfrm rot="1408800">
                          <a:off x="2685240" y="57394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0" name=""/>
                        <p:cNvSpPr/>
                        <p:nvPr/>
                      </p:nvSpPr>
                      <p:spPr>
                        <a:xfrm rot="1408800">
                          <a:off x="2688840" y="5731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4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2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1" name=""/>
                        <p:cNvSpPr/>
                        <p:nvPr/>
                      </p:nvSpPr>
                      <p:spPr>
                        <a:xfrm rot="1408800">
                          <a:off x="2692080" y="57240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2" name=""/>
                        <p:cNvSpPr/>
                        <p:nvPr/>
                      </p:nvSpPr>
                      <p:spPr>
                        <a:xfrm rot="1408800">
                          <a:off x="2695320" y="57164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5">
                              <a:moveTo>
                                <a:pt x="0" y="2050"/>
                              </a:moveTo>
                              <a:lnTo>
                                <a:pt x="1608" y="2855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18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7"/>
                              </a:lnTo>
                              <a:lnTo>
                                <a:pt x="1363" y="1100"/>
                              </a:lnTo>
                              <a:lnTo>
                                <a:pt x="1084" y="1259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43" name=""/>
                      <p:cNvGrpSpPr/>
                      <p:nvPr/>
                    </p:nvGrpSpPr>
                    <p:grpSpPr>
                      <a:xfrm>
                        <a:off x="2741400" y="5622480"/>
                        <a:ext cx="703080" cy="497880"/>
                        <a:chOff x="2741400" y="5622480"/>
                        <a:chExt cx="703080" cy="497880"/>
                      </a:xfrm>
                    </p:grpSpPr>
                    <p:sp>
                      <p:nvSpPr>
                        <p:cNvPr id="1444" name=""/>
                        <p:cNvSpPr/>
                        <p:nvPr/>
                      </p:nvSpPr>
                      <p:spPr>
                        <a:xfrm rot="1408800">
                          <a:off x="2765520" y="5742000"/>
                          <a:ext cx="654480" cy="25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5" h="2355">
                              <a:moveTo>
                                <a:pt x="0" y="1690"/>
                              </a:moveTo>
                              <a:lnTo>
                                <a:pt x="1325" y="2355"/>
                              </a:lnTo>
                              <a:lnTo>
                                <a:pt x="1536" y="2160"/>
                              </a:lnTo>
                              <a:lnTo>
                                <a:pt x="1733" y="1977"/>
                              </a:lnTo>
                              <a:lnTo>
                                <a:pt x="1923" y="1811"/>
                              </a:lnTo>
                              <a:lnTo>
                                <a:pt x="2138" y="1638"/>
                              </a:lnTo>
                              <a:lnTo>
                                <a:pt x="2295" y="1508"/>
                              </a:lnTo>
                              <a:lnTo>
                                <a:pt x="2519" y="1351"/>
                              </a:lnTo>
                              <a:lnTo>
                                <a:pt x="2748" y="1186"/>
                              </a:lnTo>
                              <a:lnTo>
                                <a:pt x="2939" y="1040"/>
                              </a:lnTo>
                              <a:lnTo>
                                <a:pt x="3112" y="923"/>
                              </a:lnTo>
                              <a:lnTo>
                                <a:pt x="3280" y="811"/>
                              </a:lnTo>
                              <a:lnTo>
                                <a:pt x="3447" y="701"/>
                              </a:lnTo>
                              <a:lnTo>
                                <a:pt x="3615" y="594"/>
                              </a:lnTo>
                              <a:lnTo>
                                <a:pt x="2421" y="0"/>
                              </a:lnTo>
                              <a:lnTo>
                                <a:pt x="2226" y="112"/>
                              </a:lnTo>
                              <a:lnTo>
                                <a:pt x="2026" y="239"/>
                              </a:lnTo>
                              <a:lnTo>
                                <a:pt x="1875" y="343"/>
                              </a:lnTo>
                              <a:lnTo>
                                <a:pt x="1718" y="470"/>
                              </a:lnTo>
                              <a:lnTo>
                                <a:pt x="1550" y="604"/>
                              </a:lnTo>
                              <a:lnTo>
                                <a:pt x="1385" y="747"/>
                              </a:lnTo>
                              <a:lnTo>
                                <a:pt x="1122" y="907"/>
                              </a:lnTo>
                              <a:lnTo>
                                <a:pt x="918" y="1022"/>
                              </a:lnTo>
                              <a:lnTo>
                                <a:pt x="677" y="1178"/>
                              </a:lnTo>
                              <a:lnTo>
                                <a:pt x="440" y="1343"/>
                              </a:lnTo>
                              <a:lnTo>
                                <a:pt x="225" y="1500"/>
                              </a:lnTo>
                              <a:lnTo>
                                <a:pt x="0" y="169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5" name=""/>
                        <p:cNvSpPr/>
                        <p:nvPr/>
                      </p:nvSpPr>
                      <p:spPr>
                        <a:xfrm rot="1408800">
                          <a:off x="2786400" y="5749200"/>
                          <a:ext cx="614520" cy="24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4" h="2221">
                              <a:moveTo>
                                <a:pt x="0" y="1612"/>
                              </a:moveTo>
                              <a:lnTo>
                                <a:pt x="1206" y="2221"/>
                              </a:lnTo>
                              <a:lnTo>
                                <a:pt x="1407" y="2022"/>
                              </a:lnTo>
                              <a:lnTo>
                                <a:pt x="1624" y="1831"/>
                              </a:lnTo>
                              <a:lnTo>
                                <a:pt x="1796" y="1679"/>
                              </a:lnTo>
                              <a:lnTo>
                                <a:pt x="1989" y="1524"/>
                              </a:lnTo>
                              <a:lnTo>
                                <a:pt x="2131" y="1409"/>
                              </a:lnTo>
                              <a:lnTo>
                                <a:pt x="2332" y="1267"/>
                              </a:lnTo>
                              <a:lnTo>
                                <a:pt x="2537" y="1118"/>
                              </a:lnTo>
                              <a:lnTo>
                                <a:pt x="2711" y="988"/>
                              </a:lnTo>
                              <a:lnTo>
                                <a:pt x="2868" y="881"/>
                              </a:lnTo>
                              <a:lnTo>
                                <a:pt x="3017" y="781"/>
                              </a:lnTo>
                              <a:lnTo>
                                <a:pt x="3195" y="667"/>
                              </a:lnTo>
                              <a:lnTo>
                                <a:pt x="3394" y="536"/>
                              </a:lnTo>
                              <a:lnTo>
                                <a:pt x="2308" y="0"/>
                              </a:lnTo>
                              <a:lnTo>
                                <a:pt x="2119" y="113"/>
                              </a:lnTo>
                              <a:lnTo>
                                <a:pt x="1927" y="229"/>
                              </a:lnTo>
                              <a:lnTo>
                                <a:pt x="1752" y="359"/>
                              </a:lnTo>
                              <a:lnTo>
                                <a:pt x="1610" y="472"/>
                              </a:lnTo>
                              <a:lnTo>
                                <a:pt x="1459" y="594"/>
                              </a:lnTo>
                              <a:lnTo>
                                <a:pt x="1312" y="723"/>
                              </a:lnTo>
                              <a:lnTo>
                                <a:pt x="1074" y="865"/>
                              </a:lnTo>
                              <a:lnTo>
                                <a:pt x="891" y="972"/>
                              </a:lnTo>
                              <a:lnTo>
                                <a:pt x="674" y="1110"/>
                              </a:lnTo>
                              <a:lnTo>
                                <a:pt x="473" y="1261"/>
                              </a:lnTo>
                              <a:lnTo>
                                <a:pt x="265" y="1414"/>
                              </a:lnTo>
                              <a:lnTo>
                                <a:pt x="0" y="1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6" name=""/>
                    <p:cNvGrpSpPr/>
                    <p:nvPr/>
                  </p:nvGrpSpPr>
                  <p:grpSpPr>
                    <a:xfrm>
                      <a:off x="2815560" y="5804280"/>
                      <a:ext cx="562320" cy="132120"/>
                      <a:chOff x="2815560" y="5804280"/>
                      <a:chExt cx="562320" cy="132120"/>
                    </a:xfrm>
                  </p:grpSpPr>
                  <p:grpSp>
                    <p:nvGrpSpPr>
                      <p:cNvPr id="1447" name=""/>
                      <p:cNvGrpSpPr/>
                      <p:nvPr/>
                    </p:nvGrpSpPr>
                    <p:grpSpPr>
                      <a:xfrm>
                        <a:off x="2815560" y="5808240"/>
                        <a:ext cx="62640" cy="9360"/>
                        <a:chOff x="2815560" y="5808240"/>
                        <a:chExt cx="62640" cy="9360"/>
                      </a:xfrm>
                    </p:grpSpPr>
                    <p:sp>
                      <p:nvSpPr>
                        <p:cNvPr id="1448" name=""/>
                        <p:cNvSpPr/>
                        <p:nvPr/>
                      </p:nvSpPr>
                      <p:spPr>
                        <a:xfrm flipV="1">
                          <a:off x="2815560" y="580824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9" name=""/>
                        <p:cNvSpPr/>
                        <p:nvPr/>
                      </p:nvSpPr>
                      <p:spPr>
                        <a:xfrm flipV="1">
                          <a:off x="2824920" y="581616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50" name=""/>
                      <p:cNvGrpSpPr/>
                      <p:nvPr/>
                    </p:nvGrpSpPr>
                    <p:grpSpPr>
                      <a:xfrm>
                        <a:off x="2954880" y="5921280"/>
                        <a:ext cx="59400" cy="15120"/>
                        <a:chOff x="2954880" y="5921280"/>
                        <a:chExt cx="59400" cy="15120"/>
                      </a:xfrm>
                    </p:grpSpPr>
                    <p:sp>
                      <p:nvSpPr>
                        <p:cNvPr id="1451" name=""/>
                        <p:cNvSpPr/>
                        <p:nvPr/>
                      </p:nvSpPr>
                      <p:spPr>
                        <a:xfrm flipV="1">
                          <a:off x="2954880" y="5921280"/>
                          <a:ext cx="4752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2" name=""/>
                        <p:cNvSpPr/>
                        <p:nvPr/>
                      </p:nvSpPr>
                      <p:spPr>
                        <a:xfrm flipV="1">
                          <a:off x="2966400" y="5931360"/>
                          <a:ext cx="4788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53" name=""/>
                      <p:cNvGrpSpPr/>
                      <p:nvPr/>
                    </p:nvGrpSpPr>
                    <p:grpSpPr>
                      <a:xfrm>
                        <a:off x="3321000" y="5914800"/>
                        <a:ext cx="56880" cy="11160"/>
                        <a:chOff x="3321000" y="5914800"/>
                        <a:chExt cx="56880" cy="11160"/>
                      </a:xfrm>
                    </p:grpSpPr>
                    <p:sp>
                      <p:nvSpPr>
                        <p:cNvPr id="1454" name=""/>
                        <p:cNvSpPr/>
                        <p:nvPr/>
                      </p:nvSpPr>
                      <p:spPr>
                        <a:xfrm flipH="1" flipV="1">
                          <a:off x="3332160" y="5924880"/>
                          <a:ext cx="45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5" name=""/>
                        <p:cNvSpPr/>
                        <p:nvPr/>
                      </p:nvSpPr>
                      <p:spPr>
                        <a:xfrm flipH="1" flipV="1">
                          <a:off x="3321000" y="5914800"/>
                          <a:ext cx="450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56" name=""/>
                      <p:cNvGrpSpPr/>
                      <p:nvPr/>
                    </p:nvGrpSpPr>
                    <p:grpSpPr>
                      <a:xfrm>
                        <a:off x="3197880" y="5810040"/>
                        <a:ext cx="53280" cy="10440"/>
                        <a:chOff x="3197880" y="5810040"/>
                        <a:chExt cx="53280" cy="10440"/>
                      </a:xfrm>
                    </p:grpSpPr>
                    <p:sp>
                      <p:nvSpPr>
                        <p:cNvPr id="1457" name=""/>
                        <p:cNvSpPr/>
                        <p:nvPr/>
                      </p:nvSpPr>
                      <p:spPr>
                        <a:xfrm flipH="1" flipV="1">
                          <a:off x="3197880" y="5810040"/>
                          <a:ext cx="4392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8" name=""/>
                        <p:cNvSpPr/>
                        <p:nvPr/>
                      </p:nvSpPr>
                      <p:spPr>
                        <a:xfrm flipH="1" flipV="1">
                          <a:off x="3206880" y="5818320"/>
                          <a:ext cx="4428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59" name=""/>
                      <p:cNvGrpSpPr/>
                      <p:nvPr/>
                    </p:nvGrpSpPr>
                    <p:grpSpPr>
                      <a:xfrm>
                        <a:off x="3042360" y="5804280"/>
                        <a:ext cx="167040" cy="127800"/>
                        <a:chOff x="3042360" y="5804280"/>
                        <a:chExt cx="167040" cy="127800"/>
                      </a:xfrm>
                    </p:grpSpPr>
                    <p:sp>
                      <p:nvSpPr>
                        <p:cNvPr id="1460" name=""/>
                        <p:cNvSpPr/>
                        <p:nvPr/>
                      </p:nvSpPr>
                      <p:spPr>
                        <a:xfrm rot="1408800">
                          <a:off x="3051000" y="5830560"/>
                          <a:ext cx="1486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1" name=""/>
                        <p:cNvSpPr/>
                        <p:nvPr/>
                      </p:nvSpPr>
                      <p:spPr>
                        <a:xfrm rot="1408800">
                          <a:off x="3051720" y="5830920"/>
                          <a:ext cx="1486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62" name=""/>
                  <p:cNvSpPr/>
                  <p:nvPr/>
                </p:nvSpPr>
                <p:spPr>
                  <a:xfrm rot="1408800">
                    <a:off x="2972520" y="5822640"/>
                    <a:ext cx="252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" h="2070">
                        <a:moveTo>
                          <a:pt x="0" y="0"/>
                        </a:moveTo>
                        <a:lnTo>
                          <a:pt x="1397" y="723"/>
                        </a:lnTo>
                        <a:lnTo>
                          <a:pt x="1395" y="207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3" name=""/>
                <p:cNvSpPr/>
                <p:nvPr/>
              </p:nvSpPr>
              <p:spPr>
                <a:xfrm>
                  <a:off x="2777040" y="6021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915120" y="5843520"/>
                <a:ext cx="936720" cy="631080"/>
                <a:chOff x="915120" y="5843520"/>
                <a:chExt cx="936720" cy="631080"/>
              </a:xfrm>
            </p:grpSpPr>
            <p:grpSp>
              <p:nvGrpSpPr>
                <p:cNvPr id="1465" name=""/>
                <p:cNvGrpSpPr/>
                <p:nvPr/>
              </p:nvGrpSpPr>
              <p:grpSpPr>
                <a:xfrm>
                  <a:off x="946080" y="5843520"/>
                  <a:ext cx="800280" cy="384120"/>
                  <a:chOff x="946080" y="5843520"/>
                  <a:chExt cx="800280" cy="38412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1050840" y="6041880"/>
                    <a:ext cx="592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541">
                        <a:moveTo>
                          <a:pt x="0" y="540"/>
                        </a:moveTo>
                        <a:lnTo>
                          <a:pt x="0" y="0"/>
                        </a:lnTo>
                        <a:lnTo>
                          <a:pt x="3888" y="0"/>
                        </a:lnTo>
                        <a:lnTo>
                          <a:pt x="3888" y="541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1352520" y="593892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241280" y="5843520"/>
                    <a:ext cx="209520" cy="95400"/>
                  </a:xfrm>
                  <a:prstGeom prst="rect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9" name=""/>
                  <p:cNvGrpSpPr/>
                  <p:nvPr/>
                </p:nvGrpSpPr>
                <p:grpSpPr>
                  <a:xfrm>
                    <a:off x="946080" y="6132600"/>
                    <a:ext cx="800280" cy="95040"/>
                    <a:chOff x="946080" y="6132600"/>
                    <a:chExt cx="800280" cy="95040"/>
                  </a:xfrm>
                </p:grpSpPr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124452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153684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94608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3" name=""/>
                <p:cNvSpPr/>
                <p:nvPr/>
              </p:nvSpPr>
              <p:spPr>
                <a:xfrm>
                  <a:off x="915120" y="6167520"/>
                  <a:ext cx="93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Organisa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5869800" y="5715000"/>
                <a:ext cx="1105920" cy="834840"/>
                <a:chOff x="5869800" y="5715000"/>
                <a:chExt cx="1105920" cy="83484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5869800" y="6181560"/>
                  <a:ext cx="110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Kuriku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6" name=""/>
                <p:cNvGrpSpPr/>
                <p:nvPr/>
              </p:nvGrpSpPr>
              <p:grpSpPr>
                <a:xfrm>
                  <a:off x="5945040" y="5715000"/>
                  <a:ext cx="579240" cy="614160"/>
                  <a:chOff x="5945040" y="5715000"/>
                  <a:chExt cx="579240" cy="61416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6032160" y="5715000"/>
                    <a:ext cx="492120" cy="614160"/>
                    <a:chOff x="6032160" y="5715000"/>
                    <a:chExt cx="492120" cy="61416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6234840" y="5721120"/>
                      <a:ext cx="1756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1" h="1468">
                          <a:moveTo>
                            <a:pt x="1338" y="0"/>
                          </a:moveTo>
                          <a:lnTo>
                            <a:pt x="1178" y="382"/>
                          </a:lnTo>
                          <a:lnTo>
                            <a:pt x="426" y="252"/>
                          </a:lnTo>
                          <a:lnTo>
                            <a:pt x="160" y="417"/>
                          </a:lnTo>
                          <a:lnTo>
                            <a:pt x="0" y="711"/>
                          </a:lnTo>
                          <a:lnTo>
                            <a:pt x="68" y="964"/>
                          </a:lnTo>
                          <a:lnTo>
                            <a:pt x="492" y="1175"/>
                          </a:lnTo>
                          <a:lnTo>
                            <a:pt x="2222" y="1468"/>
                          </a:lnTo>
                          <a:lnTo>
                            <a:pt x="2189" y="1175"/>
                          </a:lnTo>
                          <a:lnTo>
                            <a:pt x="2316" y="922"/>
                          </a:lnTo>
                          <a:lnTo>
                            <a:pt x="2641" y="839"/>
                          </a:lnTo>
                          <a:lnTo>
                            <a:pt x="2549" y="627"/>
                          </a:lnTo>
                          <a:lnTo>
                            <a:pt x="1896" y="503"/>
                          </a:lnTo>
                          <a:lnTo>
                            <a:pt x="2056" y="210"/>
                          </a:lnTo>
                          <a:lnTo>
                            <a:pt x="1338" y="0"/>
                          </a:lnTo>
                          <a:close/>
                        </a:path>
                      </a:pathLst>
                    </a:custGeom>
                    <a:solidFill>
                      <a:srgbClr val="00eaff"/>
                    </a:solidFill>
                    <a:ln w="0">
                      <a:solidFill>
                        <a:srgbClr val="00ea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6240960" y="5751000"/>
                      <a:ext cx="13896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8" h="676">
                          <a:moveTo>
                            <a:pt x="59" y="0"/>
                          </a:moveTo>
                          <a:lnTo>
                            <a:pt x="2088" y="382"/>
                          </a:lnTo>
                          <a:lnTo>
                            <a:pt x="1923" y="505"/>
                          </a:lnTo>
                          <a:lnTo>
                            <a:pt x="1821" y="676"/>
                          </a:lnTo>
                          <a:lnTo>
                            <a:pt x="1729" y="547"/>
                          </a:lnTo>
                          <a:lnTo>
                            <a:pt x="1630" y="630"/>
                          </a:lnTo>
                          <a:lnTo>
                            <a:pt x="1529" y="505"/>
                          </a:lnTo>
                          <a:lnTo>
                            <a:pt x="1336" y="547"/>
                          </a:lnTo>
                          <a:lnTo>
                            <a:pt x="1272" y="466"/>
                          </a:lnTo>
                          <a:lnTo>
                            <a:pt x="1077" y="505"/>
                          </a:lnTo>
                          <a:lnTo>
                            <a:pt x="1010" y="422"/>
                          </a:lnTo>
                          <a:lnTo>
                            <a:pt x="846" y="466"/>
                          </a:lnTo>
                          <a:lnTo>
                            <a:pt x="777" y="382"/>
                          </a:lnTo>
                          <a:lnTo>
                            <a:pt x="617" y="466"/>
                          </a:lnTo>
                          <a:lnTo>
                            <a:pt x="553" y="340"/>
                          </a:lnTo>
                          <a:lnTo>
                            <a:pt x="391" y="382"/>
                          </a:lnTo>
                          <a:lnTo>
                            <a:pt x="360" y="254"/>
                          </a:lnTo>
                          <a:lnTo>
                            <a:pt x="127" y="340"/>
                          </a:lnTo>
                          <a:lnTo>
                            <a:pt x="94" y="210"/>
                          </a:lnTo>
                          <a:lnTo>
                            <a:pt x="0" y="129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6088680" y="6122880"/>
                      <a:ext cx="27864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7" h="2181">
                          <a:moveTo>
                            <a:pt x="0" y="1215"/>
                          </a:moveTo>
                          <a:lnTo>
                            <a:pt x="2872" y="1805"/>
                          </a:lnTo>
                          <a:lnTo>
                            <a:pt x="4177" y="0"/>
                          </a:lnTo>
                          <a:lnTo>
                            <a:pt x="2805" y="2181"/>
                          </a:lnTo>
                          <a:lnTo>
                            <a:pt x="0" y="12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>
                      <a:off x="6135120" y="5715000"/>
                      <a:ext cx="3729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2" h="2694">
                          <a:moveTo>
                            <a:pt x="0" y="2694"/>
                          </a:moveTo>
                          <a:lnTo>
                            <a:pt x="459" y="2104"/>
                          </a:lnTo>
                          <a:lnTo>
                            <a:pt x="685" y="1418"/>
                          </a:lnTo>
                          <a:lnTo>
                            <a:pt x="770" y="1023"/>
                          </a:lnTo>
                          <a:lnTo>
                            <a:pt x="846" y="531"/>
                          </a:lnTo>
                          <a:lnTo>
                            <a:pt x="1471" y="713"/>
                          </a:lnTo>
                          <a:lnTo>
                            <a:pt x="1686" y="432"/>
                          </a:lnTo>
                          <a:lnTo>
                            <a:pt x="1923" y="337"/>
                          </a:lnTo>
                          <a:lnTo>
                            <a:pt x="2688" y="425"/>
                          </a:lnTo>
                          <a:lnTo>
                            <a:pt x="2820" y="50"/>
                          </a:lnTo>
                          <a:lnTo>
                            <a:pt x="3218" y="0"/>
                          </a:lnTo>
                          <a:lnTo>
                            <a:pt x="3503" y="83"/>
                          </a:lnTo>
                          <a:lnTo>
                            <a:pt x="3686" y="337"/>
                          </a:lnTo>
                          <a:lnTo>
                            <a:pt x="3613" y="630"/>
                          </a:lnTo>
                          <a:lnTo>
                            <a:pt x="4332" y="757"/>
                          </a:lnTo>
                          <a:lnTo>
                            <a:pt x="4459" y="1049"/>
                          </a:lnTo>
                          <a:lnTo>
                            <a:pt x="4459" y="1221"/>
                          </a:lnTo>
                          <a:lnTo>
                            <a:pt x="5294" y="1316"/>
                          </a:lnTo>
                          <a:lnTo>
                            <a:pt x="5602" y="1316"/>
                          </a:lnTo>
                          <a:lnTo>
                            <a:pt x="4487" y="1304"/>
                          </a:lnTo>
                          <a:lnTo>
                            <a:pt x="3806" y="1137"/>
                          </a:lnTo>
                          <a:lnTo>
                            <a:pt x="3686" y="1418"/>
                          </a:lnTo>
                          <a:lnTo>
                            <a:pt x="3914" y="1515"/>
                          </a:lnTo>
                          <a:lnTo>
                            <a:pt x="3707" y="1943"/>
                          </a:lnTo>
                          <a:lnTo>
                            <a:pt x="1764" y="1611"/>
                          </a:lnTo>
                          <a:lnTo>
                            <a:pt x="1962" y="1176"/>
                          </a:lnTo>
                          <a:lnTo>
                            <a:pt x="3602" y="1475"/>
                          </a:lnTo>
                          <a:lnTo>
                            <a:pt x="3525" y="1221"/>
                          </a:lnTo>
                          <a:lnTo>
                            <a:pt x="3613" y="1023"/>
                          </a:lnTo>
                          <a:lnTo>
                            <a:pt x="3936" y="757"/>
                          </a:lnTo>
                          <a:lnTo>
                            <a:pt x="3149" y="630"/>
                          </a:lnTo>
                          <a:lnTo>
                            <a:pt x="3378" y="337"/>
                          </a:lnTo>
                          <a:lnTo>
                            <a:pt x="3310" y="171"/>
                          </a:lnTo>
                          <a:lnTo>
                            <a:pt x="3073" y="138"/>
                          </a:lnTo>
                          <a:lnTo>
                            <a:pt x="2923" y="171"/>
                          </a:lnTo>
                          <a:lnTo>
                            <a:pt x="2762" y="531"/>
                          </a:lnTo>
                          <a:lnTo>
                            <a:pt x="1934" y="425"/>
                          </a:lnTo>
                          <a:lnTo>
                            <a:pt x="1630" y="674"/>
                          </a:lnTo>
                          <a:lnTo>
                            <a:pt x="1614" y="918"/>
                          </a:lnTo>
                          <a:lnTo>
                            <a:pt x="1764" y="1122"/>
                          </a:lnTo>
                          <a:lnTo>
                            <a:pt x="1923" y="1221"/>
                          </a:lnTo>
                          <a:lnTo>
                            <a:pt x="1614" y="1122"/>
                          </a:lnTo>
                          <a:lnTo>
                            <a:pt x="1459" y="1023"/>
                          </a:lnTo>
                          <a:lnTo>
                            <a:pt x="1459" y="823"/>
                          </a:lnTo>
                          <a:lnTo>
                            <a:pt x="913" y="674"/>
                          </a:lnTo>
                          <a:lnTo>
                            <a:pt x="685" y="1805"/>
                          </a:lnTo>
                          <a:lnTo>
                            <a:pt x="0" y="26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6032160" y="5808600"/>
                      <a:ext cx="4921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2" h="7285">
                          <a:moveTo>
                            <a:pt x="6995" y="102"/>
                          </a:moveTo>
                          <a:lnTo>
                            <a:pt x="5916" y="2362"/>
                          </a:lnTo>
                          <a:lnTo>
                            <a:pt x="4689" y="4226"/>
                          </a:lnTo>
                          <a:lnTo>
                            <a:pt x="3536" y="5806"/>
                          </a:lnTo>
                          <a:lnTo>
                            <a:pt x="1927" y="5612"/>
                          </a:lnTo>
                          <a:lnTo>
                            <a:pt x="998" y="5414"/>
                          </a:lnTo>
                          <a:lnTo>
                            <a:pt x="3536" y="6006"/>
                          </a:lnTo>
                          <a:lnTo>
                            <a:pt x="4463" y="4923"/>
                          </a:lnTo>
                          <a:lnTo>
                            <a:pt x="5386" y="3548"/>
                          </a:lnTo>
                          <a:lnTo>
                            <a:pt x="6451" y="1571"/>
                          </a:lnTo>
                          <a:lnTo>
                            <a:pt x="5226" y="4039"/>
                          </a:lnTo>
                          <a:lnTo>
                            <a:pt x="3733" y="6513"/>
                          </a:lnTo>
                          <a:lnTo>
                            <a:pt x="5840" y="3445"/>
                          </a:lnTo>
                          <a:lnTo>
                            <a:pt x="5043" y="5127"/>
                          </a:lnTo>
                          <a:lnTo>
                            <a:pt x="3995" y="6888"/>
                          </a:lnTo>
                          <a:lnTo>
                            <a:pt x="2806" y="6513"/>
                          </a:lnTo>
                          <a:lnTo>
                            <a:pt x="1697" y="6216"/>
                          </a:lnTo>
                          <a:lnTo>
                            <a:pt x="0" y="5907"/>
                          </a:lnTo>
                          <a:lnTo>
                            <a:pt x="2225" y="6490"/>
                          </a:lnTo>
                          <a:lnTo>
                            <a:pt x="3767" y="7082"/>
                          </a:lnTo>
                          <a:lnTo>
                            <a:pt x="4153" y="7285"/>
                          </a:lnTo>
                          <a:lnTo>
                            <a:pt x="5916" y="3741"/>
                          </a:lnTo>
                          <a:lnTo>
                            <a:pt x="6995" y="1378"/>
                          </a:lnTo>
                          <a:lnTo>
                            <a:pt x="7382" y="295"/>
                          </a:lnTo>
                          <a:lnTo>
                            <a:pt x="7071" y="396"/>
                          </a:lnTo>
                          <a:lnTo>
                            <a:pt x="7225" y="0"/>
                          </a:lnTo>
                          <a:lnTo>
                            <a:pt x="6995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6050880" y="6205320"/>
                      <a:ext cx="22320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3" h="1048">
                          <a:moveTo>
                            <a:pt x="0" y="0"/>
                          </a:moveTo>
                          <a:lnTo>
                            <a:pt x="3255" y="793"/>
                          </a:lnTo>
                          <a:lnTo>
                            <a:pt x="3353" y="10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4" name=""/>
                  <p:cNvSpPr/>
                  <p:nvPr/>
                </p:nvSpPr>
                <p:spPr>
                  <a:xfrm>
                    <a:off x="5945040" y="5765040"/>
                    <a:ext cx="57852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5" h="800">
                        <a:moveTo>
                          <a:pt x="473" y="0"/>
                        </a:moveTo>
                        <a:lnTo>
                          <a:pt x="445" y="134"/>
                        </a:lnTo>
                        <a:cubicBezTo>
                          <a:pt x="407" y="194"/>
                          <a:pt x="336" y="290"/>
                          <a:pt x="246" y="362"/>
                        </a:cubicBezTo>
                        <a:cubicBezTo>
                          <a:pt x="156" y="434"/>
                          <a:pt x="0" y="585"/>
                          <a:pt x="3" y="650"/>
                        </a:cubicBezTo>
                        <a:lnTo>
                          <a:pt x="291" y="756"/>
                        </a:lnTo>
                        <a:cubicBezTo>
                          <a:pt x="392" y="781"/>
                          <a:pt x="501" y="796"/>
                          <a:pt x="609" y="800"/>
                        </a:cubicBezTo>
                        <a:cubicBezTo>
                          <a:pt x="700" y="748"/>
                          <a:pt x="781" y="542"/>
                          <a:pt x="865" y="428"/>
                        </a:cubicBezTo>
                        <a:cubicBezTo>
                          <a:pt x="949" y="314"/>
                          <a:pt x="1005" y="152"/>
                          <a:pt x="1041" y="90"/>
                        </a:cubicBezTo>
                        <a:cubicBezTo>
                          <a:pt x="1044" y="84"/>
                          <a:pt x="1085" y="78"/>
                          <a:pt x="1065" y="76"/>
                        </a:cubicBezTo>
                        <a:cubicBezTo>
                          <a:pt x="1045" y="74"/>
                          <a:pt x="962" y="81"/>
                          <a:pt x="923" y="78"/>
                        </a:cubicBezTo>
                        <a:lnTo>
                          <a:pt x="833" y="56"/>
                        </a:lnTo>
                        <a:lnTo>
                          <a:pt x="819" y="92"/>
                        </a:lnTo>
                        <a:lnTo>
                          <a:pt x="849" y="100"/>
                        </a:lnTo>
                        <a:lnTo>
                          <a:pt x="817" y="156"/>
                        </a:lnTo>
                        <a:lnTo>
                          <a:pt x="575" y="112"/>
                        </a:lnTo>
                        <a:lnTo>
                          <a:pt x="601" y="66"/>
                        </a:lnTo>
                        <a:lnTo>
                          <a:pt x="539" y="40"/>
                        </a:lnTo>
                        <a:lnTo>
                          <a:pt x="539" y="14"/>
                        </a:lnTo>
                        <a:lnTo>
                          <a:pt x="473" y="0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5" name=""/>
              <p:cNvGrpSpPr/>
              <p:nvPr/>
            </p:nvGrpSpPr>
            <p:grpSpPr>
              <a:xfrm>
                <a:off x="5028120" y="5715000"/>
                <a:ext cx="1275120" cy="689760"/>
                <a:chOff x="5028120" y="5715000"/>
                <a:chExt cx="1275120" cy="689760"/>
              </a:xfrm>
            </p:grpSpPr>
            <p:grpSp>
              <p:nvGrpSpPr>
                <p:cNvPr id="1486" name=""/>
                <p:cNvGrpSpPr/>
                <p:nvPr/>
              </p:nvGrpSpPr>
              <p:grpSpPr>
                <a:xfrm>
                  <a:off x="5449680" y="5715000"/>
                  <a:ext cx="387000" cy="474840"/>
                  <a:chOff x="5449680" y="5715000"/>
                  <a:chExt cx="387000" cy="47484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>
                    <a:off x="5498640" y="578160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1" h="3517">
                        <a:moveTo>
                          <a:pt x="23" y="3517"/>
                        </a:moveTo>
                        <a:lnTo>
                          <a:pt x="0" y="0"/>
                        </a:lnTo>
                        <a:lnTo>
                          <a:pt x="9" y="75"/>
                        </a:lnTo>
                        <a:lnTo>
                          <a:pt x="46" y="140"/>
                        </a:lnTo>
                        <a:lnTo>
                          <a:pt x="89" y="198"/>
                        </a:lnTo>
                        <a:lnTo>
                          <a:pt x="166" y="268"/>
                        </a:lnTo>
                        <a:lnTo>
                          <a:pt x="252" y="320"/>
                        </a:lnTo>
                        <a:lnTo>
                          <a:pt x="357" y="366"/>
                        </a:lnTo>
                        <a:lnTo>
                          <a:pt x="477" y="406"/>
                        </a:lnTo>
                        <a:lnTo>
                          <a:pt x="615" y="447"/>
                        </a:lnTo>
                        <a:lnTo>
                          <a:pt x="754" y="470"/>
                        </a:lnTo>
                        <a:lnTo>
                          <a:pt x="910" y="488"/>
                        </a:lnTo>
                        <a:lnTo>
                          <a:pt x="1068" y="492"/>
                        </a:lnTo>
                        <a:lnTo>
                          <a:pt x="1227" y="488"/>
                        </a:lnTo>
                        <a:lnTo>
                          <a:pt x="1375" y="477"/>
                        </a:lnTo>
                        <a:lnTo>
                          <a:pt x="1520" y="454"/>
                        </a:lnTo>
                        <a:lnTo>
                          <a:pt x="1663" y="431"/>
                        </a:lnTo>
                        <a:lnTo>
                          <a:pt x="1787" y="382"/>
                        </a:lnTo>
                        <a:lnTo>
                          <a:pt x="1901" y="343"/>
                        </a:lnTo>
                        <a:lnTo>
                          <a:pt x="1998" y="295"/>
                        </a:lnTo>
                        <a:lnTo>
                          <a:pt x="2086" y="232"/>
                        </a:lnTo>
                        <a:lnTo>
                          <a:pt x="2144" y="171"/>
                        </a:lnTo>
                        <a:lnTo>
                          <a:pt x="2178" y="106"/>
                        </a:lnTo>
                        <a:lnTo>
                          <a:pt x="2201" y="34"/>
                        </a:lnTo>
                        <a:lnTo>
                          <a:pt x="2201" y="0"/>
                        </a:lnTo>
                        <a:lnTo>
                          <a:pt x="2201" y="3517"/>
                        </a:lnTo>
                        <a:lnTo>
                          <a:pt x="23" y="35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5583960" y="5726520"/>
                    <a:ext cx="738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0" h="3524">
                        <a:moveTo>
                          <a:pt x="23" y="3524"/>
                        </a:moveTo>
                        <a:lnTo>
                          <a:pt x="0" y="0"/>
                        </a:lnTo>
                        <a:lnTo>
                          <a:pt x="11" y="75"/>
                        </a:lnTo>
                        <a:lnTo>
                          <a:pt x="45" y="143"/>
                        </a:lnTo>
                        <a:lnTo>
                          <a:pt x="89" y="201"/>
                        </a:lnTo>
                        <a:lnTo>
                          <a:pt x="162" y="271"/>
                        </a:lnTo>
                        <a:lnTo>
                          <a:pt x="250" y="322"/>
                        </a:lnTo>
                        <a:lnTo>
                          <a:pt x="356" y="377"/>
                        </a:lnTo>
                        <a:lnTo>
                          <a:pt x="479" y="417"/>
                        </a:lnTo>
                        <a:lnTo>
                          <a:pt x="618" y="454"/>
                        </a:lnTo>
                        <a:lnTo>
                          <a:pt x="753" y="478"/>
                        </a:lnTo>
                        <a:lnTo>
                          <a:pt x="909" y="495"/>
                        </a:lnTo>
                        <a:lnTo>
                          <a:pt x="1066" y="497"/>
                        </a:lnTo>
                        <a:lnTo>
                          <a:pt x="1225" y="495"/>
                        </a:lnTo>
                        <a:lnTo>
                          <a:pt x="1370" y="485"/>
                        </a:lnTo>
                        <a:lnTo>
                          <a:pt x="1519" y="465"/>
                        </a:lnTo>
                        <a:lnTo>
                          <a:pt x="1660" y="435"/>
                        </a:lnTo>
                        <a:lnTo>
                          <a:pt x="1789" y="390"/>
                        </a:lnTo>
                        <a:lnTo>
                          <a:pt x="1900" y="350"/>
                        </a:lnTo>
                        <a:lnTo>
                          <a:pt x="2000" y="298"/>
                        </a:lnTo>
                        <a:lnTo>
                          <a:pt x="2085" y="234"/>
                        </a:lnTo>
                        <a:lnTo>
                          <a:pt x="2143" y="174"/>
                        </a:lnTo>
                        <a:lnTo>
                          <a:pt x="2177" y="109"/>
                        </a:lnTo>
                        <a:lnTo>
                          <a:pt x="2200" y="38"/>
                        </a:lnTo>
                        <a:lnTo>
                          <a:pt x="2200" y="0"/>
                        </a:lnTo>
                        <a:lnTo>
                          <a:pt x="2200" y="3524"/>
                        </a:lnTo>
                        <a:lnTo>
                          <a:pt x="23" y="35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5668920" y="5753880"/>
                    <a:ext cx="7380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3514">
                        <a:moveTo>
                          <a:pt x="24" y="3514"/>
                        </a:moveTo>
                        <a:lnTo>
                          <a:pt x="0" y="0"/>
                        </a:lnTo>
                        <a:lnTo>
                          <a:pt x="11" y="74"/>
                        </a:lnTo>
                        <a:lnTo>
                          <a:pt x="45" y="134"/>
                        </a:lnTo>
                        <a:lnTo>
                          <a:pt x="89" y="195"/>
                        </a:lnTo>
                        <a:lnTo>
                          <a:pt x="166" y="263"/>
                        </a:lnTo>
                        <a:lnTo>
                          <a:pt x="254" y="321"/>
                        </a:lnTo>
                        <a:lnTo>
                          <a:pt x="356" y="368"/>
                        </a:lnTo>
                        <a:lnTo>
                          <a:pt x="476" y="410"/>
                        </a:lnTo>
                        <a:lnTo>
                          <a:pt x="619" y="449"/>
                        </a:lnTo>
                        <a:lnTo>
                          <a:pt x="757" y="472"/>
                        </a:lnTo>
                        <a:lnTo>
                          <a:pt x="911" y="490"/>
                        </a:lnTo>
                        <a:lnTo>
                          <a:pt x="1068" y="490"/>
                        </a:lnTo>
                        <a:lnTo>
                          <a:pt x="1225" y="490"/>
                        </a:lnTo>
                        <a:lnTo>
                          <a:pt x="1370" y="479"/>
                        </a:lnTo>
                        <a:lnTo>
                          <a:pt x="1521" y="456"/>
                        </a:lnTo>
                        <a:lnTo>
                          <a:pt x="1658" y="426"/>
                        </a:lnTo>
                        <a:lnTo>
                          <a:pt x="1793" y="381"/>
                        </a:lnTo>
                        <a:lnTo>
                          <a:pt x="1904" y="340"/>
                        </a:lnTo>
                        <a:lnTo>
                          <a:pt x="2004" y="290"/>
                        </a:lnTo>
                        <a:lnTo>
                          <a:pt x="2082" y="226"/>
                        </a:lnTo>
                        <a:lnTo>
                          <a:pt x="2143" y="165"/>
                        </a:lnTo>
                        <a:lnTo>
                          <a:pt x="2177" y="100"/>
                        </a:lnTo>
                        <a:lnTo>
                          <a:pt x="2197" y="32"/>
                        </a:lnTo>
                        <a:lnTo>
                          <a:pt x="2197" y="0"/>
                        </a:lnTo>
                        <a:lnTo>
                          <a:pt x="2197" y="3514"/>
                        </a:lnTo>
                        <a:lnTo>
                          <a:pt x="24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756760" y="578592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9" h="3514">
                        <a:moveTo>
                          <a:pt x="27" y="3514"/>
                        </a:moveTo>
                        <a:lnTo>
                          <a:pt x="0" y="0"/>
                        </a:lnTo>
                        <a:lnTo>
                          <a:pt x="15" y="73"/>
                        </a:lnTo>
                        <a:lnTo>
                          <a:pt x="51" y="142"/>
                        </a:lnTo>
                        <a:lnTo>
                          <a:pt x="92" y="195"/>
                        </a:lnTo>
                        <a:lnTo>
                          <a:pt x="169" y="263"/>
                        </a:lnTo>
                        <a:lnTo>
                          <a:pt x="257" y="321"/>
                        </a:lnTo>
                        <a:lnTo>
                          <a:pt x="357" y="367"/>
                        </a:lnTo>
                        <a:lnTo>
                          <a:pt x="483" y="410"/>
                        </a:lnTo>
                        <a:lnTo>
                          <a:pt x="621" y="445"/>
                        </a:lnTo>
                        <a:lnTo>
                          <a:pt x="759" y="470"/>
                        </a:lnTo>
                        <a:lnTo>
                          <a:pt x="913" y="487"/>
                        </a:lnTo>
                        <a:lnTo>
                          <a:pt x="1070" y="494"/>
                        </a:lnTo>
                        <a:lnTo>
                          <a:pt x="1228" y="487"/>
                        </a:lnTo>
                        <a:lnTo>
                          <a:pt x="1377" y="476"/>
                        </a:lnTo>
                        <a:lnTo>
                          <a:pt x="1528" y="456"/>
                        </a:lnTo>
                        <a:lnTo>
                          <a:pt x="1662" y="426"/>
                        </a:lnTo>
                        <a:lnTo>
                          <a:pt x="1788" y="382"/>
                        </a:lnTo>
                        <a:lnTo>
                          <a:pt x="1903" y="340"/>
                        </a:lnTo>
                        <a:lnTo>
                          <a:pt x="2000" y="287"/>
                        </a:lnTo>
                        <a:lnTo>
                          <a:pt x="2088" y="233"/>
                        </a:lnTo>
                        <a:lnTo>
                          <a:pt x="2145" y="168"/>
                        </a:lnTo>
                        <a:lnTo>
                          <a:pt x="2180" y="104"/>
                        </a:lnTo>
                        <a:lnTo>
                          <a:pt x="2199" y="34"/>
                        </a:lnTo>
                        <a:lnTo>
                          <a:pt x="2199" y="0"/>
                        </a:lnTo>
                        <a:lnTo>
                          <a:pt x="2199" y="3514"/>
                        </a:lnTo>
                        <a:lnTo>
                          <a:pt x="27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5449680" y="5774400"/>
                    <a:ext cx="12924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1" h="10170">
                        <a:moveTo>
                          <a:pt x="0" y="6000"/>
                        </a:moveTo>
                        <a:lnTo>
                          <a:pt x="1309" y="0"/>
                        </a:lnTo>
                        <a:lnTo>
                          <a:pt x="1490" y="0"/>
                        </a:lnTo>
                        <a:lnTo>
                          <a:pt x="1481" y="3143"/>
                        </a:lnTo>
                        <a:lnTo>
                          <a:pt x="1481" y="3215"/>
                        </a:lnTo>
                        <a:lnTo>
                          <a:pt x="1513" y="3282"/>
                        </a:lnTo>
                        <a:lnTo>
                          <a:pt x="1562" y="3353"/>
                        </a:lnTo>
                        <a:lnTo>
                          <a:pt x="1636" y="3411"/>
                        </a:lnTo>
                        <a:lnTo>
                          <a:pt x="1731" y="3461"/>
                        </a:lnTo>
                        <a:lnTo>
                          <a:pt x="1821" y="3515"/>
                        </a:lnTo>
                        <a:lnTo>
                          <a:pt x="1946" y="3552"/>
                        </a:lnTo>
                        <a:lnTo>
                          <a:pt x="2082" y="3594"/>
                        </a:lnTo>
                        <a:lnTo>
                          <a:pt x="2223" y="3618"/>
                        </a:lnTo>
                        <a:lnTo>
                          <a:pt x="2368" y="3634"/>
                        </a:lnTo>
                        <a:lnTo>
                          <a:pt x="2519" y="3641"/>
                        </a:lnTo>
                        <a:lnTo>
                          <a:pt x="2681" y="3641"/>
                        </a:lnTo>
                        <a:lnTo>
                          <a:pt x="2819" y="3625"/>
                        </a:lnTo>
                        <a:lnTo>
                          <a:pt x="2964" y="3603"/>
                        </a:lnTo>
                        <a:lnTo>
                          <a:pt x="3107" y="3575"/>
                        </a:lnTo>
                        <a:lnTo>
                          <a:pt x="3225" y="3540"/>
                        </a:lnTo>
                        <a:lnTo>
                          <a:pt x="3340" y="3488"/>
                        </a:lnTo>
                        <a:lnTo>
                          <a:pt x="3447" y="3434"/>
                        </a:lnTo>
                        <a:lnTo>
                          <a:pt x="3521" y="3377"/>
                        </a:lnTo>
                        <a:lnTo>
                          <a:pt x="3579" y="3312"/>
                        </a:lnTo>
                        <a:lnTo>
                          <a:pt x="3618" y="3246"/>
                        </a:lnTo>
                        <a:lnTo>
                          <a:pt x="3633" y="3174"/>
                        </a:lnTo>
                        <a:lnTo>
                          <a:pt x="3643" y="3143"/>
                        </a:lnTo>
                        <a:lnTo>
                          <a:pt x="3643" y="0"/>
                        </a:lnTo>
                        <a:lnTo>
                          <a:pt x="3831" y="0"/>
                        </a:lnTo>
                        <a:lnTo>
                          <a:pt x="3831" y="3793"/>
                        </a:lnTo>
                        <a:lnTo>
                          <a:pt x="2556" y="9655"/>
                        </a:lnTo>
                        <a:lnTo>
                          <a:pt x="2499" y="9746"/>
                        </a:lnTo>
                        <a:lnTo>
                          <a:pt x="2445" y="9821"/>
                        </a:lnTo>
                        <a:lnTo>
                          <a:pt x="2368" y="9891"/>
                        </a:lnTo>
                        <a:lnTo>
                          <a:pt x="2280" y="9952"/>
                        </a:lnTo>
                        <a:lnTo>
                          <a:pt x="2159" y="10006"/>
                        </a:lnTo>
                        <a:lnTo>
                          <a:pt x="2034" y="10058"/>
                        </a:lnTo>
                        <a:lnTo>
                          <a:pt x="1896" y="10098"/>
                        </a:lnTo>
                        <a:lnTo>
                          <a:pt x="1744" y="10129"/>
                        </a:lnTo>
                        <a:lnTo>
                          <a:pt x="1590" y="10156"/>
                        </a:lnTo>
                        <a:lnTo>
                          <a:pt x="1424" y="10166"/>
                        </a:lnTo>
                        <a:lnTo>
                          <a:pt x="1259" y="10170"/>
                        </a:lnTo>
                        <a:lnTo>
                          <a:pt x="1091" y="10166"/>
                        </a:lnTo>
                        <a:lnTo>
                          <a:pt x="925" y="10147"/>
                        </a:lnTo>
                        <a:lnTo>
                          <a:pt x="769" y="10123"/>
                        </a:lnTo>
                        <a:lnTo>
                          <a:pt x="618" y="10088"/>
                        </a:lnTo>
                        <a:lnTo>
                          <a:pt x="483" y="10054"/>
                        </a:lnTo>
                        <a:lnTo>
                          <a:pt x="358" y="9997"/>
                        </a:lnTo>
                        <a:lnTo>
                          <a:pt x="250" y="9943"/>
                        </a:lnTo>
                        <a:lnTo>
                          <a:pt x="159" y="9875"/>
                        </a:lnTo>
                        <a:lnTo>
                          <a:pt x="84" y="9811"/>
                        </a:lnTo>
                        <a:lnTo>
                          <a:pt x="38" y="9737"/>
                        </a:lnTo>
                        <a:lnTo>
                          <a:pt x="4" y="9703"/>
                        </a:lnTo>
                        <a:lnTo>
                          <a:pt x="0" y="6000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5578920" y="5715000"/>
                    <a:ext cx="25776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652" h="11636">
                        <a:moveTo>
                          <a:pt x="7473" y="4604"/>
                        </a:moveTo>
                        <a:lnTo>
                          <a:pt x="7473" y="4617"/>
                        </a:lnTo>
                        <a:lnTo>
                          <a:pt x="7457" y="4692"/>
                        </a:lnTo>
                        <a:lnTo>
                          <a:pt x="7415" y="4758"/>
                        </a:lnTo>
                        <a:lnTo>
                          <a:pt x="7351" y="4823"/>
                        </a:lnTo>
                        <a:lnTo>
                          <a:pt x="7285" y="4884"/>
                        </a:lnTo>
                        <a:lnTo>
                          <a:pt x="7185" y="4944"/>
                        </a:lnTo>
                        <a:lnTo>
                          <a:pt x="7072" y="4995"/>
                        </a:lnTo>
                        <a:lnTo>
                          <a:pt x="6943" y="5026"/>
                        </a:lnTo>
                        <a:lnTo>
                          <a:pt x="6812" y="5067"/>
                        </a:lnTo>
                        <a:lnTo>
                          <a:pt x="6670" y="5087"/>
                        </a:lnTo>
                        <a:lnTo>
                          <a:pt x="6516" y="5101"/>
                        </a:lnTo>
                        <a:lnTo>
                          <a:pt x="6356" y="5101"/>
                        </a:lnTo>
                        <a:lnTo>
                          <a:pt x="6201" y="5098"/>
                        </a:lnTo>
                        <a:lnTo>
                          <a:pt x="6052" y="5080"/>
                        </a:lnTo>
                        <a:lnTo>
                          <a:pt x="5905" y="5053"/>
                        </a:lnTo>
                        <a:lnTo>
                          <a:pt x="5776" y="5021"/>
                        </a:lnTo>
                        <a:lnTo>
                          <a:pt x="5655" y="4971"/>
                        </a:lnTo>
                        <a:lnTo>
                          <a:pt x="5548" y="4932"/>
                        </a:lnTo>
                        <a:lnTo>
                          <a:pt x="5453" y="4864"/>
                        </a:lnTo>
                        <a:lnTo>
                          <a:pt x="5388" y="4806"/>
                        </a:lnTo>
                        <a:lnTo>
                          <a:pt x="5335" y="4742"/>
                        </a:lnTo>
                        <a:lnTo>
                          <a:pt x="5304" y="4670"/>
                        </a:lnTo>
                        <a:lnTo>
                          <a:pt x="5295" y="4604"/>
                        </a:lnTo>
                        <a:lnTo>
                          <a:pt x="5277" y="4447"/>
                        </a:lnTo>
                        <a:lnTo>
                          <a:pt x="5277" y="1446"/>
                        </a:lnTo>
                        <a:lnTo>
                          <a:pt x="5099" y="1446"/>
                        </a:lnTo>
                        <a:lnTo>
                          <a:pt x="5099" y="749"/>
                        </a:lnTo>
                        <a:lnTo>
                          <a:pt x="4913" y="749"/>
                        </a:lnTo>
                        <a:lnTo>
                          <a:pt x="4913" y="3792"/>
                        </a:lnTo>
                        <a:lnTo>
                          <a:pt x="4911" y="3882"/>
                        </a:lnTo>
                        <a:lnTo>
                          <a:pt x="4911" y="3912"/>
                        </a:lnTo>
                        <a:lnTo>
                          <a:pt x="4889" y="3980"/>
                        </a:lnTo>
                        <a:lnTo>
                          <a:pt x="4854" y="4045"/>
                        </a:lnTo>
                        <a:lnTo>
                          <a:pt x="4796" y="4109"/>
                        </a:lnTo>
                        <a:lnTo>
                          <a:pt x="4719" y="4172"/>
                        </a:lnTo>
                        <a:lnTo>
                          <a:pt x="4612" y="4221"/>
                        </a:lnTo>
                        <a:lnTo>
                          <a:pt x="4505" y="4268"/>
                        </a:lnTo>
                        <a:lnTo>
                          <a:pt x="4371" y="4309"/>
                        </a:lnTo>
                        <a:lnTo>
                          <a:pt x="4236" y="4332"/>
                        </a:lnTo>
                        <a:lnTo>
                          <a:pt x="4083" y="4359"/>
                        </a:lnTo>
                        <a:lnTo>
                          <a:pt x="3925" y="4370"/>
                        </a:lnTo>
                        <a:lnTo>
                          <a:pt x="3780" y="4370"/>
                        </a:lnTo>
                        <a:lnTo>
                          <a:pt x="3621" y="4367"/>
                        </a:lnTo>
                        <a:lnTo>
                          <a:pt x="3471" y="4352"/>
                        </a:lnTo>
                        <a:lnTo>
                          <a:pt x="3333" y="4318"/>
                        </a:lnTo>
                        <a:lnTo>
                          <a:pt x="3190" y="4291"/>
                        </a:lnTo>
                        <a:lnTo>
                          <a:pt x="3065" y="4252"/>
                        </a:lnTo>
                        <a:lnTo>
                          <a:pt x="2965" y="4195"/>
                        </a:lnTo>
                        <a:lnTo>
                          <a:pt x="2880" y="4142"/>
                        </a:lnTo>
                        <a:lnTo>
                          <a:pt x="2803" y="4082"/>
                        </a:lnTo>
                        <a:lnTo>
                          <a:pt x="2750" y="4018"/>
                        </a:lnTo>
                        <a:lnTo>
                          <a:pt x="2722" y="3946"/>
                        </a:lnTo>
                        <a:lnTo>
                          <a:pt x="2715" y="3882"/>
                        </a:lnTo>
                        <a:lnTo>
                          <a:pt x="2732" y="3792"/>
                        </a:lnTo>
                        <a:lnTo>
                          <a:pt x="2732" y="749"/>
                        </a:lnTo>
                        <a:lnTo>
                          <a:pt x="2553" y="749"/>
                        </a:lnTo>
                        <a:lnTo>
                          <a:pt x="2553" y="0"/>
                        </a:lnTo>
                        <a:lnTo>
                          <a:pt x="2363" y="0"/>
                        </a:lnTo>
                        <a:lnTo>
                          <a:pt x="2363" y="3043"/>
                        </a:lnTo>
                        <a:lnTo>
                          <a:pt x="2367" y="3161"/>
                        </a:lnTo>
                        <a:lnTo>
                          <a:pt x="2363" y="3192"/>
                        </a:lnTo>
                        <a:lnTo>
                          <a:pt x="2344" y="3265"/>
                        </a:lnTo>
                        <a:lnTo>
                          <a:pt x="2310" y="3330"/>
                        </a:lnTo>
                        <a:lnTo>
                          <a:pt x="2251" y="3392"/>
                        </a:lnTo>
                        <a:lnTo>
                          <a:pt x="2169" y="3453"/>
                        </a:lnTo>
                        <a:lnTo>
                          <a:pt x="2067" y="3506"/>
                        </a:lnTo>
                        <a:lnTo>
                          <a:pt x="1956" y="3544"/>
                        </a:lnTo>
                        <a:lnTo>
                          <a:pt x="1825" y="3591"/>
                        </a:lnTo>
                        <a:lnTo>
                          <a:pt x="1690" y="3621"/>
                        </a:lnTo>
                        <a:lnTo>
                          <a:pt x="1537" y="3639"/>
                        </a:lnTo>
                        <a:lnTo>
                          <a:pt x="1390" y="3651"/>
                        </a:lnTo>
                        <a:lnTo>
                          <a:pt x="1230" y="3655"/>
                        </a:lnTo>
                        <a:lnTo>
                          <a:pt x="1076" y="3651"/>
                        </a:lnTo>
                        <a:lnTo>
                          <a:pt x="927" y="3635"/>
                        </a:lnTo>
                        <a:lnTo>
                          <a:pt x="784" y="3612"/>
                        </a:lnTo>
                        <a:lnTo>
                          <a:pt x="650" y="3571"/>
                        </a:lnTo>
                        <a:lnTo>
                          <a:pt x="526" y="3530"/>
                        </a:lnTo>
                        <a:lnTo>
                          <a:pt x="415" y="3483"/>
                        </a:lnTo>
                        <a:lnTo>
                          <a:pt x="328" y="3429"/>
                        </a:lnTo>
                        <a:lnTo>
                          <a:pt x="251" y="3353"/>
                        </a:lnTo>
                        <a:lnTo>
                          <a:pt x="205" y="3299"/>
                        </a:lnTo>
                        <a:lnTo>
                          <a:pt x="174" y="3233"/>
                        </a:lnTo>
                        <a:lnTo>
                          <a:pt x="173" y="3161"/>
                        </a:lnTo>
                        <a:lnTo>
                          <a:pt x="173" y="27"/>
                        </a:lnTo>
                        <a:lnTo>
                          <a:pt x="0" y="27"/>
                        </a:lnTo>
                        <a:lnTo>
                          <a:pt x="0" y="11053"/>
                        </a:lnTo>
                        <a:lnTo>
                          <a:pt x="0" y="11125"/>
                        </a:lnTo>
                        <a:lnTo>
                          <a:pt x="35" y="11199"/>
                        </a:lnTo>
                        <a:lnTo>
                          <a:pt x="81" y="11271"/>
                        </a:lnTo>
                        <a:lnTo>
                          <a:pt x="151" y="11341"/>
                        </a:lnTo>
                        <a:lnTo>
                          <a:pt x="243" y="11402"/>
                        </a:lnTo>
                        <a:lnTo>
                          <a:pt x="354" y="11459"/>
                        </a:lnTo>
                        <a:lnTo>
                          <a:pt x="480" y="11513"/>
                        </a:lnTo>
                        <a:lnTo>
                          <a:pt x="614" y="11559"/>
                        </a:lnTo>
                        <a:lnTo>
                          <a:pt x="766" y="11585"/>
                        </a:lnTo>
                        <a:lnTo>
                          <a:pt x="923" y="11612"/>
                        </a:lnTo>
                        <a:lnTo>
                          <a:pt x="1086" y="11632"/>
                        </a:lnTo>
                        <a:lnTo>
                          <a:pt x="1258" y="11636"/>
                        </a:lnTo>
                        <a:lnTo>
                          <a:pt x="1421" y="11632"/>
                        </a:lnTo>
                        <a:lnTo>
                          <a:pt x="1582" y="11616"/>
                        </a:lnTo>
                        <a:lnTo>
                          <a:pt x="1748" y="11593"/>
                        </a:lnTo>
                        <a:lnTo>
                          <a:pt x="1893" y="11562"/>
                        </a:lnTo>
                        <a:lnTo>
                          <a:pt x="2036" y="11524"/>
                        </a:lnTo>
                        <a:lnTo>
                          <a:pt x="2162" y="11473"/>
                        </a:lnTo>
                        <a:lnTo>
                          <a:pt x="2277" y="11423"/>
                        </a:lnTo>
                        <a:lnTo>
                          <a:pt x="2367" y="11348"/>
                        </a:lnTo>
                        <a:lnTo>
                          <a:pt x="2442" y="11283"/>
                        </a:lnTo>
                        <a:lnTo>
                          <a:pt x="2492" y="11210"/>
                        </a:lnTo>
                        <a:lnTo>
                          <a:pt x="2577" y="11199"/>
                        </a:lnTo>
                        <a:lnTo>
                          <a:pt x="2630" y="11271"/>
                        </a:lnTo>
                        <a:lnTo>
                          <a:pt x="2700" y="11341"/>
                        </a:lnTo>
                        <a:lnTo>
                          <a:pt x="2793" y="11402"/>
                        </a:lnTo>
                        <a:lnTo>
                          <a:pt x="2900" y="11459"/>
                        </a:lnTo>
                        <a:lnTo>
                          <a:pt x="3026" y="11513"/>
                        </a:lnTo>
                        <a:lnTo>
                          <a:pt x="3167" y="11559"/>
                        </a:lnTo>
                        <a:lnTo>
                          <a:pt x="3311" y="11585"/>
                        </a:lnTo>
                        <a:lnTo>
                          <a:pt x="3471" y="11612"/>
                        </a:lnTo>
                        <a:lnTo>
                          <a:pt x="3629" y="11632"/>
                        </a:lnTo>
                        <a:lnTo>
                          <a:pt x="3794" y="11636"/>
                        </a:lnTo>
                        <a:lnTo>
                          <a:pt x="3966" y="11632"/>
                        </a:lnTo>
                        <a:lnTo>
                          <a:pt x="4128" y="11616"/>
                        </a:lnTo>
                        <a:lnTo>
                          <a:pt x="4290" y="11593"/>
                        </a:lnTo>
                        <a:lnTo>
                          <a:pt x="4439" y="11562"/>
                        </a:lnTo>
                        <a:lnTo>
                          <a:pt x="4580" y="11524"/>
                        </a:lnTo>
                        <a:lnTo>
                          <a:pt x="4700" y="11473"/>
                        </a:lnTo>
                        <a:lnTo>
                          <a:pt x="4819" y="11423"/>
                        </a:lnTo>
                        <a:lnTo>
                          <a:pt x="4911" y="11348"/>
                        </a:lnTo>
                        <a:lnTo>
                          <a:pt x="4991" y="11283"/>
                        </a:lnTo>
                        <a:lnTo>
                          <a:pt x="5042" y="11210"/>
                        </a:lnTo>
                        <a:lnTo>
                          <a:pt x="5122" y="11199"/>
                        </a:lnTo>
                        <a:lnTo>
                          <a:pt x="5176" y="11271"/>
                        </a:lnTo>
                        <a:lnTo>
                          <a:pt x="5238" y="11341"/>
                        </a:lnTo>
                        <a:lnTo>
                          <a:pt x="5335" y="11402"/>
                        </a:lnTo>
                        <a:lnTo>
                          <a:pt x="5446" y="11459"/>
                        </a:lnTo>
                        <a:lnTo>
                          <a:pt x="5575" y="11513"/>
                        </a:lnTo>
                        <a:lnTo>
                          <a:pt x="5714" y="11559"/>
                        </a:lnTo>
                        <a:lnTo>
                          <a:pt x="5854" y="11585"/>
                        </a:lnTo>
                        <a:lnTo>
                          <a:pt x="6013" y="11612"/>
                        </a:lnTo>
                        <a:lnTo>
                          <a:pt x="6171" y="11632"/>
                        </a:lnTo>
                        <a:lnTo>
                          <a:pt x="6347" y="11636"/>
                        </a:lnTo>
                        <a:lnTo>
                          <a:pt x="6516" y="11632"/>
                        </a:lnTo>
                        <a:lnTo>
                          <a:pt x="6680" y="11616"/>
                        </a:lnTo>
                        <a:lnTo>
                          <a:pt x="6839" y="11593"/>
                        </a:lnTo>
                        <a:lnTo>
                          <a:pt x="6993" y="11562"/>
                        </a:lnTo>
                        <a:lnTo>
                          <a:pt x="7128" y="11524"/>
                        </a:lnTo>
                        <a:lnTo>
                          <a:pt x="7250" y="11473"/>
                        </a:lnTo>
                        <a:lnTo>
                          <a:pt x="7365" y="11423"/>
                        </a:lnTo>
                        <a:lnTo>
                          <a:pt x="7457" y="11348"/>
                        </a:lnTo>
                        <a:lnTo>
                          <a:pt x="7530" y="11283"/>
                        </a:lnTo>
                        <a:lnTo>
                          <a:pt x="7587" y="11210"/>
                        </a:lnTo>
                        <a:lnTo>
                          <a:pt x="7621" y="11138"/>
                        </a:lnTo>
                        <a:lnTo>
                          <a:pt x="7634" y="11067"/>
                        </a:lnTo>
                        <a:lnTo>
                          <a:pt x="7634" y="11053"/>
                        </a:lnTo>
                        <a:lnTo>
                          <a:pt x="7652" y="10915"/>
                        </a:lnTo>
                        <a:lnTo>
                          <a:pt x="7652" y="1446"/>
                        </a:lnTo>
                        <a:lnTo>
                          <a:pt x="7473" y="1446"/>
                        </a:lnTo>
                        <a:lnTo>
                          <a:pt x="7473" y="4447"/>
                        </a:lnTo>
                        <a:lnTo>
                          <a:pt x="7473" y="4604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3" name=""/>
                <p:cNvSpPr/>
                <p:nvPr/>
              </p:nvSpPr>
              <p:spPr>
                <a:xfrm>
                  <a:off x="5028120" y="6067440"/>
                  <a:ext cx="127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Perpustaka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4" name=""/>
          <p:cNvGrpSpPr/>
          <p:nvPr/>
        </p:nvGrpSpPr>
        <p:grpSpPr>
          <a:xfrm>
            <a:off x="4855320" y="1066680"/>
            <a:ext cx="1850400" cy="1905120"/>
            <a:chOff x="4855320" y="1066680"/>
            <a:chExt cx="1850400" cy="1905120"/>
          </a:xfrm>
        </p:grpSpPr>
        <p:grpSp>
          <p:nvGrpSpPr>
            <p:cNvPr id="1495" name=""/>
            <p:cNvGrpSpPr/>
            <p:nvPr/>
          </p:nvGrpSpPr>
          <p:grpSpPr>
            <a:xfrm>
              <a:off x="5029200" y="1066680"/>
              <a:ext cx="1676520" cy="1905120"/>
              <a:chOff x="5029200" y="1066680"/>
              <a:chExt cx="1676520" cy="1905120"/>
            </a:xfrm>
          </p:grpSpPr>
          <p:grpSp>
            <p:nvGrpSpPr>
              <p:cNvPr id="1496" name=""/>
              <p:cNvGrpSpPr/>
              <p:nvPr/>
            </p:nvGrpSpPr>
            <p:grpSpPr>
              <a:xfrm>
                <a:off x="5486400" y="1066680"/>
                <a:ext cx="1219320" cy="1905120"/>
                <a:chOff x="5486400" y="1066680"/>
                <a:chExt cx="1219320" cy="19051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486400" y="1066680"/>
                  <a:ext cx="1219320" cy="1905120"/>
                </a:xfrm>
                <a:prstGeom prst="flowChartMultidocument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562720" y="1143000"/>
                  <a:ext cx="1066680" cy="16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 Narrow"/>
                    </a:rPr>
                    <a:t>Patents, HAKI, TTG, Artikel, Publikasi/ IPTEKS bermu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9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29200" y="1143000"/>
                <a:ext cx="630360" cy="11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0" name=""/>
            <p:cNvSpPr/>
            <p:nvPr/>
          </p:nvSpPr>
          <p:spPr>
            <a:xfrm>
              <a:off x="4855320" y="22305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arj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241920" y="2348280"/>
            <a:ext cx="3124800" cy="3045240"/>
            <a:chOff x="241920" y="2348280"/>
            <a:chExt cx="3124800" cy="3045240"/>
          </a:xfrm>
        </p:grpSpPr>
        <p:sp>
          <p:nvSpPr>
            <p:cNvPr id="1502" name=""/>
            <p:cNvSpPr/>
            <p:nvPr/>
          </p:nvSpPr>
          <p:spPr>
            <a:xfrm rot="19120800">
              <a:off x="492120" y="2997000"/>
              <a:ext cx="2624040" cy="1747800"/>
            </a:xfrm>
            <a:prstGeom prst="rightArrow">
              <a:avLst>
                <a:gd name="adj1" fmla="val 75343"/>
                <a:gd name="adj2" fmla="val 54799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" name=""/>
            <p:cNvGrpSpPr/>
            <p:nvPr/>
          </p:nvGrpSpPr>
          <p:grpSpPr>
            <a:xfrm>
              <a:off x="730440" y="3097440"/>
              <a:ext cx="1938600" cy="2084760"/>
              <a:chOff x="730440" y="3097440"/>
              <a:chExt cx="1938600" cy="208476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82360" y="3744720"/>
                <a:ext cx="1143720" cy="774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505" name=""/>
              <p:cNvGraphicFramePr/>
              <p:nvPr/>
            </p:nvGraphicFramePr>
            <p:xfrm>
              <a:off x="1480680" y="3097440"/>
              <a:ext cx="1188360" cy="7920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1506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480680" y="3097440"/>
                        <a:ext cx="118836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07" name=""/>
              <p:cNvSpPr/>
              <p:nvPr/>
            </p:nvSpPr>
            <p:spPr>
              <a:xfrm>
                <a:off x="730440" y="4430520"/>
                <a:ext cx="119736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asyarak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Akademik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&amp; Pegawa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8" name=""/>
          <p:cNvSpPr/>
          <p:nvPr/>
        </p:nvSpPr>
        <p:spPr>
          <a:xfrm>
            <a:off x="6550200" y="1422360"/>
            <a:ext cx="841320" cy="1092240"/>
          </a:xfrm>
          <a:custGeom>
            <a:avLst/>
            <a:gdLst>
              <a:gd name="textAreaLeft" fmla="*/ 131400 w 841320"/>
              <a:gd name="textAreaRight" fmla="*/ 629280 w 841320"/>
              <a:gd name="textAreaTop" fmla="*/ 274680 h 1092240"/>
              <a:gd name="textAreaBottom" fmla="*/ 817560 h 1092240"/>
            </a:gdLst>
            <a:ahLst/>
            <a:rect l="textAreaLeft" t="textAreaTop" r="textAreaRight" b="textAreaBottom"/>
            <a:pathLst>
              <a:path w="21600" h="21600">
                <a:moveTo>
                  <a:pt x="3375" y="5432"/>
                </a:moveTo>
                <a:lnTo>
                  <a:pt x="10640" y="5432"/>
                </a:lnTo>
                <a:lnTo>
                  <a:pt x="10640" y="0"/>
                </a:lnTo>
                <a:lnTo>
                  <a:pt x="21600" y="10800"/>
                </a:lnTo>
                <a:lnTo>
                  <a:pt x="10640" y="21600"/>
                </a:lnTo>
                <a:lnTo>
                  <a:pt x="10640" y="16168"/>
                </a:lnTo>
                <a:lnTo>
                  <a:pt x="3375" y="16168"/>
                </a:lnTo>
                <a:close/>
              </a:path>
              <a:path w="21600" h="21600">
                <a:moveTo>
                  <a:pt x="0" y="5432"/>
                </a:moveTo>
                <a:lnTo>
                  <a:pt x="675" y="5432"/>
                </a:lnTo>
                <a:lnTo>
                  <a:pt x="675" y="16168"/>
                </a:lnTo>
                <a:lnTo>
                  <a:pt x="0" y="16168"/>
                </a:lnTo>
                <a:close/>
              </a:path>
              <a:path w="21600" h="21600">
                <a:moveTo>
                  <a:pt x="1350" y="5432"/>
                </a:moveTo>
                <a:lnTo>
                  <a:pt x="2700" y="5432"/>
                </a:lnTo>
                <a:lnTo>
                  <a:pt x="2700" y="16168"/>
                </a:lnTo>
                <a:lnTo>
                  <a:pt x="1350" y="16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304920" y="6553080"/>
            <a:ext cx="7629480" cy="152640"/>
            <a:chOff x="304920" y="6553080"/>
            <a:chExt cx="7629480" cy="152640"/>
          </a:xfrm>
        </p:grpSpPr>
        <p:sp>
          <p:nvSpPr>
            <p:cNvPr id="1510" name=""/>
            <p:cNvSpPr/>
            <p:nvPr/>
          </p:nvSpPr>
          <p:spPr>
            <a:xfrm>
              <a:off x="304920" y="6705720"/>
              <a:ext cx="762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924680" y="65530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-457200" y="990720"/>
            <a:ext cx="7924680" cy="6095880"/>
            <a:chOff x="-457200" y="990720"/>
            <a:chExt cx="7924680" cy="6095880"/>
          </a:xfrm>
        </p:grpSpPr>
        <p:sp>
          <p:nvSpPr>
            <p:cNvPr id="1513" name=""/>
            <p:cNvSpPr/>
            <p:nvPr/>
          </p:nvSpPr>
          <p:spPr>
            <a:xfrm>
              <a:off x="2465280" y="4335480"/>
              <a:ext cx="2868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3366"/>
                  </a:solidFill>
                  <a:latin typeface="Benguiat Bk BT"/>
                </a:rPr>
                <a:t>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4" name=""/>
            <p:cNvGrpSpPr/>
            <p:nvPr/>
          </p:nvGrpSpPr>
          <p:grpSpPr>
            <a:xfrm>
              <a:off x="0" y="990720"/>
              <a:ext cx="3048120" cy="4495680"/>
              <a:chOff x="0" y="990720"/>
              <a:chExt cx="3048120" cy="4495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762120" y="990720"/>
                <a:ext cx="2286000" cy="22860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2666880"/>
                <a:ext cx="1981080" cy="2819520"/>
              </a:xfrm>
              <a:custGeom>
                <a:avLst/>
                <a:gdLst/>
                <a:ahLst/>
                <a:rect l="l" t="t" r="r" b="b"/>
                <a:pathLst>
                  <a:path w="1344" h="1872">
                    <a:moveTo>
                      <a:pt x="576" y="0"/>
                    </a:moveTo>
                    <a:cubicBezTo>
                      <a:pt x="416" y="204"/>
                      <a:pt x="256" y="408"/>
                      <a:pt x="192" y="672"/>
                    </a:cubicBezTo>
                    <a:cubicBezTo>
                      <a:pt x="128" y="936"/>
                      <a:pt x="0" y="1384"/>
                      <a:pt x="192" y="1584"/>
                    </a:cubicBezTo>
                    <a:cubicBezTo>
                      <a:pt x="384" y="1784"/>
                      <a:pt x="1152" y="1824"/>
                      <a:pt x="1344" y="1872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-457200" y="2819520"/>
              <a:ext cx="7924680" cy="4267080"/>
            </a:xfrm>
            <a:custGeom>
              <a:avLst/>
              <a:gdLst/>
              <a:ahLst/>
              <a:rect l="l" t="t" r="r" b="b"/>
              <a:pathLst>
                <a:path w="5200" h="2744">
                  <a:moveTo>
                    <a:pt x="656" y="1512"/>
                  </a:moveTo>
                  <a:cubicBezTo>
                    <a:pt x="328" y="1868"/>
                    <a:pt x="0" y="2224"/>
                    <a:pt x="656" y="2376"/>
                  </a:cubicBezTo>
                  <a:cubicBezTo>
                    <a:pt x="1312" y="2528"/>
                    <a:pt x="3984" y="2744"/>
                    <a:pt x="4592" y="2424"/>
                  </a:cubicBezTo>
                  <a:cubicBezTo>
                    <a:pt x="5200" y="2104"/>
                    <a:pt x="4544" y="832"/>
                    <a:pt x="4304" y="456"/>
                  </a:cubicBezTo>
                  <a:cubicBezTo>
                    <a:pt x="4064" y="80"/>
                    <a:pt x="3760" y="0"/>
                    <a:pt x="3152" y="168"/>
                  </a:cubicBezTo>
                  <a:cubicBezTo>
                    <a:pt x="2544" y="336"/>
                    <a:pt x="1072" y="1248"/>
                    <a:pt x="656" y="146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2451240" y="762120"/>
            <a:ext cx="4787640" cy="3593880"/>
            <a:chOff x="2451240" y="762120"/>
            <a:chExt cx="4787640" cy="3593880"/>
          </a:xfrm>
        </p:grpSpPr>
        <p:sp>
          <p:nvSpPr>
            <p:cNvPr id="1519" name=""/>
            <p:cNvSpPr/>
            <p:nvPr/>
          </p:nvSpPr>
          <p:spPr>
            <a:xfrm>
              <a:off x="2451240" y="762120"/>
              <a:ext cx="4787640" cy="3593880"/>
            </a:xfrm>
            <a:custGeom>
              <a:avLst/>
              <a:gdLst/>
              <a:ahLst/>
              <a:rect l="l" t="t" r="r" b="b"/>
              <a:pathLst>
                <a:path w="3968" h="2352">
                  <a:moveTo>
                    <a:pt x="328" y="1576"/>
                  </a:moveTo>
                  <a:cubicBezTo>
                    <a:pt x="88" y="1424"/>
                    <a:pt x="168" y="1408"/>
                    <a:pt x="136" y="1240"/>
                  </a:cubicBezTo>
                  <a:cubicBezTo>
                    <a:pt x="104" y="1072"/>
                    <a:pt x="0" y="752"/>
                    <a:pt x="136" y="568"/>
                  </a:cubicBezTo>
                  <a:cubicBezTo>
                    <a:pt x="272" y="384"/>
                    <a:pt x="496" y="208"/>
                    <a:pt x="952" y="136"/>
                  </a:cubicBezTo>
                  <a:cubicBezTo>
                    <a:pt x="1408" y="64"/>
                    <a:pt x="2392" y="0"/>
                    <a:pt x="2872" y="136"/>
                  </a:cubicBezTo>
                  <a:cubicBezTo>
                    <a:pt x="3352" y="272"/>
                    <a:pt x="3712" y="616"/>
                    <a:pt x="3832" y="952"/>
                  </a:cubicBezTo>
                  <a:cubicBezTo>
                    <a:pt x="3952" y="1288"/>
                    <a:pt x="3968" y="1952"/>
                    <a:pt x="3592" y="2152"/>
                  </a:cubicBezTo>
                  <a:cubicBezTo>
                    <a:pt x="3216" y="2352"/>
                    <a:pt x="2120" y="2248"/>
                    <a:pt x="1576" y="2152"/>
                  </a:cubicBezTo>
                  <a:cubicBezTo>
                    <a:pt x="1032" y="2056"/>
                    <a:pt x="568" y="1728"/>
                    <a:pt x="328" y="1576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982960" y="1042920"/>
              <a:ext cx="2180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3366"/>
                  </a:solidFill>
                  <a:latin typeface="Benguiat Bk BT"/>
                </a:rPr>
                <a:t>B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6095880" y="76320"/>
            <a:ext cx="2561400" cy="1711440"/>
            <a:chOff x="6095880" y="76320"/>
            <a:chExt cx="2561400" cy="1711440"/>
          </a:xfrm>
        </p:grpSpPr>
        <p:grpSp>
          <p:nvGrpSpPr>
            <p:cNvPr id="1522" name=""/>
            <p:cNvGrpSpPr/>
            <p:nvPr/>
          </p:nvGrpSpPr>
          <p:grpSpPr>
            <a:xfrm>
              <a:off x="6095880" y="367920"/>
              <a:ext cx="2561400" cy="1419840"/>
              <a:chOff x="6095880" y="367920"/>
              <a:chExt cx="2561400" cy="1419840"/>
            </a:xfrm>
          </p:grpSpPr>
          <p:sp>
            <p:nvSpPr>
              <p:cNvPr id="1523" name=""/>
              <p:cNvSpPr/>
              <p:nvPr/>
            </p:nvSpPr>
            <p:spPr>
              <a:xfrm>
                <a:off x="6336360" y="367920"/>
                <a:ext cx="2220120" cy="1333440"/>
              </a:xfrm>
              <a:custGeom>
                <a:avLst/>
                <a:gdLst/>
                <a:ahLst/>
                <a:rect l="l" t="t" r="r" b="b"/>
                <a:pathLst>
                  <a:path w="2064" h="840">
                    <a:moveTo>
                      <a:pt x="24" y="488"/>
                    </a:moveTo>
                    <a:cubicBezTo>
                      <a:pt x="48" y="400"/>
                      <a:pt x="184" y="320"/>
                      <a:pt x="360" y="248"/>
                    </a:cubicBezTo>
                    <a:cubicBezTo>
                      <a:pt x="536" y="176"/>
                      <a:pt x="816" y="0"/>
                      <a:pt x="1080" y="56"/>
                    </a:cubicBezTo>
                    <a:cubicBezTo>
                      <a:pt x="1344" y="112"/>
                      <a:pt x="1824" y="456"/>
                      <a:pt x="1944" y="584"/>
                    </a:cubicBezTo>
                    <a:cubicBezTo>
                      <a:pt x="2064" y="712"/>
                      <a:pt x="1936" y="840"/>
                      <a:pt x="1800" y="824"/>
                    </a:cubicBezTo>
                    <a:cubicBezTo>
                      <a:pt x="1664" y="808"/>
                      <a:pt x="1296" y="544"/>
                      <a:pt x="1128" y="488"/>
                    </a:cubicBezTo>
                    <a:cubicBezTo>
                      <a:pt x="960" y="432"/>
                      <a:pt x="936" y="448"/>
                      <a:pt x="792" y="488"/>
                    </a:cubicBezTo>
                    <a:cubicBezTo>
                      <a:pt x="648" y="528"/>
                      <a:pt x="360" y="680"/>
                      <a:pt x="264" y="728"/>
                    </a:cubicBezTo>
                    <a:cubicBezTo>
                      <a:pt x="168" y="776"/>
                      <a:pt x="256" y="816"/>
                      <a:pt x="216" y="776"/>
                    </a:cubicBezTo>
                    <a:cubicBezTo>
                      <a:pt x="176" y="736"/>
                      <a:pt x="0" y="576"/>
                      <a:pt x="24" y="488"/>
                    </a:cubicBezTo>
                    <a:close/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95880" y="1066320"/>
                <a:ext cx="481320" cy="609120"/>
              </a:xfrm>
              <a:custGeom>
                <a:avLst/>
                <a:gdLst/>
                <a:ahLst/>
                <a:rect l="l" t="t" r="r" b="b"/>
                <a:pathLst>
                  <a:path w="432" h="384">
                    <a:moveTo>
                      <a:pt x="240" y="48"/>
                    </a:moveTo>
                    <a:lnTo>
                      <a:pt x="432" y="336"/>
                    </a:lnTo>
                    <a:lnTo>
                      <a:pt x="0" y="384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573600">
                <a:off x="8128800" y="1142280"/>
                <a:ext cx="481320" cy="609480"/>
              </a:xfrm>
              <a:custGeom>
                <a:avLst/>
                <a:gdLst/>
                <a:ahLst/>
                <a:rect l="l" t="t" r="r" b="b"/>
                <a:pathLst>
                  <a:path w="432" h="384">
                    <a:moveTo>
                      <a:pt x="240" y="48"/>
                    </a:moveTo>
                    <a:lnTo>
                      <a:pt x="432" y="336"/>
                    </a:lnTo>
                    <a:lnTo>
                      <a:pt x="0" y="384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e1e1b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6400800" y="7632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3366"/>
                  </a:solidFill>
                  <a:latin typeface="Benguiat Bk BT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1676520" y="228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osisi PHK-I vs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Hibah Pendahulu</a:t>
            </a:r>
            <a:br>
              <a:rPr sz="4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dari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144360" y="1752480"/>
            <a:ext cx="4622760" cy="3657600"/>
            <a:chOff x="144360" y="1752480"/>
            <a:chExt cx="4622760" cy="3657600"/>
          </a:xfrm>
        </p:grpSpPr>
        <p:grpSp>
          <p:nvGrpSpPr>
            <p:cNvPr id="1529" name=""/>
            <p:cNvGrpSpPr/>
            <p:nvPr/>
          </p:nvGrpSpPr>
          <p:grpSpPr>
            <a:xfrm>
              <a:off x="203040" y="1824120"/>
              <a:ext cx="1617840" cy="1612800"/>
              <a:chOff x="203040" y="1824120"/>
              <a:chExt cx="1617840" cy="161280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203040" y="1824120"/>
                <a:ext cx="1617840" cy="1612800"/>
                <a:chOff x="203040" y="1824120"/>
                <a:chExt cx="1617840" cy="161280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03040" y="1824120"/>
                  <a:ext cx="1617840" cy="1612800"/>
                </a:xfrm>
                <a:prstGeom prst="rect">
                  <a:avLst/>
                </a:prstGeom>
                <a:solidFill>
                  <a:srgbClr val="e1e1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2" name=""/>
                <p:cNvGrpSpPr/>
                <p:nvPr/>
              </p:nvGrpSpPr>
              <p:grpSpPr>
                <a:xfrm>
                  <a:off x="212760" y="3043440"/>
                  <a:ext cx="1600200" cy="380880"/>
                  <a:chOff x="212760" y="3043440"/>
                  <a:chExt cx="1600200" cy="380880"/>
                </a:xfrm>
              </p:grpSpPr>
              <p:sp>
                <p:nvSpPr>
                  <p:cNvPr id="1533" name=""/>
                  <p:cNvSpPr/>
                  <p:nvPr/>
                </p:nvSpPr>
                <p:spPr>
                  <a:xfrm>
                    <a:off x="212760" y="3043440"/>
                    <a:ext cx="1600200" cy="380880"/>
                  </a:xfrm>
                  <a:prstGeom prst="rect">
                    <a:avLst/>
                  </a:prstGeom>
                  <a:solidFill>
                    <a:srgbClr val="e1e1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671400" y="3043440"/>
                    <a:ext cx="51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5" name=""/>
              <p:cNvGrpSpPr/>
              <p:nvPr/>
            </p:nvGrpSpPr>
            <p:grpSpPr>
              <a:xfrm>
                <a:off x="814320" y="1868400"/>
                <a:ext cx="1003320" cy="1101960"/>
                <a:chOff x="814320" y="1868400"/>
                <a:chExt cx="1003320" cy="110196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14320" y="1868400"/>
                  <a:ext cx="1003320" cy="11019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7" name=""/>
                <p:cNvGrpSpPr/>
                <p:nvPr/>
              </p:nvGrpSpPr>
              <p:grpSpPr>
                <a:xfrm>
                  <a:off x="822240" y="2586240"/>
                  <a:ext cx="990720" cy="380880"/>
                  <a:chOff x="822240" y="2586240"/>
                  <a:chExt cx="990720" cy="38088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822240" y="2586240"/>
                    <a:ext cx="990720" cy="38088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052280" y="2586240"/>
                    <a:ext cx="52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u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0" name=""/>
              <p:cNvGrpSpPr/>
              <p:nvPr/>
            </p:nvGrpSpPr>
            <p:grpSpPr>
              <a:xfrm>
                <a:off x="210960" y="1868400"/>
                <a:ext cx="540000" cy="1101960"/>
                <a:chOff x="210960" y="1868400"/>
                <a:chExt cx="540000" cy="110196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210960" y="1868400"/>
                  <a:ext cx="540000" cy="11019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2" name=""/>
                <p:cNvGrpSpPr/>
                <p:nvPr/>
              </p:nvGrpSpPr>
              <p:grpSpPr>
                <a:xfrm>
                  <a:off x="212760" y="2586240"/>
                  <a:ext cx="533160" cy="380880"/>
                  <a:chOff x="212760" y="2586240"/>
                  <a:chExt cx="533160" cy="380880"/>
                </a:xfrm>
              </p:grpSpPr>
              <p:sp>
                <p:nvSpPr>
                  <p:cNvPr id="1543" name=""/>
                  <p:cNvSpPr/>
                  <p:nvPr/>
                </p:nvSpPr>
                <p:spPr>
                  <a:xfrm>
                    <a:off x="212760" y="2586240"/>
                    <a:ext cx="533160" cy="38088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14200" y="2586240"/>
                    <a:ext cx="52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u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5" name=""/>
              <p:cNvGrpSpPr/>
              <p:nvPr/>
            </p:nvGrpSpPr>
            <p:grpSpPr>
              <a:xfrm>
                <a:off x="822240" y="1900080"/>
                <a:ext cx="457200" cy="533520"/>
                <a:chOff x="822240" y="1900080"/>
                <a:chExt cx="457200" cy="53352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82224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2404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1355760" y="1900080"/>
                <a:ext cx="457200" cy="533520"/>
                <a:chOff x="1355760" y="1900080"/>
                <a:chExt cx="457200" cy="5335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135576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135756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250920" y="1900080"/>
                <a:ext cx="457200" cy="533520"/>
                <a:chOff x="250920" y="1900080"/>
                <a:chExt cx="457200" cy="53352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25092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5272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4" name=""/>
            <p:cNvGrpSpPr/>
            <p:nvPr/>
          </p:nvGrpSpPr>
          <p:grpSpPr>
            <a:xfrm>
              <a:off x="2489040" y="1824120"/>
              <a:ext cx="2227320" cy="1600200"/>
              <a:chOff x="2489040" y="1824120"/>
              <a:chExt cx="2227320" cy="1600200"/>
            </a:xfrm>
          </p:grpSpPr>
          <p:grpSp>
            <p:nvGrpSpPr>
              <p:cNvPr id="1555" name=""/>
              <p:cNvGrpSpPr/>
              <p:nvPr/>
            </p:nvGrpSpPr>
            <p:grpSpPr>
              <a:xfrm>
                <a:off x="2489040" y="1824120"/>
                <a:ext cx="2227320" cy="1600200"/>
                <a:chOff x="2489040" y="1824120"/>
                <a:chExt cx="2227320" cy="160020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2489040" y="1824120"/>
                  <a:ext cx="2227320" cy="1600200"/>
                </a:xfrm>
                <a:prstGeom prst="rect">
                  <a:avLst/>
                </a:prstGeom>
                <a:solidFill>
                  <a:srgbClr val="e1e1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7" name=""/>
                <p:cNvGrpSpPr/>
                <p:nvPr/>
              </p:nvGrpSpPr>
              <p:grpSpPr>
                <a:xfrm>
                  <a:off x="2498760" y="3043440"/>
                  <a:ext cx="2209680" cy="380880"/>
                  <a:chOff x="2498760" y="3043440"/>
                  <a:chExt cx="2209680" cy="38088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>
                    <a:off x="2498760" y="3043440"/>
                    <a:ext cx="2209680" cy="380880"/>
                  </a:xfrm>
                  <a:prstGeom prst="rect">
                    <a:avLst/>
                  </a:prstGeom>
                  <a:solidFill>
                    <a:srgbClr val="e1e1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261960" y="3043440"/>
                    <a:ext cx="51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2496960" y="1862280"/>
                <a:ext cx="2211480" cy="1104840"/>
                <a:chOff x="2496960" y="1862280"/>
                <a:chExt cx="2211480" cy="1104840"/>
              </a:xfrm>
            </p:grpSpPr>
            <p:grpSp>
              <p:nvGrpSpPr>
                <p:cNvPr id="1561" name=""/>
                <p:cNvGrpSpPr/>
                <p:nvPr/>
              </p:nvGrpSpPr>
              <p:grpSpPr>
                <a:xfrm>
                  <a:off x="3564000" y="1862280"/>
                  <a:ext cx="539640" cy="1104840"/>
                  <a:chOff x="3564000" y="1862280"/>
                  <a:chExt cx="539640" cy="110484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3564000" y="1862280"/>
                    <a:ext cx="539640" cy="110160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3" name=""/>
                  <p:cNvGrpSpPr/>
                  <p:nvPr/>
                </p:nvGrpSpPr>
                <p:grpSpPr>
                  <a:xfrm>
                    <a:off x="3565440" y="2586240"/>
                    <a:ext cx="533520" cy="380880"/>
                    <a:chOff x="3565440" y="2586240"/>
                    <a:chExt cx="533520" cy="380880"/>
                  </a:xfrm>
                </p:grpSpPr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3565440" y="2586240"/>
                      <a:ext cx="533520" cy="38088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3566880" y="2586240"/>
                      <a:ext cx="523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2496960" y="1862280"/>
                  <a:ext cx="1003320" cy="1104840"/>
                  <a:chOff x="2496960" y="1862280"/>
                  <a:chExt cx="1003320" cy="110484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2496960" y="1862280"/>
                    <a:ext cx="1003320" cy="110160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8" name=""/>
                  <p:cNvGrpSpPr/>
                  <p:nvPr/>
                </p:nvGrpSpPr>
                <p:grpSpPr>
                  <a:xfrm>
                    <a:off x="2498760" y="2586240"/>
                    <a:ext cx="990360" cy="380880"/>
                    <a:chOff x="2498760" y="2586240"/>
                    <a:chExt cx="990360" cy="380880"/>
                  </a:xfrm>
                </p:grpSpPr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2498760" y="2586240"/>
                      <a:ext cx="990360" cy="38088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2728440" y="2586240"/>
                      <a:ext cx="523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71" name=""/>
                <p:cNvGrpSpPr/>
                <p:nvPr/>
              </p:nvGrpSpPr>
              <p:grpSpPr>
                <a:xfrm>
                  <a:off x="4167000" y="1862280"/>
                  <a:ext cx="541440" cy="1104840"/>
                  <a:chOff x="4167000" y="1862280"/>
                  <a:chExt cx="541440" cy="110484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4167000" y="1862280"/>
                    <a:ext cx="540000" cy="1095480"/>
                  </a:xfrm>
                  <a:prstGeom prst="rect">
                    <a:avLst/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3" name=""/>
                  <p:cNvGrpSpPr/>
                  <p:nvPr/>
                </p:nvGrpSpPr>
                <p:grpSpPr>
                  <a:xfrm>
                    <a:off x="4174920" y="2586240"/>
                    <a:ext cx="533520" cy="380880"/>
                    <a:chOff x="4174920" y="2586240"/>
                    <a:chExt cx="533520" cy="380880"/>
                  </a:xfrm>
                </p:grpSpPr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4174920" y="2586240"/>
                      <a:ext cx="533520" cy="38088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4176360" y="2586240"/>
                      <a:ext cx="523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76" name=""/>
              <p:cNvGrpSpPr/>
              <p:nvPr/>
            </p:nvGrpSpPr>
            <p:grpSpPr>
              <a:xfrm>
                <a:off x="3603600" y="1900080"/>
                <a:ext cx="457200" cy="533520"/>
                <a:chOff x="3603600" y="1900080"/>
                <a:chExt cx="457200" cy="53352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360360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60540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2498760" y="1900080"/>
                <a:ext cx="457200" cy="533520"/>
                <a:chOff x="2498760" y="1900080"/>
                <a:chExt cx="457200" cy="53352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249876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50056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3031920" y="1900080"/>
                <a:ext cx="457200" cy="533520"/>
                <a:chOff x="3031920" y="1900080"/>
                <a:chExt cx="457200" cy="53352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303192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03372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4213080" y="1900080"/>
                <a:ext cx="457200" cy="533520"/>
                <a:chOff x="4213080" y="1900080"/>
                <a:chExt cx="457200" cy="53352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421308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421488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8" name=""/>
            <p:cNvGrpSpPr/>
            <p:nvPr/>
          </p:nvGrpSpPr>
          <p:grpSpPr>
            <a:xfrm>
              <a:off x="1886040" y="1830240"/>
              <a:ext cx="544320" cy="1600200"/>
              <a:chOff x="1886040" y="1830240"/>
              <a:chExt cx="544320" cy="1600200"/>
            </a:xfrm>
          </p:grpSpPr>
          <p:grpSp>
            <p:nvGrpSpPr>
              <p:cNvPr id="1589" name=""/>
              <p:cNvGrpSpPr/>
              <p:nvPr/>
            </p:nvGrpSpPr>
            <p:grpSpPr>
              <a:xfrm>
                <a:off x="1886040" y="1830240"/>
                <a:ext cx="544320" cy="1600200"/>
                <a:chOff x="1886040" y="1830240"/>
                <a:chExt cx="544320" cy="160020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1886040" y="1830240"/>
                  <a:ext cx="544320" cy="1600200"/>
                </a:xfrm>
                <a:prstGeom prst="rect">
                  <a:avLst/>
                </a:prstGeom>
                <a:solidFill>
                  <a:srgbClr val="e1e1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1" name=""/>
                <p:cNvGrpSpPr/>
                <p:nvPr/>
              </p:nvGrpSpPr>
              <p:grpSpPr>
                <a:xfrm>
                  <a:off x="1888920" y="3043080"/>
                  <a:ext cx="533520" cy="380880"/>
                  <a:chOff x="1888920" y="3043080"/>
                  <a:chExt cx="533520" cy="38088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1888920" y="3043080"/>
                    <a:ext cx="533520" cy="380880"/>
                  </a:xfrm>
                  <a:prstGeom prst="rect">
                    <a:avLst/>
                  </a:prstGeom>
                  <a:solidFill>
                    <a:srgbClr val="e1e1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890360" y="3043080"/>
                    <a:ext cx="5191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94" name=""/>
              <p:cNvSpPr/>
              <p:nvPr/>
            </p:nvSpPr>
            <p:spPr>
              <a:xfrm>
                <a:off x="1887480" y="1868400"/>
                <a:ext cx="539640" cy="1101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5" name=""/>
              <p:cNvGrpSpPr/>
              <p:nvPr/>
            </p:nvGrpSpPr>
            <p:grpSpPr>
              <a:xfrm>
                <a:off x="1927080" y="1900080"/>
                <a:ext cx="457200" cy="533520"/>
                <a:chOff x="1927080" y="1900080"/>
                <a:chExt cx="457200" cy="53352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1927080" y="190008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1928880" y="197640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8" name=""/>
            <p:cNvGrpSpPr/>
            <p:nvPr/>
          </p:nvGrpSpPr>
          <p:grpSpPr>
            <a:xfrm>
              <a:off x="212760" y="3576600"/>
              <a:ext cx="4495680" cy="380880"/>
              <a:chOff x="212760" y="3576600"/>
              <a:chExt cx="4495680" cy="380880"/>
            </a:xfrm>
          </p:grpSpPr>
          <p:sp>
            <p:nvSpPr>
              <p:cNvPr id="1599" name=""/>
              <p:cNvSpPr/>
              <p:nvPr/>
            </p:nvSpPr>
            <p:spPr>
              <a:xfrm>
                <a:off x="212760" y="3576600"/>
                <a:ext cx="4495680" cy="38088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53880" y="3600000"/>
                <a:ext cx="428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 Tekni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: UPT, Lembaga, Pusat, ds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12760" y="4033800"/>
              <a:ext cx="4495680" cy="543960"/>
              <a:chOff x="212760" y="4033800"/>
              <a:chExt cx="4495680" cy="543960"/>
            </a:xfrm>
          </p:grpSpPr>
          <p:sp>
            <p:nvSpPr>
              <p:cNvPr id="1602" name=""/>
              <p:cNvSpPr/>
              <p:nvPr/>
            </p:nvSpPr>
            <p:spPr>
              <a:xfrm>
                <a:off x="212760" y="4033800"/>
                <a:ext cx="4495680" cy="38124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2760" y="4057560"/>
                <a:ext cx="3769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 Administratif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: Biro, Bagian,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rektora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s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144360" y="1752480"/>
              <a:ext cx="4622760" cy="3657600"/>
              <a:chOff x="144360" y="1752480"/>
              <a:chExt cx="4622760" cy="3657600"/>
            </a:xfrm>
          </p:grpSpPr>
          <p:sp>
            <p:nvSpPr>
              <p:cNvPr id="1605" name=""/>
              <p:cNvSpPr/>
              <p:nvPr/>
            </p:nvSpPr>
            <p:spPr>
              <a:xfrm>
                <a:off x="144360" y="1752480"/>
                <a:ext cx="4622760" cy="365760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397160" y="4572000"/>
                <a:ext cx="2114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Benguiat Bk BT"/>
                  </a:rPr>
                  <a:t>Universitas/</a:t>
                </a:r>
                <a:br>
                  <a:rPr sz="2400"/>
                </a:br>
                <a:r>
                  <a:rPr b="0" i="1" lang="en-US" sz="2400" spc="-1" strike="noStrike">
                    <a:solidFill>
                      <a:srgbClr val="000000"/>
                    </a:solidFill>
                    <a:latin typeface="Benguiat Bk BT"/>
                  </a:rPr>
                  <a:t>Institut/BH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7" name=""/>
          <p:cNvGrpSpPr/>
          <p:nvPr/>
        </p:nvGrpSpPr>
        <p:grpSpPr>
          <a:xfrm>
            <a:off x="4800600" y="1752480"/>
            <a:ext cx="2341440" cy="3657600"/>
            <a:chOff x="4800600" y="1752480"/>
            <a:chExt cx="2341440" cy="3657600"/>
          </a:xfrm>
        </p:grpSpPr>
        <p:grpSp>
          <p:nvGrpSpPr>
            <p:cNvPr id="1608" name=""/>
            <p:cNvGrpSpPr/>
            <p:nvPr/>
          </p:nvGrpSpPr>
          <p:grpSpPr>
            <a:xfrm>
              <a:off x="5500440" y="1835280"/>
              <a:ext cx="1002960" cy="1101600"/>
              <a:chOff x="5500440" y="1835280"/>
              <a:chExt cx="1002960" cy="1101600"/>
            </a:xfrm>
          </p:grpSpPr>
          <p:grpSp>
            <p:nvGrpSpPr>
              <p:cNvPr id="1609" name=""/>
              <p:cNvGrpSpPr/>
              <p:nvPr/>
            </p:nvGrpSpPr>
            <p:grpSpPr>
              <a:xfrm>
                <a:off x="5500440" y="1835280"/>
                <a:ext cx="1002960" cy="1101600"/>
                <a:chOff x="5500440" y="1835280"/>
                <a:chExt cx="1002960" cy="110160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5500440" y="1835280"/>
                  <a:ext cx="1002960" cy="11016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1" name=""/>
                <p:cNvGrpSpPr/>
                <p:nvPr/>
              </p:nvGrpSpPr>
              <p:grpSpPr>
                <a:xfrm>
                  <a:off x="5508000" y="2552760"/>
                  <a:ext cx="990360" cy="380520"/>
                  <a:chOff x="5508000" y="2552760"/>
                  <a:chExt cx="990360" cy="3805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>
                    <a:off x="5508000" y="2552760"/>
                    <a:ext cx="990360" cy="3805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5737680" y="2552760"/>
                    <a:ext cx="52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u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4" name=""/>
              <p:cNvGrpSpPr/>
              <p:nvPr/>
            </p:nvGrpSpPr>
            <p:grpSpPr>
              <a:xfrm>
                <a:off x="5508000" y="1866960"/>
                <a:ext cx="456840" cy="533520"/>
                <a:chOff x="5508000" y="1866960"/>
                <a:chExt cx="456840" cy="53352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5508000" y="1866960"/>
                  <a:ext cx="45684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5509440" y="194328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6041520" y="1866960"/>
                <a:ext cx="456840" cy="533520"/>
                <a:chOff x="6041520" y="1866960"/>
                <a:chExt cx="456840" cy="5335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6041520" y="1866960"/>
                  <a:ext cx="45684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6042960" y="194328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0" name=""/>
            <p:cNvGrpSpPr/>
            <p:nvPr/>
          </p:nvGrpSpPr>
          <p:grpSpPr>
            <a:xfrm>
              <a:off x="4897080" y="1835280"/>
              <a:ext cx="539640" cy="1101600"/>
              <a:chOff x="4897080" y="1835280"/>
              <a:chExt cx="539640" cy="1101600"/>
            </a:xfrm>
          </p:grpSpPr>
          <p:grpSp>
            <p:nvGrpSpPr>
              <p:cNvPr id="1621" name=""/>
              <p:cNvGrpSpPr/>
              <p:nvPr/>
            </p:nvGrpSpPr>
            <p:grpSpPr>
              <a:xfrm>
                <a:off x="4897080" y="1835280"/>
                <a:ext cx="539640" cy="1101600"/>
                <a:chOff x="4897080" y="1835280"/>
                <a:chExt cx="539640" cy="11016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897080" y="1835280"/>
                  <a:ext cx="539640" cy="11016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3" name=""/>
                <p:cNvGrpSpPr/>
                <p:nvPr/>
              </p:nvGrpSpPr>
              <p:grpSpPr>
                <a:xfrm>
                  <a:off x="4898520" y="2552760"/>
                  <a:ext cx="532800" cy="380520"/>
                  <a:chOff x="4898520" y="2552760"/>
                  <a:chExt cx="532800" cy="38052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>
                    <a:off x="4898520" y="2552760"/>
                    <a:ext cx="532800" cy="3805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4899600" y="2552760"/>
                    <a:ext cx="52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u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6" name=""/>
              <p:cNvGrpSpPr/>
              <p:nvPr/>
            </p:nvGrpSpPr>
            <p:grpSpPr>
              <a:xfrm>
                <a:off x="4936680" y="1866960"/>
                <a:ext cx="456840" cy="533520"/>
                <a:chOff x="4936680" y="1866960"/>
                <a:chExt cx="456840" cy="53352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4936680" y="1866960"/>
                  <a:ext cx="45684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938120" y="194328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9" name=""/>
            <p:cNvGrpSpPr/>
            <p:nvPr/>
          </p:nvGrpSpPr>
          <p:grpSpPr>
            <a:xfrm>
              <a:off x="6573600" y="1835280"/>
              <a:ext cx="539280" cy="1101600"/>
              <a:chOff x="6573600" y="1835280"/>
              <a:chExt cx="539280" cy="11016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6573600" y="1835280"/>
                <a:ext cx="539280" cy="1101600"/>
                <a:chOff x="6573600" y="1835280"/>
                <a:chExt cx="539280" cy="110160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6573600" y="1835280"/>
                  <a:ext cx="539280" cy="11016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2" name=""/>
                <p:cNvGrpSpPr/>
                <p:nvPr/>
              </p:nvGrpSpPr>
              <p:grpSpPr>
                <a:xfrm>
                  <a:off x="6574680" y="2552760"/>
                  <a:ext cx="533160" cy="380520"/>
                  <a:chOff x="6574680" y="2552760"/>
                  <a:chExt cx="533160" cy="38052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6574680" y="2552760"/>
                    <a:ext cx="533160" cy="3805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6576120" y="2552760"/>
                    <a:ext cx="52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u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5" name=""/>
              <p:cNvGrpSpPr/>
              <p:nvPr/>
            </p:nvGrpSpPr>
            <p:grpSpPr>
              <a:xfrm>
                <a:off x="6612840" y="1866960"/>
                <a:ext cx="456840" cy="533520"/>
                <a:chOff x="6612840" y="1866960"/>
                <a:chExt cx="456840" cy="5335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6612840" y="1866960"/>
                  <a:ext cx="45684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6614280" y="194328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8" name=""/>
            <p:cNvSpPr/>
            <p:nvPr/>
          </p:nvSpPr>
          <p:spPr>
            <a:xfrm>
              <a:off x="4800600" y="1752480"/>
              <a:ext cx="2341440" cy="36576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05160" y="4267080"/>
              <a:ext cx="17776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Politeknik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Sekolah Ting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4875120" y="3048120"/>
              <a:ext cx="2210760" cy="533160"/>
              <a:chOff x="4875120" y="3048120"/>
              <a:chExt cx="2210760" cy="533160"/>
            </a:xfrm>
          </p:grpSpPr>
          <p:sp>
            <p:nvSpPr>
              <p:cNvPr id="1641" name=""/>
              <p:cNvSpPr/>
              <p:nvPr/>
            </p:nvSpPr>
            <p:spPr>
              <a:xfrm>
                <a:off x="4876560" y="3048120"/>
                <a:ext cx="2209320" cy="53316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875120" y="3055680"/>
                <a:ext cx="2210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 Tekni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: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PT, Lembaga, Pusat, d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4859280" y="3657600"/>
              <a:ext cx="2242800" cy="533160"/>
              <a:chOff x="4859280" y="3657600"/>
              <a:chExt cx="2242800" cy="533160"/>
            </a:xfrm>
          </p:grpSpPr>
          <p:sp>
            <p:nvSpPr>
              <p:cNvPr id="1644" name=""/>
              <p:cNvSpPr/>
              <p:nvPr/>
            </p:nvSpPr>
            <p:spPr>
              <a:xfrm>
                <a:off x="4876200" y="3657600"/>
                <a:ext cx="2209320" cy="53316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859280" y="3665520"/>
                <a:ext cx="2242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 Administrati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: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gian, Sub-Bagian, d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7162920" y="1752480"/>
            <a:ext cx="1778040" cy="3657600"/>
            <a:chOff x="7162920" y="1752480"/>
            <a:chExt cx="1778040" cy="3657600"/>
          </a:xfrm>
        </p:grpSpPr>
        <p:grpSp>
          <p:nvGrpSpPr>
            <p:cNvPr id="1647" name=""/>
            <p:cNvGrpSpPr/>
            <p:nvPr/>
          </p:nvGrpSpPr>
          <p:grpSpPr>
            <a:xfrm>
              <a:off x="7746840" y="1828800"/>
              <a:ext cx="609480" cy="609480"/>
              <a:chOff x="7746840" y="1828800"/>
              <a:chExt cx="609480" cy="609480"/>
            </a:xfrm>
          </p:grpSpPr>
          <p:sp>
            <p:nvSpPr>
              <p:cNvPr id="1648" name=""/>
              <p:cNvSpPr/>
              <p:nvPr/>
            </p:nvSpPr>
            <p:spPr>
              <a:xfrm>
                <a:off x="7746840" y="1828800"/>
                <a:ext cx="609480" cy="6094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9" name=""/>
              <p:cNvGrpSpPr/>
              <p:nvPr/>
            </p:nvGrpSpPr>
            <p:grpSpPr>
              <a:xfrm>
                <a:off x="7823160" y="1866960"/>
                <a:ext cx="457200" cy="533520"/>
                <a:chOff x="7823160" y="1866960"/>
                <a:chExt cx="457200" cy="5335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7823160" y="1866960"/>
                  <a:ext cx="457200" cy="53352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824960" y="1943280"/>
                  <a:ext cx="44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2" name=""/>
            <p:cNvSpPr/>
            <p:nvPr/>
          </p:nvSpPr>
          <p:spPr>
            <a:xfrm>
              <a:off x="7175520" y="1752480"/>
              <a:ext cx="1752480" cy="3657600"/>
            </a:xfrm>
            <a:prstGeom prst="rect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162920" y="4267080"/>
              <a:ext cx="17780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Akademi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Sekolah Ting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7194240" y="2514600"/>
              <a:ext cx="1716840" cy="533520"/>
              <a:chOff x="7194240" y="2514600"/>
              <a:chExt cx="1716840" cy="533520"/>
            </a:xfrm>
          </p:grpSpPr>
          <p:sp>
            <p:nvSpPr>
              <p:cNvPr id="1655" name=""/>
              <p:cNvSpPr/>
              <p:nvPr/>
            </p:nvSpPr>
            <p:spPr>
              <a:xfrm>
                <a:off x="7251840" y="2514600"/>
                <a:ext cx="1600200" cy="53352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194240" y="2522520"/>
                <a:ext cx="171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 Teknis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PT, Pusat, d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7251840" y="3124080"/>
              <a:ext cx="1600200" cy="761760"/>
              <a:chOff x="7251840" y="3124080"/>
              <a:chExt cx="1600200" cy="761760"/>
            </a:xfrm>
          </p:grpSpPr>
          <p:sp>
            <p:nvSpPr>
              <p:cNvPr id="1658" name=""/>
              <p:cNvSpPr/>
              <p:nvPr/>
            </p:nvSpPr>
            <p:spPr>
              <a:xfrm>
                <a:off x="7251840" y="3124080"/>
                <a:ext cx="1600200" cy="76176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387560" y="3139920"/>
                <a:ext cx="13269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enduku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dministratif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gian, d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68760" y="556272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rante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HK sejak 2006 s/d k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257800" y="1600200"/>
            <a:ext cx="1600200" cy="1600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09880" y="3233880"/>
            <a:ext cx="2387880" cy="2557440"/>
          </a:xfrm>
          <a:custGeom>
            <a:avLst/>
            <a:gdLst/>
            <a:ahLst/>
            <a:rect l="l" t="t" r="r" b="b"/>
            <a:pathLst>
              <a:path w="1504" h="1611">
                <a:moveTo>
                  <a:pt x="0" y="1611"/>
                </a:moveTo>
                <a:cubicBezTo>
                  <a:pt x="1488" y="1611"/>
                  <a:pt x="1504" y="1280"/>
                  <a:pt x="1419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05320" y="1676520"/>
            <a:ext cx="685800" cy="15238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23880"/>
              <a:gd name="textAreaBottom" fmla="*/ 1490400 h 1523880"/>
            </a:gdLst>
            <a:ahLst/>
            <a:rect l="textAreaLeft" t="textAreaTop" r="textAreaRight" b="textAreaBottom"/>
            <a:pathLst>
              <a:path w="21600" h="47982">
                <a:moveTo>
                  <a:pt x="3600" y="0"/>
                </a:moveTo>
                <a:arcTo wR="3600" hR="3600" stAng="16200000" swAng="-5400000"/>
                <a:lnTo>
                  <a:pt x="0" y="44382"/>
                </a:lnTo>
                <a:arcTo wR="3600" hR="3600" stAng="10800000" swAng="-5400000"/>
                <a:lnTo>
                  <a:pt x="18000" y="479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09880" y="3251160"/>
            <a:ext cx="2560680" cy="2567160"/>
          </a:xfrm>
          <a:custGeom>
            <a:avLst/>
            <a:gdLst/>
            <a:ahLst/>
            <a:rect l="l" t="t" r="r" b="b"/>
            <a:pathLst>
              <a:path w="1613" h="1617">
                <a:moveTo>
                  <a:pt x="0" y="1600"/>
                </a:moveTo>
                <a:cubicBezTo>
                  <a:pt x="1613" y="1617"/>
                  <a:pt x="277" y="0"/>
                  <a:pt x="27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828800" y="1676520"/>
            <a:ext cx="685800" cy="190476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904760"/>
              <a:gd name="textAreaBottom" fmla="*/ 1871280 h 1904760"/>
            </a:gdLst>
            <a:ahLst/>
            <a:rect l="textAreaLeft" t="textAreaTop" r="textAreaRight" b="textAreaBottom"/>
            <a:pathLst>
              <a:path w="21600" h="59972">
                <a:moveTo>
                  <a:pt x="3600" y="0"/>
                </a:moveTo>
                <a:arcTo wR="3600" hR="3600" stAng="16200000" swAng="-5400000"/>
                <a:lnTo>
                  <a:pt x="0" y="56372"/>
                </a:lnTo>
                <a:arcTo wR="3600" hR="3600" stAng="10800000" swAng="-5400000"/>
                <a:lnTo>
                  <a:pt x="18000" y="59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24040" y="3606840"/>
            <a:ext cx="2792520" cy="2192400"/>
          </a:xfrm>
          <a:custGeom>
            <a:avLst/>
            <a:gdLst/>
            <a:ahLst/>
            <a:rect l="l" t="t" r="r" b="b"/>
            <a:pathLst>
              <a:path w="1759" h="1381">
                <a:moveTo>
                  <a:pt x="747" y="1376"/>
                </a:moveTo>
                <a:cubicBezTo>
                  <a:pt x="1759" y="1381"/>
                  <a:pt x="557" y="31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162920" y="1600200"/>
            <a:ext cx="1752480" cy="39625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3962520"/>
              <a:gd name="textAreaBottom" fmla="*/ 3877200 h 3962520"/>
            </a:gdLst>
            <a:ahLst/>
            <a:rect l="textAreaLeft" t="textAreaTop" r="textAreaRight" b="textAreaBottom"/>
            <a:pathLst>
              <a:path w="21600" h="48834">
                <a:moveTo>
                  <a:pt x="3600" y="0"/>
                </a:moveTo>
                <a:arcTo wR="3600" hR="3600" stAng="16200000" swAng="-5400000"/>
                <a:lnTo>
                  <a:pt x="0" y="45234"/>
                </a:lnTo>
                <a:arcTo wR="3600" hR="3600" stAng="10800000" swAng="-5400000"/>
                <a:lnTo>
                  <a:pt x="18000" y="48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809880" y="5511960"/>
            <a:ext cx="3345120" cy="449280"/>
          </a:xfrm>
          <a:custGeom>
            <a:avLst/>
            <a:gdLst/>
            <a:ahLst/>
            <a:rect l="l" t="t" r="r" b="b"/>
            <a:pathLst>
              <a:path w="2107" h="283">
                <a:moveTo>
                  <a:pt x="0" y="176"/>
                </a:moveTo>
                <a:cubicBezTo>
                  <a:pt x="1045" y="283"/>
                  <a:pt x="1504" y="240"/>
                  <a:pt x="210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28600" y="59594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antees 2007 s/d 3 thn y.a.d: PHK-I ; A = Peningkatan Kapasitas Manajemen PT; B= E&amp;R Program Studi; C = Unggulan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Terminologi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Jurusan/Depart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nit akademik dasar yang mengelola sumber daya da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ogram Stu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tuan kurikulum yang diikuti peserta didik untuk mencapai suatu gelar akademik tert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Tata Pamong (</a:t>
            </a:r>
            <a:r>
              <a:rPr b="1" i="1" lang="en-US" sz="2400" spc="-1" strike="noStrike">
                <a:solidFill>
                  <a:srgbClr val="cc0000"/>
                </a:solidFill>
                <a:latin typeface="Palatino"/>
              </a:rPr>
              <a:t>Governance</a:t>
            </a: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erkenaan dengan bagaimana kebijakan (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policy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) dan putusan (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decision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) ditentuk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Manaj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erkenaan dengan pelaksana dan Pelaksanaan dari sistem manaj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Organis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truktur yang menjalankan fungsi/operasi/Strategi Manaj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Tata Pamong (Governance)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Tata Pamong ya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arahan strategis pengembangan Jur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tugas dan wewenang yang jelas pada setiap fungsi organis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transparansi dalam pengambilan keputusan &amp; pengelolaan sumberd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erfungsinya mekanisme kontrol, termasuk pelaksanaan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reward &amp; pun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Meritocracy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&amp; Academic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Tata Pamong y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engembangan dilakukan tanpa perencana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orupsi, Kolusi &amp; Nepot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tori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emokratisas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political democracy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bukan academic freedom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419720" y="3962520"/>
          <a:ext cx="1218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962520"/>
                    <a:ext cx="1218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Apa yang di kelola?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ogram akadem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ncakup pengajaran, penelitian, dan lay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47840" y="2768760"/>
            <a:ext cx="679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Dosen dan Karya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ncakup semua aspek pengelolaan S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47840" y="3641760"/>
            <a:ext cx="741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Keuangan/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Palatino"/>
              </a:rPr>
              <a:t>Baik dari sisi pendapatan maupun pengelu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47840" y="4521240"/>
            <a:ext cx="624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asarana dan fasil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Palatino"/>
              </a:rPr>
              <a:t>Termasuk sarana dan sistem info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47840" y="5391000"/>
            <a:ext cx="645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Mu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Palatino"/>
              </a:rPr>
              <a:t>Mencakup penjaminan dan pengawas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7467120" y="1905120"/>
            <a:ext cx="1511640" cy="809280"/>
            <a:chOff x="7467120" y="1905120"/>
            <a:chExt cx="1511640" cy="809280"/>
          </a:xfrm>
        </p:grpSpPr>
        <p:grpSp>
          <p:nvGrpSpPr>
            <p:cNvPr id="1684" name=""/>
            <p:cNvGrpSpPr/>
            <p:nvPr/>
          </p:nvGrpSpPr>
          <p:grpSpPr>
            <a:xfrm>
              <a:off x="7467120" y="1905120"/>
              <a:ext cx="584280" cy="809280"/>
              <a:chOff x="7467120" y="1905120"/>
              <a:chExt cx="584280" cy="809280"/>
            </a:xfrm>
          </p:grpSpPr>
          <p:sp>
            <p:nvSpPr>
              <p:cNvPr id="1685" name=""/>
              <p:cNvSpPr/>
              <p:nvPr/>
            </p:nvSpPr>
            <p:spPr>
              <a:xfrm flipH="1">
                <a:off x="7599600" y="2034360"/>
                <a:ext cx="147240" cy="7164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467840" y="2115360"/>
                <a:ext cx="219240" cy="35388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7641000" y="2228400"/>
                <a:ext cx="70560" cy="6156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7567560" y="2112840"/>
                <a:ext cx="483840" cy="60156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7707960" y="1905120"/>
                <a:ext cx="249120" cy="25164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7731720" y="2002680"/>
                <a:ext cx="111240" cy="12240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7823880" y="2050920"/>
                <a:ext cx="11880" cy="93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7494480" y="2306880"/>
                <a:ext cx="86040" cy="11160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7730640" y="1909080"/>
                <a:ext cx="64440" cy="4932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7729560" y="195300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7749360" y="200268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7705080" y="1982160"/>
                <a:ext cx="37080" cy="4104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7742520" y="20358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7749720" y="20426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7758360" y="20563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7743600" y="20782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7778520" y="2057760"/>
                <a:ext cx="54000" cy="6732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7775280" y="210456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7767720" y="1954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7779600" y="195588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7777080" y="195444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7817760" y="2014920"/>
                <a:ext cx="11880" cy="234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7867440" y="207288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7805520" y="1906200"/>
                <a:ext cx="55080" cy="6192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844760" y="1910160"/>
                <a:ext cx="90720" cy="174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7931880" y="20754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7863480" y="1987200"/>
                <a:ext cx="28440" cy="921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7826400" y="2050920"/>
                <a:ext cx="11880" cy="1512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7834680" y="2006640"/>
                <a:ext cx="22680" cy="4932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7849440" y="202464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7865280" y="204120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7831440" y="2086560"/>
                <a:ext cx="52560" cy="11016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7809840" y="211680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7881480" y="2090880"/>
                <a:ext cx="42840" cy="5220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7929360" y="2098800"/>
                <a:ext cx="53640" cy="10044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7828920" y="219924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819200" y="2211840"/>
                <a:ext cx="82440" cy="8928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7805880" y="2278080"/>
                <a:ext cx="91080" cy="9612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7757280" y="2291760"/>
                <a:ext cx="113760" cy="6048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7807320" y="2169000"/>
                <a:ext cx="21240" cy="8532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7627680" y="2213280"/>
                <a:ext cx="420480" cy="39096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7947720" y="2283480"/>
                <a:ext cx="56160" cy="11160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7975440" y="241128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7692480" y="2262960"/>
                <a:ext cx="123120" cy="56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7743600" y="2350800"/>
                <a:ext cx="50040" cy="10044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8006760" y="2315160"/>
                <a:ext cx="44280" cy="18576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732800" y="237024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7921440" y="250380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7866000" y="2535480"/>
                <a:ext cx="184320" cy="1530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878960" y="2608560"/>
                <a:ext cx="89640" cy="327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7877160" y="269532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7861320" y="268272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flipV="1">
                <a:off x="7846920" y="2588760"/>
                <a:ext cx="118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92360" y="2214720"/>
                <a:ext cx="140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7713000" y="204372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7710480" y="204264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7699320" y="206748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7468560" y="2053440"/>
                <a:ext cx="247680" cy="9756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7630200" y="2028960"/>
                <a:ext cx="309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7702560" y="20343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7664760" y="2035800"/>
                <a:ext cx="3456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7692480" y="203976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7719120" y="208800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7603560" y="21690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7607520" y="2059200"/>
                <a:ext cx="12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7685280" y="213192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7603560" y="2189880"/>
                <a:ext cx="81360" cy="6300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90160" y="2115360"/>
                <a:ext cx="112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7559280" y="2217600"/>
                <a:ext cx="118440" cy="15948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7683840" y="241308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706520" y="238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7692120" y="2389680"/>
                <a:ext cx="10440" cy="3816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7680240" y="237312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7637400" y="2363400"/>
                <a:ext cx="28440" cy="468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7579800" y="2393640"/>
                <a:ext cx="81360" cy="702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7505280" y="2302920"/>
                <a:ext cx="50040" cy="327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7542360" y="238392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7506720" y="2367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7505280" y="2400480"/>
                <a:ext cx="46440" cy="2484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7492320" y="235224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482960" y="236736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7468200" y="2439360"/>
                <a:ext cx="122040" cy="3024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7467120" y="2158200"/>
                <a:ext cx="1080" cy="27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7777440" y="22600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7750800" y="2155320"/>
                <a:ext cx="50040" cy="9648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7683840" y="223236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71" name="" descr=""/>
            <p:cNvPicPr/>
            <p:nvPr/>
          </p:nvPicPr>
          <p:blipFill>
            <a:blip r:embed="rId1"/>
            <a:stretch/>
          </p:blipFill>
          <p:spPr>
            <a:xfrm>
              <a:off x="8153280" y="2057400"/>
              <a:ext cx="825480" cy="56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2" name=""/>
          <p:cNvGrpSpPr/>
          <p:nvPr/>
        </p:nvGrpSpPr>
        <p:grpSpPr>
          <a:xfrm>
            <a:off x="7821720" y="2981160"/>
            <a:ext cx="939960" cy="641520"/>
            <a:chOff x="7821720" y="2981160"/>
            <a:chExt cx="939960" cy="641520"/>
          </a:xfrm>
        </p:grpSpPr>
        <p:sp>
          <p:nvSpPr>
            <p:cNvPr id="1773" name=""/>
            <p:cNvSpPr/>
            <p:nvPr/>
          </p:nvSpPr>
          <p:spPr>
            <a:xfrm>
              <a:off x="8371080" y="3152880"/>
              <a:ext cx="380880" cy="385560"/>
            </a:xfrm>
            <a:custGeom>
              <a:avLst/>
              <a:gdLst/>
              <a:ahLst/>
              <a:rect l="l" t="t" r="r" b="b"/>
              <a:pathLst>
                <a:path w="6248" h="6317">
                  <a:moveTo>
                    <a:pt x="694" y="875"/>
                  </a:moveTo>
                  <a:lnTo>
                    <a:pt x="1446" y="503"/>
                  </a:lnTo>
                  <a:lnTo>
                    <a:pt x="1652" y="444"/>
                  </a:lnTo>
                  <a:lnTo>
                    <a:pt x="2064" y="240"/>
                  </a:lnTo>
                  <a:lnTo>
                    <a:pt x="3249" y="0"/>
                  </a:lnTo>
                  <a:lnTo>
                    <a:pt x="3527" y="165"/>
                  </a:lnTo>
                  <a:lnTo>
                    <a:pt x="4167" y="414"/>
                  </a:lnTo>
                  <a:lnTo>
                    <a:pt x="5161" y="841"/>
                  </a:lnTo>
                  <a:lnTo>
                    <a:pt x="5517" y="1344"/>
                  </a:lnTo>
                  <a:lnTo>
                    <a:pt x="5685" y="2129"/>
                  </a:lnTo>
                  <a:lnTo>
                    <a:pt x="5969" y="2619"/>
                  </a:lnTo>
                  <a:lnTo>
                    <a:pt x="6118" y="3217"/>
                  </a:lnTo>
                  <a:lnTo>
                    <a:pt x="6248" y="3456"/>
                  </a:lnTo>
                  <a:lnTo>
                    <a:pt x="6211" y="3981"/>
                  </a:lnTo>
                  <a:lnTo>
                    <a:pt x="6137" y="4414"/>
                  </a:lnTo>
                  <a:lnTo>
                    <a:pt x="5464" y="5797"/>
                  </a:lnTo>
                  <a:lnTo>
                    <a:pt x="5349" y="5871"/>
                  </a:lnTo>
                  <a:lnTo>
                    <a:pt x="4952" y="5871"/>
                  </a:lnTo>
                  <a:lnTo>
                    <a:pt x="2625" y="6317"/>
                  </a:lnTo>
                  <a:lnTo>
                    <a:pt x="1127" y="5778"/>
                  </a:lnTo>
                  <a:lnTo>
                    <a:pt x="769" y="5328"/>
                  </a:lnTo>
                  <a:lnTo>
                    <a:pt x="0" y="3773"/>
                  </a:lnTo>
                  <a:lnTo>
                    <a:pt x="433" y="1176"/>
                  </a:lnTo>
                  <a:lnTo>
                    <a:pt x="694" y="8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629920" y="3179880"/>
              <a:ext cx="122040" cy="331560"/>
            </a:xfrm>
            <a:custGeom>
              <a:avLst/>
              <a:gdLst/>
              <a:ahLst/>
              <a:rect l="l" t="t" r="r" b="b"/>
              <a:pathLst>
                <a:path w="2024" h="5427">
                  <a:moveTo>
                    <a:pt x="0" y="0"/>
                  </a:moveTo>
                  <a:lnTo>
                    <a:pt x="728" y="397"/>
                  </a:lnTo>
                  <a:lnTo>
                    <a:pt x="546" y="638"/>
                  </a:lnTo>
                  <a:lnTo>
                    <a:pt x="917" y="657"/>
                  </a:lnTo>
                  <a:lnTo>
                    <a:pt x="1125" y="1202"/>
                  </a:lnTo>
                  <a:lnTo>
                    <a:pt x="1163" y="2115"/>
                  </a:lnTo>
                  <a:lnTo>
                    <a:pt x="1293" y="2227"/>
                  </a:lnTo>
                  <a:lnTo>
                    <a:pt x="1293" y="2739"/>
                  </a:lnTo>
                  <a:lnTo>
                    <a:pt x="1144" y="2885"/>
                  </a:lnTo>
                  <a:lnTo>
                    <a:pt x="1499" y="2996"/>
                  </a:lnTo>
                  <a:lnTo>
                    <a:pt x="1745" y="3316"/>
                  </a:lnTo>
                  <a:lnTo>
                    <a:pt x="1293" y="3236"/>
                  </a:lnTo>
                  <a:lnTo>
                    <a:pt x="1240" y="3426"/>
                  </a:lnTo>
                  <a:lnTo>
                    <a:pt x="1461" y="3651"/>
                  </a:lnTo>
                  <a:lnTo>
                    <a:pt x="1388" y="4116"/>
                  </a:lnTo>
                  <a:lnTo>
                    <a:pt x="1109" y="3985"/>
                  </a:lnTo>
                  <a:lnTo>
                    <a:pt x="546" y="4976"/>
                  </a:lnTo>
                  <a:lnTo>
                    <a:pt x="1163" y="5427"/>
                  </a:lnTo>
                  <a:lnTo>
                    <a:pt x="1346" y="5087"/>
                  </a:lnTo>
                  <a:lnTo>
                    <a:pt x="2024" y="3667"/>
                  </a:lnTo>
                  <a:lnTo>
                    <a:pt x="2024" y="2937"/>
                  </a:lnTo>
                  <a:lnTo>
                    <a:pt x="1760" y="2533"/>
                  </a:lnTo>
                  <a:lnTo>
                    <a:pt x="1486" y="1667"/>
                  </a:lnTo>
                  <a:lnTo>
                    <a:pt x="1216" y="812"/>
                  </a:lnTo>
                  <a:lnTo>
                    <a:pt x="955" y="415"/>
                  </a:lnTo>
                  <a:lnTo>
                    <a:pt x="769" y="3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534520" y="3189240"/>
              <a:ext cx="169920" cy="303120"/>
            </a:xfrm>
            <a:custGeom>
              <a:avLst/>
              <a:gdLst/>
              <a:ahLst/>
              <a:rect l="l" t="t" r="r" b="b"/>
              <a:pathLst>
                <a:path w="2784" h="4953">
                  <a:moveTo>
                    <a:pt x="1074" y="0"/>
                  </a:moveTo>
                  <a:lnTo>
                    <a:pt x="1222" y="712"/>
                  </a:lnTo>
                  <a:lnTo>
                    <a:pt x="645" y="2379"/>
                  </a:lnTo>
                  <a:lnTo>
                    <a:pt x="0" y="4227"/>
                  </a:lnTo>
                  <a:lnTo>
                    <a:pt x="1036" y="2245"/>
                  </a:lnTo>
                  <a:lnTo>
                    <a:pt x="1276" y="2823"/>
                  </a:lnTo>
                  <a:lnTo>
                    <a:pt x="679" y="4822"/>
                  </a:lnTo>
                  <a:lnTo>
                    <a:pt x="1714" y="3556"/>
                  </a:lnTo>
                  <a:lnTo>
                    <a:pt x="1801" y="4112"/>
                  </a:lnTo>
                  <a:lnTo>
                    <a:pt x="1467" y="4898"/>
                  </a:lnTo>
                  <a:lnTo>
                    <a:pt x="1957" y="4953"/>
                  </a:lnTo>
                  <a:lnTo>
                    <a:pt x="1787" y="4579"/>
                  </a:lnTo>
                  <a:lnTo>
                    <a:pt x="2109" y="3905"/>
                  </a:lnTo>
                  <a:lnTo>
                    <a:pt x="2161" y="3253"/>
                  </a:lnTo>
                  <a:lnTo>
                    <a:pt x="2370" y="3026"/>
                  </a:lnTo>
                  <a:lnTo>
                    <a:pt x="2784" y="2748"/>
                  </a:lnTo>
                  <a:lnTo>
                    <a:pt x="2726" y="2595"/>
                  </a:lnTo>
                  <a:lnTo>
                    <a:pt x="2331" y="2619"/>
                  </a:lnTo>
                  <a:lnTo>
                    <a:pt x="1898" y="1460"/>
                  </a:lnTo>
                  <a:lnTo>
                    <a:pt x="1957" y="601"/>
                  </a:lnTo>
                  <a:lnTo>
                    <a:pt x="1560" y="1308"/>
                  </a:lnTo>
                  <a:lnTo>
                    <a:pt x="1467" y="894"/>
                  </a:lnTo>
                  <a:lnTo>
                    <a:pt x="1433" y="503"/>
                  </a:lnTo>
                  <a:lnTo>
                    <a:pt x="1204" y="16"/>
                  </a:lnTo>
                  <a:lnTo>
                    <a:pt x="107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77200" y="3271680"/>
              <a:ext cx="69840" cy="189000"/>
            </a:xfrm>
            <a:custGeom>
              <a:avLst/>
              <a:gdLst/>
              <a:ahLst/>
              <a:rect l="l" t="t" r="r" b="b"/>
              <a:pathLst>
                <a:path w="1123" h="3105">
                  <a:moveTo>
                    <a:pt x="471" y="415"/>
                  </a:moveTo>
                  <a:lnTo>
                    <a:pt x="771" y="934"/>
                  </a:lnTo>
                  <a:lnTo>
                    <a:pt x="564" y="1034"/>
                  </a:lnTo>
                  <a:lnTo>
                    <a:pt x="732" y="1458"/>
                  </a:lnTo>
                  <a:lnTo>
                    <a:pt x="208" y="1424"/>
                  </a:lnTo>
                  <a:lnTo>
                    <a:pt x="0" y="1569"/>
                  </a:lnTo>
                  <a:lnTo>
                    <a:pt x="59" y="1871"/>
                  </a:lnTo>
                  <a:lnTo>
                    <a:pt x="641" y="1964"/>
                  </a:lnTo>
                  <a:lnTo>
                    <a:pt x="279" y="2394"/>
                  </a:lnTo>
                  <a:lnTo>
                    <a:pt x="753" y="2339"/>
                  </a:lnTo>
                  <a:lnTo>
                    <a:pt x="564" y="2787"/>
                  </a:lnTo>
                  <a:lnTo>
                    <a:pt x="641" y="2955"/>
                  </a:lnTo>
                  <a:lnTo>
                    <a:pt x="791" y="2471"/>
                  </a:lnTo>
                  <a:lnTo>
                    <a:pt x="1093" y="3105"/>
                  </a:lnTo>
                  <a:lnTo>
                    <a:pt x="1123" y="2322"/>
                  </a:lnTo>
                  <a:lnTo>
                    <a:pt x="1093" y="1607"/>
                  </a:lnTo>
                  <a:lnTo>
                    <a:pt x="959" y="1274"/>
                  </a:lnTo>
                  <a:lnTo>
                    <a:pt x="1050" y="955"/>
                  </a:lnTo>
                  <a:lnTo>
                    <a:pt x="545" y="0"/>
                  </a:lnTo>
                  <a:lnTo>
                    <a:pt x="471" y="41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90160" y="3206520"/>
              <a:ext cx="42840" cy="152640"/>
            </a:xfrm>
            <a:custGeom>
              <a:avLst/>
              <a:gdLst/>
              <a:ahLst/>
              <a:rect l="l" t="t" r="r" b="b"/>
              <a:pathLst>
                <a:path w="716" h="2506">
                  <a:moveTo>
                    <a:pt x="429" y="0"/>
                  </a:moveTo>
                  <a:lnTo>
                    <a:pt x="470" y="510"/>
                  </a:lnTo>
                  <a:lnTo>
                    <a:pt x="716" y="1744"/>
                  </a:lnTo>
                  <a:lnTo>
                    <a:pt x="376" y="1163"/>
                  </a:lnTo>
                  <a:lnTo>
                    <a:pt x="300" y="1633"/>
                  </a:lnTo>
                  <a:lnTo>
                    <a:pt x="154" y="2023"/>
                  </a:lnTo>
                  <a:lnTo>
                    <a:pt x="168" y="2376"/>
                  </a:lnTo>
                  <a:lnTo>
                    <a:pt x="20" y="2506"/>
                  </a:lnTo>
                  <a:lnTo>
                    <a:pt x="0" y="1968"/>
                  </a:lnTo>
                  <a:lnTo>
                    <a:pt x="189" y="1424"/>
                  </a:lnTo>
                  <a:lnTo>
                    <a:pt x="227" y="394"/>
                  </a:lnTo>
                  <a:lnTo>
                    <a:pt x="318" y="133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437680" y="3484440"/>
              <a:ext cx="254160" cy="138240"/>
            </a:xfrm>
            <a:custGeom>
              <a:avLst/>
              <a:gdLst/>
              <a:ahLst/>
              <a:rect l="l" t="t" r="r" b="b"/>
              <a:pathLst>
                <a:path w="4163" h="2241">
                  <a:moveTo>
                    <a:pt x="4163" y="2241"/>
                  </a:moveTo>
                  <a:lnTo>
                    <a:pt x="3995" y="538"/>
                  </a:lnTo>
                  <a:lnTo>
                    <a:pt x="3562" y="0"/>
                  </a:lnTo>
                  <a:lnTo>
                    <a:pt x="2661" y="145"/>
                  </a:lnTo>
                  <a:lnTo>
                    <a:pt x="2022" y="334"/>
                  </a:lnTo>
                  <a:lnTo>
                    <a:pt x="1514" y="334"/>
                  </a:lnTo>
                  <a:lnTo>
                    <a:pt x="767" y="368"/>
                  </a:lnTo>
                  <a:lnTo>
                    <a:pt x="242" y="180"/>
                  </a:lnTo>
                  <a:lnTo>
                    <a:pt x="111" y="706"/>
                  </a:lnTo>
                  <a:lnTo>
                    <a:pt x="54" y="1117"/>
                  </a:lnTo>
                  <a:lnTo>
                    <a:pt x="0" y="2241"/>
                  </a:lnTo>
                  <a:lnTo>
                    <a:pt x="4163" y="2241"/>
                  </a:lnTo>
                  <a:close/>
                </a:path>
              </a:pathLst>
            </a:custGeom>
            <a:solidFill>
              <a:srgbClr val="002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456760" y="3182760"/>
              <a:ext cx="61920" cy="351000"/>
            </a:xfrm>
            <a:custGeom>
              <a:avLst/>
              <a:gdLst/>
              <a:ahLst/>
              <a:rect l="l" t="t" r="r" b="b"/>
              <a:pathLst>
                <a:path w="1017" h="5743">
                  <a:moveTo>
                    <a:pt x="715" y="55"/>
                  </a:moveTo>
                  <a:lnTo>
                    <a:pt x="715" y="153"/>
                  </a:lnTo>
                  <a:lnTo>
                    <a:pt x="792" y="391"/>
                  </a:lnTo>
                  <a:lnTo>
                    <a:pt x="658" y="715"/>
                  </a:lnTo>
                  <a:lnTo>
                    <a:pt x="435" y="1422"/>
                  </a:lnTo>
                  <a:lnTo>
                    <a:pt x="338" y="2187"/>
                  </a:lnTo>
                  <a:lnTo>
                    <a:pt x="265" y="3645"/>
                  </a:lnTo>
                  <a:lnTo>
                    <a:pt x="189" y="4282"/>
                  </a:lnTo>
                  <a:lnTo>
                    <a:pt x="76" y="4922"/>
                  </a:lnTo>
                  <a:lnTo>
                    <a:pt x="0" y="5256"/>
                  </a:lnTo>
                  <a:lnTo>
                    <a:pt x="507" y="5743"/>
                  </a:lnTo>
                  <a:lnTo>
                    <a:pt x="994" y="5217"/>
                  </a:lnTo>
                  <a:lnTo>
                    <a:pt x="826" y="3781"/>
                  </a:lnTo>
                  <a:lnTo>
                    <a:pt x="733" y="2709"/>
                  </a:lnTo>
                  <a:lnTo>
                    <a:pt x="769" y="1984"/>
                  </a:lnTo>
                  <a:lnTo>
                    <a:pt x="883" y="1162"/>
                  </a:lnTo>
                  <a:lnTo>
                    <a:pt x="883" y="749"/>
                  </a:lnTo>
                  <a:lnTo>
                    <a:pt x="845" y="468"/>
                  </a:lnTo>
                  <a:lnTo>
                    <a:pt x="862" y="300"/>
                  </a:lnTo>
                  <a:lnTo>
                    <a:pt x="1017" y="207"/>
                  </a:lnTo>
                  <a:lnTo>
                    <a:pt x="1017" y="78"/>
                  </a:lnTo>
                  <a:lnTo>
                    <a:pt x="994" y="0"/>
                  </a:lnTo>
                  <a:lnTo>
                    <a:pt x="715" y="55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569440" y="3483000"/>
              <a:ext cx="127080" cy="71280"/>
            </a:xfrm>
            <a:custGeom>
              <a:avLst/>
              <a:gdLst/>
              <a:ahLst/>
              <a:rect l="l" t="t" r="r" b="b"/>
              <a:pathLst>
                <a:path w="2084" h="1179">
                  <a:moveTo>
                    <a:pt x="1348" y="0"/>
                  </a:moveTo>
                  <a:lnTo>
                    <a:pt x="1145" y="111"/>
                  </a:lnTo>
                  <a:lnTo>
                    <a:pt x="505" y="0"/>
                  </a:lnTo>
                  <a:lnTo>
                    <a:pt x="51" y="125"/>
                  </a:lnTo>
                  <a:lnTo>
                    <a:pt x="133" y="295"/>
                  </a:lnTo>
                  <a:lnTo>
                    <a:pt x="596" y="183"/>
                  </a:lnTo>
                  <a:lnTo>
                    <a:pt x="953" y="295"/>
                  </a:lnTo>
                  <a:lnTo>
                    <a:pt x="845" y="353"/>
                  </a:lnTo>
                  <a:lnTo>
                    <a:pt x="372" y="599"/>
                  </a:lnTo>
                  <a:lnTo>
                    <a:pt x="0" y="855"/>
                  </a:lnTo>
                  <a:lnTo>
                    <a:pt x="110" y="894"/>
                  </a:lnTo>
                  <a:lnTo>
                    <a:pt x="918" y="576"/>
                  </a:lnTo>
                  <a:lnTo>
                    <a:pt x="788" y="766"/>
                  </a:lnTo>
                  <a:lnTo>
                    <a:pt x="278" y="1078"/>
                  </a:lnTo>
                  <a:lnTo>
                    <a:pt x="394" y="1155"/>
                  </a:lnTo>
                  <a:lnTo>
                    <a:pt x="653" y="1102"/>
                  </a:lnTo>
                  <a:lnTo>
                    <a:pt x="805" y="1179"/>
                  </a:lnTo>
                  <a:lnTo>
                    <a:pt x="1459" y="951"/>
                  </a:lnTo>
                  <a:lnTo>
                    <a:pt x="2084" y="444"/>
                  </a:lnTo>
                  <a:lnTo>
                    <a:pt x="1592" y="90"/>
                  </a:lnTo>
                  <a:lnTo>
                    <a:pt x="13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426520" y="3467160"/>
              <a:ext cx="27000" cy="66600"/>
            </a:xfrm>
            <a:custGeom>
              <a:avLst/>
              <a:gdLst/>
              <a:ahLst/>
              <a:rect l="l" t="t" r="r" b="b"/>
              <a:pathLst>
                <a:path w="433" h="1104">
                  <a:moveTo>
                    <a:pt x="279" y="0"/>
                  </a:moveTo>
                  <a:lnTo>
                    <a:pt x="279" y="355"/>
                  </a:lnTo>
                  <a:lnTo>
                    <a:pt x="433" y="526"/>
                  </a:lnTo>
                  <a:lnTo>
                    <a:pt x="259" y="1104"/>
                  </a:lnTo>
                  <a:lnTo>
                    <a:pt x="32" y="841"/>
                  </a:lnTo>
                  <a:lnTo>
                    <a:pt x="0" y="599"/>
                  </a:lnTo>
                  <a:lnTo>
                    <a:pt x="32" y="164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464680" y="3016080"/>
              <a:ext cx="119160" cy="168480"/>
            </a:xfrm>
            <a:custGeom>
              <a:avLst/>
              <a:gdLst/>
              <a:ahLst/>
              <a:rect l="l" t="t" r="r" b="b"/>
              <a:pathLst>
                <a:path w="1945" h="2760">
                  <a:moveTo>
                    <a:pt x="1548" y="304"/>
                  </a:moveTo>
                  <a:lnTo>
                    <a:pt x="1945" y="1085"/>
                  </a:lnTo>
                  <a:lnTo>
                    <a:pt x="1945" y="1275"/>
                  </a:lnTo>
                  <a:lnTo>
                    <a:pt x="1856" y="1458"/>
                  </a:lnTo>
                  <a:lnTo>
                    <a:pt x="1729" y="1623"/>
                  </a:lnTo>
                  <a:lnTo>
                    <a:pt x="1714" y="2033"/>
                  </a:lnTo>
                  <a:lnTo>
                    <a:pt x="1729" y="2238"/>
                  </a:lnTo>
                  <a:lnTo>
                    <a:pt x="1653" y="2330"/>
                  </a:lnTo>
                  <a:lnTo>
                    <a:pt x="1345" y="2513"/>
                  </a:lnTo>
                  <a:lnTo>
                    <a:pt x="897" y="2744"/>
                  </a:lnTo>
                  <a:lnTo>
                    <a:pt x="785" y="2760"/>
                  </a:lnTo>
                  <a:lnTo>
                    <a:pt x="493" y="2506"/>
                  </a:lnTo>
                  <a:lnTo>
                    <a:pt x="436" y="2330"/>
                  </a:lnTo>
                  <a:lnTo>
                    <a:pt x="328" y="2147"/>
                  </a:lnTo>
                  <a:lnTo>
                    <a:pt x="196" y="1872"/>
                  </a:lnTo>
                  <a:lnTo>
                    <a:pt x="81" y="1549"/>
                  </a:lnTo>
                  <a:lnTo>
                    <a:pt x="0" y="1176"/>
                  </a:lnTo>
                  <a:lnTo>
                    <a:pt x="36" y="433"/>
                  </a:lnTo>
                  <a:lnTo>
                    <a:pt x="706" y="0"/>
                  </a:lnTo>
                  <a:lnTo>
                    <a:pt x="1366" y="187"/>
                  </a:lnTo>
                  <a:lnTo>
                    <a:pt x="1548" y="30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469360" y="2998800"/>
              <a:ext cx="42840" cy="44280"/>
            </a:xfrm>
            <a:custGeom>
              <a:avLst/>
              <a:gdLst/>
              <a:ahLst/>
              <a:rect l="l" t="t" r="r" b="b"/>
              <a:pathLst>
                <a:path w="697" h="738">
                  <a:moveTo>
                    <a:pt x="0" y="738"/>
                  </a:moveTo>
                  <a:lnTo>
                    <a:pt x="433" y="653"/>
                  </a:lnTo>
                  <a:lnTo>
                    <a:pt x="580" y="550"/>
                  </a:lnTo>
                  <a:lnTo>
                    <a:pt x="679" y="273"/>
                  </a:lnTo>
                  <a:lnTo>
                    <a:pt x="697" y="19"/>
                  </a:lnTo>
                  <a:lnTo>
                    <a:pt x="545" y="0"/>
                  </a:lnTo>
                  <a:lnTo>
                    <a:pt x="0" y="435"/>
                  </a:lnTo>
                  <a:lnTo>
                    <a:pt x="0" y="738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93120" y="3117960"/>
              <a:ext cx="34920" cy="9360"/>
            </a:xfrm>
            <a:custGeom>
              <a:avLst/>
              <a:gdLst/>
              <a:ahLst/>
              <a:rect l="l" t="t" r="r" b="b"/>
              <a:pathLst>
                <a:path w="564" h="166">
                  <a:moveTo>
                    <a:pt x="0" y="111"/>
                  </a:moveTo>
                  <a:lnTo>
                    <a:pt x="119" y="166"/>
                  </a:lnTo>
                  <a:lnTo>
                    <a:pt x="384" y="166"/>
                  </a:lnTo>
                  <a:lnTo>
                    <a:pt x="564" y="70"/>
                  </a:lnTo>
                  <a:lnTo>
                    <a:pt x="493" y="40"/>
                  </a:lnTo>
                  <a:lnTo>
                    <a:pt x="331" y="0"/>
                  </a:lnTo>
                  <a:lnTo>
                    <a:pt x="96" y="55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515440" y="3073320"/>
              <a:ext cx="23760" cy="7920"/>
            </a:xfrm>
            <a:custGeom>
              <a:avLst/>
              <a:gdLst/>
              <a:ahLst/>
              <a:rect l="l" t="t" r="r" b="b"/>
              <a:pathLst>
                <a:path w="378" h="132">
                  <a:moveTo>
                    <a:pt x="0" y="89"/>
                  </a:moveTo>
                  <a:lnTo>
                    <a:pt x="85" y="132"/>
                  </a:lnTo>
                  <a:lnTo>
                    <a:pt x="261" y="106"/>
                  </a:lnTo>
                  <a:lnTo>
                    <a:pt x="378" y="112"/>
                  </a:lnTo>
                  <a:lnTo>
                    <a:pt x="356" y="36"/>
                  </a:lnTo>
                  <a:lnTo>
                    <a:pt x="237" y="36"/>
                  </a:lnTo>
                  <a:lnTo>
                    <a:pt x="74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475840" y="3081240"/>
              <a:ext cx="14400" cy="6480"/>
            </a:xfrm>
            <a:custGeom>
              <a:avLst/>
              <a:gdLst/>
              <a:ahLst/>
              <a:rect l="l" t="t" r="r" b="b"/>
              <a:pathLst>
                <a:path w="221" h="121">
                  <a:moveTo>
                    <a:pt x="0" y="100"/>
                  </a:moveTo>
                  <a:lnTo>
                    <a:pt x="45" y="121"/>
                  </a:lnTo>
                  <a:lnTo>
                    <a:pt x="146" y="111"/>
                  </a:lnTo>
                  <a:lnTo>
                    <a:pt x="221" y="51"/>
                  </a:lnTo>
                  <a:lnTo>
                    <a:pt x="153" y="0"/>
                  </a:lnTo>
                  <a:lnTo>
                    <a:pt x="34" y="59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223480" y="3419280"/>
              <a:ext cx="218880" cy="203400"/>
            </a:xfrm>
            <a:custGeom>
              <a:avLst/>
              <a:gdLst/>
              <a:ahLst/>
              <a:rect l="l" t="t" r="r" b="b"/>
              <a:pathLst>
                <a:path w="3608" h="3334">
                  <a:moveTo>
                    <a:pt x="3608" y="3334"/>
                  </a:moveTo>
                  <a:lnTo>
                    <a:pt x="158" y="3334"/>
                  </a:lnTo>
                  <a:lnTo>
                    <a:pt x="0" y="1491"/>
                  </a:lnTo>
                  <a:lnTo>
                    <a:pt x="338" y="58"/>
                  </a:lnTo>
                  <a:lnTo>
                    <a:pt x="2630" y="0"/>
                  </a:lnTo>
                  <a:lnTo>
                    <a:pt x="3608" y="2445"/>
                  </a:lnTo>
                  <a:lnTo>
                    <a:pt x="3608" y="333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213760" y="3178080"/>
              <a:ext cx="228600" cy="406440"/>
            </a:xfrm>
            <a:custGeom>
              <a:avLst/>
              <a:gdLst/>
              <a:ahLst/>
              <a:rect l="l" t="t" r="r" b="b"/>
              <a:pathLst>
                <a:path w="3754" h="6642">
                  <a:moveTo>
                    <a:pt x="1480" y="85"/>
                  </a:moveTo>
                  <a:lnTo>
                    <a:pt x="3187" y="0"/>
                  </a:lnTo>
                  <a:lnTo>
                    <a:pt x="3484" y="338"/>
                  </a:lnTo>
                  <a:lnTo>
                    <a:pt x="3274" y="477"/>
                  </a:lnTo>
                  <a:lnTo>
                    <a:pt x="3147" y="847"/>
                  </a:lnTo>
                  <a:lnTo>
                    <a:pt x="3059" y="1965"/>
                  </a:lnTo>
                  <a:lnTo>
                    <a:pt x="2899" y="2407"/>
                  </a:lnTo>
                  <a:lnTo>
                    <a:pt x="2899" y="2816"/>
                  </a:lnTo>
                  <a:lnTo>
                    <a:pt x="2703" y="3085"/>
                  </a:lnTo>
                  <a:lnTo>
                    <a:pt x="2776" y="3420"/>
                  </a:lnTo>
                  <a:lnTo>
                    <a:pt x="2669" y="3505"/>
                  </a:lnTo>
                  <a:lnTo>
                    <a:pt x="3381" y="4426"/>
                  </a:lnTo>
                  <a:lnTo>
                    <a:pt x="3470" y="4904"/>
                  </a:lnTo>
                  <a:lnTo>
                    <a:pt x="3537" y="4942"/>
                  </a:lnTo>
                  <a:lnTo>
                    <a:pt x="3484" y="5437"/>
                  </a:lnTo>
                  <a:lnTo>
                    <a:pt x="3754" y="5916"/>
                  </a:lnTo>
                  <a:lnTo>
                    <a:pt x="3699" y="6535"/>
                  </a:lnTo>
                  <a:lnTo>
                    <a:pt x="3342" y="6642"/>
                  </a:lnTo>
                  <a:lnTo>
                    <a:pt x="2597" y="6569"/>
                  </a:lnTo>
                  <a:lnTo>
                    <a:pt x="1994" y="6201"/>
                  </a:lnTo>
                  <a:lnTo>
                    <a:pt x="1618" y="5950"/>
                  </a:lnTo>
                  <a:lnTo>
                    <a:pt x="1280" y="5453"/>
                  </a:lnTo>
                  <a:lnTo>
                    <a:pt x="1442" y="5206"/>
                  </a:lnTo>
                  <a:lnTo>
                    <a:pt x="1401" y="4126"/>
                  </a:lnTo>
                  <a:lnTo>
                    <a:pt x="924" y="4089"/>
                  </a:lnTo>
                  <a:lnTo>
                    <a:pt x="1051" y="4816"/>
                  </a:lnTo>
                  <a:lnTo>
                    <a:pt x="1142" y="5421"/>
                  </a:lnTo>
                  <a:lnTo>
                    <a:pt x="495" y="5789"/>
                  </a:lnTo>
                  <a:lnTo>
                    <a:pt x="161" y="4995"/>
                  </a:lnTo>
                  <a:lnTo>
                    <a:pt x="0" y="3946"/>
                  </a:lnTo>
                  <a:lnTo>
                    <a:pt x="0" y="3026"/>
                  </a:lnTo>
                  <a:lnTo>
                    <a:pt x="106" y="2196"/>
                  </a:lnTo>
                  <a:lnTo>
                    <a:pt x="233" y="938"/>
                  </a:lnTo>
                  <a:lnTo>
                    <a:pt x="1142" y="265"/>
                  </a:lnTo>
                  <a:lnTo>
                    <a:pt x="1480" y="8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267760" y="3408480"/>
              <a:ext cx="34920" cy="25200"/>
            </a:xfrm>
            <a:custGeom>
              <a:avLst/>
              <a:gdLst/>
              <a:ahLst/>
              <a:rect l="l" t="t" r="r" b="b"/>
              <a:pathLst>
                <a:path w="569" h="422">
                  <a:moveTo>
                    <a:pt x="0" y="0"/>
                  </a:moveTo>
                  <a:lnTo>
                    <a:pt x="215" y="119"/>
                  </a:lnTo>
                  <a:lnTo>
                    <a:pt x="569" y="119"/>
                  </a:lnTo>
                  <a:lnTo>
                    <a:pt x="553" y="405"/>
                  </a:lnTo>
                  <a:lnTo>
                    <a:pt x="283" y="422"/>
                  </a:lnTo>
                  <a:lnTo>
                    <a:pt x="16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266320" y="3195720"/>
              <a:ext cx="81000" cy="220680"/>
            </a:xfrm>
            <a:custGeom>
              <a:avLst/>
              <a:gdLst/>
              <a:ahLst/>
              <a:rect l="l" t="t" r="r" b="b"/>
              <a:pathLst>
                <a:path w="1317" h="3619">
                  <a:moveTo>
                    <a:pt x="603" y="0"/>
                  </a:moveTo>
                  <a:lnTo>
                    <a:pt x="300" y="555"/>
                  </a:lnTo>
                  <a:lnTo>
                    <a:pt x="103" y="1139"/>
                  </a:lnTo>
                  <a:lnTo>
                    <a:pt x="0" y="2269"/>
                  </a:lnTo>
                  <a:lnTo>
                    <a:pt x="0" y="3068"/>
                  </a:lnTo>
                  <a:lnTo>
                    <a:pt x="69" y="3530"/>
                  </a:lnTo>
                  <a:lnTo>
                    <a:pt x="546" y="3619"/>
                  </a:lnTo>
                  <a:lnTo>
                    <a:pt x="625" y="2678"/>
                  </a:lnTo>
                  <a:lnTo>
                    <a:pt x="782" y="1917"/>
                  </a:lnTo>
                  <a:lnTo>
                    <a:pt x="1008" y="1385"/>
                  </a:lnTo>
                  <a:lnTo>
                    <a:pt x="1317" y="869"/>
                  </a:lnTo>
                  <a:lnTo>
                    <a:pt x="1317" y="0"/>
                  </a:lnTo>
                  <a:lnTo>
                    <a:pt x="6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232840" y="3510000"/>
              <a:ext cx="88920" cy="88920"/>
            </a:xfrm>
            <a:custGeom>
              <a:avLst/>
              <a:gdLst/>
              <a:ahLst/>
              <a:rect l="l" t="t" r="r" b="b"/>
              <a:pathLst>
                <a:path w="1457" h="1459">
                  <a:moveTo>
                    <a:pt x="0" y="594"/>
                  </a:moveTo>
                  <a:lnTo>
                    <a:pt x="110" y="488"/>
                  </a:lnTo>
                  <a:lnTo>
                    <a:pt x="151" y="371"/>
                  </a:lnTo>
                  <a:lnTo>
                    <a:pt x="282" y="278"/>
                  </a:lnTo>
                  <a:lnTo>
                    <a:pt x="418" y="132"/>
                  </a:lnTo>
                  <a:lnTo>
                    <a:pt x="803" y="0"/>
                  </a:lnTo>
                  <a:lnTo>
                    <a:pt x="938" y="15"/>
                  </a:lnTo>
                  <a:lnTo>
                    <a:pt x="1295" y="556"/>
                  </a:lnTo>
                  <a:lnTo>
                    <a:pt x="1325" y="761"/>
                  </a:lnTo>
                  <a:lnTo>
                    <a:pt x="1422" y="1048"/>
                  </a:lnTo>
                  <a:lnTo>
                    <a:pt x="1457" y="1133"/>
                  </a:lnTo>
                  <a:lnTo>
                    <a:pt x="1303" y="1119"/>
                  </a:lnTo>
                  <a:lnTo>
                    <a:pt x="1394" y="1317"/>
                  </a:lnTo>
                  <a:lnTo>
                    <a:pt x="1123" y="1459"/>
                  </a:lnTo>
                  <a:lnTo>
                    <a:pt x="991" y="1437"/>
                  </a:lnTo>
                  <a:lnTo>
                    <a:pt x="819" y="1398"/>
                  </a:lnTo>
                  <a:lnTo>
                    <a:pt x="758" y="1406"/>
                  </a:lnTo>
                  <a:lnTo>
                    <a:pt x="698" y="1360"/>
                  </a:lnTo>
                  <a:lnTo>
                    <a:pt x="651" y="1248"/>
                  </a:lnTo>
                  <a:lnTo>
                    <a:pt x="623" y="1230"/>
                  </a:lnTo>
                  <a:lnTo>
                    <a:pt x="490" y="1299"/>
                  </a:lnTo>
                  <a:lnTo>
                    <a:pt x="443" y="1287"/>
                  </a:lnTo>
                  <a:lnTo>
                    <a:pt x="455" y="1237"/>
                  </a:lnTo>
                  <a:lnTo>
                    <a:pt x="536" y="1087"/>
                  </a:lnTo>
                  <a:lnTo>
                    <a:pt x="431" y="1061"/>
                  </a:lnTo>
                  <a:lnTo>
                    <a:pt x="356" y="915"/>
                  </a:lnTo>
                  <a:lnTo>
                    <a:pt x="307" y="885"/>
                  </a:lnTo>
                  <a:lnTo>
                    <a:pt x="295" y="787"/>
                  </a:lnTo>
                  <a:lnTo>
                    <a:pt x="240" y="662"/>
                  </a:lnTo>
                  <a:lnTo>
                    <a:pt x="263" y="547"/>
                  </a:lnTo>
                  <a:lnTo>
                    <a:pt x="250" y="522"/>
                  </a:lnTo>
                  <a:lnTo>
                    <a:pt x="80" y="615"/>
                  </a:lnTo>
                  <a:lnTo>
                    <a:pt x="4" y="628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280360" y="3060720"/>
              <a:ext cx="106560" cy="193680"/>
            </a:xfrm>
            <a:custGeom>
              <a:avLst/>
              <a:gdLst/>
              <a:ahLst/>
              <a:rect l="l" t="t" r="r" b="b"/>
              <a:pathLst>
                <a:path w="1745" h="3176">
                  <a:moveTo>
                    <a:pt x="316" y="0"/>
                  </a:moveTo>
                  <a:lnTo>
                    <a:pt x="112" y="197"/>
                  </a:lnTo>
                  <a:lnTo>
                    <a:pt x="0" y="1237"/>
                  </a:lnTo>
                  <a:lnTo>
                    <a:pt x="41" y="1548"/>
                  </a:lnTo>
                  <a:lnTo>
                    <a:pt x="403" y="2215"/>
                  </a:lnTo>
                  <a:lnTo>
                    <a:pt x="463" y="2565"/>
                  </a:lnTo>
                  <a:lnTo>
                    <a:pt x="427" y="3015"/>
                  </a:lnTo>
                  <a:lnTo>
                    <a:pt x="403" y="3176"/>
                  </a:lnTo>
                  <a:lnTo>
                    <a:pt x="754" y="2784"/>
                  </a:lnTo>
                  <a:lnTo>
                    <a:pt x="1172" y="2533"/>
                  </a:lnTo>
                  <a:lnTo>
                    <a:pt x="1584" y="1638"/>
                  </a:lnTo>
                  <a:lnTo>
                    <a:pt x="1745" y="917"/>
                  </a:lnTo>
                  <a:lnTo>
                    <a:pt x="911" y="11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66400" y="3139920"/>
              <a:ext cx="9360" cy="129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22" y="0"/>
                  </a:moveTo>
                  <a:lnTo>
                    <a:pt x="0" y="133"/>
                  </a:lnTo>
                  <a:lnTo>
                    <a:pt x="52" y="195"/>
                  </a:lnTo>
                  <a:lnTo>
                    <a:pt x="151" y="133"/>
                  </a:lnTo>
                  <a:lnTo>
                    <a:pt x="133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04480" y="3147840"/>
              <a:ext cx="23760" cy="11160"/>
            </a:xfrm>
            <a:custGeom>
              <a:avLst/>
              <a:gdLst/>
              <a:ahLst/>
              <a:rect l="l" t="t" r="r" b="b"/>
              <a:pathLst>
                <a:path w="387" h="193">
                  <a:moveTo>
                    <a:pt x="0" y="61"/>
                  </a:moveTo>
                  <a:lnTo>
                    <a:pt x="130" y="193"/>
                  </a:lnTo>
                  <a:lnTo>
                    <a:pt x="250" y="167"/>
                  </a:lnTo>
                  <a:lnTo>
                    <a:pt x="387" y="51"/>
                  </a:lnTo>
                  <a:lnTo>
                    <a:pt x="310" y="25"/>
                  </a:lnTo>
                  <a:lnTo>
                    <a:pt x="172" y="0"/>
                  </a:lnTo>
                  <a:lnTo>
                    <a:pt x="49" y="2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326440" y="3111480"/>
              <a:ext cx="14400" cy="4680"/>
            </a:xfrm>
            <a:custGeom>
              <a:avLst/>
              <a:gdLst/>
              <a:ahLst/>
              <a:rect l="l" t="t" r="r" b="b"/>
              <a:pathLst>
                <a:path w="235" h="81">
                  <a:moveTo>
                    <a:pt x="0" y="53"/>
                  </a:moveTo>
                  <a:lnTo>
                    <a:pt x="50" y="81"/>
                  </a:lnTo>
                  <a:lnTo>
                    <a:pt x="182" y="81"/>
                  </a:lnTo>
                  <a:lnTo>
                    <a:pt x="235" y="36"/>
                  </a:lnTo>
                  <a:lnTo>
                    <a:pt x="162" y="24"/>
                  </a:lnTo>
                  <a:lnTo>
                    <a:pt x="7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291520" y="3111480"/>
              <a:ext cx="7920" cy="6480"/>
            </a:xfrm>
            <a:custGeom>
              <a:avLst/>
              <a:gdLst/>
              <a:ahLst/>
              <a:rect l="l" t="t" r="r" b="b"/>
              <a:pathLst>
                <a:path w="152" h="95">
                  <a:moveTo>
                    <a:pt x="0" y="69"/>
                  </a:moveTo>
                  <a:lnTo>
                    <a:pt x="48" y="95"/>
                  </a:lnTo>
                  <a:lnTo>
                    <a:pt x="152" y="69"/>
                  </a:lnTo>
                  <a:lnTo>
                    <a:pt x="117" y="0"/>
                  </a:lnTo>
                  <a:lnTo>
                    <a:pt x="34" y="3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034480" y="3097080"/>
              <a:ext cx="244440" cy="523800"/>
            </a:xfrm>
            <a:custGeom>
              <a:avLst/>
              <a:gdLst/>
              <a:ahLst/>
              <a:rect l="l" t="t" r="r" b="b"/>
              <a:pathLst>
                <a:path w="3983" h="8600">
                  <a:moveTo>
                    <a:pt x="2467" y="0"/>
                  </a:moveTo>
                  <a:lnTo>
                    <a:pt x="2718" y="374"/>
                  </a:lnTo>
                  <a:lnTo>
                    <a:pt x="3654" y="679"/>
                  </a:lnTo>
                  <a:lnTo>
                    <a:pt x="3983" y="1072"/>
                  </a:lnTo>
                  <a:lnTo>
                    <a:pt x="3793" y="1838"/>
                  </a:lnTo>
                  <a:lnTo>
                    <a:pt x="3155" y="2294"/>
                  </a:lnTo>
                  <a:lnTo>
                    <a:pt x="3093" y="2751"/>
                  </a:lnTo>
                  <a:lnTo>
                    <a:pt x="3115" y="3224"/>
                  </a:lnTo>
                  <a:lnTo>
                    <a:pt x="2989" y="3657"/>
                  </a:lnTo>
                  <a:lnTo>
                    <a:pt x="2989" y="4240"/>
                  </a:lnTo>
                  <a:lnTo>
                    <a:pt x="2904" y="4773"/>
                  </a:lnTo>
                  <a:lnTo>
                    <a:pt x="2969" y="5415"/>
                  </a:lnTo>
                  <a:lnTo>
                    <a:pt x="3051" y="5890"/>
                  </a:lnTo>
                  <a:lnTo>
                    <a:pt x="3257" y="6739"/>
                  </a:lnTo>
                  <a:lnTo>
                    <a:pt x="3446" y="7130"/>
                  </a:lnTo>
                  <a:lnTo>
                    <a:pt x="3319" y="7111"/>
                  </a:lnTo>
                  <a:lnTo>
                    <a:pt x="3196" y="7091"/>
                  </a:lnTo>
                  <a:lnTo>
                    <a:pt x="3196" y="7544"/>
                  </a:lnTo>
                  <a:lnTo>
                    <a:pt x="3301" y="7710"/>
                  </a:lnTo>
                  <a:lnTo>
                    <a:pt x="3276" y="8600"/>
                  </a:lnTo>
                  <a:lnTo>
                    <a:pt x="0" y="8600"/>
                  </a:lnTo>
                  <a:lnTo>
                    <a:pt x="601" y="2381"/>
                  </a:lnTo>
                  <a:lnTo>
                    <a:pt x="601" y="2047"/>
                  </a:lnTo>
                  <a:lnTo>
                    <a:pt x="583" y="1592"/>
                  </a:lnTo>
                  <a:lnTo>
                    <a:pt x="934" y="1159"/>
                  </a:lnTo>
                  <a:lnTo>
                    <a:pt x="1412" y="766"/>
                  </a:lnTo>
                  <a:lnTo>
                    <a:pt x="2218" y="105"/>
                  </a:lnTo>
                  <a:lnTo>
                    <a:pt x="2467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129880" y="3087720"/>
              <a:ext cx="55440" cy="100080"/>
            </a:xfrm>
            <a:custGeom>
              <a:avLst/>
              <a:gdLst/>
              <a:ahLst/>
              <a:rect l="l" t="t" r="r" b="b"/>
              <a:pathLst>
                <a:path w="929" h="1641">
                  <a:moveTo>
                    <a:pt x="893" y="0"/>
                  </a:moveTo>
                  <a:lnTo>
                    <a:pt x="929" y="249"/>
                  </a:lnTo>
                  <a:lnTo>
                    <a:pt x="798" y="492"/>
                  </a:lnTo>
                  <a:lnTo>
                    <a:pt x="683" y="711"/>
                  </a:lnTo>
                  <a:lnTo>
                    <a:pt x="371" y="1180"/>
                  </a:lnTo>
                  <a:lnTo>
                    <a:pt x="235" y="1449"/>
                  </a:lnTo>
                  <a:lnTo>
                    <a:pt x="165" y="1641"/>
                  </a:lnTo>
                  <a:lnTo>
                    <a:pt x="0" y="554"/>
                  </a:lnTo>
                  <a:lnTo>
                    <a:pt x="8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086680" y="3127320"/>
              <a:ext cx="55800" cy="154080"/>
            </a:xfrm>
            <a:custGeom>
              <a:avLst/>
              <a:gdLst/>
              <a:ahLst/>
              <a:rect l="l" t="t" r="r" b="b"/>
              <a:pathLst>
                <a:path w="893" h="2515">
                  <a:moveTo>
                    <a:pt x="802" y="17"/>
                  </a:moveTo>
                  <a:lnTo>
                    <a:pt x="893" y="331"/>
                  </a:lnTo>
                  <a:lnTo>
                    <a:pt x="802" y="462"/>
                  </a:lnTo>
                  <a:lnTo>
                    <a:pt x="855" y="1006"/>
                  </a:lnTo>
                  <a:lnTo>
                    <a:pt x="589" y="1621"/>
                  </a:lnTo>
                  <a:lnTo>
                    <a:pt x="227" y="2515"/>
                  </a:lnTo>
                  <a:lnTo>
                    <a:pt x="0" y="2096"/>
                  </a:lnTo>
                  <a:lnTo>
                    <a:pt x="142" y="1732"/>
                  </a:lnTo>
                  <a:lnTo>
                    <a:pt x="265" y="1176"/>
                  </a:lnTo>
                  <a:lnTo>
                    <a:pt x="680" y="0"/>
                  </a:lnTo>
                  <a:lnTo>
                    <a:pt x="80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821720" y="3195720"/>
              <a:ext cx="298440" cy="426960"/>
            </a:xfrm>
            <a:custGeom>
              <a:avLst/>
              <a:gdLst/>
              <a:ahLst/>
              <a:rect l="l" t="t" r="r" b="b"/>
              <a:pathLst>
                <a:path w="4880" h="6989">
                  <a:moveTo>
                    <a:pt x="1777" y="0"/>
                  </a:moveTo>
                  <a:lnTo>
                    <a:pt x="2907" y="78"/>
                  </a:lnTo>
                  <a:lnTo>
                    <a:pt x="3100" y="304"/>
                  </a:lnTo>
                  <a:lnTo>
                    <a:pt x="3507" y="525"/>
                  </a:lnTo>
                  <a:lnTo>
                    <a:pt x="4039" y="662"/>
                  </a:lnTo>
                  <a:lnTo>
                    <a:pt x="4419" y="917"/>
                  </a:lnTo>
                  <a:lnTo>
                    <a:pt x="4588" y="1275"/>
                  </a:lnTo>
                  <a:lnTo>
                    <a:pt x="4535" y="1838"/>
                  </a:lnTo>
                  <a:lnTo>
                    <a:pt x="4653" y="2060"/>
                  </a:lnTo>
                  <a:lnTo>
                    <a:pt x="4880" y="2586"/>
                  </a:lnTo>
                  <a:lnTo>
                    <a:pt x="4845" y="2760"/>
                  </a:lnTo>
                  <a:lnTo>
                    <a:pt x="4606" y="2928"/>
                  </a:lnTo>
                  <a:lnTo>
                    <a:pt x="4623" y="3223"/>
                  </a:lnTo>
                  <a:lnTo>
                    <a:pt x="4671" y="3423"/>
                  </a:lnTo>
                  <a:lnTo>
                    <a:pt x="4535" y="3800"/>
                  </a:lnTo>
                  <a:lnTo>
                    <a:pt x="4553" y="4106"/>
                  </a:lnTo>
                  <a:lnTo>
                    <a:pt x="3782" y="4706"/>
                  </a:lnTo>
                  <a:lnTo>
                    <a:pt x="4128" y="5539"/>
                  </a:lnTo>
                  <a:lnTo>
                    <a:pt x="4224" y="6989"/>
                  </a:lnTo>
                  <a:lnTo>
                    <a:pt x="924" y="6989"/>
                  </a:lnTo>
                  <a:lnTo>
                    <a:pt x="924" y="5604"/>
                  </a:lnTo>
                  <a:lnTo>
                    <a:pt x="390" y="5266"/>
                  </a:lnTo>
                  <a:lnTo>
                    <a:pt x="750" y="4637"/>
                  </a:lnTo>
                  <a:lnTo>
                    <a:pt x="1042" y="4293"/>
                  </a:lnTo>
                  <a:lnTo>
                    <a:pt x="973" y="4106"/>
                  </a:lnTo>
                  <a:lnTo>
                    <a:pt x="667" y="2896"/>
                  </a:lnTo>
                  <a:lnTo>
                    <a:pt x="206" y="1396"/>
                  </a:lnTo>
                  <a:lnTo>
                    <a:pt x="0" y="1085"/>
                  </a:lnTo>
                  <a:lnTo>
                    <a:pt x="220" y="743"/>
                  </a:lnTo>
                  <a:lnTo>
                    <a:pt x="716" y="543"/>
                  </a:lnTo>
                  <a:lnTo>
                    <a:pt x="1159" y="490"/>
                  </a:lnTo>
                  <a:lnTo>
                    <a:pt x="1556" y="286"/>
                  </a:lnTo>
                  <a:lnTo>
                    <a:pt x="177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883640" y="3429000"/>
              <a:ext cx="212760" cy="182520"/>
            </a:xfrm>
            <a:custGeom>
              <a:avLst/>
              <a:gdLst/>
              <a:ahLst/>
              <a:rect l="l" t="t" r="r" b="b"/>
              <a:pathLst>
                <a:path w="3490" h="3002">
                  <a:moveTo>
                    <a:pt x="2871" y="84"/>
                  </a:moveTo>
                  <a:lnTo>
                    <a:pt x="2856" y="610"/>
                  </a:lnTo>
                  <a:lnTo>
                    <a:pt x="2668" y="1397"/>
                  </a:lnTo>
                  <a:lnTo>
                    <a:pt x="2106" y="1892"/>
                  </a:lnTo>
                  <a:lnTo>
                    <a:pt x="1711" y="1502"/>
                  </a:lnTo>
                  <a:lnTo>
                    <a:pt x="1506" y="1175"/>
                  </a:lnTo>
                  <a:lnTo>
                    <a:pt x="1112" y="610"/>
                  </a:lnTo>
                  <a:lnTo>
                    <a:pt x="781" y="258"/>
                  </a:lnTo>
                  <a:lnTo>
                    <a:pt x="0" y="341"/>
                  </a:lnTo>
                  <a:lnTo>
                    <a:pt x="182" y="833"/>
                  </a:lnTo>
                  <a:lnTo>
                    <a:pt x="683" y="1294"/>
                  </a:lnTo>
                  <a:lnTo>
                    <a:pt x="1348" y="1909"/>
                  </a:lnTo>
                  <a:lnTo>
                    <a:pt x="1537" y="2374"/>
                  </a:lnTo>
                  <a:lnTo>
                    <a:pt x="1968" y="3002"/>
                  </a:lnTo>
                  <a:lnTo>
                    <a:pt x="2308" y="2965"/>
                  </a:lnTo>
                  <a:lnTo>
                    <a:pt x="2579" y="2662"/>
                  </a:lnTo>
                  <a:lnTo>
                    <a:pt x="2703" y="2419"/>
                  </a:lnTo>
                  <a:lnTo>
                    <a:pt x="2925" y="2047"/>
                  </a:lnTo>
                  <a:lnTo>
                    <a:pt x="3059" y="1721"/>
                  </a:lnTo>
                  <a:lnTo>
                    <a:pt x="3235" y="1328"/>
                  </a:lnTo>
                  <a:lnTo>
                    <a:pt x="3419" y="819"/>
                  </a:lnTo>
                  <a:lnTo>
                    <a:pt x="3474" y="406"/>
                  </a:lnTo>
                  <a:lnTo>
                    <a:pt x="3490" y="150"/>
                  </a:lnTo>
                  <a:lnTo>
                    <a:pt x="3251" y="0"/>
                  </a:lnTo>
                  <a:lnTo>
                    <a:pt x="2871" y="84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047080" y="3514680"/>
              <a:ext cx="28800" cy="25560"/>
            </a:xfrm>
            <a:custGeom>
              <a:avLst/>
              <a:gdLst/>
              <a:ahLst/>
              <a:rect l="l" t="t" r="r" b="b"/>
              <a:pathLst>
                <a:path w="463" h="415">
                  <a:moveTo>
                    <a:pt x="34" y="0"/>
                  </a:moveTo>
                  <a:lnTo>
                    <a:pt x="76" y="57"/>
                  </a:lnTo>
                  <a:lnTo>
                    <a:pt x="191" y="159"/>
                  </a:lnTo>
                  <a:lnTo>
                    <a:pt x="317" y="211"/>
                  </a:lnTo>
                  <a:lnTo>
                    <a:pt x="349" y="257"/>
                  </a:lnTo>
                  <a:lnTo>
                    <a:pt x="444" y="233"/>
                  </a:lnTo>
                  <a:lnTo>
                    <a:pt x="463" y="269"/>
                  </a:lnTo>
                  <a:lnTo>
                    <a:pt x="444" y="386"/>
                  </a:lnTo>
                  <a:lnTo>
                    <a:pt x="393" y="415"/>
                  </a:lnTo>
                  <a:lnTo>
                    <a:pt x="351" y="365"/>
                  </a:lnTo>
                  <a:lnTo>
                    <a:pt x="187" y="263"/>
                  </a:lnTo>
                  <a:lnTo>
                    <a:pt x="80" y="180"/>
                  </a:lnTo>
                  <a:lnTo>
                    <a:pt x="0" y="57"/>
                  </a:lnTo>
                  <a:lnTo>
                    <a:pt x="7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001000" y="3521160"/>
              <a:ext cx="32040" cy="23760"/>
            </a:xfrm>
            <a:custGeom>
              <a:avLst/>
              <a:gdLst/>
              <a:ahLst/>
              <a:rect l="l" t="t" r="r" b="b"/>
              <a:pathLst>
                <a:path w="533" h="392">
                  <a:moveTo>
                    <a:pt x="0" y="192"/>
                  </a:moveTo>
                  <a:lnTo>
                    <a:pt x="227" y="392"/>
                  </a:lnTo>
                  <a:lnTo>
                    <a:pt x="533" y="169"/>
                  </a:lnTo>
                  <a:lnTo>
                    <a:pt x="310" y="0"/>
                  </a:lnTo>
                  <a:lnTo>
                    <a:pt x="68" y="15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866360" y="3460680"/>
              <a:ext cx="172800" cy="162000"/>
            </a:xfrm>
            <a:custGeom>
              <a:avLst/>
              <a:gdLst/>
              <a:ahLst/>
              <a:rect l="l" t="t" r="r" b="b"/>
              <a:pathLst>
                <a:path w="2826" h="2641">
                  <a:moveTo>
                    <a:pt x="0" y="407"/>
                  </a:moveTo>
                  <a:lnTo>
                    <a:pt x="192" y="323"/>
                  </a:lnTo>
                  <a:lnTo>
                    <a:pt x="443" y="615"/>
                  </a:lnTo>
                  <a:lnTo>
                    <a:pt x="1337" y="1209"/>
                  </a:lnTo>
                  <a:lnTo>
                    <a:pt x="1416" y="1324"/>
                  </a:lnTo>
                  <a:lnTo>
                    <a:pt x="734" y="1278"/>
                  </a:lnTo>
                  <a:lnTo>
                    <a:pt x="222" y="1278"/>
                  </a:lnTo>
                  <a:lnTo>
                    <a:pt x="295" y="1704"/>
                  </a:lnTo>
                  <a:lnTo>
                    <a:pt x="1182" y="1844"/>
                  </a:lnTo>
                  <a:lnTo>
                    <a:pt x="1607" y="1858"/>
                  </a:lnTo>
                  <a:lnTo>
                    <a:pt x="2055" y="2285"/>
                  </a:lnTo>
                  <a:lnTo>
                    <a:pt x="2297" y="2641"/>
                  </a:lnTo>
                  <a:lnTo>
                    <a:pt x="2445" y="2641"/>
                  </a:lnTo>
                  <a:lnTo>
                    <a:pt x="2826" y="2389"/>
                  </a:lnTo>
                  <a:lnTo>
                    <a:pt x="2297" y="2435"/>
                  </a:lnTo>
                  <a:lnTo>
                    <a:pt x="2174" y="2419"/>
                  </a:lnTo>
                  <a:lnTo>
                    <a:pt x="1987" y="1992"/>
                  </a:lnTo>
                  <a:lnTo>
                    <a:pt x="1762" y="1674"/>
                  </a:lnTo>
                  <a:lnTo>
                    <a:pt x="1643" y="1379"/>
                  </a:lnTo>
                  <a:lnTo>
                    <a:pt x="1505" y="1229"/>
                  </a:lnTo>
                  <a:lnTo>
                    <a:pt x="1218" y="987"/>
                  </a:lnTo>
                  <a:lnTo>
                    <a:pt x="734" y="576"/>
                  </a:lnTo>
                  <a:lnTo>
                    <a:pt x="566" y="341"/>
                  </a:lnTo>
                  <a:lnTo>
                    <a:pt x="309" y="0"/>
                  </a:lnTo>
                  <a:lnTo>
                    <a:pt x="50" y="238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842240" y="3295440"/>
              <a:ext cx="55800" cy="155880"/>
            </a:xfrm>
            <a:custGeom>
              <a:avLst/>
              <a:gdLst/>
              <a:ahLst/>
              <a:rect l="l" t="t" r="r" b="b"/>
              <a:pathLst>
                <a:path w="923" h="2543">
                  <a:moveTo>
                    <a:pt x="342" y="802"/>
                  </a:moveTo>
                  <a:lnTo>
                    <a:pt x="441" y="1301"/>
                  </a:lnTo>
                  <a:lnTo>
                    <a:pt x="599" y="1555"/>
                  </a:lnTo>
                  <a:lnTo>
                    <a:pt x="545" y="1774"/>
                  </a:lnTo>
                  <a:lnTo>
                    <a:pt x="648" y="2100"/>
                  </a:lnTo>
                  <a:lnTo>
                    <a:pt x="923" y="2427"/>
                  </a:lnTo>
                  <a:lnTo>
                    <a:pt x="630" y="2543"/>
                  </a:lnTo>
                  <a:lnTo>
                    <a:pt x="460" y="2438"/>
                  </a:lnTo>
                  <a:lnTo>
                    <a:pt x="356" y="2047"/>
                  </a:lnTo>
                  <a:lnTo>
                    <a:pt x="356" y="1809"/>
                  </a:lnTo>
                  <a:lnTo>
                    <a:pt x="267" y="1604"/>
                  </a:lnTo>
                  <a:lnTo>
                    <a:pt x="288" y="1317"/>
                  </a:lnTo>
                  <a:lnTo>
                    <a:pt x="150" y="1044"/>
                  </a:lnTo>
                  <a:lnTo>
                    <a:pt x="0" y="0"/>
                  </a:lnTo>
                  <a:lnTo>
                    <a:pt x="342" y="80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824960" y="3228840"/>
              <a:ext cx="111240" cy="212760"/>
            </a:xfrm>
            <a:custGeom>
              <a:avLst/>
              <a:gdLst/>
              <a:ahLst/>
              <a:rect l="l" t="t" r="r" b="b"/>
              <a:pathLst>
                <a:path w="1814" h="3473">
                  <a:moveTo>
                    <a:pt x="0" y="496"/>
                  </a:moveTo>
                  <a:lnTo>
                    <a:pt x="251" y="233"/>
                  </a:lnTo>
                  <a:lnTo>
                    <a:pt x="220" y="611"/>
                  </a:lnTo>
                  <a:lnTo>
                    <a:pt x="532" y="233"/>
                  </a:lnTo>
                  <a:lnTo>
                    <a:pt x="583" y="950"/>
                  </a:lnTo>
                  <a:lnTo>
                    <a:pt x="356" y="767"/>
                  </a:lnTo>
                  <a:lnTo>
                    <a:pt x="133" y="779"/>
                  </a:lnTo>
                  <a:lnTo>
                    <a:pt x="305" y="1412"/>
                  </a:lnTo>
                  <a:lnTo>
                    <a:pt x="631" y="2011"/>
                  </a:lnTo>
                  <a:lnTo>
                    <a:pt x="939" y="2348"/>
                  </a:lnTo>
                  <a:lnTo>
                    <a:pt x="1267" y="2641"/>
                  </a:lnTo>
                  <a:lnTo>
                    <a:pt x="1279" y="2947"/>
                  </a:lnTo>
                  <a:lnTo>
                    <a:pt x="1472" y="2998"/>
                  </a:lnTo>
                  <a:lnTo>
                    <a:pt x="1489" y="3267"/>
                  </a:lnTo>
                  <a:lnTo>
                    <a:pt x="1742" y="3473"/>
                  </a:lnTo>
                  <a:lnTo>
                    <a:pt x="1814" y="3473"/>
                  </a:lnTo>
                  <a:lnTo>
                    <a:pt x="1609" y="3202"/>
                  </a:lnTo>
                  <a:lnTo>
                    <a:pt x="1557" y="2794"/>
                  </a:lnTo>
                  <a:lnTo>
                    <a:pt x="1506" y="2333"/>
                  </a:lnTo>
                  <a:lnTo>
                    <a:pt x="1198" y="1343"/>
                  </a:lnTo>
                  <a:lnTo>
                    <a:pt x="1279" y="2062"/>
                  </a:lnTo>
                  <a:lnTo>
                    <a:pt x="961" y="1497"/>
                  </a:lnTo>
                  <a:lnTo>
                    <a:pt x="682" y="1056"/>
                  </a:lnTo>
                  <a:lnTo>
                    <a:pt x="716" y="577"/>
                  </a:lnTo>
                  <a:lnTo>
                    <a:pt x="820" y="1040"/>
                  </a:lnTo>
                  <a:lnTo>
                    <a:pt x="1095" y="1378"/>
                  </a:lnTo>
                  <a:lnTo>
                    <a:pt x="874" y="180"/>
                  </a:lnTo>
                  <a:lnTo>
                    <a:pt x="666" y="10"/>
                  </a:lnTo>
                  <a:lnTo>
                    <a:pt x="394" y="0"/>
                  </a:lnTo>
                  <a:lnTo>
                    <a:pt x="14" y="320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043840" y="3286080"/>
              <a:ext cx="55800" cy="149040"/>
            </a:xfrm>
            <a:custGeom>
              <a:avLst/>
              <a:gdLst/>
              <a:ahLst/>
              <a:rect l="l" t="t" r="r" b="b"/>
              <a:pathLst>
                <a:path w="891" h="2440">
                  <a:moveTo>
                    <a:pt x="0" y="1432"/>
                  </a:moveTo>
                  <a:lnTo>
                    <a:pt x="189" y="991"/>
                  </a:lnTo>
                  <a:lnTo>
                    <a:pt x="460" y="0"/>
                  </a:lnTo>
                  <a:lnTo>
                    <a:pt x="395" y="715"/>
                  </a:lnTo>
                  <a:lnTo>
                    <a:pt x="257" y="1432"/>
                  </a:lnTo>
                  <a:lnTo>
                    <a:pt x="312" y="1961"/>
                  </a:lnTo>
                  <a:lnTo>
                    <a:pt x="648" y="1979"/>
                  </a:lnTo>
                  <a:lnTo>
                    <a:pt x="891" y="2440"/>
                  </a:lnTo>
                  <a:lnTo>
                    <a:pt x="446" y="2351"/>
                  </a:lnTo>
                  <a:lnTo>
                    <a:pt x="223" y="2440"/>
                  </a:lnTo>
                  <a:lnTo>
                    <a:pt x="70" y="1863"/>
                  </a:lnTo>
                  <a:lnTo>
                    <a:pt x="21" y="1590"/>
                  </a:lnTo>
                  <a:lnTo>
                    <a:pt x="0" y="143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864560" y="3211560"/>
              <a:ext cx="185760" cy="253800"/>
            </a:xfrm>
            <a:custGeom>
              <a:avLst/>
              <a:gdLst/>
              <a:ahLst/>
              <a:rect l="l" t="t" r="r" b="b"/>
              <a:pathLst>
                <a:path w="3067" h="4158">
                  <a:moveTo>
                    <a:pt x="2311" y="3291"/>
                  </a:moveTo>
                  <a:lnTo>
                    <a:pt x="2007" y="3053"/>
                  </a:lnTo>
                  <a:lnTo>
                    <a:pt x="2311" y="2983"/>
                  </a:lnTo>
                  <a:lnTo>
                    <a:pt x="1523" y="1756"/>
                  </a:lnTo>
                  <a:lnTo>
                    <a:pt x="703" y="170"/>
                  </a:lnTo>
                  <a:lnTo>
                    <a:pt x="308" y="273"/>
                  </a:lnTo>
                  <a:lnTo>
                    <a:pt x="0" y="303"/>
                  </a:lnTo>
                  <a:lnTo>
                    <a:pt x="411" y="152"/>
                  </a:lnTo>
                  <a:lnTo>
                    <a:pt x="792" y="0"/>
                  </a:lnTo>
                  <a:lnTo>
                    <a:pt x="1695" y="1687"/>
                  </a:lnTo>
                  <a:lnTo>
                    <a:pt x="2419" y="2830"/>
                  </a:lnTo>
                  <a:lnTo>
                    <a:pt x="2861" y="3479"/>
                  </a:lnTo>
                  <a:lnTo>
                    <a:pt x="3067" y="3560"/>
                  </a:lnTo>
                  <a:lnTo>
                    <a:pt x="2880" y="3632"/>
                  </a:lnTo>
                  <a:lnTo>
                    <a:pt x="2672" y="3940"/>
                  </a:lnTo>
                  <a:lnTo>
                    <a:pt x="1387" y="3922"/>
                  </a:lnTo>
                  <a:lnTo>
                    <a:pt x="1451" y="4158"/>
                  </a:lnTo>
                  <a:lnTo>
                    <a:pt x="1132" y="3806"/>
                  </a:lnTo>
                  <a:lnTo>
                    <a:pt x="1183" y="3766"/>
                  </a:lnTo>
                  <a:lnTo>
                    <a:pt x="1043" y="3560"/>
                  </a:lnTo>
                  <a:lnTo>
                    <a:pt x="1061" y="3380"/>
                  </a:lnTo>
                  <a:lnTo>
                    <a:pt x="1318" y="3346"/>
                  </a:lnTo>
                  <a:lnTo>
                    <a:pt x="1508" y="3598"/>
                  </a:lnTo>
                  <a:lnTo>
                    <a:pt x="2075" y="3445"/>
                  </a:lnTo>
                  <a:lnTo>
                    <a:pt x="2311" y="3291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926480" y="3087720"/>
              <a:ext cx="92160" cy="190440"/>
            </a:xfrm>
            <a:custGeom>
              <a:avLst/>
              <a:gdLst/>
              <a:ahLst/>
              <a:rect l="l" t="t" r="r" b="b"/>
              <a:pathLst>
                <a:path w="1491" h="3125">
                  <a:moveTo>
                    <a:pt x="1408" y="176"/>
                  </a:moveTo>
                  <a:lnTo>
                    <a:pt x="1491" y="896"/>
                  </a:lnTo>
                  <a:lnTo>
                    <a:pt x="1469" y="1364"/>
                  </a:lnTo>
                  <a:lnTo>
                    <a:pt x="1117" y="1756"/>
                  </a:lnTo>
                  <a:lnTo>
                    <a:pt x="1123" y="1978"/>
                  </a:lnTo>
                  <a:lnTo>
                    <a:pt x="1062" y="2193"/>
                  </a:lnTo>
                  <a:lnTo>
                    <a:pt x="1085" y="2627"/>
                  </a:lnTo>
                  <a:lnTo>
                    <a:pt x="1036" y="3125"/>
                  </a:lnTo>
                  <a:lnTo>
                    <a:pt x="737" y="2733"/>
                  </a:lnTo>
                  <a:lnTo>
                    <a:pt x="388" y="2236"/>
                  </a:lnTo>
                  <a:lnTo>
                    <a:pt x="81" y="1786"/>
                  </a:lnTo>
                  <a:lnTo>
                    <a:pt x="0" y="1206"/>
                  </a:lnTo>
                  <a:lnTo>
                    <a:pt x="0" y="674"/>
                  </a:lnTo>
                  <a:lnTo>
                    <a:pt x="242" y="13"/>
                  </a:lnTo>
                  <a:lnTo>
                    <a:pt x="977" y="0"/>
                  </a:lnTo>
                  <a:lnTo>
                    <a:pt x="1408" y="176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975800" y="3230640"/>
              <a:ext cx="6120" cy="61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27" y="0"/>
                  </a:moveTo>
                  <a:lnTo>
                    <a:pt x="81" y="42"/>
                  </a:lnTo>
                  <a:lnTo>
                    <a:pt x="57" y="103"/>
                  </a:lnTo>
                  <a:lnTo>
                    <a:pt x="21" y="103"/>
                  </a:lnTo>
                  <a:lnTo>
                    <a:pt x="0" y="85"/>
                  </a:lnTo>
                  <a:lnTo>
                    <a:pt x="0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904160" y="3051000"/>
              <a:ext cx="125640" cy="130320"/>
            </a:xfrm>
            <a:custGeom>
              <a:avLst/>
              <a:gdLst/>
              <a:ahLst/>
              <a:rect l="l" t="t" r="r" b="b"/>
              <a:pathLst>
                <a:path w="2054" h="2141">
                  <a:moveTo>
                    <a:pt x="574" y="804"/>
                  </a:moveTo>
                  <a:lnTo>
                    <a:pt x="1106" y="804"/>
                  </a:lnTo>
                  <a:lnTo>
                    <a:pt x="1179" y="739"/>
                  </a:lnTo>
                  <a:lnTo>
                    <a:pt x="1222" y="792"/>
                  </a:lnTo>
                  <a:lnTo>
                    <a:pt x="1300" y="709"/>
                  </a:lnTo>
                  <a:lnTo>
                    <a:pt x="1295" y="586"/>
                  </a:lnTo>
                  <a:lnTo>
                    <a:pt x="1497" y="769"/>
                  </a:lnTo>
                  <a:lnTo>
                    <a:pt x="1754" y="834"/>
                  </a:lnTo>
                  <a:lnTo>
                    <a:pt x="1793" y="968"/>
                  </a:lnTo>
                  <a:lnTo>
                    <a:pt x="1805" y="1237"/>
                  </a:lnTo>
                  <a:lnTo>
                    <a:pt x="1904" y="1611"/>
                  </a:lnTo>
                  <a:lnTo>
                    <a:pt x="2054" y="1311"/>
                  </a:lnTo>
                  <a:lnTo>
                    <a:pt x="2054" y="1018"/>
                  </a:lnTo>
                  <a:lnTo>
                    <a:pt x="1969" y="811"/>
                  </a:lnTo>
                  <a:lnTo>
                    <a:pt x="1843" y="668"/>
                  </a:lnTo>
                  <a:lnTo>
                    <a:pt x="1742" y="387"/>
                  </a:lnTo>
                  <a:lnTo>
                    <a:pt x="1659" y="251"/>
                  </a:lnTo>
                  <a:lnTo>
                    <a:pt x="1556" y="166"/>
                  </a:lnTo>
                  <a:lnTo>
                    <a:pt x="1072" y="0"/>
                  </a:lnTo>
                  <a:lnTo>
                    <a:pt x="707" y="108"/>
                  </a:lnTo>
                  <a:lnTo>
                    <a:pt x="564" y="346"/>
                  </a:lnTo>
                  <a:lnTo>
                    <a:pt x="361" y="410"/>
                  </a:lnTo>
                  <a:lnTo>
                    <a:pt x="313" y="520"/>
                  </a:lnTo>
                  <a:lnTo>
                    <a:pt x="185" y="634"/>
                  </a:lnTo>
                  <a:lnTo>
                    <a:pt x="17" y="915"/>
                  </a:lnTo>
                  <a:lnTo>
                    <a:pt x="0" y="1291"/>
                  </a:lnTo>
                  <a:lnTo>
                    <a:pt x="83" y="1392"/>
                  </a:lnTo>
                  <a:lnTo>
                    <a:pt x="70" y="1518"/>
                  </a:lnTo>
                  <a:lnTo>
                    <a:pt x="9" y="1632"/>
                  </a:lnTo>
                  <a:lnTo>
                    <a:pt x="30" y="1859"/>
                  </a:lnTo>
                  <a:lnTo>
                    <a:pt x="168" y="2082"/>
                  </a:lnTo>
                  <a:lnTo>
                    <a:pt x="393" y="2141"/>
                  </a:lnTo>
                  <a:lnTo>
                    <a:pt x="495" y="1932"/>
                  </a:lnTo>
                  <a:lnTo>
                    <a:pt x="507" y="1797"/>
                  </a:lnTo>
                  <a:lnTo>
                    <a:pt x="418" y="1583"/>
                  </a:lnTo>
                  <a:lnTo>
                    <a:pt x="393" y="1291"/>
                  </a:lnTo>
                  <a:lnTo>
                    <a:pt x="535" y="933"/>
                  </a:lnTo>
                  <a:lnTo>
                    <a:pt x="574" y="804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929720" y="3163680"/>
              <a:ext cx="7920" cy="12960"/>
            </a:xfrm>
            <a:custGeom>
              <a:avLst/>
              <a:gdLst/>
              <a:ahLst/>
              <a:rect l="l" t="t" r="r" b="b"/>
              <a:pathLst>
                <a:path w="115" h="197">
                  <a:moveTo>
                    <a:pt x="30" y="0"/>
                  </a:moveTo>
                  <a:lnTo>
                    <a:pt x="95" y="21"/>
                  </a:lnTo>
                  <a:lnTo>
                    <a:pt x="115" y="116"/>
                  </a:lnTo>
                  <a:lnTo>
                    <a:pt x="110" y="184"/>
                  </a:lnTo>
                  <a:lnTo>
                    <a:pt x="42" y="197"/>
                  </a:lnTo>
                  <a:lnTo>
                    <a:pt x="0" y="134"/>
                  </a:lnTo>
                  <a:lnTo>
                    <a:pt x="0" y="3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963200" y="3160800"/>
              <a:ext cx="29880" cy="6120"/>
            </a:xfrm>
            <a:custGeom>
              <a:avLst/>
              <a:gdLst/>
              <a:ahLst/>
              <a:rect l="l" t="t" r="r" b="b"/>
              <a:pathLst>
                <a:path w="490" h="105">
                  <a:moveTo>
                    <a:pt x="490" y="12"/>
                  </a:moveTo>
                  <a:lnTo>
                    <a:pt x="441" y="62"/>
                  </a:lnTo>
                  <a:lnTo>
                    <a:pt x="210" y="105"/>
                  </a:lnTo>
                  <a:lnTo>
                    <a:pt x="85" y="75"/>
                  </a:lnTo>
                  <a:lnTo>
                    <a:pt x="0" y="43"/>
                  </a:lnTo>
                  <a:lnTo>
                    <a:pt x="69" y="12"/>
                  </a:lnTo>
                  <a:lnTo>
                    <a:pt x="364" y="0"/>
                  </a:lnTo>
                  <a:lnTo>
                    <a:pt x="49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175600" y="3517920"/>
              <a:ext cx="55800" cy="73080"/>
            </a:xfrm>
            <a:custGeom>
              <a:avLst/>
              <a:gdLst/>
              <a:ahLst/>
              <a:rect l="l" t="t" r="r" b="b"/>
              <a:pathLst>
                <a:path w="894" h="1185">
                  <a:moveTo>
                    <a:pt x="200" y="0"/>
                  </a:moveTo>
                  <a:lnTo>
                    <a:pt x="0" y="890"/>
                  </a:lnTo>
                  <a:lnTo>
                    <a:pt x="166" y="1185"/>
                  </a:lnTo>
                  <a:lnTo>
                    <a:pt x="396" y="1151"/>
                  </a:lnTo>
                  <a:lnTo>
                    <a:pt x="659" y="1086"/>
                  </a:lnTo>
                  <a:lnTo>
                    <a:pt x="825" y="987"/>
                  </a:lnTo>
                  <a:lnTo>
                    <a:pt x="894" y="920"/>
                  </a:lnTo>
                  <a:lnTo>
                    <a:pt x="894" y="595"/>
                  </a:lnTo>
                  <a:lnTo>
                    <a:pt x="860" y="199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094960" y="2992320"/>
              <a:ext cx="107640" cy="135000"/>
            </a:xfrm>
            <a:custGeom>
              <a:avLst/>
              <a:gdLst/>
              <a:ahLst/>
              <a:rect l="l" t="t" r="r" b="b"/>
              <a:pathLst>
                <a:path w="1773" h="2215">
                  <a:moveTo>
                    <a:pt x="322" y="73"/>
                  </a:moveTo>
                  <a:lnTo>
                    <a:pt x="118" y="295"/>
                  </a:lnTo>
                  <a:lnTo>
                    <a:pt x="36" y="874"/>
                  </a:lnTo>
                  <a:lnTo>
                    <a:pt x="0" y="1207"/>
                  </a:lnTo>
                  <a:lnTo>
                    <a:pt x="45" y="1462"/>
                  </a:lnTo>
                  <a:lnTo>
                    <a:pt x="183" y="1758"/>
                  </a:lnTo>
                  <a:lnTo>
                    <a:pt x="371" y="2026"/>
                  </a:lnTo>
                  <a:lnTo>
                    <a:pt x="503" y="2156"/>
                  </a:lnTo>
                  <a:lnTo>
                    <a:pt x="662" y="2215"/>
                  </a:lnTo>
                  <a:lnTo>
                    <a:pt x="818" y="2194"/>
                  </a:lnTo>
                  <a:lnTo>
                    <a:pt x="1070" y="2077"/>
                  </a:lnTo>
                  <a:lnTo>
                    <a:pt x="1206" y="1968"/>
                  </a:lnTo>
                  <a:lnTo>
                    <a:pt x="1296" y="1861"/>
                  </a:lnTo>
                  <a:lnTo>
                    <a:pt x="1367" y="1731"/>
                  </a:lnTo>
                  <a:lnTo>
                    <a:pt x="1410" y="1629"/>
                  </a:lnTo>
                  <a:lnTo>
                    <a:pt x="1472" y="1389"/>
                  </a:lnTo>
                  <a:lnTo>
                    <a:pt x="1601" y="1453"/>
                  </a:lnTo>
                  <a:lnTo>
                    <a:pt x="1709" y="1330"/>
                  </a:lnTo>
                  <a:lnTo>
                    <a:pt x="1747" y="1207"/>
                  </a:lnTo>
                  <a:lnTo>
                    <a:pt x="1773" y="1035"/>
                  </a:lnTo>
                  <a:lnTo>
                    <a:pt x="1756" y="954"/>
                  </a:lnTo>
                  <a:lnTo>
                    <a:pt x="1679" y="920"/>
                  </a:lnTo>
                  <a:lnTo>
                    <a:pt x="1588" y="904"/>
                  </a:lnTo>
                  <a:lnTo>
                    <a:pt x="1336" y="437"/>
                  </a:lnTo>
                  <a:lnTo>
                    <a:pt x="1027" y="48"/>
                  </a:lnTo>
                  <a:lnTo>
                    <a:pt x="628" y="0"/>
                  </a:lnTo>
                  <a:lnTo>
                    <a:pt x="322" y="73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118720" y="3089160"/>
              <a:ext cx="33120" cy="6480"/>
            </a:xfrm>
            <a:custGeom>
              <a:avLst/>
              <a:gdLst/>
              <a:ahLst/>
              <a:rect l="l" t="t" r="r" b="b"/>
              <a:pathLst>
                <a:path w="545" h="110">
                  <a:moveTo>
                    <a:pt x="0" y="46"/>
                  </a:moveTo>
                  <a:lnTo>
                    <a:pt x="194" y="110"/>
                  </a:lnTo>
                  <a:lnTo>
                    <a:pt x="349" y="95"/>
                  </a:lnTo>
                  <a:lnTo>
                    <a:pt x="545" y="38"/>
                  </a:lnTo>
                  <a:lnTo>
                    <a:pt x="472" y="0"/>
                  </a:lnTo>
                  <a:lnTo>
                    <a:pt x="306" y="6"/>
                  </a:lnTo>
                  <a:lnTo>
                    <a:pt x="188" y="0"/>
                  </a:lnTo>
                  <a:lnTo>
                    <a:pt x="31" y="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124840" y="3048120"/>
              <a:ext cx="7920" cy="23760"/>
            </a:xfrm>
            <a:custGeom>
              <a:avLst/>
              <a:gdLst/>
              <a:ahLst/>
              <a:rect l="l" t="t" r="r" b="b"/>
              <a:pathLst>
                <a:path w="136" h="402">
                  <a:moveTo>
                    <a:pt x="106" y="0"/>
                  </a:moveTo>
                  <a:lnTo>
                    <a:pt x="60" y="180"/>
                  </a:lnTo>
                  <a:lnTo>
                    <a:pt x="0" y="326"/>
                  </a:lnTo>
                  <a:lnTo>
                    <a:pt x="41" y="402"/>
                  </a:lnTo>
                  <a:lnTo>
                    <a:pt x="106" y="398"/>
                  </a:lnTo>
                  <a:lnTo>
                    <a:pt x="128" y="326"/>
                  </a:lnTo>
                  <a:lnTo>
                    <a:pt x="111" y="205"/>
                  </a:lnTo>
                  <a:lnTo>
                    <a:pt x="13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105760" y="3003480"/>
              <a:ext cx="22320" cy="33480"/>
            </a:xfrm>
            <a:custGeom>
              <a:avLst/>
              <a:gdLst/>
              <a:ahLst/>
              <a:rect l="l" t="t" r="r" b="b"/>
              <a:pathLst>
                <a:path w="356" h="532">
                  <a:moveTo>
                    <a:pt x="356" y="0"/>
                  </a:moveTo>
                  <a:lnTo>
                    <a:pt x="154" y="83"/>
                  </a:lnTo>
                  <a:lnTo>
                    <a:pt x="59" y="223"/>
                  </a:lnTo>
                  <a:lnTo>
                    <a:pt x="28" y="427"/>
                  </a:lnTo>
                  <a:lnTo>
                    <a:pt x="0" y="532"/>
                  </a:lnTo>
                  <a:lnTo>
                    <a:pt x="146" y="445"/>
                  </a:lnTo>
                  <a:lnTo>
                    <a:pt x="333" y="386"/>
                  </a:lnTo>
                  <a:lnTo>
                    <a:pt x="196" y="338"/>
                  </a:lnTo>
                  <a:lnTo>
                    <a:pt x="204" y="198"/>
                  </a:lnTo>
                  <a:lnTo>
                    <a:pt x="275" y="83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107560" y="3041640"/>
              <a:ext cx="7920" cy="468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115" y="0"/>
                  </a:moveTo>
                  <a:lnTo>
                    <a:pt x="10" y="26"/>
                  </a:lnTo>
                  <a:lnTo>
                    <a:pt x="0" y="83"/>
                  </a:lnTo>
                  <a:lnTo>
                    <a:pt x="51" y="57"/>
                  </a:lnTo>
                  <a:lnTo>
                    <a:pt x="146" y="3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142480" y="3039840"/>
              <a:ext cx="9360" cy="1800"/>
            </a:xfrm>
            <a:custGeom>
              <a:avLst/>
              <a:gdLst/>
              <a:ahLst/>
              <a:rect l="l" t="t" r="r" b="b"/>
              <a:pathLst>
                <a:path w="156" h="43">
                  <a:moveTo>
                    <a:pt x="25" y="0"/>
                  </a:moveTo>
                  <a:lnTo>
                    <a:pt x="0" y="36"/>
                  </a:lnTo>
                  <a:lnTo>
                    <a:pt x="74" y="43"/>
                  </a:lnTo>
                  <a:lnTo>
                    <a:pt x="156" y="43"/>
                  </a:lnTo>
                  <a:lnTo>
                    <a:pt x="1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101080" y="3060720"/>
              <a:ext cx="17640" cy="205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277" y="0"/>
                  </a:moveTo>
                  <a:lnTo>
                    <a:pt x="157" y="82"/>
                  </a:lnTo>
                  <a:lnTo>
                    <a:pt x="16" y="91"/>
                  </a:lnTo>
                  <a:lnTo>
                    <a:pt x="0" y="237"/>
                  </a:lnTo>
                  <a:lnTo>
                    <a:pt x="115" y="339"/>
                  </a:lnTo>
                  <a:lnTo>
                    <a:pt x="196" y="231"/>
                  </a:lnTo>
                  <a:lnTo>
                    <a:pt x="291" y="35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43920" y="3062160"/>
              <a:ext cx="28800" cy="15840"/>
            </a:xfrm>
            <a:custGeom>
              <a:avLst/>
              <a:gdLst/>
              <a:ahLst/>
              <a:rect l="l" t="t" r="r" b="b"/>
              <a:pathLst>
                <a:path w="472" h="284">
                  <a:moveTo>
                    <a:pt x="51" y="73"/>
                  </a:moveTo>
                  <a:lnTo>
                    <a:pt x="185" y="225"/>
                  </a:lnTo>
                  <a:lnTo>
                    <a:pt x="304" y="284"/>
                  </a:lnTo>
                  <a:lnTo>
                    <a:pt x="399" y="245"/>
                  </a:lnTo>
                  <a:lnTo>
                    <a:pt x="472" y="73"/>
                  </a:lnTo>
                  <a:lnTo>
                    <a:pt x="291" y="90"/>
                  </a:lnTo>
                  <a:lnTo>
                    <a:pt x="130" y="39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51" y="7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126640" y="3103560"/>
              <a:ext cx="19080" cy="9360"/>
            </a:xfrm>
            <a:custGeom>
              <a:avLst/>
              <a:gdLst/>
              <a:ahLst/>
              <a:rect l="l" t="t" r="r" b="b"/>
              <a:pathLst>
                <a:path w="331" h="154">
                  <a:moveTo>
                    <a:pt x="0" y="83"/>
                  </a:moveTo>
                  <a:lnTo>
                    <a:pt x="79" y="154"/>
                  </a:lnTo>
                  <a:lnTo>
                    <a:pt x="257" y="112"/>
                  </a:lnTo>
                  <a:lnTo>
                    <a:pt x="331" y="97"/>
                  </a:lnTo>
                  <a:lnTo>
                    <a:pt x="259" y="17"/>
                  </a:lnTo>
                  <a:lnTo>
                    <a:pt x="129" y="0"/>
                  </a:lnTo>
                  <a:lnTo>
                    <a:pt x="40" y="25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188560" y="3051000"/>
              <a:ext cx="11160" cy="6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85" y="0"/>
                  </a:moveTo>
                  <a:lnTo>
                    <a:pt x="26" y="37"/>
                  </a:lnTo>
                  <a:lnTo>
                    <a:pt x="0" y="123"/>
                  </a:lnTo>
                  <a:lnTo>
                    <a:pt x="164" y="3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8107560" y="3046320"/>
              <a:ext cx="17280" cy="6480"/>
            </a:xfrm>
            <a:custGeom>
              <a:avLst/>
              <a:gdLst/>
              <a:ahLst/>
              <a:rect l="l" t="t" r="r" b="b"/>
              <a:pathLst>
                <a:path w="295" h="107">
                  <a:moveTo>
                    <a:pt x="57" y="10"/>
                  </a:moveTo>
                  <a:lnTo>
                    <a:pt x="0" y="57"/>
                  </a:lnTo>
                  <a:lnTo>
                    <a:pt x="10" y="91"/>
                  </a:lnTo>
                  <a:lnTo>
                    <a:pt x="123" y="107"/>
                  </a:lnTo>
                  <a:lnTo>
                    <a:pt x="244" y="72"/>
                  </a:lnTo>
                  <a:lnTo>
                    <a:pt x="295" y="72"/>
                  </a:lnTo>
                  <a:lnTo>
                    <a:pt x="227" y="10"/>
                  </a:lnTo>
                  <a:lnTo>
                    <a:pt x="13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142480" y="3044880"/>
              <a:ext cx="20520" cy="7920"/>
            </a:xfrm>
            <a:custGeom>
              <a:avLst/>
              <a:gdLst/>
              <a:ahLst/>
              <a:rect l="l" t="t" r="r" b="b"/>
              <a:pathLst>
                <a:path w="323" h="131">
                  <a:moveTo>
                    <a:pt x="74" y="0"/>
                  </a:moveTo>
                  <a:lnTo>
                    <a:pt x="0" y="89"/>
                  </a:lnTo>
                  <a:lnTo>
                    <a:pt x="66" y="123"/>
                  </a:lnTo>
                  <a:lnTo>
                    <a:pt x="177" y="131"/>
                  </a:lnTo>
                  <a:lnTo>
                    <a:pt x="308" y="96"/>
                  </a:lnTo>
                  <a:lnTo>
                    <a:pt x="323" y="66"/>
                  </a:lnTo>
                  <a:lnTo>
                    <a:pt x="227" y="1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963200" y="3157560"/>
              <a:ext cx="31680" cy="4680"/>
            </a:xfrm>
            <a:custGeom>
              <a:avLst/>
              <a:gdLst/>
              <a:ahLst/>
              <a:rect l="l" t="t" r="r" b="b"/>
              <a:pathLst>
                <a:path w="515" h="72">
                  <a:moveTo>
                    <a:pt x="0" y="72"/>
                  </a:moveTo>
                  <a:lnTo>
                    <a:pt x="189" y="7"/>
                  </a:lnTo>
                  <a:lnTo>
                    <a:pt x="296" y="0"/>
                  </a:lnTo>
                  <a:lnTo>
                    <a:pt x="425" y="9"/>
                  </a:lnTo>
                  <a:lnTo>
                    <a:pt x="515" y="60"/>
                  </a:lnTo>
                  <a:lnTo>
                    <a:pt x="422" y="60"/>
                  </a:lnTo>
                  <a:lnTo>
                    <a:pt x="155" y="6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963200" y="3163680"/>
              <a:ext cx="31680" cy="6480"/>
            </a:xfrm>
            <a:custGeom>
              <a:avLst/>
              <a:gdLst/>
              <a:ahLst/>
              <a:rect l="l" t="t" r="r" b="b"/>
              <a:pathLst>
                <a:path w="494" h="113">
                  <a:moveTo>
                    <a:pt x="6" y="0"/>
                  </a:moveTo>
                  <a:lnTo>
                    <a:pt x="95" y="22"/>
                  </a:lnTo>
                  <a:lnTo>
                    <a:pt x="180" y="49"/>
                  </a:lnTo>
                  <a:lnTo>
                    <a:pt x="251" y="49"/>
                  </a:lnTo>
                  <a:lnTo>
                    <a:pt x="378" y="37"/>
                  </a:lnTo>
                  <a:lnTo>
                    <a:pt x="450" y="26"/>
                  </a:lnTo>
                  <a:lnTo>
                    <a:pt x="494" y="7"/>
                  </a:lnTo>
                  <a:lnTo>
                    <a:pt x="452" y="71"/>
                  </a:lnTo>
                  <a:lnTo>
                    <a:pt x="372" y="103"/>
                  </a:lnTo>
                  <a:lnTo>
                    <a:pt x="251" y="113"/>
                  </a:lnTo>
                  <a:lnTo>
                    <a:pt x="133" y="99"/>
                  </a:lnTo>
                  <a:lnTo>
                    <a:pt x="46" y="37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50240" y="3112920"/>
              <a:ext cx="22320" cy="5040"/>
            </a:xfrm>
            <a:custGeom>
              <a:avLst/>
              <a:gdLst/>
              <a:ahLst/>
              <a:rect l="l" t="t" r="r" b="b"/>
              <a:pathLst>
                <a:path w="365" h="71">
                  <a:moveTo>
                    <a:pt x="0" y="54"/>
                  </a:moveTo>
                  <a:lnTo>
                    <a:pt x="73" y="0"/>
                  </a:lnTo>
                  <a:lnTo>
                    <a:pt x="138" y="16"/>
                  </a:lnTo>
                  <a:lnTo>
                    <a:pt x="276" y="20"/>
                  </a:lnTo>
                  <a:lnTo>
                    <a:pt x="365" y="60"/>
                  </a:lnTo>
                  <a:lnTo>
                    <a:pt x="310" y="71"/>
                  </a:lnTo>
                  <a:lnTo>
                    <a:pt x="202" y="60"/>
                  </a:lnTo>
                  <a:lnTo>
                    <a:pt x="151" y="28"/>
                  </a:lnTo>
                  <a:lnTo>
                    <a:pt x="73" y="2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989840" y="3114720"/>
              <a:ext cx="19080" cy="468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21" y="57"/>
                  </a:moveTo>
                  <a:lnTo>
                    <a:pt x="114" y="23"/>
                  </a:lnTo>
                  <a:lnTo>
                    <a:pt x="219" y="0"/>
                  </a:lnTo>
                  <a:lnTo>
                    <a:pt x="325" y="55"/>
                  </a:lnTo>
                  <a:lnTo>
                    <a:pt x="223" y="12"/>
                  </a:lnTo>
                  <a:lnTo>
                    <a:pt x="159" y="23"/>
                  </a:lnTo>
                  <a:lnTo>
                    <a:pt x="114" y="77"/>
                  </a:lnTo>
                  <a:lnTo>
                    <a:pt x="0" y="7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952040" y="3120840"/>
              <a:ext cx="17280" cy="5040"/>
            </a:xfrm>
            <a:custGeom>
              <a:avLst/>
              <a:gdLst/>
              <a:ahLst/>
              <a:rect l="l" t="t" r="r" b="b"/>
              <a:pathLst>
                <a:path w="286" h="81">
                  <a:moveTo>
                    <a:pt x="47" y="47"/>
                  </a:moveTo>
                  <a:lnTo>
                    <a:pt x="0" y="40"/>
                  </a:lnTo>
                  <a:lnTo>
                    <a:pt x="23" y="81"/>
                  </a:lnTo>
                  <a:lnTo>
                    <a:pt x="94" y="52"/>
                  </a:lnTo>
                  <a:lnTo>
                    <a:pt x="123" y="81"/>
                  </a:lnTo>
                  <a:lnTo>
                    <a:pt x="146" y="81"/>
                  </a:lnTo>
                  <a:lnTo>
                    <a:pt x="187" y="47"/>
                  </a:lnTo>
                  <a:lnTo>
                    <a:pt x="286" y="47"/>
                  </a:lnTo>
                  <a:lnTo>
                    <a:pt x="178" y="30"/>
                  </a:lnTo>
                  <a:lnTo>
                    <a:pt x="112" y="30"/>
                  </a:lnTo>
                  <a:lnTo>
                    <a:pt x="94" y="15"/>
                  </a:lnTo>
                  <a:lnTo>
                    <a:pt x="128" y="0"/>
                  </a:lnTo>
                  <a:lnTo>
                    <a:pt x="89" y="0"/>
                  </a:lnTo>
                  <a:lnTo>
                    <a:pt x="59" y="34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963200" y="3120840"/>
              <a:ext cx="4680" cy="180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0" y="0"/>
                  </a:moveTo>
                  <a:lnTo>
                    <a:pt x="39" y="23"/>
                  </a:lnTo>
                  <a:lnTo>
                    <a:pt x="57" y="27"/>
                  </a:lnTo>
                  <a:lnTo>
                    <a:pt x="7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991640" y="3122640"/>
              <a:ext cx="17280" cy="4680"/>
            </a:xfrm>
            <a:custGeom>
              <a:avLst/>
              <a:gdLst/>
              <a:ahLst/>
              <a:rect l="l" t="t" r="r" b="b"/>
              <a:pathLst>
                <a:path w="269" h="89">
                  <a:moveTo>
                    <a:pt x="12" y="30"/>
                  </a:moveTo>
                  <a:lnTo>
                    <a:pt x="93" y="0"/>
                  </a:lnTo>
                  <a:lnTo>
                    <a:pt x="171" y="8"/>
                  </a:lnTo>
                  <a:lnTo>
                    <a:pt x="214" y="25"/>
                  </a:lnTo>
                  <a:lnTo>
                    <a:pt x="269" y="8"/>
                  </a:lnTo>
                  <a:lnTo>
                    <a:pt x="245" y="52"/>
                  </a:lnTo>
                  <a:lnTo>
                    <a:pt x="176" y="89"/>
                  </a:lnTo>
                  <a:lnTo>
                    <a:pt x="188" y="59"/>
                  </a:lnTo>
                  <a:lnTo>
                    <a:pt x="161" y="25"/>
                  </a:lnTo>
                  <a:lnTo>
                    <a:pt x="124" y="25"/>
                  </a:lnTo>
                  <a:lnTo>
                    <a:pt x="112" y="42"/>
                  </a:lnTo>
                  <a:lnTo>
                    <a:pt x="124" y="59"/>
                  </a:lnTo>
                  <a:lnTo>
                    <a:pt x="78" y="59"/>
                  </a:lnTo>
                  <a:lnTo>
                    <a:pt x="0" y="65"/>
                  </a:lnTo>
                  <a:lnTo>
                    <a:pt x="55" y="3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983720" y="3120840"/>
              <a:ext cx="6120" cy="28800"/>
            </a:xfrm>
            <a:custGeom>
              <a:avLst/>
              <a:gdLst/>
              <a:ahLst/>
              <a:rect l="l" t="t" r="r" b="b"/>
              <a:pathLst>
                <a:path w="106" h="470">
                  <a:moveTo>
                    <a:pt x="80" y="0"/>
                  </a:moveTo>
                  <a:lnTo>
                    <a:pt x="45" y="74"/>
                  </a:lnTo>
                  <a:lnTo>
                    <a:pt x="36" y="130"/>
                  </a:lnTo>
                  <a:lnTo>
                    <a:pt x="45" y="237"/>
                  </a:lnTo>
                  <a:lnTo>
                    <a:pt x="106" y="391"/>
                  </a:lnTo>
                  <a:lnTo>
                    <a:pt x="0" y="470"/>
                  </a:lnTo>
                  <a:lnTo>
                    <a:pt x="63" y="373"/>
                  </a:lnTo>
                  <a:lnTo>
                    <a:pt x="21" y="254"/>
                  </a:lnTo>
                  <a:lnTo>
                    <a:pt x="0" y="124"/>
                  </a:lnTo>
                  <a:lnTo>
                    <a:pt x="29" y="4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974000" y="3147840"/>
              <a:ext cx="6480" cy="180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89" y="36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1" y="9"/>
                  </a:lnTo>
                  <a:lnTo>
                    <a:pt x="34" y="9"/>
                  </a:lnTo>
                  <a:lnTo>
                    <a:pt x="8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986960" y="3144600"/>
              <a:ext cx="4680" cy="504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6" y="50"/>
                  </a:moveTo>
                  <a:lnTo>
                    <a:pt x="61" y="50"/>
                  </a:lnTo>
                  <a:lnTo>
                    <a:pt x="78" y="34"/>
                  </a:lnTo>
                  <a:lnTo>
                    <a:pt x="61" y="0"/>
                  </a:lnTo>
                  <a:lnTo>
                    <a:pt x="91" y="28"/>
                  </a:lnTo>
                  <a:lnTo>
                    <a:pt x="80" y="77"/>
                  </a:lnTo>
                  <a:lnTo>
                    <a:pt x="0" y="5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12080" y="3085920"/>
              <a:ext cx="30240" cy="76320"/>
            </a:xfrm>
            <a:custGeom>
              <a:avLst/>
              <a:gdLst/>
              <a:ahLst/>
              <a:rect l="l" t="t" r="r" b="b"/>
              <a:pathLst>
                <a:path w="499" h="1232">
                  <a:moveTo>
                    <a:pt x="447" y="107"/>
                  </a:moveTo>
                  <a:lnTo>
                    <a:pt x="499" y="245"/>
                  </a:lnTo>
                  <a:lnTo>
                    <a:pt x="465" y="421"/>
                  </a:lnTo>
                  <a:lnTo>
                    <a:pt x="390" y="584"/>
                  </a:lnTo>
                  <a:lnTo>
                    <a:pt x="291" y="741"/>
                  </a:lnTo>
                  <a:lnTo>
                    <a:pt x="196" y="913"/>
                  </a:lnTo>
                  <a:lnTo>
                    <a:pt x="157" y="1017"/>
                  </a:lnTo>
                  <a:lnTo>
                    <a:pt x="157" y="1129"/>
                  </a:lnTo>
                  <a:lnTo>
                    <a:pt x="196" y="1232"/>
                  </a:lnTo>
                  <a:lnTo>
                    <a:pt x="133" y="1147"/>
                  </a:lnTo>
                  <a:lnTo>
                    <a:pt x="102" y="1009"/>
                  </a:lnTo>
                  <a:lnTo>
                    <a:pt x="127" y="860"/>
                  </a:lnTo>
                  <a:lnTo>
                    <a:pt x="174" y="760"/>
                  </a:lnTo>
                  <a:lnTo>
                    <a:pt x="231" y="656"/>
                  </a:lnTo>
                  <a:lnTo>
                    <a:pt x="308" y="530"/>
                  </a:lnTo>
                  <a:lnTo>
                    <a:pt x="350" y="437"/>
                  </a:lnTo>
                  <a:lnTo>
                    <a:pt x="366" y="385"/>
                  </a:lnTo>
                  <a:lnTo>
                    <a:pt x="366" y="285"/>
                  </a:lnTo>
                  <a:lnTo>
                    <a:pt x="265" y="342"/>
                  </a:lnTo>
                  <a:lnTo>
                    <a:pt x="174" y="402"/>
                  </a:lnTo>
                  <a:lnTo>
                    <a:pt x="59" y="522"/>
                  </a:lnTo>
                  <a:lnTo>
                    <a:pt x="0" y="629"/>
                  </a:lnTo>
                  <a:lnTo>
                    <a:pt x="99" y="445"/>
                  </a:lnTo>
                  <a:lnTo>
                    <a:pt x="200" y="319"/>
                  </a:lnTo>
                  <a:lnTo>
                    <a:pt x="279" y="245"/>
                  </a:lnTo>
                  <a:lnTo>
                    <a:pt x="184" y="266"/>
                  </a:lnTo>
                  <a:lnTo>
                    <a:pt x="93" y="334"/>
                  </a:lnTo>
                  <a:lnTo>
                    <a:pt x="66" y="338"/>
                  </a:lnTo>
                  <a:lnTo>
                    <a:pt x="244" y="162"/>
                  </a:lnTo>
                  <a:lnTo>
                    <a:pt x="338" y="96"/>
                  </a:lnTo>
                  <a:lnTo>
                    <a:pt x="221" y="115"/>
                  </a:lnTo>
                  <a:lnTo>
                    <a:pt x="350" y="18"/>
                  </a:lnTo>
                  <a:lnTo>
                    <a:pt x="410" y="0"/>
                  </a:lnTo>
                  <a:lnTo>
                    <a:pt x="342" y="63"/>
                  </a:lnTo>
                  <a:lnTo>
                    <a:pt x="425" y="69"/>
                  </a:lnTo>
                  <a:lnTo>
                    <a:pt x="447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23240" y="3120840"/>
              <a:ext cx="12960" cy="39960"/>
            </a:xfrm>
            <a:custGeom>
              <a:avLst/>
              <a:gdLst/>
              <a:ahLst/>
              <a:rect l="l" t="t" r="r" b="b"/>
              <a:pathLst>
                <a:path w="210" h="658">
                  <a:moveTo>
                    <a:pt x="210" y="0"/>
                  </a:moveTo>
                  <a:lnTo>
                    <a:pt x="129" y="257"/>
                  </a:lnTo>
                  <a:lnTo>
                    <a:pt x="138" y="397"/>
                  </a:lnTo>
                  <a:lnTo>
                    <a:pt x="156" y="561"/>
                  </a:lnTo>
                  <a:lnTo>
                    <a:pt x="190" y="658"/>
                  </a:lnTo>
                  <a:lnTo>
                    <a:pt x="95" y="504"/>
                  </a:lnTo>
                  <a:lnTo>
                    <a:pt x="79" y="368"/>
                  </a:lnTo>
                  <a:lnTo>
                    <a:pt x="38" y="444"/>
                  </a:lnTo>
                  <a:lnTo>
                    <a:pt x="57" y="542"/>
                  </a:lnTo>
                  <a:lnTo>
                    <a:pt x="95" y="616"/>
                  </a:lnTo>
                  <a:lnTo>
                    <a:pt x="108" y="625"/>
                  </a:lnTo>
                  <a:lnTo>
                    <a:pt x="31" y="524"/>
                  </a:lnTo>
                  <a:lnTo>
                    <a:pt x="8" y="403"/>
                  </a:lnTo>
                  <a:lnTo>
                    <a:pt x="0" y="308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02720" y="3073320"/>
              <a:ext cx="36360" cy="138240"/>
            </a:xfrm>
            <a:custGeom>
              <a:avLst/>
              <a:gdLst/>
              <a:ahLst/>
              <a:rect l="l" t="t" r="r" b="b"/>
              <a:pathLst>
                <a:path w="601" h="2263">
                  <a:moveTo>
                    <a:pt x="363" y="163"/>
                  </a:moveTo>
                  <a:lnTo>
                    <a:pt x="225" y="295"/>
                  </a:lnTo>
                  <a:lnTo>
                    <a:pt x="121" y="449"/>
                  </a:lnTo>
                  <a:lnTo>
                    <a:pt x="66" y="560"/>
                  </a:lnTo>
                  <a:lnTo>
                    <a:pt x="45" y="766"/>
                  </a:lnTo>
                  <a:lnTo>
                    <a:pt x="57" y="855"/>
                  </a:lnTo>
                  <a:lnTo>
                    <a:pt x="45" y="918"/>
                  </a:lnTo>
                  <a:lnTo>
                    <a:pt x="121" y="1009"/>
                  </a:lnTo>
                  <a:lnTo>
                    <a:pt x="130" y="1120"/>
                  </a:lnTo>
                  <a:lnTo>
                    <a:pt x="109" y="1163"/>
                  </a:lnTo>
                  <a:lnTo>
                    <a:pt x="49" y="1256"/>
                  </a:lnTo>
                  <a:lnTo>
                    <a:pt x="49" y="1403"/>
                  </a:lnTo>
                  <a:lnTo>
                    <a:pt x="89" y="1549"/>
                  </a:lnTo>
                  <a:lnTo>
                    <a:pt x="191" y="1672"/>
                  </a:lnTo>
                  <a:lnTo>
                    <a:pt x="263" y="1744"/>
                  </a:lnTo>
                  <a:lnTo>
                    <a:pt x="336" y="1772"/>
                  </a:lnTo>
                  <a:lnTo>
                    <a:pt x="461" y="1650"/>
                  </a:lnTo>
                  <a:lnTo>
                    <a:pt x="444" y="1565"/>
                  </a:lnTo>
                  <a:lnTo>
                    <a:pt x="474" y="1492"/>
                  </a:lnTo>
                  <a:lnTo>
                    <a:pt x="554" y="1504"/>
                  </a:lnTo>
                  <a:lnTo>
                    <a:pt x="478" y="1504"/>
                  </a:lnTo>
                  <a:lnTo>
                    <a:pt x="461" y="1565"/>
                  </a:lnTo>
                  <a:lnTo>
                    <a:pt x="478" y="1646"/>
                  </a:lnTo>
                  <a:lnTo>
                    <a:pt x="537" y="1670"/>
                  </a:lnTo>
                  <a:lnTo>
                    <a:pt x="561" y="1646"/>
                  </a:lnTo>
                  <a:lnTo>
                    <a:pt x="561" y="1565"/>
                  </a:lnTo>
                  <a:lnTo>
                    <a:pt x="573" y="1650"/>
                  </a:lnTo>
                  <a:lnTo>
                    <a:pt x="546" y="1706"/>
                  </a:lnTo>
                  <a:lnTo>
                    <a:pt x="502" y="1731"/>
                  </a:lnTo>
                  <a:lnTo>
                    <a:pt x="567" y="1831"/>
                  </a:lnTo>
                  <a:lnTo>
                    <a:pt x="601" y="1982"/>
                  </a:lnTo>
                  <a:lnTo>
                    <a:pt x="567" y="2073"/>
                  </a:lnTo>
                  <a:lnTo>
                    <a:pt x="478" y="2115"/>
                  </a:lnTo>
                  <a:lnTo>
                    <a:pt x="474" y="2150"/>
                  </a:lnTo>
                  <a:lnTo>
                    <a:pt x="363" y="2245"/>
                  </a:lnTo>
                  <a:lnTo>
                    <a:pt x="151" y="2263"/>
                  </a:lnTo>
                  <a:lnTo>
                    <a:pt x="210" y="2174"/>
                  </a:lnTo>
                  <a:lnTo>
                    <a:pt x="140" y="2134"/>
                  </a:lnTo>
                  <a:lnTo>
                    <a:pt x="235" y="2087"/>
                  </a:lnTo>
                  <a:lnTo>
                    <a:pt x="102" y="2069"/>
                  </a:lnTo>
                  <a:lnTo>
                    <a:pt x="36" y="2010"/>
                  </a:lnTo>
                  <a:lnTo>
                    <a:pt x="0" y="1969"/>
                  </a:lnTo>
                  <a:lnTo>
                    <a:pt x="100" y="2006"/>
                  </a:lnTo>
                  <a:lnTo>
                    <a:pt x="182" y="1992"/>
                  </a:lnTo>
                  <a:lnTo>
                    <a:pt x="291" y="1907"/>
                  </a:lnTo>
                  <a:lnTo>
                    <a:pt x="310" y="1816"/>
                  </a:lnTo>
                  <a:lnTo>
                    <a:pt x="210" y="1753"/>
                  </a:lnTo>
                  <a:lnTo>
                    <a:pt x="109" y="1646"/>
                  </a:lnTo>
                  <a:lnTo>
                    <a:pt x="49" y="1515"/>
                  </a:lnTo>
                  <a:lnTo>
                    <a:pt x="28" y="1369"/>
                  </a:lnTo>
                  <a:lnTo>
                    <a:pt x="36" y="1243"/>
                  </a:lnTo>
                  <a:lnTo>
                    <a:pt x="79" y="1135"/>
                  </a:lnTo>
                  <a:lnTo>
                    <a:pt x="89" y="1052"/>
                  </a:lnTo>
                  <a:lnTo>
                    <a:pt x="64" y="982"/>
                  </a:lnTo>
                  <a:lnTo>
                    <a:pt x="28" y="922"/>
                  </a:lnTo>
                  <a:lnTo>
                    <a:pt x="12" y="843"/>
                  </a:lnTo>
                  <a:lnTo>
                    <a:pt x="28" y="641"/>
                  </a:lnTo>
                  <a:lnTo>
                    <a:pt x="57" y="532"/>
                  </a:lnTo>
                  <a:lnTo>
                    <a:pt x="170" y="337"/>
                  </a:lnTo>
                  <a:lnTo>
                    <a:pt x="269" y="218"/>
                  </a:lnTo>
                  <a:lnTo>
                    <a:pt x="350" y="163"/>
                  </a:lnTo>
                  <a:lnTo>
                    <a:pt x="391" y="72"/>
                  </a:lnTo>
                  <a:lnTo>
                    <a:pt x="461" y="22"/>
                  </a:lnTo>
                  <a:lnTo>
                    <a:pt x="589" y="0"/>
                  </a:lnTo>
                  <a:lnTo>
                    <a:pt x="461" y="46"/>
                  </a:lnTo>
                  <a:lnTo>
                    <a:pt x="401" y="76"/>
                  </a:lnTo>
                  <a:lnTo>
                    <a:pt x="374" y="117"/>
                  </a:lnTo>
                  <a:lnTo>
                    <a:pt x="36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948800" y="3098880"/>
              <a:ext cx="15840" cy="1440"/>
            </a:xfrm>
            <a:custGeom>
              <a:avLst/>
              <a:gdLst/>
              <a:ahLst/>
              <a:rect l="l" t="t" r="r" b="b"/>
              <a:pathLst>
                <a:path w="269" h="38">
                  <a:moveTo>
                    <a:pt x="18" y="27"/>
                  </a:moveTo>
                  <a:lnTo>
                    <a:pt x="81" y="0"/>
                  </a:lnTo>
                  <a:lnTo>
                    <a:pt x="138" y="35"/>
                  </a:lnTo>
                  <a:lnTo>
                    <a:pt x="269" y="38"/>
                  </a:lnTo>
                  <a:lnTo>
                    <a:pt x="0" y="38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39080" y="3049560"/>
              <a:ext cx="88920" cy="58680"/>
            </a:xfrm>
            <a:custGeom>
              <a:avLst/>
              <a:gdLst/>
              <a:ahLst/>
              <a:rect l="l" t="t" r="r" b="b"/>
              <a:pathLst>
                <a:path w="1460" h="962">
                  <a:moveTo>
                    <a:pt x="520" y="828"/>
                  </a:moveTo>
                  <a:lnTo>
                    <a:pt x="583" y="750"/>
                  </a:lnTo>
                  <a:lnTo>
                    <a:pt x="609" y="790"/>
                  </a:lnTo>
                  <a:lnTo>
                    <a:pt x="642" y="715"/>
                  </a:lnTo>
                  <a:lnTo>
                    <a:pt x="690" y="760"/>
                  </a:lnTo>
                  <a:lnTo>
                    <a:pt x="694" y="671"/>
                  </a:lnTo>
                  <a:lnTo>
                    <a:pt x="676" y="571"/>
                  </a:lnTo>
                  <a:lnTo>
                    <a:pt x="609" y="448"/>
                  </a:lnTo>
                  <a:lnTo>
                    <a:pt x="626" y="564"/>
                  </a:lnTo>
                  <a:lnTo>
                    <a:pt x="536" y="448"/>
                  </a:lnTo>
                  <a:lnTo>
                    <a:pt x="541" y="560"/>
                  </a:lnTo>
                  <a:lnTo>
                    <a:pt x="502" y="505"/>
                  </a:lnTo>
                  <a:lnTo>
                    <a:pt x="464" y="475"/>
                  </a:lnTo>
                  <a:lnTo>
                    <a:pt x="437" y="469"/>
                  </a:lnTo>
                  <a:lnTo>
                    <a:pt x="415" y="493"/>
                  </a:lnTo>
                  <a:lnTo>
                    <a:pt x="339" y="469"/>
                  </a:lnTo>
                  <a:lnTo>
                    <a:pt x="261" y="436"/>
                  </a:lnTo>
                  <a:lnTo>
                    <a:pt x="296" y="410"/>
                  </a:lnTo>
                  <a:lnTo>
                    <a:pt x="433" y="422"/>
                  </a:lnTo>
                  <a:lnTo>
                    <a:pt x="263" y="367"/>
                  </a:lnTo>
                  <a:lnTo>
                    <a:pt x="103" y="363"/>
                  </a:lnTo>
                  <a:lnTo>
                    <a:pt x="0" y="363"/>
                  </a:lnTo>
                  <a:lnTo>
                    <a:pt x="4" y="240"/>
                  </a:lnTo>
                  <a:lnTo>
                    <a:pt x="77" y="111"/>
                  </a:lnTo>
                  <a:lnTo>
                    <a:pt x="164" y="48"/>
                  </a:lnTo>
                  <a:lnTo>
                    <a:pt x="275" y="0"/>
                  </a:lnTo>
                  <a:lnTo>
                    <a:pt x="384" y="0"/>
                  </a:lnTo>
                  <a:lnTo>
                    <a:pt x="575" y="30"/>
                  </a:lnTo>
                  <a:lnTo>
                    <a:pt x="700" y="98"/>
                  </a:lnTo>
                  <a:lnTo>
                    <a:pt x="816" y="123"/>
                  </a:lnTo>
                  <a:lnTo>
                    <a:pt x="923" y="172"/>
                  </a:lnTo>
                  <a:lnTo>
                    <a:pt x="991" y="200"/>
                  </a:lnTo>
                  <a:lnTo>
                    <a:pt x="781" y="145"/>
                  </a:lnTo>
                  <a:lnTo>
                    <a:pt x="605" y="79"/>
                  </a:lnTo>
                  <a:lnTo>
                    <a:pt x="479" y="68"/>
                  </a:lnTo>
                  <a:lnTo>
                    <a:pt x="433" y="64"/>
                  </a:lnTo>
                  <a:lnTo>
                    <a:pt x="352" y="102"/>
                  </a:lnTo>
                  <a:lnTo>
                    <a:pt x="310" y="153"/>
                  </a:lnTo>
                  <a:lnTo>
                    <a:pt x="284" y="200"/>
                  </a:lnTo>
                  <a:lnTo>
                    <a:pt x="352" y="153"/>
                  </a:lnTo>
                  <a:lnTo>
                    <a:pt x="437" y="134"/>
                  </a:lnTo>
                  <a:lnTo>
                    <a:pt x="498" y="157"/>
                  </a:lnTo>
                  <a:lnTo>
                    <a:pt x="541" y="176"/>
                  </a:lnTo>
                  <a:lnTo>
                    <a:pt x="636" y="191"/>
                  </a:lnTo>
                  <a:lnTo>
                    <a:pt x="636" y="206"/>
                  </a:lnTo>
                  <a:lnTo>
                    <a:pt x="541" y="206"/>
                  </a:lnTo>
                  <a:lnTo>
                    <a:pt x="451" y="176"/>
                  </a:lnTo>
                  <a:lnTo>
                    <a:pt x="409" y="183"/>
                  </a:lnTo>
                  <a:lnTo>
                    <a:pt x="339" y="257"/>
                  </a:lnTo>
                  <a:lnTo>
                    <a:pt x="328" y="295"/>
                  </a:lnTo>
                  <a:lnTo>
                    <a:pt x="433" y="268"/>
                  </a:lnTo>
                  <a:lnTo>
                    <a:pt x="502" y="295"/>
                  </a:lnTo>
                  <a:lnTo>
                    <a:pt x="609" y="333"/>
                  </a:lnTo>
                  <a:lnTo>
                    <a:pt x="730" y="333"/>
                  </a:lnTo>
                  <a:lnTo>
                    <a:pt x="793" y="342"/>
                  </a:lnTo>
                  <a:lnTo>
                    <a:pt x="816" y="333"/>
                  </a:lnTo>
                  <a:lnTo>
                    <a:pt x="678" y="376"/>
                  </a:lnTo>
                  <a:lnTo>
                    <a:pt x="583" y="367"/>
                  </a:lnTo>
                  <a:lnTo>
                    <a:pt x="490" y="348"/>
                  </a:lnTo>
                  <a:lnTo>
                    <a:pt x="589" y="422"/>
                  </a:lnTo>
                  <a:lnTo>
                    <a:pt x="709" y="482"/>
                  </a:lnTo>
                  <a:lnTo>
                    <a:pt x="800" y="539"/>
                  </a:lnTo>
                  <a:lnTo>
                    <a:pt x="853" y="598"/>
                  </a:lnTo>
                  <a:lnTo>
                    <a:pt x="862" y="661"/>
                  </a:lnTo>
                  <a:lnTo>
                    <a:pt x="887" y="590"/>
                  </a:lnTo>
                  <a:lnTo>
                    <a:pt x="921" y="683"/>
                  </a:lnTo>
                  <a:lnTo>
                    <a:pt x="1000" y="738"/>
                  </a:lnTo>
                  <a:lnTo>
                    <a:pt x="1091" y="760"/>
                  </a:lnTo>
                  <a:lnTo>
                    <a:pt x="1138" y="750"/>
                  </a:lnTo>
                  <a:lnTo>
                    <a:pt x="1073" y="683"/>
                  </a:lnTo>
                  <a:lnTo>
                    <a:pt x="1201" y="697"/>
                  </a:lnTo>
                  <a:lnTo>
                    <a:pt x="1107" y="614"/>
                  </a:lnTo>
                  <a:lnTo>
                    <a:pt x="940" y="493"/>
                  </a:lnTo>
                  <a:lnTo>
                    <a:pt x="1131" y="518"/>
                  </a:lnTo>
                  <a:lnTo>
                    <a:pt x="1218" y="544"/>
                  </a:lnTo>
                  <a:lnTo>
                    <a:pt x="1144" y="469"/>
                  </a:lnTo>
                  <a:lnTo>
                    <a:pt x="1042" y="367"/>
                  </a:lnTo>
                  <a:lnTo>
                    <a:pt x="1033" y="363"/>
                  </a:lnTo>
                  <a:lnTo>
                    <a:pt x="1172" y="422"/>
                  </a:lnTo>
                  <a:lnTo>
                    <a:pt x="1116" y="321"/>
                  </a:lnTo>
                  <a:lnTo>
                    <a:pt x="1050" y="240"/>
                  </a:lnTo>
                  <a:lnTo>
                    <a:pt x="1180" y="348"/>
                  </a:lnTo>
                  <a:lnTo>
                    <a:pt x="1253" y="503"/>
                  </a:lnTo>
                  <a:lnTo>
                    <a:pt x="1292" y="671"/>
                  </a:lnTo>
                  <a:lnTo>
                    <a:pt x="1360" y="760"/>
                  </a:lnTo>
                  <a:lnTo>
                    <a:pt x="1460" y="864"/>
                  </a:lnTo>
                  <a:lnTo>
                    <a:pt x="1360" y="796"/>
                  </a:lnTo>
                  <a:lnTo>
                    <a:pt x="1292" y="750"/>
                  </a:lnTo>
                  <a:lnTo>
                    <a:pt x="1267" y="828"/>
                  </a:lnTo>
                  <a:lnTo>
                    <a:pt x="1324" y="871"/>
                  </a:lnTo>
                  <a:lnTo>
                    <a:pt x="1342" y="962"/>
                  </a:lnTo>
                  <a:lnTo>
                    <a:pt x="1203" y="940"/>
                  </a:lnTo>
                  <a:lnTo>
                    <a:pt x="1138" y="889"/>
                  </a:lnTo>
                  <a:lnTo>
                    <a:pt x="1107" y="855"/>
                  </a:lnTo>
                  <a:lnTo>
                    <a:pt x="978" y="855"/>
                  </a:lnTo>
                  <a:lnTo>
                    <a:pt x="881" y="828"/>
                  </a:lnTo>
                  <a:lnTo>
                    <a:pt x="810" y="760"/>
                  </a:lnTo>
                  <a:lnTo>
                    <a:pt x="751" y="649"/>
                  </a:lnTo>
                  <a:lnTo>
                    <a:pt x="751" y="772"/>
                  </a:lnTo>
                  <a:lnTo>
                    <a:pt x="709" y="839"/>
                  </a:lnTo>
                  <a:lnTo>
                    <a:pt x="626" y="839"/>
                  </a:lnTo>
                  <a:lnTo>
                    <a:pt x="626" y="807"/>
                  </a:lnTo>
                  <a:lnTo>
                    <a:pt x="541" y="839"/>
                  </a:lnTo>
                  <a:lnTo>
                    <a:pt x="520" y="8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939080" y="3097080"/>
              <a:ext cx="100080" cy="122400"/>
            </a:xfrm>
            <a:custGeom>
              <a:avLst/>
              <a:gdLst/>
              <a:ahLst/>
              <a:rect l="l" t="t" r="r" b="b"/>
              <a:pathLst>
                <a:path w="1636" h="2004">
                  <a:moveTo>
                    <a:pt x="1218" y="150"/>
                  </a:moveTo>
                  <a:lnTo>
                    <a:pt x="1218" y="313"/>
                  </a:lnTo>
                  <a:lnTo>
                    <a:pt x="1237" y="568"/>
                  </a:lnTo>
                  <a:lnTo>
                    <a:pt x="1251" y="722"/>
                  </a:lnTo>
                  <a:lnTo>
                    <a:pt x="1251" y="920"/>
                  </a:lnTo>
                  <a:lnTo>
                    <a:pt x="1203" y="1094"/>
                  </a:lnTo>
                  <a:lnTo>
                    <a:pt x="1079" y="1313"/>
                  </a:lnTo>
                  <a:lnTo>
                    <a:pt x="963" y="1436"/>
                  </a:lnTo>
                  <a:lnTo>
                    <a:pt x="822" y="1513"/>
                  </a:lnTo>
                  <a:lnTo>
                    <a:pt x="731" y="1523"/>
                  </a:lnTo>
                  <a:lnTo>
                    <a:pt x="504" y="1493"/>
                  </a:lnTo>
                  <a:lnTo>
                    <a:pt x="324" y="1448"/>
                  </a:lnTo>
                  <a:lnTo>
                    <a:pt x="188" y="1338"/>
                  </a:lnTo>
                  <a:lnTo>
                    <a:pt x="0" y="1124"/>
                  </a:lnTo>
                  <a:lnTo>
                    <a:pt x="298" y="1455"/>
                  </a:lnTo>
                  <a:lnTo>
                    <a:pt x="514" y="1586"/>
                  </a:lnTo>
                  <a:lnTo>
                    <a:pt x="715" y="1671"/>
                  </a:lnTo>
                  <a:lnTo>
                    <a:pt x="842" y="1663"/>
                  </a:lnTo>
                  <a:lnTo>
                    <a:pt x="927" y="1616"/>
                  </a:lnTo>
                  <a:lnTo>
                    <a:pt x="927" y="1756"/>
                  </a:lnTo>
                  <a:lnTo>
                    <a:pt x="907" y="2004"/>
                  </a:lnTo>
                  <a:lnTo>
                    <a:pt x="984" y="1728"/>
                  </a:lnTo>
                  <a:lnTo>
                    <a:pt x="997" y="1556"/>
                  </a:lnTo>
                  <a:lnTo>
                    <a:pt x="1082" y="1681"/>
                  </a:lnTo>
                  <a:lnTo>
                    <a:pt x="1178" y="1826"/>
                  </a:lnTo>
                  <a:lnTo>
                    <a:pt x="1237" y="1774"/>
                  </a:lnTo>
                  <a:lnTo>
                    <a:pt x="1388" y="1924"/>
                  </a:lnTo>
                  <a:lnTo>
                    <a:pt x="1498" y="1911"/>
                  </a:lnTo>
                  <a:lnTo>
                    <a:pt x="1464" y="1774"/>
                  </a:lnTo>
                  <a:lnTo>
                    <a:pt x="1330" y="1654"/>
                  </a:lnTo>
                  <a:lnTo>
                    <a:pt x="1516" y="1570"/>
                  </a:lnTo>
                  <a:lnTo>
                    <a:pt x="1587" y="1489"/>
                  </a:lnTo>
                  <a:lnTo>
                    <a:pt x="1500" y="1483"/>
                  </a:lnTo>
                  <a:lnTo>
                    <a:pt x="1435" y="1428"/>
                  </a:lnTo>
                  <a:lnTo>
                    <a:pt x="1405" y="1355"/>
                  </a:lnTo>
                  <a:lnTo>
                    <a:pt x="1405" y="1317"/>
                  </a:lnTo>
                  <a:lnTo>
                    <a:pt x="1500" y="1313"/>
                  </a:lnTo>
                  <a:lnTo>
                    <a:pt x="1551" y="1253"/>
                  </a:lnTo>
                  <a:lnTo>
                    <a:pt x="1587" y="1185"/>
                  </a:lnTo>
                  <a:lnTo>
                    <a:pt x="1589" y="1159"/>
                  </a:lnTo>
                  <a:lnTo>
                    <a:pt x="1520" y="1217"/>
                  </a:lnTo>
                  <a:lnTo>
                    <a:pt x="1464" y="1206"/>
                  </a:lnTo>
                  <a:lnTo>
                    <a:pt x="1431" y="1171"/>
                  </a:lnTo>
                  <a:lnTo>
                    <a:pt x="1490" y="1107"/>
                  </a:lnTo>
                  <a:lnTo>
                    <a:pt x="1516" y="1032"/>
                  </a:lnTo>
                  <a:lnTo>
                    <a:pt x="1520" y="983"/>
                  </a:lnTo>
                  <a:lnTo>
                    <a:pt x="1636" y="933"/>
                  </a:lnTo>
                  <a:lnTo>
                    <a:pt x="1589" y="896"/>
                  </a:lnTo>
                  <a:lnTo>
                    <a:pt x="1547" y="816"/>
                  </a:lnTo>
                  <a:lnTo>
                    <a:pt x="1540" y="738"/>
                  </a:lnTo>
                  <a:lnTo>
                    <a:pt x="1547" y="676"/>
                  </a:lnTo>
                  <a:lnTo>
                    <a:pt x="1571" y="516"/>
                  </a:lnTo>
                  <a:lnTo>
                    <a:pt x="1571" y="326"/>
                  </a:lnTo>
                  <a:lnTo>
                    <a:pt x="1520" y="184"/>
                  </a:lnTo>
                  <a:lnTo>
                    <a:pt x="1477" y="89"/>
                  </a:lnTo>
                  <a:lnTo>
                    <a:pt x="1366" y="0"/>
                  </a:lnTo>
                  <a:lnTo>
                    <a:pt x="1431" y="126"/>
                  </a:lnTo>
                  <a:lnTo>
                    <a:pt x="1477" y="292"/>
                  </a:lnTo>
                  <a:lnTo>
                    <a:pt x="1405" y="247"/>
                  </a:lnTo>
                  <a:lnTo>
                    <a:pt x="1425" y="326"/>
                  </a:lnTo>
                  <a:lnTo>
                    <a:pt x="1490" y="445"/>
                  </a:lnTo>
                  <a:lnTo>
                    <a:pt x="1386" y="364"/>
                  </a:lnTo>
                  <a:lnTo>
                    <a:pt x="1431" y="561"/>
                  </a:lnTo>
                  <a:lnTo>
                    <a:pt x="1409" y="676"/>
                  </a:lnTo>
                  <a:lnTo>
                    <a:pt x="1379" y="522"/>
                  </a:lnTo>
                  <a:lnTo>
                    <a:pt x="1305" y="449"/>
                  </a:lnTo>
                  <a:lnTo>
                    <a:pt x="1354" y="587"/>
                  </a:lnTo>
                  <a:lnTo>
                    <a:pt x="1348" y="740"/>
                  </a:lnTo>
                  <a:lnTo>
                    <a:pt x="1286" y="557"/>
                  </a:lnTo>
                  <a:lnTo>
                    <a:pt x="1243" y="407"/>
                  </a:lnTo>
                  <a:lnTo>
                    <a:pt x="1324" y="392"/>
                  </a:lnTo>
                  <a:lnTo>
                    <a:pt x="1259" y="281"/>
                  </a:lnTo>
                  <a:lnTo>
                    <a:pt x="1305" y="215"/>
                  </a:lnTo>
                  <a:lnTo>
                    <a:pt x="1218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932960" y="3130560"/>
              <a:ext cx="32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34400" y="3128760"/>
              <a:ext cx="468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7640" y="3135240"/>
              <a:ext cx="46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942320" y="3141720"/>
              <a:ext cx="32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29640" y="3211560"/>
              <a:ext cx="81000" cy="145800"/>
            </a:xfrm>
            <a:custGeom>
              <a:avLst/>
              <a:gdLst/>
              <a:ahLst/>
              <a:rect l="l" t="t" r="r" b="b"/>
              <a:pathLst>
                <a:path w="1333" h="2395">
                  <a:moveTo>
                    <a:pt x="1333" y="0"/>
                  </a:moveTo>
                  <a:lnTo>
                    <a:pt x="876" y="228"/>
                  </a:lnTo>
                  <a:lnTo>
                    <a:pt x="490" y="279"/>
                  </a:lnTo>
                  <a:lnTo>
                    <a:pt x="366" y="279"/>
                  </a:lnTo>
                  <a:lnTo>
                    <a:pt x="0" y="595"/>
                  </a:lnTo>
                  <a:lnTo>
                    <a:pt x="420" y="313"/>
                  </a:lnTo>
                  <a:lnTo>
                    <a:pt x="210" y="894"/>
                  </a:lnTo>
                  <a:lnTo>
                    <a:pt x="507" y="437"/>
                  </a:lnTo>
                  <a:lnTo>
                    <a:pt x="613" y="421"/>
                  </a:lnTo>
                  <a:lnTo>
                    <a:pt x="542" y="752"/>
                  </a:lnTo>
                  <a:lnTo>
                    <a:pt x="558" y="1209"/>
                  </a:lnTo>
                  <a:lnTo>
                    <a:pt x="647" y="663"/>
                  </a:lnTo>
                  <a:lnTo>
                    <a:pt x="787" y="526"/>
                  </a:lnTo>
                  <a:lnTo>
                    <a:pt x="809" y="1139"/>
                  </a:lnTo>
                  <a:lnTo>
                    <a:pt x="1019" y="1754"/>
                  </a:lnTo>
                  <a:lnTo>
                    <a:pt x="1106" y="1661"/>
                  </a:lnTo>
                  <a:lnTo>
                    <a:pt x="1333" y="2395"/>
                  </a:lnTo>
                  <a:lnTo>
                    <a:pt x="1246" y="1539"/>
                  </a:lnTo>
                  <a:lnTo>
                    <a:pt x="823" y="475"/>
                  </a:lnTo>
                  <a:lnTo>
                    <a:pt x="596" y="299"/>
                  </a:lnTo>
                  <a:lnTo>
                    <a:pt x="858" y="245"/>
                  </a:lnTo>
                  <a:lnTo>
                    <a:pt x="13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821720" y="3251160"/>
              <a:ext cx="69840" cy="203040"/>
            </a:xfrm>
            <a:custGeom>
              <a:avLst/>
              <a:gdLst/>
              <a:ahLst/>
              <a:rect l="l" t="t" r="r" b="b"/>
              <a:pathLst>
                <a:path w="1158" h="3313">
                  <a:moveTo>
                    <a:pt x="89" y="0"/>
                  </a:moveTo>
                  <a:lnTo>
                    <a:pt x="34" y="162"/>
                  </a:lnTo>
                  <a:lnTo>
                    <a:pt x="206" y="457"/>
                  </a:lnTo>
                  <a:lnTo>
                    <a:pt x="403" y="476"/>
                  </a:lnTo>
                  <a:lnTo>
                    <a:pt x="911" y="1121"/>
                  </a:lnTo>
                  <a:lnTo>
                    <a:pt x="1143" y="1613"/>
                  </a:lnTo>
                  <a:lnTo>
                    <a:pt x="1089" y="1560"/>
                  </a:lnTo>
                  <a:lnTo>
                    <a:pt x="911" y="1244"/>
                  </a:lnTo>
                  <a:lnTo>
                    <a:pt x="510" y="929"/>
                  </a:lnTo>
                  <a:lnTo>
                    <a:pt x="385" y="753"/>
                  </a:lnTo>
                  <a:lnTo>
                    <a:pt x="614" y="1329"/>
                  </a:lnTo>
                  <a:lnTo>
                    <a:pt x="1158" y="1910"/>
                  </a:lnTo>
                  <a:lnTo>
                    <a:pt x="652" y="1454"/>
                  </a:lnTo>
                  <a:lnTo>
                    <a:pt x="368" y="1068"/>
                  </a:lnTo>
                  <a:lnTo>
                    <a:pt x="527" y="1823"/>
                  </a:lnTo>
                  <a:lnTo>
                    <a:pt x="682" y="2031"/>
                  </a:lnTo>
                  <a:lnTo>
                    <a:pt x="652" y="2385"/>
                  </a:lnTo>
                  <a:lnTo>
                    <a:pt x="771" y="2676"/>
                  </a:lnTo>
                  <a:lnTo>
                    <a:pt x="788" y="3079"/>
                  </a:lnTo>
                  <a:lnTo>
                    <a:pt x="933" y="3313"/>
                  </a:lnTo>
                  <a:lnTo>
                    <a:pt x="771" y="3221"/>
                  </a:lnTo>
                  <a:lnTo>
                    <a:pt x="682" y="2903"/>
                  </a:lnTo>
                  <a:lnTo>
                    <a:pt x="701" y="2676"/>
                  </a:lnTo>
                  <a:lnTo>
                    <a:pt x="614" y="2347"/>
                  </a:lnTo>
                  <a:lnTo>
                    <a:pt x="597" y="2052"/>
                  </a:lnTo>
                  <a:lnTo>
                    <a:pt x="476" y="1804"/>
                  </a:lnTo>
                  <a:lnTo>
                    <a:pt x="206" y="531"/>
                  </a:lnTo>
                  <a:lnTo>
                    <a:pt x="0" y="126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872480" y="3360600"/>
              <a:ext cx="92160" cy="182520"/>
            </a:xfrm>
            <a:custGeom>
              <a:avLst/>
              <a:gdLst/>
              <a:ahLst/>
              <a:rect l="l" t="t" r="r" b="b"/>
              <a:pathLst>
                <a:path w="1494" h="3009">
                  <a:moveTo>
                    <a:pt x="0" y="0"/>
                  </a:moveTo>
                  <a:lnTo>
                    <a:pt x="194" y="227"/>
                  </a:lnTo>
                  <a:lnTo>
                    <a:pt x="496" y="244"/>
                  </a:lnTo>
                  <a:lnTo>
                    <a:pt x="632" y="282"/>
                  </a:lnTo>
                  <a:lnTo>
                    <a:pt x="741" y="369"/>
                  </a:lnTo>
                  <a:lnTo>
                    <a:pt x="759" y="467"/>
                  </a:lnTo>
                  <a:lnTo>
                    <a:pt x="741" y="615"/>
                  </a:lnTo>
                  <a:lnTo>
                    <a:pt x="706" y="666"/>
                  </a:lnTo>
                  <a:lnTo>
                    <a:pt x="725" y="522"/>
                  </a:lnTo>
                  <a:lnTo>
                    <a:pt x="651" y="399"/>
                  </a:lnTo>
                  <a:lnTo>
                    <a:pt x="553" y="350"/>
                  </a:lnTo>
                  <a:lnTo>
                    <a:pt x="474" y="316"/>
                  </a:lnTo>
                  <a:lnTo>
                    <a:pt x="373" y="295"/>
                  </a:lnTo>
                  <a:lnTo>
                    <a:pt x="303" y="295"/>
                  </a:lnTo>
                  <a:lnTo>
                    <a:pt x="530" y="545"/>
                  </a:lnTo>
                  <a:lnTo>
                    <a:pt x="617" y="700"/>
                  </a:lnTo>
                  <a:lnTo>
                    <a:pt x="828" y="791"/>
                  </a:lnTo>
                  <a:lnTo>
                    <a:pt x="933" y="1116"/>
                  </a:lnTo>
                  <a:lnTo>
                    <a:pt x="1146" y="1349"/>
                  </a:lnTo>
                  <a:lnTo>
                    <a:pt x="194" y="1521"/>
                  </a:lnTo>
                  <a:lnTo>
                    <a:pt x="456" y="1992"/>
                  </a:lnTo>
                  <a:lnTo>
                    <a:pt x="810" y="2342"/>
                  </a:lnTo>
                  <a:lnTo>
                    <a:pt x="1494" y="3009"/>
                  </a:lnTo>
                  <a:lnTo>
                    <a:pt x="562" y="2168"/>
                  </a:lnTo>
                  <a:lnTo>
                    <a:pt x="373" y="1958"/>
                  </a:lnTo>
                  <a:lnTo>
                    <a:pt x="124" y="1555"/>
                  </a:lnTo>
                  <a:lnTo>
                    <a:pt x="18" y="1451"/>
                  </a:lnTo>
                  <a:lnTo>
                    <a:pt x="318" y="1398"/>
                  </a:lnTo>
                  <a:lnTo>
                    <a:pt x="1004" y="1292"/>
                  </a:lnTo>
                  <a:lnTo>
                    <a:pt x="846" y="1133"/>
                  </a:lnTo>
                  <a:lnTo>
                    <a:pt x="777" y="802"/>
                  </a:lnTo>
                  <a:lnTo>
                    <a:pt x="553" y="734"/>
                  </a:lnTo>
                  <a:lnTo>
                    <a:pt x="456" y="507"/>
                  </a:lnTo>
                  <a:lnTo>
                    <a:pt x="124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909200" y="3330360"/>
              <a:ext cx="44280" cy="114480"/>
            </a:xfrm>
            <a:custGeom>
              <a:avLst/>
              <a:gdLst/>
              <a:ahLst/>
              <a:rect l="l" t="t" r="r" b="b"/>
              <a:pathLst>
                <a:path w="735" h="1857">
                  <a:moveTo>
                    <a:pt x="0" y="157"/>
                  </a:moveTo>
                  <a:lnTo>
                    <a:pt x="49" y="0"/>
                  </a:lnTo>
                  <a:lnTo>
                    <a:pt x="123" y="32"/>
                  </a:lnTo>
                  <a:lnTo>
                    <a:pt x="245" y="366"/>
                  </a:lnTo>
                  <a:lnTo>
                    <a:pt x="421" y="596"/>
                  </a:lnTo>
                  <a:lnTo>
                    <a:pt x="524" y="717"/>
                  </a:lnTo>
                  <a:lnTo>
                    <a:pt x="666" y="891"/>
                  </a:lnTo>
                  <a:lnTo>
                    <a:pt x="455" y="961"/>
                  </a:lnTo>
                  <a:lnTo>
                    <a:pt x="387" y="1050"/>
                  </a:lnTo>
                  <a:lnTo>
                    <a:pt x="421" y="1139"/>
                  </a:lnTo>
                  <a:lnTo>
                    <a:pt x="474" y="1207"/>
                  </a:lnTo>
                  <a:lnTo>
                    <a:pt x="631" y="1402"/>
                  </a:lnTo>
                  <a:lnTo>
                    <a:pt x="682" y="1555"/>
                  </a:lnTo>
                  <a:lnTo>
                    <a:pt x="735" y="1782"/>
                  </a:lnTo>
                  <a:lnTo>
                    <a:pt x="735" y="1857"/>
                  </a:lnTo>
                  <a:lnTo>
                    <a:pt x="614" y="1624"/>
                  </a:lnTo>
                  <a:lnTo>
                    <a:pt x="474" y="1576"/>
                  </a:lnTo>
                  <a:lnTo>
                    <a:pt x="368" y="1555"/>
                  </a:lnTo>
                  <a:lnTo>
                    <a:pt x="298" y="1555"/>
                  </a:lnTo>
                  <a:lnTo>
                    <a:pt x="194" y="1222"/>
                  </a:lnTo>
                  <a:lnTo>
                    <a:pt x="68" y="1207"/>
                  </a:lnTo>
                  <a:lnTo>
                    <a:pt x="158" y="961"/>
                  </a:lnTo>
                  <a:lnTo>
                    <a:pt x="158" y="755"/>
                  </a:lnTo>
                  <a:lnTo>
                    <a:pt x="15" y="473"/>
                  </a:lnTo>
                  <a:lnTo>
                    <a:pt x="15" y="22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39360" y="3459240"/>
              <a:ext cx="122040" cy="83880"/>
            </a:xfrm>
            <a:custGeom>
              <a:avLst/>
              <a:gdLst/>
              <a:ahLst/>
              <a:rect l="l" t="t" r="r" b="b"/>
              <a:pathLst>
                <a:path w="1981" h="1384">
                  <a:moveTo>
                    <a:pt x="716" y="0"/>
                  </a:moveTo>
                  <a:lnTo>
                    <a:pt x="437" y="295"/>
                  </a:lnTo>
                  <a:lnTo>
                    <a:pt x="0" y="944"/>
                  </a:lnTo>
                  <a:lnTo>
                    <a:pt x="297" y="1210"/>
                  </a:lnTo>
                  <a:lnTo>
                    <a:pt x="769" y="1350"/>
                  </a:lnTo>
                  <a:lnTo>
                    <a:pt x="1613" y="1384"/>
                  </a:lnTo>
                  <a:lnTo>
                    <a:pt x="1981" y="1363"/>
                  </a:lnTo>
                  <a:lnTo>
                    <a:pt x="1333" y="1312"/>
                  </a:lnTo>
                  <a:lnTo>
                    <a:pt x="734" y="1174"/>
                  </a:lnTo>
                  <a:lnTo>
                    <a:pt x="664" y="841"/>
                  </a:lnTo>
                  <a:lnTo>
                    <a:pt x="579" y="983"/>
                  </a:lnTo>
                  <a:lnTo>
                    <a:pt x="138" y="930"/>
                  </a:lnTo>
                  <a:lnTo>
                    <a:pt x="528" y="317"/>
                  </a:lnTo>
                  <a:lnTo>
                    <a:pt x="754" y="38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928280" y="3441600"/>
              <a:ext cx="115560" cy="142920"/>
            </a:xfrm>
            <a:custGeom>
              <a:avLst/>
              <a:gdLst/>
              <a:ahLst/>
              <a:rect l="l" t="t" r="r" b="b"/>
              <a:pathLst>
                <a:path w="1912" h="2341">
                  <a:moveTo>
                    <a:pt x="0" y="0"/>
                  </a:moveTo>
                  <a:lnTo>
                    <a:pt x="383" y="417"/>
                  </a:lnTo>
                  <a:lnTo>
                    <a:pt x="838" y="1131"/>
                  </a:lnTo>
                  <a:lnTo>
                    <a:pt x="1260" y="1588"/>
                  </a:lnTo>
                  <a:lnTo>
                    <a:pt x="1789" y="2076"/>
                  </a:lnTo>
                  <a:lnTo>
                    <a:pt x="1912" y="2341"/>
                  </a:lnTo>
                  <a:lnTo>
                    <a:pt x="1805" y="2025"/>
                  </a:lnTo>
                  <a:lnTo>
                    <a:pt x="1281" y="1539"/>
                  </a:lnTo>
                  <a:lnTo>
                    <a:pt x="893" y="1117"/>
                  </a:lnTo>
                  <a:lnTo>
                    <a:pt x="433" y="382"/>
                  </a:lnTo>
                  <a:lnTo>
                    <a:pt x="13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967880" y="3544920"/>
              <a:ext cx="41040" cy="66600"/>
            </a:xfrm>
            <a:custGeom>
              <a:avLst/>
              <a:gdLst/>
              <a:ahLst/>
              <a:rect l="l" t="t" r="r" b="b"/>
              <a:pathLst>
                <a:path w="671" h="1092">
                  <a:moveTo>
                    <a:pt x="0" y="0"/>
                  </a:moveTo>
                  <a:lnTo>
                    <a:pt x="126" y="334"/>
                  </a:lnTo>
                  <a:lnTo>
                    <a:pt x="387" y="718"/>
                  </a:lnTo>
                  <a:lnTo>
                    <a:pt x="578" y="1068"/>
                  </a:lnTo>
                  <a:lnTo>
                    <a:pt x="671" y="1092"/>
                  </a:lnTo>
                  <a:lnTo>
                    <a:pt x="544" y="1092"/>
                  </a:lnTo>
                  <a:lnTo>
                    <a:pt x="337" y="718"/>
                  </a:lnTo>
                  <a:lnTo>
                    <a:pt x="106" y="439"/>
                  </a:lnTo>
                  <a:lnTo>
                    <a:pt x="19" y="2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10640" y="3209760"/>
              <a:ext cx="138240" cy="233640"/>
            </a:xfrm>
            <a:custGeom>
              <a:avLst/>
              <a:gdLst/>
              <a:ahLst/>
              <a:rect l="l" t="t" r="r" b="b"/>
              <a:pathLst>
                <a:path w="2266" h="3827">
                  <a:moveTo>
                    <a:pt x="124" y="0"/>
                  </a:moveTo>
                  <a:lnTo>
                    <a:pt x="440" y="659"/>
                  </a:lnTo>
                  <a:lnTo>
                    <a:pt x="947" y="1661"/>
                  </a:lnTo>
                  <a:lnTo>
                    <a:pt x="1544" y="2656"/>
                  </a:lnTo>
                  <a:lnTo>
                    <a:pt x="2266" y="3596"/>
                  </a:lnTo>
                  <a:lnTo>
                    <a:pt x="2107" y="3545"/>
                  </a:lnTo>
                  <a:lnTo>
                    <a:pt x="1913" y="3755"/>
                  </a:lnTo>
                  <a:lnTo>
                    <a:pt x="894" y="3827"/>
                  </a:lnTo>
                  <a:lnTo>
                    <a:pt x="1634" y="3462"/>
                  </a:lnTo>
                  <a:lnTo>
                    <a:pt x="1828" y="3339"/>
                  </a:lnTo>
                  <a:lnTo>
                    <a:pt x="1525" y="3142"/>
                  </a:lnTo>
                  <a:lnTo>
                    <a:pt x="1735" y="3178"/>
                  </a:lnTo>
                  <a:lnTo>
                    <a:pt x="1792" y="3129"/>
                  </a:lnTo>
                  <a:lnTo>
                    <a:pt x="1321" y="2425"/>
                  </a:lnTo>
                  <a:lnTo>
                    <a:pt x="618" y="1254"/>
                  </a:lnTo>
                  <a:lnTo>
                    <a:pt x="0" y="4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32960" y="3197160"/>
              <a:ext cx="137880" cy="347760"/>
            </a:xfrm>
            <a:custGeom>
              <a:avLst/>
              <a:gdLst/>
              <a:ahLst/>
              <a:rect l="l" t="t" r="r" b="b"/>
              <a:pathLst>
                <a:path w="2247" h="5695">
                  <a:moveTo>
                    <a:pt x="0" y="30"/>
                  </a:moveTo>
                  <a:lnTo>
                    <a:pt x="455" y="697"/>
                  </a:lnTo>
                  <a:lnTo>
                    <a:pt x="1230" y="1814"/>
                  </a:lnTo>
                  <a:lnTo>
                    <a:pt x="1636" y="2562"/>
                  </a:lnTo>
                  <a:lnTo>
                    <a:pt x="1897" y="3321"/>
                  </a:lnTo>
                  <a:lnTo>
                    <a:pt x="1914" y="3703"/>
                  </a:lnTo>
                  <a:lnTo>
                    <a:pt x="1897" y="4421"/>
                  </a:lnTo>
                  <a:lnTo>
                    <a:pt x="1738" y="4789"/>
                  </a:lnTo>
                  <a:lnTo>
                    <a:pt x="1366" y="5315"/>
                  </a:lnTo>
                  <a:lnTo>
                    <a:pt x="1087" y="5490"/>
                  </a:lnTo>
                  <a:lnTo>
                    <a:pt x="1122" y="5523"/>
                  </a:lnTo>
                  <a:lnTo>
                    <a:pt x="1423" y="5345"/>
                  </a:lnTo>
                  <a:lnTo>
                    <a:pt x="1613" y="5469"/>
                  </a:lnTo>
                  <a:lnTo>
                    <a:pt x="1317" y="5695"/>
                  </a:lnTo>
                  <a:lnTo>
                    <a:pt x="1651" y="5503"/>
                  </a:lnTo>
                  <a:lnTo>
                    <a:pt x="1897" y="5297"/>
                  </a:lnTo>
                  <a:lnTo>
                    <a:pt x="1878" y="5244"/>
                  </a:lnTo>
                  <a:lnTo>
                    <a:pt x="1914" y="5210"/>
                  </a:lnTo>
                  <a:lnTo>
                    <a:pt x="1935" y="5244"/>
                  </a:lnTo>
                  <a:lnTo>
                    <a:pt x="1999" y="5017"/>
                  </a:lnTo>
                  <a:lnTo>
                    <a:pt x="2093" y="4439"/>
                  </a:lnTo>
                  <a:lnTo>
                    <a:pt x="2093" y="3826"/>
                  </a:lnTo>
                  <a:lnTo>
                    <a:pt x="2039" y="3895"/>
                  </a:lnTo>
                  <a:lnTo>
                    <a:pt x="1986" y="3355"/>
                  </a:lnTo>
                  <a:lnTo>
                    <a:pt x="2247" y="2198"/>
                  </a:lnTo>
                  <a:lnTo>
                    <a:pt x="1947" y="3162"/>
                  </a:lnTo>
                  <a:lnTo>
                    <a:pt x="1651" y="2360"/>
                  </a:lnTo>
                  <a:lnTo>
                    <a:pt x="1206" y="1638"/>
                  </a:lnTo>
                  <a:lnTo>
                    <a:pt x="666" y="869"/>
                  </a:lnTo>
                  <a:lnTo>
                    <a:pt x="1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991640" y="3220920"/>
              <a:ext cx="4680" cy="60480"/>
            </a:xfrm>
            <a:custGeom>
              <a:avLst/>
              <a:gdLst/>
              <a:ahLst/>
              <a:rect l="l" t="t" r="r" b="b"/>
              <a:pathLst>
                <a:path w="82" h="997">
                  <a:moveTo>
                    <a:pt x="13" y="0"/>
                  </a:moveTo>
                  <a:lnTo>
                    <a:pt x="34" y="399"/>
                  </a:lnTo>
                  <a:lnTo>
                    <a:pt x="0" y="928"/>
                  </a:lnTo>
                  <a:lnTo>
                    <a:pt x="68" y="997"/>
                  </a:lnTo>
                  <a:lnTo>
                    <a:pt x="82" y="736"/>
                  </a:lnTo>
                  <a:lnTo>
                    <a:pt x="51" y="19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98120" y="3190680"/>
              <a:ext cx="34920" cy="155880"/>
            </a:xfrm>
            <a:custGeom>
              <a:avLst/>
              <a:gdLst/>
              <a:ahLst/>
              <a:rect l="l" t="t" r="r" b="b"/>
              <a:pathLst>
                <a:path w="563" h="2553">
                  <a:moveTo>
                    <a:pt x="14" y="176"/>
                  </a:moveTo>
                  <a:lnTo>
                    <a:pt x="316" y="732"/>
                  </a:lnTo>
                  <a:lnTo>
                    <a:pt x="510" y="1574"/>
                  </a:lnTo>
                  <a:lnTo>
                    <a:pt x="510" y="2395"/>
                  </a:lnTo>
                  <a:lnTo>
                    <a:pt x="563" y="2553"/>
                  </a:lnTo>
                  <a:lnTo>
                    <a:pt x="563" y="1499"/>
                  </a:lnTo>
                  <a:lnTo>
                    <a:pt x="261" y="433"/>
                  </a:lnTo>
                  <a:lnTo>
                    <a:pt x="563" y="558"/>
                  </a:lnTo>
                  <a:lnTo>
                    <a:pt x="244" y="348"/>
                  </a:lnTo>
                  <a:lnTo>
                    <a:pt x="0" y="0"/>
                  </a:lnTo>
                  <a:lnTo>
                    <a:pt x="14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45640" y="3227400"/>
              <a:ext cx="55440" cy="100080"/>
            </a:xfrm>
            <a:custGeom>
              <a:avLst/>
              <a:gdLst/>
              <a:ahLst/>
              <a:rect l="l" t="t" r="r" b="b"/>
              <a:pathLst>
                <a:path w="896" h="1631">
                  <a:moveTo>
                    <a:pt x="0" y="0"/>
                  </a:moveTo>
                  <a:lnTo>
                    <a:pt x="421" y="123"/>
                  </a:lnTo>
                  <a:lnTo>
                    <a:pt x="478" y="174"/>
                  </a:lnTo>
                  <a:lnTo>
                    <a:pt x="654" y="222"/>
                  </a:lnTo>
                  <a:lnTo>
                    <a:pt x="862" y="455"/>
                  </a:lnTo>
                  <a:lnTo>
                    <a:pt x="896" y="680"/>
                  </a:lnTo>
                  <a:lnTo>
                    <a:pt x="775" y="439"/>
                  </a:lnTo>
                  <a:lnTo>
                    <a:pt x="735" y="613"/>
                  </a:lnTo>
                  <a:lnTo>
                    <a:pt x="654" y="542"/>
                  </a:lnTo>
                  <a:lnTo>
                    <a:pt x="724" y="1064"/>
                  </a:lnTo>
                  <a:lnTo>
                    <a:pt x="494" y="332"/>
                  </a:lnTo>
                  <a:lnTo>
                    <a:pt x="506" y="1015"/>
                  </a:lnTo>
                  <a:lnTo>
                    <a:pt x="421" y="1631"/>
                  </a:lnTo>
                  <a:lnTo>
                    <a:pt x="478" y="931"/>
                  </a:lnTo>
                  <a:lnTo>
                    <a:pt x="403" y="192"/>
                  </a:lnTo>
                  <a:lnTo>
                    <a:pt x="348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058240" y="3273480"/>
              <a:ext cx="63360" cy="176040"/>
            </a:xfrm>
            <a:custGeom>
              <a:avLst/>
              <a:gdLst/>
              <a:ahLst/>
              <a:rect l="l" t="t" r="r" b="b"/>
              <a:pathLst>
                <a:path w="1035" h="2886">
                  <a:moveTo>
                    <a:pt x="717" y="0"/>
                  </a:moveTo>
                  <a:lnTo>
                    <a:pt x="614" y="590"/>
                  </a:lnTo>
                  <a:lnTo>
                    <a:pt x="589" y="958"/>
                  </a:lnTo>
                  <a:lnTo>
                    <a:pt x="292" y="1377"/>
                  </a:lnTo>
                  <a:lnTo>
                    <a:pt x="292" y="1538"/>
                  </a:lnTo>
                  <a:lnTo>
                    <a:pt x="510" y="1555"/>
                  </a:lnTo>
                  <a:lnTo>
                    <a:pt x="648" y="1150"/>
                  </a:lnTo>
                  <a:lnTo>
                    <a:pt x="667" y="889"/>
                  </a:lnTo>
                  <a:lnTo>
                    <a:pt x="682" y="697"/>
                  </a:lnTo>
                  <a:lnTo>
                    <a:pt x="820" y="1063"/>
                  </a:lnTo>
                  <a:lnTo>
                    <a:pt x="962" y="1347"/>
                  </a:lnTo>
                  <a:lnTo>
                    <a:pt x="875" y="1538"/>
                  </a:lnTo>
                  <a:lnTo>
                    <a:pt x="735" y="1659"/>
                  </a:lnTo>
                  <a:lnTo>
                    <a:pt x="682" y="1922"/>
                  </a:lnTo>
                  <a:lnTo>
                    <a:pt x="765" y="2030"/>
                  </a:lnTo>
                  <a:lnTo>
                    <a:pt x="682" y="2164"/>
                  </a:lnTo>
                  <a:lnTo>
                    <a:pt x="452" y="2275"/>
                  </a:lnTo>
                  <a:lnTo>
                    <a:pt x="589" y="2566"/>
                  </a:lnTo>
                  <a:lnTo>
                    <a:pt x="227" y="2518"/>
                  </a:lnTo>
                  <a:lnTo>
                    <a:pt x="0" y="2586"/>
                  </a:lnTo>
                  <a:lnTo>
                    <a:pt x="440" y="2625"/>
                  </a:lnTo>
                  <a:lnTo>
                    <a:pt x="648" y="2779"/>
                  </a:lnTo>
                  <a:lnTo>
                    <a:pt x="628" y="2886"/>
                  </a:lnTo>
                  <a:lnTo>
                    <a:pt x="806" y="2744"/>
                  </a:lnTo>
                  <a:lnTo>
                    <a:pt x="735" y="2625"/>
                  </a:lnTo>
                  <a:lnTo>
                    <a:pt x="765" y="2396"/>
                  </a:lnTo>
                  <a:lnTo>
                    <a:pt x="928" y="2306"/>
                  </a:lnTo>
                  <a:lnTo>
                    <a:pt x="875" y="2115"/>
                  </a:lnTo>
                  <a:lnTo>
                    <a:pt x="790" y="1882"/>
                  </a:lnTo>
                  <a:lnTo>
                    <a:pt x="806" y="1659"/>
                  </a:lnTo>
                  <a:lnTo>
                    <a:pt x="1035" y="1449"/>
                  </a:lnTo>
                  <a:lnTo>
                    <a:pt x="1035" y="1269"/>
                  </a:lnTo>
                  <a:lnTo>
                    <a:pt x="820" y="697"/>
                  </a:lnTo>
                  <a:lnTo>
                    <a:pt x="682" y="539"/>
                  </a:lnTo>
                  <a:lnTo>
                    <a:pt x="752" y="102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043840" y="3440160"/>
              <a:ext cx="59040" cy="145800"/>
            </a:xfrm>
            <a:custGeom>
              <a:avLst/>
              <a:gdLst/>
              <a:ahLst/>
              <a:rect l="l" t="t" r="r" b="b"/>
              <a:pathLst>
                <a:path w="959" h="2381">
                  <a:moveTo>
                    <a:pt x="858" y="26"/>
                  </a:moveTo>
                  <a:lnTo>
                    <a:pt x="822" y="389"/>
                  </a:lnTo>
                  <a:lnTo>
                    <a:pt x="672" y="918"/>
                  </a:lnTo>
                  <a:lnTo>
                    <a:pt x="480" y="1452"/>
                  </a:lnTo>
                  <a:lnTo>
                    <a:pt x="406" y="1478"/>
                  </a:lnTo>
                  <a:lnTo>
                    <a:pt x="391" y="1424"/>
                  </a:lnTo>
                  <a:lnTo>
                    <a:pt x="230" y="1359"/>
                  </a:lnTo>
                  <a:lnTo>
                    <a:pt x="92" y="1240"/>
                  </a:lnTo>
                  <a:lnTo>
                    <a:pt x="217" y="1371"/>
                  </a:lnTo>
                  <a:lnTo>
                    <a:pt x="368" y="1471"/>
                  </a:lnTo>
                  <a:lnTo>
                    <a:pt x="362" y="1525"/>
                  </a:lnTo>
                  <a:lnTo>
                    <a:pt x="321" y="1525"/>
                  </a:lnTo>
                  <a:lnTo>
                    <a:pt x="158" y="1414"/>
                  </a:lnTo>
                  <a:lnTo>
                    <a:pt x="81" y="1316"/>
                  </a:lnTo>
                  <a:lnTo>
                    <a:pt x="145" y="1432"/>
                  </a:lnTo>
                  <a:lnTo>
                    <a:pt x="396" y="1605"/>
                  </a:lnTo>
                  <a:lnTo>
                    <a:pt x="315" y="1847"/>
                  </a:lnTo>
                  <a:lnTo>
                    <a:pt x="0" y="2338"/>
                  </a:lnTo>
                  <a:lnTo>
                    <a:pt x="7" y="2381"/>
                  </a:lnTo>
                  <a:lnTo>
                    <a:pt x="297" y="1951"/>
                  </a:lnTo>
                  <a:lnTo>
                    <a:pt x="427" y="1636"/>
                  </a:lnTo>
                  <a:lnTo>
                    <a:pt x="461" y="1643"/>
                  </a:lnTo>
                  <a:lnTo>
                    <a:pt x="431" y="1598"/>
                  </a:lnTo>
                  <a:lnTo>
                    <a:pt x="431" y="1525"/>
                  </a:lnTo>
                  <a:lnTo>
                    <a:pt x="480" y="1478"/>
                  </a:lnTo>
                  <a:lnTo>
                    <a:pt x="510" y="1507"/>
                  </a:lnTo>
                  <a:lnTo>
                    <a:pt x="487" y="1605"/>
                  </a:lnTo>
                  <a:lnTo>
                    <a:pt x="530" y="1513"/>
                  </a:lnTo>
                  <a:lnTo>
                    <a:pt x="518" y="1432"/>
                  </a:lnTo>
                  <a:lnTo>
                    <a:pt x="530" y="1397"/>
                  </a:lnTo>
                  <a:lnTo>
                    <a:pt x="824" y="1295"/>
                  </a:lnTo>
                  <a:lnTo>
                    <a:pt x="959" y="1175"/>
                  </a:lnTo>
                  <a:lnTo>
                    <a:pt x="959" y="1102"/>
                  </a:lnTo>
                  <a:lnTo>
                    <a:pt x="754" y="826"/>
                  </a:lnTo>
                  <a:lnTo>
                    <a:pt x="848" y="389"/>
                  </a:lnTo>
                  <a:lnTo>
                    <a:pt x="894" y="0"/>
                  </a:lnTo>
                  <a:lnTo>
                    <a:pt x="8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998120" y="3573360"/>
              <a:ext cx="48960" cy="39600"/>
            </a:xfrm>
            <a:custGeom>
              <a:avLst/>
              <a:gdLst/>
              <a:ahLst/>
              <a:rect l="l" t="t" r="r" b="b"/>
              <a:pathLst>
                <a:path w="811" h="660">
                  <a:moveTo>
                    <a:pt x="0" y="160"/>
                  </a:moveTo>
                  <a:lnTo>
                    <a:pt x="134" y="405"/>
                  </a:lnTo>
                  <a:lnTo>
                    <a:pt x="174" y="579"/>
                  </a:lnTo>
                  <a:lnTo>
                    <a:pt x="98" y="605"/>
                  </a:lnTo>
                  <a:lnTo>
                    <a:pt x="197" y="637"/>
                  </a:lnTo>
                  <a:lnTo>
                    <a:pt x="227" y="583"/>
                  </a:lnTo>
                  <a:lnTo>
                    <a:pt x="338" y="660"/>
                  </a:lnTo>
                  <a:lnTo>
                    <a:pt x="431" y="660"/>
                  </a:lnTo>
                  <a:lnTo>
                    <a:pt x="468" y="593"/>
                  </a:lnTo>
                  <a:lnTo>
                    <a:pt x="592" y="637"/>
                  </a:lnTo>
                  <a:lnTo>
                    <a:pt x="681" y="579"/>
                  </a:lnTo>
                  <a:lnTo>
                    <a:pt x="737" y="571"/>
                  </a:lnTo>
                  <a:lnTo>
                    <a:pt x="804" y="421"/>
                  </a:lnTo>
                  <a:lnTo>
                    <a:pt x="717" y="528"/>
                  </a:lnTo>
                  <a:lnTo>
                    <a:pt x="699" y="340"/>
                  </a:lnTo>
                  <a:lnTo>
                    <a:pt x="764" y="257"/>
                  </a:lnTo>
                  <a:lnTo>
                    <a:pt x="811" y="301"/>
                  </a:lnTo>
                  <a:lnTo>
                    <a:pt x="754" y="160"/>
                  </a:lnTo>
                  <a:lnTo>
                    <a:pt x="754" y="235"/>
                  </a:lnTo>
                  <a:lnTo>
                    <a:pt x="690" y="245"/>
                  </a:lnTo>
                  <a:lnTo>
                    <a:pt x="642" y="235"/>
                  </a:lnTo>
                  <a:lnTo>
                    <a:pt x="456" y="0"/>
                  </a:lnTo>
                  <a:lnTo>
                    <a:pt x="626" y="360"/>
                  </a:lnTo>
                  <a:lnTo>
                    <a:pt x="571" y="421"/>
                  </a:lnTo>
                  <a:lnTo>
                    <a:pt x="514" y="429"/>
                  </a:lnTo>
                  <a:lnTo>
                    <a:pt x="468" y="405"/>
                  </a:lnTo>
                  <a:lnTo>
                    <a:pt x="266" y="146"/>
                  </a:lnTo>
                  <a:lnTo>
                    <a:pt x="403" y="506"/>
                  </a:lnTo>
                  <a:lnTo>
                    <a:pt x="367" y="522"/>
                  </a:lnTo>
                  <a:lnTo>
                    <a:pt x="286" y="522"/>
                  </a:lnTo>
                  <a:lnTo>
                    <a:pt x="162" y="34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78960" y="3537000"/>
              <a:ext cx="7920" cy="85680"/>
            </a:xfrm>
            <a:custGeom>
              <a:avLst/>
              <a:gdLst/>
              <a:ahLst/>
              <a:rect l="l" t="t" r="r" b="b"/>
              <a:pathLst>
                <a:path w="127" h="1407">
                  <a:moveTo>
                    <a:pt x="0" y="0"/>
                  </a:moveTo>
                  <a:lnTo>
                    <a:pt x="0" y="1407"/>
                  </a:lnTo>
                  <a:lnTo>
                    <a:pt x="89" y="1407"/>
                  </a:lnTo>
                  <a:lnTo>
                    <a:pt x="127" y="416"/>
                  </a:lnTo>
                  <a:lnTo>
                    <a:pt x="10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070840" y="3531960"/>
              <a:ext cx="15840" cy="90720"/>
            </a:xfrm>
            <a:custGeom>
              <a:avLst/>
              <a:gdLst/>
              <a:ahLst/>
              <a:rect l="l" t="t" r="r" b="b"/>
              <a:pathLst>
                <a:path w="263" h="1477">
                  <a:moveTo>
                    <a:pt x="117" y="0"/>
                  </a:moveTo>
                  <a:lnTo>
                    <a:pt x="263" y="1477"/>
                  </a:lnTo>
                  <a:lnTo>
                    <a:pt x="172" y="1477"/>
                  </a:lnTo>
                  <a:lnTo>
                    <a:pt x="0" y="111"/>
                  </a:lnTo>
                  <a:lnTo>
                    <a:pt x="34" y="129"/>
                  </a:lnTo>
                  <a:lnTo>
                    <a:pt x="83" y="64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950240" y="3220920"/>
              <a:ext cx="42840" cy="9720"/>
            </a:xfrm>
            <a:custGeom>
              <a:avLst/>
              <a:gdLst/>
              <a:ahLst/>
              <a:rect l="l" t="t" r="r" b="b"/>
              <a:pathLst>
                <a:path w="682" h="145">
                  <a:moveTo>
                    <a:pt x="0" y="0"/>
                  </a:moveTo>
                  <a:lnTo>
                    <a:pt x="105" y="83"/>
                  </a:lnTo>
                  <a:lnTo>
                    <a:pt x="211" y="117"/>
                  </a:lnTo>
                  <a:lnTo>
                    <a:pt x="368" y="145"/>
                  </a:lnTo>
                  <a:lnTo>
                    <a:pt x="486" y="145"/>
                  </a:lnTo>
                  <a:lnTo>
                    <a:pt x="597" y="121"/>
                  </a:lnTo>
                  <a:lnTo>
                    <a:pt x="682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975800" y="3232080"/>
              <a:ext cx="6120" cy="6480"/>
            </a:xfrm>
            <a:custGeom>
              <a:avLst/>
              <a:gdLst/>
              <a:ahLst/>
              <a:rect l="l" t="t" r="r" b="b"/>
              <a:pathLst>
                <a:path w="89" h="111">
                  <a:moveTo>
                    <a:pt x="38" y="0"/>
                  </a:moveTo>
                  <a:lnTo>
                    <a:pt x="17" y="42"/>
                  </a:lnTo>
                  <a:lnTo>
                    <a:pt x="10" y="68"/>
                  </a:lnTo>
                  <a:lnTo>
                    <a:pt x="27" y="91"/>
                  </a:lnTo>
                  <a:lnTo>
                    <a:pt x="55" y="95"/>
                  </a:lnTo>
                  <a:lnTo>
                    <a:pt x="69" y="72"/>
                  </a:lnTo>
                  <a:lnTo>
                    <a:pt x="78" y="51"/>
                  </a:lnTo>
                  <a:lnTo>
                    <a:pt x="69" y="30"/>
                  </a:lnTo>
                  <a:lnTo>
                    <a:pt x="89" y="56"/>
                  </a:lnTo>
                  <a:lnTo>
                    <a:pt x="85" y="95"/>
                  </a:lnTo>
                  <a:lnTo>
                    <a:pt x="61" y="111"/>
                  </a:lnTo>
                  <a:lnTo>
                    <a:pt x="27" y="111"/>
                  </a:lnTo>
                  <a:lnTo>
                    <a:pt x="0" y="81"/>
                  </a:lnTo>
                  <a:lnTo>
                    <a:pt x="10" y="3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175600" y="3089160"/>
              <a:ext cx="101880" cy="77760"/>
            </a:xfrm>
            <a:custGeom>
              <a:avLst/>
              <a:gdLst/>
              <a:ahLst/>
              <a:rect l="l" t="t" r="r" b="b"/>
              <a:pathLst>
                <a:path w="1663" h="1273">
                  <a:moveTo>
                    <a:pt x="117" y="0"/>
                  </a:moveTo>
                  <a:lnTo>
                    <a:pt x="151" y="234"/>
                  </a:lnTo>
                  <a:lnTo>
                    <a:pt x="0" y="577"/>
                  </a:lnTo>
                  <a:lnTo>
                    <a:pt x="187" y="295"/>
                  </a:lnTo>
                  <a:lnTo>
                    <a:pt x="416" y="517"/>
                  </a:lnTo>
                  <a:lnTo>
                    <a:pt x="1325" y="849"/>
                  </a:lnTo>
                  <a:lnTo>
                    <a:pt x="1657" y="1273"/>
                  </a:lnTo>
                  <a:lnTo>
                    <a:pt x="1663" y="1177"/>
                  </a:lnTo>
                  <a:lnTo>
                    <a:pt x="1382" y="802"/>
                  </a:lnTo>
                  <a:lnTo>
                    <a:pt x="416" y="437"/>
                  </a:lnTo>
                  <a:lnTo>
                    <a:pt x="194" y="145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101080" y="3128760"/>
              <a:ext cx="69840" cy="155880"/>
            </a:xfrm>
            <a:custGeom>
              <a:avLst/>
              <a:gdLst/>
              <a:ahLst/>
              <a:rect l="l" t="t" r="r" b="b"/>
              <a:pathLst>
                <a:path w="1149" h="2539">
                  <a:moveTo>
                    <a:pt x="1149" y="42"/>
                  </a:moveTo>
                  <a:lnTo>
                    <a:pt x="800" y="534"/>
                  </a:lnTo>
                  <a:lnTo>
                    <a:pt x="654" y="841"/>
                  </a:lnTo>
                  <a:lnTo>
                    <a:pt x="617" y="411"/>
                  </a:lnTo>
                  <a:lnTo>
                    <a:pt x="696" y="328"/>
                  </a:lnTo>
                  <a:lnTo>
                    <a:pt x="758" y="411"/>
                  </a:lnTo>
                  <a:lnTo>
                    <a:pt x="573" y="0"/>
                  </a:lnTo>
                  <a:lnTo>
                    <a:pt x="617" y="287"/>
                  </a:lnTo>
                  <a:lnTo>
                    <a:pt x="550" y="370"/>
                  </a:lnTo>
                  <a:lnTo>
                    <a:pt x="412" y="392"/>
                  </a:lnTo>
                  <a:lnTo>
                    <a:pt x="449" y="515"/>
                  </a:lnTo>
                  <a:lnTo>
                    <a:pt x="532" y="515"/>
                  </a:lnTo>
                  <a:lnTo>
                    <a:pt x="532" y="1048"/>
                  </a:lnTo>
                  <a:lnTo>
                    <a:pt x="0" y="2454"/>
                  </a:lnTo>
                  <a:lnTo>
                    <a:pt x="18" y="2539"/>
                  </a:lnTo>
                  <a:lnTo>
                    <a:pt x="758" y="698"/>
                  </a:lnTo>
                  <a:lnTo>
                    <a:pt x="966" y="328"/>
                  </a:lnTo>
                  <a:lnTo>
                    <a:pt x="114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067960" y="3128760"/>
              <a:ext cx="61920" cy="128880"/>
            </a:xfrm>
            <a:custGeom>
              <a:avLst/>
              <a:gdLst/>
              <a:ahLst/>
              <a:rect l="l" t="t" r="r" b="b"/>
              <a:pathLst>
                <a:path w="1028" h="2085">
                  <a:moveTo>
                    <a:pt x="1028" y="61"/>
                  </a:moveTo>
                  <a:lnTo>
                    <a:pt x="926" y="350"/>
                  </a:lnTo>
                  <a:lnTo>
                    <a:pt x="1006" y="392"/>
                  </a:lnTo>
                  <a:lnTo>
                    <a:pt x="862" y="738"/>
                  </a:lnTo>
                  <a:lnTo>
                    <a:pt x="557" y="1517"/>
                  </a:lnTo>
                  <a:lnTo>
                    <a:pt x="448" y="2085"/>
                  </a:lnTo>
                  <a:lnTo>
                    <a:pt x="372" y="1905"/>
                  </a:lnTo>
                  <a:lnTo>
                    <a:pt x="557" y="1064"/>
                  </a:lnTo>
                  <a:lnTo>
                    <a:pt x="803" y="328"/>
                  </a:lnTo>
                  <a:lnTo>
                    <a:pt x="312" y="803"/>
                  </a:lnTo>
                  <a:lnTo>
                    <a:pt x="85" y="1187"/>
                  </a:lnTo>
                  <a:lnTo>
                    <a:pt x="104" y="1722"/>
                  </a:lnTo>
                  <a:lnTo>
                    <a:pt x="60" y="1675"/>
                  </a:lnTo>
                  <a:lnTo>
                    <a:pt x="0" y="1082"/>
                  </a:lnTo>
                  <a:lnTo>
                    <a:pt x="312" y="597"/>
                  </a:lnTo>
                  <a:lnTo>
                    <a:pt x="824" y="207"/>
                  </a:lnTo>
                  <a:lnTo>
                    <a:pt x="1006" y="0"/>
                  </a:lnTo>
                  <a:lnTo>
                    <a:pt x="102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104320" y="3122640"/>
              <a:ext cx="93600" cy="198360"/>
            </a:xfrm>
            <a:custGeom>
              <a:avLst/>
              <a:gdLst/>
              <a:ahLst/>
              <a:rect l="l" t="t" r="r" b="b"/>
              <a:pathLst>
                <a:path w="1539" h="3270">
                  <a:moveTo>
                    <a:pt x="1516" y="0"/>
                  </a:moveTo>
                  <a:lnTo>
                    <a:pt x="1457" y="409"/>
                  </a:lnTo>
                  <a:lnTo>
                    <a:pt x="1170" y="514"/>
                  </a:lnTo>
                  <a:lnTo>
                    <a:pt x="1274" y="759"/>
                  </a:lnTo>
                  <a:lnTo>
                    <a:pt x="760" y="1702"/>
                  </a:lnTo>
                  <a:lnTo>
                    <a:pt x="329" y="2638"/>
                  </a:lnTo>
                  <a:lnTo>
                    <a:pt x="0" y="3270"/>
                  </a:lnTo>
                  <a:lnTo>
                    <a:pt x="637" y="2088"/>
                  </a:lnTo>
                  <a:lnTo>
                    <a:pt x="1336" y="719"/>
                  </a:lnTo>
                  <a:lnTo>
                    <a:pt x="1274" y="613"/>
                  </a:lnTo>
                  <a:lnTo>
                    <a:pt x="1516" y="472"/>
                  </a:lnTo>
                  <a:lnTo>
                    <a:pt x="1539" y="59"/>
                  </a:lnTo>
                  <a:lnTo>
                    <a:pt x="15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142480" y="3162240"/>
              <a:ext cx="101520" cy="369720"/>
            </a:xfrm>
            <a:custGeom>
              <a:avLst/>
              <a:gdLst/>
              <a:ahLst/>
              <a:rect l="l" t="t" r="r" b="b"/>
              <a:pathLst>
                <a:path w="1665" h="6052">
                  <a:moveTo>
                    <a:pt x="1293" y="0"/>
                  </a:moveTo>
                  <a:lnTo>
                    <a:pt x="1090" y="795"/>
                  </a:lnTo>
                  <a:lnTo>
                    <a:pt x="1108" y="1596"/>
                  </a:lnTo>
                  <a:lnTo>
                    <a:pt x="1272" y="2449"/>
                  </a:lnTo>
                  <a:lnTo>
                    <a:pt x="1353" y="2085"/>
                  </a:lnTo>
                  <a:lnTo>
                    <a:pt x="1335" y="2496"/>
                  </a:lnTo>
                  <a:lnTo>
                    <a:pt x="1272" y="2783"/>
                  </a:lnTo>
                  <a:lnTo>
                    <a:pt x="1499" y="3683"/>
                  </a:lnTo>
                  <a:lnTo>
                    <a:pt x="1249" y="3333"/>
                  </a:lnTo>
                  <a:lnTo>
                    <a:pt x="1189" y="3701"/>
                  </a:lnTo>
                  <a:lnTo>
                    <a:pt x="1416" y="3966"/>
                  </a:lnTo>
                  <a:lnTo>
                    <a:pt x="1249" y="3987"/>
                  </a:lnTo>
                  <a:lnTo>
                    <a:pt x="1232" y="4233"/>
                  </a:lnTo>
                  <a:lnTo>
                    <a:pt x="1395" y="4579"/>
                  </a:lnTo>
                  <a:lnTo>
                    <a:pt x="1476" y="4723"/>
                  </a:lnTo>
                  <a:lnTo>
                    <a:pt x="1374" y="4882"/>
                  </a:lnTo>
                  <a:lnTo>
                    <a:pt x="1599" y="5356"/>
                  </a:lnTo>
                  <a:lnTo>
                    <a:pt x="1438" y="5294"/>
                  </a:lnTo>
                  <a:lnTo>
                    <a:pt x="1665" y="6032"/>
                  </a:lnTo>
                  <a:lnTo>
                    <a:pt x="1499" y="5706"/>
                  </a:lnTo>
                  <a:lnTo>
                    <a:pt x="1168" y="4685"/>
                  </a:lnTo>
                  <a:lnTo>
                    <a:pt x="1151" y="3924"/>
                  </a:lnTo>
                  <a:lnTo>
                    <a:pt x="713" y="5748"/>
                  </a:lnTo>
                  <a:lnTo>
                    <a:pt x="1561" y="6052"/>
                  </a:lnTo>
                  <a:lnTo>
                    <a:pt x="614" y="5784"/>
                  </a:lnTo>
                  <a:lnTo>
                    <a:pt x="1090" y="3620"/>
                  </a:lnTo>
                  <a:lnTo>
                    <a:pt x="0" y="4274"/>
                  </a:lnTo>
                  <a:lnTo>
                    <a:pt x="962" y="3603"/>
                  </a:lnTo>
                  <a:lnTo>
                    <a:pt x="962" y="3475"/>
                  </a:lnTo>
                  <a:lnTo>
                    <a:pt x="576" y="3394"/>
                  </a:lnTo>
                  <a:lnTo>
                    <a:pt x="576" y="3309"/>
                  </a:lnTo>
                  <a:lnTo>
                    <a:pt x="1151" y="3104"/>
                  </a:lnTo>
                  <a:lnTo>
                    <a:pt x="1189" y="2433"/>
                  </a:lnTo>
                  <a:lnTo>
                    <a:pt x="1025" y="1531"/>
                  </a:lnTo>
                  <a:lnTo>
                    <a:pt x="1025" y="734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175600" y="3514680"/>
              <a:ext cx="55800" cy="79200"/>
            </a:xfrm>
            <a:custGeom>
              <a:avLst/>
              <a:gdLst/>
              <a:ahLst/>
              <a:rect l="l" t="t" r="r" b="b"/>
              <a:pathLst>
                <a:path w="926" h="1291">
                  <a:moveTo>
                    <a:pt x="180" y="0"/>
                  </a:moveTo>
                  <a:lnTo>
                    <a:pt x="0" y="940"/>
                  </a:lnTo>
                  <a:lnTo>
                    <a:pt x="142" y="1250"/>
                  </a:lnTo>
                  <a:lnTo>
                    <a:pt x="267" y="1291"/>
                  </a:lnTo>
                  <a:lnTo>
                    <a:pt x="287" y="1250"/>
                  </a:lnTo>
                  <a:lnTo>
                    <a:pt x="429" y="1269"/>
                  </a:lnTo>
                  <a:lnTo>
                    <a:pt x="618" y="1208"/>
                  </a:lnTo>
                  <a:lnTo>
                    <a:pt x="760" y="1186"/>
                  </a:lnTo>
                  <a:lnTo>
                    <a:pt x="926" y="1004"/>
                  </a:lnTo>
                  <a:lnTo>
                    <a:pt x="739" y="1042"/>
                  </a:lnTo>
                  <a:lnTo>
                    <a:pt x="716" y="777"/>
                  </a:lnTo>
                  <a:lnTo>
                    <a:pt x="699" y="1146"/>
                  </a:lnTo>
                  <a:lnTo>
                    <a:pt x="472" y="1186"/>
                  </a:lnTo>
                  <a:lnTo>
                    <a:pt x="454" y="819"/>
                  </a:lnTo>
                  <a:lnTo>
                    <a:pt x="412" y="1208"/>
                  </a:lnTo>
                  <a:lnTo>
                    <a:pt x="267" y="1208"/>
                  </a:lnTo>
                  <a:lnTo>
                    <a:pt x="267" y="819"/>
                  </a:lnTo>
                  <a:lnTo>
                    <a:pt x="227" y="1127"/>
                  </a:lnTo>
                  <a:lnTo>
                    <a:pt x="166" y="1127"/>
                  </a:lnTo>
                  <a:lnTo>
                    <a:pt x="63" y="961"/>
                  </a:lnTo>
                  <a:lnTo>
                    <a:pt x="227" y="45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91720" y="3494160"/>
              <a:ext cx="88920" cy="61920"/>
            </a:xfrm>
            <a:custGeom>
              <a:avLst/>
              <a:gdLst/>
              <a:ahLst/>
              <a:rect l="l" t="t" r="r" b="b"/>
              <a:pathLst>
                <a:path w="1472" h="1027">
                  <a:moveTo>
                    <a:pt x="0" y="0"/>
                  </a:moveTo>
                  <a:lnTo>
                    <a:pt x="344" y="488"/>
                  </a:lnTo>
                  <a:lnTo>
                    <a:pt x="981" y="779"/>
                  </a:lnTo>
                  <a:lnTo>
                    <a:pt x="1472" y="879"/>
                  </a:lnTo>
                  <a:lnTo>
                    <a:pt x="1423" y="1027"/>
                  </a:lnTo>
                  <a:lnTo>
                    <a:pt x="790" y="879"/>
                  </a:lnTo>
                  <a:lnTo>
                    <a:pt x="0" y="3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091720" y="2981160"/>
              <a:ext cx="112680" cy="149400"/>
            </a:xfrm>
            <a:custGeom>
              <a:avLst/>
              <a:gdLst/>
              <a:ahLst/>
              <a:rect l="l" t="t" r="r" b="b"/>
              <a:pathLst>
                <a:path w="1868" h="2461">
                  <a:moveTo>
                    <a:pt x="240" y="531"/>
                  </a:moveTo>
                  <a:lnTo>
                    <a:pt x="210" y="633"/>
                  </a:lnTo>
                  <a:lnTo>
                    <a:pt x="176" y="764"/>
                  </a:lnTo>
                  <a:lnTo>
                    <a:pt x="176" y="864"/>
                  </a:lnTo>
                  <a:lnTo>
                    <a:pt x="103" y="1227"/>
                  </a:lnTo>
                  <a:lnTo>
                    <a:pt x="103" y="1468"/>
                  </a:lnTo>
                  <a:lnTo>
                    <a:pt x="135" y="1672"/>
                  </a:lnTo>
                  <a:lnTo>
                    <a:pt x="235" y="1893"/>
                  </a:lnTo>
                  <a:lnTo>
                    <a:pt x="449" y="2218"/>
                  </a:lnTo>
                  <a:lnTo>
                    <a:pt x="562" y="2326"/>
                  </a:lnTo>
                  <a:lnTo>
                    <a:pt x="652" y="2374"/>
                  </a:lnTo>
                  <a:lnTo>
                    <a:pt x="771" y="2390"/>
                  </a:lnTo>
                  <a:lnTo>
                    <a:pt x="886" y="2374"/>
                  </a:lnTo>
                  <a:lnTo>
                    <a:pt x="975" y="2347"/>
                  </a:lnTo>
                  <a:lnTo>
                    <a:pt x="1131" y="2263"/>
                  </a:lnTo>
                  <a:lnTo>
                    <a:pt x="1276" y="2150"/>
                  </a:lnTo>
                  <a:lnTo>
                    <a:pt x="1366" y="2039"/>
                  </a:lnTo>
                  <a:lnTo>
                    <a:pt x="1457" y="1883"/>
                  </a:lnTo>
                  <a:lnTo>
                    <a:pt x="1530" y="1642"/>
                  </a:lnTo>
                  <a:lnTo>
                    <a:pt x="1478" y="1893"/>
                  </a:lnTo>
                  <a:lnTo>
                    <a:pt x="1350" y="2103"/>
                  </a:lnTo>
                  <a:lnTo>
                    <a:pt x="1238" y="2233"/>
                  </a:lnTo>
                  <a:lnTo>
                    <a:pt x="1019" y="2374"/>
                  </a:lnTo>
                  <a:lnTo>
                    <a:pt x="771" y="2461"/>
                  </a:lnTo>
                  <a:lnTo>
                    <a:pt x="609" y="2407"/>
                  </a:lnTo>
                  <a:lnTo>
                    <a:pt x="473" y="2315"/>
                  </a:lnTo>
                  <a:lnTo>
                    <a:pt x="346" y="2141"/>
                  </a:lnTo>
                  <a:lnTo>
                    <a:pt x="166" y="1842"/>
                  </a:lnTo>
                  <a:lnTo>
                    <a:pt x="127" y="1743"/>
                  </a:lnTo>
                  <a:lnTo>
                    <a:pt x="93" y="1743"/>
                  </a:lnTo>
                  <a:lnTo>
                    <a:pt x="38" y="1602"/>
                  </a:lnTo>
                  <a:lnTo>
                    <a:pt x="38" y="1414"/>
                  </a:lnTo>
                  <a:lnTo>
                    <a:pt x="0" y="1189"/>
                  </a:lnTo>
                  <a:lnTo>
                    <a:pt x="70" y="1094"/>
                  </a:lnTo>
                  <a:lnTo>
                    <a:pt x="85" y="671"/>
                  </a:lnTo>
                  <a:lnTo>
                    <a:pt x="149" y="420"/>
                  </a:lnTo>
                  <a:lnTo>
                    <a:pt x="265" y="219"/>
                  </a:lnTo>
                  <a:lnTo>
                    <a:pt x="423" y="103"/>
                  </a:lnTo>
                  <a:lnTo>
                    <a:pt x="737" y="6"/>
                  </a:lnTo>
                  <a:lnTo>
                    <a:pt x="1115" y="0"/>
                  </a:lnTo>
                  <a:lnTo>
                    <a:pt x="1319" y="103"/>
                  </a:lnTo>
                  <a:lnTo>
                    <a:pt x="1530" y="317"/>
                  </a:lnTo>
                  <a:lnTo>
                    <a:pt x="1641" y="573"/>
                  </a:lnTo>
                  <a:lnTo>
                    <a:pt x="1704" y="807"/>
                  </a:lnTo>
                  <a:lnTo>
                    <a:pt x="1718" y="1100"/>
                  </a:lnTo>
                  <a:lnTo>
                    <a:pt x="1837" y="1144"/>
                  </a:lnTo>
                  <a:lnTo>
                    <a:pt x="1868" y="1258"/>
                  </a:lnTo>
                  <a:lnTo>
                    <a:pt x="1843" y="1335"/>
                  </a:lnTo>
                  <a:lnTo>
                    <a:pt x="1828" y="1462"/>
                  </a:lnTo>
                  <a:lnTo>
                    <a:pt x="1718" y="1626"/>
                  </a:lnTo>
                  <a:lnTo>
                    <a:pt x="1641" y="1672"/>
                  </a:lnTo>
                  <a:lnTo>
                    <a:pt x="1577" y="1602"/>
                  </a:lnTo>
                  <a:lnTo>
                    <a:pt x="1663" y="1642"/>
                  </a:lnTo>
                  <a:lnTo>
                    <a:pt x="1718" y="1577"/>
                  </a:lnTo>
                  <a:lnTo>
                    <a:pt x="1799" y="1468"/>
                  </a:lnTo>
                  <a:lnTo>
                    <a:pt x="1822" y="1299"/>
                  </a:lnTo>
                  <a:lnTo>
                    <a:pt x="1828" y="1212"/>
                  </a:lnTo>
                  <a:lnTo>
                    <a:pt x="1805" y="1157"/>
                  </a:lnTo>
                  <a:lnTo>
                    <a:pt x="1704" y="1125"/>
                  </a:lnTo>
                  <a:lnTo>
                    <a:pt x="1617" y="1163"/>
                  </a:lnTo>
                  <a:lnTo>
                    <a:pt x="1603" y="1212"/>
                  </a:lnTo>
                  <a:lnTo>
                    <a:pt x="1501" y="1159"/>
                  </a:lnTo>
                  <a:lnTo>
                    <a:pt x="1501" y="993"/>
                  </a:lnTo>
                  <a:lnTo>
                    <a:pt x="1423" y="866"/>
                  </a:lnTo>
                  <a:lnTo>
                    <a:pt x="1338" y="732"/>
                  </a:lnTo>
                  <a:lnTo>
                    <a:pt x="1238" y="501"/>
                  </a:lnTo>
                  <a:lnTo>
                    <a:pt x="1040" y="338"/>
                  </a:lnTo>
                  <a:lnTo>
                    <a:pt x="775" y="338"/>
                  </a:lnTo>
                  <a:lnTo>
                    <a:pt x="540" y="338"/>
                  </a:lnTo>
                  <a:lnTo>
                    <a:pt x="342" y="433"/>
                  </a:lnTo>
                  <a:lnTo>
                    <a:pt x="240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186760" y="3054240"/>
              <a:ext cx="14400" cy="19080"/>
            </a:xfrm>
            <a:custGeom>
              <a:avLst/>
              <a:gdLst/>
              <a:ahLst/>
              <a:rect l="l" t="t" r="r" b="b"/>
              <a:pathLst>
                <a:path w="217" h="310">
                  <a:moveTo>
                    <a:pt x="8" y="100"/>
                  </a:moveTo>
                  <a:lnTo>
                    <a:pt x="122" y="22"/>
                  </a:lnTo>
                  <a:lnTo>
                    <a:pt x="217" y="0"/>
                  </a:lnTo>
                  <a:lnTo>
                    <a:pt x="159" y="53"/>
                  </a:lnTo>
                  <a:lnTo>
                    <a:pt x="180" y="162"/>
                  </a:lnTo>
                  <a:lnTo>
                    <a:pt x="155" y="227"/>
                  </a:lnTo>
                  <a:lnTo>
                    <a:pt x="155" y="146"/>
                  </a:lnTo>
                  <a:lnTo>
                    <a:pt x="112" y="85"/>
                  </a:lnTo>
                  <a:lnTo>
                    <a:pt x="76" y="107"/>
                  </a:lnTo>
                  <a:lnTo>
                    <a:pt x="98" y="198"/>
                  </a:lnTo>
                  <a:lnTo>
                    <a:pt x="81" y="249"/>
                  </a:lnTo>
                  <a:lnTo>
                    <a:pt x="0" y="310"/>
                  </a:lnTo>
                  <a:lnTo>
                    <a:pt x="51" y="233"/>
                  </a:lnTo>
                  <a:lnTo>
                    <a:pt x="51" y="189"/>
                  </a:lnTo>
                  <a:lnTo>
                    <a:pt x="0" y="146"/>
                  </a:lnTo>
                  <a:lnTo>
                    <a:pt x="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99640" y="3036960"/>
              <a:ext cx="23760" cy="9360"/>
            </a:xfrm>
            <a:custGeom>
              <a:avLst/>
              <a:gdLst/>
              <a:ahLst/>
              <a:rect l="l" t="t" r="r" b="b"/>
              <a:pathLst>
                <a:path w="398" h="158">
                  <a:moveTo>
                    <a:pt x="30" y="158"/>
                  </a:moveTo>
                  <a:lnTo>
                    <a:pt x="0" y="77"/>
                  </a:lnTo>
                  <a:lnTo>
                    <a:pt x="98" y="51"/>
                  </a:lnTo>
                  <a:lnTo>
                    <a:pt x="331" y="0"/>
                  </a:lnTo>
                  <a:lnTo>
                    <a:pt x="398" y="43"/>
                  </a:lnTo>
                  <a:lnTo>
                    <a:pt x="257" y="43"/>
                  </a:lnTo>
                  <a:lnTo>
                    <a:pt x="93" y="89"/>
                  </a:lnTo>
                  <a:lnTo>
                    <a:pt x="3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137800" y="3035160"/>
              <a:ext cx="31680" cy="7920"/>
            </a:xfrm>
            <a:custGeom>
              <a:avLst/>
              <a:gdLst/>
              <a:ahLst/>
              <a:rect l="l" t="t" r="r" b="b"/>
              <a:pathLst>
                <a:path w="535" h="127">
                  <a:moveTo>
                    <a:pt x="0" y="22"/>
                  </a:moveTo>
                  <a:lnTo>
                    <a:pt x="108" y="0"/>
                  </a:lnTo>
                  <a:lnTo>
                    <a:pt x="257" y="16"/>
                  </a:lnTo>
                  <a:lnTo>
                    <a:pt x="424" y="22"/>
                  </a:lnTo>
                  <a:lnTo>
                    <a:pt x="535" y="127"/>
                  </a:lnTo>
                  <a:lnTo>
                    <a:pt x="369" y="64"/>
                  </a:lnTo>
                  <a:lnTo>
                    <a:pt x="244" y="43"/>
                  </a:lnTo>
                  <a:lnTo>
                    <a:pt x="124" y="4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2240" y="3081240"/>
              <a:ext cx="47520" cy="9720"/>
            </a:xfrm>
            <a:custGeom>
              <a:avLst/>
              <a:gdLst/>
              <a:ahLst/>
              <a:rect l="l" t="t" r="r" b="b"/>
              <a:pathLst>
                <a:path w="777" h="160">
                  <a:moveTo>
                    <a:pt x="0" y="151"/>
                  </a:moveTo>
                  <a:lnTo>
                    <a:pt x="53" y="146"/>
                  </a:lnTo>
                  <a:lnTo>
                    <a:pt x="172" y="107"/>
                  </a:lnTo>
                  <a:lnTo>
                    <a:pt x="283" y="83"/>
                  </a:lnTo>
                  <a:lnTo>
                    <a:pt x="322" y="53"/>
                  </a:lnTo>
                  <a:lnTo>
                    <a:pt x="382" y="83"/>
                  </a:lnTo>
                  <a:lnTo>
                    <a:pt x="524" y="83"/>
                  </a:lnTo>
                  <a:lnTo>
                    <a:pt x="688" y="136"/>
                  </a:lnTo>
                  <a:lnTo>
                    <a:pt x="769" y="160"/>
                  </a:lnTo>
                  <a:lnTo>
                    <a:pt x="777" y="113"/>
                  </a:lnTo>
                  <a:lnTo>
                    <a:pt x="682" y="53"/>
                  </a:lnTo>
                  <a:lnTo>
                    <a:pt x="533" y="30"/>
                  </a:lnTo>
                  <a:lnTo>
                    <a:pt x="407" y="0"/>
                  </a:lnTo>
                  <a:lnTo>
                    <a:pt x="327" y="6"/>
                  </a:lnTo>
                  <a:lnTo>
                    <a:pt x="261" y="0"/>
                  </a:lnTo>
                  <a:lnTo>
                    <a:pt x="210" y="19"/>
                  </a:lnTo>
                  <a:lnTo>
                    <a:pt x="83" y="53"/>
                  </a:lnTo>
                  <a:lnTo>
                    <a:pt x="0" y="123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118720" y="3081240"/>
              <a:ext cx="44280" cy="11160"/>
            </a:xfrm>
            <a:custGeom>
              <a:avLst/>
              <a:gdLst/>
              <a:ahLst/>
              <a:rect l="l" t="t" r="r" b="b"/>
              <a:pathLst>
                <a:path w="707" h="187">
                  <a:moveTo>
                    <a:pt x="0" y="104"/>
                  </a:moveTo>
                  <a:lnTo>
                    <a:pt x="189" y="104"/>
                  </a:lnTo>
                  <a:lnTo>
                    <a:pt x="512" y="104"/>
                  </a:lnTo>
                  <a:lnTo>
                    <a:pt x="626" y="111"/>
                  </a:lnTo>
                  <a:lnTo>
                    <a:pt x="668" y="187"/>
                  </a:lnTo>
                  <a:lnTo>
                    <a:pt x="707" y="88"/>
                  </a:lnTo>
                  <a:lnTo>
                    <a:pt x="626" y="0"/>
                  </a:lnTo>
                  <a:lnTo>
                    <a:pt x="595" y="88"/>
                  </a:lnTo>
                  <a:lnTo>
                    <a:pt x="180" y="81"/>
                  </a:lnTo>
                  <a:lnTo>
                    <a:pt x="47" y="88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120160" y="3092400"/>
              <a:ext cx="33480" cy="9360"/>
            </a:xfrm>
            <a:custGeom>
              <a:avLst/>
              <a:gdLst/>
              <a:ahLst/>
              <a:rect l="l" t="t" r="r" b="b"/>
              <a:pathLst>
                <a:path w="546" h="134">
                  <a:moveTo>
                    <a:pt x="44" y="63"/>
                  </a:moveTo>
                  <a:lnTo>
                    <a:pt x="155" y="134"/>
                  </a:lnTo>
                  <a:lnTo>
                    <a:pt x="261" y="134"/>
                  </a:lnTo>
                  <a:lnTo>
                    <a:pt x="400" y="85"/>
                  </a:lnTo>
                  <a:lnTo>
                    <a:pt x="546" y="0"/>
                  </a:lnTo>
                  <a:lnTo>
                    <a:pt x="344" y="53"/>
                  </a:lnTo>
                  <a:lnTo>
                    <a:pt x="180" y="70"/>
                  </a:lnTo>
                  <a:lnTo>
                    <a:pt x="68" y="39"/>
                  </a:lnTo>
                  <a:lnTo>
                    <a:pt x="0" y="30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123400" y="3039840"/>
              <a:ext cx="6480" cy="22320"/>
            </a:xfrm>
            <a:custGeom>
              <a:avLst/>
              <a:gdLst/>
              <a:ahLst/>
              <a:rect l="l" t="t" r="r" b="b"/>
              <a:pathLst>
                <a:path w="105" h="373">
                  <a:moveTo>
                    <a:pt x="41" y="0"/>
                  </a:moveTo>
                  <a:lnTo>
                    <a:pt x="97" y="53"/>
                  </a:lnTo>
                  <a:lnTo>
                    <a:pt x="105" y="100"/>
                  </a:lnTo>
                  <a:lnTo>
                    <a:pt x="87" y="187"/>
                  </a:lnTo>
                  <a:lnTo>
                    <a:pt x="0" y="373"/>
                  </a:lnTo>
                  <a:lnTo>
                    <a:pt x="65" y="155"/>
                  </a:lnTo>
                  <a:lnTo>
                    <a:pt x="65" y="93"/>
                  </a:lnTo>
                  <a:lnTo>
                    <a:pt x="41" y="3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113680" y="3066840"/>
              <a:ext cx="34920" cy="14400"/>
            </a:xfrm>
            <a:custGeom>
              <a:avLst/>
              <a:gdLst/>
              <a:ahLst/>
              <a:rect l="l" t="t" r="r" b="b"/>
              <a:pathLst>
                <a:path w="583" h="241">
                  <a:moveTo>
                    <a:pt x="142" y="0"/>
                  </a:moveTo>
                  <a:lnTo>
                    <a:pt x="142" y="40"/>
                  </a:lnTo>
                  <a:lnTo>
                    <a:pt x="206" y="133"/>
                  </a:lnTo>
                  <a:lnTo>
                    <a:pt x="253" y="148"/>
                  </a:lnTo>
                  <a:lnTo>
                    <a:pt x="314" y="125"/>
                  </a:lnTo>
                  <a:lnTo>
                    <a:pt x="403" y="86"/>
                  </a:lnTo>
                  <a:lnTo>
                    <a:pt x="494" y="111"/>
                  </a:lnTo>
                  <a:lnTo>
                    <a:pt x="494" y="141"/>
                  </a:lnTo>
                  <a:lnTo>
                    <a:pt x="541" y="155"/>
                  </a:lnTo>
                  <a:lnTo>
                    <a:pt x="567" y="133"/>
                  </a:lnTo>
                  <a:lnTo>
                    <a:pt x="533" y="48"/>
                  </a:lnTo>
                  <a:lnTo>
                    <a:pt x="583" y="95"/>
                  </a:lnTo>
                  <a:lnTo>
                    <a:pt x="583" y="155"/>
                  </a:lnTo>
                  <a:lnTo>
                    <a:pt x="541" y="171"/>
                  </a:lnTo>
                  <a:lnTo>
                    <a:pt x="403" y="117"/>
                  </a:lnTo>
                  <a:lnTo>
                    <a:pt x="284" y="171"/>
                  </a:lnTo>
                  <a:lnTo>
                    <a:pt x="221" y="171"/>
                  </a:lnTo>
                  <a:lnTo>
                    <a:pt x="180" y="155"/>
                  </a:lnTo>
                  <a:lnTo>
                    <a:pt x="104" y="178"/>
                  </a:lnTo>
                  <a:lnTo>
                    <a:pt x="61" y="148"/>
                  </a:lnTo>
                  <a:lnTo>
                    <a:pt x="0" y="241"/>
                  </a:lnTo>
                  <a:lnTo>
                    <a:pt x="61" y="78"/>
                  </a:lnTo>
                  <a:lnTo>
                    <a:pt x="97" y="48"/>
                  </a:lnTo>
                  <a:lnTo>
                    <a:pt x="81" y="101"/>
                  </a:lnTo>
                  <a:lnTo>
                    <a:pt x="112" y="148"/>
                  </a:lnTo>
                  <a:lnTo>
                    <a:pt x="164" y="125"/>
                  </a:lnTo>
                  <a:lnTo>
                    <a:pt x="125" y="54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104320" y="3044880"/>
              <a:ext cx="20520" cy="6120"/>
            </a:xfrm>
            <a:custGeom>
              <a:avLst/>
              <a:gdLst/>
              <a:ahLst/>
              <a:rect l="l" t="t" r="r" b="b"/>
              <a:pathLst>
                <a:path w="325" h="102">
                  <a:moveTo>
                    <a:pt x="0" y="102"/>
                  </a:moveTo>
                  <a:lnTo>
                    <a:pt x="91" y="15"/>
                  </a:lnTo>
                  <a:lnTo>
                    <a:pt x="218" y="0"/>
                  </a:lnTo>
                  <a:lnTo>
                    <a:pt x="325" y="23"/>
                  </a:lnTo>
                  <a:lnTo>
                    <a:pt x="279" y="39"/>
                  </a:lnTo>
                  <a:lnTo>
                    <a:pt x="317" y="78"/>
                  </a:lnTo>
                  <a:lnTo>
                    <a:pt x="232" y="39"/>
                  </a:lnTo>
                  <a:lnTo>
                    <a:pt x="145" y="31"/>
                  </a:lnTo>
                  <a:lnTo>
                    <a:pt x="74" y="4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142480" y="3044880"/>
              <a:ext cx="23760" cy="7920"/>
            </a:xfrm>
            <a:custGeom>
              <a:avLst/>
              <a:gdLst/>
              <a:ahLst/>
              <a:rect l="l" t="t" r="r" b="b"/>
              <a:pathLst>
                <a:path w="391" h="139">
                  <a:moveTo>
                    <a:pt x="8" y="76"/>
                  </a:moveTo>
                  <a:lnTo>
                    <a:pt x="68" y="23"/>
                  </a:lnTo>
                  <a:lnTo>
                    <a:pt x="32" y="0"/>
                  </a:lnTo>
                  <a:lnTo>
                    <a:pt x="249" y="15"/>
                  </a:lnTo>
                  <a:lnTo>
                    <a:pt x="391" y="104"/>
                  </a:lnTo>
                  <a:lnTo>
                    <a:pt x="257" y="139"/>
                  </a:lnTo>
                  <a:lnTo>
                    <a:pt x="313" y="85"/>
                  </a:lnTo>
                  <a:lnTo>
                    <a:pt x="249" y="46"/>
                  </a:lnTo>
                  <a:lnTo>
                    <a:pt x="93" y="38"/>
                  </a:lnTo>
                  <a:lnTo>
                    <a:pt x="38" y="93"/>
                  </a:lnTo>
                  <a:lnTo>
                    <a:pt x="111" y="139"/>
                  </a:lnTo>
                  <a:lnTo>
                    <a:pt x="0" y="117"/>
                  </a:lnTo>
                  <a:lnTo>
                    <a:pt x="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105760" y="3051000"/>
              <a:ext cx="15840" cy="3240"/>
            </a:xfrm>
            <a:custGeom>
              <a:avLst/>
              <a:gdLst/>
              <a:ahLst/>
              <a:rect l="l" t="t" r="r" b="b"/>
              <a:pathLst>
                <a:path w="244" h="40">
                  <a:moveTo>
                    <a:pt x="0" y="0"/>
                  </a:moveTo>
                  <a:lnTo>
                    <a:pt x="127" y="22"/>
                  </a:lnTo>
                  <a:lnTo>
                    <a:pt x="244" y="14"/>
                  </a:lnTo>
                  <a:lnTo>
                    <a:pt x="153" y="40"/>
                  </a:lnTo>
                  <a:lnTo>
                    <a:pt x="48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113680" y="3046320"/>
              <a:ext cx="7920" cy="4680"/>
            </a:xfrm>
            <a:custGeom>
              <a:avLst/>
              <a:gdLst/>
              <a:ahLst/>
              <a:rect l="l" t="t" r="r" b="b"/>
              <a:pathLst>
                <a:path w="111" h="71">
                  <a:moveTo>
                    <a:pt x="0" y="8"/>
                  </a:moveTo>
                  <a:lnTo>
                    <a:pt x="8" y="71"/>
                  </a:lnTo>
                  <a:lnTo>
                    <a:pt x="79" y="71"/>
                  </a:lnTo>
                  <a:lnTo>
                    <a:pt x="104" y="58"/>
                  </a:lnTo>
                  <a:lnTo>
                    <a:pt x="111" y="0"/>
                  </a:lnTo>
                  <a:lnTo>
                    <a:pt x="79" y="0"/>
                  </a:lnTo>
                  <a:lnTo>
                    <a:pt x="79" y="30"/>
                  </a:lnTo>
                  <a:lnTo>
                    <a:pt x="45" y="58"/>
                  </a:lnTo>
                  <a:lnTo>
                    <a:pt x="32" y="24"/>
                  </a:lnTo>
                  <a:lnTo>
                    <a:pt x="6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150400" y="3046320"/>
              <a:ext cx="6480" cy="4680"/>
            </a:xfrm>
            <a:custGeom>
              <a:avLst/>
              <a:gdLst/>
              <a:ahLst/>
              <a:rect l="l" t="t" r="r" b="b"/>
              <a:pathLst>
                <a:path w="123" h="80">
                  <a:moveTo>
                    <a:pt x="0" y="8"/>
                  </a:moveTo>
                  <a:lnTo>
                    <a:pt x="9" y="80"/>
                  </a:lnTo>
                  <a:lnTo>
                    <a:pt x="96" y="80"/>
                  </a:lnTo>
                  <a:lnTo>
                    <a:pt x="123" y="24"/>
                  </a:lnTo>
                  <a:lnTo>
                    <a:pt x="85" y="0"/>
                  </a:lnTo>
                  <a:lnTo>
                    <a:pt x="85" y="40"/>
                  </a:lnTo>
                  <a:lnTo>
                    <a:pt x="68" y="55"/>
                  </a:lnTo>
                  <a:lnTo>
                    <a:pt x="46" y="55"/>
                  </a:lnTo>
                  <a:lnTo>
                    <a:pt x="4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174160" y="3049560"/>
              <a:ext cx="11160" cy="28440"/>
            </a:xfrm>
            <a:custGeom>
              <a:avLst/>
              <a:gdLst/>
              <a:ahLst/>
              <a:rect l="l" t="t" r="r" b="b"/>
              <a:pathLst>
                <a:path w="170" h="483">
                  <a:moveTo>
                    <a:pt x="125" y="0"/>
                  </a:moveTo>
                  <a:lnTo>
                    <a:pt x="118" y="142"/>
                  </a:lnTo>
                  <a:lnTo>
                    <a:pt x="87" y="261"/>
                  </a:lnTo>
                  <a:lnTo>
                    <a:pt x="0" y="483"/>
                  </a:lnTo>
                  <a:lnTo>
                    <a:pt x="142" y="329"/>
                  </a:lnTo>
                  <a:lnTo>
                    <a:pt x="170" y="195"/>
                  </a:lnTo>
                  <a:lnTo>
                    <a:pt x="164" y="8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228160" y="3529080"/>
              <a:ext cx="4680" cy="47520"/>
            </a:xfrm>
            <a:custGeom>
              <a:avLst/>
              <a:gdLst/>
              <a:ahLst/>
              <a:rect l="l" t="t" r="r" b="b"/>
              <a:pathLst>
                <a:path w="81" h="777">
                  <a:moveTo>
                    <a:pt x="0" y="0"/>
                  </a:moveTo>
                  <a:lnTo>
                    <a:pt x="43" y="77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229600" y="3554280"/>
              <a:ext cx="9720" cy="68400"/>
            </a:xfrm>
            <a:custGeom>
              <a:avLst/>
              <a:gdLst/>
              <a:ahLst/>
              <a:rect l="l" t="t" r="r" b="b"/>
              <a:pathLst>
                <a:path w="142" h="1125">
                  <a:moveTo>
                    <a:pt x="21" y="18"/>
                  </a:moveTo>
                  <a:lnTo>
                    <a:pt x="0" y="1125"/>
                  </a:lnTo>
                  <a:lnTo>
                    <a:pt x="123" y="1125"/>
                  </a:lnTo>
                  <a:lnTo>
                    <a:pt x="142" y="43"/>
                  </a:lnTo>
                  <a:lnTo>
                    <a:pt x="61" y="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223480" y="3216240"/>
              <a:ext cx="31680" cy="130320"/>
            </a:xfrm>
            <a:custGeom>
              <a:avLst/>
              <a:gdLst/>
              <a:ahLst/>
              <a:rect l="l" t="t" r="r" b="b"/>
              <a:pathLst>
                <a:path w="524" h="2136">
                  <a:moveTo>
                    <a:pt x="444" y="111"/>
                  </a:moveTo>
                  <a:lnTo>
                    <a:pt x="91" y="380"/>
                  </a:lnTo>
                  <a:lnTo>
                    <a:pt x="66" y="835"/>
                  </a:lnTo>
                  <a:lnTo>
                    <a:pt x="66" y="1232"/>
                  </a:lnTo>
                  <a:lnTo>
                    <a:pt x="253" y="2136"/>
                  </a:lnTo>
                  <a:lnTo>
                    <a:pt x="15" y="1280"/>
                  </a:lnTo>
                  <a:lnTo>
                    <a:pt x="0" y="643"/>
                  </a:lnTo>
                  <a:lnTo>
                    <a:pt x="47" y="330"/>
                  </a:lnTo>
                  <a:lnTo>
                    <a:pt x="524" y="0"/>
                  </a:lnTo>
                  <a:lnTo>
                    <a:pt x="444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263080" y="3036960"/>
              <a:ext cx="141120" cy="237960"/>
            </a:xfrm>
            <a:custGeom>
              <a:avLst/>
              <a:gdLst/>
              <a:ahLst/>
              <a:rect l="l" t="t" r="r" b="b"/>
              <a:pathLst>
                <a:path w="2315" h="3920">
                  <a:moveTo>
                    <a:pt x="629" y="491"/>
                  </a:moveTo>
                  <a:lnTo>
                    <a:pt x="523" y="565"/>
                  </a:lnTo>
                  <a:lnTo>
                    <a:pt x="434" y="698"/>
                  </a:lnTo>
                  <a:lnTo>
                    <a:pt x="338" y="1316"/>
                  </a:lnTo>
                  <a:lnTo>
                    <a:pt x="316" y="1745"/>
                  </a:lnTo>
                  <a:lnTo>
                    <a:pt x="355" y="1972"/>
                  </a:lnTo>
                  <a:lnTo>
                    <a:pt x="466" y="2180"/>
                  </a:lnTo>
                  <a:lnTo>
                    <a:pt x="707" y="2360"/>
                  </a:lnTo>
                  <a:lnTo>
                    <a:pt x="803" y="2381"/>
                  </a:lnTo>
                  <a:lnTo>
                    <a:pt x="917" y="2371"/>
                  </a:lnTo>
                  <a:lnTo>
                    <a:pt x="1037" y="2330"/>
                  </a:lnTo>
                  <a:lnTo>
                    <a:pt x="1306" y="2201"/>
                  </a:lnTo>
                  <a:lnTo>
                    <a:pt x="1573" y="2057"/>
                  </a:lnTo>
                  <a:lnTo>
                    <a:pt x="1699" y="1877"/>
                  </a:lnTo>
                  <a:lnTo>
                    <a:pt x="1727" y="1901"/>
                  </a:lnTo>
                  <a:lnTo>
                    <a:pt x="1634" y="2065"/>
                  </a:lnTo>
                  <a:lnTo>
                    <a:pt x="1453" y="2258"/>
                  </a:lnTo>
                  <a:lnTo>
                    <a:pt x="1196" y="2417"/>
                  </a:lnTo>
                  <a:lnTo>
                    <a:pt x="1272" y="2472"/>
                  </a:lnTo>
                  <a:lnTo>
                    <a:pt x="1115" y="2575"/>
                  </a:lnTo>
                  <a:lnTo>
                    <a:pt x="964" y="2599"/>
                  </a:lnTo>
                  <a:lnTo>
                    <a:pt x="865" y="2599"/>
                  </a:lnTo>
                  <a:lnTo>
                    <a:pt x="737" y="2545"/>
                  </a:lnTo>
                  <a:lnTo>
                    <a:pt x="792" y="2979"/>
                  </a:lnTo>
                  <a:lnTo>
                    <a:pt x="784" y="3343"/>
                  </a:lnTo>
                  <a:lnTo>
                    <a:pt x="737" y="3557"/>
                  </a:lnTo>
                  <a:lnTo>
                    <a:pt x="599" y="3920"/>
                  </a:lnTo>
                  <a:lnTo>
                    <a:pt x="691" y="3512"/>
                  </a:lnTo>
                  <a:lnTo>
                    <a:pt x="723" y="3131"/>
                  </a:lnTo>
                  <a:lnTo>
                    <a:pt x="707" y="2818"/>
                  </a:lnTo>
                  <a:lnTo>
                    <a:pt x="682" y="2680"/>
                  </a:lnTo>
                  <a:lnTo>
                    <a:pt x="618" y="2872"/>
                  </a:lnTo>
                  <a:lnTo>
                    <a:pt x="544" y="2959"/>
                  </a:lnTo>
                  <a:lnTo>
                    <a:pt x="446" y="3066"/>
                  </a:lnTo>
                  <a:lnTo>
                    <a:pt x="478" y="3224"/>
                  </a:lnTo>
                  <a:lnTo>
                    <a:pt x="535" y="3366"/>
                  </a:lnTo>
                  <a:lnTo>
                    <a:pt x="618" y="3505"/>
                  </a:lnTo>
                  <a:lnTo>
                    <a:pt x="434" y="3332"/>
                  </a:lnTo>
                  <a:lnTo>
                    <a:pt x="310" y="3164"/>
                  </a:lnTo>
                  <a:lnTo>
                    <a:pt x="192" y="2950"/>
                  </a:lnTo>
                  <a:lnTo>
                    <a:pt x="100" y="3084"/>
                  </a:lnTo>
                  <a:lnTo>
                    <a:pt x="71" y="3258"/>
                  </a:lnTo>
                  <a:lnTo>
                    <a:pt x="89" y="3459"/>
                  </a:lnTo>
                  <a:lnTo>
                    <a:pt x="136" y="3604"/>
                  </a:lnTo>
                  <a:lnTo>
                    <a:pt x="20" y="3343"/>
                  </a:lnTo>
                  <a:lnTo>
                    <a:pt x="0" y="3124"/>
                  </a:lnTo>
                  <a:lnTo>
                    <a:pt x="35" y="2886"/>
                  </a:lnTo>
                  <a:lnTo>
                    <a:pt x="81" y="2744"/>
                  </a:lnTo>
                  <a:lnTo>
                    <a:pt x="100" y="2481"/>
                  </a:lnTo>
                  <a:lnTo>
                    <a:pt x="174" y="2237"/>
                  </a:lnTo>
                  <a:lnTo>
                    <a:pt x="239" y="2077"/>
                  </a:lnTo>
                  <a:lnTo>
                    <a:pt x="274" y="1877"/>
                  </a:lnTo>
                  <a:lnTo>
                    <a:pt x="266" y="1719"/>
                  </a:lnTo>
                  <a:lnTo>
                    <a:pt x="174" y="1359"/>
                  </a:lnTo>
                  <a:lnTo>
                    <a:pt x="128" y="1044"/>
                  </a:lnTo>
                  <a:lnTo>
                    <a:pt x="154" y="771"/>
                  </a:lnTo>
                  <a:lnTo>
                    <a:pt x="266" y="499"/>
                  </a:lnTo>
                  <a:lnTo>
                    <a:pt x="419" y="321"/>
                  </a:lnTo>
                  <a:lnTo>
                    <a:pt x="535" y="265"/>
                  </a:lnTo>
                  <a:lnTo>
                    <a:pt x="618" y="249"/>
                  </a:lnTo>
                  <a:lnTo>
                    <a:pt x="672" y="265"/>
                  </a:lnTo>
                  <a:lnTo>
                    <a:pt x="810" y="149"/>
                  </a:lnTo>
                  <a:lnTo>
                    <a:pt x="990" y="43"/>
                  </a:lnTo>
                  <a:lnTo>
                    <a:pt x="1225" y="0"/>
                  </a:lnTo>
                  <a:lnTo>
                    <a:pt x="1500" y="67"/>
                  </a:lnTo>
                  <a:lnTo>
                    <a:pt x="1652" y="158"/>
                  </a:lnTo>
                  <a:lnTo>
                    <a:pt x="1888" y="382"/>
                  </a:lnTo>
                  <a:lnTo>
                    <a:pt x="2037" y="650"/>
                  </a:lnTo>
                  <a:lnTo>
                    <a:pt x="2118" y="989"/>
                  </a:lnTo>
                  <a:lnTo>
                    <a:pt x="2315" y="1821"/>
                  </a:lnTo>
                  <a:lnTo>
                    <a:pt x="2024" y="1497"/>
                  </a:lnTo>
                  <a:lnTo>
                    <a:pt x="1822" y="1430"/>
                  </a:lnTo>
                  <a:lnTo>
                    <a:pt x="1664" y="1308"/>
                  </a:lnTo>
                  <a:lnTo>
                    <a:pt x="1581" y="1231"/>
                  </a:lnTo>
                  <a:lnTo>
                    <a:pt x="1401" y="1197"/>
                  </a:lnTo>
                  <a:lnTo>
                    <a:pt x="1281" y="1117"/>
                  </a:lnTo>
                  <a:lnTo>
                    <a:pt x="1196" y="1025"/>
                  </a:lnTo>
                  <a:lnTo>
                    <a:pt x="982" y="973"/>
                  </a:lnTo>
                  <a:lnTo>
                    <a:pt x="803" y="872"/>
                  </a:lnTo>
                  <a:lnTo>
                    <a:pt x="682" y="741"/>
                  </a:lnTo>
                  <a:lnTo>
                    <a:pt x="618" y="656"/>
                  </a:lnTo>
                  <a:lnTo>
                    <a:pt x="591" y="565"/>
                  </a:lnTo>
                  <a:lnTo>
                    <a:pt x="629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85400" y="3098880"/>
              <a:ext cx="21960" cy="7920"/>
            </a:xfrm>
            <a:custGeom>
              <a:avLst/>
              <a:gdLst/>
              <a:ahLst/>
              <a:rect l="l" t="t" r="r" b="b"/>
              <a:pathLst>
                <a:path w="342" h="119">
                  <a:moveTo>
                    <a:pt x="0" y="70"/>
                  </a:moveTo>
                  <a:lnTo>
                    <a:pt x="85" y="26"/>
                  </a:lnTo>
                  <a:lnTo>
                    <a:pt x="248" y="119"/>
                  </a:lnTo>
                  <a:lnTo>
                    <a:pt x="342" y="89"/>
                  </a:lnTo>
                  <a:lnTo>
                    <a:pt x="131" y="0"/>
                  </a:lnTo>
                  <a:lnTo>
                    <a:pt x="20" y="26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321760" y="3098880"/>
              <a:ext cx="20520" cy="6120"/>
            </a:xfrm>
            <a:custGeom>
              <a:avLst/>
              <a:gdLst/>
              <a:ahLst/>
              <a:rect l="l" t="t" r="r" b="b"/>
              <a:pathLst>
                <a:path w="314" h="108">
                  <a:moveTo>
                    <a:pt x="0" y="108"/>
                  </a:moveTo>
                  <a:lnTo>
                    <a:pt x="208" y="0"/>
                  </a:lnTo>
                  <a:lnTo>
                    <a:pt x="314" y="61"/>
                  </a:lnTo>
                  <a:lnTo>
                    <a:pt x="110" y="7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358480" y="3117960"/>
              <a:ext cx="20520" cy="3960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123" y="0"/>
                  </a:moveTo>
                  <a:lnTo>
                    <a:pt x="115" y="103"/>
                  </a:lnTo>
                  <a:lnTo>
                    <a:pt x="87" y="227"/>
                  </a:lnTo>
                  <a:lnTo>
                    <a:pt x="32" y="334"/>
                  </a:lnTo>
                  <a:lnTo>
                    <a:pt x="0" y="435"/>
                  </a:lnTo>
                  <a:lnTo>
                    <a:pt x="123" y="319"/>
                  </a:lnTo>
                  <a:lnTo>
                    <a:pt x="123" y="427"/>
                  </a:lnTo>
                  <a:lnTo>
                    <a:pt x="64" y="645"/>
                  </a:lnTo>
                  <a:lnTo>
                    <a:pt x="149" y="562"/>
                  </a:lnTo>
                  <a:lnTo>
                    <a:pt x="174" y="435"/>
                  </a:lnTo>
                  <a:lnTo>
                    <a:pt x="232" y="406"/>
                  </a:lnTo>
                  <a:lnTo>
                    <a:pt x="291" y="453"/>
                  </a:lnTo>
                  <a:lnTo>
                    <a:pt x="249" y="528"/>
                  </a:lnTo>
                  <a:lnTo>
                    <a:pt x="215" y="546"/>
                  </a:lnTo>
                  <a:lnTo>
                    <a:pt x="291" y="538"/>
                  </a:lnTo>
                  <a:lnTo>
                    <a:pt x="334" y="435"/>
                  </a:lnTo>
                  <a:lnTo>
                    <a:pt x="291" y="376"/>
                  </a:lnTo>
                  <a:lnTo>
                    <a:pt x="200" y="376"/>
                  </a:lnTo>
                  <a:lnTo>
                    <a:pt x="223" y="200"/>
                  </a:lnTo>
                  <a:lnTo>
                    <a:pt x="291" y="47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331480" y="3124080"/>
              <a:ext cx="95040" cy="147600"/>
            </a:xfrm>
            <a:custGeom>
              <a:avLst/>
              <a:gdLst/>
              <a:ahLst/>
              <a:rect l="l" t="t" r="r" b="b"/>
              <a:pathLst>
                <a:path w="1561" h="2419">
                  <a:moveTo>
                    <a:pt x="864" y="38"/>
                  </a:moveTo>
                  <a:lnTo>
                    <a:pt x="829" y="231"/>
                  </a:lnTo>
                  <a:lnTo>
                    <a:pt x="752" y="332"/>
                  </a:lnTo>
                  <a:lnTo>
                    <a:pt x="702" y="413"/>
                  </a:lnTo>
                  <a:lnTo>
                    <a:pt x="652" y="435"/>
                  </a:lnTo>
                  <a:lnTo>
                    <a:pt x="578" y="413"/>
                  </a:lnTo>
                  <a:lnTo>
                    <a:pt x="544" y="513"/>
                  </a:lnTo>
                  <a:lnTo>
                    <a:pt x="552" y="649"/>
                  </a:lnTo>
                  <a:lnTo>
                    <a:pt x="544" y="823"/>
                  </a:lnTo>
                  <a:lnTo>
                    <a:pt x="480" y="1003"/>
                  </a:lnTo>
                  <a:lnTo>
                    <a:pt x="393" y="1183"/>
                  </a:lnTo>
                  <a:lnTo>
                    <a:pt x="269" y="1355"/>
                  </a:lnTo>
                  <a:lnTo>
                    <a:pt x="170" y="1501"/>
                  </a:lnTo>
                  <a:lnTo>
                    <a:pt x="94" y="1624"/>
                  </a:lnTo>
                  <a:lnTo>
                    <a:pt x="26" y="1816"/>
                  </a:lnTo>
                  <a:lnTo>
                    <a:pt x="12" y="1952"/>
                  </a:lnTo>
                  <a:lnTo>
                    <a:pt x="0" y="2110"/>
                  </a:lnTo>
                  <a:lnTo>
                    <a:pt x="26" y="2270"/>
                  </a:lnTo>
                  <a:lnTo>
                    <a:pt x="73" y="2419"/>
                  </a:lnTo>
                  <a:lnTo>
                    <a:pt x="73" y="2286"/>
                  </a:lnTo>
                  <a:lnTo>
                    <a:pt x="136" y="2094"/>
                  </a:lnTo>
                  <a:lnTo>
                    <a:pt x="210" y="1943"/>
                  </a:lnTo>
                  <a:lnTo>
                    <a:pt x="300" y="1854"/>
                  </a:lnTo>
                  <a:lnTo>
                    <a:pt x="380" y="1782"/>
                  </a:lnTo>
                  <a:lnTo>
                    <a:pt x="406" y="1905"/>
                  </a:lnTo>
                  <a:lnTo>
                    <a:pt x="498" y="2047"/>
                  </a:lnTo>
                  <a:lnTo>
                    <a:pt x="578" y="2197"/>
                  </a:lnTo>
                  <a:lnTo>
                    <a:pt x="528" y="1936"/>
                  </a:lnTo>
                  <a:lnTo>
                    <a:pt x="544" y="1769"/>
                  </a:lnTo>
                  <a:lnTo>
                    <a:pt x="644" y="1637"/>
                  </a:lnTo>
                  <a:lnTo>
                    <a:pt x="784" y="1529"/>
                  </a:lnTo>
                  <a:lnTo>
                    <a:pt x="844" y="1444"/>
                  </a:lnTo>
                  <a:lnTo>
                    <a:pt x="888" y="1376"/>
                  </a:lnTo>
                  <a:lnTo>
                    <a:pt x="909" y="1337"/>
                  </a:lnTo>
                  <a:lnTo>
                    <a:pt x="888" y="1457"/>
                  </a:lnTo>
                  <a:lnTo>
                    <a:pt x="947" y="1398"/>
                  </a:lnTo>
                  <a:lnTo>
                    <a:pt x="1071" y="1226"/>
                  </a:lnTo>
                  <a:lnTo>
                    <a:pt x="1143" y="1139"/>
                  </a:lnTo>
                  <a:lnTo>
                    <a:pt x="1174" y="1022"/>
                  </a:lnTo>
                  <a:lnTo>
                    <a:pt x="1188" y="910"/>
                  </a:lnTo>
                  <a:lnTo>
                    <a:pt x="1307" y="1096"/>
                  </a:lnTo>
                  <a:lnTo>
                    <a:pt x="1423" y="1183"/>
                  </a:lnTo>
                  <a:lnTo>
                    <a:pt x="1561" y="1268"/>
                  </a:lnTo>
                  <a:lnTo>
                    <a:pt x="1472" y="1122"/>
                  </a:lnTo>
                  <a:lnTo>
                    <a:pt x="1419" y="952"/>
                  </a:lnTo>
                  <a:lnTo>
                    <a:pt x="1381" y="759"/>
                  </a:lnTo>
                  <a:lnTo>
                    <a:pt x="1285" y="513"/>
                  </a:lnTo>
                  <a:lnTo>
                    <a:pt x="1179" y="285"/>
                  </a:lnTo>
                  <a:lnTo>
                    <a:pt x="1071" y="0"/>
                  </a:lnTo>
                  <a:lnTo>
                    <a:pt x="8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323560" y="3108240"/>
              <a:ext cx="25200" cy="11160"/>
            </a:xfrm>
            <a:custGeom>
              <a:avLst/>
              <a:gdLst/>
              <a:ahLst/>
              <a:rect l="l" t="t" r="r" b="b"/>
              <a:pathLst>
                <a:path w="429" h="174">
                  <a:moveTo>
                    <a:pt x="73" y="131"/>
                  </a:moveTo>
                  <a:lnTo>
                    <a:pt x="158" y="79"/>
                  </a:lnTo>
                  <a:lnTo>
                    <a:pt x="206" y="79"/>
                  </a:lnTo>
                  <a:lnTo>
                    <a:pt x="231" y="93"/>
                  </a:lnTo>
                  <a:lnTo>
                    <a:pt x="235" y="146"/>
                  </a:lnTo>
                  <a:lnTo>
                    <a:pt x="304" y="146"/>
                  </a:lnTo>
                  <a:lnTo>
                    <a:pt x="316" y="123"/>
                  </a:lnTo>
                  <a:lnTo>
                    <a:pt x="411" y="174"/>
                  </a:lnTo>
                  <a:lnTo>
                    <a:pt x="429" y="112"/>
                  </a:lnTo>
                  <a:lnTo>
                    <a:pt x="372" y="123"/>
                  </a:lnTo>
                  <a:lnTo>
                    <a:pt x="316" y="79"/>
                  </a:lnTo>
                  <a:lnTo>
                    <a:pt x="240" y="33"/>
                  </a:lnTo>
                  <a:lnTo>
                    <a:pt x="240" y="67"/>
                  </a:lnTo>
                  <a:lnTo>
                    <a:pt x="172" y="46"/>
                  </a:lnTo>
                  <a:lnTo>
                    <a:pt x="108" y="67"/>
                  </a:lnTo>
                  <a:lnTo>
                    <a:pt x="108" y="0"/>
                  </a:lnTo>
                  <a:lnTo>
                    <a:pt x="61" y="12"/>
                  </a:lnTo>
                  <a:lnTo>
                    <a:pt x="0" y="146"/>
                  </a:lnTo>
                  <a:lnTo>
                    <a:pt x="38" y="138"/>
                  </a:lnTo>
                  <a:lnTo>
                    <a:pt x="7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325000" y="3114720"/>
              <a:ext cx="6480" cy="468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7" y="0"/>
                  </a:moveTo>
                  <a:lnTo>
                    <a:pt x="87" y="73"/>
                  </a:lnTo>
                  <a:lnTo>
                    <a:pt x="0" y="3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8318520" y="310464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8318520" y="3103200"/>
              <a:ext cx="792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8318520" y="3106440"/>
              <a:ext cx="792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8318520" y="3108240"/>
              <a:ext cx="9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8321760" y="3112920"/>
              <a:ext cx="468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286840" y="3111480"/>
              <a:ext cx="20520" cy="7920"/>
            </a:xfrm>
            <a:custGeom>
              <a:avLst/>
              <a:gdLst/>
              <a:ahLst/>
              <a:rect l="l" t="t" r="r" b="b"/>
              <a:pathLst>
                <a:path w="332" h="120">
                  <a:moveTo>
                    <a:pt x="200" y="92"/>
                  </a:moveTo>
                  <a:lnTo>
                    <a:pt x="200" y="33"/>
                  </a:lnTo>
                  <a:lnTo>
                    <a:pt x="144" y="39"/>
                  </a:lnTo>
                  <a:lnTo>
                    <a:pt x="102" y="85"/>
                  </a:lnTo>
                  <a:lnTo>
                    <a:pt x="144" y="108"/>
                  </a:lnTo>
                  <a:lnTo>
                    <a:pt x="55" y="120"/>
                  </a:lnTo>
                  <a:lnTo>
                    <a:pt x="0" y="108"/>
                  </a:lnTo>
                  <a:lnTo>
                    <a:pt x="36" y="39"/>
                  </a:lnTo>
                  <a:lnTo>
                    <a:pt x="62" y="66"/>
                  </a:lnTo>
                  <a:lnTo>
                    <a:pt x="132" y="21"/>
                  </a:lnTo>
                  <a:lnTo>
                    <a:pt x="208" y="0"/>
                  </a:lnTo>
                  <a:lnTo>
                    <a:pt x="332" y="92"/>
                  </a:lnTo>
                  <a:lnTo>
                    <a:pt x="20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296560" y="3120840"/>
              <a:ext cx="7920" cy="3240"/>
            </a:xfrm>
            <a:custGeom>
              <a:avLst/>
              <a:gdLst/>
              <a:ahLst/>
              <a:rect l="l" t="t" r="r" b="b"/>
              <a:pathLst>
                <a:path w="117" h="73">
                  <a:moveTo>
                    <a:pt x="117" y="0"/>
                  </a:moveTo>
                  <a:lnTo>
                    <a:pt x="0" y="28"/>
                  </a:lnTo>
                  <a:lnTo>
                    <a:pt x="0" y="7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307360" y="3133800"/>
              <a:ext cx="22320" cy="7920"/>
            </a:xfrm>
            <a:custGeom>
              <a:avLst/>
              <a:gdLst/>
              <a:ahLst/>
              <a:rect l="l" t="t" r="r" b="b"/>
              <a:pathLst>
                <a:path w="372" h="135">
                  <a:moveTo>
                    <a:pt x="0" y="76"/>
                  </a:moveTo>
                  <a:lnTo>
                    <a:pt x="66" y="101"/>
                  </a:lnTo>
                  <a:lnTo>
                    <a:pt x="146" y="111"/>
                  </a:lnTo>
                  <a:lnTo>
                    <a:pt x="227" y="28"/>
                  </a:lnTo>
                  <a:lnTo>
                    <a:pt x="215" y="76"/>
                  </a:lnTo>
                  <a:lnTo>
                    <a:pt x="346" y="76"/>
                  </a:lnTo>
                  <a:lnTo>
                    <a:pt x="346" y="0"/>
                  </a:lnTo>
                  <a:lnTo>
                    <a:pt x="372" y="81"/>
                  </a:lnTo>
                  <a:lnTo>
                    <a:pt x="338" y="123"/>
                  </a:lnTo>
                  <a:lnTo>
                    <a:pt x="227" y="101"/>
                  </a:lnTo>
                  <a:lnTo>
                    <a:pt x="156" y="135"/>
                  </a:lnTo>
                  <a:lnTo>
                    <a:pt x="47" y="13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36160" y="3139920"/>
              <a:ext cx="23760" cy="20880"/>
            </a:xfrm>
            <a:custGeom>
              <a:avLst/>
              <a:gdLst/>
              <a:ahLst/>
              <a:rect l="l" t="t" r="r" b="b"/>
              <a:pathLst>
                <a:path w="401" h="351">
                  <a:moveTo>
                    <a:pt x="34" y="34"/>
                  </a:moveTo>
                  <a:lnTo>
                    <a:pt x="124" y="107"/>
                  </a:lnTo>
                  <a:lnTo>
                    <a:pt x="240" y="121"/>
                  </a:lnTo>
                  <a:lnTo>
                    <a:pt x="401" y="22"/>
                  </a:lnTo>
                  <a:lnTo>
                    <a:pt x="361" y="99"/>
                  </a:lnTo>
                  <a:lnTo>
                    <a:pt x="240" y="192"/>
                  </a:lnTo>
                  <a:lnTo>
                    <a:pt x="189" y="351"/>
                  </a:lnTo>
                  <a:lnTo>
                    <a:pt x="189" y="184"/>
                  </a:lnTo>
                  <a:lnTo>
                    <a:pt x="85" y="137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298000" y="3147840"/>
              <a:ext cx="39600" cy="6480"/>
            </a:xfrm>
            <a:custGeom>
              <a:avLst/>
              <a:gdLst/>
              <a:ahLst/>
              <a:rect l="l" t="t" r="r" b="b"/>
              <a:pathLst>
                <a:path w="634" h="101">
                  <a:moveTo>
                    <a:pt x="8" y="25"/>
                  </a:moveTo>
                  <a:lnTo>
                    <a:pt x="146" y="0"/>
                  </a:lnTo>
                  <a:lnTo>
                    <a:pt x="274" y="0"/>
                  </a:lnTo>
                  <a:lnTo>
                    <a:pt x="420" y="21"/>
                  </a:lnTo>
                  <a:lnTo>
                    <a:pt x="583" y="37"/>
                  </a:lnTo>
                  <a:lnTo>
                    <a:pt x="634" y="55"/>
                  </a:lnTo>
                  <a:lnTo>
                    <a:pt x="535" y="93"/>
                  </a:lnTo>
                  <a:lnTo>
                    <a:pt x="492" y="101"/>
                  </a:lnTo>
                  <a:lnTo>
                    <a:pt x="425" y="47"/>
                  </a:lnTo>
                  <a:lnTo>
                    <a:pt x="227" y="25"/>
                  </a:lnTo>
                  <a:lnTo>
                    <a:pt x="116" y="67"/>
                  </a:lnTo>
                  <a:lnTo>
                    <a:pt x="0" y="5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02680" y="3151080"/>
              <a:ext cx="33480" cy="11160"/>
            </a:xfrm>
            <a:custGeom>
              <a:avLst/>
              <a:gdLst/>
              <a:ahLst/>
              <a:rect l="l" t="t" r="r" b="b"/>
              <a:pathLst>
                <a:path w="551" h="180">
                  <a:moveTo>
                    <a:pt x="24" y="12"/>
                  </a:moveTo>
                  <a:lnTo>
                    <a:pt x="113" y="61"/>
                  </a:lnTo>
                  <a:lnTo>
                    <a:pt x="186" y="99"/>
                  </a:lnTo>
                  <a:lnTo>
                    <a:pt x="287" y="87"/>
                  </a:lnTo>
                  <a:lnTo>
                    <a:pt x="417" y="12"/>
                  </a:lnTo>
                  <a:lnTo>
                    <a:pt x="551" y="16"/>
                  </a:lnTo>
                  <a:lnTo>
                    <a:pt x="434" y="61"/>
                  </a:lnTo>
                  <a:lnTo>
                    <a:pt x="370" y="115"/>
                  </a:lnTo>
                  <a:lnTo>
                    <a:pt x="306" y="159"/>
                  </a:lnTo>
                  <a:lnTo>
                    <a:pt x="245" y="180"/>
                  </a:lnTo>
                  <a:lnTo>
                    <a:pt x="134" y="180"/>
                  </a:lnTo>
                  <a:lnTo>
                    <a:pt x="65" y="133"/>
                  </a:lnTo>
                  <a:lnTo>
                    <a:pt x="24" y="53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8283600" y="3106800"/>
              <a:ext cx="32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8282160" y="3107880"/>
              <a:ext cx="64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283600" y="3109680"/>
              <a:ext cx="792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8285400" y="3111480"/>
              <a:ext cx="612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264520" y="3227400"/>
              <a:ext cx="20880" cy="279360"/>
            </a:xfrm>
            <a:custGeom>
              <a:avLst/>
              <a:gdLst/>
              <a:ahLst/>
              <a:rect l="l" t="t" r="r" b="b"/>
              <a:pathLst>
                <a:path w="348" h="4571">
                  <a:moveTo>
                    <a:pt x="348" y="65"/>
                  </a:moveTo>
                  <a:lnTo>
                    <a:pt x="233" y="447"/>
                  </a:lnTo>
                  <a:lnTo>
                    <a:pt x="150" y="950"/>
                  </a:lnTo>
                  <a:lnTo>
                    <a:pt x="65" y="1745"/>
                  </a:lnTo>
                  <a:lnTo>
                    <a:pt x="47" y="2510"/>
                  </a:lnTo>
                  <a:lnTo>
                    <a:pt x="150" y="3061"/>
                  </a:lnTo>
                  <a:lnTo>
                    <a:pt x="268" y="3377"/>
                  </a:lnTo>
                  <a:lnTo>
                    <a:pt x="250" y="3839"/>
                  </a:lnTo>
                  <a:lnTo>
                    <a:pt x="333" y="4571"/>
                  </a:lnTo>
                  <a:lnTo>
                    <a:pt x="100" y="3443"/>
                  </a:lnTo>
                  <a:lnTo>
                    <a:pt x="0" y="2615"/>
                  </a:lnTo>
                  <a:lnTo>
                    <a:pt x="0" y="1945"/>
                  </a:lnTo>
                  <a:lnTo>
                    <a:pt x="65" y="1096"/>
                  </a:lnTo>
                  <a:lnTo>
                    <a:pt x="168" y="463"/>
                  </a:lnTo>
                  <a:lnTo>
                    <a:pt x="318" y="0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229600" y="3219480"/>
              <a:ext cx="33480" cy="228600"/>
            </a:xfrm>
            <a:custGeom>
              <a:avLst/>
              <a:gdLst/>
              <a:ahLst/>
              <a:rect l="l" t="t" r="r" b="b"/>
              <a:pathLst>
                <a:path w="535" h="3758">
                  <a:moveTo>
                    <a:pt x="382" y="0"/>
                  </a:moveTo>
                  <a:lnTo>
                    <a:pt x="269" y="530"/>
                  </a:lnTo>
                  <a:lnTo>
                    <a:pt x="168" y="1245"/>
                  </a:lnTo>
                  <a:lnTo>
                    <a:pt x="150" y="1829"/>
                  </a:lnTo>
                  <a:lnTo>
                    <a:pt x="150" y="2292"/>
                  </a:lnTo>
                  <a:lnTo>
                    <a:pt x="184" y="2676"/>
                  </a:lnTo>
                  <a:lnTo>
                    <a:pt x="249" y="2873"/>
                  </a:lnTo>
                  <a:lnTo>
                    <a:pt x="382" y="3026"/>
                  </a:lnTo>
                  <a:lnTo>
                    <a:pt x="535" y="3261"/>
                  </a:lnTo>
                  <a:lnTo>
                    <a:pt x="433" y="3471"/>
                  </a:lnTo>
                  <a:lnTo>
                    <a:pt x="416" y="3758"/>
                  </a:lnTo>
                  <a:lnTo>
                    <a:pt x="369" y="3455"/>
                  </a:lnTo>
                  <a:lnTo>
                    <a:pt x="369" y="3356"/>
                  </a:lnTo>
                  <a:lnTo>
                    <a:pt x="150" y="3127"/>
                  </a:lnTo>
                  <a:lnTo>
                    <a:pt x="133" y="2992"/>
                  </a:lnTo>
                  <a:lnTo>
                    <a:pt x="235" y="3040"/>
                  </a:lnTo>
                  <a:lnTo>
                    <a:pt x="0" y="2607"/>
                  </a:lnTo>
                  <a:lnTo>
                    <a:pt x="133" y="2642"/>
                  </a:lnTo>
                  <a:lnTo>
                    <a:pt x="119" y="2147"/>
                  </a:lnTo>
                  <a:lnTo>
                    <a:pt x="101" y="1379"/>
                  </a:lnTo>
                  <a:lnTo>
                    <a:pt x="168" y="864"/>
                  </a:lnTo>
                  <a:lnTo>
                    <a:pt x="269" y="335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244000" y="3473280"/>
              <a:ext cx="49320" cy="58680"/>
            </a:xfrm>
            <a:custGeom>
              <a:avLst/>
              <a:gdLst/>
              <a:ahLst/>
              <a:rect l="l" t="t" r="r" b="b"/>
              <a:pathLst>
                <a:path w="826" h="965">
                  <a:moveTo>
                    <a:pt x="423" y="0"/>
                  </a:moveTo>
                  <a:lnTo>
                    <a:pt x="705" y="588"/>
                  </a:lnTo>
                  <a:lnTo>
                    <a:pt x="826" y="601"/>
                  </a:lnTo>
                  <a:lnTo>
                    <a:pt x="622" y="635"/>
                  </a:lnTo>
                  <a:lnTo>
                    <a:pt x="284" y="734"/>
                  </a:lnTo>
                  <a:lnTo>
                    <a:pt x="119" y="900"/>
                  </a:lnTo>
                  <a:lnTo>
                    <a:pt x="0" y="965"/>
                  </a:lnTo>
                  <a:lnTo>
                    <a:pt x="100" y="882"/>
                  </a:lnTo>
                  <a:lnTo>
                    <a:pt x="268" y="690"/>
                  </a:lnTo>
                  <a:lnTo>
                    <a:pt x="636" y="569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269560" y="3405240"/>
              <a:ext cx="31680" cy="12600"/>
            </a:xfrm>
            <a:custGeom>
              <a:avLst/>
              <a:gdLst/>
              <a:ahLst/>
              <a:rect l="l" t="t" r="r" b="b"/>
              <a:pathLst>
                <a:path w="518" h="204">
                  <a:moveTo>
                    <a:pt x="0" y="0"/>
                  </a:moveTo>
                  <a:lnTo>
                    <a:pt x="168" y="85"/>
                  </a:lnTo>
                  <a:lnTo>
                    <a:pt x="418" y="119"/>
                  </a:lnTo>
                  <a:lnTo>
                    <a:pt x="518" y="153"/>
                  </a:lnTo>
                  <a:lnTo>
                    <a:pt x="518" y="183"/>
                  </a:lnTo>
                  <a:lnTo>
                    <a:pt x="303" y="204"/>
                  </a:lnTo>
                  <a:lnTo>
                    <a:pt x="34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275680" y="3425760"/>
              <a:ext cx="25560" cy="11160"/>
            </a:xfrm>
            <a:custGeom>
              <a:avLst/>
              <a:gdLst/>
              <a:ahLst/>
              <a:rect l="l" t="t" r="r" b="b"/>
              <a:pathLst>
                <a:path w="398" h="184">
                  <a:moveTo>
                    <a:pt x="16" y="0"/>
                  </a:moveTo>
                  <a:lnTo>
                    <a:pt x="181" y="83"/>
                  </a:lnTo>
                  <a:lnTo>
                    <a:pt x="398" y="99"/>
                  </a:lnTo>
                  <a:lnTo>
                    <a:pt x="398" y="164"/>
                  </a:lnTo>
                  <a:lnTo>
                    <a:pt x="164" y="184"/>
                  </a:lnTo>
                  <a:lnTo>
                    <a:pt x="0" y="1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307360" y="3214800"/>
              <a:ext cx="39960" cy="42840"/>
            </a:xfrm>
            <a:custGeom>
              <a:avLst/>
              <a:gdLst/>
              <a:ahLst/>
              <a:rect l="l" t="t" r="r" b="b"/>
              <a:pathLst>
                <a:path w="664" h="679">
                  <a:moveTo>
                    <a:pt x="0" y="679"/>
                  </a:moveTo>
                  <a:lnTo>
                    <a:pt x="314" y="316"/>
                  </a:lnTo>
                  <a:lnTo>
                    <a:pt x="664" y="97"/>
                  </a:lnTo>
                  <a:lnTo>
                    <a:pt x="634" y="0"/>
                  </a:lnTo>
                  <a:lnTo>
                    <a:pt x="269" y="261"/>
                  </a:lnTo>
                  <a:lnTo>
                    <a:pt x="16" y="579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88640" y="3230640"/>
              <a:ext cx="87120" cy="285480"/>
            </a:xfrm>
            <a:custGeom>
              <a:avLst/>
              <a:gdLst/>
              <a:ahLst/>
              <a:rect l="l" t="t" r="r" b="b"/>
              <a:pathLst>
                <a:path w="1429" h="4662">
                  <a:moveTo>
                    <a:pt x="1111" y="0"/>
                  </a:moveTo>
                  <a:lnTo>
                    <a:pt x="879" y="382"/>
                  </a:lnTo>
                  <a:lnTo>
                    <a:pt x="648" y="851"/>
                  </a:lnTo>
                  <a:lnTo>
                    <a:pt x="431" y="1367"/>
                  </a:lnTo>
                  <a:lnTo>
                    <a:pt x="298" y="1984"/>
                  </a:lnTo>
                  <a:lnTo>
                    <a:pt x="264" y="2514"/>
                  </a:lnTo>
                  <a:lnTo>
                    <a:pt x="249" y="3561"/>
                  </a:lnTo>
                  <a:lnTo>
                    <a:pt x="249" y="4108"/>
                  </a:lnTo>
                  <a:lnTo>
                    <a:pt x="298" y="4288"/>
                  </a:lnTo>
                  <a:lnTo>
                    <a:pt x="1281" y="3240"/>
                  </a:lnTo>
                  <a:lnTo>
                    <a:pt x="1429" y="3189"/>
                  </a:lnTo>
                  <a:lnTo>
                    <a:pt x="1231" y="3339"/>
                  </a:lnTo>
                  <a:lnTo>
                    <a:pt x="85" y="4662"/>
                  </a:lnTo>
                  <a:lnTo>
                    <a:pt x="0" y="4587"/>
                  </a:lnTo>
                  <a:lnTo>
                    <a:pt x="198" y="4358"/>
                  </a:lnTo>
                  <a:lnTo>
                    <a:pt x="181" y="3792"/>
                  </a:lnTo>
                  <a:lnTo>
                    <a:pt x="198" y="2795"/>
                  </a:lnTo>
                  <a:lnTo>
                    <a:pt x="231" y="2160"/>
                  </a:lnTo>
                  <a:lnTo>
                    <a:pt x="332" y="1568"/>
                  </a:lnTo>
                  <a:lnTo>
                    <a:pt x="448" y="1146"/>
                  </a:lnTo>
                  <a:lnTo>
                    <a:pt x="665" y="683"/>
                  </a:lnTo>
                  <a:lnTo>
                    <a:pt x="846" y="252"/>
                  </a:lnTo>
                  <a:lnTo>
                    <a:pt x="996" y="55"/>
                  </a:lnTo>
                  <a:lnTo>
                    <a:pt x="1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75760" y="3403440"/>
              <a:ext cx="15840" cy="22320"/>
            </a:xfrm>
            <a:custGeom>
              <a:avLst/>
              <a:gdLst/>
              <a:ahLst/>
              <a:rect l="l" t="t" r="r" b="b"/>
              <a:pathLst>
                <a:path w="267" h="362">
                  <a:moveTo>
                    <a:pt x="267" y="147"/>
                  </a:moveTo>
                  <a:lnTo>
                    <a:pt x="67" y="200"/>
                  </a:lnTo>
                  <a:lnTo>
                    <a:pt x="0" y="362"/>
                  </a:lnTo>
                  <a:lnTo>
                    <a:pt x="0" y="132"/>
                  </a:lnTo>
                  <a:lnTo>
                    <a:pt x="132" y="0"/>
                  </a:lnTo>
                  <a:lnTo>
                    <a:pt x="26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286840" y="3470040"/>
              <a:ext cx="133560" cy="96840"/>
            </a:xfrm>
            <a:custGeom>
              <a:avLst/>
              <a:gdLst/>
              <a:ahLst/>
              <a:rect l="l" t="t" r="r" b="b"/>
              <a:pathLst>
                <a:path w="2169" h="1580">
                  <a:moveTo>
                    <a:pt x="104" y="634"/>
                  </a:moveTo>
                  <a:lnTo>
                    <a:pt x="317" y="965"/>
                  </a:lnTo>
                  <a:lnTo>
                    <a:pt x="565" y="1218"/>
                  </a:lnTo>
                  <a:lnTo>
                    <a:pt x="766" y="1345"/>
                  </a:lnTo>
                  <a:lnTo>
                    <a:pt x="1084" y="1463"/>
                  </a:lnTo>
                  <a:lnTo>
                    <a:pt x="1653" y="700"/>
                  </a:lnTo>
                  <a:lnTo>
                    <a:pt x="2169" y="0"/>
                  </a:lnTo>
                  <a:lnTo>
                    <a:pt x="1637" y="833"/>
                  </a:lnTo>
                  <a:lnTo>
                    <a:pt x="1100" y="1580"/>
                  </a:lnTo>
                  <a:lnTo>
                    <a:pt x="782" y="1479"/>
                  </a:lnTo>
                  <a:lnTo>
                    <a:pt x="432" y="1283"/>
                  </a:lnTo>
                  <a:lnTo>
                    <a:pt x="200" y="1048"/>
                  </a:lnTo>
                  <a:lnTo>
                    <a:pt x="0" y="700"/>
                  </a:lnTo>
                  <a:lnTo>
                    <a:pt x="104" y="599"/>
                  </a:lnTo>
                  <a:lnTo>
                    <a:pt x="104" y="6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32840" y="3533760"/>
              <a:ext cx="25560" cy="22320"/>
            </a:xfrm>
            <a:custGeom>
              <a:avLst/>
              <a:gdLst/>
              <a:ahLst/>
              <a:rect l="l" t="t" r="r" b="b"/>
              <a:pathLst>
                <a:path w="405" h="368">
                  <a:moveTo>
                    <a:pt x="170" y="0"/>
                  </a:moveTo>
                  <a:lnTo>
                    <a:pt x="138" y="87"/>
                  </a:lnTo>
                  <a:lnTo>
                    <a:pt x="59" y="178"/>
                  </a:lnTo>
                  <a:lnTo>
                    <a:pt x="19" y="216"/>
                  </a:lnTo>
                  <a:lnTo>
                    <a:pt x="30" y="235"/>
                  </a:lnTo>
                  <a:lnTo>
                    <a:pt x="108" y="220"/>
                  </a:lnTo>
                  <a:lnTo>
                    <a:pt x="227" y="146"/>
                  </a:lnTo>
                  <a:lnTo>
                    <a:pt x="318" y="81"/>
                  </a:lnTo>
                  <a:lnTo>
                    <a:pt x="284" y="146"/>
                  </a:lnTo>
                  <a:lnTo>
                    <a:pt x="405" y="290"/>
                  </a:lnTo>
                  <a:lnTo>
                    <a:pt x="304" y="204"/>
                  </a:lnTo>
                  <a:lnTo>
                    <a:pt x="276" y="273"/>
                  </a:lnTo>
                  <a:lnTo>
                    <a:pt x="300" y="368"/>
                  </a:lnTo>
                  <a:lnTo>
                    <a:pt x="253" y="269"/>
                  </a:lnTo>
                  <a:lnTo>
                    <a:pt x="272" y="156"/>
                  </a:lnTo>
                  <a:lnTo>
                    <a:pt x="96" y="239"/>
                  </a:lnTo>
                  <a:lnTo>
                    <a:pt x="25" y="243"/>
                  </a:lnTo>
                  <a:lnTo>
                    <a:pt x="0" y="204"/>
                  </a:lnTo>
                  <a:lnTo>
                    <a:pt x="119" y="93"/>
                  </a:lnTo>
                  <a:lnTo>
                    <a:pt x="158" y="1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51920" y="3551040"/>
              <a:ext cx="27000" cy="38160"/>
            </a:xfrm>
            <a:custGeom>
              <a:avLst/>
              <a:gdLst/>
              <a:ahLst/>
              <a:rect l="l" t="t" r="r" b="b"/>
              <a:pathLst>
                <a:path w="460" h="625">
                  <a:moveTo>
                    <a:pt x="83" y="0"/>
                  </a:moveTo>
                  <a:lnTo>
                    <a:pt x="6" y="91"/>
                  </a:lnTo>
                  <a:lnTo>
                    <a:pt x="0" y="138"/>
                  </a:lnTo>
                  <a:lnTo>
                    <a:pt x="14" y="184"/>
                  </a:lnTo>
                  <a:lnTo>
                    <a:pt x="61" y="239"/>
                  </a:lnTo>
                  <a:lnTo>
                    <a:pt x="91" y="338"/>
                  </a:lnTo>
                  <a:lnTo>
                    <a:pt x="157" y="407"/>
                  </a:lnTo>
                  <a:lnTo>
                    <a:pt x="217" y="431"/>
                  </a:lnTo>
                  <a:lnTo>
                    <a:pt x="157" y="589"/>
                  </a:lnTo>
                  <a:lnTo>
                    <a:pt x="172" y="625"/>
                  </a:lnTo>
                  <a:lnTo>
                    <a:pt x="182" y="566"/>
                  </a:lnTo>
                  <a:lnTo>
                    <a:pt x="212" y="514"/>
                  </a:lnTo>
                  <a:lnTo>
                    <a:pt x="259" y="579"/>
                  </a:lnTo>
                  <a:lnTo>
                    <a:pt x="233" y="488"/>
                  </a:lnTo>
                  <a:lnTo>
                    <a:pt x="460" y="211"/>
                  </a:lnTo>
                  <a:lnTo>
                    <a:pt x="336" y="265"/>
                  </a:lnTo>
                  <a:lnTo>
                    <a:pt x="247" y="197"/>
                  </a:lnTo>
                  <a:lnTo>
                    <a:pt x="287" y="254"/>
                  </a:lnTo>
                  <a:lnTo>
                    <a:pt x="318" y="275"/>
                  </a:lnTo>
                  <a:lnTo>
                    <a:pt x="233" y="385"/>
                  </a:lnTo>
                  <a:lnTo>
                    <a:pt x="160" y="364"/>
                  </a:lnTo>
                  <a:lnTo>
                    <a:pt x="99" y="257"/>
                  </a:lnTo>
                  <a:lnTo>
                    <a:pt x="202" y="150"/>
                  </a:lnTo>
                  <a:lnTo>
                    <a:pt x="233" y="120"/>
                  </a:lnTo>
                  <a:lnTo>
                    <a:pt x="182" y="82"/>
                  </a:lnTo>
                  <a:lnTo>
                    <a:pt x="157" y="39"/>
                  </a:lnTo>
                  <a:lnTo>
                    <a:pt x="164" y="91"/>
                  </a:lnTo>
                  <a:lnTo>
                    <a:pt x="182" y="120"/>
                  </a:lnTo>
                  <a:lnTo>
                    <a:pt x="95" y="227"/>
                  </a:lnTo>
                  <a:lnTo>
                    <a:pt x="36" y="184"/>
                  </a:lnTo>
                  <a:lnTo>
                    <a:pt x="23" y="120"/>
                  </a:lnTo>
                  <a:lnTo>
                    <a:pt x="61" y="5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263080" y="3541680"/>
              <a:ext cx="47520" cy="55440"/>
            </a:xfrm>
            <a:custGeom>
              <a:avLst/>
              <a:gdLst/>
              <a:ahLst/>
              <a:rect l="l" t="t" r="r" b="b"/>
              <a:pathLst>
                <a:path w="785" h="906">
                  <a:moveTo>
                    <a:pt x="738" y="0"/>
                  </a:moveTo>
                  <a:lnTo>
                    <a:pt x="684" y="120"/>
                  </a:lnTo>
                  <a:lnTo>
                    <a:pt x="592" y="265"/>
                  </a:lnTo>
                  <a:lnTo>
                    <a:pt x="493" y="363"/>
                  </a:lnTo>
                  <a:lnTo>
                    <a:pt x="408" y="433"/>
                  </a:lnTo>
                  <a:lnTo>
                    <a:pt x="348" y="492"/>
                  </a:lnTo>
                  <a:lnTo>
                    <a:pt x="315" y="534"/>
                  </a:lnTo>
                  <a:lnTo>
                    <a:pt x="254" y="607"/>
                  </a:lnTo>
                  <a:lnTo>
                    <a:pt x="180" y="676"/>
                  </a:lnTo>
                  <a:lnTo>
                    <a:pt x="98" y="730"/>
                  </a:lnTo>
                  <a:lnTo>
                    <a:pt x="64" y="755"/>
                  </a:lnTo>
                  <a:lnTo>
                    <a:pt x="0" y="779"/>
                  </a:lnTo>
                  <a:lnTo>
                    <a:pt x="28" y="791"/>
                  </a:lnTo>
                  <a:lnTo>
                    <a:pt x="147" y="730"/>
                  </a:lnTo>
                  <a:lnTo>
                    <a:pt x="220" y="860"/>
                  </a:lnTo>
                  <a:lnTo>
                    <a:pt x="285" y="889"/>
                  </a:lnTo>
                  <a:lnTo>
                    <a:pt x="226" y="830"/>
                  </a:lnTo>
                  <a:lnTo>
                    <a:pt x="189" y="708"/>
                  </a:lnTo>
                  <a:lnTo>
                    <a:pt x="254" y="666"/>
                  </a:lnTo>
                  <a:lnTo>
                    <a:pt x="350" y="902"/>
                  </a:lnTo>
                  <a:lnTo>
                    <a:pt x="516" y="906"/>
                  </a:lnTo>
                  <a:lnTo>
                    <a:pt x="359" y="880"/>
                  </a:lnTo>
                  <a:lnTo>
                    <a:pt x="280" y="628"/>
                  </a:lnTo>
                  <a:lnTo>
                    <a:pt x="359" y="522"/>
                  </a:lnTo>
                  <a:lnTo>
                    <a:pt x="511" y="868"/>
                  </a:lnTo>
                  <a:lnTo>
                    <a:pt x="390" y="500"/>
                  </a:lnTo>
                  <a:lnTo>
                    <a:pt x="459" y="431"/>
                  </a:lnTo>
                  <a:lnTo>
                    <a:pt x="550" y="346"/>
                  </a:lnTo>
                  <a:lnTo>
                    <a:pt x="651" y="227"/>
                  </a:lnTo>
                  <a:lnTo>
                    <a:pt x="718" y="120"/>
                  </a:lnTo>
                  <a:lnTo>
                    <a:pt x="785" y="8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294760" y="3544920"/>
              <a:ext cx="31680" cy="61920"/>
            </a:xfrm>
            <a:custGeom>
              <a:avLst/>
              <a:gdLst/>
              <a:ahLst/>
              <a:rect l="l" t="t" r="r" b="b"/>
              <a:pathLst>
                <a:path w="512" h="1004">
                  <a:moveTo>
                    <a:pt x="299" y="0"/>
                  </a:moveTo>
                  <a:lnTo>
                    <a:pt x="359" y="255"/>
                  </a:lnTo>
                  <a:lnTo>
                    <a:pt x="459" y="512"/>
                  </a:lnTo>
                  <a:lnTo>
                    <a:pt x="489" y="558"/>
                  </a:lnTo>
                  <a:lnTo>
                    <a:pt x="364" y="567"/>
                  </a:lnTo>
                  <a:lnTo>
                    <a:pt x="402" y="677"/>
                  </a:lnTo>
                  <a:lnTo>
                    <a:pt x="512" y="876"/>
                  </a:lnTo>
                  <a:lnTo>
                    <a:pt x="512" y="965"/>
                  </a:lnTo>
                  <a:lnTo>
                    <a:pt x="484" y="1004"/>
                  </a:lnTo>
                  <a:lnTo>
                    <a:pt x="359" y="965"/>
                  </a:lnTo>
                  <a:lnTo>
                    <a:pt x="242" y="973"/>
                  </a:lnTo>
                  <a:lnTo>
                    <a:pt x="15" y="870"/>
                  </a:lnTo>
                  <a:lnTo>
                    <a:pt x="98" y="884"/>
                  </a:lnTo>
                  <a:lnTo>
                    <a:pt x="198" y="828"/>
                  </a:lnTo>
                  <a:lnTo>
                    <a:pt x="133" y="752"/>
                  </a:lnTo>
                  <a:lnTo>
                    <a:pt x="0" y="378"/>
                  </a:lnTo>
                  <a:lnTo>
                    <a:pt x="176" y="739"/>
                  </a:lnTo>
                  <a:lnTo>
                    <a:pt x="244" y="794"/>
                  </a:lnTo>
                  <a:lnTo>
                    <a:pt x="364" y="694"/>
                  </a:lnTo>
                  <a:lnTo>
                    <a:pt x="261" y="482"/>
                  </a:lnTo>
                  <a:lnTo>
                    <a:pt x="161" y="225"/>
                  </a:lnTo>
                  <a:lnTo>
                    <a:pt x="291" y="465"/>
                  </a:lnTo>
                  <a:lnTo>
                    <a:pt x="399" y="536"/>
                  </a:lnTo>
                  <a:lnTo>
                    <a:pt x="455" y="546"/>
                  </a:lnTo>
                  <a:lnTo>
                    <a:pt x="378" y="380"/>
                  </a:lnTo>
                  <a:lnTo>
                    <a:pt x="317" y="166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91680" y="3117960"/>
              <a:ext cx="41400" cy="10800"/>
            </a:xfrm>
            <a:custGeom>
              <a:avLst/>
              <a:gdLst/>
              <a:ahLst/>
              <a:rect l="l" t="t" r="r" b="b"/>
              <a:pathLst>
                <a:path w="666" h="186">
                  <a:moveTo>
                    <a:pt x="0" y="123"/>
                  </a:moveTo>
                  <a:lnTo>
                    <a:pt x="31" y="62"/>
                  </a:lnTo>
                  <a:lnTo>
                    <a:pt x="152" y="30"/>
                  </a:lnTo>
                  <a:lnTo>
                    <a:pt x="330" y="0"/>
                  </a:lnTo>
                  <a:lnTo>
                    <a:pt x="552" y="24"/>
                  </a:lnTo>
                  <a:lnTo>
                    <a:pt x="666" y="85"/>
                  </a:lnTo>
                  <a:lnTo>
                    <a:pt x="565" y="111"/>
                  </a:lnTo>
                  <a:lnTo>
                    <a:pt x="409" y="186"/>
                  </a:lnTo>
                  <a:lnTo>
                    <a:pt x="520" y="111"/>
                  </a:lnTo>
                  <a:lnTo>
                    <a:pt x="595" y="73"/>
                  </a:lnTo>
                  <a:lnTo>
                    <a:pt x="545" y="42"/>
                  </a:lnTo>
                  <a:lnTo>
                    <a:pt x="352" y="24"/>
                  </a:lnTo>
                  <a:lnTo>
                    <a:pt x="241" y="42"/>
                  </a:lnTo>
                  <a:lnTo>
                    <a:pt x="87" y="123"/>
                  </a:lnTo>
                  <a:lnTo>
                    <a:pt x="116" y="157"/>
                  </a:lnTo>
                  <a:lnTo>
                    <a:pt x="12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504280" y="3135240"/>
              <a:ext cx="12960" cy="3240"/>
            </a:xfrm>
            <a:custGeom>
              <a:avLst/>
              <a:gdLst/>
              <a:ahLst/>
              <a:rect l="l" t="t" r="r" b="b"/>
              <a:pathLst>
                <a:path w="215" h="41">
                  <a:moveTo>
                    <a:pt x="0" y="15"/>
                  </a:moveTo>
                  <a:lnTo>
                    <a:pt x="215" y="0"/>
                  </a:lnTo>
                  <a:lnTo>
                    <a:pt x="197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498160" y="3068640"/>
              <a:ext cx="54000" cy="42840"/>
            </a:xfrm>
            <a:custGeom>
              <a:avLst/>
              <a:gdLst/>
              <a:ahLst/>
              <a:rect l="l" t="t" r="r" b="b"/>
              <a:pathLst>
                <a:path w="889" h="710">
                  <a:moveTo>
                    <a:pt x="0" y="637"/>
                  </a:moveTo>
                  <a:lnTo>
                    <a:pt x="49" y="680"/>
                  </a:lnTo>
                  <a:lnTo>
                    <a:pt x="154" y="680"/>
                  </a:lnTo>
                  <a:lnTo>
                    <a:pt x="227" y="568"/>
                  </a:lnTo>
                  <a:lnTo>
                    <a:pt x="194" y="510"/>
                  </a:lnTo>
                  <a:lnTo>
                    <a:pt x="194" y="241"/>
                  </a:lnTo>
                  <a:lnTo>
                    <a:pt x="338" y="101"/>
                  </a:lnTo>
                  <a:lnTo>
                    <a:pt x="287" y="79"/>
                  </a:lnTo>
                  <a:lnTo>
                    <a:pt x="300" y="45"/>
                  </a:lnTo>
                  <a:lnTo>
                    <a:pt x="674" y="0"/>
                  </a:lnTo>
                  <a:lnTo>
                    <a:pt x="808" y="10"/>
                  </a:lnTo>
                  <a:lnTo>
                    <a:pt x="889" y="101"/>
                  </a:lnTo>
                  <a:lnTo>
                    <a:pt x="786" y="60"/>
                  </a:lnTo>
                  <a:lnTo>
                    <a:pt x="648" y="39"/>
                  </a:lnTo>
                  <a:lnTo>
                    <a:pt x="492" y="45"/>
                  </a:lnTo>
                  <a:lnTo>
                    <a:pt x="249" y="283"/>
                  </a:lnTo>
                  <a:lnTo>
                    <a:pt x="249" y="423"/>
                  </a:lnTo>
                  <a:lnTo>
                    <a:pt x="338" y="514"/>
                  </a:lnTo>
                  <a:lnTo>
                    <a:pt x="275" y="493"/>
                  </a:lnTo>
                  <a:lnTo>
                    <a:pt x="275" y="599"/>
                  </a:lnTo>
                  <a:lnTo>
                    <a:pt x="338" y="637"/>
                  </a:lnTo>
                  <a:lnTo>
                    <a:pt x="368" y="556"/>
                  </a:lnTo>
                  <a:lnTo>
                    <a:pt x="415" y="621"/>
                  </a:lnTo>
                  <a:lnTo>
                    <a:pt x="349" y="659"/>
                  </a:lnTo>
                  <a:lnTo>
                    <a:pt x="275" y="647"/>
                  </a:lnTo>
                  <a:lnTo>
                    <a:pt x="185" y="710"/>
                  </a:lnTo>
                  <a:lnTo>
                    <a:pt x="65" y="710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520120" y="3074760"/>
              <a:ext cx="22320" cy="6480"/>
            </a:xfrm>
            <a:custGeom>
              <a:avLst/>
              <a:gdLst/>
              <a:ahLst/>
              <a:rect l="l" t="t" r="r" b="b"/>
              <a:pathLst>
                <a:path w="360" h="118">
                  <a:moveTo>
                    <a:pt x="38" y="0"/>
                  </a:moveTo>
                  <a:lnTo>
                    <a:pt x="297" y="29"/>
                  </a:lnTo>
                  <a:lnTo>
                    <a:pt x="360" y="89"/>
                  </a:lnTo>
                  <a:lnTo>
                    <a:pt x="318" y="118"/>
                  </a:lnTo>
                  <a:lnTo>
                    <a:pt x="271" y="48"/>
                  </a:lnTo>
                  <a:lnTo>
                    <a:pt x="218" y="48"/>
                  </a:lnTo>
                  <a:lnTo>
                    <a:pt x="218" y="89"/>
                  </a:lnTo>
                  <a:lnTo>
                    <a:pt x="237" y="99"/>
                  </a:lnTo>
                  <a:lnTo>
                    <a:pt x="125" y="118"/>
                  </a:lnTo>
                  <a:lnTo>
                    <a:pt x="156" y="71"/>
                  </a:lnTo>
                  <a:lnTo>
                    <a:pt x="133" y="55"/>
                  </a:lnTo>
                  <a:lnTo>
                    <a:pt x="125" y="29"/>
                  </a:lnTo>
                  <a:lnTo>
                    <a:pt x="0" y="2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1160" y="3074760"/>
              <a:ext cx="25200" cy="14400"/>
            </a:xfrm>
            <a:custGeom>
              <a:avLst/>
              <a:gdLst/>
              <a:ahLst/>
              <a:rect l="l" t="t" r="r" b="b"/>
              <a:pathLst>
                <a:path w="414" h="223">
                  <a:moveTo>
                    <a:pt x="16" y="87"/>
                  </a:moveTo>
                  <a:lnTo>
                    <a:pt x="0" y="36"/>
                  </a:lnTo>
                  <a:lnTo>
                    <a:pt x="180" y="0"/>
                  </a:lnTo>
                  <a:lnTo>
                    <a:pt x="299" y="0"/>
                  </a:lnTo>
                  <a:lnTo>
                    <a:pt x="257" y="41"/>
                  </a:lnTo>
                  <a:lnTo>
                    <a:pt x="380" y="41"/>
                  </a:lnTo>
                  <a:lnTo>
                    <a:pt x="414" y="87"/>
                  </a:lnTo>
                  <a:lnTo>
                    <a:pt x="354" y="87"/>
                  </a:lnTo>
                  <a:lnTo>
                    <a:pt x="354" y="136"/>
                  </a:lnTo>
                  <a:lnTo>
                    <a:pt x="397" y="136"/>
                  </a:lnTo>
                  <a:lnTo>
                    <a:pt x="251" y="210"/>
                  </a:lnTo>
                  <a:lnTo>
                    <a:pt x="265" y="174"/>
                  </a:lnTo>
                  <a:lnTo>
                    <a:pt x="227" y="111"/>
                  </a:lnTo>
                  <a:lnTo>
                    <a:pt x="146" y="166"/>
                  </a:lnTo>
                  <a:lnTo>
                    <a:pt x="153" y="223"/>
                  </a:lnTo>
                  <a:lnTo>
                    <a:pt x="63" y="198"/>
                  </a:lnTo>
                  <a:lnTo>
                    <a:pt x="235" y="87"/>
                  </a:lnTo>
                  <a:lnTo>
                    <a:pt x="196" y="36"/>
                  </a:lnTo>
                  <a:lnTo>
                    <a:pt x="53" y="83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53520" y="2997000"/>
              <a:ext cx="104760" cy="182880"/>
            </a:xfrm>
            <a:custGeom>
              <a:avLst/>
              <a:gdLst/>
              <a:ahLst/>
              <a:rect l="l" t="t" r="r" b="b"/>
              <a:pathLst>
                <a:path w="1705" h="3005">
                  <a:moveTo>
                    <a:pt x="766" y="91"/>
                  </a:moveTo>
                  <a:lnTo>
                    <a:pt x="701" y="149"/>
                  </a:lnTo>
                  <a:lnTo>
                    <a:pt x="766" y="149"/>
                  </a:lnTo>
                  <a:lnTo>
                    <a:pt x="713" y="236"/>
                  </a:lnTo>
                  <a:lnTo>
                    <a:pt x="596" y="319"/>
                  </a:lnTo>
                  <a:lnTo>
                    <a:pt x="726" y="319"/>
                  </a:lnTo>
                  <a:lnTo>
                    <a:pt x="701" y="410"/>
                  </a:lnTo>
                  <a:lnTo>
                    <a:pt x="637" y="453"/>
                  </a:lnTo>
                  <a:lnTo>
                    <a:pt x="586" y="487"/>
                  </a:lnTo>
                  <a:lnTo>
                    <a:pt x="465" y="548"/>
                  </a:lnTo>
                  <a:lnTo>
                    <a:pt x="620" y="548"/>
                  </a:lnTo>
                  <a:lnTo>
                    <a:pt x="713" y="487"/>
                  </a:lnTo>
                  <a:lnTo>
                    <a:pt x="713" y="572"/>
                  </a:lnTo>
                  <a:lnTo>
                    <a:pt x="620" y="611"/>
                  </a:lnTo>
                  <a:lnTo>
                    <a:pt x="429" y="688"/>
                  </a:lnTo>
                  <a:lnTo>
                    <a:pt x="276" y="690"/>
                  </a:lnTo>
                  <a:lnTo>
                    <a:pt x="369" y="712"/>
                  </a:lnTo>
                  <a:lnTo>
                    <a:pt x="605" y="679"/>
                  </a:lnTo>
                  <a:lnTo>
                    <a:pt x="802" y="590"/>
                  </a:lnTo>
                  <a:lnTo>
                    <a:pt x="859" y="489"/>
                  </a:lnTo>
                  <a:lnTo>
                    <a:pt x="922" y="321"/>
                  </a:lnTo>
                  <a:lnTo>
                    <a:pt x="936" y="342"/>
                  </a:lnTo>
                  <a:lnTo>
                    <a:pt x="855" y="578"/>
                  </a:lnTo>
                  <a:lnTo>
                    <a:pt x="741" y="758"/>
                  </a:lnTo>
                  <a:lnTo>
                    <a:pt x="586" y="868"/>
                  </a:lnTo>
                  <a:lnTo>
                    <a:pt x="637" y="728"/>
                  </a:lnTo>
                  <a:lnTo>
                    <a:pt x="456" y="833"/>
                  </a:lnTo>
                  <a:lnTo>
                    <a:pt x="276" y="847"/>
                  </a:lnTo>
                  <a:lnTo>
                    <a:pt x="250" y="1189"/>
                  </a:lnTo>
                  <a:lnTo>
                    <a:pt x="242" y="1535"/>
                  </a:lnTo>
                  <a:lnTo>
                    <a:pt x="284" y="1863"/>
                  </a:lnTo>
                  <a:lnTo>
                    <a:pt x="465" y="2360"/>
                  </a:lnTo>
                  <a:lnTo>
                    <a:pt x="605" y="2570"/>
                  </a:lnTo>
                  <a:lnTo>
                    <a:pt x="775" y="2710"/>
                  </a:lnTo>
                  <a:lnTo>
                    <a:pt x="824" y="2689"/>
                  </a:lnTo>
                  <a:lnTo>
                    <a:pt x="966" y="2736"/>
                  </a:lnTo>
                  <a:lnTo>
                    <a:pt x="1335" y="2557"/>
                  </a:lnTo>
                  <a:lnTo>
                    <a:pt x="1344" y="2607"/>
                  </a:lnTo>
                  <a:lnTo>
                    <a:pt x="1480" y="2542"/>
                  </a:lnTo>
                  <a:lnTo>
                    <a:pt x="1438" y="2647"/>
                  </a:lnTo>
                  <a:lnTo>
                    <a:pt x="1480" y="2647"/>
                  </a:lnTo>
                  <a:lnTo>
                    <a:pt x="1705" y="2471"/>
                  </a:lnTo>
                  <a:lnTo>
                    <a:pt x="1490" y="2736"/>
                  </a:lnTo>
                  <a:lnTo>
                    <a:pt x="1290" y="2863"/>
                  </a:lnTo>
                  <a:lnTo>
                    <a:pt x="1035" y="2882"/>
                  </a:lnTo>
                  <a:lnTo>
                    <a:pt x="1155" y="3005"/>
                  </a:lnTo>
                  <a:lnTo>
                    <a:pt x="922" y="2904"/>
                  </a:lnTo>
                  <a:lnTo>
                    <a:pt x="802" y="2787"/>
                  </a:lnTo>
                  <a:lnTo>
                    <a:pt x="667" y="2682"/>
                  </a:lnTo>
                  <a:lnTo>
                    <a:pt x="673" y="2829"/>
                  </a:lnTo>
                  <a:lnTo>
                    <a:pt x="596" y="2633"/>
                  </a:lnTo>
                  <a:lnTo>
                    <a:pt x="472" y="2483"/>
                  </a:lnTo>
                  <a:lnTo>
                    <a:pt x="344" y="2231"/>
                  </a:lnTo>
                  <a:lnTo>
                    <a:pt x="259" y="1911"/>
                  </a:lnTo>
                  <a:lnTo>
                    <a:pt x="189" y="1539"/>
                  </a:lnTo>
                  <a:lnTo>
                    <a:pt x="125" y="1466"/>
                  </a:lnTo>
                  <a:lnTo>
                    <a:pt x="53" y="1149"/>
                  </a:lnTo>
                  <a:lnTo>
                    <a:pt x="0" y="1021"/>
                  </a:lnTo>
                  <a:lnTo>
                    <a:pt x="112" y="712"/>
                  </a:lnTo>
                  <a:lnTo>
                    <a:pt x="138" y="487"/>
                  </a:lnTo>
                  <a:lnTo>
                    <a:pt x="270" y="272"/>
                  </a:lnTo>
                  <a:lnTo>
                    <a:pt x="416" y="208"/>
                  </a:lnTo>
                  <a:lnTo>
                    <a:pt x="456" y="87"/>
                  </a:lnTo>
                  <a:lnTo>
                    <a:pt x="690" y="56"/>
                  </a:lnTo>
                  <a:lnTo>
                    <a:pt x="837" y="0"/>
                  </a:lnTo>
                  <a:lnTo>
                    <a:pt x="954" y="50"/>
                  </a:lnTo>
                  <a:lnTo>
                    <a:pt x="837" y="50"/>
                  </a:lnTo>
                  <a:lnTo>
                    <a:pt x="766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08960" y="2997000"/>
              <a:ext cx="78120" cy="157320"/>
            </a:xfrm>
            <a:custGeom>
              <a:avLst/>
              <a:gdLst/>
              <a:ahLst/>
              <a:rect l="l" t="t" r="r" b="b"/>
              <a:pathLst>
                <a:path w="1278" h="2563">
                  <a:moveTo>
                    <a:pt x="49" y="27"/>
                  </a:moveTo>
                  <a:lnTo>
                    <a:pt x="0" y="127"/>
                  </a:lnTo>
                  <a:lnTo>
                    <a:pt x="0" y="250"/>
                  </a:lnTo>
                  <a:lnTo>
                    <a:pt x="17" y="395"/>
                  </a:lnTo>
                  <a:lnTo>
                    <a:pt x="69" y="507"/>
                  </a:lnTo>
                  <a:lnTo>
                    <a:pt x="189" y="626"/>
                  </a:lnTo>
                  <a:lnTo>
                    <a:pt x="345" y="681"/>
                  </a:lnTo>
                  <a:lnTo>
                    <a:pt x="258" y="604"/>
                  </a:lnTo>
                  <a:lnTo>
                    <a:pt x="439" y="626"/>
                  </a:lnTo>
                  <a:lnTo>
                    <a:pt x="645" y="634"/>
                  </a:lnTo>
                  <a:lnTo>
                    <a:pt x="575" y="571"/>
                  </a:lnTo>
                  <a:lnTo>
                    <a:pt x="732" y="634"/>
                  </a:lnTo>
                  <a:lnTo>
                    <a:pt x="679" y="745"/>
                  </a:lnTo>
                  <a:lnTo>
                    <a:pt x="654" y="944"/>
                  </a:lnTo>
                  <a:lnTo>
                    <a:pt x="707" y="1125"/>
                  </a:lnTo>
                  <a:lnTo>
                    <a:pt x="842" y="1237"/>
                  </a:lnTo>
                  <a:lnTo>
                    <a:pt x="955" y="1318"/>
                  </a:lnTo>
                  <a:lnTo>
                    <a:pt x="946" y="1562"/>
                  </a:lnTo>
                  <a:lnTo>
                    <a:pt x="1017" y="1621"/>
                  </a:lnTo>
                  <a:lnTo>
                    <a:pt x="1097" y="1330"/>
                  </a:lnTo>
                  <a:lnTo>
                    <a:pt x="1209" y="1425"/>
                  </a:lnTo>
                  <a:lnTo>
                    <a:pt x="1189" y="1604"/>
                  </a:lnTo>
                  <a:lnTo>
                    <a:pt x="1112" y="1744"/>
                  </a:lnTo>
                  <a:lnTo>
                    <a:pt x="1023" y="1856"/>
                  </a:lnTo>
                  <a:lnTo>
                    <a:pt x="989" y="1732"/>
                  </a:lnTo>
                  <a:lnTo>
                    <a:pt x="962" y="2066"/>
                  </a:lnTo>
                  <a:lnTo>
                    <a:pt x="962" y="2357"/>
                  </a:lnTo>
                  <a:lnTo>
                    <a:pt x="1008" y="2563"/>
                  </a:lnTo>
                  <a:lnTo>
                    <a:pt x="1000" y="2292"/>
                  </a:lnTo>
                  <a:lnTo>
                    <a:pt x="1042" y="1926"/>
                  </a:lnTo>
                  <a:lnTo>
                    <a:pt x="1168" y="1793"/>
                  </a:lnTo>
                  <a:lnTo>
                    <a:pt x="1246" y="1522"/>
                  </a:lnTo>
                  <a:lnTo>
                    <a:pt x="1246" y="1290"/>
                  </a:lnTo>
                  <a:lnTo>
                    <a:pt x="1278" y="1203"/>
                  </a:lnTo>
                  <a:lnTo>
                    <a:pt x="1209" y="1020"/>
                  </a:lnTo>
                  <a:lnTo>
                    <a:pt x="1163" y="764"/>
                  </a:lnTo>
                  <a:lnTo>
                    <a:pt x="1042" y="583"/>
                  </a:lnTo>
                  <a:lnTo>
                    <a:pt x="836" y="480"/>
                  </a:lnTo>
                  <a:lnTo>
                    <a:pt x="679" y="254"/>
                  </a:lnTo>
                  <a:lnTo>
                    <a:pt x="473" y="68"/>
                  </a:lnTo>
                  <a:lnTo>
                    <a:pt x="326" y="15"/>
                  </a:lnTo>
                  <a:lnTo>
                    <a:pt x="165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564760" y="3079800"/>
              <a:ext cx="32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562960" y="308124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561520" y="308592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8557920" y="3090960"/>
              <a:ext cx="180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8553240" y="3095640"/>
              <a:ext cx="32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8548560" y="3100320"/>
              <a:ext cx="4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8546760" y="310356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8543520" y="3112920"/>
              <a:ext cx="828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18680" y="3146400"/>
              <a:ext cx="73080" cy="76320"/>
            </a:xfrm>
            <a:custGeom>
              <a:avLst/>
              <a:gdLst/>
              <a:ahLst/>
              <a:rect l="l" t="t" r="r" b="b"/>
              <a:pathLst>
                <a:path w="1202" h="1256">
                  <a:moveTo>
                    <a:pt x="843" y="0"/>
                  </a:moveTo>
                  <a:lnTo>
                    <a:pt x="1000" y="192"/>
                  </a:lnTo>
                  <a:lnTo>
                    <a:pt x="1202" y="295"/>
                  </a:lnTo>
                  <a:lnTo>
                    <a:pt x="1166" y="362"/>
                  </a:lnTo>
                  <a:lnTo>
                    <a:pt x="597" y="896"/>
                  </a:lnTo>
                  <a:lnTo>
                    <a:pt x="314" y="1256"/>
                  </a:lnTo>
                  <a:lnTo>
                    <a:pt x="152" y="1031"/>
                  </a:lnTo>
                  <a:lnTo>
                    <a:pt x="34" y="772"/>
                  </a:lnTo>
                  <a:lnTo>
                    <a:pt x="0" y="598"/>
                  </a:lnTo>
                  <a:lnTo>
                    <a:pt x="644" y="281"/>
                  </a:lnTo>
                  <a:lnTo>
                    <a:pt x="790" y="184"/>
                  </a:lnTo>
                  <a:lnTo>
                    <a:pt x="620" y="312"/>
                  </a:lnTo>
                  <a:lnTo>
                    <a:pt x="53" y="621"/>
                  </a:lnTo>
                  <a:lnTo>
                    <a:pt x="95" y="761"/>
                  </a:lnTo>
                  <a:lnTo>
                    <a:pt x="314" y="1167"/>
                  </a:lnTo>
                  <a:lnTo>
                    <a:pt x="579" y="833"/>
                  </a:lnTo>
                  <a:lnTo>
                    <a:pt x="988" y="441"/>
                  </a:lnTo>
                  <a:lnTo>
                    <a:pt x="1132" y="312"/>
                  </a:lnTo>
                  <a:lnTo>
                    <a:pt x="974" y="206"/>
                  </a:lnTo>
                  <a:lnTo>
                    <a:pt x="871" y="123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498160" y="3171600"/>
              <a:ext cx="140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488440" y="3182760"/>
              <a:ext cx="30240" cy="30240"/>
            </a:xfrm>
            <a:custGeom>
              <a:avLst/>
              <a:gdLst/>
              <a:ahLst/>
              <a:rect l="l" t="t" r="r" b="b"/>
              <a:pathLst>
                <a:path w="497" h="492">
                  <a:moveTo>
                    <a:pt x="497" y="0"/>
                  </a:moveTo>
                  <a:lnTo>
                    <a:pt x="208" y="39"/>
                  </a:lnTo>
                  <a:lnTo>
                    <a:pt x="164" y="81"/>
                  </a:lnTo>
                  <a:lnTo>
                    <a:pt x="189" y="144"/>
                  </a:lnTo>
                  <a:lnTo>
                    <a:pt x="0" y="492"/>
                  </a:lnTo>
                  <a:lnTo>
                    <a:pt x="189" y="199"/>
                  </a:lnTo>
                  <a:lnTo>
                    <a:pt x="257" y="397"/>
                  </a:lnTo>
                  <a:lnTo>
                    <a:pt x="257" y="466"/>
                  </a:lnTo>
                  <a:lnTo>
                    <a:pt x="344" y="433"/>
                  </a:lnTo>
                  <a:lnTo>
                    <a:pt x="437" y="274"/>
                  </a:lnTo>
                  <a:lnTo>
                    <a:pt x="355" y="350"/>
                  </a:lnTo>
                  <a:lnTo>
                    <a:pt x="280" y="333"/>
                  </a:lnTo>
                  <a:lnTo>
                    <a:pt x="208" y="100"/>
                  </a:lnTo>
                  <a:lnTo>
                    <a:pt x="484" y="39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8515440" y="3192480"/>
              <a:ext cx="9720" cy="1116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98"/>
                  </a:moveTo>
                  <a:lnTo>
                    <a:pt x="146" y="179"/>
                  </a:lnTo>
                  <a:lnTo>
                    <a:pt x="64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490240" y="3208320"/>
              <a:ext cx="29880" cy="325440"/>
            </a:xfrm>
            <a:custGeom>
              <a:avLst/>
              <a:gdLst/>
              <a:ahLst/>
              <a:rect l="l" t="t" r="r" b="b"/>
              <a:pathLst>
                <a:path w="519" h="5344">
                  <a:moveTo>
                    <a:pt x="334" y="0"/>
                  </a:moveTo>
                  <a:lnTo>
                    <a:pt x="391" y="243"/>
                  </a:lnTo>
                  <a:lnTo>
                    <a:pt x="391" y="627"/>
                  </a:lnTo>
                  <a:lnTo>
                    <a:pt x="296" y="1582"/>
                  </a:lnTo>
                  <a:lnTo>
                    <a:pt x="280" y="2646"/>
                  </a:lnTo>
                  <a:lnTo>
                    <a:pt x="408" y="4117"/>
                  </a:lnTo>
                  <a:lnTo>
                    <a:pt x="519" y="4796"/>
                  </a:lnTo>
                  <a:lnTo>
                    <a:pt x="0" y="5344"/>
                  </a:lnTo>
                  <a:lnTo>
                    <a:pt x="446" y="4741"/>
                  </a:lnTo>
                  <a:lnTo>
                    <a:pt x="334" y="3956"/>
                  </a:lnTo>
                  <a:lnTo>
                    <a:pt x="238" y="2884"/>
                  </a:lnTo>
                  <a:lnTo>
                    <a:pt x="227" y="2337"/>
                  </a:lnTo>
                  <a:lnTo>
                    <a:pt x="262" y="1471"/>
                  </a:lnTo>
                  <a:lnTo>
                    <a:pt x="334" y="739"/>
                  </a:lnTo>
                  <a:lnTo>
                    <a:pt x="349" y="444"/>
                  </a:lnTo>
                  <a:lnTo>
                    <a:pt x="334" y="20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55320" y="3208320"/>
              <a:ext cx="52200" cy="325440"/>
            </a:xfrm>
            <a:custGeom>
              <a:avLst/>
              <a:gdLst/>
              <a:ahLst/>
              <a:rect l="l" t="t" r="r" b="b"/>
              <a:pathLst>
                <a:path w="848" h="5331">
                  <a:moveTo>
                    <a:pt x="848" y="22"/>
                  </a:moveTo>
                  <a:lnTo>
                    <a:pt x="650" y="573"/>
                  </a:lnTo>
                  <a:lnTo>
                    <a:pt x="446" y="1398"/>
                  </a:lnTo>
                  <a:lnTo>
                    <a:pt x="372" y="2044"/>
                  </a:lnTo>
                  <a:lnTo>
                    <a:pt x="334" y="3368"/>
                  </a:lnTo>
                  <a:lnTo>
                    <a:pt x="223" y="4155"/>
                  </a:lnTo>
                  <a:lnTo>
                    <a:pt x="77" y="4851"/>
                  </a:lnTo>
                  <a:lnTo>
                    <a:pt x="591" y="5331"/>
                  </a:lnTo>
                  <a:lnTo>
                    <a:pt x="538" y="5331"/>
                  </a:lnTo>
                  <a:lnTo>
                    <a:pt x="0" y="4851"/>
                  </a:lnTo>
                  <a:lnTo>
                    <a:pt x="149" y="4155"/>
                  </a:lnTo>
                  <a:lnTo>
                    <a:pt x="277" y="3291"/>
                  </a:lnTo>
                  <a:lnTo>
                    <a:pt x="300" y="2316"/>
                  </a:lnTo>
                  <a:lnTo>
                    <a:pt x="350" y="1582"/>
                  </a:lnTo>
                  <a:lnTo>
                    <a:pt x="463" y="1034"/>
                  </a:lnTo>
                  <a:lnTo>
                    <a:pt x="650" y="368"/>
                  </a:lnTo>
                  <a:lnTo>
                    <a:pt x="814" y="0"/>
                  </a:lnTo>
                  <a:lnTo>
                    <a:pt x="84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597880" y="3208320"/>
              <a:ext cx="54000" cy="214200"/>
            </a:xfrm>
            <a:custGeom>
              <a:avLst/>
              <a:gdLst/>
              <a:ahLst/>
              <a:rect l="l" t="t" r="r" b="b"/>
              <a:pathLst>
                <a:path w="883" h="3508">
                  <a:moveTo>
                    <a:pt x="348" y="0"/>
                  </a:moveTo>
                  <a:lnTo>
                    <a:pt x="420" y="310"/>
                  </a:lnTo>
                  <a:lnTo>
                    <a:pt x="403" y="643"/>
                  </a:lnTo>
                  <a:lnTo>
                    <a:pt x="237" y="1080"/>
                  </a:lnTo>
                  <a:lnTo>
                    <a:pt x="125" y="1469"/>
                  </a:lnTo>
                  <a:lnTo>
                    <a:pt x="68" y="1725"/>
                  </a:lnTo>
                  <a:lnTo>
                    <a:pt x="348" y="1979"/>
                  </a:lnTo>
                  <a:lnTo>
                    <a:pt x="437" y="2328"/>
                  </a:lnTo>
                  <a:lnTo>
                    <a:pt x="403" y="2624"/>
                  </a:lnTo>
                  <a:lnTo>
                    <a:pt x="291" y="2881"/>
                  </a:lnTo>
                  <a:lnTo>
                    <a:pt x="184" y="3140"/>
                  </a:lnTo>
                  <a:lnTo>
                    <a:pt x="0" y="3508"/>
                  </a:lnTo>
                  <a:lnTo>
                    <a:pt x="437" y="2624"/>
                  </a:lnTo>
                  <a:lnTo>
                    <a:pt x="479" y="2328"/>
                  </a:lnTo>
                  <a:lnTo>
                    <a:pt x="479" y="2075"/>
                  </a:lnTo>
                  <a:lnTo>
                    <a:pt x="382" y="1853"/>
                  </a:lnTo>
                  <a:lnTo>
                    <a:pt x="566" y="1507"/>
                  </a:lnTo>
                  <a:lnTo>
                    <a:pt x="883" y="1819"/>
                  </a:lnTo>
                  <a:lnTo>
                    <a:pt x="566" y="1415"/>
                  </a:lnTo>
                  <a:lnTo>
                    <a:pt x="479" y="1119"/>
                  </a:lnTo>
                  <a:lnTo>
                    <a:pt x="459" y="806"/>
                  </a:lnTo>
                  <a:lnTo>
                    <a:pt x="459" y="384"/>
                  </a:lnTo>
                  <a:lnTo>
                    <a:pt x="420" y="168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575920" y="3230640"/>
              <a:ext cx="155520" cy="282600"/>
            </a:xfrm>
            <a:custGeom>
              <a:avLst/>
              <a:gdLst/>
              <a:ahLst/>
              <a:rect l="l" t="t" r="r" b="b"/>
              <a:pathLst>
                <a:path w="2549" h="4630">
                  <a:moveTo>
                    <a:pt x="1251" y="0"/>
                  </a:moveTo>
                  <a:lnTo>
                    <a:pt x="1148" y="388"/>
                  </a:lnTo>
                  <a:lnTo>
                    <a:pt x="1126" y="884"/>
                  </a:lnTo>
                  <a:lnTo>
                    <a:pt x="1221" y="1250"/>
                  </a:lnTo>
                  <a:lnTo>
                    <a:pt x="1569" y="2151"/>
                  </a:lnTo>
                  <a:lnTo>
                    <a:pt x="1826" y="2227"/>
                  </a:lnTo>
                  <a:lnTo>
                    <a:pt x="2087" y="2005"/>
                  </a:lnTo>
                  <a:lnTo>
                    <a:pt x="2549" y="2205"/>
                  </a:lnTo>
                  <a:lnTo>
                    <a:pt x="2229" y="2151"/>
                  </a:lnTo>
                  <a:lnTo>
                    <a:pt x="1750" y="2410"/>
                  </a:lnTo>
                  <a:lnTo>
                    <a:pt x="1697" y="2573"/>
                  </a:lnTo>
                  <a:lnTo>
                    <a:pt x="2160" y="2612"/>
                  </a:lnTo>
                  <a:lnTo>
                    <a:pt x="2359" y="2830"/>
                  </a:lnTo>
                  <a:lnTo>
                    <a:pt x="2122" y="2667"/>
                  </a:lnTo>
                  <a:lnTo>
                    <a:pt x="1826" y="2628"/>
                  </a:lnTo>
                  <a:lnTo>
                    <a:pt x="1547" y="2777"/>
                  </a:lnTo>
                  <a:lnTo>
                    <a:pt x="1497" y="3344"/>
                  </a:lnTo>
                  <a:lnTo>
                    <a:pt x="1126" y="3953"/>
                  </a:lnTo>
                  <a:lnTo>
                    <a:pt x="1569" y="4228"/>
                  </a:lnTo>
                  <a:lnTo>
                    <a:pt x="2013" y="4630"/>
                  </a:lnTo>
                  <a:lnTo>
                    <a:pt x="1478" y="4244"/>
                  </a:lnTo>
                  <a:lnTo>
                    <a:pt x="1308" y="4191"/>
                  </a:lnTo>
                  <a:lnTo>
                    <a:pt x="1085" y="4244"/>
                  </a:lnTo>
                  <a:lnTo>
                    <a:pt x="444" y="4175"/>
                  </a:lnTo>
                  <a:lnTo>
                    <a:pt x="1057" y="4191"/>
                  </a:lnTo>
                  <a:lnTo>
                    <a:pt x="1162" y="4150"/>
                  </a:lnTo>
                  <a:lnTo>
                    <a:pt x="1057" y="3969"/>
                  </a:lnTo>
                  <a:lnTo>
                    <a:pt x="1401" y="3360"/>
                  </a:lnTo>
                  <a:lnTo>
                    <a:pt x="1251" y="3000"/>
                  </a:lnTo>
                  <a:lnTo>
                    <a:pt x="921" y="3162"/>
                  </a:lnTo>
                  <a:lnTo>
                    <a:pt x="389" y="3675"/>
                  </a:lnTo>
                  <a:lnTo>
                    <a:pt x="0" y="4228"/>
                  </a:lnTo>
                  <a:lnTo>
                    <a:pt x="369" y="3588"/>
                  </a:lnTo>
                  <a:lnTo>
                    <a:pt x="869" y="3034"/>
                  </a:lnTo>
                  <a:lnTo>
                    <a:pt x="1640" y="2410"/>
                  </a:lnTo>
                  <a:lnTo>
                    <a:pt x="1419" y="2227"/>
                  </a:lnTo>
                  <a:lnTo>
                    <a:pt x="1106" y="1250"/>
                  </a:lnTo>
                  <a:lnTo>
                    <a:pt x="1057" y="700"/>
                  </a:lnTo>
                  <a:lnTo>
                    <a:pt x="1126" y="297"/>
                  </a:lnTo>
                  <a:lnTo>
                    <a:pt x="1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609040" y="3171600"/>
              <a:ext cx="149400" cy="192240"/>
            </a:xfrm>
            <a:custGeom>
              <a:avLst/>
              <a:gdLst/>
              <a:ahLst/>
              <a:rect l="l" t="t" r="r" b="b"/>
              <a:pathLst>
                <a:path w="2449" h="3160">
                  <a:moveTo>
                    <a:pt x="0" y="0"/>
                  </a:moveTo>
                  <a:lnTo>
                    <a:pt x="880" y="387"/>
                  </a:lnTo>
                  <a:lnTo>
                    <a:pt x="1230" y="518"/>
                  </a:lnTo>
                  <a:lnTo>
                    <a:pt x="1583" y="1031"/>
                  </a:lnTo>
                  <a:lnTo>
                    <a:pt x="1712" y="1874"/>
                  </a:lnTo>
                  <a:lnTo>
                    <a:pt x="1786" y="1817"/>
                  </a:lnTo>
                  <a:lnTo>
                    <a:pt x="1858" y="2771"/>
                  </a:lnTo>
                  <a:lnTo>
                    <a:pt x="2226" y="2937"/>
                  </a:lnTo>
                  <a:lnTo>
                    <a:pt x="2338" y="3160"/>
                  </a:lnTo>
                  <a:lnTo>
                    <a:pt x="2449" y="2994"/>
                  </a:lnTo>
                  <a:lnTo>
                    <a:pt x="2267" y="2771"/>
                  </a:lnTo>
                  <a:lnTo>
                    <a:pt x="2043" y="1985"/>
                  </a:lnTo>
                  <a:lnTo>
                    <a:pt x="1858" y="1817"/>
                  </a:lnTo>
                  <a:lnTo>
                    <a:pt x="1640" y="1014"/>
                  </a:lnTo>
                  <a:lnTo>
                    <a:pt x="1415" y="609"/>
                  </a:lnTo>
                  <a:lnTo>
                    <a:pt x="1230" y="458"/>
                  </a:lnTo>
                  <a:lnTo>
                    <a:pt x="442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707680" y="3368520"/>
              <a:ext cx="54000" cy="135000"/>
            </a:xfrm>
            <a:custGeom>
              <a:avLst/>
              <a:gdLst/>
              <a:ahLst/>
              <a:rect l="l" t="t" r="r" b="b"/>
              <a:pathLst>
                <a:path w="905" h="2221">
                  <a:moveTo>
                    <a:pt x="812" y="0"/>
                  </a:moveTo>
                  <a:lnTo>
                    <a:pt x="701" y="350"/>
                  </a:lnTo>
                  <a:lnTo>
                    <a:pt x="701" y="679"/>
                  </a:lnTo>
                  <a:lnTo>
                    <a:pt x="0" y="2221"/>
                  </a:lnTo>
                  <a:lnTo>
                    <a:pt x="905" y="439"/>
                  </a:lnTo>
                  <a:lnTo>
                    <a:pt x="884" y="105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413920" y="3173400"/>
              <a:ext cx="77760" cy="34920"/>
            </a:xfrm>
            <a:custGeom>
              <a:avLst/>
              <a:gdLst/>
              <a:ahLst/>
              <a:rect l="l" t="t" r="r" b="b"/>
              <a:pathLst>
                <a:path w="1273" h="568">
                  <a:moveTo>
                    <a:pt x="1273" y="0"/>
                  </a:moveTo>
                  <a:lnTo>
                    <a:pt x="886" y="238"/>
                  </a:lnTo>
                  <a:lnTo>
                    <a:pt x="737" y="257"/>
                  </a:lnTo>
                  <a:lnTo>
                    <a:pt x="0" y="568"/>
                  </a:lnTo>
                  <a:lnTo>
                    <a:pt x="682" y="150"/>
                  </a:lnTo>
                  <a:lnTo>
                    <a:pt x="922" y="111"/>
                  </a:lnTo>
                  <a:lnTo>
                    <a:pt x="1166" y="21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390160" y="3219480"/>
              <a:ext cx="61920" cy="201600"/>
            </a:xfrm>
            <a:custGeom>
              <a:avLst/>
              <a:gdLst/>
              <a:ahLst/>
              <a:rect l="l" t="t" r="r" b="b"/>
              <a:pathLst>
                <a:path w="1032" h="3306">
                  <a:moveTo>
                    <a:pt x="552" y="0"/>
                  </a:moveTo>
                  <a:lnTo>
                    <a:pt x="699" y="423"/>
                  </a:lnTo>
                  <a:lnTo>
                    <a:pt x="718" y="792"/>
                  </a:lnTo>
                  <a:lnTo>
                    <a:pt x="848" y="700"/>
                  </a:lnTo>
                  <a:lnTo>
                    <a:pt x="733" y="1140"/>
                  </a:lnTo>
                  <a:lnTo>
                    <a:pt x="994" y="1912"/>
                  </a:lnTo>
                  <a:lnTo>
                    <a:pt x="921" y="1946"/>
                  </a:lnTo>
                  <a:lnTo>
                    <a:pt x="901" y="2296"/>
                  </a:lnTo>
                  <a:lnTo>
                    <a:pt x="1032" y="2612"/>
                  </a:lnTo>
                  <a:lnTo>
                    <a:pt x="939" y="3306"/>
                  </a:lnTo>
                  <a:lnTo>
                    <a:pt x="790" y="3164"/>
                  </a:lnTo>
                  <a:lnTo>
                    <a:pt x="272" y="3198"/>
                  </a:lnTo>
                  <a:lnTo>
                    <a:pt x="756" y="3014"/>
                  </a:lnTo>
                  <a:lnTo>
                    <a:pt x="830" y="2865"/>
                  </a:lnTo>
                  <a:lnTo>
                    <a:pt x="678" y="2812"/>
                  </a:lnTo>
                  <a:lnTo>
                    <a:pt x="866" y="2626"/>
                  </a:lnTo>
                  <a:lnTo>
                    <a:pt x="200" y="2481"/>
                  </a:lnTo>
                  <a:lnTo>
                    <a:pt x="0" y="2553"/>
                  </a:lnTo>
                  <a:lnTo>
                    <a:pt x="125" y="2426"/>
                  </a:lnTo>
                  <a:lnTo>
                    <a:pt x="848" y="2500"/>
                  </a:lnTo>
                  <a:lnTo>
                    <a:pt x="866" y="2391"/>
                  </a:lnTo>
                  <a:lnTo>
                    <a:pt x="587" y="1946"/>
                  </a:lnTo>
                  <a:lnTo>
                    <a:pt x="790" y="1965"/>
                  </a:lnTo>
                  <a:lnTo>
                    <a:pt x="461" y="1248"/>
                  </a:lnTo>
                  <a:lnTo>
                    <a:pt x="350" y="423"/>
                  </a:lnTo>
                  <a:lnTo>
                    <a:pt x="699" y="1437"/>
                  </a:lnTo>
                  <a:lnTo>
                    <a:pt x="644" y="407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374320" y="3213000"/>
              <a:ext cx="58680" cy="236520"/>
            </a:xfrm>
            <a:custGeom>
              <a:avLst/>
              <a:gdLst/>
              <a:ahLst/>
              <a:rect l="l" t="t" r="r" b="b"/>
              <a:pathLst>
                <a:path w="958" h="3888">
                  <a:moveTo>
                    <a:pt x="622" y="0"/>
                  </a:moveTo>
                  <a:lnTo>
                    <a:pt x="556" y="237"/>
                  </a:lnTo>
                  <a:lnTo>
                    <a:pt x="605" y="749"/>
                  </a:lnTo>
                  <a:lnTo>
                    <a:pt x="512" y="403"/>
                  </a:lnTo>
                  <a:lnTo>
                    <a:pt x="497" y="1428"/>
                  </a:lnTo>
                  <a:lnTo>
                    <a:pt x="310" y="1965"/>
                  </a:lnTo>
                  <a:lnTo>
                    <a:pt x="365" y="2328"/>
                  </a:lnTo>
                  <a:lnTo>
                    <a:pt x="90" y="2587"/>
                  </a:lnTo>
                  <a:lnTo>
                    <a:pt x="165" y="2805"/>
                  </a:lnTo>
                  <a:lnTo>
                    <a:pt x="958" y="2973"/>
                  </a:lnTo>
                  <a:lnTo>
                    <a:pt x="130" y="2917"/>
                  </a:lnTo>
                  <a:lnTo>
                    <a:pt x="720" y="3888"/>
                  </a:lnTo>
                  <a:lnTo>
                    <a:pt x="0" y="2956"/>
                  </a:lnTo>
                  <a:lnTo>
                    <a:pt x="90" y="2805"/>
                  </a:lnTo>
                  <a:lnTo>
                    <a:pt x="34" y="2532"/>
                  </a:lnTo>
                  <a:lnTo>
                    <a:pt x="240" y="2217"/>
                  </a:lnTo>
                  <a:lnTo>
                    <a:pt x="260" y="1721"/>
                  </a:lnTo>
                  <a:lnTo>
                    <a:pt x="406" y="1319"/>
                  </a:lnTo>
                  <a:lnTo>
                    <a:pt x="478" y="253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8417160" y="3419280"/>
              <a:ext cx="29880" cy="120960"/>
            </a:xfrm>
            <a:custGeom>
              <a:avLst/>
              <a:gdLst/>
              <a:ahLst/>
              <a:rect l="l" t="t" r="r" b="b"/>
              <a:pathLst>
                <a:path w="497" h="1965">
                  <a:moveTo>
                    <a:pt x="131" y="110"/>
                  </a:moveTo>
                  <a:lnTo>
                    <a:pt x="0" y="422"/>
                  </a:lnTo>
                  <a:lnTo>
                    <a:pt x="131" y="1012"/>
                  </a:lnTo>
                  <a:lnTo>
                    <a:pt x="218" y="1012"/>
                  </a:lnTo>
                  <a:lnTo>
                    <a:pt x="183" y="1309"/>
                  </a:lnTo>
                  <a:lnTo>
                    <a:pt x="165" y="1526"/>
                  </a:lnTo>
                  <a:lnTo>
                    <a:pt x="424" y="1965"/>
                  </a:lnTo>
                  <a:lnTo>
                    <a:pt x="406" y="1859"/>
                  </a:lnTo>
                  <a:lnTo>
                    <a:pt x="257" y="1562"/>
                  </a:lnTo>
                  <a:lnTo>
                    <a:pt x="276" y="1324"/>
                  </a:lnTo>
                  <a:lnTo>
                    <a:pt x="202" y="1455"/>
                  </a:lnTo>
                  <a:lnTo>
                    <a:pt x="276" y="978"/>
                  </a:lnTo>
                  <a:lnTo>
                    <a:pt x="497" y="701"/>
                  </a:lnTo>
                  <a:lnTo>
                    <a:pt x="218" y="883"/>
                  </a:lnTo>
                  <a:lnTo>
                    <a:pt x="91" y="460"/>
                  </a:lnTo>
                  <a:lnTo>
                    <a:pt x="202" y="0"/>
                  </a:lnTo>
                  <a:lnTo>
                    <a:pt x="131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436240" y="3427200"/>
              <a:ext cx="21960" cy="195480"/>
            </a:xfrm>
            <a:custGeom>
              <a:avLst/>
              <a:gdLst/>
              <a:ahLst/>
              <a:rect l="l" t="t" r="r" b="b"/>
              <a:pathLst>
                <a:path w="384" h="3200">
                  <a:moveTo>
                    <a:pt x="183" y="0"/>
                  </a:moveTo>
                  <a:lnTo>
                    <a:pt x="110" y="1029"/>
                  </a:lnTo>
                  <a:lnTo>
                    <a:pt x="197" y="1180"/>
                  </a:lnTo>
                  <a:lnTo>
                    <a:pt x="74" y="1874"/>
                  </a:lnTo>
                  <a:lnTo>
                    <a:pt x="74" y="2811"/>
                  </a:lnTo>
                  <a:lnTo>
                    <a:pt x="0" y="3200"/>
                  </a:lnTo>
                  <a:lnTo>
                    <a:pt x="183" y="3200"/>
                  </a:lnTo>
                  <a:lnTo>
                    <a:pt x="165" y="2627"/>
                  </a:lnTo>
                  <a:lnTo>
                    <a:pt x="145" y="1768"/>
                  </a:lnTo>
                  <a:lnTo>
                    <a:pt x="276" y="1212"/>
                  </a:lnTo>
                  <a:lnTo>
                    <a:pt x="384" y="1157"/>
                  </a:lnTo>
                  <a:lnTo>
                    <a:pt x="384" y="1053"/>
                  </a:lnTo>
                  <a:lnTo>
                    <a:pt x="183" y="972"/>
                  </a:lnTo>
                  <a:lnTo>
                    <a:pt x="183" y="355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501040" y="3505320"/>
              <a:ext cx="32040" cy="126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0" y="200"/>
                  </a:moveTo>
                  <a:lnTo>
                    <a:pt x="514" y="200"/>
                  </a:lnTo>
                  <a:lnTo>
                    <a:pt x="514" y="0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547120" y="3492360"/>
              <a:ext cx="81000" cy="23760"/>
            </a:xfrm>
            <a:custGeom>
              <a:avLst/>
              <a:gdLst/>
              <a:ahLst/>
              <a:rect l="l" t="t" r="r" b="b"/>
              <a:pathLst>
                <a:path w="1327" h="382">
                  <a:moveTo>
                    <a:pt x="19" y="216"/>
                  </a:moveTo>
                  <a:lnTo>
                    <a:pt x="0" y="382"/>
                  </a:lnTo>
                  <a:lnTo>
                    <a:pt x="387" y="382"/>
                  </a:lnTo>
                  <a:lnTo>
                    <a:pt x="958" y="236"/>
                  </a:lnTo>
                  <a:lnTo>
                    <a:pt x="979" y="70"/>
                  </a:lnTo>
                  <a:lnTo>
                    <a:pt x="1327" y="110"/>
                  </a:lnTo>
                  <a:lnTo>
                    <a:pt x="958" y="34"/>
                  </a:lnTo>
                  <a:lnTo>
                    <a:pt x="514" y="87"/>
                  </a:lnTo>
                  <a:lnTo>
                    <a:pt x="461" y="0"/>
                  </a:lnTo>
                  <a:lnTo>
                    <a:pt x="461" y="125"/>
                  </a:lnTo>
                  <a:lnTo>
                    <a:pt x="296" y="197"/>
                  </a:lnTo>
                  <a:lnTo>
                    <a:pt x="112" y="216"/>
                  </a:lnTo>
                  <a:lnTo>
                    <a:pt x="19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570880" y="3498840"/>
              <a:ext cx="59040" cy="41400"/>
            </a:xfrm>
            <a:custGeom>
              <a:avLst/>
              <a:gdLst/>
              <a:ahLst/>
              <a:rect l="l" t="t" r="r" b="b"/>
              <a:pathLst>
                <a:path w="978" h="656">
                  <a:moveTo>
                    <a:pt x="925" y="0"/>
                  </a:moveTo>
                  <a:lnTo>
                    <a:pt x="849" y="87"/>
                  </a:lnTo>
                  <a:lnTo>
                    <a:pt x="407" y="272"/>
                  </a:lnTo>
                  <a:lnTo>
                    <a:pt x="0" y="563"/>
                  </a:lnTo>
                  <a:lnTo>
                    <a:pt x="74" y="656"/>
                  </a:lnTo>
                  <a:lnTo>
                    <a:pt x="127" y="622"/>
                  </a:lnTo>
                  <a:lnTo>
                    <a:pt x="91" y="550"/>
                  </a:lnTo>
                  <a:lnTo>
                    <a:pt x="424" y="329"/>
                  </a:lnTo>
                  <a:lnTo>
                    <a:pt x="960" y="70"/>
                  </a:lnTo>
                  <a:lnTo>
                    <a:pt x="978" y="15"/>
                  </a:lnTo>
                  <a:lnTo>
                    <a:pt x="9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580600" y="3514680"/>
              <a:ext cx="109440" cy="44280"/>
            </a:xfrm>
            <a:custGeom>
              <a:avLst/>
              <a:gdLst/>
              <a:ahLst/>
              <a:rect l="l" t="t" r="r" b="b"/>
              <a:pathLst>
                <a:path w="1791" h="730">
                  <a:moveTo>
                    <a:pt x="0" y="384"/>
                  </a:moveTo>
                  <a:lnTo>
                    <a:pt x="643" y="91"/>
                  </a:lnTo>
                  <a:lnTo>
                    <a:pt x="869" y="0"/>
                  </a:lnTo>
                  <a:lnTo>
                    <a:pt x="699" y="218"/>
                  </a:lnTo>
                  <a:lnTo>
                    <a:pt x="313" y="456"/>
                  </a:lnTo>
                  <a:lnTo>
                    <a:pt x="168" y="588"/>
                  </a:lnTo>
                  <a:lnTo>
                    <a:pt x="202" y="679"/>
                  </a:lnTo>
                  <a:lnTo>
                    <a:pt x="442" y="568"/>
                  </a:lnTo>
                  <a:lnTo>
                    <a:pt x="1030" y="234"/>
                  </a:lnTo>
                  <a:lnTo>
                    <a:pt x="536" y="622"/>
                  </a:lnTo>
                  <a:lnTo>
                    <a:pt x="595" y="641"/>
                  </a:lnTo>
                  <a:lnTo>
                    <a:pt x="1218" y="456"/>
                  </a:lnTo>
                  <a:lnTo>
                    <a:pt x="1791" y="53"/>
                  </a:lnTo>
                  <a:lnTo>
                    <a:pt x="1287" y="477"/>
                  </a:lnTo>
                  <a:lnTo>
                    <a:pt x="595" y="730"/>
                  </a:lnTo>
                  <a:lnTo>
                    <a:pt x="442" y="658"/>
                  </a:lnTo>
                  <a:lnTo>
                    <a:pt x="202" y="715"/>
                  </a:lnTo>
                  <a:lnTo>
                    <a:pt x="70" y="588"/>
                  </a:lnTo>
                  <a:lnTo>
                    <a:pt x="181" y="477"/>
                  </a:lnTo>
                  <a:lnTo>
                    <a:pt x="627" y="199"/>
                  </a:lnTo>
                  <a:lnTo>
                    <a:pt x="716" y="11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678880" y="3517920"/>
              <a:ext cx="15840" cy="104760"/>
            </a:xfrm>
            <a:custGeom>
              <a:avLst/>
              <a:gdLst/>
              <a:ahLst/>
              <a:rect l="l" t="t" r="r" b="b"/>
              <a:pathLst>
                <a:path w="257" h="1714">
                  <a:moveTo>
                    <a:pt x="129" y="0"/>
                  </a:moveTo>
                  <a:lnTo>
                    <a:pt x="257" y="1695"/>
                  </a:lnTo>
                  <a:lnTo>
                    <a:pt x="146" y="1714"/>
                  </a:lnTo>
                  <a:lnTo>
                    <a:pt x="0" y="9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504280" y="3560760"/>
              <a:ext cx="3960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547120" y="3585960"/>
              <a:ext cx="11160" cy="36720"/>
            </a:xfrm>
            <a:custGeom>
              <a:avLst/>
              <a:gdLst/>
              <a:ahLst/>
              <a:rect l="l" t="t" r="r" b="b"/>
              <a:pathLst>
                <a:path w="181" h="592">
                  <a:moveTo>
                    <a:pt x="0" y="0"/>
                  </a:moveTo>
                  <a:lnTo>
                    <a:pt x="0" y="592"/>
                  </a:lnTo>
                  <a:lnTo>
                    <a:pt x="181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321760" y="3548160"/>
              <a:ext cx="120600" cy="41040"/>
            </a:xfrm>
            <a:custGeom>
              <a:avLst/>
              <a:gdLst/>
              <a:ahLst/>
              <a:rect l="l" t="t" r="r" b="b"/>
              <a:pathLst>
                <a:path w="1966" h="679">
                  <a:moveTo>
                    <a:pt x="493" y="195"/>
                  </a:moveTo>
                  <a:lnTo>
                    <a:pt x="735" y="392"/>
                  </a:lnTo>
                  <a:lnTo>
                    <a:pt x="1274" y="487"/>
                  </a:lnTo>
                  <a:lnTo>
                    <a:pt x="1665" y="487"/>
                  </a:lnTo>
                  <a:lnTo>
                    <a:pt x="1966" y="443"/>
                  </a:lnTo>
                  <a:lnTo>
                    <a:pt x="1966" y="584"/>
                  </a:lnTo>
                  <a:lnTo>
                    <a:pt x="1525" y="679"/>
                  </a:lnTo>
                  <a:lnTo>
                    <a:pt x="883" y="584"/>
                  </a:lnTo>
                  <a:lnTo>
                    <a:pt x="347" y="293"/>
                  </a:lnTo>
                  <a:lnTo>
                    <a:pt x="0" y="0"/>
                  </a:lnTo>
                  <a:lnTo>
                    <a:pt x="493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8019000" y="3975840"/>
            <a:ext cx="910080" cy="735120"/>
            <a:chOff x="8019000" y="3975840"/>
            <a:chExt cx="910080" cy="735120"/>
          </a:xfrm>
        </p:grpSpPr>
        <p:grpSp>
          <p:nvGrpSpPr>
            <p:cNvPr id="1965" name=""/>
            <p:cNvGrpSpPr/>
            <p:nvPr/>
          </p:nvGrpSpPr>
          <p:grpSpPr>
            <a:xfrm>
              <a:off x="8019000" y="3975840"/>
              <a:ext cx="910080" cy="735120"/>
              <a:chOff x="8019000" y="3975840"/>
              <a:chExt cx="910080" cy="73512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8019000" y="3975840"/>
                <a:ext cx="910080" cy="735120"/>
                <a:chOff x="8019000" y="3975840"/>
                <a:chExt cx="910080" cy="735120"/>
              </a:xfrm>
            </p:grpSpPr>
            <p:grpSp>
              <p:nvGrpSpPr>
                <p:cNvPr id="1967" name=""/>
                <p:cNvGrpSpPr/>
                <p:nvPr/>
              </p:nvGrpSpPr>
              <p:grpSpPr>
                <a:xfrm>
                  <a:off x="8019000" y="3975840"/>
                  <a:ext cx="910080" cy="735120"/>
                  <a:chOff x="8019000" y="3975840"/>
                  <a:chExt cx="910080" cy="73512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 rot="1408800">
                    <a:off x="8048520" y="425232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200"/>
                        </a:lnTo>
                        <a:lnTo>
                          <a:pt x="2595" y="1986"/>
                        </a:lnTo>
                        <a:lnTo>
                          <a:pt x="2786" y="1833"/>
                        </a:lnTo>
                        <a:lnTo>
                          <a:pt x="3055" y="1640"/>
                        </a:lnTo>
                        <a:lnTo>
                          <a:pt x="3334" y="1439"/>
                        </a:lnTo>
                        <a:lnTo>
                          <a:pt x="3565" y="1265"/>
                        </a:lnTo>
                        <a:lnTo>
                          <a:pt x="3776" y="1120"/>
                        </a:lnTo>
                        <a:lnTo>
                          <a:pt x="3980" y="986"/>
                        </a:lnTo>
                        <a:lnTo>
                          <a:pt x="4181" y="851"/>
                        </a:lnTo>
                        <a:lnTo>
                          <a:pt x="4384" y="725"/>
                        </a:lnTo>
                        <a:lnTo>
                          <a:pt x="2938" y="0"/>
                        </a:lnTo>
                        <a:lnTo>
                          <a:pt x="2700" y="140"/>
                        </a:lnTo>
                        <a:lnTo>
                          <a:pt x="2459" y="293"/>
                        </a:lnTo>
                        <a:lnTo>
                          <a:pt x="2276" y="418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2"/>
                        </a:lnTo>
                        <a:lnTo>
                          <a:pt x="1084" y="1275"/>
                        </a:lnTo>
                        <a:lnTo>
                          <a:pt x="823" y="1429"/>
                        </a:lnTo>
                        <a:lnTo>
                          <a:pt x="534" y="1632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rot="1408800">
                    <a:off x="8051760" y="424476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3"/>
                        </a:moveTo>
                        <a:lnTo>
                          <a:pt x="1608" y="2857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1"/>
                        </a:lnTo>
                        <a:lnTo>
                          <a:pt x="3055" y="1640"/>
                        </a:lnTo>
                        <a:lnTo>
                          <a:pt x="3334" y="1437"/>
                        </a:lnTo>
                        <a:lnTo>
                          <a:pt x="3565" y="1264"/>
                        </a:lnTo>
                        <a:lnTo>
                          <a:pt x="3776" y="1120"/>
                        </a:lnTo>
                        <a:lnTo>
                          <a:pt x="3980" y="985"/>
                        </a:lnTo>
                        <a:lnTo>
                          <a:pt x="4181" y="851"/>
                        </a:lnTo>
                        <a:lnTo>
                          <a:pt x="4384" y="724"/>
                        </a:lnTo>
                        <a:lnTo>
                          <a:pt x="2938" y="0"/>
                        </a:lnTo>
                        <a:lnTo>
                          <a:pt x="2700" y="138"/>
                        </a:lnTo>
                        <a:lnTo>
                          <a:pt x="2459" y="291"/>
                        </a:lnTo>
                        <a:lnTo>
                          <a:pt x="2276" y="417"/>
                        </a:lnTo>
                        <a:lnTo>
                          <a:pt x="2085" y="570"/>
                        </a:lnTo>
                        <a:lnTo>
                          <a:pt x="1881" y="736"/>
                        </a:lnTo>
                        <a:lnTo>
                          <a:pt x="1680" y="909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7"/>
                        </a:lnTo>
                        <a:lnTo>
                          <a:pt x="534" y="1630"/>
                        </a:lnTo>
                        <a:lnTo>
                          <a:pt x="275" y="1821"/>
                        </a:lnTo>
                        <a:lnTo>
                          <a:pt x="0" y="2053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rot="1408800">
                    <a:off x="8055360" y="423684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0"/>
                        </a:lnTo>
                        <a:lnTo>
                          <a:pt x="2334" y="2197"/>
                        </a:lnTo>
                        <a:lnTo>
                          <a:pt x="2595" y="1986"/>
                        </a:lnTo>
                        <a:lnTo>
                          <a:pt x="2786" y="1833"/>
                        </a:lnTo>
                        <a:lnTo>
                          <a:pt x="3055" y="1639"/>
                        </a:lnTo>
                        <a:lnTo>
                          <a:pt x="3334" y="1438"/>
                        </a:lnTo>
                        <a:lnTo>
                          <a:pt x="3565" y="1265"/>
                        </a:lnTo>
                        <a:lnTo>
                          <a:pt x="3776" y="1119"/>
                        </a:lnTo>
                        <a:lnTo>
                          <a:pt x="3980" y="986"/>
                        </a:lnTo>
                        <a:lnTo>
                          <a:pt x="4181" y="850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3"/>
                        </a:lnTo>
                        <a:lnTo>
                          <a:pt x="2276" y="418"/>
                        </a:lnTo>
                        <a:lnTo>
                          <a:pt x="2085" y="571"/>
                        </a:lnTo>
                        <a:lnTo>
                          <a:pt x="1881" y="735"/>
                        </a:lnTo>
                        <a:lnTo>
                          <a:pt x="1680" y="908"/>
                        </a:lnTo>
                        <a:lnTo>
                          <a:pt x="1363" y="1101"/>
                        </a:lnTo>
                        <a:lnTo>
                          <a:pt x="1084" y="1273"/>
                        </a:lnTo>
                        <a:lnTo>
                          <a:pt x="823" y="1428"/>
                        </a:lnTo>
                        <a:lnTo>
                          <a:pt x="534" y="1629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rot="1408800">
                    <a:off x="8058240" y="422928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0"/>
                        </a:moveTo>
                        <a:lnTo>
                          <a:pt x="1608" y="2857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4"/>
                        </a:lnTo>
                        <a:lnTo>
                          <a:pt x="2786" y="1831"/>
                        </a:lnTo>
                        <a:lnTo>
                          <a:pt x="3055" y="1638"/>
                        </a:lnTo>
                        <a:lnTo>
                          <a:pt x="3334" y="1436"/>
                        </a:lnTo>
                        <a:lnTo>
                          <a:pt x="3565" y="1263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49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1"/>
                        </a:lnTo>
                        <a:lnTo>
                          <a:pt x="2276" y="416"/>
                        </a:lnTo>
                        <a:lnTo>
                          <a:pt x="2085" y="570"/>
                        </a:lnTo>
                        <a:lnTo>
                          <a:pt x="1881" y="733"/>
                        </a:lnTo>
                        <a:lnTo>
                          <a:pt x="1680" y="906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6"/>
                        </a:lnTo>
                        <a:lnTo>
                          <a:pt x="534" y="1630"/>
                        </a:lnTo>
                        <a:lnTo>
                          <a:pt x="275" y="1821"/>
                        </a:lnTo>
                        <a:lnTo>
                          <a:pt x="0" y="2050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rot="1408800">
                    <a:off x="8061840" y="422136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1"/>
                        </a:lnTo>
                        <a:lnTo>
                          <a:pt x="3055" y="1640"/>
                        </a:lnTo>
                        <a:lnTo>
                          <a:pt x="3334" y="1437"/>
                        </a:lnTo>
                        <a:lnTo>
                          <a:pt x="3565" y="1263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51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8"/>
                        </a:lnTo>
                        <a:lnTo>
                          <a:pt x="2459" y="291"/>
                        </a:lnTo>
                        <a:lnTo>
                          <a:pt x="2276" y="417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7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rot="1408800">
                    <a:off x="8065080" y="421344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0"/>
                        </a:lnTo>
                        <a:lnTo>
                          <a:pt x="2334" y="2197"/>
                        </a:lnTo>
                        <a:lnTo>
                          <a:pt x="2595" y="1986"/>
                        </a:lnTo>
                        <a:lnTo>
                          <a:pt x="2786" y="1833"/>
                        </a:lnTo>
                        <a:lnTo>
                          <a:pt x="3055" y="1639"/>
                        </a:lnTo>
                        <a:lnTo>
                          <a:pt x="3334" y="1438"/>
                        </a:lnTo>
                        <a:lnTo>
                          <a:pt x="3565" y="1265"/>
                        </a:lnTo>
                        <a:lnTo>
                          <a:pt x="3776" y="1119"/>
                        </a:lnTo>
                        <a:lnTo>
                          <a:pt x="3980" y="986"/>
                        </a:lnTo>
                        <a:lnTo>
                          <a:pt x="4181" y="850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9"/>
                        </a:lnTo>
                        <a:lnTo>
                          <a:pt x="2459" y="292"/>
                        </a:lnTo>
                        <a:lnTo>
                          <a:pt x="2276" y="418"/>
                        </a:lnTo>
                        <a:lnTo>
                          <a:pt x="2085" y="571"/>
                        </a:lnTo>
                        <a:lnTo>
                          <a:pt x="1881" y="735"/>
                        </a:lnTo>
                        <a:lnTo>
                          <a:pt x="1680" y="908"/>
                        </a:lnTo>
                        <a:lnTo>
                          <a:pt x="1363" y="1101"/>
                        </a:lnTo>
                        <a:lnTo>
                          <a:pt x="1084" y="1275"/>
                        </a:lnTo>
                        <a:lnTo>
                          <a:pt x="823" y="1428"/>
                        </a:lnTo>
                        <a:lnTo>
                          <a:pt x="534" y="1629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rot="1408800">
                    <a:off x="8068320" y="420588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0"/>
                        </a:moveTo>
                        <a:lnTo>
                          <a:pt x="1608" y="2857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7"/>
                        </a:lnTo>
                        <a:lnTo>
                          <a:pt x="2595" y="1984"/>
                        </a:lnTo>
                        <a:lnTo>
                          <a:pt x="2786" y="1831"/>
                        </a:lnTo>
                        <a:lnTo>
                          <a:pt x="3055" y="1638"/>
                        </a:lnTo>
                        <a:lnTo>
                          <a:pt x="3334" y="1436"/>
                        </a:lnTo>
                        <a:lnTo>
                          <a:pt x="3565" y="1263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49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1"/>
                        </a:lnTo>
                        <a:lnTo>
                          <a:pt x="2276" y="416"/>
                        </a:lnTo>
                        <a:lnTo>
                          <a:pt x="2085" y="570"/>
                        </a:lnTo>
                        <a:lnTo>
                          <a:pt x="1881" y="733"/>
                        </a:lnTo>
                        <a:lnTo>
                          <a:pt x="1680" y="906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6"/>
                        </a:lnTo>
                        <a:lnTo>
                          <a:pt x="534" y="1630"/>
                        </a:lnTo>
                        <a:lnTo>
                          <a:pt x="275" y="1821"/>
                        </a:lnTo>
                        <a:lnTo>
                          <a:pt x="0" y="205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rot="1408800">
                    <a:off x="8072280" y="419832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1"/>
                        </a:lnTo>
                        <a:lnTo>
                          <a:pt x="3055" y="1640"/>
                        </a:lnTo>
                        <a:lnTo>
                          <a:pt x="3334" y="1437"/>
                        </a:lnTo>
                        <a:lnTo>
                          <a:pt x="3565" y="1263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51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8"/>
                        </a:lnTo>
                        <a:lnTo>
                          <a:pt x="2459" y="293"/>
                        </a:lnTo>
                        <a:lnTo>
                          <a:pt x="2276" y="417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9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rot="1408800">
                    <a:off x="8075520" y="419040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8">
                        <a:moveTo>
                          <a:pt x="0" y="2053"/>
                        </a:moveTo>
                        <a:lnTo>
                          <a:pt x="1608" y="2858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3"/>
                        </a:lnTo>
                        <a:lnTo>
                          <a:pt x="3055" y="1640"/>
                        </a:lnTo>
                        <a:lnTo>
                          <a:pt x="3334" y="1439"/>
                        </a:lnTo>
                        <a:lnTo>
                          <a:pt x="3565" y="1266"/>
                        </a:lnTo>
                        <a:lnTo>
                          <a:pt x="3776" y="1120"/>
                        </a:lnTo>
                        <a:lnTo>
                          <a:pt x="3980" y="987"/>
                        </a:lnTo>
                        <a:lnTo>
                          <a:pt x="4181" y="851"/>
                        </a:lnTo>
                        <a:lnTo>
                          <a:pt x="4384" y="724"/>
                        </a:lnTo>
                        <a:lnTo>
                          <a:pt x="2938" y="0"/>
                        </a:lnTo>
                        <a:lnTo>
                          <a:pt x="2700" y="140"/>
                        </a:lnTo>
                        <a:lnTo>
                          <a:pt x="2459" y="293"/>
                        </a:lnTo>
                        <a:lnTo>
                          <a:pt x="2276" y="419"/>
                        </a:lnTo>
                        <a:lnTo>
                          <a:pt x="2085" y="572"/>
                        </a:lnTo>
                        <a:lnTo>
                          <a:pt x="1881" y="736"/>
                        </a:lnTo>
                        <a:lnTo>
                          <a:pt x="1680" y="909"/>
                        </a:lnTo>
                        <a:lnTo>
                          <a:pt x="1363" y="1102"/>
                        </a:lnTo>
                        <a:lnTo>
                          <a:pt x="1084" y="1276"/>
                        </a:lnTo>
                        <a:lnTo>
                          <a:pt x="823" y="1429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3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rot="1408800">
                    <a:off x="8078760" y="418284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0"/>
                        </a:moveTo>
                        <a:lnTo>
                          <a:pt x="1608" y="2857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7"/>
                        </a:lnTo>
                        <a:lnTo>
                          <a:pt x="2595" y="1984"/>
                        </a:lnTo>
                        <a:lnTo>
                          <a:pt x="2786" y="1831"/>
                        </a:lnTo>
                        <a:lnTo>
                          <a:pt x="3055" y="1639"/>
                        </a:lnTo>
                        <a:lnTo>
                          <a:pt x="3334" y="1436"/>
                        </a:lnTo>
                        <a:lnTo>
                          <a:pt x="3565" y="1263"/>
                        </a:lnTo>
                        <a:lnTo>
                          <a:pt x="3776" y="1119"/>
                        </a:lnTo>
                        <a:lnTo>
                          <a:pt x="3980" y="984"/>
                        </a:lnTo>
                        <a:lnTo>
                          <a:pt x="4181" y="848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1"/>
                        </a:lnTo>
                        <a:lnTo>
                          <a:pt x="2276" y="416"/>
                        </a:lnTo>
                        <a:lnTo>
                          <a:pt x="2085" y="570"/>
                        </a:lnTo>
                        <a:lnTo>
                          <a:pt x="1881" y="733"/>
                        </a:lnTo>
                        <a:lnTo>
                          <a:pt x="1680" y="906"/>
                        </a:lnTo>
                        <a:lnTo>
                          <a:pt x="1363" y="1099"/>
                        </a:lnTo>
                        <a:lnTo>
                          <a:pt x="1084" y="1273"/>
                        </a:lnTo>
                        <a:lnTo>
                          <a:pt x="823" y="1426"/>
                        </a:lnTo>
                        <a:lnTo>
                          <a:pt x="534" y="1629"/>
                        </a:lnTo>
                        <a:lnTo>
                          <a:pt x="275" y="1821"/>
                        </a:lnTo>
                        <a:lnTo>
                          <a:pt x="0" y="2050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rot="1408800">
                    <a:off x="8082000" y="417492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8"/>
                        </a:lnTo>
                        <a:lnTo>
                          <a:pt x="2595" y="1986"/>
                        </a:lnTo>
                        <a:lnTo>
                          <a:pt x="2786" y="1831"/>
                        </a:lnTo>
                        <a:lnTo>
                          <a:pt x="3055" y="1640"/>
                        </a:lnTo>
                        <a:lnTo>
                          <a:pt x="3334" y="1437"/>
                        </a:lnTo>
                        <a:lnTo>
                          <a:pt x="3565" y="1263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51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3"/>
                        </a:lnTo>
                        <a:lnTo>
                          <a:pt x="2276" y="416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9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rot="1408800">
                    <a:off x="8085240" y="416700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3"/>
                        </a:lnTo>
                        <a:lnTo>
                          <a:pt x="3055" y="1640"/>
                        </a:lnTo>
                        <a:lnTo>
                          <a:pt x="3334" y="1439"/>
                        </a:lnTo>
                        <a:lnTo>
                          <a:pt x="3565" y="1265"/>
                        </a:lnTo>
                        <a:lnTo>
                          <a:pt x="3776" y="1120"/>
                        </a:lnTo>
                        <a:lnTo>
                          <a:pt x="3980" y="987"/>
                        </a:lnTo>
                        <a:lnTo>
                          <a:pt x="4181" y="851"/>
                        </a:lnTo>
                        <a:lnTo>
                          <a:pt x="4384" y="724"/>
                        </a:lnTo>
                        <a:lnTo>
                          <a:pt x="2938" y="0"/>
                        </a:lnTo>
                        <a:lnTo>
                          <a:pt x="2700" y="140"/>
                        </a:lnTo>
                        <a:lnTo>
                          <a:pt x="2459" y="293"/>
                        </a:lnTo>
                        <a:lnTo>
                          <a:pt x="2276" y="419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2"/>
                        </a:lnTo>
                        <a:lnTo>
                          <a:pt x="1084" y="1275"/>
                        </a:lnTo>
                        <a:lnTo>
                          <a:pt x="823" y="1429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rot="1408800">
                    <a:off x="8088840" y="415944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0"/>
                        </a:lnTo>
                        <a:lnTo>
                          <a:pt x="2103" y="2398"/>
                        </a:lnTo>
                        <a:lnTo>
                          <a:pt x="2334" y="2197"/>
                        </a:lnTo>
                        <a:lnTo>
                          <a:pt x="2595" y="1984"/>
                        </a:lnTo>
                        <a:lnTo>
                          <a:pt x="2786" y="1831"/>
                        </a:lnTo>
                        <a:lnTo>
                          <a:pt x="3055" y="1639"/>
                        </a:lnTo>
                        <a:lnTo>
                          <a:pt x="3334" y="1436"/>
                        </a:lnTo>
                        <a:lnTo>
                          <a:pt x="3565" y="1263"/>
                        </a:lnTo>
                        <a:lnTo>
                          <a:pt x="3776" y="1119"/>
                        </a:lnTo>
                        <a:lnTo>
                          <a:pt x="3980" y="984"/>
                        </a:lnTo>
                        <a:lnTo>
                          <a:pt x="4181" y="848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0"/>
                        </a:lnTo>
                        <a:lnTo>
                          <a:pt x="2276" y="416"/>
                        </a:lnTo>
                        <a:lnTo>
                          <a:pt x="2085" y="569"/>
                        </a:lnTo>
                        <a:lnTo>
                          <a:pt x="1881" y="733"/>
                        </a:lnTo>
                        <a:lnTo>
                          <a:pt x="1680" y="906"/>
                        </a:lnTo>
                        <a:lnTo>
                          <a:pt x="1363" y="1099"/>
                        </a:lnTo>
                        <a:lnTo>
                          <a:pt x="1084" y="1273"/>
                        </a:lnTo>
                        <a:lnTo>
                          <a:pt x="823" y="1426"/>
                        </a:lnTo>
                        <a:lnTo>
                          <a:pt x="534" y="1629"/>
                        </a:lnTo>
                        <a:lnTo>
                          <a:pt x="275" y="1821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rot="1408800">
                    <a:off x="8092080" y="4151520"/>
                    <a:ext cx="79380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7"/>
                        </a:lnTo>
                        <a:lnTo>
                          <a:pt x="2595" y="1986"/>
                        </a:lnTo>
                        <a:lnTo>
                          <a:pt x="2786" y="1833"/>
                        </a:lnTo>
                        <a:lnTo>
                          <a:pt x="3055" y="1640"/>
                        </a:lnTo>
                        <a:lnTo>
                          <a:pt x="3334" y="1436"/>
                        </a:lnTo>
                        <a:lnTo>
                          <a:pt x="3565" y="1265"/>
                        </a:lnTo>
                        <a:lnTo>
                          <a:pt x="3776" y="1120"/>
                        </a:lnTo>
                        <a:lnTo>
                          <a:pt x="3980" y="984"/>
                        </a:lnTo>
                        <a:lnTo>
                          <a:pt x="4181" y="851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3"/>
                        </a:lnTo>
                        <a:lnTo>
                          <a:pt x="2276" y="416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8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8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rot="1408800">
                    <a:off x="8095680" y="414396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3"/>
                        </a:lnTo>
                        <a:lnTo>
                          <a:pt x="3055" y="1640"/>
                        </a:lnTo>
                        <a:lnTo>
                          <a:pt x="3334" y="1439"/>
                        </a:lnTo>
                        <a:lnTo>
                          <a:pt x="3565" y="1265"/>
                        </a:lnTo>
                        <a:lnTo>
                          <a:pt x="3776" y="1120"/>
                        </a:lnTo>
                        <a:lnTo>
                          <a:pt x="3980" y="986"/>
                        </a:lnTo>
                        <a:lnTo>
                          <a:pt x="4181" y="851"/>
                        </a:lnTo>
                        <a:lnTo>
                          <a:pt x="4384" y="725"/>
                        </a:lnTo>
                        <a:lnTo>
                          <a:pt x="2938" y="0"/>
                        </a:lnTo>
                        <a:lnTo>
                          <a:pt x="2700" y="140"/>
                        </a:lnTo>
                        <a:lnTo>
                          <a:pt x="2459" y="293"/>
                        </a:lnTo>
                        <a:lnTo>
                          <a:pt x="2276" y="419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9"/>
                        </a:lnTo>
                        <a:lnTo>
                          <a:pt x="1363" y="1102"/>
                        </a:lnTo>
                        <a:lnTo>
                          <a:pt x="1084" y="1275"/>
                        </a:lnTo>
                        <a:lnTo>
                          <a:pt x="823" y="1429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rot="1408800">
                    <a:off x="8099280" y="413640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8">
                        <a:moveTo>
                          <a:pt x="0" y="2053"/>
                        </a:moveTo>
                        <a:lnTo>
                          <a:pt x="1608" y="2858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7"/>
                        </a:lnTo>
                        <a:lnTo>
                          <a:pt x="2786" y="1831"/>
                        </a:lnTo>
                        <a:lnTo>
                          <a:pt x="3055" y="1640"/>
                        </a:lnTo>
                        <a:lnTo>
                          <a:pt x="3334" y="1437"/>
                        </a:lnTo>
                        <a:lnTo>
                          <a:pt x="3565" y="1264"/>
                        </a:lnTo>
                        <a:lnTo>
                          <a:pt x="3776" y="1120"/>
                        </a:lnTo>
                        <a:lnTo>
                          <a:pt x="3980" y="985"/>
                        </a:lnTo>
                        <a:lnTo>
                          <a:pt x="4181" y="851"/>
                        </a:lnTo>
                        <a:lnTo>
                          <a:pt x="4384" y="724"/>
                        </a:lnTo>
                        <a:lnTo>
                          <a:pt x="2938" y="0"/>
                        </a:lnTo>
                        <a:lnTo>
                          <a:pt x="2700" y="138"/>
                        </a:lnTo>
                        <a:lnTo>
                          <a:pt x="2459" y="291"/>
                        </a:lnTo>
                        <a:lnTo>
                          <a:pt x="2276" y="417"/>
                        </a:lnTo>
                        <a:lnTo>
                          <a:pt x="2085" y="570"/>
                        </a:lnTo>
                        <a:lnTo>
                          <a:pt x="1881" y="736"/>
                        </a:lnTo>
                        <a:lnTo>
                          <a:pt x="1680" y="909"/>
                        </a:lnTo>
                        <a:lnTo>
                          <a:pt x="1363" y="1100"/>
                        </a:lnTo>
                        <a:lnTo>
                          <a:pt x="1084" y="1274"/>
                        </a:lnTo>
                        <a:lnTo>
                          <a:pt x="823" y="1427"/>
                        </a:lnTo>
                        <a:lnTo>
                          <a:pt x="534" y="1630"/>
                        </a:lnTo>
                        <a:lnTo>
                          <a:pt x="275" y="1822"/>
                        </a:lnTo>
                        <a:lnTo>
                          <a:pt x="0" y="2053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rot="1408800">
                    <a:off x="8102520" y="412848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7">
                        <a:moveTo>
                          <a:pt x="0" y="2052"/>
                        </a:moveTo>
                        <a:lnTo>
                          <a:pt x="1608" y="2857"/>
                        </a:lnTo>
                        <a:lnTo>
                          <a:pt x="1863" y="2622"/>
                        </a:lnTo>
                        <a:lnTo>
                          <a:pt x="2103" y="2401"/>
                        </a:lnTo>
                        <a:lnTo>
                          <a:pt x="2334" y="2197"/>
                        </a:lnTo>
                        <a:lnTo>
                          <a:pt x="2595" y="1986"/>
                        </a:lnTo>
                        <a:lnTo>
                          <a:pt x="2786" y="1833"/>
                        </a:lnTo>
                        <a:lnTo>
                          <a:pt x="3055" y="1639"/>
                        </a:lnTo>
                        <a:lnTo>
                          <a:pt x="3334" y="1438"/>
                        </a:lnTo>
                        <a:lnTo>
                          <a:pt x="3565" y="1265"/>
                        </a:lnTo>
                        <a:lnTo>
                          <a:pt x="3776" y="1119"/>
                        </a:lnTo>
                        <a:lnTo>
                          <a:pt x="3980" y="986"/>
                        </a:lnTo>
                        <a:lnTo>
                          <a:pt x="4181" y="851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7"/>
                        </a:lnTo>
                        <a:lnTo>
                          <a:pt x="2459" y="293"/>
                        </a:lnTo>
                        <a:lnTo>
                          <a:pt x="2276" y="416"/>
                        </a:lnTo>
                        <a:lnTo>
                          <a:pt x="2085" y="572"/>
                        </a:lnTo>
                        <a:lnTo>
                          <a:pt x="1881" y="735"/>
                        </a:lnTo>
                        <a:lnTo>
                          <a:pt x="1680" y="908"/>
                        </a:lnTo>
                        <a:lnTo>
                          <a:pt x="1363" y="1100"/>
                        </a:lnTo>
                        <a:lnTo>
                          <a:pt x="1084" y="1273"/>
                        </a:lnTo>
                        <a:lnTo>
                          <a:pt x="823" y="1428"/>
                        </a:lnTo>
                        <a:lnTo>
                          <a:pt x="534" y="1630"/>
                        </a:lnTo>
                        <a:lnTo>
                          <a:pt x="275" y="1823"/>
                        </a:lnTo>
                        <a:lnTo>
                          <a:pt x="0" y="2052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rot="1408800">
                    <a:off x="8105760" y="4120920"/>
                    <a:ext cx="7938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84" h="2855">
                        <a:moveTo>
                          <a:pt x="0" y="2050"/>
                        </a:moveTo>
                        <a:lnTo>
                          <a:pt x="1608" y="2855"/>
                        </a:lnTo>
                        <a:lnTo>
                          <a:pt x="1863" y="2620"/>
                        </a:lnTo>
                        <a:lnTo>
                          <a:pt x="2103" y="2399"/>
                        </a:lnTo>
                        <a:lnTo>
                          <a:pt x="2334" y="2198"/>
                        </a:lnTo>
                        <a:lnTo>
                          <a:pt x="2595" y="1984"/>
                        </a:lnTo>
                        <a:lnTo>
                          <a:pt x="2786" y="1831"/>
                        </a:lnTo>
                        <a:lnTo>
                          <a:pt x="3055" y="1638"/>
                        </a:lnTo>
                        <a:lnTo>
                          <a:pt x="3334" y="1437"/>
                        </a:lnTo>
                        <a:lnTo>
                          <a:pt x="3565" y="1263"/>
                        </a:lnTo>
                        <a:lnTo>
                          <a:pt x="3776" y="1118"/>
                        </a:lnTo>
                        <a:lnTo>
                          <a:pt x="3980" y="984"/>
                        </a:lnTo>
                        <a:lnTo>
                          <a:pt x="4181" y="849"/>
                        </a:lnTo>
                        <a:lnTo>
                          <a:pt x="4384" y="723"/>
                        </a:lnTo>
                        <a:lnTo>
                          <a:pt x="2938" y="0"/>
                        </a:lnTo>
                        <a:lnTo>
                          <a:pt x="2700" y="138"/>
                        </a:lnTo>
                        <a:lnTo>
                          <a:pt x="2459" y="291"/>
                        </a:lnTo>
                        <a:lnTo>
                          <a:pt x="2276" y="416"/>
                        </a:lnTo>
                        <a:lnTo>
                          <a:pt x="2085" y="570"/>
                        </a:lnTo>
                        <a:lnTo>
                          <a:pt x="1881" y="733"/>
                        </a:lnTo>
                        <a:lnTo>
                          <a:pt x="1680" y="907"/>
                        </a:lnTo>
                        <a:lnTo>
                          <a:pt x="1363" y="1100"/>
                        </a:lnTo>
                        <a:lnTo>
                          <a:pt x="1084" y="1259"/>
                        </a:lnTo>
                        <a:lnTo>
                          <a:pt x="823" y="1427"/>
                        </a:lnTo>
                        <a:lnTo>
                          <a:pt x="534" y="1630"/>
                        </a:lnTo>
                        <a:lnTo>
                          <a:pt x="275" y="1821"/>
                        </a:lnTo>
                        <a:lnTo>
                          <a:pt x="0" y="2050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"/>
                <p:cNvGrpSpPr/>
                <p:nvPr/>
              </p:nvGrpSpPr>
              <p:grpSpPr>
                <a:xfrm>
                  <a:off x="8151840" y="4026960"/>
                  <a:ext cx="703080" cy="497880"/>
                  <a:chOff x="8151840" y="4026960"/>
                  <a:chExt cx="703080" cy="497880"/>
                </a:xfrm>
              </p:grpSpPr>
              <p:sp>
                <p:nvSpPr>
                  <p:cNvPr id="1987" name=""/>
                  <p:cNvSpPr/>
                  <p:nvPr/>
                </p:nvSpPr>
                <p:spPr>
                  <a:xfrm rot="1408800">
                    <a:off x="8175960" y="4146480"/>
                    <a:ext cx="6544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15" h="2355">
                        <a:moveTo>
                          <a:pt x="0" y="1690"/>
                        </a:moveTo>
                        <a:lnTo>
                          <a:pt x="1325" y="2355"/>
                        </a:lnTo>
                        <a:lnTo>
                          <a:pt x="1536" y="2160"/>
                        </a:lnTo>
                        <a:lnTo>
                          <a:pt x="1733" y="1977"/>
                        </a:lnTo>
                        <a:lnTo>
                          <a:pt x="1923" y="1811"/>
                        </a:lnTo>
                        <a:lnTo>
                          <a:pt x="2138" y="1638"/>
                        </a:lnTo>
                        <a:lnTo>
                          <a:pt x="2295" y="1508"/>
                        </a:lnTo>
                        <a:lnTo>
                          <a:pt x="2519" y="1351"/>
                        </a:lnTo>
                        <a:lnTo>
                          <a:pt x="2748" y="1186"/>
                        </a:lnTo>
                        <a:lnTo>
                          <a:pt x="2939" y="1040"/>
                        </a:lnTo>
                        <a:lnTo>
                          <a:pt x="3112" y="923"/>
                        </a:lnTo>
                        <a:lnTo>
                          <a:pt x="3280" y="811"/>
                        </a:lnTo>
                        <a:lnTo>
                          <a:pt x="3447" y="701"/>
                        </a:lnTo>
                        <a:lnTo>
                          <a:pt x="3615" y="594"/>
                        </a:lnTo>
                        <a:lnTo>
                          <a:pt x="2421" y="0"/>
                        </a:lnTo>
                        <a:lnTo>
                          <a:pt x="2226" y="112"/>
                        </a:lnTo>
                        <a:lnTo>
                          <a:pt x="2026" y="239"/>
                        </a:lnTo>
                        <a:lnTo>
                          <a:pt x="1875" y="343"/>
                        </a:lnTo>
                        <a:lnTo>
                          <a:pt x="1718" y="470"/>
                        </a:lnTo>
                        <a:lnTo>
                          <a:pt x="1550" y="604"/>
                        </a:lnTo>
                        <a:lnTo>
                          <a:pt x="1385" y="747"/>
                        </a:lnTo>
                        <a:lnTo>
                          <a:pt x="1122" y="907"/>
                        </a:lnTo>
                        <a:lnTo>
                          <a:pt x="918" y="1022"/>
                        </a:lnTo>
                        <a:lnTo>
                          <a:pt x="677" y="1178"/>
                        </a:lnTo>
                        <a:lnTo>
                          <a:pt x="440" y="1343"/>
                        </a:lnTo>
                        <a:lnTo>
                          <a:pt x="225" y="1500"/>
                        </a:lnTo>
                        <a:lnTo>
                          <a:pt x="0" y="16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rot="1408800">
                    <a:off x="8196840" y="4153680"/>
                    <a:ext cx="61452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94" h="2221">
                        <a:moveTo>
                          <a:pt x="0" y="1612"/>
                        </a:moveTo>
                        <a:lnTo>
                          <a:pt x="1206" y="2221"/>
                        </a:lnTo>
                        <a:lnTo>
                          <a:pt x="1407" y="2022"/>
                        </a:lnTo>
                        <a:lnTo>
                          <a:pt x="1624" y="1831"/>
                        </a:lnTo>
                        <a:lnTo>
                          <a:pt x="1796" y="1679"/>
                        </a:lnTo>
                        <a:lnTo>
                          <a:pt x="1989" y="1524"/>
                        </a:lnTo>
                        <a:lnTo>
                          <a:pt x="2131" y="1409"/>
                        </a:lnTo>
                        <a:lnTo>
                          <a:pt x="2332" y="1267"/>
                        </a:lnTo>
                        <a:lnTo>
                          <a:pt x="2537" y="1118"/>
                        </a:lnTo>
                        <a:lnTo>
                          <a:pt x="2711" y="988"/>
                        </a:lnTo>
                        <a:lnTo>
                          <a:pt x="2868" y="881"/>
                        </a:lnTo>
                        <a:lnTo>
                          <a:pt x="3017" y="781"/>
                        </a:lnTo>
                        <a:lnTo>
                          <a:pt x="3195" y="667"/>
                        </a:lnTo>
                        <a:lnTo>
                          <a:pt x="3394" y="536"/>
                        </a:lnTo>
                        <a:lnTo>
                          <a:pt x="2308" y="0"/>
                        </a:lnTo>
                        <a:lnTo>
                          <a:pt x="2119" y="113"/>
                        </a:lnTo>
                        <a:lnTo>
                          <a:pt x="1927" y="229"/>
                        </a:lnTo>
                        <a:lnTo>
                          <a:pt x="1752" y="359"/>
                        </a:lnTo>
                        <a:lnTo>
                          <a:pt x="1610" y="472"/>
                        </a:lnTo>
                        <a:lnTo>
                          <a:pt x="1459" y="594"/>
                        </a:lnTo>
                        <a:lnTo>
                          <a:pt x="1312" y="723"/>
                        </a:lnTo>
                        <a:lnTo>
                          <a:pt x="1074" y="865"/>
                        </a:lnTo>
                        <a:lnTo>
                          <a:pt x="891" y="972"/>
                        </a:lnTo>
                        <a:lnTo>
                          <a:pt x="674" y="1110"/>
                        </a:lnTo>
                        <a:lnTo>
                          <a:pt x="473" y="1261"/>
                        </a:lnTo>
                        <a:lnTo>
                          <a:pt x="265" y="1414"/>
                        </a:lnTo>
                        <a:lnTo>
                          <a:pt x="0" y="1612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9" name=""/>
              <p:cNvGrpSpPr/>
              <p:nvPr/>
            </p:nvGrpSpPr>
            <p:grpSpPr>
              <a:xfrm>
                <a:off x="8226000" y="4208760"/>
                <a:ext cx="562320" cy="132120"/>
                <a:chOff x="8226000" y="4208760"/>
                <a:chExt cx="562320" cy="132120"/>
              </a:xfrm>
            </p:grpSpPr>
            <p:grpSp>
              <p:nvGrpSpPr>
                <p:cNvPr id="1990" name=""/>
                <p:cNvGrpSpPr/>
                <p:nvPr/>
              </p:nvGrpSpPr>
              <p:grpSpPr>
                <a:xfrm>
                  <a:off x="8226000" y="4212720"/>
                  <a:ext cx="62640" cy="9360"/>
                  <a:chOff x="8226000" y="4212720"/>
                  <a:chExt cx="62640" cy="936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 flipV="1">
                    <a:off x="8226000" y="4212720"/>
                    <a:ext cx="532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V="1">
                    <a:off x="8235360" y="4220640"/>
                    <a:ext cx="5328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8365320" y="4325760"/>
                  <a:ext cx="59400" cy="15120"/>
                  <a:chOff x="8365320" y="4325760"/>
                  <a:chExt cx="59400" cy="1512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 flipV="1">
                    <a:off x="8365320" y="4325760"/>
                    <a:ext cx="4752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V="1">
                    <a:off x="8376840" y="4335840"/>
                    <a:ext cx="4788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8731440" y="4319280"/>
                  <a:ext cx="56880" cy="11160"/>
                  <a:chOff x="8731440" y="4319280"/>
                  <a:chExt cx="56880" cy="1116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 flipH="1" flipV="1">
                    <a:off x="8742600" y="4329360"/>
                    <a:ext cx="457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 flipH="1" flipV="1">
                    <a:off x="8731440" y="4319280"/>
                    <a:ext cx="45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9" name=""/>
                <p:cNvGrpSpPr/>
                <p:nvPr/>
              </p:nvGrpSpPr>
              <p:grpSpPr>
                <a:xfrm>
                  <a:off x="8608320" y="4214520"/>
                  <a:ext cx="53280" cy="10440"/>
                  <a:chOff x="8608320" y="4214520"/>
                  <a:chExt cx="53280" cy="1044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 flipH="1" flipV="1">
                    <a:off x="8608320" y="4214520"/>
                    <a:ext cx="4392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 flipV="1">
                    <a:off x="8617320" y="4222800"/>
                    <a:ext cx="4428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2" name=""/>
                <p:cNvGrpSpPr/>
                <p:nvPr/>
              </p:nvGrpSpPr>
              <p:grpSpPr>
                <a:xfrm>
                  <a:off x="8452800" y="4208760"/>
                  <a:ext cx="167040" cy="127800"/>
                  <a:chOff x="8452800" y="4208760"/>
                  <a:chExt cx="167040" cy="127800"/>
                </a:xfrm>
              </p:grpSpPr>
              <p:sp>
                <p:nvSpPr>
                  <p:cNvPr id="2003" name=""/>
                  <p:cNvSpPr/>
                  <p:nvPr/>
                </p:nvSpPr>
                <p:spPr>
                  <a:xfrm rot="1408800">
                    <a:off x="8461440" y="4235040"/>
                    <a:ext cx="1486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951" y="16535"/>
                        </a:moveTo>
                        <a:arcTo wR="10800" hR="10800" stAng="1924498" swAng="109031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951" y="16535"/>
                        </a:moveTo>
                        <a:arcTo wR="10800" hR="10800" stAng="1924498" swAng="10903139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rot="1408800">
                    <a:off x="8462160" y="4235400"/>
                    <a:ext cx="148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93" y="4995"/>
                        </a:moveTo>
                        <a:arcTo wR="10800" hR="10800" stAng="-8849188" swAng="108616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93" y="4995"/>
                        </a:moveTo>
                        <a:arcTo wR="10800" hR="10800" stAng="-8849188" swAng="10861628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05" name=""/>
            <p:cNvSpPr/>
            <p:nvPr/>
          </p:nvSpPr>
          <p:spPr>
            <a:xfrm rot="1408800">
              <a:off x="8382960" y="4227120"/>
              <a:ext cx="252720" cy="227160"/>
            </a:xfrm>
            <a:custGeom>
              <a:avLst/>
              <a:gdLst/>
              <a:ahLst/>
              <a:rect l="l" t="t" r="r" b="b"/>
              <a:pathLst>
                <a:path w="1397" h="2070">
                  <a:moveTo>
                    <a:pt x="0" y="0"/>
                  </a:moveTo>
                  <a:lnTo>
                    <a:pt x="1397" y="723"/>
                  </a:lnTo>
                  <a:lnTo>
                    <a:pt x="1395" y="20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38880" y="4724280"/>
            <a:ext cx="1600200" cy="568440"/>
            <a:chOff x="7238880" y="4724280"/>
            <a:chExt cx="1600200" cy="568440"/>
          </a:xfrm>
        </p:grpSpPr>
        <p:grpSp>
          <p:nvGrpSpPr>
            <p:cNvPr id="2007" name=""/>
            <p:cNvGrpSpPr/>
            <p:nvPr/>
          </p:nvGrpSpPr>
          <p:grpSpPr>
            <a:xfrm>
              <a:off x="7238880" y="4724280"/>
              <a:ext cx="384120" cy="547560"/>
              <a:chOff x="7238880" y="4724280"/>
              <a:chExt cx="384120" cy="547560"/>
            </a:xfrm>
          </p:grpSpPr>
          <p:sp>
            <p:nvSpPr>
              <p:cNvPr id="2008" name=""/>
              <p:cNvSpPr/>
              <p:nvPr/>
            </p:nvSpPr>
            <p:spPr>
              <a:xfrm>
                <a:off x="7418520" y="4843440"/>
                <a:ext cx="158400" cy="369720"/>
              </a:xfrm>
              <a:custGeom>
                <a:avLst/>
                <a:gdLst/>
                <a:ahLst/>
                <a:rect l="l" t="t" r="r" b="b"/>
                <a:pathLst>
                  <a:path w="1307" h="3010">
                    <a:moveTo>
                      <a:pt x="707" y="1346"/>
                    </a:moveTo>
                    <a:lnTo>
                      <a:pt x="707" y="2408"/>
                    </a:lnTo>
                    <a:lnTo>
                      <a:pt x="494" y="3010"/>
                    </a:lnTo>
                    <a:lnTo>
                      <a:pt x="1307" y="3010"/>
                    </a:lnTo>
                    <a:lnTo>
                      <a:pt x="1307" y="462"/>
                    </a:lnTo>
                    <a:lnTo>
                      <a:pt x="458" y="0"/>
                    </a:lnTo>
                    <a:lnTo>
                      <a:pt x="0" y="920"/>
                    </a:lnTo>
                    <a:lnTo>
                      <a:pt x="707" y="1346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267680" y="5002200"/>
                <a:ext cx="236520" cy="196560"/>
                <a:chOff x="7267680" y="5002200"/>
                <a:chExt cx="236520" cy="196560"/>
              </a:xfrm>
            </p:grpSpPr>
            <p:grpSp>
              <p:nvGrpSpPr>
                <p:cNvPr id="2010" name=""/>
                <p:cNvGrpSpPr/>
                <p:nvPr/>
              </p:nvGrpSpPr>
              <p:grpSpPr>
                <a:xfrm>
                  <a:off x="7267680" y="5047200"/>
                  <a:ext cx="154800" cy="151560"/>
                  <a:chOff x="7267680" y="5047200"/>
                  <a:chExt cx="154800" cy="15156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>
                    <a:off x="7267680" y="5047200"/>
                    <a:ext cx="1548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1241">
                        <a:moveTo>
                          <a:pt x="42" y="574"/>
                        </a:moveTo>
                        <a:lnTo>
                          <a:pt x="669" y="889"/>
                        </a:lnTo>
                        <a:lnTo>
                          <a:pt x="635" y="956"/>
                        </a:lnTo>
                        <a:lnTo>
                          <a:pt x="740" y="1100"/>
                        </a:lnTo>
                        <a:lnTo>
                          <a:pt x="954" y="639"/>
                        </a:lnTo>
                        <a:lnTo>
                          <a:pt x="989" y="462"/>
                        </a:lnTo>
                        <a:lnTo>
                          <a:pt x="908" y="514"/>
                        </a:lnTo>
                        <a:lnTo>
                          <a:pt x="177" y="141"/>
                        </a:lnTo>
                        <a:lnTo>
                          <a:pt x="247" y="0"/>
                        </a:lnTo>
                        <a:lnTo>
                          <a:pt x="1095" y="390"/>
                        </a:lnTo>
                        <a:lnTo>
                          <a:pt x="1129" y="321"/>
                        </a:lnTo>
                        <a:lnTo>
                          <a:pt x="1270" y="390"/>
                        </a:lnTo>
                        <a:lnTo>
                          <a:pt x="1200" y="568"/>
                        </a:lnTo>
                        <a:lnTo>
                          <a:pt x="1023" y="709"/>
                        </a:lnTo>
                        <a:lnTo>
                          <a:pt x="774" y="1241"/>
                        </a:lnTo>
                        <a:lnTo>
                          <a:pt x="424" y="1030"/>
                        </a:lnTo>
                        <a:lnTo>
                          <a:pt x="0" y="673"/>
                        </a:lnTo>
                        <a:lnTo>
                          <a:pt x="42" y="57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268760" y="5117040"/>
                    <a:ext cx="806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388">
                        <a:moveTo>
                          <a:pt x="32" y="0"/>
                        </a:moveTo>
                        <a:lnTo>
                          <a:pt x="661" y="317"/>
                        </a:lnTo>
                        <a:lnTo>
                          <a:pt x="625" y="388"/>
                        </a:lnTo>
                        <a:lnTo>
                          <a:pt x="0" y="7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3" name=""/>
                <p:cNvGrpSpPr/>
                <p:nvPr/>
              </p:nvGrpSpPr>
              <p:grpSpPr>
                <a:xfrm>
                  <a:off x="7280280" y="5002200"/>
                  <a:ext cx="223920" cy="84240"/>
                  <a:chOff x="7280280" y="5002200"/>
                  <a:chExt cx="223920" cy="84240"/>
                </a:xfrm>
              </p:grpSpPr>
              <p:sp>
                <p:nvSpPr>
                  <p:cNvPr id="2014" name=""/>
                  <p:cNvSpPr/>
                  <p:nvPr/>
                </p:nvSpPr>
                <p:spPr>
                  <a:xfrm>
                    <a:off x="7280280" y="5002200"/>
                    <a:ext cx="2239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6" h="691">
                        <a:moveTo>
                          <a:pt x="80" y="0"/>
                        </a:moveTo>
                        <a:lnTo>
                          <a:pt x="1173" y="549"/>
                        </a:lnTo>
                        <a:lnTo>
                          <a:pt x="1836" y="549"/>
                        </a:lnTo>
                        <a:lnTo>
                          <a:pt x="1836" y="691"/>
                        </a:lnTo>
                        <a:lnTo>
                          <a:pt x="1042" y="691"/>
                        </a:lnTo>
                        <a:lnTo>
                          <a:pt x="0" y="159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7284600" y="5017320"/>
                    <a:ext cx="131040" cy="65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6" name=""/>
                <p:cNvSpPr/>
                <p:nvPr/>
              </p:nvSpPr>
              <p:spPr>
                <a:xfrm>
                  <a:off x="7286760" y="5027760"/>
                  <a:ext cx="120600" cy="71280"/>
                </a:xfrm>
                <a:custGeom>
                  <a:avLst/>
                  <a:gdLst/>
                  <a:ahLst/>
                  <a:rect l="l" t="t" r="r" b="b"/>
                  <a:pathLst>
                    <a:path w="990" h="583">
                      <a:moveTo>
                        <a:pt x="54" y="0"/>
                      </a:moveTo>
                      <a:lnTo>
                        <a:pt x="0" y="113"/>
                      </a:lnTo>
                      <a:lnTo>
                        <a:pt x="938" y="583"/>
                      </a:lnTo>
                      <a:lnTo>
                        <a:pt x="990" y="468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7335720" y="4724280"/>
                <a:ext cx="181080" cy="298440"/>
                <a:chOff x="7335720" y="4724280"/>
                <a:chExt cx="181080" cy="29844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7348680" y="4963680"/>
                  <a:ext cx="51840" cy="46080"/>
                </a:xfrm>
                <a:custGeom>
                  <a:avLst/>
                  <a:gdLst/>
                  <a:ahLst/>
                  <a:rect l="l" t="t" r="r" b="b"/>
                  <a:pathLst>
                    <a:path w="426" h="376">
                      <a:moveTo>
                        <a:pt x="105" y="0"/>
                      </a:moveTo>
                      <a:lnTo>
                        <a:pt x="0" y="213"/>
                      </a:lnTo>
                      <a:lnTo>
                        <a:pt x="326" y="376"/>
                      </a:lnTo>
                      <a:lnTo>
                        <a:pt x="426" y="177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9" name=""/>
                <p:cNvGrpSpPr/>
                <p:nvPr/>
              </p:nvGrpSpPr>
              <p:grpSpPr>
                <a:xfrm>
                  <a:off x="7365960" y="4813920"/>
                  <a:ext cx="111960" cy="156240"/>
                  <a:chOff x="7365960" y="4813920"/>
                  <a:chExt cx="111960" cy="15624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7365960" y="4813920"/>
                    <a:ext cx="1119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1275">
                        <a:moveTo>
                          <a:pt x="530" y="0"/>
                        </a:moveTo>
                        <a:lnTo>
                          <a:pt x="918" y="211"/>
                        </a:lnTo>
                        <a:lnTo>
                          <a:pt x="390" y="1275"/>
                        </a:lnTo>
                        <a:lnTo>
                          <a:pt x="0" y="1061"/>
                        </a:lnTo>
                        <a:lnTo>
                          <a:pt x="53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378920" y="4826880"/>
                    <a:ext cx="7308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1062">
                        <a:moveTo>
                          <a:pt x="529" y="0"/>
                        </a:moveTo>
                        <a:lnTo>
                          <a:pt x="0" y="1026"/>
                        </a:lnTo>
                        <a:lnTo>
                          <a:pt x="71" y="1062"/>
                        </a:lnTo>
                        <a:lnTo>
                          <a:pt x="597" y="40"/>
                        </a:lnTo>
                        <a:lnTo>
                          <a:pt x="529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7422120" y="4724280"/>
                  <a:ext cx="94680" cy="123840"/>
                  <a:chOff x="7422120" y="4724280"/>
                  <a:chExt cx="94680" cy="12384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>
                    <a:off x="7462440" y="4737240"/>
                    <a:ext cx="432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446">
                        <a:moveTo>
                          <a:pt x="179" y="0"/>
                        </a:moveTo>
                        <a:lnTo>
                          <a:pt x="0" y="327"/>
                        </a:lnTo>
                        <a:lnTo>
                          <a:pt x="205" y="446"/>
                        </a:lnTo>
                        <a:lnTo>
                          <a:pt x="354" y="88"/>
                        </a:lnTo>
                        <a:lnTo>
                          <a:pt x="17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7444440" y="4790880"/>
                    <a:ext cx="378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255">
                        <a:moveTo>
                          <a:pt x="66" y="0"/>
                        </a:moveTo>
                        <a:lnTo>
                          <a:pt x="0" y="114"/>
                        </a:lnTo>
                        <a:lnTo>
                          <a:pt x="249" y="255"/>
                        </a:lnTo>
                        <a:lnTo>
                          <a:pt x="309" y="132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25" name=""/>
                  <p:cNvGrpSpPr/>
                  <p:nvPr/>
                </p:nvGrpSpPr>
                <p:grpSpPr>
                  <a:xfrm>
                    <a:off x="7422120" y="4796280"/>
                    <a:ext cx="68760" cy="51840"/>
                    <a:chOff x="7422120" y="4796280"/>
                    <a:chExt cx="68760" cy="51840"/>
                  </a:xfrm>
                </p:grpSpPr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7422120" y="4796280"/>
                      <a:ext cx="687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4" h="425">
                          <a:moveTo>
                            <a:pt x="70" y="0"/>
                          </a:moveTo>
                          <a:lnTo>
                            <a:pt x="564" y="283"/>
                          </a:lnTo>
                          <a:lnTo>
                            <a:pt x="494" y="425"/>
                          </a:lnTo>
                          <a:lnTo>
                            <a:pt x="0" y="142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27" name=""/>
                    <p:cNvGrpSpPr/>
                    <p:nvPr/>
                  </p:nvGrpSpPr>
                  <p:grpSpPr>
                    <a:xfrm>
                      <a:off x="7425000" y="4798080"/>
                      <a:ext cx="62280" cy="48600"/>
                      <a:chOff x="7425000" y="4798080"/>
                      <a:chExt cx="62280" cy="48600"/>
                    </a:xfrm>
                  </p:grpSpPr>
                  <p:sp>
                    <p:nvSpPr>
                      <p:cNvPr id="2028" name=""/>
                      <p:cNvSpPr/>
                      <p:nvPr/>
                    </p:nvSpPr>
                    <p:spPr>
                      <a:xfrm flipH="1">
                        <a:off x="7425000" y="4798080"/>
                        <a:ext cx="792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9" name=""/>
                      <p:cNvSpPr/>
                      <p:nvPr/>
                    </p:nvSpPr>
                    <p:spPr>
                      <a:xfrm flipH="1">
                        <a:off x="7432560" y="4802040"/>
                        <a:ext cx="864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0" name=""/>
                      <p:cNvSpPr/>
                      <p:nvPr/>
                    </p:nvSpPr>
                    <p:spPr>
                      <a:xfrm flipH="1">
                        <a:off x="7479000" y="482976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1" name=""/>
                      <p:cNvSpPr/>
                      <p:nvPr/>
                    </p:nvSpPr>
                    <p:spPr>
                      <a:xfrm flipH="1">
                        <a:off x="7428240" y="4799520"/>
                        <a:ext cx="864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2" name=""/>
                      <p:cNvSpPr/>
                      <p:nvPr/>
                    </p:nvSpPr>
                    <p:spPr>
                      <a:xfrm flipH="1">
                        <a:off x="7437600" y="480564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3" name=""/>
                      <p:cNvSpPr/>
                      <p:nvPr/>
                    </p:nvSpPr>
                    <p:spPr>
                      <a:xfrm flipH="1">
                        <a:off x="7453440" y="481464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4" name=""/>
                      <p:cNvSpPr/>
                      <p:nvPr/>
                    </p:nvSpPr>
                    <p:spPr>
                      <a:xfrm flipH="1">
                        <a:off x="7475760" y="482724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5" name=""/>
                      <p:cNvSpPr/>
                      <p:nvPr/>
                    </p:nvSpPr>
                    <p:spPr>
                      <a:xfrm flipH="1">
                        <a:off x="7472160" y="4825440"/>
                        <a:ext cx="864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6" name=""/>
                      <p:cNvSpPr/>
                      <p:nvPr/>
                    </p:nvSpPr>
                    <p:spPr>
                      <a:xfrm flipH="1">
                        <a:off x="7467480" y="482256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7" name=""/>
                      <p:cNvSpPr/>
                      <p:nvPr/>
                    </p:nvSpPr>
                    <p:spPr>
                      <a:xfrm flipH="1">
                        <a:off x="7462080" y="481896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8" name=""/>
                      <p:cNvSpPr/>
                      <p:nvPr/>
                    </p:nvSpPr>
                    <p:spPr>
                      <a:xfrm flipH="1">
                        <a:off x="7444800" y="480960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39" name=""/>
                  <p:cNvGrpSpPr/>
                  <p:nvPr/>
                </p:nvGrpSpPr>
                <p:grpSpPr>
                  <a:xfrm>
                    <a:off x="7443720" y="4770720"/>
                    <a:ext cx="56160" cy="43560"/>
                    <a:chOff x="7443720" y="4770720"/>
                    <a:chExt cx="56160" cy="43560"/>
                  </a:xfrm>
                </p:grpSpPr>
                <p:sp>
                  <p:nvSpPr>
                    <p:cNvPr id="2040" name=""/>
                    <p:cNvSpPr/>
                    <p:nvPr/>
                  </p:nvSpPr>
                  <p:spPr>
                    <a:xfrm>
                      <a:off x="7443720" y="4770720"/>
                      <a:ext cx="561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0" h="357">
                          <a:moveTo>
                            <a:pt x="0" y="138"/>
                          </a:moveTo>
                          <a:lnTo>
                            <a:pt x="385" y="357"/>
                          </a:lnTo>
                          <a:lnTo>
                            <a:pt x="460" y="213"/>
                          </a:lnTo>
                          <a:lnTo>
                            <a:pt x="68" y="0"/>
                          </a:lnTo>
                          <a:lnTo>
                            <a:pt x="0" y="13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1" name=""/>
                    <p:cNvGrpSpPr/>
                    <p:nvPr/>
                  </p:nvGrpSpPr>
                  <p:grpSpPr>
                    <a:xfrm>
                      <a:off x="7445520" y="4771440"/>
                      <a:ext cx="51480" cy="41400"/>
                      <a:chOff x="7445520" y="4771440"/>
                      <a:chExt cx="51480" cy="41400"/>
                    </a:xfrm>
                  </p:grpSpPr>
                  <p:sp>
                    <p:nvSpPr>
                      <p:cNvPr id="2042" name=""/>
                      <p:cNvSpPr/>
                      <p:nvPr/>
                    </p:nvSpPr>
                    <p:spPr>
                      <a:xfrm flipH="1">
                        <a:off x="7465320" y="4782240"/>
                        <a:ext cx="864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3" name=""/>
                      <p:cNvSpPr/>
                      <p:nvPr/>
                    </p:nvSpPr>
                    <p:spPr>
                      <a:xfrm flipH="1">
                        <a:off x="7448040" y="477288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4" name=""/>
                      <p:cNvSpPr/>
                      <p:nvPr/>
                    </p:nvSpPr>
                    <p:spPr>
                      <a:xfrm flipH="1">
                        <a:off x="7482240" y="479160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5" name=""/>
                      <p:cNvSpPr/>
                      <p:nvPr/>
                    </p:nvSpPr>
                    <p:spPr>
                      <a:xfrm flipH="1">
                        <a:off x="7445520" y="4771440"/>
                        <a:ext cx="828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6" name=""/>
                      <p:cNvSpPr/>
                      <p:nvPr/>
                    </p:nvSpPr>
                    <p:spPr>
                      <a:xfrm flipH="1">
                        <a:off x="7450920" y="477432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7" name=""/>
                      <p:cNvSpPr/>
                      <p:nvPr/>
                    </p:nvSpPr>
                    <p:spPr>
                      <a:xfrm flipH="1">
                        <a:off x="7459920" y="4779360"/>
                        <a:ext cx="864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8" name=""/>
                      <p:cNvSpPr/>
                      <p:nvPr/>
                    </p:nvSpPr>
                    <p:spPr>
                      <a:xfrm flipH="1">
                        <a:off x="7487280" y="4793760"/>
                        <a:ext cx="864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9" name=""/>
                      <p:cNvSpPr/>
                      <p:nvPr/>
                    </p:nvSpPr>
                    <p:spPr>
                      <a:xfrm flipH="1">
                        <a:off x="7488720" y="479556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0" name=""/>
                      <p:cNvSpPr/>
                      <p:nvPr/>
                    </p:nvSpPr>
                    <p:spPr>
                      <a:xfrm flipH="1">
                        <a:off x="7484760" y="4793040"/>
                        <a:ext cx="864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1" name=""/>
                      <p:cNvSpPr/>
                      <p:nvPr/>
                    </p:nvSpPr>
                    <p:spPr>
                      <a:xfrm flipH="1">
                        <a:off x="7479720" y="4789800"/>
                        <a:ext cx="792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2" name=""/>
                      <p:cNvSpPr/>
                      <p:nvPr/>
                    </p:nvSpPr>
                    <p:spPr>
                      <a:xfrm flipH="1">
                        <a:off x="7455240" y="4776480"/>
                        <a:ext cx="864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3" name=""/>
                      <p:cNvSpPr/>
                      <p:nvPr/>
                    </p:nvSpPr>
                    <p:spPr>
                      <a:xfrm flipH="1">
                        <a:off x="7471440" y="478548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4" name=""/>
                      <p:cNvSpPr/>
                      <p:nvPr/>
                    </p:nvSpPr>
                    <p:spPr>
                      <a:xfrm flipH="1">
                        <a:off x="7475400" y="4788000"/>
                        <a:ext cx="8280" cy="17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55" name=""/>
                  <p:cNvGrpSpPr/>
                  <p:nvPr/>
                </p:nvGrpSpPr>
                <p:grpSpPr>
                  <a:xfrm>
                    <a:off x="7479360" y="4724280"/>
                    <a:ext cx="37440" cy="27000"/>
                    <a:chOff x="7479360" y="4724280"/>
                    <a:chExt cx="37440" cy="27000"/>
                  </a:xfrm>
                </p:grpSpPr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7479360" y="4724280"/>
                      <a:ext cx="37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219">
                          <a:moveTo>
                            <a:pt x="0" y="85"/>
                          </a:moveTo>
                          <a:lnTo>
                            <a:pt x="263" y="219"/>
                          </a:lnTo>
                          <a:lnTo>
                            <a:pt x="309" y="131"/>
                          </a:lnTo>
                          <a:lnTo>
                            <a:pt x="42" y="0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57" name=""/>
                    <p:cNvGrpSpPr/>
                    <p:nvPr/>
                  </p:nvGrpSpPr>
                  <p:grpSpPr>
                    <a:xfrm>
                      <a:off x="7479720" y="4724640"/>
                      <a:ext cx="35640" cy="25920"/>
                      <a:chOff x="7479720" y="4724640"/>
                      <a:chExt cx="35640" cy="25920"/>
                    </a:xfrm>
                  </p:grpSpPr>
                  <p:sp>
                    <p:nvSpPr>
                      <p:cNvPr id="2058" name=""/>
                      <p:cNvSpPr/>
                      <p:nvPr/>
                    </p:nvSpPr>
                    <p:spPr>
                      <a:xfrm flipH="1">
                        <a:off x="7479720" y="4724640"/>
                        <a:ext cx="468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9" name=""/>
                      <p:cNvSpPr/>
                      <p:nvPr/>
                    </p:nvSpPr>
                    <p:spPr>
                      <a:xfrm flipH="1">
                        <a:off x="7510320" y="4740120"/>
                        <a:ext cx="504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0" name=""/>
                      <p:cNvSpPr/>
                      <p:nvPr/>
                    </p:nvSpPr>
                    <p:spPr>
                      <a:xfrm flipH="1">
                        <a:off x="7480800" y="4725360"/>
                        <a:ext cx="468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1" name=""/>
                      <p:cNvSpPr/>
                      <p:nvPr/>
                    </p:nvSpPr>
                    <p:spPr>
                      <a:xfrm flipH="1">
                        <a:off x="7508520" y="4739040"/>
                        <a:ext cx="540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 flipH="1">
                        <a:off x="7482600" y="4726080"/>
                        <a:ext cx="504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3" name=""/>
                      <p:cNvSpPr/>
                      <p:nvPr/>
                    </p:nvSpPr>
                    <p:spPr>
                      <a:xfrm flipH="1">
                        <a:off x="7484400" y="4726800"/>
                        <a:ext cx="504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4" name=""/>
                      <p:cNvSpPr/>
                      <p:nvPr/>
                    </p:nvSpPr>
                    <p:spPr>
                      <a:xfrm flipH="1">
                        <a:off x="7507080" y="4738320"/>
                        <a:ext cx="5400" cy="10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5" name=""/>
                      <p:cNvSpPr/>
                      <p:nvPr/>
                    </p:nvSpPr>
                    <p:spPr>
                      <a:xfrm flipH="1">
                        <a:off x="7504920" y="4737600"/>
                        <a:ext cx="540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6" name=""/>
                      <p:cNvSpPr/>
                      <p:nvPr/>
                    </p:nvSpPr>
                    <p:spPr>
                      <a:xfrm flipH="1">
                        <a:off x="7485840" y="4727880"/>
                        <a:ext cx="540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7" name=""/>
                      <p:cNvSpPr/>
                      <p:nvPr/>
                    </p:nvSpPr>
                    <p:spPr>
                      <a:xfrm flipH="1">
                        <a:off x="7502400" y="4736160"/>
                        <a:ext cx="540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8" name=""/>
                      <p:cNvSpPr/>
                      <p:nvPr/>
                    </p:nvSpPr>
                    <p:spPr>
                      <a:xfrm flipH="1">
                        <a:off x="7489080" y="4729320"/>
                        <a:ext cx="504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9" name=""/>
                      <p:cNvSpPr/>
                      <p:nvPr/>
                    </p:nvSpPr>
                    <p:spPr>
                      <a:xfrm flipH="1">
                        <a:off x="7499880" y="4735080"/>
                        <a:ext cx="540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0" name=""/>
                      <p:cNvSpPr/>
                      <p:nvPr/>
                    </p:nvSpPr>
                    <p:spPr>
                      <a:xfrm flipH="1">
                        <a:off x="7492320" y="4731120"/>
                        <a:ext cx="4680" cy="10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1" name=""/>
                      <p:cNvSpPr/>
                      <p:nvPr/>
                    </p:nvSpPr>
                    <p:spPr>
                      <a:xfrm flipH="1">
                        <a:off x="7495920" y="4732920"/>
                        <a:ext cx="5400" cy="10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72" name=""/>
                <p:cNvGrpSpPr/>
                <p:nvPr/>
              </p:nvGrpSpPr>
              <p:grpSpPr>
                <a:xfrm>
                  <a:off x="7335720" y="4985640"/>
                  <a:ext cx="61200" cy="37080"/>
                  <a:chOff x="7335720" y="4985640"/>
                  <a:chExt cx="61200" cy="37080"/>
                </a:xfrm>
              </p:grpSpPr>
              <p:sp>
                <p:nvSpPr>
                  <p:cNvPr id="2073" name=""/>
                  <p:cNvSpPr/>
                  <p:nvPr/>
                </p:nvSpPr>
                <p:spPr>
                  <a:xfrm>
                    <a:off x="7335720" y="4985640"/>
                    <a:ext cx="6120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03">
                        <a:moveTo>
                          <a:pt x="36" y="0"/>
                        </a:moveTo>
                        <a:lnTo>
                          <a:pt x="502" y="235"/>
                        </a:lnTo>
                        <a:lnTo>
                          <a:pt x="468" y="303"/>
                        </a:lnTo>
                        <a:lnTo>
                          <a:pt x="0" y="70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74" name=""/>
                  <p:cNvGrpSpPr/>
                  <p:nvPr/>
                </p:nvGrpSpPr>
                <p:grpSpPr>
                  <a:xfrm>
                    <a:off x="7337520" y="4987080"/>
                    <a:ext cx="57240" cy="34560"/>
                    <a:chOff x="7337520" y="4987080"/>
                    <a:chExt cx="57240" cy="34560"/>
                  </a:xfrm>
                </p:grpSpPr>
                <p:sp>
                  <p:nvSpPr>
                    <p:cNvPr id="2075" name=""/>
                    <p:cNvSpPr/>
                    <p:nvPr/>
                  </p:nvSpPr>
                  <p:spPr>
                    <a:xfrm flipH="1">
                      <a:off x="7337520" y="498708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"/>
                    <p:cNvSpPr/>
                    <p:nvPr/>
                  </p:nvSpPr>
                  <p:spPr>
                    <a:xfrm flipH="1">
                      <a:off x="7340040" y="4988160"/>
                      <a:ext cx="36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 flipH="1">
                      <a:off x="7391160" y="5013720"/>
                      <a:ext cx="36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H="1">
                      <a:off x="7342200" y="498924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/>
                    <p:nvPr/>
                  </p:nvSpPr>
                  <p:spPr>
                    <a:xfrm flipH="1">
                      <a:off x="7345800" y="499104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 flipH="1">
                      <a:off x="7350480" y="499320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flipH="1">
                      <a:off x="7355880" y="4995720"/>
                      <a:ext cx="360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 flipH="1">
                      <a:off x="7360200" y="4997880"/>
                      <a:ext cx="396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3" name=""/>
                    <p:cNvSpPr/>
                    <p:nvPr/>
                  </p:nvSpPr>
                  <p:spPr>
                    <a:xfrm flipH="1">
                      <a:off x="7389000" y="5013000"/>
                      <a:ext cx="3960" cy="7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4" name=""/>
                    <p:cNvSpPr/>
                    <p:nvPr/>
                  </p:nvSpPr>
                  <p:spPr>
                    <a:xfrm flipH="1">
                      <a:off x="7386120" y="5011560"/>
                      <a:ext cx="396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 flipH="1">
                      <a:off x="7384320" y="501048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6" name=""/>
                    <p:cNvSpPr/>
                    <p:nvPr/>
                  </p:nvSpPr>
                  <p:spPr>
                    <a:xfrm flipH="1">
                      <a:off x="7382160" y="5009040"/>
                      <a:ext cx="360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7" name=""/>
                    <p:cNvSpPr/>
                    <p:nvPr/>
                  </p:nvSpPr>
                  <p:spPr>
                    <a:xfrm flipH="1">
                      <a:off x="7379280" y="5007240"/>
                      <a:ext cx="36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 flipH="1">
                      <a:off x="7374600" y="5005800"/>
                      <a:ext cx="396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9" name=""/>
                    <p:cNvSpPr/>
                    <p:nvPr/>
                  </p:nvSpPr>
                  <p:spPr>
                    <a:xfrm flipH="1">
                      <a:off x="7370280" y="5002920"/>
                      <a:ext cx="396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0" name=""/>
                    <p:cNvSpPr/>
                    <p:nvPr/>
                  </p:nvSpPr>
                  <p:spPr>
                    <a:xfrm flipH="1">
                      <a:off x="7365600" y="5000400"/>
                      <a:ext cx="3600" cy="8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7348680" y="4939920"/>
                  <a:ext cx="73080" cy="52920"/>
                  <a:chOff x="7348680" y="4939920"/>
                  <a:chExt cx="73080" cy="5292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7348680" y="4939920"/>
                    <a:ext cx="73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432">
                        <a:moveTo>
                          <a:pt x="71" y="0"/>
                        </a:moveTo>
                        <a:lnTo>
                          <a:pt x="599" y="288"/>
                        </a:lnTo>
                        <a:lnTo>
                          <a:pt x="529" y="432"/>
                        </a:lnTo>
                        <a:lnTo>
                          <a:pt x="0" y="14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3" name=""/>
                  <p:cNvGrpSpPr/>
                  <p:nvPr/>
                </p:nvGrpSpPr>
                <p:grpSpPr>
                  <a:xfrm>
                    <a:off x="7351200" y="4941720"/>
                    <a:ext cx="67320" cy="49680"/>
                    <a:chOff x="7351200" y="4941720"/>
                    <a:chExt cx="67320" cy="49680"/>
                  </a:xfrm>
                </p:grpSpPr>
                <p:sp>
                  <p:nvSpPr>
                    <p:cNvPr id="2094" name=""/>
                    <p:cNvSpPr/>
                    <p:nvPr/>
                  </p:nvSpPr>
                  <p:spPr>
                    <a:xfrm flipH="1">
                      <a:off x="7358760" y="4945680"/>
                      <a:ext cx="8280" cy="1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5" name=""/>
                    <p:cNvSpPr/>
                    <p:nvPr/>
                  </p:nvSpPr>
                  <p:spPr>
                    <a:xfrm flipH="1">
                      <a:off x="7410240" y="4974120"/>
                      <a:ext cx="828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flipH="1">
                      <a:off x="7354440" y="4943520"/>
                      <a:ext cx="8280" cy="16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 flipH="1">
                      <a:off x="7363800" y="4948200"/>
                      <a:ext cx="8280" cy="1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 flipH="1">
                      <a:off x="7376040" y="4955400"/>
                      <a:ext cx="8280" cy="1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9" name=""/>
                    <p:cNvSpPr/>
                    <p:nvPr/>
                  </p:nvSpPr>
                  <p:spPr>
                    <a:xfrm flipH="1">
                      <a:off x="7407720" y="4972680"/>
                      <a:ext cx="8280" cy="1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/>
                    <p:nvPr/>
                  </p:nvSpPr>
                  <p:spPr>
                    <a:xfrm flipH="1">
                      <a:off x="7404480" y="4970880"/>
                      <a:ext cx="864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 flipH="1">
                      <a:off x="7400520" y="4968360"/>
                      <a:ext cx="828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flipH="1">
                      <a:off x="7384320" y="4959720"/>
                      <a:ext cx="828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 flipH="1">
                      <a:off x="7369920" y="4951440"/>
                      <a:ext cx="828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"/>
                    <p:cNvSpPr/>
                    <p:nvPr/>
                  </p:nvSpPr>
                  <p:spPr>
                    <a:xfrm flipH="1">
                      <a:off x="7395840" y="4966200"/>
                      <a:ext cx="8280" cy="1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5" name=""/>
                    <p:cNvSpPr/>
                    <p:nvPr/>
                  </p:nvSpPr>
                  <p:spPr>
                    <a:xfrm flipH="1">
                      <a:off x="7391160" y="4962960"/>
                      <a:ext cx="8280" cy="1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"/>
                    <p:cNvSpPr/>
                    <p:nvPr/>
                  </p:nvSpPr>
                  <p:spPr>
                    <a:xfrm flipH="1">
                      <a:off x="7351200" y="4941720"/>
                      <a:ext cx="8280" cy="16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07" name=""/>
              <p:cNvGrpSpPr/>
              <p:nvPr/>
            </p:nvGrpSpPr>
            <p:grpSpPr>
              <a:xfrm>
                <a:off x="7238880" y="5213160"/>
                <a:ext cx="384120" cy="58680"/>
                <a:chOff x="7238880" y="5213160"/>
                <a:chExt cx="384120" cy="58680"/>
              </a:xfrm>
            </p:grpSpPr>
            <p:sp>
              <p:nvSpPr>
                <p:cNvPr id="2108" name=""/>
                <p:cNvSpPr/>
                <p:nvPr/>
              </p:nvSpPr>
              <p:spPr>
                <a:xfrm>
                  <a:off x="7238880" y="5244120"/>
                  <a:ext cx="384120" cy="2772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267320" y="5213160"/>
                  <a:ext cx="326520" cy="298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0" name=""/>
            <p:cNvGrpSpPr/>
            <p:nvPr/>
          </p:nvGrpSpPr>
          <p:grpSpPr>
            <a:xfrm>
              <a:off x="7772400" y="4800600"/>
              <a:ext cx="1066680" cy="492120"/>
              <a:chOff x="7772400" y="4800600"/>
              <a:chExt cx="1066680" cy="492120"/>
            </a:xfrm>
          </p:grpSpPr>
          <p:sp>
            <p:nvSpPr>
              <p:cNvPr id="2111" name=""/>
              <p:cNvSpPr/>
              <p:nvPr/>
            </p:nvSpPr>
            <p:spPr>
              <a:xfrm>
                <a:off x="8195400" y="514044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30" h="103">
                    <a:moveTo>
                      <a:pt x="30" y="33"/>
                    </a:moveTo>
                    <a:lnTo>
                      <a:pt x="30" y="103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2" name=""/>
              <p:cNvGrpSpPr/>
              <p:nvPr/>
            </p:nvGrpSpPr>
            <p:grpSpPr>
              <a:xfrm>
                <a:off x="7772400" y="4800600"/>
                <a:ext cx="1066680" cy="492120"/>
                <a:chOff x="7772400" y="4800600"/>
                <a:chExt cx="1066680" cy="492120"/>
              </a:xfrm>
            </p:grpSpPr>
            <p:grpSp>
              <p:nvGrpSpPr>
                <p:cNvPr id="2113" name=""/>
                <p:cNvGrpSpPr/>
                <p:nvPr/>
              </p:nvGrpSpPr>
              <p:grpSpPr>
                <a:xfrm>
                  <a:off x="7772400" y="4800600"/>
                  <a:ext cx="819000" cy="442800"/>
                  <a:chOff x="7772400" y="4800600"/>
                  <a:chExt cx="819000" cy="442800"/>
                </a:xfrm>
              </p:grpSpPr>
              <p:sp>
                <p:nvSpPr>
                  <p:cNvPr id="2114" name=""/>
                  <p:cNvSpPr/>
                  <p:nvPr/>
                </p:nvSpPr>
                <p:spPr>
                  <a:xfrm>
                    <a:off x="7773480" y="4890960"/>
                    <a:ext cx="81792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6" h="1108">
                        <a:moveTo>
                          <a:pt x="2576" y="0"/>
                        </a:moveTo>
                        <a:lnTo>
                          <a:pt x="2576" y="1108"/>
                        </a:lnTo>
                        <a:lnTo>
                          <a:pt x="96" y="1108"/>
                        </a:lnTo>
                        <a:lnTo>
                          <a:pt x="96" y="903"/>
                        </a:lnTo>
                        <a:lnTo>
                          <a:pt x="47" y="888"/>
                        </a:lnTo>
                        <a:lnTo>
                          <a:pt x="47" y="751"/>
                        </a:lnTo>
                        <a:lnTo>
                          <a:pt x="0" y="729"/>
                        </a:lnTo>
                        <a:lnTo>
                          <a:pt x="257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5" name=""/>
                  <p:cNvGrpSpPr/>
                  <p:nvPr/>
                </p:nvGrpSpPr>
                <p:grpSpPr>
                  <a:xfrm>
                    <a:off x="7840440" y="5170680"/>
                    <a:ext cx="50040" cy="26640"/>
                    <a:chOff x="7840440" y="5170680"/>
                    <a:chExt cx="50040" cy="26640"/>
                  </a:xfrm>
                </p:grpSpPr>
                <p:sp>
                  <p:nvSpPr>
                    <p:cNvPr id="2116" name=""/>
                    <p:cNvSpPr/>
                    <p:nvPr/>
                  </p:nvSpPr>
                  <p:spPr>
                    <a:xfrm>
                      <a:off x="7882920" y="5170680"/>
                      <a:ext cx="756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"/>
                    <p:cNvSpPr/>
                    <p:nvPr/>
                  </p:nvSpPr>
                  <p:spPr>
                    <a:xfrm>
                      <a:off x="7873200" y="5172120"/>
                      <a:ext cx="7560" cy="22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/>
                    <p:nvPr/>
                  </p:nvSpPr>
                  <p:spPr>
                    <a:xfrm>
                      <a:off x="7865280" y="5172120"/>
                      <a:ext cx="612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>
                      <a:off x="7855920" y="5172120"/>
                      <a:ext cx="756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7848000" y="5173560"/>
                      <a:ext cx="756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7840440" y="5173560"/>
                      <a:ext cx="576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2" name=""/>
                  <p:cNvGrpSpPr/>
                  <p:nvPr/>
                </p:nvGrpSpPr>
                <p:grpSpPr>
                  <a:xfrm>
                    <a:off x="7946640" y="5138640"/>
                    <a:ext cx="86760" cy="49320"/>
                    <a:chOff x="7946640" y="5138640"/>
                    <a:chExt cx="86760" cy="49320"/>
                  </a:xfrm>
                </p:grpSpPr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8022600" y="5138640"/>
                      <a:ext cx="108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23">
                          <a:moveTo>
                            <a:pt x="0" y="0"/>
                          </a:moveTo>
                          <a:lnTo>
                            <a:pt x="0" y="123"/>
                          </a:lnTo>
                          <a:lnTo>
                            <a:pt x="35" y="123"/>
                          </a:lnTo>
                          <a:lnTo>
                            <a:pt x="35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8008200" y="5140440"/>
                      <a:ext cx="1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23">
                          <a:moveTo>
                            <a:pt x="0" y="0"/>
                          </a:moveTo>
                          <a:lnTo>
                            <a:pt x="0" y="123"/>
                          </a:lnTo>
                          <a:lnTo>
                            <a:pt x="36" y="123"/>
                          </a:lnTo>
                          <a:lnTo>
                            <a:pt x="36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7995600" y="5141880"/>
                      <a:ext cx="1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23">
                          <a:moveTo>
                            <a:pt x="0" y="0"/>
                          </a:moveTo>
                          <a:lnTo>
                            <a:pt x="0" y="123"/>
                          </a:lnTo>
                          <a:lnTo>
                            <a:pt x="34" y="123"/>
                          </a:lnTo>
                          <a:lnTo>
                            <a:pt x="34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7982640" y="5143680"/>
                      <a:ext cx="108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22">
                          <a:moveTo>
                            <a:pt x="0" y="0"/>
                          </a:moveTo>
                          <a:lnTo>
                            <a:pt x="0" y="122"/>
                          </a:lnTo>
                          <a:lnTo>
                            <a:pt x="35" y="122"/>
                          </a:lnTo>
                          <a:lnTo>
                            <a:pt x="35" y="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7971840" y="5143680"/>
                      <a:ext cx="104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22">
                          <a:moveTo>
                            <a:pt x="0" y="0"/>
                          </a:moveTo>
                          <a:lnTo>
                            <a:pt x="0" y="122"/>
                          </a:lnTo>
                          <a:lnTo>
                            <a:pt x="35" y="122"/>
                          </a:lnTo>
                          <a:lnTo>
                            <a:pt x="35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7958880" y="5146560"/>
                      <a:ext cx="1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23">
                          <a:moveTo>
                            <a:pt x="0" y="0"/>
                          </a:moveTo>
                          <a:lnTo>
                            <a:pt x="0" y="123"/>
                          </a:lnTo>
                          <a:lnTo>
                            <a:pt x="35" y="123"/>
                          </a:lnTo>
                          <a:lnTo>
                            <a:pt x="35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7946640" y="5148360"/>
                      <a:ext cx="108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23">
                          <a:moveTo>
                            <a:pt x="0" y="0"/>
                          </a:moveTo>
                          <a:lnTo>
                            <a:pt x="0" y="123"/>
                          </a:lnTo>
                          <a:lnTo>
                            <a:pt x="36" y="123"/>
                          </a:lnTo>
                          <a:lnTo>
                            <a:pt x="36" y="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0" name=""/>
                  <p:cNvGrpSpPr/>
                  <p:nvPr/>
                </p:nvGrpSpPr>
                <p:grpSpPr>
                  <a:xfrm>
                    <a:off x="8116200" y="5111640"/>
                    <a:ext cx="116640" cy="57240"/>
                    <a:chOff x="8116200" y="5111640"/>
                    <a:chExt cx="116640" cy="57240"/>
                  </a:xfrm>
                </p:grpSpPr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8219160" y="5111640"/>
                      <a:ext cx="13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144">
                          <a:moveTo>
                            <a:pt x="0" y="0"/>
                          </a:moveTo>
                          <a:lnTo>
                            <a:pt x="0" y="144"/>
                          </a:lnTo>
                          <a:lnTo>
                            <a:pt x="45" y="144"/>
                          </a:lnTo>
                          <a:lnTo>
                            <a:pt x="45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2" name=""/>
                    <p:cNvSpPr/>
                    <p:nvPr/>
                  </p:nvSpPr>
                  <p:spPr>
                    <a:xfrm>
                      <a:off x="8198280" y="5114880"/>
                      <a:ext cx="140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144">
                          <a:moveTo>
                            <a:pt x="0" y="0"/>
                          </a:moveTo>
                          <a:lnTo>
                            <a:pt x="0" y="144"/>
                          </a:lnTo>
                          <a:lnTo>
                            <a:pt x="45" y="144"/>
                          </a:lnTo>
                          <a:lnTo>
                            <a:pt x="45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3" name=""/>
                    <p:cNvSpPr/>
                    <p:nvPr/>
                  </p:nvSpPr>
                  <p:spPr>
                    <a:xfrm>
                      <a:off x="8179200" y="5116680"/>
                      <a:ext cx="140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45">
                          <a:moveTo>
                            <a:pt x="0" y="0"/>
                          </a:moveTo>
                          <a:lnTo>
                            <a:pt x="0" y="145"/>
                          </a:lnTo>
                          <a:lnTo>
                            <a:pt x="46" y="145"/>
                          </a:lnTo>
                          <a:lnTo>
                            <a:pt x="46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4" name=""/>
                    <p:cNvSpPr/>
                    <p:nvPr/>
                  </p:nvSpPr>
                  <p:spPr>
                    <a:xfrm>
                      <a:off x="8157240" y="5118120"/>
                      <a:ext cx="13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145">
                          <a:moveTo>
                            <a:pt x="0" y="0"/>
                          </a:moveTo>
                          <a:lnTo>
                            <a:pt x="0" y="145"/>
                          </a:lnTo>
                          <a:lnTo>
                            <a:pt x="45" y="145"/>
                          </a:lnTo>
                          <a:lnTo>
                            <a:pt x="45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5" name=""/>
                    <p:cNvSpPr/>
                    <p:nvPr/>
                  </p:nvSpPr>
                  <p:spPr>
                    <a:xfrm>
                      <a:off x="8136360" y="5121360"/>
                      <a:ext cx="140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144">
                          <a:moveTo>
                            <a:pt x="0" y="0"/>
                          </a:moveTo>
                          <a:lnTo>
                            <a:pt x="0" y="144"/>
                          </a:lnTo>
                          <a:lnTo>
                            <a:pt x="45" y="144"/>
                          </a:lnTo>
                          <a:lnTo>
                            <a:pt x="45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6" name=""/>
                    <p:cNvSpPr/>
                    <p:nvPr/>
                  </p:nvSpPr>
                  <p:spPr>
                    <a:xfrm>
                      <a:off x="8116200" y="5122800"/>
                      <a:ext cx="140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45">
                          <a:moveTo>
                            <a:pt x="0" y="0"/>
                          </a:moveTo>
                          <a:lnTo>
                            <a:pt x="0" y="145"/>
                          </a:lnTo>
                          <a:lnTo>
                            <a:pt x="46" y="145"/>
                          </a:lnTo>
                          <a:lnTo>
                            <a:pt x="46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7" name=""/>
                  <p:cNvGrpSpPr/>
                  <p:nvPr/>
                </p:nvGrpSpPr>
                <p:grpSpPr>
                  <a:xfrm>
                    <a:off x="8393400" y="5081760"/>
                    <a:ext cx="153000" cy="58680"/>
                    <a:chOff x="8393400" y="5081760"/>
                    <a:chExt cx="153000" cy="58680"/>
                  </a:xfrm>
                </p:grpSpPr>
                <p:sp>
                  <p:nvSpPr>
                    <p:cNvPr id="2138" name=""/>
                    <p:cNvSpPr/>
                    <p:nvPr/>
                  </p:nvSpPr>
                  <p:spPr>
                    <a:xfrm>
                      <a:off x="8532720" y="5081760"/>
                      <a:ext cx="136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39">
                          <a:moveTo>
                            <a:pt x="0" y="0"/>
                          </a:moveTo>
                          <a:lnTo>
                            <a:pt x="0" y="139"/>
                          </a:lnTo>
                          <a:lnTo>
                            <a:pt x="47" y="139"/>
                          </a:lnTo>
                          <a:lnTo>
                            <a:pt x="47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9" name=""/>
                    <p:cNvSpPr/>
                    <p:nvPr/>
                  </p:nvSpPr>
                  <p:spPr>
                    <a:xfrm>
                      <a:off x="8497800" y="5084640"/>
                      <a:ext cx="136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39">
                          <a:moveTo>
                            <a:pt x="0" y="0"/>
                          </a:moveTo>
                          <a:lnTo>
                            <a:pt x="0" y="139"/>
                          </a:lnTo>
                          <a:lnTo>
                            <a:pt x="46" y="139"/>
                          </a:lnTo>
                          <a:lnTo>
                            <a:pt x="46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0" name=""/>
                    <p:cNvSpPr/>
                    <p:nvPr/>
                  </p:nvSpPr>
                  <p:spPr>
                    <a:xfrm>
                      <a:off x="8462880" y="5086440"/>
                      <a:ext cx="136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140">
                          <a:moveTo>
                            <a:pt x="0" y="0"/>
                          </a:moveTo>
                          <a:lnTo>
                            <a:pt x="0" y="140"/>
                          </a:lnTo>
                          <a:lnTo>
                            <a:pt x="46" y="140"/>
                          </a:lnTo>
                          <a:lnTo>
                            <a:pt x="46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1" name=""/>
                    <p:cNvSpPr/>
                    <p:nvPr/>
                  </p:nvSpPr>
                  <p:spPr>
                    <a:xfrm>
                      <a:off x="8426160" y="5089680"/>
                      <a:ext cx="140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39">
                          <a:moveTo>
                            <a:pt x="0" y="0"/>
                          </a:moveTo>
                          <a:lnTo>
                            <a:pt x="0" y="139"/>
                          </a:lnTo>
                          <a:lnTo>
                            <a:pt x="47" y="139"/>
                          </a:lnTo>
                          <a:lnTo>
                            <a:pt x="47" y="3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2" name=""/>
                    <p:cNvSpPr/>
                    <p:nvPr/>
                  </p:nvSpPr>
                  <p:spPr>
                    <a:xfrm>
                      <a:off x="8393400" y="5095800"/>
                      <a:ext cx="136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39">
                          <a:moveTo>
                            <a:pt x="0" y="0"/>
                          </a:moveTo>
                          <a:lnTo>
                            <a:pt x="0" y="139"/>
                          </a:lnTo>
                          <a:lnTo>
                            <a:pt x="47" y="139"/>
                          </a:lnTo>
                          <a:lnTo>
                            <a:pt x="47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43" name=""/>
                  <p:cNvSpPr/>
                  <p:nvPr/>
                </p:nvSpPr>
                <p:spPr>
                  <a:xfrm>
                    <a:off x="7805520" y="5116680"/>
                    <a:ext cx="7840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6" h="337">
                        <a:moveTo>
                          <a:pt x="2476" y="185"/>
                        </a:moveTo>
                        <a:lnTo>
                          <a:pt x="2476" y="0"/>
                        </a:lnTo>
                        <a:lnTo>
                          <a:pt x="0" y="246"/>
                        </a:lnTo>
                        <a:lnTo>
                          <a:pt x="0" y="337"/>
                        </a:lnTo>
                        <a:lnTo>
                          <a:pt x="2476" y="18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7789320" y="4997520"/>
                    <a:ext cx="8002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6" h="558">
                        <a:moveTo>
                          <a:pt x="2526" y="153"/>
                        </a:moveTo>
                        <a:lnTo>
                          <a:pt x="2526" y="0"/>
                        </a:lnTo>
                        <a:lnTo>
                          <a:pt x="0" y="491"/>
                        </a:lnTo>
                        <a:lnTo>
                          <a:pt x="0" y="558"/>
                        </a:lnTo>
                        <a:lnTo>
                          <a:pt x="2526" y="15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7772400" y="4800600"/>
                    <a:ext cx="81756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7" h="1021">
                        <a:moveTo>
                          <a:pt x="2577" y="359"/>
                        </a:moveTo>
                        <a:lnTo>
                          <a:pt x="2577" y="0"/>
                        </a:lnTo>
                        <a:lnTo>
                          <a:pt x="0" y="889"/>
                        </a:lnTo>
                        <a:lnTo>
                          <a:pt x="0" y="1021"/>
                        </a:lnTo>
                        <a:lnTo>
                          <a:pt x="2577" y="35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8589960" y="4800600"/>
                  <a:ext cx="249120" cy="441360"/>
                  <a:chOff x="8589960" y="4800600"/>
                  <a:chExt cx="249120" cy="44136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8591400" y="5195880"/>
                    <a:ext cx="183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47">
                        <a:moveTo>
                          <a:pt x="0" y="0"/>
                        </a:moveTo>
                        <a:lnTo>
                          <a:pt x="583" y="46"/>
                        </a:lnTo>
                        <a:lnTo>
                          <a:pt x="583" y="109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8589960" y="4907160"/>
                    <a:ext cx="2491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977">
                        <a:moveTo>
                          <a:pt x="0" y="0"/>
                        </a:moveTo>
                        <a:lnTo>
                          <a:pt x="786" y="512"/>
                        </a:lnTo>
                        <a:lnTo>
                          <a:pt x="690" y="512"/>
                        </a:lnTo>
                        <a:lnTo>
                          <a:pt x="690" y="693"/>
                        </a:lnTo>
                        <a:lnTo>
                          <a:pt x="723" y="713"/>
                        </a:lnTo>
                        <a:lnTo>
                          <a:pt x="690" y="712"/>
                        </a:lnTo>
                        <a:lnTo>
                          <a:pt x="689" y="948"/>
                        </a:lnTo>
                        <a:lnTo>
                          <a:pt x="600" y="977"/>
                        </a:lnTo>
                        <a:lnTo>
                          <a:pt x="0" y="9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8589960" y="4800600"/>
                    <a:ext cx="2491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846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786" y="846"/>
                        </a:lnTo>
                        <a:lnTo>
                          <a:pt x="786" y="6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0" name=""/>
                  <p:cNvGrpSpPr/>
                  <p:nvPr/>
                </p:nvGrpSpPr>
                <p:grpSpPr>
                  <a:xfrm>
                    <a:off x="8591400" y="5057640"/>
                    <a:ext cx="191160" cy="146160"/>
                    <a:chOff x="8591400" y="5057640"/>
                    <a:chExt cx="191160" cy="146160"/>
                  </a:xfrm>
                </p:grpSpPr>
                <p:sp>
                  <p:nvSpPr>
                    <p:cNvPr id="2151" name=""/>
                    <p:cNvSpPr/>
                    <p:nvPr/>
                  </p:nvSpPr>
                  <p:spPr>
                    <a:xfrm>
                      <a:off x="8759160" y="51339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1">
                          <a:moveTo>
                            <a:pt x="0" y="43"/>
                          </a:moveTo>
                          <a:lnTo>
                            <a:pt x="0" y="201"/>
                          </a:lnTo>
                          <a:lnTo>
                            <a:pt x="76" y="221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2" name=""/>
                    <p:cNvSpPr/>
                    <p:nvPr/>
                  </p:nvSpPr>
                  <p:spPr>
                    <a:xfrm>
                      <a:off x="8748000" y="512928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19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6" y="219"/>
                          </a:lnTo>
                          <a:lnTo>
                            <a:pt x="76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/>
                    <p:nvPr/>
                  </p:nvSpPr>
                  <p:spPr>
                    <a:xfrm>
                      <a:off x="8736840" y="5122800"/>
                      <a:ext cx="23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1">
                          <a:moveTo>
                            <a:pt x="0" y="43"/>
                          </a:moveTo>
                          <a:lnTo>
                            <a:pt x="0" y="202"/>
                          </a:lnTo>
                          <a:lnTo>
                            <a:pt x="75" y="221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4" name=""/>
                    <p:cNvSpPr/>
                    <p:nvPr/>
                  </p:nvSpPr>
                  <p:spPr>
                    <a:xfrm>
                      <a:off x="8726040" y="51195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1">
                          <a:moveTo>
                            <a:pt x="0" y="43"/>
                          </a:moveTo>
                          <a:lnTo>
                            <a:pt x="0" y="201"/>
                          </a:lnTo>
                          <a:lnTo>
                            <a:pt x="76" y="221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5" name=""/>
                    <p:cNvSpPr/>
                    <p:nvPr/>
                  </p:nvSpPr>
                  <p:spPr>
                    <a:xfrm>
                      <a:off x="8714880" y="51134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21">
                          <a:moveTo>
                            <a:pt x="0" y="43"/>
                          </a:moveTo>
                          <a:lnTo>
                            <a:pt x="0" y="201"/>
                          </a:lnTo>
                          <a:lnTo>
                            <a:pt x="74" y="221"/>
                          </a:lnTo>
                          <a:lnTo>
                            <a:pt x="74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/>
                    <p:nvPr/>
                  </p:nvSpPr>
                  <p:spPr>
                    <a:xfrm>
                      <a:off x="8703720" y="51087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1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5" y="221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7" name=""/>
                    <p:cNvSpPr/>
                    <p:nvPr/>
                  </p:nvSpPr>
                  <p:spPr>
                    <a:xfrm>
                      <a:off x="8692560" y="510372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8" name=""/>
                    <p:cNvSpPr/>
                    <p:nvPr/>
                  </p:nvSpPr>
                  <p:spPr>
                    <a:xfrm>
                      <a:off x="8679960" y="50990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9" name=""/>
                    <p:cNvSpPr/>
                    <p:nvPr/>
                  </p:nvSpPr>
                  <p:spPr>
                    <a:xfrm>
                      <a:off x="8668800" y="5094360"/>
                      <a:ext cx="248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6" y="220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0" name=""/>
                    <p:cNvSpPr/>
                    <p:nvPr/>
                  </p:nvSpPr>
                  <p:spPr>
                    <a:xfrm>
                      <a:off x="8659080" y="5089680"/>
                      <a:ext cx="219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20">
                          <a:moveTo>
                            <a:pt x="0" y="44"/>
                          </a:moveTo>
                          <a:lnTo>
                            <a:pt x="0" y="201"/>
                          </a:lnTo>
                          <a:lnTo>
                            <a:pt x="74" y="220"/>
                          </a:lnTo>
                          <a:lnTo>
                            <a:pt x="74" y="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1" name=""/>
                    <p:cNvSpPr/>
                    <p:nvPr/>
                  </p:nvSpPr>
                  <p:spPr>
                    <a:xfrm>
                      <a:off x="8648280" y="508320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6" y="220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2" name=""/>
                    <p:cNvSpPr/>
                    <p:nvPr/>
                  </p:nvSpPr>
                  <p:spPr>
                    <a:xfrm>
                      <a:off x="8635320" y="5078520"/>
                      <a:ext cx="25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19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6" y="219"/>
                          </a:lnTo>
                          <a:lnTo>
                            <a:pt x="76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3" name=""/>
                    <p:cNvSpPr/>
                    <p:nvPr/>
                  </p:nvSpPr>
                  <p:spPr>
                    <a:xfrm>
                      <a:off x="8624160" y="5073840"/>
                      <a:ext cx="237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19">
                          <a:moveTo>
                            <a:pt x="0" y="42"/>
                          </a:moveTo>
                          <a:lnTo>
                            <a:pt x="0" y="199"/>
                          </a:lnTo>
                          <a:lnTo>
                            <a:pt x="75" y="219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8613360" y="506880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4"/>
                          </a:moveTo>
                          <a:lnTo>
                            <a:pt x="0" y="201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>
                      <a:off x="8602200" y="506412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>
                      <a:off x="8591400" y="50576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7" name=""/>
                  <p:cNvGrpSpPr/>
                  <p:nvPr/>
                </p:nvGrpSpPr>
                <p:grpSpPr>
                  <a:xfrm>
                    <a:off x="8591400" y="4957920"/>
                    <a:ext cx="180000" cy="155520"/>
                    <a:chOff x="8591400" y="4957920"/>
                    <a:chExt cx="180000" cy="155520"/>
                  </a:xfrm>
                </p:grpSpPr>
                <p:sp>
                  <p:nvSpPr>
                    <p:cNvPr id="2168" name=""/>
                    <p:cNvSpPr/>
                    <p:nvPr/>
                  </p:nvSpPr>
                  <p:spPr>
                    <a:xfrm>
                      <a:off x="8748000" y="5054760"/>
                      <a:ext cx="234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186">
                          <a:moveTo>
                            <a:pt x="0" y="43"/>
                          </a:moveTo>
                          <a:lnTo>
                            <a:pt x="0" y="154"/>
                          </a:lnTo>
                          <a:lnTo>
                            <a:pt x="76" y="186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/>
                    <p:nvPr/>
                  </p:nvSpPr>
                  <p:spPr>
                    <a:xfrm>
                      <a:off x="8736840" y="5048280"/>
                      <a:ext cx="237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80">
                          <a:moveTo>
                            <a:pt x="0" y="42"/>
                          </a:moveTo>
                          <a:lnTo>
                            <a:pt x="0" y="149"/>
                          </a:lnTo>
                          <a:lnTo>
                            <a:pt x="75" y="180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0" name=""/>
                    <p:cNvSpPr/>
                    <p:nvPr/>
                  </p:nvSpPr>
                  <p:spPr>
                    <a:xfrm>
                      <a:off x="8726040" y="5040360"/>
                      <a:ext cx="234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89">
                          <a:moveTo>
                            <a:pt x="0" y="43"/>
                          </a:moveTo>
                          <a:lnTo>
                            <a:pt x="0" y="171"/>
                          </a:lnTo>
                          <a:lnTo>
                            <a:pt x="75" y="189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1" name=""/>
                    <p:cNvSpPr/>
                    <p:nvPr/>
                  </p:nvSpPr>
                  <p:spPr>
                    <a:xfrm>
                      <a:off x="8714880" y="5033880"/>
                      <a:ext cx="234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92">
                          <a:moveTo>
                            <a:pt x="0" y="43"/>
                          </a:moveTo>
                          <a:lnTo>
                            <a:pt x="0" y="173"/>
                          </a:lnTo>
                          <a:lnTo>
                            <a:pt x="75" y="192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/>
                    <p:nvPr/>
                  </p:nvSpPr>
                  <p:spPr>
                    <a:xfrm>
                      <a:off x="8703720" y="50259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19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19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3" name=""/>
                    <p:cNvSpPr/>
                    <p:nvPr/>
                  </p:nvSpPr>
                  <p:spPr>
                    <a:xfrm>
                      <a:off x="8692560" y="50198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4"/>
                          </a:moveTo>
                          <a:lnTo>
                            <a:pt x="0" y="201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4" name=""/>
                    <p:cNvSpPr/>
                    <p:nvPr/>
                  </p:nvSpPr>
                  <p:spPr>
                    <a:xfrm>
                      <a:off x="8679960" y="50133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5" name=""/>
                    <p:cNvSpPr/>
                    <p:nvPr/>
                  </p:nvSpPr>
                  <p:spPr>
                    <a:xfrm>
                      <a:off x="8668800" y="50054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6" name=""/>
                    <p:cNvSpPr/>
                    <p:nvPr/>
                  </p:nvSpPr>
                  <p:spPr>
                    <a:xfrm>
                      <a:off x="8657640" y="499896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19">
                          <a:moveTo>
                            <a:pt x="0" y="42"/>
                          </a:moveTo>
                          <a:lnTo>
                            <a:pt x="0" y="200"/>
                          </a:lnTo>
                          <a:lnTo>
                            <a:pt x="75" y="219"/>
                          </a:lnTo>
                          <a:lnTo>
                            <a:pt x="75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7" name=""/>
                    <p:cNvSpPr/>
                    <p:nvPr/>
                  </p:nvSpPr>
                  <p:spPr>
                    <a:xfrm>
                      <a:off x="8646480" y="49910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4"/>
                          </a:moveTo>
                          <a:lnTo>
                            <a:pt x="0" y="201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/>
                    <p:nvPr/>
                  </p:nvSpPr>
                  <p:spPr>
                    <a:xfrm>
                      <a:off x="8635320" y="498492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20">
                          <a:moveTo>
                            <a:pt x="0" y="43"/>
                          </a:moveTo>
                          <a:lnTo>
                            <a:pt x="0" y="201"/>
                          </a:lnTo>
                          <a:lnTo>
                            <a:pt x="75" y="220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9" name=""/>
                    <p:cNvSpPr/>
                    <p:nvPr/>
                  </p:nvSpPr>
                  <p:spPr>
                    <a:xfrm>
                      <a:off x="8624160" y="4978440"/>
                      <a:ext cx="237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6" y="220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0" name=""/>
                    <p:cNvSpPr/>
                    <p:nvPr/>
                  </p:nvSpPr>
                  <p:spPr>
                    <a:xfrm>
                      <a:off x="8613360" y="497052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219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5" y="219"/>
                          </a:lnTo>
                          <a:lnTo>
                            <a:pt x="75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"/>
                    <p:cNvSpPr/>
                    <p:nvPr/>
                  </p:nvSpPr>
                  <p:spPr>
                    <a:xfrm>
                      <a:off x="8602200" y="496404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20">
                          <a:moveTo>
                            <a:pt x="0" y="44"/>
                          </a:moveTo>
                          <a:lnTo>
                            <a:pt x="0" y="201"/>
                          </a:lnTo>
                          <a:lnTo>
                            <a:pt x="74" y="220"/>
                          </a:lnTo>
                          <a:lnTo>
                            <a:pt x="74" y="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/>
                    <p:nvPr/>
                  </p:nvSpPr>
                  <p:spPr>
                    <a:xfrm>
                      <a:off x="8591400" y="4957920"/>
                      <a:ext cx="234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220">
                          <a:moveTo>
                            <a:pt x="0" y="43"/>
                          </a:moveTo>
                          <a:lnTo>
                            <a:pt x="0" y="200"/>
                          </a:lnTo>
                          <a:lnTo>
                            <a:pt x="76" y="220"/>
                          </a:lnTo>
                          <a:lnTo>
                            <a:pt x="76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83" name=""/>
                  <p:cNvSpPr/>
                  <p:nvPr/>
                </p:nvSpPr>
                <p:spPr>
                  <a:xfrm>
                    <a:off x="8589960" y="4997520"/>
                    <a:ext cx="2300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8" h="429">
                        <a:moveTo>
                          <a:pt x="0" y="0"/>
                        </a:moveTo>
                        <a:lnTo>
                          <a:pt x="728" y="340"/>
                        </a:lnTo>
                        <a:lnTo>
                          <a:pt x="728" y="429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8589960" y="5116680"/>
                    <a:ext cx="220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291">
                        <a:moveTo>
                          <a:pt x="0" y="0"/>
                        </a:moveTo>
                        <a:lnTo>
                          <a:pt x="697" y="188"/>
                        </a:lnTo>
                        <a:lnTo>
                          <a:pt x="697" y="291"/>
                        </a:lnTo>
                        <a:lnTo>
                          <a:pt x="0" y="18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5" name=""/>
                <p:cNvGrpSpPr/>
                <p:nvPr/>
              </p:nvGrpSpPr>
              <p:grpSpPr>
                <a:xfrm>
                  <a:off x="7797600" y="4810320"/>
                  <a:ext cx="649080" cy="482400"/>
                  <a:chOff x="7797600" y="4810320"/>
                  <a:chExt cx="649080" cy="482400"/>
                </a:xfrm>
              </p:grpSpPr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8058600" y="4915080"/>
                    <a:ext cx="105840" cy="377640"/>
                    <a:chOff x="8058600" y="4915080"/>
                    <a:chExt cx="105840" cy="377640"/>
                  </a:xfrm>
                </p:grpSpPr>
                <p:sp>
                  <p:nvSpPr>
                    <p:cNvPr id="2187" name=""/>
                    <p:cNvSpPr/>
                    <p:nvPr/>
                  </p:nvSpPr>
                  <p:spPr>
                    <a:xfrm>
                      <a:off x="8066160" y="4915080"/>
                      <a:ext cx="98280" cy="37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2" h="1187">
                          <a:moveTo>
                            <a:pt x="312" y="103"/>
                          </a:moveTo>
                          <a:lnTo>
                            <a:pt x="144" y="0"/>
                          </a:lnTo>
                          <a:lnTo>
                            <a:pt x="124" y="0"/>
                          </a:lnTo>
                          <a:lnTo>
                            <a:pt x="89" y="5"/>
                          </a:lnTo>
                          <a:lnTo>
                            <a:pt x="32" y="65"/>
                          </a:lnTo>
                          <a:lnTo>
                            <a:pt x="0" y="47"/>
                          </a:lnTo>
                          <a:lnTo>
                            <a:pt x="0" y="1184"/>
                          </a:lnTo>
                          <a:lnTo>
                            <a:pt x="47" y="1136"/>
                          </a:lnTo>
                          <a:lnTo>
                            <a:pt x="85" y="1136"/>
                          </a:lnTo>
                          <a:lnTo>
                            <a:pt x="85" y="1187"/>
                          </a:lnTo>
                          <a:lnTo>
                            <a:pt x="125" y="1187"/>
                          </a:lnTo>
                          <a:lnTo>
                            <a:pt x="152" y="1161"/>
                          </a:lnTo>
                          <a:lnTo>
                            <a:pt x="152" y="157"/>
                          </a:lnTo>
                          <a:lnTo>
                            <a:pt x="312" y="10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8" name=""/>
                    <p:cNvSpPr/>
                    <p:nvPr/>
                  </p:nvSpPr>
                  <p:spPr>
                    <a:xfrm>
                      <a:off x="8058600" y="4929120"/>
                      <a:ext cx="7560" cy="36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138">
                          <a:moveTo>
                            <a:pt x="26" y="0"/>
                          </a:moveTo>
                          <a:lnTo>
                            <a:pt x="26" y="1138"/>
                          </a:lnTo>
                          <a:lnTo>
                            <a:pt x="0" y="1138"/>
                          </a:lnTo>
                          <a:lnTo>
                            <a:pt x="0" y="8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9" name=""/>
                    <p:cNvSpPr/>
                    <p:nvPr/>
                  </p:nvSpPr>
                  <p:spPr>
                    <a:xfrm>
                      <a:off x="8093160" y="4915080"/>
                      <a:ext cx="12240" cy="37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187">
                          <a:moveTo>
                            <a:pt x="0" y="5"/>
                          </a:moveTo>
                          <a:lnTo>
                            <a:pt x="39" y="0"/>
                          </a:lnTo>
                          <a:lnTo>
                            <a:pt x="39" y="1187"/>
                          </a:lnTo>
                          <a:lnTo>
                            <a:pt x="0" y="1187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0" name=""/>
                    <p:cNvSpPr/>
                    <p:nvPr/>
                  </p:nvSpPr>
                  <p:spPr>
                    <a:xfrm>
                      <a:off x="8075880" y="4924440"/>
                      <a:ext cx="1692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22">
                          <a:moveTo>
                            <a:pt x="0" y="1122"/>
                          </a:moveTo>
                          <a:lnTo>
                            <a:pt x="0" y="54"/>
                          </a:lnTo>
                          <a:lnTo>
                            <a:pt x="53" y="0"/>
                          </a:lnTo>
                          <a:lnTo>
                            <a:pt x="53" y="1122"/>
                          </a:lnTo>
                          <a:lnTo>
                            <a:pt x="0" y="11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1" name=""/>
                  <p:cNvGrpSpPr/>
                  <p:nvPr/>
                </p:nvGrpSpPr>
                <p:grpSpPr>
                  <a:xfrm>
                    <a:off x="8310600" y="4810320"/>
                    <a:ext cx="136080" cy="480960"/>
                    <a:chOff x="8310600" y="4810320"/>
                    <a:chExt cx="136080" cy="480960"/>
                  </a:xfrm>
                </p:grpSpPr>
                <p:sp>
                  <p:nvSpPr>
                    <p:cNvPr id="2192" name=""/>
                    <p:cNvSpPr/>
                    <p:nvPr/>
                  </p:nvSpPr>
                  <p:spPr>
                    <a:xfrm>
                      <a:off x="8321400" y="4810320"/>
                      <a:ext cx="125280" cy="48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1514">
                          <a:moveTo>
                            <a:pt x="396" y="129"/>
                          </a:moveTo>
                          <a:lnTo>
                            <a:pt x="183" y="0"/>
                          </a:lnTo>
                          <a:lnTo>
                            <a:pt x="156" y="0"/>
                          </a:lnTo>
                          <a:lnTo>
                            <a:pt x="114" y="6"/>
                          </a:lnTo>
                          <a:lnTo>
                            <a:pt x="39" y="81"/>
                          </a:lnTo>
                          <a:lnTo>
                            <a:pt x="0" y="58"/>
                          </a:lnTo>
                          <a:lnTo>
                            <a:pt x="0" y="1509"/>
                          </a:lnTo>
                          <a:lnTo>
                            <a:pt x="59" y="1449"/>
                          </a:lnTo>
                          <a:lnTo>
                            <a:pt x="109" y="1449"/>
                          </a:lnTo>
                          <a:lnTo>
                            <a:pt x="109" y="1514"/>
                          </a:lnTo>
                          <a:lnTo>
                            <a:pt x="158" y="1514"/>
                          </a:lnTo>
                          <a:lnTo>
                            <a:pt x="193" y="1479"/>
                          </a:lnTo>
                          <a:lnTo>
                            <a:pt x="193" y="199"/>
                          </a:lnTo>
                          <a:lnTo>
                            <a:pt x="396" y="12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3" name=""/>
                    <p:cNvSpPr/>
                    <p:nvPr/>
                  </p:nvSpPr>
                  <p:spPr>
                    <a:xfrm>
                      <a:off x="8310600" y="4827600"/>
                      <a:ext cx="10800" cy="46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453">
                          <a:moveTo>
                            <a:pt x="33" y="0"/>
                          </a:moveTo>
                          <a:lnTo>
                            <a:pt x="33" y="1453"/>
                          </a:lnTo>
                          <a:lnTo>
                            <a:pt x="0" y="1453"/>
                          </a:lnTo>
                          <a:lnTo>
                            <a:pt x="0" y="10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/>
                    <p:nvPr/>
                  </p:nvSpPr>
                  <p:spPr>
                    <a:xfrm>
                      <a:off x="8354880" y="4810320"/>
                      <a:ext cx="15480" cy="48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514">
                          <a:moveTo>
                            <a:pt x="0" y="6"/>
                          </a:moveTo>
                          <a:lnTo>
                            <a:pt x="47" y="0"/>
                          </a:lnTo>
                          <a:lnTo>
                            <a:pt x="47" y="1514"/>
                          </a:lnTo>
                          <a:lnTo>
                            <a:pt x="0" y="1514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5" name=""/>
                    <p:cNvSpPr/>
                    <p:nvPr/>
                  </p:nvSpPr>
                  <p:spPr>
                    <a:xfrm>
                      <a:off x="8332560" y="4821120"/>
                      <a:ext cx="21960" cy="45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30">
                          <a:moveTo>
                            <a:pt x="0" y="1430"/>
                          </a:moveTo>
                          <a:lnTo>
                            <a:pt x="0" y="70"/>
                          </a:lnTo>
                          <a:lnTo>
                            <a:pt x="70" y="0"/>
                          </a:lnTo>
                          <a:lnTo>
                            <a:pt x="70" y="1430"/>
                          </a:lnTo>
                          <a:lnTo>
                            <a:pt x="0" y="14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6" name=""/>
                  <p:cNvGrpSpPr/>
                  <p:nvPr/>
                </p:nvGrpSpPr>
                <p:grpSpPr>
                  <a:xfrm>
                    <a:off x="7903440" y="4983120"/>
                    <a:ext cx="84960" cy="301680"/>
                    <a:chOff x="7903440" y="4983120"/>
                    <a:chExt cx="84960" cy="301680"/>
                  </a:xfrm>
                </p:grpSpPr>
                <p:sp>
                  <p:nvSpPr>
                    <p:cNvPr id="2197" name=""/>
                    <p:cNvSpPr/>
                    <p:nvPr/>
                  </p:nvSpPr>
                  <p:spPr>
                    <a:xfrm>
                      <a:off x="7909560" y="4983120"/>
                      <a:ext cx="788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953">
                          <a:moveTo>
                            <a:pt x="248" y="82"/>
                          </a:moveTo>
                          <a:lnTo>
                            <a:pt x="114" y="0"/>
                          </a:lnTo>
                          <a:lnTo>
                            <a:pt x="98" y="0"/>
                          </a:lnTo>
                          <a:lnTo>
                            <a:pt x="72" y="4"/>
                          </a:lnTo>
                          <a:lnTo>
                            <a:pt x="25" y="52"/>
                          </a:lnTo>
                          <a:lnTo>
                            <a:pt x="0" y="36"/>
                          </a:lnTo>
                          <a:lnTo>
                            <a:pt x="0" y="950"/>
                          </a:lnTo>
                          <a:lnTo>
                            <a:pt x="37" y="911"/>
                          </a:lnTo>
                          <a:lnTo>
                            <a:pt x="68" y="911"/>
                          </a:lnTo>
                          <a:lnTo>
                            <a:pt x="68" y="953"/>
                          </a:lnTo>
                          <a:lnTo>
                            <a:pt x="99" y="953"/>
                          </a:lnTo>
                          <a:lnTo>
                            <a:pt x="121" y="930"/>
                          </a:lnTo>
                          <a:lnTo>
                            <a:pt x="121" y="126"/>
                          </a:lnTo>
                          <a:lnTo>
                            <a:pt x="248" y="8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8" name=""/>
                    <p:cNvSpPr/>
                    <p:nvPr/>
                  </p:nvSpPr>
                  <p:spPr>
                    <a:xfrm>
                      <a:off x="7903440" y="4994280"/>
                      <a:ext cx="612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15">
                          <a:moveTo>
                            <a:pt x="20" y="0"/>
                          </a:moveTo>
                          <a:lnTo>
                            <a:pt x="20" y="915"/>
                          </a:lnTo>
                          <a:lnTo>
                            <a:pt x="0" y="915"/>
                          </a:lnTo>
                          <a:lnTo>
                            <a:pt x="0" y="8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9" name=""/>
                    <p:cNvSpPr/>
                    <p:nvPr/>
                  </p:nvSpPr>
                  <p:spPr>
                    <a:xfrm>
                      <a:off x="7930080" y="4983120"/>
                      <a:ext cx="1080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951">
                          <a:moveTo>
                            <a:pt x="0" y="7"/>
                          </a:moveTo>
                          <a:lnTo>
                            <a:pt x="31" y="0"/>
                          </a:lnTo>
                          <a:lnTo>
                            <a:pt x="31" y="951"/>
                          </a:lnTo>
                          <a:lnTo>
                            <a:pt x="0" y="951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0" name=""/>
                    <p:cNvSpPr/>
                    <p:nvPr/>
                  </p:nvSpPr>
                  <p:spPr>
                    <a:xfrm>
                      <a:off x="7917480" y="4989600"/>
                      <a:ext cx="12240" cy="2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01">
                          <a:moveTo>
                            <a:pt x="0" y="901"/>
                          </a:moveTo>
                          <a:lnTo>
                            <a:pt x="0" y="42"/>
                          </a:lnTo>
                          <a:lnTo>
                            <a:pt x="43" y="0"/>
                          </a:lnTo>
                          <a:lnTo>
                            <a:pt x="43" y="901"/>
                          </a:lnTo>
                          <a:lnTo>
                            <a:pt x="0" y="9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1" name=""/>
                  <p:cNvGrpSpPr/>
                  <p:nvPr/>
                </p:nvGrpSpPr>
                <p:grpSpPr>
                  <a:xfrm>
                    <a:off x="7797600" y="5029200"/>
                    <a:ext cx="73800" cy="247680"/>
                    <a:chOff x="7797600" y="5029200"/>
                    <a:chExt cx="73800" cy="247680"/>
                  </a:xfrm>
                </p:grpSpPr>
                <p:sp>
                  <p:nvSpPr>
                    <p:cNvPr id="2202" name=""/>
                    <p:cNvSpPr/>
                    <p:nvPr/>
                  </p:nvSpPr>
                  <p:spPr>
                    <a:xfrm>
                      <a:off x="7803360" y="5029200"/>
                      <a:ext cx="6804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778">
                          <a:moveTo>
                            <a:pt x="217" y="62"/>
                          </a:moveTo>
                          <a:lnTo>
                            <a:pt x="99" y="0"/>
                          </a:lnTo>
                          <a:lnTo>
                            <a:pt x="85" y="0"/>
                          </a:lnTo>
                          <a:lnTo>
                            <a:pt x="62" y="2"/>
                          </a:lnTo>
                          <a:lnTo>
                            <a:pt x="22" y="41"/>
                          </a:lnTo>
                          <a:lnTo>
                            <a:pt x="0" y="29"/>
                          </a:lnTo>
                          <a:lnTo>
                            <a:pt x="0" y="777"/>
                          </a:lnTo>
                          <a:lnTo>
                            <a:pt x="32" y="746"/>
                          </a:lnTo>
                          <a:lnTo>
                            <a:pt x="60" y="746"/>
                          </a:lnTo>
                          <a:lnTo>
                            <a:pt x="60" y="778"/>
                          </a:lnTo>
                          <a:lnTo>
                            <a:pt x="87" y="778"/>
                          </a:lnTo>
                          <a:lnTo>
                            <a:pt x="106" y="762"/>
                          </a:lnTo>
                          <a:lnTo>
                            <a:pt x="106" y="101"/>
                          </a:lnTo>
                          <a:lnTo>
                            <a:pt x="217" y="6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3" name=""/>
                    <p:cNvSpPr/>
                    <p:nvPr/>
                  </p:nvSpPr>
                  <p:spPr>
                    <a:xfrm>
                      <a:off x="7797600" y="5038920"/>
                      <a:ext cx="576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748">
                          <a:moveTo>
                            <a:pt x="18" y="0"/>
                          </a:moveTo>
                          <a:lnTo>
                            <a:pt x="18" y="748"/>
                          </a:lnTo>
                          <a:lnTo>
                            <a:pt x="0" y="748"/>
                          </a:lnTo>
                          <a:lnTo>
                            <a:pt x="0" y="5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/>
                    <p:nvPr/>
                  </p:nvSpPr>
                  <p:spPr>
                    <a:xfrm>
                      <a:off x="7822440" y="5029200"/>
                      <a:ext cx="756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780">
                          <a:moveTo>
                            <a:pt x="0" y="3"/>
                          </a:moveTo>
                          <a:lnTo>
                            <a:pt x="26" y="0"/>
                          </a:lnTo>
                          <a:lnTo>
                            <a:pt x="26" y="780"/>
                          </a:lnTo>
                          <a:lnTo>
                            <a:pt x="0" y="78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7809840" y="5033880"/>
                      <a:ext cx="1224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737">
                          <a:moveTo>
                            <a:pt x="0" y="737"/>
                          </a:moveTo>
                          <a:lnTo>
                            <a:pt x="0" y="39"/>
                          </a:lnTo>
                          <a:lnTo>
                            <a:pt x="38" y="0"/>
                          </a:lnTo>
                          <a:lnTo>
                            <a:pt x="38" y="737"/>
                          </a:lnTo>
                          <a:lnTo>
                            <a:pt x="0" y="7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206" name=""/>
          <p:cNvGrpSpPr/>
          <p:nvPr/>
        </p:nvGrpSpPr>
        <p:grpSpPr>
          <a:xfrm>
            <a:off x="7789680" y="5638680"/>
            <a:ext cx="1013760" cy="789120"/>
            <a:chOff x="7789680" y="5638680"/>
            <a:chExt cx="1013760" cy="789120"/>
          </a:xfrm>
        </p:grpSpPr>
        <p:sp>
          <p:nvSpPr>
            <p:cNvPr id="2207" name=""/>
            <p:cNvSpPr/>
            <p:nvPr/>
          </p:nvSpPr>
          <p:spPr>
            <a:xfrm>
              <a:off x="7789680" y="5638680"/>
              <a:ext cx="1013760" cy="789120"/>
            </a:xfrm>
            <a:custGeom>
              <a:avLst/>
              <a:gdLst/>
              <a:ahLst/>
              <a:rect l="l" t="t" r="r" b="b"/>
              <a:pathLst>
                <a:path w="639" h="497">
                  <a:moveTo>
                    <a:pt x="33" y="497"/>
                  </a:moveTo>
                  <a:lnTo>
                    <a:pt x="30" y="497"/>
                  </a:lnTo>
                  <a:lnTo>
                    <a:pt x="28" y="497"/>
                  </a:lnTo>
                  <a:lnTo>
                    <a:pt x="25" y="497"/>
                  </a:lnTo>
                  <a:lnTo>
                    <a:pt x="21" y="496"/>
                  </a:lnTo>
                  <a:lnTo>
                    <a:pt x="18" y="496"/>
                  </a:lnTo>
                  <a:lnTo>
                    <a:pt x="15" y="496"/>
                  </a:lnTo>
                  <a:lnTo>
                    <a:pt x="14" y="496"/>
                  </a:lnTo>
                  <a:lnTo>
                    <a:pt x="13" y="495"/>
                  </a:lnTo>
                  <a:lnTo>
                    <a:pt x="12" y="495"/>
                  </a:lnTo>
                  <a:lnTo>
                    <a:pt x="7" y="488"/>
                  </a:lnTo>
                  <a:lnTo>
                    <a:pt x="4" y="483"/>
                  </a:lnTo>
                  <a:lnTo>
                    <a:pt x="2" y="479"/>
                  </a:lnTo>
                  <a:lnTo>
                    <a:pt x="1" y="474"/>
                  </a:lnTo>
                  <a:lnTo>
                    <a:pt x="1" y="473"/>
                  </a:lnTo>
                  <a:lnTo>
                    <a:pt x="1" y="472"/>
                  </a:lnTo>
                  <a:lnTo>
                    <a:pt x="0" y="471"/>
                  </a:lnTo>
                  <a:lnTo>
                    <a:pt x="1" y="470"/>
                  </a:lnTo>
                  <a:lnTo>
                    <a:pt x="1" y="469"/>
                  </a:lnTo>
                  <a:lnTo>
                    <a:pt x="1" y="468"/>
                  </a:lnTo>
                  <a:lnTo>
                    <a:pt x="2" y="468"/>
                  </a:lnTo>
                  <a:lnTo>
                    <a:pt x="2" y="467"/>
                  </a:lnTo>
                  <a:lnTo>
                    <a:pt x="6" y="465"/>
                  </a:lnTo>
                  <a:lnTo>
                    <a:pt x="12" y="463"/>
                  </a:lnTo>
                  <a:lnTo>
                    <a:pt x="15" y="460"/>
                  </a:lnTo>
                  <a:lnTo>
                    <a:pt x="18" y="458"/>
                  </a:lnTo>
                  <a:lnTo>
                    <a:pt x="20" y="457"/>
                  </a:lnTo>
                  <a:lnTo>
                    <a:pt x="21" y="456"/>
                  </a:lnTo>
                  <a:lnTo>
                    <a:pt x="24" y="454"/>
                  </a:lnTo>
                  <a:lnTo>
                    <a:pt x="26" y="452"/>
                  </a:lnTo>
                  <a:lnTo>
                    <a:pt x="31" y="451"/>
                  </a:lnTo>
                  <a:lnTo>
                    <a:pt x="34" y="451"/>
                  </a:lnTo>
                  <a:lnTo>
                    <a:pt x="38" y="450"/>
                  </a:lnTo>
                  <a:lnTo>
                    <a:pt x="40" y="450"/>
                  </a:lnTo>
                  <a:lnTo>
                    <a:pt x="41" y="449"/>
                  </a:lnTo>
                  <a:lnTo>
                    <a:pt x="42" y="449"/>
                  </a:lnTo>
                  <a:lnTo>
                    <a:pt x="42" y="448"/>
                  </a:lnTo>
                  <a:lnTo>
                    <a:pt x="43" y="446"/>
                  </a:lnTo>
                  <a:lnTo>
                    <a:pt x="45" y="444"/>
                  </a:lnTo>
                  <a:lnTo>
                    <a:pt x="47" y="440"/>
                  </a:lnTo>
                  <a:lnTo>
                    <a:pt x="48" y="439"/>
                  </a:lnTo>
                  <a:lnTo>
                    <a:pt x="49" y="437"/>
                  </a:lnTo>
                  <a:lnTo>
                    <a:pt x="51" y="436"/>
                  </a:lnTo>
                  <a:lnTo>
                    <a:pt x="52" y="434"/>
                  </a:lnTo>
                  <a:lnTo>
                    <a:pt x="52" y="431"/>
                  </a:lnTo>
                  <a:lnTo>
                    <a:pt x="53" y="430"/>
                  </a:lnTo>
                  <a:lnTo>
                    <a:pt x="53" y="428"/>
                  </a:lnTo>
                  <a:lnTo>
                    <a:pt x="53" y="426"/>
                  </a:lnTo>
                  <a:lnTo>
                    <a:pt x="53" y="422"/>
                  </a:lnTo>
                  <a:lnTo>
                    <a:pt x="53" y="418"/>
                  </a:lnTo>
                  <a:lnTo>
                    <a:pt x="53" y="414"/>
                  </a:lnTo>
                  <a:lnTo>
                    <a:pt x="52" y="410"/>
                  </a:lnTo>
                  <a:lnTo>
                    <a:pt x="49" y="395"/>
                  </a:lnTo>
                  <a:lnTo>
                    <a:pt x="47" y="380"/>
                  </a:lnTo>
                  <a:lnTo>
                    <a:pt x="47" y="372"/>
                  </a:lnTo>
                  <a:lnTo>
                    <a:pt x="46" y="365"/>
                  </a:lnTo>
                  <a:lnTo>
                    <a:pt x="46" y="357"/>
                  </a:lnTo>
                  <a:lnTo>
                    <a:pt x="46" y="349"/>
                  </a:lnTo>
                  <a:lnTo>
                    <a:pt x="46" y="341"/>
                  </a:lnTo>
                  <a:lnTo>
                    <a:pt x="46" y="334"/>
                  </a:lnTo>
                  <a:lnTo>
                    <a:pt x="47" y="326"/>
                  </a:lnTo>
                  <a:lnTo>
                    <a:pt x="48" y="319"/>
                  </a:lnTo>
                  <a:lnTo>
                    <a:pt x="49" y="311"/>
                  </a:lnTo>
                  <a:lnTo>
                    <a:pt x="51" y="305"/>
                  </a:lnTo>
                  <a:lnTo>
                    <a:pt x="52" y="301"/>
                  </a:lnTo>
                  <a:lnTo>
                    <a:pt x="53" y="297"/>
                  </a:lnTo>
                  <a:lnTo>
                    <a:pt x="55" y="293"/>
                  </a:lnTo>
                  <a:lnTo>
                    <a:pt x="56" y="290"/>
                  </a:lnTo>
                  <a:lnTo>
                    <a:pt x="56" y="285"/>
                  </a:lnTo>
                  <a:lnTo>
                    <a:pt x="56" y="282"/>
                  </a:lnTo>
                  <a:lnTo>
                    <a:pt x="56" y="280"/>
                  </a:lnTo>
                  <a:lnTo>
                    <a:pt x="57" y="279"/>
                  </a:lnTo>
                  <a:lnTo>
                    <a:pt x="57" y="277"/>
                  </a:lnTo>
                  <a:lnTo>
                    <a:pt x="58" y="276"/>
                  </a:lnTo>
                  <a:lnTo>
                    <a:pt x="59" y="273"/>
                  </a:lnTo>
                  <a:lnTo>
                    <a:pt x="61" y="270"/>
                  </a:lnTo>
                  <a:lnTo>
                    <a:pt x="63" y="267"/>
                  </a:lnTo>
                  <a:lnTo>
                    <a:pt x="67" y="265"/>
                  </a:lnTo>
                  <a:lnTo>
                    <a:pt x="68" y="259"/>
                  </a:lnTo>
                  <a:lnTo>
                    <a:pt x="68" y="254"/>
                  </a:lnTo>
                  <a:lnTo>
                    <a:pt x="68" y="252"/>
                  </a:lnTo>
                  <a:lnTo>
                    <a:pt x="69" y="251"/>
                  </a:lnTo>
                  <a:lnTo>
                    <a:pt x="69" y="250"/>
                  </a:lnTo>
                  <a:lnTo>
                    <a:pt x="70" y="249"/>
                  </a:lnTo>
                  <a:lnTo>
                    <a:pt x="71" y="248"/>
                  </a:lnTo>
                  <a:lnTo>
                    <a:pt x="74" y="246"/>
                  </a:lnTo>
                  <a:lnTo>
                    <a:pt x="76" y="244"/>
                  </a:lnTo>
                  <a:lnTo>
                    <a:pt x="81" y="240"/>
                  </a:lnTo>
                  <a:lnTo>
                    <a:pt x="80" y="238"/>
                  </a:lnTo>
                  <a:lnTo>
                    <a:pt x="75" y="235"/>
                  </a:lnTo>
                  <a:lnTo>
                    <a:pt x="70" y="230"/>
                  </a:lnTo>
                  <a:lnTo>
                    <a:pt x="62" y="223"/>
                  </a:lnTo>
                  <a:lnTo>
                    <a:pt x="56" y="218"/>
                  </a:lnTo>
                  <a:lnTo>
                    <a:pt x="49" y="211"/>
                  </a:lnTo>
                  <a:lnTo>
                    <a:pt x="44" y="207"/>
                  </a:lnTo>
                  <a:lnTo>
                    <a:pt x="41" y="204"/>
                  </a:lnTo>
                  <a:lnTo>
                    <a:pt x="40" y="202"/>
                  </a:lnTo>
                  <a:lnTo>
                    <a:pt x="39" y="200"/>
                  </a:lnTo>
                  <a:lnTo>
                    <a:pt x="38" y="197"/>
                  </a:lnTo>
                  <a:lnTo>
                    <a:pt x="36" y="195"/>
                  </a:lnTo>
                  <a:lnTo>
                    <a:pt x="35" y="193"/>
                  </a:lnTo>
                  <a:lnTo>
                    <a:pt x="35" y="191"/>
                  </a:lnTo>
                  <a:lnTo>
                    <a:pt x="34" y="189"/>
                  </a:lnTo>
                  <a:lnTo>
                    <a:pt x="34" y="187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81"/>
                  </a:lnTo>
                  <a:lnTo>
                    <a:pt x="34" y="179"/>
                  </a:lnTo>
                  <a:lnTo>
                    <a:pt x="35" y="178"/>
                  </a:lnTo>
                  <a:lnTo>
                    <a:pt x="35" y="177"/>
                  </a:lnTo>
                  <a:lnTo>
                    <a:pt x="36" y="175"/>
                  </a:lnTo>
                  <a:lnTo>
                    <a:pt x="36" y="174"/>
                  </a:lnTo>
                  <a:lnTo>
                    <a:pt x="38" y="172"/>
                  </a:lnTo>
                  <a:lnTo>
                    <a:pt x="39" y="171"/>
                  </a:lnTo>
                  <a:lnTo>
                    <a:pt x="40" y="170"/>
                  </a:lnTo>
                  <a:lnTo>
                    <a:pt x="41" y="169"/>
                  </a:lnTo>
                  <a:lnTo>
                    <a:pt x="44" y="165"/>
                  </a:lnTo>
                  <a:lnTo>
                    <a:pt x="46" y="163"/>
                  </a:lnTo>
                  <a:lnTo>
                    <a:pt x="49" y="161"/>
                  </a:lnTo>
                  <a:lnTo>
                    <a:pt x="54" y="160"/>
                  </a:lnTo>
                  <a:lnTo>
                    <a:pt x="57" y="158"/>
                  </a:lnTo>
                  <a:lnTo>
                    <a:pt x="61" y="157"/>
                  </a:lnTo>
                  <a:lnTo>
                    <a:pt x="66" y="155"/>
                  </a:lnTo>
                  <a:lnTo>
                    <a:pt x="70" y="153"/>
                  </a:lnTo>
                  <a:lnTo>
                    <a:pt x="74" y="152"/>
                  </a:lnTo>
                  <a:lnTo>
                    <a:pt x="79" y="151"/>
                  </a:lnTo>
                  <a:lnTo>
                    <a:pt x="88" y="149"/>
                  </a:lnTo>
                  <a:lnTo>
                    <a:pt x="97" y="148"/>
                  </a:lnTo>
                  <a:lnTo>
                    <a:pt x="106" y="147"/>
                  </a:lnTo>
                  <a:lnTo>
                    <a:pt x="114" y="147"/>
                  </a:lnTo>
                  <a:lnTo>
                    <a:pt x="122" y="146"/>
                  </a:lnTo>
                  <a:lnTo>
                    <a:pt x="128" y="146"/>
                  </a:lnTo>
                  <a:lnTo>
                    <a:pt x="129" y="145"/>
                  </a:lnTo>
                  <a:lnTo>
                    <a:pt x="130" y="145"/>
                  </a:lnTo>
                  <a:lnTo>
                    <a:pt x="131" y="144"/>
                  </a:lnTo>
                  <a:lnTo>
                    <a:pt x="133" y="143"/>
                  </a:lnTo>
                  <a:lnTo>
                    <a:pt x="134" y="142"/>
                  </a:lnTo>
                  <a:lnTo>
                    <a:pt x="135" y="141"/>
                  </a:lnTo>
                  <a:lnTo>
                    <a:pt x="137" y="141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1" y="140"/>
                  </a:lnTo>
                  <a:lnTo>
                    <a:pt x="145" y="140"/>
                  </a:lnTo>
                  <a:lnTo>
                    <a:pt x="149" y="141"/>
                  </a:lnTo>
                  <a:lnTo>
                    <a:pt x="153" y="141"/>
                  </a:lnTo>
                  <a:lnTo>
                    <a:pt x="157" y="141"/>
                  </a:lnTo>
                  <a:lnTo>
                    <a:pt x="158" y="141"/>
                  </a:lnTo>
                  <a:lnTo>
                    <a:pt x="161" y="140"/>
                  </a:lnTo>
                  <a:lnTo>
                    <a:pt x="163" y="140"/>
                  </a:lnTo>
                  <a:lnTo>
                    <a:pt x="164" y="138"/>
                  </a:lnTo>
                  <a:lnTo>
                    <a:pt x="165" y="135"/>
                  </a:lnTo>
                  <a:lnTo>
                    <a:pt x="165" y="131"/>
                  </a:lnTo>
                  <a:lnTo>
                    <a:pt x="166" y="127"/>
                  </a:lnTo>
                  <a:lnTo>
                    <a:pt x="167" y="123"/>
                  </a:lnTo>
                  <a:lnTo>
                    <a:pt x="168" y="119"/>
                  </a:lnTo>
                  <a:lnTo>
                    <a:pt x="170" y="116"/>
                  </a:lnTo>
                  <a:lnTo>
                    <a:pt x="170" y="114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4" y="109"/>
                  </a:lnTo>
                  <a:lnTo>
                    <a:pt x="174" y="108"/>
                  </a:lnTo>
                  <a:lnTo>
                    <a:pt x="171" y="107"/>
                  </a:lnTo>
                  <a:lnTo>
                    <a:pt x="169" y="106"/>
                  </a:lnTo>
                  <a:lnTo>
                    <a:pt x="168" y="105"/>
                  </a:lnTo>
                  <a:lnTo>
                    <a:pt x="167" y="104"/>
                  </a:lnTo>
                  <a:lnTo>
                    <a:pt x="166" y="102"/>
                  </a:lnTo>
                  <a:lnTo>
                    <a:pt x="165" y="100"/>
                  </a:lnTo>
                  <a:lnTo>
                    <a:pt x="165" y="99"/>
                  </a:lnTo>
                  <a:lnTo>
                    <a:pt x="165" y="97"/>
                  </a:lnTo>
                  <a:lnTo>
                    <a:pt x="166" y="94"/>
                  </a:lnTo>
                  <a:lnTo>
                    <a:pt x="166" y="92"/>
                  </a:lnTo>
                  <a:lnTo>
                    <a:pt x="167" y="90"/>
                  </a:lnTo>
                  <a:lnTo>
                    <a:pt x="168" y="89"/>
                  </a:lnTo>
                  <a:lnTo>
                    <a:pt x="169" y="87"/>
                  </a:lnTo>
                  <a:lnTo>
                    <a:pt x="170" y="85"/>
                  </a:lnTo>
                  <a:lnTo>
                    <a:pt x="171" y="84"/>
                  </a:lnTo>
                  <a:lnTo>
                    <a:pt x="174" y="83"/>
                  </a:lnTo>
                  <a:lnTo>
                    <a:pt x="174" y="79"/>
                  </a:lnTo>
                  <a:lnTo>
                    <a:pt x="174" y="77"/>
                  </a:lnTo>
                  <a:lnTo>
                    <a:pt x="174" y="75"/>
                  </a:lnTo>
                  <a:lnTo>
                    <a:pt x="174" y="74"/>
                  </a:lnTo>
                  <a:lnTo>
                    <a:pt x="174" y="72"/>
                  </a:lnTo>
                  <a:lnTo>
                    <a:pt x="175" y="70"/>
                  </a:lnTo>
                  <a:lnTo>
                    <a:pt x="175" y="69"/>
                  </a:lnTo>
                  <a:lnTo>
                    <a:pt x="176" y="68"/>
                  </a:lnTo>
                  <a:lnTo>
                    <a:pt x="177" y="65"/>
                  </a:lnTo>
                  <a:lnTo>
                    <a:pt x="178" y="64"/>
                  </a:lnTo>
                  <a:lnTo>
                    <a:pt x="179" y="63"/>
                  </a:lnTo>
                  <a:lnTo>
                    <a:pt x="181" y="62"/>
                  </a:lnTo>
                  <a:lnTo>
                    <a:pt x="184" y="59"/>
                  </a:lnTo>
                  <a:lnTo>
                    <a:pt x="188" y="57"/>
                  </a:lnTo>
                  <a:lnTo>
                    <a:pt x="190" y="55"/>
                  </a:lnTo>
                  <a:lnTo>
                    <a:pt x="192" y="53"/>
                  </a:lnTo>
                  <a:lnTo>
                    <a:pt x="194" y="52"/>
                  </a:lnTo>
                  <a:lnTo>
                    <a:pt x="195" y="52"/>
                  </a:lnTo>
                  <a:lnTo>
                    <a:pt x="197" y="50"/>
                  </a:lnTo>
                  <a:lnTo>
                    <a:pt x="199" y="50"/>
                  </a:lnTo>
                  <a:lnTo>
                    <a:pt x="202" y="50"/>
                  </a:lnTo>
                  <a:lnTo>
                    <a:pt x="205" y="50"/>
                  </a:lnTo>
                  <a:lnTo>
                    <a:pt x="208" y="48"/>
                  </a:lnTo>
                  <a:lnTo>
                    <a:pt x="212" y="46"/>
                  </a:lnTo>
                  <a:lnTo>
                    <a:pt x="216" y="44"/>
                  </a:lnTo>
                  <a:lnTo>
                    <a:pt x="220" y="42"/>
                  </a:lnTo>
                  <a:lnTo>
                    <a:pt x="223" y="40"/>
                  </a:lnTo>
                  <a:lnTo>
                    <a:pt x="227" y="39"/>
                  </a:lnTo>
                  <a:lnTo>
                    <a:pt x="231" y="38"/>
                  </a:lnTo>
                  <a:lnTo>
                    <a:pt x="235" y="36"/>
                  </a:lnTo>
                  <a:lnTo>
                    <a:pt x="239" y="35"/>
                  </a:lnTo>
                  <a:lnTo>
                    <a:pt x="244" y="34"/>
                  </a:lnTo>
                  <a:lnTo>
                    <a:pt x="248" y="34"/>
                  </a:lnTo>
                  <a:lnTo>
                    <a:pt x="252" y="34"/>
                  </a:lnTo>
                  <a:lnTo>
                    <a:pt x="257" y="35"/>
                  </a:lnTo>
                  <a:lnTo>
                    <a:pt x="260" y="36"/>
                  </a:lnTo>
                  <a:lnTo>
                    <a:pt x="264" y="38"/>
                  </a:lnTo>
                  <a:lnTo>
                    <a:pt x="268" y="40"/>
                  </a:lnTo>
                  <a:lnTo>
                    <a:pt x="270" y="40"/>
                  </a:lnTo>
                  <a:lnTo>
                    <a:pt x="270" y="41"/>
                  </a:lnTo>
                  <a:lnTo>
                    <a:pt x="271" y="41"/>
                  </a:lnTo>
                  <a:lnTo>
                    <a:pt x="273" y="39"/>
                  </a:lnTo>
                  <a:lnTo>
                    <a:pt x="274" y="38"/>
                  </a:lnTo>
                  <a:lnTo>
                    <a:pt x="275" y="35"/>
                  </a:lnTo>
                  <a:lnTo>
                    <a:pt x="276" y="34"/>
                  </a:lnTo>
                  <a:lnTo>
                    <a:pt x="277" y="34"/>
                  </a:lnTo>
                  <a:lnTo>
                    <a:pt x="278" y="35"/>
                  </a:lnTo>
                  <a:lnTo>
                    <a:pt x="280" y="36"/>
                  </a:lnTo>
                  <a:lnTo>
                    <a:pt x="283" y="38"/>
                  </a:lnTo>
                  <a:lnTo>
                    <a:pt x="284" y="41"/>
                  </a:lnTo>
                  <a:lnTo>
                    <a:pt x="285" y="44"/>
                  </a:lnTo>
                  <a:lnTo>
                    <a:pt x="286" y="47"/>
                  </a:lnTo>
                  <a:lnTo>
                    <a:pt x="287" y="50"/>
                  </a:lnTo>
                  <a:lnTo>
                    <a:pt x="287" y="54"/>
                  </a:lnTo>
                  <a:lnTo>
                    <a:pt x="287" y="58"/>
                  </a:lnTo>
                  <a:lnTo>
                    <a:pt x="288" y="61"/>
                  </a:lnTo>
                  <a:lnTo>
                    <a:pt x="288" y="65"/>
                  </a:lnTo>
                  <a:lnTo>
                    <a:pt x="288" y="73"/>
                  </a:lnTo>
                  <a:lnTo>
                    <a:pt x="287" y="80"/>
                  </a:lnTo>
                  <a:lnTo>
                    <a:pt x="287" y="87"/>
                  </a:lnTo>
                  <a:lnTo>
                    <a:pt x="286" y="94"/>
                  </a:lnTo>
                  <a:lnTo>
                    <a:pt x="288" y="93"/>
                  </a:lnTo>
                  <a:lnTo>
                    <a:pt x="290" y="93"/>
                  </a:lnTo>
                  <a:lnTo>
                    <a:pt x="292" y="93"/>
                  </a:lnTo>
                  <a:lnTo>
                    <a:pt x="294" y="93"/>
                  </a:lnTo>
                  <a:lnTo>
                    <a:pt x="297" y="93"/>
                  </a:lnTo>
                  <a:lnTo>
                    <a:pt x="299" y="92"/>
                  </a:lnTo>
                  <a:lnTo>
                    <a:pt x="301" y="92"/>
                  </a:lnTo>
                  <a:lnTo>
                    <a:pt x="303" y="92"/>
                  </a:lnTo>
                  <a:lnTo>
                    <a:pt x="304" y="86"/>
                  </a:lnTo>
                  <a:lnTo>
                    <a:pt x="305" y="77"/>
                  </a:lnTo>
                  <a:lnTo>
                    <a:pt x="306" y="73"/>
                  </a:lnTo>
                  <a:lnTo>
                    <a:pt x="307" y="68"/>
                  </a:lnTo>
                  <a:lnTo>
                    <a:pt x="308" y="63"/>
                  </a:lnTo>
                  <a:lnTo>
                    <a:pt x="309" y="59"/>
                  </a:lnTo>
                  <a:lnTo>
                    <a:pt x="312" y="55"/>
                  </a:lnTo>
                  <a:lnTo>
                    <a:pt x="313" y="50"/>
                  </a:lnTo>
                  <a:lnTo>
                    <a:pt x="314" y="48"/>
                  </a:lnTo>
                  <a:lnTo>
                    <a:pt x="315" y="47"/>
                  </a:lnTo>
                  <a:lnTo>
                    <a:pt x="316" y="45"/>
                  </a:lnTo>
                  <a:lnTo>
                    <a:pt x="318" y="44"/>
                  </a:lnTo>
                  <a:lnTo>
                    <a:pt x="319" y="42"/>
                  </a:lnTo>
                  <a:lnTo>
                    <a:pt x="320" y="41"/>
                  </a:lnTo>
                  <a:lnTo>
                    <a:pt x="322" y="40"/>
                  </a:lnTo>
                  <a:lnTo>
                    <a:pt x="324" y="39"/>
                  </a:lnTo>
                  <a:lnTo>
                    <a:pt x="326" y="39"/>
                  </a:lnTo>
                  <a:lnTo>
                    <a:pt x="328" y="38"/>
                  </a:lnTo>
                  <a:lnTo>
                    <a:pt x="329" y="38"/>
                  </a:lnTo>
                  <a:lnTo>
                    <a:pt x="331" y="38"/>
                  </a:lnTo>
                  <a:lnTo>
                    <a:pt x="333" y="38"/>
                  </a:lnTo>
                  <a:lnTo>
                    <a:pt x="334" y="39"/>
                  </a:lnTo>
                  <a:lnTo>
                    <a:pt x="335" y="39"/>
                  </a:lnTo>
                  <a:lnTo>
                    <a:pt x="336" y="40"/>
                  </a:lnTo>
                  <a:lnTo>
                    <a:pt x="340" y="42"/>
                  </a:lnTo>
                  <a:lnTo>
                    <a:pt x="342" y="44"/>
                  </a:lnTo>
                  <a:lnTo>
                    <a:pt x="343" y="47"/>
                  </a:lnTo>
                  <a:lnTo>
                    <a:pt x="345" y="49"/>
                  </a:lnTo>
                  <a:lnTo>
                    <a:pt x="347" y="53"/>
                  </a:lnTo>
                  <a:lnTo>
                    <a:pt x="348" y="56"/>
                  </a:lnTo>
                  <a:lnTo>
                    <a:pt x="349" y="60"/>
                  </a:lnTo>
                  <a:lnTo>
                    <a:pt x="350" y="64"/>
                  </a:lnTo>
                  <a:lnTo>
                    <a:pt x="352" y="69"/>
                  </a:lnTo>
                  <a:lnTo>
                    <a:pt x="353" y="73"/>
                  </a:lnTo>
                  <a:lnTo>
                    <a:pt x="353" y="77"/>
                  </a:lnTo>
                  <a:lnTo>
                    <a:pt x="354" y="82"/>
                  </a:lnTo>
                  <a:lnTo>
                    <a:pt x="354" y="86"/>
                  </a:lnTo>
                  <a:lnTo>
                    <a:pt x="354" y="91"/>
                  </a:lnTo>
                  <a:lnTo>
                    <a:pt x="354" y="96"/>
                  </a:lnTo>
                  <a:lnTo>
                    <a:pt x="354" y="100"/>
                  </a:lnTo>
                  <a:lnTo>
                    <a:pt x="354" y="105"/>
                  </a:lnTo>
                  <a:lnTo>
                    <a:pt x="353" y="109"/>
                  </a:lnTo>
                  <a:lnTo>
                    <a:pt x="352" y="114"/>
                  </a:lnTo>
                  <a:lnTo>
                    <a:pt x="352" y="118"/>
                  </a:lnTo>
                  <a:lnTo>
                    <a:pt x="350" y="122"/>
                  </a:lnTo>
                  <a:lnTo>
                    <a:pt x="349" y="127"/>
                  </a:lnTo>
                  <a:lnTo>
                    <a:pt x="348" y="131"/>
                  </a:lnTo>
                  <a:lnTo>
                    <a:pt x="346" y="134"/>
                  </a:lnTo>
                  <a:lnTo>
                    <a:pt x="345" y="138"/>
                  </a:lnTo>
                  <a:lnTo>
                    <a:pt x="343" y="142"/>
                  </a:lnTo>
                  <a:lnTo>
                    <a:pt x="342" y="145"/>
                  </a:lnTo>
                  <a:lnTo>
                    <a:pt x="340" y="147"/>
                  </a:lnTo>
                  <a:lnTo>
                    <a:pt x="338" y="149"/>
                  </a:lnTo>
                  <a:lnTo>
                    <a:pt x="335" y="151"/>
                  </a:lnTo>
                  <a:lnTo>
                    <a:pt x="335" y="152"/>
                  </a:lnTo>
                  <a:lnTo>
                    <a:pt x="335" y="153"/>
                  </a:lnTo>
                  <a:lnTo>
                    <a:pt x="335" y="156"/>
                  </a:lnTo>
                  <a:lnTo>
                    <a:pt x="335" y="157"/>
                  </a:lnTo>
                  <a:lnTo>
                    <a:pt x="335" y="158"/>
                  </a:lnTo>
                  <a:lnTo>
                    <a:pt x="335" y="160"/>
                  </a:lnTo>
                  <a:lnTo>
                    <a:pt x="335" y="161"/>
                  </a:lnTo>
                  <a:lnTo>
                    <a:pt x="336" y="163"/>
                  </a:lnTo>
                  <a:lnTo>
                    <a:pt x="339" y="163"/>
                  </a:lnTo>
                  <a:lnTo>
                    <a:pt x="341" y="164"/>
                  </a:lnTo>
                  <a:lnTo>
                    <a:pt x="342" y="164"/>
                  </a:lnTo>
                  <a:lnTo>
                    <a:pt x="344" y="165"/>
                  </a:lnTo>
                  <a:lnTo>
                    <a:pt x="345" y="166"/>
                  </a:lnTo>
                  <a:lnTo>
                    <a:pt x="346" y="167"/>
                  </a:lnTo>
                  <a:lnTo>
                    <a:pt x="347" y="169"/>
                  </a:lnTo>
                  <a:lnTo>
                    <a:pt x="348" y="171"/>
                  </a:lnTo>
                  <a:lnTo>
                    <a:pt x="350" y="174"/>
                  </a:lnTo>
                  <a:lnTo>
                    <a:pt x="352" y="177"/>
                  </a:lnTo>
                  <a:lnTo>
                    <a:pt x="354" y="180"/>
                  </a:lnTo>
                  <a:lnTo>
                    <a:pt x="355" y="186"/>
                  </a:lnTo>
                  <a:lnTo>
                    <a:pt x="358" y="187"/>
                  </a:lnTo>
                  <a:lnTo>
                    <a:pt x="360" y="187"/>
                  </a:lnTo>
                  <a:lnTo>
                    <a:pt x="362" y="188"/>
                  </a:lnTo>
                  <a:lnTo>
                    <a:pt x="363" y="189"/>
                  </a:lnTo>
                  <a:lnTo>
                    <a:pt x="365" y="189"/>
                  </a:lnTo>
                  <a:lnTo>
                    <a:pt x="365" y="190"/>
                  </a:lnTo>
                  <a:lnTo>
                    <a:pt x="366" y="191"/>
                  </a:lnTo>
                  <a:lnTo>
                    <a:pt x="366" y="192"/>
                  </a:lnTo>
                  <a:lnTo>
                    <a:pt x="366" y="195"/>
                  </a:lnTo>
                  <a:lnTo>
                    <a:pt x="366" y="199"/>
                  </a:lnTo>
                  <a:lnTo>
                    <a:pt x="370" y="199"/>
                  </a:lnTo>
                  <a:lnTo>
                    <a:pt x="373" y="199"/>
                  </a:lnTo>
                  <a:lnTo>
                    <a:pt x="377" y="197"/>
                  </a:lnTo>
                  <a:lnTo>
                    <a:pt x="382" y="197"/>
                  </a:lnTo>
                  <a:lnTo>
                    <a:pt x="385" y="197"/>
                  </a:lnTo>
                  <a:lnTo>
                    <a:pt x="389" y="197"/>
                  </a:lnTo>
                  <a:lnTo>
                    <a:pt x="393" y="197"/>
                  </a:lnTo>
                  <a:lnTo>
                    <a:pt x="397" y="197"/>
                  </a:lnTo>
                  <a:lnTo>
                    <a:pt x="398" y="197"/>
                  </a:lnTo>
                  <a:lnTo>
                    <a:pt x="398" y="196"/>
                  </a:lnTo>
                  <a:lnTo>
                    <a:pt x="396" y="191"/>
                  </a:lnTo>
                  <a:lnTo>
                    <a:pt x="394" y="186"/>
                  </a:lnTo>
                  <a:lnTo>
                    <a:pt x="391" y="181"/>
                  </a:lnTo>
                  <a:lnTo>
                    <a:pt x="388" y="176"/>
                  </a:lnTo>
                  <a:lnTo>
                    <a:pt x="386" y="171"/>
                  </a:lnTo>
                  <a:lnTo>
                    <a:pt x="384" y="165"/>
                  </a:lnTo>
                  <a:lnTo>
                    <a:pt x="383" y="163"/>
                  </a:lnTo>
                  <a:lnTo>
                    <a:pt x="382" y="160"/>
                  </a:lnTo>
                  <a:lnTo>
                    <a:pt x="382" y="158"/>
                  </a:lnTo>
                  <a:lnTo>
                    <a:pt x="381" y="155"/>
                  </a:lnTo>
                  <a:lnTo>
                    <a:pt x="382" y="150"/>
                  </a:lnTo>
                  <a:lnTo>
                    <a:pt x="382" y="146"/>
                  </a:lnTo>
                  <a:lnTo>
                    <a:pt x="382" y="144"/>
                  </a:lnTo>
                  <a:lnTo>
                    <a:pt x="383" y="142"/>
                  </a:lnTo>
                  <a:lnTo>
                    <a:pt x="383" y="138"/>
                  </a:lnTo>
                  <a:lnTo>
                    <a:pt x="384" y="136"/>
                  </a:lnTo>
                  <a:lnTo>
                    <a:pt x="385" y="134"/>
                  </a:lnTo>
                  <a:lnTo>
                    <a:pt x="386" y="133"/>
                  </a:lnTo>
                  <a:lnTo>
                    <a:pt x="387" y="131"/>
                  </a:lnTo>
                  <a:lnTo>
                    <a:pt x="389" y="129"/>
                  </a:lnTo>
                  <a:lnTo>
                    <a:pt x="390" y="128"/>
                  </a:lnTo>
                  <a:lnTo>
                    <a:pt x="393" y="127"/>
                  </a:lnTo>
                  <a:lnTo>
                    <a:pt x="394" y="126"/>
                  </a:lnTo>
                  <a:lnTo>
                    <a:pt x="397" y="126"/>
                  </a:lnTo>
                  <a:lnTo>
                    <a:pt x="397" y="125"/>
                  </a:lnTo>
                  <a:lnTo>
                    <a:pt x="397" y="123"/>
                  </a:lnTo>
                  <a:lnTo>
                    <a:pt x="396" y="123"/>
                  </a:lnTo>
                  <a:lnTo>
                    <a:pt x="395" y="122"/>
                  </a:lnTo>
                  <a:lnTo>
                    <a:pt x="394" y="122"/>
                  </a:lnTo>
                  <a:lnTo>
                    <a:pt x="393" y="121"/>
                  </a:lnTo>
                  <a:lnTo>
                    <a:pt x="391" y="120"/>
                  </a:lnTo>
                  <a:lnTo>
                    <a:pt x="391" y="119"/>
                  </a:lnTo>
                  <a:lnTo>
                    <a:pt x="390" y="118"/>
                  </a:lnTo>
                  <a:lnTo>
                    <a:pt x="390" y="117"/>
                  </a:lnTo>
                  <a:lnTo>
                    <a:pt x="390" y="115"/>
                  </a:lnTo>
                  <a:lnTo>
                    <a:pt x="390" y="113"/>
                  </a:lnTo>
                  <a:lnTo>
                    <a:pt x="390" y="109"/>
                  </a:lnTo>
                  <a:lnTo>
                    <a:pt x="391" y="105"/>
                  </a:lnTo>
                  <a:lnTo>
                    <a:pt x="394" y="101"/>
                  </a:lnTo>
                  <a:lnTo>
                    <a:pt x="394" y="99"/>
                  </a:lnTo>
                  <a:lnTo>
                    <a:pt x="395" y="97"/>
                  </a:lnTo>
                  <a:lnTo>
                    <a:pt x="395" y="94"/>
                  </a:lnTo>
                  <a:lnTo>
                    <a:pt x="395" y="93"/>
                  </a:lnTo>
                  <a:lnTo>
                    <a:pt x="394" y="90"/>
                  </a:lnTo>
                  <a:lnTo>
                    <a:pt x="394" y="88"/>
                  </a:lnTo>
                  <a:lnTo>
                    <a:pt x="394" y="85"/>
                  </a:lnTo>
                  <a:lnTo>
                    <a:pt x="394" y="83"/>
                  </a:lnTo>
                  <a:lnTo>
                    <a:pt x="395" y="80"/>
                  </a:lnTo>
                  <a:lnTo>
                    <a:pt x="396" y="78"/>
                  </a:lnTo>
                  <a:lnTo>
                    <a:pt x="397" y="76"/>
                  </a:lnTo>
                  <a:lnTo>
                    <a:pt x="399" y="74"/>
                  </a:lnTo>
                  <a:lnTo>
                    <a:pt x="400" y="74"/>
                  </a:lnTo>
                  <a:lnTo>
                    <a:pt x="401" y="74"/>
                  </a:lnTo>
                  <a:lnTo>
                    <a:pt x="402" y="73"/>
                  </a:lnTo>
                  <a:lnTo>
                    <a:pt x="403" y="73"/>
                  </a:lnTo>
                  <a:lnTo>
                    <a:pt x="403" y="71"/>
                  </a:lnTo>
                  <a:lnTo>
                    <a:pt x="403" y="69"/>
                  </a:lnTo>
                  <a:lnTo>
                    <a:pt x="403" y="67"/>
                  </a:lnTo>
                  <a:lnTo>
                    <a:pt x="403" y="64"/>
                  </a:lnTo>
                  <a:lnTo>
                    <a:pt x="403" y="63"/>
                  </a:lnTo>
                  <a:lnTo>
                    <a:pt x="403" y="61"/>
                  </a:lnTo>
                  <a:lnTo>
                    <a:pt x="403" y="59"/>
                  </a:lnTo>
                  <a:lnTo>
                    <a:pt x="403" y="58"/>
                  </a:lnTo>
                  <a:lnTo>
                    <a:pt x="402" y="59"/>
                  </a:lnTo>
                  <a:lnTo>
                    <a:pt x="401" y="59"/>
                  </a:lnTo>
                  <a:lnTo>
                    <a:pt x="400" y="60"/>
                  </a:lnTo>
                  <a:lnTo>
                    <a:pt x="400" y="61"/>
                  </a:lnTo>
                  <a:lnTo>
                    <a:pt x="399" y="62"/>
                  </a:lnTo>
                  <a:lnTo>
                    <a:pt x="398" y="62"/>
                  </a:lnTo>
                  <a:lnTo>
                    <a:pt x="397" y="63"/>
                  </a:lnTo>
                  <a:lnTo>
                    <a:pt x="396" y="63"/>
                  </a:lnTo>
                  <a:lnTo>
                    <a:pt x="396" y="62"/>
                  </a:lnTo>
                  <a:lnTo>
                    <a:pt x="396" y="61"/>
                  </a:lnTo>
                  <a:lnTo>
                    <a:pt x="395" y="61"/>
                  </a:lnTo>
                  <a:lnTo>
                    <a:pt x="395" y="59"/>
                  </a:lnTo>
                  <a:lnTo>
                    <a:pt x="396" y="57"/>
                  </a:lnTo>
                  <a:lnTo>
                    <a:pt x="396" y="55"/>
                  </a:lnTo>
                  <a:lnTo>
                    <a:pt x="397" y="53"/>
                  </a:lnTo>
                  <a:lnTo>
                    <a:pt x="397" y="49"/>
                  </a:lnTo>
                  <a:lnTo>
                    <a:pt x="398" y="47"/>
                  </a:lnTo>
                  <a:lnTo>
                    <a:pt x="400" y="43"/>
                  </a:lnTo>
                  <a:lnTo>
                    <a:pt x="402" y="39"/>
                  </a:lnTo>
                  <a:lnTo>
                    <a:pt x="404" y="35"/>
                  </a:lnTo>
                  <a:lnTo>
                    <a:pt x="407" y="33"/>
                  </a:lnTo>
                  <a:lnTo>
                    <a:pt x="406" y="33"/>
                  </a:lnTo>
                  <a:lnTo>
                    <a:pt x="406" y="32"/>
                  </a:lnTo>
                  <a:lnTo>
                    <a:pt x="404" y="33"/>
                  </a:lnTo>
                  <a:lnTo>
                    <a:pt x="403" y="34"/>
                  </a:lnTo>
                  <a:lnTo>
                    <a:pt x="402" y="34"/>
                  </a:lnTo>
                  <a:lnTo>
                    <a:pt x="402" y="35"/>
                  </a:lnTo>
                  <a:lnTo>
                    <a:pt x="400" y="35"/>
                  </a:lnTo>
                  <a:lnTo>
                    <a:pt x="400" y="36"/>
                  </a:lnTo>
                  <a:lnTo>
                    <a:pt x="399" y="35"/>
                  </a:lnTo>
                  <a:lnTo>
                    <a:pt x="399" y="34"/>
                  </a:lnTo>
                  <a:lnTo>
                    <a:pt x="401" y="31"/>
                  </a:lnTo>
                  <a:lnTo>
                    <a:pt x="404" y="28"/>
                  </a:lnTo>
                  <a:lnTo>
                    <a:pt x="407" y="24"/>
                  </a:lnTo>
                  <a:lnTo>
                    <a:pt x="410" y="21"/>
                  </a:lnTo>
                  <a:lnTo>
                    <a:pt x="412" y="19"/>
                  </a:lnTo>
                  <a:lnTo>
                    <a:pt x="413" y="18"/>
                  </a:lnTo>
                  <a:lnTo>
                    <a:pt x="415" y="17"/>
                  </a:lnTo>
                  <a:lnTo>
                    <a:pt x="417" y="17"/>
                  </a:lnTo>
                  <a:lnTo>
                    <a:pt x="420" y="16"/>
                  </a:lnTo>
                  <a:lnTo>
                    <a:pt x="421" y="16"/>
                  </a:lnTo>
                  <a:lnTo>
                    <a:pt x="424" y="17"/>
                  </a:lnTo>
                  <a:lnTo>
                    <a:pt x="426" y="17"/>
                  </a:lnTo>
                  <a:lnTo>
                    <a:pt x="426" y="15"/>
                  </a:lnTo>
                  <a:lnTo>
                    <a:pt x="426" y="13"/>
                  </a:lnTo>
                  <a:lnTo>
                    <a:pt x="426" y="11"/>
                  </a:lnTo>
                  <a:lnTo>
                    <a:pt x="426" y="9"/>
                  </a:lnTo>
                  <a:lnTo>
                    <a:pt x="426" y="5"/>
                  </a:lnTo>
                  <a:lnTo>
                    <a:pt x="426" y="3"/>
                  </a:lnTo>
                  <a:lnTo>
                    <a:pt x="426" y="2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31" y="3"/>
                  </a:lnTo>
                  <a:lnTo>
                    <a:pt x="434" y="6"/>
                  </a:lnTo>
                  <a:lnTo>
                    <a:pt x="435" y="10"/>
                  </a:lnTo>
                  <a:lnTo>
                    <a:pt x="437" y="12"/>
                  </a:lnTo>
                  <a:lnTo>
                    <a:pt x="438" y="13"/>
                  </a:lnTo>
                  <a:lnTo>
                    <a:pt x="439" y="13"/>
                  </a:lnTo>
                  <a:lnTo>
                    <a:pt x="440" y="14"/>
                  </a:lnTo>
                  <a:lnTo>
                    <a:pt x="441" y="14"/>
                  </a:lnTo>
                  <a:lnTo>
                    <a:pt x="443" y="15"/>
                  </a:lnTo>
                  <a:lnTo>
                    <a:pt x="445" y="15"/>
                  </a:lnTo>
                  <a:lnTo>
                    <a:pt x="448" y="15"/>
                  </a:lnTo>
                  <a:lnTo>
                    <a:pt x="451" y="15"/>
                  </a:lnTo>
                  <a:lnTo>
                    <a:pt x="456" y="14"/>
                  </a:lnTo>
                  <a:lnTo>
                    <a:pt x="463" y="13"/>
                  </a:lnTo>
                  <a:lnTo>
                    <a:pt x="469" y="11"/>
                  </a:lnTo>
                  <a:lnTo>
                    <a:pt x="476" y="10"/>
                  </a:lnTo>
                  <a:lnTo>
                    <a:pt x="479" y="10"/>
                  </a:lnTo>
                  <a:lnTo>
                    <a:pt x="482" y="10"/>
                  </a:lnTo>
                  <a:lnTo>
                    <a:pt x="485" y="10"/>
                  </a:lnTo>
                  <a:lnTo>
                    <a:pt x="489" y="10"/>
                  </a:lnTo>
                  <a:lnTo>
                    <a:pt x="492" y="11"/>
                  </a:lnTo>
                  <a:lnTo>
                    <a:pt x="494" y="12"/>
                  </a:lnTo>
                  <a:lnTo>
                    <a:pt x="496" y="12"/>
                  </a:lnTo>
                  <a:lnTo>
                    <a:pt x="497" y="13"/>
                  </a:lnTo>
                  <a:lnTo>
                    <a:pt x="498" y="14"/>
                  </a:lnTo>
                  <a:lnTo>
                    <a:pt x="499" y="15"/>
                  </a:lnTo>
                  <a:lnTo>
                    <a:pt x="499" y="16"/>
                  </a:lnTo>
                  <a:lnTo>
                    <a:pt x="499" y="17"/>
                  </a:lnTo>
                  <a:lnTo>
                    <a:pt x="498" y="18"/>
                  </a:lnTo>
                  <a:lnTo>
                    <a:pt x="497" y="19"/>
                  </a:lnTo>
                  <a:lnTo>
                    <a:pt x="494" y="21"/>
                  </a:lnTo>
                  <a:lnTo>
                    <a:pt x="491" y="24"/>
                  </a:lnTo>
                  <a:lnTo>
                    <a:pt x="490" y="25"/>
                  </a:lnTo>
                  <a:lnTo>
                    <a:pt x="489" y="26"/>
                  </a:lnTo>
                  <a:lnTo>
                    <a:pt x="488" y="28"/>
                  </a:lnTo>
                  <a:lnTo>
                    <a:pt x="486" y="29"/>
                  </a:lnTo>
                  <a:lnTo>
                    <a:pt x="486" y="30"/>
                  </a:lnTo>
                  <a:lnTo>
                    <a:pt x="486" y="31"/>
                  </a:lnTo>
                  <a:lnTo>
                    <a:pt x="488" y="32"/>
                  </a:lnTo>
                  <a:lnTo>
                    <a:pt x="489" y="33"/>
                  </a:lnTo>
                  <a:lnTo>
                    <a:pt x="491" y="34"/>
                  </a:lnTo>
                  <a:lnTo>
                    <a:pt x="493" y="35"/>
                  </a:lnTo>
                  <a:lnTo>
                    <a:pt x="495" y="36"/>
                  </a:lnTo>
                  <a:lnTo>
                    <a:pt x="496" y="38"/>
                  </a:lnTo>
                  <a:lnTo>
                    <a:pt x="497" y="39"/>
                  </a:lnTo>
                  <a:lnTo>
                    <a:pt x="497" y="40"/>
                  </a:lnTo>
                  <a:lnTo>
                    <a:pt x="498" y="41"/>
                  </a:lnTo>
                  <a:lnTo>
                    <a:pt x="498" y="43"/>
                  </a:lnTo>
                  <a:lnTo>
                    <a:pt x="498" y="46"/>
                  </a:lnTo>
                  <a:lnTo>
                    <a:pt x="497" y="50"/>
                  </a:lnTo>
                  <a:lnTo>
                    <a:pt x="496" y="54"/>
                  </a:lnTo>
                  <a:lnTo>
                    <a:pt x="495" y="59"/>
                  </a:lnTo>
                  <a:lnTo>
                    <a:pt x="496" y="59"/>
                  </a:lnTo>
                  <a:lnTo>
                    <a:pt x="497" y="60"/>
                  </a:lnTo>
                  <a:lnTo>
                    <a:pt x="498" y="60"/>
                  </a:lnTo>
                  <a:lnTo>
                    <a:pt x="498" y="61"/>
                  </a:lnTo>
                  <a:lnTo>
                    <a:pt x="500" y="63"/>
                  </a:lnTo>
                  <a:lnTo>
                    <a:pt x="500" y="67"/>
                  </a:lnTo>
                  <a:lnTo>
                    <a:pt x="502" y="69"/>
                  </a:lnTo>
                  <a:lnTo>
                    <a:pt x="502" y="72"/>
                  </a:lnTo>
                  <a:lnTo>
                    <a:pt x="502" y="75"/>
                  </a:lnTo>
                  <a:lnTo>
                    <a:pt x="502" y="78"/>
                  </a:lnTo>
                  <a:lnTo>
                    <a:pt x="500" y="85"/>
                  </a:lnTo>
                  <a:lnTo>
                    <a:pt x="499" y="90"/>
                  </a:lnTo>
                  <a:lnTo>
                    <a:pt x="498" y="96"/>
                  </a:lnTo>
                  <a:lnTo>
                    <a:pt x="498" y="100"/>
                  </a:lnTo>
                  <a:lnTo>
                    <a:pt x="497" y="101"/>
                  </a:lnTo>
                  <a:lnTo>
                    <a:pt x="496" y="102"/>
                  </a:lnTo>
                  <a:lnTo>
                    <a:pt x="495" y="102"/>
                  </a:lnTo>
                  <a:lnTo>
                    <a:pt x="494" y="103"/>
                  </a:lnTo>
                  <a:lnTo>
                    <a:pt x="492" y="103"/>
                  </a:lnTo>
                  <a:lnTo>
                    <a:pt x="491" y="103"/>
                  </a:lnTo>
                  <a:lnTo>
                    <a:pt x="490" y="103"/>
                  </a:lnTo>
                  <a:lnTo>
                    <a:pt x="489" y="103"/>
                  </a:lnTo>
                  <a:lnTo>
                    <a:pt x="489" y="104"/>
                  </a:lnTo>
                  <a:lnTo>
                    <a:pt x="489" y="105"/>
                  </a:lnTo>
                  <a:lnTo>
                    <a:pt x="489" y="106"/>
                  </a:lnTo>
                  <a:lnTo>
                    <a:pt x="489" y="108"/>
                  </a:lnTo>
                  <a:lnTo>
                    <a:pt x="489" y="111"/>
                  </a:lnTo>
                  <a:lnTo>
                    <a:pt x="489" y="113"/>
                  </a:lnTo>
                  <a:lnTo>
                    <a:pt x="489" y="116"/>
                  </a:lnTo>
                  <a:lnTo>
                    <a:pt x="489" y="120"/>
                  </a:lnTo>
                  <a:lnTo>
                    <a:pt x="491" y="120"/>
                  </a:lnTo>
                  <a:lnTo>
                    <a:pt x="494" y="119"/>
                  </a:lnTo>
                  <a:lnTo>
                    <a:pt x="495" y="119"/>
                  </a:lnTo>
                  <a:lnTo>
                    <a:pt x="497" y="120"/>
                  </a:lnTo>
                  <a:lnTo>
                    <a:pt x="499" y="120"/>
                  </a:lnTo>
                  <a:lnTo>
                    <a:pt x="500" y="121"/>
                  </a:lnTo>
                  <a:lnTo>
                    <a:pt x="502" y="122"/>
                  </a:lnTo>
                  <a:lnTo>
                    <a:pt x="503" y="123"/>
                  </a:lnTo>
                  <a:lnTo>
                    <a:pt x="504" y="125"/>
                  </a:lnTo>
                  <a:lnTo>
                    <a:pt x="505" y="126"/>
                  </a:lnTo>
                  <a:lnTo>
                    <a:pt x="506" y="128"/>
                  </a:lnTo>
                  <a:lnTo>
                    <a:pt x="506" y="130"/>
                  </a:lnTo>
                  <a:lnTo>
                    <a:pt x="507" y="131"/>
                  </a:lnTo>
                  <a:lnTo>
                    <a:pt x="507" y="133"/>
                  </a:lnTo>
                  <a:lnTo>
                    <a:pt x="507" y="135"/>
                  </a:lnTo>
                  <a:lnTo>
                    <a:pt x="508" y="137"/>
                  </a:lnTo>
                  <a:lnTo>
                    <a:pt x="508" y="142"/>
                  </a:lnTo>
                  <a:lnTo>
                    <a:pt x="507" y="146"/>
                  </a:lnTo>
                  <a:lnTo>
                    <a:pt x="507" y="151"/>
                  </a:lnTo>
                  <a:lnTo>
                    <a:pt x="506" y="156"/>
                  </a:lnTo>
                  <a:lnTo>
                    <a:pt x="505" y="163"/>
                  </a:lnTo>
                  <a:lnTo>
                    <a:pt x="503" y="170"/>
                  </a:lnTo>
                  <a:lnTo>
                    <a:pt x="502" y="172"/>
                  </a:lnTo>
                  <a:lnTo>
                    <a:pt x="502" y="174"/>
                  </a:lnTo>
                  <a:lnTo>
                    <a:pt x="500" y="176"/>
                  </a:lnTo>
                  <a:lnTo>
                    <a:pt x="499" y="178"/>
                  </a:lnTo>
                  <a:lnTo>
                    <a:pt x="498" y="181"/>
                  </a:lnTo>
                  <a:lnTo>
                    <a:pt x="497" y="186"/>
                  </a:lnTo>
                  <a:lnTo>
                    <a:pt x="495" y="191"/>
                  </a:lnTo>
                  <a:lnTo>
                    <a:pt x="493" y="199"/>
                  </a:lnTo>
                  <a:lnTo>
                    <a:pt x="502" y="200"/>
                  </a:lnTo>
                  <a:lnTo>
                    <a:pt x="509" y="200"/>
                  </a:lnTo>
                  <a:lnTo>
                    <a:pt x="518" y="200"/>
                  </a:lnTo>
                  <a:lnTo>
                    <a:pt x="526" y="200"/>
                  </a:lnTo>
                  <a:lnTo>
                    <a:pt x="544" y="200"/>
                  </a:lnTo>
                  <a:lnTo>
                    <a:pt x="560" y="200"/>
                  </a:lnTo>
                  <a:lnTo>
                    <a:pt x="577" y="199"/>
                  </a:lnTo>
                  <a:lnTo>
                    <a:pt x="594" y="197"/>
                  </a:lnTo>
                  <a:lnTo>
                    <a:pt x="603" y="197"/>
                  </a:lnTo>
                  <a:lnTo>
                    <a:pt x="612" y="197"/>
                  </a:lnTo>
                  <a:lnTo>
                    <a:pt x="620" y="197"/>
                  </a:lnTo>
                  <a:lnTo>
                    <a:pt x="629" y="197"/>
                  </a:lnTo>
                  <a:lnTo>
                    <a:pt x="630" y="199"/>
                  </a:lnTo>
                  <a:lnTo>
                    <a:pt x="631" y="199"/>
                  </a:lnTo>
                  <a:lnTo>
                    <a:pt x="632" y="200"/>
                  </a:lnTo>
                  <a:lnTo>
                    <a:pt x="633" y="201"/>
                  </a:lnTo>
                  <a:lnTo>
                    <a:pt x="634" y="202"/>
                  </a:lnTo>
                  <a:lnTo>
                    <a:pt x="635" y="203"/>
                  </a:lnTo>
                  <a:lnTo>
                    <a:pt x="636" y="204"/>
                  </a:lnTo>
                  <a:lnTo>
                    <a:pt x="638" y="206"/>
                  </a:lnTo>
                  <a:lnTo>
                    <a:pt x="638" y="207"/>
                  </a:lnTo>
                  <a:lnTo>
                    <a:pt x="638" y="208"/>
                  </a:lnTo>
                  <a:lnTo>
                    <a:pt x="639" y="210"/>
                  </a:lnTo>
                  <a:lnTo>
                    <a:pt x="639" y="211"/>
                  </a:lnTo>
                  <a:lnTo>
                    <a:pt x="638" y="213"/>
                  </a:lnTo>
                  <a:lnTo>
                    <a:pt x="638" y="214"/>
                  </a:lnTo>
                  <a:lnTo>
                    <a:pt x="636" y="215"/>
                  </a:lnTo>
                  <a:lnTo>
                    <a:pt x="635" y="216"/>
                  </a:lnTo>
                  <a:lnTo>
                    <a:pt x="633" y="217"/>
                  </a:lnTo>
                  <a:lnTo>
                    <a:pt x="632" y="217"/>
                  </a:lnTo>
                  <a:lnTo>
                    <a:pt x="631" y="217"/>
                  </a:lnTo>
                  <a:lnTo>
                    <a:pt x="630" y="218"/>
                  </a:lnTo>
                  <a:lnTo>
                    <a:pt x="629" y="218"/>
                  </a:lnTo>
                  <a:lnTo>
                    <a:pt x="628" y="218"/>
                  </a:lnTo>
                  <a:lnTo>
                    <a:pt x="627" y="218"/>
                  </a:lnTo>
                  <a:lnTo>
                    <a:pt x="627" y="224"/>
                  </a:lnTo>
                  <a:lnTo>
                    <a:pt x="626" y="230"/>
                  </a:lnTo>
                  <a:lnTo>
                    <a:pt x="626" y="236"/>
                  </a:lnTo>
                  <a:lnTo>
                    <a:pt x="625" y="243"/>
                  </a:lnTo>
                  <a:lnTo>
                    <a:pt x="623" y="255"/>
                  </a:lnTo>
                  <a:lnTo>
                    <a:pt x="622" y="267"/>
                  </a:lnTo>
                  <a:lnTo>
                    <a:pt x="620" y="280"/>
                  </a:lnTo>
                  <a:lnTo>
                    <a:pt x="618" y="293"/>
                  </a:lnTo>
                  <a:lnTo>
                    <a:pt x="616" y="306"/>
                  </a:lnTo>
                  <a:lnTo>
                    <a:pt x="615" y="318"/>
                  </a:lnTo>
                  <a:lnTo>
                    <a:pt x="613" y="327"/>
                  </a:lnTo>
                  <a:lnTo>
                    <a:pt x="612" y="338"/>
                  </a:lnTo>
                  <a:lnTo>
                    <a:pt x="611" y="349"/>
                  </a:lnTo>
                  <a:lnTo>
                    <a:pt x="609" y="360"/>
                  </a:lnTo>
                  <a:lnTo>
                    <a:pt x="607" y="380"/>
                  </a:lnTo>
                  <a:lnTo>
                    <a:pt x="606" y="401"/>
                  </a:lnTo>
                  <a:lnTo>
                    <a:pt x="605" y="423"/>
                  </a:lnTo>
                  <a:lnTo>
                    <a:pt x="604" y="444"/>
                  </a:lnTo>
                  <a:lnTo>
                    <a:pt x="604" y="466"/>
                  </a:lnTo>
                  <a:lnTo>
                    <a:pt x="604" y="486"/>
                  </a:lnTo>
                  <a:lnTo>
                    <a:pt x="603" y="486"/>
                  </a:lnTo>
                  <a:lnTo>
                    <a:pt x="602" y="487"/>
                  </a:lnTo>
                  <a:lnTo>
                    <a:pt x="601" y="487"/>
                  </a:lnTo>
                  <a:lnTo>
                    <a:pt x="600" y="487"/>
                  </a:lnTo>
                  <a:lnTo>
                    <a:pt x="599" y="488"/>
                  </a:lnTo>
                  <a:lnTo>
                    <a:pt x="597" y="488"/>
                  </a:lnTo>
                  <a:lnTo>
                    <a:pt x="595" y="488"/>
                  </a:lnTo>
                  <a:lnTo>
                    <a:pt x="594" y="488"/>
                  </a:lnTo>
                  <a:lnTo>
                    <a:pt x="578" y="489"/>
                  </a:lnTo>
                  <a:lnTo>
                    <a:pt x="561" y="490"/>
                  </a:lnTo>
                  <a:lnTo>
                    <a:pt x="544" y="490"/>
                  </a:lnTo>
                  <a:lnTo>
                    <a:pt x="527" y="492"/>
                  </a:lnTo>
                  <a:lnTo>
                    <a:pt x="494" y="492"/>
                  </a:lnTo>
                  <a:lnTo>
                    <a:pt x="459" y="492"/>
                  </a:lnTo>
                  <a:lnTo>
                    <a:pt x="426" y="492"/>
                  </a:lnTo>
                  <a:lnTo>
                    <a:pt x="393" y="492"/>
                  </a:lnTo>
                  <a:lnTo>
                    <a:pt x="359" y="492"/>
                  </a:lnTo>
                  <a:lnTo>
                    <a:pt x="326" y="492"/>
                  </a:lnTo>
                  <a:lnTo>
                    <a:pt x="317" y="490"/>
                  </a:lnTo>
                  <a:lnTo>
                    <a:pt x="311" y="489"/>
                  </a:lnTo>
                  <a:lnTo>
                    <a:pt x="308" y="488"/>
                  </a:lnTo>
                  <a:lnTo>
                    <a:pt x="306" y="488"/>
                  </a:lnTo>
                  <a:lnTo>
                    <a:pt x="305" y="487"/>
                  </a:lnTo>
                  <a:lnTo>
                    <a:pt x="304" y="486"/>
                  </a:lnTo>
                  <a:lnTo>
                    <a:pt x="303" y="484"/>
                  </a:lnTo>
                  <a:lnTo>
                    <a:pt x="303" y="482"/>
                  </a:lnTo>
                  <a:lnTo>
                    <a:pt x="303" y="480"/>
                  </a:lnTo>
                  <a:lnTo>
                    <a:pt x="303" y="478"/>
                  </a:lnTo>
                  <a:lnTo>
                    <a:pt x="303" y="471"/>
                  </a:lnTo>
                  <a:lnTo>
                    <a:pt x="304" y="462"/>
                  </a:lnTo>
                  <a:lnTo>
                    <a:pt x="305" y="455"/>
                  </a:lnTo>
                  <a:lnTo>
                    <a:pt x="306" y="450"/>
                  </a:lnTo>
                  <a:lnTo>
                    <a:pt x="307" y="443"/>
                  </a:lnTo>
                  <a:lnTo>
                    <a:pt x="307" y="437"/>
                  </a:lnTo>
                  <a:lnTo>
                    <a:pt x="308" y="424"/>
                  </a:lnTo>
                  <a:lnTo>
                    <a:pt x="309" y="411"/>
                  </a:lnTo>
                  <a:lnTo>
                    <a:pt x="311" y="398"/>
                  </a:lnTo>
                  <a:lnTo>
                    <a:pt x="312" y="385"/>
                  </a:lnTo>
                  <a:lnTo>
                    <a:pt x="312" y="374"/>
                  </a:lnTo>
                  <a:lnTo>
                    <a:pt x="313" y="361"/>
                  </a:lnTo>
                  <a:lnTo>
                    <a:pt x="314" y="348"/>
                  </a:lnTo>
                  <a:lnTo>
                    <a:pt x="314" y="334"/>
                  </a:lnTo>
                  <a:lnTo>
                    <a:pt x="315" y="321"/>
                  </a:lnTo>
                  <a:lnTo>
                    <a:pt x="316" y="307"/>
                  </a:lnTo>
                  <a:lnTo>
                    <a:pt x="317" y="294"/>
                  </a:lnTo>
                  <a:lnTo>
                    <a:pt x="318" y="280"/>
                  </a:lnTo>
                  <a:lnTo>
                    <a:pt x="320" y="267"/>
                  </a:lnTo>
                  <a:lnTo>
                    <a:pt x="321" y="254"/>
                  </a:lnTo>
                  <a:lnTo>
                    <a:pt x="318" y="252"/>
                  </a:lnTo>
                  <a:lnTo>
                    <a:pt x="315" y="251"/>
                  </a:lnTo>
                  <a:lnTo>
                    <a:pt x="311" y="249"/>
                  </a:lnTo>
                  <a:lnTo>
                    <a:pt x="307" y="248"/>
                  </a:lnTo>
                  <a:lnTo>
                    <a:pt x="304" y="246"/>
                  </a:lnTo>
                  <a:lnTo>
                    <a:pt x="301" y="245"/>
                  </a:lnTo>
                  <a:lnTo>
                    <a:pt x="298" y="244"/>
                  </a:lnTo>
                  <a:lnTo>
                    <a:pt x="293" y="243"/>
                  </a:lnTo>
                  <a:lnTo>
                    <a:pt x="291" y="240"/>
                  </a:lnTo>
                  <a:lnTo>
                    <a:pt x="288" y="239"/>
                  </a:lnTo>
                  <a:lnTo>
                    <a:pt x="285" y="237"/>
                  </a:lnTo>
                  <a:lnTo>
                    <a:pt x="280" y="235"/>
                  </a:lnTo>
                  <a:lnTo>
                    <a:pt x="277" y="233"/>
                  </a:lnTo>
                  <a:lnTo>
                    <a:pt x="273" y="232"/>
                  </a:lnTo>
                  <a:lnTo>
                    <a:pt x="270" y="230"/>
                  </a:lnTo>
                  <a:lnTo>
                    <a:pt x="266" y="230"/>
                  </a:lnTo>
                  <a:lnTo>
                    <a:pt x="265" y="233"/>
                  </a:lnTo>
                  <a:lnTo>
                    <a:pt x="264" y="237"/>
                  </a:lnTo>
                  <a:lnTo>
                    <a:pt x="262" y="240"/>
                  </a:lnTo>
                  <a:lnTo>
                    <a:pt x="261" y="244"/>
                  </a:lnTo>
                  <a:lnTo>
                    <a:pt x="259" y="247"/>
                  </a:lnTo>
                  <a:lnTo>
                    <a:pt x="257" y="250"/>
                  </a:lnTo>
                  <a:lnTo>
                    <a:pt x="256" y="253"/>
                  </a:lnTo>
                  <a:lnTo>
                    <a:pt x="253" y="257"/>
                  </a:lnTo>
                  <a:lnTo>
                    <a:pt x="248" y="269"/>
                  </a:lnTo>
                  <a:lnTo>
                    <a:pt x="242" y="281"/>
                  </a:lnTo>
                  <a:lnTo>
                    <a:pt x="238" y="287"/>
                  </a:lnTo>
                  <a:lnTo>
                    <a:pt x="235" y="293"/>
                  </a:lnTo>
                  <a:lnTo>
                    <a:pt x="231" y="298"/>
                  </a:lnTo>
                  <a:lnTo>
                    <a:pt x="226" y="303"/>
                  </a:lnTo>
                  <a:lnTo>
                    <a:pt x="224" y="306"/>
                  </a:lnTo>
                  <a:lnTo>
                    <a:pt x="222" y="308"/>
                  </a:lnTo>
                  <a:lnTo>
                    <a:pt x="220" y="310"/>
                  </a:lnTo>
                  <a:lnTo>
                    <a:pt x="218" y="312"/>
                  </a:lnTo>
                  <a:lnTo>
                    <a:pt x="216" y="314"/>
                  </a:lnTo>
                  <a:lnTo>
                    <a:pt x="213" y="316"/>
                  </a:lnTo>
                  <a:lnTo>
                    <a:pt x="210" y="318"/>
                  </a:lnTo>
                  <a:lnTo>
                    <a:pt x="208" y="320"/>
                  </a:lnTo>
                  <a:lnTo>
                    <a:pt x="205" y="321"/>
                  </a:lnTo>
                  <a:lnTo>
                    <a:pt x="202" y="322"/>
                  </a:lnTo>
                  <a:lnTo>
                    <a:pt x="198" y="324"/>
                  </a:lnTo>
                  <a:lnTo>
                    <a:pt x="195" y="325"/>
                  </a:lnTo>
                  <a:lnTo>
                    <a:pt x="192" y="326"/>
                  </a:lnTo>
                  <a:lnTo>
                    <a:pt x="189" y="327"/>
                  </a:lnTo>
                  <a:lnTo>
                    <a:pt x="185" y="327"/>
                  </a:lnTo>
                  <a:lnTo>
                    <a:pt x="181" y="328"/>
                  </a:lnTo>
                  <a:lnTo>
                    <a:pt x="179" y="329"/>
                  </a:lnTo>
                  <a:lnTo>
                    <a:pt x="176" y="329"/>
                  </a:lnTo>
                  <a:lnTo>
                    <a:pt x="172" y="329"/>
                  </a:lnTo>
                  <a:lnTo>
                    <a:pt x="169" y="329"/>
                  </a:lnTo>
                  <a:lnTo>
                    <a:pt x="167" y="329"/>
                  </a:lnTo>
                  <a:lnTo>
                    <a:pt x="164" y="328"/>
                  </a:lnTo>
                  <a:lnTo>
                    <a:pt x="163" y="328"/>
                  </a:lnTo>
                  <a:lnTo>
                    <a:pt x="162" y="327"/>
                  </a:lnTo>
                  <a:lnTo>
                    <a:pt x="161" y="327"/>
                  </a:lnTo>
                  <a:lnTo>
                    <a:pt x="159" y="326"/>
                  </a:lnTo>
                  <a:lnTo>
                    <a:pt x="158" y="326"/>
                  </a:lnTo>
                  <a:lnTo>
                    <a:pt x="158" y="327"/>
                  </a:lnTo>
                  <a:lnTo>
                    <a:pt x="157" y="328"/>
                  </a:lnTo>
                  <a:lnTo>
                    <a:pt x="155" y="331"/>
                  </a:lnTo>
                  <a:lnTo>
                    <a:pt x="153" y="334"/>
                  </a:lnTo>
                  <a:lnTo>
                    <a:pt x="149" y="341"/>
                  </a:lnTo>
                  <a:lnTo>
                    <a:pt x="143" y="351"/>
                  </a:lnTo>
                  <a:lnTo>
                    <a:pt x="138" y="362"/>
                  </a:lnTo>
                  <a:lnTo>
                    <a:pt x="134" y="371"/>
                  </a:lnTo>
                  <a:lnTo>
                    <a:pt x="129" y="379"/>
                  </a:lnTo>
                  <a:lnTo>
                    <a:pt x="126" y="384"/>
                  </a:lnTo>
                  <a:lnTo>
                    <a:pt x="127" y="384"/>
                  </a:lnTo>
                  <a:lnTo>
                    <a:pt x="126" y="385"/>
                  </a:lnTo>
                  <a:lnTo>
                    <a:pt x="126" y="386"/>
                  </a:lnTo>
                  <a:lnTo>
                    <a:pt x="125" y="387"/>
                  </a:lnTo>
                  <a:lnTo>
                    <a:pt x="125" y="389"/>
                  </a:lnTo>
                  <a:lnTo>
                    <a:pt x="124" y="391"/>
                  </a:lnTo>
                  <a:lnTo>
                    <a:pt x="123" y="392"/>
                  </a:lnTo>
                  <a:lnTo>
                    <a:pt x="123" y="394"/>
                  </a:lnTo>
                  <a:lnTo>
                    <a:pt x="123" y="395"/>
                  </a:lnTo>
                  <a:lnTo>
                    <a:pt x="124" y="395"/>
                  </a:lnTo>
                  <a:lnTo>
                    <a:pt x="123" y="395"/>
                  </a:lnTo>
                  <a:lnTo>
                    <a:pt x="121" y="400"/>
                  </a:lnTo>
                  <a:lnTo>
                    <a:pt x="118" y="406"/>
                  </a:lnTo>
                  <a:lnTo>
                    <a:pt x="117" y="413"/>
                  </a:lnTo>
                  <a:lnTo>
                    <a:pt x="115" y="421"/>
                  </a:lnTo>
                  <a:lnTo>
                    <a:pt x="115" y="424"/>
                  </a:lnTo>
                  <a:lnTo>
                    <a:pt x="114" y="428"/>
                  </a:lnTo>
                  <a:lnTo>
                    <a:pt x="114" y="431"/>
                  </a:lnTo>
                  <a:lnTo>
                    <a:pt x="115" y="435"/>
                  </a:lnTo>
                  <a:lnTo>
                    <a:pt x="115" y="437"/>
                  </a:lnTo>
                  <a:lnTo>
                    <a:pt x="115" y="438"/>
                  </a:lnTo>
                  <a:lnTo>
                    <a:pt x="116" y="440"/>
                  </a:lnTo>
                  <a:lnTo>
                    <a:pt x="116" y="441"/>
                  </a:lnTo>
                  <a:lnTo>
                    <a:pt x="117" y="442"/>
                  </a:lnTo>
                  <a:lnTo>
                    <a:pt x="118" y="443"/>
                  </a:lnTo>
                  <a:lnTo>
                    <a:pt x="120" y="444"/>
                  </a:lnTo>
                  <a:lnTo>
                    <a:pt x="121" y="445"/>
                  </a:lnTo>
                  <a:lnTo>
                    <a:pt x="126" y="446"/>
                  </a:lnTo>
                  <a:lnTo>
                    <a:pt x="133" y="449"/>
                  </a:lnTo>
                  <a:lnTo>
                    <a:pt x="136" y="449"/>
                  </a:lnTo>
                  <a:lnTo>
                    <a:pt x="140" y="450"/>
                  </a:lnTo>
                  <a:lnTo>
                    <a:pt x="143" y="451"/>
                  </a:lnTo>
                  <a:lnTo>
                    <a:pt x="147" y="453"/>
                  </a:lnTo>
                  <a:lnTo>
                    <a:pt x="151" y="454"/>
                  </a:lnTo>
                  <a:lnTo>
                    <a:pt x="154" y="456"/>
                  </a:lnTo>
                  <a:lnTo>
                    <a:pt x="156" y="458"/>
                  </a:lnTo>
                  <a:lnTo>
                    <a:pt x="159" y="460"/>
                  </a:lnTo>
                  <a:lnTo>
                    <a:pt x="161" y="462"/>
                  </a:lnTo>
                  <a:lnTo>
                    <a:pt x="162" y="463"/>
                  </a:lnTo>
                  <a:lnTo>
                    <a:pt x="162" y="464"/>
                  </a:lnTo>
                  <a:lnTo>
                    <a:pt x="163" y="466"/>
                  </a:lnTo>
                  <a:lnTo>
                    <a:pt x="164" y="467"/>
                  </a:lnTo>
                  <a:lnTo>
                    <a:pt x="164" y="469"/>
                  </a:lnTo>
                  <a:lnTo>
                    <a:pt x="164" y="470"/>
                  </a:lnTo>
                  <a:lnTo>
                    <a:pt x="165" y="472"/>
                  </a:lnTo>
                  <a:lnTo>
                    <a:pt x="158" y="474"/>
                  </a:lnTo>
                  <a:lnTo>
                    <a:pt x="150" y="477"/>
                  </a:lnTo>
                  <a:lnTo>
                    <a:pt x="141" y="479"/>
                  </a:lnTo>
                  <a:lnTo>
                    <a:pt x="131" y="481"/>
                  </a:lnTo>
                  <a:lnTo>
                    <a:pt x="127" y="481"/>
                  </a:lnTo>
                  <a:lnTo>
                    <a:pt x="123" y="482"/>
                  </a:lnTo>
                  <a:lnTo>
                    <a:pt x="118" y="482"/>
                  </a:lnTo>
                  <a:lnTo>
                    <a:pt x="114" y="482"/>
                  </a:lnTo>
                  <a:lnTo>
                    <a:pt x="111" y="482"/>
                  </a:lnTo>
                  <a:lnTo>
                    <a:pt x="108" y="481"/>
                  </a:lnTo>
                  <a:lnTo>
                    <a:pt x="106" y="480"/>
                  </a:lnTo>
                  <a:lnTo>
                    <a:pt x="104" y="480"/>
                  </a:lnTo>
                  <a:lnTo>
                    <a:pt x="103" y="479"/>
                  </a:lnTo>
                  <a:lnTo>
                    <a:pt x="102" y="479"/>
                  </a:lnTo>
                  <a:lnTo>
                    <a:pt x="99" y="477"/>
                  </a:lnTo>
                  <a:lnTo>
                    <a:pt x="97" y="474"/>
                  </a:lnTo>
                  <a:lnTo>
                    <a:pt x="94" y="472"/>
                  </a:lnTo>
                  <a:lnTo>
                    <a:pt x="90" y="470"/>
                  </a:lnTo>
                  <a:lnTo>
                    <a:pt x="88" y="468"/>
                  </a:lnTo>
                  <a:lnTo>
                    <a:pt x="85" y="467"/>
                  </a:lnTo>
                  <a:lnTo>
                    <a:pt x="84" y="466"/>
                  </a:lnTo>
                  <a:lnTo>
                    <a:pt x="82" y="466"/>
                  </a:lnTo>
                  <a:lnTo>
                    <a:pt x="81" y="466"/>
                  </a:lnTo>
                  <a:lnTo>
                    <a:pt x="80" y="466"/>
                  </a:lnTo>
                  <a:lnTo>
                    <a:pt x="79" y="466"/>
                  </a:lnTo>
                  <a:lnTo>
                    <a:pt x="80" y="466"/>
                  </a:lnTo>
                  <a:lnTo>
                    <a:pt x="80" y="467"/>
                  </a:lnTo>
                  <a:lnTo>
                    <a:pt x="81" y="467"/>
                  </a:lnTo>
                  <a:lnTo>
                    <a:pt x="81" y="468"/>
                  </a:lnTo>
                  <a:lnTo>
                    <a:pt x="77" y="469"/>
                  </a:lnTo>
                  <a:lnTo>
                    <a:pt x="75" y="470"/>
                  </a:lnTo>
                  <a:lnTo>
                    <a:pt x="72" y="471"/>
                  </a:lnTo>
                  <a:lnTo>
                    <a:pt x="69" y="472"/>
                  </a:lnTo>
                  <a:lnTo>
                    <a:pt x="66" y="474"/>
                  </a:lnTo>
                  <a:lnTo>
                    <a:pt x="62" y="475"/>
                  </a:lnTo>
                  <a:lnTo>
                    <a:pt x="60" y="478"/>
                  </a:lnTo>
                  <a:lnTo>
                    <a:pt x="57" y="479"/>
                  </a:lnTo>
                  <a:lnTo>
                    <a:pt x="55" y="481"/>
                  </a:lnTo>
                  <a:lnTo>
                    <a:pt x="52" y="483"/>
                  </a:lnTo>
                  <a:lnTo>
                    <a:pt x="49" y="485"/>
                  </a:lnTo>
                  <a:lnTo>
                    <a:pt x="47" y="487"/>
                  </a:lnTo>
                  <a:lnTo>
                    <a:pt x="45" y="489"/>
                  </a:lnTo>
                  <a:lnTo>
                    <a:pt x="43" y="492"/>
                  </a:lnTo>
                  <a:lnTo>
                    <a:pt x="41" y="495"/>
                  </a:lnTo>
                  <a:lnTo>
                    <a:pt x="39" y="497"/>
                  </a:lnTo>
                  <a:lnTo>
                    <a:pt x="38" y="497"/>
                  </a:lnTo>
                  <a:lnTo>
                    <a:pt x="36" y="497"/>
                  </a:lnTo>
                  <a:lnTo>
                    <a:pt x="35" y="497"/>
                  </a:lnTo>
                  <a:lnTo>
                    <a:pt x="34" y="497"/>
                  </a:lnTo>
                  <a:lnTo>
                    <a:pt x="33" y="497"/>
                  </a:lnTo>
                  <a:close/>
                  <a:moveTo>
                    <a:pt x="299" y="184"/>
                  </a:moveTo>
                  <a:lnTo>
                    <a:pt x="298" y="182"/>
                  </a:lnTo>
                  <a:lnTo>
                    <a:pt x="297" y="181"/>
                  </a:lnTo>
                  <a:lnTo>
                    <a:pt x="294" y="180"/>
                  </a:lnTo>
                  <a:lnTo>
                    <a:pt x="293" y="179"/>
                  </a:lnTo>
                  <a:lnTo>
                    <a:pt x="293" y="177"/>
                  </a:lnTo>
                  <a:lnTo>
                    <a:pt x="292" y="176"/>
                  </a:lnTo>
                  <a:lnTo>
                    <a:pt x="291" y="175"/>
                  </a:lnTo>
                  <a:lnTo>
                    <a:pt x="290" y="174"/>
                  </a:lnTo>
                  <a:lnTo>
                    <a:pt x="285" y="173"/>
                  </a:lnTo>
                  <a:lnTo>
                    <a:pt x="281" y="173"/>
                  </a:lnTo>
                  <a:lnTo>
                    <a:pt x="280" y="172"/>
                  </a:lnTo>
                  <a:lnTo>
                    <a:pt x="279" y="172"/>
                  </a:lnTo>
                  <a:lnTo>
                    <a:pt x="278" y="172"/>
                  </a:lnTo>
                  <a:lnTo>
                    <a:pt x="277" y="171"/>
                  </a:lnTo>
                  <a:lnTo>
                    <a:pt x="276" y="170"/>
                  </a:lnTo>
                  <a:lnTo>
                    <a:pt x="275" y="169"/>
                  </a:lnTo>
                  <a:lnTo>
                    <a:pt x="274" y="166"/>
                  </a:lnTo>
                  <a:lnTo>
                    <a:pt x="272" y="163"/>
                  </a:lnTo>
                  <a:lnTo>
                    <a:pt x="270" y="162"/>
                  </a:lnTo>
                  <a:lnTo>
                    <a:pt x="268" y="162"/>
                  </a:lnTo>
                  <a:lnTo>
                    <a:pt x="266" y="161"/>
                  </a:lnTo>
                  <a:lnTo>
                    <a:pt x="265" y="161"/>
                  </a:lnTo>
                  <a:lnTo>
                    <a:pt x="264" y="161"/>
                  </a:lnTo>
                  <a:lnTo>
                    <a:pt x="262" y="161"/>
                  </a:lnTo>
                  <a:lnTo>
                    <a:pt x="261" y="161"/>
                  </a:lnTo>
                  <a:lnTo>
                    <a:pt x="260" y="161"/>
                  </a:lnTo>
                  <a:lnTo>
                    <a:pt x="260" y="159"/>
                  </a:lnTo>
                  <a:lnTo>
                    <a:pt x="261" y="158"/>
                  </a:lnTo>
                  <a:lnTo>
                    <a:pt x="262" y="156"/>
                  </a:lnTo>
                  <a:lnTo>
                    <a:pt x="263" y="156"/>
                  </a:lnTo>
                  <a:lnTo>
                    <a:pt x="264" y="155"/>
                  </a:lnTo>
                  <a:lnTo>
                    <a:pt x="266" y="155"/>
                  </a:lnTo>
                  <a:lnTo>
                    <a:pt x="267" y="153"/>
                  </a:lnTo>
                  <a:lnTo>
                    <a:pt x="270" y="153"/>
                  </a:lnTo>
                  <a:lnTo>
                    <a:pt x="271" y="151"/>
                  </a:lnTo>
                  <a:lnTo>
                    <a:pt x="273" y="149"/>
                  </a:lnTo>
                  <a:lnTo>
                    <a:pt x="274" y="148"/>
                  </a:lnTo>
                  <a:lnTo>
                    <a:pt x="275" y="147"/>
                  </a:lnTo>
                  <a:lnTo>
                    <a:pt x="277" y="146"/>
                  </a:lnTo>
                  <a:lnTo>
                    <a:pt x="278" y="145"/>
                  </a:lnTo>
                  <a:lnTo>
                    <a:pt x="280" y="144"/>
                  </a:lnTo>
                  <a:lnTo>
                    <a:pt x="281" y="143"/>
                  </a:lnTo>
                  <a:lnTo>
                    <a:pt x="281" y="141"/>
                  </a:lnTo>
                  <a:lnTo>
                    <a:pt x="281" y="138"/>
                  </a:lnTo>
                  <a:lnTo>
                    <a:pt x="281" y="136"/>
                  </a:lnTo>
                  <a:lnTo>
                    <a:pt x="281" y="135"/>
                  </a:lnTo>
                  <a:lnTo>
                    <a:pt x="281" y="134"/>
                  </a:lnTo>
                  <a:lnTo>
                    <a:pt x="280" y="133"/>
                  </a:lnTo>
                  <a:lnTo>
                    <a:pt x="280" y="132"/>
                  </a:lnTo>
                  <a:lnTo>
                    <a:pt x="279" y="132"/>
                  </a:lnTo>
                  <a:lnTo>
                    <a:pt x="278" y="130"/>
                  </a:lnTo>
                  <a:lnTo>
                    <a:pt x="277" y="129"/>
                  </a:lnTo>
                  <a:lnTo>
                    <a:pt x="276" y="128"/>
                  </a:lnTo>
                  <a:lnTo>
                    <a:pt x="276" y="127"/>
                  </a:lnTo>
                  <a:lnTo>
                    <a:pt x="275" y="126"/>
                  </a:lnTo>
                  <a:lnTo>
                    <a:pt x="280" y="126"/>
                  </a:lnTo>
                  <a:lnTo>
                    <a:pt x="284" y="126"/>
                  </a:lnTo>
                  <a:lnTo>
                    <a:pt x="287" y="125"/>
                  </a:lnTo>
                  <a:lnTo>
                    <a:pt x="290" y="125"/>
                  </a:lnTo>
                  <a:lnTo>
                    <a:pt x="292" y="125"/>
                  </a:lnTo>
                  <a:lnTo>
                    <a:pt x="294" y="125"/>
                  </a:lnTo>
                  <a:lnTo>
                    <a:pt x="297" y="123"/>
                  </a:lnTo>
                  <a:lnTo>
                    <a:pt x="299" y="123"/>
                  </a:lnTo>
                  <a:lnTo>
                    <a:pt x="300" y="123"/>
                  </a:lnTo>
                  <a:lnTo>
                    <a:pt x="301" y="122"/>
                  </a:lnTo>
                  <a:lnTo>
                    <a:pt x="302" y="122"/>
                  </a:lnTo>
                  <a:lnTo>
                    <a:pt x="302" y="121"/>
                  </a:lnTo>
                  <a:lnTo>
                    <a:pt x="303" y="121"/>
                  </a:lnTo>
                  <a:lnTo>
                    <a:pt x="304" y="120"/>
                  </a:lnTo>
                  <a:lnTo>
                    <a:pt x="305" y="120"/>
                  </a:lnTo>
                  <a:lnTo>
                    <a:pt x="306" y="120"/>
                  </a:lnTo>
                  <a:lnTo>
                    <a:pt x="307" y="125"/>
                  </a:lnTo>
                  <a:lnTo>
                    <a:pt x="308" y="129"/>
                  </a:lnTo>
                  <a:lnTo>
                    <a:pt x="309" y="132"/>
                  </a:lnTo>
                  <a:lnTo>
                    <a:pt x="311" y="136"/>
                  </a:lnTo>
                  <a:lnTo>
                    <a:pt x="312" y="140"/>
                  </a:lnTo>
                  <a:lnTo>
                    <a:pt x="314" y="144"/>
                  </a:lnTo>
                  <a:lnTo>
                    <a:pt x="315" y="145"/>
                  </a:lnTo>
                  <a:lnTo>
                    <a:pt x="317" y="147"/>
                  </a:lnTo>
                  <a:lnTo>
                    <a:pt x="318" y="149"/>
                  </a:lnTo>
                  <a:lnTo>
                    <a:pt x="319" y="150"/>
                  </a:lnTo>
                  <a:lnTo>
                    <a:pt x="320" y="152"/>
                  </a:lnTo>
                  <a:lnTo>
                    <a:pt x="320" y="156"/>
                  </a:lnTo>
                  <a:lnTo>
                    <a:pt x="320" y="158"/>
                  </a:lnTo>
                  <a:lnTo>
                    <a:pt x="320" y="160"/>
                  </a:lnTo>
                  <a:lnTo>
                    <a:pt x="320" y="161"/>
                  </a:lnTo>
                  <a:lnTo>
                    <a:pt x="320" y="162"/>
                  </a:lnTo>
                  <a:lnTo>
                    <a:pt x="319" y="163"/>
                  </a:lnTo>
                  <a:lnTo>
                    <a:pt x="319" y="164"/>
                  </a:lnTo>
                  <a:lnTo>
                    <a:pt x="318" y="164"/>
                  </a:lnTo>
                  <a:lnTo>
                    <a:pt x="317" y="165"/>
                  </a:lnTo>
                  <a:lnTo>
                    <a:pt x="316" y="165"/>
                  </a:lnTo>
                  <a:lnTo>
                    <a:pt x="315" y="165"/>
                  </a:lnTo>
                  <a:lnTo>
                    <a:pt x="314" y="166"/>
                  </a:lnTo>
                  <a:lnTo>
                    <a:pt x="313" y="167"/>
                  </a:lnTo>
                  <a:lnTo>
                    <a:pt x="312" y="169"/>
                  </a:lnTo>
                  <a:lnTo>
                    <a:pt x="311" y="170"/>
                  </a:lnTo>
                  <a:lnTo>
                    <a:pt x="309" y="171"/>
                  </a:lnTo>
                  <a:lnTo>
                    <a:pt x="308" y="172"/>
                  </a:lnTo>
                  <a:lnTo>
                    <a:pt x="307" y="172"/>
                  </a:lnTo>
                  <a:lnTo>
                    <a:pt x="306" y="173"/>
                  </a:lnTo>
                  <a:lnTo>
                    <a:pt x="304" y="176"/>
                  </a:lnTo>
                  <a:lnTo>
                    <a:pt x="303" y="178"/>
                  </a:lnTo>
                  <a:lnTo>
                    <a:pt x="302" y="180"/>
                  </a:lnTo>
                  <a:lnTo>
                    <a:pt x="301" y="181"/>
                  </a:lnTo>
                  <a:lnTo>
                    <a:pt x="300" y="182"/>
                  </a:lnTo>
                  <a:lnTo>
                    <a:pt x="300" y="184"/>
                  </a:lnTo>
                  <a:lnTo>
                    <a:pt x="299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95800" y="6356160"/>
              <a:ext cx="101520" cy="6516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28" y="41"/>
                  </a:moveTo>
                  <a:lnTo>
                    <a:pt x="26" y="40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7" y="4"/>
                  </a:lnTo>
                  <a:lnTo>
                    <a:pt x="57" y="5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3" y="13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1" y="17"/>
                  </a:lnTo>
                  <a:lnTo>
                    <a:pt x="57" y="19"/>
                  </a:lnTo>
                  <a:lnTo>
                    <a:pt x="54" y="21"/>
                  </a:lnTo>
                  <a:lnTo>
                    <a:pt x="51" y="23"/>
                  </a:lnTo>
                  <a:lnTo>
                    <a:pt x="47" y="26"/>
                  </a:lnTo>
                  <a:lnTo>
                    <a:pt x="43" y="28"/>
                  </a:lnTo>
                  <a:lnTo>
                    <a:pt x="40" y="30"/>
                  </a:lnTo>
                  <a:lnTo>
                    <a:pt x="37" y="32"/>
                  </a:lnTo>
                  <a:lnTo>
                    <a:pt x="37" y="34"/>
                  </a:lnTo>
                  <a:lnTo>
                    <a:pt x="36" y="35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8" y="4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275320" y="5983200"/>
              <a:ext cx="502920" cy="430200"/>
            </a:xfrm>
            <a:custGeom>
              <a:avLst/>
              <a:gdLst/>
              <a:ahLst/>
              <a:rect l="l" t="t" r="r" b="b"/>
              <a:pathLst>
                <a:path w="317" h="271">
                  <a:moveTo>
                    <a:pt x="56" y="270"/>
                  </a:moveTo>
                  <a:lnTo>
                    <a:pt x="51" y="271"/>
                  </a:lnTo>
                  <a:lnTo>
                    <a:pt x="44" y="271"/>
                  </a:lnTo>
                  <a:lnTo>
                    <a:pt x="36" y="271"/>
                  </a:lnTo>
                  <a:lnTo>
                    <a:pt x="28" y="271"/>
                  </a:lnTo>
                  <a:lnTo>
                    <a:pt x="20" y="271"/>
                  </a:lnTo>
                  <a:lnTo>
                    <a:pt x="12" y="270"/>
                  </a:lnTo>
                  <a:lnTo>
                    <a:pt x="8" y="270"/>
                  </a:lnTo>
                  <a:lnTo>
                    <a:pt x="6" y="269"/>
                  </a:lnTo>
                  <a:lnTo>
                    <a:pt x="2" y="269"/>
                  </a:lnTo>
                  <a:lnTo>
                    <a:pt x="0" y="268"/>
                  </a:lnTo>
                  <a:lnTo>
                    <a:pt x="2" y="239"/>
                  </a:lnTo>
                  <a:lnTo>
                    <a:pt x="6" y="210"/>
                  </a:lnTo>
                  <a:lnTo>
                    <a:pt x="8" y="181"/>
                  </a:lnTo>
                  <a:lnTo>
                    <a:pt x="11" y="152"/>
                  </a:lnTo>
                  <a:lnTo>
                    <a:pt x="13" y="124"/>
                  </a:lnTo>
                  <a:lnTo>
                    <a:pt x="15" y="95"/>
                  </a:lnTo>
                  <a:lnTo>
                    <a:pt x="16" y="81"/>
                  </a:lnTo>
                  <a:lnTo>
                    <a:pt x="18" y="66"/>
                  </a:lnTo>
                  <a:lnTo>
                    <a:pt x="18" y="52"/>
                  </a:lnTo>
                  <a:lnTo>
                    <a:pt x="19" y="38"/>
                  </a:lnTo>
                  <a:lnTo>
                    <a:pt x="25" y="38"/>
                  </a:lnTo>
                  <a:lnTo>
                    <a:pt x="32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39" y="40"/>
                  </a:lnTo>
                  <a:lnTo>
                    <a:pt x="42" y="40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0" y="37"/>
                  </a:lnTo>
                  <a:lnTo>
                    <a:pt x="52" y="36"/>
                  </a:lnTo>
                  <a:lnTo>
                    <a:pt x="55" y="35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7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4" y="6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101" y="1"/>
                  </a:lnTo>
                  <a:lnTo>
                    <a:pt x="132" y="2"/>
                  </a:lnTo>
                  <a:lnTo>
                    <a:pt x="162" y="2"/>
                  </a:lnTo>
                  <a:lnTo>
                    <a:pt x="193" y="3"/>
                  </a:lnTo>
                  <a:lnTo>
                    <a:pt x="225" y="3"/>
                  </a:lnTo>
                  <a:lnTo>
                    <a:pt x="255" y="3"/>
                  </a:lnTo>
                  <a:lnTo>
                    <a:pt x="271" y="3"/>
                  </a:lnTo>
                  <a:lnTo>
                    <a:pt x="286" y="2"/>
                  </a:lnTo>
                  <a:lnTo>
                    <a:pt x="302" y="2"/>
                  </a:lnTo>
                  <a:lnTo>
                    <a:pt x="317" y="2"/>
                  </a:lnTo>
                  <a:lnTo>
                    <a:pt x="317" y="3"/>
                  </a:lnTo>
                  <a:lnTo>
                    <a:pt x="317" y="5"/>
                  </a:lnTo>
                  <a:lnTo>
                    <a:pt x="317" y="7"/>
                  </a:lnTo>
                  <a:lnTo>
                    <a:pt x="316" y="9"/>
                  </a:lnTo>
                  <a:lnTo>
                    <a:pt x="316" y="12"/>
                  </a:lnTo>
                  <a:lnTo>
                    <a:pt x="315" y="14"/>
                  </a:lnTo>
                  <a:lnTo>
                    <a:pt x="315" y="16"/>
                  </a:lnTo>
                  <a:lnTo>
                    <a:pt x="314" y="18"/>
                  </a:lnTo>
                  <a:lnTo>
                    <a:pt x="310" y="49"/>
                  </a:lnTo>
                  <a:lnTo>
                    <a:pt x="306" y="80"/>
                  </a:lnTo>
                  <a:lnTo>
                    <a:pt x="305" y="95"/>
                  </a:lnTo>
                  <a:lnTo>
                    <a:pt x="302" y="110"/>
                  </a:lnTo>
                  <a:lnTo>
                    <a:pt x="301" y="126"/>
                  </a:lnTo>
                  <a:lnTo>
                    <a:pt x="299" y="141"/>
                  </a:lnTo>
                  <a:lnTo>
                    <a:pt x="298" y="158"/>
                  </a:lnTo>
                  <a:lnTo>
                    <a:pt x="297" y="173"/>
                  </a:lnTo>
                  <a:lnTo>
                    <a:pt x="296" y="189"/>
                  </a:lnTo>
                  <a:lnTo>
                    <a:pt x="295" y="204"/>
                  </a:lnTo>
                  <a:lnTo>
                    <a:pt x="295" y="220"/>
                  </a:lnTo>
                  <a:lnTo>
                    <a:pt x="294" y="235"/>
                  </a:lnTo>
                  <a:lnTo>
                    <a:pt x="294" y="251"/>
                  </a:lnTo>
                  <a:lnTo>
                    <a:pt x="294" y="266"/>
                  </a:lnTo>
                  <a:lnTo>
                    <a:pt x="292" y="267"/>
                  </a:lnTo>
                  <a:lnTo>
                    <a:pt x="288" y="268"/>
                  </a:lnTo>
                  <a:lnTo>
                    <a:pt x="286" y="268"/>
                  </a:lnTo>
                  <a:lnTo>
                    <a:pt x="283" y="268"/>
                  </a:lnTo>
                  <a:lnTo>
                    <a:pt x="276" y="269"/>
                  </a:lnTo>
                  <a:lnTo>
                    <a:pt x="269" y="269"/>
                  </a:lnTo>
                  <a:lnTo>
                    <a:pt x="261" y="269"/>
                  </a:lnTo>
                  <a:lnTo>
                    <a:pt x="254" y="269"/>
                  </a:lnTo>
                  <a:lnTo>
                    <a:pt x="248" y="268"/>
                  </a:lnTo>
                  <a:lnTo>
                    <a:pt x="243" y="268"/>
                  </a:lnTo>
                  <a:lnTo>
                    <a:pt x="232" y="269"/>
                  </a:lnTo>
                  <a:lnTo>
                    <a:pt x="223" y="270"/>
                  </a:lnTo>
                  <a:lnTo>
                    <a:pt x="212" y="270"/>
                  </a:lnTo>
                  <a:lnTo>
                    <a:pt x="201" y="270"/>
                  </a:lnTo>
                  <a:lnTo>
                    <a:pt x="180" y="270"/>
                  </a:lnTo>
                  <a:lnTo>
                    <a:pt x="159" y="270"/>
                  </a:lnTo>
                  <a:lnTo>
                    <a:pt x="138" y="270"/>
                  </a:lnTo>
                  <a:lnTo>
                    <a:pt x="117" y="269"/>
                  </a:lnTo>
                  <a:lnTo>
                    <a:pt x="107" y="269"/>
                  </a:lnTo>
                  <a:lnTo>
                    <a:pt x="96" y="270"/>
                  </a:lnTo>
                  <a:lnTo>
                    <a:pt x="85" y="270"/>
                  </a:lnTo>
                  <a:lnTo>
                    <a:pt x="76" y="270"/>
                  </a:lnTo>
                  <a:lnTo>
                    <a:pt x="74" y="270"/>
                  </a:lnTo>
                  <a:lnTo>
                    <a:pt x="70" y="270"/>
                  </a:lnTo>
                  <a:lnTo>
                    <a:pt x="68" y="270"/>
                  </a:lnTo>
                  <a:lnTo>
                    <a:pt x="66" y="270"/>
                  </a:lnTo>
                  <a:lnTo>
                    <a:pt x="64" y="270"/>
                  </a:lnTo>
                  <a:lnTo>
                    <a:pt x="61" y="270"/>
                  </a:lnTo>
                  <a:lnTo>
                    <a:pt x="59" y="27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d6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938720" y="634680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14" y="32"/>
                  </a:moveTo>
                  <a:lnTo>
                    <a:pt x="13" y="32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40" y="8"/>
                  </a:lnTo>
                  <a:lnTo>
                    <a:pt x="46" y="10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3" y="18"/>
                  </a:lnTo>
                  <a:lnTo>
                    <a:pt x="63" y="19"/>
                  </a:lnTo>
                  <a:lnTo>
                    <a:pt x="63" y="20"/>
                  </a:lnTo>
                  <a:lnTo>
                    <a:pt x="63" y="20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57" y="24"/>
                  </a:lnTo>
                  <a:lnTo>
                    <a:pt x="51" y="25"/>
                  </a:lnTo>
                  <a:lnTo>
                    <a:pt x="45" y="27"/>
                  </a:lnTo>
                  <a:lnTo>
                    <a:pt x="39" y="28"/>
                  </a:lnTo>
                  <a:lnTo>
                    <a:pt x="33" y="29"/>
                  </a:lnTo>
                  <a:lnTo>
                    <a:pt x="27" y="32"/>
                  </a:lnTo>
                  <a:lnTo>
                    <a:pt x="20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67440" y="6072120"/>
              <a:ext cx="178920" cy="304920"/>
            </a:xfrm>
            <a:custGeom>
              <a:avLst/>
              <a:gdLst/>
              <a:ahLst/>
              <a:rect l="l" t="t" r="r" b="b"/>
              <a:pathLst>
                <a:path w="113" h="192">
                  <a:moveTo>
                    <a:pt x="39" y="192"/>
                  </a:moveTo>
                  <a:lnTo>
                    <a:pt x="38" y="191"/>
                  </a:lnTo>
                  <a:lnTo>
                    <a:pt x="36" y="190"/>
                  </a:lnTo>
                  <a:lnTo>
                    <a:pt x="35" y="189"/>
                  </a:lnTo>
                  <a:lnTo>
                    <a:pt x="34" y="189"/>
                  </a:lnTo>
                  <a:lnTo>
                    <a:pt x="33" y="189"/>
                  </a:lnTo>
                  <a:lnTo>
                    <a:pt x="32" y="189"/>
                  </a:lnTo>
                  <a:lnTo>
                    <a:pt x="30" y="189"/>
                  </a:lnTo>
                  <a:lnTo>
                    <a:pt x="28" y="189"/>
                  </a:lnTo>
                  <a:lnTo>
                    <a:pt x="26" y="190"/>
                  </a:lnTo>
                  <a:lnTo>
                    <a:pt x="24" y="190"/>
                  </a:lnTo>
                  <a:lnTo>
                    <a:pt x="22" y="190"/>
                  </a:lnTo>
                  <a:lnTo>
                    <a:pt x="21" y="190"/>
                  </a:lnTo>
                  <a:lnTo>
                    <a:pt x="20" y="189"/>
                  </a:lnTo>
                  <a:lnTo>
                    <a:pt x="19" y="187"/>
                  </a:lnTo>
                  <a:lnTo>
                    <a:pt x="19" y="186"/>
                  </a:lnTo>
                  <a:lnTo>
                    <a:pt x="18" y="185"/>
                  </a:lnTo>
                  <a:lnTo>
                    <a:pt x="18" y="184"/>
                  </a:lnTo>
                  <a:lnTo>
                    <a:pt x="17" y="183"/>
                  </a:lnTo>
                  <a:lnTo>
                    <a:pt x="16" y="182"/>
                  </a:lnTo>
                  <a:lnTo>
                    <a:pt x="16" y="181"/>
                  </a:lnTo>
                  <a:lnTo>
                    <a:pt x="14" y="181"/>
                  </a:lnTo>
                  <a:lnTo>
                    <a:pt x="13" y="180"/>
                  </a:lnTo>
                  <a:lnTo>
                    <a:pt x="12" y="180"/>
                  </a:lnTo>
                  <a:lnTo>
                    <a:pt x="10" y="180"/>
                  </a:lnTo>
                  <a:lnTo>
                    <a:pt x="7" y="179"/>
                  </a:lnTo>
                  <a:lnTo>
                    <a:pt x="5" y="179"/>
                  </a:lnTo>
                  <a:lnTo>
                    <a:pt x="5" y="178"/>
                  </a:lnTo>
                  <a:lnTo>
                    <a:pt x="5" y="178"/>
                  </a:lnTo>
                  <a:lnTo>
                    <a:pt x="5" y="177"/>
                  </a:lnTo>
                  <a:lnTo>
                    <a:pt x="5" y="177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6" y="175"/>
                  </a:lnTo>
                  <a:lnTo>
                    <a:pt x="6" y="173"/>
                  </a:lnTo>
                  <a:lnTo>
                    <a:pt x="9" y="173"/>
                  </a:lnTo>
                  <a:lnTo>
                    <a:pt x="11" y="173"/>
                  </a:lnTo>
                  <a:lnTo>
                    <a:pt x="13" y="173"/>
                  </a:lnTo>
                  <a:lnTo>
                    <a:pt x="16" y="175"/>
                  </a:lnTo>
                  <a:lnTo>
                    <a:pt x="18" y="175"/>
                  </a:lnTo>
                  <a:lnTo>
                    <a:pt x="20" y="176"/>
                  </a:lnTo>
                  <a:lnTo>
                    <a:pt x="22" y="177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6" y="179"/>
                  </a:lnTo>
                  <a:lnTo>
                    <a:pt x="26" y="179"/>
                  </a:lnTo>
                  <a:lnTo>
                    <a:pt x="25" y="177"/>
                  </a:lnTo>
                  <a:lnTo>
                    <a:pt x="24" y="176"/>
                  </a:lnTo>
                  <a:lnTo>
                    <a:pt x="23" y="175"/>
                  </a:lnTo>
                  <a:lnTo>
                    <a:pt x="22" y="173"/>
                  </a:lnTo>
                  <a:lnTo>
                    <a:pt x="21" y="173"/>
                  </a:lnTo>
                  <a:lnTo>
                    <a:pt x="20" y="172"/>
                  </a:lnTo>
                  <a:lnTo>
                    <a:pt x="19" y="172"/>
                  </a:lnTo>
                  <a:lnTo>
                    <a:pt x="18" y="171"/>
                  </a:lnTo>
                  <a:lnTo>
                    <a:pt x="14" y="171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72"/>
                  </a:lnTo>
                  <a:lnTo>
                    <a:pt x="7" y="170"/>
                  </a:lnTo>
                  <a:lnTo>
                    <a:pt x="7" y="169"/>
                  </a:lnTo>
                  <a:lnTo>
                    <a:pt x="7" y="168"/>
                  </a:lnTo>
                  <a:lnTo>
                    <a:pt x="7" y="167"/>
                  </a:lnTo>
                  <a:lnTo>
                    <a:pt x="7" y="166"/>
                  </a:lnTo>
                  <a:lnTo>
                    <a:pt x="8" y="165"/>
                  </a:lnTo>
                  <a:lnTo>
                    <a:pt x="8" y="164"/>
                  </a:lnTo>
                  <a:lnTo>
                    <a:pt x="8" y="163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2" y="163"/>
                  </a:lnTo>
                  <a:lnTo>
                    <a:pt x="14" y="163"/>
                  </a:lnTo>
                  <a:lnTo>
                    <a:pt x="16" y="163"/>
                  </a:lnTo>
                  <a:lnTo>
                    <a:pt x="18" y="163"/>
                  </a:lnTo>
                  <a:lnTo>
                    <a:pt x="19" y="163"/>
                  </a:lnTo>
                  <a:lnTo>
                    <a:pt x="21" y="164"/>
                  </a:lnTo>
                  <a:lnTo>
                    <a:pt x="21" y="163"/>
                  </a:lnTo>
                  <a:lnTo>
                    <a:pt x="20" y="162"/>
                  </a:lnTo>
                  <a:lnTo>
                    <a:pt x="19" y="162"/>
                  </a:lnTo>
                  <a:lnTo>
                    <a:pt x="19" y="161"/>
                  </a:lnTo>
                  <a:lnTo>
                    <a:pt x="17" y="161"/>
                  </a:lnTo>
                  <a:lnTo>
                    <a:pt x="14" y="161"/>
                  </a:lnTo>
                  <a:lnTo>
                    <a:pt x="13" y="160"/>
                  </a:lnTo>
                  <a:lnTo>
                    <a:pt x="11" y="161"/>
                  </a:lnTo>
                  <a:lnTo>
                    <a:pt x="10" y="161"/>
                  </a:lnTo>
                  <a:lnTo>
                    <a:pt x="8" y="161"/>
                  </a:lnTo>
                  <a:lnTo>
                    <a:pt x="8" y="153"/>
                  </a:lnTo>
                  <a:lnTo>
                    <a:pt x="8" y="146"/>
                  </a:lnTo>
                  <a:lnTo>
                    <a:pt x="7" y="138"/>
                  </a:lnTo>
                  <a:lnTo>
                    <a:pt x="6" y="131"/>
                  </a:lnTo>
                  <a:lnTo>
                    <a:pt x="5" y="123"/>
                  </a:lnTo>
                  <a:lnTo>
                    <a:pt x="4" y="116"/>
                  </a:lnTo>
                  <a:lnTo>
                    <a:pt x="3" y="109"/>
                  </a:lnTo>
                  <a:lnTo>
                    <a:pt x="2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2" y="51"/>
                  </a:lnTo>
                  <a:lnTo>
                    <a:pt x="3" y="44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9" y="20"/>
                  </a:lnTo>
                  <a:lnTo>
                    <a:pt x="10" y="18"/>
                  </a:lnTo>
                  <a:lnTo>
                    <a:pt x="12" y="15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4" y="7"/>
                  </a:lnTo>
                  <a:lnTo>
                    <a:pt x="34" y="10"/>
                  </a:lnTo>
                  <a:lnTo>
                    <a:pt x="35" y="15"/>
                  </a:lnTo>
                  <a:lnTo>
                    <a:pt x="37" y="18"/>
                  </a:lnTo>
                  <a:lnTo>
                    <a:pt x="38" y="21"/>
                  </a:lnTo>
                  <a:lnTo>
                    <a:pt x="40" y="24"/>
                  </a:lnTo>
                  <a:lnTo>
                    <a:pt x="43" y="28"/>
                  </a:lnTo>
                  <a:lnTo>
                    <a:pt x="45" y="30"/>
                  </a:lnTo>
                  <a:lnTo>
                    <a:pt x="47" y="33"/>
                  </a:lnTo>
                  <a:lnTo>
                    <a:pt x="50" y="35"/>
                  </a:lnTo>
                  <a:lnTo>
                    <a:pt x="53" y="38"/>
                  </a:lnTo>
                  <a:lnTo>
                    <a:pt x="55" y="40"/>
                  </a:lnTo>
                  <a:lnTo>
                    <a:pt x="60" y="43"/>
                  </a:lnTo>
                  <a:lnTo>
                    <a:pt x="63" y="45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6" y="50"/>
                  </a:lnTo>
                  <a:lnTo>
                    <a:pt x="79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9" y="50"/>
                  </a:lnTo>
                  <a:lnTo>
                    <a:pt x="92" y="50"/>
                  </a:lnTo>
                  <a:lnTo>
                    <a:pt x="95" y="50"/>
                  </a:lnTo>
                  <a:lnTo>
                    <a:pt x="99" y="49"/>
                  </a:lnTo>
                  <a:lnTo>
                    <a:pt x="102" y="49"/>
                  </a:lnTo>
                  <a:lnTo>
                    <a:pt x="104" y="48"/>
                  </a:lnTo>
                  <a:lnTo>
                    <a:pt x="106" y="47"/>
                  </a:lnTo>
                  <a:lnTo>
                    <a:pt x="109" y="4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3" y="45"/>
                  </a:lnTo>
                  <a:lnTo>
                    <a:pt x="108" y="48"/>
                  </a:lnTo>
                  <a:lnTo>
                    <a:pt x="105" y="52"/>
                  </a:lnTo>
                  <a:lnTo>
                    <a:pt x="102" y="58"/>
                  </a:lnTo>
                  <a:lnTo>
                    <a:pt x="99" y="62"/>
                  </a:lnTo>
                  <a:lnTo>
                    <a:pt x="96" y="66"/>
                  </a:lnTo>
                  <a:lnTo>
                    <a:pt x="93" y="72"/>
                  </a:lnTo>
                  <a:lnTo>
                    <a:pt x="91" y="76"/>
                  </a:lnTo>
                  <a:lnTo>
                    <a:pt x="88" y="81"/>
                  </a:lnTo>
                  <a:lnTo>
                    <a:pt x="84" y="89"/>
                  </a:lnTo>
                  <a:lnTo>
                    <a:pt x="79" y="99"/>
                  </a:lnTo>
                  <a:lnTo>
                    <a:pt x="76" y="106"/>
                  </a:lnTo>
                  <a:lnTo>
                    <a:pt x="74" y="112"/>
                  </a:lnTo>
                  <a:lnTo>
                    <a:pt x="71" y="119"/>
                  </a:lnTo>
                  <a:lnTo>
                    <a:pt x="68" y="125"/>
                  </a:lnTo>
                  <a:lnTo>
                    <a:pt x="66" y="132"/>
                  </a:lnTo>
                  <a:lnTo>
                    <a:pt x="64" y="138"/>
                  </a:lnTo>
                  <a:lnTo>
                    <a:pt x="64" y="141"/>
                  </a:lnTo>
                  <a:lnTo>
                    <a:pt x="63" y="145"/>
                  </a:lnTo>
                  <a:lnTo>
                    <a:pt x="63" y="148"/>
                  </a:lnTo>
                  <a:lnTo>
                    <a:pt x="63" y="150"/>
                  </a:lnTo>
                  <a:lnTo>
                    <a:pt x="62" y="153"/>
                  </a:lnTo>
                  <a:lnTo>
                    <a:pt x="62" y="155"/>
                  </a:lnTo>
                  <a:lnTo>
                    <a:pt x="62" y="158"/>
                  </a:lnTo>
                  <a:lnTo>
                    <a:pt x="63" y="161"/>
                  </a:lnTo>
                  <a:lnTo>
                    <a:pt x="63" y="163"/>
                  </a:lnTo>
                  <a:lnTo>
                    <a:pt x="64" y="165"/>
                  </a:lnTo>
                  <a:lnTo>
                    <a:pt x="65" y="167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66" y="170"/>
                  </a:lnTo>
                  <a:lnTo>
                    <a:pt x="64" y="170"/>
                  </a:lnTo>
                  <a:lnTo>
                    <a:pt x="62" y="170"/>
                  </a:lnTo>
                  <a:lnTo>
                    <a:pt x="60" y="171"/>
                  </a:lnTo>
                  <a:lnTo>
                    <a:pt x="58" y="172"/>
                  </a:lnTo>
                  <a:lnTo>
                    <a:pt x="55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1" y="177"/>
                  </a:lnTo>
                  <a:lnTo>
                    <a:pt x="48" y="180"/>
                  </a:lnTo>
                  <a:lnTo>
                    <a:pt x="46" y="183"/>
                  </a:lnTo>
                  <a:lnTo>
                    <a:pt x="44" y="187"/>
                  </a:lnTo>
                  <a:lnTo>
                    <a:pt x="40" y="192"/>
                  </a:lnTo>
                  <a:lnTo>
                    <a:pt x="40" y="192"/>
                  </a:lnTo>
                  <a:lnTo>
                    <a:pt x="40" y="192"/>
                  </a:lnTo>
                  <a:lnTo>
                    <a:pt x="40" y="192"/>
                  </a:lnTo>
                  <a:lnTo>
                    <a:pt x="39" y="192"/>
                  </a:lnTo>
                  <a:lnTo>
                    <a:pt x="39" y="192"/>
                  </a:lnTo>
                  <a:lnTo>
                    <a:pt x="39" y="192"/>
                  </a:lnTo>
                  <a:lnTo>
                    <a:pt x="39" y="192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865640" y="634176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932600" y="6329160"/>
              <a:ext cx="2808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1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881480" y="633564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5" y="5"/>
                  </a:moveTo>
                  <a:lnTo>
                    <a:pt x="13" y="4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929360" y="6318000"/>
              <a:ext cx="2808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6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930800" y="631656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921440" y="6173640"/>
              <a:ext cx="47160" cy="14940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0" y="94"/>
                  </a:moveTo>
                  <a:lnTo>
                    <a:pt x="0" y="90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9" y="59"/>
                  </a:lnTo>
                  <a:lnTo>
                    <a:pt x="7" y="64"/>
                  </a:lnTo>
                  <a:lnTo>
                    <a:pt x="6" y="71"/>
                  </a:lnTo>
                  <a:lnTo>
                    <a:pt x="5" y="76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945200" y="621324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051400" y="6041880"/>
              <a:ext cx="136440" cy="11268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2" y="71"/>
                  </a:moveTo>
                  <a:lnTo>
                    <a:pt x="2" y="71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8"/>
                  </a:lnTo>
                  <a:lnTo>
                    <a:pt x="5" y="66"/>
                  </a:lnTo>
                  <a:lnTo>
                    <a:pt x="9" y="65"/>
                  </a:lnTo>
                  <a:lnTo>
                    <a:pt x="11" y="63"/>
                  </a:lnTo>
                  <a:lnTo>
                    <a:pt x="13" y="62"/>
                  </a:lnTo>
                  <a:lnTo>
                    <a:pt x="16" y="59"/>
                  </a:lnTo>
                  <a:lnTo>
                    <a:pt x="18" y="57"/>
                  </a:lnTo>
                  <a:lnTo>
                    <a:pt x="21" y="55"/>
                  </a:lnTo>
                  <a:lnTo>
                    <a:pt x="24" y="55"/>
                  </a:lnTo>
                  <a:lnTo>
                    <a:pt x="27" y="55"/>
                  </a:lnTo>
                  <a:lnTo>
                    <a:pt x="30" y="54"/>
                  </a:lnTo>
                  <a:lnTo>
                    <a:pt x="33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2" y="51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6" y="49"/>
                  </a:lnTo>
                  <a:lnTo>
                    <a:pt x="43" y="49"/>
                  </a:lnTo>
                  <a:lnTo>
                    <a:pt x="40" y="49"/>
                  </a:lnTo>
                  <a:lnTo>
                    <a:pt x="38" y="50"/>
                  </a:lnTo>
                  <a:lnTo>
                    <a:pt x="34" y="51"/>
                  </a:lnTo>
                  <a:lnTo>
                    <a:pt x="31" y="52"/>
                  </a:lnTo>
                  <a:lnTo>
                    <a:pt x="28" y="53"/>
                  </a:lnTo>
                  <a:lnTo>
                    <a:pt x="25" y="53"/>
                  </a:lnTo>
                  <a:lnTo>
                    <a:pt x="23" y="54"/>
                  </a:lnTo>
                  <a:lnTo>
                    <a:pt x="24" y="53"/>
                  </a:lnTo>
                  <a:lnTo>
                    <a:pt x="24" y="52"/>
                  </a:lnTo>
                  <a:lnTo>
                    <a:pt x="25" y="51"/>
                  </a:lnTo>
                  <a:lnTo>
                    <a:pt x="25" y="50"/>
                  </a:lnTo>
                  <a:lnTo>
                    <a:pt x="27" y="49"/>
                  </a:lnTo>
                  <a:lnTo>
                    <a:pt x="29" y="48"/>
                  </a:lnTo>
                  <a:lnTo>
                    <a:pt x="32" y="47"/>
                  </a:lnTo>
                  <a:lnTo>
                    <a:pt x="34" y="45"/>
                  </a:lnTo>
                  <a:lnTo>
                    <a:pt x="37" y="43"/>
                  </a:lnTo>
                  <a:lnTo>
                    <a:pt x="39" y="42"/>
                  </a:lnTo>
                  <a:lnTo>
                    <a:pt x="41" y="41"/>
                  </a:lnTo>
                  <a:lnTo>
                    <a:pt x="43" y="39"/>
                  </a:lnTo>
                  <a:lnTo>
                    <a:pt x="46" y="36"/>
                  </a:lnTo>
                  <a:lnTo>
                    <a:pt x="50" y="33"/>
                  </a:lnTo>
                  <a:lnTo>
                    <a:pt x="58" y="26"/>
                  </a:lnTo>
                  <a:lnTo>
                    <a:pt x="66" y="19"/>
                  </a:lnTo>
                  <a:lnTo>
                    <a:pt x="73" y="11"/>
                  </a:lnTo>
                  <a:lnTo>
                    <a:pt x="80" y="6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3" y="6"/>
                  </a:lnTo>
                  <a:lnTo>
                    <a:pt x="81" y="12"/>
                  </a:lnTo>
                  <a:lnTo>
                    <a:pt x="78" y="18"/>
                  </a:lnTo>
                  <a:lnTo>
                    <a:pt x="74" y="24"/>
                  </a:lnTo>
                  <a:lnTo>
                    <a:pt x="71" y="30"/>
                  </a:lnTo>
                  <a:lnTo>
                    <a:pt x="68" y="36"/>
                  </a:lnTo>
                  <a:lnTo>
                    <a:pt x="65" y="41"/>
                  </a:lnTo>
                  <a:lnTo>
                    <a:pt x="60" y="48"/>
                  </a:lnTo>
                  <a:lnTo>
                    <a:pt x="59" y="49"/>
                  </a:lnTo>
                  <a:lnTo>
                    <a:pt x="57" y="50"/>
                  </a:lnTo>
                  <a:lnTo>
                    <a:pt x="56" y="52"/>
                  </a:lnTo>
                  <a:lnTo>
                    <a:pt x="54" y="54"/>
                  </a:lnTo>
                  <a:lnTo>
                    <a:pt x="52" y="55"/>
                  </a:lnTo>
                  <a:lnTo>
                    <a:pt x="50" y="57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3" y="59"/>
                  </a:lnTo>
                  <a:lnTo>
                    <a:pt x="39" y="60"/>
                  </a:lnTo>
                  <a:lnTo>
                    <a:pt x="34" y="62"/>
                  </a:lnTo>
                  <a:lnTo>
                    <a:pt x="30" y="62"/>
                  </a:lnTo>
                  <a:lnTo>
                    <a:pt x="26" y="63"/>
                  </a:lnTo>
                  <a:lnTo>
                    <a:pt x="23" y="63"/>
                  </a:lnTo>
                  <a:lnTo>
                    <a:pt x="18" y="63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7" y="65"/>
                  </a:lnTo>
                  <a:lnTo>
                    <a:pt x="21" y="64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2" y="63"/>
                  </a:lnTo>
                  <a:lnTo>
                    <a:pt x="40" y="65"/>
                  </a:lnTo>
                  <a:lnTo>
                    <a:pt x="38" y="66"/>
                  </a:lnTo>
                  <a:lnTo>
                    <a:pt x="35" y="67"/>
                  </a:lnTo>
                  <a:lnTo>
                    <a:pt x="33" y="67"/>
                  </a:lnTo>
                  <a:lnTo>
                    <a:pt x="31" y="68"/>
                  </a:lnTo>
                  <a:lnTo>
                    <a:pt x="30" y="68"/>
                  </a:lnTo>
                  <a:lnTo>
                    <a:pt x="28" y="69"/>
                  </a:lnTo>
                  <a:lnTo>
                    <a:pt x="24" y="69"/>
                  </a:lnTo>
                  <a:lnTo>
                    <a:pt x="20" y="69"/>
                  </a:lnTo>
                  <a:lnTo>
                    <a:pt x="16" y="69"/>
                  </a:lnTo>
                  <a:lnTo>
                    <a:pt x="12" y="69"/>
                  </a:lnTo>
                  <a:lnTo>
                    <a:pt x="11" y="70"/>
                  </a:lnTo>
                  <a:lnTo>
                    <a:pt x="10" y="70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5" y="70"/>
                  </a:lnTo>
                  <a:lnTo>
                    <a:pt x="4" y="71"/>
                  </a:lnTo>
                  <a:lnTo>
                    <a:pt x="3" y="71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049960" y="6135480"/>
              <a:ext cx="1224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5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924680" y="5949720"/>
              <a:ext cx="225000" cy="19548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42" y="123"/>
                  </a:moveTo>
                  <a:lnTo>
                    <a:pt x="38" y="122"/>
                  </a:lnTo>
                  <a:lnTo>
                    <a:pt x="35" y="120"/>
                  </a:lnTo>
                  <a:lnTo>
                    <a:pt x="30" y="118"/>
                  </a:lnTo>
                  <a:lnTo>
                    <a:pt x="27" y="116"/>
                  </a:lnTo>
                  <a:lnTo>
                    <a:pt x="24" y="113"/>
                  </a:lnTo>
                  <a:lnTo>
                    <a:pt x="19" y="111"/>
                  </a:lnTo>
                  <a:lnTo>
                    <a:pt x="16" y="108"/>
                  </a:lnTo>
                  <a:lnTo>
                    <a:pt x="13" y="105"/>
                  </a:lnTo>
                  <a:lnTo>
                    <a:pt x="11" y="100"/>
                  </a:lnTo>
                  <a:lnTo>
                    <a:pt x="8" y="97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5"/>
                  </a:lnTo>
                  <a:lnTo>
                    <a:pt x="1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2" y="73"/>
                  </a:lnTo>
                  <a:lnTo>
                    <a:pt x="9" y="70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29" y="63"/>
                  </a:lnTo>
                  <a:lnTo>
                    <a:pt x="36" y="61"/>
                  </a:lnTo>
                  <a:lnTo>
                    <a:pt x="42" y="57"/>
                  </a:lnTo>
                  <a:lnTo>
                    <a:pt x="48" y="54"/>
                  </a:lnTo>
                  <a:lnTo>
                    <a:pt x="53" y="50"/>
                  </a:lnTo>
                  <a:lnTo>
                    <a:pt x="56" y="48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8" y="37"/>
                  </a:lnTo>
                  <a:lnTo>
                    <a:pt x="70" y="35"/>
                  </a:lnTo>
                  <a:lnTo>
                    <a:pt x="72" y="32"/>
                  </a:lnTo>
                  <a:lnTo>
                    <a:pt x="74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81" y="17"/>
                  </a:lnTo>
                  <a:lnTo>
                    <a:pt x="82" y="12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8" y="7"/>
                  </a:lnTo>
                  <a:lnTo>
                    <a:pt x="99" y="7"/>
                  </a:lnTo>
                  <a:lnTo>
                    <a:pt x="101" y="6"/>
                  </a:lnTo>
                  <a:lnTo>
                    <a:pt x="104" y="4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09" y="4"/>
                  </a:lnTo>
                  <a:lnTo>
                    <a:pt x="110" y="4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3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9" y="3"/>
                  </a:lnTo>
                  <a:lnTo>
                    <a:pt x="120" y="3"/>
                  </a:lnTo>
                  <a:lnTo>
                    <a:pt x="121" y="5"/>
                  </a:lnTo>
                  <a:lnTo>
                    <a:pt x="121" y="7"/>
                  </a:lnTo>
                  <a:lnTo>
                    <a:pt x="122" y="9"/>
                  </a:lnTo>
                  <a:lnTo>
                    <a:pt x="122" y="10"/>
                  </a:lnTo>
                  <a:lnTo>
                    <a:pt x="123" y="11"/>
                  </a:lnTo>
                  <a:lnTo>
                    <a:pt x="124" y="12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8" y="14"/>
                  </a:lnTo>
                  <a:lnTo>
                    <a:pt x="130" y="14"/>
                  </a:lnTo>
                  <a:lnTo>
                    <a:pt x="132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2" y="11"/>
                  </a:lnTo>
                  <a:lnTo>
                    <a:pt x="141" y="17"/>
                  </a:lnTo>
                  <a:lnTo>
                    <a:pt x="140" y="23"/>
                  </a:lnTo>
                  <a:lnTo>
                    <a:pt x="139" y="28"/>
                  </a:lnTo>
                  <a:lnTo>
                    <a:pt x="138" y="34"/>
                  </a:lnTo>
                  <a:lnTo>
                    <a:pt x="137" y="39"/>
                  </a:lnTo>
                  <a:lnTo>
                    <a:pt x="135" y="44"/>
                  </a:lnTo>
                  <a:lnTo>
                    <a:pt x="134" y="49"/>
                  </a:lnTo>
                  <a:lnTo>
                    <a:pt x="132" y="54"/>
                  </a:lnTo>
                  <a:lnTo>
                    <a:pt x="130" y="59"/>
                  </a:lnTo>
                  <a:lnTo>
                    <a:pt x="128" y="65"/>
                  </a:lnTo>
                  <a:lnTo>
                    <a:pt x="125" y="69"/>
                  </a:lnTo>
                  <a:lnTo>
                    <a:pt x="123" y="74"/>
                  </a:lnTo>
                  <a:lnTo>
                    <a:pt x="121" y="80"/>
                  </a:lnTo>
                  <a:lnTo>
                    <a:pt x="118" y="84"/>
                  </a:lnTo>
                  <a:lnTo>
                    <a:pt x="115" y="89"/>
                  </a:lnTo>
                  <a:lnTo>
                    <a:pt x="112" y="95"/>
                  </a:lnTo>
                  <a:lnTo>
                    <a:pt x="111" y="95"/>
                  </a:lnTo>
                  <a:lnTo>
                    <a:pt x="111" y="95"/>
                  </a:lnTo>
                  <a:lnTo>
                    <a:pt x="111" y="95"/>
                  </a:lnTo>
                  <a:lnTo>
                    <a:pt x="110" y="95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109" y="96"/>
                  </a:lnTo>
                  <a:lnTo>
                    <a:pt x="109" y="96"/>
                  </a:lnTo>
                  <a:lnTo>
                    <a:pt x="105" y="98"/>
                  </a:lnTo>
                  <a:lnTo>
                    <a:pt x="101" y="101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81" y="113"/>
                  </a:lnTo>
                  <a:lnTo>
                    <a:pt x="78" y="115"/>
                  </a:lnTo>
                  <a:lnTo>
                    <a:pt x="73" y="116"/>
                  </a:lnTo>
                  <a:lnTo>
                    <a:pt x="69" y="118"/>
                  </a:lnTo>
                  <a:lnTo>
                    <a:pt x="65" y="120"/>
                  </a:lnTo>
                  <a:lnTo>
                    <a:pt x="60" y="121"/>
                  </a:lnTo>
                  <a:lnTo>
                    <a:pt x="55" y="122"/>
                  </a:lnTo>
                  <a:lnTo>
                    <a:pt x="51" y="122"/>
                  </a:lnTo>
                  <a:lnTo>
                    <a:pt x="46" y="123"/>
                  </a:lnTo>
                  <a:lnTo>
                    <a:pt x="42" y="123"/>
                  </a:lnTo>
                  <a:close/>
                </a:path>
              </a:pathLst>
            </a:custGeom>
            <a:solidFill>
              <a:srgbClr val="f0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078400" y="6127560"/>
              <a:ext cx="44280" cy="126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1" y="8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061120" y="613224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5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069040" y="612936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75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075160" y="612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5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076960" y="6116400"/>
              <a:ext cx="1224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75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099280" y="5924520"/>
              <a:ext cx="112320" cy="1886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119"/>
                  </a:moveTo>
                  <a:lnTo>
                    <a:pt x="0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4" y="113"/>
                  </a:lnTo>
                  <a:lnTo>
                    <a:pt x="8" y="109"/>
                  </a:lnTo>
                  <a:lnTo>
                    <a:pt x="11" y="104"/>
                  </a:lnTo>
                  <a:lnTo>
                    <a:pt x="13" y="99"/>
                  </a:lnTo>
                  <a:lnTo>
                    <a:pt x="16" y="94"/>
                  </a:lnTo>
                  <a:lnTo>
                    <a:pt x="18" y="89"/>
                  </a:lnTo>
                  <a:lnTo>
                    <a:pt x="21" y="83"/>
                  </a:lnTo>
                  <a:lnTo>
                    <a:pt x="23" y="78"/>
                  </a:lnTo>
                  <a:lnTo>
                    <a:pt x="25" y="72"/>
                  </a:lnTo>
                  <a:lnTo>
                    <a:pt x="26" y="67"/>
                  </a:lnTo>
                  <a:lnTo>
                    <a:pt x="28" y="60"/>
                  </a:lnTo>
                  <a:lnTo>
                    <a:pt x="29" y="55"/>
                  </a:lnTo>
                  <a:lnTo>
                    <a:pt x="32" y="44"/>
                  </a:lnTo>
                  <a:lnTo>
                    <a:pt x="35" y="34"/>
                  </a:lnTo>
                  <a:lnTo>
                    <a:pt x="36" y="25"/>
                  </a:lnTo>
                  <a:lnTo>
                    <a:pt x="36" y="17"/>
                  </a:lnTo>
                  <a:lnTo>
                    <a:pt x="37" y="13"/>
                  </a:lnTo>
                  <a:lnTo>
                    <a:pt x="37" y="10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7" y="2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2"/>
                  </a:lnTo>
                  <a:lnTo>
                    <a:pt x="59" y="5"/>
                  </a:lnTo>
                  <a:lnTo>
                    <a:pt x="63" y="9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69" y="19"/>
                  </a:lnTo>
                  <a:lnTo>
                    <a:pt x="70" y="21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69" y="26"/>
                  </a:lnTo>
                  <a:lnTo>
                    <a:pt x="66" y="28"/>
                  </a:lnTo>
                  <a:lnTo>
                    <a:pt x="62" y="30"/>
                  </a:lnTo>
                  <a:lnTo>
                    <a:pt x="57" y="33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4" y="37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0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5" y="44"/>
                  </a:lnTo>
                  <a:lnTo>
                    <a:pt x="57" y="45"/>
                  </a:lnTo>
                  <a:lnTo>
                    <a:pt x="59" y="46"/>
                  </a:lnTo>
                  <a:lnTo>
                    <a:pt x="62" y="48"/>
                  </a:lnTo>
                  <a:lnTo>
                    <a:pt x="63" y="49"/>
                  </a:lnTo>
                  <a:lnTo>
                    <a:pt x="63" y="50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3" y="54"/>
                  </a:lnTo>
                  <a:lnTo>
                    <a:pt x="63" y="55"/>
                  </a:lnTo>
                  <a:lnTo>
                    <a:pt x="63" y="56"/>
                  </a:lnTo>
                  <a:lnTo>
                    <a:pt x="62" y="58"/>
                  </a:lnTo>
                  <a:lnTo>
                    <a:pt x="61" y="59"/>
                  </a:lnTo>
                  <a:lnTo>
                    <a:pt x="58" y="63"/>
                  </a:lnTo>
                  <a:lnTo>
                    <a:pt x="55" y="66"/>
                  </a:lnTo>
                  <a:lnTo>
                    <a:pt x="50" y="73"/>
                  </a:lnTo>
                  <a:lnTo>
                    <a:pt x="43" y="80"/>
                  </a:lnTo>
                  <a:lnTo>
                    <a:pt x="36" y="87"/>
                  </a:lnTo>
                  <a:lnTo>
                    <a:pt x="29" y="94"/>
                  </a:lnTo>
                  <a:lnTo>
                    <a:pt x="23" y="100"/>
                  </a:lnTo>
                  <a:lnTo>
                    <a:pt x="15" y="107"/>
                  </a:lnTo>
                  <a:lnTo>
                    <a:pt x="8" y="11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856280" y="5865840"/>
              <a:ext cx="193320" cy="2142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20" y="135"/>
                  </a:move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0" y="135"/>
                  </a:lnTo>
                  <a:lnTo>
                    <a:pt x="21" y="133"/>
                  </a:lnTo>
                  <a:lnTo>
                    <a:pt x="23" y="132"/>
                  </a:lnTo>
                  <a:lnTo>
                    <a:pt x="24" y="130"/>
                  </a:lnTo>
                  <a:lnTo>
                    <a:pt x="25" y="129"/>
                  </a:lnTo>
                  <a:lnTo>
                    <a:pt x="26" y="127"/>
                  </a:lnTo>
                  <a:lnTo>
                    <a:pt x="28" y="126"/>
                  </a:lnTo>
                  <a:lnTo>
                    <a:pt x="29" y="124"/>
                  </a:lnTo>
                  <a:lnTo>
                    <a:pt x="30" y="123"/>
                  </a:lnTo>
                  <a:lnTo>
                    <a:pt x="30" y="121"/>
                  </a:lnTo>
                  <a:lnTo>
                    <a:pt x="30" y="119"/>
                  </a:lnTo>
                  <a:lnTo>
                    <a:pt x="30" y="117"/>
                  </a:lnTo>
                  <a:lnTo>
                    <a:pt x="30" y="115"/>
                  </a:lnTo>
                  <a:lnTo>
                    <a:pt x="30" y="112"/>
                  </a:lnTo>
                  <a:lnTo>
                    <a:pt x="30" y="111"/>
                  </a:lnTo>
                  <a:lnTo>
                    <a:pt x="31" y="109"/>
                  </a:lnTo>
                  <a:lnTo>
                    <a:pt x="31" y="107"/>
                  </a:lnTo>
                  <a:lnTo>
                    <a:pt x="34" y="107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10"/>
                  </a:lnTo>
                  <a:lnTo>
                    <a:pt x="54" y="111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3" y="108"/>
                  </a:lnTo>
                  <a:lnTo>
                    <a:pt x="51" y="107"/>
                  </a:lnTo>
                  <a:lnTo>
                    <a:pt x="48" y="107"/>
                  </a:lnTo>
                  <a:lnTo>
                    <a:pt x="46" y="106"/>
                  </a:lnTo>
                  <a:lnTo>
                    <a:pt x="43" y="106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8" y="105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9" y="104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1" y="103"/>
                  </a:lnTo>
                  <a:lnTo>
                    <a:pt x="42" y="103"/>
                  </a:lnTo>
                  <a:lnTo>
                    <a:pt x="42" y="104"/>
                  </a:lnTo>
                  <a:lnTo>
                    <a:pt x="43" y="104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8" y="105"/>
                  </a:lnTo>
                  <a:lnTo>
                    <a:pt x="51" y="106"/>
                  </a:lnTo>
                  <a:lnTo>
                    <a:pt x="53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6"/>
                  </a:lnTo>
                  <a:lnTo>
                    <a:pt x="54" y="105"/>
                  </a:lnTo>
                  <a:lnTo>
                    <a:pt x="52" y="105"/>
                  </a:lnTo>
                  <a:lnTo>
                    <a:pt x="51" y="104"/>
                  </a:lnTo>
                  <a:lnTo>
                    <a:pt x="48" y="103"/>
                  </a:lnTo>
                  <a:lnTo>
                    <a:pt x="47" y="103"/>
                  </a:lnTo>
                  <a:lnTo>
                    <a:pt x="46" y="102"/>
                  </a:lnTo>
                  <a:lnTo>
                    <a:pt x="44" y="102"/>
                  </a:lnTo>
                  <a:lnTo>
                    <a:pt x="43" y="102"/>
                  </a:lnTo>
                  <a:lnTo>
                    <a:pt x="41" y="102"/>
                  </a:lnTo>
                  <a:lnTo>
                    <a:pt x="41" y="100"/>
                  </a:lnTo>
                  <a:lnTo>
                    <a:pt x="42" y="98"/>
                  </a:lnTo>
                  <a:lnTo>
                    <a:pt x="43" y="98"/>
                  </a:lnTo>
                  <a:lnTo>
                    <a:pt x="44" y="97"/>
                  </a:lnTo>
                  <a:lnTo>
                    <a:pt x="45" y="97"/>
                  </a:lnTo>
                  <a:lnTo>
                    <a:pt x="46" y="97"/>
                  </a:lnTo>
                  <a:lnTo>
                    <a:pt x="48" y="97"/>
                  </a:lnTo>
                  <a:lnTo>
                    <a:pt x="50" y="98"/>
                  </a:lnTo>
                  <a:lnTo>
                    <a:pt x="53" y="100"/>
                  </a:lnTo>
                  <a:lnTo>
                    <a:pt x="56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0" y="101"/>
                  </a:lnTo>
                  <a:lnTo>
                    <a:pt x="61" y="101"/>
                  </a:lnTo>
                  <a:lnTo>
                    <a:pt x="59" y="100"/>
                  </a:lnTo>
                  <a:lnTo>
                    <a:pt x="57" y="98"/>
                  </a:lnTo>
                  <a:lnTo>
                    <a:pt x="55" y="97"/>
                  </a:lnTo>
                  <a:lnTo>
                    <a:pt x="53" y="96"/>
                  </a:lnTo>
                  <a:lnTo>
                    <a:pt x="51" y="96"/>
                  </a:lnTo>
                  <a:lnTo>
                    <a:pt x="48" y="96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5" y="91"/>
                  </a:lnTo>
                  <a:lnTo>
                    <a:pt x="47" y="87"/>
                  </a:lnTo>
                  <a:lnTo>
                    <a:pt x="48" y="83"/>
                  </a:lnTo>
                  <a:lnTo>
                    <a:pt x="50" y="79"/>
                  </a:lnTo>
                  <a:lnTo>
                    <a:pt x="52" y="76"/>
                  </a:lnTo>
                  <a:lnTo>
                    <a:pt x="54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9" y="61"/>
                  </a:lnTo>
                  <a:lnTo>
                    <a:pt x="61" y="58"/>
                  </a:lnTo>
                  <a:lnTo>
                    <a:pt x="65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3" y="45"/>
                  </a:lnTo>
                  <a:lnTo>
                    <a:pt x="75" y="42"/>
                  </a:lnTo>
                  <a:lnTo>
                    <a:pt x="79" y="3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7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78" y="37"/>
                  </a:lnTo>
                  <a:lnTo>
                    <a:pt x="74" y="39"/>
                  </a:lnTo>
                  <a:lnTo>
                    <a:pt x="72" y="43"/>
                  </a:lnTo>
                  <a:lnTo>
                    <a:pt x="69" y="45"/>
                  </a:lnTo>
                  <a:lnTo>
                    <a:pt x="66" y="48"/>
                  </a:lnTo>
                  <a:lnTo>
                    <a:pt x="64" y="51"/>
                  </a:lnTo>
                  <a:lnTo>
                    <a:pt x="60" y="54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48" y="57"/>
                  </a:lnTo>
                  <a:lnTo>
                    <a:pt x="46" y="56"/>
                  </a:lnTo>
                  <a:lnTo>
                    <a:pt x="45" y="54"/>
                  </a:lnTo>
                  <a:lnTo>
                    <a:pt x="43" y="54"/>
                  </a:lnTo>
                  <a:lnTo>
                    <a:pt x="41" y="53"/>
                  </a:lnTo>
                  <a:lnTo>
                    <a:pt x="40" y="54"/>
                  </a:lnTo>
                  <a:lnTo>
                    <a:pt x="40" y="56"/>
                  </a:lnTo>
                  <a:lnTo>
                    <a:pt x="40" y="57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2" y="59"/>
                  </a:lnTo>
                  <a:lnTo>
                    <a:pt x="43" y="59"/>
                  </a:lnTo>
                  <a:lnTo>
                    <a:pt x="45" y="60"/>
                  </a:lnTo>
                  <a:lnTo>
                    <a:pt x="47" y="60"/>
                  </a:lnTo>
                  <a:lnTo>
                    <a:pt x="51" y="61"/>
                  </a:lnTo>
                  <a:lnTo>
                    <a:pt x="54" y="61"/>
                  </a:lnTo>
                  <a:lnTo>
                    <a:pt x="55" y="61"/>
                  </a:lnTo>
                  <a:lnTo>
                    <a:pt x="54" y="63"/>
                  </a:lnTo>
                  <a:lnTo>
                    <a:pt x="52" y="66"/>
                  </a:lnTo>
                  <a:lnTo>
                    <a:pt x="51" y="68"/>
                  </a:lnTo>
                  <a:lnTo>
                    <a:pt x="50" y="72"/>
                  </a:lnTo>
                  <a:lnTo>
                    <a:pt x="47" y="75"/>
                  </a:lnTo>
                  <a:lnTo>
                    <a:pt x="46" y="77"/>
                  </a:lnTo>
                  <a:lnTo>
                    <a:pt x="45" y="80"/>
                  </a:lnTo>
                  <a:lnTo>
                    <a:pt x="43" y="83"/>
                  </a:lnTo>
                  <a:lnTo>
                    <a:pt x="43" y="85"/>
                  </a:lnTo>
                  <a:lnTo>
                    <a:pt x="43" y="86"/>
                  </a:lnTo>
                  <a:lnTo>
                    <a:pt x="43" y="87"/>
                  </a:lnTo>
                  <a:lnTo>
                    <a:pt x="42" y="89"/>
                  </a:lnTo>
                  <a:lnTo>
                    <a:pt x="42" y="90"/>
                  </a:lnTo>
                  <a:lnTo>
                    <a:pt x="41" y="91"/>
                  </a:lnTo>
                  <a:lnTo>
                    <a:pt x="41" y="92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39" y="91"/>
                  </a:lnTo>
                  <a:lnTo>
                    <a:pt x="38" y="90"/>
                  </a:lnTo>
                  <a:lnTo>
                    <a:pt x="37" y="89"/>
                  </a:lnTo>
                  <a:lnTo>
                    <a:pt x="35" y="88"/>
                  </a:lnTo>
                  <a:lnTo>
                    <a:pt x="35" y="87"/>
                  </a:lnTo>
                  <a:lnTo>
                    <a:pt x="34" y="86"/>
                  </a:lnTo>
                  <a:lnTo>
                    <a:pt x="34" y="85"/>
                  </a:lnTo>
                  <a:lnTo>
                    <a:pt x="37" y="82"/>
                  </a:lnTo>
                  <a:lnTo>
                    <a:pt x="39" y="81"/>
                  </a:lnTo>
                  <a:lnTo>
                    <a:pt x="41" y="79"/>
                  </a:lnTo>
                  <a:lnTo>
                    <a:pt x="43" y="77"/>
                  </a:lnTo>
                  <a:lnTo>
                    <a:pt x="45" y="75"/>
                  </a:lnTo>
                  <a:lnTo>
                    <a:pt x="46" y="73"/>
                  </a:lnTo>
                  <a:lnTo>
                    <a:pt x="47" y="71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7" y="68"/>
                  </a:lnTo>
                  <a:lnTo>
                    <a:pt x="45" y="71"/>
                  </a:lnTo>
                  <a:lnTo>
                    <a:pt x="43" y="74"/>
                  </a:lnTo>
                  <a:lnTo>
                    <a:pt x="41" y="76"/>
                  </a:lnTo>
                  <a:lnTo>
                    <a:pt x="39" y="79"/>
                  </a:lnTo>
                  <a:lnTo>
                    <a:pt x="37" y="81"/>
                  </a:lnTo>
                  <a:lnTo>
                    <a:pt x="34" y="81"/>
                  </a:lnTo>
                  <a:lnTo>
                    <a:pt x="33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3" y="80"/>
                  </a:lnTo>
                  <a:lnTo>
                    <a:pt x="35" y="79"/>
                  </a:lnTo>
                  <a:lnTo>
                    <a:pt x="38" y="77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71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3" y="70"/>
                  </a:lnTo>
                  <a:lnTo>
                    <a:pt x="41" y="72"/>
                  </a:lnTo>
                  <a:lnTo>
                    <a:pt x="39" y="73"/>
                  </a:lnTo>
                  <a:lnTo>
                    <a:pt x="37" y="75"/>
                  </a:lnTo>
                  <a:lnTo>
                    <a:pt x="34" y="77"/>
                  </a:lnTo>
                  <a:lnTo>
                    <a:pt x="32" y="78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9" y="79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9" y="77"/>
                  </a:lnTo>
                  <a:lnTo>
                    <a:pt x="31" y="76"/>
                  </a:lnTo>
                  <a:lnTo>
                    <a:pt x="33" y="75"/>
                  </a:lnTo>
                  <a:lnTo>
                    <a:pt x="35" y="73"/>
                  </a:lnTo>
                  <a:lnTo>
                    <a:pt x="37" y="72"/>
                  </a:lnTo>
                  <a:lnTo>
                    <a:pt x="39" y="71"/>
                  </a:lnTo>
                  <a:lnTo>
                    <a:pt x="39" y="70"/>
                  </a:lnTo>
                  <a:lnTo>
                    <a:pt x="39" y="68"/>
                  </a:lnTo>
                  <a:lnTo>
                    <a:pt x="40" y="67"/>
                  </a:lnTo>
                  <a:lnTo>
                    <a:pt x="40" y="66"/>
                  </a:lnTo>
                  <a:lnTo>
                    <a:pt x="38" y="68"/>
                  </a:lnTo>
                  <a:lnTo>
                    <a:pt x="37" y="70"/>
                  </a:lnTo>
                  <a:lnTo>
                    <a:pt x="34" y="71"/>
                  </a:lnTo>
                  <a:lnTo>
                    <a:pt x="33" y="72"/>
                  </a:lnTo>
                  <a:lnTo>
                    <a:pt x="31" y="73"/>
                  </a:lnTo>
                  <a:lnTo>
                    <a:pt x="30" y="75"/>
                  </a:lnTo>
                  <a:lnTo>
                    <a:pt x="28" y="76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27" y="73"/>
                  </a:lnTo>
                  <a:lnTo>
                    <a:pt x="28" y="72"/>
                  </a:lnTo>
                  <a:lnTo>
                    <a:pt x="29" y="71"/>
                  </a:lnTo>
                  <a:lnTo>
                    <a:pt x="31" y="70"/>
                  </a:lnTo>
                  <a:lnTo>
                    <a:pt x="32" y="70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34" y="67"/>
                  </a:lnTo>
                  <a:lnTo>
                    <a:pt x="32" y="67"/>
                  </a:lnTo>
                  <a:lnTo>
                    <a:pt x="31" y="68"/>
                  </a:lnTo>
                  <a:lnTo>
                    <a:pt x="29" y="70"/>
                  </a:lnTo>
                  <a:lnTo>
                    <a:pt x="27" y="71"/>
                  </a:lnTo>
                  <a:lnTo>
                    <a:pt x="25" y="72"/>
                  </a:lnTo>
                  <a:lnTo>
                    <a:pt x="24" y="73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21" y="73"/>
                  </a:lnTo>
                  <a:lnTo>
                    <a:pt x="20" y="73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5" y="70"/>
                  </a:lnTo>
                  <a:lnTo>
                    <a:pt x="27" y="70"/>
                  </a:lnTo>
                  <a:lnTo>
                    <a:pt x="27" y="68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29" y="68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4" y="68"/>
                  </a:lnTo>
                  <a:lnTo>
                    <a:pt x="23" y="68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7" y="70"/>
                  </a:lnTo>
                  <a:lnTo>
                    <a:pt x="14" y="67"/>
                  </a:lnTo>
                  <a:lnTo>
                    <a:pt x="12" y="65"/>
                  </a:lnTo>
                  <a:lnTo>
                    <a:pt x="10" y="63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3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31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11" y="26"/>
                  </a:lnTo>
                  <a:lnTo>
                    <a:pt x="14" y="23"/>
                  </a:lnTo>
                  <a:lnTo>
                    <a:pt x="18" y="21"/>
                  </a:lnTo>
                  <a:lnTo>
                    <a:pt x="23" y="19"/>
                  </a:lnTo>
                  <a:lnTo>
                    <a:pt x="28" y="17"/>
                  </a:lnTo>
                  <a:lnTo>
                    <a:pt x="32" y="16"/>
                  </a:lnTo>
                  <a:lnTo>
                    <a:pt x="38" y="14"/>
                  </a:lnTo>
                  <a:lnTo>
                    <a:pt x="42" y="13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7" y="9"/>
                  </a:lnTo>
                  <a:lnTo>
                    <a:pt x="62" y="9"/>
                  </a:lnTo>
                  <a:lnTo>
                    <a:pt x="73" y="7"/>
                  </a:lnTo>
                  <a:lnTo>
                    <a:pt x="83" y="6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8" y="5"/>
                  </a:lnTo>
                  <a:lnTo>
                    <a:pt x="89" y="5"/>
                  </a:lnTo>
                  <a:lnTo>
                    <a:pt x="91" y="4"/>
                  </a:lnTo>
                  <a:lnTo>
                    <a:pt x="93" y="3"/>
                  </a:lnTo>
                  <a:lnTo>
                    <a:pt x="94" y="2"/>
                  </a:lnTo>
                  <a:lnTo>
                    <a:pt x="95" y="1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1" y="2"/>
                  </a:lnTo>
                  <a:lnTo>
                    <a:pt x="120" y="4"/>
                  </a:lnTo>
                  <a:lnTo>
                    <a:pt x="117" y="7"/>
                  </a:lnTo>
                  <a:lnTo>
                    <a:pt x="115" y="9"/>
                  </a:lnTo>
                  <a:lnTo>
                    <a:pt x="111" y="16"/>
                  </a:lnTo>
                  <a:lnTo>
                    <a:pt x="107" y="22"/>
                  </a:lnTo>
                  <a:lnTo>
                    <a:pt x="103" y="27"/>
                  </a:lnTo>
                  <a:lnTo>
                    <a:pt x="102" y="30"/>
                  </a:lnTo>
                  <a:lnTo>
                    <a:pt x="100" y="33"/>
                  </a:lnTo>
                  <a:lnTo>
                    <a:pt x="98" y="35"/>
                  </a:lnTo>
                  <a:lnTo>
                    <a:pt x="97" y="38"/>
                  </a:lnTo>
                  <a:lnTo>
                    <a:pt x="97" y="41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4"/>
                  </a:lnTo>
                  <a:lnTo>
                    <a:pt x="97" y="44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9" y="45"/>
                  </a:lnTo>
                  <a:lnTo>
                    <a:pt x="100" y="46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5" y="47"/>
                  </a:lnTo>
                  <a:lnTo>
                    <a:pt x="105" y="48"/>
                  </a:lnTo>
                  <a:lnTo>
                    <a:pt x="105" y="49"/>
                  </a:lnTo>
                  <a:lnTo>
                    <a:pt x="103" y="50"/>
                  </a:lnTo>
                  <a:lnTo>
                    <a:pt x="102" y="51"/>
                  </a:lnTo>
                  <a:lnTo>
                    <a:pt x="100" y="53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93" y="61"/>
                  </a:lnTo>
                  <a:lnTo>
                    <a:pt x="91" y="63"/>
                  </a:lnTo>
                  <a:lnTo>
                    <a:pt x="89" y="66"/>
                  </a:lnTo>
                  <a:lnTo>
                    <a:pt x="89" y="68"/>
                  </a:lnTo>
                  <a:lnTo>
                    <a:pt x="88" y="72"/>
                  </a:lnTo>
                  <a:lnTo>
                    <a:pt x="87" y="74"/>
                  </a:lnTo>
                  <a:lnTo>
                    <a:pt x="87" y="77"/>
                  </a:lnTo>
                  <a:lnTo>
                    <a:pt x="86" y="79"/>
                  </a:lnTo>
                  <a:lnTo>
                    <a:pt x="85" y="82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1" y="89"/>
                  </a:lnTo>
                  <a:lnTo>
                    <a:pt x="79" y="92"/>
                  </a:lnTo>
                  <a:lnTo>
                    <a:pt x="76" y="94"/>
                  </a:lnTo>
                  <a:lnTo>
                    <a:pt x="74" y="96"/>
                  </a:lnTo>
                  <a:lnTo>
                    <a:pt x="71" y="101"/>
                  </a:lnTo>
                  <a:lnTo>
                    <a:pt x="67" y="105"/>
                  </a:lnTo>
                  <a:lnTo>
                    <a:pt x="61" y="108"/>
                  </a:lnTo>
                  <a:lnTo>
                    <a:pt x="57" y="112"/>
                  </a:lnTo>
                  <a:lnTo>
                    <a:pt x="52" y="116"/>
                  </a:lnTo>
                  <a:lnTo>
                    <a:pt x="46" y="119"/>
                  </a:lnTo>
                  <a:lnTo>
                    <a:pt x="42" y="122"/>
                  </a:lnTo>
                  <a:lnTo>
                    <a:pt x="37" y="125"/>
                  </a:lnTo>
                  <a:lnTo>
                    <a:pt x="32" y="127"/>
                  </a:lnTo>
                  <a:lnTo>
                    <a:pt x="27" y="131"/>
                  </a:lnTo>
                  <a:lnTo>
                    <a:pt x="26" y="131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4" y="133"/>
                  </a:lnTo>
                  <a:lnTo>
                    <a:pt x="23" y="134"/>
                  </a:lnTo>
                  <a:lnTo>
                    <a:pt x="23" y="134"/>
                  </a:lnTo>
                  <a:lnTo>
                    <a:pt x="21" y="135"/>
                  </a:lnTo>
                  <a:lnTo>
                    <a:pt x="20" y="13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943400" y="5894280"/>
              <a:ext cx="122040" cy="1587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1" y="100"/>
                  </a:moveTo>
                  <a:lnTo>
                    <a:pt x="1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94"/>
                  </a:lnTo>
                  <a:lnTo>
                    <a:pt x="13" y="89"/>
                  </a:lnTo>
                  <a:lnTo>
                    <a:pt x="16" y="87"/>
                  </a:lnTo>
                  <a:lnTo>
                    <a:pt x="19" y="84"/>
                  </a:lnTo>
                  <a:lnTo>
                    <a:pt x="23" y="82"/>
                  </a:lnTo>
                  <a:lnTo>
                    <a:pt x="25" y="78"/>
                  </a:lnTo>
                  <a:lnTo>
                    <a:pt x="27" y="75"/>
                  </a:lnTo>
                  <a:lnTo>
                    <a:pt x="30" y="72"/>
                  </a:lnTo>
                  <a:lnTo>
                    <a:pt x="32" y="69"/>
                  </a:lnTo>
                  <a:lnTo>
                    <a:pt x="33" y="65"/>
                  </a:lnTo>
                  <a:lnTo>
                    <a:pt x="36" y="61"/>
                  </a:lnTo>
                  <a:lnTo>
                    <a:pt x="37" y="58"/>
                  </a:lnTo>
                  <a:lnTo>
                    <a:pt x="38" y="54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1" y="45"/>
                  </a:lnTo>
                  <a:lnTo>
                    <a:pt x="42" y="43"/>
                  </a:lnTo>
                  <a:lnTo>
                    <a:pt x="45" y="41"/>
                  </a:lnTo>
                  <a:lnTo>
                    <a:pt x="47" y="38"/>
                  </a:lnTo>
                  <a:lnTo>
                    <a:pt x="51" y="35"/>
                  </a:lnTo>
                  <a:lnTo>
                    <a:pt x="53" y="32"/>
                  </a:lnTo>
                  <a:lnTo>
                    <a:pt x="54" y="31"/>
                  </a:lnTo>
                  <a:lnTo>
                    <a:pt x="54" y="30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4" y="26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7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47" y="17"/>
                  </a:lnTo>
                  <a:lnTo>
                    <a:pt x="50" y="14"/>
                  </a:lnTo>
                  <a:lnTo>
                    <a:pt x="52" y="11"/>
                  </a:lnTo>
                  <a:lnTo>
                    <a:pt x="54" y="9"/>
                  </a:lnTo>
                  <a:lnTo>
                    <a:pt x="56" y="5"/>
                  </a:lnTo>
                  <a:lnTo>
                    <a:pt x="58" y="2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4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6"/>
                  </a:lnTo>
                  <a:lnTo>
                    <a:pt x="77" y="9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7" y="12"/>
                  </a:lnTo>
                  <a:lnTo>
                    <a:pt x="75" y="13"/>
                  </a:lnTo>
                  <a:lnTo>
                    <a:pt x="75" y="14"/>
                  </a:lnTo>
                  <a:lnTo>
                    <a:pt x="75" y="15"/>
                  </a:lnTo>
                  <a:lnTo>
                    <a:pt x="74" y="16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4" y="19"/>
                  </a:lnTo>
                  <a:lnTo>
                    <a:pt x="73" y="20"/>
                  </a:lnTo>
                  <a:lnTo>
                    <a:pt x="73" y="23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72" y="26"/>
                  </a:lnTo>
                  <a:lnTo>
                    <a:pt x="71" y="27"/>
                  </a:lnTo>
                  <a:lnTo>
                    <a:pt x="71" y="28"/>
                  </a:lnTo>
                  <a:lnTo>
                    <a:pt x="70" y="31"/>
                  </a:lnTo>
                  <a:lnTo>
                    <a:pt x="69" y="35"/>
                  </a:lnTo>
                  <a:lnTo>
                    <a:pt x="68" y="39"/>
                  </a:lnTo>
                  <a:lnTo>
                    <a:pt x="68" y="42"/>
                  </a:lnTo>
                  <a:lnTo>
                    <a:pt x="66" y="45"/>
                  </a:lnTo>
                  <a:lnTo>
                    <a:pt x="65" y="49"/>
                  </a:lnTo>
                  <a:lnTo>
                    <a:pt x="64" y="52"/>
                  </a:lnTo>
                  <a:lnTo>
                    <a:pt x="62" y="55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3"/>
                  </a:lnTo>
                  <a:lnTo>
                    <a:pt x="56" y="65"/>
                  </a:lnTo>
                  <a:lnTo>
                    <a:pt x="54" y="68"/>
                  </a:lnTo>
                  <a:lnTo>
                    <a:pt x="52" y="71"/>
                  </a:lnTo>
                  <a:lnTo>
                    <a:pt x="50" y="73"/>
                  </a:lnTo>
                  <a:lnTo>
                    <a:pt x="47" y="75"/>
                  </a:lnTo>
                  <a:lnTo>
                    <a:pt x="45" y="77"/>
                  </a:lnTo>
                  <a:lnTo>
                    <a:pt x="43" y="79"/>
                  </a:lnTo>
                  <a:lnTo>
                    <a:pt x="41" y="82"/>
                  </a:lnTo>
                  <a:lnTo>
                    <a:pt x="38" y="83"/>
                  </a:lnTo>
                  <a:lnTo>
                    <a:pt x="33" y="87"/>
                  </a:lnTo>
                  <a:lnTo>
                    <a:pt x="27" y="89"/>
                  </a:lnTo>
                  <a:lnTo>
                    <a:pt x="21" y="92"/>
                  </a:lnTo>
                  <a:lnTo>
                    <a:pt x="15" y="96"/>
                  </a:lnTo>
                  <a:lnTo>
                    <a:pt x="7" y="98"/>
                  </a:lnTo>
                  <a:lnTo>
                    <a:pt x="1" y="1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183160" y="5897520"/>
              <a:ext cx="188640" cy="139680"/>
            </a:xfrm>
            <a:custGeom>
              <a:avLst/>
              <a:gdLst/>
              <a:ahLst/>
              <a:rect l="l" t="t" r="r" b="b"/>
              <a:pathLst>
                <a:path w="119" h="88">
                  <a:moveTo>
                    <a:pt x="94" y="88"/>
                  </a:moveTo>
                  <a:lnTo>
                    <a:pt x="90" y="88"/>
                  </a:lnTo>
                  <a:lnTo>
                    <a:pt x="86" y="87"/>
                  </a:lnTo>
                  <a:lnTo>
                    <a:pt x="82" y="87"/>
                  </a:lnTo>
                  <a:lnTo>
                    <a:pt x="79" y="86"/>
                  </a:lnTo>
                  <a:lnTo>
                    <a:pt x="70" y="84"/>
                  </a:lnTo>
                  <a:lnTo>
                    <a:pt x="61" y="82"/>
                  </a:lnTo>
                  <a:lnTo>
                    <a:pt x="58" y="81"/>
                  </a:lnTo>
                  <a:lnTo>
                    <a:pt x="54" y="78"/>
                  </a:lnTo>
                  <a:lnTo>
                    <a:pt x="51" y="77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2"/>
                  </a:lnTo>
                  <a:lnTo>
                    <a:pt x="37" y="70"/>
                  </a:lnTo>
                  <a:lnTo>
                    <a:pt x="33" y="69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6" y="66"/>
                  </a:lnTo>
                  <a:lnTo>
                    <a:pt x="36" y="65"/>
                  </a:lnTo>
                  <a:lnTo>
                    <a:pt x="36" y="63"/>
                  </a:lnTo>
                  <a:lnTo>
                    <a:pt x="36" y="62"/>
                  </a:lnTo>
                  <a:lnTo>
                    <a:pt x="36" y="61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3" y="61"/>
                  </a:lnTo>
                  <a:lnTo>
                    <a:pt x="33" y="62"/>
                  </a:lnTo>
                  <a:lnTo>
                    <a:pt x="33" y="63"/>
                  </a:lnTo>
                  <a:lnTo>
                    <a:pt x="33" y="65"/>
                  </a:lnTo>
                  <a:lnTo>
                    <a:pt x="33" y="66"/>
                  </a:lnTo>
                  <a:lnTo>
                    <a:pt x="33" y="67"/>
                  </a:lnTo>
                  <a:lnTo>
                    <a:pt x="33" y="68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2" y="63"/>
                  </a:lnTo>
                  <a:lnTo>
                    <a:pt x="32" y="62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3" y="58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7"/>
                  </a:lnTo>
                  <a:lnTo>
                    <a:pt x="30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6" y="61"/>
                  </a:lnTo>
                  <a:lnTo>
                    <a:pt x="26" y="62"/>
                  </a:lnTo>
                  <a:lnTo>
                    <a:pt x="26" y="63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5" y="57"/>
                  </a:lnTo>
                  <a:lnTo>
                    <a:pt x="25" y="56"/>
                  </a:lnTo>
                  <a:lnTo>
                    <a:pt x="26" y="55"/>
                  </a:lnTo>
                  <a:lnTo>
                    <a:pt x="26" y="53"/>
                  </a:lnTo>
                  <a:lnTo>
                    <a:pt x="25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2" y="57"/>
                  </a:lnTo>
                  <a:lnTo>
                    <a:pt x="22" y="59"/>
                  </a:lnTo>
                  <a:lnTo>
                    <a:pt x="22" y="60"/>
                  </a:lnTo>
                  <a:lnTo>
                    <a:pt x="22" y="62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0" y="63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7" y="62"/>
                  </a:lnTo>
                  <a:lnTo>
                    <a:pt x="17" y="63"/>
                  </a:lnTo>
                  <a:lnTo>
                    <a:pt x="16" y="66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2" y="63"/>
                  </a:lnTo>
                  <a:lnTo>
                    <a:pt x="10" y="62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39"/>
                  </a:lnTo>
                  <a:lnTo>
                    <a:pt x="20" y="38"/>
                  </a:lnTo>
                  <a:lnTo>
                    <a:pt x="19" y="36"/>
                  </a:lnTo>
                  <a:lnTo>
                    <a:pt x="17" y="30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1"/>
                  </a:lnTo>
                  <a:lnTo>
                    <a:pt x="8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7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1" y="21"/>
                  </a:lnTo>
                  <a:lnTo>
                    <a:pt x="33" y="23"/>
                  </a:lnTo>
                  <a:lnTo>
                    <a:pt x="35" y="25"/>
                  </a:lnTo>
                  <a:lnTo>
                    <a:pt x="37" y="27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1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5"/>
                  </a:lnTo>
                  <a:lnTo>
                    <a:pt x="39" y="23"/>
                  </a:lnTo>
                  <a:lnTo>
                    <a:pt x="37" y="21"/>
                  </a:lnTo>
                  <a:lnTo>
                    <a:pt x="35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7"/>
                  </a:lnTo>
                  <a:lnTo>
                    <a:pt x="44" y="19"/>
                  </a:lnTo>
                  <a:lnTo>
                    <a:pt x="45" y="21"/>
                  </a:lnTo>
                  <a:lnTo>
                    <a:pt x="46" y="22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5" y="30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9" y="33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57" y="41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56" y="44"/>
                  </a:lnTo>
                  <a:lnTo>
                    <a:pt x="57" y="45"/>
                  </a:lnTo>
                  <a:lnTo>
                    <a:pt x="57" y="46"/>
                  </a:lnTo>
                  <a:lnTo>
                    <a:pt x="58" y="47"/>
                  </a:lnTo>
                  <a:lnTo>
                    <a:pt x="59" y="48"/>
                  </a:lnTo>
                  <a:lnTo>
                    <a:pt x="60" y="50"/>
                  </a:lnTo>
                  <a:lnTo>
                    <a:pt x="61" y="51"/>
                  </a:lnTo>
                  <a:lnTo>
                    <a:pt x="61" y="53"/>
                  </a:lnTo>
                  <a:lnTo>
                    <a:pt x="63" y="56"/>
                  </a:lnTo>
                  <a:lnTo>
                    <a:pt x="63" y="57"/>
                  </a:lnTo>
                  <a:lnTo>
                    <a:pt x="64" y="59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9" y="62"/>
                  </a:lnTo>
                  <a:lnTo>
                    <a:pt x="73" y="63"/>
                  </a:lnTo>
                  <a:lnTo>
                    <a:pt x="72" y="66"/>
                  </a:lnTo>
                  <a:lnTo>
                    <a:pt x="72" y="68"/>
                  </a:lnTo>
                  <a:lnTo>
                    <a:pt x="73" y="70"/>
                  </a:lnTo>
                  <a:lnTo>
                    <a:pt x="73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1" y="77"/>
                  </a:lnTo>
                  <a:lnTo>
                    <a:pt x="80" y="77"/>
                  </a:lnTo>
                  <a:lnTo>
                    <a:pt x="80" y="76"/>
                  </a:lnTo>
                  <a:lnTo>
                    <a:pt x="79" y="76"/>
                  </a:lnTo>
                  <a:lnTo>
                    <a:pt x="79" y="75"/>
                  </a:lnTo>
                  <a:lnTo>
                    <a:pt x="79" y="74"/>
                  </a:lnTo>
                  <a:lnTo>
                    <a:pt x="78" y="74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79" y="73"/>
                  </a:lnTo>
                  <a:lnTo>
                    <a:pt x="79" y="73"/>
                  </a:lnTo>
                  <a:lnTo>
                    <a:pt x="79" y="73"/>
                  </a:lnTo>
                  <a:lnTo>
                    <a:pt x="79" y="73"/>
                  </a:lnTo>
                  <a:lnTo>
                    <a:pt x="80" y="73"/>
                  </a:lnTo>
                  <a:lnTo>
                    <a:pt x="80" y="73"/>
                  </a:lnTo>
                  <a:lnTo>
                    <a:pt x="80" y="73"/>
                  </a:lnTo>
                  <a:lnTo>
                    <a:pt x="80" y="73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1" y="75"/>
                  </a:lnTo>
                  <a:lnTo>
                    <a:pt x="81" y="75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3" y="77"/>
                  </a:lnTo>
                  <a:lnTo>
                    <a:pt x="83" y="77"/>
                  </a:lnTo>
                  <a:lnTo>
                    <a:pt x="83" y="77"/>
                  </a:lnTo>
                  <a:lnTo>
                    <a:pt x="84" y="77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5" y="78"/>
                  </a:lnTo>
                  <a:lnTo>
                    <a:pt x="86" y="78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90" y="80"/>
                  </a:lnTo>
                  <a:lnTo>
                    <a:pt x="92" y="80"/>
                  </a:lnTo>
                  <a:lnTo>
                    <a:pt x="93" y="81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3" y="81"/>
                  </a:lnTo>
                  <a:lnTo>
                    <a:pt x="93" y="81"/>
                  </a:lnTo>
                  <a:lnTo>
                    <a:pt x="93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1" y="82"/>
                  </a:lnTo>
                  <a:lnTo>
                    <a:pt x="93" y="82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95" y="82"/>
                  </a:lnTo>
                  <a:lnTo>
                    <a:pt x="95" y="82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96" y="81"/>
                  </a:lnTo>
                  <a:lnTo>
                    <a:pt x="98" y="80"/>
                  </a:lnTo>
                  <a:lnTo>
                    <a:pt x="99" y="80"/>
                  </a:lnTo>
                  <a:lnTo>
                    <a:pt x="101" y="80"/>
                  </a:lnTo>
                  <a:lnTo>
                    <a:pt x="102" y="78"/>
                  </a:lnTo>
                  <a:lnTo>
                    <a:pt x="104" y="77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7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6" y="75"/>
                  </a:lnTo>
                  <a:lnTo>
                    <a:pt x="105" y="75"/>
                  </a:lnTo>
                  <a:lnTo>
                    <a:pt x="102" y="76"/>
                  </a:lnTo>
                  <a:lnTo>
                    <a:pt x="100" y="77"/>
                  </a:lnTo>
                  <a:lnTo>
                    <a:pt x="98" y="77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7"/>
                  </a:lnTo>
                  <a:lnTo>
                    <a:pt x="92" y="77"/>
                  </a:lnTo>
                  <a:lnTo>
                    <a:pt x="92" y="77"/>
                  </a:lnTo>
                  <a:lnTo>
                    <a:pt x="91" y="76"/>
                  </a:lnTo>
                  <a:lnTo>
                    <a:pt x="93" y="76"/>
                  </a:lnTo>
                  <a:lnTo>
                    <a:pt x="95" y="76"/>
                  </a:lnTo>
                  <a:lnTo>
                    <a:pt x="96" y="75"/>
                  </a:lnTo>
                  <a:lnTo>
                    <a:pt x="98" y="74"/>
                  </a:lnTo>
                  <a:lnTo>
                    <a:pt x="100" y="74"/>
                  </a:lnTo>
                  <a:lnTo>
                    <a:pt x="101" y="73"/>
                  </a:lnTo>
                  <a:lnTo>
                    <a:pt x="102" y="72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01" y="71"/>
                  </a:lnTo>
                  <a:lnTo>
                    <a:pt x="100" y="71"/>
                  </a:lnTo>
                  <a:lnTo>
                    <a:pt x="99" y="71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7" y="72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8" y="70"/>
                  </a:lnTo>
                  <a:lnTo>
                    <a:pt x="99" y="69"/>
                  </a:lnTo>
                  <a:lnTo>
                    <a:pt x="99" y="68"/>
                  </a:lnTo>
                  <a:lnTo>
                    <a:pt x="100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8" y="68"/>
                  </a:lnTo>
                  <a:lnTo>
                    <a:pt x="97" y="69"/>
                  </a:lnTo>
                  <a:lnTo>
                    <a:pt x="95" y="70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88" y="71"/>
                  </a:lnTo>
                  <a:lnTo>
                    <a:pt x="86" y="72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80" y="71"/>
                  </a:lnTo>
                  <a:lnTo>
                    <a:pt x="78" y="71"/>
                  </a:lnTo>
                  <a:lnTo>
                    <a:pt x="78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69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7"/>
                  </a:lnTo>
                  <a:lnTo>
                    <a:pt x="77" y="66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79" y="65"/>
                  </a:lnTo>
                  <a:lnTo>
                    <a:pt x="79" y="65"/>
                  </a:lnTo>
                  <a:lnTo>
                    <a:pt x="81" y="67"/>
                  </a:lnTo>
                  <a:lnTo>
                    <a:pt x="82" y="68"/>
                  </a:lnTo>
                  <a:lnTo>
                    <a:pt x="84" y="69"/>
                  </a:lnTo>
                  <a:lnTo>
                    <a:pt x="85" y="70"/>
                  </a:lnTo>
                  <a:lnTo>
                    <a:pt x="87" y="70"/>
                  </a:lnTo>
                  <a:lnTo>
                    <a:pt x="88" y="70"/>
                  </a:lnTo>
                  <a:lnTo>
                    <a:pt x="90" y="70"/>
                  </a:lnTo>
                  <a:lnTo>
                    <a:pt x="91" y="70"/>
                  </a:lnTo>
                  <a:lnTo>
                    <a:pt x="93" y="69"/>
                  </a:lnTo>
                  <a:lnTo>
                    <a:pt x="94" y="68"/>
                  </a:lnTo>
                  <a:lnTo>
                    <a:pt x="94" y="67"/>
                  </a:lnTo>
                  <a:lnTo>
                    <a:pt x="95" y="65"/>
                  </a:lnTo>
                  <a:lnTo>
                    <a:pt x="97" y="61"/>
                  </a:lnTo>
                  <a:lnTo>
                    <a:pt x="99" y="57"/>
                  </a:lnTo>
                  <a:lnTo>
                    <a:pt x="100" y="53"/>
                  </a:lnTo>
                  <a:lnTo>
                    <a:pt x="101" y="48"/>
                  </a:lnTo>
                  <a:lnTo>
                    <a:pt x="104" y="44"/>
                  </a:lnTo>
                  <a:lnTo>
                    <a:pt x="105" y="40"/>
                  </a:lnTo>
                  <a:lnTo>
                    <a:pt x="106" y="36"/>
                  </a:lnTo>
                  <a:lnTo>
                    <a:pt x="107" y="31"/>
                  </a:lnTo>
                  <a:lnTo>
                    <a:pt x="108" y="28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10" y="26"/>
                  </a:lnTo>
                  <a:lnTo>
                    <a:pt x="110" y="27"/>
                  </a:lnTo>
                  <a:lnTo>
                    <a:pt x="111" y="27"/>
                  </a:lnTo>
                  <a:lnTo>
                    <a:pt x="112" y="27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14" y="28"/>
                  </a:lnTo>
                  <a:lnTo>
                    <a:pt x="114" y="29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4" y="31"/>
                  </a:lnTo>
                  <a:lnTo>
                    <a:pt x="114" y="32"/>
                  </a:lnTo>
                  <a:lnTo>
                    <a:pt x="114" y="33"/>
                  </a:lnTo>
                  <a:lnTo>
                    <a:pt x="114" y="34"/>
                  </a:lnTo>
                  <a:lnTo>
                    <a:pt x="114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4" y="39"/>
                  </a:lnTo>
                  <a:lnTo>
                    <a:pt x="115" y="40"/>
                  </a:lnTo>
                  <a:lnTo>
                    <a:pt x="117" y="42"/>
                  </a:lnTo>
                  <a:lnTo>
                    <a:pt x="118" y="44"/>
                  </a:lnTo>
                  <a:lnTo>
                    <a:pt x="118" y="45"/>
                  </a:lnTo>
                  <a:lnTo>
                    <a:pt x="119" y="47"/>
                  </a:lnTo>
                  <a:lnTo>
                    <a:pt x="119" y="48"/>
                  </a:lnTo>
                  <a:lnTo>
                    <a:pt x="118" y="50"/>
                  </a:lnTo>
                  <a:lnTo>
                    <a:pt x="118" y="50"/>
                  </a:lnTo>
                  <a:lnTo>
                    <a:pt x="117" y="50"/>
                  </a:lnTo>
                  <a:lnTo>
                    <a:pt x="117" y="51"/>
                  </a:lnTo>
                  <a:lnTo>
                    <a:pt x="117" y="51"/>
                  </a:lnTo>
                  <a:lnTo>
                    <a:pt x="115" y="52"/>
                  </a:lnTo>
                  <a:lnTo>
                    <a:pt x="115" y="53"/>
                  </a:lnTo>
                  <a:lnTo>
                    <a:pt x="115" y="53"/>
                  </a:lnTo>
                  <a:lnTo>
                    <a:pt x="115" y="54"/>
                  </a:lnTo>
                  <a:lnTo>
                    <a:pt x="117" y="54"/>
                  </a:lnTo>
                  <a:lnTo>
                    <a:pt x="117" y="54"/>
                  </a:lnTo>
                  <a:lnTo>
                    <a:pt x="117" y="54"/>
                  </a:lnTo>
                  <a:lnTo>
                    <a:pt x="118" y="55"/>
                  </a:lnTo>
                  <a:lnTo>
                    <a:pt x="118" y="55"/>
                  </a:lnTo>
                  <a:lnTo>
                    <a:pt x="118" y="55"/>
                  </a:lnTo>
                  <a:lnTo>
                    <a:pt x="119" y="55"/>
                  </a:lnTo>
                  <a:lnTo>
                    <a:pt x="119" y="63"/>
                  </a:lnTo>
                  <a:lnTo>
                    <a:pt x="119" y="70"/>
                  </a:lnTo>
                  <a:lnTo>
                    <a:pt x="119" y="73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81"/>
                  </a:lnTo>
                  <a:lnTo>
                    <a:pt x="114" y="83"/>
                  </a:lnTo>
                  <a:lnTo>
                    <a:pt x="113" y="84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7"/>
                  </a:lnTo>
                  <a:lnTo>
                    <a:pt x="101" y="88"/>
                  </a:lnTo>
                  <a:lnTo>
                    <a:pt x="98" y="88"/>
                  </a:lnTo>
                  <a:lnTo>
                    <a:pt x="94" y="8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310240" y="598788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6" y="9"/>
                  </a:moveTo>
                  <a:lnTo>
                    <a:pt x="4" y="8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286480" y="5979960"/>
              <a:ext cx="2340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7"/>
                  </a:move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78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278560" y="590220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0" y="54"/>
                  </a:moveTo>
                  <a:lnTo>
                    <a:pt x="28" y="54"/>
                  </a:lnTo>
                  <a:lnTo>
                    <a:pt x="27" y="54"/>
                  </a:lnTo>
                  <a:lnTo>
                    <a:pt x="27" y="53"/>
                  </a:lnTo>
                  <a:lnTo>
                    <a:pt x="26" y="53"/>
                  </a:lnTo>
                  <a:lnTo>
                    <a:pt x="25" y="53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5"/>
                  </a:lnTo>
                  <a:lnTo>
                    <a:pt x="13" y="45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3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1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2" y="27"/>
                  </a:lnTo>
                  <a:lnTo>
                    <a:pt x="42" y="31"/>
                  </a:lnTo>
                  <a:lnTo>
                    <a:pt x="41" y="37"/>
                  </a:lnTo>
                  <a:lnTo>
                    <a:pt x="40" y="41"/>
                  </a:lnTo>
                  <a:lnTo>
                    <a:pt x="39" y="44"/>
                  </a:lnTo>
                  <a:lnTo>
                    <a:pt x="38" y="47"/>
                  </a:lnTo>
                  <a:lnTo>
                    <a:pt x="37" y="48"/>
                  </a:lnTo>
                  <a:lnTo>
                    <a:pt x="36" y="50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2" y="54"/>
                  </a:lnTo>
                  <a:lnTo>
                    <a:pt x="30" y="5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370720" y="5959440"/>
              <a:ext cx="424800" cy="23760"/>
            </a:xfrm>
            <a:custGeom>
              <a:avLst/>
              <a:gdLst/>
              <a:ahLst/>
              <a:rect l="l" t="t" r="r" b="b"/>
              <a:pathLst>
                <a:path w="268" h="15">
                  <a:moveTo>
                    <a:pt x="181" y="15"/>
                  </a:moveTo>
                  <a:lnTo>
                    <a:pt x="158" y="14"/>
                  </a:lnTo>
                  <a:lnTo>
                    <a:pt x="137" y="14"/>
                  </a:lnTo>
                  <a:lnTo>
                    <a:pt x="114" y="13"/>
                  </a:lnTo>
                  <a:lnTo>
                    <a:pt x="92" y="12"/>
                  </a:lnTo>
                  <a:lnTo>
                    <a:pt x="70" y="11"/>
                  </a:lnTo>
                  <a:lnTo>
                    <a:pt x="48" y="11"/>
                  </a:lnTo>
                  <a:lnTo>
                    <a:pt x="2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4" y="3"/>
                  </a:lnTo>
                  <a:lnTo>
                    <a:pt x="62" y="3"/>
                  </a:lnTo>
                  <a:lnTo>
                    <a:pt x="71" y="3"/>
                  </a:lnTo>
                  <a:lnTo>
                    <a:pt x="79" y="3"/>
                  </a:lnTo>
                  <a:lnTo>
                    <a:pt x="88" y="3"/>
                  </a:lnTo>
                  <a:lnTo>
                    <a:pt x="97" y="3"/>
                  </a:lnTo>
                  <a:lnTo>
                    <a:pt x="105" y="3"/>
                  </a:lnTo>
                  <a:lnTo>
                    <a:pt x="114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3" y="3"/>
                  </a:lnTo>
                  <a:lnTo>
                    <a:pt x="124" y="3"/>
                  </a:lnTo>
                  <a:lnTo>
                    <a:pt x="124" y="3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3" y="2"/>
                  </a:lnTo>
                  <a:lnTo>
                    <a:pt x="139" y="1"/>
                  </a:lnTo>
                  <a:lnTo>
                    <a:pt x="144" y="1"/>
                  </a:lnTo>
                  <a:lnTo>
                    <a:pt x="155" y="0"/>
                  </a:lnTo>
                  <a:lnTo>
                    <a:pt x="167" y="0"/>
                  </a:lnTo>
                  <a:lnTo>
                    <a:pt x="179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0" y="0"/>
                  </a:lnTo>
                  <a:lnTo>
                    <a:pt x="215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7" y="0"/>
                  </a:lnTo>
                  <a:lnTo>
                    <a:pt x="261" y="0"/>
                  </a:lnTo>
                  <a:lnTo>
                    <a:pt x="263" y="1"/>
                  </a:lnTo>
                  <a:lnTo>
                    <a:pt x="264" y="1"/>
                  </a:lnTo>
                  <a:lnTo>
                    <a:pt x="264" y="1"/>
                  </a:lnTo>
                  <a:lnTo>
                    <a:pt x="265" y="2"/>
                  </a:lnTo>
                  <a:lnTo>
                    <a:pt x="266" y="2"/>
                  </a:lnTo>
                  <a:lnTo>
                    <a:pt x="266" y="3"/>
                  </a:lnTo>
                  <a:lnTo>
                    <a:pt x="267" y="4"/>
                  </a:lnTo>
                  <a:lnTo>
                    <a:pt x="267" y="4"/>
                  </a:lnTo>
                  <a:lnTo>
                    <a:pt x="267" y="5"/>
                  </a:lnTo>
                  <a:lnTo>
                    <a:pt x="268" y="8"/>
                  </a:lnTo>
                  <a:lnTo>
                    <a:pt x="268" y="11"/>
                  </a:lnTo>
                  <a:lnTo>
                    <a:pt x="256" y="12"/>
                  </a:lnTo>
                  <a:lnTo>
                    <a:pt x="246" y="13"/>
                  </a:lnTo>
                  <a:lnTo>
                    <a:pt x="235" y="13"/>
                  </a:lnTo>
                  <a:lnTo>
                    <a:pt x="224" y="14"/>
                  </a:lnTo>
                  <a:lnTo>
                    <a:pt x="213" y="14"/>
                  </a:lnTo>
                  <a:lnTo>
                    <a:pt x="202" y="14"/>
                  </a:lnTo>
                  <a:lnTo>
                    <a:pt x="192" y="14"/>
                  </a:lnTo>
                  <a:lnTo>
                    <a:pt x="181" y="15"/>
                  </a:lnTo>
                  <a:close/>
                </a:path>
              </a:pathLst>
            </a:custGeom>
            <a:solidFill>
              <a:srgbClr val="a38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121240" y="593244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6" y="21"/>
                  </a:move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061120" y="591480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26"/>
                  </a:moveTo>
                  <a:lnTo>
                    <a:pt x="6" y="25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4" y="7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2" y="14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521560" y="5838840"/>
              <a:ext cx="6948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0" y="73"/>
                  </a:moveTo>
                  <a:lnTo>
                    <a:pt x="9" y="73"/>
                  </a:lnTo>
                  <a:lnTo>
                    <a:pt x="8" y="73"/>
                  </a:lnTo>
                  <a:lnTo>
                    <a:pt x="6" y="73"/>
                  </a:lnTo>
                  <a:lnTo>
                    <a:pt x="5" y="73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9" y="51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3"/>
                  </a:lnTo>
                  <a:lnTo>
                    <a:pt x="25" y="16"/>
                  </a:lnTo>
                  <a:lnTo>
                    <a:pt x="27" y="8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3" y="19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2" y="26"/>
                  </a:lnTo>
                  <a:lnTo>
                    <a:pt x="42" y="29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4" y="26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5" y="27"/>
                  </a:lnTo>
                  <a:lnTo>
                    <a:pt x="36" y="29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3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6" y="36"/>
                  </a:lnTo>
                  <a:lnTo>
                    <a:pt x="37" y="36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7" y="43"/>
                  </a:lnTo>
                  <a:lnTo>
                    <a:pt x="37" y="45"/>
                  </a:lnTo>
                  <a:lnTo>
                    <a:pt x="35" y="49"/>
                  </a:lnTo>
                  <a:lnTo>
                    <a:pt x="34" y="53"/>
                  </a:lnTo>
                  <a:lnTo>
                    <a:pt x="32" y="59"/>
                  </a:lnTo>
                  <a:lnTo>
                    <a:pt x="30" y="64"/>
                  </a:lnTo>
                  <a:lnTo>
                    <a:pt x="28" y="68"/>
                  </a:lnTo>
                  <a:lnTo>
                    <a:pt x="27" y="73"/>
                  </a:lnTo>
                  <a:lnTo>
                    <a:pt x="24" y="73"/>
                  </a:lnTo>
                  <a:lnTo>
                    <a:pt x="22" y="73"/>
                  </a:lnTo>
                  <a:lnTo>
                    <a:pt x="21" y="73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0" y="7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02400" y="5844960"/>
              <a:ext cx="70920" cy="10980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69"/>
                  </a:moveTo>
                  <a:lnTo>
                    <a:pt x="22" y="69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18" y="67"/>
                  </a:lnTo>
                  <a:lnTo>
                    <a:pt x="17" y="67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5" y="64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3" y="58"/>
                  </a:lnTo>
                  <a:lnTo>
                    <a:pt x="11" y="54"/>
                  </a:lnTo>
                  <a:lnTo>
                    <a:pt x="10" y="50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1"/>
                  </a:lnTo>
                  <a:lnTo>
                    <a:pt x="15" y="14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20" y="23"/>
                  </a:lnTo>
                  <a:lnTo>
                    <a:pt x="21" y="27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1" y="41"/>
                  </a:lnTo>
                  <a:lnTo>
                    <a:pt x="35" y="46"/>
                  </a:lnTo>
                  <a:lnTo>
                    <a:pt x="38" y="51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2"/>
                  </a:lnTo>
                  <a:lnTo>
                    <a:pt x="44" y="65"/>
                  </a:lnTo>
                  <a:lnTo>
                    <a:pt x="45" y="67"/>
                  </a:lnTo>
                  <a:lnTo>
                    <a:pt x="42" y="67"/>
                  </a:lnTo>
                  <a:lnTo>
                    <a:pt x="39" y="69"/>
                  </a:lnTo>
                  <a:lnTo>
                    <a:pt x="36" y="69"/>
                  </a:lnTo>
                  <a:lnTo>
                    <a:pt x="34" y="69"/>
                  </a:lnTo>
                  <a:lnTo>
                    <a:pt x="30" y="69"/>
                  </a:lnTo>
                  <a:lnTo>
                    <a:pt x="28" y="69"/>
                  </a:lnTo>
                  <a:lnTo>
                    <a:pt x="25" y="69"/>
                  </a:lnTo>
                  <a:lnTo>
                    <a:pt x="23" y="69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7560" y="5922720"/>
              <a:ext cx="56520" cy="3204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12" y="2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2" y="11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102160" y="5933880"/>
              <a:ext cx="140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11"/>
                  </a:move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272080" y="5914800"/>
              <a:ext cx="756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1" y="17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161200" y="5933880"/>
              <a:ext cx="2340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056440" y="5700600"/>
              <a:ext cx="217080" cy="225360"/>
            </a:xfrm>
            <a:custGeom>
              <a:avLst/>
              <a:gdLst/>
              <a:ahLst/>
              <a:rect l="l" t="t" r="r" b="b"/>
              <a:pathLst>
                <a:path w="137" h="142">
                  <a:moveTo>
                    <a:pt x="49" y="142"/>
                  </a:moveTo>
                  <a:lnTo>
                    <a:pt x="45" y="142"/>
                  </a:lnTo>
                  <a:lnTo>
                    <a:pt x="42" y="142"/>
                  </a:lnTo>
                  <a:lnTo>
                    <a:pt x="39" y="141"/>
                  </a:lnTo>
                  <a:lnTo>
                    <a:pt x="37" y="140"/>
                  </a:lnTo>
                  <a:lnTo>
                    <a:pt x="34" y="139"/>
                  </a:lnTo>
                  <a:lnTo>
                    <a:pt x="31" y="139"/>
                  </a:lnTo>
                  <a:lnTo>
                    <a:pt x="29" y="138"/>
                  </a:lnTo>
                  <a:lnTo>
                    <a:pt x="27" y="137"/>
                  </a:lnTo>
                  <a:lnTo>
                    <a:pt x="25" y="135"/>
                  </a:lnTo>
                  <a:lnTo>
                    <a:pt x="23" y="134"/>
                  </a:lnTo>
                  <a:lnTo>
                    <a:pt x="22" y="132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6" y="126"/>
                  </a:lnTo>
                  <a:lnTo>
                    <a:pt x="14" y="124"/>
                  </a:lnTo>
                  <a:lnTo>
                    <a:pt x="13" y="122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20"/>
                  </a:lnTo>
                  <a:lnTo>
                    <a:pt x="10" y="119"/>
                  </a:lnTo>
                  <a:lnTo>
                    <a:pt x="9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7" y="119"/>
                  </a:lnTo>
                  <a:lnTo>
                    <a:pt x="8" y="121"/>
                  </a:lnTo>
                  <a:lnTo>
                    <a:pt x="9" y="123"/>
                  </a:lnTo>
                  <a:lnTo>
                    <a:pt x="11" y="125"/>
                  </a:lnTo>
                  <a:lnTo>
                    <a:pt x="13" y="128"/>
                  </a:lnTo>
                  <a:lnTo>
                    <a:pt x="14" y="131"/>
                  </a:lnTo>
                  <a:lnTo>
                    <a:pt x="17" y="133"/>
                  </a:lnTo>
                  <a:lnTo>
                    <a:pt x="18" y="136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21" y="138"/>
                  </a:lnTo>
                  <a:lnTo>
                    <a:pt x="15" y="133"/>
                  </a:lnTo>
                  <a:lnTo>
                    <a:pt x="11" y="128"/>
                  </a:lnTo>
                  <a:lnTo>
                    <a:pt x="9" y="126"/>
                  </a:lnTo>
                  <a:lnTo>
                    <a:pt x="7" y="124"/>
                  </a:lnTo>
                  <a:lnTo>
                    <a:pt x="6" y="122"/>
                  </a:lnTo>
                  <a:lnTo>
                    <a:pt x="4" y="120"/>
                  </a:lnTo>
                  <a:lnTo>
                    <a:pt x="3" y="118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6" y="76"/>
                  </a:lnTo>
                  <a:lnTo>
                    <a:pt x="7" y="73"/>
                  </a:ln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2" y="69"/>
                  </a:lnTo>
                  <a:lnTo>
                    <a:pt x="13" y="68"/>
                  </a:lnTo>
                  <a:lnTo>
                    <a:pt x="14" y="68"/>
                  </a:lnTo>
                  <a:lnTo>
                    <a:pt x="15" y="67"/>
                  </a:lnTo>
                  <a:lnTo>
                    <a:pt x="15" y="66"/>
                  </a:lnTo>
                  <a:lnTo>
                    <a:pt x="11" y="66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4" y="39"/>
                  </a:lnTo>
                  <a:lnTo>
                    <a:pt x="17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1" y="41"/>
                  </a:lnTo>
                  <a:lnTo>
                    <a:pt x="32" y="43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8" y="37"/>
                  </a:lnTo>
                  <a:lnTo>
                    <a:pt x="38" y="35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3" y="28"/>
                  </a:lnTo>
                  <a:lnTo>
                    <a:pt x="43" y="26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1" y="22"/>
                  </a:lnTo>
                  <a:lnTo>
                    <a:pt x="40" y="21"/>
                  </a:lnTo>
                  <a:lnTo>
                    <a:pt x="38" y="20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8" y="15"/>
                  </a:lnTo>
                  <a:lnTo>
                    <a:pt x="42" y="11"/>
                  </a:lnTo>
                  <a:lnTo>
                    <a:pt x="47" y="9"/>
                  </a:lnTo>
                  <a:lnTo>
                    <a:pt x="50" y="7"/>
                  </a:lnTo>
                  <a:lnTo>
                    <a:pt x="54" y="5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1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8" y="1"/>
                  </a:lnTo>
                  <a:lnTo>
                    <a:pt x="92" y="2"/>
                  </a:lnTo>
                  <a:lnTo>
                    <a:pt x="97" y="3"/>
                  </a:lnTo>
                  <a:lnTo>
                    <a:pt x="102" y="5"/>
                  </a:lnTo>
                  <a:lnTo>
                    <a:pt x="100" y="9"/>
                  </a:lnTo>
                  <a:lnTo>
                    <a:pt x="98" y="17"/>
                  </a:lnTo>
                  <a:lnTo>
                    <a:pt x="97" y="22"/>
                  </a:lnTo>
                  <a:lnTo>
                    <a:pt x="96" y="26"/>
                  </a:lnTo>
                  <a:lnTo>
                    <a:pt x="96" y="32"/>
                  </a:lnTo>
                  <a:lnTo>
                    <a:pt x="95" y="37"/>
                  </a:lnTo>
                  <a:lnTo>
                    <a:pt x="94" y="43"/>
                  </a:lnTo>
                  <a:lnTo>
                    <a:pt x="94" y="47"/>
                  </a:lnTo>
                  <a:lnTo>
                    <a:pt x="94" y="51"/>
                  </a:lnTo>
                  <a:lnTo>
                    <a:pt x="94" y="55"/>
                  </a:lnTo>
                  <a:lnTo>
                    <a:pt x="95" y="58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6" y="62"/>
                  </a:lnTo>
                  <a:lnTo>
                    <a:pt x="96" y="63"/>
                  </a:lnTo>
                  <a:lnTo>
                    <a:pt x="97" y="64"/>
                  </a:lnTo>
                  <a:lnTo>
                    <a:pt x="98" y="64"/>
                  </a:lnTo>
                  <a:lnTo>
                    <a:pt x="99" y="64"/>
                  </a:lnTo>
                  <a:lnTo>
                    <a:pt x="103" y="64"/>
                  </a:lnTo>
                  <a:lnTo>
                    <a:pt x="106" y="63"/>
                  </a:lnTo>
                  <a:lnTo>
                    <a:pt x="111" y="61"/>
                  </a:lnTo>
                  <a:lnTo>
                    <a:pt x="118" y="60"/>
                  </a:lnTo>
                  <a:lnTo>
                    <a:pt x="123" y="59"/>
                  </a:lnTo>
                  <a:lnTo>
                    <a:pt x="129" y="58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34" y="59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6"/>
                  </a:lnTo>
                  <a:lnTo>
                    <a:pt x="136" y="68"/>
                  </a:lnTo>
                  <a:lnTo>
                    <a:pt x="137" y="70"/>
                  </a:lnTo>
                  <a:lnTo>
                    <a:pt x="137" y="73"/>
                  </a:lnTo>
                  <a:lnTo>
                    <a:pt x="137" y="75"/>
                  </a:lnTo>
                  <a:lnTo>
                    <a:pt x="137" y="77"/>
                  </a:lnTo>
                  <a:lnTo>
                    <a:pt x="135" y="78"/>
                  </a:lnTo>
                  <a:lnTo>
                    <a:pt x="133" y="79"/>
                  </a:lnTo>
                  <a:lnTo>
                    <a:pt x="131" y="80"/>
                  </a:lnTo>
                  <a:lnTo>
                    <a:pt x="127" y="80"/>
                  </a:lnTo>
                  <a:lnTo>
                    <a:pt x="121" y="81"/>
                  </a:lnTo>
                  <a:lnTo>
                    <a:pt x="113" y="82"/>
                  </a:lnTo>
                  <a:lnTo>
                    <a:pt x="107" y="84"/>
                  </a:lnTo>
                  <a:lnTo>
                    <a:pt x="102" y="86"/>
                  </a:lnTo>
                  <a:lnTo>
                    <a:pt x="99" y="87"/>
                  </a:lnTo>
                  <a:lnTo>
                    <a:pt x="98" y="87"/>
                  </a:lnTo>
                  <a:lnTo>
                    <a:pt x="97" y="88"/>
                  </a:lnTo>
                  <a:lnTo>
                    <a:pt x="97" y="88"/>
                  </a:lnTo>
                  <a:lnTo>
                    <a:pt x="96" y="89"/>
                  </a:lnTo>
                  <a:lnTo>
                    <a:pt x="96" y="89"/>
                  </a:lnTo>
                  <a:lnTo>
                    <a:pt x="96" y="89"/>
                  </a:lnTo>
                  <a:lnTo>
                    <a:pt x="96" y="89"/>
                  </a:lnTo>
                  <a:lnTo>
                    <a:pt x="96" y="90"/>
                  </a:lnTo>
                  <a:lnTo>
                    <a:pt x="97" y="90"/>
                  </a:lnTo>
                  <a:lnTo>
                    <a:pt x="97" y="90"/>
                  </a:lnTo>
                  <a:lnTo>
                    <a:pt x="97" y="90"/>
                  </a:lnTo>
                  <a:lnTo>
                    <a:pt x="97" y="90"/>
                  </a:lnTo>
                  <a:lnTo>
                    <a:pt x="97" y="90"/>
                  </a:lnTo>
                  <a:lnTo>
                    <a:pt x="98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100" y="90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4" y="89"/>
                  </a:lnTo>
                  <a:lnTo>
                    <a:pt x="106" y="89"/>
                  </a:lnTo>
                  <a:lnTo>
                    <a:pt x="106" y="90"/>
                  </a:lnTo>
                  <a:lnTo>
                    <a:pt x="107" y="91"/>
                  </a:lnTo>
                  <a:lnTo>
                    <a:pt x="108" y="92"/>
                  </a:lnTo>
                  <a:lnTo>
                    <a:pt x="109" y="93"/>
                  </a:lnTo>
                  <a:lnTo>
                    <a:pt x="109" y="94"/>
                  </a:lnTo>
                  <a:lnTo>
                    <a:pt x="110" y="95"/>
                  </a:lnTo>
                  <a:lnTo>
                    <a:pt x="110" y="97"/>
                  </a:lnTo>
                  <a:lnTo>
                    <a:pt x="110" y="99"/>
                  </a:lnTo>
                  <a:lnTo>
                    <a:pt x="109" y="102"/>
                  </a:lnTo>
                  <a:lnTo>
                    <a:pt x="107" y="102"/>
                  </a:lnTo>
                  <a:lnTo>
                    <a:pt x="105" y="103"/>
                  </a:lnTo>
                  <a:lnTo>
                    <a:pt x="104" y="103"/>
                  </a:lnTo>
                  <a:lnTo>
                    <a:pt x="100" y="103"/>
                  </a:lnTo>
                  <a:lnTo>
                    <a:pt x="97" y="103"/>
                  </a:lnTo>
                  <a:lnTo>
                    <a:pt x="95" y="103"/>
                  </a:lnTo>
                  <a:lnTo>
                    <a:pt x="93" y="103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8" y="104"/>
                  </a:lnTo>
                  <a:lnTo>
                    <a:pt x="85" y="104"/>
                  </a:lnTo>
                  <a:lnTo>
                    <a:pt x="84" y="105"/>
                  </a:lnTo>
                  <a:lnTo>
                    <a:pt x="82" y="107"/>
                  </a:lnTo>
                  <a:lnTo>
                    <a:pt x="80" y="107"/>
                  </a:lnTo>
                  <a:lnTo>
                    <a:pt x="78" y="108"/>
                  </a:lnTo>
                  <a:lnTo>
                    <a:pt x="76" y="108"/>
                  </a:lnTo>
                  <a:lnTo>
                    <a:pt x="74" y="107"/>
                  </a:lnTo>
                  <a:lnTo>
                    <a:pt x="71" y="107"/>
                  </a:lnTo>
                  <a:lnTo>
                    <a:pt x="70" y="106"/>
                  </a:lnTo>
                  <a:lnTo>
                    <a:pt x="69" y="105"/>
                  </a:lnTo>
                  <a:lnTo>
                    <a:pt x="67" y="104"/>
                  </a:lnTo>
                  <a:lnTo>
                    <a:pt x="66" y="103"/>
                  </a:lnTo>
                  <a:lnTo>
                    <a:pt x="65" y="102"/>
                  </a:lnTo>
                  <a:lnTo>
                    <a:pt x="64" y="99"/>
                  </a:lnTo>
                  <a:lnTo>
                    <a:pt x="63" y="98"/>
                  </a:lnTo>
                  <a:lnTo>
                    <a:pt x="61" y="95"/>
                  </a:lnTo>
                  <a:lnTo>
                    <a:pt x="58" y="91"/>
                  </a:lnTo>
                  <a:lnTo>
                    <a:pt x="56" y="88"/>
                  </a:lnTo>
                  <a:lnTo>
                    <a:pt x="54" y="84"/>
                  </a:lnTo>
                  <a:lnTo>
                    <a:pt x="53" y="83"/>
                  </a:lnTo>
                  <a:lnTo>
                    <a:pt x="52" y="82"/>
                  </a:lnTo>
                  <a:lnTo>
                    <a:pt x="51" y="81"/>
                  </a:lnTo>
                  <a:lnTo>
                    <a:pt x="49" y="80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44" y="78"/>
                  </a:lnTo>
                  <a:lnTo>
                    <a:pt x="42" y="78"/>
                  </a:lnTo>
                  <a:lnTo>
                    <a:pt x="40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1"/>
                  </a:lnTo>
                  <a:lnTo>
                    <a:pt x="31" y="83"/>
                  </a:lnTo>
                  <a:lnTo>
                    <a:pt x="30" y="84"/>
                  </a:lnTo>
                  <a:lnTo>
                    <a:pt x="28" y="87"/>
                  </a:lnTo>
                  <a:lnTo>
                    <a:pt x="27" y="88"/>
                  </a:lnTo>
                  <a:lnTo>
                    <a:pt x="27" y="90"/>
                  </a:lnTo>
                  <a:lnTo>
                    <a:pt x="26" y="91"/>
                  </a:lnTo>
                  <a:lnTo>
                    <a:pt x="26" y="93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9" y="93"/>
                  </a:lnTo>
                  <a:lnTo>
                    <a:pt x="31" y="90"/>
                  </a:lnTo>
                  <a:lnTo>
                    <a:pt x="32" y="89"/>
                  </a:lnTo>
                  <a:lnTo>
                    <a:pt x="34" y="87"/>
                  </a:lnTo>
                  <a:lnTo>
                    <a:pt x="35" y="86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9" y="83"/>
                  </a:lnTo>
                  <a:lnTo>
                    <a:pt x="41" y="82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7" y="82"/>
                  </a:lnTo>
                  <a:lnTo>
                    <a:pt x="49" y="83"/>
                  </a:lnTo>
                  <a:lnTo>
                    <a:pt x="51" y="84"/>
                  </a:lnTo>
                  <a:lnTo>
                    <a:pt x="54" y="91"/>
                  </a:lnTo>
                  <a:lnTo>
                    <a:pt x="57" y="96"/>
                  </a:lnTo>
                  <a:lnTo>
                    <a:pt x="59" y="99"/>
                  </a:lnTo>
                  <a:lnTo>
                    <a:pt x="62" y="103"/>
                  </a:lnTo>
                  <a:lnTo>
                    <a:pt x="64" y="105"/>
                  </a:lnTo>
                  <a:lnTo>
                    <a:pt x="65" y="107"/>
                  </a:lnTo>
                  <a:lnTo>
                    <a:pt x="68" y="109"/>
                  </a:lnTo>
                  <a:lnTo>
                    <a:pt x="70" y="110"/>
                  </a:lnTo>
                  <a:lnTo>
                    <a:pt x="71" y="110"/>
                  </a:lnTo>
                  <a:lnTo>
                    <a:pt x="72" y="111"/>
                  </a:lnTo>
                  <a:lnTo>
                    <a:pt x="75" y="111"/>
                  </a:lnTo>
                  <a:lnTo>
                    <a:pt x="76" y="111"/>
                  </a:lnTo>
                  <a:lnTo>
                    <a:pt x="77" y="111"/>
                  </a:lnTo>
                  <a:lnTo>
                    <a:pt x="79" y="111"/>
                  </a:lnTo>
                  <a:lnTo>
                    <a:pt x="80" y="111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5" y="109"/>
                  </a:lnTo>
                  <a:lnTo>
                    <a:pt x="88" y="108"/>
                  </a:lnTo>
                  <a:lnTo>
                    <a:pt x="90" y="107"/>
                  </a:lnTo>
                  <a:lnTo>
                    <a:pt x="91" y="107"/>
                  </a:lnTo>
                  <a:lnTo>
                    <a:pt x="92" y="106"/>
                  </a:lnTo>
                  <a:lnTo>
                    <a:pt x="93" y="106"/>
                  </a:lnTo>
                  <a:lnTo>
                    <a:pt x="95" y="106"/>
                  </a:lnTo>
                  <a:lnTo>
                    <a:pt x="97" y="106"/>
                  </a:lnTo>
                  <a:lnTo>
                    <a:pt x="98" y="106"/>
                  </a:lnTo>
                  <a:lnTo>
                    <a:pt x="100" y="106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00" y="108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8" y="112"/>
                  </a:lnTo>
                  <a:lnTo>
                    <a:pt x="98" y="113"/>
                  </a:lnTo>
                  <a:lnTo>
                    <a:pt x="97" y="113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4"/>
                  </a:lnTo>
                  <a:lnTo>
                    <a:pt x="88" y="116"/>
                  </a:lnTo>
                  <a:lnTo>
                    <a:pt x="85" y="117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5" y="118"/>
                  </a:lnTo>
                  <a:lnTo>
                    <a:pt x="85" y="118"/>
                  </a:lnTo>
                  <a:lnTo>
                    <a:pt x="86" y="118"/>
                  </a:lnTo>
                  <a:lnTo>
                    <a:pt x="86" y="118"/>
                  </a:lnTo>
                  <a:lnTo>
                    <a:pt x="88" y="118"/>
                  </a:lnTo>
                  <a:lnTo>
                    <a:pt x="88" y="118"/>
                  </a:lnTo>
                  <a:lnTo>
                    <a:pt x="89" y="119"/>
                  </a:lnTo>
                  <a:lnTo>
                    <a:pt x="83" y="123"/>
                  </a:lnTo>
                  <a:lnTo>
                    <a:pt x="79" y="126"/>
                  </a:lnTo>
                  <a:lnTo>
                    <a:pt x="75" y="131"/>
                  </a:lnTo>
                  <a:lnTo>
                    <a:pt x="70" y="135"/>
                  </a:lnTo>
                  <a:lnTo>
                    <a:pt x="68" y="136"/>
                  </a:lnTo>
                  <a:lnTo>
                    <a:pt x="66" y="138"/>
                  </a:lnTo>
                  <a:lnTo>
                    <a:pt x="63" y="139"/>
                  </a:lnTo>
                  <a:lnTo>
                    <a:pt x="61" y="140"/>
                  </a:lnTo>
                  <a:lnTo>
                    <a:pt x="57" y="141"/>
                  </a:lnTo>
                  <a:lnTo>
                    <a:pt x="55" y="142"/>
                  </a:lnTo>
                  <a:lnTo>
                    <a:pt x="52" y="142"/>
                  </a:lnTo>
                  <a:lnTo>
                    <a:pt x="49" y="14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164080" y="5916600"/>
              <a:ext cx="1872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6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15000" y="5727600"/>
              <a:ext cx="164880" cy="19836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55" y="125"/>
                  </a:moveTo>
                  <a:lnTo>
                    <a:pt x="53" y="124"/>
                  </a:lnTo>
                  <a:lnTo>
                    <a:pt x="49" y="124"/>
                  </a:lnTo>
                  <a:lnTo>
                    <a:pt x="47" y="123"/>
                  </a:lnTo>
                  <a:lnTo>
                    <a:pt x="44" y="122"/>
                  </a:lnTo>
                  <a:lnTo>
                    <a:pt x="42" y="121"/>
                  </a:lnTo>
                  <a:lnTo>
                    <a:pt x="39" y="120"/>
                  </a:lnTo>
                  <a:lnTo>
                    <a:pt x="36" y="119"/>
                  </a:lnTo>
                  <a:lnTo>
                    <a:pt x="34" y="118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8" y="113"/>
                  </a:lnTo>
                  <a:lnTo>
                    <a:pt x="26" y="111"/>
                  </a:lnTo>
                  <a:lnTo>
                    <a:pt x="24" y="109"/>
                  </a:lnTo>
                  <a:lnTo>
                    <a:pt x="22" y="107"/>
                  </a:lnTo>
                  <a:lnTo>
                    <a:pt x="20" y="105"/>
                  </a:lnTo>
                  <a:lnTo>
                    <a:pt x="19" y="103"/>
                  </a:lnTo>
                  <a:lnTo>
                    <a:pt x="16" y="99"/>
                  </a:lnTo>
                  <a:lnTo>
                    <a:pt x="14" y="94"/>
                  </a:lnTo>
                  <a:lnTo>
                    <a:pt x="12" y="89"/>
                  </a:lnTo>
                  <a:lnTo>
                    <a:pt x="9" y="85"/>
                  </a:lnTo>
                  <a:lnTo>
                    <a:pt x="8" y="79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3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7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6" y="4"/>
                  </a:lnTo>
                  <a:lnTo>
                    <a:pt x="23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2" y="24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1"/>
                  </a:lnTo>
                  <a:lnTo>
                    <a:pt x="23" y="43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9" y="48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3" y="50"/>
                  </a:lnTo>
                  <a:lnTo>
                    <a:pt x="35" y="50"/>
                  </a:lnTo>
                  <a:lnTo>
                    <a:pt x="34" y="55"/>
                  </a:lnTo>
                  <a:lnTo>
                    <a:pt x="33" y="58"/>
                  </a:lnTo>
                  <a:lnTo>
                    <a:pt x="33" y="61"/>
                  </a:lnTo>
                  <a:lnTo>
                    <a:pt x="33" y="64"/>
                  </a:lnTo>
                  <a:lnTo>
                    <a:pt x="33" y="67"/>
                  </a:lnTo>
                  <a:lnTo>
                    <a:pt x="34" y="71"/>
                  </a:lnTo>
                  <a:lnTo>
                    <a:pt x="35" y="75"/>
                  </a:lnTo>
                  <a:lnTo>
                    <a:pt x="37" y="78"/>
                  </a:lnTo>
                  <a:lnTo>
                    <a:pt x="39" y="80"/>
                  </a:lnTo>
                  <a:lnTo>
                    <a:pt x="41" y="81"/>
                  </a:lnTo>
                  <a:lnTo>
                    <a:pt x="42" y="82"/>
                  </a:lnTo>
                  <a:lnTo>
                    <a:pt x="43" y="84"/>
                  </a:lnTo>
                  <a:lnTo>
                    <a:pt x="45" y="84"/>
                  </a:lnTo>
                  <a:lnTo>
                    <a:pt x="46" y="85"/>
                  </a:lnTo>
                  <a:lnTo>
                    <a:pt x="47" y="85"/>
                  </a:lnTo>
                  <a:lnTo>
                    <a:pt x="49" y="85"/>
                  </a:lnTo>
                  <a:lnTo>
                    <a:pt x="50" y="85"/>
                  </a:lnTo>
                  <a:lnTo>
                    <a:pt x="51" y="85"/>
                  </a:lnTo>
                  <a:lnTo>
                    <a:pt x="53" y="84"/>
                  </a:lnTo>
                  <a:lnTo>
                    <a:pt x="54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1" y="78"/>
                  </a:lnTo>
                  <a:lnTo>
                    <a:pt x="62" y="76"/>
                  </a:lnTo>
                  <a:lnTo>
                    <a:pt x="64" y="73"/>
                  </a:lnTo>
                  <a:lnTo>
                    <a:pt x="65" y="70"/>
                  </a:lnTo>
                  <a:lnTo>
                    <a:pt x="67" y="67"/>
                  </a:lnTo>
                  <a:lnTo>
                    <a:pt x="68" y="64"/>
                  </a:lnTo>
                  <a:lnTo>
                    <a:pt x="68" y="61"/>
                  </a:lnTo>
                  <a:lnTo>
                    <a:pt x="69" y="58"/>
                  </a:lnTo>
                  <a:lnTo>
                    <a:pt x="68" y="56"/>
                  </a:lnTo>
                  <a:lnTo>
                    <a:pt x="68" y="53"/>
                  </a:lnTo>
                  <a:lnTo>
                    <a:pt x="68" y="52"/>
                  </a:lnTo>
                  <a:lnTo>
                    <a:pt x="67" y="51"/>
                  </a:lnTo>
                  <a:lnTo>
                    <a:pt x="67" y="50"/>
                  </a:lnTo>
                  <a:lnTo>
                    <a:pt x="67" y="5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69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2"/>
                  </a:lnTo>
                  <a:lnTo>
                    <a:pt x="74" y="40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6" y="33"/>
                  </a:lnTo>
                  <a:lnTo>
                    <a:pt x="77" y="31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78" y="19"/>
                  </a:lnTo>
                  <a:lnTo>
                    <a:pt x="78" y="16"/>
                  </a:lnTo>
                  <a:lnTo>
                    <a:pt x="78" y="13"/>
                  </a:lnTo>
                  <a:lnTo>
                    <a:pt x="78" y="12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2" y="5"/>
                  </a:lnTo>
                  <a:lnTo>
                    <a:pt x="82" y="6"/>
                  </a:lnTo>
                  <a:lnTo>
                    <a:pt x="82" y="7"/>
                  </a:lnTo>
                  <a:lnTo>
                    <a:pt x="83" y="8"/>
                  </a:lnTo>
                  <a:lnTo>
                    <a:pt x="83" y="9"/>
                  </a:lnTo>
                  <a:lnTo>
                    <a:pt x="84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8" y="12"/>
                  </a:lnTo>
                  <a:lnTo>
                    <a:pt x="88" y="13"/>
                  </a:lnTo>
                  <a:lnTo>
                    <a:pt x="88" y="15"/>
                  </a:lnTo>
                  <a:lnTo>
                    <a:pt x="88" y="17"/>
                  </a:lnTo>
                  <a:lnTo>
                    <a:pt x="89" y="18"/>
                  </a:lnTo>
                  <a:lnTo>
                    <a:pt x="90" y="19"/>
                  </a:lnTo>
                  <a:lnTo>
                    <a:pt x="90" y="20"/>
                  </a:lnTo>
                  <a:lnTo>
                    <a:pt x="91" y="20"/>
                  </a:lnTo>
                  <a:lnTo>
                    <a:pt x="91" y="21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5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2"/>
                  </a:lnTo>
                  <a:lnTo>
                    <a:pt x="97" y="9"/>
                  </a:lnTo>
                  <a:lnTo>
                    <a:pt x="98" y="7"/>
                  </a:lnTo>
                  <a:lnTo>
                    <a:pt x="98" y="6"/>
                  </a:lnTo>
                  <a:lnTo>
                    <a:pt x="99" y="6"/>
                  </a:lnTo>
                  <a:lnTo>
                    <a:pt x="99" y="6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1" y="6"/>
                  </a:lnTo>
                  <a:lnTo>
                    <a:pt x="102" y="8"/>
                  </a:lnTo>
                  <a:lnTo>
                    <a:pt x="103" y="11"/>
                  </a:lnTo>
                  <a:lnTo>
                    <a:pt x="103" y="13"/>
                  </a:lnTo>
                  <a:lnTo>
                    <a:pt x="104" y="15"/>
                  </a:lnTo>
                  <a:lnTo>
                    <a:pt x="104" y="17"/>
                  </a:lnTo>
                  <a:lnTo>
                    <a:pt x="104" y="19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3" y="27"/>
                  </a:lnTo>
                  <a:lnTo>
                    <a:pt x="103" y="31"/>
                  </a:lnTo>
                  <a:lnTo>
                    <a:pt x="102" y="35"/>
                  </a:lnTo>
                  <a:lnTo>
                    <a:pt x="101" y="41"/>
                  </a:lnTo>
                  <a:lnTo>
                    <a:pt x="99" y="43"/>
                  </a:lnTo>
                  <a:lnTo>
                    <a:pt x="98" y="43"/>
                  </a:lnTo>
                  <a:lnTo>
                    <a:pt x="97" y="43"/>
                  </a:lnTo>
                  <a:lnTo>
                    <a:pt x="97" y="43"/>
                  </a:lnTo>
                  <a:lnTo>
                    <a:pt x="96" y="43"/>
                  </a:lnTo>
                  <a:lnTo>
                    <a:pt x="96" y="43"/>
                  </a:lnTo>
                  <a:lnTo>
                    <a:pt x="95" y="42"/>
                  </a:lnTo>
                  <a:lnTo>
                    <a:pt x="95" y="41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2" y="40"/>
                  </a:lnTo>
                  <a:lnTo>
                    <a:pt x="92" y="46"/>
                  </a:lnTo>
                  <a:lnTo>
                    <a:pt x="92" y="53"/>
                  </a:lnTo>
                  <a:lnTo>
                    <a:pt x="91" y="62"/>
                  </a:lnTo>
                  <a:lnTo>
                    <a:pt x="90" y="72"/>
                  </a:lnTo>
                  <a:lnTo>
                    <a:pt x="90" y="81"/>
                  </a:lnTo>
                  <a:lnTo>
                    <a:pt x="89" y="89"/>
                  </a:lnTo>
                  <a:lnTo>
                    <a:pt x="88" y="93"/>
                  </a:lnTo>
                  <a:lnTo>
                    <a:pt x="87" y="95"/>
                  </a:lnTo>
                  <a:lnTo>
                    <a:pt x="86" y="99"/>
                  </a:lnTo>
                  <a:lnTo>
                    <a:pt x="85" y="102"/>
                  </a:lnTo>
                  <a:lnTo>
                    <a:pt x="84" y="104"/>
                  </a:lnTo>
                  <a:lnTo>
                    <a:pt x="83" y="107"/>
                  </a:lnTo>
                  <a:lnTo>
                    <a:pt x="81" y="109"/>
                  </a:lnTo>
                  <a:lnTo>
                    <a:pt x="78" y="113"/>
                  </a:lnTo>
                  <a:lnTo>
                    <a:pt x="76" y="115"/>
                  </a:lnTo>
                  <a:lnTo>
                    <a:pt x="75" y="117"/>
                  </a:lnTo>
                  <a:lnTo>
                    <a:pt x="73" y="119"/>
                  </a:lnTo>
                  <a:lnTo>
                    <a:pt x="70" y="121"/>
                  </a:lnTo>
                  <a:lnTo>
                    <a:pt x="68" y="122"/>
                  </a:lnTo>
                  <a:lnTo>
                    <a:pt x="64" y="123"/>
                  </a:lnTo>
                  <a:lnTo>
                    <a:pt x="61" y="124"/>
                  </a:lnTo>
                  <a:lnTo>
                    <a:pt x="59" y="125"/>
                  </a:lnTo>
                  <a:lnTo>
                    <a:pt x="55" y="12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040240" y="590220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300880" y="5887800"/>
              <a:ext cx="1548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8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042040" y="5875200"/>
              <a:ext cx="1224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lnTo>
                    <a:pt x="0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521560" y="5875200"/>
              <a:ext cx="756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313480" y="5881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3"/>
                  </a:move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4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299080" y="58798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4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278560" y="5819760"/>
              <a:ext cx="3276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8" y="37"/>
                  </a:moveTo>
                  <a:lnTo>
                    <a:pt x="17" y="37"/>
                  </a:lnTo>
                  <a:lnTo>
                    <a:pt x="16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7" y="28"/>
                  </a:lnTo>
                  <a:lnTo>
                    <a:pt x="6" y="24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5"/>
                  </a:lnTo>
                  <a:lnTo>
                    <a:pt x="8" y="11"/>
                  </a:lnTo>
                  <a:lnTo>
                    <a:pt x="9" y="15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3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d4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289720" y="5702040"/>
              <a:ext cx="58320" cy="17460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17" y="110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5"/>
                  </a:lnTo>
                  <a:lnTo>
                    <a:pt x="10" y="103"/>
                  </a:lnTo>
                  <a:lnTo>
                    <a:pt x="7" y="100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4" y="90"/>
                  </a:lnTo>
                  <a:lnTo>
                    <a:pt x="3" y="86"/>
                  </a:lnTo>
                  <a:lnTo>
                    <a:pt x="2" y="81"/>
                  </a:lnTo>
                  <a:lnTo>
                    <a:pt x="2" y="78"/>
                  </a:lnTo>
                  <a:lnTo>
                    <a:pt x="1" y="74"/>
                  </a:lnTo>
                  <a:lnTo>
                    <a:pt x="1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5" y="22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29" y="13"/>
                  </a:lnTo>
                  <a:lnTo>
                    <a:pt x="31" y="16"/>
                  </a:lnTo>
                  <a:lnTo>
                    <a:pt x="32" y="20"/>
                  </a:lnTo>
                  <a:lnTo>
                    <a:pt x="33" y="23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5" y="37"/>
                  </a:lnTo>
                  <a:lnTo>
                    <a:pt x="35" y="42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5"/>
                  </a:lnTo>
                  <a:lnTo>
                    <a:pt x="32" y="89"/>
                  </a:lnTo>
                  <a:lnTo>
                    <a:pt x="31" y="92"/>
                  </a:lnTo>
                  <a:lnTo>
                    <a:pt x="30" y="96"/>
                  </a:lnTo>
                  <a:lnTo>
                    <a:pt x="29" y="100"/>
                  </a:lnTo>
                  <a:lnTo>
                    <a:pt x="27" y="102"/>
                  </a:lnTo>
                  <a:lnTo>
                    <a:pt x="26" y="105"/>
                  </a:lnTo>
                  <a:lnTo>
                    <a:pt x="24" y="107"/>
                  </a:lnTo>
                  <a:lnTo>
                    <a:pt x="21" y="108"/>
                  </a:lnTo>
                  <a:lnTo>
                    <a:pt x="20" y="109"/>
                  </a:lnTo>
                  <a:lnTo>
                    <a:pt x="19" y="110"/>
                  </a:lnTo>
                  <a:lnTo>
                    <a:pt x="18" y="110"/>
                  </a:lnTo>
                  <a:lnTo>
                    <a:pt x="17" y="110"/>
                  </a:lnTo>
                  <a:close/>
                </a:path>
              </a:pathLst>
            </a:custGeom>
            <a:solidFill>
              <a:srgbClr val="d4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318160" y="5711760"/>
              <a:ext cx="23400" cy="150840"/>
            </a:xfrm>
            <a:custGeom>
              <a:avLst/>
              <a:gdLst/>
              <a:ahLst/>
              <a:rect l="l" t="t" r="r" b="b"/>
              <a:pathLst>
                <a:path w="15" h="95">
                  <a:moveTo>
                    <a:pt x="2" y="95"/>
                  </a:moveTo>
                  <a:lnTo>
                    <a:pt x="2" y="92"/>
                  </a:lnTo>
                  <a:lnTo>
                    <a:pt x="3" y="91"/>
                  </a:lnTo>
                  <a:lnTo>
                    <a:pt x="3" y="89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4"/>
                  </a:lnTo>
                  <a:lnTo>
                    <a:pt x="7" y="82"/>
                  </a:lnTo>
                  <a:lnTo>
                    <a:pt x="8" y="81"/>
                  </a:lnTo>
                  <a:lnTo>
                    <a:pt x="10" y="72"/>
                  </a:lnTo>
                  <a:lnTo>
                    <a:pt x="11" y="61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2" y="28"/>
                  </a:lnTo>
                  <a:lnTo>
                    <a:pt x="11" y="23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5"/>
                  </a:lnTo>
                  <a:lnTo>
                    <a:pt x="12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9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4" y="58"/>
                  </a:lnTo>
                  <a:lnTo>
                    <a:pt x="13" y="65"/>
                  </a:lnTo>
                  <a:lnTo>
                    <a:pt x="12" y="71"/>
                  </a:lnTo>
                  <a:lnTo>
                    <a:pt x="10" y="77"/>
                  </a:lnTo>
                  <a:lnTo>
                    <a:pt x="9" y="83"/>
                  </a:lnTo>
                  <a:lnTo>
                    <a:pt x="7" y="88"/>
                  </a:lnTo>
                  <a:lnTo>
                    <a:pt x="5" y="94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5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06920" y="584676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9"/>
                  </a:move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472240" y="5796000"/>
              <a:ext cx="45720" cy="568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9" y="36"/>
                  </a:moveTo>
                  <a:lnTo>
                    <a:pt x="8" y="36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9" y="13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5" y="35"/>
                  </a:lnTo>
                  <a:lnTo>
                    <a:pt x="12" y="3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200800" y="5811840"/>
              <a:ext cx="2484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2" y="17"/>
                  </a:move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275320" y="579600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1" y="15"/>
                  </a:move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443440" y="579420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3"/>
                  </a:move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534160" y="5803920"/>
              <a:ext cx="756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529480" y="5794200"/>
              <a:ext cx="1224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457840" y="5699160"/>
              <a:ext cx="75960" cy="10296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9" y="65"/>
                  </a:moveTo>
                  <a:lnTo>
                    <a:pt x="7" y="65"/>
                  </a:lnTo>
                  <a:lnTo>
                    <a:pt x="6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3" y="62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7" y="41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6" y="37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6"/>
                  </a:lnTo>
                  <a:lnTo>
                    <a:pt x="6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4" y="16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6"/>
                  </a:lnTo>
                  <a:lnTo>
                    <a:pt x="44" y="7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7" y="20"/>
                  </a:lnTo>
                  <a:lnTo>
                    <a:pt x="47" y="24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47" y="46"/>
                  </a:lnTo>
                  <a:lnTo>
                    <a:pt x="47" y="49"/>
                  </a:lnTo>
                  <a:lnTo>
                    <a:pt x="46" y="52"/>
                  </a:lnTo>
                  <a:lnTo>
                    <a:pt x="45" y="55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2" y="60"/>
                  </a:lnTo>
                  <a:lnTo>
                    <a:pt x="41" y="61"/>
                  </a:lnTo>
                  <a:lnTo>
                    <a:pt x="40" y="62"/>
                  </a:lnTo>
                  <a:lnTo>
                    <a:pt x="38" y="63"/>
                  </a:lnTo>
                  <a:lnTo>
                    <a:pt x="37" y="63"/>
                  </a:lnTo>
                  <a:lnTo>
                    <a:pt x="36" y="63"/>
                  </a:lnTo>
                  <a:lnTo>
                    <a:pt x="35" y="62"/>
                  </a:lnTo>
                  <a:lnTo>
                    <a:pt x="34" y="62"/>
                  </a:lnTo>
                  <a:lnTo>
                    <a:pt x="33" y="61"/>
                  </a:lnTo>
                  <a:lnTo>
                    <a:pt x="32" y="60"/>
                  </a:lnTo>
                  <a:lnTo>
                    <a:pt x="31" y="60"/>
                  </a:lnTo>
                  <a:lnTo>
                    <a:pt x="30" y="59"/>
                  </a:lnTo>
                  <a:lnTo>
                    <a:pt x="29" y="59"/>
                  </a:lnTo>
                  <a:lnTo>
                    <a:pt x="28" y="58"/>
                  </a:lnTo>
                  <a:lnTo>
                    <a:pt x="28" y="55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9" y="41"/>
                  </a:lnTo>
                  <a:lnTo>
                    <a:pt x="29" y="38"/>
                  </a:lnTo>
                  <a:lnTo>
                    <a:pt x="28" y="37"/>
                  </a:lnTo>
                  <a:lnTo>
                    <a:pt x="27" y="36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0" y="42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1" y="53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0" y="58"/>
                  </a:lnTo>
                  <a:lnTo>
                    <a:pt x="18" y="59"/>
                  </a:lnTo>
                  <a:lnTo>
                    <a:pt x="17" y="60"/>
                  </a:lnTo>
                  <a:lnTo>
                    <a:pt x="15" y="62"/>
                  </a:lnTo>
                  <a:lnTo>
                    <a:pt x="14" y="63"/>
                  </a:lnTo>
                  <a:lnTo>
                    <a:pt x="12" y="64"/>
                  </a:lnTo>
                  <a:lnTo>
                    <a:pt x="10" y="65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72280" y="5778360"/>
              <a:ext cx="1548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56160" y="57783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2" y="13"/>
                  </a:moveTo>
                  <a:lnTo>
                    <a:pt x="21" y="10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162640" y="5792760"/>
              <a:ext cx="1872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3"/>
                  </a:move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211960" y="5700600"/>
              <a:ext cx="2808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1" y="60"/>
                  </a:moveTo>
                  <a:lnTo>
                    <a:pt x="1" y="59"/>
                  </a:lnTo>
                  <a:lnTo>
                    <a:pt x="1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7" y="10"/>
                  </a:lnTo>
                  <a:lnTo>
                    <a:pt x="18" y="16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41"/>
                  </a:lnTo>
                  <a:lnTo>
                    <a:pt x="12" y="44"/>
                  </a:lnTo>
                  <a:lnTo>
                    <a:pt x="12" y="47"/>
                  </a:lnTo>
                  <a:lnTo>
                    <a:pt x="12" y="50"/>
                  </a:lnTo>
                  <a:lnTo>
                    <a:pt x="12" y="53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275320" y="5702040"/>
              <a:ext cx="37800" cy="9072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6" y="57"/>
                  </a:moveTo>
                  <a:lnTo>
                    <a:pt x="5" y="57"/>
                  </a:lnTo>
                  <a:lnTo>
                    <a:pt x="5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4"/>
                  </a:lnTo>
                  <a:lnTo>
                    <a:pt x="8" y="42"/>
                  </a:lnTo>
                  <a:lnTo>
                    <a:pt x="7" y="49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d4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565840" y="5757840"/>
              <a:ext cx="4320" cy="2520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154720" y="574992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19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56400" y="575784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1" y="12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494560" y="5761080"/>
              <a:ext cx="576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38960" y="57625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073720" y="5724360"/>
              <a:ext cx="45720" cy="367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0" y="23"/>
                  </a:moveTo>
                  <a:lnTo>
                    <a:pt x="19" y="22"/>
                  </a:lnTo>
                  <a:lnTo>
                    <a:pt x="18" y="21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4" y="20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c7c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421480" y="5654520"/>
              <a:ext cx="156600" cy="9540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8" y="60"/>
                  </a:moveTo>
                  <a:lnTo>
                    <a:pt x="8" y="58"/>
                  </a:lnTo>
                  <a:lnTo>
                    <a:pt x="9" y="53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5"/>
                  </a:lnTo>
                  <a:lnTo>
                    <a:pt x="3" y="45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38"/>
                  </a:lnTo>
                  <a:lnTo>
                    <a:pt x="4" y="35"/>
                  </a:lnTo>
                  <a:lnTo>
                    <a:pt x="5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9" y="9"/>
                  </a:lnTo>
                  <a:lnTo>
                    <a:pt x="52" y="8"/>
                  </a:lnTo>
                  <a:lnTo>
                    <a:pt x="55" y="7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3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87" y="4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7" y="5"/>
                  </a:lnTo>
                  <a:lnTo>
                    <a:pt x="99" y="6"/>
                  </a:lnTo>
                  <a:lnTo>
                    <a:pt x="97" y="8"/>
                  </a:lnTo>
                  <a:lnTo>
                    <a:pt x="94" y="9"/>
                  </a:lnTo>
                  <a:lnTo>
                    <a:pt x="92" y="11"/>
                  </a:lnTo>
                  <a:lnTo>
                    <a:pt x="88" y="14"/>
                  </a:lnTo>
                  <a:lnTo>
                    <a:pt x="87" y="15"/>
                  </a:lnTo>
                  <a:lnTo>
                    <a:pt x="86" y="17"/>
                  </a:lnTo>
                  <a:lnTo>
                    <a:pt x="86" y="18"/>
                  </a:lnTo>
                  <a:lnTo>
                    <a:pt x="85" y="19"/>
                  </a:lnTo>
                  <a:lnTo>
                    <a:pt x="85" y="21"/>
                  </a:lnTo>
                  <a:lnTo>
                    <a:pt x="86" y="22"/>
                  </a:lnTo>
                  <a:lnTo>
                    <a:pt x="87" y="24"/>
                  </a:lnTo>
                  <a:lnTo>
                    <a:pt x="88" y="26"/>
                  </a:lnTo>
                  <a:lnTo>
                    <a:pt x="90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7" y="30"/>
                  </a:lnTo>
                  <a:lnTo>
                    <a:pt x="97" y="31"/>
                  </a:lnTo>
                  <a:lnTo>
                    <a:pt x="97" y="31"/>
                  </a:lnTo>
                  <a:lnTo>
                    <a:pt x="97" y="37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6" y="45"/>
                  </a:lnTo>
                  <a:lnTo>
                    <a:pt x="96" y="46"/>
                  </a:lnTo>
                  <a:lnTo>
                    <a:pt x="95" y="46"/>
                  </a:lnTo>
                  <a:lnTo>
                    <a:pt x="94" y="48"/>
                  </a:lnTo>
                  <a:lnTo>
                    <a:pt x="92" y="50"/>
                  </a:lnTo>
                  <a:lnTo>
                    <a:pt x="90" y="52"/>
                  </a:lnTo>
                  <a:lnTo>
                    <a:pt x="87" y="57"/>
                  </a:lnTo>
                  <a:lnTo>
                    <a:pt x="87" y="55"/>
                  </a:lnTo>
                  <a:lnTo>
                    <a:pt x="87" y="55"/>
                  </a:lnTo>
                  <a:lnTo>
                    <a:pt x="86" y="55"/>
                  </a:lnTo>
                  <a:lnTo>
                    <a:pt x="86" y="54"/>
                  </a:lnTo>
                  <a:lnTo>
                    <a:pt x="86" y="53"/>
                  </a:lnTo>
                  <a:lnTo>
                    <a:pt x="86" y="52"/>
                  </a:lnTo>
                  <a:lnTo>
                    <a:pt x="86" y="51"/>
                  </a:lnTo>
                  <a:lnTo>
                    <a:pt x="86" y="51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84" y="51"/>
                  </a:lnTo>
                  <a:lnTo>
                    <a:pt x="84" y="51"/>
                  </a:lnTo>
                  <a:lnTo>
                    <a:pt x="83" y="51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1" y="49"/>
                  </a:lnTo>
                  <a:lnTo>
                    <a:pt x="81" y="48"/>
                  </a:lnTo>
                  <a:lnTo>
                    <a:pt x="81" y="47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9" y="45"/>
                  </a:lnTo>
                  <a:lnTo>
                    <a:pt x="78" y="45"/>
                  </a:lnTo>
                  <a:lnTo>
                    <a:pt x="78" y="45"/>
                  </a:lnTo>
                  <a:lnTo>
                    <a:pt x="77" y="45"/>
                  </a:lnTo>
                  <a:lnTo>
                    <a:pt x="76" y="45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3" y="46"/>
                  </a:lnTo>
                  <a:lnTo>
                    <a:pt x="71" y="42"/>
                  </a:lnTo>
                  <a:lnTo>
                    <a:pt x="70" y="36"/>
                  </a:lnTo>
                  <a:lnTo>
                    <a:pt x="69" y="34"/>
                  </a:lnTo>
                  <a:lnTo>
                    <a:pt x="69" y="32"/>
                  </a:lnTo>
                  <a:lnTo>
                    <a:pt x="68" y="30"/>
                  </a:lnTo>
                  <a:lnTo>
                    <a:pt x="68" y="29"/>
                  </a:lnTo>
                  <a:lnTo>
                    <a:pt x="66" y="26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0"/>
                  </a:lnTo>
                  <a:lnTo>
                    <a:pt x="47" y="29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0" y="23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6" y="26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6" y="38"/>
                  </a:lnTo>
                  <a:lnTo>
                    <a:pt x="24" y="42"/>
                  </a:lnTo>
                  <a:lnTo>
                    <a:pt x="22" y="43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7" y="45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4" y="48"/>
                  </a:lnTo>
                  <a:lnTo>
                    <a:pt x="13" y="49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59"/>
                  </a:lnTo>
                  <a:lnTo>
                    <a:pt x="8" y="6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211960" y="5667120"/>
              <a:ext cx="2664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6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8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Siapa yang mengelola ?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Bergantung pada sistem tata pamong yang di terapkan di perguruan tin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Ada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Palatino"/>
              </a:rPr>
              <a:t>tiga sistem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endekatan yang banyak dite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Palatino"/>
              </a:rPr>
              <a:t>Sentralisasi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: Perguruan tinggi mengelola seluruh sumberday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Jurusan/Departemen hanya mengelola program akademi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Palatino"/>
              </a:rPr>
              <a:t>Desentralisasi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: Jurusan/Departemen mengelola dan bertanggung-jawab atas semua asp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Palatino"/>
              </a:rPr>
              <a:t>Kombinasi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: kompromi antara kedua sistem di 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2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2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2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rogram Akademik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encakup operasional dan pengemb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idang Pengajaran/Pendidi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engembangan dan evaluasi Program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kruitmen mahasis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enyelenggaraan proses belajar meng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Kegiatan Kemahasisw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istem umpan ba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idang Penelitian dan Lay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engemban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engelolaan kegiat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HAKI dan Hasil lain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engolahan data dan info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459080" cy="1784160"/>
          </a:xfrm>
          <a:prstGeom prst="rect">
            <a:avLst/>
          </a:prstGeom>
          <a:ln w="0">
            <a:noFill/>
          </a:ln>
        </p:spPr>
      </p:pic>
      <p:pic>
        <p:nvPicPr>
          <p:cNvPr id="2281" name="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503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2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2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2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2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2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2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2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2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rogram Akademik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a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urikulum di-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review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secara periodik dengan melibatkan </a:t>
            </a:r>
            <a:r>
              <a:rPr b="1" i="1" lang="en-US" sz="2000" spc="-1" strike="noStrike">
                <a:solidFill>
                  <a:srgbClr val="003366"/>
                </a:solidFill>
                <a:latin typeface="Palatino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stem rekruitmen mahasiswa berbasis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hasiswa terlibat dalam mengevaluasi mu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Tracer study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atas alumni dilakukan secara berk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akademik mahasiswa tercatat dan dianalisis secara period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giatan penelitian/layanan masyarakat diintergasikan dengan pendidik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urikulum diadopsi dari PT lain tanpa alasan yang j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enentuan daya tampung hanya didasari oleh pertimbangan finans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idak ada evaluasi atas efektivitas pembelaja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fisiensi rendah tidak dianggap masalah Jur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akademik tidak dica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impinan jurusan tidak “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engenal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” mahasiswanya sendi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giatan tridarma tidak terintegr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2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2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2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2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2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2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2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2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2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2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238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osen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an Karyawan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Rekruit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Sistem insen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Penugas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"/>
              </a:rPr>
              <a:t>Promosi &amp; Dem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724280" y="2590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Palatino"/>
              </a:rPr>
              <a:t>Pengembang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Palatino"/>
              </a:rPr>
              <a:t>Pengurangan (</a:t>
            </a:r>
            <a:r>
              <a:rPr b="0" i="1" lang="sv-SE" sz="3600" spc="-1" strike="noStrike">
                <a:solidFill>
                  <a:srgbClr val="000000"/>
                </a:solidFill>
                <a:latin typeface="Palatino"/>
              </a:rPr>
              <a:t>attrition</a:t>
            </a:r>
            <a:r>
              <a:rPr b="0" lang="sv-SE" sz="3600" spc="-1" strike="noStrike">
                <a:solidFill>
                  <a:srgbClr val="000000"/>
                </a:solidFill>
                <a:latin typeface="Palatino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Palatino"/>
              </a:rPr>
              <a:t>Sistem informa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8" name=""/>
          <p:cNvGrpSpPr/>
          <p:nvPr/>
        </p:nvGrpSpPr>
        <p:grpSpPr>
          <a:xfrm>
            <a:off x="990720" y="5181480"/>
            <a:ext cx="7162560" cy="1447920"/>
            <a:chOff x="990720" y="5181480"/>
            <a:chExt cx="7162560" cy="1447920"/>
          </a:xfrm>
        </p:grpSpPr>
        <p:pic>
          <p:nvPicPr>
            <p:cNvPr id="2289" name="" descr=""/>
            <p:cNvPicPr/>
            <p:nvPr/>
          </p:nvPicPr>
          <p:blipFill>
            <a:blip r:embed="rId1"/>
            <a:stretch/>
          </p:blipFill>
          <p:spPr>
            <a:xfrm>
              <a:off x="3124080" y="5295960"/>
              <a:ext cx="1454400" cy="127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0" name=""/>
            <p:cNvGrpSpPr/>
            <p:nvPr/>
          </p:nvGrpSpPr>
          <p:grpSpPr>
            <a:xfrm>
              <a:off x="5562720" y="5334120"/>
              <a:ext cx="1218240" cy="1294560"/>
              <a:chOff x="5562720" y="5334120"/>
              <a:chExt cx="1218240" cy="1294560"/>
            </a:xfrm>
          </p:grpSpPr>
          <p:grpSp>
            <p:nvGrpSpPr>
              <p:cNvPr id="2291" name=""/>
              <p:cNvGrpSpPr/>
              <p:nvPr/>
            </p:nvGrpSpPr>
            <p:grpSpPr>
              <a:xfrm>
                <a:off x="5562720" y="5334120"/>
                <a:ext cx="1218240" cy="1294560"/>
                <a:chOff x="5562720" y="5334120"/>
                <a:chExt cx="1218240" cy="129456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5987880" y="5334120"/>
                  <a:ext cx="729000" cy="911880"/>
                </a:xfrm>
                <a:custGeom>
                  <a:avLst/>
                  <a:gdLst/>
                  <a:ahLst/>
                  <a:rect l="l" t="t" r="r" b="b"/>
                  <a:pathLst>
                    <a:path w="1332" h="1630">
                      <a:moveTo>
                        <a:pt x="24" y="0"/>
                      </a:moveTo>
                      <a:lnTo>
                        <a:pt x="1332" y="0"/>
                      </a:lnTo>
                      <a:lnTo>
                        <a:pt x="1246" y="1630"/>
                      </a:lnTo>
                      <a:lnTo>
                        <a:pt x="176" y="1622"/>
                      </a:lnTo>
                      <a:lnTo>
                        <a:pt x="0" y="1083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677200" y="5409360"/>
                  <a:ext cx="525240" cy="559080"/>
                </a:xfrm>
                <a:custGeom>
                  <a:avLst/>
                  <a:gdLst/>
                  <a:ahLst/>
                  <a:rect l="l" t="t" r="r" b="b"/>
                  <a:pathLst>
                    <a:path w="959" h="999">
                      <a:moveTo>
                        <a:pt x="351" y="8"/>
                      </a:moveTo>
                      <a:lnTo>
                        <a:pt x="418" y="0"/>
                      </a:lnTo>
                      <a:lnTo>
                        <a:pt x="516" y="48"/>
                      </a:lnTo>
                      <a:lnTo>
                        <a:pt x="595" y="40"/>
                      </a:lnTo>
                      <a:lnTo>
                        <a:pt x="689" y="8"/>
                      </a:lnTo>
                      <a:lnTo>
                        <a:pt x="731" y="79"/>
                      </a:lnTo>
                      <a:lnTo>
                        <a:pt x="806" y="21"/>
                      </a:lnTo>
                      <a:lnTo>
                        <a:pt x="829" y="181"/>
                      </a:lnTo>
                      <a:lnTo>
                        <a:pt x="669" y="272"/>
                      </a:lnTo>
                      <a:lnTo>
                        <a:pt x="731" y="315"/>
                      </a:lnTo>
                      <a:lnTo>
                        <a:pt x="889" y="311"/>
                      </a:lnTo>
                      <a:lnTo>
                        <a:pt x="861" y="343"/>
                      </a:lnTo>
                      <a:lnTo>
                        <a:pt x="948" y="359"/>
                      </a:lnTo>
                      <a:lnTo>
                        <a:pt x="935" y="409"/>
                      </a:lnTo>
                      <a:lnTo>
                        <a:pt x="959" y="433"/>
                      </a:lnTo>
                      <a:lnTo>
                        <a:pt x="935" y="495"/>
                      </a:lnTo>
                      <a:lnTo>
                        <a:pt x="955" y="555"/>
                      </a:lnTo>
                      <a:lnTo>
                        <a:pt x="360" y="999"/>
                      </a:lnTo>
                      <a:lnTo>
                        <a:pt x="207" y="999"/>
                      </a:lnTo>
                      <a:lnTo>
                        <a:pt x="89" y="964"/>
                      </a:lnTo>
                      <a:lnTo>
                        <a:pt x="4" y="869"/>
                      </a:lnTo>
                      <a:lnTo>
                        <a:pt x="32" y="814"/>
                      </a:lnTo>
                      <a:lnTo>
                        <a:pt x="12" y="763"/>
                      </a:lnTo>
                      <a:lnTo>
                        <a:pt x="32" y="704"/>
                      </a:lnTo>
                      <a:lnTo>
                        <a:pt x="0" y="653"/>
                      </a:lnTo>
                      <a:lnTo>
                        <a:pt x="121" y="495"/>
                      </a:lnTo>
                      <a:lnTo>
                        <a:pt x="133" y="389"/>
                      </a:lnTo>
                      <a:lnTo>
                        <a:pt x="141" y="265"/>
                      </a:lnTo>
                      <a:lnTo>
                        <a:pt x="183" y="169"/>
                      </a:lnTo>
                      <a:lnTo>
                        <a:pt x="258" y="119"/>
                      </a:lnTo>
                      <a:lnTo>
                        <a:pt x="298" y="24"/>
                      </a:lnTo>
                      <a:lnTo>
                        <a:pt x="351" y="8"/>
                      </a:lnTo>
                      <a:lnTo>
                        <a:pt x="351" y="8"/>
                      </a:lnTo>
                      <a:lnTo>
                        <a:pt x="351" y="8"/>
                      </a:lnTo>
                      <a:close/>
                    </a:path>
                  </a:pathLst>
                </a:custGeom>
                <a:solidFill>
                  <a:srgbClr val="ff8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765760" y="5523840"/>
                  <a:ext cx="387360" cy="468360"/>
                </a:xfrm>
                <a:custGeom>
                  <a:avLst/>
                  <a:gdLst/>
                  <a:ahLst/>
                  <a:rect l="l" t="t" r="r" b="b"/>
                  <a:pathLst>
                    <a:path w="708" h="837">
                      <a:moveTo>
                        <a:pt x="207" y="0"/>
                      </a:moveTo>
                      <a:lnTo>
                        <a:pt x="329" y="60"/>
                      </a:lnTo>
                      <a:lnTo>
                        <a:pt x="430" y="70"/>
                      </a:lnTo>
                      <a:lnTo>
                        <a:pt x="493" y="169"/>
                      </a:lnTo>
                      <a:lnTo>
                        <a:pt x="661" y="275"/>
                      </a:lnTo>
                      <a:lnTo>
                        <a:pt x="708" y="386"/>
                      </a:lnTo>
                      <a:lnTo>
                        <a:pt x="614" y="648"/>
                      </a:lnTo>
                      <a:lnTo>
                        <a:pt x="540" y="786"/>
                      </a:lnTo>
                      <a:lnTo>
                        <a:pt x="493" y="837"/>
                      </a:lnTo>
                      <a:lnTo>
                        <a:pt x="379" y="829"/>
                      </a:lnTo>
                      <a:lnTo>
                        <a:pt x="266" y="770"/>
                      </a:lnTo>
                      <a:lnTo>
                        <a:pt x="184" y="759"/>
                      </a:lnTo>
                      <a:lnTo>
                        <a:pt x="161" y="688"/>
                      </a:lnTo>
                      <a:lnTo>
                        <a:pt x="78" y="676"/>
                      </a:lnTo>
                      <a:lnTo>
                        <a:pt x="22" y="535"/>
                      </a:lnTo>
                      <a:lnTo>
                        <a:pt x="0" y="511"/>
                      </a:lnTo>
                      <a:lnTo>
                        <a:pt x="101" y="378"/>
                      </a:lnTo>
                      <a:lnTo>
                        <a:pt x="116" y="263"/>
                      </a:lnTo>
                      <a:lnTo>
                        <a:pt x="124" y="117"/>
                      </a:lnTo>
                      <a:lnTo>
                        <a:pt x="207" y="0"/>
                      </a:lnTo>
                      <a:lnTo>
                        <a:pt x="207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ffda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887800" y="5755320"/>
                  <a:ext cx="188640" cy="127800"/>
                </a:xfrm>
                <a:custGeom>
                  <a:avLst/>
                  <a:gdLst/>
                  <a:ahLst/>
                  <a:rect l="l" t="t" r="r" b="b"/>
                  <a:pathLst>
                    <a:path w="346" h="228">
                      <a:moveTo>
                        <a:pt x="0" y="99"/>
                      </a:moveTo>
                      <a:lnTo>
                        <a:pt x="126" y="87"/>
                      </a:lnTo>
                      <a:lnTo>
                        <a:pt x="236" y="56"/>
                      </a:lnTo>
                      <a:lnTo>
                        <a:pt x="346" y="0"/>
                      </a:lnTo>
                      <a:lnTo>
                        <a:pt x="294" y="186"/>
                      </a:lnTo>
                      <a:lnTo>
                        <a:pt x="220" y="228"/>
                      </a:lnTo>
                      <a:lnTo>
                        <a:pt x="122" y="217"/>
                      </a:lnTo>
                      <a:lnTo>
                        <a:pt x="60" y="186"/>
                      </a:lnTo>
                      <a:lnTo>
                        <a:pt x="0" y="99"/>
                      </a:lnTo>
                      <a:lnTo>
                        <a:pt x="0" y="99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6050160" y="5916960"/>
                  <a:ext cx="139320" cy="165960"/>
                </a:xfrm>
                <a:custGeom>
                  <a:avLst/>
                  <a:gdLst/>
                  <a:ahLst/>
                  <a:rect l="l" t="t" r="r" b="b"/>
                  <a:pathLst>
                    <a:path w="253" h="298">
                      <a:moveTo>
                        <a:pt x="0" y="181"/>
                      </a:moveTo>
                      <a:lnTo>
                        <a:pt x="81" y="70"/>
                      </a:lnTo>
                      <a:lnTo>
                        <a:pt x="164" y="4"/>
                      </a:lnTo>
                      <a:lnTo>
                        <a:pt x="245" y="0"/>
                      </a:lnTo>
                      <a:lnTo>
                        <a:pt x="253" y="55"/>
                      </a:lnTo>
                      <a:lnTo>
                        <a:pt x="215" y="110"/>
                      </a:lnTo>
                      <a:lnTo>
                        <a:pt x="222" y="145"/>
                      </a:lnTo>
                      <a:lnTo>
                        <a:pt x="179" y="251"/>
                      </a:lnTo>
                      <a:lnTo>
                        <a:pt x="73" y="298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close/>
                    </a:path>
                  </a:pathLst>
                </a:custGeom>
                <a:solidFill>
                  <a:srgbClr val="ffda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6235920" y="6017400"/>
                  <a:ext cx="117720" cy="97200"/>
                </a:xfrm>
                <a:custGeom>
                  <a:avLst/>
                  <a:gdLst/>
                  <a:ahLst/>
                  <a:rect l="l" t="t" r="r" b="b"/>
                  <a:pathLst>
                    <a:path w="216" h="175">
                      <a:moveTo>
                        <a:pt x="8" y="66"/>
                      </a:moveTo>
                      <a:lnTo>
                        <a:pt x="94" y="7"/>
                      </a:lnTo>
                      <a:lnTo>
                        <a:pt x="216" y="0"/>
                      </a:lnTo>
                      <a:lnTo>
                        <a:pt x="158" y="98"/>
                      </a:lnTo>
                      <a:lnTo>
                        <a:pt x="0" y="175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6"/>
                      </a:lnTo>
                      <a:close/>
                    </a:path>
                  </a:pathLst>
                </a:custGeom>
                <a:solidFill>
                  <a:srgbClr val="ffda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859720" y="6002640"/>
                  <a:ext cx="365760" cy="384120"/>
                </a:xfrm>
                <a:custGeom>
                  <a:avLst/>
                  <a:gdLst/>
                  <a:ahLst/>
                  <a:rect l="l" t="t" r="r" b="b"/>
                  <a:pathLst>
                    <a:path w="669" h="688">
                      <a:moveTo>
                        <a:pt x="164" y="8"/>
                      </a:moveTo>
                      <a:lnTo>
                        <a:pt x="70" y="4"/>
                      </a:lnTo>
                      <a:lnTo>
                        <a:pt x="113" y="59"/>
                      </a:lnTo>
                      <a:lnTo>
                        <a:pt x="23" y="90"/>
                      </a:lnTo>
                      <a:lnTo>
                        <a:pt x="23" y="150"/>
                      </a:lnTo>
                      <a:lnTo>
                        <a:pt x="62" y="239"/>
                      </a:lnTo>
                      <a:lnTo>
                        <a:pt x="110" y="252"/>
                      </a:lnTo>
                      <a:lnTo>
                        <a:pt x="144" y="365"/>
                      </a:lnTo>
                      <a:lnTo>
                        <a:pt x="78" y="499"/>
                      </a:lnTo>
                      <a:lnTo>
                        <a:pt x="0" y="566"/>
                      </a:lnTo>
                      <a:lnTo>
                        <a:pt x="258" y="688"/>
                      </a:lnTo>
                      <a:lnTo>
                        <a:pt x="669" y="656"/>
                      </a:lnTo>
                      <a:lnTo>
                        <a:pt x="602" y="322"/>
                      </a:lnTo>
                      <a:lnTo>
                        <a:pt x="500" y="126"/>
                      </a:lnTo>
                      <a:lnTo>
                        <a:pt x="375" y="130"/>
                      </a:lnTo>
                      <a:lnTo>
                        <a:pt x="308" y="0"/>
                      </a:lnTo>
                      <a:lnTo>
                        <a:pt x="164" y="8"/>
                      </a:lnTo>
                      <a:lnTo>
                        <a:pt x="164" y="8"/>
                      </a:lnTo>
                      <a:lnTo>
                        <a:pt x="164" y="8"/>
                      </a:lnTo>
                      <a:close/>
                    </a:path>
                  </a:pathLst>
                </a:custGeom>
                <a:solidFill>
                  <a:srgbClr val="ff69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020640" y="6010920"/>
                  <a:ext cx="151200" cy="230040"/>
                </a:xfrm>
                <a:custGeom>
                  <a:avLst/>
                  <a:gdLst/>
                  <a:ahLst/>
                  <a:rect l="l" t="t" r="r" b="b"/>
                  <a:pathLst>
                    <a:path w="277" h="413">
                      <a:moveTo>
                        <a:pt x="58" y="0"/>
                      </a:moveTo>
                      <a:lnTo>
                        <a:pt x="7" y="36"/>
                      </a:lnTo>
                      <a:lnTo>
                        <a:pt x="0" y="146"/>
                      </a:lnTo>
                      <a:lnTo>
                        <a:pt x="27" y="185"/>
                      </a:lnTo>
                      <a:lnTo>
                        <a:pt x="62" y="323"/>
                      </a:lnTo>
                      <a:lnTo>
                        <a:pt x="66" y="413"/>
                      </a:lnTo>
                      <a:lnTo>
                        <a:pt x="184" y="377"/>
                      </a:lnTo>
                      <a:lnTo>
                        <a:pt x="277" y="295"/>
                      </a:lnTo>
                      <a:lnTo>
                        <a:pt x="202" y="79"/>
                      </a:lnTo>
                      <a:lnTo>
                        <a:pt x="136" y="115"/>
                      </a:lnTo>
                      <a:lnTo>
                        <a:pt x="58" y="0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6143760" y="5552280"/>
                  <a:ext cx="257400" cy="394560"/>
                </a:xfrm>
                <a:custGeom>
                  <a:avLst/>
                  <a:gdLst/>
                  <a:ahLst/>
                  <a:rect l="l" t="t" r="r" b="b"/>
                  <a:pathLst>
                    <a:path w="470" h="704">
                      <a:moveTo>
                        <a:pt x="0" y="691"/>
                      </a:moveTo>
                      <a:lnTo>
                        <a:pt x="470" y="0"/>
                      </a:lnTo>
                      <a:lnTo>
                        <a:pt x="68" y="663"/>
                      </a:lnTo>
                      <a:lnTo>
                        <a:pt x="20" y="704"/>
                      </a:lnTo>
                      <a:lnTo>
                        <a:pt x="0" y="691"/>
                      </a:lnTo>
                      <a:lnTo>
                        <a:pt x="0" y="691"/>
                      </a:lnTo>
                      <a:lnTo>
                        <a:pt x="0" y="691"/>
                      </a:lnTo>
                      <a:close/>
                    </a:path>
                  </a:pathLst>
                </a:cu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416640" y="5730120"/>
                  <a:ext cx="250920" cy="181080"/>
                </a:xfrm>
                <a:custGeom>
                  <a:avLst/>
                  <a:gdLst/>
                  <a:ahLst/>
                  <a:rect l="l" t="t" r="r" b="b"/>
                  <a:pathLst>
                    <a:path w="458" h="323">
                      <a:moveTo>
                        <a:pt x="54" y="75"/>
                      </a:moveTo>
                      <a:lnTo>
                        <a:pt x="192" y="71"/>
                      </a:lnTo>
                      <a:lnTo>
                        <a:pt x="220" y="0"/>
                      </a:lnTo>
                      <a:lnTo>
                        <a:pt x="294" y="9"/>
                      </a:lnTo>
                      <a:lnTo>
                        <a:pt x="336" y="83"/>
                      </a:lnTo>
                      <a:lnTo>
                        <a:pt x="430" y="103"/>
                      </a:lnTo>
                      <a:lnTo>
                        <a:pt x="458" y="197"/>
                      </a:lnTo>
                      <a:lnTo>
                        <a:pt x="301" y="323"/>
                      </a:lnTo>
                      <a:lnTo>
                        <a:pt x="0" y="260"/>
                      </a:lnTo>
                      <a:lnTo>
                        <a:pt x="16" y="134"/>
                      </a:lnTo>
                      <a:lnTo>
                        <a:pt x="54" y="75"/>
                      </a:lnTo>
                      <a:lnTo>
                        <a:pt x="54" y="75"/>
                      </a:lnTo>
                      <a:lnTo>
                        <a:pt x="54" y="7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148800" y="5856120"/>
                  <a:ext cx="590760" cy="510840"/>
                </a:xfrm>
                <a:custGeom>
                  <a:avLst/>
                  <a:gdLst/>
                  <a:ahLst/>
                  <a:rect l="l" t="t" r="r" b="b"/>
                  <a:pathLst>
                    <a:path w="1081" h="912">
                      <a:moveTo>
                        <a:pt x="1014" y="4"/>
                      </a:moveTo>
                      <a:lnTo>
                        <a:pt x="1070" y="0"/>
                      </a:lnTo>
                      <a:lnTo>
                        <a:pt x="1050" y="39"/>
                      </a:lnTo>
                      <a:lnTo>
                        <a:pt x="1081" y="50"/>
                      </a:lnTo>
                      <a:lnTo>
                        <a:pt x="1066" y="114"/>
                      </a:lnTo>
                      <a:lnTo>
                        <a:pt x="599" y="912"/>
                      </a:lnTo>
                      <a:lnTo>
                        <a:pt x="8" y="731"/>
                      </a:lnTo>
                      <a:lnTo>
                        <a:pt x="0" y="655"/>
                      </a:lnTo>
                      <a:lnTo>
                        <a:pt x="1014" y="4"/>
                      </a:lnTo>
                      <a:lnTo>
                        <a:pt x="1014" y="4"/>
                      </a:lnTo>
                      <a:lnTo>
                        <a:pt x="1014" y="4"/>
                      </a:lnTo>
                      <a:close/>
                    </a:path>
                  </a:pathLst>
                </a:custGeom>
                <a:solidFill>
                  <a:srgbClr val="eba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6147000" y="5803920"/>
                  <a:ext cx="561960" cy="512280"/>
                </a:xfrm>
                <a:custGeom>
                  <a:avLst/>
                  <a:gdLst/>
                  <a:ahLst/>
                  <a:rect l="l" t="t" r="r" b="b"/>
                  <a:pathLst>
                    <a:path w="1026" h="916">
                      <a:moveTo>
                        <a:pt x="428" y="0"/>
                      </a:moveTo>
                      <a:lnTo>
                        <a:pt x="494" y="16"/>
                      </a:lnTo>
                      <a:lnTo>
                        <a:pt x="556" y="71"/>
                      </a:lnTo>
                      <a:lnTo>
                        <a:pt x="541" y="110"/>
                      </a:lnTo>
                      <a:lnTo>
                        <a:pt x="822" y="141"/>
                      </a:lnTo>
                      <a:lnTo>
                        <a:pt x="882" y="71"/>
                      </a:lnTo>
                      <a:lnTo>
                        <a:pt x="1026" y="67"/>
                      </a:lnTo>
                      <a:lnTo>
                        <a:pt x="920" y="291"/>
                      </a:lnTo>
                      <a:lnTo>
                        <a:pt x="690" y="711"/>
                      </a:lnTo>
                      <a:lnTo>
                        <a:pt x="564" y="916"/>
                      </a:lnTo>
                      <a:lnTo>
                        <a:pt x="0" y="755"/>
                      </a:lnTo>
                      <a:lnTo>
                        <a:pt x="200" y="538"/>
                      </a:lnTo>
                      <a:lnTo>
                        <a:pt x="286" y="460"/>
                      </a:lnTo>
                      <a:lnTo>
                        <a:pt x="360" y="393"/>
                      </a:lnTo>
                      <a:lnTo>
                        <a:pt x="283" y="386"/>
                      </a:lnTo>
                      <a:lnTo>
                        <a:pt x="377" y="205"/>
                      </a:lnTo>
                      <a:lnTo>
                        <a:pt x="428" y="0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62720" y="6255720"/>
                  <a:ext cx="1218240" cy="372960"/>
                </a:xfrm>
                <a:custGeom>
                  <a:avLst/>
                  <a:gdLst/>
                  <a:ahLst/>
                  <a:rect l="l" t="t" r="r" b="b"/>
                  <a:pathLst>
                    <a:path w="2227" h="666">
                      <a:moveTo>
                        <a:pt x="0" y="666"/>
                      </a:moveTo>
                      <a:lnTo>
                        <a:pt x="2227" y="666"/>
                      </a:lnTo>
                      <a:lnTo>
                        <a:pt x="2121" y="503"/>
                      </a:lnTo>
                      <a:lnTo>
                        <a:pt x="2187" y="453"/>
                      </a:lnTo>
                      <a:lnTo>
                        <a:pt x="2007" y="381"/>
                      </a:lnTo>
                      <a:lnTo>
                        <a:pt x="2071" y="320"/>
                      </a:lnTo>
                      <a:lnTo>
                        <a:pt x="1983" y="283"/>
                      </a:lnTo>
                      <a:lnTo>
                        <a:pt x="2019" y="245"/>
                      </a:lnTo>
                      <a:lnTo>
                        <a:pt x="1871" y="237"/>
                      </a:lnTo>
                      <a:lnTo>
                        <a:pt x="1956" y="147"/>
                      </a:lnTo>
                      <a:lnTo>
                        <a:pt x="1745" y="130"/>
                      </a:lnTo>
                      <a:lnTo>
                        <a:pt x="1643" y="209"/>
                      </a:lnTo>
                      <a:lnTo>
                        <a:pt x="1271" y="91"/>
                      </a:lnTo>
                      <a:lnTo>
                        <a:pt x="1181" y="177"/>
                      </a:lnTo>
                      <a:lnTo>
                        <a:pt x="1051" y="147"/>
                      </a:lnTo>
                      <a:lnTo>
                        <a:pt x="847" y="275"/>
                      </a:lnTo>
                      <a:lnTo>
                        <a:pt x="653" y="221"/>
                      </a:lnTo>
                      <a:lnTo>
                        <a:pt x="664" y="157"/>
                      </a:lnTo>
                      <a:lnTo>
                        <a:pt x="589" y="99"/>
                      </a:lnTo>
                      <a:lnTo>
                        <a:pt x="628" y="28"/>
                      </a:lnTo>
                      <a:lnTo>
                        <a:pt x="578" y="0"/>
                      </a:lnTo>
                      <a:lnTo>
                        <a:pt x="472" y="130"/>
                      </a:lnTo>
                      <a:lnTo>
                        <a:pt x="441" y="75"/>
                      </a:lnTo>
                      <a:lnTo>
                        <a:pt x="159" y="252"/>
                      </a:lnTo>
                      <a:lnTo>
                        <a:pt x="201" y="347"/>
                      </a:lnTo>
                      <a:lnTo>
                        <a:pt x="92" y="418"/>
                      </a:lnTo>
                      <a:lnTo>
                        <a:pt x="167" y="449"/>
                      </a:lnTo>
                      <a:lnTo>
                        <a:pt x="89" y="499"/>
                      </a:lnTo>
                      <a:lnTo>
                        <a:pt x="167" y="523"/>
                      </a:lnTo>
                      <a:lnTo>
                        <a:pt x="53" y="594"/>
                      </a:lnTo>
                      <a:lnTo>
                        <a:pt x="131" y="618"/>
                      </a:lnTo>
                      <a:lnTo>
                        <a:pt x="0" y="666"/>
                      </a:lnTo>
                      <a:lnTo>
                        <a:pt x="0" y="666"/>
                      </a:lnTo>
                      <a:lnTo>
                        <a:pt x="0" y="666"/>
                      </a:lnTo>
                      <a:close/>
                    </a:path>
                  </a:pathLst>
                </a:cu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288480" y="5384160"/>
                  <a:ext cx="403560" cy="387720"/>
                </a:xfrm>
                <a:custGeom>
                  <a:avLst/>
                  <a:gdLst/>
                  <a:ahLst/>
                  <a:rect l="l" t="t" r="r" b="b"/>
                  <a:pathLst>
                    <a:path w="740" h="695">
                      <a:moveTo>
                        <a:pt x="35" y="609"/>
                      </a:moveTo>
                      <a:lnTo>
                        <a:pt x="209" y="457"/>
                      </a:lnTo>
                      <a:lnTo>
                        <a:pt x="266" y="488"/>
                      </a:lnTo>
                      <a:lnTo>
                        <a:pt x="402" y="293"/>
                      </a:lnTo>
                      <a:lnTo>
                        <a:pt x="490" y="333"/>
                      </a:lnTo>
                      <a:lnTo>
                        <a:pt x="740" y="0"/>
                      </a:lnTo>
                      <a:lnTo>
                        <a:pt x="735" y="126"/>
                      </a:lnTo>
                      <a:lnTo>
                        <a:pt x="522" y="417"/>
                      </a:lnTo>
                      <a:lnTo>
                        <a:pt x="442" y="375"/>
                      </a:lnTo>
                      <a:lnTo>
                        <a:pt x="282" y="581"/>
                      </a:lnTo>
                      <a:lnTo>
                        <a:pt x="209" y="550"/>
                      </a:lnTo>
                      <a:lnTo>
                        <a:pt x="58" y="695"/>
                      </a:lnTo>
                      <a:lnTo>
                        <a:pt x="0" y="660"/>
                      </a:lnTo>
                      <a:lnTo>
                        <a:pt x="35" y="609"/>
                      </a:lnTo>
                      <a:lnTo>
                        <a:pt x="35" y="609"/>
                      </a:lnTo>
                      <a:lnTo>
                        <a:pt x="35" y="6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5680440" y="5529960"/>
                  <a:ext cx="200160" cy="388080"/>
                </a:xfrm>
                <a:custGeom>
                  <a:avLst/>
                  <a:gdLst/>
                  <a:ahLst/>
                  <a:rect l="l" t="t" r="r" b="b"/>
                  <a:pathLst>
                    <a:path w="367" h="692">
                      <a:moveTo>
                        <a:pt x="367" y="21"/>
                      </a:moveTo>
                      <a:lnTo>
                        <a:pt x="328" y="92"/>
                      </a:lnTo>
                      <a:lnTo>
                        <a:pt x="288" y="195"/>
                      </a:lnTo>
                      <a:lnTo>
                        <a:pt x="279" y="288"/>
                      </a:lnTo>
                      <a:lnTo>
                        <a:pt x="279" y="341"/>
                      </a:lnTo>
                      <a:lnTo>
                        <a:pt x="240" y="412"/>
                      </a:lnTo>
                      <a:lnTo>
                        <a:pt x="175" y="505"/>
                      </a:lnTo>
                      <a:lnTo>
                        <a:pt x="192" y="515"/>
                      </a:lnTo>
                      <a:lnTo>
                        <a:pt x="208" y="578"/>
                      </a:lnTo>
                      <a:lnTo>
                        <a:pt x="240" y="639"/>
                      </a:lnTo>
                      <a:lnTo>
                        <a:pt x="264" y="671"/>
                      </a:lnTo>
                      <a:lnTo>
                        <a:pt x="200" y="692"/>
                      </a:lnTo>
                      <a:lnTo>
                        <a:pt x="112" y="671"/>
                      </a:lnTo>
                      <a:lnTo>
                        <a:pt x="71" y="650"/>
                      </a:lnTo>
                      <a:lnTo>
                        <a:pt x="40" y="629"/>
                      </a:lnTo>
                      <a:lnTo>
                        <a:pt x="16" y="598"/>
                      </a:lnTo>
                      <a:lnTo>
                        <a:pt x="0" y="567"/>
                      </a:lnTo>
                      <a:lnTo>
                        <a:pt x="7" y="526"/>
                      </a:lnTo>
                      <a:lnTo>
                        <a:pt x="16" y="515"/>
                      </a:lnTo>
                      <a:lnTo>
                        <a:pt x="57" y="495"/>
                      </a:lnTo>
                      <a:lnTo>
                        <a:pt x="24" y="536"/>
                      </a:lnTo>
                      <a:lnTo>
                        <a:pt x="48" y="546"/>
                      </a:lnTo>
                      <a:lnTo>
                        <a:pt x="40" y="588"/>
                      </a:lnTo>
                      <a:lnTo>
                        <a:pt x="71" y="557"/>
                      </a:lnTo>
                      <a:lnTo>
                        <a:pt x="65" y="598"/>
                      </a:lnTo>
                      <a:lnTo>
                        <a:pt x="96" y="557"/>
                      </a:lnTo>
                      <a:lnTo>
                        <a:pt x="87" y="619"/>
                      </a:lnTo>
                      <a:lnTo>
                        <a:pt x="104" y="567"/>
                      </a:lnTo>
                      <a:lnTo>
                        <a:pt x="119" y="629"/>
                      </a:lnTo>
                      <a:lnTo>
                        <a:pt x="128" y="588"/>
                      </a:lnTo>
                      <a:lnTo>
                        <a:pt x="144" y="629"/>
                      </a:lnTo>
                      <a:lnTo>
                        <a:pt x="152" y="588"/>
                      </a:lnTo>
                      <a:lnTo>
                        <a:pt x="175" y="629"/>
                      </a:lnTo>
                      <a:lnTo>
                        <a:pt x="183" y="578"/>
                      </a:lnTo>
                      <a:lnTo>
                        <a:pt x="168" y="536"/>
                      </a:lnTo>
                      <a:lnTo>
                        <a:pt x="144" y="526"/>
                      </a:lnTo>
                      <a:lnTo>
                        <a:pt x="144" y="505"/>
                      </a:lnTo>
                      <a:lnTo>
                        <a:pt x="136" y="475"/>
                      </a:lnTo>
                      <a:lnTo>
                        <a:pt x="175" y="464"/>
                      </a:lnTo>
                      <a:lnTo>
                        <a:pt x="144" y="433"/>
                      </a:lnTo>
                      <a:lnTo>
                        <a:pt x="183" y="454"/>
                      </a:lnTo>
                      <a:lnTo>
                        <a:pt x="175" y="412"/>
                      </a:lnTo>
                      <a:lnTo>
                        <a:pt x="208" y="422"/>
                      </a:lnTo>
                      <a:lnTo>
                        <a:pt x="192" y="372"/>
                      </a:lnTo>
                      <a:lnTo>
                        <a:pt x="232" y="391"/>
                      </a:lnTo>
                      <a:lnTo>
                        <a:pt x="224" y="361"/>
                      </a:lnTo>
                      <a:lnTo>
                        <a:pt x="248" y="361"/>
                      </a:lnTo>
                      <a:lnTo>
                        <a:pt x="257" y="319"/>
                      </a:lnTo>
                      <a:lnTo>
                        <a:pt x="240" y="257"/>
                      </a:lnTo>
                      <a:lnTo>
                        <a:pt x="240" y="145"/>
                      </a:lnTo>
                      <a:lnTo>
                        <a:pt x="279" y="52"/>
                      </a:lnTo>
                      <a:lnTo>
                        <a:pt x="328" y="0"/>
                      </a:lnTo>
                      <a:lnTo>
                        <a:pt x="367" y="21"/>
                      </a:lnTo>
                      <a:lnTo>
                        <a:pt x="367" y="21"/>
                      </a:lnTo>
                      <a:lnTo>
                        <a:pt x="36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5671080" y="5402520"/>
                  <a:ext cx="393840" cy="409680"/>
                </a:xfrm>
                <a:custGeom>
                  <a:avLst/>
                  <a:gdLst/>
                  <a:ahLst/>
                  <a:rect l="l" t="t" r="r" b="b"/>
                  <a:pathLst>
                    <a:path w="721" h="733">
                      <a:moveTo>
                        <a:pt x="296" y="135"/>
                      </a:moveTo>
                      <a:lnTo>
                        <a:pt x="249" y="156"/>
                      </a:lnTo>
                      <a:lnTo>
                        <a:pt x="209" y="196"/>
                      </a:lnTo>
                      <a:lnTo>
                        <a:pt x="169" y="280"/>
                      </a:lnTo>
                      <a:lnTo>
                        <a:pt x="153" y="362"/>
                      </a:lnTo>
                      <a:lnTo>
                        <a:pt x="153" y="413"/>
                      </a:lnTo>
                      <a:lnTo>
                        <a:pt x="153" y="466"/>
                      </a:lnTo>
                      <a:lnTo>
                        <a:pt x="129" y="538"/>
                      </a:lnTo>
                      <a:lnTo>
                        <a:pt x="82" y="609"/>
                      </a:lnTo>
                      <a:lnTo>
                        <a:pt x="33" y="661"/>
                      </a:lnTo>
                      <a:lnTo>
                        <a:pt x="24" y="682"/>
                      </a:lnTo>
                      <a:lnTo>
                        <a:pt x="49" y="713"/>
                      </a:lnTo>
                      <a:lnTo>
                        <a:pt x="88" y="733"/>
                      </a:lnTo>
                      <a:lnTo>
                        <a:pt x="41" y="733"/>
                      </a:lnTo>
                      <a:lnTo>
                        <a:pt x="17" y="692"/>
                      </a:lnTo>
                      <a:lnTo>
                        <a:pt x="0" y="671"/>
                      </a:lnTo>
                      <a:lnTo>
                        <a:pt x="17" y="640"/>
                      </a:lnTo>
                      <a:lnTo>
                        <a:pt x="121" y="516"/>
                      </a:lnTo>
                      <a:lnTo>
                        <a:pt x="136" y="476"/>
                      </a:lnTo>
                      <a:lnTo>
                        <a:pt x="129" y="362"/>
                      </a:lnTo>
                      <a:lnTo>
                        <a:pt x="145" y="269"/>
                      </a:lnTo>
                      <a:lnTo>
                        <a:pt x="192" y="176"/>
                      </a:lnTo>
                      <a:lnTo>
                        <a:pt x="241" y="135"/>
                      </a:lnTo>
                      <a:lnTo>
                        <a:pt x="265" y="124"/>
                      </a:lnTo>
                      <a:lnTo>
                        <a:pt x="265" y="93"/>
                      </a:lnTo>
                      <a:lnTo>
                        <a:pt x="296" y="42"/>
                      </a:lnTo>
                      <a:lnTo>
                        <a:pt x="345" y="10"/>
                      </a:lnTo>
                      <a:lnTo>
                        <a:pt x="401" y="0"/>
                      </a:lnTo>
                      <a:lnTo>
                        <a:pt x="465" y="21"/>
                      </a:lnTo>
                      <a:lnTo>
                        <a:pt x="528" y="52"/>
                      </a:lnTo>
                      <a:lnTo>
                        <a:pt x="609" y="52"/>
                      </a:lnTo>
                      <a:lnTo>
                        <a:pt x="680" y="32"/>
                      </a:lnTo>
                      <a:lnTo>
                        <a:pt x="721" y="10"/>
                      </a:lnTo>
                      <a:lnTo>
                        <a:pt x="656" y="73"/>
                      </a:lnTo>
                      <a:lnTo>
                        <a:pt x="584" y="82"/>
                      </a:lnTo>
                      <a:lnTo>
                        <a:pt x="521" y="73"/>
                      </a:lnTo>
                      <a:lnTo>
                        <a:pt x="465" y="42"/>
                      </a:lnTo>
                      <a:lnTo>
                        <a:pt x="417" y="32"/>
                      </a:lnTo>
                      <a:lnTo>
                        <a:pt x="369" y="32"/>
                      </a:lnTo>
                      <a:lnTo>
                        <a:pt x="321" y="52"/>
                      </a:lnTo>
                      <a:lnTo>
                        <a:pt x="288" y="93"/>
                      </a:lnTo>
                      <a:lnTo>
                        <a:pt x="281" y="114"/>
                      </a:lnTo>
                      <a:lnTo>
                        <a:pt x="296" y="135"/>
                      </a:lnTo>
                      <a:lnTo>
                        <a:pt x="296" y="135"/>
                      </a:lnTo>
                      <a:lnTo>
                        <a:pt x="296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864400" y="5421240"/>
                  <a:ext cx="305280" cy="248040"/>
                </a:xfrm>
                <a:custGeom>
                  <a:avLst/>
                  <a:gdLst/>
                  <a:ahLst/>
                  <a:rect l="l" t="t" r="r" b="b"/>
                  <a:pathLst>
                    <a:path w="560" h="444">
                      <a:moveTo>
                        <a:pt x="352" y="0"/>
                      </a:moveTo>
                      <a:lnTo>
                        <a:pt x="376" y="50"/>
                      </a:lnTo>
                      <a:lnTo>
                        <a:pt x="312" y="82"/>
                      </a:lnTo>
                      <a:lnTo>
                        <a:pt x="231" y="92"/>
                      </a:lnTo>
                      <a:lnTo>
                        <a:pt x="296" y="103"/>
                      </a:lnTo>
                      <a:lnTo>
                        <a:pt x="303" y="124"/>
                      </a:lnTo>
                      <a:lnTo>
                        <a:pt x="360" y="103"/>
                      </a:lnTo>
                      <a:lnTo>
                        <a:pt x="408" y="71"/>
                      </a:lnTo>
                      <a:lnTo>
                        <a:pt x="448" y="31"/>
                      </a:lnTo>
                      <a:lnTo>
                        <a:pt x="448" y="103"/>
                      </a:lnTo>
                      <a:lnTo>
                        <a:pt x="392" y="134"/>
                      </a:lnTo>
                      <a:lnTo>
                        <a:pt x="352" y="164"/>
                      </a:lnTo>
                      <a:lnTo>
                        <a:pt x="312" y="174"/>
                      </a:lnTo>
                      <a:lnTo>
                        <a:pt x="392" y="154"/>
                      </a:lnTo>
                      <a:lnTo>
                        <a:pt x="440" y="134"/>
                      </a:lnTo>
                      <a:lnTo>
                        <a:pt x="464" y="124"/>
                      </a:lnTo>
                      <a:lnTo>
                        <a:pt x="464" y="164"/>
                      </a:lnTo>
                      <a:lnTo>
                        <a:pt x="376" y="217"/>
                      </a:lnTo>
                      <a:lnTo>
                        <a:pt x="296" y="237"/>
                      </a:lnTo>
                      <a:lnTo>
                        <a:pt x="216" y="227"/>
                      </a:lnTo>
                      <a:lnTo>
                        <a:pt x="144" y="217"/>
                      </a:lnTo>
                      <a:lnTo>
                        <a:pt x="88" y="185"/>
                      </a:lnTo>
                      <a:lnTo>
                        <a:pt x="39" y="164"/>
                      </a:lnTo>
                      <a:lnTo>
                        <a:pt x="0" y="144"/>
                      </a:lnTo>
                      <a:lnTo>
                        <a:pt x="16" y="185"/>
                      </a:lnTo>
                      <a:lnTo>
                        <a:pt x="71" y="227"/>
                      </a:lnTo>
                      <a:lnTo>
                        <a:pt x="128" y="258"/>
                      </a:lnTo>
                      <a:lnTo>
                        <a:pt x="200" y="278"/>
                      </a:lnTo>
                      <a:lnTo>
                        <a:pt x="256" y="278"/>
                      </a:lnTo>
                      <a:lnTo>
                        <a:pt x="288" y="341"/>
                      </a:lnTo>
                      <a:lnTo>
                        <a:pt x="320" y="371"/>
                      </a:lnTo>
                      <a:lnTo>
                        <a:pt x="376" y="402"/>
                      </a:lnTo>
                      <a:lnTo>
                        <a:pt x="440" y="444"/>
                      </a:lnTo>
                      <a:lnTo>
                        <a:pt x="376" y="381"/>
                      </a:lnTo>
                      <a:lnTo>
                        <a:pt x="327" y="351"/>
                      </a:lnTo>
                      <a:lnTo>
                        <a:pt x="399" y="330"/>
                      </a:lnTo>
                      <a:lnTo>
                        <a:pt x="440" y="320"/>
                      </a:lnTo>
                      <a:lnTo>
                        <a:pt x="480" y="320"/>
                      </a:lnTo>
                      <a:lnTo>
                        <a:pt x="528" y="309"/>
                      </a:lnTo>
                      <a:lnTo>
                        <a:pt x="504" y="341"/>
                      </a:lnTo>
                      <a:lnTo>
                        <a:pt x="552" y="320"/>
                      </a:lnTo>
                      <a:lnTo>
                        <a:pt x="560" y="288"/>
                      </a:lnTo>
                      <a:lnTo>
                        <a:pt x="536" y="278"/>
                      </a:lnTo>
                      <a:lnTo>
                        <a:pt x="495" y="288"/>
                      </a:lnTo>
                      <a:lnTo>
                        <a:pt x="440" y="288"/>
                      </a:lnTo>
                      <a:lnTo>
                        <a:pt x="376" y="267"/>
                      </a:lnTo>
                      <a:lnTo>
                        <a:pt x="360" y="248"/>
                      </a:lnTo>
                      <a:lnTo>
                        <a:pt x="424" y="217"/>
                      </a:lnTo>
                      <a:lnTo>
                        <a:pt x="495" y="174"/>
                      </a:lnTo>
                      <a:lnTo>
                        <a:pt x="487" y="113"/>
                      </a:lnTo>
                      <a:lnTo>
                        <a:pt x="504" y="103"/>
                      </a:lnTo>
                      <a:lnTo>
                        <a:pt x="480" y="0"/>
                      </a:lnTo>
                      <a:lnTo>
                        <a:pt x="456" y="10"/>
                      </a:lnTo>
                      <a:lnTo>
                        <a:pt x="424" y="41"/>
                      </a:lnTo>
                      <a:lnTo>
                        <a:pt x="399" y="61"/>
                      </a:lnTo>
                      <a:lnTo>
                        <a:pt x="376" y="10"/>
                      </a:lnTo>
                      <a:lnTo>
                        <a:pt x="352" y="0"/>
                      </a:lnTo>
                      <a:lnTo>
                        <a:pt x="352" y="0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675760" y="5599080"/>
                  <a:ext cx="543240" cy="613080"/>
                </a:xfrm>
                <a:custGeom>
                  <a:avLst/>
                  <a:gdLst/>
                  <a:ahLst/>
                  <a:rect l="l" t="t" r="r" b="b"/>
                  <a:pathLst>
                    <a:path w="992" h="1094">
                      <a:moveTo>
                        <a:pt x="880" y="21"/>
                      </a:moveTo>
                      <a:lnTo>
                        <a:pt x="927" y="10"/>
                      </a:lnTo>
                      <a:lnTo>
                        <a:pt x="952" y="0"/>
                      </a:lnTo>
                      <a:lnTo>
                        <a:pt x="967" y="21"/>
                      </a:lnTo>
                      <a:lnTo>
                        <a:pt x="952" y="61"/>
                      </a:lnTo>
                      <a:lnTo>
                        <a:pt x="975" y="93"/>
                      </a:lnTo>
                      <a:lnTo>
                        <a:pt x="975" y="114"/>
                      </a:lnTo>
                      <a:lnTo>
                        <a:pt x="959" y="145"/>
                      </a:lnTo>
                      <a:lnTo>
                        <a:pt x="992" y="174"/>
                      </a:lnTo>
                      <a:lnTo>
                        <a:pt x="992" y="226"/>
                      </a:lnTo>
                      <a:lnTo>
                        <a:pt x="959" y="298"/>
                      </a:lnTo>
                      <a:lnTo>
                        <a:pt x="913" y="381"/>
                      </a:lnTo>
                      <a:lnTo>
                        <a:pt x="856" y="422"/>
                      </a:lnTo>
                      <a:lnTo>
                        <a:pt x="839" y="443"/>
                      </a:lnTo>
                      <a:lnTo>
                        <a:pt x="816" y="454"/>
                      </a:lnTo>
                      <a:lnTo>
                        <a:pt x="775" y="568"/>
                      </a:lnTo>
                      <a:lnTo>
                        <a:pt x="728" y="629"/>
                      </a:lnTo>
                      <a:lnTo>
                        <a:pt x="696" y="671"/>
                      </a:lnTo>
                      <a:lnTo>
                        <a:pt x="704" y="732"/>
                      </a:lnTo>
                      <a:lnTo>
                        <a:pt x="600" y="785"/>
                      </a:lnTo>
                      <a:lnTo>
                        <a:pt x="544" y="753"/>
                      </a:lnTo>
                      <a:lnTo>
                        <a:pt x="519" y="732"/>
                      </a:lnTo>
                      <a:lnTo>
                        <a:pt x="432" y="732"/>
                      </a:lnTo>
                      <a:lnTo>
                        <a:pt x="496" y="794"/>
                      </a:lnTo>
                      <a:lnTo>
                        <a:pt x="512" y="774"/>
                      </a:lnTo>
                      <a:lnTo>
                        <a:pt x="560" y="785"/>
                      </a:lnTo>
                      <a:lnTo>
                        <a:pt x="536" y="794"/>
                      </a:lnTo>
                      <a:lnTo>
                        <a:pt x="464" y="805"/>
                      </a:lnTo>
                      <a:lnTo>
                        <a:pt x="415" y="794"/>
                      </a:lnTo>
                      <a:lnTo>
                        <a:pt x="375" y="815"/>
                      </a:lnTo>
                      <a:lnTo>
                        <a:pt x="392" y="898"/>
                      </a:lnTo>
                      <a:lnTo>
                        <a:pt x="424" y="949"/>
                      </a:lnTo>
                      <a:lnTo>
                        <a:pt x="496" y="960"/>
                      </a:lnTo>
                      <a:lnTo>
                        <a:pt x="575" y="960"/>
                      </a:lnTo>
                      <a:lnTo>
                        <a:pt x="647" y="929"/>
                      </a:lnTo>
                      <a:lnTo>
                        <a:pt x="624" y="898"/>
                      </a:lnTo>
                      <a:lnTo>
                        <a:pt x="616" y="856"/>
                      </a:lnTo>
                      <a:lnTo>
                        <a:pt x="632" y="785"/>
                      </a:lnTo>
                      <a:lnTo>
                        <a:pt x="656" y="774"/>
                      </a:lnTo>
                      <a:lnTo>
                        <a:pt x="656" y="867"/>
                      </a:lnTo>
                      <a:lnTo>
                        <a:pt x="679" y="898"/>
                      </a:lnTo>
                      <a:lnTo>
                        <a:pt x="696" y="898"/>
                      </a:lnTo>
                      <a:lnTo>
                        <a:pt x="736" y="878"/>
                      </a:lnTo>
                      <a:lnTo>
                        <a:pt x="712" y="918"/>
                      </a:lnTo>
                      <a:lnTo>
                        <a:pt x="688" y="918"/>
                      </a:lnTo>
                      <a:lnTo>
                        <a:pt x="696" y="949"/>
                      </a:lnTo>
                      <a:lnTo>
                        <a:pt x="679" y="960"/>
                      </a:lnTo>
                      <a:lnTo>
                        <a:pt x="688" y="1052"/>
                      </a:lnTo>
                      <a:lnTo>
                        <a:pt x="656" y="1032"/>
                      </a:lnTo>
                      <a:lnTo>
                        <a:pt x="647" y="1052"/>
                      </a:lnTo>
                      <a:lnTo>
                        <a:pt x="616" y="1032"/>
                      </a:lnTo>
                      <a:lnTo>
                        <a:pt x="608" y="1063"/>
                      </a:lnTo>
                      <a:lnTo>
                        <a:pt x="592" y="1042"/>
                      </a:lnTo>
                      <a:lnTo>
                        <a:pt x="583" y="1063"/>
                      </a:lnTo>
                      <a:lnTo>
                        <a:pt x="568" y="1042"/>
                      </a:lnTo>
                      <a:lnTo>
                        <a:pt x="560" y="1063"/>
                      </a:lnTo>
                      <a:lnTo>
                        <a:pt x="536" y="1042"/>
                      </a:lnTo>
                      <a:lnTo>
                        <a:pt x="528" y="1063"/>
                      </a:lnTo>
                      <a:lnTo>
                        <a:pt x="512" y="1042"/>
                      </a:lnTo>
                      <a:lnTo>
                        <a:pt x="504" y="1052"/>
                      </a:lnTo>
                      <a:lnTo>
                        <a:pt x="488" y="1032"/>
                      </a:lnTo>
                      <a:lnTo>
                        <a:pt x="496" y="1084"/>
                      </a:lnTo>
                      <a:lnTo>
                        <a:pt x="464" y="1094"/>
                      </a:lnTo>
                      <a:lnTo>
                        <a:pt x="440" y="971"/>
                      </a:lnTo>
                      <a:lnTo>
                        <a:pt x="408" y="971"/>
                      </a:lnTo>
                      <a:lnTo>
                        <a:pt x="368" y="939"/>
                      </a:lnTo>
                      <a:lnTo>
                        <a:pt x="352" y="867"/>
                      </a:lnTo>
                      <a:lnTo>
                        <a:pt x="344" y="825"/>
                      </a:lnTo>
                      <a:lnTo>
                        <a:pt x="368" y="794"/>
                      </a:lnTo>
                      <a:lnTo>
                        <a:pt x="432" y="763"/>
                      </a:lnTo>
                      <a:lnTo>
                        <a:pt x="392" y="722"/>
                      </a:lnTo>
                      <a:lnTo>
                        <a:pt x="400" y="712"/>
                      </a:lnTo>
                      <a:lnTo>
                        <a:pt x="496" y="712"/>
                      </a:lnTo>
                      <a:lnTo>
                        <a:pt x="432" y="650"/>
                      </a:lnTo>
                      <a:lnTo>
                        <a:pt x="408" y="639"/>
                      </a:lnTo>
                      <a:lnTo>
                        <a:pt x="375" y="671"/>
                      </a:lnTo>
                      <a:lnTo>
                        <a:pt x="312" y="682"/>
                      </a:lnTo>
                      <a:lnTo>
                        <a:pt x="256" y="682"/>
                      </a:lnTo>
                      <a:lnTo>
                        <a:pt x="167" y="661"/>
                      </a:lnTo>
                      <a:lnTo>
                        <a:pt x="73" y="619"/>
                      </a:lnTo>
                      <a:lnTo>
                        <a:pt x="24" y="557"/>
                      </a:lnTo>
                      <a:lnTo>
                        <a:pt x="0" y="526"/>
                      </a:lnTo>
                      <a:lnTo>
                        <a:pt x="32" y="484"/>
                      </a:lnTo>
                      <a:lnTo>
                        <a:pt x="24" y="526"/>
                      </a:lnTo>
                      <a:lnTo>
                        <a:pt x="65" y="577"/>
                      </a:lnTo>
                      <a:lnTo>
                        <a:pt x="104" y="608"/>
                      </a:lnTo>
                      <a:lnTo>
                        <a:pt x="136" y="629"/>
                      </a:lnTo>
                      <a:lnTo>
                        <a:pt x="144" y="598"/>
                      </a:lnTo>
                      <a:lnTo>
                        <a:pt x="160" y="639"/>
                      </a:lnTo>
                      <a:lnTo>
                        <a:pt x="176" y="598"/>
                      </a:lnTo>
                      <a:lnTo>
                        <a:pt x="191" y="639"/>
                      </a:lnTo>
                      <a:lnTo>
                        <a:pt x="208" y="608"/>
                      </a:lnTo>
                      <a:lnTo>
                        <a:pt x="224" y="650"/>
                      </a:lnTo>
                      <a:lnTo>
                        <a:pt x="240" y="608"/>
                      </a:lnTo>
                      <a:lnTo>
                        <a:pt x="265" y="650"/>
                      </a:lnTo>
                      <a:lnTo>
                        <a:pt x="272" y="598"/>
                      </a:lnTo>
                      <a:lnTo>
                        <a:pt x="312" y="639"/>
                      </a:lnTo>
                      <a:lnTo>
                        <a:pt x="304" y="588"/>
                      </a:lnTo>
                      <a:lnTo>
                        <a:pt x="352" y="629"/>
                      </a:lnTo>
                      <a:lnTo>
                        <a:pt x="328" y="568"/>
                      </a:lnTo>
                      <a:lnTo>
                        <a:pt x="368" y="608"/>
                      </a:lnTo>
                      <a:lnTo>
                        <a:pt x="424" y="619"/>
                      </a:lnTo>
                      <a:lnTo>
                        <a:pt x="519" y="682"/>
                      </a:lnTo>
                      <a:lnTo>
                        <a:pt x="575" y="682"/>
                      </a:lnTo>
                      <a:lnTo>
                        <a:pt x="647" y="682"/>
                      </a:lnTo>
                      <a:lnTo>
                        <a:pt x="688" y="650"/>
                      </a:lnTo>
                      <a:lnTo>
                        <a:pt x="728" y="588"/>
                      </a:lnTo>
                      <a:lnTo>
                        <a:pt x="775" y="484"/>
                      </a:lnTo>
                      <a:lnTo>
                        <a:pt x="831" y="340"/>
                      </a:lnTo>
                      <a:lnTo>
                        <a:pt x="839" y="248"/>
                      </a:lnTo>
                      <a:lnTo>
                        <a:pt x="824" y="174"/>
                      </a:lnTo>
                      <a:lnTo>
                        <a:pt x="792" y="124"/>
                      </a:lnTo>
                      <a:lnTo>
                        <a:pt x="760" y="102"/>
                      </a:lnTo>
                      <a:lnTo>
                        <a:pt x="808" y="114"/>
                      </a:lnTo>
                      <a:lnTo>
                        <a:pt x="808" y="93"/>
                      </a:lnTo>
                      <a:lnTo>
                        <a:pt x="831" y="133"/>
                      </a:lnTo>
                      <a:lnTo>
                        <a:pt x="848" y="102"/>
                      </a:lnTo>
                      <a:lnTo>
                        <a:pt x="872" y="133"/>
                      </a:lnTo>
                      <a:lnTo>
                        <a:pt x="880" y="102"/>
                      </a:lnTo>
                      <a:lnTo>
                        <a:pt x="904" y="133"/>
                      </a:lnTo>
                      <a:lnTo>
                        <a:pt x="904" y="82"/>
                      </a:lnTo>
                      <a:lnTo>
                        <a:pt x="935" y="114"/>
                      </a:lnTo>
                      <a:lnTo>
                        <a:pt x="920" y="71"/>
                      </a:lnTo>
                      <a:lnTo>
                        <a:pt x="935" y="41"/>
                      </a:lnTo>
                      <a:lnTo>
                        <a:pt x="880" y="21"/>
                      </a:lnTo>
                      <a:lnTo>
                        <a:pt x="880" y="21"/>
                      </a:lnTo>
                      <a:lnTo>
                        <a:pt x="88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833440" y="5720400"/>
                  <a:ext cx="271080" cy="198000"/>
                </a:xfrm>
                <a:custGeom>
                  <a:avLst/>
                  <a:gdLst/>
                  <a:ahLst/>
                  <a:rect l="l" t="t" r="r" b="b"/>
                  <a:pathLst>
                    <a:path w="497" h="353">
                      <a:moveTo>
                        <a:pt x="121" y="83"/>
                      </a:moveTo>
                      <a:lnTo>
                        <a:pt x="105" y="115"/>
                      </a:lnTo>
                      <a:lnTo>
                        <a:pt x="88" y="146"/>
                      </a:lnTo>
                      <a:lnTo>
                        <a:pt x="169" y="146"/>
                      </a:lnTo>
                      <a:lnTo>
                        <a:pt x="217" y="136"/>
                      </a:lnTo>
                      <a:lnTo>
                        <a:pt x="241" y="136"/>
                      </a:lnTo>
                      <a:lnTo>
                        <a:pt x="257" y="156"/>
                      </a:lnTo>
                      <a:lnTo>
                        <a:pt x="169" y="176"/>
                      </a:lnTo>
                      <a:lnTo>
                        <a:pt x="121" y="176"/>
                      </a:lnTo>
                      <a:lnTo>
                        <a:pt x="153" y="207"/>
                      </a:lnTo>
                      <a:lnTo>
                        <a:pt x="201" y="218"/>
                      </a:lnTo>
                      <a:lnTo>
                        <a:pt x="257" y="207"/>
                      </a:lnTo>
                      <a:lnTo>
                        <a:pt x="241" y="228"/>
                      </a:lnTo>
                      <a:lnTo>
                        <a:pt x="185" y="231"/>
                      </a:lnTo>
                      <a:lnTo>
                        <a:pt x="185" y="259"/>
                      </a:lnTo>
                      <a:lnTo>
                        <a:pt x="264" y="280"/>
                      </a:lnTo>
                      <a:lnTo>
                        <a:pt x="288" y="290"/>
                      </a:lnTo>
                      <a:lnTo>
                        <a:pt x="337" y="269"/>
                      </a:lnTo>
                      <a:lnTo>
                        <a:pt x="360" y="249"/>
                      </a:lnTo>
                      <a:lnTo>
                        <a:pt x="386" y="199"/>
                      </a:lnTo>
                      <a:lnTo>
                        <a:pt x="364" y="212"/>
                      </a:lnTo>
                      <a:lnTo>
                        <a:pt x="360" y="197"/>
                      </a:lnTo>
                      <a:lnTo>
                        <a:pt x="384" y="156"/>
                      </a:lnTo>
                      <a:lnTo>
                        <a:pt x="409" y="115"/>
                      </a:lnTo>
                      <a:lnTo>
                        <a:pt x="417" y="94"/>
                      </a:lnTo>
                      <a:lnTo>
                        <a:pt x="313" y="136"/>
                      </a:lnTo>
                      <a:lnTo>
                        <a:pt x="273" y="146"/>
                      </a:lnTo>
                      <a:lnTo>
                        <a:pt x="264" y="125"/>
                      </a:lnTo>
                      <a:lnTo>
                        <a:pt x="313" y="104"/>
                      </a:lnTo>
                      <a:lnTo>
                        <a:pt x="369" y="83"/>
                      </a:lnTo>
                      <a:lnTo>
                        <a:pt x="417" y="33"/>
                      </a:lnTo>
                      <a:lnTo>
                        <a:pt x="377" y="2"/>
                      </a:lnTo>
                      <a:lnTo>
                        <a:pt x="401" y="2"/>
                      </a:lnTo>
                      <a:lnTo>
                        <a:pt x="420" y="18"/>
                      </a:lnTo>
                      <a:lnTo>
                        <a:pt x="437" y="0"/>
                      </a:lnTo>
                      <a:lnTo>
                        <a:pt x="449" y="31"/>
                      </a:lnTo>
                      <a:lnTo>
                        <a:pt x="471" y="9"/>
                      </a:lnTo>
                      <a:lnTo>
                        <a:pt x="473" y="34"/>
                      </a:lnTo>
                      <a:lnTo>
                        <a:pt x="497" y="22"/>
                      </a:lnTo>
                      <a:lnTo>
                        <a:pt x="488" y="42"/>
                      </a:lnTo>
                      <a:lnTo>
                        <a:pt x="465" y="52"/>
                      </a:lnTo>
                      <a:lnTo>
                        <a:pt x="441" y="115"/>
                      </a:lnTo>
                      <a:lnTo>
                        <a:pt x="433" y="176"/>
                      </a:lnTo>
                      <a:lnTo>
                        <a:pt x="425" y="239"/>
                      </a:lnTo>
                      <a:lnTo>
                        <a:pt x="401" y="300"/>
                      </a:lnTo>
                      <a:lnTo>
                        <a:pt x="360" y="332"/>
                      </a:lnTo>
                      <a:lnTo>
                        <a:pt x="313" y="353"/>
                      </a:lnTo>
                      <a:lnTo>
                        <a:pt x="273" y="353"/>
                      </a:lnTo>
                      <a:lnTo>
                        <a:pt x="257" y="342"/>
                      </a:lnTo>
                      <a:lnTo>
                        <a:pt x="249" y="321"/>
                      </a:lnTo>
                      <a:lnTo>
                        <a:pt x="288" y="332"/>
                      </a:lnTo>
                      <a:lnTo>
                        <a:pt x="329" y="311"/>
                      </a:lnTo>
                      <a:lnTo>
                        <a:pt x="296" y="300"/>
                      </a:lnTo>
                      <a:lnTo>
                        <a:pt x="257" y="311"/>
                      </a:lnTo>
                      <a:lnTo>
                        <a:pt x="207" y="292"/>
                      </a:lnTo>
                      <a:lnTo>
                        <a:pt x="217" y="332"/>
                      </a:lnTo>
                      <a:lnTo>
                        <a:pt x="192" y="321"/>
                      </a:lnTo>
                      <a:lnTo>
                        <a:pt x="128" y="249"/>
                      </a:lnTo>
                      <a:lnTo>
                        <a:pt x="81" y="176"/>
                      </a:lnTo>
                      <a:lnTo>
                        <a:pt x="49" y="197"/>
                      </a:lnTo>
                      <a:lnTo>
                        <a:pt x="17" y="197"/>
                      </a:lnTo>
                      <a:lnTo>
                        <a:pt x="0" y="176"/>
                      </a:lnTo>
                      <a:lnTo>
                        <a:pt x="41" y="176"/>
                      </a:lnTo>
                      <a:lnTo>
                        <a:pt x="26" y="155"/>
                      </a:lnTo>
                      <a:lnTo>
                        <a:pt x="55" y="158"/>
                      </a:lnTo>
                      <a:lnTo>
                        <a:pt x="49" y="125"/>
                      </a:lnTo>
                      <a:lnTo>
                        <a:pt x="65" y="136"/>
                      </a:lnTo>
                      <a:lnTo>
                        <a:pt x="65" y="104"/>
                      </a:lnTo>
                      <a:lnTo>
                        <a:pt x="81" y="115"/>
                      </a:lnTo>
                      <a:lnTo>
                        <a:pt x="121" y="83"/>
                      </a:lnTo>
                      <a:lnTo>
                        <a:pt x="121" y="83"/>
                      </a:lnTo>
                      <a:lnTo>
                        <a:pt x="121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920560" y="5726880"/>
                  <a:ext cx="91800" cy="51840"/>
                </a:xfrm>
                <a:custGeom>
                  <a:avLst/>
                  <a:gdLst/>
                  <a:ahLst/>
                  <a:rect l="l" t="t" r="r" b="b"/>
                  <a:pathLst>
                    <a:path w="168" h="93">
                      <a:moveTo>
                        <a:pt x="8" y="52"/>
                      </a:moveTo>
                      <a:lnTo>
                        <a:pt x="64" y="41"/>
                      </a:lnTo>
                      <a:lnTo>
                        <a:pt x="112" y="22"/>
                      </a:lnTo>
                      <a:lnTo>
                        <a:pt x="144" y="11"/>
                      </a:lnTo>
                      <a:lnTo>
                        <a:pt x="160" y="0"/>
                      </a:lnTo>
                      <a:lnTo>
                        <a:pt x="168" y="22"/>
                      </a:lnTo>
                      <a:lnTo>
                        <a:pt x="135" y="41"/>
                      </a:lnTo>
                      <a:lnTo>
                        <a:pt x="127" y="72"/>
                      </a:lnTo>
                      <a:lnTo>
                        <a:pt x="96" y="93"/>
                      </a:lnTo>
                      <a:lnTo>
                        <a:pt x="56" y="93"/>
                      </a:lnTo>
                      <a:lnTo>
                        <a:pt x="31" y="72"/>
                      </a:lnTo>
                      <a:lnTo>
                        <a:pt x="0" y="72"/>
                      </a:lnTo>
                      <a:lnTo>
                        <a:pt x="8" y="52"/>
                      </a:lnTo>
                      <a:lnTo>
                        <a:pt x="8" y="52"/>
                      </a:lnTo>
                      <a:lnTo>
                        <a:pt x="8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868000" y="5686560"/>
                  <a:ext cx="61920" cy="45000"/>
                </a:xfrm>
                <a:custGeom>
                  <a:avLst/>
                  <a:gdLst/>
                  <a:ahLst/>
                  <a:rect l="l" t="t" r="r" b="b"/>
                  <a:pathLst>
                    <a:path w="112" h="83">
                      <a:moveTo>
                        <a:pt x="0" y="51"/>
                      </a:moveTo>
                      <a:lnTo>
                        <a:pt x="40" y="20"/>
                      </a:lnTo>
                      <a:lnTo>
                        <a:pt x="80" y="0"/>
                      </a:lnTo>
                      <a:lnTo>
                        <a:pt x="112" y="0"/>
                      </a:lnTo>
                      <a:lnTo>
                        <a:pt x="112" y="20"/>
                      </a:lnTo>
                      <a:lnTo>
                        <a:pt x="88" y="20"/>
                      </a:lnTo>
                      <a:lnTo>
                        <a:pt x="88" y="41"/>
                      </a:lnTo>
                      <a:lnTo>
                        <a:pt x="40" y="63"/>
                      </a:lnTo>
                      <a:lnTo>
                        <a:pt x="23" y="83"/>
                      </a:lnTo>
                      <a:lnTo>
                        <a:pt x="0" y="6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977800" y="5651280"/>
                  <a:ext cx="57600" cy="35280"/>
                </a:xfrm>
                <a:custGeom>
                  <a:avLst/>
                  <a:gdLst/>
                  <a:ahLst/>
                  <a:rect l="l" t="t" r="r" b="b"/>
                  <a:pathLst>
                    <a:path w="105" h="61">
                      <a:moveTo>
                        <a:pt x="0" y="31"/>
                      </a:moveTo>
                      <a:lnTo>
                        <a:pt x="41" y="9"/>
                      </a:lnTo>
                      <a:lnTo>
                        <a:pt x="105" y="0"/>
                      </a:lnTo>
                      <a:lnTo>
                        <a:pt x="96" y="40"/>
                      </a:lnTo>
                      <a:lnTo>
                        <a:pt x="57" y="40"/>
                      </a:lnTo>
                      <a:lnTo>
                        <a:pt x="32" y="61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864400" y="5594040"/>
                  <a:ext cx="55800" cy="61920"/>
                </a:xfrm>
                <a:custGeom>
                  <a:avLst/>
                  <a:gdLst/>
                  <a:ahLst/>
                  <a:rect l="l" t="t" r="r" b="b"/>
                  <a:pathLst>
                    <a:path w="104" h="113">
                      <a:moveTo>
                        <a:pt x="104" y="21"/>
                      </a:moveTo>
                      <a:lnTo>
                        <a:pt x="64" y="42"/>
                      </a:lnTo>
                      <a:lnTo>
                        <a:pt x="31" y="72"/>
                      </a:lnTo>
                      <a:lnTo>
                        <a:pt x="16" y="113"/>
                      </a:lnTo>
                      <a:lnTo>
                        <a:pt x="0" y="104"/>
                      </a:lnTo>
                      <a:lnTo>
                        <a:pt x="8" y="62"/>
                      </a:lnTo>
                      <a:lnTo>
                        <a:pt x="31" y="21"/>
                      </a:lnTo>
                      <a:lnTo>
                        <a:pt x="56" y="11"/>
                      </a:lnTo>
                      <a:lnTo>
                        <a:pt x="80" y="0"/>
                      </a:lnTo>
                      <a:lnTo>
                        <a:pt x="104" y="21"/>
                      </a:lnTo>
                      <a:lnTo>
                        <a:pt x="104" y="21"/>
                      </a:lnTo>
                      <a:lnTo>
                        <a:pt x="104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943600" y="5575680"/>
                  <a:ext cx="50400" cy="29880"/>
                </a:xfrm>
                <a:custGeom>
                  <a:avLst/>
                  <a:gdLst/>
                  <a:ahLst/>
                  <a:rect l="l" t="t" r="r" b="b"/>
                  <a:pathLst>
                    <a:path w="95" h="52">
                      <a:moveTo>
                        <a:pt x="0" y="10"/>
                      </a:moveTo>
                      <a:lnTo>
                        <a:pt x="40" y="0"/>
                      </a:lnTo>
                      <a:lnTo>
                        <a:pt x="63" y="10"/>
                      </a:lnTo>
                      <a:lnTo>
                        <a:pt x="95" y="20"/>
                      </a:lnTo>
                      <a:lnTo>
                        <a:pt x="80" y="52"/>
                      </a:lnTo>
                      <a:lnTo>
                        <a:pt x="48" y="42"/>
                      </a:lnTo>
                      <a:lnTo>
                        <a:pt x="24" y="42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943600" y="5656320"/>
                  <a:ext cx="55800" cy="59040"/>
                </a:xfrm>
                <a:custGeom>
                  <a:avLst/>
                  <a:gdLst/>
                  <a:ahLst/>
                  <a:rect l="l" t="t" r="r" b="b"/>
                  <a:pathLst>
                    <a:path w="104" h="103">
                      <a:moveTo>
                        <a:pt x="0" y="0"/>
                      </a:moveTo>
                      <a:lnTo>
                        <a:pt x="24" y="52"/>
                      </a:lnTo>
                      <a:lnTo>
                        <a:pt x="56" y="93"/>
                      </a:lnTo>
                      <a:lnTo>
                        <a:pt x="87" y="103"/>
                      </a:lnTo>
                      <a:lnTo>
                        <a:pt x="104" y="93"/>
                      </a:lnTo>
                      <a:lnTo>
                        <a:pt x="50" y="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6064920" y="5906520"/>
                  <a:ext cx="91800" cy="92520"/>
                </a:xfrm>
                <a:custGeom>
                  <a:avLst/>
                  <a:gdLst/>
                  <a:ahLst/>
                  <a:rect l="l" t="t" r="r" b="b"/>
                  <a:pathLst>
                    <a:path w="168" h="165">
                      <a:moveTo>
                        <a:pt x="0" y="165"/>
                      </a:moveTo>
                      <a:lnTo>
                        <a:pt x="40" y="92"/>
                      </a:lnTo>
                      <a:lnTo>
                        <a:pt x="88" y="51"/>
                      </a:lnTo>
                      <a:lnTo>
                        <a:pt x="144" y="0"/>
                      </a:lnTo>
                      <a:lnTo>
                        <a:pt x="168" y="21"/>
                      </a:lnTo>
                      <a:lnTo>
                        <a:pt x="104" y="72"/>
                      </a:lnTo>
                      <a:lnTo>
                        <a:pt x="63" y="92"/>
                      </a:lnTo>
                      <a:lnTo>
                        <a:pt x="0" y="165"/>
                      </a:lnTo>
                      <a:lnTo>
                        <a:pt x="0" y="165"/>
                      </a:ln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046560" y="5541840"/>
                  <a:ext cx="364320" cy="698760"/>
                </a:xfrm>
                <a:custGeom>
                  <a:avLst/>
                  <a:gdLst/>
                  <a:ahLst/>
                  <a:rect l="l" t="t" r="r" b="b"/>
                  <a:pathLst>
                    <a:path w="665" h="1248">
                      <a:moveTo>
                        <a:pt x="177" y="701"/>
                      </a:moveTo>
                      <a:lnTo>
                        <a:pt x="657" y="0"/>
                      </a:lnTo>
                      <a:lnTo>
                        <a:pt x="665" y="31"/>
                      </a:lnTo>
                      <a:lnTo>
                        <a:pt x="265" y="671"/>
                      </a:lnTo>
                      <a:lnTo>
                        <a:pt x="273" y="701"/>
                      </a:lnTo>
                      <a:lnTo>
                        <a:pt x="265" y="742"/>
                      </a:lnTo>
                      <a:lnTo>
                        <a:pt x="241" y="774"/>
                      </a:lnTo>
                      <a:lnTo>
                        <a:pt x="248" y="815"/>
                      </a:lnTo>
                      <a:lnTo>
                        <a:pt x="234" y="856"/>
                      </a:lnTo>
                      <a:lnTo>
                        <a:pt x="225" y="877"/>
                      </a:lnTo>
                      <a:lnTo>
                        <a:pt x="305" y="897"/>
                      </a:lnTo>
                      <a:lnTo>
                        <a:pt x="369" y="897"/>
                      </a:lnTo>
                      <a:lnTo>
                        <a:pt x="369" y="1001"/>
                      </a:lnTo>
                      <a:lnTo>
                        <a:pt x="392" y="1001"/>
                      </a:lnTo>
                      <a:lnTo>
                        <a:pt x="313" y="1124"/>
                      </a:lnTo>
                      <a:lnTo>
                        <a:pt x="217" y="1217"/>
                      </a:lnTo>
                      <a:lnTo>
                        <a:pt x="193" y="1207"/>
                      </a:lnTo>
                      <a:lnTo>
                        <a:pt x="273" y="1135"/>
                      </a:lnTo>
                      <a:lnTo>
                        <a:pt x="330" y="1052"/>
                      </a:lnTo>
                      <a:lnTo>
                        <a:pt x="288" y="1063"/>
                      </a:lnTo>
                      <a:lnTo>
                        <a:pt x="225" y="1063"/>
                      </a:lnTo>
                      <a:lnTo>
                        <a:pt x="248" y="1135"/>
                      </a:lnTo>
                      <a:lnTo>
                        <a:pt x="169" y="1207"/>
                      </a:lnTo>
                      <a:lnTo>
                        <a:pt x="113" y="1238"/>
                      </a:lnTo>
                      <a:lnTo>
                        <a:pt x="49" y="1248"/>
                      </a:lnTo>
                      <a:lnTo>
                        <a:pt x="33" y="1238"/>
                      </a:lnTo>
                      <a:lnTo>
                        <a:pt x="105" y="1217"/>
                      </a:lnTo>
                      <a:lnTo>
                        <a:pt x="152" y="1187"/>
                      </a:lnTo>
                      <a:lnTo>
                        <a:pt x="160" y="1155"/>
                      </a:lnTo>
                      <a:lnTo>
                        <a:pt x="152" y="1104"/>
                      </a:lnTo>
                      <a:lnTo>
                        <a:pt x="89" y="1135"/>
                      </a:lnTo>
                      <a:lnTo>
                        <a:pt x="49" y="1145"/>
                      </a:lnTo>
                      <a:lnTo>
                        <a:pt x="73" y="1104"/>
                      </a:lnTo>
                      <a:lnTo>
                        <a:pt x="96" y="1104"/>
                      </a:lnTo>
                      <a:lnTo>
                        <a:pt x="96" y="1074"/>
                      </a:lnTo>
                      <a:lnTo>
                        <a:pt x="113" y="1083"/>
                      </a:lnTo>
                      <a:lnTo>
                        <a:pt x="121" y="1063"/>
                      </a:lnTo>
                      <a:lnTo>
                        <a:pt x="145" y="1052"/>
                      </a:lnTo>
                      <a:lnTo>
                        <a:pt x="137" y="1032"/>
                      </a:lnTo>
                      <a:lnTo>
                        <a:pt x="160" y="1021"/>
                      </a:lnTo>
                      <a:lnTo>
                        <a:pt x="152" y="1001"/>
                      </a:lnTo>
                      <a:lnTo>
                        <a:pt x="129" y="949"/>
                      </a:lnTo>
                      <a:lnTo>
                        <a:pt x="105" y="959"/>
                      </a:lnTo>
                      <a:lnTo>
                        <a:pt x="105" y="981"/>
                      </a:lnTo>
                      <a:lnTo>
                        <a:pt x="89" y="981"/>
                      </a:lnTo>
                      <a:lnTo>
                        <a:pt x="25" y="928"/>
                      </a:lnTo>
                      <a:lnTo>
                        <a:pt x="0" y="856"/>
                      </a:lnTo>
                      <a:lnTo>
                        <a:pt x="33" y="856"/>
                      </a:lnTo>
                      <a:lnTo>
                        <a:pt x="96" y="939"/>
                      </a:lnTo>
                      <a:lnTo>
                        <a:pt x="145" y="918"/>
                      </a:lnTo>
                      <a:lnTo>
                        <a:pt x="185" y="877"/>
                      </a:lnTo>
                      <a:lnTo>
                        <a:pt x="209" y="835"/>
                      </a:lnTo>
                      <a:lnTo>
                        <a:pt x="217" y="794"/>
                      </a:lnTo>
                      <a:lnTo>
                        <a:pt x="185" y="804"/>
                      </a:lnTo>
                      <a:lnTo>
                        <a:pt x="193" y="794"/>
                      </a:lnTo>
                      <a:lnTo>
                        <a:pt x="241" y="722"/>
                      </a:lnTo>
                      <a:lnTo>
                        <a:pt x="248" y="691"/>
                      </a:lnTo>
                      <a:lnTo>
                        <a:pt x="193" y="732"/>
                      </a:lnTo>
                      <a:lnTo>
                        <a:pt x="241" y="671"/>
                      </a:lnTo>
                      <a:lnTo>
                        <a:pt x="577" y="144"/>
                      </a:lnTo>
                      <a:lnTo>
                        <a:pt x="185" y="711"/>
                      </a:lnTo>
                      <a:lnTo>
                        <a:pt x="177" y="701"/>
                      </a:lnTo>
                      <a:lnTo>
                        <a:pt x="177" y="701"/>
                      </a:lnTo>
                      <a:lnTo>
                        <a:pt x="177" y="7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253920" y="5726880"/>
                  <a:ext cx="491040" cy="345960"/>
                </a:xfrm>
                <a:custGeom>
                  <a:avLst/>
                  <a:gdLst/>
                  <a:ahLst/>
                  <a:rect l="l" t="t" r="r" b="b"/>
                  <a:pathLst>
                    <a:path w="896" h="620">
                      <a:moveTo>
                        <a:pt x="0" y="568"/>
                      </a:moveTo>
                      <a:lnTo>
                        <a:pt x="48" y="527"/>
                      </a:lnTo>
                      <a:lnTo>
                        <a:pt x="79" y="517"/>
                      </a:lnTo>
                      <a:lnTo>
                        <a:pt x="159" y="351"/>
                      </a:lnTo>
                      <a:lnTo>
                        <a:pt x="207" y="217"/>
                      </a:lnTo>
                      <a:lnTo>
                        <a:pt x="224" y="114"/>
                      </a:lnTo>
                      <a:lnTo>
                        <a:pt x="256" y="135"/>
                      </a:lnTo>
                      <a:lnTo>
                        <a:pt x="303" y="145"/>
                      </a:lnTo>
                      <a:lnTo>
                        <a:pt x="320" y="104"/>
                      </a:lnTo>
                      <a:lnTo>
                        <a:pt x="360" y="72"/>
                      </a:lnTo>
                      <a:lnTo>
                        <a:pt x="400" y="72"/>
                      </a:lnTo>
                      <a:lnTo>
                        <a:pt x="488" y="72"/>
                      </a:lnTo>
                      <a:lnTo>
                        <a:pt x="504" y="0"/>
                      </a:lnTo>
                      <a:lnTo>
                        <a:pt x="576" y="0"/>
                      </a:lnTo>
                      <a:lnTo>
                        <a:pt x="623" y="22"/>
                      </a:lnTo>
                      <a:lnTo>
                        <a:pt x="617" y="41"/>
                      </a:lnTo>
                      <a:lnTo>
                        <a:pt x="672" y="62"/>
                      </a:lnTo>
                      <a:lnTo>
                        <a:pt x="648" y="93"/>
                      </a:lnTo>
                      <a:lnTo>
                        <a:pt x="663" y="104"/>
                      </a:lnTo>
                      <a:lnTo>
                        <a:pt x="559" y="104"/>
                      </a:lnTo>
                      <a:lnTo>
                        <a:pt x="592" y="41"/>
                      </a:lnTo>
                      <a:lnTo>
                        <a:pt x="552" y="31"/>
                      </a:lnTo>
                      <a:lnTo>
                        <a:pt x="520" y="31"/>
                      </a:lnTo>
                      <a:lnTo>
                        <a:pt x="512" y="83"/>
                      </a:lnTo>
                      <a:lnTo>
                        <a:pt x="527" y="93"/>
                      </a:lnTo>
                      <a:lnTo>
                        <a:pt x="367" y="93"/>
                      </a:lnTo>
                      <a:lnTo>
                        <a:pt x="338" y="117"/>
                      </a:lnTo>
                      <a:lnTo>
                        <a:pt x="332" y="162"/>
                      </a:lnTo>
                      <a:lnTo>
                        <a:pt x="360" y="196"/>
                      </a:lnTo>
                      <a:lnTo>
                        <a:pt x="394" y="193"/>
                      </a:lnTo>
                      <a:lnTo>
                        <a:pt x="566" y="216"/>
                      </a:lnTo>
                      <a:lnTo>
                        <a:pt x="374" y="213"/>
                      </a:lnTo>
                      <a:lnTo>
                        <a:pt x="367" y="248"/>
                      </a:lnTo>
                      <a:lnTo>
                        <a:pt x="623" y="269"/>
                      </a:lnTo>
                      <a:lnTo>
                        <a:pt x="656" y="217"/>
                      </a:lnTo>
                      <a:lnTo>
                        <a:pt x="648" y="176"/>
                      </a:lnTo>
                      <a:lnTo>
                        <a:pt x="663" y="145"/>
                      </a:lnTo>
                      <a:lnTo>
                        <a:pt x="696" y="135"/>
                      </a:lnTo>
                      <a:lnTo>
                        <a:pt x="736" y="135"/>
                      </a:lnTo>
                      <a:lnTo>
                        <a:pt x="727" y="114"/>
                      </a:lnTo>
                      <a:lnTo>
                        <a:pt x="679" y="102"/>
                      </a:lnTo>
                      <a:lnTo>
                        <a:pt x="724" y="102"/>
                      </a:lnTo>
                      <a:lnTo>
                        <a:pt x="752" y="125"/>
                      </a:lnTo>
                      <a:lnTo>
                        <a:pt x="768" y="176"/>
                      </a:lnTo>
                      <a:lnTo>
                        <a:pt x="768" y="196"/>
                      </a:lnTo>
                      <a:lnTo>
                        <a:pt x="855" y="186"/>
                      </a:lnTo>
                      <a:lnTo>
                        <a:pt x="847" y="217"/>
                      </a:lnTo>
                      <a:lnTo>
                        <a:pt x="888" y="217"/>
                      </a:lnTo>
                      <a:lnTo>
                        <a:pt x="863" y="258"/>
                      </a:lnTo>
                      <a:lnTo>
                        <a:pt x="896" y="258"/>
                      </a:lnTo>
                      <a:lnTo>
                        <a:pt x="888" y="289"/>
                      </a:lnTo>
                      <a:lnTo>
                        <a:pt x="840" y="289"/>
                      </a:lnTo>
                      <a:lnTo>
                        <a:pt x="840" y="248"/>
                      </a:lnTo>
                      <a:lnTo>
                        <a:pt x="823" y="248"/>
                      </a:lnTo>
                      <a:lnTo>
                        <a:pt x="801" y="269"/>
                      </a:lnTo>
                      <a:lnTo>
                        <a:pt x="808" y="217"/>
                      </a:lnTo>
                      <a:lnTo>
                        <a:pt x="744" y="217"/>
                      </a:lnTo>
                      <a:lnTo>
                        <a:pt x="688" y="217"/>
                      </a:lnTo>
                      <a:lnTo>
                        <a:pt x="696" y="228"/>
                      </a:lnTo>
                      <a:lnTo>
                        <a:pt x="631" y="300"/>
                      </a:lnTo>
                      <a:lnTo>
                        <a:pt x="609" y="300"/>
                      </a:lnTo>
                      <a:lnTo>
                        <a:pt x="352" y="269"/>
                      </a:lnTo>
                      <a:lnTo>
                        <a:pt x="336" y="238"/>
                      </a:lnTo>
                      <a:lnTo>
                        <a:pt x="352" y="207"/>
                      </a:lnTo>
                      <a:lnTo>
                        <a:pt x="320" y="186"/>
                      </a:lnTo>
                      <a:lnTo>
                        <a:pt x="303" y="165"/>
                      </a:lnTo>
                      <a:lnTo>
                        <a:pt x="248" y="155"/>
                      </a:lnTo>
                      <a:lnTo>
                        <a:pt x="207" y="279"/>
                      </a:lnTo>
                      <a:lnTo>
                        <a:pt x="152" y="445"/>
                      </a:lnTo>
                      <a:lnTo>
                        <a:pt x="104" y="527"/>
                      </a:lnTo>
                      <a:lnTo>
                        <a:pt x="175" y="527"/>
                      </a:lnTo>
                      <a:lnTo>
                        <a:pt x="159" y="548"/>
                      </a:lnTo>
                      <a:lnTo>
                        <a:pt x="104" y="599"/>
                      </a:lnTo>
                      <a:lnTo>
                        <a:pt x="40" y="620"/>
                      </a:lnTo>
                      <a:lnTo>
                        <a:pt x="48" y="610"/>
                      </a:lnTo>
                      <a:lnTo>
                        <a:pt x="96" y="589"/>
                      </a:lnTo>
                      <a:lnTo>
                        <a:pt x="128" y="559"/>
                      </a:lnTo>
                      <a:lnTo>
                        <a:pt x="144" y="537"/>
                      </a:lnTo>
                      <a:lnTo>
                        <a:pt x="63" y="548"/>
                      </a:lnTo>
                      <a:lnTo>
                        <a:pt x="24" y="568"/>
                      </a:lnTo>
                      <a:lnTo>
                        <a:pt x="0" y="568"/>
                      </a:lnTo>
                      <a:lnTo>
                        <a:pt x="0" y="568"/>
                      </a:lnTo>
                      <a:lnTo>
                        <a:pt x="0" y="5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6170040" y="5888160"/>
                  <a:ext cx="516960" cy="433080"/>
                </a:xfrm>
                <a:custGeom>
                  <a:avLst/>
                  <a:gdLst/>
                  <a:ahLst/>
                  <a:rect l="l" t="t" r="r" b="b"/>
                  <a:pathLst>
                    <a:path w="944" h="775">
                      <a:moveTo>
                        <a:pt x="944" y="0"/>
                      </a:moveTo>
                      <a:lnTo>
                        <a:pt x="764" y="326"/>
                      </a:lnTo>
                      <a:lnTo>
                        <a:pt x="632" y="579"/>
                      </a:lnTo>
                      <a:lnTo>
                        <a:pt x="519" y="754"/>
                      </a:lnTo>
                      <a:lnTo>
                        <a:pt x="304" y="682"/>
                      </a:lnTo>
                      <a:lnTo>
                        <a:pt x="0" y="620"/>
                      </a:lnTo>
                      <a:lnTo>
                        <a:pt x="256" y="693"/>
                      </a:lnTo>
                      <a:lnTo>
                        <a:pt x="519" y="775"/>
                      </a:lnTo>
                      <a:lnTo>
                        <a:pt x="648" y="589"/>
                      </a:lnTo>
                      <a:lnTo>
                        <a:pt x="817" y="276"/>
                      </a:lnTo>
                      <a:lnTo>
                        <a:pt x="944" y="0"/>
                      </a:lnTo>
                      <a:lnTo>
                        <a:pt x="944" y="0"/>
                      </a:lnTo>
                      <a:lnTo>
                        <a:pt x="9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6463800" y="5894640"/>
                  <a:ext cx="244800" cy="438480"/>
                </a:xfrm>
                <a:custGeom>
                  <a:avLst/>
                  <a:gdLst/>
                  <a:ahLst/>
                  <a:rect l="l" t="t" r="r" b="b"/>
                  <a:pathLst>
                    <a:path w="448" h="785">
                      <a:moveTo>
                        <a:pt x="448" y="0"/>
                      </a:moveTo>
                      <a:lnTo>
                        <a:pt x="272" y="330"/>
                      </a:lnTo>
                      <a:lnTo>
                        <a:pt x="0" y="785"/>
                      </a:lnTo>
                      <a:lnTo>
                        <a:pt x="271" y="362"/>
                      </a:lnTo>
                      <a:lnTo>
                        <a:pt x="448" y="0"/>
                      </a:lnTo>
                      <a:lnTo>
                        <a:pt x="448" y="0"/>
                      </a:lnTo>
                      <a:lnTo>
                        <a:pt x="4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6122160" y="5900040"/>
                  <a:ext cx="625680" cy="641520"/>
                </a:xfrm>
                <a:custGeom>
                  <a:avLst/>
                  <a:gdLst/>
                  <a:ahLst/>
                  <a:rect l="l" t="t" r="r" b="b"/>
                  <a:pathLst>
                    <a:path w="1144" h="1147">
                      <a:moveTo>
                        <a:pt x="1103" y="11"/>
                      </a:moveTo>
                      <a:lnTo>
                        <a:pt x="896" y="403"/>
                      </a:lnTo>
                      <a:lnTo>
                        <a:pt x="640" y="806"/>
                      </a:lnTo>
                      <a:lnTo>
                        <a:pt x="296" y="713"/>
                      </a:lnTo>
                      <a:lnTo>
                        <a:pt x="80" y="651"/>
                      </a:lnTo>
                      <a:lnTo>
                        <a:pt x="80" y="672"/>
                      </a:lnTo>
                      <a:lnTo>
                        <a:pt x="119" y="681"/>
                      </a:lnTo>
                      <a:lnTo>
                        <a:pt x="143" y="806"/>
                      </a:lnTo>
                      <a:lnTo>
                        <a:pt x="8" y="775"/>
                      </a:lnTo>
                      <a:lnTo>
                        <a:pt x="0" y="785"/>
                      </a:lnTo>
                      <a:lnTo>
                        <a:pt x="159" y="826"/>
                      </a:lnTo>
                      <a:lnTo>
                        <a:pt x="376" y="837"/>
                      </a:lnTo>
                      <a:lnTo>
                        <a:pt x="193" y="816"/>
                      </a:lnTo>
                      <a:lnTo>
                        <a:pt x="272" y="765"/>
                      </a:lnTo>
                      <a:lnTo>
                        <a:pt x="399" y="826"/>
                      </a:lnTo>
                      <a:lnTo>
                        <a:pt x="511" y="879"/>
                      </a:lnTo>
                      <a:lnTo>
                        <a:pt x="360" y="918"/>
                      </a:lnTo>
                      <a:lnTo>
                        <a:pt x="280" y="1002"/>
                      </a:lnTo>
                      <a:lnTo>
                        <a:pt x="215" y="940"/>
                      </a:lnTo>
                      <a:lnTo>
                        <a:pt x="296" y="1023"/>
                      </a:lnTo>
                      <a:lnTo>
                        <a:pt x="399" y="1096"/>
                      </a:lnTo>
                      <a:lnTo>
                        <a:pt x="528" y="1147"/>
                      </a:lnTo>
                      <a:lnTo>
                        <a:pt x="399" y="1085"/>
                      </a:lnTo>
                      <a:lnTo>
                        <a:pt x="352" y="1043"/>
                      </a:lnTo>
                      <a:lnTo>
                        <a:pt x="440" y="940"/>
                      </a:lnTo>
                      <a:lnTo>
                        <a:pt x="615" y="879"/>
                      </a:lnTo>
                      <a:lnTo>
                        <a:pt x="664" y="940"/>
                      </a:lnTo>
                      <a:lnTo>
                        <a:pt x="728" y="992"/>
                      </a:lnTo>
                      <a:lnTo>
                        <a:pt x="952" y="1085"/>
                      </a:lnTo>
                      <a:lnTo>
                        <a:pt x="744" y="981"/>
                      </a:lnTo>
                      <a:lnTo>
                        <a:pt x="704" y="918"/>
                      </a:lnTo>
                      <a:lnTo>
                        <a:pt x="840" y="806"/>
                      </a:lnTo>
                      <a:lnTo>
                        <a:pt x="896" y="806"/>
                      </a:lnTo>
                      <a:lnTo>
                        <a:pt x="807" y="898"/>
                      </a:lnTo>
                      <a:lnTo>
                        <a:pt x="752" y="950"/>
                      </a:lnTo>
                      <a:lnTo>
                        <a:pt x="871" y="857"/>
                      </a:lnTo>
                      <a:lnTo>
                        <a:pt x="944" y="794"/>
                      </a:lnTo>
                      <a:lnTo>
                        <a:pt x="928" y="775"/>
                      </a:lnTo>
                      <a:lnTo>
                        <a:pt x="888" y="785"/>
                      </a:lnTo>
                      <a:lnTo>
                        <a:pt x="736" y="744"/>
                      </a:lnTo>
                      <a:lnTo>
                        <a:pt x="816" y="620"/>
                      </a:lnTo>
                      <a:lnTo>
                        <a:pt x="1041" y="217"/>
                      </a:lnTo>
                      <a:lnTo>
                        <a:pt x="1144" y="0"/>
                      </a:lnTo>
                      <a:lnTo>
                        <a:pt x="1103" y="11"/>
                      </a:lnTo>
                      <a:lnTo>
                        <a:pt x="1103" y="11"/>
                      </a:lnTo>
                      <a:lnTo>
                        <a:pt x="110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641200" y="6165360"/>
                  <a:ext cx="494280" cy="342720"/>
                </a:xfrm>
                <a:custGeom>
                  <a:avLst/>
                  <a:gdLst/>
                  <a:ahLst/>
                  <a:rect l="l" t="t" r="r" b="b"/>
                  <a:pathLst>
                    <a:path w="903" h="610">
                      <a:moveTo>
                        <a:pt x="536" y="83"/>
                      </a:moveTo>
                      <a:lnTo>
                        <a:pt x="479" y="176"/>
                      </a:lnTo>
                      <a:lnTo>
                        <a:pt x="432" y="145"/>
                      </a:lnTo>
                      <a:lnTo>
                        <a:pt x="360" y="248"/>
                      </a:lnTo>
                      <a:lnTo>
                        <a:pt x="329" y="279"/>
                      </a:lnTo>
                      <a:lnTo>
                        <a:pt x="296" y="227"/>
                      </a:lnTo>
                      <a:lnTo>
                        <a:pt x="143" y="331"/>
                      </a:lnTo>
                      <a:lnTo>
                        <a:pt x="0" y="404"/>
                      </a:lnTo>
                      <a:lnTo>
                        <a:pt x="72" y="517"/>
                      </a:lnTo>
                      <a:lnTo>
                        <a:pt x="159" y="610"/>
                      </a:lnTo>
                      <a:lnTo>
                        <a:pt x="96" y="536"/>
                      </a:lnTo>
                      <a:lnTo>
                        <a:pt x="40" y="423"/>
                      </a:lnTo>
                      <a:lnTo>
                        <a:pt x="168" y="341"/>
                      </a:lnTo>
                      <a:lnTo>
                        <a:pt x="288" y="258"/>
                      </a:lnTo>
                      <a:lnTo>
                        <a:pt x="320" y="300"/>
                      </a:lnTo>
                      <a:lnTo>
                        <a:pt x="255" y="362"/>
                      </a:lnTo>
                      <a:lnTo>
                        <a:pt x="368" y="443"/>
                      </a:lnTo>
                      <a:lnTo>
                        <a:pt x="288" y="351"/>
                      </a:lnTo>
                      <a:lnTo>
                        <a:pt x="400" y="248"/>
                      </a:lnTo>
                      <a:lnTo>
                        <a:pt x="447" y="186"/>
                      </a:lnTo>
                      <a:lnTo>
                        <a:pt x="479" y="197"/>
                      </a:lnTo>
                      <a:lnTo>
                        <a:pt x="416" y="269"/>
                      </a:lnTo>
                      <a:lnTo>
                        <a:pt x="504" y="341"/>
                      </a:lnTo>
                      <a:lnTo>
                        <a:pt x="472" y="393"/>
                      </a:lnTo>
                      <a:lnTo>
                        <a:pt x="600" y="443"/>
                      </a:lnTo>
                      <a:lnTo>
                        <a:pt x="704" y="465"/>
                      </a:lnTo>
                      <a:lnTo>
                        <a:pt x="784" y="465"/>
                      </a:lnTo>
                      <a:lnTo>
                        <a:pt x="735" y="455"/>
                      </a:lnTo>
                      <a:lnTo>
                        <a:pt x="903" y="319"/>
                      </a:lnTo>
                      <a:lnTo>
                        <a:pt x="832" y="351"/>
                      </a:lnTo>
                      <a:lnTo>
                        <a:pt x="824" y="155"/>
                      </a:lnTo>
                      <a:lnTo>
                        <a:pt x="768" y="155"/>
                      </a:lnTo>
                      <a:lnTo>
                        <a:pt x="752" y="0"/>
                      </a:lnTo>
                      <a:lnTo>
                        <a:pt x="752" y="165"/>
                      </a:lnTo>
                      <a:lnTo>
                        <a:pt x="735" y="362"/>
                      </a:lnTo>
                      <a:lnTo>
                        <a:pt x="632" y="351"/>
                      </a:lnTo>
                      <a:lnTo>
                        <a:pt x="512" y="300"/>
                      </a:lnTo>
                      <a:lnTo>
                        <a:pt x="456" y="258"/>
                      </a:lnTo>
                      <a:lnTo>
                        <a:pt x="528" y="145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lnTo>
                        <a:pt x="53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49560" y="6409080"/>
                  <a:ext cx="359640" cy="144360"/>
                </a:xfrm>
                <a:custGeom>
                  <a:avLst/>
                  <a:gdLst/>
                  <a:ahLst/>
                  <a:rect l="l" t="t" r="r" b="b"/>
                  <a:pathLst>
                    <a:path w="656" h="258">
                      <a:moveTo>
                        <a:pt x="239" y="0"/>
                      </a:moveTo>
                      <a:lnTo>
                        <a:pt x="120" y="31"/>
                      </a:lnTo>
                      <a:lnTo>
                        <a:pt x="8" y="31"/>
                      </a:lnTo>
                      <a:lnTo>
                        <a:pt x="55" y="102"/>
                      </a:lnTo>
                      <a:lnTo>
                        <a:pt x="0" y="145"/>
                      </a:lnTo>
                      <a:lnTo>
                        <a:pt x="16" y="165"/>
                      </a:lnTo>
                      <a:lnTo>
                        <a:pt x="120" y="187"/>
                      </a:lnTo>
                      <a:lnTo>
                        <a:pt x="208" y="258"/>
                      </a:lnTo>
                      <a:lnTo>
                        <a:pt x="239" y="226"/>
                      </a:lnTo>
                      <a:lnTo>
                        <a:pt x="328" y="248"/>
                      </a:lnTo>
                      <a:lnTo>
                        <a:pt x="392" y="226"/>
                      </a:lnTo>
                      <a:lnTo>
                        <a:pt x="408" y="248"/>
                      </a:lnTo>
                      <a:lnTo>
                        <a:pt x="528" y="206"/>
                      </a:lnTo>
                      <a:lnTo>
                        <a:pt x="639" y="145"/>
                      </a:lnTo>
                      <a:lnTo>
                        <a:pt x="616" y="124"/>
                      </a:lnTo>
                      <a:lnTo>
                        <a:pt x="656" y="83"/>
                      </a:lnTo>
                      <a:lnTo>
                        <a:pt x="511" y="165"/>
                      </a:lnTo>
                      <a:lnTo>
                        <a:pt x="336" y="226"/>
                      </a:lnTo>
                      <a:lnTo>
                        <a:pt x="151" y="155"/>
                      </a:lnTo>
                      <a:lnTo>
                        <a:pt x="47" y="52"/>
                      </a:lnTo>
                      <a:lnTo>
                        <a:pt x="168" y="41"/>
                      </a:lnTo>
                      <a:lnTo>
                        <a:pt x="239" y="0"/>
                      </a:lnTo>
                      <a:lnTo>
                        <a:pt x="239" y="0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6046560" y="6420960"/>
                  <a:ext cx="197280" cy="172800"/>
                </a:xfrm>
                <a:custGeom>
                  <a:avLst/>
                  <a:gdLst/>
                  <a:ahLst/>
                  <a:rect l="l" t="t" r="r" b="b"/>
                  <a:pathLst>
                    <a:path w="360" h="310">
                      <a:moveTo>
                        <a:pt x="0" y="205"/>
                      </a:moveTo>
                      <a:lnTo>
                        <a:pt x="193" y="113"/>
                      </a:lnTo>
                      <a:lnTo>
                        <a:pt x="360" y="0"/>
                      </a:lnTo>
                      <a:lnTo>
                        <a:pt x="160" y="155"/>
                      </a:lnTo>
                      <a:lnTo>
                        <a:pt x="49" y="205"/>
                      </a:lnTo>
                      <a:lnTo>
                        <a:pt x="113" y="268"/>
                      </a:lnTo>
                      <a:lnTo>
                        <a:pt x="193" y="310"/>
                      </a:lnTo>
                      <a:lnTo>
                        <a:pt x="64" y="258"/>
                      </a:lnTo>
                      <a:lnTo>
                        <a:pt x="17" y="217"/>
                      </a:lnTo>
                      <a:lnTo>
                        <a:pt x="0" y="205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601600" y="6449400"/>
                  <a:ext cx="191880" cy="127440"/>
                </a:xfrm>
                <a:custGeom>
                  <a:avLst/>
                  <a:gdLst/>
                  <a:ahLst/>
                  <a:rect l="l" t="t" r="r" b="b"/>
                  <a:pathLst>
                    <a:path w="352" h="228">
                      <a:moveTo>
                        <a:pt x="127" y="0"/>
                      </a:moveTo>
                      <a:lnTo>
                        <a:pt x="80" y="42"/>
                      </a:lnTo>
                      <a:lnTo>
                        <a:pt x="0" y="73"/>
                      </a:lnTo>
                      <a:lnTo>
                        <a:pt x="80" y="115"/>
                      </a:lnTo>
                      <a:lnTo>
                        <a:pt x="8" y="154"/>
                      </a:lnTo>
                      <a:lnTo>
                        <a:pt x="64" y="176"/>
                      </a:lnTo>
                      <a:lnTo>
                        <a:pt x="40" y="207"/>
                      </a:lnTo>
                      <a:lnTo>
                        <a:pt x="248" y="228"/>
                      </a:lnTo>
                      <a:lnTo>
                        <a:pt x="248" y="197"/>
                      </a:lnTo>
                      <a:lnTo>
                        <a:pt x="303" y="176"/>
                      </a:lnTo>
                      <a:lnTo>
                        <a:pt x="160" y="176"/>
                      </a:lnTo>
                      <a:lnTo>
                        <a:pt x="72" y="154"/>
                      </a:lnTo>
                      <a:lnTo>
                        <a:pt x="119" y="123"/>
                      </a:lnTo>
                      <a:lnTo>
                        <a:pt x="256" y="145"/>
                      </a:lnTo>
                      <a:lnTo>
                        <a:pt x="352" y="134"/>
                      </a:lnTo>
                      <a:lnTo>
                        <a:pt x="312" y="115"/>
                      </a:lnTo>
                      <a:lnTo>
                        <a:pt x="209" y="115"/>
                      </a:lnTo>
                      <a:lnTo>
                        <a:pt x="127" y="104"/>
                      </a:lnTo>
                      <a:lnTo>
                        <a:pt x="56" y="83"/>
                      </a:lnTo>
                      <a:lnTo>
                        <a:pt x="127" y="0"/>
                      </a:lnTo>
                      <a:lnTo>
                        <a:pt x="127" y="0"/>
                      </a:lnTo>
                      <a:lnTo>
                        <a:pt x="1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93840" y="6553440"/>
                  <a:ext cx="244440" cy="58320"/>
                </a:xfrm>
                <a:custGeom>
                  <a:avLst/>
                  <a:gdLst/>
                  <a:ahLst/>
                  <a:rect l="l" t="t" r="r" b="b"/>
                  <a:pathLst>
                    <a:path w="448" h="104">
                      <a:moveTo>
                        <a:pt x="0" y="0"/>
                      </a:moveTo>
                      <a:lnTo>
                        <a:pt x="208" y="82"/>
                      </a:lnTo>
                      <a:lnTo>
                        <a:pt x="448" y="31"/>
                      </a:lnTo>
                      <a:lnTo>
                        <a:pt x="216" y="104"/>
                      </a:lnTo>
                      <a:lnTo>
                        <a:pt x="88" y="93"/>
                      </a:lnTo>
                      <a:lnTo>
                        <a:pt x="56" y="4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6306120" y="6489360"/>
                  <a:ext cx="315360" cy="75600"/>
                </a:xfrm>
                <a:custGeom>
                  <a:avLst/>
                  <a:gdLst/>
                  <a:ahLst/>
                  <a:rect l="l" t="t" r="r" b="b"/>
                  <a:pathLst>
                    <a:path w="576" h="134">
                      <a:moveTo>
                        <a:pt x="0" y="134"/>
                      </a:moveTo>
                      <a:lnTo>
                        <a:pt x="217" y="81"/>
                      </a:lnTo>
                      <a:lnTo>
                        <a:pt x="360" y="0"/>
                      </a:lnTo>
                      <a:lnTo>
                        <a:pt x="576" y="113"/>
                      </a:lnTo>
                      <a:lnTo>
                        <a:pt x="368" y="31"/>
                      </a:lnTo>
                      <a:lnTo>
                        <a:pt x="200" y="103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6534720" y="6385320"/>
                  <a:ext cx="168840" cy="115560"/>
                </a:xfrm>
                <a:custGeom>
                  <a:avLst/>
                  <a:gdLst/>
                  <a:ahLst/>
                  <a:rect l="l" t="t" r="r" b="b"/>
                  <a:pathLst>
                    <a:path w="311" h="206">
                      <a:moveTo>
                        <a:pt x="119" y="0"/>
                      </a:moveTo>
                      <a:lnTo>
                        <a:pt x="224" y="11"/>
                      </a:lnTo>
                      <a:lnTo>
                        <a:pt x="311" y="0"/>
                      </a:lnTo>
                      <a:lnTo>
                        <a:pt x="200" y="50"/>
                      </a:lnTo>
                      <a:lnTo>
                        <a:pt x="311" y="82"/>
                      </a:lnTo>
                      <a:lnTo>
                        <a:pt x="200" y="124"/>
                      </a:lnTo>
                      <a:lnTo>
                        <a:pt x="311" y="186"/>
                      </a:lnTo>
                      <a:lnTo>
                        <a:pt x="207" y="206"/>
                      </a:lnTo>
                      <a:lnTo>
                        <a:pt x="55" y="134"/>
                      </a:lnTo>
                      <a:lnTo>
                        <a:pt x="240" y="82"/>
                      </a:lnTo>
                      <a:lnTo>
                        <a:pt x="168" y="62"/>
                      </a:lnTo>
                      <a:lnTo>
                        <a:pt x="0" y="103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6546240" y="5911560"/>
                  <a:ext cx="119880" cy="80640"/>
                </a:xfrm>
                <a:custGeom>
                  <a:avLst/>
                  <a:gdLst/>
                  <a:ahLst/>
                  <a:rect l="l" t="t" r="r" b="b"/>
                  <a:pathLst>
                    <a:path w="217" h="144">
                      <a:moveTo>
                        <a:pt x="0" y="51"/>
                      </a:moveTo>
                      <a:lnTo>
                        <a:pt x="65" y="20"/>
                      </a:lnTo>
                      <a:lnTo>
                        <a:pt x="65" y="82"/>
                      </a:lnTo>
                      <a:lnTo>
                        <a:pt x="217" y="0"/>
                      </a:lnTo>
                      <a:lnTo>
                        <a:pt x="17" y="144"/>
                      </a:lnTo>
                      <a:lnTo>
                        <a:pt x="9" y="72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6486840" y="5997240"/>
                  <a:ext cx="116280" cy="82080"/>
                </a:xfrm>
                <a:custGeom>
                  <a:avLst/>
                  <a:gdLst/>
                  <a:ahLst/>
                  <a:rect l="l" t="t" r="r" b="b"/>
                  <a:pathLst>
                    <a:path w="215" h="145">
                      <a:moveTo>
                        <a:pt x="0" y="52"/>
                      </a:moveTo>
                      <a:lnTo>
                        <a:pt x="64" y="21"/>
                      </a:lnTo>
                      <a:lnTo>
                        <a:pt x="64" y="83"/>
                      </a:lnTo>
                      <a:lnTo>
                        <a:pt x="215" y="0"/>
                      </a:lnTo>
                      <a:lnTo>
                        <a:pt x="15" y="145"/>
                      </a:lnTo>
                      <a:lnTo>
                        <a:pt x="7" y="73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6429600" y="6091200"/>
                  <a:ext cx="117720" cy="79200"/>
                </a:xfrm>
                <a:custGeom>
                  <a:avLst/>
                  <a:gdLst/>
                  <a:ahLst/>
                  <a:rect l="l" t="t" r="r" b="b"/>
                  <a:pathLst>
                    <a:path w="215" h="143">
                      <a:moveTo>
                        <a:pt x="0" y="52"/>
                      </a:moveTo>
                      <a:lnTo>
                        <a:pt x="64" y="21"/>
                      </a:lnTo>
                      <a:lnTo>
                        <a:pt x="64" y="83"/>
                      </a:lnTo>
                      <a:lnTo>
                        <a:pt x="215" y="0"/>
                      </a:lnTo>
                      <a:lnTo>
                        <a:pt x="15" y="143"/>
                      </a:lnTo>
                      <a:lnTo>
                        <a:pt x="8" y="72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363720" y="6188760"/>
                  <a:ext cx="118080" cy="80640"/>
                </a:xfrm>
                <a:custGeom>
                  <a:avLst/>
                  <a:gdLst/>
                  <a:ahLst/>
                  <a:rect l="l" t="t" r="r" b="b"/>
                  <a:pathLst>
                    <a:path w="217" h="145">
                      <a:moveTo>
                        <a:pt x="0" y="52"/>
                      </a:moveTo>
                      <a:lnTo>
                        <a:pt x="64" y="21"/>
                      </a:lnTo>
                      <a:lnTo>
                        <a:pt x="64" y="82"/>
                      </a:lnTo>
                      <a:lnTo>
                        <a:pt x="217" y="0"/>
                      </a:lnTo>
                      <a:lnTo>
                        <a:pt x="17" y="145"/>
                      </a:lnTo>
                      <a:lnTo>
                        <a:pt x="8" y="73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994360" y="5334120"/>
                  <a:ext cx="740520" cy="496800"/>
                </a:xfrm>
                <a:custGeom>
                  <a:avLst/>
                  <a:gdLst/>
                  <a:ahLst/>
                  <a:rect l="l" t="t" r="r" b="b"/>
                  <a:pathLst>
                    <a:path w="1353" h="888">
                      <a:moveTo>
                        <a:pt x="1313" y="0"/>
                      </a:moveTo>
                      <a:lnTo>
                        <a:pt x="577" y="10"/>
                      </a:lnTo>
                      <a:lnTo>
                        <a:pt x="0" y="0"/>
                      </a:lnTo>
                      <a:lnTo>
                        <a:pt x="0" y="176"/>
                      </a:lnTo>
                      <a:lnTo>
                        <a:pt x="17" y="176"/>
                      </a:lnTo>
                      <a:lnTo>
                        <a:pt x="17" y="21"/>
                      </a:lnTo>
                      <a:lnTo>
                        <a:pt x="497" y="32"/>
                      </a:lnTo>
                      <a:lnTo>
                        <a:pt x="929" y="32"/>
                      </a:lnTo>
                      <a:lnTo>
                        <a:pt x="1296" y="21"/>
                      </a:lnTo>
                      <a:lnTo>
                        <a:pt x="1274" y="444"/>
                      </a:lnTo>
                      <a:lnTo>
                        <a:pt x="1265" y="888"/>
                      </a:lnTo>
                      <a:lnTo>
                        <a:pt x="1305" y="878"/>
                      </a:lnTo>
                      <a:lnTo>
                        <a:pt x="1313" y="486"/>
                      </a:lnTo>
                      <a:lnTo>
                        <a:pt x="1353" y="63"/>
                      </a:lnTo>
                      <a:lnTo>
                        <a:pt x="1320" y="42"/>
                      </a:lnTo>
                      <a:lnTo>
                        <a:pt x="1353" y="10"/>
                      </a:lnTo>
                      <a:lnTo>
                        <a:pt x="1313" y="0"/>
                      </a:lnTo>
                      <a:lnTo>
                        <a:pt x="1313" y="0"/>
                      </a:lnTo>
                      <a:lnTo>
                        <a:pt x="13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6563880" y="6044400"/>
                  <a:ext cx="131400" cy="219960"/>
                </a:xfrm>
                <a:custGeom>
                  <a:avLst/>
                  <a:gdLst/>
                  <a:ahLst/>
                  <a:rect l="l" t="t" r="r" b="b"/>
                  <a:pathLst>
                    <a:path w="241" h="393">
                      <a:moveTo>
                        <a:pt x="241" y="0"/>
                      </a:moveTo>
                      <a:lnTo>
                        <a:pt x="234" y="269"/>
                      </a:lnTo>
                      <a:lnTo>
                        <a:pt x="241" y="362"/>
                      </a:lnTo>
                      <a:lnTo>
                        <a:pt x="193" y="382"/>
                      </a:lnTo>
                      <a:lnTo>
                        <a:pt x="0" y="393"/>
                      </a:lnTo>
                      <a:lnTo>
                        <a:pt x="25" y="341"/>
                      </a:lnTo>
                      <a:lnTo>
                        <a:pt x="169" y="341"/>
                      </a:lnTo>
                      <a:lnTo>
                        <a:pt x="193" y="52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6161760" y="5466600"/>
                  <a:ext cx="516960" cy="11520"/>
                </a:xfrm>
                <a:custGeom>
                  <a:avLst/>
                  <a:gdLst/>
                  <a:ahLst/>
                  <a:rect l="l" t="t" r="r" b="b"/>
                  <a:pathLst>
                    <a:path w="944" h="21">
                      <a:moveTo>
                        <a:pt x="0" y="21"/>
                      </a:moveTo>
                      <a:lnTo>
                        <a:pt x="944" y="21"/>
                      </a:lnTo>
                      <a:lnTo>
                        <a:pt x="944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6219000" y="5622840"/>
                  <a:ext cx="455040" cy="11520"/>
                </a:xfrm>
                <a:custGeom>
                  <a:avLst/>
                  <a:gdLst/>
                  <a:ahLst/>
                  <a:rect l="l" t="t" r="r" b="b"/>
                  <a:pathLst>
                    <a:path w="832" h="20">
                      <a:moveTo>
                        <a:pt x="0" y="0"/>
                      </a:moveTo>
                      <a:lnTo>
                        <a:pt x="824" y="20"/>
                      </a:lnTo>
                      <a:lnTo>
                        <a:pt x="83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6257160" y="5819400"/>
                  <a:ext cx="101520" cy="4680"/>
                </a:xfrm>
                <a:custGeom>
                  <a:avLst/>
                  <a:gdLst/>
                  <a:ahLst/>
                  <a:rect l="l" t="t" r="r" b="b"/>
                  <a:pathLst>
                    <a:path w="185" h="11">
                      <a:moveTo>
                        <a:pt x="49" y="9"/>
                      </a:moveTo>
                      <a:lnTo>
                        <a:pt x="185" y="11"/>
                      </a:lnTo>
                      <a:lnTo>
                        <a:pt x="148" y="3"/>
                      </a:lnTo>
                      <a:lnTo>
                        <a:pt x="0" y="0"/>
                      </a:ln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4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6196320" y="5963760"/>
                  <a:ext cx="117720" cy="6840"/>
                </a:xfrm>
                <a:custGeom>
                  <a:avLst/>
                  <a:gdLst/>
                  <a:ahLst/>
                  <a:rect l="l" t="t" r="r" b="b"/>
                  <a:pathLst>
                    <a:path w="215" h="12">
                      <a:moveTo>
                        <a:pt x="0" y="12"/>
                      </a:moveTo>
                      <a:lnTo>
                        <a:pt x="208" y="12"/>
                      </a:lnTo>
                      <a:lnTo>
                        <a:pt x="215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6534720" y="5369040"/>
                  <a:ext cx="7920" cy="339120"/>
                </a:xfrm>
                <a:custGeom>
                  <a:avLst/>
                  <a:gdLst/>
                  <a:ahLst/>
                  <a:rect l="l" t="t" r="r" b="b"/>
                  <a:pathLst>
                    <a:path w="15" h="608">
                      <a:moveTo>
                        <a:pt x="0" y="0"/>
                      </a:moveTo>
                      <a:lnTo>
                        <a:pt x="0" y="608"/>
                      </a:lnTo>
                      <a:lnTo>
                        <a:pt x="15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6341040" y="5369040"/>
                  <a:ext cx="12960" cy="268920"/>
                </a:xfrm>
                <a:custGeom>
                  <a:avLst/>
                  <a:gdLst/>
                  <a:ahLst/>
                  <a:rect l="l" t="t" r="r" b="b"/>
                  <a:pathLst>
                    <a:path w="25" h="481">
                      <a:moveTo>
                        <a:pt x="25" y="10"/>
                      </a:moveTo>
                      <a:lnTo>
                        <a:pt x="8" y="481"/>
                      </a:lnTo>
                      <a:lnTo>
                        <a:pt x="0" y="0"/>
                      </a:ln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6170040" y="5379120"/>
                  <a:ext cx="12960" cy="203040"/>
                </a:xfrm>
                <a:custGeom>
                  <a:avLst/>
                  <a:gdLst/>
                  <a:ahLst/>
                  <a:rect l="l" t="t" r="r" b="b"/>
                  <a:pathLst>
                    <a:path w="23" h="361">
                      <a:moveTo>
                        <a:pt x="23" y="0"/>
                      </a:moveTo>
                      <a:lnTo>
                        <a:pt x="16" y="361"/>
                      </a:ln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6214320" y="5664600"/>
                  <a:ext cx="87120" cy="83880"/>
                </a:xfrm>
                <a:custGeom>
                  <a:avLst/>
                  <a:gdLst/>
                  <a:ahLst/>
                  <a:rect l="l" t="t" r="r" b="b"/>
                  <a:pathLst>
                    <a:path w="161" h="151">
                      <a:moveTo>
                        <a:pt x="108" y="138"/>
                      </a:moveTo>
                      <a:lnTo>
                        <a:pt x="61" y="105"/>
                      </a:lnTo>
                      <a:lnTo>
                        <a:pt x="0" y="151"/>
                      </a:lnTo>
                      <a:lnTo>
                        <a:pt x="24" y="110"/>
                      </a:lnTo>
                      <a:lnTo>
                        <a:pt x="15" y="41"/>
                      </a:lnTo>
                      <a:lnTo>
                        <a:pt x="78" y="0"/>
                      </a:lnTo>
                      <a:lnTo>
                        <a:pt x="161" y="68"/>
                      </a:lnTo>
                      <a:lnTo>
                        <a:pt x="108" y="138"/>
                      </a:lnTo>
                      <a:lnTo>
                        <a:pt x="108" y="138"/>
                      </a:lnTo>
                      <a:lnTo>
                        <a:pt x="108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4" name=""/>
              <p:cNvSpPr/>
              <p:nvPr/>
            </p:nvSpPr>
            <p:spPr>
              <a:xfrm>
                <a:off x="6142320" y="5358960"/>
                <a:ext cx="550080" cy="438480"/>
              </a:xfrm>
              <a:custGeom>
                <a:avLst/>
                <a:gdLst/>
                <a:ahLst/>
                <a:rect l="l" t="t" r="r" b="b"/>
                <a:pathLst>
                  <a:path w="335" h="261">
                    <a:moveTo>
                      <a:pt x="130" y="259"/>
                    </a:moveTo>
                    <a:lnTo>
                      <a:pt x="133" y="257"/>
                    </a:lnTo>
                    <a:lnTo>
                      <a:pt x="135" y="256"/>
                    </a:lnTo>
                    <a:lnTo>
                      <a:pt x="138" y="255"/>
                    </a:lnTo>
                    <a:lnTo>
                      <a:pt x="139" y="254"/>
                    </a:lnTo>
                    <a:lnTo>
                      <a:pt x="141" y="254"/>
                    </a:lnTo>
                    <a:lnTo>
                      <a:pt x="144" y="253"/>
                    </a:lnTo>
                    <a:lnTo>
                      <a:pt x="148" y="251"/>
                    </a:lnTo>
                    <a:lnTo>
                      <a:pt x="157" y="247"/>
                    </a:lnTo>
                    <a:lnTo>
                      <a:pt x="164" y="241"/>
                    </a:lnTo>
                    <a:lnTo>
                      <a:pt x="171" y="235"/>
                    </a:lnTo>
                    <a:lnTo>
                      <a:pt x="179" y="231"/>
                    </a:lnTo>
                    <a:lnTo>
                      <a:pt x="186" y="228"/>
                    </a:lnTo>
                    <a:lnTo>
                      <a:pt x="194" y="224"/>
                    </a:lnTo>
                    <a:lnTo>
                      <a:pt x="200" y="220"/>
                    </a:lnTo>
                    <a:lnTo>
                      <a:pt x="202" y="219"/>
                    </a:lnTo>
                    <a:lnTo>
                      <a:pt x="203" y="219"/>
                    </a:lnTo>
                    <a:lnTo>
                      <a:pt x="209" y="213"/>
                    </a:lnTo>
                    <a:lnTo>
                      <a:pt x="216" y="209"/>
                    </a:lnTo>
                    <a:lnTo>
                      <a:pt x="223" y="205"/>
                    </a:lnTo>
                    <a:lnTo>
                      <a:pt x="232" y="202"/>
                    </a:lnTo>
                    <a:lnTo>
                      <a:pt x="236" y="200"/>
                    </a:lnTo>
                    <a:lnTo>
                      <a:pt x="240" y="197"/>
                    </a:lnTo>
                    <a:lnTo>
                      <a:pt x="243" y="195"/>
                    </a:lnTo>
                    <a:lnTo>
                      <a:pt x="244" y="194"/>
                    </a:lnTo>
                    <a:lnTo>
                      <a:pt x="247" y="189"/>
                    </a:lnTo>
                    <a:lnTo>
                      <a:pt x="249" y="185"/>
                    </a:lnTo>
                    <a:lnTo>
                      <a:pt x="252" y="182"/>
                    </a:lnTo>
                    <a:lnTo>
                      <a:pt x="256" y="178"/>
                    </a:lnTo>
                    <a:lnTo>
                      <a:pt x="258" y="172"/>
                    </a:lnTo>
                    <a:lnTo>
                      <a:pt x="260" y="169"/>
                    </a:lnTo>
                    <a:lnTo>
                      <a:pt x="262" y="166"/>
                    </a:lnTo>
                    <a:lnTo>
                      <a:pt x="266" y="164"/>
                    </a:lnTo>
                    <a:lnTo>
                      <a:pt x="270" y="161"/>
                    </a:lnTo>
                    <a:lnTo>
                      <a:pt x="273" y="159"/>
                    </a:lnTo>
                    <a:lnTo>
                      <a:pt x="274" y="158"/>
                    </a:lnTo>
                    <a:lnTo>
                      <a:pt x="275" y="156"/>
                    </a:lnTo>
                    <a:lnTo>
                      <a:pt x="276" y="154"/>
                    </a:lnTo>
                    <a:lnTo>
                      <a:pt x="277" y="152"/>
                    </a:lnTo>
                    <a:lnTo>
                      <a:pt x="278" y="152"/>
                    </a:lnTo>
                    <a:lnTo>
                      <a:pt x="279" y="154"/>
                    </a:lnTo>
                    <a:lnTo>
                      <a:pt x="279" y="156"/>
                    </a:lnTo>
                    <a:lnTo>
                      <a:pt x="276" y="160"/>
                    </a:lnTo>
                    <a:lnTo>
                      <a:pt x="272" y="162"/>
                    </a:lnTo>
                    <a:lnTo>
                      <a:pt x="266" y="163"/>
                    </a:lnTo>
                    <a:lnTo>
                      <a:pt x="264" y="163"/>
                    </a:lnTo>
                    <a:lnTo>
                      <a:pt x="262" y="164"/>
                    </a:lnTo>
                    <a:lnTo>
                      <a:pt x="261" y="165"/>
                    </a:lnTo>
                    <a:lnTo>
                      <a:pt x="262" y="166"/>
                    </a:lnTo>
                    <a:lnTo>
                      <a:pt x="264" y="167"/>
                    </a:lnTo>
                    <a:lnTo>
                      <a:pt x="266" y="166"/>
                    </a:lnTo>
                    <a:lnTo>
                      <a:pt x="274" y="164"/>
                    </a:lnTo>
                    <a:lnTo>
                      <a:pt x="281" y="161"/>
                    </a:lnTo>
                    <a:lnTo>
                      <a:pt x="284" y="159"/>
                    </a:lnTo>
                    <a:lnTo>
                      <a:pt x="286" y="158"/>
                    </a:lnTo>
                    <a:lnTo>
                      <a:pt x="290" y="152"/>
                    </a:lnTo>
                    <a:lnTo>
                      <a:pt x="295" y="146"/>
                    </a:lnTo>
                    <a:lnTo>
                      <a:pt x="298" y="143"/>
                    </a:lnTo>
                    <a:lnTo>
                      <a:pt x="302" y="141"/>
                    </a:lnTo>
                    <a:lnTo>
                      <a:pt x="306" y="138"/>
                    </a:lnTo>
                    <a:lnTo>
                      <a:pt x="307" y="137"/>
                    </a:lnTo>
                    <a:lnTo>
                      <a:pt x="313" y="122"/>
                    </a:lnTo>
                    <a:lnTo>
                      <a:pt x="319" y="107"/>
                    </a:lnTo>
                    <a:lnTo>
                      <a:pt x="325" y="92"/>
                    </a:lnTo>
                    <a:lnTo>
                      <a:pt x="331" y="77"/>
                    </a:lnTo>
                    <a:lnTo>
                      <a:pt x="332" y="70"/>
                    </a:lnTo>
                    <a:lnTo>
                      <a:pt x="333" y="62"/>
                    </a:lnTo>
                    <a:lnTo>
                      <a:pt x="335" y="44"/>
                    </a:lnTo>
                    <a:lnTo>
                      <a:pt x="335" y="35"/>
                    </a:lnTo>
                    <a:lnTo>
                      <a:pt x="334" y="28"/>
                    </a:lnTo>
                    <a:lnTo>
                      <a:pt x="330" y="22"/>
                    </a:lnTo>
                    <a:lnTo>
                      <a:pt x="325" y="18"/>
                    </a:lnTo>
                    <a:lnTo>
                      <a:pt x="321" y="13"/>
                    </a:lnTo>
                    <a:lnTo>
                      <a:pt x="316" y="9"/>
                    </a:lnTo>
                    <a:lnTo>
                      <a:pt x="310" y="8"/>
                    </a:lnTo>
                    <a:lnTo>
                      <a:pt x="303" y="7"/>
                    </a:lnTo>
                    <a:lnTo>
                      <a:pt x="280" y="8"/>
                    </a:lnTo>
                    <a:lnTo>
                      <a:pt x="259" y="8"/>
                    </a:lnTo>
                    <a:lnTo>
                      <a:pt x="238" y="7"/>
                    </a:lnTo>
                    <a:lnTo>
                      <a:pt x="215" y="5"/>
                    </a:lnTo>
                    <a:lnTo>
                      <a:pt x="208" y="3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2" y="1"/>
                    </a:lnTo>
                    <a:lnTo>
                      <a:pt x="160" y="0"/>
                    </a:lnTo>
                    <a:lnTo>
                      <a:pt x="137" y="0"/>
                    </a:lnTo>
                    <a:lnTo>
                      <a:pt x="115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7" y="2"/>
                    </a:lnTo>
                    <a:lnTo>
                      <a:pt x="80" y="3"/>
                    </a:lnTo>
                    <a:lnTo>
                      <a:pt x="75" y="3"/>
                    </a:lnTo>
                    <a:lnTo>
                      <a:pt x="71" y="3"/>
                    </a:lnTo>
                    <a:lnTo>
                      <a:pt x="59" y="6"/>
                    </a:lnTo>
                    <a:lnTo>
                      <a:pt x="48" y="6"/>
                    </a:lnTo>
                    <a:lnTo>
                      <a:pt x="39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14" y="6"/>
                    </a:lnTo>
                    <a:lnTo>
                      <a:pt x="7" y="12"/>
                    </a:lnTo>
                    <a:lnTo>
                      <a:pt x="4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36"/>
                    </a:lnTo>
                    <a:lnTo>
                      <a:pt x="2" y="42"/>
                    </a:lnTo>
                    <a:lnTo>
                      <a:pt x="4" y="50"/>
                    </a:lnTo>
                    <a:lnTo>
                      <a:pt x="6" y="55"/>
                    </a:lnTo>
                    <a:lnTo>
                      <a:pt x="8" y="61"/>
                    </a:lnTo>
                    <a:lnTo>
                      <a:pt x="9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76"/>
                    </a:lnTo>
                    <a:lnTo>
                      <a:pt x="9" y="83"/>
                    </a:lnTo>
                    <a:lnTo>
                      <a:pt x="8" y="98"/>
                    </a:lnTo>
                    <a:lnTo>
                      <a:pt x="7" y="105"/>
                    </a:lnTo>
                    <a:lnTo>
                      <a:pt x="8" y="112"/>
                    </a:lnTo>
                    <a:lnTo>
                      <a:pt x="10" y="118"/>
                    </a:lnTo>
                    <a:lnTo>
                      <a:pt x="14" y="123"/>
                    </a:lnTo>
                    <a:lnTo>
                      <a:pt x="21" y="128"/>
                    </a:lnTo>
                    <a:lnTo>
                      <a:pt x="26" y="131"/>
                    </a:lnTo>
                    <a:lnTo>
                      <a:pt x="32" y="133"/>
                    </a:lnTo>
                    <a:lnTo>
                      <a:pt x="39" y="135"/>
                    </a:lnTo>
                    <a:lnTo>
                      <a:pt x="43" y="136"/>
                    </a:lnTo>
                    <a:lnTo>
                      <a:pt x="44" y="137"/>
                    </a:lnTo>
                    <a:lnTo>
                      <a:pt x="45" y="137"/>
                    </a:lnTo>
                    <a:lnTo>
                      <a:pt x="44" y="144"/>
                    </a:lnTo>
                    <a:lnTo>
                      <a:pt x="42" y="152"/>
                    </a:lnTo>
                    <a:lnTo>
                      <a:pt x="40" y="158"/>
                    </a:lnTo>
                    <a:lnTo>
                      <a:pt x="39" y="159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40" y="174"/>
                    </a:lnTo>
                    <a:lnTo>
                      <a:pt x="40" y="179"/>
                    </a:lnTo>
                    <a:lnTo>
                      <a:pt x="40" y="183"/>
                    </a:lnTo>
                    <a:lnTo>
                      <a:pt x="40" y="189"/>
                    </a:lnTo>
                    <a:lnTo>
                      <a:pt x="41" y="193"/>
                    </a:lnTo>
                    <a:lnTo>
                      <a:pt x="42" y="196"/>
                    </a:lnTo>
                    <a:lnTo>
                      <a:pt x="43" y="199"/>
                    </a:lnTo>
                    <a:lnTo>
                      <a:pt x="44" y="203"/>
                    </a:lnTo>
                    <a:lnTo>
                      <a:pt x="47" y="211"/>
                    </a:lnTo>
                    <a:lnTo>
                      <a:pt x="46" y="223"/>
                    </a:lnTo>
                    <a:lnTo>
                      <a:pt x="46" y="234"/>
                    </a:lnTo>
                    <a:lnTo>
                      <a:pt x="44" y="244"/>
                    </a:lnTo>
                    <a:lnTo>
                      <a:pt x="41" y="255"/>
                    </a:lnTo>
                    <a:lnTo>
                      <a:pt x="43" y="258"/>
                    </a:lnTo>
                    <a:lnTo>
                      <a:pt x="45" y="260"/>
                    </a:lnTo>
                    <a:lnTo>
                      <a:pt x="47" y="261"/>
                    </a:lnTo>
                    <a:lnTo>
                      <a:pt x="50" y="261"/>
                    </a:lnTo>
                    <a:lnTo>
                      <a:pt x="55" y="259"/>
                    </a:lnTo>
                    <a:lnTo>
                      <a:pt x="61" y="255"/>
                    </a:lnTo>
                    <a:lnTo>
                      <a:pt x="64" y="247"/>
                    </a:lnTo>
                    <a:lnTo>
                      <a:pt x="67" y="240"/>
                    </a:lnTo>
                    <a:lnTo>
                      <a:pt x="71" y="233"/>
                    </a:lnTo>
                    <a:lnTo>
                      <a:pt x="77" y="227"/>
                    </a:lnTo>
                    <a:lnTo>
                      <a:pt x="79" y="223"/>
                    </a:lnTo>
                    <a:lnTo>
                      <a:pt x="81" y="217"/>
                    </a:lnTo>
                    <a:lnTo>
                      <a:pt x="87" y="205"/>
                    </a:lnTo>
                    <a:lnTo>
                      <a:pt x="95" y="193"/>
                    </a:lnTo>
                    <a:lnTo>
                      <a:pt x="99" y="189"/>
                    </a:lnTo>
                    <a:lnTo>
                      <a:pt x="102" y="186"/>
                    </a:lnTo>
                    <a:lnTo>
                      <a:pt x="104" y="180"/>
                    </a:lnTo>
                    <a:lnTo>
                      <a:pt x="107" y="172"/>
                    </a:lnTo>
                    <a:lnTo>
                      <a:pt x="114" y="157"/>
                    </a:lnTo>
                    <a:lnTo>
                      <a:pt x="118" y="150"/>
                    </a:lnTo>
                    <a:lnTo>
                      <a:pt x="122" y="144"/>
                    </a:lnTo>
                    <a:lnTo>
                      <a:pt x="127" y="137"/>
                    </a:lnTo>
                    <a:lnTo>
                      <a:pt x="132" y="133"/>
                    </a:lnTo>
                    <a:lnTo>
                      <a:pt x="134" y="127"/>
                    </a:lnTo>
                    <a:lnTo>
                      <a:pt x="136" y="122"/>
                    </a:lnTo>
                    <a:lnTo>
                      <a:pt x="141" y="115"/>
                    </a:lnTo>
                    <a:lnTo>
                      <a:pt x="147" y="109"/>
                    </a:lnTo>
                    <a:lnTo>
                      <a:pt x="157" y="103"/>
                    </a:lnTo>
                    <a:lnTo>
                      <a:pt x="158" y="101"/>
                    </a:lnTo>
                    <a:lnTo>
                      <a:pt x="160" y="99"/>
                    </a:lnTo>
                    <a:lnTo>
                      <a:pt x="164" y="94"/>
                    </a:lnTo>
                    <a:lnTo>
                      <a:pt x="167" y="92"/>
                    </a:lnTo>
                    <a:lnTo>
                      <a:pt x="170" y="92"/>
                    </a:lnTo>
                    <a:lnTo>
                      <a:pt x="172" y="94"/>
                    </a:lnTo>
                    <a:lnTo>
                      <a:pt x="175" y="99"/>
                    </a:lnTo>
                    <a:lnTo>
                      <a:pt x="177" y="105"/>
                    </a:lnTo>
                    <a:lnTo>
                      <a:pt x="177" y="113"/>
                    </a:lnTo>
                    <a:lnTo>
                      <a:pt x="176" y="121"/>
                    </a:lnTo>
                    <a:lnTo>
                      <a:pt x="174" y="129"/>
                    </a:lnTo>
                    <a:lnTo>
                      <a:pt x="171" y="137"/>
                    </a:lnTo>
                    <a:lnTo>
                      <a:pt x="167" y="145"/>
                    </a:lnTo>
                    <a:lnTo>
                      <a:pt x="162" y="151"/>
                    </a:lnTo>
                    <a:lnTo>
                      <a:pt x="157" y="156"/>
                    </a:lnTo>
                    <a:lnTo>
                      <a:pt x="154" y="161"/>
                    </a:lnTo>
                    <a:lnTo>
                      <a:pt x="151" y="165"/>
                    </a:lnTo>
                    <a:lnTo>
                      <a:pt x="147" y="169"/>
                    </a:lnTo>
                    <a:lnTo>
                      <a:pt x="142" y="172"/>
                    </a:lnTo>
                    <a:lnTo>
                      <a:pt x="132" y="187"/>
                    </a:lnTo>
                    <a:lnTo>
                      <a:pt x="127" y="194"/>
                    </a:lnTo>
                    <a:lnTo>
                      <a:pt x="120" y="200"/>
                    </a:lnTo>
                    <a:lnTo>
                      <a:pt x="117" y="204"/>
                    </a:lnTo>
                    <a:lnTo>
                      <a:pt x="113" y="209"/>
                    </a:lnTo>
                    <a:lnTo>
                      <a:pt x="109" y="212"/>
                    </a:lnTo>
                    <a:lnTo>
                      <a:pt x="106" y="217"/>
                    </a:lnTo>
                    <a:lnTo>
                      <a:pt x="104" y="223"/>
                    </a:lnTo>
                    <a:lnTo>
                      <a:pt x="102" y="230"/>
                    </a:lnTo>
                    <a:lnTo>
                      <a:pt x="98" y="243"/>
                    </a:lnTo>
                    <a:lnTo>
                      <a:pt x="99" y="250"/>
                    </a:lnTo>
                    <a:lnTo>
                      <a:pt x="101" y="255"/>
                    </a:lnTo>
                    <a:lnTo>
                      <a:pt x="104" y="258"/>
                    </a:lnTo>
                    <a:lnTo>
                      <a:pt x="110" y="261"/>
                    </a:lnTo>
                    <a:lnTo>
                      <a:pt x="119" y="260"/>
                    </a:lnTo>
                    <a:lnTo>
                      <a:pt x="125" y="260"/>
                    </a:lnTo>
                    <a:lnTo>
                      <a:pt x="131" y="260"/>
                    </a:lnTo>
                    <a:lnTo>
                      <a:pt x="134" y="259"/>
                    </a:lnTo>
                    <a:lnTo>
                      <a:pt x="136" y="259"/>
                    </a:lnTo>
                    <a:lnTo>
                      <a:pt x="135" y="259"/>
                    </a:lnTo>
                    <a:lnTo>
                      <a:pt x="134" y="259"/>
                    </a:lnTo>
                    <a:lnTo>
                      <a:pt x="130" y="25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058440" y="5364000"/>
                <a:ext cx="243000" cy="378000"/>
              </a:xfrm>
              <a:custGeom>
                <a:avLst/>
                <a:gdLst/>
                <a:ahLst/>
                <a:rect l="l" t="t" r="r" b="b"/>
                <a:pathLst>
                  <a:path w="148" h="225">
                    <a:moveTo>
                      <a:pt x="125" y="225"/>
                    </a:moveTo>
                    <a:lnTo>
                      <a:pt x="148" y="215"/>
                    </a:lnTo>
                    <a:lnTo>
                      <a:pt x="117" y="148"/>
                    </a:lnTo>
                    <a:lnTo>
                      <a:pt x="115" y="145"/>
                    </a:lnTo>
                    <a:lnTo>
                      <a:pt x="77" y="104"/>
                    </a:lnTo>
                    <a:lnTo>
                      <a:pt x="67" y="112"/>
                    </a:lnTo>
                    <a:lnTo>
                      <a:pt x="79" y="107"/>
                    </a:lnTo>
                    <a:lnTo>
                      <a:pt x="80" y="112"/>
                    </a:lnTo>
                    <a:lnTo>
                      <a:pt x="76" y="45"/>
                    </a:lnTo>
                    <a:lnTo>
                      <a:pt x="75" y="40"/>
                    </a:lnTo>
                    <a:lnTo>
                      <a:pt x="72" y="37"/>
                    </a:lnTo>
                    <a:lnTo>
                      <a:pt x="69" y="35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57" y="55"/>
                    </a:lnTo>
                    <a:lnTo>
                      <a:pt x="52" y="50"/>
                    </a:lnTo>
                    <a:lnTo>
                      <a:pt x="55" y="53"/>
                    </a:lnTo>
                    <a:lnTo>
                      <a:pt x="63" y="45"/>
                    </a:lnTo>
                    <a:lnTo>
                      <a:pt x="51" y="46"/>
                    </a:lnTo>
                    <a:lnTo>
                      <a:pt x="55" y="113"/>
                    </a:lnTo>
                    <a:lnTo>
                      <a:pt x="56" y="117"/>
                    </a:lnTo>
                    <a:lnTo>
                      <a:pt x="59" y="121"/>
                    </a:lnTo>
                    <a:lnTo>
                      <a:pt x="98" y="162"/>
                    </a:lnTo>
                    <a:lnTo>
                      <a:pt x="106" y="153"/>
                    </a:lnTo>
                    <a:lnTo>
                      <a:pt x="95" y="158"/>
                    </a:lnTo>
                    <a:lnTo>
                      <a:pt x="125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273720" y="5716800"/>
                <a:ext cx="155880" cy="110880"/>
              </a:xfrm>
              <a:custGeom>
                <a:avLst/>
                <a:gdLst/>
                <a:ahLst/>
                <a:rect l="l" t="t" r="r" b="b"/>
                <a:pathLst>
                  <a:path w="95" h="66">
                    <a:moveTo>
                      <a:pt x="12" y="0"/>
                    </a:moveTo>
                    <a:lnTo>
                      <a:pt x="0" y="21"/>
                    </a:lnTo>
                    <a:lnTo>
                      <a:pt x="84" y="66"/>
                    </a:lnTo>
                    <a:lnTo>
                      <a:pt x="95" y="4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47" name="" descr=""/>
            <p:cNvPicPr/>
            <p:nvPr/>
          </p:nvPicPr>
          <p:blipFill>
            <a:blip r:embed="rId2"/>
            <a:stretch/>
          </p:blipFill>
          <p:spPr>
            <a:xfrm>
              <a:off x="990720" y="5334120"/>
              <a:ext cx="125568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8" name="" descr=""/>
            <p:cNvPicPr/>
            <p:nvPr/>
          </p:nvPicPr>
          <p:blipFill>
            <a:blip r:embed="rId3"/>
            <a:stretch/>
          </p:blipFill>
          <p:spPr>
            <a:xfrm>
              <a:off x="7315200" y="5181480"/>
              <a:ext cx="838080" cy="144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alam MANAJEMEN P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U SENTRAL HELTS 2003-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ya saing Bang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onomi dan desentrali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esehatan Organi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osen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an Karyawan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aktek yang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ngangkatan,  promosi, dan remunerasi staf berdasar kompetensi dan pre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mbagian beban secara ra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sistem perencanaan pengembangan st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pembinaan untuk staf muda &amp; t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aktek yg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ada evaluasi kinerja (“PGP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ada sistem informasi kepegawa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eban staf terlalu tinggi, tidak sesuai dengan kompete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eban staff tidak terdistribusi secara ad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4572000" y="4572000"/>
            <a:ext cx="2742840" cy="2039760"/>
            <a:chOff x="4572000" y="4572000"/>
            <a:chExt cx="2742840" cy="2039760"/>
          </a:xfrm>
        </p:grpSpPr>
        <p:graphicFrame>
          <p:nvGraphicFramePr>
            <p:cNvPr id="2353" name=""/>
            <p:cNvGraphicFramePr/>
            <p:nvPr/>
          </p:nvGraphicFramePr>
          <p:xfrm>
            <a:off x="4572000" y="4572000"/>
            <a:ext cx="898560" cy="194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572000"/>
                      <a:ext cx="898560" cy="194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55" name="" descr=""/>
            <p:cNvPicPr/>
            <p:nvPr/>
          </p:nvPicPr>
          <p:blipFill>
            <a:blip r:embed="rId3"/>
            <a:stretch/>
          </p:blipFill>
          <p:spPr>
            <a:xfrm flipH="1">
              <a:off x="5790960" y="5486400"/>
              <a:ext cx="152388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2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6" name=""/>
          <p:cNvGrpSpPr/>
          <p:nvPr/>
        </p:nvGrpSpPr>
        <p:grpSpPr>
          <a:xfrm>
            <a:off x="6629400" y="2209680"/>
            <a:ext cx="2286000" cy="4496040"/>
            <a:chOff x="6629400" y="2209680"/>
            <a:chExt cx="2286000" cy="4496040"/>
          </a:xfrm>
        </p:grpSpPr>
        <p:pic>
          <p:nvPicPr>
            <p:cNvPr id="2357" name="" descr=""/>
            <p:cNvPicPr/>
            <p:nvPr/>
          </p:nvPicPr>
          <p:blipFill>
            <a:blip r:embed="rId1"/>
            <a:stretch/>
          </p:blipFill>
          <p:spPr>
            <a:xfrm>
              <a:off x="6629400" y="2209680"/>
              <a:ext cx="228600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8" name="" descr=""/>
            <p:cNvPicPr/>
            <p:nvPr/>
          </p:nvPicPr>
          <p:blipFill>
            <a:blip r:embed="rId2"/>
            <a:stretch/>
          </p:blipFill>
          <p:spPr>
            <a:xfrm>
              <a:off x="6858000" y="4724280"/>
              <a:ext cx="191772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Keuangan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an Dana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stem manajemen&amp;akuntansi mengikuti aturan Hukum &amp; perundangan yg berla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stem pengangg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ndapa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mber-sumber pendapatan lai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lain dari SPP dan 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ngelu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truktur dan komponen bi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stem akuntansi &amp; pertanggungjawa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dan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Costin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stem Info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" dur="500"/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" dur="500"/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Keuangan dan Dana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aktek yang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rencana kerja dan anggaran yang j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transparansi &amp; akuntabilitas dalam pengelolaan d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sistem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da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revenue generating activities yg 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Palatino"/>
              </a:rPr>
              <a:t>Praktek yg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ada kesadaran tentang biaya penyelenggaraan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ada rasionalisasi penghitungan satuan biaya (misal : penetapan S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ada analisis tentang struktur bi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idak dapat/pernah di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Prasarana dan Fasilitas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enyediaan &amp; Pemanfa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erawatan &amp; Pemeliha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engemba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stem informasi prasarana &amp; fasil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3352680" y="4419720"/>
            <a:ext cx="3498840" cy="1981080"/>
            <a:chOff x="3352680" y="4419720"/>
            <a:chExt cx="3498840" cy="1981080"/>
          </a:xfrm>
        </p:grpSpPr>
        <p:pic>
          <p:nvPicPr>
            <p:cNvPr id="2367" name="" descr=""/>
            <p:cNvPicPr/>
            <p:nvPr/>
          </p:nvPicPr>
          <p:blipFill>
            <a:blip r:embed="rId1"/>
            <a:stretch/>
          </p:blipFill>
          <p:spPr>
            <a:xfrm>
              <a:off x="3352680" y="4800600"/>
              <a:ext cx="1285920" cy="1428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68" name=""/>
            <p:cNvGraphicFramePr/>
            <p:nvPr/>
          </p:nvGraphicFramePr>
          <p:xfrm>
            <a:off x="5334120" y="4419720"/>
            <a:ext cx="1517400" cy="1981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4419720"/>
                      <a:ext cx="15174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Prasarana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dan Fasilitas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a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mua Prasarana &amp; Fasilitas tercatat dg baik di Institu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ungsi perencanaan pengadaan, pemanfaatan dan pemeliharaan berjalan secara efek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sistem pemantauan dan evalu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fisiensi pemanfaatan melalui pemakaian bersama (resource sha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rana &amp; prasarana tidak tercatat &amp; tdk terpeli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emanfaatan tidak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idak ada prosedur pemelihar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idak ada komitmen untuk penyediaan sarana &amp; prasa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4114800" y="4648320"/>
            <a:ext cx="3580920" cy="1981080"/>
            <a:chOff x="4114800" y="4648320"/>
            <a:chExt cx="3580920" cy="1981080"/>
          </a:xfrm>
        </p:grpSpPr>
        <p:graphicFrame>
          <p:nvGraphicFramePr>
            <p:cNvPr id="2374" name=""/>
            <p:cNvGraphicFramePr/>
            <p:nvPr/>
          </p:nvGraphicFramePr>
          <p:xfrm>
            <a:off x="4114800" y="4648320"/>
            <a:ext cx="188712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4800" y="4648320"/>
                      <a:ext cx="18871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6" name="" descr=""/>
            <p:cNvPicPr/>
            <p:nvPr/>
          </p:nvPicPr>
          <p:blipFill>
            <a:blip r:embed="rId3"/>
            <a:stretch/>
          </p:blipFill>
          <p:spPr>
            <a:xfrm>
              <a:off x="6019560" y="5029200"/>
              <a:ext cx="1676160" cy="153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2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Penjaminan Mutu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enjaminan mutu </a:t>
            </a: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kadem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ndidikan, penelitian, dan layan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Input, proses,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enjaminan mutu </a:t>
            </a: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non-akadem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ogram, Sarana, prasarana dan sumberd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rganisasi berikut unit internaln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mumnya Sistem Penjaminan Mutu (SPM) dikembangkan di tingkat institusi, sedangkan Jurusan/Departemen lebih berperan dalam implementasi dan merupakan bagian dari SPM secara keseluruhan [Fungsi: Institusi pada QA; Jurusan/Pusat Studi: QC (added valu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2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4" dur="500"/>
                                        <p:tgtEl>
                                          <p:spTgt spid="2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3" dur="500"/>
                                        <p:tgtEl>
                                          <p:spTgt spid="2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7" dur="500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2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Benguiat Bk BT"/>
              </a:rPr>
              <a:t>Penjaminan Mutu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a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tu menjadi kebutuhan internal institu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acuan kerja dan standar mutu yang j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dukungan dari pimpinan, disepakati dan menjadi komitmen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civitas acade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a indikator kinerja yang baik &amp; jelas mengukur ketercapaian tujuan institu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Palatino"/>
              </a:rPr>
              <a:t>Praktek y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tidak 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tu tidak menjadi kebutuhan in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urang Perhatian Institusional thd fungsi penjaminan mu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2" name="" descr=""/>
          <p:cNvPicPr/>
          <p:nvPr/>
        </p:nvPicPr>
        <p:blipFill>
          <a:blip r:embed="rId1"/>
          <a:stretch/>
        </p:blipFill>
        <p:spPr>
          <a:xfrm>
            <a:off x="5181480" y="4495680"/>
            <a:ext cx="2667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2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najemen PT, Mutu &amp; PHK-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jemen ‘dasar’ Institusi yang baik merupakan prasyarat untuk mendukung mutu penyelenggaraan program st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tersediaan sumber daya saja tidaklah cukup; harus diikuti dengan sistem manajemen yang ba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 layanan administrasi sama pentingnya dengan mutu kompetensi akadem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gembangan mutu hanya akan terjadi jika ada sistem manajemen yang berfungsi secara efek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"/>
          <p:cNvSpPr/>
          <p:nvPr/>
        </p:nvSpPr>
        <p:spPr>
          <a:xfrm>
            <a:off x="457200" y="22096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Proses Pembelaj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57200" y="2590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Kurik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57200" y="2971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Lul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57200" y="33526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Kemahasisw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57200" y="3733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Suasana Akade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57200" y="41148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Penelit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57200" y="4495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Sumber Daya Manu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457200" y="4876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Sistem Info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57200" y="52578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Sarana dan Prasa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57200" y="5638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Keu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457200" y="6019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ameter Sistem Penjaminan M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334120" y="2819520"/>
            <a:ext cx="3352680" cy="1752480"/>
          </a:xfrm>
          <a:prstGeom prst="wedgeRectCallout">
            <a:avLst>
              <a:gd name="adj1" fmla="val -52273"/>
              <a:gd name="adj2" fmla="val -70560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istem pembelaja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mantauan kemajuan belaj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imbi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Waktu penyelesaian st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Efektivitas dan efisien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505320" y="3276720"/>
            <a:ext cx="5486400" cy="2286000"/>
          </a:xfrm>
          <a:prstGeom prst="wedgeRectCallout">
            <a:avLst>
              <a:gd name="adj1" fmla="val -45833"/>
              <a:gd name="adj2" fmla="val -6576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sesuaian dengan visi, misi, sasaran, dan tuju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levansi struktur dan isi kurikulum deng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  tuntutan dan kebutuhan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Menyediakan (lengkap) Kompetensi &amp; etika calon 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ntegrasi materi pembelajaran intra, antar, d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  lintas disiplin ilmu; riset &amp; PPM dg P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luang bagi mahasiswa untuk pengembangan di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581280" y="3809880"/>
            <a:ext cx="5181840" cy="1219320"/>
          </a:xfrm>
          <a:prstGeom prst="wedgeRectCallout">
            <a:avLst>
              <a:gd name="adj1" fmla="val -51472"/>
              <a:gd name="adj2" fmla="val -98305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ompetensi (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ngetahuan, Ketrampilan &amp; Sikap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) 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Mutu lulusan (IPK, masa tunggu kerja, d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Hasil studi pelacakan lulusan (</a:t>
            </a:r>
            <a:r>
              <a:rPr b="1" i="1" lang="en-US" sz="1600" spc="-1" strike="noStrike">
                <a:solidFill>
                  <a:srgbClr val="000000"/>
                </a:solidFill>
                <a:latin typeface="Palatino"/>
              </a:rPr>
              <a:t>tracer study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343400" y="4191120"/>
            <a:ext cx="4572000" cy="2133360"/>
          </a:xfrm>
          <a:prstGeom prst="wedgeRectCallout">
            <a:avLst>
              <a:gd name="adj1" fmla="val -45833"/>
              <a:gd name="adj2" fmla="val -7760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nyaringan/selek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njaringan/</a:t>
            </a:r>
            <a:r>
              <a:rPr b="1" i="1" lang="en-US" sz="1600" spc="-1" strike="noStrike">
                <a:solidFill>
                  <a:srgbClr val="000000"/>
                </a:solidFill>
                <a:latin typeface="Palatino"/>
              </a:rPr>
              <a:t>talent scou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rofil mahasis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giatan kemahasisw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Layanan mahasis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inerja mahasis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72000" y="4267080"/>
            <a:ext cx="4419720" cy="2362320"/>
          </a:xfrm>
          <a:prstGeom prst="wedgeRectCallout">
            <a:avLst>
              <a:gd name="adj1" fmla="val -40518"/>
              <a:gd name="adj2" fmla="val -61625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nteraksi akademik staf &amp; sivitas akadem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giatan akadem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rilaku akademi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ikutsertaan mahasiswa dan dosen d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giatan akadem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serasian kamp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343400" y="1828800"/>
            <a:ext cx="3809880" cy="1676520"/>
          </a:xfrm>
          <a:prstGeom prst="wedgeRectCallout">
            <a:avLst>
              <a:gd name="adj1" fmla="val -65250"/>
              <a:gd name="adj2" fmla="val 101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ayung dan Age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levan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ualitas (paten, publikasi, Haki, d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roduktivitas dan keberlanju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410080" y="1981080"/>
            <a:ext cx="3581640" cy="1676520"/>
          </a:xfrm>
          <a:prstGeom prst="wedgeRectCallout">
            <a:avLst>
              <a:gd name="adj1" fmla="val -46810"/>
              <a:gd name="adj2" fmla="val 1137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ekrutmen dan selek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Palatino"/>
              </a:rPr>
              <a:t>Adequ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ualifikasi dan pengala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mbinaan dan pengemba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648320" y="2514600"/>
            <a:ext cx="4190760" cy="1905120"/>
          </a:xfrm>
          <a:prstGeom prst="wedgeRectCallout">
            <a:avLst>
              <a:gd name="adj1" fmla="val -47273"/>
              <a:gd name="adj2" fmla="val 8608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sesuaian dan kecukupan sa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beradaan dan pemanfaat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  perpustakaan dan jaringan k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beradaan dan pemanfaata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mudahan penggunaan sa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3124080"/>
            <a:ext cx="2819160" cy="1371600"/>
          </a:xfrm>
          <a:prstGeom prst="wedgeRectCallout">
            <a:avLst>
              <a:gd name="adj1" fmla="val -49324"/>
              <a:gd name="adj2" fmla="val 12372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dequacy dan kesesua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melihar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berlanju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4800" y="2971800"/>
            <a:ext cx="2819520" cy="1676520"/>
          </a:xfrm>
          <a:prstGeom prst="wedgeRectCallout">
            <a:avLst>
              <a:gd name="adj1" fmla="val -63175"/>
              <a:gd name="adj2" fmla="val 125092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umber 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ngelol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istem alokasi angga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Keberlanju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486400" y="2895480"/>
            <a:ext cx="3657600" cy="2590920"/>
          </a:xfrm>
          <a:prstGeom prst="wedgeRectCallout">
            <a:avLst>
              <a:gd name="adj1" fmla="val -39583"/>
              <a:gd name="adj2" fmla="val 81310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istem penjaminan mutu inter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(termasuk: Pengendalian mutu (QC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istem penjaminan mutu eks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ngembangan sumberday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 dan pelembagaan Q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Pengkajian berkala pada semu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   aspek proses pendidi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arameter Mutu Manajemen Perguruan Tinggi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Tahapan Pengelolaan Sumberdaya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"/>
              </a:rPr>
              <a:t>Inventarisasi Sumberd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frastruktur/sarana &amp; Fasilitas Fis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erangkat Lunak dan keras (instrumen, ICT, aparatus d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mberdaya Manu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Sumberdaya Basis IPTEK (Knowledge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"/>
              </a:rPr>
              <a:t>Mekanisme &amp; Alok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rnal dan antar unit akademik/unit ker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bijakan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Resourc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"/>
              </a:rPr>
              <a:t>3. Pemeliharaan dan Pemutakhiran Sumberd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720" indent="-17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aha yg dilakuk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720" indent="-17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umber pembiay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"/>
              </a:rPr>
              <a:t>4. Pengembangan Sumberd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720" indent="-17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eneras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720" indent="-17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eningkatan Mutu &amp; Kompetensi SDM (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Manpower Plannin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10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2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2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Times New Roman"/>
              </a:rPr>
              <a:t>HELTS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a saing bangsa :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U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onomi &amp; desentralisas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ragaman dan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tang k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leksitas sistem nas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onomi dan desentralisasi: keniscaya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sehatan Organis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onomi dan desentralisasi hanya dapat dilaksanakan bila kesehatan organisasi tercap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1946160" y="5033880"/>
            <a:ext cx="62517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Sistem inform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46160" y="4378320"/>
            <a:ext cx="625320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Infrastruktur, asse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946160" y="3662280"/>
            <a:ext cx="62517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Sumberdaya manus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935000" y="2367000"/>
            <a:ext cx="626292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kadem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ungsi manajemen dan struktur organisas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949400" y="3009960"/>
            <a:ext cx="62499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Ke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rot="5400000">
            <a:off x="3917520" y="3701880"/>
            <a:ext cx="3504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rot="5400000">
            <a:off x="4693680" y="373068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rot="5400000">
            <a:off x="6119280" y="370692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rot="5400000">
            <a:off x="5414400" y="373536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62120" y="340920"/>
            <a:ext cx="63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esimpulan Evaluasi Dir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stitusi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7086600" y="260280"/>
            <a:ext cx="2056680" cy="2025720"/>
            <a:chOff x="7086600" y="260280"/>
            <a:chExt cx="2056680" cy="2025720"/>
          </a:xfrm>
        </p:grpSpPr>
        <p:grpSp>
          <p:nvGrpSpPr>
            <p:cNvPr id="2423" name=""/>
            <p:cNvGrpSpPr/>
            <p:nvPr/>
          </p:nvGrpSpPr>
          <p:grpSpPr>
            <a:xfrm>
              <a:off x="7086600" y="260280"/>
              <a:ext cx="1310400" cy="1837080"/>
              <a:chOff x="7086600" y="260280"/>
              <a:chExt cx="1310400" cy="1837080"/>
            </a:xfrm>
          </p:grpSpPr>
          <p:sp>
            <p:nvSpPr>
              <p:cNvPr id="2424" name=""/>
              <p:cNvSpPr/>
              <p:nvPr/>
            </p:nvSpPr>
            <p:spPr>
              <a:xfrm>
                <a:off x="7176600" y="751680"/>
                <a:ext cx="206280" cy="1257120"/>
              </a:xfrm>
              <a:custGeom>
                <a:avLst/>
                <a:gdLst/>
                <a:ahLst/>
                <a:rect l="l" t="t" r="r" b="b"/>
                <a:pathLst>
                  <a:path w="242" h="1693">
                    <a:moveTo>
                      <a:pt x="129" y="0"/>
                    </a:moveTo>
                    <a:lnTo>
                      <a:pt x="135" y="380"/>
                    </a:lnTo>
                    <a:lnTo>
                      <a:pt x="98" y="883"/>
                    </a:lnTo>
                    <a:lnTo>
                      <a:pt x="49" y="1300"/>
                    </a:lnTo>
                    <a:lnTo>
                      <a:pt x="0" y="1643"/>
                    </a:lnTo>
                    <a:lnTo>
                      <a:pt x="43" y="1674"/>
                    </a:lnTo>
                    <a:lnTo>
                      <a:pt x="129" y="1693"/>
                    </a:lnTo>
                    <a:lnTo>
                      <a:pt x="173" y="1661"/>
                    </a:lnTo>
                    <a:lnTo>
                      <a:pt x="166" y="1288"/>
                    </a:lnTo>
                    <a:lnTo>
                      <a:pt x="186" y="877"/>
                    </a:lnTo>
                    <a:lnTo>
                      <a:pt x="217" y="523"/>
                    </a:lnTo>
                    <a:lnTo>
                      <a:pt x="242" y="411"/>
                    </a:lnTo>
                    <a:lnTo>
                      <a:pt x="211" y="275"/>
                    </a:lnTo>
                    <a:lnTo>
                      <a:pt x="166" y="672"/>
                    </a:lnTo>
                    <a:lnTo>
                      <a:pt x="142" y="977"/>
                    </a:lnTo>
                    <a:lnTo>
                      <a:pt x="129" y="1344"/>
                    </a:lnTo>
                    <a:lnTo>
                      <a:pt x="142" y="1643"/>
                    </a:lnTo>
                    <a:lnTo>
                      <a:pt x="117" y="1661"/>
                    </a:lnTo>
                    <a:lnTo>
                      <a:pt x="74" y="1655"/>
                    </a:lnTo>
                    <a:lnTo>
                      <a:pt x="37" y="1618"/>
                    </a:lnTo>
                    <a:lnTo>
                      <a:pt x="67" y="1375"/>
                    </a:lnTo>
                    <a:lnTo>
                      <a:pt x="105" y="1077"/>
                    </a:lnTo>
                    <a:lnTo>
                      <a:pt x="123" y="877"/>
                    </a:lnTo>
                    <a:lnTo>
                      <a:pt x="142" y="616"/>
                    </a:lnTo>
                    <a:lnTo>
                      <a:pt x="166" y="368"/>
                    </a:lnTo>
                    <a:lnTo>
                      <a:pt x="166" y="162"/>
                    </a:lnTo>
                    <a:lnTo>
                      <a:pt x="129" y="25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086600" y="260280"/>
                <a:ext cx="1310400" cy="1837080"/>
              </a:xfrm>
              <a:custGeom>
                <a:avLst/>
                <a:gdLst/>
                <a:ahLst/>
                <a:rect l="l" t="t" r="r" b="b"/>
                <a:pathLst>
                  <a:path w="1537" h="2474">
                    <a:moveTo>
                      <a:pt x="81" y="130"/>
                    </a:moveTo>
                    <a:lnTo>
                      <a:pt x="336" y="112"/>
                    </a:lnTo>
                    <a:lnTo>
                      <a:pt x="566" y="74"/>
                    </a:lnTo>
                    <a:lnTo>
                      <a:pt x="821" y="25"/>
                    </a:lnTo>
                    <a:lnTo>
                      <a:pt x="927" y="0"/>
                    </a:lnTo>
                    <a:lnTo>
                      <a:pt x="1008" y="373"/>
                    </a:lnTo>
                    <a:lnTo>
                      <a:pt x="1114" y="795"/>
                    </a:lnTo>
                    <a:lnTo>
                      <a:pt x="1213" y="1138"/>
                    </a:lnTo>
                    <a:lnTo>
                      <a:pt x="1362" y="1703"/>
                    </a:lnTo>
                    <a:lnTo>
                      <a:pt x="1518" y="2207"/>
                    </a:lnTo>
                    <a:lnTo>
                      <a:pt x="1537" y="2269"/>
                    </a:lnTo>
                    <a:lnTo>
                      <a:pt x="1512" y="2288"/>
                    </a:lnTo>
                    <a:lnTo>
                      <a:pt x="1381" y="2294"/>
                    </a:lnTo>
                    <a:lnTo>
                      <a:pt x="1176" y="2337"/>
                    </a:lnTo>
                    <a:lnTo>
                      <a:pt x="977" y="2412"/>
                    </a:lnTo>
                    <a:lnTo>
                      <a:pt x="777" y="2474"/>
                    </a:lnTo>
                    <a:lnTo>
                      <a:pt x="715" y="2468"/>
                    </a:lnTo>
                    <a:lnTo>
                      <a:pt x="690" y="2412"/>
                    </a:lnTo>
                    <a:lnTo>
                      <a:pt x="572" y="1964"/>
                    </a:lnTo>
                    <a:lnTo>
                      <a:pt x="442" y="1522"/>
                    </a:lnTo>
                    <a:lnTo>
                      <a:pt x="349" y="1156"/>
                    </a:lnTo>
                    <a:lnTo>
                      <a:pt x="261" y="820"/>
                    </a:lnTo>
                    <a:lnTo>
                      <a:pt x="155" y="522"/>
                    </a:lnTo>
                    <a:lnTo>
                      <a:pt x="81" y="324"/>
                    </a:lnTo>
                    <a:lnTo>
                      <a:pt x="0" y="137"/>
                    </a:lnTo>
                    <a:lnTo>
                      <a:pt x="81" y="137"/>
                    </a:lnTo>
                    <a:lnTo>
                      <a:pt x="130" y="330"/>
                    </a:lnTo>
                    <a:lnTo>
                      <a:pt x="211" y="566"/>
                    </a:lnTo>
                    <a:lnTo>
                      <a:pt x="305" y="826"/>
                    </a:lnTo>
                    <a:lnTo>
                      <a:pt x="430" y="1318"/>
                    </a:lnTo>
                    <a:lnTo>
                      <a:pt x="541" y="1716"/>
                    </a:lnTo>
                    <a:lnTo>
                      <a:pt x="616" y="1945"/>
                    </a:lnTo>
                    <a:lnTo>
                      <a:pt x="659" y="2107"/>
                    </a:lnTo>
                    <a:lnTo>
                      <a:pt x="728" y="2306"/>
                    </a:lnTo>
                    <a:lnTo>
                      <a:pt x="777" y="2412"/>
                    </a:lnTo>
                    <a:lnTo>
                      <a:pt x="802" y="2418"/>
                    </a:lnTo>
                    <a:lnTo>
                      <a:pt x="921" y="2406"/>
                    </a:lnTo>
                    <a:lnTo>
                      <a:pt x="1107" y="2325"/>
                    </a:lnTo>
                    <a:lnTo>
                      <a:pt x="1300" y="2263"/>
                    </a:lnTo>
                    <a:lnTo>
                      <a:pt x="1444" y="2220"/>
                    </a:lnTo>
                    <a:lnTo>
                      <a:pt x="1456" y="2189"/>
                    </a:lnTo>
                    <a:lnTo>
                      <a:pt x="1419" y="2032"/>
                    </a:lnTo>
                    <a:lnTo>
                      <a:pt x="1325" y="1710"/>
                    </a:lnTo>
                    <a:lnTo>
                      <a:pt x="1225" y="1355"/>
                    </a:lnTo>
                    <a:lnTo>
                      <a:pt x="1126" y="989"/>
                    </a:lnTo>
                    <a:lnTo>
                      <a:pt x="1052" y="708"/>
                    </a:lnTo>
                    <a:lnTo>
                      <a:pt x="1008" y="510"/>
                    </a:lnTo>
                    <a:lnTo>
                      <a:pt x="921" y="174"/>
                    </a:lnTo>
                    <a:lnTo>
                      <a:pt x="896" y="93"/>
                    </a:lnTo>
                    <a:lnTo>
                      <a:pt x="847" y="87"/>
                    </a:lnTo>
                    <a:lnTo>
                      <a:pt x="746" y="87"/>
                    </a:lnTo>
                    <a:lnTo>
                      <a:pt x="597" y="106"/>
                    </a:lnTo>
                    <a:lnTo>
                      <a:pt x="386" y="137"/>
                    </a:lnTo>
                    <a:lnTo>
                      <a:pt x="224" y="161"/>
                    </a:lnTo>
                    <a:lnTo>
                      <a:pt x="99" y="174"/>
                    </a:lnTo>
                    <a:lnTo>
                      <a:pt x="81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228080" y="389160"/>
                <a:ext cx="1038240" cy="1629360"/>
              </a:xfrm>
              <a:custGeom>
                <a:avLst/>
                <a:gdLst/>
                <a:ahLst/>
                <a:rect l="l" t="t" r="r" b="b"/>
                <a:pathLst>
                  <a:path w="1218" h="2194">
                    <a:moveTo>
                      <a:pt x="59" y="65"/>
                    </a:moveTo>
                    <a:lnTo>
                      <a:pt x="246" y="37"/>
                    </a:lnTo>
                    <a:lnTo>
                      <a:pt x="420" y="19"/>
                    </a:lnTo>
                    <a:lnTo>
                      <a:pt x="613" y="6"/>
                    </a:lnTo>
                    <a:lnTo>
                      <a:pt x="695" y="0"/>
                    </a:lnTo>
                    <a:lnTo>
                      <a:pt x="757" y="258"/>
                    </a:lnTo>
                    <a:lnTo>
                      <a:pt x="857" y="652"/>
                    </a:lnTo>
                    <a:lnTo>
                      <a:pt x="947" y="970"/>
                    </a:lnTo>
                    <a:lnTo>
                      <a:pt x="1087" y="1498"/>
                    </a:lnTo>
                    <a:lnTo>
                      <a:pt x="1211" y="1914"/>
                    </a:lnTo>
                    <a:lnTo>
                      <a:pt x="1218" y="1988"/>
                    </a:lnTo>
                    <a:lnTo>
                      <a:pt x="1186" y="2020"/>
                    </a:lnTo>
                    <a:lnTo>
                      <a:pt x="1124" y="2039"/>
                    </a:lnTo>
                    <a:lnTo>
                      <a:pt x="950" y="2076"/>
                    </a:lnTo>
                    <a:lnTo>
                      <a:pt x="826" y="2138"/>
                    </a:lnTo>
                    <a:lnTo>
                      <a:pt x="720" y="2194"/>
                    </a:lnTo>
                    <a:lnTo>
                      <a:pt x="676" y="2194"/>
                    </a:lnTo>
                    <a:lnTo>
                      <a:pt x="638" y="2175"/>
                    </a:lnTo>
                    <a:lnTo>
                      <a:pt x="514" y="1774"/>
                    </a:lnTo>
                    <a:lnTo>
                      <a:pt x="396" y="1364"/>
                    </a:lnTo>
                    <a:lnTo>
                      <a:pt x="308" y="1023"/>
                    </a:lnTo>
                    <a:lnTo>
                      <a:pt x="228" y="708"/>
                    </a:lnTo>
                    <a:lnTo>
                      <a:pt x="134" y="432"/>
                    </a:lnTo>
                    <a:lnTo>
                      <a:pt x="68" y="246"/>
                    </a:lnTo>
                    <a:lnTo>
                      <a:pt x="0" y="74"/>
                    </a:lnTo>
                    <a:lnTo>
                      <a:pt x="59" y="71"/>
                    </a:lnTo>
                    <a:lnTo>
                      <a:pt x="105" y="249"/>
                    </a:lnTo>
                    <a:lnTo>
                      <a:pt x="178" y="469"/>
                    </a:lnTo>
                    <a:lnTo>
                      <a:pt x="259" y="711"/>
                    </a:lnTo>
                    <a:lnTo>
                      <a:pt x="377" y="1171"/>
                    </a:lnTo>
                    <a:lnTo>
                      <a:pt x="479" y="1542"/>
                    </a:lnTo>
                    <a:lnTo>
                      <a:pt x="545" y="1756"/>
                    </a:lnTo>
                    <a:lnTo>
                      <a:pt x="585" y="1908"/>
                    </a:lnTo>
                    <a:lnTo>
                      <a:pt x="644" y="2092"/>
                    </a:lnTo>
                    <a:lnTo>
                      <a:pt x="663" y="2144"/>
                    </a:lnTo>
                    <a:lnTo>
                      <a:pt x="720" y="2151"/>
                    </a:lnTo>
                    <a:lnTo>
                      <a:pt x="776" y="2138"/>
                    </a:lnTo>
                    <a:lnTo>
                      <a:pt x="832" y="2095"/>
                    </a:lnTo>
                    <a:lnTo>
                      <a:pt x="944" y="2039"/>
                    </a:lnTo>
                    <a:lnTo>
                      <a:pt x="1062" y="2014"/>
                    </a:lnTo>
                    <a:lnTo>
                      <a:pt x="1171" y="1982"/>
                    </a:lnTo>
                    <a:lnTo>
                      <a:pt x="1180" y="1951"/>
                    </a:lnTo>
                    <a:lnTo>
                      <a:pt x="1143" y="1805"/>
                    </a:lnTo>
                    <a:lnTo>
                      <a:pt x="1059" y="1504"/>
                    </a:lnTo>
                    <a:lnTo>
                      <a:pt x="969" y="1175"/>
                    </a:lnTo>
                    <a:lnTo>
                      <a:pt x="875" y="833"/>
                    </a:lnTo>
                    <a:lnTo>
                      <a:pt x="807" y="572"/>
                    </a:lnTo>
                    <a:lnTo>
                      <a:pt x="763" y="386"/>
                    </a:lnTo>
                    <a:lnTo>
                      <a:pt x="683" y="71"/>
                    </a:lnTo>
                    <a:lnTo>
                      <a:pt x="582" y="56"/>
                    </a:lnTo>
                    <a:lnTo>
                      <a:pt x="427" y="62"/>
                    </a:lnTo>
                    <a:lnTo>
                      <a:pt x="290" y="74"/>
                    </a:lnTo>
                    <a:lnTo>
                      <a:pt x="165" y="87"/>
                    </a:lnTo>
                    <a:lnTo>
                      <a:pt x="74" y="105"/>
                    </a:lnTo>
                    <a:lnTo>
                      <a:pt x="5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484400" y="559440"/>
                <a:ext cx="274320" cy="250920"/>
              </a:xfrm>
              <a:custGeom>
                <a:avLst/>
                <a:gdLst/>
                <a:ahLst/>
                <a:rect l="l" t="t" r="r" b="b"/>
                <a:pathLst>
                  <a:path w="322" h="338">
                    <a:moveTo>
                      <a:pt x="322" y="313"/>
                    </a:moveTo>
                    <a:lnTo>
                      <a:pt x="149" y="131"/>
                    </a:lnTo>
                    <a:lnTo>
                      <a:pt x="31" y="0"/>
                    </a:lnTo>
                    <a:lnTo>
                      <a:pt x="0" y="6"/>
                    </a:lnTo>
                    <a:lnTo>
                      <a:pt x="0" y="31"/>
                    </a:lnTo>
                    <a:lnTo>
                      <a:pt x="149" y="175"/>
                    </a:lnTo>
                    <a:lnTo>
                      <a:pt x="279" y="338"/>
                    </a:lnTo>
                    <a:lnTo>
                      <a:pt x="322" y="3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515360" y="687960"/>
                <a:ext cx="243720" cy="207000"/>
              </a:xfrm>
              <a:custGeom>
                <a:avLst/>
                <a:gdLst/>
                <a:ahLst/>
                <a:rect l="l" t="t" r="r" b="b"/>
                <a:pathLst>
                  <a:path w="286" h="279">
                    <a:moveTo>
                      <a:pt x="286" y="279"/>
                    </a:moveTo>
                    <a:lnTo>
                      <a:pt x="44" y="0"/>
                    </a:lnTo>
                    <a:lnTo>
                      <a:pt x="6" y="0"/>
                    </a:lnTo>
                    <a:lnTo>
                      <a:pt x="0" y="38"/>
                    </a:lnTo>
                    <a:lnTo>
                      <a:pt x="131" y="149"/>
                    </a:lnTo>
                    <a:lnTo>
                      <a:pt x="286" y="27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764480" y="1422360"/>
                <a:ext cx="297360" cy="281160"/>
              </a:xfrm>
              <a:custGeom>
                <a:avLst/>
                <a:gdLst/>
                <a:ahLst/>
                <a:rect l="l" t="t" r="r" b="b"/>
                <a:pathLst>
                  <a:path w="349" h="379">
                    <a:moveTo>
                      <a:pt x="25" y="0"/>
                    </a:moveTo>
                    <a:lnTo>
                      <a:pt x="299" y="268"/>
                    </a:lnTo>
                    <a:lnTo>
                      <a:pt x="349" y="348"/>
                    </a:lnTo>
                    <a:lnTo>
                      <a:pt x="324" y="379"/>
                    </a:lnTo>
                    <a:lnTo>
                      <a:pt x="287" y="361"/>
                    </a:lnTo>
                    <a:lnTo>
                      <a:pt x="119" y="150"/>
                    </a:lnTo>
                    <a:lnTo>
                      <a:pt x="0" y="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70240" y="1566360"/>
                <a:ext cx="222120" cy="238320"/>
              </a:xfrm>
              <a:custGeom>
                <a:avLst/>
                <a:gdLst/>
                <a:ahLst/>
                <a:rect l="l" t="t" r="r" b="b"/>
                <a:pathLst>
                  <a:path w="261" h="321">
                    <a:moveTo>
                      <a:pt x="236" y="234"/>
                    </a:moveTo>
                    <a:lnTo>
                      <a:pt x="137" y="104"/>
                    </a:lnTo>
                    <a:lnTo>
                      <a:pt x="31" y="0"/>
                    </a:lnTo>
                    <a:lnTo>
                      <a:pt x="0" y="12"/>
                    </a:lnTo>
                    <a:lnTo>
                      <a:pt x="19" y="67"/>
                    </a:lnTo>
                    <a:lnTo>
                      <a:pt x="143" y="172"/>
                    </a:lnTo>
                    <a:lnTo>
                      <a:pt x="242" y="321"/>
                    </a:lnTo>
                    <a:lnTo>
                      <a:pt x="261" y="290"/>
                    </a:lnTo>
                    <a:lnTo>
                      <a:pt x="236" y="2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1" name=""/>
            <p:cNvGrpSpPr/>
            <p:nvPr/>
          </p:nvGrpSpPr>
          <p:grpSpPr>
            <a:xfrm>
              <a:off x="8184240" y="538920"/>
              <a:ext cx="959040" cy="1747080"/>
              <a:chOff x="8184240" y="538920"/>
              <a:chExt cx="959040" cy="1747080"/>
            </a:xfrm>
          </p:grpSpPr>
          <p:sp>
            <p:nvSpPr>
              <p:cNvPr id="2432" name=""/>
              <p:cNvSpPr/>
              <p:nvPr/>
            </p:nvSpPr>
            <p:spPr>
              <a:xfrm>
                <a:off x="8423280" y="626400"/>
                <a:ext cx="554040" cy="393480"/>
              </a:xfrm>
              <a:custGeom>
                <a:avLst/>
                <a:gdLst/>
                <a:ahLst/>
                <a:rect l="l" t="t" r="r" b="b"/>
                <a:pathLst>
                  <a:path w="574" h="557">
                    <a:moveTo>
                      <a:pt x="175" y="236"/>
                    </a:moveTo>
                    <a:lnTo>
                      <a:pt x="225" y="161"/>
                    </a:lnTo>
                    <a:lnTo>
                      <a:pt x="281" y="105"/>
                    </a:lnTo>
                    <a:lnTo>
                      <a:pt x="337" y="37"/>
                    </a:lnTo>
                    <a:lnTo>
                      <a:pt x="405" y="6"/>
                    </a:lnTo>
                    <a:lnTo>
                      <a:pt x="461" y="0"/>
                    </a:lnTo>
                    <a:lnTo>
                      <a:pt x="518" y="19"/>
                    </a:lnTo>
                    <a:lnTo>
                      <a:pt x="550" y="62"/>
                    </a:lnTo>
                    <a:lnTo>
                      <a:pt x="574" y="142"/>
                    </a:lnTo>
                    <a:lnTo>
                      <a:pt x="568" y="230"/>
                    </a:lnTo>
                    <a:lnTo>
                      <a:pt x="543" y="304"/>
                    </a:lnTo>
                    <a:lnTo>
                      <a:pt x="481" y="390"/>
                    </a:lnTo>
                    <a:lnTo>
                      <a:pt x="412" y="452"/>
                    </a:lnTo>
                    <a:lnTo>
                      <a:pt x="337" y="508"/>
                    </a:lnTo>
                    <a:lnTo>
                      <a:pt x="256" y="545"/>
                    </a:lnTo>
                    <a:lnTo>
                      <a:pt x="187" y="557"/>
                    </a:lnTo>
                    <a:lnTo>
                      <a:pt x="156" y="538"/>
                    </a:lnTo>
                    <a:lnTo>
                      <a:pt x="131" y="464"/>
                    </a:lnTo>
                    <a:lnTo>
                      <a:pt x="138" y="365"/>
                    </a:lnTo>
                    <a:lnTo>
                      <a:pt x="19" y="372"/>
                    </a:lnTo>
                    <a:lnTo>
                      <a:pt x="0" y="353"/>
                    </a:lnTo>
                    <a:lnTo>
                      <a:pt x="19" y="316"/>
                    </a:lnTo>
                    <a:lnTo>
                      <a:pt x="144" y="310"/>
                    </a:lnTo>
                    <a:lnTo>
                      <a:pt x="175" y="2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396280" y="1042560"/>
                <a:ext cx="381960" cy="579960"/>
              </a:xfrm>
              <a:custGeom>
                <a:avLst/>
                <a:gdLst/>
                <a:ahLst/>
                <a:rect l="l" t="t" r="r" b="b"/>
                <a:pathLst>
                  <a:path w="396" h="821">
                    <a:moveTo>
                      <a:pt x="111" y="68"/>
                    </a:moveTo>
                    <a:lnTo>
                      <a:pt x="167" y="19"/>
                    </a:lnTo>
                    <a:lnTo>
                      <a:pt x="254" y="0"/>
                    </a:lnTo>
                    <a:lnTo>
                      <a:pt x="328" y="12"/>
                    </a:lnTo>
                    <a:lnTo>
                      <a:pt x="384" y="62"/>
                    </a:lnTo>
                    <a:lnTo>
                      <a:pt x="396" y="99"/>
                    </a:lnTo>
                    <a:lnTo>
                      <a:pt x="396" y="149"/>
                    </a:lnTo>
                    <a:lnTo>
                      <a:pt x="371" y="193"/>
                    </a:lnTo>
                    <a:lnTo>
                      <a:pt x="328" y="268"/>
                    </a:lnTo>
                    <a:lnTo>
                      <a:pt x="309" y="355"/>
                    </a:lnTo>
                    <a:lnTo>
                      <a:pt x="303" y="430"/>
                    </a:lnTo>
                    <a:lnTo>
                      <a:pt x="322" y="510"/>
                    </a:lnTo>
                    <a:lnTo>
                      <a:pt x="371" y="585"/>
                    </a:lnTo>
                    <a:lnTo>
                      <a:pt x="390" y="659"/>
                    </a:lnTo>
                    <a:lnTo>
                      <a:pt x="384" y="728"/>
                    </a:lnTo>
                    <a:lnTo>
                      <a:pt x="347" y="784"/>
                    </a:lnTo>
                    <a:lnTo>
                      <a:pt x="297" y="815"/>
                    </a:lnTo>
                    <a:lnTo>
                      <a:pt x="235" y="821"/>
                    </a:lnTo>
                    <a:lnTo>
                      <a:pt x="161" y="821"/>
                    </a:lnTo>
                    <a:lnTo>
                      <a:pt x="105" y="790"/>
                    </a:lnTo>
                    <a:lnTo>
                      <a:pt x="50" y="697"/>
                    </a:lnTo>
                    <a:lnTo>
                      <a:pt x="12" y="616"/>
                    </a:lnTo>
                    <a:lnTo>
                      <a:pt x="0" y="492"/>
                    </a:lnTo>
                    <a:lnTo>
                      <a:pt x="12" y="380"/>
                    </a:lnTo>
                    <a:lnTo>
                      <a:pt x="37" y="262"/>
                    </a:lnTo>
                    <a:lnTo>
                      <a:pt x="74" y="143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699400" y="1061280"/>
                <a:ext cx="426600" cy="520560"/>
              </a:xfrm>
              <a:custGeom>
                <a:avLst/>
                <a:gdLst/>
                <a:ahLst/>
                <a:rect l="l" t="t" r="r" b="b"/>
                <a:pathLst>
                  <a:path w="442" h="737">
                    <a:moveTo>
                      <a:pt x="0" y="37"/>
                    </a:moveTo>
                    <a:lnTo>
                      <a:pt x="7" y="6"/>
                    </a:lnTo>
                    <a:lnTo>
                      <a:pt x="75" y="0"/>
                    </a:lnTo>
                    <a:lnTo>
                      <a:pt x="112" y="31"/>
                    </a:lnTo>
                    <a:lnTo>
                      <a:pt x="168" y="111"/>
                    </a:lnTo>
                    <a:lnTo>
                      <a:pt x="244" y="217"/>
                    </a:lnTo>
                    <a:lnTo>
                      <a:pt x="312" y="292"/>
                    </a:lnTo>
                    <a:lnTo>
                      <a:pt x="436" y="428"/>
                    </a:lnTo>
                    <a:lnTo>
                      <a:pt x="442" y="459"/>
                    </a:lnTo>
                    <a:lnTo>
                      <a:pt x="418" y="477"/>
                    </a:lnTo>
                    <a:lnTo>
                      <a:pt x="356" y="502"/>
                    </a:lnTo>
                    <a:lnTo>
                      <a:pt x="269" y="521"/>
                    </a:lnTo>
                    <a:lnTo>
                      <a:pt x="162" y="527"/>
                    </a:lnTo>
                    <a:lnTo>
                      <a:pt x="125" y="533"/>
                    </a:lnTo>
                    <a:lnTo>
                      <a:pt x="112" y="558"/>
                    </a:lnTo>
                    <a:lnTo>
                      <a:pt x="137" y="601"/>
                    </a:lnTo>
                    <a:lnTo>
                      <a:pt x="225" y="675"/>
                    </a:lnTo>
                    <a:lnTo>
                      <a:pt x="287" y="694"/>
                    </a:lnTo>
                    <a:lnTo>
                      <a:pt x="300" y="718"/>
                    </a:lnTo>
                    <a:lnTo>
                      <a:pt x="275" y="737"/>
                    </a:lnTo>
                    <a:lnTo>
                      <a:pt x="219" y="737"/>
                    </a:lnTo>
                    <a:lnTo>
                      <a:pt x="143" y="694"/>
                    </a:lnTo>
                    <a:lnTo>
                      <a:pt x="81" y="632"/>
                    </a:lnTo>
                    <a:lnTo>
                      <a:pt x="44" y="576"/>
                    </a:lnTo>
                    <a:lnTo>
                      <a:pt x="44" y="533"/>
                    </a:lnTo>
                    <a:lnTo>
                      <a:pt x="69" y="502"/>
                    </a:lnTo>
                    <a:lnTo>
                      <a:pt x="106" y="490"/>
                    </a:lnTo>
                    <a:lnTo>
                      <a:pt x="162" y="483"/>
                    </a:lnTo>
                    <a:lnTo>
                      <a:pt x="225" y="483"/>
                    </a:lnTo>
                    <a:lnTo>
                      <a:pt x="300" y="471"/>
                    </a:lnTo>
                    <a:lnTo>
                      <a:pt x="337" y="459"/>
                    </a:lnTo>
                    <a:lnTo>
                      <a:pt x="356" y="440"/>
                    </a:lnTo>
                    <a:lnTo>
                      <a:pt x="349" y="422"/>
                    </a:lnTo>
                    <a:lnTo>
                      <a:pt x="293" y="372"/>
                    </a:lnTo>
                    <a:lnTo>
                      <a:pt x="206" y="286"/>
                    </a:lnTo>
                    <a:lnTo>
                      <a:pt x="125" y="211"/>
                    </a:lnTo>
                    <a:lnTo>
                      <a:pt x="38" y="130"/>
                    </a:lnTo>
                    <a:lnTo>
                      <a:pt x="7" y="7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424360" y="1500120"/>
                <a:ext cx="462960" cy="785880"/>
              </a:xfrm>
              <a:custGeom>
                <a:avLst/>
                <a:gdLst/>
                <a:ahLst/>
                <a:rect l="l" t="t" r="r" b="b"/>
                <a:pathLst>
                  <a:path w="480" h="1112">
                    <a:moveTo>
                      <a:pt x="236" y="0"/>
                    </a:moveTo>
                    <a:lnTo>
                      <a:pt x="304" y="13"/>
                    </a:lnTo>
                    <a:lnTo>
                      <a:pt x="335" y="62"/>
                    </a:lnTo>
                    <a:lnTo>
                      <a:pt x="329" y="180"/>
                    </a:lnTo>
                    <a:lnTo>
                      <a:pt x="317" y="305"/>
                    </a:lnTo>
                    <a:lnTo>
                      <a:pt x="317" y="435"/>
                    </a:lnTo>
                    <a:lnTo>
                      <a:pt x="379" y="590"/>
                    </a:lnTo>
                    <a:lnTo>
                      <a:pt x="429" y="702"/>
                    </a:lnTo>
                    <a:lnTo>
                      <a:pt x="454" y="814"/>
                    </a:lnTo>
                    <a:lnTo>
                      <a:pt x="447" y="913"/>
                    </a:lnTo>
                    <a:lnTo>
                      <a:pt x="447" y="950"/>
                    </a:lnTo>
                    <a:lnTo>
                      <a:pt x="473" y="988"/>
                    </a:lnTo>
                    <a:lnTo>
                      <a:pt x="480" y="1025"/>
                    </a:lnTo>
                    <a:lnTo>
                      <a:pt x="460" y="1043"/>
                    </a:lnTo>
                    <a:lnTo>
                      <a:pt x="410" y="1031"/>
                    </a:lnTo>
                    <a:lnTo>
                      <a:pt x="317" y="1019"/>
                    </a:lnTo>
                    <a:lnTo>
                      <a:pt x="205" y="1043"/>
                    </a:lnTo>
                    <a:lnTo>
                      <a:pt x="130" y="1087"/>
                    </a:lnTo>
                    <a:lnTo>
                      <a:pt x="93" y="1112"/>
                    </a:lnTo>
                    <a:lnTo>
                      <a:pt x="55" y="1112"/>
                    </a:lnTo>
                    <a:lnTo>
                      <a:pt x="0" y="1031"/>
                    </a:lnTo>
                    <a:lnTo>
                      <a:pt x="6" y="1019"/>
                    </a:lnTo>
                    <a:lnTo>
                      <a:pt x="118" y="981"/>
                    </a:lnTo>
                    <a:lnTo>
                      <a:pt x="248" y="963"/>
                    </a:lnTo>
                    <a:lnTo>
                      <a:pt x="342" y="957"/>
                    </a:lnTo>
                    <a:lnTo>
                      <a:pt x="398" y="957"/>
                    </a:lnTo>
                    <a:lnTo>
                      <a:pt x="410" y="919"/>
                    </a:lnTo>
                    <a:lnTo>
                      <a:pt x="391" y="814"/>
                    </a:lnTo>
                    <a:lnTo>
                      <a:pt x="348" y="702"/>
                    </a:lnTo>
                    <a:lnTo>
                      <a:pt x="279" y="559"/>
                    </a:lnTo>
                    <a:lnTo>
                      <a:pt x="223" y="435"/>
                    </a:lnTo>
                    <a:lnTo>
                      <a:pt x="199" y="324"/>
                    </a:lnTo>
                    <a:lnTo>
                      <a:pt x="192" y="200"/>
                    </a:lnTo>
                    <a:lnTo>
                      <a:pt x="192" y="81"/>
                    </a:lnTo>
                    <a:lnTo>
                      <a:pt x="217" y="3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6480" y="1520640"/>
                <a:ext cx="383040" cy="656280"/>
              </a:xfrm>
              <a:custGeom>
                <a:avLst/>
                <a:gdLst/>
                <a:ahLst/>
                <a:rect l="l" t="t" r="r" b="b"/>
                <a:pathLst>
                  <a:path w="397" h="929">
                    <a:moveTo>
                      <a:pt x="298" y="0"/>
                    </a:moveTo>
                    <a:lnTo>
                      <a:pt x="354" y="0"/>
                    </a:lnTo>
                    <a:lnTo>
                      <a:pt x="372" y="37"/>
                    </a:lnTo>
                    <a:lnTo>
                      <a:pt x="385" y="118"/>
                    </a:lnTo>
                    <a:lnTo>
                      <a:pt x="372" y="206"/>
                    </a:lnTo>
                    <a:lnTo>
                      <a:pt x="341" y="380"/>
                    </a:lnTo>
                    <a:lnTo>
                      <a:pt x="348" y="455"/>
                    </a:lnTo>
                    <a:lnTo>
                      <a:pt x="385" y="604"/>
                    </a:lnTo>
                    <a:lnTo>
                      <a:pt x="397" y="710"/>
                    </a:lnTo>
                    <a:lnTo>
                      <a:pt x="397" y="792"/>
                    </a:lnTo>
                    <a:lnTo>
                      <a:pt x="378" y="810"/>
                    </a:lnTo>
                    <a:lnTo>
                      <a:pt x="323" y="823"/>
                    </a:lnTo>
                    <a:lnTo>
                      <a:pt x="249" y="841"/>
                    </a:lnTo>
                    <a:lnTo>
                      <a:pt x="174" y="879"/>
                    </a:lnTo>
                    <a:lnTo>
                      <a:pt x="99" y="929"/>
                    </a:lnTo>
                    <a:lnTo>
                      <a:pt x="68" y="929"/>
                    </a:lnTo>
                    <a:lnTo>
                      <a:pt x="0" y="873"/>
                    </a:lnTo>
                    <a:lnTo>
                      <a:pt x="6" y="848"/>
                    </a:lnTo>
                    <a:lnTo>
                      <a:pt x="93" y="810"/>
                    </a:lnTo>
                    <a:lnTo>
                      <a:pt x="242" y="772"/>
                    </a:lnTo>
                    <a:lnTo>
                      <a:pt x="310" y="747"/>
                    </a:lnTo>
                    <a:lnTo>
                      <a:pt x="323" y="722"/>
                    </a:lnTo>
                    <a:lnTo>
                      <a:pt x="323" y="616"/>
                    </a:lnTo>
                    <a:lnTo>
                      <a:pt x="298" y="480"/>
                    </a:lnTo>
                    <a:lnTo>
                      <a:pt x="286" y="392"/>
                    </a:lnTo>
                    <a:lnTo>
                      <a:pt x="273" y="256"/>
                    </a:lnTo>
                    <a:lnTo>
                      <a:pt x="267" y="105"/>
                    </a:lnTo>
                    <a:lnTo>
                      <a:pt x="273" y="37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701200" y="552240"/>
                <a:ext cx="442080" cy="384120"/>
              </a:xfrm>
              <a:custGeom>
                <a:avLst/>
                <a:gdLst/>
                <a:ahLst/>
                <a:rect l="l" t="t" r="r" b="b"/>
                <a:pathLst>
                  <a:path w="458" h="544">
                    <a:moveTo>
                      <a:pt x="121" y="386"/>
                    </a:moveTo>
                    <a:lnTo>
                      <a:pt x="59" y="276"/>
                    </a:lnTo>
                    <a:lnTo>
                      <a:pt x="22" y="183"/>
                    </a:lnTo>
                    <a:lnTo>
                      <a:pt x="0" y="81"/>
                    </a:lnTo>
                    <a:lnTo>
                      <a:pt x="9" y="40"/>
                    </a:lnTo>
                    <a:lnTo>
                      <a:pt x="40" y="40"/>
                    </a:lnTo>
                    <a:lnTo>
                      <a:pt x="78" y="71"/>
                    </a:lnTo>
                    <a:lnTo>
                      <a:pt x="115" y="115"/>
                    </a:lnTo>
                    <a:lnTo>
                      <a:pt x="228" y="53"/>
                    </a:lnTo>
                    <a:lnTo>
                      <a:pt x="287" y="0"/>
                    </a:lnTo>
                    <a:lnTo>
                      <a:pt x="340" y="34"/>
                    </a:lnTo>
                    <a:lnTo>
                      <a:pt x="399" y="112"/>
                    </a:lnTo>
                    <a:lnTo>
                      <a:pt x="443" y="223"/>
                    </a:lnTo>
                    <a:lnTo>
                      <a:pt x="458" y="296"/>
                    </a:lnTo>
                    <a:lnTo>
                      <a:pt x="458" y="321"/>
                    </a:lnTo>
                    <a:lnTo>
                      <a:pt x="399" y="339"/>
                    </a:lnTo>
                    <a:lnTo>
                      <a:pt x="318" y="389"/>
                    </a:lnTo>
                    <a:lnTo>
                      <a:pt x="281" y="411"/>
                    </a:lnTo>
                    <a:lnTo>
                      <a:pt x="312" y="498"/>
                    </a:lnTo>
                    <a:lnTo>
                      <a:pt x="300" y="538"/>
                    </a:lnTo>
                    <a:lnTo>
                      <a:pt x="275" y="544"/>
                    </a:lnTo>
                    <a:lnTo>
                      <a:pt x="206" y="488"/>
                    </a:lnTo>
                    <a:lnTo>
                      <a:pt x="12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84240" y="538920"/>
                <a:ext cx="547200" cy="600480"/>
              </a:xfrm>
              <a:custGeom>
                <a:avLst/>
                <a:gdLst/>
                <a:ahLst/>
                <a:rect l="l" t="t" r="r" b="b"/>
                <a:pathLst>
                  <a:path w="567" h="850">
                    <a:moveTo>
                      <a:pt x="349" y="850"/>
                    </a:moveTo>
                    <a:lnTo>
                      <a:pt x="380" y="813"/>
                    </a:lnTo>
                    <a:lnTo>
                      <a:pt x="368" y="758"/>
                    </a:lnTo>
                    <a:lnTo>
                      <a:pt x="343" y="683"/>
                    </a:lnTo>
                    <a:lnTo>
                      <a:pt x="250" y="596"/>
                    </a:lnTo>
                    <a:lnTo>
                      <a:pt x="156" y="516"/>
                    </a:lnTo>
                    <a:lnTo>
                      <a:pt x="112" y="429"/>
                    </a:lnTo>
                    <a:lnTo>
                      <a:pt x="93" y="292"/>
                    </a:lnTo>
                    <a:lnTo>
                      <a:pt x="200" y="255"/>
                    </a:lnTo>
                    <a:lnTo>
                      <a:pt x="368" y="236"/>
                    </a:lnTo>
                    <a:lnTo>
                      <a:pt x="436" y="242"/>
                    </a:lnTo>
                    <a:lnTo>
                      <a:pt x="455" y="261"/>
                    </a:lnTo>
                    <a:lnTo>
                      <a:pt x="486" y="230"/>
                    </a:lnTo>
                    <a:lnTo>
                      <a:pt x="474" y="199"/>
                    </a:lnTo>
                    <a:lnTo>
                      <a:pt x="505" y="118"/>
                    </a:lnTo>
                    <a:lnTo>
                      <a:pt x="517" y="87"/>
                    </a:lnTo>
                    <a:lnTo>
                      <a:pt x="542" y="38"/>
                    </a:lnTo>
                    <a:lnTo>
                      <a:pt x="567" y="38"/>
                    </a:lnTo>
                    <a:lnTo>
                      <a:pt x="567" y="13"/>
                    </a:lnTo>
                    <a:lnTo>
                      <a:pt x="517" y="0"/>
                    </a:lnTo>
                    <a:lnTo>
                      <a:pt x="486" y="56"/>
                    </a:lnTo>
                    <a:lnTo>
                      <a:pt x="443" y="137"/>
                    </a:lnTo>
                    <a:lnTo>
                      <a:pt x="387" y="174"/>
                    </a:lnTo>
                    <a:lnTo>
                      <a:pt x="300" y="186"/>
                    </a:lnTo>
                    <a:lnTo>
                      <a:pt x="143" y="205"/>
                    </a:lnTo>
                    <a:lnTo>
                      <a:pt x="19" y="242"/>
                    </a:lnTo>
                    <a:lnTo>
                      <a:pt x="0" y="273"/>
                    </a:lnTo>
                    <a:lnTo>
                      <a:pt x="12" y="373"/>
                    </a:lnTo>
                    <a:lnTo>
                      <a:pt x="56" y="510"/>
                    </a:lnTo>
                    <a:lnTo>
                      <a:pt x="118" y="621"/>
                    </a:lnTo>
                    <a:lnTo>
                      <a:pt x="181" y="720"/>
                    </a:lnTo>
                    <a:lnTo>
                      <a:pt x="237" y="789"/>
                    </a:lnTo>
                    <a:lnTo>
                      <a:pt x="293" y="838"/>
                    </a:lnTo>
                    <a:lnTo>
                      <a:pt x="349" y="8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539280" y="1804680"/>
            <a:ext cx="831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imbing pada pemilihan “nich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iksi situasi &amp; kondisi masa depan: “relatif akura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ghasilkan pilihan strategi yg “jitu” (“memadai”: sesuai konteks, asumsi yg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igunak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an boundary sistem yg dibuat)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kan hanya daftar elemen S, W, O,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pi merupakan hasil analisa matrix yg komprehensif dan holisti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padukan dg isu strateg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rbagai tehnik penyusunan priorit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aminan sinergi / koherensi / alignment / hitungan multiplier effects, 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matic program selectio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sternal: relevan dgn kebutuhan masyara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: sesuai dgn tingkat kapasitas internal yg dimil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rimakasih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rimakasi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ilihan Model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esepakatan inte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sional “Teaching University” (Klasik, collegi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/Research-Base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preneuria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awa konsekuensi pada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Model Manaj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dak a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 model cocok utk semua (one fits for all), karena tiap institusi memiliki keunik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0912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udaya akademik vs budaya korporas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porat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fit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bg motif ut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emic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cell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bg motif ut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kehol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cus: Mahasiswa, Sarjana, Riset, PP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guruan tinggi: dikelola dgn semangat korpo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pu kun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ver commerc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pu kuning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ebih baik…………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988640"/>
            <a:ext cx="8498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pengelolaan PT perlu ditetapk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k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sisten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sipasi masyara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nteks PHK: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u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emilih fokus dan “niche”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2240" y="1736280"/>
            <a:ext cx="851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berdaya yg tersedia terba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pasitas internal terba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dak ada jalan pintas: membutuhkan sumberdaya yg besar dan waktu yg 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ng target”: yg ditiru juga tdk sta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jadi” Harvard, ITB, Oxford, UI, IPB, atau UGM bukan sasaran yg realis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us memilih fo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kus ≠ academic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nia nyata tidak mengenal academic discip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mpir semua masalah di dunia nyata bersifat multi disiplin dan lintas disip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086600" y="838080"/>
            <a:ext cx="2057400" cy="6019920"/>
            <a:chOff x="7086600" y="838080"/>
            <a:chExt cx="2057400" cy="6019920"/>
          </a:xfrm>
        </p:grpSpPr>
        <p:sp>
          <p:nvSpPr>
            <p:cNvPr id="101" name=""/>
            <p:cNvSpPr/>
            <p:nvPr/>
          </p:nvSpPr>
          <p:spPr>
            <a:xfrm>
              <a:off x="7086600" y="838080"/>
              <a:ext cx="2057400" cy="60199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6019920"/>
                <a:gd name="textAreaBottom" fmla="*/ 5919480 h 6019920"/>
              </a:gdLst>
              <a:ahLst/>
              <a:rect l="textAreaLeft" t="textAreaTop" r="textAreaRight" b="textAreaBottom"/>
              <a:pathLst>
                <a:path w="21600" h="63194">
                  <a:moveTo>
                    <a:pt x="3600" y="0"/>
                  </a:moveTo>
                  <a:arcTo wR="3600" hR="3600" stAng="16200000" swAng="-5400000"/>
                  <a:lnTo>
                    <a:pt x="0" y="59594"/>
                  </a:lnTo>
                  <a:arcTo wR="3600" hR="3600" stAng="10800000" swAng="-5400000"/>
                  <a:lnTo>
                    <a:pt x="18000" y="63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86600" y="838080"/>
              <a:ext cx="1905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External Stakeholder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514600" y="160020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95200" y="1981080"/>
            <a:ext cx="138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981080"/>
            <a:ext cx="0" cy="47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44792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65600" y="1353960"/>
            <a:ext cx="1806480" cy="2035800"/>
            <a:chOff x="2865600" y="1353960"/>
            <a:chExt cx="1806480" cy="2035800"/>
          </a:xfrm>
        </p:grpSpPr>
        <p:sp>
          <p:nvSpPr>
            <p:cNvPr id="108" name=""/>
            <p:cNvSpPr/>
            <p:nvPr/>
          </p:nvSpPr>
          <p:spPr>
            <a:xfrm>
              <a:off x="2865600" y="1353960"/>
              <a:ext cx="1806480" cy="1544400"/>
            </a:xfrm>
            <a:prstGeom prst="rect">
              <a:avLst/>
            </a:prstGeom>
            <a:solidFill>
              <a:srgbClr val="e1e1b7"/>
            </a:solidFill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41640" y="1393560"/>
              <a:ext cx="583920" cy="809280"/>
              <a:chOff x="3041640" y="1393560"/>
              <a:chExt cx="583920" cy="80928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3174840" y="1522800"/>
                <a:ext cx="146880" cy="7164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43080" y="1603800"/>
                <a:ext cx="218880" cy="35388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215160" y="1716840"/>
                <a:ext cx="70560" cy="6156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141720" y="1601280"/>
                <a:ext cx="483480" cy="60156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282120" y="1393560"/>
                <a:ext cx="248760" cy="25164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305880" y="1491120"/>
                <a:ext cx="111240" cy="12240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398040" y="1539360"/>
                <a:ext cx="11880" cy="93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3069000" y="1795320"/>
                <a:ext cx="86040" cy="11160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304800" y="1397520"/>
                <a:ext cx="64440" cy="4932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304080" y="144144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323880" y="14911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3279600" y="1470600"/>
                <a:ext cx="37080" cy="4104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317040" y="1524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324240" y="153108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332520" y="1544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318120" y="1566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353040" y="1546200"/>
                <a:ext cx="54000" cy="6732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349800" y="159300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341880" y="1442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3760" y="14443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51600" y="144288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2280" y="1503360"/>
                <a:ext cx="11880" cy="234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441600" y="156132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380040" y="1394640"/>
                <a:ext cx="55080" cy="6192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418920" y="1398600"/>
                <a:ext cx="90720" cy="174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506040" y="156384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38000" y="1475640"/>
                <a:ext cx="28440" cy="921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00560" y="1539360"/>
                <a:ext cx="11880" cy="1512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408840" y="1495080"/>
                <a:ext cx="22680" cy="4932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423600" y="151308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439440" y="15296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405600" y="1575000"/>
                <a:ext cx="52560" cy="11016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384000" y="160524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455640" y="1579320"/>
                <a:ext cx="42840" cy="5220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503520" y="1587240"/>
                <a:ext cx="53640" cy="10044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403440" y="16876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393360" y="1700280"/>
                <a:ext cx="82440" cy="8928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380040" y="1766520"/>
                <a:ext cx="91080" cy="9612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331440" y="1780200"/>
                <a:ext cx="113760" cy="6048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381480" y="1657440"/>
                <a:ext cx="21240" cy="8532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201840" y="1701720"/>
                <a:ext cx="420120" cy="39096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521880" y="1771920"/>
                <a:ext cx="56160" cy="11160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49600" y="18997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267000" y="1751400"/>
                <a:ext cx="123120" cy="56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318120" y="1839240"/>
                <a:ext cx="50040" cy="10044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581640" y="1803600"/>
                <a:ext cx="43920" cy="18576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307320" y="18586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495600" y="199224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440160" y="2023920"/>
                <a:ext cx="184320" cy="1530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453120" y="2097000"/>
                <a:ext cx="89640" cy="327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451320" y="218376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435840" y="217116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421440" y="2077200"/>
                <a:ext cx="118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6880" y="1703160"/>
                <a:ext cx="140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287160" y="153216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285000" y="15310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273840" y="15559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043080" y="1541880"/>
                <a:ext cx="247680" cy="9756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204720" y="1517400"/>
                <a:ext cx="309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277080" y="15228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239280" y="1524240"/>
                <a:ext cx="3456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267000" y="152820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293280" y="157644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178080" y="1657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182040" y="1547640"/>
                <a:ext cx="12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3259800" y="16203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3178080" y="1678320"/>
                <a:ext cx="81360" cy="6300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64680" y="1603800"/>
                <a:ext cx="11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133440" y="1706040"/>
                <a:ext cx="118440" cy="15948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3258360" y="190152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280680" y="1873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266640" y="1878120"/>
                <a:ext cx="10440" cy="3816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254400" y="18615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3211560" y="1851840"/>
                <a:ext cx="28440" cy="468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3154320" y="1882080"/>
                <a:ext cx="81360" cy="702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3079800" y="1791360"/>
                <a:ext cx="50040" cy="327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3116880" y="187236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3081240" y="1855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079800" y="1888920"/>
                <a:ext cx="46440" cy="2484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066840" y="184068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3057480" y="185580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042720" y="1927800"/>
                <a:ext cx="122040" cy="3024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3041640" y="1646640"/>
                <a:ext cx="1080" cy="27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351960" y="174852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325320" y="1643760"/>
                <a:ext cx="50040" cy="9648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3258000" y="172080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3693960" y="2055600"/>
              <a:ext cx="91872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3790800" y="1417320"/>
              <a:ext cx="82512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907360" y="2638080"/>
              <a:ext cx="17078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ses Belaj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engajar; Riset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2954160" y="2071440"/>
              <a:ext cx="65052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1072440" y="1455840"/>
            <a:ext cx="1738080" cy="1351080"/>
            <a:chOff x="1072440" y="1455840"/>
            <a:chExt cx="1738080" cy="1351080"/>
          </a:xfrm>
        </p:grpSpPr>
        <p:sp>
          <p:nvSpPr>
            <p:cNvPr id="201" name=""/>
            <p:cNvSpPr/>
            <p:nvPr/>
          </p:nvSpPr>
          <p:spPr>
            <a:xfrm>
              <a:off x="1072440" y="243864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lon Mahasi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608120" y="1455840"/>
              <a:ext cx="8031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4095000" y="2202840"/>
            <a:ext cx="3272760" cy="3183840"/>
            <a:chOff x="4095000" y="2202840"/>
            <a:chExt cx="3272760" cy="3183840"/>
          </a:xfrm>
        </p:grpSpPr>
        <p:sp>
          <p:nvSpPr>
            <p:cNvPr id="204" name=""/>
            <p:cNvSpPr/>
            <p:nvPr/>
          </p:nvSpPr>
          <p:spPr>
            <a:xfrm flipH="1" rot="2479200">
              <a:off x="4342680" y="2895480"/>
              <a:ext cx="2776320" cy="1798560"/>
            </a:xfrm>
            <a:prstGeom prst="rightArrow">
              <a:avLst>
                <a:gd name="adj1" fmla="val 75343"/>
                <a:gd name="adj2" fmla="val 56342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867560" y="3104280"/>
              <a:ext cx="2060280" cy="1984320"/>
              <a:chOff x="4867560" y="3104280"/>
              <a:chExt cx="2060280" cy="1984320"/>
            </a:xfrm>
          </p:grpSpPr>
          <p:pic>
            <p:nvPicPr>
              <p:cNvPr id="2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26240" y="3899880"/>
                <a:ext cx="110160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67560" y="3104280"/>
                <a:ext cx="109980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5603400" y="4254120"/>
                <a:ext cx="122940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Siste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enjamin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ut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874880" y="76320"/>
            <a:ext cx="577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3ce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Benguiat Bk BT"/>
              </a:rPr>
              <a:t>MANAJEMEN P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914400"/>
            <a:ext cx="701028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921360" y="1447920"/>
            <a:ext cx="2298960" cy="5183640"/>
            <a:chOff x="6921360" y="1447920"/>
            <a:chExt cx="2298960" cy="5183640"/>
          </a:xfrm>
        </p:grpSpPr>
        <p:sp>
          <p:nvSpPr>
            <p:cNvPr id="212" name=""/>
            <p:cNvSpPr/>
            <p:nvPr/>
          </p:nvSpPr>
          <p:spPr>
            <a:xfrm>
              <a:off x="7924680" y="64008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4680" y="5005440"/>
              <a:ext cx="228600" cy="228600"/>
            </a:xfrm>
            <a:prstGeom prst="downArrow">
              <a:avLst>
                <a:gd name="adj1" fmla="val 56944"/>
                <a:gd name="adj2" fmla="val 5138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8680" y="1447920"/>
              <a:ext cx="1360440" cy="188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921360" y="1584360"/>
              <a:ext cx="2298960" cy="5047200"/>
              <a:chOff x="6921360" y="1584360"/>
              <a:chExt cx="2298960" cy="5047200"/>
            </a:xfrm>
          </p:grpSpPr>
          <p:pic>
            <p:nvPicPr>
              <p:cNvPr id="21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3800" y="5310360"/>
                <a:ext cx="10414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7324560" y="623268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Demand P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7043040" y="1584360"/>
                <a:ext cx="2014200" cy="2106000"/>
                <a:chOff x="7043040" y="1584360"/>
                <a:chExt cx="2014200" cy="2106000"/>
              </a:xfrm>
            </p:grpSpPr>
            <p:pic>
              <p:nvPicPr>
                <p:cNvPr id="2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473960" y="1584360"/>
                  <a:ext cx="119376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15200" y="2367000"/>
                  <a:ext cx="1241280" cy="83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7043040" y="3121200"/>
                  <a:ext cx="20142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 “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Pasar”/Duni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kerja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921360" y="3505320"/>
                <a:ext cx="2298960" cy="2108520"/>
                <a:chOff x="6921360" y="3505320"/>
                <a:chExt cx="2298960" cy="21085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914960" y="3505320"/>
                  <a:ext cx="228600" cy="228600"/>
                </a:xfrm>
                <a:prstGeom prst="downArrow">
                  <a:avLst>
                    <a:gd name="adj1" fmla="val 56944"/>
                    <a:gd name="adj2" fmla="val 51389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6921360" y="3733920"/>
                  <a:ext cx="2298960" cy="1879920"/>
                  <a:chOff x="6921360" y="3733920"/>
                  <a:chExt cx="2298960" cy="1879920"/>
                </a:xfrm>
              </p:grpSpPr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10040" y="3733920"/>
                    <a:ext cx="9144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6" name=""/>
                  <p:cNvSpPr/>
                  <p:nvPr/>
                </p:nvSpPr>
                <p:spPr>
                  <a:xfrm>
                    <a:off x="6921360" y="4422600"/>
                    <a:ext cx="229896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“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Apresiasi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Masyarakat Luas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emerintah, Swasta,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GOs, dl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7" name=""/>
          <p:cNvGrpSpPr/>
          <p:nvPr/>
        </p:nvGrpSpPr>
        <p:grpSpPr>
          <a:xfrm>
            <a:off x="914400" y="3352320"/>
            <a:ext cx="6061320" cy="3331440"/>
            <a:chOff x="914400" y="3352320"/>
            <a:chExt cx="6061320" cy="3331440"/>
          </a:xfrm>
        </p:grpSpPr>
        <p:sp>
          <p:nvSpPr>
            <p:cNvPr id="228" name=""/>
            <p:cNvSpPr/>
            <p:nvPr/>
          </p:nvSpPr>
          <p:spPr>
            <a:xfrm rot="16200000">
              <a:off x="2131920" y="2134800"/>
              <a:ext cx="3279960" cy="57150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5715000"/>
                <a:gd name="textAreaBottom" fmla="*/ 5715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916" y="0"/>
                  </a:lnTo>
                  <a:lnTo>
                    <a:pt x="21600" y="10800"/>
                  </a:lnTo>
                  <a:lnTo>
                    <a:pt x="59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092320" y="4863960"/>
              <a:ext cx="3487680" cy="986040"/>
              <a:chOff x="2092320" y="4863960"/>
              <a:chExt cx="3487680" cy="986040"/>
            </a:xfrm>
          </p:grpSpPr>
          <p:sp>
            <p:nvSpPr>
              <p:cNvPr id="230" name=""/>
              <p:cNvSpPr/>
              <p:nvPr/>
            </p:nvSpPr>
            <p:spPr>
              <a:xfrm>
                <a:off x="2092320" y="4863960"/>
                <a:ext cx="3487680" cy="822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6520" y="4946760"/>
                <a:ext cx="870120" cy="72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9840" y="4927680"/>
                <a:ext cx="100332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43240" y="4938840"/>
                <a:ext cx="136836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125880" y="534816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MANAJEM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970720" y="3925800"/>
              <a:ext cx="1678680" cy="924480"/>
              <a:chOff x="2970720" y="3925800"/>
              <a:chExt cx="1678680" cy="924480"/>
            </a:xfrm>
          </p:grpSpPr>
          <p:sp>
            <p:nvSpPr>
              <p:cNvPr id="236" name=""/>
              <p:cNvSpPr/>
              <p:nvPr/>
            </p:nvSpPr>
            <p:spPr>
              <a:xfrm>
                <a:off x="3235320" y="3925800"/>
                <a:ext cx="1155600" cy="89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7" name=""/>
              <p:cNvGraphicFramePr/>
              <p:nvPr/>
            </p:nvGraphicFramePr>
            <p:xfrm>
              <a:off x="3247920" y="3948120"/>
              <a:ext cx="1032120" cy="687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38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247920" y="3948120"/>
                        <a:ext cx="103212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"/>
              <p:cNvSpPr/>
              <p:nvPr/>
            </p:nvSpPr>
            <p:spPr>
              <a:xfrm>
                <a:off x="2970720" y="4451400"/>
                <a:ext cx="16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Kepemimpin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914400" y="5571360"/>
              <a:ext cx="6061320" cy="1112400"/>
              <a:chOff x="914400" y="5571360"/>
              <a:chExt cx="6061320" cy="11124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914400" y="5721480"/>
                <a:ext cx="5697000" cy="962280"/>
                <a:chOff x="914400" y="5721480"/>
                <a:chExt cx="5697000" cy="9622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914400" y="5721480"/>
                  <a:ext cx="5697000" cy="90144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e1e1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877840" y="6284880"/>
                  <a:ext cx="180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Benguiat Bk BT"/>
                    </a:rPr>
                    <a:t>SUMBERDAY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677600" y="5753160"/>
                <a:ext cx="1180440" cy="891360"/>
                <a:chOff x="1677600" y="5753160"/>
                <a:chExt cx="1180440" cy="891360"/>
              </a:xfrm>
            </p:grpSpPr>
            <p:pic>
              <p:nvPicPr>
                <p:cNvPr id="24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66880" y="5753160"/>
                  <a:ext cx="103680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>
                  <a:off x="1677600" y="6307200"/>
                  <a:ext cx="1180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Dosen&amp;Sta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9160" y="5715000"/>
                <a:ext cx="1404360" cy="679320"/>
                <a:chOff x="3359160" y="5715000"/>
                <a:chExt cx="1404360" cy="67932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4280" y="5715000"/>
                  <a:ext cx="106848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>
                  <a:off x="3359160" y="6026040"/>
                  <a:ext cx="140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Fasilitas Fisi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496760" y="5780160"/>
                <a:ext cx="1253520" cy="849960"/>
                <a:chOff x="4496760" y="5780160"/>
                <a:chExt cx="1253520" cy="8499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811400" y="5780160"/>
                  <a:ext cx="384120" cy="547560"/>
                  <a:chOff x="4811400" y="5780160"/>
                  <a:chExt cx="384120" cy="547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990680" y="5899680"/>
                    <a:ext cx="15876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3010">
                        <a:moveTo>
                          <a:pt x="707" y="1346"/>
                        </a:moveTo>
                        <a:lnTo>
                          <a:pt x="707" y="2408"/>
                        </a:lnTo>
                        <a:lnTo>
                          <a:pt x="494" y="3010"/>
                        </a:lnTo>
                        <a:lnTo>
                          <a:pt x="1307" y="3010"/>
                        </a:lnTo>
                        <a:lnTo>
                          <a:pt x="1307" y="462"/>
                        </a:lnTo>
                        <a:lnTo>
                          <a:pt x="458" y="0"/>
                        </a:lnTo>
                        <a:lnTo>
                          <a:pt x="0" y="920"/>
                        </a:lnTo>
                        <a:lnTo>
                          <a:pt x="707" y="134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4839840" y="6058080"/>
                    <a:ext cx="236520" cy="196920"/>
                    <a:chOff x="4839840" y="6058080"/>
                    <a:chExt cx="236520" cy="196920"/>
                  </a:xfrm>
                </p:grpSpPr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4839840" y="6103080"/>
                      <a:ext cx="154800" cy="151920"/>
                      <a:chOff x="4839840" y="6103080"/>
                      <a:chExt cx="154800" cy="151920"/>
                    </a:xfrm>
                  </p:grpSpPr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839840" y="6103080"/>
                        <a:ext cx="154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1241">
                            <a:moveTo>
                              <a:pt x="42" y="574"/>
                            </a:moveTo>
                            <a:lnTo>
                              <a:pt x="669" y="889"/>
                            </a:lnTo>
                            <a:lnTo>
                              <a:pt x="635" y="956"/>
                            </a:lnTo>
                            <a:lnTo>
                              <a:pt x="740" y="1100"/>
                            </a:lnTo>
                            <a:lnTo>
                              <a:pt x="954" y="639"/>
                            </a:lnTo>
                            <a:lnTo>
                              <a:pt x="989" y="462"/>
                            </a:lnTo>
                            <a:lnTo>
                              <a:pt x="908" y="514"/>
                            </a:lnTo>
                            <a:lnTo>
                              <a:pt x="177" y="141"/>
                            </a:lnTo>
                            <a:lnTo>
                              <a:pt x="247" y="0"/>
                            </a:lnTo>
                            <a:lnTo>
                              <a:pt x="1095" y="390"/>
                            </a:lnTo>
                            <a:lnTo>
                              <a:pt x="1129" y="321"/>
                            </a:lnTo>
                            <a:lnTo>
                              <a:pt x="1270" y="390"/>
                            </a:lnTo>
                            <a:lnTo>
                              <a:pt x="1200" y="568"/>
                            </a:lnTo>
                            <a:lnTo>
                              <a:pt x="1023" y="709"/>
                            </a:lnTo>
                            <a:lnTo>
                              <a:pt x="774" y="1241"/>
                            </a:lnTo>
                            <a:lnTo>
                              <a:pt x="424" y="1030"/>
                            </a:lnTo>
                            <a:lnTo>
                              <a:pt x="0" y="673"/>
                            </a:lnTo>
                            <a:lnTo>
                              <a:pt x="42" y="57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840920" y="6172920"/>
                        <a:ext cx="8064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388">
                            <a:moveTo>
                              <a:pt x="32" y="0"/>
                            </a:moveTo>
                            <a:lnTo>
                              <a:pt x="661" y="317"/>
                            </a:lnTo>
                            <a:lnTo>
                              <a:pt x="625" y="388"/>
                            </a:lnTo>
                            <a:lnTo>
                              <a:pt x="0" y="7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52440" y="6058080"/>
                      <a:ext cx="223920" cy="84240"/>
                      <a:chOff x="4852440" y="6058080"/>
                      <a:chExt cx="223920" cy="842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4852440" y="6058080"/>
                        <a:ext cx="2239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6" h="691">
                            <a:moveTo>
                              <a:pt x="80" y="0"/>
                            </a:moveTo>
                            <a:lnTo>
                              <a:pt x="1173" y="549"/>
                            </a:lnTo>
                            <a:lnTo>
                              <a:pt x="1836" y="549"/>
                            </a:lnTo>
                            <a:lnTo>
                              <a:pt x="1836" y="691"/>
                            </a:lnTo>
                            <a:lnTo>
                              <a:pt x="1042" y="691"/>
                            </a:lnTo>
                            <a:lnTo>
                              <a:pt x="0" y="159"/>
                            </a:lnTo>
                            <a:lnTo>
                              <a:pt x="8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4856760" y="6073200"/>
                        <a:ext cx="13104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858920" y="6084000"/>
                      <a:ext cx="1206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583">
                          <a:moveTo>
                            <a:pt x="54" y="0"/>
                          </a:moveTo>
                          <a:lnTo>
                            <a:pt x="0" y="113"/>
                          </a:lnTo>
                          <a:lnTo>
                            <a:pt x="938" y="583"/>
                          </a:lnTo>
                          <a:lnTo>
                            <a:pt x="990" y="468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4908600" y="5780160"/>
                    <a:ext cx="180360" cy="297720"/>
                    <a:chOff x="4908600" y="5780160"/>
                    <a:chExt cx="180360" cy="29772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921200" y="6018840"/>
                      <a:ext cx="51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76">
                          <a:moveTo>
                            <a:pt x="105" y="0"/>
                          </a:moveTo>
                          <a:lnTo>
                            <a:pt x="0" y="213"/>
                          </a:lnTo>
                          <a:lnTo>
                            <a:pt x="326" y="376"/>
                          </a:lnTo>
                          <a:lnTo>
                            <a:pt x="426" y="177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4938840" y="5869440"/>
                      <a:ext cx="111960" cy="155880"/>
                      <a:chOff x="4938840" y="5869440"/>
                      <a:chExt cx="111960" cy="15588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4938840" y="5869440"/>
                        <a:ext cx="11196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1275">
                            <a:moveTo>
                              <a:pt x="530" y="0"/>
                            </a:moveTo>
                            <a:lnTo>
                              <a:pt x="918" y="211"/>
                            </a:lnTo>
                            <a:lnTo>
                              <a:pt x="390" y="1275"/>
                            </a:lnTo>
                            <a:lnTo>
                              <a:pt x="0" y="1061"/>
                            </a:lnTo>
                            <a:lnTo>
                              <a:pt x="53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4951800" y="5882400"/>
                        <a:ext cx="730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1062">
                            <a:moveTo>
                              <a:pt x="529" y="0"/>
                            </a:moveTo>
                            <a:lnTo>
                              <a:pt x="0" y="1026"/>
                            </a:lnTo>
                            <a:lnTo>
                              <a:pt x="71" y="1062"/>
                            </a:lnTo>
                            <a:lnTo>
                              <a:pt x="597" y="40"/>
                            </a:lnTo>
                            <a:lnTo>
                              <a:pt x="529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4994640" y="5780160"/>
                      <a:ext cx="94320" cy="123840"/>
                      <a:chOff x="4994640" y="5780160"/>
                      <a:chExt cx="94320" cy="12384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5034960" y="5793120"/>
                        <a:ext cx="4284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446">
                            <a:moveTo>
                              <a:pt x="179" y="0"/>
                            </a:moveTo>
                            <a:lnTo>
                              <a:pt x="0" y="327"/>
                            </a:lnTo>
                            <a:lnTo>
                              <a:pt x="205" y="446"/>
                            </a:lnTo>
                            <a:lnTo>
                              <a:pt x="354" y="88"/>
                            </a:lnTo>
                            <a:lnTo>
                              <a:pt x="179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5016960" y="5846760"/>
                        <a:ext cx="3744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255">
                            <a:moveTo>
                              <a:pt x="66" y="0"/>
                            </a:moveTo>
                            <a:lnTo>
                              <a:pt x="0" y="114"/>
                            </a:lnTo>
                            <a:lnTo>
                              <a:pt x="249" y="255"/>
                            </a:lnTo>
                            <a:lnTo>
                              <a:pt x="309" y="132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9" name=""/>
                      <p:cNvGrpSpPr/>
                      <p:nvPr/>
                    </p:nvGrpSpPr>
                    <p:grpSpPr>
                      <a:xfrm>
                        <a:off x="4994640" y="5852160"/>
                        <a:ext cx="68400" cy="51840"/>
                        <a:chOff x="4994640" y="5852160"/>
                        <a:chExt cx="68400" cy="51840"/>
                      </a:xfrm>
                    </p:grpSpPr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4994640" y="5852160"/>
                          <a:ext cx="6840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425">
                              <a:moveTo>
                                <a:pt x="70" y="0"/>
                              </a:moveTo>
                              <a:lnTo>
                                <a:pt x="564" y="283"/>
                              </a:lnTo>
                              <a:lnTo>
                                <a:pt x="494" y="425"/>
                              </a:lnTo>
                              <a:lnTo>
                                <a:pt x="0" y="142"/>
                              </a:lnTo>
                              <a:lnTo>
                                <a:pt x="7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1" name=""/>
                        <p:cNvGrpSpPr/>
                        <p:nvPr/>
                      </p:nvGrpSpPr>
                      <p:grpSpPr>
                        <a:xfrm>
                          <a:off x="4997520" y="5853960"/>
                          <a:ext cx="62280" cy="48600"/>
                          <a:chOff x="4997520" y="5853960"/>
                          <a:chExt cx="62280" cy="48600"/>
                        </a:xfrm>
                      </p:grpSpPr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 flipH="1">
                            <a:off x="4997520" y="585396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3" name=""/>
                          <p:cNvSpPr/>
                          <p:nvPr/>
                        </p:nvSpPr>
                        <p:spPr>
                          <a:xfrm flipH="1">
                            <a:off x="5004720" y="5857920"/>
                            <a:ext cx="864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4" name=""/>
                          <p:cNvSpPr/>
                          <p:nvPr/>
                        </p:nvSpPr>
                        <p:spPr>
                          <a:xfrm flipH="1">
                            <a:off x="5051520" y="58856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 flipH="1">
                            <a:off x="5000400" y="58554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6" name=""/>
                          <p:cNvSpPr/>
                          <p:nvPr/>
                        </p:nvSpPr>
                        <p:spPr>
                          <a:xfrm flipH="1">
                            <a:off x="5010120" y="5861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" name=""/>
                          <p:cNvSpPr/>
                          <p:nvPr/>
                        </p:nvSpPr>
                        <p:spPr>
                          <a:xfrm flipH="1">
                            <a:off x="5025960" y="5870520"/>
                            <a:ext cx="792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" name=""/>
                          <p:cNvSpPr/>
                          <p:nvPr/>
                        </p:nvSpPr>
                        <p:spPr>
                          <a:xfrm flipH="1">
                            <a:off x="5048280" y="5883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9" name=""/>
                          <p:cNvSpPr/>
                          <p:nvPr/>
                        </p:nvSpPr>
                        <p:spPr>
                          <a:xfrm flipH="1">
                            <a:off x="5043960" y="58813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0" name=""/>
                          <p:cNvSpPr/>
                          <p:nvPr/>
                        </p:nvSpPr>
                        <p:spPr>
                          <a:xfrm flipH="1">
                            <a:off x="5039640" y="58784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1" name=""/>
                          <p:cNvSpPr/>
                          <p:nvPr/>
                        </p:nvSpPr>
                        <p:spPr>
                          <a:xfrm flipH="1">
                            <a:off x="5034600" y="58748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2" name=""/>
                          <p:cNvSpPr/>
                          <p:nvPr/>
                        </p:nvSpPr>
                        <p:spPr>
                          <a:xfrm flipH="1">
                            <a:off x="5017320" y="58654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3" name=""/>
                      <p:cNvGrpSpPr/>
                      <p:nvPr/>
                    </p:nvGrpSpPr>
                    <p:grpSpPr>
                      <a:xfrm>
                        <a:off x="5016240" y="5826240"/>
                        <a:ext cx="55800" cy="43560"/>
                        <a:chOff x="5016240" y="5826240"/>
                        <a:chExt cx="55800" cy="43560"/>
                      </a:xfrm>
                    </p:grpSpPr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5016240" y="5826240"/>
                          <a:ext cx="55800" cy="4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0" h="357">
                              <a:moveTo>
                                <a:pt x="0" y="138"/>
                              </a:moveTo>
                              <a:lnTo>
                                <a:pt x="385" y="357"/>
                              </a:lnTo>
                              <a:lnTo>
                                <a:pt x="460" y="213"/>
                              </a:lnTo>
                              <a:lnTo>
                                <a:pt x="68" y="0"/>
                              </a:lnTo>
                              <a:lnTo>
                                <a:pt x="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5" name=""/>
                        <p:cNvGrpSpPr/>
                        <p:nvPr/>
                      </p:nvGrpSpPr>
                      <p:grpSpPr>
                        <a:xfrm>
                          <a:off x="5017680" y="5826960"/>
                          <a:ext cx="51480" cy="41400"/>
                          <a:chOff x="5017680" y="5826960"/>
                          <a:chExt cx="51480" cy="41400"/>
                        </a:xfrm>
                      </p:grpSpPr>
                      <p:sp>
                        <p:nvSpPr>
                          <p:cNvPr id="286" name=""/>
                          <p:cNvSpPr/>
                          <p:nvPr/>
                        </p:nvSpPr>
                        <p:spPr>
                          <a:xfrm flipH="1">
                            <a:off x="5037120" y="583776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7" name=""/>
                          <p:cNvSpPr/>
                          <p:nvPr/>
                        </p:nvSpPr>
                        <p:spPr>
                          <a:xfrm flipH="1">
                            <a:off x="5019840" y="582840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8" name=""/>
                          <p:cNvSpPr/>
                          <p:nvPr/>
                        </p:nvSpPr>
                        <p:spPr>
                          <a:xfrm flipH="1">
                            <a:off x="5054040" y="5847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 flipH="1">
                            <a:off x="5017680" y="582696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H="1">
                            <a:off x="5023080" y="582984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1" name=""/>
                          <p:cNvSpPr/>
                          <p:nvPr/>
                        </p:nvSpPr>
                        <p:spPr>
                          <a:xfrm flipH="1">
                            <a:off x="5031720" y="583488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2" name=""/>
                          <p:cNvSpPr/>
                          <p:nvPr/>
                        </p:nvSpPr>
                        <p:spPr>
                          <a:xfrm flipH="1">
                            <a:off x="5058720" y="58492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" name=""/>
                          <p:cNvSpPr/>
                          <p:nvPr/>
                        </p:nvSpPr>
                        <p:spPr>
                          <a:xfrm flipH="1">
                            <a:off x="5060880" y="58510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" name=""/>
                          <p:cNvSpPr/>
                          <p:nvPr/>
                        </p:nvSpPr>
                        <p:spPr>
                          <a:xfrm flipH="1">
                            <a:off x="5056560" y="5848560"/>
                            <a:ext cx="864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" name=""/>
                          <p:cNvSpPr/>
                          <p:nvPr/>
                        </p:nvSpPr>
                        <p:spPr>
                          <a:xfrm flipH="1">
                            <a:off x="5051520" y="584532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 flipH="1">
                            <a:off x="5027040" y="5832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 flipH="1">
                            <a:off x="5043240" y="5841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 flipH="1">
                            <a:off x="5047200" y="5843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" name=""/>
                      <p:cNvGrpSpPr/>
                      <p:nvPr/>
                    </p:nvGrpSpPr>
                    <p:grpSpPr>
                      <a:xfrm>
                        <a:off x="5051520" y="5780160"/>
                        <a:ext cx="37440" cy="27000"/>
                        <a:chOff x="5051520" y="5780160"/>
                        <a:chExt cx="37440" cy="27000"/>
                      </a:xfrm>
                    </p:grpSpPr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5051520" y="5780160"/>
                          <a:ext cx="374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19">
                              <a:moveTo>
                                <a:pt x="0" y="85"/>
                              </a:moveTo>
                              <a:lnTo>
                                <a:pt x="263" y="219"/>
                              </a:lnTo>
                              <a:lnTo>
                                <a:pt x="309" y="131"/>
                              </a:lnTo>
                              <a:lnTo>
                                <a:pt x="42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01" name=""/>
                        <p:cNvGrpSpPr/>
                        <p:nvPr/>
                      </p:nvGrpSpPr>
                      <p:grpSpPr>
                        <a:xfrm>
                          <a:off x="5051880" y="5780520"/>
                          <a:ext cx="35640" cy="25920"/>
                          <a:chOff x="5051880" y="5780520"/>
                          <a:chExt cx="35640" cy="25920"/>
                        </a:xfrm>
                      </p:grpSpPr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 flipH="1">
                            <a:off x="5051880" y="578052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 flipH="1">
                            <a:off x="5082480" y="57960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 flipH="1">
                            <a:off x="5052960" y="578124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5" name=""/>
                          <p:cNvSpPr/>
                          <p:nvPr/>
                        </p:nvSpPr>
                        <p:spPr>
                          <a:xfrm flipH="1">
                            <a:off x="5080680" y="579492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6" name=""/>
                          <p:cNvSpPr/>
                          <p:nvPr/>
                        </p:nvSpPr>
                        <p:spPr>
                          <a:xfrm flipH="1">
                            <a:off x="5054760" y="578196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7" name=""/>
                          <p:cNvSpPr/>
                          <p:nvPr/>
                        </p:nvSpPr>
                        <p:spPr>
                          <a:xfrm flipH="1">
                            <a:off x="5056560" y="57826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8" name=""/>
                          <p:cNvSpPr/>
                          <p:nvPr/>
                        </p:nvSpPr>
                        <p:spPr>
                          <a:xfrm flipH="1">
                            <a:off x="5079240" y="57942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9" name=""/>
                          <p:cNvSpPr/>
                          <p:nvPr/>
                        </p:nvSpPr>
                        <p:spPr>
                          <a:xfrm flipH="1">
                            <a:off x="5077080" y="579348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0" name=""/>
                          <p:cNvSpPr/>
                          <p:nvPr/>
                        </p:nvSpPr>
                        <p:spPr>
                          <a:xfrm flipH="1">
                            <a:off x="5058000" y="57837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1" name=""/>
                          <p:cNvSpPr/>
                          <p:nvPr/>
                        </p:nvSpPr>
                        <p:spPr>
                          <a:xfrm flipH="1">
                            <a:off x="5074560" y="579204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flipH="1">
                            <a:off x="5061240" y="57852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flipH="1">
                            <a:off x="5072040" y="57909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flipH="1">
                            <a:off x="5064480" y="578700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flipH="1">
                            <a:off x="5068080" y="57888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4908600" y="6041160"/>
                      <a:ext cx="61200" cy="36720"/>
                      <a:chOff x="4908600" y="6041160"/>
                      <a:chExt cx="61200" cy="3672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908600" y="6041160"/>
                        <a:ext cx="6120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03">
                            <a:moveTo>
                              <a:pt x="36" y="0"/>
                            </a:moveTo>
                            <a:lnTo>
                              <a:pt x="502" y="235"/>
                            </a:lnTo>
                            <a:lnTo>
                              <a:pt x="468" y="303"/>
                            </a:lnTo>
                            <a:lnTo>
                              <a:pt x="0" y="70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8" name=""/>
                      <p:cNvGrpSpPr/>
                      <p:nvPr/>
                    </p:nvGrpSpPr>
                    <p:grpSpPr>
                      <a:xfrm>
                        <a:off x="4910400" y="6042600"/>
                        <a:ext cx="57240" cy="34560"/>
                        <a:chOff x="4910400" y="6042600"/>
                        <a:chExt cx="57240" cy="34560"/>
                      </a:xfrm>
                    </p:grpSpPr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 flipH="1">
                          <a:off x="4910400" y="60426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 flipH="1">
                          <a:off x="4912920" y="604368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 flipH="1">
                          <a:off x="4964040" y="606924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>
                          <a:off x="4915080" y="60447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 flipH="1">
                          <a:off x="4918680" y="60465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H="1">
                          <a:off x="4923360" y="604872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>
                          <a:off x="4928760" y="605124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H="1">
                          <a:off x="4933080" y="605340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H="1">
                          <a:off x="4961880" y="6068520"/>
                          <a:ext cx="3960" cy="7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H="1">
                          <a:off x="4959000" y="606708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H="1">
                          <a:off x="4957200" y="60660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H="1">
                          <a:off x="4955040" y="606456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H="1">
                          <a:off x="4952160" y="606276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H="1">
                          <a:off x="4947480" y="606132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H="1">
                          <a:off x="4943160" y="605844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H="1">
                          <a:off x="4938480" y="605592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4921200" y="5995080"/>
                      <a:ext cx="73080" cy="52920"/>
                      <a:chOff x="4921200" y="5995080"/>
                      <a:chExt cx="73080" cy="5292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4921200" y="5995080"/>
                        <a:ext cx="7308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432">
                            <a:moveTo>
                              <a:pt x="71" y="0"/>
                            </a:moveTo>
                            <a:lnTo>
                              <a:pt x="599" y="288"/>
                            </a:lnTo>
                            <a:lnTo>
                              <a:pt x="529" y="432"/>
                            </a:lnTo>
                            <a:lnTo>
                              <a:pt x="0" y="141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" name=""/>
                      <p:cNvGrpSpPr/>
                      <p:nvPr/>
                    </p:nvGrpSpPr>
                    <p:grpSpPr>
                      <a:xfrm>
                        <a:off x="4923720" y="5996880"/>
                        <a:ext cx="67320" cy="49680"/>
                        <a:chOff x="4923720" y="5996880"/>
                        <a:chExt cx="67320" cy="49680"/>
                      </a:xfrm>
                    </p:grpSpPr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4931280" y="6000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4982760" y="60292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4926960" y="59986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4936320" y="60033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4948560" y="60105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4980240" y="6027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4977000" y="6026040"/>
                          <a:ext cx="86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4973040" y="602352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956840" y="60148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4942440" y="600660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>
                          <a:off x="4968360" y="602136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>
                          <a:off x="4963680" y="601812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>
                          <a:off x="4923720" y="59968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4811400" y="6268320"/>
                    <a:ext cx="384120" cy="59400"/>
                    <a:chOff x="4811400" y="6268320"/>
                    <a:chExt cx="384120" cy="594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811400" y="6299640"/>
                      <a:ext cx="384120" cy="280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839840" y="6268320"/>
                      <a:ext cx="326520" cy="302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4" name=""/>
                <p:cNvSpPr/>
                <p:nvPr/>
              </p:nvSpPr>
              <p:spPr>
                <a:xfrm>
                  <a:off x="4496760" y="6292800"/>
                  <a:ext cx="125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Laborator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608560" y="5571360"/>
                <a:ext cx="910080" cy="818280"/>
                <a:chOff x="2608560" y="5571360"/>
                <a:chExt cx="910080" cy="81828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2608560" y="5571360"/>
                  <a:ext cx="910080" cy="735120"/>
                  <a:chOff x="2608560" y="5571360"/>
                  <a:chExt cx="910080" cy="73512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608560" y="5571360"/>
                    <a:ext cx="910080" cy="735120"/>
                    <a:chOff x="2608560" y="5571360"/>
                    <a:chExt cx="910080" cy="735120"/>
                  </a:xfrm>
                </p:grpSpPr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2608560" y="5571360"/>
                      <a:ext cx="910080" cy="735120"/>
                      <a:chOff x="2608560" y="5571360"/>
                      <a:chExt cx="910080" cy="735120"/>
                    </a:xfrm>
                  </p:grpSpPr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2608560" y="5571360"/>
                        <a:ext cx="910080" cy="735120"/>
                        <a:chOff x="2608560" y="5571360"/>
                        <a:chExt cx="910080" cy="73512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rot="1408800">
                          <a:off x="2638080" y="5847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200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2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rot="1408800">
                          <a:off x="2641320" y="58402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3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 rot="1408800">
                          <a:off x="2644920" y="5832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rot="1408800">
                          <a:off x="2647800" y="58248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rot="1408800">
                          <a:off x="2651400" y="58168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rot="1408800">
                          <a:off x="2654640" y="5808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9"/>
                              </a:lnTo>
                              <a:lnTo>
                                <a:pt x="2459" y="292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5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 rot="1408800">
                          <a:off x="2657880" y="58014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rot="1408800">
                          <a:off x="2661840" y="5793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3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 rot="1408800">
                          <a:off x="2665080" y="5785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6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6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 rot="1408800">
                          <a:off x="2668320" y="5778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 rot="1408800">
                          <a:off x="2671560" y="5770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6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rot="1408800">
                          <a:off x="2674800" y="57625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 rot="1408800">
                          <a:off x="2678400" y="5754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8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0"/>
                              </a:lnTo>
                              <a:lnTo>
                                <a:pt x="2276" y="416"/>
                              </a:lnTo>
                              <a:lnTo>
                                <a:pt x="2085" y="569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rot="1408800">
                          <a:off x="2681640" y="57470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6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rot="1408800">
                          <a:off x="2685240" y="57394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rot="1408800">
                          <a:off x="2688840" y="5731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4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2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 rot="1408800">
                          <a:off x="2692080" y="57240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 rot="1408800">
                          <a:off x="2695320" y="57164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5">
                              <a:moveTo>
                                <a:pt x="0" y="2050"/>
                              </a:moveTo>
                              <a:lnTo>
                                <a:pt x="1608" y="2855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18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7"/>
                              </a:lnTo>
                              <a:lnTo>
                                <a:pt x="1363" y="1100"/>
                              </a:lnTo>
                              <a:lnTo>
                                <a:pt x="1084" y="1259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" name=""/>
                      <p:cNvGrpSpPr/>
                      <p:nvPr/>
                    </p:nvGrpSpPr>
                    <p:grpSpPr>
                      <a:xfrm>
                        <a:off x="2741400" y="5622480"/>
                        <a:ext cx="703080" cy="497880"/>
                        <a:chOff x="2741400" y="5622480"/>
                        <a:chExt cx="703080" cy="497880"/>
                      </a:xfrm>
                    </p:grpSpPr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 rot="1408800">
                          <a:off x="2765520" y="5742000"/>
                          <a:ext cx="654480" cy="25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5" h="2355">
                              <a:moveTo>
                                <a:pt x="0" y="1690"/>
                              </a:moveTo>
                              <a:lnTo>
                                <a:pt x="1325" y="2355"/>
                              </a:lnTo>
                              <a:lnTo>
                                <a:pt x="1536" y="2160"/>
                              </a:lnTo>
                              <a:lnTo>
                                <a:pt x="1733" y="1977"/>
                              </a:lnTo>
                              <a:lnTo>
                                <a:pt x="1923" y="1811"/>
                              </a:lnTo>
                              <a:lnTo>
                                <a:pt x="2138" y="1638"/>
                              </a:lnTo>
                              <a:lnTo>
                                <a:pt x="2295" y="1508"/>
                              </a:lnTo>
                              <a:lnTo>
                                <a:pt x="2519" y="1351"/>
                              </a:lnTo>
                              <a:lnTo>
                                <a:pt x="2748" y="1186"/>
                              </a:lnTo>
                              <a:lnTo>
                                <a:pt x="2939" y="1040"/>
                              </a:lnTo>
                              <a:lnTo>
                                <a:pt x="3112" y="923"/>
                              </a:lnTo>
                              <a:lnTo>
                                <a:pt x="3280" y="811"/>
                              </a:lnTo>
                              <a:lnTo>
                                <a:pt x="3447" y="701"/>
                              </a:lnTo>
                              <a:lnTo>
                                <a:pt x="3615" y="594"/>
                              </a:lnTo>
                              <a:lnTo>
                                <a:pt x="2421" y="0"/>
                              </a:lnTo>
                              <a:lnTo>
                                <a:pt x="2226" y="112"/>
                              </a:lnTo>
                              <a:lnTo>
                                <a:pt x="2026" y="239"/>
                              </a:lnTo>
                              <a:lnTo>
                                <a:pt x="1875" y="343"/>
                              </a:lnTo>
                              <a:lnTo>
                                <a:pt x="1718" y="470"/>
                              </a:lnTo>
                              <a:lnTo>
                                <a:pt x="1550" y="604"/>
                              </a:lnTo>
                              <a:lnTo>
                                <a:pt x="1385" y="747"/>
                              </a:lnTo>
                              <a:lnTo>
                                <a:pt x="1122" y="907"/>
                              </a:lnTo>
                              <a:lnTo>
                                <a:pt x="918" y="1022"/>
                              </a:lnTo>
                              <a:lnTo>
                                <a:pt x="677" y="1178"/>
                              </a:lnTo>
                              <a:lnTo>
                                <a:pt x="440" y="1343"/>
                              </a:lnTo>
                              <a:lnTo>
                                <a:pt x="225" y="1500"/>
                              </a:lnTo>
                              <a:lnTo>
                                <a:pt x="0" y="169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 rot="1408800">
                          <a:off x="2786400" y="5749200"/>
                          <a:ext cx="614520" cy="24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4" h="2221">
                              <a:moveTo>
                                <a:pt x="0" y="1612"/>
                              </a:moveTo>
                              <a:lnTo>
                                <a:pt x="1206" y="2221"/>
                              </a:lnTo>
                              <a:lnTo>
                                <a:pt x="1407" y="2022"/>
                              </a:lnTo>
                              <a:lnTo>
                                <a:pt x="1624" y="1831"/>
                              </a:lnTo>
                              <a:lnTo>
                                <a:pt x="1796" y="1679"/>
                              </a:lnTo>
                              <a:lnTo>
                                <a:pt x="1989" y="1524"/>
                              </a:lnTo>
                              <a:lnTo>
                                <a:pt x="2131" y="1409"/>
                              </a:lnTo>
                              <a:lnTo>
                                <a:pt x="2332" y="1267"/>
                              </a:lnTo>
                              <a:lnTo>
                                <a:pt x="2537" y="1118"/>
                              </a:lnTo>
                              <a:lnTo>
                                <a:pt x="2711" y="988"/>
                              </a:lnTo>
                              <a:lnTo>
                                <a:pt x="2868" y="881"/>
                              </a:lnTo>
                              <a:lnTo>
                                <a:pt x="3017" y="781"/>
                              </a:lnTo>
                              <a:lnTo>
                                <a:pt x="3195" y="667"/>
                              </a:lnTo>
                              <a:lnTo>
                                <a:pt x="3394" y="536"/>
                              </a:lnTo>
                              <a:lnTo>
                                <a:pt x="2308" y="0"/>
                              </a:lnTo>
                              <a:lnTo>
                                <a:pt x="2119" y="113"/>
                              </a:lnTo>
                              <a:lnTo>
                                <a:pt x="1927" y="229"/>
                              </a:lnTo>
                              <a:lnTo>
                                <a:pt x="1752" y="359"/>
                              </a:lnTo>
                              <a:lnTo>
                                <a:pt x="1610" y="472"/>
                              </a:lnTo>
                              <a:lnTo>
                                <a:pt x="1459" y="594"/>
                              </a:lnTo>
                              <a:lnTo>
                                <a:pt x="1312" y="723"/>
                              </a:lnTo>
                              <a:lnTo>
                                <a:pt x="1074" y="865"/>
                              </a:lnTo>
                              <a:lnTo>
                                <a:pt x="891" y="972"/>
                              </a:lnTo>
                              <a:lnTo>
                                <a:pt x="674" y="1110"/>
                              </a:lnTo>
                              <a:lnTo>
                                <a:pt x="473" y="1261"/>
                              </a:lnTo>
                              <a:lnTo>
                                <a:pt x="265" y="1414"/>
                              </a:lnTo>
                              <a:lnTo>
                                <a:pt x="0" y="1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1" name=""/>
                    <p:cNvGrpSpPr/>
                    <p:nvPr/>
                  </p:nvGrpSpPr>
                  <p:grpSpPr>
                    <a:xfrm>
                      <a:off x="2815560" y="5804280"/>
                      <a:ext cx="562320" cy="132120"/>
                      <a:chOff x="2815560" y="5804280"/>
                      <a:chExt cx="562320" cy="132120"/>
                    </a:xfrm>
                  </p:grpSpPr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2815560" y="5808240"/>
                        <a:ext cx="62640" cy="9360"/>
                        <a:chOff x="2815560" y="5808240"/>
                        <a:chExt cx="62640" cy="936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 flipV="1">
                          <a:off x="2815560" y="580824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 flipV="1">
                          <a:off x="2824920" y="581616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5" name=""/>
                      <p:cNvGrpSpPr/>
                      <p:nvPr/>
                    </p:nvGrpSpPr>
                    <p:grpSpPr>
                      <a:xfrm>
                        <a:off x="2954880" y="5921280"/>
                        <a:ext cx="59400" cy="15120"/>
                        <a:chOff x="2954880" y="5921280"/>
                        <a:chExt cx="59400" cy="15120"/>
                      </a:xfrm>
                    </p:grpSpPr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 flipV="1">
                          <a:off x="2954880" y="5921280"/>
                          <a:ext cx="4752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 flipV="1">
                          <a:off x="2966400" y="5931360"/>
                          <a:ext cx="4788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8" name=""/>
                      <p:cNvGrpSpPr/>
                      <p:nvPr/>
                    </p:nvGrpSpPr>
                    <p:grpSpPr>
                      <a:xfrm>
                        <a:off x="3321000" y="5914800"/>
                        <a:ext cx="56880" cy="11160"/>
                        <a:chOff x="3321000" y="5914800"/>
                        <a:chExt cx="56880" cy="11160"/>
                      </a:xfrm>
                    </p:grpSpPr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 flipV="1">
                          <a:off x="3332160" y="5924880"/>
                          <a:ext cx="45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flipH="1" flipV="1">
                          <a:off x="3321000" y="5914800"/>
                          <a:ext cx="450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3197880" y="5810040"/>
                        <a:ext cx="53280" cy="10440"/>
                        <a:chOff x="3197880" y="5810040"/>
                        <a:chExt cx="53280" cy="1044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flipH="1" flipV="1">
                          <a:off x="3197880" y="5810040"/>
                          <a:ext cx="4392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flipH="1" flipV="1">
                          <a:off x="3206880" y="5818320"/>
                          <a:ext cx="4428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3042360" y="5804280"/>
                        <a:ext cx="167040" cy="127800"/>
                        <a:chOff x="3042360" y="5804280"/>
                        <a:chExt cx="167040" cy="12780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1408800">
                          <a:off x="3051000" y="5830560"/>
                          <a:ext cx="1486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rot="1408800">
                          <a:off x="3051720" y="5830920"/>
                          <a:ext cx="1486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97" name=""/>
                  <p:cNvSpPr/>
                  <p:nvPr/>
                </p:nvSpPr>
                <p:spPr>
                  <a:xfrm rot="1408800">
                    <a:off x="2972520" y="5822640"/>
                    <a:ext cx="252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" h="2070">
                        <a:moveTo>
                          <a:pt x="0" y="0"/>
                        </a:moveTo>
                        <a:lnTo>
                          <a:pt x="1397" y="723"/>
                        </a:lnTo>
                        <a:lnTo>
                          <a:pt x="1395" y="207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777040" y="6021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915120" y="5843520"/>
                <a:ext cx="936720" cy="631080"/>
                <a:chOff x="915120" y="5843520"/>
                <a:chExt cx="936720" cy="63108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946080" y="5843520"/>
                  <a:ext cx="800280" cy="384120"/>
                  <a:chOff x="946080" y="5843520"/>
                  <a:chExt cx="800280" cy="3841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050840" y="6041880"/>
                    <a:ext cx="592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541">
                        <a:moveTo>
                          <a:pt x="0" y="540"/>
                        </a:moveTo>
                        <a:lnTo>
                          <a:pt x="0" y="0"/>
                        </a:lnTo>
                        <a:lnTo>
                          <a:pt x="3888" y="0"/>
                        </a:lnTo>
                        <a:lnTo>
                          <a:pt x="3888" y="541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352520" y="593892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241280" y="5843520"/>
                    <a:ext cx="209520" cy="95400"/>
                  </a:xfrm>
                  <a:prstGeom prst="rect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946080" y="6132600"/>
                    <a:ext cx="800280" cy="95040"/>
                    <a:chOff x="946080" y="6132600"/>
                    <a:chExt cx="800280" cy="9504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4452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53684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94608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8" name=""/>
                <p:cNvSpPr/>
                <p:nvPr/>
              </p:nvSpPr>
              <p:spPr>
                <a:xfrm>
                  <a:off x="915120" y="6167520"/>
                  <a:ext cx="93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Organisa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869800" y="5715000"/>
                <a:ext cx="1105920" cy="834840"/>
                <a:chOff x="5869800" y="5715000"/>
                <a:chExt cx="1105920" cy="8348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869800" y="6181560"/>
                  <a:ext cx="110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Kuriku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5945040" y="5715000"/>
                  <a:ext cx="579240" cy="614160"/>
                  <a:chOff x="5945040" y="5715000"/>
                  <a:chExt cx="579240" cy="614160"/>
                </a:xfrm>
              </p:grpSpPr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6032160" y="5715000"/>
                    <a:ext cx="492120" cy="614160"/>
                    <a:chOff x="6032160" y="5715000"/>
                    <a:chExt cx="492120" cy="6141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234840" y="5721120"/>
                      <a:ext cx="1756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1" h="1468">
                          <a:moveTo>
                            <a:pt x="1338" y="0"/>
                          </a:moveTo>
                          <a:lnTo>
                            <a:pt x="1178" y="382"/>
                          </a:lnTo>
                          <a:lnTo>
                            <a:pt x="426" y="252"/>
                          </a:lnTo>
                          <a:lnTo>
                            <a:pt x="160" y="417"/>
                          </a:lnTo>
                          <a:lnTo>
                            <a:pt x="0" y="711"/>
                          </a:lnTo>
                          <a:lnTo>
                            <a:pt x="68" y="964"/>
                          </a:lnTo>
                          <a:lnTo>
                            <a:pt x="492" y="1175"/>
                          </a:lnTo>
                          <a:lnTo>
                            <a:pt x="2222" y="1468"/>
                          </a:lnTo>
                          <a:lnTo>
                            <a:pt x="2189" y="1175"/>
                          </a:lnTo>
                          <a:lnTo>
                            <a:pt x="2316" y="922"/>
                          </a:lnTo>
                          <a:lnTo>
                            <a:pt x="2641" y="839"/>
                          </a:lnTo>
                          <a:lnTo>
                            <a:pt x="2549" y="627"/>
                          </a:lnTo>
                          <a:lnTo>
                            <a:pt x="1896" y="503"/>
                          </a:lnTo>
                          <a:lnTo>
                            <a:pt x="2056" y="210"/>
                          </a:lnTo>
                          <a:lnTo>
                            <a:pt x="1338" y="0"/>
                          </a:lnTo>
                          <a:close/>
                        </a:path>
                      </a:pathLst>
                    </a:custGeom>
                    <a:solidFill>
                      <a:srgbClr val="00eaff"/>
                    </a:solidFill>
                    <a:ln w="0">
                      <a:solidFill>
                        <a:srgbClr val="00ea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6240960" y="5751000"/>
                      <a:ext cx="13896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8" h="676">
                          <a:moveTo>
                            <a:pt x="59" y="0"/>
                          </a:moveTo>
                          <a:lnTo>
                            <a:pt x="2088" y="382"/>
                          </a:lnTo>
                          <a:lnTo>
                            <a:pt x="1923" y="505"/>
                          </a:lnTo>
                          <a:lnTo>
                            <a:pt x="1821" y="676"/>
                          </a:lnTo>
                          <a:lnTo>
                            <a:pt x="1729" y="547"/>
                          </a:lnTo>
                          <a:lnTo>
                            <a:pt x="1630" y="630"/>
                          </a:lnTo>
                          <a:lnTo>
                            <a:pt x="1529" y="505"/>
                          </a:lnTo>
                          <a:lnTo>
                            <a:pt x="1336" y="547"/>
                          </a:lnTo>
                          <a:lnTo>
                            <a:pt x="1272" y="466"/>
                          </a:lnTo>
                          <a:lnTo>
                            <a:pt x="1077" y="505"/>
                          </a:lnTo>
                          <a:lnTo>
                            <a:pt x="1010" y="422"/>
                          </a:lnTo>
                          <a:lnTo>
                            <a:pt x="846" y="466"/>
                          </a:lnTo>
                          <a:lnTo>
                            <a:pt x="777" y="382"/>
                          </a:lnTo>
                          <a:lnTo>
                            <a:pt x="617" y="466"/>
                          </a:lnTo>
                          <a:lnTo>
                            <a:pt x="553" y="340"/>
                          </a:lnTo>
                          <a:lnTo>
                            <a:pt x="391" y="382"/>
                          </a:lnTo>
                          <a:lnTo>
                            <a:pt x="360" y="254"/>
                          </a:lnTo>
                          <a:lnTo>
                            <a:pt x="127" y="340"/>
                          </a:lnTo>
                          <a:lnTo>
                            <a:pt x="94" y="210"/>
                          </a:lnTo>
                          <a:lnTo>
                            <a:pt x="0" y="129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088680" y="6122880"/>
                      <a:ext cx="27864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7" h="2181">
                          <a:moveTo>
                            <a:pt x="0" y="1215"/>
                          </a:moveTo>
                          <a:lnTo>
                            <a:pt x="2872" y="1805"/>
                          </a:lnTo>
                          <a:lnTo>
                            <a:pt x="4177" y="0"/>
                          </a:lnTo>
                          <a:lnTo>
                            <a:pt x="2805" y="2181"/>
                          </a:lnTo>
                          <a:lnTo>
                            <a:pt x="0" y="12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135120" y="5715000"/>
                      <a:ext cx="3729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2" h="2694">
                          <a:moveTo>
                            <a:pt x="0" y="2694"/>
                          </a:moveTo>
                          <a:lnTo>
                            <a:pt x="459" y="2104"/>
                          </a:lnTo>
                          <a:lnTo>
                            <a:pt x="685" y="1418"/>
                          </a:lnTo>
                          <a:lnTo>
                            <a:pt x="770" y="1023"/>
                          </a:lnTo>
                          <a:lnTo>
                            <a:pt x="846" y="531"/>
                          </a:lnTo>
                          <a:lnTo>
                            <a:pt x="1471" y="713"/>
                          </a:lnTo>
                          <a:lnTo>
                            <a:pt x="1686" y="432"/>
                          </a:lnTo>
                          <a:lnTo>
                            <a:pt x="1923" y="337"/>
                          </a:lnTo>
                          <a:lnTo>
                            <a:pt x="2688" y="425"/>
                          </a:lnTo>
                          <a:lnTo>
                            <a:pt x="2820" y="50"/>
                          </a:lnTo>
                          <a:lnTo>
                            <a:pt x="3218" y="0"/>
                          </a:lnTo>
                          <a:lnTo>
                            <a:pt x="3503" y="83"/>
                          </a:lnTo>
                          <a:lnTo>
                            <a:pt x="3686" y="337"/>
                          </a:lnTo>
                          <a:lnTo>
                            <a:pt x="3613" y="630"/>
                          </a:lnTo>
                          <a:lnTo>
                            <a:pt x="4332" y="757"/>
                          </a:lnTo>
                          <a:lnTo>
                            <a:pt x="4459" y="1049"/>
                          </a:lnTo>
                          <a:lnTo>
                            <a:pt x="4459" y="1221"/>
                          </a:lnTo>
                          <a:lnTo>
                            <a:pt x="5294" y="1316"/>
                          </a:lnTo>
                          <a:lnTo>
                            <a:pt x="5602" y="1316"/>
                          </a:lnTo>
                          <a:lnTo>
                            <a:pt x="4487" y="1304"/>
                          </a:lnTo>
                          <a:lnTo>
                            <a:pt x="3806" y="1137"/>
                          </a:lnTo>
                          <a:lnTo>
                            <a:pt x="3686" y="1418"/>
                          </a:lnTo>
                          <a:lnTo>
                            <a:pt x="3914" y="1515"/>
                          </a:lnTo>
                          <a:lnTo>
                            <a:pt x="3707" y="1943"/>
                          </a:lnTo>
                          <a:lnTo>
                            <a:pt x="1764" y="1611"/>
                          </a:lnTo>
                          <a:lnTo>
                            <a:pt x="1962" y="1176"/>
                          </a:lnTo>
                          <a:lnTo>
                            <a:pt x="3602" y="1475"/>
                          </a:lnTo>
                          <a:lnTo>
                            <a:pt x="3525" y="1221"/>
                          </a:lnTo>
                          <a:lnTo>
                            <a:pt x="3613" y="1023"/>
                          </a:lnTo>
                          <a:lnTo>
                            <a:pt x="3936" y="757"/>
                          </a:lnTo>
                          <a:lnTo>
                            <a:pt x="3149" y="630"/>
                          </a:lnTo>
                          <a:lnTo>
                            <a:pt x="3378" y="337"/>
                          </a:lnTo>
                          <a:lnTo>
                            <a:pt x="3310" y="171"/>
                          </a:lnTo>
                          <a:lnTo>
                            <a:pt x="3073" y="138"/>
                          </a:lnTo>
                          <a:lnTo>
                            <a:pt x="2923" y="171"/>
                          </a:lnTo>
                          <a:lnTo>
                            <a:pt x="2762" y="531"/>
                          </a:lnTo>
                          <a:lnTo>
                            <a:pt x="1934" y="425"/>
                          </a:lnTo>
                          <a:lnTo>
                            <a:pt x="1630" y="674"/>
                          </a:lnTo>
                          <a:lnTo>
                            <a:pt x="1614" y="918"/>
                          </a:lnTo>
                          <a:lnTo>
                            <a:pt x="1764" y="1122"/>
                          </a:lnTo>
                          <a:lnTo>
                            <a:pt x="1923" y="1221"/>
                          </a:lnTo>
                          <a:lnTo>
                            <a:pt x="1614" y="1122"/>
                          </a:lnTo>
                          <a:lnTo>
                            <a:pt x="1459" y="1023"/>
                          </a:lnTo>
                          <a:lnTo>
                            <a:pt x="1459" y="823"/>
                          </a:lnTo>
                          <a:lnTo>
                            <a:pt x="913" y="674"/>
                          </a:lnTo>
                          <a:lnTo>
                            <a:pt x="685" y="1805"/>
                          </a:lnTo>
                          <a:lnTo>
                            <a:pt x="0" y="26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032160" y="5808600"/>
                      <a:ext cx="4921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2" h="7285">
                          <a:moveTo>
                            <a:pt x="6995" y="102"/>
                          </a:moveTo>
                          <a:lnTo>
                            <a:pt x="5916" y="2362"/>
                          </a:lnTo>
                          <a:lnTo>
                            <a:pt x="4689" y="4226"/>
                          </a:lnTo>
                          <a:lnTo>
                            <a:pt x="3536" y="5806"/>
                          </a:lnTo>
                          <a:lnTo>
                            <a:pt x="1927" y="5612"/>
                          </a:lnTo>
                          <a:lnTo>
                            <a:pt x="998" y="5414"/>
                          </a:lnTo>
                          <a:lnTo>
                            <a:pt x="3536" y="6006"/>
                          </a:lnTo>
                          <a:lnTo>
                            <a:pt x="4463" y="4923"/>
                          </a:lnTo>
                          <a:lnTo>
                            <a:pt x="5386" y="3548"/>
                          </a:lnTo>
                          <a:lnTo>
                            <a:pt x="6451" y="1571"/>
                          </a:lnTo>
                          <a:lnTo>
                            <a:pt x="5226" y="4039"/>
                          </a:lnTo>
                          <a:lnTo>
                            <a:pt x="3733" y="6513"/>
                          </a:lnTo>
                          <a:lnTo>
                            <a:pt x="5840" y="3445"/>
                          </a:lnTo>
                          <a:lnTo>
                            <a:pt x="5043" y="5127"/>
                          </a:lnTo>
                          <a:lnTo>
                            <a:pt x="3995" y="6888"/>
                          </a:lnTo>
                          <a:lnTo>
                            <a:pt x="2806" y="6513"/>
                          </a:lnTo>
                          <a:lnTo>
                            <a:pt x="1697" y="6216"/>
                          </a:lnTo>
                          <a:lnTo>
                            <a:pt x="0" y="5907"/>
                          </a:lnTo>
                          <a:lnTo>
                            <a:pt x="2225" y="6490"/>
                          </a:lnTo>
                          <a:lnTo>
                            <a:pt x="3767" y="7082"/>
                          </a:lnTo>
                          <a:lnTo>
                            <a:pt x="4153" y="7285"/>
                          </a:lnTo>
                          <a:lnTo>
                            <a:pt x="5916" y="3741"/>
                          </a:lnTo>
                          <a:lnTo>
                            <a:pt x="6995" y="1378"/>
                          </a:lnTo>
                          <a:lnTo>
                            <a:pt x="7382" y="295"/>
                          </a:lnTo>
                          <a:lnTo>
                            <a:pt x="7071" y="396"/>
                          </a:lnTo>
                          <a:lnTo>
                            <a:pt x="7225" y="0"/>
                          </a:lnTo>
                          <a:lnTo>
                            <a:pt x="6995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050880" y="6205320"/>
                      <a:ext cx="22320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3" h="1048">
                          <a:moveTo>
                            <a:pt x="0" y="0"/>
                          </a:moveTo>
                          <a:lnTo>
                            <a:pt x="3255" y="793"/>
                          </a:lnTo>
                          <a:lnTo>
                            <a:pt x="3353" y="10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" name=""/>
                  <p:cNvSpPr/>
                  <p:nvPr/>
                </p:nvSpPr>
                <p:spPr>
                  <a:xfrm>
                    <a:off x="5945040" y="5765040"/>
                    <a:ext cx="57852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5" h="800">
                        <a:moveTo>
                          <a:pt x="473" y="0"/>
                        </a:moveTo>
                        <a:lnTo>
                          <a:pt x="445" y="134"/>
                        </a:lnTo>
                        <a:cubicBezTo>
                          <a:pt x="407" y="194"/>
                          <a:pt x="336" y="290"/>
                          <a:pt x="246" y="362"/>
                        </a:cubicBezTo>
                        <a:cubicBezTo>
                          <a:pt x="156" y="434"/>
                          <a:pt x="0" y="585"/>
                          <a:pt x="3" y="650"/>
                        </a:cubicBezTo>
                        <a:lnTo>
                          <a:pt x="291" y="756"/>
                        </a:lnTo>
                        <a:cubicBezTo>
                          <a:pt x="392" y="781"/>
                          <a:pt x="501" y="796"/>
                          <a:pt x="609" y="800"/>
                        </a:cubicBezTo>
                        <a:cubicBezTo>
                          <a:pt x="700" y="748"/>
                          <a:pt x="781" y="542"/>
                          <a:pt x="865" y="428"/>
                        </a:cubicBezTo>
                        <a:cubicBezTo>
                          <a:pt x="949" y="314"/>
                          <a:pt x="1005" y="152"/>
                          <a:pt x="1041" y="90"/>
                        </a:cubicBezTo>
                        <a:cubicBezTo>
                          <a:pt x="1044" y="84"/>
                          <a:pt x="1085" y="78"/>
                          <a:pt x="1065" y="76"/>
                        </a:cubicBezTo>
                        <a:cubicBezTo>
                          <a:pt x="1045" y="74"/>
                          <a:pt x="962" y="81"/>
                          <a:pt x="923" y="78"/>
                        </a:cubicBezTo>
                        <a:lnTo>
                          <a:pt x="833" y="56"/>
                        </a:lnTo>
                        <a:lnTo>
                          <a:pt x="819" y="92"/>
                        </a:lnTo>
                        <a:lnTo>
                          <a:pt x="849" y="100"/>
                        </a:lnTo>
                        <a:lnTo>
                          <a:pt x="817" y="156"/>
                        </a:lnTo>
                        <a:lnTo>
                          <a:pt x="575" y="112"/>
                        </a:lnTo>
                        <a:lnTo>
                          <a:pt x="601" y="66"/>
                        </a:lnTo>
                        <a:lnTo>
                          <a:pt x="539" y="40"/>
                        </a:lnTo>
                        <a:lnTo>
                          <a:pt x="539" y="14"/>
                        </a:lnTo>
                        <a:lnTo>
                          <a:pt x="473" y="0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5028120" y="5715000"/>
                <a:ext cx="1275120" cy="689760"/>
                <a:chOff x="5028120" y="5715000"/>
                <a:chExt cx="1275120" cy="6897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449680" y="5715000"/>
                  <a:ext cx="387000" cy="474840"/>
                  <a:chOff x="5449680" y="5715000"/>
                  <a:chExt cx="387000" cy="4748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5498640" y="578160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1" h="3517">
                        <a:moveTo>
                          <a:pt x="23" y="3517"/>
                        </a:moveTo>
                        <a:lnTo>
                          <a:pt x="0" y="0"/>
                        </a:lnTo>
                        <a:lnTo>
                          <a:pt x="9" y="75"/>
                        </a:lnTo>
                        <a:lnTo>
                          <a:pt x="46" y="140"/>
                        </a:lnTo>
                        <a:lnTo>
                          <a:pt x="89" y="198"/>
                        </a:lnTo>
                        <a:lnTo>
                          <a:pt x="166" y="268"/>
                        </a:lnTo>
                        <a:lnTo>
                          <a:pt x="252" y="320"/>
                        </a:lnTo>
                        <a:lnTo>
                          <a:pt x="357" y="366"/>
                        </a:lnTo>
                        <a:lnTo>
                          <a:pt x="477" y="406"/>
                        </a:lnTo>
                        <a:lnTo>
                          <a:pt x="615" y="447"/>
                        </a:lnTo>
                        <a:lnTo>
                          <a:pt x="754" y="470"/>
                        </a:lnTo>
                        <a:lnTo>
                          <a:pt x="910" y="488"/>
                        </a:lnTo>
                        <a:lnTo>
                          <a:pt x="1068" y="492"/>
                        </a:lnTo>
                        <a:lnTo>
                          <a:pt x="1227" y="488"/>
                        </a:lnTo>
                        <a:lnTo>
                          <a:pt x="1375" y="477"/>
                        </a:lnTo>
                        <a:lnTo>
                          <a:pt x="1520" y="454"/>
                        </a:lnTo>
                        <a:lnTo>
                          <a:pt x="1663" y="431"/>
                        </a:lnTo>
                        <a:lnTo>
                          <a:pt x="1787" y="382"/>
                        </a:lnTo>
                        <a:lnTo>
                          <a:pt x="1901" y="343"/>
                        </a:lnTo>
                        <a:lnTo>
                          <a:pt x="1998" y="295"/>
                        </a:lnTo>
                        <a:lnTo>
                          <a:pt x="2086" y="232"/>
                        </a:lnTo>
                        <a:lnTo>
                          <a:pt x="2144" y="171"/>
                        </a:lnTo>
                        <a:lnTo>
                          <a:pt x="2178" y="106"/>
                        </a:lnTo>
                        <a:lnTo>
                          <a:pt x="2201" y="34"/>
                        </a:lnTo>
                        <a:lnTo>
                          <a:pt x="2201" y="0"/>
                        </a:lnTo>
                        <a:lnTo>
                          <a:pt x="2201" y="3517"/>
                        </a:lnTo>
                        <a:lnTo>
                          <a:pt x="23" y="35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583960" y="5726520"/>
                    <a:ext cx="738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0" h="3524">
                        <a:moveTo>
                          <a:pt x="23" y="3524"/>
                        </a:moveTo>
                        <a:lnTo>
                          <a:pt x="0" y="0"/>
                        </a:lnTo>
                        <a:lnTo>
                          <a:pt x="11" y="75"/>
                        </a:lnTo>
                        <a:lnTo>
                          <a:pt x="45" y="143"/>
                        </a:lnTo>
                        <a:lnTo>
                          <a:pt x="89" y="201"/>
                        </a:lnTo>
                        <a:lnTo>
                          <a:pt x="162" y="271"/>
                        </a:lnTo>
                        <a:lnTo>
                          <a:pt x="250" y="322"/>
                        </a:lnTo>
                        <a:lnTo>
                          <a:pt x="356" y="377"/>
                        </a:lnTo>
                        <a:lnTo>
                          <a:pt x="479" y="417"/>
                        </a:lnTo>
                        <a:lnTo>
                          <a:pt x="618" y="454"/>
                        </a:lnTo>
                        <a:lnTo>
                          <a:pt x="753" y="478"/>
                        </a:lnTo>
                        <a:lnTo>
                          <a:pt x="909" y="495"/>
                        </a:lnTo>
                        <a:lnTo>
                          <a:pt x="1066" y="497"/>
                        </a:lnTo>
                        <a:lnTo>
                          <a:pt x="1225" y="495"/>
                        </a:lnTo>
                        <a:lnTo>
                          <a:pt x="1370" y="485"/>
                        </a:lnTo>
                        <a:lnTo>
                          <a:pt x="1519" y="465"/>
                        </a:lnTo>
                        <a:lnTo>
                          <a:pt x="1660" y="435"/>
                        </a:lnTo>
                        <a:lnTo>
                          <a:pt x="1789" y="390"/>
                        </a:lnTo>
                        <a:lnTo>
                          <a:pt x="1900" y="350"/>
                        </a:lnTo>
                        <a:lnTo>
                          <a:pt x="2000" y="298"/>
                        </a:lnTo>
                        <a:lnTo>
                          <a:pt x="2085" y="234"/>
                        </a:lnTo>
                        <a:lnTo>
                          <a:pt x="2143" y="174"/>
                        </a:lnTo>
                        <a:lnTo>
                          <a:pt x="2177" y="109"/>
                        </a:lnTo>
                        <a:lnTo>
                          <a:pt x="2200" y="38"/>
                        </a:lnTo>
                        <a:lnTo>
                          <a:pt x="2200" y="0"/>
                        </a:lnTo>
                        <a:lnTo>
                          <a:pt x="2200" y="3524"/>
                        </a:lnTo>
                        <a:lnTo>
                          <a:pt x="23" y="35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668920" y="5753880"/>
                    <a:ext cx="7380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3514">
                        <a:moveTo>
                          <a:pt x="24" y="3514"/>
                        </a:moveTo>
                        <a:lnTo>
                          <a:pt x="0" y="0"/>
                        </a:lnTo>
                        <a:lnTo>
                          <a:pt x="11" y="74"/>
                        </a:lnTo>
                        <a:lnTo>
                          <a:pt x="45" y="134"/>
                        </a:lnTo>
                        <a:lnTo>
                          <a:pt x="89" y="195"/>
                        </a:lnTo>
                        <a:lnTo>
                          <a:pt x="166" y="263"/>
                        </a:lnTo>
                        <a:lnTo>
                          <a:pt x="254" y="321"/>
                        </a:lnTo>
                        <a:lnTo>
                          <a:pt x="356" y="368"/>
                        </a:lnTo>
                        <a:lnTo>
                          <a:pt x="476" y="410"/>
                        </a:lnTo>
                        <a:lnTo>
                          <a:pt x="619" y="449"/>
                        </a:lnTo>
                        <a:lnTo>
                          <a:pt x="757" y="472"/>
                        </a:lnTo>
                        <a:lnTo>
                          <a:pt x="911" y="490"/>
                        </a:lnTo>
                        <a:lnTo>
                          <a:pt x="1068" y="490"/>
                        </a:lnTo>
                        <a:lnTo>
                          <a:pt x="1225" y="490"/>
                        </a:lnTo>
                        <a:lnTo>
                          <a:pt x="1370" y="479"/>
                        </a:lnTo>
                        <a:lnTo>
                          <a:pt x="1521" y="456"/>
                        </a:lnTo>
                        <a:lnTo>
                          <a:pt x="1658" y="426"/>
                        </a:lnTo>
                        <a:lnTo>
                          <a:pt x="1793" y="381"/>
                        </a:lnTo>
                        <a:lnTo>
                          <a:pt x="1904" y="340"/>
                        </a:lnTo>
                        <a:lnTo>
                          <a:pt x="2004" y="290"/>
                        </a:lnTo>
                        <a:lnTo>
                          <a:pt x="2082" y="226"/>
                        </a:lnTo>
                        <a:lnTo>
                          <a:pt x="2143" y="165"/>
                        </a:lnTo>
                        <a:lnTo>
                          <a:pt x="2177" y="100"/>
                        </a:lnTo>
                        <a:lnTo>
                          <a:pt x="2197" y="32"/>
                        </a:lnTo>
                        <a:lnTo>
                          <a:pt x="2197" y="0"/>
                        </a:lnTo>
                        <a:lnTo>
                          <a:pt x="2197" y="3514"/>
                        </a:lnTo>
                        <a:lnTo>
                          <a:pt x="24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756760" y="578592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9" h="3514">
                        <a:moveTo>
                          <a:pt x="27" y="3514"/>
                        </a:moveTo>
                        <a:lnTo>
                          <a:pt x="0" y="0"/>
                        </a:lnTo>
                        <a:lnTo>
                          <a:pt x="15" y="73"/>
                        </a:lnTo>
                        <a:lnTo>
                          <a:pt x="51" y="142"/>
                        </a:lnTo>
                        <a:lnTo>
                          <a:pt x="92" y="195"/>
                        </a:lnTo>
                        <a:lnTo>
                          <a:pt x="169" y="263"/>
                        </a:lnTo>
                        <a:lnTo>
                          <a:pt x="257" y="321"/>
                        </a:lnTo>
                        <a:lnTo>
                          <a:pt x="357" y="367"/>
                        </a:lnTo>
                        <a:lnTo>
                          <a:pt x="483" y="410"/>
                        </a:lnTo>
                        <a:lnTo>
                          <a:pt x="621" y="445"/>
                        </a:lnTo>
                        <a:lnTo>
                          <a:pt x="759" y="470"/>
                        </a:lnTo>
                        <a:lnTo>
                          <a:pt x="913" y="487"/>
                        </a:lnTo>
                        <a:lnTo>
                          <a:pt x="1070" y="494"/>
                        </a:lnTo>
                        <a:lnTo>
                          <a:pt x="1228" y="487"/>
                        </a:lnTo>
                        <a:lnTo>
                          <a:pt x="1377" y="476"/>
                        </a:lnTo>
                        <a:lnTo>
                          <a:pt x="1528" y="456"/>
                        </a:lnTo>
                        <a:lnTo>
                          <a:pt x="1662" y="426"/>
                        </a:lnTo>
                        <a:lnTo>
                          <a:pt x="1788" y="382"/>
                        </a:lnTo>
                        <a:lnTo>
                          <a:pt x="1903" y="340"/>
                        </a:lnTo>
                        <a:lnTo>
                          <a:pt x="2000" y="287"/>
                        </a:lnTo>
                        <a:lnTo>
                          <a:pt x="2088" y="233"/>
                        </a:lnTo>
                        <a:lnTo>
                          <a:pt x="2145" y="168"/>
                        </a:lnTo>
                        <a:lnTo>
                          <a:pt x="2180" y="104"/>
                        </a:lnTo>
                        <a:lnTo>
                          <a:pt x="2199" y="34"/>
                        </a:lnTo>
                        <a:lnTo>
                          <a:pt x="2199" y="0"/>
                        </a:lnTo>
                        <a:lnTo>
                          <a:pt x="2199" y="3514"/>
                        </a:lnTo>
                        <a:lnTo>
                          <a:pt x="27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49680" y="5774400"/>
                    <a:ext cx="12924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1" h="10170">
                        <a:moveTo>
                          <a:pt x="0" y="6000"/>
                        </a:moveTo>
                        <a:lnTo>
                          <a:pt x="1309" y="0"/>
                        </a:lnTo>
                        <a:lnTo>
                          <a:pt x="1490" y="0"/>
                        </a:lnTo>
                        <a:lnTo>
                          <a:pt x="1481" y="3143"/>
                        </a:lnTo>
                        <a:lnTo>
                          <a:pt x="1481" y="3215"/>
                        </a:lnTo>
                        <a:lnTo>
                          <a:pt x="1513" y="3282"/>
                        </a:lnTo>
                        <a:lnTo>
                          <a:pt x="1562" y="3353"/>
                        </a:lnTo>
                        <a:lnTo>
                          <a:pt x="1636" y="3411"/>
                        </a:lnTo>
                        <a:lnTo>
                          <a:pt x="1731" y="3461"/>
                        </a:lnTo>
                        <a:lnTo>
                          <a:pt x="1821" y="3515"/>
                        </a:lnTo>
                        <a:lnTo>
                          <a:pt x="1946" y="3552"/>
                        </a:lnTo>
                        <a:lnTo>
                          <a:pt x="2082" y="3594"/>
                        </a:lnTo>
                        <a:lnTo>
                          <a:pt x="2223" y="3618"/>
                        </a:lnTo>
                        <a:lnTo>
                          <a:pt x="2368" y="3634"/>
                        </a:lnTo>
                        <a:lnTo>
                          <a:pt x="2519" y="3641"/>
                        </a:lnTo>
                        <a:lnTo>
                          <a:pt x="2681" y="3641"/>
                        </a:lnTo>
                        <a:lnTo>
                          <a:pt x="2819" y="3625"/>
                        </a:lnTo>
                        <a:lnTo>
                          <a:pt x="2964" y="3603"/>
                        </a:lnTo>
                        <a:lnTo>
                          <a:pt x="3107" y="3575"/>
                        </a:lnTo>
                        <a:lnTo>
                          <a:pt x="3225" y="3540"/>
                        </a:lnTo>
                        <a:lnTo>
                          <a:pt x="3340" y="3488"/>
                        </a:lnTo>
                        <a:lnTo>
                          <a:pt x="3447" y="3434"/>
                        </a:lnTo>
                        <a:lnTo>
                          <a:pt x="3521" y="3377"/>
                        </a:lnTo>
                        <a:lnTo>
                          <a:pt x="3579" y="3312"/>
                        </a:lnTo>
                        <a:lnTo>
                          <a:pt x="3618" y="3246"/>
                        </a:lnTo>
                        <a:lnTo>
                          <a:pt x="3633" y="3174"/>
                        </a:lnTo>
                        <a:lnTo>
                          <a:pt x="3643" y="3143"/>
                        </a:lnTo>
                        <a:lnTo>
                          <a:pt x="3643" y="0"/>
                        </a:lnTo>
                        <a:lnTo>
                          <a:pt x="3831" y="0"/>
                        </a:lnTo>
                        <a:lnTo>
                          <a:pt x="3831" y="3793"/>
                        </a:lnTo>
                        <a:lnTo>
                          <a:pt x="2556" y="9655"/>
                        </a:lnTo>
                        <a:lnTo>
                          <a:pt x="2499" y="9746"/>
                        </a:lnTo>
                        <a:lnTo>
                          <a:pt x="2445" y="9821"/>
                        </a:lnTo>
                        <a:lnTo>
                          <a:pt x="2368" y="9891"/>
                        </a:lnTo>
                        <a:lnTo>
                          <a:pt x="2280" y="9952"/>
                        </a:lnTo>
                        <a:lnTo>
                          <a:pt x="2159" y="10006"/>
                        </a:lnTo>
                        <a:lnTo>
                          <a:pt x="2034" y="10058"/>
                        </a:lnTo>
                        <a:lnTo>
                          <a:pt x="1896" y="10098"/>
                        </a:lnTo>
                        <a:lnTo>
                          <a:pt x="1744" y="10129"/>
                        </a:lnTo>
                        <a:lnTo>
                          <a:pt x="1590" y="10156"/>
                        </a:lnTo>
                        <a:lnTo>
                          <a:pt x="1424" y="10166"/>
                        </a:lnTo>
                        <a:lnTo>
                          <a:pt x="1259" y="10170"/>
                        </a:lnTo>
                        <a:lnTo>
                          <a:pt x="1091" y="10166"/>
                        </a:lnTo>
                        <a:lnTo>
                          <a:pt x="925" y="10147"/>
                        </a:lnTo>
                        <a:lnTo>
                          <a:pt x="769" y="10123"/>
                        </a:lnTo>
                        <a:lnTo>
                          <a:pt x="618" y="10088"/>
                        </a:lnTo>
                        <a:lnTo>
                          <a:pt x="483" y="10054"/>
                        </a:lnTo>
                        <a:lnTo>
                          <a:pt x="358" y="9997"/>
                        </a:lnTo>
                        <a:lnTo>
                          <a:pt x="250" y="9943"/>
                        </a:lnTo>
                        <a:lnTo>
                          <a:pt x="159" y="9875"/>
                        </a:lnTo>
                        <a:lnTo>
                          <a:pt x="84" y="9811"/>
                        </a:lnTo>
                        <a:lnTo>
                          <a:pt x="38" y="9737"/>
                        </a:lnTo>
                        <a:lnTo>
                          <a:pt x="4" y="9703"/>
                        </a:lnTo>
                        <a:lnTo>
                          <a:pt x="0" y="6000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578920" y="5715000"/>
                    <a:ext cx="25776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652" h="11636">
                        <a:moveTo>
                          <a:pt x="7473" y="4604"/>
                        </a:moveTo>
                        <a:lnTo>
                          <a:pt x="7473" y="4617"/>
                        </a:lnTo>
                        <a:lnTo>
                          <a:pt x="7457" y="4692"/>
                        </a:lnTo>
                        <a:lnTo>
                          <a:pt x="7415" y="4758"/>
                        </a:lnTo>
                        <a:lnTo>
                          <a:pt x="7351" y="4823"/>
                        </a:lnTo>
                        <a:lnTo>
                          <a:pt x="7285" y="4884"/>
                        </a:lnTo>
                        <a:lnTo>
                          <a:pt x="7185" y="4944"/>
                        </a:lnTo>
                        <a:lnTo>
                          <a:pt x="7072" y="4995"/>
                        </a:lnTo>
                        <a:lnTo>
                          <a:pt x="6943" y="5026"/>
                        </a:lnTo>
                        <a:lnTo>
                          <a:pt x="6812" y="5067"/>
                        </a:lnTo>
                        <a:lnTo>
                          <a:pt x="6670" y="5087"/>
                        </a:lnTo>
                        <a:lnTo>
                          <a:pt x="6516" y="5101"/>
                        </a:lnTo>
                        <a:lnTo>
                          <a:pt x="6356" y="5101"/>
                        </a:lnTo>
                        <a:lnTo>
                          <a:pt x="6201" y="5098"/>
                        </a:lnTo>
                        <a:lnTo>
                          <a:pt x="6052" y="5080"/>
                        </a:lnTo>
                        <a:lnTo>
                          <a:pt x="5905" y="5053"/>
                        </a:lnTo>
                        <a:lnTo>
                          <a:pt x="5776" y="5021"/>
                        </a:lnTo>
                        <a:lnTo>
                          <a:pt x="5655" y="4971"/>
                        </a:lnTo>
                        <a:lnTo>
                          <a:pt x="5548" y="4932"/>
                        </a:lnTo>
                        <a:lnTo>
                          <a:pt x="5453" y="4864"/>
                        </a:lnTo>
                        <a:lnTo>
                          <a:pt x="5388" y="4806"/>
                        </a:lnTo>
                        <a:lnTo>
                          <a:pt x="5335" y="4742"/>
                        </a:lnTo>
                        <a:lnTo>
                          <a:pt x="5304" y="4670"/>
                        </a:lnTo>
                        <a:lnTo>
                          <a:pt x="5295" y="4604"/>
                        </a:lnTo>
                        <a:lnTo>
                          <a:pt x="5277" y="4447"/>
                        </a:lnTo>
                        <a:lnTo>
                          <a:pt x="5277" y="1446"/>
                        </a:lnTo>
                        <a:lnTo>
                          <a:pt x="5099" y="1446"/>
                        </a:lnTo>
                        <a:lnTo>
                          <a:pt x="5099" y="749"/>
                        </a:lnTo>
                        <a:lnTo>
                          <a:pt x="4913" y="749"/>
                        </a:lnTo>
                        <a:lnTo>
                          <a:pt x="4913" y="3792"/>
                        </a:lnTo>
                        <a:lnTo>
                          <a:pt x="4911" y="3882"/>
                        </a:lnTo>
                        <a:lnTo>
                          <a:pt x="4911" y="3912"/>
                        </a:lnTo>
                        <a:lnTo>
                          <a:pt x="4889" y="3980"/>
                        </a:lnTo>
                        <a:lnTo>
                          <a:pt x="4854" y="4045"/>
                        </a:lnTo>
                        <a:lnTo>
                          <a:pt x="4796" y="4109"/>
                        </a:lnTo>
                        <a:lnTo>
                          <a:pt x="4719" y="4172"/>
                        </a:lnTo>
                        <a:lnTo>
                          <a:pt x="4612" y="4221"/>
                        </a:lnTo>
                        <a:lnTo>
                          <a:pt x="4505" y="4268"/>
                        </a:lnTo>
                        <a:lnTo>
                          <a:pt x="4371" y="4309"/>
                        </a:lnTo>
                        <a:lnTo>
                          <a:pt x="4236" y="4332"/>
                        </a:lnTo>
                        <a:lnTo>
                          <a:pt x="4083" y="4359"/>
                        </a:lnTo>
                        <a:lnTo>
                          <a:pt x="3925" y="4370"/>
                        </a:lnTo>
                        <a:lnTo>
                          <a:pt x="3780" y="4370"/>
                        </a:lnTo>
                        <a:lnTo>
                          <a:pt x="3621" y="4367"/>
                        </a:lnTo>
                        <a:lnTo>
                          <a:pt x="3471" y="4352"/>
                        </a:lnTo>
                        <a:lnTo>
                          <a:pt x="3333" y="4318"/>
                        </a:lnTo>
                        <a:lnTo>
                          <a:pt x="3190" y="4291"/>
                        </a:lnTo>
                        <a:lnTo>
                          <a:pt x="3065" y="4252"/>
                        </a:lnTo>
                        <a:lnTo>
                          <a:pt x="2965" y="4195"/>
                        </a:lnTo>
                        <a:lnTo>
                          <a:pt x="2880" y="4142"/>
                        </a:lnTo>
                        <a:lnTo>
                          <a:pt x="2803" y="4082"/>
                        </a:lnTo>
                        <a:lnTo>
                          <a:pt x="2750" y="4018"/>
                        </a:lnTo>
                        <a:lnTo>
                          <a:pt x="2722" y="3946"/>
                        </a:lnTo>
                        <a:lnTo>
                          <a:pt x="2715" y="3882"/>
                        </a:lnTo>
                        <a:lnTo>
                          <a:pt x="2732" y="3792"/>
                        </a:lnTo>
                        <a:lnTo>
                          <a:pt x="2732" y="749"/>
                        </a:lnTo>
                        <a:lnTo>
                          <a:pt x="2553" y="749"/>
                        </a:lnTo>
                        <a:lnTo>
                          <a:pt x="2553" y="0"/>
                        </a:lnTo>
                        <a:lnTo>
                          <a:pt x="2363" y="0"/>
                        </a:lnTo>
                        <a:lnTo>
                          <a:pt x="2363" y="3043"/>
                        </a:lnTo>
                        <a:lnTo>
                          <a:pt x="2367" y="3161"/>
                        </a:lnTo>
                        <a:lnTo>
                          <a:pt x="2363" y="3192"/>
                        </a:lnTo>
                        <a:lnTo>
                          <a:pt x="2344" y="3265"/>
                        </a:lnTo>
                        <a:lnTo>
                          <a:pt x="2310" y="3330"/>
                        </a:lnTo>
                        <a:lnTo>
                          <a:pt x="2251" y="3392"/>
                        </a:lnTo>
                        <a:lnTo>
                          <a:pt x="2169" y="3453"/>
                        </a:lnTo>
                        <a:lnTo>
                          <a:pt x="2067" y="3506"/>
                        </a:lnTo>
                        <a:lnTo>
                          <a:pt x="1956" y="3544"/>
                        </a:lnTo>
                        <a:lnTo>
                          <a:pt x="1825" y="3591"/>
                        </a:lnTo>
                        <a:lnTo>
                          <a:pt x="1690" y="3621"/>
                        </a:lnTo>
                        <a:lnTo>
                          <a:pt x="1537" y="3639"/>
                        </a:lnTo>
                        <a:lnTo>
                          <a:pt x="1390" y="3651"/>
                        </a:lnTo>
                        <a:lnTo>
                          <a:pt x="1230" y="3655"/>
                        </a:lnTo>
                        <a:lnTo>
                          <a:pt x="1076" y="3651"/>
                        </a:lnTo>
                        <a:lnTo>
                          <a:pt x="927" y="3635"/>
                        </a:lnTo>
                        <a:lnTo>
                          <a:pt x="784" y="3612"/>
                        </a:lnTo>
                        <a:lnTo>
                          <a:pt x="650" y="3571"/>
                        </a:lnTo>
                        <a:lnTo>
                          <a:pt x="526" y="3530"/>
                        </a:lnTo>
                        <a:lnTo>
                          <a:pt x="415" y="3483"/>
                        </a:lnTo>
                        <a:lnTo>
                          <a:pt x="328" y="3429"/>
                        </a:lnTo>
                        <a:lnTo>
                          <a:pt x="251" y="3353"/>
                        </a:lnTo>
                        <a:lnTo>
                          <a:pt x="205" y="3299"/>
                        </a:lnTo>
                        <a:lnTo>
                          <a:pt x="174" y="3233"/>
                        </a:lnTo>
                        <a:lnTo>
                          <a:pt x="173" y="3161"/>
                        </a:lnTo>
                        <a:lnTo>
                          <a:pt x="173" y="27"/>
                        </a:lnTo>
                        <a:lnTo>
                          <a:pt x="0" y="27"/>
                        </a:lnTo>
                        <a:lnTo>
                          <a:pt x="0" y="11053"/>
                        </a:lnTo>
                        <a:lnTo>
                          <a:pt x="0" y="11125"/>
                        </a:lnTo>
                        <a:lnTo>
                          <a:pt x="35" y="11199"/>
                        </a:lnTo>
                        <a:lnTo>
                          <a:pt x="81" y="11271"/>
                        </a:lnTo>
                        <a:lnTo>
                          <a:pt x="151" y="11341"/>
                        </a:lnTo>
                        <a:lnTo>
                          <a:pt x="243" y="11402"/>
                        </a:lnTo>
                        <a:lnTo>
                          <a:pt x="354" y="11459"/>
                        </a:lnTo>
                        <a:lnTo>
                          <a:pt x="480" y="11513"/>
                        </a:lnTo>
                        <a:lnTo>
                          <a:pt x="614" y="11559"/>
                        </a:lnTo>
                        <a:lnTo>
                          <a:pt x="766" y="11585"/>
                        </a:lnTo>
                        <a:lnTo>
                          <a:pt x="923" y="11612"/>
                        </a:lnTo>
                        <a:lnTo>
                          <a:pt x="1086" y="11632"/>
                        </a:lnTo>
                        <a:lnTo>
                          <a:pt x="1258" y="11636"/>
                        </a:lnTo>
                        <a:lnTo>
                          <a:pt x="1421" y="11632"/>
                        </a:lnTo>
                        <a:lnTo>
                          <a:pt x="1582" y="11616"/>
                        </a:lnTo>
                        <a:lnTo>
                          <a:pt x="1748" y="11593"/>
                        </a:lnTo>
                        <a:lnTo>
                          <a:pt x="1893" y="11562"/>
                        </a:lnTo>
                        <a:lnTo>
                          <a:pt x="2036" y="11524"/>
                        </a:lnTo>
                        <a:lnTo>
                          <a:pt x="2162" y="11473"/>
                        </a:lnTo>
                        <a:lnTo>
                          <a:pt x="2277" y="11423"/>
                        </a:lnTo>
                        <a:lnTo>
                          <a:pt x="2367" y="11348"/>
                        </a:lnTo>
                        <a:lnTo>
                          <a:pt x="2442" y="11283"/>
                        </a:lnTo>
                        <a:lnTo>
                          <a:pt x="2492" y="11210"/>
                        </a:lnTo>
                        <a:lnTo>
                          <a:pt x="2577" y="11199"/>
                        </a:lnTo>
                        <a:lnTo>
                          <a:pt x="2630" y="11271"/>
                        </a:lnTo>
                        <a:lnTo>
                          <a:pt x="2700" y="11341"/>
                        </a:lnTo>
                        <a:lnTo>
                          <a:pt x="2793" y="11402"/>
                        </a:lnTo>
                        <a:lnTo>
                          <a:pt x="2900" y="11459"/>
                        </a:lnTo>
                        <a:lnTo>
                          <a:pt x="3026" y="11513"/>
                        </a:lnTo>
                        <a:lnTo>
                          <a:pt x="3167" y="11559"/>
                        </a:lnTo>
                        <a:lnTo>
                          <a:pt x="3311" y="11585"/>
                        </a:lnTo>
                        <a:lnTo>
                          <a:pt x="3471" y="11612"/>
                        </a:lnTo>
                        <a:lnTo>
                          <a:pt x="3629" y="11632"/>
                        </a:lnTo>
                        <a:lnTo>
                          <a:pt x="3794" y="11636"/>
                        </a:lnTo>
                        <a:lnTo>
                          <a:pt x="3966" y="11632"/>
                        </a:lnTo>
                        <a:lnTo>
                          <a:pt x="4128" y="11616"/>
                        </a:lnTo>
                        <a:lnTo>
                          <a:pt x="4290" y="11593"/>
                        </a:lnTo>
                        <a:lnTo>
                          <a:pt x="4439" y="11562"/>
                        </a:lnTo>
                        <a:lnTo>
                          <a:pt x="4580" y="11524"/>
                        </a:lnTo>
                        <a:lnTo>
                          <a:pt x="4700" y="11473"/>
                        </a:lnTo>
                        <a:lnTo>
                          <a:pt x="4819" y="11423"/>
                        </a:lnTo>
                        <a:lnTo>
                          <a:pt x="4911" y="11348"/>
                        </a:lnTo>
                        <a:lnTo>
                          <a:pt x="4991" y="11283"/>
                        </a:lnTo>
                        <a:lnTo>
                          <a:pt x="5042" y="11210"/>
                        </a:lnTo>
                        <a:lnTo>
                          <a:pt x="5122" y="11199"/>
                        </a:lnTo>
                        <a:lnTo>
                          <a:pt x="5176" y="11271"/>
                        </a:lnTo>
                        <a:lnTo>
                          <a:pt x="5238" y="11341"/>
                        </a:lnTo>
                        <a:lnTo>
                          <a:pt x="5335" y="11402"/>
                        </a:lnTo>
                        <a:lnTo>
                          <a:pt x="5446" y="11459"/>
                        </a:lnTo>
                        <a:lnTo>
                          <a:pt x="5575" y="11513"/>
                        </a:lnTo>
                        <a:lnTo>
                          <a:pt x="5714" y="11559"/>
                        </a:lnTo>
                        <a:lnTo>
                          <a:pt x="5854" y="11585"/>
                        </a:lnTo>
                        <a:lnTo>
                          <a:pt x="6013" y="11612"/>
                        </a:lnTo>
                        <a:lnTo>
                          <a:pt x="6171" y="11632"/>
                        </a:lnTo>
                        <a:lnTo>
                          <a:pt x="6347" y="11636"/>
                        </a:lnTo>
                        <a:lnTo>
                          <a:pt x="6516" y="11632"/>
                        </a:lnTo>
                        <a:lnTo>
                          <a:pt x="6680" y="11616"/>
                        </a:lnTo>
                        <a:lnTo>
                          <a:pt x="6839" y="11593"/>
                        </a:lnTo>
                        <a:lnTo>
                          <a:pt x="6993" y="11562"/>
                        </a:lnTo>
                        <a:lnTo>
                          <a:pt x="7128" y="11524"/>
                        </a:lnTo>
                        <a:lnTo>
                          <a:pt x="7250" y="11473"/>
                        </a:lnTo>
                        <a:lnTo>
                          <a:pt x="7365" y="11423"/>
                        </a:lnTo>
                        <a:lnTo>
                          <a:pt x="7457" y="11348"/>
                        </a:lnTo>
                        <a:lnTo>
                          <a:pt x="7530" y="11283"/>
                        </a:lnTo>
                        <a:lnTo>
                          <a:pt x="7587" y="11210"/>
                        </a:lnTo>
                        <a:lnTo>
                          <a:pt x="7621" y="11138"/>
                        </a:lnTo>
                        <a:lnTo>
                          <a:pt x="7634" y="11067"/>
                        </a:lnTo>
                        <a:lnTo>
                          <a:pt x="7634" y="11053"/>
                        </a:lnTo>
                        <a:lnTo>
                          <a:pt x="7652" y="10915"/>
                        </a:lnTo>
                        <a:lnTo>
                          <a:pt x="7652" y="1446"/>
                        </a:lnTo>
                        <a:lnTo>
                          <a:pt x="7473" y="1446"/>
                        </a:lnTo>
                        <a:lnTo>
                          <a:pt x="7473" y="4447"/>
                        </a:lnTo>
                        <a:lnTo>
                          <a:pt x="7473" y="4604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5028120" y="6067440"/>
                  <a:ext cx="127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Perpustaka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9" name=""/>
          <p:cNvGrpSpPr/>
          <p:nvPr/>
        </p:nvGrpSpPr>
        <p:grpSpPr>
          <a:xfrm>
            <a:off x="4855320" y="1066680"/>
            <a:ext cx="1850400" cy="1905120"/>
            <a:chOff x="4855320" y="1066680"/>
            <a:chExt cx="1850400" cy="1905120"/>
          </a:xfrm>
        </p:grpSpPr>
        <p:grpSp>
          <p:nvGrpSpPr>
            <p:cNvPr id="430" name=""/>
            <p:cNvGrpSpPr/>
            <p:nvPr/>
          </p:nvGrpSpPr>
          <p:grpSpPr>
            <a:xfrm>
              <a:off x="5029200" y="1066680"/>
              <a:ext cx="1676520" cy="1905120"/>
              <a:chOff x="5029200" y="1066680"/>
              <a:chExt cx="1676520" cy="19051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486400" y="1066680"/>
                <a:ext cx="1219320" cy="1905120"/>
                <a:chOff x="5486400" y="1066680"/>
                <a:chExt cx="1219320" cy="19051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6400" y="1066680"/>
                  <a:ext cx="1219320" cy="1905120"/>
                </a:xfrm>
                <a:prstGeom prst="flowChartMultidocument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562720" y="1143000"/>
                  <a:ext cx="1066680" cy="16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 Narrow"/>
                    </a:rPr>
                    <a:t>Patents, HAKI, TTG, Artikel, Publikasi/ IPTEKS bermu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3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29200" y="1143000"/>
                <a:ext cx="630360" cy="11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"/>
            <p:cNvSpPr/>
            <p:nvPr/>
          </p:nvSpPr>
          <p:spPr>
            <a:xfrm>
              <a:off x="4855320" y="22305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arj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41920" y="2348280"/>
            <a:ext cx="3124800" cy="3045240"/>
            <a:chOff x="241920" y="2348280"/>
            <a:chExt cx="3124800" cy="3045240"/>
          </a:xfrm>
        </p:grpSpPr>
        <p:sp>
          <p:nvSpPr>
            <p:cNvPr id="437" name=""/>
            <p:cNvSpPr/>
            <p:nvPr/>
          </p:nvSpPr>
          <p:spPr>
            <a:xfrm rot="19120800">
              <a:off x="492120" y="2997000"/>
              <a:ext cx="2624040" cy="1747800"/>
            </a:xfrm>
            <a:prstGeom prst="rightArrow">
              <a:avLst>
                <a:gd name="adj1" fmla="val 75343"/>
                <a:gd name="adj2" fmla="val 54799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30440" y="3097440"/>
              <a:ext cx="1938600" cy="2084760"/>
              <a:chOff x="730440" y="3097440"/>
              <a:chExt cx="1938600" cy="2084760"/>
            </a:xfrm>
          </p:grpSpPr>
          <p:pic>
            <p:nvPicPr>
              <p:cNvPr id="43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82360" y="3744720"/>
                <a:ext cx="1143720" cy="774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40" name=""/>
              <p:cNvGraphicFramePr/>
              <p:nvPr/>
            </p:nvGraphicFramePr>
            <p:xfrm>
              <a:off x="1480680" y="3097440"/>
              <a:ext cx="1188360" cy="7920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441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480680" y="3097440"/>
                        <a:ext cx="118836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2" name=""/>
              <p:cNvSpPr/>
              <p:nvPr/>
            </p:nvSpPr>
            <p:spPr>
              <a:xfrm>
                <a:off x="730440" y="4430520"/>
                <a:ext cx="119736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asyarak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Akademik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&amp; Pegawa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6550200" y="1422360"/>
            <a:ext cx="841320" cy="1092240"/>
          </a:xfrm>
          <a:custGeom>
            <a:avLst/>
            <a:gdLst>
              <a:gd name="textAreaLeft" fmla="*/ 131400 w 841320"/>
              <a:gd name="textAreaRight" fmla="*/ 629280 w 841320"/>
              <a:gd name="textAreaTop" fmla="*/ 274680 h 1092240"/>
              <a:gd name="textAreaBottom" fmla="*/ 817560 h 1092240"/>
            </a:gdLst>
            <a:ahLst/>
            <a:rect l="textAreaLeft" t="textAreaTop" r="textAreaRight" b="textAreaBottom"/>
            <a:pathLst>
              <a:path w="21600" h="21600">
                <a:moveTo>
                  <a:pt x="3375" y="5432"/>
                </a:moveTo>
                <a:lnTo>
                  <a:pt x="10640" y="5432"/>
                </a:lnTo>
                <a:lnTo>
                  <a:pt x="10640" y="0"/>
                </a:lnTo>
                <a:lnTo>
                  <a:pt x="21600" y="10800"/>
                </a:lnTo>
                <a:lnTo>
                  <a:pt x="10640" y="21600"/>
                </a:lnTo>
                <a:lnTo>
                  <a:pt x="10640" y="16168"/>
                </a:lnTo>
                <a:lnTo>
                  <a:pt x="3375" y="16168"/>
                </a:lnTo>
                <a:close/>
              </a:path>
              <a:path w="21600" h="21600">
                <a:moveTo>
                  <a:pt x="0" y="5432"/>
                </a:moveTo>
                <a:lnTo>
                  <a:pt x="675" y="5432"/>
                </a:lnTo>
                <a:lnTo>
                  <a:pt x="675" y="16168"/>
                </a:lnTo>
                <a:lnTo>
                  <a:pt x="0" y="16168"/>
                </a:lnTo>
                <a:close/>
              </a:path>
              <a:path w="21600" h="21600">
                <a:moveTo>
                  <a:pt x="1350" y="5432"/>
                </a:moveTo>
                <a:lnTo>
                  <a:pt x="2700" y="5432"/>
                </a:lnTo>
                <a:lnTo>
                  <a:pt x="2700" y="16168"/>
                </a:lnTo>
                <a:lnTo>
                  <a:pt x="1350" y="16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04920" y="6553080"/>
            <a:ext cx="7629480" cy="152640"/>
            <a:chOff x="304920" y="6553080"/>
            <a:chExt cx="7629480" cy="152640"/>
          </a:xfrm>
        </p:grpSpPr>
        <p:sp>
          <p:nvSpPr>
            <p:cNvPr id="445" name=""/>
            <p:cNvSpPr/>
            <p:nvPr/>
          </p:nvSpPr>
          <p:spPr>
            <a:xfrm>
              <a:off x="304920" y="6705720"/>
              <a:ext cx="762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24680" y="65530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7086600" y="838080"/>
            <a:ext cx="2057400" cy="6019920"/>
            <a:chOff x="7086600" y="838080"/>
            <a:chExt cx="2057400" cy="6019920"/>
          </a:xfrm>
        </p:grpSpPr>
        <p:sp>
          <p:nvSpPr>
            <p:cNvPr id="448" name=""/>
            <p:cNvSpPr/>
            <p:nvPr/>
          </p:nvSpPr>
          <p:spPr>
            <a:xfrm>
              <a:off x="7086600" y="838080"/>
              <a:ext cx="2057400" cy="60199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6019920"/>
                <a:gd name="textAreaBottom" fmla="*/ 5919480 h 6019920"/>
              </a:gdLst>
              <a:ahLst/>
              <a:rect l="textAreaLeft" t="textAreaTop" r="textAreaRight" b="textAreaBottom"/>
              <a:pathLst>
                <a:path w="21600" h="63194">
                  <a:moveTo>
                    <a:pt x="3600" y="0"/>
                  </a:moveTo>
                  <a:arcTo wR="3600" hR="3600" stAng="16200000" swAng="-5400000"/>
                  <a:lnTo>
                    <a:pt x="0" y="59594"/>
                  </a:lnTo>
                  <a:arcTo wR="3600" hR="3600" stAng="10800000" swAng="-5400000"/>
                  <a:lnTo>
                    <a:pt x="18000" y="63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86600" y="838080"/>
              <a:ext cx="1905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External Stakeholder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514600" y="160020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95200" y="1981080"/>
            <a:ext cx="138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5200" y="1981080"/>
            <a:ext cx="0" cy="47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1447920"/>
            <a:ext cx="2666880" cy="1143000"/>
          </a:xfrm>
          <a:prstGeom prst="rightArrow">
            <a:avLst>
              <a:gd name="adj1" fmla="val 63889"/>
              <a:gd name="adj2" fmla="val 3794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865600" y="1353960"/>
            <a:ext cx="1806480" cy="2035800"/>
            <a:chOff x="2865600" y="1353960"/>
            <a:chExt cx="1806480" cy="2035800"/>
          </a:xfrm>
        </p:grpSpPr>
        <p:sp>
          <p:nvSpPr>
            <p:cNvPr id="455" name=""/>
            <p:cNvSpPr/>
            <p:nvPr/>
          </p:nvSpPr>
          <p:spPr>
            <a:xfrm>
              <a:off x="2865600" y="1353960"/>
              <a:ext cx="1806480" cy="1544400"/>
            </a:xfrm>
            <a:prstGeom prst="rect">
              <a:avLst/>
            </a:prstGeom>
            <a:solidFill>
              <a:srgbClr val="e1e1b7"/>
            </a:solidFill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041640" y="1393560"/>
              <a:ext cx="583920" cy="809280"/>
              <a:chOff x="3041640" y="1393560"/>
              <a:chExt cx="583920" cy="809280"/>
            </a:xfrm>
          </p:grpSpPr>
          <p:sp>
            <p:nvSpPr>
              <p:cNvPr id="457" name=""/>
              <p:cNvSpPr/>
              <p:nvPr/>
            </p:nvSpPr>
            <p:spPr>
              <a:xfrm flipH="1">
                <a:off x="3174840" y="1522800"/>
                <a:ext cx="146880" cy="71640"/>
              </a:xfrm>
              <a:custGeom>
                <a:avLst/>
                <a:gdLst/>
                <a:ahLst/>
                <a:rect l="l" t="t" r="r" b="b"/>
                <a:pathLst>
                  <a:path w="2215" h="939">
                    <a:moveTo>
                      <a:pt x="87" y="125"/>
                    </a:moveTo>
                    <a:lnTo>
                      <a:pt x="142" y="60"/>
                    </a:lnTo>
                    <a:lnTo>
                      <a:pt x="506" y="244"/>
                    </a:lnTo>
                    <a:lnTo>
                      <a:pt x="676" y="0"/>
                    </a:lnTo>
                    <a:lnTo>
                      <a:pt x="1299" y="423"/>
                    </a:lnTo>
                    <a:lnTo>
                      <a:pt x="1924" y="423"/>
                    </a:lnTo>
                    <a:lnTo>
                      <a:pt x="2215" y="618"/>
                    </a:lnTo>
                    <a:lnTo>
                      <a:pt x="567" y="847"/>
                    </a:lnTo>
                    <a:lnTo>
                      <a:pt x="469" y="939"/>
                    </a:lnTo>
                    <a:lnTo>
                      <a:pt x="308" y="661"/>
                    </a:lnTo>
                    <a:lnTo>
                      <a:pt x="335" y="558"/>
                    </a:lnTo>
                    <a:lnTo>
                      <a:pt x="0" y="289"/>
                    </a:lnTo>
                    <a:lnTo>
                      <a:pt x="87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43080" y="1603800"/>
                <a:ext cx="218880" cy="353880"/>
              </a:xfrm>
              <a:custGeom>
                <a:avLst/>
                <a:gdLst/>
                <a:ahLst/>
                <a:rect l="l" t="t" r="r" b="b"/>
                <a:pathLst>
                  <a:path w="3291" h="4611">
                    <a:moveTo>
                      <a:pt x="0" y="0"/>
                    </a:moveTo>
                    <a:lnTo>
                      <a:pt x="3098" y="0"/>
                    </a:lnTo>
                    <a:lnTo>
                      <a:pt x="3291" y="123"/>
                    </a:lnTo>
                    <a:lnTo>
                      <a:pt x="3291" y="4227"/>
                    </a:lnTo>
                    <a:lnTo>
                      <a:pt x="3059" y="4227"/>
                    </a:lnTo>
                    <a:lnTo>
                      <a:pt x="3059" y="4611"/>
                    </a:lnTo>
                    <a:lnTo>
                      <a:pt x="1458" y="4611"/>
                    </a:lnTo>
                    <a:lnTo>
                      <a:pt x="1458" y="2809"/>
                    </a:lnTo>
                    <a:lnTo>
                      <a:pt x="1160" y="1924"/>
                    </a:lnTo>
                    <a:lnTo>
                      <a:pt x="1440" y="1924"/>
                    </a:lnTo>
                    <a:lnTo>
                      <a:pt x="1655" y="2507"/>
                    </a:lnTo>
                    <a:lnTo>
                      <a:pt x="1655" y="1343"/>
                    </a:lnTo>
                    <a:lnTo>
                      <a:pt x="41" y="934"/>
                    </a:lnTo>
                    <a:lnTo>
                      <a:pt x="0" y="4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3215160" y="1716840"/>
                <a:ext cx="70560" cy="61560"/>
              </a:xfrm>
              <a:custGeom>
                <a:avLst/>
                <a:gdLst/>
                <a:ahLst/>
                <a:rect l="l" t="t" r="r" b="b"/>
                <a:pathLst>
                  <a:path w="1065" h="812">
                    <a:moveTo>
                      <a:pt x="0" y="309"/>
                    </a:moveTo>
                    <a:lnTo>
                      <a:pt x="415" y="0"/>
                    </a:lnTo>
                    <a:lnTo>
                      <a:pt x="831" y="0"/>
                    </a:lnTo>
                    <a:lnTo>
                      <a:pt x="1065" y="281"/>
                    </a:lnTo>
                    <a:lnTo>
                      <a:pt x="572" y="482"/>
                    </a:lnTo>
                    <a:lnTo>
                      <a:pt x="237" y="812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3141720" y="1601280"/>
                <a:ext cx="483480" cy="601560"/>
              </a:xfrm>
              <a:custGeom>
                <a:avLst/>
                <a:gdLst/>
                <a:ahLst/>
                <a:rect l="l" t="t" r="r" b="b"/>
                <a:pathLst>
                  <a:path w="7258" h="7875">
                    <a:moveTo>
                      <a:pt x="3413" y="253"/>
                    </a:moveTo>
                    <a:lnTo>
                      <a:pt x="3608" y="809"/>
                    </a:lnTo>
                    <a:lnTo>
                      <a:pt x="3489" y="1495"/>
                    </a:lnTo>
                    <a:lnTo>
                      <a:pt x="3511" y="1848"/>
                    </a:lnTo>
                    <a:lnTo>
                      <a:pt x="3530" y="2027"/>
                    </a:lnTo>
                    <a:lnTo>
                      <a:pt x="3667" y="1925"/>
                    </a:lnTo>
                    <a:lnTo>
                      <a:pt x="3708" y="1902"/>
                    </a:lnTo>
                    <a:lnTo>
                      <a:pt x="3843" y="2000"/>
                    </a:lnTo>
                    <a:lnTo>
                      <a:pt x="5084" y="1772"/>
                    </a:lnTo>
                    <a:lnTo>
                      <a:pt x="5379" y="2154"/>
                    </a:lnTo>
                    <a:lnTo>
                      <a:pt x="4105" y="2714"/>
                    </a:lnTo>
                    <a:lnTo>
                      <a:pt x="4338" y="2890"/>
                    </a:lnTo>
                    <a:lnTo>
                      <a:pt x="4377" y="3015"/>
                    </a:lnTo>
                    <a:lnTo>
                      <a:pt x="4556" y="3113"/>
                    </a:lnTo>
                    <a:lnTo>
                      <a:pt x="4593" y="3370"/>
                    </a:lnTo>
                    <a:lnTo>
                      <a:pt x="4770" y="3370"/>
                    </a:lnTo>
                    <a:lnTo>
                      <a:pt x="4930" y="3444"/>
                    </a:lnTo>
                    <a:lnTo>
                      <a:pt x="5264" y="3522"/>
                    </a:lnTo>
                    <a:lnTo>
                      <a:pt x="5425" y="3472"/>
                    </a:lnTo>
                    <a:lnTo>
                      <a:pt x="5540" y="3495"/>
                    </a:lnTo>
                    <a:lnTo>
                      <a:pt x="6291" y="3140"/>
                    </a:lnTo>
                    <a:lnTo>
                      <a:pt x="6843" y="3092"/>
                    </a:lnTo>
                    <a:lnTo>
                      <a:pt x="7119" y="3242"/>
                    </a:lnTo>
                    <a:lnTo>
                      <a:pt x="7258" y="4002"/>
                    </a:lnTo>
                    <a:lnTo>
                      <a:pt x="7156" y="4230"/>
                    </a:lnTo>
                    <a:lnTo>
                      <a:pt x="6468" y="4663"/>
                    </a:lnTo>
                    <a:lnTo>
                      <a:pt x="4969" y="5041"/>
                    </a:lnTo>
                    <a:lnTo>
                      <a:pt x="4076" y="4887"/>
                    </a:lnTo>
                    <a:lnTo>
                      <a:pt x="3575" y="4663"/>
                    </a:lnTo>
                    <a:lnTo>
                      <a:pt x="3179" y="3831"/>
                    </a:lnTo>
                    <a:lnTo>
                      <a:pt x="3041" y="6330"/>
                    </a:lnTo>
                    <a:lnTo>
                      <a:pt x="2780" y="7875"/>
                    </a:lnTo>
                    <a:lnTo>
                      <a:pt x="2088" y="7875"/>
                    </a:lnTo>
                    <a:lnTo>
                      <a:pt x="1577" y="7571"/>
                    </a:lnTo>
                    <a:lnTo>
                      <a:pt x="1499" y="7396"/>
                    </a:lnTo>
                    <a:lnTo>
                      <a:pt x="136" y="6330"/>
                    </a:lnTo>
                    <a:lnTo>
                      <a:pt x="0" y="5875"/>
                    </a:lnTo>
                    <a:lnTo>
                      <a:pt x="17" y="5041"/>
                    </a:lnTo>
                    <a:lnTo>
                      <a:pt x="236" y="3698"/>
                    </a:lnTo>
                    <a:lnTo>
                      <a:pt x="471" y="3219"/>
                    </a:lnTo>
                    <a:lnTo>
                      <a:pt x="651" y="2634"/>
                    </a:lnTo>
                    <a:lnTo>
                      <a:pt x="708" y="2127"/>
                    </a:lnTo>
                    <a:lnTo>
                      <a:pt x="885" y="1318"/>
                    </a:lnTo>
                    <a:lnTo>
                      <a:pt x="1144" y="733"/>
                    </a:lnTo>
                    <a:lnTo>
                      <a:pt x="1737" y="128"/>
                    </a:lnTo>
                    <a:lnTo>
                      <a:pt x="3019" y="0"/>
                    </a:lnTo>
                    <a:lnTo>
                      <a:pt x="3413" y="253"/>
                    </a:lnTo>
                    <a:close/>
                  </a:path>
                </a:pathLst>
              </a:custGeom>
              <a:solidFill>
                <a:srgbClr val="00eaff"/>
              </a:solidFill>
              <a:ln w="0">
                <a:solidFill>
                  <a:srgbClr val="00ea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282120" y="1393560"/>
                <a:ext cx="248760" cy="251640"/>
              </a:xfrm>
              <a:custGeom>
                <a:avLst/>
                <a:gdLst/>
                <a:ahLst/>
                <a:rect l="l" t="t" r="r" b="b"/>
                <a:pathLst>
                  <a:path w="3741" h="3302">
                    <a:moveTo>
                      <a:pt x="2189" y="2655"/>
                    </a:moveTo>
                    <a:lnTo>
                      <a:pt x="2199" y="2833"/>
                    </a:lnTo>
                    <a:lnTo>
                      <a:pt x="1998" y="2958"/>
                    </a:lnTo>
                    <a:lnTo>
                      <a:pt x="1893" y="2944"/>
                    </a:lnTo>
                    <a:lnTo>
                      <a:pt x="1817" y="3048"/>
                    </a:lnTo>
                    <a:lnTo>
                      <a:pt x="1862" y="3175"/>
                    </a:lnTo>
                    <a:lnTo>
                      <a:pt x="1796" y="3302"/>
                    </a:lnTo>
                    <a:lnTo>
                      <a:pt x="1238" y="3252"/>
                    </a:lnTo>
                    <a:lnTo>
                      <a:pt x="1109" y="3012"/>
                    </a:lnTo>
                    <a:lnTo>
                      <a:pt x="952" y="2958"/>
                    </a:lnTo>
                    <a:lnTo>
                      <a:pt x="667" y="2973"/>
                    </a:lnTo>
                    <a:lnTo>
                      <a:pt x="589" y="2821"/>
                    </a:lnTo>
                    <a:lnTo>
                      <a:pt x="216" y="3022"/>
                    </a:lnTo>
                    <a:lnTo>
                      <a:pt x="0" y="2645"/>
                    </a:lnTo>
                    <a:lnTo>
                      <a:pt x="156" y="2517"/>
                    </a:lnTo>
                    <a:lnTo>
                      <a:pt x="275" y="2341"/>
                    </a:lnTo>
                    <a:lnTo>
                      <a:pt x="234" y="2228"/>
                    </a:lnTo>
                    <a:lnTo>
                      <a:pt x="285" y="2079"/>
                    </a:lnTo>
                    <a:lnTo>
                      <a:pt x="596" y="1889"/>
                    </a:lnTo>
                    <a:lnTo>
                      <a:pt x="930" y="1347"/>
                    </a:lnTo>
                    <a:lnTo>
                      <a:pt x="1156" y="581"/>
                    </a:lnTo>
                    <a:lnTo>
                      <a:pt x="1481" y="214"/>
                    </a:lnTo>
                    <a:lnTo>
                      <a:pt x="1706" y="47"/>
                    </a:lnTo>
                    <a:lnTo>
                      <a:pt x="2176" y="0"/>
                    </a:lnTo>
                    <a:lnTo>
                      <a:pt x="2706" y="99"/>
                    </a:lnTo>
                    <a:lnTo>
                      <a:pt x="3090" y="355"/>
                    </a:lnTo>
                    <a:lnTo>
                      <a:pt x="3461" y="554"/>
                    </a:lnTo>
                    <a:lnTo>
                      <a:pt x="3610" y="706"/>
                    </a:lnTo>
                    <a:lnTo>
                      <a:pt x="3710" y="872"/>
                    </a:lnTo>
                    <a:lnTo>
                      <a:pt x="3741" y="1032"/>
                    </a:lnTo>
                    <a:lnTo>
                      <a:pt x="3741" y="1287"/>
                    </a:lnTo>
                    <a:lnTo>
                      <a:pt x="3618" y="1460"/>
                    </a:lnTo>
                    <a:lnTo>
                      <a:pt x="3499" y="1523"/>
                    </a:lnTo>
                    <a:lnTo>
                      <a:pt x="3495" y="1460"/>
                    </a:lnTo>
                    <a:lnTo>
                      <a:pt x="2982" y="1626"/>
                    </a:lnTo>
                    <a:lnTo>
                      <a:pt x="2189" y="265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305880" y="1491120"/>
                <a:ext cx="111240" cy="122400"/>
              </a:xfrm>
              <a:custGeom>
                <a:avLst/>
                <a:gdLst/>
                <a:ahLst/>
                <a:rect l="l" t="t" r="r" b="b"/>
                <a:pathLst>
                  <a:path w="1663" h="1604">
                    <a:moveTo>
                      <a:pt x="209" y="11"/>
                    </a:moveTo>
                    <a:lnTo>
                      <a:pt x="78" y="113"/>
                    </a:lnTo>
                    <a:lnTo>
                      <a:pt x="64" y="201"/>
                    </a:lnTo>
                    <a:lnTo>
                      <a:pt x="107" y="471"/>
                    </a:lnTo>
                    <a:lnTo>
                      <a:pt x="0" y="702"/>
                    </a:lnTo>
                    <a:lnTo>
                      <a:pt x="156" y="984"/>
                    </a:lnTo>
                    <a:lnTo>
                      <a:pt x="201" y="1273"/>
                    </a:lnTo>
                    <a:lnTo>
                      <a:pt x="209" y="1604"/>
                    </a:lnTo>
                    <a:lnTo>
                      <a:pt x="327" y="1311"/>
                    </a:lnTo>
                    <a:lnTo>
                      <a:pt x="446" y="1311"/>
                    </a:lnTo>
                    <a:lnTo>
                      <a:pt x="765" y="1581"/>
                    </a:lnTo>
                    <a:lnTo>
                      <a:pt x="871" y="1581"/>
                    </a:lnTo>
                    <a:lnTo>
                      <a:pt x="976" y="1538"/>
                    </a:lnTo>
                    <a:lnTo>
                      <a:pt x="1000" y="1444"/>
                    </a:lnTo>
                    <a:lnTo>
                      <a:pt x="996" y="1317"/>
                    </a:lnTo>
                    <a:lnTo>
                      <a:pt x="1041" y="1224"/>
                    </a:lnTo>
                    <a:lnTo>
                      <a:pt x="1193" y="1158"/>
                    </a:lnTo>
                    <a:lnTo>
                      <a:pt x="1266" y="1015"/>
                    </a:lnTo>
                    <a:lnTo>
                      <a:pt x="1487" y="984"/>
                    </a:lnTo>
                    <a:lnTo>
                      <a:pt x="1501" y="943"/>
                    </a:lnTo>
                    <a:lnTo>
                      <a:pt x="1391" y="524"/>
                    </a:lnTo>
                    <a:lnTo>
                      <a:pt x="1594" y="403"/>
                    </a:lnTo>
                    <a:lnTo>
                      <a:pt x="1663" y="201"/>
                    </a:lnTo>
                    <a:lnTo>
                      <a:pt x="1530" y="201"/>
                    </a:lnTo>
                    <a:lnTo>
                      <a:pt x="1446" y="140"/>
                    </a:lnTo>
                    <a:lnTo>
                      <a:pt x="1380" y="230"/>
                    </a:lnTo>
                    <a:lnTo>
                      <a:pt x="1327" y="154"/>
                    </a:lnTo>
                    <a:lnTo>
                      <a:pt x="1205" y="263"/>
                    </a:lnTo>
                    <a:lnTo>
                      <a:pt x="1097" y="95"/>
                    </a:lnTo>
                    <a:lnTo>
                      <a:pt x="853" y="154"/>
                    </a:lnTo>
                    <a:lnTo>
                      <a:pt x="292" y="0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c98e"/>
              </a:solidFill>
              <a:ln w="0">
                <a:solidFill>
                  <a:srgbClr val="ffc98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98040" y="1539360"/>
                <a:ext cx="11880" cy="9360"/>
              </a:xfrm>
              <a:custGeom>
                <a:avLst/>
                <a:gdLst/>
                <a:ahLst/>
                <a:rect l="l" t="t" r="r" b="b"/>
                <a:pathLst>
                  <a:path w="173" h="141">
                    <a:moveTo>
                      <a:pt x="55" y="14"/>
                    </a:moveTo>
                    <a:lnTo>
                      <a:pt x="125" y="0"/>
                    </a:lnTo>
                    <a:lnTo>
                      <a:pt x="173" y="29"/>
                    </a:lnTo>
                    <a:lnTo>
                      <a:pt x="161" y="82"/>
                    </a:lnTo>
                    <a:lnTo>
                      <a:pt x="110" y="135"/>
                    </a:lnTo>
                    <a:lnTo>
                      <a:pt x="41" y="141"/>
                    </a:lnTo>
                    <a:lnTo>
                      <a:pt x="0" y="82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069000" y="1795320"/>
                <a:ext cx="86040" cy="111600"/>
              </a:xfrm>
              <a:custGeom>
                <a:avLst/>
                <a:gdLst/>
                <a:ahLst/>
                <a:rect l="l" t="t" r="r" b="b"/>
                <a:pathLst>
                  <a:path w="1284" h="1474">
                    <a:moveTo>
                      <a:pt x="0" y="712"/>
                    </a:moveTo>
                    <a:lnTo>
                      <a:pt x="164" y="1474"/>
                    </a:lnTo>
                    <a:lnTo>
                      <a:pt x="636" y="1474"/>
                    </a:lnTo>
                    <a:lnTo>
                      <a:pt x="781" y="1349"/>
                    </a:lnTo>
                    <a:lnTo>
                      <a:pt x="1124" y="1315"/>
                    </a:lnTo>
                    <a:lnTo>
                      <a:pt x="1184" y="1228"/>
                    </a:lnTo>
                    <a:lnTo>
                      <a:pt x="1284" y="749"/>
                    </a:lnTo>
                    <a:lnTo>
                      <a:pt x="1090" y="452"/>
                    </a:lnTo>
                    <a:lnTo>
                      <a:pt x="854" y="354"/>
                    </a:lnTo>
                    <a:lnTo>
                      <a:pt x="597" y="234"/>
                    </a:lnTo>
                    <a:lnTo>
                      <a:pt x="509" y="0"/>
                    </a:lnTo>
                    <a:lnTo>
                      <a:pt x="369" y="23"/>
                    </a:lnTo>
                    <a:lnTo>
                      <a:pt x="291" y="313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solidFill>
                  <a:srgbClr val="ffea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04800" y="1397520"/>
                <a:ext cx="64440" cy="49320"/>
              </a:xfrm>
              <a:custGeom>
                <a:avLst/>
                <a:gdLst/>
                <a:ahLst/>
                <a:rect l="l" t="t" r="r" b="b"/>
                <a:pathLst>
                  <a:path w="963" h="637">
                    <a:moveTo>
                      <a:pt x="963" y="464"/>
                    </a:moveTo>
                    <a:lnTo>
                      <a:pt x="834" y="401"/>
                    </a:lnTo>
                    <a:lnTo>
                      <a:pt x="877" y="464"/>
                    </a:lnTo>
                    <a:lnTo>
                      <a:pt x="784" y="507"/>
                    </a:lnTo>
                    <a:lnTo>
                      <a:pt x="694" y="596"/>
                    </a:lnTo>
                    <a:lnTo>
                      <a:pt x="663" y="568"/>
                    </a:lnTo>
                    <a:lnTo>
                      <a:pt x="466" y="637"/>
                    </a:lnTo>
                    <a:lnTo>
                      <a:pt x="706" y="507"/>
                    </a:lnTo>
                    <a:lnTo>
                      <a:pt x="614" y="464"/>
                    </a:lnTo>
                    <a:lnTo>
                      <a:pt x="784" y="429"/>
                    </a:lnTo>
                    <a:lnTo>
                      <a:pt x="631" y="296"/>
                    </a:lnTo>
                    <a:lnTo>
                      <a:pt x="421" y="366"/>
                    </a:lnTo>
                    <a:lnTo>
                      <a:pt x="515" y="415"/>
                    </a:lnTo>
                    <a:lnTo>
                      <a:pt x="521" y="493"/>
                    </a:lnTo>
                    <a:lnTo>
                      <a:pt x="320" y="529"/>
                    </a:lnTo>
                    <a:lnTo>
                      <a:pt x="396" y="568"/>
                    </a:lnTo>
                    <a:lnTo>
                      <a:pt x="185" y="582"/>
                    </a:lnTo>
                    <a:lnTo>
                      <a:pt x="103" y="479"/>
                    </a:lnTo>
                    <a:lnTo>
                      <a:pt x="173" y="464"/>
                    </a:lnTo>
                    <a:lnTo>
                      <a:pt x="103" y="347"/>
                    </a:lnTo>
                    <a:lnTo>
                      <a:pt x="263" y="452"/>
                    </a:lnTo>
                    <a:lnTo>
                      <a:pt x="433" y="464"/>
                    </a:lnTo>
                    <a:lnTo>
                      <a:pt x="273" y="347"/>
                    </a:lnTo>
                    <a:lnTo>
                      <a:pt x="443" y="296"/>
                    </a:lnTo>
                    <a:lnTo>
                      <a:pt x="355" y="259"/>
                    </a:lnTo>
                    <a:lnTo>
                      <a:pt x="515" y="222"/>
                    </a:lnTo>
                    <a:lnTo>
                      <a:pt x="294" y="143"/>
                    </a:lnTo>
                    <a:lnTo>
                      <a:pt x="226" y="56"/>
                    </a:lnTo>
                    <a:lnTo>
                      <a:pt x="0" y="0"/>
                    </a:lnTo>
                    <a:lnTo>
                      <a:pt x="240" y="30"/>
                    </a:lnTo>
                    <a:lnTo>
                      <a:pt x="480" y="108"/>
                    </a:lnTo>
                    <a:lnTo>
                      <a:pt x="651" y="259"/>
                    </a:lnTo>
                    <a:lnTo>
                      <a:pt x="801" y="366"/>
                    </a:lnTo>
                    <a:lnTo>
                      <a:pt x="96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3304080" y="1441440"/>
                <a:ext cx="34560" cy="52200"/>
              </a:xfrm>
              <a:custGeom>
                <a:avLst/>
                <a:gdLst/>
                <a:ahLst/>
                <a:rect l="l" t="t" r="r" b="b"/>
                <a:pathLst>
                  <a:path w="522" h="685">
                    <a:moveTo>
                      <a:pt x="370" y="0"/>
                    </a:moveTo>
                    <a:lnTo>
                      <a:pt x="313" y="231"/>
                    </a:lnTo>
                    <a:lnTo>
                      <a:pt x="262" y="155"/>
                    </a:lnTo>
                    <a:lnTo>
                      <a:pt x="198" y="324"/>
                    </a:lnTo>
                    <a:lnTo>
                      <a:pt x="0" y="531"/>
                    </a:lnTo>
                    <a:lnTo>
                      <a:pt x="299" y="324"/>
                    </a:lnTo>
                    <a:lnTo>
                      <a:pt x="340" y="399"/>
                    </a:lnTo>
                    <a:lnTo>
                      <a:pt x="340" y="685"/>
                    </a:lnTo>
                    <a:lnTo>
                      <a:pt x="501" y="480"/>
                    </a:lnTo>
                    <a:lnTo>
                      <a:pt x="522" y="182"/>
                    </a:lnTo>
                    <a:lnTo>
                      <a:pt x="473" y="464"/>
                    </a:lnTo>
                    <a:lnTo>
                      <a:pt x="381" y="544"/>
                    </a:lnTo>
                    <a:lnTo>
                      <a:pt x="381" y="336"/>
                    </a:lnTo>
                    <a:lnTo>
                      <a:pt x="348" y="297"/>
                    </a:lnTo>
                    <a:lnTo>
                      <a:pt x="401" y="9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23880" y="14911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92" h="254">
                    <a:moveTo>
                      <a:pt x="130" y="0"/>
                    </a:moveTo>
                    <a:lnTo>
                      <a:pt x="21" y="148"/>
                    </a:lnTo>
                    <a:lnTo>
                      <a:pt x="0" y="254"/>
                    </a:lnTo>
                    <a:lnTo>
                      <a:pt x="130" y="179"/>
                    </a:lnTo>
                    <a:lnTo>
                      <a:pt x="169" y="242"/>
                    </a:lnTo>
                    <a:lnTo>
                      <a:pt x="192" y="101"/>
                    </a:lnTo>
                    <a:lnTo>
                      <a:pt x="130" y="138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279600" y="1470600"/>
                <a:ext cx="37080" cy="41040"/>
              </a:xfrm>
              <a:custGeom>
                <a:avLst/>
                <a:gdLst/>
                <a:ahLst/>
                <a:rect l="l" t="t" r="r" b="b"/>
                <a:pathLst>
                  <a:path w="552" h="536">
                    <a:moveTo>
                      <a:pt x="0" y="525"/>
                    </a:moveTo>
                    <a:lnTo>
                      <a:pt x="0" y="419"/>
                    </a:lnTo>
                    <a:lnTo>
                      <a:pt x="84" y="372"/>
                    </a:lnTo>
                    <a:lnTo>
                      <a:pt x="84" y="437"/>
                    </a:lnTo>
                    <a:lnTo>
                      <a:pt x="170" y="343"/>
                    </a:lnTo>
                    <a:lnTo>
                      <a:pt x="253" y="179"/>
                    </a:lnTo>
                    <a:lnTo>
                      <a:pt x="211" y="419"/>
                    </a:lnTo>
                    <a:lnTo>
                      <a:pt x="294" y="343"/>
                    </a:lnTo>
                    <a:lnTo>
                      <a:pt x="304" y="409"/>
                    </a:lnTo>
                    <a:lnTo>
                      <a:pt x="351" y="372"/>
                    </a:lnTo>
                    <a:lnTo>
                      <a:pt x="382" y="409"/>
                    </a:lnTo>
                    <a:lnTo>
                      <a:pt x="474" y="308"/>
                    </a:lnTo>
                    <a:lnTo>
                      <a:pt x="517" y="167"/>
                    </a:lnTo>
                    <a:lnTo>
                      <a:pt x="517" y="0"/>
                    </a:lnTo>
                    <a:lnTo>
                      <a:pt x="552" y="154"/>
                    </a:lnTo>
                    <a:lnTo>
                      <a:pt x="517" y="396"/>
                    </a:lnTo>
                    <a:lnTo>
                      <a:pt x="351" y="525"/>
                    </a:lnTo>
                    <a:lnTo>
                      <a:pt x="229" y="536"/>
                    </a:lnTo>
                    <a:lnTo>
                      <a:pt x="253" y="460"/>
                    </a:lnTo>
                    <a:lnTo>
                      <a:pt x="133" y="525"/>
                    </a:lnTo>
                    <a:lnTo>
                      <a:pt x="0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317040" y="1524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0" y="0"/>
                    </a:moveTo>
                    <a:lnTo>
                      <a:pt x="0" y="90"/>
                    </a:lnTo>
                    <a:lnTo>
                      <a:pt x="39" y="90"/>
                    </a:lnTo>
                    <a:lnTo>
                      <a:pt x="98" y="16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324240" y="153108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9" y="0"/>
                    </a:moveTo>
                    <a:lnTo>
                      <a:pt x="159" y="69"/>
                    </a:lnTo>
                    <a:lnTo>
                      <a:pt x="116" y="69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32520" y="1544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13" y="0"/>
                    </a:moveTo>
                    <a:lnTo>
                      <a:pt x="0" y="142"/>
                    </a:lnTo>
                    <a:lnTo>
                      <a:pt x="113" y="142"/>
                    </a:lnTo>
                    <a:lnTo>
                      <a:pt x="143" y="51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318120" y="1566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3" h="244">
                    <a:moveTo>
                      <a:pt x="212" y="0"/>
                    </a:moveTo>
                    <a:lnTo>
                      <a:pt x="120" y="166"/>
                    </a:lnTo>
                    <a:lnTo>
                      <a:pt x="0" y="229"/>
                    </a:lnTo>
                    <a:lnTo>
                      <a:pt x="40" y="244"/>
                    </a:lnTo>
                    <a:lnTo>
                      <a:pt x="161" y="180"/>
                    </a:lnTo>
                    <a:lnTo>
                      <a:pt x="220" y="51"/>
                    </a:lnTo>
                    <a:lnTo>
                      <a:pt x="419" y="14"/>
                    </a:lnTo>
                    <a:lnTo>
                      <a:pt x="433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353040" y="1546200"/>
                <a:ext cx="54000" cy="67320"/>
              </a:xfrm>
              <a:custGeom>
                <a:avLst/>
                <a:gdLst/>
                <a:ahLst/>
                <a:rect l="l" t="t" r="r" b="b"/>
                <a:pathLst>
                  <a:path w="801" h="888">
                    <a:moveTo>
                      <a:pt x="801" y="824"/>
                    </a:moveTo>
                    <a:lnTo>
                      <a:pt x="705" y="863"/>
                    </a:lnTo>
                    <a:lnTo>
                      <a:pt x="627" y="863"/>
                    </a:lnTo>
                    <a:lnTo>
                      <a:pt x="263" y="516"/>
                    </a:lnTo>
                    <a:lnTo>
                      <a:pt x="92" y="0"/>
                    </a:lnTo>
                    <a:lnTo>
                      <a:pt x="53" y="39"/>
                    </a:lnTo>
                    <a:lnTo>
                      <a:pt x="130" y="299"/>
                    </a:lnTo>
                    <a:lnTo>
                      <a:pt x="92" y="337"/>
                    </a:lnTo>
                    <a:lnTo>
                      <a:pt x="0" y="272"/>
                    </a:lnTo>
                    <a:lnTo>
                      <a:pt x="101" y="493"/>
                    </a:lnTo>
                    <a:lnTo>
                      <a:pt x="101" y="617"/>
                    </a:lnTo>
                    <a:lnTo>
                      <a:pt x="53" y="888"/>
                    </a:lnTo>
                    <a:lnTo>
                      <a:pt x="181" y="646"/>
                    </a:lnTo>
                    <a:lnTo>
                      <a:pt x="253" y="646"/>
                    </a:lnTo>
                    <a:lnTo>
                      <a:pt x="603" y="888"/>
                    </a:lnTo>
                    <a:lnTo>
                      <a:pt x="693" y="888"/>
                    </a:lnTo>
                    <a:lnTo>
                      <a:pt x="801" y="8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3349800" y="159300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21" h="131">
                    <a:moveTo>
                      <a:pt x="0" y="0"/>
                    </a:moveTo>
                    <a:lnTo>
                      <a:pt x="0" y="131"/>
                    </a:lnTo>
                    <a:lnTo>
                      <a:pt x="21" y="107"/>
                    </a:lnTo>
                    <a:lnTo>
                      <a:pt x="2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41880" y="1442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423" h="385">
                    <a:moveTo>
                      <a:pt x="423" y="195"/>
                    </a:moveTo>
                    <a:lnTo>
                      <a:pt x="284" y="168"/>
                    </a:lnTo>
                    <a:lnTo>
                      <a:pt x="194" y="64"/>
                    </a:lnTo>
                    <a:lnTo>
                      <a:pt x="63" y="0"/>
                    </a:lnTo>
                    <a:lnTo>
                      <a:pt x="153" y="141"/>
                    </a:lnTo>
                    <a:lnTo>
                      <a:pt x="0" y="64"/>
                    </a:lnTo>
                    <a:lnTo>
                      <a:pt x="106" y="244"/>
                    </a:lnTo>
                    <a:lnTo>
                      <a:pt x="315" y="385"/>
                    </a:lnTo>
                    <a:lnTo>
                      <a:pt x="194" y="258"/>
                    </a:lnTo>
                    <a:lnTo>
                      <a:pt x="323" y="244"/>
                    </a:lnTo>
                    <a:lnTo>
                      <a:pt x="423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353760" y="14443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505" h="401">
                    <a:moveTo>
                      <a:pt x="505" y="401"/>
                    </a:moveTo>
                    <a:lnTo>
                      <a:pt x="411" y="401"/>
                    </a:lnTo>
                    <a:lnTo>
                      <a:pt x="180" y="346"/>
                    </a:lnTo>
                    <a:lnTo>
                      <a:pt x="0" y="192"/>
                    </a:lnTo>
                    <a:lnTo>
                      <a:pt x="219" y="219"/>
                    </a:lnTo>
                    <a:lnTo>
                      <a:pt x="151" y="75"/>
                    </a:lnTo>
                    <a:lnTo>
                      <a:pt x="31" y="0"/>
                    </a:lnTo>
                    <a:lnTo>
                      <a:pt x="193" y="90"/>
                    </a:lnTo>
                    <a:lnTo>
                      <a:pt x="345" y="323"/>
                    </a:lnTo>
                    <a:lnTo>
                      <a:pt x="505" y="4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351600" y="1442880"/>
                <a:ext cx="68040" cy="67680"/>
              </a:xfrm>
              <a:custGeom>
                <a:avLst/>
                <a:gdLst/>
                <a:ahLst/>
                <a:rect l="l" t="t" r="r" b="b"/>
                <a:pathLst>
                  <a:path w="1041" h="874">
                    <a:moveTo>
                      <a:pt x="969" y="473"/>
                    </a:moveTo>
                    <a:lnTo>
                      <a:pt x="853" y="473"/>
                    </a:lnTo>
                    <a:lnTo>
                      <a:pt x="651" y="426"/>
                    </a:lnTo>
                    <a:lnTo>
                      <a:pt x="470" y="308"/>
                    </a:lnTo>
                    <a:lnTo>
                      <a:pt x="319" y="269"/>
                    </a:lnTo>
                    <a:lnTo>
                      <a:pt x="438" y="388"/>
                    </a:lnTo>
                    <a:lnTo>
                      <a:pt x="419" y="473"/>
                    </a:lnTo>
                    <a:lnTo>
                      <a:pt x="267" y="371"/>
                    </a:lnTo>
                    <a:lnTo>
                      <a:pt x="176" y="0"/>
                    </a:lnTo>
                    <a:lnTo>
                      <a:pt x="129" y="11"/>
                    </a:lnTo>
                    <a:lnTo>
                      <a:pt x="97" y="101"/>
                    </a:lnTo>
                    <a:lnTo>
                      <a:pt x="0" y="230"/>
                    </a:lnTo>
                    <a:lnTo>
                      <a:pt x="0" y="396"/>
                    </a:lnTo>
                    <a:lnTo>
                      <a:pt x="156" y="735"/>
                    </a:lnTo>
                    <a:lnTo>
                      <a:pt x="260" y="643"/>
                    </a:lnTo>
                    <a:lnTo>
                      <a:pt x="407" y="786"/>
                    </a:lnTo>
                    <a:lnTo>
                      <a:pt x="479" y="786"/>
                    </a:lnTo>
                    <a:lnTo>
                      <a:pt x="407" y="643"/>
                    </a:lnTo>
                    <a:lnTo>
                      <a:pt x="579" y="786"/>
                    </a:lnTo>
                    <a:lnTo>
                      <a:pt x="682" y="799"/>
                    </a:lnTo>
                    <a:lnTo>
                      <a:pt x="571" y="874"/>
                    </a:lnTo>
                    <a:lnTo>
                      <a:pt x="861" y="874"/>
                    </a:lnTo>
                    <a:lnTo>
                      <a:pt x="747" y="735"/>
                    </a:lnTo>
                    <a:lnTo>
                      <a:pt x="900" y="786"/>
                    </a:lnTo>
                    <a:lnTo>
                      <a:pt x="1041" y="745"/>
                    </a:lnTo>
                    <a:lnTo>
                      <a:pt x="912" y="745"/>
                    </a:lnTo>
                    <a:lnTo>
                      <a:pt x="798" y="657"/>
                    </a:lnTo>
                    <a:lnTo>
                      <a:pt x="892" y="643"/>
                    </a:lnTo>
                    <a:lnTo>
                      <a:pt x="953" y="604"/>
                    </a:lnTo>
                    <a:lnTo>
                      <a:pt x="861" y="592"/>
                    </a:lnTo>
                    <a:lnTo>
                      <a:pt x="759" y="551"/>
                    </a:lnTo>
                    <a:lnTo>
                      <a:pt x="881" y="551"/>
                    </a:lnTo>
                    <a:lnTo>
                      <a:pt x="822" y="503"/>
                    </a:lnTo>
                    <a:lnTo>
                      <a:pt x="969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392280" y="1503360"/>
                <a:ext cx="11880" cy="23400"/>
              </a:xfrm>
              <a:custGeom>
                <a:avLst/>
                <a:gdLst/>
                <a:ahLst/>
                <a:rect l="l" t="t" r="r" b="b"/>
                <a:pathLst>
                  <a:path w="179" h="307">
                    <a:moveTo>
                      <a:pt x="27" y="0"/>
                    </a:moveTo>
                    <a:lnTo>
                      <a:pt x="27" y="51"/>
                    </a:lnTo>
                    <a:lnTo>
                      <a:pt x="0" y="129"/>
                    </a:lnTo>
                    <a:lnTo>
                      <a:pt x="97" y="307"/>
                    </a:lnTo>
                    <a:lnTo>
                      <a:pt x="108" y="231"/>
                    </a:lnTo>
                    <a:lnTo>
                      <a:pt x="87" y="184"/>
                    </a:lnTo>
                    <a:lnTo>
                      <a:pt x="179" y="99"/>
                    </a:lnTo>
                    <a:lnTo>
                      <a:pt x="9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3441600" y="1561320"/>
                <a:ext cx="18000" cy="41040"/>
              </a:xfrm>
              <a:custGeom>
                <a:avLst/>
                <a:gdLst/>
                <a:ahLst/>
                <a:rect l="l" t="t" r="r" b="b"/>
                <a:pathLst>
                  <a:path w="267" h="540">
                    <a:moveTo>
                      <a:pt x="95" y="64"/>
                    </a:moveTo>
                    <a:lnTo>
                      <a:pt x="39" y="105"/>
                    </a:lnTo>
                    <a:lnTo>
                      <a:pt x="29" y="180"/>
                    </a:lnTo>
                    <a:lnTo>
                      <a:pt x="86" y="166"/>
                    </a:lnTo>
                    <a:lnTo>
                      <a:pt x="47" y="258"/>
                    </a:lnTo>
                    <a:lnTo>
                      <a:pt x="95" y="283"/>
                    </a:lnTo>
                    <a:lnTo>
                      <a:pt x="8" y="413"/>
                    </a:lnTo>
                    <a:lnTo>
                      <a:pt x="66" y="377"/>
                    </a:lnTo>
                    <a:lnTo>
                      <a:pt x="0" y="540"/>
                    </a:lnTo>
                    <a:lnTo>
                      <a:pt x="189" y="359"/>
                    </a:lnTo>
                    <a:lnTo>
                      <a:pt x="267" y="111"/>
                    </a:lnTo>
                    <a:lnTo>
                      <a:pt x="205" y="111"/>
                    </a:lnTo>
                    <a:lnTo>
                      <a:pt x="117" y="129"/>
                    </a:lnTo>
                    <a:lnTo>
                      <a:pt x="136" y="0"/>
                    </a:lnTo>
                    <a:lnTo>
                      <a:pt x="9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380040" y="1394640"/>
                <a:ext cx="55080" cy="6192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0" y="811"/>
                    </a:moveTo>
                    <a:lnTo>
                      <a:pt x="124" y="607"/>
                    </a:lnTo>
                    <a:lnTo>
                      <a:pt x="333" y="513"/>
                    </a:lnTo>
                    <a:lnTo>
                      <a:pt x="204" y="513"/>
                    </a:lnTo>
                    <a:lnTo>
                      <a:pt x="563" y="298"/>
                    </a:lnTo>
                    <a:lnTo>
                      <a:pt x="402" y="298"/>
                    </a:lnTo>
                    <a:lnTo>
                      <a:pt x="574" y="179"/>
                    </a:lnTo>
                    <a:lnTo>
                      <a:pt x="723" y="179"/>
                    </a:lnTo>
                    <a:lnTo>
                      <a:pt x="493" y="105"/>
                    </a:lnTo>
                    <a:lnTo>
                      <a:pt x="834" y="39"/>
                    </a:lnTo>
                    <a:lnTo>
                      <a:pt x="737" y="0"/>
                    </a:lnTo>
                    <a:lnTo>
                      <a:pt x="355" y="105"/>
                    </a:lnTo>
                    <a:lnTo>
                      <a:pt x="62" y="386"/>
                    </a:lnTo>
                    <a:lnTo>
                      <a:pt x="355" y="208"/>
                    </a:lnTo>
                    <a:lnTo>
                      <a:pt x="103" y="478"/>
                    </a:lnTo>
                    <a:lnTo>
                      <a:pt x="0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3418920" y="1398600"/>
                <a:ext cx="90720" cy="174600"/>
              </a:xfrm>
              <a:custGeom>
                <a:avLst/>
                <a:gdLst/>
                <a:ahLst/>
                <a:rect l="l" t="t" r="r" b="b"/>
                <a:pathLst>
                  <a:path w="1364" h="2279">
                    <a:moveTo>
                      <a:pt x="1364" y="0"/>
                    </a:moveTo>
                    <a:lnTo>
                      <a:pt x="1165" y="115"/>
                    </a:lnTo>
                    <a:lnTo>
                      <a:pt x="793" y="543"/>
                    </a:lnTo>
                    <a:lnTo>
                      <a:pt x="562" y="1289"/>
                    </a:lnTo>
                    <a:lnTo>
                      <a:pt x="276" y="1803"/>
                    </a:lnTo>
                    <a:lnTo>
                      <a:pt x="27" y="1999"/>
                    </a:lnTo>
                    <a:lnTo>
                      <a:pt x="0" y="2113"/>
                    </a:lnTo>
                    <a:lnTo>
                      <a:pt x="57" y="2242"/>
                    </a:lnTo>
                    <a:lnTo>
                      <a:pt x="190" y="2279"/>
                    </a:lnTo>
                    <a:lnTo>
                      <a:pt x="107" y="2218"/>
                    </a:lnTo>
                    <a:lnTo>
                      <a:pt x="88" y="2113"/>
                    </a:lnTo>
                    <a:lnTo>
                      <a:pt x="231" y="2007"/>
                    </a:lnTo>
                    <a:lnTo>
                      <a:pt x="310" y="2007"/>
                    </a:lnTo>
                    <a:lnTo>
                      <a:pt x="360" y="2154"/>
                    </a:lnTo>
                    <a:lnTo>
                      <a:pt x="503" y="2049"/>
                    </a:lnTo>
                    <a:lnTo>
                      <a:pt x="599" y="1842"/>
                    </a:lnTo>
                    <a:lnTo>
                      <a:pt x="752" y="1674"/>
                    </a:lnTo>
                    <a:lnTo>
                      <a:pt x="509" y="1803"/>
                    </a:lnTo>
                    <a:lnTo>
                      <a:pt x="579" y="1557"/>
                    </a:lnTo>
                    <a:lnTo>
                      <a:pt x="772" y="1316"/>
                    </a:lnTo>
                    <a:lnTo>
                      <a:pt x="900" y="811"/>
                    </a:lnTo>
                    <a:lnTo>
                      <a:pt x="731" y="1261"/>
                    </a:lnTo>
                    <a:lnTo>
                      <a:pt x="721" y="1084"/>
                    </a:lnTo>
                    <a:lnTo>
                      <a:pt x="871" y="528"/>
                    </a:lnTo>
                    <a:lnTo>
                      <a:pt x="1181" y="128"/>
                    </a:lnTo>
                    <a:lnTo>
                      <a:pt x="13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3506040" y="156384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272" h="308">
                    <a:moveTo>
                      <a:pt x="272" y="129"/>
                    </a:moveTo>
                    <a:lnTo>
                      <a:pt x="200" y="115"/>
                    </a:lnTo>
                    <a:lnTo>
                      <a:pt x="131" y="0"/>
                    </a:lnTo>
                    <a:lnTo>
                      <a:pt x="71" y="138"/>
                    </a:lnTo>
                    <a:lnTo>
                      <a:pt x="71" y="217"/>
                    </a:lnTo>
                    <a:lnTo>
                      <a:pt x="0" y="308"/>
                    </a:lnTo>
                    <a:lnTo>
                      <a:pt x="182" y="232"/>
                    </a:lnTo>
                    <a:lnTo>
                      <a:pt x="27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3438000" y="1475640"/>
                <a:ext cx="28440" cy="92160"/>
              </a:xfrm>
              <a:custGeom>
                <a:avLst/>
                <a:gdLst/>
                <a:ahLst/>
                <a:rect l="l" t="t" r="r" b="b"/>
                <a:pathLst>
                  <a:path w="432" h="1198">
                    <a:moveTo>
                      <a:pt x="432" y="0"/>
                    </a:moveTo>
                    <a:lnTo>
                      <a:pt x="241" y="667"/>
                    </a:lnTo>
                    <a:lnTo>
                      <a:pt x="19" y="992"/>
                    </a:lnTo>
                    <a:lnTo>
                      <a:pt x="112" y="939"/>
                    </a:lnTo>
                    <a:lnTo>
                      <a:pt x="81" y="1069"/>
                    </a:lnTo>
                    <a:lnTo>
                      <a:pt x="0" y="1198"/>
                    </a:lnTo>
                    <a:lnTo>
                      <a:pt x="251" y="912"/>
                    </a:lnTo>
                    <a:lnTo>
                      <a:pt x="354" y="679"/>
                    </a:lnTo>
                    <a:lnTo>
                      <a:pt x="143" y="925"/>
                    </a:lnTo>
                    <a:lnTo>
                      <a:pt x="268" y="667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400560" y="1539360"/>
                <a:ext cx="11880" cy="15120"/>
              </a:xfrm>
              <a:custGeom>
                <a:avLst/>
                <a:gdLst/>
                <a:ahLst/>
                <a:rect l="l" t="t" r="r" b="b"/>
                <a:pathLst>
                  <a:path w="174" h="196">
                    <a:moveTo>
                      <a:pt x="49" y="25"/>
                    </a:moveTo>
                    <a:lnTo>
                      <a:pt x="0" y="103"/>
                    </a:lnTo>
                    <a:lnTo>
                      <a:pt x="100" y="196"/>
                    </a:lnTo>
                    <a:lnTo>
                      <a:pt x="174" y="103"/>
                    </a:lnTo>
                    <a:lnTo>
                      <a:pt x="100" y="103"/>
                    </a:lnTo>
                    <a:lnTo>
                      <a:pt x="70" y="78"/>
                    </a:lnTo>
                    <a:lnTo>
                      <a:pt x="90" y="0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3408840" y="1495080"/>
                <a:ext cx="22680" cy="49320"/>
              </a:xfrm>
              <a:custGeom>
                <a:avLst/>
                <a:gdLst/>
                <a:ahLst/>
                <a:rect l="l" t="t" r="r" b="b"/>
                <a:pathLst>
                  <a:path w="346" h="646">
                    <a:moveTo>
                      <a:pt x="139" y="0"/>
                    </a:moveTo>
                    <a:lnTo>
                      <a:pt x="287" y="119"/>
                    </a:lnTo>
                    <a:lnTo>
                      <a:pt x="346" y="273"/>
                    </a:lnTo>
                    <a:lnTo>
                      <a:pt x="346" y="400"/>
                    </a:lnTo>
                    <a:lnTo>
                      <a:pt x="227" y="646"/>
                    </a:lnTo>
                    <a:lnTo>
                      <a:pt x="248" y="439"/>
                    </a:lnTo>
                    <a:lnTo>
                      <a:pt x="117" y="235"/>
                    </a:lnTo>
                    <a:lnTo>
                      <a:pt x="117" y="390"/>
                    </a:lnTo>
                    <a:lnTo>
                      <a:pt x="0" y="0"/>
                    </a:lnTo>
                    <a:lnTo>
                      <a:pt x="258" y="337"/>
                    </a:lnTo>
                    <a:lnTo>
                      <a:pt x="238" y="194"/>
                    </a:lnTo>
                    <a:lnTo>
                      <a:pt x="149" y="6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3423600" y="151308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23" h="511">
                    <a:moveTo>
                      <a:pt x="200" y="0"/>
                    </a:moveTo>
                    <a:lnTo>
                      <a:pt x="323" y="374"/>
                    </a:lnTo>
                    <a:lnTo>
                      <a:pt x="138" y="473"/>
                    </a:lnTo>
                    <a:lnTo>
                      <a:pt x="152" y="358"/>
                    </a:lnTo>
                    <a:lnTo>
                      <a:pt x="0" y="511"/>
                    </a:lnTo>
                    <a:lnTo>
                      <a:pt x="119" y="298"/>
                    </a:lnTo>
                    <a:lnTo>
                      <a:pt x="128" y="114"/>
                    </a:lnTo>
                    <a:lnTo>
                      <a:pt x="200" y="282"/>
                    </a:lnTo>
                    <a:lnTo>
                      <a:pt x="241" y="22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3439440" y="15296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5" h="192">
                    <a:moveTo>
                      <a:pt x="72" y="0"/>
                    </a:moveTo>
                    <a:lnTo>
                      <a:pt x="0" y="192"/>
                    </a:lnTo>
                    <a:lnTo>
                      <a:pt x="115" y="88"/>
                    </a:lnTo>
                    <a:lnTo>
                      <a:pt x="115" y="2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3405600" y="1575000"/>
                <a:ext cx="52560" cy="110160"/>
              </a:xfrm>
              <a:custGeom>
                <a:avLst/>
                <a:gdLst/>
                <a:ahLst/>
                <a:rect l="l" t="t" r="r" b="b"/>
                <a:pathLst>
                  <a:path w="790" h="1433">
                    <a:moveTo>
                      <a:pt x="651" y="39"/>
                    </a:moveTo>
                    <a:lnTo>
                      <a:pt x="614" y="94"/>
                    </a:lnTo>
                    <a:lnTo>
                      <a:pt x="499" y="378"/>
                    </a:lnTo>
                    <a:lnTo>
                      <a:pt x="460" y="94"/>
                    </a:lnTo>
                    <a:lnTo>
                      <a:pt x="409" y="378"/>
                    </a:lnTo>
                    <a:lnTo>
                      <a:pt x="289" y="607"/>
                    </a:lnTo>
                    <a:lnTo>
                      <a:pt x="306" y="351"/>
                    </a:lnTo>
                    <a:lnTo>
                      <a:pt x="209" y="521"/>
                    </a:lnTo>
                    <a:lnTo>
                      <a:pt x="222" y="713"/>
                    </a:lnTo>
                    <a:lnTo>
                      <a:pt x="87" y="494"/>
                    </a:lnTo>
                    <a:lnTo>
                      <a:pt x="72" y="698"/>
                    </a:lnTo>
                    <a:lnTo>
                      <a:pt x="150" y="971"/>
                    </a:lnTo>
                    <a:lnTo>
                      <a:pt x="0" y="879"/>
                    </a:lnTo>
                    <a:lnTo>
                      <a:pt x="119" y="1059"/>
                    </a:lnTo>
                    <a:lnTo>
                      <a:pt x="300" y="1110"/>
                    </a:lnTo>
                    <a:lnTo>
                      <a:pt x="499" y="1433"/>
                    </a:lnTo>
                    <a:lnTo>
                      <a:pt x="542" y="1316"/>
                    </a:lnTo>
                    <a:lnTo>
                      <a:pt x="542" y="1188"/>
                    </a:lnTo>
                    <a:lnTo>
                      <a:pt x="760" y="958"/>
                    </a:lnTo>
                    <a:lnTo>
                      <a:pt x="790" y="792"/>
                    </a:lnTo>
                    <a:lnTo>
                      <a:pt x="721" y="673"/>
                    </a:lnTo>
                    <a:lnTo>
                      <a:pt x="749" y="792"/>
                    </a:lnTo>
                    <a:lnTo>
                      <a:pt x="711" y="879"/>
                    </a:lnTo>
                    <a:lnTo>
                      <a:pt x="532" y="879"/>
                    </a:lnTo>
                    <a:lnTo>
                      <a:pt x="520" y="815"/>
                    </a:lnTo>
                    <a:lnTo>
                      <a:pt x="641" y="644"/>
                    </a:lnTo>
                    <a:lnTo>
                      <a:pt x="702" y="441"/>
                    </a:lnTo>
                    <a:lnTo>
                      <a:pt x="532" y="658"/>
                    </a:lnTo>
                    <a:lnTo>
                      <a:pt x="542" y="466"/>
                    </a:lnTo>
                    <a:lnTo>
                      <a:pt x="641" y="170"/>
                    </a:lnTo>
                    <a:lnTo>
                      <a:pt x="614" y="441"/>
                    </a:lnTo>
                    <a:lnTo>
                      <a:pt x="739" y="0"/>
                    </a:lnTo>
                    <a:lnTo>
                      <a:pt x="670" y="118"/>
                    </a:lnTo>
                    <a:lnTo>
                      <a:pt x="65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84000" y="160524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03" h="193">
                    <a:moveTo>
                      <a:pt x="41" y="115"/>
                    </a:moveTo>
                    <a:lnTo>
                      <a:pt x="0" y="193"/>
                    </a:lnTo>
                    <a:lnTo>
                      <a:pt x="92" y="180"/>
                    </a:lnTo>
                    <a:lnTo>
                      <a:pt x="152" y="104"/>
                    </a:lnTo>
                    <a:lnTo>
                      <a:pt x="203" y="139"/>
                    </a:lnTo>
                    <a:lnTo>
                      <a:pt x="193" y="0"/>
                    </a:lnTo>
                    <a:lnTo>
                      <a:pt x="152" y="67"/>
                    </a:lnTo>
                    <a:lnTo>
                      <a:pt x="123" y="39"/>
                    </a:lnTo>
                    <a:lnTo>
                      <a:pt x="70" y="104"/>
                    </a:lnTo>
                    <a:lnTo>
                      <a:pt x="4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3455640" y="1579320"/>
                <a:ext cx="42840" cy="52200"/>
              </a:xfrm>
              <a:custGeom>
                <a:avLst/>
                <a:gdLst/>
                <a:ahLst/>
                <a:rect l="l" t="t" r="r" b="b"/>
                <a:pathLst>
                  <a:path w="643" h="674">
                    <a:moveTo>
                      <a:pt x="643" y="402"/>
                    </a:moveTo>
                    <a:lnTo>
                      <a:pt x="549" y="528"/>
                    </a:lnTo>
                    <a:lnTo>
                      <a:pt x="431" y="552"/>
                    </a:lnTo>
                    <a:lnTo>
                      <a:pt x="290" y="552"/>
                    </a:lnTo>
                    <a:lnTo>
                      <a:pt x="50" y="674"/>
                    </a:lnTo>
                    <a:lnTo>
                      <a:pt x="109" y="425"/>
                    </a:lnTo>
                    <a:lnTo>
                      <a:pt x="30" y="466"/>
                    </a:lnTo>
                    <a:lnTo>
                      <a:pt x="99" y="232"/>
                    </a:lnTo>
                    <a:lnTo>
                      <a:pt x="0" y="271"/>
                    </a:lnTo>
                    <a:lnTo>
                      <a:pt x="191" y="0"/>
                    </a:lnTo>
                    <a:lnTo>
                      <a:pt x="140" y="169"/>
                    </a:lnTo>
                    <a:lnTo>
                      <a:pt x="220" y="139"/>
                    </a:lnTo>
                    <a:lnTo>
                      <a:pt x="140" y="374"/>
                    </a:lnTo>
                    <a:lnTo>
                      <a:pt x="241" y="323"/>
                    </a:lnTo>
                    <a:lnTo>
                      <a:pt x="241" y="425"/>
                    </a:lnTo>
                    <a:lnTo>
                      <a:pt x="472" y="474"/>
                    </a:lnTo>
                    <a:lnTo>
                      <a:pt x="549" y="487"/>
                    </a:lnTo>
                    <a:lnTo>
                      <a:pt x="643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503520" y="1587240"/>
                <a:ext cx="53640" cy="100440"/>
              </a:xfrm>
              <a:custGeom>
                <a:avLst/>
                <a:gdLst/>
                <a:ahLst/>
                <a:rect l="l" t="t" r="r" b="b"/>
                <a:pathLst>
                  <a:path w="824" h="1325">
                    <a:moveTo>
                      <a:pt x="824" y="0"/>
                    </a:moveTo>
                    <a:lnTo>
                      <a:pt x="574" y="155"/>
                    </a:lnTo>
                    <a:lnTo>
                      <a:pt x="484" y="143"/>
                    </a:lnTo>
                    <a:lnTo>
                      <a:pt x="373" y="77"/>
                    </a:lnTo>
                    <a:lnTo>
                      <a:pt x="325" y="309"/>
                    </a:lnTo>
                    <a:lnTo>
                      <a:pt x="433" y="541"/>
                    </a:lnTo>
                    <a:lnTo>
                      <a:pt x="235" y="487"/>
                    </a:lnTo>
                    <a:lnTo>
                      <a:pt x="266" y="635"/>
                    </a:lnTo>
                    <a:lnTo>
                      <a:pt x="221" y="748"/>
                    </a:lnTo>
                    <a:lnTo>
                      <a:pt x="157" y="773"/>
                    </a:lnTo>
                    <a:lnTo>
                      <a:pt x="51" y="980"/>
                    </a:lnTo>
                    <a:lnTo>
                      <a:pt x="0" y="1325"/>
                    </a:lnTo>
                    <a:lnTo>
                      <a:pt x="141" y="967"/>
                    </a:lnTo>
                    <a:lnTo>
                      <a:pt x="373" y="736"/>
                    </a:lnTo>
                    <a:lnTo>
                      <a:pt x="663" y="450"/>
                    </a:lnTo>
                    <a:lnTo>
                      <a:pt x="714" y="284"/>
                    </a:lnTo>
                    <a:lnTo>
                      <a:pt x="703" y="169"/>
                    </a:lnTo>
                    <a:lnTo>
                      <a:pt x="8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3403440" y="16876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738" h="665">
                    <a:moveTo>
                      <a:pt x="738" y="665"/>
                    </a:moveTo>
                    <a:lnTo>
                      <a:pt x="738" y="552"/>
                    </a:lnTo>
                    <a:lnTo>
                      <a:pt x="333" y="114"/>
                    </a:lnTo>
                    <a:lnTo>
                      <a:pt x="0" y="0"/>
                    </a:lnTo>
                    <a:lnTo>
                      <a:pt x="290" y="178"/>
                    </a:lnTo>
                    <a:lnTo>
                      <a:pt x="349" y="345"/>
                    </a:lnTo>
                    <a:lnTo>
                      <a:pt x="659" y="552"/>
                    </a:lnTo>
                    <a:lnTo>
                      <a:pt x="738" y="6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393360" y="1700280"/>
                <a:ext cx="82440" cy="89280"/>
              </a:xfrm>
              <a:custGeom>
                <a:avLst/>
                <a:gdLst/>
                <a:ahLst/>
                <a:rect l="l" t="t" r="r" b="b"/>
                <a:pathLst>
                  <a:path w="1247" h="1183">
                    <a:moveTo>
                      <a:pt x="1247" y="1183"/>
                    </a:moveTo>
                    <a:lnTo>
                      <a:pt x="988" y="774"/>
                    </a:lnTo>
                    <a:lnTo>
                      <a:pt x="0" y="0"/>
                    </a:lnTo>
                    <a:lnTo>
                      <a:pt x="88" y="158"/>
                    </a:lnTo>
                    <a:lnTo>
                      <a:pt x="427" y="492"/>
                    </a:lnTo>
                    <a:lnTo>
                      <a:pt x="466" y="618"/>
                    </a:lnTo>
                    <a:lnTo>
                      <a:pt x="347" y="706"/>
                    </a:lnTo>
                    <a:lnTo>
                      <a:pt x="606" y="838"/>
                    </a:lnTo>
                    <a:lnTo>
                      <a:pt x="957" y="940"/>
                    </a:lnTo>
                    <a:lnTo>
                      <a:pt x="1247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3380040" y="1766520"/>
                <a:ext cx="91080" cy="96120"/>
              </a:xfrm>
              <a:custGeom>
                <a:avLst/>
                <a:gdLst/>
                <a:ahLst/>
                <a:rect l="l" t="t" r="r" b="b"/>
                <a:pathLst>
                  <a:path w="1378" h="1260">
                    <a:moveTo>
                      <a:pt x="1378" y="1127"/>
                    </a:moveTo>
                    <a:lnTo>
                      <a:pt x="1208" y="963"/>
                    </a:lnTo>
                    <a:lnTo>
                      <a:pt x="1087" y="1013"/>
                    </a:lnTo>
                    <a:lnTo>
                      <a:pt x="752" y="643"/>
                    </a:lnTo>
                    <a:lnTo>
                      <a:pt x="240" y="333"/>
                    </a:lnTo>
                    <a:lnTo>
                      <a:pt x="0" y="0"/>
                    </a:lnTo>
                    <a:lnTo>
                      <a:pt x="257" y="461"/>
                    </a:lnTo>
                    <a:lnTo>
                      <a:pt x="633" y="857"/>
                    </a:lnTo>
                    <a:lnTo>
                      <a:pt x="1378" y="1260"/>
                    </a:lnTo>
                    <a:lnTo>
                      <a:pt x="1378" y="1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3331440" y="1780200"/>
                <a:ext cx="113760" cy="60480"/>
              </a:xfrm>
              <a:custGeom>
                <a:avLst/>
                <a:gdLst/>
                <a:ahLst/>
                <a:rect l="l" t="t" r="r" b="b"/>
                <a:pathLst>
                  <a:path w="1709" h="794">
                    <a:moveTo>
                      <a:pt x="0" y="0"/>
                    </a:moveTo>
                    <a:lnTo>
                      <a:pt x="810" y="295"/>
                    </a:lnTo>
                    <a:lnTo>
                      <a:pt x="1058" y="330"/>
                    </a:lnTo>
                    <a:lnTo>
                      <a:pt x="1598" y="601"/>
                    </a:lnTo>
                    <a:lnTo>
                      <a:pt x="1481" y="652"/>
                    </a:lnTo>
                    <a:lnTo>
                      <a:pt x="1709" y="794"/>
                    </a:lnTo>
                    <a:lnTo>
                      <a:pt x="1577" y="794"/>
                    </a:lnTo>
                    <a:lnTo>
                      <a:pt x="1078" y="640"/>
                    </a:lnTo>
                    <a:lnTo>
                      <a:pt x="949" y="743"/>
                    </a:lnTo>
                    <a:lnTo>
                      <a:pt x="798" y="446"/>
                    </a:lnTo>
                    <a:lnTo>
                      <a:pt x="720" y="538"/>
                    </a:lnTo>
                    <a:lnTo>
                      <a:pt x="409" y="360"/>
                    </a:lnTo>
                    <a:lnTo>
                      <a:pt x="280" y="188"/>
                    </a:lnTo>
                    <a:lnTo>
                      <a:pt x="31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381480" y="1657440"/>
                <a:ext cx="21240" cy="85320"/>
              </a:xfrm>
              <a:custGeom>
                <a:avLst/>
                <a:gdLst/>
                <a:ahLst/>
                <a:rect l="l" t="t" r="r" b="b"/>
                <a:pathLst>
                  <a:path w="321" h="1116">
                    <a:moveTo>
                      <a:pt x="249" y="0"/>
                    </a:moveTo>
                    <a:lnTo>
                      <a:pt x="303" y="89"/>
                    </a:lnTo>
                    <a:lnTo>
                      <a:pt x="303" y="266"/>
                    </a:lnTo>
                    <a:lnTo>
                      <a:pt x="239" y="549"/>
                    </a:lnTo>
                    <a:lnTo>
                      <a:pt x="321" y="744"/>
                    </a:lnTo>
                    <a:lnTo>
                      <a:pt x="170" y="1116"/>
                    </a:lnTo>
                    <a:lnTo>
                      <a:pt x="151" y="976"/>
                    </a:lnTo>
                    <a:lnTo>
                      <a:pt x="83" y="884"/>
                    </a:lnTo>
                    <a:lnTo>
                      <a:pt x="0" y="526"/>
                    </a:lnTo>
                    <a:lnTo>
                      <a:pt x="233" y="204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3201840" y="1701720"/>
                <a:ext cx="420120" cy="390960"/>
              </a:xfrm>
              <a:custGeom>
                <a:avLst/>
                <a:gdLst/>
                <a:ahLst/>
                <a:rect l="l" t="t" r="r" b="b"/>
                <a:pathLst>
                  <a:path w="6327" h="5107">
                    <a:moveTo>
                      <a:pt x="6327" y="3485"/>
                    </a:moveTo>
                    <a:lnTo>
                      <a:pt x="5506" y="3914"/>
                    </a:lnTo>
                    <a:lnTo>
                      <a:pt x="4543" y="4048"/>
                    </a:lnTo>
                    <a:lnTo>
                      <a:pt x="3642" y="4647"/>
                    </a:lnTo>
                    <a:lnTo>
                      <a:pt x="3333" y="4647"/>
                    </a:lnTo>
                    <a:lnTo>
                      <a:pt x="2989" y="5040"/>
                    </a:lnTo>
                    <a:lnTo>
                      <a:pt x="2748" y="5107"/>
                    </a:lnTo>
                    <a:lnTo>
                      <a:pt x="2954" y="4854"/>
                    </a:lnTo>
                    <a:lnTo>
                      <a:pt x="2830" y="4444"/>
                    </a:lnTo>
                    <a:lnTo>
                      <a:pt x="2367" y="4647"/>
                    </a:lnTo>
                    <a:lnTo>
                      <a:pt x="2178" y="4867"/>
                    </a:lnTo>
                    <a:lnTo>
                      <a:pt x="2377" y="4425"/>
                    </a:lnTo>
                    <a:lnTo>
                      <a:pt x="2110" y="4425"/>
                    </a:lnTo>
                    <a:lnTo>
                      <a:pt x="1605" y="4596"/>
                    </a:lnTo>
                    <a:lnTo>
                      <a:pt x="2020" y="4271"/>
                    </a:lnTo>
                    <a:lnTo>
                      <a:pt x="2427" y="4169"/>
                    </a:lnTo>
                    <a:lnTo>
                      <a:pt x="2309" y="4081"/>
                    </a:lnTo>
                    <a:lnTo>
                      <a:pt x="2087" y="4032"/>
                    </a:lnTo>
                    <a:lnTo>
                      <a:pt x="2020" y="3809"/>
                    </a:lnTo>
                    <a:lnTo>
                      <a:pt x="1763" y="3635"/>
                    </a:lnTo>
                    <a:lnTo>
                      <a:pt x="1872" y="3570"/>
                    </a:lnTo>
                    <a:lnTo>
                      <a:pt x="2020" y="3553"/>
                    </a:lnTo>
                    <a:lnTo>
                      <a:pt x="2192" y="3366"/>
                    </a:lnTo>
                    <a:lnTo>
                      <a:pt x="2272" y="3060"/>
                    </a:lnTo>
                    <a:lnTo>
                      <a:pt x="2096" y="3060"/>
                    </a:lnTo>
                    <a:lnTo>
                      <a:pt x="1791" y="3294"/>
                    </a:lnTo>
                    <a:lnTo>
                      <a:pt x="1472" y="3294"/>
                    </a:lnTo>
                    <a:lnTo>
                      <a:pt x="1377" y="3503"/>
                    </a:lnTo>
                    <a:lnTo>
                      <a:pt x="1338" y="3503"/>
                    </a:lnTo>
                    <a:lnTo>
                      <a:pt x="1286" y="3349"/>
                    </a:lnTo>
                    <a:lnTo>
                      <a:pt x="913" y="3979"/>
                    </a:lnTo>
                    <a:lnTo>
                      <a:pt x="1114" y="3431"/>
                    </a:lnTo>
                    <a:lnTo>
                      <a:pt x="1032" y="3366"/>
                    </a:lnTo>
                    <a:lnTo>
                      <a:pt x="885" y="3397"/>
                    </a:lnTo>
                    <a:lnTo>
                      <a:pt x="531" y="3961"/>
                    </a:lnTo>
                    <a:lnTo>
                      <a:pt x="303" y="4081"/>
                    </a:lnTo>
                    <a:lnTo>
                      <a:pt x="806" y="3382"/>
                    </a:lnTo>
                    <a:lnTo>
                      <a:pt x="834" y="3280"/>
                    </a:lnTo>
                    <a:lnTo>
                      <a:pt x="0" y="4017"/>
                    </a:lnTo>
                    <a:lnTo>
                      <a:pt x="141" y="3590"/>
                    </a:lnTo>
                    <a:lnTo>
                      <a:pt x="791" y="3128"/>
                    </a:lnTo>
                    <a:lnTo>
                      <a:pt x="474" y="3091"/>
                    </a:lnTo>
                    <a:lnTo>
                      <a:pt x="806" y="3006"/>
                    </a:lnTo>
                    <a:lnTo>
                      <a:pt x="1061" y="2836"/>
                    </a:lnTo>
                    <a:lnTo>
                      <a:pt x="1073" y="2988"/>
                    </a:lnTo>
                    <a:lnTo>
                      <a:pt x="1315" y="2750"/>
                    </a:lnTo>
                    <a:lnTo>
                      <a:pt x="1621" y="2732"/>
                    </a:lnTo>
                    <a:lnTo>
                      <a:pt x="1712" y="2644"/>
                    </a:lnTo>
                    <a:lnTo>
                      <a:pt x="1712" y="2409"/>
                    </a:lnTo>
                    <a:lnTo>
                      <a:pt x="2578" y="2887"/>
                    </a:lnTo>
                    <a:lnTo>
                      <a:pt x="2761" y="2869"/>
                    </a:lnTo>
                    <a:lnTo>
                      <a:pt x="2775" y="2732"/>
                    </a:lnTo>
                    <a:lnTo>
                      <a:pt x="2578" y="2511"/>
                    </a:lnTo>
                    <a:lnTo>
                      <a:pt x="2392" y="2580"/>
                    </a:lnTo>
                    <a:lnTo>
                      <a:pt x="2215" y="2151"/>
                    </a:lnTo>
                    <a:lnTo>
                      <a:pt x="1832" y="1879"/>
                    </a:lnTo>
                    <a:lnTo>
                      <a:pt x="1979" y="1795"/>
                    </a:lnTo>
                    <a:lnTo>
                      <a:pt x="1621" y="1405"/>
                    </a:lnTo>
                    <a:lnTo>
                      <a:pt x="1486" y="1415"/>
                    </a:lnTo>
                    <a:lnTo>
                      <a:pt x="1408" y="1570"/>
                    </a:lnTo>
                    <a:lnTo>
                      <a:pt x="1180" y="648"/>
                    </a:lnTo>
                    <a:lnTo>
                      <a:pt x="1897" y="1432"/>
                    </a:lnTo>
                    <a:lnTo>
                      <a:pt x="1582" y="871"/>
                    </a:lnTo>
                    <a:lnTo>
                      <a:pt x="1408" y="0"/>
                    </a:lnTo>
                    <a:lnTo>
                      <a:pt x="1699" y="888"/>
                    </a:lnTo>
                    <a:lnTo>
                      <a:pt x="2897" y="2304"/>
                    </a:lnTo>
                    <a:lnTo>
                      <a:pt x="2724" y="2304"/>
                    </a:lnTo>
                    <a:lnTo>
                      <a:pt x="3016" y="2617"/>
                    </a:lnTo>
                    <a:lnTo>
                      <a:pt x="3363" y="2668"/>
                    </a:lnTo>
                    <a:lnTo>
                      <a:pt x="3467" y="2732"/>
                    </a:lnTo>
                    <a:lnTo>
                      <a:pt x="3416" y="2939"/>
                    </a:lnTo>
                    <a:lnTo>
                      <a:pt x="3562" y="2988"/>
                    </a:lnTo>
                    <a:lnTo>
                      <a:pt x="3627" y="3263"/>
                    </a:lnTo>
                    <a:lnTo>
                      <a:pt x="3775" y="3431"/>
                    </a:lnTo>
                    <a:lnTo>
                      <a:pt x="3268" y="3245"/>
                    </a:lnTo>
                    <a:lnTo>
                      <a:pt x="3204" y="3725"/>
                    </a:lnTo>
                    <a:lnTo>
                      <a:pt x="3627" y="3809"/>
                    </a:lnTo>
                    <a:lnTo>
                      <a:pt x="4161" y="3623"/>
                    </a:lnTo>
                    <a:lnTo>
                      <a:pt x="3895" y="3518"/>
                    </a:lnTo>
                    <a:lnTo>
                      <a:pt x="4907" y="3707"/>
                    </a:lnTo>
                    <a:lnTo>
                      <a:pt x="6114" y="3417"/>
                    </a:lnTo>
                    <a:lnTo>
                      <a:pt x="6089" y="3518"/>
                    </a:lnTo>
                    <a:lnTo>
                      <a:pt x="6327" y="3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521880" y="1771920"/>
                <a:ext cx="56160" cy="111600"/>
              </a:xfrm>
              <a:custGeom>
                <a:avLst/>
                <a:gdLst/>
                <a:ahLst/>
                <a:rect l="l" t="t" r="r" b="b"/>
                <a:pathLst>
                  <a:path w="840" h="1468">
                    <a:moveTo>
                      <a:pt x="253" y="0"/>
                    </a:moveTo>
                    <a:lnTo>
                      <a:pt x="721" y="1025"/>
                    </a:lnTo>
                    <a:lnTo>
                      <a:pt x="589" y="920"/>
                    </a:lnTo>
                    <a:lnTo>
                      <a:pt x="589" y="1059"/>
                    </a:lnTo>
                    <a:lnTo>
                      <a:pt x="840" y="1382"/>
                    </a:lnTo>
                    <a:lnTo>
                      <a:pt x="324" y="1175"/>
                    </a:lnTo>
                    <a:lnTo>
                      <a:pt x="0" y="1468"/>
                    </a:lnTo>
                    <a:lnTo>
                      <a:pt x="214" y="936"/>
                    </a:lnTo>
                    <a:lnTo>
                      <a:pt x="374" y="766"/>
                    </a:lnTo>
                    <a:lnTo>
                      <a:pt x="390" y="562"/>
                    </a:lnTo>
                    <a:lnTo>
                      <a:pt x="269" y="304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549600" y="1899720"/>
                <a:ext cx="56160" cy="27720"/>
              </a:xfrm>
              <a:custGeom>
                <a:avLst/>
                <a:gdLst/>
                <a:ahLst/>
                <a:rect l="l" t="t" r="r" b="b"/>
                <a:pathLst>
                  <a:path w="853" h="359">
                    <a:moveTo>
                      <a:pt x="853" y="102"/>
                    </a:moveTo>
                    <a:lnTo>
                      <a:pt x="493" y="0"/>
                    </a:lnTo>
                    <a:lnTo>
                      <a:pt x="346" y="0"/>
                    </a:lnTo>
                    <a:lnTo>
                      <a:pt x="54" y="170"/>
                    </a:lnTo>
                    <a:lnTo>
                      <a:pt x="0" y="359"/>
                    </a:lnTo>
                    <a:lnTo>
                      <a:pt x="438" y="102"/>
                    </a:lnTo>
                    <a:lnTo>
                      <a:pt x="8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3267000" y="1751400"/>
                <a:ext cx="123120" cy="56160"/>
              </a:xfrm>
              <a:custGeom>
                <a:avLst/>
                <a:gdLst/>
                <a:ahLst/>
                <a:rect l="l" t="t" r="r" b="b"/>
                <a:pathLst>
                  <a:path w="1852" h="751">
                    <a:moveTo>
                      <a:pt x="0" y="35"/>
                    </a:moveTo>
                    <a:lnTo>
                      <a:pt x="0" y="289"/>
                    </a:lnTo>
                    <a:lnTo>
                      <a:pt x="162" y="391"/>
                    </a:lnTo>
                    <a:lnTo>
                      <a:pt x="162" y="579"/>
                    </a:lnTo>
                    <a:lnTo>
                      <a:pt x="573" y="751"/>
                    </a:lnTo>
                    <a:lnTo>
                      <a:pt x="986" y="751"/>
                    </a:lnTo>
                    <a:lnTo>
                      <a:pt x="1852" y="391"/>
                    </a:lnTo>
                    <a:lnTo>
                      <a:pt x="1837" y="189"/>
                    </a:lnTo>
                    <a:lnTo>
                      <a:pt x="1640" y="0"/>
                    </a:lnTo>
                    <a:lnTo>
                      <a:pt x="1556" y="189"/>
                    </a:lnTo>
                    <a:lnTo>
                      <a:pt x="1399" y="0"/>
                    </a:lnTo>
                    <a:lnTo>
                      <a:pt x="733" y="82"/>
                    </a:lnTo>
                    <a:lnTo>
                      <a:pt x="561" y="238"/>
                    </a:lnTo>
                    <a:lnTo>
                      <a:pt x="360" y="119"/>
                    </a:lnTo>
                    <a:lnTo>
                      <a:pt x="281" y="119"/>
                    </a:lnTo>
                    <a:lnTo>
                      <a:pt x="199" y="205"/>
                    </a:lnTo>
                    <a:lnTo>
                      <a:pt x="82" y="20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3318120" y="1839240"/>
                <a:ext cx="50040" cy="100440"/>
              </a:xfrm>
              <a:custGeom>
                <a:avLst/>
                <a:gdLst/>
                <a:ahLst/>
                <a:rect l="l" t="t" r="r" b="b"/>
                <a:pathLst>
                  <a:path w="750" h="1313">
                    <a:moveTo>
                      <a:pt x="695" y="0"/>
                    </a:moveTo>
                    <a:lnTo>
                      <a:pt x="695" y="239"/>
                    </a:lnTo>
                    <a:lnTo>
                      <a:pt x="97" y="955"/>
                    </a:lnTo>
                    <a:lnTo>
                      <a:pt x="0" y="1313"/>
                    </a:lnTo>
                    <a:lnTo>
                      <a:pt x="188" y="1125"/>
                    </a:lnTo>
                    <a:lnTo>
                      <a:pt x="335" y="801"/>
                    </a:lnTo>
                    <a:lnTo>
                      <a:pt x="507" y="748"/>
                    </a:lnTo>
                    <a:lnTo>
                      <a:pt x="750" y="288"/>
                    </a:lnTo>
                    <a:lnTo>
                      <a:pt x="750" y="17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581640" y="1803600"/>
                <a:ext cx="43920" cy="185760"/>
              </a:xfrm>
              <a:custGeom>
                <a:avLst/>
                <a:gdLst/>
                <a:ahLst/>
                <a:rect l="l" t="t" r="r" b="b"/>
                <a:pathLst>
                  <a:path w="655" h="2441">
                    <a:moveTo>
                      <a:pt x="0" y="51"/>
                    </a:moveTo>
                    <a:lnTo>
                      <a:pt x="0" y="2441"/>
                    </a:lnTo>
                    <a:lnTo>
                      <a:pt x="158" y="1875"/>
                    </a:lnTo>
                    <a:lnTo>
                      <a:pt x="293" y="1178"/>
                    </a:lnTo>
                    <a:lnTo>
                      <a:pt x="491" y="799"/>
                    </a:lnTo>
                    <a:lnTo>
                      <a:pt x="655" y="0"/>
                    </a:lnTo>
                    <a:lnTo>
                      <a:pt x="454" y="597"/>
                    </a:lnTo>
                    <a:lnTo>
                      <a:pt x="265" y="579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307320" y="18586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84" h="392">
                    <a:moveTo>
                      <a:pt x="18" y="17"/>
                    </a:moveTo>
                    <a:lnTo>
                      <a:pt x="18" y="392"/>
                    </a:lnTo>
                    <a:lnTo>
                      <a:pt x="184" y="207"/>
                    </a:lnTo>
                    <a:lnTo>
                      <a:pt x="135" y="33"/>
                    </a:lnTo>
                    <a:lnTo>
                      <a:pt x="0" y="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495600" y="1992240"/>
                <a:ext cx="81360" cy="65880"/>
              </a:xfrm>
              <a:custGeom>
                <a:avLst/>
                <a:gdLst/>
                <a:ahLst/>
                <a:rect l="l" t="t" r="r" b="b"/>
                <a:pathLst>
                  <a:path w="1226" h="856">
                    <a:moveTo>
                      <a:pt x="1226" y="276"/>
                    </a:moveTo>
                    <a:lnTo>
                      <a:pt x="1226" y="123"/>
                    </a:lnTo>
                    <a:lnTo>
                      <a:pt x="1039" y="0"/>
                    </a:lnTo>
                    <a:lnTo>
                      <a:pt x="482" y="341"/>
                    </a:lnTo>
                    <a:lnTo>
                      <a:pt x="374" y="579"/>
                    </a:lnTo>
                    <a:lnTo>
                      <a:pt x="0" y="856"/>
                    </a:lnTo>
                    <a:lnTo>
                      <a:pt x="280" y="856"/>
                    </a:lnTo>
                    <a:lnTo>
                      <a:pt x="1226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440160" y="2023920"/>
                <a:ext cx="184320" cy="153000"/>
              </a:xfrm>
              <a:custGeom>
                <a:avLst/>
                <a:gdLst/>
                <a:ahLst/>
                <a:rect l="l" t="t" r="r" b="b"/>
                <a:pathLst>
                  <a:path w="2767" h="2006">
                    <a:moveTo>
                      <a:pt x="558" y="147"/>
                    </a:moveTo>
                    <a:lnTo>
                      <a:pt x="352" y="147"/>
                    </a:lnTo>
                    <a:lnTo>
                      <a:pt x="221" y="0"/>
                    </a:lnTo>
                    <a:lnTo>
                      <a:pt x="67" y="229"/>
                    </a:lnTo>
                    <a:lnTo>
                      <a:pt x="29" y="92"/>
                    </a:lnTo>
                    <a:lnTo>
                      <a:pt x="0" y="345"/>
                    </a:lnTo>
                    <a:lnTo>
                      <a:pt x="90" y="646"/>
                    </a:lnTo>
                    <a:lnTo>
                      <a:pt x="170" y="581"/>
                    </a:lnTo>
                    <a:lnTo>
                      <a:pt x="221" y="815"/>
                    </a:lnTo>
                    <a:lnTo>
                      <a:pt x="108" y="815"/>
                    </a:lnTo>
                    <a:lnTo>
                      <a:pt x="154" y="930"/>
                    </a:lnTo>
                    <a:lnTo>
                      <a:pt x="425" y="1124"/>
                    </a:lnTo>
                    <a:lnTo>
                      <a:pt x="595" y="1480"/>
                    </a:lnTo>
                    <a:lnTo>
                      <a:pt x="857" y="1679"/>
                    </a:lnTo>
                    <a:lnTo>
                      <a:pt x="992" y="1648"/>
                    </a:lnTo>
                    <a:lnTo>
                      <a:pt x="1515" y="1930"/>
                    </a:lnTo>
                    <a:lnTo>
                      <a:pt x="1806" y="1930"/>
                    </a:lnTo>
                    <a:lnTo>
                      <a:pt x="1983" y="2006"/>
                    </a:lnTo>
                    <a:lnTo>
                      <a:pt x="2229" y="1920"/>
                    </a:lnTo>
                    <a:lnTo>
                      <a:pt x="2325" y="1961"/>
                    </a:lnTo>
                    <a:lnTo>
                      <a:pt x="2718" y="1858"/>
                    </a:lnTo>
                    <a:lnTo>
                      <a:pt x="2443" y="1815"/>
                    </a:lnTo>
                    <a:lnTo>
                      <a:pt x="2529" y="1722"/>
                    </a:lnTo>
                    <a:lnTo>
                      <a:pt x="2317" y="1785"/>
                    </a:lnTo>
                    <a:lnTo>
                      <a:pt x="1714" y="1785"/>
                    </a:lnTo>
                    <a:lnTo>
                      <a:pt x="1244" y="1562"/>
                    </a:lnTo>
                    <a:lnTo>
                      <a:pt x="1618" y="1607"/>
                    </a:lnTo>
                    <a:lnTo>
                      <a:pt x="1861" y="1607"/>
                    </a:lnTo>
                    <a:lnTo>
                      <a:pt x="2344" y="1396"/>
                    </a:lnTo>
                    <a:lnTo>
                      <a:pt x="2548" y="1386"/>
                    </a:lnTo>
                    <a:lnTo>
                      <a:pt x="2767" y="1304"/>
                    </a:lnTo>
                    <a:lnTo>
                      <a:pt x="2535" y="1359"/>
                    </a:lnTo>
                    <a:lnTo>
                      <a:pt x="2285" y="1345"/>
                    </a:lnTo>
                    <a:lnTo>
                      <a:pt x="1857" y="1472"/>
                    </a:lnTo>
                    <a:lnTo>
                      <a:pt x="1100" y="1460"/>
                    </a:lnTo>
                    <a:lnTo>
                      <a:pt x="949" y="1376"/>
                    </a:lnTo>
                    <a:lnTo>
                      <a:pt x="905" y="1231"/>
                    </a:lnTo>
                    <a:lnTo>
                      <a:pt x="747" y="1249"/>
                    </a:lnTo>
                    <a:lnTo>
                      <a:pt x="683" y="1012"/>
                    </a:lnTo>
                    <a:lnTo>
                      <a:pt x="820" y="999"/>
                    </a:lnTo>
                    <a:lnTo>
                      <a:pt x="1020" y="887"/>
                    </a:lnTo>
                    <a:lnTo>
                      <a:pt x="1402" y="875"/>
                    </a:lnTo>
                    <a:lnTo>
                      <a:pt x="2000" y="660"/>
                    </a:lnTo>
                    <a:lnTo>
                      <a:pt x="2131" y="456"/>
                    </a:lnTo>
                    <a:lnTo>
                      <a:pt x="1868" y="622"/>
                    </a:lnTo>
                    <a:lnTo>
                      <a:pt x="1462" y="622"/>
                    </a:lnTo>
                    <a:lnTo>
                      <a:pt x="1276" y="509"/>
                    </a:lnTo>
                    <a:lnTo>
                      <a:pt x="777" y="677"/>
                    </a:lnTo>
                    <a:lnTo>
                      <a:pt x="546" y="468"/>
                    </a:lnTo>
                    <a:lnTo>
                      <a:pt x="505" y="519"/>
                    </a:lnTo>
                    <a:lnTo>
                      <a:pt x="562" y="660"/>
                    </a:lnTo>
                    <a:lnTo>
                      <a:pt x="482" y="854"/>
                    </a:lnTo>
                    <a:lnTo>
                      <a:pt x="344" y="897"/>
                    </a:lnTo>
                    <a:lnTo>
                      <a:pt x="299" y="844"/>
                    </a:lnTo>
                    <a:lnTo>
                      <a:pt x="425" y="699"/>
                    </a:lnTo>
                    <a:lnTo>
                      <a:pt x="262" y="414"/>
                    </a:lnTo>
                    <a:lnTo>
                      <a:pt x="139" y="519"/>
                    </a:lnTo>
                    <a:lnTo>
                      <a:pt x="108" y="386"/>
                    </a:lnTo>
                    <a:lnTo>
                      <a:pt x="170" y="237"/>
                    </a:lnTo>
                    <a:lnTo>
                      <a:pt x="391" y="248"/>
                    </a:lnTo>
                    <a:lnTo>
                      <a:pt x="55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3453120" y="2097000"/>
                <a:ext cx="89640" cy="32760"/>
              </a:xfrm>
              <a:custGeom>
                <a:avLst/>
                <a:gdLst/>
                <a:ahLst/>
                <a:rect l="l" t="t" r="r" b="b"/>
                <a:pathLst>
                  <a:path w="1351" h="425">
                    <a:moveTo>
                      <a:pt x="1351" y="0"/>
                    </a:moveTo>
                    <a:lnTo>
                      <a:pt x="772" y="82"/>
                    </a:lnTo>
                    <a:lnTo>
                      <a:pt x="0" y="425"/>
                    </a:lnTo>
                    <a:lnTo>
                      <a:pt x="1125" y="153"/>
                    </a:lnTo>
                    <a:lnTo>
                      <a:pt x="13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451320" y="218376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930" h="251">
                    <a:moveTo>
                      <a:pt x="930" y="251"/>
                    </a:moveTo>
                    <a:lnTo>
                      <a:pt x="392" y="251"/>
                    </a:lnTo>
                    <a:lnTo>
                      <a:pt x="0" y="0"/>
                    </a:lnTo>
                    <a:lnTo>
                      <a:pt x="731" y="168"/>
                    </a:lnTo>
                    <a:lnTo>
                      <a:pt x="93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435840" y="217116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636" h="231">
                    <a:moveTo>
                      <a:pt x="636" y="0"/>
                    </a:moveTo>
                    <a:lnTo>
                      <a:pt x="0" y="198"/>
                    </a:lnTo>
                    <a:lnTo>
                      <a:pt x="595" y="231"/>
                    </a:lnTo>
                    <a:lnTo>
                      <a:pt x="6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3421440" y="2077200"/>
                <a:ext cx="118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66880" y="1703160"/>
                <a:ext cx="140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3287160" y="1532160"/>
                <a:ext cx="41760" cy="35640"/>
              </a:xfrm>
              <a:custGeom>
                <a:avLst/>
                <a:gdLst/>
                <a:ahLst/>
                <a:rect l="l" t="t" r="r" b="b"/>
                <a:pathLst>
                  <a:path w="620" h="460">
                    <a:moveTo>
                      <a:pt x="178" y="0"/>
                    </a:moveTo>
                    <a:lnTo>
                      <a:pt x="0" y="199"/>
                    </a:lnTo>
                    <a:lnTo>
                      <a:pt x="450" y="460"/>
                    </a:lnTo>
                    <a:lnTo>
                      <a:pt x="620" y="250"/>
                    </a:lnTo>
                    <a:lnTo>
                      <a:pt x="466" y="127"/>
                    </a:lnTo>
                    <a:lnTo>
                      <a:pt x="318" y="270"/>
                    </a:lnTo>
                    <a:lnTo>
                      <a:pt x="344" y="8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285000" y="15310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98" h="215">
                    <a:moveTo>
                      <a:pt x="0" y="0"/>
                    </a:moveTo>
                    <a:lnTo>
                      <a:pt x="298" y="215"/>
                    </a:lnTo>
                    <a:lnTo>
                      <a:pt x="298" y="157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3273840" y="15559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332" h="264">
                    <a:moveTo>
                      <a:pt x="0" y="73"/>
                    </a:moveTo>
                    <a:lnTo>
                      <a:pt x="268" y="264"/>
                    </a:lnTo>
                    <a:lnTo>
                      <a:pt x="332" y="182"/>
                    </a:lnTo>
                    <a:lnTo>
                      <a:pt x="84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3043080" y="1541880"/>
                <a:ext cx="247680" cy="97560"/>
              </a:xfrm>
              <a:custGeom>
                <a:avLst/>
                <a:gdLst/>
                <a:ahLst/>
                <a:rect l="l" t="t" r="r" b="b"/>
                <a:pathLst>
                  <a:path w="3722" h="1284">
                    <a:moveTo>
                      <a:pt x="0" y="687"/>
                    </a:moveTo>
                    <a:lnTo>
                      <a:pt x="394" y="0"/>
                    </a:lnTo>
                    <a:lnTo>
                      <a:pt x="914" y="370"/>
                    </a:lnTo>
                    <a:lnTo>
                      <a:pt x="1738" y="370"/>
                    </a:lnTo>
                    <a:lnTo>
                      <a:pt x="1738" y="986"/>
                    </a:lnTo>
                    <a:lnTo>
                      <a:pt x="3699" y="986"/>
                    </a:lnTo>
                    <a:lnTo>
                      <a:pt x="3699" y="939"/>
                    </a:lnTo>
                    <a:lnTo>
                      <a:pt x="3535" y="834"/>
                    </a:lnTo>
                    <a:lnTo>
                      <a:pt x="3722" y="926"/>
                    </a:lnTo>
                    <a:lnTo>
                      <a:pt x="3722" y="1284"/>
                    </a:lnTo>
                    <a:lnTo>
                      <a:pt x="536" y="1284"/>
                    </a:lnTo>
                    <a:lnTo>
                      <a:pt x="536" y="926"/>
                    </a:lnTo>
                    <a:lnTo>
                      <a:pt x="192" y="678"/>
                    </a:lnTo>
                    <a:lnTo>
                      <a:pt x="145" y="770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204720" y="1517400"/>
                <a:ext cx="309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277080" y="15228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140" h="197">
                    <a:moveTo>
                      <a:pt x="29" y="197"/>
                    </a:moveTo>
                    <a:lnTo>
                      <a:pt x="140" y="19"/>
                    </a:lnTo>
                    <a:lnTo>
                      <a:pt x="111" y="0"/>
                    </a:lnTo>
                    <a:lnTo>
                      <a:pt x="0" y="162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239280" y="1524240"/>
                <a:ext cx="3456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3267000" y="152820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3293280" y="1576440"/>
                <a:ext cx="6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178080" y="16574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84" h="380">
                    <a:moveTo>
                      <a:pt x="384" y="192"/>
                    </a:moveTo>
                    <a:lnTo>
                      <a:pt x="380" y="172"/>
                    </a:lnTo>
                    <a:lnTo>
                      <a:pt x="378" y="155"/>
                    </a:lnTo>
                    <a:lnTo>
                      <a:pt x="370" y="137"/>
                    </a:lnTo>
                    <a:lnTo>
                      <a:pt x="366" y="120"/>
                    </a:lnTo>
                    <a:lnTo>
                      <a:pt x="358" y="101"/>
                    </a:lnTo>
                    <a:lnTo>
                      <a:pt x="348" y="84"/>
                    </a:lnTo>
                    <a:lnTo>
                      <a:pt x="339" y="70"/>
                    </a:lnTo>
                    <a:lnTo>
                      <a:pt x="325" y="56"/>
                    </a:lnTo>
                    <a:lnTo>
                      <a:pt x="307" y="43"/>
                    </a:lnTo>
                    <a:lnTo>
                      <a:pt x="298" y="29"/>
                    </a:lnTo>
                    <a:lnTo>
                      <a:pt x="280" y="23"/>
                    </a:lnTo>
                    <a:lnTo>
                      <a:pt x="264" y="15"/>
                    </a:lnTo>
                    <a:lnTo>
                      <a:pt x="247" y="9"/>
                    </a:lnTo>
                    <a:lnTo>
                      <a:pt x="229" y="5"/>
                    </a:lnTo>
                    <a:lnTo>
                      <a:pt x="212" y="2"/>
                    </a:lnTo>
                    <a:lnTo>
                      <a:pt x="192" y="0"/>
                    </a:lnTo>
                    <a:lnTo>
                      <a:pt x="171" y="2"/>
                    </a:lnTo>
                    <a:lnTo>
                      <a:pt x="153" y="5"/>
                    </a:lnTo>
                    <a:lnTo>
                      <a:pt x="137" y="7"/>
                    </a:lnTo>
                    <a:lnTo>
                      <a:pt x="118" y="15"/>
                    </a:lnTo>
                    <a:lnTo>
                      <a:pt x="104" y="23"/>
                    </a:lnTo>
                    <a:lnTo>
                      <a:pt x="89" y="29"/>
                    </a:lnTo>
                    <a:lnTo>
                      <a:pt x="73" y="43"/>
                    </a:lnTo>
                    <a:lnTo>
                      <a:pt x="57" y="56"/>
                    </a:lnTo>
                    <a:lnTo>
                      <a:pt x="46" y="66"/>
                    </a:lnTo>
                    <a:lnTo>
                      <a:pt x="34" y="84"/>
                    </a:lnTo>
                    <a:lnTo>
                      <a:pt x="21" y="97"/>
                    </a:lnTo>
                    <a:lnTo>
                      <a:pt x="15" y="116"/>
                    </a:lnTo>
                    <a:lnTo>
                      <a:pt x="8" y="135"/>
                    </a:lnTo>
                    <a:lnTo>
                      <a:pt x="2" y="153"/>
                    </a:lnTo>
                    <a:lnTo>
                      <a:pt x="0" y="171"/>
                    </a:lnTo>
                    <a:lnTo>
                      <a:pt x="0" y="190"/>
                    </a:lnTo>
                    <a:lnTo>
                      <a:pt x="0" y="204"/>
                    </a:lnTo>
                    <a:lnTo>
                      <a:pt x="2" y="223"/>
                    </a:lnTo>
                    <a:lnTo>
                      <a:pt x="8" y="245"/>
                    </a:lnTo>
                    <a:lnTo>
                      <a:pt x="11" y="260"/>
                    </a:lnTo>
                    <a:lnTo>
                      <a:pt x="21" y="278"/>
                    </a:lnTo>
                    <a:lnTo>
                      <a:pt x="32" y="296"/>
                    </a:lnTo>
                    <a:lnTo>
                      <a:pt x="42" y="311"/>
                    </a:lnTo>
                    <a:lnTo>
                      <a:pt x="57" y="321"/>
                    </a:lnTo>
                    <a:lnTo>
                      <a:pt x="65" y="337"/>
                    </a:lnTo>
                    <a:lnTo>
                      <a:pt x="81" y="346"/>
                    </a:lnTo>
                    <a:lnTo>
                      <a:pt x="100" y="356"/>
                    </a:lnTo>
                    <a:lnTo>
                      <a:pt x="114" y="362"/>
                    </a:lnTo>
                    <a:lnTo>
                      <a:pt x="132" y="374"/>
                    </a:lnTo>
                    <a:lnTo>
                      <a:pt x="151" y="378"/>
                    </a:lnTo>
                    <a:lnTo>
                      <a:pt x="169" y="380"/>
                    </a:lnTo>
                    <a:lnTo>
                      <a:pt x="186" y="380"/>
                    </a:lnTo>
                    <a:lnTo>
                      <a:pt x="206" y="380"/>
                    </a:lnTo>
                    <a:lnTo>
                      <a:pt x="225" y="378"/>
                    </a:lnTo>
                    <a:lnTo>
                      <a:pt x="243" y="374"/>
                    </a:lnTo>
                    <a:lnTo>
                      <a:pt x="260" y="366"/>
                    </a:lnTo>
                    <a:lnTo>
                      <a:pt x="274" y="360"/>
                    </a:lnTo>
                    <a:lnTo>
                      <a:pt x="294" y="350"/>
                    </a:lnTo>
                    <a:lnTo>
                      <a:pt x="307" y="342"/>
                    </a:lnTo>
                    <a:lnTo>
                      <a:pt x="325" y="333"/>
                    </a:lnTo>
                    <a:lnTo>
                      <a:pt x="337" y="315"/>
                    </a:lnTo>
                    <a:lnTo>
                      <a:pt x="348" y="297"/>
                    </a:lnTo>
                    <a:lnTo>
                      <a:pt x="354" y="282"/>
                    </a:lnTo>
                    <a:lnTo>
                      <a:pt x="362" y="266"/>
                    </a:lnTo>
                    <a:lnTo>
                      <a:pt x="370" y="251"/>
                    </a:lnTo>
                    <a:lnTo>
                      <a:pt x="376" y="233"/>
                    </a:lnTo>
                    <a:lnTo>
                      <a:pt x="380" y="217"/>
                    </a:lnTo>
                    <a:lnTo>
                      <a:pt x="384" y="194"/>
                    </a:lnTo>
                    <a:lnTo>
                      <a:pt x="384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182040" y="1547640"/>
                <a:ext cx="12960" cy="1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3259800" y="1620360"/>
                <a:ext cx="2160" cy="42480"/>
              </a:xfrm>
              <a:custGeom>
                <a:avLst/>
                <a:gdLst/>
                <a:ahLst/>
                <a:rect l="l" t="t" r="r" b="b"/>
                <a:pathLst>
                  <a:path w="43" h="568">
                    <a:moveTo>
                      <a:pt x="0" y="0"/>
                    </a:moveTo>
                    <a:lnTo>
                      <a:pt x="43" y="177"/>
                    </a:lnTo>
                    <a:lnTo>
                      <a:pt x="43" y="568"/>
                    </a:lnTo>
                    <a:lnTo>
                      <a:pt x="0" y="3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78080" y="1678320"/>
                <a:ext cx="81360" cy="63000"/>
              </a:xfrm>
              <a:custGeom>
                <a:avLst/>
                <a:gdLst/>
                <a:ahLst/>
                <a:rect l="l" t="t" r="r" b="b"/>
                <a:pathLst>
                  <a:path w="1215" h="841">
                    <a:moveTo>
                      <a:pt x="105" y="415"/>
                    </a:moveTo>
                    <a:lnTo>
                      <a:pt x="105" y="287"/>
                    </a:lnTo>
                    <a:lnTo>
                      <a:pt x="60" y="287"/>
                    </a:lnTo>
                    <a:lnTo>
                      <a:pt x="0" y="0"/>
                    </a:lnTo>
                    <a:lnTo>
                      <a:pt x="1215" y="287"/>
                    </a:lnTo>
                    <a:lnTo>
                      <a:pt x="743" y="287"/>
                    </a:lnTo>
                    <a:lnTo>
                      <a:pt x="743" y="511"/>
                    </a:lnTo>
                    <a:lnTo>
                      <a:pt x="743" y="716"/>
                    </a:lnTo>
                    <a:lnTo>
                      <a:pt x="737" y="720"/>
                    </a:lnTo>
                    <a:lnTo>
                      <a:pt x="731" y="736"/>
                    </a:lnTo>
                    <a:lnTo>
                      <a:pt x="725" y="744"/>
                    </a:lnTo>
                    <a:lnTo>
                      <a:pt x="712" y="757"/>
                    </a:lnTo>
                    <a:lnTo>
                      <a:pt x="700" y="767"/>
                    </a:lnTo>
                    <a:lnTo>
                      <a:pt x="686" y="777"/>
                    </a:lnTo>
                    <a:lnTo>
                      <a:pt x="671" y="783"/>
                    </a:lnTo>
                    <a:lnTo>
                      <a:pt x="653" y="796"/>
                    </a:lnTo>
                    <a:lnTo>
                      <a:pt x="639" y="800"/>
                    </a:lnTo>
                    <a:lnTo>
                      <a:pt x="618" y="814"/>
                    </a:lnTo>
                    <a:lnTo>
                      <a:pt x="598" y="818"/>
                    </a:lnTo>
                    <a:lnTo>
                      <a:pt x="575" y="822"/>
                    </a:lnTo>
                    <a:lnTo>
                      <a:pt x="557" y="831"/>
                    </a:lnTo>
                    <a:lnTo>
                      <a:pt x="534" y="831"/>
                    </a:lnTo>
                    <a:lnTo>
                      <a:pt x="511" y="837"/>
                    </a:lnTo>
                    <a:lnTo>
                      <a:pt x="487" y="841"/>
                    </a:lnTo>
                    <a:lnTo>
                      <a:pt x="464" y="841"/>
                    </a:lnTo>
                    <a:lnTo>
                      <a:pt x="440" y="841"/>
                    </a:lnTo>
                    <a:lnTo>
                      <a:pt x="419" y="841"/>
                    </a:lnTo>
                    <a:lnTo>
                      <a:pt x="391" y="841"/>
                    </a:lnTo>
                    <a:lnTo>
                      <a:pt x="365" y="841"/>
                    </a:lnTo>
                    <a:lnTo>
                      <a:pt x="342" y="839"/>
                    </a:lnTo>
                    <a:lnTo>
                      <a:pt x="318" y="833"/>
                    </a:lnTo>
                    <a:lnTo>
                      <a:pt x="295" y="831"/>
                    </a:lnTo>
                    <a:lnTo>
                      <a:pt x="275" y="828"/>
                    </a:lnTo>
                    <a:lnTo>
                      <a:pt x="252" y="822"/>
                    </a:lnTo>
                    <a:lnTo>
                      <a:pt x="234" y="814"/>
                    </a:lnTo>
                    <a:lnTo>
                      <a:pt x="215" y="808"/>
                    </a:lnTo>
                    <a:lnTo>
                      <a:pt x="193" y="798"/>
                    </a:lnTo>
                    <a:lnTo>
                      <a:pt x="179" y="790"/>
                    </a:lnTo>
                    <a:lnTo>
                      <a:pt x="166" y="781"/>
                    </a:lnTo>
                    <a:lnTo>
                      <a:pt x="152" y="769"/>
                    </a:lnTo>
                    <a:lnTo>
                      <a:pt x="138" y="759"/>
                    </a:lnTo>
                    <a:lnTo>
                      <a:pt x="127" y="751"/>
                    </a:lnTo>
                    <a:lnTo>
                      <a:pt x="117" y="740"/>
                    </a:lnTo>
                    <a:lnTo>
                      <a:pt x="109" y="726"/>
                    </a:lnTo>
                    <a:lnTo>
                      <a:pt x="105" y="716"/>
                    </a:lnTo>
                    <a:lnTo>
                      <a:pt x="105" y="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64680" y="1603800"/>
                <a:ext cx="11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133440" y="1706040"/>
                <a:ext cx="118440" cy="159480"/>
              </a:xfrm>
              <a:custGeom>
                <a:avLst/>
                <a:gdLst/>
                <a:ahLst/>
                <a:rect l="l" t="t" r="r" b="b"/>
                <a:pathLst>
                  <a:path w="1795" h="2087">
                    <a:moveTo>
                      <a:pt x="1520" y="0"/>
                    </a:moveTo>
                    <a:lnTo>
                      <a:pt x="1727" y="51"/>
                    </a:lnTo>
                    <a:lnTo>
                      <a:pt x="1727" y="1354"/>
                    </a:lnTo>
                    <a:lnTo>
                      <a:pt x="1795" y="1428"/>
                    </a:lnTo>
                    <a:lnTo>
                      <a:pt x="1795" y="1634"/>
                    </a:lnTo>
                    <a:lnTo>
                      <a:pt x="1622" y="1838"/>
                    </a:lnTo>
                    <a:lnTo>
                      <a:pt x="1497" y="1869"/>
                    </a:lnTo>
                    <a:lnTo>
                      <a:pt x="1181" y="1744"/>
                    </a:lnTo>
                    <a:lnTo>
                      <a:pt x="643" y="1806"/>
                    </a:lnTo>
                    <a:lnTo>
                      <a:pt x="0" y="2087"/>
                    </a:lnTo>
                    <a:lnTo>
                      <a:pt x="596" y="1773"/>
                    </a:lnTo>
                    <a:lnTo>
                      <a:pt x="804" y="1572"/>
                    </a:lnTo>
                    <a:lnTo>
                      <a:pt x="1105" y="1460"/>
                    </a:lnTo>
                    <a:lnTo>
                      <a:pt x="1105" y="1036"/>
                    </a:lnTo>
                    <a:lnTo>
                      <a:pt x="1021" y="773"/>
                    </a:lnTo>
                    <a:lnTo>
                      <a:pt x="1021" y="630"/>
                    </a:lnTo>
                    <a:lnTo>
                      <a:pt x="1303" y="1428"/>
                    </a:lnTo>
                    <a:lnTo>
                      <a:pt x="1622" y="1428"/>
                    </a:lnTo>
                    <a:lnTo>
                      <a:pt x="1520" y="11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258360" y="190152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1599" h="905">
                    <a:moveTo>
                      <a:pt x="12" y="905"/>
                    </a:moveTo>
                    <a:lnTo>
                      <a:pt x="0" y="639"/>
                    </a:lnTo>
                    <a:lnTo>
                      <a:pt x="82" y="532"/>
                    </a:lnTo>
                    <a:lnTo>
                      <a:pt x="281" y="594"/>
                    </a:lnTo>
                    <a:lnTo>
                      <a:pt x="400" y="594"/>
                    </a:lnTo>
                    <a:lnTo>
                      <a:pt x="632" y="234"/>
                    </a:lnTo>
                    <a:lnTo>
                      <a:pt x="843" y="234"/>
                    </a:lnTo>
                    <a:lnTo>
                      <a:pt x="718" y="0"/>
                    </a:lnTo>
                    <a:lnTo>
                      <a:pt x="962" y="0"/>
                    </a:lnTo>
                    <a:lnTo>
                      <a:pt x="1389" y="312"/>
                    </a:lnTo>
                    <a:lnTo>
                      <a:pt x="1511" y="312"/>
                    </a:lnTo>
                    <a:lnTo>
                      <a:pt x="1599" y="357"/>
                    </a:lnTo>
                    <a:lnTo>
                      <a:pt x="1548" y="456"/>
                    </a:lnTo>
                    <a:lnTo>
                      <a:pt x="1076" y="782"/>
                    </a:lnTo>
                    <a:lnTo>
                      <a:pt x="1168" y="626"/>
                    </a:lnTo>
                    <a:lnTo>
                      <a:pt x="1266" y="575"/>
                    </a:lnTo>
                    <a:lnTo>
                      <a:pt x="1340" y="456"/>
                    </a:lnTo>
                    <a:lnTo>
                      <a:pt x="1037" y="123"/>
                    </a:lnTo>
                    <a:lnTo>
                      <a:pt x="1037" y="373"/>
                    </a:lnTo>
                    <a:lnTo>
                      <a:pt x="747" y="860"/>
                    </a:lnTo>
                    <a:lnTo>
                      <a:pt x="620" y="860"/>
                    </a:lnTo>
                    <a:lnTo>
                      <a:pt x="575" y="782"/>
                    </a:lnTo>
                    <a:lnTo>
                      <a:pt x="671" y="813"/>
                    </a:lnTo>
                    <a:lnTo>
                      <a:pt x="852" y="456"/>
                    </a:lnTo>
                    <a:lnTo>
                      <a:pt x="755" y="357"/>
                    </a:lnTo>
                    <a:lnTo>
                      <a:pt x="412" y="796"/>
                    </a:lnTo>
                    <a:lnTo>
                      <a:pt x="195" y="686"/>
                    </a:lnTo>
                    <a:lnTo>
                      <a:pt x="12" y="9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0680" y="1873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89" h="501">
                    <a:moveTo>
                      <a:pt x="0" y="139"/>
                    </a:moveTo>
                    <a:lnTo>
                      <a:pt x="46" y="0"/>
                    </a:lnTo>
                    <a:lnTo>
                      <a:pt x="146" y="0"/>
                    </a:lnTo>
                    <a:lnTo>
                      <a:pt x="216" y="107"/>
                    </a:lnTo>
                    <a:lnTo>
                      <a:pt x="289" y="501"/>
                    </a:lnTo>
                    <a:lnTo>
                      <a:pt x="119" y="96"/>
                    </a:lnTo>
                    <a:lnTo>
                      <a:pt x="74" y="96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266640" y="1878120"/>
                <a:ext cx="10440" cy="38160"/>
              </a:xfrm>
              <a:custGeom>
                <a:avLst/>
                <a:gdLst/>
                <a:ahLst/>
                <a:rect l="l" t="t" r="r" b="b"/>
                <a:pathLst>
                  <a:path w="160" h="503">
                    <a:moveTo>
                      <a:pt x="59" y="0"/>
                    </a:moveTo>
                    <a:lnTo>
                      <a:pt x="0" y="282"/>
                    </a:lnTo>
                    <a:lnTo>
                      <a:pt x="59" y="503"/>
                    </a:lnTo>
                    <a:lnTo>
                      <a:pt x="160" y="440"/>
                    </a:lnTo>
                    <a:lnTo>
                      <a:pt x="108" y="23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254400" y="18615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675" h="248">
                    <a:moveTo>
                      <a:pt x="0" y="63"/>
                    </a:moveTo>
                    <a:lnTo>
                      <a:pt x="182" y="0"/>
                    </a:lnTo>
                    <a:lnTo>
                      <a:pt x="321" y="94"/>
                    </a:lnTo>
                    <a:lnTo>
                      <a:pt x="505" y="31"/>
                    </a:lnTo>
                    <a:lnTo>
                      <a:pt x="675" y="127"/>
                    </a:lnTo>
                    <a:lnTo>
                      <a:pt x="613" y="248"/>
                    </a:lnTo>
                    <a:lnTo>
                      <a:pt x="492" y="94"/>
                    </a:lnTo>
                    <a:lnTo>
                      <a:pt x="260" y="188"/>
                    </a:lnTo>
                    <a:lnTo>
                      <a:pt x="207" y="145"/>
                    </a:lnTo>
                    <a:lnTo>
                      <a:pt x="17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3211560" y="1851840"/>
                <a:ext cx="28440" cy="46800"/>
              </a:xfrm>
              <a:custGeom>
                <a:avLst/>
                <a:gdLst/>
                <a:ahLst/>
                <a:rect l="l" t="t" r="r" b="b"/>
                <a:pathLst>
                  <a:path w="427" h="611">
                    <a:moveTo>
                      <a:pt x="427" y="0"/>
                    </a:moveTo>
                    <a:lnTo>
                      <a:pt x="171" y="300"/>
                    </a:lnTo>
                    <a:lnTo>
                      <a:pt x="37" y="611"/>
                    </a:lnTo>
                    <a:lnTo>
                      <a:pt x="0" y="532"/>
                    </a:lnTo>
                    <a:lnTo>
                      <a:pt x="23" y="300"/>
                    </a:lnTo>
                    <a:lnTo>
                      <a:pt x="87" y="144"/>
                    </a:lnTo>
                    <a:lnTo>
                      <a:pt x="87" y="374"/>
                    </a:lnTo>
                    <a:lnTo>
                      <a:pt x="134" y="271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154320" y="1882080"/>
                <a:ext cx="81360" cy="70200"/>
              </a:xfrm>
              <a:custGeom>
                <a:avLst/>
                <a:gdLst/>
                <a:ahLst/>
                <a:rect l="l" t="t" r="r" b="b"/>
                <a:pathLst>
                  <a:path w="1220" h="918">
                    <a:moveTo>
                      <a:pt x="545" y="101"/>
                    </a:moveTo>
                    <a:lnTo>
                      <a:pt x="0" y="354"/>
                    </a:lnTo>
                    <a:lnTo>
                      <a:pt x="134" y="510"/>
                    </a:lnTo>
                    <a:lnTo>
                      <a:pt x="488" y="622"/>
                    </a:lnTo>
                    <a:lnTo>
                      <a:pt x="329" y="405"/>
                    </a:lnTo>
                    <a:lnTo>
                      <a:pt x="574" y="249"/>
                    </a:lnTo>
                    <a:lnTo>
                      <a:pt x="914" y="249"/>
                    </a:lnTo>
                    <a:lnTo>
                      <a:pt x="709" y="405"/>
                    </a:lnTo>
                    <a:lnTo>
                      <a:pt x="754" y="575"/>
                    </a:lnTo>
                    <a:lnTo>
                      <a:pt x="501" y="918"/>
                    </a:lnTo>
                    <a:lnTo>
                      <a:pt x="1183" y="387"/>
                    </a:lnTo>
                    <a:lnTo>
                      <a:pt x="1220" y="198"/>
                    </a:lnTo>
                    <a:lnTo>
                      <a:pt x="1097" y="249"/>
                    </a:lnTo>
                    <a:lnTo>
                      <a:pt x="1050" y="186"/>
                    </a:lnTo>
                    <a:lnTo>
                      <a:pt x="1113" y="0"/>
                    </a:lnTo>
                    <a:lnTo>
                      <a:pt x="682" y="166"/>
                    </a:lnTo>
                    <a:lnTo>
                      <a:pt x="54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079800" y="1791360"/>
                <a:ext cx="50040" cy="32760"/>
              </a:xfrm>
              <a:custGeom>
                <a:avLst/>
                <a:gdLst/>
                <a:ahLst/>
                <a:rect l="l" t="t" r="r" b="b"/>
                <a:pathLst>
                  <a:path w="755" h="425">
                    <a:moveTo>
                      <a:pt x="0" y="66"/>
                    </a:moveTo>
                    <a:lnTo>
                      <a:pt x="146" y="66"/>
                    </a:lnTo>
                    <a:lnTo>
                      <a:pt x="228" y="281"/>
                    </a:lnTo>
                    <a:lnTo>
                      <a:pt x="549" y="425"/>
                    </a:lnTo>
                    <a:lnTo>
                      <a:pt x="755" y="425"/>
                    </a:lnTo>
                    <a:lnTo>
                      <a:pt x="534" y="346"/>
                    </a:lnTo>
                    <a:lnTo>
                      <a:pt x="339" y="33"/>
                    </a:lnTo>
                    <a:lnTo>
                      <a:pt x="207" y="0"/>
                    </a:lnTo>
                    <a:lnTo>
                      <a:pt x="97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16880" y="187236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161" h="1111">
                    <a:moveTo>
                      <a:pt x="0" y="1111"/>
                    </a:moveTo>
                    <a:lnTo>
                      <a:pt x="708" y="591"/>
                    </a:lnTo>
                    <a:lnTo>
                      <a:pt x="746" y="466"/>
                    </a:lnTo>
                    <a:lnTo>
                      <a:pt x="632" y="29"/>
                    </a:lnTo>
                    <a:lnTo>
                      <a:pt x="792" y="0"/>
                    </a:lnTo>
                    <a:lnTo>
                      <a:pt x="893" y="88"/>
                    </a:lnTo>
                    <a:lnTo>
                      <a:pt x="1100" y="0"/>
                    </a:lnTo>
                    <a:lnTo>
                      <a:pt x="1161" y="88"/>
                    </a:lnTo>
                    <a:lnTo>
                      <a:pt x="1012" y="466"/>
                    </a:lnTo>
                    <a:lnTo>
                      <a:pt x="893" y="479"/>
                    </a:lnTo>
                    <a:lnTo>
                      <a:pt x="833" y="530"/>
                    </a:lnTo>
                    <a:lnTo>
                      <a:pt x="876" y="624"/>
                    </a:lnTo>
                    <a:lnTo>
                      <a:pt x="734" y="671"/>
                    </a:lnTo>
                    <a:lnTo>
                      <a:pt x="599" y="949"/>
                    </a:lnTo>
                    <a:lnTo>
                      <a:pt x="462" y="888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3081240" y="1855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356" h="376">
                    <a:moveTo>
                      <a:pt x="0" y="344"/>
                    </a:moveTo>
                    <a:lnTo>
                      <a:pt x="0" y="251"/>
                    </a:lnTo>
                    <a:lnTo>
                      <a:pt x="126" y="126"/>
                    </a:lnTo>
                    <a:lnTo>
                      <a:pt x="126" y="237"/>
                    </a:lnTo>
                    <a:lnTo>
                      <a:pt x="268" y="112"/>
                    </a:lnTo>
                    <a:lnTo>
                      <a:pt x="268" y="0"/>
                    </a:lnTo>
                    <a:lnTo>
                      <a:pt x="356" y="63"/>
                    </a:lnTo>
                    <a:lnTo>
                      <a:pt x="356" y="280"/>
                    </a:lnTo>
                    <a:lnTo>
                      <a:pt x="268" y="376"/>
                    </a:lnTo>
                    <a:lnTo>
                      <a:pt x="147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3079800" y="1888920"/>
                <a:ext cx="46440" cy="24840"/>
              </a:xfrm>
              <a:custGeom>
                <a:avLst/>
                <a:gdLst/>
                <a:ahLst/>
                <a:rect l="l" t="t" r="r" b="b"/>
                <a:pathLst>
                  <a:path w="705" h="318">
                    <a:moveTo>
                      <a:pt x="0" y="240"/>
                    </a:moveTo>
                    <a:lnTo>
                      <a:pt x="178" y="318"/>
                    </a:lnTo>
                    <a:lnTo>
                      <a:pt x="364" y="148"/>
                    </a:lnTo>
                    <a:lnTo>
                      <a:pt x="630" y="148"/>
                    </a:lnTo>
                    <a:lnTo>
                      <a:pt x="705" y="85"/>
                    </a:lnTo>
                    <a:lnTo>
                      <a:pt x="630" y="0"/>
                    </a:lnTo>
                    <a:lnTo>
                      <a:pt x="289" y="65"/>
                    </a:lnTo>
                    <a:lnTo>
                      <a:pt x="207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066840" y="1840680"/>
                <a:ext cx="10800" cy="49320"/>
              </a:xfrm>
              <a:custGeom>
                <a:avLst/>
                <a:gdLst/>
                <a:ahLst/>
                <a:rect l="l" t="t" r="r" b="b"/>
                <a:pathLst>
                  <a:path w="159" h="656">
                    <a:moveTo>
                      <a:pt x="23" y="0"/>
                    </a:moveTo>
                    <a:lnTo>
                      <a:pt x="99" y="127"/>
                    </a:lnTo>
                    <a:lnTo>
                      <a:pt x="99" y="202"/>
                    </a:lnTo>
                    <a:lnTo>
                      <a:pt x="0" y="453"/>
                    </a:lnTo>
                    <a:lnTo>
                      <a:pt x="11" y="656"/>
                    </a:lnTo>
                    <a:lnTo>
                      <a:pt x="159" y="314"/>
                    </a:lnTo>
                    <a:lnTo>
                      <a:pt x="159" y="1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057480" y="185580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280" h="519">
                    <a:moveTo>
                      <a:pt x="82" y="519"/>
                    </a:moveTo>
                    <a:lnTo>
                      <a:pt x="243" y="217"/>
                    </a:lnTo>
                    <a:lnTo>
                      <a:pt x="280" y="0"/>
                    </a:lnTo>
                    <a:lnTo>
                      <a:pt x="189" y="237"/>
                    </a:lnTo>
                    <a:lnTo>
                      <a:pt x="0" y="454"/>
                    </a:lnTo>
                    <a:lnTo>
                      <a:pt x="82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3042720" y="1927800"/>
                <a:ext cx="122040" cy="30240"/>
              </a:xfrm>
              <a:custGeom>
                <a:avLst/>
                <a:gdLst/>
                <a:ahLst/>
                <a:rect l="l" t="t" r="r" b="b"/>
                <a:pathLst>
                  <a:path w="1831" h="394">
                    <a:moveTo>
                      <a:pt x="0" y="394"/>
                    </a:moveTo>
                    <a:lnTo>
                      <a:pt x="503" y="201"/>
                    </a:lnTo>
                    <a:lnTo>
                      <a:pt x="1554" y="201"/>
                    </a:lnTo>
                    <a:lnTo>
                      <a:pt x="1554" y="0"/>
                    </a:lnTo>
                    <a:lnTo>
                      <a:pt x="1831" y="0"/>
                    </a:lnTo>
                    <a:lnTo>
                      <a:pt x="1831" y="201"/>
                    </a:lnTo>
                    <a:lnTo>
                      <a:pt x="1640" y="201"/>
                    </a:lnTo>
                    <a:lnTo>
                      <a:pt x="1640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3041640" y="1646640"/>
                <a:ext cx="1080" cy="27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351960" y="174852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573" h="65">
                    <a:moveTo>
                      <a:pt x="0" y="65"/>
                    </a:moveTo>
                    <a:lnTo>
                      <a:pt x="101" y="0"/>
                    </a:lnTo>
                    <a:lnTo>
                      <a:pt x="166" y="0"/>
                    </a:lnTo>
                    <a:lnTo>
                      <a:pt x="258" y="65"/>
                    </a:lnTo>
                    <a:lnTo>
                      <a:pt x="573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25320" y="1643760"/>
                <a:ext cx="50040" cy="96480"/>
              </a:xfrm>
              <a:custGeom>
                <a:avLst/>
                <a:gdLst/>
                <a:ahLst/>
                <a:rect l="l" t="t" r="r" b="b"/>
                <a:pathLst>
                  <a:path w="758" h="1256">
                    <a:moveTo>
                      <a:pt x="173" y="1256"/>
                    </a:moveTo>
                    <a:lnTo>
                      <a:pt x="227" y="639"/>
                    </a:lnTo>
                    <a:lnTo>
                      <a:pt x="78" y="639"/>
                    </a:lnTo>
                    <a:lnTo>
                      <a:pt x="0" y="567"/>
                    </a:lnTo>
                    <a:lnTo>
                      <a:pt x="0" y="281"/>
                    </a:lnTo>
                    <a:lnTo>
                      <a:pt x="356" y="0"/>
                    </a:lnTo>
                    <a:lnTo>
                      <a:pt x="460" y="86"/>
                    </a:lnTo>
                    <a:lnTo>
                      <a:pt x="758" y="86"/>
                    </a:lnTo>
                    <a:lnTo>
                      <a:pt x="758" y="317"/>
                    </a:lnTo>
                    <a:lnTo>
                      <a:pt x="487" y="317"/>
                    </a:lnTo>
                    <a:lnTo>
                      <a:pt x="341" y="452"/>
                    </a:lnTo>
                    <a:lnTo>
                      <a:pt x="173" y="1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258000" y="1720800"/>
                <a:ext cx="24840" cy="16200"/>
              </a:xfrm>
              <a:custGeom>
                <a:avLst/>
                <a:gdLst/>
                <a:ahLst/>
                <a:rect l="l" t="t" r="r" b="b"/>
                <a:pathLst>
                  <a:path w="378" h="217">
                    <a:moveTo>
                      <a:pt x="325" y="0"/>
                    </a:moveTo>
                    <a:lnTo>
                      <a:pt x="0" y="217"/>
                    </a:lnTo>
                    <a:lnTo>
                      <a:pt x="378" y="105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3693960" y="2055600"/>
              <a:ext cx="91872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3790800" y="1417320"/>
              <a:ext cx="82512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907360" y="2638080"/>
              <a:ext cx="17078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oses Belaja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engajar; Riset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3"/>
            <a:stretch/>
          </p:blipFill>
          <p:spPr>
            <a:xfrm>
              <a:off x="2954160" y="2071440"/>
              <a:ext cx="65052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7" name=""/>
          <p:cNvGrpSpPr/>
          <p:nvPr/>
        </p:nvGrpSpPr>
        <p:grpSpPr>
          <a:xfrm>
            <a:off x="1072440" y="1455840"/>
            <a:ext cx="1738080" cy="1351080"/>
            <a:chOff x="1072440" y="1455840"/>
            <a:chExt cx="1738080" cy="1351080"/>
          </a:xfrm>
        </p:grpSpPr>
        <p:sp>
          <p:nvSpPr>
            <p:cNvPr id="548" name=""/>
            <p:cNvSpPr/>
            <p:nvPr/>
          </p:nvSpPr>
          <p:spPr>
            <a:xfrm>
              <a:off x="1072440" y="243864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lon Mahasisw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1608120" y="1455840"/>
              <a:ext cx="8031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4095000" y="2202840"/>
            <a:ext cx="3272760" cy="3183840"/>
            <a:chOff x="4095000" y="2202840"/>
            <a:chExt cx="3272760" cy="3183840"/>
          </a:xfrm>
        </p:grpSpPr>
        <p:sp>
          <p:nvSpPr>
            <p:cNvPr id="551" name=""/>
            <p:cNvSpPr/>
            <p:nvPr/>
          </p:nvSpPr>
          <p:spPr>
            <a:xfrm flipH="1" rot="2479200">
              <a:off x="4342680" y="2895480"/>
              <a:ext cx="2776320" cy="1798560"/>
            </a:xfrm>
            <a:prstGeom prst="rightArrow">
              <a:avLst>
                <a:gd name="adj1" fmla="val 75343"/>
                <a:gd name="adj2" fmla="val 56342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867560" y="3104280"/>
              <a:ext cx="2060280" cy="1984320"/>
              <a:chOff x="4867560" y="3104280"/>
              <a:chExt cx="2060280" cy="1984320"/>
            </a:xfrm>
          </p:grpSpPr>
          <p:pic>
            <p:nvPicPr>
              <p:cNvPr id="5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26240" y="3899880"/>
                <a:ext cx="110160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67560" y="3104280"/>
                <a:ext cx="109980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5603400" y="4254120"/>
                <a:ext cx="122940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Siste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Penjamin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ut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1573560" y="0"/>
            <a:ext cx="6701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3ce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enguiat Bk BT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Benguiat Bk BT"/>
              </a:rPr>
              <a:t>Le-RAISE” dlm Manajemen 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914400"/>
            <a:ext cx="701028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921360" y="1447920"/>
            <a:ext cx="2298960" cy="5183640"/>
            <a:chOff x="6921360" y="1447920"/>
            <a:chExt cx="2298960" cy="5183640"/>
          </a:xfrm>
        </p:grpSpPr>
        <p:sp>
          <p:nvSpPr>
            <p:cNvPr id="559" name=""/>
            <p:cNvSpPr/>
            <p:nvPr/>
          </p:nvSpPr>
          <p:spPr>
            <a:xfrm>
              <a:off x="7924680" y="64008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24680" y="5005440"/>
              <a:ext cx="228600" cy="228600"/>
            </a:xfrm>
            <a:prstGeom prst="downArrow">
              <a:avLst>
                <a:gd name="adj1" fmla="val 56944"/>
                <a:gd name="adj2" fmla="val 5138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48680" y="1447920"/>
              <a:ext cx="1360440" cy="188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6921360" y="1584360"/>
              <a:ext cx="2298960" cy="5047200"/>
              <a:chOff x="6921360" y="1584360"/>
              <a:chExt cx="2298960" cy="5047200"/>
            </a:xfrm>
          </p:grpSpPr>
          <p:pic>
            <p:nvPicPr>
              <p:cNvPr id="5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43800" y="5310360"/>
                <a:ext cx="10414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7324560" y="6232680"/>
                <a:ext cx="1579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Demand P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7043040" y="1584360"/>
                <a:ext cx="2014200" cy="2106000"/>
                <a:chOff x="7043040" y="1584360"/>
                <a:chExt cx="2014200" cy="2106000"/>
              </a:xfrm>
            </p:grpSpPr>
            <p:pic>
              <p:nvPicPr>
                <p:cNvPr id="56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473960" y="1584360"/>
                  <a:ext cx="119376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15200" y="2367000"/>
                  <a:ext cx="1241280" cy="83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7043040" y="3121200"/>
                  <a:ext cx="20142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 “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Pasar”/Duni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 Narrow"/>
                    </a:rPr>
                    <a:t>kerja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921360" y="3505320"/>
                <a:ext cx="2298960" cy="2108520"/>
                <a:chOff x="6921360" y="3505320"/>
                <a:chExt cx="2298960" cy="2108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914960" y="3505320"/>
                  <a:ext cx="228600" cy="228600"/>
                </a:xfrm>
                <a:prstGeom prst="downArrow">
                  <a:avLst>
                    <a:gd name="adj1" fmla="val 56944"/>
                    <a:gd name="adj2" fmla="val 51389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6921360" y="3733920"/>
                  <a:ext cx="2298960" cy="1879920"/>
                  <a:chOff x="6921360" y="3733920"/>
                  <a:chExt cx="2298960" cy="1879920"/>
                </a:xfrm>
              </p:grpSpPr>
              <p:pic>
                <p:nvPicPr>
                  <p:cNvPr id="5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10040" y="3733920"/>
                    <a:ext cx="9144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3" name=""/>
                  <p:cNvSpPr/>
                  <p:nvPr/>
                </p:nvSpPr>
                <p:spPr>
                  <a:xfrm>
                    <a:off x="6921360" y="4422600"/>
                    <a:ext cx="229896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“</a:t>
                    </a: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Apresiasi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</a:rPr>
                      <a:t>Masyarakat Luas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emerintah, Swasta,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GOs, dl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4" name=""/>
          <p:cNvGrpSpPr/>
          <p:nvPr/>
        </p:nvGrpSpPr>
        <p:grpSpPr>
          <a:xfrm>
            <a:off x="914400" y="3352320"/>
            <a:ext cx="6061320" cy="3331440"/>
            <a:chOff x="914400" y="3352320"/>
            <a:chExt cx="6061320" cy="3331440"/>
          </a:xfrm>
        </p:grpSpPr>
        <p:sp>
          <p:nvSpPr>
            <p:cNvPr id="575" name=""/>
            <p:cNvSpPr/>
            <p:nvPr/>
          </p:nvSpPr>
          <p:spPr>
            <a:xfrm rot="16200000">
              <a:off x="2131920" y="2134800"/>
              <a:ext cx="3279960" cy="57150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5715000"/>
                <a:gd name="textAreaBottom" fmla="*/ 5715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916" y="0"/>
                  </a:lnTo>
                  <a:lnTo>
                    <a:pt x="21600" y="10800"/>
                  </a:lnTo>
                  <a:lnTo>
                    <a:pt x="59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092320" y="4863960"/>
              <a:ext cx="3487680" cy="986040"/>
              <a:chOff x="2092320" y="4863960"/>
              <a:chExt cx="3487680" cy="986040"/>
            </a:xfrm>
          </p:grpSpPr>
          <p:sp>
            <p:nvSpPr>
              <p:cNvPr id="577" name=""/>
              <p:cNvSpPr/>
              <p:nvPr/>
            </p:nvSpPr>
            <p:spPr>
              <a:xfrm>
                <a:off x="2092320" y="4863960"/>
                <a:ext cx="3487680" cy="8226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7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6520" y="4946760"/>
                <a:ext cx="870120" cy="72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9840" y="4927680"/>
                <a:ext cx="1003320" cy="73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43240" y="4938840"/>
                <a:ext cx="136836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"/>
              <p:cNvSpPr/>
              <p:nvPr/>
            </p:nvSpPr>
            <p:spPr>
              <a:xfrm>
                <a:off x="3125880" y="5348160"/>
                <a:ext cx="152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MANAJEM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970720" y="3925800"/>
              <a:ext cx="1678680" cy="924480"/>
              <a:chOff x="2970720" y="3925800"/>
              <a:chExt cx="1678680" cy="924480"/>
            </a:xfrm>
          </p:grpSpPr>
          <p:sp>
            <p:nvSpPr>
              <p:cNvPr id="583" name=""/>
              <p:cNvSpPr/>
              <p:nvPr/>
            </p:nvSpPr>
            <p:spPr>
              <a:xfrm>
                <a:off x="3235320" y="3925800"/>
                <a:ext cx="1155600" cy="89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84" name=""/>
              <p:cNvGraphicFramePr/>
              <p:nvPr/>
            </p:nvGraphicFramePr>
            <p:xfrm>
              <a:off x="3247920" y="3948120"/>
              <a:ext cx="1032120" cy="687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58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247920" y="3948120"/>
                        <a:ext cx="103212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6" name=""/>
              <p:cNvSpPr/>
              <p:nvPr/>
            </p:nvSpPr>
            <p:spPr>
              <a:xfrm>
                <a:off x="2970720" y="4451400"/>
                <a:ext cx="16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 Narrow"/>
                  </a:rPr>
                  <a:t>Kepemimpin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914400" y="5571360"/>
              <a:ext cx="6061320" cy="1112400"/>
              <a:chOff x="914400" y="5571360"/>
              <a:chExt cx="6061320" cy="1112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914400" y="5721480"/>
                <a:ext cx="5697000" cy="962280"/>
                <a:chOff x="914400" y="5721480"/>
                <a:chExt cx="5697000" cy="962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914400" y="5721480"/>
                  <a:ext cx="5697000" cy="90144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e1e1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877840" y="6284880"/>
                  <a:ext cx="180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ff0000"/>
                      </a:solidFill>
                      <a:latin typeface="Benguiat Bk BT"/>
                    </a:rPr>
                    <a:t>SUMBERDAY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677600" y="5753160"/>
                <a:ext cx="1180440" cy="891360"/>
                <a:chOff x="1677600" y="5753160"/>
                <a:chExt cx="1180440" cy="891360"/>
              </a:xfrm>
            </p:grpSpPr>
            <p:pic>
              <p:nvPicPr>
                <p:cNvPr id="59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66880" y="5753160"/>
                  <a:ext cx="103680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3" name=""/>
                <p:cNvSpPr/>
                <p:nvPr/>
              </p:nvSpPr>
              <p:spPr>
                <a:xfrm>
                  <a:off x="1677600" y="6307200"/>
                  <a:ext cx="1180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Dosen&amp;Sta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3359160" y="5715000"/>
                <a:ext cx="1404360" cy="679320"/>
                <a:chOff x="3359160" y="5715000"/>
                <a:chExt cx="1404360" cy="679320"/>
              </a:xfrm>
            </p:grpSpPr>
            <p:pic>
              <p:nvPicPr>
                <p:cNvPr id="59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4280" y="5715000"/>
                  <a:ext cx="106848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"/>
                <p:cNvSpPr/>
                <p:nvPr/>
              </p:nvSpPr>
              <p:spPr>
                <a:xfrm>
                  <a:off x="3359160" y="6026040"/>
                  <a:ext cx="140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Fasilitas Fisi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496760" y="5780160"/>
                <a:ext cx="1253520" cy="849960"/>
                <a:chOff x="4496760" y="5780160"/>
                <a:chExt cx="1253520" cy="849960"/>
              </a:xfrm>
            </p:grpSpPr>
            <p:grpSp>
              <p:nvGrpSpPr>
                <p:cNvPr id="598" name=""/>
                <p:cNvGrpSpPr/>
                <p:nvPr/>
              </p:nvGrpSpPr>
              <p:grpSpPr>
                <a:xfrm>
                  <a:off x="4811400" y="5780160"/>
                  <a:ext cx="384120" cy="547560"/>
                  <a:chOff x="4811400" y="5780160"/>
                  <a:chExt cx="384120" cy="54756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4990680" y="5899680"/>
                    <a:ext cx="15876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3010">
                        <a:moveTo>
                          <a:pt x="707" y="1346"/>
                        </a:moveTo>
                        <a:lnTo>
                          <a:pt x="707" y="2408"/>
                        </a:lnTo>
                        <a:lnTo>
                          <a:pt x="494" y="3010"/>
                        </a:lnTo>
                        <a:lnTo>
                          <a:pt x="1307" y="3010"/>
                        </a:lnTo>
                        <a:lnTo>
                          <a:pt x="1307" y="462"/>
                        </a:lnTo>
                        <a:lnTo>
                          <a:pt x="458" y="0"/>
                        </a:lnTo>
                        <a:lnTo>
                          <a:pt x="0" y="920"/>
                        </a:lnTo>
                        <a:lnTo>
                          <a:pt x="707" y="134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4839840" y="6058080"/>
                    <a:ext cx="236520" cy="196920"/>
                    <a:chOff x="4839840" y="6058080"/>
                    <a:chExt cx="236520" cy="196920"/>
                  </a:xfrm>
                </p:grpSpPr>
                <p:grpSp>
                  <p:nvGrpSpPr>
                    <p:cNvPr id="601" name=""/>
                    <p:cNvGrpSpPr/>
                    <p:nvPr/>
                  </p:nvGrpSpPr>
                  <p:grpSpPr>
                    <a:xfrm>
                      <a:off x="4839840" y="6103080"/>
                      <a:ext cx="154800" cy="151920"/>
                      <a:chOff x="4839840" y="6103080"/>
                      <a:chExt cx="154800" cy="151920"/>
                    </a:xfrm>
                  </p:grpSpPr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4839840" y="6103080"/>
                        <a:ext cx="15480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1241">
                            <a:moveTo>
                              <a:pt x="42" y="574"/>
                            </a:moveTo>
                            <a:lnTo>
                              <a:pt x="669" y="889"/>
                            </a:lnTo>
                            <a:lnTo>
                              <a:pt x="635" y="956"/>
                            </a:lnTo>
                            <a:lnTo>
                              <a:pt x="740" y="1100"/>
                            </a:lnTo>
                            <a:lnTo>
                              <a:pt x="954" y="639"/>
                            </a:lnTo>
                            <a:lnTo>
                              <a:pt x="989" y="462"/>
                            </a:lnTo>
                            <a:lnTo>
                              <a:pt x="908" y="514"/>
                            </a:lnTo>
                            <a:lnTo>
                              <a:pt x="177" y="141"/>
                            </a:lnTo>
                            <a:lnTo>
                              <a:pt x="247" y="0"/>
                            </a:lnTo>
                            <a:lnTo>
                              <a:pt x="1095" y="390"/>
                            </a:lnTo>
                            <a:lnTo>
                              <a:pt x="1129" y="321"/>
                            </a:lnTo>
                            <a:lnTo>
                              <a:pt x="1270" y="390"/>
                            </a:lnTo>
                            <a:lnTo>
                              <a:pt x="1200" y="568"/>
                            </a:lnTo>
                            <a:lnTo>
                              <a:pt x="1023" y="709"/>
                            </a:lnTo>
                            <a:lnTo>
                              <a:pt x="774" y="1241"/>
                            </a:lnTo>
                            <a:lnTo>
                              <a:pt x="424" y="1030"/>
                            </a:lnTo>
                            <a:lnTo>
                              <a:pt x="0" y="673"/>
                            </a:lnTo>
                            <a:lnTo>
                              <a:pt x="42" y="57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4840920" y="6172920"/>
                        <a:ext cx="8064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388">
                            <a:moveTo>
                              <a:pt x="32" y="0"/>
                            </a:moveTo>
                            <a:lnTo>
                              <a:pt x="661" y="317"/>
                            </a:lnTo>
                            <a:lnTo>
                              <a:pt x="625" y="388"/>
                            </a:lnTo>
                            <a:lnTo>
                              <a:pt x="0" y="7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4" name=""/>
                    <p:cNvGrpSpPr/>
                    <p:nvPr/>
                  </p:nvGrpSpPr>
                  <p:grpSpPr>
                    <a:xfrm>
                      <a:off x="4852440" y="6058080"/>
                      <a:ext cx="223920" cy="84240"/>
                      <a:chOff x="4852440" y="6058080"/>
                      <a:chExt cx="223920" cy="84240"/>
                    </a:xfrm>
                  </p:grpSpPr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4852440" y="6058080"/>
                        <a:ext cx="22392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6" h="691">
                            <a:moveTo>
                              <a:pt x="80" y="0"/>
                            </a:moveTo>
                            <a:lnTo>
                              <a:pt x="1173" y="549"/>
                            </a:lnTo>
                            <a:lnTo>
                              <a:pt x="1836" y="549"/>
                            </a:lnTo>
                            <a:lnTo>
                              <a:pt x="1836" y="691"/>
                            </a:lnTo>
                            <a:lnTo>
                              <a:pt x="1042" y="691"/>
                            </a:lnTo>
                            <a:lnTo>
                              <a:pt x="0" y="159"/>
                            </a:lnTo>
                            <a:lnTo>
                              <a:pt x="8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6" name=""/>
                      <p:cNvSpPr/>
                      <p:nvPr/>
                    </p:nvSpPr>
                    <p:spPr>
                      <a:xfrm>
                        <a:off x="4856760" y="6073200"/>
                        <a:ext cx="13104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4858920" y="6084000"/>
                      <a:ext cx="1206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583">
                          <a:moveTo>
                            <a:pt x="54" y="0"/>
                          </a:moveTo>
                          <a:lnTo>
                            <a:pt x="0" y="113"/>
                          </a:lnTo>
                          <a:lnTo>
                            <a:pt x="938" y="583"/>
                          </a:lnTo>
                          <a:lnTo>
                            <a:pt x="990" y="468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4908600" y="5780160"/>
                    <a:ext cx="180360" cy="297720"/>
                    <a:chOff x="4908600" y="5780160"/>
                    <a:chExt cx="180360" cy="29772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4921200" y="6018840"/>
                      <a:ext cx="51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76">
                          <a:moveTo>
                            <a:pt x="105" y="0"/>
                          </a:moveTo>
                          <a:lnTo>
                            <a:pt x="0" y="213"/>
                          </a:lnTo>
                          <a:lnTo>
                            <a:pt x="326" y="376"/>
                          </a:lnTo>
                          <a:lnTo>
                            <a:pt x="426" y="177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10" name=""/>
                    <p:cNvGrpSpPr/>
                    <p:nvPr/>
                  </p:nvGrpSpPr>
                  <p:grpSpPr>
                    <a:xfrm>
                      <a:off x="4938840" y="5869440"/>
                      <a:ext cx="111960" cy="155880"/>
                      <a:chOff x="4938840" y="5869440"/>
                      <a:chExt cx="111960" cy="155880"/>
                    </a:xfrm>
                  </p:grpSpPr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4938840" y="5869440"/>
                        <a:ext cx="11196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1275">
                            <a:moveTo>
                              <a:pt x="530" y="0"/>
                            </a:moveTo>
                            <a:lnTo>
                              <a:pt x="918" y="211"/>
                            </a:lnTo>
                            <a:lnTo>
                              <a:pt x="390" y="1275"/>
                            </a:lnTo>
                            <a:lnTo>
                              <a:pt x="0" y="1061"/>
                            </a:lnTo>
                            <a:lnTo>
                              <a:pt x="53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4951800" y="5882400"/>
                        <a:ext cx="730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1062">
                            <a:moveTo>
                              <a:pt x="529" y="0"/>
                            </a:moveTo>
                            <a:lnTo>
                              <a:pt x="0" y="1026"/>
                            </a:lnTo>
                            <a:lnTo>
                              <a:pt x="71" y="1062"/>
                            </a:lnTo>
                            <a:lnTo>
                              <a:pt x="597" y="40"/>
                            </a:lnTo>
                            <a:lnTo>
                              <a:pt x="529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4994640" y="5780160"/>
                      <a:ext cx="94320" cy="123840"/>
                      <a:chOff x="4994640" y="5780160"/>
                      <a:chExt cx="94320" cy="123840"/>
                    </a:xfrm>
                  </p:grpSpPr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5034960" y="5793120"/>
                        <a:ext cx="4284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446">
                            <a:moveTo>
                              <a:pt x="179" y="0"/>
                            </a:moveTo>
                            <a:lnTo>
                              <a:pt x="0" y="327"/>
                            </a:lnTo>
                            <a:lnTo>
                              <a:pt x="205" y="446"/>
                            </a:lnTo>
                            <a:lnTo>
                              <a:pt x="354" y="88"/>
                            </a:lnTo>
                            <a:lnTo>
                              <a:pt x="179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5" name=""/>
                      <p:cNvSpPr/>
                      <p:nvPr/>
                    </p:nvSpPr>
                    <p:spPr>
                      <a:xfrm>
                        <a:off x="5016960" y="5846760"/>
                        <a:ext cx="3744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255">
                            <a:moveTo>
                              <a:pt x="66" y="0"/>
                            </a:moveTo>
                            <a:lnTo>
                              <a:pt x="0" y="114"/>
                            </a:lnTo>
                            <a:lnTo>
                              <a:pt x="249" y="255"/>
                            </a:lnTo>
                            <a:lnTo>
                              <a:pt x="309" y="132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6" name=""/>
                      <p:cNvGrpSpPr/>
                      <p:nvPr/>
                    </p:nvGrpSpPr>
                    <p:grpSpPr>
                      <a:xfrm>
                        <a:off x="4994640" y="5852160"/>
                        <a:ext cx="68400" cy="51840"/>
                        <a:chOff x="4994640" y="5852160"/>
                        <a:chExt cx="68400" cy="51840"/>
                      </a:xfrm>
                    </p:grpSpPr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4994640" y="5852160"/>
                          <a:ext cx="6840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425">
                              <a:moveTo>
                                <a:pt x="70" y="0"/>
                              </a:moveTo>
                              <a:lnTo>
                                <a:pt x="564" y="283"/>
                              </a:lnTo>
                              <a:lnTo>
                                <a:pt x="494" y="425"/>
                              </a:lnTo>
                              <a:lnTo>
                                <a:pt x="0" y="142"/>
                              </a:lnTo>
                              <a:lnTo>
                                <a:pt x="7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18" name=""/>
                        <p:cNvGrpSpPr/>
                        <p:nvPr/>
                      </p:nvGrpSpPr>
                      <p:grpSpPr>
                        <a:xfrm>
                          <a:off x="4997520" y="5853960"/>
                          <a:ext cx="62280" cy="48600"/>
                          <a:chOff x="4997520" y="5853960"/>
                          <a:chExt cx="62280" cy="48600"/>
                        </a:xfrm>
                      </p:grpSpPr>
                      <p:sp>
                        <p:nvSpPr>
                          <p:cNvPr id="619" name=""/>
                          <p:cNvSpPr/>
                          <p:nvPr/>
                        </p:nvSpPr>
                        <p:spPr>
                          <a:xfrm flipH="1">
                            <a:off x="4997520" y="585396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" name=""/>
                          <p:cNvSpPr/>
                          <p:nvPr/>
                        </p:nvSpPr>
                        <p:spPr>
                          <a:xfrm flipH="1">
                            <a:off x="5004720" y="5857920"/>
                            <a:ext cx="864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 flipH="1">
                            <a:off x="5051520" y="58856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2" name=""/>
                          <p:cNvSpPr/>
                          <p:nvPr/>
                        </p:nvSpPr>
                        <p:spPr>
                          <a:xfrm flipH="1">
                            <a:off x="5000400" y="58554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" name=""/>
                          <p:cNvSpPr/>
                          <p:nvPr/>
                        </p:nvSpPr>
                        <p:spPr>
                          <a:xfrm flipH="1">
                            <a:off x="5010120" y="5861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4" name=""/>
                          <p:cNvSpPr/>
                          <p:nvPr/>
                        </p:nvSpPr>
                        <p:spPr>
                          <a:xfrm flipH="1">
                            <a:off x="5025960" y="5870520"/>
                            <a:ext cx="792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5" name=""/>
                          <p:cNvSpPr/>
                          <p:nvPr/>
                        </p:nvSpPr>
                        <p:spPr>
                          <a:xfrm flipH="1">
                            <a:off x="5048280" y="5883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6" name=""/>
                          <p:cNvSpPr/>
                          <p:nvPr/>
                        </p:nvSpPr>
                        <p:spPr>
                          <a:xfrm flipH="1">
                            <a:off x="5043960" y="58813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7" name=""/>
                          <p:cNvSpPr/>
                          <p:nvPr/>
                        </p:nvSpPr>
                        <p:spPr>
                          <a:xfrm flipH="1">
                            <a:off x="5039640" y="58784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8" name=""/>
                          <p:cNvSpPr/>
                          <p:nvPr/>
                        </p:nvSpPr>
                        <p:spPr>
                          <a:xfrm flipH="1">
                            <a:off x="5034600" y="587484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flipH="1">
                            <a:off x="5017320" y="58654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5016240" y="5826240"/>
                        <a:ext cx="55800" cy="43560"/>
                        <a:chOff x="5016240" y="5826240"/>
                        <a:chExt cx="55800" cy="43560"/>
                      </a:xfrm>
                    </p:grpSpPr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5016240" y="5826240"/>
                          <a:ext cx="55800" cy="4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0" h="357">
                              <a:moveTo>
                                <a:pt x="0" y="138"/>
                              </a:moveTo>
                              <a:lnTo>
                                <a:pt x="385" y="357"/>
                              </a:lnTo>
                              <a:lnTo>
                                <a:pt x="460" y="213"/>
                              </a:lnTo>
                              <a:lnTo>
                                <a:pt x="68" y="0"/>
                              </a:lnTo>
                              <a:lnTo>
                                <a:pt x="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32" name=""/>
                        <p:cNvGrpSpPr/>
                        <p:nvPr/>
                      </p:nvGrpSpPr>
                      <p:grpSpPr>
                        <a:xfrm>
                          <a:off x="5017680" y="5826960"/>
                          <a:ext cx="51480" cy="41400"/>
                          <a:chOff x="5017680" y="5826960"/>
                          <a:chExt cx="51480" cy="41400"/>
                        </a:xfrm>
                      </p:grpSpPr>
                      <p:sp>
                        <p:nvSpPr>
                          <p:cNvPr id="633" name=""/>
                          <p:cNvSpPr/>
                          <p:nvPr/>
                        </p:nvSpPr>
                        <p:spPr>
                          <a:xfrm flipH="1">
                            <a:off x="5037120" y="583776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4" name=""/>
                          <p:cNvSpPr/>
                          <p:nvPr/>
                        </p:nvSpPr>
                        <p:spPr>
                          <a:xfrm flipH="1">
                            <a:off x="5019840" y="582840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5" name=""/>
                          <p:cNvSpPr/>
                          <p:nvPr/>
                        </p:nvSpPr>
                        <p:spPr>
                          <a:xfrm flipH="1">
                            <a:off x="5054040" y="584712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flipH="1">
                            <a:off x="5017680" y="582696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flipH="1">
                            <a:off x="5023080" y="582984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flipH="1">
                            <a:off x="5031720" y="5834880"/>
                            <a:ext cx="828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flipH="1">
                            <a:off x="5058720" y="58492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flipH="1">
                            <a:off x="5060880" y="585108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1" name=""/>
                          <p:cNvSpPr/>
                          <p:nvPr/>
                        </p:nvSpPr>
                        <p:spPr>
                          <a:xfrm flipH="1">
                            <a:off x="5056560" y="5848560"/>
                            <a:ext cx="8640" cy="16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2" name=""/>
                          <p:cNvSpPr/>
                          <p:nvPr/>
                        </p:nvSpPr>
                        <p:spPr>
                          <a:xfrm flipH="1">
                            <a:off x="5051520" y="5845320"/>
                            <a:ext cx="792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 flipH="1">
                            <a:off x="5027040" y="5832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 flipH="1">
                            <a:off x="5043240" y="584100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 flipH="1">
                            <a:off x="5047200" y="5843520"/>
                            <a:ext cx="8280" cy="1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5051520" y="5780160"/>
                        <a:ext cx="37440" cy="27000"/>
                        <a:chOff x="5051520" y="5780160"/>
                        <a:chExt cx="37440" cy="27000"/>
                      </a:xfrm>
                    </p:grpSpPr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5051520" y="5780160"/>
                          <a:ext cx="374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19">
                              <a:moveTo>
                                <a:pt x="0" y="85"/>
                              </a:moveTo>
                              <a:lnTo>
                                <a:pt x="263" y="219"/>
                              </a:lnTo>
                              <a:lnTo>
                                <a:pt x="309" y="131"/>
                              </a:lnTo>
                              <a:lnTo>
                                <a:pt x="42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48" name=""/>
                        <p:cNvGrpSpPr/>
                        <p:nvPr/>
                      </p:nvGrpSpPr>
                      <p:grpSpPr>
                        <a:xfrm>
                          <a:off x="5051880" y="5780520"/>
                          <a:ext cx="35640" cy="25920"/>
                          <a:chOff x="5051880" y="5780520"/>
                          <a:chExt cx="35640" cy="25920"/>
                        </a:xfrm>
                      </p:grpSpPr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 flipH="1">
                            <a:off x="5051880" y="578052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 flipH="1">
                            <a:off x="5082480" y="57960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 flipH="1">
                            <a:off x="5052960" y="578124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 flipH="1">
                            <a:off x="5080680" y="579492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" name=""/>
                          <p:cNvSpPr/>
                          <p:nvPr/>
                        </p:nvSpPr>
                        <p:spPr>
                          <a:xfrm flipH="1">
                            <a:off x="5054760" y="578196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 flipH="1">
                            <a:off x="5056560" y="57826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 flipH="1">
                            <a:off x="5079240" y="57942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 flipH="1">
                            <a:off x="5077080" y="579348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 flipH="1">
                            <a:off x="5058000" y="57837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 flipH="1">
                            <a:off x="5074560" y="579204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9" name=""/>
                          <p:cNvSpPr/>
                          <p:nvPr/>
                        </p:nvSpPr>
                        <p:spPr>
                          <a:xfrm flipH="1">
                            <a:off x="5061240" y="57852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 flipH="1">
                            <a:off x="5072040" y="5790960"/>
                            <a:ext cx="540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 flipH="1">
                            <a:off x="5064480" y="578700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 flipH="1">
                            <a:off x="5068080" y="5788800"/>
                            <a:ext cx="540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63" name=""/>
                    <p:cNvGrpSpPr/>
                    <p:nvPr/>
                  </p:nvGrpSpPr>
                  <p:grpSpPr>
                    <a:xfrm>
                      <a:off x="4908600" y="6041160"/>
                      <a:ext cx="61200" cy="36720"/>
                      <a:chOff x="4908600" y="6041160"/>
                      <a:chExt cx="61200" cy="36720"/>
                    </a:xfrm>
                  </p:grpSpPr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4908600" y="6041160"/>
                        <a:ext cx="6120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03">
                            <a:moveTo>
                              <a:pt x="36" y="0"/>
                            </a:moveTo>
                            <a:lnTo>
                              <a:pt x="502" y="235"/>
                            </a:lnTo>
                            <a:lnTo>
                              <a:pt x="468" y="303"/>
                            </a:lnTo>
                            <a:lnTo>
                              <a:pt x="0" y="70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5" name=""/>
                      <p:cNvGrpSpPr/>
                      <p:nvPr/>
                    </p:nvGrpSpPr>
                    <p:grpSpPr>
                      <a:xfrm>
                        <a:off x="4910400" y="6042600"/>
                        <a:ext cx="57240" cy="34560"/>
                        <a:chOff x="4910400" y="6042600"/>
                        <a:chExt cx="57240" cy="34560"/>
                      </a:xfrm>
                    </p:grpSpPr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>
                          <a:off x="4910400" y="60426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>
                          <a:off x="4912920" y="604368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>
                          <a:off x="4964040" y="606924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>
                          <a:off x="4915080" y="60447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>
                          <a:off x="4918680" y="604656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>
                          <a:off x="4923360" y="604872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>
                          <a:off x="4928760" y="605124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H="1">
                          <a:off x="4933080" y="605340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>
                          <a:off x="4961880" y="6068520"/>
                          <a:ext cx="3960" cy="7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>
                          <a:off x="4959000" y="606708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>
                          <a:off x="4957200" y="606600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>
                          <a:off x="4955040" y="606456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>
                          <a:off x="4952160" y="6062760"/>
                          <a:ext cx="360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H="1">
                          <a:off x="4947480" y="6061320"/>
                          <a:ext cx="396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H="1">
                          <a:off x="4943160" y="6058440"/>
                          <a:ext cx="396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H="1">
                          <a:off x="4938480" y="6055920"/>
                          <a:ext cx="36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4921200" y="5995080"/>
                      <a:ext cx="73080" cy="52920"/>
                      <a:chOff x="4921200" y="5995080"/>
                      <a:chExt cx="73080" cy="52920"/>
                    </a:xfrm>
                  </p:grpSpPr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4921200" y="5995080"/>
                        <a:ext cx="7308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432">
                            <a:moveTo>
                              <a:pt x="71" y="0"/>
                            </a:moveTo>
                            <a:lnTo>
                              <a:pt x="599" y="288"/>
                            </a:lnTo>
                            <a:lnTo>
                              <a:pt x="529" y="432"/>
                            </a:lnTo>
                            <a:lnTo>
                              <a:pt x="0" y="141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84" name=""/>
                      <p:cNvGrpSpPr/>
                      <p:nvPr/>
                    </p:nvGrpSpPr>
                    <p:grpSpPr>
                      <a:xfrm>
                        <a:off x="4923720" y="5996880"/>
                        <a:ext cx="67320" cy="49680"/>
                        <a:chOff x="4923720" y="5996880"/>
                        <a:chExt cx="67320" cy="49680"/>
                      </a:xfrm>
                    </p:grpSpPr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 flipH="1">
                          <a:off x="4931280" y="6000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" name=""/>
                        <p:cNvSpPr/>
                        <p:nvPr/>
                      </p:nvSpPr>
                      <p:spPr>
                        <a:xfrm flipH="1">
                          <a:off x="4982760" y="60292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 flipH="1">
                          <a:off x="4926960" y="59986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 flipH="1">
                          <a:off x="4936320" y="60033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 flipH="1">
                          <a:off x="4948560" y="601056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 flipH="1">
                          <a:off x="4980240" y="602784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 flipH="1">
                          <a:off x="4977000" y="6026040"/>
                          <a:ext cx="86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 flipH="1">
                          <a:off x="4973040" y="602352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 flipH="1">
                          <a:off x="4956840" y="601488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 flipH="1">
                          <a:off x="4942440" y="600660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 flipH="1">
                          <a:off x="4968360" y="6021360"/>
                          <a:ext cx="828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 flipH="1">
                          <a:off x="4963680" y="6018120"/>
                          <a:ext cx="8280" cy="16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 flipH="1">
                          <a:off x="4923720" y="5996880"/>
                          <a:ext cx="8280" cy="16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4811400" y="6268320"/>
                    <a:ext cx="384120" cy="59400"/>
                    <a:chOff x="4811400" y="6268320"/>
                    <a:chExt cx="384120" cy="5940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4811400" y="6299640"/>
                      <a:ext cx="384120" cy="280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4839840" y="6268320"/>
                      <a:ext cx="326520" cy="302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01" name=""/>
                <p:cNvSpPr/>
                <p:nvPr/>
              </p:nvSpPr>
              <p:spPr>
                <a:xfrm>
                  <a:off x="4496760" y="6292800"/>
                  <a:ext cx="125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Laborator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2608560" y="5571360"/>
                <a:ext cx="910080" cy="818280"/>
                <a:chOff x="2608560" y="5571360"/>
                <a:chExt cx="910080" cy="8182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2608560" y="5571360"/>
                  <a:ext cx="910080" cy="735120"/>
                  <a:chOff x="2608560" y="5571360"/>
                  <a:chExt cx="910080" cy="735120"/>
                </a:xfrm>
              </p:grpSpPr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2608560" y="5571360"/>
                    <a:ext cx="910080" cy="735120"/>
                    <a:chOff x="2608560" y="5571360"/>
                    <a:chExt cx="910080" cy="735120"/>
                  </a:xfrm>
                </p:grpSpPr>
                <p:grpSp>
                  <p:nvGrpSpPr>
                    <p:cNvPr id="705" name=""/>
                    <p:cNvGrpSpPr/>
                    <p:nvPr/>
                  </p:nvGrpSpPr>
                  <p:grpSpPr>
                    <a:xfrm>
                      <a:off x="2608560" y="5571360"/>
                      <a:ext cx="910080" cy="735120"/>
                      <a:chOff x="2608560" y="5571360"/>
                      <a:chExt cx="910080" cy="735120"/>
                    </a:xfrm>
                  </p:grpSpPr>
                  <p:grpSp>
                    <p:nvGrpSpPr>
                      <p:cNvPr id="706" name=""/>
                      <p:cNvGrpSpPr/>
                      <p:nvPr/>
                    </p:nvGrpSpPr>
                    <p:grpSpPr>
                      <a:xfrm>
                        <a:off x="2608560" y="5571360"/>
                        <a:ext cx="910080" cy="735120"/>
                        <a:chOff x="2608560" y="5571360"/>
                        <a:chExt cx="910080" cy="735120"/>
                      </a:xfrm>
                    </p:grpSpPr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rot="1408800">
                          <a:off x="2638080" y="5847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200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2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rot="1408800">
                          <a:off x="2641320" y="58402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3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 rot="1408800">
                          <a:off x="2644920" y="5832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 rot="1408800">
                          <a:off x="2647800" y="58248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 rot="1408800">
                          <a:off x="2651400" y="58168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 rot="1408800">
                          <a:off x="2654640" y="5808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9"/>
                              </a:lnTo>
                              <a:lnTo>
                                <a:pt x="2459" y="292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5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 rot="1408800">
                          <a:off x="2657880" y="58014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 rot="1408800">
                          <a:off x="2661840" y="5793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3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 rot="1408800">
                          <a:off x="2665080" y="5785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6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6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 rot="1408800">
                          <a:off x="2668320" y="57783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 rot="1408800">
                          <a:off x="2671560" y="5770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6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 rot="1408800">
                          <a:off x="2674800" y="57625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 rot="1408800">
                          <a:off x="2678400" y="57549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8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0"/>
                              </a:lnTo>
                              <a:lnTo>
                                <a:pt x="2276" y="416"/>
                              </a:lnTo>
                              <a:lnTo>
                                <a:pt x="2085" y="569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 rot="1408800">
                          <a:off x="2681640" y="57470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6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 rot="1408800">
                          <a:off x="2685240" y="57394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 rot="1408800">
                          <a:off x="2688840" y="5731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4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2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 rot="1408800">
                          <a:off x="2692080" y="57240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 rot="1408800">
                          <a:off x="2695320" y="57164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5">
                              <a:moveTo>
                                <a:pt x="0" y="2050"/>
                              </a:moveTo>
                              <a:lnTo>
                                <a:pt x="1608" y="2855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18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7"/>
                              </a:lnTo>
                              <a:lnTo>
                                <a:pt x="1363" y="1100"/>
                              </a:lnTo>
                              <a:lnTo>
                                <a:pt x="1084" y="1259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5" name=""/>
                      <p:cNvGrpSpPr/>
                      <p:nvPr/>
                    </p:nvGrpSpPr>
                    <p:grpSpPr>
                      <a:xfrm>
                        <a:off x="2741400" y="5622480"/>
                        <a:ext cx="703080" cy="497880"/>
                        <a:chOff x="2741400" y="5622480"/>
                        <a:chExt cx="703080" cy="497880"/>
                      </a:xfrm>
                    </p:grpSpPr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 rot="1408800">
                          <a:off x="2765520" y="5742000"/>
                          <a:ext cx="654480" cy="25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5" h="2355">
                              <a:moveTo>
                                <a:pt x="0" y="1690"/>
                              </a:moveTo>
                              <a:lnTo>
                                <a:pt x="1325" y="2355"/>
                              </a:lnTo>
                              <a:lnTo>
                                <a:pt x="1536" y="2160"/>
                              </a:lnTo>
                              <a:lnTo>
                                <a:pt x="1733" y="1977"/>
                              </a:lnTo>
                              <a:lnTo>
                                <a:pt x="1923" y="1811"/>
                              </a:lnTo>
                              <a:lnTo>
                                <a:pt x="2138" y="1638"/>
                              </a:lnTo>
                              <a:lnTo>
                                <a:pt x="2295" y="1508"/>
                              </a:lnTo>
                              <a:lnTo>
                                <a:pt x="2519" y="1351"/>
                              </a:lnTo>
                              <a:lnTo>
                                <a:pt x="2748" y="1186"/>
                              </a:lnTo>
                              <a:lnTo>
                                <a:pt x="2939" y="1040"/>
                              </a:lnTo>
                              <a:lnTo>
                                <a:pt x="3112" y="923"/>
                              </a:lnTo>
                              <a:lnTo>
                                <a:pt x="3280" y="811"/>
                              </a:lnTo>
                              <a:lnTo>
                                <a:pt x="3447" y="701"/>
                              </a:lnTo>
                              <a:lnTo>
                                <a:pt x="3615" y="594"/>
                              </a:lnTo>
                              <a:lnTo>
                                <a:pt x="2421" y="0"/>
                              </a:lnTo>
                              <a:lnTo>
                                <a:pt x="2226" y="112"/>
                              </a:lnTo>
                              <a:lnTo>
                                <a:pt x="2026" y="239"/>
                              </a:lnTo>
                              <a:lnTo>
                                <a:pt x="1875" y="343"/>
                              </a:lnTo>
                              <a:lnTo>
                                <a:pt x="1718" y="470"/>
                              </a:lnTo>
                              <a:lnTo>
                                <a:pt x="1550" y="604"/>
                              </a:lnTo>
                              <a:lnTo>
                                <a:pt x="1385" y="747"/>
                              </a:lnTo>
                              <a:lnTo>
                                <a:pt x="1122" y="907"/>
                              </a:lnTo>
                              <a:lnTo>
                                <a:pt x="918" y="1022"/>
                              </a:lnTo>
                              <a:lnTo>
                                <a:pt x="677" y="1178"/>
                              </a:lnTo>
                              <a:lnTo>
                                <a:pt x="440" y="1343"/>
                              </a:lnTo>
                              <a:lnTo>
                                <a:pt x="225" y="1500"/>
                              </a:lnTo>
                              <a:lnTo>
                                <a:pt x="0" y="169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rot="1408800">
                          <a:off x="2786400" y="5749200"/>
                          <a:ext cx="614520" cy="24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4" h="2221">
                              <a:moveTo>
                                <a:pt x="0" y="1612"/>
                              </a:moveTo>
                              <a:lnTo>
                                <a:pt x="1206" y="2221"/>
                              </a:lnTo>
                              <a:lnTo>
                                <a:pt x="1407" y="2022"/>
                              </a:lnTo>
                              <a:lnTo>
                                <a:pt x="1624" y="1831"/>
                              </a:lnTo>
                              <a:lnTo>
                                <a:pt x="1796" y="1679"/>
                              </a:lnTo>
                              <a:lnTo>
                                <a:pt x="1989" y="1524"/>
                              </a:lnTo>
                              <a:lnTo>
                                <a:pt x="2131" y="1409"/>
                              </a:lnTo>
                              <a:lnTo>
                                <a:pt x="2332" y="1267"/>
                              </a:lnTo>
                              <a:lnTo>
                                <a:pt x="2537" y="1118"/>
                              </a:lnTo>
                              <a:lnTo>
                                <a:pt x="2711" y="988"/>
                              </a:lnTo>
                              <a:lnTo>
                                <a:pt x="2868" y="881"/>
                              </a:lnTo>
                              <a:lnTo>
                                <a:pt x="3017" y="781"/>
                              </a:lnTo>
                              <a:lnTo>
                                <a:pt x="3195" y="667"/>
                              </a:lnTo>
                              <a:lnTo>
                                <a:pt x="3394" y="536"/>
                              </a:lnTo>
                              <a:lnTo>
                                <a:pt x="2308" y="0"/>
                              </a:lnTo>
                              <a:lnTo>
                                <a:pt x="2119" y="113"/>
                              </a:lnTo>
                              <a:lnTo>
                                <a:pt x="1927" y="229"/>
                              </a:lnTo>
                              <a:lnTo>
                                <a:pt x="1752" y="359"/>
                              </a:lnTo>
                              <a:lnTo>
                                <a:pt x="1610" y="472"/>
                              </a:lnTo>
                              <a:lnTo>
                                <a:pt x="1459" y="594"/>
                              </a:lnTo>
                              <a:lnTo>
                                <a:pt x="1312" y="723"/>
                              </a:lnTo>
                              <a:lnTo>
                                <a:pt x="1074" y="865"/>
                              </a:lnTo>
                              <a:lnTo>
                                <a:pt x="891" y="972"/>
                              </a:lnTo>
                              <a:lnTo>
                                <a:pt x="674" y="1110"/>
                              </a:lnTo>
                              <a:lnTo>
                                <a:pt x="473" y="1261"/>
                              </a:lnTo>
                              <a:lnTo>
                                <a:pt x="265" y="1414"/>
                              </a:lnTo>
                              <a:lnTo>
                                <a:pt x="0" y="1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2815560" y="5804280"/>
                      <a:ext cx="562320" cy="132120"/>
                      <a:chOff x="2815560" y="5804280"/>
                      <a:chExt cx="562320" cy="132120"/>
                    </a:xfrm>
                  </p:grpSpPr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2815560" y="5808240"/>
                        <a:ext cx="62640" cy="9360"/>
                        <a:chOff x="2815560" y="5808240"/>
                        <a:chExt cx="62640" cy="9360"/>
                      </a:xfrm>
                    </p:grpSpPr>
                    <p:sp>
                      <p:nvSpPr>
                        <p:cNvPr id="730" name=""/>
                        <p:cNvSpPr/>
                        <p:nvPr/>
                      </p:nvSpPr>
                      <p:spPr>
                        <a:xfrm flipV="1">
                          <a:off x="2815560" y="580824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 flipV="1">
                          <a:off x="2824920" y="581616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2" name=""/>
                      <p:cNvGrpSpPr/>
                      <p:nvPr/>
                    </p:nvGrpSpPr>
                    <p:grpSpPr>
                      <a:xfrm>
                        <a:off x="2954880" y="5921280"/>
                        <a:ext cx="59400" cy="15120"/>
                        <a:chOff x="2954880" y="5921280"/>
                        <a:chExt cx="59400" cy="15120"/>
                      </a:xfrm>
                    </p:grpSpPr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 flipV="1">
                          <a:off x="2954880" y="5921280"/>
                          <a:ext cx="4752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 flipV="1">
                          <a:off x="2966400" y="5931360"/>
                          <a:ext cx="4788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5" name=""/>
                      <p:cNvGrpSpPr/>
                      <p:nvPr/>
                    </p:nvGrpSpPr>
                    <p:grpSpPr>
                      <a:xfrm>
                        <a:off x="3321000" y="5914800"/>
                        <a:ext cx="56880" cy="11160"/>
                        <a:chOff x="3321000" y="5914800"/>
                        <a:chExt cx="56880" cy="11160"/>
                      </a:xfrm>
                    </p:grpSpPr>
                    <p:sp>
                      <p:nvSpPr>
                        <p:cNvPr id="736" name=""/>
                        <p:cNvSpPr/>
                        <p:nvPr/>
                      </p:nvSpPr>
                      <p:spPr>
                        <a:xfrm flipH="1" flipV="1">
                          <a:off x="3332160" y="5924880"/>
                          <a:ext cx="45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 flipH="1" flipV="1">
                          <a:off x="3321000" y="5914800"/>
                          <a:ext cx="450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8" name=""/>
                      <p:cNvGrpSpPr/>
                      <p:nvPr/>
                    </p:nvGrpSpPr>
                    <p:grpSpPr>
                      <a:xfrm>
                        <a:off x="3197880" y="5810040"/>
                        <a:ext cx="53280" cy="10440"/>
                        <a:chOff x="3197880" y="5810040"/>
                        <a:chExt cx="53280" cy="10440"/>
                      </a:xfrm>
                    </p:grpSpPr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flipH="1" flipV="1">
                          <a:off x="3197880" y="5810040"/>
                          <a:ext cx="4392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flipH="1" flipV="1">
                          <a:off x="3206880" y="5818320"/>
                          <a:ext cx="4428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41" name=""/>
                      <p:cNvGrpSpPr/>
                      <p:nvPr/>
                    </p:nvGrpSpPr>
                    <p:grpSpPr>
                      <a:xfrm>
                        <a:off x="3042360" y="5804280"/>
                        <a:ext cx="167040" cy="127800"/>
                        <a:chOff x="3042360" y="5804280"/>
                        <a:chExt cx="167040" cy="127800"/>
                      </a:xfrm>
                    </p:grpSpPr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rot="1408800">
                          <a:off x="3051000" y="5830560"/>
                          <a:ext cx="1486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rot="1408800">
                          <a:off x="3051720" y="5830920"/>
                          <a:ext cx="1486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744" name=""/>
                  <p:cNvSpPr/>
                  <p:nvPr/>
                </p:nvSpPr>
                <p:spPr>
                  <a:xfrm rot="1408800">
                    <a:off x="2972520" y="5822640"/>
                    <a:ext cx="252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" h="2070">
                        <a:moveTo>
                          <a:pt x="0" y="0"/>
                        </a:moveTo>
                        <a:lnTo>
                          <a:pt x="1397" y="723"/>
                        </a:lnTo>
                        <a:lnTo>
                          <a:pt x="1395" y="207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>
                  <a:off x="2777040" y="602136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D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915120" y="5843520"/>
                <a:ext cx="936720" cy="631080"/>
                <a:chOff x="915120" y="5843520"/>
                <a:chExt cx="936720" cy="63108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946080" y="5843520"/>
                  <a:ext cx="800280" cy="384120"/>
                  <a:chOff x="946080" y="5843520"/>
                  <a:chExt cx="800280" cy="3841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1050840" y="6041880"/>
                    <a:ext cx="592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541">
                        <a:moveTo>
                          <a:pt x="0" y="540"/>
                        </a:moveTo>
                        <a:lnTo>
                          <a:pt x="0" y="0"/>
                        </a:lnTo>
                        <a:lnTo>
                          <a:pt x="3888" y="0"/>
                        </a:lnTo>
                        <a:lnTo>
                          <a:pt x="3888" y="541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352520" y="593892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41280" y="5843520"/>
                    <a:ext cx="209520" cy="95400"/>
                  </a:xfrm>
                  <a:prstGeom prst="rect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946080" y="6132600"/>
                    <a:ext cx="800280" cy="95040"/>
                    <a:chOff x="946080" y="6132600"/>
                    <a:chExt cx="800280" cy="950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24452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153684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946080" y="613260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55" name=""/>
                <p:cNvSpPr/>
                <p:nvPr/>
              </p:nvSpPr>
              <p:spPr>
                <a:xfrm>
                  <a:off x="915120" y="6167520"/>
                  <a:ext cx="93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Organisa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869800" y="5715000"/>
                <a:ext cx="1105920" cy="834840"/>
                <a:chOff x="5869800" y="5715000"/>
                <a:chExt cx="1105920" cy="8348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869800" y="6181560"/>
                  <a:ext cx="110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</a:rPr>
                    <a:t>Kuriku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5945040" y="5715000"/>
                  <a:ext cx="579240" cy="614160"/>
                  <a:chOff x="5945040" y="5715000"/>
                  <a:chExt cx="579240" cy="61416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6032160" y="5715000"/>
                    <a:ext cx="492120" cy="614160"/>
                    <a:chOff x="6032160" y="5715000"/>
                    <a:chExt cx="492120" cy="6141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6234840" y="5721120"/>
                      <a:ext cx="1756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1" h="1468">
                          <a:moveTo>
                            <a:pt x="1338" y="0"/>
                          </a:moveTo>
                          <a:lnTo>
                            <a:pt x="1178" y="382"/>
                          </a:lnTo>
                          <a:lnTo>
                            <a:pt x="426" y="252"/>
                          </a:lnTo>
                          <a:lnTo>
                            <a:pt x="160" y="417"/>
                          </a:lnTo>
                          <a:lnTo>
                            <a:pt x="0" y="711"/>
                          </a:lnTo>
                          <a:lnTo>
                            <a:pt x="68" y="964"/>
                          </a:lnTo>
                          <a:lnTo>
                            <a:pt x="492" y="1175"/>
                          </a:lnTo>
                          <a:lnTo>
                            <a:pt x="2222" y="1468"/>
                          </a:lnTo>
                          <a:lnTo>
                            <a:pt x="2189" y="1175"/>
                          </a:lnTo>
                          <a:lnTo>
                            <a:pt x="2316" y="922"/>
                          </a:lnTo>
                          <a:lnTo>
                            <a:pt x="2641" y="839"/>
                          </a:lnTo>
                          <a:lnTo>
                            <a:pt x="2549" y="627"/>
                          </a:lnTo>
                          <a:lnTo>
                            <a:pt x="1896" y="503"/>
                          </a:lnTo>
                          <a:lnTo>
                            <a:pt x="2056" y="210"/>
                          </a:lnTo>
                          <a:lnTo>
                            <a:pt x="1338" y="0"/>
                          </a:lnTo>
                          <a:close/>
                        </a:path>
                      </a:pathLst>
                    </a:custGeom>
                    <a:solidFill>
                      <a:srgbClr val="00eaff"/>
                    </a:solidFill>
                    <a:ln w="0">
                      <a:solidFill>
                        <a:srgbClr val="00ea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6240960" y="5751000"/>
                      <a:ext cx="13896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8" h="676">
                          <a:moveTo>
                            <a:pt x="59" y="0"/>
                          </a:moveTo>
                          <a:lnTo>
                            <a:pt x="2088" y="382"/>
                          </a:lnTo>
                          <a:lnTo>
                            <a:pt x="1923" y="505"/>
                          </a:lnTo>
                          <a:lnTo>
                            <a:pt x="1821" y="676"/>
                          </a:lnTo>
                          <a:lnTo>
                            <a:pt x="1729" y="547"/>
                          </a:lnTo>
                          <a:lnTo>
                            <a:pt x="1630" y="630"/>
                          </a:lnTo>
                          <a:lnTo>
                            <a:pt x="1529" y="505"/>
                          </a:lnTo>
                          <a:lnTo>
                            <a:pt x="1336" y="547"/>
                          </a:lnTo>
                          <a:lnTo>
                            <a:pt x="1272" y="466"/>
                          </a:lnTo>
                          <a:lnTo>
                            <a:pt x="1077" y="505"/>
                          </a:lnTo>
                          <a:lnTo>
                            <a:pt x="1010" y="422"/>
                          </a:lnTo>
                          <a:lnTo>
                            <a:pt x="846" y="466"/>
                          </a:lnTo>
                          <a:lnTo>
                            <a:pt x="777" y="382"/>
                          </a:lnTo>
                          <a:lnTo>
                            <a:pt x="617" y="466"/>
                          </a:lnTo>
                          <a:lnTo>
                            <a:pt x="553" y="340"/>
                          </a:lnTo>
                          <a:lnTo>
                            <a:pt x="391" y="382"/>
                          </a:lnTo>
                          <a:lnTo>
                            <a:pt x="360" y="254"/>
                          </a:lnTo>
                          <a:lnTo>
                            <a:pt x="127" y="340"/>
                          </a:lnTo>
                          <a:lnTo>
                            <a:pt x="94" y="210"/>
                          </a:lnTo>
                          <a:lnTo>
                            <a:pt x="0" y="129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6088680" y="6122880"/>
                      <a:ext cx="27864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7" h="2181">
                          <a:moveTo>
                            <a:pt x="0" y="1215"/>
                          </a:moveTo>
                          <a:lnTo>
                            <a:pt x="2872" y="1805"/>
                          </a:lnTo>
                          <a:lnTo>
                            <a:pt x="4177" y="0"/>
                          </a:lnTo>
                          <a:lnTo>
                            <a:pt x="2805" y="2181"/>
                          </a:lnTo>
                          <a:lnTo>
                            <a:pt x="0" y="12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6135120" y="5715000"/>
                      <a:ext cx="3729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2" h="2694">
                          <a:moveTo>
                            <a:pt x="0" y="2694"/>
                          </a:moveTo>
                          <a:lnTo>
                            <a:pt x="459" y="2104"/>
                          </a:lnTo>
                          <a:lnTo>
                            <a:pt x="685" y="1418"/>
                          </a:lnTo>
                          <a:lnTo>
                            <a:pt x="770" y="1023"/>
                          </a:lnTo>
                          <a:lnTo>
                            <a:pt x="846" y="531"/>
                          </a:lnTo>
                          <a:lnTo>
                            <a:pt x="1471" y="713"/>
                          </a:lnTo>
                          <a:lnTo>
                            <a:pt x="1686" y="432"/>
                          </a:lnTo>
                          <a:lnTo>
                            <a:pt x="1923" y="337"/>
                          </a:lnTo>
                          <a:lnTo>
                            <a:pt x="2688" y="425"/>
                          </a:lnTo>
                          <a:lnTo>
                            <a:pt x="2820" y="50"/>
                          </a:lnTo>
                          <a:lnTo>
                            <a:pt x="3218" y="0"/>
                          </a:lnTo>
                          <a:lnTo>
                            <a:pt x="3503" y="83"/>
                          </a:lnTo>
                          <a:lnTo>
                            <a:pt x="3686" y="337"/>
                          </a:lnTo>
                          <a:lnTo>
                            <a:pt x="3613" y="630"/>
                          </a:lnTo>
                          <a:lnTo>
                            <a:pt x="4332" y="757"/>
                          </a:lnTo>
                          <a:lnTo>
                            <a:pt x="4459" y="1049"/>
                          </a:lnTo>
                          <a:lnTo>
                            <a:pt x="4459" y="1221"/>
                          </a:lnTo>
                          <a:lnTo>
                            <a:pt x="5294" y="1316"/>
                          </a:lnTo>
                          <a:lnTo>
                            <a:pt x="5602" y="1316"/>
                          </a:lnTo>
                          <a:lnTo>
                            <a:pt x="4487" y="1304"/>
                          </a:lnTo>
                          <a:lnTo>
                            <a:pt x="3806" y="1137"/>
                          </a:lnTo>
                          <a:lnTo>
                            <a:pt x="3686" y="1418"/>
                          </a:lnTo>
                          <a:lnTo>
                            <a:pt x="3914" y="1515"/>
                          </a:lnTo>
                          <a:lnTo>
                            <a:pt x="3707" y="1943"/>
                          </a:lnTo>
                          <a:lnTo>
                            <a:pt x="1764" y="1611"/>
                          </a:lnTo>
                          <a:lnTo>
                            <a:pt x="1962" y="1176"/>
                          </a:lnTo>
                          <a:lnTo>
                            <a:pt x="3602" y="1475"/>
                          </a:lnTo>
                          <a:lnTo>
                            <a:pt x="3525" y="1221"/>
                          </a:lnTo>
                          <a:lnTo>
                            <a:pt x="3613" y="1023"/>
                          </a:lnTo>
                          <a:lnTo>
                            <a:pt x="3936" y="757"/>
                          </a:lnTo>
                          <a:lnTo>
                            <a:pt x="3149" y="630"/>
                          </a:lnTo>
                          <a:lnTo>
                            <a:pt x="3378" y="337"/>
                          </a:lnTo>
                          <a:lnTo>
                            <a:pt x="3310" y="171"/>
                          </a:lnTo>
                          <a:lnTo>
                            <a:pt x="3073" y="138"/>
                          </a:lnTo>
                          <a:lnTo>
                            <a:pt x="2923" y="171"/>
                          </a:lnTo>
                          <a:lnTo>
                            <a:pt x="2762" y="531"/>
                          </a:lnTo>
                          <a:lnTo>
                            <a:pt x="1934" y="425"/>
                          </a:lnTo>
                          <a:lnTo>
                            <a:pt x="1630" y="674"/>
                          </a:lnTo>
                          <a:lnTo>
                            <a:pt x="1614" y="918"/>
                          </a:lnTo>
                          <a:lnTo>
                            <a:pt x="1764" y="1122"/>
                          </a:lnTo>
                          <a:lnTo>
                            <a:pt x="1923" y="1221"/>
                          </a:lnTo>
                          <a:lnTo>
                            <a:pt x="1614" y="1122"/>
                          </a:lnTo>
                          <a:lnTo>
                            <a:pt x="1459" y="1023"/>
                          </a:lnTo>
                          <a:lnTo>
                            <a:pt x="1459" y="823"/>
                          </a:lnTo>
                          <a:lnTo>
                            <a:pt x="913" y="674"/>
                          </a:lnTo>
                          <a:lnTo>
                            <a:pt x="685" y="1805"/>
                          </a:lnTo>
                          <a:lnTo>
                            <a:pt x="0" y="26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6032160" y="5808600"/>
                      <a:ext cx="4921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2" h="7285">
                          <a:moveTo>
                            <a:pt x="6995" y="102"/>
                          </a:moveTo>
                          <a:lnTo>
                            <a:pt x="5916" y="2362"/>
                          </a:lnTo>
                          <a:lnTo>
                            <a:pt x="4689" y="4226"/>
                          </a:lnTo>
                          <a:lnTo>
                            <a:pt x="3536" y="5806"/>
                          </a:lnTo>
                          <a:lnTo>
                            <a:pt x="1927" y="5612"/>
                          </a:lnTo>
                          <a:lnTo>
                            <a:pt x="998" y="5414"/>
                          </a:lnTo>
                          <a:lnTo>
                            <a:pt x="3536" y="6006"/>
                          </a:lnTo>
                          <a:lnTo>
                            <a:pt x="4463" y="4923"/>
                          </a:lnTo>
                          <a:lnTo>
                            <a:pt x="5386" y="3548"/>
                          </a:lnTo>
                          <a:lnTo>
                            <a:pt x="6451" y="1571"/>
                          </a:lnTo>
                          <a:lnTo>
                            <a:pt x="5226" y="4039"/>
                          </a:lnTo>
                          <a:lnTo>
                            <a:pt x="3733" y="6513"/>
                          </a:lnTo>
                          <a:lnTo>
                            <a:pt x="5840" y="3445"/>
                          </a:lnTo>
                          <a:lnTo>
                            <a:pt x="5043" y="5127"/>
                          </a:lnTo>
                          <a:lnTo>
                            <a:pt x="3995" y="6888"/>
                          </a:lnTo>
                          <a:lnTo>
                            <a:pt x="2806" y="6513"/>
                          </a:lnTo>
                          <a:lnTo>
                            <a:pt x="1697" y="6216"/>
                          </a:lnTo>
                          <a:lnTo>
                            <a:pt x="0" y="5907"/>
                          </a:lnTo>
                          <a:lnTo>
                            <a:pt x="2225" y="6490"/>
                          </a:lnTo>
                          <a:lnTo>
                            <a:pt x="3767" y="7082"/>
                          </a:lnTo>
                          <a:lnTo>
                            <a:pt x="4153" y="7285"/>
                          </a:lnTo>
                          <a:lnTo>
                            <a:pt x="5916" y="3741"/>
                          </a:lnTo>
                          <a:lnTo>
                            <a:pt x="6995" y="1378"/>
                          </a:lnTo>
                          <a:lnTo>
                            <a:pt x="7382" y="295"/>
                          </a:lnTo>
                          <a:lnTo>
                            <a:pt x="7071" y="396"/>
                          </a:lnTo>
                          <a:lnTo>
                            <a:pt x="7225" y="0"/>
                          </a:lnTo>
                          <a:lnTo>
                            <a:pt x="6995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6050880" y="6205320"/>
                      <a:ext cx="22320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3" h="1048">
                          <a:moveTo>
                            <a:pt x="0" y="0"/>
                          </a:moveTo>
                          <a:lnTo>
                            <a:pt x="3255" y="793"/>
                          </a:lnTo>
                          <a:lnTo>
                            <a:pt x="3353" y="10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6" name=""/>
                  <p:cNvSpPr/>
                  <p:nvPr/>
                </p:nvSpPr>
                <p:spPr>
                  <a:xfrm>
                    <a:off x="5945040" y="5765040"/>
                    <a:ext cx="57852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5" h="800">
                        <a:moveTo>
                          <a:pt x="473" y="0"/>
                        </a:moveTo>
                        <a:lnTo>
                          <a:pt x="445" y="134"/>
                        </a:lnTo>
                        <a:cubicBezTo>
                          <a:pt x="407" y="194"/>
                          <a:pt x="336" y="290"/>
                          <a:pt x="246" y="362"/>
                        </a:cubicBezTo>
                        <a:cubicBezTo>
                          <a:pt x="156" y="434"/>
                          <a:pt x="0" y="585"/>
                          <a:pt x="3" y="650"/>
                        </a:cubicBezTo>
                        <a:lnTo>
                          <a:pt x="291" y="756"/>
                        </a:lnTo>
                        <a:cubicBezTo>
                          <a:pt x="392" y="781"/>
                          <a:pt x="501" y="796"/>
                          <a:pt x="609" y="800"/>
                        </a:cubicBezTo>
                        <a:cubicBezTo>
                          <a:pt x="700" y="748"/>
                          <a:pt x="781" y="542"/>
                          <a:pt x="865" y="428"/>
                        </a:cubicBezTo>
                        <a:cubicBezTo>
                          <a:pt x="949" y="314"/>
                          <a:pt x="1005" y="152"/>
                          <a:pt x="1041" y="90"/>
                        </a:cubicBezTo>
                        <a:cubicBezTo>
                          <a:pt x="1044" y="84"/>
                          <a:pt x="1085" y="78"/>
                          <a:pt x="1065" y="76"/>
                        </a:cubicBezTo>
                        <a:cubicBezTo>
                          <a:pt x="1045" y="74"/>
                          <a:pt x="962" y="81"/>
                          <a:pt x="923" y="78"/>
                        </a:cubicBezTo>
                        <a:lnTo>
                          <a:pt x="833" y="56"/>
                        </a:lnTo>
                        <a:lnTo>
                          <a:pt x="819" y="92"/>
                        </a:lnTo>
                        <a:lnTo>
                          <a:pt x="849" y="100"/>
                        </a:lnTo>
                        <a:lnTo>
                          <a:pt x="817" y="156"/>
                        </a:lnTo>
                        <a:lnTo>
                          <a:pt x="575" y="112"/>
                        </a:lnTo>
                        <a:lnTo>
                          <a:pt x="601" y="66"/>
                        </a:lnTo>
                        <a:lnTo>
                          <a:pt x="539" y="40"/>
                        </a:lnTo>
                        <a:lnTo>
                          <a:pt x="539" y="14"/>
                        </a:lnTo>
                        <a:lnTo>
                          <a:pt x="473" y="0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5028120" y="5715000"/>
                <a:ext cx="1275120" cy="689760"/>
                <a:chOff x="5028120" y="5715000"/>
                <a:chExt cx="1275120" cy="6897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5449680" y="5715000"/>
                  <a:ext cx="387000" cy="474840"/>
                  <a:chOff x="5449680" y="5715000"/>
                  <a:chExt cx="387000" cy="47484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498640" y="578160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1" h="3517">
                        <a:moveTo>
                          <a:pt x="23" y="3517"/>
                        </a:moveTo>
                        <a:lnTo>
                          <a:pt x="0" y="0"/>
                        </a:lnTo>
                        <a:lnTo>
                          <a:pt x="9" y="75"/>
                        </a:lnTo>
                        <a:lnTo>
                          <a:pt x="46" y="140"/>
                        </a:lnTo>
                        <a:lnTo>
                          <a:pt x="89" y="198"/>
                        </a:lnTo>
                        <a:lnTo>
                          <a:pt x="166" y="268"/>
                        </a:lnTo>
                        <a:lnTo>
                          <a:pt x="252" y="320"/>
                        </a:lnTo>
                        <a:lnTo>
                          <a:pt x="357" y="366"/>
                        </a:lnTo>
                        <a:lnTo>
                          <a:pt x="477" y="406"/>
                        </a:lnTo>
                        <a:lnTo>
                          <a:pt x="615" y="447"/>
                        </a:lnTo>
                        <a:lnTo>
                          <a:pt x="754" y="470"/>
                        </a:lnTo>
                        <a:lnTo>
                          <a:pt x="910" y="488"/>
                        </a:lnTo>
                        <a:lnTo>
                          <a:pt x="1068" y="492"/>
                        </a:lnTo>
                        <a:lnTo>
                          <a:pt x="1227" y="488"/>
                        </a:lnTo>
                        <a:lnTo>
                          <a:pt x="1375" y="477"/>
                        </a:lnTo>
                        <a:lnTo>
                          <a:pt x="1520" y="454"/>
                        </a:lnTo>
                        <a:lnTo>
                          <a:pt x="1663" y="431"/>
                        </a:lnTo>
                        <a:lnTo>
                          <a:pt x="1787" y="382"/>
                        </a:lnTo>
                        <a:lnTo>
                          <a:pt x="1901" y="343"/>
                        </a:lnTo>
                        <a:lnTo>
                          <a:pt x="1998" y="295"/>
                        </a:lnTo>
                        <a:lnTo>
                          <a:pt x="2086" y="232"/>
                        </a:lnTo>
                        <a:lnTo>
                          <a:pt x="2144" y="171"/>
                        </a:lnTo>
                        <a:lnTo>
                          <a:pt x="2178" y="106"/>
                        </a:lnTo>
                        <a:lnTo>
                          <a:pt x="2201" y="34"/>
                        </a:lnTo>
                        <a:lnTo>
                          <a:pt x="2201" y="0"/>
                        </a:lnTo>
                        <a:lnTo>
                          <a:pt x="2201" y="3517"/>
                        </a:lnTo>
                        <a:lnTo>
                          <a:pt x="23" y="35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583960" y="5726520"/>
                    <a:ext cx="738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0" h="3524">
                        <a:moveTo>
                          <a:pt x="23" y="3524"/>
                        </a:moveTo>
                        <a:lnTo>
                          <a:pt x="0" y="0"/>
                        </a:lnTo>
                        <a:lnTo>
                          <a:pt x="11" y="75"/>
                        </a:lnTo>
                        <a:lnTo>
                          <a:pt x="45" y="143"/>
                        </a:lnTo>
                        <a:lnTo>
                          <a:pt x="89" y="201"/>
                        </a:lnTo>
                        <a:lnTo>
                          <a:pt x="162" y="271"/>
                        </a:lnTo>
                        <a:lnTo>
                          <a:pt x="250" y="322"/>
                        </a:lnTo>
                        <a:lnTo>
                          <a:pt x="356" y="377"/>
                        </a:lnTo>
                        <a:lnTo>
                          <a:pt x="479" y="417"/>
                        </a:lnTo>
                        <a:lnTo>
                          <a:pt x="618" y="454"/>
                        </a:lnTo>
                        <a:lnTo>
                          <a:pt x="753" y="478"/>
                        </a:lnTo>
                        <a:lnTo>
                          <a:pt x="909" y="495"/>
                        </a:lnTo>
                        <a:lnTo>
                          <a:pt x="1066" y="497"/>
                        </a:lnTo>
                        <a:lnTo>
                          <a:pt x="1225" y="495"/>
                        </a:lnTo>
                        <a:lnTo>
                          <a:pt x="1370" y="485"/>
                        </a:lnTo>
                        <a:lnTo>
                          <a:pt x="1519" y="465"/>
                        </a:lnTo>
                        <a:lnTo>
                          <a:pt x="1660" y="435"/>
                        </a:lnTo>
                        <a:lnTo>
                          <a:pt x="1789" y="390"/>
                        </a:lnTo>
                        <a:lnTo>
                          <a:pt x="1900" y="350"/>
                        </a:lnTo>
                        <a:lnTo>
                          <a:pt x="2000" y="298"/>
                        </a:lnTo>
                        <a:lnTo>
                          <a:pt x="2085" y="234"/>
                        </a:lnTo>
                        <a:lnTo>
                          <a:pt x="2143" y="174"/>
                        </a:lnTo>
                        <a:lnTo>
                          <a:pt x="2177" y="109"/>
                        </a:lnTo>
                        <a:lnTo>
                          <a:pt x="2200" y="38"/>
                        </a:lnTo>
                        <a:lnTo>
                          <a:pt x="2200" y="0"/>
                        </a:lnTo>
                        <a:lnTo>
                          <a:pt x="2200" y="3524"/>
                        </a:lnTo>
                        <a:lnTo>
                          <a:pt x="23" y="35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668920" y="5753880"/>
                    <a:ext cx="7380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3514">
                        <a:moveTo>
                          <a:pt x="24" y="3514"/>
                        </a:moveTo>
                        <a:lnTo>
                          <a:pt x="0" y="0"/>
                        </a:lnTo>
                        <a:lnTo>
                          <a:pt x="11" y="74"/>
                        </a:lnTo>
                        <a:lnTo>
                          <a:pt x="45" y="134"/>
                        </a:lnTo>
                        <a:lnTo>
                          <a:pt x="89" y="195"/>
                        </a:lnTo>
                        <a:lnTo>
                          <a:pt x="166" y="263"/>
                        </a:lnTo>
                        <a:lnTo>
                          <a:pt x="254" y="321"/>
                        </a:lnTo>
                        <a:lnTo>
                          <a:pt x="356" y="368"/>
                        </a:lnTo>
                        <a:lnTo>
                          <a:pt x="476" y="410"/>
                        </a:lnTo>
                        <a:lnTo>
                          <a:pt x="619" y="449"/>
                        </a:lnTo>
                        <a:lnTo>
                          <a:pt x="757" y="472"/>
                        </a:lnTo>
                        <a:lnTo>
                          <a:pt x="911" y="490"/>
                        </a:lnTo>
                        <a:lnTo>
                          <a:pt x="1068" y="490"/>
                        </a:lnTo>
                        <a:lnTo>
                          <a:pt x="1225" y="490"/>
                        </a:lnTo>
                        <a:lnTo>
                          <a:pt x="1370" y="479"/>
                        </a:lnTo>
                        <a:lnTo>
                          <a:pt x="1521" y="456"/>
                        </a:lnTo>
                        <a:lnTo>
                          <a:pt x="1658" y="426"/>
                        </a:lnTo>
                        <a:lnTo>
                          <a:pt x="1793" y="381"/>
                        </a:lnTo>
                        <a:lnTo>
                          <a:pt x="1904" y="340"/>
                        </a:lnTo>
                        <a:lnTo>
                          <a:pt x="2004" y="290"/>
                        </a:lnTo>
                        <a:lnTo>
                          <a:pt x="2082" y="226"/>
                        </a:lnTo>
                        <a:lnTo>
                          <a:pt x="2143" y="165"/>
                        </a:lnTo>
                        <a:lnTo>
                          <a:pt x="2177" y="100"/>
                        </a:lnTo>
                        <a:lnTo>
                          <a:pt x="2197" y="32"/>
                        </a:lnTo>
                        <a:lnTo>
                          <a:pt x="2197" y="0"/>
                        </a:lnTo>
                        <a:lnTo>
                          <a:pt x="2197" y="3514"/>
                        </a:lnTo>
                        <a:lnTo>
                          <a:pt x="24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5756760" y="5785920"/>
                    <a:ext cx="73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99" h="3514">
                        <a:moveTo>
                          <a:pt x="27" y="3514"/>
                        </a:moveTo>
                        <a:lnTo>
                          <a:pt x="0" y="0"/>
                        </a:lnTo>
                        <a:lnTo>
                          <a:pt x="15" y="73"/>
                        </a:lnTo>
                        <a:lnTo>
                          <a:pt x="51" y="142"/>
                        </a:lnTo>
                        <a:lnTo>
                          <a:pt x="92" y="195"/>
                        </a:lnTo>
                        <a:lnTo>
                          <a:pt x="169" y="263"/>
                        </a:lnTo>
                        <a:lnTo>
                          <a:pt x="257" y="321"/>
                        </a:lnTo>
                        <a:lnTo>
                          <a:pt x="357" y="367"/>
                        </a:lnTo>
                        <a:lnTo>
                          <a:pt x="483" y="410"/>
                        </a:lnTo>
                        <a:lnTo>
                          <a:pt x="621" y="445"/>
                        </a:lnTo>
                        <a:lnTo>
                          <a:pt x="759" y="470"/>
                        </a:lnTo>
                        <a:lnTo>
                          <a:pt x="913" y="487"/>
                        </a:lnTo>
                        <a:lnTo>
                          <a:pt x="1070" y="494"/>
                        </a:lnTo>
                        <a:lnTo>
                          <a:pt x="1228" y="487"/>
                        </a:lnTo>
                        <a:lnTo>
                          <a:pt x="1377" y="476"/>
                        </a:lnTo>
                        <a:lnTo>
                          <a:pt x="1528" y="456"/>
                        </a:lnTo>
                        <a:lnTo>
                          <a:pt x="1662" y="426"/>
                        </a:lnTo>
                        <a:lnTo>
                          <a:pt x="1788" y="382"/>
                        </a:lnTo>
                        <a:lnTo>
                          <a:pt x="1903" y="340"/>
                        </a:lnTo>
                        <a:lnTo>
                          <a:pt x="2000" y="287"/>
                        </a:lnTo>
                        <a:lnTo>
                          <a:pt x="2088" y="233"/>
                        </a:lnTo>
                        <a:lnTo>
                          <a:pt x="2145" y="168"/>
                        </a:lnTo>
                        <a:lnTo>
                          <a:pt x="2180" y="104"/>
                        </a:lnTo>
                        <a:lnTo>
                          <a:pt x="2199" y="34"/>
                        </a:lnTo>
                        <a:lnTo>
                          <a:pt x="2199" y="0"/>
                        </a:lnTo>
                        <a:lnTo>
                          <a:pt x="2199" y="3514"/>
                        </a:lnTo>
                        <a:lnTo>
                          <a:pt x="27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5449680" y="5774400"/>
                    <a:ext cx="12924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1" h="10170">
                        <a:moveTo>
                          <a:pt x="0" y="6000"/>
                        </a:moveTo>
                        <a:lnTo>
                          <a:pt x="1309" y="0"/>
                        </a:lnTo>
                        <a:lnTo>
                          <a:pt x="1490" y="0"/>
                        </a:lnTo>
                        <a:lnTo>
                          <a:pt x="1481" y="3143"/>
                        </a:lnTo>
                        <a:lnTo>
                          <a:pt x="1481" y="3215"/>
                        </a:lnTo>
                        <a:lnTo>
                          <a:pt x="1513" y="3282"/>
                        </a:lnTo>
                        <a:lnTo>
                          <a:pt x="1562" y="3353"/>
                        </a:lnTo>
                        <a:lnTo>
                          <a:pt x="1636" y="3411"/>
                        </a:lnTo>
                        <a:lnTo>
                          <a:pt x="1731" y="3461"/>
                        </a:lnTo>
                        <a:lnTo>
                          <a:pt x="1821" y="3515"/>
                        </a:lnTo>
                        <a:lnTo>
                          <a:pt x="1946" y="3552"/>
                        </a:lnTo>
                        <a:lnTo>
                          <a:pt x="2082" y="3594"/>
                        </a:lnTo>
                        <a:lnTo>
                          <a:pt x="2223" y="3618"/>
                        </a:lnTo>
                        <a:lnTo>
                          <a:pt x="2368" y="3634"/>
                        </a:lnTo>
                        <a:lnTo>
                          <a:pt x="2519" y="3641"/>
                        </a:lnTo>
                        <a:lnTo>
                          <a:pt x="2681" y="3641"/>
                        </a:lnTo>
                        <a:lnTo>
                          <a:pt x="2819" y="3625"/>
                        </a:lnTo>
                        <a:lnTo>
                          <a:pt x="2964" y="3603"/>
                        </a:lnTo>
                        <a:lnTo>
                          <a:pt x="3107" y="3575"/>
                        </a:lnTo>
                        <a:lnTo>
                          <a:pt x="3225" y="3540"/>
                        </a:lnTo>
                        <a:lnTo>
                          <a:pt x="3340" y="3488"/>
                        </a:lnTo>
                        <a:lnTo>
                          <a:pt x="3447" y="3434"/>
                        </a:lnTo>
                        <a:lnTo>
                          <a:pt x="3521" y="3377"/>
                        </a:lnTo>
                        <a:lnTo>
                          <a:pt x="3579" y="3312"/>
                        </a:lnTo>
                        <a:lnTo>
                          <a:pt x="3618" y="3246"/>
                        </a:lnTo>
                        <a:lnTo>
                          <a:pt x="3633" y="3174"/>
                        </a:lnTo>
                        <a:lnTo>
                          <a:pt x="3643" y="3143"/>
                        </a:lnTo>
                        <a:lnTo>
                          <a:pt x="3643" y="0"/>
                        </a:lnTo>
                        <a:lnTo>
                          <a:pt x="3831" y="0"/>
                        </a:lnTo>
                        <a:lnTo>
                          <a:pt x="3831" y="3793"/>
                        </a:lnTo>
                        <a:lnTo>
                          <a:pt x="2556" y="9655"/>
                        </a:lnTo>
                        <a:lnTo>
                          <a:pt x="2499" y="9746"/>
                        </a:lnTo>
                        <a:lnTo>
                          <a:pt x="2445" y="9821"/>
                        </a:lnTo>
                        <a:lnTo>
                          <a:pt x="2368" y="9891"/>
                        </a:lnTo>
                        <a:lnTo>
                          <a:pt x="2280" y="9952"/>
                        </a:lnTo>
                        <a:lnTo>
                          <a:pt x="2159" y="10006"/>
                        </a:lnTo>
                        <a:lnTo>
                          <a:pt x="2034" y="10058"/>
                        </a:lnTo>
                        <a:lnTo>
                          <a:pt x="1896" y="10098"/>
                        </a:lnTo>
                        <a:lnTo>
                          <a:pt x="1744" y="10129"/>
                        </a:lnTo>
                        <a:lnTo>
                          <a:pt x="1590" y="10156"/>
                        </a:lnTo>
                        <a:lnTo>
                          <a:pt x="1424" y="10166"/>
                        </a:lnTo>
                        <a:lnTo>
                          <a:pt x="1259" y="10170"/>
                        </a:lnTo>
                        <a:lnTo>
                          <a:pt x="1091" y="10166"/>
                        </a:lnTo>
                        <a:lnTo>
                          <a:pt x="925" y="10147"/>
                        </a:lnTo>
                        <a:lnTo>
                          <a:pt x="769" y="10123"/>
                        </a:lnTo>
                        <a:lnTo>
                          <a:pt x="618" y="10088"/>
                        </a:lnTo>
                        <a:lnTo>
                          <a:pt x="483" y="10054"/>
                        </a:lnTo>
                        <a:lnTo>
                          <a:pt x="358" y="9997"/>
                        </a:lnTo>
                        <a:lnTo>
                          <a:pt x="250" y="9943"/>
                        </a:lnTo>
                        <a:lnTo>
                          <a:pt x="159" y="9875"/>
                        </a:lnTo>
                        <a:lnTo>
                          <a:pt x="84" y="9811"/>
                        </a:lnTo>
                        <a:lnTo>
                          <a:pt x="38" y="9737"/>
                        </a:lnTo>
                        <a:lnTo>
                          <a:pt x="4" y="9703"/>
                        </a:lnTo>
                        <a:lnTo>
                          <a:pt x="0" y="6000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578920" y="5715000"/>
                    <a:ext cx="25776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652" h="11636">
                        <a:moveTo>
                          <a:pt x="7473" y="4604"/>
                        </a:moveTo>
                        <a:lnTo>
                          <a:pt x="7473" y="4617"/>
                        </a:lnTo>
                        <a:lnTo>
                          <a:pt x="7457" y="4692"/>
                        </a:lnTo>
                        <a:lnTo>
                          <a:pt x="7415" y="4758"/>
                        </a:lnTo>
                        <a:lnTo>
                          <a:pt x="7351" y="4823"/>
                        </a:lnTo>
                        <a:lnTo>
                          <a:pt x="7285" y="4884"/>
                        </a:lnTo>
                        <a:lnTo>
                          <a:pt x="7185" y="4944"/>
                        </a:lnTo>
                        <a:lnTo>
                          <a:pt x="7072" y="4995"/>
                        </a:lnTo>
                        <a:lnTo>
                          <a:pt x="6943" y="5026"/>
                        </a:lnTo>
                        <a:lnTo>
                          <a:pt x="6812" y="5067"/>
                        </a:lnTo>
                        <a:lnTo>
                          <a:pt x="6670" y="5087"/>
                        </a:lnTo>
                        <a:lnTo>
                          <a:pt x="6516" y="5101"/>
                        </a:lnTo>
                        <a:lnTo>
                          <a:pt x="6356" y="5101"/>
                        </a:lnTo>
                        <a:lnTo>
                          <a:pt x="6201" y="5098"/>
                        </a:lnTo>
                        <a:lnTo>
                          <a:pt x="6052" y="5080"/>
                        </a:lnTo>
                        <a:lnTo>
                          <a:pt x="5905" y="5053"/>
                        </a:lnTo>
                        <a:lnTo>
                          <a:pt x="5776" y="5021"/>
                        </a:lnTo>
                        <a:lnTo>
                          <a:pt x="5655" y="4971"/>
                        </a:lnTo>
                        <a:lnTo>
                          <a:pt x="5548" y="4932"/>
                        </a:lnTo>
                        <a:lnTo>
                          <a:pt x="5453" y="4864"/>
                        </a:lnTo>
                        <a:lnTo>
                          <a:pt x="5388" y="4806"/>
                        </a:lnTo>
                        <a:lnTo>
                          <a:pt x="5335" y="4742"/>
                        </a:lnTo>
                        <a:lnTo>
                          <a:pt x="5304" y="4670"/>
                        </a:lnTo>
                        <a:lnTo>
                          <a:pt x="5295" y="4604"/>
                        </a:lnTo>
                        <a:lnTo>
                          <a:pt x="5277" y="4447"/>
                        </a:lnTo>
                        <a:lnTo>
                          <a:pt x="5277" y="1446"/>
                        </a:lnTo>
                        <a:lnTo>
                          <a:pt x="5099" y="1446"/>
                        </a:lnTo>
                        <a:lnTo>
                          <a:pt x="5099" y="749"/>
                        </a:lnTo>
                        <a:lnTo>
                          <a:pt x="4913" y="749"/>
                        </a:lnTo>
                        <a:lnTo>
                          <a:pt x="4913" y="3792"/>
                        </a:lnTo>
                        <a:lnTo>
                          <a:pt x="4911" y="3882"/>
                        </a:lnTo>
                        <a:lnTo>
                          <a:pt x="4911" y="3912"/>
                        </a:lnTo>
                        <a:lnTo>
                          <a:pt x="4889" y="3980"/>
                        </a:lnTo>
                        <a:lnTo>
                          <a:pt x="4854" y="4045"/>
                        </a:lnTo>
                        <a:lnTo>
                          <a:pt x="4796" y="4109"/>
                        </a:lnTo>
                        <a:lnTo>
                          <a:pt x="4719" y="4172"/>
                        </a:lnTo>
                        <a:lnTo>
                          <a:pt x="4612" y="4221"/>
                        </a:lnTo>
                        <a:lnTo>
                          <a:pt x="4505" y="4268"/>
                        </a:lnTo>
                        <a:lnTo>
                          <a:pt x="4371" y="4309"/>
                        </a:lnTo>
                        <a:lnTo>
                          <a:pt x="4236" y="4332"/>
                        </a:lnTo>
                        <a:lnTo>
                          <a:pt x="4083" y="4359"/>
                        </a:lnTo>
                        <a:lnTo>
                          <a:pt x="3925" y="4370"/>
                        </a:lnTo>
                        <a:lnTo>
                          <a:pt x="3780" y="4370"/>
                        </a:lnTo>
                        <a:lnTo>
                          <a:pt x="3621" y="4367"/>
                        </a:lnTo>
                        <a:lnTo>
                          <a:pt x="3471" y="4352"/>
                        </a:lnTo>
                        <a:lnTo>
                          <a:pt x="3333" y="4318"/>
                        </a:lnTo>
                        <a:lnTo>
                          <a:pt x="3190" y="4291"/>
                        </a:lnTo>
                        <a:lnTo>
                          <a:pt x="3065" y="4252"/>
                        </a:lnTo>
                        <a:lnTo>
                          <a:pt x="2965" y="4195"/>
                        </a:lnTo>
                        <a:lnTo>
                          <a:pt x="2880" y="4142"/>
                        </a:lnTo>
                        <a:lnTo>
                          <a:pt x="2803" y="4082"/>
                        </a:lnTo>
                        <a:lnTo>
                          <a:pt x="2750" y="4018"/>
                        </a:lnTo>
                        <a:lnTo>
                          <a:pt x="2722" y="3946"/>
                        </a:lnTo>
                        <a:lnTo>
                          <a:pt x="2715" y="3882"/>
                        </a:lnTo>
                        <a:lnTo>
                          <a:pt x="2732" y="3792"/>
                        </a:lnTo>
                        <a:lnTo>
                          <a:pt x="2732" y="749"/>
                        </a:lnTo>
                        <a:lnTo>
                          <a:pt x="2553" y="749"/>
                        </a:lnTo>
                        <a:lnTo>
                          <a:pt x="2553" y="0"/>
                        </a:lnTo>
                        <a:lnTo>
                          <a:pt x="2363" y="0"/>
                        </a:lnTo>
                        <a:lnTo>
                          <a:pt x="2363" y="3043"/>
                        </a:lnTo>
                        <a:lnTo>
                          <a:pt x="2367" y="3161"/>
                        </a:lnTo>
                        <a:lnTo>
                          <a:pt x="2363" y="3192"/>
                        </a:lnTo>
                        <a:lnTo>
                          <a:pt x="2344" y="3265"/>
                        </a:lnTo>
                        <a:lnTo>
                          <a:pt x="2310" y="3330"/>
                        </a:lnTo>
                        <a:lnTo>
                          <a:pt x="2251" y="3392"/>
                        </a:lnTo>
                        <a:lnTo>
                          <a:pt x="2169" y="3453"/>
                        </a:lnTo>
                        <a:lnTo>
                          <a:pt x="2067" y="3506"/>
                        </a:lnTo>
                        <a:lnTo>
                          <a:pt x="1956" y="3544"/>
                        </a:lnTo>
                        <a:lnTo>
                          <a:pt x="1825" y="3591"/>
                        </a:lnTo>
                        <a:lnTo>
                          <a:pt x="1690" y="3621"/>
                        </a:lnTo>
                        <a:lnTo>
                          <a:pt x="1537" y="3639"/>
                        </a:lnTo>
                        <a:lnTo>
                          <a:pt x="1390" y="3651"/>
                        </a:lnTo>
                        <a:lnTo>
                          <a:pt x="1230" y="3655"/>
                        </a:lnTo>
                        <a:lnTo>
                          <a:pt x="1076" y="3651"/>
                        </a:lnTo>
                        <a:lnTo>
                          <a:pt x="927" y="3635"/>
                        </a:lnTo>
                        <a:lnTo>
                          <a:pt x="784" y="3612"/>
                        </a:lnTo>
                        <a:lnTo>
                          <a:pt x="650" y="3571"/>
                        </a:lnTo>
                        <a:lnTo>
                          <a:pt x="526" y="3530"/>
                        </a:lnTo>
                        <a:lnTo>
                          <a:pt x="415" y="3483"/>
                        </a:lnTo>
                        <a:lnTo>
                          <a:pt x="328" y="3429"/>
                        </a:lnTo>
                        <a:lnTo>
                          <a:pt x="251" y="3353"/>
                        </a:lnTo>
                        <a:lnTo>
                          <a:pt x="205" y="3299"/>
                        </a:lnTo>
                        <a:lnTo>
                          <a:pt x="174" y="3233"/>
                        </a:lnTo>
                        <a:lnTo>
                          <a:pt x="173" y="3161"/>
                        </a:lnTo>
                        <a:lnTo>
                          <a:pt x="173" y="27"/>
                        </a:lnTo>
                        <a:lnTo>
                          <a:pt x="0" y="27"/>
                        </a:lnTo>
                        <a:lnTo>
                          <a:pt x="0" y="11053"/>
                        </a:lnTo>
                        <a:lnTo>
                          <a:pt x="0" y="11125"/>
                        </a:lnTo>
                        <a:lnTo>
                          <a:pt x="35" y="11199"/>
                        </a:lnTo>
                        <a:lnTo>
                          <a:pt x="81" y="11271"/>
                        </a:lnTo>
                        <a:lnTo>
                          <a:pt x="151" y="11341"/>
                        </a:lnTo>
                        <a:lnTo>
                          <a:pt x="243" y="11402"/>
                        </a:lnTo>
                        <a:lnTo>
                          <a:pt x="354" y="11459"/>
                        </a:lnTo>
                        <a:lnTo>
                          <a:pt x="480" y="11513"/>
                        </a:lnTo>
                        <a:lnTo>
                          <a:pt x="614" y="11559"/>
                        </a:lnTo>
                        <a:lnTo>
                          <a:pt x="766" y="11585"/>
                        </a:lnTo>
                        <a:lnTo>
                          <a:pt x="923" y="11612"/>
                        </a:lnTo>
                        <a:lnTo>
                          <a:pt x="1086" y="11632"/>
                        </a:lnTo>
                        <a:lnTo>
                          <a:pt x="1258" y="11636"/>
                        </a:lnTo>
                        <a:lnTo>
                          <a:pt x="1421" y="11632"/>
                        </a:lnTo>
                        <a:lnTo>
                          <a:pt x="1582" y="11616"/>
                        </a:lnTo>
                        <a:lnTo>
                          <a:pt x="1748" y="11593"/>
                        </a:lnTo>
                        <a:lnTo>
                          <a:pt x="1893" y="11562"/>
                        </a:lnTo>
                        <a:lnTo>
                          <a:pt x="2036" y="11524"/>
                        </a:lnTo>
                        <a:lnTo>
                          <a:pt x="2162" y="11473"/>
                        </a:lnTo>
                        <a:lnTo>
                          <a:pt x="2277" y="11423"/>
                        </a:lnTo>
                        <a:lnTo>
                          <a:pt x="2367" y="11348"/>
                        </a:lnTo>
                        <a:lnTo>
                          <a:pt x="2442" y="11283"/>
                        </a:lnTo>
                        <a:lnTo>
                          <a:pt x="2492" y="11210"/>
                        </a:lnTo>
                        <a:lnTo>
                          <a:pt x="2577" y="11199"/>
                        </a:lnTo>
                        <a:lnTo>
                          <a:pt x="2630" y="11271"/>
                        </a:lnTo>
                        <a:lnTo>
                          <a:pt x="2700" y="11341"/>
                        </a:lnTo>
                        <a:lnTo>
                          <a:pt x="2793" y="11402"/>
                        </a:lnTo>
                        <a:lnTo>
                          <a:pt x="2900" y="11459"/>
                        </a:lnTo>
                        <a:lnTo>
                          <a:pt x="3026" y="11513"/>
                        </a:lnTo>
                        <a:lnTo>
                          <a:pt x="3167" y="11559"/>
                        </a:lnTo>
                        <a:lnTo>
                          <a:pt x="3311" y="11585"/>
                        </a:lnTo>
                        <a:lnTo>
                          <a:pt x="3471" y="11612"/>
                        </a:lnTo>
                        <a:lnTo>
                          <a:pt x="3629" y="11632"/>
                        </a:lnTo>
                        <a:lnTo>
                          <a:pt x="3794" y="11636"/>
                        </a:lnTo>
                        <a:lnTo>
                          <a:pt x="3966" y="11632"/>
                        </a:lnTo>
                        <a:lnTo>
                          <a:pt x="4128" y="11616"/>
                        </a:lnTo>
                        <a:lnTo>
                          <a:pt x="4290" y="11593"/>
                        </a:lnTo>
                        <a:lnTo>
                          <a:pt x="4439" y="11562"/>
                        </a:lnTo>
                        <a:lnTo>
                          <a:pt x="4580" y="11524"/>
                        </a:lnTo>
                        <a:lnTo>
                          <a:pt x="4700" y="11473"/>
                        </a:lnTo>
                        <a:lnTo>
                          <a:pt x="4819" y="11423"/>
                        </a:lnTo>
                        <a:lnTo>
                          <a:pt x="4911" y="11348"/>
                        </a:lnTo>
                        <a:lnTo>
                          <a:pt x="4991" y="11283"/>
                        </a:lnTo>
                        <a:lnTo>
                          <a:pt x="5042" y="11210"/>
                        </a:lnTo>
                        <a:lnTo>
                          <a:pt x="5122" y="11199"/>
                        </a:lnTo>
                        <a:lnTo>
                          <a:pt x="5176" y="11271"/>
                        </a:lnTo>
                        <a:lnTo>
                          <a:pt x="5238" y="11341"/>
                        </a:lnTo>
                        <a:lnTo>
                          <a:pt x="5335" y="11402"/>
                        </a:lnTo>
                        <a:lnTo>
                          <a:pt x="5446" y="11459"/>
                        </a:lnTo>
                        <a:lnTo>
                          <a:pt x="5575" y="11513"/>
                        </a:lnTo>
                        <a:lnTo>
                          <a:pt x="5714" y="11559"/>
                        </a:lnTo>
                        <a:lnTo>
                          <a:pt x="5854" y="11585"/>
                        </a:lnTo>
                        <a:lnTo>
                          <a:pt x="6013" y="11612"/>
                        </a:lnTo>
                        <a:lnTo>
                          <a:pt x="6171" y="11632"/>
                        </a:lnTo>
                        <a:lnTo>
                          <a:pt x="6347" y="11636"/>
                        </a:lnTo>
                        <a:lnTo>
                          <a:pt x="6516" y="11632"/>
                        </a:lnTo>
                        <a:lnTo>
                          <a:pt x="6680" y="11616"/>
                        </a:lnTo>
                        <a:lnTo>
                          <a:pt x="6839" y="11593"/>
                        </a:lnTo>
                        <a:lnTo>
                          <a:pt x="6993" y="11562"/>
                        </a:lnTo>
                        <a:lnTo>
                          <a:pt x="7128" y="11524"/>
                        </a:lnTo>
                        <a:lnTo>
                          <a:pt x="7250" y="11473"/>
                        </a:lnTo>
                        <a:lnTo>
                          <a:pt x="7365" y="11423"/>
                        </a:lnTo>
                        <a:lnTo>
                          <a:pt x="7457" y="11348"/>
                        </a:lnTo>
                        <a:lnTo>
                          <a:pt x="7530" y="11283"/>
                        </a:lnTo>
                        <a:lnTo>
                          <a:pt x="7587" y="11210"/>
                        </a:lnTo>
                        <a:lnTo>
                          <a:pt x="7621" y="11138"/>
                        </a:lnTo>
                        <a:lnTo>
                          <a:pt x="7634" y="11067"/>
                        </a:lnTo>
                        <a:lnTo>
                          <a:pt x="7634" y="11053"/>
                        </a:lnTo>
                        <a:lnTo>
                          <a:pt x="7652" y="10915"/>
                        </a:lnTo>
                        <a:lnTo>
                          <a:pt x="7652" y="1446"/>
                        </a:lnTo>
                        <a:lnTo>
                          <a:pt x="7473" y="1446"/>
                        </a:lnTo>
                        <a:lnTo>
                          <a:pt x="7473" y="4447"/>
                        </a:lnTo>
                        <a:lnTo>
                          <a:pt x="7473" y="4604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" name=""/>
                <p:cNvSpPr/>
                <p:nvPr/>
              </p:nvSpPr>
              <p:spPr>
                <a:xfrm>
                  <a:off x="5028120" y="6067440"/>
                  <a:ext cx="1275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Perpustakaa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6" name=""/>
          <p:cNvGrpSpPr/>
          <p:nvPr/>
        </p:nvGrpSpPr>
        <p:grpSpPr>
          <a:xfrm>
            <a:off x="4855320" y="1066680"/>
            <a:ext cx="1850400" cy="1905120"/>
            <a:chOff x="4855320" y="1066680"/>
            <a:chExt cx="1850400" cy="1905120"/>
          </a:xfrm>
        </p:grpSpPr>
        <p:grpSp>
          <p:nvGrpSpPr>
            <p:cNvPr id="777" name=""/>
            <p:cNvGrpSpPr/>
            <p:nvPr/>
          </p:nvGrpSpPr>
          <p:grpSpPr>
            <a:xfrm>
              <a:off x="5029200" y="1066680"/>
              <a:ext cx="1676520" cy="1905120"/>
              <a:chOff x="5029200" y="1066680"/>
              <a:chExt cx="1676520" cy="190512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5486400" y="1066680"/>
                <a:ext cx="1219320" cy="1905120"/>
                <a:chOff x="5486400" y="1066680"/>
                <a:chExt cx="1219320" cy="1905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86400" y="1066680"/>
                  <a:ext cx="1219320" cy="1905120"/>
                </a:xfrm>
                <a:prstGeom prst="flowChartMultidocument">
                  <a:avLst/>
                </a:prstGeom>
                <a:solidFill>
                  <a:srgbClr val="00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562720" y="1143000"/>
                  <a:ext cx="1066680" cy="162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 Narrow"/>
                    </a:rPr>
                    <a:t>Patents, HAKI, TTG, Artikel, Publikasi/ IPTEKS bermut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8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29200" y="1143000"/>
                <a:ext cx="630360" cy="11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2" name=""/>
            <p:cNvSpPr/>
            <p:nvPr/>
          </p:nvSpPr>
          <p:spPr>
            <a:xfrm>
              <a:off x="4855320" y="22305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arj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1920" y="2348280"/>
            <a:ext cx="3124800" cy="3045240"/>
            <a:chOff x="241920" y="2348280"/>
            <a:chExt cx="3124800" cy="3045240"/>
          </a:xfrm>
        </p:grpSpPr>
        <p:sp>
          <p:nvSpPr>
            <p:cNvPr id="784" name=""/>
            <p:cNvSpPr/>
            <p:nvPr/>
          </p:nvSpPr>
          <p:spPr>
            <a:xfrm rot="19120800">
              <a:off x="492120" y="2997000"/>
              <a:ext cx="2624040" cy="1747800"/>
            </a:xfrm>
            <a:prstGeom prst="rightArrow">
              <a:avLst>
                <a:gd name="adj1" fmla="val 75343"/>
                <a:gd name="adj2" fmla="val 54799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30440" y="3097440"/>
              <a:ext cx="1938600" cy="2084760"/>
              <a:chOff x="730440" y="3097440"/>
              <a:chExt cx="1938600" cy="2084760"/>
            </a:xfrm>
          </p:grpSpPr>
          <p:pic>
            <p:nvPicPr>
              <p:cNvPr id="78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82360" y="3744720"/>
                <a:ext cx="1143720" cy="774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87" name=""/>
              <p:cNvGraphicFramePr/>
              <p:nvPr/>
            </p:nvGraphicFramePr>
            <p:xfrm>
              <a:off x="1480680" y="3097440"/>
              <a:ext cx="1188360" cy="7920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788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480680" y="3097440"/>
                        <a:ext cx="118836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9" name=""/>
              <p:cNvSpPr/>
              <p:nvPr/>
            </p:nvSpPr>
            <p:spPr>
              <a:xfrm>
                <a:off x="730440" y="4430520"/>
                <a:ext cx="119736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Masyarak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Akademik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&amp; Pegawa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0" name=""/>
          <p:cNvSpPr/>
          <p:nvPr/>
        </p:nvSpPr>
        <p:spPr>
          <a:xfrm>
            <a:off x="6550200" y="1422360"/>
            <a:ext cx="841320" cy="1092240"/>
          </a:xfrm>
          <a:custGeom>
            <a:avLst/>
            <a:gdLst>
              <a:gd name="textAreaLeft" fmla="*/ 131400 w 841320"/>
              <a:gd name="textAreaRight" fmla="*/ 629280 w 841320"/>
              <a:gd name="textAreaTop" fmla="*/ 274680 h 1092240"/>
              <a:gd name="textAreaBottom" fmla="*/ 817560 h 1092240"/>
            </a:gdLst>
            <a:ahLst/>
            <a:rect l="textAreaLeft" t="textAreaTop" r="textAreaRight" b="textAreaBottom"/>
            <a:pathLst>
              <a:path w="21600" h="21600">
                <a:moveTo>
                  <a:pt x="3375" y="5432"/>
                </a:moveTo>
                <a:lnTo>
                  <a:pt x="10640" y="5432"/>
                </a:lnTo>
                <a:lnTo>
                  <a:pt x="10640" y="0"/>
                </a:lnTo>
                <a:lnTo>
                  <a:pt x="21600" y="10800"/>
                </a:lnTo>
                <a:lnTo>
                  <a:pt x="10640" y="21600"/>
                </a:lnTo>
                <a:lnTo>
                  <a:pt x="10640" y="16168"/>
                </a:lnTo>
                <a:lnTo>
                  <a:pt x="3375" y="16168"/>
                </a:lnTo>
                <a:close/>
              </a:path>
              <a:path w="21600" h="21600">
                <a:moveTo>
                  <a:pt x="0" y="5432"/>
                </a:moveTo>
                <a:lnTo>
                  <a:pt x="675" y="5432"/>
                </a:lnTo>
                <a:lnTo>
                  <a:pt x="675" y="16168"/>
                </a:lnTo>
                <a:lnTo>
                  <a:pt x="0" y="16168"/>
                </a:lnTo>
                <a:close/>
              </a:path>
              <a:path w="21600" h="21600">
                <a:moveTo>
                  <a:pt x="1350" y="5432"/>
                </a:moveTo>
                <a:lnTo>
                  <a:pt x="2700" y="5432"/>
                </a:lnTo>
                <a:lnTo>
                  <a:pt x="2700" y="16168"/>
                </a:lnTo>
                <a:lnTo>
                  <a:pt x="1350" y="1616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04920" y="6553080"/>
            <a:ext cx="7629480" cy="152640"/>
            <a:chOff x="304920" y="6553080"/>
            <a:chExt cx="7629480" cy="152640"/>
          </a:xfrm>
        </p:grpSpPr>
        <p:sp>
          <p:nvSpPr>
            <p:cNvPr id="792" name=""/>
            <p:cNvSpPr/>
            <p:nvPr/>
          </p:nvSpPr>
          <p:spPr>
            <a:xfrm>
              <a:off x="304920" y="6705720"/>
              <a:ext cx="762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65530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600200" y="739800"/>
            <a:ext cx="4952520" cy="784080"/>
            <a:chOff x="1600200" y="739800"/>
            <a:chExt cx="4952520" cy="784080"/>
          </a:xfrm>
        </p:grpSpPr>
        <p:grpSp>
          <p:nvGrpSpPr>
            <p:cNvPr id="795" name=""/>
            <p:cNvGrpSpPr/>
            <p:nvPr/>
          </p:nvGrpSpPr>
          <p:grpSpPr>
            <a:xfrm>
              <a:off x="1600200" y="1295280"/>
              <a:ext cx="4952520" cy="228600"/>
              <a:chOff x="1600200" y="1295280"/>
              <a:chExt cx="4952520" cy="228600"/>
            </a:xfrm>
          </p:grpSpPr>
          <p:sp>
            <p:nvSpPr>
              <p:cNvPr id="796" name=""/>
              <p:cNvSpPr/>
              <p:nvPr/>
            </p:nvSpPr>
            <p:spPr>
              <a:xfrm>
                <a:off x="1600200" y="1295280"/>
                <a:ext cx="495252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00200" y="1295280"/>
                <a:ext cx="0" cy="2286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552720" y="1295280"/>
                <a:ext cx="0" cy="22860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2521080" y="739800"/>
              <a:ext cx="2957400" cy="52056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ficiency &amp; Produ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181480" y="3152880"/>
            <a:ext cx="1676520" cy="838080"/>
          </a:xfrm>
          <a:prstGeom prst="wedgeRectCallout">
            <a:avLst>
              <a:gd name="adj1" fmla="val -59185"/>
              <a:gd name="adj2" fmla="val 135606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162920" y="2743200"/>
            <a:ext cx="1676160" cy="990720"/>
          </a:xfrm>
          <a:prstGeom prst="wedgeRectCallout">
            <a:avLst>
              <a:gd name="adj1" fmla="val -57384"/>
              <a:gd name="adj2" fmla="val 96796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tain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1520" y="2044800"/>
            <a:ext cx="1523880" cy="990360"/>
          </a:xfrm>
          <a:prstGeom prst="wedgeRectCallout">
            <a:avLst>
              <a:gd name="adj1" fmla="val 44166"/>
              <a:gd name="adj2" fmla="val 69069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28800" y="3305160"/>
            <a:ext cx="1523880" cy="990720"/>
          </a:xfrm>
          <a:prstGeom prst="wedgeRectCallout">
            <a:avLst>
              <a:gd name="adj1" fmla="val 55208"/>
              <a:gd name="adj2" fmla="val 8862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dership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105520" y="685800"/>
            <a:ext cx="3657240" cy="631800"/>
            <a:chOff x="5105520" y="685800"/>
            <a:chExt cx="3657240" cy="631800"/>
          </a:xfrm>
        </p:grpSpPr>
        <p:sp>
          <p:nvSpPr>
            <p:cNvPr id="805" name=""/>
            <p:cNvSpPr/>
            <p:nvPr/>
          </p:nvSpPr>
          <p:spPr>
            <a:xfrm>
              <a:off x="6332760" y="685800"/>
              <a:ext cx="1399680" cy="52056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5105520" y="1165320"/>
              <a:ext cx="3657240" cy="152280"/>
              <a:chOff x="5105520" y="1165320"/>
              <a:chExt cx="3657240" cy="152280"/>
            </a:xfrm>
          </p:grpSpPr>
          <p:sp>
            <p:nvSpPr>
              <p:cNvPr id="807" name=""/>
              <p:cNvSpPr/>
              <p:nvPr/>
            </p:nvSpPr>
            <p:spPr>
              <a:xfrm>
                <a:off x="5105520" y="1165320"/>
                <a:ext cx="36572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05520" y="1165320"/>
                <a:ext cx="0" cy="152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762760" y="1165320"/>
                <a:ext cx="0" cy="152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2:45:26Z</dcterms:created>
  <dc:creator>Iik Wilarso</dc:creator>
  <dc:description/>
  <dc:language>en-US</dc:language>
  <cp:lastModifiedBy>User</cp:lastModifiedBy>
  <cp:lastPrinted>2002-09-30T03:18:26Z</cp:lastPrinted>
  <dcterms:modified xsi:type="dcterms:W3CDTF">2007-11-11T07:06:43Z</dcterms:modified>
  <cp:revision>181</cp:revision>
  <dc:subject/>
  <dc:title>Proses Pembelajaran yang Normatif</dc:title>
</cp:coreProperties>
</file>