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A295F8-2480-44F6-AD11-524E4EC18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2971800" y="518256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E75506-9C5A-4B0B-8281-54CED7F45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05664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5DFFA0-BADC-45CC-8645-75A727984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00724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704304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297180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500724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704304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CB4387-D5FD-43A1-997D-2C062349A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B745C-0CD7-4098-95D4-B0A54355B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2D08A-E776-412A-AE60-94E433689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0395F-33BE-43F6-BF61-28F6D4DD4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01F10-4A94-4518-A82D-F1648CC99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40C95-43D0-4B50-97CD-7A36E874D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2971800" y="1828800"/>
            <a:ext cx="6019920" cy="10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9D194-1FBB-4A0D-BDED-2A7BBA700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9C31A-577D-4C33-9D5F-B05881BEB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47DBFE-4071-417F-8D05-7C35BAF15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5664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4468B-E585-42FD-ACEB-83FC3E901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94816-B862-464F-953B-C476D40C3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971800" y="518256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9D371-F50A-463A-9E07-628D13C2D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605664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C9728-552A-455E-9390-151BBD47C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00724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704304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297180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500724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704304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99DEB-D2FA-4CA3-8C82-90A984C5B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074C82-80B7-4725-9EAC-4897E3B4F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86A9C4-CE81-45FC-B940-3E6E88CAE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10F130-B5B0-4BDA-A2F8-039FEBB43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2971800" y="1828800"/>
            <a:ext cx="6019920" cy="10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E04D63-0051-41C6-BACF-2E53964F5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8C95A5-F0A2-4FD0-B6E4-C0D6582F0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5664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F4CD59-455E-44EE-AE0E-68F2E275C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70FF7F-95A1-4266-B0E4-E11FCF0CB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8623E-9772-4B34-87D3-CDD44B59558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1828800" y="151920"/>
            <a:ext cx="6858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" name=""/>
          <p:cNvGraphicFramePr/>
          <p:nvPr/>
        </p:nvGraphicFramePr>
        <p:xfrm>
          <a:off x="76320" y="76320"/>
          <a:ext cx="1600200" cy="1579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320" y="76320"/>
                    <a:ext cx="1600200" cy="157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7271F-A0C9-4C22-9259-84B5549D012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228600" y="1981080"/>
          <a:ext cx="2133720" cy="2103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1981080"/>
                    <a:ext cx="2133720" cy="210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Comic Sans MS"/>
              </a:rPr>
              <a:t>PROGRAM HIBAH KOMPETISI</a:t>
            </a:r>
            <a:br>
              <a:rPr sz="3800"/>
            </a:br>
            <a:r>
              <a:rPr b="0" lang="en-US" sz="3800" spc="-1" strike="noStrike">
                <a:solidFill>
                  <a:srgbClr val="ffffff"/>
                </a:solidFill>
                <a:latin typeface="Comic Sans MS"/>
              </a:rPr>
              <a:t>BERBASIS INSTITUSI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37160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Penyusunan Laporan Evaluasi Diri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828800" y="151920"/>
            <a:ext cx="6858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elemahan LED-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kupan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aluasi kinerja dan manajemen program akademik tidak mencakup semua program yang diselenggarakan; manajemen program tidak dievalua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mber daya hanya dicakup ketersediaannya, manajemen tidak dibah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aluasi SDM: hanya mencakup Tenaga Akademi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828800" y="151920"/>
            <a:ext cx="6858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elemahan LED-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dalaman dan Ketajaman Anali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poran hanya berupa deskripsi, tanpa anali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ikasi masalah terkesan lompat ke kesimpu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urang menguasai konteks dalam manajemen perguruan tingg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Laporan Evaluasi Diri – Proposal Awal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828800" y="151920"/>
            <a:ext cx="6858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mat Lapora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ndahulu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Arial"/>
              </a:rPr>
              <a:t>Analisis lingkungan ekstern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Arial"/>
              </a:rPr>
              <a:t>Evaluasi pelaksanaan, hasil, dan dampak </a:t>
            </a:r>
            <a:r>
              <a:rPr b="0" lang="id-ID" sz="2000" spc="-1" strike="noStrike">
                <a:solidFill>
                  <a:srgbClr val="ff3300"/>
                </a:solidFill>
                <a:latin typeface="Arial"/>
              </a:rPr>
              <a:t>berbagai hibah</a:t>
            </a:r>
            <a:r>
              <a:rPr b="0" lang="id-ID" sz="2000" spc="-1" strike="noStrike">
                <a:solidFill>
                  <a:srgbClr val="000000"/>
                </a:solidFill>
                <a:latin typeface="Arial"/>
              </a:rPr>
              <a:t> pendanaan sebelumnya yang telah diperoleh oleh institus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ff3300"/>
                </a:solidFill>
                <a:latin typeface="Arial"/>
              </a:rPr>
              <a:t>Evaluasi sistem tatakelola dan organisasi perguruan tingg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Arial"/>
              </a:rPr>
              <a:t>Evaluasi kinerja dan manajemen program akademi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Arial"/>
              </a:rPr>
              <a:t>Evaluasi ketersediaan dan manajemen sumberday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Arial"/>
              </a:rPr>
              <a:t>Evaluasi sistem penjaminan mutu di tingkat institus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Arial"/>
              </a:rPr>
              <a:t>Ringkasan hasil analisis dengan menggunakan metode yang sesua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ff3300"/>
                </a:solidFill>
                <a:latin typeface="Arial"/>
              </a:rPr>
              <a:t>Ringkasan strategi/solusi alternatif untuk menyelesaikan persoalan yang teridentifikasi atau strategi untuk mengembangkan potensi yang 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Arial"/>
              </a:rPr>
              <a:t>Nilai </a:t>
            </a:r>
            <a:r>
              <a:rPr b="0" i="1" lang="id-ID" sz="2000" spc="-1" strike="noStrike">
                <a:solidFill>
                  <a:srgbClr val="000000"/>
                </a:solidFill>
                <a:latin typeface="Arial"/>
              </a:rPr>
              <a:t>baseline</a:t>
            </a:r>
            <a:r>
              <a:rPr b="0" lang="id-ID" sz="2000" spc="-1" strike="noStrike">
                <a:solidFill>
                  <a:srgbClr val="000000"/>
                </a:solidFill>
                <a:latin typeface="Arial"/>
              </a:rPr>
              <a:t> indikator kinerja utama dan indikator kinerja penunja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828800" y="151920"/>
            <a:ext cx="6858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. Pendahulu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ara ringkas (0.5 hlm) sampaikan proses ED yang dilakukan di perguruan tinggi, mencakup proses koordinasi dengan pimpinan dan civitas akademika, stakeholders lainnya, serta proses akuisisi data dan informasi relevan lainny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828800" y="151920"/>
            <a:ext cx="6858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. Analisis Lingkungan ekster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gian ini memuat evaluasi tentang peluang dan tantangan yang terkait dengan keberadaan PT. Khususnya dikaitkan dengan tema yang akan diusulkan dalam propos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upakan rasionalitas atas pilihan strategi dari sudut pandang faktor ekster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742720" y="6232680"/>
            <a:ext cx="325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ndasan utk seluruh te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828800" y="151920"/>
            <a:ext cx="6858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. Evaluasi Pelaksanaan, hasil dan dampak Hibah (bila ada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ormasi ringkas tentang hibah2 yang pernah diperole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sil/manfaat (tangible and non-tangible) yang telah dirasak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aluasi atas kendala pelaksanaan dan solusi yang diambil institus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828800" y="151920"/>
            <a:ext cx="6858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. Evaluasi sistem tatakelola dan organisasi P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aluasi atas struktur organisasi dan efektivitasnya untuk pengelolaan 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aluasi atas sistem governance, efektivitas fungsi dan sistem pengambilan keputusan dan kebijakan termasuk pengangkatan dan evaluasi kinerja pimpin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751000" y="6135840"/>
            <a:ext cx="316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ndasan utk Tema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828800" y="151920"/>
            <a:ext cx="6858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5. Kinerja dan Pengelolaan Program Akademi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Pendidik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file singkat program studi yang diselenggarakan (seluruh P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alisis kinerja PS (mutu input, mutu proses, mutu output). PS mana yang tergolong under-performed, mediocre, well-performed; analisis harus mencapai identifikasi atas key problems or key potentials; [akreditasi, IE, etc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jemen program: operasional, perencanaan, pengembangan, monitoring; sistem informa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Penelitian dan Layan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file kegiatan dan hasil (publikasi, revenue, patent, et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jemen program: operasional, perencanaan dan pengembangan, monitoring; sistem informa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675240" y="6248520"/>
            <a:ext cx="524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ndasan untuk pengajuan tema B atau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828800" y="151920"/>
            <a:ext cx="6858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6. Ketersediaan dan Pengelolaan Sumber Day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Staf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il staf akademik dan pendukung: sebaran mutu (kualifikasi dan kompetensi), worklo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aluasi atas kecukupan SDM yg ters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ajemen SDM: sistem recruitment, deployment, promosi, etc. (inc kelembagaa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stem informasi manajemen SD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827320" y="6135840"/>
            <a:ext cx="316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ndasan utk Tema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828800" y="151920"/>
            <a:ext cx="6858000" cy="11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teri Saji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95280" y="1219320"/>
            <a:ext cx="73915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eran ED dalam PHK-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elajaran dari Proposal Awal Batch 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aporan Evaluasi Diri Proposal Aw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aporan Evaluasi Diri Proposal Lengka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enutu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828800" y="151920"/>
            <a:ext cx="6858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6. Ketersediaan dan Pengelolaan Sumber Day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Keuang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alisis laporan keuangan institusi beberapa tahun terakh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aluasi atas Sistem dan prosedur keuangan internal (termasuk kelembagaa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aluasi atas Sistem akuntan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aluasi atas Sistem informasi keuang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751000" y="6135840"/>
            <a:ext cx="316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ndasan utk Tema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828800" y="151920"/>
            <a:ext cx="6858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6. Ketersediaan dan Pengelolaan Sumber Day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Sarana dan Prasara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ile ketersediaan sarana dan prasara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aluasi atas kecukupan/service level dan efisiensi pemanfaat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aluasi atas manajemen sarana dan prasarana (dari pengadaan hingga penghapusan); inc kelembaga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stem informasi: inventory dan pemanfaat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644280" y="6135840"/>
            <a:ext cx="316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ndasan utk Tema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828800" y="151920"/>
            <a:ext cx="6858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7. Penjaminan Mut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bijakan mutu inter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kripsi sistem penjaminan mutu inter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aluasi atas fungsionalitas sistem penjaminan mutu inter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644280" y="6135840"/>
            <a:ext cx="316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ndasan utk Tema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828800" y="151920"/>
            <a:ext cx="6858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8. Ringkasan hasil dan 9. Strategi Alternati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salah hasil evaluas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-sectional and aggregative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ikasi masalah pokok dan/atau potensi dan pelua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riks Strateg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ategi atau solusi alternatif yang dapat dipilih untuk mengatasi masalah atau mengkapitalisasi poten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828800" y="151920"/>
            <a:ext cx="6858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. Tabel Baseline Indica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ikator Manaje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ikator Penyelenggaraan Program Akademi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ikator Potensi Unggulan (bila ad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LED Proposal Lengkap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828800" y="151920"/>
            <a:ext cx="6858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ingkasan L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ngkasan atas hasil ED lebih mendalam untuk unit-unit yang terkait dengan program yang diusulk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k yang relevan dengan tema yang diajuk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nemukenali sintesa permasalahan pada unit atau program yang telah dipilih serta common issues dari unit-unit terseb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usun berdasarkan LED dari masing-ma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828800" y="151920"/>
            <a:ext cx="6858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D Detil masing-masing un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tuk melihat secara lebih mikro persoalan di masing-masing unit atau program yang dipili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pat disusun secara independent oleh masing-masing un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2286000" y="4267080"/>
            <a:ext cx="403848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Terima Kasih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Peran ED dalam PHK-I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828800" y="151920"/>
            <a:ext cx="6858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erangka Pik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aluasi Diri merupakan tahap penting dalam Perencanaan Program Pengembang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D merupakan pegangan inti reviewer dalam menilai “Perguruan Tinggi” secara keseluruh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ncerminkan kapasitas, kesungguhan, dan pemahaman atas skema hiba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828800" y="151920"/>
            <a:ext cx="6858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valuasi Diri dan Konte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aluasi dilakukan dalam konteks pengembangan institusi untuk mencapai tujuan, dengan dukungan hibah PHK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ncari titik temu antara directive dari DIKTI dan kebutuhan/strategi perguruan tingg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ahami signal yg diarahkan program dan mengenali posisi institu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828800" y="152280"/>
            <a:ext cx="6858000" cy="93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D dalam Proposal Aw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48320" y="1523520"/>
            <a:ext cx="4038480" cy="4876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575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ove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575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dentifikasi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575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engesaha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575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aftar Isi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575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Ringkasan eksekutif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575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Bab-1: Ringkasan renstr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575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Bab-2: LE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575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Bab-3: Rancangan Program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575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Lampira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182844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okuskan pada evaluasi diri di tingkat institu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landasi rasional untuk penetapan Tema dan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828800" y="152280"/>
            <a:ext cx="6858000" cy="93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D dalam Proposal Lengka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D lebih detil untuk setiap tema yg diajuk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landasi penyusunan aktivit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48320" y="1218960"/>
            <a:ext cx="4038480" cy="5181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ika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ngesah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ftar I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ngkas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b-1: rasional &amp; konte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b-2: mekanisme pelaksana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b-3: Ringkasan L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b-4: Rincian Pro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b-5: Indikator Kiner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b-6: Usulan Anggar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mpir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D lengkap (dijilid terpisa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Pelajaran dari Proposal Awal Batch I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828800" y="151920"/>
            <a:ext cx="6858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elemahan um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bagian besar gagal karena laporan ED yang sub-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D yang sumir menyebabkan penetapan Tema Usulan dipertanyak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gram dan Aktivitas tidak memiliki landasan yang memada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ancuan dalam memahami LED di tingkat perguruan tingg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rbiasa dengan evaluasi di tingkat jurusan (micro level issu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dak bisa membedakan LED di proposal awal dan LED di proposal lengk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6T09:16:08Z</dcterms:created>
  <dc:creator>Chan Basaruddin</dc:creator>
  <dc:description/>
  <dc:language>en-US</dc:language>
  <cp:lastModifiedBy>Chan Basaruddin</cp:lastModifiedBy>
  <dcterms:modified xsi:type="dcterms:W3CDTF">2007-11-12T02:42:25Z</dcterms:modified>
  <cp:revision>42</cp:revision>
  <dc:subject/>
  <dc:title>Pola dan Skema Pendanaan Pendidikan Tinggi</dc:title>
</cp:coreProperties>
</file>