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A16-BECD-4929-9C93-F146120F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383-ACA7-41DA-8D28-BA5E5945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8A5-766D-4584-A9F3-FF1E4495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9E3-2742-44D5-A85C-DB9514D8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9963-4837-48D2-9627-2A235C98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ACD1-927A-4FB6-ACDD-BD9D7B3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6FA-ADF2-465A-BFD7-DE9F4B2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557E-AD63-42C3-A6D8-3593DDE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691A-4372-4636-96D2-9A9536DB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6899-A12C-42A7-BE8B-3F17E704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70FA-9878-4FA3-A6B8-7964A5E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AF1-F71E-4F51-A3C1-6D5CBD3B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5C8-5F66-4F70-B4A9-CD45716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C5A-13E6-4C1C-B4B8-F0AA5E7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F1C-02F5-42E5-8DB7-6A2B709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1B22-6683-465C-91CC-66030D05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2B7A-0A1D-4678-94FF-EA74581C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1F4-63E1-4D98-AAF0-38697FB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07B-98CC-42B3-95C4-35D06C3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989-B609-46FC-A9D0-D66D31F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3FD-0D70-46DE-BFF2-15738A94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F13-9272-42DF-8DD3-879149C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9BA-F492-44EE-8636-3515DB0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4D5-57C9-4CA5-B3D2-2B6849A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69ED-851F-42C9-BFF8-6633F7042A9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9A7-3C28-4742-B119-C8C6F50962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FDF-1E1C-48AC-BFF1-43861FB5726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5C45-244B-4E4B-9CEA-FAA688855C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valuasi Diri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erguruan Tingg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tihan Penyusu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PHK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arta, 19 – 20 Nov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9B7-CA74-4381-A6A8-D30CA6BA798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2BA-4E28-46B8-8007-40EF10C833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mponen Sumberday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Oval 36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3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0"/>
          <p:cNvSpPr/>
          <p:nvPr/>
        </p:nvSpPr>
        <p:spPr>
          <a:xfrm rot="16200000">
            <a:off x="3169440" y="3077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1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2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3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4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6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7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8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9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0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1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2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53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5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9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0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1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2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3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4"/>
          <p:cNvSpPr/>
          <p:nvPr/>
        </p:nvSpPr>
        <p:spPr>
          <a:xfrm>
            <a:off x="460440" y="1981080"/>
            <a:ext cx="299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onen Manaje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demik &amp; Sumberday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pendaft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penyimpanan ni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B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 Man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 Sarana dan Prasa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uangan dan 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isiensi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5"/>
          <p:cNvSpPr/>
          <p:nvPr/>
        </p:nvSpPr>
        <p:spPr>
          <a:xfrm>
            <a:off x="525600" y="4660920"/>
            <a:ext cx="561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Evaluasi Manajemen Sumberday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Keadaan Manajemen Institusi pada saat 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valuasi kinerja dan pengelolaan program akad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Kekurangan sistem manajemen pada saat 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Rencana Pengembangan Sistem Manaj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6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7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ED5-CE4E-44E3-AD4A-AE6072CBA3F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D26C-DD4E-41A0-B8B2-1A9DD2DE4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Lingkungan Ekstern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Oval 36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0"/>
          <p:cNvSpPr/>
          <p:nvPr/>
        </p:nvSpPr>
        <p:spPr>
          <a:xfrm rot="16200000">
            <a:off x="3107880" y="310788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4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5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6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7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8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9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0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51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52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3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54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5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56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57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8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9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0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1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2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3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4"/>
          <p:cNvSpPr/>
          <p:nvPr/>
        </p:nvSpPr>
        <p:spPr>
          <a:xfrm>
            <a:off x="315360" y="4419720"/>
            <a:ext cx="8751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alisis ditekankan terutama tenta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Kontribusi perguruan tinggi dalam membangun daer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alisis dimulai dari lingkungan external terdekat, kemudian berkembang nas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alisis untuk bidang-bidang yang terkait dengan lapangan kerja, obyek kegia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penelitian dan pengabdian pada masyara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alisis juga dapat ditekankan pada opportunity untuk melakukan kerjas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5"/>
          <p:cNvSpPr/>
          <p:nvPr/>
        </p:nvSpPr>
        <p:spPr>
          <a:xfrm>
            <a:off x="307800" y="2017800"/>
            <a:ext cx="321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onen Lingku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ks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yarakat terdekat de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guruan Ting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erintah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baga Sos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6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7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037-AF3B-4300-A431-7CC017B248D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24F-960F-4FAA-A5AC-AAD4488B6C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Program Penjaminan Mu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7772400" y="3738600"/>
            <a:ext cx="787320" cy="681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0"/>
          <p:cNvSpPr/>
          <p:nvPr/>
        </p:nvSpPr>
        <p:spPr>
          <a:xfrm rot="16200000">
            <a:off x="3115440" y="319680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1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2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3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4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5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8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9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0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1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52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53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5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6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7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58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9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0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1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62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63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64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5"/>
          <p:cNvSpPr/>
          <p:nvPr/>
        </p:nvSpPr>
        <p:spPr>
          <a:xfrm>
            <a:off x="520920" y="2374920"/>
            <a:ext cx="288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onen SP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teria Penjaminan Mu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 pelaksanaan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ian setiap tahun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6"/>
          <p:cNvSpPr/>
          <p:nvPr/>
        </p:nvSpPr>
        <p:spPr>
          <a:xfrm>
            <a:off x="602280" y="4456080"/>
            <a:ext cx="823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alisis ditekankan terhad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hasil penerapan kriteria penjaminan mutu terhadap setiap program st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kebijakan operasional institusi dalam menerapkan kriteria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response dari staf akademik, mahasiswa, dan penunjang lainnya terhadap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formasi keseluruhan secara terp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alisis diharapkan dapat memberikan gambaran tentang seluruh evaluasi d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yang lain terutama di bidang akadem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7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774-BE48-457A-9624-C730AD4A200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CA23-D1BD-4D0C-83BD-A4890E4E08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ngkasan Evaluasi Dir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Oval 36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3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3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3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0"/>
          <p:cNvSpPr/>
          <p:nvPr/>
        </p:nvSpPr>
        <p:spPr>
          <a:xfrm rot="16200000">
            <a:off x="3107880" y="310788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1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3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4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5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6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7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8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9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0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51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2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3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4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5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6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7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8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59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60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61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62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3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64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5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6"/>
          <p:cNvSpPr/>
          <p:nvPr/>
        </p:nvSpPr>
        <p:spPr>
          <a:xfrm>
            <a:off x="233280" y="1865160"/>
            <a:ext cx="359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kasan Evaluasi Diri d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ik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ir-butir penting t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 komponen-komp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erpaduan dari butir-bu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ok tersebut sehingga kai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ar komponen evaluasi di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at j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mudahan untuk membandin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dengan Tujuan Peng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an I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371160" y="5370480"/>
            <a:ext cx="72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Antara Ringkasan Hasil Evaluasi Diri dengan Tujuan Pengemba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Institusi yang telah ditetapkan dapat ditentukan “GAP” antara sas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yang direncanakan dengan keadaan capaian saat i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549-DC03-4443-B61B-088B18EFE8C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EF6-A53D-44D9-B33A-605E09253F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entuan Tema yang Diusulk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Oval 36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3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3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0"/>
          <p:cNvSpPr/>
          <p:nvPr/>
        </p:nvSpPr>
        <p:spPr>
          <a:xfrm rot="16200000">
            <a:off x="3169440" y="312192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1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2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3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4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5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6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7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8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49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0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51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66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2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53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54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5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56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7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58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9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0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1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2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3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64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5"/>
          <p:cNvSpPr/>
          <p:nvPr/>
        </p:nvSpPr>
        <p:spPr>
          <a:xfrm>
            <a:off x="445680" y="1789200"/>
            <a:ext cx="2702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a terhadap “GA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ara lain dapat disel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kan dengan mengg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an Analisa 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u GAP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il analisa terse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bandingkan Tu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gembangan Instu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a dapat dipilih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diusulk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6"/>
          <p:cNvSpPr/>
          <p:nvPr/>
        </p:nvSpPr>
        <p:spPr>
          <a:xfrm>
            <a:off x="527040" y="4989600"/>
            <a:ext cx="73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Berlandaskan pada alur penyusunan evaluasi diri tersebut maka d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ijamin konsistensi dari hasil evaluasi diri dengan Visi, Misi,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Tujuan Pengembangan Institusi yang telah ditetapk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7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DA3-8024-4AC7-9E7B-2A71801E8E1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A83-3887-41A5-9AAF-2EE7EDA109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valuasi yang Komprehensif untuk Input-Process-Outpu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68520" y="1789200"/>
            <a:ext cx="2239560" cy="143388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M Mahasiswa Ba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king Ujian Mas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guasaan Bhs.Ingg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al 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adaan Ekono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vasi Mahasis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341360" y="1332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93360" y="3413160"/>
            <a:ext cx="2355480" cy="7635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mlah D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a Pendidikan D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vasi Dosen 3-Dha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669960" y="4321080"/>
            <a:ext cx="1968120" cy="946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ana Laborato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pustak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ang K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alatan Kuli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27672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3963960" y="1371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3429360" y="2813040"/>
            <a:ext cx="2167920" cy="15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hadiran 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e Pembelaja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mampuan D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usiasme Mahasis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asana K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jemen Akadem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jemen Sar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57150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6249960" y="1371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848920" y="2762280"/>
            <a:ext cx="2478960" cy="158580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K rend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ktu Studi Panj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ktu tunggu panj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ji rend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kerja tidak sesuai bid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rang kompeti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EB71-8022-4B4C-B9AC-AB952A18F41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EDFF-5FC5-4AC3-83F8-D9B7511DCA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valuasi yang Komprehensif (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304560" y="1789200"/>
            <a:ext cx="1945440" cy="146340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 Mahasiswa Ba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Ujian Mas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guasaan Bhs.Ingg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al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adaan Ekono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ik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839880" y="1332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07440" y="3403440"/>
            <a:ext cx="2041200" cy="7023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mlah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a Pendidik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Dosen 3-Dh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304920" y="4321080"/>
            <a:ext cx="1730520" cy="854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na Laborato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ustak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ang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alatan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2514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3201840" y="1371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2745360" y="2813040"/>
            <a:ext cx="1881360" cy="176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hadiran 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ode Pembela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mampu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siasme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asana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gulang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 Akadem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 Sa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0"/>
          <p:cNvSpPr/>
          <p:nvPr/>
        </p:nvSpPr>
        <p:spPr>
          <a:xfrm>
            <a:off x="4800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5506920" y="1371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5028480" y="2762280"/>
            <a:ext cx="2148120" cy="140220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K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Studi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tunggu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ji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kerja tidak sesuai bid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73152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7335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5"/>
          <p:cNvSpPr/>
          <p:nvPr/>
        </p:nvSpPr>
        <p:spPr>
          <a:xfrm>
            <a:off x="5105520" y="2971800"/>
            <a:ext cx="1676160" cy="304920"/>
          </a:xfrm>
          <a:prstGeom prst="ellipse">
            <a:avLst/>
          </a:prstGeom>
          <a:solidFill>
            <a:srgbClr val="cc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6"/>
          <p:cNvSpPr/>
          <p:nvPr/>
        </p:nvSpPr>
        <p:spPr>
          <a:xfrm>
            <a:off x="2743200" y="3733920"/>
            <a:ext cx="1676520" cy="30456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7"/>
          <p:cNvSpPr/>
          <p:nvPr/>
        </p:nvSpPr>
        <p:spPr>
          <a:xfrm flipV="1">
            <a:off x="4267080" y="3200040"/>
            <a:ext cx="1371600" cy="685800"/>
          </a:xfrm>
          <a:prstGeom prst="line">
            <a:avLst/>
          </a:prstGeom>
          <a:ln w="3816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7492320" y="3139920"/>
            <a:ext cx="1052280" cy="520200"/>
          </a:xfrm>
          <a:prstGeom prst="rect">
            <a:avLst/>
          </a:prstGeom>
          <a:noFill/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der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1841-03D5-40F5-B905-BA7715927BC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3F96-D75C-42AC-A66A-424B4269A8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valuasi yang Komprehensif (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304560" y="1789200"/>
            <a:ext cx="1945440" cy="146340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 Mahasiswa Ba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Ujian Mas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guasaan Bhs.Ingg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al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adaan Ekono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ik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839880" y="1332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307440" y="3403440"/>
            <a:ext cx="2041200" cy="7023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mlah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a Pendidik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Dosen 3-Dh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304920" y="4321080"/>
            <a:ext cx="1730520" cy="854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na Laborato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ustak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ang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alatan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7"/>
          <p:cNvSpPr/>
          <p:nvPr/>
        </p:nvSpPr>
        <p:spPr>
          <a:xfrm>
            <a:off x="2514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201840" y="1371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2745360" y="2813040"/>
            <a:ext cx="1881360" cy="121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hadiran 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ode Pembela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mampu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siasme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asana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gulang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4800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506920" y="1371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5028480" y="2762280"/>
            <a:ext cx="2148120" cy="140220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K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Studi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tunggu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ji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kerja tidak sesuai bid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73152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762768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5105520" y="2971800"/>
            <a:ext cx="1676160" cy="304920"/>
          </a:xfrm>
          <a:prstGeom prst="ellipse">
            <a:avLst/>
          </a:prstGeom>
          <a:solidFill>
            <a:srgbClr val="cc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6"/>
          <p:cNvSpPr/>
          <p:nvPr/>
        </p:nvSpPr>
        <p:spPr>
          <a:xfrm>
            <a:off x="2743200" y="3733920"/>
            <a:ext cx="1676520" cy="30456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V="1">
            <a:off x="4267080" y="3200040"/>
            <a:ext cx="1371600" cy="685800"/>
          </a:xfrm>
          <a:prstGeom prst="line">
            <a:avLst/>
          </a:prstGeom>
          <a:ln w="3816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8"/>
          <p:cNvSpPr/>
          <p:nvPr/>
        </p:nvSpPr>
        <p:spPr>
          <a:xfrm>
            <a:off x="304920" y="2819520"/>
            <a:ext cx="1676160" cy="304560"/>
          </a:xfrm>
          <a:prstGeom prst="ellipse">
            <a:avLst/>
          </a:prstGeom>
          <a:solidFill>
            <a:srgbClr val="80808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9"/>
          <p:cNvSpPr/>
          <p:nvPr/>
        </p:nvSpPr>
        <p:spPr>
          <a:xfrm>
            <a:off x="380880" y="2209680"/>
            <a:ext cx="1828800" cy="304920"/>
          </a:xfrm>
          <a:prstGeom prst="ellips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0"/>
          <p:cNvSpPr/>
          <p:nvPr/>
        </p:nvSpPr>
        <p:spPr>
          <a:xfrm>
            <a:off x="228600" y="4495680"/>
            <a:ext cx="1676520" cy="304920"/>
          </a:xfrm>
          <a:prstGeom prst="ellipse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 flipV="1">
            <a:off x="1676520" y="3885840"/>
            <a:ext cx="137160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>
            <a:off x="1752480" y="29718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3"/>
          <p:cNvSpPr/>
          <p:nvPr/>
        </p:nvSpPr>
        <p:spPr>
          <a:xfrm>
            <a:off x="1600200" y="2438280"/>
            <a:ext cx="1600200" cy="1447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7"/>
          <p:cNvSpPr/>
          <p:nvPr/>
        </p:nvSpPr>
        <p:spPr>
          <a:xfrm>
            <a:off x="213372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8"/>
          <p:cNvSpPr/>
          <p:nvPr/>
        </p:nvSpPr>
        <p:spPr>
          <a:xfrm>
            <a:off x="441972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9"/>
          <p:cNvSpPr/>
          <p:nvPr/>
        </p:nvSpPr>
        <p:spPr>
          <a:xfrm>
            <a:off x="670572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0"/>
          <p:cNvSpPr/>
          <p:nvPr/>
        </p:nvSpPr>
        <p:spPr>
          <a:xfrm>
            <a:off x="7491240" y="3139920"/>
            <a:ext cx="1280880" cy="520200"/>
          </a:xfrm>
          <a:prstGeom prst="rect">
            <a:avLst/>
          </a:prstGeom>
          <a:noFill/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rehens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D17C-CB43-4D33-90E2-5BCE58EB423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5D33-15F1-4274-958B-EB8C7C74AD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valuasi yang Komprehensif (3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304560" y="1789200"/>
            <a:ext cx="1945440" cy="146340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 Mahasiswa Ba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Ujian Mas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guasaan Bhs.Ingg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al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adaan Ekono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ik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839880" y="1332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307440" y="3403440"/>
            <a:ext cx="2041200" cy="7023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mlah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a Pendidik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Dosen 3-Dh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304920" y="4321080"/>
            <a:ext cx="1730520" cy="854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na Laborato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ustak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ang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alatan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2514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3201840" y="1371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2745360" y="2813040"/>
            <a:ext cx="1881360" cy="158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hadiran 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ode Pembela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mampu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siasme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asana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gulang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 Akadem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 Sa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0"/>
          <p:cNvSpPr/>
          <p:nvPr/>
        </p:nvSpPr>
        <p:spPr>
          <a:xfrm>
            <a:off x="4800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5506920" y="1371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5028480" y="2762280"/>
            <a:ext cx="2148120" cy="140220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K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Studi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tunggu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ji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kerja tidak sesuai bid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3"/>
          <p:cNvSpPr/>
          <p:nvPr/>
        </p:nvSpPr>
        <p:spPr>
          <a:xfrm>
            <a:off x="73152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7335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5029200" y="3733920"/>
            <a:ext cx="1676520" cy="304560"/>
          </a:xfrm>
          <a:prstGeom prst="ellipse">
            <a:avLst/>
          </a:prstGeom>
          <a:solidFill>
            <a:srgbClr val="cc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2895480" y="3352680"/>
            <a:ext cx="16765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7490520" y="3139920"/>
            <a:ext cx="1252080" cy="520200"/>
          </a:xfrm>
          <a:prstGeom prst="rect">
            <a:avLst/>
          </a:prstGeom>
          <a:noFill/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rehens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304920" y="2743200"/>
            <a:ext cx="1676160" cy="304920"/>
          </a:xfrm>
          <a:prstGeom prst="ellipse">
            <a:avLst/>
          </a:prstGeom>
          <a:solidFill>
            <a:srgbClr val="d8d8ec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80880" y="3809880"/>
            <a:ext cx="1981440" cy="304920"/>
          </a:xfrm>
          <a:prstGeom prst="ellipse">
            <a:avLst/>
          </a:prstGeom>
          <a:solidFill>
            <a:srgbClr val="00008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228600" y="4267080"/>
            <a:ext cx="1752480" cy="533520"/>
          </a:xfrm>
          <a:prstGeom prst="ellipse">
            <a:avLst/>
          </a:prstGeom>
          <a:solidFill>
            <a:srgbClr val="cc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1905120" y="2895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2"/>
          <p:cNvSpPr/>
          <p:nvPr/>
        </p:nvSpPr>
        <p:spPr>
          <a:xfrm flipV="1">
            <a:off x="2209680" y="35809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3"/>
          <p:cNvSpPr/>
          <p:nvPr/>
        </p:nvSpPr>
        <p:spPr>
          <a:xfrm flipV="1">
            <a:off x="1828800" y="3581280"/>
            <a:ext cx="1676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4"/>
          <p:cNvSpPr/>
          <p:nvPr/>
        </p:nvSpPr>
        <p:spPr>
          <a:xfrm>
            <a:off x="4343400" y="35053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2819520" y="4114800"/>
            <a:ext cx="167616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6"/>
          <p:cNvSpPr/>
          <p:nvPr/>
        </p:nvSpPr>
        <p:spPr>
          <a:xfrm flipV="1">
            <a:off x="1828800" y="42667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7"/>
          <p:cNvSpPr/>
          <p:nvPr/>
        </p:nvSpPr>
        <p:spPr>
          <a:xfrm>
            <a:off x="41148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F74-8443-40D8-8784-BEDEF994624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8624-99A6-476B-9B37-516FADC73D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valuasi yang Komprehensif (4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304560" y="1789200"/>
            <a:ext cx="1945440" cy="146340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 Mahasiswa Ba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Ujian Mas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guasaan Bhs.Ingg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al 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adaan Ekono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ik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839880" y="1332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07440" y="3403440"/>
            <a:ext cx="2041200" cy="7023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mlah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a Pendidik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si Dosen 3-Dh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304920" y="4321080"/>
            <a:ext cx="1730520" cy="854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na Laborato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ustak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ang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alatan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2514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3201840" y="1371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45360" y="2813040"/>
            <a:ext cx="1881360" cy="1767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hadiran 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ode Pembelaja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mampuan D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siasme Mahasis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asana Ke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gulang kul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 Akadem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 Sa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0"/>
          <p:cNvSpPr/>
          <p:nvPr/>
        </p:nvSpPr>
        <p:spPr>
          <a:xfrm>
            <a:off x="48006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5506920" y="1371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5028480" y="2762280"/>
            <a:ext cx="2148120" cy="1402200"/>
          </a:xfrm>
          <a:prstGeom prst="rect">
            <a:avLst/>
          </a:pr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K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Studi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ktu tunggu panj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ji rend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kerja tidak sesuai bid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3"/>
          <p:cNvSpPr/>
          <p:nvPr/>
        </p:nvSpPr>
        <p:spPr>
          <a:xfrm>
            <a:off x="7315200" y="12952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7335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5105520" y="2971800"/>
            <a:ext cx="1676160" cy="304920"/>
          </a:xfrm>
          <a:prstGeom prst="ellipse">
            <a:avLst/>
          </a:prstGeom>
          <a:solidFill>
            <a:srgbClr val="7e9ce8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6"/>
          <p:cNvSpPr/>
          <p:nvPr/>
        </p:nvSpPr>
        <p:spPr>
          <a:xfrm>
            <a:off x="2743200" y="3733920"/>
            <a:ext cx="1676520" cy="304560"/>
          </a:xfrm>
          <a:prstGeom prst="ellipse">
            <a:avLst/>
          </a:prstGeom>
          <a:solidFill>
            <a:srgbClr val="cc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7"/>
          <p:cNvSpPr/>
          <p:nvPr/>
        </p:nvSpPr>
        <p:spPr>
          <a:xfrm flipV="1">
            <a:off x="4267080" y="3200040"/>
            <a:ext cx="1371600" cy="685800"/>
          </a:xfrm>
          <a:prstGeom prst="line">
            <a:avLst/>
          </a:prstGeom>
          <a:ln w="3816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7491240" y="3139920"/>
            <a:ext cx="1280880" cy="520200"/>
          </a:xfrm>
          <a:prstGeom prst="rect">
            <a:avLst/>
          </a:prstGeom>
          <a:noFill/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rehens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380880" y="3657600"/>
            <a:ext cx="19051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380880" y="1828800"/>
            <a:ext cx="16765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380880" y="2057400"/>
            <a:ext cx="16765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380880" y="2971800"/>
            <a:ext cx="16765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380880" y="4495680"/>
            <a:ext cx="16765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380880" y="4343400"/>
            <a:ext cx="1676520" cy="304920"/>
          </a:xfrm>
          <a:prstGeom prst="ellipse">
            <a:avLst/>
          </a:prstGeom>
          <a:solidFill>
            <a:srgbClr val="3300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2743200" y="4114800"/>
            <a:ext cx="1676520" cy="304920"/>
          </a:xfrm>
          <a:prstGeom prst="ellipse">
            <a:avLst/>
          </a:prstGeom>
          <a:solidFill>
            <a:srgbClr val="cc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2819520" y="3200400"/>
            <a:ext cx="1676160" cy="304920"/>
          </a:xfrm>
          <a:prstGeom prst="ellipse">
            <a:avLst/>
          </a:prstGeom>
          <a:solidFill>
            <a:srgbClr val="cc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2819520" y="2819520"/>
            <a:ext cx="1676160" cy="304560"/>
          </a:xfrm>
          <a:prstGeom prst="ellipse">
            <a:avLst/>
          </a:prstGeom>
          <a:solidFill>
            <a:srgbClr val="cc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5029200" y="2743200"/>
            <a:ext cx="1676520" cy="304920"/>
          </a:xfrm>
          <a:prstGeom prst="ellipse">
            <a:avLst/>
          </a:prstGeom>
          <a:solidFill>
            <a:srgbClr val="7e9ce8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29"/>
          <p:cNvSpPr/>
          <p:nvPr/>
        </p:nvSpPr>
        <p:spPr>
          <a:xfrm>
            <a:off x="5029200" y="3657600"/>
            <a:ext cx="1676520" cy="304920"/>
          </a:xfrm>
          <a:prstGeom prst="ellipse">
            <a:avLst/>
          </a:prstGeom>
          <a:solidFill>
            <a:srgbClr val="7e9ce8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30"/>
          <p:cNvSpPr/>
          <p:nvPr/>
        </p:nvSpPr>
        <p:spPr>
          <a:xfrm>
            <a:off x="5029200" y="3124080"/>
            <a:ext cx="1676520" cy="304920"/>
          </a:xfrm>
          <a:prstGeom prst="ellipse">
            <a:avLst/>
          </a:prstGeom>
          <a:solidFill>
            <a:srgbClr val="7e9ce8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D1BF-AC2E-4B2B-9751-D173DD41F3B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3FF-7D14-47EA-9AFA-6FA8CB1A82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dalam Program Pengembangan Institu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Diri mengacu pada Tujuan Tahapan Pengembangan Institusi, yang telah ditetapkan dalam Misi dan Visi Institu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dasan Evaluasi Diri, adalah evaluasi terhadap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ponen In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ponen Pro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ponen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diri dilakukan secara terpadu terhadap ke-tiga kompo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diri juga meliputi tatakelola sumberd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D713-F08C-452D-B971-5C8973FBE6E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7D62-0956-40DE-BBC4-8FFD982A52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2"/>
          <p:cNvSpPr txBox="1"/>
          <p:nvPr/>
        </p:nvSpPr>
        <p:spPr>
          <a:xfrm>
            <a:off x="838080" y="1728720"/>
            <a:ext cx="39718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erima Kasih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7" name="WordArt 3"/>
          <p:cNvSpPr txBox="1"/>
          <p:nvPr/>
        </p:nvSpPr>
        <p:spPr>
          <a:xfrm>
            <a:off x="3733920" y="4191120"/>
            <a:ext cx="362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003b3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amat Bekerj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8" name="Picture 4" descr="750px-Rondane-peakpanorama"/>
          <p:cNvPicPr/>
          <p:nvPr/>
        </p:nvPicPr>
        <p:blipFill>
          <a:blip r:embed="rId3"/>
          <a:stretch/>
        </p:blipFill>
        <p:spPr>
          <a:xfrm>
            <a:off x="0" y="0"/>
            <a:ext cx="8001000" cy="990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800px-Brygge_Norway_2005-08-18"/>
          <p:cNvPicPr/>
          <p:nvPr/>
        </p:nvPicPr>
        <p:blipFill>
          <a:blip r:embed="rId4"/>
          <a:stretch/>
        </p:blipFill>
        <p:spPr>
          <a:xfrm>
            <a:off x="0" y="5705640"/>
            <a:ext cx="8077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734-A329-48C3-B6A6-122074EE7C6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9DCB-FECF-4A29-8C7C-03A6EE3717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604520" y="2362320"/>
            <a:ext cx="1293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 Eks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24760" y="4745160"/>
            <a:ext cx="1166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04920" y="3276720"/>
            <a:ext cx="914400" cy="838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8280" y="35193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1295280" y="3505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1828800" y="32767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3352680" y="32767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2819520" y="3505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937880" y="3505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339720" y="35053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2286000" y="26668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V="1">
            <a:off x="2286000" y="41144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2286000" y="2666880"/>
            <a:ext cx="14479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990720" y="2666880"/>
            <a:ext cx="12952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 flipH="1" flipV="1">
            <a:off x="914400" y="4114440"/>
            <a:ext cx="1371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 flipV="1">
            <a:off x="2286000" y="4114440"/>
            <a:ext cx="1371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9"/>
          <p:cNvSpPr/>
          <p:nvPr/>
        </p:nvSpPr>
        <p:spPr>
          <a:xfrm>
            <a:off x="5410080" y="160020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5410080" y="51055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7467480" y="342900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7497360" y="3597120"/>
            <a:ext cx="8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mam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470920" y="18399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5471640" y="52736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5"/>
          <p:cNvSpPr/>
          <p:nvPr/>
        </p:nvSpPr>
        <p:spPr>
          <a:xfrm flipV="1">
            <a:off x="4114800" y="2285640"/>
            <a:ext cx="1371600" cy="1066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6248520" y="4190760"/>
            <a:ext cx="1371600" cy="1066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4114800" y="4038480"/>
            <a:ext cx="13716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6248520" y="2286000"/>
            <a:ext cx="13716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5867280" y="2438280"/>
            <a:ext cx="0" cy="2667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 rot="2551200">
            <a:off x="4167720" y="45712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layak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 rot="19443000">
            <a:off x="4116240" y="251424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bolehja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 rot="16200000">
            <a:off x="5029920" y="3609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ungk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 rot="19276800">
            <a:off x="6707160" y="475416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bilisa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 rot="2488800">
            <a:off x="6428160" y="259056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mberday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5"/>
          <p:cNvSpPr/>
          <p:nvPr/>
        </p:nvSpPr>
        <p:spPr>
          <a:xfrm rot="16200000">
            <a:off x="4287600" y="3503520"/>
            <a:ext cx="17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GEMBA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6"/>
          <p:cNvSpPr/>
          <p:nvPr/>
        </p:nvSpPr>
        <p:spPr>
          <a:xfrm rot="5400000">
            <a:off x="5845680" y="352332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je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ber D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831240" y="380880"/>
            <a:ext cx="6470280" cy="10688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omponen</a:t>
            </a:r>
            <a:r>
              <a:rPr b="0" lang="en-US" sz="32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dalam Pengemba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stitu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591480" y="5900760"/>
            <a:ext cx="186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ber: Prof. Pramut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558F-FA3D-4BCE-BD7A-52582923E25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1E1E-7832-4872-AE87-1C8C793EEE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9ce8"/>
                </a:solidFill>
                <a:latin typeface="Arial"/>
              </a:rPr>
              <a:t>Lingkup Evaluasi dan Analisis</a:t>
            </a:r>
            <a:br>
              <a:rPr sz="3200"/>
            </a:br>
            <a:r>
              <a:rPr b="0" lang="en-US" sz="3200" spc="-1" strike="noStrike">
                <a:solidFill>
                  <a:srgbClr val="7e9ce8"/>
                </a:solidFill>
                <a:latin typeface="Arial"/>
              </a:rPr>
              <a:t>(tercantum dalam Panduan PHK-I 2008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isis lingkungan exter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pelaksanaan, hasil, dan dampak hibah sebelum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kinerja dan pengelolaan program akadem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ketersediaan dan manajemen sumberd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si sistem penjaminan mutu tingkat institu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ngkasan hasil anal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luruhnya berbasiskan institu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A27F-DD0E-4763-9246-5DDAEDA8BCA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290-B2ED-4A7B-961A-234E013817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604520" y="2362320"/>
            <a:ext cx="1293120" cy="276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 Eks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724760" y="4745160"/>
            <a:ext cx="1166760" cy="276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304920" y="3276720"/>
            <a:ext cx="91440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8280" y="35193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1295280" y="3505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828800" y="3276720"/>
            <a:ext cx="91440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352680" y="3276720"/>
            <a:ext cx="91440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819520" y="3505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937880" y="3505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339720" y="35053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2286000" y="26668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 flipV="1">
            <a:off x="2286000" y="41144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286000" y="2666880"/>
            <a:ext cx="14479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 flipH="1">
            <a:off x="990720" y="2666880"/>
            <a:ext cx="12952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 flipH="1" flipV="1">
            <a:off x="914400" y="4114440"/>
            <a:ext cx="1371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2286000" y="4114440"/>
            <a:ext cx="1371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5410080" y="1600200"/>
            <a:ext cx="914400" cy="8380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5410080" y="5105520"/>
            <a:ext cx="914400" cy="8380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7467480" y="3429000"/>
            <a:ext cx="914400" cy="8380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7497360" y="3597120"/>
            <a:ext cx="8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mam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5470920" y="18399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471640" y="52736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4114800" y="2285640"/>
            <a:ext cx="1371600" cy="1066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6248520" y="4190760"/>
            <a:ext cx="1371600" cy="1066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4114800" y="4038480"/>
            <a:ext cx="13716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248520" y="2286000"/>
            <a:ext cx="13716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5867280" y="2438280"/>
            <a:ext cx="0" cy="2667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 rot="2551200">
            <a:off x="4167720" y="45712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layak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 rot="19443000">
            <a:off x="4116240" y="251424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bolehja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 rot="16200000">
            <a:off x="5029920" y="3609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ungk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 rot="19276800">
            <a:off x="6707160" y="475416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bilisa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 rot="2488800">
            <a:off x="6428160" y="259056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mberday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5"/>
          <p:cNvSpPr/>
          <p:nvPr/>
        </p:nvSpPr>
        <p:spPr>
          <a:xfrm rot="16200000">
            <a:off x="4287600" y="3503520"/>
            <a:ext cx="17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EN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ENGEMBA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6"/>
          <p:cNvSpPr/>
          <p:nvPr/>
        </p:nvSpPr>
        <p:spPr>
          <a:xfrm rot="5400000">
            <a:off x="5845680" y="352332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je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ber D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821160" y="549360"/>
            <a:ext cx="643680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yek dalam Evaluasi Diri Institu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91480" y="5900760"/>
            <a:ext cx="186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ber: Prof. Pramut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3505320" y="4648320"/>
            <a:ext cx="914400" cy="380880"/>
          </a:xfrm>
          <a:prstGeom prst="wedgeEllipseCallout">
            <a:avLst>
              <a:gd name="adj1" fmla="val -15101"/>
              <a:gd name="adj2" fmla="val -21875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7543800" y="5029200"/>
            <a:ext cx="914400" cy="380880"/>
          </a:xfrm>
          <a:prstGeom prst="wedgeEllipseCallout">
            <a:avLst>
              <a:gd name="adj1" fmla="val -197050"/>
              <a:gd name="adj2" fmla="val 9791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6477120" y="1219320"/>
            <a:ext cx="914400" cy="380880"/>
          </a:xfrm>
          <a:prstGeom prst="wedgeEllipseCallout">
            <a:avLst>
              <a:gd name="adj1" fmla="val -94273"/>
              <a:gd name="adj2" fmla="val 11125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7543800" y="5029200"/>
            <a:ext cx="914400" cy="380880"/>
          </a:xfrm>
          <a:prstGeom prst="wedgeEllipseCallout">
            <a:avLst>
              <a:gd name="adj1" fmla="val -1212"/>
              <a:gd name="adj2" fmla="val -29208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0CEE-C7F9-4BAD-8133-47690820B42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91D-612E-4AA3-92AA-B8E48F208D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ses Evaluasi Diri di Tingkat Institu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7162920" y="4952880"/>
            <a:ext cx="1143000" cy="1067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Tema y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00"/>
                </a:solidFill>
                <a:latin typeface="Arial"/>
              </a:rPr>
              <a:t>diusul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9"/>
          <p:cNvSpPr/>
          <p:nvPr/>
        </p:nvSpPr>
        <p:spPr>
          <a:xfrm>
            <a:off x="1447920" y="2819520"/>
            <a:ext cx="83808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447920" y="3733920"/>
            <a:ext cx="83808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2"/>
          <p:cNvSpPr/>
          <p:nvPr/>
        </p:nvSpPr>
        <p:spPr>
          <a:xfrm>
            <a:off x="1447920" y="4724280"/>
            <a:ext cx="838080" cy="8384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990720" y="2666880"/>
            <a:ext cx="1752480" cy="3124440"/>
          </a:xfrm>
          <a:prstGeom prst="ellipse">
            <a:avLst/>
          </a:prstGeom>
          <a:solidFill>
            <a:srgbClr val="669999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 rot="16200000">
            <a:off x="668160" y="4008960"/>
            <a:ext cx="12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286000" y="327672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286000" y="4191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 flipV="1">
            <a:off x="2286000" y="41907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3048120" y="396252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409896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6"/>
          <p:cNvSpPr/>
          <p:nvPr/>
        </p:nvSpPr>
        <p:spPr>
          <a:xfrm>
            <a:off x="3505320" y="2666880"/>
            <a:ext cx="914400" cy="9144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8"/>
          <p:cNvSpPr/>
          <p:nvPr/>
        </p:nvSpPr>
        <p:spPr>
          <a:xfrm>
            <a:off x="3505320" y="4800600"/>
            <a:ext cx="914400" cy="9144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3733920" y="35812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 rot="10800000">
            <a:off x="3733920" y="419076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191120" y="396252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2"/>
          <p:cNvSpPr/>
          <p:nvPr/>
        </p:nvSpPr>
        <p:spPr>
          <a:xfrm>
            <a:off x="5029200" y="3657600"/>
            <a:ext cx="99072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Ringka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H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Evalua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5029200" y="2362320"/>
            <a:ext cx="990720" cy="99036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5"/>
          <p:cNvSpPr/>
          <p:nvPr/>
        </p:nvSpPr>
        <p:spPr>
          <a:xfrm>
            <a:off x="5334120" y="3352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6"/>
          <p:cNvSpPr/>
          <p:nvPr/>
        </p:nvSpPr>
        <p:spPr>
          <a:xfrm>
            <a:off x="5029200" y="4952880"/>
            <a:ext cx="990720" cy="99072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7"/>
          <p:cNvSpPr/>
          <p:nvPr/>
        </p:nvSpPr>
        <p:spPr>
          <a:xfrm rot="10800000">
            <a:off x="5334120" y="46483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8"/>
          <p:cNvSpPr/>
          <p:nvPr/>
        </p:nvSpPr>
        <p:spPr>
          <a:xfrm>
            <a:off x="7086600" y="3581280"/>
            <a:ext cx="1219320" cy="1143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1"/>
          <p:cNvSpPr/>
          <p:nvPr/>
        </p:nvSpPr>
        <p:spPr>
          <a:xfrm>
            <a:off x="7238880" y="1600200"/>
            <a:ext cx="91440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42"/>
          <p:cNvSpPr/>
          <p:nvPr/>
        </p:nvSpPr>
        <p:spPr>
          <a:xfrm>
            <a:off x="7238880" y="2590920"/>
            <a:ext cx="91440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5"/>
          <p:cNvSpPr/>
          <p:nvPr/>
        </p:nvSpPr>
        <p:spPr>
          <a:xfrm>
            <a:off x="7696080" y="2362320"/>
            <a:ext cx="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6"/>
          <p:cNvSpPr/>
          <p:nvPr/>
        </p:nvSpPr>
        <p:spPr>
          <a:xfrm>
            <a:off x="7696080" y="3352680"/>
            <a:ext cx="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7"/>
          <p:cNvSpPr/>
          <p:nvPr/>
        </p:nvSpPr>
        <p:spPr>
          <a:xfrm>
            <a:off x="6095880" y="3886200"/>
            <a:ext cx="914400" cy="533520"/>
          </a:xfrm>
          <a:prstGeom prst="leftRightArrow">
            <a:avLst>
              <a:gd name="adj1" fmla="val 50000"/>
              <a:gd name="adj2" fmla="val 34119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GA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9"/>
          <p:cNvSpPr/>
          <p:nvPr/>
        </p:nvSpPr>
        <p:spPr>
          <a:xfrm rot="20267400">
            <a:off x="6404040" y="4373280"/>
            <a:ext cx="523800" cy="1371600"/>
          </a:xfrm>
          <a:custGeom>
            <a:avLst/>
            <a:gdLst>
              <a:gd name="textAreaLeft" fmla="*/ 70200 w 523800"/>
              <a:gd name="textAreaRight" fmla="*/ 453600 w 52380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 flipV="1">
            <a:off x="457200" y="4114800"/>
            <a:ext cx="8305920" cy="76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2"/>
          <p:cNvSpPr/>
          <p:nvPr/>
        </p:nvSpPr>
        <p:spPr>
          <a:xfrm>
            <a:off x="1905120" y="2133720"/>
            <a:ext cx="0" cy="41907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7696080" y="1295280"/>
            <a:ext cx="0" cy="51818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1930-A821-4DC8-A02C-C8BF8126270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BF2-CF7E-440D-8F31-DED56AC30E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mponen Inp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 rot="16200000">
            <a:off x="3261960" y="3106440"/>
            <a:ext cx="86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7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9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2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3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4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5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6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7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8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9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0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1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2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3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4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7"/>
          <p:cNvSpPr/>
          <p:nvPr/>
        </p:nvSpPr>
        <p:spPr>
          <a:xfrm>
            <a:off x="260640" y="1932120"/>
            <a:ext cx="263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onen 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Akad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Administr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ilitas Pembelaj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ustak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g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3"/>
          <p:cNvSpPr/>
          <p:nvPr/>
        </p:nvSpPr>
        <p:spPr>
          <a:xfrm>
            <a:off x="238680" y="4724280"/>
            <a:ext cx="889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valuasi Diri tentang Komponen 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memerlukan data lengkap di tingkat institusi tentang komponen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ata yang disiapkan menunjukkan kaitan yang erat antara input – proses –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ata komponen input memberikan kaitan yang erat dengan pelaksanaan manaj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keterkaitan tersebut memungkinkan dilakukan analisis secara komprehens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4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5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3DC-9E6A-4A1C-864F-7F07815D8AD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3C3-32FA-451D-8FC5-D8708246F6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mponen Pro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Oval 66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67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8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9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0"/>
          <p:cNvSpPr/>
          <p:nvPr/>
        </p:nvSpPr>
        <p:spPr>
          <a:xfrm rot="16200000">
            <a:off x="3311640" y="31399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1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2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3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4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5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6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77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8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9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0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1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2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3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84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5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86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7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8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9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0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1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2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3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4"/>
          <p:cNvSpPr/>
          <p:nvPr/>
        </p:nvSpPr>
        <p:spPr>
          <a:xfrm>
            <a:off x="4191120" y="2133720"/>
            <a:ext cx="0" cy="22096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5"/>
          <p:cNvSpPr/>
          <p:nvPr/>
        </p:nvSpPr>
        <p:spPr>
          <a:xfrm>
            <a:off x="261000" y="1932120"/>
            <a:ext cx="304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onen Pro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Penjadwa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en Kehadiran Kul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ologi pembelaj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gukuran kompet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si dosen/mahasis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asana Akad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bijakan Akadem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isiensi kegiatan, 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7"/>
          <p:cNvSpPr/>
          <p:nvPr/>
        </p:nvSpPr>
        <p:spPr>
          <a:xfrm>
            <a:off x="28908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8"/>
          <p:cNvSpPr/>
          <p:nvPr/>
        </p:nvSpPr>
        <p:spPr>
          <a:xfrm>
            <a:off x="298080" y="4532400"/>
            <a:ext cx="726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Evaluasi Diri tentang Komponen Pro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Memerlukan data yang pada umumnya diperoleh melalui pendat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Menunjukkan benang merah yang nyata antara I-P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valuasi proses mempertimbangkan kaidah pembelajaran yang b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valuasi proses memperhatikan ketetapan penjaminan mu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valuasi dikaitkan dengan sistem manajemen sumberdaya sec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keseluru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9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151B-1C7B-4085-8E9F-52CAD6927E3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B77-DA9A-4229-A976-B43FD1539B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si Diri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mponen Outp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Oval 65"/>
          <p:cNvSpPr/>
          <p:nvPr/>
        </p:nvSpPr>
        <p:spPr>
          <a:xfrm>
            <a:off x="7813800" y="3738600"/>
            <a:ext cx="787320" cy="681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ma y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usulk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66"/>
          <p:cNvSpPr/>
          <p:nvPr/>
        </p:nvSpPr>
        <p:spPr>
          <a:xfrm>
            <a:off x="3881520" y="237816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7"/>
          <p:cNvSpPr/>
          <p:nvPr/>
        </p:nvSpPr>
        <p:spPr>
          <a:xfrm>
            <a:off x="3881520" y="2960640"/>
            <a:ext cx="57780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8"/>
          <p:cNvSpPr/>
          <p:nvPr/>
        </p:nvSpPr>
        <p:spPr>
          <a:xfrm>
            <a:off x="3881520" y="3592440"/>
            <a:ext cx="577800" cy="534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9"/>
          <p:cNvSpPr/>
          <p:nvPr/>
        </p:nvSpPr>
        <p:spPr>
          <a:xfrm rot="16200000">
            <a:off x="3235320" y="31399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asi Di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0"/>
          <p:cNvSpPr/>
          <p:nvPr/>
        </p:nvSpPr>
        <p:spPr>
          <a:xfrm>
            <a:off x="4459320" y="2670120"/>
            <a:ext cx="628560" cy="58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1"/>
          <p:cNvSpPr/>
          <p:nvPr/>
        </p:nvSpPr>
        <p:spPr>
          <a:xfrm>
            <a:off x="4459320" y="32529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2"/>
          <p:cNvSpPr/>
          <p:nvPr/>
        </p:nvSpPr>
        <p:spPr>
          <a:xfrm flipV="1">
            <a:off x="4459320" y="3252600"/>
            <a:ext cx="576360" cy="63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3"/>
          <p:cNvSpPr/>
          <p:nvPr/>
        </p:nvSpPr>
        <p:spPr>
          <a:xfrm>
            <a:off x="4983120" y="3106800"/>
            <a:ext cx="523800" cy="291960"/>
          </a:xfrm>
          <a:prstGeom prst="rightArrow">
            <a:avLst>
              <a:gd name="adj1" fmla="val 50000"/>
              <a:gd name="adj2" fmla="val 44852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4"/>
          <p:cNvSpPr/>
          <p:nvPr/>
        </p:nvSpPr>
        <p:spPr>
          <a:xfrm>
            <a:off x="5676840" y="249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5"/>
          <p:cNvSpPr/>
          <p:nvPr/>
        </p:nvSpPr>
        <p:spPr>
          <a:xfrm>
            <a:off x="5297400" y="2281320"/>
            <a:ext cx="628560" cy="5824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5297400" y="3641760"/>
            <a:ext cx="628560" cy="5842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7"/>
          <p:cNvSpPr/>
          <p:nvPr/>
        </p:nvSpPr>
        <p:spPr>
          <a:xfrm>
            <a:off x="5454720" y="2863800"/>
            <a:ext cx="314280" cy="389160"/>
          </a:xfrm>
          <a:prstGeom prst="downArrow">
            <a:avLst>
              <a:gd name="adj1" fmla="val 50000"/>
              <a:gd name="adj2" fmla="val 309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8"/>
          <p:cNvSpPr/>
          <p:nvPr/>
        </p:nvSpPr>
        <p:spPr>
          <a:xfrm rot="10800000">
            <a:off x="5454360" y="3252960"/>
            <a:ext cx="314280" cy="388800"/>
          </a:xfrm>
          <a:prstGeom prst="downArrow">
            <a:avLst>
              <a:gd name="adj1" fmla="val 50000"/>
              <a:gd name="adj2" fmla="val 309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79"/>
          <p:cNvSpPr/>
          <p:nvPr/>
        </p:nvSpPr>
        <p:spPr>
          <a:xfrm>
            <a:off x="5769000" y="3106800"/>
            <a:ext cx="577800" cy="291960"/>
          </a:xfrm>
          <a:prstGeom prst="rightArrow">
            <a:avLst>
              <a:gd name="adj1" fmla="val 50000"/>
              <a:gd name="adj2" fmla="val 4947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80"/>
          <p:cNvSpPr/>
          <p:nvPr/>
        </p:nvSpPr>
        <p:spPr>
          <a:xfrm>
            <a:off x="6346800" y="291312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81"/>
          <p:cNvSpPr/>
          <p:nvPr/>
        </p:nvSpPr>
        <p:spPr>
          <a:xfrm>
            <a:off x="6346800" y="208584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ngku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2"/>
          <p:cNvSpPr/>
          <p:nvPr/>
        </p:nvSpPr>
        <p:spPr>
          <a:xfrm>
            <a:off x="6556320" y="2717640"/>
            <a:ext cx="262080" cy="19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3"/>
          <p:cNvSpPr/>
          <p:nvPr/>
        </p:nvSpPr>
        <p:spPr>
          <a:xfrm>
            <a:off x="6346800" y="3738600"/>
            <a:ext cx="681120" cy="63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jamin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84"/>
          <p:cNvSpPr/>
          <p:nvPr/>
        </p:nvSpPr>
        <p:spPr>
          <a:xfrm rot="10800000">
            <a:off x="6556320" y="3544920"/>
            <a:ext cx="26208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85"/>
          <p:cNvSpPr/>
          <p:nvPr/>
        </p:nvSpPr>
        <p:spPr>
          <a:xfrm>
            <a:off x="7761240" y="2863800"/>
            <a:ext cx="839880" cy="728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Tu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Pengembang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00"/>
                </a:solidFill>
                <a:latin typeface="Arial"/>
              </a:rPr>
              <a:t>Institu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86"/>
          <p:cNvSpPr/>
          <p:nvPr/>
        </p:nvSpPr>
        <p:spPr>
          <a:xfrm>
            <a:off x="7866000" y="16002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7"/>
          <p:cNvSpPr/>
          <p:nvPr/>
        </p:nvSpPr>
        <p:spPr>
          <a:xfrm>
            <a:off x="7866000" y="2232000"/>
            <a:ext cx="630360" cy="5349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8"/>
          <p:cNvSpPr/>
          <p:nvPr/>
        </p:nvSpPr>
        <p:spPr>
          <a:xfrm>
            <a:off x="8182080" y="20858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89"/>
          <p:cNvSpPr/>
          <p:nvPr/>
        </p:nvSpPr>
        <p:spPr>
          <a:xfrm>
            <a:off x="8182080" y="2717640"/>
            <a:ext cx="0" cy="2923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0"/>
          <p:cNvSpPr/>
          <p:nvPr/>
        </p:nvSpPr>
        <p:spPr>
          <a:xfrm>
            <a:off x="7080120" y="3059280"/>
            <a:ext cx="628920" cy="339480"/>
          </a:xfrm>
          <a:prstGeom prst="leftRightArrow">
            <a:avLst>
              <a:gd name="adj1" fmla="val 50000"/>
              <a:gd name="adj2" fmla="val 36880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91"/>
          <p:cNvSpPr/>
          <p:nvPr/>
        </p:nvSpPr>
        <p:spPr>
          <a:xfrm rot="20267400">
            <a:off x="7292880" y="3368160"/>
            <a:ext cx="360360" cy="876600"/>
          </a:xfrm>
          <a:custGeom>
            <a:avLst/>
            <a:gdLst>
              <a:gd name="textAreaLeft" fmla="*/ 48240 w 360360"/>
              <a:gd name="textAreaRight" fmla="*/ 312120 w 360360"/>
              <a:gd name="textAreaTop" fmla="*/ 153360 h 876600"/>
              <a:gd name="textAreaBottom" fmla="*/ 635760 h 8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2"/>
          <p:cNvSpPr/>
          <p:nvPr/>
        </p:nvSpPr>
        <p:spPr>
          <a:xfrm flipV="1">
            <a:off x="3200400" y="3203280"/>
            <a:ext cx="5715000" cy="493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3"/>
          <p:cNvSpPr/>
          <p:nvPr/>
        </p:nvSpPr>
        <p:spPr>
          <a:xfrm>
            <a:off x="384120" y="2017800"/>
            <a:ext cx="24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onen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ad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entuan S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si lulu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an dalam pemb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unan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4"/>
          <p:cNvSpPr/>
          <p:nvPr/>
        </p:nvSpPr>
        <p:spPr>
          <a:xfrm>
            <a:off x="4191120" y="2209680"/>
            <a:ext cx="0" cy="2133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5"/>
          <p:cNvSpPr/>
          <p:nvPr/>
        </p:nvSpPr>
        <p:spPr>
          <a:xfrm>
            <a:off x="44136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6"/>
          <p:cNvSpPr/>
          <p:nvPr/>
        </p:nvSpPr>
        <p:spPr>
          <a:xfrm>
            <a:off x="447480" y="4630680"/>
            <a:ext cx="704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valuasi diri tentang komponen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Efisiensi dari proses berdasarkan input yang ters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Output yang mencerminkan tata kelola input dan proses di i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Benang merah yang nyata harus ditunjukkan antara I – P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Arial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7"/>
          <p:cNvSpPr/>
          <p:nvPr/>
        </p:nvSpPr>
        <p:spPr>
          <a:xfrm>
            <a:off x="815328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3:25:26Z</dcterms:created>
  <dc:creator>Pudjo Sukarno</dc:creator>
  <dc:description/>
  <dc:language>en-US</dc:language>
  <cp:lastModifiedBy>User</cp:lastModifiedBy>
  <dcterms:modified xsi:type="dcterms:W3CDTF">2007-11-15T02:49:30Z</dcterms:modified>
  <cp:revision>17</cp:revision>
  <dc:subject/>
  <dc:title>Evaluasi Diri Perguruan Tinggi</dc:title>
</cp:coreProperties>
</file>