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58.wmf" ContentType="image/x-wmf"/>
  <Override PartName="/ppt/media/image62.png" ContentType="image/png"/>
  <Override PartName="/ppt/media/image63.png" ContentType="image/png"/>
  <Override PartName="/ppt/media/image70.gif" ContentType="image/gif"/>
  <Override PartName="/ppt/media/image64.png" ContentType="image/png"/>
  <Override PartName="/ppt/media/image71.gif" ContentType="image/gif"/>
  <Override PartName="/ppt/media/image28.png" ContentType="image/png"/>
  <Override PartName="/ppt/media/image65.png" ContentType="image/png"/>
  <Override PartName="/ppt/media/image72.gif" ContentType="image/gif"/>
  <Override PartName="/ppt/media/image79.gif" ContentType="image/gif"/>
  <Override PartName="/ppt/media/image75.wmf" ContentType="image/x-wmf"/>
  <Override PartName="/ppt/media/image66.wmf" ContentType="image/x-wmf"/>
  <Override PartName="/ppt/media/image26.png" ContentType="image/png"/>
  <Override PartName="/ppt/media/image78.gif" ContentType="image/gif"/>
  <Override PartName="/ppt/media/image74.wmf" ContentType="image/x-wmf"/>
  <Override PartName="/ppt/media/image34.png" ContentType="image/png"/>
  <Override PartName="/ppt/media/image77.gif" ContentType="image/gif"/>
  <Override PartName="/ppt/media/image73.wmf" ContentType="image/x-wmf"/>
  <Override PartName="/ppt/media/image33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20.png" ContentType="image/png"/>
  <Override PartName="/ppt/media/image82.png" ContentType="image/png"/>
  <Override PartName="/ppt/media/image17.png" ContentType="image/png"/>
  <Override PartName="/ppt/media/image57.wmf" ContentType="image/x-wmf"/>
  <Override PartName="/ppt/media/image69.gif" ContentType="image/gif"/>
  <Override PartName="/ppt/media/image25.png" ContentType="image/png"/>
  <Override PartName="/ppt/media/image68.png" ContentType="image/png"/>
  <Override PartName="/ppt/media/image6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27.png" ContentType="image/png"/>
  <Override PartName="/ppt/media/image4.png" ContentType="image/png"/>
  <Override PartName="/ppt/media/image81.png" ContentType="image/png"/>
  <Override PartName="/ppt/media/image16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am Hibah Kompetisi Berbasis Institus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dt" idx="5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AEC-8D62-484E-93FE-7D33CFDB0523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ftr" idx="5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misi PHK DPT Dik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 type="sldNum" idx="5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2F7-B254-4004-B884-3303A5E51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am Hibah Kompetisi Berbasis Institusi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4" name="Date Placeholder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C2F-2161-4279-9C16-6B7B46C04D6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5" name="Footer Placeholder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misi PHK DPT Dikti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6" name="Slide Number Placeholder 6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5A6-4B47-4A66-A1E0-F492B071D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am Hibah Kompetisi Berbasis Institusi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0" name="Date Placeholder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BE58-25D0-497D-8B25-B2F8D8AF70C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1" name="Footer Placeholder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misi PHK DPT Dikti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2" name="Slide Number Placeholder 6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B377-FF32-4DAE-8A33-E62B934EB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5C9-23EC-46BE-B0D9-4590AB06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96E-0661-4494-8980-6B14600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3C658-8561-4B3F-94C2-0DF81584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11C2-D92A-4D5B-AECB-1897A8C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186D2-C0A7-44CF-8911-CBB51E7F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3385F-075C-4F03-8391-33F2EC1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A6DD0-B971-4F21-A2EC-CC6A9B5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C6D2B-D305-4A35-AC9C-0121FEE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E369-D42E-4AC6-AC38-37840896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CD25F-94C1-4B90-A88A-9F7B5018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7C515-5148-4115-B724-628A30AA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1EDB7-36E5-4408-AC02-62113BC1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1D5-B7A7-4D27-8910-4D4A35FD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CAF51-729E-401D-9AD8-EA021A28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9782C-D46C-43D7-A681-DEBF4046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E77CD-D540-4244-85E5-6C9021A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96BC3-1171-477D-BD63-E682B388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B1DF4-D3DB-4BA6-9FF4-BD60C9F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21985-4760-4DB1-A186-DDA33E6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A3930-EE56-4EAA-91FF-481DADB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479F1-3119-4D40-AF32-408BFEC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B26DF-93E3-424D-93DB-6677C76D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92B53-3967-4B5A-A1ED-019D4844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D4E-AA7E-40A3-B604-A37CC4C3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F1373-6A78-4401-A63B-7675EE91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46300-8122-4D65-AE1B-01393E8B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97AC3-A640-4E10-9600-F287D3FD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A90B8-D8FC-4FEE-86E9-DA987159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C50DE-2AD2-497C-96D5-4F2A17D8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B7100-E845-4EC3-AF3C-9DA08BF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7C91B-04DC-4F33-B710-32DB74CF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7AC66-A52F-4A47-98D2-0B27532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2D403-47A4-458A-9B62-15EADB6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514AF-635D-4D19-88A2-BDDD585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5617-25FD-407B-A600-7D274555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54985-9A9E-4680-900F-F06F54F1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62062-F1F5-41E1-BCF8-0D299B3E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6C522-1DF5-420F-86C1-3AB48D5E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C5B10-D09E-4DCD-BDCD-38FD8429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B762B-71BE-4B14-B265-563B9F52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D60DC-7258-460B-9219-6CA3C72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AFD22-7CA9-471C-BA40-2A080AFC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C4641-773B-4E23-81F9-67FB85D8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8F37E-FE8C-488F-B282-8C99306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925EB-BD94-4C45-B005-6F73E65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7E90-3D6B-467F-916B-A734A83C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6F184-5E6D-4C14-8D88-F798980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6A23C-0B3C-4FB8-86F9-BF8EF3F2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A4394-4A7A-4DE8-B608-4EF9EAC0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4A5BB-594C-41BD-8FCD-D865385B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9C124-2C4D-4FA0-96A0-DBC5D559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7CAD6-14D3-4751-8E57-D8F54AD5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E34BC-7E07-46F8-9EA2-1795E09B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06D3C-2B29-4E56-84F7-8B9090E5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CA71A-D01E-439D-9776-1D65DC93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27ABF-709E-440D-98B9-3A91430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1C4B-B72B-4AEC-9E65-962B4D1A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049BD-DB6C-416A-BF9D-9BEE47D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B6F4E-5FCF-465C-8A81-BC03ECA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7BC92-3039-4140-A126-7DCEFC5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97F06-1B64-4EE0-A53B-07E1E4F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C17F9-FDF2-4785-BD75-41263F16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9C44A-9507-4A4A-941E-46B85E9D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AFB5D-53A9-40ED-B156-F675FB6C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871E9-CA89-46CD-BD9B-504346F3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B6B2D-9CB2-4BAB-9544-7D75396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5624E-D7B2-4B7A-9D80-A09D7F2D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DC74-6A01-44E0-9244-D2AA08E1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DAEC7-D704-4020-9CDB-E5781FA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94BD9-A95F-4A0E-926F-92C2A741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87FB5-8A24-437A-9517-B4C2A4B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CF616-B270-45E0-8F07-2799E10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DA892-B5DF-4338-BB6B-2A9CAC37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5FAEC-4D87-4148-A230-0601345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1D865-0761-4539-93F1-3587E2B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43A89-94FA-4500-9F2A-CA656C19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207CD-B97D-4DAC-8064-9220FE4A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073DB-8D01-4048-99FC-085B919E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D1A1-C9CA-4C93-A8C8-D09F289C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12DE0-79D1-4C4C-8B7F-D02136AF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DFDDE-92C6-42DC-BAFA-11EBA14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1D9AE-4BDB-4BB2-8076-01BBAAD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A9722-04A7-4187-95FC-F6870130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DB558-BA51-429B-A41B-B7D4FF33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07DB8-92A1-4D94-AC24-9D3B7CC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F6109-8F37-4615-A389-06B4F06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773DA-04EF-4425-80FA-6608FB5E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57726-C62B-45C2-B491-5B0EE576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D2A02-CDB4-48FF-9208-D2E36132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3EE-C57B-4B0B-8362-31CB205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0F155-AFFF-4077-901E-27690CE0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A7C6B-1F86-4626-A679-16290240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266E1-A7BF-4B4B-AAAD-A1C42E3D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64DD3-2403-40C0-AE58-592CFD0F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C9E79-9D1E-43BB-9D9A-A4ABEE02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4EA82-0240-4C70-A5C2-1127904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4736A-5DFC-47E0-BFF8-B10921B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7A5B5-1D01-4A7F-9383-B099707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59175-94D7-4BEE-ABB6-0CB0BFA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22900-398B-4AC8-AC92-AB344C9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3837-BD44-47AC-8FE9-49A7E8C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FC0E3-AACA-4E25-BEF0-C594B59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ECE19-37DF-463D-A891-A512071B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DA056-7723-4D3F-9881-620F3B14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B5EDE-E1E4-46C9-AFBF-79473A8F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C07F1-7E32-49B0-A2EF-88EF0039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E55A2-E494-40AC-AB2E-2B67DED4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A7C11-DBAD-4273-AEF3-8336E25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AFB40-4A57-4307-97EF-6DAAFB89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140EF-0628-449C-A5FE-10AABF89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0BEE8-10D7-41BA-AB90-4890BC8C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558-DC5D-4B9E-98B6-6FE4A58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C345-0661-41DE-8171-E2AD748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2BA5B-4638-47F7-8333-7BDECB2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89F47-6AF9-4EAB-8A82-3EB0CD8F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D4D24-D0EF-4DF0-A2C6-F042945A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3DD71-008F-409B-B333-98EB5F68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77925-028D-43BD-B895-602CB89B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F7641A-7061-4832-8A41-B404BC91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141803-034F-4B29-93CB-D12A8C4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E71ED3B-DF4E-426D-A7D8-D8F20EF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E29F14-55E2-4A8A-BD70-87A8155C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DBC1CB-D81E-47B9-ABF1-792B73B4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51C2-F02F-4D44-9C27-911959D6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15C63A-91A6-434D-911E-AE3A2378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2D5CA6-BEC5-4790-A514-C7A78A4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48FCAA-9773-432A-9A0E-5CC6186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01230D-A8AD-4E25-A8F4-103060C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039D5F-3E39-4B5F-B76D-215F30D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F4885F-23EC-4F95-ADC3-83B1AD92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0908B8-46F3-4C17-9049-3CB2AC5B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5C62-2FBF-4084-9CBB-7E252D0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5F8-9AE5-4781-B274-34DBC993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69E4-A31B-4462-B2D9-5245424F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83EB-6B7C-437E-8D2D-7D99A4D6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ABE5-BF26-47FC-A20F-AB3B1B5D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59E8-B757-4FD4-B433-2144F2DA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22FD-56FE-4039-BCD9-BBBE579D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F71F-88B1-412A-B18A-E23BEE9B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FE2-8905-4938-AE61-BBBC5582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6745-69B0-480D-B4C1-2DB114FA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10BF-C9D0-4F72-9368-42E2CC0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159F-7A3C-4F7C-91E0-9EC63D91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7C10-79C9-4FDE-9440-841E849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2D06-E59F-491D-9BDE-E46E3CFA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E9CC-AC6E-4995-AFF8-63130A2F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815F-D53F-4698-B348-3D968FE1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73C13-9E81-499B-B04D-C853322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81B0-8A05-4952-A6F6-CFD864D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8BB22-7FA1-4AFB-BFA3-87C02CC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EFE-0197-4D60-9CBA-DD90BE4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090B-9D74-457B-9F1D-2ECD8320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FEAA-6D14-430B-8500-A84D2744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C4F8-1666-40D0-A37B-0B4D0A6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B487-8451-43CC-9C3A-C1D936E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ED54-D0DA-4DF2-B909-61BB0862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D616-1786-4B87-BDA5-2A1D946D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AD9B-1AF5-45D0-8C43-678175BA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01E3-5B2D-4E22-8744-DBA5D151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CD5D-361B-4552-824A-34B8C7BD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E60C-2244-4122-9290-116FA02F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97C-768D-4C2B-954B-C2F346A8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0260F-A556-4ACE-8E06-D1502F9E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5A1D2-B7E6-420F-8AC7-32768AD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107A-1869-4763-AA8A-4F955793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D334A-67B3-4228-A744-20052BC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FE77-7BE4-4C0C-A301-A77550B5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067B-E9D5-494B-BBBA-F4AE727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56110-994C-4320-9B20-8E346F0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57954-27CC-4278-98A0-C62EEF7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D6043-9CEF-43DF-8DA4-099B3B9A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E669-AD89-447D-9E87-52700B4E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748-D349-4572-9DCE-083B975C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3387-2A55-4DD1-AA1B-7804250A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6900-BF47-46BC-9DBD-0D2EE608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C066-E272-4A8D-B2DB-915C4E35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C12E-2689-4A7E-A42C-9A2481EA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C826-F381-4630-8678-F5ABCB91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D31ED-5145-4FA3-B27C-BD795D7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C9CE-12A9-4A0F-B58E-58ADBE2D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D46DA-D609-4E0A-AC2B-E3D31F4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97F9-6E4D-47A7-AF3A-694A640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4E52-B23A-4B79-8725-311931F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B5B-7047-4FB9-8A8C-51D2AFC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931D-8BC6-4806-9831-A6C3B554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E070-64B6-4E79-8160-B33E49D4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D8FDA-95F1-4F2C-8FAA-5BE45471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E36EA-7176-4BFB-A236-C2374C67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856B5-3C09-48F3-8451-98745113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0D948-B272-4778-97EE-C0D98FE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25410-C5E5-42A5-9D4E-1054BCD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55EA-8E98-484E-9177-AFA7143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977AB-BF21-47FE-B8FA-97C4D377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4BC3-E706-4E80-B6FC-126E30C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331-5F7E-4C14-8721-53BF88E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A41A-F2D2-4B19-850A-D719FCC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D6EF6-3012-4167-B566-4D36297E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0AA71-074B-4305-AE0D-FA621D1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C9EE-230A-47A8-AC01-CC5403DF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712F7-7092-4CD3-8E76-C46590B2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D22DB-297E-4AD9-9CD3-2929C3C2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5AFC2-1AC6-43A7-8489-F18BC40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02E33-65C1-4A80-A7E5-D10C44E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00D1-17FC-4EF2-A6D3-AA76AE7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3771F-0F6F-45D4-9C89-F8D8003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EBC-B766-4EC1-9828-C6FC4F3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42F0-792E-4D87-B062-2F27C211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8520-0259-40F8-9DED-059E946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47FD-9A1B-45E5-AF0A-B2433E1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6FE4-8066-44FE-AE17-B207112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E6DAD-3711-4B17-BF17-289B8281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28A73-A907-4DF4-96E4-B2B2E73F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A692A-BB64-4CFC-8DB8-514B0D57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57DD0-91F0-4279-9F37-F30EC0C3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404C-9CBE-401B-A303-9AA386C4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40217-6E7C-4A86-B184-EC099996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0A26-0962-4188-96B4-EA11CF630EA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C2EB-A5D5-4DBC-A22B-0035E4949921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0A30-EBA3-42AB-9DBA-BFB692BC98A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2FC7-D15D-485C-9091-6FE165296337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457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350-7D1E-4D95-9C3E-B1E6CBA8BB2F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147B-5CDC-4EE2-84AC-A7EA8EBA07C8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0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508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B541-29C1-425E-8659-5F1DFCB6A89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7F8F-AD84-4727-91BB-9EDB925C9710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559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563E-9F2C-4977-A885-F440CE9C726B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1EC8-737E-4E63-A533-5F9A298EA5D6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60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610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7DE5-48D4-4C85-BF66-9EC45AB80EC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36C-805A-4AE6-A812-A144C2C07358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65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5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661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0EDA-F862-4038-8BAE-6B713B987FE4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1F0-34A7-49A4-9B46-88C2E56834EA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1130-3A71-4775-BD45-E44954224AD5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76A4-A2B1-4CF0-8430-44C5B60E56BA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754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9"/>
          </p:nvPr>
        </p:nvSpPr>
        <p:spPr>
          <a:xfrm>
            <a:off x="281952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78A-5FB4-4512-8D0C-967C3FCD5B6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0"/>
          </p:nvPr>
        </p:nvSpPr>
        <p:spPr>
          <a:xfrm>
            <a:off x="4267080" y="6488280"/>
            <a:ext cx="2895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1"/>
          </p:nvPr>
        </p:nvSpPr>
        <p:spPr>
          <a:xfrm>
            <a:off x="731520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5B35-0798-492A-92A9-2797F71B36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04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8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807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6CA-6E3D-4D0B-A932-423C367B1D31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dt" idx="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BB85-A7EB-44E2-89C0-9017B2389B5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F5FB-2A58-47EA-BBC7-6486B21CF01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F389-2239-4E06-BB58-5BC9E7E491DC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3" descr="D:\My Documents\Dikti\Logo\Diknas2.gif"/>
          <p:cNvPicPr/>
          <p:nvPr/>
        </p:nvPicPr>
        <p:blipFill>
          <a:blip r:embed="rId2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70E0-0DE9-4B29-BE2C-34CD7B0FF5A6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0042-AF79-4E75-9991-FFF0C45544B7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3" descr="D:\My Documents\Dikti\Logo\Diknas2.gif"/>
          <p:cNvPicPr/>
          <p:nvPr/>
        </p:nvPicPr>
        <p:blipFill>
          <a:blip r:embed="rId2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8FA-E411-447C-81CC-479F2A98CC6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A550-09AF-496D-B21C-91C67135165E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363C-5E40-425E-B696-D6C9E7419403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47BA-7C25-4F28-9910-E6061016DC50}" type="slidenum"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758-1DF5-4708-BD6F-D7573F36A634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FC7-865C-441E-A8B5-636B04814E9A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5FFD-2AD1-405D-92CE-282F5D4B460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67EA-1CB8-4791-BABB-1AEDFF0C6C04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F01-2D15-464D-B952-52C84BEFF623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1E2-94AE-4A47-A675-EBF604BFEC06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E1E-A955-4148-933C-BC784FF26BFE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2630-1486-4FE7-9F77-DD1944374D9B}" type="slidenum"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image" Target="../media/image42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43.png"/><Relationship Id="rId18" Type="http://schemas.openxmlformats.org/officeDocument/2006/relationships/hyperlink" Target="file:///tmp/home/.config/libreoffice/4/user/gallery/camera.wav" TargetMode="External"/><Relationship Id="rId19" Type="http://schemas.openxmlformats.org/officeDocument/2006/relationships/image" Target="../media/image44.png"/><Relationship Id="rId20" Type="http://schemas.openxmlformats.org/officeDocument/2006/relationships/image" Target="../media/image45.png"/><Relationship Id="rId21" Type="http://schemas.openxmlformats.org/officeDocument/2006/relationships/image" Target="../media/image46.png"/><Relationship Id="rId22" Type="http://schemas.openxmlformats.org/officeDocument/2006/relationships/image" Target="../media/image47.png"/><Relationship Id="rId23" Type="http://schemas.openxmlformats.org/officeDocument/2006/relationships/image" Target="../media/image48.png"/><Relationship Id="rId24" Type="http://schemas.openxmlformats.org/officeDocument/2006/relationships/hyperlink" Target="file:///tmp/home/.config/libreoffice/4/user/gallery/camera.wav" TargetMode="External"/><Relationship Id="rId25" Type="http://schemas.openxmlformats.org/officeDocument/2006/relationships/image" Target="../media/image49.png"/><Relationship Id="rId26" Type="http://schemas.openxmlformats.org/officeDocument/2006/relationships/hyperlink" Target="file:///tmp/home/.config/libreoffice/4/user/gallery/camera.wav" TargetMode="External"/><Relationship Id="rId27" Type="http://schemas.openxmlformats.org/officeDocument/2006/relationships/image" Target="../media/image50.png"/><Relationship Id="rId28" Type="http://schemas.openxmlformats.org/officeDocument/2006/relationships/hyperlink" Target="file:///tmp/home/.config/libreoffice/4/user/gallery/camera.wav" TargetMode="External"/><Relationship Id="rId29" Type="http://schemas.openxmlformats.org/officeDocument/2006/relationships/image" Target="../media/image51.png"/><Relationship Id="rId30" Type="http://schemas.openxmlformats.org/officeDocument/2006/relationships/image" Target="../media/image52.png"/><Relationship Id="rId3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20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gif"/><Relationship Id="rId5" Type="http://schemas.openxmlformats.org/officeDocument/2006/relationships/image" Target="../media/image70.gif"/><Relationship Id="rId6" Type="http://schemas.openxmlformats.org/officeDocument/2006/relationships/image" Target="../media/image71.gif"/><Relationship Id="rId7" Type="http://schemas.openxmlformats.org/officeDocument/2006/relationships/image" Target="../media/image72.gif"/><Relationship Id="rId8" Type="http://schemas.openxmlformats.org/officeDocument/2006/relationships/image" Target="../media/image73.wmf"/><Relationship Id="rId9" Type="http://schemas.openxmlformats.org/officeDocument/2006/relationships/image" Target="../media/image74.wmf"/><Relationship Id="rId10" Type="http://schemas.openxmlformats.org/officeDocument/2006/relationships/image" Target="../media/image75.wmf"/><Relationship Id="rId11" Type="http://schemas.openxmlformats.org/officeDocument/2006/relationships/image" Target="../media/image76.wmf"/><Relationship Id="rId12" Type="http://schemas.openxmlformats.org/officeDocument/2006/relationships/image" Target="../media/image77.gif"/><Relationship Id="rId13" Type="http://schemas.openxmlformats.org/officeDocument/2006/relationships/image" Target="../media/image78.gif"/><Relationship Id="rId14" Type="http://schemas.openxmlformats.org/officeDocument/2006/relationships/image" Target="../media/image79.gif"/><Relationship Id="rId15" Type="http://schemas.openxmlformats.org/officeDocument/2006/relationships/image" Target="../media/image80.png"/><Relationship Id="rId16" Type="http://schemas.openxmlformats.org/officeDocument/2006/relationships/image" Target="../media/image81.png"/><Relationship Id="rId17" Type="http://schemas.openxmlformats.org/officeDocument/2006/relationships/image" Target="../media/image82.png"/><Relationship Id="rId18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hyperlink" Target="file:///tmp/home/.config/libreoffice/4/user/gallery/camera.wav" TargetMode="External"/><Relationship Id="rId19" Type="http://schemas.openxmlformats.org/officeDocument/2006/relationships/image" Target="../media/image29.png"/><Relationship Id="rId20" Type="http://schemas.openxmlformats.org/officeDocument/2006/relationships/hyperlink" Target="file:///tmp/home/.config/libreoffice/4/user/gallery/camera.wav" TargetMode="External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slideLayout" Target="../slideLayouts/slideLayout37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211960" cy="229248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533160" y="3822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b">
            <a:noAutofit/>
          </a:bodyPr>
          <a:p>
            <a:pPr algn="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Lithograph"/>
              </a:rPr>
              <a:t>Pengembangan Progra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6-17 Februari 200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disampaikan pada Pelatihan Penyusunan Proposa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13D-68C4-42FF-A9A9-DF250B966B48}" type="datetime">
              <a:rPr b="0" lang="en-US" sz="1200" spc="-1" strike="noStrike">
                <a:solidFill>
                  <a:srgbClr val="d1eaee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E94-DA11-47C9-AC3A-E0F730D764F8}" type="slidenum">
              <a:rPr b="0" lang="id-ID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posal Lengka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Konsep penyusunan propos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2" name="Date Placeholder 2"/>
          <p:cNvSpPr/>
          <p:nvPr/>
        </p:nvSpPr>
        <p:spPr>
          <a:xfrm>
            <a:off x="6400800" y="635472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701-3847-46C2-B077-4FF48B5B9874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3" name="Footer Placeholder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4" name="Slide Number Placeholder 4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85C5-447F-49D2-B632-28B5EA1A2157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Rectangle 79"/>
          <p:cNvGrpSpPr/>
          <p:nvPr/>
        </p:nvGrpSpPr>
        <p:grpSpPr>
          <a:xfrm>
            <a:off x="3432240" y="3408480"/>
            <a:ext cx="2328840" cy="2936880"/>
            <a:chOff x="3432240" y="3408480"/>
            <a:chExt cx="2328840" cy="2936880"/>
          </a:xfrm>
        </p:grpSpPr>
        <p:pic>
          <p:nvPicPr>
            <p:cNvPr id="1006" name="Rectangle 79" descr=""/>
            <p:cNvPicPr/>
            <p:nvPr/>
          </p:nvPicPr>
          <p:blipFill>
            <a:blip r:embed="rId1"/>
            <a:stretch/>
          </p:blipFill>
          <p:spPr>
            <a:xfrm>
              <a:off x="3432240" y="3408480"/>
              <a:ext cx="2328840" cy="29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3476520" y="3503520"/>
              <a:ext cx="21956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8" name="Text Box 7"/>
          <p:cNvGrpSpPr/>
          <p:nvPr/>
        </p:nvGrpSpPr>
        <p:grpSpPr>
          <a:xfrm>
            <a:off x="3529080" y="4164120"/>
            <a:ext cx="2170080" cy="444240"/>
            <a:chOff x="3529080" y="4164120"/>
            <a:chExt cx="2170080" cy="444240"/>
          </a:xfrm>
        </p:grpSpPr>
        <p:pic>
          <p:nvPicPr>
            <p:cNvPr id="1009" name="Text Box 7" descr=""/>
            <p:cNvPicPr/>
            <p:nvPr/>
          </p:nvPicPr>
          <p:blipFill>
            <a:blip r:embed="rId2"/>
            <a:stretch/>
          </p:blipFill>
          <p:spPr>
            <a:xfrm>
              <a:off x="3529080" y="4164120"/>
              <a:ext cx="2170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3573360" y="420732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Aktivitas 1, 2, …, </a:t>
              </a:r>
              <a:r>
                <a:rPr b="0" i="1" lang="en-US" sz="1400" spc="-1" strike="noStrike">
                  <a:solidFill>
                    <a:srgbClr val="c00000"/>
                  </a:solidFill>
                  <a:latin typeface="Arial Black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11" name="Text Box 7"/>
          <p:cNvGrpSpPr/>
          <p:nvPr/>
        </p:nvGrpSpPr>
        <p:grpSpPr>
          <a:xfrm>
            <a:off x="3529080" y="5261040"/>
            <a:ext cx="2182680" cy="658800"/>
            <a:chOff x="3529080" y="5261040"/>
            <a:chExt cx="2182680" cy="658800"/>
          </a:xfrm>
        </p:grpSpPr>
        <p:pic>
          <p:nvPicPr>
            <p:cNvPr id="1012" name="Text Box 7" descr=""/>
            <p:cNvPicPr/>
            <p:nvPr/>
          </p:nvPicPr>
          <p:blipFill>
            <a:blip r:embed="rId3"/>
            <a:stretch/>
          </p:blipFill>
          <p:spPr>
            <a:xfrm>
              <a:off x="3529080" y="5261040"/>
              <a:ext cx="2182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3573360" y="5307120"/>
              <a:ext cx="203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Sumberdaya yang dibutuhk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14" name="Text Box 7"/>
          <p:cNvGrpSpPr/>
          <p:nvPr/>
        </p:nvGrpSpPr>
        <p:grpSpPr>
          <a:xfrm>
            <a:off x="3529080" y="5919840"/>
            <a:ext cx="2170080" cy="444600"/>
            <a:chOff x="3529080" y="5919840"/>
            <a:chExt cx="2170080" cy="444600"/>
          </a:xfrm>
        </p:grpSpPr>
        <p:pic>
          <p:nvPicPr>
            <p:cNvPr id="1015" name="Text Box 7" descr=""/>
            <p:cNvPicPr/>
            <p:nvPr/>
          </p:nvPicPr>
          <p:blipFill>
            <a:blip r:embed="rId4"/>
            <a:stretch/>
          </p:blipFill>
          <p:spPr>
            <a:xfrm>
              <a:off x="3529080" y="591984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3573360" y="596304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Kebutuhan Dan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17" name="Rectangle 33"/>
          <p:cNvGrpSpPr/>
          <p:nvPr/>
        </p:nvGrpSpPr>
        <p:grpSpPr>
          <a:xfrm>
            <a:off x="6443640" y="1700280"/>
            <a:ext cx="2371680" cy="2311200"/>
            <a:chOff x="6443640" y="1700280"/>
            <a:chExt cx="2371680" cy="2311200"/>
          </a:xfrm>
        </p:grpSpPr>
        <p:pic>
          <p:nvPicPr>
            <p:cNvPr id="1018" name="Rectangle 33" descr=""/>
            <p:cNvPicPr/>
            <p:nvPr/>
          </p:nvPicPr>
          <p:blipFill>
            <a:blip r:embed="rId5"/>
            <a:stretch/>
          </p:blipFill>
          <p:spPr>
            <a:xfrm>
              <a:off x="6443640" y="1700280"/>
              <a:ext cx="237168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6488280" y="1798560"/>
              <a:ext cx="223488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20" name="Freeform 94"/>
          <p:cNvGrpSpPr/>
          <p:nvPr/>
        </p:nvGrpSpPr>
        <p:grpSpPr>
          <a:xfrm>
            <a:off x="146160" y="2090880"/>
            <a:ext cx="3151080" cy="1334880"/>
            <a:chOff x="146160" y="2090880"/>
            <a:chExt cx="3151080" cy="1334880"/>
          </a:xfrm>
        </p:grpSpPr>
        <p:pic>
          <p:nvPicPr>
            <p:cNvPr id="1021" name="Freeform 94" descr=""/>
            <p:cNvPicPr/>
            <p:nvPr/>
          </p:nvPicPr>
          <p:blipFill>
            <a:blip r:embed="rId6"/>
            <a:stretch/>
          </p:blipFill>
          <p:spPr>
            <a:xfrm>
              <a:off x="146160" y="2090880"/>
              <a:ext cx="3151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162000" y="2108160"/>
              <a:ext cx="312588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onsep Penyusunan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posal Lengka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E96D-7036-4DDA-98D9-EB0A3D8B572D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B799-0804-48E9-BAF6-1BBBFD465F02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7" name="Text Box 5"/>
          <p:cNvGrpSpPr/>
          <p:nvPr/>
        </p:nvGrpSpPr>
        <p:grpSpPr>
          <a:xfrm>
            <a:off x="487440" y="1322280"/>
            <a:ext cx="2116080" cy="446040"/>
            <a:chOff x="487440" y="1322280"/>
            <a:chExt cx="2116080" cy="446040"/>
          </a:xfrm>
        </p:grpSpPr>
        <p:pic>
          <p:nvPicPr>
            <p:cNvPr id="1028" name="Text Box 5" descr=""/>
            <p:cNvPicPr/>
            <p:nvPr/>
          </p:nvPicPr>
          <p:blipFill>
            <a:blip r:embed="rId7"/>
            <a:stretch/>
          </p:blipFill>
          <p:spPr>
            <a:xfrm>
              <a:off x="487440" y="1322280"/>
              <a:ext cx="21160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533520" y="1365480"/>
              <a:ext cx="197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Situasi Sekar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30" name="Text Box 7"/>
          <p:cNvGrpSpPr/>
          <p:nvPr/>
        </p:nvGrpSpPr>
        <p:grpSpPr>
          <a:xfrm>
            <a:off x="6566040" y="1311120"/>
            <a:ext cx="2170080" cy="444600"/>
            <a:chOff x="6566040" y="1311120"/>
            <a:chExt cx="2170080" cy="444600"/>
          </a:xfrm>
        </p:grpSpPr>
        <p:pic>
          <p:nvPicPr>
            <p:cNvPr id="1031" name="Text Box 7" descr=""/>
            <p:cNvPicPr/>
            <p:nvPr/>
          </p:nvPicPr>
          <p:blipFill>
            <a:blip r:embed="rId8"/>
            <a:stretch/>
          </p:blipFill>
          <p:spPr>
            <a:xfrm>
              <a:off x="6566040" y="131112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6605640" y="1357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Situasi Mendat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33" name="AutoShape 6"/>
          <p:cNvGrpSpPr/>
          <p:nvPr/>
        </p:nvGrpSpPr>
        <p:grpSpPr>
          <a:xfrm>
            <a:off x="2951280" y="1170000"/>
            <a:ext cx="3309840" cy="719280"/>
            <a:chOff x="2951280" y="1170000"/>
            <a:chExt cx="3309840" cy="719280"/>
          </a:xfrm>
        </p:grpSpPr>
        <p:pic>
          <p:nvPicPr>
            <p:cNvPr id="1034" name="AutoShape 6" descr="White marble"/>
            <p:cNvPicPr/>
            <p:nvPr/>
          </p:nvPicPr>
          <p:blipFill>
            <a:blip r:embed="rId9"/>
            <a:stretch/>
          </p:blipFill>
          <p:spPr>
            <a:xfrm>
              <a:off x="2951280" y="1170000"/>
              <a:ext cx="3309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3490920" y="1359000"/>
              <a:ext cx="2279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maju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36" name="Text Box 5"/>
          <p:cNvGrpSpPr/>
          <p:nvPr/>
        </p:nvGrpSpPr>
        <p:grpSpPr>
          <a:xfrm>
            <a:off x="201600" y="2176560"/>
            <a:ext cx="1395360" cy="627120"/>
            <a:chOff x="201600" y="2176560"/>
            <a:chExt cx="1395360" cy="627120"/>
          </a:xfrm>
        </p:grpSpPr>
        <p:pic>
          <p:nvPicPr>
            <p:cNvPr id="1037" name="Text Box 5" descr=""/>
            <p:cNvPicPr/>
            <p:nvPr/>
          </p:nvPicPr>
          <p:blipFill>
            <a:blip r:embed="rId10"/>
            <a:stretch/>
          </p:blipFill>
          <p:spPr>
            <a:xfrm>
              <a:off x="201600" y="2176560"/>
              <a:ext cx="1395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244440" y="232524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Posisi (Data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39" name="Text Box 5"/>
          <p:cNvGrpSpPr/>
          <p:nvPr/>
        </p:nvGrpSpPr>
        <p:grpSpPr>
          <a:xfrm>
            <a:off x="1920960" y="2176560"/>
            <a:ext cx="1395360" cy="627120"/>
            <a:chOff x="1920960" y="2176560"/>
            <a:chExt cx="1395360" cy="627120"/>
          </a:xfrm>
        </p:grpSpPr>
        <p:pic>
          <p:nvPicPr>
            <p:cNvPr id="1040" name="Text Box 5" descr=""/>
            <p:cNvPicPr/>
            <p:nvPr/>
          </p:nvPicPr>
          <p:blipFill>
            <a:blip r:embed="rId11"/>
            <a:stretch/>
          </p:blipFill>
          <p:spPr>
            <a:xfrm>
              <a:off x="1920960" y="2176560"/>
              <a:ext cx="1395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1965240" y="2218680"/>
              <a:ext cx="12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Analisis Situa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42" name="Text Box 5"/>
          <p:cNvGrpSpPr/>
          <p:nvPr/>
        </p:nvGrpSpPr>
        <p:grpSpPr>
          <a:xfrm>
            <a:off x="1011240" y="2938320"/>
            <a:ext cx="1469880" cy="457200"/>
            <a:chOff x="1011240" y="2938320"/>
            <a:chExt cx="1469880" cy="457200"/>
          </a:xfrm>
        </p:grpSpPr>
        <p:pic>
          <p:nvPicPr>
            <p:cNvPr id="1043" name="Text Box 5" descr=""/>
            <p:cNvPicPr/>
            <p:nvPr/>
          </p:nvPicPr>
          <p:blipFill>
            <a:blip r:embed="rId12"/>
            <a:stretch/>
          </p:blipFill>
          <p:spPr>
            <a:xfrm>
              <a:off x="1011240" y="2938320"/>
              <a:ext cx="1469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1054080" y="2988000"/>
              <a:ext cx="13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Kesimpul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45" name="Elbow Connector 69"/>
          <p:cNvCxnSpPr>
            <a:stCxn id="1028" idx="2"/>
            <a:endCxn id="1037" idx="0"/>
          </p:cNvCxnSpPr>
          <p:nvPr/>
        </p:nvCxnSpPr>
        <p:spPr>
          <a:xfrm rot="5400000">
            <a:off x="912240" y="1634760"/>
            <a:ext cx="570600" cy="650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46" name="Elbow Connector 70"/>
          <p:cNvCxnSpPr>
            <a:stCxn id="1028" idx="2"/>
            <a:endCxn id="1040" idx="0"/>
          </p:cNvCxnSpPr>
          <p:nvPr/>
        </p:nvCxnSpPr>
        <p:spPr>
          <a:xfrm flipH="1" rot="16200000">
            <a:off x="1772640" y="1422720"/>
            <a:ext cx="570600" cy="107352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47" name="Elbow Connector 73"/>
          <p:cNvCxnSpPr>
            <a:stCxn id="1037" idx="3"/>
            <a:endCxn id="1040" idx="1"/>
          </p:cNvCxnSpPr>
          <p:nvPr/>
        </p:nvCxnSpPr>
        <p:spPr>
          <a:xfrm>
            <a:off x="1503000" y="2478240"/>
            <a:ext cx="4626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48" name="Elbow Connector 76"/>
          <p:cNvCxnSpPr>
            <a:stCxn id="1037" idx="2"/>
            <a:endCxn id="1043" idx="0"/>
          </p:cNvCxnSpPr>
          <p:nvPr/>
        </p:nvCxnSpPr>
        <p:spPr>
          <a:xfrm flipH="1" rot="16200000">
            <a:off x="1162080" y="2422440"/>
            <a:ext cx="267120" cy="847080"/>
          </a:xfrm>
          <a:prstGeom prst="bentConnector3">
            <a:avLst>
              <a:gd name="adj1" fmla="val 49932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49" name="Elbow Connector 76"/>
          <p:cNvCxnSpPr>
            <a:stCxn id="1040" idx="2"/>
            <a:endCxn id="1043" idx="0"/>
          </p:cNvCxnSpPr>
          <p:nvPr/>
        </p:nvCxnSpPr>
        <p:spPr>
          <a:xfrm rot="5400000">
            <a:off x="2023560" y="2407680"/>
            <a:ext cx="267120" cy="876960"/>
          </a:xfrm>
          <a:prstGeom prst="bentConnector3">
            <a:avLst>
              <a:gd name="adj1" fmla="val 49932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50" name="AutoShape 5"/>
          <p:cNvGrpSpPr/>
          <p:nvPr/>
        </p:nvGrpSpPr>
        <p:grpSpPr>
          <a:xfrm>
            <a:off x="-23760" y="2828880"/>
            <a:ext cx="3095640" cy="1657440"/>
            <a:chOff x="-23760" y="2828880"/>
            <a:chExt cx="3095640" cy="1657440"/>
          </a:xfrm>
        </p:grpSpPr>
        <p:pic>
          <p:nvPicPr>
            <p:cNvPr id="1051" name="AutoShape 5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-23760" y="2828880"/>
              <a:ext cx="30956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/>
            <p:cNvSpPr/>
            <p:nvPr/>
          </p:nvSpPr>
          <p:spPr>
            <a:xfrm>
              <a:off x="447840" y="3703680"/>
              <a:ext cx="2158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Ringkasan Analisis Evaluasi Diri</a:t>
              </a:r>
              <a:br>
                <a:rPr sz="1400"/>
              </a:b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(Bab 3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53" name="Text Box 7"/>
          <p:cNvGrpSpPr/>
          <p:nvPr/>
        </p:nvGrpSpPr>
        <p:grpSpPr>
          <a:xfrm>
            <a:off x="6566040" y="1871640"/>
            <a:ext cx="2170080" cy="444600"/>
            <a:chOff x="6566040" y="1871640"/>
            <a:chExt cx="2170080" cy="444600"/>
          </a:xfrm>
        </p:grpSpPr>
        <p:pic>
          <p:nvPicPr>
            <p:cNvPr id="1054" name="Text Box 7" descr=""/>
            <p:cNvPicPr/>
            <p:nvPr/>
          </p:nvPicPr>
          <p:blipFill>
            <a:blip r:embed="rId15"/>
            <a:stretch/>
          </p:blipFill>
          <p:spPr>
            <a:xfrm>
              <a:off x="6566040" y="187164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"/>
            <p:cNvSpPr/>
            <p:nvPr/>
          </p:nvSpPr>
          <p:spPr>
            <a:xfrm>
              <a:off x="6605640" y="191664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V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56" name="Text Box 7"/>
          <p:cNvGrpSpPr/>
          <p:nvPr/>
        </p:nvGrpSpPr>
        <p:grpSpPr>
          <a:xfrm>
            <a:off x="6566040" y="2432160"/>
            <a:ext cx="2170080" cy="439560"/>
            <a:chOff x="6566040" y="2432160"/>
            <a:chExt cx="2170080" cy="439560"/>
          </a:xfrm>
        </p:grpSpPr>
        <p:pic>
          <p:nvPicPr>
            <p:cNvPr id="1057" name="Text Box 7" descr=""/>
            <p:cNvPicPr/>
            <p:nvPr/>
          </p:nvPicPr>
          <p:blipFill>
            <a:blip r:embed="rId16"/>
            <a:stretch/>
          </p:blipFill>
          <p:spPr>
            <a:xfrm>
              <a:off x="6566040" y="2432160"/>
              <a:ext cx="2170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6605640" y="2473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M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59" name="Text Box 7"/>
          <p:cNvGrpSpPr/>
          <p:nvPr/>
        </p:nvGrpSpPr>
        <p:grpSpPr>
          <a:xfrm>
            <a:off x="6566040" y="2944800"/>
            <a:ext cx="2170080" cy="444600"/>
            <a:chOff x="6566040" y="2944800"/>
            <a:chExt cx="2170080" cy="444600"/>
          </a:xfrm>
        </p:grpSpPr>
        <p:pic>
          <p:nvPicPr>
            <p:cNvPr id="1060" name="Text Box 7" descr=""/>
            <p:cNvPicPr/>
            <p:nvPr/>
          </p:nvPicPr>
          <p:blipFill>
            <a:blip r:embed="rId17"/>
            <a:stretch/>
          </p:blipFill>
          <p:spPr>
            <a:xfrm>
              <a:off x="6566040" y="294480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6605640" y="298800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ujuan Institu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62" name="Elbow Connector 21"/>
          <p:cNvCxnSpPr>
            <a:stCxn id="1031" idx="2"/>
            <a:endCxn id="1054" idx="0"/>
          </p:cNvCxnSpPr>
          <p:nvPr/>
        </p:nvCxnSpPr>
        <p:spPr>
          <a:xfrm flipH="1">
            <a:off x="7622280" y="1665360"/>
            <a:ext cx="2520" cy="243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63" name="Elbow Connector 21"/>
          <p:cNvCxnSpPr>
            <a:stCxn id="1054" idx="2"/>
            <a:endCxn id="1057" idx="0"/>
          </p:cNvCxnSpPr>
          <p:nvPr/>
        </p:nvCxnSpPr>
        <p:spPr>
          <a:xfrm flipH="1">
            <a:off x="7622280" y="2215800"/>
            <a:ext cx="2520" cy="2448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64" name="Elbow Connector 21"/>
          <p:cNvCxnSpPr>
            <a:stCxn id="1057" idx="2"/>
            <a:endCxn id="1060" idx="0"/>
          </p:cNvCxnSpPr>
          <p:nvPr/>
        </p:nvCxnSpPr>
        <p:spPr>
          <a:xfrm flipH="1">
            <a:off x="7622280" y="2782800"/>
            <a:ext cx="2520" cy="207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1065" name="Straight Connector 28"/>
          <p:cNvSpPr/>
          <p:nvPr/>
        </p:nvSpPr>
        <p:spPr>
          <a:xfrm>
            <a:off x="2386080" y="3141720"/>
            <a:ext cx="523800" cy="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6081840" y="3141720"/>
            <a:ext cx="523800" cy="144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67" name="AutoShape 5"/>
          <p:cNvGrpSpPr/>
          <p:nvPr/>
        </p:nvGrpSpPr>
        <p:grpSpPr>
          <a:xfrm>
            <a:off x="3591000" y="1878120"/>
            <a:ext cx="3101760" cy="768240"/>
            <a:chOff x="3591000" y="1878120"/>
            <a:chExt cx="3101760" cy="768240"/>
          </a:xfrm>
        </p:grpSpPr>
        <p:pic>
          <p:nvPicPr>
            <p:cNvPr id="1068" name="AutoShape 5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3591000" y="1878120"/>
              <a:ext cx="3101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3975120" y="2011320"/>
              <a:ext cx="17445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Rasional &amp; Konteks (Bab 1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70" name="Elbow Connector 21"/>
          <p:cNvCxnSpPr>
            <a:endCxn id="1071" idx="0"/>
          </p:cNvCxnSpPr>
          <p:nvPr/>
        </p:nvCxnSpPr>
        <p:spPr>
          <a:xfrm flipH="1">
            <a:off x="4590360" y="3025440"/>
            <a:ext cx="1080" cy="5241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72" name="AutoShape 6"/>
          <p:cNvGrpSpPr/>
          <p:nvPr/>
        </p:nvGrpSpPr>
        <p:grpSpPr>
          <a:xfrm>
            <a:off x="2865600" y="2803680"/>
            <a:ext cx="3309840" cy="725400"/>
            <a:chOff x="2865600" y="2803680"/>
            <a:chExt cx="3309840" cy="725400"/>
          </a:xfrm>
        </p:grpSpPr>
        <p:pic>
          <p:nvPicPr>
            <p:cNvPr id="1073" name="AutoShape 6" descr="White marble"/>
            <p:cNvPicPr/>
            <p:nvPr/>
          </p:nvPicPr>
          <p:blipFill>
            <a:blip r:embed="rId20"/>
            <a:stretch/>
          </p:blipFill>
          <p:spPr>
            <a:xfrm>
              <a:off x="2865600" y="2803680"/>
              <a:ext cx="33098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405240" y="2994120"/>
              <a:ext cx="22795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strateg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75" name="Text Box 7"/>
          <p:cNvGrpSpPr/>
          <p:nvPr/>
        </p:nvGrpSpPr>
        <p:grpSpPr>
          <a:xfrm>
            <a:off x="6566040" y="3468600"/>
            <a:ext cx="2170080" cy="444600"/>
            <a:chOff x="6566040" y="3468600"/>
            <a:chExt cx="2170080" cy="444600"/>
          </a:xfrm>
        </p:grpSpPr>
        <p:pic>
          <p:nvPicPr>
            <p:cNvPr id="1076" name="Text Box 7" descr=""/>
            <p:cNvPicPr/>
            <p:nvPr/>
          </p:nvPicPr>
          <p:blipFill>
            <a:blip r:embed="rId21"/>
            <a:stretch/>
          </p:blipFill>
          <p:spPr>
            <a:xfrm>
              <a:off x="6566040" y="346860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6605640" y="351504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00000"/>
                  </a:solidFill>
                  <a:latin typeface="Arial Black"/>
                </a:rPr>
                <a:t>Outcome</a:t>
              </a: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 &amp; </a:t>
              </a:r>
              <a:r>
                <a:rPr b="0" i="1" lang="en-US" sz="1400" spc="-1" strike="noStrike">
                  <a:solidFill>
                    <a:srgbClr val="c00000"/>
                  </a:solidFill>
                  <a:latin typeface="Arial Black"/>
                </a:rPr>
                <a:t>Impac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78" name="Elbow Connector 21"/>
          <p:cNvCxnSpPr>
            <a:stCxn id="1060" idx="2"/>
            <a:endCxn id="1076" idx="0"/>
          </p:cNvCxnSpPr>
          <p:nvPr/>
        </p:nvCxnSpPr>
        <p:spPr>
          <a:xfrm flipH="1">
            <a:off x="7622280" y="3296880"/>
            <a:ext cx="2520" cy="2199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79" name="Text Box 7"/>
          <p:cNvGrpSpPr/>
          <p:nvPr/>
        </p:nvGrpSpPr>
        <p:grpSpPr>
          <a:xfrm>
            <a:off x="6566040" y="4595760"/>
            <a:ext cx="2170080" cy="646200"/>
            <a:chOff x="6566040" y="4595760"/>
            <a:chExt cx="2170080" cy="646200"/>
          </a:xfrm>
        </p:grpSpPr>
        <p:pic>
          <p:nvPicPr>
            <p:cNvPr id="1080" name="Text Box 7" descr=""/>
            <p:cNvPicPr/>
            <p:nvPr/>
          </p:nvPicPr>
          <p:blipFill>
            <a:blip r:embed="rId22"/>
            <a:stretch/>
          </p:blipFill>
          <p:spPr>
            <a:xfrm>
              <a:off x="6566040" y="4595760"/>
              <a:ext cx="2170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6605640" y="4640760"/>
              <a:ext cx="20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Indikator Kinerja Utam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82" name="Elbow Connector 21"/>
          <p:cNvCxnSpPr>
            <a:stCxn id="1076" idx="2"/>
            <a:endCxn id="1080" idx="0"/>
          </p:cNvCxnSpPr>
          <p:nvPr/>
        </p:nvCxnSpPr>
        <p:spPr>
          <a:xfrm flipH="1">
            <a:off x="7622280" y="3823920"/>
            <a:ext cx="2520" cy="8262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83" name="Elbow Connector 21"/>
          <p:cNvCxnSpPr>
            <a:stCxn id="1084" idx="2"/>
            <a:endCxn id="1012" idx="0"/>
          </p:cNvCxnSpPr>
          <p:nvPr/>
        </p:nvCxnSpPr>
        <p:spPr>
          <a:xfrm flipH="1">
            <a:off x="4589280" y="5153040"/>
            <a:ext cx="2160" cy="1548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85" name="Elbow Connector 21"/>
          <p:cNvCxnSpPr>
            <a:stCxn id="1012" idx="2"/>
            <a:endCxn id="1015" idx="0"/>
          </p:cNvCxnSpPr>
          <p:nvPr/>
        </p:nvCxnSpPr>
        <p:spPr>
          <a:xfrm flipH="1">
            <a:off x="4589280" y="5829480"/>
            <a:ext cx="2160" cy="135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86" name="Text Box 7"/>
          <p:cNvGrpSpPr/>
          <p:nvPr/>
        </p:nvGrpSpPr>
        <p:grpSpPr>
          <a:xfrm>
            <a:off x="3529080" y="3505320"/>
            <a:ext cx="2170080" cy="658800"/>
            <a:chOff x="3529080" y="3505320"/>
            <a:chExt cx="2170080" cy="658800"/>
          </a:xfrm>
        </p:grpSpPr>
        <p:pic>
          <p:nvPicPr>
            <p:cNvPr id="1087" name="Text Box 7" descr=""/>
            <p:cNvPicPr/>
            <p:nvPr/>
          </p:nvPicPr>
          <p:blipFill>
            <a:blip r:embed="rId23"/>
            <a:stretch/>
          </p:blipFill>
          <p:spPr>
            <a:xfrm>
              <a:off x="3529080" y="3505320"/>
              <a:ext cx="21700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3573360" y="3551400"/>
              <a:ext cx="203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Usulan Program Pengembang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89" name="AutoShape 5"/>
          <p:cNvGrpSpPr/>
          <p:nvPr/>
        </p:nvGrpSpPr>
        <p:grpSpPr>
          <a:xfrm>
            <a:off x="341280" y="5041800"/>
            <a:ext cx="3219480" cy="1303560"/>
            <a:chOff x="341280" y="5041800"/>
            <a:chExt cx="3219480" cy="1303560"/>
          </a:xfrm>
        </p:grpSpPr>
        <p:pic>
          <p:nvPicPr>
            <p:cNvPr id="1090" name="AutoShape 5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341280" y="5041800"/>
              <a:ext cx="321948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811080" y="5661000"/>
              <a:ext cx="21542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Usulan Program Pengembangan (Bab 4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92" name="Elbow Connector 21"/>
          <p:cNvCxnSpPr>
            <a:stCxn id="1087" idx="2"/>
            <a:endCxn id="1009" idx="0"/>
          </p:cNvCxnSpPr>
          <p:nvPr/>
        </p:nvCxnSpPr>
        <p:spPr>
          <a:xfrm flipH="1">
            <a:off x="4589280" y="4073040"/>
            <a:ext cx="2160" cy="13428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93" name="AutoShape 5"/>
          <p:cNvGrpSpPr/>
          <p:nvPr/>
        </p:nvGrpSpPr>
        <p:grpSpPr>
          <a:xfrm>
            <a:off x="414360" y="3943440"/>
            <a:ext cx="3286080" cy="1371600"/>
            <a:chOff x="414360" y="3943440"/>
            <a:chExt cx="3286080" cy="1371600"/>
          </a:xfrm>
        </p:grpSpPr>
        <p:pic>
          <p:nvPicPr>
            <p:cNvPr id="1094" name="AutoShape 5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414360" y="3943440"/>
              <a:ext cx="32860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822240" y="4683240"/>
              <a:ext cx="18417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Mekanisme Pelaksanaan</a:t>
              </a:r>
              <a:br>
                <a:rPr sz="1400"/>
              </a:b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(Bab 2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96" name="Elbow Connector 21"/>
          <p:cNvCxnSpPr>
            <a:endCxn id="1080" idx="1"/>
          </p:cNvCxnSpPr>
          <p:nvPr/>
        </p:nvCxnSpPr>
        <p:spPr>
          <a:xfrm flipV="1">
            <a:off x="5486040" y="4899960"/>
            <a:ext cx="1119960" cy="54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097" name="AutoShape 5"/>
          <p:cNvGrpSpPr/>
          <p:nvPr/>
        </p:nvGrpSpPr>
        <p:grpSpPr>
          <a:xfrm>
            <a:off x="6175440" y="5029200"/>
            <a:ext cx="2766960" cy="1042920"/>
            <a:chOff x="6175440" y="5029200"/>
            <a:chExt cx="2766960" cy="1042920"/>
          </a:xfrm>
        </p:grpSpPr>
        <p:pic>
          <p:nvPicPr>
            <p:cNvPr id="1098" name="AutoShape 5" descr="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6175440" y="5029200"/>
              <a:ext cx="2766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6597720" y="5532480"/>
              <a:ext cx="19288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Indikator Kinerja Utama (Bab 5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00" name="Text Box 7"/>
          <p:cNvGrpSpPr/>
          <p:nvPr/>
        </p:nvGrpSpPr>
        <p:grpSpPr>
          <a:xfrm>
            <a:off x="3529080" y="4595760"/>
            <a:ext cx="2170080" cy="646200"/>
            <a:chOff x="3529080" y="4595760"/>
            <a:chExt cx="2170080" cy="646200"/>
          </a:xfrm>
        </p:grpSpPr>
        <p:pic>
          <p:nvPicPr>
            <p:cNvPr id="1101" name="Text Box 7" descr=""/>
            <p:cNvPicPr/>
            <p:nvPr/>
          </p:nvPicPr>
          <p:blipFill>
            <a:blip r:embed="rId30"/>
            <a:stretch/>
          </p:blipFill>
          <p:spPr>
            <a:xfrm>
              <a:off x="3529080" y="4595760"/>
              <a:ext cx="2170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"/>
            <p:cNvSpPr/>
            <p:nvPr/>
          </p:nvSpPr>
          <p:spPr>
            <a:xfrm>
              <a:off x="3573360" y="4640760"/>
              <a:ext cx="203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Indikator Kinerja Aktivita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03" name="Elbow Connector 21"/>
          <p:cNvCxnSpPr>
            <a:stCxn id="1009" idx="2"/>
            <a:endCxn id="1101" idx="0"/>
          </p:cNvCxnSpPr>
          <p:nvPr/>
        </p:nvCxnSpPr>
        <p:spPr>
          <a:xfrm flipH="1">
            <a:off x="4589280" y="4514400"/>
            <a:ext cx="2160" cy="1357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9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Struktur Usulan Program Pengembanga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5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51D8-95CF-4B34-B7E2-F7FC56CA57E2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6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FD01-79AB-49AD-99CC-5BD837CBEB01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8" name="Text Placeholder 6"/>
          <p:cNvSpPr/>
          <p:nvPr/>
        </p:nvSpPr>
        <p:spPr>
          <a:xfrm>
            <a:off x="457200" y="1285920"/>
            <a:ext cx="836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lan Program Pengembangan disusun menurut struktur sebagai berikut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09" name="Content Placeholder 8"/>
          <p:cNvGrpSpPr/>
          <p:nvPr/>
        </p:nvGrpSpPr>
        <p:grpSpPr>
          <a:xfrm>
            <a:off x="523800" y="2133720"/>
            <a:ext cx="2664000" cy="4065480"/>
            <a:chOff x="523800" y="2133720"/>
            <a:chExt cx="2664000" cy="4065480"/>
          </a:xfrm>
        </p:grpSpPr>
        <p:pic>
          <p:nvPicPr>
            <p:cNvPr id="1110" name="Content Placeholder 8" descr=""/>
            <p:cNvPicPr/>
            <p:nvPr/>
          </p:nvPicPr>
          <p:blipFill>
            <a:blip r:embed="rId1"/>
            <a:stretch/>
          </p:blipFill>
          <p:spPr>
            <a:xfrm>
              <a:off x="523800" y="2133720"/>
              <a:ext cx="266400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46120" y="214956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A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…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12" name="Content Placeholder 8"/>
          <p:cNvGrpSpPr/>
          <p:nvPr/>
        </p:nvGrpSpPr>
        <p:grpSpPr>
          <a:xfrm>
            <a:off x="3309840" y="2127240"/>
            <a:ext cx="2657520" cy="4071960"/>
            <a:chOff x="3309840" y="2127240"/>
            <a:chExt cx="2657520" cy="4071960"/>
          </a:xfrm>
        </p:grpSpPr>
        <p:pic>
          <p:nvPicPr>
            <p:cNvPr id="1113" name="Content Placeholder 8" descr=""/>
            <p:cNvPicPr/>
            <p:nvPr/>
          </p:nvPicPr>
          <p:blipFill>
            <a:blip r:embed="rId2"/>
            <a:stretch/>
          </p:blipFill>
          <p:spPr>
            <a:xfrm>
              <a:off x="3309840" y="2127240"/>
              <a:ext cx="265752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"/>
            <p:cNvSpPr/>
            <p:nvPr/>
          </p:nvSpPr>
          <p:spPr>
            <a:xfrm>
              <a:off x="3327480" y="214956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B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…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15" name="Content Placeholder 8"/>
          <p:cNvGrpSpPr/>
          <p:nvPr/>
        </p:nvGrpSpPr>
        <p:grpSpPr>
          <a:xfrm>
            <a:off x="6089760" y="2127240"/>
            <a:ext cx="2657520" cy="4071960"/>
            <a:chOff x="6089760" y="2127240"/>
            <a:chExt cx="2657520" cy="4071960"/>
          </a:xfrm>
        </p:grpSpPr>
        <p:pic>
          <p:nvPicPr>
            <p:cNvPr id="1116" name="Content Placeholder 8" descr=""/>
            <p:cNvPicPr/>
            <p:nvPr/>
          </p:nvPicPr>
          <p:blipFill>
            <a:blip r:embed="rId3"/>
            <a:stretch/>
          </p:blipFill>
          <p:spPr>
            <a:xfrm>
              <a:off x="6089760" y="2127240"/>
              <a:ext cx="265752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6108840" y="214956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C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…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ktur Proposal Lengka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9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D7E-7A84-4EDC-B6DA-C4AD6BC104E2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4E6-8340-495A-9560-04A0CDB7AA70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Halaman judul/</a:t>
            </a:r>
            <a:r>
              <a:rPr b="1" i="1" lang="id-ID" sz="2200" spc="-1" strike="noStrike">
                <a:solidFill>
                  <a:srgbClr val="000000"/>
                </a:solidFill>
                <a:latin typeface="Gill Sans MT"/>
              </a:rPr>
              <a:t>co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Halaman identifikas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Halaman pengesah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Daftar is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Ringkasan eksekuti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Gill Sans MT"/>
              </a:rPr>
              <a:t>Bab 1: Rasional dan kontek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Gill Sans MT"/>
              </a:rPr>
              <a:t>Bab 2: Mekanisme pelaksanaan kegiatan di Perguruan Tinggi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ill Sans MT"/>
              </a:rPr>
              <a:t>Bab 3: Ringkasan Laporan evaluasi dir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Bab 4: Usulan program pengembang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Bab 5: Indikator kinerja utam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Bab 6: Rekapitulasi Anggar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Lampiran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Gill Sans MT"/>
              </a:rPr>
              <a:t>Laporan lengkap hasil evaluasi diri (dijilid terpisah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Bookman Old Style"/>
              </a:rPr>
              <a:t>Bab 2: Mekanisme pelaksanaan kegiatan di PT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0D8-1EC6-4D6F-BC6B-713940BA7A4C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18D-197B-429B-BB6F-8C1F122D3099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lam bab ini dijelaskan tentang fungsi dan struktur unit pelaksana progra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Gill Sans MT"/>
              </a:rPr>
              <a:t>P</a:t>
            </a:r>
            <a:r>
              <a:rPr b="0" lang="id-ID" sz="2900" spc="-1" strike="noStrike">
                <a:solidFill>
                  <a:srgbClr val="464653"/>
                </a:solidFill>
                <a:latin typeface="Gill Sans MT"/>
              </a:rPr>
              <a:t>enjelasan tentang organisasi pelaksanaan kegiatan, baik di tingkat institusi maupun di tingkat unit internal yang dilibatkan</a:t>
            </a:r>
            <a:r>
              <a:rPr b="0" lang="en-US" sz="29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9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Gill Sans MT"/>
              </a:rPr>
              <a:t>M</a:t>
            </a:r>
            <a:r>
              <a:rPr b="0" lang="id-ID" sz="2900" spc="-1" strike="noStrike">
                <a:solidFill>
                  <a:srgbClr val="464653"/>
                </a:solidFill>
                <a:latin typeface="Gill Sans MT"/>
              </a:rPr>
              <a:t>ekanisme koordinasi, serta mekanisme monitoring dan evaluasi internal. </a:t>
            </a:r>
            <a:endParaRPr b="0" lang="en-US" sz="29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464653"/>
                </a:solidFill>
                <a:latin typeface="Gill Sans MT"/>
              </a:rPr>
              <a:t>Mekanisme dan sistem pengelolaan keuangan</a:t>
            </a:r>
            <a:r>
              <a:rPr b="0" lang="en-US" sz="29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9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Gill Sans MT"/>
              </a:rPr>
              <a:t>S</a:t>
            </a:r>
            <a:r>
              <a:rPr b="0" lang="id-ID" sz="2900" spc="-1" strike="noStrike">
                <a:solidFill>
                  <a:srgbClr val="464653"/>
                </a:solidFill>
                <a:latin typeface="Gill Sans MT"/>
              </a:rPr>
              <a:t>istem pengadaan barang dan jasa yang terkait dengan pelaksanaan program</a:t>
            </a:r>
            <a:r>
              <a:rPr b="0" lang="en-US" sz="29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9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b 4: Usulan Program Pengembang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9" name="Date Placeholder 5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4262-471C-4AEC-B18F-5059A9466A78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60B7-F883-4642-84BD-7915AAA0D3D9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549360" y="1393920"/>
            <a:ext cx="8045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risi penjelasan masing-masing Tema program pengembangan dan unit internal terkait yang diusulka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skripsi rinci dari aktivitas yang akan diusulkan harus mengacu dan mencantumkan secara eksplisit acuan ke hasil evaluasi diri rinci dari unit internal terkai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arakteristik Aktivit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5786-F562-463B-A650-9976E7CECF2F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24B7-C4F1-4482-B571-593CA29C61A4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laksanaan aktivitas merupakan upaya untuk mencapai tujuan spesifi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ika seluruh aktivitas dapat dilaksanakan dengan baik, maka indikator kinerja utama diharapkan dapat dicapa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Aktivitas harus dideskripsikan dengan jelas, memberi keyakinan bahwa efektif untuk mencapai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uju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Aktivitas harus koheren antara satu dengan yang lainny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Tidak boleh ada tujuan yang bertentanga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incian Aktivit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9" name="Date Placeholder 5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4E9-9D5C-42B9-A2DD-00FB9081DADC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D67-CCB8-47B1-9436-7FA4C906A91D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549360" y="1393920"/>
            <a:ext cx="8045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dul Aktivitas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tar belaka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asional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uju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ekanisme dan Rancang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Jadwal Pelaksana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dikator kinerj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umberdaya dan dana yang dibutuhk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Keberlanjut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Unit terkai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enanggungjawab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dul Aktivitas 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ds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tar Belaka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C84-F0F1-4986-B828-D0F78905C090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168A-B4CF-43F4-ADED-DE5934A7DF36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Mengacu kepada hasil </a:t>
            </a:r>
            <a:r>
              <a:rPr b="0" lang="id-ID" sz="3300" spc="-1" strike="noStrike" u="sng">
                <a:solidFill>
                  <a:srgbClr val="000000"/>
                </a:solidFill>
                <a:uFillTx/>
                <a:latin typeface="Gill Sans MT"/>
              </a:rPr>
              <a:t>evaluasi diri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Gill Sans MT"/>
              </a:rPr>
              <a:t>unit internal terk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yang telah dilakukan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100" spc="-1" strike="noStrike">
                <a:solidFill>
                  <a:srgbClr val="464653"/>
                </a:solidFill>
                <a:latin typeface="Gill Sans MT"/>
              </a:rPr>
              <a:t>sebutkan masalah, kesimpulan dari </a:t>
            </a:r>
            <a:r>
              <a:rPr b="0" lang="id-ID" sz="3100" spc="-1" strike="noStrike" u="sng">
                <a:solidFill>
                  <a:srgbClr val="464653"/>
                </a:solidFill>
                <a:uFillTx/>
                <a:latin typeface="Gill Sans MT"/>
              </a:rPr>
              <a:t>evaluasi diri</a:t>
            </a:r>
            <a:r>
              <a:rPr b="0" lang="id-ID" sz="3100" spc="-1" strike="noStrike">
                <a:solidFill>
                  <a:srgbClr val="464653"/>
                </a:solidFill>
                <a:latin typeface="Gill Sans MT"/>
              </a:rPr>
              <a:t> yang terkait dengan kegiatan ini,</a:t>
            </a:r>
            <a:endParaRPr b="0" lang="en-US" sz="31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100" spc="-1" strike="noStrike">
                <a:solidFill>
                  <a:srgbClr val="464653"/>
                </a:solidFill>
                <a:latin typeface="Gill Sans MT"/>
              </a:rPr>
              <a:t>sebutkan “bab dalam </a:t>
            </a:r>
            <a:r>
              <a:rPr b="0" lang="id-ID" sz="3100" spc="-1" strike="noStrike" u="sng">
                <a:solidFill>
                  <a:srgbClr val="464653"/>
                </a:solidFill>
                <a:uFillTx/>
                <a:latin typeface="Gill Sans MT"/>
              </a:rPr>
              <a:t>evaluasi diri</a:t>
            </a:r>
            <a:r>
              <a:rPr b="0" lang="id-ID" sz="3100" spc="-1" strike="noStrike">
                <a:solidFill>
                  <a:srgbClr val="464653"/>
                </a:solidFill>
                <a:latin typeface="Gill Sans MT"/>
              </a:rPr>
              <a:t> yang terkait dengan kegiatan ini</a:t>
            </a:r>
            <a:r>
              <a:rPr b="0" lang="en-US" sz="3100" spc="-1" strike="noStrike">
                <a:solidFill>
                  <a:srgbClr val="464653"/>
                </a:solidFill>
                <a:latin typeface="Gill Sans MT"/>
              </a:rPr>
              <a:t>.</a:t>
            </a:r>
            <a:r>
              <a:rPr b="0" lang="id-ID" sz="3100" spc="-1" strike="noStrike">
                <a:solidFill>
                  <a:srgbClr val="464653"/>
                </a:solidFill>
                <a:latin typeface="Gill Sans MT"/>
              </a:rPr>
              <a:t>”</a:t>
            </a:r>
            <a:endParaRPr b="0" lang="en-US" sz="3100" spc="-1" strike="noStrike">
              <a:solidFill>
                <a:srgbClr val="464653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00000"/>
                </a:solidFill>
                <a:latin typeface="Gill Sans MT"/>
              </a:rPr>
              <a:t>Tidak terkait dengan Evaluasi Diri, masalah tiba-tiba muncul (tanpa justifikasi yang jelas).</a:t>
            </a:r>
            <a:endParaRPr b="0" lang="en-US" sz="31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00000"/>
                </a:solidFill>
                <a:latin typeface="Gill Sans MT"/>
              </a:rPr>
              <a:t>tidak spesifik menyatakan akar masalah yang ingin diselesaikan.</a:t>
            </a:r>
            <a:endParaRPr b="0" lang="en-US" sz="3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asion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9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503-FC82-4401-A784-36616ADC863F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855-3603-4625-90D3-B758B6BA2436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Alasan-alasan serta sebab-sebab mengapa kegiatan ini dilakukan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Jelaskan keterkaitan antara </a:t>
            </a:r>
            <a:r>
              <a:rPr b="0" lang="id-ID" sz="3300" spc="-1" strike="noStrike" u="sng">
                <a:solidFill>
                  <a:srgbClr val="000000"/>
                </a:solidFill>
                <a:uFillTx/>
                <a:latin typeface="Gill Sans MT"/>
              </a:rPr>
              <a:t>Latar Belakang</a:t>
            </a: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 dengan </a:t>
            </a:r>
            <a:r>
              <a:rPr b="0" lang="id-ID" sz="3300" spc="-1" strike="noStrike" u="sng">
                <a:solidFill>
                  <a:srgbClr val="000000"/>
                </a:solidFill>
                <a:uFillTx/>
                <a:latin typeface="Gill Sans MT"/>
              </a:rPr>
              <a:t>Tujuan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Jelaskan bagaimana aktivitas yang direncanakan dapat menyelesaikan masalah-masalah yang disebut dalam </a:t>
            </a:r>
            <a:r>
              <a:rPr b="0" lang="id-ID" sz="3300" spc="-1" strike="noStrike" u="sng">
                <a:solidFill>
                  <a:srgbClr val="000000"/>
                </a:solidFill>
                <a:uFillTx/>
                <a:latin typeface="Gill Sans MT"/>
              </a:rPr>
              <a:t>Latar Belakang</a:t>
            </a:r>
            <a:r>
              <a:rPr b="0" lang="id-ID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100" spc="-1" strike="noStrike">
                <a:solidFill>
                  <a:srgbClr val="c00000"/>
                </a:solidFill>
                <a:latin typeface="Gill Sans MT"/>
              </a:rPr>
              <a:t>Argumentasi tidak meyakinkan</a:t>
            </a:r>
            <a:r>
              <a:rPr b="0" lang="en-US" sz="31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31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00000"/>
                </a:solidFill>
                <a:latin typeface="Gill Sans MT"/>
              </a:rPr>
              <a:t>Hanya menjelaskan tujuan tanpa mengaitkan dengan Latar Belakang.</a:t>
            </a:r>
            <a:endParaRPr b="0" lang="en-US" sz="3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mbaran Besar Perencanaan Institus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2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35B-948B-4A34-AEE4-861D02215AD2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0280-2DC9-4591-A6C1-CDB3A52647FA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5" name="Line 2"/>
          <p:cNvSpPr/>
          <p:nvPr/>
        </p:nvSpPr>
        <p:spPr>
          <a:xfrm>
            <a:off x="685800" y="5286240"/>
            <a:ext cx="8077320" cy="0"/>
          </a:xfrm>
          <a:prstGeom prst="line">
            <a:avLst/>
          </a:prstGeom>
          <a:ln w="38160">
            <a:solidFill>
              <a:srgbClr val="b292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85800" y="1882800"/>
            <a:ext cx="8077320" cy="0"/>
          </a:xfrm>
          <a:prstGeom prst="line">
            <a:avLst/>
          </a:prstGeom>
          <a:ln w="38160">
            <a:solidFill>
              <a:srgbClr val="b292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67" name="Text Box 5"/>
          <p:cNvGrpSpPr/>
          <p:nvPr/>
        </p:nvGrpSpPr>
        <p:grpSpPr>
          <a:xfrm>
            <a:off x="1042920" y="4816440"/>
            <a:ext cx="2097000" cy="1011240"/>
            <a:chOff x="1042920" y="4816440"/>
            <a:chExt cx="2097000" cy="1011240"/>
          </a:xfrm>
        </p:grpSpPr>
        <p:pic>
          <p:nvPicPr>
            <p:cNvPr id="868" name="Text Box 5" descr=""/>
            <p:cNvPicPr/>
            <p:nvPr/>
          </p:nvPicPr>
          <p:blipFill>
            <a:blip r:embed="rId1"/>
            <a:stretch/>
          </p:blipFill>
          <p:spPr>
            <a:xfrm>
              <a:off x="1042920" y="4816440"/>
              <a:ext cx="20970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1143000" y="490932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e736a"/>
                  </a:solidFill>
                  <a:latin typeface="Arial Black"/>
                </a:rPr>
                <a:t>Situasi Sekarang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0" name="AutoShape 6"/>
          <p:cNvGrpSpPr/>
          <p:nvPr/>
        </p:nvGrpSpPr>
        <p:grpSpPr>
          <a:xfrm>
            <a:off x="3114720" y="2530440"/>
            <a:ext cx="3298680" cy="2479680"/>
            <a:chOff x="3114720" y="2530440"/>
            <a:chExt cx="3298680" cy="2479680"/>
          </a:xfrm>
        </p:grpSpPr>
        <p:pic>
          <p:nvPicPr>
            <p:cNvPr id="871" name="AutoShape 6" descr="White marble"/>
            <p:cNvPicPr/>
            <p:nvPr/>
          </p:nvPicPr>
          <p:blipFill>
            <a:blip r:embed="rId2"/>
            <a:stretch/>
          </p:blipFill>
          <p:spPr>
            <a:xfrm>
              <a:off x="3114720" y="2530440"/>
              <a:ext cx="329868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 rot="19493400">
              <a:off x="3557160" y="3282480"/>
              <a:ext cx="26290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464653"/>
                  </a:solidFill>
                  <a:latin typeface="Arial Black"/>
                </a:rPr>
                <a:t>langkah maju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3" name="Text Box 7"/>
          <p:cNvGrpSpPr/>
          <p:nvPr/>
        </p:nvGrpSpPr>
        <p:grpSpPr>
          <a:xfrm>
            <a:off x="6261120" y="1395360"/>
            <a:ext cx="2370240" cy="1013040"/>
            <a:chOff x="6261120" y="1395360"/>
            <a:chExt cx="2370240" cy="1013040"/>
          </a:xfrm>
        </p:grpSpPr>
        <p:pic>
          <p:nvPicPr>
            <p:cNvPr id="874" name="Text Box 7" descr=""/>
            <p:cNvPicPr/>
            <p:nvPr/>
          </p:nvPicPr>
          <p:blipFill>
            <a:blip r:embed="rId3"/>
            <a:stretch/>
          </p:blipFill>
          <p:spPr>
            <a:xfrm>
              <a:off x="6261120" y="1395360"/>
              <a:ext cx="23702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6342120" y="1490760"/>
              <a:ext cx="2138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38cae"/>
                  </a:solidFill>
                  <a:latin typeface="Arial Black"/>
                </a:rPr>
                <a:t>Situasi mendatang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876" name="Freeform 8"/>
          <p:cNvSpPr/>
          <p:nvPr/>
        </p:nvSpPr>
        <p:spPr>
          <a:xfrm>
            <a:off x="685800" y="1292400"/>
            <a:ext cx="8305920" cy="4586040"/>
          </a:xfrm>
          <a:prstGeom prst="pie">
            <a:avLst/>
          </a:prstGeom>
          <a:noFill/>
          <a:ln w="54000">
            <a:solidFill>
              <a:srgbClr val="800000"/>
            </a:solidFill>
            <a:round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7" name="Text Box 9"/>
          <p:cNvSpPr/>
          <p:nvPr/>
        </p:nvSpPr>
        <p:spPr>
          <a:xfrm>
            <a:off x="709920" y="114300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thograph"/>
              </a:rPr>
              <a:t>Kualit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8" name="Text Box 10"/>
          <p:cNvSpPr/>
          <p:nvPr/>
        </p:nvSpPr>
        <p:spPr>
          <a:xfrm>
            <a:off x="7804800" y="543888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thograph"/>
              </a:rPr>
              <a:t>Wakt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uju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D02D-B746-433F-9B07-DE17E279E55B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6CA-6A91-4C8A-8C78-BDE8F379E399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ujuan harus spesifik, terukur dan dapat dicapai sesuai jadwal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Kaitkan tujuan ini dengan tujuan utam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stitusi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Sebutkan </a:t>
            </a:r>
            <a:r>
              <a:rPr b="0" i="1" lang="id-ID" sz="2800" spc="-1" strike="noStrike">
                <a:solidFill>
                  <a:srgbClr val="000000"/>
                </a:solidFill>
                <a:latin typeface="Gill Sans MT"/>
              </a:rPr>
              <a:t>outcomes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yang dikehendak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terlalu umum;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misal</a:t>
            </a: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p</a:t>
            </a: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eningkatan kualitas lulusan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,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merupakan mekanisme, bukan tujuan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;  misal</a:t>
            </a: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p</a:t>
            </a: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eningkatan keterlibatan mahasiswa dalam penelitian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,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tidak terkait dengan masalah yang disampaikan pada latar belakang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,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tidak konsisten dengan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tema aktivitas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kanisme dan Rancang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9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5FD0-E31B-4BA5-BE1D-ECAAA841063E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3CE6-0FE1-4C5F-9798-B738D60D6000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Jelaskan rincian, tahapan, bagaimana aktivitas ini akan dilaksanak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Jelaskan sub-aktivitas yang akan dilakukan dalam mencapai tujuan yang telah ditentuk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Fokuskan kepada pencapaian indikator kinerja terka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Menjelaskan investasi, bukan aktivitas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Berupa </a:t>
            </a:r>
            <a:r>
              <a:rPr b="0" i="1" lang="id-ID" sz="2400" spc="-1" strike="noStrike">
                <a:solidFill>
                  <a:srgbClr val="c00000"/>
                </a:solidFill>
                <a:latin typeface="Gill Sans MT"/>
              </a:rPr>
              <a:t>pointers</a:t>
            </a: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 (tidak ada deskripsi)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Tidak terkait dengan tujuan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c00000"/>
                </a:solidFill>
                <a:latin typeface="Gill Sans MT"/>
              </a:rPr>
              <a:t>Deskripsi kompleks, berputar-putar dan sulit dimengerti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adwal Pelaksana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C91C-D064-4498-940F-9221A9E02AB4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B22-07EB-441D-96F6-82B565FA3D64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Tentukan rincian jadwal untuk tiap sub-aktivitas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Rencanakan rincian jadwal yang realistis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Sajikan jadwal tahunan selama waktu proyek (3 tahun)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612720" indent="-35064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300" spc="-1" strike="noStrike">
                <a:solidFill>
                  <a:srgbClr val="c00000"/>
                </a:solidFill>
                <a:latin typeface="Gill Sans MT"/>
              </a:rPr>
              <a:t>Jadwal tidak sesuai dengan mekanisme dan rancangan</a:t>
            </a:r>
            <a:r>
              <a:rPr b="0" lang="en-US" sz="3300" spc="-1" strike="noStrike">
                <a:solidFill>
                  <a:srgbClr val="c00000"/>
                </a:solidFill>
                <a:latin typeface="Gill Sans MT"/>
              </a:rPr>
              <a:t> yang diusulkan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2" marL="612720" indent="-35064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300" spc="-1" strike="noStrike">
                <a:solidFill>
                  <a:srgbClr val="c00000"/>
                </a:solidFill>
                <a:latin typeface="Gill Sans MT"/>
              </a:rPr>
              <a:t>Berisi jadwal investasi</a:t>
            </a:r>
            <a:r>
              <a:rPr b="0" lang="en-US" sz="33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dikator Kiner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9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AB1E-4814-4C12-AF34-B3193EE55A5F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67B7-40E7-4546-B149-2913A0DCB595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ebutkan target langsung dari aktivitas, setiap tahun selama program berlangsu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ndikator mengukur ketercapaian tujuan dari aktivitas yang dilaksanaka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arus terukur baik kuantitatif atau kualitatif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ndikator kinerja di awal program (Tahun 2007) disajikan pula, sebagai acuan melihat kemajuan yang diranca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Jelaskan cara mengukur masing-masing indikator kinerja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ajikan baik indikator utama maupun tambahan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lnSpc>
                <a:spcPct val="7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c00000"/>
                </a:solidFill>
                <a:latin typeface="Gill Sans MT"/>
              </a:rPr>
              <a:t>Tidak terkait atau relevan dengan tujuan atau aktivitas</a:t>
            </a:r>
            <a:r>
              <a:rPr b="0" lang="en-US" sz="23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lnSpc>
                <a:spcPct val="7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c00000"/>
                </a:solidFill>
                <a:latin typeface="Gill Sans MT"/>
              </a:rPr>
              <a:t>Menggunakan indi</a:t>
            </a:r>
            <a:r>
              <a:rPr b="0" lang="en-US" sz="2300" spc="-1" strike="noStrike">
                <a:solidFill>
                  <a:srgbClr val="c00000"/>
                </a:solidFill>
                <a:latin typeface="Gill Sans MT"/>
              </a:rPr>
              <a:t>k</a:t>
            </a:r>
            <a:r>
              <a:rPr b="0" lang="id-ID" sz="2300" spc="-1" strike="noStrike">
                <a:solidFill>
                  <a:srgbClr val="c00000"/>
                </a:solidFill>
                <a:latin typeface="Gill Sans MT"/>
              </a:rPr>
              <a:t>ator utama</a:t>
            </a:r>
            <a:r>
              <a:rPr b="0" lang="en-US" sz="2300" spc="-1" strike="noStrike">
                <a:solidFill>
                  <a:srgbClr val="c00000"/>
                </a:solidFill>
                <a:latin typeface="Gill Sans MT"/>
              </a:rPr>
              <a:t>; besar kemungkinan i</a:t>
            </a:r>
            <a:r>
              <a:rPr b="0" lang="id-ID" sz="2300" spc="-1" strike="noStrike">
                <a:solidFill>
                  <a:srgbClr val="c00000"/>
                </a:solidFill>
                <a:latin typeface="Gill Sans MT"/>
              </a:rPr>
              <a:t>ndikator utama tidak akan dicapai oleh hanya satu aktivitas</a:t>
            </a:r>
            <a:r>
              <a:rPr b="0" lang="en-US" sz="23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berdaya yang dibutuhk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E547-5BEB-431E-A0F0-02B01FCE3F6E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F504-8345-4BFC-8E36-E048224D8942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Sebutkan sumberdaya yang diperlukan untuk melaksanakan aktivit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Kaitkan antara sumberdaya dengan sub-aktivitas dalam “Mekanisme dan Rancangan.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Prakirakan dana yang dibutuhkan untuk masing-masing sumberdaya diat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Pendanaan ganda untuk satu aktivitas harus dihindar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Jumlah dana total yang dibutuhkan merupakan jumlah RAB masing-masing aktivitas bukan jumlah yang dibuat mendekati pagu maksimum dana tersedi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c00000"/>
                </a:solidFill>
                <a:latin typeface="Gill Sans MT"/>
              </a:rPr>
              <a:t>Tidak relevan dengan aktivitas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;  p</a:t>
            </a:r>
            <a:r>
              <a:rPr b="0" lang="id-ID" sz="2000" spc="-1" strike="noStrike">
                <a:solidFill>
                  <a:srgbClr val="c00000"/>
                </a:solidFill>
                <a:latin typeface="Gill Sans MT"/>
              </a:rPr>
              <a:t>eralatan yang tidak relevan atau tidak perlu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c00000"/>
                </a:solidFill>
                <a:latin typeface="Gill Sans MT"/>
              </a:rPr>
              <a:t>Tidak efisien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; m</a:t>
            </a:r>
            <a:r>
              <a:rPr b="0" lang="id-ID" sz="2000" spc="-1" strike="noStrike">
                <a:solidFill>
                  <a:srgbClr val="c00000"/>
                </a:solidFill>
                <a:latin typeface="Gill Sans MT"/>
              </a:rPr>
              <a:t>engirim 10 staff untuk training materi yang sama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eberlanjut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9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C77-EF35-425E-AD64-6084233F95C3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7E58-81D3-4B54-BD24-C9A5FBC022A7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elaskan bagaimana aktivitas ini dapat terus berlanjut setelah proyek selesai. Bagaimana rancangan integrasi ke unit-unit rut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pek dana untuk mendukung aktivitas ini perlu dibah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nt: … ada aktivitas yang dapat masih terus berlangsung tanpa perlu dana dalam jumlah besar 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c00000"/>
                </a:solidFill>
                <a:latin typeface="Gill Sans MT"/>
              </a:rPr>
              <a:t>Menyederhanakan dan terlalu fokus pada aspek finansial.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c00000"/>
                </a:solidFill>
                <a:latin typeface="Gill Sans MT"/>
              </a:rPr>
              <a:t>Hanya mendeskripsikan kondisi-kondisi yang harus ada supaya keberlanjutan tercapai.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nit Terka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4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EC2-BC3B-4C23-BFE0-D4F07D770EF8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5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1F15-CC91-4688-81AE-AB3E8D3E72A4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6560" indent="-466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Sebutkan unit atau program studi dimana aktivitas ini akan diterapkan, sesuai dengan masalah yang diungkap dalam evaluasi diri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enanggung Jawab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9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74BF-2D2A-43EC-893A-6B72AA7C9F4F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0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1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13C-6224-4B18-82B3-B81EBB59DC00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Setiap aktivitas harus ada minimal seorang penanggung jawab.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Penanggung jawab harus menguasai aktivitas yang diusulkan.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Bertanggung jawab atas pelaksanaan aktivitas.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00000"/>
                </a:solidFill>
                <a:latin typeface="Gill Sans MT"/>
              </a:rPr>
              <a:t>Kesalahan umum: 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00000"/>
                </a:solidFill>
                <a:latin typeface="Gill Sans MT"/>
              </a:rPr>
              <a:t>Penanggung jawab aktivitas tidak menguasai aktivitasnya.</a:t>
            </a:r>
            <a:endParaRPr b="0" lang="en-US" sz="38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Title 6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ps penyusunan aktivitas pada Proposal Lengka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0E5D-2C48-4BEC-B151-DA996D7E3F20}" type="datetime">
              <a:rPr b="0" lang="en-US" sz="1200" spc="-1" strike="noStrike">
                <a:solidFill>
                  <a:srgbClr val="d1eaee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6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DF53-74D2-4471-968B-1D9442BF648D}" type="slidenum">
              <a:rPr b="0" lang="id-ID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arakteristik Aktivitas yang bai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306-AB81-4680-9D80-233A90C249DC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0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002-FB6B-40F8-8D56-B51ED5D73660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dasarkan pada hasil evaluasi diri yang komprehen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menuhi misi dan tujuan institu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elas dan komprehe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ri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Latar Belakang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mpai deng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Keberlanjut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jelas keterkaitanny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ea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B, sumberdaya, jadwal saling sesua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rlanj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anya perbaikan yang sistematis d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rciptanya kebiasaan-kebiasaan bai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ses Pengembangan Institus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80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EE5F-84FC-4426-9B62-E1418614FEA7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0B1-2F81-427F-B4BE-E1D3BF55F6C3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3" name="Freeform 3"/>
          <p:cNvSpPr/>
          <p:nvPr/>
        </p:nvSpPr>
        <p:spPr>
          <a:xfrm>
            <a:off x="457200" y="4902120"/>
            <a:ext cx="7848720" cy="990720"/>
          </a:xfrm>
          <a:prstGeom prst="pie">
            <a:avLst/>
          </a:prstGeom>
          <a:noFill/>
          <a:ln w="38160">
            <a:solidFill>
              <a:srgbClr val="955e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5520960" y="4572000"/>
            <a:ext cx="27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3f32"/>
                </a:solidFill>
                <a:latin typeface="Arial"/>
              </a:rPr>
              <a:t>tanpa  evaluasi diri (ED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5" name="Freeform 5"/>
          <p:cNvSpPr/>
          <p:nvPr/>
        </p:nvSpPr>
        <p:spPr>
          <a:xfrm>
            <a:off x="457200" y="3759120"/>
            <a:ext cx="7848720" cy="1803600"/>
          </a:xfrm>
          <a:prstGeom prst="pie">
            <a:avLst/>
          </a:prstGeom>
          <a:noFill/>
          <a:ln w="38160">
            <a:solidFill>
              <a:srgbClr val="5286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4525560" y="3095640"/>
            <a:ext cx="37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8693"/>
                </a:solidFill>
                <a:latin typeface="Arial"/>
              </a:rPr>
              <a:t>dengan  ED da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8693"/>
                </a:solidFill>
                <a:latin typeface="Arial"/>
              </a:rPr>
              <a:t>sumberdaya dari institusi sendir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7" name="Freeform 7"/>
          <p:cNvSpPr/>
          <p:nvPr/>
        </p:nvSpPr>
        <p:spPr>
          <a:xfrm>
            <a:off x="457200" y="1959120"/>
            <a:ext cx="7848720" cy="3603600"/>
          </a:xfrm>
          <a:prstGeom prst="pie">
            <a:avLst/>
          </a:prstGeom>
          <a:noFill/>
          <a:ln w="38160">
            <a:solidFill>
              <a:srgbClr val="955e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8" name="Text Box 8"/>
          <p:cNvSpPr/>
          <p:nvPr/>
        </p:nvSpPr>
        <p:spPr>
          <a:xfrm>
            <a:off x="4741920" y="1258920"/>
            <a:ext cx="35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3f32"/>
                </a:solidFill>
                <a:latin typeface="Arial"/>
              </a:rPr>
              <a:t>dengan  ED da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3f32"/>
                </a:solidFill>
                <a:latin typeface="Arial"/>
              </a:rPr>
              <a:t>tambahan  dana dari pihak lua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89" name="Group 10"/>
          <p:cNvGrpSpPr/>
          <p:nvPr/>
        </p:nvGrpSpPr>
        <p:grpSpPr>
          <a:xfrm>
            <a:off x="457200" y="1292400"/>
            <a:ext cx="8306640" cy="4960800"/>
            <a:chOff x="457200" y="1292400"/>
            <a:chExt cx="8306640" cy="4960800"/>
          </a:xfrm>
        </p:grpSpPr>
        <p:sp>
          <p:nvSpPr>
            <p:cNvPr id="890" name="Line 11"/>
            <p:cNvSpPr/>
            <p:nvPr/>
          </p:nvSpPr>
          <p:spPr>
            <a:xfrm>
              <a:off x="457200" y="5549400"/>
              <a:ext cx="8077320" cy="0"/>
            </a:xfrm>
            <a:prstGeom prst="line">
              <a:avLst/>
            </a:prstGeom>
            <a:ln w="38160">
              <a:solidFill>
                <a:srgbClr val="7d852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1" name="Line 12"/>
            <p:cNvSpPr/>
            <p:nvPr/>
          </p:nvSpPr>
          <p:spPr>
            <a:xfrm>
              <a:off x="457200" y="2275920"/>
              <a:ext cx="8077320" cy="0"/>
            </a:xfrm>
            <a:prstGeom prst="line">
              <a:avLst/>
            </a:prstGeom>
            <a:ln w="38160">
              <a:solidFill>
                <a:srgbClr val="b292c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92" name="Text Box 13"/>
            <p:cNvGrpSpPr/>
            <p:nvPr/>
          </p:nvGrpSpPr>
          <p:grpSpPr>
            <a:xfrm>
              <a:off x="554040" y="5358960"/>
              <a:ext cx="1792440" cy="414000"/>
              <a:chOff x="554040" y="5358960"/>
              <a:chExt cx="1792440" cy="414000"/>
            </a:xfrm>
          </p:grpSpPr>
          <p:pic>
            <p:nvPicPr>
              <p:cNvPr id="893" name="Text Box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4040" y="5358960"/>
                <a:ext cx="179244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>
                <a:off x="648360" y="5405040"/>
                <a:ext cx="165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63de8"/>
                    </a:solidFill>
                    <a:latin typeface="Arial Black"/>
                  </a:rPr>
                  <a:t>Situasi Sekarang</a:t>
                </a:r>
                <a:endParaRPr b="0" lang="en-US" sz="1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95" name="Text Box 14"/>
            <p:cNvGrpSpPr/>
            <p:nvPr/>
          </p:nvGrpSpPr>
          <p:grpSpPr>
            <a:xfrm>
              <a:off x="6754680" y="2060640"/>
              <a:ext cx="1962360" cy="407880"/>
              <a:chOff x="6754680" y="2060640"/>
              <a:chExt cx="1962360" cy="407880"/>
            </a:xfrm>
          </p:grpSpPr>
          <p:pic>
            <p:nvPicPr>
              <p:cNvPr id="896" name="Text Box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754680" y="2060640"/>
                <a:ext cx="1962360" cy="4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"/>
              <p:cNvSpPr/>
              <p:nvPr/>
            </p:nvSpPr>
            <p:spPr>
              <a:xfrm>
                <a:off x="6782040" y="2130480"/>
                <a:ext cx="182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727ca3"/>
                    </a:solidFill>
                    <a:latin typeface="Arial Black"/>
                  </a:rPr>
                  <a:t>Situasi Mendatang</a:t>
                </a:r>
                <a:endParaRPr b="0" lang="en-US" sz="12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98" name="Freeform 15"/>
            <p:cNvSpPr/>
            <p:nvPr/>
          </p:nvSpPr>
          <p:spPr>
            <a:xfrm>
              <a:off x="457200" y="1314720"/>
              <a:ext cx="8305920" cy="4926600"/>
            </a:xfrm>
            <a:prstGeom prst="pie">
              <a:avLst/>
            </a:prstGeom>
            <a:noFill/>
            <a:ln w="54000">
              <a:solidFill>
                <a:srgbClr val="800000"/>
              </a:solidFill>
              <a:round/>
              <a:headEnd len="sm" type="stealth" w="med"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9" name="Text Box 16"/>
            <p:cNvSpPr/>
            <p:nvPr/>
          </p:nvSpPr>
          <p:spPr>
            <a:xfrm>
              <a:off x="481320" y="12924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ithograph"/>
                </a:rPr>
                <a:t>Kualitas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0" name="Text Box 17"/>
            <p:cNvSpPr/>
            <p:nvPr/>
          </p:nvSpPr>
          <p:spPr>
            <a:xfrm>
              <a:off x="7576200" y="5793480"/>
              <a:ext cx="11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ithograph"/>
                </a:rPr>
                <a:t>Waktu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nyusunan Aktivi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a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pa tujuan kegiat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pa dampak kegiat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y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ngapa kegiatan ini diadak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ngapa kegiatan ini penting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e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Kapan kegiatan ini dimulai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Kapan kegiatan ini berakhi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How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agaimana kegiatan ini dimulai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agaimana sumberdaya dikerahk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imana (dalam struktur organisasi) kegiatan akan dilaksanakan? (unit organisasi mana yang paling terlibat ?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iapa yang berperan kunci (</a:t>
            </a:r>
            <a:r>
              <a:rPr b="0" i="1" lang="en-US" sz="1900" spc="-1" strike="noStrike">
                <a:solidFill>
                  <a:srgbClr val="ff0000"/>
                </a:solidFill>
                <a:latin typeface="Constantia"/>
              </a:rPr>
              <a:t>key-actor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) dalam kegiatan 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4AC4-7037-4B35-8C88-B56CFE3C97ED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C7DE-F2B8-48DC-A5A5-4FCD532A1FF3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2000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2000"/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1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1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1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1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000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2000"/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Date Placeholder 4"/>
          <p:cNvSpPr/>
          <p:nvPr/>
        </p:nvSpPr>
        <p:spPr>
          <a:xfrm>
            <a:off x="281952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97CA-05A1-4058-A5F8-41AA423D3F3C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0" name="Footer Placeholder 5"/>
          <p:cNvSpPr/>
          <p:nvPr/>
        </p:nvSpPr>
        <p:spPr>
          <a:xfrm>
            <a:off x="4267080" y="648828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1" name="Slide Number Placeholder 6"/>
          <p:cNvSpPr/>
          <p:nvPr/>
        </p:nvSpPr>
        <p:spPr>
          <a:xfrm>
            <a:off x="731520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DCD-9060-4B0B-9F9A-24C5245D2821}" type="slidenum">
              <a:rPr b="0" lang="en-US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2" name="Rectangle 104"/>
          <p:cNvSpPr/>
          <p:nvPr/>
        </p:nvSpPr>
        <p:spPr>
          <a:xfrm>
            <a:off x="2281320" y="1376280"/>
            <a:ext cx="3477960" cy="2225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3" name="Freeform 146"/>
          <p:cNvSpPr/>
          <p:nvPr/>
        </p:nvSpPr>
        <p:spPr>
          <a:xfrm>
            <a:off x="1590840" y="1542960"/>
            <a:ext cx="4697280" cy="1089000"/>
          </a:xfrm>
          <a:prstGeom prst="pie">
            <a:avLst/>
          </a:prstGeom>
          <a:solidFill>
            <a:srgbClr val="21979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ncian Aktivi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3736440"/>
            <a:ext cx="815328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atar belaka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Rasional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Tuju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Mekanisme dan Rancang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Indikator kinerja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id-ID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mberdaya dan dana yang dibutuhk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jadwal Pelaksana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Keberlanjut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Penanggungjawa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onstantia"/>
              </a:rPr>
              <a:t>Catatan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: SP </a:t>
            </a:r>
            <a:r>
              <a:rPr b="0" lang="id-ID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sub-proses, sub-kegiatan; </a:t>
            </a:r>
            <a:r>
              <a:rPr b="0" lang="id-ID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sub-proses terpilih; 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sumberdaya dan dana yang dibutuhkan harus sesuai dengan </a:t>
            </a:r>
            <a:r>
              <a:rPr b="0" i="1" lang="id-ID" sz="1800" spc="-1" strike="noStrike">
                <a:solidFill>
                  <a:srgbClr val="000000"/>
                </a:solidFill>
                <a:latin typeface="Constantia"/>
              </a:rPr>
              <a:t>komponen proyek yang diijinkan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6" name="Oval 103"/>
          <p:cNvSpPr/>
          <p:nvPr/>
        </p:nvSpPr>
        <p:spPr>
          <a:xfrm>
            <a:off x="453960" y="2112840"/>
            <a:ext cx="1567080" cy="752760"/>
          </a:xfrm>
          <a:prstGeom prst="ellipse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/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7" name="AutoShape 105"/>
          <p:cNvSpPr/>
          <p:nvPr/>
        </p:nvSpPr>
        <p:spPr>
          <a:xfrm>
            <a:off x="5946840" y="2330280"/>
            <a:ext cx="852480" cy="319320"/>
          </a:xfrm>
          <a:prstGeom prst="flowChartAlternateProcess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8" name="Oval 106"/>
          <p:cNvSpPr/>
          <p:nvPr/>
        </p:nvSpPr>
        <p:spPr>
          <a:xfrm>
            <a:off x="7134120" y="2268360"/>
            <a:ext cx="1422360" cy="441360"/>
          </a:xfrm>
          <a:prstGeom prst="ellipse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219" name="AutoShape 107"/>
          <p:cNvCxnSpPr>
            <a:stCxn id="1216" idx="6"/>
            <a:endCxn id="1212" idx="1"/>
          </p:cNvCxnSpPr>
          <p:nvPr/>
        </p:nvCxnSpPr>
        <p:spPr>
          <a:xfrm>
            <a:off x="2020680" y="2488680"/>
            <a:ext cx="26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0" name="AutoShape 108"/>
          <p:cNvCxnSpPr>
            <a:stCxn id="1221" idx="6"/>
            <a:endCxn id="1217" idx="1"/>
          </p:cNvCxnSpPr>
          <p:nvPr/>
        </p:nvCxnSpPr>
        <p:spPr>
          <a:xfrm>
            <a:off x="5555880" y="2488680"/>
            <a:ext cx="391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AutoShape 109"/>
          <p:cNvCxnSpPr>
            <a:stCxn id="1217" idx="3"/>
            <a:endCxn id="1218" idx="2"/>
          </p:cNvCxnSpPr>
          <p:nvPr/>
        </p:nvCxnSpPr>
        <p:spPr>
          <a:xfrm flipV="1">
            <a:off x="6799320" y="2488320"/>
            <a:ext cx="335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3" name="Text Box 110"/>
          <p:cNvSpPr/>
          <p:nvPr/>
        </p:nvSpPr>
        <p:spPr>
          <a:xfrm>
            <a:off x="603360" y="1765440"/>
            <a:ext cx="41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Œ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4" name="Text Box 111"/>
          <p:cNvSpPr/>
          <p:nvPr/>
        </p:nvSpPr>
        <p:spPr>
          <a:xfrm>
            <a:off x="2100240" y="1044720"/>
            <a:ext cx="41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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5" name="Text Box 112"/>
          <p:cNvSpPr/>
          <p:nvPr/>
        </p:nvSpPr>
        <p:spPr>
          <a:xfrm>
            <a:off x="6535800" y="1862280"/>
            <a:ext cx="41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Ž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6" name="Oval 113"/>
          <p:cNvSpPr/>
          <p:nvPr/>
        </p:nvSpPr>
        <p:spPr>
          <a:xfrm>
            <a:off x="2622600" y="1706400"/>
            <a:ext cx="43488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7" name="Oval 114"/>
          <p:cNvSpPr/>
          <p:nvPr/>
        </p:nvSpPr>
        <p:spPr>
          <a:xfrm>
            <a:off x="2585880" y="2286000"/>
            <a:ext cx="43524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8" name="Oval 115"/>
          <p:cNvSpPr/>
          <p:nvPr/>
        </p:nvSpPr>
        <p:spPr>
          <a:xfrm>
            <a:off x="2579760" y="305280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9" name="Oval 116"/>
          <p:cNvSpPr/>
          <p:nvPr/>
        </p:nvSpPr>
        <p:spPr>
          <a:xfrm>
            <a:off x="3297240" y="230040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0" name="Oval 117"/>
          <p:cNvSpPr/>
          <p:nvPr/>
        </p:nvSpPr>
        <p:spPr>
          <a:xfrm>
            <a:off x="4151160" y="2314440"/>
            <a:ext cx="43344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1" name="Oval 118"/>
          <p:cNvSpPr/>
          <p:nvPr/>
        </p:nvSpPr>
        <p:spPr>
          <a:xfrm>
            <a:off x="4735440" y="1706400"/>
            <a:ext cx="43488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1" name="Oval 119"/>
          <p:cNvSpPr/>
          <p:nvPr/>
        </p:nvSpPr>
        <p:spPr>
          <a:xfrm>
            <a:off x="5121360" y="2271600"/>
            <a:ext cx="4348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2" name="Oval 120"/>
          <p:cNvSpPr/>
          <p:nvPr/>
        </p:nvSpPr>
        <p:spPr>
          <a:xfrm>
            <a:off x="3274920" y="1446120"/>
            <a:ext cx="43344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3" name="Oval 121"/>
          <p:cNvSpPr/>
          <p:nvPr/>
        </p:nvSpPr>
        <p:spPr>
          <a:xfrm>
            <a:off x="3317760" y="303840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4" name="Oval 122"/>
          <p:cNvSpPr/>
          <p:nvPr/>
        </p:nvSpPr>
        <p:spPr>
          <a:xfrm>
            <a:off x="4027320" y="295128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5" name="Oval 123"/>
          <p:cNvSpPr/>
          <p:nvPr/>
        </p:nvSpPr>
        <p:spPr>
          <a:xfrm>
            <a:off x="4041720" y="147492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6" name="Oval 124"/>
          <p:cNvSpPr/>
          <p:nvPr/>
        </p:nvSpPr>
        <p:spPr>
          <a:xfrm>
            <a:off x="4778280" y="2835360"/>
            <a:ext cx="4352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237" name="AutoShape 125"/>
          <p:cNvCxnSpPr>
            <a:stCxn id="1212" idx="1"/>
            <a:endCxn id="1226" idx="3"/>
          </p:cNvCxnSpPr>
          <p:nvPr/>
        </p:nvCxnSpPr>
        <p:spPr>
          <a:xfrm flipV="1">
            <a:off x="2280960" y="2077560"/>
            <a:ext cx="407160" cy="411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8" name="AutoShape 126"/>
          <p:cNvCxnSpPr>
            <a:stCxn id="1212" idx="1"/>
            <a:endCxn id="1227" idx="2"/>
          </p:cNvCxnSpPr>
          <p:nvPr/>
        </p:nvCxnSpPr>
        <p:spPr>
          <a:xfrm>
            <a:off x="2281320" y="2489040"/>
            <a:ext cx="30528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9" name="AutoShape 127"/>
          <p:cNvCxnSpPr>
            <a:stCxn id="1212" idx="1"/>
            <a:endCxn id="1228" idx="1"/>
          </p:cNvCxnSpPr>
          <p:nvPr/>
        </p:nvCxnSpPr>
        <p:spPr>
          <a:xfrm>
            <a:off x="2280960" y="2489040"/>
            <a:ext cx="362520" cy="627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AutoShape 128"/>
          <p:cNvCxnSpPr>
            <a:stCxn id="1227" idx="7"/>
            <a:endCxn id="1232" idx="3"/>
          </p:cNvCxnSpPr>
          <p:nvPr/>
        </p:nvCxnSpPr>
        <p:spPr>
          <a:xfrm flipV="1">
            <a:off x="2957040" y="1816920"/>
            <a:ext cx="381960" cy="5324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AutoShape 129"/>
          <p:cNvCxnSpPr>
            <a:stCxn id="1232" idx="6"/>
            <a:endCxn id="1235" idx="2"/>
          </p:cNvCxnSpPr>
          <p:nvPr/>
        </p:nvCxnSpPr>
        <p:spPr>
          <a:xfrm>
            <a:off x="3708360" y="1663560"/>
            <a:ext cx="334080" cy="295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AutoShape 130"/>
          <p:cNvCxnSpPr>
            <a:stCxn id="1228" idx="6"/>
            <a:endCxn id="1233" idx="2"/>
          </p:cNvCxnSpPr>
          <p:nvPr/>
        </p:nvCxnSpPr>
        <p:spPr>
          <a:xfrm flipV="1">
            <a:off x="3013200" y="3255480"/>
            <a:ext cx="305280" cy="15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3" name="AutoShape 131"/>
          <p:cNvCxnSpPr>
            <a:stCxn id="1227" idx="6"/>
            <a:endCxn id="1229" idx="2"/>
          </p:cNvCxnSpPr>
          <p:nvPr/>
        </p:nvCxnSpPr>
        <p:spPr>
          <a:xfrm>
            <a:off x="3020760" y="2503440"/>
            <a:ext cx="27684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4" name="AutoShape 132"/>
          <p:cNvCxnSpPr>
            <a:stCxn id="1226" idx="7"/>
            <a:endCxn id="1232" idx="2"/>
          </p:cNvCxnSpPr>
          <p:nvPr/>
        </p:nvCxnSpPr>
        <p:spPr>
          <a:xfrm flipV="1">
            <a:off x="2994120" y="1663200"/>
            <a:ext cx="281520" cy="107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5" name="AutoShape 133"/>
          <p:cNvCxnSpPr>
            <a:stCxn id="1227" idx="5"/>
            <a:endCxn id="1233" idx="1"/>
          </p:cNvCxnSpPr>
          <p:nvPr/>
        </p:nvCxnSpPr>
        <p:spPr>
          <a:xfrm>
            <a:off x="2957400" y="2655720"/>
            <a:ext cx="424800" cy="447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6" name="AutoShape 134"/>
          <p:cNvCxnSpPr>
            <a:stCxn id="1232" idx="5"/>
            <a:endCxn id="1230" idx="1"/>
          </p:cNvCxnSpPr>
          <p:nvPr/>
        </p:nvCxnSpPr>
        <p:spPr>
          <a:xfrm>
            <a:off x="3644640" y="1817280"/>
            <a:ext cx="570600" cy="5612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7" name="AutoShape 135"/>
          <p:cNvCxnSpPr>
            <a:stCxn id="1229" idx="5"/>
            <a:endCxn id="1234" idx="1"/>
          </p:cNvCxnSpPr>
          <p:nvPr/>
        </p:nvCxnSpPr>
        <p:spPr>
          <a:xfrm>
            <a:off x="3666960" y="2669760"/>
            <a:ext cx="424800" cy="3452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8" name="AutoShape 136"/>
          <p:cNvCxnSpPr>
            <a:stCxn id="1229" idx="6"/>
            <a:endCxn id="1230" idx="2"/>
          </p:cNvCxnSpPr>
          <p:nvPr/>
        </p:nvCxnSpPr>
        <p:spPr>
          <a:xfrm>
            <a:off x="3730680" y="2517840"/>
            <a:ext cx="421200" cy="15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9" name="AutoShape 137"/>
          <p:cNvCxnSpPr>
            <a:stCxn id="1233" idx="6"/>
            <a:endCxn id="1234" idx="2"/>
          </p:cNvCxnSpPr>
          <p:nvPr/>
        </p:nvCxnSpPr>
        <p:spPr>
          <a:xfrm flipV="1">
            <a:off x="3750840" y="3168360"/>
            <a:ext cx="276840" cy="87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0" name="AutoShape 138"/>
          <p:cNvCxnSpPr>
            <a:stCxn id="1235" idx="6"/>
            <a:endCxn id="1231" idx="1"/>
          </p:cNvCxnSpPr>
          <p:nvPr/>
        </p:nvCxnSpPr>
        <p:spPr>
          <a:xfrm>
            <a:off x="4475160" y="1692360"/>
            <a:ext cx="32472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1" name="AutoShape 139"/>
          <p:cNvCxnSpPr>
            <a:stCxn id="1231" idx="5"/>
            <a:endCxn id="1221" idx="0"/>
          </p:cNvCxnSpPr>
          <p:nvPr/>
        </p:nvCxnSpPr>
        <p:spPr>
          <a:xfrm>
            <a:off x="5106960" y="2077920"/>
            <a:ext cx="2325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2" name="AutoShape 140"/>
          <p:cNvCxnSpPr>
            <a:stCxn id="1234" idx="6"/>
            <a:endCxn id="1236" idx="2"/>
          </p:cNvCxnSpPr>
          <p:nvPr/>
        </p:nvCxnSpPr>
        <p:spPr>
          <a:xfrm flipV="1">
            <a:off x="4460760" y="3052440"/>
            <a:ext cx="317880" cy="11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3" name="AutoShape 141"/>
          <p:cNvCxnSpPr>
            <a:stCxn id="1236" idx="7"/>
            <a:endCxn id="1221" idx="4"/>
          </p:cNvCxnSpPr>
          <p:nvPr/>
        </p:nvCxnSpPr>
        <p:spPr>
          <a:xfrm flipV="1">
            <a:off x="5149440" y="2704320"/>
            <a:ext cx="189720" cy="1962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142"/>
          <p:cNvCxnSpPr>
            <a:stCxn id="1230" idx="6"/>
            <a:endCxn id="1221" idx="2"/>
          </p:cNvCxnSpPr>
          <p:nvPr/>
        </p:nvCxnSpPr>
        <p:spPr>
          <a:xfrm flipV="1">
            <a:off x="4584240" y="2488680"/>
            <a:ext cx="537480" cy="439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143"/>
          <p:cNvCxnSpPr>
            <a:stCxn id="1230" idx="7"/>
            <a:endCxn id="1231" idx="3"/>
          </p:cNvCxnSpPr>
          <p:nvPr/>
        </p:nvCxnSpPr>
        <p:spPr>
          <a:xfrm flipV="1">
            <a:off x="4521240" y="2077920"/>
            <a:ext cx="278280" cy="3006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144"/>
          <p:cNvCxnSpPr>
            <a:stCxn id="1230" idx="5"/>
            <a:endCxn id="1236" idx="1"/>
          </p:cNvCxnSpPr>
          <p:nvPr/>
        </p:nvCxnSpPr>
        <p:spPr>
          <a:xfrm>
            <a:off x="4520880" y="2685960"/>
            <a:ext cx="322920" cy="215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145"/>
          <p:cNvCxnSpPr>
            <a:stCxn id="1229" idx="7"/>
            <a:endCxn id="1235" idx="3"/>
          </p:cNvCxnSpPr>
          <p:nvPr/>
        </p:nvCxnSpPr>
        <p:spPr>
          <a:xfrm flipV="1">
            <a:off x="3666960" y="1845720"/>
            <a:ext cx="43920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oh Tema 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ma 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Kapasitas institusi dan manajemen P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sues dalam Evaluasi Dir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RS dan KHS selalu terlambat karena aliran data tidak lancar dan belum terta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nataan lalulintas data akademik yang melibatkan unit-unit terka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FBB-2CDE-439C-A055-0E3E2FB06567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590-87A1-4F91-ADFC-CE08EFA7BD50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oh Tema 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ema 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Mutu, relevansi dan efisien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sues dalam Evaluasi Di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sa studi tinggi, proporsi mahasiswa mengulang tingg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ya saing rendah karena kurangnya keahlian d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oftski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ustri lokal mengharapkan universitas meningkatkan layan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ngembangan metode pengajaran inovati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gintegrasik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oftski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ke dalam kurik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ningkatan riset terap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18F-584E-4E29-A41F-8C6359856396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6124-E057-453A-8918-5E21CEBD4F48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5662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dwal Pelaksana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98520" y="3716280"/>
            <a:ext cx="83772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adwal pelaksanaan dirancang sesuai dengan aktivita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ika diperlukan jadwal multi-tahun dapat diakomodasik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ukan jadwal pengadaan barang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8A57-86CA-40C8-8B77-3320024E943E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2" name="Date Placeholder 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9447-F8F1-4280-B14B-FD63D2FD04E7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3" name="Line 7"/>
          <p:cNvSpPr/>
          <p:nvPr/>
        </p:nvSpPr>
        <p:spPr>
          <a:xfrm>
            <a:off x="1969920" y="215892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4" name="Line 8"/>
          <p:cNvSpPr/>
          <p:nvPr/>
        </p:nvSpPr>
        <p:spPr>
          <a:xfrm>
            <a:off x="2228760" y="232236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5" name="Line 9"/>
          <p:cNvSpPr/>
          <p:nvPr/>
        </p:nvSpPr>
        <p:spPr>
          <a:xfrm>
            <a:off x="2092320" y="2481120"/>
            <a:ext cx="9334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6" name="Line 14"/>
          <p:cNvSpPr/>
          <p:nvPr/>
        </p:nvSpPr>
        <p:spPr>
          <a:xfrm>
            <a:off x="2884320" y="2644920"/>
            <a:ext cx="4042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7" name="Line 15"/>
          <p:cNvSpPr/>
          <p:nvPr/>
        </p:nvSpPr>
        <p:spPr>
          <a:xfrm>
            <a:off x="4637160" y="2925720"/>
            <a:ext cx="4041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8" name="Line 16"/>
          <p:cNvSpPr/>
          <p:nvPr/>
        </p:nvSpPr>
        <p:spPr>
          <a:xfrm>
            <a:off x="3174840" y="3090960"/>
            <a:ext cx="9334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9" name="Line 17"/>
          <p:cNvSpPr/>
          <p:nvPr/>
        </p:nvSpPr>
        <p:spPr>
          <a:xfrm>
            <a:off x="2320920" y="32446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0" name="Line 20"/>
          <p:cNvSpPr/>
          <p:nvPr/>
        </p:nvSpPr>
        <p:spPr>
          <a:xfrm>
            <a:off x="4027320" y="3416400"/>
            <a:ext cx="4042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1" name="Line 21"/>
          <p:cNvSpPr/>
          <p:nvPr/>
        </p:nvSpPr>
        <p:spPr>
          <a:xfrm>
            <a:off x="4653000" y="215892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2" name="Line 22"/>
          <p:cNvSpPr/>
          <p:nvPr/>
        </p:nvSpPr>
        <p:spPr>
          <a:xfrm>
            <a:off x="7440480" y="215892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3" name="Line 23"/>
          <p:cNvSpPr/>
          <p:nvPr/>
        </p:nvSpPr>
        <p:spPr>
          <a:xfrm>
            <a:off x="5033880" y="232236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4" name="Line 24"/>
          <p:cNvSpPr/>
          <p:nvPr/>
        </p:nvSpPr>
        <p:spPr>
          <a:xfrm>
            <a:off x="6664320" y="2481120"/>
            <a:ext cx="9334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5" name="Line 25"/>
          <p:cNvSpPr/>
          <p:nvPr/>
        </p:nvSpPr>
        <p:spPr>
          <a:xfrm>
            <a:off x="2122560" y="2925720"/>
            <a:ext cx="9334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6" name="Picture 4" descr=""/>
          <p:cNvPicPr/>
          <p:nvPr/>
        </p:nvPicPr>
        <p:blipFill>
          <a:blip r:embed="rId1"/>
          <a:stretch/>
        </p:blipFill>
        <p:spPr>
          <a:xfrm>
            <a:off x="326880" y="1557360"/>
            <a:ext cx="869184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5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5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7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dikator Kiner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FC46-E67E-48EA-B7D9-8A83546E1445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0406-6EF0-4393-A791-DD0E14A780C8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57200" y="428148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ikator kinerja yang dimaksud di sin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uk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restasi fisik pengadaan barang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elaink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dikator pencapaian tujuan dari aktivitas terka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tasi fisik dan keuangan dilaporkan pada formulir yang berbed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ai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dikator kinerja dilaporkan pada saat monitoring dan evaluas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2" name="Picture 2" descr=""/>
          <p:cNvPicPr/>
          <p:nvPr/>
        </p:nvPicPr>
        <p:blipFill>
          <a:blip r:embed="rId1"/>
          <a:stretch/>
        </p:blipFill>
        <p:spPr>
          <a:xfrm>
            <a:off x="509760" y="1488960"/>
            <a:ext cx="8213400" cy="2419560"/>
          </a:xfrm>
          <a:prstGeom prst="rect">
            <a:avLst/>
          </a:prstGeom>
          <a:ln w="0">
            <a:noFill/>
          </a:ln>
        </p:spPr>
      </p:pic>
      <p:pic>
        <p:nvPicPr>
          <p:cNvPr id="1293" name="Rectangle 5" descr=""/>
          <p:cNvPicPr/>
          <p:nvPr/>
        </p:nvPicPr>
        <p:blipFill>
          <a:blip r:embed="rId2"/>
          <a:stretch/>
        </p:blipFill>
        <p:spPr>
          <a:xfrm>
            <a:off x="2206800" y="2097000"/>
            <a:ext cx="938160" cy="1798560"/>
          </a:xfrm>
          <a:prstGeom prst="rect">
            <a:avLst/>
          </a:prstGeom>
          <a:ln w="0">
            <a:noFill/>
          </a:ln>
        </p:spPr>
      </p:pic>
      <p:pic>
        <p:nvPicPr>
          <p:cNvPr id="1294" name="Rectangle 5" descr=""/>
          <p:cNvPicPr/>
          <p:nvPr/>
        </p:nvPicPr>
        <p:blipFill>
          <a:blip r:embed="rId3"/>
          <a:stretch/>
        </p:blipFill>
        <p:spPr>
          <a:xfrm>
            <a:off x="3144960" y="2103480"/>
            <a:ext cx="939600" cy="1792080"/>
          </a:xfrm>
          <a:prstGeom prst="rect">
            <a:avLst/>
          </a:prstGeom>
          <a:ln w="0">
            <a:noFill/>
          </a:ln>
        </p:spPr>
      </p:pic>
      <p:pic>
        <p:nvPicPr>
          <p:cNvPr id="1295" name="Rectangle 5" descr=""/>
          <p:cNvPicPr/>
          <p:nvPr/>
        </p:nvPicPr>
        <p:blipFill>
          <a:blip r:embed="rId4"/>
          <a:stretch/>
        </p:blipFill>
        <p:spPr>
          <a:xfrm>
            <a:off x="4078440" y="2097000"/>
            <a:ext cx="938160" cy="1792440"/>
          </a:xfrm>
          <a:prstGeom prst="rect">
            <a:avLst/>
          </a:prstGeom>
          <a:ln w="0">
            <a:noFill/>
          </a:ln>
        </p:spPr>
      </p:pic>
      <p:pic>
        <p:nvPicPr>
          <p:cNvPr id="1296" name="Rectangle 5" descr=""/>
          <p:cNvPicPr/>
          <p:nvPr/>
        </p:nvPicPr>
        <p:blipFill>
          <a:blip r:embed="rId5"/>
          <a:stretch/>
        </p:blipFill>
        <p:spPr>
          <a:xfrm>
            <a:off x="4998960" y="2103480"/>
            <a:ext cx="938160" cy="1792080"/>
          </a:xfrm>
          <a:prstGeom prst="rect">
            <a:avLst/>
          </a:prstGeom>
          <a:ln w="0">
            <a:noFill/>
          </a:ln>
        </p:spPr>
      </p:pic>
      <p:pic>
        <p:nvPicPr>
          <p:cNvPr id="1297" name="Rectangle 5" descr=""/>
          <p:cNvPicPr/>
          <p:nvPr/>
        </p:nvPicPr>
        <p:blipFill>
          <a:blip r:embed="rId6"/>
          <a:stretch/>
        </p:blipFill>
        <p:spPr>
          <a:xfrm>
            <a:off x="5924520" y="2097000"/>
            <a:ext cx="939960" cy="1798560"/>
          </a:xfrm>
          <a:prstGeom prst="rect">
            <a:avLst/>
          </a:prstGeom>
          <a:ln w="0">
            <a:noFill/>
          </a:ln>
        </p:spPr>
      </p:pic>
      <p:pic>
        <p:nvPicPr>
          <p:cNvPr id="1298" name="Rectangle 5" descr=""/>
          <p:cNvPicPr/>
          <p:nvPr/>
        </p:nvPicPr>
        <p:blipFill>
          <a:blip r:embed="rId7"/>
          <a:stretch/>
        </p:blipFill>
        <p:spPr>
          <a:xfrm>
            <a:off x="6858000" y="2097000"/>
            <a:ext cx="938160" cy="1798560"/>
          </a:xfrm>
          <a:prstGeom prst="rect">
            <a:avLst/>
          </a:prstGeom>
          <a:ln w="0">
            <a:noFill/>
          </a:ln>
        </p:spPr>
      </p:pic>
      <p:pic>
        <p:nvPicPr>
          <p:cNvPr id="1299" name="Rectangle 5" descr=""/>
          <p:cNvPicPr/>
          <p:nvPr/>
        </p:nvPicPr>
        <p:blipFill>
          <a:blip r:embed="rId8"/>
          <a:stretch/>
        </p:blipFill>
        <p:spPr>
          <a:xfrm>
            <a:off x="7785000" y="2090880"/>
            <a:ext cx="938160" cy="179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20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bel RAB Aktivi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19240" y="5443200"/>
            <a:ext cx="875016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tuk setiap sumberdaya yang dibutuhkan dari masing-masing aktivitas sajikan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Jumlah dana yang diperluka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Komponen Biaya mengacu kepada Panduan PHK 2008 Bab V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Footer Placeholder 4"/>
          <p:cNvSpPr/>
          <p:nvPr/>
        </p:nvSpPr>
        <p:spPr>
          <a:xfrm>
            <a:off x="3124080" y="643572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3" name="Slide Number Placeholder 5"/>
          <p:cNvSpPr/>
          <p:nvPr/>
        </p:nvSpPr>
        <p:spPr>
          <a:xfrm>
            <a:off x="6553080" y="6431040"/>
            <a:ext cx="2133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926-68DC-4629-9BA1-E28316F3C65F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4" name="Date Placeholder 6"/>
          <p:cNvSpPr/>
          <p:nvPr/>
        </p:nvSpPr>
        <p:spPr>
          <a:xfrm>
            <a:off x="457200" y="6431040"/>
            <a:ext cx="2133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2B1A-E019-441C-AB59-D1C33D8A41E0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305" name=""/>
          <p:cNvGraphicFramePr/>
          <p:nvPr/>
        </p:nvGraphicFramePr>
        <p:xfrm>
          <a:off x="378000" y="1179360"/>
          <a:ext cx="8316720" cy="4106880"/>
        </p:xfrm>
        <a:graphic>
          <a:graphicData uri="http://schemas.openxmlformats.org/drawingml/2006/table">
            <a:tbl>
              <a:tblPr/>
              <a:tblGrid>
                <a:gridCol w="639720"/>
                <a:gridCol w="1858680"/>
                <a:gridCol w="641520"/>
                <a:gridCol w="633240"/>
                <a:gridCol w="642960"/>
                <a:gridCol w="641520"/>
                <a:gridCol w="642960"/>
                <a:gridCol w="641160"/>
                <a:gridCol w="642960"/>
                <a:gridCol w="665280"/>
                <a:gridCol w="666720"/>
              </a:tblGrid>
              <a:tr h="181080"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ir Keuangan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</a:t>
                      </a: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ulir ini </a:t>
                      </a: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unaka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tuk menyusun sumber daya yang dibutuhkan </a:t>
                      </a: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a tiap aktivi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row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hun/Mekanisme &amp; Rancang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onen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mbiayaan</a:t>
                      </a: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Ribu Rp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1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2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3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4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5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6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7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Komp. Biaya 8&gt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bu R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 gridSpan="11"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Tahun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</a:t>
                      </a:r>
                      <a:r>
                        <a:rPr b="0" i="1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gridSpan="11"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Tahun 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</a:t>
                      </a:r>
                      <a:r>
                        <a:rPr b="0" i="1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 gridSpan="11"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Tahun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49320" rIns="49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kanisme &amp; Rancangan </a:t>
                      </a:r>
                      <a:r>
                        <a:rPr b="0" i="1" lang="id-ID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gridSpan="2">
                  <a:txBody>
                    <a:bodyPr lIns="49320" rIns="493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Total Usulan Anggar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9320" rIns="49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306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erencanaan merupakan usaha seluruh institusi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7669-B857-432F-B8AC-B8E27FD1659F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5E4B-A158-4B7B-B0B7-09F2338F747A}" type="slidenum">
              <a:rPr b="0" lang="en-US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11" name="Group 2"/>
          <p:cNvGrpSpPr/>
          <p:nvPr/>
        </p:nvGrpSpPr>
        <p:grpSpPr>
          <a:xfrm>
            <a:off x="7039080" y="4056120"/>
            <a:ext cx="1515960" cy="919080"/>
            <a:chOff x="7039080" y="4056120"/>
            <a:chExt cx="1515960" cy="919080"/>
          </a:xfrm>
        </p:grpSpPr>
        <p:pic>
          <p:nvPicPr>
            <p:cNvPr id="1312" name="Picture 3" descr="j0297387"/>
            <p:cNvPicPr/>
            <p:nvPr/>
          </p:nvPicPr>
          <p:blipFill>
            <a:blip r:embed="rId1"/>
            <a:stretch/>
          </p:blipFill>
          <p:spPr>
            <a:xfrm>
              <a:off x="7039080" y="4056120"/>
              <a:ext cx="1515960" cy="8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Rectangle 4"/>
            <p:cNvSpPr/>
            <p:nvPr/>
          </p:nvSpPr>
          <p:spPr>
            <a:xfrm>
              <a:off x="7330320" y="4394520"/>
              <a:ext cx="944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Arial Black"/>
                </a:rPr>
                <a:t>Tujua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Arial Black"/>
                </a:rPr>
                <a:t>Institusi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314" name="Group 5" descr=""/>
          <p:cNvPicPr/>
          <p:nvPr/>
        </p:nvPicPr>
        <p:blipFill>
          <a:blip r:embed="rId2"/>
          <a:stretch/>
        </p:blipFill>
        <p:spPr>
          <a:xfrm>
            <a:off x="2627280" y="1987560"/>
            <a:ext cx="3876840" cy="4065480"/>
          </a:xfrm>
          <a:prstGeom prst="rect">
            <a:avLst/>
          </a:prstGeom>
          <a:ln w="0">
            <a:noFill/>
          </a:ln>
        </p:spPr>
      </p:pic>
      <p:grpSp>
        <p:nvGrpSpPr>
          <p:cNvPr id="1315" name="Group 11"/>
          <p:cNvGrpSpPr/>
          <p:nvPr/>
        </p:nvGrpSpPr>
        <p:grpSpPr>
          <a:xfrm>
            <a:off x="2639880" y="1455480"/>
            <a:ext cx="3971880" cy="5027400"/>
            <a:chOff x="2639880" y="1455480"/>
            <a:chExt cx="3971880" cy="5027400"/>
          </a:xfrm>
        </p:grpSpPr>
        <p:sp>
          <p:nvSpPr>
            <p:cNvPr id="1316" name="Line 12"/>
            <p:cNvSpPr/>
            <p:nvPr/>
          </p:nvSpPr>
          <p:spPr>
            <a:xfrm flipV="1">
              <a:off x="2639880" y="1455480"/>
              <a:ext cx="0" cy="5027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7" name="Line 13"/>
            <p:cNvSpPr/>
            <p:nvPr/>
          </p:nvSpPr>
          <p:spPr>
            <a:xfrm flipV="1">
              <a:off x="6611760" y="1455480"/>
              <a:ext cx="0" cy="5027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18" name="Group 15"/>
          <p:cNvGrpSpPr/>
          <p:nvPr/>
        </p:nvGrpSpPr>
        <p:grpSpPr>
          <a:xfrm>
            <a:off x="135000" y="1927080"/>
            <a:ext cx="2361960" cy="4496040"/>
            <a:chOff x="135000" y="1927080"/>
            <a:chExt cx="2361960" cy="4496040"/>
          </a:xfrm>
        </p:grpSpPr>
        <p:grpSp>
          <p:nvGrpSpPr>
            <p:cNvPr id="1319" name="Rectangle 16"/>
            <p:cNvGrpSpPr/>
            <p:nvPr/>
          </p:nvGrpSpPr>
          <p:grpSpPr>
            <a:xfrm>
              <a:off x="135000" y="1927080"/>
              <a:ext cx="2361960" cy="4496040"/>
              <a:chOff x="135000" y="1927080"/>
              <a:chExt cx="2361960" cy="4496040"/>
            </a:xfrm>
          </p:grpSpPr>
          <p:pic>
            <p:nvPicPr>
              <p:cNvPr id="1320" name="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000" y="1927080"/>
                <a:ext cx="2361960" cy="449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>
                <a:off x="154080" y="1945440"/>
                <a:ext cx="2329200" cy="44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322" name="Picture 17" descr="j0282809"/>
            <p:cNvPicPr/>
            <p:nvPr/>
          </p:nvPicPr>
          <p:blipFill>
            <a:blip r:embed="rId4"/>
            <a:stretch/>
          </p:blipFill>
          <p:spPr>
            <a:xfrm>
              <a:off x="228600" y="2777760"/>
              <a:ext cx="1202040" cy="12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Picture 18" descr="j0283191"/>
            <p:cNvPicPr/>
            <p:nvPr/>
          </p:nvPicPr>
          <p:blipFill>
            <a:blip r:embed="rId5"/>
            <a:stretch/>
          </p:blipFill>
          <p:spPr>
            <a:xfrm>
              <a:off x="1055160" y="2021760"/>
              <a:ext cx="130500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Picture 19" descr="j0236306"/>
            <p:cNvPicPr/>
            <p:nvPr/>
          </p:nvPicPr>
          <p:blipFill>
            <a:blip r:embed="rId6"/>
            <a:stretch/>
          </p:blipFill>
          <p:spPr>
            <a:xfrm>
              <a:off x="379080" y="4064040"/>
              <a:ext cx="638280" cy="5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Picture 20" descr="j0283214"/>
            <p:cNvPicPr/>
            <p:nvPr/>
          </p:nvPicPr>
          <p:blipFill>
            <a:blip r:embed="rId7"/>
            <a:stretch/>
          </p:blipFill>
          <p:spPr>
            <a:xfrm>
              <a:off x="1130040" y="3307320"/>
              <a:ext cx="1277280" cy="13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Picture 21" descr="j0233279"/>
            <p:cNvPicPr/>
            <p:nvPr/>
          </p:nvPicPr>
          <p:blipFill>
            <a:blip r:embed="rId8"/>
            <a:stretch/>
          </p:blipFill>
          <p:spPr>
            <a:xfrm>
              <a:off x="411840" y="4760640"/>
              <a:ext cx="1936080" cy="15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Text Box 22"/>
            <p:cNvSpPr/>
            <p:nvPr/>
          </p:nvSpPr>
          <p:spPr>
            <a:xfrm>
              <a:off x="153720" y="6106320"/>
              <a:ext cx="22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ahoma"/>
                </a:rPr>
                <a:t>Laporan Evaluasi Dir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28" name="Group 23"/>
          <p:cNvGrpSpPr/>
          <p:nvPr/>
        </p:nvGrpSpPr>
        <p:grpSpPr>
          <a:xfrm>
            <a:off x="7192800" y="2108160"/>
            <a:ext cx="1142640" cy="905760"/>
            <a:chOff x="7192800" y="2108160"/>
            <a:chExt cx="1142640" cy="905760"/>
          </a:xfrm>
        </p:grpSpPr>
        <p:pic>
          <p:nvPicPr>
            <p:cNvPr id="1329" name="Picture 24" descr="j0297389"/>
            <p:cNvPicPr/>
            <p:nvPr/>
          </p:nvPicPr>
          <p:blipFill>
            <a:blip r:embed="rId9"/>
            <a:stretch/>
          </p:blipFill>
          <p:spPr>
            <a:xfrm>
              <a:off x="7192800" y="2108160"/>
              <a:ext cx="1142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Rectangle 25"/>
            <p:cNvSpPr/>
            <p:nvPr/>
          </p:nvSpPr>
          <p:spPr>
            <a:xfrm>
              <a:off x="7506000" y="264564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Arial Black"/>
                </a:rPr>
                <a:t>Vis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1" name="Group 26"/>
          <p:cNvGrpSpPr/>
          <p:nvPr/>
        </p:nvGrpSpPr>
        <p:grpSpPr>
          <a:xfrm>
            <a:off x="7155000" y="3086280"/>
            <a:ext cx="1218960" cy="896400"/>
            <a:chOff x="7155000" y="3086280"/>
            <a:chExt cx="1218960" cy="896400"/>
          </a:xfrm>
        </p:grpSpPr>
        <p:pic>
          <p:nvPicPr>
            <p:cNvPr id="1332" name="Picture 27" descr="j0297383"/>
            <p:cNvPicPr/>
            <p:nvPr/>
          </p:nvPicPr>
          <p:blipFill>
            <a:blip r:embed="rId10"/>
            <a:stretch/>
          </p:blipFill>
          <p:spPr>
            <a:xfrm>
              <a:off x="7155000" y="3086280"/>
              <a:ext cx="121896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Rectangle 28"/>
            <p:cNvSpPr/>
            <p:nvPr/>
          </p:nvSpPr>
          <p:spPr>
            <a:xfrm>
              <a:off x="7498440" y="3614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Arial Black"/>
                </a:rPr>
                <a:t>Mis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4" name="Group 29"/>
          <p:cNvGrpSpPr/>
          <p:nvPr/>
        </p:nvGrpSpPr>
        <p:grpSpPr>
          <a:xfrm>
            <a:off x="6888240" y="5003640"/>
            <a:ext cx="1752480" cy="1418760"/>
            <a:chOff x="6888240" y="5003640"/>
            <a:chExt cx="1752480" cy="1418760"/>
          </a:xfrm>
        </p:grpSpPr>
        <p:pic>
          <p:nvPicPr>
            <p:cNvPr id="1335" name="Picture 30" descr="j0297157"/>
            <p:cNvPicPr/>
            <p:nvPr/>
          </p:nvPicPr>
          <p:blipFill>
            <a:blip r:embed="rId11"/>
            <a:stretch/>
          </p:blipFill>
          <p:spPr>
            <a:xfrm>
              <a:off x="7002360" y="5003640"/>
              <a:ext cx="152424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Rectangle 31"/>
            <p:cNvSpPr/>
            <p:nvPr/>
          </p:nvSpPr>
          <p:spPr>
            <a:xfrm>
              <a:off x="6888240" y="584172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Indikator Kinerja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337" name="AutoShape 32"/>
          <p:cNvSpPr/>
          <p:nvPr/>
        </p:nvSpPr>
        <p:spPr>
          <a:xfrm>
            <a:off x="8564400" y="2384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8" name="AutoShape 33"/>
          <p:cNvSpPr/>
          <p:nvPr/>
        </p:nvSpPr>
        <p:spPr>
          <a:xfrm>
            <a:off x="8564400" y="3527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9" name="AutoShape 34"/>
          <p:cNvSpPr/>
          <p:nvPr/>
        </p:nvSpPr>
        <p:spPr>
          <a:xfrm>
            <a:off x="8640720" y="474660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0" name="Group 35"/>
          <p:cNvGrpSpPr/>
          <p:nvPr/>
        </p:nvGrpSpPr>
        <p:grpSpPr>
          <a:xfrm>
            <a:off x="2838600" y="2392200"/>
            <a:ext cx="2497320" cy="642600"/>
            <a:chOff x="2838600" y="2392200"/>
            <a:chExt cx="2497320" cy="642600"/>
          </a:xfrm>
        </p:grpSpPr>
        <p:pic>
          <p:nvPicPr>
            <p:cNvPr id="1341" name="Picture 36" descr="j0283535"/>
            <p:cNvPicPr/>
            <p:nvPr/>
          </p:nvPicPr>
          <p:blipFill>
            <a:blip r:embed="rId12"/>
            <a:stretch/>
          </p:blipFill>
          <p:spPr>
            <a:xfrm>
              <a:off x="2838600" y="2408040"/>
              <a:ext cx="647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2" name="Text Box 37"/>
            <p:cNvSpPr/>
            <p:nvPr/>
          </p:nvSpPr>
          <p:spPr>
            <a:xfrm>
              <a:off x="3481920" y="2392200"/>
              <a:ext cx="185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na PHK 2008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juan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43" name="Group 38"/>
          <p:cNvGrpSpPr/>
          <p:nvPr/>
        </p:nvGrpSpPr>
        <p:grpSpPr>
          <a:xfrm>
            <a:off x="2806560" y="3156120"/>
            <a:ext cx="2269800" cy="761760"/>
            <a:chOff x="2806560" y="3156120"/>
            <a:chExt cx="2269800" cy="761760"/>
          </a:xfrm>
        </p:grpSpPr>
        <p:sp>
          <p:nvSpPr>
            <p:cNvPr id="1344" name="Text Box 39"/>
            <p:cNvSpPr/>
            <p:nvPr/>
          </p:nvSpPr>
          <p:spPr>
            <a:xfrm>
              <a:off x="3525480" y="3216240"/>
              <a:ext cx="155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Dana Pemda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Tujuan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1345" name="Picture 40" descr="j0284133"/>
            <p:cNvPicPr/>
            <p:nvPr/>
          </p:nvPicPr>
          <p:blipFill>
            <a:blip r:embed="rId13"/>
            <a:stretch/>
          </p:blipFill>
          <p:spPr>
            <a:xfrm>
              <a:off x="2806560" y="3156120"/>
              <a:ext cx="70956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6" name="Group 41"/>
          <p:cNvGrpSpPr/>
          <p:nvPr/>
        </p:nvGrpSpPr>
        <p:grpSpPr>
          <a:xfrm>
            <a:off x="2841480" y="4051440"/>
            <a:ext cx="3176640" cy="842760"/>
            <a:chOff x="2841480" y="4051440"/>
            <a:chExt cx="3176640" cy="842760"/>
          </a:xfrm>
        </p:grpSpPr>
        <p:sp>
          <p:nvSpPr>
            <p:cNvPr id="1347" name="Text Box 42"/>
            <p:cNvSpPr/>
            <p:nvPr/>
          </p:nvSpPr>
          <p:spPr>
            <a:xfrm>
              <a:off x="3524040" y="4151160"/>
              <a:ext cx="249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5395"/>
                  </a:solidFill>
                  <a:latin typeface="Arial"/>
                </a:rPr>
                <a:t>Bantuan Hibah Asing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b5395"/>
                  </a:solidFill>
                  <a:latin typeface="Arial"/>
                </a:rPr>
                <a:t>Tujuan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1348" name="Picture 43" descr="j0284135"/>
            <p:cNvPicPr/>
            <p:nvPr/>
          </p:nvPicPr>
          <p:blipFill>
            <a:blip r:embed="rId14"/>
            <a:stretch/>
          </p:blipFill>
          <p:spPr>
            <a:xfrm>
              <a:off x="2841480" y="4051440"/>
              <a:ext cx="701640" cy="842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49" name="AutoShape 44"/>
          <p:cNvCxnSpPr/>
          <p:nvPr/>
        </p:nvCxnSpPr>
        <p:spPr>
          <a:xfrm>
            <a:off x="5772240" y="2714400"/>
            <a:ext cx="1311480" cy="180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0" name="AutoShape 45"/>
          <p:cNvCxnSpPr/>
          <p:nvPr/>
        </p:nvCxnSpPr>
        <p:spPr>
          <a:xfrm>
            <a:off x="5510160" y="3538080"/>
            <a:ext cx="1620000" cy="97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1" name="AutoShape 46"/>
          <p:cNvCxnSpPr/>
          <p:nvPr/>
        </p:nvCxnSpPr>
        <p:spPr>
          <a:xfrm>
            <a:off x="6025680" y="4473360"/>
            <a:ext cx="110412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352" name="Text Box 5"/>
          <p:cNvGrpSpPr/>
          <p:nvPr/>
        </p:nvGrpSpPr>
        <p:grpSpPr>
          <a:xfrm>
            <a:off x="285840" y="1414440"/>
            <a:ext cx="2116080" cy="444600"/>
            <a:chOff x="285840" y="1414440"/>
            <a:chExt cx="2116080" cy="444600"/>
          </a:xfrm>
        </p:grpSpPr>
        <p:pic>
          <p:nvPicPr>
            <p:cNvPr id="1353" name="Text Box 5" descr=""/>
            <p:cNvPicPr/>
            <p:nvPr/>
          </p:nvPicPr>
          <p:blipFill>
            <a:blip r:embed="rId15"/>
            <a:stretch/>
          </p:blipFill>
          <p:spPr>
            <a:xfrm>
              <a:off x="285840" y="1414440"/>
              <a:ext cx="2116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4" name=""/>
            <p:cNvSpPr/>
            <p:nvPr/>
          </p:nvSpPr>
          <p:spPr>
            <a:xfrm>
              <a:off x="330120" y="1456920"/>
              <a:ext cx="19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ituasi Sekar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55" name="Text Box 7"/>
          <p:cNvGrpSpPr/>
          <p:nvPr/>
        </p:nvGrpSpPr>
        <p:grpSpPr>
          <a:xfrm>
            <a:off x="6724800" y="1401840"/>
            <a:ext cx="2170080" cy="446040"/>
            <a:chOff x="6724800" y="1401840"/>
            <a:chExt cx="2170080" cy="446040"/>
          </a:xfrm>
        </p:grpSpPr>
        <p:pic>
          <p:nvPicPr>
            <p:cNvPr id="1356" name="Text Box 7" descr=""/>
            <p:cNvPicPr/>
            <p:nvPr/>
          </p:nvPicPr>
          <p:blipFill>
            <a:blip r:embed="rId16"/>
            <a:stretch/>
          </p:blipFill>
          <p:spPr>
            <a:xfrm>
              <a:off x="6724800" y="1401840"/>
              <a:ext cx="21700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"/>
            <p:cNvSpPr/>
            <p:nvPr/>
          </p:nvSpPr>
          <p:spPr>
            <a:xfrm>
              <a:off x="6764400" y="144828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ituasi Mendat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58" name="AutoShape 6"/>
          <p:cNvGrpSpPr/>
          <p:nvPr/>
        </p:nvGrpSpPr>
        <p:grpSpPr>
          <a:xfrm>
            <a:off x="2951280" y="1262160"/>
            <a:ext cx="3309840" cy="718920"/>
            <a:chOff x="2951280" y="1262160"/>
            <a:chExt cx="3309840" cy="718920"/>
          </a:xfrm>
        </p:grpSpPr>
        <p:pic>
          <p:nvPicPr>
            <p:cNvPr id="1359" name="AutoShape 6" descr="White marble"/>
            <p:cNvPicPr/>
            <p:nvPr/>
          </p:nvPicPr>
          <p:blipFill>
            <a:blip r:embed="rId17"/>
            <a:stretch/>
          </p:blipFill>
          <p:spPr>
            <a:xfrm>
              <a:off x="2951280" y="1262160"/>
              <a:ext cx="3309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0" name=""/>
            <p:cNvSpPr/>
            <p:nvPr/>
          </p:nvSpPr>
          <p:spPr>
            <a:xfrm>
              <a:off x="3490920" y="1450800"/>
              <a:ext cx="2279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 maju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6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ahapan Seleksi Propos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2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67B-3FB6-440A-8518-5EA62EA22777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5771-C27D-422B-962A-764FEFF65188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atu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955e4b"/>
                </a:solidFill>
                <a:latin typeface="Gill Sans MT"/>
              </a:rPr>
              <a:t>Proposal Awa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ang diusulkan ole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institus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78080" indent="-4780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ses seleksi Proposal Awal oleh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review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78080" indent="-4780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atu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955e4b"/>
                </a:solidFill>
                <a:latin typeface="Gill Sans MT"/>
              </a:rPr>
              <a:t>Proposal Lengka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ang diusulkan ole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institus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78080" indent="-4780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ses seleksi Proposal Lengkap oleh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review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78080" indent="-4780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aluasi Lapang oleh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review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78080" indent="-4780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entuan penerima hiba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posal Aw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Konsep penyusunan propos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8" name="Date Placeholder 2"/>
          <p:cNvSpPr/>
          <p:nvPr/>
        </p:nvSpPr>
        <p:spPr>
          <a:xfrm>
            <a:off x="6400800" y="635472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1D63-A9D7-4692-A59D-E50DEE4AE870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498-0DA3-4921-B124-D2C22C7186DC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Rectangle 36"/>
          <p:cNvGrpSpPr/>
          <p:nvPr/>
        </p:nvGrpSpPr>
        <p:grpSpPr>
          <a:xfrm>
            <a:off x="3413160" y="3565440"/>
            <a:ext cx="2365200" cy="2030400"/>
            <a:chOff x="3413160" y="3565440"/>
            <a:chExt cx="2365200" cy="2030400"/>
          </a:xfrm>
        </p:grpSpPr>
        <p:pic>
          <p:nvPicPr>
            <p:cNvPr id="912" name="Rectangle 36" descr=""/>
            <p:cNvPicPr/>
            <p:nvPr/>
          </p:nvPicPr>
          <p:blipFill>
            <a:blip r:embed="rId1"/>
            <a:stretch/>
          </p:blipFill>
          <p:spPr>
            <a:xfrm>
              <a:off x="3413160" y="3565440"/>
              <a:ext cx="23652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3454560" y="3660840"/>
              <a:ext cx="223488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14" name="Text Box 7"/>
          <p:cNvGrpSpPr/>
          <p:nvPr/>
        </p:nvGrpSpPr>
        <p:grpSpPr>
          <a:xfrm>
            <a:off x="3529080" y="3693960"/>
            <a:ext cx="2170080" cy="920880"/>
            <a:chOff x="3529080" y="3693960"/>
            <a:chExt cx="2170080" cy="920880"/>
          </a:xfrm>
        </p:grpSpPr>
        <p:pic>
          <p:nvPicPr>
            <p:cNvPr id="915" name="Text Box 7" descr=""/>
            <p:cNvPicPr/>
            <p:nvPr/>
          </p:nvPicPr>
          <p:blipFill>
            <a:blip r:embed="rId2"/>
            <a:stretch/>
          </p:blipFill>
          <p:spPr>
            <a:xfrm>
              <a:off x="3529080" y="3693960"/>
              <a:ext cx="217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3573360" y="3763080"/>
              <a:ext cx="203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Rencana Awal Program Pengembang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17" name="Text Box 7"/>
          <p:cNvGrpSpPr/>
          <p:nvPr/>
        </p:nvGrpSpPr>
        <p:grpSpPr>
          <a:xfrm>
            <a:off x="3529080" y="4645080"/>
            <a:ext cx="2170080" cy="439560"/>
            <a:chOff x="3529080" y="4645080"/>
            <a:chExt cx="2170080" cy="439560"/>
          </a:xfrm>
        </p:grpSpPr>
        <p:pic>
          <p:nvPicPr>
            <p:cNvPr id="918" name="Text Box 7" descr=""/>
            <p:cNvPicPr/>
            <p:nvPr/>
          </p:nvPicPr>
          <p:blipFill>
            <a:blip r:embed="rId3"/>
            <a:stretch/>
          </p:blipFill>
          <p:spPr>
            <a:xfrm>
              <a:off x="3529080" y="4645080"/>
              <a:ext cx="2170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573360" y="468756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ema Terpilih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20" name="Text Box 7"/>
          <p:cNvGrpSpPr/>
          <p:nvPr/>
        </p:nvGrpSpPr>
        <p:grpSpPr>
          <a:xfrm>
            <a:off x="3529080" y="5114880"/>
            <a:ext cx="2170080" cy="438120"/>
            <a:chOff x="3529080" y="5114880"/>
            <a:chExt cx="2170080" cy="438120"/>
          </a:xfrm>
        </p:grpSpPr>
        <p:pic>
          <p:nvPicPr>
            <p:cNvPr id="921" name="Text Box 7" descr=""/>
            <p:cNvPicPr/>
            <p:nvPr/>
          </p:nvPicPr>
          <p:blipFill>
            <a:blip r:embed="rId4"/>
            <a:stretch/>
          </p:blipFill>
          <p:spPr>
            <a:xfrm>
              <a:off x="3529080" y="5114880"/>
              <a:ext cx="21700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573360" y="515664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Unit Terpilih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923" name="Elbow Connector 21"/>
          <p:cNvCxnSpPr>
            <a:stCxn id="915" idx="2"/>
            <a:endCxn id="918" idx="0"/>
          </p:cNvCxnSpPr>
          <p:nvPr/>
        </p:nvCxnSpPr>
        <p:spPr>
          <a:xfrm flipH="1">
            <a:off x="4589280" y="4527360"/>
            <a:ext cx="2160" cy="1609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24" name="Elbow Connector 21"/>
          <p:cNvCxnSpPr>
            <a:stCxn id="918" idx="2"/>
            <a:endCxn id="921" idx="0"/>
          </p:cNvCxnSpPr>
          <p:nvPr/>
        </p:nvCxnSpPr>
        <p:spPr>
          <a:xfrm flipH="1">
            <a:off x="4589280" y="4935240"/>
            <a:ext cx="2160" cy="2214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925" name="Rectangle 33"/>
          <p:cNvGrpSpPr/>
          <p:nvPr/>
        </p:nvGrpSpPr>
        <p:grpSpPr>
          <a:xfrm>
            <a:off x="6443640" y="1700280"/>
            <a:ext cx="2371680" cy="2023920"/>
            <a:chOff x="6443640" y="1700280"/>
            <a:chExt cx="2371680" cy="2023920"/>
          </a:xfrm>
        </p:grpSpPr>
        <p:pic>
          <p:nvPicPr>
            <p:cNvPr id="926" name="Rectangle 33" descr=""/>
            <p:cNvPicPr/>
            <p:nvPr/>
          </p:nvPicPr>
          <p:blipFill>
            <a:blip r:embed="rId5"/>
            <a:stretch/>
          </p:blipFill>
          <p:spPr>
            <a:xfrm>
              <a:off x="6443640" y="1700280"/>
              <a:ext cx="23716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6488280" y="1798560"/>
              <a:ext cx="2234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28" name="Freeform 94"/>
          <p:cNvGrpSpPr/>
          <p:nvPr/>
        </p:nvGrpSpPr>
        <p:grpSpPr>
          <a:xfrm>
            <a:off x="146160" y="2090880"/>
            <a:ext cx="3151080" cy="1487520"/>
            <a:chOff x="146160" y="2090880"/>
            <a:chExt cx="3151080" cy="1487520"/>
          </a:xfrm>
        </p:grpSpPr>
        <p:pic>
          <p:nvPicPr>
            <p:cNvPr id="929" name="Freeform 94" descr=""/>
            <p:cNvPicPr/>
            <p:nvPr/>
          </p:nvPicPr>
          <p:blipFill>
            <a:blip r:embed="rId6"/>
            <a:stretch/>
          </p:blipFill>
          <p:spPr>
            <a:xfrm>
              <a:off x="146160" y="2090880"/>
              <a:ext cx="3151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62000" y="2108160"/>
              <a:ext cx="3125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onsep Penyusunan Proposal Aw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2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B9D7-5F8C-49B1-8133-E73B96ABC244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39C3-F9F4-482D-AEEB-FF054D1B82C3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5" name="Text Box 5"/>
          <p:cNvGrpSpPr/>
          <p:nvPr/>
        </p:nvGrpSpPr>
        <p:grpSpPr>
          <a:xfrm>
            <a:off x="487440" y="1322280"/>
            <a:ext cx="2116080" cy="446040"/>
            <a:chOff x="487440" y="1322280"/>
            <a:chExt cx="2116080" cy="446040"/>
          </a:xfrm>
        </p:grpSpPr>
        <p:pic>
          <p:nvPicPr>
            <p:cNvPr id="936" name="Text Box 5" descr=""/>
            <p:cNvPicPr/>
            <p:nvPr/>
          </p:nvPicPr>
          <p:blipFill>
            <a:blip r:embed="rId7"/>
            <a:stretch/>
          </p:blipFill>
          <p:spPr>
            <a:xfrm>
              <a:off x="487440" y="1322280"/>
              <a:ext cx="21160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33520" y="1365480"/>
              <a:ext cx="197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Situasi Sekar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38" name="Text Box 7"/>
          <p:cNvGrpSpPr/>
          <p:nvPr/>
        </p:nvGrpSpPr>
        <p:grpSpPr>
          <a:xfrm>
            <a:off x="6566040" y="1311120"/>
            <a:ext cx="2170080" cy="444600"/>
            <a:chOff x="6566040" y="1311120"/>
            <a:chExt cx="2170080" cy="444600"/>
          </a:xfrm>
        </p:grpSpPr>
        <p:pic>
          <p:nvPicPr>
            <p:cNvPr id="939" name="Text Box 7" descr=""/>
            <p:cNvPicPr/>
            <p:nvPr/>
          </p:nvPicPr>
          <p:blipFill>
            <a:blip r:embed="rId8"/>
            <a:stretch/>
          </p:blipFill>
          <p:spPr>
            <a:xfrm>
              <a:off x="6566040" y="131112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6605640" y="1357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Situasi Mendat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41" name="AutoShape 6"/>
          <p:cNvGrpSpPr/>
          <p:nvPr/>
        </p:nvGrpSpPr>
        <p:grpSpPr>
          <a:xfrm>
            <a:off x="2951280" y="1170000"/>
            <a:ext cx="3309840" cy="719280"/>
            <a:chOff x="2951280" y="1170000"/>
            <a:chExt cx="3309840" cy="719280"/>
          </a:xfrm>
        </p:grpSpPr>
        <p:pic>
          <p:nvPicPr>
            <p:cNvPr id="942" name="AutoShape 6" descr="White marble"/>
            <p:cNvPicPr/>
            <p:nvPr/>
          </p:nvPicPr>
          <p:blipFill>
            <a:blip r:embed="rId9"/>
            <a:stretch/>
          </p:blipFill>
          <p:spPr>
            <a:xfrm>
              <a:off x="2951280" y="1170000"/>
              <a:ext cx="3309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3490920" y="1359000"/>
              <a:ext cx="2279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 maju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44" name="Text Box 5"/>
          <p:cNvGrpSpPr/>
          <p:nvPr/>
        </p:nvGrpSpPr>
        <p:grpSpPr>
          <a:xfrm>
            <a:off x="201600" y="2200320"/>
            <a:ext cx="1395360" cy="676080"/>
            <a:chOff x="201600" y="2200320"/>
            <a:chExt cx="1395360" cy="676080"/>
          </a:xfrm>
        </p:grpSpPr>
        <p:pic>
          <p:nvPicPr>
            <p:cNvPr id="945" name="Text Box 5" descr=""/>
            <p:cNvPicPr/>
            <p:nvPr/>
          </p:nvPicPr>
          <p:blipFill>
            <a:blip r:embed="rId10"/>
            <a:stretch/>
          </p:blipFill>
          <p:spPr>
            <a:xfrm>
              <a:off x="201600" y="2200320"/>
              <a:ext cx="139536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244440" y="236088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Posisi (Data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47" name="Text Box 5"/>
          <p:cNvGrpSpPr/>
          <p:nvPr/>
        </p:nvGrpSpPr>
        <p:grpSpPr>
          <a:xfrm>
            <a:off x="1920960" y="2200320"/>
            <a:ext cx="1395360" cy="676080"/>
            <a:chOff x="1920960" y="2200320"/>
            <a:chExt cx="1395360" cy="676080"/>
          </a:xfrm>
        </p:grpSpPr>
        <p:pic>
          <p:nvPicPr>
            <p:cNvPr id="948" name="Text Box 5" descr=""/>
            <p:cNvPicPr/>
            <p:nvPr/>
          </p:nvPicPr>
          <p:blipFill>
            <a:blip r:embed="rId11"/>
            <a:stretch/>
          </p:blipFill>
          <p:spPr>
            <a:xfrm>
              <a:off x="1920960" y="2200320"/>
              <a:ext cx="139536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1965240" y="2254320"/>
              <a:ext cx="12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Analisis Situa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50" name="Text Box 5"/>
          <p:cNvGrpSpPr/>
          <p:nvPr/>
        </p:nvGrpSpPr>
        <p:grpSpPr>
          <a:xfrm>
            <a:off x="1017720" y="3097080"/>
            <a:ext cx="1469880" cy="444600"/>
            <a:chOff x="1017720" y="3097080"/>
            <a:chExt cx="1469880" cy="444600"/>
          </a:xfrm>
        </p:grpSpPr>
        <p:pic>
          <p:nvPicPr>
            <p:cNvPr id="951" name="Text Box 5" descr=""/>
            <p:cNvPicPr/>
            <p:nvPr/>
          </p:nvPicPr>
          <p:blipFill>
            <a:blip r:embed="rId12"/>
            <a:stretch/>
          </p:blipFill>
          <p:spPr>
            <a:xfrm>
              <a:off x="1017720" y="3097080"/>
              <a:ext cx="14698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1058760" y="314028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Kesimpul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953" name="Elbow Connector 69"/>
          <p:cNvCxnSpPr>
            <a:stCxn id="936" idx="2"/>
            <a:endCxn id="945" idx="0"/>
          </p:cNvCxnSpPr>
          <p:nvPr/>
        </p:nvCxnSpPr>
        <p:spPr>
          <a:xfrm rot="5400000">
            <a:off x="912240" y="1634760"/>
            <a:ext cx="570600" cy="650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54" name="Elbow Connector 70"/>
          <p:cNvCxnSpPr>
            <a:stCxn id="936" idx="2"/>
            <a:endCxn id="948" idx="0"/>
          </p:cNvCxnSpPr>
          <p:nvPr/>
        </p:nvCxnSpPr>
        <p:spPr>
          <a:xfrm flipH="1" rot="16200000">
            <a:off x="1772640" y="1422720"/>
            <a:ext cx="570600" cy="107352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55" name="Elbow Connector 73"/>
          <p:cNvCxnSpPr>
            <a:stCxn id="945" idx="3"/>
            <a:endCxn id="948" idx="1"/>
          </p:cNvCxnSpPr>
          <p:nvPr/>
        </p:nvCxnSpPr>
        <p:spPr>
          <a:xfrm>
            <a:off x="1503000" y="2514600"/>
            <a:ext cx="4626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56" name="Elbow Connector 76"/>
          <p:cNvCxnSpPr>
            <a:stCxn id="945" idx="2"/>
            <a:endCxn id="951" idx="0"/>
          </p:cNvCxnSpPr>
          <p:nvPr/>
        </p:nvCxnSpPr>
        <p:spPr>
          <a:xfrm flipH="1" rot="16200000">
            <a:off x="1122120" y="2534760"/>
            <a:ext cx="354600" cy="85320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57" name="Elbow Connector 76"/>
          <p:cNvCxnSpPr>
            <a:stCxn id="948" idx="2"/>
            <a:endCxn id="951" idx="0"/>
          </p:cNvCxnSpPr>
          <p:nvPr/>
        </p:nvCxnSpPr>
        <p:spPr>
          <a:xfrm rot="5400000">
            <a:off x="1982880" y="2526120"/>
            <a:ext cx="354600" cy="87084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958" name="AutoShape 5"/>
          <p:cNvGrpSpPr/>
          <p:nvPr/>
        </p:nvGrpSpPr>
        <p:grpSpPr>
          <a:xfrm>
            <a:off x="139680" y="2908440"/>
            <a:ext cx="2914560" cy="2004840"/>
            <a:chOff x="139680" y="2908440"/>
            <a:chExt cx="2914560" cy="2004840"/>
          </a:xfrm>
        </p:grpSpPr>
        <p:pic>
          <p:nvPicPr>
            <p:cNvPr id="959" name="AutoShape 5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39680" y="2908440"/>
              <a:ext cx="291456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587520" y="3851280"/>
              <a:ext cx="202536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Ringkasan Evaluasi Diri Institusi</a:t>
              </a:r>
              <a:br>
                <a:rPr sz="1600"/>
              </a:b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(Bab 2)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61" name="Text Box 7"/>
          <p:cNvGrpSpPr/>
          <p:nvPr/>
        </p:nvGrpSpPr>
        <p:grpSpPr>
          <a:xfrm>
            <a:off x="6566040" y="1871640"/>
            <a:ext cx="2170080" cy="444600"/>
            <a:chOff x="6566040" y="1871640"/>
            <a:chExt cx="2170080" cy="444600"/>
          </a:xfrm>
        </p:grpSpPr>
        <p:pic>
          <p:nvPicPr>
            <p:cNvPr id="962" name="Text Box 7" descr=""/>
            <p:cNvPicPr/>
            <p:nvPr/>
          </p:nvPicPr>
          <p:blipFill>
            <a:blip r:embed="rId15"/>
            <a:stretch/>
          </p:blipFill>
          <p:spPr>
            <a:xfrm>
              <a:off x="6566040" y="187164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6605640" y="191664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V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64" name="Text Box 7"/>
          <p:cNvGrpSpPr/>
          <p:nvPr/>
        </p:nvGrpSpPr>
        <p:grpSpPr>
          <a:xfrm>
            <a:off x="6566040" y="2432160"/>
            <a:ext cx="2170080" cy="439560"/>
            <a:chOff x="6566040" y="2432160"/>
            <a:chExt cx="2170080" cy="439560"/>
          </a:xfrm>
        </p:grpSpPr>
        <p:pic>
          <p:nvPicPr>
            <p:cNvPr id="965" name="Text Box 7" descr=""/>
            <p:cNvPicPr/>
            <p:nvPr/>
          </p:nvPicPr>
          <p:blipFill>
            <a:blip r:embed="rId16"/>
            <a:stretch/>
          </p:blipFill>
          <p:spPr>
            <a:xfrm>
              <a:off x="6566040" y="2432160"/>
              <a:ext cx="2170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6605640" y="2473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M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67" name="Text Box 7"/>
          <p:cNvGrpSpPr/>
          <p:nvPr/>
        </p:nvGrpSpPr>
        <p:grpSpPr>
          <a:xfrm>
            <a:off x="6566040" y="3097080"/>
            <a:ext cx="2170080" cy="444600"/>
            <a:chOff x="6566040" y="3097080"/>
            <a:chExt cx="2170080" cy="444600"/>
          </a:xfrm>
        </p:grpSpPr>
        <p:pic>
          <p:nvPicPr>
            <p:cNvPr id="968" name="Text Box 7" descr=""/>
            <p:cNvPicPr/>
            <p:nvPr/>
          </p:nvPicPr>
          <p:blipFill>
            <a:blip r:embed="rId17"/>
            <a:stretch/>
          </p:blipFill>
          <p:spPr>
            <a:xfrm>
              <a:off x="6566040" y="309708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6605640" y="314028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ujuan Institu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970" name="Elbow Connector 21"/>
          <p:cNvCxnSpPr>
            <a:stCxn id="939" idx="2"/>
            <a:endCxn id="962" idx="0"/>
          </p:cNvCxnSpPr>
          <p:nvPr/>
        </p:nvCxnSpPr>
        <p:spPr>
          <a:xfrm flipH="1">
            <a:off x="7622280" y="1665360"/>
            <a:ext cx="2520" cy="243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71" name="Elbow Connector 21"/>
          <p:cNvCxnSpPr>
            <a:stCxn id="962" idx="2"/>
            <a:endCxn id="965" idx="0"/>
          </p:cNvCxnSpPr>
          <p:nvPr/>
        </p:nvCxnSpPr>
        <p:spPr>
          <a:xfrm flipH="1">
            <a:off x="7622280" y="2215800"/>
            <a:ext cx="2520" cy="2448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972" name="Elbow Connector 21"/>
          <p:cNvCxnSpPr>
            <a:stCxn id="965" idx="2"/>
            <a:endCxn id="968" idx="0"/>
          </p:cNvCxnSpPr>
          <p:nvPr/>
        </p:nvCxnSpPr>
        <p:spPr>
          <a:xfrm flipH="1">
            <a:off x="7622280" y="2782440"/>
            <a:ext cx="2520" cy="35964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973" name="Straight Connector 28"/>
          <p:cNvSpPr/>
          <p:nvPr/>
        </p:nvSpPr>
        <p:spPr>
          <a:xfrm>
            <a:off x="2392200" y="3294000"/>
            <a:ext cx="520920" cy="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4" name="Straight Connector 29"/>
          <p:cNvSpPr/>
          <p:nvPr/>
        </p:nvSpPr>
        <p:spPr>
          <a:xfrm>
            <a:off x="6084720" y="3294000"/>
            <a:ext cx="520920" cy="180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75" name="AutoShape 5"/>
          <p:cNvGrpSpPr/>
          <p:nvPr/>
        </p:nvGrpSpPr>
        <p:grpSpPr>
          <a:xfrm>
            <a:off x="5778360" y="3505320"/>
            <a:ext cx="3206880" cy="1328760"/>
            <a:chOff x="5778360" y="3505320"/>
            <a:chExt cx="3206880" cy="1328760"/>
          </a:xfrm>
        </p:grpSpPr>
        <p:pic>
          <p:nvPicPr>
            <p:cNvPr id="976" name="AutoShape 5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778360" y="3505320"/>
              <a:ext cx="32068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6269040" y="4048200"/>
              <a:ext cx="2236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Ringkasan Renstra Institusi (Bab 1)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978" name="Elbow Connector 21"/>
          <p:cNvCxnSpPr>
            <a:endCxn id="915" idx="0"/>
          </p:cNvCxnSpPr>
          <p:nvPr/>
        </p:nvCxnSpPr>
        <p:spPr>
          <a:xfrm>
            <a:off x="4586760" y="3234960"/>
            <a:ext cx="3960" cy="4993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979" name="AutoShape 5"/>
          <p:cNvGrpSpPr/>
          <p:nvPr/>
        </p:nvGrpSpPr>
        <p:grpSpPr>
          <a:xfrm>
            <a:off x="176040" y="4316400"/>
            <a:ext cx="3372120" cy="1998720"/>
            <a:chOff x="176040" y="4316400"/>
            <a:chExt cx="3372120" cy="1998720"/>
          </a:xfrm>
        </p:grpSpPr>
        <p:pic>
          <p:nvPicPr>
            <p:cNvPr id="980" name="AutoShape 5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176040" y="4316400"/>
              <a:ext cx="337212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665280" y="5257800"/>
              <a:ext cx="22255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Rancangan Global Program Pengembangan (Bab 3)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82" name="AutoShape 6"/>
          <p:cNvGrpSpPr/>
          <p:nvPr/>
        </p:nvGrpSpPr>
        <p:grpSpPr>
          <a:xfrm>
            <a:off x="2871720" y="2955960"/>
            <a:ext cx="3303720" cy="725400"/>
            <a:chOff x="2871720" y="2955960"/>
            <a:chExt cx="3303720" cy="725400"/>
          </a:xfrm>
        </p:grpSpPr>
        <p:pic>
          <p:nvPicPr>
            <p:cNvPr id="983" name="AutoShape 6" descr="White marble"/>
            <p:cNvPicPr/>
            <p:nvPr/>
          </p:nvPicPr>
          <p:blipFill>
            <a:blip r:embed="rId22"/>
            <a:stretch/>
          </p:blipFill>
          <p:spPr>
            <a:xfrm>
              <a:off x="2871720" y="2955960"/>
              <a:ext cx="33037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408480" y="3146400"/>
              <a:ext cx="2279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strateg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ma dalam PHK 2008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6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5AD-3B0F-4780-84F7-B1A98F895533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626-AB64-408D-B0EF-8350C300AC4C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Gill Sans MT"/>
              </a:rPr>
              <a:t>Tema A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Peningkatan kapasitas institusional dan mutu manajemen perguruan tinggi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Peningkatan mutu manajemen perguruan tinggi yang mencakup seluruh aspek manajemen pada setiap jenjang organisasi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Gill Sans MT"/>
              </a:rPr>
              <a:t>Tema B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Peningkatan mutu, relevansi dan efisiensi Program Studi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Peningkatan mutu, relevansi dan efisiensi program studi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Relevansi: kesesuaian antara program yang diselenggarakan dengan kebutuhan nasional dan global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Efisiensi: pemanfaatan sumberdaya secara hemat dan bertanggung jawab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Gill Sans MT"/>
              </a:rPr>
              <a:t>Tema C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Pengembangan program unggulan perguruan tingg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Pengembangan program unggulan yang memiliki daya saing di tingkat internasional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t Proposal Aw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1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F8E4-5FA9-4A2F-BB1B-FA71B6BC2A46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EC3-54C3-4839-803A-DA25C3825E66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Halaman judul/</a:t>
            </a:r>
            <a:r>
              <a:rPr b="0" i="1" lang="id-ID" sz="2400" spc="-1" strike="noStrike">
                <a:solidFill>
                  <a:srgbClr val="000000"/>
                </a:solidFill>
                <a:latin typeface="Gill Sans MT"/>
              </a:rPr>
              <a:t>co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Halaman identifikas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Halaman pengesah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Daftar is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Ringkasan eksekuti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Bab 1: Ringkasan rencana strategis pengembangan institus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Bab 2: Ringkasan laporan evaluasi diri di tingkat perguruan tingg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Bab 3: Rancangan global program pengembang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Lampiran, berisi data dan informasi pendukung yang relevan dengan isi propos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Bookman Old Style"/>
              </a:rPr>
              <a:t>Bab 3. </a:t>
            </a:r>
            <a:r>
              <a:rPr b="0" lang="id-ID" sz="2400" spc="-1" strike="noStrike">
                <a:solidFill>
                  <a:srgbClr val="464653"/>
                </a:solidFill>
                <a:latin typeface="Bookman Old Style"/>
              </a:rPr>
              <a:t>Rancangan global program pengembangan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6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B6D7-5FC4-4D61-8E62-2BDF764B7DA5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F0C4-6020-4FE0-B572-392ED595CD98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netapan tema program dan r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ional atas pemilihan tema dan unit internal yang dilibatka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cangan global program ini harus mencantumkan secara ekplisit kaitan program yang diusulkan 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dengan hasil evaluasi dir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ngkat institusi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Deskripsi ringkas program pengembangan untuk masing-masing tema yang diajuk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464653"/>
                </a:solidFill>
                <a:latin typeface="Gill Sans MT"/>
              </a:rPr>
              <a:t>Latar belakang singkat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464653"/>
                </a:solidFill>
                <a:latin typeface="Gill Sans MT"/>
              </a:rPr>
              <a:t>Tujuan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464653"/>
                </a:solidFill>
                <a:latin typeface="Gill Sans MT"/>
              </a:rPr>
              <a:t>Bagaimana program akan dilaksanakan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, </a:t>
            </a:r>
            <a:r>
              <a:rPr b="0" lang="en-US" sz="2100" spc="-1" strike="noStrike">
                <a:solidFill>
                  <a:srgbClr val="cc3300"/>
                </a:solidFill>
                <a:latin typeface="Gill Sans MT"/>
              </a:rPr>
              <a:t>termasuk unit atau program studi dimana aktivitas ini akan diterapkan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464653"/>
                </a:solidFill>
                <a:latin typeface="Gill Sans MT"/>
              </a:rPr>
              <a:t>Bagaimana sumberdaya akan dimanfaatkan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B belum perlu disajikan pada Proposal Aw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tatan: Ditulis dalam bentuk narasi, bukan hany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oin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tau judul-judul aktivit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0:14:59Z</dcterms:created>
  <dc:creator>Komisi PHK DPT Dikti</dc:creator>
  <dc:description/>
  <dc:language>en-US</dc:language>
  <cp:lastModifiedBy>Luke Skywalker</cp:lastModifiedBy>
  <dcterms:modified xsi:type="dcterms:W3CDTF">2007-02-18T00:30:34Z</dcterms:modified>
  <cp:revision>449</cp:revision>
  <dc:subject>Pelatihan Penyusunan Proposal</dc:subject>
  <dc:title>Program Hibah Kompetisi Institusi</dc:title>
</cp:coreProperties>
</file>