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01BB-8C6D-40E6-84F2-04444DC68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E403-049E-4660-A511-6F3384D80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el rekap anggar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4885-D535-4164-AF56-478F3CAF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C649-5DF9-476E-8EDE-5988EA40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5FE4-1ADA-4D24-A22C-2D671D0B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1B90-6CB1-4062-910A-585ED086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1E1E-AD2B-4426-A4DB-DAB306B1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24E4-0821-497A-8E4B-85584006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DE3F-F881-4C0F-8EEF-42F65C48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D301-3BED-4F25-89DE-2842578A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768E-38B9-4D87-9B3B-F9F9CA05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8288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214C-8D9C-4D99-A114-C6784461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0113-D911-499A-AC06-D73B79EF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5B29-9376-44B7-A08A-DF49060D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34F4-338E-478A-86B9-ED173C08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2691-DE59-492D-A55B-22A383BD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F8B5-A16E-45B7-AA21-758570B3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B6E6-57D0-4991-8C2F-C2436287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08B5-3E2F-4DD7-BEB9-78E54715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4529-1DF7-451D-9012-E79CD3A3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80565-09FC-4080-BAF1-9BD60F1A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AAD1-0795-4814-8BC7-BC348B74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8288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B81FB-6D45-471B-8B06-71008491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8EB9-C5F7-481F-A736-87335C1E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C65F-0885-47F3-9B5F-3DE38A89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0332-C52C-4984-A830-B9FB3835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4FCF-4495-4A97-AFBA-904FA66AE0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" name="Object 17"/>
          <p:cNvGraphicFramePr/>
          <p:nvPr/>
        </p:nvGraphicFramePr>
        <p:xfrm>
          <a:off x="76320" y="76320"/>
          <a:ext cx="1600200" cy="157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60020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7" name="Object 21"/>
          <p:cNvGraphicFramePr/>
          <p:nvPr/>
        </p:nvGraphicFramePr>
        <p:xfrm>
          <a:off x="228600" y="1981080"/>
          <a:ext cx="213372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21337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08A8-6358-485D-9957-3B6D5B8E2C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PROGRAM HIBAH KOMPETISI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BERBASIS INSTITUS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rangka Pikir &amp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nduan Penyusunan Propos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lajaran dari PHK selama 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 dirancang di tingkat Departemen atau Fakultas. Keselarasannya dengan arah pengembangan PT hanya pada tataran nara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si program sepenuhnya di tingkat uni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an pimpinan PT sebatas formalitas administrat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untabilitas di tingkat institusi kurang terli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itutional development is more than a simple sum of the contributions of individual un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tur PHK berbasis Institus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mpinan PT memiliki kewenangan dan kendali penuh pada arah dan program pengembangan di PT tersebut (Otono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untabilitas atas hasil dan pelaksanaan program ada di tangan pimpinan 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rupakan salah satu bentuk realisasi dari kebijakan dan strategi Ditjen Dik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ga kebijakan dasar HE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ga pilar pengembangan DIKTI (GUG, mutu dan relevansi, perluasan aks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ubahan pola pik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hap penyusunan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Institus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≠ Kumpulan sub-proposal dari unit 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lu keterlibatan (bukan hanya dukungan) dari pimpinan (SE, penetapan tema, penetapan un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hap pelaksana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gungjawab langsung oleh pimpi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&amp; sumber daya merupakan asset institu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ujuan dan Desain Hiba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juan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jua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  <a:ea typeface="宋体"/>
              </a:rPr>
              <a:t>meningkatan mutu dan relevansi PT; menuju PT yang sehat, otonom, dan berkontribusi pada daya saing bang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宋体"/>
              </a:rPr>
              <a:t>Peningkatan kapasitas institusional dan mutu manajemen perguruan tin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eningkatan mutu, relevansi dan efisie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engembangan program unggu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A: Manajemen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ujukan untuk meningkatkan mutu manajemen Perguruan Tin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iputi organisasi dan governance, manajemen program akademik dan sumber daya serta manajemen mu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alui suatu evaluasi diri yang komprehensive, PT menetapkan program dan area pengembangan yang diperlukan dengan mengacu pada rencana dan strategi pengembangan 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aran utama pada sistem pengelolaan P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ma 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wujudnya sistem ketatakelolaan yang efek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tatanya sistem rekaman dan pengelolaan data/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funsinya sistem penjaminan mu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fungsinya sistem keuangan yang transpa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B: Mutu, Relevansi dan Efisiensi 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 menentukan issues yg terkait dengan mutu, relevansi dan efisiensi yg ada di PT terse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mudian menetapkan prioritas (substansi maupun cakupan 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lah dan jenis PS diserahkan sepenuhnya pada PT; dengan mempertimbangkan kapasitas dan pendanaan yang ters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kator dan sasaran disesuaikan dg issue yang ada di 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aran utama program adalah PS, investasi tetap di 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ma B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lah lulu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si mahasiswa selesai tepat wa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E staff termanfaat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ilitas termanfaat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a saing lulu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si pendapatan insitusi diluar kontribusi mahasis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si mahasiswa dari keluarga kurang mam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C: Unggu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latarbelakangi oleh track record institu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ujukan untuk peningkatan daya saing global (internas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pat mencakup aspek pendidikan dan peneli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upakan program yang diunggulkan 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1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 Saj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ar Belak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angka Pik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juan dan Desain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yaratan institusi pengu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a penda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asi Pelaksana Program di 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s dan Kriteria Seleksi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onen biaya yang dapat diusul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dwal proses seleksi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ma C: Unggu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si jumlah mahasiswa 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akreditasi oleh badan akreditasi interna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lah publikasi di jurnal interna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lah sit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lehan hibah dari sumber dana interna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etapan Tema oleh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 melakukan ED secara komprehensive dan rigorous di tingkat institu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 menetapkan prioritas dan fokus issue yang akan ditangani dengan mempertimbangkan resource yang ters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 menetapkan/memilih tema yang akan diajukan (Proposal Aw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in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si Program: 3 tah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 PT mengajukan 1 (satu) proposal, dapat memuat 1 – 3 tema di a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ar pagu per-tema per tah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a A ≤ 2 M, B ≤ 3 M, C ≤ 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us disesuaikan dengan kebutuhan program (termasuk ukuran PT dan kharakteristik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isi secara berlapis (Tiered Compet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berapa PTN dan BHMN sudah mendapat pendanaan tema A dari I-M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ered-Competition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 dikelompokkan sb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/Sekolah Tinggi S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as/Institut (kecuali S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kelompokkan berdasarkan tema yg diusul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k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kelompokkan berdasarkan tema  yg diusul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kolah Tingg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nah memenangkan hibah DIKTI vs Lain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ade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nah memenangkan hibah DIKTI vs Lain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yaratan Pengus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atuhan pada kebijakan dan peraturan Pemerin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zinan, laporan EPSBED, tidak menyelenggarakan kelas jauh, ‘diploma mill’, dl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sanggupan untuk mengikuti peraturan Pemerintah terkait dengan pengadaan dan pengelolaan keuan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a Pendam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 menyediakan minimal 10% dari jumlah dana yang diusulkan untuk didanai oleh DIK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us mencukupi untuk keperl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elolaan kegiatan/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dan evaluasi in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operasian/pemeliharaan fasil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upakan persyaratan untuk kont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es dan Kriteria Selek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ksi dilakukan dalam dua tahapan proposal dan kunjungan ke 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iteria seleksi untuk proposal aw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pemimpinan dan komitmen in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alitas laporan evaluasi di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epatan strategi dan progr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iteria seleksi untuk proposal leng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itmen pada good govern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alitas laporan evaluasi dir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u dan relevansi progr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ayakan investasi dan sustainab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gelolaan Kegia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harapkan untuk diintegrasikan dengan struktur dan fungsi yang 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orong terjadinya internalisasi project activities ke dalam institu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anfaatkan struktur dan pejabat yg 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si utama yang harus 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aksana kegiatan (integ pada akadem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gelola pengadaan dan keuangan (intg pd ad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reporting (integ pada I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ponen Bi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gadaan barang dan j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cakup peralatan, buku, 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kerjaan sip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gembangan st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DT selektif dan hanya utk kary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ntif staf (competitive intern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u didukung TOR yg j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onen khusus: untuk tema unggu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uk program unggulan; complementary dg yang disebut di a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si anggaran disederhanakan; spek detil tidak disertakan tapi siap utk dibahas saat site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ormat Proposa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atar Belaka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 Aw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487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esa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ftar 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kasan ekseku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-1: Ringkasan ren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-2: 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-3: Rancanga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mp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okuskan pada evaluasi diri di tingkat institu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andasi rasional untuk penetapa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lan anggaran belum dimi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ikan format dan jumlah halaman sesuai Pand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Ringkasan rencana strategis pengembangan institusi (maksimum 4 halam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emuat informasi ringkas tentang rencana strategis pengembangan perguruan tinggi yang saat ini dijalankan dan dijadikan landasan untuk penyusunan rencana program pengemban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140D-3BA8-4374-8326-07ECF68F51FF}" type="slidenum">
              <a:rPr b="1" lang="id-ID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500" spc="-1" strike="noStrike">
                <a:solidFill>
                  <a:srgbClr val="000000"/>
                </a:solidFill>
                <a:latin typeface="Arial"/>
              </a:rPr>
              <a:t>Ringkasan laporan evaluasi diri di tingkat perguruan tinggi (maksimum 20 halama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id-ID" sz="2500" spc="-1" strike="noStrike">
                <a:solidFill>
                  <a:srgbClr val="000000"/>
                </a:solidFill>
                <a:latin typeface="Arial"/>
              </a:rPr>
              <a:t>erisi laporan evaluasi diri di tingkat institusi. Beberapa aspek yang perlu dianalisis antara lai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lnSpc>
                <a:spcPct val="8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Arial"/>
              </a:rPr>
              <a:t>Analisis lingkungan ekstern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lnSpc>
                <a:spcPct val="8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Arial"/>
              </a:rPr>
              <a:t>Evaluasi pelaksanaan, hasil, dan dampak berbagai hibah sebelumny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lnSpc>
                <a:spcPct val="8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Arial"/>
              </a:rPr>
              <a:t>Evaluasi kinerja dan pengelolaan program akademi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lnSpc>
                <a:spcPct val="8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Arial"/>
              </a:rPr>
              <a:t>Evaluasi ketersediaan dan manajemen sumber day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lnSpc>
                <a:spcPct val="8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Arial"/>
              </a:rPr>
              <a:t>Evaluasi sistem penjaminan mutu di tingkat institus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lnSpc>
                <a:spcPct val="8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Arial"/>
              </a:rPr>
              <a:t>Ringkasan hasil analisis dengan menggunakan metode yang sesuai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lnSpc>
                <a:spcPct val="8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Arial"/>
              </a:rPr>
              <a:t>Nilai </a:t>
            </a:r>
            <a:r>
              <a:rPr b="0" i="1" lang="id-ID" sz="19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id-ID" sz="1900" spc="-1" strike="noStrike">
                <a:solidFill>
                  <a:srgbClr val="000000"/>
                </a:solidFill>
                <a:latin typeface="Arial"/>
              </a:rPr>
              <a:t> indikator kinerja utama dan indikator kinerja penunja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teri ini akan dibahas lebih jauh pada topik “Evaluasi Diri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994E-9B17-4CCB-9F68-26739BD767B1}" type="slidenum">
              <a:rPr b="1" lang="id-ID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B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Arial"/>
              </a:rPr>
              <a:t>Rancangan global program pengembangan (maksimum 5 hala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Bagian ini berisi dua bagian penting, yai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netapan tema program dan rasional atas pemilihan tema dan unit internal yang dilibatkan (sesuai dengan hasil evaluasi dir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Deskripsi ringkas program pengembangan untuk masing-masing tema yang diajukan (</a:t>
            </a:r>
            <a:r>
              <a:rPr b="0" i="1" lang="id-ID" sz="2200" spc="-1" strike="noStrike">
                <a:solidFill>
                  <a:srgbClr val="000000"/>
                </a:solidFill>
                <a:latin typeface="Arial"/>
              </a:rPr>
              <a:t>inception or preliminary plan</a:t>
            </a: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 ini akan dibahas lebih jauh pada topik “Pengembangan program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3A42-2126-4B16-B580-27EF0D905403}" type="slidenum">
              <a:rPr b="1" lang="id-ID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 Lengk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lebih detil untuk setiap tema yg diaju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cia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cana Angga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cana pengelolaan kegia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si lebih detil bisa dibahas saat diskusi kelom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esa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ftar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k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1: rasional &amp; kont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2: mekanisme pelaksa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3: Ringkasan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4: Rincia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5: Indikator Kiner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6: Usulan Angg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p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lengkap (dijilid terpis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dwal Seleksi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685800" y="174852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Usulan program tahun anggaran 2008 akan diproses sesuai dengan jadwal berik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ngumuman/Undang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1/2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masukan proposal aw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0/3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engumum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30/4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emasukan proposal penu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29/6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engumuman Site-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31/7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Site-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6/8 – 21/9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Penentuan Pemena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28/9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956960" y="5622840"/>
            <a:ext cx="437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disubmit 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kretariat Dewan Pendidikan Tin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diknas, Gedung E Lt 19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nduan ada di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ww.dikti.org/ph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3"/>
          <p:cNvSpPr txBox="1"/>
          <p:nvPr/>
        </p:nvSpPr>
        <p:spPr>
          <a:xfrm>
            <a:off x="2286000" y="4267080"/>
            <a:ext cx="4038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rima Kasih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5964120" y="5097600"/>
            <a:ext cx="331560" cy="320040"/>
            <a:chOff x="5964120" y="5097600"/>
            <a:chExt cx="331560" cy="320040"/>
          </a:xfrm>
        </p:grpSpPr>
        <p:sp>
          <p:nvSpPr>
            <p:cNvPr id="123" name="Freeform 3"/>
            <p:cNvSpPr/>
            <p:nvPr/>
          </p:nvSpPr>
          <p:spPr>
            <a:xfrm>
              <a:off x="6184800" y="5233680"/>
              <a:ext cx="110880" cy="174240"/>
            </a:xfrm>
            <a:prstGeom prst="pie">
              <a:avLst/>
            </a:prstGeom>
            <a:solidFill>
              <a:srgbClr val="e0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6130800" y="5187600"/>
              <a:ext cx="163440" cy="230040"/>
            </a:xfrm>
            <a:prstGeom prst="pie">
              <a:avLst/>
            </a:prstGeom>
            <a:solidFill>
              <a:srgbClr val="eb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6087960" y="5154480"/>
              <a:ext cx="193680" cy="263160"/>
            </a:xfrm>
            <a:prstGeom prst="pie">
              <a:avLst/>
            </a:prstGeom>
            <a:solidFill>
              <a:srgbClr val="f50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054480" y="5130720"/>
              <a:ext cx="211320" cy="282240"/>
            </a:xfrm>
            <a:prstGeom prst="pie">
              <a:avLst/>
            </a:prstGeom>
            <a:solidFill>
              <a:srgbClr val="ff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6024240" y="5114880"/>
              <a:ext cx="223920" cy="285120"/>
            </a:xfrm>
            <a:prstGeom prst="pie">
              <a:avLst/>
            </a:prstGeom>
            <a:solidFill>
              <a:srgbClr val="ff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6000480" y="5103720"/>
              <a:ext cx="231840" cy="280440"/>
            </a:xfrm>
            <a:prstGeom prst="pie">
              <a:avLst/>
            </a:prstGeom>
            <a:solidFill>
              <a:srgbClr val="ff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983200" y="5099040"/>
              <a:ext cx="233280" cy="267840"/>
            </a:xfrm>
            <a:prstGeom prst="pie">
              <a:avLst/>
            </a:prstGeom>
            <a:solidFill>
              <a:srgbClr val="ff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5970240" y="5097600"/>
              <a:ext cx="230400" cy="253800"/>
            </a:xfrm>
            <a:prstGeom prst="pie">
              <a:avLst/>
            </a:prstGeom>
            <a:solidFill>
              <a:srgbClr val="ff4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5965560" y="5097600"/>
              <a:ext cx="219240" cy="237960"/>
            </a:xfrm>
            <a:prstGeom prst="pie">
              <a:avLst/>
            </a:prstGeom>
            <a:solidFill>
              <a:srgbClr val="ff5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5964120" y="5100480"/>
              <a:ext cx="203040" cy="218520"/>
            </a:xfrm>
            <a:prstGeom prst="pie">
              <a:avLst/>
            </a:prstGeom>
            <a:solidFill>
              <a:srgbClr val="ff6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5964120" y="5108400"/>
              <a:ext cx="187200" cy="194760"/>
            </a:xfrm>
            <a:prstGeom prst="pie">
              <a:avLst/>
            </a:prstGeom>
            <a:solidFill>
              <a:srgbClr val="f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5972040" y="5122800"/>
              <a:ext cx="163440" cy="164520"/>
            </a:xfrm>
            <a:prstGeom prst="pie">
              <a:avLst/>
            </a:prstGeom>
            <a:solidFill>
              <a:srgbClr val="ff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5987880" y="5138640"/>
              <a:ext cx="131760" cy="131400"/>
            </a:xfrm>
            <a:prstGeom prst="pie">
              <a:avLst/>
            </a:prstGeom>
            <a:solidFill>
              <a:srgbClr val="ffa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6003720" y="5154480"/>
              <a:ext cx="100080" cy="99720"/>
            </a:xfrm>
            <a:prstGeom prst="pie">
              <a:avLst/>
            </a:prstGeom>
            <a:solidFill>
              <a:srgbClr val="f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6019560" y="5170320"/>
              <a:ext cx="68400" cy="68040"/>
            </a:xfrm>
            <a:prstGeom prst="pie">
              <a:avLst/>
            </a:prstGeom>
            <a:solidFill>
              <a:srgbClr val="f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6035400" y="5187600"/>
              <a:ext cx="3672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9"/>
          <p:cNvSpPr/>
          <p:nvPr/>
        </p:nvSpPr>
        <p:spPr>
          <a:xfrm>
            <a:off x="4578480" y="48531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ono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0"/>
          <p:cNvSpPr/>
          <p:nvPr/>
        </p:nvSpPr>
        <p:spPr>
          <a:xfrm>
            <a:off x="5207040" y="1913040"/>
            <a:ext cx="958680" cy="323676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1"/>
          <p:cNvSpPr/>
          <p:nvPr/>
        </p:nvSpPr>
        <p:spPr>
          <a:xfrm>
            <a:off x="1714680" y="5234040"/>
            <a:ext cx="4295520" cy="37944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2"/>
          <p:cNvSpPr/>
          <p:nvPr/>
        </p:nvSpPr>
        <p:spPr>
          <a:xfrm>
            <a:off x="6227640" y="5251320"/>
            <a:ext cx="1447920" cy="52092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3"/>
          <p:cNvSpPr/>
          <p:nvPr/>
        </p:nvSpPr>
        <p:spPr>
          <a:xfrm>
            <a:off x="5116680" y="3795840"/>
            <a:ext cx="1036440" cy="1487520"/>
          </a:xfrm>
          <a:prstGeom prst="pie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4946760" y="3621240"/>
            <a:ext cx="381960" cy="368280"/>
            <a:chOff x="4946760" y="3621240"/>
            <a:chExt cx="381960" cy="368280"/>
          </a:xfrm>
        </p:grpSpPr>
        <p:sp>
          <p:nvSpPr>
            <p:cNvPr id="145" name="Freeform 25"/>
            <p:cNvSpPr/>
            <p:nvPr/>
          </p:nvSpPr>
          <p:spPr>
            <a:xfrm>
              <a:off x="5111640" y="3783240"/>
              <a:ext cx="51840" cy="442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5198760" y="3768840"/>
              <a:ext cx="129960" cy="209520"/>
            </a:xfrm>
            <a:prstGeom prst="pie">
              <a:avLst/>
            </a:prstGeom>
            <a:solidFill>
              <a:srgbClr val="e0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5136840" y="3719520"/>
              <a:ext cx="190080" cy="268560"/>
            </a:xfrm>
            <a:prstGeom prst="pie">
              <a:avLst/>
            </a:prstGeom>
            <a:solidFill>
              <a:srgbClr val="eb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5090760" y="3684600"/>
              <a:ext cx="218880" cy="304920"/>
            </a:xfrm>
            <a:prstGeom prst="pie">
              <a:avLst/>
            </a:prstGeom>
            <a:solidFill>
              <a:srgbClr val="f50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5049720" y="3659400"/>
              <a:ext cx="242280" cy="323640"/>
            </a:xfrm>
            <a:prstGeom prst="pie">
              <a:avLst/>
            </a:prstGeom>
            <a:solidFill>
              <a:srgbClr val="ff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5016240" y="3640320"/>
              <a:ext cx="256680" cy="328680"/>
            </a:xfrm>
            <a:prstGeom prst="pie">
              <a:avLst/>
            </a:prstGeom>
            <a:solidFill>
              <a:srgbClr val="ff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4989240" y="3629160"/>
              <a:ext cx="264960" cy="320760"/>
            </a:xfrm>
            <a:prstGeom prst="pie">
              <a:avLst/>
            </a:prstGeom>
            <a:solidFill>
              <a:srgbClr val="ff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4970160" y="3622680"/>
              <a:ext cx="264960" cy="308160"/>
            </a:xfrm>
            <a:prstGeom prst="pie">
              <a:avLst/>
            </a:prstGeom>
            <a:solidFill>
              <a:srgbClr val="ff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4956120" y="3621240"/>
              <a:ext cx="261360" cy="291960"/>
            </a:xfrm>
            <a:prstGeom prst="pie">
              <a:avLst/>
            </a:prstGeom>
            <a:solidFill>
              <a:srgbClr val="ff4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4947840" y="3621240"/>
              <a:ext cx="250560" cy="273240"/>
            </a:xfrm>
            <a:prstGeom prst="pie">
              <a:avLst/>
            </a:prstGeom>
            <a:solidFill>
              <a:srgbClr val="ff5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4946760" y="3624480"/>
              <a:ext cx="232920" cy="250920"/>
            </a:xfrm>
            <a:prstGeom prst="pie">
              <a:avLst/>
            </a:prstGeom>
            <a:solidFill>
              <a:srgbClr val="ff6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4946760" y="3632400"/>
              <a:ext cx="215640" cy="225360"/>
            </a:xfrm>
            <a:prstGeom prst="pie">
              <a:avLst/>
            </a:prstGeom>
            <a:solidFill>
              <a:srgbClr val="f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4954320" y="3649680"/>
              <a:ext cx="188640" cy="189000"/>
            </a:xfrm>
            <a:prstGeom prst="pie">
              <a:avLst/>
            </a:prstGeom>
            <a:solidFill>
              <a:srgbClr val="ff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973400" y="3668760"/>
              <a:ext cx="150480" cy="150840"/>
            </a:xfrm>
            <a:prstGeom prst="pie">
              <a:avLst/>
            </a:prstGeom>
            <a:solidFill>
              <a:srgbClr val="ffa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9"/>
            <p:cNvSpPr/>
            <p:nvPr/>
          </p:nvSpPr>
          <p:spPr>
            <a:xfrm>
              <a:off x="4991040" y="3686400"/>
              <a:ext cx="115200" cy="115920"/>
            </a:xfrm>
            <a:prstGeom prst="pie">
              <a:avLst/>
            </a:prstGeom>
            <a:solidFill>
              <a:srgbClr val="f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0"/>
            <p:cNvSpPr/>
            <p:nvPr/>
          </p:nvSpPr>
          <p:spPr>
            <a:xfrm>
              <a:off x="5009760" y="3705480"/>
              <a:ext cx="77760" cy="77760"/>
            </a:xfrm>
            <a:prstGeom prst="pie">
              <a:avLst/>
            </a:prstGeom>
            <a:solidFill>
              <a:srgbClr val="f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1"/>
            <p:cNvSpPr/>
            <p:nvPr/>
          </p:nvSpPr>
          <p:spPr>
            <a:xfrm>
              <a:off x="5028840" y="372456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42"/>
          <p:cNvSpPr/>
          <p:nvPr/>
        </p:nvSpPr>
        <p:spPr>
          <a:xfrm>
            <a:off x="3740040" y="340524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Kual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3"/>
          <p:cNvSpPr/>
          <p:nvPr/>
        </p:nvSpPr>
        <p:spPr>
          <a:xfrm>
            <a:off x="5108400" y="2084400"/>
            <a:ext cx="160560" cy="158904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4"/>
          <p:cNvSpPr/>
          <p:nvPr/>
        </p:nvSpPr>
        <p:spPr>
          <a:xfrm>
            <a:off x="1717560" y="3809880"/>
            <a:ext cx="3332160" cy="178128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5"/>
          <p:cNvSpPr/>
          <p:nvPr/>
        </p:nvSpPr>
        <p:spPr>
          <a:xfrm>
            <a:off x="5235480" y="3798720"/>
            <a:ext cx="2444760" cy="194976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6"/>
          <p:cNvGrpSpPr/>
          <p:nvPr/>
        </p:nvGrpSpPr>
        <p:grpSpPr>
          <a:xfrm>
            <a:off x="5045040" y="1716120"/>
            <a:ext cx="414360" cy="401760"/>
            <a:chOff x="5045040" y="1716120"/>
            <a:chExt cx="414360" cy="401760"/>
          </a:xfrm>
        </p:grpSpPr>
        <p:sp>
          <p:nvSpPr>
            <p:cNvPr id="167" name="Freeform 47"/>
            <p:cNvSpPr/>
            <p:nvPr/>
          </p:nvSpPr>
          <p:spPr>
            <a:xfrm>
              <a:off x="5205600" y="1878120"/>
              <a:ext cx="93600" cy="604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8"/>
            <p:cNvSpPr/>
            <p:nvPr/>
          </p:nvSpPr>
          <p:spPr>
            <a:xfrm>
              <a:off x="5313600" y="1884600"/>
              <a:ext cx="145800" cy="223920"/>
            </a:xfrm>
            <a:prstGeom prst="pie">
              <a:avLst/>
            </a:prstGeom>
            <a:solidFill>
              <a:srgbClr val="e0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9"/>
            <p:cNvSpPr/>
            <p:nvPr/>
          </p:nvSpPr>
          <p:spPr>
            <a:xfrm>
              <a:off x="5248440" y="1827360"/>
              <a:ext cx="208080" cy="290520"/>
            </a:xfrm>
            <a:prstGeom prst="pie">
              <a:avLst/>
            </a:prstGeom>
            <a:solidFill>
              <a:srgbClr val="eb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0"/>
            <p:cNvSpPr/>
            <p:nvPr/>
          </p:nvSpPr>
          <p:spPr>
            <a:xfrm>
              <a:off x="5195880" y="1785960"/>
              <a:ext cx="244440" cy="331920"/>
            </a:xfrm>
            <a:prstGeom prst="pie">
              <a:avLst/>
            </a:prstGeom>
            <a:solidFill>
              <a:srgbClr val="f50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1"/>
            <p:cNvSpPr/>
            <p:nvPr/>
          </p:nvSpPr>
          <p:spPr>
            <a:xfrm>
              <a:off x="5153040" y="1758960"/>
              <a:ext cx="266760" cy="351000"/>
            </a:xfrm>
            <a:prstGeom prst="pie">
              <a:avLst/>
            </a:prstGeom>
            <a:solidFill>
              <a:srgbClr val="ff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2"/>
            <p:cNvSpPr/>
            <p:nvPr/>
          </p:nvSpPr>
          <p:spPr>
            <a:xfrm>
              <a:off x="5118120" y="1738440"/>
              <a:ext cx="282600" cy="355680"/>
            </a:xfrm>
            <a:prstGeom prst="pie">
              <a:avLst/>
            </a:prstGeom>
            <a:solidFill>
              <a:srgbClr val="ff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3"/>
            <p:cNvSpPr/>
            <p:nvPr/>
          </p:nvSpPr>
          <p:spPr>
            <a:xfrm>
              <a:off x="5091120" y="1725840"/>
              <a:ext cx="289080" cy="347760"/>
            </a:xfrm>
            <a:prstGeom prst="pie">
              <a:avLst/>
            </a:prstGeom>
            <a:solidFill>
              <a:srgbClr val="ff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4"/>
            <p:cNvSpPr/>
            <p:nvPr/>
          </p:nvSpPr>
          <p:spPr>
            <a:xfrm>
              <a:off x="5070600" y="1717920"/>
              <a:ext cx="289080" cy="334800"/>
            </a:xfrm>
            <a:prstGeom prst="pie">
              <a:avLst/>
            </a:prstGeom>
            <a:solidFill>
              <a:srgbClr val="ff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5"/>
            <p:cNvSpPr/>
            <p:nvPr/>
          </p:nvSpPr>
          <p:spPr>
            <a:xfrm>
              <a:off x="5054760" y="1716120"/>
              <a:ext cx="285840" cy="317520"/>
            </a:xfrm>
            <a:prstGeom prst="pie">
              <a:avLst/>
            </a:prstGeom>
            <a:solidFill>
              <a:srgbClr val="ff4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6"/>
            <p:cNvSpPr/>
            <p:nvPr/>
          </p:nvSpPr>
          <p:spPr>
            <a:xfrm>
              <a:off x="5046840" y="1716120"/>
              <a:ext cx="272880" cy="297000"/>
            </a:xfrm>
            <a:prstGeom prst="pie">
              <a:avLst/>
            </a:prstGeom>
            <a:solidFill>
              <a:srgbClr val="ff5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7"/>
            <p:cNvSpPr/>
            <p:nvPr/>
          </p:nvSpPr>
          <p:spPr>
            <a:xfrm>
              <a:off x="5045040" y="1719360"/>
              <a:ext cx="254160" cy="273240"/>
            </a:xfrm>
            <a:prstGeom prst="pie">
              <a:avLst/>
            </a:prstGeom>
            <a:solidFill>
              <a:srgbClr val="ff6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8"/>
            <p:cNvSpPr/>
            <p:nvPr/>
          </p:nvSpPr>
          <p:spPr>
            <a:xfrm>
              <a:off x="5045040" y="1729080"/>
              <a:ext cx="233640" cy="242640"/>
            </a:xfrm>
            <a:prstGeom prst="pie">
              <a:avLst/>
            </a:prstGeom>
            <a:solidFill>
              <a:srgbClr val="f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9"/>
            <p:cNvSpPr/>
            <p:nvPr/>
          </p:nvSpPr>
          <p:spPr>
            <a:xfrm>
              <a:off x="5054760" y="1746360"/>
              <a:ext cx="204840" cy="204840"/>
            </a:xfrm>
            <a:prstGeom prst="pie">
              <a:avLst/>
            </a:prstGeom>
            <a:solidFill>
              <a:srgbClr val="ff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0"/>
            <p:cNvSpPr/>
            <p:nvPr/>
          </p:nvSpPr>
          <p:spPr>
            <a:xfrm>
              <a:off x="5075280" y="1767240"/>
              <a:ext cx="163440" cy="163440"/>
            </a:xfrm>
            <a:prstGeom prst="pie">
              <a:avLst/>
            </a:prstGeom>
            <a:solidFill>
              <a:srgbClr val="ffa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1"/>
            <p:cNvSpPr/>
            <p:nvPr/>
          </p:nvSpPr>
          <p:spPr>
            <a:xfrm>
              <a:off x="5094360" y="1785960"/>
              <a:ext cx="123840" cy="125640"/>
            </a:xfrm>
            <a:prstGeom prst="pie">
              <a:avLst/>
            </a:prstGeom>
            <a:solidFill>
              <a:srgbClr val="f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2"/>
            <p:cNvSpPr/>
            <p:nvPr/>
          </p:nvSpPr>
          <p:spPr>
            <a:xfrm>
              <a:off x="5114880" y="1806840"/>
              <a:ext cx="82800" cy="83880"/>
            </a:xfrm>
            <a:prstGeom prst="pie">
              <a:avLst/>
            </a:prstGeom>
            <a:solidFill>
              <a:srgbClr val="f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3"/>
            <p:cNvSpPr/>
            <p:nvPr/>
          </p:nvSpPr>
          <p:spPr>
            <a:xfrm>
              <a:off x="5135760" y="1827360"/>
              <a:ext cx="428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64"/>
          <p:cNvSpPr/>
          <p:nvPr/>
        </p:nvSpPr>
        <p:spPr>
          <a:xfrm>
            <a:off x="5417640" y="16527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5"/>
          <p:cNvGrpSpPr/>
          <p:nvPr/>
        </p:nvGrpSpPr>
        <p:grpSpPr>
          <a:xfrm>
            <a:off x="7450200" y="5514840"/>
            <a:ext cx="414360" cy="401760"/>
            <a:chOff x="7450200" y="5514840"/>
            <a:chExt cx="414360" cy="401760"/>
          </a:xfrm>
        </p:grpSpPr>
        <p:sp>
          <p:nvSpPr>
            <p:cNvPr id="186" name="Freeform 66"/>
            <p:cNvSpPr/>
            <p:nvPr/>
          </p:nvSpPr>
          <p:spPr>
            <a:xfrm>
              <a:off x="7645680" y="5703840"/>
              <a:ext cx="45720" cy="522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7"/>
            <p:cNvSpPr/>
            <p:nvPr/>
          </p:nvSpPr>
          <p:spPr>
            <a:xfrm>
              <a:off x="7650360" y="5681520"/>
              <a:ext cx="60120" cy="921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8"/>
            <p:cNvSpPr/>
            <p:nvPr/>
          </p:nvSpPr>
          <p:spPr>
            <a:xfrm>
              <a:off x="7715520" y="5681520"/>
              <a:ext cx="149040" cy="226800"/>
            </a:xfrm>
            <a:prstGeom prst="pie">
              <a:avLst/>
            </a:prstGeom>
            <a:solidFill>
              <a:srgbClr val="e0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9"/>
            <p:cNvSpPr/>
            <p:nvPr/>
          </p:nvSpPr>
          <p:spPr>
            <a:xfrm>
              <a:off x="7650360" y="5624280"/>
              <a:ext cx="212760" cy="292320"/>
            </a:xfrm>
            <a:prstGeom prst="pie">
              <a:avLst/>
            </a:prstGeom>
            <a:solidFill>
              <a:srgbClr val="eb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0"/>
            <p:cNvSpPr/>
            <p:nvPr/>
          </p:nvSpPr>
          <p:spPr>
            <a:xfrm>
              <a:off x="7601040" y="5586120"/>
              <a:ext cx="244440" cy="330480"/>
            </a:xfrm>
            <a:prstGeom prst="pie">
              <a:avLst/>
            </a:prstGeom>
            <a:solidFill>
              <a:srgbClr val="f50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1"/>
            <p:cNvSpPr/>
            <p:nvPr/>
          </p:nvSpPr>
          <p:spPr>
            <a:xfrm>
              <a:off x="7558200" y="5557680"/>
              <a:ext cx="268200" cy="352440"/>
            </a:xfrm>
            <a:prstGeom prst="pie">
              <a:avLst/>
            </a:prstGeom>
            <a:solidFill>
              <a:srgbClr val="ff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2"/>
            <p:cNvSpPr/>
            <p:nvPr/>
          </p:nvSpPr>
          <p:spPr>
            <a:xfrm>
              <a:off x="7523280" y="5537160"/>
              <a:ext cx="282600" cy="353880"/>
            </a:xfrm>
            <a:prstGeom prst="pie">
              <a:avLst/>
            </a:prstGeom>
            <a:solidFill>
              <a:srgbClr val="ff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3"/>
            <p:cNvSpPr/>
            <p:nvPr/>
          </p:nvSpPr>
          <p:spPr>
            <a:xfrm>
              <a:off x="7494840" y="5522760"/>
              <a:ext cx="290520" cy="349200"/>
            </a:xfrm>
            <a:prstGeom prst="pie">
              <a:avLst/>
            </a:prstGeom>
            <a:solidFill>
              <a:srgbClr val="ff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4"/>
            <p:cNvSpPr/>
            <p:nvPr/>
          </p:nvSpPr>
          <p:spPr>
            <a:xfrm>
              <a:off x="7473960" y="5516280"/>
              <a:ext cx="290520" cy="335160"/>
            </a:xfrm>
            <a:prstGeom prst="pie">
              <a:avLst/>
            </a:prstGeom>
            <a:solidFill>
              <a:srgbClr val="ff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5"/>
            <p:cNvSpPr/>
            <p:nvPr/>
          </p:nvSpPr>
          <p:spPr>
            <a:xfrm>
              <a:off x="7459920" y="5514840"/>
              <a:ext cx="285480" cy="315720"/>
            </a:xfrm>
            <a:prstGeom prst="pie">
              <a:avLst/>
            </a:prstGeom>
            <a:solidFill>
              <a:srgbClr val="ff4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6"/>
            <p:cNvSpPr/>
            <p:nvPr/>
          </p:nvSpPr>
          <p:spPr>
            <a:xfrm>
              <a:off x="7452000" y="5514840"/>
              <a:ext cx="272880" cy="296640"/>
            </a:xfrm>
            <a:prstGeom prst="pie">
              <a:avLst/>
            </a:prstGeom>
            <a:solidFill>
              <a:srgbClr val="ff5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7"/>
            <p:cNvSpPr/>
            <p:nvPr/>
          </p:nvSpPr>
          <p:spPr>
            <a:xfrm>
              <a:off x="7450200" y="5518080"/>
              <a:ext cx="254160" cy="272880"/>
            </a:xfrm>
            <a:prstGeom prst="pie">
              <a:avLst/>
            </a:prstGeom>
            <a:solidFill>
              <a:srgbClr val="ff6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8"/>
            <p:cNvSpPr/>
            <p:nvPr/>
          </p:nvSpPr>
          <p:spPr>
            <a:xfrm>
              <a:off x="7452000" y="5527440"/>
              <a:ext cx="233280" cy="243000"/>
            </a:xfrm>
            <a:prstGeom prst="pie">
              <a:avLst/>
            </a:prstGeom>
            <a:solidFill>
              <a:srgbClr val="f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9"/>
            <p:cNvSpPr/>
            <p:nvPr/>
          </p:nvSpPr>
          <p:spPr>
            <a:xfrm>
              <a:off x="7461360" y="5546520"/>
              <a:ext cx="203400" cy="203040"/>
            </a:xfrm>
            <a:prstGeom prst="pie">
              <a:avLst/>
            </a:prstGeom>
            <a:solidFill>
              <a:srgbClr val="ff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0"/>
            <p:cNvSpPr/>
            <p:nvPr/>
          </p:nvSpPr>
          <p:spPr>
            <a:xfrm>
              <a:off x="7480440" y="5565600"/>
              <a:ext cx="163440" cy="165240"/>
            </a:xfrm>
            <a:prstGeom prst="pie">
              <a:avLst/>
            </a:prstGeom>
            <a:solidFill>
              <a:srgbClr val="ffa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1"/>
            <p:cNvSpPr/>
            <p:nvPr/>
          </p:nvSpPr>
          <p:spPr>
            <a:xfrm>
              <a:off x="7499520" y="5586120"/>
              <a:ext cx="125280" cy="123840"/>
            </a:xfrm>
            <a:prstGeom prst="pie">
              <a:avLst/>
            </a:prstGeom>
            <a:solidFill>
              <a:srgbClr val="f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2"/>
            <p:cNvSpPr/>
            <p:nvPr/>
          </p:nvSpPr>
          <p:spPr>
            <a:xfrm>
              <a:off x="7521840" y="5607000"/>
              <a:ext cx="82440" cy="82440"/>
            </a:xfrm>
            <a:prstGeom prst="pie">
              <a:avLst/>
            </a:prstGeom>
            <a:solidFill>
              <a:srgbClr val="f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3"/>
            <p:cNvSpPr/>
            <p:nvPr/>
          </p:nvSpPr>
          <p:spPr>
            <a:xfrm>
              <a:off x="7540920" y="5626080"/>
              <a:ext cx="428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84"/>
          <p:cNvSpPr/>
          <p:nvPr/>
        </p:nvSpPr>
        <p:spPr>
          <a:xfrm>
            <a:off x="6941520" y="58435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kredit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5"/>
          <p:cNvGrpSpPr/>
          <p:nvPr/>
        </p:nvGrpSpPr>
        <p:grpSpPr>
          <a:xfrm>
            <a:off x="1500120" y="5356080"/>
            <a:ext cx="415800" cy="399960"/>
            <a:chOff x="1500120" y="5356080"/>
            <a:chExt cx="415800" cy="399960"/>
          </a:xfrm>
        </p:grpSpPr>
        <p:sp>
          <p:nvSpPr>
            <p:cNvPr id="206" name="Freeform 86"/>
            <p:cNvSpPr/>
            <p:nvPr/>
          </p:nvSpPr>
          <p:spPr>
            <a:xfrm>
              <a:off x="1669680" y="5518080"/>
              <a:ext cx="49320" cy="950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7"/>
            <p:cNvSpPr/>
            <p:nvPr/>
          </p:nvSpPr>
          <p:spPr>
            <a:xfrm>
              <a:off x="1701720" y="5540040"/>
              <a:ext cx="42840" cy="540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8"/>
            <p:cNvSpPr/>
            <p:nvPr/>
          </p:nvSpPr>
          <p:spPr>
            <a:xfrm>
              <a:off x="1768320" y="5518080"/>
              <a:ext cx="147600" cy="228600"/>
            </a:xfrm>
            <a:prstGeom prst="pie">
              <a:avLst/>
            </a:prstGeom>
            <a:solidFill>
              <a:srgbClr val="e0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9"/>
            <p:cNvSpPr/>
            <p:nvPr/>
          </p:nvSpPr>
          <p:spPr>
            <a:xfrm>
              <a:off x="1703160" y="5464080"/>
              <a:ext cx="209520" cy="291960"/>
            </a:xfrm>
            <a:prstGeom prst="pie">
              <a:avLst/>
            </a:prstGeom>
            <a:solidFill>
              <a:srgbClr val="eb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0"/>
            <p:cNvSpPr/>
            <p:nvPr/>
          </p:nvSpPr>
          <p:spPr>
            <a:xfrm>
              <a:off x="1652400" y="5425920"/>
              <a:ext cx="243000" cy="330120"/>
            </a:xfrm>
            <a:prstGeom prst="pie">
              <a:avLst/>
            </a:prstGeom>
            <a:solidFill>
              <a:srgbClr val="f50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1"/>
            <p:cNvSpPr/>
            <p:nvPr/>
          </p:nvSpPr>
          <p:spPr>
            <a:xfrm>
              <a:off x="1609560" y="5398920"/>
              <a:ext cx="266760" cy="349200"/>
            </a:xfrm>
            <a:prstGeom prst="pie">
              <a:avLst/>
            </a:prstGeom>
            <a:solidFill>
              <a:srgbClr val="ff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2"/>
            <p:cNvSpPr/>
            <p:nvPr/>
          </p:nvSpPr>
          <p:spPr>
            <a:xfrm>
              <a:off x="1574640" y="5378400"/>
              <a:ext cx="280800" cy="353880"/>
            </a:xfrm>
            <a:prstGeom prst="pie">
              <a:avLst/>
            </a:prstGeom>
            <a:solidFill>
              <a:srgbClr val="ff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3"/>
            <p:cNvSpPr/>
            <p:nvPr/>
          </p:nvSpPr>
          <p:spPr>
            <a:xfrm>
              <a:off x="1545840" y="5364000"/>
              <a:ext cx="289080" cy="347760"/>
            </a:xfrm>
            <a:prstGeom prst="pie">
              <a:avLst/>
            </a:prstGeom>
            <a:solidFill>
              <a:srgbClr val="ff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4"/>
            <p:cNvSpPr/>
            <p:nvPr/>
          </p:nvSpPr>
          <p:spPr>
            <a:xfrm>
              <a:off x="1525320" y="5357520"/>
              <a:ext cx="289080" cy="333360"/>
            </a:xfrm>
            <a:prstGeom prst="pie">
              <a:avLst/>
            </a:prstGeom>
            <a:solidFill>
              <a:srgbClr val="ff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95"/>
            <p:cNvSpPr/>
            <p:nvPr/>
          </p:nvSpPr>
          <p:spPr>
            <a:xfrm>
              <a:off x="1509480" y="5356080"/>
              <a:ext cx="285840" cy="315720"/>
            </a:xfrm>
            <a:prstGeom prst="pie">
              <a:avLst/>
            </a:prstGeom>
            <a:solidFill>
              <a:srgbClr val="ff4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6"/>
            <p:cNvSpPr/>
            <p:nvPr/>
          </p:nvSpPr>
          <p:spPr>
            <a:xfrm>
              <a:off x="1503000" y="5356080"/>
              <a:ext cx="271440" cy="295200"/>
            </a:xfrm>
            <a:prstGeom prst="pie">
              <a:avLst/>
            </a:prstGeom>
            <a:solidFill>
              <a:srgbClr val="ff5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7"/>
            <p:cNvSpPr/>
            <p:nvPr/>
          </p:nvSpPr>
          <p:spPr>
            <a:xfrm>
              <a:off x="1500120" y="5359320"/>
              <a:ext cx="253800" cy="271440"/>
            </a:xfrm>
            <a:prstGeom prst="pie">
              <a:avLst/>
            </a:prstGeom>
            <a:solidFill>
              <a:srgbClr val="ff6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8"/>
            <p:cNvSpPr/>
            <p:nvPr/>
          </p:nvSpPr>
          <p:spPr>
            <a:xfrm>
              <a:off x="1501560" y="5368680"/>
              <a:ext cx="233280" cy="243000"/>
            </a:xfrm>
            <a:prstGeom prst="pie">
              <a:avLst/>
            </a:prstGeom>
            <a:solidFill>
              <a:srgbClr val="f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99"/>
            <p:cNvSpPr/>
            <p:nvPr/>
          </p:nvSpPr>
          <p:spPr>
            <a:xfrm>
              <a:off x="1509480" y="5386320"/>
              <a:ext cx="204840" cy="204840"/>
            </a:xfrm>
            <a:prstGeom prst="pie">
              <a:avLst/>
            </a:prstGeom>
            <a:solidFill>
              <a:srgbClr val="ff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0"/>
            <p:cNvSpPr/>
            <p:nvPr/>
          </p:nvSpPr>
          <p:spPr>
            <a:xfrm>
              <a:off x="1530000" y="5406840"/>
              <a:ext cx="163800" cy="163440"/>
            </a:xfrm>
            <a:prstGeom prst="pie">
              <a:avLst/>
            </a:prstGeom>
            <a:solidFill>
              <a:srgbClr val="ffa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1"/>
            <p:cNvSpPr/>
            <p:nvPr/>
          </p:nvSpPr>
          <p:spPr>
            <a:xfrm>
              <a:off x="1549080" y="5425920"/>
              <a:ext cx="125640" cy="125280"/>
            </a:xfrm>
            <a:prstGeom prst="pie">
              <a:avLst/>
            </a:prstGeom>
            <a:solidFill>
              <a:srgbClr val="f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2"/>
            <p:cNvSpPr/>
            <p:nvPr/>
          </p:nvSpPr>
          <p:spPr>
            <a:xfrm>
              <a:off x="1569960" y="5446440"/>
              <a:ext cx="83880" cy="82800"/>
            </a:xfrm>
            <a:prstGeom prst="pie">
              <a:avLst/>
            </a:prstGeom>
            <a:solidFill>
              <a:srgbClr val="f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3"/>
            <p:cNvSpPr/>
            <p:nvPr/>
          </p:nvSpPr>
          <p:spPr>
            <a:xfrm>
              <a:off x="1590480" y="5467320"/>
              <a:ext cx="428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4"/>
          <p:cNvSpPr/>
          <p:nvPr/>
        </p:nvSpPr>
        <p:spPr>
          <a:xfrm>
            <a:off x="541080" y="56912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kuntabil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1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nguiat Bk BT"/>
              </a:rPr>
              <a:t>Paradigma Baru (KPPT-JP 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6"/>
          <p:cNvSpPr/>
          <p:nvPr/>
        </p:nvSpPr>
        <p:spPr>
          <a:xfrm>
            <a:off x="1752480" y="1981080"/>
            <a:ext cx="3419640" cy="3465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7"/>
          <p:cNvSpPr/>
          <p:nvPr/>
        </p:nvSpPr>
        <p:spPr>
          <a:xfrm>
            <a:off x="1862280" y="5521320"/>
            <a:ext cx="5665680" cy="25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8"/>
          <p:cNvSpPr/>
          <p:nvPr/>
        </p:nvSpPr>
        <p:spPr>
          <a:xfrm>
            <a:off x="5319720" y="1981080"/>
            <a:ext cx="2322360" cy="361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k Pionir Paradigma Baru (L-RAISE+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– kompetisi terbatas, institusi,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– kompetisi terbuka, study program,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-Like – kompetisi berlapis (PTN), institusi, G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SDP – kompetisi berlapis (bidang prioritas, semua PT), kompilasi sub-prop, Lo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MHERE – Mencakup juga aspek manaj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i RAISE ke HE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533520" y="2133720"/>
            <a:ext cx="4087800" cy="302004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ganization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iciency &amp;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5699160" y="3146400"/>
            <a:ext cx="2987640" cy="100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ion Competi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and 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and 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464832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533520" y="5678640"/>
            <a:ext cx="807696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nomy/Decent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K (A1 – 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2362320" y="1523880"/>
            <a:ext cx="3429000" cy="426744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281952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350532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3888360" y="506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3888360" y="40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3888000" y="2322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 flipV="1">
            <a:off x="1523880" y="190476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1523880" y="617220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921240" y="2692800"/>
            <a:ext cx="48528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3268080" y="62596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 o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312408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8"/>
          <p:cNvSpPr/>
          <p:nvPr/>
        </p:nvSpPr>
        <p:spPr>
          <a:xfrm>
            <a:off x="4724280" y="1523880"/>
            <a:ext cx="2895840" cy="609840"/>
          </a:xfrm>
          <a:prstGeom prst="wedgeRectCallout">
            <a:avLst>
              <a:gd name="adj1" fmla="val -48027"/>
              <a:gd name="adj2" fmla="val 70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gembangan Ungg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9"/>
          <p:cNvSpPr/>
          <p:nvPr/>
        </p:nvSpPr>
        <p:spPr>
          <a:xfrm>
            <a:off x="5257800" y="2666880"/>
            <a:ext cx="2209680" cy="609840"/>
          </a:xfrm>
          <a:prstGeom prst="wedgeRoundRectCallout">
            <a:avLst>
              <a:gd name="adj1" fmla="val -47412"/>
              <a:gd name="adj2" fmla="val 70050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0"/>
          <p:cNvSpPr/>
          <p:nvPr/>
        </p:nvSpPr>
        <p:spPr>
          <a:xfrm>
            <a:off x="5791320" y="4876920"/>
            <a:ext cx="2514600" cy="609480"/>
          </a:xfrm>
          <a:prstGeom prst="wedgeRoundRectCallout">
            <a:avLst>
              <a:gd name="adj1" fmla="val -47726"/>
              <a:gd name="adj2" fmla="val 70050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 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1"/>
          <p:cNvSpPr/>
          <p:nvPr/>
        </p:nvSpPr>
        <p:spPr>
          <a:xfrm>
            <a:off x="5486400" y="3657600"/>
            <a:ext cx="2133720" cy="609480"/>
          </a:xfrm>
          <a:prstGeom prst="wedgeRoundRectCallout">
            <a:avLst>
              <a:gd name="adj1" fmla="val -47319"/>
              <a:gd name="adj2" fmla="val 70050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3872520" y="32367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 Pendan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6553080" y="2286000"/>
            <a:ext cx="1524240" cy="1676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553080" y="4267080"/>
            <a:ext cx="1524240" cy="1524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vesta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1981080" y="2362320"/>
            <a:ext cx="1676520" cy="1447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523880" y="4419720"/>
            <a:ext cx="259092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bah Kompet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dget envel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55960" y="1512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2059920" y="162864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ne-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7"/>
          <p:cNvSpPr/>
          <p:nvPr/>
        </p:nvSpPr>
        <p:spPr>
          <a:xfrm>
            <a:off x="4038480" y="1676520"/>
            <a:ext cx="2133720" cy="380880"/>
          </a:xfrm>
          <a:prstGeom prst="rightArrow">
            <a:avLst>
              <a:gd name="adj1" fmla="val 50000"/>
              <a:gd name="adj2" fmla="val 14005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2145240" y="594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5946840" y="59436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formance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/>
          <p:cNvSpPr/>
          <p:nvPr/>
        </p:nvSpPr>
        <p:spPr>
          <a:xfrm>
            <a:off x="3733920" y="6019920"/>
            <a:ext cx="2133360" cy="380880"/>
          </a:xfrm>
          <a:prstGeom prst="rightArrow">
            <a:avLst>
              <a:gd name="adj1" fmla="val 50000"/>
              <a:gd name="adj2" fmla="val 14002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Kerangka Pikir Progra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9:16:08Z</dcterms:created>
  <dc:creator>Chan Basaruddin</dc:creator>
  <dc:description/>
  <dc:language>en-US</dc:language>
  <cp:lastModifiedBy>Luke Skywalker</cp:lastModifiedBy>
  <dcterms:modified xsi:type="dcterms:W3CDTF">2007-02-18T00:41:43Z</dcterms:modified>
  <cp:revision>49</cp:revision>
  <dc:subject/>
  <dc:title>Pola dan Skema Pendanaan Pendidikan Tinggi</dc:title>
</cp:coreProperties>
</file>