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BD-CD80-4907-8ED4-D9DDB95B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7E9-0CE2-4C4D-942F-0BD5C4E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85B-E633-45F9-8093-EE815DE6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79E-0AE9-49C3-9A3B-AA24B5D8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1703-134A-4940-9F84-EF16CCF3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55D-D5E7-4EC4-8FA3-27D58B2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CD0C-27A6-4588-B98A-A6B34DF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F112-BF9B-4790-8FF2-EA17798E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B60-3460-4761-AEAD-CBE11F4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98B4-57A1-4B9F-9DA4-D0C466DD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739-0552-4D0E-9A62-EF7483E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790-0239-47A2-B31B-9CB7CB75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6809-7D59-44D6-AD24-F871B710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46EE-E847-4D71-A775-1A69735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E3E-26B6-43E0-929B-FEA11AF9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4C99-BF42-4D4D-B336-C2B14DBD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84C-DC26-4744-85C1-FC94C81B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4A9-1AA9-4D88-AD07-40EB7BA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02F-88B6-4B3D-B589-76A9C0F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26C-F566-46D3-AAD8-278413BF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3FB-BE6F-481B-ACDC-EECF3652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A8C-3FEA-4555-81A5-C0A8670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E13-7218-471C-8696-965DAA7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A0E-2C73-4629-92F8-BCB7811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F48-9549-48C7-B506-F70283FF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3718-30DE-4791-A385-9C12E3EF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487-E6D3-485B-A8FC-5F8A9BBDB3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Verdana"/>
              </a:rPr>
              <a:t>Pelatihan PHK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B91-AEC7-4B72-A85C-253ECBA32A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arakteristik Model Organisasi P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Table 2"/>
          <p:cNvPicPr/>
          <p:nvPr/>
        </p:nvPicPr>
        <p:blipFill>
          <a:blip r:embed="rId1"/>
          <a:stretch/>
        </p:blipFill>
        <p:spPr>
          <a:xfrm>
            <a:off x="304920" y="990720"/>
            <a:ext cx="8461080" cy="5867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64008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eperneuri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ybrid Universit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5CFD-73BC-46D4-85DC-2A610C892C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udaya akademik vs budaya korporas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porat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Profi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bg motif utam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ademic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Excell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bg motif uta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umnya pd sektor sosial lain (kesehatan, dsb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guruan tinggi: dikelola dgn semangat korpor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mpu kuning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ver commerci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mpu kuning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rreleva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54C-BBFF-467D-8C37-A2D57E9843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Good University Governance (GUG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a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unik, tdk semua pendekatan TQM (industri) dan Good Corporate Governance (GCG) dg mudah diterap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vernanc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versitas yg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k (GUG) harus mampu menumbuhkembangkan kreatifitas dan inovasi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utu produk (Sarjana, riset, program layanan masy) menjadi ruh utam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cisivenes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Masa depa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Viabilit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kembangan ilmu pengetahuan&amp; teknologi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peloporan, keteladana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akurata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cermata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abili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us dipacu secara proporsional sesuai budaya lok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218-5C06-4455-9778-D013081ED7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od University Govern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as harus memaksimalkan manfaat otonomi institusi &amp; “academic freedom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tas tdk akan mampu mencapai tujuan menjadi Unggulan pada seluruh misinya tanpa menerapkan prinsip dasar CU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UG harus didasarkan pd pilar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jemen universitas: Academic freedon &amp; autonom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sisnya?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Mekanisme “governing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-TARF dg melibatkan partisipasi stakeholder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ty &amp; Accessibility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abilita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-actabilita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fektifan dan efisiens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us dirajut baik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0049-966B-4F0D-871D-12344596E1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insip dasar GUG</a:t>
            </a:r>
            <a:r>
              <a:rPr b="1" lang="en-US" sz="3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1)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4200" indent="-4842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ble (Kualitas pejabat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1772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kta : Top lead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rs dosen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, integritas, kepemimpinan dan kapasitas manaj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4200" indent="-4842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benaran &amp; Obyektifitas (Transparans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1772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l the truth: Tansparency and Disclo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4200" indent="-4842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epati Janji (Akuntabilitas &amp; Tanggung jawa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1772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your promise: Accountability &amp; Respon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4200" indent="-4842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1772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f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68A-A17D-4389-8AE9-BF3D716735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990720" y="12034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insip dasar GUG (2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17"/>
          <p:cNvGrpSpPr/>
          <p:nvPr/>
        </p:nvGrpSpPr>
        <p:grpSpPr>
          <a:xfrm>
            <a:off x="990720" y="2514600"/>
            <a:ext cx="7318080" cy="3809880"/>
            <a:chOff x="990720" y="2514600"/>
            <a:chExt cx="7318080" cy="3809880"/>
          </a:xfrm>
        </p:grpSpPr>
        <p:sp>
          <p:nvSpPr>
            <p:cNvPr id="182" name="Oval 3"/>
            <p:cNvSpPr/>
            <p:nvPr/>
          </p:nvSpPr>
          <p:spPr>
            <a:xfrm>
              <a:off x="990720" y="2514600"/>
              <a:ext cx="7315200" cy="3809880"/>
            </a:xfrm>
            <a:prstGeom prst="ellipse">
              <a:avLst/>
            </a:prstGeom>
            <a:gradFill rotWithShape="0">
              <a:gsLst>
                <a:gs pos="0">
                  <a:srgbClr val="a3b2c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2082240" y="329076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irnes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73200" y="3276360"/>
              <a:ext cx="25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nsparency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1518840" y="4814640"/>
              <a:ext cx="262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ountability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5149080" y="4814640"/>
              <a:ext cx="26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ponsibility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990720" y="4343400"/>
              <a:ext cx="28191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5486400" y="4343400"/>
              <a:ext cx="2822400" cy="1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648320" y="2514600"/>
              <a:ext cx="0" cy="914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4648320" y="5181480"/>
              <a:ext cx="0" cy="11430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16"/>
          <p:cNvGrpSpPr/>
          <p:nvPr/>
        </p:nvGrpSpPr>
        <p:grpSpPr>
          <a:xfrm>
            <a:off x="3809880" y="3429000"/>
            <a:ext cx="1676520" cy="1752480"/>
            <a:chOff x="3809880" y="3429000"/>
            <a:chExt cx="1676520" cy="1752480"/>
          </a:xfrm>
        </p:grpSpPr>
        <p:sp>
          <p:nvSpPr>
            <p:cNvPr id="192" name="Oval 4"/>
            <p:cNvSpPr/>
            <p:nvPr/>
          </p:nvSpPr>
          <p:spPr>
            <a:xfrm>
              <a:off x="3809880" y="3429000"/>
              <a:ext cx="1676520" cy="175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3b2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UG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3" name="Group 15"/>
            <p:cNvGrpSpPr/>
            <p:nvPr/>
          </p:nvGrpSpPr>
          <p:grpSpPr>
            <a:xfrm>
              <a:off x="4038120" y="3657600"/>
              <a:ext cx="1219680" cy="1294920"/>
              <a:chOff x="4038120" y="3657600"/>
              <a:chExt cx="1219680" cy="1294920"/>
            </a:xfrm>
          </p:grpSpPr>
          <p:sp>
            <p:nvSpPr>
              <p:cNvPr id="194" name="WordArt 13"/>
              <p:cNvSpPr txBox="1"/>
              <p:nvPr/>
            </p:nvSpPr>
            <p:spPr>
              <a:xfrm>
                <a:off x="4038480" y="3657600"/>
                <a:ext cx="1219320" cy="1143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redibility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95" name="WordArt 14"/>
              <p:cNvSpPr txBox="1"/>
              <p:nvPr/>
            </p:nvSpPr>
            <p:spPr>
              <a:xfrm rot="10800000">
                <a:off x="4038120" y="3809520"/>
                <a:ext cx="1219320" cy="1143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Credibility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93E-BC61-4E0B-A5EA-E8392C5129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22"/>
          <p:cNvGrpSpPr/>
          <p:nvPr/>
        </p:nvGrpSpPr>
        <p:grpSpPr>
          <a:xfrm>
            <a:off x="6858000" y="2946240"/>
            <a:ext cx="2286000" cy="3149640"/>
            <a:chOff x="6858000" y="2946240"/>
            <a:chExt cx="2286000" cy="3149640"/>
          </a:xfrm>
        </p:grpSpPr>
        <p:sp>
          <p:nvSpPr>
            <p:cNvPr id="200" name="AutoShape 12"/>
            <p:cNvSpPr/>
            <p:nvPr/>
          </p:nvSpPr>
          <p:spPr>
            <a:xfrm>
              <a:off x="6858000" y="2946240"/>
              <a:ext cx="2286000" cy="314964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3149640"/>
                <a:gd name="textAreaBottom" fmla="*/ 3150000 h 314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b5259"/>
                </a:gs>
                <a:gs pos="50000">
                  <a:srgbClr val="a3b2c1"/>
                </a:gs>
                <a:gs pos="100000">
                  <a:srgbClr val="4b525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7090200" y="2971800"/>
              <a:ext cx="1221480" cy="459720"/>
            </a:xfrm>
            <a:prstGeom prst="rect">
              <a:avLst/>
            </a:prstGeom>
            <a:gradFill rotWithShape="0">
              <a:gsLst>
                <a:gs pos="0">
                  <a:srgbClr val="a3b2c1"/>
                </a:gs>
                <a:gs pos="50000">
                  <a:srgbClr val="0a0a0b"/>
                </a:gs>
                <a:gs pos="100000">
                  <a:srgbClr val="a3b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 Narrow"/>
                  <a:ea typeface="Arial"/>
                </a:rPr>
                <a:t>Keadi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6934320" y="3727440"/>
              <a:ext cx="20574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Bagi stakeholders minoritas (gender, ekonomi, geogr. dll), terlindungi dari kecurangan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 Narrow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 (fraud), “self-dealing”, atau “other insi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wrong doing”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3" name="Group 19"/>
          <p:cNvGrpSpPr/>
          <p:nvPr/>
        </p:nvGrpSpPr>
        <p:grpSpPr>
          <a:xfrm>
            <a:off x="4495680" y="2971800"/>
            <a:ext cx="2590920" cy="3149640"/>
            <a:chOff x="4495680" y="2971800"/>
            <a:chExt cx="2590920" cy="3149640"/>
          </a:xfrm>
        </p:grpSpPr>
        <p:sp>
          <p:nvSpPr>
            <p:cNvPr id="204" name="AutoShape 3"/>
            <p:cNvSpPr/>
            <p:nvPr/>
          </p:nvSpPr>
          <p:spPr>
            <a:xfrm>
              <a:off x="4572000" y="2971800"/>
              <a:ext cx="2514600" cy="314964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3149640"/>
                <a:gd name="textAreaBottom" fmla="*/ 3150000 h 314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4495680" y="2971800"/>
              <a:ext cx="2057400" cy="459720"/>
            </a:xfrm>
            <a:prstGeom prst="rect">
              <a:avLst/>
            </a:prstGeom>
            <a:gradFill rotWithShape="0">
              <a:gsLst>
                <a:gs pos="0">
                  <a:srgbClr val="a3b2c1"/>
                </a:gs>
                <a:gs pos="50000">
                  <a:srgbClr val="000000"/>
                </a:gs>
                <a:gs pos="100000">
                  <a:srgbClr val="a3b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 Narrow"/>
                  <a:ea typeface="Arial"/>
                </a:rPr>
                <a:t>Responsibilita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4800600" y="3505320"/>
              <a:ext cx="19810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Universitas  sbg anggota Masy utk patuh kepd tata hukum &amp; per-undang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 Narrow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an dg memperhatikan kebutuhan masyarakat.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Text Box 2"/>
          <p:cNvSpPr/>
          <p:nvPr/>
        </p:nvSpPr>
        <p:spPr>
          <a:xfrm>
            <a:off x="2086920" y="657360"/>
            <a:ext cx="49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insip dasar GUG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Group 21"/>
          <p:cNvGrpSpPr/>
          <p:nvPr/>
        </p:nvGrpSpPr>
        <p:grpSpPr>
          <a:xfrm>
            <a:off x="2362320" y="2971800"/>
            <a:ext cx="2530440" cy="3124080"/>
            <a:chOff x="2362320" y="2971800"/>
            <a:chExt cx="2530440" cy="3124080"/>
          </a:xfrm>
        </p:grpSpPr>
        <p:sp>
          <p:nvSpPr>
            <p:cNvPr id="209" name="AutoShape 4"/>
            <p:cNvSpPr/>
            <p:nvPr/>
          </p:nvSpPr>
          <p:spPr>
            <a:xfrm>
              <a:off x="2362320" y="2997360"/>
              <a:ext cx="2530440" cy="3098520"/>
            </a:xfrm>
            <a:custGeom>
              <a:avLst/>
              <a:gdLst>
                <a:gd name="textAreaLeft" fmla="*/ 0 w 2530440"/>
                <a:gd name="textAreaRight" fmla="*/ 2530800 w 2530440"/>
                <a:gd name="textAreaTop" fmla="*/ 0 h 3098520"/>
                <a:gd name="textAreaBottom" fmla="*/ 3098880 h 30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2364840" y="2971800"/>
              <a:ext cx="1750320" cy="459720"/>
            </a:xfrm>
            <a:prstGeom prst="rect">
              <a:avLst/>
            </a:prstGeom>
            <a:gradFill rotWithShape="0">
              <a:gsLst>
                <a:gs pos="0">
                  <a:srgbClr val="a3b2c1"/>
                </a:gs>
                <a:gs pos="50000">
                  <a:srgbClr val="000000"/>
                </a:gs>
                <a:gs pos="100000">
                  <a:srgbClr val="a3b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 Narrow"/>
                  <a:ea typeface="Arial"/>
                </a:rPr>
                <a:t>Akuntabilita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10"/>
            <p:cNvSpPr/>
            <p:nvPr/>
          </p:nvSpPr>
          <p:spPr>
            <a:xfrm>
              <a:off x="2362320" y="3456000"/>
              <a:ext cx="25146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Manajemen melalui oversight yg efektif berdsrkan “power/ otoritas/diskresi” yg “balance” antara manajer tkt bwh, tengah, stakeholders, top manajem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&amp; audito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2" name="Text Box 15"/>
          <p:cNvSpPr/>
          <p:nvPr/>
        </p:nvSpPr>
        <p:spPr>
          <a:xfrm>
            <a:off x="228600" y="1708200"/>
            <a:ext cx="891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redibilita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mong harus memiliki kompetensi akademik, integritas (jujur, amanah, dll), cerdas,  ketrampilan leadership &amp; manajerial yg ba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23"/>
          <p:cNvGrpSpPr/>
          <p:nvPr/>
        </p:nvGrpSpPr>
        <p:grpSpPr>
          <a:xfrm>
            <a:off x="76320" y="2971800"/>
            <a:ext cx="2438280" cy="3149640"/>
            <a:chOff x="76320" y="2971800"/>
            <a:chExt cx="2438280" cy="3149640"/>
          </a:xfrm>
        </p:grpSpPr>
        <p:sp>
          <p:nvSpPr>
            <p:cNvPr id="214" name="AutoShape 5"/>
            <p:cNvSpPr/>
            <p:nvPr/>
          </p:nvSpPr>
          <p:spPr>
            <a:xfrm>
              <a:off x="76320" y="2971800"/>
              <a:ext cx="2438280" cy="31496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3149640"/>
                <a:gd name="textAreaBottom" fmla="*/ 3150000 h 314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79560" y="2971800"/>
              <a:ext cx="1748880" cy="459720"/>
            </a:xfrm>
            <a:prstGeom prst="rect">
              <a:avLst/>
            </a:prstGeom>
            <a:gradFill rotWithShape="0">
              <a:gsLst>
                <a:gs pos="0">
                  <a:srgbClr val="a3b2c1"/>
                </a:gs>
                <a:gs pos="50000">
                  <a:srgbClr val="000000"/>
                </a:gs>
                <a:gs pos="100000">
                  <a:srgbClr val="a3b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 Narrow"/>
                  <a:ea typeface="Arial"/>
                </a:rPr>
                <a:t>Transparans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76320" y="3489480"/>
              <a:ext cx="2361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perbaikan kinerja dan keterbukaan semua informasi yg akurat &amp; sec. tepat waktu &amp; “timely” diumumka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775F-7374-4FDB-A0EB-075CA39257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527400" y="561960"/>
            <a:ext cx="73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re Principles of GUG – What should it b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228600" y="2819520"/>
            <a:ext cx="2666880" cy="2133360"/>
            <a:chOff x="228600" y="2819520"/>
            <a:chExt cx="2666880" cy="2133360"/>
          </a:xfrm>
        </p:grpSpPr>
        <p:sp>
          <p:nvSpPr>
            <p:cNvPr id="222" name="AutoShape 3"/>
            <p:cNvSpPr/>
            <p:nvPr/>
          </p:nvSpPr>
          <p:spPr>
            <a:xfrm>
              <a:off x="228600" y="2819520"/>
              <a:ext cx="2666880" cy="213336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306000" y="3549600"/>
              <a:ext cx="2061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rial"/>
                  <a:ea typeface="Arial"/>
                </a:rPr>
                <a:t>Fairness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Text Box 5"/>
          <p:cNvSpPr/>
          <p:nvPr/>
        </p:nvSpPr>
        <p:spPr>
          <a:xfrm>
            <a:off x="2590920" y="1731960"/>
            <a:ext cx="63244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turan dan peraturan yg melindungi minat minoritas secara adil &amp; propors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mbangun “corporate conduct” / kebijakan kepatuhan thd pencegahan korupsi, “insiders’ wrong doing, self-dealing &amp; pertentangan kepentingan (conflict of intere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istem peran, wewenang&amp;Tg-jwb “Board, Management &amp; Committees”, &amp; remunerasi-nya yg adil (performance bas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airly present any material information/full disclo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troduce Equal Job Opport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F04E-ED3D-4670-AC68-4674807CBC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76320"/>
            <a:ext cx="47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re Principles of GCG – What should it be ? (Con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152280" y="2133720"/>
            <a:ext cx="3124440" cy="2514600"/>
            <a:chOff x="152280" y="2133720"/>
            <a:chExt cx="3124440" cy="2514600"/>
          </a:xfrm>
        </p:grpSpPr>
        <p:sp>
          <p:nvSpPr>
            <p:cNvPr id="230" name="AutoShape 3"/>
            <p:cNvSpPr/>
            <p:nvPr/>
          </p:nvSpPr>
          <p:spPr>
            <a:xfrm>
              <a:off x="152280" y="2133720"/>
              <a:ext cx="3124440" cy="251460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152280" y="3078000"/>
              <a:ext cx="28447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Arial"/>
                  <a:ea typeface="Arial"/>
                </a:rPr>
                <a:t>Transparenc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Text Box 5"/>
          <p:cNvSpPr/>
          <p:nvPr/>
        </p:nvSpPr>
        <p:spPr>
          <a:xfrm>
            <a:off x="2971800" y="1731960"/>
            <a:ext cx="579132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 Accounting System based on Accounting Standard &amp; Best Practices to ensure quality of Financial Report and disclo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 IT &amp; MIS to ensure proper performance measurement and effective decision making process by the Board and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 University-Wide Risk Management to ensure that all significant risk are identified, measured and could be managed at a defined toleranc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ublicly announced vacant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261-BC8C-412A-9280-A2E7E002A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re Principles of GCG – What should it be ? (Con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195840" y="2133720"/>
            <a:ext cx="3080880" cy="2514600"/>
            <a:chOff x="195840" y="2133720"/>
            <a:chExt cx="3080880" cy="2514600"/>
          </a:xfrm>
        </p:grpSpPr>
        <p:sp>
          <p:nvSpPr>
            <p:cNvPr id="238" name="AutoShape 3"/>
            <p:cNvSpPr/>
            <p:nvPr/>
          </p:nvSpPr>
          <p:spPr>
            <a:xfrm>
              <a:off x="228600" y="2133720"/>
              <a:ext cx="3048120" cy="251460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4"/>
            <p:cNvSpPr/>
            <p:nvPr/>
          </p:nvSpPr>
          <p:spPr>
            <a:xfrm>
              <a:off x="195840" y="3024360"/>
              <a:ext cx="29804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ccountabilit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Text Box 5"/>
          <p:cNvSpPr/>
          <p:nvPr/>
        </p:nvSpPr>
        <p:spPr>
          <a:xfrm>
            <a:off x="2819520" y="1555920"/>
            <a:ext cx="60958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reparation of Financial Statement on timely and correct m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 Audit and Risk Committee to enhance oversight function by th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evelop and redefine Internal Audit role and function as a strategic business partner based on best practices (not just compliance audit). Transform into “Risk based” Au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aintain accountable contract management and dispute hand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Law enforcement (reward and punishment syst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Use “qualified External Auditor” + audit akademik (professionalism bas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C9C-565A-4CD3-B548-B34DA34F67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gaimana dan Untuk Apa MANAJEMEN P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YA SAING BANG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SEHATAN ORGANISA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Keduanya adalah isu sentral HELTS 2003-2010 </a:t>
            </a:r>
            <a:r>
              <a:rPr b="0" i="1" lang="en-US" sz="1800" spc="-1" strike="noStrike">
                <a:solidFill>
                  <a:srgbClr val="0033cc"/>
                </a:solidFill>
                <a:latin typeface="Verdana"/>
              </a:rPr>
              <a:t>(isu ke 1&amp;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rpusat pada: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T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Kualit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jemen PT Harus menghasilkan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efektifan “siklus mutu secara utuh” untuk mencapai sasaran mutu manaje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rget mutu jelas &amp; memungkinkan seluruh stakeholders berkontribusi secara “maksimal” untuk mencapai tujuan 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1D9D-0A6F-4666-9C56-71BDC2DDB4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0" y="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re Principles of GCG – What should it be ? (Con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27880" y="2514600"/>
            <a:ext cx="3201120" cy="2362320"/>
            <a:chOff x="227880" y="2514600"/>
            <a:chExt cx="3201120" cy="2362320"/>
          </a:xfrm>
        </p:grpSpPr>
        <p:sp>
          <p:nvSpPr>
            <p:cNvPr id="246" name="AutoShape 3"/>
            <p:cNvSpPr/>
            <p:nvPr/>
          </p:nvSpPr>
          <p:spPr>
            <a:xfrm>
              <a:off x="228600" y="2514600"/>
              <a:ext cx="3200400" cy="236232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Text Box 4"/>
            <p:cNvSpPr/>
            <p:nvPr/>
          </p:nvSpPr>
          <p:spPr>
            <a:xfrm>
              <a:off x="227880" y="3382920"/>
              <a:ext cx="29574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Arial"/>
                  <a:ea typeface="Arial"/>
                </a:rPr>
                <a:t>Responsibilit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Text Box 5"/>
          <p:cNvSpPr/>
          <p:nvPr/>
        </p:nvSpPr>
        <p:spPr>
          <a:xfrm>
            <a:off x="3352680" y="2362320"/>
            <a:ext cx="56390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consequence of autho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areness of social respons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oid abuse of 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professional and eth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jamin Sound University atmosphere &amp;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2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E6B8-3772-4E07-A5BF-BD4E8B9127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360520" y="76320"/>
            <a:ext cx="446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Road to build Good Gover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371600" y="638280"/>
            <a:ext cx="1523880" cy="549000"/>
          </a:xfrm>
          <a:prstGeom prst="rect">
            <a:avLst/>
          </a:prstGeom>
          <a:gradFill rotWithShape="0">
            <a:gsLst>
              <a:gs pos="0">
                <a:srgbClr val="a3b2c1"/>
              </a:gs>
              <a:gs pos="50000">
                <a:srgbClr val="0f1011"/>
              </a:gs>
              <a:gs pos="100000">
                <a:srgbClr val="a3b2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Univ. Vision &amp;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1600200"/>
            <a:ext cx="15238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urrent Situ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90920" y="1600200"/>
            <a:ext cx="8380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600200" y="2286000"/>
            <a:ext cx="114300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Gap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371600" y="2819520"/>
            <a:ext cx="15238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trategy defin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555920" y="3352680"/>
            <a:ext cx="12189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ction Pl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555920" y="3613320"/>
            <a:ext cx="12189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555920" y="3870360"/>
            <a:ext cx="12189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295280" y="4495680"/>
            <a:ext cx="172404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onitoring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Freeform 12"/>
          <p:cNvSpPr/>
          <p:nvPr/>
        </p:nvSpPr>
        <p:spPr>
          <a:xfrm>
            <a:off x="1295280" y="5594400"/>
            <a:ext cx="1600200" cy="66204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1647720" y="579132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On Track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Freeform 14"/>
          <p:cNvSpPr/>
          <p:nvPr/>
        </p:nvSpPr>
        <p:spPr>
          <a:xfrm>
            <a:off x="533520" y="990720"/>
            <a:ext cx="838080" cy="4952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Freeform 15"/>
          <p:cNvSpPr/>
          <p:nvPr/>
        </p:nvSpPr>
        <p:spPr>
          <a:xfrm>
            <a:off x="1143000" y="930240"/>
            <a:ext cx="217440" cy="101520"/>
          </a:xfrm>
          <a:prstGeom prst="pie">
            <a:avLst/>
          </a:pr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2899800" y="5654520"/>
            <a:ext cx="2599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841680" y="5715000"/>
            <a:ext cx="19584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4419720" y="685800"/>
            <a:ext cx="4038480" cy="7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o be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excellent in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cademic,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ral force,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gent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of change for the prosperity of the society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he peop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962520" y="2057400"/>
            <a:ext cx="20574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Where we are now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6077160" y="2057400"/>
            <a:ext cx="2651040" cy="124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we want to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8280" indent="-98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 good governance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8280" indent="-9828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ranspar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8280" indent="-9828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ccoun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8280" indent="-9828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sponsibilit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98280" indent="-9828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ir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3962520" y="2362320"/>
            <a:ext cx="205740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ituation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3962520" y="2635200"/>
            <a:ext cx="10666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5024520" y="2635200"/>
            <a:ext cx="99540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3962520" y="2879640"/>
            <a:ext cx="1066680" cy="45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5029200" y="2879640"/>
            <a:ext cx="990720" cy="4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trengths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aknes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5464080" y="3733920"/>
            <a:ext cx="14702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5257800" y="4394160"/>
            <a:ext cx="19051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Strategy Form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4800600" y="5003640"/>
            <a:ext cx="30481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tion Plans; Indicator; Ti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Freeform 29"/>
          <p:cNvSpPr/>
          <p:nvPr/>
        </p:nvSpPr>
        <p:spPr>
          <a:xfrm>
            <a:off x="5029200" y="2590920"/>
            <a:ext cx="457200" cy="1271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Freeform 30"/>
          <p:cNvSpPr/>
          <p:nvPr/>
        </p:nvSpPr>
        <p:spPr>
          <a:xfrm>
            <a:off x="6934320" y="3352680"/>
            <a:ext cx="533160" cy="457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4652280" y="5867280"/>
            <a:ext cx="22320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7927920" y="5791320"/>
            <a:ext cx="2980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Freeform 33"/>
          <p:cNvSpPr/>
          <p:nvPr/>
        </p:nvSpPr>
        <p:spPr>
          <a:xfrm>
            <a:off x="1447920" y="1219320"/>
            <a:ext cx="1447560" cy="38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Freeform 34"/>
          <p:cNvSpPr/>
          <p:nvPr/>
        </p:nvSpPr>
        <p:spPr>
          <a:xfrm>
            <a:off x="1143000" y="1857240"/>
            <a:ext cx="457200" cy="533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Freeform 35"/>
          <p:cNvSpPr/>
          <p:nvPr/>
        </p:nvSpPr>
        <p:spPr>
          <a:xfrm flipH="1">
            <a:off x="2743200" y="1857240"/>
            <a:ext cx="457200" cy="533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133720" y="2514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533520" y="29718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38"/>
          <p:cNvSpPr/>
          <p:nvPr/>
        </p:nvSpPr>
        <p:spPr>
          <a:xfrm>
            <a:off x="533520" y="37339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1337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13372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41"/>
          <p:cNvSpPr/>
          <p:nvPr/>
        </p:nvSpPr>
        <p:spPr>
          <a:xfrm>
            <a:off x="2133720" y="47242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Freeform 42"/>
          <p:cNvSpPr/>
          <p:nvPr/>
        </p:nvSpPr>
        <p:spPr>
          <a:xfrm>
            <a:off x="2895480" y="4648320"/>
            <a:ext cx="381240" cy="1295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Freeform 43"/>
          <p:cNvSpPr/>
          <p:nvPr/>
        </p:nvSpPr>
        <p:spPr>
          <a:xfrm>
            <a:off x="3276720" y="1828800"/>
            <a:ext cx="1522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reeform 44"/>
          <p:cNvSpPr/>
          <p:nvPr/>
        </p:nvSpPr>
        <p:spPr>
          <a:xfrm>
            <a:off x="5029200" y="5638680"/>
            <a:ext cx="2286000" cy="8384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45"/>
          <p:cNvSpPr/>
          <p:nvPr/>
        </p:nvSpPr>
        <p:spPr>
          <a:xfrm>
            <a:off x="5410440" y="5896080"/>
            <a:ext cx="1551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re we 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the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right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ck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Freeform 46"/>
          <p:cNvSpPr/>
          <p:nvPr/>
        </p:nvSpPr>
        <p:spPr>
          <a:xfrm>
            <a:off x="3886200" y="1143000"/>
            <a:ext cx="1295280" cy="4952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Freeform 47"/>
          <p:cNvSpPr/>
          <p:nvPr/>
        </p:nvSpPr>
        <p:spPr>
          <a:xfrm>
            <a:off x="7315200" y="2482920"/>
            <a:ext cx="1600200" cy="358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Freeform 48"/>
          <p:cNvSpPr/>
          <p:nvPr/>
        </p:nvSpPr>
        <p:spPr>
          <a:xfrm>
            <a:off x="4952880" y="1523880"/>
            <a:ext cx="2286000" cy="533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49"/>
          <p:cNvSpPr/>
          <p:nvPr/>
        </p:nvSpPr>
        <p:spPr>
          <a:xfrm>
            <a:off x="3886200" y="4540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50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51"/>
          <p:cNvSpPr/>
          <p:nvPr/>
        </p:nvSpPr>
        <p:spPr>
          <a:xfrm>
            <a:off x="617220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52"/>
          <p:cNvSpPr/>
          <p:nvPr/>
        </p:nvSpPr>
        <p:spPr>
          <a:xfrm>
            <a:off x="6172200" y="5257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53"/>
          <p:cNvSpPr/>
          <p:nvPr/>
        </p:nvSpPr>
        <p:spPr>
          <a:xfrm>
            <a:off x="3886200" y="5181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2086-EBAB-4E51-9AF9-19C03FDC3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epemimpinan: academic leader atau manajer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ademic leader </a:t>
            </a:r>
            <a:r>
              <a:rPr b="0" lang="en-US" sz="2100" spc="-1" strike="noStrike">
                <a:solidFill>
                  <a:srgbClr val="ff3300"/>
                </a:solidFill>
                <a:latin typeface="Verdana"/>
              </a:rPr>
              <a:t>dipili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di antara akademisi berdasarkan kapasitas akademikny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jer </a:t>
            </a:r>
            <a:r>
              <a:rPr b="0" lang="en-US" sz="2100" spc="-1" strike="noStrike">
                <a:solidFill>
                  <a:srgbClr val="ff3300"/>
                </a:solidFill>
                <a:latin typeface="Verdana"/>
              </a:rPr>
              <a:t>ditunjuk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rdasarkan kapasitas manajer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dak semua academic leader memiliki kapasitas manajerial yg dibutuhk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jer kampus juga membutuhkan reputasi akademik yg cukup untuk dapat diterima dan dihorm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3300"/>
                </a:solidFill>
                <a:latin typeface="Verdana"/>
              </a:rPr>
              <a:t>Authoritarian manag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kurang cocok, collegiality amat penting dlm perguruan tingg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leader should be respected, not fear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trepreneurial lea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cari dan memanfaatkan pelu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beranian mengambil risiko atas calculated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ovatif dan krea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D81-807D-4A88-8E3A-8E4105AB7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2760" y="321840"/>
            <a:ext cx="8001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tylus BT"/>
              </a:rPr>
              <a:t>MANAGERS  VS.  LEAD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71240" y="1981080"/>
            <a:ext cx="47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</a:rPr>
              <a:t>MANAG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Administ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Eyes the bottom lin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Imitat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Does things righ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Efficien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8520" y="1981080"/>
            <a:ext cx="40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6699"/>
                </a:solidFill>
                <a:uFillTx/>
                <a:latin typeface="Arial Black"/>
              </a:rPr>
              <a:t>LEA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6699"/>
                </a:solidFill>
                <a:latin typeface="Arial Narrow"/>
              </a:rPr>
              <a:t>Innovat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6699"/>
                </a:solidFill>
                <a:latin typeface="Arial Narrow"/>
              </a:rPr>
              <a:t>Eyes the horizo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6699"/>
                </a:solidFill>
                <a:latin typeface="Arial Narrow"/>
              </a:rPr>
              <a:t>Originat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6699"/>
                </a:solidFill>
                <a:latin typeface="Arial Narrow"/>
              </a:rPr>
              <a:t>Does the right thing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74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6699"/>
                </a:solidFill>
                <a:latin typeface="Arial Narrow"/>
              </a:rPr>
              <a:t>Effecti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5" descr="j0098039"/>
          <p:cNvPicPr/>
          <p:nvPr/>
        </p:nvPicPr>
        <p:blipFill>
          <a:blip r:embed="rId1"/>
          <a:stretch/>
        </p:blipFill>
        <p:spPr>
          <a:xfrm>
            <a:off x="7843680" y="1752480"/>
            <a:ext cx="1300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C68-A21D-4F24-ABAF-449575B58A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oss vs Lea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0" descr="j0254414"/>
          <p:cNvPicPr/>
          <p:nvPr/>
        </p:nvPicPr>
        <p:blipFill>
          <a:blip r:embed="rId1"/>
          <a:stretch/>
        </p:blipFill>
        <p:spPr>
          <a:xfrm>
            <a:off x="380880" y="1676520"/>
            <a:ext cx="1828800" cy="14954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2194200" y="26668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900720" y="556272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ands 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029200" y="26924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910800" y="312408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ves his 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4477320" y="31240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ires th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916200" y="350532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4491000" y="35053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ends on good wi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898560" y="396252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okes f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4483800" y="396252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ates l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907560" y="434340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ys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4477680" y="43434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ys w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923040" y="518148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s who is wr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4513320" y="518148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s what is wr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4487040" y="55627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s 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22" descr="j0254421"/>
          <p:cNvPicPr/>
          <p:nvPr/>
        </p:nvPicPr>
        <p:blipFill>
          <a:blip r:embed="rId2"/>
          <a:stretch/>
        </p:blipFill>
        <p:spPr>
          <a:xfrm>
            <a:off x="6858000" y="1295280"/>
            <a:ext cx="2103480" cy="2133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4"/>
          <p:cNvSpPr/>
          <p:nvPr/>
        </p:nvSpPr>
        <p:spPr>
          <a:xfrm>
            <a:off x="932760" y="472428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s how it is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4506120" y="472428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s how to do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117-E053-446D-BB6B-EF8B26A2DC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milih fokus dan “niche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mberdaya yg tersedia terbat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apasitas internal terbat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dak ada jalan pintas: membutuhkan sumberdaya yg besar dan waktu yg la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ing target”: yg ditiru juga tdk stat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njadi” Harvard, ITB, Oxford, UI, IPB, atau UGM bukan sasaran yg realist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rus memilih fok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kus ≠ academic discipl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unia nyata tidak mengenal academic discipl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mpir semua masalah di dunia nyata bersifat multi disiplin dan lintas disipl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11C-D8AA-4BF2-8F59-1BB1E5D20F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ksternal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rveilanc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gamatan terhadap lingkungan ekonomi, politik, budaya, dan sosia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makin kuantitatif, makin tajam, makin mudah membuat outlook scenarion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ahami pelua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ilih peran spesif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dak sekedar mengikuti jejak yg sudah suk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ilih fokus dan program unggul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ahami anca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pektif ekonomi: saingan: Lokal, regional, dan internasional, waspadai/cermati: G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ubahan lingkungan fisik: alam dan sos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4287-A4EE-4400-B327-955345222E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UJUAN ENVIRONMENTAL SCANN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ikas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garu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ndala, da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caman pesa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firmasi “strategic option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angkat manajemen PT memahami “strategic visions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mitmen para kolaborator, mitra kerja / bisnis, donor untuk berpartisipas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sun “outlook scenario” yg bai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73B9-01FC-40E3-87E8-1671AF046B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ahami kekuat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ahami kelemah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ilih program unggu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n mudah jika evaluasi diri mendal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uantifikasi SWOT: mudah diprediksi, strategi yg disarank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oritas strategi jelas dan dapat dijadwalk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unakan prinsip fas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aster;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bab peluang jarang kembali lagi, cepat hilang bersama moment &amp; ketatnya persaingan 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3E7-3AED-4F65-A507-3EDBC969D0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JUAN ANALISA INTER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ghasilkan strategic Visions dari para visionary leaders menjadi “strategic options” yg akura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ghasilkan “competitive strategic positions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ikasi secara akura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daya: tata nilai, norma &amp; artifa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kuatan unik yg dpt dimanfaatkan untuk efektifitas strateg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lemahan: agar mampu mengatasin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nerja dan daya dukung sumberda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pasitas manajemen yg 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C36-E374-4F7F-882F-427A4864EC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-7668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inerja Manaje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867280" y="4952880"/>
            <a:ext cx="2616480" cy="122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COGN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.g., Quality Award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ccreditation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stitutional Award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3962520"/>
            <a:ext cx="2374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putasi dlm kuali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5800" y="5181480"/>
            <a:ext cx="289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STITUTION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LF PER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838080" y="4114800"/>
            <a:ext cx="1776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ral, nor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2120" y="2590920"/>
            <a:ext cx="24177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udaya dan kualitas INSTITU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867280" y="2743200"/>
            <a:ext cx="2629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ersepsi atas kiner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200400" y="3809880"/>
            <a:ext cx="286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erja institus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31"/>
          <p:cNvGrpSpPr/>
          <p:nvPr/>
        </p:nvGrpSpPr>
        <p:grpSpPr>
          <a:xfrm>
            <a:off x="2433240" y="2170440"/>
            <a:ext cx="4240080" cy="3907800"/>
            <a:chOff x="2433240" y="2170440"/>
            <a:chExt cx="4240080" cy="3907800"/>
          </a:xfrm>
        </p:grpSpPr>
        <p:sp>
          <p:nvSpPr>
            <p:cNvPr id="107" name="Oval 4"/>
            <p:cNvSpPr/>
            <p:nvPr/>
          </p:nvSpPr>
          <p:spPr>
            <a:xfrm>
              <a:off x="2628360" y="2178000"/>
              <a:ext cx="3823920" cy="3694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 rot="18400800">
              <a:off x="5573160" y="236700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 rot="11135400">
              <a:off x="2454480" y="35110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 rot="20862600">
              <a:off x="6245280" y="350820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 rot="5779200">
              <a:off x="4313880" y="563220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 rot="14368200">
              <a:off x="3379680" y="22222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 rot="9549600">
              <a:off x="2574000" y="44794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5049720" y="5459400"/>
            <a:ext cx="874080" cy="712800"/>
            <a:chOff x="5049720" y="5459400"/>
            <a:chExt cx="874080" cy="712800"/>
          </a:xfrm>
        </p:grpSpPr>
        <p:sp>
          <p:nvSpPr>
            <p:cNvPr id="115" name="Line 20"/>
            <p:cNvSpPr/>
            <p:nvPr/>
          </p:nvSpPr>
          <p:spPr>
            <a:xfrm flipH="1" flipV="1">
              <a:off x="5757840" y="5459400"/>
              <a:ext cx="165960" cy="19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24"/>
            <p:cNvSpPr/>
            <p:nvPr/>
          </p:nvSpPr>
          <p:spPr>
            <a:xfrm flipH="1" flipV="1">
              <a:off x="5049720" y="5882760"/>
              <a:ext cx="244800" cy="28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25"/>
            <p:cNvSpPr/>
            <p:nvPr/>
          </p:nvSpPr>
          <p:spPr>
            <a:xfrm flipH="1" flipV="1">
              <a:off x="5305320" y="5782320"/>
              <a:ext cx="24480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6"/>
            <p:cNvSpPr/>
            <p:nvPr/>
          </p:nvSpPr>
          <p:spPr>
            <a:xfrm flipH="1" flipV="1">
              <a:off x="5492520" y="5661000"/>
              <a:ext cx="24444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27"/>
          <p:cNvSpPr/>
          <p:nvPr/>
        </p:nvSpPr>
        <p:spPr>
          <a:xfrm>
            <a:off x="613080" y="175248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6634080" y="1676520"/>
            <a:ext cx="20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KSTER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2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745-D6D2-4A02-8ACF-4895B76465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80880" y="4876920"/>
            <a:ext cx="678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stem inform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380880" y="4191120"/>
            <a:ext cx="678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rastruktur, asset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380880" y="3505320"/>
            <a:ext cx="678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berdaya manusia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80880" y="2209680"/>
            <a:ext cx="678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kadem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ungsi manajemen dan struktur organisas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80880" y="2819520"/>
            <a:ext cx="678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eu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 rot="5400000">
            <a:off x="2848680" y="377820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6"/>
          <p:cNvSpPr/>
          <p:nvPr/>
        </p:nvSpPr>
        <p:spPr>
          <a:xfrm rot="5400000">
            <a:off x="3544560" y="377820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 rot="5400000">
            <a:off x="5068440" y="377820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 rot="5400000">
            <a:off x="4306320" y="3778200"/>
            <a:ext cx="350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mbantu Rektor I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99E-69FE-4A01-8CCA-446E5589EA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simpulan evaluasi di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9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bimbing pemilihan “niche” tanpa kerancuan dan keragu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unakan sebagai prediksi masa depan secara “relatif akurat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ghasilkan pilihan strategi yg “jitu” (“memadai”: sesuai konteks, asumsi yg digunakan dan boundary sistem yg dibuat)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bukan hanya daftar elemen S, W, O, 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tapi merupakan hasil analisa matrix yg holistik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dipadukan dg isu strategi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berbagai tehnik penyusunan priorita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jaminan sinergi / koherensi / alignment / hitungan multiplier effects, dl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043E-5DF7-4C69-8D0E-8C4CFEF243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poran evaluasi di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557440" cy="12538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6"/>
          <p:cNvSpPr/>
          <p:nvPr/>
        </p:nvSpPr>
        <p:spPr>
          <a:xfrm>
            <a:off x="710640" y="327672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da saat anali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us obyektif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j0199367"/>
          <p:cNvPicPr/>
          <p:nvPr/>
        </p:nvPicPr>
        <p:blipFill>
          <a:blip r:embed="rId2"/>
          <a:stretch/>
        </p:blipFill>
        <p:spPr>
          <a:xfrm>
            <a:off x="6581880" y="1868400"/>
            <a:ext cx="1557360" cy="1808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9"/>
          <p:cNvSpPr/>
          <p:nvPr/>
        </p:nvSpPr>
        <p:spPr>
          <a:xfrm>
            <a:off x="14479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671400" y="4888080"/>
            <a:ext cx="171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milihan strateg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6537960" y="3849840"/>
            <a:ext cx="15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jikan bi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dasarka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ihan strateg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1447920" y="3809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Freeform 16"/>
          <p:cNvSpPr/>
          <p:nvPr/>
        </p:nvSpPr>
        <p:spPr>
          <a:xfrm>
            <a:off x="2390760" y="3164040"/>
            <a:ext cx="3962520" cy="1879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411880" y="220968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PO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ABD-695D-4D7E-BF0E-58E3BCCCF5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matic program sel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ksternal: relevan dgn kebutuhan masyarak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: sesuai dgn tingkat kapasitas internal yg dimil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F58-6C48-47D8-A5ED-0DE4E65DD6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WordArt 2"/>
          <p:cNvSpPr txBox="1"/>
          <p:nvPr/>
        </p:nvSpPr>
        <p:spPr>
          <a:xfrm>
            <a:off x="914400" y="1752480"/>
            <a:ext cx="5286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ima kasi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4343400" y="457200"/>
            <a:ext cx="3813120" cy="5605560"/>
            <a:chOff x="4343400" y="457200"/>
            <a:chExt cx="3813120" cy="5605560"/>
          </a:xfrm>
        </p:grpSpPr>
        <p:sp>
          <p:nvSpPr>
            <p:cNvPr id="404" name="AutoShape 4"/>
            <p:cNvSpPr/>
            <p:nvPr/>
          </p:nvSpPr>
          <p:spPr>
            <a:xfrm>
              <a:off x="4343400" y="457200"/>
              <a:ext cx="3813120" cy="56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Freeform 5"/>
            <p:cNvSpPr/>
            <p:nvPr/>
          </p:nvSpPr>
          <p:spPr>
            <a:xfrm>
              <a:off x="4354560" y="460440"/>
              <a:ext cx="3476520" cy="27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4354560" y="460440"/>
              <a:ext cx="3476520" cy="2714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4345200" y="3411360"/>
              <a:ext cx="2077920" cy="37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4345200" y="3411360"/>
              <a:ext cx="2077920" cy="3733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7196400" y="3195720"/>
              <a:ext cx="9572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7196400" y="3195720"/>
              <a:ext cx="957240" cy="1825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5691240" y="1073160"/>
              <a:ext cx="1641600" cy="253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5691240" y="1073160"/>
              <a:ext cx="1641600" cy="25336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5977080" y="3541680"/>
              <a:ext cx="1266840" cy="251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5977080" y="3541680"/>
              <a:ext cx="1266840" cy="25178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3C7-4E11-4E0F-B5C7-03ECEFCA6F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SIP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dak ada model tunggal yg cocok untuk semua perguruan ting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mbinasi model  manajeme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(unik, no one fits-for-all model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milihan model manajemen memudahkan stakeholders berpartisipasi dan berkontribusi kepada pencapaian tuju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D1F5-03CB-46C6-A399-27F46B736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 style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rokrati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edur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kuasaan tersentralisas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isiensi renda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dah dimobilisas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oh: Jawatan pemerinta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krati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si spesifik, fok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iplin tinggi, kompak, efisiensi tingg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etergantungan pd pimpinan tingg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ovasi dan kreatifitas tdk muda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oh: Politekni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BA2E-D3CC-49B0-9F41-42E6C1D4EE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 style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llegi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ory, decision by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ovatif dan krea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mban, konserva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oh: Universi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isien, responsif, dina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tergantungan pd pimpinan tingg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ovasi dan kreatifitas di tingkat bawah tidak mud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 mot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oh: indust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trepreneur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37B-BDDC-4ADE-A4AE-5034B190D0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onomi perguruan tinggi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da abad XI universitas didirikan oleh raja atau gerej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ukungan dana cuku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tonomi keilmuan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olasi dari kepentingan non akademik: </a:t>
            </a:r>
            <a:r>
              <a:rPr b="0" i="1" lang="en-US" sz="2100" spc="-1" strike="noStrike">
                <a:solidFill>
                  <a:srgbClr val="ff3300"/>
                </a:solidFill>
                <a:latin typeface="Verdana"/>
              </a:rPr>
              <a:t>disinterested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ontrak sosial antara universitas dgn gereja / ra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onflik antara raja/gereja dgn pengembangan ilmu pengetahuan: </a:t>
            </a:r>
            <a:r>
              <a:rPr b="0" i="1" lang="en-US" sz="2100" spc="-1" strike="noStrike">
                <a:solidFill>
                  <a:srgbClr val="ff3300"/>
                </a:solidFill>
                <a:latin typeface="Verdana"/>
              </a:rPr>
              <a:t>Illumina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kularisme di perguruan tingg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13B-5AF6-4F76-AAE8-B9B3A7BF63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onomi perguruan tinggi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ISU STRATEGIS HELTS 2003-20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onomi : Pergeseran paradigma Dikti dari pengendalian menuju ke fasilitasi, pemberdayaan, peningkatan kemampuan (FE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onomi diberikan kpd PT, bukan unit dibawahny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nerapannya pd setiap PT dapat berbeda: sentralisasi vs desentralisa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untabilitas kepada “stakeholders”: pemerintah, mahasiswa, employers, yayasan (PT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-17 Februari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ajemen perguruan tingg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D164-3B1C-4A65-AD52-7369EC33AF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Benguiat Bk BT"/>
              </a:rPr>
              <a:t>Kebijakan dasar HELTS </a:t>
            </a:r>
            <a:r>
              <a:rPr b="1" lang="en-US" sz="4200" spc="-1" strike="noStrike">
                <a:solidFill>
                  <a:srgbClr val="000000"/>
                </a:solidFill>
                <a:latin typeface="Benguiat Bk BT"/>
              </a:rPr>
              <a:t>2003-2010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64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ONOMI dan DESENTRALISASI</a:t>
            </a:r>
            <a:r>
              <a:rPr b="0" lang="en-US" sz="2600" spc="-1" strike="noStrike">
                <a:solidFill>
                  <a:srgbClr val="000000"/>
                </a:solidFill>
                <a:latin typeface="Palatino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bijakan ya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ntekstu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agi setiap institusi 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geseran dan pengalihan peran DJPT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0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k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silitator, mendorong pemberdayaa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acilitating, Empowering &amp; Enabling melalui hibah kompetis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0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nggung jaw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kuntabilt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yelenggaraan pendidi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geseran peran DJPT membutuhkan penyesuaia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bijakan pendanaan, personil, tata-pam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stem penjaminan kualit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bentukan jaringan kerjasama antar institusi menjadi penting dan harus digunakan sebaik-baiknya untuk memperbaiki daya sa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1:17:01Z</dcterms:created>
  <dc:creator>Adil</dc:creator>
  <dc:description/>
  <dc:language>en-US</dc:language>
  <cp:lastModifiedBy>Luke Skywalker</cp:lastModifiedBy>
  <dcterms:modified xsi:type="dcterms:W3CDTF">2007-02-18T00:52:26Z</dcterms:modified>
  <cp:revision>111</cp:revision>
  <dc:subject/>
  <dc:title>Slide 1</dc:title>
</cp:coreProperties>
</file>