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37E-6857-4244-A58C-B0F4B6BD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019-A264-4B51-919C-35172C07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8F2-BBAD-43FB-BE7F-DB2B15CE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7B2-E8ED-4C72-82BE-BD1187C0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DEC4-4576-43D3-8A65-AF3DB868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4C93-4875-434D-B50F-A1847297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77DA-9D9E-48C4-8B0D-37173671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9D66-BF40-4DE5-AFAD-26B327EE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E90A-C709-4FA7-932D-5988F331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E2A1-B174-4539-ACAE-DF31CD0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4287-F0E7-423B-98C2-013E8BFE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0B6-B08A-44B8-AF44-F9AAD730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87AD-5A4A-4CB7-8C74-B0C90C7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1627-C060-405F-919B-FD4764C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73B7-CC2F-4148-A56C-4890CBF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4075-F37E-4D97-8486-5F487913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100D-E07C-4B81-A955-9FF8126F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673-BE1D-45D4-A855-106EB70C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DF4-9074-4ACB-96C0-2928206B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69C-E02E-413F-AA6D-A390921C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EA3-749E-4A5D-A7F4-3DAAF127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E0D-6B0A-4F9B-BDF1-6322B693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FAE-AD92-4A20-B507-74081B7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F7E-973E-4F26-A641-E905BF0A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52280" y="152280"/>
          <a:ext cx="160020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16002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209A-B81C-4DA4-AF3D-A25D3DBEA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E604-C99A-4729-8983-F295AF582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enyusunan%20SE%20Report.ppt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82960" y="7621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nguiat Bk BT"/>
              </a:rPr>
              <a:t>Teknis Penyusuna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Self-Evaluation Report</a:t>
            </a:r>
            <a:br>
              <a:rPr sz="4800"/>
            </a:b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Penyusunan Lapora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/>
          </p:cNvPr>
          <p:cNvSpPr/>
          <p:nvPr/>
        </p:nvSpPr>
        <p:spPr>
          <a:xfrm>
            <a:off x="0" y="5759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 2"/>
                <a:ea typeface="Wingdings 2"/>
              </a:rPr>
              <a:t>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Atribut dari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Evalusi Diri yg baik </a:t>
            </a:r>
            <a:br>
              <a:rPr sz="4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1 dari 2)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nvolvement of all relevant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terlibatan semua pihak yang terkait (internal dan eksternal) dalam penyusunan Evaluasi Di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mprehen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ua aspek di analisa secara menyeluruh dan terpadu, berdasarkan data yang relevan, akurat d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tuk mendapatkan masalah (termasuk akar permasalah) yg dihadapi,  alternatif penyelesaiannya dan kesimpulan yang dapat ditarik dari Evaluasi Di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ata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yang digunakan untuk melakukan Evaluasi Diri harus akurat, konsiste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equ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n sesuai dengan faktor yang di analisa. Untuk dapat menila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 accura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aka perlu pula diuraikan bagaimana (metodologi) data tsb dikumpulkan, diolah dan dianali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Atribut dari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Evalusi Diri yg baik </a:t>
            </a:r>
            <a:br>
              <a:rPr sz="4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 dari 2)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epth of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nilai berdasarkan kemampuan analisa untuk mengidentifikasi masalah dan akar permasalahannya berdasarkan data yang berhasil dikumpulkan dan diolah terseb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nnovation or creativity of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nilai berdasarkan pemahaman thd pandua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cara penyajian laporan Evaluasi Diri dan metoda-metoda invotif agar laporan Evaluasi Diri menjadi lebih mudah dipahami secara lebih bai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evelopmen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nilai berdasarkan adanya keterkaitan (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benang mera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) antara kelemahan dan masalah yang dihadapi (hasil Evaluasi Diri) dengan alternatif solusi yang diusulkan untuk menyelesaikan masalah dan kelemahan terseb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5800" y="1992240"/>
            <a:ext cx="2362320" cy="2079000"/>
            <a:chOff x="685800" y="1992240"/>
            <a:chExt cx="2362320" cy="20790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685800" y="1992240"/>
              <a:ext cx="23623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42040" y="3733920"/>
              <a:ext cx="17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kusi Kelomp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733920" y="1600200"/>
            <a:ext cx="3886200" cy="2394720"/>
            <a:chOff x="3733920" y="1600200"/>
            <a:chExt cx="3886200" cy="239472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257800" y="1600200"/>
              <a:ext cx="23623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098040" y="3657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nalisa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33920" y="2590920"/>
              <a:ext cx="914400" cy="609480"/>
            </a:xfrm>
            <a:prstGeom prst="rightArrow">
              <a:avLst>
                <a:gd name="adj1" fmla="val 55204"/>
                <a:gd name="adj2" fmla="val 5130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19320" y="4648320"/>
            <a:ext cx="3504960" cy="1784880"/>
            <a:chOff x="1219320" y="4648320"/>
            <a:chExt cx="3504960" cy="1784880"/>
          </a:xfrm>
        </p:grpSpPr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1219320" y="4648320"/>
              <a:ext cx="160020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298520" y="6095880"/>
              <a:ext cx="139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entasik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809880" y="5334120"/>
              <a:ext cx="914400" cy="609480"/>
            </a:xfrm>
            <a:prstGeom prst="rightArrow">
              <a:avLst>
                <a:gd name="adj1" fmla="val 55204"/>
                <a:gd name="adj2" fmla="val 5130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41200" y="3276720"/>
            <a:ext cx="3121920" cy="3385080"/>
            <a:chOff x="5641200" y="3276720"/>
            <a:chExt cx="3121920" cy="338508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5715000" y="4114800"/>
              <a:ext cx="16653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41200" y="6324480"/>
              <a:ext cx="166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sun SE 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24680" y="3276720"/>
              <a:ext cx="838440" cy="266688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493920 h 2666880"/>
                <a:gd name="textAreaBottom" fmla="*/ 17967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004" stAng="-5400000" swAng="5400000"/>
                  <a:lnTo>
                    <a:pt x="21600" y="10550"/>
                  </a:lnTo>
                  <a:arcTo wR="21600" hR="8004" stAng="0" swAng="2715642"/>
                  <a:lnTo>
                    <a:pt x="7445" y="21110"/>
                  </a:lnTo>
                  <a:lnTo>
                    <a:pt x="0" y="17280"/>
                  </a:lnTo>
                  <a:lnTo>
                    <a:pt x="7445" y="12470"/>
                  </a:lnTo>
                  <a:lnTo>
                    <a:pt x="7445" y="15517"/>
                  </a:lnTo>
                  <a:arcTo wR="21600" hR="8004" stAng="2715642" swAng="-2510668"/>
                  <a:lnTo>
                    <a:pt x="21325" y="9277"/>
                  </a:lnTo>
                  <a:arcTo wR="21600" hR="8004" stAng="-204973" swAng="-5195027"/>
                  <a:close/>
                </a:path>
                <a:path fill="darkenLess" w="21600" h="21600">
                  <a:moveTo>
                    <a:pt x="0" y="0"/>
                  </a:moveTo>
                  <a:arcTo wR="21600" hR="8004" stAng="-5400000" swAng="5400000"/>
                  <a:lnTo>
                    <a:pt x="21600" y="10550"/>
                  </a:lnTo>
                  <a:arcTo wR="21600" hR="8004" stAng="0" swAng="-204973"/>
                  <a:lnTo>
                    <a:pt x="21325" y="9277"/>
                  </a:lnTo>
                  <a:arcTo wR="21600" hR="8004" stAng="-204973" swAng="-5195027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600200" y="2286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00"/>
                </a:solidFill>
                <a:latin typeface="Benguiat Bk BT"/>
              </a:rPr>
              <a:t>Selamat Bekerja</a:t>
            </a:r>
            <a:r>
              <a:rPr b="0" i="1" lang="en-US" sz="6000" spc="-1" strike="noStrike">
                <a:solidFill>
                  <a:srgbClr val="cc0000"/>
                </a:solidFill>
                <a:latin typeface="Benguiat Bk B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nulisan Dokumen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a Penulisa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iap bagia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p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tulis oleh orang yang berbe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ggabungan semua bagia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ar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a seorang editor yang membaca d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nyelarask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kronisa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emua bagi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antar ba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gan lup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iap halaman,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har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beri nomor halam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tentuan jumlah halaman yang tercantum dalam panduan, sedapat mungkin diiku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Har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buat daftar i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nulis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ar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ngikuti pandu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80880" y="2590920"/>
            <a:ext cx="4952880" cy="1143000"/>
            <a:chOff x="380880" y="2590920"/>
            <a:chExt cx="4952880" cy="1143000"/>
          </a:xfrm>
        </p:grpSpPr>
        <p:sp>
          <p:nvSpPr>
            <p:cNvPr id="92" name=""/>
            <p:cNvSpPr/>
            <p:nvPr/>
          </p:nvSpPr>
          <p:spPr>
            <a:xfrm>
              <a:off x="380880" y="2590920"/>
              <a:ext cx="4952880" cy="45720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2590920"/>
              <a:ext cx="49528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SzPct val="70000"/>
                <a:buFont typeface="Monotype Sorts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ngku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70000"/>
                <a:buFont typeface="Monotype Sorts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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simpulan 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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Hasil analisa SW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0880" y="3809880"/>
            <a:ext cx="4952880" cy="457200"/>
            <a:chOff x="380880" y="3809880"/>
            <a:chExt cx="4952880" cy="457200"/>
          </a:xfrm>
        </p:grpSpPr>
        <p:sp>
          <p:nvSpPr>
            <p:cNvPr id="95" name=""/>
            <p:cNvSpPr/>
            <p:nvPr/>
          </p:nvSpPr>
          <p:spPr>
            <a:xfrm>
              <a:off x="380880" y="3809880"/>
              <a:ext cx="4952880" cy="45720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3809880"/>
              <a:ext cx="4952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buClr>
                  <a:srgbClr val="ff0000"/>
                </a:buClr>
                <a:buSzPct val="70000"/>
                <a:buFont typeface="Monotype Sorts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laksanaan Evaluasi Di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80880" y="4343400"/>
            <a:ext cx="4952880" cy="1523880"/>
            <a:chOff x="380880" y="4343400"/>
            <a:chExt cx="4952880" cy="1523880"/>
          </a:xfrm>
        </p:grpSpPr>
        <p:sp>
          <p:nvSpPr>
            <p:cNvPr id="98" name=""/>
            <p:cNvSpPr/>
            <p:nvPr/>
          </p:nvSpPr>
          <p:spPr>
            <a:xfrm>
              <a:off x="380880" y="4343400"/>
              <a:ext cx="4952880" cy="45720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4343400"/>
              <a:ext cx="4952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buClr>
                  <a:srgbClr val="ff0000"/>
                </a:buClr>
                <a:buSzPct val="70000"/>
                <a:buFont typeface="Monotype Sort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tar Belaka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70000"/>
                <a:buFont typeface="Monotype Sorts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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iwayat Jurusan dan Program Studi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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Rencana Pengembangan Jangka Panjang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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Lingkungan Eks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752480" y="380880"/>
            <a:ext cx="72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truktur</a:t>
            </a:r>
            <a:br>
              <a:rPr sz="4800"/>
            </a:b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elf Evaluation Report</a:t>
            </a: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22800" y="266688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nulisannya paling akh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27120" y="2824200"/>
            <a:ext cx="3616560" cy="469800"/>
          </a:xfrm>
          <a:custGeom>
            <a:avLst/>
            <a:gdLst/>
            <a:ahLst/>
            <a:rect l="l" t="t" r="r" b="b"/>
            <a:pathLst>
              <a:path w="2278" h="296">
                <a:moveTo>
                  <a:pt x="2278" y="16"/>
                </a:moveTo>
                <a:cubicBezTo>
                  <a:pt x="2172" y="5"/>
                  <a:pt x="1943" y="0"/>
                  <a:pt x="1933" y="74"/>
                </a:cubicBezTo>
                <a:cubicBezTo>
                  <a:pt x="1923" y="148"/>
                  <a:pt x="2156" y="106"/>
                  <a:pt x="2108" y="201"/>
                </a:cubicBezTo>
                <a:cubicBezTo>
                  <a:pt x="2060" y="296"/>
                  <a:pt x="426" y="267"/>
                  <a:pt x="0" y="26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91320" y="3124080"/>
            <a:ext cx="3049920" cy="824040"/>
            <a:chOff x="5791320" y="3124080"/>
            <a:chExt cx="3049920" cy="824040"/>
          </a:xfrm>
        </p:grpSpPr>
        <p:sp>
          <p:nvSpPr>
            <p:cNvPr id="104" name=""/>
            <p:cNvSpPr/>
            <p:nvPr/>
          </p:nvSpPr>
          <p:spPr>
            <a:xfrm>
              <a:off x="6028560" y="3124080"/>
              <a:ext cx="281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njelasan mengenai langka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laksanaan Evaluasi Diri </a:t>
              </a:r>
              <a:r>
                <a:rPr b="1" lang="en-US" sz="12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sil Tugas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1320" y="3276720"/>
              <a:ext cx="228600" cy="533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079880" y="3548160"/>
            <a:ext cx="1806480" cy="533160"/>
          </a:xfrm>
          <a:custGeom>
            <a:avLst/>
            <a:gdLst/>
            <a:ahLst/>
            <a:rect l="l" t="t" r="r" b="b"/>
            <a:pathLst>
              <a:path w="1138" h="336">
                <a:moveTo>
                  <a:pt x="0" y="319"/>
                </a:moveTo>
                <a:cubicBezTo>
                  <a:pt x="167" y="315"/>
                  <a:pt x="872" y="336"/>
                  <a:pt x="1003" y="292"/>
                </a:cubicBezTo>
                <a:cubicBezTo>
                  <a:pt x="1138" y="240"/>
                  <a:pt x="776" y="105"/>
                  <a:pt x="786" y="53"/>
                </a:cubicBezTo>
                <a:cubicBezTo>
                  <a:pt x="796" y="1"/>
                  <a:pt x="988" y="1"/>
                  <a:pt x="103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15000" y="4038480"/>
            <a:ext cx="3297960" cy="824040"/>
            <a:chOff x="5715000" y="4038480"/>
            <a:chExt cx="3297960" cy="824040"/>
          </a:xfrm>
        </p:grpSpPr>
        <p:sp>
          <p:nvSpPr>
            <p:cNvPr id="108" name=""/>
            <p:cNvSpPr/>
            <p:nvPr/>
          </p:nvSpPr>
          <p:spPr>
            <a:xfrm>
              <a:off x="5947560" y="4038480"/>
              <a:ext cx="3065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lasan pendirian Jurusan &amp;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rkembangan 5 thn terakh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ibah yg pernah didap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5000" y="4191120"/>
              <a:ext cx="228600" cy="533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800600" y="4462560"/>
            <a:ext cx="914400" cy="533160"/>
          </a:xfrm>
          <a:custGeom>
            <a:avLst/>
            <a:gdLst/>
            <a:ahLst/>
            <a:rect l="l" t="t" r="r" b="b"/>
            <a:pathLst>
              <a:path w="1138" h="336">
                <a:moveTo>
                  <a:pt x="0" y="319"/>
                </a:moveTo>
                <a:cubicBezTo>
                  <a:pt x="167" y="315"/>
                  <a:pt x="872" y="336"/>
                  <a:pt x="1003" y="292"/>
                </a:cubicBezTo>
                <a:cubicBezTo>
                  <a:pt x="1138" y="240"/>
                  <a:pt x="776" y="105"/>
                  <a:pt x="786" y="53"/>
                </a:cubicBezTo>
                <a:cubicBezTo>
                  <a:pt x="796" y="1"/>
                  <a:pt x="988" y="1"/>
                  <a:pt x="103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943600" y="5014800"/>
            <a:ext cx="2948040" cy="1310760"/>
            <a:chOff x="5943600" y="5014800"/>
            <a:chExt cx="2948040" cy="1310760"/>
          </a:xfrm>
        </p:grpSpPr>
        <p:sp>
          <p:nvSpPr>
            <p:cNvPr id="112" name=""/>
            <p:cNvSpPr/>
            <p:nvPr/>
          </p:nvSpPr>
          <p:spPr>
            <a:xfrm>
              <a:off x="6159600" y="5014800"/>
              <a:ext cx="2732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PJP Perguruan Ting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JPJ Jurus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alau sudah punya RPJP </a:t>
              </a:r>
              <a:r>
                <a:rPr b="1" lang="en-US" sz="12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onsistensi pelaksanaann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esifitas/Unggulan (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Times New Roman"/>
                </a:rPr>
                <a:t>nich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51814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257800" y="5254560"/>
            <a:ext cx="792000" cy="449280"/>
          </a:xfrm>
          <a:custGeom>
            <a:avLst/>
            <a:gdLst/>
            <a:ahLst/>
            <a:rect l="l" t="t" r="r" b="b"/>
            <a:pathLst>
              <a:path w="499" h="283">
                <a:moveTo>
                  <a:pt x="0" y="19"/>
                </a:moveTo>
                <a:cubicBezTo>
                  <a:pt x="72" y="22"/>
                  <a:pt x="395" y="0"/>
                  <a:pt x="431" y="35"/>
                </a:cubicBezTo>
                <a:cubicBezTo>
                  <a:pt x="499" y="87"/>
                  <a:pt x="209" y="179"/>
                  <a:pt x="214" y="231"/>
                </a:cubicBezTo>
                <a:cubicBezTo>
                  <a:pt x="219" y="283"/>
                  <a:pt x="360" y="269"/>
                  <a:pt x="399" y="27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800" y="6019920"/>
            <a:ext cx="42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il Analisa LingkunganEksternal </a:t>
            </a:r>
            <a:r>
              <a:rPr b="1" lang="en-US" sz="12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elu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Opportuniti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antanga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Threat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5597640"/>
            <a:ext cx="1965240" cy="749160"/>
          </a:xfrm>
          <a:custGeom>
            <a:avLst/>
            <a:gdLst/>
            <a:ahLst/>
            <a:rect l="l" t="t" r="r" b="b"/>
            <a:pathLst>
              <a:path w="1238" h="472">
                <a:moveTo>
                  <a:pt x="697" y="472"/>
                </a:moveTo>
                <a:cubicBezTo>
                  <a:pt x="859" y="412"/>
                  <a:pt x="1238" y="360"/>
                  <a:pt x="1132" y="180"/>
                </a:cubicBezTo>
                <a:cubicBezTo>
                  <a:pt x="1026" y="0"/>
                  <a:pt x="357" y="10"/>
                  <a:pt x="0" y="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380880"/>
            <a:ext cx="72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truktur</a:t>
            </a:r>
            <a:br>
              <a:rPr sz="4800"/>
            </a:b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elf Evaluation Report</a:t>
            </a: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981080"/>
            <a:ext cx="5105520" cy="533520"/>
            <a:chOff x="228600" y="1981080"/>
            <a:chExt cx="5105520" cy="533520"/>
          </a:xfrm>
        </p:grpSpPr>
        <p:sp>
          <p:nvSpPr>
            <p:cNvPr id="119" name=""/>
            <p:cNvSpPr/>
            <p:nvPr/>
          </p:nvSpPr>
          <p:spPr>
            <a:xfrm>
              <a:off x="228600" y="1981080"/>
              <a:ext cx="5105520" cy="45720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981080"/>
              <a:ext cx="5105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0000"/>
                </a:buClr>
                <a:buSzPct val="70000"/>
                <a:buFont typeface="Monotype Sorts" charset="2"/>
                <a:buChar char="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valuasi Program Akadem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434340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elit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est Group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idan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nelitia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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inar Ilmiah yg pernah diselenggaraka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ovatif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ublikasi Ilmi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4382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dika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0-S3, reguler &amp; non-regul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lusa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ses Belajar-Mengaja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hasiswa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urikulum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yanan In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867280" y="2036880"/>
            <a:ext cx="3157200" cy="1753200"/>
            <a:chOff x="5867280" y="2036880"/>
            <a:chExt cx="3157200" cy="1753200"/>
          </a:xfrm>
        </p:grpSpPr>
        <p:sp>
          <p:nvSpPr>
            <p:cNvPr id="124" name=""/>
            <p:cNvSpPr/>
            <p:nvPr/>
          </p:nvSpPr>
          <p:spPr>
            <a:xfrm>
              <a:off x="6082200" y="2036880"/>
              <a:ext cx="294228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Benguiat Bk BT"/>
                </a:rPr>
                <a:t>HASIL ANALISA 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jala/fenomena/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ympt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kar permasala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esimpulan yg komprehens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6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ingka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dan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Times New Roman"/>
                </a:rPr>
                <a:t>je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Benguiat Bk BT"/>
                </a:rPr>
                <a:t>BUKA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: Menarasikan tabel 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7280" y="2209680"/>
              <a:ext cx="228600" cy="14479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936960" y="3322800"/>
            <a:ext cx="1557360" cy="1401480"/>
          </a:xfrm>
          <a:custGeom>
            <a:avLst/>
            <a:gdLst/>
            <a:ahLst/>
            <a:rect l="l" t="t" r="r" b="b"/>
            <a:pathLst>
              <a:path w="981" h="883">
                <a:moveTo>
                  <a:pt x="0" y="36"/>
                </a:moveTo>
                <a:cubicBezTo>
                  <a:pt x="117" y="48"/>
                  <a:pt x="613" y="0"/>
                  <a:pt x="700" y="110"/>
                </a:cubicBezTo>
                <a:cubicBezTo>
                  <a:pt x="826" y="244"/>
                  <a:pt x="515" y="560"/>
                  <a:pt x="525" y="694"/>
                </a:cubicBezTo>
                <a:cubicBezTo>
                  <a:pt x="534" y="827"/>
                  <a:pt x="937" y="880"/>
                  <a:pt x="981" y="88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971800"/>
            <a:ext cx="347400" cy="820800"/>
          </a:xfrm>
          <a:custGeom>
            <a:avLst/>
            <a:gdLst>
              <a:gd name="textAreaLeft" fmla="*/ 0 w 347400"/>
              <a:gd name="textAreaRight" fmla="*/ 125280 w 347400"/>
              <a:gd name="textAreaTop" fmla="*/ 23760 h 820800"/>
              <a:gd name="textAreaBottom" fmla="*/ 79704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3"/>
                  <a:pt x="10800" y="2005"/>
                </a:cubicBezTo>
                <a:lnTo>
                  <a:pt x="10800" y="8858"/>
                </a:lnTo>
                <a:cubicBezTo>
                  <a:pt x="10800" y="9861"/>
                  <a:pt x="16200" y="10863"/>
                  <a:pt x="21600" y="10863"/>
                </a:cubicBezTo>
                <a:cubicBezTo>
                  <a:pt x="16200" y="10863"/>
                  <a:pt x="10800" y="11866"/>
                  <a:pt x="10800" y="12868"/>
                </a:cubicBezTo>
                <a:lnTo>
                  <a:pt x="10800" y="19595"/>
                </a:lnTo>
                <a:cubicBezTo>
                  <a:pt x="10800" y="2059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562720" y="3809880"/>
            <a:ext cx="2751120" cy="580680"/>
            <a:chOff x="5562720" y="3809880"/>
            <a:chExt cx="2751120" cy="580680"/>
          </a:xfrm>
        </p:grpSpPr>
        <p:sp>
          <p:nvSpPr>
            <p:cNvPr id="129" name=""/>
            <p:cNvSpPr/>
            <p:nvPr/>
          </p:nvSpPr>
          <p:spPr>
            <a:xfrm>
              <a:off x="5681160" y="3809880"/>
              <a:ext cx="263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jala &amp; Masalah lintas P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esimpulan penyeluru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2720" y="39625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304560"/>
                <a:gd name="textAreaBottom" fmla="*/ 2926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82"/>
                    <a:pt x="10800" y="2764"/>
                  </a:cubicBezTo>
                  <a:lnTo>
                    <a:pt x="10800" y="7715"/>
                  </a:lnTo>
                  <a:cubicBezTo>
                    <a:pt x="10800" y="9097"/>
                    <a:pt x="5400" y="10479"/>
                    <a:pt x="0" y="10479"/>
                  </a:cubicBezTo>
                  <a:cubicBezTo>
                    <a:pt x="5400" y="10479"/>
                    <a:pt x="10800" y="11861"/>
                    <a:pt x="10800" y="13243"/>
                  </a:cubicBezTo>
                  <a:lnTo>
                    <a:pt x="10800" y="18836"/>
                  </a:lnTo>
                  <a:cubicBezTo>
                    <a:pt x="10800" y="20218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562720" y="4419720"/>
            <a:ext cx="3519720" cy="580680"/>
            <a:chOff x="5562720" y="4419720"/>
            <a:chExt cx="3519720" cy="580680"/>
          </a:xfrm>
        </p:grpSpPr>
        <p:sp>
          <p:nvSpPr>
            <p:cNvPr id="132" name=""/>
            <p:cNvSpPr/>
            <p:nvPr/>
          </p:nvSpPr>
          <p:spPr>
            <a:xfrm>
              <a:off x="5678280" y="4419720"/>
              <a:ext cx="3404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sing-masing PS yg ada di Jurus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rus dilaporkan sendiri-sendi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720" y="457200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304920"/>
                <a:gd name="textAreaBottom" fmla="*/ 2930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82"/>
                    <a:pt x="10800" y="2764"/>
                  </a:cubicBezTo>
                  <a:lnTo>
                    <a:pt x="10800" y="7715"/>
                  </a:lnTo>
                  <a:cubicBezTo>
                    <a:pt x="10800" y="9097"/>
                    <a:pt x="5400" y="10479"/>
                    <a:pt x="0" y="10479"/>
                  </a:cubicBezTo>
                  <a:cubicBezTo>
                    <a:pt x="5400" y="10479"/>
                    <a:pt x="10800" y="11861"/>
                    <a:pt x="10800" y="13243"/>
                  </a:cubicBezTo>
                  <a:lnTo>
                    <a:pt x="10800" y="18836"/>
                  </a:lnTo>
                  <a:cubicBezTo>
                    <a:pt x="10800" y="20218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11960" y="5029200"/>
            <a:ext cx="3624840" cy="824040"/>
            <a:chOff x="5511960" y="5029200"/>
            <a:chExt cx="3624840" cy="824040"/>
          </a:xfrm>
        </p:grpSpPr>
        <p:sp>
          <p:nvSpPr>
            <p:cNvPr id="135" name=""/>
            <p:cNvSpPr/>
            <p:nvPr/>
          </p:nvSpPr>
          <p:spPr>
            <a:xfrm>
              <a:off x="5682240" y="5029200"/>
              <a:ext cx="3454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uliah &amp; Praktikum lintas Program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enjang, Jurusan &amp; Fakultas </a:t>
              </a:r>
              <a:r>
                <a:rPr b="1" lang="en-US" sz="12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beb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yg ditanggung Jurus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1960" y="5173560"/>
              <a:ext cx="228600" cy="533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240 h 533520"/>
                <a:gd name="textAreaBottom" fmla="*/ 5122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82"/>
                    <a:pt x="10800" y="2764"/>
                  </a:cubicBezTo>
                  <a:lnTo>
                    <a:pt x="10800" y="7715"/>
                  </a:lnTo>
                  <a:cubicBezTo>
                    <a:pt x="10800" y="9097"/>
                    <a:pt x="5400" y="10479"/>
                    <a:pt x="0" y="10479"/>
                  </a:cubicBezTo>
                  <a:cubicBezTo>
                    <a:pt x="5400" y="10479"/>
                    <a:pt x="10800" y="11861"/>
                    <a:pt x="10800" y="13243"/>
                  </a:cubicBezTo>
                  <a:lnTo>
                    <a:pt x="10800" y="18836"/>
                  </a:lnTo>
                  <a:cubicBezTo>
                    <a:pt x="10800" y="2021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495680" y="2208240"/>
            <a:ext cx="1455840" cy="725400"/>
          </a:xfrm>
          <a:custGeom>
            <a:avLst/>
            <a:gdLst/>
            <a:ahLst/>
            <a:rect l="l" t="t" r="r" b="b"/>
            <a:pathLst>
              <a:path w="1061" h="457">
                <a:moveTo>
                  <a:pt x="0" y="24"/>
                </a:moveTo>
                <a:cubicBezTo>
                  <a:pt x="156" y="29"/>
                  <a:pt x="795" y="0"/>
                  <a:pt x="935" y="60"/>
                </a:cubicBezTo>
                <a:cubicBezTo>
                  <a:pt x="1061" y="131"/>
                  <a:pt x="828" y="312"/>
                  <a:pt x="838" y="382"/>
                </a:cubicBezTo>
                <a:cubicBezTo>
                  <a:pt x="847" y="453"/>
                  <a:pt x="951" y="442"/>
                  <a:pt x="981" y="45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4062240"/>
            <a:ext cx="2541600" cy="1373400"/>
          </a:xfrm>
          <a:custGeom>
            <a:avLst/>
            <a:gdLst/>
            <a:ahLst/>
            <a:rect l="l" t="t" r="r" b="b"/>
            <a:pathLst>
              <a:path w="1601" h="865">
                <a:moveTo>
                  <a:pt x="0" y="30"/>
                </a:moveTo>
                <a:cubicBezTo>
                  <a:pt x="159" y="37"/>
                  <a:pt x="823" y="0"/>
                  <a:pt x="953" y="74"/>
                </a:cubicBezTo>
                <a:cubicBezTo>
                  <a:pt x="1159" y="211"/>
                  <a:pt x="768" y="336"/>
                  <a:pt x="783" y="473"/>
                </a:cubicBezTo>
                <a:cubicBezTo>
                  <a:pt x="798" y="610"/>
                  <a:pt x="1537" y="824"/>
                  <a:pt x="1601" y="86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65560" y="2571840"/>
            <a:ext cx="484200" cy="1541520"/>
          </a:xfrm>
          <a:custGeom>
            <a:avLst/>
            <a:gdLst/>
            <a:ahLst/>
            <a:rect l="l" t="t" r="r" b="b"/>
            <a:pathLst>
              <a:path w="305" h="971">
                <a:moveTo>
                  <a:pt x="0" y="58"/>
                </a:moveTo>
                <a:cubicBezTo>
                  <a:pt x="46" y="70"/>
                  <a:pt x="253" y="0"/>
                  <a:pt x="271" y="127"/>
                </a:cubicBezTo>
                <a:cubicBezTo>
                  <a:pt x="305" y="275"/>
                  <a:pt x="103" y="673"/>
                  <a:pt x="106" y="822"/>
                </a:cubicBezTo>
                <a:cubicBezTo>
                  <a:pt x="108" y="970"/>
                  <a:pt x="234" y="952"/>
                  <a:pt x="276" y="97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52480" y="380880"/>
            <a:ext cx="72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truktur</a:t>
            </a:r>
            <a:br>
              <a:rPr sz="4800"/>
            </a:b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elf Evaluation Report</a:t>
            </a: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8600" y="1981080"/>
            <a:ext cx="5105520" cy="533520"/>
            <a:chOff x="228600" y="1981080"/>
            <a:chExt cx="5105520" cy="533520"/>
          </a:xfrm>
        </p:grpSpPr>
        <p:sp>
          <p:nvSpPr>
            <p:cNvPr id="142" name=""/>
            <p:cNvSpPr/>
            <p:nvPr/>
          </p:nvSpPr>
          <p:spPr>
            <a:xfrm>
              <a:off x="228600" y="1981080"/>
              <a:ext cx="5105520" cy="45720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" y="1981080"/>
              <a:ext cx="5105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300"/>
                </a:spcBef>
                <a:buClr>
                  <a:srgbClr val="ff0000"/>
                </a:buClr>
                <a:buSzPct val="70000"/>
                <a:buFont typeface="Monotype Sorts" charset="2"/>
                <a:buChar char="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valuasi Program Akademi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(lanjuta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867280" y="2036880"/>
            <a:ext cx="3179520" cy="1753200"/>
            <a:chOff x="5867280" y="2036880"/>
            <a:chExt cx="3179520" cy="1753200"/>
          </a:xfrm>
        </p:grpSpPr>
        <p:sp>
          <p:nvSpPr>
            <p:cNvPr id="145" name=""/>
            <p:cNvSpPr/>
            <p:nvPr/>
          </p:nvSpPr>
          <p:spPr>
            <a:xfrm>
              <a:off x="6081840" y="2036880"/>
              <a:ext cx="296496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Benguiat Bk BT"/>
                </a:rPr>
                <a:t>HASIL ANALISA 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jala/fenomena/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ympt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kar permasala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esimpulan yg komprehens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6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ingka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dan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Times New Roman"/>
                </a:rPr>
                <a:t>je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Benguiat Bk BT"/>
                </a:rPr>
                <a:t>BUKA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: Menarasikan data 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280" y="2209680"/>
              <a:ext cx="228600" cy="14479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226120" y="2212920"/>
            <a:ext cx="725400" cy="728640"/>
          </a:xfrm>
          <a:custGeom>
            <a:avLst/>
            <a:gdLst/>
            <a:ahLst/>
            <a:rect l="l" t="t" r="r" b="b"/>
            <a:pathLst>
              <a:path w="457" h="459">
                <a:moveTo>
                  <a:pt x="0" y="29"/>
                </a:moveTo>
                <a:cubicBezTo>
                  <a:pt x="68" y="34"/>
                  <a:pt x="364" y="0"/>
                  <a:pt x="405" y="57"/>
                </a:cubicBezTo>
                <a:cubicBezTo>
                  <a:pt x="457" y="128"/>
                  <a:pt x="245" y="299"/>
                  <a:pt x="249" y="369"/>
                </a:cubicBezTo>
                <a:cubicBezTo>
                  <a:pt x="253" y="440"/>
                  <a:pt x="349" y="433"/>
                  <a:pt x="377" y="45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38280"/>
            <a:ext cx="5105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gabdian pada Masyarak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jasama Institusion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latiha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duk Tepat G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927680" y="3962520"/>
            <a:ext cx="4104720" cy="1554120"/>
            <a:chOff x="4927680" y="3962520"/>
            <a:chExt cx="4104720" cy="1554120"/>
          </a:xfrm>
        </p:grpSpPr>
        <p:sp>
          <p:nvSpPr>
            <p:cNvPr id="150" name=""/>
            <p:cNvSpPr/>
            <p:nvPr/>
          </p:nvSpPr>
          <p:spPr>
            <a:xfrm>
              <a:off x="5113440" y="3962520"/>
              <a:ext cx="3918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abarkan kemampuan Institusi unt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lakukan kerjasama utk mendapatka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na (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Times New Roman"/>
                </a:rPr>
                <a:t>incom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, seperti pelatihan pegawai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mbuat rancang bangun, d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mpat kerja praktek mahasis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ngakuan Nasional &amp; Internasional, d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27680" y="4130640"/>
              <a:ext cx="228600" cy="1244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9680 h 1244520"/>
                <a:gd name="textAreaBottom" fmla="*/ 119484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82"/>
                    <a:pt x="10800" y="2764"/>
                  </a:cubicBezTo>
                  <a:lnTo>
                    <a:pt x="10800" y="7715"/>
                  </a:lnTo>
                  <a:cubicBezTo>
                    <a:pt x="10800" y="9097"/>
                    <a:pt x="5400" y="10479"/>
                    <a:pt x="0" y="10479"/>
                  </a:cubicBezTo>
                  <a:cubicBezTo>
                    <a:pt x="5400" y="10479"/>
                    <a:pt x="10800" y="11861"/>
                    <a:pt x="10800" y="13243"/>
                  </a:cubicBezTo>
                  <a:lnTo>
                    <a:pt x="10800" y="18836"/>
                  </a:lnTo>
                  <a:cubicBezTo>
                    <a:pt x="10800" y="2021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105440" y="2612880"/>
            <a:ext cx="1112760" cy="2116440"/>
          </a:xfrm>
          <a:custGeom>
            <a:avLst/>
            <a:gdLst/>
            <a:ahLst/>
            <a:rect l="l" t="t" r="r" b="b"/>
            <a:pathLst>
              <a:path w="701" h="1333">
                <a:moveTo>
                  <a:pt x="0" y="35"/>
                </a:moveTo>
                <a:cubicBezTo>
                  <a:pt x="107" y="59"/>
                  <a:pt x="606" y="0"/>
                  <a:pt x="642" y="180"/>
                </a:cubicBezTo>
                <a:cubicBezTo>
                  <a:pt x="701" y="391"/>
                  <a:pt x="212" y="903"/>
                  <a:pt x="217" y="1115"/>
                </a:cubicBezTo>
                <a:cubicBezTo>
                  <a:pt x="221" y="1326"/>
                  <a:pt x="409" y="1306"/>
                  <a:pt x="482" y="13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886200"/>
            <a:ext cx="5105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Penjaminan Kual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cang bangu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laksanaan/implementasi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il Pelaksan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84480" y="5638680"/>
            <a:ext cx="4732560" cy="1067400"/>
            <a:chOff x="2184480" y="5638680"/>
            <a:chExt cx="4732560" cy="1067400"/>
          </a:xfrm>
        </p:grpSpPr>
        <p:sp>
          <p:nvSpPr>
            <p:cNvPr id="155" name=""/>
            <p:cNvSpPr/>
            <p:nvPr/>
          </p:nvSpPr>
          <p:spPr>
            <a:xfrm>
              <a:off x="2369880" y="5638680"/>
              <a:ext cx="4547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abarkan kemampuan Institusi (PT, Fak, Ju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tuk melakukan penjaminan kualitas kegiat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kademik (Pendidikan, Penelitian &amp; Pengabd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da Masyarakat) </a:t>
              </a:r>
              <a:r>
                <a:rPr b="1" lang="en-US" sz="12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istem yg ad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dan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kinerjan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84480" y="579132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0240 h 761760"/>
                <a:gd name="textAreaBottom" fmla="*/ 7315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82"/>
                    <a:pt x="10800" y="2764"/>
                  </a:cubicBezTo>
                  <a:lnTo>
                    <a:pt x="10800" y="7715"/>
                  </a:lnTo>
                  <a:cubicBezTo>
                    <a:pt x="10800" y="9097"/>
                    <a:pt x="5400" y="10479"/>
                    <a:pt x="0" y="10479"/>
                  </a:cubicBezTo>
                  <a:cubicBezTo>
                    <a:pt x="5400" y="10479"/>
                    <a:pt x="10800" y="11861"/>
                    <a:pt x="10800" y="13243"/>
                  </a:cubicBezTo>
                  <a:lnTo>
                    <a:pt x="10800" y="18836"/>
                  </a:lnTo>
                  <a:cubicBezTo>
                    <a:pt x="10800" y="2021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189080" y="4172040"/>
            <a:ext cx="3236760" cy="2079360"/>
          </a:xfrm>
          <a:custGeom>
            <a:avLst/>
            <a:gdLst/>
            <a:ahLst/>
            <a:rect l="l" t="t" r="r" b="b"/>
            <a:pathLst>
              <a:path w="2039" h="1310">
                <a:moveTo>
                  <a:pt x="1869" y="0"/>
                </a:moveTo>
                <a:cubicBezTo>
                  <a:pt x="1886" y="53"/>
                  <a:pt x="2039" y="63"/>
                  <a:pt x="1970" y="313"/>
                </a:cubicBezTo>
                <a:cubicBezTo>
                  <a:pt x="1901" y="563"/>
                  <a:pt x="0" y="887"/>
                  <a:pt x="16" y="1099"/>
                </a:cubicBezTo>
                <a:cubicBezTo>
                  <a:pt x="30" y="1310"/>
                  <a:pt x="457" y="1234"/>
                  <a:pt x="573" y="126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truktur</a:t>
            </a:r>
            <a:br>
              <a:rPr sz="4800"/>
            </a:b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elf Evaluation Report</a:t>
            </a: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1905120"/>
            <a:ext cx="4343400" cy="533160"/>
            <a:chOff x="457200" y="1905120"/>
            <a:chExt cx="4343400" cy="533160"/>
          </a:xfrm>
        </p:grpSpPr>
        <p:sp>
          <p:nvSpPr>
            <p:cNvPr id="160" name=""/>
            <p:cNvSpPr/>
            <p:nvPr/>
          </p:nvSpPr>
          <p:spPr>
            <a:xfrm>
              <a:off x="457200" y="1905120"/>
              <a:ext cx="4343400" cy="45684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19051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0000"/>
                </a:buClr>
                <a:buSzPct val="70000"/>
                <a:buFont typeface="Monotype Sorts" charset="2"/>
                <a:buChar char="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jemen Sumberday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57200" y="2438280"/>
            <a:ext cx="4343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jemen Sumberdaya Manu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jemen Keuan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jemen Fasilitas Fis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jemen Gedung dan Ruan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jemen Laborator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jemen Penggunaan Ke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jemen Perpustaka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jemen Data dan Inform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105520" y="1752480"/>
            <a:ext cx="3885840" cy="1554120"/>
            <a:chOff x="5105520" y="1752480"/>
            <a:chExt cx="3885840" cy="1554120"/>
          </a:xfrm>
        </p:grpSpPr>
        <p:sp>
          <p:nvSpPr>
            <p:cNvPr id="164" name=""/>
            <p:cNvSpPr/>
            <p:nvPr/>
          </p:nvSpPr>
          <p:spPr>
            <a:xfrm>
              <a:off x="5340600" y="1752480"/>
              <a:ext cx="36507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abarkan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stem Manajemen Jurusan, termas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raturan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yg dibuat oleh PT, Fa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n Jurusa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inerja dari Sistem Manajemen Ju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implementasi dan hasilny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05520" y="1904760"/>
              <a:ext cx="228600" cy="12193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8600 h 1219320"/>
                <a:gd name="textAreaBottom" fmla="*/ 117072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82"/>
                    <a:pt x="10800" y="2764"/>
                  </a:cubicBezTo>
                  <a:lnTo>
                    <a:pt x="10800" y="7715"/>
                  </a:lnTo>
                  <a:cubicBezTo>
                    <a:pt x="10800" y="9097"/>
                    <a:pt x="5400" y="10479"/>
                    <a:pt x="0" y="10479"/>
                  </a:cubicBezTo>
                  <a:cubicBezTo>
                    <a:pt x="5400" y="10479"/>
                    <a:pt x="10800" y="11861"/>
                    <a:pt x="10800" y="13243"/>
                  </a:cubicBezTo>
                  <a:lnTo>
                    <a:pt x="10800" y="18836"/>
                  </a:lnTo>
                  <a:cubicBezTo>
                    <a:pt x="10800" y="2021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962520" y="2125800"/>
            <a:ext cx="1087200" cy="384120"/>
          </a:xfrm>
          <a:custGeom>
            <a:avLst/>
            <a:gdLst/>
            <a:ahLst/>
            <a:rect l="l" t="t" r="r" b="b"/>
            <a:pathLst>
              <a:path w="685" h="242">
                <a:moveTo>
                  <a:pt x="0" y="17"/>
                </a:moveTo>
                <a:cubicBezTo>
                  <a:pt x="99" y="19"/>
                  <a:pt x="509" y="0"/>
                  <a:pt x="594" y="31"/>
                </a:cubicBezTo>
                <a:cubicBezTo>
                  <a:pt x="682" y="67"/>
                  <a:pt x="502" y="170"/>
                  <a:pt x="509" y="206"/>
                </a:cubicBezTo>
                <a:cubicBezTo>
                  <a:pt x="516" y="242"/>
                  <a:pt x="664" y="231"/>
                  <a:pt x="685" y="23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666880"/>
            <a:ext cx="457200" cy="236232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791320" y="3505320"/>
            <a:ext cx="3179520" cy="1753200"/>
            <a:chOff x="5791320" y="3505320"/>
            <a:chExt cx="3179520" cy="1753200"/>
          </a:xfrm>
        </p:grpSpPr>
        <p:sp>
          <p:nvSpPr>
            <p:cNvPr id="169" name=""/>
            <p:cNvSpPr/>
            <p:nvPr/>
          </p:nvSpPr>
          <p:spPr>
            <a:xfrm>
              <a:off x="6005880" y="3505320"/>
              <a:ext cx="296496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Benguiat Bk BT"/>
                </a:rPr>
                <a:t>HASIL ANALISA 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jala/fenomena/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ympt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kar permasala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esimpulan yg komprehens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6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ingka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dan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Times New Roman"/>
                </a:rPr>
                <a:t>je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Benguiat Bk BT"/>
                </a:rPr>
                <a:t>BUKA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: Menarasikan data 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3678120"/>
              <a:ext cx="228600" cy="14479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105520" y="3859200"/>
            <a:ext cx="761760" cy="549360"/>
          </a:xfrm>
          <a:custGeom>
            <a:avLst/>
            <a:gdLst/>
            <a:ahLst/>
            <a:rect l="l" t="t" r="r" b="b"/>
            <a:pathLst>
              <a:path w="480" h="346">
                <a:moveTo>
                  <a:pt x="0" y="5"/>
                </a:moveTo>
                <a:cubicBezTo>
                  <a:pt x="73" y="12"/>
                  <a:pt x="415" y="0"/>
                  <a:pt x="440" y="44"/>
                </a:cubicBezTo>
                <a:cubicBezTo>
                  <a:pt x="480" y="101"/>
                  <a:pt x="146" y="214"/>
                  <a:pt x="150" y="271"/>
                </a:cubicBezTo>
                <a:cubicBezTo>
                  <a:pt x="152" y="327"/>
                  <a:pt x="344" y="336"/>
                  <a:pt x="395" y="34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450080" y="5181480"/>
            <a:ext cx="4341240" cy="1557000"/>
            <a:chOff x="1450080" y="5181480"/>
            <a:chExt cx="4341240" cy="1557000"/>
          </a:xfrm>
        </p:grpSpPr>
        <p:grpSp>
          <p:nvGrpSpPr>
            <p:cNvPr id="173" name=""/>
            <p:cNvGrpSpPr/>
            <p:nvPr/>
          </p:nvGrpSpPr>
          <p:grpSpPr>
            <a:xfrm>
              <a:off x="1981440" y="5333760"/>
              <a:ext cx="3809880" cy="1310760"/>
              <a:chOff x="1981440" y="5333760"/>
              <a:chExt cx="3809880" cy="1310760"/>
            </a:xfrm>
          </p:grpSpPr>
          <p:sp>
            <p:nvSpPr>
              <p:cNvPr id="174" name=""/>
              <p:cNvSpPr/>
              <p:nvPr/>
            </p:nvSpPr>
            <p:spPr>
              <a:xfrm>
                <a:off x="1981440" y="5333760"/>
                <a:ext cx="3809880" cy="12952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85400" y="5333760"/>
                <a:ext cx="380340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Perhatia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: Data pada bagian ini sebagi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esar adalah data profile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Monotype Sorts"/>
                    <a:ea typeface="Monotype Sorts"/>
                  </a:rPr>
                  <a:t>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analisany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dalah membandingkan kondisi yg 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engan standar yg diacu atau stand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rmatif yg berlak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450080" y="5181480"/>
              <a:ext cx="586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981080"/>
            <a:ext cx="6858000" cy="4572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truktur</a:t>
            </a:r>
            <a:br>
              <a:rPr sz="4800"/>
            </a:b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elf Evaluation Report</a:t>
            </a: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kator Kiner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51460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dikator Kinerja Ut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dikator Masu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lai Ujian Seleksi Mahasiswa Ba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[S0 dan S1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ata-rata Nilai Ujian Akhir SM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[S2 dan S3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PK lulusan S1/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dikator Pr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ma Stu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K lulu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dikator Keluaran dan Damp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tu tunggu untuk mendapatkan pekerja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ji per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dikator Kinerja Penduku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erahkan pad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638680" y="4267080"/>
            <a:ext cx="2971800" cy="838440"/>
            <a:chOff x="5638680" y="4267080"/>
            <a:chExt cx="2971800" cy="838440"/>
          </a:xfrm>
        </p:grpSpPr>
        <p:sp>
          <p:nvSpPr>
            <p:cNvPr id="182" name=""/>
            <p:cNvSpPr/>
            <p:nvPr/>
          </p:nvSpPr>
          <p:spPr>
            <a:xfrm>
              <a:off x="5638680" y="4267080"/>
              <a:ext cx="2971800" cy="83844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43360" y="4267080"/>
              <a:ext cx="2921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Jangan Lup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: Menjelask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tode penghitungan indik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inerja 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1981080"/>
            <a:ext cx="8458200" cy="4572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truktur</a:t>
            </a:r>
            <a:br>
              <a:rPr sz="4800"/>
            </a:b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Self Evaluation Report</a:t>
            </a: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sala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381880" cy="3029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2438280"/>
            <a:ext cx="12956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3360" y="632448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jala/fenomena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5080" y="2908440"/>
            <a:ext cx="1538280" cy="3492360"/>
          </a:xfrm>
          <a:custGeom>
            <a:avLst/>
            <a:gdLst/>
            <a:ahLst/>
            <a:rect l="l" t="t" r="r" b="b"/>
            <a:pathLst>
              <a:path w="969" h="1712">
                <a:moveTo>
                  <a:pt x="969" y="1712"/>
                </a:moveTo>
                <a:cubicBezTo>
                  <a:pt x="728" y="1545"/>
                  <a:pt x="0" y="1126"/>
                  <a:pt x="48" y="685"/>
                </a:cubicBezTo>
                <a:cubicBezTo>
                  <a:pt x="96" y="244"/>
                  <a:pt x="489" y="143"/>
                  <a:pt x="7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083200" y="2865600"/>
            <a:ext cx="3835440" cy="2108160"/>
            <a:chOff x="5083200" y="2865600"/>
            <a:chExt cx="3835440" cy="2108160"/>
          </a:xfrm>
        </p:grpSpPr>
        <p:grpSp>
          <p:nvGrpSpPr>
            <p:cNvPr id="192" name=""/>
            <p:cNvGrpSpPr/>
            <p:nvPr/>
          </p:nvGrpSpPr>
          <p:grpSpPr>
            <a:xfrm>
              <a:off x="5184000" y="3276720"/>
              <a:ext cx="3612960" cy="1068840"/>
              <a:chOff x="5184000" y="3276720"/>
              <a:chExt cx="3612960" cy="1068840"/>
            </a:xfrm>
          </p:grpSpPr>
          <p:sp>
            <p:nvSpPr>
              <p:cNvPr id="193" name=""/>
              <p:cNvSpPr/>
              <p:nvPr/>
            </p:nvSpPr>
            <p:spPr>
              <a:xfrm>
                <a:off x="6466320" y="3276720"/>
                <a:ext cx="43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12440" y="3276720"/>
                <a:ext cx="43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622640" y="327672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358480" y="3276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93840" y="327672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59600" y="3276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54880" y="4038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87600" y="403848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97880" y="4038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232120" y="403848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45400" y="4038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84000" y="4038480"/>
                <a:ext cx="564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083200" y="2865600"/>
              <a:ext cx="3835440" cy="2108160"/>
            </a:xfrm>
            <a:custGeom>
              <a:avLst/>
              <a:gdLst/>
              <a:ahLst/>
              <a:rect l="l" t="t" r="r" b="b"/>
              <a:pathLst>
                <a:path w="2416" h="1328">
                  <a:moveTo>
                    <a:pt x="5" y="616"/>
                  </a:moveTo>
                  <a:cubicBezTo>
                    <a:pt x="0" y="1211"/>
                    <a:pt x="721" y="1194"/>
                    <a:pt x="1194" y="1184"/>
                  </a:cubicBezTo>
                  <a:cubicBezTo>
                    <a:pt x="1667" y="1174"/>
                    <a:pt x="2404" y="1328"/>
                    <a:pt x="2410" y="664"/>
                  </a:cubicBezTo>
                  <a:cubicBezTo>
                    <a:pt x="2416" y="0"/>
                    <a:pt x="1633" y="101"/>
                    <a:pt x="1184" y="101"/>
                  </a:cubicBezTo>
                  <a:cubicBezTo>
                    <a:pt x="735" y="101"/>
                    <a:pt x="10" y="21"/>
                    <a:pt x="5" y="616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317200" y="5624640"/>
            <a:ext cx="19836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isi denga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XX = sangat terk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X    = kurang terk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       = tidak terk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4189320"/>
            <a:ext cx="1067040" cy="1602000"/>
          </a:xfrm>
          <a:custGeom>
            <a:avLst/>
            <a:gdLst/>
            <a:ahLst/>
            <a:rect l="l" t="t" r="r" b="b"/>
            <a:pathLst>
              <a:path w="672" h="1009">
                <a:moveTo>
                  <a:pt x="672" y="1009"/>
                </a:moveTo>
                <a:cubicBezTo>
                  <a:pt x="505" y="911"/>
                  <a:pt x="0" y="664"/>
                  <a:pt x="33" y="404"/>
                </a:cubicBezTo>
                <a:cubicBezTo>
                  <a:pt x="67" y="145"/>
                  <a:pt x="340" y="64"/>
                  <a:pt x="49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8640" y="5486400"/>
            <a:ext cx="259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ngkuman masala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lah berhasil di identifik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n Solusi dari masalah t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82680" y="2251080"/>
            <a:ext cx="3537000" cy="3405240"/>
          </a:xfrm>
          <a:custGeom>
            <a:avLst/>
            <a:gdLst/>
            <a:ahLst/>
            <a:rect l="l" t="t" r="r" b="b"/>
            <a:pathLst>
              <a:path w="2228" h="2145">
                <a:moveTo>
                  <a:pt x="886" y="0"/>
                </a:moveTo>
                <a:cubicBezTo>
                  <a:pt x="1088" y="59"/>
                  <a:pt x="2228" y="57"/>
                  <a:pt x="2096" y="355"/>
                </a:cubicBezTo>
                <a:cubicBezTo>
                  <a:pt x="2106" y="684"/>
                  <a:pt x="190" y="1486"/>
                  <a:pt x="95" y="1789"/>
                </a:cubicBezTo>
                <a:cubicBezTo>
                  <a:pt x="0" y="2092"/>
                  <a:pt x="386" y="2126"/>
                  <a:pt x="428" y="214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Hal-hal yg penting dlm Penyusunan SE-Repor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ng perlu diperhatikan dalam penyusun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osal/re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un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esua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gan panduan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yang telah ditentuk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oh : Jangan gunaka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uidelines batch 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ntuk menyusu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posal/report batch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-hal yang dijelaskan pada Atribut dari Evaluasi Diri yang baik,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arus diperhatik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n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edapat mungkin dipenuh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yang dicantumkan dala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osal/re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harus data yang sebenarny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kecuali data estimasi/proyeksi) dan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jangan dibuat-buat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lau datanya tidak ada atau tidak berhasil didapatkan, jelaskan apa adanya dan jelaskan pula alasannya. Gunakan istilah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n/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ntuk data yang tidak berhasil didapatk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tuk data estimasi/proyeksi, jelask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das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ang digunakan untuk melakukan estimasi/proyek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Ingat !!!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evie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kan m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rdasarkan pandua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yang s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562360" y="4648320"/>
            <a:ext cx="667080" cy="637560"/>
            <a:chOff x="5562360" y="4648320"/>
            <a:chExt cx="667080" cy="637560"/>
          </a:xfrm>
        </p:grpSpPr>
        <p:sp>
          <p:nvSpPr>
            <p:cNvPr id="213" name=""/>
            <p:cNvSpPr/>
            <p:nvPr/>
          </p:nvSpPr>
          <p:spPr>
            <a:xfrm>
              <a:off x="5772240" y="4648320"/>
              <a:ext cx="457200" cy="456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562360" y="5052600"/>
              <a:ext cx="243000" cy="23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35:25Z</dcterms:created>
  <dc:creator>Iik Wilarso</dc:creator>
  <dc:description/>
  <dc:language>en-US</dc:language>
  <cp:lastModifiedBy>Jack la Motta</cp:lastModifiedBy>
  <cp:lastPrinted>2002-09-30T03:18:26Z</cp:lastPrinted>
  <dcterms:modified xsi:type="dcterms:W3CDTF">2003-10-04T23:50:10Z</dcterms:modified>
  <cp:revision>129</cp:revision>
  <dc:subject/>
  <dc:title>Self-Evaluation  dalam Konteks Perencanaan  </dc:title>
</cp:coreProperties>
</file>