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xlsx" ContentType="application/vnd.openxmlformats-officedocument.spreadsheetml.sheet"/>
  <Override PartName="/ppt/embeddings/oleObject5.docx" ContentType="application/vnd.openxmlformats-officedocument.wordprocessingml.document"/>
  <Override PartName="/ppt/embeddings/oleObject5.xlsx" ContentType="application/vnd.openxmlformats-officedocument.spreadsheetml.sheet"/>
  <Override PartName="/ppt/embeddings/oleObject4.xlsx" ContentType="application/vnd.openxmlformats-officedocument.spreadsheetml.sheet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0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6.docx" ContentType="application/vnd.openxmlformats-officedocument.wordprocessingml.document"/>
  <Override PartName="/ppt/embeddings/oleObject9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560A-1C40-4BF2-97A4-B556ECD8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23E9-15F2-4031-86C5-BA3B9502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394E-4A1E-4DFC-B881-B4AE9007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7B6A-19F5-49C1-AECF-607D5BD7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A8C0-843E-44A2-9FF1-C4AE132E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7F6F-35BA-47C6-B309-261DAF56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7726-3BC7-416F-91E9-8E4ACF55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8793-2760-4C88-86BE-C3CBDC13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0EEC-65F4-4145-86D8-A0A5BB30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00200" y="4568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CB75-B491-4534-9A89-DA8DDAA6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86C2-06DF-48B1-B196-2AC20B19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F0E-63BD-4CCE-97F3-DC7E4139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52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F700-18E2-4E24-B5F4-ED5F0C92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F9BC-22F5-468E-80F0-3207CE65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1C7D-C5ED-4946-AF3B-74B0AB40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52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AA47-9B7F-45C6-B57D-7823437D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76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468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76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468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228B-6F4D-4ED2-AC4F-304C4AF3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6C94-1150-4F4B-A40D-64B7D046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3186-A72B-4EE3-A883-5A951906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9C5-96BA-4F1C-AFD1-ECEFACBE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4568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2331-6C19-4D95-AC5D-ACF6B64E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AFD2-245E-40F0-A4CE-E7414C17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3C7C-BA7C-4129-8BF3-D22A4D34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E083-5263-4CCA-93E0-859BCE95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152280" y="152280"/>
          <a:ext cx="1600200" cy="157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160020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9B99-A38C-4081-A098-F72AC846F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28600" y="1981080"/>
          <a:ext cx="2133720" cy="21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981080"/>
                    <a:ext cx="213372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9FB7-23F9-4D31-8EC5-BBE2270FE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4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4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4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4.wmf"/><Relationship Id="rId15" Type="http://schemas.openxmlformats.org/officeDocument/2006/relationships/package" Target="../embeddings/oleObject8.docx"/><Relationship Id="rId16" Type="http://schemas.openxmlformats.org/officeDocument/2006/relationships/image" Target="../media/image4.wmf"/><Relationship Id="rId17" Type="http://schemas.openxmlformats.org/officeDocument/2006/relationships/package" Target="../embeddings/oleObject9.docx"/><Relationship Id="rId18" Type="http://schemas.openxmlformats.org/officeDocument/2006/relationships/image" Target="../media/image4.wmf"/><Relationship Id="rId19" Type="http://schemas.openxmlformats.org/officeDocument/2006/relationships/package" Target="../embeddings/oleObject10.docx"/><Relationship Id="rId20" Type="http://schemas.openxmlformats.org/officeDocument/2006/relationships/image" Target="../media/image4.wmf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4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4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image" Target="../media/image7.wmf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9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3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82960" y="762120"/>
            <a:ext cx="6858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nguiat Bk BT"/>
              </a:rPr>
              <a:t>Tekn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Benguiat Bk BT"/>
              </a:rPr>
              <a:t>Penyusunan Proposal</a:t>
            </a:r>
            <a:br>
              <a:rPr sz="4800"/>
            </a:br>
            <a:r>
              <a:rPr b="0" lang="en-US" sz="4000" spc="-1" strike="noStrike">
                <a:solidFill>
                  <a:srgbClr val="ff0000"/>
                </a:solidFill>
                <a:latin typeface="Benguiat Bk BT"/>
              </a:rPr>
              <a:t>Penyusunan </a:t>
            </a:r>
            <a:r>
              <a:rPr b="0" i="1" lang="en-US" sz="4000" spc="-1" strike="noStrike">
                <a:solidFill>
                  <a:srgbClr val="ff0000"/>
                </a:solidFill>
                <a:latin typeface="Benguiat Bk BT"/>
              </a:rPr>
              <a:t>Proposed Plan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19320" y="4571640"/>
            <a:ext cx="7672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ewan Pendidikan Tingg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irektorat Jenderal Pendidikan Tingg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epartemen Pendidikan Nasional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759280"/>
            <a:ext cx="9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Wingdings 2"/>
                <a:ea typeface="Wingdings 2"/>
              </a:rPr>
              <a:t>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1905120" y="3276720"/>
            <a:ext cx="3720960" cy="1866960"/>
            <a:chOff x="1905120" y="3276720"/>
            <a:chExt cx="3720960" cy="1866960"/>
          </a:xfrm>
        </p:grpSpPr>
        <p:grpSp>
          <p:nvGrpSpPr>
            <p:cNvPr id="391" name=""/>
            <p:cNvGrpSpPr/>
            <p:nvPr/>
          </p:nvGrpSpPr>
          <p:grpSpPr>
            <a:xfrm>
              <a:off x="4305240" y="3276720"/>
              <a:ext cx="1320840" cy="1482480"/>
              <a:chOff x="4305240" y="3276720"/>
              <a:chExt cx="1320840" cy="148248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4305240" y="3276720"/>
                <a:ext cx="1320840" cy="1482480"/>
                <a:chOff x="4305240" y="3276720"/>
                <a:chExt cx="1320840" cy="148248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4470480" y="3279600"/>
                  <a:ext cx="934920" cy="1290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4" name=""/>
                <p:cNvGrpSpPr/>
                <p:nvPr/>
              </p:nvGrpSpPr>
              <p:grpSpPr>
                <a:xfrm>
                  <a:off x="4305240" y="3403440"/>
                  <a:ext cx="990720" cy="1106640"/>
                  <a:chOff x="4305240" y="3403440"/>
                  <a:chExt cx="990720" cy="110664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4305240" y="3403440"/>
                    <a:ext cx="990720" cy="1106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396" name=""/>
                  <p:cNvGraphicFramePr/>
                  <p:nvPr/>
                </p:nvGraphicFramePr>
                <p:xfrm>
                  <a:off x="4305240" y="3464640"/>
                  <a:ext cx="901080" cy="1018080"/>
                </p:xfrm>
                <a:graphic>
                  <a:graphicData uri="http://schemas.openxmlformats.org/presentationml/2006/ole">
                    <p:oleObj progId="Word.Document.12" r:id="rId1" spid="">
                      <p:embed/>
                      <p:pic>
                        <p:nvPicPr>
                          <p:cNvPr id="397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4305240" y="3464640"/>
                            <a:ext cx="901080" cy="10180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sp>
              <p:nvSpPr>
                <p:cNvPr id="398" name=""/>
                <p:cNvSpPr/>
                <p:nvPr/>
              </p:nvSpPr>
              <p:spPr>
                <a:xfrm>
                  <a:off x="4470480" y="3276720"/>
                  <a:ext cx="1152360" cy="191880"/>
                </a:xfrm>
                <a:custGeom>
                  <a:avLst/>
                  <a:gdLst/>
                  <a:ahLst/>
                  <a:rect l="l" t="t" r="r" b="b"/>
                  <a:pathLst>
                    <a:path w="1005" h="150">
                      <a:moveTo>
                        <a:pt x="0" y="3"/>
                      </a:moveTo>
                      <a:lnTo>
                        <a:pt x="195" y="150"/>
                      </a:lnTo>
                      <a:lnTo>
                        <a:pt x="1005" y="147"/>
                      </a:lnTo>
                      <a:lnTo>
                        <a:pt x="810" y="0"/>
                      </a:lnTo>
                      <a:lnTo>
                        <a:pt x="6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470480" y="4570560"/>
                  <a:ext cx="1152360" cy="188640"/>
                </a:xfrm>
                <a:custGeom>
                  <a:avLst/>
                  <a:gdLst/>
                  <a:ahLst/>
                  <a:rect l="l" t="t" r="r" b="b"/>
                  <a:pathLst>
                    <a:path w="1005" h="147">
                      <a:moveTo>
                        <a:pt x="0" y="3"/>
                      </a:moveTo>
                      <a:lnTo>
                        <a:pt x="198" y="138"/>
                      </a:lnTo>
                      <a:lnTo>
                        <a:pt x="1005" y="147"/>
                      </a:lnTo>
                      <a:lnTo>
                        <a:pt x="810" y="0"/>
                      </a:lnTo>
                      <a:lnTo>
                        <a:pt x="6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691160" y="3465360"/>
                  <a:ext cx="934920" cy="12909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1" name=""/>
              <p:cNvSpPr/>
              <p:nvPr/>
            </p:nvSpPr>
            <p:spPr>
              <a:xfrm>
                <a:off x="4590000" y="3560760"/>
                <a:ext cx="68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1905120" y="4064040"/>
              <a:ext cx="2311200" cy="1079640"/>
            </a:xfrm>
            <a:custGeom>
              <a:avLst/>
              <a:gdLst/>
              <a:ahLst/>
              <a:rect l="l" t="t" r="r" b="b"/>
              <a:pathLst>
                <a:path w="1456" h="680">
                  <a:moveTo>
                    <a:pt x="0" y="328"/>
                  </a:moveTo>
                  <a:cubicBezTo>
                    <a:pt x="24" y="432"/>
                    <a:pt x="72" y="632"/>
                    <a:pt x="200" y="656"/>
                  </a:cubicBezTo>
                  <a:cubicBezTo>
                    <a:pt x="328" y="680"/>
                    <a:pt x="1280" y="160"/>
                    <a:pt x="1456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164560" y="685800"/>
            <a:ext cx="254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nguiat Bk BT"/>
              </a:rPr>
              <a:t>Penyusun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nguiat Bk BT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905120" y="380880"/>
            <a:ext cx="1276200" cy="901800"/>
            <a:chOff x="1905120" y="380880"/>
            <a:chExt cx="1276200" cy="901800"/>
          </a:xfrm>
        </p:grpSpPr>
        <p:sp>
          <p:nvSpPr>
            <p:cNvPr id="405" name=""/>
            <p:cNvSpPr/>
            <p:nvPr/>
          </p:nvSpPr>
          <p:spPr>
            <a:xfrm>
              <a:off x="1905120" y="380880"/>
              <a:ext cx="1276200" cy="90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1926000" y="436680"/>
              <a:ext cx="1146600" cy="774360"/>
              <a:chOff x="1926000" y="436680"/>
              <a:chExt cx="1146600" cy="774360"/>
            </a:xfrm>
          </p:grpSpPr>
          <p:sp>
            <p:nvSpPr>
              <p:cNvPr id="407" name=""/>
              <p:cNvSpPr/>
              <p:nvPr/>
            </p:nvSpPr>
            <p:spPr>
              <a:xfrm>
                <a:off x="1926000" y="436680"/>
                <a:ext cx="1146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Implemention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108880" y="652320"/>
                <a:ext cx="805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Program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062080" y="857160"/>
                <a:ext cx="892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(Activities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106720" y="1089000"/>
                <a:ext cx="811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(Doc I Section 2-5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1" name=""/>
          <p:cNvGrpSpPr/>
          <p:nvPr/>
        </p:nvGrpSpPr>
        <p:grpSpPr>
          <a:xfrm>
            <a:off x="1182600" y="1290960"/>
            <a:ext cx="2384280" cy="3204720"/>
            <a:chOff x="1182600" y="1290960"/>
            <a:chExt cx="2384280" cy="3204720"/>
          </a:xfrm>
        </p:grpSpPr>
        <p:sp>
          <p:nvSpPr>
            <p:cNvPr id="412" name=""/>
            <p:cNvSpPr/>
            <p:nvPr/>
          </p:nvSpPr>
          <p:spPr>
            <a:xfrm rot="18082200">
              <a:off x="1752480" y="1447560"/>
              <a:ext cx="838080" cy="838440"/>
            </a:xfrm>
            <a:prstGeom prst="leftArrow">
              <a:avLst>
                <a:gd name="adj1" fmla="val 52167"/>
                <a:gd name="adj2" fmla="val 61819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1182600" y="2184480"/>
              <a:ext cx="2384280" cy="2311200"/>
              <a:chOff x="1182600" y="2184480"/>
              <a:chExt cx="2384280" cy="231120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1219320" y="2514600"/>
                <a:ext cx="1371600" cy="1371600"/>
                <a:chOff x="1219320" y="2514600"/>
                <a:chExt cx="1371600" cy="137160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219320" y="2514600"/>
                  <a:ext cx="1371600" cy="1371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416" name=""/>
                <p:cNvGraphicFramePr/>
                <p:nvPr/>
              </p:nvGraphicFramePr>
              <p:xfrm>
                <a:off x="1219320" y="2590560"/>
                <a:ext cx="1247760" cy="1262160"/>
              </p:xfrm>
              <a:graphic>
                <a:graphicData uri="http://schemas.openxmlformats.org/presentationml/2006/ole">
                  <p:oleObj progId="Word.Document.12" r:id="rId3" spid="">
                    <p:embed/>
                    <p:pic>
                      <p:nvPicPr>
                        <p:cNvPr id="417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219320" y="2590560"/>
                          <a:ext cx="1247760" cy="1262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418" name=""/>
              <p:cNvGrpSpPr/>
              <p:nvPr/>
            </p:nvGrpSpPr>
            <p:grpSpPr>
              <a:xfrm>
                <a:off x="1333440" y="2666880"/>
                <a:ext cx="1371600" cy="1371600"/>
                <a:chOff x="1333440" y="2666880"/>
                <a:chExt cx="1371600" cy="137160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333440" y="2666880"/>
                  <a:ext cx="1371600" cy="1371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420" name=""/>
                <p:cNvGraphicFramePr/>
                <p:nvPr/>
              </p:nvGraphicFramePr>
              <p:xfrm>
                <a:off x="1333440" y="2742840"/>
                <a:ext cx="1247760" cy="1262160"/>
              </p:xfrm>
              <a:graphic>
                <a:graphicData uri="http://schemas.openxmlformats.org/presentationml/2006/ole">
                  <p:oleObj progId="Word.Document.12" r:id="rId5" spid="">
                    <p:embed/>
                    <p:pic>
                      <p:nvPicPr>
                        <p:cNvPr id="421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333440" y="2742840"/>
                          <a:ext cx="1247760" cy="1262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422" name=""/>
              <p:cNvGrpSpPr/>
              <p:nvPr/>
            </p:nvGrpSpPr>
            <p:grpSpPr>
              <a:xfrm>
                <a:off x="1485720" y="2819520"/>
                <a:ext cx="1371600" cy="1371600"/>
                <a:chOff x="1485720" y="2819520"/>
                <a:chExt cx="1371600" cy="137160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1485720" y="2819520"/>
                  <a:ext cx="1371600" cy="1371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424" name=""/>
                <p:cNvGraphicFramePr/>
                <p:nvPr/>
              </p:nvGraphicFramePr>
              <p:xfrm>
                <a:off x="1485720" y="2895480"/>
                <a:ext cx="1247760" cy="1262160"/>
              </p:xfrm>
              <a:graphic>
                <a:graphicData uri="http://schemas.openxmlformats.org/presentationml/2006/ole">
                  <p:oleObj progId="Word.Document.12" r:id="rId7" spid="">
                    <p:embed/>
                    <p:pic>
                      <p:nvPicPr>
                        <p:cNvPr id="425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1485720" y="2895480"/>
                          <a:ext cx="1247760" cy="1262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426" name=""/>
              <p:cNvGrpSpPr/>
              <p:nvPr/>
            </p:nvGrpSpPr>
            <p:grpSpPr>
              <a:xfrm>
                <a:off x="1638360" y="2971800"/>
                <a:ext cx="1371600" cy="1371600"/>
                <a:chOff x="1638360" y="2971800"/>
                <a:chExt cx="1371600" cy="137160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1638360" y="2971800"/>
                  <a:ext cx="1371600" cy="1371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428" name=""/>
                <p:cNvGraphicFramePr/>
                <p:nvPr/>
              </p:nvGraphicFramePr>
              <p:xfrm>
                <a:off x="1638360" y="3047760"/>
                <a:ext cx="1247760" cy="1262160"/>
              </p:xfrm>
              <a:graphic>
                <a:graphicData uri="http://schemas.openxmlformats.org/presentationml/2006/ole">
                  <p:oleObj progId="Word.Document.12" r:id="rId9" spid="">
                    <p:embed/>
                    <p:pic>
                      <p:nvPicPr>
                        <p:cNvPr id="429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1638360" y="3047760"/>
                          <a:ext cx="1247760" cy="1262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430" name=""/>
              <p:cNvGrpSpPr/>
              <p:nvPr/>
            </p:nvGrpSpPr>
            <p:grpSpPr>
              <a:xfrm>
                <a:off x="1790640" y="3124080"/>
                <a:ext cx="1371600" cy="1371600"/>
                <a:chOff x="1790640" y="3124080"/>
                <a:chExt cx="1371600" cy="13716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1790640" y="3124080"/>
                  <a:ext cx="1371600" cy="1371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432" name=""/>
                <p:cNvGraphicFramePr/>
                <p:nvPr/>
              </p:nvGraphicFramePr>
              <p:xfrm>
                <a:off x="1790640" y="3200040"/>
                <a:ext cx="1247760" cy="1262160"/>
              </p:xfrm>
              <a:graphic>
                <a:graphicData uri="http://schemas.openxmlformats.org/presentationml/2006/ole">
                  <p:oleObj progId="Word.Document.12" r:id="rId11" spid="">
                    <p:embed/>
                    <p:pic>
                      <p:nvPicPr>
                        <p:cNvPr id="433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1790640" y="3200040"/>
                          <a:ext cx="1247760" cy="1262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434" name=""/>
              <p:cNvSpPr/>
              <p:nvPr/>
            </p:nvSpPr>
            <p:spPr>
              <a:xfrm>
                <a:off x="1182600" y="2184480"/>
                <a:ext cx="238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Keseluruhan Aktivit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5" name=""/>
          <p:cNvGrpSpPr/>
          <p:nvPr/>
        </p:nvGrpSpPr>
        <p:grpSpPr>
          <a:xfrm>
            <a:off x="1704960" y="3619440"/>
            <a:ext cx="4734000" cy="1714680"/>
            <a:chOff x="1704960" y="3619440"/>
            <a:chExt cx="4734000" cy="1714680"/>
          </a:xfrm>
        </p:grpSpPr>
        <p:grpSp>
          <p:nvGrpSpPr>
            <p:cNvPr id="436" name=""/>
            <p:cNvGrpSpPr/>
            <p:nvPr/>
          </p:nvGrpSpPr>
          <p:grpSpPr>
            <a:xfrm>
              <a:off x="5118120" y="3619440"/>
              <a:ext cx="1320840" cy="1482480"/>
              <a:chOff x="5118120" y="3619440"/>
              <a:chExt cx="1320840" cy="148248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5118120" y="3619440"/>
                <a:ext cx="1320840" cy="1482480"/>
                <a:chOff x="5118120" y="3619440"/>
                <a:chExt cx="1320840" cy="148248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5283360" y="3622320"/>
                  <a:ext cx="934920" cy="1290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9" name=""/>
                <p:cNvGrpSpPr/>
                <p:nvPr/>
              </p:nvGrpSpPr>
              <p:grpSpPr>
                <a:xfrm>
                  <a:off x="5118120" y="3746160"/>
                  <a:ext cx="990720" cy="1106640"/>
                  <a:chOff x="5118120" y="3746160"/>
                  <a:chExt cx="990720" cy="110664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5118120" y="3746160"/>
                    <a:ext cx="990720" cy="1106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441" name=""/>
                  <p:cNvGraphicFramePr/>
                  <p:nvPr/>
                </p:nvGraphicFramePr>
                <p:xfrm>
                  <a:off x="5118120" y="3807360"/>
                  <a:ext cx="901080" cy="1018080"/>
                </p:xfrm>
                <a:graphic>
                  <a:graphicData uri="http://schemas.openxmlformats.org/presentationml/2006/ole">
                    <p:oleObj progId="Word.Document.12" r:id="rId13" spid="">
                      <p:embed/>
                      <p:pic>
                        <p:nvPicPr>
                          <p:cNvPr id="442" name="" descr=""/>
                          <p:cNvPicPr/>
                          <p:nvPr/>
                        </p:nvPicPr>
                        <p:blipFill>
                          <a:blip r:embed="rId14"/>
                          <a:stretch/>
                        </p:blipFill>
                        <p:spPr>
                          <a:xfrm>
                            <a:off x="5118120" y="3807360"/>
                            <a:ext cx="901080" cy="10180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sp>
              <p:nvSpPr>
                <p:cNvPr id="443" name=""/>
                <p:cNvSpPr/>
                <p:nvPr/>
              </p:nvSpPr>
              <p:spPr>
                <a:xfrm>
                  <a:off x="5283360" y="3619440"/>
                  <a:ext cx="1152360" cy="191880"/>
                </a:xfrm>
                <a:custGeom>
                  <a:avLst/>
                  <a:gdLst/>
                  <a:ahLst/>
                  <a:rect l="l" t="t" r="r" b="b"/>
                  <a:pathLst>
                    <a:path w="1005" h="150">
                      <a:moveTo>
                        <a:pt x="0" y="3"/>
                      </a:moveTo>
                      <a:lnTo>
                        <a:pt x="195" y="150"/>
                      </a:lnTo>
                      <a:lnTo>
                        <a:pt x="1005" y="147"/>
                      </a:lnTo>
                      <a:lnTo>
                        <a:pt x="810" y="0"/>
                      </a:lnTo>
                      <a:lnTo>
                        <a:pt x="6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283360" y="4913280"/>
                  <a:ext cx="1152360" cy="188640"/>
                </a:xfrm>
                <a:custGeom>
                  <a:avLst/>
                  <a:gdLst/>
                  <a:ahLst/>
                  <a:rect l="l" t="t" r="r" b="b"/>
                  <a:pathLst>
                    <a:path w="1005" h="147">
                      <a:moveTo>
                        <a:pt x="0" y="3"/>
                      </a:moveTo>
                      <a:lnTo>
                        <a:pt x="198" y="138"/>
                      </a:lnTo>
                      <a:lnTo>
                        <a:pt x="1005" y="147"/>
                      </a:lnTo>
                      <a:lnTo>
                        <a:pt x="810" y="0"/>
                      </a:lnTo>
                      <a:lnTo>
                        <a:pt x="6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504040" y="3808080"/>
                  <a:ext cx="934920" cy="12909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" name=""/>
              <p:cNvSpPr/>
              <p:nvPr/>
            </p:nvSpPr>
            <p:spPr>
              <a:xfrm>
                <a:off x="5401440" y="39034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1704960" y="4390920"/>
              <a:ext cx="3311640" cy="943200"/>
            </a:xfrm>
            <a:custGeom>
              <a:avLst/>
              <a:gdLst/>
              <a:ahLst/>
              <a:rect l="l" t="t" r="r" b="b"/>
              <a:pathLst>
                <a:path w="2086" h="594">
                  <a:moveTo>
                    <a:pt x="0" y="0"/>
                  </a:moveTo>
                  <a:cubicBezTo>
                    <a:pt x="36" y="192"/>
                    <a:pt x="46" y="450"/>
                    <a:pt x="310" y="522"/>
                  </a:cubicBezTo>
                  <a:cubicBezTo>
                    <a:pt x="574" y="594"/>
                    <a:pt x="1738" y="176"/>
                    <a:pt x="2086" y="5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1562040" y="4013280"/>
            <a:ext cx="5651640" cy="1482480"/>
            <a:chOff x="1562040" y="4013280"/>
            <a:chExt cx="5651640" cy="1482480"/>
          </a:xfrm>
        </p:grpSpPr>
        <p:grpSp>
          <p:nvGrpSpPr>
            <p:cNvPr id="449" name=""/>
            <p:cNvGrpSpPr/>
            <p:nvPr/>
          </p:nvGrpSpPr>
          <p:grpSpPr>
            <a:xfrm>
              <a:off x="5892840" y="4013280"/>
              <a:ext cx="1320840" cy="1482480"/>
              <a:chOff x="5892840" y="4013280"/>
              <a:chExt cx="1320840" cy="1482480"/>
            </a:xfrm>
          </p:grpSpPr>
          <p:grpSp>
            <p:nvGrpSpPr>
              <p:cNvPr id="450" name=""/>
              <p:cNvGrpSpPr/>
              <p:nvPr/>
            </p:nvGrpSpPr>
            <p:grpSpPr>
              <a:xfrm>
                <a:off x="5892840" y="4013280"/>
                <a:ext cx="1320840" cy="1482480"/>
                <a:chOff x="5892840" y="4013280"/>
                <a:chExt cx="1320840" cy="148248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058080" y="4016160"/>
                  <a:ext cx="934920" cy="1290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5892840" y="4140000"/>
                  <a:ext cx="990720" cy="1106640"/>
                  <a:chOff x="5892840" y="4140000"/>
                  <a:chExt cx="990720" cy="110664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>
                    <a:off x="5892840" y="4140000"/>
                    <a:ext cx="990720" cy="1106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454" name=""/>
                  <p:cNvGraphicFramePr/>
                  <p:nvPr/>
                </p:nvGraphicFramePr>
                <p:xfrm>
                  <a:off x="5892840" y="4201200"/>
                  <a:ext cx="901080" cy="1018080"/>
                </p:xfrm>
                <a:graphic>
                  <a:graphicData uri="http://schemas.openxmlformats.org/presentationml/2006/ole">
                    <p:oleObj progId="Word.Document.12" r:id="rId15" spid="">
                      <p:embed/>
                      <p:pic>
                        <p:nvPicPr>
                          <p:cNvPr id="455" name="" descr=""/>
                          <p:cNvPicPr/>
                          <p:nvPr/>
                        </p:nvPicPr>
                        <p:blipFill>
                          <a:blip r:embed="rId16"/>
                          <a:stretch/>
                        </p:blipFill>
                        <p:spPr>
                          <a:xfrm>
                            <a:off x="5892840" y="4201200"/>
                            <a:ext cx="901080" cy="10180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sp>
              <p:nvSpPr>
                <p:cNvPr id="456" name=""/>
                <p:cNvSpPr/>
                <p:nvPr/>
              </p:nvSpPr>
              <p:spPr>
                <a:xfrm>
                  <a:off x="6058080" y="4013280"/>
                  <a:ext cx="1152360" cy="191880"/>
                </a:xfrm>
                <a:custGeom>
                  <a:avLst/>
                  <a:gdLst/>
                  <a:ahLst/>
                  <a:rect l="l" t="t" r="r" b="b"/>
                  <a:pathLst>
                    <a:path w="1005" h="150">
                      <a:moveTo>
                        <a:pt x="0" y="3"/>
                      </a:moveTo>
                      <a:lnTo>
                        <a:pt x="195" y="150"/>
                      </a:lnTo>
                      <a:lnTo>
                        <a:pt x="1005" y="147"/>
                      </a:lnTo>
                      <a:lnTo>
                        <a:pt x="810" y="0"/>
                      </a:lnTo>
                      <a:lnTo>
                        <a:pt x="6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058080" y="5307120"/>
                  <a:ext cx="1152360" cy="188640"/>
                </a:xfrm>
                <a:custGeom>
                  <a:avLst/>
                  <a:gdLst/>
                  <a:ahLst/>
                  <a:rect l="l" t="t" r="r" b="b"/>
                  <a:pathLst>
                    <a:path w="1005" h="147">
                      <a:moveTo>
                        <a:pt x="0" y="3"/>
                      </a:moveTo>
                      <a:lnTo>
                        <a:pt x="198" y="138"/>
                      </a:lnTo>
                      <a:lnTo>
                        <a:pt x="1005" y="147"/>
                      </a:lnTo>
                      <a:lnTo>
                        <a:pt x="810" y="0"/>
                      </a:lnTo>
                      <a:lnTo>
                        <a:pt x="6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278760" y="4201920"/>
                  <a:ext cx="934920" cy="12909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9" name=""/>
              <p:cNvSpPr/>
              <p:nvPr/>
            </p:nvSpPr>
            <p:spPr>
              <a:xfrm>
                <a:off x="6203880" y="4297320"/>
                <a:ext cx="4352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1562040" y="4267080"/>
              <a:ext cx="4254480" cy="1206720"/>
            </a:xfrm>
            <a:custGeom>
              <a:avLst/>
              <a:gdLst/>
              <a:ahLst/>
              <a:rect l="l" t="t" r="r" b="b"/>
              <a:pathLst>
                <a:path w="2680" h="760">
                  <a:moveTo>
                    <a:pt x="0" y="0"/>
                  </a:moveTo>
                  <a:cubicBezTo>
                    <a:pt x="18" y="192"/>
                    <a:pt x="24" y="616"/>
                    <a:pt x="352" y="688"/>
                  </a:cubicBezTo>
                  <a:cubicBezTo>
                    <a:pt x="680" y="760"/>
                    <a:pt x="2302" y="448"/>
                    <a:pt x="2680" y="35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409760" y="4114800"/>
            <a:ext cx="6578640" cy="1825560"/>
            <a:chOff x="1409760" y="4114800"/>
            <a:chExt cx="6578640" cy="1825560"/>
          </a:xfrm>
        </p:grpSpPr>
        <p:grpSp>
          <p:nvGrpSpPr>
            <p:cNvPr id="462" name=""/>
            <p:cNvGrpSpPr/>
            <p:nvPr/>
          </p:nvGrpSpPr>
          <p:grpSpPr>
            <a:xfrm>
              <a:off x="6667560" y="4457880"/>
              <a:ext cx="1320840" cy="1482480"/>
              <a:chOff x="6667560" y="4457880"/>
              <a:chExt cx="1320840" cy="148248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6667560" y="4457880"/>
                <a:ext cx="1320840" cy="1482480"/>
                <a:chOff x="6667560" y="4457880"/>
                <a:chExt cx="1320840" cy="148248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6832800" y="4460760"/>
                  <a:ext cx="934920" cy="1290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5" name=""/>
                <p:cNvGrpSpPr/>
                <p:nvPr/>
              </p:nvGrpSpPr>
              <p:grpSpPr>
                <a:xfrm>
                  <a:off x="6667560" y="4584600"/>
                  <a:ext cx="990720" cy="1106640"/>
                  <a:chOff x="6667560" y="4584600"/>
                  <a:chExt cx="990720" cy="110664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6667560" y="4584600"/>
                    <a:ext cx="990720" cy="1106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467" name=""/>
                  <p:cNvGraphicFramePr/>
                  <p:nvPr/>
                </p:nvGraphicFramePr>
                <p:xfrm>
                  <a:off x="6667560" y="4645800"/>
                  <a:ext cx="901080" cy="1018080"/>
                </p:xfrm>
                <a:graphic>
                  <a:graphicData uri="http://schemas.openxmlformats.org/presentationml/2006/ole">
                    <p:oleObj progId="Word.Document.12" r:id="rId17" spid="">
                      <p:embed/>
                      <p:pic>
                        <p:nvPicPr>
                          <p:cNvPr id="468" name="" descr=""/>
                          <p:cNvPicPr/>
                          <p:nvPr/>
                        </p:nvPicPr>
                        <p:blipFill>
                          <a:blip r:embed="rId18"/>
                          <a:stretch/>
                        </p:blipFill>
                        <p:spPr>
                          <a:xfrm>
                            <a:off x="6667560" y="4645800"/>
                            <a:ext cx="901080" cy="10180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sp>
              <p:nvSpPr>
                <p:cNvPr id="469" name=""/>
                <p:cNvSpPr/>
                <p:nvPr/>
              </p:nvSpPr>
              <p:spPr>
                <a:xfrm>
                  <a:off x="6832800" y="4457880"/>
                  <a:ext cx="1152360" cy="191880"/>
                </a:xfrm>
                <a:custGeom>
                  <a:avLst/>
                  <a:gdLst/>
                  <a:ahLst/>
                  <a:rect l="l" t="t" r="r" b="b"/>
                  <a:pathLst>
                    <a:path w="1005" h="150">
                      <a:moveTo>
                        <a:pt x="0" y="3"/>
                      </a:moveTo>
                      <a:lnTo>
                        <a:pt x="195" y="150"/>
                      </a:lnTo>
                      <a:lnTo>
                        <a:pt x="1005" y="147"/>
                      </a:lnTo>
                      <a:lnTo>
                        <a:pt x="810" y="0"/>
                      </a:lnTo>
                      <a:lnTo>
                        <a:pt x="6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832800" y="5751720"/>
                  <a:ext cx="1152360" cy="188640"/>
                </a:xfrm>
                <a:custGeom>
                  <a:avLst/>
                  <a:gdLst/>
                  <a:ahLst/>
                  <a:rect l="l" t="t" r="r" b="b"/>
                  <a:pathLst>
                    <a:path w="1005" h="147">
                      <a:moveTo>
                        <a:pt x="0" y="3"/>
                      </a:moveTo>
                      <a:lnTo>
                        <a:pt x="198" y="138"/>
                      </a:lnTo>
                      <a:lnTo>
                        <a:pt x="1005" y="147"/>
                      </a:lnTo>
                      <a:lnTo>
                        <a:pt x="810" y="0"/>
                      </a:lnTo>
                      <a:lnTo>
                        <a:pt x="6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053480" y="4646520"/>
                  <a:ext cx="934920" cy="12909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6978960" y="4741920"/>
                <a:ext cx="6044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1409760" y="4114800"/>
              <a:ext cx="5207040" cy="1477800"/>
            </a:xfrm>
            <a:custGeom>
              <a:avLst/>
              <a:gdLst/>
              <a:ahLst/>
              <a:rect l="l" t="t" r="r" b="b"/>
              <a:pathLst>
                <a:path w="3280" h="931">
                  <a:moveTo>
                    <a:pt x="0" y="0"/>
                  </a:moveTo>
                  <a:cubicBezTo>
                    <a:pt x="24" y="168"/>
                    <a:pt x="12" y="785"/>
                    <a:pt x="384" y="858"/>
                  </a:cubicBezTo>
                  <a:cubicBezTo>
                    <a:pt x="756" y="931"/>
                    <a:pt x="2914" y="716"/>
                    <a:pt x="3280" y="68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257480" y="3962520"/>
            <a:ext cx="7543800" cy="2387160"/>
            <a:chOff x="1257480" y="3962520"/>
            <a:chExt cx="7543800" cy="2387160"/>
          </a:xfrm>
        </p:grpSpPr>
        <p:grpSp>
          <p:nvGrpSpPr>
            <p:cNvPr id="475" name=""/>
            <p:cNvGrpSpPr/>
            <p:nvPr/>
          </p:nvGrpSpPr>
          <p:grpSpPr>
            <a:xfrm>
              <a:off x="7480440" y="4867200"/>
              <a:ext cx="1320840" cy="1482480"/>
              <a:chOff x="7480440" y="4867200"/>
              <a:chExt cx="1320840" cy="148248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480440" y="4867200"/>
                <a:ext cx="1320840" cy="1482480"/>
                <a:chOff x="7480440" y="4867200"/>
                <a:chExt cx="1320840" cy="14824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7645680" y="4870080"/>
                  <a:ext cx="934920" cy="1290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7480440" y="4993920"/>
                  <a:ext cx="990720" cy="1106640"/>
                  <a:chOff x="7480440" y="4993920"/>
                  <a:chExt cx="990720" cy="110664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7480440" y="4993920"/>
                    <a:ext cx="990720" cy="1106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480" name=""/>
                  <p:cNvGraphicFramePr/>
                  <p:nvPr/>
                </p:nvGraphicFramePr>
                <p:xfrm>
                  <a:off x="7480440" y="5055120"/>
                  <a:ext cx="901080" cy="1018080"/>
                </p:xfrm>
                <a:graphic>
                  <a:graphicData uri="http://schemas.openxmlformats.org/presentationml/2006/ole">
                    <p:oleObj progId="Word.Document.12" r:id="rId19" spid="">
                      <p:embed/>
                      <p:pic>
                        <p:nvPicPr>
                          <p:cNvPr id="481" name="" descr=""/>
                          <p:cNvPicPr/>
                          <p:nvPr/>
                        </p:nvPicPr>
                        <p:blipFill>
                          <a:blip r:embed="rId20"/>
                          <a:stretch/>
                        </p:blipFill>
                        <p:spPr>
                          <a:xfrm>
                            <a:off x="7480440" y="5055120"/>
                            <a:ext cx="901080" cy="10180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sp>
              <p:nvSpPr>
                <p:cNvPr id="482" name=""/>
                <p:cNvSpPr/>
                <p:nvPr/>
              </p:nvSpPr>
              <p:spPr>
                <a:xfrm>
                  <a:off x="7645680" y="4867200"/>
                  <a:ext cx="1152360" cy="191880"/>
                </a:xfrm>
                <a:custGeom>
                  <a:avLst/>
                  <a:gdLst/>
                  <a:ahLst/>
                  <a:rect l="l" t="t" r="r" b="b"/>
                  <a:pathLst>
                    <a:path w="1005" h="150">
                      <a:moveTo>
                        <a:pt x="0" y="3"/>
                      </a:moveTo>
                      <a:lnTo>
                        <a:pt x="195" y="150"/>
                      </a:lnTo>
                      <a:lnTo>
                        <a:pt x="1005" y="147"/>
                      </a:lnTo>
                      <a:lnTo>
                        <a:pt x="810" y="0"/>
                      </a:lnTo>
                      <a:lnTo>
                        <a:pt x="6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645680" y="6161040"/>
                  <a:ext cx="1152360" cy="188640"/>
                </a:xfrm>
                <a:custGeom>
                  <a:avLst/>
                  <a:gdLst/>
                  <a:ahLst/>
                  <a:rect l="l" t="t" r="r" b="b"/>
                  <a:pathLst>
                    <a:path w="1005" h="147">
                      <a:moveTo>
                        <a:pt x="0" y="3"/>
                      </a:moveTo>
                      <a:lnTo>
                        <a:pt x="198" y="138"/>
                      </a:lnTo>
                      <a:lnTo>
                        <a:pt x="1005" y="147"/>
                      </a:lnTo>
                      <a:lnTo>
                        <a:pt x="810" y="0"/>
                      </a:lnTo>
                      <a:lnTo>
                        <a:pt x="6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866360" y="5055840"/>
                  <a:ext cx="934920" cy="12909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5" name=""/>
              <p:cNvSpPr/>
              <p:nvPr/>
            </p:nvSpPr>
            <p:spPr>
              <a:xfrm>
                <a:off x="7791840" y="5151240"/>
                <a:ext cx="6454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1257480" y="3962520"/>
              <a:ext cx="6108840" cy="1716120"/>
            </a:xfrm>
            <a:custGeom>
              <a:avLst/>
              <a:gdLst/>
              <a:ahLst/>
              <a:rect l="l" t="t" r="r" b="b"/>
              <a:pathLst>
                <a:path w="3848" h="1081">
                  <a:moveTo>
                    <a:pt x="0" y="0"/>
                  </a:moveTo>
                  <a:cubicBezTo>
                    <a:pt x="24" y="168"/>
                    <a:pt x="20" y="935"/>
                    <a:pt x="392" y="1008"/>
                  </a:cubicBezTo>
                  <a:cubicBezTo>
                    <a:pt x="764" y="1081"/>
                    <a:pt x="3482" y="1076"/>
                    <a:pt x="3848" y="104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5896080" y="190512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hap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600200" y="254160"/>
            <a:ext cx="72388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Pengelompokan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Aktivitas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457200" y="1828800"/>
            <a:ext cx="6959520" cy="2419200"/>
            <a:chOff x="457200" y="1828800"/>
            <a:chExt cx="6959520" cy="2419200"/>
          </a:xfrm>
        </p:grpSpPr>
        <p:sp>
          <p:nvSpPr>
            <p:cNvPr id="490" name=""/>
            <p:cNvSpPr/>
            <p:nvPr/>
          </p:nvSpPr>
          <p:spPr>
            <a:xfrm>
              <a:off x="6399360" y="2408400"/>
              <a:ext cx="1001520" cy="18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61000" y="2408400"/>
              <a:ext cx="738360" cy="18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886280" y="2408400"/>
              <a:ext cx="774720" cy="18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130640" y="2408400"/>
              <a:ext cx="755640" cy="18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" y="2408400"/>
              <a:ext cx="3673440" cy="18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tivity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tivity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tivity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tivity 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99360" y="1828800"/>
              <a:ext cx="1001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Oth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61000" y="1828800"/>
              <a:ext cx="738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86280" y="1828800"/>
              <a:ext cx="774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30640" y="1828800"/>
              <a:ext cx="755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57200" y="1828800"/>
              <a:ext cx="3673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57200" y="1828800"/>
              <a:ext cx="6946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7200" y="2408400"/>
              <a:ext cx="693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7200" y="4248000"/>
              <a:ext cx="6959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7200" y="1828800"/>
              <a:ext cx="0" cy="2419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130640" y="1828800"/>
              <a:ext cx="0" cy="24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86280" y="1828800"/>
              <a:ext cx="0" cy="24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61000" y="1828800"/>
              <a:ext cx="0" cy="24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99360" y="1828800"/>
              <a:ext cx="0" cy="24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400880" y="1828800"/>
              <a:ext cx="0" cy="241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399960" y="4419720"/>
            <a:ext cx="4876920" cy="2209680"/>
            <a:chOff x="399960" y="4419720"/>
            <a:chExt cx="4876920" cy="2209680"/>
          </a:xfrm>
        </p:grpSpPr>
        <p:sp>
          <p:nvSpPr>
            <p:cNvPr id="510" name=""/>
            <p:cNvSpPr/>
            <p:nvPr/>
          </p:nvSpPr>
          <p:spPr>
            <a:xfrm>
              <a:off x="399960" y="4419720"/>
              <a:ext cx="487692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62240" y="4464000"/>
              <a:ext cx="4472640" cy="21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Improving Relev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* Activity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Improving Academic Atmosp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* Activity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Improving Efficiency &amp; Productiv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* Activity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* Activity 3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see Activity 3 in Improving Academic Atmosphere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ther Improvement P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* Activity 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038480" y="2438280"/>
            <a:ext cx="3276720" cy="1828800"/>
            <a:chOff x="4038480" y="2438280"/>
            <a:chExt cx="3276720" cy="1828800"/>
          </a:xfrm>
        </p:grpSpPr>
        <p:sp>
          <p:nvSpPr>
            <p:cNvPr id="513" name=""/>
            <p:cNvSpPr/>
            <p:nvPr/>
          </p:nvSpPr>
          <p:spPr>
            <a:xfrm>
              <a:off x="4038480" y="2438280"/>
              <a:ext cx="838440" cy="457200"/>
            </a:xfrm>
            <a:custGeom>
              <a:avLst/>
              <a:gdLst/>
              <a:ahLst/>
              <a:rect l="l" t="t" r="r" b="b"/>
              <a:pathLst>
                <a:path w="754" h="414">
                  <a:moveTo>
                    <a:pt x="0" y="162"/>
                  </a:moveTo>
                  <a:cubicBezTo>
                    <a:pt x="48" y="84"/>
                    <a:pt x="190" y="24"/>
                    <a:pt x="306" y="12"/>
                  </a:cubicBezTo>
                  <a:cubicBezTo>
                    <a:pt x="422" y="0"/>
                    <a:pt x="638" y="42"/>
                    <a:pt x="696" y="90"/>
                  </a:cubicBezTo>
                  <a:cubicBezTo>
                    <a:pt x="754" y="138"/>
                    <a:pt x="712" y="274"/>
                    <a:pt x="624" y="318"/>
                  </a:cubicBezTo>
                  <a:cubicBezTo>
                    <a:pt x="536" y="362"/>
                    <a:pt x="324" y="414"/>
                    <a:pt x="204" y="372"/>
                  </a:cubicBezTo>
                  <a:cubicBezTo>
                    <a:pt x="84" y="330"/>
                    <a:pt x="133" y="282"/>
                    <a:pt x="132" y="252"/>
                  </a:cubicBezTo>
                  <a:cubicBezTo>
                    <a:pt x="131" y="222"/>
                    <a:pt x="184" y="204"/>
                    <a:pt x="198" y="192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800600" y="3124080"/>
              <a:ext cx="838080" cy="457200"/>
            </a:xfrm>
            <a:custGeom>
              <a:avLst/>
              <a:gdLst/>
              <a:ahLst/>
              <a:rect l="l" t="t" r="r" b="b"/>
              <a:pathLst>
                <a:path w="754" h="414">
                  <a:moveTo>
                    <a:pt x="0" y="162"/>
                  </a:moveTo>
                  <a:cubicBezTo>
                    <a:pt x="48" y="84"/>
                    <a:pt x="190" y="24"/>
                    <a:pt x="306" y="12"/>
                  </a:cubicBezTo>
                  <a:cubicBezTo>
                    <a:pt x="422" y="0"/>
                    <a:pt x="638" y="42"/>
                    <a:pt x="696" y="90"/>
                  </a:cubicBezTo>
                  <a:cubicBezTo>
                    <a:pt x="754" y="138"/>
                    <a:pt x="712" y="274"/>
                    <a:pt x="624" y="318"/>
                  </a:cubicBezTo>
                  <a:cubicBezTo>
                    <a:pt x="536" y="362"/>
                    <a:pt x="324" y="414"/>
                    <a:pt x="204" y="372"/>
                  </a:cubicBezTo>
                  <a:cubicBezTo>
                    <a:pt x="84" y="330"/>
                    <a:pt x="133" y="282"/>
                    <a:pt x="132" y="252"/>
                  </a:cubicBezTo>
                  <a:cubicBezTo>
                    <a:pt x="131" y="222"/>
                    <a:pt x="184" y="204"/>
                    <a:pt x="198" y="192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8680" y="2743200"/>
              <a:ext cx="838440" cy="457200"/>
            </a:xfrm>
            <a:custGeom>
              <a:avLst/>
              <a:gdLst/>
              <a:ahLst/>
              <a:rect l="l" t="t" r="r" b="b"/>
              <a:pathLst>
                <a:path w="754" h="414">
                  <a:moveTo>
                    <a:pt x="0" y="162"/>
                  </a:moveTo>
                  <a:cubicBezTo>
                    <a:pt x="48" y="84"/>
                    <a:pt x="190" y="24"/>
                    <a:pt x="306" y="12"/>
                  </a:cubicBezTo>
                  <a:cubicBezTo>
                    <a:pt x="422" y="0"/>
                    <a:pt x="638" y="42"/>
                    <a:pt x="696" y="90"/>
                  </a:cubicBezTo>
                  <a:cubicBezTo>
                    <a:pt x="754" y="138"/>
                    <a:pt x="712" y="274"/>
                    <a:pt x="624" y="318"/>
                  </a:cubicBezTo>
                  <a:cubicBezTo>
                    <a:pt x="536" y="362"/>
                    <a:pt x="324" y="414"/>
                    <a:pt x="204" y="372"/>
                  </a:cubicBezTo>
                  <a:cubicBezTo>
                    <a:pt x="84" y="330"/>
                    <a:pt x="133" y="282"/>
                    <a:pt x="132" y="252"/>
                  </a:cubicBezTo>
                  <a:cubicBezTo>
                    <a:pt x="131" y="222"/>
                    <a:pt x="184" y="204"/>
                    <a:pt x="198" y="192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62720" y="3124080"/>
              <a:ext cx="838080" cy="457200"/>
            </a:xfrm>
            <a:custGeom>
              <a:avLst/>
              <a:gdLst/>
              <a:ahLst/>
              <a:rect l="l" t="t" r="r" b="b"/>
              <a:pathLst>
                <a:path w="754" h="414">
                  <a:moveTo>
                    <a:pt x="0" y="162"/>
                  </a:moveTo>
                  <a:cubicBezTo>
                    <a:pt x="48" y="84"/>
                    <a:pt x="190" y="24"/>
                    <a:pt x="306" y="12"/>
                  </a:cubicBezTo>
                  <a:cubicBezTo>
                    <a:pt x="422" y="0"/>
                    <a:pt x="638" y="42"/>
                    <a:pt x="696" y="90"/>
                  </a:cubicBezTo>
                  <a:cubicBezTo>
                    <a:pt x="754" y="138"/>
                    <a:pt x="712" y="274"/>
                    <a:pt x="624" y="318"/>
                  </a:cubicBezTo>
                  <a:cubicBezTo>
                    <a:pt x="536" y="362"/>
                    <a:pt x="324" y="414"/>
                    <a:pt x="204" y="372"/>
                  </a:cubicBezTo>
                  <a:cubicBezTo>
                    <a:pt x="84" y="330"/>
                    <a:pt x="133" y="282"/>
                    <a:pt x="132" y="252"/>
                  </a:cubicBezTo>
                  <a:cubicBezTo>
                    <a:pt x="131" y="222"/>
                    <a:pt x="184" y="204"/>
                    <a:pt x="198" y="192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77120" y="3809880"/>
              <a:ext cx="838080" cy="457200"/>
            </a:xfrm>
            <a:custGeom>
              <a:avLst/>
              <a:gdLst/>
              <a:ahLst/>
              <a:rect l="l" t="t" r="r" b="b"/>
              <a:pathLst>
                <a:path w="754" h="414">
                  <a:moveTo>
                    <a:pt x="0" y="162"/>
                  </a:moveTo>
                  <a:cubicBezTo>
                    <a:pt x="48" y="84"/>
                    <a:pt x="190" y="24"/>
                    <a:pt x="306" y="12"/>
                  </a:cubicBezTo>
                  <a:cubicBezTo>
                    <a:pt x="422" y="0"/>
                    <a:pt x="638" y="42"/>
                    <a:pt x="696" y="90"/>
                  </a:cubicBezTo>
                  <a:cubicBezTo>
                    <a:pt x="754" y="138"/>
                    <a:pt x="712" y="274"/>
                    <a:pt x="624" y="318"/>
                  </a:cubicBezTo>
                  <a:cubicBezTo>
                    <a:pt x="536" y="362"/>
                    <a:pt x="324" y="414"/>
                    <a:pt x="204" y="372"/>
                  </a:cubicBezTo>
                  <a:cubicBezTo>
                    <a:pt x="84" y="330"/>
                    <a:pt x="133" y="282"/>
                    <a:pt x="132" y="252"/>
                  </a:cubicBezTo>
                  <a:cubicBezTo>
                    <a:pt x="131" y="222"/>
                    <a:pt x="184" y="204"/>
                    <a:pt x="198" y="192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7480440" y="1816200"/>
            <a:ext cx="419040" cy="2413080"/>
          </a:xfrm>
          <a:custGeom>
            <a:avLst/>
            <a:gdLst>
              <a:gd name="textAreaLeft" fmla="*/ 0 w 419040"/>
              <a:gd name="textAreaRight" fmla="*/ 151200 w 419040"/>
              <a:gd name="textAreaTop" fmla="*/ 62640 h 2413080"/>
              <a:gd name="textAreaBottom" fmla="*/ 2350440 h 24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14"/>
                </a:lnTo>
                <a:cubicBezTo>
                  <a:pt x="10800" y="10014"/>
                  <a:pt x="16200" y="10914"/>
                  <a:pt x="21600" y="10914"/>
                </a:cubicBezTo>
                <a:cubicBezTo>
                  <a:pt x="16200" y="10914"/>
                  <a:pt x="10800" y="11814"/>
                  <a:pt x="10800" y="127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460840" y="3048120"/>
            <a:ext cx="3402000" cy="2450880"/>
          </a:xfrm>
          <a:custGeom>
            <a:avLst/>
            <a:gdLst/>
            <a:ahLst/>
            <a:rect l="l" t="t" r="r" b="b"/>
            <a:pathLst>
              <a:path w="2143" h="1544">
                <a:moveTo>
                  <a:pt x="1624" y="0"/>
                </a:moveTo>
                <a:cubicBezTo>
                  <a:pt x="1776" y="16"/>
                  <a:pt x="2076" y="100"/>
                  <a:pt x="2104" y="304"/>
                </a:cubicBezTo>
                <a:cubicBezTo>
                  <a:pt x="2132" y="508"/>
                  <a:pt x="2143" y="1017"/>
                  <a:pt x="1792" y="1224"/>
                </a:cubicBezTo>
                <a:cubicBezTo>
                  <a:pt x="1441" y="1431"/>
                  <a:pt x="373" y="1477"/>
                  <a:pt x="0" y="1544"/>
                </a:cubicBezTo>
              </a:path>
            </a:pathLst>
          </a:custGeom>
          <a:noFill/>
          <a:ln w="7632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6175800" y="228600"/>
            <a:ext cx="254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nguiat Bk BT"/>
              </a:rPr>
              <a:t>Penyusun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nguiat Bk BT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839520" y="380880"/>
            <a:ext cx="2384280" cy="4114800"/>
            <a:chOff x="839520" y="380880"/>
            <a:chExt cx="2384280" cy="4114800"/>
          </a:xfrm>
        </p:grpSpPr>
        <p:grpSp>
          <p:nvGrpSpPr>
            <p:cNvPr id="522" name=""/>
            <p:cNvGrpSpPr/>
            <p:nvPr/>
          </p:nvGrpSpPr>
          <p:grpSpPr>
            <a:xfrm>
              <a:off x="1905120" y="380880"/>
              <a:ext cx="1276200" cy="901800"/>
              <a:chOff x="1905120" y="380880"/>
              <a:chExt cx="1276200" cy="901800"/>
            </a:xfrm>
          </p:grpSpPr>
          <p:sp>
            <p:nvSpPr>
              <p:cNvPr id="523" name=""/>
              <p:cNvSpPr/>
              <p:nvPr/>
            </p:nvSpPr>
            <p:spPr>
              <a:xfrm>
                <a:off x="1905120" y="380880"/>
                <a:ext cx="1276200" cy="901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4" name=""/>
              <p:cNvGrpSpPr/>
              <p:nvPr/>
            </p:nvGrpSpPr>
            <p:grpSpPr>
              <a:xfrm>
                <a:off x="1926000" y="436680"/>
                <a:ext cx="1146600" cy="774360"/>
                <a:chOff x="1926000" y="436680"/>
                <a:chExt cx="1146600" cy="7743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1926000" y="436680"/>
                  <a:ext cx="1146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Implemention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108880" y="652320"/>
                  <a:ext cx="805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Programs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062080" y="857160"/>
                  <a:ext cx="8924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(Activities)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106720" y="1089000"/>
                  <a:ext cx="81144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(Doc I Section 2-5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9" name=""/>
            <p:cNvGrpSpPr/>
            <p:nvPr/>
          </p:nvGrpSpPr>
          <p:grpSpPr>
            <a:xfrm>
              <a:off x="839520" y="1290960"/>
              <a:ext cx="2384280" cy="3204720"/>
              <a:chOff x="839520" y="1290960"/>
              <a:chExt cx="2384280" cy="3204720"/>
            </a:xfrm>
          </p:grpSpPr>
          <p:sp>
            <p:nvSpPr>
              <p:cNvPr id="530" name=""/>
              <p:cNvSpPr/>
              <p:nvPr/>
            </p:nvSpPr>
            <p:spPr>
              <a:xfrm rot="18082200">
                <a:off x="1409400" y="1447560"/>
                <a:ext cx="838080" cy="838440"/>
              </a:xfrm>
              <a:prstGeom prst="leftArrow">
                <a:avLst>
                  <a:gd name="adj1" fmla="val 52167"/>
                  <a:gd name="adj2" fmla="val 61819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1" name=""/>
              <p:cNvGrpSpPr/>
              <p:nvPr/>
            </p:nvGrpSpPr>
            <p:grpSpPr>
              <a:xfrm>
                <a:off x="839520" y="2184480"/>
                <a:ext cx="2384280" cy="2311200"/>
                <a:chOff x="839520" y="2184480"/>
                <a:chExt cx="2384280" cy="2311200"/>
              </a:xfrm>
            </p:grpSpPr>
            <p:grpSp>
              <p:nvGrpSpPr>
                <p:cNvPr id="532" name=""/>
                <p:cNvGrpSpPr/>
                <p:nvPr/>
              </p:nvGrpSpPr>
              <p:grpSpPr>
                <a:xfrm>
                  <a:off x="876240" y="2514600"/>
                  <a:ext cx="1371600" cy="1371600"/>
                  <a:chOff x="876240" y="2514600"/>
                  <a:chExt cx="1371600" cy="137160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>
                    <a:off x="876240" y="2514600"/>
                    <a:ext cx="1371600" cy="1371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534" name=""/>
                  <p:cNvGraphicFramePr/>
                  <p:nvPr/>
                </p:nvGraphicFramePr>
                <p:xfrm>
                  <a:off x="876240" y="2590560"/>
                  <a:ext cx="1247760" cy="1262160"/>
                </p:xfrm>
                <a:graphic>
                  <a:graphicData uri="http://schemas.openxmlformats.org/presentationml/2006/ole">
                    <p:oleObj progId="Word.Document.12" r:id="rId1" spid="">
                      <p:embed/>
                      <p:pic>
                        <p:nvPicPr>
                          <p:cNvPr id="535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876240" y="2590560"/>
                            <a:ext cx="1247760" cy="12621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990360" y="2666880"/>
                  <a:ext cx="1371600" cy="1371600"/>
                  <a:chOff x="990360" y="2666880"/>
                  <a:chExt cx="1371600" cy="137160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>
                    <a:off x="990360" y="2666880"/>
                    <a:ext cx="1371600" cy="1371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538" name=""/>
                  <p:cNvGraphicFramePr/>
                  <p:nvPr/>
                </p:nvGraphicFramePr>
                <p:xfrm>
                  <a:off x="990360" y="2742840"/>
                  <a:ext cx="1247760" cy="1262160"/>
                </p:xfrm>
                <a:graphic>
                  <a:graphicData uri="http://schemas.openxmlformats.org/presentationml/2006/ole">
                    <p:oleObj progId="Word.Document.12" r:id="rId3" spid="">
                      <p:embed/>
                      <p:pic>
                        <p:nvPicPr>
                          <p:cNvPr id="539" name="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990360" y="2742840"/>
                            <a:ext cx="1247760" cy="12621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1142640" y="2819520"/>
                  <a:ext cx="1371600" cy="1371600"/>
                  <a:chOff x="1142640" y="2819520"/>
                  <a:chExt cx="1371600" cy="137160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1142640" y="2819520"/>
                    <a:ext cx="1371600" cy="1371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542" name=""/>
                  <p:cNvGraphicFramePr/>
                  <p:nvPr/>
                </p:nvGraphicFramePr>
                <p:xfrm>
                  <a:off x="1142640" y="2895480"/>
                  <a:ext cx="1247760" cy="1262160"/>
                </p:xfrm>
                <a:graphic>
                  <a:graphicData uri="http://schemas.openxmlformats.org/presentationml/2006/ole">
                    <p:oleObj progId="Word.Document.12" r:id="rId5" spid="">
                      <p:embed/>
                      <p:pic>
                        <p:nvPicPr>
                          <p:cNvPr id="543" name="" descr=""/>
                          <p:cNvPicPr/>
                          <p:nvPr/>
                        </p:nvPicPr>
                        <p:blipFill>
                          <a:blip r:embed="rId6"/>
                          <a:stretch/>
                        </p:blipFill>
                        <p:spPr>
                          <a:xfrm>
                            <a:off x="1142640" y="2895480"/>
                            <a:ext cx="1247760" cy="12621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pSp>
              <p:nvGrpSpPr>
                <p:cNvPr id="544" name=""/>
                <p:cNvGrpSpPr/>
                <p:nvPr/>
              </p:nvGrpSpPr>
              <p:grpSpPr>
                <a:xfrm>
                  <a:off x="1295280" y="2971800"/>
                  <a:ext cx="1371600" cy="1371600"/>
                  <a:chOff x="1295280" y="2971800"/>
                  <a:chExt cx="1371600" cy="137160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>
                    <a:off x="1295280" y="2971800"/>
                    <a:ext cx="1371600" cy="1371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546" name=""/>
                  <p:cNvGraphicFramePr/>
                  <p:nvPr/>
                </p:nvGraphicFramePr>
                <p:xfrm>
                  <a:off x="1295280" y="3047760"/>
                  <a:ext cx="1247760" cy="1262160"/>
                </p:xfrm>
                <a:graphic>
                  <a:graphicData uri="http://schemas.openxmlformats.org/presentationml/2006/ole">
                    <p:oleObj progId="Word.Document.12" r:id="rId7" spid="">
                      <p:embed/>
                      <p:pic>
                        <p:nvPicPr>
                          <p:cNvPr id="547" name="" descr=""/>
                          <p:cNvPicPr/>
                          <p:nvPr/>
                        </p:nvPicPr>
                        <p:blipFill>
                          <a:blip r:embed="rId8"/>
                          <a:stretch/>
                        </p:blipFill>
                        <p:spPr>
                          <a:xfrm>
                            <a:off x="1295280" y="3047760"/>
                            <a:ext cx="1247760" cy="12621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1447560" y="3124080"/>
                  <a:ext cx="1371600" cy="1371600"/>
                  <a:chOff x="1447560" y="3124080"/>
                  <a:chExt cx="1371600" cy="137160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>
                    <a:off x="1447560" y="3124080"/>
                    <a:ext cx="1371600" cy="1371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550" name=""/>
                  <p:cNvGraphicFramePr/>
                  <p:nvPr/>
                </p:nvGraphicFramePr>
                <p:xfrm>
                  <a:off x="1447560" y="3200040"/>
                  <a:ext cx="1247760" cy="1262160"/>
                </p:xfrm>
                <a:graphic>
                  <a:graphicData uri="http://schemas.openxmlformats.org/presentationml/2006/ole">
                    <p:oleObj progId="Word.Document.12" r:id="rId9" spid="">
                      <p:embed/>
                      <p:pic>
                        <p:nvPicPr>
                          <p:cNvPr id="551" name="" descr=""/>
                          <p:cNvPicPr/>
                          <p:nvPr/>
                        </p:nvPicPr>
                        <p:blipFill>
                          <a:blip r:embed="rId10"/>
                          <a:stretch/>
                        </p:blipFill>
                        <p:spPr>
                          <a:xfrm>
                            <a:off x="1447560" y="3200040"/>
                            <a:ext cx="1247760" cy="12621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sp>
              <p:nvSpPr>
                <p:cNvPr id="552" name=""/>
                <p:cNvSpPr/>
                <p:nvPr/>
              </p:nvSpPr>
              <p:spPr>
                <a:xfrm>
                  <a:off x="839520" y="2184480"/>
                  <a:ext cx="2384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Keseluruhan Aktivit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53" name=""/>
          <p:cNvSpPr/>
          <p:nvPr/>
        </p:nvSpPr>
        <p:spPr>
          <a:xfrm>
            <a:off x="3376440" y="144792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hap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133720" y="2209680"/>
            <a:ext cx="6565680" cy="2743200"/>
            <a:chOff x="2133720" y="2209680"/>
            <a:chExt cx="6565680" cy="2743200"/>
          </a:xfrm>
        </p:grpSpPr>
        <p:grpSp>
          <p:nvGrpSpPr>
            <p:cNvPr id="555" name=""/>
            <p:cNvGrpSpPr/>
            <p:nvPr/>
          </p:nvGrpSpPr>
          <p:grpSpPr>
            <a:xfrm>
              <a:off x="3283920" y="2209680"/>
              <a:ext cx="5415480" cy="2540160"/>
              <a:chOff x="3283920" y="2209680"/>
              <a:chExt cx="5415480" cy="2540160"/>
            </a:xfrm>
          </p:grpSpPr>
          <p:sp>
            <p:nvSpPr>
              <p:cNvPr id="556" name=""/>
              <p:cNvSpPr/>
              <p:nvPr/>
            </p:nvSpPr>
            <p:spPr>
              <a:xfrm>
                <a:off x="3283920" y="3200400"/>
                <a:ext cx="16621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Benguiat Bk BT"/>
                  </a:rPr>
                  <a:t>Identifikas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cc0000"/>
                    </a:solidFill>
                    <a:latin typeface="Benguiat Bk BT"/>
                  </a:rPr>
                  <a:t>Resourc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Benguiat Bk BT"/>
                  </a:rPr>
                  <a:t>yg dibutuhka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4952880" y="2209680"/>
                <a:ext cx="3746520" cy="2540160"/>
                <a:chOff x="4952880" y="2209680"/>
                <a:chExt cx="3746520" cy="2540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4952880" y="2209680"/>
                  <a:ext cx="3746520" cy="2540160"/>
                </a:xfrm>
                <a:prstGeom prst="rect">
                  <a:avLst/>
                </a:prstGeom>
                <a:solidFill>
                  <a:srgbClr val="e1e1b7"/>
                </a:solidFill>
                <a:ln w="9360">
                  <a:solidFill>
                    <a:srgbClr val="e1e1b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9" name=""/>
                <p:cNvGrpSpPr/>
                <p:nvPr/>
              </p:nvGrpSpPr>
              <p:grpSpPr>
                <a:xfrm>
                  <a:off x="5029200" y="2438280"/>
                  <a:ext cx="1295280" cy="1065960"/>
                  <a:chOff x="5029200" y="2438280"/>
                  <a:chExt cx="1295280" cy="1065960"/>
                </a:xfrm>
              </p:grpSpPr>
              <p:pic>
                <p:nvPicPr>
                  <p:cNvPr id="5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29200" y="2438280"/>
                    <a:ext cx="12952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61" name=""/>
                  <p:cNvSpPr/>
                  <p:nvPr/>
                </p:nvSpPr>
                <p:spPr>
                  <a:xfrm>
                    <a:off x="5302440" y="3273120"/>
                    <a:ext cx="41688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taff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2" name=""/>
                <p:cNvGrpSpPr/>
                <p:nvPr/>
              </p:nvGrpSpPr>
              <p:grpSpPr>
                <a:xfrm>
                  <a:off x="5617440" y="3504960"/>
                  <a:ext cx="626040" cy="980640"/>
                  <a:chOff x="5617440" y="3504960"/>
                  <a:chExt cx="626040" cy="980640"/>
                </a:xfrm>
              </p:grpSpPr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5648400" y="3504960"/>
                    <a:ext cx="595080" cy="752760"/>
                    <a:chOff x="5648400" y="3504960"/>
                    <a:chExt cx="595080" cy="75276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5724000" y="3610440"/>
                      <a:ext cx="11376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01" h="3517">
                          <a:moveTo>
                            <a:pt x="23" y="3517"/>
                          </a:moveTo>
                          <a:lnTo>
                            <a:pt x="0" y="0"/>
                          </a:lnTo>
                          <a:lnTo>
                            <a:pt x="9" y="75"/>
                          </a:lnTo>
                          <a:lnTo>
                            <a:pt x="46" y="140"/>
                          </a:lnTo>
                          <a:lnTo>
                            <a:pt x="89" y="198"/>
                          </a:lnTo>
                          <a:lnTo>
                            <a:pt x="166" y="268"/>
                          </a:lnTo>
                          <a:lnTo>
                            <a:pt x="252" y="320"/>
                          </a:lnTo>
                          <a:lnTo>
                            <a:pt x="357" y="366"/>
                          </a:lnTo>
                          <a:lnTo>
                            <a:pt x="477" y="406"/>
                          </a:lnTo>
                          <a:lnTo>
                            <a:pt x="615" y="447"/>
                          </a:lnTo>
                          <a:lnTo>
                            <a:pt x="754" y="470"/>
                          </a:lnTo>
                          <a:lnTo>
                            <a:pt x="910" y="488"/>
                          </a:lnTo>
                          <a:lnTo>
                            <a:pt x="1068" y="492"/>
                          </a:lnTo>
                          <a:lnTo>
                            <a:pt x="1227" y="488"/>
                          </a:lnTo>
                          <a:lnTo>
                            <a:pt x="1375" y="477"/>
                          </a:lnTo>
                          <a:lnTo>
                            <a:pt x="1520" y="454"/>
                          </a:lnTo>
                          <a:lnTo>
                            <a:pt x="1663" y="431"/>
                          </a:lnTo>
                          <a:lnTo>
                            <a:pt x="1787" y="382"/>
                          </a:lnTo>
                          <a:lnTo>
                            <a:pt x="1901" y="343"/>
                          </a:lnTo>
                          <a:lnTo>
                            <a:pt x="1998" y="295"/>
                          </a:lnTo>
                          <a:lnTo>
                            <a:pt x="2086" y="232"/>
                          </a:lnTo>
                          <a:lnTo>
                            <a:pt x="2144" y="171"/>
                          </a:lnTo>
                          <a:lnTo>
                            <a:pt x="2178" y="106"/>
                          </a:lnTo>
                          <a:lnTo>
                            <a:pt x="2201" y="34"/>
                          </a:lnTo>
                          <a:lnTo>
                            <a:pt x="2201" y="0"/>
                          </a:lnTo>
                          <a:lnTo>
                            <a:pt x="2201" y="3517"/>
                          </a:lnTo>
                          <a:lnTo>
                            <a:pt x="23" y="351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>
                      <a:off x="5854320" y="3523320"/>
                      <a:ext cx="113760" cy="22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00" h="3524">
                          <a:moveTo>
                            <a:pt x="23" y="3524"/>
                          </a:moveTo>
                          <a:lnTo>
                            <a:pt x="0" y="0"/>
                          </a:lnTo>
                          <a:lnTo>
                            <a:pt x="11" y="75"/>
                          </a:lnTo>
                          <a:lnTo>
                            <a:pt x="45" y="143"/>
                          </a:lnTo>
                          <a:lnTo>
                            <a:pt x="89" y="201"/>
                          </a:lnTo>
                          <a:lnTo>
                            <a:pt x="162" y="271"/>
                          </a:lnTo>
                          <a:lnTo>
                            <a:pt x="250" y="322"/>
                          </a:lnTo>
                          <a:lnTo>
                            <a:pt x="356" y="377"/>
                          </a:lnTo>
                          <a:lnTo>
                            <a:pt x="479" y="417"/>
                          </a:lnTo>
                          <a:lnTo>
                            <a:pt x="618" y="454"/>
                          </a:lnTo>
                          <a:lnTo>
                            <a:pt x="753" y="478"/>
                          </a:lnTo>
                          <a:lnTo>
                            <a:pt x="909" y="495"/>
                          </a:lnTo>
                          <a:lnTo>
                            <a:pt x="1066" y="497"/>
                          </a:lnTo>
                          <a:lnTo>
                            <a:pt x="1225" y="495"/>
                          </a:lnTo>
                          <a:lnTo>
                            <a:pt x="1370" y="485"/>
                          </a:lnTo>
                          <a:lnTo>
                            <a:pt x="1519" y="465"/>
                          </a:lnTo>
                          <a:lnTo>
                            <a:pt x="1660" y="435"/>
                          </a:lnTo>
                          <a:lnTo>
                            <a:pt x="1789" y="390"/>
                          </a:lnTo>
                          <a:lnTo>
                            <a:pt x="1900" y="350"/>
                          </a:lnTo>
                          <a:lnTo>
                            <a:pt x="2000" y="298"/>
                          </a:lnTo>
                          <a:lnTo>
                            <a:pt x="2085" y="234"/>
                          </a:lnTo>
                          <a:lnTo>
                            <a:pt x="2143" y="174"/>
                          </a:lnTo>
                          <a:lnTo>
                            <a:pt x="2177" y="109"/>
                          </a:lnTo>
                          <a:lnTo>
                            <a:pt x="2200" y="38"/>
                          </a:lnTo>
                          <a:lnTo>
                            <a:pt x="2200" y="0"/>
                          </a:lnTo>
                          <a:lnTo>
                            <a:pt x="2200" y="3524"/>
                          </a:lnTo>
                          <a:lnTo>
                            <a:pt x="23" y="352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>
                      <a:off x="5985000" y="3566520"/>
                      <a:ext cx="113760" cy="22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97" h="3514">
                          <a:moveTo>
                            <a:pt x="24" y="3514"/>
                          </a:moveTo>
                          <a:lnTo>
                            <a:pt x="0" y="0"/>
                          </a:lnTo>
                          <a:lnTo>
                            <a:pt x="11" y="74"/>
                          </a:lnTo>
                          <a:lnTo>
                            <a:pt x="45" y="134"/>
                          </a:lnTo>
                          <a:lnTo>
                            <a:pt x="89" y="195"/>
                          </a:lnTo>
                          <a:lnTo>
                            <a:pt x="166" y="263"/>
                          </a:lnTo>
                          <a:lnTo>
                            <a:pt x="254" y="321"/>
                          </a:lnTo>
                          <a:lnTo>
                            <a:pt x="356" y="368"/>
                          </a:lnTo>
                          <a:lnTo>
                            <a:pt x="476" y="410"/>
                          </a:lnTo>
                          <a:lnTo>
                            <a:pt x="619" y="449"/>
                          </a:lnTo>
                          <a:lnTo>
                            <a:pt x="757" y="472"/>
                          </a:lnTo>
                          <a:lnTo>
                            <a:pt x="911" y="490"/>
                          </a:lnTo>
                          <a:lnTo>
                            <a:pt x="1068" y="490"/>
                          </a:lnTo>
                          <a:lnTo>
                            <a:pt x="1225" y="490"/>
                          </a:lnTo>
                          <a:lnTo>
                            <a:pt x="1370" y="479"/>
                          </a:lnTo>
                          <a:lnTo>
                            <a:pt x="1521" y="456"/>
                          </a:lnTo>
                          <a:lnTo>
                            <a:pt x="1658" y="426"/>
                          </a:lnTo>
                          <a:lnTo>
                            <a:pt x="1793" y="381"/>
                          </a:lnTo>
                          <a:lnTo>
                            <a:pt x="1904" y="340"/>
                          </a:lnTo>
                          <a:lnTo>
                            <a:pt x="2004" y="290"/>
                          </a:lnTo>
                          <a:lnTo>
                            <a:pt x="2082" y="226"/>
                          </a:lnTo>
                          <a:lnTo>
                            <a:pt x="2143" y="165"/>
                          </a:lnTo>
                          <a:lnTo>
                            <a:pt x="2177" y="100"/>
                          </a:lnTo>
                          <a:lnTo>
                            <a:pt x="2197" y="32"/>
                          </a:lnTo>
                          <a:lnTo>
                            <a:pt x="2197" y="0"/>
                          </a:lnTo>
                          <a:lnTo>
                            <a:pt x="2197" y="3514"/>
                          </a:lnTo>
                          <a:lnTo>
                            <a:pt x="24" y="351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>
                      <a:off x="6120360" y="3617640"/>
                      <a:ext cx="11376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99" h="3514">
                          <a:moveTo>
                            <a:pt x="27" y="3514"/>
                          </a:moveTo>
                          <a:lnTo>
                            <a:pt x="0" y="0"/>
                          </a:lnTo>
                          <a:lnTo>
                            <a:pt x="15" y="73"/>
                          </a:lnTo>
                          <a:lnTo>
                            <a:pt x="51" y="142"/>
                          </a:lnTo>
                          <a:lnTo>
                            <a:pt x="92" y="195"/>
                          </a:lnTo>
                          <a:lnTo>
                            <a:pt x="169" y="263"/>
                          </a:lnTo>
                          <a:lnTo>
                            <a:pt x="257" y="321"/>
                          </a:lnTo>
                          <a:lnTo>
                            <a:pt x="357" y="367"/>
                          </a:lnTo>
                          <a:lnTo>
                            <a:pt x="483" y="410"/>
                          </a:lnTo>
                          <a:lnTo>
                            <a:pt x="621" y="445"/>
                          </a:lnTo>
                          <a:lnTo>
                            <a:pt x="759" y="470"/>
                          </a:lnTo>
                          <a:lnTo>
                            <a:pt x="913" y="487"/>
                          </a:lnTo>
                          <a:lnTo>
                            <a:pt x="1070" y="494"/>
                          </a:lnTo>
                          <a:lnTo>
                            <a:pt x="1228" y="487"/>
                          </a:lnTo>
                          <a:lnTo>
                            <a:pt x="1377" y="476"/>
                          </a:lnTo>
                          <a:lnTo>
                            <a:pt x="1528" y="456"/>
                          </a:lnTo>
                          <a:lnTo>
                            <a:pt x="1662" y="426"/>
                          </a:lnTo>
                          <a:lnTo>
                            <a:pt x="1788" y="382"/>
                          </a:lnTo>
                          <a:lnTo>
                            <a:pt x="1903" y="340"/>
                          </a:lnTo>
                          <a:lnTo>
                            <a:pt x="2000" y="287"/>
                          </a:lnTo>
                          <a:lnTo>
                            <a:pt x="2088" y="233"/>
                          </a:lnTo>
                          <a:lnTo>
                            <a:pt x="2145" y="168"/>
                          </a:lnTo>
                          <a:lnTo>
                            <a:pt x="2180" y="104"/>
                          </a:lnTo>
                          <a:lnTo>
                            <a:pt x="2199" y="34"/>
                          </a:lnTo>
                          <a:lnTo>
                            <a:pt x="2199" y="0"/>
                          </a:lnTo>
                          <a:lnTo>
                            <a:pt x="2199" y="3514"/>
                          </a:lnTo>
                          <a:lnTo>
                            <a:pt x="27" y="351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5648400" y="3598920"/>
                      <a:ext cx="198720" cy="65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31" h="10170">
                          <a:moveTo>
                            <a:pt x="0" y="6000"/>
                          </a:moveTo>
                          <a:lnTo>
                            <a:pt x="1309" y="0"/>
                          </a:lnTo>
                          <a:lnTo>
                            <a:pt x="1490" y="0"/>
                          </a:lnTo>
                          <a:lnTo>
                            <a:pt x="1481" y="3143"/>
                          </a:lnTo>
                          <a:lnTo>
                            <a:pt x="1481" y="3215"/>
                          </a:lnTo>
                          <a:lnTo>
                            <a:pt x="1513" y="3282"/>
                          </a:lnTo>
                          <a:lnTo>
                            <a:pt x="1562" y="3353"/>
                          </a:lnTo>
                          <a:lnTo>
                            <a:pt x="1636" y="3411"/>
                          </a:lnTo>
                          <a:lnTo>
                            <a:pt x="1731" y="3461"/>
                          </a:lnTo>
                          <a:lnTo>
                            <a:pt x="1821" y="3515"/>
                          </a:lnTo>
                          <a:lnTo>
                            <a:pt x="1946" y="3552"/>
                          </a:lnTo>
                          <a:lnTo>
                            <a:pt x="2082" y="3594"/>
                          </a:lnTo>
                          <a:lnTo>
                            <a:pt x="2223" y="3618"/>
                          </a:lnTo>
                          <a:lnTo>
                            <a:pt x="2368" y="3634"/>
                          </a:lnTo>
                          <a:lnTo>
                            <a:pt x="2519" y="3641"/>
                          </a:lnTo>
                          <a:lnTo>
                            <a:pt x="2681" y="3641"/>
                          </a:lnTo>
                          <a:lnTo>
                            <a:pt x="2819" y="3625"/>
                          </a:lnTo>
                          <a:lnTo>
                            <a:pt x="2964" y="3603"/>
                          </a:lnTo>
                          <a:lnTo>
                            <a:pt x="3107" y="3575"/>
                          </a:lnTo>
                          <a:lnTo>
                            <a:pt x="3225" y="3540"/>
                          </a:lnTo>
                          <a:lnTo>
                            <a:pt x="3340" y="3488"/>
                          </a:lnTo>
                          <a:lnTo>
                            <a:pt x="3447" y="3434"/>
                          </a:lnTo>
                          <a:lnTo>
                            <a:pt x="3521" y="3377"/>
                          </a:lnTo>
                          <a:lnTo>
                            <a:pt x="3579" y="3312"/>
                          </a:lnTo>
                          <a:lnTo>
                            <a:pt x="3618" y="3246"/>
                          </a:lnTo>
                          <a:lnTo>
                            <a:pt x="3633" y="3174"/>
                          </a:lnTo>
                          <a:lnTo>
                            <a:pt x="3643" y="3143"/>
                          </a:lnTo>
                          <a:lnTo>
                            <a:pt x="3643" y="0"/>
                          </a:lnTo>
                          <a:lnTo>
                            <a:pt x="3831" y="0"/>
                          </a:lnTo>
                          <a:lnTo>
                            <a:pt x="3831" y="3793"/>
                          </a:lnTo>
                          <a:lnTo>
                            <a:pt x="2556" y="9655"/>
                          </a:lnTo>
                          <a:lnTo>
                            <a:pt x="2499" y="9746"/>
                          </a:lnTo>
                          <a:lnTo>
                            <a:pt x="2445" y="9821"/>
                          </a:lnTo>
                          <a:lnTo>
                            <a:pt x="2368" y="9891"/>
                          </a:lnTo>
                          <a:lnTo>
                            <a:pt x="2280" y="9952"/>
                          </a:lnTo>
                          <a:lnTo>
                            <a:pt x="2159" y="10006"/>
                          </a:lnTo>
                          <a:lnTo>
                            <a:pt x="2034" y="10058"/>
                          </a:lnTo>
                          <a:lnTo>
                            <a:pt x="1896" y="10098"/>
                          </a:lnTo>
                          <a:lnTo>
                            <a:pt x="1744" y="10129"/>
                          </a:lnTo>
                          <a:lnTo>
                            <a:pt x="1590" y="10156"/>
                          </a:lnTo>
                          <a:lnTo>
                            <a:pt x="1424" y="10166"/>
                          </a:lnTo>
                          <a:lnTo>
                            <a:pt x="1259" y="10170"/>
                          </a:lnTo>
                          <a:lnTo>
                            <a:pt x="1091" y="10166"/>
                          </a:lnTo>
                          <a:lnTo>
                            <a:pt x="925" y="10147"/>
                          </a:lnTo>
                          <a:lnTo>
                            <a:pt x="769" y="10123"/>
                          </a:lnTo>
                          <a:lnTo>
                            <a:pt x="618" y="10088"/>
                          </a:lnTo>
                          <a:lnTo>
                            <a:pt x="483" y="10054"/>
                          </a:lnTo>
                          <a:lnTo>
                            <a:pt x="358" y="9997"/>
                          </a:lnTo>
                          <a:lnTo>
                            <a:pt x="250" y="9943"/>
                          </a:lnTo>
                          <a:lnTo>
                            <a:pt x="159" y="9875"/>
                          </a:lnTo>
                          <a:lnTo>
                            <a:pt x="84" y="9811"/>
                          </a:lnTo>
                          <a:lnTo>
                            <a:pt x="38" y="9737"/>
                          </a:lnTo>
                          <a:lnTo>
                            <a:pt x="4" y="9703"/>
                          </a:lnTo>
                          <a:lnTo>
                            <a:pt x="0" y="6000"/>
                          </a:lnTo>
                          <a:close/>
                        </a:path>
                      </a:pathLst>
                    </a:custGeom>
                    <a:solidFill>
                      <a:srgbClr val="70230c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5847120" y="3504960"/>
                      <a:ext cx="396360" cy="75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52" h="11636">
                          <a:moveTo>
                            <a:pt x="7473" y="4604"/>
                          </a:moveTo>
                          <a:lnTo>
                            <a:pt x="7473" y="4617"/>
                          </a:lnTo>
                          <a:lnTo>
                            <a:pt x="7457" y="4692"/>
                          </a:lnTo>
                          <a:lnTo>
                            <a:pt x="7415" y="4758"/>
                          </a:lnTo>
                          <a:lnTo>
                            <a:pt x="7351" y="4823"/>
                          </a:lnTo>
                          <a:lnTo>
                            <a:pt x="7285" y="4884"/>
                          </a:lnTo>
                          <a:lnTo>
                            <a:pt x="7185" y="4944"/>
                          </a:lnTo>
                          <a:lnTo>
                            <a:pt x="7072" y="4995"/>
                          </a:lnTo>
                          <a:lnTo>
                            <a:pt x="6943" y="5026"/>
                          </a:lnTo>
                          <a:lnTo>
                            <a:pt x="6812" y="5067"/>
                          </a:lnTo>
                          <a:lnTo>
                            <a:pt x="6670" y="5087"/>
                          </a:lnTo>
                          <a:lnTo>
                            <a:pt x="6516" y="5101"/>
                          </a:lnTo>
                          <a:lnTo>
                            <a:pt x="6356" y="5101"/>
                          </a:lnTo>
                          <a:lnTo>
                            <a:pt x="6201" y="5098"/>
                          </a:lnTo>
                          <a:lnTo>
                            <a:pt x="6052" y="5080"/>
                          </a:lnTo>
                          <a:lnTo>
                            <a:pt x="5905" y="5053"/>
                          </a:lnTo>
                          <a:lnTo>
                            <a:pt x="5776" y="5021"/>
                          </a:lnTo>
                          <a:lnTo>
                            <a:pt x="5655" y="4971"/>
                          </a:lnTo>
                          <a:lnTo>
                            <a:pt x="5548" y="4932"/>
                          </a:lnTo>
                          <a:lnTo>
                            <a:pt x="5453" y="4864"/>
                          </a:lnTo>
                          <a:lnTo>
                            <a:pt x="5388" y="4806"/>
                          </a:lnTo>
                          <a:lnTo>
                            <a:pt x="5335" y="4742"/>
                          </a:lnTo>
                          <a:lnTo>
                            <a:pt x="5304" y="4670"/>
                          </a:lnTo>
                          <a:lnTo>
                            <a:pt x="5295" y="4604"/>
                          </a:lnTo>
                          <a:lnTo>
                            <a:pt x="5277" y="4447"/>
                          </a:lnTo>
                          <a:lnTo>
                            <a:pt x="5277" y="1446"/>
                          </a:lnTo>
                          <a:lnTo>
                            <a:pt x="5099" y="1446"/>
                          </a:lnTo>
                          <a:lnTo>
                            <a:pt x="5099" y="749"/>
                          </a:lnTo>
                          <a:lnTo>
                            <a:pt x="4913" y="749"/>
                          </a:lnTo>
                          <a:lnTo>
                            <a:pt x="4913" y="3792"/>
                          </a:lnTo>
                          <a:lnTo>
                            <a:pt x="4911" y="3882"/>
                          </a:lnTo>
                          <a:lnTo>
                            <a:pt x="4911" y="3912"/>
                          </a:lnTo>
                          <a:lnTo>
                            <a:pt x="4889" y="3980"/>
                          </a:lnTo>
                          <a:lnTo>
                            <a:pt x="4854" y="4045"/>
                          </a:lnTo>
                          <a:lnTo>
                            <a:pt x="4796" y="4109"/>
                          </a:lnTo>
                          <a:lnTo>
                            <a:pt x="4719" y="4172"/>
                          </a:lnTo>
                          <a:lnTo>
                            <a:pt x="4612" y="4221"/>
                          </a:lnTo>
                          <a:lnTo>
                            <a:pt x="4505" y="4268"/>
                          </a:lnTo>
                          <a:lnTo>
                            <a:pt x="4371" y="4309"/>
                          </a:lnTo>
                          <a:lnTo>
                            <a:pt x="4236" y="4332"/>
                          </a:lnTo>
                          <a:lnTo>
                            <a:pt x="4083" y="4359"/>
                          </a:lnTo>
                          <a:lnTo>
                            <a:pt x="3925" y="4370"/>
                          </a:lnTo>
                          <a:lnTo>
                            <a:pt x="3780" y="4370"/>
                          </a:lnTo>
                          <a:lnTo>
                            <a:pt x="3621" y="4367"/>
                          </a:lnTo>
                          <a:lnTo>
                            <a:pt x="3471" y="4352"/>
                          </a:lnTo>
                          <a:lnTo>
                            <a:pt x="3333" y="4318"/>
                          </a:lnTo>
                          <a:lnTo>
                            <a:pt x="3190" y="4291"/>
                          </a:lnTo>
                          <a:lnTo>
                            <a:pt x="3065" y="4252"/>
                          </a:lnTo>
                          <a:lnTo>
                            <a:pt x="2965" y="4195"/>
                          </a:lnTo>
                          <a:lnTo>
                            <a:pt x="2880" y="4142"/>
                          </a:lnTo>
                          <a:lnTo>
                            <a:pt x="2803" y="4082"/>
                          </a:lnTo>
                          <a:lnTo>
                            <a:pt x="2750" y="4018"/>
                          </a:lnTo>
                          <a:lnTo>
                            <a:pt x="2722" y="3946"/>
                          </a:lnTo>
                          <a:lnTo>
                            <a:pt x="2715" y="3882"/>
                          </a:lnTo>
                          <a:lnTo>
                            <a:pt x="2732" y="3792"/>
                          </a:lnTo>
                          <a:lnTo>
                            <a:pt x="2732" y="749"/>
                          </a:lnTo>
                          <a:lnTo>
                            <a:pt x="2553" y="749"/>
                          </a:lnTo>
                          <a:lnTo>
                            <a:pt x="2553" y="0"/>
                          </a:lnTo>
                          <a:lnTo>
                            <a:pt x="2363" y="0"/>
                          </a:lnTo>
                          <a:lnTo>
                            <a:pt x="2363" y="3043"/>
                          </a:lnTo>
                          <a:lnTo>
                            <a:pt x="2367" y="3161"/>
                          </a:lnTo>
                          <a:lnTo>
                            <a:pt x="2363" y="3192"/>
                          </a:lnTo>
                          <a:lnTo>
                            <a:pt x="2344" y="3265"/>
                          </a:lnTo>
                          <a:lnTo>
                            <a:pt x="2310" y="3330"/>
                          </a:lnTo>
                          <a:lnTo>
                            <a:pt x="2251" y="3392"/>
                          </a:lnTo>
                          <a:lnTo>
                            <a:pt x="2169" y="3453"/>
                          </a:lnTo>
                          <a:lnTo>
                            <a:pt x="2067" y="3506"/>
                          </a:lnTo>
                          <a:lnTo>
                            <a:pt x="1956" y="3544"/>
                          </a:lnTo>
                          <a:lnTo>
                            <a:pt x="1825" y="3591"/>
                          </a:lnTo>
                          <a:lnTo>
                            <a:pt x="1690" y="3621"/>
                          </a:lnTo>
                          <a:lnTo>
                            <a:pt x="1537" y="3639"/>
                          </a:lnTo>
                          <a:lnTo>
                            <a:pt x="1390" y="3651"/>
                          </a:lnTo>
                          <a:lnTo>
                            <a:pt x="1230" y="3655"/>
                          </a:lnTo>
                          <a:lnTo>
                            <a:pt x="1076" y="3651"/>
                          </a:lnTo>
                          <a:lnTo>
                            <a:pt x="927" y="3635"/>
                          </a:lnTo>
                          <a:lnTo>
                            <a:pt x="784" y="3612"/>
                          </a:lnTo>
                          <a:lnTo>
                            <a:pt x="650" y="3571"/>
                          </a:lnTo>
                          <a:lnTo>
                            <a:pt x="526" y="3530"/>
                          </a:lnTo>
                          <a:lnTo>
                            <a:pt x="415" y="3483"/>
                          </a:lnTo>
                          <a:lnTo>
                            <a:pt x="328" y="3429"/>
                          </a:lnTo>
                          <a:lnTo>
                            <a:pt x="251" y="3353"/>
                          </a:lnTo>
                          <a:lnTo>
                            <a:pt x="205" y="3299"/>
                          </a:lnTo>
                          <a:lnTo>
                            <a:pt x="174" y="3233"/>
                          </a:lnTo>
                          <a:lnTo>
                            <a:pt x="173" y="3161"/>
                          </a:lnTo>
                          <a:lnTo>
                            <a:pt x="173" y="27"/>
                          </a:lnTo>
                          <a:lnTo>
                            <a:pt x="0" y="27"/>
                          </a:lnTo>
                          <a:lnTo>
                            <a:pt x="0" y="11053"/>
                          </a:lnTo>
                          <a:lnTo>
                            <a:pt x="0" y="11125"/>
                          </a:lnTo>
                          <a:lnTo>
                            <a:pt x="35" y="11199"/>
                          </a:lnTo>
                          <a:lnTo>
                            <a:pt x="81" y="11271"/>
                          </a:lnTo>
                          <a:lnTo>
                            <a:pt x="151" y="11341"/>
                          </a:lnTo>
                          <a:lnTo>
                            <a:pt x="243" y="11402"/>
                          </a:lnTo>
                          <a:lnTo>
                            <a:pt x="354" y="11459"/>
                          </a:lnTo>
                          <a:lnTo>
                            <a:pt x="480" y="11513"/>
                          </a:lnTo>
                          <a:lnTo>
                            <a:pt x="614" y="11559"/>
                          </a:lnTo>
                          <a:lnTo>
                            <a:pt x="766" y="11585"/>
                          </a:lnTo>
                          <a:lnTo>
                            <a:pt x="923" y="11612"/>
                          </a:lnTo>
                          <a:lnTo>
                            <a:pt x="1086" y="11632"/>
                          </a:lnTo>
                          <a:lnTo>
                            <a:pt x="1258" y="11636"/>
                          </a:lnTo>
                          <a:lnTo>
                            <a:pt x="1421" y="11632"/>
                          </a:lnTo>
                          <a:lnTo>
                            <a:pt x="1582" y="11616"/>
                          </a:lnTo>
                          <a:lnTo>
                            <a:pt x="1748" y="11593"/>
                          </a:lnTo>
                          <a:lnTo>
                            <a:pt x="1893" y="11562"/>
                          </a:lnTo>
                          <a:lnTo>
                            <a:pt x="2036" y="11524"/>
                          </a:lnTo>
                          <a:lnTo>
                            <a:pt x="2162" y="11473"/>
                          </a:lnTo>
                          <a:lnTo>
                            <a:pt x="2277" y="11423"/>
                          </a:lnTo>
                          <a:lnTo>
                            <a:pt x="2367" y="11348"/>
                          </a:lnTo>
                          <a:lnTo>
                            <a:pt x="2442" y="11283"/>
                          </a:lnTo>
                          <a:lnTo>
                            <a:pt x="2492" y="11210"/>
                          </a:lnTo>
                          <a:lnTo>
                            <a:pt x="2577" y="11199"/>
                          </a:lnTo>
                          <a:lnTo>
                            <a:pt x="2630" y="11271"/>
                          </a:lnTo>
                          <a:lnTo>
                            <a:pt x="2700" y="11341"/>
                          </a:lnTo>
                          <a:lnTo>
                            <a:pt x="2793" y="11402"/>
                          </a:lnTo>
                          <a:lnTo>
                            <a:pt x="2900" y="11459"/>
                          </a:lnTo>
                          <a:lnTo>
                            <a:pt x="3026" y="11513"/>
                          </a:lnTo>
                          <a:lnTo>
                            <a:pt x="3167" y="11559"/>
                          </a:lnTo>
                          <a:lnTo>
                            <a:pt x="3311" y="11585"/>
                          </a:lnTo>
                          <a:lnTo>
                            <a:pt x="3471" y="11612"/>
                          </a:lnTo>
                          <a:lnTo>
                            <a:pt x="3629" y="11632"/>
                          </a:lnTo>
                          <a:lnTo>
                            <a:pt x="3794" y="11636"/>
                          </a:lnTo>
                          <a:lnTo>
                            <a:pt x="3966" y="11632"/>
                          </a:lnTo>
                          <a:lnTo>
                            <a:pt x="4128" y="11616"/>
                          </a:lnTo>
                          <a:lnTo>
                            <a:pt x="4290" y="11593"/>
                          </a:lnTo>
                          <a:lnTo>
                            <a:pt x="4439" y="11562"/>
                          </a:lnTo>
                          <a:lnTo>
                            <a:pt x="4580" y="11524"/>
                          </a:lnTo>
                          <a:lnTo>
                            <a:pt x="4700" y="11473"/>
                          </a:lnTo>
                          <a:lnTo>
                            <a:pt x="4819" y="11423"/>
                          </a:lnTo>
                          <a:lnTo>
                            <a:pt x="4911" y="11348"/>
                          </a:lnTo>
                          <a:lnTo>
                            <a:pt x="4991" y="11283"/>
                          </a:lnTo>
                          <a:lnTo>
                            <a:pt x="5042" y="11210"/>
                          </a:lnTo>
                          <a:lnTo>
                            <a:pt x="5122" y="11199"/>
                          </a:lnTo>
                          <a:lnTo>
                            <a:pt x="5176" y="11271"/>
                          </a:lnTo>
                          <a:lnTo>
                            <a:pt x="5238" y="11341"/>
                          </a:lnTo>
                          <a:lnTo>
                            <a:pt x="5335" y="11402"/>
                          </a:lnTo>
                          <a:lnTo>
                            <a:pt x="5446" y="11459"/>
                          </a:lnTo>
                          <a:lnTo>
                            <a:pt x="5575" y="11513"/>
                          </a:lnTo>
                          <a:lnTo>
                            <a:pt x="5714" y="11559"/>
                          </a:lnTo>
                          <a:lnTo>
                            <a:pt x="5854" y="11585"/>
                          </a:lnTo>
                          <a:lnTo>
                            <a:pt x="6013" y="11612"/>
                          </a:lnTo>
                          <a:lnTo>
                            <a:pt x="6171" y="11632"/>
                          </a:lnTo>
                          <a:lnTo>
                            <a:pt x="6347" y="11636"/>
                          </a:lnTo>
                          <a:lnTo>
                            <a:pt x="6516" y="11632"/>
                          </a:lnTo>
                          <a:lnTo>
                            <a:pt x="6680" y="11616"/>
                          </a:lnTo>
                          <a:lnTo>
                            <a:pt x="6839" y="11593"/>
                          </a:lnTo>
                          <a:lnTo>
                            <a:pt x="6993" y="11562"/>
                          </a:lnTo>
                          <a:lnTo>
                            <a:pt x="7128" y="11524"/>
                          </a:lnTo>
                          <a:lnTo>
                            <a:pt x="7250" y="11473"/>
                          </a:lnTo>
                          <a:lnTo>
                            <a:pt x="7365" y="11423"/>
                          </a:lnTo>
                          <a:lnTo>
                            <a:pt x="7457" y="11348"/>
                          </a:lnTo>
                          <a:lnTo>
                            <a:pt x="7530" y="11283"/>
                          </a:lnTo>
                          <a:lnTo>
                            <a:pt x="7587" y="11210"/>
                          </a:lnTo>
                          <a:lnTo>
                            <a:pt x="7621" y="11138"/>
                          </a:lnTo>
                          <a:lnTo>
                            <a:pt x="7634" y="11067"/>
                          </a:lnTo>
                          <a:lnTo>
                            <a:pt x="7634" y="11053"/>
                          </a:lnTo>
                          <a:lnTo>
                            <a:pt x="7652" y="10915"/>
                          </a:lnTo>
                          <a:lnTo>
                            <a:pt x="7652" y="1446"/>
                          </a:lnTo>
                          <a:lnTo>
                            <a:pt x="7473" y="1446"/>
                          </a:lnTo>
                          <a:lnTo>
                            <a:pt x="7473" y="4447"/>
                          </a:lnTo>
                          <a:lnTo>
                            <a:pt x="7473" y="4604"/>
                          </a:lnTo>
                          <a:close/>
                        </a:path>
                      </a:pathLst>
                    </a:custGeom>
                    <a:solidFill>
                      <a:srgbClr val="70230c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0" name=""/>
                  <p:cNvSpPr/>
                  <p:nvPr/>
                </p:nvSpPr>
                <p:spPr>
                  <a:xfrm>
                    <a:off x="5617440" y="4254480"/>
                    <a:ext cx="56952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brar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1" name=""/>
                <p:cNvGrpSpPr/>
                <p:nvPr/>
              </p:nvGrpSpPr>
              <p:grpSpPr>
                <a:xfrm>
                  <a:off x="6781680" y="3657600"/>
                  <a:ext cx="1224000" cy="770760"/>
                  <a:chOff x="6781680" y="3657600"/>
                  <a:chExt cx="1224000" cy="770760"/>
                </a:xfrm>
              </p:grpSpPr>
              <p:pic>
                <p:nvPicPr>
                  <p:cNvPr id="5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81680" y="3657600"/>
                    <a:ext cx="12240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73" name=""/>
                  <p:cNvSpPr/>
                  <p:nvPr/>
                </p:nvSpPr>
                <p:spPr>
                  <a:xfrm>
                    <a:off x="6801840" y="4197240"/>
                    <a:ext cx="10569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hysical Facilitie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4" name=""/>
                <p:cNvGrpSpPr/>
                <p:nvPr/>
              </p:nvGrpSpPr>
              <p:grpSpPr>
                <a:xfrm>
                  <a:off x="6370560" y="2361960"/>
                  <a:ext cx="817920" cy="1002600"/>
                  <a:chOff x="6370560" y="2361960"/>
                  <a:chExt cx="817920" cy="1002600"/>
                </a:xfrm>
              </p:grpSpPr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6565680" y="2361960"/>
                    <a:ext cx="488880" cy="694800"/>
                    <a:chOff x="6565680" y="2361960"/>
                    <a:chExt cx="488880" cy="69480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>
                      <a:off x="6793560" y="2513520"/>
                      <a:ext cx="202320" cy="46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7" h="3010">
                          <a:moveTo>
                            <a:pt x="707" y="1346"/>
                          </a:moveTo>
                          <a:lnTo>
                            <a:pt x="707" y="2408"/>
                          </a:lnTo>
                          <a:lnTo>
                            <a:pt x="494" y="3010"/>
                          </a:lnTo>
                          <a:lnTo>
                            <a:pt x="1307" y="3010"/>
                          </a:lnTo>
                          <a:lnTo>
                            <a:pt x="1307" y="462"/>
                          </a:lnTo>
                          <a:lnTo>
                            <a:pt x="458" y="0"/>
                          </a:lnTo>
                          <a:lnTo>
                            <a:pt x="0" y="920"/>
                          </a:lnTo>
                          <a:lnTo>
                            <a:pt x="707" y="1346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77" name=""/>
                    <p:cNvGrpSpPr/>
                    <p:nvPr/>
                  </p:nvGrpSpPr>
                  <p:grpSpPr>
                    <a:xfrm>
                      <a:off x="6602040" y="2714760"/>
                      <a:ext cx="300960" cy="250560"/>
                      <a:chOff x="6602040" y="2714760"/>
                      <a:chExt cx="300960" cy="250560"/>
                    </a:xfrm>
                  </p:grpSpPr>
                  <p:grpSp>
                    <p:nvGrpSpPr>
                      <p:cNvPr id="578" name=""/>
                      <p:cNvGrpSpPr/>
                      <p:nvPr/>
                    </p:nvGrpSpPr>
                    <p:grpSpPr>
                      <a:xfrm>
                        <a:off x="6602040" y="2772000"/>
                        <a:ext cx="196920" cy="193320"/>
                        <a:chOff x="6602040" y="2772000"/>
                        <a:chExt cx="196920" cy="193320"/>
                      </a:xfrm>
                    </p:grpSpPr>
                    <p:sp>
                      <p:nvSpPr>
                        <p:cNvPr id="579" name=""/>
                        <p:cNvSpPr/>
                        <p:nvPr/>
                      </p:nvSpPr>
                      <p:spPr>
                        <a:xfrm>
                          <a:off x="6602040" y="2772000"/>
                          <a:ext cx="196920" cy="19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70" h="1241">
                              <a:moveTo>
                                <a:pt x="42" y="574"/>
                              </a:moveTo>
                              <a:lnTo>
                                <a:pt x="669" y="889"/>
                              </a:lnTo>
                              <a:lnTo>
                                <a:pt x="635" y="956"/>
                              </a:lnTo>
                              <a:lnTo>
                                <a:pt x="740" y="1100"/>
                              </a:lnTo>
                              <a:lnTo>
                                <a:pt x="954" y="639"/>
                              </a:lnTo>
                              <a:lnTo>
                                <a:pt x="989" y="462"/>
                              </a:lnTo>
                              <a:lnTo>
                                <a:pt x="908" y="514"/>
                              </a:lnTo>
                              <a:lnTo>
                                <a:pt x="177" y="141"/>
                              </a:lnTo>
                              <a:lnTo>
                                <a:pt x="247" y="0"/>
                              </a:lnTo>
                              <a:lnTo>
                                <a:pt x="1095" y="390"/>
                              </a:lnTo>
                              <a:lnTo>
                                <a:pt x="1129" y="321"/>
                              </a:lnTo>
                              <a:lnTo>
                                <a:pt x="1270" y="390"/>
                              </a:lnTo>
                              <a:lnTo>
                                <a:pt x="1200" y="568"/>
                              </a:lnTo>
                              <a:lnTo>
                                <a:pt x="1023" y="709"/>
                              </a:lnTo>
                              <a:lnTo>
                                <a:pt x="774" y="1241"/>
                              </a:lnTo>
                              <a:lnTo>
                                <a:pt x="424" y="1030"/>
                              </a:lnTo>
                              <a:lnTo>
                                <a:pt x="0" y="673"/>
                              </a:lnTo>
                              <a:lnTo>
                                <a:pt x="42" y="57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8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0" name=""/>
                        <p:cNvSpPr/>
                        <p:nvPr/>
                      </p:nvSpPr>
                      <p:spPr>
                        <a:xfrm>
                          <a:off x="6603480" y="2860920"/>
                          <a:ext cx="102600" cy="60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1" h="388">
                              <a:moveTo>
                                <a:pt x="32" y="0"/>
                              </a:moveTo>
                              <a:lnTo>
                                <a:pt x="661" y="317"/>
                              </a:lnTo>
                              <a:lnTo>
                                <a:pt x="625" y="388"/>
                              </a:lnTo>
                              <a:lnTo>
                                <a:pt x="0" y="73"/>
                              </a:lnTo>
                              <a:lnTo>
                                <a:pt x="3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81" name=""/>
                      <p:cNvGrpSpPr/>
                      <p:nvPr/>
                    </p:nvGrpSpPr>
                    <p:grpSpPr>
                      <a:xfrm>
                        <a:off x="6618240" y="2714760"/>
                        <a:ext cx="284760" cy="107280"/>
                        <a:chOff x="6618240" y="2714760"/>
                        <a:chExt cx="284760" cy="107280"/>
                      </a:xfrm>
                    </p:grpSpPr>
                    <p:sp>
                      <p:nvSpPr>
                        <p:cNvPr id="582" name=""/>
                        <p:cNvSpPr/>
                        <p:nvPr/>
                      </p:nvSpPr>
                      <p:spPr>
                        <a:xfrm>
                          <a:off x="6618240" y="2714760"/>
                          <a:ext cx="284760" cy="107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36" h="691">
                              <a:moveTo>
                                <a:pt x="80" y="0"/>
                              </a:moveTo>
                              <a:lnTo>
                                <a:pt x="1173" y="549"/>
                              </a:lnTo>
                              <a:lnTo>
                                <a:pt x="1836" y="549"/>
                              </a:lnTo>
                              <a:lnTo>
                                <a:pt x="1836" y="691"/>
                              </a:lnTo>
                              <a:lnTo>
                                <a:pt x="1042" y="691"/>
                              </a:lnTo>
                              <a:lnTo>
                                <a:pt x="0" y="159"/>
                              </a:lnTo>
                              <a:lnTo>
                                <a:pt x="8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3" name=""/>
                        <p:cNvSpPr/>
                        <p:nvPr/>
                      </p:nvSpPr>
                      <p:spPr>
                        <a:xfrm>
                          <a:off x="6623640" y="2733840"/>
                          <a:ext cx="166680" cy="83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6720" bIns="36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84" name=""/>
                      <p:cNvSpPr/>
                      <p:nvPr/>
                    </p:nvSpPr>
                    <p:spPr>
                      <a:xfrm>
                        <a:off x="6626520" y="2747520"/>
                        <a:ext cx="153360" cy="9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0" h="583">
                            <a:moveTo>
                              <a:pt x="54" y="0"/>
                            </a:moveTo>
                            <a:lnTo>
                              <a:pt x="0" y="113"/>
                            </a:lnTo>
                            <a:lnTo>
                              <a:pt x="938" y="583"/>
                            </a:lnTo>
                            <a:lnTo>
                              <a:pt x="990" y="468"/>
                            </a:lnTo>
                            <a:lnTo>
                              <a:pt x="54" y="0"/>
                            </a:lnTo>
                            <a:close/>
                          </a:path>
                        </a:pathLst>
                      </a:custGeom>
                      <a:solidFill>
                        <a:srgbClr val="5f5f5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920" bIns="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85" name=""/>
                    <p:cNvGrpSpPr/>
                    <p:nvPr/>
                  </p:nvGrpSpPr>
                  <p:grpSpPr>
                    <a:xfrm>
                      <a:off x="6689520" y="2361960"/>
                      <a:ext cx="229320" cy="378000"/>
                      <a:chOff x="6689520" y="2361960"/>
                      <a:chExt cx="229320" cy="378000"/>
                    </a:xfrm>
                  </p:grpSpPr>
                  <p:sp>
                    <p:nvSpPr>
                      <p:cNvPr id="586" name=""/>
                      <p:cNvSpPr/>
                      <p:nvPr/>
                    </p:nvSpPr>
                    <p:spPr>
                      <a:xfrm>
                        <a:off x="6705720" y="2665080"/>
                        <a:ext cx="65880" cy="5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6" h="376">
                            <a:moveTo>
                              <a:pt x="105" y="0"/>
                            </a:moveTo>
                            <a:lnTo>
                              <a:pt x="0" y="213"/>
                            </a:lnTo>
                            <a:lnTo>
                              <a:pt x="326" y="376"/>
                            </a:lnTo>
                            <a:lnTo>
                              <a:pt x="426" y="177"/>
                            </a:lnTo>
                            <a:lnTo>
                              <a:pt x="105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880" bIns="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87" name=""/>
                      <p:cNvGrpSpPr/>
                      <p:nvPr/>
                    </p:nvGrpSpPr>
                    <p:grpSpPr>
                      <a:xfrm>
                        <a:off x="6727680" y="2475360"/>
                        <a:ext cx="142200" cy="198000"/>
                        <a:chOff x="6727680" y="2475360"/>
                        <a:chExt cx="142200" cy="198000"/>
                      </a:xfrm>
                    </p:grpSpPr>
                    <p:sp>
                      <p:nvSpPr>
                        <p:cNvPr id="588" name=""/>
                        <p:cNvSpPr/>
                        <p:nvPr/>
                      </p:nvSpPr>
                      <p:spPr>
                        <a:xfrm>
                          <a:off x="6727680" y="2475360"/>
                          <a:ext cx="142200" cy="198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18" h="1275">
                              <a:moveTo>
                                <a:pt x="530" y="0"/>
                              </a:moveTo>
                              <a:lnTo>
                                <a:pt x="918" y="211"/>
                              </a:lnTo>
                              <a:lnTo>
                                <a:pt x="390" y="1275"/>
                              </a:lnTo>
                              <a:lnTo>
                                <a:pt x="0" y="1061"/>
                              </a:lnTo>
                              <a:lnTo>
                                <a:pt x="53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8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9" name=""/>
                        <p:cNvSpPr/>
                        <p:nvPr/>
                      </p:nvSpPr>
                      <p:spPr>
                        <a:xfrm>
                          <a:off x="6743880" y="2491560"/>
                          <a:ext cx="92520" cy="165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97" h="1062">
                              <a:moveTo>
                                <a:pt x="529" y="0"/>
                              </a:moveTo>
                              <a:lnTo>
                                <a:pt x="0" y="1026"/>
                              </a:lnTo>
                              <a:lnTo>
                                <a:pt x="71" y="1062"/>
                              </a:lnTo>
                              <a:lnTo>
                                <a:pt x="597" y="40"/>
                              </a:lnTo>
                              <a:lnTo>
                                <a:pt x="52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90" name=""/>
                      <p:cNvGrpSpPr/>
                      <p:nvPr/>
                    </p:nvGrpSpPr>
                    <p:grpSpPr>
                      <a:xfrm>
                        <a:off x="6798960" y="2361960"/>
                        <a:ext cx="119880" cy="157320"/>
                        <a:chOff x="6798960" y="2361960"/>
                        <a:chExt cx="119880" cy="157320"/>
                      </a:xfrm>
                    </p:grpSpPr>
                    <p:sp>
                      <p:nvSpPr>
                        <p:cNvPr id="591" name=""/>
                        <p:cNvSpPr/>
                        <p:nvPr/>
                      </p:nvSpPr>
                      <p:spPr>
                        <a:xfrm>
                          <a:off x="6850440" y="2378160"/>
                          <a:ext cx="54720" cy="69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4" h="446">
                              <a:moveTo>
                                <a:pt x="179" y="0"/>
                              </a:moveTo>
                              <a:lnTo>
                                <a:pt x="0" y="327"/>
                              </a:lnTo>
                              <a:lnTo>
                                <a:pt x="205" y="446"/>
                              </a:lnTo>
                              <a:lnTo>
                                <a:pt x="354" y="88"/>
                              </a:lnTo>
                              <a:lnTo>
                                <a:pt x="17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8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2680" bIns="22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2" name=""/>
                        <p:cNvSpPr/>
                        <p:nvPr/>
                      </p:nvSpPr>
                      <p:spPr>
                        <a:xfrm>
                          <a:off x="6827400" y="2446560"/>
                          <a:ext cx="47880" cy="39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9" h="255">
                              <a:moveTo>
                                <a:pt x="66" y="0"/>
                              </a:moveTo>
                              <a:lnTo>
                                <a:pt x="0" y="114"/>
                              </a:lnTo>
                              <a:lnTo>
                                <a:pt x="249" y="255"/>
                              </a:lnTo>
                              <a:lnTo>
                                <a:pt x="309" y="132"/>
                              </a:lnTo>
                              <a:lnTo>
                                <a:pt x="6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8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0" bIns="-7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93" name=""/>
                        <p:cNvGrpSpPr/>
                        <p:nvPr/>
                      </p:nvGrpSpPr>
                      <p:grpSpPr>
                        <a:xfrm>
                          <a:off x="6798960" y="2453400"/>
                          <a:ext cx="87120" cy="65880"/>
                          <a:chOff x="6798960" y="2453400"/>
                          <a:chExt cx="87120" cy="65880"/>
                        </a:xfrm>
                      </p:grpSpPr>
                      <p:sp>
                        <p:nvSpPr>
                          <p:cNvPr id="594" name=""/>
                          <p:cNvSpPr/>
                          <p:nvPr/>
                        </p:nvSpPr>
                        <p:spPr>
                          <a:xfrm>
                            <a:off x="6798960" y="2453400"/>
                            <a:ext cx="87120" cy="65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64" h="425">
                                <a:moveTo>
                                  <a:pt x="70" y="0"/>
                                </a:moveTo>
                                <a:lnTo>
                                  <a:pt x="564" y="283"/>
                                </a:lnTo>
                                <a:lnTo>
                                  <a:pt x="494" y="425"/>
                                </a:lnTo>
                                <a:lnTo>
                                  <a:pt x="0" y="142"/>
                                </a:lnTo>
                                <a:lnTo>
                                  <a:pt x="7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0c0c0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9080" bIns="19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595" name=""/>
                          <p:cNvGrpSpPr/>
                          <p:nvPr/>
                        </p:nvGrpSpPr>
                        <p:grpSpPr>
                          <a:xfrm>
                            <a:off x="6802920" y="2455560"/>
                            <a:ext cx="79920" cy="61200"/>
                            <a:chOff x="6802920" y="2455560"/>
                            <a:chExt cx="79920" cy="61200"/>
                          </a:xfrm>
                        </p:grpSpPr>
                        <p:sp>
                          <p:nvSpPr>
                            <p:cNvPr id="596" name=""/>
                            <p:cNvSpPr/>
                            <p:nvPr/>
                          </p:nvSpPr>
                          <p:spPr>
                            <a:xfrm flipH="1">
                              <a:off x="6802920" y="2455560"/>
                              <a:ext cx="10080" cy="216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0" bIns="-252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7" name=""/>
                            <p:cNvSpPr/>
                            <p:nvPr/>
                          </p:nvSpPr>
                          <p:spPr>
                            <a:xfrm flipH="1">
                              <a:off x="6811920" y="2460600"/>
                              <a:ext cx="11160" cy="219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4840" bIns="-24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8" name=""/>
                            <p:cNvSpPr/>
                            <p:nvPr/>
                          </p:nvSpPr>
                          <p:spPr>
                            <a:xfrm flipH="1">
                              <a:off x="6872040" y="2495520"/>
                              <a:ext cx="10800" cy="2124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560" bIns="-255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9" name=""/>
                            <p:cNvSpPr/>
                            <p:nvPr/>
                          </p:nvSpPr>
                          <p:spPr>
                            <a:xfrm flipH="1">
                              <a:off x="6806880" y="2457720"/>
                              <a:ext cx="10800" cy="216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0" bIns="-252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00" name=""/>
                            <p:cNvSpPr/>
                            <p:nvPr/>
                          </p:nvSpPr>
                          <p:spPr>
                            <a:xfrm flipH="1">
                              <a:off x="6819480" y="2465280"/>
                              <a:ext cx="10800" cy="216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0" bIns="-252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01" name=""/>
                            <p:cNvSpPr/>
                            <p:nvPr/>
                          </p:nvSpPr>
                          <p:spPr>
                            <a:xfrm flipH="1">
                              <a:off x="6838920" y="2476440"/>
                              <a:ext cx="10440" cy="2124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560" bIns="-255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02" name=""/>
                            <p:cNvSpPr/>
                            <p:nvPr/>
                          </p:nvSpPr>
                          <p:spPr>
                            <a:xfrm flipH="1">
                              <a:off x="6867720" y="2492640"/>
                              <a:ext cx="10440" cy="2124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560" bIns="-255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03" name=""/>
                            <p:cNvSpPr/>
                            <p:nvPr/>
                          </p:nvSpPr>
                          <p:spPr>
                            <a:xfrm flipH="1">
                              <a:off x="6862680" y="2490120"/>
                              <a:ext cx="10800" cy="2124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560" bIns="-255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04" name=""/>
                            <p:cNvSpPr/>
                            <p:nvPr/>
                          </p:nvSpPr>
                          <p:spPr>
                            <a:xfrm flipH="1">
                              <a:off x="6856560" y="2486520"/>
                              <a:ext cx="10440" cy="2124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560" bIns="-255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05" name=""/>
                            <p:cNvSpPr/>
                            <p:nvPr/>
                          </p:nvSpPr>
                          <p:spPr>
                            <a:xfrm flipH="1">
                              <a:off x="6850080" y="2482200"/>
                              <a:ext cx="10440" cy="216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0" bIns="-252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06" name=""/>
                            <p:cNvSpPr/>
                            <p:nvPr/>
                          </p:nvSpPr>
                          <p:spPr>
                            <a:xfrm flipH="1">
                              <a:off x="6828480" y="2469960"/>
                              <a:ext cx="10800" cy="216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0" bIns="-252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07" name=""/>
                        <p:cNvGrpSpPr/>
                        <p:nvPr/>
                      </p:nvGrpSpPr>
                      <p:grpSpPr>
                        <a:xfrm>
                          <a:off x="6826320" y="2420640"/>
                          <a:ext cx="71280" cy="55080"/>
                          <a:chOff x="6826320" y="2420640"/>
                          <a:chExt cx="71280" cy="55080"/>
                        </a:xfrm>
                      </p:grpSpPr>
                      <p:sp>
                        <p:nvSpPr>
                          <p:cNvPr id="608" name=""/>
                          <p:cNvSpPr/>
                          <p:nvPr/>
                        </p:nvSpPr>
                        <p:spPr>
                          <a:xfrm>
                            <a:off x="6826320" y="2420640"/>
                            <a:ext cx="71280" cy="55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60" h="357">
                                <a:moveTo>
                                  <a:pt x="0" y="138"/>
                                </a:moveTo>
                                <a:lnTo>
                                  <a:pt x="385" y="357"/>
                                </a:lnTo>
                                <a:lnTo>
                                  <a:pt x="460" y="213"/>
                                </a:lnTo>
                                <a:lnTo>
                                  <a:pt x="68" y="0"/>
                                </a:lnTo>
                                <a:lnTo>
                                  <a:pt x="0" y="13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0c0c0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8280" bIns="8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609" name=""/>
                          <p:cNvGrpSpPr/>
                          <p:nvPr/>
                        </p:nvGrpSpPr>
                        <p:grpSpPr>
                          <a:xfrm>
                            <a:off x="6828480" y="2421720"/>
                            <a:ext cx="65880" cy="52200"/>
                            <a:chOff x="6828480" y="2421720"/>
                            <a:chExt cx="65880" cy="52200"/>
                          </a:xfrm>
                        </p:grpSpPr>
                        <p:sp>
                          <p:nvSpPr>
                            <p:cNvPr id="610" name=""/>
                            <p:cNvSpPr/>
                            <p:nvPr/>
                          </p:nvSpPr>
                          <p:spPr>
                            <a:xfrm flipH="1">
                              <a:off x="6853680" y="2435400"/>
                              <a:ext cx="10800" cy="216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0" bIns="-252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1" name=""/>
                            <p:cNvSpPr/>
                            <p:nvPr/>
                          </p:nvSpPr>
                          <p:spPr>
                            <a:xfrm flipH="1">
                              <a:off x="6831720" y="2423520"/>
                              <a:ext cx="10800" cy="2124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560" bIns="-255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2" name=""/>
                            <p:cNvSpPr/>
                            <p:nvPr/>
                          </p:nvSpPr>
                          <p:spPr>
                            <a:xfrm flipH="1">
                              <a:off x="6874920" y="2447280"/>
                              <a:ext cx="10440" cy="216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0" bIns="-252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3" name=""/>
                            <p:cNvSpPr/>
                            <p:nvPr/>
                          </p:nvSpPr>
                          <p:spPr>
                            <a:xfrm flipH="1">
                              <a:off x="6828480" y="2421720"/>
                              <a:ext cx="10440" cy="2124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560" bIns="-255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4" name=""/>
                            <p:cNvSpPr/>
                            <p:nvPr/>
                          </p:nvSpPr>
                          <p:spPr>
                            <a:xfrm flipH="1">
                              <a:off x="6836040" y="2425680"/>
                              <a:ext cx="10800" cy="216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0" bIns="-252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5" name=""/>
                            <p:cNvSpPr/>
                            <p:nvPr/>
                          </p:nvSpPr>
                          <p:spPr>
                            <a:xfrm flipH="1">
                              <a:off x="6846840" y="2431800"/>
                              <a:ext cx="10800" cy="2124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560" bIns="-255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6" name=""/>
                            <p:cNvSpPr/>
                            <p:nvPr/>
                          </p:nvSpPr>
                          <p:spPr>
                            <a:xfrm flipH="1">
                              <a:off x="6881040" y="2450160"/>
                              <a:ext cx="10800" cy="216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0" bIns="-252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7" name=""/>
                            <p:cNvSpPr/>
                            <p:nvPr/>
                          </p:nvSpPr>
                          <p:spPr>
                            <a:xfrm flipH="1">
                              <a:off x="6883560" y="2451960"/>
                              <a:ext cx="10800" cy="219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4840" bIns="-24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8" name=""/>
                            <p:cNvSpPr/>
                            <p:nvPr/>
                          </p:nvSpPr>
                          <p:spPr>
                            <a:xfrm flipH="1">
                              <a:off x="6877440" y="2448720"/>
                              <a:ext cx="11160" cy="216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0" bIns="-252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19" name=""/>
                            <p:cNvSpPr/>
                            <p:nvPr/>
                          </p:nvSpPr>
                          <p:spPr>
                            <a:xfrm flipH="1">
                              <a:off x="6871320" y="2444760"/>
                              <a:ext cx="10080" cy="216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0" bIns="-252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20" name=""/>
                            <p:cNvSpPr/>
                            <p:nvPr/>
                          </p:nvSpPr>
                          <p:spPr>
                            <a:xfrm flipH="1">
                              <a:off x="6840720" y="2428200"/>
                              <a:ext cx="10800" cy="219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4840" bIns="-24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21" name=""/>
                            <p:cNvSpPr/>
                            <p:nvPr/>
                          </p:nvSpPr>
                          <p:spPr>
                            <a:xfrm flipH="1">
                              <a:off x="6860880" y="2439360"/>
                              <a:ext cx="10440" cy="219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4840" bIns="-24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22" name=""/>
                            <p:cNvSpPr/>
                            <p:nvPr/>
                          </p:nvSpPr>
                          <p:spPr>
                            <a:xfrm flipH="1">
                              <a:off x="6865920" y="2442600"/>
                              <a:ext cx="10440" cy="216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5200" bIns="-252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23" name=""/>
                        <p:cNvGrpSpPr/>
                        <p:nvPr/>
                      </p:nvGrpSpPr>
                      <p:grpSpPr>
                        <a:xfrm>
                          <a:off x="6871320" y="2361960"/>
                          <a:ext cx="47520" cy="34200"/>
                          <a:chOff x="6871320" y="2361960"/>
                          <a:chExt cx="47520" cy="34200"/>
                        </a:xfrm>
                      </p:grpSpPr>
                      <p:sp>
                        <p:nvSpPr>
                          <p:cNvPr id="624" name=""/>
                          <p:cNvSpPr/>
                          <p:nvPr/>
                        </p:nvSpPr>
                        <p:spPr>
                          <a:xfrm>
                            <a:off x="6871320" y="2361960"/>
                            <a:ext cx="47520" cy="34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9" h="219">
                                <a:moveTo>
                                  <a:pt x="0" y="85"/>
                                </a:moveTo>
                                <a:lnTo>
                                  <a:pt x="263" y="219"/>
                                </a:lnTo>
                                <a:lnTo>
                                  <a:pt x="309" y="131"/>
                                </a:lnTo>
                                <a:lnTo>
                                  <a:pt x="42" y="0"/>
                                </a:lnTo>
                                <a:lnTo>
                                  <a:pt x="0" y="8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0c0c0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2600" bIns="-12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625" name=""/>
                          <p:cNvGrpSpPr/>
                          <p:nvPr/>
                        </p:nvGrpSpPr>
                        <p:grpSpPr>
                          <a:xfrm>
                            <a:off x="6872040" y="2362320"/>
                            <a:ext cx="45000" cy="32760"/>
                            <a:chOff x="6872040" y="2362320"/>
                            <a:chExt cx="45000" cy="32760"/>
                          </a:xfrm>
                        </p:grpSpPr>
                        <p:sp>
                          <p:nvSpPr>
                            <p:cNvPr id="626" name=""/>
                            <p:cNvSpPr/>
                            <p:nvPr/>
                          </p:nvSpPr>
                          <p:spPr>
                            <a:xfrm flipH="1">
                              <a:off x="6872040" y="2362320"/>
                              <a:ext cx="6120" cy="129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840" bIns="-33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27" name=""/>
                            <p:cNvSpPr/>
                            <p:nvPr/>
                          </p:nvSpPr>
                          <p:spPr>
                            <a:xfrm flipH="1">
                              <a:off x="6910560" y="2382120"/>
                              <a:ext cx="6480" cy="129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840" bIns="-33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28" name=""/>
                            <p:cNvSpPr/>
                            <p:nvPr/>
                          </p:nvSpPr>
                          <p:spPr>
                            <a:xfrm flipH="1">
                              <a:off x="6873480" y="2363040"/>
                              <a:ext cx="6120" cy="129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840" bIns="-33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29" name=""/>
                            <p:cNvSpPr/>
                            <p:nvPr/>
                          </p:nvSpPr>
                          <p:spPr>
                            <a:xfrm flipH="1">
                              <a:off x="6908400" y="2380680"/>
                              <a:ext cx="6840" cy="133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480" bIns="-334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30" name=""/>
                            <p:cNvSpPr/>
                            <p:nvPr/>
                          </p:nvSpPr>
                          <p:spPr>
                            <a:xfrm flipH="1">
                              <a:off x="6875640" y="2364120"/>
                              <a:ext cx="6480" cy="129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840" bIns="-33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31" name=""/>
                            <p:cNvSpPr/>
                            <p:nvPr/>
                          </p:nvSpPr>
                          <p:spPr>
                            <a:xfrm flipH="1">
                              <a:off x="6877800" y="2365200"/>
                              <a:ext cx="6480" cy="133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480" bIns="-334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32" name=""/>
                            <p:cNvSpPr/>
                            <p:nvPr/>
                          </p:nvSpPr>
                          <p:spPr>
                            <a:xfrm flipH="1">
                              <a:off x="6906600" y="2379600"/>
                              <a:ext cx="6840" cy="126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4200" bIns="-342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33" name=""/>
                            <p:cNvSpPr/>
                            <p:nvPr/>
                          </p:nvSpPr>
                          <p:spPr>
                            <a:xfrm flipH="1">
                              <a:off x="6904080" y="2378520"/>
                              <a:ext cx="6840" cy="129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840" bIns="-33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34" name=""/>
                            <p:cNvSpPr/>
                            <p:nvPr/>
                          </p:nvSpPr>
                          <p:spPr>
                            <a:xfrm flipH="1">
                              <a:off x="6880320" y="2366640"/>
                              <a:ext cx="7200" cy="129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840" bIns="-33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35" name=""/>
                            <p:cNvSpPr/>
                            <p:nvPr/>
                          </p:nvSpPr>
                          <p:spPr>
                            <a:xfrm flipH="1">
                              <a:off x="6900840" y="2377080"/>
                              <a:ext cx="6840" cy="133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480" bIns="-334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36" name=""/>
                            <p:cNvSpPr/>
                            <p:nvPr/>
                          </p:nvSpPr>
                          <p:spPr>
                            <a:xfrm flipH="1">
                              <a:off x="6883920" y="2368080"/>
                              <a:ext cx="6480" cy="129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840" bIns="-33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37" name=""/>
                            <p:cNvSpPr/>
                            <p:nvPr/>
                          </p:nvSpPr>
                          <p:spPr>
                            <a:xfrm flipH="1">
                              <a:off x="6897240" y="2375280"/>
                              <a:ext cx="6840" cy="129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840" bIns="-33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38" name=""/>
                            <p:cNvSpPr/>
                            <p:nvPr/>
                          </p:nvSpPr>
                          <p:spPr>
                            <a:xfrm flipH="1">
                              <a:off x="6887880" y="2370240"/>
                              <a:ext cx="6120" cy="129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840" bIns="-338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39" name=""/>
                            <p:cNvSpPr/>
                            <p:nvPr/>
                          </p:nvSpPr>
                          <p:spPr>
                            <a:xfrm flipH="1">
                              <a:off x="6892560" y="2372760"/>
                              <a:ext cx="6840" cy="126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4200" bIns="-342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640" name=""/>
                      <p:cNvGrpSpPr/>
                      <p:nvPr/>
                    </p:nvGrpSpPr>
                    <p:grpSpPr>
                      <a:xfrm>
                        <a:off x="6689520" y="2693160"/>
                        <a:ext cx="77760" cy="46800"/>
                        <a:chOff x="6689520" y="2693160"/>
                        <a:chExt cx="77760" cy="46800"/>
                      </a:xfrm>
                    </p:grpSpPr>
                    <p:sp>
                      <p:nvSpPr>
                        <p:cNvPr id="641" name=""/>
                        <p:cNvSpPr/>
                        <p:nvPr/>
                      </p:nvSpPr>
                      <p:spPr>
                        <a:xfrm>
                          <a:off x="6689520" y="2693160"/>
                          <a:ext cx="77760" cy="46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2" h="303">
                              <a:moveTo>
                                <a:pt x="36" y="0"/>
                              </a:moveTo>
                              <a:lnTo>
                                <a:pt x="502" y="235"/>
                              </a:lnTo>
                              <a:lnTo>
                                <a:pt x="468" y="303"/>
                              </a:lnTo>
                              <a:lnTo>
                                <a:pt x="0" y="70"/>
                              </a:lnTo>
                              <a:lnTo>
                                <a:pt x="3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0" bIns="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642" name=""/>
                        <p:cNvGrpSpPr/>
                        <p:nvPr/>
                      </p:nvGrpSpPr>
                      <p:grpSpPr>
                        <a:xfrm>
                          <a:off x="6692400" y="2694960"/>
                          <a:ext cx="72000" cy="43920"/>
                          <a:chOff x="6692400" y="2694960"/>
                          <a:chExt cx="72000" cy="43920"/>
                        </a:xfrm>
                      </p:grpSpPr>
                      <p:sp>
                        <p:nvSpPr>
                          <p:cNvPr id="643" name=""/>
                          <p:cNvSpPr/>
                          <p:nvPr/>
                        </p:nvSpPr>
                        <p:spPr>
                          <a:xfrm flipH="1">
                            <a:off x="6692400" y="2694960"/>
                            <a:ext cx="504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4" name=""/>
                          <p:cNvSpPr/>
                          <p:nvPr/>
                        </p:nvSpPr>
                        <p:spPr>
                          <a:xfrm flipH="1">
                            <a:off x="6694920" y="2696400"/>
                            <a:ext cx="4680" cy="10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720" bIns="-36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5" name=""/>
                          <p:cNvSpPr/>
                          <p:nvPr/>
                        </p:nvSpPr>
                        <p:spPr>
                          <a:xfrm flipH="1">
                            <a:off x="6760080" y="2728800"/>
                            <a:ext cx="4320" cy="10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720" bIns="-36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6" name=""/>
                          <p:cNvSpPr/>
                          <p:nvPr/>
                        </p:nvSpPr>
                        <p:spPr>
                          <a:xfrm flipH="1">
                            <a:off x="6698520" y="2697480"/>
                            <a:ext cx="504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7" name=""/>
                          <p:cNvSpPr/>
                          <p:nvPr/>
                        </p:nvSpPr>
                        <p:spPr>
                          <a:xfrm flipH="1">
                            <a:off x="6702840" y="2700000"/>
                            <a:ext cx="504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8" name=""/>
                          <p:cNvSpPr/>
                          <p:nvPr/>
                        </p:nvSpPr>
                        <p:spPr>
                          <a:xfrm flipH="1">
                            <a:off x="6708600" y="2702880"/>
                            <a:ext cx="504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9" name=""/>
                          <p:cNvSpPr/>
                          <p:nvPr/>
                        </p:nvSpPr>
                        <p:spPr>
                          <a:xfrm flipH="1">
                            <a:off x="6715080" y="2705760"/>
                            <a:ext cx="468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0" name=""/>
                          <p:cNvSpPr/>
                          <p:nvPr/>
                        </p:nvSpPr>
                        <p:spPr>
                          <a:xfrm flipH="1">
                            <a:off x="6721200" y="2709000"/>
                            <a:ext cx="5040" cy="10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720" bIns="-36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1" name=""/>
                          <p:cNvSpPr/>
                          <p:nvPr/>
                        </p:nvSpPr>
                        <p:spPr>
                          <a:xfrm flipH="1">
                            <a:off x="6757560" y="2727720"/>
                            <a:ext cx="5040" cy="9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2" name=""/>
                          <p:cNvSpPr/>
                          <p:nvPr/>
                        </p:nvSpPr>
                        <p:spPr>
                          <a:xfrm flipH="1">
                            <a:off x="6754320" y="2726280"/>
                            <a:ext cx="5040" cy="10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720" bIns="-36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3" name=""/>
                          <p:cNvSpPr/>
                          <p:nvPr/>
                        </p:nvSpPr>
                        <p:spPr>
                          <a:xfrm flipH="1">
                            <a:off x="6751800" y="2724480"/>
                            <a:ext cx="504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4" name=""/>
                          <p:cNvSpPr/>
                          <p:nvPr/>
                        </p:nvSpPr>
                        <p:spPr>
                          <a:xfrm flipH="1">
                            <a:off x="6748200" y="2723040"/>
                            <a:ext cx="468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5" name=""/>
                          <p:cNvSpPr/>
                          <p:nvPr/>
                        </p:nvSpPr>
                        <p:spPr>
                          <a:xfrm flipH="1">
                            <a:off x="6744600" y="2720880"/>
                            <a:ext cx="4680" cy="10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720" bIns="-36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6" name=""/>
                          <p:cNvSpPr/>
                          <p:nvPr/>
                        </p:nvSpPr>
                        <p:spPr>
                          <a:xfrm flipH="1">
                            <a:off x="6739560" y="2718720"/>
                            <a:ext cx="5040" cy="10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720" bIns="-36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7" name=""/>
                          <p:cNvSpPr/>
                          <p:nvPr/>
                        </p:nvSpPr>
                        <p:spPr>
                          <a:xfrm flipH="1">
                            <a:off x="6734160" y="2715120"/>
                            <a:ext cx="504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8" name=""/>
                          <p:cNvSpPr/>
                          <p:nvPr/>
                        </p:nvSpPr>
                        <p:spPr>
                          <a:xfrm flipH="1">
                            <a:off x="6726960" y="2711880"/>
                            <a:ext cx="4680" cy="10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59" name=""/>
                      <p:cNvGrpSpPr/>
                      <p:nvPr/>
                    </p:nvGrpSpPr>
                    <p:grpSpPr>
                      <a:xfrm>
                        <a:off x="6705720" y="2634840"/>
                        <a:ext cx="92880" cy="66960"/>
                        <a:chOff x="6705720" y="2634840"/>
                        <a:chExt cx="92880" cy="66960"/>
                      </a:xfrm>
                    </p:grpSpPr>
                    <p:sp>
                      <p:nvSpPr>
                        <p:cNvPr id="660" name=""/>
                        <p:cNvSpPr/>
                        <p:nvPr/>
                      </p:nvSpPr>
                      <p:spPr>
                        <a:xfrm>
                          <a:off x="6705720" y="2634840"/>
                          <a:ext cx="92880" cy="66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99" h="432">
                              <a:moveTo>
                                <a:pt x="71" y="0"/>
                              </a:moveTo>
                              <a:lnTo>
                                <a:pt x="599" y="288"/>
                              </a:lnTo>
                              <a:lnTo>
                                <a:pt x="529" y="432"/>
                              </a:lnTo>
                              <a:lnTo>
                                <a:pt x="0" y="141"/>
                              </a:lnTo>
                              <a:lnTo>
                                <a:pt x="7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661" name=""/>
                        <p:cNvGrpSpPr/>
                        <p:nvPr/>
                      </p:nvGrpSpPr>
                      <p:grpSpPr>
                        <a:xfrm>
                          <a:off x="6709680" y="2637000"/>
                          <a:ext cx="86040" cy="62640"/>
                          <a:chOff x="6709680" y="2637000"/>
                          <a:chExt cx="86040" cy="62640"/>
                        </a:xfrm>
                      </p:grpSpPr>
                      <p:sp>
                        <p:nvSpPr>
                          <p:cNvPr id="662" name=""/>
                          <p:cNvSpPr/>
                          <p:nvPr/>
                        </p:nvSpPr>
                        <p:spPr>
                          <a:xfrm flipH="1">
                            <a:off x="6719040" y="2641680"/>
                            <a:ext cx="10800" cy="21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560" bIns="-25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3" name=""/>
                          <p:cNvSpPr/>
                          <p:nvPr/>
                        </p:nvSpPr>
                        <p:spPr>
                          <a:xfrm flipH="1">
                            <a:off x="6784920" y="2677680"/>
                            <a:ext cx="10800" cy="21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840" bIns="-24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4" name=""/>
                          <p:cNvSpPr/>
                          <p:nvPr/>
                        </p:nvSpPr>
                        <p:spPr>
                          <a:xfrm flipH="1">
                            <a:off x="6714000" y="2639520"/>
                            <a:ext cx="10800" cy="208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5" name=""/>
                          <p:cNvSpPr/>
                          <p:nvPr/>
                        </p:nvSpPr>
                        <p:spPr>
                          <a:xfrm flipH="1">
                            <a:off x="6725520" y="2645280"/>
                            <a:ext cx="10440" cy="21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560" bIns="-25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6" name=""/>
                          <p:cNvSpPr/>
                          <p:nvPr/>
                        </p:nvSpPr>
                        <p:spPr>
                          <a:xfrm flipH="1">
                            <a:off x="6741360" y="2654280"/>
                            <a:ext cx="10800" cy="21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560" bIns="-25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7" name=""/>
                          <p:cNvSpPr/>
                          <p:nvPr/>
                        </p:nvSpPr>
                        <p:spPr>
                          <a:xfrm flipH="1">
                            <a:off x="6781320" y="2675880"/>
                            <a:ext cx="10800" cy="21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0" bIns="-25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8" name=""/>
                          <p:cNvSpPr/>
                          <p:nvPr/>
                        </p:nvSpPr>
                        <p:spPr>
                          <a:xfrm flipH="1">
                            <a:off x="6776640" y="2673720"/>
                            <a:ext cx="11160" cy="21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840" bIns="-24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9" name=""/>
                          <p:cNvSpPr/>
                          <p:nvPr/>
                        </p:nvSpPr>
                        <p:spPr>
                          <a:xfrm flipH="1">
                            <a:off x="6772320" y="2670840"/>
                            <a:ext cx="10800" cy="21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0" bIns="-25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0" name=""/>
                          <p:cNvSpPr/>
                          <p:nvPr/>
                        </p:nvSpPr>
                        <p:spPr>
                          <a:xfrm flipH="1">
                            <a:off x="6751800" y="2659680"/>
                            <a:ext cx="10800" cy="21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0" bIns="-25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1" name=""/>
                          <p:cNvSpPr/>
                          <p:nvPr/>
                        </p:nvSpPr>
                        <p:spPr>
                          <a:xfrm flipH="1">
                            <a:off x="6733080" y="2649240"/>
                            <a:ext cx="10440" cy="21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0" bIns="-25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2" name=""/>
                          <p:cNvSpPr/>
                          <p:nvPr/>
                        </p:nvSpPr>
                        <p:spPr>
                          <a:xfrm flipH="1">
                            <a:off x="6766560" y="2667600"/>
                            <a:ext cx="10800" cy="21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840" bIns="-24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3" name=""/>
                          <p:cNvSpPr/>
                          <p:nvPr/>
                        </p:nvSpPr>
                        <p:spPr>
                          <a:xfrm flipH="1">
                            <a:off x="6760440" y="2663640"/>
                            <a:ext cx="10800" cy="21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0" bIns="-25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4" name=""/>
                          <p:cNvSpPr/>
                          <p:nvPr/>
                        </p:nvSpPr>
                        <p:spPr>
                          <a:xfrm flipH="1">
                            <a:off x="6709680" y="2637000"/>
                            <a:ext cx="10800" cy="208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675" name=""/>
                    <p:cNvGrpSpPr/>
                    <p:nvPr/>
                  </p:nvGrpSpPr>
                  <p:grpSpPr>
                    <a:xfrm>
                      <a:off x="6565680" y="2981520"/>
                      <a:ext cx="488880" cy="75240"/>
                      <a:chOff x="6565680" y="2981520"/>
                      <a:chExt cx="488880" cy="75240"/>
                    </a:xfrm>
                  </p:grpSpPr>
                  <p:sp>
                    <p:nvSpPr>
                      <p:cNvPr id="676" name=""/>
                      <p:cNvSpPr/>
                      <p:nvPr/>
                    </p:nvSpPr>
                    <p:spPr>
                      <a:xfrm>
                        <a:off x="6565680" y="3021120"/>
                        <a:ext cx="488880" cy="35640"/>
                      </a:xfrm>
                      <a:prstGeom prst="rect">
                        <a:avLst/>
                      </a:prstGeom>
                      <a:solidFill>
                        <a:srgbClr val="5f5f5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7" name=""/>
                      <p:cNvSpPr/>
                      <p:nvPr/>
                    </p:nvSpPr>
                    <p:spPr>
                      <a:xfrm>
                        <a:off x="6602040" y="2981520"/>
                        <a:ext cx="415440" cy="3852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280" bIns="-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678" name=""/>
                  <p:cNvSpPr/>
                  <p:nvPr/>
                </p:nvSpPr>
                <p:spPr>
                  <a:xfrm>
                    <a:off x="6370560" y="3133440"/>
                    <a:ext cx="81792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aboratorie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9" name=""/>
                <p:cNvGrpSpPr/>
                <p:nvPr/>
              </p:nvGrpSpPr>
              <p:grpSpPr>
                <a:xfrm>
                  <a:off x="7485480" y="2375280"/>
                  <a:ext cx="910080" cy="795600"/>
                  <a:chOff x="7485480" y="2375280"/>
                  <a:chExt cx="910080" cy="795600"/>
                </a:xfrm>
              </p:grpSpPr>
              <p:grpSp>
                <p:nvGrpSpPr>
                  <p:cNvPr id="680" name=""/>
                  <p:cNvGrpSpPr/>
                  <p:nvPr/>
                </p:nvGrpSpPr>
                <p:grpSpPr>
                  <a:xfrm>
                    <a:off x="7485480" y="2375280"/>
                    <a:ext cx="910080" cy="734760"/>
                    <a:chOff x="7485480" y="2375280"/>
                    <a:chExt cx="910080" cy="734760"/>
                  </a:xfrm>
                </p:grpSpPr>
                <p:grpSp>
                  <p:nvGrpSpPr>
                    <p:cNvPr id="681" name=""/>
                    <p:cNvGrpSpPr/>
                    <p:nvPr/>
                  </p:nvGrpSpPr>
                  <p:grpSpPr>
                    <a:xfrm>
                      <a:off x="7485480" y="2375280"/>
                      <a:ext cx="910080" cy="734760"/>
                      <a:chOff x="7485480" y="2375280"/>
                      <a:chExt cx="910080" cy="734760"/>
                    </a:xfrm>
                  </p:grpSpPr>
                  <p:grpSp>
                    <p:nvGrpSpPr>
                      <p:cNvPr id="682" name=""/>
                      <p:cNvGrpSpPr/>
                      <p:nvPr/>
                    </p:nvGrpSpPr>
                    <p:grpSpPr>
                      <a:xfrm>
                        <a:off x="7485480" y="2375280"/>
                        <a:ext cx="910080" cy="734760"/>
                        <a:chOff x="7485480" y="2375280"/>
                        <a:chExt cx="910080" cy="734760"/>
                      </a:xfrm>
                    </p:grpSpPr>
                    <p:grpSp>
                      <p:nvGrpSpPr>
                        <p:cNvPr id="683" name=""/>
                        <p:cNvGrpSpPr/>
                        <p:nvPr/>
                      </p:nvGrpSpPr>
                      <p:grpSpPr>
                        <a:xfrm>
                          <a:off x="7485480" y="2375280"/>
                          <a:ext cx="910080" cy="734760"/>
                          <a:chOff x="7485480" y="2375280"/>
                          <a:chExt cx="910080" cy="734760"/>
                        </a:xfrm>
                      </p:grpSpPr>
                      <p:sp>
                        <p:nvSpPr>
                          <p:cNvPr id="684" name=""/>
                          <p:cNvSpPr/>
                          <p:nvPr/>
                        </p:nvSpPr>
                        <p:spPr>
                          <a:xfrm rot="1408800">
                            <a:off x="7515000" y="2651760"/>
                            <a:ext cx="793800" cy="313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384" h="2857">
                                <a:moveTo>
                                  <a:pt x="0" y="2052"/>
                                </a:moveTo>
                                <a:lnTo>
                                  <a:pt x="1608" y="2857"/>
                                </a:lnTo>
                                <a:lnTo>
                                  <a:pt x="1863" y="2622"/>
                                </a:lnTo>
                                <a:lnTo>
                                  <a:pt x="2103" y="2401"/>
                                </a:lnTo>
                                <a:lnTo>
                                  <a:pt x="2334" y="2200"/>
                                </a:lnTo>
                                <a:lnTo>
                                  <a:pt x="2595" y="1986"/>
                                </a:lnTo>
                                <a:lnTo>
                                  <a:pt x="2786" y="1833"/>
                                </a:lnTo>
                                <a:lnTo>
                                  <a:pt x="3055" y="1640"/>
                                </a:lnTo>
                                <a:lnTo>
                                  <a:pt x="3334" y="1439"/>
                                </a:lnTo>
                                <a:lnTo>
                                  <a:pt x="3565" y="1265"/>
                                </a:lnTo>
                                <a:lnTo>
                                  <a:pt x="3776" y="1120"/>
                                </a:lnTo>
                                <a:lnTo>
                                  <a:pt x="3980" y="986"/>
                                </a:lnTo>
                                <a:lnTo>
                                  <a:pt x="4181" y="851"/>
                                </a:lnTo>
                                <a:lnTo>
                                  <a:pt x="4384" y="725"/>
                                </a:lnTo>
                                <a:lnTo>
                                  <a:pt x="2938" y="0"/>
                                </a:lnTo>
                                <a:lnTo>
                                  <a:pt x="2700" y="140"/>
                                </a:lnTo>
                                <a:lnTo>
                                  <a:pt x="2459" y="293"/>
                                </a:lnTo>
                                <a:lnTo>
                                  <a:pt x="2276" y="418"/>
                                </a:lnTo>
                                <a:lnTo>
                                  <a:pt x="2085" y="572"/>
                                </a:lnTo>
                                <a:lnTo>
                                  <a:pt x="1881" y="735"/>
                                </a:lnTo>
                                <a:lnTo>
                                  <a:pt x="1680" y="909"/>
                                </a:lnTo>
                                <a:lnTo>
                                  <a:pt x="1363" y="1102"/>
                                </a:lnTo>
                                <a:lnTo>
                                  <a:pt x="1084" y="1275"/>
                                </a:lnTo>
                                <a:lnTo>
                                  <a:pt x="823" y="1429"/>
                                </a:lnTo>
                                <a:lnTo>
                                  <a:pt x="534" y="1632"/>
                                </a:lnTo>
                                <a:lnTo>
                                  <a:pt x="275" y="1823"/>
                                </a:lnTo>
                                <a:lnTo>
                                  <a:pt x="0" y="205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ffd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5" name=""/>
                          <p:cNvSpPr/>
                          <p:nvPr/>
                        </p:nvSpPr>
                        <p:spPr>
                          <a:xfrm rot="1408800">
                            <a:off x="7518240" y="2644200"/>
                            <a:ext cx="793800" cy="313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384" h="2857">
                                <a:moveTo>
                                  <a:pt x="0" y="2053"/>
                                </a:moveTo>
                                <a:lnTo>
                                  <a:pt x="1608" y="2857"/>
                                </a:lnTo>
                                <a:lnTo>
                                  <a:pt x="1863" y="2620"/>
                                </a:lnTo>
                                <a:lnTo>
                                  <a:pt x="2103" y="2399"/>
                                </a:lnTo>
                                <a:lnTo>
                                  <a:pt x="2334" y="2198"/>
                                </a:lnTo>
                                <a:lnTo>
                                  <a:pt x="2595" y="1987"/>
                                </a:lnTo>
                                <a:lnTo>
                                  <a:pt x="2786" y="1831"/>
                                </a:lnTo>
                                <a:lnTo>
                                  <a:pt x="3055" y="1640"/>
                                </a:lnTo>
                                <a:lnTo>
                                  <a:pt x="3334" y="1437"/>
                                </a:lnTo>
                                <a:lnTo>
                                  <a:pt x="3565" y="1264"/>
                                </a:lnTo>
                                <a:lnTo>
                                  <a:pt x="3776" y="1120"/>
                                </a:lnTo>
                                <a:lnTo>
                                  <a:pt x="3980" y="985"/>
                                </a:lnTo>
                                <a:lnTo>
                                  <a:pt x="4181" y="851"/>
                                </a:lnTo>
                                <a:lnTo>
                                  <a:pt x="4384" y="724"/>
                                </a:lnTo>
                                <a:lnTo>
                                  <a:pt x="2938" y="0"/>
                                </a:lnTo>
                                <a:lnTo>
                                  <a:pt x="2700" y="138"/>
                                </a:lnTo>
                                <a:lnTo>
                                  <a:pt x="2459" y="291"/>
                                </a:lnTo>
                                <a:lnTo>
                                  <a:pt x="2276" y="417"/>
                                </a:lnTo>
                                <a:lnTo>
                                  <a:pt x="2085" y="570"/>
                                </a:lnTo>
                                <a:lnTo>
                                  <a:pt x="1881" y="736"/>
                                </a:lnTo>
                                <a:lnTo>
                                  <a:pt x="1680" y="909"/>
                                </a:lnTo>
                                <a:lnTo>
                                  <a:pt x="1363" y="1100"/>
                                </a:lnTo>
                                <a:lnTo>
                                  <a:pt x="1084" y="1273"/>
                                </a:lnTo>
                                <a:lnTo>
                                  <a:pt x="823" y="1427"/>
                                </a:lnTo>
                                <a:lnTo>
                                  <a:pt x="534" y="1630"/>
                                </a:lnTo>
                                <a:lnTo>
                                  <a:pt x="275" y="1821"/>
                                </a:lnTo>
                                <a:lnTo>
                                  <a:pt x="0" y="205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6" name=""/>
                          <p:cNvSpPr/>
                          <p:nvPr/>
                        </p:nvSpPr>
                        <p:spPr>
                          <a:xfrm rot="1408800">
                            <a:off x="7521840" y="2636640"/>
                            <a:ext cx="793800" cy="313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384" h="2857">
                                <a:moveTo>
                                  <a:pt x="0" y="2052"/>
                                </a:moveTo>
                                <a:lnTo>
                                  <a:pt x="1608" y="2857"/>
                                </a:lnTo>
                                <a:lnTo>
                                  <a:pt x="1863" y="2622"/>
                                </a:lnTo>
                                <a:lnTo>
                                  <a:pt x="2103" y="2400"/>
                                </a:lnTo>
                                <a:lnTo>
                                  <a:pt x="2334" y="2197"/>
                                </a:lnTo>
                                <a:lnTo>
                                  <a:pt x="2595" y="1986"/>
                                </a:lnTo>
                                <a:lnTo>
                                  <a:pt x="2786" y="1833"/>
                                </a:lnTo>
                                <a:lnTo>
                                  <a:pt x="3055" y="1639"/>
                                </a:lnTo>
                                <a:lnTo>
                                  <a:pt x="3334" y="1438"/>
                                </a:lnTo>
                                <a:lnTo>
                                  <a:pt x="3565" y="1265"/>
                                </a:lnTo>
                                <a:lnTo>
                                  <a:pt x="3776" y="1119"/>
                                </a:lnTo>
                                <a:lnTo>
                                  <a:pt x="3980" y="986"/>
                                </a:lnTo>
                                <a:lnTo>
                                  <a:pt x="4181" y="850"/>
                                </a:lnTo>
                                <a:lnTo>
                                  <a:pt x="4384" y="723"/>
                                </a:lnTo>
                                <a:lnTo>
                                  <a:pt x="2938" y="0"/>
                                </a:lnTo>
                                <a:lnTo>
                                  <a:pt x="2700" y="137"/>
                                </a:lnTo>
                                <a:lnTo>
                                  <a:pt x="2459" y="293"/>
                                </a:lnTo>
                                <a:lnTo>
                                  <a:pt x="2276" y="418"/>
                                </a:lnTo>
                                <a:lnTo>
                                  <a:pt x="2085" y="571"/>
                                </a:lnTo>
                                <a:lnTo>
                                  <a:pt x="1881" y="735"/>
                                </a:lnTo>
                                <a:lnTo>
                                  <a:pt x="1680" y="908"/>
                                </a:lnTo>
                                <a:lnTo>
                                  <a:pt x="1363" y="1101"/>
                                </a:lnTo>
                                <a:lnTo>
                                  <a:pt x="1084" y="1273"/>
                                </a:lnTo>
                                <a:lnTo>
                                  <a:pt x="823" y="1428"/>
                                </a:lnTo>
                                <a:lnTo>
                                  <a:pt x="534" y="1629"/>
                                </a:lnTo>
                                <a:lnTo>
                                  <a:pt x="275" y="1823"/>
                                </a:lnTo>
                                <a:lnTo>
                                  <a:pt x="0" y="205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ffd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7" name=""/>
                          <p:cNvSpPr/>
                          <p:nvPr/>
                        </p:nvSpPr>
                        <p:spPr>
                          <a:xfrm rot="1408800">
                            <a:off x="7525080" y="2628720"/>
                            <a:ext cx="793800" cy="313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384" h="2857">
                                <a:moveTo>
                                  <a:pt x="0" y="2050"/>
                                </a:moveTo>
                                <a:lnTo>
                                  <a:pt x="1608" y="2857"/>
                                </a:lnTo>
                                <a:lnTo>
                                  <a:pt x="1863" y="2620"/>
                                </a:lnTo>
                                <a:lnTo>
                                  <a:pt x="2103" y="2399"/>
                                </a:lnTo>
                                <a:lnTo>
                                  <a:pt x="2334" y="2198"/>
                                </a:lnTo>
                                <a:lnTo>
                                  <a:pt x="2595" y="1984"/>
                                </a:lnTo>
                                <a:lnTo>
                                  <a:pt x="2786" y="1831"/>
                                </a:lnTo>
                                <a:lnTo>
                                  <a:pt x="3055" y="1638"/>
                                </a:lnTo>
                                <a:lnTo>
                                  <a:pt x="3334" y="1436"/>
                                </a:lnTo>
                                <a:lnTo>
                                  <a:pt x="3565" y="1263"/>
                                </a:lnTo>
                                <a:lnTo>
                                  <a:pt x="3776" y="1120"/>
                                </a:lnTo>
                                <a:lnTo>
                                  <a:pt x="3980" y="984"/>
                                </a:lnTo>
                                <a:lnTo>
                                  <a:pt x="4181" y="849"/>
                                </a:lnTo>
                                <a:lnTo>
                                  <a:pt x="4384" y="723"/>
                                </a:lnTo>
                                <a:lnTo>
                                  <a:pt x="2938" y="0"/>
                                </a:lnTo>
                                <a:lnTo>
                                  <a:pt x="2700" y="137"/>
                                </a:lnTo>
                                <a:lnTo>
                                  <a:pt x="2459" y="291"/>
                                </a:lnTo>
                                <a:lnTo>
                                  <a:pt x="2276" y="416"/>
                                </a:lnTo>
                                <a:lnTo>
                                  <a:pt x="2085" y="570"/>
                                </a:lnTo>
                                <a:lnTo>
                                  <a:pt x="1881" y="733"/>
                                </a:lnTo>
                                <a:lnTo>
                                  <a:pt x="1680" y="906"/>
                                </a:lnTo>
                                <a:lnTo>
                                  <a:pt x="1363" y="1100"/>
                                </a:lnTo>
                                <a:lnTo>
                                  <a:pt x="1084" y="1273"/>
                                </a:lnTo>
                                <a:lnTo>
                                  <a:pt x="823" y="1426"/>
                                </a:lnTo>
                                <a:lnTo>
                                  <a:pt x="534" y="1630"/>
                                </a:lnTo>
                                <a:lnTo>
                                  <a:pt x="275" y="1821"/>
                                </a:lnTo>
                                <a:lnTo>
                                  <a:pt x="0" y="205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8" name=""/>
                          <p:cNvSpPr/>
                          <p:nvPr/>
                        </p:nvSpPr>
                        <p:spPr>
                          <a:xfrm rot="1408800">
                            <a:off x="7528680" y="2620800"/>
                            <a:ext cx="793800" cy="313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384" h="2857">
                                <a:moveTo>
                                  <a:pt x="0" y="2052"/>
                                </a:moveTo>
                                <a:lnTo>
                                  <a:pt x="1608" y="2857"/>
                                </a:lnTo>
                                <a:lnTo>
                                  <a:pt x="1863" y="2622"/>
                                </a:lnTo>
                                <a:lnTo>
                                  <a:pt x="2103" y="2399"/>
                                </a:lnTo>
                                <a:lnTo>
                                  <a:pt x="2334" y="2198"/>
                                </a:lnTo>
                                <a:lnTo>
                                  <a:pt x="2595" y="1987"/>
                                </a:lnTo>
                                <a:lnTo>
                                  <a:pt x="2786" y="1831"/>
                                </a:lnTo>
                                <a:lnTo>
                                  <a:pt x="3055" y="1640"/>
                                </a:lnTo>
                                <a:lnTo>
                                  <a:pt x="3334" y="1437"/>
                                </a:lnTo>
                                <a:lnTo>
                                  <a:pt x="3565" y="1263"/>
                                </a:lnTo>
                                <a:lnTo>
                                  <a:pt x="3776" y="1120"/>
                                </a:lnTo>
                                <a:lnTo>
                                  <a:pt x="3980" y="984"/>
                                </a:lnTo>
                                <a:lnTo>
                                  <a:pt x="4181" y="851"/>
                                </a:lnTo>
                                <a:lnTo>
                                  <a:pt x="4384" y="723"/>
                                </a:lnTo>
                                <a:lnTo>
                                  <a:pt x="2938" y="0"/>
                                </a:lnTo>
                                <a:lnTo>
                                  <a:pt x="2700" y="138"/>
                                </a:lnTo>
                                <a:lnTo>
                                  <a:pt x="2459" y="291"/>
                                </a:lnTo>
                                <a:lnTo>
                                  <a:pt x="2276" y="417"/>
                                </a:lnTo>
                                <a:lnTo>
                                  <a:pt x="2085" y="572"/>
                                </a:lnTo>
                                <a:lnTo>
                                  <a:pt x="1881" y="735"/>
                                </a:lnTo>
                                <a:lnTo>
                                  <a:pt x="1680" y="909"/>
                                </a:lnTo>
                                <a:lnTo>
                                  <a:pt x="1363" y="1100"/>
                                </a:lnTo>
                                <a:lnTo>
                                  <a:pt x="1084" y="1273"/>
                                </a:lnTo>
                                <a:lnTo>
                                  <a:pt x="823" y="1427"/>
                                </a:lnTo>
                                <a:lnTo>
                                  <a:pt x="534" y="1630"/>
                                </a:lnTo>
                                <a:lnTo>
                                  <a:pt x="275" y="1823"/>
                                </a:lnTo>
                                <a:lnTo>
                                  <a:pt x="0" y="205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ffd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9" name=""/>
                          <p:cNvSpPr/>
                          <p:nvPr/>
                        </p:nvSpPr>
                        <p:spPr>
                          <a:xfrm rot="1408800">
                            <a:off x="7531920" y="2613240"/>
                            <a:ext cx="793800" cy="313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384" h="2857">
                                <a:moveTo>
                                  <a:pt x="0" y="2052"/>
                                </a:moveTo>
                                <a:lnTo>
                                  <a:pt x="1608" y="2857"/>
                                </a:lnTo>
                                <a:lnTo>
                                  <a:pt x="1863" y="2622"/>
                                </a:lnTo>
                                <a:lnTo>
                                  <a:pt x="2103" y="2400"/>
                                </a:lnTo>
                                <a:lnTo>
                                  <a:pt x="2334" y="2197"/>
                                </a:lnTo>
                                <a:lnTo>
                                  <a:pt x="2595" y="1986"/>
                                </a:lnTo>
                                <a:lnTo>
                                  <a:pt x="2786" y="1833"/>
                                </a:lnTo>
                                <a:lnTo>
                                  <a:pt x="3055" y="1639"/>
                                </a:lnTo>
                                <a:lnTo>
                                  <a:pt x="3334" y="1438"/>
                                </a:lnTo>
                                <a:lnTo>
                                  <a:pt x="3565" y="1265"/>
                                </a:lnTo>
                                <a:lnTo>
                                  <a:pt x="3776" y="1119"/>
                                </a:lnTo>
                                <a:lnTo>
                                  <a:pt x="3980" y="986"/>
                                </a:lnTo>
                                <a:lnTo>
                                  <a:pt x="4181" y="850"/>
                                </a:lnTo>
                                <a:lnTo>
                                  <a:pt x="4384" y="723"/>
                                </a:lnTo>
                                <a:lnTo>
                                  <a:pt x="2938" y="0"/>
                                </a:lnTo>
                                <a:lnTo>
                                  <a:pt x="2700" y="139"/>
                                </a:lnTo>
                                <a:lnTo>
                                  <a:pt x="2459" y="292"/>
                                </a:lnTo>
                                <a:lnTo>
                                  <a:pt x="2276" y="418"/>
                                </a:lnTo>
                                <a:lnTo>
                                  <a:pt x="2085" y="571"/>
                                </a:lnTo>
                                <a:lnTo>
                                  <a:pt x="1881" y="735"/>
                                </a:lnTo>
                                <a:lnTo>
                                  <a:pt x="1680" y="908"/>
                                </a:lnTo>
                                <a:lnTo>
                                  <a:pt x="1363" y="1101"/>
                                </a:lnTo>
                                <a:lnTo>
                                  <a:pt x="1084" y="1275"/>
                                </a:lnTo>
                                <a:lnTo>
                                  <a:pt x="823" y="1428"/>
                                </a:lnTo>
                                <a:lnTo>
                                  <a:pt x="534" y="1629"/>
                                </a:lnTo>
                                <a:lnTo>
                                  <a:pt x="275" y="1823"/>
                                </a:lnTo>
                                <a:lnTo>
                                  <a:pt x="0" y="205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0" name=""/>
                          <p:cNvSpPr/>
                          <p:nvPr/>
                        </p:nvSpPr>
                        <p:spPr>
                          <a:xfrm rot="1408800">
                            <a:off x="7535160" y="2605680"/>
                            <a:ext cx="793800" cy="313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384" h="2857">
                                <a:moveTo>
                                  <a:pt x="0" y="2050"/>
                                </a:moveTo>
                                <a:lnTo>
                                  <a:pt x="1608" y="2857"/>
                                </a:lnTo>
                                <a:lnTo>
                                  <a:pt x="1863" y="2620"/>
                                </a:lnTo>
                                <a:lnTo>
                                  <a:pt x="2103" y="2399"/>
                                </a:lnTo>
                                <a:lnTo>
                                  <a:pt x="2334" y="2197"/>
                                </a:lnTo>
                                <a:lnTo>
                                  <a:pt x="2595" y="1984"/>
                                </a:lnTo>
                                <a:lnTo>
                                  <a:pt x="2786" y="1831"/>
                                </a:lnTo>
                                <a:lnTo>
                                  <a:pt x="3055" y="1638"/>
                                </a:lnTo>
                                <a:lnTo>
                                  <a:pt x="3334" y="1436"/>
                                </a:lnTo>
                                <a:lnTo>
                                  <a:pt x="3565" y="1263"/>
                                </a:lnTo>
                                <a:lnTo>
                                  <a:pt x="3776" y="1120"/>
                                </a:lnTo>
                                <a:lnTo>
                                  <a:pt x="3980" y="984"/>
                                </a:lnTo>
                                <a:lnTo>
                                  <a:pt x="4181" y="849"/>
                                </a:lnTo>
                                <a:lnTo>
                                  <a:pt x="4384" y="723"/>
                                </a:lnTo>
                                <a:lnTo>
                                  <a:pt x="2938" y="0"/>
                                </a:lnTo>
                                <a:lnTo>
                                  <a:pt x="2700" y="137"/>
                                </a:lnTo>
                                <a:lnTo>
                                  <a:pt x="2459" y="291"/>
                                </a:lnTo>
                                <a:lnTo>
                                  <a:pt x="2276" y="416"/>
                                </a:lnTo>
                                <a:lnTo>
                                  <a:pt x="2085" y="570"/>
                                </a:lnTo>
                                <a:lnTo>
                                  <a:pt x="1881" y="733"/>
                                </a:lnTo>
                                <a:lnTo>
                                  <a:pt x="1680" y="906"/>
                                </a:lnTo>
                                <a:lnTo>
                                  <a:pt x="1363" y="1100"/>
                                </a:lnTo>
                                <a:lnTo>
                                  <a:pt x="1084" y="1273"/>
                                </a:lnTo>
                                <a:lnTo>
                                  <a:pt x="823" y="1426"/>
                                </a:lnTo>
                                <a:lnTo>
                                  <a:pt x="534" y="1630"/>
                                </a:lnTo>
                                <a:lnTo>
                                  <a:pt x="275" y="1821"/>
                                </a:lnTo>
                                <a:lnTo>
                                  <a:pt x="0" y="205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ffd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1" name=""/>
                          <p:cNvSpPr/>
                          <p:nvPr/>
                        </p:nvSpPr>
                        <p:spPr>
                          <a:xfrm rot="1408800">
                            <a:off x="7538760" y="2597760"/>
                            <a:ext cx="793800" cy="313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384" h="2857">
                                <a:moveTo>
                                  <a:pt x="0" y="2052"/>
                                </a:moveTo>
                                <a:lnTo>
                                  <a:pt x="1608" y="2857"/>
                                </a:lnTo>
                                <a:lnTo>
                                  <a:pt x="1863" y="2622"/>
                                </a:lnTo>
                                <a:lnTo>
                                  <a:pt x="2103" y="2399"/>
                                </a:lnTo>
                                <a:lnTo>
                                  <a:pt x="2334" y="2198"/>
                                </a:lnTo>
                                <a:lnTo>
                                  <a:pt x="2595" y="1987"/>
                                </a:lnTo>
                                <a:lnTo>
                                  <a:pt x="2786" y="1831"/>
                                </a:lnTo>
                                <a:lnTo>
                                  <a:pt x="3055" y="1640"/>
                                </a:lnTo>
                                <a:lnTo>
                                  <a:pt x="3334" y="1437"/>
                                </a:lnTo>
                                <a:lnTo>
                                  <a:pt x="3565" y="1263"/>
                                </a:lnTo>
                                <a:lnTo>
                                  <a:pt x="3776" y="1120"/>
                                </a:lnTo>
                                <a:lnTo>
                                  <a:pt x="3980" y="984"/>
                                </a:lnTo>
                                <a:lnTo>
                                  <a:pt x="4181" y="851"/>
                                </a:lnTo>
                                <a:lnTo>
                                  <a:pt x="4384" y="723"/>
                                </a:lnTo>
                                <a:lnTo>
                                  <a:pt x="2938" y="0"/>
                                </a:lnTo>
                                <a:lnTo>
                                  <a:pt x="2700" y="138"/>
                                </a:lnTo>
                                <a:lnTo>
                                  <a:pt x="2459" y="293"/>
                                </a:lnTo>
                                <a:lnTo>
                                  <a:pt x="2276" y="417"/>
                                </a:lnTo>
                                <a:lnTo>
                                  <a:pt x="2085" y="572"/>
                                </a:lnTo>
                                <a:lnTo>
                                  <a:pt x="1881" y="735"/>
                                </a:lnTo>
                                <a:lnTo>
                                  <a:pt x="1680" y="909"/>
                                </a:lnTo>
                                <a:lnTo>
                                  <a:pt x="1363" y="1100"/>
                                </a:lnTo>
                                <a:lnTo>
                                  <a:pt x="1084" y="1273"/>
                                </a:lnTo>
                                <a:lnTo>
                                  <a:pt x="823" y="1429"/>
                                </a:lnTo>
                                <a:lnTo>
                                  <a:pt x="534" y="1630"/>
                                </a:lnTo>
                                <a:lnTo>
                                  <a:pt x="275" y="1823"/>
                                </a:lnTo>
                                <a:lnTo>
                                  <a:pt x="0" y="205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2" name=""/>
                          <p:cNvSpPr/>
                          <p:nvPr/>
                        </p:nvSpPr>
                        <p:spPr>
                          <a:xfrm rot="1408800">
                            <a:off x="7542000" y="2590200"/>
                            <a:ext cx="793800" cy="313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384" h="2858">
                                <a:moveTo>
                                  <a:pt x="0" y="2053"/>
                                </a:moveTo>
                                <a:lnTo>
                                  <a:pt x="1608" y="2858"/>
                                </a:lnTo>
                                <a:lnTo>
                                  <a:pt x="1863" y="2622"/>
                                </a:lnTo>
                                <a:lnTo>
                                  <a:pt x="2103" y="2401"/>
                                </a:lnTo>
                                <a:lnTo>
                                  <a:pt x="2334" y="2198"/>
                                </a:lnTo>
                                <a:lnTo>
                                  <a:pt x="2595" y="1987"/>
                                </a:lnTo>
                                <a:lnTo>
                                  <a:pt x="2786" y="1833"/>
                                </a:lnTo>
                                <a:lnTo>
                                  <a:pt x="3055" y="1640"/>
                                </a:lnTo>
                                <a:lnTo>
                                  <a:pt x="3334" y="1439"/>
                                </a:lnTo>
                                <a:lnTo>
                                  <a:pt x="3565" y="1266"/>
                                </a:lnTo>
                                <a:lnTo>
                                  <a:pt x="3776" y="1120"/>
                                </a:lnTo>
                                <a:lnTo>
                                  <a:pt x="3980" y="987"/>
                                </a:lnTo>
                                <a:lnTo>
                                  <a:pt x="4181" y="851"/>
                                </a:lnTo>
                                <a:lnTo>
                                  <a:pt x="4384" y="724"/>
                                </a:lnTo>
                                <a:lnTo>
                                  <a:pt x="2938" y="0"/>
                                </a:lnTo>
                                <a:lnTo>
                                  <a:pt x="2700" y="140"/>
                                </a:lnTo>
                                <a:lnTo>
                                  <a:pt x="2459" y="293"/>
                                </a:lnTo>
                                <a:lnTo>
                                  <a:pt x="2276" y="419"/>
                                </a:lnTo>
                                <a:lnTo>
                                  <a:pt x="2085" y="572"/>
                                </a:lnTo>
                                <a:lnTo>
                                  <a:pt x="1881" y="736"/>
                                </a:lnTo>
                                <a:lnTo>
                                  <a:pt x="1680" y="909"/>
                                </a:lnTo>
                                <a:lnTo>
                                  <a:pt x="1363" y="1102"/>
                                </a:lnTo>
                                <a:lnTo>
                                  <a:pt x="1084" y="1276"/>
                                </a:lnTo>
                                <a:lnTo>
                                  <a:pt x="823" y="1429"/>
                                </a:lnTo>
                                <a:lnTo>
                                  <a:pt x="534" y="1630"/>
                                </a:lnTo>
                                <a:lnTo>
                                  <a:pt x="275" y="1823"/>
                                </a:lnTo>
                                <a:lnTo>
                                  <a:pt x="0" y="205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ffd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3" name=""/>
                          <p:cNvSpPr/>
                          <p:nvPr/>
                        </p:nvSpPr>
                        <p:spPr>
                          <a:xfrm rot="1408800">
                            <a:off x="7545240" y="2582280"/>
                            <a:ext cx="793800" cy="313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384" h="2857">
                                <a:moveTo>
                                  <a:pt x="0" y="2050"/>
                                </a:moveTo>
                                <a:lnTo>
                                  <a:pt x="1608" y="2857"/>
                                </a:lnTo>
                                <a:lnTo>
                                  <a:pt x="1863" y="2620"/>
                                </a:lnTo>
                                <a:lnTo>
                                  <a:pt x="2103" y="2399"/>
                                </a:lnTo>
                                <a:lnTo>
                                  <a:pt x="2334" y="2197"/>
                                </a:lnTo>
                                <a:lnTo>
                                  <a:pt x="2595" y="1984"/>
                                </a:lnTo>
                                <a:lnTo>
                                  <a:pt x="2786" y="1831"/>
                                </a:lnTo>
                                <a:lnTo>
                                  <a:pt x="3055" y="1639"/>
                                </a:lnTo>
                                <a:lnTo>
                                  <a:pt x="3334" y="1436"/>
                                </a:lnTo>
                                <a:lnTo>
                                  <a:pt x="3565" y="1263"/>
                                </a:lnTo>
                                <a:lnTo>
                                  <a:pt x="3776" y="1119"/>
                                </a:lnTo>
                                <a:lnTo>
                                  <a:pt x="3980" y="984"/>
                                </a:lnTo>
                                <a:lnTo>
                                  <a:pt x="4181" y="848"/>
                                </a:lnTo>
                                <a:lnTo>
                                  <a:pt x="4384" y="723"/>
                                </a:lnTo>
                                <a:lnTo>
                                  <a:pt x="2938" y="0"/>
                                </a:lnTo>
                                <a:lnTo>
                                  <a:pt x="2700" y="137"/>
                                </a:lnTo>
                                <a:lnTo>
                                  <a:pt x="2459" y="291"/>
                                </a:lnTo>
                                <a:lnTo>
                                  <a:pt x="2276" y="416"/>
                                </a:lnTo>
                                <a:lnTo>
                                  <a:pt x="2085" y="570"/>
                                </a:lnTo>
                                <a:lnTo>
                                  <a:pt x="1881" y="733"/>
                                </a:lnTo>
                                <a:lnTo>
                                  <a:pt x="1680" y="906"/>
                                </a:lnTo>
                                <a:lnTo>
                                  <a:pt x="1363" y="1099"/>
                                </a:lnTo>
                                <a:lnTo>
                                  <a:pt x="1084" y="1273"/>
                                </a:lnTo>
                                <a:lnTo>
                                  <a:pt x="823" y="1426"/>
                                </a:lnTo>
                                <a:lnTo>
                                  <a:pt x="534" y="1629"/>
                                </a:lnTo>
                                <a:lnTo>
                                  <a:pt x="275" y="1821"/>
                                </a:lnTo>
                                <a:lnTo>
                                  <a:pt x="0" y="205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4" name=""/>
                          <p:cNvSpPr/>
                          <p:nvPr/>
                        </p:nvSpPr>
                        <p:spPr>
                          <a:xfrm rot="1408800">
                            <a:off x="7548840" y="2574720"/>
                            <a:ext cx="793800" cy="313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384" h="2857">
                                <a:moveTo>
                                  <a:pt x="0" y="2052"/>
                                </a:moveTo>
                                <a:lnTo>
                                  <a:pt x="1608" y="2857"/>
                                </a:lnTo>
                                <a:lnTo>
                                  <a:pt x="1863" y="2622"/>
                                </a:lnTo>
                                <a:lnTo>
                                  <a:pt x="2103" y="2401"/>
                                </a:lnTo>
                                <a:lnTo>
                                  <a:pt x="2334" y="2198"/>
                                </a:lnTo>
                                <a:lnTo>
                                  <a:pt x="2595" y="1986"/>
                                </a:lnTo>
                                <a:lnTo>
                                  <a:pt x="2786" y="1831"/>
                                </a:lnTo>
                                <a:lnTo>
                                  <a:pt x="3055" y="1640"/>
                                </a:lnTo>
                                <a:lnTo>
                                  <a:pt x="3334" y="1437"/>
                                </a:lnTo>
                                <a:lnTo>
                                  <a:pt x="3565" y="1263"/>
                                </a:lnTo>
                                <a:lnTo>
                                  <a:pt x="3776" y="1120"/>
                                </a:lnTo>
                                <a:lnTo>
                                  <a:pt x="3980" y="984"/>
                                </a:lnTo>
                                <a:lnTo>
                                  <a:pt x="4181" y="851"/>
                                </a:lnTo>
                                <a:lnTo>
                                  <a:pt x="4384" y="723"/>
                                </a:lnTo>
                                <a:lnTo>
                                  <a:pt x="2938" y="0"/>
                                </a:lnTo>
                                <a:lnTo>
                                  <a:pt x="2700" y="137"/>
                                </a:lnTo>
                                <a:lnTo>
                                  <a:pt x="2459" y="293"/>
                                </a:lnTo>
                                <a:lnTo>
                                  <a:pt x="2276" y="416"/>
                                </a:lnTo>
                                <a:lnTo>
                                  <a:pt x="2085" y="572"/>
                                </a:lnTo>
                                <a:lnTo>
                                  <a:pt x="1881" y="735"/>
                                </a:lnTo>
                                <a:lnTo>
                                  <a:pt x="1680" y="909"/>
                                </a:lnTo>
                                <a:lnTo>
                                  <a:pt x="1363" y="1100"/>
                                </a:lnTo>
                                <a:lnTo>
                                  <a:pt x="1084" y="1273"/>
                                </a:lnTo>
                                <a:lnTo>
                                  <a:pt x="823" y="1429"/>
                                </a:lnTo>
                                <a:lnTo>
                                  <a:pt x="534" y="1630"/>
                                </a:lnTo>
                                <a:lnTo>
                                  <a:pt x="275" y="1823"/>
                                </a:lnTo>
                                <a:lnTo>
                                  <a:pt x="0" y="205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ffd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5" name=""/>
                          <p:cNvSpPr/>
                          <p:nvPr/>
                        </p:nvSpPr>
                        <p:spPr>
                          <a:xfrm rot="1408800">
                            <a:off x="7552080" y="2566800"/>
                            <a:ext cx="793800" cy="313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384" h="2857">
                                <a:moveTo>
                                  <a:pt x="0" y="2052"/>
                                </a:moveTo>
                                <a:lnTo>
                                  <a:pt x="1608" y="2857"/>
                                </a:lnTo>
                                <a:lnTo>
                                  <a:pt x="1863" y="2622"/>
                                </a:lnTo>
                                <a:lnTo>
                                  <a:pt x="2103" y="2401"/>
                                </a:lnTo>
                                <a:lnTo>
                                  <a:pt x="2334" y="2198"/>
                                </a:lnTo>
                                <a:lnTo>
                                  <a:pt x="2595" y="1987"/>
                                </a:lnTo>
                                <a:lnTo>
                                  <a:pt x="2786" y="1833"/>
                                </a:lnTo>
                                <a:lnTo>
                                  <a:pt x="3055" y="1640"/>
                                </a:lnTo>
                                <a:lnTo>
                                  <a:pt x="3334" y="1439"/>
                                </a:lnTo>
                                <a:lnTo>
                                  <a:pt x="3565" y="1265"/>
                                </a:lnTo>
                                <a:lnTo>
                                  <a:pt x="3776" y="1120"/>
                                </a:lnTo>
                                <a:lnTo>
                                  <a:pt x="3980" y="987"/>
                                </a:lnTo>
                                <a:lnTo>
                                  <a:pt x="4181" y="851"/>
                                </a:lnTo>
                                <a:lnTo>
                                  <a:pt x="4384" y="724"/>
                                </a:lnTo>
                                <a:lnTo>
                                  <a:pt x="2938" y="0"/>
                                </a:lnTo>
                                <a:lnTo>
                                  <a:pt x="2700" y="140"/>
                                </a:lnTo>
                                <a:lnTo>
                                  <a:pt x="2459" y="293"/>
                                </a:lnTo>
                                <a:lnTo>
                                  <a:pt x="2276" y="419"/>
                                </a:lnTo>
                                <a:lnTo>
                                  <a:pt x="2085" y="572"/>
                                </a:lnTo>
                                <a:lnTo>
                                  <a:pt x="1881" y="735"/>
                                </a:lnTo>
                                <a:lnTo>
                                  <a:pt x="1680" y="909"/>
                                </a:lnTo>
                                <a:lnTo>
                                  <a:pt x="1363" y="1102"/>
                                </a:lnTo>
                                <a:lnTo>
                                  <a:pt x="1084" y="1275"/>
                                </a:lnTo>
                                <a:lnTo>
                                  <a:pt x="823" y="1429"/>
                                </a:lnTo>
                                <a:lnTo>
                                  <a:pt x="534" y="1630"/>
                                </a:lnTo>
                                <a:lnTo>
                                  <a:pt x="275" y="1823"/>
                                </a:lnTo>
                                <a:lnTo>
                                  <a:pt x="0" y="205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6" name=""/>
                          <p:cNvSpPr/>
                          <p:nvPr/>
                        </p:nvSpPr>
                        <p:spPr>
                          <a:xfrm rot="1408800">
                            <a:off x="7555320" y="2559240"/>
                            <a:ext cx="793800" cy="313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384" h="2857">
                                <a:moveTo>
                                  <a:pt x="0" y="2052"/>
                                </a:moveTo>
                                <a:lnTo>
                                  <a:pt x="1608" y="2857"/>
                                </a:lnTo>
                                <a:lnTo>
                                  <a:pt x="1863" y="2620"/>
                                </a:lnTo>
                                <a:lnTo>
                                  <a:pt x="2103" y="2398"/>
                                </a:lnTo>
                                <a:lnTo>
                                  <a:pt x="2334" y="2197"/>
                                </a:lnTo>
                                <a:lnTo>
                                  <a:pt x="2595" y="1984"/>
                                </a:lnTo>
                                <a:lnTo>
                                  <a:pt x="2786" y="1831"/>
                                </a:lnTo>
                                <a:lnTo>
                                  <a:pt x="3055" y="1639"/>
                                </a:lnTo>
                                <a:lnTo>
                                  <a:pt x="3334" y="1436"/>
                                </a:lnTo>
                                <a:lnTo>
                                  <a:pt x="3565" y="1263"/>
                                </a:lnTo>
                                <a:lnTo>
                                  <a:pt x="3776" y="1119"/>
                                </a:lnTo>
                                <a:lnTo>
                                  <a:pt x="3980" y="984"/>
                                </a:lnTo>
                                <a:lnTo>
                                  <a:pt x="4181" y="848"/>
                                </a:lnTo>
                                <a:lnTo>
                                  <a:pt x="4384" y="723"/>
                                </a:lnTo>
                                <a:lnTo>
                                  <a:pt x="2938" y="0"/>
                                </a:lnTo>
                                <a:lnTo>
                                  <a:pt x="2700" y="137"/>
                                </a:lnTo>
                                <a:lnTo>
                                  <a:pt x="2459" y="290"/>
                                </a:lnTo>
                                <a:lnTo>
                                  <a:pt x="2276" y="416"/>
                                </a:lnTo>
                                <a:lnTo>
                                  <a:pt x="2085" y="569"/>
                                </a:lnTo>
                                <a:lnTo>
                                  <a:pt x="1881" y="733"/>
                                </a:lnTo>
                                <a:lnTo>
                                  <a:pt x="1680" y="906"/>
                                </a:lnTo>
                                <a:lnTo>
                                  <a:pt x="1363" y="1099"/>
                                </a:lnTo>
                                <a:lnTo>
                                  <a:pt x="1084" y="1273"/>
                                </a:lnTo>
                                <a:lnTo>
                                  <a:pt x="823" y="1426"/>
                                </a:lnTo>
                                <a:lnTo>
                                  <a:pt x="534" y="1629"/>
                                </a:lnTo>
                                <a:lnTo>
                                  <a:pt x="275" y="1821"/>
                                </a:lnTo>
                                <a:lnTo>
                                  <a:pt x="0" y="205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ffd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7" name=""/>
                          <p:cNvSpPr/>
                          <p:nvPr/>
                        </p:nvSpPr>
                        <p:spPr>
                          <a:xfrm rot="1408800">
                            <a:off x="7558920" y="2551320"/>
                            <a:ext cx="793800" cy="313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384" h="2857">
                                <a:moveTo>
                                  <a:pt x="0" y="2052"/>
                                </a:moveTo>
                                <a:lnTo>
                                  <a:pt x="1608" y="2857"/>
                                </a:lnTo>
                                <a:lnTo>
                                  <a:pt x="1863" y="2622"/>
                                </a:lnTo>
                                <a:lnTo>
                                  <a:pt x="2103" y="2401"/>
                                </a:lnTo>
                                <a:lnTo>
                                  <a:pt x="2334" y="2197"/>
                                </a:lnTo>
                                <a:lnTo>
                                  <a:pt x="2595" y="1986"/>
                                </a:lnTo>
                                <a:lnTo>
                                  <a:pt x="2786" y="1833"/>
                                </a:lnTo>
                                <a:lnTo>
                                  <a:pt x="3055" y="1640"/>
                                </a:lnTo>
                                <a:lnTo>
                                  <a:pt x="3334" y="1436"/>
                                </a:lnTo>
                                <a:lnTo>
                                  <a:pt x="3565" y="1265"/>
                                </a:lnTo>
                                <a:lnTo>
                                  <a:pt x="3776" y="1120"/>
                                </a:lnTo>
                                <a:lnTo>
                                  <a:pt x="3980" y="984"/>
                                </a:lnTo>
                                <a:lnTo>
                                  <a:pt x="4181" y="851"/>
                                </a:lnTo>
                                <a:lnTo>
                                  <a:pt x="4384" y="723"/>
                                </a:lnTo>
                                <a:lnTo>
                                  <a:pt x="2938" y="0"/>
                                </a:lnTo>
                                <a:lnTo>
                                  <a:pt x="2700" y="137"/>
                                </a:lnTo>
                                <a:lnTo>
                                  <a:pt x="2459" y="293"/>
                                </a:lnTo>
                                <a:lnTo>
                                  <a:pt x="2276" y="416"/>
                                </a:lnTo>
                                <a:lnTo>
                                  <a:pt x="2085" y="572"/>
                                </a:lnTo>
                                <a:lnTo>
                                  <a:pt x="1881" y="735"/>
                                </a:lnTo>
                                <a:lnTo>
                                  <a:pt x="1680" y="908"/>
                                </a:lnTo>
                                <a:lnTo>
                                  <a:pt x="1363" y="1100"/>
                                </a:lnTo>
                                <a:lnTo>
                                  <a:pt x="1084" y="1273"/>
                                </a:lnTo>
                                <a:lnTo>
                                  <a:pt x="823" y="1428"/>
                                </a:lnTo>
                                <a:lnTo>
                                  <a:pt x="534" y="1630"/>
                                </a:lnTo>
                                <a:lnTo>
                                  <a:pt x="275" y="1823"/>
                                </a:lnTo>
                                <a:lnTo>
                                  <a:pt x="0" y="205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8" name=""/>
                          <p:cNvSpPr/>
                          <p:nvPr/>
                        </p:nvSpPr>
                        <p:spPr>
                          <a:xfrm rot="1408800">
                            <a:off x="7562160" y="2543760"/>
                            <a:ext cx="793800" cy="313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384" h="2857">
                                <a:moveTo>
                                  <a:pt x="0" y="2052"/>
                                </a:moveTo>
                                <a:lnTo>
                                  <a:pt x="1608" y="2857"/>
                                </a:lnTo>
                                <a:lnTo>
                                  <a:pt x="1863" y="2622"/>
                                </a:lnTo>
                                <a:lnTo>
                                  <a:pt x="2103" y="2401"/>
                                </a:lnTo>
                                <a:lnTo>
                                  <a:pt x="2334" y="2198"/>
                                </a:lnTo>
                                <a:lnTo>
                                  <a:pt x="2595" y="1987"/>
                                </a:lnTo>
                                <a:lnTo>
                                  <a:pt x="2786" y="1833"/>
                                </a:lnTo>
                                <a:lnTo>
                                  <a:pt x="3055" y="1640"/>
                                </a:lnTo>
                                <a:lnTo>
                                  <a:pt x="3334" y="1439"/>
                                </a:lnTo>
                                <a:lnTo>
                                  <a:pt x="3565" y="1265"/>
                                </a:lnTo>
                                <a:lnTo>
                                  <a:pt x="3776" y="1120"/>
                                </a:lnTo>
                                <a:lnTo>
                                  <a:pt x="3980" y="986"/>
                                </a:lnTo>
                                <a:lnTo>
                                  <a:pt x="4181" y="851"/>
                                </a:lnTo>
                                <a:lnTo>
                                  <a:pt x="4384" y="725"/>
                                </a:lnTo>
                                <a:lnTo>
                                  <a:pt x="2938" y="0"/>
                                </a:lnTo>
                                <a:lnTo>
                                  <a:pt x="2700" y="140"/>
                                </a:lnTo>
                                <a:lnTo>
                                  <a:pt x="2459" y="293"/>
                                </a:lnTo>
                                <a:lnTo>
                                  <a:pt x="2276" y="419"/>
                                </a:lnTo>
                                <a:lnTo>
                                  <a:pt x="2085" y="572"/>
                                </a:lnTo>
                                <a:lnTo>
                                  <a:pt x="1881" y="735"/>
                                </a:lnTo>
                                <a:lnTo>
                                  <a:pt x="1680" y="909"/>
                                </a:lnTo>
                                <a:lnTo>
                                  <a:pt x="1363" y="1102"/>
                                </a:lnTo>
                                <a:lnTo>
                                  <a:pt x="1084" y="1275"/>
                                </a:lnTo>
                                <a:lnTo>
                                  <a:pt x="823" y="1429"/>
                                </a:lnTo>
                                <a:lnTo>
                                  <a:pt x="534" y="1630"/>
                                </a:lnTo>
                                <a:lnTo>
                                  <a:pt x="275" y="1823"/>
                                </a:lnTo>
                                <a:lnTo>
                                  <a:pt x="0" y="205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ffd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9" name=""/>
                          <p:cNvSpPr/>
                          <p:nvPr/>
                        </p:nvSpPr>
                        <p:spPr>
                          <a:xfrm rot="1408800">
                            <a:off x="7565400" y="2536200"/>
                            <a:ext cx="793800" cy="313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384" h="2858">
                                <a:moveTo>
                                  <a:pt x="0" y="2053"/>
                                </a:moveTo>
                                <a:lnTo>
                                  <a:pt x="1608" y="2858"/>
                                </a:lnTo>
                                <a:lnTo>
                                  <a:pt x="1863" y="2620"/>
                                </a:lnTo>
                                <a:lnTo>
                                  <a:pt x="2103" y="2399"/>
                                </a:lnTo>
                                <a:lnTo>
                                  <a:pt x="2334" y="2198"/>
                                </a:lnTo>
                                <a:lnTo>
                                  <a:pt x="2595" y="1987"/>
                                </a:lnTo>
                                <a:lnTo>
                                  <a:pt x="2786" y="1831"/>
                                </a:lnTo>
                                <a:lnTo>
                                  <a:pt x="3055" y="1640"/>
                                </a:lnTo>
                                <a:lnTo>
                                  <a:pt x="3334" y="1437"/>
                                </a:lnTo>
                                <a:lnTo>
                                  <a:pt x="3565" y="1264"/>
                                </a:lnTo>
                                <a:lnTo>
                                  <a:pt x="3776" y="1120"/>
                                </a:lnTo>
                                <a:lnTo>
                                  <a:pt x="3980" y="985"/>
                                </a:lnTo>
                                <a:lnTo>
                                  <a:pt x="4181" y="851"/>
                                </a:lnTo>
                                <a:lnTo>
                                  <a:pt x="4384" y="724"/>
                                </a:lnTo>
                                <a:lnTo>
                                  <a:pt x="2938" y="0"/>
                                </a:lnTo>
                                <a:lnTo>
                                  <a:pt x="2700" y="138"/>
                                </a:lnTo>
                                <a:lnTo>
                                  <a:pt x="2459" y="291"/>
                                </a:lnTo>
                                <a:lnTo>
                                  <a:pt x="2276" y="417"/>
                                </a:lnTo>
                                <a:lnTo>
                                  <a:pt x="2085" y="570"/>
                                </a:lnTo>
                                <a:lnTo>
                                  <a:pt x="1881" y="736"/>
                                </a:lnTo>
                                <a:lnTo>
                                  <a:pt x="1680" y="909"/>
                                </a:lnTo>
                                <a:lnTo>
                                  <a:pt x="1363" y="1100"/>
                                </a:lnTo>
                                <a:lnTo>
                                  <a:pt x="1084" y="1274"/>
                                </a:lnTo>
                                <a:lnTo>
                                  <a:pt x="823" y="1427"/>
                                </a:lnTo>
                                <a:lnTo>
                                  <a:pt x="534" y="1630"/>
                                </a:lnTo>
                                <a:lnTo>
                                  <a:pt x="275" y="1822"/>
                                </a:lnTo>
                                <a:lnTo>
                                  <a:pt x="0" y="205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0" name=""/>
                          <p:cNvSpPr/>
                          <p:nvPr/>
                        </p:nvSpPr>
                        <p:spPr>
                          <a:xfrm rot="1408800">
                            <a:off x="7569000" y="2528280"/>
                            <a:ext cx="793800" cy="313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384" h="2857">
                                <a:moveTo>
                                  <a:pt x="0" y="2052"/>
                                </a:moveTo>
                                <a:lnTo>
                                  <a:pt x="1608" y="2857"/>
                                </a:lnTo>
                                <a:lnTo>
                                  <a:pt x="1863" y="2622"/>
                                </a:lnTo>
                                <a:lnTo>
                                  <a:pt x="2103" y="2401"/>
                                </a:lnTo>
                                <a:lnTo>
                                  <a:pt x="2334" y="2197"/>
                                </a:lnTo>
                                <a:lnTo>
                                  <a:pt x="2595" y="1986"/>
                                </a:lnTo>
                                <a:lnTo>
                                  <a:pt x="2786" y="1833"/>
                                </a:lnTo>
                                <a:lnTo>
                                  <a:pt x="3055" y="1639"/>
                                </a:lnTo>
                                <a:lnTo>
                                  <a:pt x="3334" y="1438"/>
                                </a:lnTo>
                                <a:lnTo>
                                  <a:pt x="3565" y="1265"/>
                                </a:lnTo>
                                <a:lnTo>
                                  <a:pt x="3776" y="1119"/>
                                </a:lnTo>
                                <a:lnTo>
                                  <a:pt x="3980" y="986"/>
                                </a:lnTo>
                                <a:lnTo>
                                  <a:pt x="4181" y="851"/>
                                </a:lnTo>
                                <a:lnTo>
                                  <a:pt x="4384" y="723"/>
                                </a:lnTo>
                                <a:lnTo>
                                  <a:pt x="2938" y="0"/>
                                </a:lnTo>
                                <a:lnTo>
                                  <a:pt x="2700" y="137"/>
                                </a:lnTo>
                                <a:lnTo>
                                  <a:pt x="2459" y="293"/>
                                </a:lnTo>
                                <a:lnTo>
                                  <a:pt x="2276" y="416"/>
                                </a:lnTo>
                                <a:lnTo>
                                  <a:pt x="2085" y="572"/>
                                </a:lnTo>
                                <a:lnTo>
                                  <a:pt x="1881" y="735"/>
                                </a:lnTo>
                                <a:lnTo>
                                  <a:pt x="1680" y="908"/>
                                </a:lnTo>
                                <a:lnTo>
                                  <a:pt x="1363" y="1100"/>
                                </a:lnTo>
                                <a:lnTo>
                                  <a:pt x="1084" y="1273"/>
                                </a:lnTo>
                                <a:lnTo>
                                  <a:pt x="823" y="1428"/>
                                </a:lnTo>
                                <a:lnTo>
                                  <a:pt x="534" y="1630"/>
                                </a:lnTo>
                                <a:lnTo>
                                  <a:pt x="275" y="1823"/>
                                </a:lnTo>
                                <a:lnTo>
                                  <a:pt x="0" y="205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ffd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1" name=""/>
                          <p:cNvSpPr/>
                          <p:nvPr/>
                        </p:nvSpPr>
                        <p:spPr>
                          <a:xfrm rot="1408800">
                            <a:off x="7572240" y="2520360"/>
                            <a:ext cx="793800" cy="313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384" h="2855">
                                <a:moveTo>
                                  <a:pt x="0" y="2050"/>
                                </a:moveTo>
                                <a:lnTo>
                                  <a:pt x="1608" y="2855"/>
                                </a:lnTo>
                                <a:lnTo>
                                  <a:pt x="1863" y="2620"/>
                                </a:lnTo>
                                <a:lnTo>
                                  <a:pt x="2103" y="2399"/>
                                </a:lnTo>
                                <a:lnTo>
                                  <a:pt x="2334" y="2198"/>
                                </a:lnTo>
                                <a:lnTo>
                                  <a:pt x="2595" y="1984"/>
                                </a:lnTo>
                                <a:lnTo>
                                  <a:pt x="2786" y="1831"/>
                                </a:lnTo>
                                <a:lnTo>
                                  <a:pt x="3055" y="1638"/>
                                </a:lnTo>
                                <a:lnTo>
                                  <a:pt x="3334" y="1437"/>
                                </a:lnTo>
                                <a:lnTo>
                                  <a:pt x="3565" y="1263"/>
                                </a:lnTo>
                                <a:lnTo>
                                  <a:pt x="3776" y="1118"/>
                                </a:lnTo>
                                <a:lnTo>
                                  <a:pt x="3980" y="984"/>
                                </a:lnTo>
                                <a:lnTo>
                                  <a:pt x="4181" y="849"/>
                                </a:lnTo>
                                <a:lnTo>
                                  <a:pt x="4384" y="723"/>
                                </a:lnTo>
                                <a:lnTo>
                                  <a:pt x="2938" y="0"/>
                                </a:lnTo>
                                <a:lnTo>
                                  <a:pt x="2700" y="138"/>
                                </a:lnTo>
                                <a:lnTo>
                                  <a:pt x="2459" y="291"/>
                                </a:lnTo>
                                <a:lnTo>
                                  <a:pt x="2276" y="416"/>
                                </a:lnTo>
                                <a:lnTo>
                                  <a:pt x="2085" y="570"/>
                                </a:lnTo>
                                <a:lnTo>
                                  <a:pt x="1881" y="733"/>
                                </a:lnTo>
                                <a:lnTo>
                                  <a:pt x="1680" y="907"/>
                                </a:lnTo>
                                <a:lnTo>
                                  <a:pt x="1363" y="1100"/>
                                </a:lnTo>
                                <a:lnTo>
                                  <a:pt x="1084" y="1259"/>
                                </a:lnTo>
                                <a:lnTo>
                                  <a:pt x="823" y="1427"/>
                                </a:lnTo>
                                <a:lnTo>
                                  <a:pt x="534" y="1630"/>
                                </a:lnTo>
                                <a:lnTo>
                                  <a:pt x="275" y="1821"/>
                                </a:lnTo>
                                <a:lnTo>
                                  <a:pt x="0" y="205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02" name=""/>
                        <p:cNvGrpSpPr/>
                        <p:nvPr/>
                      </p:nvGrpSpPr>
                      <p:grpSpPr>
                        <a:xfrm>
                          <a:off x="7617960" y="2426760"/>
                          <a:ext cx="703080" cy="497520"/>
                          <a:chOff x="7617960" y="2426760"/>
                          <a:chExt cx="703080" cy="497520"/>
                        </a:xfrm>
                      </p:grpSpPr>
                      <p:sp>
                        <p:nvSpPr>
                          <p:cNvPr id="703" name=""/>
                          <p:cNvSpPr/>
                          <p:nvPr/>
                        </p:nvSpPr>
                        <p:spPr>
                          <a:xfrm rot="1408800">
                            <a:off x="7642080" y="2546280"/>
                            <a:ext cx="654480" cy="258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15" h="2355">
                                <a:moveTo>
                                  <a:pt x="0" y="1690"/>
                                </a:moveTo>
                                <a:lnTo>
                                  <a:pt x="1325" y="2355"/>
                                </a:lnTo>
                                <a:lnTo>
                                  <a:pt x="1536" y="2160"/>
                                </a:lnTo>
                                <a:lnTo>
                                  <a:pt x="1733" y="1977"/>
                                </a:lnTo>
                                <a:lnTo>
                                  <a:pt x="1923" y="1811"/>
                                </a:lnTo>
                                <a:lnTo>
                                  <a:pt x="2138" y="1638"/>
                                </a:lnTo>
                                <a:lnTo>
                                  <a:pt x="2295" y="1508"/>
                                </a:lnTo>
                                <a:lnTo>
                                  <a:pt x="2519" y="1351"/>
                                </a:lnTo>
                                <a:lnTo>
                                  <a:pt x="2748" y="1186"/>
                                </a:lnTo>
                                <a:lnTo>
                                  <a:pt x="2939" y="1040"/>
                                </a:lnTo>
                                <a:lnTo>
                                  <a:pt x="3112" y="923"/>
                                </a:lnTo>
                                <a:lnTo>
                                  <a:pt x="3280" y="811"/>
                                </a:lnTo>
                                <a:lnTo>
                                  <a:pt x="3447" y="701"/>
                                </a:lnTo>
                                <a:lnTo>
                                  <a:pt x="3615" y="594"/>
                                </a:lnTo>
                                <a:lnTo>
                                  <a:pt x="2421" y="0"/>
                                </a:lnTo>
                                <a:lnTo>
                                  <a:pt x="2226" y="112"/>
                                </a:lnTo>
                                <a:lnTo>
                                  <a:pt x="2026" y="239"/>
                                </a:lnTo>
                                <a:lnTo>
                                  <a:pt x="1875" y="343"/>
                                </a:lnTo>
                                <a:lnTo>
                                  <a:pt x="1718" y="470"/>
                                </a:lnTo>
                                <a:lnTo>
                                  <a:pt x="1550" y="604"/>
                                </a:lnTo>
                                <a:lnTo>
                                  <a:pt x="1385" y="747"/>
                                </a:lnTo>
                                <a:lnTo>
                                  <a:pt x="1122" y="907"/>
                                </a:lnTo>
                                <a:lnTo>
                                  <a:pt x="918" y="1022"/>
                                </a:lnTo>
                                <a:lnTo>
                                  <a:pt x="677" y="1178"/>
                                </a:lnTo>
                                <a:lnTo>
                                  <a:pt x="440" y="1343"/>
                                </a:lnTo>
                                <a:lnTo>
                                  <a:pt x="225" y="1500"/>
                                </a:lnTo>
                                <a:lnTo>
                                  <a:pt x="0" y="1690"/>
                                </a:lnTo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4" name=""/>
                          <p:cNvSpPr/>
                          <p:nvPr/>
                        </p:nvSpPr>
                        <p:spPr>
                          <a:xfrm rot="1408800">
                            <a:off x="7663320" y="2553840"/>
                            <a:ext cx="614520" cy="243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94" h="2221">
                                <a:moveTo>
                                  <a:pt x="0" y="1612"/>
                                </a:moveTo>
                                <a:lnTo>
                                  <a:pt x="1206" y="2221"/>
                                </a:lnTo>
                                <a:lnTo>
                                  <a:pt x="1407" y="2022"/>
                                </a:lnTo>
                                <a:lnTo>
                                  <a:pt x="1624" y="1831"/>
                                </a:lnTo>
                                <a:lnTo>
                                  <a:pt x="1796" y="1679"/>
                                </a:lnTo>
                                <a:lnTo>
                                  <a:pt x="1989" y="1524"/>
                                </a:lnTo>
                                <a:lnTo>
                                  <a:pt x="2131" y="1409"/>
                                </a:lnTo>
                                <a:lnTo>
                                  <a:pt x="2332" y="1267"/>
                                </a:lnTo>
                                <a:lnTo>
                                  <a:pt x="2537" y="1118"/>
                                </a:lnTo>
                                <a:lnTo>
                                  <a:pt x="2711" y="988"/>
                                </a:lnTo>
                                <a:lnTo>
                                  <a:pt x="2868" y="881"/>
                                </a:lnTo>
                                <a:lnTo>
                                  <a:pt x="3017" y="781"/>
                                </a:lnTo>
                                <a:lnTo>
                                  <a:pt x="3195" y="667"/>
                                </a:lnTo>
                                <a:lnTo>
                                  <a:pt x="3394" y="536"/>
                                </a:lnTo>
                                <a:lnTo>
                                  <a:pt x="2308" y="0"/>
                                </a:lnTo>
                                <a:lnTo>
                                  <a:pt x="2119" y="113"/>
                                </a:lnTo>
                                <a:lnTo>
                                  <a:pt x="1927" y="229"/>
                                </a:lnTo>
                                <a:lnTo>
                                  <a:pt x="1752" y="359"/>
                                </a:lnTo>
                                <a:lnTo>
                                  <a:pt x="1610" y="472"/>
                                </a:lnTo>
                                <a:lnTo>
                                  <a:pt x="1459" y="594"/>
                                </a:lnTo>
                                <a:lnTo>
                                  <a:pt x="1312" y="723"/>
                                </a:lnTo>
                                <a:lnTo>
                                  <a:pt x="1074" y="865"/>
                                </a:lnTo>
                                <a:lnTo>
                                  <a:pt x="891" y="972"/>
                                </a:lnTo>
                                <a:lnTo>
                                  <a:pt x="674" y="1110"/>
                                </a:lnTo>
                                <a:lnTo>
                                  <a:pt x="473" y="1261"/>
                                </a:lnTo>
                                <a:lnTo>
                                  <a:pt x="265" y="1414"/>
                                </a:lnTo>
                                <a:lnTo>
                                  <a:pt x="0" y="161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ffff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05" name=""/>
                      <p:cNvGrpSpPr/>
                      <p:nvPr/>
                    </p:nvGrpSpPr>
                    <p:grpSpPr>
                      <a:xfrm>
                        <a:off x="7692480" y="2608560"/>
                        <a:ext cx="561960" cy="132120"/>
                        <a:chOff x="7692480" y="2608560"/>
                        <a:chExt cx="561960" cy="132120"/>
                      </a:xfrm>
                    </p:grpSpPr>
                    <p:grpSp>
                      <p:nvGrpSpPr>
                        <p:cNvPr id="706" name=""/>
                        <p:cNvGrpSpPr/>
                        <p:nvPr/>
                      </p:nvGrpSpPr>
                      <p:grpSpPr>
                        <a:xfrm>
                          <a:off x="7692480" y="2612520"/>
                          <a:ext cx="62640" cy="9360"/>
                          <a:chOff x="7692480" y="2612520"/>
                          <a:chExt cx="62640" cy="9360"/>
                        </a:xfrm>
                      </p:grpSpPr>
                      <p:sp>
                        <p:nvSpPr>
                          <p:cNvPr id="707" name=""/>
                          <p:cNvSpPr/>
                          <p:nvPr/>
                        </p:nvSpPr>
                        <p:spPr>
                          <a:xfrm flipV="1">
                            <a:off x="7692480" y="2612520"/>
                            <a:ext cx="52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8" name=""/>
                          <p:cNvSpPr/>
                          <p:nvPr/>
                        </p:nvSpPr>
                        <p:spPr>
                          <a:xfrm flipV="1">
                            <a:off x="7701840" y="2620440"/>
                            <a:ext cx="53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09" name=""/>
                        <p:cNvGrpSpPr/>
                        <p:nvPr/>
                      </p:nvGrpSpPr>
                      <p:grpSpPr>
                        <a:xfrm>
                          <a:off x="7831800" y="2725560"/>
                          <a:ext cx="59400" cy="15120"/>
                          <a:chOff x="7831800" y="2725560"/>
                          <a:chExt cx="59400" cy="15120"/>
                        </a:xfrm>
                      </p:grpSpPr>
                      <p:sp>
                        <p:nvSpPr>
                          <p:cNvPr id="710" name=""/>
                          <p:cNvSpPr/>
                          <p:nvPr/>
                        </p:nvSpPr>
                        <p:spPr>
                          <a:xfrm flipV="1">
                            <a:off x="7831800" y="2725560"/>
                            <a:ext cx="47520" cy="5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760" bIns="-41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11" name=""/>
                          <p:cNvSpPr/>
                          <p:nvPr/>
                        </p:nvSpPr>
                        <p:spPr>
                          <a:xfrm flipV="1">
                            <a:off x="7842960" y="2735640"/>
                            <a:ext cx="48240" cy="5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760" bIns="-41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12" name=""/>
                        <p:cNvGrpSpPr/>
                        <p:nvPr/>
                      </p:nvGrpSpPr>
                      <p:grpSpPr>
                        <a:xfrm>
                          <a:off x="8197560" y="2719080"/>
                          <a:ext cx="56880" cy="11160"/>
                          <a:chOff x="8197560" y="2719080"/>
                          <a:chExt cx="56880" cy="11160"/>
                        </a:xfrm>
                      </p:grpSpPr>
                      <p:sp>
                        <p:nvSpPr>
                          <p:cNvPr id="713" name=""/>
                          <p:cNvSpPr/>
                          <p:nvPr/>
                        </p:nvSpPr>
                        <p:spPr>
                          <a:xfrm flipH="1" flipV="1">
                            <a:off x="8209080" y="2729160"/>
                            <a:ext cx="4536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14" name=""/>
                          <p:cNvSpPr/>
                          <p:nvPr/>
                        </p:nvSpPr>
                        <p:spPr>
                          <a:xfrm flipH="1" flipV="1">
                            <a:off x="8197560" y="2719080"/>
                            <a:ext cx="453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15" name=""/>
                        <p:cNvGrpSpPr/>
                        <p:nvPr/>
                      </p:nvGrpSpPr>
                      <p:grpSpPr>
                        <a:xfrm>
                          <a:off x="8074440" y="2614320"/>
                          <a:ext cx="53640" cy="10440"/>
                          <a:chOff x="8074440" y="2614320"/>
                          <a:chExt cx="53640" cy="10440"/>
                        </a:xfrm>
                      </p:grpSpPr>
                      <p:sp>
                        <p:nvSpPr>
                          <p:cNvPr id="716" name=""/>
                          <p:cNvSpPr/>
                          <p:nvPr/>
                        </p:nvSpPr>
                        <p:spPr>
                          <a:xfrm flipH="1" flipV="1">
                            <a:off x="8074440" y="2614320"/>
                            <a:ext cx="44280" cy="2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640" bIns="-44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17" name=""/>
                          <p:cNvSpPr/>
                          <p:nvPr/>
                        </p:nvSpPr>
                        <p:spPr>
                          <a:xfrm flipH="1" flipV="1">
                            <a:off x="8083440" y="2622600"/>
                            <a:ext cx="44640" cy="2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640" bIns="-44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18" name=""/>
                        <p:cNvGrpSpPr/>
                        <p:nvPr/>
                      </p:nvGrpSpPr>
                      <p:grpSpPr>
                        <a:xfrm>
                          <a:off x="7919280" y="2608560"/>
                          <a:ext cx="166680" cy="127800"/>
                          <a:chOff x="7919280" y="2608560"/>
                          <a:chExt cx="166680" cy="127800"/>
                        </a:xfrm>
                      </p:grpSpPr>
                      <p:sp>
                        <p:nvSpPr>
                          <p:cNvPr id="719" name=""/>
                          <p:cNvSpPr/>
                          <p:nvPr/>
                        </p:nvSpPr>
                        <p:spPr>
                          <a:xfrm rot="1408800">
                            <a:off x="7927920" y="2634840"/>
                            <a:ext cx="148680" cy="74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9951" y="16535"/>
                                </a:moveTo>
                                <a:arcTo wR="10800" hR="10800" stAng="1924498" swAng="10903139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9951" y="16535"/>
                                </a:moveTo>
                                <a:arcTo wR="10800" hR="10800" stAng="1924498" swAng="10903139"/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080" bIns="28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0" name=""/>
                          <p:cNvSpPr/>
                          <p:nvPr/>
                        </p:nvSpPr>
                        <p:spPr>
                          <a:xfrm rot="1408800">
                            <a:off x="7928280" y="2635200"/>
                            <a:ext cx="148680" cy="74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693" y="4995"/>
                                </a:moveTo>
                                <a:arcTo wR="10800" hR="10800" stAng="-8849188" swAng="10861628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693" y="4995"/>
                                </a:moveTo>
                                <a:arcTo wR="10800" hR="10800" stAng="-8849188" swAng="10861628"/>
                              </a:path>
                            </a:pathLst>
                          </a:cu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721" name=""/>
                    <p:cNvSpPr/>
                    <p:nvPr/>
                  </p:nvSpPr>
                  <p:spPr>
                    <a:xfrm rot="1408800">
                      <a:off x="7849440" y="2626560"/>
                      <a:ext cx="25272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97" h="2070">
                          <a:moveTo>
                            <a:pt x="0" y="0"/>
                          </a:moveTo>
                          <a:lnTo>
                            <a:pt x="1397" y="723"/>
                          </a:lnTo>
                          <a:lnTo>
                            <a:pt x="1395" y="207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22" name=""/>
                  <p:cNvSpPr/>
                  <p:nvPr/>
                </p:nvSpPr>
                <p:spPr>
                  <a:xfrm>
                    <a:off x="7632000" y="2939760"/>
                    <a:ext cx="59688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unding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23" name=""/>
            <p:cNvSpPr/>
            <p:nvPr/>
          </p:nvSpPr>
          <p:spPr>
            <a:xfrm>
              <a:off x="2133720" y="4114800"/>
              <a:ext cx="2666880" cy="838080"/>
            </a:xfrm>
            <a:custGeom>
              <a:avLst/>
              <a:gdLst/>
              <a:ahLst/>
              <a:rect l="l" t="t" r="r" b="b"/>
              <a:pathLst>
                <a:path w="1536" h="648">
                  <a:moveTo>
                    <a:pt x="0" y="328"/>
                  </a:moveTo>
                  <a:cubicBezTo>
                    <a:pt x="25" y="432"/>
                    <a:pt x="56" y="648"/>
                    <a:pt x="296" y="648"/>
                  </a:cubicBezTo>
                  <a:cubicBezTo>
                    <a:pt x="536" y="648"/>
                    <a:pt x="1350" y="160"/>
                    <a:pt x="1536" y="0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6149880" y="4876920"/>
            <a:ext cx="2715120" cy="1926720"/>
            <a:chOff x="6149880" y="4876920"/>
            <a:chExt cx="2715120" cy="1926720"/>
          </a:xfrm>
        </p:grpSpPr>
        <p:sp>
          <p:nvSpPr>
            <p:cNvPr id="725" name=""/>
            <p:cNvSpPr/>
            <p:nvPr/>
          </p:nvSpPr>
          <p:spPr>
            <a:xfrm>
              <a:off x="6149880" y="6222960"/>
              <a:ext cx="271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ftar Kebutuhan Resour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&amp; prioritas pengadaanny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6" name=""/>
            <p:cNvGrpSpPr/>
            <p:nvPr/>
          </p:nvGrpSpPr>
          <p:grpSpPr>
            <a:xfrm>
              <a:off x="6933960" y="5257800"/>
              <a:ext cx="913680" cy="914040"/>
              <a:chOff x="6933960" y="5257800"/>
              <a:chExt cx="913680" cy="914040"/>
            </a:xfrm>
          </p:grpSpPr>
          <p:grpSp>
            <p:nvGrpSpPr>
              <p:cNvPr id="727" name=""/>
              <p:cNvGrpSpPr/>
              <p:nvPr/>
            </p:nvGrpSpPr>
            <p:grpSpPr>
              <a:xfrm>
                <a:off x="7071480" y="5257800"/>
                <a:ext cx="776160" cy="914040"/>
                <a:chOff x="7071480" y="5257800"/>
                <a:chExt cx="776160" cy="91404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7390800" y="5267160"/>
                  <a:ext cx="277200" cy="156240"/>
                </a:xfrm>
                <a:custGeom>
                  <a:avLst/>
                  <a:gdLst/>
                  <a:ahLst/>
                  <a:rect l="l" t="t" r="r" b="b"/>
                  <a:pathLst>
                    <a:path w="2641" h="1468">
                      <a:moveTo>
                        <a:pt x="1338" y="0"/>
                      </a:moveTo>
                      <a:lnTo>
                        <a:pt x="1178" y="382"/>
                      </a:lnTo>
                      <a:lnTo>
                        <a:pt x="426" y="252"/>
                      </a:lnTo>
                      <a:lnTo>
                        <a:pt x="160" y="417"/>
                      </a:lnTo>
                      <a:lnTo>
                        <a:pt x="0" y="711"/>
                      </a:lnTo>
                      <a:lnTo>
                        <a:pt x="68" y="964"/>
                      </a:lnTo>
                      <a:lnTo>
                        <a:pt x="492" y="1175"/>
                      </a:lnTo>
                      <a:lnTo>
                        <a:pt x="2222" y="1468"/>
                      </a:lnTo>
                      <a:lnTo>
                        <a:pt x="2189" y="1175"/>
                      </a:lnTo>
                      <a:lnTo>
                        <a:pt x="2316" y="922"/>
                      </a:lnTo>
                      <a:lnTo>
                        <a:pt x="2641" y="839"/>
                      </a:lnTo>
                      <a:lnTo>
                        <a:pt x="2549" y="627"/>
                      </a:lnTo>
                      <a:lnTo>
                        <a:pt x="1896" y="503"/>
                      </a:lnTo>
                      <a:lnTo>
                        <a:pt x="2056" y="210"/>
                      </a:lnTo>
                      <a:lnTo>
                        <a:pt x="1338" y="0"/>
                      </a:lnTo>
                      <a:close/>
                    </a:path>
                  </a:pathLst>
                </a:custGeom>
                <a:solidFill>
                  <a:srgbClr val="00eaff"/>
                </a:solidFill>
                <a:ln w="0">
                  <a:solidFill>
                    <a:srgbClr val="00ea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7400880" y="5311080"/>
                  <a:ext cx="219240" cy="72000"/>
                </a:xfrm>
                <a:custGeom>
                  <a:avLst/>
                  <a:gdLst/>
                  <a:ahLst/>
                  <a:rect l="l" t="t" r="r" b="b"/>
                  <a:pathLst>
                    <a:path w="2088" h="676">
                      <a:moveTo>
                        <a:pt x="59" y="0"/>
                      </a:moveTo>
                      <a:lnTo>
                        <a:pt x="2088" y="382"/>
                      </a:lnTo>
                      <a:lnTo>
                        <a:pt x="1923" y="505"/>
                      </a:lnTo>
                      <a:lnTo>
                        <a:pt x="1821" y="676"/>
                      </a:lnTo>
                      <a:lnTo>
                        <a:pt x="1729" y="547"/>
                      </a:lnTo>
                      <a:lnTo>
                        <a:pt x="1630" y="630"/>
                      </a:lnTo>
                      <a:lnTo>
                        <a:pt x="1529" y="505"/>
                      </a:lnTo>
                      <a:lnTo>
                        <a:pt x="1336" y="547"/>
                      </a:lnTo>
                      <a:lnTo>
                        <a:pt x="1272" y="466"/>
                      </a:lnTo>
                      <a:lnTo>
                        <a:pt x="1077" y="505"/>
                      </a:lnTo>
                      <a:lnTo>
                        <a:pt x="1010" y="422"/>
                      </a:lnTo>
                      <a:lnTo>
                        <a:pt x="846" y="466"/>
                      </a:lnTo>
                      <a:lnTo>
                        <a:pt x="777" y="382"/>
                      </a:lnTo>
                      <a:lnTo>
                        <a:pt x="617" y="466"/>
                      </a:lnTo>
                      <a:lnTo>
                        <a:pt x="553" y="340"/>
                      </a:lnTo>
                      <a:lnTo>
                        <a:pt x="391" y="382"/>
                      </a:lnTo>
                      <a:lnTo>
                        <a:pt x="360" y="254"/>
                      </a:lnTo>
                      <a:lnTo>
                        <a:pt x="127" y="340"/>
                      </a:lnTo>
                      <a:lnTo>
                        <a:pt x="94" y="210"/>
                      </a:lnTo>
                      <a:lnTo>
                        <a:pt x="0" y="129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7160400" y="5865120"/>
                  <a:ext cx="439560" cy="231120"/>
                </a:xfrm>
                <a:custGeom>
                  <a:avLst/>
                  <a:gdLst/>
                  <a:ahLst/>
                  <a:rect l="l" t="t" r="r" b="b"/>
                  <a:pathLst>
                    <a:path w="4177" h="2181">
                      <a:moveTo>
                        <a:pt x="0" y="1215"/>
                      </a:moveTo>
                      <a:lnTo>
                        <a:pt x="2872" y="1805"/>
                      </a:lnTo>
                      <a:lnTo>
                        <a:pt x="4177" y="0"/>
                      </a:lnTo>
                      <a:lnTo>
                        <a:pt x="2805" y="2181"/>
                      </a:lnTo>
                      <a:lnTo>
                        <a:pt x="0" y="12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7233840" y="5257800"/>
                  <a:ext cx="588240" cy="286560"/>
                </a:xfrm>
                <a:custGeom>
                  <a:avLst/>
                  <a:gdLst/>
                  <a:ahLst/>
                  <a:rect l="l" t="t" r="r" b="b"/>
                  <a:pathLst>
                    <a:path w="5602" h="2694">
                      <a:moveTo>
                        <a:pt x="0" y="2694"/>
                      </a:moveTo>
                      <a:lnTo>
                        <a:pt x="459" y="2104"/>
                      </a:lnTo>
                      <a:lnTo>
                        <a:pt x="685" y="1418"/>
                      </a:lnTo>
                      <a:lnTo>
                        <a:pt x="770" y="1023"/>
                      </a:lnTo>
                      <a:lnTo>
                        <a:pt x="846" y="531"/>
                      </a:lnTo>
                      <a:lnTo>
                        <a:pt x="1471" y="713"/>
                      </a:lnTo>
                      <a:lnTo>
                        <a:pt x="1686" y="432"/>
                      </a:lnTo>
                      <a:lnTo>
                        <a:pt x="1923" y="337"/>
                      </a:lnTo>
                      <a:lnTo>
                        <a:pt x="2688" y="425"/>
                      </a:lnTo>
                      <a:lnTo>
                        <a:pt x="2820" y="50"/>
                      </a:lnTo>
                      <a:lnTo>
                        <a:pt x="3218" y="0"/>
                      </a:lnTo>
                      <a:lnTo>
                        <a:pt x="3503" y="83"/>
                      </a:lnTo>
                      <a:lnTo>
                        <a:pt x="3686" y="337"/>
                      </a:lnTo>
                      <a:lnTo>
                        <a:pt x="3613" y="630"/>
                      </a:lnTo>
                      <a:lnTo>
                        <a:pt x="4332" y="757"/>
                      </a:lnTo>
                      <a:lnTo>
                        <a:pt x="4459" y="1049"/>
                      </a:lnTo>
                      <a:lnTo>
                        <a:pt x="4459" y="1221"/>
                      </a:lnTo>
                      <a:lnTo>
                        <a:pt x="5294" y="1316"/>
                      </a:lnTo>
                      <a:lnTo>
                        <a:pt x="5602" y="1316"/>
                      </a:lnTo>
                      <a:lnTo>
                        <a:pt x="4487" y="1304"/>
                      </a:lnTo>
                      <a:lnTo>
                        <a:pt x="3806" y="1137"/>
                      </a:lnTo>
                      <a:lnTo>
                        <a:pt x="3686" y="1418"/>
                      </a:lnTo>
                      <a:lnTo>
                        <a:pt x="3914" y="1515"/>
                      </a:lnTo>
                      <a:lnTo>
                        <a:pt x="3707" y="1943"/>
                      </a:lnTo>
                      <a:lnTo>
                        <a:pt x="1764" y="1611"/>
                      </a:lnTo>
                      <a:lnTo>
                        <a:pt x="1962" y="1176"/>
                      </a:lnTo>
                      <a:lnTo>
                        <a:pt x="3602" y="1475"/>
                      </a:lnTo>
                      <a:lnTo>
                        <a:pt x="3525" y="1221"/>
                      </a:lnTo>
                      <a:lnTo>
                        <a:pt x="3613" y="1023"/>
                      </a:lnTo>
                      <a:lnTo>
                        <a:pt x="3936" y="757"/>
                      </a:lnTo>
                      <a:lnTo>
                        <a:pt x="3149" y="630"/>
                      </a:lnTo>
                      <a:lnTo>
                        <a:pt x="3378" y="337"/>
                      </a:lnTo>
                      <a:lnTo>
                        <a:pt x="3310" y="171"/>
                      </a:lnTo>
                      <a:lnTo>
                        <a:pt x="3073" y="138"/>
                      </a:lnTo>
                      <a:lnTo>
                        <a:pt x="2923" y="171"/>
                      </a:lnTo>
                      <a:lnTo>
                        <a:pt x="2762" y="531"/>
                      </a:lnTo>
                      <a:lnTo>
                        <a:pt x="1934" y="425"/>
                      </a:lnTo>
                      <a:lnTo>
                        <a:pt x="1630" y="674"/>
                      </a:lnTo>
                      <a:lnTo>
                        <a:pt x="1614" y="918"/>
                      </a:lnTo>
                      <a:lnTo>
                        <a:pt x="1764" y="1122"/>
                      </a:lnTo>
                      <a:lnTo>
                        <a:pt x="1923" y="1221"/>
                      </a:lnTo>
                      <a:lnTo>
                        <a:pt x="1614" y="1122"/>
                      </a:lnTo>
                      <a:lnTo>
                        <a:pt x="1459" y="1023"/>
                      </a:lnTo>
                      <a:lnTo>
                        <a:pt x="1459" y="823"/>
                      </a:lnTo>
                      <a:lnTo>
                        <a:pt x="913" y="674"/>
                      </a:lnTo>
                      <a:lnTo>
                        <a:pt x="685" y="1805"/>
                      </a:lnTo>
                      <a:lnTo>
                        <a:pt x="0" y="26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7071480" y="5397120"/>
                  <a:ext cx="776160" cy="774720"/>
                </a:xfrm>
                <a:custGeom>
                  <a:avLst/>
                  <a:gdLst/>
                  <a:ahLst/>
                  <a:rect l="l" t="t" r="r" b="b"/>
                  <a:pathLst>
                    <a:path w="7382" h="7285">
                      <a:moveTo>
                        <a:pt x="6995" y="102"/>
                      </a:moveTo>
                      <a:lnTo>
                        <a:pt x="5916" y="2362"/>
                      </a:lnTo>
                      <a:lnTo>
                        <a:pt x="4689" y="4226"/>
                      </a:lnTo>
                      <a:lnTo>
                        <a:pt x="3536" y="5806"/>
                      </a:lnTo>
                      <a:lnTo>
                        <a:pt x="1927" y="5612"/>
                      </a:lnTo>
                      <a:lnTo>
                        <a:pt x="998" y="5414"/>
                      </a:lnTo>
                      <a:lnTo>
                        <a:pt x="3536" y="6006"/>
                      </a:lnTo>
                      <a:lnTo>
                        <a:pt x="4463" y="4923"/>
                      </a:lnTo>
                      <a:lnTo>
                        <a:pt x="5386" y="3548"/>
                      </a:lnTo>
                      <a:lnTo>
                        <a:pt x="6451" y="1571"/>
                      </a:lnTo>
                      <a:lnTo>
                        <a:pt x="5226" y="4039"/>
                      </a:lnTo>
                      <a:lnTo>
                        <a:pt x="3733" y="6513"/>
                      </a:lnTo>
                      <a:lnTo>
                        <a:pt x="5840" y="3445"/>
                      </a:lnTo>
                      <a:lnTo>
                        <a:pt x="5043" y="5127"/>
                      </a:lnTo>
                      <a:lnTo>
                        <a:pt x="3995" y="6888"/>
                      </a:lnTo>
                      <a:lnTo>
                        <a:pt x="2806" y="6513"/>
                      </a:lnTo>
                      <a:lnTo>
                        <a:pt x="1697" y="6216"/>
                      </a:lnTo>
                      <a:lnTo>
                        <a:pt x="0" y="5907"/>
                      </a:lnTo>
                      <a:lnTo>
                        <a:pt x="2225" y="6490"/>
                      </a:lnTo>
                      <a:lnTo>
                        <a:pt x="3767" y="7082"/>
                      </a:lnTo>
                      <a:lnTo>
                        <a:pt x="4153" y="7285"/>
                      </a:lnTo>
                      <a:lnTo>
                        <a:pt x="5916" y="3741"/>
                      </a:lnTo>
                      <a:lnTo>
                        <a:pt x="6995" y="1378"/>
                      </a:lnTo>
                      <a:lnTo>
                        <a:pt x="7382" y="295"/>
                      </a:lnTo>
                      <a:lnTo>
                        <a:pt x="7071" y="396"/>
                      </a:lnTo>
                      <a:lnTo>
                        <a:pt x="7225" y="0"/>
                      </a:lnTo>
                      <a:lnTo>
                        <a:pt x="6995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101000" y="5987520"/>
                  <a:ext cx="352080" cy="111240"/>
                </a:xfrm>
                <a:custGeom>
                  <a:avLst/>
                  <a:gdLst/>
                  <a:ahLst/>
                  <a:rect l="l" t="t" r="r" b="b"/>
                  <a:pathLst>
                    <a:path w="3353" h="1048">
                      <a:moveTo>
                        <a:pt x="0" y="0"/>
                      </a:moveTo>
                      <a:lnTo>
                        <a:pt x="3255" y="793"/>
                      </a:lnTo>
                      <a:lnTo>
                        <a:pt x="3353" y="10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4" name=""/>
              <p:cNvSpPr/>
              <p:nvPr/>
            </p:nvSpPr>
            <p:spPr>
              <a:xfrm>
                <a:off x="6933960" y="5332320"/>
                <a:ext cx="912240" cy="680400"/>
              </a:xfrm>
              <a:custGeom>
                <a:avLst/>
                <a:gdLst/>
                <a:ahLst/>
                <a:rect l="l" t="t" r="r" b="b"/>
                <a:pathLst>
                  <a:path w="1085" h="800">
                    <a:moveTo>
                      <a:pt x="473" y="0"/>
                    </a:moveTo>
                    <a:lnTo>
                      <a:pt x="445" y="134"/>
                    </a:lnTo>
                    <a:cubicBezTo>
                      <a:pt x="407" y="194"/>
                      <a:pt x="336" y="290"/>
                      <a:pt x="246" y="362"/>
                    </a:cubicBezTo>
                    <a:cubicBezTo>
                      <a:pt x="156" y="434"/>
                      <a:pt x="0" y="585"/>
                      <a:pt x="3" y="650"/>
                    </a:cubicBezTo>
                    <a:lnTo>
                      <a:pt x="291" y="756"/>
                    </a:lnTo>
                    <a:cubicBezTo>
                      <a:pt x="392" y="781"/>
                      <a:pt x="501" y="796"/>
                      <a:pt x="609" y="800"/>
                    </a:cubicBezTo>
                    <a:cubicBezTo>
                      <a:pt x="700" y="748"/>
                      <a:pt x="781" y="542"/>
                      <a:pt x="865" y="428"/>
                    </a:cubicBezTo>
                    <a:cubicBezTo>
                      <a:pt x="949" y="314"/>
                      <a:pt x="1005" y="152"/>
                      <a:pt x="1041" y="90"/>
                    </a:cubicBezTo>
                    <a:cubicBezTo>
                      <a:pt x="1044" y="84"/>
                      <a:pt x="1085" y="78"/>
                      <a:pt x="1065" y="76"/>
                    </a:cubicBezTo>
                    <a:cubicBezTo>
                      <a:pt x="1045" y="74"/>
                      <a:pt x="962" y="81"/>
                      <a:pt x="923" y="78"/>
                    </a:cubicBezTo>
                    <a:lnTo>
                      <a:pt x="833" y="56"/>
                    </a:lnTo>
                    <a:lnTo>
                      <a:pt x="819" y="92"/>
                    </a:lnTo>
                    <a:lnTo>
                      <a:pt x="849" y="100"/>
                    </a:lnTo>
                    <a:lnTo>
                      <a:pt x="817" y="156"/>
                    </a:lnTo>
                    <a:lnTo>
                      <a:pt x="575" y="112"/>
                    </a:lnTo>
                    <a:lnTo>
                      <a:pt x="601" y="66"/>
                    </a:lnTo>
                    <a:lnTo>
                      <a:pt x="539" y="40"/>
                    </a:lnTo>
                    <a:lnTo>
                      <a:pt x="539" y="14"/>
                    </a:lnTo>
                    <a:lnTo>
                      <a:pt x="473" y="0"/>
                    </a:lnTo>
                    <a:lnTo>
                      <a:pt x="4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7238880" y="4876920"/>
              <a:ext cx="380520" cy="304560"/>
            </a:xfrm>
            <a:prstGeom prst="downArrow">
              <a:avLst>
                <a:gd name="adj1" fmla="val 50000"/>
                <a:gd name="adj2" fmla="val 41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3534120" y="5029200"/>
            <a:ext cx="3247560" cy="1556640"/>
            <a:chOff x="3534120" y="5029200"/>
            <a:chExt cx="3247560" cy="1556640"/>
          </a:xfrm>
        </p:grpSpPr>
        <p:sp>
          <p:nvSpPr>
            <p:cNvPr id="737" name=""/>
            <p:cNvSpPr/>
            <p:nvPr/>
          </p:nvSpPr>
          <p:spPr>
            <a:xfrm>
              <a:off x="5181480" y="5638680"/>
              <a:ext cx="1600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3534120" y="5029200"/>
              <a:ext cx="1418760" cy="1556640"/>
              <a:chOff x="3534120" y="5029200"/>
              <a:chExt cx="1418760" cy="1556640"/>
            </a:xfrm>
          </p:grpSpPr>
          <p:pic>
            <p:nvPicPr>
              <p:cNvPr id="73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581280" y="5029200"/>
                <a:ext cx="1371600" cy="121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0" name=""/>
              <p:cNvSpPr/>
              <p:nvPr/>
            </p:nvSpPr>
            <p:spPr>
              <a:xfrm>
                <a:off x="3534120" y="6248520"/>
                <a:ext cx="130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urvey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Pasa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1" name=""/>
          <p:cNvGrpSpPr/>
          <p:nvPr/>
        </p:nvGrpSpPr>
        <p:grpSpPr>
          <a:xfrm>
            <a:off x="532080" y="4952880"/>
            <a:ext cx="2972880" cy="1618560"/>
            <a:chOff x="532080" y="4952880"/>
            <a:chExt cx="2972880" cy="1618560"/>
          </a:xfrm>
        </p:grpSpPr>
        <p:grpSp>
          <p:nvGrpSpPr>
            <p:cNvPr id="742" name=""/>
            <p:cNvGrpSpPr/>
            <p:nvPr/>
          </p:nvGrpSpPr>
          <p:grpSpPr>
            <a:xfrm>
              <a:off x="532080" y="4952880"/>
              <a:ext cx="1674360" cy="1618560"/>
              <a:chOff x="532080" y="4952880"/>
              <a:chExt cx="1674360" cy="1618560"/>
            </a:xfrm>
          </p:grpSpPr>
          <p:pic>
            <p:nvPicPr>
              <p:cNvPr id="74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85800" y="4952880"/>
                <a:ext cx="1419120" cy="132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"/>
              <p:cNvSpPr/>
              <p:nvPr/>
            </p:nvSpPr>
            <p:spPr>
              <a:xfrm>
                <a:off x="532080" y="6234120"/>
                <a:ext cx="1674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Kebutuhan Dan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2209320" y="5562720"/>
              <a:ext cx="12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4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Komponen Biaya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yang boleh diusulkan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6781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Pengembangan Staf </a:t>
            </a:r>
            <a:r>
              <a:rPr b="0" lang="en-US" sz="20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nya dalam neg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Peralat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Tenaga Ah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Koleksi Perpustak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 Pelatihan dan Lokakar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. Hibah Pengaja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. Hibah Penelit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. Manajemen Proy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7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7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"/>
          <p:cNvGrpSpPr/>
          <p:nvPr/>
        </p:nvGrpSpPr>
        <p:grpSpPr>
          <a:xfrm>
            <a:off x="7353360" y="1747800"/>
            <a:ext cx="1171440" cy="495360"/>
            <a:chOff x="7353360" y="1747800"/>
            <a:chExt cx="1171440" cy="495360"/>
          </a:xfrm>
        </p:grpSpPr>
        <p:sp>
          <p:nvSpPr>
            <p:cNvPr id="749" name=""/>
            <p:cNvSpPr/>
            <p:nvPr/>
          </p:nvSpPr>
          <p:spPr>
            <a:xfrm>
              <a:off x="7353360" y="1747800"/>
              <a:ext cx="1171440" cy="495360"/>
            </a:xfrm>
            <a:prstGeom prst="rect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434360" y="1766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i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2857680" y="2486160"/>
            <a:ext cx="4066920" cy="4248000"/>
            <a:chOff x="2857680" y="2486160"/>
            <a:chExt cx="4066920" cy="4248000"/>
          </a:xfrm>
        </p:grpSpPr>
        <p:sp>
          <p:nvSpPr>
            <p:cNvPr id="752" name=""/>
            <p:cNvSpPr/>
            <p:nvPr/>
          </p:nvSpPr>
          <p:spPr>
            <a:xfrm>
              <a:off x="2857680" y="2486160"/>
              <a:ext cx="4066920" cy="4248000"/>
            </a:xfrm>
            <a:prstGeom prst="rightArrow">
              <a:avLst>
                <a:gd name="adj1" fmla="val 79593"/>
                <a:gd name="adj2" fmla="val 5409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15600" y="4370400"/>
              <a:ext cx="80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enguiat Bk BT"/>
                </a:rPr>
                <a:t>Pl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3209760" y="4476600"/>
            <a:ext cx="1819080" cy="1600200"/>
            <a:chOff x="3209760" y="4476600"/>
            <a:chExt cx="1819080" cy="1600200"/>
          </a:xfrm>
        </p:grpSpPr>
        <p:sp>
          <p:nvSpPr>
            <p:cNvPr id="755" name=""/>
            <p:cNvSpPr/>
            <p:nvPr/>
          </p:nvSpPr>
          <p:spPr>
            <a:xfrm>
              <a:off x="3209760" y="4476600"/>
              <a:ext cx="181908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3230280" y="5402160"/>
              <a:ext cx="1628640" cy="597240"/>
              <a:chOff x="3230280" y="5402160"/>
              <a:chExt cx="1628640" cy="597240"/>
            </a:xfrm>
          </p:grpSpPr>
          <p:sp>
            <p:nvSpPr>
              <p:cNvPr id="757" name=""/>
              <p:cNvSpPr/>
              <p:nvPr/>
            </p:nvSpPr>
            <p:spPr>
              <a:xfrm>
                <a:off x="3230280" y="5402160"/>
                <a:ext cx="162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ject Proposal 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35320" y="5722920"/>
                <a:ext cx="805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Objectiv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9" name=""/>
          <p:cNvGrpSpPr/>
          <p:nvPr/>
        </p:nvGrpSpPr>
        <p:grpSpPr>
          <a:xfrm>
            <a:off x="3200400" y="3276720"/>
            <a:ext cx="2238480" cy="1123920"/>
            <a:chOff x="3200400" y="3276720"/>
            <a:chExt cx="2238480" cy="1123920"/>
          </a:xfrm>
        </p:grpSpPr>
        <p:sp>
          <p:nvSpPr>
            <p:cNvPr id="760" name=""/>
            <p:cNvSpPr/>
            <p:nvPr/>
          </p:nvSpPr>
          <p:spPr>
            <a:xfrm>
              <a:off x="3200400" y="3276720"/>
              <a:ext cx="2238480" cy="11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3230640" y="3287880"/>
              <a:ext cx="1628640" cy="549720"/>
              <a:chOff x="3230640" y="3287880"/>
              <a:chExt cx="1628640" cy="549720"/>
            </a:xfrm>
          </p:grpSpPr>
          <p:sp>
            <p:nvSpPr>
              <p:cNvPr id="762" name=""/>
              <p:cNvSpPr/>
              <p:nvPr/>
            </p:nvSpPr>
            <p:spPr>
              <a:xfrm>
                <a:off x="3230640" y="3287880"/>
                <a:ext cx="162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ject Proposal 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35680" y="3561120"/>
                <a:ext cx="805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Objectiv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4219560" y="3971880"/>
            <a:ext cx="1847880" cy="1390680"/>
            <a:chOff x="4219560" y="3971880"/>
            <a:chExt cx="1847880" cy="1390680"/>
          </a:xfrm>
        </p:grpSpPr>
        <p:sp>
          <p:nvSpPr>
            <p:cNvPr id="765" name=""/>
            <p:cNvSpPr/>
            <p:nvPr/>
          </p:nvSpPr>
          <p:spPr>
            <a:xfrm>
              <a:off x="4219560" y="3971880"/>
              <a:ext cx="1847880" cy="139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4231080" y="3973320"/>
              <a:ext cx="1619280" cy="549720"/>
              <a:chOff x="4231080" y="3973320"/>
              <a:chExt cx="1619280" cy="549720"/>
            </a:xfrm>
          </p:grpSpPr>
          <p:sp>
            <p:nvSpPr>
              <p:cNvPr id="767" name=""/>
              <p:cNvSpPr/>
              <p:nvPr/>
            </p:nvSpPr>
            <p:spPr>
              <a:xfrm>
                <a:off x="4231080" y="3973320"/>
                <a:ext cx="1619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ject Proposal 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235760" y="4246560"/>
                <a:ext cx="805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Objectiv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9" name=""/>
          <p:cNvSpPr/>
          <p:nvPr/>
        </p:nvSpPr>
        <p:spPr>
          <a:xfrm>
            <a:off x="4686480" y="4476600"/>
            <a:ext cx="2333520" cy="800280"/>
          </a:xfrm>
          <a:custGeom>
            <a:avLst/>
            <a:gdLst/>
            <a:ahLst/>
            <a:rect l="l" t="t" r="r" b="b"/>
            <a:pathLst>
              <a:path w="1470" h="504">
                <a:moveTo>
                  <a:pt x="0" y="0"/>
                </a:moveTo>
                <a:cubicBezTo>
                  <a:pt x="72" y="372"/>
                  <a:pt x="858" y="504"/>
                  <a:pt x="1470" y="35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695760" y="3867120"/>
            <a:ext cx="3324240" cy="1733760"/>
          </a:xfrm>
          <a:custGeom>
            <a:avLst/>
            <a:gdLst/>
            <a:ahLst/>
            <a:rect l="l" t="t" r="r" b="b"/>
            <a:pathLst>
              <a:path w="2094" h="1092">
                <a:moveTo>
                  <a:pt x="0" y="0"/>
                </a:moveTo>
                <a:cubicBezTo>
                  <a:pt x="120" y="876"/>
                  <a:pt x="1222" y="1092"/>
                  <a:pt x="2094" y="76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33720" y="5156280"/>
            <a:ext cx="3100320" cy="1434960"/>
          </a:xfrm>
          <a:custGeom>
            <a:avLst/>
            <a:gdLst/>
            <a:ahLst/>
            <a:rect l="l" t="t" r="r" b="b"/>
            <a:pathLst>
              <a:path w="1953" h="904">
                <a:moveTo>
                  <a:pt x="0" y="544"/>
                </a:moveTo>
                <a:cubicBezTo>
                  <a:pt x="696" y="904"/>
                  <a:pt x="1338" y="590"/>
                  <a:pt x="195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7020000" y="3681360"/>
            <a:ext cx="1838160" cy="1857240"/>
            <a:chOff x="7020000" y="3681360"/>
            <a:chExt cx="1838160" cy="1857240"/>
          </a:xfrm>
        </p:grpSpPr>
        <p:sp>
          <p:nvSpPr>
            <p:cNvPr id="773" name=""/>
            <p:cNvSpPr/>
            <p:nvPr/>
          </p:nvSpPr>
          <p:spPr>
            <a:xfrm>
              <a:off x="7020000" y="3681360"/>
              <a:ext cx="1838160" cy="185724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110000" y="4198680"/>
              <a:ext cx="165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stituti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jec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402120" y="2162160"/>
            <a:ext cx="2378880" cy="4486320"/>
            <a:chOff x="402120" y="2162160"/>
            <a:chExt cx="2378880" cy="4486320"/>
          </a:xfrm>
        </p:grpSpPr>
        <p:sp>
          <p:nvSpPr>
            <p:cNvPr id="776" name=""/>
            <p:cNvSpPr/>
            <p:nvPr/>
          </p:nvSpPr>
          <p:spPr>
            <a:xfrm>
              <a:off x="437760" y="2162160"/>
              <a:ext cx="2343240" cy="4486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18840" y="2257200"/>
              <a:ext cx="1704960" cy="1123920"/>
              <a:chOff x="618840" y="2257200"/>
              <a:chExt cx="1704960" cy="1123920"/>
            </a:xfrm>
          </p:grpSpPr>
          <p:grpSp>
            <p:nvGrpSpPr>
              <p:cNvPr id="778" name=""/>
              <p:cNvGrpSpPr/>
              <p:nvPr/>
            </p:nvGrpSpPr>
            <p:grpSpPr>
              <a:xfrm>
                <a:off x="923400" y="2562120"/>
                <a:ext cx="1400400" cy="819000"/>
                <a:chOff x="923400" y="2562120"/>
                <a:chExt cx="1400400" cy="81900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923400" y="2562120"/>
                  <a:ext cx="1400400" cy="819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80" name=""/>
                <p:cNvGraphicFramePr/>
                <p:nvPr/>
              </p:nvGraphicFramePr>
              <p:xfrm>
                <a:off x="981000" y="2647440"/>
                <a:ext cx="1274760" cy="63792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78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981000" y="2647440"/>
                          <a:ext cx="1274760" cy="637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782" name=""/>
              <p:cNvGrpSpPr/>
              <p:nvPr/>
            </p:nvGrpSpPr>
            <p:grpSpPr>
              <a:xfrm>
                <a:off x="771120" y="2409480"/>
                <a:ext cx="1400040" cy="819360"/>
                <a:chOff x="771120" y="2409480"/>
                <a:chExt cx="1400040" cy="81936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771120" y="2409480"/>
                  <a:ext cx="1400040" cy="819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84" name=""/>
                <p:cNvGraphicFramePr/>
                <p:nvPr/>
              </p:nvGraphicFramePr>
              <p:xfrm>
                <a:off x="828720" y="2495160"/>
                <a:ext cx="1274400" cy="63828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85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828720" y="2495160"/>
                          <a:ext cx="1274400" cy="638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786" name=""/>
              <p:cNvGrpSpPr/>
              <p:nvPr/>
            </p:nvGrpSpPr>
            <p:grpSpPr>
              <a:xfrm>
                <a:off x="618840" y="2257200"/>
                <a:ext cx="1400040" cy="819000"/>
                <a:chOff x="618840" y="2257200"/>
                <a:chExt cx="1400040" cy="81900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618840" y="2257200"/>
                  <a:ext cx="1400040" cy="819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8" name=""/>
                <p:cNvGrpSpPr/>
                <p:nvPr/>
              </p:nvGrpSpPr>
              <p:grpSpPr>
                <a:xfrm>
                  <a:off x="704520" y="2342880"/>
                  <a:ext cx="1162080" cy="628560"/>
                  <a:chOff x="704520" y="2342880"/>
                  <a:chExt cx="1162080" cy="62856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>
                    <a:off x="704520" y="2962080"/>
                    <a:ext cx="11620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32" h="3">
                        <a:moveTo>
                          <a:pt x="0" y="3"/>
                        </a:moveTo>
                        <a:lnTo>
                          <a:pt x="732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704520" y="2790720"/>
                    <a:ext cx="1154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704520" y="2438280"/>
                    <a:ext cx="1154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704520" y="2668320"/>
                    <a:ext cx="114912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26" h="426">
                        <a:moveTo>
                          <a:pt x="0" y="426"/>
                        </a:moveTo>
                        <a:cubicBezTo>
                          <a:pt x="281" y="373"/>
                          <a:pt x="1065" y="175"/>
                          <a:pt x="1686" y="108"/>
                        </a:cubicBezTo>
                        <a:cubicBezTo>
                          <a:pt x="2430" y="0"/>
                          <a:pt x="3301" y="42"/>
                          <a:pt x="3726" y="2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704520" y="2544480"/>
                    <a:ext cx="113796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690" h="902">
                        <a:moveTo>
                          <a:pt x="0" y="902"/>
                        </a:moveTo>
                        <a:cubicBezTo>
                          <a:pt x="309" y="777"/>
                          <a:pt x="1239" y="300"/>
                          <a:pt x="1854" y="152"/>
                        </a:cubicBezTo>
                        <a:cubicBezTo>
                          <a:pt x="2470" y="0"/>
                          <a:pt x="3308" y="43"/>
                          <a:pt x="3690" y="1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704520" y="2419200"/>
                    <a:ext cx="1143000" cy="36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708" h="1379">
                        <a:moveTo>
                          <a:pt x="0" y="1379"/>
                        </a:moveTo>
                        <a:cubicBezTo>
                          <a:pt x="121" y="1310"/>
                          <a:pt x="408" y="1199"/>
                          <a:pt x="726" y="965"/>
                        </a:cubicBezTo>
                        <a:cubicBezTo>
                          <a:pt x="1044" y="731"/>
                          <a:pt x="1643" y="298"/>
                          <a:pt x="2118" y="149"/>
                        </a:cubicBezTo>
                        <a:cubicBezTo>
                          <a:pt x="2593" y="0"/>
                          <a:pt x="3377" y="34"/>
                          <a:pt x="3708" y="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704520" y="2342880"/>
                    <a:ext cx="14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400">
                        <a:moveTo>
                          <a:pt x="0" y="0"/>
                        </a:moveTo>
                        <a:lnTo>
                          <a:pt x="3" y="240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96" name=""/>
            <p:cNvGrpSpPr/>
            <p:nvPr/>
          </p:nvGrpSpPr>
          <p:grpSpPr>
            <a:xfrm>
              <a:off x="637920" y="3409920"/>
              <a:ext cx="1666440" cy="1123920"/>
              <a:chOff x="637920" y="3409920"/>
              <a:chExt cx="1666440" cy="1123920"/>
            </a:xfrm>
          </p:grpSpPr>
          <p:grpSp>
            <p:nvGrpSpPr>
              <p:cNvPr id="797" name=""/>
              <p:cNvGrpSpPr/>
              <p:nvPr/>
            </p:nvGrpSpPr>
            <p:grpSpPr>
              <a:xfrm>
                <a:off x="826200" y="3714840"/>
                <a:ext cx="1478160" cy="819000"/>
                <a:chOff x="826200" y="3714840"/>
                <a:chExt cx="1478160" cy="81900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826200" y="3714840"/>
                  <a:ext cx="1478160" cy="819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99" name=""/>
                <p:cNvGraphicFramePr/>
                <p:nvPr/>
              </p:nvGraphicFramePr>
              <p:xfrm>
                <a:off x="887040" y="3800160"/>
                <a:ext cx="1345320" cy="637920"/>
              </p:xfrm>
              <a:graphic>
                <a:graphicData uri="http://schemas.openxmlformats.org/presentationml/2006/ole">
                  <p:oleObj progId="Excel.Sheet.12" r:id="rId5" spid="">
                    <p:embed/>
                    <p:pic>
                      <p:nvPicPr>
                        <p:cNvPr id="800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887040" y="3800160"/>
                          <a:ext cx="1345320" cy="637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801" name=""/>
              <p:cNvGrpSpPr/>
              <p:nvPr/>
            </p:nvGrpSpPr>
            <p:grpSpPr>
              <a:xfrm>
                <a:off x="732240" y="3562560"/>
                <a:ext cx="1478160" cy="819000"/>
                <a:chOff x="732240" y="3562560"/>
                <a:chExt cx="1478160" cy="81900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732240" y="3562560"/>
                  <a:ext cx="1478160" cy="819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803" name=""/>
                <p:cNvGraphicFramePr/>
                <p:nvPr/>
              </p:nvGraphicFramePr>
              <p:xfrm>
                <a:off x="793080" y="3647880"/>
                <a:ext cx="1345320" cy="637920"/>
              </p:xfrm>
              <a:graphic>
                <a:graphicData uri="http://schemas.openxmlformats.org/presentationml/2006/ole">
                  <p:oleObj progId="Excel.Sheet.12" r:id="rId7" spid="">
                    <p:embed/>
                    <p:pic>
                      <p:nvPicPr>
                        <p:cNvPr id="804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793080" y="3647880"/>
                          <a:ext cx="1345320" cy="637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805" name=""/>
              <p:cNvGrpSpPr/>
              <p:nvPr/>
            </p:nvGrpSpPr>
            <p:grpSpPr>
              <a:xfrm>
                <a:off x="637920" y="3409920"/>
                <a:ext cx="1478520" cy="819360"/>
                <a:chOff x="637920" y="3409920"/>
                <a:chExt cx="1478520" cy="81936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37920" y="3409920"/>
                  <a:ext cx="1478520" cy="819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807" name=""/>
                <p:cNvGraphicFramePr/>
                <p:nvPr/>
              </p:nvGraphicFramePr>
              <p:xfrm>
                <a:off x="698760" y="3495600"/>
                <a:ext cx="1345680" cy="638280"/>
              </p:xfrm>
              <a:graphic>
                <a:graphicData uri="http://schemas.openxmlformats.org/presentationml/2006/ole">
                  <p:oleObj progId="Excel.Sheet.12" r:id="rId9" spid="">
                    <p:embed/>
                    <p:pic>
                      <p:nvPicPr>
                        <p:cNvPr id="808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698760" y="3495600"/>
                          <a:ext cx="1345680" cy="638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809" name=""/>
            <p:cNvGrpSpPr/>
            <p:nvPr/>
          </p:nvGrpSpPr>
          <p:grpSpPr>
            <a:xfrm>
              <a:off x="831600" y="4600440"/>
              <a:ext cx="1166400" cy="1238040"/>
              <a:chOff x="831600" y="4600440"/>
              <a:chExt cx="1166400" cy="1238040"/>
            </a:xfrm>
          </p:grpSpPr>
          <p:sp>
            <p:nvSpPr>
              <p:cNvPr id="810" name=""/>
              <p:cNvSpPr/>
              <p:nvPr/>
            </p:nvSpPr>
            <p:spPr>
              <a:xfrm>
                <a:off x="979920" y="4774320"/>
                <a:ext cx="222840" cy="372960"/>
              </a:xfrm>
              <a:custGeom>
                <a:avLst/>
                <a:gdLst/>
                <a:ahLst/>
                <a:rect l="l" t="t" r="r" b="b"/>
                <a:pathLst>
                  <a:path w="2201" h="3517">
                    <a:moveTo>
                      <a:pt x="23" y="3517"/>
                    </a:moveTo>
                    <a:lnTo>
                      <a:pt x="0" y="0"/>
                    </a:lnTo>
                    <a:lnTo>
                      <a:pt x="9" y="75"/>
                    </a:lnTo>
                    <a:lnTo>
                      <a:pt x="46" y="140"/>
                    </a:lnTo>
                    <a:lnTo>
                      <a:pt x="89" y="198"/>
                    </a:lnTo>
                    <a:lnTo>
                      <a:pt x="166" y="268"/>
                    </a:lnTo>
                    <a:lnTo>
                      <a:pt x="252" y="320"/>
                    </a:lnTo>
                    <a:lnTo>
                      <a:pt x="357" y="366"/>
                    </a:lnTo>
                    <a:lnTo>
                      <a:pt x="477" y="406"/>
                    </a:lnTo>
                    <a:lnTo>
                      <a:pt x="615" y="447"/>
                    </a:lnTo>
                    <a:lnTo>
                      <a:pt x="754" y="470"/>
                    </a:lnTo>
                    <a:lnTo>
                      <a:pt x="910" y="488"/>
                    </a:lnTo>
                    <a:lnTo>
                      <a:pt x="1068" y="492"/>
                    </a:lnTo>
                    <a:lnTo>
                      <a:pt x="1227" y="488"/>
                    </a:lnTo>
                    <a:lnTo>
                      <a:pt x="1375" y="477"/>
                    </a:lnTo>
                    <a:lnTo>
                      <a:pt x="1520" y="454"/>
                    </a:lnTo>
                    <a:lnTo>
                      <a:pt x="1663" y="431"/>
                    </a:lnTo>
                    <a:lnTo>
                      <a:pt x="1787" y="382"/>
                    </a:lnTo>
                    <a:lnTo>
                      <a:pt x="1901" y="343"/>
                    </a:lnTo>
                    <a:lnTo>
                      <a:pt x="1998" y="295"/>
                    </a:lnTo>
                    <a:lnTo>
                      <a:pt x="2086" y="232"/>
                    </a:lnTo>
                    <a:lnTo>
                      <a:pt x="2144" y="171"/>
                    </a:lnTo>
                    <a:lnTo>
                      <a:pt x="2178" y="106"/>
                    </a:lnTo>
                    <a:lnTo>
                      <a:pt x="2201" y="34"/>
                    </a:lnTo>
                    <a:lnTo>
                      <a:pt x="2201" y="0"/>
                    </a:lnTo>
                    <a:lnTo>
                      <a:pt x="2201" y="3517"/>
                    </a:lnTo>
                    <a:lnTo>
                      <a:pt x="23" y="35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235520" y="4630680"/>
                <a:ext cx="222840" cy="375120"/>
              </a:xfrm>
              <a:custGeom>
                <a:avLst/>
                <a:gdLst/>
                <a:ahLst/>
                <a:rect l="l" t="t" r="r" b="b"/>
                <a:pathLst>
                  <a:path w="2200" h="3524">
                    <a:moveTo>
                      <a:pt x="23" y="3524"/>
                    </a:moveTo>
                    <a:lnTo>
                      <a:pt x="0" y="0"/>
                    </a:lnTo>
                    <a:lnTo>
                      <a:pt x="11" y="75"/>
                    </a:lnTo>
                    <a:lnTo>
                      <a:pt x="45" y="143"/>
                    </a:lnTo>
                    <a:lnTo>
                      <a:pt x="89" y="201"/>
                    </a:lnTo>
                    <a:lnTo>
                      <a:pt x="162" y="271"/>
                    </a:lnTo>
                    <a:lnTo>
                      <a:pt x="250" y="322"/>
                    </a:lnTo>
                    <a:lnTo>
                      <a:pt x="356" y="377"/>
                    </a:lnTo>
                    <a:lnTo>
                      <a:pt x="479" y="417"/>
                    </a:lnTo>
                    <a:lnTo>
                      <a:pt x="618" y="454"/>
                    </a:lnTo>
                    <a:lnTo>
                      <a:pt x="753" y="478"/>
                    </a:lnTo>
                    <a:lnTo>
                      <a:pt x="909" y="495"/>
                    </a:lnTo>
                    <a:lnTo>
                      <a:pt x="1066" y="497"/>
                    </a:lnTo>
                    <a:lnTo>
                      <a:pt x="1225" y="495"/>
                    </a:lnTo>
                    <a:lnTo>
                      <a:pt x="1370" y="485"/>
                    </a:lnTo>
                    <a:lnTo>
                      <a:pt x="1519" y="465"/>
                    </a:lnTo>
                    <a:lnTo>
                      <a:pt x="1660" y="435"/>
                    </a:lnTo>
                    <a:lnTo>
                      <a:pt x="1789" y="390"/>
                    </a:lnTo>
                    <a:lnTo>
                      <a:pt x="1900" y="350"/>
                    </a:lnTo>
                    <a:lnTo>
                      <a:pt x="2000" y="298"/>
                    </a:lnTo>
                    <a:lnTo>
                      <a:pt x="2085" y="234"/>
                    </a:lnTo>
                    <a:lnTo>
                      <a:pt x="2143" y="174"/>
                    </a:lnTo>
                    <a:lnTo>
                      <a:pt x="2177" y="109"/>
                    </a:lnTo>
                    <a:lnTo>
                      <a:pt x="2200" y="38"/>
                    </a:lnTo>
                    <a:lnTo>
                      <a:pt x="2200" y="0"/>
                    </a:lnTo>
                    <a:lnTo>
                      <a:pt x="2200" y="3524"/>
                    </a:lnTo>
                    <a:lnTo>
                      <a:pt x="23" y="35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491480" y="4701960"/>
                <a:ext cx="222840" cy="374760"/>
              </a:xfrm>
              <a:custGeom>
                <a:avLst/>
                <a:gdLst/>
                <a:ahLst/>
                <a:rect l="l" t="t" r="r" b="b"/>
                <a:pathLst>
                  <a:path w="2197" h="3514">
                    <a:moveTo>
                      <a:pt x="24" y="3514"/>
                    </a:moveTo>
                    <a:lnTo>
                      <a:pt x="0" y="0"/>
                    </a:lnTo>
                    <a:lnTo>
                      <a:pt x="11" y="74"/>
                    </a:lnTo>
                    <a:lnTo>
                      <a:pt x="45" y="134"/>
                    </a:lnTo>
                    <a:lnTo>
                      <a:pt x="89" y="195"/>
                    </a:lnTo>
                    <a:lnTo>
                      <a:pt x="166" y="263"/>
                    </a:lnTo>
                    <a:lnTo>
                      <a:pt x="254" y="321"/>
                    </a:lnTo>
                    <a:lnTo>
                      <a:pt x="356" y="368"/>
                    </a:lnTo>
                    <a:lnTo>
                      <a:pt x="476" y="410"/>
                    </a:lnTo>
                    <a:lnTo>
                      <a:pt x="619" y="449"/>
                    </a:lnTo>
                    <a:lnTo>
                      <a:pt x="757" y="472"/>
                    </a:lnTo>
                    <a:lnTo>
                      <a:pt x="911" y="490"/>
                    </a:lnTo>
                    <a:lnTo>
                      <a:pt x="1068" y="490"/>
                    </a:lnTo>
                    <a:lnTo>
                      <a:pt x="1225" y="490"/>
                    </a:lnTo>
                    <a:lnTo>
                      <a:pt x="1370" y="479"/>
                    </a:lnTo>
                    <a:lnTo>
                      <a:pt x="1521" y="456"/>
                    </a:lnTo>
                    <a:lnTo>
                      <a:pt x="1658" y="426"/>
                    </a:lnTo>
                    <a:lnTo>
                      <a:pt x="1793" y="381"/>
                    </a:lnTo>
                    <a:lnTo>
                      <a:pt x="1904" y="340"/>
                    </a:lnTo>
                    <a:lnTo>
                      <a:pt x="2004" y="290"/>
                    </a:lnTo>
                    <a:lnTo>
                      <a:pt x="2082" y="226"/>
                    </a:lnTo>
                    <a:lnTo>
                      <a:pt x="2143" y="165"/>
                    </a:lnTo>
                    <a:lnTo>
                      <a:pt x="2177" y="100"/>
                    </a:lnTo>
                    <a:lnTo>
                      <a:pt x="2197" y="32"/>
                    </a:lnTo>
                    <a:lnTo>
                      <a:pt x="2197" y="0"/>
                    </a:lnTo>
                    <a:lnTo>
                      <a:pt x="2197" y="3514"/>
                    </a:lnTo>
                    <a:lnTo>
                      <a:pt x="24" y="35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756800" y="4786200"/>
                <a:ext cx="222840" cy="372600"/>
              </a:xfrm>
              <a:custGeom>
                <a:avLst/>
                <a:gdLst/>
                <a:ahLst/>
                <a:rect l="l" t="t" r="r" b="b"/>
                <a:pathLst>
                  <a:path w="2199" h="3514">
                    <a:moveTo>
                      <a:pt x="27" y="3514"/>
                    </a:moveTo>
                    <a:lnTo>
                      <a:pt x="0" y="0"/>
                    </a:lnTo>
                    <a:lnTo>
                      <a:pt x="15" y="73"/>
                    </a:lnTo>
                    <a:lnTo>
                      <a:pt x="51" y="142"/>
                    </a:lnTo>
                    <a:lnTo>
                      <a:pt x="92" y="195"/>
                    </a:lnTo>
                    <a:lnTo>
                      <a:pt x="169" y="263"/>
                    </a:lnTo>
                    <a:lnTo>
                      <a:pt x="257" y="321"/>
                    </a:lnTo>
                    <a:lnTo>
                      <a:pt x="357" y="367"/>
                    </a:lnTo>
                    <a:lnTo>
                      <a:pt x="483" y="410"/>
                    </a:lnTo>
                    <a:lnTo>
                      <a:pt x="621" y="445"/>
                    </a:lnTo>
                    <a:lnTo>
                      <a:pt x="759" y="470"/>
                    </a:lnTo>
                    <a:lnTo>
                      <a:pt x="913" y="487"/>
                    </a:lnTo>
                    <a:lnTo>
                      <a:pt x="1070" y="494"/>
                    </a:lnTo>
                    <a:lnTo>
                      <a:pt x="1228" y="487"/>
                    </a:lnTo>
                    <a:lnTo>
                      <a:pt x="1377" y="476"/>
                    </a:lnTo>
                    <a:lnTo>
                      <a:pt x="1528" y="456"/>
                    </a:lnTo>
                    <a:lnTo>
                      <a:pt x="1662" y="426"/>
                    </a:lnTo>
                    <a:lnTo>
                      <a:pt x="1788" y="382"/>
                    </a:lnTo>
                    <a:lnTo>
                      <a:pt x="1903" y="340"/>
                    </a:lnTo>
                    <a:lnTo>
                      <a:pt x="2000" y="287"/>
                    </a:lnTo>
                    <a:lnTo>
                      <a:pt x="2088" y="233"/>
                    </a:lnTo>
                    <a:lnTo>
                      <a:pt x="2145" y="168"/>
                    </a:lnTo>
                    <a:lnTo>
                      <a:pt x="2180" y="104"/>
                    </a:lnTo>
                    <a:lnTo>
                      <a:pt x="2199" y="34"/>
                    </a:lnTo>
                    <a:lnTo>
                      <a:pt x="2199" y="0"/>
                    </a:lnTo>
                    <a:lnTo>
                      <a:pt x="2199" y="3514"/>
                    </a:lnTo>
                    <a:lnTo>
                      <a:pt x="27" y="35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31600" y="4755240"/>
                <a:ext cx="389520" cy="1081080"/>
              </a:xfrm>
              <a:custGeom>
                <a:avLst/>
                <a:gdLst/>
                <a:ahLst/>
                <a:rect l="l" t="t" r="r" b="b"/>
                <a:pathLst>
                  <a:path w="3831" h="10170">
                    <a:moveTo>
                      <a:pt x="0" y="6000"/>
                    </a:moveTo>
                    <a:lnTo>
                      <a:pt x="1309" y="0"/>
                    </a:lnTo>
                    <a:lnTo>
                      <a:pt x="1490" y="0"/>
                    </a:lnTo>
                    <a:lnTo>
                      <a:pt x="1481" y="3143"/>
                    </a:lnTo>
                    <a:lnTo>
                      <a:pt x="1481" y="3215"/>
                    </a:lnTo>
                    <a:lnTo>
                      <a:pt x="1513" y="3282"/>
                    </a:lnTo>
                    <a:lnTo>
                      <a:pt x="1562" y="3353"/>
                    </a:lnTo>
                    <a:lnTo>
                      <a:pt x="1636" y="3411"/>
                    </a:lnTo>
                    <a:lnTo>
                      <a:pt x="1731" y="3461"/>
                    </a:lnTo>
                    <a:lnTo>
                      <a:pt x="1821" y="3515"/>
                    </a:lnTo>
                    <a:lnTo>
                      <a:pt x="1946" y="3552"/>
                    </a:lnTo>
                    <a:lnTo>
                      <a:pt x="2082" y="3594"/>
                    </a:lnTo>
                    <a:lnTo>
                      <a:pt x="2223" y="3618"/>
                    </a:lnTo>
                    <a:lnTo>
                      <a:pt x="2368" y="3634"/>
                    </a:lnTo>
                    <a:lnTo>
                      <a:pt x="2519" y="3641"/>
                    </a:lnTo>
                    <a:lnTo>
                      <a:pt x="2681" y="3641"/>
                    </a:lnTo>
                    <a:lnTo>
                      <a:pt x="2819" y="3625"/>
                    </a:lnTo>
                    <a:lnTo>
                      <a:pt x="2964" y="3603"/>
                    </a:lnTo>
                    <a:lnTo>
                      <a:pt x="3107" y="3575"/>
                    </a:lnTo>
                    <a:lnTo>
                      <a:pt x="3225" y="3540"/>
                    </a:lnTo>
                    <a:lnTo>
                      <a:pt x="3340" y="3488"/>
                    </a:lnTo>
                    <a:lnTo>
                      <a:pt x="3447" y="3434"/>
                    </a:lnTo>
                    <a:lnTo>
                      <a:pt x="3521" y="3377"/>
                    </a:lnTo>
                    <a:lnTo>
                      <a:pt x="3579" y="3312"/>
                    </a:lnTo>
                    <a:lnTo>
                      <a:pt x="3618" y="3246"/>
                    </a:lnTo>
                    <a:lnTo>
                      <a:pt x="3633" y="3174"/>
                    </a:lnTo>
                    <a:lnTo>
                      <a:pt x="3643" y="3143"/>
                    </a:lnTo>
                    <a:lnTo>
                      <a:pt x="3643" y="0"/>
                    </a:lnTo>
                    <a:lnTo>
                      <a:pt x="3831" y="0"/>
                    </a:lnTo>
                    <a:lnTo>
                      <a:pt x="3831" y="3793"/>
                    </a:lnTo>
                    <a:lnTo>
                      <a:pt x="2556" y="9655"/>
                    </a:lnTo>
                    <a:lnTo>
                      <a:pt x="2499" y="9746"/>
                    </a:lnTo>
                    <a:lnTo>
                      <a:pt x="2445" y="9821"/>
                    </a:lnTo>
                    <a:lnTo>
                      <a:pt x="2368" y="9891"/>
                    </a:lnTo>
                    <a:lnTo>
                      <a:pt x="2280" y="9952"/>
                    </a:lnTo>
                    <a:lnTo>
                      <a:pt x="2159" y="10006"/>
                    </a:lnTo>
                    <a:lnTo>
                      <a:pt x="2034" y="10058"/>
                    </a:lnTo>
                    <a:lnTo>
                      <a:pt x="1896" y="10098"/>
                    </a:lnTo>
                    <a:lnTo>
                      <a:pt x="1744" y="10129"/>
                    </a:lnTo>
                    <a:lnTo>
                      <a:pt x="1590" y="10156"/>
                    </a:lnTo>
                    <a:lnTo>
                      <a:pt x="1424" y="10166"/>
                    </a:lnTo>
                    <a:lnTo>
                      <a:pt x="1259" y="10170"/>
                    </a:lnTo>
                    <a:lnTo>
                      <a:pt x="1091" y="10166"/>
                    </a:lnTo>
                    <a:lnTo>
                      <a:pt x="925" y="10147"/>
                    </a:lnTo>
                    <a:lnTo>
                      <a:pt x="769" y="10123"/>
                    </a:lnTo>
                    <a:lnTo>
                      <a:pt x="618" y="10088"/>
                    </a:lnTo>
                    <a:lnTo>
                      <a:pt x="483" y="10054"/>
                    </a:lnTo>
                    <a:lnTo>
                      <a:pt x="358" y="9997"/>
                    </a:lnTo>
                    <a:lnTo>
                      <a:pt x="250" y="9943"/>
                    </a:lnTo>
                    <a:lnTo>
                      <a:pt x="159" y="9875"/>
                    </a:lnTo>
                    <a:lnTo>
                      <a:pt x="84" y="9811"/>
                    </a:lnTo>
                    <a:lnTo>
                      <a:pt x="38" y="9737"/>
                    </a:lnTo>
                    <a:lnTo>
                      <a:pt x="4" y="9703"/>
                    </a:lnTo>
                    <a:lnTo>
                      <a:pt x="0" y="600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221120" y="4600440"/>
                <a:ext cx="776880" cy="1238040"/>
              </a:xfrm>
              <a:custGeom>
                <a:avLst/>
                <a:gdLst/>
                <a:ahLst/>
                <a:rect l="l" t="t" r="r" b="b"/>
                <a:pathLst>
                  <a:path w="7652" h="11636">
                    <a:moveTo>
                      <a:pt x="7473" y="4604"/>
                    </a:moveTo>
                    <a:lnTo>
                      <a:pt x="7473" y="4617"/>
                    </a:lnTo>
                    <a:lnTo>
                      <a:pt x="7457" y="4692"/>
                    </a:lnTo>
                    <a:lnTo>
                      <a:pt x="7415" y="4758"/>
                    </a:lnTo>
                    <a:lnTo>
                      <a:pt x="7351" y="4823"/>
                    </a:lnTo>
                    <a:lnTo>
                      <a:pt x="7285" y="4884"/>
                    </a:lnTo>
                    <a:lnTo>
                      <a:pt x="7185" y="4944"/>
                    </a:lnTo>
                    <a:lnTo>
                      <a:pt x="7072" y="4995"/>
                    </a:lnTo>
                    <a:lnTo>
                      <a:pt x="6943" y="5026"/>
                    </a:lnTo>
                    <a:lnTo>
                      <a:pt x="6812" y="5067"/>
                    </a:lnTo>
                    <a:lnTo>
                      <a:pt x="6670" y="5087"/>
                    </a:lnTo>
                    <a:lnTo>
                      <a:pt x="6516" y="5101"/>
                    </a:lnTo>
                    <a:lnTo>
                      <a:pt x="6356" y="5101"/>
                    </a:lnTo>
                    <a:lnTo>
                      <a:pt x="6201" y="5098"/>
                    </a:lnTo>
                    <a:lnTo>
                      <a:pt x="6052" y="5080"/>
                    </a:lnTo>
                    <a:lnTo>
                      <a:pt x="5905" y="5053"/>
                    </a:lnTo>
                    <a:lnTo>
                      <a:pt x="5776" y="5021"/>
                    </a:lnTo>
                    <a:lnTo>
                      <a:pt x="5655" y="4971"/>
                    </a:lnTo>
                    <a:lnTo>
                      <a:pt x="5548" y="4932"/>
                    </a:lnTo>
                    <a:lnTo>
                      <a:pt x="5453" y="4864"/>
                    </a:lnTo>
                    <a:lnTo>
                      <a:pt x="5388" y="4806"/>
                    </a:lnTo>
                    <a:lnTo>
                      <a:pt x="5335" y="4742"/>
                    </a:lnTo>
                    <a:lnTo>
                      <a:pt x="5304" y="4670"/>
                    </a:lnTo>
                    <a:lnTo>
                      <a:pt x="5295" y="4604"/>
                    </a:lnTo>
                    <a:lnTo>
                      <a:pt x="5277" y="4447"/>
                    </a:lnTo>
                    <a:lnTo>
                      <a:pt x="5277" y="1446"/>
                    </a:lnTo>
                    <a:lnTo>
                      <a:pt x="5099" y="1446"/>
                    </a:lnTo>
                    <a:lnTo>
                      <a:pt x="5099" y="749"/>
                    </a:lnTo>
                    <a:lnTo>
                      <a:pt x="4913" y="749"/>
                    </a:lnTo>
                    <a:lnTo>
                      <a:pt x="4913" y="3792"/>
                    </a:lnTo>
                    <a:lnTo>
                      <a:pt x="4911" y="3882"/>
                    </a:lnTo>
                    <a:lnTo>
                      <a:pt x="4911" y="3912"/>
                    </a:lnTo>
                    <a:lnTo>
                      <a:pt x="4889" y="3980"/>
                    </a:lnTo>
                    <a:lnTo>
                      <a:pt x="4854" y="4045"/>
                    </a:lnTo>
                    <a:lnTo>
                      <a:pt x="4796" y="4109"/>
                    </a:lnTo>
                    <a:lnTo>
                      <a:pt x="4719" y="4172"/>
                    </a:lnTo>
                    <a:lnTo>
                      <a:pt x="4612" y="4221"/>
                    </a:lnTo>
                    <a:lnTo>
                      <a:pt x="4505" y="4268"/>
                    </a:lnTo>
                    <a:lnTo>
                      <a:pt x="4371" y="4309"/>
                    </a:lnTo>
                    <a:lnTo>
                      <a:pt x="4236" y="4332"/>
                    </a:lnTo>
                    <a:lnTo>
                      <a:pt x="4083" y="4359"/>
                    </a:lnTo>
                    <a:lnTo>
                      <a:pt x="3925" y="4370"/>
                    </a:lnTo>
                    <a:lnTo>
                      <a:pt x="3780" y="4370"/>
                    </a:lnTo>
                    <a:lnTo>
                      <a:pt x="3621" y="4367"/>
                    </a:lnTo>
                    <a:lnTo>
                      <a:pt x="3471" y="4352"/>
                    </a:lnTo>
                    <a:lnTo>
                      <a:pt x="3333" y="4318"/>
                    </a:lnTo>
                    <a:lnTo>
                      <a:pt x="3190" y="4291"/>
                    </a:lnTo>
                    <a:lnTo>
                      <a:pt x="3065" y="4252"/>
                    </a:lnTo>
                    <a:lnTo>
                      <a:pt x="2965" y="4195"/>
                    </a:lnTo>
                    <a:lnTo>
                      <a:pt x="2880" y="4142"/>
                    </a:lnTo>
                    <a:lnTo>
                      <a:pt x="2803" y="4082"/>
                    </a:lnTo>
                    <a:lnTo>
                      <a:pt x="2750" y="4018"/>
                    </a:lnTo>
                    <a:lnTo>
                      <a:pt x="2722" y="3946"/>
                    </a:lnTo>
                    <a:lnTo>
                      <a:pt x="2715" y="3882"/>
                    </a:lnTo>
                    <a:lnTo>
                      <a:pt x="2732" y="3792"/>
                    </a:lnTo>
                    <a:lnTo>
                      <a:pt x="2732" y="749"/>
                    </a:lnTo>
                    <a:lnTo>
                      <a:pt x="2553" y="749"/>
                    </a:lnTo>
                    <a:lnTo>
                      <a:pt x="2553" y="0"/>
                    </a:lnTo>
                    <a:lnTo>
                      <a:pt x="2363" y="0"/>
                    </a:lnTo>
                    <a:lnTo>
                      <a:pt x="2363" y="3043"/>
                    </a:lnTo>
                    <a:lnTo>
                      <a:pt x="2367" y="3161"/>
                    </a:lnTo>
                    <a:lnTo>
                      <a:pt x="2363" y="3192"/>
                    </a:lnTo>
                    <a:lnTo>
                      <a:pt x="2344" y="3265"/>
                    </a:lnTo>
                    <a:lnTo>
                      <a:pt x="2310" y="3330"/>
                    </a:lnTo>
                    <a:lnTo>
                      <a:pt x="2251" y="3392"/>
                    </a:lnTo>
                    <a:lnTo>
                      <a:pt x="2169" y="3453"/>
                    </a:lnTo>
                    <a:lnTo>
                      <a:pt x="2067" y="3506"/>
                    </a:lnTo>
                    <a:lnTo>
                      <a:pt x="1956" y="3544"/>
                    </a:lnTo>
                    <a:lnTo>
                      <a:pt x="1825" y="3591"/>
                    </a:lnTo>
                    <a:lnTo>
                      <a:pt x="1690" y="3621"/>
                    </a:lnTo>
                    <a:lnTo>
                      <a:pt x="1537" y="3639"/>
                    </a:lnTo>
                    <a:lnTo>
                      <a:pt x="1390" y="3651"/>
                    </a:lnTo>
                    <a:lnTo>
                      <a:pt x="1230" y="3655"/>
                    </a:lnTo>
                    <a:lnTo>
                      <a:pt x="1076" y="3651"/>
                    </a:lnTo>
                    <a:lnTo>
                      <a:pt x="927" y="3635"/>
                    </a:lnTo>
                    <a:lnTo>
                      <a:pt x="784" y="3612"/>
                    </a:lnTo>
                    <a:lnTo>
                      <a:pt x="650" y="3571"/>
                    </a:lnTo>
                    <a:lnTo>
                      <a:pt x="526" y="3530"/>
                    </a:lnTo>
                    <a:lnTo>
                      <a:pt x="415" y="3483"/>
                    </a:lnTo>
                    <a:lnTo>
                      <a:pt x="328" y="3429"/>
                    </a:lnTo>
                    <a:lnTo>
                      <a:pt x="251" y="3353"/>
                    </a:lnTo>
                    <a:lnTo>
                      <a:pt x="205" y="3299"/>
                    </a:lnTo>
                    <a:lnTo>
                      <a:pt x="174" y="3233"/>
                    </a:lnTo>
                    <a:lnTo>
                      <a:pt x="173" y="3161"/>
                    </a:lnTo>
                    <a:lnTo>
                      <a:pt x="173" y="27"/>
                    </a:lnTo>
                    <a:lnTo>
                      <a:pt x="0" y="27"/>
                    </a:lnTo>
                    <a:lnTo>
                      <a:pt x="0" y="11053"/>
                    </a:lnTo>
                    <a:lnTo>
                      <a:pt x="0" y="11125"/>
                    </a:lnTo>
                    <a:lnTo>
                      <a:pt x="35" y="11199"/>
                    </a:lnTo>
                    <a:lnTo>
                      <a:pt x="81" y="11271"/>
                    </a:lnTo>
                    <a:lnTo>
                      <a:pt x="151" y="11341"/>
                    </a:lnTo>
                    <a:lnTo>
                      <a:pt x="243" y="11402"/>
                    </a:lnTo>
                    <a:lnTo>
                      <a:pt x="354" y="11459"/>
                    </a:lnTo>
                    <a:lnTo>
                      <a:pt x="480" y="11513"/>
                    </a:lnTo>
                    <a:lnTo>
                      <a:pt x="614" y="11559"/>
                    </a:lnTo>
                    <a:lnTo>
                      <a:pt x="766" y="11585"/>
                    </a:lnTo>
                    <a:lnTo>
                      <a:pt x="923" y="11612"/>
                    </a:lnTo>
                    <a:lnTo>
                      <a:pt x="1086" y="11632"/>
                    </a:lnTo>
                    <a:lnTo>
                      <a:pt x="1258" y="11636"/>
                    </a:lnTo>
                    <a:lnTo>
                      <a:pt x="1421" y="11632"/>
                    </a:lnTo>
                    <a:lnTo>
                      <a:pt x="1582" y="11616"/>
                    </a:lnTo>
                    <a:lnTo>
                      <a:pt x="1748" y="11593"/>
                    </a:lnTo>
                    <a:lnTo>
                      <a:pt x="1893" y="11562"/>
                    </a:lnTo>
                    <a:lnTo>
                      <a:pt x="2036" y="11524"/>
                    </a:lnTo>
                    <a:lnTo>
                      <a:pt x="2162" y="11473"/>
                    </a:lnTo>
                    <a:lnTo>
                      <a:pt x="2277" y="11423"/>
                    </a:lnTo>
                    <a:lnTo>
                      <a:pt x="2367" y="11348"/>
                    </a:lnTo>
                    <a:lnTo>
                      <a:pt x="2442" y="11283"/>
                    </a:lnTo>
                    <a:lnTo>
                      <a:pt x="2492" y="11210"/>
                    </a:lnTo>
                    <a:lnTo>
                      <a:pt x="2577" y="11199"/>
                    </a:lnTo>
                    <a:lnTo>
                      <a:pt x="2630" y="11271"/>
                    </a:lnTo>
                    <a:lnTo>
                      <a:pt x="2700" y="11341"/>
                    </a:lnTo>
                    <a:lnTo>
                      <a:pt x="2793" y="11402"/>
                    </a:lnTo>
                    <a:lnTo>
                      <a:pt x="2900" y="11459"/>
                    </a:lnTo>
                    <a:lnTo>
                      <a:pt x="3026" y="11513"/>
                    </a:lnTo>
                    <a:lnTo>
                      <a:pt x="3167" y="11559"/>
                    </a:lnTo>
                    <a:lnTo>
                      <a:pt x="3311" y="11585"/>
                    </a:lnTo>
                    <a:lnTo>
                      <a:pt x="3471" y="11612"/>
                    </a:lnTo>
                    <a:lnTo>
                      <a:pt x="3629" y="11632"/>
                    </a:lnTo>
                    <a:lnTo>
                      <a:pt x="3794" y="11636"/>
                    </a:lnTo>
                    <a:lnTo>
                      <a:pt x="3966" y="11632"/>
                    </a:lnTo>
                    <a:lnTo>
                      <a:pt x="4128" y="11616"/>
                    </a:lnTo>
                    <a:lnTo>
                      <a:pt x="4290" y="11593"/>
                    </a:lnTo>
                    <a:lnTo>
                      <a:pt x="4439" y="11562"/>
                    </a:lnTo>
                    <a:lnTo>
                      <a:pt x="4580" y="11524"/>
                    </a:lnTo>
                    <a:lnTo>
                      <a:pt x="4700" y="11473"/>
                    </a:lnTo>
                    <a:lnTo>
                      <a:pt x="4819" y="11423"/>
                    </a:lnTo>
                    <a:lnTo>
                      <a:pt x="4911" y="11348"/>
                    </a:lnTo>
                    <a:lnTo>
                      <a:pt x="4991" y="11283"/>
                    </a:lnTo>
                    <a:lnTo>
                      <a:pt x="5042" y="11210"/>
                    </a:lnTo>
                    <a:lnTo>
                      <a:pt x="5122" y="11199"/>
                    </a:lnTo>
                    <a:lnTo>
                      <a:pt x="5176" y="11271"/>
                    </a:lnTo>
                    <a:lnTo>
                      <a:pt x="5238" y="11341"/>
                    </a:lnTo>
                    <a:lnTo>
                      <a:pt x="5335" y="11402"/>
                    </a:lnTo>
                    <a:lnTo>
                      <a:pt x="5446" y="11459"/>
                    </a:lnTo>
                    <a:lnTo>
                      <a:pt x="5575" y="11513"/>
                    </a:lnTo>
                    <a:lnTo>
                      <a:pt x="5714" y="11559"/>
                    </a:lnTo>
                    <a:lnTo>
                      <a:pt x="5854" y="11585"/>
                    </a:lnTo>
                    <a:lnTo>
                      <a:pt x="6013" y="11612"/>
                    </a:lnTo>
                    <a:lnTo>
                      <a:pt x="6171" y="11632"/>
                    </a:lnTo>
                    <a:lnTo>
                      <a:pt x="6347" y="11636"/>
                    </a:lnTo>
                    <a:lnTo>
                      <a:pt x="6516" y="11632"/>
                    </a:lnTo>
                    <a:lnTo>
                      <a:pt x="6680" y="11616"/>
                    </a:lnTo>
                    <a:lnTo>
                      <a:pt x="6839" y="11593"/>
                    </a:lnTo>
                    <a:lnTo>
                      <a:pt x="6993" y="11562"/>
                    </a:lnTo>
                    <a:lnTo>
                      <a:pt x="7128" y="11524"/>
                    </a:lnTo>
                    <a:lnTo>
                      <a:pt x="7250" y="11473"/>
                    </a:lnTo>
                    <a:lnTo>
                      <a:pt x="7365" y="11423"/>
                    </a:lnTo>
                    <a:lnTo>
                      <a:pt x="7457" y="11348"/>
                    </a:lnTo>
                    <a:lnTo>
                      <a:pt x="7530" y="11283"/>
                    </a:lnTo>
                    <a:lnTo>
                      <a:pt x="7587" y="11210"/>
                    </a:lnTo>
                    <a:lnTo>
                      <a:pt x="7621" y="11138"/>
                    </a:lnTo>
                    <a:lnTo>
                      <a:pt x="7634" y="11067"/>
                    </a:lnTo>
                    <a:lnTo>
                      <a:pt x="7634" y="11053"/>
                    </a:lnTo>
                    <a:lnTo>
                      <a:pt x="7652" y="10915"/>
                    </a:lnTo>
                    <a:lnTo>
                      <a:pt x="7652" y="1446"/>
                    </a:lnTo>
                    <a:lnTo>
                      <a:pt x="7473" y="1446"/>
                    </a:lnTo>
                    <a:lnTo>
                      <a:pt x="7473" y="4447"/>
                    </a:lnTo>
                    <a:lnTo>
                      <a:pt x="7473" y="4604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>
              <a:off x="402120" y="5808600"/>
              <a:ext cx="228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enguiat Bk BT"/>
                </a:rPr>
                <a:t>Self Evalu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enguiat Bk BT"/>
                </a:rPr>
                <a:t>Re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7243920" y="2724120"/>
            <a:ext cx="1390320" cy="542880"/>
            <a:chOff x="7243920" y="2724120"/>
            <a:chExt cx="1390320" cy="542880"/>
          </a:xfrm>
        </p:grpSpPr>
        <p:sp>
          <p:nvSpPr>
            <p:cNvPr id="818" name=""/>
            <p:cNvSpPr/>
            <p:nvPr/>
          </p:nvSpPr>
          <p:spPr>
            <a:xfrm>
              <a:off x="7243920" y="2724120"/>
              <a:ext cx="1390320" cy="542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338960" y="2766960"/>
              <a:ext cx="119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i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7743960" y="3348000"/>
            <a:ext cx="390240" cy="266760"/>
          </a:xfrm>
          <a:prstGeom prst="downArrow">
            <a:avLst>
              <a:gd name="adj1" fmla="val 49593"/>
              <a:gd name="adj2" fmla="val 410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743960" y="2386080"/>
            <a:ext cx="390240" cy="266760"/>
          </a:xfrm>
          <a:prstGeom prst="downArrow">
            <a:avLst>
              <a:gd name="adj1" fmla="val 49593"/>
              <a:gd name="adj2" fmla="val 410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2895480" y="152280"/>
            <a:ext cx="4191120" cy="2667240"/>
            <a:chOff x="2895480" y="152280"/>
            <a:chExt cx="4191120" cy="2667240"/>
          </a:xfrm>
        </p:grpSpPr>
        <p:sp>
          <p:nvSpPr>
            <p:cNvPr id="823" name=""/>
            <p:cNvSpPr/>
            <p:nvPr/>
          </p:nvSpPr>
          <p:spPr>
            <a:xfrm>
              <a:off x="2895480" y="152280"/>
              <a:ext cx="4191120" cy="2667240"/>
            </a:xfrm>
            <a:prstGeom prst="rect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971800" y="228600"/>
              <a:ext cx="40384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SzPct val="70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ktivitas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349"/>
                </a:spcBef>
                <a:buClr>
                  <a:srgbClr val="000000"/>
                </a:buClr>
                <a:buSzPct val="50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sources 1.1 </a:t>
              </a:r>
              <a:r>
                <a:rPr b="0" lang="en-US" sz="14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unding Agency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349"/>
                </a:spcBef>
                <a:buClr>
                  <a:srgbClr val="000000"/>
                </a:buClr>
                <a:buSzPct val="50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sources 1.2 </a:t>
              </a:r>
              <a:r>
                <a:rPr b="0" lang="en-US" sz="14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unding Agency B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349"/>
                </a:spcBef>
                <a:buClr>
                  <a:srgbClr val="000000"/>
                </a:buClr>
                <a:buSzPct val="50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sources 1.3 </a:t>
              </a:r>
              <a:r>
                <a:rPr b="0" lang="en-US" sz="14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D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SzPct val="70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ktivitas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349"/>
                </a:spcBef>
                <a:buClr>
                  <a:srgbClr val="000000"/>
                </a:buClr>
                <a:buSzPct val="50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sources 2.1 </a:t>
              </a:r>
              <a:r>
                <a:rPr b="0" lang="en-US" sz="14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unding Agency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349"/>
                </a:spcBef>
                <a:buClr>
                  <a:srgbClr val="000000"/>
                </a:buClr>
                <a:buSzPct val="50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sources 2.2 </a:t>
              </a:r>
              <a:r>
                <a:rPr b="0" lang="en-US" sz="14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unding Agency B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349"/>
                </a:spcBef>
                <a:buClr>
                  <a:srgbClr val="000000"/>
                </a:buClr>
                <a:buSzPct val="50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sources 2.3 </a:t>
              </a:r>
              <a:r>
                <a:rPr b="0" lang="en-US" sz="14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unding Agency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SzPct val="70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SzPct val="70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ktivitas 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5943600" y="2895120"/>
            <a:ext cx="990720" cy="762120"/>
            <a:chOff x="5943600" y="2895120"/>
            <a:chExt cx="990720" cy="762120"/>
          </a:xfrm>
        </p:grpSpPr>
        <p:sp>
          <p:nvSpPr>
            <p:cNvPr id="826" name=""/>
            <p:cNvSpPr/>
            <p:nvPr/>
          </p:nvSpPr>
          <p:spPr>
            <a:xfrm flipV="1">
              <a:off x="5943600" y="3153600"/>
              <a:ext cx="574560" cy="50004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6637320" y="2894760"/>
              <a:ext cx="297000" cy="35748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6281640" y="2896560"/>
              <a:ext cx="354240" cy="22212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5943600" y="2977560"/>
              <a:ext cx="990720" cy="67932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fa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4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0" name=""/>
          <p:cNvGrpSpPr/>
          <p:nvPr/>
        </p:nvGrpSpPr>
        <p:grpSpPr>
          <a:xfrm>
            <a:off x="609480" y="1981080"/>
            <a:ext cx="2070360" cy="1211400"/>
            <a:chOff x="609480" y="1981080"/>
            <a:chExt cx="2070360" cy="1211400"/>
          </a:xfrm>
        </p:grpSpPr>
        <p:pic>
          <p:nvPicPr>
            <p:cNvPr id="831" name="" descr=""/>
            <p:cNvPicPr/>
            <p:nvPr/>
          </p:nvPicPr>
          <p:blipFill>
            <a:blip r:embed="rId1"/>
            <a:stretch/>
          </p:blipFill>
          <p:spPr>
            <a:xfrm>
              <a:off x="609480" y="1981080"/>
              <a:ext cx="2070360" cy="12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"/>
            <p:cNvSpPr/>
            <p:nvPr/>
          </p:nvSpPr>
          <p:spPr>
            <a:xfrm>
              <a:off x="636480" y="2227320"/>
              <a:ext cx="178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Benguiat Bk BT"/>
                </a:rPr>
                <a:t>SE-Re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nguiat Bk BT"/>
              </a:rPr>
              <a:t>Penyusun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enguiat Bk BT"/>
              </a:rPr>
              <a:t>Usulan Anggaran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038480" y="1980720"/>
            <a:ext cx="4724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pasitas/Kemampu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titusi da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ngoperasionalkan institu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n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enerate revenue/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666880" y="1752480"/>
            <a:ext cx="1447920" cy="1312920"/>
            <a:chOff x="2666880" y="1752480"/>
            <a:chExt cx="1447920" cy="1312920"/>
          </a:xfrm>
        </p:grpSpPr>
        <p:sp>
          <p:nvSpPr>
            <p:cNvPr id="836" name=""/>
            <p:cNvSpPr/>
            <p:nvPr/>
          </p:nvSpPr>
          <p:spPr>
            <a:xfrm>
              <a:off x="2666880" y="2209680"/>
              <a:ext cx="1447920" cy="533520"/>
            </a:xfrm>
            <a:prstGeom prst="rightArrow">
              <a:avLst>
                <a:gd name="adj1" fmla="val 50000"/>
                <a:gd name="adj2" fmla="val 88729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2872440" y="1752480"/>
              <a:ext cx="632520" cy="1312920"/>
              <a:chOff x="2872440" y="1752480"/>
              <a:chExt cx="632520" cy="1312920"/>
            </a:xfrm>
          </p:grpSpPr>
          <p:sp>
            <p:nvSpPr>
              <p:cNvPr id="838" name=""/>
              <p:cNvSpPr/>
              <p:nvPr/>
            </p:nvSpPr>
            <p:spPr>
              <a:xfrm>
                <a:off x="2971800" y="2057400"/>
                <a:ext cx="53316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872440" y="1752480"/>
                <a:ext cx="631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cc0000"/>
                    </a:solidFill>
                    <a:latin typeface="Times New Roman"/>
                  </a:rPr>
                  <a:t>?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0" name=""/>
          <p:cNvSpPr/>
          <p:nvPr/>
        </p:nvSpPr>
        <p:spPr>
          <a:xfrm>
            <a:off x="7618320" y="2514600"/>
            <a:ext cx="457200" cy="1219320"/>
          </a:xfrm>
          <a:custGeom>
            <a:avLst/>
            <a:gdLst/>
            <a:ahLst/>
            <a:rect l="l" t="t" r="r" b="b"/>
            <a:pathLst>
              <a:path w="288" h="768">
                <a:moveTo>
                  <a:pt x="0" y="0"/>
                </a:moveTo>
                <a:lnTo>
                  <a:pt x="288" y="0"/>
                </a:lnTo>
                <a:lnTo>
                  <a:pt x="288" y="768"/>
                </a:lnTo>
              </a:path>
            </a:pathLst>
          </a:cu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468560" y="3733920"/>
            <a:ext cx="12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y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mp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rlebih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7620840" y="4648320"/>
            <a:ext cx="1006560" cy="1526400"/>
            <a:chOff x="7620840" y="4648320"/>
            <a:chExt cx="1006560" cy="1526400"/>
          </a:xfrm>
        </p:grpSpPr>
        <p:sp>
          <p:nvSpPr>
            <p:cNvPr id="843" name=""/>
            <p:cNvSpPr/>
            <p:nvPr/>
          </p:nvSpPr>
          <p:spPr>
            <a:xfrm>
              <a:off x="7620840" y="5257800"/>
              <a:ext cx="1006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uali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ulus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nda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077320" y="4648320"/>
              <a:ext cx="0" cy="6094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5488560" y="3048120"/>
            <a:ext cx="1412280" cy="1678680"/>
            <a:chOff x="5488560" y="3048120"/>
            <a:chExt cx="1412280" cy="1678680"/>
          </a:xfrm>
        </p:grpSpPr>
        <p:sp>
          <p:nvSpPr>
            <p:cNvPr id="846" name=""/>
            <p:cNvSpPr/>
            <p:nvPr/>
          </p:nvSpPr>
          <p:spPr>
            <a:xfrm>
              <a:off x="5488560" y="3809880"/>
              <a:ext cx="1412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enyedia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a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endamp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172200" y="3048120"/>
              <a:ext cx="0" cy="7617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3657600" y="3048120"/>
            <a:ext cx="3810240" cy="3276360"/>
            <a:chOff x="3657600" y="3048120"/>
            <a:chExt cx="3810240" cy="3276360"/>
          </a:xfrm>
        </p:grpSpPr>
        <p:grpSp>
          <p:nvGrpSpPr>
            <p:cNvPr id="849" name=""/>
            <p:cNvGrpSpPr/>
            <p:nvPr/>
          </p:nvGrpSpPr>
          <p:grpSpPr>
            <a:xfrm>
              <a:off x="3657600" y="5257800"/>
              <a:ext cx="3810240" cy="1066680"/>
              <a:chOff x="3657600" y="5257800"/>
              <a:chExt cx="3810240" cy="1066680"/>
            </a:xfrm>
          </p:grpSpPr>
          <p:sp>
            <p:nvSpPr>
              <p:cNvPr id="850" name=""/>
              <p:cNvSpPr/>
              <p:nvPr/>
            </p:nvSpPr>
            <p:spPr>
              <a:xfrm>
                <a:off x="3657600" y="5257800"/>
                <a:ext cx="3809880" cy="106668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717720" y="5333760"/>
                <a:ext cx="3750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Kemampuan men-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rate revenu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Times New Roman"/>
                  </a:rPr>
                  <a:t>sebanding deng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Kemampuan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isbursement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anggar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7162920" y="3048120"/>
              <a:ext cx="0" cy="21333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2286000" y="3200400"/>
            <a:ext cx="3276720" cy="2057400"/>
            <a:chOff x="2286000" y="3200400"/>
            <a:chExt cx="3276720" cy="2057400"/>
          </a:xfrm>
        </p:grpSpPr>
        <p:grpSp>
          <p:nvGrpSpPr>
            <p:cNvPr id="854" name=""/>
            <p:cNvGrpSpPr/>
            <p:nvPr/>
          </p:nvGrpSpPr>
          <p:grpSpPr>
            <a:xfrm>
              <a:off x="2286000" y="3200400"/>
              <a:ext cx="2743200" cy="1622520"/>
              <a:chOff x="2286000" y="3200400"/>
              <a:chExt cx="2743200" cy="1622520"/>
            </a:xfrm>
          </p:grpSpPr>
          <p:sp>
            <p:nvSpPr>
              <p:cNvPr id="855" name=""/>
              <p:cNvSpPr/>
              <p:nvPr/>
            </p:nvSpPr>
            <p:spPr>
              <a:xfrm>
                <a:off x="2286000" y="3299040"/>
                <a:ext cx="2743200" cy="152388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364480" y="3299040"/>
                <a:ext cx="2224440" cy="149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Usulan Anggar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Times New Roman"/>
                  </a:rPr>
                  <a:t>disesuaikan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dengan 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Monotype Sorts"/>
                    <a:ea typeface="Monotype Sorts"/>
                  </a:rPr>
                  <a:t>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kemampuan menyedia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kan dana pendamping &amp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Monotype Sorts"/>
                    <a:ea typeface="Monotype Sorts"/>
                  </a:rPr>
                  <a:t>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kemampuan menjag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keberlangsungan investas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399200" y="3200400"/>
                <a:ext cx="5860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cc0000"/>
                    </a:solidFill>
                    <a:latin typeface="Times New Roman"/>
                  </a:rPr>
                  <a:t>!</a:t>
                </a:r>
                <a:endParaRPr b="0" lang="en-US" sz="9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4191120" y="4876920"/>
              <a:ext cx="0" cy="3808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5105520" y="4267080"/>
              <a:ext cx="45720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301320" y="4191120"/>
            <a:ext cx="171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emampuan men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enerate reven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p. 25 juta/thn at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p. 75 juta/3 th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14840" y="38862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Contoh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299160" y="5105520"/>
            <a:ext cx="3179880" cy="1114200"/>
            <a:chOff x="299160" y="5105520"/>
            <a:chExt cx="3179880" cy="1114200"/>
          </a:xfrm>
        </p:grpSpPr>
        <p:sp>
          <p:nvSpPr>
            <p:cNvPr id="863" name=""/>
            <p:cNvSpPr/>
            <p:nvPr/>
          </p:nvSpPr>
          <p:spPr>
            <a:xfrm>
              <a:off x="299160" y="5486400"/>
              <a:ext cx="3179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nggaran yg diusulk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p. 75 juta x 100/5 = Rp. 1.5 mily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Usulan Proposal max. = Rp. 1.5 milyar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914400" y="5105520"/>
              <a:ext cx="0" cy="4572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7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0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6480720" y="152280"/>
            <a:ext cx="254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nguiat Bk BT"/>
              </a:rPr>
              <a:t>Penyusun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nguiat Bk BT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463120" y="53352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hap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2286000"/>
            <a:ext cx="1611000" cy="2014200"/>
            <a:chOff x="533520" y="2286000"/>
            <a:chExt cx="1611000" cy="2014200"/>
          </a:xfrm>
        </p:grpSpPr>
        <p:grpSp>
          <p:nvGrpSpPr>
            <p:cNvPr id="868" name=""/>
            <p:cNvGrpSpPr/>
            <p:nvPr/>
          </p:nvGrpSpPr>
          <p:grpSpPr>
            <a:xfrm>
              <a:off x="533520" y="2286000"/>
              <a:ext cx="1476360" cy="1444320"/>
              <a:chOff x="533520" y="2286000"/>
              <a:chExt cx="1476360" cy="1444320"/>
            </a:xfrm>
          </p:grpSpPr>
          <p:sp>
            <p:nvSpPr>
              <p:cNvPr id="869" name=""/>
              <p:cNvSpPr/>
              <p:nvPr/>
            </p:nvSpPr>
            <p:spPr>
              <a:xfrm>
                <a:off x="541440" y="2441520"/>
                <a:ext cx="1370160" cy="1280880"/>
              </a:xfrm>
              <a:custGeom>
                <a:avLst/>
                <a:gdLst/>
                <a:ahLst/>
                <a:rect l="l" t="t" r="r" b="b"/>
                <a:pathLst>
                  <a:path w="1726" h="1614">
                    <a:moveTo>
                      <a:pt x="78" y="526"/>
                    </a:moveTo>
                    <a:lnTo>
                      <a:pt x="359" y="1016"/>
                    </a:lnTo>
                    <a:lnTo>
                      <a:pt x="362" y="1015"/>
                    </a:lnTo>
                    <a:lnTo>
                      <a:pt x="373" y="1011"/>
                    </a:lnTo>
                    <a:lnTo>
                      <a:pt x="384" y="1007"/>
                    </a:lnTo>
                    <a:lnTo>
                      <a:pt x="391" y="1004"/>
                    </a:lnTo>
                    <a:lnTo>
                      <a:pt x="386" y="1000"/>
                    </a:lnTo>
                    <a:lnTo>
                      <a:pt x="382" y="998"/>
                    </a:lnTo>
                    <a:lnTo>
                      <a:pt x="379" y="995"/>
                    </a:lnTo>
                    <a:lnTo>
                      <a:pt x="375" y="989"/>
                    </a:lnTo>
                    <a:lnTo>
                      <a:pt x="371" y="980"/>
                    </a:lnTo>
                    <a:lnTo>
                      <a:pt x="373" y="971"/>
                    </a:lnTo>
                    <a:lnTo>
                      <a:pt x="379" y="964"/>
                    </a:lnTo>
                    <a:lnTo>
                      <a:pt x="386" y="958"/>
                    </a:lnTo>
                    <a:lnTo>
                      <a:pt x="397" y="956"/>
                    </a:lnTo>
                    <a:lnTo>
                      <a:pt x="408" y="958"/>
                    </a:lnTo>
                    <a:lnTo>
                      <a:pt x="417" y="964"/>
                    </a:lnTo>
                    <a:lnTo>
                      <a:pt x="424" y="971"/>
                    </a:lnTo>
                    <a:lnTo>
                      <a:pt x="426" y="980"/>
                    </a:lnTo>
                    <a:lnTo>
                      <a:pt x="426" y="989"/>
                    </a:lnTo>
                    <a:lnTo>
                      <a:pt x="420" y="998"/>
                    </a:lnTo>
                    <a:lnTo>
                      <a:pt x="413" y="1004"/>
                    </a:lnTo>
                    <a:lnTo>
                      <a:pt x="408" y="1006"/>
                    </a:lnTo>
                    <a:lnTo>
                      <a:pt x="402" y="1006"/>
                    </a:lnTo>
                    <a:lnTo>
                      <a:pt x="397" y="1006"/>
                    </a:lnTo>
                    <a:lnTo>
                      <a:pt x="391" y="1004"/>
                    </a:lnTo>
                    <a:lnTo>
                      <a:pt x="359" y="1016"/>
                    </a:lnTo>
                    <a:lnTo>
                      <a:pt x="602" y="1446"/>
                    </a:lnTo>
                    <a:lnTo>
                      <a:pt x="653" y="1428"/>
                    </a:lnTo>
                    <a:lnTo>
                      <a:pt x="664" y="1426"/>
                    </a:lnTo>
                    <a:lnTo>
                      <a:pt x="673" y="1428"/>
                    </a:lnTo>
                    <a:lnTo>
                      <a:pt x="683" y="1434"/>
                    </a:lnTo>
                    <a:lnTo>
                      <a:pt x="690" y="1441"/>
                    </a:lnTo>
                    <a:lnTo>
                      <a:pt x="693" y="1450"/>
                    </a:lnTo>
                    <a:lnTo>
                      <a:pt x="692" y="1459"/>
                    </a:lnTo>
                    <a:lnTo>
                      <a:pt x="686" y="1468"/>
                    </a:lnTo>
                    <a:lnTo>
                      <a:pt x="679" y="1474"/>
                    </a:lnTo>
                    <a:lnTo>
                      <a:pt x="668" y="1476"/>
                    </a:lnTo>
                    <a:lnTo>
                      <a:pt x="659" y="1474"/>
                    </a:lnTo>
                    <a:lnTo>
                      <a:pt x="650" y="1468"/>
                    </a:lnTo>
                    <a:lnTo>
                      <a:pt x="643" y="1459"/>
                    </a:lnTo>
                    <a:lnTo>
                      <a:pt x="639" y="1450"/>
                    </a:lnTo>
                    <a:lnTo>
                      <a:pt x="641" y="1441"/>
                    </a:lnTo>
                    <a:lnTo>
                      <a:pt x="646" y="1434"/>
                    </a:lnTo>
                    <a:lnTo>
                      <a:pt x="653" y="1428"/>
                    </a:lnTo>
                    <a:lnTo>
                      <a:pt x="643" y="1432"/>
                    </a:lnTo>
                    <a:lnTo>
                      <a:pt x="626" y="1437"/>
                    </a:lnTo>
                    <a:lnTo>
                      <a:pt x="610" y="1445"/>
                    </a:lnTo>
                    <a:lnTo>
                      <a:pt x="602" y="1446"/>
                    </a:lnTo>
                    <a:lnTo>
                      <a:pt x="697" y="1614"/>
                    </a:lnTo>
                    <a:lnTo>
                      <a:pt x="1726" y="1228"/>
                    </a:lnTo>
                    <a:lnTo>
                      <a:pt x="1028" y="0"/>
                    </a:lnTo>
                    <a:lnTo>
                      <a:pt x="0" y="386"/>
                    </a:lnTo>
                    <a:lnTo>
                      <a:pt x="78" y="526"/>
                    </a:lnTo>
                    <a:lnTo>
                      <a:pt x="82" y="525"/>
                    </a:lnTo>
                    <a:lnTo>
                      <a:pt x="91" y="521"/>
                    </a:lnTo>
                    <a:lnTo>
                      <a:pt x="100" y="517"/>
                    </a:lnTo>
                    <a:lnTo>
                      <a:pt x="106" y="515"/>
                    </a:lnTo>
                    <a:lnTo>
                      <a:pt x="104" y="506"/>
                    </a:lnTo>
                    <a:lnTo>
                      <a:pt x="106" y="499"/>
                    </a:lnTo>
                    <a:lnTo>
                      <a:pt x="111" y="492"/>
                    </a:lnTo>
                    <a:lnTo>
                      <a:pt x="118" y="486"/>
                    </a:lnTo>
                    <a:lnTo>
                      <a:pt x="129" y="484"/>
                    </a:lnTo>
                    <a:lnTo>
                      <a:pt x="138" y="488"/>
                    </a:lnTo>
                    <a:lnTo>
                      <a:pt x="147" y="494"/>
                    </a:lnTo>
                    <a:lnTo>
                      <a:pt x="155" y="501"/>
                    </a:lnTo>
                    <a:lnTo>
                      <a:pt x="158" y="510"/>
                    </a:lnTo>
                    <a:lnTo>
                      <a:pt x="157" y="519"/>
                    </a:lnTo>
                    <a:lnTo>
                      <a:pt x="151" y="528"/>
                    </a:lnTo>
                    <a:lnTo>
                      <a:pt x="144" y="534"/>
                    </a:lnTo>
                    <a:lnTo>
                      <a:pt x="133" y="534"/>
                    </a:lnTo>
                    <a:lnTo>
                      <a:pt x="122" y="530"/>
                    </a:lnTo>
                    <a:lnTo>
                      <a:pt x="113" y="525"/>
                    </a:lnTo>
                    <a:lnTo>
                      <a:pt x="106" y="515"/>
                    </a:lnTo>
                    <a:lnTo>
                      <a:pt x="102" y="517"/>
                    </a:lnTo>
                    <a:lnTo>
                      <a:pt x="93" y="521"/>
                    </a:lnTo>
                    <a:lnTo>
                      <a:pt x="82" y="525"/>
                    </a:lnTo>
                    <a:lnTo>
                      <a:pt x="78" y="5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98680" y="2855880"/>
                <a:ext cx="231840" cy="399960"/>
              </a:xfrm>
              <a:custGeom>
                <a:avLst/>
                <a:gdLst/>
                <a:ahLst/>
                <a:rect l="l" t="t" r="r" b="b"/>
                <a:pathLst>
                  <a:path w="291" h="503">
                    <a:moveTo>
                      <a:pt x="284" y="486"/>
                    </a:moveTo>
                    <a:lnTo>
                      <a:pt x="291" y="490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280" y="497"/>
                    </a:lnTo>
                    <a:lnTo>
                      <a:pt x="287" y="501"/>
                    </a:lnTo>
                    <a:lnTo>
                      <a:pt x="280" y="497"/>
                    </a:lnTo>
                    <a:lnTo>
                      <a:pt x="284" y="503"/>
                    </a:lnTo>
                    <a:lnTo>
                      <a:pt x="287" y="501"/>
                    </a:lnTo>
                    <a:lnTo>
                      <a:pt x="284" y="4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24040" y="3232080"/>
                <a:ext cx="46080" cy="21960"/>
              </a:xfrm>
              <a:custGeom>
                <a:avLst/>
                <a:gdLst/>
                <a:ahLst/>
                <a:rect l="l" t="t" r="r" b="b"/>
                <a:pathLst>
                  <a:path w="56" h="28">
                    <a:moveTo>
                      <a:pt x="31" y="15"/>
                    </a:moveTo>
                    <a:lnTo>
                      <a:pt x="33" y="0"/>
                    </a:lnTo>
                    <a:lnTo>
                      <a:pt x="25" y="4"/>
                    </a:lnTo>
                    <a:lnTo>
                      <a:pt x="14" y="8"/>
                    </a:lnTo>
                    <a:lnTo>
                      <a:pt x="3" y="11"/>
                    </a:lnTo>
                    <a:lnTo>
                      <a:pt x="0" y="13"/>
                    </a:lnTo>
                    <a:lnTo>
                      <a:pt x="3" y="28"/>
                    </a:lnTo>
                    <a:lnTo>
                      <a:pt x="7" y="26"/>
                    </a:lnTo>
                    <a:lnTo>
                      <a:pt x="18" y="22"/>
                    </a:lnTo>
                    <a:lnTo>
                      <a:pt x="29" y="19"/>
                    </a:lnTo>
                    <a:lnTo>
                      <a:pt x="36" y="15"/>
                    </a:lnTo>
                    <a:lnTo>
                      <a:pt x="38" y="0"/>
                    </a:lnTo>
                    <a:lnTo>
                      <a:pt x="36" y="15"/>
                    </a:lnTo>
                    <a:lnTo>
                      <a:pt x="56" y="10"/>
                    </a:lnTo>
                    <a:lnTo>
                      <a:pt x="36" y="2"/>
                    </a:lnTo>
                    <a:lnTo>
                      <a:pt x="3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33400" y="322416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" y="8"/>
                    </a:moveTo>
                    <a:lnTo>
                      <a:pt x="0" y="8"/>
                    </a:lnTo>
                    <a:lnTo>
                      <a:pt x="5" y="13"/>
                    </a:lnTo>
                    <a:lnTo>
                      <a:pt x="11" y="19"/>
                    </a:lnTo>
                    <a:lnTo>
                      <a:pt x="14" y="21"/>
                    </a:lnTo>
                    <a:lnTo>
                      <a:pt x="20" y="26"/>
                    </a:lnTo>
                    <a:lnTo>
                      <a:pt x="27" y="11"/>
                    </a:lnTo>
                    <a:lnTo>
                      <a:pt x="22" y="10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830520" y="3195360"/>
                <a:ext cx="18720" cy="3348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20" y="0"/>
                    </a:moveTo>
                    <a:lnTo>
                      <a:pt x="20" y="0"/>
                    </a:lnTo>
                    <a:lnTo>
                      <a:pt x="9" y="7"/>
                    </a:lnTo>
                    <a:lnTo>
                      <a:pt x="2" y="18"/>
                    </a:lnTo>
                    <a:lnTo>
                      <a:pt x="0" y="29"/>
                    </a:lnTo>
                    <a:lnTo>
                      <a:pt x="5" y="42"/>
                    </a:lnTo>
                    <a:lnTo>
                      <a:pt x="16" y="34"/>
                    </a:lnTo>
                    <a:lnTo>
                      <a:pt x="15" y="29"/>
                    </a:lnTo>
                    <a:lnTo>
                      <a:pt x="16" y="22"/>
                    </a:lnTo>
                    <a:lnTo>
                      <a:pt x="20" y="18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46360" y="3195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47" y="20"/>
                    </a:moveTo>
                    <a:lnTo>
                      <a:pt x="46" y="18"/>
                    </a:lnTo>
                    <a:lnTo>
                      <a:pt x="36" y="9"/>
                    </a:lnTo>
                    <a:lnTo>
                      <a:pt x="26" y="2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4" y="16"/>
                    </a:lnTo>
                    <a:lnTo>
                      <a:pt x="13" y="15"/>
                    </a:lnTo>
                    <a:lnTo>
                      <a:pt x="22" y="16"/>
                    </a:lnTo>
                    <a:lnTo>
                      <a:pt x="29" y="20"/>
                    </a:lnTo>
                    <a:lnTo>
                      <a:pt x="35" y="26"/>
                    </a:lnTo>
                    <a:lnTo>
                      <a:pt x="33" y="24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68320" y="3211200"/>
                <a:ext cx="17640" cy="3204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4" y="42"/>
                    </a:moveTo>
                    <a:lnTo>
                      <a:pt x="4" y="42"/>
                    </a:lnTo>
                    <a:lnTo>
                      <a:pt x="15" y="33"/>
                    </a:lnTo>
                    <a:lnTo>
                      <a:pt x="22" y="22"/>
                    </a:lnTo>
                    <a:lnTo>
                      <a:pt x="22" y="11"/>
                    </a:lnTo>
                    <a:lnTo>
                      <a:pt x="20" y="0"/>
                    </a:lnTo>
                    <a:lnTo>
                      <a:pt x="6" y="4"/>
                    </a:lnTo>
                    <a:lnTo>
                      <a:pt x="8" y="11"/>
                    </a:lnTo>
                    <a:lnTo>
                      <a:pt x="8" y="18"/>
                    </a:lnTo>
                    <a:lnTo>
                      <a:pt x="4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4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51040" y="3232080"/>
                <a:ext cx="19080" cy="126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3" y="15"/>
                    </a:moveTo>
                    <a:lnTo>
                      <a:pt x="0" y="15"/>
                    </a:lnTo>
                    <a:lnTo>
                      <a:pt x="7" y="17"/>
                    </a:lnTo>
                    <a:lnTo>
                      <a:pt x="12" y="17"/>
                    </a:lnTo>
                    <a:lnTo>
                      <a:pt x="18" y="17"/>
                    </a:lnTo>
                    <a:lnTo>
                      <a:pt x="25" y="15"/>
                    </a:lnTo>
                    <a:lnTo>
                      <a:pt x="21" y="0"/>
                    </a:lnTo>
                    <a:lnTo>
                      <a:pt x="18" y="2"/>
                    </a:lnTo>
                    <a:lnTo>
                      <a:pt x="12" y="2"/>
                    </a:lnTo>
                    <a:lnTo>
                      <a:pt x="7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17560" y="3232080"/>
                <a:ext cx="36720" cy="219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16" y="17"/>
                    </a:moveTo>
                    <a:lnTo>
                      <a:pt x="12" y="28"/>
                    </a:lnTo>
                    <a:lnTo>
                      <a:pt x="45" y="15"/>
                    </a:lnTo>
                    <a:lnTo>
                      <a:pt x="42" y="0"/>
                    </a:lnTo>
                    <a:lnTo>
                      <a:pt x="9" y="13"/>
                    </a:lnTo>
                    <a:lnTo>
                      <a:pt x="5" y="24"/>
                    </a:lnTo>
                    <a:lnTo>
                      <a:pt x="9" y="13"/>
                    </a:lnTo>
                    <a:lnTo>
                      <a:pt x="0" y="17"/>
                    </a:lnTo>
                    <a:lnTo>
                      <a:pt x="5" y="24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22600" y="3244680"/>
                <a:ext cx="201600" cy="352440"/>
              </a:xfrm>
              <a:custGeom>
                <a:avLst/>
                <a:gdLst/>
                <a:ahLst/>
                <a:rect l="l" t="t" r="r" b="b"/>
                <a:pathLst>
                  <a:path w="255" h="443">
                    <a:moveTo>
                      <a:pt x="248" y="426"/>
                    </a:moveTo>
                    <a:lnTo>
                      <a:pt x="255" y="430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244" y="437"/>
                    </a:lnTo>
                    <a:lnTo>
                      <a:pt x="251" y="441"/>
                    </a:lnTo>
                    <a:lnTo>
                      <a:pt x="244" y="437"/>
                    </a:lnTo>
                    <a:lnTo>
                      <a:pt x="246" y="443"/>
                    </a:lnTo>
                    <a:lnTo>
                      <a:pt x="251" y="441"/>
                    </a:lnTo>
                    <a:lnTo>
                      <a:pt x="24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017720" y="3568680"/>
                <a:ext cx="44280" cy="2700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51" y="0"/>
                    </a:moveTo>
                    <a:lnTo>
                      <a:pt x="51" y="0"/>
                    </a:lnTo>
                    <a:lnTo>
                      <a:pt x="0" y="18"/>
                    </a:lnTo>
                    <a:lnTo>
                      <a:pt x="3" y="33"/>
                    </a:lnTo>
                    <a:lnTo>
                      <a:pt x="54" y="14"/>
                    </a:lnTo>
                    <a:lnTo>
                      <a:pt x="54" y="14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059120" y="356868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43" y="18"/>
                    </a:moveTo>
                    <a:lnTo>
                      <a:pt x="43" y="18"/>
                    </a:lnTo>
                    <a:lnTo>
                      <a:pt x="34" y="9"/>
                    </a:lnTo>
                    <a:lnTo>
                      <a:pt x="23" y="2"/>
                    </a:lnTo>
                    <a:lnTo>
                      <a:pt x="12" y="0"/>
                    </a:lnTo>
                    <a:lnTo>
                      <a:pt x="0" y="2"/>
                    </a:lnTo>
                    <a:lnTo>
                      <a:pt x="3" y="16"/>
                    </a:lnTo>
                    <a:lnTo>
                      <a:pt x="12" y="15"/>
                    </a:lnTo>
                    <a:lnTo>
                      <a:pt x="20" y="16"/>
                    </a:lnTo>
                    <a:lnTo>
                      <a:pt x="27" y="20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079640" y="3582720"/>
                <a:ext cx="17280" cy="3492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4" y="44"/>
                    </a:moveTo>
                    <a:lnTo>
                      <a:pt x="4" y="44"/>
                    </a:lnTo>
                    <a:lnTo>
                      <a:pt x="15" y="35"/>
                    </a:lnTo>
                    <a:lnTo>
                      <a:pt x="22" y="24"/>
                    </a:lnTo>
                    <a:lnTo>
                      <a:pt x="24" y="13"/>
                    </a:lnTo>
                    <a:lnTo>
                      <a:pt x="18" y="0"/>
                    </a:lnTo>
                    <a:lnTo>
                      <a:pt x="7" y="8"/>
                    </a:lnTo>
                    <a:lnTo>
                      <a:pt x="9" y="13"/>
                    </a:lnTo>
                    <a:lnTo>
                      <a:pt x="7" y="20"/>
                    </a:lnTo>
                    <a:lnTo>
                      <a:pt x="4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4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047960" y="359712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4" h="27">
                    <a:moveTo>
                      <a:pt x="0" y="7"/>
                    </a:moveTo>
                    <a:lnTo>
                      <a:pt x="0" y="7"/>
                    </a:lnTo>
                    <a:lnTo>
                      <a:pt x="9" y="18"/>
                    </a:lnTo>
                    <a:lnTo>
                      <a:pt x="20" y="25"/>
                    </a:lnTo>
                    <a:lnTo>
                      <a:pt x="31" y="27"/>
                    </a:lnTo>
                    <a:lnTo>
                      <a:pt x="44" y="25"/>
                    </a:lnTo>
                    <a:lnTo>
                      <a:pt x="40" y="10"/>
                    </a:lnTo>
                    <a:lnTo>
                      <a:pt x="31" y="12"/>
                    </a:lnTo>
                    <a:lnTo>
                      <a:pt x="24" y="10"/>
                    </a:lnTo>
                    <a:lnTo>
                      <a:pt x="16" y="7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042920" y="3568680"/>
                <a:ext cx="19080" cy="33120"/>
              </a:xfrm>
              <a:custGeom>
                <a:avLst/>
                <a:gdLst/>
                <a:ahLst/>
                <a:rect l="l" t="t" r="r" b="b"/>
                <a:pathLst>
                  <a:path w="23" h="42">
                    <a:moveTo>
                      <a:pt x="23" y="14"/>
                    </a:moveTo>
                    <a:lnTo>
                      <a:pt x="20" y="0"/>
                    </a:lnTo>
                    <a:lnTo>
                      <a:pt x="9" y="7"/>
                    </a:lnTo>
                    <a:lnTo>
                      <a:pt x="1" y="18"/>
                    </a:lnTo>
                    <a:lnTo>
                      <a:pt x="0" y="29"/>
                    </a:lnTo>
                    <a:lnTo>
                      <a:pt x="5" y="42"/>
                    </a:lnTo>
                    <a:lnTo>
                      <a:pt x="16" y="35"/>
                    </a:lnTo>
                    <a:lnTo>
                      <a:pt x="14" y="29"/>
                    </a:lnTo>
                    <a:lnTo>
                      <a:pt x="16" y="22"/>
                    </a:lnTo>
                    <a:lnTo>
                      <a:pt x="20" y="18"/>
                    </a:lnTo>
                    <a:lnTo>
                      <a:pt x="23" y="14"/>
                    </a:lnTo>
                    <a:lnTo>
                      <a:pt x="20" y="0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011240" y="3568680"/>
                <a:ext cx="50760" cy="27000"/>
              </a:xfrm>
              <a:custGeom>
                <a:avLst/>
                <a:gdLst/>
                <a:ahLst/>
                <a:rect l="l" t="t" r="r" b="b"/>
                <a:pathLst>
                  <a:path w="63" h="33">
                    <a:moveTo>
                      <a:pt x="16" y="22"/>
                    </a:moveTo>
                    <a:lnTo>
                      <a:pt x="12" y="33"/>
                    </a:lnTo>
                    <a:lnTo>
                      <a:pt x="20" y="31"/>
                    </a:lnTo>
                    <a:lnTo>
                      <a:pt x="36" y="24"/>
                    </a:lnTo>
                    <a:lnTo>
                      <a:pt x="52" y="18"/>
                    </a:lnTo>
                    <a:lnTo>
                      <a:pt x="63" y="14"/>
                    </a:lnTo>
                    <a:lnTo>
                      <a:pt x="60" y="0"/>
                    </a:lnTo>
                    <a:lnTo>
                      <a:pt x="49" y="4"/>
                    </a:lnTo>
                    <a:lnTo>
                      <a:pt x="32" y="9"/>
                    </a:lnTo>
                    <a:lnTo>
                      <a:pt x="16" y="16"/>
                    </a:lnTo>
                    <a:lnTo>
                      <a:pt x="9" y="18"/>
                    </a:lnTo>
                    <a:lnTo>
                      <a:pt x="5" y="29"/>
                    </a:lnTo>
                    <a:lnTo>
                      <a:pt x="9" y="18"/>
                    </a:lnTo>
                    <a:lnTo>
                      <a:pt x="0" y="22"/>
                    </a:lnTo>
                    <a:lnTo>
                      <a:pt x="5" y="29"/>
                    </a:lnTo>
                    <a:lnTo>
                      <a:pt x="1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016280" y="3585960"/>
                <a:ext cx="82440" cy="144360"/>
              </a:xfrm>
              <a:custGeom>
                <a:avLst/>
                <a:gdLst/>
                <a:ahLst/>
                <a:rect l="l" t="t" r="r" b="b"/>
                <a:pathLst>
                  <a:path w="106" h="180">
                    <a:moveTo>
                      <a:pt x="98" y="164"/>
                    </a:moveTo>
                    <a:lnTo>
                      <a:pt x="106" y="167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95" y="175"/>
                    </a:lnTo>
                    <a:lnTo>
                      <a:pt x="102" y="178"/>
                    </a:lnTo>
                    <a:lnTo>
                      <a:pt x="95" y="175"/>
                    </a:lnTo>
                    <a:lnTo>
                      <a:pt x="96" y="180"/>
                    </a:lnTo>
                    <a:lnTo>
                      <a:pt x="102" y="178"/>
                    </a:lnTo>
                    <a:lnTo>
                      <a:pt x="98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094040" y="3409920"/>
                <a:ext cx="825480" cy="318960"/>
              </a:xfrm>
              <a:custGeom>
                <a:avLst/>
                <a:gdLst/>
                <a:ahLst/>
                <a:rect l="l" t="t" r="r" b="b"/>
                <a:pathLst>
                  <a:path w="1041" h="401">
                    <a:moveTo>
                      <a:pt x="1025" y="11"/>
                    </a:moveTo>
                    <a:lnTo>
                      <a:pt x="1029" y="0"/>
                    </a:lnTo>
                    <a:lnTo>
                      <a:pt x="0" y="387"/>
                    </a:lnTo>
                    <a:lnTo>
                      <a:pt x="4" y="401"/>
                    </a:lnTo>
                    <a:lnTo>
                      <a:pt x="1032" y="15"/>
                    </a:lnTo>
                    <a:lnTo>
                      <a:pt x="1036" y="4"/>
                    </a:lnTo>
                    <a:lnTo>
                      <a:pt x="1032" y="15"/>
                    </a:lnTo>
                    <a:lnTo>
                      <a:pt x="1041" y="11"/>
                    </a:lnTo>
                    <a:lnTo>
                      <a:pt x="1036" y="4"/>
                    </a:lnTo>
                    <a:lnTo>
                      <a:pt x="102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352520" y="2433600"/>
                <a:ext cx="561960" cy="985680"/>
              </a:xfrm>
              <a:custGeom>
                <a:avLst/>
                <a:gdLst/>
                <a:ahLst/>
                <a:rect l="l" t="t" r="r" b="b"/>
                <a:pathLst>
                  <a:path w="708" h="1240">
                    <a:moveTo>
                      <a:pt x="7" y="16"/>
                    </a:moveTo>
                    <a:lnTo>
                      <a:pt x="0" y="13"/>
                    </a:lnTo>
                    <a:lnTo>
                      <a:pt x="697" y="1240"/>
                    </a:lnTo>
                    <a:lnTo>
                      <a:pt x="708" y="1233"/>
                    </a:lnTo>
                    <a:lnTo>
                      <a:pt x="11" y="5"/>
                    </a:lnTo>
                    <a:lnTo>
                      <a:pt x="4" y="2"/>
                    </a:lnTo>
                    <a:lnTo>
                      <a:pt x="11" y="5"/>
                    </a:lnTo>
                    <a:lnTo>
                      <a:pt x="9" y="0"/>
                    </a:lnTo>
                    <a:lnTo>
                      <a:pt x="4" y="2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33520" y="2435040"/>
                <a:ext cx="825480" cy="318960"/>
              </a:xfrm>
              <a:custGeom>
                <a:avLst/>
                <a:gdLst/>
                <a:ahLst/>
                <a:rect l="l" t="t" r="r" b="b"/>
                <a:pathLst>
                  <a:path w="1041" h="400">
                    <a:moveTo>
                      <a:pt x="16" y="389"/>
                    </a:moveTo>
                    <a:lnTo>
                      <a:pt x="13" y="400"/>
                    </a:lnTo>
                    <a:lnTo>
                      <a:pt x="1041" y="14"/>
                    </a:lnTo>
                    <a:lnTo>
                      <a:pt x="1038" y="0"/>
                    </a:lnTo>
                    <a:lnTo>
                      <a:pt x="9" y="386"/>
                    </a:lnTo>
                    <a:lnTo>
                      <a:pt x="6" y="397"/>
                    </a:lnTo>
                    <a:lnTo>
                      <a:pt x="9" y="386"/>
                    </a:lnTo>
                    <a:lnTo>
                      <a:pt x="0" y="389"/>
                    </a:lnTo>
                    <a:lnTo>
                      <a:pt x="6" y="397"/>
                    </a:lnTo>
                    <a:lnTo>
                      <a:pt x="16" y="3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36760" y="2744640"/>
                <a:ext cx="71280" cy="122040"/>
              </a:xfrm>
              <a:custGeom>
                <a:avLst/>
                <a:gdLst/>
                <a:ahLst/>
                <a:rect l="l" t="t" r="r" b="b"/>
                <a:pathLst>
                  <a:path w="89" h="154">
                    <a:moveTo>
                      <a:pt x="81" y="137"/>
                    </a:moveTo>
                    <a:lnTo>
                      <a:pt x="89" y="141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78" y="148"/>
                    </a:lnTo>
                    <a:lnTo>
                      <a:pt x="85" y="152"/>
                    </a:lnTo>
                    <a:lnTo>
                      <a:pt x="78" y="148"/>
                    </a:lnTo>
                    <a:lnTo>
                      <a:pt x="80" y="154"/>
                    </a:lnTo>
                    <a:lnTo>
                      <a:pt x="85" y="152"/>
                    </a:lnTo>
                    <a:lnTo>
                      <a:pt x="81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01920" y="284472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2" y="9"/>
                    </a:moveTo>
                    <a:lnTo>
                      <a:pt x="26" y="0"/>
                    </a:lnTo>
                    <a:lnTo>
                      <a:pt x="22" y="2"/>
                    </a:lnTo>
                    <a:lnTo>
                      <a:pt x="13" y="6"/>
                    </a:lnTo>
                    <a:lnTo>
                      <a:pt x="4" y="9"/>
                    </a:lnTo>
                    <a:lnTo>
                      <a:pt x="0" y="11"/>
                    </a:lnTo>
                    <a:lnTo>
                      <a:pt x="4" y="26"/>
                    </a:lnTo>
                    <a:lnTo>
                      <a:pt x="8" y="24"/>
                    </a:lnTo>
                    <a:lnTo>
                      <a:pt x="17" y="20"/>
                    </a:lnTo>
                    <a:lnTo>
                      <a:pt x="26" y="17"/>
                    </a:lnTo>
                    <a:lnTo>
                      <a:pt x="33" y="15"/>
                    </a:lnTo>
                    <a:lnTo>
                      <a:pt x="37" y="6"/>
                    </a:lnTo>
                    <a:lnTo>
                      <a:pt x="31" y="13"/>
                    </a:lnTo>
                    <a:lnTo>
                      <a:pt x="39" y="11"/>
                    </a:lnTo>
                    <a:lnTo>
                      <a:pt x="37" y="6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17760" y="2822400"/>
                <a:ext cx="19080" cy="30240"/>
              </a:xfrm>
              <a:custGeom>
                <a:avLst/>
                <a:gdLst/>
                <a:ahLst/>
                <a:rect l="l" t="t" r="r" b="b"/>
                <a:pathLst>
                  <a:path w="24" h="38">
                    <a:moveTo>
                      <a:pt x="20" y="0"/>
                    </a:moveTo>
                    <a:lnTo>
                      <a:pt x="20" y="0"/>
                    </a:lnTo>
                    <a:lnTo>
                      <a:pt x="10" y="7"/>
                    </a:lnTo>
                    <a:lnTo>
                      <a:pt x="2" y="16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17" y="35"/>
                    </a:lnTo>
                    <a:lnTo>
                      <a:pt x="15" y="27"/>
                    </a:lnTo>
                    <a:lnTo>
                      <a:pt x="17" y="24"/>
                    </a:lnTo>
                    <a:lnTo>
                      <a:pt x="20" y="18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33600" y="282096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44" h="28">
                    <a:moveTo>
                      <a:pt x="44" y="20"/>
                    </a:moveTo>
                    <a:lnTo>
                      <a:pt x="44" y="20"/>
                    </a:lnTo>
                    <a:lnTo>
                      <a:pt x="35" y="11"/>
                    </a:lnTo>
                    <a:lnTo>
                      <a:pt x="26" y="4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4" y="17"/>
                    </a:lnTo>
                    <a:lnTo>
                      <a:pt x="13" y="15"/>
                    </a:lnTo>
                    <a:lnTo>
                      <a:pt x="19" y="18"/>
                    </a:lnTo>
                    <a:lnTo>
                      <a:pt x="28" y="22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4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54120" y="2836800"/>
                <a:ext cx="19080" cy="3312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4" y="44"/>
                    </a:moveTo>
                    <a:lnTo>
                      <a:pt x="4" y="44"/>
                    </a:lnTo>
                    <a:lnTo>
                      <a:pt x="15" y="35"/>
                    </a:lnTo>
                    <a:lnTo>
                      <a:pt x="22" y="24"/>
                    </a:lnTo>
                    <a:lnTo>
                      <a:pt x="24" y="13"/>
                    </a:lnTo>
                    <a:lnTo>
                      <a:pt x="18" y="0"/>
                    </a:lnTo>
                    <a:lnTo>
                      <a:pt x="7" y="8"/>
                    </a:lnTo>
                    <a:lnTo>
                      <a:pt x="9" y="13"/>
                    </a:lnTo>
                    <a:lnTo>
                      <a:pt x="7" y="20"/>
                    </a:lnTo>
                    <a:lnTo>
                      <a:pt x="4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4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19200" y="284796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8" h="29">
                    <a:moveTo>
                      <a:pt x="0" y="3"/>
                    </a:moveTo>
                    <a:lnTo>
                      <a:pt x="2" y="7"/>
                    </a:lnTo>
                    <a:lnTo>
                      <a:pt x="11" y="18"/>
                    </a:lnTo>
                    <a:lnTo>
                      <a:pt x="22" y="25"/>
                    </a:lnTo>
                    <a:lnTo>
                      <a:pt x="35" y="29"/>
                    </a:lnTo>
                    <a:lnTo>
                      <a:pt x="48" y="29"/>
                    </a:lnTo>
                    <a:lnTo>
                      <a:pt x="44" y="14"/>
                    </a:lnTo>
                    <a:lnTo>
                      <a:pt x="35" y="14"/>
                    </a:lnTo>
                    <a:lnTo>
                      <a:pt x="26" y="11"/>
                    </a:lnTo>
                    <a:lnTo>
                      <a:pt x="18" y="7"/>
                    </a:lnTo>
                    <a:lnTo>
                      <a:pt x="13" y="0"/>
                    </a:lnTo>
                    <a:lnTo>
                      <a:pt x="15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95440" y="28461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46" h="24">
                    <a:moveTo>
                      <a:pt x="17" y="13"/>
                    </a:moveTo>
                    <a:lnTo>
                      <a:pt x="13" y="24"/>
                    </a:lnTo>
                    <a:lnTo>
                      <a:pt x="17" y="22"/>
                    </a:lnTo>
                    <a:lnTo>
                      <a:pt x="28" y="18"/>
                    </a:lnTo>
                    <a:lnTo>
                      <a:pt x="37" y="15"/>
                    </a:lnTo>
                    <a:lnTo>
                      <a:pt x="31" y="5"/>
                    </a:lnTo>
                    <a:lnTo>
                      <a:pt x="46" y="5"/>
                    </a:lnTo>
                    <a:lnTo>
                      <a:pt x="33" y="0"/>
                    </a:lnTo>
                    <a:lnTo>
                      <a:pt x="24" y="4"/>
                    </a:lnTo>
                    <a:lnTo>
                      <a:pt x="13" y="7"/>
                    </a:lnTo>
                    <a:lnTo>
                      <a:pt x="9" y="9"/>
                    </a:lnTo>
                    <a:lnTo>
                      <a:pt x="6" y="20"/>
                    </a:lnTo>
                    <a:lnTo>
                      <a:pt x="9" y="9"/>
                    </a:lnTo>
                    <a:lnTo>
                      <a:pt x="0" y="15"/>
                    </a:lnTo>
                    <a:lnTo>
                      <a:pt x="6" y="20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30360" y="2709720"/>
                <a:ext cx="561960" cy="981000"/>
              </a:xfrm>
              <a:custGeom>
                <a:avLst/>
                <a:gdLst/>
                <a:ahLst/>
                <a:rect l="l" t="t" r="r" b="b"/>
                <a:pathLst>
                  <a:path w="708" h="1235">
                    <a:moveTo>
                      <a:pt x="702" y="1231"/>
                    </a:moveTo>
                    <a:lnTo>
                      <a:pt x="708" y="1228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697" y="1235"/>
                    </a:lnTo>
                    <a:lnTo>
                      <a:pt x="702" y="123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019160" y="358128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0" y="11"/>
                    </a:moveTo>
                    <a:lnTo>
                      <a:pt x="33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017720" y="3574800"/>
                <a:ext cx="30240" cy="20880"/>
              </a:xfrm>
              <a:custGeom>
                <a:avLst/>
                <a:gdLst/>
                <a:ahLst/>
                <a:rect l="l" t="t" r="r" b="b"/>
                <a:pathLst>
                  <a:path w="36" h="26">
                    <a:moveTo>
                      <a:pt x="34" y="7"/>
                    </a:moveTo>
                    <a:lnTo>
                      <a:pt x="32" y="0"/>
                    </a:lnTo>
                    <a:lnTo>
                      <a:pt x="0" y="11"/>
                    </a:lnTo>
                    <a:lnTo>
                      <a:pt x="3" y="26"/>
                    </a:lnTo>
                    <a:lnTo>
                      <a:pt x="36" y="15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825480" y="323820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12"/>
                    </a:moveTo>
                    <a:lnTo>
                      <a:pt x="1" y="11"/>
                    </a:lnTo>
                    <a:lnTo>
                      <a:pt x="9" y="7"/>
                    </a:lnTo>
                    <a:lnTo>
                      <a:pt x="16" y="3"/>
                    </a:lnTo>
                    <a:lnTo>
                      <a:pt x="23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822600" y="3232080"/>
                <a:ext cx="25200" cy="2052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4" y="0"/>
                    </a:moveTo>
                    <a:lnTo>
                      <a:pt x="16" y="4"/>
                    </a:lnTo>
                    <a:lnTo>
                      <a:pt x="9" y="8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7" y="26"/>
                    </a:lnTo>
                    <a:lnTo>
                      <a:pt x="9" y="24"/>
                    </a:lnTo>
                    <a:lnTo>
                      <a:pt x="16" y="22"/>
                    </a:lnTo>
                    <a:lnTo>
                      <a:pt x="24" y="19"/>
                    </a:lnTo>
                    <a:lnTo>
                      <a:pt x="31" y="1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03360" y="2854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0" y="7"/>
                    </a:moveTo>
                    <a:lnTo>
                      <a:pt x="2" y="7"/>
                    </a:lnTo>
                    <a:lnTo>
                      <a:pt x="9" y="4"/>
                    </a:lnTo>
                    <a:lnTo>
                      <a:pt x="15" y="2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01920" y="284796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19" y="0"/>
                    </a:moveTo>
                    <a:lnTo>
                      <a:pt x="15" y="2"/>
                    </a:lnTo>
                    <a:lnTo>
                      <a:pt x="10" y="3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13" y="18"/>
                    </a:lnTo>
                    <a:lnTo>
                      <a:pt x="19" y="16"/>
                    </a:lnTo>
                    <a:lnTo>
                      <a:pt x="26" y="1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30360" y="2595240"/>
                <a:ext cx="819000" cy="316080"/>
              </a:xfrm>
              <a:custGeom>
                <a:avLst/>
                <a:gdLst/>
                <a:ahLst/>
                <a:rect l="l" t="t" r="r" b="b"/>
                <a:pathLst>
                  <a:path w="1032" h="397">
                    <a:moveTo>
                      <a:pt x="2" y="390"/>
                    </a:moveTo>
                    <a:lnTo>
                      <a:pt x="4" y="397"/>
                    </a:lnTo>
                    <a:lnTo>
                      <a:pt x="1032" y="14"/>
                    </a:lnTo>
                    <a:lnTo>
                      <a:pt x="1028" y="0"/>
                    </a:lnTo>
                    <a:lnTo>
                      <a:pt x="0" y="382"/>
                    </a:lnTo>
                    <a:lnTo>
                      <a:pt x="2" y="39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58800" y="2643120"/>
                <a:ext cx="817560" cy="317520"/>
              </a:xfrm>
              <a:custGeom>
                <a:avLst/>
                <a:gdLst/>
                <a:ahLst/>
                <a:rect l="l" t="t" r="r" b="b"/>
                <a:pathLst>
                  <a:path w="1031" h="399">
                    <a:moveTo>
                      <a:pt x="2" y="392"/>
                    </a:moveTo>
                    <a:lnTo>
                      <a:pt x="4" y="399"/>
                    </a:lnTo>
                    <a:lnTo>
                      <a:pt x="1031" y="15"/>
                    </a:lnTo>
                    <a:lnTo>
                      <a:pt x="1027" y="0"/>
                    </a:lnTo>
                    <a:lnTo>
                      <a:pt x="0" y="384"/>
                    </a:lnTo>
                    <a:lnTo>
                      <a:pt x="2" y="39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85800" y="2692080"/>
                <a:ext cx="819360" cy="317520"/>
              </a:xfrm>
              <a:custGeom>
                <a:avLst/>
                <a:gdLst/>
                <a:ahLst/>
                <a:rect l="l" t="t" r="r" b="b"/>
                <a:pathLst>
                  <a:path w="1032" h="399">
                    <a:moveTo>
                      <a:pt x="2" y="392"/>
                    </a:moveTo>
                    <a:lnTo>
                      <a:pt x="4" y="399"/>
                    </a:lnTo>
                    <a:lnTo>
                      <a:pt x="1032" y="14"/>
                    </a:lnTo>
                    <a:lnTo>
                      <a:pt x="1028" y="0"/>
                    </a:lnTo>
                    <a:lnTo>
                      <a:pt x="0" y="384"/>
                    </a:lnTo>
                    <a:lnTo>
                      <a:pt x="2" y="39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12800" y="2741400"/>
                <a:ext cx="819360" cy="317520"/>
              </a:xfrm>
              <a:custGeom>
                <a:avLst/>
                <a:gdLst/>
                <a:ahLst/>
                <a:rect l="l" t="t" r="r" b="b"/>
                <a:pathLst>
                  <a:path w="1032" h="399">
                    <a:moveTo>
                      <a:pt x="1" y="392"/>
                    </a:moveTo>
                    <a:lnTo>
                      <a:pt x="3" y="399"/>
                    </a:lnTo>
                    <a:lnTo>
                      <a:pt x="1032" y="14"/>
                    </a:lnTo>
                    <a:lnTo>
                      <a:pt x="1028" y="0"/>
                    </a:lnTo>
                    <a:lnTo>
                      <a:pt x="0" y="384"/>
                    </a:lnTo>
                    <a:lnTo>
                      <a:pt x="1" y="39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41600" y="2790720"/>
                <a:ext cx="819000" cy="315720"/>
              </a:xfrm>
              <a:custGeom>
                <a:avLst/>
                <a:gdLst/>
                <a:ahLst/>
                <a:rect l="l" t="t" r="r" b="b"/>
                <a:pathLst>
                  <a:path w="1032" h="397">
                    <a:moveTo>
                      <a:pt x="2" y="390"/>
                    </a:moveTo>
                    <a:lnTo>
                      <a:pt x="4" y="397"/>
                    </a:lnTo>
                    <a:lnTo>
                      <a:pt x="1032" y="14"/>
                    </a:lnTo>
                    <a:lnTo>
                      <a:pt x="1029" y="0"/>
                    </a:lnTo>
                    <a:lnTo>
                      <a:pt x="0" y="382"/>
                    </a:lnTo>
                    <a:lnTo>
                      <a:pt x="2" y="39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68600" y="2838240"/>
                <a:ext cx="819000" cy="317520"/>
              </a:xfrm>
              <a:custGeom>
                <a:avLst/>
                <a:gdLst/>
                <a:ahLst/>
                <a:rect l="l" t="t" r="r" b="b"/>
                <a:pathLst>
                  <a:path w="1032" h="399">
                    <a:moveTo>
                      <a:pt x="2" y="392"/>
                    </a:moveTo>
                    <a:lnTo>
                      <a:pt x="3" y="399"/>
                    </a:lnTo>
                    <a:lnTo>
                      <a:pt x="1032" y="14"/>
                    </a:lnTo>
                    <a:lnTo>
                      <a:pt x="1028" y="0"/>
                    </a:lnTo>
                    <a:lnTo>
                      <a:pt x="0" y="384"/>
                    </a:lnTo>
                    <a:lnTo>
                      <a:pt x="2" y="39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95600" y="2887560"/>
                <a:ext cx="819000" cy="317520"/>
              </a:xfrm>
              <a:custGeom>
                <a:avLst/>
                <a:gdLst/>
                <a:ahLst/>
                <a:rect l="l" t="t" r="r" b="b"/>
                <a:pathLst>
                  <a:path w="1032" h="401">
                    <a:moveTo>
                      <a:pt x="2" y="394"/>
                    </a:moveTo>
                    <a:lnTo>
                      <a:pt x="4" y="401"/>
                    </a:lnTo>
                    <a:lnTo>
                      <a:pt x="1032" y="15"/>
                    </a:lnTo>
                    <a:lnTo>
                      <a:pt x="1029" y="0"/>
                    </a:lnTo>
                    <a:lnTo>
                      <a:pt x="0" y="386"/>
                    </a:lnTo>
                    <a:lnTo>
                      <a:pt x="2" y="39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85960" y="2935080"/>
                <a:ext cx="755640" cy="293760"/>
              </a:xfrm>
              <a:custGeom>
                <a:avLst/>
                <a:gdLst/>
                <a:ahLst/>
                <a:rect l="l" t="t" r="r" b="b"/>
                <a:pathLst>
                  <a:path w="954" h="370">
                    <a:moveTo>
                      <a:pt x="2" y="362"/>
                    </a:moveTo>
                    <a:lnTo>
                      <a:pt x="4" y="370"/>
                    </a:lnTo>
                    <a:lnTo>
                      <a:pt x="954" y="15"/>
                    </a:lnTo>
                    <a:lnTo>
                      <a:pt x="950" y="0"/>
                    </a:lnTo>
                    <a:lnTo>
                      <a:pt x="0" y="355"/>
                    </a:lnTo>
                    <a:lnTo>
                      <a:pt x="2" y="36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52480" y="2984400"/>
                <a:ext cx="819360" cy="317520"/>
              </a:xfrm>
              <a:custGeom>
                <a:avLst/>
                <a:gdLst/>
                <a:ahLst/>
                <a:rect l="l" t="t" r="r" b="b"/>
                <a:pathLst>
                  <a:path w="1032" h="401">
                    <a:moveTo>
                      <a:pt x="2" y="394"/>
                    </a:moveTo>
                    <a:lnTo>
                      <a:pt x="4" y="401"/>
                    </a:lnTo>
                    <a:lnTo>
                      <a:pt x="1032" y="15"/>
                    </a:lnTo>
                    <a:lnTo>
                      <a:pt x="1029" y="0"/>
                    </a:lnTo>
                    <a:lnTo>
                      <a:pt x="0" y="386"/>
                    </a:lnTo>
                    <a:lnTo>
                      <a:pt x="2" y="39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79480" y="3033720"/>
                <a:ext cx="819360" cy="317160"/>
              </a:xfrm>
              <a:custGeom>
                <a:avLst/>
                <a:gdLst/>
                <a:ahLst/>
                <a:rect l="l" t="t" r="r" b="b"/>
                <a:pathLst>
                  <a:path w="1032" h="401">
                    <a:moveTo>
                      <a:pt x="2" y="394"/>
                    </a:moveTo>
                    <a:lnTo>
                      <a:pt x="4" y="401"/>
                    </a:lnTo>
                    <a:lnTo>
                      <a:pt x="1032" y="15"/>
                    </a:lnTo>
                    <a:lnTo>
                      <a:pt x="1028" y="0"/>
                    </a:lnTo>
                    <a:lnTo>
                      <a:pt x="0" y="386"/>
                    </a:lnTo>
                    <a:lnTo>
                      <a:pt x="2" y="39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906480" y="3081240"/>
                <a:ext cx="819360" cy="318960"/>
              </a:xfrm>
              <a:custGeom>
                <a:avLst/>
                <a:gdLst/>
                <a:ahLst/>
                <a:rect l="l" t="t" r="r" b="b"/>
                <a:pathLst>
                  <a:path w="1032" h="401">
                    <a:moveTo>
                      <a:pt x="1" y="393"/>
                    </a:moveTo>
                    <a:lnTo>
                      <a:pt x="3" y="401"/>
                    </a:lnTo>
                    <a:lnTo>
                      <a:pt x="1032" y="15"/>
                    </a:lnTo>
                    <a:lnTo>
                      <a:pt x="1028" y="0"/>
                    </a:lnTo>
                    <a:lnTo>
                      <a:pt x="0" y="386"/>
                    </a:lnTo>
                    <a:lnTo>
                      <a:pt x="1" y="3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935280" y="3130560"/>
                <a:ext cx="819000" cy="318960"/>
              </a:xfrm>
              <a:custGeom>
                <a:avLst/>
                <a:gdLst/>
                <a:ahLst/>
                <a:rect l="l" t="t" r="r" b="b"/>
                <a:pathLst>
                  <a:path w="1032" h="401">
                    <a:moveTo>
                      <a:pt x="2" y="393"/>
                    </a:moveTo>
                    <a:lnTo>
                      <a:pt x="4" y="401"/>
                    </a:lnTo>
                    <a:lnTo>
                      <a:pt x="1032" y="14"/>
                    </a:lnTo>
                    <a:lnTo>
                      <a:pt x="1028" y="0"/>
                    </a:lnTo>
                    <a:lnTo>
                      <a:pt x="0" y="386"/>
                    </a:lnTo>
                    <a:lnTo>
                      <a:pt x="2" y="3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962280" y="3179520"/>
                <a:ext cx="819000" cy="317520"/>
              </a:xfrm>
              <a:custGeom>
                <a:avLst/>
                <a:gdLst/>
                <a:ahLst/>
                <a:rect l="l" t="t" r="r" b="b"/>
                <a:pathLst>
                  <a:path w="1032" h="399">
                    <a:moveTo>
                      <a:pt x="1" y="392"/>
                    </a:moveTo>
                    <a:lnTo>
                      <a:pt x="3" y="399"/>
                    </a:lnTo>
                    <a:lnTo>
                      <a:pt x="1032" y="14"/>
                    </a:lnTo>
                    <a:lnTo>
                      <a:pt x="1028" y="0"/>
                    </a:lnTo>
                    <a:lnTo>
                      <a:pt x="0" y="384"/>
                    </a:lnTo>
                    <a:lnTo>
                      <a:pt x="1" y="39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990720" y="3227400"/>
                <a:ext cx="817560" cy="318960"/>
              </a:xfrm>
              <a:custGeom>
                <a:avLst/>
                <a:gdLst/>
                <a:ahLst/>
                <a:rect l="l" t="t" r="r" b="b"/>
                <a:pathLst>
                  <a:path w="1030" h="401">
                    <a:moveTo>
                      <a:pt x="2" y="393"/>
                    </a:moveTo>
                    <a:lnTo>
                      <a:pt x="4" y="401"/>
                    </a:lnTo>
                    <a:lnTo>
                      <a:pt x="1030" y="15"/>
                    </a:lnTo>
                    <a:lnTo>
                      <a:pt x="1027" y="0"/>
                    </a:lnTo>
                    <a:lnTo>
                      <a:pt x="0" y="386"/>
                    </a:lnTo>
                    <a:lnTo>
                      <a:pt x="2" y="3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074960" y="3276360"/>
                <a:ext cx="761760" cy="297000"/>
              </a:xfrm>
              <a:custGeom>
                <a:avLst/>
                <a:gdLst/>
                <a:ahLst/>
                <a:rect l="l" t="t" r="r" b="b"/>
                <a:pathLst>
                  <a:path w="961" h="373">
                    <a:moveTo>
                      <a:pt x="959" y="7"/>
                    </a:moveTo>
                    <a:lnTo>
                      <a:pt x="957" y="0"/>
                    </a:lnTo>
                    <a:lnTo>
                      <a:pt x="0" y="359"/>
                    </a:lnTo>
                    <a:lnTo>
                      <a:pt x="3" y="373"/>
                    </a:lnTo>
                    <a:lnTo>
                      <a:pt x="961" y="14"/>
                    </a:lnTo>
                    <a:lnTo>
                      <a:pt x="959" y="7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046160" y="3325680"/>
                <a:ext cx="819360" cy="318960"/>
              </a:xfrm>
              <a:custGeom>
                <a:avLst/>
                <a:gdLst/>
                <a:ahLst/>
                <a:rect l="l" t="t" r="r" b="b"/>
                <a:pathLst>
                  <a:path w="1032" h="401">
                    <a:moveTo>
                      <a:pt x="2" y="393"/>
                    </a:moveTo>
                    <a:lnTo>
                      <a:pt x="4" y="401"/>
                    </a:lnTo>
                    <a:lnTo>
                      <a:pt x="1032" y="14"/>
                    </a:lnTo>
                    <a:lnTo>
                      <a:pt x="1029" y="0"/>
                    </a:lnTo>
                    <a:lnTo>
                      <a:pt x="0" y="386"/>
                    </a:lnTo>
                    <a:lnTo>
                      <a:pt x="2" y="3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073160" y="3373200"/>
                <a:ext cx="819360" cy="319320"/>
              </a:xfrm>
              <a:custGeom>
                <a:avLst/>
                <a:gdLst/>
                <a:ahLst/>
                <a:rect l="l" t="t" r="r" b="b"/>
                <a:pathLst>
                  <a:path w="1032" h="401">
                    <a:moveTo>
                      <a:pt x="2" y="393"/>
                    </a:moveTo>
                    <a:lnTo>
                      <a:pt x="3" y="401"/>
                    </a:lnTo>
                    <a:lnTo>
                      <a:pt x="1032" y="15"/>
                    </a:lnTo>
                    <a:lnTo>
                      <a:pt x="1028" y="0"/>
                    </a:lnTo>
                    <a:lnTo>
                      <a:pt x="0" y="386"/>
                    </a:lnTo>
                    <a:lnTo>
                      <a:pt x="2" y="3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68520" y="2546280"/>
                <a:ext cx="752400" cy="291960"/>
              </a:xfrm>
              <a:custGeom>
                <a:avLst/>
                <a:gdLst/>
                <a:ahLst/>
                <a:rect l="l" t="t" r="r" b="b"/>
                <a:pathLst>
                  <a:path w="948" h="368">
                    <a:moveTo>
                      <a:pt x="2" y="361"/>
                    </a:moveTo>
                    <a:lnTo>
                      <a:pt x="4" y="368"/>
                    </a:lnTo>
                    <a:lnTo>
                      <a:pt x="948" y="14"/>
                    </a:lnTo>
                    <a:lnTo>
                      <a:pt x="945" y="0"/>
                    </a:lnTo>
                    <a:lnTo>
                      <a:pt x="0" y="353"/>
                    </a:lnTo>
                    <a:lnTo>
                      <a:pt x="2" y="36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58880" y="2293920"/>
                <a:ext cx="1241640" cy="1220760"/>
              </a:xfrm>
              <a:custGeom>
                <a:avLst/>
                <a:gdLst/>
                <a:ahLst/>
                <a:rect l="l" t="t" r="r" b="b"/>
                <a:pathLst>
                  <a:path w="1565" h="1538">
                    <a:moveTo>
                      <a:pt x="56" y="363"/>
                    </a:moveTo>
                    <a:lnTo>
                      <a:pt x="251" y="891"/>
                    </a:lnTo>
                    <a:lnTo>
                      <a:pt x="255" y="891"/>
                    </a:lnTo>
                    <a:lnTo>
                      <a:pt x="266" y="887"/>
                    </a:lnTo>
                    <a:lnTo>
                      <a:pt x="277" y="885"/>
                    </a:lnTo>
                    <a:lnTo>
                      <a:pt x="286" y="885"/>
                    </a:lnTo>
                    <a:lnTo>
                      <a:pt x="282" y="882"/>
                    </a:lnTo>
                    <a:lnTo>
                      <a:pt x="279" y="878"/>
                    </a:lnTo>
                    <a:lnTo>
                      <a:pt x="275" y="873"/>
                    </a:lnTo>
                    <a:lnTo>
                      <a:pt x="273" y="869"/>
                    </a:lnTo>
                    <a:lnTo>
                      <a:pt x="271" y="858"/>
                    </a:lnTo>
                    <a:lnTo>
                      <a:pt x="273" y="849"/>
                    </a:lnTo>
                    <a:lnTo>
                      <a:pt x="279" y="842"/>
                    </a:lnTo>
                    <a:lnTo>
                      <a:pt x="288" y="838"/>
                    </a:lnTo>
                    <a:lnTo>
                      <a:pt x="299" y="838"/>
                    </a:lnTo>
                    <a:lnTo>
                      <a:pt x="308" y="842"/>
                    </a:lnTo>
                    <a:lnTo>
                      <a:pt x="317" y="849"/>
                    </a:lnTo>
                    <a:lnTo>
                      <a:pt x="322" y="858"/>
                    </a:lnTo>
                    <a:lnTo>
                      <a:pt x="324" y="869"/>
                    </a:lnTo>
                    <a:lnTo>
                      <a:pt x="322" y="878"/>
                    </a:lnTo>
                    <a:lnTo>
                      <a:pt x="315" y="885"/>
                    </a:lnTo>
                    <a:lnTo>
                      <a:pt x="306" y="889"/>
                    </a:lnTo>
                    <a:lnTo>
                      <a:pt x="302" y="889"/>
                    </a:lnTo>
                    <a:lnTo>
                      <a:pt x="297" y="887"/>
                    </a:lnTo>
                    <a:lnTo>
                      <a:pt x="291" y="887"/>
                    </a:lnTo>
                    <a:lnTo>
                      <a:pt x="286" y="885"/>
                    </a:lnTo>
                    <a:lnTo>
                      <a:pt x="251" y="891"/>
                    </a:lnTo>
                    <a:lnTo>
                      <a:pt x="422" y="1357"/>
                    </a:lnTo>
                    <a:lnTo>
                      <a:pt x="475" y="1346"/>
                    </a:lnTo>
                    <a:lnTo>
                      <a:pt x="486" y="1346"/>
                    </a:lnTo>
                    <a:lnTo>
                      <a:pt x="495" y="1350"/>
                    </a:lnTo>
                    <a:lnTo>
                      <a:pt x="504" y="1357"/>
                    </a:lnTo>
                    <a:lnTo>
                      <a:pt x="510" y="1366"/>
                    </a:lnTo>
                    <a:lnTo>
                      <a:pt x="510" y="1376"/>
                    </a:lnTo>
                    <a:lnTo>
                      <a:pt x="508" y="1385"/>
                    </a:lnTo>
                    <a:lnTo>
                      <a:pt x="502" y="1392"/>
                    </a:lnTo>
                    <a:lnTo>
                      <a:pt x="493" y="1396"/>
                    </a:lnTo>
                    <a:lnTo>
                      <a:pt x="482" y="1396"/>
                    </a:lnTo>
                    <a:lnTo>
                      <a:pt x="473" y="1392"/>
                    </a:lnTo>
                    <a:lnTo>
                      <a:pt x="464" y="1385"/>
                    </a:lnTo>
                    <a:lnTo>
                      <a:pt x="459" y="1376"/>
                    </a:lnTo>
                    <a:lnTo>
                      <a:pt x="457" y="1366"/>
                    </a:lnTo>
                    <a:lnTo>
                      <a:pt x="459" y="1357"/>
                    </a:lnTo>
                    <a:lnTo>
                      <a:pt x="466" y="1350"/>
                    </a:lnTo>
                    <a:lnTo>
                      <a:pt x="475" y="1346"/>
                    </a:lnTo>
                    <a:lnTo>
                      <a:pt x="464" y="1348"/>
                    </a:lnTo>
                    <a:lnTo>
                      <a:pt x="446" y="1352"/>
                    </a:lnTo>
                    <a:lnTo>
                      <a:pt x="430" y="1355"/>
                    </a:lnTo>
                    <a:lnTo>
                      <a:pt x="422" y="1357"/>
                    </a:lnTo>
                    <a:lnTo>
                      <a:pt x="488" y="1538"/>
                    </a:lnTo>
                    <a:lnTo>
                      <a:pt x="1565" y="1325"/>
                    </a:lnTo>
                    <a:lnTo>
                      <a:pt x="1078" y="0"/>
                    </a:lnTo>
                    <a:lnTo>
                      <a:pt x="0" y="213"/>
                    </a:lnTo>
                    <a:lnTo>
                      <a:pt x="56" y="363"/>
                    </a:lnTo>
                    <a:lnTo>
                      <a:pt x="60" y="363"/>
                    </a:lnTo>
                    <a:lnTo>
                      <a:pt x="69" y="359"/>
                    </a:lnTo>
                    <a:lnTo>
                      <a:pt x="78" y="357"/>
                    </a:lnTo>
                    <a:lnTo>
                      <a:pt x="84" y="357"/>
                    </a:lnTo>
                    <a:lnTo>
                      <a:pt x="84" y="348"/>
                    </a:lnTo>
                    <a:lnTo>
                      <a:pt x="87" y="341"/>
                    </a:lnTo>
                    <a:lnTo>
                      <a:pt x="93" y="335"/>
                    </a:lnTo>
                    <a:lnTo>
                      <a:pt x="100" y="332"/>
                    </a:lnTo>
                    <a:lnTo>
                      <a:pt x="111" y="332"/>
                    </a:lnTo>
                    <a:lnTo>
                      <a:pt x="120" y="335"/>
                    </a:lnTo>
                    <a:lnTo>
                      <a:pt x="129" y="341"/>
                    </a:lnTo>
                    <a:lnTo>
                      <a:pt x="135" y="350"/>
                    </a:lnTo>
                    <a:lnTo>
                      <a:pt x="137" y="361"/>
                    </a:lnTo>
                    <a:lnTo>
                      <a:pt x="135" y="370"/>
                    </a:lnTo>
                    <a:lnTo>
                      <a:pt x="127" y="377"/>
                    </a:lnTo>
                    <a:lnTo>
                      <a:pt x="118" y="381"/>
                    </a:lnTo>
                    <a:lnTo>
                      <a:pt x="109" y="379"/>
                    </a:lnTo>
                    <a:lnTo>
                      <a:pt x="98" y="374"/>
                    </a:lnTo>
                    <a:lnTo>
                      <a:pt x="89" y="366"/>
                    </a:lnTo>
                    <a:lnTo>
                      <a:pt x="84" y="357"/>
                    </a:lnTo>
                    <a:lnTo>
                      <a:pt x="80" y="357"/>
                    </a:lnTo>
                    <a:lnTo>
                      <a:pt x="71" y="359"/>
                    </a:lnTo>
                    <a:lnTo>
                      <a:pt x="60" y="363"/>
                    </a:lnTo>
                    <a:lnTo>
                      <a:pt x="56" y="3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97040" y="2579400"/>
                <a:ext cx="166680" cy="428760"/>
              </a:xfrm>
              <a:custGeom>
                <a:avLst/>
                <a:gdLst/>
                <a:ahLst/>
                <a:rect l="l" t="t" r="r" b="b"/>
                <a:pathLst>
                  <a:path w="209" h="539">
                    <a:moveTo>
                      <a:pt x="202" y="523"/>
                    </a:moveTo>
                    <a:lnTo>
                      <a:pt x="209" y="528"/>
                    </a:lnTo>
                    <a:lnTo>
                      <a:pt x="15" y="0"/>
                    </a:lnTo>
                    <a:lnTo>
                      <a:pt x="0" y="3"/>
                    </a:lnTo>
                    <a:lnTo>
                      <a:pt x="195" y="532"/>
                    </a:lnTo>
                    <a:lnTo>
                      <a:pt x="202" y="537"/>
                    </a:lnTo>
                    <a:lnTo>
                      <a:pt x="195" y="532"/>
                    </a:lnTo>
                    <a:lnTo>
                      <a:pt x="199" y="539"/>
                    </a:lnTo>
                    <a:lnTo>
                      <a:pt x="202" y="537"/>
                    </a:lnTo>
                    <a:lnTo>
                      <a:pt x="202" y="5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957240" y="2990520"/>
                <a:ext cx="47880" cy="16200"/>
              </a:xfrm>
              <a:custGeom>
                <a:avLst/>
                <a:gdLst/>
                <a:ahLst/>
                <a:rect l="l" t="t" r="r" b="b"/>
                <a:pathLst>
                  <a:path w="60" h="20">
                    <a:moveTo>
                      <a:pt x="31" y="13"/>
                    </a:moveTo>
                    <a:lnTo>
                      <a:pt x="35" y="0"/>
                    </a:lnTo>
                    <a:lnTo>
                      <a:pt x="26" y="0"/>
                    </a:lnTo>
                    <a:lnTo>
                      <a:pt x="13" y="2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7" y="17"/>
                    </a:lnTo>
                    <a:lnTo>
                      <a:pt x="26" y="15"/>
                    </a:lnTo>
                    <a:lnTo>
                      <a:pt x="35" y="15"/>
                    </a:lnTo>
                    <a:lnTo>
                      <a:pt x="38" y="2"/>
                    </a:lnTo>
                    <a:lnTo>
                      <a:pt x="35" y="15"/>
                    </a:lnTo>
                    <a:lnTo>
                      <a:pt x="60" y="15"/>
                    </a:lnTo>
                    <a:lnTo>
                      <a:pt x="38" y="2"/>
                    </a:lnTo>
                    <a:lnTo>
                      <a:pt x="3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968400" y="298260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4"/>
                    </a:moveTo>
                    <a:lnTo>
                      <a:pt x="0" y="4"/>
                    </a:lnTo>
                    <a:lnTo>
                      <a:pt x="3" y="9"/>
                    </a:lnTo>
                    <a:lnTo>
                      <a:pt x="7" y="15"/>
                    </a:lnTo>
                    <a:lnTo>
                      <a:pt x="11" y="20"/>
                    </a:lnTo>
                    <a:lnTo>
                      <a:pt x="16" y="24"/>
                    </a:lnTo>
                    <a:lnTo>
                      <a:pt x="23" y="13"/>
                    </a:lnTo>
                    <a:lnTo>
                      <a:pt x="22" y="9"/>
                    </a:lnTo>
                    <a:lnTo>
                      <a:pt x="18" y="8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966960" y="295272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25" h="40">
                    <a:moveTo>
                      <a:pt x="24" y="0"/>
                    </a:moveTo>
                    <a:lnTo>
                      <a:pt x="22" y="0"/>
                    </a:lnTo>
                    <a:lnTo>
                      <a:pt x="11" y="5"/>
                    </a:lnTo>
                    <a:lnTo>
                      <a:pt x="2" y="16"/>
                    </a:lnTo>
                    <a:lnTo>
                      <a:pt x="0" y="27"/>
                    </a:lnTo>
                    <a:lnTo>
                      <a:pt x="2" y="40"/>
                    </a:lnTo>
                    <a:lnTo>
                      <a:pt x="16" y="36"/>
                    </a:lnTo>
                    <a:lnTo>
                      <a:pt x="15" y="27"/>
                    </a:lnTo>
                    <a:lnTo>
                      <a:pt x="16" y="20"/>
                    </a:lnTo>
                    <a:lnTo>
                      <a:pt x="18" y="16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986040" y="295272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41" y="25"/>
                    </a:moveTo>
                    <a:lnTo>
                      <a:pt x="41" y="25"/>
                    </a:lnTo>
                    <a:lnTo>
                      <a:pt x="34" y="14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1" y="14"/>
                    </a:lnTo>
                    <a:lnTo>
                      <a:pt x="16" y="16"/>
                    </a:lnTo>
                    <a:lnTo>
                      <a:pt x="23" y="22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4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998640" y="297324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" y="40"/>
                    </a:moveTo>
                    <a:lnTo>
                      <a:pt x="4" y="40"/>
                    </a:lnTo>
                    <a:lnTo>
                      <a:pt x="15" y="35"/>
                    </a:lnTo>
                    <a:lnTo>
                      <a:pt x="24" y="26"/>
                    </a:lnTo>
                    <a:lnTo>
                      <a:pt x="27" y="13"/>
                    </a:lnTo>
                    <a:lnTo>
                      <a:pt x="25" y="0"/>
                    </a:lnTo>
                    <a:lnTo>
                      <a:pt x="11" y="4"/>
                    </a:lnTo>
                    <a:lnTo>
                      <a:pt x="13" y="13"/>
                    </a:lnTo>
                    <a:lnTo>
                      <a:pt x="13" y="19"/>
                    </a:lnTo>
                    <a:lnTo>
                      <a:pt x="7" y="24"/>
                    </a:lnTo>
                    <a:lnTo>
                      <a:pt x="0" y="26"/>
                    </a:lnTo>
                    <a:lnTo>
                      <a:pt x="2" y="26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982800" y="299052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2" y="15"/>
                    </a:moveTo>
                    <a:lnTo>
                      <a:pt x="0" y="15"/>
                    </a:lnTo>
                    <a:lnTo>
                      <a:pt x="7" y="17"/>
                    </a:lnTo>
                    <a:lnTo>
                      <a:pt x="13" y="17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4"/>
                    </a:lnTo>
                    <a:lnTo>
                      <a:pt x="18" y="4"/>
                    </a:lnTo>
                    <a:lnTo>
                      <a:pt x="13" y="2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949320" y="2990520"/>
                <a:ext cx="34920" cy="16200"/>
              </a:xfrm>
              <a:custGeom>
                <a:avLst/>
                <a:gdLst/>
                <a:ahLst/>
                <a:rect l="l" t="t" r="r" b="b"/>
                <a:pathLst>
                  <a:path w="46" h="20">
                    <a:moveTo>
                      <a:pt x="18" y="11"/>
                    </a:moveTo>
                    <a:lnTo>
                      <a:pt x="11" y="20"/>
                    </a:lnTo>
                    <a:lnTo>
                      <a:pt x="46" y="15"/>
                    </a:lnTo>
                    <a:lnTo>
                      <a:pt x="46" y="0"/>
                    </a:lnTo>
                    <a:lnTo>
                      <a:pt x="11" y="6"/>
                    </a:lnTo>
                    <a:lnTo>
                      <a:pt x="4" y="15"/>
                    </a:lnTo>
                    <a:lnTo>
                      <a:pt x="11" y="6"/>
                    </a:lnTo>
                    <a:lnTo>
                      <a:pt x="0" y="7"/>
                    </a:lnTo>
                    <a:lnTo>
                      <a:pt x="4" y="15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951120" y="3000240"/>
                <a:ext cx="147600" cy="377640"/>
              </a:xfrm>
              <a:custGeom>
                <a:avLst/>
                <a:gdLst/>
                <a:ahLst/>
                <a:rect l="l" t="t" r="r" b="b"/>
                <a:pathLst>
                  <a:path w="186" h="477">
                    <a:moveTo>
                      <a:pt x="178" y="461"/>
                    </a:moveTo>
                    <a:lnTo>
                      <a:pt x="186" y="466"/>
                    </a:lnTo>
                    <a:lnTo>
                      <a:pt x="14" y="0"/>
                    </a:lnTo>
                    <a:lnTo>
                      <a:pt x="0" y="4"/>
                    </a:lnTo>
                    <a:lnTo>
                      <a:pt x="171" y="470"/>
                    </a:lnTo>
                    <a:lnTo>
                      <a:pt x="178" y="476"/>
                    </a:lnTo>
                    <a:lnTo>
                      <a:pt x="171" y="470"/>
                    </a:lnTo>
                    <a:lnTo>
                      <a:pt x="175" y="477"/>
                    </a:lnTo>
                    <a:lnTo>
                      <a:pt x="178" y="476"/>
                    </a:lnTo>
                    <a:lnTo>
                      <a:pt x="178" y="4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094040" y="3357360"/>
                <a:ext cx="42840" cy="19080"/>
              </a:xfrm>
              <a:custGeom>
                <a:avLst/>
                <a:gdLst/>
                <a:ahLst/>
                <a:rect l="l" t="t" r="r" b="b"/>
                <a:pathLst>
                  <a:path w="55" h="26">
                    <a:moveTo>
                      <a:pt x="51" y="0"/>
                    </a:moveTo>
                    <a:lnTo>
                      <a:pt x="53" y="0"/>
                    </a:lnTo>
                    <a:lnTo>
                      <a:pt x="0" y="11"/>
                    </a:lnTo>
                    <a:lnTo>
                      <a:pt x="0" y="26"/>
                    </a:lnTo>
                    <a:lnTo>
                      <a:pt x="53" y="15"/>
                    </a:lnTo>
                    <a:lnTo>
                      <a:pt x="55" y="15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133640" y="33573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44" y="26"/>
                    </a:moveTo>
                    <a:lnTo>
                      <a:pt x="44" y="26"/>
                    </a:lnTo>
                    <a:lnTo>
                      <a:pt x="37" y="15"/>
                    </a:lnTo>
                    <a:lnTo>
                      <a:pt x="26" y="6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4" y="15"/>
                    </a:lnTo>
                    <a:lnTo>
                      <a:pt x="13" y="15"/>
                    </a:lnTo>
                    <a:lnTo>
                      <a:pt x="18" y="16"/>
                    </a:lnTo>
                    <a:lnTo>
                      <a:pt x="26" y="22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4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148040" y="3376440"/>
                <a:ext cx="20520" cy="302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4" y="38"/>
                    </a:moveTo>
                    <a:lnTo>
                      <a:pt x="2" y="38"/>
                    </a:lnTo>
                    <a:lnTo>
                      <a:pt x="15" y="32"/>
                    </a:lnTo>
                    <a:lnTo>
                      <a:pt x="24" y="21"/>
                    </a:lnTo>
                    <a:lnTo>
                      <a:pt x="26" y="11"/>
                    </a:lnTo>
                    <a:lnTo>
                      <a:pt x="26" y="0"/>
                    </a:lnTo>
                    <a:lnTo>
                      <a:pt x="11" y="3"/>
                    </a:lnTo>
                    <a:lnTo>
                      <a:pt x="11" y="11"/>
                    </a:lnTo>
                    <a:lnTo>
                      <a:pt x="10" y="18"/>
                    </a:lnTo>
                    <a:lnTo>
                      <a:pt x="8" y="21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4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116000" y="33843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0" y="3"/>
                    </a:moveTo>
                    <a:lnTo>
                      <a:pt x="0" y="3"/>
                    </a:lnTo>
                    <a:lnTo>
                      <a:pt x="8" y="14"/>
                    </a:lnTo>
                    <a:lnTo>
                      <a:pt x="19" y="23"/>
                    </a:lnTo>
                    <a:lnTo>
                      <a:pt x="31" y="29"/>
                    </a:lnTo>
                    <a:lnTo>
                      <a:pt x="44" y="29"/>
                    </a:lnTo>
                    <a:lnTo>
                      <a:pt x="40" y="14"/>
                    </a:lnTo>
                    <a:lnTo>
                      <a:pt x="31" y="14"/>
                    </a:lnTo>
                    <a:lnTo>
                      <a:pt x="26" y="12"/>
                    </a:lnTo>
                    <a:lnTo>
                      <a:pt x="19" y="7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114560" y="3357360"/>
                <a:ext cx="22320" cy="30240"/>
              </a:xfrm>
              <a:custGeom>
                <a:avLst/>
                <a:gdLst/>
                <a:ahLst/>
                <a:rect l="l" t="t" r="r" b="b"/>
                <a:pathLst>
                  <a:path w="27" h="38">
                    <a:moveTo>
                      <a:pt x="27" y="15"/>
                    </a:moveTo>
                    <a:lnTo>
                      <a:pt x="25" y="0"/>
                    </a:lnTo>
                    <a:lnTo>
                      <a:pt x="12" y="6"/>
                    </a:lnTo>
                    <a:lnTo>
                      <a:pt x="3" y="15"/>
                    </a:lnTo>
                    <a:lnTo>
                      <a:pt x="0" y="27"/>
                    </a:lnTo>
                    <a:lnTo>
                      <a:pt x="1" y="38"/>
                    </a:lnTo>
                    <a:lnTo>
                      <a:pt x="16" y="35"/>
                    </a:lnTo>
                    <a:lnTo>
                      <a:pt x="14" y="27"/>
                    </a:lnTo>
                    <a:lnTo>
                      <a:pt x="14" y="22"/>
                    </a:lnTo>
                    <a:lnTo>
                      <a:pt x="20" y="16"/>
                    </a:lnTo>
                    <a:lnTo>
                      <a:pt x="25" y="15"/>
                    </a:lnTo>
                    <a:lnTo>
                      <a:pt x="23" y="0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086120" y="3357360"/>
                <a:ext cx="50760" cy="19080"/>
              </a:xfrm>
              <a:custGeom>
                <a:avLst/>
                <a:gdLst/>
                <a:ahLst/>
                <a:rect l="l" t="t" r="r" b="b"/>
                <a:pathLst>
                  <a:path w="64" h="26">
                    <a:moveTo>
                      <a:pt x="17" y="16"/>
                    </a:moveTo>
                    <a:lnTo>
                      <a:pt x="9" y="26"/>
                    </a:lnTo>
                    <a:lnTo>
                      <a:pt x="18" y="24"/>
                    </a:lnTo>
                    <a:lnTo>
                      <a:pt x="33" y="20"/>
                    </a:lnTo>
                    <a:lnTo>
                      <a:pt x="51" y="16"/>
                    </a:lnTo>
                    <a:lnTo>
                      <a:pt x="64" y="15"/>
                    </a:lnTo>
                    <a:lnTo>
                      <a:pt x="60" y="0"/>
                    </a:lnTo>
                    <a:lnTo>
                      <a:pt x="51" y="2"/>
                    </a:lnTo>
                    <a:lnTo>
                      <a:pt x="33" y="6"/>
                    </a:lnTo>
                    <a:lnTo>
                      <a:pt x="15" y="9"/>
                    </a:lnTo>
                    <a:lnTo>
                      <a:pt x="9" y="11"/>
                    </a:lnTo>
                    <a:lnTo>
                      <a:pt x="2" y="20"/>
                    </a:lnTo>
                    <a:lnTo>
                      <a:pt x="9" y="11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1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087560" y="3369960"/>
                <a:ext cx="63360" cy="150840"/>
              </a:xfrm>
              <a:custGeom>
                <a:avLst/>
                <a:gdLst/>
                <a:ahLst/>
                <a:rect l="l" t="t" r="r" b="b"/>
                <a:pathLst>
                  <a:path w="80" h="192">
                    <a:moveTo>
                      <a:pt x="73" y="175"/>
                    </a:moveTo>
                    <a:lnTo>
                      <a:pt x="80" y="181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66" y="184"/>
                    </a:lnTo>
                    <a:lnTo>
                      <a:pt x="73" y="190"/>
                    </a:lnTo>
                    <a:lnTo>
                      <a:pt x="66" y="184"/>
                    </a:lnTo>
                    <a:lnTo>
                      <a:pt x="69" y="192"/>
                    </a:lnTo>
                    <a:lnTo>
                      <a:pt x="73" y="190"/>
                    </a:lnTo>
                    <a:lnTo>
                      <a:pt x="73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144800" y="3340080"/>
                <a:ext cx="865080" cy="179280"/>
              </a:xfrm>
              <a:custGeom>
                <a:avLst/>
                <a:gdLst/>
                <a:ahLst/>
                <a:rect l="l" t="t" r="r" b="b"/>
                <a:pathLst>
                  <a:path w="1088" h="228">
                    <a:moveTo>
                      <a:pt x="1070" y="9"/>
                    </a:moveTo>
                    <a:lnTo>
                      <a:pt x="1077" y="0"/>
                    </a:lnTo>
                    <a:lnTo>
                      <a:pt x="0" y="213"/>
                    </a:lnTo>
                    <a:lnTo>
                      <a:pt x="0" y="228"/>
                    </a:lnTo>
                    <a:lnTo>
                      <a:pt x="1077" y="15"/>
                    </a:lnTo>
                    <a:lnTo>
                      <a:pt x="1085" y="6"/>
                    </a:lnTo>
                    <a:lnTo>
                      <a:pt x="1077" y="15"/>
                    </a:lnTo>
                    <a:lnTo>
                      <a:pt x="1088" y="13"/>
                    </a:lnTo>
                    <a:lnTo>
                      <a:pt x="1085" y="6"/>
                    </a:lnTo>
                    <a:lnTo>
                      <a:pt x="107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608120" y="2286000"/>
                <a:ext cx="398520" cy="1060200"/>
              </a:xfrm>
              <a:custGeom>
                <a:avLst/>
                <a:gdLst/>
                <a:ahLst/>
                <a:rect l="l" t="t" r="r" b="b"/>
                <a:pathLst>
                  <a:path w="503" h="1335">
                    <a:moveTo>
                      <a:pt x="8" y="16"/>
                    </a:moveTo>
                    <a:lnTo>
                      <a:pt x="0" y="11"/>
                    </a:lnTo>
                    <a:lnTo>
                      <a:pt x="488" y="1335"/>
                    </a:lnTo>
                    <a:lnTo>
                      <a:pt x="503" y="1332"/>
                    </a:lnTo>
                    <a:lnTo>
                      <a:pt x="15" y="7"/>
                    </a:lnTo>
                    <a:lnTo>
                      <a:pt x="8" y="2"/>
                    </a:lnTo>
                    <a:lnTo>
                      <a:pt x="15" y="7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49520" y="2287440"/>
                <a:ext cx="863640" cy="181080"/>
              </a:xfrm>
              <a:custGeom>
                <a:avLst/>
                <a:gdLst/>
                <a:ahLst/>
                <a:rect l="l" t="t" r="r" b="b"/>
                <a:pathLst>
                  <a:path w="1089" h="228">
                    <a:moveTo>
                      <a:pt x="18" y="218"/>
                    </a:moveTo>
                    <a:lnTo>
                      <a:pt x="11" y="228"/>
                    </a:lnTo>
                    <a:lnTo>
                      <a:pt x="1089" y="14"/>
                    </a:lnTo>
                    <a:lnTo>
                      <a:pt x="1089" y="0"/>
                    </a:lnTo>
                    <a:lnTo>
                      <a:pt x="11" y="213"/>
                    </a:lnTo>
                    <a:lnTo>
                      <a:pt x="4" y="222"/>
                    </a:lnTo>
                    <a:lnTo>
                      <a:pt x="11" y="213"/>
                    </a:lnTo>
                    <a:lnTo>
                      <a:pt x="0" y="215"/>
                    </a:lnTo>
                    <a:lnTo>
                      <a:pt x="4" y="222"/>
                    </a:lnTo>
                    <a:lnTo>
                      <a:pt x="18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2400" y="2462040"/>
                <a:ext cx="55800" cy="127080"/>
              </a:xfrm>
              <a:custGeom>
                <a:avLst/>
                <a:gdLst/>
                <a:ahLst/>
                <a:rect l="l" t="t" r="r" b="b"/>
                <a:pathLst>
                  <a:path w="71" h="161">
                    <a:moveTo>
                      <a:pt x="62" y="144"/>
                    </a:moveTo>
                    <a:lnTo>
                      <a:pt x="71" y="150"/>
                    </a:lnTo>
                    <a:lnTo>
                      <a:pt x="14" y="0"/>
                    </a:lnTo>
                    <a:lnTo>
                      <a:pt x="0" y="4"/>
                    </a:lnTo>
                    <a:lnTo>
                      <a:pt x="56" y="153"/>
                    </a:lnTo>
                    <a:lnTo>
                      <a:pt x="65" y="159"/>
                    </a:lnTo>
                    <a:lnTo>
                      <a:pt x="56" y="153"/>
                    </a:lnTo>
                    <a:lnTo>
                      <a:pt x="60" y="161"/>
                    </a:lnTo>
                    <a:lnTo>
                      <a:pt x="65" y="159"/>
                    </a:lnTo>
                    <a:lnTo>
                      <a:pt x="62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01720" y="2571480"/>
                <a:ext cx="30240" cy="1584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21" y="7"/>
                    </a:moveTo>
                    <a:lnTo>
                      <a:pt x="29" y="0"/>
                    </a:lnTo>
                    <a:lnTo>
                      <a:pt x="23" y="0"/>
                    </a:lnTo>
                    <a:lnTo>
                      <a:pt x="12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20"/>
                    </a:lnTo>
                    <a:lnTo>
                      <a:pt x="7" y="20"/>
                    </a:lnTo>
                    <a:lnTo>
                      <a:pt x="16" y="16"/>
                    </a:lnTo>
                    <a:lnTo>
                      <a:pt x="23" y="14"/>
                    </a:lnTo>
                    <a:lnTo>
                      <a:pt x="29" y="14"/>
                    </a:lnTo>
                    <a:lnTo>
                      <a:pt x="36" y="7"/>
                    </a:lnTo>
                    <a:lnTo>
                      <a:pt x="29" y="14"/>
                    </a:lnTo>
                    <a:lnTo>
                      <a:pt x="38" y="14"/>
                    </a:lnTo>
                    <a:lnTo>
                      <a:pt x="36" y="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19360" y="255096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22" y="0"/>
                    </a:moveTo>
                    <a:lnTo>
                      <a:pt x="24" y="0"/>
                    </a:lnTo>
                    <a:lnTo>
                      <a:pt x="13" y="6"/>
                    </a:lnTo>
                    <a:lnTo>
                      <a:pt x="6" y="13"/>
                    </a:lnTo>
                    <a:lnTo>
                      <a:pt x="0" y="24"/>
                    </a:lnTo>
                    <a:lnTo>
                      <a:pt x="0" y="33"/>
                    </a:lnTo>
                    <a:lnTo>
                      <a:pt x="15" y="33"/>
                    </a:lnTo>
                    <a:lnTo>
                      <a:pt x="15" y="24"/>
                    </a:lnTo>
                    <a:lnTo>
                      <a:pt x="17" y="20"/>
                    </a:lnTo>
                    <a:lnTo>
                      <a:pt x="20" y="17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836640" y="255096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44" h="28">
                    <a:moveTo>
                      <a:pt x="44" y="24"/>
                    </a:moveTo>
                    <a:lnTo>
                      <a:pt x="44" y="24"/>
                    </a:lnTo>
                    <a:lnTo>
                      <a:pt x="37" y="11"/>
                    </a:lnTo>
                    <a:lnTo>
                      <a:pt x="26" y="4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4" y="15"/>
                    </a:lnTo>
                    <a:lnTo>
                      <a:pt x="13" y="15"/>
                    </a:lnTo>
                    <a:lnTo>
                      <a:pt x="19" y="19"/>
                    </a:lnTo>
                    <a:lnTo>
                      <a:pt x="26" y="22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51040" y="257004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1" y="40"/>
                    </a:moveTo>
                    <a:lnTo>
                      <a:pt x="3" y="40"/>
                    </a:lnTo>
                    <a:lnTo>
                      <a:pt x="14" y="35"/>
                    </a:lnTo>
                    <a:lnTo>
                      <a:pt x="23" y="26"/>
                    </a:lnTo>
                    <a:lnTo>
                      <a:pt x="27" y="13"/>
                    </a:lnTo>
                    <a:lnTo>
                      <a:pt x="25" y="0"/>
                    </a:lnTo>
                    <a:lnTo>
                      <a:pt x="10" y="4"/>
                    </a:lnTo>
                    <a:lnTo>
                      <a:pt x="12" y="13"/>
                    </a:lnTo>
                    <a:lnTo>
                      <a:pt x="12" y="18"/>
                    </a:lnTo>
                    <a:lnTo>
                      <a:pt x="7" y="24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819360" y="2576520"/>
                <a:ext cx="33120" cy="2520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0" y="2"/>
                    </a:moveTo>
                    <a:lnTo>
                      <a:pt x="0" y="4"/>
                    </a:lnTo>
                    <a:lnTo>
                      <a:pt x="8" y="15"/>
                    </a:lnTo>
                    <a:lnTo>
                      <a:pt x="19" y="24"/>
                    </a:lnTo>
                    <a:lnTo>
                      <a:pt x="31" y="31"/>
                    </a:lnTo>
                    <a:lnTo>
                      <a:pt x="42" y="33"/>
                    </a:lnTo>
                    <a:lnTo>
                      <a:pt x="42" y="19"/>
                    </a:lnTo>
                    <a:lnTo>
                      <a:pt x="35" y="17"/>
                    </a:lnTo>
                    <a:lnTo>
                      <a:pt x="26" y="13"/>
                    </a:lnTo>
                    <a:lnTo>
                      <a:pt x="19" y="8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97040" y="2546280"/>
                <a:ext cx="33480" cy="41040"/>
              </a:xfrm>
              <a:custGeom>
                <a:avLst/>
                <a:gdLst/>
                <a:ahLst/>
                <a:rect l="l" t="t" r="r" b="b"/>
                <a:pathLst>
                  <a:path w="42" h="51">
                    <a:moveTo>
                      <a:pt x="15" y="42"/>
                    </a:moveTo>
                    <a:lnTo>
                      <a:pt x="0" y="44"/>
                    </a:lnTo>
                    <a:lnTo>
                      <a:pt x="13" y="51"/>
                    </a:lnTo>
                    <a:lnTo>
                      <a:pt x="24" y="47"/>
                    </a:lnTo>
                    <a:lnTo>
                      <a:pt x="31" y="45"/>
                    </a:lnTo>
                    <a:lnTo>
                      <a:pt x="27" y="38"/>
                    </a:lnTo>
                    <a:lnTo>
                      <a:pt x="42" y="38"/>
                    </a:lnTo>
                    <a:lnTo>
                      <a:pt x="31" y="31"/>
                    </a:lnTo>
                    <a:lnTo>
                      <a:pt x="20" y="33"/>
                    </a:lnTo>
                    <a:lnTo>
                      <a:pt x="9" y="36"/>
                    </a:lnTo>
                    <a:lnTo>
                      <a:pt x="15" y="44"/>
                    </a:lnTo>
                    <a:lnTo>
                      <a:pt x="0" y="45"/>
                    </a:lnTo>
                    <a:lnTo>
                      <a:pt x="15" y="42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1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51040" y="2441520"/>
                <a:ext cx="398520" cy="1055520"/>
              </a:xfrm>
              <a:custGeom>
                <a:avLst/>
                <a:gdLst/>
                <a:ahLst/>
                <a:rect l="l" t="t" r="r" b="b"/>
                <a:pathLst>
                  <a:path w="502" h="1330">
                    <a:moveTo>
                      <a:pt x="495" y="1328"/>
                    </a:moveTo>
                    <a:lnTo>
                      <a:pt x="502" y="1326"/>
                    </a:lnTo>
                    <a:lnTo>
                      <a:pt x="14" y="0"/>
                    </a:lnTo>
                    <a:lnTo>
                      <a:pt x="0" y="4"/>
                    </a:lnTo>
                    <a:lnTo>
                      <a:pt x="487" y="1330"/>
                    </a:lnTo>
                    <a:lnTo>
                      <a:pt x="495" y="132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094040" y="336708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33" h="5">
                    <a:moveTo>
                      <a:pt x="0" y="5"/>
                    </a:moveTo>
                    <a:lnTo>
                      <a:pt x="33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094040" y="3360600"/>
                <a:ext cx="25200" cy="15840"/>
              </a:xfrm>
              <a:custGeom>
                <a:avLst/>
                <a:gdLst/>
                <a:ahLst/>
                <a:rect l="l" t="t" r="r" b="b"/>
                <a:pathLst>
                  <a:path w="33" h="20">
                    <a:moveTo>
                      <a:pt x="33" y="7"/>
                    </a:moveTo>
                    <a:lnTo>
                      <a:pt x="33" y="0"/>
                    </a:lnTo>
                    <a:lnTo>
                      <a:pt x="0" y="5"/>
                    </a:lnTo>
                    <a:lnTo>
                      <a:pt x="0" y="20"/>
                    </a:lnTo>
                    <a:lnTo>
                      <a:pt x="33" y="14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957240" y="2995560"/>
                <a:ext cx="20880" cy="468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0" y="7"/>
                    </a:moveTo>
                    <a:lnTo>
                      <a:pt x="4" y="7"/>
                    </a:lnTo>
                    <a:lnTo>
                      <a:pt x="11" y="3"/>
                    </a:lnTo>
                    <a:lnTo>
                      <a:pt x="18" y="1"/>
                    </a:lnTo>
                    <a:lnTo>
                      <a:pt x="2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955800" y="298908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30" h="22">
                    <a:moveTo>
                      <a:pt x="26" y="0"/>
                    </a:moveTo>
                    <a:lnTo>
                      <a:pt x="19" y="2"/>
                    </a:lnTo>
                    <a:lnTo>
                      <a:pt x="11" y="4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5" y="19"/>
                    </a:lnTo>
                    <a:lnTo>
                      <a:pt x="22" y="17"/>
                    </a:lnTo>
                    <a:lnTo>
                      <a:pt x="30" y="15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803520" y="2577960"/>
                <a:ext cx="14040" cy="324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0" y="4"/>
                    </a:moveTo>
                    <a:lnTo>
                      <a:pt x="2" y="4"/>
                    </a:lnTo>
                    <a:lnTo>
                      <a:pt x="8" y="2"/>
                    </a:lnTo>
                    <a:lnTo>
                      <a:pt x="15" y="2"/>
                    </a:lnTo>
                    <a:lnTo>
                      <a:pt x="19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803520" y="2573280"/>
                <a:ext cx="17280" cy="1404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5" y="0"/>
                    </a:moveTo>
                    <a:lnTo>
                      <a:pt x="15" y="2"/>
                    </a:lnTo>
                    <a:lnTo>
                      <a:pt x="8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8"/>
                    </a:lnTo>
                    <a:lnTo>
                      <a:pt x="4" y="18"/>
                    </a:lnTo>
                    <a:lnTo>
                      <a:pt x="8" y="16"/>
                    </a:lnTo>
                    <a:lnTo>
                      <a:pt x="15" y="16"/>
                    </a:lnTo>
                    <a:lnTo>
                      <a:pt x="22" y="1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22600" y="2460600"/>
                <a:ext cx="853920" cy="179280"/>
              </a:xfrm>
              <a:custGeom>
                <a:avLst/>
                <a:gdLst/>
                <a:ahLst/>
                <a:rect l="l" t="t" r="r" b="b"/>
                <a:pathLst>
                  <a:path w="1078" h="225">
                    <a:moveTo>
                      <a:pt x="0" y="218"/>
                    </a:moveTo>
                    <a:lnTo>
                      <a:pt x="0" y="225"/>
                    </a:lnTo>
                    <a:lnTo>
                      <a:pt x="1078" y="14"/>
                    </a:lnTo>
                    <a:lnTo>
                      <a:pt x="1078" y="0"/>
                    </a:lnTo>
                    <a:lnTo>
                      <a:pt x="0" y="211"/>
                    </a:lnTo>
                    <a:lnTo>
                      <a:pt x="0" y="21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39880" y="2512800"/>
                <a:ext cx="855720" cy="179280"/>
              </a:xfrm>
              <a:custGeom>
                <a:avLst/>
                <a:gdLst/>
                <a:ahLst/>
                <a:rect l="l" t="t" r="r" b="b"/>
                <a:pathLst>
                  <a:path w="1077" h="228">
                    <a:moveTo>
                      <a:pt x="0" y="221"/>
                    </a:moveTo>
                    <a:lnTo>
                      <a:pt x="0" y="228"/>
                    </a:lnTo>
                    <a:lnTo>
                      <a:pt x="1077" y="15"/>
                    </a:lnTo>
                    <a:lnTo>
                      <a:pt x="1077" y="0"/>
                    </a:lnTo>
                    <a:lnTo>
                      <a:pt x="0" y="213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860400" y="2565360"/>
                <a:ext cx="855720" cy="179280"/>
              </a:xfrm>
              <a:custGeom>
                <a:avLst/>
                <a:gdLst/>
                <a:ahLst/>
                <a:rect l="l" t="t" r="r" b="b"/>
                <a:pathLst>
                  <a:path w="1078" h="225">
                    <a:moveTo>
                      <a:pt x="0" y="218"/>
                    </a:moveTo>
                    <a:lnTo>
                      <a:pt x="0" y="225"/>
                    </a:lnTo>
                    <a:lnTo>
                      <a:pt x="1078" y="14"/>
                    </a:lnTo>
                    <a:lnTo>
                      <a:pt x="1078" y="0"/>
                    </a:lnTo>
                    <a:lnTo>
                      <a:pt x="0" y="211"/>
                    </a:lnTo>
                    <a:lnTo>
                      <a:pt x="0" y="21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879480" y="2617560"/>
                <a:ext cx="855720" cy="181080"/>
              </a:xfrm>
              <a:custGeom>
                <a:avLst/>
                <a:gdLst/>
                <a:ahLst/>
                <a:rect l="l" t="t" r="r" b="b"/>
                <a:pathLst>
                  <a:path w="1077" h="228">
                    <a:moveTo>
                      <a:pt x="0" y="221"/>
                    </a:moveTo>
                    <a:lnTo>
                      <a:pt x="0" y="228"/>
                    </a:lnTo>
                    <a:lnTo>
                      <a:pt x="1077" y="15"/>
                    </a:lnTo>
                    <a:lnTo>
                      <a:pt x="1077" y="0"/>
                    </a:lnTo>
                    <a:lnTo>
                      <a:pt x="0" y="213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900360" y="2670120"/>
                <a:ext cx="853920" cy="180720"/>
              </a:xfrm>
              <a:custGeom>
                <a:avLst/>
                <a:gdLst/>
                <a:ahLst/>
                <a:rect l="l" t="t" r="r" b="b"/>
                <a:pathLst>
                  <a:path w="1076" h="227">
                    <a:moveTo>
                      <a:pt x="0" y="220"/>
                    </a:moveTo>
                    <a:lnTo>
                      <a:pt x="0" y="227"/>
                    </a:lnTo>
                    <a:lnTo>
                      <a:pt x="1076" y="14"/>
                    </a:lnTo>
                    <a:lnTo>
                      <a:pt x="1076" y="0"/>
                    </a:lnTo>
                    <a:lnTo>
                      <a:pt x="0" y="213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919440" y="2724120"/>
                <a:ext cx="853920" cy="177840"/>
              </a:xfrm>
              <a:custGeom>
                <a:avLst/>
                <a:gdLst/>
                <a:ahLst/>
                <a:rect l="l" t="t" r="r" b="b"/>
                <a:pathLst>
                  <a:path w="1078" h="224">
                    <a:moveTo>
                      <a:pt x="0" y="217"/>
                    </a:moveTo>
                    <a:lnTo>
                      <a:pt x="0" y="224"/>
                    </a:lnTo>
                    <a:lnTo>
                      <a:pt x="1078" y="15"/>
                    </a:lnTo>
                    <a:lnTo>
                      <a:pt x="1078" y="0"/>
                    </a:lnTo>
                    <a:lnTo>
                      <a:pt x="0" y="210"/>
                    </a:lnTo>
                    <a:lnTo>
                      <a:pt x="0" y="217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936720" y="2774880"/>
                <a:ext cx="855720" cy="179280"/>
              </a:xfrm>
              <a:custGeom>
                <a:avLst/>
                <a:gdLst/>
                <a:ahLst/>
                <a:rect l="l" t="t" r="r" b="b"/>
                <a:pathLst>
                  <a:path w="1077" h="226">
                    <a:moveTo>
                      <a:pt x="0" y="218"/>
                    </a:moveTo>
                    <a:lnTo>
                      <a:pt x="0" y="226"/>
                    </a:lnTo>
                    <a:lnTo>
                      <a:pt x="1077" y="14"/>
                    </a:lnTo>
                    <a:lnTo>
                      <a:pt x="1077" y="0"/>
                    </a:lnTo>
                    <a:lnTo>
                      <a:pt x="0" y="211"/>
                    </a:lnTo>
                    <a:lnTo>
                      <a:pt x="0" y="21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022400" y="2828880"/>
                <a:ext cx="790560" cy="164880"/>
              </a:xfrm>
              <a:custGeom>
                <a:avLst/>
                <a:gdLst/>
                <a:ahLst/>
                <a:rect l="l" t="t" r="r" b="b"/>
                <a:pathLst>
                  <a:path w="996" h="208">
                    <a:moveTo>
                      <a:pt x="0" y="201"/>
                    </a:moveTo>
                    <a:lnTo>
                      <a:pt x="0" y="208"/>
                    </a:lnTo>
                    <a:lnTo>
                      <a:pt x="996" y="15"/>
                    </a:lnTo>
                    <a:lnTo>
                      <a:pt x="996" y="0"/>
                    </a:lnTo>
                    <a:lnTo>
                      <a:pt x="0" y="193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976320" y="2881080"/>
                <a:ext cx="855720" cy="179280"/>
              </a:xfrm>
              <a:custGeom>
                <a:avLst/>
                <a:gdLst/>
                <a:ahLst/>
                <a:rect l="l" t="t" r="r" b="b"/>
                <a:pathLst>
                  <a:path w="1077" h="226">
                    <a:moveTo>
                      <a:pt x="0" y="218"/>
                    </a:moveTo>
                    <a:lnTo>
                      <a:pt x="0" y="226"/>
                    </a:lnTo>
                    <a:lnTo>
                      <a:pt x="1077" y="14"/>
                    </a:lnTo>
                    <a:lnTo>
                      <a:pt x="1077" y="0"/>
                    </a:lnTo>
                    <a:lnTo>
                      <a:pt x="0" y="211"/>
                    </a:lnTo>
                    <a:lnTo>
                      <a:pt x="0" y="21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995400" y="2933640"/>
                <a:ext cx="855720" cy="179280"/>
              </a:xfrm>
              <a:custGeom>
                <a:avLst/>
                <a:gdLst/>
                <a:ahLst/>
                <a:rect l="l" t="t" r="r" b="b"/>
                <a:pathLst>
                  <a:path w="1077" h="226">
                    <a:moveTo>
                      <a:pt x="0" y="219"/>
                    </a:moveTo>
                    <a:lnTo>
                      <a:pt x="0" y="226"/>
                    </a:lnTo>
                    <a:lnTo>
                      <a:pt x="1077" y="15"/>
                    </a:lnTo>
                    <a:lnTo>
                      <a:pt x="1077" y="0"/>
                    </a:lnTo>
                    <a:lnTo>
                      <a:pt x="0" y="212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016280" y="2984400"/>
                <a:ext cx="853920" cy="181080"/>
              </a:xfrm>
              <a:custGeom>
                <a:avLst/>
                <a:gdLst/>
                <a:ahLst/>
                <a:rect l="l" t="t" r="r" b="b"/>
                <a:pathLst>
                  <a:path w="1078" h="228">
                    <a:moveTo>
                      <a:pt x="0" y="220"/>
                    </a:moveTo>
                    <a:lnTo>
                      <a:pt x="0" y="228"/>
                    </a:lnTo>
                    <a:lnTo>
                      <a:pt x="1078" y="14"/>
                    </a:lnTo>
                    <a:lnTo>
                      <a:pt x="1078" y="0"/>
                    </a:lnTo>
                    <a:lnTo>
                      <a:pt x="0" y="213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033560" y="3036600"/>
                <a:ext cx="855720" cy="181080"/>
              </a:xfrm>
              <a:custGeom>
                <a:avLst/>
                <a:gdLst/>
                <a:ahLst/>
                <a:rect l="l" t="t" r="r" b="b"/>
                <a:pathLst>
                  <a:path w="1077" h="228">
                    <a:moveTo>
                      <a:pt x="0" y="221"/>
                    </a:moveTo>
                    <a:lnTo>
                      <a:pt x="0" y="228"/>
                    </a:lnTo>
                    <a:lnTo>
                      <a:pt x="1077" y="15"/>
                    </a:lnTo>
                    <a:lnTo>
                      <a:pt x="1077" y="0"/>
                    </a:lnTo>
                    <a:lnTo>
                      <a:pt x="0" y="214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054080" y="3090600"/>
                <a:ext cx="855720" cy="181080"/>
              </a:xfrm>
              <a:custGeom>
                <a:avLst/>
                <a:gdLst/>
                <a:ahLst/>
                <a:rect l="l" t="t" r="r" b="b"/>
                <a:pathLst>
                  <a:path w="1078" h="228">
                    <a:moveTo>
                      <a:pt x="0" y="220"/>
                    </a:moveTo>
                    <a:lnTo>
                      <a:pt x="0" y="228"/>
                    </a:lnTo>
                    <a:lnTo>
                      <a:pt x="1078" y="14"/>
                    </a:lnTo>
                    <a:lnTo>
                      <a:pt x="1078" y="0"/>
                    </a:lnTo>
                    <a:lnTo>
                      <a:pt x="0" y="213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073160" y="3143160"/>
                <a:ext cx="855720" cy="180720"/>
              </a:xfrm>
              <a:custGeom>
                <a:avLst/>
                <a:gdLst/>
                <a:ahLst/>
                <a:rect l="l" t="t" r="r" b="b"/>
                <a:pathLst>
                  <a:path w="1077" h="228">
                    <a:moveTo>
                      <a:pt x="0" y="221"/>
                    </a:moveTo>
                    <a:lnTo>
                      <a:pt x="0" y="228"/>
                    </a:lnTo>
                    <a:lnTo>
                      <a:pt x="1077" y="15"/>
                    </a:lnTo>
                    <a:lnTo>
                      <a:pt x="1077" y="0"/>
                    </a:lnTo>
                    <a:lnTo>
                      <a:pt x="0" y="214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152720" y="3195360"/>
                <a:ext cx="795240" cy="168480"/>
              </a:xfrm>
              <a:custGeom>
                <a:avLst/>
                <a:gdLst/>
                <a:ahLst/>
                <a:rect l="l" t="t" r="r" b="b"/>
                <a:pathLst>
                  <a:path w="1001" h="211">
                    <a:moveTo>
                      <a:pt x="1001" y="7"/>
                    </a:moveTo>
                    <a:lnTo>
                      <a:pt x="1001" y="0"/>
                    </a:lnTo>
                    <a:lnTo>
                      <a:pt x="0" y="197"/>
                    </a:lnTo>
                    <a:lnTo>
                      <a:pt x="0" y="211"/>
                    </a:lnTo>
                    <a:lnTo>
                      <a:pt x="1001" y="14"/>
                    </a:lnTo>
                    <a:lnTo>
                      <a:pt x="1001" y="7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111320" y="3247920"/>
                <a:ext cx="855720" cy="181080"/>
              </a:xfrm>
              <a:custGeom>
                <a:avLst/>
                <a:gdLst/>
                <a:ahLst/>
                <a:rect l="l" t="t" r="r" b="b"/>
                <a:pathLst>
                  <a:path w="1078" h="228">
                    <a:moveTo>
                      <a:pt x="0" y="221"/>
                    </a:moveTo>
                    <a:lnTo>
                      <a:pt x="0" y="228"/>
                    </a:lnTo>
                    <a:lnTo>
                      <a:pt x="1078" y="15"/>
                    </a:lnTo>
                    <a:lnTo>
                      <a:pt x="1078" y="0"/>
                    </a:lnTo>
                    <a:lnTo>
                      <a:pt x="0" y="214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130400" y="3301920"/>
                <a:ext cx="855720" cy="179280"/>
              </a:xfrm>
              <a:custGeom>
                <a:avLst/>
                <a:gdLst/>
                <a:ahLst/>
                <a:rect l="l" t="t" r="r" b="b"/>
                <a:pathLst>
                  <a:path w="1077" h="226">
                    <a:moveTo>
                      <a:pt x="0" y="218"/>
                    </a:moveTo>
                    <a:lnTo>
                      <a:pt x="0" y="226"/>
                    </a:lnTo>
                    <a:lnTo>
                      <a:pt x="1077" y="14"/>
                    </a:lnTo>
                    <a:lnTo>
                      <a:pt x="1077" y="0"/>
                    </a:lnTo>
                    <a:lnTo>
                      <a:pt x="0" y="211"/>
                    </a:lnTo>
                    <a:lnTo>
                      <a:pt x="0" y="21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71560" y="2406600"/>
                <a:ext cx="785880" cy="166680"/>
              </a:xfrm>
              <a:custGeom>
                <a:avLst/>
                <a:gdLst/>
                <a:ahLst/>
                <a:rect l="l" t="t" r="r" b="b"/>
                <a:pathLst>
                  <a:path w="988" h="210">
                    <a:moveTo>
                      <a:pt x="0" y="202"/>
                    </a:moveTo>
                    <a:lnTo>
                      <a:pt x="0" y="210"/>
                    </a:lnTo>
                    <a:lnTo>
                      <a:pt x="988" y="15"/>
                    </a:lnTo>
                    <a:lnTo>
                      <a:pt x="988" y="0"/>
                    </a:lnTo>
                    <a:lnTo>
                      <a:pt x="0" y="195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560160" y="365760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Draft Propos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urusan 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609480" y="4572000"/>
            <a:ext cx="1607760" cy="2014200"/>
            <a:chOff x="609480" y="4572000"/>
            <a:chExt cx="1607760" cy="2014200"/>
          </a:xfrm>
        </p:grpSpPr>
        <p:grpSp>
          <p:nvGrpSpPr>
            <p:cNvPr id="975" name=""/>
            <p:cNvGrpSpPr/>
            <p:nvPr/>
          </p:nvGrpSpPr>
          <p:grpSpPr>
            <a:xfrm>
              <a:off x="609480" y="4572000"/>
              <a:ext cx="1473120" cy="1444320"/>
              <a:chOff x="609480" y="4572000"/>
              <a:chExt cx="1473120" cy="1444320"/>
            </a:xfrm>
          </p:grpSpPr>
          <p:sp>
            <p:nvSpPr>
              <p:cNvPr id="976" name=""/>
              <p:cNvSpPr/>
              <p:nvPr/>
            </p:nvSpPr>
            <p:spPr>
              <a:xfrm>
                <a:off x="617040" y="4727520"/>
                <a:ext cx="1367280" cy="1280880"/>
              </a:xfrm>
              <a:custGeom>
                <a:avLst/>
                <a:gdLst/>
                <a:ahLst/>
                <a:rect l="l" t="t" r="r" b="b"/>
                <a:pathLst>
                  <a:path w="1726" h="1614">
                    <a:moveTo>
                      <a:pt x="78" y="526"/>
                    </a:moveTo>
                    <a:lnTo>
                      <a:pt x="359" y="1016"/>
                    </a:lnTo>
                    <a:lnTo>
                      <a:pt x="362" y="1015"/>
                    </a:lnTo>
                    <a:lnTo>
                      <a:pt x="373" y="1011"/>
                    </a:lnTo>
                    <a:lnTo>
                      <a:pt x="384" y="1007"/>
                    </a:lnTo>
                    <a:lnTo>
                      <a:pt x="391" y="1004"/>
                    </a:lnTo>
                    <a:lnTo>
                      <a:pt x="386" y="1000"/>
                    </a:lnTo>
                    <a:lnTo>
                      <a:pt x="382" y="998"/>
                    </a:lnTo>
                    <a:lnTo>
                      <a:pt x="379" y="995"/>
                    </a:lnTo>
                    <a:lnTo>
                      <a:pt x="375" y="989"/>
                    </a:lnTo>
                    <a:lnTo>
                      <a:pt x="371" y="980"/>
                    </a:lnTo>
                    <a:lnTo>
                      <a:pt x="373" y="971"/>
                    </a:lnTo>
                    <a:lnTo>
                      <a:pt x="379" y="964"/>
                    </a:lnTo>
                    <a:lnTo>
                      <a:pt x="386" y="958"/>
                    </a:lnTo>
                    <a:lnTo>
                      <a:pt x="397" y="956"/>
                    </a:lnTo>
                    <a:lnTo>
                      <a:pt x="408" y="958"/>
                    </a:lnTo>
                    <a:lnTo>
                      <a:pt x="417" y="964"/>
                    </a:lnTo>
                    <a:lnTo>
                      <a:pt x="424" y="971"/>
                    </a:lnTo>
                    <a:lnTo>
                      <a:pt x="426" y="980"/>
                    </a:lnTo>
                    <a:lnTo>
                      <a:pt x="426" y="989"/>
                    </a:lnTo>
                    <a:lnTo>
                      <a:pt x="420" y="998"/>
                    </a:lnTo>
                    <a:lnTo>
                      <a:pt x="413" y="1004"/>
                    </a:lnTo>
                    <a:lnTo>
                      <a:pt x="408" y="1006"/>
                    </a:lnTo>
                    <a:lnTo>
                      <a:pt x="402" y="1006"/>
                    </a:lnTo>
                    <a:lnTo>
                      <a:pt x="397" y="1006"/>
                    </a:lnTo>
                    <a:lnTo>
                      <a:pt x="391" y="1004"/>
                    </a:lnTo>
                    <a:lnTo>
                      <a:pt x="359" y="1016"/>
                    </a:lnTo>
                    <a:lnTo>
                      <a:pt x="602" y="1446"/>
                    </a:lnTo>
                    <a:lnTo>
                      <a:pt x="653" y="1428"/>
                    </a:lnTo>
                    <a:lnTo>
                      <a:pt x="664" y="1426"/>
                    </a:lnTo>
                    <a:lnTo>
                      <a:pt x="673" y="1428"/>
                    </a:lnTo>
                    <a:lnTo>
                      <a:pt x="683" y="1434"/>
                    </a:lnTo>
                    <a:lnTo>
                      <a:pt x="690" y="1441"/>
                    </a:lnTo>
                    <a:lnTo>
                      <a:pt x="693" y="1450"/>
                    </a:lnTo>
                    <a:lnTo>
                      <a:pt x="692" y="1459"/>
                    </a:lnTo>
                    <a:lnTo>
                      <a:pt x="686" y="1468"/>
                    </a:lnTo>
                    <a:lnTo>
                      <a:pt x="679" y="1474"/>
                    </a:lnTo>
                    <a:lnTo>
                      <a:pt x="668" y="1476"/>
                    </a:lnTo>
                    <a:lnTo>
                      <a:pt x="659" y="1474"/>
                    </a:lnTo>
                    <a:lnTo>
                      <a:pt x="650" y="1468"/>
                    </a:lnTo>
                    <a:lnTo>
                      <a:pt x="643" y="1459"/>
                    </a:lnTo>
                    <a:lnTo>
                      <a:pt x="639" y="1450"/>
                    </a:lnTo>
                    <a:lnTo>
                      <a:pt x="641" y="1441"/>
                    </a:lnTo>
                    <a:lnTo>
                      <a:pt x="646" y="1434"/>
                    </a:lnTo>
                    <a:lnTo>
                      <a:pt x="653" y="1428"/>
                    </a:lnTo>
                    <a:lnTo>
                      <a:pt x="643" y="1432"/>
                    </a:lnTo>
                    <a:lnTo>
                      <a:pt x="626" y="1437"/>
                    </a:lnTo>
                    <a:lnTo>
                      <a:pt x="610" y="1445"/>
                    </a:lnTo>
                    <a:lnTo>
                      <a:pt x="602" y="1446"/>
                    </a:lnTo>
                    <a:lnTo>
                      <a:pt x="697" y="1614"/>
                    </a:lnTo>
                    <a:lnTo>
                      <a:pt x="1726" y="1228"/>
                    </a:lnTo>
                    <a:lnTo>
                      <a:pt x="1028" y="0"/>
                    </a:lnTo>
                    <a:lnTo>
                      <a:pt x="0" y="386"/>
                    </a:lnTo>
                    <a:lnTo>
                      <a:pt x="78" y="526"/>
                    </a:lnTo>
                    <a:lnTo>
                      <a:pt x="82" y="525"/>
                    </a:lnTo>
                    <a:lnTo>
                      <a:pt x="91" y="521"/>
                    </a:lnTo>
                    <a:lnTo>
                      <a:pt x="100" y="517"/>
                    </a:lnTo>
                    <a:lnTo>
                      <a:pt x="106" y="515"/>
                    </a:lnTo>
                    <a:lnTo>
                      <a:pt x="104" y="506"/>
                    </a:lnTo>
                    <a:lnTo>
                      <a:pt x="106" y="499"/>
                    </a:lnTo>
                    <a:lnTo>
                      <a:pt x="111" y="492"/>
                    </a:lnTo>
                    <a:lnTo>
                      <a:pt x="118" y="486"/>
                    </a:lnTo>
                    <a:lnTo>
                      <a:pt x="129" y="484"/>
                    </a:lnTo>
                    <a:lnTo>
                      <a:pt x="138" y="488"/>
                    </a:lnTo>
                    <a:lnTo>
                      <a:pt x="147" y="494"/>
                    </a:lnTo>
                    <a:lnTo>
                      <a:pt x="155" y="501"/>
                    </a:lnTo>
                    <a:lnTo>
                      <a:pt x="158" y="510"/>
                    </a:lnTo>
                    <a:lnTo>
                      <a:pt x="157" y="519"/>
                    </a:lnTo>
                    <a:lnTo>
                      <a:pt x="151" y="528"/>
                    </a:lnTo>
                    <a:lnTo>
                      <a:pt x="144" y="534"/>
                    </a:lnTo>
                    <a:lnTo>
                      <a:pt x="133" y="534"/>
                    </a:lnTo>
                    <a:lnTo>
                      <a:pt x="122" y="530"/>
                    </a:lnTo>
                    <a:lnTo>
                      <a:pt x="113" y="525"/>
                    </a:lnTo>
                    <a:lnTo>
                      <a:pt x="106" y="515"/>
                    </a:lnTo>
                    <a:lnTo>
                      <a:pt x="102" y="517"/>
                    </a:lnTo>
                    <a:lnTo>
                      <a:pt x="93" y="521"/>
                    </a:lnTo>
                    <a:lnTo>
                      <a:pt x="82" y="525"/>
                    </a:lnTo>
                    <a:lnTo>
                      <a:pt x="78" y="5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74280" y="5141880"/>
                <a:ext cx="231120" cy="399960"/>
              </a:xfrm>
              <a:custGeom>
                <a:avLst/>
                <a:gdLst/>
                <a:ahLst/>
                <a:rect l="l" t="t" r="r" b="b"/>
                <a:pathLst>
                  <a:path w="291" h="503">
                    <a:moveTo>
                      <a:pt x="284" y="486"/>
                    </a:moveTo>
                    <a:lnTo>
                      <a:pt x="291" y="490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280" y="497"/>
                    </a:lnTo>
                    <a:lnTo>
                      <a:pt x="287" y="501"/>
                    </a:lnTo>
                    <a:lnTo>
                      <a:pt x="280" y="497"/>
                    </a:lnTo>
                    <a:lnTo>
                      <a:pt x="284" y="503"/>
                    </a:lnTo>
                    <a:lnTo>
                      <a:pt x="287" y="501"/>
                    </a:lnTo>
                    <a:lnTo>
                      <a:pt x="284" y="4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99280" y="5518080"/>
                <a:ext cx="45720" cy="21960"/>
              </a:xfrm>
              <a:custGeom>
                <a:avLst/>
                <a:gdLst/>
                <a:ahLst/>
                <a:rect l="l" t="t" r="r" b="b"/>
                <a:pathLst>
                  <a:path w="56" h="28">
                    <a:moveTo>
                      <a:pt x="31" y="15"/>
                    </a:moveTo>
                    <a:lnTo>
                      <a:pt x="33" y="0"/>
                    </a:lnTo>
                    <a:lnTo>
                      <a:pt x="25" y="4"/>
                    </a:lnTo>
                    <a:lnTo>
                      <a:pt x="14" y="8"/>
                    </a:lnTo>
                    <a:lnTo>
                      <a:pt x="3" y="11"/>
                    </a:lnTo>
                    <a:lnTo>
                      <a:pt x="0" y="13"/>
                    </a:lnTo>
                    <a:lnTo>
                      <a:pt x="3" y="28"/>
                    </a:lnTo>
                    <a:lnTo>
                      <a:pt x="7" y="26"/>
                    </a:lnTo>
                    <a:lnTo>
                      <a:pt x="18" y="22"/>
                    </a:lnTo>
                    <a:lnTo>
                      <a:pt x="29" y="19"/>
                    </a:lnTo>
                    <a:lnTo>
                      <a:pt x="36" y="15"/>
                    </a:lnTo>
                    <a:lnTo>
                      <a:pt x="38" y="0"/>
                    </a:lnTo>
                    <a:lnTo>
                      <a:pt x="36" y="15"/>
                    </a:lnTo>
                    <a:lnTo>
                      <a:pt x="56" y="10"/>
                    </a:lnTo>
                    <a:lnTo>
                      <a:pt x="36" y="2"/>
                    </a:lnTo>
                    <a:lnTo>
                      <a:pt x="3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908640" y="551016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" y="8"/>
                    </a:moveTo>
                    <a:lnTo>
                      <a:pt x="0" y="8"/>
                    </a:lnTo>
                    <a:lnTo>
                      <a:pt x="5" y="13"/>
                    </a:lnTo>
                    <a:lnTo>
                      <a:pt x="11" y="19"/>
                    </a:lnTo>
                    <a:lnTo>
                      <a:pt x="14" y="21"/>
                    </a:lnTo>
                    <a:lnTo>
                      <a:pt x="20" y="26"/>
                    </a:lnTo>
                    <a:lnTo>
                      <a:pt x="27" y="11"/>
                    </a:lnTo>
                    <a:lnTo>
                      <a:pt x="22" y="10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905760" y="5481360"/>
                <a:ext cx="18360" cy="3348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20" y="0"/>
                    </a:moveTo>
                    <a:lnTo>
                      <a:pt x="20" y="0"/>
                    </a:lnTo>
                    <a:lnTo>
                      <a:pt x="9" y="7"/>
                    </a:lnTo>
                    <a:lnTo>
                      <a:pt x="2" y="18"/>
                    </a:lnTo>
                    <a:lnTo>
                      <a:pt x="0" y="29"/>
                    </a:lnTo>
                    <a:lnTo>
                      <a:pt x="5" y="42"/>
                    </a:lnTo>
                    <a:lnTo>
                      <a:pt x="16" y="34"/>
                    </a:lnTo>
                    <a:lnTo>
                      <a:pt x="15" y="29"/>
                    </a:lnTo>
                    <a:lnTo>
                      <a:pt x="16" y="22"/>
                    </a:lnTo>
                    <a:lnTo>
                      <a:pt x="20" y="18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921600" y="548136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47" y="20"/>
                    </a:moveTo>
                    <a:lnTo>
                      <a:pt x="46" y="18"/>
                    </a:lnTo>
                    <a:lnTo>
                      <a:pt x="36" y="9"/>
                    </a:lnTo>
                    <a:lnTo>
                      <a:pt x="26" y="2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4" y="16"/>
                    </a:lnTo>
                    <a:lnTo>
                      <a:pt x="13" y="15"/>
                    </a:lnTo>
                    <a:lnTo>
                      <a:pt x="22" y="16"/>
                    </a:lnTo>
                    <a:lnTo>
                      <a:pt x="29" y="20"/>
                    </a:lnTo>
                    <a:lnTo>
                      <a:pt x="35" y="26"/>
                    </a:lnTo>
                    <a:lnTo>
                      <a:pt x="33" y="24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943560" y="5497200"/>
                <a:ext cx="17280" cy="3204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4" y="42"/>
                    </a:moveTo>
                    <a:lnTo>
                      <a:pt x="4" y="42"/>
                    </a:lnTo>
                    <a:lnTo>
                      <a:pt x="15" y="33"/>
                    </a:lnTo>
                    <a:lnTo>
                      <a:pt x="22" y="22"/>
                    </a:lnTo>
                    <a:lnTo>
                      <a:pt x="22" y="11"/>
                    </a:lnTo>
                    <a:lnTo>
                      <a:pt x="20" y="0"/>
                    </a:lnTo>
                    <a:lnTo>
                      <a:pt x="6" y="4"/>
                    </a:lnTo>
                    <a:lnTo>
                      <a:pt x="8" y="11"/>
                    </a:lnTo>
                    <a:lnTo>
                      <a:pt x="8" y="18"/>
                    </a:lnTo>
                    <a:lnTo>
                      <a:pt x="4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4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926280" y="5518080"/>
                <a:ext cx="18720" cy="126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3" y="15"/>
                    </a:moveTo>
                    <a:lnTo>
                      <a:pt x="0" y="15"/>
                    </a:lnTo>
                    <a:lnTo>
                      <a:pt x="7" y="17"/>
                    </a:lnTo>
                    <a:lnTo>
                      <a:pt x="12" y="17"/>
                    </a:lnTo>
                    <a:lnTo>
                      <a:pt x="18" y="17"/>
                    </a:lnTo>
                    <a:lnTo>
                      <a:pt x="25" y="15"/>
                    </a:lnTo>
                    <a:lnTo>
                      <a:pt x="21" y="0"/>
                    </a:lnTo>
                    <a:lnTo>
                      <a:pt x="18" y="2"/>
                    </a:lnTo>
                    <a:lnTo>
                      <a:pt x="12" y="2"/>
                    </a:lnTo>
                    <a:lnTo>
                      <a:pt x="7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92800" y="551808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16" y="17"/>
                    </a:moveTo>
                    <a:lnTo>
                      <a:pt x="12" y="28"/>
                    </a:lnTo>
                    <a:lnTo>
                      <a:pt x="45" y="15"/>
                    </a:lnTo>
                    <a:lnTo>
                      <a:pt x="42" y="0"/>
                    </a:lnTo>
                    <a:lnTo>
                      <a:pt x="9" y="13"/>
                    </a:lnTo>
                    <a:lnTo>
                      <a:pt x="5" y="24"/>
                    </a:lnTo>
                    <a:lnTo>
                      <a:pt x="9" y="13"/>
                    </a:lnTo>
                    <a:lnTo>
                      <a:pt x="0" y="17"/>
                    </a:lnTo>
                    <a:lnTo>
                      <a:pt x="5" y="24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97840" y="5530680"/>
                <a:ext cx="200880" cy="352440"/>
              </a:xfrm>
              <a:custGeom>
                <a:avLst/>
                <a:gdLst/>
                <a:ahLst/>
                <a:rect l="l" t="t" r="r" b="b"/>
                <a:pathLst>
                  <a:path w="255" h="443">
                    <a:moveTo>
                      <a:pt x="248" y="426"/>
                    </a:moveTo>
                    <a:lnTo>
                      <a:pt x="255" y="430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244" y="437"/>
                    </a:lnTo>
                    <a:lnTo>
                      <a:pt x="251" y="441"/>
                    </a:lnTo>
                    <a:lnTo>
                      <a:pt x="244" y="437"/>
                    </a:lnTo>
                    <a:lnTo>
                      <a:pt x="246" y="443"/>
                    </a:lnTo>
                    <a:lnTo>
                      <a:pt x="251" y="441"/>
                    </a:lnTo>
                    <a:lnTo>
                      <a:pt x="24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092600" y="5854680"/>
                <a:ext cx="43920" cy="2700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51" y="0"/>
                    </a:moveTo>
                    <a:lnTo>
                      <a:pt x="51" y="0"/>
                    </a:lnTo>
                    <a:lnTo>
                      <a:pt x="0" y="18"/>
                    </a:lnTo>
                    <a:lnTo>
                      <a:pt x="3" y="33"/>
                    </a:lnTo>
                    <a:lnTo>
                      <a:pt x="54" y="14"/>
                    </a:lnTo>
                    <a:lnTo>
                      <a:pt x="54" y="14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134000" y="5854680"/>
                <a:ext cx="34560" cy="1908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43" y="18"/>
                    </a:moveTo>
                    <a:lnTo>
                      <a:pt x="43" y="18"/>
                    </a:lnTo>
                    <a:lnTo>
                      <a:pt x="34" y="9"/>
                    </a:lnTo>
                    <a:lnTo>
                      <a:pt x="23" y="2"/>
                    </a:lnTo>
                    <a:lnTo>
                      <a:pt x="12" y="0"/>
                    </a:lnTo>
                    <a:lnTo>
                      <a:pt x="0" y="2"/>
                    </a:lnTo>
                    <a:lnTo>
                      <a:pt x="3" y="16"/>
                    </a:lnTo>
                    <a:lnTo>
                      <a:pt x="12" y="15"/>
                    </a:lnTo>
                    <a:lnTo>
                      <a:pt x="20" y="16"/>
                    </a:lnTo>
                    <a:lnTo>
                      <a:pt x="27" y="20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154520" y="5868720"/>
                <a:ext cx="16920" cy="3492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4" y="44"/>
                    </a:moveTo>
                    <a:lnTo>
                      <a:pt x="4" y="44"/>
                    </a:lnTo>
                    <a:lnTo>
                      <a:pt x="15" y="35"/>
                    </a:lnTo>
                    <a:lnTo>
                      <a:pt x="22" y="24"/>
                    </a:lnTo>
                    <a:lnTo>
                      <a:pt x="24" y="13"/>
                    </a:lnTo>
                    <a:lnTo>
                      <a:pt x="18" y="0"/>
                    </a:lnTo>
                    <a:lnTo>
                      <a:pt x="7" y="8"/>
                    </a:lnTo>
                    <a:lnTo>
                      <a:pt x="9" y="13"/>
                    </a:lnTo>
                    <a:lnTo>
                      <a:pt x="7" y="20"/>
                    </a:lnTo>
                    <a:lnTo>
                      <a:pt x="4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4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122840" y="5883120"/>
                <a:ext cx="32760" cy="20520"/>
              </a:xfrm>
              <a:custGeom>
                <a:avLst/>
                <a:gdLst/>
                <a:ahLst/>
                <a:rect l="l" t="t" r="r" b="b"/>
                <a:pathLst>
                  <a:path w="44" h="27">
                    <a:moveTo>
                      <a:pt x="0" y="7"/>
                    </a:moveTo>
                    <a:lnTo>
                      <a:pt x="0" y="7"/>
                    </a:lnTo>
                    <a:lnTo>
                      <a:pt x="9" y="18"/>
                    </a:lnTo>
                    <a:lnTo>
                      <a:pt x="20" y="25"/>
                    </a:lnTo>
                    <a:lnTo>
                      <a:pt x="31" y="27"/>
                    </a:lnTo>
                    <a:lnTo>
                      <a:pt x="44" y="25"/>
                    </a:lnTo>
                    <a:lnTo>
                      <a:pt x="40" y="10"/>
                    </a:lnTo>
                    <a:lnTo>
                      <a:pt x="31" y="12"/>
                    </a:lnTo>
                    <a:lnTo>
                      <a:pt x="24" y="10"/>
                    </a:lnTo>
                    <a:lnTo>
                      <a:pt x="16" y="7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117800" y="5854680"/>
                <a:ext cx="18720" cy="33120"/>
              </a:xfrm>
              <a:custGeom>
                <a:avLst/>
                <a:gdLst/>
                <a:ahLst/>
                <a:rect l="l" t="t" r="r" b="b"/>
                <a:pathLst>
                  <a:path w="23" h="42">
                    <a:moveTo>
                      <a:pt x="23" y="14"/>
                    </a:moveTo>
                    <a:lnTo>
                      <a:pt x="20" y="0"/>
                    </a:lnTo>
                    <a:lnTo>
                      <a:pt x="9" y="7"/>
                    </a:lnTo>
                    <a:lnTo>
                      <a:pt x="1" y="18"/>
                    </a:lnTo>
                    <a:lnTo>
                      <a:pt x="0" y="29"/>
                    </a:lnTo>
                    <a:lnTo>
                      <a:pt x="5" y="42"/>
                    </a:lnTo>
                    <a:lnTo>
                      <a:pt x="16" y="35"/>
                    </a:lnTo>
                    <a:lnTo>
                      <a:pt x="14" y="29"/>
                    </a:lnTo>
                    <a:lnTo>
                      <a:pt x="16" y="22"/>
                    </a:lnTo>
                    <a:lnTo>
                      <a:pt x="20" y="18"/>
                    </a:lnTo>
                    <a:lnTo>
                      <a:pt x="23" y="14"/>
                    </a:lnTo>
                    <a:lnTo>
                      <a:pt x="20" y="0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086120" y="5854680"/>
                <a:ext cx="50400" cy="27000"/>
              </a:xfrm>
              <a:custGeom>
                <a:avLst/>
                <a:gdLst/>
                <a:ahLst/>
                <a:rect l="l" t="t" r="r" b="b"/>
                <a:pathLst>
                  <a:path w="63" h="33">
                    <a:moveTo>
                      <a:pt x="16" y="22"/>
                    </a:moveTo>
                    <a:lnTo>
                      <a:pt x="12" y="33"/>
                    </a:lnTo>
                    <a:lnTo>
                      <a:pt x="20" y="31"/>
                    </a:lnTo>
                    <a:lnTo>
                      <a:pt x="36" y="24"/>
                    </a:lnTo>
                    <a:lnTo>
                      <a:pt x="52" y="18"/>
                    </a:lnTo>
                    <a:lnTo>
                      <a:pt x="63" y="14"/>
                    </a:lnTo>
                    <a:lnTo>
                      <a:pt x="60" y="0"/>
                    </a:lnTo>
                    <a:lnTo>
                      <a:pt x="49" y="4"/>
                    </a:lnTo>
                    <a:lnTo>
                      <a:pt x="32" y="9"/>
                    </a:lnTo>
                    <a:lnTo>
                      <a:pt x="16" y="16"/>
                    </a:lnTo>
                    <a:lnTo>
                      <a:pt x="9" y="18"/>
                    </a:lnTo>
                    <a:lnTo>
                      <a:pt x="5" y="29"/>
                    </a:lnTo>
                    <a:lnTo>
                      <a:pt x="9" y="18"/>
                    </a:lnTo>
                    <a:lnTo>
                      <a:pt x="0" y="22"/>
                    </a:lnTo>
                    <a:lnTo>
                      <a:pt x="5" y="29"/>
                    </a:lnTo>
                    <a:lnTo>
                      <a:pt x="1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091160" y="5871960"/>
                <a:ext cx="82080" cy="144360"/>
              </a:xfrm>
              <a:custGeom>
                <a:avLst/>
                <a:gdLst/>
                <a:ahLst/>
                <a:rect l="l" t="t" r="r" b="b"/>
                <a:pathLst>
                  <a:path w="106" h="180">
                    <a:moveTo>
                      <a:pt x="98" y="164"/>
                    </a:moveTo>
                    <a:lnTo>
                      <a:pt x="106" y="167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95" y="175"/>
                    </a:lnTo>
                    <a:lnTo>
                      <a:pt x="102" y="178"/>
                    </a:lnTo>
                    <a:lnTo>
                      <a:pt x="95" y="175"/>
                    </a:lnTo>
                    <a:lnTo>
                      <a:pt x="96" y="180"/>
                    </a:lnTo>
                    <a:lnTo>
                      <a:pt x="102" y="178"/>
                    </a:lnTo>
                    <a:lnTo>
                      <a:pt x="98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68560" y="5695920"/>
                <a:ext cx="823680" cy="318960"/>
              </a:xfrm>
              <a:custGeom>
                <a:avLst/>
                <a:gdLst/>
                <a:ahLst/>
                <a:rect l="l" t="t" r="r" b="b"/>
                <a:pathLst>
                  <a:path w="1041" h="401">
                    <a:moveTo>
                      <a:pt x="1025" y="11"/>
                    </a:moveTo>
                    <a:lnTo>
                      <a:pt x="1029" y="0"/>
                    </a:lnTo>
                    <a:lnTo>
                      <a:pt x="0" y="387"/>
                    </a:lnTo>
                    <a:lnTo>
                      <a:pt x="4" y="401"/>
                    </a:lnTo>
                    <a:lnTo>
                      <a:pt x="1032" y="15"/>
                    </a:lnTo>
                    <a:lnTo>
                      <a:pt x="1036" y="4"/>
                    </a:lnTo>
                    <a:lnTo>
                      <a:pt x="1032" y="15"/>
                    </a:lnTo>
                    <a:lnTo>
                      <a:pt x="1041" y="11"/>
                    </a:lnTo>
                    <a:lnTo>
                      <a:pt x="1036" y="4"/>
                    </a:lnTo>
                    <a:lnTo>
                      <a:pt x="102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26680" y="4719600"/>
                <a:ext cx="560520" cy="985680"/>
              </a:xfrm>
              <a:custGeom>
                <a:avLst/>
                <a:gdLst/>
                <a:ahLst/>
                <a:rect l="l" t="t" r="r" b="b"/>
                <a:pathLst>
                  <a:path w="708" h="1240">
                    <a:moveTo>
                      <a:pt x="7" y="16"/>
                    </a:moveTo>
                    <a:lnTo>
                      <a:pt x="0" y="13"/>
                    </a:lnTo>
                    <a:lnTo>
                      <a:pt x="697" y="1240"/>
                    </a:lnTo>
                    <a:lnTo>
                      <a:pt x="708" y="1233"/>
                    </a:lnTo>
                    <a:lnTo>
                      <a:pt x="11" y="5"/>
                    </a:lnTo>
                    <a:lnTo>
                      <a:pt x="4" y="2"/>
                    </a:lnTo>
                    <a:lnTo>
                      <a:pt x="11" y="5"/>
                    </a:lnTo>
                    <a:lnTo>
                      <a:pt x="9" y="0"/>
                    </a:lnTo>
                    <a:lnTo>
                      <a:pt x="4" y="2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09480" y="4721040"/>
                <a:ext cx="823680" cy="318960"/>
              </a:xfrm>
              <a:custGeom>
                <a:avLst/>
                <a:gdLst/>
                <a:ahLst/>
                <a:rect l="l" t="t" r="r" b="b"/>
                <a:pathLst>
                  <a:path w="1041" h="400">
                    <a:moveTo>
                      <a:pt x="16" y="389"/>
                    </a:moveTo>
                    <a:lnTo>
                      <a:pt x="13" y="400"/>
                    </a:lnTo>
                    <a:lnTo>
                      <a:pt x="1041" y="14"/>
                    </a:lnTo>
                    <a:lnTo>
                      <a:pt x="1038" y="0"/>
                    </a:lnTo>
                    <a:lnTo>
                      <a:pt x="9" y="386"/>
                    </a:lnTo>
                    <a:lnTo>
                      <a:pt x="6" y="397"/>
                    </a:lnTo>
                    <a:lnTo>
                      <a:pt x="9" y="386"/>
                    </a:lnTo>
                    <a:lnTo>
                      <a:pt x="0" y="389"/>
                    </a:lnTo>
                    <a:lnTo>
                      <a:pt x="6" y="397"/>
                    </a:lnTo>
                    <a:lnTo>
                      <a:pt x="16" y="3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12360" y="5030640"/>
                <a:ext cx="70920" cy="122040"/>
              </a:xfrm>
              <a:custGeom>
                <a:avLst/>
                <a:gdLst/>
                <a:ahLst/>
                <a:rect l="l" t="t" r="r" b="b"/>
                <a:pathLst>
                  <a:path w="89" h="154">
                    <a:moveTo>
                      <a:pt x="81" y="137"/>
                    </a:moveTo>
                    <a:lnTo>
                      <a:pt x="89" y="141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78" y="148"/>
                    </a:lnTo>
                    <a:lnTo>
                      <a:pt x="85" y="152"/>
                    </a:lnTo>
                    <a:lnTo>
                      <a:pt x="78" y="148"/>
                    </a:lnTo>
                    <a:lnTo>
                      <a:pt x="80" y="154"/>
                    </a:lnTo>
                    <a:lnTo>
                      <a:pt x="85" y="152"/>
                    </a:lnTo>
                    <a:lnTo>
                      <a:pt x="81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77520" y="5130720"/>
                <a:ext cx="29520" cy="2052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2" y="9"/>
                    </a:moveTo>
                    <a:lnTo>
                      <a:pt x="26" y="0"/>
                    </a:lnTo>
                    <a:lnTo>
                      <a:pt x="22" y="2"/>
                    </a:lnTo>
                    <a:lnTo>
                      <a:pt x="13" y="6"/>
                    </a:lnTo>
                    <a:lnTo>
                      <a:pt x="4" y="9"/>
                    </a:lnTo>
                    <a:lnTo>
                      <a:pt x="0" y="11"/>
                    </a:lnTo>
                    <a:lnTo>
                      <a:pt x="4" y="26"/>
                    </a:lnTo>
                    <a:lnTo>
                      <a:pt x="8" y="24"/>
                    </a:lnTo>
                    <a:lnTo>
                      <a:pt x="17" y="20"/>
                    </a:lnTo>
                    <a:lnTo>
                      <a:pt x="26" y="17"/>
                    </a:lnTo>
                    <a:lnTo>
                      <a:pt x="33" y="15"/>
                    </a:lnTo>
                    <a:lnTo>
                      <a:pt x="37" y="6"/>
                    </a:lnTo>
                    <a:lnTo>
                      <a:pt x="31" y="13"/>
                    </a:lnTo>
                    <a:lnTo>
                      <a:pt x="39" y="11"/>
                    </a:lnTo>
                    <a:lnTo>
                      <a:pt x="37" y="6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93360" y="5108400"/>
                <a:ext cx="18720" cy="30240"/>
              </a:xfrm>
              <a:custGeom>
                <a:avLst/>
                <a:gdLst/>
                <a:ahLst/>
                <a:rect l="l" t="t" r="r" b="b"/>
                <a:pathLst>
                  <a:path w="24" h="38">
                    <a:moveTo>
                      <a:pt x="20" y="0"/>
                    </a:moveTo>
                    <a:lnTo>
                      <a:pt x="20" y="0"/>
                    </a:lnTo>
                    <a:lnTo>
                      <a:pt x="10" y="7"/>
                    </a:lnTo>
                    <a:lnTo>
                      <a:pt x="2" y="16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17" y="35"/>
                    </a:lnTo>
                    <a:lnTo>
                      <a:pt x="15" y="27"/>
                    </a:lnTo>
                    <a:lnTo>
                      <a:pt x="17" y="24"/>
                    </a:lnTo>
                    <a:lnTo>
                      <a:pt x="20" y="18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09200" y="5106960"/>
                <a:ext cx="34560" cy="20520"/>
              </a:xfrm>
              <a:custGeom>
                <a:avLst/>
                <a:gdLst/>
                <a:ahLst/>
                <a:rect l="l" t="t" r="r" b="b"/>
                <a:pathLst>
                  <a:path w="44" h="28">
                    <a:moveTo>
                      <a:pt x="44" y="20"/>
                    </a:moveTo>
                    <a:lnTo>
                      <a:pt x="44" y="20"/>
                    </a:lnTo>
                    <a:lnTo>
                      <a:pt x="35" y="11"/>
                    </a:lnTo>
                    <a:lnTo>
                      <a:pt x="26" y="4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4" y="17"/>
                    </a:lnTo>
                    <a:lnTo>
                      <a:pt x="13" y="15"/>
                    </a:lnTo>
                    <a:lnTo>
                      <a:pt x="19" y="18"/>
                    </a:lnTo>
                    <a:lnTo>
                      <a:pt x="28" y="22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4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29720" y="5122800"/>
                <a:ext cx="18720" cy="33120"/>
              </a:xfrm>
              <a:custGeom>
                <a:avLst/>
                <a:gdLst/>
                <a:ahLst/>
                <a:rect l="l" t="t" r="r" b="b"/>
                <a:pathLst>
                  <a:path w="24" h="44">
                    <a:moveTo>
                      <a:pt x="4" y="44"/>
                    </a:moveTo>
                    <a:lnTo>
                      <a:pt x="4" y="44"/>
                    </a:lnTo>
                    <a:lnTo>
                      <a:pt x="15" y="35"/>
                    </a:lnTo>
                    <a:lnTo>
                      <a:pt x="22" y="24"/>
                    </a:lnTo>
                    <a:lnTo>
                      <a:pt x="24" y="13"/>
                    </a:lnTo>
                    <a:lnTo>
                      <a:pt x="18" y="0"/>
                    </a:lnTo>
                    <a:lnTo>
                      <a:pt x="7" y="8"/>
                    </a:lnTo>
                    <a:lnTo>
                      <a:pt x="9" y="13"/>
                    </a:lnTo>
                    <a:lnTo>
                      <a:pt x="7" y="20"/>
                    </a:lnTo>
                    <a:lnTo>
                      <a:pt x="4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4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4800" y="5133960"/>
                <a:ext cx="37800" cy="21960"/>
              </a:xfrm>
              <a:custGeom>
                <a:avLst/>
                <a:gdLst/>
                <a:ahLst/>
                <a:rect l="l" t="t" r="r" b="b"/>
                <a:pathLst>
                  <a:path w="48" h="29">
                    <a:moveTo>
                      <a:pt x="0" y="3"/>
                    </a:moveTo>
                    <a:lnTo>
                      <a:pt x="2" y="7"/>
                    </a:lnTo>
                    <a:lnTo>
                      <a:pt x="11" y="18"/>
                    </a:lnTo>
                    <a:lnTo>
                      <a:pt x="22" y="25"/>
                    </a:lnTo>
                    <a:lnTo>
                      <a:pt x="35" y="29"/>
                    </a:lnTo>
                    <a:lnTo>
                      <a:pt x="48" y="29"/>
                    </a:lnTo>
                    <a:lnTo>
                      <a:pt x="44" y="14"/>
                    </a:lnTo>
                    <a:lnTo>
                      <a:pt x="35" y="14"/>
                    </a:lnTo>
                    <a:lnTo>
                      <a:pt x="26" y="11"/>
                    </a:lnTo>
                    <a:lnTo>
                      <a:pt x="18" y="7"/>
                    </a:lnTo>
                    <a:lnTo>
                      <a:pt x="13" y="0"/>
                    </a:lnTo>
                    <a:lnTo>
                      <a:pt x="15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71040" y="5132160"/>
                <a:ext cx="34560" cy="19080"/>
              </a:xfrm>
              <a:custGeom>
                <a:avLst/>
                <a:gdLst/>
                <a:ahLst/>
                <a:rect l="l" t="t" r="r" b="b"/>
                <a:pathLst>
                  <a:path w="46" h="24">
                    <a:moveTo>
                      <a:pt x="17" y="13"/>
                    </a:moveTo>
                    <a:lnTo>
                      <a:pt x="13" y="24"/>
                    </a:lnTo>
                    <a:lnTo>
                      <a:pt x="17" y="22"/>
                    </a:lnTo>
                    <a:lnTo>
                      <a:pt x="28" y="18"/>
                    </a:lnTo>
                    <a:lnTo>
                      <a:pt x="37" y="15"/>
                    </a:lnTo>
                    <a:lnTo>
                      <a:pt x="31" y="5"/>
                    </a:lnTo>
                    <a:lnTo>
                      <a:pt x="46" y="5"/>
                    </a:lnTo>
                    <a:lnTo>
                      <a:pt x="33" y="0"/>
                    </a:lnTo>
                    <a:lnTo>
                      <a:pt x="24" y="4"/>
                    </a:lnTo>
                    <a:lnTo>
                      <a:pt x="13" y="7"/>
                    </a:lnTo>
                    <a:lnTo>
                      <a:pt x="9" y="9"/>
                    </a:lnTo>
                    <a:lnTo>
                      <a:pt x="6" y="20"/>
                    </a:lnTo>
                    <a:lnTo>
                      <a:pt x="9" y="9"/>
                    </a:lnTo>
                    <a:lnTo>
                      <a:pt x="0" y="15"/>
                    </a:lnTo>
                    <a:lnTo>
                      <a:pt x="6" y="20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05960" y="4995720"/>
                <a:ext cx="560520" cy="981000"/>
              </a:xfrm>
              <a:custGeom>
                <a:avLst/>
                <a:gdLst/>
                <a:ahLst/>
                <a:rect l="l" t="t" r="r" b="b"/>
                <a:pathLst>
                  <a:path w="708" h="1235">
                    <a:moveTo>
                      <a:pt x="702" y="1231"/>
                    </a:moveTo>
                    <a:lnTo>
                      <a:pt x="708" y="1228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697" y="1235"/>
                    </a:lnTo>
                    <a:lnTo>
                      <a:pt x="702" y="123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094040" y="5867280"/>
                <a:ext cx="26640" cy="792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0" y="11"/>
                    </a:moveTo>
                    <a:lnTo>
                      <a:pt x="33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092600" y="5860800"/>
                <a:ext cx="29880" cy="20880"/>
              </a:xfrm>
              <a:custGeom>
                <a:avLst/>
                <a:gdLst/>
                <a:ahLst/>
                <a:rect l="l" t="t" r="r" b="b"/>
                <a:pathLst>
                  <a:path w="36" h="26">
                    <a:moveTo>
                      <a:pt x="34" y="7"/>
                    </a:moveTo>
                    <a:lnTo>
                      <a:pt x="32" y="0"/>
                    </a:lnTo>
                    <a:lnTo>
                      <a:pt x="0" y="11"/>
                    </a:lnTo>
                    <a:lnTo>
                      <a:pt x="3" y="26"/>
                    </a:lnTo>
                    <a:lnTo>
                      <a:pt x="36" y="15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00720" y="552420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12"/>
                    </a:moveTo>
                    <a:lnTo>
                      <a:pt x="1" y="11"/>
                    </a:lnTo>
                    <a:lnTo>
                      <a:pt x="9" y="7"/>
                    </a:lnTo>
                    <a:lnTo>
                      <a:pt x="16" y="3"/>
                    </a:lnTo>
                    <a:lnTo>
                      <a:pt x="23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97840" y="5518080"/>
                <a:ext cx="24840" cy="2052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4" y="0"/>
                    </a:moveTo>
                    <a:lnTo>
                      <a:pt x="16" y="4"/>
                    </a:lnTo>
                    <a:lnTo>
                      <a:pt x="9" y="8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7" y="26"/>
                    </a:lnTo>
                    <a:lnTo>
                      <a:pt x="9" y="24"/>
                    </a:lnTo>
                    <a:lnTo>
                      <a:pt x="16" y="22"/>
                    </a:lnTo>
                    <a:lnTo>
                      <a:pt x="24" y="19"/>
                    </a:lnTo>
                    <a:lnTo>
                      <a:pt x="31" y="1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78960" y="5140080"/>
                <a:ext cx="15480" cy="468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0" y="7"/>
                    </a:moveTo>
                    <a:lnTo>
                      <a:pt x="2" y="7"/>
                    </a:lnTo>
                    <a:lnTo>
                      <a:pt x="9" y="4"/>
                    </a:lnTo>
                    <a:lnTo>
                      <a:pt x="15" y="2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77520" y="5133960"/>
                <a:ext cx="20160" cy="1728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19" y="0"/>
                    </a:moveTo>
                    <a:lnTo>
                      <a:pt x="15" y="2"/>
                    </a:lnTo>
                    <a:lnTo>
                      <a:pt x="10" y="3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13" y="18"/>
                    </a:lnTo>
                    <a:lnTo>
                      <a:pt x="19" y="16"/>
                    </a:lnTo>
                    <a:lnTo>
                      <a:pt x="26" y="1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05960" y="4881240"/>
                <a:ext cx="817200" cy="316080"/>
              </a:xfrm>
              <a:custGeom>
                <a:avLst/>
                <a:gdLst/>
                <a:ahLst/>
                <a:rect l="l" t="t" r="r" b="b"/>
                <a:pathLst>
                  <a:path w="1032" h="397">
                    <a:moveTo>
                      <a:pt x="2" y="390"/>
                    </a:moveTo>
                    <a:lnTo>
                      <a:pt x="4" y="397"/>
                    </a:lnTo>
                    <a:lnTo>
                      <a:pt x="1032" y="14"/>
                    </a:lnTo>
                    <a:lnTo>
                      <a:pt x="1028" y="0"/>
                    </a:lnTo>
                    <a:lnTo>
                      <a:pt x="0" y="382"/>
                    </a:lnTo>
                    <a:lnTo>
                      <a:pt x="2" y="39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34400" y="4929120"/>
                <a:ext cx="815760" cy="317520"/>
              </a:xfrm>
              <a:custGeom>
                <a:avLst/>
                <a:gdLst/>
                <a:ahLst/>
                <a:rect l="l" t="t" r="r" b="b"/>
                <a:pathLst>
                  <a:path w="1031" h="399">
                    <a:moveTo>
                      <a:pt x="2" y="392"/>
                    </a:moveTo>
                    <a:lnTo>
                      <a:pt x="4" y="399"/>
                    </a:lnTo>
                    <a:lnTo>
                      <a:pt x="1031" y="15"/>
                    </a:lnTo>
                    <a:lnTo>
                      <a:pt x="1027" y="0"/>
                    </a:lnTo>
                    <a:lnTo>
                      <a:pt x="0" y="384"/>
                    </a:lnTo>
                    <a:lnTo>
                      <a:pt x="2" y="39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61400" y="4978080"/>
                <a:ext cx="817560" cy="317520"/>
              </a:xfrm>
              <a:custGeom>
                <a:avLst/>
                <a:gdLst/>
                <a:ahLst/>
                <a:rect l="l" t="t" r="r" b="b"/>
                <a:pathLst>
                  <a:path w="1032" h="399">
                    <a:moveTo>
                      <a:pt x="2" y="392"/>
                    </a:moveTo>
                    <a:lnTo>
                      <a:pt x="4" y="399"/>
                    </a:lnTo>
                    <a:lnTo>
                      <a:pt x="1032" y="14"/>
                    </a:lnTo>
                    <a:lnTo>
                      <a:pt x="1028" y="0"/>
                    </a:lnTo>
                    <a:lnTo>
                      <a:pt x="0" y="384"/>
                    </a:lnTo>
                    <a:lnTo>
                      <a:pt x="2" y="39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88400" y="5027400"/>
                <a:ext cx="817560" cy="317520"/>
              </a:xfrm>
              <a:custGeom>
                <a:avLst/>
                <a:gdLst/>
                <a:ahLst/>
                <a:rect l="l" t="t" r="r" b="b"/>
                <a:pathLst>
                  <a:path w="1032" h="399">
                    <a:moveTo>
                      <a:pt x="1" y="392"/>
                    </a:moveTo>
                    <a:lnTo>
                      <a:pt x="3" y="399"/>
                    </a:lnTo>
                    <a:lnTo>
                      <a:pt x="1032" y="14"/>
                    </a:lnTo>
                    <a:lnTo>
                      <a:pt x="1028" y="0"/>
                    </a:lnTo>
                    <a:lnTo>
                      <a:pt x="0" y="384"/>
                    </a:lnTo>
                    <a:lnTo>
                      <a:pt x="1" y="39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16840" y="5076720"/>
                <a:ext cx="817200" cy="315720"/>
              </a:xfrm>
              <a:custGeom>
                <a:avLst/>
                <a:gdLst/>
                <a:ahLst/>
                <a:rect l="l" t="t" r="r" b="b"/>
                <a:pathLst>
                  <a:path w="1032" h="397">
                    <a:moveTo>
                      <a:pt x="2" y="390"/>
                    </a:moveTo>
                    <a:lnTo>
                      <a:pt x="4" y="397"/>
                    </a:lnTo>
                    <a:lnTo>
                      <a:pt x="1032" y="14"/>
                    </a:lnTo>
                    <a:lnTo>
                      <a:pt x="1029" y="0"/>
                    </a:lnTo>
                    <a:lnTo>
                      <a:pt x="0" y="382"/>
                    </a:lnTo>
                    <a:lnTo>
                      <a:pt x="2" y="39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843840" y="5124240"/>
                <a:ext cx="817200" cy="317520"/>
              </a:xfrm>
              <a:custGeom>
                <a:avLst/>
                <a:gdLst/>
                <a:ahLst/>
                <a:rect l="l" t="t" r="r" b="b"/>
                <a:pathLst>
                  <a:path w="1032" h="399">
                    <a:moveTo>
                      <a:pt x="2" y="392"/>
                    </a:moveTo>
                    <a:lnTo>
                      <a:pt x="3" y="399"/>
                    </a:lnTo>
                    <a:lnTo>
                      <a:pt x="1032" y="14"/>
                    </a:lnTo>
                    <a:lnTo>
                      <a:pt x="1028" y="0"/>
                    </a:lnTo>
                    <a:lnTo>
                      <a:pt x="0" y="384"/>
                    </a:lnTo>
                    <a:lnTo>
                      <a:pt x="2" y="39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70840" y="5173560"/>
                <a:ext cx="817200" cy="317520"/>
              </a:xfrm>
              <a:custGeom>
                <a:avLst/>
                <a:gdLst/>
                <a:ahLst/>
                <a:rect l="l" t="t" r="r" b="b"/>
                <a:pathLst>
                  <a:path w="1032" h="401">
                    <a:moveTo>
                      <a:pt x="2" y="394"/>
                    </a:moveTo>
                    <a:lnTo>
                      <a:pt x="4" y="401"/>
                    </a:lnTo>
                    <a:lnTo>
                      <a:pt x="1032" y="15"/>
                    </a:lnTo>
                    <a:lnTo>
                      <a:pt x="1029" y="0"/>
                    </a:lnTo>
                    <a:lnTo>
                      <a:pt x="0" y="386"/>
                    </a:lnTo>
                    <a:lnTo>
                      <a:pt x="2" y="39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961200" y="5221080"/>
                <a:ext cx="753840" cy="293760"/>
              </a:xfrm>
              <a:custGeom>
                <a:avLst/>
                <a:gdLst/>
                <a:ahLst/>
                <a:rect l="l" t="t" r="r" b="b"/>
                <a:pathLst>
                  <a:path w="954" h="370">
                    <a:moveTo>
                      <a:pt x="2" y="362"/>
                    </a:moveTo>
                    <a:lnTo>
                      <a:pt x="4" y="370"/>
                    </a:lnTo>
                    <a:lnTo>
                      <a:pt x="954" y="15"/>
                    </a:lnTo>
                    <a:lnTo>
                      <a:pt x="950" y="0"/>
                    </a:lnTo>
                    <a:lnTo>
                      <a:pt x="0" y="355"/>
                    </a:lnTo>
                    <a:lnTo>
                      <a:pt x="2" y="36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927720" y="5270400"/>
                <a:ext cx="817560" cy="317520"/>
              </a:xfrm>
              <a:custGeom>
                <a:avLst/>
                <a:gdLst/>
                <a:ahLst/>
                <a:rect l="l" t="t" r="r" b="b"/>
                <a:pathLst>
                  <a:path w="1032" h="401">
                    <a:moveTo>
                      <a:pt x="2" y="394"/>
                    </a:moveTo>
                    <a:lnTo>
                      <a:pt x="4" y="401"/>
                    </a:lnTo>
                    <a:lnTo>
                      <a:pt x="1032" y="15"/>
                    </a:lnTo>
                    <a:lnTo>
                      <a:pt x="1029" y="0"/>
                    </a:lnTo>
                    <a:lnTo>
                      <a:pt x="0" y="386"/>
                    </a:lnTo>
                    <a:lnTo>
                      <a:pt x="2" y="39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954720" y="5319720"/>
                <a:ext cx="817560" cy="317160"/>
              </a:xfrm>
              <a:custGeom>
                <a:avLst/>
                <a:gdLst/>
                <a:ahLst/>
                <a:rect l="l" t="t" r="r" b="b"/>
                <a:pathLst>
                  <a:path w="1032" h="401">
                    <a:moveTo>
                      <a:pt x="2" y="394"/>
                    </a:moveTo>
                    <a:lnTo>
                      <a:pt x="4" y="401"/>
                    </a:lnTo>
                    <a:lnTo>
                      <a:pt x="1032" y="15"/>
                    </a:lnTo>
                    <a:lnTo>
                      <a:pt x="1028" y="0"/>
                    </a:lnTo>
                    <a:lnTo>
                      <a:pt x="0" y="386"/>
                    </a:lnTo>
                    <a:lnTo>
                      <a:pt x="2" y="39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981360" y="5367240"/>
                <a:ext cx="817560" cy="318960"/>
              </a:xfrm>
              <a:custGeom>
                <a:avLst/>
                <a:gdLst/>
                <a:ahLst/>
                <a:rect l="l" t="t" r="r" b="b"/>
                <a:pathLst>
                  <a:path w="1032" h="401">
                    <a:moveTo>
                      <a:pt x="1" y="393"/>
                    </a:moveTo>
                    <a:lnTo>
                      <a:pt x="3" y="401"/>
                    </a:lnTo>
                    <a:lnTo>
                      <a:pt x="1032" y="15"/>
                    </a:lnTo>
                    <a:lnTo>
                      <a:pt x="1028" y="0"/>
                    </a:lnTo>
                    <a:lnTo>
                      <a:pt x="0" y="386"/>
                    </a:lnTo>
                    <a:lnTo>
                      <a:pt x="1" y="3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010160" y="5416560"/>
                <a:ext cx="817200" cy="318960"/>
              </a:xfrm>
              <a:custGeom>
                <a:avLst/>
                <a:gdLst/>
                <a:ahLst/>
                <a:rect l="l" t="t" r="r" b="b"/>
                <a:pathLst>
                  <a:path w="1032" h="401">
                    <a:moveTo>
                      <a:pt x="2" y="393"/>
                    </a:moveTo>
                    <a:lnTo>
                      <a:pt x="4" y="401"/>
                    </a:lnTo>
                    <a:lnTo>
                      <a:pt x="1032" y="14"/>
                    </a:lnTo>
                    <a:lnTo>
                      <a:pt x="1028" y="0"/>
                    </a:lnTo>
                    <a:lnTo>
                      <a:pt x="0" y="386"/>
                    </a:lnTo>
                    <a:lnTo>
                      <a:pt x="2" y="3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037160" y="5465520"/>
                <a:ext cx="817200" cy="317520"/>
              </a:xfrm>
              <a:custGeom>
                <a:avLst/>
                <a:gdLst/>
                <a:ahLst/>
                <a:rect l="l" t="t" r="r" b="b"/>
                <a:pathLst>
                  <a:path w="1032" h="399">
                    <a:moveTo>
                      <a:pt x="1" y="392"/>
                    </a:moveTo>
                    <a:lnTo>
                      <a:pt x="3" y="399"/>
                    </a:lnTo>
                    <a:lnTo>
                      <a:pt x="1032" y="14"/>
                    </a:lnTo>
                    <a:lnTo>
                      <a:pt x="1028" y="0"/>
                    </a:lnTo>
                    <a:lnTo>
                      <a:pt x="0" y="384"/>
                    </a:lnTo>
                    <a:lnTo>
                      <a:pt x="1" y="39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065600" y="5513400"/>
                <a:ext cx="815760" cy="318960"/>
              </a:xfrm>
              <a:custGeom>
                <a:avLst/>
                <a:gdLst/>
                <a:ahLst/>
                <a:rect l="l" t="t" r="r" b="b"/>
                <a:pathLst>
                  <a:path w="1030" h="401">
                    <a:moveTo>
                      <a:pt x="2" y="393"/>
                    </a:moveTo>
                    <a:lnTo>
                      <a:pt x="4" y="401"/>
                    </a:lnTo>
                    <a:lnTo>
                      <a:pt x="1030" y="15"/>
                    </a:lnTo>
                    <a:lnTo>
                      <a:pt x="1027" y="0"/>
                    </a:lnTo>
                    <a:lnTo>
                      <a:pt x="0" y="386"/>
                    </a:lnTo>
                    <a:lnTo>
                      <a:pt x="2" y="3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149840" y="5562360"/>
                <a:ext cx="759960" cy="297000"/>
              </a:xfrm>
              <a:custGeom>
                <a:avLst/>
                <a:gdLst/>
                <a:ahLst/>
                <a:rect l="l" t="t" r="r" b="b"/>
                <a:pathLst>
                  <a:path w="961" h="373">
                    <a:moveTo>
                      <a:pt x="959" y="7"/>
                    </a:moveTo>
                    <a:lnTo>
                      <a:pt x="957" y="0"/>
                    </a:lnTo>
                    <a:lnTo>
                      <a:pt x="0" y="359"/>
                    </a:lnTo>
                    <a:lnTo>
                      <a:pt x="3" y="373"/>
                    </a:lnTo>
                    <a:lnTo>
                      <a:pt x="961" y="14"/>
                    </a:lnTo>
                    <a:lnTo>
                      <a:pt x="959" y="7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121040" y="5611680"/>
                <a:ext cx="817560" cy="318960"/>
              </a:xfrm>
              <a:custGeom>
                <a:avLst/>
                <a:gdLst/>
                <a:ahLst/>
                <a:rect l="l" t="t" r="r" b="b"/>
                <a:pathLst>
                  <a:path w="1032" h="401">
                    <a:moveTo>
                      <a:pt x="2" y="393"/>
                    </a:moveTo>
                    <a:lnTo>
                      <a:pt x="4" y="401"/>
                    </a:lnTo>
                    <a:lnTo>
                      <a:pt x="1032" y="14"/>
                    </a:lnTo>
                    <a:lnTo>
                      <a:pt x="1029" y="0"/>
                    </a:lnTo>
                    <a:lnTo>
                      <a:pt x="0" y="386"/>
                    </a:lnTo>
                    <a:lnTo>
                      <a:pt x="2" y="3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148040" y="5659200"/>
                <a:ext cx="817560" cy="319320"/>
              </a:xfrm>
              <a:custGeom>
                <a:avLst/>
                <a:gdLst/>
                <a:ahLst/>
                <a:rect l="l" t="t" r="r" b="b"/>
                <a:pathLst>
                  <a:path w="1032" h="401">
                    <a:moveTo>
                      <a:pt x="2" y="393"/>
                    </a:moveTo>
                    <a:lnTo>
                      <a:pt x="3" y="401"/>
                    </a:lnTo>
                    <a:lnTo>
                      <a:pt x="1032" y="15"/>
                    </a:lnTo>
                    <a:lnTo>
                      <a:pt x="1028" y="0"/>
                    </a:lnTo>
                    <a:lnTo>
                      <a:pt x="0" y="386"/>
                    </a:lnTo>
                    <a:lnTo>
                      <a:pt x="2" y="3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4120" y="4832280"/>
                <a:ext cx="750600" cy="291960"/>
              </a:xfrm>
              <a:custGeom>
                <a:avLst/>
                <a:gdLst/>
                <a:ahLst/>
                <a:rect l="l" t="t" r="r" b="b"/>
                <a:pathLst>
                  <a:path w="948" h="368">
                    <a:moveTo>
                      <a:pt x="2" y="361"/>
                    </a:moveTo>
                    <a:lnTo>
                      <a:pt x="4" y="368"/>
                    </a:lnTo>
                    <a:lnTo>
                      <a:pt x="948" y="14"/>
                    </a:lnTo>
                    <a:lnTo>
                      <a:pt x="945" y="0"/>
                    </a:lnTo>
                    <a:lnTo>
                      <a:pt x="0" y="353"/>
                    </a:lnTo>
                    <a:lnTo>
                      <a:pt x="2" y="36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834120" y="4579920"/>
                <a:ext cx="1239120" cy="1220760"/>
              </a:xfrm>
              <a:custGeom>
                <a:avLst/>
                <a:gdLst/>
                <a:ahLst/>
                <a:rect l="l" t="t" r="r" b="b"/>
                <a:pathLst>
                  <a:path w="1565" h="1538">
                    <a:moveTo>
                      <a:pt x="56" y="363"/>
                    </a:moveTo>
                    <a:lnTo>
                      <a:pt x="251" y="891"/>
                    </a:lnTo>
                    <a:lnTo>
                      <a:pt x="255" y="891"/>
                    </a:lnTo>
                    <a:lnTo>
                      <a:pt x="266" y="887"/>
                    </a:lnTo>
                    <a:lnTo>
                      <a:pt x="277" y="885"/>
                    </a:lnTo>
                    <a:lnTo>
                      <a:pt x="286" y="885"/>
                    </a:lnTo>
                    <a:lnTo>
                      <a:pt x="282" y="882"/>
                    </a:lnTo>
                    <a:lnTo>
                      <a:pt x="279" y="878"/>
                    </a:lnTo>
                    <a:lnTo>
                      <a:pt x="275" y="873"/>
                    </a:lnTo>
                    <a:lnTo>
                      <a:pt x="273" y="869"/>
                    </a:lnTo>
                    <a:lnTo>
                      <a:pt x="271" y="858"/>
                    </a:lnTo>
                    <a:lnTo>
                      <a:pt x="273" y="849"/>
                    </a:lnTo>
                    <a:lnTo>
                      <a:pt x="279" y="842"/>
                    </a:lnTo>
                    <a:lnTo>
                      <a:pt x="288" y="838"/>
                    </a:lnTo>
                    <a:lnTo>
                      <a:pt x="299" y="838"/>
                    </a:lnTo>
                    <a:lnTo>
                      <a:pt x="308" y="842"/>
                    </a:lnTo>
                    <a:lnTo>
                      <a:pt x="317" y="849"/>
                    </a:lnTo>
                    <a:lnTo>
                      <a:pt x="322" y="858"/>
                    </a:lnTo>
                    <a:lnTo>
                      <a:pt x="324" y="869"/>
                    </a:lnTo>
                    <a:lnTo>
                      <a:pt x="322" y="878"/>
                    </a:lnTo>
                    <a:lnTo>
                      <a:pt x="315" y="885"/>
                    </a:lnTo>
                    <a:lnTo>
                      <a:pt x="306" y="889"/>
                    </a:lnTo>
                    <a:lnTo>
                      <a:pt x="302" y="889"/>
                    </a:lnTo>
                    <a:lnTo>
                      <a:pt x="297" y="887"/>
                    </a:lnTo>
                    <a:lnTo>
                      <a:pt x="291" y="887"/>
                    </a:lnTo>
                    <a:lnTo>
                      <a:pt x="286" y="885"/>
                    </a:lnTo>
                    <a:lnTo>
                      <a:pt x="251" y="891"/>
                    </a:lnTo>
                    <a:lnTo>
                      <a:pt x="422" y="1357"/>
                    </a:lnTo>
                    <a:lnTo>
                      <a:pt x="475" y="1346"/>
                    </a:lnTo>
                    <a:lnTo>
                      <a:pt x="486" y="1346"/>
                    </a:lnTo>
                    <a:lnTo>
                      <a:pt x="495" y="1350"/>
                    </a:lnTo>
                    <a:lnTo>
                      <a:pt x="504" y="1357"/>
                    </a:lnTo>
                    <a:lnTo>
                      <a:pt x="510" y="1366"/>
                    </a:lnTo>
                    <a:lnTo>
                      <a:pt x="510" y="1376"/>
                    </a:lnTo>
                    <a:lnTo>
                      <a:pt x="508" y="1385"/>
                    </a:lnTo>
                    <a:lnTo>
                      <a:pt x="502" y="1392"/>
                    </a:lnTo>
                    <a:lnTo>
                      <a:pt x="493" y="1396"/>
                    </a:lnTo>
                    <a:lnTo>
                      <a:pt x="482" y="1396"/>
                    </a:lnTo>
                    <a:lnTo>
                      <a:pt x="473" y="1392"/>
                    </a:lnTo>
                    <a:lnTo>
                      <a:pt x="464" y="1385"/>
                    </a:lnTo>
                    <a:lnTo>
                      <a:pt x="459" y="1376"/>
                    </a:lnTo>
                    <a:lnTo>
                      <a:pt x="457" y="1366"/>
                    </a:lnTo>
                    <a:lnTo>
                      <a:pt x="459" y="1357"/>
                    </a:lnTo>
                    <a:lnTo>
                      <a:pt x="466" y="1350"/>
                    </a:lnTo>
                    <a:lnTo>
                      <a:pt x="475" y="1346"/>
                    </a:lnTo>
                    <a:lnTo>
                      <a:pt x="464" y="1348"/>
                    </a:lnTo>
                    <a:lnTo>
                      <a:pt x="446" y="1352"/>
                    </a:lnTo>
                    <a:lnTo>
                      <a:pt x="430" y="1355"/>
                    </a:lnTo>
                    <a:lnTo>
                      <a:pt x="422" y="1357"/>
                    </a:lnTo>
                    <a:lnTo>
                      <a:pt x="488" y="1538"/>
                    </a:lnTo>
                    <a:lnTo>
                      <a:pt x="1565" y="1325"/>
                    </a:lnTo>
                    <a:lnTo>
                      <a:pt x="1078" y="0"/>
                    </a:lnTo>
                    <a:lnTo>
                      <a:pt x="0" y="213"/>
                    </a:lnTo>
                    <a:lnTo>
                      <a:pt x="56" y="363"/>
                    </a:lnTo>
                    <a:lnTo>
                      <a:pt x="60" y="363"/>
                    </a:lnTo>
                    <a:lnTo>
                      <a:pt x="69" y="359"/>
                    </a:lnTo>
                    <a:lnTo>
                      <a:pt x="78" y="357"/>
                    </a:lnTo>
                    <a:lnTo>
                      <a:pt x="84" y="357"/>
                    </a:lnTo>
                    <a:lnTo>
                      <a:pt x="84" y="348"/>
                    </a:lnTo>
                    <a:lnTo>
                      <a:pt x="87" y="341"/>
                    </a:lnTo>
                    <a:lnTo>
                      <a:pt x="93" y="335"/>
                    </a:lnTo>
                    <a:lnTo>
                      <a:pt x="100" y="332"/>
                    </a:lnTo>
                    <a:lnTo>
                      <a:pt x="111" y="332"/>
                    </a:lnTo>
                    <a:lnTo>
                      <a:pt x="120" y="335"/>
                    </a:lnTo>
                    <a:lnTo>
                      <a:pt x="129" y="341"/>
                    </a:lnTo>
                    <a:lnTo>
                      <a:pt x="135" y="350"/>
                    </a:lnTo>
                    <a:lnTo>
                      <a:pt x="137" y="361"/>
                    </a:lnTo>
                    <a:lnTo>
                      <a:pt x="135" y="370"/>
                    </a:lnTo>
                    <a:lnTo>
                      <a:pt x="127" y="377"/>
                    </a:lnTo>
                    <a:lnTo>
                      <a:pt x="118" y="381"/>
                    </a:lnTo>
                    <a:lnTo>
                      <a:pt x="109" y="379"/>
                    </a:lnTo>
                    <a:lnTo>
                      <a:pt x="98" y="374"/>
                    </a:lnTo>
                    <a:lnTo>
                      <a:pt x="89" y="366"/>
                    </a:lnTo>
                    <a:lnTo>
                      <a:pt x="84" y="357"/>
                    </a:lnTo>
                    <a:lnTo>
                      <a:pt x="80" y="357"/>
                    </a:lnTo>
                    <a:lnTo>
                      <a:pt x="71" y="359"/>
                    </a:lnTo>
                    <a:lnTo>
                      <a:pt x="60" y="363"/>
                    </a:lnTo>
                    <a:lnTo>
                      <a:pt x="56" y="3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872280" y="4865400"/>
                <a:ext cx="166320" cy="428760"/>
              </a:xfrm>
              <a:custGeom>
                <a:avLst/>
                <a:gdLst/>
                <a:ahLst/>
                <a:rect l="l" t="t" r="r" b="b"/>
                <a:pathLst>
                  <a:path w="209" h="539">
                    <a:moveTo>
                      <a:pt x="202" y="523"/>
                    </a:moveTo>
                    <a:lnTo>
                      <a:pt x="209" y="528"/>
                    </a:lnTo>
                    <a:lnTo>
                      <a:pt x="15" y="0"/>
                    </a:lnTo>
                    <a:lnTo>
                      <a:pt x="0" y="3"/>
                    </a:lnTo>
                    <a:lnTo>
                      <a:pt x="195" y="532"/>
                    </a:lnTo>
                    <a:lnTo>
                      <a:pt x="202" y="537"/>
                    </a:lnTo>
                    <a:lnTo>
                      <a:pt x="195" y="532"/>
                    </a:lnTo>
                    <a:lnTo>
                      <a:pt x="199" y="539"/>
                    </a:lnTo>
                    <a:lnTo>
                      <a:pt x="202" y="537"/>
                    </a:lnTo>
                    <a:lnTo>
                      <a:pt x="202" y="5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032120" y="5276520"/>
                <a:ext cx="47520" cy="16200"/>
              </a:xfrm>
              <a:custGeom>
                <a:avLst/>
                <a:gdLst/>
                <a:ahLst/>
                <a:rect l="l" t="t" r="r" b="b"/>
                <a:pathLst>
                  <a:path w="60" h="20">
                    <a:moveTo>
                      <a:pt x="31" y="13"/>
                    </a:moveTo>
                    <a:lnTo>
                      <a:pt x="35" y="0"/>
                    </a:lnTo>
                    <a:lnTo>
                      <a:pt x="26" y="0"/>
                    </a:lnTo>
                    <a:lnTo>
                      <a:pt x="13" y="2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7" y="17"/>
                    </a:lnTo>
                    <a:lnTo>
                      <a:pt x="26" y="15"/>
                    </a:lnTo>
                    <a:lnTo>
                      <a:pt x="35" y="15"/>
                    </a:lnTo>
                    <a:lnTo>
                      <a:pt x="38" y="2"/>
                    </a:lnTo>
                    <a:lnTo>
                      <a:pt x="35" y="15"/>
                    </a:lnTo>
                    <a:lnTo>
                      <a:pt x="60" y="15"/>
                    </a:lnTo>
                    <a:lnTo>
                      <a:pt x="38" y="2"/>
                    </a:lnTo>
                    <a:lnTo>
                      <a:pt x="3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043280" y="5268600"/>
                <a:ext cx="18720" cy="176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4"/>
                    </a:moveTo>
                    <a:lnTo>
                      <a:pt x="0" y="4"/>
                    </a:lnTo>
                    <a:lnTo>
                      <a:pt x="3" y="9"/>
                    </a:lnTo>
                    <a:lnTo>
                      <a:pt x="7" y="15"/>
                    </a:lnTo>
                    <a:lnTo>
                      <a:pt x="11" y="20"/>
                    </a:lnTo>
                    <a:lnTo>
                      <a:pt x="16" y="24"/>
                    </a:lnTo>
                    <a:lnTo>
                      <a:pt x="23" y="13"/>
                    </a:lnTo>
                    <a:lnTo>
                      <a:pt x="22" y="9"/>
                    </a:lnTo>
                    <a:lnTo>
                      <a:pt x="18" y="8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041840" y="5238720"/>
                <a:ext cx="20160" cy="31680"/>
              </a:xfrm>
              <a:custGeom>
                <a:avLst/>
                <a:gdLst/>
                <a:ahLst/>
                <a:rect l="l" t="t" r="r" b="b"/>
                <a:pathLst>
                  <a:path w="25" h="40">
                    <a:moveTo>
                      <a:pt x="24" y="0"/>
                    </a:moveTo>
                    <a:lnTo>
                      <a:pt x="22" y="0"/>
                    </a:lnTo>
                    <a:lnTo>
                      <a:pt x="11" y="5"/>
                    </a:lnTo>
                    <a:lnTo>
                      <a:pt x="2" y="16"/>
                    </a:lnTo>
                    <a:lnTo>
                      <a:pt x="0" y="27"/>
                    </a:lnTo>
                    <a:lnTo>
                      <a:pt x="2" y="40"/>
                    </a:lnTo>
                    <a:lnTo>
                      <a:pt x="16" y="36"/>
                    </a:lnTo>
                    <a:lnTo>
                      <a:pt x="15" y="27"/>
                    </a:lnTo>
                    <a:lnTo>
                      <a:pt x="16" y="20"/>
                    </a:lnTo>
                    <a:lnTo>
                      <a:pt x="18" y="16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060920" y="5238720"/>
                <a:ext cx="32760" cy="2376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41" y="25"/>
                    </a:moveTo>
                    <a:lnTo>
                      <a:pt x="41" y="25"/>
                    </a:lnTo>
                    <a:lnTo>
                      <a:pt x="34" y="14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1" y="14"/>
                    </a:lnTo>
                    <a:lnTo>
                      <a:pt x="16" y="16"/>
                    </a:lnTo>
                    <a:lnTo>
                      <a:pt x="23" y="22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4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073520" y="525924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" y="40"/>
                    </a:moveTo>
                    <a:lnTo>
                      <a:pt x="4" y="40"/>
                    </a:lnTo>
                    <a:lnTo>
                      <a:pt x="15" y="35"/>
                    </a:lnTo>
                    <a:lnTo>
                      <a:pt x="24" y="26"/>
                    </a:lnTo>
                    <a:lnTo>
                      <a:pt x="27" y="13"/>
                    </a:lnTo>
                    <a:lnTo>
                      <a:pt x="25" y="0"/>
                    </a:lnTo>
                    <a:lnTo>
                      <a:pt x="11" y="4"/>
                    </a:lnTo>
                    <a:lnTo>
                      <a:pt x="13" y="13"/>
                    </a:lnTo>
                    <a:lnTo>
                      <a:pt x="13" y="19"/>
                    </a:lnTo>
                    <a:lnTo>
                      <a:pt x="7" y="24"/>
                    </a:lnTo>
                    <a:lnTo>
                      <a:pt x="0" y="26"/>
                    </a:lnTo>
                    <a:lnTo>
                      <a:pt x="2" y="26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057680" y="5276520"/>
                <a:ext cx="16920" cy="1440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2" y="15"/>
                    </a:moveTo>
                    <a:lnTo>
                      <a:pt x="0" y="15"/>
                    </a:lnTo>
                    <a:lnTo>
                      <a:pt x="7" y="17"/>
                    </a:lnTo>
                    <a:lnTo>
                      <a:pt x="13" y="17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4"/>
                    </a:lnTo>
                    <a:lnTo>
                      <a:pt x="18" y="4"/>
                    </a:lnTo>
                    <a:lnTo>
                      <a:pt x="13" y="2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024200" y="5276520"/>
                <a:ext cx="34560" cy="16200"/>
              </a:xfrm>
              <a:custGeom>
                <a:avLst/>
                <a:gdLst/>
                <a:ahLst/>
                <a:rect l="l" t="t" r="r" b="b"/>
                <a:pathLst>
                  <a:path w="46" h="20">
                    <a:moveTo>
                      <a:pt x="18" y="11"/>
                    </a:moveTo>
                    <a:lnTo>
                      <a:pt x="11" y="20"/>
                    </a:lnTo>
                    <a:lnTo>
                      <a:pt x="46" y="15"/>
                    </a:lnTo>
                    <a:lnTo>
                      <a:pt x="46" y="0"/>
                    </a:lnTo>
                    <a:lnTo>
                      <a:pt x="11" y="6"/>
                    </a:lnTo>
                    <a:lnTo>
                      <a:pt x="4" y="15"/>
                    </a:lnTo>
                    <a:lnTo>
                      <a:pt x="11" y="6"/>
                    </a:lnTo>
                    <a:lnTo>
                      <a:pt x="0" y="7"/>
                    </a:lnTo>
                    <a:lnTo>
                      <a:pt x="4" y="15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026000" y="5286240"/>
                <a:ext cx="147240" cy="377640"/>
              </a:xfrm>
              <a:custGeom>
                <a:avLst/>
                <a:gdLst/>
                <a:ahLst/>
                <a:rect l="l" t="t" r="r" b="b"/>
                <a:pathLst>
                  <a:path w="186" h="477">
                    <a:moveTo>
                      <a:pt x="178" y="461"/>
                    </a:moveTo>
                    <a:lnTo>
                      <a:pt x="186" y="466"/>
                    </a:lnTo>
                    <a:lnTo>
                      <a:pt x="14" y="0"/>
                    </a:lnTo>
                    <a:lnTo>
                      <a:pt x="0" y="4"/>
                    </a:lnTo>
                    <a:lnTo>
                      <a:pt x="171" y="470"/>
                    </a:lnTo>
                    <a:lnTo>
                      <a:pt x="178" y="476"/>
                    </a:lnTo>
                    <a:lnTo>
                      <a:pt x="171" y="470"/>
                    </a:lnTo>
                    <a:lnTo>
                      <a:pt x="175" y="477"/>
                    </a:lnTo>
                    <a:lnTo>
                      <a:pt x="178" y="476"/>
                    </a:lnTo>
                    <a:lnTo>
                      <a:pt x="178" y="4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168560" y="5643360"/>
                <a:ext cx="42480" cy="19080"/>
              </a:xfrm>
              <a:custGeom>
                <a:avLst/>
                <a:gdLst/>
                <a:ahLst/>
                <a:rect l="l" t="t" r="r" b="b"/>
                <a:pathLst>
                  <a:path w="55" h="26">
                    <a:moveTo>
                      <a:pt x="51" y="0"/>
                    </a:moveTo>
                    <a:lnTo>
                      <a:pt x="53" y="0"/>
                    </a:lnTo>
                    <a:lnTo>
                      <a:pt x="0" y="11"/>
                    </a:lnTo>
                    <a:lnTo>
                      <a:pt x="0" y="26"/>
                    </a:lnTo>
                    <a:lnTo>
                      <a:pt x="53" y="15"/>
                    </a:lnTo>
                    <a:lnTo>
                      <a:pt x="55" y="15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208160" y="5643360"/>
                <a:ext cx="34560" cy="2232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44" y="26"/>
                    </a:moveTo>
                    <a:lnTo>
                      <a:pt x="44" y="26"/>
                    </a:lnTo>
                    <a:lnTo>
                      <a:pt x="37" y="15"/>
                    </a:lnTo>
                    <a:lnTo>
                      <a:pt x="26" y="6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4" y="15"/>
                    </a:lnTo>
                    <a:lnTo>
                      <a:pt x="13" y="15"/>
                    </a:lnTo>
                    <a:lnTo>
                      <a:pt x="18" y="16"/>
                    </a:lnTo>
                    <a:lnTo>
                      <a:pt x="26" y="22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4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222560" y="5662440"/>
                <a:ext cx="20160" cy="3024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4" y="38"/>
                    </a:moveTo>
                    <a:lnTo>
                      <a:pt x="2" y="38"/>
                    </a:lnTo>
                    <a:lnTo>
                      <a:pt x="15" y="32"/>
                    </a:lnTo>
                    <a:lnTo>
                      <a:pt x="24" y="21"/>
                    </a:lnTo>
                    <a:lnTo>
                      <a:pt x="26" y="11"/>
                    </a:lnTo>
                    <a:lnTo>
                      <a:pt x="26" y="0"/>
                    </a:lnTo>
                    <a:lnTo>
                      <a:pt x="11" y="3"/>
                    </a:lnTo>
                    <a:lnTo>
                      <a:pt x="11" y="11"/>
                    </a:lnTo>
                    <a:lnTo>
                      <a:pt x="10" y="18"/>
                    </a:lnTo>
                    <a:lnTo>
                      <a:pt x="8" y="21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4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190520" y="5670360"/>
                <a:ext cx="34560" cy="2232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0" y="3"/>
                    </a:moveTo>
                    <a:lnTo>
                      <a:pt x="0" y="3"/>
                    </a:lnTo>
                    <a:lnTo>
                      <a:pt x="8" y="14"/>
                    </a:lnTo>
                    <a:lnTo>
                      <a:pt x="19" y="23"/>
                    </a:lnTo>
                    <a:lnTo>
                      <a:pt x="31" y="29"/>
                    </a:lnTo>
                    <a:lnTo>
                      <a:pt x="44" y="29"/>
                    </a:lnTo>
                    <a:lnTo>
                      <a:pt x="40" y="14"/>
                    </a:lnTo>
                    <a:lnTo>
                      <a:pt x="31" y="14"/>
                    </a:lnTo>
                    <a:lnTo>
                      <a:pt x="26" y="12"/>
                    </a:lnTo>
                    <a:lnTo>
                      <a:pt x="19" y="7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189080" y="5643360"/>
                <a:ext cx="21960" cy="30240"/>
              </a:xfrm>
              <a:custGeom>
                <a:avLst/>
                <a:gdLst/>
                <a:ahLst/>
                <a:rect l="l" t="t" r="r" b="b"/>
                <a:pathLst>
                  <a:path w="27" h="38">
                    <a:moveTo>
                      <a:pt x="27" y="15"/>
                    </a:moveTo>
                    <a:lnTo>
                      <a:pt x="25" y="0"/>
                    </a:lnTo>
                    <a:lnTo>
                      <a:pt x="12" y="6"/>
                    </a:lnTo>
                    <a:lnTo>
                      <a:pt x="3" y="15"/>
                    </a:lnTo>
                    <a:lnTo>
                      <a:pt x="0" y="27"/>
                    </a:lnTo>
                    <a:lnTo>
                      <a:pt x="1" y="38"/>
                    </a:lnTo>
                    <a:lnTo>
                      <a:pt x="16" y="35"/>
                    </a:lnTo>
                    <a:lnTo>
                      <a:pt x="14" y="27"/>
                    </a:lnTo>
                    <a:lnTo>
                      <a:pt x="14" y="22"/>
                    </a:lnTo>
                    <a:lnTo>
                      <a:pt x="20" y="16"/>
                    </a:lnTo>
                    <a:lnTo>
                      <a:pt x="25" y="15"/>
                    </a:lnTo>
                    <a:lnTo>
                      <a:pt x="23" y="0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161000" y="5643360"/>
                <a:ext cx="50400" cy="19080"/>
              </a:xfrm>
              <a:custGeom>
                <a:avLst/>
                <a:gdLst/>
                <a:ahLst/>
                <a:rect l="l" t="t" r="r" b="b"/>
                <a:pathLst>
                  <a:path w="64" h="26">
                    <a:moveTo>
                      <a:pt x="17" y="16"/>
                    </a:moveTo>
                    <a:lnTo>
                      <a:pt x="9" y="26"/>
                    </a:lnTo>
                    <a:lnTo>
                      <a:pt x="18" y="24"/>
                    </a:lnTo>
                    <a:lnTo>
                      <a:pt x="33" y="20"/>
                    </a:lnTo>
                    <a:lnTo>
                      <a:pt x="51" y="16"/>
                    </a:lnTo>
                    <a:lnTo>
                      <a:pt x="64" y="15"/>
                    </a:lnTo>
                    <a:lnTo>
                      <a:pt x="60" y="0"/>
                    </a:lnTo>
                    <a:lnTo>
                      <a:pt x="51" y="2"/>
                    </a:lnTo>
                    <a:lnTo>
                      <a:pt x="33" y="6"/>
                    </a:lnTo>
                    <a:lnTo>
                      <a:pt x="15" y="9"/>
                    </a:lnTo>
                    <a:lnTo>
                      <a:pt x="9" y="11"/>
                    </a:lnTo>
                    <a:lnTo>
                      <a:pt x="2" y="20"/>
                    </a:lnTo>
                    <a:lnTo>
                      <a:pt x="9" y="11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1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162080" y="5655960"/>
                <a:ext cx="63000" cy="150840"/>
              </a:xfrm>
              <a:custGeom>
                <a:avLst/>
                <a:gdLst/>
                <a:ahLst/>
                <a:rect l="l" t="t" r="r" b="b"/>
                <a:pathLst>
                  <a:path w="80" h="192">
                    <a:moveTo>
                      <a:pt x="73" y="175"/>
                    </a:moveTo>
                    <a:lnTo>
                      <a:pt x="80" y="181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66" y="184"/>
                    </a:lnTo>
                    <a:lnTo>
                      <a:pt x="73" y="190"/>
                    </a:lnTo>
                    <a:lnTo>
                      <a:pt x="66" y="184"/>
                    </a:lnTo>
                    <a:lnTo>
                      <a:pt x="69" y="192"/>
                    </a:lnTo>
                    <a:lnTo>
                      <a:pt x="73" y="190"/>
                    </a:lnTo>
                    <a:lnTo>
                      <a:pt x="73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219320" y="5626080"/>
                <a:ext cx="863280" cy="179280"/>
              </a:xfrm>
              <a:custGeom>
                <a:avLst/>
                <a:gdLst/>
                <a:ahLst/>
                <a:rect l="l" t="t" r="r" b="b"/>
                <a:pathLst>
                  <a:path w="1088" h="228">
                    <a:moveTo>
                      <a:pt x="1070" y="9"/>
                    </a:moveTo>
                    <a:lnTo>
                      <a:pt x="1077" y="0"/>
                    </a:lnTo>
                    <a:lnTo>
                      <a:pt x="0" y="213"/>
                    </a:lnTo>
                    <a:lnTo>
                      <a:pt x="0" y="228"/>
                    </a:lnTo>
                    <a:lnTo>
                      <a:pt x="1077" y="15"/>
                    </a:lnTo>
                    <a:lnTo>
                      <a:pt x="1085" y="6"/>
                    </a:lnTo>
                    <a:lnTo>
                      <a:pt x="1077" y="15"/>
                    </a:lnTo>
                    <a:lnTo>
                      <a:pt x="1088" y="13"/>
                    </a:lnTo>
                    <a:lnTo>
                      <a:pt x="1085" y="6"/>
                    </a:lnTo>
                    <a:lnTo>
                      <a:pt x="107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681920" y="4572000"/>
                <a:ext cx="397440" cy="1060200"/>
              </a:xfrm>
              <a:custGeom>
                <a:avLst/>
                <a:gdLst/>
                <a:ahLst/>
                <a:rect l="l" t="t" r="r" b="b"/>
                <a:pathLst>
                  <a:path w="503" h="1335">
                    <a:moveTo>
                      <a:pt x="8" y="16"/>
                    </a:moveTo>
                    <a:lnTo>
                      <a:pt x="0" y="11"/>
                    </a:lnTo>
                    <a:lnTo>
                      <a:pt x="488" y="1335"/>
                    </a:lnTo>
                    <a:lnTo>
                      <a:pt x="503" y="1332"/>
                    </a:lnTo>
                    <a:lnTo>
                      <a:pt x="15" y="7"/>
                    </a:lnTo>
                    <a:lnTo>
                      <a:pt x="8" y="2"/>
                    </a:lnTo>
                    <a:lnTo>
                      <a:pt x="15" y="7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24760" y="4573440"/>
                <a:ext cx="861840" cy="181080"/>
              </a:xfrm>
              <a:custGeom>
                <a:avLst/>
                <a:gdLst/>
                <a:ahLst/>
                <a:rect l="l" t="t" r="r" b="b"/>
                <a:pathLst>
                  <a:path w="1089" h="228">
                    <a:moveTo>
                      <a:pt x="18" y="218"/>
                    </a:moveTo>
                    <a:lnTo>
                      <a:pt x="11" y="228"/>
                    </a:lnTo>
                    <a:lnTo>
                      <a:pt x="1089" y="14"/>
                    </a:lnTo>
                    <a:lnTo>
                      <a:pt x="1089" y="0"/>
                    </a:lnTo>
                    <a:lnTo>
                      <a:pt x="11" y="213"/>
                    </a:lnTo>
                    <a:lnTo>
                      <a:pt x="4" y="222"/>
                    </a:lnTo>
                    <a:lnTo>
                      <a:pt x="11" y="213"/>
                    </a:lnTo>
                    <a:lnTo>
                      <a:pt x="0" y="215"/>
                    </a:lnTo>
                    <a:lnTo>
                      <a:pt x="4" y="222"/>
                    </a:lnTo>
                    <a:lnTo>
                      <a:pt x="18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27640" y="4748040"/>
                <a:ext cx="55440" cy="127080"/>
              </a:xfrm>
              <a:custGeom>
                <a:avLst/>
                <a:gdLst/>
                <a:ahLst/>
                <a:rect l="l" t="t" r="r" b="b"/>
                <a:pathLst>
                  <a:path w="71" h="161">
                    <a:moveTo>
                      <a:pt x="62" y="144"/>
                    </a:moveTo>
                    <a:lnTo>
                      <a:pt x="71" y="150"/>
                    </a:lnTo>
                    <a:lnTo>
                      <a:pt x="14" y="0"/>
                    </a:lnTo>
                    <a:lnTo>
                      <a:pt x="0" y="4"/>
                    </a:lnTo>
                    <a:lnTo>
                      <a:pt x="56" y="153"/>
                    </a:lnTo>
                    <a:lnTo>
                      <a:pt x="65" y="159"/>
                    </a:lnTo>
                    <a:lnTo>
                      <a:pt x="56" y="153"/>
                    </a:lnTo>
                    <a:lnTo>
                      <a:pt x="60" y="161"/>
                    </a:lnTo>
                    <a:lnTo>
                      <a:pt x="65" y="159"/>
                    </a:lnTo>
                    <a:lnTo>
                      <a:pt x="62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76960" y="4857480"/>
                <a:ext cx="29880" cy="1584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21" y="7"/>
                    </a:moveTo>
                    <a:lnTo>
                      <a:pt x="29" y="0"/>
                    </a:lnTo>
                    <a:lnTo>
                      <a:pt x="23" y="0"/>
                    </a:lnTo>
                    <a:lnTo>
                      <a:pt x="12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20"/>
                    </a:lnTo>
                    <a:lnTo>
                      <a:pt x="7" y="20"/>
                    </a:lnTo>
                    <a:lnTo>
                      <a:pt x="16" y="16"/>
                    </a:lnTo>
                    <a:lnTo>
                      <a:pt x="23" y="14"/>
                    </a:lnTo>
                    <a:lnTo>
                      <a:pt x="29" y="14"/>
                    </a:lnTo>
                    <a:lnTo>
                      <a:pt x="36" y="7"/>
                    </a:lnTo>
                    <a:lnTo>
                      <a:pt x="29" y="14"/>
                    </a:lnTo>
                    <a:lnTo>
                      <a:pt x="38" y="14"/>
                    </a:lnTo>
                    <a:lnTo>
                      <a:pt x="36" y="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94600" y="4836960"/>
                <a:ext cx="18720" cy="2700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22" y="0"/>
                    </a:moveTo>
                    <a:lnTo>
                      <a:pt x="24" y="0"/>
                    </a:lnTo>
                    <a:lnTo>
                      <a:pt x="13" y="6"/>
                    </a:lnTo>
                    <a:lnTo>
                      <a:pt x="6" y="13"/>
                    </a:lnTo>
                    <a:lnTo>
                      <a:pt x="0" y="24"/>
                    </a:lnTo>
                    <a:lnTo>
                      <a:pt x="0" y="33"/>
                    </a:lnTo>
                    <a:lnTo>
                      <a:pt x="15" y="33"/>
                    </a:lnTo>
                    <a:lnTo>
                      <a:pt x="15" y="24"/>
                    </a:lnTo>
                    <a:lnTo>
                      <a:pt x="17" y="20"/>
                    </a:lnTo>
                    <a:lnTo>
                      <a:pt x="20" y="17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911880" y="483696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44" h="28">
                    <a:moveTo>
                      <a:pt x="44" y="24"/>
                    </a:moveTo>
                    <a:lnTo>
                      <a:pt x="44" y="24"/>
                    </a:lnTo>
                    <a:lnTo>
                      <a:pt x="37" y="11"/>
                    </a:lnTo>
                    <a:lnTo>
                      <a:pt x="26" y="4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4" y="15"/>
                    </a:lnTo>
                    <a:lnTo>
                      <a:pt x="13" y="15"/>
                    </a:lnTo>
                    <a:lnTo>
                      <a:pt x="19" y="19"/>
                    </a:lnTo>
                    <a:lnTo>
                      <a:pt x="26" y="22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926280" y="4856040"/>
                <a:ext cx="20160" cy="3168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1" y="40"/>
                    </a:moveTo>
                    <a:lnTo>
                      <a:pt x="3" y="40"/>
                    </a:lnTo>
                    <a:lnTo>
                      <a:pt x="14" y="35"/>
                    </a:lnTo>
                    <a:lnTo>
                      <a:pt x="23" y="26"/>
                    </a:lnTo>
                    <a:lnTo>
                      <a:pt x="27" y="13"/>
                    </a:lnTo>
                    <a:lnTo>
                      <a:pt x="25" y="0"/>
                    </a:lnTo>
                    <a:lnTo>
                      <a:pt x="10" y="4"/>
                    </a:lnTo>
                    <a:lnTo>
                      <a:pt x="12" y="13"/>
                    </a:lnTo>
                    <a:lnTo>
                      <a:pt x="12" y="18"/>
                    </a:lnTo>
                    <a:lnTo>
                      <a:pt x="7" y="24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94600" y="4862520"/>
                <a:ext cx="32760" cy="2520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0" y="2"/>
                    </a:moveTo>
                    <a:lnTo>
                      <a:pt x="0" y="4"/>
                    </a:lnTo>
                    <a:lnTo>
                      <a:pt x="8" y="15"/>
                    </a:lnTo>
                    <a:lnTo>
                      <a:pt x="19" y="24"/>
                    </a:lnTo>
                    <a:lnTo>
                      <a:pt x="31" y="31"/>
                    </a:lnTo>
                    <a:lnTo>
                      <a:pt x="42" y="33"/>
                    </a:lnTo>
                    <a:lnTo>
                      <a:pt x="42" y="19"/>
                    </a:lnTo>
                    <a:lnTo>
                      <a:pt x="35" y="17"/>
                    </a:lnTo>
                    <a:lnTo>
                      <a:pt x="26" y="13"/>
                    </a:lnTo>
                    <a:lnTo>
                      <a:pt x="19" y="8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72280" y="4832280"/>
                <a:ext cx="33120" cy="41040"/>
              </a:xfrm>
              <a:custGeom>
                <a:avLst/>
                <a:gdLst/>
                <a:ahLst/>
                <a:rect l="l" t="t" r="r" b="b"/>
                <a:pathLst>
                  <a:path w="42" h="51">
                    <a:moveTo>
                      <a:pt x="15" y="42"/>
                    </a:moveTo>
                    <a:lnTo>
                      <a:pt x="0" y="44"/>
                    </a:lnTo>
                    <a:lnTo>
                      <a:pt x="13" y="51"/>
                    </a:lnTo>
                    <a:lnTo>
                      <a:pt x="24" y="47"/>
                    </a:lnTo>
                    <a:lnTo>
                      <a:pt x="31" y="45"/>
                    </a:lnTo>
                    <a:lnTo>
                      <a:pt x="27" y="38"/>
                    </a:lnTo>
                    <a:lnTo>
                      <a:pt x="42" y="38"/>
                    </a:lnTo>
                    <a:lnTo>
                      <a:pt x="31" y="31"/>
                    </a:lnTo>
                    <a:lnTo>
                      <a:pt x="20" y="33"/>
                    </a:lnTo>
                    <a:lnTo>
                      <a:pt x="9" y="36"/>
                    </a:lnTo>
                    <a:lnTo>
                      <a:pt x="15" y="44"/>
                    </a:lnTo>
                    <a:lnTo>
                      <a:pt x="0" y="45"/>
                    </a:lnTo>
                    <a:lnTo>
                      <a:pt x="15" y="42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1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926280" y="4727520"/>
                <a:ext cx="397440" cy="1055520"/>
              </a:xfrm>
              <a:custGeom>
                <a:avLst/>
                <a:gdLst/>
                <a:ahLst/>
                <a:rect l="l" t="t" r="r" b="b"/>
                <a:pathLst>
                  <a:path w="502" h="1330">
                    <a:moveTo>
                      <a:pt x="495" y="1328"/>
                    </a:moveTo>
                    <a:lnTo>
                      <a:pt x="502" y="1326"/>
                    </a:lnTo>
                    <a:lnTo>
                      <a:pt x="14" y="0"/>
                    </a:lnTo>
                    <a:lnTo>
                      <a:pt x="0" y="4"/>
                    </a:lnTo>
                    <a:lnTo>
                      <a:pt x="487" y="1330"/>
                    </a:lnTo>
                    <a:lnTo>
                      <a:pt x="495" y="132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168560" y="5653080"/>
                <a:ext cx="24840" cy="4680"/>
              </a:xfrm>
              <a:custGeom>
                <a:avLst/>
                <a:gdLst/>
                <a:ahLst/>
                <a:rect l="l" t="t" r="r" b="b"/>
                <a:pathLst>
                  <a:path w="33" h="5">
                    <a:moveTo>
                      <a:pt x="0" y="5"/>
                    </a:moveTo>
                    <a:lnTo>
                      <a:pt x="33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168560" y="5646600"/>
                <a:ext cx="24840" cy="15840"/>
              </a:xfrm>
              <a:custGeom>
                <a:avLst/>
                <a:gdLst/>
                <a:ahLst/>
                <a:rect l="l" t="t" r="r" b="b"/>
                <a:pathLst>
                  <a:path w="33" h="20">
                    <a:moveTo>
                      <a:pt x="33" y="7"/>
                    </a:moveTo>
                    <a:lnTo>
                      <a:pt x="33" y="0"/>
                    </a:lnTo>
                    <a:lnTo>
                      <a:pt x="0" y="5"/>
                    </a:lnTo>
                    <a:lnTo>
                      <a:pt x="0" y="20"/>
                    </a:lnTo>
                    <a:lnTo>
                      <a:pt x="33" y="14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032120" y="5281560"/>
                <a:ext cx="20520" cy="468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0" y="7"/>
                    </a:moveTo>
                    <a:lnTo>
                      <a:pt x="4" y="7"/>
                    </a:lnTo>
                    <a:lnTo>
                      <a:pt x="11" y="3"/>
                    </a:lnTo>
                    <a:lnTo>
                      <a:pt x="18" y="1"/>
                    </a:lnTo>
                    <a:lnTo>
                      <a:pt x="2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030680" y="5275080"/>
                <a:ext cx="23400" cy="17640"/>
              </a:xfrm>
              <a:custGeom>
                <a:avLst/>
                <a:gdLst/>
                <a:ahLst/>
                <a:rect l="l" t="t" r="r" b="b"/>
                <a:pathLst>
                  <a:path w="30" h="22">
                    <a:moveTo>
                      <a:pt x="26" y="0"/>
                    </a:moveTo>
                    <a:lnTo>
                      <a:pt x="19" y="2"/>
                    </a:lnTo>
                    <a:lnTo>
                      <a:pt x="11" y="4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5" y="19"/>
                    </a:lnTo>
                    <a:lnTo>
                      <a:pt x="22" y="17"/>
                    </a:lnTo>
                    <a:lnTo>
                      <a:pt x="30" y="15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78760" y="4863960"/>
                <a:ext cx="13680" cy="324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0" y="4"/>
                    </a:moveTo>
                    <a:lnTo>
                      <a:pt x="2" y="4"/>
                    </a:lnTo>
                    <a:lnTo>
                      <a:pt x="8" y="2"/>
                    </a:lnTo>
                    <a:lnTo>
                      <a:pt x="15" y="2"/>
                    </a:lnTo>
                    <a:lnTo>
                      <a:pt x="19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78760" y="4859280"/>
                <a:ext cx="16920" cy="1404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5" y="0"/>
                    </a:moveTo>
                    <a:lnTo>
                      <a:pt x="15" y="2"/>
                    </a:lnTo>
                    <a:lnTo>
                      <a:pt x="8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8"/>
                    </a:lnTo>
                    <a:lnTo>
                      <a:pt x="4" y="18"/>
                    </a:lnTo>
                    <a:lnTo>
                      <a:pt x="8" y="16"/>
                    </a:lnTo>
                    <a:lnTo>
                      <a:pt x="15" y="16"/>
                    </a:lnTo>
                    <a:lnTo>
                      <a:pt x="22" y="1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97840" y="4746600"/>
                <a:ext cx="852120" cy="179280"/>
              </a:xfrm>
              <a:custGeom>
                <a:avLst/>
                <a:gdLst/>
                <a:ahLst/>
                <a:rect l="l" t="t" r="r" b="b"/>
                <a:pathLst>
                  <a:path w="1078" h="225">
                    <a:moveTo>
                      <a:pt x="0" y="218"/>
                    </a:moveTo>
                    <a:lnTo>
                      <a:pt x="0" y="225"/>
                    </a:lnTo>
                    <a:lnTo>
                      <a:pt x="1078" y="14"/>
                    </a:lnTo>
                    <a:lnTo>
                      <a:pt x="1078" y="0"/>
                    </a:lnTo>
                    <a:lnTo>
                      <a:pt x="0" y="211"/>
                    </a:lnTo>
                    <a:lnTo>
                      <a:pt x="0" y="21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915120" y="4798800"/>
                <a:ext cx="853920" cy="179280"/>
              </a:xfrm>
              <a:custGeom>
                <a:avLst/>
                <a:gdLst/>
                <a:ahLst/>
                <a:rect l="l" t="t" r="r" b="b"/>
                <a:pathLst>
                  <a:path w="1077" h="228">
                    <a:moveTo>
                      <a:pt x="0" y="221"/>
                    </a:moveTo>
                    <a:lnTo>
                      <a:pt x="0" y="228"/>
                    </a:lnTo>
                    <a:lnTo>
                      <a:pt x="1077" y="15"/>
                    </a:lnTo>
                    <a:lnTo>
                      <a:pt x="1077" y="0"/>
                    </a:lnTo>
                    <a:lnTo>
                      <a:pt x="0" y="213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935640" y="4851360"/>
                <a:ext cx="853920" cy="179280"/>
              </a:xfrm>
              <a:custGeom>
                <a:avLst/>
                <a:gdLst/>
                <a:ahLst/>
                <a:rect l="l" t="t" r="r" b="b"/>
                <a:pathLst>
                  <a:path w="1078" h="225">
                    <a:moveTo>
                      <a:pt x="0" y="218"/>
                    </a:moveTo>
                    <a:lnTo>
                      <a:pt x="0" y="225"/>
                    </a:lnTo>
                    <a:lnTo>
                      <a:pt x="1078" y="14"/>
                    </a:lnTo>
                    <a:lnTo>
                      <a:pt x="1078" y="0"/>
                    </a:lnTo>
                    <a:lnTo>
                      <a:pt x="0" y="211"/>
                    </a:lnTo>
                    <a:lnTo>
                      <a:pt x="0" y="21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954720" y="4903560"/>
                <a:ext cx="853920" cy="181080"/>
              </a:xfrm>
              <a:custGeom>
                <a:avLst/>
                <a:gdLst/>
                <a:ahLst/>
                <a:rect l="l" t="t" r="r" b="b"/>
                <a:pathLst>
                  <a:path w="1077" h="228">
                    <a:moveTo>
                      <a:pt x="0" y="221"/>
                    </a:moveTo>
                    <a:lnTo>
                      <a:pt x="0" y="228"/>
                    </a:lnTo>
                    <a:lnTo>
                      <a:pt x="1077" y="15"/>
                    </a:lnTo>
                    <a:lnTo>
                      <a:pt x="1077" y="0"/>
                    </a:lnTo>
                    <a:lnTo>
                      <a:pt x="0" y="213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975600" y="4956120"/>
                <a:ext cx="852120" cy="180720"/>
              </a:xfrm>
              <a:custGeom>
                <a:avLst/>
                <a:gdLst/>
                <a:ahLst/>
                <a:rect l="l" t="t" r="r" b="b"/>
                <a:pathLst>
                  <a:path w="1076" h="227">
                    <a:moveTo>
                      <a:pt x="0" y="220"/>
                    </a:moveTo>
                    <a:lnTo>
                      <a:pt x="0" y="227"/>
                    </a:lnTo>
                    <a:lnTo>
                      <a:pt x="1076" y="14"/>
                    </a:lnTo>
                    <a:lnTo>
                      <a:pt x="1076" y="0"/>
                    </a:lnTo>
                    <a:lnTo>
                      <a:pt x="0" y="213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994320" y="5010120"/>
                <a:ext cx="852120" cy="177840"/>
              </a:xfrm>
              <a:custGeom>
                <a:avLst/>
                <a:gdLst/>
                <a:ahLst/>
                <a:rect l="l" t="t" r="r" b="b"/>
                <a:pathLst>
                  <a:path w="1078" h="224">
                    <a:moveTo>
                      <a:pt x="0" y="217"/>
                    </a:moveTo>
                    <a:lnTo>
                      <a:pt x="0" y="224"/>
                    </a:lnTo>
                    <a:lnTo>
                      <a:pt x="1078" y="15"/>
                    </a:lnTo>
                    <a:lnTo>
                      <a:pt x="1078" y="0"/>
                    </a:lnTo>
                    <a:lnTo>
                      <a:pt x="0" y="210"/>
                    </a:lnTo>
                    <a:lnTo>
                      <a:pt x="0" y="217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1011600" y="5060880"/>
                <a:ext cx="853920" cy="179280"/>
              </a:xfrm>
              <a:custGeom>
                <a:avLst/>
                <a:gdLst/>
                <a:ahLst/>
                <a:rect l="l" t="t" r="r" b="b"/>
                <a:pathLst>
                  <a:path w="1077" h="226">
                    <a:moveTo>
                      <a:pt x="0" y="218"/>
                    </a:moveTo>
                    <a:lnTo>
                      <a:pt x="0" y="226"/>
                    </a:lnTo>
                    <a:lnTo>
                      <a:pt x="1077" y="14"/>
                    </a:lnTo>
                    <a:lnTo>
                      <a:pt x="1077" y="0"/>
                    </a:lnTo>
                    <a:lnTo>
                      <a:pt x="0" y="211"/>
                    </a:lnTo>
                    <a:lnTo>
                      <a:pt x="0" y="21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097280" y="5114880"/>
                <a:ext cx="788760" cy="164880"/>
              </a:xfrm>
              <a:custGeom>
                <a:avLst/>
                <a:gdLst/>
                <a:ahLst/>
                <a:rect l="l" t="t" r="r" b="b"/>
                <a:pathLst>
                  <a:path w="996" h="208">
                    <a:moveTo>
                      <a:pt x="0" y="201"/>
                    </a:moveTo>
                    <a:lnTo>
                      <a:pt x="0" y="208"/>
                    </a:lnTo>
                    <a:lnTo>
                      <a:pt x="996" y="15"/>
                    </a:lnTo>
                    <a:lnTo>
                      <a:pt x="996" y="0"/>
                    </a:lnTo>
                    <a:lnTo>
                      <a:pt x="0" y="193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051200" y="5167080"/>
                <a:ext cx="853920" cy="179280"/>
              </a:xfrm>
              <a:custGeom>
                <a:avLst/>
                <a:gdLst/>
                <a:ahLst/>
                <a:rect l="l" t="t" r="r" b="b"/>
                <a:pathLst>
                  <a:path w="1077" h="226">
                    <a:moveTo>
                      <a:pt x="0" y="218"/>
                    </a:moveTo>
                    <a:lnTo>
                      <a:pt x="0" y="226"/>
                    </a:lnTo>
                    <a:lnTo>
                      <a:pt x="1077" y="14"/>
                    </a:lnTo>
                    <a:lnTo>
                      <a:pt x="1077" y="0"/>
                    </a:lnTo>
                    <a:lnTo>
                      <a:pt x="0" y="211"/>
                    </a:lnTo>
                    <a:lnTo>
                      <a:pt x="0" y="21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070280" y="5219640"/>
                <a:ext cx="853920" cy="179280"/>
              </a:xfrm>
              <a:custGeom>
                <a:avLst/>
                <a:gdLst/>
                <a:ahLst/>
                <a:rect l="l" t="t" r="r" b="b"/>
                <a:pathLst>
                  <a:path w="1077" h="226">
                    <a:moveTo>
                      <a:pt x="0" y="219"/>
                    </a:moveTo>
                    <a:lnTo>
                      <a:pt x="0" y="226"/>
                    </a:lnTo>
                    <a:lnTo>
                      <a:pt x="1077" y="15"/>
                    </a:lnTo>
                    <a:lnTo>
                      <a:pt x="1077" y="0"/>
                    </a:lnTo>
                    <a:lnTo>
                      <a:pt x="0" y="212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091160" y="5270400"/>
                <a:ext cx="852120" cy="181080"/>
              </a:xfrm>
              <a:custGeom>
                <a:avLst/>
                <a:gdLst/>
                <a:ahLst/>
                <a:rect l="l" t="t" r="r" b="b"/>
                <a:pathLst>
                  <a:path w="1078" h="228">
                    <a:moveTo>
                      <a:pt x="0" y="220"/>
                    </a:moveTo>
                    <a:lnTo>
                      <a:pt x="0" y="228"/>
                    </a:lnTo>
                    <a:lnTo>
                      <a:pt x="1078" y="14"/>
                    </a:lnTo>
                    <a:lnTo>
                      <a:pt x="1078" y="0"/>
                    </a:lnTo>
                    <a:lnTo>
                      <a:pt x="0" y="213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108440" y="5322600"/>
                <a:ext cx="853920" cy="181080"/>
              </a:xfrm>
              <a:custGeom>
                <a:avLst/>
                <a:gdLst/>
                <a:ahLst/>
                <a:rect l="l" t="t" r="r" b="b"/>
                <a:pathLst>
                  <a:path w="1077" h="228">
                    <a:moveTo>
                      <a:pt x="0" y="221"/>
                    </a:moveTo>
                    <a:lnTo>
                      <a:pt x="0" y="228"/>
                    </a:lnTo>
                    <a:lnTo>
                      <a:pt x="1077" y="15"/>
                    </a:lnTo>
                    <a:lnTo>
                      <a:pt x="1077" y="0"/>
                    </a:lnTo>
                    <a:lnTo>
                      <a:pt x="0" y="214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128960" y="5376600"/>
                <a:ext cx="853920" cy="181080"/>
              </a:xfrm>
              <a:custGeom>
                <a:avLst/>
                <a:gdLst/>
                <a:ahLst/>
                <a:rect l="l" t="t" r="r" b="b"/>
                <a:pathLst>
                  <a:path w="1078" h="228">
                    <a:moveTo>
                      <a:pt x="0" y="220"/>
                    </a:moveTo>
                    <a:lnTo>
                      <a:pt x="0" y="228"/>
                    </a:lnTo>
                    <a:lnTo>
                      <a:pt x="1078" y="14"/>
                    </a:lnTo>
                    <a:lnTo>
                      <a:pt x="1078" y="0"/>
                    </a:lnTo>
                    <a:lnTo>
                      <a:pt x="0" y="213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148040" y="5429160"/>
                <a:ext cx="853920" cy="180720"/>
              </a:xfrm>
              <a:custGeom>
                <a:avLst/>
                <a:gdLst/>
                <a:ahLst/>
                <a:rect l="l" t="t" r="r" b="b"/>
                <a:pathLst>
                  <a:path w="1077" h="228">
                    <a:moveTo>
                      <a:pt x="0" y="221"/>
                    </a:moveTo>
                    <a:lnTo>
                      <a:pt x="0" y="228"/>
                    </a:lnTo>
                    <a:lnTo>
                      <a:pt x="1077" y="15"/>
                    </a:lnTo>
                    <a:lnTo>
                      <a:pt x="1077" y="0"/>
                    </a:lnTo>
                    <a:lnTo>
                      <a:pt x="0" y="214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227240" y="5481360"/>
                <a:ext cx="793440" cy="168480"/>
              </a:xfrm>
              <a:custGeom>
                <a:avLst/>
                <a:gdLst/>
                <a:ahLst/>
                <a:rect l="l" t="t" r="r" b="b"/>
                <a:pathLst>
                  <a:path w="1001" h="211">
                    <a:moveTo>
                      <a:pt x="1001" y="7"/>
                    </a:moveTo>
                    <a:lnTo>
                      <a:pt x="1001" y="0"/>
                    </a:lnTo>
                    <a:lnTo>
                      <a:pt x="0" y="197"/>
                    </a:lnTo>
                    <a:lnTo>
                      <a:pt x="0" y="211"/>
                    </a:lnTo>
                    <a:lnTo>
                      <a:pt x="1001" y="14"/>
                    </a:lnTo>
                    <a:lnTo>
                      <a:pt x="1001" y="7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185840" y="5533920"/>
                <a:ext cx="853920" cy="181080"/>
              </a:xfrm>
              <a:custGeom>
                <a:avLst/>
                <a:gdLst/>
                <a:ahLst/>
                <a:rect l="l" t="t" r="r" b="b"/>
                <a:pathLst>
                  <a:path w="1078" h="228">
                    <a:moveTo>
                      <a:pt x="0" y="221"/>
                    </a:moveTo>
                    <a:lnTo>
                      <a:pt x="0" y="228"/>
                    </a:lnTo>
                    <a:lnTo>
                      <a:pt x="1078" y="15"/>
                    </a:lnTo>
                    <a:lnTo>
                      <a:pt x="1078" y="0"/>
                    </a:lnTo>
                    <a:lnTo>
                      <a:pt x="0" y="214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204920" y="5587920"/>
                <a:ext cx="853920" cy="179280"/>
              </a:xfrm>
              <a:custGeom>
                <a:avLst/>
                <a:gdLst/>
                <a:ahLst/>
                <a:rect l="l" t="t" r="r" b="b"/>
                <a:pathLst>
                  <a:path w="1077" h="226">
                    <a:moveTo>
                      <a:pt x="0" y="218"/>
                    </a:moveTo>
                    <a:lnTo>
                      <a:pt x="0" y="226"/>
                    </a:lnTo>
                    <a:lnTo>
                      <a:pt x="1077" y="14"/>
                    </a:lnTo>
                    <a:lnTo>
                      <a:pt x="1077" y="0"/>
                    </a:lnTo>
                    <a:lnTo>
                      <a:pt x="0" y="211"/>
                    </a:lnTo>
                    <a:lnTo>
                      <a:pt x="0" y="21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946800" y="4692600"/>
                <a:ext cx="784080" cy="166680"/>
              </a:xfrm>
              <a:custGeom>
                <a:avLst/>
                <a:gdLst/>
                <a:ahLst/>
                <a:rect l="l" t="t" r="r" b="b"/>
                <a:pathLst>
                  <a:path w="988" h="210">
                    <a:moveTo>
                      <a:pt x="0" y="202"/>
                    </a:moveTo>
                    <a:lnTo>
                      <a:pt x="0" y="210"/>
                    </a:lnTo>
                    <a:lnTo>
                      <a:pt x="988" y="15"/>
                    </a:lnTo>
                    <a:lnTo>
                      <a:pt x="988" y="0"/>
                    </a:lnTo>
                    <a:lnTo>
                      <a:pt x="0" y="195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632880" y="594360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Draft Propos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urusan 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1981080" y="2743200"/>
            <a:ext cx="1219320" cy="2437920"/>
            <a:chOff x="1981080" y="2743200"/>
            <a:chExt cx="1219320" cy="2437920"/>
          </a:xfrm>
        </p:grpSpPr>
        <p:sp>
          <p:nvSpPr>
            <p:cNvPr id="1082" name=""/>
            <p:cNvSpPr/>
            <p:nvPr/>
          </p:nvSpPr>
          <p:spPr>
            <a:xfrm>
              <a:off x="1981080" y="2743200"/>
              <a:ext cx="1219320" cy="190512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0" y="0"/>
                  </a:moveTo>
                  <a:lnTo>
                    <a:pt x="424" y="0"/>
                  </a:lnTo>
                  <a:lnTo>
                    <a:pt x="424" y="1200"/>
                  </a:lnTo>
                  <a:lnTo>
                    <a:pt x="768" y="120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1981080" y="4647600"/>
              <a:ext cx="1219320" cy="53316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0" y="0"/>
                  </a:moveTo>
                  <a:lnTo>
                    <a:pt x="424" y="0"/>
                  </a:lnTo>
                  <a:lnTo>
                    <a:pt x="424" y="1200"/>
                  </a:lnTo>
                  <a:lnTo>
                    <a:pt x="768" y="120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3088440" y="1295280"/>
            <a:ext cx="3259800" cy="2438640"/>
            <a:chOff x="3088440" y="1295280"/>
            <a:chExt cx="3259800" cy="2438640"/>
          </a:xfrm>
        </p:grpSpPr>
        <p:sp>
          <p:nvSpPr>
            <p:cNvPr id="1085" name=""/>
            <p:cNvSpPr/>
            <p:nvPr/>
          </p:nvSpPr>
          <p:spPr>
            <a:xfrm>
              <a:off x="4800600" y="3048120"/>
              <a:ext cx="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" name=""/>
            <p:cNvGrpSpPr/>
            <p:nvPr/>
          </p:nvGrpSpPr>
          <p:grpSpPr>
            <a:xfrm>
              <a:off x="3088440" y="1295280"/>
              <a:ext cx="2939040" cy="1739880"/>
              <a:chOff x="3088440" y="1295280"/>
              <a:chExt cx="2939040" cy="1739880"/>
            </a:xfrm>
          </p:grpSpPr>
          <p:pic>
            <p:nvPicPr>
              <p:cNvPr id="10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1295280"/>
                <a:ext cx="2210040" cy="14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3088440" y="2666880"/>
                <a:ext cx="293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impinan Perguruan Tingg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9" name=""/>
            <p:cNvSpPr/>
            <p:nvPr/>
          </p:nvSpPr>
          <p:spPr>
            <a:xfrm>
              <a:off x="4744080" y="3200400"/>
              <a:ext cx="160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DRK Komitm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6248520" y="1447920"/>
            <a:ext cx="2786760" cy="3200400"/>
            <a:chOff x="6248520" y="1447920"/>
            <a:chExt cx="2786760" cy="3200400"/>
          </a:xfrm>
        </p:grpSpPr>
        <p:grpSp>
          <p:nvGrpSpPr>
            <p:cNvPr id="1091" name=""/>
            <p:cNvGrpSpPr/>
            <p:nvPr/>
          </p:nvGrpSpPr>
          <p:grpSpPr>
            <a:xfrm>
              <a:off x="7239240" y="1447920"/>
              <a:ext cx="1796040" cy="2273400"/>
              <a:chOff x="7239240" y="1447920"/>
              <a:chExt cx="1796040" cy="2273400"/>
            </a:xfrm>
          </p:grpSpPr>
          <p:pic>
            <p:nvPicPr>
              <p:cNvPr id="10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467120" y="1447920"/>
                <a:ext cx="1139760" cy="19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3" name=""/>
              <p:cNvSpPr/>
              <p:nvPr/>
            </p:nvSpPr>
            <p:spPr>
              <a:xfrm>
                <a:off x="7239240" y="3353040"/>
                <a:ext cx="1796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Kirim ke DIKT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6248520" y="3733920"/>
              <a:ext cx="1676160" cy="914400"/>
            </a:xfrm>
            <a:custGeom>
              <a:avLst/>
              <a:gdLst/>
              <a:ahLst/>
              <a:rect l="l" t="t" r="r" b="b"/>
              <a:pathLst>
                <a:path w="1056" h="576">
                  <a:moveTo>
                    <a:pt x="0" y="576"/>
                  </a:moveTo>
                  <a:lnTo>
                    <a:pt x="1056" y="576"/>
                  </a:lnTo>
                  <a:lnTo>
                    <a:pt x="1056" y="0"/>
                  </a:lnTo>
                </a:path>
              </a:pathLst>
            </a:custGeom>
            <a:noFill/>
            <a:ln w="7632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3159000" y="3809880"/>
            <a:ext cx="5604120" cy="2743200"/>
            <a:chOff x="3159000" y="3809880"/>
            <a:chExt cx="5604120" cy="2743200"/>
          </a:xfrm>
        </p:grpSpPr>
        <p:grpSp>
          <p:nvGrpSpPr>
            <p:cNvPr id="1096" name=""/>
            <p:cNvGrpSpPr/>
            <p:nvPr/>
          </p:nvGrpSpPr>
          <p:grpSpPr>
            <a:xfrm>
              <a:off x="3159000" y="3809880"/>
              <a:ext cx="3089520" cy="1739880"/>
              <a:chOff x="3159000" y="3809880"/>
              <a:chExt cx="3089520" cy="1739880"/>
            </a:xfrm>
          </p:grpSpPr>
          <p:pic>
            <p:nvPicPr>
              <p:cNvPr id="10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53040" y="3809880"/>
                <a:ext cx="2895480" cy="142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8" name=""/>
              <p:cNvSpPr/>
              <p:nvPr/>
            </p:nvSpPr>
            <p:spPr>
              <a:xfrm>
                <a:off x="3159000" y="5181480"/>
                <a:ext cx="306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cc0000"/>
                    </a:solidFill>
                    <a:latin typeface="Times New Roman"/>
                  </a:rPr>
                  <a:t>Task Force</a:t>
                </a:r>
                <a:r>
                  <a:rPr b="1" lang="en-US" sz="1800" spc="-1" strike="noStrike">
                    <a:solidFill>
                      <a:srgbClr val="cc0000"/>
                    </a:solidFill>
                    <a:latin typeface="Times New Roman"/>
                  </a:rPr>
                  <a:t> Perguruan Tingg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3276720" y="5486400"/>
              <a:ext cx="5486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marL="294840" indent="-294840">
                <a:spcBef>
                  <a:spcPts val="400"/>
                </a:spcBef>
                <a:buClr>
                  <a:srgbClr val="000000"/>
                </a:buClr>
                <a:buSzPct val="70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angkum anggaran yg diusulkan dari Jurus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4840" indent="-294840">
                <a:spcBef>
                  <a:spcPts val="400"/>
                </a:spcBef>
                <a:buClr>
                  <a:srgbClr val="000000"/>
                </a:buClr>
                <a:buSzPct val="70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ahakan DRK Komitmen dari Pimpinan P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4840" indent="-294840">
                <a:spcBef>
                  <a:spcPts val="400"/>
                </a:spcBef>
                <a:buClr>
                  <a:srgbClr val="000000"/>
                </a:buClr>
                <a:buSzPct val="70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suaikan Usulan Anggaran dengan DRK komitm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4840" indent="-294840">
                <a:spcBef>
                  <a:spcPts val="400"/>
                </a:spcBef>
                <a:buClr>
                  <a:srgbClr val="000000"/>
                </a:buClr>
                <a:buSzPct val="70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usun Bab 1 </a:t>
              </a:r>
              <a:r>
                <a:rPr b="1" lang="en-US" sz="1200" spc="-1" strike="noStrike">
                  <a:solidFill>
                    <a:srgbClr val="ff0000"/>
                  </a:solidFill>
                  <a:latin typeface="Monotype Sorts"/>
                  <a:ea typeface="Monotype Sorts"/>
                </a:rPr>
                <a:t>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fotocopy &amp; binding doc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0" name=""/>
          <p:cNvGrpSpPr/>
          <p:nvPr/>
        </p:nvGrpSpPr>
        <p:grpSpPr>
          <a:xfrm>
            <a:off x="1676520" y="1523880"/>
            <a:ext cx="6567840" cy="4191120"/>
            <a:chOff x="1676520" y="1523880"/>
            <a:chExt cx="6567840" cy="4191120"/>
          </a:xfrm>
        </p:grpSpPr>
        <p:sp>
          <p:nvSpPr>
            <p:cNvPr id="1101" name=""/>
            <p:cNvSpPr/>
            <p:nvPr/>
          </p:nvSpPr>
          <p:spPr>
            <a:xfrm>
              <a:off x="1676520" y="1523880"/>
              <a:ext cx="6553080" cy="4191120"/>
            </a:xfrm>
            <a:prstGeom prst="flowChartAlternateProcess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717560" y="1523880"/>
              <a:ext cx="6526800" cy="4115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Benguiat Bk BT"/>
                </a:rPr>
                <a:t>Mengapa kegiata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Benguiat Bk BT"/>
                </a:rPr>
                <a:t>investasi tidak boleh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Benguiat Bk BT"/>
                </a:rPr>
                <a:t>tercantum dalam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Benguiat Bk BT"/>
                </a:rPr>
                <a:t>Aktivitas yang diusulka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Benguiat Bk BT"/>
                </a:rPr>
                <a:t>oleh Jurusa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Benguiat Bk BT"/>
                </a:rPr>
                <a:t>dan Program Studi 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1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448920" y="5973840"/>
            <a:ext cx="5222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enguiat Bk BT"/>
              </a:rPr>
              <a:t>Pelaksanaan &amp; Penanggungjawab</a:t>
            </a:r>
            <a:r>
              <a:rPr b="0" lang="en-US" sz="2400" spc="-1" strike="noStrike">
                <a:solidFill>
                  <a:srgbClr val="000000"/>
                </a:solidFill>
                <a:latin typeface="Benguiat Bk BT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enguiat Bk BT"/>
              </a:rPr>
              <a:t>Ketua Jurusan, PS &amp; 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4035960" y="1295280"/>
            <a:ext cx="1645200" cy="1678680"/>
            <a:chOff x="4035960" y="1295280"/>
            <a:chExt cx="1645200" cy="1678680"/>
          </a:xfrm>
        </p:grpSpPr>
        <p:pic>
          <p:nvPicPr>
            <p:cNvPr id="1105" name="" descr=""/>
            <p:cNvPicPr/>
            <p:nvPr/>
          </p:nvPicPr>
          <p:blipFill>
            <a:blip r:embed="rId1"/>
            <a:stretch/>
          </p:blipFill>
          <p:spPr>
            <a:xfrm>
              <a:off x="4343400" y="1295280"/>
              <a:ext cx="11001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"/>
            <p:cNvSpPr/>
            <p:nvPr/>
          </p:nvSpPr>
          <p:spPr>
            <a:xfrm>
              <a:off x="4035960" y="2666880"/>
              <a:ext cx="164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enyediakan d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5753160" y="1295280"/>
            <a:ext cx="3200400" cy="1755000"/>
            <a:chOff x="5753160" y="1295280"/>
            <a:chExt cx="3200400" cy="1755000"/>
          </a:xfrm>
        </p:grpSpPr>
        <p:pic>
          <p:nvPicPr>
            <p:cNvPr id="1108" name="" descr=""/>
            <p:cNvPicPr/>
            <p:nvPr/>
          </p:nvPicPr>
          <p:blipFill>
            <a:blip r:embed="rId2"/>
            <a:stretch/>
          </p:blipFill>
          <p:spPr>
            <a:xfrm>
              <a:off x="5753160" y="1295280"/>
              <a:ext cx="10540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9" name="" descr=""/>
            <p:cNvPicPr/>
            <p:nvPr/>
          </p:nvPicPr>
          <p:blipFill>
            <a:blip r:embed="rId3"/>
            <a:stretch/>
          </p:blipFill>
          <p:spPr>
            <a:xfrm>
              <a:off x="6896160" y="1295280"/>
              <a:ext cx="205740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0" name=""/>
            <p:cNvSpPr/>
            <p:nvPr/>
          </p:nvSpPr>
          <p:spPr>
            <a:xfrm>
              <a:off x="6052320" y="2743200"/>
              <a:ext cx="275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engadaan/Penyediaan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Re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304920" y="4602240"/>
            <a:ext cx="6298920" cy="1371600"/>
            <a:chOff x="304920" y="4602240"/>
            <a:chExt cx="6298920" cy="1371600"/>
          </a:xfrm>
        </p:grpSpPr>
        <p:sp>
          <p:nvSpPr>
            <p:cNvPr id="1112" name=""/>
            <p:cNvSpPr/>
            <p:nvPr/>
          </p:nvSpPr>
          <p:spPr>
            <a:xfrm>
              <a:off x="5562720" y="4678200"/>
              <a:ext cx="1041120" cy="1143000"/>
            </a:xfrm>
            <a:prstGeom prst="rightArrow">
              <a:avLst>
                <a:gd name="adj1" fmla="val 67500"/>
                <a:gd name="adj2" fmla="val 48699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04920" y="4602240"/>
              <a:ext cx="5715000" cy="1371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4" name="" descr=""/>
          <p:cNvPicPr/>
          <p:nvPr/>
        </p:nvPicPr>
        <p:blipFill>
          <a:blip r:embed="rId4"/>
          <a:stretch/>
        </p:blipFill>
        <p:spPr>
          <a:xfrm>
            <a:off x="2895480" y="4754520"/>
            <a:ext cx="1752840" cy="116856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906480" y="5592600"/>
            <a:ext cx="436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Kegiatan untuk meningkatkan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A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6" name="" descr=""/>
          <p:cNvPicPr/>
          <p:nvPr/>
        </p:nvPicPr>
        <p:blipFill>
          <a:blip r:embed="rId5"/>
          <a:stretch/>
        </p:blipFill>
        <p:spPr>
          <a:xfrm>
            <a:off x="1371600" y="4830840"/>
            <a:ext cx="1523880" cy="747720"/>
          </a:xfrm>
          <a:prstGeom prst="rect">
            <a:avLst/>
          </a:prstGeom>
          <a:ln w="0">
            <a:noFill/>
          </a:ln>
        </p:spPr>
      </p:pic>
      <p:pic>
        <p:nvPicPr>
          <p:cNvPr id="1117" name="" descr=""/>
          <p:cNvPicPr/>
          <p:nvPr/>
        </p:nvPicPr>
        <p:blipFill>
          <a:blip r:embed="rId6"/>
          <a:stretch/>
        </p:blipFill>
        <p:spPr>
          <a:xfrm>
            <a:off x="304920" y="4678200"/>
            <a:ext cx="1066680" cy="831960"/>
          </a:xfrm>
          <a:prstGeom prst="rect">
            <a:avLst/>
          </a:prstGeom>
          <a:ln w="0">
            <a:noFill/>
          </a:ln>
        </p:spPr>
      </p:pic>
      <p:pic>
        <p:nvPicPr>
          <p:cNvPr id="1118" name="" descr=""/>
          <p:cNvPicPr/>
          <p:nvPr/>
        </p:nvPicPr>
        <p:blipFill>
          <a:blip r:embed="rId7"/>
          <a:stretch/>
        </p:blipFill>
        <p:spPr>
          <a:xfrm>
            <a:off x="4648320" y="4678200"/>
            <a:ext cx="1218960" cy="920880"/>
          </a:xfrm>
          <a:prstGeom prst="rect">
            <a:avLst/>
          </a:prstGeom>
          <a:ln w="0">
            <a:noFill/>
          </a:ln>
        </p:spPr>
      </p:pic>
      <p:grpSp>
        <p:nvGrpSpPr>
          <p:cNvPr id="1119" name=""/>
          <p:cNvGrpSpPr/>
          <p:nvPr/>
        </p:nvGrpSpPr>
        <p:grpSpPr>
          <a:xfrm>
            <a:off x="453960" y="1371600"/>
            <a:ext cx="3562560" cy="1602360"/>
            <a:chOff x="453960" y="1371600"/>
            <a:chExt cx="3562560" cy="1602360"/>
          </a:xfrm>
        </p:grpSpPr>
        <p:pic>
          <p:nvPicPr>
            <p:cNvPr id="1120" name="" descr=""/>
            <p:cNvPicPr/>
            <p:nvPr/>
          </p:nvPicPr>
          <p:blipFill>
            <a:blip r:embed="rId8"/>
            <a:stretch/>
          </p:blipFill>
          <p:spPr>
            <a:xfrm>
              <a:off x="874800" y="1371600"/>
              <a:ext cx="2712960" cy="12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1" name=""/>
            <p:cNvSpPr/>
            <p:nvPr/>
          </p:nvSpPr>
          <p:spPr>
            <a:xfrm>
              <a:off x="453960" y="2666880"/>
              <a:ext cx="356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Koordinasi DIKTI - PT, Fak, Jur, PS &amp; P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1447920" y="3162240"/>
            <a:ext cx="1371600" cy="1143000"/>
            <a:chOff x="1447920" y="3162240"/>
            <a:chExt cx="1371600" cy="1143000"/>
          </a:xfrm>
        </p:grpSpPr>
        <p:sp>
          <p:nvSpPr>
            <p:cNvPr id="1123" name=""/>
            <p:cNvSpPr/>
            <p:nvPr/>
          </p:nvSpPr>
          <p:spPr>
            <a:xfrm>
              <a:off x="1685880" y="3162240"/>
              <a:ext cx="914400" cy="1143000"/>
            </a:xfrm>
            <a:prstGeom prst="upArrow">
              <a:avLst>
                <a:gd name="adj1" fmla="val 52083"/>
                <a:gd name="adj2" fmla="val 3958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4" name=""/>
            <p:cNvGrpSpPr/>
            <p:nvPr/>
          </p:nvGrpSpPr>
          <p:grpSpPr>
            <a:xfrm>
              <a:off x="1447920" y="3581280"/>
              <a:ext cx="1371600" cy="642600"/>
              <a:chOff x="1447920" y="3581280"/>
              <a:chExt cx="1371600" cy="642600"/>
            </a:xfrm>
          </p:grpSpPr>
          <p:sp>
            <p:nvSpPr>
              <p:cNvPr id="1125" name=""/>
              <p:cNvSpPr/>
              <p:nvPr/>
            </p:nvSpPr>
            <p:spPr>
              <a:xfrm>
                <a:off x="1447920" y="3635280"/>
                <a:ext cx="1371600" cy="53316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472400" y="3581280"/>
                <a:ext cx="1325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Kebutuh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umberday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7" name=""/>
          <p:cNvGrpSpPr/>
          <p:nvPr/>
        </p:nvGrpSpPr>
        <p:grpSpPr>
          <a:xfrm>
            <a:off x="190440" y="3048120"/>
            <a:ext cx="8763120" cy="1477800"/>
            <a:chOff x="190440" y="3048120"/>
            <a:chExt cx="8763120" cy="1477800"/>
          </a:xfrm>
        </p:grpSpPr>
        <p:sp>
          <p:nvSpPr>
            <p:cNvPr id="1128" name=""/>
            <p:cNvSpPr/>
            <p:nvPr/>
          </p:nvSpPr>
          <p:spPr>
            <a:xfrm>
              <a:off x="190440" y="3048120"/>
              <a:ext cx="8750520" cy="825480"/>
            </a:xfrm>
            <a:custGeom>
              <a:avLst/>
              <a:gdLst/>
              <a:ahLst/>
              <a:rect l="l" t="t" r="r" b="b"/>
              <a:pathLst>
                <a:path w="5512" h="520">
                  <a:moveTo>
                    <a:pt x="0" y="0"/>
                  </a:moveTo>
                  <a:lnTo>
                    <a:pt x="3728" y="0"/>
                  </a:lnTo>
                  <a:lnTo>
                    <a:pt x="3728" y="520"/>
                  </a:lnTo>
                  <a:lnTo>
                    <a:pt x="5512" y="520"/>
                  </a:lnTo>
                </a:path>
              </a:pathLst>
            </a:custGeom>
            <a:noFill/>
            <a:ln w="57240">
              <a:solidFill>
                <a:srgbClr val="33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90440" y="4525920"/>
              <a:ext cx="8763120" cy="0"/>
            </a:xfrm>
            <a:prstGeom prst="line">
              <a:avLst/>
            </a:prstGeom>
            <a:ln w="57240">
              <a:solidFill>
                <a:srgbClr val="33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3972600" y="3200040"/>
            <a:ext cx="1325160" cy="1143000"/>
            <a:chOff x="3972600" y="3200040"/>
            <a:chExt cx="1325160" cy="1143000"/>
          </a:xfrm>
        </p:grpSpPr>
        <p:sp>
          <p:nvSpPr>
            <p:cNvPr id="1131" name=""/>
            <p:cNvSpPr/>
            <p:nvPr/>
          </p:nvSpPr>
          <p:spPr>
            <a:xfrm flipV="1">
              <a:off x="4178160" y="3199680"/>
              <a:ext cx="914400" cy="1143000"/>
            </a:xfrm>
            <a:prstGeom prst="upArrow">
              <a:avLst>
                <a:gd name="adj1" fmla="val 50352"/>
                <a:gd name="adj2" fmla="val 36458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2" name=""/>
            <p:cNvGrpSpPr/>
            <p:nvPr/>
          </p:nvGrpSpPr>
          <p:grpSpPr>
            <a:xfrm>
              <a:off x="3972600" y="3473280"/>
              <a:ext cx="1325160" cy="368280"/>
              <a:chOff x="3972600" y="3473280"/>
              <a:chExt cx="1325160" cy="368280"/>
            </a:xfrm>
          </p:grpSpPr>
          <p:sp>
            <p:nvSpPr>
              <p:cNvPr id="1133" name=""/>
              <p:cNvSpPr/>
              <p:nvPr/>
            </p:nvSpPr>
            <p:spPr>
              <a:xfrm>
                <a:off x="3987720" y="3504960"/>
                <a:ext cx="1295280" cy="30492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972600" y="3473280"/>
                <a:ext cx="1325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umberday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5" name=""/>
          <p:cNvGrpSpPr/>
          <p:nvPr/>
        </p:nvGrpSpPr>
        <p:grpSpPr>
          <a:xfrm>
            <a:off x="6781680" y="3200400"/>
            <a:ext cx="2032200" cy="520560"/>
            <a:chOff x="6781680" y="3200400"/>
            <a:chExt cx="2032200" cy="520560"/>
          </a:xfrm>
        </p:grpSpPr>
        <p:sp>
          <p:nvSpPr>
            <p:cNvPr id="1136" name=""/>
            <p:cNvSpPr/>
            <p:nvPr/>
          </p:nvSpPr>
          <p:spPr>
            <a:xfrm>
              <a:off x="6781680" y="3241800"/>
              <a:ext cx="2032200" cy="44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862680" y="3200400"/>
              <a:ext cx="19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0000"/>
                  </a:solidFill>
                  <a:latin typeface="Benguiat Bk BT"/>
                </a:rPr>
                <a:t>Investm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6705720" y="6126120"/>
            <a:ext cx="2031840" cy="520560"/>
            <a:chOff x="6705720" y="6126120"/>
            <a:chExt cx="2031840" cy="520560"/>
          </a:xfrm>
        </p:grpSpPr>
        <p:sp>
          <p:nvSpPr>
            <p:cNvPr id="1139" name=""/>
            <p:cNvSpPr/>
            <p:nvPr/>
          </p:nvSpPr>
          <p:spPr>
            <a:xfrm>
              <a:off x="6705720" y="6167520"/>
              <a:ext cx="2031840" cy="44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944400" y="6126120"/>
              <a:ext cx="15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0000"/>
                  </a:solidFill>
                  <a:latin typeface="Benguiat Bk BT"/>
                </a:rPr>
                <a:t>Activiti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589800" y="4819680"/>
            <a:ext cx="2173320" cy="825120"/>
            <a:chOff x="6589800" y="4819680"/>
            <a:chExt cx="2173320" cy="825120"/>
          </a:xfrm>
        </p:grpSpPr>
        <p:sp>
          <p:nvSpPr>
            <p:cNvPr id="1142" name=""/>
            <p:cNvSpPr/>
            <p:nvPr/>
          </p:nvSpPr>
          <p:spPr>
            <a:xfrm>
              <a:off x="6589800" y="4819680"/>
              <a:ext cx="1831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enguiat Bk BT"/>
                </a:rPr>
                <a:t>RAIS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410680" y="5030640"/>
              <a:ext cx="352440" cy="409680"/>
            </a:xfrm>
            <a:prstGeom prst="upArrow">
              <a:avLst>
                <a:gd name="adj1" fmla="val 43009"/>
                <a:gd name="adj2" fmla="val 59116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1896840" y="277920"/>
            <a:ext cx="6805800" cy="885600"/>
            <a:chOff x="1896840" y="277920"/>
            <a:chExt cx="6805800" cy="885600"/>
          </a:xfrm>
        </p:grpSpPr>
        <p:sp>
          <p:nvSpPr>
            <p:cNvPr id="1145" name=""/>
            <p:cNvSpPr/>
            <p:nvPr/>
          </p:nvSpPr>
          <p:spPr>
            <a:xfrm>
              <a:off x="1896840" y="277920"/>
              <a:ext cx="522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Benguiat Bk BT"/>
                </a:rPr>
                <a:t>Pelaksanaan &amp; Penanggungjawab</a:t>
              </a:r>
              <a:r>
                <a:rPr b="0" lang="en-US" sz="2400" spc="-1" strike="noStrike">
                  <a:solidFill>
                    <a:srgbClr val="000000"/>
                  </a:solidFill>
                  <a:latin typeface="Benguiat Bk BT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124000" y="642960"/>
              <a:ext cx="657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0000"/>
                  </a:solidFill>
                  <a:latin typeface="Benguiat Bk BT"/>
                </a:rPr>
                <a:t>Local Project Implementation Unit (LPIU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0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5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0"/>
                            </p:stCondLst>
                            <p:childTnLst>
                              <p:par>
                                <p:cTn id="8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 txBox="1"/>
          <p:nvPr/>
        </p:nvSpPr>
        <p:spPr>
          <a:xfrm>
            <a:off x="1295280" y="2209680"/>
            <a:ext cx="6896160" cy="19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e1e1b7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Selamat Bekerja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e1e1b7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2819520"/>
            <a:ext cx="8839080" cy="1038600"/>
            <a:chOff x="228600" y="2819520"/>
            <a:chExt cx="8839080" cy="1038600"/>
          </a:xfrm>
        </p:grpSpPr>
        <p:sp>
          <p:nvSpPr>
            <p:cNvPr id="90" name=""/>
            <p:cNvSpPr/>
            <p:nvPr/>
          </p:nvSpPr>
          <p:spPr>
            <a:xfrm>
              <a:off x="228600" y="3352680"/>
              <a:ext cx="8839080" cy="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3120" y="2819520"/>
              <a:ext cx="527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Benguiat Bk BT"/>
                </a:rPr>
                <a:t>[Report on Self-Evaluation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7920" y="3276720"/>
              <a:ext cx="321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Benguiat Bk BT"/>
                </a:rPr>
                <a:t>[Proposed Plan]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Line of Thought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(Cara Berpikir)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9480" y="1828800"/>
            <a:ext cx="1981440" cy="838080"/>
            <a:chOff x="609480" y="1828800"/>
            <a:chExt cx="1981440" cy="838080"/>
          </a:xfrm>
        </p:grpSpPr>
        <p:sp>
          <p:nvSpPr>
            <p:cNvPr id="95" name=""/>
            <p:cNvSpPr/>
            <p:nvPr/>
          </p:nvSpPr>
          <p:spPr>
            <a:xfrm>
              <a:off x="609480" y="1828800"/>
              <a:ext cx="1981440" cy="838080"/>
            </a:xfrm>
            <a:prstGeom prst="rect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4720" y="1905120"/>
              <a:ext cx="182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nvironmen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666880" y="1828800"/>
            <a:ext cx="2895840" cy="838080"/>
            <a:chOff x="2666880" y="1828800"/>
            <a:chExt cx="2895840" cy="838080"/>
          </a:xfrm>
        </p:grpSpPr>
        <p:grpSp>
          <p:nvGrpSpPr>
            <p:cNvPr id="98" name=""/>
            <p:cNvGrpSpPr/>
            <p:nvPr/>
          </p:nvGrpSpPr>
          <p:grpSpPr>
            <a:xfrm>
              <a:off x="4114800" y="1828800"/>
              <a:ext cx="1447920" cy="838080"/>
              <a:chOff x="4114800" y="1828800"/>
              <a:chExt cx="1447920" cy="838080"/>
            </a:xfrm>
          </p:grpSpPr>
          <p:sp>
            <p:nvSpPr>
              <p:cNvPr id="99" name=""/>
              <p:cNvSpPr/>
              <p:nvPr/>
            </p:nvSpPr>
            <p:spPr>
              <a:xfrm>
                <a:off x="4114800" y="1828800"/>
                <a:ext cx="1447920" cy="83808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232160" y="1905120"/>
                <a:ext cx="1284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vailab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ourc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2666880" y="2286000"/>
              <a:ext cx="1447920" cy="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638680" y="1866960"/>
            <a:ext cx="3200400" cy="762120"/>
            <a:chOff x="5638680" y="1866960"/>
            <a:chExt cx="3200400" cy="762120"/>
          </a:xfrm>
        </p:grpSpPr>
        <p:grpSp>
          <p:nvGrpSpPr>
            <p:cNvPr id="103" name=""/>
            <p:cNvGrpSpPr/>
            <p:nvPr/>
          </p:nvGrpSpPr>
          <p:grpSpPr>
            <a:xfrm>
              <a:off x="6858000" y="1866960"/>
              <a:ext cx="1981080" cy="762120"/>
              <a:chOff x="6858000" y="1866960"/>
              <a:chExt cx="1981080" cy="762120"/>
            </a:xfrm>
          </p:grpSpPr>
          <p:sp>
            <p:nvSpPr>
              <p:cNvPr id="104" name=""/>
              <p:cNvSpPr/>
              <p:nvPr/>
            </p:nvSpPr>
            <p:spPr>
              <a:xfrm>
                <a:off x="6858000" y="1866960"/>
                <a:ext cx="1981080" cy="76212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901920" y="1881360"/>
                <a:ext cx="193176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nclus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roblem Stat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5638680" y="2286000"/>
              <a:ext cx="1219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886200" y="4800600"/>
            <a:ext cx="4876920" cy="1450440"/>
            <a:chOff x="3886200" y="4800600"/>
            <a:chExt cx="4876920" cy="1450440"/>
          </a:xfrm>
        </p:grpSpPr>
        <p:sp>
          <p:nvSpPr>
            <p:cNvPr id="108" name=""/>
            <p:cNvSpPr/>
            <p:nvPr/>
          </p:nvSpPr>
          <p:spPr>
            <a:xfrm>
              <a:off x="3886200" y="4800600"/>
              <a:ext cx="4876920" cy="1447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67280" y="5388120"/>
              <a:ext cx="1371600" cy="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236360" y="5035680"/>
              <a:ext cx="1298160" cy="703800"/>
              <a:chOff x="7236360" y="5035680"/>
              <a:chExt cx="1298160" cy="703800"/>
            </a:xfrm>
          </p:grpSpPr>
          <p:sp>
            <p:nvSpPr>
              <p:cNvPr id="111" name=""/>
              <p:cNvSpPr/>
              <p:nvPr/>
            </p:nvSpPr>
            <p:spPr>
              <a:xfrm>
                <a:off x="7238880" y="5035680"/>
                <a:ext cx="1295640" cy="68580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ff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236360" y="5035680"/>
                <a:ext cx="1259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mprov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leva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034520" y="5029200"/>
              <a:ext cx="1776240" cy="718200"/>
              <a:chOff x="4034520" y="5029200"/>
              <a:chExt cx="1776240" cy="718200"/>
            </a:xfrm>
          </p:grpSpPr>
          <p:sp>
            <p:nvSpPr>
              <p:cNvPr id="114" name=""/>
              <p:cNvSpPr/>
              <p:nvPr/>
            </p:nvSpPr>
            <p:spPr>
              <a:xfrm>
                <a:off x="4047840" y="5029200"/>
                <a:ext cx="1752480" cy="68580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ff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034520" y="5043600"/>
                <a:ext cx="1776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Other Improve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ent Pl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563800" y="5791320"/>
              <a:ext cx="171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tion Pl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162920" y="2743200"/>
            <a:ext cx="1447560" cy="1523880"/>
            <a:chOff x="7162920" y="2743200"/>
            <a:chExt cx="1447560" cy="1523880"/>
          </a:xfrm>
        </p:grpSpPr>
        <p:grpSp>
          <p:nvGrpSpPr>
            <p:cNvPr id="118" name=""/>
            <p:cNvGrpSpPr/>
            <p:nvPr/>
          </p:nvGrpSpPr>
          <p:grpSpPr>
            <a:xfrm>
              <a:off x="7162920" y="3657600"/>
              <a:ext cx="1447560" cy="609480"/>
              <a:chOff x="7162920" y="3657600"/>
              <a:chExt cx="1447560" cy="60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7162920" y="3657600"/>
                <a:ext cx="1447560" cy="60948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272720" y="3763800"/>
                <a:ext cx="1227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bjecti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7848720" y="2743200"/>
              <a:ext cx="0" cy="914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7848720" y="43434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828800" y="4952880"/>
            <a:ext cx="2057400" cy="1143000"/>
            <a:chOff x="1828800" y="4952880"/>
            <a:chExt cx="2057400" cy="1143000"/>
          </a:xfrm>
        </p:grpSpPr>
        <p:grpSp>
          <p:nvGrpSpPr>
            <p:cNvPr id="124" name=""/>
            <p:cNvGrpSpPr/>
            <p:nvPr/>
          </p:nvGrpSpPr>
          <p:grpSpPr>
            <a:xfrm>
              <a:off x="1828800" y="4952880"/>
              <a:ext cx="1447920" cy="1143000"/>
              <a:chOff x="1828800" y="4952880"/>
              <a:chExt cx="1447920" cy="1143000"/>
            </a:xfrm>
          </p:grpSpPr>
          <p:sp>
            <p:nvSpPr>
              <p:cNvPr id="125" name=""/>
              <p:cNvSpPr/>
              <p:nvPr/>
            </p:nvSpPr>
            <p:spPr>
              <a:xfrm>
                <a:off x="1828800" y="4952880"/>
                <a:ext cx="1447920" cy="114300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904400" y="5028840"/>
                <a:ext cx="131292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pos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ves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udg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 flipH="1">
              <a:off x="3352680" y="552456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28240" y="5295960"/>
            <a:ext cx="1600560" cy="457200"/>
            <a:chOff x="228240" y="5295960"/>
            <a:chExt cx="1600560" cy="457200"/>
          </a:xfrm>
        </p:grpSpPr>
        <p:grpSp>
          <p:nvGrpSpPr>
            <p:cNvPr id="129" name=""/>
            <p:cNvGrpSpPr/>
            <p:nvPr/>
          </p:nvGrpSpPr>
          <p:grpSpPr>
            <a:xfrm>
              <a:off x="228240" y="5295960"/>
              <a:ext cx="1067040" cy="457200"/>
              <a:chOff x="228240" y="5295960"/>
              <a:chExt cx="1067040" cy="45720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00" y="5295960"/>
                <a:ext cx="1066680" cy="45720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8240" y="5295960"/>
                <a:ext cx="1031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btrac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flipH="1">
              <a:off x="1371600" y="5524560"/>
              <a:ext cx="457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Benguiat Bk BT"/>
              </a:rPr>
              <a:t>AKTIVITAS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0000"/>
                </a:solidFill>
                <a:uFillTx/>
                <a:latin typeface="Times New Roman"/>
              </a:rPr>
              <a:t>Attribu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ktivit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d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ju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dwal waktu pelaksan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kator keberhasi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nggungjawab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son in cha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6705720" y="3067200"/>
            <a:ext cx="2286000" cy="3079080"/>
            <a:chOff x="6705720" y="3067200"/>
            <a:chExt cx="2286000" cy="3079080"/>
          </a:xfrm>
        </p:grpSpPr>
        <p:sp>
          <p:nvSpPr>
            <p:cNvPr id="136" name=""/>
            <p:cNvSpPr/>
            <p:nvPr/>
          </p:nvSpPr>
          <p:spPr>
            <a:xfrm>
              <a:off x="6710400" y="3067200"/>
              <a:ext cx="2224080" cy="2037960"/>
            </a:xfrm>
            <a:custGeom>
              <a:avLst/>
              <a:gdLst/>
              <a:ahLst/>
              <a:rect l="l" t="t" r="r" b="b"/>
              <a:pathLst>
                <a:path w="1401" h="1284">
                  <a:moveTo>
                    <a:pt x="615" y="189"/>
                  </a:moveTo>
                  <a:cubicBezTo>
                    <a:pt x="871" y="197"/>
                    <a:pt x="1080" y="312"/>
                    <a:pt x="1002" y="711"/>
                  </a:cubicBezTo>
                  <a:cubicBezTo>
                    <a:pt x="924" y="1110"/>
                    <a:pt x="657" y="1050"/>
                    <a:pt x="0" y="1284"/>
                  </a:cubicBezTo>
                  <a:cubicBezTo>
                    <a:pt x="0" y="1284"/>
                    <a:pt x="705" y="1284"/>
                    <a:pt x="1401" y="1284"/>
                  </a:cubicBezTo>
                  <a:cubicBezTo>
                    <a:pt x="1365" y="885"/>
                    <a:pt x="1398" y="564"/>
                    <a:pt x="1266" y="354"/>
                  </a:cubicBezTo>
                  <a:cubicBezTo>
                    <a:pt x="1134" y="144"/>
                    <a:pt x="999" y="36"/>
                    <a:pt x="609" y="0"/>
                  </a:cubicBezTo>
                  <a:cubicBezTo>
                    <a:pt x="615" y="3"/>
                    <a:pt x="615" y="189"/>
                    <a:pt x="615" y="189"/>
                  </a:cubicBezTo>
                  <a:close/>
                </a:path>
              </a:pathLst>
            </a:custGeom>
            <a:solidFill>
              <a:srgbClr val="e1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705720" y="5105160"/>
              <a:ext cx="2286000" cy="1041120"/>
              <a:chOff x="6705720" y="5105160"/>
              <a:chExt cx="2286000" cy="1041120"/>
            </a:xfrm>
          </p:grpSpPr>
          <p:sp>
            <p:nvSpPr>
              <p:cNvPr id="138" name=""/>
              <p:cNvSpPr/>
              <p:nvPr/>
            </p:nvSpPr>
            <p:spPr>
              <a:xfrm>
                <a:off x="6721560" y="5105160"/>
                <a:ext cx="2222640" cy="104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05720" y="5139720"/>
                <a:ext cx="228600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cc0000"/>
                    </a:solidFill>
                    <a:latin typeface="Arial"/>
                  </a:rPr>
                  <a:t>Mechanism &amp; design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: </a:t>
                </a: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ukan investasi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karen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nvestasi disajikan p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resource requir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Benguiat Bk BT"/>
              </a:rPr>
              <a:t>Penjabaran Aktivitas</a:t>
            </a:r>
            <a:br>
              <a:rPr sz="54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dari 3)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41200" y="2217600"/>
            <a:ext cx="1527120" cy="642600"/>
            <a:chOff x="241200" y="2217600"/>
            <a:chExt cx="1527120" cy="642600"/>
          </a:xfrm>
        </p:grpSpPr>
        <p:sp>
          <p:nvSpPr>
            <p:cNvPr id="142" name=""/>
            <p:cNvSpPr/>
            <p:nvPr/>
          </p:nvSpPr>
          <p:spPr>
            <a:xfrm>
              <a:off x="241200" y="2233440"/>
              <a:ext cx="1527120" cy="609480"/>
            </a:xfrm>
            <a:prstGeom prst="rect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4960" y="2217600"/>
              <a:ext cx="147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Benguiat Bk BT"/>
                </a:rPr>
                <a:t>Cause-Roo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Benguiat Bk BT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2133720"/>
            <a:ext cx="2314440" cy="809640"/>
            <a:chOff x="1905120" y="2133720"/>
            <a:chExt cx="2314440" cy="809640"/>
          </a:xfrm>
        </p:grpSpPr>
        <p:grpSp>
          <p:nvGrpSpPr>
            <p:cNvPr id="145" name=""/>
            <p:cNvGrpSpPr/>
            <p:nvPr/>
          </p:nvGrpSpPr>
          <p:grpSpPr>
            <a:xfrm>
              <a:off x="2750400" y="2133720"/>
              <a:ext cx="1469160" cy="809640"/>
              <a:chOff x="2750400" y="2133720"/>
              <a:chExt cx="1469160" cy="809640"/>
            </a:xfrm>
          </p:grpSpPr>
          <p:sp>
            <p:nvSpPr>
              <p:cNvPr id="146" name=""/>
              <p:cNvSpPr/>
              <p:nvPr/>
            </p:nvSpPr>
            <p:spPr>
              <a:xfrm>
                <a:off x="2755800" y="2133720"/>
                <a:ext cx="1463760" cy="80964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50400" y="2163960"/>
                <a:ext cx="14396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roblems Stat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……………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……………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…………………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1905120" y="253872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905120" y="3627360"/>
            <a:ext cx="2361960" cy="1249200"/>
            <a:chOff x="1905120" y="3627360"/>
            <a:chExt cx="2361960" cy="1249200"/>
          </a:xfrm>
        </p:grpSpPr>
        <p:sp>
          <p:nvSpPr>
            <p:cNvPr id="150" name=""/>
            <p:cNvSpPr/>
            <p:nvPr/>
          </p:nvSpPr>
          <p:spPr>
            <a:xfrm>
              <a:off x="1905120" y="426708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2514600" y="3627360"/>
              <a:ext cx="1752480" cy="1249200"/>
              <a:chOff x="2514600" y="3627360"/>
              <a:chExt cx="1752480" cy="1249200"/>
            </a:xfrm>
          </p:grpSpPr>
          <p:sp>
            <p:nvSpPr>
              <p:cNvPr id="152" name=""/>
              <p:cNvSpPr/>
              <p:nvPr/>
            </p:nvSpPr>
            <p:spPr>
              <a:xfrm>
                <a:off x="2514600" y="3657240"/>
                <a:ext cx="1752480" cy="121932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2587680" y="3927240"/>
                <a:ext cx="1604880" cy="677520"/>
                <a:chOff x="2587680" y="3927240"/>
                <a:chExt cx="1604880" cy="6775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2587680" y="4280040"/>
                  <a:ext cx="1604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009600" y="4306320"/>
                  <a:ext cx="338760" cy="217080"/>
                </a:xfrm>
                <a:prstGeom prst="upArrow">
                  <a:avLst>
                    <a:gd name="adj1" fmla="val 50000"/>
                    <a:gd name="adj2" fmla="val 47917"/>
                  </a:avLst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009600" y="3927240"/>
                  <a:ext cx="338760" cy="325080"/>
                </a:xfrm>
                <a:prstGeom prst="downArrow">
                  <a:avLst>
                    <a:gd name="adj1" fmla="val 50000"/>
                    <a:gd name="adj2" fmla="val 36111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2629800" y="4305600"/>
                  <a:ext cx="336960" cy="271080"/>
                </a:xfrm>
                <a:prstGeom prst="downArrow">
                  <a:avLst>
                    <a:gd name="adj1" fmla="val 50000"/>
                    <a:gd name="adj2" fmla="val 36111"/>
                  </a:avLst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629800" y="4116960"/>
                  <a:ext cx="336960" cy="135360"/>
                </a:xfrm>
                <a:prstGeom prst="downArrow">
                  <a:avLst>
                    <a:gd name="adj1" fmla="val 54167"/>
                    <a:gd name="adj2" fmla="val 48810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389040" y="4306320"/>
                  <a:ext cx="338760" cy="298440"/>
                </a:xfrm>
                <a:prstGeom prst="upArrow">
                  <a:avLst>
                    <a:gd name="adj1" fmla="val 54167"/>
                    <a:gd name="adj2" fmla="val 32764"/>
                  </a:avLst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389040" y="4062960"/>
                  <a:ext cx="338760" cy="189360"/>
                </a:xfrm>
                <a:prstGeom prst="downArrow">
                  <a:avLst>
                    <a:gd name="adj1" fmla="val 45833"/>
                    <a:gd name="adj2" fmla="val 50296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770280" y="4306320"/>
                  <a:ext cx="336960" cy="244800"/>
                </a:xfrm>
                <a:prstGeom prst="upArrow">
                  <a:avLst>
                    <a:gd name="adj1" fmla="val 54167"/>
                    <a:gd name="adj2" fmla="val 40278"/>
                  </a:avLst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770280" y="3927240"/>
                  <a:ext cx="336960" cy="325080"/>
                </a:xfrm>
                <a:prstGeom prst="downArrow">
                  <a:avLst>
                    <a:gd name="adj1" fmla="val 50000"/>
                    <a:gd name="adj2" fmla="val 36111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2721960" y="3627360"/>
                <a:ext cx="1337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estraining forc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850120" y="4593960"/>
                <a:ext cx="1081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riving forc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239400" y="2971800"/>
            <a:ext cx="3112920" cy="1617480"/>
            <a:chOff x="239400" y="2971800"/>
            <a:chExt cx="3112920" cy="1617480"/>
          </a:xfrm>
        </p:grpSpPr>
        <p:grpSp>
          <p:nvGrpSpPr>
            <p:cNvPr id="166" name=""/>
            <p:cNvGrpSpPr/>
            <p:nvPr/>
          </p:nvGrpSpPr>
          <p:grpSpPr>
            <a:xfrm>
              <a:off x="239400" y="3946680"/>
              <a:ext cx="1524600" cy="642600"/>
              <a:chOff x="239400" y="3946680"/>
              <a:chExt cx="1524600" cy="642600"/>
            </a:xfrm>
          </p:grpSpPr>
          <p:sp>
            <p:nvSpPr>
              <p:cNvPr id="167" name=""/>
              <p:cNvSpPr/>
              <p:nvPr/>
            </p:nvSpPr>
            <p:spPr>
              <a:xfrm>
                <a:off x="239400" y="3962520"/>
                <a:ext cx="1524600" cy="60948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78280" y="3946680"/>
                <a:ext cx="1422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Benguiat Bk BT"/>
                  </a:rPr>
                  <a:t>Force-Fiel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Benguiat Bk BT"/>
                  </a:rPr>
                  <a:t>Analysi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989280" y="2971800"/>
              <a:ext cx="2363040" cy="908280"/>
            </a:xfrm>
            <a:custGeom>
              <a:avLst/>
              <a:gdLst/>
              <a:ahLst/>
              <a:rect l="l" t="t" r="r" b="b"/>
              <a:pathLst>
                <a:path w="1488" h="572">
                  <a:moveTo>
                    <a:pt x="0" y="572"/>
                  </a:moveTo>
                  <a:lnTo>
                    <a:pt x="0" y="216"/>
                  </a:lnTo>
                  <a:lnTo>
                    <a:pt x="1488" y="216"/>
                  </a:lnTo>
                  <a:lnTo>
                    <a:pt x="1488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629400" y="2057400"/>
            <a:ext cx="1055520" cy="2662200"/>
            <a:chOff x="6629400" y="2057400"/>
            <a:chExt cx="1055520" cy="2662200"/>
          </a:xfrm>
        </p:grpSpPr>
        <p:grpSp>
          <p:nvGrpSpPr>
            <p:cNvPr id="171" name=""/>
            <p:cNvGrpSpPr/>
            <p:nvPr/>
          </p:nvGrpSpPr>
          <p:grpSpPr>
            <a:xfrm>
              <a:off x="6630840" y="2057400"/>
              <a:ext cx="1054080" cy="337320"/>
              <a:chOff x="6630840" y="2057400"/>
              <a:chExt cx="1054080" cy="337320"/>
            </a:xfrm>
          </p:grpSpPr>
          <p:sp>
            <p:nvSpPr>
              <p:cNvPr id="172" name=""/>
              <p:cNvSpPr/>
              <p:nvPr/>
            </p:nvSpPr>
            <p:spPr>
              <a:xfrm>
                <a:off x="6630840" y="2109600"/>
                <a:ext cx="1054080" cy="254160"/>
              </a:xfrm>
              <a:prstGeom prst="rect">
                <a:avLst/>
              </a:prstGeom>
              <a:solidFill>
                <a:srgbClr val="e1e1b7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81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63760" y="2057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629400" y="2392200"/>
              <a:ext cx="1052280" cy="2327400"/>
              <a:chOff x="6629400" y="2392200"/>
              <a:chExt cx="1052280" cy="2327400"/>
            </a:xfrm>
          </p:grpSpPr>
          <p:sp>
            <p:nvSpPr>
              <p:cNvPr id="175" name=""/>
              <p:cNvSpPr/>
              <p:nvPr/>
            </p:nvSpPr>
            <p:spPr>
              <a:xfrm>
                <a:off x="6629400" y="2392200"/>
                <a:ext cx="1052280" cy="225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0000"/>
                </a:solidFill>
                <a:miter/>
              </a:ln>
              <a:effectLst>
                <a:outerShdw dist="107932" dir="81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819120" y="2423880"/>
                <a:ext cx="669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Backgroun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629400" y="2617560"/>
                <a:ext cx="1052280" cy="223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0000"/>
                </a:solidFill>
                <a:miter/>
              </a:ln>
              <a:effectLst>
                <a:outerShdw dist="107932" dir="81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922440" y="2651040"/>
                <a:ext cx="466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Ratio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29400" y="2841480"/>
                <a:ext cx="1052280" cy="225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0000"/>
                </a:solidFill>
                <a:miter/>
              </a:ln>
              <a:effectLst>
                <a:outerShdw dist="107932" dir="81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894360" y="2876400"/>
                <a:ext cx="523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Objec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29400" y="3066840"/>
                <a:ext cx="105228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0000"/>
                </a:solidFill>
                <a:miter/>
              </a:ln>
              <a:effectLst>
                <a:outerShdw dist="107932" dir="81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775560" y="3062160"/>
                <a:ext cx="762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Mechanism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981480" y="3214440"/>
                <a:ext cx="34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esi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629400" y="3368520"/>
                <a:ext cx="1052280" cy="299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0000"/>
                </a:solidFill>
                <a:miter/>
              </a:ln>
              <a:effectLst>
                <a:outerShdw dist="107932" dir="81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805440" y="3362040"/>
                <a:ext cx="706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Performan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77080" y="3516120"/>
                <a:ext cx="556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ndicato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629400" y="3668400"/>
                <a:ext cx="1052280" cy="300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0000"/>
                </a:solidFill>
                <a:miter/>
              </a:ln>
              <a:effectLst>
                <a:outerShdw dist="107932" dir="81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881400" y="36622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Resour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18840" y="3816000"/>
                <a:ext cx="47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requir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629400" y="3968640"/>
                <a:ext cx="1052280" cy="299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0000"/>
                </a:solidFill>
                <a:miter/>
              </a:ln>
              <a:effectLst>
                <a:outerShdw dist="107932" dir="81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23720" y="3962160"/>
                <a:ext cx="86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mplement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910560" y="4116240"/>
                <a:ext cx="48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Schedu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629400" y="4268520"/>
                <a:ext cx="1052280" cy="225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0000"/>
                </a:solidFill>
                <a:miter/>
              </a:ln>
              <a:effectLst>
                <a:outerShdw dist="107932" dir="81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778800" y="4302000"/>
                <a:ext cx="747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Sustainabilit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629400" y="4493880"/>
                <a:ext cx="1052280" cy="225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c0000"/>
                </a:solidFill>
                <a:miter/>
              </a:ln>
              <a:effectLst>
                <a:outerShdw dist="107932" dir="81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01040" y="4527360"/>
                <a:ext cx="910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Person in charg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4343400" y="2514600"/>
            <a:ext cx="22096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2743200"/>
            <a:ext cx="2209680" cy="1523880"/>
          </a:xfrm>
          <a:custGeom>
            <a:avLst/>
            <a:gdLst/>
            <a:ahLst/>
            <a:rect l="l" t="t" r="r" b="b"/>
            <a:pathLst>
              <a:path w="1392" h="960">
                <a:moveTo>
                  <a:pt x="0" y="960"/>
                </a:moveTo>
                <a:lnTo>
                  <a:pt x="348" y="960"/>
                </a:lnTo>
                <a:lnTo>
                  <a:pt x="348" y="0"/>
                </a:lnTo>
                <a:lnTo>
                  <a:pt x="1392" y="0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1828800"/>
            <a:ext cx="7696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nguiat Bk BT"/>
              </a:rPr>
              <a:t>What</a:t>
            </a:r>
            <a:r>
              <a:rPr b="0" lang="en-US" sz="3200" spc="-1" strike="noStrike">
                <a:solidFill>
                  <a:srgbClr val="ff0000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</a:t>
            </a:r>
            <a:r>
              <a:rPr b="0" lang="en-US" sz="2000" spc="-1" strike="noStrike">
                <a:solidFill>
                  <a:srgbClr val="0000cc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a tujuan aktivita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a dampak aktivita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335268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nguiat Bk BT"/>
              </a:rPr>
              <a:t>Why</a:t>
            </a:r>
            <a:r>
              <a:rPr b="0" lang="en-US" sz="3200" spc="-1" strike="noStrike">
                <a:solidFill>
                  <a:srgbClr val="ff0000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</a:t>
            </a:r>
            <a:r>
              <a:rPr b="0" lang="en-US" sz="3200" spc="-1" strike="noStrike">
                <a:solidFill>
                  <a:srgbClr val="ff0000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gapa aktivitas ini diadaka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gapa aktivitas ini penting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480060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nguiat Bk BT"/>
              </a:rPr>
              <a:t>When</a:t>
            </a:r>
            <a:r>
              <a:rPr b="0" lang="en-US" sz="3200" spc="-1" strike="noStrike">
                <a:solidFill>
                  <a:srgbClr val="ff0000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</a:t>
            </a:r>
            <a:r>
              <a:rPr b="0" lang="en-US" sz="3200" spc="-1" strike="noStrike">
                <a:solidFill>
                  <a:srgbClr val="ff0000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pan aktivitas ini dimulai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pan aktivitas ini berakhi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Benguiat Bk BT"/>
              </a:rPr>
              <a:t>Penjabaran Aktivitas </a:t>
            </a:r>
            <a:br>
              <a:rPr sz="54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dari 3)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33520" y="190512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nguiat Bk BT"/>
              </a:rPr>
              <a:t>How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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gaimana aktivitas ini dimulai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gaimana sumberdaya dikerahk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34290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nguiat Bk BT"/>
              </a:rPr>
              <a:t>Whe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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mana (dalam struktur organisasi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aktivitas akan dilaksanakan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unit organisasi mana yang paling terlibat 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1814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nguiat Bk BT"/>
              </a:rPr>
              <a:t>Who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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apa yang berperan kunc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ey-act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alam aktivita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Benguiat Bk BT"/>
              </a:rPr>
              <a:t>Penjabaran Aktivitas </a:t>
            </a:r>
            <a:br>
              <a:rPr sz="54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dari 3)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2714760" y="3902040"/>
            <a:ext cx="1035000" cy="307080"/>
            <a:chOff x="2714760" y="3902040"/>
            <a:chExt cx="1035000" cy="307080"/>
          </a:xfrm>
        </p:grpSpPr>
        <p:sp>
          <p:nvSpPr>
            <p:cNvPr id="208" name=""/>
            <p:cNvSpPr/>
            <p:nvPr/>
          </p:nvSpPr>
          <p:spPr>
            <a:xfrm>
              <a:off x="2714760" y="3962520"/>
              <a:ext cx="1035000" cy="191880"/>
            </a:xfrm>
            <a:prstGeom prst="rect">
              <a:avLst/>
            </a:prstGeom>
            <a:solidFill>
              <a:srgbClr val="e1e1b7"/>
            </a:solidFill>
            <a:ln w="2844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40840" y="3902040"/>
              <a:ext cx="53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it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031200" y="5005440"/>
            <a:ext cx="1342080" cy="703800"/>
            <a:chOff x="3031200" y="5005440"/>
            <a:chExt cx="1342080" cy="703800"/>
          </a:xfrm>
        </p:grpSpPr>
        <p:sp>
          <p:nvSpPr>
            <p:cNvPr id="211" name=""/>
            <p:cNvSpPr/>
            <p:nvPr/>
          </p:nvSpPr>
          <p:spPr>
            <a:xfrm>
              <a:off x="3060360" y="5054400"/>
              <a:ext cx="1295640" cy="634680"/>
            </a:xfrm>
            <a:prstGeom prst="rect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31200" y="5005440"/>
              <a:ext cx="134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mprov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AISE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953080" y="3896280"/>
            <a:ext cx="2261160" cy="1204560"/>
            <a:chOff x="2953080" y="3896280"/>
            <a:chExt cx="2261160" cy="1204560"/>
          </a:xfrm>
        </p:grpSpPr>
        <p:sp>
          <p:nvSpPr>
            <p:cNvPr id="214" name=""/>
            <p:cNvSpPr/>
            <p:nvPr/>
          </p:nvSpPr>
          <p:spPr>
            <a:xfrm flipV="1" rot="10161000">
              <a:off x="3886560" y="4010040"/>
              <a:ext cx="1252080" cy="53820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 rot="10161000">
              <a:off x="3063240" y="4659840"/>
              <a:ext cx="648360" cy="38412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 rot="10161000">
              <a:off x="3714840" y="4670640"/>
              <a:ext cx="774720" cy="23904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 rot="10161000">
              <a:off x="3001680" y="4089600"/>
              <a:ext cx="2163600" cy="72972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953080" y="3896280"/>
            <a:ext cx="2261160" cy="1204560"/>
            <a:chOff x="2953080" y="3896280"/>
            <a:chExt cx="2261160" cy="1204560"/>
          </a:xfrm>
        </p:grpSpPr>
        <p:sp>
          <p:nvSpPr>
            <p:cNvPr id="219" name=""/>
            <p:cNvSpPr/>
            <p:nvPr/>
          </p:nvSpPr>
          <p:spPr>
            <a:xfrm flipV="1" rot="10161000">
              <a:off x="3886560" y="4010040"/>
              <a:ext cx="1252080" cy="53820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 rot="10161000">
              <a:off x="3063240" y="4659840"/>
              <a:ext cx="648360" cy="38412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 rot="10161000">
              <a:off x="3714840" y="4670640"/>
              <a:ext cx="774720" cy="23904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 rot="10161000">
              <a:off x="3001680" y="4089600"/>
              <a:ext cx="2163600" cy="72972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717560" y="646200"/>
            <a:ext cx="4892760" cy="3265560"/>
            <a:chOff x="1717560" y="646200"/>
            <a:chExt cx="4892760" cy="3265560"/>
          </a:xfrm>
        </p:grpSpPr>
        <p:sp>
          <p:nvSpPr>
            <p:cNvPr id="224" name=""/>
            <p:cNvSpPr/>
            <p:nvPr/>
          </p:nvSpPr>
          <p:spPr>
            <a:xfrm>
              <a:off x="1717560" y="1663560"/>
              <a:ext cx="4892760" cy="2248200"/>
            </a:xfrm>
            <a:custGeom>
              <a:avLst/>
              <a:gdLst/>
              <a:ahLst/>
              <a:rect l="l" t="t" r="r" b="b"/>
              <a:pathLst>
                <a:path w="3244" h="1436">
                  <a:moveTo>
                    <a:pt x="0" y="0"/>
                  </a:moveTo>
                  <a:lnTo>
                    <a:pt x="3244" y="0"/>
                  </a:lnTo>
                  <a:lnTo>
                    <a:pt x="3244" y="900"/>
                  </a:lnTo>
                  <a:lnTo>
                    <a:pt x="1864" y="900"/>
                  </a:lnTo>
                  <a:lnTo>
                    <a:pt x="1864" y="1436"/>
                  </a:lnTo>
                  <a:lnTo>
                    <a:pt x="0" y="1436"/>
                  </a:lnTo>
                  <a:lnTo>
                    <a:pt x="0" y="4"/>
                  </a:lnTo>
                </a:path>
              </a:pathLst>
            </a:custGeom>
            <a:solidFill>
              <a:srgbClr val="e1e1b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20800" y="1706400"/>
              <a:ext cx="133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enguiat Bk BT"/>
                </a:rPr>
                <a:t>Self-Eval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3514680" y="1998720"/>
              <a:ext cx="1050840" cy="809640"/>
              <a:chOff x="3514680" y="1998720"/>
              <a:chExt cx="1050840" cy="809640"/>
            </a:xfrm>
          </p:grpSpPr>
          <p:sp>
            <p:nvSpPr>
              <p:cNvPr id="227" name=""/>
              <p:cNvSpPr/>
              <p:nvPr/>
            </p:nvSpPr>
            <p:spPr>
              <a:xfrm>
                <a:off x="3514680" y="1998720"/>
                <a:ext cx="1050840" cy="80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3588840" y="2055960"/>
                <a:ext cx="896760" cy="720360"/>
                <a:chOff x="3588840" y="2055960"/>
                <a:chExt cx="896760" cy="7203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590280" y="2654280"/>
                  <a:ext cx="2664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588840" y="2055960"/>
                  <a:ext cx="8967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Situational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687120" y="2246400"/>
                  <a:ext cx="7002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(SWOT)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690720" y="2446200"/>
                  <a:ext cx="6926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Analysis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3" name=""/>
            <p:cNvGrpSpPr/>
            <p:nvPr/>
          </p:nvGrpSpPr>
          <p:grpSpPr>
            <a:xfrm>
              <a:off x="5030640" y="2103480"/>
              <a:ext cx="1276560" cy="600120"/>
              <a:chOff x="5030640" y="2103480"/>
              <a:chExt cx="1276560" cy="600120"/>
            </a:xfrm>
          </p:grpSpPr>
          <p:sp>
            <p:nvSpPr>
              <p:cNvPr id="234" name=""/>
              <p:cNvSpPr/>
              <p:nvPr/>
            </p:nvSpPr>
            <p:spPr>
              <a:xfrm>
                <a:off x="5030640" y="2103480"/>
                <a:ext cx="1276560" cy="600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5145480" y="2131920"/>
                <a:ext cx="1053720" cy="544320"/>
                <a:chOff x="5145480" y="2131920"/>
                <a:chExt cx="1053720" cy="5443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5162040" y="2131920"/>
                  <a:ext cx="10202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Directives &amp;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145480" y="2336760"/>
                  <a:ext cx="10537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Assumptions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291280" y="2554200"/>
                  <a:ext cx="745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(Ch II Session A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9" name=""/>
            <p:cNvGrpSpPr/>
            <p:nvPr/>
          </p:nvGrpSpPr>
          <p:grpSpPr>
            <a:xfrm>
              <a:off x="2629080" y="646200"/>
              <a:ext cx="1201680" cy="901440"/>
              <a:chOff x="2629080" y="646200"/>
              <a:chExt cx="1201680" cy="901440"/>
            </a:xfrm>
          </p:grpSpPr>
          <p:sp>
            <p:nvSpPr>
              <p:cNvPr id="240" name=""/>
              <p:cNvSpPr/>
              <p:nvPr/>
            </p:nvSpPr>
            <p:spPr>
              <a:xfrm>
                <a:off x="2629080" y="646200"/>
                <a:ext cx="1201680" cy="90144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629080" y="646200"/>
                <a:ext cx="1201680" cy="90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2731680" y="787320"/>
                <a:ext cx="992880" cy="611640"/>
                <a:chOff x="2731680" y="787320"/>
                <a:chExt cx="992880" cy="61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782800" y="787320"/>
                  <a:ext cx="8924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urr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731680" y="1093680"/>
                  <a:ext cx="992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ituat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5" name=""/>
            <p:cNvGrpSpPr/>
            <p:nvPr/>
          </p:nvGrpSpPr>
          <p:grpSpPr>
            <a:xfrm>
              <a:off x="1878120" y="1998720"/>
              <a:ext cx="1050840" cy="809640"/>
              <a:chOff x="1878120" y="1998720"/>
              <a:chExt cx="1050840" cy="809640"/>
            </a:xfrm>
          </p:grpSpPr>
          <p:sp>
            <p:nvSpPr>
              <p:cNvPr id="246" name=""/>
              <p:cNvSpPr/>
              <p:nvPr/>
            </p:nvSpPr>
            <p:spPr>
              <a:xfrm>
                <a:off x="1878120" y="1998720"/>
                <a:ext cx="1050840" cy="80964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878120" y="1998720"/>
                <a:ext cx="1050840" cy="80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1961280" y="2217600"/>
                <a:ext cx="776520" cy="353880"/>
                <a:chOff x="1961280" y="2217600"/>
                <a:chExt cx="776520" cy="35388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2077200" y="2217600"/>
                  <a:ext cx="660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Position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961280" y="2449440"/>
                  <a:ext cx="5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2538360" y="3274920"/>
              <a:ext cx="1292400" cy="451080"/>
              <a:chOff x="2538360" y="3274920"/>
              <a:chExt cx="1292400" cy="451080"/>
            </a:xfrm>
          </p:grpSpPr>
          <p:sp>
            <p:nvSpPr>
              <p:cNvPr id="252" name=""/>
              <p:cNvSpPr/>
              <p:nvPr/>
            </p:nvSpPr>
            <p:spPr>
              <a:xfrm>
                <a:off x="2538360" y="3274920"/>
                <a:ext cx="1292400" cy="45108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538360" y="3274920"/>
                <a:ext cx="1292400" cy="451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90640" y="3381480"/>
                <a:ext cx="989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Conclusion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3224160" y="1542960"/>
              <a:ext cx="809640" cy="443160"/>
            </a:xfrm>
            <a:custGeom>
              <a:avLst/>
              <a:gdLst/>
              <a:ahLst/>
              <a:rect l="l" t="t" r="r" b="b"/>
              <a:pathLst>
                <a:path w="510" h="279">
                  <a:moveTo>
                    <a:pt x="0" y="0"/>
                  </a:moveTo>
                  <a:lnTo>
                    <a:pt x="0" y="126"/>
                  </a:lnTo>
                  <a:lnTo>
                    <a:pt x="510" y="123"/>
                  </a:lnTo>
                  <a:lnTo>
                    <a:pt x="510" y="27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2409120" y="1542960"/>
              <a:ext cx="809640" cy="443160"/>
            </a:xfrm>
            <a:custGeom>
              <a:avLst/>
              <a:gdLst/>
              <a:ahLst/>
              <a:rect l="l" t="t" r="r" b="b"/>
              <a:pathLst>
                <a:path w="510" h="279">
                  <a:moveTo>
                    <a:pt x="0" y="0"/>
                  </a:moveTo>
                  <a:lnTo>
                    <a:pt x="0" y="126"/>
                  </a:lnTo>
                  <a:lnTo>
                    <a:pt x="510" y="123"/>
                  </a:lnTo>
                  <a:lnTo>
                    <a:pt x="510" y="27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43360" y="2409840"/>
              <a:ext cx="55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572000" y="23954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86000" y="2809800"/>
              <a:ext cx="854280" cy="466920"/>
            </a:xfrm>
            <a:custGeom>
              <a:avLst/>
              <a:gdLst/>
              <a:ahLst/>
              <a:rect l="l" t="t" r="r" b="b"/>
              <a:pathLst>
                <a:path w="538" h="294">
                  <a:moveTo>
                    <a:pt x="538" y="0"/>
                  </a:moveTo>
                  <a:lnTo>
                    <a:pt x="537" y="120"/>
                  </a:lnTo>
                  <a:lnTo>
                    <a:pt x="0" y="117"/>
                  </a:lnTo>
                  <a:lnTo>
                    <a:pt x="1" y="29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332800" y="2809800"/>
              <a:ext cx="854280" cy="466920"/>
            </a:xfrm>
            <a:custGeom>
              <a:avLst/>
              <a:gdLst/>
              <a:ahLst/>
              <a:rect l="l" t="t" r="r" b="b"/>
              <a:pathLst>
                <a:path w="538" h="294">
                  <a:moveTo>
                    <a:pt x="538" y="0"/>
                  </a:moveTo>
                  <a:lnTo>
                    <a:pt x="537" y="120"/>
                  </a:lnTo>
                  <a:lnTo>
                    <a:pt x="0" y="117"/>
                  </a:lnTo>
                  <a:lnTo>
                    <a:pt x="1" y="29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7508880" y="2143080"/>
            <a:ext cx="1052640" cy="455760"/>
            <a:chOff x="7508880" y="2143080"/>
            <a:chExt cx="1052640" cy="455760"/>
          </a:xfrm>
        </p:grpSpPr>
        <p:sp>
          <p:nvSpPr>
            <p:cNvPr id="262" name=""/>
            <p:cNvSpPr/>
            <p:nvPr/>
          </p:nvSpPr>
          <p:spPr>
            <a:xfrm>
              <a:off x="7508880" y="2147760"/>
              <a:ext cx="1052640" cy="4510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08880" y="2147760"/>
              <a:ext cx="1052640" cy="45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7703280" y="2143080"/>
              <a:ext cx="660600" cy="433440"/>
              <a:chOff x="7703280" y="2143080"/>
              <a:chExt cx="660600" cy="433440"/>
            </a:xfrm>
          </p:grpSpPr>
          <p:sp>
            <p:nvSpPr>
              <p:cNvPr id="265" name=""/>
              <p:cNvSpPr/>
              <p:nvPr/>
            </p:nvSpPr>
            <p:spPr>
              <a:xfrm>
                <a:off x="7754400" y="2143080"/>
                <a:ext cx="561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Futur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703280" y="2347920"/>
                <a:ext cx="660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Position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5068800" y="5676840"/>
            <a:ext cx="1201680" cy="451080"/>
            <a:chOff x="5068800" y="5676840"/>
            <a:chExt cx="1201680" cy="451080"/>
          </a:xfrm>
        </p:grpSpPr>
        <p:sp>
          <p:nvSpPr>
            <p:cNvPr id="268" name=""/>
            <p:cNvSpPr/>
            <p:nvPr/>
          </p:nvSpPr>
          <p:spPr>
            <a:xfrm>
              <a:off x="5068800" y="5676840"/>
              <a:ext cx="1201680" cy="45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5139720" y="5726160"/>
              <a:ext cx="946440" cy="353880"/>
              <a:chOff x="5139720" y="5726160"/>
              <a:chExt cx="946440" cy="353880"/>
            </a:xfrm>
          </p:grpSpPr>
          <p:sp>
            <p:nvSpPr>
              <p:cNvPr id="270" name=""/>
              <p:cNvSpPr/>
              <p:nvPr/>
            </p:nvSpPr>
            <p:spPr>
              <a:xfrm>
                <a:off x="5261040" y="5726160"/>
                <a:ext cx="825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Resource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39720" y="5958000"/>
                <a:ext cx="2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2" name=""/>
          <p:cNvGrpSpPr/>
          <p:nvPr/>
        </p:nvGrpSpPr>
        <p:grpSpPr>
          <a:xfrm>
            <a:off x="7434360" y="4430880"/>
            <a:ext cx="1201680" cy="660240"/>
            <a:chOff x="7434360" y="4430880"/>
            <a:chExt cx="1201680" cy="660240"/>
          </a:xfrm>
        </p:grpSpPr>
        <p:sp>
          <p:nvSpPr>
            <p:cNvPr id="273" name=""/>
            <p:cNvSpPr/>
            <p:nvPr/>
          </p:nvSpPr>
          <p:spPr>
            <a:xfrm>
              <a:off x="7434360" y="4430880"/>
              <a:ext cx="1201680" cy="66024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34360" y="4430880"/>
              <a:ext cx="1201680" cy="660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7503480" y="4465800"/>
              <a:ext cx="1056960" cy="541080"/>
              <a:chOff x="7503480" y="4465800"/>
              <a:chExt cx="1056960" cy="541080"/>
            </a:xfrm>
          </p:grpSpPr>
          <p:sp>
            <p:nvSpPr>
              <p:cNvPr id="276" name=""/>
              <p:cNvSpPr/>
              <p:nvPr/>
            </p:nvSpPr>
            <p:spPr>
              <a:xfrm>
                <a:off x="7503480" y="4465800"/>
                <a:ext cx="10569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Performanc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611840" y="4653000"/>
                <a:ext cx="840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Indicator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673400" y="4884840"/>
                <a:ext cx="2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9" name=""/>
          <p:cNvGrpSpPr/>
          <p:nvPr/>
        </p:nvGrpSpPr>
        <p:grpSpPr>
          <a:xfrm>
            <a:off x="7508880" y="3274920"/>
            <a:ext cx="1052640" cy="451080"/>
            <a:chOff x="7508880" y="3274920"/>
            <a:chExt cx="1052640" cy="451080"/>
          </a:xfrm>
        </p:grpSpPr>
        <p:sp>
          <p:nvSpPr>
            <p:cNvPr id="280" name=""/>
            <p:cNvSpPr/>
            <p:nvPr/>
          </p:nvSpPr>
          <p:spPr>
            <a:xfrm>
              <a:off x="7508880" y="3274920"/>
              <a:ext cx="1052640" cy="45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7597800" y="3313080"/>
              <a:ext cx="858600" cy="353880"/>
              <a:chOff x="7597800" y="3313080"/>
              <a:chExt cx="858600" cy="353880"/>
            </a:xfrm>
          </p:grpSpPr>
          <p:sp>
            <p:nvSpPr>
              <p:cNvPr id="282" name=""/>
              <p:cNvSpPr/>
              <p:nvPr/>
            </p:nvSpPr>
            <p:spPr>
              <a:xfrm>
                <a:off x="7597800" y="3313080"/>
                <a:ext cx="85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Objective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68720" y="3544920"/>
                <a:ext cx="2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" name=""/>
          <p:cNvGrpSpPr/>
          <p:nvPr/>
        </p:nvGrpSpPr>
        <p:grpSpPr>
          <a:xfrm>
            <a:off x="5106960" y="3198960"/>
            <a:ext cx="1125720" cy="601560"/>
            <a:chOff x="5106960" y="3198960"/>
            <a:chExt cx="1125720" cy="601560"/>
          </a:xfrm>
        </p:grpSpPr>
        <p:sp>
          <p:nvSpPr>
            <p:cNvPr id="285" name=""/>
            <p:cNvSpPr/>
            <p:nvPr/>
          </p:nvSpPr>
          <p:spPr>
            <a:xfrm>
              <a:off x="5106960" y="3198960"/>
              <a:ext cx="1125720" cy="60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313240" y="3232080"/>
              <a:ext cx="732240" cy="541080"/>
              <a:chOff x="5313240" y="3232080"/>
              <a:chExt cx="732240" cy="541080"/>
            </a:xfrm>
          </p:grpSpPr>
          <p:sp>
            <p:nvSpPr>
              <p:cNvPr id="287" name=""/>
              <p:cNvSpPr/>
              <p:nvPr/>
            </p:nvSpPr>
            <p:spPr>
              <a:xfrm>
                <a:off x="5313240" y="3232080"/>
                <a:ext cx="732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Strategi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14760" y="3432240"/>
                <a:ext cx="4899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Issue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320800" y="3651120"/>
                <a:ext cx="2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" name=""/>
          <p:cNvSpPr/>
          <p:nvPr/>
        </p:nvSpPr>
        <p:spPr>
          <a:xfrm>
            <a:off x="3757680" y="4167360"/>
            <a:ext cx="1276200" cy="2328840"/>
          </a:xfrm>
          <a:custGeom>
            <a:avLst/>
            <a:gdLst/>
            <a:ahLst/>
            <a:rect l="l" t="t" r="r" b="b"/>
            <a:pathLst>
              <a:path w="804" h="1467">
                <a:moveTo>
                  <a:pt x="0" y="0"/>
                </a:moveTo>
                <a:lnTo>
                  <a:pt x="801" y="93"/>
                </a:lnTo>
                <a:lnTo>
                  <a:pt x="804" y="663"/>
                </a:lnTo>
                <a:lnTo>
                  <a:pt x="3" y="146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e1e1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7434360" y="646200"/>
            <a:ext cx="1201680" cy="901440"/>
            <a:chOff x="7434360" y="646200"/>
            <a:chExt cx="1201680" cy="901440"/>
          </a:xfrm>
        </p:grpSpPr>
        <p:sp>
          <p:nvSpPr>
            <p:cNvPr id="292" name=""/>
            <p:cNvSpPr/>
            <p:nvPr/>
          </p:nvSpPr>
          <p:spPr>
            <a:xfrm>
              <a:off x="7434360" y="646200"/>
              <a:ext cx="1201680" cy="90144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34360" y="646200"/>
              <a:ext cx="1201680" cy="90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7535520" y="787320"/>
              <a:ext cx="992880" cy="611640"/>
              <a:chOff x="7535520" y="787320"/>
              <a:chExt cx="992880" cy="611640"/>
            </a:xfrm>
          </p:grpSpPr>
          <p:sp>
            <p:nvSpPr>
              <p:cNvPr id="295" name=""/>
              <p:cNvSpPr/>
              <p:nvPr/>
            </p:nvSpPr>
            <p:spPr>
              <a:xfrm>
                <a:off x="7659720" y="787320"/>
                <a:ext cx="750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ut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535520" y="1093680"/>
                <a:ext cx="992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itu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2703600" y="4168800"/>
            <a:ext cx="1052280" cy="2327400"/>
            <a:chOff x="2703600" y="4168800"/>
            <a:chExt cx="1052280" cy="2327400"/>
          </a:xfrm>
        </p:grpSpPr>
        <p:sp>
          <p:nvSpPr>
            <p:cNvPr id="298" name=""/>
            <p:cNvSpPr/>
            <p:nvPr/>
          </p:nvSpPr>
          <p:spPr>
            <a:xfrm>
              <a:off x="2703600" y="4168800"/>
              <a:ext cx="1052280" cy="22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0000"/>
              </a:solidFill>
              <a:miter/>
            </a:ln>
            <a:effectLst>
              <a:outerShdw dist="107932" dir="8100000" blurRad="0" rotWithShape="0">
                <a:srgbClr val="ff7c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93320" y="4200480"/>
              <a:ext cx="66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ackgrou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03600" y="4394160"/>
              <a:ext cx="1052280" cy="223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0000"/>
              </a:solidFill>
              <a:miter/>
            </a:ln>
            <a:effectLst>
              <a:outerShdw dist="107932" dir="8100000" blurRad="0" rotWithShape="0">
                <a:srgbClr val="ff7c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996640" y="4427640"/>
              <a:ext cx="46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ati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03600" y="4618080"/>
              <a:ext cx="1052280" cy="22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0000"/>
              </a:solidFill>
              <a:miter/>
            </a:ln>
            <a:effectLst>
              <a:outerShdw dist="107932" dir="8100000" blurRad="0" rotWithShape="0">
                <a:srgbClr val="ff7c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68560" y="4653000"/>
              <a:ext cx="52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Object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03600" y="4843440"/>
              <a:ext cx="1052280" cy="30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0000"/>
              </a:solidFill>
              <a:miter/>
            </a:ln>
            <a:effectLst>
              <a:outerShdw dist="107932" dir="8100000" blurRad="0" rotWithShape="0">
                <a:srgbClr val="ff7c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49760" y="4838760"/>
              <a:ext cx="762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echanism &amp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055680" y="499104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esig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03600" y="5145120"/>
              <a:ext cx="1052280" cy="299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0000"/>
              </a:solidFill>
              <a:miter/>
            </a:ln>
            <a:effectLst>
              <a:outerShdw dist="107932" dir="8100000" blurRad="0" rotWithShape="0">
                <a:srgbClr val="ff7c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79640" y="5138640"/>
              <a:ext cx="70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erforma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51280" y="5292720"/>
              <a:ext cx="55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Indica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03600" y="5445000"/>
              <a:ext cx="1052280" cy="300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0000"/>
              </a:solidFill>
              <a:miter/>
            </a:ln>
            <a:effectLst>
              <a:outerShdw dist="107932" dir="8100000" blurRad="0" rotWithShape="0">
                <a:srgbClr val="ff7c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55600" y="5438880"/>
              <a:ext cx="54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sour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93040" y="559260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equir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3600" y="5745240"/>
              <a:ext cx="1052280" cy="299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0000"/>
              </a:solidFill>
              <a:miter/>
            </a:ln>
            <a:effectLst>
              <a:outerShdw dist="107932" dir="8100000" blurRad="0" rotWithShape="0">
                <a:srgbClr val="ff7c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97920" y="5738760"/>
              <a:ext cx="86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84760" y="5892840"/>
              <a:ext cx="48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03600" y="6045120"/>
              <a:ext cx="1052280" cy="22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0000"/>
              </a:solidFill>
              <a:miter/>
            </a:ln>
            <a:effectLst>
              <a:outerShdw dist="107932" dir="8100000" blurRad="0" rotWithShape="0">
                <a:srgbClr val="ff7c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53000" y="6078600"/>
              <a:ext cx="74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ustainabi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03600" y="6270480"/>
              <a:ext cx="1052280" cy="22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0000"/>
              </a:solidFill>
              <a:miter/>
            </a:ln>
            <a:effectLst>
              <a:outerShdw dist="107932" dir="8100000" blurRad="0" rotWithShape="0">
                <a:srgbClr val="ff7c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75240" y="6303960"/>
              <a:ext cx="91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erson in char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834240" y="5602320"/>
            <a:ext cx="1201680" cy="901800"/>
            <a:chOff x="6834240" y="5602320"/>
            <a:chExt cx="1201680" cy="901800"/>
          </a:xfrm>
        </p:grpSpPr>
        <p:sp>
          <p:nvSpPr>
            <p:cNvPr id="321" name=""/>
            <p:cNvSpPr/>
            <p:nvPr/>
          </p:nvSpPr>
          <p:spPr>
            <a:xfrm>
              <a:off x="6834240" y="5602320"/>
              <a:ext cx="1201680" cy="2998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34240" y="5602320"/>
              <a:ext cx="1201680" cy="299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34240" y="5902200"/>
              <a:ext cx="1201680" cy="30024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34240" y="5902200"/>
              <a:ext cx="1201680" cy="300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34240" y="6202440"/>
              <a:ext cx="1201680" cy="301680"/>
            </a:xfrm>
            <a:prstGeom prst="rect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34240" y="6202440"/>
              <a:ext cx="1201680" cy="30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6877800" y="5654520"/>
              <a:ext cx="1055520" cy="789480"/>
              <a:chOff x="6877800" y="5654520"/>
              <a:chExt cx="1055520" cy="789480"/>
            </a:xfrm>
          </p:grpSpPr>
          <p:sp>
            <p:nvSpPr>
              <p:cNvPr id="328" name=""/>
              <p:cNvSpPr/>
              <p:nvPr/>
            </p:nvSpPr>
            <p:spPr>
              <a:xfrm>
                <a:off x="6877800" y="5654520"/>
                <a:ext cx="73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ro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958800" y="5959440"/>
                <a:ext cx="974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RK/DIP/DI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215120" y="6261120"/>
                <a:ext cx="448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1143000" y="4305240"/>
            <a:ext cx="826920" cy="300240"/>
            <a:chOff x="1143000" y="4305240"/>
            <a:chExt cx="826920" cy="300240"/>
          </a:xfrm>
        </p:grpSpPr>
        <p:sp>
          <p:nvSpPr>
            <p:cNvPr id="332" name=""/>
            <p:cNvSpPr/>
            <p:nvPr/>
          </p:nvSpPr>
          <p:spPr>
            <a:xfrm>
              <a:off x="1143000" y="4305240"/>
              <a:ext cx="826920" cy="300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0000"/>
              </a:solidFill>
              <a:miter/>
            </a:ln>
            <a:effectLst>
              <a:outerShdw dist="107932" dir="2700000" blurRad="0" rotWithShape="0">
                <a:srgbClr val="ff7c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05640" y="4376880"/>
              <a:ext cx="64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F Analys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4038480" y="685800"/>
            <a:ext cx="3276720" cy="762120"/>
          </a:xfrm>
          <a:custGeom>
            <a:avLst/>
            <a:gdLst>
              <a:gd name="textAreaLeft" fmla="*/ 511920 w 3276720"/>
              <a:gd name="textAreaRight" fmla="*/ 3044160 w 3276720"/>
              <a:gd name="textAreaTop" fmla="*/ 198360 h 762120"/>
              <a:gd name="textAreaBottom" fmla="*/ 56376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625"/>
                </a:moveTo>
                <a:lnTo>
                  <a:pt x="18398" y="5625"/>
                </a:lnTo>
                <a:lnTo>
                  <a:pt x="18398" y="0"/>
                </a:lnTo>
                <a:lnTo>
                  <a:pt x="21600" y="10800"/>
                </a:lnTo>
                <a:lnTo>
                  <a:pt x="18398" y="21600"/>
                </a:lnTo>
                <a:lnTo>
                  <a:pt x="18398" y="15975"/>
                </a:lnTo>
                <a:lnTo>
                  <a:pt x="3375" y="15975"/>
                </a:lnTo>
                <a:close/>
              </a:path>
              <a:path w="21600" h="21600">
                <a:moveTo>
                  <a:pt x="0" y="5625"/>
                </a:moveTo>
                <a:lnTo>
                  <a:pt x="675" y="5625"/>
                </a:lnTo>
                <a:lnTo>
                  <a:pt x="675" y="15975"/>
                </a:lnTo>
                <a:lnTo>
                  <a:pt x="0" y="15975"/>
                </a:lnTo>
                <a:close/>
              </a:path>
              <a:path w="21600" h="21600">
                <a:moveTo>
                  <a:pt x="1350" y="5625"/>
                </a:moveTo>
                <a:lnTo>
                  <a:pt x="2700" y="5625"/>
                </a:lnTo>
                <a:lnTo>
                  <a:pt x="2700" y="15975"/>
                </a:lnTo>
                <a:lnTo>
                  <a:pt x="1350" y="15975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24280" y="3505320"/>
            <a:ext cx="12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248520" y="3505320"/>
            <a:ext cx="124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039160" y="2595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48520" y="3724200"/>
            <a:ext cx="0" cy="695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00720" y="5748480"/>
            <a:ext cx="533520" cy="4680"/>
          </a:xfrm>
          <a:custGeom>
            <a:avLst/>
            <a:gdLst/>
            <a:ahLst/>
            <a:rect l="l" t="t" r="r" b="b"/>
            <a:pathLst>
              <a:path w="336" h="3">
                <a:moveTo>
                  <a:pt x="0" y="3"/>
                </a:moveTo>
                <a:lnTo>
                  <a:pt x="171" y="0"/>
                </a:lnTo>
                <a:lnTo>
                  <a:pt x="336" y="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5891040"/>
            <a:ext cx="519120" cy="171720"/>
          </a:xfrm>
          <a:custGeom>
            <a:avLst/>
            <a:gdLst/>
            <a:ahLst/>
            <a:rect l="l" t="t" r="r" b="b"/>
            <a:pathLst>
              <a:path w="327" h="108">
                <a:moveTo>
                  <a:pt x="0" y="3"/>
                </a:moveTo>
                <a:lnTo>
                  <a:pt x="216" y="0"/>
                </a:lnTo>
                <a:lnTo>
                  <a:pt x="216" y="108"/>
                </a:lnTo>
                <a:lnTo>
                  <a:pt x="327" y="10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10440" y="6039000"/>
            <a:ext cx="514080" cy="314280"/>
          </a:xfrm>
          <a:custGeom>
            <a:avLst/>
            <a:gdLst/>
            <a:ahLst/>
            <a:rect l="l" t="t" r="r" b="b"/>
            <a:pathLst>
              <a:path w="324" h="198">
                <a:moveTo>
                  <a:pt x="0" y="0"/>
                </a:moveTo>
                <a:lnTo>
                  <a:pt x="159" y="6"/>
                </a:lnTo>
                <a:lnTo>
                  <a:pt x="159" y="198"/>
                </a:lnTo>
                <a:lnTo>
                  <a:pt x="324" y="19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73520" y="3919680"/>
            <a:ext cx="355680" cy="357120"/>
          </a:xfrm>
          <a:custGeom>
            <a:avLst/>
            <a:gdLst/>
            <a:ahLst/>
            <a:rect l="l" t="t" r="r" b="b"/>
            <a:pathLst>
              <a:path w="224" h="225">
                <a:moveTo>
                  <a:pt x="224" y="0"/>
                </a:moveTo>
                <a:lnTo>
                  <a:pt x="224" y="225"/>
                </a:lnTo>
                <a:lnTo>
                  <a:pt x="0" y="225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1967040" y="4443120"/>
            <a:ext cx="733320" cy="46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57280" y="4562640"/>
            <a:ext cx="347760" cy="366480"/>
          </a:xfrm>
          <a:custGeom>
            <a:avLst/>
            <a:gdLst/>
            <a:ahLst/>
            <a:rect l="l" t="t" r="r" b="b"/>
            <a:pathLst>
              <a:path w="219" h="231">
                <a:moveTo>
                  <a:pt x="219" y="3"/>
                </a:moveTo>
                <a:lnTo>
                  <a:pt x="0" y="0"/>
                </a:lnTo>
                <a:lnTo>
                  <a:pt x="0" y="231"/>
                </a:lnTo>
                <a:lnTo>
                  <a:pt x="219" y="231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76560" y="5024520"/>
            <a:ext cx="519120" cy="890640"/>
          </a:xfrm>
          <a:custGeom>
            <a:avLst/>
            <a:gdLst/>
            <a:ahLst/>
            <a:rect l="l" t="t" r="r" b="b"/>
            <a:pathLst>
              <a:path w="222" h="522">
                <a:moveTo>
                  <a:pt x="222" y="3"/>
                </a:moveTo>
                <a:lnTo>
                  <a:pt x="0" y="0"/>
                </a:lnTo>
                <a:lnTo>
                  <a:pt x="0" y="522"/>
                </a:lnTo>
                <a:lnTo>
                  <a:pt x="219" y="522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76760" y="5586480"/>
            <a:ext cx="1271520" cy="309600"/>
          </a:xfrm>
          <a:custGeom>
            <a:avLst/>
            <a:gdLst/>
            <a:ahLst/>
            <a:rect l="l" t="t" r="r" b="b"/>
            <a:pathLst>
              <a:path w="801" h="195">
                <a:moveTo>
                  <a:pt x="0" y="3"/>
                </a:moveTo>
                <a:lnTo>
                  <a:pt x="429" y="0"/>
                </a:lnTo>
                <a:lnTo>
                  <a:pt x="429" y="192"/>
                </a:lnTo>
                <a:lnTo>
                  <a:pt x="801" y="195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72080" y="5097600"/>
            <a:ext cx="4300200" cy="322200"/>
          </a:xfrm>
          <a:custGeom>
            <a:avLst/>
            <a:gdLst/>
            <a:ahLst/>
            <a:rect l="l" t="t" r="r" b="b"/>
            <a:pathLst>
              <a:path w="2709" h="203">
                <a:moveTo>
                  <a:pt x="0" y="149"/>
                </a:moveTo>
                <a:lnTo>
                  <a:pt x="440" y="149"/>
                </a:lnTo>
                <a:lnTo>
                  <a:pt x="441" y="203"/>
                </a:lnTo>
                <a:lnTo>
                  <a:pt x="2709" y="200"/>
                </a:lnTo>
                <a:lnTo>
                  <a:pt x="2709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772080" y="3726000"/>
            <a:ext cx="3943080" cy="954000"/>
          </a:xfrm>
          <a:custGeom>
            <a:avLst/>
            <a:gdLst/>
            <a:ahLst/>
            <a:rect l="l" t="t" r="r" b="b"/>
            <a:pathLst>
              <a:path w="2484" h="601">
                <a:moveTo>
                  <a:pt x="0" y="601"/>
                </a:moveTo>
                <a:lnTo>
                  <a:pt x="600" y="597"/>
                </a:lnTo>
                <a:lnTo>
                  <a:pt x="597" y="182"/>
                </a:lnTo>
                <a:lnTo>
                  <a:pt x="2484" y="179"/>
                </a:lnTo>
                <a:lnTo>
                  <a:pt x="2484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030640" y="4309920"/>
            <a:ext cx="1276560" cy="901800"/>
            <a:chOff x="5030640" y="4309920"/>
            <a:chExt cx="1276560" cy="901800"/>
          </a:xfrm>
        </p:grpSpPr>
        <p:sp>
          <p:nvSpPr>
            <p:cNvPr id="350" name=""/>
            <p:cNvSpPr/>
            <p:nvPr/>
          </p:nvSpPr>
          <p:spPr>
            <a:xfrm>
              <a:off x="5030640" y="4309920"/>
              <a:ext cx="1276560" cy="90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5095800" y="4365720"/>
              <a:ext cx="1146600" cy="774360"/>
              <a:chOff x="5095800" y="4365720"/>
              <a:chExt cx="1146600" cy="774360"/>
            </a:xfrm>
          </p:grpSpPr>
          <p:sp>
            <p:nvSpPr>
              <p:cNvPr id="352" name=""/>
              <p:cNvSpPr/>
              <p:nvPr/>
            </p:nvSpPr>
            <p:spPr>
              <a:xfrm>
                <a:off x="5095800" y="4365720"/>
                <a:ext cx="1146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Implemention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266440" y="4581360"/>
                <a:ext cx="805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Program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221800" y="4786200"/>
                <a:ext cx="892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lang="en-US" sz="15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Activities</a:t>
                </a:r>
                <a:r>
                  <a:rPr b="1" lang="en-US" sz="15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268240" y="5018040"/>
                <a:ext cx="2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6" name=""/>
          <p:cNvSpPr/>
          <p:nvPr/>
        </p:nvSpPr>
        <p:spPr>
          <a:xfrm>
            <a:off x="5648400" y="5210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319800" y="4767120"/>
            <a:ext cx="1100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8640" y="5029200"/>
            <a:ext cx="157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enguiat Bk BT"/>
              </a:rPr>
              <a:t>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enguiat Bk BT"/>
              </a:rPr>
              <a:t>Proyek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Benguiat Bk B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enguiat Bk BT"/>
              </a:rPr>
              <a:t>Pion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38680" y="3809880"/>
            <a:ext cx="1800" cy="490680"/>
          </a:xfrm>
          <a:custGeom>
            <a:avLst/>
            <a:gdLst/>
            <a:ahLst/>
            <a:rect l="l" t="t" r="r" b="b"/>
            <a:pathLst>
              <a:path w="1" h="309">
                <a:moveTo>
                  <a:pt x="0" y="0"/>
                </a:moveTo>
                <a:lnTo>
                  <a:pt x="0" y="309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024760" y="1542960"/>
            <a:ext cx="1800" cy="590760"/>
          </a:xfrm>
          <a:custGeom>
            <a:avLst/>
            <a:gdLst/>
            <a:ahLst/>
            <a:rect l="l" t="t" r="r" b="b"/>
            <a:pathLst>
              <a:path w="1" h="372">
                <a:moveTo>
                  <a:pt x="0" y="0"/>
                </a:moveTo>
                <a:lnTo>
                  <a:pt x="1" y="3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760200" y="4797360"/>
            <a:ext cx="347400" cy="385920"/>
          </a:xfrm>
          <a:custGeom>
            <a:avLst/>
            <a:gdLst/>
            <a:ahLst/>
            <a:rect l="l" t="t" r="r" b="b"/>
            <a:pathLst>
              <a:path w="219" h="231">
                <a:moveTo>
                  <a:pt x="219" y="3"/>
                </a:moveTo>
                <a:lnTo>
                  <a:pt x="0" y="0"/>
                </a:lnTo>
                <a:lnTo>
                  <a:pt x="0" y="231"/>
                </a:lnTo>
                <a:lnTo>
                  <a:pt x="219" y="231"/>
                </a:lnTo>
              </a:path>
            </a:pathLst>
          </a:custGeom>
          <a:noFill/>
          <a:ln w="5724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38560" y="5086440"/>
            <a:ext cx="357120" cy="480960"/>
          </a:xfrm>
          <a:custGeom>
            <a:avLst/>
            <a:gdLst/>
            <a:ahLst/>
            <a:rect l="l" t="t" r="r" b="b"/>
            <a:pathLst>
              <a:path w="222" h="522">
                <a:moveTo>
                  <a:pt x="222" y="3"/>
                </a:moveTo>
                <a:lnTo>
                  <a:pt x="0" y="0"/>
                </a:lnTo>
                <a:lnTo>
                  <a:pt x="0" y="522"/>
                </a:lnTo>
                <a:lnTo>
                  <a:pt x="219" y="522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698280" y="2057400"/>
            <a:ext cx="3709080" cy="2936880"/>
            <a:chOff x="3698280" y="2057400"/>
            <a:chExt cx="3709080" cy="2936880"/>
          </a:xfrm>
        </p:grpSpPr>
        <p:sp>
          <p:nvSpPr>
            <p:cNvPr id="364" name=""/>
            <p:cNvSpPr/>
            <p:nvPr/>
          </p:nvSpPr>
          <p:spPr>
            <a:xfrm flipH="1" flipV="1" rot="14124000">
              <a:off x="4457520" y="2856960"/>
              <a:ext cx="838440" cy="2286000"/>
            </a:xfrm>
            <a:custGeom>
              <a:avLst/>
              <a:gdLst/>
              <a:ahLst/>
              <a:rect l="l" t="t" r="r" b="b"/>
              <a:pathLst>
                <a:path w="574" h="1792">
                  <a:moveTo>
                    <a:pt x="0" y="0"/>
                  </a:moveTo>
                  <a:cubicBezTo>
                    <a:pt x="264" y="152"/>
                    <a:pt x="386" y="277"/>
                    <a:pt x="480" y="576"/>
                  </a:cubicBezTo>
                  <a:cubicBezTo>
                    <a:pt x="574" y="875"/>
                    <a:pt x="568" y="1392"/>
                    <a:pt x="564" y="1792"/>
                  </a:cubicBezTo>
                </a:path>
              </a:pathLst>
            </a:custGeom>
            <a:noFill/>
            <a:ln w="76320">
              <a:solidFill>
                <a:srgbClr val="3366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4724280" y="2057400"/>
              <a:ext cx="2683080" cy="914400"/>
              <a:chOff x="4724280" y="2057400"/>
              <a:chExt cx="2683080" cy="914400"/>
            </a:xfrm>
          </p:grpSpPr>
          <p:sp>
            <p:nvSpPr>
              <p:cNvPr id="366" name=""/>
              <p:cNvSpPr/>
              <p:nvPr/>
            </p:nvSpPr>
            <p:spPr>
              <a:xfrm>
                <a:off x="4740120" y="2057400"/>
                <a:ext cx="2667240" cy="914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24280" y="2092320"/>
                <a:ext cx="2683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cc0000"/>
                    </a:solidFill>
                    <a:latin typeface="Arial"/>
                  </a:rPr>
                  <a:t>Performance Indicators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: merupakan </a:t>
                </a:r>
                <a:r>
                  <a:rPr b="1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quantification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dari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Obje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8" name=""/>
          <p:cNvSpPr/>
          <p:nvPr/>
        </p:nvSpPr>
        <p:spPr>
          <a:xfrm>
            <a:off x="990720" y="3657600"/>
            <a:ext cx="3733560" cy="3048120"/>
          </a:xfrm>
          <a:prstGeom prst="flowChartAlternateProcess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57400" y="2209680"/>
            <a:ext cx="1237320" cy="1542960"/>
            <a:chOff x="257400" y="2209680"/>
            <a:chExt cx="1237320" cy="1542960"/>
          </a:xfrm>
        </p:grpSpPr>
        <p:sp>
          <p:nvSpPr>
            <p:cNvPr id="370" name=""/>
            <p:cNvSpPr/>
            <p:nvPr/>
          </p:nvSpPr>
          <p:spPr>
            <a:xfrm>
              <a:off x="306720" y="2209680"/>
              <a:ext cx="11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ahap 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257400" y="2590920"/>
              <a:ext cx="1202040" cy="1161720"/>
              <a:chOff x="257400" y="2590920"/>
              <a:chExt cx="1202040" cy="1161720"/>
            </a:xfrm>
          </p:grpSpPr>
          <p:sp>
            <p:nvSpPr>
              <p:cNvPr id="372" name=""/>
              <p:cNvSpPr/>
              <p:nvPr/>
            </p:nvSpPr>
            <p:spPr>
              <a:xfrm rot="12097200">
                <a:off x="729720" y="3100680"/>
                <a:ext cx="572760" cy="563400"/>
              </a:xfrm>
              <a:custGeom>
                <a:avLst/>
                <a:gdLst/>
                <a:ahLst/>
                <a:rect l="l" t="t" r="r" b="b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2097200">
                <a:off x="488520" y="2631240"/>
                <a:ext cx="296640" cy="402480"/>
              </a:xfrm>
              <a:custGeom>
                <a:avLst/>
                <a:gdLst/>
                <a:ahLst/>
                <a:rect l="l" t="t" r="r" b="b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2097200">
                <a:off x="791280" y="2757960"/>
                <a:ext cx="354600" cy="250560"/>
              </a:xfrm>
              <a:custGeom>
                <a:avLst/>
                <a:gdLst/>
                <a:ahLst/>
                <a:rect l="l" t="t" r="r" b="b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2097200">
                <a:off x="363240" y="2833200"/>
                <a:ext cx="990000" cy="763920"/>
              </a:xfrm>
              <a:custGeom>
                <a:avLst/>
                <a:gdLst/>
                <a:ahLst/>
                <a:rect l="l" t="t" r="r" b="b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5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0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8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1920" y="1828440"/>
            <a:ext cx="3429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Benguiat Bk BT"/>
              </a:rPr>
              <a:t>Format Penjabaran Usulan Aktivitas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570560" cy="64771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 rot="130200">
            <a:off x="4340160" y="1981080"/>
            <a:ext cx="1830600" cy="909720"/>
          </a:xfrm>
          <a:custGeom>
            <a:avLst/>
            <a:gdLst/>
            <a:ahLst/>
            <a:rect l="l" t="t" r="r" b="b"/>
            <a:pathLst>
              <a:path w="1834" h="366">
                <a:moveTo>
                  <a:pt x="52" y="204"/>
                </a:moveTo>
                <a:cubicBezTo>
                  <a:pt x="183" y="137"/>
                  <a:pt x="430" y="48"/>
                  <a:pt x="772" y="24"/>
                </a:cubicBezTo>
                <a:cubicBezTo>
                  <a:pt x="1114" y="0"/>
                  <a:pt x="1516" y="48"/>
                  <a:pt x="1675" y="89"/>
                </a:cubicBezTo>
                <a:cubicBezTo>
                  <a:pt x="1834" y="130"/>
                  <a:pt x="1719" y="246"/>
                  <a:pt x="1478" y="284"/>
                </a:cubicBezTo>
                <a:cubicBezTo>
                  <a:pt x="1237" y="322"/>
                  <a:pt x="657" y="366"/>
                  <a:pt x="328" y="330"/>
                </a:cubicBezTo>
                <a:cubicBezTo>
                  <a:pt x="0" y="294"/>
                  <a:pt x="134" y="253"/>
                  <a:pt x="131" y="227"/>
                </a:cubicBezTo>
                <a:cubicBezTo>
                  <a:pt x="129" y="198"/>
                  <a:pt x="278" y="166"/>
                  <a:pt x="316" y="15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130200">
            <a:off x="4191120" y="3048120"/>
            <a:ext cx="1830240" cy="909360"/>
          </a:xfrm>
          <a:custGeom>
            <a:avLst/>
            <a:gdLst/>
            <a:ahLst/>
            <a:rect l="l" t="t" r="r" b="b"/>
            <a:pathLst>
              <a:path w="1834" h="366">
                <a:moveTo>
                  <a:pt x="52" y="204"/>
                </a:moveTo>
                <a:cubicBezTo>
                  <a:pt x="183" y="137"/>
                  <a:pt x="430" y="48"/>
                  <a:pt x="772" y="24"/>
                </a:cubicBezTo>
                <a:cubicBezTo>
                  <a:pt x="1114" y="0"/>
                  <a:pt x="1516" y="48"/>
                  <a:pt x="1675" y="89"/>
                </a:cubicBezTo>
                <a:cubicBezTo>
                  <a:pt x="1834" y="130"/>
                  <a:pt x="1719" y="246"/>
                  <a:pt x="1478" y="284"/>
                </a:cubicBezTo>
                <a:cubicBezTo>
                  <a:pt x="1237" y="322"/>
                  <a:pt x="657" y="366"/>
                  <a:pt x="328" y="330"/>
                </a:cubicBezTo>
                <a:cubicBezTo>
                  <a:pt x="0" y="294"/>
                  <a:pt x="134" y="253"/>
                  <a:pt x="131" y="227"/>
                </a:cubicBezTo>
                <a:cubicBezTo>
                  <a:pt x="129" y="198"/>
                  <a:pt x="278" y="166"/>
                  <a:pt x="316" y="15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7280" y="2438280"/>
            <a:ext cx="733680" cy="768600"/>
          </a:xfrm>
          <a:custGeom>
            <a:avLst/>
            <a:gdLst/>
            <a:ahLst/>
            <a:rect l="l" t="t" r="r" b="b"/>
            <a:pathLst>
              <a:path w="462" h="798">
                <a:moveTo>
                  <a:pt x="180" y="0"/>
                </a:moveTo>
                <a:cubicBezTo>
                  <a:pt x="462" y="432"/>
                  <a:pt x="216" y="630"/>
                  <a:pt x="0" y="79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130200">
            <a:off x="4267080" y="4191120"/>
            <a:ext cx="1830600" cy="909360"/>
          </a:xfrm>
          <a:custGeom>
            <a:avLst/>
            <a:gdLst/>
            <a:ahLst/>
            <a:rect l="l" t="t" r="r" b="b"/>
            <a:pathLst>
              <a:path w="1834" h="366">
                <a:moveTo>
                  <a:pt x="52" y="204"/>
                </a:moveTo>
                <a:cubicBezTo>
                  <a:pt x="183" y="137"/>
                  <a:pt x="430" y="48"/>
                  <a:pt x="772" y="24"/>
                </a:cubicBezTo>
                <a:cubicBezTo>
                  <a:pt x="1114" y="0"/>
                  <a:pt x="1516" y="48"/>
                  <a:pt x="1675" y="89"/>
                </a:cubicBezTo>
                <a:cubicBezTo>
                  <a:pt x="1834" y="130"/>
                  <a:pt x="1719" y="246"/>
                  <a:pt x="1478" y="284"/>
                </a:cubicBezTo>
                <a:cubicBezTo>
                  <a:pt x="1237" y="322"/>
                  <a:pt x="657" y="366"/>
                  <a:pt x="328" y="330"/>
                </a:cubicBezTo>
                <a:cubicBezTo>
                  <a:pt x="0" y="294"/>
                  <a:pt x="134" y="253"/>
                  <a:pt x="131" y="227"/>
                </a:cubicBezTo>
                <a:cubicBezTo>
                  <a:pt x="129" y="198"/>
                  <a:pt x="278" y="166"/>
                  <a:pt x="316" y="15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43600" y="3581280"/>
            <a:ext cx="660240" cy="743040"/>
          </a:xfrm>
          <a:custGeom>
            <a:avLst/>
            <a:gdLst/>
            <a:ahLst/>
            <a:rect l="l" t="t" r="r" b="b"/>
            <a:pathLst>
              <a:path w="416" h="468">
                <a:moveTo>
                  <a:pt x="6" y="0"/>
                </a:moveTo>
                <a:cubicBezTo>
                  <a:pt x="416" y="260"/>
                  <a:pt x="314" y="367"/>
                  <a:pt x="0" y="4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600200" y="1219320"/>
            <a:ext cx="457200" cy="4876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enguiat Bk BT"/>
              </a:rPr>
              <a:t>Menilai Usulan Aktivitas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00200" y="12193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nguiat Bk BT"/>
              </a:rPr>
              <a:t>T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ujua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                       - </a:t>
            </a:r>
            <a:r>
              <a:rPr b="0" lang="en-US" sz="2000" spc="-1" strike="noStrike">
                <a:solidFill>
                  <a:srgbClr val="ff0000"/>
                </a:solidFill>
                <a:latin typeface="Benguiat Bk BT"/>
              </a:rPr>
              <a:t>SP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00200" y="1905120"/>
            <a:ext cx="754380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nguiat Bk BT"/>
              </a:rPr>
              <a:t>I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mplementasi (Proses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Mobilisasi Sumberda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490a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490a8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emberdayaan Kemampu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Kejelasan Pr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enilaian, Pemantauan, Pengawa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00200" y="3276720"/>
            <a:ext cx="754380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nguiat Bk BT"/>
              </a:rPr>
              <a:t>K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eberlanjutan</a:t>
            </a: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tersediaan Rencana Keberlanjuta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Sustainability Pl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tegrasi hasil Proyek ke dalam kegiatan Progra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(rutin)    </a:t>
            </a:r>
            <a:r>
              <a:rPr b="0" lang="en-US" sz="16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Project – Program Integ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800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nguiat Bk BT"/>
              </a:rPr>
              <a:t>U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tility</a:t>
            </a: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Kegunaan kegiatan proyek bagi kegiatan program yang ad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00200" y="5562720"/>
            <a:ext cx="75438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nguiat Bk BT"/>
              </a:rPr>
              <a:t>S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umberdaya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Ketersediaan dan kesiapan manusia, dana dan peraturan</a:t>
            </a:r>
            <a:br>
              <a:rPr sz="2000"/>
            </a:b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99cc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m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mon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untuk pelaksanaan dan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berlanjutan kegiat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06:53:38Z</dcterms:created>
  <dc:creator>Iik Wilarso</dc:creator>
  <dc:description/>
  <dc:language>en-US</dc:language>
  <cp:lastModifiedBy>Jack la Motta</cp:lastModifiedBy>
  <cp:lastPrinted>2002-09-30T03:18:26Z</cp:lastPrinted>
  <dcterms:modified xsi:type="dcterms:W3CDTF">2003-10-04T23:43:34Z</dcterms:modified>
  <cp:revision>43</cp:revision>
  <dc:subject/>
  <dc:title>Teknis Penyusunan Proposal Penyusunan Laporan</dc:title>
</cp:coreProperties>
</file>