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B22-16D2-49B2-8498-6736A5A8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1F2-D530-49CA-A495-818ECC4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136-6AC4-4801-B7C6-4D37F184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D1E-9893-410D-B93D-F6444F28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9F6-77A2-4370-B28C-8C707631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0066-D449-48E5-A09D-0AEEAA49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D589-19EF-4E1C-8DED-2313E7CC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A022-8DC1-4154-BFE0-DAA3E2A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26C2-AD14-4A41-98DA-547B4311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39E8-2478-406F-A635-0EBBF951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12A1-0911-4FD6-9E9D-AB50484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A3A-EE0E-4FB3-AD0B-56D6BA1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6F3C-AC1D-4CE7-B72F-52B2954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8457-BBFC-4115-AEB0-5F12E1B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BAB7-E663-4E6E-8E9C-3FC482A4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5EA7-083B-464B-8CCA-DAC9F5C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E172-3D5B-464F-B159-8FE681A3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C92-B774-430B-A455-81199A9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987-B983-483A-BFEC-7F7A8F7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A59-006F-42A4-AB63-CA106E1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5B3-B1AB-4066-8357-790AAE7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40B-7437-4FF3-8E2C-A91CF42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E4E-2207-458C-B30D-A93E0CD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42C-BA67-4A9B-9ECC-9A6D1EE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52280" y="15228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61A3-8B14-4F9D-B2A2-C23B1ED47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1A0C-F7AE-40D0-B6EE-1AA73CA5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2960" y="9144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nguiat Bk BT"/>
              </a:rPr>
              <a:t>Tekn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Benguiat Bk BT"/>
              </a:rPr>
              <a:t>Penyusunan Proposal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Identifikasi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Benguiat Bk BT"/>
              </a:rPr>
              <a:t>Proposed Activiti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59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 2"/>
                <a:ea typeface="Wingdings 2"/>
              </a:rPr>
              <a:t>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etapa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Usulan Aktivitas </a:t>
            </a:r>
            <a:br>
              <a:rPr sz="5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 dari 5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cc"/>
                </a:solidFill>
                <a:latin typeface="Times New Roman"/>
              </a:rPr>
              <a:t>INVESTMENT-BASED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66cc"/>
                </a:solidFill>
                <a:latin typeface="Times New Roman"/>
              </a:rPr>
              <a:t>PROPO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us beruba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njad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UTCOME-BASED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INVESTA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dak bole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klaim sebaga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KTIV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nguiat Bk BT"/>
              </a:rPr>
              <a:t>INVESTMENT AND ACTIVITIES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1 dari 2)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735000" y="2362320"/>
            <a:ext cx="2360880" cy="2333880"/>
            <a:chOff x="3735000" y="2362320"/>
            <a:chExt cx="2360880" cy="2333880"/>
          </a:xfrm>
        </p:grpSpPr>
        <p:grpSp>
          <p:nvGrpSpPr>
            <p:cNvPr id="255" name=""/>
            <p:cNvGrpSpPr/>
            <p:nvPr/>
          </p:nvGrpSpPr>
          <p:grpSpPr>
            <a:xfrm>
              <a:off x="4343400" y="2362320"/>
              <a:ext cx="797040" cy="1066320"/>
              <a:chOff x="4343400" y="2362320"/>
              <a:chExt cx="797040" cy="1066320"/>
            </a:xfrm>
          </p:grpSpPr>
          <p:sp>
            <p:nvSpPr>
              <p:cNvPr id="256" name=""/>
              <p:cNvSpPr/>
              <p:nvPr/>
            </p:nvSpPr>
            <p:spPr>
              <a:xfrm>
                <a:off x="4715280" y="2594880"/>
                <a:ext cx="329760" cy="717840"/>
              </a:xfrm>
              <a:custGeom>
                <a:avLst/>
                <a:gdLst/>
                <a:ahLst/>
                <a:rect l="l" t="t" r="r" b="b"/>
                <a:pathLst>
                  <a:path w="1307" h="3010">
                    <a:moveTo>
                      <a:pt x="707" y="1346"/>
                    </a:moveTo>
                    <a:lnTo>
                      <a:pt x="707" y="2408"/>
                    </a:lnTo>
                    <a:lnTo>
                      <a:pt x="494" y="3010"/>
                    </a:lnTo>
                    <a:lnTo>
                      <a:pt x="1307" y="3010"/>
                    </a:lnTo>
                    <a:lnTo>
                      <a:pt x="1307" y="462"/>
                    </a:lnTo>
                    <a:lnTo>
                      <a:pt x="458" y="0"/>
                    </a:lnTo>
                    <a:lnTo>
                      <a:pt x="0" y="920"/>
                    </a:lnTo>
                    <a:lnTo>
                      <a:pt x="707" y="1346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402800" y="2903760"/>
                <a:ext cx="490320" cy="384480"/>
                <a:chOff x="4402800" y="2903760"/>
                <a:chExt cx="490320" cy="38448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4402800" y="2991960"/>
                  <a:ext cx="321120" cy="296280"/>
                  <a:chOff x="4402800" y="2991960"/>
                  <a:chExt cx="321120" cy="2962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4402800" y="2991960"/>
                    <a:ext cx="32112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1241">
                        <a:moveTo>
                          <a:pt x="42" y="574"/>
                        </a:moveTo>
                        <a:lnTo>
                          <a:pt x="669" y="889"/>
                        </a:lnTo>
                        <a:lnTo>
                          <a:pt x="635" y="956"/>
                        </a:lnTo>
                        <a:lnTo>
                          <a:pt x="740" y="1100"/>
                        </a:lnTo>
                        <a:lnTo>
                          <a:pt x="954" y="639"/>
                        </a:lnTo>
                        <a:lnTo>
                          <a:pt x="989" y="462"/>
                        </a:lnTo>
                        <a:lnTo>
                          <a:pt x="908" y="514"/>
                        </a:lnTo>
                        <a:lnTo>
                          <a:pt x="177" y="141"/>
                        </a:lnTo>
                        <a:lnTo>
                          <a:pt x="247" y="0"/>
                        </a:lnTo>
                        <a:lnTo>
                          <a:pt x="1095" y="390"/>
                        </a:lnTo>
                        <a:lnTo>
                          <a:pt x="1129" y="321"/>
                        </a:lnTo>
                        <a:lnTo>
                          <a:pt x="1270" y="390"/>
                        </a:lnTo>
                        <a:lnTo>
                          <a:pt x="1200" y="568"/>
                        </a:lnTo>
                        <a:lnTo>
                          <a:pt x="1023" y="709"/>
                        </a:lnTo>
                        <a:lnTo>
                          <a:pt x="774" y="1241"/>
                        </a:lnTo>
                        <a:lnTo>
                          <a:pt x="424" y="1030"/>
                        </a:lnTo>
                        <a:lnTo>
                          <a:pt x="0" y="673"/>
                        </a:lnTo>
                        <a:lnTo>
                          <a:pt x="42" y="57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405320" y="3128400"/>
                    <a:ext cx="16704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388">
                        <a:moveTo>
                          <a:pt x="32" y="0"/>
                        </a:moveTo>
                        <a:lnTo>
                          <a:pt x="661" y="317"/>
                        </a:lnTo>
                        <a:lnTo>
                          <a:pt x="625" y="388"/>
                        </a:lnTo>
                        <a:lnTo>
                          <a:pt x="0" y="7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4429440" y="2903760"/>
                  <a:ext cx="463680" cy="164520"/>
                  <a:chOff x="4429440" y="2903760"/>
                  <a:chExt cx="463680" cy="1645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429440" y="2903760"/>
                    <a:ext cx="46368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6" h="691">
                        <a:moveTo>
                          <a:pt x="80" y="0"/>
                        </a:moveTo>
                        <a:lnTo>
                          <a:pt x="1173" y="549"/>
                        </a:lnTo>
                        <a:lnTo>
                          <a:pt x="1836" y="549"/>
                        </a:lnTo>
                        <a:lnTo>
                          <a:pt x="1836" y="691"/>
                        </a:lnTo>
                        <a:lnTo>
                          <a:pt x="1042" y="691"/>
                        </a:lnTo>
                        <a:lnTo>
                          <a:pt x="0" y="159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438440" y="2933280"/>
                    <a:ext cx="271080" cy="12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4" name=""/>
                <p:cNvSpPr/>
                <p:nvPr/>
              </p:nvSpPr>
              <p:spPr>
                <a:xfrm>
                  <a:off x="4442400" y="2954160"/>
                  <a:ext cx="249840" cy="139320"/>
                </a:xfrm>
                <a:custGeom>
                  <a:avLst/>
                  <a:gdLst/>
                  <a:ahLst/>
                  <a:rect l="l" t="t" r="r" b="b"/>
                  <a:pathLst>
                    <a:path w="990" h="583">
                      <a:moveTo>
                        <a:pt x="54" y="0"/>
                      </a:moveTo>
                      <a:lnTo>
                        <a:pt x="0" y="113"/>
                      </a:lnTo>
                      <a:lnTo>
                        <a:pt x="938" y="583"/>
                      </a:lnTo>
                      <a:lnTo>
                        <a:pt x="990" y="468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545360" y="2362320"/>
                <a:ext cx="374400" cy="579960"/>
                <a:chOff x="4545360" y="2362320"/>
                <a:chExt cx="374400" cy="579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572000" y="2827440"/>
                  <a:ext cx="107280" cy="90000"/>
                </a:xfrm>
                <a:custGeom>
                  <a:avLst/>
                  <a:gdLst/>
                  <a:ahLst/>
                  <a:rect l="l" t="t" r="r" b="b"/>
                  <a:pathLst>
                    <a:path w="426" h="376">
                      <a:moveTo>
                        <a:pt x="105" y="0"/>
                      </a:moveTo>
                      <a:lnTo>
                        <a:pt x="0" y="213"/>
                      </a:lnTo>
                      <a:lnTo>
                        <a:pt x="326" y="376"/>
                      </a:lnTo>
                      <a:lnTo>
                        <a:pt x="426" y="177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4608000" y="2536200"/>
                  <a:ext cx="231840" cy="303840"/>
                  <a:chOff x="4608000" y="2536200"/>
                  <a:chExt cx="231840" cy="3038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608000" y="2536200"/>
                    <a:ext cx="23184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1275">
                        <a:moveTo>
                          <a:pt x="530" y="0"/>
                        </a:moveTo>
                        <a:lnTo>
                          <a:pt x="918" y="211"/>
                        </a:lnTo>
                        <a:lnTo>
                          <a:pt x="390" y="1275"/>
                        </a:lnTo>
                        <a:lnTo>
                          <a:pt x="0" y="1061"/>
                        </a:lnTo>
                        <a:lnTo>
                          <a:pt x="53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34640" y="2561400"/>
                    <a:ext cx="15084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1062">
                        <a:moveTo>
                          <a:pt x="529" y="0"/>
                        </a:moveTo>
                        <a:lnTo>
                          <a:pt x="0" y="1026"/>
                        </a:lnTo>
                        <a:lnTo>
                          <a:pt x="71" y="1062"/>
                        </a:lnTo>
                        <a:lnTo>
                          <a:pt x="597" y="40"/>
                        </a:lnTo>
                        <a:lnTo>
                          <a:pt x="529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4723920" y="2362320"/>
                  <a:ext cx="195840" cy="240840"/>
                  <a:chOff x="4723920" y="2362320"/>
                  <a:chExt cx="195840" cy="2408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4807800" y="2387520"/>
                    <a:ext cx="892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446">
                        <a:moveTo>
                          <a:pt x="179" y="0"/>
                        </a:moveTo>
                        <a:lnTo>
                          <a:pt x="0" y="327"/>
                        </a:lnTo>
                        <a:lnTo>
                          <a:pt x="205" y="446"/>
                        </a:lnTo>
                        <a:lnTo>
                          <a:pt x="354" y="88"/>
                        </a:lnTo>
                        <a:lnTo>
                          <a:pt x="17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770360" y="2491920"/>
                    <a:ext cx="781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255">
                        <a:moveTo>
                          <a:pt x="66" y="0"/>
                        </a:moveTo>
                        <a:lnTo>
                          <a:pt x="0" y="114"/>
                        </a:lnTo>
                        <a:lnTo>
                          <a:pt x="249" y="255"/>
                        </a:lnTo>
                        <a:lnTo>
                          <a:pt x="309" y="132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4723920" y="2502360"/>
                    <a:ext cx="141840" cy="100800"/>
                    <a:chOff x="4723920" y="2502360"/>
                    <a:chExt cx="141840" cy="1008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723920" y="2502360"/>
                      <a:ext cx="14184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4" h="425">
                          <a:moveTo>
                            <a:pt x="70" y="0"/>
                          </a:moveTo>
                          <a:lnTo>
                            <a:pt x="564" y="283"/>
                          </a:lnTo>
                          <a:lnTo>
                            <a:pt x="494" y="425"/>
                          </a:lnTo>
                          <a:lnTo>
                            <a:pt x="0" y="142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4730400" y="2505960"/>
                      <a:ext cx="129240" cy="94320"/>
                      <a:chOff x="4730400" y="2505960"/>
                      <a:chExt cx="129240" cy="9432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 flipH="1">
                        <a:off x="4730400" y="2505960"/>
                        <a:ext cx="1656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 flipH="1">
                        <a:off x="4745880" y="2513880"/>
                        <a:ext cx="18000" cy="33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flipH="1">
                        <a:off x="4842000" y="2567520"/>
                        <a:ext cx="1764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 flipH="1">
                        <a:off x="4736880" y="2509200"/>
                        <a:ext cx="176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 flipH="1">
                        <a:off x="4757040" y="2521080"/>
                        <a:ext cx="176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flipH="1">
                        <a:off x="4789080" y="2538000"/>
                        <a:ext cx="1692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4835520" y="2562480"/>
                        <a:ext cx="1692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flipH="1">
                        <a:off x="4826880" y="2558880"/>
                        <a:ext cx="1764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 flipH="1">
                        <a:off x="4817880" y="2553480"/>
                        <a:ext cx="1692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flipH="1">
                        <a:off x="4807080" y="2547000"/>
                        <a:ext cx="1692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 flipH="1">
                        <a:off x="4771800" y="2528280"/>
                        <a:ext cx="176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4768920" y="2452320"/>
                    <a:ext cx="115920" cy="84600"/>
                    <a:chOff x="4768920" y="2452320"/>
                    <a:chExt cx="115920" cy="846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768920" y="2452320"/>
                      <a:ext cx="11592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0" h="357">
                          <a:moveTo>
                            <a:pt x="0" y="138"/>
                          </a:moveTo>
                          <a:lnTo>
                            <a:pt x="385" y="357"/>
                          </a:lnTo>
                          <a:lnTo>
                            <a:pt x="460" y="213"/>
                          </a:lnTo>
                          <a:lnTo>
                            <a:pt x="68" y="0"/>
                          </a:lnTo>
                          <a:lnTo>
                            <a:pt x="0" y="13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4772880" y="2454120"/>
                      <a:ext cx="106560" cy="79920"/>
                      <a:chOff x="4772880" y="2454120"/>
                      <a:chExt cx="106560" cy="7992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 flipH="1">
                        <a:off x="4813200" y="2475360"/>
                        <a:ext cx="176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 flipH="1">
                        <a:off x="4777920" y="2457360"/>
                        <a:ext cx="1764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flipH="1">
                        <a:off x="4848120" y="2493360"/>
                        <a:ext cx="1692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 flipH="1">
                        <a:off x="4772880" y="2454120"/>
                        <a:ext cx="1692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 flipH="1">
                        <a:off x="4784400" y="2460240"/>
                        <a:ext cx="176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 flipH="1">
                        <a:off x="4802040" y="2469600"/>
                        <a:ext cx="17640" cy="32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 flipH="1">
                        <a:off x="4857840" y="2497680"/>
                        <a:ext cx="176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 flipH="1">
                        <a:off x="4861800" y="2500560"/>
                        <a:ext cx="17640" cy="33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 flipH="1">
                        <a:off x="4853160" y="2495880"/>
                        <a:ext cx="1800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 flipH="1">
                        <a:off x="4842360" y="2489760"/>
                        <a:ext cx="1656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 flipH="1">
                        <a:off x="4792320" y="2463840"/>
                        <a:ext cx="17640" cy="33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 flipH="1">
                        <a:off x="4825800" y="2481120"/>
                        <a:ext cx="16920" cy="33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 flipH="1">
                        <a:off x="4834080" y="2486160"/>
                        <a:ext cx="1692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4842000" y="2362320"/>
                    <a:ext cx="77760" cy="52560"/>
                    <a:chOff x="4842000" y="2362320"/>
                    <a:chExt cx="77760" cy="525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4842000" y="2362320"/>
                      <a:ext cx="777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219">
                          <a:moveTo>
                            <a:pt x="0" y="85"/>
                          </a:moveTo>
                          <a:lnTo>
                            <a:pt x="263" y="219"/>
                          </a:lnTo>
                          <a:lnTo>
                            <a:pt x="309" y="131"/>
                          </a:lnTo>
                          <a:lnTo>
                            <a:pt x="42" y="0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4843800" y="2363040"/>
                      <a:ext cx="72000" cy="49680"/>
                      <a:chOff x="4843800" y="2363040"/>
                      <a:chExt cx="72000" cy="4968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 flipH="1">
                        <a:off x="4843800" y="2363040"/>
                        <a:ext cx="10080" cy="20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 flipH="1">
                        <a:off x="4905360" y="2392920"/>
                        <a:ext cx="1044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 flipH="1">
                        <a:off x="4846320" y="2364480"/>
                        <a:ext cx="1008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 flipH="1">
                        <a:off x="4902840" y="2391120"/>
                        <a:ext cx="1080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 flipH="1">
                        <a:off x="4848840" y="2365920"/>
                        <a:ext cx="1044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4852440" y="2367720"/>
                        <a:ext cx="1044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 flipH="1">
                        <a:off x="4899960" y="2389680"/>
                        <a:ext cx="10800" cy="1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 flipH="1">
                        <a:off x="4895640" y="2387880"/>
                        <a:ext cx="1080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 flipH="1">
                        <a:off x="4856760" y="2369520"/>
                        <a:ext cx="1152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 flipH="1">
                        <a:off x="4890600" y="2385360"/>
                        <a:ext cx="1152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 flipH="1">
                        <a:off x="4862160" y="2372040"/>
                        <a:ext cx="1044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 flipH="1">
                        <a:off x="4885200" y="2383200"/>
                        <a:ext cx="1080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 flipH="1">
                        <a:off x="4869360" y="2375280"/>
                        <a:ext cx="1008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 flipH="1">
                        <a:off x="4876920" y="2379240"/>
                        <a:ext cx="10800" cy="1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4545360" y="2870280"/>
                  <a:ext cx="126720" cy="72000"/>
                  <a:chOff x="4545360" y="2870280"/>
                  <a:chExt cx="126720" cy="72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4545360" y="2870280"/>
                    <a:ext cx="1267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03">
                        <a:moveTo>
                          <a:pt x="36" y="0"/>
                        </a:moveTo>
                        <a:lnTo>
                          <a:pt x="502" y="235"/>
                        </a:lnTo>
                        <a:lnTo>
                          <a:pt x="468" y="303"/>
                        </a:lnTo>
                        <a:lnTo>
                          <a:pt x="0" y="70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550040" y="2872800"/>
                    <a:ext cx="117720" cy="66960"/>
                    <a:chOff x="4550040" y="2872800"/>
                    <a:chExt cx="117720" cy="669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>
                      <a:off x="4550040" y="2872800"/>
                      <a:ext cx="828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>
                      <a:off x="4555440" y="2874960"/>
                      <a:ext cx="7920" cy="15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>
                      <a:off x="4660200" y="2924280"/>
                      <a:ext cx="7560" cy="15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4560120" y="2877120"/>
                      <a:ext cx="828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>
                      <a:off x="4566960" y="2880720"/>
                      <a:ext cx="828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>
                      <a:off x="4576680" y="2885040"/>
                      <a:ext cx="828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>
                      <a:off x="4587840" y="2889360"/>
                      <a:ext cx="792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>
                      <a:off x="4596840" y="2894400"/>
                      <a:ext cx="8280" cy="15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>
                      <a:off x="4656240" y="2922840"/>
                      <a:ext cx="8280" cy="15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>
                      <a:off x="4650480" y="2920680"/>
                      <a:ext cx="8280" cy="15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>
                      <a:off x="4646520" y="2918160"/>
                      <a:ext cx="828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>
                      <a:off x="4641840" y="2915640"/>
                      <a:ext cx="792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>
                      <a:off x="4635720" y="2912400"/>
                      <a:ext cx="7920" cy="15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>
                      <a:off x="4626720" y="2909160"/>
                      <a:ext cx="8280" cy="15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>
                      <a:off x="4617720" y="2903760"/>
                      <a:ext cx="828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>
                      <a:off x="4607640" y="2899080"/>
                      <a:ext cx="7920" cy="1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4572000" y="2781000"/>
                  <a:ext cx="151560" cy="102960"/>
                  <a:chOff x="4572000" y="2781000"/>
                  <a:chExt cx="151560" cy="1029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572000" y="2781000"/>
                    <a:ext cx="1515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432">
                        <a:moveTo>
                          <a:pt x="71" y="0"/>
                        </a:moveTo>
                        <a:lnTo>
                          <a:pt x="599" y="288"/>
                        </a:lnTo>
                        <a:lnTo>
                          <a:pt x="529" y="432"/>
                        </a:lnTo>
                        <a:lnTo>
                          <a:pt x="0" y="14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4578120" y="2784600"/>
                    <a:ext cx="140040" cy="96480"/>
                    <a:chOff x="4578120" y="2784600"/>
                    <a:chExt cx="140040" cy="9648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>
                      <a:off x="4593600" y="2792160"/>
                      <a:ext cx="17640" cy="32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>
                      <a:off x="4700520" y="2847240"/>
                      <a:ext cx="17640" cy="33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>
                      <a:off x="4584960" y="2788200"/>
                      <a:ext cx="17640" cy="32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>
                      <a:off x="4604400" y="2797560"/>
                      <a:ext cx="16920" cy="32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>
                      <a:off x="4629600" y="2811240"/>
                      <a:ext cx="17640" cy="32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>
                      <a:off x="4694760" y="2844360"/>
                      <a:ext cx="17640" cy="33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>
                      <a:off x="4688280" y="2841120"/>
                      <a:ext cx="18000" cy="33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>
                      <a:off x="4680360" y="2836800"/>
                      <a:ext cx="1764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>
                      <a:off x="4646880" y="2819520"/>
                      <a:ext cx="1764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>
                      <a:off x="4617000" y="2803680"/>
                      <a:ext cx="1692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>
                      <a:off x="4670640" y="2831760"/>
                      <a:ext cx="17640" cy="33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>
                      <a:off x="4660560" y="2825640"/>
                      <a:ext cx="17640" cy="33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>
                      <a:off x="4578120" y="2784600"/>
                      <a:ext cx="17640" cy="32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4343400" y="3313080"/>
                <a:ext cx="797040" cy="115560"/>
                <a:chOff x="4343400" y="3313080"/>
                <a:chExt cx="797040" cy="1155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343400" y="3373920"/>
                  <a:ext cx="797040" cy="5472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402800" y="3313080"/>
                  <a:ext cx="677160" cy="590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8" name=""/>
            <p:cNvSpPr/>
            <p:nvPr/>
          </p:nvSpPr>
          <p:spPr>
            <a:xfrm>
              <a:off x="5181480" y="28954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5000" y="3504960"/>
              <a:ext cx="165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cc0000"/>
                  </a:solidFill>
                  <a:uFillTx/>
                  <a:latin typeface="Arial"/>
                </a:rPr>
                <a:t>INVESMENT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ur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ora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876920" y="5029200"/>
            <a:ext cx="3419280" cy="642600"/>
            <a:chOff x="4876920" y="5029200"/>
            <a:chExt cx="3419280" cy="642600"/>
          </a:xfrm>
        </p:grpSpPr>
        <p:sp>
          <p:nvSpPr>
            <p:cNvPr id="361" name=""/>
            <p:cNvSpPr/>
            <p:nvPr/>
          </p:nvSpPr>
          <p:spPr>
            <a:xfrm flipH="1">
              <a:off x="4876920" y="5333760"/>
              <a:ext cx="838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18240" y="5029200"/>
              <a:ext cx="25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Arial"/>
                </a:rPr>
                <a:t>REDUCED D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Arial"/>
                </a:rPr>
                <a:t>OF SKRIP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354120" y="502920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88320" y="4800600"/>
            <a:ext cx="2588040" cy="1191240"/>
            <a:chOff x="688320" y="4800600"/>
            <a:chExt cx="2588040" cy="1191240"/>
          </a:xfrm>
        </p:grpSpPr>
        <p:sp>
          <p:nvSpPr>
            <p:cNvPr id="365" name=""/>
            <p:cNvSpPr/>
            <p:nvPr/>
          </p:nvSpPr>
          <p:spPr>
            <a:xfrm>
              <a:off x="688320" y="4800600"/>
              <a:ext cx="200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INDICATO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sm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5 sm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5 sm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590560" y="533376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40560" y="2133720"/>
            <a:ext cx="3009600" cy="2971800"/>
            <a:chOff x="5740560" y="2133720"/>
            <a:chExt cx="3009600" cy="2971800"/>
          </a:xfrm>
        </p:grpSpPr>
        <p:sp>
          <p:nvSpPr>
            <p:cNvPr id="368" name=""/>
            <p:cNvSpPr/>
            <p:nvPr/>
          </p:nvSpPr>
          <p:spPr>
            <a:xfrm>
              <a:off x="6858000" y="4495680"/>
              <a:ext cx="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9" name=""/>
            <p:cNvGraphicFramePr/>
            <p:nvPr/>
          </p:nvGraphicFramePr>
          <p:xfrm>
            <a:off x="6477120" y="2133720"/>
            <a:ext cx="1087200" cy="11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77120" y="2133720"/>
                      <a:ext cx="108720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"/>
            <p:cNvSpPr/>
            <p:nvPr/>
          </p:nvSpPr>
          <p:spPr>
            <a:xfrm>
              <a:off x="5740560" y="3365640"/>
              <a:ext cx="30096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 u="sng">
                  <a:solidFill>
                    <a:srgbClr val="cc0000"/>
                  </a:solidFill>
                  <a:uFillTx/>
                  <a:latin typeface="Arial"/>
                </a:rPr>
                <a:t>ACTIVITIES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arch Staffs &amp; Stud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roved super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medial cour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7470360" y="2832120"/>
              <a:ext cx="755640" cy="401400"/>
              <a:chOff x="7470360" y="2832120"/>
              <a:chExt cx="755640" cy="4014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981560" y="3133440"/>
                <a:ext cx="98280" cy="90720"/>
                <a:chOff x="7981560" y="3133440"/>
                <a:chExt cx="98280" cy="9072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7981200" y="3133440"/>
                  <a:ext cx="98280" cy="90720"/>
                </a:xfrm>
                <a:custGeom>
                  <a:avLst/>
                  <a:gdLst/>
                  <a:ahLst/>
                  <a:rect l="l" t="t" r="r" b="b"/>
                  <a:pathLst>
                    <a:path w="368" h="344">
                      <a:moveTo>
                        <a:pt x="0" y="0"/>
                      </a:moveTo>
                      <a:lnTo>
                        <a:pt x="39" y="92"/>
                      </a:lnTo>
                      <a:lnTo>
                        <a:pt x="63" y="162"/>
                      </a:lnTo>
                      <a:lnTo>
                        <a:pt x="87" y="223"/>
                      </a:lnTo>
                      <a:lnTo>
                        <a:pt x="119" y="283"/>
                      </a:lnTo>
                      <a:lnTo>
                        <a:pt x="144" y="313"/>
                      </a:lnTo>
                      <a:lnTo>
                        <a:pt x="176" y="334"/>
                      </a:lnTo>
                      <a:lnTo>
                        <a:pt x="209" y="344"/>
                      </a:lnTo>
                      <a:lnTo>
                        <a:pt x="272" y="344"/>
                      </a:lnTo>
                      <a:lnTo>
                        <a:pt x="320" y="323"/>
                      </a:lnTo>
                      <a:lnTo>
                        <a:pt x="353" y="293"/>
                      </a:lnTo>
                      <a:lnTo>
                        <a:pt x="368" y="263"/>
                      </a:lnTo>
                      <a:lnTo>
                        <a:pt x="345" y="172"/>
                      </a:lnTo>
                      <a:lnTo>
                        <a:pt x="272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7981560" y="3193920"/>
                  <a:ext cx="71280" cy="30240"/>
                </a:xfrm>
                <a:custGeom>
                  <a:avLst/>
                  <a:gdLst/>
                  <a:ahLst/>
                  <a:rect l="l" t="t" r="r" b="b"/>
                  <a:pathLst>
                    <a:path w="271" h="116">
                      <a:moveTo>
                        <a:pt x="0" y="17"/>
                      </a:moveTo>
                      <a:lnTo>
                        <a:pt x="118" y="7"/>
                      </a:lnTo>
                      <a:lnTo>
                        <a:pt x="219" y="0"/>
                      </a:lnTo>
                      <a:lnTo>
                        <a:pt x="261" y="1"/>
                      </a:lnTo>
                      <a:lnTo>
                        <a:pt x="271" y="37"/>
                      </a:lnTo>
                      <a:lnTo>
                        <a:pt x="252" y="71"/>
                      </a:lnTo>
                      <a:lnTo>
                        <a:pt x="222" y="97"/>
                      </a:lnTo>
                      <a:lnTo>
                        <a:pt x="176" y="116"/>
                      </a:lnTo>
                      <a:lnTo>
                        <a:pt x="108" y="116"/>
                      </a:lnTo>
                      <a:lnTo>
                        <a:pt x="78" y="106"/>
                      </a:lnTo>
                      <a:lnTo>
                        <a:pt x="49" y="90"/>
                      </a:lnTo>
                      <a:lnTo>
                        <a:pt x="23" y="59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578360" y="3101760"/>
                <a:ext cx="177840" cy="131760"/>
                <a:chOff x="7578360" y="3101760"/>
                <a:chExt cx="177840" cy="131760"/>
              </a:xfrm>
            </p:grpSpPr>
            <p:sp>
              <p:nvSpPr>
                <p:cNvPr id="377" name=""/>
                <p:cNvSpPr/>
                <p:nvPr/>
              </p:nvSpPr>
              <p:spPr>
                <a:xfrm flipH="1">
                  <a:off x="7578360" y="3101760"/>
                  <a:ext cx="177840" cy="131760"/>
                </a:xfrm>
                <a:custGeom>
                  <a:avLst/>
                  <a:gdLst/>
                  <a:ahLst/>
                  <a:rect l="l" t="t" r="r" b="b"/>
                  <a:pathLst>
                    <a:path w="672" h="498">
                      <a:moveTo>
                        <a:pt x="544" y="0"/>
                      </a:moveTo>
                      <a:lnTo>
                        <a:pt x="578" y="7"/>
                      </a:lnTo>
                      <a:lnTo>
                        <a:pt x="618" y="40"/>
                      </a:lnTo>
                      <a:lnTo>
                        <a:pt x="652" y="74"/>
                      </a:lnTo>
                      <a:lnTo>
                        <a:pt x="672" y="107"/>
                      </a:lnTo>
                      <a:lnTo>
                        <a:pt x="672" y="149"/>
                      </a:lnTo>
                      <a:lnTo>
                        <a:pt x="672" y="189"/>
                      </a:lnTo>
                      <a:lnTo>
                        <a:pt x="645" y="243"/>
                      </a:lnTo>
                      <a:lnTo>
                        <a:pt x="605" y="276"/>
                      </a:lnTo>
                      <a:lnTo>
                        <a:pt x="565" y="324"/>
                      </a:lnTo>
                      <a:lnTo>
                        <a:pt x="497" y="364"/>
                      </a:lnTo>
                      <a:lnTo>
                        <a:pt x="437" y="391"/>
                      </a:lnTo>
                      <a:lnTo>
                        <a:pt x="383" y="411"/>
                      </a:lnTo>
                      <a:lnTo>
                        <a:pt x="315" y="438"/>
                      </a:lnTo>
                      <a:lnTo>
                        <a:pt x="242" y="478"/>
                      </a:lnTo>
                      <a:lnTo>
                        <a:pt x="168" y="491"/>
                      </a:lnTo>
                      <a:lnTo>
                        <a:pt x="101" y="498"/>
                      </a:lnTo>
                      <a:lnTo>
                        <a:pt x="67" y="491"/>
                      </a:lnTo>
                      <a:lnTo>
                        <a:pt x="0" y="491"/>
                      </a:lnTo>
                      <a:lnTo>
                        <a:pt x="7" y="438"/>
                      </a:lnTo>
                      <a:lnTo>
                        <a:pt x="27" y="377"/>
                      </a:lnTo>
                      <a:lnTo>
                        <a:pt x="54" y="337"/>
                      </a:lnTo>
                      <a:lnTo>
                        <a:pt x="81" y="297"/>
                      </a:lnTo>
                      <a:lnTo>
                        <a:pt x="128" y="270"/>
                      </a:lnTo>
                      <a:lnTo>
                        <a:pt x="275" y="216"/>
                      </a:lnTo>
                      <a:lnTo>
                        <a:pt x="349" y="169"/>
                      </a:lnTo>
                      <a:lnTo>
                        <a:pt x="410" y="121"/>
                      </a:lnTo>
                      <a:lnTo>
                        <a:pt x="424" y="101"/>
                      </a:lnTo>
                      <a:lnTo>
                        <a:pt x="437" y="47"/>
                      </a:lnTo>
                      <a:lnTo>
                        <a:pt x="544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7684200" y="3179520"/>
                  <a:ext cx="71640" cy="54000"/>
                </a:xfrm>
                <a:custGeom>
                  <a:avLst/>
                  <a:gdLst/>
                  <a:ahLst/>
                  <a:rect l="l" t="t" r="r" b="b"/>
                  <a:pathLst>
                    <a:path w="272" h="205">
                      <a:moveTo>
                        <a:pt x="87" y="0"/>
                      </a:moveTo>
                      <a:lnTo>
                        <a:pt x="40" y="58"/>
                      </a:lnTo>
                      <a:lnTo>
                        <a:pt x="24" y="91"/>
                      </a:lnTo>
                      <a:lnTo>
                        <a:pt x="14" y="128"/>
                      </a:lnTo>
                      <a:lnTo>
                        <a:pt x="0" y="175"/>
                      </a:lnTo>
                      <a:lnTo>
                        <a:pt x="3" y="202"/>
                      </a:lnTo>
                      <a:lnTo>
                        <a:pt x="60" y="202"/>
                      </a:lnTo>
                      <a:lnTo>
                        <a:pt x="104" y="205"/>
                      </a:lnTo>
                      <a:lnTo>
                        <a:pt x="158" y="199"/>
                      </a:lnTo>
                      <a:lnTo>
                        <a:pt x="191" y="192"/>
                      </a:lnTo>
                      <a:lnTo>
                        <a:pt x="231" y="188"/>
                      </a:lnTo>
                      <a:lnTo>
                        <a:pt x="268" y="172"/>
                      </a:lnTo>
                      <a:lnTo>
                        <a:pt x="272" y="138"/>
                      </a:lnTo>
                      <a:lnTo>
                        <a:pt x="242" y="105"/>
                      </a:lnTo>
                      <a:lnTo>
                        <a:pt x="215" y="71"/>
                      </a:lnTo>
                      <a:lnTo>
                        <a:pt x="185" y="41"/>
                      </a:lnTo>
                      <a:lnTo>
                        <a:pt x="151" y="1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470360" y="2997000"/>
                <a:ext cx="163440" cy="119160"/>
                <a:chOff x="7470360" y="2997000"/>
                <a:chExt cx="163440" cy="119160"/>
              </a:xfrm>
            </p:grpSpPr>
            <p:sp>
              <p:nvSpPr>
                <p:cNvPr id="380" name=""/>
                <p:cNvSpPr/>
                <p:nvPr/>
              </p:nvSpPr>
              <p:spPr>
                <a:xfrm flipH="1">
                  <a:off x="7470360" y="2997000"/>
                  <a:ext cx="163440" cy="119160"/>
                </a:xfrm>
                <a:custGeom>
                  <a:avLst/>
                  <a:gdLst/>
                  <a:ahLst/>
                  <a:rect l="l" t="t" r="r" b="b"/>
                  <a:pathLst>
                    <a:path w="617" h="450">
                      <a:moveTo>
                        <a:pt x="0" y="0"/>
                      </a:moveTo>
                      <a:lnTo>
                        <a:pt x="94" y="27"/>
                      </a:lnTo>
                      <a:lnTo>
                        <a:pt x="161" y="33"/>
                      </a:lnTo>
                      <a:lnTo>
                        <a:pt x="208" y="47"/>
                      </a:lnTo>
                      <a:lnTo>
                        <a:pt x="250" y="55"/>
                      </a:lnTo>
                      <a:lnTo>
                        <a:pt x="288" y="60"/>
                      </a:lnTo>
                      <a:lnTo>
                        <a:pt x="322" y="67"/>
                      </a:lnTo>
                      <a:lnTo>
                        <a:pt x="362" y="74"/>
                      </a:lnTo>
                      <a:lnTo>
                        <a:pt x="402" y="80"/>
                      </a:lnTo>
                      <a:lnTo>
                        <a:pt x="429" y="90"/>
                      </a:lnTo>
                      <a:lnTo>
                        <a:pt x="456" y="114"/>
                      </a:lnTo>
                      <a:lnTo>
                        <a:pt x="496" y="134"/>
                      </a:lnTo>
                      <a:lnTo>
                        <a:pt x="530" y="161"/>
                      </a:lnTo>
                      <a:lnTo>
                        <a:pt x="563" y="201"/>
                      </a:lnTo>
                      <a:lnTo>
                        <a:pt x="579" y="221"/>
                      </a:lnTo>
                      <a:lnTo>
                        <a:pt x="597" y="248"/>
                      </a:lnTo>
                      <a:lnTo>
                        <a:pt x="605" y="268"/>
                      </a:lnTo>
                      <a:lnTo>
                        <a:pt x="610" y="288"/>
                      </a:lnTo>
                      <a:lnTo>
                        <a:pt x="617" y="322"/>
                      </a:lnTo>
                      <a:lnTo>
                        <a:pt x="597" y="369"/>
                      </a:lnTo>
                      <a:lnTo>
                        <a:pt x="588" y="385"/>
                      </a:lnTo>
                      <a:lnTo>
                        <a:pt x="570" y="403"/>
                      </a:lnTo>
                      <a:lnTo>
                        <a:pt x="546" y="416"/>
                      </a:lnTo>
                      <a:lnTo>
                        <a:pt x="523" y="423"/>
                      </a:lnTo>
                      <a:lnTo>
                        <a:pt x="493" y="430"/>
                      </a:lnTo>
                      <a:lnTo>
                        <a:pt x="469" y="430"/>
                      </a:lnTo>
                      <a:lnTo>
                        <a:pt x="429" y="436"/>
                      </a:lnTo>
                      <a:lnTo>
                        <a:pt x="407" y="439"/>
                      </a:lnTo>
                      <a:lnTo>
                        <a:pt x="389" y="436"/>
                      </a:lnTo>
                      <a:lnTo>
                        <a:pt x="349" y="443"/>
                      </a:lnTo>
                      <a:lnTo>
                        <a:pt x="302" y="450"/>
                      </a:lnTo>
                      <a:lnTo>
                        <a:pt x="235" y="450"/>
                      </a:lnTo>
                      <a:lnTo>
                        <a:pt x="174" y="443"/>
                      </a:lnTo>
                      <a:lnTo>
                        <a:pt x="134" y="430"/>
                      </a:lnTo>
                      <a:lnTo>
                        <a:pt x="33" y="3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7508160" y="3078000"/>
                  <a:ext cx="96840" cy="38160"/>
                </a:xfrm>
                <a:custGeom>
                  <a:avLst/>
                  <a:gdLst/>
                  <a:ahLst/>
                  <a:rect l="l" t="t" r="r" b="b"/>
                  <a:pathLst>
                    <a:path w="368" h="146">
                      <a:moveTo>
                        <a:pt x="368" y="0"/>
                      </a:moveTo>
                      <a:lnTo>
                        <a:pt x="334" y="10"/>
                      </a:lnTo>
                      <a:lnTo>
                        <a:pt x="307" y="14"/>
                      </a:lnTo>
                      <a:lnTo>
                        <a:pt x="282" y="14"/>
                      </a:lnTo>
                      <a:lnTo>
                        <a:pt x="262" y="8"/>
                      </a:lnTo>
                      <a:lnTo>
                        <a:pt x="235" y="5"/>
                      </a:lnTo>
                      <a:lnTo>
                        <a:pt x="207" y="7"/>
                      </a:lnTo>
                      <a:lnTo>
                        <a:pt x="130" y="27"/>
                      </a:lnTo>
                      <a:lnTo>
                        <a:pt x="103" y="37"/>
                      </a:lnTo>
                      <a:lnTo>
                        <a:pt x="94" y="48"/>
                      </a:lnTo>
                      <a:lnTo>
                        <a:pt x="84" y="64"/>
                      </a:lnTo>
                      <a:lnTo>
                        <a:pt x="67" y="78"/>
                      </a:lnTo>
                      <a:lnTo>
                        <a:pt x="40" y="98"/>
                      </a:lnTo>
                      <a:lnTo>
                        <a:pt x="22" y="101"/>
                      </a:lnTo>
                      <a:lnTo>
                        <a:pt x="9" y="101"/>
                      </a:lnTo>
                      <a:lnTo>
                        <a:pt x="0" y="104"/>
                      </a:lnTo>
                      <a:lnTo>
                        <a:pt x="24" y="111"/>
                      </a:lnTo>
                      <a:lnTo>
                        <a:pt x="39" y="128"/>
                      </a:lnTo>
                      <a:lnTo>
                        <a:pt x="63" y="138"/>
                      </a:lnTo>
                      <a:lnTo>
                        <a:pt x="86" y="139"/>
                      </a:lnTo>
                      <a:lnTo>
                        <a:pt x="110" y="141"/>
                      </a:lnTo>
                      <a:lnTo>
                        <a:pt x="133" y="145"/>
                      </a:lnTo>
                      <a:lnTo>
                        <a:pt x="171" y="146"/>
                      </a:lnTo>
                      <a:lnTo>
                        <a:pt x="190" y="145"/>
                      </a:lnTo>
                      <a:lnTo>
                        <a:pt x="201" y="145"/>
                      </a:lnTo>
                      <a:lnTo>
                        <a:pt x="205" y="139"/>
                      </a:lnTo>
                      <a:lnTo>
                        <a:pt x="214" y="119"/>
                      </a:lnTo>
                      <a:lnTo>
                        <a:pt x="215" y="104"/>
                      </a:lnTo>
                      <a:lnTo>
                        <a:pt x="224" y="84"/>
                      </a:lnTo>
                      <a:lnTo>
                        <a:pt x="227" y="65"/>
                      </a:lnTo>
                      <a:lnTo>
                        <a:pt x="228" y="62"/>
                      </a:lnTo>
                      <a:lnTo>
                        <a:pt x="230" y="59"/>
                      </a:lnTo>
                      <a:lnTo>
                        <a:pt x="240" y="51"/>
                      </a:lnTo>
                      <a:lnTo>
                        <a:pt x="255" y="41"/>
                      </a:lnTo>
                      <a:lnTo>
                        <a:pt x="274" y="32"/>
                      </a:lnTo>
                      <a:lnTo>
                        <a:pt x="297" y="31"/>
                      </a:lnTo>
                      <a:lnTo>
                        <a:pt x="307" y="20"/>
                      </a:lnTo>
                      <a:lnTo>
                        <a:pt x="315" y="15"/>
                      </a:lnTo>
                      <a:lnTo>
                        <a:pt x="331" y="7"/>
                      </a:lnTo>
                      <a:lnTo>
                        <a:pt x="36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497360" y="3047760"/>
                <a:ext cx="44280" cy="30240"/>
                <a:chOff x="7497360" y="3047760"/>
                <a:chExt cx="44280" cy="30240"/>
              </a:xfrm>
            </p:grpSpPr>
            <p:sp>
              <p:nvSpPr>
                <p:cNvPr id="383" name=""/>
                <p:cNvSpPr/>
                <p:nvPr/>
              </p:nvSpPr>
              <p:spPr>
                <a:xfrm flipH="1">
                  <a:off x="7509960" y="3054240"/>
                  <a:ext cx="31680" cy="23760"/>
                </a:xfrm>
                <a:custGeom>
                  <a:avLst/>
                  <a:gdLst/>
                  <a:ahLst/>
                  <a:rect l="l" t="t" r="r" b="b"/>
                  <a:pathLst>
                    <a:path w="118" h="86">
                      <a:moveTo>
                        <a:pt x="0" y="4"/>
                      </a:moveTo>
                      <a:lnTo>
                        <a:pt x="2" y="19"/>
                      </a:lnTo>
                      <a:lnTo>
                        <a:pt x="8" y="36"/>
                      </a:lnTo>
                      <a:lnTo>
                        <a:pt x="17" y="51"/>
                      </a:lnTo>
                      <a:lnTo>
                        <a:pt x="25" y="61"/>
                      </a:lnTo>
                      <a:lnTo>
                        <a:pt x="37" y="72"/>
                      </a:lnTo>
                      <a:lnTo>
                        <a:pt x="52" y="81"/>
                      </a:lnTo>
                      <a:lnTo>
                        <a:pt x="72" y="86"/>
                      </a:lnTo>
                      <a:lnTo>
                        <a:pt x="94" y="85"/>
                      </a:lnTo>
                      <a:lnTo>
                        <a:pt x="118" y="82"/>
                      </a:lnTo>
                      <a:lnTo>
                        <a:pt x="112" y="57"/>
                      </a:lnTo>
                      <a:lnTo>
                        <a:pt x="106" y="34"/>
                      </a:lnTo>
                      <a:lnTo>
                        <a:pt x="98" y="19"/>
                      </a:lnTo>
                      <a:lnTo>
                        <a:pt x="83" y="7"/>
                      </a:lnTo>
                      <a:lnTo>
                        <a:pt x="68" y="1"/>
                      </a:lnTo>
                      <a:lnTo>
                        <a:pt x="51" y="0"/>
                      </a:lnTo>
                      <a:lnTo>
                        <a:pt x="34" y="0"/>
                      </a:lnTo>
                      <a:lnTo>
                        <a:pt x="18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7497360" y="3047760"/>
                  <a:ext cx="42840" cy="30240"/>
                  <a:chOff x="7497360" y="3047760"/>
                  <a:chExt cx="42840" cy="3024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H="1">
                    <a:off x="7508520" y="3054240"/>
                    <a:ext cx="31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86">
                        <a:moveTo>
                          <a:pt x="0" y="3"/>
                        </a:moveTo>
                        <a:lnTo>
                          <a:pt x="1" y="19"/>
                        </a:lnTo>
                        <a:lnTo>
                          <a:pt x="8" y="36"/>
                        </a:lnTo>
                        <a:lnTo>
                          <a:pt x="17" y="50"/>
                        </a:lnTo>
                        <a:lnTo>
                          <a:pt x="25" y="60"/>
                        </a:lnTo>
                        <a:lnTo>
                          <a:pt x="37" y="71"/>
                        </a:lnTo>
                        <a:lnTo>
                          <a:pt x="52" y="80"/>
                        </a:lnTo>
                        <a:lnTo>
                          <a:pt x="72" y="86"/>
                        </a:lnTo>
                        <a:lnTo>
                          <a:pt x="94" y="85"/>
                        </a:lnTo>
                        <a:lnTo>
                          <a:pt x="118" y="82"/>
                        </a:lnTo>
                        <a:lnTo>
                          <a:pt x="112" y="57"/>
                        </a:lnTo>
                        <a:lnTo>
                          <a:pt x="105" y="33"/>
                        </a:lnTo>
                        <a:lnTo>
                          <a:pt x="97" y="19"/>
                        </a:lnTo>
                        <a:lnTo>
                          <a:pt x="83" y="7"/>
                        </a:lnTo>
                        <a:lnTo>
                          <a:pt x="67" y="1"/>
                        </a:lnTo>
                        <a:lnTo>
                          <a:pt x="50" y="0"/>
                        </a:lnTo>
                        <a:lnTo>
                          <a:pt x="34" y="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7506720" y="3055680"/>
                    <a:ext cx="31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88">
                        <a:moveTo>
                          <a:pt x="0" y="4"/>
                        </a:moveTo>
                        <a:lnTo>
                          <a:pt x="1" y="19"/>
                        </a:lnTo>
                        <a:lnTo>
                          <a:pt x="8" y="36"/>
                        </a:lnTo>
                        <a:lnTo>
                          <a:pt x="17" y="52"/>
                        </a:lnTo>
                        <a:lnTo>
                          <a:pt x="24" y="62"/>
                        </a:lnTo>
                        <a:lnTo>
                          <a:pt x="37" y="73"/>
                        </a:lnTo>
                        <a:lnTo>
                          <a:pt x="51" y="82"/>
                        </a:lnTo>
                        <a:lnTo>
                          <a:pt x="72" y="88"/>
                        </a:lnTo>
                        <a:lnTo>
                          <a:pt x="95" y="87"/>
                        </a:lnTo>
                        <a:lnTo>
                          <a:pt x="118" y="83"/>
                        </a:lnTo>
                        <a:lnTo>
                          <a:pt x="113" y="59"/>
                        </a:lnTo>
                        <a:lnTo>
                          <a:pt x="106" y="34"/>
                        </a:lnTo>
                        <a:lnTo>
                          <a:pt x="98" y="19"/>
                        </a:lnTo>
                        <a:lnTo>
                          <a:pt x="84" y="7"/>
                        </a:lnTo>
                        <a:lnTo>
                          <a:pt x="68" y="2"/>
                        </a:lnTo>
                        <a:lnTo>
                          <a:pt x="50" y="0"/>
                        </a:lnTo>
                        <a:lnTo>
                          <a:pt x="33" y="0"/>
                        </a:lnTo>
                        <a:lnTo>
                          <a:pt x="18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7506720" y="3054240"/>
                    <a:ext cx="31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6">
                        <a:moveTo>
                          <a:pt x="0" y="3"/>
                        </a:moveTo>
                        <a:lnTo>
                          <a:pt x="1" y="19"/>
                        </a:lnTo>
                        <a:lnTo>
                          <a:pt x="7" y="36"/>
                        </a:lnTo>
                        <a:lnTo>
                          <a:pt x="16" y="50"/>
                        </a:lnTo>
                        <a:lnTo>
                          <a:pt x="24" y="61"/>
                        </a:lnTo>
                        <a:lnTo>
                          <a:pt x="37" y="72"/>
                        </a:lnTo>
                        <a:lnTo>
                          <a:pt x="51" y="81"/>
                        </a:lnTo>
                        <a:lnTo>
                          <a:pt x="71" y="86"/>
                        </a:lnTo>
                        <a:lnTo>
                          <a:pt x="94" y="85"/>
                        </a:lnTo>
                        <a:lnTo>
                          <a:pt x="117" y="82"/>
                        </a:lnTo>
                        <a:lnTo>
                          <a:pt x="111" y="57"/>
                        </a:lnTo>
                        <a:lnTo>
                          <a:pt x="105" y="34"/>
                        </a:lnTo>
                        <a:lnTo>
                          <a:pt x="97" y="19"/>
                        </a:lnTo>
                        <a:lnTo>
                          <a:pt x="82" y="7"/>
                        </a:lnTo>
                        <a:lnTo>
                          <a:pt x="67" y="1"/>
                        </a:lnTo>
                        <a:lnTo>
                          <a:pt x="50" y="0"/>
                        </a:lnTo>
                        <a:lnTo>
                          <a:pt x="33" y="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7511400" y="3055680"/>
                    <a:ext cx="20880" cy="19080"/>
                  </a:xfrm>
                  <a:prstGeom prst="ellipse">
                    <a:avLst/>
                  </a:prstGeom>
                  <a:solidFill>
                    <a:srgbClr val="5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7511760" y="3055680"/>
                    <a:ext cx="18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547" y="2367"/>
                        </a:moveTo>
                        <a:arcTo wR="10800" hR="10800" stAng="-3080412" swAng="203865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547" y="2367"/>
                        </a:moveTo>
                        <a:arcTo wR="10800" hR="10800" stAng="-3080412" swAng="20386509"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>
                    <a:off x="7497000" y="3047760"/>
                    <a:ext cx="42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14">
                        <a:moveTo>
                          <a:pt x="0" y="26"/>
                        </a:moveTo>
                        <a:lnTo>
                          <a:pt x="11" y="16"/>
                        </a:lnTo>
                        <a:lnTo>
                          <a:pt x="27" y="6"/>
                        </a:lnTo>
                        <a:lnTo>
                          <a:pt x="41" y="1"/>
                        </a:lnTo>
                        <a:lnTo>
                          <a:pt x="53" y="0"/>
                        </a:lnTo>
                        <a:lnTo>
                          <a:pt x="68" y="0"/>
                        </a:lnTo>
                        <a:lnTo>
                          <a:pt x="89" y="4"/>
                        </a:lnTo>
                        <a:lnTo>
                          <a:pt x="110" y="9"/>
                        </a:lnTo>
                        <a:lnTo>
                          <a:pt x="130" y="17"/>
                        </a:lnTo>
                        <a:lnTo>
                          <a:pt x="146" y="29"/>
                        </a:lnTo>
                        <a:lnTo>
                          <a:pt x="158" y="41"/>
                        </a:lnTo>
                        <a:lnTo>
                          <a:pt x="163" y="55"/>
                        </a:lnTo>
                        <a:lnTo>
                          <a:pt x="163" y="67"/>
                        </a:lnTo>
                        <a:lnTo>
                          <a:pt x="158" y="89"/>
                        </a:lnTo>
                        <a:lnTo>
                          <a:pt x="151" y="101"/>
                        </a:lnTo>
                        <a:lnTo>
                          <a:pt x="140" y="110"/>
                        </a:lnTo>
                        <a:lnTo>
                          <a:pt x="127" y="113"/>
                        </a:lnTo>
                        <a:lnTo>
                          <a:pt x="121" y="114"/>
                        </a:lnTo>
                        <a:lnTo>
                          <a:pt x="113" y="85"/>
                        </a:lnTo>
                        <a:lnTo>
                          <a:pt x="106" y="67"/>
                        </a:lnTo>
                        <a:lnTo>
                          <a:pt x="96" y="54"/>
                        </a:lnTo>
                        <a:lnTo>
                          <a:pt x="87" y="47"/>
                        </a:lnTo>
                        <a:lnTo>
                          <a:pt x="75" y="39"/>
                        </a:lnTo>
                        <a:lnTo>
                          <a:pt x="60" y="34"/>
                        </a:lnTo>
                        <a:lnTo>
                          <a:pt x="46" y="30"/>
                        </a:lnTo>
                        <a:lnTo>
                          <a:pt x="29" y="28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1" name=""/>
              <p:cNvSpPr/>
              <p:nvPr/>
            </p:nvSpPr>
            <p:spPr>
              <a:xfrm flipH="1">
                <a:off x="7470360" y="299700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617" h="450">
                    <a:moveTo>
                      <a:pt x="0" y="0"/>
                    </a:moveTo>
                    <a:lnTo>
                      <a:pt x="94" y="27"/>
                    </a:lnTo>
                    <a:lnTo>
                      <a:pt x="161" y="33"/>
                    </a:lnTo>
                    <a:lnTo>
                      <a:pt x="208" y="47"/>
                    </a:lnTo>
                    <a:lnTo>
                      <a:pt x="250" y="55"/>
                    </a:lnTo>
                    <a:lnTo>
                      <a:pt x="288" y="60"/>
                    </a:lnTo>
                    <a:lnTo>
                      <a:pt x="322" y="67"/>
                    </a:lnTo>
                    <a:lnTo>
                      <a:pt x="362" y="74"/>
                    </a:lnTo>
                    <a:lnTo>
                      <a:pt x="402" y="80"/>
                    </a:lnTo>
                    <a:lnTo>
                      <a:pt x="429" y="90"/>
                    </a:lnTo>
                    <a:lnTo>
                      <a:pt x="456" y="114"/>
                    </a:lnTo>
                    <a:lnTo>
                      <a:pt x="496" y="134"/>
                    </a:lnTo>
                    <a:lnTo>
                      <a:pt x="530" y="161"/>
                    </a:lnTo>
                    <a:lnTo>
                      <a:pt x="563" y="201"/>
                    </a:lnTo>
                    <a:lnTo>
                      <a:pt x="579" y="221"/>
                    </a:lnTo>
                    <a:lnTo>
                      <a:pt x="597" y="248"/>
                    </a:lnTo>
                    <a:lnTo>
                      <a:pt x="604" y="268"/>
                    </a:lnTo>
                    <a:lnTo>
                      <a:pt x="610" y="288"/>
                    </a:lnTo>
                    <a:lnTo>
                      <a:pt x="617" y="322"/>
                    </a:lnTo>
                    <a:lnTo>
                      <a:pt x="597" y="369"/>
                    </a:lnTo>
                    <a:lnTo>
                      <a:pt x="588" y="385"/>
                    </a:lnTo>
                    <a:lnTo>
                      <a:pt x="570" y="403"/>
                    </a:lnTo>
                    <a:lnTo>
                      <a:pt x="546" y="416"/>
                    </a:lnTo>
                    <a:lnTo>
                      <a:pt x="523" y="423"/>
                    </a:lnTo>
                    <a:lnTo>
                      <a:pt x="493" y="430"/>
                    </a:lnTo>
                    <a:lnTo>
                      <a:pt x="469" y="430"/>
                    </a:lnTo>
                    <a:lnTo>
                      <a:pt x="429" y="436"/>
                    </a:lnTo>
                    <a:lnTo>
                      <a:pt x="407" y="439"/>
                    </a:lnTo>
                    <a:lnTo>
                      <a:pt x="389" y="436"/>
                    </a:lnTo>
                    <a:lnTo>
                      <a:pt x="348" y="443"/>
                    </a:lnTo>
                    <a:lnTo>
                      <a:pt x="302" y="450"/>
                    </a:lnTo>
                    <a:lnTo>
                      <a:pt x="234" y="450"/>
                    </a:lnTo>
                    <a:lnTo>
                      <a:pt x="174" y="443"/>
                    </a:lnTo>
                    <a:lnTo>
                      <a:pt x="134" y="430"/>
                    </a:lnTo>
                    <a:lnTo>
                      <a:pt x="33" y="37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7598880" y="2832120"/>
                <a:ext cx="627120" cy="334800"/>
                <a:chOff x="7598880" y="2832120"/>
                <a:chExt cx="627120" cy="33480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7598880" y="2832120"/>
                  <a:ext cx="627120" cy="334800"/>
                </a:xfrm>
                <a:custGeom>
                  <a:avLst/>
                  <a:gdLst/>
                  <a:ahLst/>
                  <a:rect l="l" t="t" r="r" b="b"/>
                  <a:pathLst>
                    <a:path w="2369" h="1265">
                      <a:moveTo>
                        <a:pt x="127" y="679"/>
                      </a:moveTo>
                      <a:lnTo>
                        <a:pt x="215" y="625"/>
                      </a:lnTo>
                      <a:lnTo>
                        <a:pt x="259" y="579"/>
                      </a:lnTo>
                      <a:lnTo>
                        <a:pt x="306" y="538"/>
                      </a:lnTo>
                      <a:lnTo>
                        <a:pt x="339" y="504"/>
                      </a:lnTo>
                      <a:lnTo>
                        <a:pt x="382" y="444"/>
                      </a:lnTo>
                      <a:lnTo>
                        <a:pt x="436" y="377"/>
                      </a:lnTo>
                      <a:lnTo>
                        <a:pt x="476" y="322"/>
                      </a:lnTo>
                      <a:lnTo>
                        <a:pt x="523" y="268"/>
                      </a:lnTo>
                      <a:lnTo>
                        <a:pt x="570" y="228"/>
                      </a:lnTo>
                      <a:lnTo>
                        <a:pt x="610" y="194"/>
                      </a:lnTo>
                      <a:lnTo>
                        <a:pt x="654" y="159"/>
                      </a:lnTo>
                      <a:lnTo>
                        <a:pt x="714" y="122"/>
                      </a:lnTo>
                      <a:lnTo>
                        <a:pt x="769" y="88"/>
                      </a:lnTo>
                      <a:lnTo>
                        <a:pt x="825" y="64"/>
                      </a:lnTo>
                      <a:lnTo>
                        <a:pt x="864" y="51"/>
                      </a:lnTo>
                      <a:lnTo>
                        <a:pt x="920" y="34"/>
                      </a:lnTo>
                      <a:lnTo>
                        <a:pt x="987" y="19"/>
                      </a:lnTo>
                      <a:lnTo>
                        <a:pt x="1080" y="6"/>
                      </a:lnTo>
                      <a:lnTo>
                        <a:pt x="1188" y="0"/>
                      </a:lnTo>
                      <a:lnTo>
                        <a:pt x="1289" y="0"/>
                      </a:lnTo>
                      <a:lnTo>
                        <a:pt x="1376" y="2"/>
                      </a:lnTo>
                      <a:lnTo>
                        <a:pt x="1456" y="13"/>
                      </a:lnTo>
                      <a:lnTo>
                        <a:pt x="1550" y="29"/>
                      </a:lnTo>
                      <a:lnTo>
                        <a:pt x="1644" y="53"/>
                      </a:lnTo>
                      <a:lnTo>
                        <a:pt x="1735" y="88"/>
                      </a:lnTo>
                      <a:lnTo>
                        <a:pt x="1821" y="126"/>
                      </a:lnTo>
                      <a:lnTo>
                        <a:pt x="1907" y="169"/>
                      </a:lnTo>
                      <a:lnTo>
                        <a:pt x="1973" y="204"/>
                      </a:lnTo>
                      <a:lnTo>
                        <a:pt x="2030" y="245"/>
                      </a:lnTo>
                      <a:lnTo>
                        <a:pt x="2073" y="281"/>
                      </a:lnTo>
                      <a:lnTo>
                        <a:pt x="2113" y="322"/>
                      </a:lnTo>
                      <a:lnTo>
                        <a:pt x="2153" y="377"/>
                      </a:lnTo>
                      <a:lnTo>
                        <a:pt x="2182" y="423"/>
                      </a:lnTo>
                      <a:lnTo>
                        <a:pt x="2229" y="498"/>
                      </a:lnTo>
                      <a:lnTo>
                        <a:pt x="2269" y="551"/>
                      </a:lnTo>
                      <a:lnTo>
                        <a:pt x="2296" y="585"/>
                      </a:lnTo>
                      <a:lnTo>
                        <a:pt x="2336" y="612"/>
                      </a:lnTo>
                      <a:lnTo>
                        <a:pt x="2369" y="625"/>
                      </a:lnTo>
                      <a:lnTo>
                        <a:pt x="2349" y="760"/>
                      </a:lnTo>
                      <a:lnTo>
                        <a:pt x="2356" y="800"/>
                      </a:lnTo>
                      <a:lnTo>
                        <a:pt x="2363" y="860"/>
                      </a:lnTo>
                      <a:lnTo>
                        <a:pt x="2363" y="914"/>
                      </a:lnTo>
                      <a:lnTo>
                        <a:pt x="2349" y="981"/>
                      </a:lnTo>
                      <a:lnTo>
                        <a:pt x="2302" y="1055"/>
                      </a:lnTo>
                      <a:lnTo>
                        <a:pt x="2262" y="1075"/>
                      </a:lnTo>
                      <a:lnTo>
                        <a:pt x="2222" y="1089"/>
                      </a:lnTo>
                      <a:lnTo>
                        <a:pt x="2188" y="1136"/>
                      </a:lnTo>
                      <a:lnTo>
                        <a:pt x="2140" y="1191"/>
                      </a:lnTo>
                      <a:lnTo>
                        <a:pt x="2073" y="1224"/>
                      </a:lnTo>
                      <a:lnTo>
                        <a:pt x="2006" y="1244"/>
                      </a:lnTo>
                      <a:lnTo>
                        <a:pt x="1959" y="1251"/>
                      </a:lnTo>
                      <a:lnTo>
                        <a:pt x="1932" y="1244"/>
                      </a:lnTo>
                      <a:lnTo>
                        <a:pt x="1872" y="1258"/>
                      </a:lnTo>
                      <a:lnTo>
                        <a:pt x="1812" y="1258"/>
                      </a:lnTo>
                      <a:lnTo>
                        <a:pt x="1745" y="1258"/>
                      </a:lnTo>
                      <a:lnTo>
                        <a:pt x="1667" y="1258"/>
                      </a:lnTo>
                      <a:lnTo>
                        <a:pt x="1584" y="1265"/>
                      </a:lnTo>
                      <a:lnTo>
                        <a:pt x="1490" y="1265"/>
                      </a:lnTo>
                      <a:lnTo>
                        <a:pt x="1423" y="1265"/>
                      </a:lnTo>
                      <a:lnTo>
                        <a:pt x="1369" y="1265"/>
                      </a:lnTo>
                      <a:lnTo>
                        <a:pt x="1299" y="1258"/>
                      </a:lnTo>
                      <a:lnTo>
                        <a:pt x="1228" y="1251"/>
                      </a:lnTo>
                      <a:lnTo>
                        <a:pt x="1161" y="1248"/>
                      </a:lnTo>
                      <a:lnTo>
                        <a:pt x="1104" y="1244"/>
                      </a:lnTo>
                      <a:lnTo>
                        <a:pt x="1030" y="1238"/>
                      </a:lnTo>
                      <a:lnTo>
                        <a:pt x="967" y="1238"/>
                      </a:lnTo>
                      <a:lnTo>
                        <a:pt x="873" y="1244"/>
                      </a:lnTo>
                      <a:lnTo>
                        <a:pt x="813" y="1244"/>
                      </a:lnTo>
                      <a:lnTo>
                        <a:pt x="732" y="1238"/>
                      </a:lnTo>
                      <a:lnTo>
                        <a:pt x="637" y="1211"/>
                      </a:lnTo>
                      <a:lnTo>
                        <a:pt x="590" y="1184"/>
                      </a:lnTo>
                      <a:lnTo>
                        <a:pt x="536" y="1164"/>
                      </a:lnTo>
                      <a:lnTo>
                        <a:pt x="469" y="1136"/>
                      </a:lnTo>
                      <a:lnTo>
                        <a:pt x="396" y="1096"/>
                      </a:lnTo>
                      <a:lnTo>
                        <a:pt x="362" y="1075"/>
                      </a:lnTo>
                      <a:lnTo>
                        <a:pt x="288" y="1049"/>
                      </a:lnTo>
                      <a:lnTo>
                        <a:pt x="201" y="1008"/>
                      </a:lnTo>
                      <a:lnTo>
                        <a:pt x="121" y="955"/>
                      </a:lnTo>
                      <a:lnTo>
                        <a:pt x="73" y="904"/>
                      </a:lnTo>
                      <a:lnTo>
                        <a:pt x="31" y="852"/>
                      </a:lnTo>
                      <a:lnTo>
                        <a:pt x="0" y="780"/>
                      </a:lnTo>
                      <a:lnTo>
                        <a:pt x="127" y="679"/>
                      </a:lnTo>
                      <a:close/>
                    </a:path>
                  </a:pathLst>
                </a:custGeom>
                <a:solidFill>
                  <a:srgbClr val="5fd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7602120" y="2833560"/>
                  <a:ext cx="622080" cy="330120"/>
                  <a:chOff x="7602120" y="2833560"/>
                  <a:chExt cx="622080" cy="33012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>
                    <a:off x="7713000" y="3087720"/>
                    <a:ext cx="666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83">
                        <a:moveTo>
                          <a:pt x="248" y="40"/>
                        </a:moveTo>
                        <a:lnTo>
                          <a:pt x="235" y="263"/>
                        </a:lnTo>
                        <a:lnTo>
                          <a:pt x="174" y="283"/>
                        </a:lnTo>
                        <a:lnTo>
                          <a:pt x="114" y="283"/>
                        </a:lnTo>
                        <a:lnTo>
                          <a:pt x="0" y="277"/>
                        </a:lnTo>
                        <a:lnTo>
                          <a:pt x="40" y="203"/>
                        </a:lnTo>
                        <a:lnTo>
                          <a:pt x="60" y="134"/>
                        </a:lnTo>
                        <a:lnTo>
                          <a:pt x="60" y="74"/>
                        </a:lnTo>
                        <a:lnTo>
                          <a:pt x="40" y="0"/>
                        </a:lnTo>
                        <a:lnTo>
                          <a:pt x="94" y="0"/>
                        </a:lnTo>
                        <a:lnTo>
                          <a:pt x="141" y="7"/>
                        </a:lnTo>
                        <a:lnTo>
                          <a:pt x="248" y="4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7818120" y="2838240"/>
                    <a:ext cx="13968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9" h="370">
                        <a:moveTo>
                          <a:pt x="134" y="13"/>
                        </a:moveTo>
                        <a:lnTo>
                          <a:pt x="87" y="40"/>
                        </a:lnTo>
                        <a:lnTo>
                          <a:pt x="46" y="73"/>
                        </a:lnTo>
                        <a:lnTo>
                          <a:pt x="13" y="107"/>
                        </a:lnTo>
                        <a:lnTo>
                          <a:pt x="0" y="161"/>
                        </a:lnTo>
                        <a:lnTo>
                          <a:pt x="0" y="228"/>
                        </a:lnTo>
                        <a:lnTo>
                          <a:pt x="6" y="282"/>
                        </a:lnTo>
                        <a:lnTo>
                          <a:pt x="47" y="302"/>
                        </a:lnTo>
                        <a:lnTo>
                          <a:pt x="127" y="315"/>
                        </a:lnTo>
                        <a:lnTo>
                          <a:pt x="194" y="342"/>
                        </a:lnTo>
                        <a:lnTo>
                          <a:pt x="261" y="370"/>
                        </a:lnTo>
                        <a:lnTo>
                          <a:pt x="328" y="357"/>
                        </a:lnTo>
                        <a:lnTo>
                          <a:pt x="389" y="357"/>
                        </a:lnTo>
                        <a:lnTo>
                          <a:pt x="456" y="342"/>
                        </a:lnTo>
                        <a:lnTo>
                          <a:pt x="529" y="335"/>
                        </a:lnTo>
                        <a:lnTo>
                          <a:pt x="516" y="248"/>
                        </a:lnTo>
                        <a:lnTo>
                          <a:pt x="516" y="188"/>
                        </a:lnTo>
                        <a:lnTo>
                          <a:pt x="496" y="114"/>
                        </a:lnTo>
                        <a:lnTo>
                          <a:pt x="456" y="53"/>
                        </a:lnTo>
                        <a:lnTo>
                          <a:pt x="409" y="20"/>
                        </a:lnTo>
                        <a:lnTo>
                          <a:pt x="322" y="0"/>
                        </a:lnTo>
                        <a:lnTo>
                          <a:pt x="234" y="0"/>
                        </a:lnTo>
                        <a:lnTo>
                          <a:pt x="134" y="1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7671600" y="2842920"/>
                    <a:ext cx="1602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404">
                        <a:moveTo>
                          <a:pt x="0" y="0"/>
                        </a:moveTo>
                        <a:lnTo>
                          <a:pt x="27" y="53"/>
                        </a:lnTo>
                        <a:lnTo>
                          <a:pt x="53" y="121"/>
                        </a:lnTo>
                        <a:lnTo>
                          <a:pt x="67" y="181"/>
                        </a:lnTo>
                        <a:lnTo>
                          <a:pt x="80" y="248"/>
                        </a:lnTo>
                        <a:lnTo>
                          <a:pt x="94" y="315"/>
                        </a:lnTo>
                        <a:lnTo>
                          <a:pt x="154" y="343"/>
                        </a:lnTo>
                        <a:lnTo>
                          <a:pt x="228" y="350"/>
                        </a:lnTo>
                        <a:lnTo>
                          <a:pt x="308" y="343"/>
                        </a:lnTo>
                        <a:lnTo>
                          <a:pt x="348" y="337"/>
                        </a:lnTo>
                        <a:lnTo>
                          <a:pt x="389" y="337"/>
                        </a:lnTo>
                        <a:lnTo>
                          <a:pt x="442" y="364"/>
                        </a:lnTo>
                        <a:lnTo>
                          <a:pt x="496" y="404"/>
                        </a:lnTo>
                        <a:lnTo>
                          <a:pt x="543" y="343"/>
                        </a:lnTo>
                        <a:lnTo>
                          <a:pt x="570" y="302"/>
                        </a:lnTo>
                        <a:lnTo>
                          <a:pt x="607" y="268"/>
                        </a:lnTo>
                        <a:lnTo>
                          <a:pt x="563" y="227"/>
                        </a:lnTo>
                        <a:lnTo>
                          <a:pt x="497" y="176"/>
                        </a:lnTo>
                        <a:lnTo>
                          <a:pt x="447" y="150"/>
                        </a:lnTo>
                        <a:lnTo>
                          <a:pt x="379" y="116"/>
                        </a:lnTo>
                        <a:lnTo>
                          <a:pt x="328" y="96"/>
                        </a:lnTo>
                        <a:lnTo>
                          <a:pt x="249" y="66"/>
                        </a:lnTo>
                        <a:lnTo>
                          <a:pt x="181" y="43"/>
                        </a:lnTo>
                        <a:lnTo>
                          <a:pt x="107" y="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7922880" y="2833560"/>
                    <a:ext cx="55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86">
                        <a:moveTo>
                          <a:pt x="212" y="0"/>
                        </a:moveTo>
                        <a:lnTo>
                          <a:pt x="146" y="28"/>
                        </a:lnTo>
                        <a:lnTo>
                          <a:pt x="114" y="53"/>
                        </a:lnTo>
                        <a:lnTo>
                          <a:pt x="67" y="86"/>
                        </a:lnTo>
                        <a:lnTo>
                          <a:pt x="0" y="32"/>
                        </a:lnTo>
                        <a:lnTo>
                          <a:pt x="6" y="25"/>
                        </a:lnTo>
                        <a:lnTo>
                          <a:pt x="94" y="12"/>
                        </a:lnTo>
                        <a:lnTo>
                          <a:pt x="151" y="6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>
                    <a:off x="7963560" y="2846160"/>
                    <a:ext cx="1335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349">
                        <a:moveTo>
                          <a:pt x="407" y="7"/>
                        </a:moveTo>
                        <a:lnTo>
                          <a:pt x="449" y="27"/>
                        </a:lnTo>
                        <a:lnTo>
                          <a:pt x="469" y="54"/>
                        </a:lnTo>
                        <a:lnTo>
                          <a:pt x="496" y="130"/>
                        </a:lnTo>
                        <a:lnTo>
                          <a:pt x="496" y="177"/>
                        </a:lnTo>
                        <a:lnTo>
                          <a:pt x="499" y="249"/>
                        </a:lnTo>
                        <a:lnTo>
                          <a:pt x="439" y="270"/>
                        </a:lnTo>
                        <a:lnTo>
                          <a:pt x="385" y="291"/>
                        </a:lnTo>
                        <a:lnTo>
                          <a:pt x="328" y="321"/>
                        </a:lnTo>
                        <a:lnTo>
                          <a:pt x="292" y="349"/>
                        </a:lnTo>
                        <a:lnTo>
                          <a:pt x="234" y="346"/>
                        </a:lnTo>
                        <a:lnTo>
                          <a:pt x="158" y="315"/>
                        </a:lnTo>
                        <a:lnTo>
                          <a:pt x="88" y="299"/>
                        </a:lnTo>
                        <a:lnTo>
                          <a:pt x="6" y="291"/>
                        </a:lnTo>
                        <a:lnTo>
                          <a:pt x="0" y="260"/>
                        </a:lnTo>
                        <a:lnTo>
                          <a:pt x="26" y="218"/>
                        </a:lnTo>
                        <a:lnTo>
                          <a:pt x="78" y="170"/>
                        </a:lnTo>
                        <a:lnTo>
                          <a:pt x="129" y="127"/>
                        </a:lnTo>
                        <a:lnTo>
                          <a:pt x="193" y="83"/>
                        </a:lnTo>
                        <a:lnTo>
                          <a:pt x="264" y="38"/>
                        </a:lnTo>
                        <a:lnTo>
                          <a:pt x="342" y="8"/>
                        </a:lnTo>
                        <a:lnTo>
                          <a:pt x="378" y="0"/>
                        </a:lnTo>
                        <a:lnTo>
                          <a:pt x="407" y="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8027640" y="2931840"/>
                    <a:ext cx="118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544">
                        <a:moveTo>
                          <a:pt x="194" y="0"/>
                        </a:moveTo>
                        <a:lnTo>
                          <a:pt x="255" y="6"/>
                        </a:lnTo>
                        <a:lnTo>
                          <a:pt x="308" y="20"/>
                        </a:lnTo>
                        <a:lnTo>
                          <a:pt x="348" y="40"/>
                        </a:lnTo>
                        <a:lnTo>
                          <a:pt x="430" y="67"/>
                        </a:lnTo>
                        <a:lnTo>
                          <a:pt x="450" y="242"/>
                        </a:lnTo>
                        <a:lnTo>
                          <a:pt x="450" y="356"/>
                        </a:lnTo>
                        <a:lnTo>
                          <a:pt x="450" y="524"/>
                        </a:lnTo>
                        <a:lnTo>
                          <a:pt x="417" y="544"/>
                        </a:lnTo>
                        <a:lnTo>
                          <a:pt x="370" y="510"/>
                        </a:lnTo>
                        <a:lnTo>
                          <a:pt x="325" y="477"/>
                        </a:lnTo>
                        <a:lnTo>
                          <a:pt x="286" y="463"/>
                        </a:lnTo>
                        <a:lnTo>
                          <a:pt x="241" y="470"/>
                        </a:lnTo>
                        <a:lnTo>
                          <a:pt x="208" y="477"/>
                        </a:lnTo>
                        <a:lnTo>
                          <a:pt x="127" y="423"/>
                        </a:lnTo>
                        <a:lnTo>
                          <a:pt x="74" y="389"/>
                        </a:lnTo>
                        <a:lnTo>
                          <a:pt x="0" y="349"/>
                        </a:lnTo>
                        <a:lnTo>
                          <a:pt x="60" y="228"/>
                        </a:lnTo>
                        <a:lnTo>
                          <a:pt x="114" y="141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7906320" y="2919240"/>
                    <a:ext cx="11772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625">
                        <a:moveTo>
                          <a:pt x="0" y="115"/>
                        </a:moveTo>
                        <a:lnTo>
                          <a:pt x="87" y="54"/>
                        </a:lnTo>
                        <a:lnTo>
                          <a:pt x="167" y="26"/>
                        </a:lnTo>
                        <a:lnTo>
                          <a:pt x="234" y="0"/>
                        </a:lnTo>
                        <a:lnTo>
                          <a:pt x="301" y="20"/>
                        </a:lnTo>
                        <a:lnTo>
                          <a:pt x="382" y="54"/>
                        </a:lnTo>
                        <a:lnTo>
                          <a:pt x="442" y="101"/>
                        </a:lnTo>
                        <a:lnTo>
                          <a:pt x="442" y="236"/>
                        </a:lnTo>
                        <a:lnTo>
                          <a:pt x="435" y="343"/>
                        </a:lnTo>
                        <a:lnTo>
                          <a:pt x="435" y="424"/>
                        </a:lnTo>
                        <a:lnTo>
                          <a:pt x="435" y="538"/>
                        </a:lnTo>
                        <a:lnTo>
                          <a:pt x="368" y="592"/>
                        </a:lnTo>
                        <a:lnTo>
                          <a:pt x="315" y="625"/>
                        </a:lnTo>
                        <a:lnTo>
                          <a:pt x="281" y="619"/>
                        </a:lnTo>
                        <a:lnTo>
                          <a:pt x="201" y="565"/>
                        </a:lnTo>
                        <a:lnTo>
                          <a:pt x="181" y="545"/>
                        </a:lnTo>
                        <a:lnTo>
                          <a:pt x="154" y="538"/>
                        </a:lnTo>
                        <a:lnTo>
                          <a:pt x="127" y="538"/>
                        </a:lnTo>
                        <a:lnTo>
                          <a:pt x="53" y="592"/>
                        </a:lnTo>
                        <a:lnTo>
                          <a:pt x="33" y="585"/>
                        </a:lnTo>
                        <a:lnTo>
                          <a:pt x="20" y="511"/>
                        </a:lnTo>
                        <a:lnTo>
                          <a:pt x="13" y="417"/>
                        </a:lnTo>
                        <a:lnTo>
                          <a:pt x="13" y="316"/>
                        </a:lnTo>
                        <a:lnTo>
                          <a:pt x="20" y="229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>
                    <a:off x="7787520" y="2939760"/>
                    <a:ext cx="1126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524">
                        <a:moveTo>
                          <a:pt x="27" y="26"/>
                        </a:moveTo>
                        <a:lnTo>
                          <a:pt x="40" y="20"/>
                        </a:lnTo>
                        <a:lnTo>
                          <a:pt x="80" y="6"/>
                        </a:lnTo>
                        <a:lnTo>
                          <a:pt x="161" y="0"/>
                        </a:lnTo>
                        <a:lnTo>
                          <a:pt x="215" y="0"/>
                        </a:lnTo>
                        <a:lnTo>
                          <a:pt x="282" y="0"/>
                        </a:lnTo>
                        <a:lnTo>
                          <a:pt x="349" y="0"/>
                        </a:lnTo>
                        <a:lnTo>
                          <a:pt x="369" y="13"/>
                        </a:lnTo>
                        <a:lnTo>
                          <a:pt x="389" y="161"/>
                        </a:lnTo>
                        <a:lnTo>
                          <a:pt x="409" y="309"/>
                        </a:lnTo>
                        <a:lnTo>
                          <a:pt x="422" y="477"/>
                        </a:lnTo>
                        <a:lnTo>
                          <a:pt x="342" y="483"/>
                        </a:lnTo>
                        <a:lnTo>
                          <a:pt x="241" y="497"/>
                        </a:lnTo>
                        <a:lnTo>
                          <a:pt x="181" y="517"/>
                        </a:lnTo>
                        <a:lnTo>
                          <a:pt x="134" y="524"/>
                        </a:lnTo>
                        <a:lnTo>
                          <a:pt x="67" y="497"/>
                        </a:lnTo>
                        <a:lnTo>
                          <a:pt x="20" y="470"/>
                        </a:lnTo>
                        <a:lnTo>
                          <a:pt x="7" y="335"/>
                        </a:lnTo>
                        <a:lnTo>
                          <a:pt x="7" y="241"/>
                        </a:lnTo>
                        <a:lnTo>
                          <a:pt x="0" y="120"/>
                        </a:lnTo>
                        <a:lnTo>
                          <a:pt x="27" y="2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>
                    <a:off x="7664040" y="2941560"/>
                    <a:ext cx="1252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538">
                        <a:moveTo>
                          <a:pt x="0" y="27"/>
                        </a:moveTo>
                        <a:lnTo>
                          <a:pt x="60" y="20"/>
                        </a:lnTo>
                        <a:lnTo>
                          <a:pt x="114" y="14"/>
                        </a:lnTo>
                        <a:lnTo>
                          <a:pt x="154" y="0"/>
                        </a:lnTo>
                        <a:lnTo>
                          <a:pt x="194" y="0"/>
                        </a:lnTo>
                        <a:lnTo>
                          <a:pt x="241" y="14"/>
                        </a:lnTo>
                        <a:lnTo>
                          <a:pt x="315" y="74"/>
                        </a:lnTo>
                        <a:lnTo>
                          <a:pt x="375" y="114"/>
                        </a:lnTo>
                        <a:lnTo>
                          <a:pt x="415" y="182"/>
                        </a:lnTo>
                        <a:lnTo>
                          <a:pt x="462" y="262"/>
                        </a:lnTo>
                        <a:lnTo>
                          <a:pt x="476" y="289"/>
                        </a:lnTo>
                        <a:lnTo>
                          <a:pt x="456" y="376"/>
                        </a:lnTo>
                        <a:lnTo>
                          <a:pt x="422" y="471"/>
                        </a:lnTo>
                        <a:lnTo>
                          <a:pt x="342" y="531"/>
                        </a:lnTo>
                        <a:lnTo>
                          <a:pt x="275" y="538"/>
                        </a:lnTo>
                        <a:lnTo>
                          <a:pt x="174" y="531"/>
                        </a:lnTo>
                        <a:lnTo>
                          <a:pt x="87" y="511"/>
                        </a:lnTo>
                        <a:lnTo>
                          <a:pt x="47" y="471"/>
                        </a:lnTo>
                        <a:lnTo>
                          <a:pt x="13" y="262"/>
                        </a:lnTo>
                        <a:lnTo>
                          <a:pt x="0" y="1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7638120" y="2921040"/>
                    <a:ext cx="57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351">
                        <a:moveTo>
                          <a:pt x="87" y="0"/>
                        </a:moveTo>
                        <a:lnTo>
                          <a:pt x="189" y="136"/>
                        </a:lnTo>
                        <a:lnTo>
                          <a:pt x="209" y="176"/>
                        </a:lnTo>
                        <a:lnTo>
                          <a:pt x="216" y="230"/>
                        </a:lnTo>
                        <a:lnTo>
                          <a:pt x="216" y="277"/>
                        </a:lnTo>
                        <a:lnTo>
                          <a:pt x="155" y="351"/>
                        </a:lnTo>
                        <a:lnTo>
                          <a:pt x="121" y="290"/>
                        </a:lnTo>
                        <a:lnTo>
                          <a:pt x="81" y="223"/>
                        </a:lnTo>
                        <a:lnTo>
                          <a:pt x="40" y="176"/>
                        </a:lnTo>
                        <a:lnTo>
                          <a:pt x="0" y="14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>
                    <a:off x="7601760" y="2979720"/>
                    <a:ext cx="493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96">
                        <a:moveTo>
                          <a:pt x="74" y="0"/>
                        </a:moveTo>
                        <a:lnTo>
                          <a:pt x="74" y="61"/>
                        </a:lnTo>
                        <a:lnTo>
                          <a:pt x="60" y="108"/>
                        </a:lnTo>
                        <a:lnTo>
                          <a:pt x="0" y="168"/>
                        </a:lnTo>
                        <a:lnTo>
                          <a:pt x="47" y="222"/>
                        </a:lnTo>
                        <a:lnTo>
                          <a:pt x="94" y="262"/>
                        </a:lnTo>
                        <a:lnTo>
                          <a:pt x="141" y="289"/>
                        </a:lnTo>
                        <a:lnTo>
                          <a:pt x="161" y="296"/>
                        </a:lnTo>
                        <a:lnTo>
                          <a:pt x="161" y="275"/>
                        </a:lnTo>
                        <a:lnTo>
                          <a:pt x="161" y="242"/>
                        </a:lnTo>
                        <a:lnTo>
                          <a:pt x="161" y="195"/>
                        </a:lnTo>
                        <a:lnTo>
                          <a:pt x="168" y="114"/>
                        </a:lnTo>
                        <a:lnTo>
                          <a:pt x="183" y="84"/>
                        </a:lnTo>
                        <a:lnTo>
                          <a:pt x="115" y="47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>
                    <a:off x="7608240" y="3035160"/>
                    <a:ext cx="684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03">
                        <a:moveTo>
                          <a:pt x="75" y="0"/>
                        </a:moveTo>
                        <a:lnTo>
                          <a:pt x="182" y="74"/>
                        </a:lnTo>
                        <a:lnTo>
                          <a:pt x="256" y="121"/>
                        </a:lnTo>
                        <a:lnTo>
                          <a:pt x="242" y="242"/>
                        </a:lnTo>
                        <a:lnTo>
                          <a:pt x="182" y="289"/>
                        </a:lnTo>
                        <a:lnTo>
                          <a:pt x="142" y="303"/>
                        </a:lnTo>
                        <a:lnTo>
                          <a:pt x="95" y="282"/>
                        </a:lnTo>
                        <a:lnTo>
                          <a:pt x="60" y="256"/>
                        </a:lnTo>
                        <a:lnTo>
                          <a:pt x="0" y="162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8101800" y="2923920"/>
                    <a:ext cx="651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356">
                        <a:moveTo>
                          <a:pt x="238" y="0"/>
                        </a:moveTo>
                        <a:lnTo>
                          <a:pt x="244" y="28"/>
                        </a:lnTo>
                        <a:lnTo>
                          <a:pt x="180" y="145"/>
                        </a:lnTo>
                        <a:lnTo>
                          <a:pt x="130" y="221"/>
                        </a:lnTo>
                        <a:lnTo>
                          <a:pt x="41" y="356"/>
                        </a:lnTo>
                        <a:lnTo>
                          <a:pt x="9" y="303"/>
                        </a:lnTo>
                        <a:lnTo>
                          <a:pt x="0" y="264"/>
                        </a:lnTo>
                        <a:lnTo>
                          <a:pt x="26" y="233"/>
                        </a:lnTo>
                        <a:lnTo>
                          <a:pt x="63" y="202"/>
                        </a:lnTo>
                        <a:lnTo>
                          <a:pt x="114" y="152"/>
                        </a:lnTo>
                        <a:lnTo>
                          <a:pt x="154" y="96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7642800" y="3087720"/>
                    <a:ext cx="651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83">
                        <a:moveTo>
                          <a:pt x="101" y="0"/>
                        </a:moveTo>
                        <a:lnTo>
                          <a:pt x="134" y="27"/>
                        </a:lnTo>
                        <a:lnTo>
                          <a:pt x="161" y="67"/>
                        </a:lnTo>
                        <a:lnTo>
                          <a:pt x="196" y="94"/>
                        </a:lnTo>
                        <a:lnTo>
                          <a:pt x="243" y="121"/>
                        </a:lnTo>
                        <a:lnTo>
                          <a:pt x="223" y="168"/>
                        </a:lnTo>
                        <a:lnTo>
                          <a:pt x="181" y="203"/>
                        </a:lnTo>
                        <a:lnTo>
                          <a:pt x="128" y="243"/>
                        </a:lnTo>
                        <a:lnTo>
                          <a:pt x="67" y="263"/>
                        </a:lnTo>
                        <a:lnTo>
                          <a:pt x="7" y="283"/>
                        </a:lnTo>
                        <a:lnTo>
                          <a:pt x="7" y="196"/>
                        </a:lnTo>
                        <a:lnTo>
                          <a:pt x="7" y="121"/>
                        </a:lnTo>
                        <a:lnTo>
                          <a:pt x="0" y="40"/>
                        </a:lnTo>
                        <a:lnTo>
                          <a:pt x="101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7773120" y="3073320"/>
                    <a:ext cx="87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344">
                        <a:moveTo>
                          <a:pt x="274" y="0"/>
                        </a:moveTo>
                        <a:lnTo>
                          <a:pt x="321" y="34"/>
                        </a:lnTo>
                        <a:lnTo>
                          <a:pt x="328" y="141"/>
                        </a:lnTo>
                        <a:lnTo>
                          <a:pt x="328" y="195"/>
                        </a:lnTo>
                        <a:lnTo>
                          <a:pt x="328" y="243"/>
                        </a:lnTo>
                        <a:lnTo>
                          <a:pt x="295" y="324"/>
                        </a:lnTo>
                        <a:lnTo>
                          <a:pt x="248" y="331"/>
                        </a:lnTo>
                        <a:lnTo>
                          <a:pt x="167" y="344"/>
                        </a:lnTo>
                        <a:lnTo>
                          <a:pt x="87" y="344"/>
                        </a:lnTo>
                        <a:lnTo>
                          <a:pt x="20" y="337"/>
                        </a:lnTo>
                        <a:lnTo>
                          <a:pt x="0" y="250"/>
                        </a:lnTo>
                        <a:lnTo>
                          <a:pt x="6" y="175"/>
                        </a:lnTo>
                        <a:lnTo>
                          <a:pt x="0" y="121"/>
                        </a:lnTo>
                        <a:lnTo>
                          <a:pt x="0" y="61"/>
                        </a:lnTo>
                        <a:lnTo>
                          <a:pt x="53" y="34"/>
                        </a:lnTo>
                        <a:lnTo>
                          <a:pt x="154" y="21"/>
                        </a:lnTo>
                        <a:lnTo>
                          <a:pt x="274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7863480" y="3073320"/>
                    <a:ext cx="8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334">
                        <a:moveTo>
                          <a:pt x="175" y="0"/>
                        </a:moveTo>
                        <a:lnTo>
                          <a:pt x="275" y="47"/>
                        </a:lnTo>
                        <a:lnTo>
                          <a:pt x="302" y="74"/>
                        </a:lnTo>
                        <a:lnTo>
                          <a:pt x="315" y="168"/>
                        </a:lnTo>
                        <a:lnTo>
                          <a:pt x="315" y="237"/>
                        </a:lnTo>
                        <a:lnTo>
                          <a:pt x="325" y="331"/>
                        </a:lnTo>
                        <a:lnTo>
                          <a:pt x="282" y="334"/>
                        </a:lnTo>
                        <a:lnTo>
                          <a:pt x="215" y="331"/>
                        </a:lnTo>
                        <a:lnTo>
                          <a:pt x="141" y="327"/>
                        </a:lnTo>
                        <a:lnTo>
                          <a:pt x="61" y="321"/>
                        </a:lnTo>
                        <a:lnTo>
                          <a:pt x="14" y="202"/>
                        </a:lnTo>
                        <a:lnTo>
                          <a:pt x="0" y="94"/>
                        </a:lnTo>
                        <a:lnTo>
                          <a:pt x="17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7941960" y="3068640"/>
                    <a:ext cx="698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334">
                        <a:moveTo>
                          <a:pt x="100" y="0"/>
                        </a:moveTo>
                        <a:lnTo>
                          <a:pt x="214" y="81"/>
                        </a:lnTo>
                        <a:lnTo>
                          <a:pt x="214" y="134"/>
                        </a:lnTo>
                        <a:lnTo>
                          <a:pt x="221" y="201"/>
                        </a:lnTo>
                        <a:lnTo>
                          <a:pt x="234" y="263"/>
                        </a:lnTo>
                        <a:lnTo>
                          <a:pt x="264" y="323"/>
                        </a:lnTo>
                        <a:lnTo>
                          <a:pt x="201" y="320"/>
                        </a:lnTo>
                        <a:lnTo>
                          <a:pt x="137" y="334"/>
                        </a:lnTo>
                        <a:lnTo>
                          <a:pt x="60" y="334"/>
                        </a:lnTo>
                        <a:lnTo>
                          <a:pt x="26" y="276"/>
                        </a:lnTo>
                        <a:lnTo>
                          <a:pt x="0" y="215"/>
                        </a:lnTo>
                        <a:lnTo>
                          <a:pt x="0" y="134"/>
                        </a:lnTo>
                        <a:lnTo>
                          <a:pt x="0" y="74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8003160" y="3079800"/>
                    <a:ext cx="637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97">
                        <a:moveTo>
                          <a:pt x="195" y="34"/>
                        </a:moveTo>
                        <a:lnTo>
                          <a:pt x="188" y="88"/>
                        </a:lnTo>
                        <a:lnTo>
                          <a:pt x="188" y="155"/>
                        </a:lnTo>
                        <a:lnTo>
                          <a:pt x="195" y="202"/>
                        </a:lnTo>
                        <a:lnTo>
                          <a:pt x="209" y="243"/>
                        </a:lnTo>
                        <a:lnTo>
                          <a:pt x="243" y="290"/>
                        </a:lnTo>
                        <a:lnTo>
                          <a:pt x="188" y="297"/>
                        </a:lnTo>
                        <a:lnTo>
                          <a:pt x="112" y="283"/>
                        </a:lnTo>
                        <a:lnTo>
                          <a:pt x="43" y="257"/>
                        </a:lnTo>
                        <a:lnTo>
                          <a:pt x="0" y="242"/>
                        </a:lnTo>
                        <a:lnTo>
                          <a:pt x="3" y="183"/>
                        </a:lnTo>
                        <a:lnTo>
                          <a:pt x="16" y="135"/>
                        </a:lnTo>
                        <a:lnTo>
                          <a:pt x="33" y="101"/>
                        </a:lnTo>
                        <a:lnTo>
                          <a:pt x="60" y="62"/>
                        </a:lnTo>
                        <a:lnTo>
                          <a:pt x="97" y="27"/>
                        </a:lnTo>
                        <a:lnTo>
                          <a:pt x="147" y="0"/>
                        </a:lnTo>
                        <a:lnTo>
                          <a:pt x="195" y="3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8044560" y="3062160"/>
                    <a:ext cx="81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95">
                        <a:moveTo>
                          <a:pt x="303" y="64"/>
                        </a:moveTo>
                        <a:lnTo>
                          <a:pt x="257" y="106"/>
                        </a:lnTo>
                        <a:lnTo>
                          <a:pt x="222" y="151"/>
                        </a:lnTo>
                        <a:lnTo>
                          <a:pt x="203" y="198"/>
                        </a:lnTo>
                        <a:lnTo>
                          <a:pt x="191" y="250"/>
                        </a:lnTo>
                        <a:lnTo>
                          <a:pt x="195" y="295"/>
                        </a:lnTo>
                        <a:lnTo>
                          <a:pt x="148" y="275"/>
                        </a:lnTo>
                        <a:lnTo>
                          <a:pt x="94" y="251"/>
                        </a:lnTo>
                        <a:lnTo>
                          <a:pt x="43" y="220"/>
                        </a:lnTo>
                        <a:lnTo>
                          <a:pt x="0" y="196"/>
                        </a:lnTo>
                        <a:lnTo>
                          <a:pt x="32" y="132"/>
                        </a:lnTo>
                        <a:lnTo>
                          <a:pt x="61" y="78"/>
                        </a:lnTo>
                        <a:lnTo>
                          <a:pt x="77" y="59"/>
                        </a:lnTo>
                        <a:lnTo>
                          <a:pt x="99" y="39"/>
                        </a:lnTo>
                        <a:lnTo>
                          <a:pt x="125" y="23"/>
                        </a:lnTo>
                        <a:lnTo>
                          <a:pt x="154" y="10"/>
                        </a:lnTo>
                        <a:lnTo>
                          <a:pt x="205" y="0"/>
                        </a:lnTo>
                        <a:lnTo>
                          <a:pt x="303" y="6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8103600" y="3030480"/>
                    <a:ext cx="936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302">
                        <a:moveTo>
                          <a:pt x="147" y="0"/>
                        </a:moveTo>
                        <a:lnTo>
                          <a:pt x="221" y="38"/>
                        </a:lnTo>
                        <a:lnTo>
                          <a:pt x="297" y="81"/>
                        </a:lnTo>
                        <a:lnTo>
                          <a:pt x="351" y="116"/>
                        </a:lnTo>
                        <a:lnTo>
                          <a:pt x="294" y="197"/>
                        </a:lnTo>
                        <a:lnTo>
                          <a:pt x="242" y="302"/>
                        </a:lnTo>
                        <a:lnTo>
                          <a:pt x="186" y="285"/>
                        </a:lnTo>
                        <a:lnTo>
                          <a:pt x="118" y="256"/>
                        </a:lnTo>
                        <a:lnTo>
                          <a:pt x="56" y="221"/>
                        </a:lnTo>
                        <a:lnTo>
                          <a:pt x="0" y="179"/>
                        </a:lnTo>
                        <a:lnTo>
                          <a:pt x="43" y="124"/>
                        </a:lnTo>
                        <a:lnTo>
                          <a:pt x="98" y="53"/>
                        </a:lnTo>
                        <a:lnTo>
                          <a:pt x="147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8165160" y="3001680"/>
                    <a:ext cx="58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55">
                        <a:moveTo>
                          <a:pt x="220" y="87"/>
                        </a:moveTo>
                        <a:lnTo>
                          <a:pt x="193" y="53"/>
                        </a:lnTo>
                        <a:lnTo>
                          <a:pt x="180" y="0"/>
                        </a:lnTo>
                        <a:lnTo>
                          <a:pt x="117" y="38"/>
                        </a:lnTo>
                        <a:lnTo>
                          <a:pt x="22" y="116"/>
                        </a:lnTo>
                        <a:lnTo>
                          <a:pt x="0" y="130"/>
                        </a:lnTo>
                        <a:lnTo>
                          <a:pt x="28" y="205"/>
                        </a:lnTo>
                        <a:lnTo>
                          <a:pt x="86" y="255"/>
                        </a:lnTo>
                        <a:lnTo>
                          <a:pt x="220" y="8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16" name=""/>
          <p:cNvGrpSpPr/>
          <p:nvPr/>
        </p:nvGrpSpPr>
        <p:grpSpPr>
          <a:xfrm>
            <a:off x="383400" y="1828800"/>
            <a:ext cx="3960000" cy="2395080"/>
            <a:chOff x="383400" y="1828800"/>
            <a:chExt cx="3960000" cy="2395080"/>
          </a:xfrm>
        </p:grpSpPr>
        <p:sp>
          <p:nvSpPr>
            <p:cNvPr id="417" name=""/>
            <p:cNvSpPr/>
            <p:nvPr/>
          </p:nvSpPr>
          <p:spPr>
            <a:xfrm>
              <a:off x="3733920" y="289548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83400" y="1828800"/>
              <a:ext cx="3302280" cy="2395080"/>
              <a:chOff x="383400" y="1828800"/>
              <a:chExt cx="3302280" cy="2395080"/>
            </a:xfrm>
          </p:grpSpPr>
          <p:sp>
            <p:nvSpPr>
              <p:cNvPr id="419" name=""/>
              <p:cNvSpPr/>
              <p:nvPr/>
            </p:nvSpPr>
            <p:spPr>
              <a:xfrm>
                <a:off x="1298160" y="3581280"/>
                <a:ext cx="134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9900"/>
                    </a:solidFill>
                    <a:uFillTx/>
                    <a:latin typeface="Arial"/>
                  </a:rPr>
                  <a:t>Resour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9900"/>
                    </a:solidFill>
                    <a:uFillTx/>
                    <a:latin typeface="Arial"/>
                  </a:rPr>
                  <a:t>Requir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883600" y="2527920"/>
                <a:ext cx="802080" cy="802080"/>
                <a:chOff x="2883600" y="2527920"/>
                <a:chExt cx="802080" cy="80208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2883600" y="2527920"/>
                  <a:ext cx="802080" cy="802080"/>
                  <a:chOff x="2883600" y="2527920"/>
                  <a:chExt cx="802080" cy="80208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2883600" y="2527920"/>
                    <a:ext cx="802080" cy="802080"/>
                    <a:chOff x="2883600" y="2527920"/>
                    <a:chExt cx="802080" cy="802080"/>
                  </a:xfrm>
                </p:grpSpPr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2883600" y="2527920"/>
                      <a:ext cx="802080" cy="802080"/>
                      <a:chOff x="2883600" y="2527920"/>
                      <a:chExt cx="802080" cy="802080"/>
                    </a:xfrm>
                  </p:grpSpPr>
                  <p:sp>
                    <p:nvSpPr>
                      <p:cNvPr id="424" name=""/>
                      <p:cNvSpPr/>
                      <p:nvPr/>
                    </p:nvSpPr>
                    <p:spPr>
                      <a:xfrm rot="1408800">
                        <a:off x="2941560" y="280764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200"/>
                            </a:lnTo>
                            <a:lnTo>
                              <a:pt x="2595" y="1986"/>
                            </a:lnTo>
                            <a:lnTo>
                              <a:pt x="2786" y="1833"/>
                            </a:lnTo>
                            <a:lnTo>
                              <a:pt x="3055" y="1640"/>
                            </a:lnTo>
                            <a:lnTo>
                              <a:pt x="3334" y="1439"/>
                            </a:lnTo>
                            <a:lnTo>
                              <a:pt x="3565" y="1265"/>
                            </a:lnTo>
                            <a:lnTo>
                              <a:pt x="3776" y="1120"/>
                            </a:lnTo>
                            <a:lnTo>
                              <a:pt x="3980" y="986"/>
                            </a:lnTo>
                            <a:lnTo>
                              <a:pt x="4181" y="851"/>
                            </a:lnTo>
                            <a:lnTo>
                              <a:pt x="4384" y="725"/>
                            </a:lnTo>
                            <a:lnTo>
                              <a:pt x="2938" y="0"/>
                            </a:lnTo>
                            <a:lnTo>
                              <a:pt x="2700" y="140"/>
                            </a:lnTo>
                            <a:lnTo>
                              <a:pt x="2459" y="293"/>
                            </a:lnTo>
                            <a:lnTo>
                              <a:pt x="2276" y="418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9"/>
                            </a:lnTo>
                            <a:lnTo>
                              <a:pt x="1363" y="1102"/>
                            </a:lnTo>
                            <a:lnTo>
                              <a:pt x="1084" y="1275"/>
                            </a:lnTo>
                            <a:lnTo>
                              <a:pt x="823" y="1429"/>
                            </a:lnTo>
                            <a:lnTo>
                              <a:pt x="534" y="1632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 rot="1408800">
                        <a:off x="2945880" y="279756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3"/>
                            </a:moveTo>
                            <a:lnTo>
                              <a:pt x="1608" y="2857"/>
                            </a:lnTo>
                            <a:lnTo>
                              <a:pt x="1863" y="2620"/>
                            </a:lnTo>
                            <a:lnTo>
                              <a:pt x="2103" y="2399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1"/>
                            </a:lnTo>
                            <a:lnTo>
                              <a:pt x="3055" y="1640"/>
                            </a:lnTo>
                            <a:lnTo>
                              <a:pt x="3334" y="1437"/>
                            </a:lnTo>
                            <a:lnTo>
                              <a:pt x="3565" y="1264"/>
                            </a:lnTo>
                            <a:lnTo>
                              <a:pt x="3776" y="1120"/>
                            </a:lnTo>
                            <a:lnTo>
                              <a:pt x="3980" y="985"/>
                            </a:lnTo>
                            <a:lnTo>
                              <a:pt x="4181" y="851"/>
                            </a:lnTo>
                            <a:lnTo>
                              <a:pt x="4384" y="724"/>
                            </a:lnTo>
                            <a:lnTo>
                              <a:pt x="2938" y="0"/>
                            </a:lnTo>
                            <a:lnTo>
                              <a:pt x="2700" y="138"/>
                            </a:lnTo>
                            <a:lnTo>
                              <a:pt x="2459" y="291"/>
                            </a:lnTo>
                            <a:lnTo>
                              <a:pt x="2276" y="417"/>
                            </a:lnTo>
                            <a:lnTo>
                              <a:pt x="2085" y="570"/>
                            </a:lnTo>
                            <a:lnTo>
                              <a:pt x="1881" y="736"/>
                            </a:lnTo>
                            <a:lnTo>
                              <a:pt x="1680" y="909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7"/>
                            </a:lnTo>
                            <a:lnTo>
                              <a:pt x="534" y="1630"/>
                            </a:lnTo>
                            <a:lnTo>
                              <a:pt x="275" y="1821"/>
                            </a:lnTo>
                            <a:lnTo>
                              <a:pt x="0" y="2053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 rot="1408800">
                        <a:off x="2950560" y="278676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0"/>
                            </a:lnTo>
                            <a:lnTo>
                              <a:pt x="2334" y="2197"/>
                            </a:lnTo>
                            <a:lnTo>
                              <a:pt x="2595" y="1986"/>
                            </a:lnTo>
                            <a:lnTo>
                              <a:pt x="2786" y="1833"/>
                            </a:lnTo>
                            <a:lnTo>
                              <a:pt x="3055" y="1639"/>
                            </a:lnTo>
                            <a:lnTo>
                              <a:pt x="3334" y="1438"/>
                            </a:lnTo>
                            <a:lnTo>
                              <a:pt x="3565" y="1265"/>
                            </a:lnTo>
                            <a:lnTo>
                              <a:pt x="3776" y="1119"/>
                            </a:lnTo>
                            <a:lnTo>
                              <a:pt x="3980" y="986"/>
                            </a:lnTo>
                            <a:lnTo>
                              <a:pt x="4181" y="850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3"/>
                            </a:lnTo>
                            <a:lnTo>
                              <a:pt x="2276" y="418"/>
                            </a:lnTo>
                            <a:lnTo>
                              <a:pt x="2085" y="571"/>
                            </a:lnTo>
                            <a:lnTo>
                              <a:pt x="1881" y="735"/>
                            </a:lnTo>
                            <a:lnTo>
                              <a:pt x="1680" y="908"/>
                            </a:lnTo>
                            <a:lnTo>
                              <a:pt x="1363" y="1101"/>
                            </a:lnTo>
                            <a:lnTo>
                              <a:pt x="1084" y="1273"/>
                            </a:lnTo>
                            <a:lnTo>
                              <a:pt x="823" y="1428"/>
                            </a:lnTo>
                            <a:lnTo>
                              <a:pt x="534" y="1629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 rot="1408800">
                        <a:off x="2954880" y="277668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0"/>
                            </a:moveTo>
                            <a:lnTo>
                              <a:pt x="1608" y="2857"/>
                            </a:lnTo>
                            <a:lnTo>
                              <a:pt x="1863" y="2620"/>
                            </a:lnTo>
                            <a:lnTo>
                              <a:pt x="2103" y="2399"/>
                            </a:lnTo>
                            <a:lnTo>
                              <a:pt x="2334" y="2198"/>
                            </a:lnTo>
                            <a:lnTo>
                              <a:pt x="2595" y="1984"/>
                            </a:lnTo>
                            <a:lnTo>
                              <a:pt x="2786" y="1831"/>
                            </a:lnTo>
                            <a:lnTo>
                              <a:pt x="3055" y="1638"/>
                            </a:lnTo>
                            <a:lnTo>
                              <a:pt x="3334" y="1436"/>
                            </a:lnTo>
                            <a:lnTo>
                              <a:pt x="3565" y="1263"/>
                            </a:lnTo>
                            <a:lnTo>
                              <a:pt x="3776" y="1120"/>
                            </a:lnTo>
                            <a:lnTo>
                              <a:pt x="3980" y="984"/>
                            </a:lnTo>
                            <a:lnTo>
                              <a:pt x="4181" y="849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1"/>
                            </a:lnTo>
                            <a:lnTo>
                              <a:pt x="2276" y="416"/>
                            </a:lnTo>
                            <a:lnTo>
                              <a:pt x="2085" y="570"/>
                            </a:lnTo>
                            <a:lnTo>
                              <a:pt x="1881" y="733"/>
                            </a:lnTo>
                            <a:lnTo>
                              <a:pt x="1680" y="906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6"/>
                            </a:lnTo>
                            <a:lnTo>
                              <a:pt x="534" y="1630"/>
                            </a:lnTo>
                            <a:lnTo>
                              <a:pt x="275" y="1821"/>
                            </a:lnTo>
                            <a:lnTo>
                              <a:pt x="0" y="2050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 rot="1408800">
                        <a:off x="2959200" y="276624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399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1"/>
                            </a:lnTo>
                            <a:lnTo>
                              <a:pt x="3055" y="1640"/>
                            </a:lnTo>
                            <a:lnTo>
                              <a:pt x="3334" y="1437"/>
                            </a:lnTo>
                            <a:lnTo>
                              <a:pt x="3565" y="1263"/>
                            </a:lnTo>
                            <a:lnTo>
                              <a:pt x="3776" y="1120"/>
                            </a:lnTo>
                            <a:lnTo>
                              <a:pt x="3980" y="984"/>
                            </a:lnTo>
                            <a:lnTo>
                              <a:pt x="4181" y="851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8"/>
                            </a:lnTo>
                            <a:lnTo>
                              <a:pt x="2459" y="291"/>
                            </a:lnTo>
                            <a:lnTo>
                              <a:pt x="2276" y="417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9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7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 rot="1408800">
                        <a:off x="2963880" y="275580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0"/>
                            </a:lnTo>
                            <a:lnTo>
                              <a:pt x="2334" y="2197"/>
                            </a:lnTo>
                            <a:lnTo>
                              <a:pt x="2595" y="1986"/>
                            </a:lnTo>
                            <a:lnTo>
                              <a:pt x="2786" y="1833"/>
                            </a:lnTo>
                            <a:lnTo>
                              <a:pt x="3055" y="1639"/>
                            </a:lnTo>
                            <a:lnTo>
                              <a:pt x="3334" y="1438"/>
                            </a:lnTo>
                            <a:lnTo>
                              <a:pt x="3565" y="1265"/>
                            </a:lnTo>
                            <a:lnTo>
                              <a:pt x="3776" y="1119"/>
                            </a:lnTo>
                            <a:lnTo>
                              <a:pt x="3980" y="986"/>
                            </a:lnTo>
                            <a:lnTo>
                              <a:pt x="4181" y="850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9"/>
                            </a:lnTo>
                            <a:lnTo>
                              <a:pt x="2459" y="292"/>
                            </a:lnTo>
                            <a:lnTo>
                              <a:pt x="2276" y="418"/>
                            </a:lnTo>
                            <a:lnTo>
                              <a:pt x="2085" y="571"/>
                            </a:lnTo>
                            <a:lnTo>
                              <a:pt x="1881" y="735"/>
                            </a:lnTo>
                            <a:lnTo>
                              <a:pt x="1680" y="908"/>
                            </a:lnTo>
                            <a:lnTo>
                              <a:pt x="1363" y="1101"/>
                            </a:lnTo>
                            <a:lnTo>
                              <a:pt x="1084" y="1275"/>
                            </a:lnTo>
                            <a:lnTo>
                              <a:pt x="823" y="1428"/>
                            </a:lnTo>
                            <a:lnTo>
                              <a:pt x="534" y="1629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 rot="1408800">
                        <a:off x="2968200" y="274572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0"/>
                            </a:moveTo>
                            <a:lnTo>
                              <a:pt x="1608" y="2857"/>
                            </a:lnTo>
                            <a:lnTo>
                              <a:pt x="1863" y="2620"/>
                            </a:lnTo>
                            <a:lnTo>
                              <a:pt x="2103" y="2399"/>
                            </a:lnTo>
                            <a:lnTo>
                              <a:pt x="2334" y="2197"/>
                            </a:lnTo>
                            <a:lnTo>
                              <a:pt x="2595" y="1984"/>
                            </a:lnTo>
                            <a:lnTo>
                              <a:pt x="2786" y="1831"/>
                            </a:lnTo>
                            <a:lnTo>
                              <a:pt x="3055" y="1638"/>
                            </a:lnTo>
                            <a:lnTo>
                              <a:pt x="3334" y="1436"/>
                            </a:lnTo>
                            <a:lnTo>
                              <a:pt x="3565" y="1263"/>
                            </a:lnTo>
                            <a:lnTo>
                              <a:pt x="3776" y="1120"/>
                            </a:lnTo>
                            <a:lnTo>
                              <a:pt x="3980" y="984"/>
                            </a:lnTo>
                            <a:lnTo>
                              <a:pt x="4181" y="849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1"/>
                            </a:lnTo>
                            <a:lnTo>
                              <a:pt x="2276" y="416"/>
                            </a:lnTo>
                            <a:lnTo>
                              <a:pt x="2085" y="570"/>
                            </a:lnTo>
                            <a:lnTo>
                              <a:pt x="1881" y="733"/>
                            </a:lnTo>
                            <a:lnTo>
                              <a:pt x="1680" y="906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6"/>
                            </a:lnTo>
                            <a:lnTo>
                              <a:pt x="534" y="1630"/>
                            </a:lnTo>
                            <a:lnTo>
                              <a:pt x="275" y="1821"/>
                            </a:lnTo>
                            <a:lnTo>
                              <a:pt x="0" y="2050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 rot="1408800">
                        <a:off x="2972880" y="273528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399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1"/>
                            </a:lnTo>
                            <a:lnTo>
                              <a:pt x="3055" y="1640"/>
                            </a:lnTo>
                            <a:lnTo>
                              <a:pt x="3334" y="1437"/>
                            </a:lnTo>
                            <a:lnTo>
                              <a:pt x="3565" y="1263"/>
                            </a:lnTo>
                            <a:lnTo>
                              <a:pt x="3776" y="1120"/>
                            </a:lnTo>
                            <a:lnTo>
                              <a:pt x="3980" y="984"/>
                            </a:lnTo>
                            <a:lnTo>
                              <a:pt x="4181" y="851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8"/>
                            </a:lnTo>
                            <a:lnTo>
                              <a:pt x="2459" y="293"/>
                            </a:lnTo>
                            <a:lnTo>
                              <a:pt x="2276" y="417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9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9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 rot="1408800">
                        <a:off x="2977560" y="272484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8">
                            <a:moveTo>
                              <a:pt x="0" y="2053"/>
                            </a:moveTo>
                            <a:lnTo>
                              <a:pt x="1608" y="2858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3"/>
                            </a:lnTo>
                            <a:lnTo>
                              <a:pt x="3055" y="1640"/>
                            </a:lnTo>
                            <a:lnTo>
                              <a:pt x="3334" y="1439"/>
                            </a:lnTo>
                            <a:lnTo>
                              <a:pt x="3565" y="1266"/>
                            </a:lnTo>
                            <a:lnTo>
                              <a:pt x="3776" y="1120"/>
                            </a:lnTo>
                            <a:lnTo>
                              <a:pt x="3980" y="987"/>
                            </a:lnTo>
                            <a:lnTo>
                              <a:pt x="4181" y="851"/>
                            </a:lnTo>
                            <a:lnTo>
                              <a:pt x="4384" y="724"/>
                            </a:lnTo>
                            <a:lnTo>
                              <a:pt x="2938" y="0"/>
                            </a:lnTo>
                            <a:lnTo>
                              <a:pt x="2700" y="140"/>
                            </a:lnTo>
                            <a:lnTo>
                              <a:pt x="2459" y="293"/>
                            </a:lnTo>
                            <a:lnTo>
                              <a:pt x="2276" y="419"/>
                            </a:lnTo>
                            <a:lnTo>
                              <a:pt x="2085" y="572"/>
                            </a:lnTo>
                            <a:lnTo>
                              <a:pt x="1881" y="736"/>
                            </a:lnTo>
                            <a:lnTo>
                              <a:pt x="1680" y="909"/>
                            </a:lnTo>
                            <a:lnTo>
                              <a:pt x="1363" y="1102"/>
                            </a:lnTo>
                            <a:lnTo>
                              <a:pt x="1084" y="1276"/>
                            </a:lnTo>
                            <a:lnTo>
                              <a:pt x="823" y="1429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3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 rot="1408800">
                        <a:off x="2981880" y="271440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0"/>
                            </a:moveTo>
                            <a:lnTo>
                              <a:pt x="1608" y="2857"/>
                            </a:lnTo>
                            <a:lnTo>
                              <a:pt x="1863" y="2620"/>
                            </a:lnTo>
                            <a:lnTo>
                              <a:pt x="2103" y="2399"/>
                            </a:lnTo>
                            <a:lnTo>
                              <a:pt x="2334" y="2197"/>
                            </a:lnTo>
                            <a:lnTo>
                              <a:pt x="2595" y="1984"/>
                            </a:lnTo>
                            <a:lnTo>
                              <a:pt x="2786" y="1831"/>
                            </a:lnTo>
                            <a:lnTo>
                              <a:pt x="3055" y="1639"/>
                            </a:lnTo>
                            <a:lnTo>
                              <a:pt x="3334" y="1436"/>
                            </a:lnTo>
                            <a:lnTo>
                              <a:pt x="3565" y="1263"/>
                            </a:lnTo>
                            <a:lnTo>
                              <a:pt x="3776" y="1119"/>
                            </a:lnTo>
                            <a:lnTo>
                              <a:pt x="3980" y="984"/>
                            </a:lnTo>
                            <a:lnTo>
                              <a:pt x="4181" y="848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1"/>
                            </a:lnTo>
                            <a:lnTo>
                              <a:pt x="2276" y="416"/>
                            </a:lnTo>
                            <a:lnTo>
                              <a:pt x="2085" y="570"/>
                            </a:lnTo>
                            <a:lnTo>
                              <a:pt x="1881" y="733"/>
                            </a:lnTo>
                            <a:lnTo>
                              <a:pt x="1680" y="906"/>
                            </a:lnTo>
                            <a:lnTo>
                              <a:pt x="1363" y="1099"/>
                            </a:lnTo>
                            <a:lnTo>
                              <a:pt x="1084" y="1273"/>
                            </a:lnTo>
                            <a:lnTo>
                              <a:pt x="823" y="1426"/>
                            </a:lnTo>
                            <a:lnTo>
                              <a:pt x="534" y="1629"/>
                            </a:lnTo>
                            <a:lnTo>
                              <a:pt x="275" y="1821"/>
                            </a:lnTo>
                            <a:lnTo>
                              <a:pt x="0" y="2050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 rot="1408800">
                        <a:off x="2986200" y="270432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198"/>
                            </a:lnTo>
                            <a:lnTo>
                              <a:pt x="2595" y="1986"/>
                            </a:lnTo>
                            <a:lnTo>
                              <a:pt x="2786" y="1831"/>
                            </a:lnTo>
                            <a:lnTo>
                              <a:pt x="3055" y="1640"/>
                            </a:lnTo>
                            <a:lnTo>
                              <a:pt x="3334" y="1437"/>
                            </a:lnTo>
                            <a:lnTo>
                              <a:pt x="3565" y="1263"/>
                            </a:lnTo>
                            <a:lnTo>
                              <a:pt x="3776" y="1120"/>
                            </a:lnTo>
                            <a:lnTo>
                              <a:pt x="3980" y="984"/>
                            </a:lnTo>
                            <a:lnTo>
                              <a:pt x="4181" y="851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3"/>
                            </a:lnTo>
                            <a:lnTo>
                              <a:pt x="2276" y="416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9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9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 rot="1408800">
                        <a:off x="2990880" y="269388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3"/>
                            </a:lnTo>
                            <a:lnTo>
                              <a:pt x="3055" y="1640"/>
                            </a:lnTo>
                            <a:lnTo>
                              <a:pt x="3334" y="1439"/>
                            </a:lnTo>
                            <a:lnTo>
                              <a:pt x="3565" y="1265"/>
                            </a:lnTo>
                            <a:lnTo>
                              <a:pt x="3776" y="1120"/>
                            </a:lnTo>
                            <a:lnTo>
                              <a:pt x="3980" y="987"/>
                            </a:lnTo>
                            <a:lnTo>
                              <a:pt x="4181" y="851"/>
                            </a:lnTo>
                            <a:lnTo>
                              <a:pt x="4384" y="724"/>
                            </a:lnTo>
                            <a:lnTo>
                              <a:pt x="2938" y="0"/>
                            </a:lnTo>
                            <a:lnTo>
                              <a:pt x="2700" y="140"/>
                            </a:lnTo>
                            <a:lnTo>
                              <a:pt x="2459" y="293"/>
                            </a:lnTo>
                            <a:lnTo>
                              <a:pt x="2276" y="419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9"/>
                            </a:lnTo>
                            <a:lnTo>
                              <a:pt x="1363" y="1102"/>
                            </a:lnTo>
                            <a:lnTo>
                              <a:pt x="1084" y="1275"/>
                            </a:lnTo>
                            <a:lnTo>
                              <a:pt x="823" y="1429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 rot="1408800">
                        <a:off x="2995200" y="268344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0"/>
                            </a:lnTo>
                            <a:lnTo>
                              <a:pt x="2103" y="2398"/>
                            </a:lnTo>
                            <a:lnTo>
                              <a:pt x="2334" y="2197"/>
                            </a:lnTo>
                            <a:lnTo>
                              <a:pt x="2595" y="1984"/>
                            </a:lnTo>
                            <a:lnTo>
                              <a:pt x="2786" y="1831"/>
                            </a:lnTo>
                            <a:lnTo>
                              <a:pt x="3055" y="1639"/>
                            </a:lnTo>
                            <a:lnTo>
                              <a:pt x="3334" y="1436"/>
                            </a:lnTo>
                            <a:lnTo>
                              <a:pt x="3565" y="1263"/>
                            </a:lnTo>
                            <a:lnTo>
                              <a:pt x="3776" y="1119"/>
                            </a:lnTo>
                            <a:lnTo>
                              <a:pt x="3980" y="984"/>
                            </a:lnTo>
                            <a:lnTo>
                              <a:pt x="4181" y="848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0"/>
                            </a:lnTo>
                            <a:lnTo>
                              <a:pt x="2276" y="416"/>
                            </a:lnTo>
                            <a:lnTo>
                              <a:pt x="2085" y="569"/>
                            </a:lnTo>
                            <a:lnTo>
                              <a:pt x="1881" y="733"/>
                            </a:lnTo>
                            <a:lnTo>
                              <a:pt x="1680" y="906"/>
                            </a:lnTo>
                            <a:lnTo>
                              <a:pt x="1363" y="1099"/>
                            </a:lnTo>
                            <a:lnTo>
                              <a:pt x="1084" y="1273"/>
                            </a:lnTo>
                            <a:lnTo>
                              <a:pt x="823" y="1426"/>
                            </a:lnTo>
                            <a:lnTo>
                              <a:pt x="534" y="1629"/>
                            </a:lnTo>
                            <a:lnTo>
                              <a:pt x="275" y="1821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 rot="1408800">
                        <a:off x="2999880" y="2673000"/>
                        <a:ext cx="60948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197"/>
                            </a:lnTo>
                            <a:lnTo>
                              <a:pt x="2595" y="1986"/>
                            </a:lnTo>
                            <a:lnTo>
                              <a:pt x="2786" y="1833"/>
                            </a:lnTo>
                            <a:lnTo>
                              <a:pt x="3055" y="1640"/>
                            </a:lnTo>
                            <a:lnTo>
                              <a:pt x="3334" y="1436"/>
                            </a:lnTo>
                            <a:lnTo>
                              <a:pt x="3565" y="1265"/>
                            </a:lnTo>
                            <a:lnTo>
                              <a:pt x="3776" y="1120"/>
                            </a:lnTo>
                            <a:lnTo>
                              <a:pt x="3980" y="984"/>
                            </a:lnTo>
                            <a:lnTo>
                              <a:pt x="4181" y="851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3"/>
                            </a:lnTo>
                            <a:lnTo>
                              <a:pt x="2276" y="416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8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8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 rot="1408800">
                        <a:off x="3004200" y="266256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3"/>
                            </a:lnTo>
                            <a:lnTo>
                              <a:pt x="3055" y="1640"/>
                            </a:lnTo>
                            <a:lnTo>
                              <a:pt x="3334" y="1439"/>
                            </a:lnTo>
                            <a:lnTo>
                              <a:pt x="3565" y="1265"/>
                            </a:lnTo>
                            <a:lnTo>
                              <a:pt x="3776" y="1120"/>
                            </a:lnTo>
                            <a:lnTo>
                              <a:pt x="3980" y="986"/>
                            </a:lnTo>
                            <a:lnTo>
                              <a:pt x="4181" y="851"/>
                            </a:lnTo>
                            <a:lnTo>
                              <a:pt x="4384" y="725"/>
                            </a:lnTo>
                            <a:lnTo>
                              <a:pt x="2938" y="0"/>
                            </a:lnTo>
                            <a:lnTo>
                              <a:pt x="2700" y="140"/>
                            </a:lnTo>
                            <a:lnTo>
                              <a:pt x="2459" y="293"/>
                            </a:lnTo>
                            <a:lnTo>
                              <a:pt x="2276" y="419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9"/>
                            </a:lnTo>
                            <a:lnTo>
                              <a:pt x="1363" y="1102"/>
                            </a:lnTo>
                            <a:lnTo>
                              <a:pt x="1084" y="1275"/>
                            </a:lnTo>
                            <a:lnTo>
                              <a:pt x="823" y="1429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 rot="1408800">
                        <a:off x="3008880" y="265248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8">
                            <a:moveTo>
                              <a:pt x="0" y="2053"/>
                            </a:moveTo>
                            <a:lnTo>
                              <a:pt x="1608" y="2858"/>
                            </a:lnTo>
                            <a:lnTo>
                              <a:pt x="1863" y="2620"/>
                            </a:lnTo>
                            <a:lnTo>
                              <a:pt x="2103" y="2399"/>
                            </a:lnTo>
                            <a:lnTo>
                              <a:pt x="2334" y="2198"/>
                            </a:lnTo>
                            <a:lnTo>
                              <a:pt x="2595" y="1987"/>
                            </a:lnTo>
                            <a:lnTo>
                              <a:pt x="2786" y="1831"/>
                            </a:lnTo>
                            <a:lnTo>
                              <a:pt x="3055" y="1640"/>
                            </a:lnTo>
                            <a:lnTo>
                              <a:pt x="3334" y="1437"/>
                            </a:lnTo>
                            <a:lnTo>
                              <a:pt x="3565" y="1264"/>
                            </a:lnTo>
                            <a:lnTo>
                              <a:pt x="3776" y="1120"/>
                            </a:lnTo>
                            <a:lnTo>
                              <a:pt x="3980" y="985"/>
                            </a:lnTo>
                            <a:lnTo>
                              <a:pt x="4181" y="851"/>
                            </a:lnTo>
                            <a:lnTo>
                              <a:pt x="4384" y="724"/>
                            </a:lnTo>
                            <a:lnTo>
                              <a:pt x="2938" y="0"/>
                            </a:lnTo>
                            <a:lnTo>
                              <a:pt x="2700" y="138"/>
                            </a:lnTo>
                            <a:lnTo>
                              <a:pt x="2459" y="291"/>
                            </a:lnTo>
                            <a:lnTo>
                              <a:pt x="2276" y="417"/>
                            </a:lnTo>
                            <a:lnTo>
                              <a:pt x="2085" y="570"/>
                            </a:lnTo>
                            <a:lnTo>
                              <a:pt x="1881" y="736"/>
                            </a:lnTo>
                            <a:lnTo>
                              <a:pt x="1680" y="909"/>
                            </a:lnTo>
                            <a:lnTo>
                              <a:pt x="1363" y="1100"/>
                            </a:lnTo>
                            <a:lnTo>
                              <a:pt x="1084" y="1274"/>
                            </a:lnTo>
                            <a:lnTo>
                              <a:pt x="823" y="1427"/>
                            </a:lnTo>
                            <a:lnTo>
                              <a:pt x="534" y="1630"/>
                            </a:lnTo>
                            <a:lnTo>
                              <a:pt x="275" y="1822"/>
                            </a:lnTo>
                            <a:lnTo>
                              <a:pt x="0" y="2053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 rot="1408800">
                        <a:off x="3013200" y="264204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7">
                            <a:moveTo>
                              <a:pt x="0" y="2052"/>
                            </a:moveTo>
                            <a:lnTo>
                              <a:pt x="1608" y="2857"/>
                            </a:lnTo>
                            <a:lnTo>
                              <a:pt x="1863" y="2622"/>
                            </a:lnTo>
                            <a:lnTo>
                              <a:pt x="2103" y="2401"/>
                            </a:lnTo>
                            <a:lnTo>
                              <a:pt x="2334" y="2197"/>
                            </a:lnTo>
                            <a:lnTo>
                              <a:pt x="2595" y="1986"/>
                            </a:lnTo>
                            <a:lnTo>
                              <a:pt x="2786" y="1833"/>
                            </a:lnTo>
                            <a:lnTo>
                              <a:pt x="3055" y="1639"/>
                            </a:lnTo>
                            <a:lnTo>
                              <a:pt x="3334" y="1438"/>
                            </a:lnTo>
                            <a:lnTo>
                              <a:pt x="3565" y="1265"/>
                            </a:lnTo>
                            <a:lnTo>
                              <a:pt x="3776" y="1119"/>
                            </a:lnTo>
                            <a:lnTo>
                              <a:pt x="3980" y="986"/>
                            </a:lnTo>
                            <a:lnTo>
                              <a:pt x="4181" y="851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7"/>
                            </a:lnTo>
                            <a:lnTo>
                              <a:pt x="2459" y="293"/>
                            </a:lnTo>
                            <a:lnTo>
                              <a:pt x="2276" y="416"/>
                            </a:lnTo>
                            <a:lnTo>
                              <a:pt x="2085" y="572"/>
                            </a:lnTo>
                            <a:lnTo>
                              <a:pt x="1881" y="735"/>
                            </a:lnTo>
                            <a:lnTo>
                              <a:pt x="1680" y="908"/>
                            </a:lnTo>
                            <a:lnTo>
                              <a:pt x="1363" y="1100"/>
                            </a:lnTo>
                            <a:lnTo>
                              <a:pt x="1084" y="1273"/>
                            </a:lnTo>
                            <a:lnTo>
                              <a:pt x="823" y="1428"/>
                            </a:lnTo>
                            <a:lnTo>
                              <a:pt x="534" y="1630"/>
                            </a:lnTo>
                            <a:lnTo>
                              <a:pt x="275" y="1823"/>
                            </a:lnTo>
                            <a:lnTo>
                              <a:pt x="0" y="205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 rot="1408800">
                        <a:off x="3017880" y="2631960"/>
                        <a:ext cx="609480" cy="41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84" h="2855">
                            <a:moveTo>
                              <a:pt x="0" y="2050"/>
                            </a:moveTo>
                            <a:lnTo>
                              <a:pt x="1608" y="2855"/>
                            </a:lnTo>
                            <a:lnTo>
                              <a:pt x="1863" y="2620"/>
                            </a:lnTo>
                            <a:lnTo>
                              <a:pt x="2103" y="2399"/>
                            </a:lnTo>
                            <a:lnTo>
                              <a:pt x="2334" y="2198"/>
                            </a:lnTo>
                            <a:lnTo>
                              <a:pt x="2595" y="1984"/>
                            </a:lnTo>
                            <a:lnTo>
                              <a:pt x="2786" y="1831"/>
                            </a:lnTo>
                            <a:lnTo>
                              <a:pt x="3055" y="1638"/>
                            </a:lnTo>
                            <a:lnTo>
                              <a:pt x="3334" y="1437"/>
                            </a:lnTo>
                            <a:lnTo>
                              <a:pt x="3565" y="1263"/>
                            </a:lnTo>
                            <a:lnTo>
                              <a:pt x="3776" y="1118"/>
                            </a:lnTo>
                            <a:lnTo>
                              <a:pt x="3980" y="984"/>
                            </a:lnTo>
                            <a:lnTo>
                              <a:pt x="4181" y="849"/>
                            </a:lnTo>
                            <a:lnTo>
                              <a:pt x="4384" y="723"/>
                            </a:lnTo>
                            <a:lnTo>
                              <a:pt x="2938" y="0"/>
                            </a:lnTo>
                            <a:lnTo>
                              <a:pt x="2700" y="138"/>
                            </a:lnTo>
                            <a:lnTo>
                              <a:pt x="2459" y="291"/>
                            </a:lnTo>
                            <a:lnTo>
                              <a:pt x="2276" y="416"/>
                            </a:lnTo>
                            <a:lnTo>
                              <a:pt x="2085" y="570"/>
                            </a:lnTo>
                            <a:lnTo>
                              <a:pt x="1881" y="733"/>
                            </a:lnTo>
                            <a:lnTo>
                              <a:pt x="1680" y="907"/>
                            </a:lnTo>
                            <a:lnTo>
                              <a:pt x="1363" y="1100"/>
                            </a:lnTo>
                            <a:lnTo>
                              <a:pt x="1084" y="1259"/>
                            </a:lnTo>
                            <a:lnTo>
                              <a:pt x="823" y="1427"/>
                            </a:lnTo>
                            <a:lnTo>
                              <a:pt x="534" y="1630"/>
                            </a:lnTo>
                            <a:lnTo>
                              <a:pt x="275" y="1821"/>
                            </a:lnTo>
                            <a:lnTo>
                              <a:pt x="0" y="2050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2" name=""/>
                    <p:cNvGrpSpPr/>
                    <p:nvPr/>
                  </p:nvGrpSpPr>
                  <p:grpSpPr>
                    <a:xfrm>
                      <a:off x="3024000" y="2580840"/>
                      <a:ext cx="598320" cy="516600"/>
                      <a:chOff x="3024000" y="2580840"/>
                      <a:chExt cx="598320" cy="516600"/>
                    </a:xfrm>
                  </p:grpSpPr>
                  <p:sp>
                    <p:nvSpPr>
                      <p:cNvPr id="443" name=""/>
                      <p:cNvSpPr/>
                      <p:nvPr/>
                    </p:nvSpPr>
                    <p:spPr>
                      <a:xfrm rot="1408800">
                        <a:off x="3071880" y="2666520"/>
                        <a:ext cx="502560" cy="34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15" h="2355">
                            <a:moveTo>
                              <a:pt x="0" y="1690"/>
                            </a:moveTo>
                            <a:lnTo>
                              <a:pt x="1325" y="2355"/>
                            </a:lnTo>
                            <a:lnTo>
                              <a:pt x="1536" y="2160"/>
                            </a:lnTo>
                            <a:lnTo>
                              <a:pt x="1733" y="1977"/>
                            </a:lnTo>
                            <a:lnTo>
                              <a:pt x="1923" y="1811"/>
                            </a:lnTo>
                            <a:lnTo>
                              <a:pt x="2138" y="1638"/>
                            </a:lnTo>
                            <a:lnTo>
                              <a:pt x="2295" y="1508"/>
                            </a:lnTo>
                            <a:lnTo>
                              <a:pt x="2519" y="1351"/>
                            </a:lnTo>
                            <a:lnTo>
                              <a:pt x="2748" y="1186"/>
                            </a:lnTo>
                            <a:lnTo>
                              <a:pt x="2939" y="1040"/>
                            </a:lnTo>
                            <a:lnTo>
                              <a:pt x="3112" y="923"/>
                            </a:lnTo>
                            <a:lnTo>
                              <a:pt x="3280" y="811"/>
                            </a:lnTo>
                            <a:lnTo>
                              <a:pt x="3447" y="701"/>
                            </a:lnTo>
                            <a:lnTo>
                              <a:pt x="3615" y="594"/>
                            </a:lnTo>
                            <a:lnTo>
                              <a:pt x="2421" y="0"/>
                            </a:lnTo>
                            <a:lnTo>
                              <a:pt x="2226" y="112"/>
                            </a:lnTo>
                            <a:lnTo>
                              <a:pt x="2026" y="239"/>
                            </a:lnTo>
                            <a:lnTo>
                              <a:pt x="1875" y="343"/>
                            </a:lnTo>
                            <a:lnTo>
                              <a:pt x="1718" y="470"/>
                            </a:lnTo>
                            <a:lnTo>
                              <a:pt x="1550" y="604"/>
                            </a:lnTo>
                            <a:lnTo>
                              <a:pt x="1385" y="747"/>
                            </a:lnTo>
                            <a:lnTo>
                              <a:pt x="1122" y="907"/>
                            </a:lnTo>
                            <a:lnTo>
                              <a:pt x="918" y="1022"/>
                            </a:lnTo>
                            <a:lnTo>
                              <a:pt x="677" y="1178"/>
                            </a:lnTo>
                            <a:lnTo>
                              <a:pt x="440" y="1343"/>
                            </a:lnTo>
                            <a:lnTo>
                              <a:pt x="225" y="1500"/>
                            </a:lnTo>
                            <a:lnTo>
                              <a:pt x="0" y="169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 rot="1408800">
                        <a:off x="3087720" y="2675880"/>
                        <a:ext cx="471960" cy="32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94" h="2221">
                            <a:moveTo>
                              <a:pt x="0" y="1612"/>
                            </a:moveTo>
                            <a:lnTo>
                              <a:pt x="1206" y="2221"/>
                            </a:lnTo>
                            <a:lnTo>
                              <a:pt x="1407" y="2022"/>
                            </a:lnTo>
                            <a:lnTo>
                              <a:pt x="1624" y="1831"/>
                            </a:lnTo>
                            <a:lnTo>
                              <a:pt x="1796" y="1679"/>
                            </a:lnTo>
                            <a:lnTo>
                              <a:pt x="1989" y="1524"/>
                            </a:lnTo>
                            <a:lnTo>
                              <a:pt x="2131" y="1409"/>
                            </a:lnTo>
                            <a:lnTo>
                              <a:pt x="2332" y="1267"/>
                            </a:lnTo>
                            <a:lnTo>
                              <a:pt x="2537" y="1118"/>
                            </a:lnTo>
                            <a:lnTo>
                              <a:pt x="2711" y="988"/>
                            </a:lnTo>
                            <a:lnTo>
                              <a:pt x="2868" y="881"/>
                            </a:lnTo>
                            <a:lnTo>
                              <a:pt x="3017" y="781"/>
                            </a:lnTo>
                            <a:lnTo>
                              <a:pt x="3195" y="667"/>
                            </a:lnTo>
                            <a:lnTo>
                              <a:pt x="3394" y="536"/>
                            </a:lnTo>
                            <a:lnTo>
                              <a:pt x="2308" y="0"/>
                            </a:lnTo>
                            <a:lnTo>
                              <a:pt x="2119" y="113"/>
                            </a:lnTo>
                            <a:lnTo>
                              <a:pt x="1927" y="229"/>
                            </a:lnTo>
                            <a:lnTo>
                              <a:pt x="1752" y="359"/>
                            </a:lnTo>
                            <a:lnTo>
                              <a:pt x="1610" y="472"/>
                            </a:lnTo>
                            <a:lnTo>
                              <a:pt x="1459" y="594"/>
                            </a:lnTo>
                            <a:lnTo>
                              <a:pt x="1312" y="723"/>
                            </a:lnTo>
                            <a:lnTo>
                              <a:pt x="1074" y="865"/>
                            </a:lnTo>
                            <a:lnTo>
                              <a:pt x="891" y="972"/>
                            </a:lnTo>
                            <a:lnTo>
                              <a:pt x="674" y="1110"/>
                            </a:lnTo>
                            <a:lnTo>
                              <a:pt x="473" y="1261"/>
                            </a:lnTo>
                            <a:lnTo>
                              <a:pt x="265" y="1414"/>
                            </a:lnTo>
                            <a:lnTo>
                              <a:pt x="0" y="1612"/>
                            </a:lnTo>
                            <a:close/>
                          </a:path>
                        </a:pathLst>
                      </a:custGeom>
                      <a:solidFill>
                        <a:srgbClr val="d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098520" y="2734560"/>
                    <a:ext cx="457560" cy="211320"/>
                    <a:chOff x="3098520" y="2734560"/>
                    <a:chExt cx="457560" cy="211320"/>
                  </a:xfrm>
                </p:grpSpPr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3098520" y="2806560"/>
                      <a:ext cx="52200" cy="21240"/>
                      <a:chOff x="3098520" y="2806560"/>
                      <a:chExt cx="52200" cy="21240"/>
                    </a:xfrm>
                  </p:grpSpPr>
                  <p:sp>
                    <p:nvSpPr>
                      <p:cNvPr id="447" name=""/>
                      <p:cNvSpPr/>
                      <p:nvPr/>
                    </p:nvSpPr>
                    <p:spPr>
                      <a:xfrm flipV="1">
                        <a:off x="3098520" y="2806560"/>
                        <a:ext cx="45720" cy="12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 flipV="1">
                        <a:off x="3104640" y="2814840"/>
                        <a:ext cx="46080" cy="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9" name=""/>
                    <p:cNvGrpSpPr/>
                    <p:nvPr/>
                  </p:nvGrpSpPr>
                  <p:grpSpPr>
                    <a:xfrm>
                      <a:off x="3193560" y="2919960"/>
                      <a:ext cx="49680" cy="25920"/>
                      <a:chOff x="3193560" y="2919960"/>
                      <a:chExt cx="49680" cy="25920"/>
                    </a:xfrm>
                  </p:grpSpPr>
                  <p:sp>
                    <p:nvSpPr>
                      <p:cNvPr id="450" name=""/>
                      <p:cNvSpPr/>
                      <p:nvPr/>
                    </p:nvSpPr>
                    <p:spPr>
                      <a:xfrm flipV="1">
                        <a:off x="3193560" y="2919960"/>
                        <a:ext cx="4176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 flipV="1">
                        <a:off x="3200760" y="2929680"/>
                        <a:ext cx="42480" cy="16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3510360" y="2838600"/>
                      <a:ext cx="45720" cy="17640"/>
                      <a:chOff x="3510360" y="2838600"/>
                      <a:chExt cx="45720" cy="1764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 flipH="1">
                        <a:off x="3517560" y="2847600"/>
                        <a:ext cx="38520" cy="8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 flipH="1">
                        <a:off x="3510360" y="2838600"/>
                        <a:ext cx="38160" cy="7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3426120" y="2734560"/>
                      <a:ext cx="43200" cy="14400"/>
                      <a:chOff x="3426120" y="2734560"/>
                      <a:chExt cx="43200" cy="14400"/>
                    </a:xfrm>
                  </p:grpSpPr>
                  <p:sp>
                    <p:nvSpPr>
                      <p:cNvPr id="456" name=""/>
                      <p:cNvSpPr/>
                      <p:nvPr/>
                    </p:nvSpPr>
                    <p:spPr>
                      <a:xfrm flipH="1">
                        <a:off x="3426120" y="2734560"/>
                        <a:ext cx="37440" cy="6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 flipH="1">
                        <a:off x="3431520" y="2742480"/>
                        <a:ext cx="37800" cy="6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3279600" y="2759760"/>
                      <a:ext cx="145440" cy="137880"/>
                      <a:chOff x="3279600" y="2759760"/>
                      <a:chExt cx="145440" cy="137880"/>
                    </a:xfrm>
                  </p:grpSpPr>
                  <p:sp>
                    <p:nvSpPr>
                      <p:cNvPr id="459" name=""/>
                      <p:cNvSpPr/>
                      <p:nvPr/>
                    </p:nvSpPr>
                    <p:spPr>
                      <a:xfrm rot="1408800">
                        <a:off x="3294720" y="2778120"/>
                        <a:ext cx="114480" cy="10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9951" y="16535"/>
                            </a:moveTo>
                            <a:arcTo wR="10800" hR="10800" stAng="1924498" swAng="1090313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9951" y="16535"/>
                            </a:moveTo>
                            <a:arcTo wR="10800" hR="10800" stAng="1924498" swAng="1090313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 rot="1408800">
                        <a:off x="3295800" y="2778840"/>
                        <a:ext cx="11412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93" y="4995"/>
                            </a:moveTo>
                            <a:arcTo wR="10800" hR="10800" stAng="-8849188" swAng="1086162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93" y="4995"/>
                            </a:moveTo>
                            <a:arcTo wR="10800" hR="10800" stAng="-8849188" swAng="10861628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61" name=""/>
                <p:cNvSpPr/>
                <p:nvPr/>
              </p:nvSpPr>
              <p:spPr>
                <a:xfrm rot="1408800">
                  <a:off x="3217680" y="2766600"/>
                  <a:ext cx="194040" cy="303120"/>
                </a:xfrm>
                <a:custGeom>
                  <a:avLst/>
                  <a:gdLst/>
                  <a:ahLst/>
                  <a:rect l="l" t="t" r="r" b="b"/>
                  <a:pathLst>
                    <a:path w="1397" h="2070">
                      <a:moveTo>
                        <a:pt x="0" y="0"/>
                      </a:moveTo>
                      <a:lnTo>
                        <a:pt x="1397" y="723"/>
                      </a:lnTo>
                      <a:lnTo>
                        <a:pt x="1395" y="207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12360" y="2438280"/>
                <a:ext cx="119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PSD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86160" y="3048120"/>
                <a:ext cx="108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th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836720" y="2679840"/>
                <a:ext cx="990720" cy="242640"/>
              </a:xfrm>
              <a:custGeom>
                <a:avLst/>
                <a:gdLst/>
                <a:ahLst/>
                <a:rect l="l" t="t" r="r" b="b"/>
                <a:pathLst>
                  <a:path w="624" h="337">
                    <a:moveTo>
                      <a:pt x="0" y="1"/>
                    </a:moveTo>
                    <a:lnTo>
                      <a:pt x="271" y="0"/>
                    </a:lnTo>
                    <a:lnTo>
                      <a:pt x="271" y="335"/>
                    </a:lnTo>
                    <a:lnTo>
                      <a:pt x="624" y="337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1836720" y="2927520"/>
                <a:ext cx="990720" cy="442800"/>
              </a:xfrm>
              <a:custGeom>
                <a:avLst/>
                <a:gdLst/>
                <a:ahLst/>
                <a:rect l="l" t="t" r="r" b="b"/>
                <a:pathLst>
                  <a:path w="624" h="337">
                    <a:moveTo>
                      <a:pt x="0" y="1"/>
                    </a:moveTo>
                    <a:lnTo>
                      <a:pt x="271" y="0"/>
                    </a:lnTo>
                    <a:lnTo>
                      <a:pt x="271" y="335"/>
                    </a:lnTo>
                    <a:lnTo>
                      <a:pt x="624" y="337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3400" y="1828800"/>
                <a:ext cx="14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DUE-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lik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38160" y="2114640"/>
                <a:ext cx="990720" cy="814320"/>
              </a:xfrm>
              <a:custGeom>
                <a:avLst/>
                <a:gdLst/>
                <a:ahLst/>
                <a:rect l="l" t="t" r="r" b="b"/>
                <a:pathLst>
                  <a:path w="624" h="337">
                    <a:moveTo>
                      <a:pt x="0" y="1"/>
                    </a:moveTo>
                    <a:lnTo>
                      <a:pt x="271" y="0"/>
                    </a:lnTo>
                    <a:lnTo>
                      <a:pt x="271" y="335"/>
                    </a:lnTo>
                    <a:lnTo>
                      <a:pt x="624" y="337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nguiat Bk BT"/>
              </a:rPr>
              <a:t>COMPREHENSIVENESS AND COHERENT ACTIVITIE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-93240" y="343872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enguiat Bk BT"/>
              </a:rPr>
              <a:t>IMPROVED G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181120" y="1941480"/>
            <a:ext cx="2608920" cy="2014200"/>
            <a:chOff x="5181120" y="1941480"/>
            <a:chExt cx="2608920" cy="2014200"/>
          </a:xfrm>
        </p:grpSpPr>
        <p:sp>
          <p:nvSpPr>
            <p:cNvPr id="471" name=""/>
            <p:cNvSpPr/>
            <p:nvPr/>
          </p:nvSpPr>
          <p:spPr>
            <a:xfrm>
              <a:off x="6081120" y="1941480"/>
              <a:ext cx="1708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9900"/>
                  </a:solidFill>
                  <a:uFillTx/>
                  <a:latin typeface="Arial"/>
                </a:rPr>
                <a:t>RE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aborat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Textboo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Jour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Fun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81120" y="28954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8440" y="4572000"/>
            <a:ext cx="3196080" cy="916920"/>
            <a:chOff x="1828440" y="4572000"/>
            <a:chExt cx="3196080" cy="916920"/>
          </a:xfrm>
        </p:grpSpPr>
        <p:sp>
          <p:nvSpPr>
            <p:cNvPr id="474" name=""/>
            <p:cNvSpPr/>
            <p:nvPr/>
          </p:nvSpPr>
          <p:spPr>
            <a:xfrm>
              <a:off x="2652840" y="4572000"/>
              <a:ext cx="237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66cc"/>
                  </a:solidFill>
                  <a:uFillTx/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 ad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ff recrui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828440" y="48006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828440" y="4075200"/>
            <a:ext cx="6120720" cy="2014200"/>
            <a:chOff x="1828440" y="4075200"/>
            <a:chExt cx="6120720" cy="2014200"/>
          </a:xfrm>
        </p:grpSpPr>
        <p:sp>
          <p:nvSpPr>
            <p:cNvPr id="477" name=""/>
            <p:cNvSpPr/>
            <p:nvPr/>
          </p:nvSpPr>
          <p:spPr>
            <a:xfrm>
              <a:off x="6084720" y="4075200"/>
              <a:ext cx="1864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66cc"/>
                  </a:solidFill>
                  <a:uFillTx/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m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aching 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 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828440" y="4343400"/>
              <a:ext cx="3962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828440" y="1981080"/>
            <a:ext cx="3337560" cy="2288520"/>
            <a:chOff x="1828440" y="1981080"/>
            <a:chExt cx="3337560" cy="2288520"/>
          </a:xfrm>
        </p:grpSpPr>
        <p:sp>
          <p:nvSpPr>
            <p:cNvPr id="480" name=""/>
            <p:cNvSpPr/>
            <p:nvPr/>
          </p:nvSpPr>
          <p:spPr>
            <a:xfrm>
              <a:off x="2570040" y="1981080"/>
              <a:ext cx="2595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66cc"/>
                  </a:solidFill>
                  <a:uFillTx/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achers attend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aching 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oring 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rriculum (?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s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ams ad te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828440" y="32004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Unsustainabl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Activity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1752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Tabel 3.4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Waktu Tunggu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Tabel 3...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First Salary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Employer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Ability to compete with other graduates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28600" y="2590920"/>
            <a:ext cx="6248520" cy="1638720"/>
            <a:chOff x="228600" y="2590920"/>
            <a:chExt cx="6248520" cy="1638720"/>
          </a:xfrm>
        </p:grpSpPr>
        <p:sp>
          <p:nvSpPr>
            <p:cNvPr id="485" name=""/>
            <p:cNvSpPr/>
            <p:nvPr/>
          </p:nvSpPr>
          <p:spPr>
            <a:xfrm>
              <a:off x="228600" y="3162240"/>
              <a:ext cx="624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sesuai dng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labor 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Skil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omputer Skil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 Kemampuan Berbahasa Inggris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8600" y="28195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ssible Problem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259092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28600" y="3962520"/>
            <a:ext cx="4495680" cy="228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28600" y="4191120"/>
            <a:ext cx="6248520" cy="2292840"/>
            <a:chOff x="228600" y="4191120"/>
            <a:chExt cx="6248520" cy="2292840"/>
          </a:xfrm>
        </p:grpSpPr>
        <p:sp>
          <p:nvSpPr>
            <p:cNvPr id="490" name=""/>
            <p:cNvSpPr/>
            <p:nvPr/>
          </p:nvSpPr>
          <p:spPr>
            <a:xfrm>
              <a:off x="838080" y="419112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8600" y="4686480"/>
              <a:ext cx="62485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Kemampuan berbahasa Inggris Mahasiswa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 Kemampuan berbahasa Inggris Dosen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 Motivasi Mahasiswa untuk belajar Bhs Inggris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 Mata Kuliah yg disampaikan dlm Bhs Inggris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. Tugas dari Dosen untuk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tudy literatur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. Bahan Pustaka yg berbahasa Inggris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sedik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. UPT Bahasa Inggris di PT tsb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8600" y="43434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ktor yg berpengaruh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134040" y="1523880"/>
            <a:ext cx="2209680" cy="914400"/>
            <a:chOff x="6134040" y="1523880"/>
            <a:chExt cx="2209680" cy="914400"/>
          </a:xfrm>
        </p:grpSpPr>
        <p:sp>
          <p:nvSpPr>
            <p:cNvPr id="494" name=""/>
            <p:cNvSpPr/>
            <p:nvPr/>
          </p:nvSpPr>
          <p:spPr>
            <a:xfrm>
              <a:off x="6210000" y="1523880"/>
              <a:ext cx="2057400" cy="9144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34040" y="1523880"/>
              <a:ext cx="22096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posed Activity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Improving Graduate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English Ski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210360" y="2514600"/>
            <a:ext cx="2590920" cy="1676520"/>
            <a:chOff x="6210360" y="2514600"/>
            <a:chExt cx="2590920" cy="1676520"/>
          </a:xfrm>
        </p:grpSpPr>
        <p:grpSp>
          <p:nvGrpSpPr>
            <p:cNvPr id="497" name=""/>
            <p:cNvGrpSpPr/>
            <p:nvPr/>
          </p:nvGrpSpPr>
          <p:grpSpPr>
            <a:xfrm>
              <a:off x="6210360" y="2819520"/>
              <a:ext cx="2590920" cy="1371600"/>
              <a:chOff x="6210360" y="2819520"/>
              <a:chExt cx="2590920" cy="1371600"/>
            </a:xfrm>
          </p:grpSpPr>
          <p:sp>
            <p:nvSpPr>
              <p:cNvPr id="498" name=""/>
              <p:cNvSpPr/>
              <p:nvPr/>
            </p:nvSpPr>
            <p:spPr>
              <a:xfrm>
                <a:off x="6210360" y="2819520"/>
                <a:ext cx="2590920" cy="13716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86680" y="3162600"/>
                <a:ext cx="24764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ngirimkan mahasisw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ingkat akhir ke UPT Bahasa Inggris untuk belajar/kursus Bahasa Inggr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86680" y="2819520"/>
                <a:ext cx="24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Mechanism &amp; design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7010280" y="251460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248520" y="4267080"/>
            <a:ext cx="2590560" cy="1676160"/>
            <a:chOff x="6248520" y="4267080"/>
            <a:chExt cx="2590560" cy="1676160"/>
          </a:xfrm>
        </p:grpSpPr>
        <p:grpSp>
          <p:nvGrpSpPr>
            <p:cNvPr id="503" name=""/>
            <p:cNvGrpSpPr/>
            <p:nvPr/>
          </p:nvGrpSpPr>
          <p:grpSpPr>
            <a:xfrm>
              <a:off x="6248520" y="4571640"/>
              <a:ext cx="2590560" cy="1371600"/>
              <a:chOff x="6248520" y="4571640"/>
              <a:chExt cx="2590560" cy="1371600"/>
            </a:xfrm>
          </p:grpSpPr>
          <p:sp>
            <p:nvSpPr>
              <p:cNvPr id="504" name=""/>
              <p:cNvSpPr/>
              <p:nvPr/>
            </p:nvSpPr>
            <p:spPr>
              <a:xfrm>
                <a:off x="6248520" y="4571640"/>
                <a:ext cx="2590560" cy="13716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24480" y="4914720"/>
                <a:ext cx="251460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gram Develop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 Untuk mahasiswa belaj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hasa Inggr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 Dana dari DRK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n commi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571640"/>
                <a:ext cx="243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Resource required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7048440" y="426708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800600" y="1828800"/>
            <a:ext cx="1390680" cy="2273400"/>
          </a:xfrm>
          <a:custGeom>
            <a:avLst/>
            <a:gdLst/>
            <a:ahLst/>
            <a:rect l="l" t="t" r="r" b="b"/>
            <a:pathLst>
              <a:path w="1308" h="2156">
                <a:moveTo>
                  <a:pt x="0" y="2156"/>
                </a:moveTo>
                <a:cubicBezTo>
                  <a:pt x="456" y="2132"/>
                  <a:pt x="1108" y="1928"/>
                  <a:pt x="1208" y="1612"/>
                </a:cubicBezTo>
                <a:cubicBezTo>
                  <a:pt x="1308" y="1296"/>
                  <a:pt x="593" y="520"/>
                  <a:pt x="600" y="260"/>
                </a:cubicBezTo>
                <a:cubicBezTo>
                  <a:pt x="607" y="0"/>
                  <a:pt x="992" y="68"/>
                  <a:pt x="1248" y="52"/>
                </a:cubicBezTo>
              </a:path>
            </a:pathLst>
          </a:custGeom>
          <a:noFill/>
          <a:ln w="76320">
            <a:solidFill>
              <a:srgbClr val="33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3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800600" y="679320"/>
            <a:ext cx="1390680" cy="3422880"/>
          </a:xfrm>
          <a:custGeom>
            <a:avLst/>
            <a:gdLst/>
            <a:ahLst/>
            <a:rect l="l" t="t" r="r" b="b"/>
            <a:pathLst>
              <a:path w="1308" h="2156">
                <a:moveTo>
                  <a:pt x="0" y="2156"/>
                </a:moveTo>
                <a:cubicBezTo>
                  <a:pt x="456" y="2132"/>
                  <a:pt x="1108" y="1928"/>
                  <a:pt x="1208" y="1612"/>
                </a:cubicBezTo>
                <a:cubicBezTo>
                  <a:pt x="1308" y="1296"/>
                  <a:pt x="593" y="520"/>
                  <a:pt x="600" y="260"/>
                </a:cubicBezTo>
                <a:cubicBezTo>
                  <a:pt x="607" y="0"/>
                  <a:pt x="992" y="68"/>
                  <a:pt x="1248" y="52"/>
                </a:cubicBezTo>
              </a:path>
            </a:pathLst>
          </a:custGeom>
          <a:noFill/>
          <a:ln w="76320">
            <a:solidFill>
              <a:srgbClr val="33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Sustainabl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Activity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1752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Tabel 3.4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Waktu Tunggu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Tabel 3...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First Salary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Employer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Ability to compete with other graduates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28600" y="2590920"/>
            <a:ext cx="6248520" cy="1638720"/>
            <a:chOff x="228600" y="2590920"/>
            <a:chExt cx="6248520" cy="1638720"/>
          </a:xfrm>
        </p:grpSpPr>
        <p:sp>
          <p:nvSpPr>
            <p:cNvPr id="513" name=""/>
            <p:cNvSpPr/>
            <p:nvPr/>
          </p:nvSpPr>
          <p:spPr>
            <a:xfrm>
              <a:off x="228600" y="3162240"/>
              <a:ext cx="624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sesuai dng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labor 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Skil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omputer Skil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 Kemampuan Berbahasa Inggris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8600" y="28195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ssible Problem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259092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134040" y="304920"/>
            <a:ext cx="2209680" cy="914400"/>
            <a:chOff x="6134040" y="304920"/>
            <a:chExt cx="2209680" cy="914400"/>
          </a:xfrm>
        </p:grpSpPr>
        <p:sp>
          <p:nvSpPr>
            <p:cNvPr id="517" name=""/>
            <p:cNvSpPr/>
            <p:nvPr/>
          </p:nvSpPr>
          <p:spPr>
            <a:xfrm>
              <a:off x="6210000" y="304920"/>
              <a:ext cx="2057400" cy="9144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34040" y="304920"/>
              <a:ext cx="22096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posed Activity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Improving Graduate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English Ski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28600" y="3962520"/>
            <a:ext cx="4495680" cy="228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8600" y="4191120"/>
            <a:ext cx="6248520" cy="2292840"/>
            <a:chOff x="228600" y="4191120"/>
            <a:chExt cx="6248520" cy="2292840"/>
          </a:xfrm>
        </p:grpSpPr>
        <p:sp>
          <p:nvSpPr>
            <p:cNvPr id="521" name=""/>
            <p:cNvSpPr/>
            <p:nvPr/>
          </p:nvSpPr>
          <p:spPr>
            <a:xfrm>
              <a:off x="838080" y="419112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8600" y="4686480"/>
              <a:ext cx="62485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Kemampuan berbahasa Inggris Mahasiswa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 Kemampuan berbahasa Inggris Dosen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 Motivasi Mahasiswa untuk belajar Bhs Inggris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 Mata Kuliah yg disampaikan dlm Bhs Inggris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. Tugas dari Dosen untuk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tudy literatur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. Bahan Pustaka yg berbahasa Inggris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sedik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. UPT Bahasa Inggris di PT tsb </a:t>
              </a: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8600" y="43434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ktor yg berpengaruh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210360" y="1295280"/>
            <a:ext cx="2819520" cy="3124440"/>
            <a:chOff x="6210360" y="1295280"/>
            <a:chExt cx="2819520" cy="3124440"/>
          </a:xfrm>
        </p:grpSpPr>
        <p:grpSp>
          <p:nvGrpSpPr>
            <p:cNvPr id="525" name=""/>
            <p:cNvGrpSpPr/>
            <p:nvPr/>
          </p:nvGrpSpPr>
          <p:grpSpPr>
            <a:xfrm>
              <a:off x="6210360" y="1600200"/>
              <a:ext cx="2819520" cy="2819520"/>
              <a:chOff x="6210360" y="1600200"/>
              <a:chExt cx="2819520" cy="2819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210360" y="1600200"/>
                <a:ext cx="2590920" cy="281952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86680" y="1943280"/>
                <a:ext cx="266688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. Memperbaiki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eachin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earning Proces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ya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rkaitan deng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hasa Inggr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 Beberapa MK disampaik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lam Bhs Inggr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 Tugas utk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udy literat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itingkatk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 Memotivasi &amp; mendoro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hasiswa untu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rbahasa Inggr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86680" y="16002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Mechanism &amp; design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7010280" y="129528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210360" y="4495680"/>
            <a:ext cx="2819160" cy="2133720"/>
            <a:chOff x="6210360" y="4495680"/>
            <a:chExt cx="2819160" cy="2133720"/>
          </a:xfrm>
        </p:grpSpPr>
        <p:grpSp>
          <p:nvGrpSpPr>
            <p:cNvPr id="531" name=""/>
            <p:cNvGrpSpPr/>
            <p:nvPr/>
          </p:nvGrpSpPr>
          <p:grpSpPr>
            <a:xfrm>
              <a:off x="6210360" y="4800600"/>
              <a:ext cx="2819160" cy="1828800"/>
              <a:chOff x="6210360" y="4800600"/>
              <a:chExt cx="2819160" cy="1828800"/>
            </a:xfrm>
          </p:grpSpPr>
          <p:sp>
            <p:nvSpPr>
              <p:cNvPr id="532" name=""/>
              <p:cNvSpPr/>
              <p:nvPr/>
            </p:nvSpPr>
            <p:spPr>
              <a:xfrm>
                <a:off x="6210360" y="4800600"/>
                <a:ext cx="2590560" cy="18288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86320" y="5143680"/>
                <a:ext cx="266724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n Degree Tran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tuk Dosen belaj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hasa Inggr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.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quip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b. Bahasa utk mahasisw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lajar sendiri (</a:t>
                </a:r>
                <a:r>
                  <a:rPr b="0" i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elf acces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86320" y="48006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Resource required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7010280" y="449568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848720" y="2666880"/>
            <a:ext cx="774720" cy="2514600"/>
          </a:xfrm>
          <a:custGeom>
            <a:avLst/>
            <a:gdLst/>
            <a:ahLst/>
            <a:rect l="l" t="t" r="r" b="b"/>
            <a:pathLst>
              <a:path w="392" h="1680">
                <a:moveTo>
                  <a:pt x="0" y="0"/>
                </a:moveTo>
                <a:cubicBezTo>
                  <a:pt x="188" y="172"/>
                  <a:pt x="376" y="344"/>
                  <a:pt x="384" y="624"/>
                </a:cubicBezTo>
                <a:cubicBezTo>
                  <a:pt x="392" y="904"/>
                  <a:pt x="220" y="1292"/>
                  <a:pt x="48" y="168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43800" y="4038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288" y="0"/>
                </a:moveTo>
                <a:cubicBezTo>
                  <a:pt x="528" y="332"/>
                  <a:pt x="768" y="664"/>
                  <a:pt x="720" y="864"/>
                </a:cubicBezTo>
                <a:cubicBezTo>
                  <a:pt x="672" y="1064"/>
                  <a:pt x="336" y="1132"/>
                  <a:pt x="0" y="12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1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1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6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1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Question &amp; Answ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nyusunan Aktivitas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gaimana menyusun suatu aktivitas yang membutuhkan sumberdaya degree trai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posed 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ng dapat diusulkan agar dapat mengirimkan staf untuk studi lanju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uatan salah satu bidang konsentrasi yang dirasakan masih lem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etapan konsentrasi baru sesuai permintaan pasar tenaga kerja, d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cana pengiriman staf untuk studi lanj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ac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g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power 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g beris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yeksi jumlah staf tetap yg ada ditempat selama proyek berlang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81080"/>
            <a:ext cx="8458200" cy="4572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33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ff9933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b2b2b2"/>
                </a:solidFill>
                <a:latin typeface="Times New Roman"/>
              </a:rPr>
              <a:t>(6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sala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381880" cy="3029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5280" y="2438280"/>
            <a:ext cx="129564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83360" y="632448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Gejala/fenomena/</a:t>
            </a:r>
            <a:r>
              <a:rPr b="1" i="1" lang="en-US" sz="1600" spc="-1" strike="noStrike">
                <a:solidFill>
                  <a:srgbClr val="b2b2b2"/>
                </a:solidFill>
                <a:latin typeface="Times New Roman"/>
              </a:rPr>
              <a:t>sympt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5080" y="2908440"/>
            <a:ext cx="1538280" cy="3492360"/>
          </a:xfrm>
          <a:custGeom>
            <a:avLst/>
            <a:gdLst/>
            <a:ahLst/>
            <a:rect l="l" t="t" r="r" b="b"/>
            <a:pathLst>
              <a:path w="969" h="1712">
                <a:moveTo>
                  <a:pt x="969" y="1712"/>
                </a:moveTo>
                <a:cubicBezTo>
                  <a:pt x="728" y="1545"/>
                  <a:pt x="0" y="1126"/>
                  <a:pt x="48" y="685"/>
                </a:cubicBezTo>
                <a:cubicBezTo>
                  <a:pt x="96" y="244"/>
                  <a:pt x="489" y="143"/>
                  <a:pt x="7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83200" y="2865600"/>
            <a:ext cx="3835440" cy="2108160"/>
            <a:chOff x="5083200" y="2865600"/>
            <a:chExt cx="3835440" cy="2108160"/>
          </a:xfrm>
        </p:grpSpPr>
        <p:grpSp>
          <p:nvGrpSpPr>
            <p:cNvPr id="97" name=""/>
            <p:cNvGrpSpPr/>
            <p:nvPr/>
          </p:nvGrpSpPr>
          <p:grpSpPr>
            <a:xfrm>
              <a:off x="5184000" y="3276720"/>
              <a:ext cx="3612960" cy="1068840"/>
              <a:chOff x="5184000" y="3276720"/>
              <a:chExt cx="3612960" cy="1068840"/>
            </a:xfrm>
          </p:grpSpPr>
          <p:sp>
            <p:nvSpPr>
              <p:cNvPr id="98" name=""/>
              <p:cNvSpPr/>
              <p:nvPr/>
            </p:nvSpPr>
            <p:spPr>
              <a:xfrm>
                <a:off x="6466320" y="3276720"/>
                <a:ext cx="43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12440" y="3276720"/>
                <a:ext cx="43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2640" y="327672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58480" y="3276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3840" y="327672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259600" y="3276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54880" y="4038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87600" y="403848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97880" y="4038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232120" y="403848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45400" y="4038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84000" y="403848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083200" y="2865600"/>
              <a:ext cx="3835440" cy="2108160"/>
            </a:xfrm>
            <a:custGeom>
              <a:avLst/>
              <a:gdLst/>
              <a:ahLst/>
              <a:rect l="l" t="t" r="r" b="b"/>
              <a:pathLst>
                <a:path w="2416" h="1328">
                  <a:moveTo>
                    <a:pt x="5" y="616"/>
                  </a:moveTo>
                  <a:cubicBezTo>
                    <a:pt x="0" y="1211"/>
                    <a:pt x="721" y="1194"/>
                    <a:pt x="1194" y="1184"/>
                  </a:cubicBezTo>
                  <a:cubicBezTo>
                    <a:pt x="1667" y="1174"/>
                    <a:pt x="2404" y="1328"/>
                    <a:pt x="2410" y="664"/>
                  </a:cubicBezTo>
                  <a:cubicBezTo>
                    <a:pt x="2416" y="0"/>
                    <a:pt x="1633" y="101"/>
                    <a:pt x="1184" y="101"/>
                  </a:cubicBezTo>
                  <a:cubicBezTo>
                    <a:pt x="735" y="101"/>
                    <a:pt x="10" y="21"/>
                    <a:pt x="5" y="616"/>
                  </a:cubicBezTo>
                  <a:close/>
                </a:path>
              </a:pathLst>
            </a:cu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317200" y="5624640"/>
            <a:ext cx="1983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Diisi denga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XXX = sangat terk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XX    = kurang terk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X       = tidak terk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189320"/>
            <a:ext cx="1067040" cy="1602000"/>
          </a:xfrm>
          <a:custGeom>
            <a:avLst/>
            <a:gdLst/>
            <a:ahLst/>
            <a:rect l="l" t="t" r="r" b="b"/>
            <a:pathLst>
              <a:path w="672" h="1009">
                <a:moveTo>
                  <a:pt x="672" y="1009"/>
                </a:moveTo>
                <a:cubicBezTo>
                  <a:pt x="505" y="911"/>
                  <a:pt x="0" y="664"/>
                  <a:pt x="33" y="404"/>
                </a:cubicBezTo>
                <a:cubicBezTo>
                  <a:pt x="67" y="145"/>
                  <a:pt x="340" y="64"/>
                  <a:pt x="498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8640" y="5486400"/>
            <a:ext cx="259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Rangkuman masalah</a:t>
            </a:r>
            <a:r>
              <a:rPr b="1" lang="en-US" sz="16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 y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telah berhasil di identifik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imes New Roman"/>
              </a:rPr>
              <a:t>dan Solusi dari masalah t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2680" y="2251080"/>
            <a:ext cx="3537000" cy="3405240"/>
          </a:xfrm>
          <a:custGeom>
            <a:avLst/>
            <a:gdLst/>
            <a:ahLst/>
            <a:rect l="l" t="t" r="r" b="b"/>
            <a:pathLst>
              <a:path w="2228" h="2145">
                <a:moveTo>
                  <a:pt x="886" y="0"/>
                </a:moveTo>
                <a:cubicBezTo>
                  <a:pt x="1088" y="59"/>
                  <a:pt x="2228" y="57"/>
                  <a:pt x="2096" y="355"/>
                </a:cubicBezTo>
                <a:cubicBezTo>
                  <a:pt x="2106" y="684"/>
                  <a:pt x="190" y="1486"/>
                  <a:pt x="95" y="1789"/>
                </a:cubicBezTo>
                <a:cubicBezTo>
                  <a:pt x="0" y="2092"/>
                  <a:pt x="386" y="2126"/>
                  <a:pt x="428" y="214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209680"/>
            <a:ext cx="2057400" cy="3353040"/>
          </a:xfrm>
          <a:prstGeom prst="flowChartAlternateProcess">
            <a:avLst/>
          </a:prstGeom>
          <a:solidFill>
            <a:srgbClr val="e1e1b7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447920"/>
            <a:ext cx="533160" cy="685800"/>
          </a:xfrm>
          <a:prstGeom prst="downArrow">
            <a:avLst>
              <a:gd name="adj1" fmla="val 46426"/>
              <a:gd name="adj2" fmla="val 4793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9960" y="32004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3880" y="31240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Faktor y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Berpengaruh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8120" y="2895480"/>
            <a:ext cx="3581280" cy="457200"/>
            <a:chOff x="3048120" y="2895480"/>
            <a:chExt cx="3581280" cy="457200"/>
          </a:xfrm>
        </p:grpSpPr>
        <p:sp>
          <p:nvSpPr>
            <p:cNvPr id="121" name=""/>
            <p:cNvSpPr/>
            <p:nvPr/>
          </p:nvSpPr>
          <p:spPr>
            <a:xfrm>
              <a:off x="3048120" y="2895480"/>
              <a:ext cx="3581280" cy="4572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9360" y="29336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sala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44280" y="167652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training forces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nghambat perbai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34040" y="2019240"/>
            <a:ext cx="809640" cy="873360"/>
          </a:xfrm>
          <a:prstGeom prst="downArrow">
            <a:avLst>
              <a:gd name="adj1" fmla="val 50000"/>
              <a:gd name="adj2" fmla="val 3895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5760" y="2529000"/>
            <a:ext cx="806400" cy="363600"/>
          </a:xfrm>
          <a:prstGeom prst="downArrow">
            <a:avLst>
              <a:gd name="adj1" fmla="val 54167"/>
              <a:gd name="adj2" fmla="val 4881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1960" y="2382840"/>
            <a:ext cx="809640" cy="509760"/>
          </a:xfrm>
          <a:prstGeom prst="downArrow">
            <a:avLst>
              <a:gd name="adj1" fmla="val 45833"/>
              <a:gd name="adj2" fmla="val 5029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800" y="411480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riving forces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ndorong jadi ba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51880" y="1905120"/>
            <a:ext cx="1015920" cy="1139760"/>
            <a:chOff x="1451880" y="1905120"/>
            <a:chExt cx="1015920" cy="1139760"/>
          </a:xfrm>
        </p:grpSpPr>
        <p:sp>
          <p:nvSpPr>
            <p:cNvPr id="129" name=""/>
            <p:cNvSpPr/>
            <p:nvPr/>
          </p:nvSpPr>
          <p:spPr>
            <a:xfrm>
              <a:off x="1808280" y="2243160"/>
              <a:ext cx="304560" cy="801720"/>
            </a:xfrm>
            <a:prstGeom prst="upArrow">
              <a:avLst>
                <a:gd name="adj1" fmla="val 58333"/>
                <a:gd name="adj2" fmla="val 105295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1880" y="19051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mba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74120" y="3200040"/>
            <a:ext cx="1172880" cy="1099800"/>
            <a:chOff x="1374120" y="3200040"/>
            <a:chExt cx="1172880" cy="1099800"/>
          </a:xfrm>
        </p:grpSpPr>
        <p:sp>
          <p:nvSpPr>
            <p:cNvPr id="132" name=""/>
            <p:cNvSpPr/>
            <p:nvPr/>
          </p:nvSpPr>
          <p:spPr>
            <a:xfrm flipV="1">
              <a:off x="1808280" y="3199680"/>
              <a:ext cx="304560" cy="801720"/>
            </a:xfrm>
            <a:prstGeom prst="upArrow">
              <a:avLst>
                <a:gd name="adj1" fmla="val 58333"/>
                <a:gd name="adj2" fmla="val 105295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4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mbur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879720" y="3352680"/>
            <a:ext cx="809640" cy="582840"/>
          </a:xfrm>
          <a:prstGeom prst="upArrow">
            <a:avLst>
              <a:gd name="adj1" fmla="val 50000"/>
              <a:gd name="adj2" fmla="val 47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3352680"/>
            <a:ext cx="809640" cy="801720"/>
          </a:xfrm>
          <a:prstGeom prst="upArrow">
            <a:avLst>
              <a:gd name="adj1" fmla="val 54167"/>
              <a:gd name="adj2" fmla="val 3276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99160" y="3352680"/>
            <a:ext cx="806400" cy="657360"/>
          </a:xfrm>
          <a:prstGeom prst="upArrow">
            <a:avLst>
              <a:gd name="adj1" fmla="val 54167"/>
              <a:gd name="adj2" fmla="val 4027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352680"/>
            <a:ext cx="809640" cy="582840"/>
          </a:xfrm>
          <a:prstGeom prst="upArrow">
            <a:avLst>
              <a:gd name="adj1" fmla="val 50000"/>
              <a:gd name="adj2" fmla="val 47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72428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ertanya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Mengapa harus mengidentifikasi faktor yang berpengaruh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Jawab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alah yang sama, pada institusi dan waktu yang berbeda </a:t>
            </a:r>
            <a:r>
              <a:rPr b="0" lang="en-US" sz="1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aktor yang berpengaruh bisa berbeda </a:t>
            </a:r>
            <a:r>
              <a:rPr b="0" lang="en-US" sz="1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lusinya juga bisa berb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dah untuk mencari sebanyak-banyaknya solusi altern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95280" y="1676520"/>
            <a:ext cx="7425720" cy="2819160"/>
            <a:chOff x="1295280" y="1676520"/>
            <a:chExt cx="7425720" cy="2819160"/>
          </a:xfrm>
        </p:grpSpPr>
        <p:sp>
          <p:nvSpPr>
            <p:cNvPr id="140" name=""/>
            <p:cNvSpPr/>
            <p:nvPr/>
          </p:nvSpPr>
          <p:spPr>
            <a:xfrm>
              <a:off x="1295280" y="1676520"/>
              <a:ext cx="6019920" cy="2819160"/>
            </a:xfrm>
            <a:prstGeom prst="flowChartAlternateProcess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2895480"/>
              <a:ext cx="228600" cy="381240"/>
            </a:xfrm>
            <a:prstGeom prst="rightArrow">
              <a:avLst>
                <a:gd name="adj1" fmla="val 50000"/>
                <a:gd name="adj2" fmla="val 5069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19760" y="2563920"/>
              <a:ext cx="1101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etapa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Solusi Alternatif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880" y="2971800"/>
            <a:ext cx="4191120" cy="3271680"/>
            <a:chOff x="380880" y="2971800"/>
            <a:chExt cx="4191120" cy="3271680"/>
          </a:xfrm>
        </p:grpSpPr>
        <p:grpSp>
          <p:nvGrpSpPr>
            <p:cNvPr id="145" name=""/>
            <p:cNvGrpSpPr/>
            <p:nvPr/>
          </p:nvGrpSpPr>
          <p:grpSpPr>
            <a:xfrm>
              <a:off x="380880" y="2971800"/>
              <a:ext cx="4191120" cy="3271680"/>
              <a:chOff x="380880" y="2971800"/>
              <a:chExt cx="4191120" cy="3271680"/>
            </a:xfrm>
          </p:grpSpPr>
          <p:sp>
            <p:nvSpPr>
              <p:cNvPr id="146" name=""/>
              <p:cNvSpPr/>
              <p:nvPr/>
            </p:nvSpPr>
            <p:spPr>
              <a:xfrm>
                <a:off x="380880" y="2971800"/>
                <a:ext cx="4191120" cy="3271680"/>
              </a:xfrm>
              <a:prstGeom prst="rect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657000" y="3200400"/>
                <a:ext cx="3533760" cy="1368360"/>
                <a:chOff x="657000" y="3200400"/>
                <a:chExt cx="3533760" cy="1368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601280" y="3200400"/>
                  <a:ext cx="191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straining for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5280" y="3695760"/>
                  <a:ext cx="809640" cy="873000"/>
                </a:xfrm>
                <a:prstGeom prst="downArrow">
                  <a:avLst>
                    <a:gd name="adj1" fmla="val 50000"/>
                    <a:gd name="adj2" fmla="val 3893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57000" y="4205160"/>
                  <a:ext cx="806400" cy="363600"/>
                </a:xfrm>
                <a:prstGeom prst="downArrow">
                  <a:avLst>
                    <a:gd name="adj1" fmla="val 54167"/>
                    <a:gd name="adj2" fmla="val 48810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473200" y="4059360"/>
                  <a:ext cx="809640" cy="509400"/>
                </a:xfrm>
                <a:prstGeom prst="downArrow">
                  <a:avLst>
                    <a:gd name="adj1" fmla="val 45833"/>
                    <a:gd name="adj2" fmla="val 50296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84360" y="3695760"/>
                  <a:ext cx="806400" cy="873000"/>
                </a:xfrm>
                <a:prstGeom prst="downArrow">
                  <a:avLst>
                    <a:gd name="adj1" fmla="val 50000"/>
                    <a:gd name="adj2" fmla="val 39093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57000" y="4713120"/>
                <a:ext cx="3533760" cy="1293840"/>
                <a:chOff x="657000" y="4713120"/>
                <a:chExt cx="3533760" cy="1293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65280" y="4713120"/>
                  <a:ext cx="809640" cy="582840"/>
                </a:xfrm>
                <a:prstGeom prst="upArrow">
                  <a:avLst>
                    <a:gd name="adj1" fmla="val 50000"/>
                    <a:gd name="adj2" fmla="val 4791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657000" y="4713120"/>
                  <a:ext cx="806400" cy="72720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73200" y="4713120"/>
                  <a:ext cx="809640" cy="801720"/>
                </a:xfrm>
                <a:prstGeom prst="upArrow">
                  <a:avLst>
                    <a:gd name="adj1" fmla="val 54167"/>
                    <a:gd name="adj2" fmla="val 32764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84360" y="4713120"/>
                  <a:ext cx="806400" cy="657360"/>
                </a:xfrm>
                <a:prstGeom prst="upArrow">
                  <a:avLst>
                    <a:gd name="adj1" fmla="val 54167"/>
                    <a:gd name="adj2" fmla="val 40278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791720" y="5638680"/>
                  <a:ext cx="153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riving for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457200" y="4648320"/>
                <a:ext cx="4038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915480" y="4191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4191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4280" y="4191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8680" y="4191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440" y="47242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52840" y="47242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7240" y="47242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640" y="47242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033520" y="3197160"/>
            <a:ext cx="1983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si 1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gurangi fakt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gurangi fakto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ambah fakt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81080" y="3352680"/>
            <a:ext cx="2971800" cy="1779840"/>
            <a:chOff x="1981080" y="3352680"/>
            <a:chExt cx="2971800" cy="1779840"/>
          </a:xfrm>
        </p:grpSpPr>
        <p:sp>
          <p:nvSpPr>
            <p:cNvPr id="170" name=""/>
            <p:cNvSpPr/>
            <p:nvPr/>
          </p:nvSpPr>
          <p:spPr>
            <a:xfrm>
              <a:off x="3809880" y="3352680"/>
              <a:ext cx="1143000" cy="8384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528"/>
                  </a:moveTo>
                  <a:cubicBezTo>
                    <a:pt x="104" y="356"/>
                    <a:pt x="208" y="184"/>
                    <a:pt x="336" y="96"/>
                  </a:cubicBezTo>
                  <a:cubicBezTo>
                    <a:pt x="464" y="8"/>
                    <a:pt x="616" y="4"/>
                    <a:pt x="76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3352680"/>
              <a:ext cx="2971800" cy="83844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cubicBezTo>
                    <a:pt x="60" y="404"/>
                    <a:pt x="120" y="280"/>
                    <a:pt x="432" y="192"/>
                  </a:cubicBezTo>
                  <a:cubicBezTo>
                    <a:pt x="744" y="104"/>
                    <a:pt x="1308" y="52"/>
                    <a:pt x="187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7400" y="3352680"/>
              <a:ext cx="2895480" cy="1779840"/>
            </a:xfrm>
            <a:custGeom>
              <a:avLst/>
              <a:gdLst/>
              <a:ahLst/>
              <a:rect l="l" t="t" r="r" b="b"/>
              <a:pathLst>
                <a:path w="1824" h="1121">
                  <a:moveTo>
                    <a:pt x="0" y="1008"/>
                  </a:moveTo>
                  <a:cubicBezTo>
                    <a:pt x="63" y="1016"/>
                    <a:pt x="283" y="1121"/>
                    <a:pt x="376" y="1056"/>
                  </a:cubicBezTo>
                  <a:cubicBezTo>
                    <a:pt x="469" y="991"/>
                    <a:pt x="485" y="764"/>
                    <a:pt x="560" y="616"/>
                  </a:cubicBezTo>
                  <a:cubicBezTo>
                    <a:pt x="635" y="468"/>
                    <a:pt x="613" y="271"/>
                    <a:pt x="824" y="168"/>
                  </a:cubicBezTo>
                  <a:cubicBezTo>
                    <a:pt x="1035" y="65"/>
                    <a:pt x="1616" y="35"/>
                    <a:pt x="18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029560" y="4343400"/>
            <a:ext cx="1046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si 2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560" y="3197160"/>
            <a:ext cx="1046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si 3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560" y="4343400"/>
            <a:ext cx="1046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si 4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Penyusunan Solusi Alternatif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752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Tabel 3.4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Waktu Tunggu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Tabel 3....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First Salary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Employer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Ability to compete with other graduates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2590920"/>
            <a:ext cx="6248520" cy="1638720"/>
            <a:chOff x="228600" y="2590920"/>
            <a:chExt cx="6248520" cy="1638720"/>
          </a:xfrm>
        </p:grpSpPr>
        <p:sp>
          <p:nvSpPr>
            <p:cNvPr id="179" name=""/>
            <p:cNvSpPr/>
            <p:nvPr/>
          </p:nvSpPr>
          <p:spPr>
            <a:xfrm>
              <a:off x="228600" y="3162240"/>
              <a:ext cx="6248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tidak sesuai dng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labor 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Skil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omputer Skil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 Kemampuan Berbahasa Inggris lulusan 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renda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" y="28195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ssible Problem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2590920"/>
              <a:ext cx="304920" cy="228600"/>
            </a:xfrm>
            <a:prstGeom prst="downArrow">
              <a:avLst>
                <a:gd name="adj1" fmla="val 50000"/>
                <a:gd name="adj2" fmla="val 47222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8600" y="3962520"/>
            <a:ext cx="4495680" cy="228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143000"/>
            <a:ext cx="3276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enguiat Bk BT"/>
              </a:rPr>
              <a:t>Solusi Alternati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hasiswa dikursuskan Bhs Inggris di UPT Bah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mampuan Bhs Inggris Dosen ditingkat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u atau lebih MK diajarkan dng Bhs Ingg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perbanyak tugas Studi Kepustaka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bentuk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nglish Clu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untuk Dosen &amp; Mahasis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adakan lomba pidato dalam Bhs Inggris secara period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berlakuk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nglish 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i Jur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apasitas/daya tampung UPT Bahasa di tingkat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0000"/>
              <a:buFont typeface="Monotype Sort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371600"/>
            <a:ext cx="1176480" cy="2744640"/>
          </a:xfrm>
          <a:custGeom>
            <a:avLst/>
            <a:gdLst/>
            <a:ahLst/>
            <a:rect l="l" t="t" r="r" b="b"/>
            <a:pathLst>
              <a:path w="741" h="1729">
                <a:moveTo>
                  <a:pt x="0" y="1729"/>
                </a:moveTo>
                <a:cubicBezTo>
                  <a:pt x="268" y="1663"/>
                  <a:pt x="458" y="1600"/>
                  <a:pt x="571" y="1456"/>
                </a:cubicBezTo>
                <a:cubicBezTo>
                  <a:pt x="684" y="1312"/>
                  <a:pt x="741" y="1078"/>
                  <a:pt x="677" y="867"/>
                </a:cubicBezTo>
                <a:cubicBezTo>
                  <a:pt x="613" y="656"/>
                  <a:pt x="209" y="335"/>
                  <a:pt x="188" y="191"/>
                </a:cubicBezTo>
                <a:cubicBezTo>
                  <a:pt x="167" y="47"/>
                  <a:pt x="422" y="37"/>
                  <a:pt x="549" y="0"/>
                </a:cubicBezTo>
              </a:path>
            </a:pathLst>
          </a:custGeom>
          <a:noFill/>
          <a:ln w="76320">
            <a:solidFill>
              <a:srgbClr val="33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4495680"/>
            <a:ext cx="56390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enguiat Bk BT"/>
              </a:rPr>
              <a:t>Faktor yg berpengaru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mampuan berbahasa Inggris Mahasiswa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mampuan berbahasa Inggris Dosen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tivasi Mahasiswa untuk belajar Bhs Inggris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ren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a Kuliah yg disampaikan dlm Bhs Inggris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idak 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gas dari Dosen untuk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udy literatu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idak 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han Pustaka yg berbahasa Inggris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edi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Monotype Sort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PT Bahasa Inggris di PT tsb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267080"/>
            <a:ext cx="304560" cy="228600"/>
          </a:xfrm>
          <a:prstGeom prst="downArrow">
            <a:avLst>
              <a:gd name="adj1" fmla="val 50000"/>
              <a:gd name="adj2" fmla="val 4722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etapa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Usulan Aktivitas</a:t>
            </a:r>
            <a:br>
              <a:rPr sz="5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dari 5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284560"/>
            <a:ext cx="1363680" cy="230040"/>
          </a:xfrm>
          <a:custGeom>
            <a:avLst/>
            <a:gdLst/>
            <a:ahLst/>
            <a:rect l="l" t="t" r="r" b="b"/>
            <a:pathLst>
              <a:path w="859" h="145">
                <a:moveTo>
                  <a:pt x="0" y="145"/>
                </a:moveTo>
                <a:lnTo>
                  <a:pt x="386" y="143"/>
                </a:lnTo>
                <a:lnTo>
                  <a:pt x="386" y="0"/>
                </a:lnTo>
                <a:lnTo>
                  <a:pt x="8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2511360"/>
            <a:ext cx="1346400" cy="312840"/>
          </a:xfrm>
          <a:custGeom>
            <a:avLst/>
            <a:gdLst/>
            <a:ahLst/>
            <a:rect l="l" t="t" r="r" b="b"/>
            <a:pathLst>
              <a:path w="848" h="197">
                <a:moveTo>
                  <a:pt x="0" y="2"/>
                </a:moveTo>
                <a:lnTo>
                  <a:pt x="386" y="0"/>
                </a:lnTo>
                <a:lnTo>
                  <a:pt x="386" y="197"/>
                </a:lnTo>
                <a:lnTo>
                  <a:pt x="848" y="19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350532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288"/>
                </a:moveTo>
                <a:lnTo>
                  <a:pt x="386" y="287"/>
                </a:lnTo>
                <a:lnTo>
                  <a:pt x="386" y="1"/>
                </a:lnTo>
                <a:lnTo>
                  <a:pt x="8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960720"/>
            <a:ext cx="1371600" cy="77760"/>
          </a:xfrm>
          <a:custGeom>
            <a:avLst/>
            <a:gdLst/>
            <a:ahLst/>
            <a:rect l="l" t="t" r="r" b="b"/>
            <a:pathLst>
              <a:path w="864" h="49">
                <a:moveTo>
                  <a:pt x="0" y="1"/>
                </a:moveTo>
                <a:lnTo>
                  <a:pt x="386" y="0"/>
                </a:lnTo>
                <a:lnTo>
                  <a:pt x="386" y="48"/>
                </a:lnTo>
                <a:lnTo>
                  <a:pt x="864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3960720"/>
            <a:ext cx="1371600" cy="611280"/>
          </a:xfrm>
          <a:custGeom>
            <a:avLst/>
            <a:gdLst/>
            <a:ahLst/>
            <a:rect l="l" t="t" r="r" b="b"/>
            <a:pathLst>
              <a:path w="864" h="385">
                <a:moveTo>
                  <a:pt x="0" y="1"/>
                </a:moveTo>
                <a:lnTo>
                  <a:pt x="386" y="0"/>
                </a:lnTo>
                <a:lnTo>
                  <a:pt x="386" y="383"/>
                </a:lnTo>
                <a:lnTo>
                  <a:pt x="864" y="3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5181480"/>
            <a:ext cx="1371600" cy="53352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0" y="336"/>
                </a:moveTo>
                <a:lnTo>
                  <a:pt x="386" y="336"/>
                </a:lnTo>
                <a:lnTo>
                  <a:pt x="386" y="1"/>
                </a:lnTo>
                <a:lnTo>
                  <a:pt x="8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5715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5715000"/>
            <a:ext cx="1371600" cy="53352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0" y="0"/>
                </a:moveTo>
                <a:lnTo>
                  <a:pt x="386" y="0"/>
                </a:lnTo>
                <a:lnTo>
                  <a:pt x="386" y="334"/>
                </a:lnTo>
                <a:lnTo>
                  <a:pt x="864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2286000"/>
            <a:ext cx="1447560" cy="457200"/>
            <a:chOff x="1143000" y="2286000"/>
            <a:chExt cx="1447560" cy="457200"/>
          </a:xfrm>
        </p:grpSpPr>
        <p:sp>
          <p:nvSpPr>
            <p:cNvPr id="197" name=""/>
            <p:cNvSpPr/>
            <p:nvPr/>
          </p:nvSpPr>
          <p:spPr>
            <a:xfrm>
              <a:off x="1143000" y="2286000"/>
              <a:ext cx="1447560" cy="4572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2040" y="230040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salah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143000" y="5486400"/>
            <a:ext cx="1447920" cy="457200"/>
            <a:chOff x="1143000" y="5486400"/>
            <a:chExt cx="1447920" cy="457200"/>
          </a:xfrm>
        </p:grpSpPr>
        <p:sp>
          <p:nvSpPr>
            <p:cNvPr id="200" name=""/>
            <p:cNvSpPr/>
            <p:nvPr/>
          </p:nvSpPr>
          <p:spPr>
            <a:xfrm>
              <a:off x="1143000" y="5486400"/>
              <a:ext cx="144792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02040" y="550080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salah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143000" y="3733920"/>
            <a:ext cx="1447920" cy="457200"/>
            <a:chOff x="1143000" y="3733920"/>
            <a:chExt cx="1447920" cy="457200"/>
          </a:xfrm>
        </p:grpSpPr>
        <p:sp>
          <p:nvSpPr>
            <p:cNvPr id="203" name=""/>
            <p:cNvSpPr/>
            <p:nvPr/>
          </p:nvSpPr>
          <p:spPr>
            <a:xfrm>
              <a:off x="1143000" y="3733920"/>
              <a:ext cx="144792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400" y="3747960"/>
              <a:ext cx="13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salah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657600" y="2057400"/>
            <a:ext cx="1066680" cy="457200"/>
            <a:chOff x="3657600" y="2057400"/>
            <a:chExt cx="1066680" cy="457200"/>
          </a:xfrm>
        </p:grpSpPr>
        <p:sp>
          <p:nvSpPr>
            <p:cNvPr id="206" name=""/>
            <p:cNvSpPr/>
            <p:nvPr/>
          </p:nvSpPr>
          <p:spPr>
            <a:xfrm>
              <a:off x="3657600" y="2057400"/>
              <a:ext cx="1066680" cy="4572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20240" y="2119320"/>
              <a:ext cx="9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657600" y="2590920"/>
            <a:ext cx="1066680" cy="457200"/>
            <a:chOff x="3657600" y="2590920"/>
            <a:chExt cx="1066680" cy="457200"/>
          </a:xfrm>
        </p:grpSpPr>
        <p:sp>
          <p:nvSpPr>
            <p:cNvPr id="209" name=""/>
            <p:cNvSpPr/>
            <p:nvPr/>
          </p:nvSpPr>
          <p:spPr>
            <a:xfrm>
              <a:off x="3657600" y="2590920"/>
              <a:ext cx="1066680" cy="4572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20240" y="2652840"/>
              <a:ext cx="9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7600" y="3276720"/>
            <a:ext cx="1066680" cy="457200"/>
            <a:chOff x="3657600" y="3276720"/>
            <a:chExt cx="1066680" cy="457200"/>
          </a:xfrm>
        </p:grpSpPr>
        <p:sp>
          <p:nvSpPr>
            <p:cNvPr id="212" name=""/>
            <p:cNvSpPr/>
            <p:nvPr/>
          </p:nvSpPr>
          <p:spPr>
            <a:xfrm>
              <a:off x="3657600" y="3276720"/>
              <a:ext cx="106668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9160" y="3338640"/>
              <a:ext cx="98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657600" y="3809880"/>
            <a:ext cx="1066680" cy="457200"/>
            <a:chOff x="3657600" y="3809880"/>
            <a:chExt cx="1066680" cy="457200"/>
          </a:xfrm>
        </p:grpSpPr>
        <p:sp>
          <p:nvSpPr>
            <p:cNvPr id="215" name=""/>
            <p:cNvSpPr/>
            <p:nvPr/>
          </p:nvSpPr>
          <p:spPr>
            <a:xfrm>
              <a:off x="3657600" y="3809880"/>
              <a:ext cx="106668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19160" y="3871800"/>
              <a:ext cx="98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4952880"/>
            <a:ext cx="1066680" cy="457200"/>
            <a:chOff x="3657600" y="4952880"/>
            <a:chExt cx="1066680" cy="457200"/>
          </a:xfrm>
        </p:grpSpPr>
        <p:sp>
          <p:nvSpPr>
            <p:cNvPr id="218" name=""/>
            <p:cNvSpPr/>
            <p:nvPr/>
          </p:nvSpPr>
          <p:spPr>
            <a:xfrm>
              <a:off x="3657600" y="4952880"/>
              <a:ext cx="106668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0240" y="5014800"/>
              <a:ext cx="9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57600" y="5486400"/>
            <a:ext cx="1066680" cy="457200"/>
            <a:chOff x="3657600" y="5486400"/>
            <a:chExt cx="1066680" cy="457200"/>
          </a:xfrm>
        </p:grpSpPr>
        <p:sp>
          <p:nvSpPr>
            <p:cNvPr id="221" name=""/>
            <p:cNvSpPr/>
            <p:nvPr/>
          </p:nvSpPr>
          <p:spPr>
            <a:xfrm>
              <a:off x="3657600" y="5486400"/>
              <a:ext cx="106668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0240" y="5548320"/>
              <a:ext cx="9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57600" y="6019920"/>
            <a:ext cx="1066680" cy="457200"/>
            <a:chOff x="3657600" y="6019920"/>
            <a:chExt cx="1066680" cy="457200"/>
          </a:xfrm>
        </p:grpSpPr>
        <p:sp>
          <p:nvSpPr>
            <p:cNvPr id="224" name=""/>
            <p:cNvSpPr/>
            <p:nvPr/>
          </p:nvSpPr>
          <p:spPr>
            <a:xfrm>
              <a:off x="3657600" y="6019920"/>
              <a:ext cx="106668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20240" y="6081840"/>
              <a:ext cx="9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657600" y="4343400"/>
            <a:ext cx="1066680" cy="457200"/>
            <a:chOff x="3657600" y="4343400"/>
            <a:chExt cx="1066680" cy="457200"/>
          </a:xfrm>
        </p:grpSpPr>
        <p:sp>
          <p:nvSpPr>
            <p:cNvPr id="227" name=""/>
            <p:cNvSpPr/>
            <p:nvPr/>
          </p:nvSpPr>
          <p:spPr>
            <a:xfrm>
              <a:off x="3657600" y="4343400"/>
              <a:ext cx="106668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19160" y="4405320"/>
              <a:ext cx="98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usi 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06760" y="1981080"/>
            <a:ext cx="921240" cy="962280"/>
            <a:chOff x="6206760" y="1981080"/>
            <a:chExt cx="921240" cy="96228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6392880" y="1981080"/>
              <a:ext cx="551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206760" y="266688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ktivita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38360" y="3124080"/>
            <a:ext cx="990000" cy="962280"/>
            <a:chOff x="6138360" y="3124080"/>
            <a:chExt cx="990000" cy="96228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359400" y="3124080"/>
              <a:ext cx="551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38360" y="3809880"/>
              <a:ext cx="99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ktivitas 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38360" y="4114800"/>
            <a:ext cx="990000" cy="962280"/>
            <a:chOff x="6138360" y="4114800"/>
            <a:chExt cx="990000" cy="96228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359400" y="4114800"/>
              <a:ext cx="551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138360" y="4800600"/>
              <a:ext cx="99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ktivitas 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06760" y="5715000"/>
            <a:ext cx="921240" cy="962280"/>
            <a:chOff x="6206760" y="5715000"/>
            <a:chExt cx="921240" cy="962280"/>
          </a:xfrm>
        </p:grpSpPr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6392880" y="5715000"/>
              <a:ext cx="551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206760" y="640080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ktivitas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800600" y="2362320"/>
            <a:ext cx="1447920" cy="457200"/>
          </a:xfrm>
          <a:custGeom>
            <a:avLst/>
            <a:gdLst/>
            <a:ahLst/>
            <a:rect l="l" t="t" r="r" b="b"/>
            <a:pathLst>
              <a:path w="754" h="355">
                <a:moveTo>
                  <a:pt x="754" y="20"/>
                </a:moveTo>
                <a:cubicBezTo>
                  <a:pt x="667" y="25"/>
                  <a:pt x="300" y="0"/>
                  <a:pt x="231" y="44"/>
                </a:cubicBezTo>
                <a:cubicBezTo>
                  <a:pt x="202" y="142"/>
                  <a:pt x="403" y="211"/>
                  <a:pt x="341" y="283"/>
                </a:cubicBezTo>
                <a:cubicBezTo>
                  <a:pt x="279" y="355"/>
                  <a:pt x="71" y="323"/>
                  <a:pt x="0" y="3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00600" y="5715000"/>
            <a:ext cx="1447920" cy="457200"/>
          </a:xfrm>
          <a:custGeom>
            <a:avLst/>
            <a:gdLst/>
            <a:ahLst/>
            <a:rect l="l" t="t" r="r" b="b"/>
            <a:pathLst>
              <a:path w="754" h="355">
                <a:moveTo>
                  <a:pt x="754" y="20"/>
                </a:moveTo>
                <a:cubicBezTo>
                  <a:pt x="667" y="25"/>
                  <a:pt x="300" y="0"/>
                  <a:pt x="231" y="44"/>
                </a:cubicBezTo>
                <a:cubicBezTo>
                  <a:pt x="202" y="142"/>
                  <a:pt x="403" y="211"/>
                  <a:pt x="341" y="283"/>
                </a:cubicBezTo>
                <a:cubicBezTo>
                  <a:pt x="279" y="355"/>
                  <a:pt x="71" y="323"/>
                  <a:pt x="0" y="3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45720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35053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etapa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Usulan Aktivitas </a:t>
            </a:r>
            <a:br>
              <a:rPr sz="5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dari 5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38188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tentuan dalam penetapan suatu aktivit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itas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buk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rupakan kegiatan investasi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es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itas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ha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punyai alasa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gapa aktivitas tersebut dibutuh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gapa aktivitas tersebut dipil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enguiat Bk BT"/>
              </a:rPr>
              <a:t>Investasi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upakan suatu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konsekuensi log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ri adanya suatu aktiv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etapa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Usulan Aktivitas </a:t>
            </a:r>
            <a:br>
              <a:rPr sz="5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dari 5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66960"/>
            <a:ext cx="83818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Bk BT"/>
              </a:rPr>
              <a:t>Jenis Aktiv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kait dengan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mperbaik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 yang 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h 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roving Teaching-Learn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mbua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 baru, untuk melengkapi sistem yang sudah 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h 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elop Research Collaboration, Short Semester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nguba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stem yang lama menjadi sistem yang ba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h 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elop Management Inform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nual System </a:t>
            </a:r>
            <a:r>
              <a:rPr b="0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Otomated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kait dengan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pr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h 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roving Teaching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etapa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Usulan Aktivitas </a:t>
            </a:r>
            <a:br>
              <a:rPr sz="5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dari 5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enguiat Bk BT"/>
              </a:rPr>
              <a:t>Kriteria</a:t>
            </a:r>
            <a:r>
              <a:rPr b="0" lang="en-US" sz="2800" spc="-1" strike="noStrike">
                <a:solidFill>
                  <a:srgbClr val="000000"/>
                </a:solidFill>
                <a:latin typeface="Benguiat Bk BT"/>
              </a:rPr>
              <a:t> aktivitas yg bai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k kompl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berhasilannya dapat diuk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kupan tidak terlalu luas dan tidak terlalu sem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lalu luas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ban kerja yg tinggi untuk 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lalu sempit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utuhkan banyak 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ya berkontribusi tinggi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erhadap perbaikan yang diingin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anjuta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stain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Benguiat Bk BT"/>
              </a:rPr>
              <a:t>students as the primary benefici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6:39:48Z</dcterms:created>
  <dc:creator>Iik Wilarso</dc:creator>
  <dc:description/>
  <dc:language>en-US</dc:language>
  <cp:lastModifiedBy>Jack la Motta</cp:lastModifiedBy>
  <cp:lastPrinted>2002-09-30T03:18:26Z</cp:lastPrinted>
  <dcterms:modified xsi:type="dcterms:W3CDTF">2003-10-04T23:49:45Z</dcterms:modified>
  <cp:revision>27</cp:revision>
  <dc:subject/>
  <dc:title>Teknis Penyusunan Proposal Identifikasi Proposed Activities</dc:title>
</cp:coreProperties>
</file>