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28A-9171-4877-B43F-D4D181AC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188-8991-4499-82E4-8ED5A575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00C-AD58-4785-B96C-CEE037CD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4B0-C032-4866-8F14-A442B8BA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3F70-CA7D-45DB-AAAA-FFCA1722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2D5B-2437-45D5-96F6-EBF27090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E37-CDE2-42C2-A4DA-12DEECA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533-7C41-4C76-941F-01BC1CA3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1432-5922-477D-9FFF-6E0EA150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5A39-F1F6-4C30-B509-87C6C11F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751E-9AE0-44C7-B980-60F7D90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061-B2E1-42B6-B569-576EC1DB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3D2-9A84-439D-B00D-13EB0B4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5D75-FF11-494B-BBC1-ACAB2DE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C8E-85BE-4525-AB3D-49158FB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D013-D598-4360-80BF-8E575230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44F8-CF76-42A6-88C1-5ABFBFC4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DDB-E7CF-4342-B4E4-A40FA5F3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43D-3774-427E-B3DE-ECA93E0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5DC-EA54-4E50-94C5-9C84748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7E6-8D91-4E07-A691-5E3884DC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A50-96AD-4DBF-85B2-CFE397F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629-812B-4EB5-8905-3FD63B5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EE8-7918-4D81-B75B-17F354B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310D-D7E9-47C2-BD1F-EF490D647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C74-90A4-421C-A6EB-0006DE46E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ER EDUCATION LONG TERM STRATEGY (HELTS)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2003-2010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an Pendidik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jen Dik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0728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A7E6-2E99-4975-8873-169511CFFED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danaan Pendidikan Tinggi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na Pemerint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4: fixed cost &amp; variable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bah kompeti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bagian besar untuk gaji P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7D8-CD8E-4495-9E96-92568B8851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danaan Bersaing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kema Bar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1523880"/>
            <a:ext cx="3124440" cy="426744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4724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85200" y="4989600"/>
            <a:ext cx="308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itutional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03600" y="3313080"/>
            <a:ext cx="249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vansi dan Kual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0480" y="1865160"/>
            <a:ext cx="282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gembangan Ungg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2480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0640" y="3770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24440" y="2322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523880" y="19047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61722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26280" y="2697480"/>
            <a:ext cx="4546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ge of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3480" y="6284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sion/man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C5B-29B7-406C-9999-031F3C02D3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 A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kus: Institutional capacity 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evaluation,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ingkatan efisiensi internal (manajemen sumber day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si yang masih belum berkembang; termasuk swa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rusan; program studi yg diajukan akreditasi maksimum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rturing, pendampingan, deta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mpetisi internal, dan dlm kelomp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740-1629-4C14-B19A-5B40891673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 A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kus: Peningkatan relevansi dan kuali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ingkatan soft-skills, cross disciplin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mbenahan manajemen intern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jasama institu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rusan; program studi yg diajukan akreditasi min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a: kompetisi dlm kelompok bida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94A-9A05-4528-BB17-1B4BC66118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 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kus: Pengembangan Unggu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competi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al fo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rus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at penelitian bersama antar PT; kerjasama dg pihak industri dan/atau pem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mpetisi terbuka (free for a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60F-CFDB-48B2-86BB-88422194DA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si 20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atu sistem pendidikan tinggi ya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kualitas ting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jamin akses bagi semua calon peserta didik yang memenuhi persyaratan mutu akadem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iliki otonomi yang dapat menjamin terselenggaranya kegiatan akademik yang efisien dan berkuali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B71-F2DC-49A5-A7A3-88275E05FA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STRATEGI NASIONAL PENDIDIKAN TINGGI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Peningkatan daya saing bang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dorong program/disiplin yang dapat meningkatkan daya saing bangsa (Kualitas dan Relevans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ndidikan tinggi sebagai investasi pribadi (private goods) sekaligus memiliki keuntungan sosial (public good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Otonomi dan desentralisa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ragaman: tahap kemajuan, relevansi regional, ukur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pleksitas: jumlah besar, secara geografis terseb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unggulan dalam jaringan kerjasa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Organisasi yang se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asyarat utama untuk dapat berkontribu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bagai aset yang mendorong, bukan beba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F26-6CF4-4008-8CD0-D0F9901975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ISYU STRATEGIS: </a:t>
            </a:r>
            <a:br>
              <a:rPr sz="3400"/>
            </a:b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Daya saing bangsa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grasi bang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ggalian nilai-nilai kebangs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 dan buday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lobalisa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aingan glob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elitian dan pendidik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acu pengembangan keunggulan, bukan pemera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ingkatan kualitas pembelajaran &amp; mutu pendid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ferensiasi mi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k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kses kepada pengetahu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expansion, equity, social 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537-9654-47AC-BADE-B6AEBCCA99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ISYU STRATEGIS :</a:t>
            </a:r>
            <a:br>
              <a:rPr sz="3400"/>
            </a:b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Otonomi dan desentralisasi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geseran peran Ditjen Dik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ilitator, sosialisasi kebijakan, evaluasi, dan tindakan korektif, infrastruktur perundan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ukturisasi pendanaan pemerintah (kompetisi, block gr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berdaya manusia (P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us huk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ntif paj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ggung jawab sos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siswa, pinjaman, dan vou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0A8-C4E7-46AC-8944-CAB796F997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ISYU STRATEGIS :</a:t>
            </a:r>
            <a:br>
              <a:rPr sz="3400"/>
            </a:b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Kesehatan organisasi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mbinaan kapasitas institu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tjen Dik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sasi sejawat (DPT, BAN, org. profesi, ds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pembinaan institu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krasi politik vs merit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njaminan mu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isasi budaya mut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693-0629-45A6-9400-1374D13A58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ategi Implementas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ingkatan daya saing bang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nggu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tu dan relevansi vs expan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ft skills dan Pendidikan Sen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ndidikan guru dan peningkatan kualitas PB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nelitian di 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setaraan dan tanggungjawab sos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an PTS dan Pendidikan Jarak Jau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am bantuan utk mahasisw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AB0-71AB-4ADF-AB5C-D92811FA53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ategi Implementa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ingkatan otono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yesuaian perat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an pemerintah pusat dan daera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ggaran pendidik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pegawai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an masyarak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tus hukum Perguruan Tingg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 pendan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na investasi (competiti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ggaran rutin (block grant/formula bas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FA1-87ED-455C-BC9F-786E30F54F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ategi Implementa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sehatan organisa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ingkatan kapasitas institu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itusi pusat dan 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ood govern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stem penjaminan mutu inter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an organisasi peers (BAN, DP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jasama antara institu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nggabungan institu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mitraan dan aliansi strateg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216-52D1-48A5-BDAB-F388C37613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PT - 7 Agustus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58:41Z</dcterms:created>
  <dc:creator>Bagyo Y. Moeliodihardjo</dc:creator>
  <dc:description/>
  <dc:language>en-US</dc:language>
  <cp:lastModifiedBy>Jack la Motta</cp:lastModifiedBy>
  <dcterms:modified xsi:type="dcterms:W3CDTF">2003-10-07T06:14:06Z</dcterms:modified>
  <cp:revision>19</cp:revision>
  <dc:subject/>
  <dc:title>Slide 1</dc:title>
</cp:coreProperties>
</file>