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2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EFBF-CAB4-4309-B1B9-D3BC941A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C492-48B7-4D93-A8D6-E34DD95B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F9CA-F0DD-49A0-B786-B01B298C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95A9-79CF-432D-A399-E3A32A7EB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76F9-BA50-40BB-A619-7462F9E3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CBF4-656A-41A3-8647-00C67DCF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0925-AA51-4377-BB9C-01D93AA9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D743-C5B7-4112-819A-C80C922F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8CFA-AEA5-4B1E-ABA1-9CF14032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00200" y="4568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5538-A4B0-4A45-A349-F19BCCE8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636FA-6DD9-4A48-B1F9-93D24D42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AF3A-5781-451F-8F57-1D09F890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6978-768B-46BE-A163-46A6552E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083C-677C-4E7B-9362-E6C3DF3D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535C-CACF-41F6-8179-B02DF7EE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4AF5-6B68-44B2-8FF8-96FF567A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76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4680" y="198108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76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4680" y="4130640"/>
            <a:ext cx="2698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2DE4-A3E0-4F48-A85B-58690066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73E-1232-4BEE-B54E-47C2490F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B9D4-9103-488C-A5E9-674EBC5F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D605-4EE9-4976-AE04-53D5670A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45684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A00A-E4D3-4E71-A5A7-489890F0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F64C-2B67-481F-9A2B-CB5782CF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41306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6FF-9D2C-4296-9445-EBF2A879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9810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30640"/>
            <a:ext cx="8381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7762-3B62-4BED-B8DB-96030CFC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152280" y="152280"/>
          <a:ext cx="1600200" cy="157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1600200" cy="15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FDC5-2C6B-4C78-AB38-F89BC222A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8600" y="1981080"/>
          <a:ext cx="2133720" cy="21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981080"/>
                    <a:ext cx="213372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1080" y="137124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643B-CCF7-4B9A-AC23-7EB8C99FD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3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image" Target="../media/image17.wmf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image" Target="../media/image6.wmf"/><Relationship Id="rId11" Type="http://schemas.openxmlformats.org/officeDocument/2006/relationships/image" Target="../media/image4.wmf"/><Relationship Id="rId12" Type="http://schemas.openxmlformats.org/officeDocument/2006/relationships/image" Target="../media/image8.wmf"/><Relationship Id="rId13" Type="http://schemas.openxmlformats.org/officeDocument/2006/relationships/image" Target="../media/image20.wmf"/><Relationship Id="rId14" Type="http://schemas.openxmlformats.org/officeDocument/2006/relationships/image" Target="../media/image6.wmf"/><Relationship Id="rId15" Type="http://schemas.openxmlformats.org/officeDocument/2006/relationships/image" Target="../media/image4.wmf"/><Relationship Id="rId16" Type="http://schemas.openxmlformats.org/officeDocument/2006/relationships/image" Target="../media/image8.wmf"/><Relationship Id="rId17" Type="http://schemas.openxmlformats.org/officeDocument/2006/relationships/image" Target="../media/image20.wmf"/><Relationship Id="rId18" Type="http://schemas.openxmlformats.org/officeDocument/2006/relationships/image" Target="../media/image6.wmf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82960" y="1358640"/>
            <a:ext cx="6858000" cy="28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Self-Evaluation </a:t>
            </a:r>
            <a:br>
              <a:rPr sz="4800"/>
            </a:br>
            <a:r>
              <a:rPr b="0" i="1" lang="en-US" sz="4000" spc="-1" strike="noStrike">
                <a:solidFill>
                  <a:srgbClr val="ff0000"/>
                </a:solidFill>
                <a:latin typeface="Benguiat Bk BT"/>
              </a:rPr>
              <a:t>dalam Konteks Perencanaan</a:t>
            </a:r>
            <a:r>
              <a:rPr b="0" lang="en-US" sz="4000" spc="-1" strike="noStrike">
                <a:solidFill>
                  <a:srgbClr val="ff0000"/>
                </a:solidFill>
                <a:latin typeface="Benguiat Bk BT"/>
              </a:rPr>
              <a:t> </a:t>
            </a:r>
            <a:br>
              <a:rPr sz="4000"/>
            </a:b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19320" y="4571640"/>
            <a:ext cx="7672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ewan Pendidikan Tingg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irektorat Jenderal Pendidikan Tingg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echnical"/>
              </a:rPr>
              <a:t>Departemen Pendidikan Nasional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,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759280"/>
            <a:ext cx="93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Wingdings 2"/>
                <a:ea typeface="Wingdings 2"/>
              </a:rPr>
              <a:t>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2743200"/>
            <a:ext cx="9144000" cy="4114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e1e1b7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15000" y="1905120"/>
            <a:ext cx="2743200" cy="5238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ua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cc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80880" y="1905120"/>
            <a:ext cx="2667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Untuk mengungkap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1143000" y="2133360"/>
            <a:ext cx="5334120" cy="4038840"/>
            <a:chOff x="1143000" y="2133360"/>
            <a:chExt cx="5334120" cy="4038840"/>
          </a:xfrm>
        </p:grpSpPr>
        <p:sp>
          <p:nvSpPr>
            <p:cNvPr id="593" name=""/>
            <p:cNvSpPr/>
            <p:nvPr/>
          </p:nvSpPr>
          <p:spPr>
            <a:xfrm flipH="1">
              <a:off x="1143000" y="5029200"/>
              <a:ext cx="2362320" cy="114300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3505320" y="2133360"/>
              <a:ext cx="0" cy="289548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505320" y="5029200"/>
              <a:ext cx="2971800" cy="609840"/>
            </a:xfrm>
            <a:prstGeom prst="line">
              <a:avLst/>
            </a:prstGeom>
            <a:ln cap="sq" w="38160">
              <a:solidFill>
                <a:srgbClr val="ff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819520" y="4724280"/>
            <a:ext cx="1952640" cy="596880"/>
            <a:chOff x="2819520" y="4724280"/>
            <a:chExt cx="1952640" cy="596880"/>
          </a:xfrm>
        </p:grpSpPr>
        <p:sp>
          <p:nvSpPr>
            <p:cNvPr id="597" name=""/>
            <p:cNvSpPr/>
            <p:nvPr/>
          </p:nvSpPr>
          <p:spPr>
            <a:xfrm>
              <a:off x="2962440" y="4940280"/>
              <a:ext cx="1809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fisiens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19520" y="4724280"/>
              <a:ext cx="309600" cy="306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efa9b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4495680" y="4884840"/>
            <a:ext cx="3695760" cy="753840"/>
            <a:chOff x="4495680" y="4884840"/>
            <a:chExt cx="3695760" cy="753840"/>
          </a:xfrm>
        </p:grpSpPr>
        <p:sp>
          <p:nvSpPr>
            <p:cNvPr id="600" name=""/>
            <p:cNvSpPr/>
            <p:nvPr/>
          </p:nvSpPr>
          <p:spPr>
            <a:xfrm>
              <a:off x="4700520" y="5086440"/>
              <a:ext cx="349092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uasana akadem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i="1" lang="de-DE" sz="2000" spc="-1" strike="noStrike">
                  <a:solidFill>
                    <a:srgbClr val="000000"/>
                  </a:solidFill>
                  <a:latin typeface="Arial"/>
                </a:rPr>
                <a:t>academic atmosphere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495680" y="4884840"/>
              <a:ext cx="309600" cy="306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efa9b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652920" y="3048120"/>
            <a:ext cx="2062080" cy="519120"/>
            <a:chOff x="3652920" y="3048120"/>
            <a:chExt cx="2062080" cy="519120"/>
          </a:xfrm>
        </p:grpSpPr>
        <p:sp>
          <p:nvSpPr>
            <p:cNvPr id="603" name=""/>
            <p:cNvSpPr/>
            <p:nvPr/>
          </p:nvSpPr>
          <p:spPr>
            <a:xfrm>
              <a:off x="3863880" y="3186000"/>
              <a:ext cx="185112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fektivit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52920" y="3048120"/>
              <a:ext cx="309600" cy="306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efa9b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267080" y="3657600"/>
            <a:ext cx="2338560" cy="582480"/>
            <a:chOff x="4267080" y="3657600"/>
            <a:chExt cx="2338560" cy="582480"/>
          </a:xfrm>
        </p:grpSpPr>
        <p:sp>
          <p:nvSpPr>
            <p:cNvPr id="606" name=""/>
            <p:cNvSpPr/>
            <p:nvPr/>
          </p:nvSpPr>
          <p:spPr>
            <a:xfrm>
              <a:off x="4491000" y="3782880"/>
              <a:ext cx="2114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Akuntabilit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267080" y="3657600"/>
              <a:ext cx="309600" cy="306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efa9b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3429000" y="4113360"/>
            <a:ext cx="2438280" cy="534960"/>
            <a:chOff x="3429000" y="4113360"/>
            <a:chExt cx="2438280" cy="534960"/>
          </a:xfrm>
        </p:grpSpPr>
        <p:sp>
          <p:nvSpPr>
            <p:cNvPr id="609" name=""/>
            <p:cNvSpPr/>
            <p:nvPr/>
          </p:nvSpPr>
          <p:spPr>
            <a:xfrm>
              <a:off x="3672000" y="4267080"/>
              <a:ext cx="21952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Produktivit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429000" y="4113360"/>
              <a:ext cx="309600" cy="306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efa9b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057400" y="5424480"/>
            <a:ext cx="3494160" cy="824040"/>
            <a:chOff x="2057400" y="5424480"/>
            <a:chExt cx="3494160" cy="824040"/>
          </a:xfrm>
        </p:grpSpPr>
        <p:sp>
          <p:nvSpPr>
            <p:cNvPr id="612" name=""/>
            <p:cNvSpPr/>
            <p:nvPr/>
          </p:nvSpPr>
          <p:spPr>
            <a:xfrm>
              <a:off x="2305080" y="5638680"/>
              <a:ext cx="3246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Pengelolaan sistem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i="1" lang="de-DE" sz="2000" spc="-1" strike="noStrike">
                  <a:solidFill>
                    <a:srgbClr val="000000"/>
                  </a:solidFill>
                  <a:latin typeface="Arial"/>
                </a:rPr>
                <a:t>system maintenance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57400" y="5424480"/>
              <a:ext cx="309600" cy="306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efa9b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Kegunaan Evaluasi Diri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0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Dampak Evaluasi Diri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15240" y="6019920"/>
            <a:ext cx="11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kt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574640" y="6019920"/>
            <a:ext cx="6096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74640" y="49528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574640" y="28195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1383840" y="19234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75680" y="2476440"/>
            <a:ext cx="132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ndisi ya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harapk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3120" y="464832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ondi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at 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1574640" y="4648320"/>
            <a:ext cx="7001280" cy="520200"/>
            <a:chOff x="1574640" y="4648320"/>
            <a:chExt cx="7001280" cy="520200"/>
          </a:xfrm>
        </p:grpSpPr>
        <p:sp>
          <p:nvSpPr>
            <p:cNvPr id="624" name=""/>
            <p:cNvSpPr/>
            <p:nvPr/>
          </p:nvSpPr>
          <p:spPr>
            <a:xfrm>
              <a:off x="1574640" y="4794120"/>
              <a:ext cx="5853240" cy="312840"/>
            </a:xfrm>
            <a:custGeom>
              <a:avLst/>
              <a:gdLst/>
              <a:ahLst/>
              <a:rect l="l" t="t" r="r" b="b"/>
              <a:pathLst>
                <a:path w="3687" h="197">
                  <a:moveTo>
                    <a:pt x="0" y="80"/>
                  </a:moveTo>
                  <a:cubicBezTo>
                    <a:pt x="52" y="69"/>
                    <a:pt x="197" y="0"/>
                    <a:pt x="312" y="11"/>
                  </a:cubicBezTo>
                  <a:cubicBezTo>
                    <a:pt x="427" y="22"/>
                    <a:pt x="565" y="148"/>
                    <a:pt x="693" y="149"/>
                  </a:cubicBezTo>
                  <a:cubicBezTo>
                    <a:pt x="821" y="150"/>
                    <a:pt x="954" y="17"/>
                    <a:pt x="1083" y="20"/>
                  </a:cubicBezTo>
                  <a:cubicBezTo>
                    <a:pt x="1212" y="23"/>
                    <a:pt x="1346" y="170"/>
                    <a:pt x="1470" y="170"/>
                  </a:cubicBezTo>
                  <a:cubicBezTo>
                    <a:pt x="1594" y="170"/>
                    <a:pt x="1699" y="15"/>
                    <a:pt x="1830" y="17"/>
                  </a:cubicBezTo>
                  <a:cubicBezTo>
                    <a:pt x="1961" y="19"/>
                    <a:pt x="2112" y="181"/>
                    <a:pt x="2256" y="182"/>
                  </a:cubicBezTo>
                  <a:cubicBezTo>
                    <a:pt x="2400" y="183"/>
                    <a:pt x="2542" y="23"/>
                    <a:pt x="2694" y="23"/>
                  </a:cubicBezTo>
                  <a:cubicBezTo>
                    <a:pt x="2846" y="23"/>
                    <a:pt x="3171" y="179"/>
                    <a:pt x="3171" y="179"/>
                  </a:cubicBezTo>
                  <a:cubicBezTo>
                    <a:pt x="3280" y="197"/>
                    <a:pt x="3316" y="166"/>
                    <a:pt x="3402" y="143"/>
                  </a:cubicBezTo>
                  <a:cubicBezTo>
                    <a:pt x="3488" y="120"/>
                    <a:pt x="3628" y="62"/>
                    <a:pt x="3687" y="41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384680" y="4648320"/>
              <a:ext cx="119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anpa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valuasi Di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1574640" y="4025880"/>
            <a:ext cx="7311240" cy="862200"/>
            <a:chOff x="1574640" y="4025880"/>
            <a:chExt cx="7311240" cy="862200"/>
          </a:xfrm>
        </p:grpSpPr>
        <p:sp>
          <p:nvSpPr>
            <p:cNvPr id="627" name=""/>
            <p:cNvSpPr/>
            <p:nvPr/>
          </p:nvSpPr>
          <p:spPr>
            <a:xfrm>
              <a:off x="1574640" y="4211640"/>
              <a:ext cx="5915160" cy="676440"/>
            </a:xfrm>
            <a:custGeom>
              <a:avLst/>
              <a:gdLst/>
              <a:ahLst/>
              <a:rect l="l" t="t" r="r" b="b"/>
              <a:pathLst>
                <a:path w="3726" h="426">
                  <a:moveTo>
                    <a:pt x="0" y="426"/>
                  </a:moveTo>
                  <a:cubicBezTo>
                    <a:pt x="281" y="373"/>
                    <a:pt x="1065" y="175"/>
                    <a:pt x="1686" y="108"/>
                  </a:cubicBezTo>
                  <a:cubicBezTo>
                    <a:pt x="2430" y="0"/>
                    <a:pt x="3301" y="42"/>
                    <a:pt x="3726" y="24"/>
                  </a:cubicBez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82720" y="4025880"/>
              <a:ext cx="170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valuasi Diri,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kemampuan sendi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574640" y="3200400"/>
            <a:ext cx="7055280" cy="1687680"/>
            <a:chOff x="1574640" y="3200400"/>
            <a:chExt cx="7055280" cy="1687680"/>
          </a:xfrm>
        </p:grpSpPr>
        <p:sp>
          <p:nvSpPr>
            <p:cNvPr id="630" name=""/>
            <p:cNvSpPr/>
            <p:nvPr/>
          </p:nvSpPr>
          <p:spPr>
            <a:xfrm>
              <a:off x="1574640" y="3456000"/>
              <a:ext cx="5857920" cy="1432080"/>
            </a:xfrm>
            <a:custGeom>
              <a:avLst/>
              <a:gdLst/>
              <a:ahLst/>
              <a:rect l="l" t="t" r="r" b="b"/>
              <a:pathLst>
                <a:path w="3690" h="902">
                  <a:moveTo>
                    <a:pt x="0" y="902"/>
                  </a:moveTo>
                  <a:cubicBezTo>
                    <a:pt x="309" y="777"/>
                    <a:pt x="1239" y="300"/>
                    <a:pt x="1854" y="152"/>
                  </a:cubicBezTo>
                  <a:cubicBezTo>
                    <a:pt x="2470" y="0"/>
                    <a:pt x="3308" y="43"/>
                    <a:pt x="3690" y="14"/>
                  </a:cubicBezTo>
                </a:path>
              </a:pathLst>
            </a:custGeom>
            <a:noFill/>
            <a:ln w="28440">
              <a:solidFill>
                <a:srgbClr val="33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246800" y="3200400"/>
              <a:ext cx="1383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valuasi Diri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kerjasa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1574640" y="2324160"/>
            <a:ext cx="7090200" cy="2563920"/>
            <a:chOff x="1574640" y="2324160"/>
            <a:chExt cx="7090200" cy="2563920"/>
          </a:xfrm>
        </p:grpSpPr>
        <p:sp>
          <p:nvSpPr>
            <p:cNvPr id="633" name=""/>
            <p:cNvSpPr/>
            <p:nvPr/>
          </p:nvSpPr>
          <p:spPr>
            <a:xfrm>
              <a:off x="1574640" y="2698920"/>
              <a:ext cx="5886720" cy="2189160"/>
            </a:xfrm>
            <a:custGeom>
              <a:avLst/>
              <a:gdLst/>
              <a:ahLst/>
              <a:rect l="l" t="t" r="r" b="b"/>
              <a:pathLst>
                <a:path w="3708" h="1379">
                  <a:moveTo>
                    <a:pt x="0" y="1379"/>
                  </a:moveTo>
                  <a:cubicBezTo>
                    <a:pt x="121" y="1310"/>
                    <a:pt x="408" y="1199"/>
                    <a:pt x="726" y="965"/>
                  </a:cubicBezTo>
                  <a:cubicBezTo>
                    <a:pt x="1044" y="731"/>
                    <a:pt x="1643" y="298"/>
                    <a:pt x="2118" y="149"/>
                  </a:cubicBezTo>
                  <a:cubicBezTo>
                    <a:pt x="2593" y="0"/>
                    <a:pt x="3377" y="34"/>
                    <a:pt x="3708" y="4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281720" y="2324160"/>
              <a:ext cx="1383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valuasi Diri &amp;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kerjasama &amp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ntuan lu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1576440" y="2238480"/>
            <a:ext cx="0" cy="3809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062360" y="16621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uali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Obyek Evaluasi Diri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62320" y="1066680"/>
            <a:ext cx="6237000" cy="2730600"/>
          </a:xfrm>
          <a:custGeom>
            <a:avLst/>
            <a:gdLst/>
            <a:ahLst/>
            <a:rect l="l" t="t" r="r" b="b"/>
            <a:pathLst>
              <a:path w="3929" h="1720">
                <a:moveTo>
                  <a:pt x="538" y="1564"/>
                </a:moveTo>
                <a:cubicBezTo>
                  <a:pt x="0" y="1434"/>
                  <a:pt x="86" y="1046"/>
                  <a:pt x="255" y="857"/>
                </a:cubicBezTo>
                <a:cubicBezTo>
                  <a:pt x="425" y="668"/>
                  <a:pt x="779" y="660"/>
                  <a:pt x="1042" y="581"/>
                </a:cubicBezTo>
                <a:cubicBezTo>
                  <a:pt x="1305" y="502"/>
                  <a:pt x="1376" y="173"/>
                  <a:pt x="1721" y="84"/>
                </a:cubicBezTo>
                <a:cubicBezTo>
                  <a:pt x="2068" y="0"/>
                  <a:pt x="2800" y="45"/>
                  <a:pt x="3154" y="96"/>
                </a:cubicBezTo>
                <a:cubicBezTo>
                  <a:pt x="3507" y="147"/>
                  <a:pt x="3677" y="207"/>
                  <a:pt x="3799" y="404"/>
                </a:cubicBezTo>
                <a:cubicBezTo>
                  <a:pt x="3913" y="608"/>
                  <a:pt x="3929" y="1124"/>
                  <a:pt x="3838" y="1321"/>
                </a:cubicBezTo>
                <a:cubicBezTo>
                  <a:pt x="3748" y="1519"/>
                  <a:pt x="3754" y="1547"/>
                  <a:pt x="3487" y="1634"/>
                </a:cubicBezTo>
                <a:cubicBezTo>
                  <a:pt x="3221" y="1720"/>
                  <a:pt x="1077" y="1693"/>
                  <a:pt x="538" y="1564"/>
                </a:cubicBezTo>
                <a:close/>
              </a:path>
            </a:pathLst>
          </a:custGeom>
          <a:solidFill>
            <a:srgbClr val="e1e1b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5100480" y="1301760"/>
            <a:ext cx="949320" cy="254160"/>
            <a:chOff x="5100480" y="1301760"/>
            <a:chExt cx="949320" cy="254160"/>
          </a:xfrm>
        </p:grpSpPr>
        <p:sp>
          <p:nvSpPr>
            <p:cNvPr id="640" name=""/>
            <p:cNvSpPr/>
            <p:nvPr/>
          </p:nvSpPr>
          <p:spPr>
            <a:xfrm>
              <a:off x="5100480" y="1301760"/>
              <a:ext cx="949320" cy="2541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99840" y="1306440"/>
              <a:ext cx="75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Objectiv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4192560" y="2438280"/>
            <a:ext cx="66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172200" y="2438280"/>
            <a:ext cx="79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6058080" y="1430280"/>
            <a:ext cx="2013120" cy="1019160"/>
            <a:chOff x="6058080" y="1430280"/>
            <a:chExt cx="2013120" cy="1019160"/>
          </a:xfrm>
        </p:grpSpPr>
        <p:sp>
          <p:nvSpPr>
            <p:cNvPr id="645" name=""/>
            <p:cNvSpPr/>
            <p:nvPr/>
          </p:nvSpPr>
          <p:spPr>
            <a:xfrm>
              <a:off x="6058080" y="1430280"/>
              <a:ext cx="1671480" cy="1019160"/>
            </a:xfrm>
            <a:custGeom>
              <a:avLst/>
              <a:gdLst/>
              <a:ahLst/>
              <a:rect l="l" t="t" r="r" b="b"/>
              <a:pathLst>
                <a:path w="1560" h="1428">
                  <a:moveTo>
                    <a:pt x="0" y="0"/>
                  </a:moveTo>
                  <a:lnTo>
                    <a:pt x="1560" y="0"/>
                  </a:lnTo>
                  <a:lnTo>
                    <a:pt x="1560" y="1428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381440" y="1635120"/>
              <a:ext cx="689760" cy="231120"/>
            </a:xfrm>
            <a:prstGeom prst="rect">
              <a:avLst/>
            </a:prstGeom>
            <a:solidFill>
              <a:srgbClr val="e1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Effectivit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3618000" y="1611360"/>
            <a:ext cx="3998880" cy="838080"/>
            <a:chOff x="3618000" y="1611360"/>
            <a:chExt cx="3998880" cy="838080"/>
          </a:xfrm>
        </p:grpSpPr>
        <p:sp>
          <p:nvSpPr>
            <p:cNvPr id="648" name=""/>
            <p:cNvSpPr/>
            <p:nvPr/>
          </p:nvSpPr>
          <p:spPr>
            <a:xfrm>
              <a:off x="5608800" y="1611360"/>
              <a:ext cx="0" cy="838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18000" y="2144880"/>
              <a:ext cx="3998880" cy="304560"/>
            </a:xfrm>
            <a:custGeom>
              <a:avLst/>
              <a:gdLst/>
              <a:ahLst/>
              <a:rect l="l" t="t" r="r" b="b"/>
              <a:pathLst>
                <a:path w="3888" h="541">
                  <a:moveTo>
                    <a:pt x="0" y="540"/>
                  </a:moveTo>
                  <a:lnTo>
                    <a:pt x="0" y="0"/>
                  </a:lnTo>
                  <a:lnTo>
                    <a:pt x="3888" y="0"/>
                  </a:lnTo>
                  <a:lnTo>
                    <a:pt x="3888" y="541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62320" y="1687680"/>
              <a:ext cx="1082880" cy="337320"/>
            </a:xfrm>
            <a:prstGeom prst="rect">
              <a:avLst/>
            </a:prstGeom>
            <a:solidFill>
              <a:srgbClr val="e1e1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inimum Necessa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equir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3075120" y="2473200"/>
            <a:ext cx="1089000" cy="821520"/>
            <a:chOff x="3075120" y="2473200"/>
            <a:chExt cx="1089000" cy="821520"/>
          </a:xfrm>
        </p:grpSpPr>
        <p:grpSp>
          <p:nvGrpSpPr>
            <p:cNvPr id="652" name=""/>
            <p:cNvGrpSpPr/>
            <p:nvPr/>
          </p:nvGrpSpPr>
          <p:grpSpPr>
            <a:xfrm>
              <a:off x="3089520" y="2473200"/>
              <a:ext cx="1052280" cy="312840"/>
              <a:chOff x="3089520" y="2473200"/>
              <a:chExt cx="1052280" cy="312840"/>
            </a:xfrm>
          </p:grpSpPr>
          <p:sp>
            <p:nvSpPr>
              <p:cNvPr id="653" name=""/>
              <p:cNvSpPr/>
              <p:nvPr/>
            </p:nvSpPr>
            <p:spPr>
              <a:xfrm>
                <a:off x="3089520" y="2473200"/>
                <a:ext cx="1052280" cy="312840"/>
              </a:xfrm>
              <a:prstGeom prst="rect">
                <a:avLst/>
              </a:prstGeom>
              <a:solidFill>
                <a:srgbClr val="3366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373560" y="2508480"/>
                <a:ext cx="482400" cy="246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Inp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3075120" y="2782800"/>
              <a:ext cx="1089000" cy="511920"/>
              <a:chOff x="3075120" y="2782800"/>
              <a:chExt cx="1089000" cy="511920"/>
            </a:xfrm>
          </p:grpSpPr>
          <p:sp>
            <p:nvSpPr>
              <p:cNvPr id="656" name=""/>
              <p:cNvSpPr/>
              <p:nvPr/>
            </p:nvSpPr>
            <p:spPr>
              <a:xfrm>
                <a:off x="3090960" y="2782800"/>
                <a:ext cx="1049400" cy="5079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075120" y="2789280"/>
                <a:ext cx="1089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- Resourc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- Relation with th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8" name=""/>
          <p:cNvSpPr/>
          <p:nvPr/>
        </p:nvSpPr>
        <p:spPr>
          <a:xfrm>
            <a:off x="4157640" y="2644920"/>
            <a:ext cx="901800" cy="1440"/>
          </a:xfrm>
          <a:custGeom>
            <a:avLst/>
            <a:gdLst/>
            <a:ahLst/>
            <a:rect l="l" t="t" r="r" b="b"/>
            <a:pathLst>
              <a:path w="568" h="1">
                <a:moveTo>
                  <a:pt x="0" y="0"/>
                </a:moveTo>
                <a:lnTo>
                  <a:pt x="568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5079960" y="2468520"/>
            <a:ext cx="1052280" cy="818280"/>
            <a:chOff x="5079960" y="2468520"/>
            <a:chExt cx="1052280" cy="818280"/>
          </a:xfrm>
        </p:grpSpPr>
        <p:grpSp>
          <p:nvGrpSpPr>
            <p:cNvPr id="660" name=""/>
            <p:cNvGrpSpPr/>
            <p:nvPr/>
          </p:nvGrpSpPr>
          <p:grpSpPr>
            <a:xfrm>
              <a:off x="5079960" y="2468520"/>
              <a:ext cx="1052280" cy="312840"/>
              <a:chOff x="5079960" y="2468520"/>
              <a:chExt cx="1052280" cy="312840"/>
            </a:xfrm>
          </p:grpSpPr>
          <p:sp>
            <p:nvSpPr>
              <p:cNvPr id="661" name=""/>
              <p:cNvSpPr/>
              <p:nvPr/>
            </p:nvSpPr>
            <p:spPr>
              <a:xfrm>
                <a:off x="5079960" y="2468520"/>
                <a:ext cx="1052280" cy="312840"/>
              </a:xfrm>
              <a:prstGeom prst="rect">
                <a:avLst/>
              </a:prstGeom>
              <a:solidFill>
                <a:srgbClr val="3366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311080" y="2503440"/>
                <a:ext cx="589320" cy="246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Pro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5081400" y="2778120"/>
              <a:ext cx="1049400" cy="508680"/>
              <a:chOff x="5081400" y="2778120"/>
              <a:chExt cx="1049400" cy="508680"/>
            </a:xfrm>
          </p:grpSpPr>
          <p:sp>
            <p:nvSpPr>
              <p:cNvPr id="664" name=""/>
              <p:cNvSpPr/>
              <p:nvPr/>
            </p:nvSpPr>
            <p:spPr>
              <a:xfrm>
                <a:off x="5081400" y="2778120"/>
                <a:ext cx="1049400" cy="5079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141520" y="2781360"/>
                <a:ext cx="927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Utilization o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Resource t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Achieve Targe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6" name=""/>
          <p:cNvGrpSpPr/>
          <p:nvPr/>
        </p:nvGrpSpPr>
        <p:grpSpPr>
          <a:xfrm>
            <a:off x="7137360" y="2463840"/>
            <a:ext cx="1055160" cy="818280"/>
            <a:chOff x="7137360" y="2463840"/>
            <a:chExt cx="1055160" cy="818280"/>
          </a:xfrm>
        </p:grpSpPr>
        <p:grpSp>
          <p:nvGrpSpPr>
            <p:cNvPr id="667" name=""/>
            <p:cNvGrpSpPr/>
            <p:nvPr/>
          </p:nvGrpSpPr>
          <p:grpSpPr>
            <a:xfrm>
              <a:off x="7138800" y="2463840"/>
              <a:ext cx="1052640" cy="312840"/>
              <a:chOff x="7138800" y="2463840"/>
              <a:chExt cx="1052640" cy="312840"/>
            </a:xfrm>
          </p:grpSpPr>
          <p:sp>
            <p:nvSpPr>
              <p:cNvPr id="668" name=""/>
              <p:cNvSpPr/>
              <p:nvPr/>
            </p:nvSpPr>
            <p:spPr>
              <a:xfrm>
                <a:off x="7138800" y="2463840"/>
                <a:ext cx="1052640" cy="312840"/>
              </a:xfrm>
              <a:prstGeom prst="rect">
                <a:avLst/>
              </a:prstGeom>
              <a:solidFill>
                <a:srgbClr val="3366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368480" y="2498760"/>
                <a:ext cx="575280" cy="246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Times New Roman"/>
                  </a:rPr>
                  <a:t>Outp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7137360" y="2773440"/>
              <a:ext cx="1055160" cy="508680"/>
              <a:chOff x="7137360" y="2773440"/>
              <a:chExt cx="1055160" cy="508680"/>
            </a:xfrm>
          </p:grpSpPr>
          <p:sp>
            <p:nvSpPr>
              <p:cNvPr id="671" name=""/>
              <p:cNvSpPr/>
              <p:nvPr/>
            </p:nvSpPr>
            <p:spPr>
              <a:xfrm>
                <a:off x="7137360" y="2773440"/>
                <a:ext cx="1055160" cy="5079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400880" y="2776680"/>
                <a:ext cx="529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Resul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an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Impac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3" name=""/>
          <p:cNvSpPr/>
          <p:nvPr/>
        </p:nvSpPr>
        <p:spPr>
          <a:xfrm>
            <a:off x="6154560" y="2644920"/>
            <a:ext cx="959040" cy="2880"/>
          </a:xfrm>
          <a:custGeom>
            <a:avLst/>
            <a:gdLst/>
            <a:ahLst/>
            <a:rect l="l" t="t" r="r" b="b"/>
            <a:pathLst>
              <a:path w="604" h="2">
                <a:moveTo>
                  <a:pt x="0" y="2"/>
                </a:moveTo>
                <a:lnTo>
                  <a:pt x="604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881720" y="1073160"/>
            <a:ext cx="2277000" cy="1023120"/>
            <a:chOff x="1881720" y="1073160"/>
            <a:chExt cx="2277000" cy="1023120"/>
          </a:xfrm>
        </p:grpSpPr>
        <p:sp>
          <p:nvSpPr>
            <p:cNvPr id="675" name=""/>
            <p:cNvSpPr/>
            <p:nvPr/>
          </p:nvSpPr>
          <p:spPr>
            <a:xfrm>
              <a:off x="1881720" y="1073160"/>
              <a:ext cx="1500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Objects 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Self-Eval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2031600">
              <a:off x="3322440" y="1461960"/>
              <a:ext cx="774360" cy="457200"/>
            </a:xfrm>
            <a:prstGeom prst="rightArrow">
              <a:avLst>
                <a:gd name="adj1" fmla="val 48019"/>
                <a:gd name="adj2" fmla="val 6948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1398600" y="2444760"/>
            <a:ext cx="1549440" cy="1142280"/>
            <a:chOff x="1398600" y="2444760"/>
            <a:chExt cx="1549440" cy="1142280"/>
          </a:xfrm>
        </p:grpSpPr>
        <p:grpSp>
          <p:nvGrpSpPr>
            <p:cNvPr id="678" name=""/>
            <p:cNvGrpSpPr/>
            <p:nvPr/>
          </p:nvGrpSpPr>
          <p:grpSpPr>
            <a:xfrm>
              <a:off x="1398600" y="2444760"/>
              <a:ext cx="833400" cy="1142280"/>
              <a:chOff x="1398600" y="2444760"/>
              <a:chExt cx="833400" cy="1142280"/>
            </a:xfrm>
          </p:grpSpPr>
          <p:pic>
            <p:nvPicPr>
              <p:cNvPr id="67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98600" y="2444760"/>
                <a:ext cx="833400" cy="968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0" name=""/>
              <p:cNvSpPr/>
              <p:nvPr/>
            </p:nvSpPr>
            <p:spPr>
              <a:xfrm>
                <a:off x="1450080" y="3355920"/>
                <a:ext cx="5634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Stud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2363760" y="2610000"/>
              <a:ext cx="584280" cy="495000"/>
            </a:xfrm>
            <a:prstGeom prst="rightArrow">
              <a:avLst>
                <a:gd name="adj1" fmla="val 39741"/>
                <a:gd name="adj2" fmla="val 55171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7419600" y="3422520"/>
            <a:ext cx="651600" cy="1593360"/>
            <a:chOff x="7419600" y="3422520"/>
            <a:chExt cx="651600" cy="1593360"/>
          </a:xfrm>
        </p:grpSpPr>
        <p:grpSp>
          <p:nvGrpSpPr>
            <p:cNvPr id="683" name=""/>
            <p:cNvGrpSpPr/>
            <p:nvPr/>
          </p:nvGrpSpPr>
          <p:grpSpPr>
            <a:xfrm>
              <a:off x="7419600" y="3968640"/>
              <a:ext cx="651600" cy="1047240"/>
              <a:chOff x="7419600" y="3968640"/>
              <a:chExt cx="651600" cy="104724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7453080" y="3968640"/>
                <a:ext cx="609480" cy="762120"/>
                <a:chOff x="7453080" y="3968640"/>
                <a:chExt cx="609480" cy="76212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7453080" y="3968640"/>
                  <a:ext cx="609480" cy="762120"/>
                </a:xfrm>
                <a:custGeom>
                  <a:avLst/>
                  <a:gdLst/>
                  <a:ahLst/>
                  <a:rect l="l" t="t" r="r" b="b"/>
                  <a:pathLst>
                    <a:path w="2042" h="2302">
                      <a:moveTo>
                        <a:pt x="1720" y="205"/>
                      </a:moveTo>
                      <a:lnTo>
                        <a:pt x="1960" y="192"/>
                      </a:lnTo>
                      <a:lnTo>
                        <a:pt x="1961" y="192"/>
                      </a:lnTo>
                      <a:lnTo>
                        <a:pt x="1962" y="190"/>
                      </a:lnTo>
                      <a:lnTo>
                        <a:pt x="1962" y="189"/>
                      </a:lnTo>
                      <a:lnTo>
                        <a:pt x="1963" y="189"/>
                      </a:lnTo>
                      <a:lnTo>
                        <a:pt x="1963" y="188"/>
                      </a:lnTo>
                      <a:lnTo>
                        <a:pt x="1963" y="187"/>
                      </a:lnTo>
                      <a:lnTo>
                        <a:pt x="1963" y="186"/>
                      </a:lnTo>
                      <a:lnTo>
                        <a:pt x="1963" y="185"/>
                      </a:lnTo>
                      <a:lnTo>
                        <a:pt x="1963" y="184"/>
                      </a:lnTo>
                      <a:lnTo>
                        <a:pt x="1963" y="183"/>
                      </a:lnTo>
                      <a:lnTo>
                        <a:pt x="1963" y="182"/>
                      </a:lnTo>
                      <a:lnTo>
                        <a:pt x="1963" y="181"/>
                      </a:lnTo>
                      <a:lnTo>
                        <a:pt x="1963" y="180"/>
                      </a:lnTo>
                      <a:lnTo>
                        <a:pt x="1962" y="180"/>
                      </a:lnTo>
                      <a:lnTo>
                        <a:pt x="1962" y="179"/>
                      </a:lnTo>
                      <a:lnTo>
                        <a:pt x="1962" y="178"/>
                      </a:lnTo>
                      <a:lnTo>
                        <a:pt x="1961" y="178"/>
                      </a:lnTo>
                      <a:lnTo>
                        <a:pt x="1961" y="177"/>
                      </a:lnTo>
                      <a:lnTo>
                        <a:pt x="1960" y="177"/>
                      </a:lnTo>
                      <a:lnTo>
                        <a:pt x="1082" y="6"/>
                      </a:lnTo>
                      <a:lnTo>
                        <a:pt x="139" y="0"/>
                      </a:lnTo>
                      <a:lnTo>
                        <a:pt x="138" y="0"/>
                      </a:lnTo>
                      <a:lnTo>
                        <a:pt x="137" y="0"/>
                      </a:lnTo>
                      <a:lnTo>
                        <a:pt x="137" y="1"/>
                      </a:lnTo>
                      <a:lnTo>
                        <a:pt x="136" y="1"/>
                      </a:lnTo>
                      <a:lnTo>
                        <a:pt x="136" y="2"/>
                      </a:lnTo>
                      <a:lnTo>
                        <a:pt x="136" y="3"/>
                      </a:lnTo>
                      <a:lnTo>
                        <a:pt x="135" y="4"/>
                      </a:lnTo>
                      <a:lnTo>
                        <a:pt x="135" y="5"/>
                      </a:lnTo>
                      <a:lnTo>
                        <a:pt x="135" y="6"/>
                      </a:lnTo>
                      <a:lnTo>
                        <a:pt x="135" y="7"/>
                      </a:lnTo>
                      <a:lnTo>
                        <a:pt x="135" y="8"/>
                      </a:lnTo>
                      <a:lnTo>
                        <a:pt x="135" y="9"/>
                      </a:lnTo>
                      <a:lnTo>
                        <a:pt x="135" y="10"/>
                      </a:lnTo>
                      <a:lnTo>
                        <a:pt x="135" y="11"/>
                      </a:lnTo>
                      <a:lnTo>
                        <a:pt x="135" y="12"/>
                      </a:lnTo>
                      <a:lnTo>
                        <a:pt x="135" y="13"/>
                      </a:lnTo>
                      <a:lnTo>
                        <a:pt x="136" y="14"/>
                      </a:lnTo>
                      <a:lnTo>
                        <a:pt x="136" y="15"/>
                      </a:lnTo>
                      <a:lnTo>
                        <a:pt x="136" y="16"/>
                      </a:lnTo>
                      <a:lnTo>
                        <a:pt x="137" y="17"/>
                      </a:lnTo>
                      <a:lnTo>
                        <a:pt x="137" y="18"/>
                      </a:lnTo>
                      <a:lnTo>
                        <a:pt x="138" y="18"/>
                      </a:lnTo>
                      <a:lnTo>
                        <a:pt x="139" y="18"/>
                      </a:lnTo>
                      <a:lnTo>
                        <a:pt x="637" y="156"/>
                      </a:lnTo>
                      <a:lnTo>
                        <a:pt x="635" y="161"/>
                      </a:lnTo>
                      <a:lnTo>
                        <a:pt x="633" y="167"/>
                      </a:lnTo>
                      <a:lnTo>
                        <a:pt x="631" y="172"/>
                      </a:lnTo>
                      <a:lnTo>
                        <a:pt x="628" y="178"/>
                      </a:lnTo>
                      <a:lnTo>
                        <a:pt x="626" y="184"/>
                      </a:lnTo>
                      <a:lnTo>
                        <a:pt x="624" y="192"/>
                      </a:lnTo>
                      <a:lnTo>
                        <a:pt x="621" y="198"/>
                      </a:lnTo>
                      <a:lnTo>
                        <a:pt x="619" y="205"/>
                      </a:lnTo>
                      <a:lnTo>
                        <a:pt x="617" y="211"/>
                      </a:lnTo>
                      <a:lnTo>
                        <a:pt x="614" y="218"/>
                      </a:lnTo>
                      <a:lnTo>
                        <a:pt x="612" y="225"/>
                      </a:lnTo>
                      <a:lnTo>
                        <a:pt x="609" y="232"/>
                      </a:lnTo>
                      <a:lnTo>
                        <a:pt x="607" y="239"/>
                      </a:lnTo>
                      <a:lnTo>
                        <a:pt x="605" y="246"/>
                      </a:lnTo>
                      <a:lnTo>
                        <a:pt x="602" y="253"/>
                      </a:lnTo>
                      <a:lnTo>
                        <a:pt x="600" y="260"/>
                      </a:lnTo>
                      <a:lnTo>
                        <a:pt x="598" y="268"/>
                      </a:lnTo>
                      <a:lnTo>
                        <a:pt x="595" y="275"/>
                      </a:lnTo>
                      <a:lnTo>
                        <a:pt x="593" y="282"/>
                      </a:lnTo>
                      <a:lnTo>
                        <a:pt x="591" y="289"/>
                      </a:lnTo>
                      <a:lnTo>
                        <a:pt x="589" y="296"/>
                      </a:lnTo>
                      <a:lnTo>
                        <a:pt x="587" y="303"/>
                      </a:lnTo>
                      <a:lnTo>
                        <a:pt x="585" y="310"/>
                      </a:lnTo>
                      <a:lnTo>
                        <a:pt x="583" y="317"/>
                      </a:lnTo>
                      <a:lnTo>
                        <a:pt x="581" y="324"/>
                      </a:lnTo>
                      <a:lnTo>
                        <a:pt x="579" y="331"/>
                      </a:lnTo>
                      <a:lnTo>
                        <a:pt x="578" y="338"/>
                      </a:lnTo>
                      <a:lnTo>
                        <a:pt x="576" y="344"/>
                      </a:lnTo>
                      <a:lnTo>
                        <a:pt x="575" y="351"/>
                      </a:lnTo>
                      <a:lnTo>
                        <a:pt x="574" y="357"/>
                      </a:lnTo>
                      <a:lnTo>
                        <a:pt x="572" y="363"/>
                      </a:lnTo>
                      <a:lnTo>
                        <a:pt x="571" y="369"/>
                      </a:lnTo>
                      <a:lnTo>
                        <a:pt x="571" y="371"/>
                      </a:lnTo>
                      <a:lnTo>
                        <a:pt x="571" y="372"/>
                      </a:lnTo>
                      <a:lnTo>
                        <a:pt x="571" y="374"/>
                      </a:lnTo>
                      <a:lnTo>
                        <a:pt x="571" y="376"/>
                      </a:lnTo>
                      <a:lnTo>
                        <a:pt x="571" y="378"/>
                      </a:lnTo>
                      <a:lnTo>
                        <a:pt x="571" y="380"/>
                      </a:lnTo>
                      <a:lnTo>
                        <a:pt x="571" y="382"/>
                      </a:lnTo>
                      <a:lnTo>
                        <a:pt x="571" y="384"/>
                      </a:lnTo>
                      <a:lnTo>
                        <a:pt x="571" y="386"/>
                      </a:lnTo>
                      <a:lnTo>
                        <a:pt x="571" y="388"/>
                      </a:lnTo>
                      <a:lnTo>
                        <a:pt x="571" y="389"/>
                      </a:lnTo>
                      <a:lnTo>
                        <a:pt x="571" y="391"/>
                      </a:lnTo>
                      <a:lnTo>
                        <a:pt x="570" y="393"/>
                      </a:lnTo>
                      <a:lnTo>
                        <a:pt x="570" y="395"/>
                      </a:lnTo>
                      <a:lnTo>
                        <a:pt x="570" y="397"/>
                      </a:lnTo>
                      <a:lnTo>
                        <a:pt x="570" y="399"/>
                      </a:lnTo>
                      <a:lnTo>
                        <a:pt x="570" y="401"/>
                      </a:lnTo>
                      <a:lnTo>
                        <a:pt x="570" y="403"/>
                      </a:lnTo>
                      <a:lnTo>
                        <a:pt x="570" y="405"/>
                      </a:lnTo>
                      <a:lnTo>
                        <a:pt x="569" y="406"/>
                      </a:lnTo>
                      <a:lnTo>
                        <a:pt x="569" y="408"/>
                      </a:lnTo>
                      <a:lnTo>
                        <a:pt x="569" y="410"/>
                      </a:lnTo>
                      <a:lnTo>
                        <a:pt x="569" y="412"/>
                      </a:lnTo>
                      <a:lnTo>
                        <a:pt x="568" y="413"/>
                      </a:lnTo>
                      <a:lnTo>
                        <a:pt x="568" y="415"/>
                      </a:lnTo>
                      <a:lnTo>
                        <a:pt x="568" y="417"/>
                      </a:lnTo>
                      <a:lnTo>
                        <a:pt x="568" y="418"/>
                      </a:lnTo>
                      <a:lnTo>
                        <a:pt x="566" y="420"/>
                      </a:lnTo>
                      <a:lnTo>
                        <a:pt x="566" y="421"/>
                      </a:lnTo>
                      <a:lnTo>
                        <a:pt x="566" y="422"/>
                      </a:lnTo>
                      <a:lnTo>
                        <a:pt x="565" y="424"/>
                      </a:lnTo>
                      <a:lnTo>
                        <a:pt x="565" y="425"/>
                      </a:lnTo>
                      <a:lnTo>
                        <a:pt x="563" y="430"/>
                      </a:lnTo>
                      <a:lnTo>
                        <a:pt x="562" y="435"/>
                      </a:lnTo>
                      <a:lnTo>
                        <a:pt x="559" y="441"/>
                      </a:lnTo>
                      <a:lnTo>
                        <a:pt x="557" y="448"/>
                      </a:lnTo>
                      <a:lnTo>
                        <a:pt x="554" y="456"/>
                      </a:lnTo>
                      <a:lnTo>
                        <a:pt x="551" y="464"/>
                      </a:lnTo>
                      <a:lnTo>
                        <a:pt x="548" y="473"/>
                      </a:lnTo>
                      <a:lnTo>
                        <a:pt x="544" y="482"/>
                      </a:lnTo>
                      <a:lnTo>
                        <a:pt x="541" y="492"/>
                      </a:lnTo>
                      <a:lnTo>
                        <a:pt x="537" y="502"/>
                      </a:lnTo>
                      <a:lnTo>
                        <a:pt x="534" y="512"/>
                      </a:lnTo>
                      <a:lnTo>
                        <a:pt x="531" y="523"/>
                      </a:lnTo>
                      <a:lnTo>
                        <a:pt x="527" y="534"/>
                      </a:lnTo>
                      <a:lnTo>
                        <a:pt x="524" y="545"/>
                      </a:lnTo>
                      <a:lnTo>
                        <a:pt x="522" y="556"/>
                      </a:lnTo>
                      <a:lnTo>
                        <a:pt x="519" y="568"/>
                      </a:lnTo>
                      <a:lnTo>
                        <a:pt x="517" y="580"/>
                      </a:lnTo>
                      <a:lnTo>
                        <a:pt x="515" y="591"/>
                      </a:lnTo>
                      <a:lnTo>
                        <a:pt x="514" y="603"/>
                      </a:lnTo>
                      <a:lnTo>
                        <a:pt x="513" y="614"/>
                      </a:lnTo>
                      <a:lnTo>
                        <a:pt x="512" y="625"/>
                      </a:lnTo>
                      <a:lnTo>
                        <a:pt x="513" y="635"/>
                      </a:lnTo>
                      <a:lnTo>
                        <a:pt x="513" y="646"/>
                      </a:lnTo>
                      <a:lnTo>
                        <a:pt x="515" y="655"/>
                      </a:lnTo>
                      <a:lnTo>
                        <a:pt x="517" y="665"/>
                      </a:lnTo>
                      <a:lnTo>
                        <a:pt x="520" y="674"/>
                      </a:lnTo>
                      <a:lnTo>
                        <a:pt x="524" y="682"/>
                      </a:lnTo>
                      <a:lnTo>
                        <a:pt x="529" y="690"/>
                      </a:lnTo>
                      <a:lnTo>
                        <a:pt x="535" y="698"/>
                      </a:lnTo>
                      <a:lnTo>
                        <a:pt x="541" y="704"/>
                      </a:lnTo>
                      <a:lnTo>
                        <a:pt x="549" y="710"/>
                      </a:lnTo>
                      <a:lnTo>
                        <a:pt x="558" y="715"/>
                      </a:lnTo>
                      <a:lnTo>
                        <a:pt x="559" y="718"/>
                      </a:lnTo>
                      <a:lnTo>
                        <a:pt x="560" y="722"/>
                      </a:lnTo>
                      <a:lnTo>
                        <a:pt x="560" y="725"/>
                      </a:lnTo>
                      <a:lnTo>
                        <a:pt x="561" y="728"/>
                      </a:lnTo>
                      <a:lnTo>
                        <a:pt x="561" y="732"/>
                      </a:lnTo>
                      <a:lnTo>
                        <a:pt x="562" y="735"/>
                      </a:lnTo>
                      <a:lnTo>
                        <a:pt x="562" y="738"/>
                      </a:lnTo>
                      <a:lnTo>
                        <a:pt x="562" y="741"/>
                      </a:lnTo>
                      <a:lnTo>
                        <a:pt x="563" y="745"/>
                      </a:lnTo>
                      <a:lnTo>
                        <a:pt x="563" y="748"/>
                      </a:lnTo>
                      <a:lnTo>
                        <a:pt x="563" y="751"/>
                      </a:lnTo>
                      <a:lnTo>
                        <a:pt x="563" y="754"/>
                      </a:lnTo>
                      <a:lnTo>
                        <a:pt x="563" y="757"/>
                      </a:lnTo>
                      <a:lnTo>
                        <a:pt x="563" y="760"/>
                      </a:lnTo>
                      <a:lnTo>
                        <a:pt x="563" y="764"/>
                      </a:lnTo>
                      <a:lnTo>
                        <a:pt x="564" y="767"/>
                      </a:lnTo>
                      <a:lnTo>
                        <a:pt x="564" y="770"/>
                      </a:lnTo>
                      <a:lnTo>
                        <a:pt x="564" y="773"/>
                      </a:lnTo>
                      <a:lnTo>
                        <a:pt x="564" y="777"/>
                      </a:lnTo>
                      <a:lnTo>
                        <a:pt x="564" y="780"/>
                      </a:lnTo>
                      <a:lnTo>
                        <a:pt x="565" y="784"/>
                      </a:lnTo>
                      <a:lnTo>
                        <a:pt x="565" y="787"/>
                      </a:lnTo>
                      <a:lnTo>
                        <a:pt x="566" y="791"/>
                      </a:lnTo>
                      <a:lnTo>
                        <a:pt x="566" y="794"/>
                      </a:lnTo>
                      <a:lnTo>
                        <a:pt x="568" y="798"/>
                      </a:lnTo>
                      <a:lnTo>
                        <a:pt x="569" y="802"/>
                      </a:lnTo>
                      <a:lnTo>
                        <a:pt x="570" y="806"/>
                      </a:lnTo>
                      <a:lnTo>
                        <a:pt x="571" y="810"/>
                      </a:lnTo>
                      <a:lnTo>
                        <a:pt x="572" y="814"/>
                      </a:lnTo>
                      <a:lnTo>
                        <a:pt x="574" y="818"/>
                      </a:lnTo>
                      <a:lnTo>
                        <a:pt x="575" y="823"/>
                      </a:lnTo>
                      <a:lnTo>
                        <a:pt x="577" y="827"/>
                      </a:lnTo>
                      <a:lnTo>
                        <a:pt x="580" y="834"/>
                      </a:lnTo>
                      <a:lnTo>
                        <a:pt x="583" y="841"/>
                      </a:lnTo>
                      <a:lnTo>
                        <a:pt x="586" y="847"/>
                      </a:lnTo>
                      <a:lnTo>
                        <a:pt x="589" y="852"/>
                      </a:lnTo>
                      <a:lnTo>
                        <a:pt x="592" y="857"/>
                      </a:lnTo>
                      <a:lnTo>
                        <a:pt x="594" y="862"/>
                      </a:lnTo>
                      <a:lnTo>
                        <a:pt x="597" y="866"/>
                      </a:lnTo>
                      <a:lnTo>
                        <a:pt x="600" y="869"/>
                      </a:lnTo>
                      <a:lnTo>
                        <a:pt x="602" y="872"/>
                      </a:lnTo>
                      <a:lnTo>
                        <a:pt x="604" y="875"/>
                      </a:lnTo>
                      <a:lnTo>
                        <a:pt x="607" y="877"/>
                      </a:lnTo>
                      <a:lnTo>
                        <a:pt x="609" y="879"/>
                      </a:lnTo>
                      <a:lnTo>
                        <a:pt x="611" y="881"/>
                      </a:lnTo>
                      <a:lnTo>
                        <a:pt x="613" y="882"/>
                      </a:lnTo>
                      <a:lnTo>
                        <a:pt x="616" y="883"/>
                      </a:lnTo>
                      <a:lnTo>
                        <a:pt x="618" y="884"/>
                      </a:lnTo>
                      <a:lnTo>
                        <a:pt x="620" y="884"/>
                      </a:lnTo>
                      <a:lnTo>
                        <a:pt x="622" y="885"/>
                      </a:lnTo>
                      <a:lnTo>
                        <a:pt x="624" y="885"/>
                      </a:lnTo>
                      <a:lnTo>
                        <a:pt x="627" y="885"/>
                      </a:lnTo>
                      <a:lnTo>
                        <a:pt x="629" y="885"/>
                      </a:lnTo>
                      <a:lnTo>
                        <a:pt x="631" y="885"/>
                      </a:lnTo>
                      <a:lnTo>
                        <a:pt x="634" y="885"/>
                      </a:lnTo>
                      <a:lnTo>
                        <a:pt x="636" y="884"/>
                      </a:lnTo>
                      <a:lnTo>
                        <a:pt x="639" y="884"/>
                      </a:lnTo>
                      <a:lnTo>
                        <a:pt x="641" y="884"/>
                      </a:lnTo>
                      <a:lnTo>
                        <a:pt x="644" y="884"/>
                      </a:lnTo>
                      <a:lnTo>
                        <a:pt x="647" y="883"/>
                      </a:lnTo>
                      <a:lnTo>
                        <a:pt x="649" y="883"/>
                      </a:lnTo>
                      <a:lnTo>
                        <a:pt x="652" y="883"/>
                      </a:lnTo>
                      <a:lnTo>
                        <a:pt x="655" y="884"/>
                      </a:lnTo>
                      <a:lnTo>
                        <a:pt x="659" y="884"/>
                      </a:lnTo>
                      <a:lnTo>
                        <a:pt x="675" y="1026"/>
                      </a:lnTo>
                      <a:lnTo>
                        <a:pt x="673" y="1026"/>
                      </a:lnTo>
                      <a:lnTo>
                        <a:pt x="671" y="1026"/>
                      </a:lnTo>
                      <a:lnTo>
                        <a:pt x="669" y="1026"/>
                      </a:lnTo>
                      <a:lnTo>
                        <a:pt x="667" y="1026"/>
                      </a:lnTo>
                      <a:lnTo>
                        <a:pt x="666" y="1026"/>
                      </a:lnTo>
                      <a:lnTo>
                        <a:pt x="664" y="1027"/>
                      </a:lnTo>
                      <a:lnTo>
                        <a:pt x="663" y="1028"/>
                      </a:lnTo>
                      <a:lnTo>
                        <a:pt x="662" y="1029"/>
                      </a:lnTo>
                      <a:lnTo>
                        <a:pt x="661" y="1030"/>
                      </a:lnTo>
                      <a:lnTo>
                        <a:pt x="661" y="1031"/>
                      </a:lnTo>
                      <a:lnTo>
                        <a:pt x="660" y="1033"/>
                      </a:lnTo>
                      <a:lnTo>
                        <a:pt x="660" y="1035"/>
                      </a:lnTo>
                      <a:lnTo>
                        <a:pt x="659" y="1036"/>
                      </a:lnTo>
                      <a:lnTo>
                        <a:pt x="659" y="1039"/>
                      </a:lnTo>
                      <a:lnTo>
                        <a:pt x="659" y="1041"/>
                      </a:lnTo>
                      <a:lnTo>
                        <a:pt x="659" y="1043"/>
                      </a:lnTo>
                      <a:lnTo>
                        <a:pt x="659" y="1046"/>
                      </a:lnTo>
                      <a:lnTo>
                        <a:pt x="659" y="1049"/>
                      </a:lnTo>
                      <a:lnTo>
                        <a:pt x="659" y="1051"/>
                      </a:lnTo>
                      <a:lnTo>
                        <a:pt x="659" y="1055"/>
                      </a:lnTo>
                      <a:lnTo>
                        <a:pt x="659" y="1058"/>
                      </a:lnTo>
                      <a:lnTo>
                        <a:pt x="658" y="1061"/>
                      </a:lnTo>
                      <a:lnTo>
                        <a:pt x="658" y="1065"/>
                      </a:lnTo>
                      <a:lnTo>
                        <a:pt x="658" y="1069"/>
                      </a:lnTo>
                      <a:lnTo>
                        <a:pt x="658" y="1073"/>
                      </a:lnTo>
                      <a:lnTo>
                        <a:pt x="658" y="1077"/>
                      </a:lnTo>
                      <a:lnTo>
                        <a:pt x="657" y="1081"/>
                      </a:lnTo>
                      <a:lnTo>
                        <a:pt x="657" y="1085"/>
                      </a:lnTo>
                      <a:lnTo>
                        <a:pt x="656" y="1090"/>
                      </a:lnTo>
                      <a:lnTo>
                        <a:pt x="656" y="1095"/>
                      </a:lnTo>
                      <a:lnTo>
                        <a:pt x="655" y="1100"/>
                      </a:lnTo>
                      <a:lnTo>
                        <a:pt x="654" y="1105"/>
                      </a:lnTo>
                      <a:lnTo>
                        <a:pt x="653" y="1109"/>
                      </a:lnTo>
                      <a:lnTo>
                        <a:pt x="653" y="1114"/>
                      </a:lnTo>
                      <a:lnTo>
                        <a:pt x="652" y="1118"/>
                      </a:lnTo>
                      <a:lnTo>
                        <a:pt x="652" y="1123"/>
                      </a:lnTo>
                      <a:lnTo>
                        <a:pt x="651" y="1127"/>
                      </a:lnTo>
                      <a:lnTo>
                        <a:pt x="650" y="1132"/>
                      </a:lnTo>
                      <a:lnTo>
                        <a:pt x="650" y="1137"/>
                      </a:lnTo>
                      <a:lnTo>
                        <a:pt x="649" y="1141"/>
                      </a:lnTo>
                      <a:lnTo>
                        <a:pt x="649" y="1146"/>
                      </a:lnTo>
                      <a:lnTo>
                        <a:pt x="648" y="1150"/>
                      </a:lnTo>
                      <a:lnTo>
                        <a:pt x="647" y="1155"/>
                      </a:lnTo>
                      <a:lnTo>
                        <a:pt x="647" y="1159"/>
                      </a:lnTo>
                      <a:lnTo>
                        <a:pt x="646" y="1164"/>
                      </a:lnTo>
                      <a:lnTo>
                        <a:pt x="645" y="1168"/>
                      </a:lnTo>
                      <a:lnTo>
                        <a:pt x="645" y="1173"/>
                      </a:lnTo>
                      <a:lnTo>
                        <a:pt x="644" y="1177"/>
                      </a:lnTo>
                      <a:lnTo>
                        <a:pt x="643" y="1182"/>
                      </a:lnTo>
                      <a:lnTo>
                        <a:pt x="643" y="1186"/>
                      </a:lnTo>
                      <a:lnTo>
                        <a:pt x="642" y="1190"/>
                      </a:lnTo>
                      <a:lnTo>
                        <a:pt x="642" y="1194"/>
                      </a:lnTo>
                      <a:lnTo>
                        <a:pt x="641" y="1199"/>
                      </a:lnTo>
                      <a:lnTo>
                        <a:pt x="641" y="1203"/>
                      </a:lnTo>
                      <a:lnTo>
                        <a:pt x="640" y="1207"/>
                      </a:lnTo>
                      <a:lnTo>
                        <a:pt x="640" y="1211"/>
                      </a:lnTo>
                      <a:lnTo>
                        <a:pt x="639" y="1214"/>
                      </a:lnTo>
                      <a:lnTo>
                        <a:pt x="639" y="1218"/>
                      </a:lnTo>
                      <a:lnTo>
                        <a:pt x="638" y="1222"/>
                      </a:lnTo>
                      <a:lnTo>
                        <a:pt x="638" y="1225"/>
                      </a:lnTo>
                      <a:lnTo>
                        <a:pt x="638" y="1229"/>
                      </a:lnTo>
                      <a:lnTo>
                        <a:pt x="637" y="1232"/>
                      </a:lnTo>
                      <a:lnTo>
                        <a:pt x="637" y="1235"/>
                      </a:lnTo>
                      <a:lnTo>
                        <a:pt x="637" y="1238"/>
                      </a:lnTo>
                      <a:lnTo>
                        <a:pt x="636" y="1238"/>
                      </a:lnTo>
                      <a:lnTo>
                        <a:pt x="634" y="1238"/>
                      </a:lnTo>
                      <a:lnTo>
                        <a:pt x="633" y="1238"/>
                      </a:lnTo>
                      <a:lnTo>
                        <a:pt x="632" y="1237"/>
                      </a:lnTo>
                      <a:lnTo>
                        <a:pt x="631" y="1237"/>
                      </a:lnTo>
                      <a:lnTo>
                        <a:pt x="630" y="1237"/>
                      </a:lnTo>
                      <a:lnTo>
                        <a:pt x="628" y="1237"/>
                      </a:lnTo>
                      <a:lnTo>
                        <a:pt x="627" y="1237"/>
                      </a:lnTo>
                      <a:lnTo>
                        <a:pt x="626" y="1237"/>
                      </a:lnTo>
                      <a:lnTo>
                        <a:pt x="625" y="1237"/>
                      </a:lnTo>
                      <a:lnTo>
                        <a:pt x="624" y="1237"/>
                      </a:lnTo>
                      <a:lnTo>
                        <a:pt x="623" y="1237"/>
                      </a:lnTo>
                      <a:lnTo>
                        <a:pt x="621" y="1237"/>
                      </a:lnTo>
                      <a:lnTo>
                        <a:pt x="620" y="1237"/>
                      </a:lnTo>
                      <a:lnTo>
                        <a:pt x="619" y="1237"/>
                      </a:lnTo>
                      <a:lnTo>
                        <a:pt x="618" y="1237"/>
                      </a:lnTo>
                      <a:lnTo>
                        <a:pt x="617" y="1237"/>
                      </a:lnTo>
                      <a:lnTo>
                        <a:pt x="615" y="1238"/>
                      </a:lnTo>
                      <a:lnTo>
                        <a:pt x="614" y="1238"/>
                      </a:lnTo>
                      <a:lnTo>
                        <a:pt x="613" y="1238"/>
                      </a:lnTo>
                      <a:lnTo>
                        <a:pt x="611" y="1239"/>
                      </a:lnTo>
                      <a:lnTo>
                        <a:pt x="610" y="1239"/>
                      </a:lnTo>
                      <a:lnTo>
                        <a:pt x="608" y="1240"/>
                      </a:lnTo>
                      <a:lnTo>
                        <a:pt x="607" y="1241"/>
                      </a:lnTo>
                      <a:lnTo>
                        <a:pt x="605" y="1241"/>
                      </a:lnTo>
                      <a:lnTo>
                        <a:pt x="604" y="1242"/>
                      </a:lnTo>
                      <a:lnTo>
                        <a:pt x="602" y="1243"/>
                      </a:lnTo>
                      <a:lnTo>
                        <a:pt x="600" y="1244"/>
                      </a:lnTo>
                      <a:lnTo>
                        <a:pt x="598" y="1245"/>
                      </a:lnTo>
                      <a:lnTo>
                        <a:pt x="597" y="1246"/>
                      </a:lnTo>
                      <a:lnTo>
                        <a:pt x="595" y="1247"/>
                      </a:lnTo>
                      <a:lnTo>
                        <a:pt x="593" y="1248"/>
                      </a:lnTo>
                      <a:lnTo>
                        <a:pt x="590" y="1249"/>
                      </a:lnTo>
                      <a:lnTo>
                        <a:pt x="587" y="1251"/>
                      </a:lnTo>
                      <a:lnTo>
                        <a:pt x="584" y="1252"/>
                      </a:lnTo>
                      <a:lnTo>
                        <a:pt x="581" y="1254"/>
                      </a:lnTo>
                      <a:lnTo>
                        <a:pt x="579" y="1256"/>
                      </a:lnTo>
                      <a:lnTo>
                        <a:pt x="576" y="1258"/>
                      </a:lnTo>
                      <a:lnTo>
                        <a:pt x="574" y="1260"/>
                      </a:lnTo>
                      <a:lnTo>
                        <a:pt x="572" y="1262"/>
                      </a:lnTo>
                      <a:lnTo>
                        <a:pt x="569" y="1264"/>
                      </a:lnTo>
                      <a:lnTo>
                        <a:pt x="566" y="1266"/>
                      </a:lnTo>
                      <a:lnTo>
                        <a:pt x="564" y="1268"/>
                      </a:lnTo>
                      <a:lnTo>
                        <a:pt x="562" y="1271"/>
                      </a:lnTo>
                      <a:lnTo>
                        <a:pt x="560" y="1273"/>
                      </a:lnTo>
                      <a:lnTo>
                        <a:pt x="558" y="1276"/>
                      </a:lnTo>
                      <a:lnTo>
                        <a:pt x="556" y="1278"/>
                      </a:lnTo>
                      <a:lnTo>
                        <a:pt x="554" y="1280"/>
                      </a:lnTo>
                      <a:lnTo>
                        <a:pt x="552" y="1283"/>
                      </a:lnTo>
                      <a:lnTo>
                        <a:pt x="550" y="1285"/>
                      </a:lnTo>
                      <a:lnTo>
                        <a:pt x="548" y="1288"/>
                      </a:lnTo>
                      <a:lnTo>
                        <a:pt x="546" y="1290"/>
                      </a:lnTo>
                      <a:lnTo>
                        <a:pt x="543" y="1293"/>
                      </a:lnTo>
                      <a:lnTo>
                        <a:pt x="541" y="1295"/>
                      </a:lnTo>
                      <a:lnTo>
                        <a:pt x="539" y="1297"/>
                      </a:lnTo>
                      <a:lnTo>
                        <a:pt x="537" y="1299"/>
                      </a:lnTo>
                      <a:lnTo>
                        <a:pt x="534" y="1302"/>
                      </a:lnTo>
                      <a:lnTo>
                        <a:pt x="532" y="1304"/>
                      </a:lnTo>
                      <a:lnTo>
                        <a:pt x="530" y="1305"/>
                      </a:lnTo>
                      <a:lnTo>
                        <a:pt x="527" y="1307"/>
                      </a:lnTo>
                      <a:lnTo>
                        <a:pt x="524" y="1309"/>
                      </a:lnTo>
                      <a:lnTo>
                        <a:pt x="522" y="1310"/>
                      </a:lnTo>
                      <a:lnTo>
                        <a:pt x="519" y="1312"/>
                      </a:lnTo>
                      <a:lnTo>
                        <a:pt x="516" y="1313"/>
                      </a:lnTo>
                      <a:lnTo>
                        <a:pt x="505" y="1318"/>
                      </a:lnTo>
                      <a:lnTo>
                        <a:pt x="494" y="1323"/>
                      </a:lnTo>
                      <a:lnTo>
                        <a:pt x="483" y="1328"/>
                      </a:lnTo>
                      <a:lnTo>
                        <a:pt x="471" y="1332"/>
                      </a:lnTo>
                      <a:lnTo>
                        <a:pt x="460" y="1336"/>
                      </a:lnTo>
                      <a:lnTo>
                        <a:pt x="449" y="1340"/>
                      </a:lnTo>
                      <a:lnTo>
                        <a:pt x="437" y="1344"/>
                      </a:lnTo>
                      <a:lnTo>
                        <a:pt x="425" y="1347"/>
                      </a:lnTo>
                      <a:lnTo>
                        <a:pt x="414" y="1351"/>
                      </a:lnTo>
                      <a:lnTo>
                        <a:pt x="402" y="1354"/>
                      </a:lnTo>
                      <a:lnTo>
                        <a:pt x="390" y="1357"/>
                      </a:lnTo>
                      <a:lnTo>
                        <a:pt x="378" y="1360"/>
                      </a:lnTo>
                      <a:lnTo>
                        <a:pt x="366" y="1362"/>
                      </a:lnTo>
                      <a:lnTo>
                        <a:pt x="354" y="1365"/>
                      </a:lnTo>
                      <a:lnTo>
                        <a:pt x="342" y="1368"/>
                      </a:lnTo>
                      <a:lnTo>
                        <a:pt x="329" y="1370"/>
                      </a:lnTo>
                      <a:lnTo>
                        <a:pt x="317" y="1373"/>
                      </a:lnTo>
                      <a:lnTo>
                        <a:pt x="305" y="1376"/>
                      </a:lnTo>
                      <a:lnTo>
                        <a:pt x="293" y="1378"/>
                      </a:lnTo>
                      <a:lnTo>
                        <a:pt x="281" y="1381"/>
                      </a:lnTo>
                      <a:lnTo>
                        <a:pt x="269" y="1384"/>
                      </a:lnTo>
                      <a:lnTo>
                        <a:pt x="257" y="1387"/>
                      </a:lnTo>
                      <a:lnTo>
                        <a:pt x="245" y="1390"/>
                      </a:lnTo>
                      <a:lnTo>
                        <a:pt x="233" y="1393"/>
                      </a:lnTo>
                      <a:lnTo>
                        <a:pt x="222" y="1396"/>
                      </a:lnTo>
                      <a:lnTo>
                        <a:pt x="210" y="1400"/>
                      </a:lnTo>
                      <a:lnTo>
                        <a:pt x="199" y="1404"/>
                      </a:lnTo>
                      <a:lnTo>
                        <a:pt x="187" y="1408"/>
                      </a:lnTo>
                      <a:lnTo>
                        <a:pt x="176" y="1412"/>
                      </a:lnTo>
                      <a:lnTo>
                        <a:pt x="165" y="1417"/>
                      </a:lnTo>
                      <a:lnTo>
                        <a:pt x="154" y="1421"/>
                      </a:lnTo>
                      <a:lnTo>
                        <a:pt x="143" y="1426"/>
                      </a:lnTo>
                      <a:lnTo>
                        <a:pt x="0" y="1495"/>
                      </a:lnTo>
                      <a:lnTo>
                        <a:pt x="0" y="2302"/>
                      </a:lnTo>
                      <a:lnTo>
                        <a:pt x="2041" y="2302"/>
                      </a:lnTo>
                      <a:lnTo>
                        <a:pt x="2042" y="1607"/>
                      </a:lnTo>
                      <a:lnTo>
                        <a:pt x="2041" y="1605"/>
                      </a:lnTo>
                      <a:lnTo>
                        <a:pt x="2039" y="1604"/>
                      </a:lnTo>
                      <a:lnTo>
                        <a:pt x="2037" y="1602"/>
                      </a:lnTo>
                      <a:lnTo>
                        <a:pt x="2036" y="1600"/>
                      </a:lnTo>
                      <a:lnTo>
                        <a:pt x="2034" y="1598"/>
                      </a:lnTo>
                      <a:lnTo>
                        <a:pt x="2032" y="1596"/>
                      </a:lnTo>
                      <a:lnTo>
                        <a:pt x="2030" y="1594"/>
                      </a:lnTo>
                      <a:lnTo>
                        <a:pt x="2028" y="1591"/>
                      </a:lnTo>
                      <a:lnTo>
                        <a:pt x="2026" y="1589"/>
                      </a:lnTo>
                      <a:lnTo>
                        <a:pt x="2024" y="1587"/>
                      </a:lnTo>
                      <a:lnTo>
                        <a:pt x="2022" y="1585"/>
                      </a:lnTo>
                      <a:lnTo>
                        <a:pt x="2020" y="1583"/>
                      </a:lnTo>
                      <a:lnTo>
                        <a:pt x="2018" y="1581"/>
                      </a:lnTo>
                      <a:lnTo>
                        <a:pt x="2016" y="1579"/>
                      </a:lnTo>
                      <a:lnTo>
                        <a:pt x="2014" y="1577"/>
                      </a:lnTo>
                      <a:lnTo>
                        <a:pt x="2012" y="1574"/>
                      </a:lnTo>
                      <a:lnTo>
                        <a:pt x="2009" y="1572"/>
                      </a:lnTo>
                      <a:lnTo>
                        <a:pt x="2007" y="1570"/>
                      </a:lnTo>
                      <a:lnTo>
                        <a:pt x="2005" y="1569"/>
                      </a:lnTo>
                      <a:lnTo>
                        <a:pt x="2003" y="1567"/>
                      </a:lnTo>
                      <a:lnTo>
                        <a:pt x="2001" y="1565"/>
                      </a:lnTo>
                      <a:lnTo>
                        <a:pt x="1998" y="1563"/>
                      </a:lnTo>
                      <a:lnTo>
                        <a:pt x="1996" y="1561"/>
                      </a:lnTo>
                      <a:lnTo>
                        <a:pt x="1994" y="1560"/>
                      </a:lnTo>
                      <a:lnTo>
                        <a:pt x="1992" y="1558"/>
                      </a:lnTo>
                      <a:lnTo>
                        <a:pt x="1990" y="1557"/>
                      </a:lnTo>
                      <a:lnTo>
                        <a:pt x="1987" y="1556"/>
                      </a:lnTo>
                      <a:lnTo>
                        <a:pt x="1985" y="1554"/>
                      </a:lnTo>
                      <a:lnTo>
                        <a:pt x="1983" y="1553"/>
                      </a:lnTo>
                      <a:lnTo>
                        <a:pt x="1981" y="1552"/>
                      </a:lnTo>
                      <a:lnTo>
                        <a:pt x="1979" y="1552"/>
                      </a:lnTo>
                      <a:lnTo>
                        <a:pt x="1977" y="1551"/>
                      </a:lnTo>
                      <a:lnTo>
                        <a:pt x="1592" y="1370"/>
                      </a:lnTo>
                      <a:lnTo>
                        <a:pt x="1510" y="1325"/>
                      </a:lnTo>
                      <a:lnTo>
                        <a:pt x="1505" y="1323"/>
                      </a:lnTo>
                      <a:lnTo>
                        <a:pt x="1501" y="1320"/>
                      </a:lnTo>
                      <a:lnTo>
                        <a:pt x="1496" y="1317"/>
                      </a:lnTo>
                      <a:lnTo>
                        <a:pt x="1491" y="1314"/>
                      </a:lnTo>
                      <a:lnTo>
                        <a:pt x="1486" y="1310"/>
                      </a:lnTo>
                      <a:lnTo>
                        <a:pt x="1481" y="1307"/>
                      </a:lnTo>
                      <a:lnTo>
                        <a:pt x="1476" y="1303"/>
                      </a:lnTo>
                      <a:lnTo>
                        <a:pt x="1470" y="1299"/>
                      </a:lnTo>
                      <a:lnTo>
                        <a:pt x="1465" y="1295"/>
                      </a:lnTo>
                      <a:lnTo>
                        <a:pt x="1460" y="1291"/>
                      </a:lnTo>
                      <a:lnTo>
                        <a:pt x="1455" y="1287"/>
                      </a:lnTo>
                      <a:lnTo>
                        <a:pt x="1449" y="1283"/>
                      </a:lnTo>
                      <a:lnTo>
                        <a:pt x="1444" y="1279"/>
                      </a:lnTo>
                      <a:lnTo>
                        <a:pt x="1439" y="1275"/>
                      </a:lnTo>
                      <a:lnTo>
                        <a:pt x="1433" y="1271"/>
                      </a:lnTo>
                      <a:lnTo>
                        <a:pt x="1428" y="1268"/>
                      </a:lnTo>
                      <a:lnTo>
                        <a:pt x="1422" y="1264"/>
                      </a:lnTo>
                      <a:lnTo>
                        <a:pt x="1417" y="1261"/>
                      </a:lnTo>
                      <a:lnTo>
                        <a:pt x="1411" y="1258"/>
                      </a:lnTo>
                      <a:lnTo>
                        <a:pt x="1405" y="1255"/>
                      </a:lnTo>
                      <a:lnTo>
                        <a:pt x="1400" y="1253"/>
                      </a:lnTo>
                      <a:lnTo>
                        <a:pt x="1394" y="1251"/>
                      </a:lnTo>
                      <a:lnTo>
                        <a:pt x="1388" y="1249"/>
                      </a:lnTo>
                      <a:lnTo>
                        <a:pt x="1382" y="1248"/>
                      </a:lnTo>
                      <a:lnTo>
                        <a:pt x="1376" y="1247"/>
                      </a:lnTo>
                      <a:lnTo>
                        <a:pt x="1371" y="1247"/>
                      </a:lnTo>
                      <a:lnTo>
                        <a:pt x="1365" y="1247"/>
                      </a:lnTo>
                      <a:lnTo>
                        <a:pt x="1359" y="1248"/>
                      </a:lnTo>
                      <a:lnTo>
                        <a:pt x="1353" y="1249"/>
                      </a:lnTo>
                      <a:lnTo>
                        <a:pt x="1346" y="1251"/>
                      </a:lnTo>
                      <a:lnTo>
                        <a:pt x="1340" y="1254"/>
                      </a:lnTo>
                      <a:lnTo>
                        <a:pt x="1334" y="1257"/>
                      </a:lnTo>
                      <a:lnTo>
                        <a:pt x="1332" y="1254"/>
                      </a:lnTo>
                      <a:lnTo>
                        <a:pt x="1331" y="1251"/>
                      </a:lnTo>
                      <a:lnTo>
                        <a:pt x="1329" y="1248"/>
                      </a:lnTo>
                      <a:lnTo>
                        <a:pt x="1328" y="1245"/>
                      </a:lnTo>
                      <a:lnTo>
                        <a:pt x="1326" y="1241"/>
                      </a:lnTo>
                      <a:lnTo>
                        <a:pt x="1325" y="1238"/>
                      </a:lnTo>
                      <a:lnTo>
                        <a:pt x="1323" y="1234"/>
                      </a:lnTo>
                      <a:lnTo>
                        <a:pt x="1322" y="1230"/>
                      </a:lnTo>
                      <a:lnTo>
                        <a:pt x="1321" y="1227"/>
                      </a:lnTo>
                      <a:lnTo>
                        <a:pt x="1320" y="1223"/>
                      </a:lnTo>
                      <a:lnTo>
                        <a:pt x="1318" y="1219"/>
                      </a:lnTo>
                      <a:lnTo>
                        <a:pt x="1317" y="1215"/>
                      </a:lnTo>
                      <a:lnTo>
                        <a:pt x="1316" y="1211"/>
                      </a:lnTo>
                      <a:lnTo>
                        <a:pt x="1315" y="1207"/>
                      </a:lnTo>
                      <a:lnTo>
                        <a:pt x="1314" y="1204"/>
                      </a:lnTo>
                      <a:lnTo>
                        <a:pt x="1313" y="1200"/>
                      </a:lnTo>
                      <a:lnTo>
                        <a:pt x="1312" y="1196"/>
                      </a:lnTo>
                      <a:lnTo>
                        <a:pt x="1311" y="1193"/>
                      </a:lnTo>
                      <a:lnTo>
                        <a:pt x="1310" y="1190"/>
                      </a:lnTo>
                      <a:lnTo>
                        <a:pt x="1309" y="1187"/>
                      </a:lnTo>
                      <a:lnTo>
                        <a:pt x="1308" y="1184"/>
                      </a:lnTo>
                      <a:lnTo>
                        <a:pt x="1307" y="1181"/>
                      </a:lnTo>
                      <a:lnTo>
                        <a:pt x="1306" y="1178"/>
                      </a:lnTo>
                      <a:lnTo>
                        <a:pt x="1305" y="1176"/>
                      </a:lnTo>
                      <a:lnTo>
                        <a:pt x="1304" y="1174"/>
                      </a:lnTo>
                      <a:lnTo>
                        <a:pt x="1303" y="1172"/>
                      </a:lnTo>
                      <a:lnTo>
                        <a:pt x="1302" y="1171"/>
                      </a:lnTo>
                      <a:lnTo>
                        <a:pt x="1301" y="1170"/>
                      </a:lnTo>
                      <a:lnTo>
                        <a:pt x="1300" y="1169"/>
                      </a:lnTo>
                      <a:lnTo>
                        <a:pt x="1299" y="1169"/>
                      </a:lnTo>
                      <a:lnTo>
                        <a:pt x="1298" y="1169"/>
                      </a:lnTo>
                      <a:lnTo>
                        <a:pt x="1297" y="1169"/>
                      </a:lnTo>
                      <a:lnTo>
                        <a:pt x="1301" y="1162"/>
                      </a:lnTo>
                      <a:lnTo>
                        <a:pt x="1306" y="1155"/>
                      </a:lnTo>
                      <a:lnTo>
                        <a:pt x="1310" y="1148"/>
                      </a:lnTo>
                      <a:lnTo>
                        <a:pt x="1314" y="1142"/>
                      </a:lnTo>
                      <a:lnTo>
                        <a:pt x="1317" y="1135"/>
                      </a:lnTo>
                      <a:lnTo>
                        <a:pt x="1321" y="1129"/>
                      </a:lnTo>
                      <a:lnTo>
                        <a:pt x="1324" y="1122"/>
                      </a:lnTo>
                      <a:lnTo>
                        <a:pt x="1328" y="1116"/>
                      </a:lnTo>
                      <a:lnTo>
                        <a:pt x="1331" y="1110"/>
                      </a:lnTo>
                      <a:lnTo>
                        <a:pt x="1334" y="1104"/>
                      </a:lnTo>
                      <a:lnTo>
                        <a:pt x="1336" y="1098"/>
                      </a:lnTo>
                      <a:lnTo>
                        <a:pt x="1339" y="1092"/>
                      </a:lnTo>
                      <a:lnTo>
                        <a:pt x="1342" y="1087"/>
                      </a:lnTo>
                      <a:lnTo>
                        <a:pt x="1344" y="1081"/>
                      </a:lnTo>
                      <a:lnTo>
                        <a:pt x="1347" y="1076"/>
                      </a:lnTo>
                      <a:lnTo>
                        <a:pt x="1349" y="1070"/>
                      </a:lnTo>
                      <a:lnTo>
                        <a:pt x="1351" y="1065"/>
                      </a:lnTo>
                      <a:lnTo>
                        <a:pt x="1353" y="1060"/>
                      </a:lnTo>
                      <a:lnTo>
                        <a:pt x="1356" y="1055"/>
                      </a:lnTo>
                      <a:lnTo>
                        <a:pt x="1358" y="1050"/>
                      </a:lnTo>
                      <a:lnTo>
                        <a:pt x="1360" y="1045"/>
                      </a:lnTo>
                      <a:lnTo>
                        <a:pt x="1362" y="1040"/>
                      </a:lnTo>
                      <a:lnTo>
                        <a:pt x="1364" y="1035"/>
                      </a:lnTo>
                      <a:lnTo>
                        <a:pt x="1366" y="1030"/>
                      </a:lnTo>
                      <a:lnTo>
                        <a:pt x="1368" y="1025"/>
                      </a:lnTo>
                      <a:lnTo>
                        <a:pt x="1370" y="1021"/>
                      </a:lnTo>
                      <a:lnTo>
                        <a:pt x="1372" y="1016"/>
                      </a:lnTo>
                      <a:lnTo>
                        <a:pt x="1374" y="1012"/>
                      </a:lnTo>
                      <a:lnTo>
                        <a:pt x="1376" y="1007"/>
                      </a:lnTo>
                      <a:lnTo>
                        <a:pt x="1378" y="1003"/>
                      </a:lnTo>
                      <a:lnTo>
                        <a:pt x="1380" y="999"/>
                      </a:lnTo>
                      <a:lnTo>
                        <a:pt x="1383" y="995"/>
                      </a:lnTo>
                      <a:lnTo>
                        <a:pt x="1385" y="992"/>
                      </a:lnTo>
                      <a:lnTo>
                        <a:pt x="1388" y="989"/>
                      </a:lnTo>
                      <a:lnTo>
                        <a:pt x="1390" y="987"/>
                      </a:lnTo>
                      <a:lnTo>
                        <a:pt x="1392" y="984"/>
                      </a:lnTo>
                      <a:lnTo>
                        <a:pt x="1394" y="982"/>
                      </a:lnTo>
                      <a:lnTo>
                        <a:pt x="1397" y="980"/>
                      </a:lnTo>
                      <a:lnTo>
                        <a:pt x="1399" y="977"/>
                      </a:lnTo>
                      <a:lnTo>
                        <a:pt x="1400" y="975"/>
                      </a:lnTo>
                      <a:lnTo>
                        <a:pt x="1402" y="973"/>
                      </a:lnTo>
                      <a:lnTo>
                        <a:pt x="1404" y="971"/>
                      </a:lnTo>
                      <a:lnTo>
                        <a:pt x="1406" y="969"/>
                      </a:lnTo>
                      <a:lnTo>
                        <a:pt x="1407" y="967"/>
                      </a:lnTo>
                      <a:lnTo>
                        <a:pt x="1409" y="965"/>
                      </a:lnTo>
                      <a:lnTo>
                        <a:pt x="1410" y="963"/>
                      </a:lnTo>
                      <a:lnTo>
                        <a:pt x="1412" y="962"/>
                      </a:lnTo>
                      <a:lnTo>
                        <a:pt x="1413" y="960"/>
                      </a:lnTo>
                      <a:lnTo>
                        <a:pt x="1414" y="957"/>
                      </a:lnTo>
                      <a:lnTo>
                        <a:pt x="1415" y="956"/>
                      </a:lnTo>
                      <a:lnTo>
                        <a:pt x="1416" y="954"/>
                      </a:lnTo>
                      <a:lnTo>
                        <a:pt x="1417" y="952"/>
                      </a:lnTo>
                      <a:lnTo>
                        <a:pt x="1418" y="951"/>
                      </a:lnTo>
                      <a:lnTo>
                        <a:pt x="1419" y="949"/>
                      </a:lnTo>
                      <a:lnTo>
                        <a:pt x="1420" y="947"/>
                      </a:lnTo>
                      <a:lnTo>
                        <a:pt x="1421" y="946"/>
                      </a:lnTo>
                      <a:lnTo>
                        <a:pt x="1421" y="944"/>
                      </a:lnTo>
                      <a:lnTo>
                        <a:pt x="1422" y="942"/>
                      </a:lnTo>
                      <a:lnTo>
                        <a:pt x="1423" y="941"/>
                      </a:lnTo>
                      <a:lnTo>
                        <a:pt x="1423" y="939"/>
                      </a:lnTo>
                      <a:lnTo>
                        <a:pt x="1424" y="937"/>
                      </a:lnTo>
                      <a:lnTo>
                        <a:pt x="1424" y="936"/>
                      </a:lnTo>
                      <a:lnTo>
                        <a:pt x="1424" y="934"/>
                      </a:lnTo>
                      <a:lnTo>
                        <a:pt x="1425" y="932"/>
                      </a:lnTo>
                      <a:lnTo>
                        <a:pt x="1430" y="929"/>
                      </a:lnTo>
                      <a:lnTo>
                        <a:pt x="1434" y="925"/>
                      </a:lnTo>
                      <a:lnTo>
                        <a:pt x="1439" y="922"/>
                      </a:lnTo>
                      <a:lnTo>
                        <a:pt x="1443" y="918"/>
                      </a:lnTo>
                      <a:lnTo>
                        <a:pt x="1447" y="913"/>
                      </a:lnTo>
                      <a:lnTo>
                        <a:pt x="1450" y="909"/>
                      </a:lnTo>
                      <a:lnTo>
                        <a:pt x="1453" y="904"/>
                      </a:lnTo>
                      <a:lnTo>
                        <a:pt x="1456" y="899"/>
                      </a:lnTo>
                      <a:lnTo>
                        <a:pt x="1459" y="894"/>
                      </a:lnTo>
                      <a:lnTo>
                        <a:pt x="1462" y="889"/>
                      </a:lnTo>
                      <a:lnTo>
                        <a:pt x="1464" y="884"/>
                      </a:lnTo>
                      <a:lnTo>
                        <a:pt x="1467" y="879"/>
                      </a:lnTo>
                      <a:lnTo>
                        <a:pt x="1469" y="873"/>
                      </a:lnTo>
                      <a:lnTo>
                        <a:pt x="1471" y="868"/>
                      </a:lnTo>
                      <a:lnTo>
                        <a:pt x="1473" y="862"/>
                      </a:lnTo>
                      <a:lnTo>
                        <a:pt x="1476" y="857"/>
                      </a:lnTo>
                      <a:lnTo>
                        <a:pt x="1478" y="851"/>
                      </a:lnTo>
                      <a:lnTo>
                        <a:pt x="1481" y="846"/>
                      </a:lnTo>
                      <a:lnTo>
                        <a:pt x="1483" y="840"/>
                      </a:lnTo>
                      <a:lnTo>
                        <a:pt x="1485" y="835"/>
                      </a:lnTo>
                      <a:lnTo>
                        <a:pt x="1487" y="830"/>
                      </a:lnTo>
                      <a:lnTo>
                        <a:pt x="1490" y="824"/>
                      </a:lnTo>
                      <a:lnTo>
                        <a:pt x="1492" y="819"/>
                      </a:lnTo>
                      <a:lnTo>
                        <a:pt x="1495" y="814"/>
                      </a:lnTo>
                      <a:lnTo>
                        <a:pt x="1498" y="809"/>
                      </a:lnTo>
                      <a:lnTo>
                        <a:pt x="1501" y="805"/>
                      </a:lnTo>
                      <a:lnTo>
                        <a:pt x="1505" y="800"/>
                      </a:lnTo>
                      <a:lnTo>
                        <a:pt x="1508" y="796"/>
                      </a:lnTo>
                      <a:lnTo>
                        <a:pt x="1512" y="792"/>
                      </a:lnTo>
                      <a:lnTo>
                        <a:pt x="1517" y="788"/>
                      </a:lnTo>
                      <a:lnTo>
                        <a:pt x="1521" y="785"/>
                      </a:lnTo>
                      <a:lnTo>
                        <a:pt x="1526" y="782"/>
                      </a:lnTo>
                      <a:lnTo>
                        <a:pt x="1527" y="780"/>
                      </a:lnTo>
                      <a:lnTo>
                        <a:pt x="1527" y="778"/>
                      </a:lnTo>
                      <a:lnTo>
                        <a:pt x="1527" y="776"/>
                      </a:lnTo>
                      <a:lnTo>
                        <a:pt x="1528" y="774"/>
                      </a:lnTo>
                      <a:lnTo>
                        <a:pt x="1528" y="772"/>
                      </a:lnTo>
                      <a:lnTo>
                        <a:pt x="1528" y="770"/>
                      </a:lnTo>
                      <a:lnTo>
                        <a:pt x="1529" y="769"/>
                      </a:lnTo>
                      <a:lnTo>
                        <a:pt x="1529" y="767"/>
                      </a:lnTo>
                      <a:lnTo>
                        <a:pt x="1529" y="765"/>
                      </a:lnTo>
                      <a:lnTo>
                        <a:pt x="1529" y="764"/>
                      </a:lnTo>
                      <a:lnTo>
                        <a:pt x="1529" y="762"/>
                      </a:lnTo>
                      <a:lnTo>
                        <a:pt x="1529" y="760"/>
                      </a:lnTo>
                      <a:lnTo>
                        <a:pt x="1529" y="759"/>
                      </a:lnTo>
                      <a:lnTo>
                        <a:pt x="1529" y="757"/>
                      </a:lnTo>
                      <a:lnTo>
                        <a:pt x="1529" y="756"/>
                      </a:lnTo>
                      <a:lnTo>
                        <a:pt x="1529" y="754"/>
                      </a:lnTo>
                      <a:lnTo>
                        <a:pt x="1529" y="753"/>
                      </a:lnTo>
                      <a:lnTo>
                        <a:pt x="1528" y="751"/>
                      </a:lnTo>
                      <a:lnTo>
                        <a:pt x="1528" y="750"/>
                      </a:lnTo>
                      <a:lnTo>
                        <a:pt x="1528" y="748"/>
                      </a:lnTo>
                      <a:lnTo>
                        <a:pt x="1527" y="747"/>
                      </a:lnTo>
                      <a:lnTo>
                        <a:pt x="1527" y="745"/>
                      </a:lnTo>
                      <a:lnTo>
                        <a:pt x="1527" y="744"/>
                      </a:lnTo>
                      <a:lnTo>
                        <a:pt x="1526" y="742"/>
                      </a:lnTo>
                      <a:lnTo>
                        <a:pt x="1525" y="741"/>
                      </a:lnTo>
                      <a:lnTo>
                        <a:pt x="1525" y="739"/>
                      </a:lnTo>
                      <a:lnTo>
                        <a:pt x="1524" y="737"/>
                      </a:lnTo>
                      <a:lnTo>
                        <a:pt x="1523" y="736"/>
                      </a:lnTo>
                      <a:lnTo>
                        <a:pt x="1522" y="734"/>
                      </a:lnTo>
                      <a:lnTo>
                        <a:pt x="1521" y="733"/>
                      </a:lnTo>
                      <a:lnTo>
                        <a:pt x="1520" y="731"/>
                      </a:lnTo>
                      <a:lnTo>
                        <a:pt x="1519" y="729"/>
                      </a:lnTo>
                      <a:lnTo>
                        <a:pt x="1556" y="686"/>
                      </a:lnTo>
                      <a:lnTo>
                        <a:pt x="1556" y="684"/>
                      </a:lnTo>
                      <a:lnTo>
                        <a:pt x="1556" y="682"/>
                      </a:lnTo>
                      <a:lnTo>
                        <a:pt x="1555" y="680"/>
                      </a:lnTo>
                      <a:lnTo>
                        <a:pt x="1555" y="678"/>
                      </a:lnTo>
                      <a:lnTo>
                        <a:pt x="1555" y="676"/>
                      </a:lnTo>
                      <a:lnTo>
                        <a:pt x="1555" y="674"/>
                      </a:lnTo>
                      <a:lnTo>
                        <a:pt x="1554" y="673"/>
                      </a:lnTo>
                      <a:lnTo>
                        <a:pt x="1554" y="671"/>
                      </a:lnTo>
                      <a:lnTo>
                        <a:pt x="1554" y="670"/>
                      </a:lnTo>
                      <a:lnTo>
                        <a:pt x="1553" y="669"/>
                      </a:lnTo>
                      <a:lnTo>
                        <a:pt x="1553" y="667"/>
                      </a:lnTo>
                      <a:lnTo>
                        <a:pt x="1553" y="666"/>
                      </a:lnTo>
                      <a:lnTo>
                        <a:pt x="1553" y="665"/>
                      </a:lnTo>
                      <a:lnTo>
                        <a:pt x="1552" y="664"/>
                      </a:lnTo>
                      <a:lnTo>
                        <a:pt x="1552" y="663"/>
                      </a:lnTo>
                      <a:lnTo>
                        <a:pt x="1552" y="662"/>
                      </a:lnTo>
                      <a:lnTo>
                        <a:pt x="1552" y="661"/>
                      </a:lnTo>
                      <a:lnTo>
                        <a:pt x="1552" y="660"/>
                      </a:lnTo>
                      <a:lnTo>
                        <a:pt x="1552" y="658"/>
                      </a:lnTo>
                      <a:lnTo>
                        <a:pt x="1552" y="657"/>
                      </a:lnTo>
                      <a:lnTo>
                        <a:pt x="1553" y="656"/>
                      </a:lnTo>
                      <a:lnTo>
                        <a:pt x="1553" y="655"/>
                      </a:lnTo>
                      <a:lnTo>
                        <a:pt x="1554" y="654"/>
                      </a:lnTo>
                      <a:lnTo>
                        <a:pt x="1554" y="652"/>
                      </a:lnTo>
                      <a:lnTo>
                        <a:pt x="1555" y="651"/>
                      </a:lnTo>
                      <a:lnTo>
                        <a:pt x="1556" y="649"/>
                      </a:lnTo>
                      <a:lnTo>
                        <a:pt x="1557" y="648"/>
                      </a:lnTo>
                      <a:lnTo>
                        <a:pt x="1558" y="646"/>
                      </a:lnTo>
                      <a:lnTo>
                        <a:pt x="1560" y="644"/>
                      </a:lnTo>
                      <a:lnTo>
                        <a:pt x="1561" y="642"/>
                      </a:lnTo>
                      <a:lnTo>
                        <a:pt x="1563" y="640"/>
                      </a:lnTo>
                      <a:lnTo>
                        <a:pt x="1565" y="638"/>
                      </a:lnTo>
                      <a:lnTo>
                        <a:pt x="1565" y="634"/>
                      </a:lnTo>
                      <a:lnTo>
                        <a:pt x="1564" y="630"/>
                      </a:lnTo>
                      <a:lnTo>
                        <a:pt x="1564" y="626"/>
                      </a:lnTo>
                      <a:lnTo>
                        <a:pt x="1563" y="622"/>
                      </a:lnTo>
                      <a:lnTo>
                        <a:pt x="1562" y="619"/>
                      </a:lnTo>
                      <a:lnTo>
                        <a:pt x="1561" y="615"/>
                      </a:lnTo>
                      <a:lnTo>
                        <a:pt x="1559" y="612"/>
                      </a:lnTo>
                      <a:lnTo>
                        <a:pt x="1558" y="608"/>
                      </a:lnTo>
                      <a:lnTo>
                        <a:pt x="1556" y="605"/>
                      </a:lnTo>
                      <a:lnTo>
                        <a:pt x="1555" y="601"/>
                      </a:lnTo>
                      <a:lnTo>
                        <a:pt x="1553" y="598"/>
                      </a:lnTo>
                      <a:lnTo>
                        <a:pt x="1551" y="595"/>
                      </a:lnTo>
                      <a:lnTo>
                        <a:pt x="1549" y="592"/>
                      </a:lnTo>
                      <a:lnTo>
                        <a:pt x="1547" y="588"/>
                      </a:lnTo>
                      <a:lnTo>
                        <a:pt x="1545" y="585"/>
                      </a:lnTo>
                      <a:lnTo>
                        <a:pt x="1543" y="582"/>
                      </a:lnTo>
                      <a:lnTo>
                        <a:pt x="1541" y="579"/>
                      </a:lnTo>
                      <a:lnTo>
                        <a:pt x="1539" y="576"/>
                      </a:lnTo>
                      <a:lnTo>
                        <a:pt x="1537" y="571"/>
                      </a:lnTo>
                      <a:lnTo>
                        <a:pt x="1535" y="568"/>
                      </a:lnTo>
                      <a:lnTo>
                        <a:pt x="1533" y="565"/>
                      </a:lnTo>
                      <a:lnTo>
                        <a:pt x="1531" y="562"/>
                      </a:lnTo>
                      <a:lnTo>
                        <a:pt x="1529" y="558"/>
                      </a:lnTo>
                      <a:lnTo>
                        <a:pt x="1528" y="555"/>
                      </a:lnTo>
                      <a:lnTo>
                        <a:pt x="1526" y="551"/>
                      </a:lnTo>
                      <a:lnTo>
                        <a:pt x="1525" y="548"/>
                      </a:lnTo>
                      <a:lnTo>
                        <a:pt x="1524" y="544"/>
                      </a:lnTo>
                      <a:lnTo>
                        <a:pt x="1523" y="541"/>
                      </a:lnTo>
                      <a:lnTo>
                        <a:pt x="1522" y="537"/>
                      </a:lnTo>
                      <a:lnTo>
                        <a:pt x="1521" y="533"/>
                      </a:lnTo>
                      <a:lnTo>
                        <a:pt x="1521" y="529"/>
                      </a:lnTo>
                      <a:lnTo>
                        <a:pt x="1521" y="525"/>
                      </a:lnTo>
                      <a:lnTo>
                        <a:pt x="1519" y="524"/>
                      </a:lnTo>
                      <a:lnTo>
                        <a:pt x="1518" y="523"/>
                      </a:lnTo>
                      <a:lnTo>
                        <a:pt x="1516" y="522"/>
                      </a:lnTo>
                      <a:lnTo>
                        <a:pt x="1515" y="520"/>
                      </a:lnTo>
                      <a:lnTo>
                        <a:pt x="1514" y="518"/>
                      </a:lnTo>
                      <a:lnTo>
                        <a:pt x="1512" y="516"/>
                      </a:lnTo>
                      <a:lnTo>
                        <a:pt x="1511" y="513"/>
                      </a:lnTo>
                      <a:lnTo>
                        <a:pt x="1510" y="510"/>
                      </a:lnTo>
                      <a:lnTo>
                        <a:pt x="1508" y="507"/>
                      </a:lnTo>
                      <a:lnTo>
                        <a:pt x="1507" y="504"/>
                      </a:lnTo>
                      <a:lnTo>
                        <a:pt x="1506" y="501"/>
                      </a:lnTo>
                      <a:lnTo>
                        <a:pt x="1505" y="497"/>
                      </a:lnTo>
                      <a:lnTo>
                        <a:pt x="1504" y="494"/>
                      </a:lnTo>
                      <a:lnTo>
                        <a:pt x="1503" y="490"/>
                      </a:lnTo>
                      <a:lnTo>
                        <a:pt x="1502" y="486"/>
                      </a:lnTo>
                      <a:lnTo>
                        <a:pt x="1501" y="482"/>
                      </a:lnTo>
                      <a:lnTo>
                        <a:pt x="1500" y="478"/>
                      </a:lnTo>
                      <a:lnTo>
                        <a:pt x="1499" y="474"/>
                      </a:lnTo>
                      <a:lnTo>
                        <a:pt x="1499" y="470"/>
                      </a:lnTo>
                      <a:lnTo>
                        <a:pt x="1498" y="466"/>
                      </a:lnTo>
                      <a:lnTo>
                        <a:pt x="1497" y="462"/>
                      </a:lnTo>
                      <a:lnTo>
                        <a:pt x="1497" y="458"/>
                      </a:lnTo>
                      <a:lnTo>
                        <a:pt x="1496" y="454"/>
                      </a:lnTo>
                      <a:lnTo>
                        <a:pt x="1496" y="450"/>
                      </a:lnTo>
                      <a:lnTo>
                        <a:pt x="1495" y="447"/>
                      </a:lnTo>
                      <a:lnTo>
                        <a:pt x="1495" y="443"/>
                      </a:lnTo>
                      <a:lnTo>
                        <a:pt x="1494" y="440"/>
                      </a:lnTo>
                      <a:lnTo>
                        <a:pt x="1494" y="436"/>
                      </a:lnTo>
                      <a:lnTo>
                        <a:pt x="1494" y="433"/>
                      </a:lnTo>
                      <a:lnTo>
                        <a:pt x="1494" y="430"/>
                      </a:lnTo>
                      <a:lnTo>
                        <a:pt x="1494" y="427"/>
                      </a:lnTo>
                      <a:lnTo>
                        <a:pt x="1494" y="425"/>
                      </a:lnTo>
                      <a:lnTo>
                        <a:pt x="1460" y="219"/>
                      </a:lnTo>
                      <a:lnTo>
                        <a:pt x="1646" y="209"/>
                      </a:lnTo>
                      <a:lnTo>
                        <a:pt x="1645" y="211"/>
                      </a:lnTo>
                      <a:lnTo>
                        <a:pt x="1645" y="213"/>
                      </a:lnTo>
                      <a:lnTo>
                        <a:pt x="1644" y="215"/>
                      </a:lnTo>
                      <a:lnTo>
                        <a:pt x="1644" y="217"/>
                      </a:lnTo>
                      <a:lnTo>
                        <a:pt x="1643" y="218"/>
                      </a:lnTo>
                      <a:lnTo>
                        <a:pt x="1643" y="220"/>
                      </a:lnTo>
                      <a:lnTo>
                        <a:pt x="1643" y="222"/>
                      </a:lnTo>
                      <a:lnTo>
                        <a:pt x="1643" y="223"/>
                      </a:lnTo>
                      <a:lnTo>
                        <a:pt x="1643" y="225"/>
                      </a:lnTo>
                      <a:lnTo>
                        <a:pt x="1643" y="226"/>
                      </a:lnTo>
                      <a:lnTo>
                        <a:pt x="1643" y="228"/>
                      </a:lnTo>
                      <a:lnTo>
                        <a:pt x="1643" y="229"/>
                      </a:lnTo>
                      <a:lnTo>
                        <a:pt x="1643" y="231"/>
                      </a:lnTo>
                      <a:lnTo>
                        <a:pt x="1643" y="232"/>
                      </a:lnTo>
                      <a:lnTo>
                        <a:pt x="1643" y="234"/>
                      </a:lnTo>
                      <a:lnTo>
                        <a:pt x="1644" y="235"/>
                      </a:lnTo>
                      <a:lnTo>
                        <a:pt x="1644" y="237"/>
                      </a:lnTo>
                      <a:lnTo>
                        <a:pt x="1645" y="238"/>
                      </a:lnTo>
                      <a:lnTo>
                        <a:pt x="1645" y="240"/>
                      </a:lnTo>
                      <a:lnTo>
                        <a:pt x="1646" y="241"/>
                      </a:lnTo>
                      <a:lnTo>
                        <a:pt x="1646" y="243"/>
                      </a:lnTo>
                      <a:lnTo>
                        <a:pt x="1647" y="245"/>
                      </a:lnTo>
                      <a:lnTo>
                        <a:pt x="1647" y="247"/>
                      </a:lnTo>
                      <a:lnTo>
                        <a:pt x="1648" y="248"/>
                      </a:lnTo>
                      <a:lnTo>
                        <a:pt x="1649" y="250"/>
                      </a:lnTo>
                      <a:lnTo>
                        <a:pt x="1650" y="253"/>
                      </a:lnTo>
                      <a:lnTo>
                        <a:pt x="1650" y="255"/>
                      </a:lnTo>
                      <a:lnTo>
                        <a:pt x="1651" y="257"/>
                      </a:lnTo>
                      <a:lnTo>
                        <a:pt x="1652" y="260"/>
                      </a:lnTo>
                      <a:lnTo>
                        <a:pt x="1653" y="262"/>
                      </a:lnTo>
                      <a:lnTo>
                        <a:pt x="1654" y="265"/>
                      </a:lnTo>
                      <a:lnTo>
                        <a:pt x="1655" y="268"/>
                      </a:lnTo>
                      <a:lnTo>
                        <a:pt x="1659" y="369"/>
                      </a:lnTo>
                      <a:lnTo>
                        <a:pt x="1659" y="372"/>
                      </a:lnTo>
                      <a:lnTo>
                        <a:pt x="1659" y="375"/>
                      </a:lnTo>
                      <a:lnTo>
                        <a:pt x="1658" y="378"/>
                      </a:lnTo>
                      <a:lnTo>
                        <a:pt x="1658" y="381"/>
                      </a:lnTo>
                      <a:lnTo>
                        <a:pt x="1658" y="383"/>
                      </a:lnTo>
                      <a:lnTo>
                        <a:pt x="1657" y="386"/>
                      </a:lnTo>
                      <a:lnTo>
                        <a:pt x="1657" y="389"/>
                      </a:lnTo>
                      <a:lnTo>
                        <a:pt x="1656" y="391"/>
                      </a:lnTo>
                      <a:lnTo>
                        <a:pt x="1656" y="394"/>
                      </a:lnTo>
                      <a:lnTo>
                        <a:pt x="1655" y="396"/>
                      </a:lnTo>
                      <a:lnTo>
                        <a:pt x="1654" y="399"/>
                      </a:lnTo>
                      <a:lnTo>
                        <a:pt x="1654" y="402"/>
                      </a:lnTo>
                      <a:lnTo>
                        <a:pt x="1653" y="404"/>
                      </a:lnTo>
                      <a:lnTo>
                        <a:pt x="1652" y="407"/>
                      </a:lnTo>
                      <a:lnTo>
                        <a:pt x="1651" y="409"/>
                      </a:lnTo>
                      <a:lnTo>
                        <a:pt x="1650" y="412"/>
                      </a:lnTo>
                      <a:lnTo>
                        <a:pt x="1650" y="414"/>
                      </a:lnTo>
                      <a:lnTo>
                        <a:pt x="1649" y="417"/>
                      </a:lnTo>
                      <a:lnTo>
                        <a:pt x="1648" y="419"/>
                      </a:lnTo>
                      <a:lnTo>
                        <a:pt x="1647" y="422"/>
                      </a:lnTo>
                      <a:lnTo>
                        <a:pt x="1647" y="425"/>
                      </a:lnTo>
                      <a:lnTo>
                        <a:pt x="1646" y="427"/>
                      </a:lnTo>
                      <a:lnTo>
                        <a:pt x="1645" y="430"/>
                      </a:lnTo>
                      <a:lnTo>
                        <a:pt x="1645" y="433"/>
                      </a:lnTo>
                      <a:lnTo>
                        <a:pt x="1644" y="436"/>
                      </a:lnTo>
                      <a:lnTo>
                        <a:pt x="1644" y="439"/>
                      </a:lnTo>
                      <a:lnTo>
                        <a:pt x="1643" y="442"/>
                      </a:lnTo>
                      <a:lnTo>
                        <a:pt x="1643" y="445"/>
                      </a:lnTo>
                      <a:lnTo>
                        <a:pt x="1642" y="448"/>
                      </a:lnTo>
                      <a:lnTo>
                        <a:pt x="1642" y="451"/>
                      </a:lnTo>
                      <a:lnTo>
                        <a:pt x="1642" y="455"/>
                      </a:lnTo>
                      <a:lnTo>
                        <a:pt x="1642" y="458"/>
                      </a:lnTo>
                      <a:lnTo>
                        <a:pt x="1641" y="467"/>
                      </a:lnTo>
                      <a:lnTo>
                        <a:pt x="1640" y="478"/>
                      </a:lnTo>
                      <a:lnTo>
                        <a:pt x="1639" y="489"/>
                      </a:lnTo>
                      <a:lnTo>
                        <a:pt x="1637" y="502"/>
                      </a:lnTo>
                      <a:lnTo>
                        <a:pt x="1635" y="517"/>
                      </a:lnTo>
                      <a:lnTo>
                        <a:pt x="1632" y="532"/>
                      </a:lnTo>
                      <a:lnTo>
                        <a:pt x="1630" y="549"/>
                      </a:lnTo>
                      <a:lnTo>
                        <a:pt x="1627" y="567"/>
                      </a:lnTo>
                      <a:lnTo>
                        <a:pt x="1623" y="586"/>
                      </a:lnTo>
                      <a:lnTo>
                        <a:pt x="1620" y="606"/>
                      </a:lnTo>
                      <a:lnTo>
                        <a:pt x="1616" y="626"/>
                      </a:lnTo>
                      <a:lnTo>
                        <a:pt x="1612" y="648"/>
                      </a:lnTo>
                      <a:lnTo>
                        <a:pt x="1608" y="670"/>
                      </a:lnTo>
                      <a:lnTo>
                        <a:pt x="1603" y="692"/>
                      </a:lnTo>
                      <a:lnTo>
                        <a:pt x="1599" y="716"/>
                      </a:lnTo>
                      <a:lnTo>
                        <a:pt x="1595" y="740"/>
                      </a:lnTo>
                      <a:lnTo>
                        <a:pt x="1590" y="764"/>
                      </a:lnTo>
                      <a:lnTo>
                        <a:pt x="1586" y="789"/>
                      </a:lnTo>
                      <a:lnTo>
                        <a:pt x="1582" y="814"/>
                      </a:lnTo>
                      <a:lnTo>
                        <a:pt x="1578" y="839"/>
                      </a:lnTo>
                      <a:lnTo>
                        <a:pt x="1573" y="865"/>
                      </a:lnTo>
                      <a:lnTo>
                        <a:pt x="1569" y="890"/>
                      </a:lnTo>
                      <a:lnTo>
                        <a:pt x="1566" y="916"/>
                      </a:lnTo>
                      <a:lnTo>
                        <a:pt x="1562" y="942"/>
                      </a:lnTo>
                      <a:lnTo>
                        <a:pt x="1558" y="969"/>
                      </a:lnTo>
                      <a:lnTo>
                        <a:pt x="1555" y="994"/>
                      </a:lnTo>
                      <a:lnTo>
                        <a:pt x="1552" y="1020"/>
                      </a:lnTo>
                      <a:lnTo>
                        <a:pt x="1550" y="1045"/>
                      </a:lnTo>
                      <a:lnTo>
                        <a:pt x="1548" y="1070"/>
                      </a:lnTo>
                      <a:lnTo>
                        <a:pt x="1546" y="1095"/>
                      </a:lnTo>
                      <a:lnTo>
                        <a:pt x="1544" y="1119"/>
                      </a:lnTo>
                      <a:lnTo>
                        <a:pt x="1543" y="1142"/>
                      </a:lnTo>
                      <a:lnTo>
                        <a:pt x="1542" y="1145"/>
                      </a:lnTo>
                      <a:lnTo>
                        <a:pt x="1542" y="1148"/>
                      </a:lnTo>
                      <a:lnTo>
                        <a:pt x="1543" y="1151"/>
                      </a:lnTo>
                      <a:lnTo>
                        <a:pt x="1544" y="1154"/>
                      </a:lnTo>
                      <a:lnTo>
                        <a:pt x="1546" y="1157"/>
                      </a:lnTo>
                      <a:lnTo>
                        <a:pt x="1548" y="1159"/>
                      </a:lnTo>
                      <a:lnTo>
                        <a:pt x="1550" y="1162"/>
                      </a:lnTo>
                      <a:lnTo>
                        <a:pt x="1553" y="1165"/>
                      </a:lnTo>
                      <a:lnTo>
                        <a:pt x="1556" y="1168"/>
                      </a:lnTo>
                      <a:lnTo>
                        <a:pt x="1560" y="1170"/>
                      </a:lnTo>
                      <a:lnTo>
                        <a:pt x="1564" y="1173"/>
                      </a:lnTo>
                      <a:lnTo>
                        <a:pt x="1569" y="1175"/>
                      </a:lnTo>
                      <a:lnTo>
                        <a:pt x="1573" y="1177"/>
                      </a:lnTo>
                      <a:lnTo>
                        <a:pt x="1578" y="1179"/>
                      </a:lnTo>
                      <a:lnTo>
                        <a:pt x="1584" y="1181"/>
                      </a:lnTo>
                      <a:lnTo>
                        <a:pt x="1589" y="1183"/>
                      </a:lnTo>
                      <a:lnTo>
                        <a:pt x="1594" y="1184"/>
                      </a:lnTo>
                      <a:lnTo>
                        <a:pt x="1600" y="1185"/>
                      </a:lnTo>
                      <a:lnTo>
                        <a:pt x="1606" y="1186"/>
                      </a:lnTo>
                      <a:lnTo>
                        <a:pt x="1612" y="1187"/>
                      </a:lnTo>
                      <a:lnTo>
                        <a:pt x="1618" y="1187"/>
                      </a:lnTo>
                      <a:lnTo>
                        <a:pt x="1624" y="1187"/>
                      </a:lnTo>
                      <a:lnTo>
                        <a:pt x="1630" y="1187"/>
                      </a:lnTo>
                      <a:lnTo>
                        <a:pt x="1636" y="1186"/>
                      </a:lnTo>
                      <a:lnTo>
                        <a:pt x="1641" y="1185"/>
                      </a:lnTo>
                      <a:lnTo>
                        <a:pt x="1647" y="1184"/>
                      </a:lnTo>
                      <a:lnTo>
                        <a:pt x="1653" y="1182"/>
                      </a:lnTo>
                      <a:lnTo>
                        <a:pt x="1658" y="1180"/>
                      </a:lnTo>
                      <a:lnTo>
                        <a:pt x="1664" y="1177"/>
                      </a:lnTo>
                      <a:lnTo>
                        <a:pt x="1669" y="1174"/>
                      </a:lnTo>
                      <a:lnTo>
                        <a:pt x="1674" y="1171"/>
                      </a:lnTo>
                      <a:lnTo>
                        <a:pt x="1679" y="1167"/>
                      </a:lnTo>
                      <a:lnTo>
                        <a:pt x="1680" y="1161"/>
                      </a:lnTo>
                      <a:lnTo>
                        <a:pt x="1682" y="1156"/>
                      </a:lnTo>
                      <a:lnTo>
                        <a:pt x="1684" y="1151"/>
                      </a:lnTo>
                      <a:lnTo>
                        <a:pt x="1685" y="1146"/>
                      </a:lnTo>
                      <a:lnTo>
                        <a:pt x="1687" y="1141"/>
                      </a:lnTo>
                      <a:lnTo>
                        <a:pt x="1689" y="1136"/>
                      </a:lnTo>
                      <a:lnTo>
                        <a:pt x="1690" y="1131"/>
                      </a:lnTo>
                      <a:lnTo>
                        <a:pt x="1692" y="1126"/>
                      </a:lnTo>
                      <a:lnTo>
                        <a:pt x="1694" y="1120"/>
                      </a:lnTo>
                      <a:lnTo>
                        <a:pt x="1695" y="1115"/>
                      </a:lnTo>
                      <a:lnTo>
                        <a:pt x="1697" y="1109"/>
                      </a:lnTo>
                      <a:lnTo>
                        <a:pt x="1698" y="1102"/>
                      </a:lnTo>
                      <a:lnTo>
                        <a:pt x="1700" y="1095"/>
                      </a:lnTo>
                      <a:lnTo>
                        <a:pt x="1701" y="1088"/>
                      </a:lnTo>
                      <a:lnTo>
                        <a:pt x="1703" y="1080"/>
                      </a:lnTo>
                      <a:lnTo>
                        <a:pt x="1705" y="1071"/>
                      </a:lnTo>
                      <a:lnTo>
                        <a:pt x="1706" y="1062"/>
                      </a:lnTo>
                      <a:lnTo>
                        <a:pt x="1707" y="1052"/>
                      </a:lnTo>
                      <a:lnTo>
                        <a:pt x="1708" y="1041"/>
                      </a:lnTo>
                      <a:lnTo>
                        <a:pt x="1709" y="1029"/>
                      </a:lnTo>
                      <a:lnTo>
                        <a:pt x="1710" y="1016"/>
                      </a:lnTo>
                      <a:lnTo>
                        <a:pt x="1711" y="1002"/>
                      </a:lnTo>
                      <a:lnTo>
                        <a:pt x="1711" y="987"/>
                      </a:lnTo>
                      <a:lnTo>
                        <a:pt x="1712" y="970"/>
                      </a:lnTo>
                      <a:lnTo>
                        <a:pt x="1713" y="952"/>
                      </a:lnTo>
                      <a:lnTo>
                        <a:pt x="1713" y="933"/>
                      </a:lnTo>
                      <a:lnTo>
                        <a:pt x="1713" y="912"/>
                      </a:lnTo>
                      <a:lnTo>
                        <a:pt x="1714" y="891"/>
                      </a:lnTo>
                      <a:lnTo>
                        <a:pt x="1714" y="867"/>
                      </a:lnTo>
                      <a:lnTo>
                        <a:pt x="1714" y="843"/>
                      </a:lnTo>
                      <a:lnTo>
                        <a:pt x="1714" y="816"/>
                      </a:lnTo>
                      <a:lnTo>
                        <a:pt x="1713" y="788"/>
                      </a:lnTo>
                      <a:lnTo>
                        <a:pt x="1713" y="775"/>
                      </a:lnTo>
                      <a:lnTo>
                        <a:pt x="1714" y="761"/>
                      </a:lnTo>
                      <a:lnTo>
                        <a:pt x="1714" y="746"/>
                      </a:lnTo>
                      <a:lnTo>
                        <a:pt x="1714" y="731"/>
                      </a:lnTo>
                      <a:lnTo>
                        <a:pt x="1715" y="715"/>
                      </a:lnTo>
                      <a:lnTo>
                        <a:pt x="1716" y="699"/>
                      </a:lnTo>
                      <a:lnTo>
                        <a:pt x="1717" y="683"/>
                      </a:lnTo>
                      <a:lnTo>
                        <a:pt x="1717" y="667"/>
                      </a:lnTo>
                      <a:lnTo>
                        <a:pt x="1718" y="650"/>
                      </a:lnTo>
                      <a:lnTo>
                        <a:pt x="1719" y="633"/>
                      </a:lnTo>
                      <a:lnTo>
                        <a:pt x="1720" y="616"/>
                      </a:lnTo>
                      <a:lnTo>
                        <a:pt x="1721" y="600"/>
                      </a:lnTo>
                      <a:lnTo>
                        <a:pt x="1722" y="583"/>
                      </a:lnTo>
                      <a:lnTo>
                        <a:pt x="1723" y="565"/>
                      </a:lnTo>
                      <a:lnTo>
                        <a:pt x="1724" y="549"/>
                      </a:lnTo>
                      <a:lnTo>
                        <a:pt x="1725" y="533"/>
                      </a:lnTo>
                      <a:lnTo>
                        <a:pt x="1726" y="517"/>
                      </a:lnTo>
                      <a:lnTo>
                        <a:pt x="1726" y="502"/>
                      </a:lnTo>
                      <a:lnTo>
                        <a:pt x="1726" y="487"/>
                      </a:lnTo>
                      <a:lnTo>
                        <a:pt x="1727" y="473"/>
                      </a:lnTo>
                      <a:lnTo>
                        <a:pt x="1727" y="459"/>
                      </a:lnTo>
                      <a:lnTo>
                        <a:pt x="1727" y="446"/>
                      </a:lnTo>
                      <a:lnTo>
                        <a:pt x="1726" y="434"/>
                      </a:lnTo>
                      <a:lnTo>
                        <a:pt x="1725" y="423"/>
                      </a:lnTo>
                      <a:lnTo>
                        <a:pt x="1725" y="412"/>
                      </a:lnTo>
                      <a:lnTo>
                        <a:pt x="1723" y="403"/>
                      </a:lnTo>
                      <a:lnTo>
                        <a:pt x="1722" y="394"/>
                      </a:lnTo>
                      <a:lnTo>
                        <a:pt x="1720" y="386"/>
                      </a:lnTo>
                      <a:lnTo>
                        <a:pt x="1718" y="380"/>
                      </a:lnTo>
                      <a:lnTo>
                        <a:pt x="1715" y="375"/>
                      </a:lnTo>
                      <a:lnTo>
                        <a:pt x="1712" y="371"/>
                      </a:lnTo>
                      <a:lnTo>
                        <a:pt x="1709" y="368"/>
                      </a:lnTo>
                      <a:lnTo>
                        <a:pt x="1704" y="268"/>
                      </a:lnTo>
                      <a:lnTo>
                        <a:pt x="1706" y="265"/>
                      </a:lnTo>
                      <a:lnTo>
                        <a:pt x="1708" y="263"/>
                      </a:lnTo>
                      <a:lnTo>
                        <a:pt x="1710" y="260"/>
                      </a:lnTo>
                      <a:lnTo>
                        <a:pt x="1711" y="258"/>
                      </a:lnTo>
                      <a:lnTo>
                        <a:pt x="1713" y="256"/>
                      </a:lnTo>
                      <a:lnTo>
                        <a:pt x="1714" y="253"/>
                      </a:lnTo>
                      <a:lnTo>
                        <a:pt x="1715" y="251"/>
                      </a:lnTo>
                      <a:lnTo>
                        <a:pt x="1716" y="249"/>
                      </a:lnTo>
                      <a:lnTo>
                        <a:pt x="1717" y="247"/>
                      </a:lnTo>
                      <a:lnTo>
                        <a:pt x="1718" y="245"/>
                      </a:lnTo>
                      <a:lnTo>
                        <a:pt x="1718" y="243"/>
                      </a:lnTo>
                      <a:lnTo>
                        <a:pt x="1719" y="240"/>
                      </a:lnTo>
                      <a:lnTo>
                        <a:pt x="1719" y="238"/>
                      </a:lnTo>
                      <a:lnTo>
                        <a:pt x="1720" y="236"/>
                      </a:lnTo>
                      <a:lnTo>
                        <a:pt x="1720" y="235"/>
                      </a:lnTo>
                      <a:lnTo>
                        <a:pt x="1720" y="233"/>
                      </a:lnTo>
                      <a:lnTo>
                        <a:pt x="1720" y="231"/>
                      </a:lnTo>
                      <a:lnTo>
                        <a:pt x="1721" y="229"/>
                      </a:lnTo>
                      <a:lnTo>
                        <a:pt x="1721" y="227"/>
                      </a:lnTo>
                      <a:lnTo>
                        <a:pt x="1721" y="225"/>
                      </a:lnTo>
                      <a:lnTo>
                        <a:pt x="1721" y="223"/>
                      </a:lnTo>
                      <a:lnTo>
                        <a:pt x="1721" y="222"/>
                      </a:lnTo>
                      <a:lnTo>
                        <a:pt x="1721" y="220"/>
                      </a:lnTo>
                      <a:lnTo>
                        <a:pt x="1720" y="218"/>
                      </a:lnTo>
                      <a:lnTo>
                        <a:pt x="1720" y="216"/>
                      </a:lnTo>
                      <a:lnTo>
                        <a:pt x="1720" y="215"/>
                      </a:lnTo>
                      <a:lnTo>
                        <a:pt x="1720" y="213"/>
                      </a:lnTo>
                      <a:lnTo>
                        <a:pt x="1720" y="211"/>
                      </a:lnTo>
                      <a:lnTo>
                        <a:pt x="1720" y="210"/>
                      </a:lnTo>
                      <a:lnTo>
                        <a:pt x="1720" y="208"/>
                      </a:lnTo>
                      <a:lnTo>
                        <a:pt x="1720" y="207"/>
                      </a:lnTo>
                      <a:lnTo>
                        <a:pt x="1720" y="205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7453080" y="3968640"/>
                  <a:ext cx="609480" cy="762120"/>
                </a:xfrm>
                <a:custGeom>
                  <a:avLst/>
                  <a:gdLst/>
                  <a:ahLst/>
                  <a:rect l="l" t="t" r="r" b="b"/>
                  <a:pathLst>
                    <a:path w="2042" h="2302">
                      <a:moveTo>
                        <a:pt x="1720" y="205"/>
                      </a:moveTo>
                      <a:lnTo>
                        <a:pt x="1960" y="192"/>
                      </a:lnTo>
                      <a:lnTo>
                        <a:pt x="1962" y="189"/>
                      </a:lnTo>
                      <a:lnTo>
                        <a:pt x="1963" y="184"/>
                      </a:lnTo>
                      <a:lnTo>
                        <a:pt x="1962" y="180"/>
                      </a:lnTo>
                      <a:lnTo>
                        <a:pt x="1960" y="177"/>
                      </a:lnTo>
                      <a:lnTo>
                        <a:pt x="1082" y="6"/>
                      </a:lnTo>
                      <a:lnTo>
                        <a:pt x="139" y="0"/>
                      </a:lnTo>
                      <a:lnTo>
                        <a:pt x="136" y="3"/>
                      </a:lnTo>
                      <a:lnTo>
                        <a:pt x="135" y="9"/>
                      </a:lnTo>
                      <a:lnTo>
                        <a:pt x="136" y="15"/>
                      </a:lnTo>
                      <a:lnTo>
                        <a:pt x="139" y="18"/>
                      </a:lnTo>
                      <a:lnTo>
                        <a:pt x="637" y="156"/>
                      </a:lnTo>
                      <a:lnTo>
                        <a:pt x="633" y="167"/>
                      </a:lnTo>
                      <a:lnTo>
                        <a:pt x="628" y="178"/>
                      </a:lnTo>
                      <a:lnTo>
                        <a:pt x="624" y="192"/>
                      </a:lnTo>
                      <a:lnTo>
                        <a:pt x="619" y="205"/>
                      </a:lnTo>
                      <a:lnTo>
                        <a:pt x="614" y="218"/>
                      </a:lnTo>
                      <a:lnTo>
                        <a:pt x="609" y="232"/>
                      </a:lnTo>
                      <a:lnTo>
                        <a:pt x="605" y="246"/>
                      </a:lnTo>
                      <a:lnTo>
                        <a:pt x="600" y="260"/>
                      </a:lnTo>
                      <a:lnTo>
                        <a:pt x="595" y="275"/>
                      </a:lnTo>
                      <a:lnTo>
                        <a:pt x="591" y="289"/>
                      </a:lnTo>
                      <a:lnTo>
                        <a:pt x="587" y="303"/>
                      </a:lnTo>
                      <a:lnTo>
                        <a:pt x="583" y="317"/>
                      </a:lnTo>
                      <a:lnTo>
                        <a:pt x="579" y="331"/>
                      </a:lnTo>
                      <a:lnTo>
                        <a:pt x="576" y="344"/>
                      </a:lnTo>
                      <a:lnTo>
                        <a:pt x="574" y="357"/>
                      </a:lnTo>
                      <a:lnTo>
                        <a:pt x="571" y="369"/>
                      </a:lnTo>
                      <a:lnTo>
                        <a:pt x="571" y="376"/>
                      </a:lnTo>
                      <a:lnTo>
                        <a:pt x="571" y="384"/>
                      </a:lnTo>
                      <a:lnTo>
                        <a:pt x="571" y="391"/>
                      </a:lnTo>
                      <a:lnTo>
                        <a:pt x="570" y="399"/>
                      </a:lnTo>
                      <a:lnTo>
                        <a:pt x="569" y="406"/>
                      </a:lnTo>
                      <a:lnTo>
                        <a:pt x="568" y="413"/>
                      </a:lnTo>
                      <a:lnTo>
                        <a:pt x="566" y="420"/>
                      </a:lnTo>
                      <a:lnTo>
                        <a:pt x="565" y="425"/>
                      </a:lnTo>
                      <a:lnTo>
                        <a:pt x="562" y="435"/>
                      </a:lnTo>
                      <a:lnTo>
                        <a:pt x="557" y="448"/>
                      </a:lnTo>
                      <a:lnTo>
                        <a:pt x="551" y="464"/>
                      </a:lnTo>
                      <a:lnTo>
                        <a:pt x="544" y="482"/>
                      </a:lnTo>
                      <a:lnTo>
                        <a:pt x="537" y="502"/>
                      </a:lnTo>
                      <a:lnTo>
                        <a:pt x="531" y="523"/>
                      </a:lnTo>
                      <a:lnTo>
                        <a:pt x="524" y="545"/>
                      </a:lnTo>
                      <a:lnTo>
                        <a:pt x="519" y="568"/>
                      </a:lnTo>
                      <a:lnTo>
                        <a:pt x="515" y="591"/>
                      </a:lnTo>
                      <a:lnTo>
                        <a:pt x="513" y="614"/>
                      </a:lnTo>
                      <a:lnTo>
                        <a:pt x="513" y="635"/>
                      </a:lnTo>
                      <a:lnTo>
                        <a:pt x="515" y="655"/>
                      </a:lnTo>
                      <a:lnTo>
                        <a:pt x="520" y="674"/>
                      </a:lnTo>
                      <a:lnTo>
                        <a:pt x="529" y="690"/>
                      </a:lnTo>
                      <a:lnTo>
                        <a:pt x="541" y="704"/>
                      </a:lnTo>
                      <a:lnTo>
                        <a:pt x="558" y="715"/>
                      </a:lnTo>
                      <a:lnTo>
                        <a:pt x="561" y="728"/>
                      </a:lnTo>
                      <a:lnTo>
                        <a:pt x="562" y="741"/>
                      </a:lnTo>
                      <a:lnTo>
                        <a:pt x="563" y="754"/>
                      </a:lnTo>
                      <a:lnTo>
                        <a:pt x="564" y="767"/>
                      </a:lnTo>
                      <a:lnTo>
                        <a:pt x="564" y="780"/>
                      </a:lnTo>
                      <a:lnTo>
                        <a:pt x="566" y="794"/>
                      </a:lnTo>
                      <a:lnTo>
                        <a:pt x="571" y="810"/>
                      </a:lnTo>
                      <a:lnTo>
                        <a:pt x="577" y="827"/>
                      </a:lnTo>
                      <a:lnTo>
                        <a:pt x="589" y="852"/>
                      </a:lnTo>
                      <a:lnTo>
                        <a:pt x="600" y="869"/>
                      </a:lnTo>
                      <a:lnTo>
                        <a:pt x="609" y="879"/>
                      </a:lnTo>
                      <a:lnTo>
                        <a:pt x="618" y="884"/>
                      </a:lnTo>
                      <a:lnTo>
                        <a:pt x="627" y="885"/>
                      </a:lnTo>
                      <a:lnTo>
                        <a:pt x="636" y="884"/>
                      </a:lnTo>
                      <a:lnTo>
                        <a:pt x="647" y="883"/>
                      </a:lnTo>
                      <a:lnTo>
                        <a:pt x="659" y="884"/>
                      </a:lnTo>
                      <a:lnTo>
                        <a:pt x="675" y="1026"/>
                      </a:lnTo>
                      <a:lnTo>
                        <a:pt x="667" y="1026"/>
                      </a:lnTo>
                      <a:lnTo>
                        <a:pt x="662" y="1029"/>
                      </a:lnTo>
                      <a:lnTo>
                        <a:pt x="660" y="1035"/>
                      </a:lnTo>
                      <a:lnTo>
                        <a:pt x="659" y="1043"/>
                      </a:lnTo>
                      <a:lnTo>
                        <a:pt x="659" y="1055"/>
                      </a:lnTo>
                      <a:lnTo>
                        <a:pt x="658" y="1069"/>
                      </a:lnTo>
                      <a:lnTo>
                        <a:pt x="657" y="1085"/>
                      </a:lnTo>
                      <a:lnTo>
                        <a:pt x="654" y="1105"/>
                      </a:lnTo>
                      <a:lnTo>
                        <a:pt x="652" y="1123"/>
                      </a:lnTo>
                      <a:lnTo>
                        <a:pt x="649" y="1141"/>
                      </a:lnTo>
                      <a:lnTo>
                        <a:pt x="647" y="1159"/>
                      </a:lnTo>
                      <a:lnTo>
                        <a:pt x="644" y="1177"/>
                      </a:lnTo>
                      <a:lnTo>
                        <a:pt x="642" y="1194"/>
                      </a:lnTo>
                      <a:lnTo>
                        <a:pt x="640" y="1211"/>
                      </a:lnTo>
                      <a:lnTo>
                        <a:pt x="638" y="1225"/>
                      </a:lnTo>
                      <a:lnTo>
                        <a:pt x="637" y="1238"/>
                      </a:lnTo>
                      <a:lnTo>
                        <a:pt x="632" y="1237"/>
                      </a:lnTo>
                      <a:lnTo>
                        <a:pt x="627" y="1237"/>
                      </a:lnTo>
                      <a:lnTo>
                        <a:pt x="623" y="1237"/>
                      </a:lnTo>
                      <a:lnTo>
                        <a:pt x="618" y="1237"/>
                      </a:lnTo>
                      <a:lnTo>
                        <a:pt x="613" y="1238"/>
                      </a:lnTo>
                      <a:lnTo>
                        <a:pt x="607" y="1241"/>
                      </a:lnTo>
                      <a:lnTo>
                        <a:pt x="600" y="1244"/>
                      </a:lnTo>
                      <a:lnTo>
                        <a:pt x="593" y="1248"/>
                      </a:lnTo>
                      <a:lnTo>
                        <a:pt x="581" y="1254"/>
                      </a:lnTo>
                      <a:lnTo>
                        <a:pt x="572" y="1262"/>
                      </a:lnTo>
                      <a:lnTo>
                        <a:pt x="562" y="1271"/>
                      </a:lnTo>
                      <a:lnTo>
                        <a:pt x="554" y="1280"/>
                      </a:lnTo>
                      <a:lnTo>
                        <a:pt x="546" y="1290"/>
                      </a:lnTo>
                      <a:lnTo>
                        <a:pt x="537" y="1299"/>
                      </a:lnTo>
                      <a:lnTo>
                        <a:pt x="527" y="1307"/>
                      </a:lnTo>
                      <a:lnTo>
                        <a:pt x="516" y="1313"/>
                      </a:lnTo>
                      <a:lnTo>
                        <a:pt x="494" y="1323"/>
                      </a:lnTo>
                      <a:lnTo>
                        <a:pt x="471" y="1332"/>
                      </a:lnTo>
                      <a:lnTo>
                        <a:pt x="449" y="1340"/>
                      </a:lnTo>
                      <a:lnTo>
                        <a:pt x="425" y="1347"/>
                      </a:lnTo>
                      <a:lnTo>
                        <a:pt x="402" y="1354"/>
                      </a:lnTo>
                      <a:lnTo>
                        <a:pt x="378" y="1360"/>
                      </a:lnTo>
                      <a:lnTo>
                        <a:pt x="354" y="1365"/>
                      </a:lnTo>
                      <a:lnTo>
                        <a:pt x="329" y="1370"/>
                      </a:lnTo>
                      <a:lnTo>
                        <a:pt x="305" y="1376"/>
                      </a:lnTo>
                      <a:lnTo>
                        <a:pt x="281" y="1381"/>
                      </a:lnTo>
                      <a:lnTo>
                        <a:pt x="257" y="1387"/>
                      </a:lnTo>
                      <a:lnTo>
                        <a:pt x="233" y="1393"/>
                      </a:lnTo>
                      <a:lnTo>
                        <a:pt x="210" y="1400"/>
                      </a:lnTo>
                      <a:lnTo>
                        <a:pt x="187" y="1408"/>
                      </a:lnTo>
                      <a:lnTo>
                        <a:pt x="165" y="1417"/>
                      </a:lnTo>
                      <a:lnTo>
                        <a:pt x="143" y="1426"/>
                      </a:lnTo>
                      <a:lnTo>
                        <a:pt x="0" y="1495"/>
                      </a:lnTo>
                      <a:lnTo>
                        <a:pt x="0" y="2302"/>
                      </a:lnTo>
                      <a:lnTo>
                        <a:pt x="2041" y="2302"/>
                      </a:lnTo>
                      <a:lnTo>
                        <a:pt x="2042" y="1607"/>
                      </a:lnTo>
                      <a:lnTo>
                        <a:pt x="2036" y="1600"/>
                      </a:lnTo>
                      <a:lnTo>
                        <a:pt x="2028" y="1591"/>
                      </a:lnTo>
                      <a:lnTo>
                        <a:pt x="2020" y="1583"/>
                      </a:lnTo>
                      <a:lnTo>
                        <a:pt x="2012" y="1574"/>
                      </a:lnTo>
                      <a:lnTo>
                        <a:pt x="2003" y="1567"/>
                      </a:lnTo>
                      <a:lnTo>
                        <a:pt x="1994" y="1560"/>
                      </a:lnTo>
                      <a:lnTo>
                        <a:pt x="1985" y="1554"/>
                      </a:lnTo>
                      <a:lnTo>
                        <a:pt x="1977" y="1551"/>
                      </a:lnTo>
                      <a:lnTo>
                        <a:pt x="1592" y="1370"/>
                      </a:lnTo>
                      <a:lnTo>
                        <a:pt x="1510" y="1325"/>
                      </a:lnTo>
                      <a:lnTo>
                        <a:pt x="1501" y="1320"/>
                      </a:lnTo>
                      <a:lnTo>
                        <a:pt x="1491" y="1314"/>
                      </a:lnTo>
                      <a:lnTo>
                        <a:pt x="1481" y="1307"/>
                      </a:lnTo>
                      <a:lnTo>
                        <a:pt x="1470" y="1299"/>
                      </a:lnTo>
                      <a:lnTo>
                        <a:pt x="1460" y="1291"/>
                      </a:lnTo>
                      <a:lnTo>
                        <a:pt x="1449" y="1283"/>
                      </a:lnTo>
                      <a:lnTo>
                        <a:pt x="1439" y="1275"/>
                      </a:lnTo>
                      <a:lnTo>
                        <a:pt x="1428" y="1268"/>
                      </a:lnTo>
                      <a:lnTo>
                        <a:pt x="1417" y="1261"/>
                      </a:lnTo>
                      <a:lnTo>
                        <a:pt x="1405" y="1255"/>
                      </a:lnTo>
                      <a:lnTo>
                        <a:pt x="1394" y="1251"/>
                      </a:lnTo>
                      <a:lnTo>
                        <a:pt x="1382" y="1248"/>
                      </a:lnTo>
                      <a:lnTo>
                        <a:pt x="1371" y="1247"/>
                      </a:lnTo>
                      <a:lnTo>
                        <a:pt x="1359" y="1248"/>
                      </a:lnTo>
                      <a:lnTo>
                        <a:pt x="1346" y="1251"/>
                      </a:lnTo>
                      <a:lnTo>
                        <a:pt x="1334" y="1257"/>
                      </a:lnTo>
                      <a:lnTo>
                        <a:pt x="1328" y="1245"/>
                      </a:lnTo>
                      <a:lnTo>
                        <a:pt x="1322" y="1230"/>
                      </a:lnTo>
                      <a:lnTo>
                        <a:pt x="1317" y="1215"/>
                      </a:lnTo>
                      <a:lnTo>
                        <a:pt x="1313" y="1200"/>
                      </a:lnTo>
                      <a:lnTo>
                        <a:pt x="1309" y="1187"/>
                      </a:lnTo>
                      <a:lnTo>
                        <a:pt x="1305" y="1176"/>
                      </a:lnTo>
                      <a:lnTo>
                        <a:pt x="1301" y="1170"/>
                      </a:lnTo>
                      <a:lnTo>
                        <a:pt x="1297" y="1169"/>
                      </a:lnTo>
                      <a:lnTo>
                        <a:pt x="1306" y="1155"/>
                      </a:lnTo>
                      <a:lnTo>
                        <a:pt x="1314" y="1142"/>
                      </a:lnTo>
                      <a:lnTo>
                        <a:pt x="1321" y="1129"/>
                      </a:lnTo>
                      <a:lnTo>
                        <a:pt x="1328" y="1116"/>
                      </a:lnTo>
                      <a:lnTo>
                        <a:pt x="1334" y="1104"/>
                      </a:lnTo>
                      <a:lnTo>
                        <a:pt x="1339" y="1092"/>
                      </a:lnTo>
                      <a:lnTo>
                        <a:pt x="1344" y="1081"/>
                      </a:lnTo>
                      <a:lnTo>
                        <a:pt x="1349" y="1070"/>
                      </a:lnTo>
                      <a:lnTo>
                        <a:pt x="1353" y="1060"/>
                      </a:lnTo>
                      <a:lnTo>
                        <a:pt x="1358" y="1050"/>
                      </a:lnTo>
                      <a:lnTo>
                        <a:pt x="1362" y="1040"/>
                      </a:lnTo>
                      <a:lnTo>
                        <a:pt x="1366" y="1030"/>
                      </a:lnTo>
                      <a:lnTo>
                        <a:pt x="1370" y="1021"/>
                      </a:lnTo>
                      <a:lnTo>
                        <a:pt x="1374" y="1012"/>
                      </a:lnTo>
                      <a:lnTo>
                        <a:pt x="1378" y="1003"/>
                      </a:lnTo>
                      <a:lnTo>
                        <a:pt x="1383" y="995"/>
                      </a:lnTo>
                      <a:lnTo>
                        <a:pt x="1392" y="984"/>
                      </a:lnTo>
                      <a:lnTo>
                        <a:pt x="1400" y="975"/>
                      </a:lnTo>
                      <a:lnTo>
                        <a:pt x="1407" y="967"/>
                      </a:lnTo>
                      <a:lnTo>
                        <a:pt x="1413" y="960"/>
                      </a:lnTo>
                      <a:lnTo>
                        <a:pt x="1417" y="952"/>
                      </a:lnTo>
                      <a:lnTo>
                        <a:pt x="1421" y="946"/>
                      </a:lnTo>
                      <a:lnTo>
                        <a:pt x="1423" y="939"/>
                      </a:lnTo>
                      <a:lnTo>
                        <a:pt x="1425" y="932"/>
                      </a:lnTo>
                      <a:lnTo>
                        <a:pt x="1443" y="918"/>
                      </a:lnTo>
                      <a:lnTo>
                        <a:pt x="1456" y="899"/>
                      </a:lnTo>
                      <a:lnTo>
                        <a:pt x="1467" y="879"/>
                      </a:lnTo>
                      <a:lnTo>
                        <a:pt x="1476" y="857"/>
                      </a:lnTo>
                      <a:lnTo>
                        <a:pt x="1485" y="835"/>
                      </a:lnTo>
                      <a:lnTo>
                        <a:pt x="1495" y="814"/>
                      </a:lnTo>
                      <a:lnTo>
                        <a:pt x="1508" y="796"/>
                      </a:lnTo>
                      <a:lnTo>
                        <a:pt x="1526" y="782"/>
                      </a:lnTo>
                      <a:lnTo>
                        <a:pt x="1528" y="774"/>
                      </a:lnTo>
                      <a:lnTo>
                        <a:pt x="1529" y="767"/>
                      </a:lnTo>
                      <a:lnTo>
                        <a:pt x="1529" y="760"/>
                      </a:lnTo>
                      <a:lnTo>
                        <a:pt x="1529" y="754"/>
                      </a:lnTo>
                      <a:lnTo>
                        <a:pt x="1528" y="748"/>
                      </a:lnTo>
                      <a:lnTo>
                        <a:pt x="1526" y="742"/>
                      </a:lnTo>
                      <a:lnTo>
                        <a:pt x="1523" y="736"/>
                      </a:lnTo>
                      <a:lnTo>
                        <a:pt x="1519" y="729"/>
                      </a:lnTo>
                      <a:lnTo>
                        <a:pt x="1556" y="686"/>
                      </a:lnTo>
                      <a:lnTo>
                        <a:pt x="1555" y="678"/>
                      </a:lnTo>
                      <a:lnTo>
                        <a:pt x="1554" y="671"/>
                      </a:lnTo>
                      <a:lnTo>
                        <a:pt x="1553" y="666"/>
                      </a:lnTo>
                      <a:lnTo>
                        <a:pt x="1552" y="662"/>
                      </a:lnTo>
                      <a:lnTo>
                        <a:pt x="1552" y="657"/>
                      </a:lnTo>
                      <a:lnTo>
                        <a:pt x="1554" y="652"/>
                      </a:lnTo>
                      <a:lnTo>
                        <a:pt x="1558" y="646"/>
                      </a:lnTo>
                      <a:lnTo>
                        <a:pt x="1565" y="638"/>
                      </a:lnTo>
                      <a:lnTo>
                        <a:pt x="1563" y="622"/>
                      </a:lnTo>
                      <a:lnTo>
                        <a:pt x="1558" y="608"/>
                      </a:lnTo>
                      <a:lnTo>
                        <a:pt x="1551" y="595"/>
                      </a:lnTo>
                      <a:lnTo>
                        <a:pt x="1543" y="582"/>
                      </a:lnTo>
                      <a:lnTo>
                        <a:pt x="1535" y="568"/>
                      </a:lnTo>
                      <a:lnTo>
                        <a:pt x="1528" y="555"/>
                      </a:lnTo>
                      <a:lnTo>
                        <a:pt x="1523" y="541"/>
                      </a:lnTo>
                      <a:lnTo>
                        <a:pt x="1521" y="525"/>
                      </a:lnTo>
                      <a:lnTo>
                        <a:pt x="1515" y="520"/>
                      </a:lnTo>
                      <a:lnTo>
                        <a:pt x="1510" y="510"/>
                      </a:lnTo>
                      <a:lnTo>
                        <a:pt x="1505" y="497"/>
                      </a:lnTo>
                      <a:lnTo>
                        <a:pt x="1501" y="482"/>
                      </a:lnTo>
                      <a:lnTo>
                        <a:pt x="1498" y="466"/>
                      </a:lnTo>
                      <a:lnTo>
                        <a:pt x="1496" y="450"/>
                      </a:lnTo>
                      <a:lnTo>
                        <a:pt x="1494" y="436"/>
                      </a:lnTo>
                      <a:lnTo>
                        <a:pt x="1494" y="425"/>
                      </a:lnTo>
                      <a:lnTo>
                        <a:pt x="1460" y="219"/>
                      </a:lnTo>
                      <a:lnTo>
                        <a:pt x="1646" y="209"/>
                      </a:lnTo>
                      <a:lnTo>
                        <a:pt x="1644" y="217"/>
                      </a:lnTo>
                      <a:lnTo>
                        <a:pt x="1643" y="223"/>
                      </a:lnTo>
                      <a:lnTo>
                        <a:pt x="1643" y="229"/>
                      </a:lnTo>
                      <a:lnTo>
                        <a:pt x="1644" y="235"/>
                      </a:lnTo>
                      <a:lnTo>
                        <a:pt x="1646" y="241"/>
                      </a:lnTo>
                      <a:lnTo>
                        <a:pt x="1648" y="248"/>
                      </a:lnTo>
                      <a:lnTo>
                        <a:pt x="1651" y="257"/>
                      </a:lnTo>
                      <a:lnTo>
                        <a:pt x="1655" y="268"/>
                      </a:lnTo>
                      <a:lnTo>
                        <a:pt x="1659" y="369"/>
                      </a:lnTo>
                      <a:lnTo>
                        <a:pt x="1658" y="381"/>
                      </a:lnTo>
                      <a:lnTo>
                        <a:pt x="1656" y="391"/>
                      </a:lnTo>
                      <a:lnTo>
                        <a:pt x="1654" y="402"/>
                      </a:lnTo>
                      <a:lnTo>
                        <a:pt x="1650" y="412"/>
                      </a:lnTo>
                      <a:lnTo>
                        <a:pt x="1647" y="422"/>
                      </a:lnTo>
                      <a:lnTo>
                        <a:pt x="1645" y="433"/>
                      </a:lnTo>
                      <a:lnTo>
                        <a:pt x="1643" y="445"/>
                      </a:lnTo>
                      <a:lnTo>
                        <a:pt x="1642" y="458"/>
                      </a:lnTo>
                      <a:lnTo>
                        <a:pt x="1641" y="467"/>
                      </a:lnTo>
                      <a:lnTo>
                        <a:pt x="1640" y="478"/>
                      </a:lnTo>
                      <a:lnTo>
                        <a:pt x="1639" y="489"/>
                      </a:lnTo>
                      <a:lnTo>
                        <a:pt x="1637" y="502"/>
                      </a:lnTo>
                      <a:lnTo>
                        <a:pt x="1635" y="517"/>
                      </a:lnTo>
                      <a:lnTo>
                        <a:pt x="1632" y="532"/>
                      </a:lnTo>
                      <a:lnTo>
                        <a:pt x="1630" y="549"/>
                      </a:lnTo>
                      <a:lnTo>
                        <a:pt x="1627" y="567"/>
                      </a:lnTo>
                      <a:lnTo>
                        <a:pt x="1623" y="586"/>
                      </a:lnTo>
                      <a:lnTo>
                        <a:pt x="1620" y="606"/>
                      </a:lnTo>
                      <a:lnTo>
                        <a:pt x="1616" y="626"/>
                      </a:lnTo>
                      <a:lnTo>
                        <a:pt x="1612" y="648"/>
                      </a:lnTo>
                      <a:lnTo>
                        <a:pt x="1608" y="670"/>
                      </a:lnTo>
                      <a:lnTo>
                        <a:pt x="1603" y="692"/>
                      </a:lnTo>
                      <a:lnTo>
                        <a:pt x="1599" y="716"/>
                      </a:lnTo>
                      <a:lnTo>
                        <a:pt x="1595" y="740"/>
                      </a:lnTo>
                      <a:lnTo>
                        <a:pt x="1590" y="764"/>
                      </a:lnTo>
                      <a:lnTo>
                        <a:pt x="1586" y="789"/>
                      </a:lnTo>
                      <a:lnTo>
                        <a:pt x="1582" y="814"/>
                      </a:lnTo>
                      <a:lnTo>
                        <a:pt x="1578" y="839"/>
                      </a:lnTo>
                      <a:lnTo>
                        <a:pt x="1573" y="865"/>
                      </a:lnTo>
                      <a:lnTo>
                        <a:pt x="1569" y="890"/>
                      </a:lnTo>
                      <a:lnTo>
                        <a:pt x="1566" y="916"/>
                      </a:lnTo>
                      <a:lnTo>
                        <a:pt x="1562" y="942"/>
                      </a:lnTo>
                      <a:lnTo>
                        <a:pt x="1558" y="969"/>
                      </a:lnTo>
                      <a:lnTo>
                        <a:pt x="1555" y="994"/>
                      </a:lnTo>
                      <a:lnTo>
                        <a:pt x="1552" y="1020"/>
                      </a:lnTo>
                      <a:lnTo>
                        <a:pt x="1550" y="1045"/>
                      </a:lnTo>
                      <a:lnTo>
                        <a:pt x="1548" y="1070"/>
                      </a:lnTo>
                      <a:lnTo>
                        <a:pt x="1546" y="1095"/>
                      </a:lnTo>
                      <a:lnTo>
                        <a:pt x="1544" y="1119"/>
                      </a:lnTo>
                      <a:lnTo>
                        <a:pt x="1543" y="1142"/>
                      </a:lnTo>
                      <a:lnTo>
                        <a:pt x="1544" y="1154"/>
                      </a:lnTo>
                      <a:lnTo>
                        <a:pt x="1553" y="1165"/>
                      </a:lnTo>
                      <a:lnTo>
                        <a:pt x="1569" y="1175"/>
                      </a:lnTo>
                      <a:lnTo>
                        <a:pt x="1589" y="1183"/>
                      </a:lnTo>
                      <a:lnTo>
                        <a:pt x="1612" y="1187"/>
                      </a:lnTo>
                      <a:lnTo>
                        <a:pt x="1636" y="1186"/>
                      </a:lnTo>
                      <a:lnTo>
                        <a:pt x="1658" y="1180"/>
                      </a:lnTo>
                      <a:lnTo>
                        <a:pt x="1679" y="1167"/>
                      </a:lnTo>
                      <a:lnTo>
                        <a:pt x="1682" y="1156"/>
                      </a:lnTo>
                      <a:lnTo>
                        <a:pt x="1685" y="1146"/>
                      </a:lnTo>
                      <a:lnTo>
                        <a:pt x="1689" y="1136"/>
                      </a:lnTo>
                      <a:lnTo>
                        <a:pt x="1692" y="1126"/>
                      </a:lnTo>
                      <a:lnTo>
                        <a:pt x="1695" y="1115"/>
                      </a:lnTo>
                      <a:lnTo>
                        <a:pt x="1698" y="1102"/>
                      </a:lnTo>
                      <a:lnTo>
                        <a:pt x="1701" y="1088"/>
                      </a:lnTo>
                      <a:lnTo>
                        <a:pt x="1705" y="1071"/>
                      </a:lnTo>
                      <a:lnTo>
                        <a:pt x="1707" y="1052"/>
                      </a:lnTo>
                      <a:lnTo>
                        <a:pt x="1709" y="1029"/>
                      </a:lnTo>
                      <a:lnTo>
                        <a:pt x="1711" y="1002"/>
                      </a:lnTo>
                      <a:lnTo>
                        <a:pt x="1712" y="970"/>
                      </a:lnTo>
                      <a:lnTo>
                        <a:pt x="1713" y="933"/>
                      </a:lnTo>
                      <a:lnTo>
                        <a:pt x="1714" y="891"/>
                      </a:lnTo>
                      <a:lnTo>
                        <a:pt x="1714" y="843"/>
                      </a:lnTo>
                      <a:lnTo>
                        <a:pt x="1713" y="788"/>
                      </a:lnTo>
                      <a:lnTo>
                        <a:pt x="1714" y="761"/>
                      </a:lnTo>
                      <a:lnTo>
                        <a:pt x="1714" y="731"/>
                      </a:lnTo>
                      <a:lnTo>
                        <a:pt x="1716" y="699"/>
                      </a:lnTo>
                      <a:lnTo>
                        <a:pt x="1717" y="667"/>
                      </a:lnTo>
                      <a:lnTo>
                        <a:pt x="1719" y="633"/>
                      </a:lnTo>
                      <a:lnTo>
                        <a:pt x="1721" y="600"/>
                      </a:lnTo>
                      <a:lnTo>
                        <a:pt x="1723" y="565"/>
                      </a:lnTo>
                      <a:lnTo>
                        <a:pt x="1725" y="533"/>
                      </a:lnTo>
                      <a:lnTo>
                        <a:pt x="1726" y="502"/>
                      </a:lnTo>
                      <a:lnTo>
                        <a:pt x="1727" y="473"/>
                      </a:lnTo>
                      <a:lnTo>
                        <a:pt x="1727" y="446"/>
                      </a:lnTo>
                      <a:lnTo>
                        <a:pt x="1725" y="423"/>
                      </a:lnTo>
                      <a:lnTo>
                        <a:pt x="1723" y="403"/>
                      </a:lnTo>
                      <a:lnTo>
                        <a:pt x="1720" y="386"/>
                      </a:lnTo>
                      <a:lnTo>
                        <a:pt x="1715" y="375"/>
                      </a:lnTo>
                      <a:lnTo>
                        <a:pt x="1709" y="368"/>
                      </a:lnTo>
                      <a:lnTo>
                        <a:pt x="1704" y="268"/>
                      </a:lnTo>
                      <a:lnTo>
                        <a:pt x="1711" y="258"/>
                      </a:lnTo>
                      <a:lnTo>
                        <a:pt x="1716" y="249"/>
                      </a:lnTo>
                      <a:lnTo>
                        <a:pt x="1719" y="240"/>
                      </a:lnTo>
                      <a:lnTo>
                        <a:pt x="1720" y="233"/>
                      </a:lnTo>
                      <a:lnTo>
                        <a:pt x="1721" y="225"/>
                      </a:lnTo>
                      <a:lnTo>
                        <a:pt x="1720" y="218"/>
                      </a:lnTo>
                      <a:lnTo>
                        <a:pt x="1720" y="211"/>
                      </a:lnTo>
                      <a:lnTo>
                        <a:pt x="1720" y="20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7641360" y="4308480"/>
                  <a:ext cx="403200" cy="421920"/>
                </a:xfrm>
                <a:custGeom>
                  <a:avLst/>
                  <a:gdLst/>
                  <a:ahLst/>
                  <a:rect l="l" t="t" r="r" b="b"/>
                  <a:pathLst>
                    <a:path w="1350" h="1275">
                      <a:moveTo>
                        <a:pt x="5" y="236"/>
                      </a:moveTo>
                      <a:lnTo>
                        <a:pt x="5" y="230"/>
                      </a:lnTo>
                      <a:lnTo>
                        <a:pt x="5" y="223"/>
                      </a:lnTo>
                      <a:lnTo>
                        <a:pt x="6" y="217"/>
                      </a:lnTo>
                      <a:lnTo>
                        <a:pt x="6" y="210"/>
                      </a:lnTo>
                      <a:lnTo>
                        <a:pt x="6" y="203"/>
                      </a:lnTo>
                      <a:lnTo>
                        <a:pt x="7" y="196"/>
                      </a:lnTo>
                      <a:lnTo>
                        <a:pt x="8" y="189"/>
                      </a:lnTo>
                      <a:lnTo>
                        <a:pt x="8" y="182"/>
                      </a:lnTo>
                      <a:lnTo>
                        <a:pt x="9" y="175"/>
                      </a:lnTo>
                      <a:lnTo>
                        <a:pt x="10" y="168"/>
                      </a:lnTo>
                      <a:lnTo>
                        <a:pt x="11" y="160"/>
                      </a:lnTo>
                      <a:lnTo>
                        <a:pt x="12" y="153"/>
                      </a:lnTo>
                      <a:lnTo>
                        <a:pt x="13" y="146"/>
                      </a:lnTo>
                      <a:lnTo>
                        <a:pt x="14" y="138"/>
                      </a:lnTo>
                      <a:lnTo>
                        <a:pt x="15" y="131"/>
                      </a:lnTo>
                      <a:lnTo>
                        <a:pt x="16" y="124"/>
                      </a:lnTo>
                      <a:lnTo>
                        <a:pt x="17" y="116"/>
                      </a:lnTo>
                      <a:lnTo>
                        <a:pt x="18" y="109"/>
                      </a:lnTo>
                      <a:lnTo>
                        <a:pt x="19" y="101"/>
                      </a:lnTo>
                      <a:lnTo>
                        <a:pt x="20" y="94"/>
                      </a:lnTo>
                      <a:lnTo>
                        <a:pt x="21" y="86"/>
                      </a:lnTo>
                      <a:lnTo>
                        <a:pt x="22" y="79"/>
                      </a:lnTo>
                      <a:lnTo>
                        <a:pt x="23" y="71"/>
                      </a:lnTo>
                      <a:lnTo>
                        <a:pt x="23" y="64"/>
                      </a:lnTo>
                      <a:lnTo>
                        <a:pt x="24" y="56"/>
                      </a:lnTo>
                      <a:lnTo>
                        <a:pt x="25" y="49"/>
                      </a:lnTo>
                      <a:lnTo>
                        <a:pt x="25" y="42"/>
                      </a:lnTo>
                      <a:lnTo>
                        <a:pt x="26" y="34"/>
                      </a:lnTo>
                      <a:lnTo>
                        <a:pt x="26" y="27"/>
                      </a:lnTo>
                      <a:lnTo>
                        <a:pt x="27" y="20"/>
                      </a:lnTo>
                      <a:lnTo>
                        <a:pt x="27" y="13"/>
                      </a:lnTo>
                      <a:lnTo>
                        <a:pt x="27" y="6"/>
                      </a:lnTo>
                      <a:lnTo>
                        <a:pt x="27" y="5"/>
                      </a:lnTo>
                      <a:lnTo>
                        <a:pt x="28" y="5"/>
                      </a:lnTo>
                      <a:lnTo>
                        <a:pt x="28" y="4"/>
                      </a:lnTo>
                      <a:lnTo>
                        <a:pt x="29" y="4"/>
                      </a:lnTo>
                      <a:lnTo>
                        <a:pt x="29" y="3"/>
                      </a:lnTo>
                      <a:lnTo>
                        <a:pt x="30" y="3"/>
                      </a:lnTo>
                      <a:lnTo>
                        <a:pt x="30" y="2"/>
                      </a:lnTo>
                      <a:lnTo>
                        <a:pt x="31" y="2"/>
                      </a:lnTo>
                      <a:lnTo>
                        <a:pt x="31" y="1"/>
                      </a:lnTo>
                      <a:lnTo>
                        <a:pt x="32" y="1"/>
                      </a:lnTo>
                      <a:lnTo>
                        <a:pt x="33" y="1"/>
                      </a:lnTo>
                      <a:lnTo>
                        <a:pt x="33" y="0"/>
                      </a:lnTo>
                      <a:lnTo>
                        <a:pt x="34" y="0"/>
                      </a:lnTo>
                      <a:lnTo>
                        <a:pt x="35" y="0"/>
                      </a:lnTo>
                      <a:lnTo>
                        <a:pt x="36" y="0"/>
                      </a:lnTo>
                      <a:lnTo>
                        <a:pt x="37" y="0"/>
                      </a:lnTo>
                      <a:lnTo>
                        <a:pt x="38" y="0"/>
                      </a:lnTo>
                      <a:lnTo>
                        <a:pt x="39" y="0"/>
                      </a:lnTo>
                      <a:lnTo>
                        <a:pt x="40" y="0"/>
                      </a:lnTo>
                      <a:lnTo>
                        <a:pt x="41" y="0"/>
                      </a:lnTo>
                      <a:lnTo>
                        <a:pt x="42" y="0"/>
                      </a:lnTo>
                      <a:lnTo>
                        <a:pt x="43" y="0"/>
                      </a:lnTo>
                      <a:lnTo>
                        <a:pt x="44" y="0"/>
                      </a:lnTo>
                      <a:lnTo>
                        <a:pt x="44" y="2"/>
                      </a:lnTo>
                      <a:lnTo>
                        <a:pt x="43" y="4"/>
                      </a:lnTo>
                      <a:lnTo>
                        <a:pt x="43" y="6"/>
                      </a:lnTo>
                      <a:lnTo>
                        <a:pt x="44" y="8"/>
                      </a:lnTo>
                      <a:lnTo>
                        <a:pt x="44" y="10"/>
                      </a:lnTo>
                      <a:lnTo>
                        <a:pt x="44" y="13"/>
                      </a:lnTo>
                      <a:lnTo>
                        <a:pt x="44" y="15"/>
                      </a:lnTo>
                      <a:lnTo>
                        <a:pt x="44" y="17"/>
                      </a:lnTo>
                      <a:lnTo>
                        <a:pt x="45" y="20"/>
                      </a:lnTo>
                      <a:lnTo>
                        <a:pt x="45" y="22"/>
                      </a:lnTo>
                      <a:lnTo>
                        <a:pt x="46" y="25"/>
                      </a:lnTo>
                      <a:lnTo>
                        <a:pt x="46" y="27"/>
                      </a:lnTo>
                      <a:lnTo>
                        <a:pt x="47" y="30"/>
                      </a:lnTo>
                      <a:lnTo>
                        <a:pt x="47" y="32"/>
                      </a:lnTo>
                      <a:lnTo>
                        <a:pt x="48" y="35"/>
                      </a:lnTo>
                      <a:lnTo>
                        <a:pt x="48" y="38"/>
                      </a:lnTo>
                      <a:lnTo>
                        <a:pt x="49" y="40"/>
                      </a:lnTo>
                      <a:lnTo>
                        <a:pt x="49" y="43"/>
                      </a:lnTo>
                      <a:lnTo>
                        <a:pt x="50" y="45"/>
                      </a:lnTo>
                      <a:lnTo>
                        <a:pt x="50" y="48"/>
                      </a:lnTo>
                      <a:lnTo>
                        <a:pt x="51" y="50"/>
                      </a:lnTo>
                      <a:lnTo>
                        <a:pt x="51" y="53"/>
                      </a:lnTo>
                      <a:lnTo>
                        <a:pt x="52" y="55"/>
                      </a:lnTo>
                      <a:lnTo>
                        <a:pt x="52" y="58"/>
                      </a:lnTo>
                      <a:lnTo>
                        <a:pt x="53" y="60"/>
                      </a:lnTo>
                      <a:lnTo>
                        <a:pt x="53" y="62"/>
                      </a:lnTo>
                      <a:lnTo>
                        <a:pt x="53" y="64"/>
                      </a:lnTo>
                      <a:lnTo>
                        <a:pt x="54" y="67"/>
                      </a:lnTo>
                      <a:lnTo>
                        <a:pt x="54" y="69"/>
                      </a:lnTo>
                      <a:lnTo>
                        <a:pt x="54" y="71"/>
                      </a:lnTo>
                      <a:lnTo>
                        <a:pt x="54" y="72"/>
                      </a:lnTo>
                      <a:lnTo>
                        <a:pt x="54" y="74"/>
                      </a:lnTo>
                      <a:lnTo>
                        <a:pt x="55" y="77"/>
                      </a:lnTo>
                      <a:lnTo>
                        <a:pt x="55" y="79"/>
                      </a:lnTo>
                      <a:lnTo>
                        <a:pt x="55" y="82"/>
                      </a:lnTo>
                      <a:lnTo>
                        <a:pt x="56" y="84"/>
                      </a:lnTo>
                      <a:lnTo>
                        <a:pt x="56" y="87"/>
                      </a:lnTo>
                      <a:lnTo>
                        <a:pt x="56" y="89"/>
                      </a:lnTo>
                      <a:lnTo>
                        <a:pt x="56" y="92"/>
                      </a:lnTo>
                      <a:lnTo>
                        <a:pt x="56" y="95"/>
                      </a:lnTo>
                      <a:lnTo>
                        <a:pt x="56" y="98"/>
                      </a:lnTo>
                      <a:lnTo>
                        <a:pt x="55" y="101"/>
                      </a:lnTo>
                      <a:lnTo>
                        <a:pt x="55" y="103"/>
                      </a:lnTo>
                      <a:lnTo>
                        <a:pt x="55" y="106"/>
                      </a:lnTo>
                      <a:lnTo>
                        <a:pt x="55" y="109"/>
                      </a:lnTo>
                      <a:lnTo>
                        <a:pt x="55" y="112"/>
                      </a:lnTo>
                      <a:lnTo>
                        <a:pt x="54" y="115"/>
                      </a:lnTo>
                      <a:lnTo>
                        <a:pt x="54" y="118"/>
                      </a:lnTo>
                      <a:lnTo>
                        <a:pt x="54" y="121"/>
                      </a:lnTo>
                      <a:lnTo>
                        <a:pt x="54" y="124"/>
                      </a:lnTo>
                      <a:lnTo>
                        <a:pt x="53" y="127"/>
                      </a:lnTo>
                      <a:lnTo>
                        <a:pt x="53" y="130"/>
                      </a:lnTo>
                      <a:lnTo>
                        <a:pt x="53" y="132"/>
                      </a:lnTo>
                      <a:lnTo>
                        <a:pt x="53" y="135"/>
                      </a:lnTo>
                      <a:lnTo>
                        <a:pt x="53" y="138"/>
                      </a:lnTo>
                      <a:lnTo>
                        <a:pt x="53" y="141"/>
                      </a:lnTo>
                      <a:lnTo>
                        <a:pt x="53" y="144"/>
                      </a:lnTo>
                      <a:lnTo>
                        <a:pt x="53" y="146"/>
                      </a:lnTo>
                      <a:lnTo>
                        <a:pt x="53" y="149"/>
                      </a:lnTo>
                      <a:lnTo>
                        <a:pt x="53" y="152"/>
                      </a:lnTo>
                      <a:lnTo>
                        <a:pt x="53" y="154"/>
                      </a:lnTo>
                      <a:lnTo>
                        <a:pt x="53" y="157"/>
                      </a:lnTo>
                      <a:lnTo>
                        <a:pt x="54" y="159"/>
                      </a:lnTo>
                      <a:lnTo>
                        <a:pt x="54" y="162"/>
                      </a:lnTo>
                      <a:lnTo>
                        <a:pt x="58" y="174"/>
                      </a:lnTo>
                      <a:lnTo>
                        <a:pt x="62" y="187"/>
                      </a:lnTo>
                      <a:lnTo>
                        <a:pt x="67" y="198"/>
                      </a:lnTo>
                      <a:lnTo>
                        <a:pt x="72" y="210"/>
                      </a:lnTo>
                      <a:lnTo>
                        <a:pt x="78" y="221"/>
                      </a:lnTo>
                      <a:lnTo>
                        <a:pt x="85" y="232"/>
                      </a:lnTo>
                      <a:lnTo>
                        <a:pt x="92" y="242"/>
                      </a:lnTo>
                      <a:lnTo>
                        <a:pt x="99" y="252"/>
                      </a:lnTo>
                      <a:lnTo>
                        <a:pt x="107" y="262"/>
                      </a:lnTo>
                      <a:lnTo>
                        <a:pt x="116" y="272"/>
                      </a:lnTo>
                      <a:lnTo>
                        <a:pt x="125" y="281"/>
                      </a:lnTo>
                      <a:lnTo>
                        <a:pt x="134" y="290"/>
                      </a:lnTo>
                      <a:lnTo>
                        <a:pt x="144" y="298"/>
                      </a:lnTo>
                      <a:lnTo>
                        <a:pt x="153" y="307"/>
                      </a:lnTo>
                      <a:lnTo>
                        <a:pt x="164" y="315"/>
                      </a:lnTo>
                      <a:lnTo>
                        <a:pt x="175" y="323"/>
                      </a:lnTo>
                      <a:lnTo>
                        <a:pt x="185" y="331"/>
                      </a:lnTo>
                      <a:lnTo>
                        <a:pt x="196" y="338"/>
                      </a:lnTo>
                      <a:lnTo>
                        <a:pt x="206" y="345"/>
                      </a:lnTo>
                      <a:lnTo>
                        <a:pt x="217" y="352"/>
                      </a:lnTo>
                      <a:lnTo>
                        <a:pt x="228" y="358"/>
                      </a:lnTo>
                      <a:lnTo>
                        <a:pt x="239" y="365"/>
                      </a:lnTo>
                      <a:lnTo>
                        <a:pt x="250" y="371"/>
                      </a:lnTo>
                      <a:lnTo>
                        <a:pt x="260" y="377"/>
                      </a:lnTo>
                      <a:lnTo>
                        <a:pt x="271" y="382"/>
                      </a:lnTo>
                      <a:lnTo>
                        <a:pt x="281" y="388"/>
                      </a:lnTo>
                      <a:lnTo>
                        <a:pt x="292" y="393"/>
                      </a:lnTo>
                      <a:lnTo>
                        <a:pt x="302" y="399"/>
                      </a:lnTo>
                      <a:lnTo>
                        <a:pt x="312" y="404"/>
                      </a:lnTo>
                      <a:lnTo>
                        <a:pt x="321" y="409"/>
                      </a:lnTo>
                      <a:lnTo>
                        <a:pt x="331" y="414"/>
                      </a:lnTo>
                      <a:lnTo>
                        <a:pt x="339" y="418"/>
                      </a:lnTo>
                      <a:lnTo>
                        <a:pt x="336" y="423"/>
                      </a:lnTo>
                      <a:lnTo>
                        <a:pt x="333" y="427"/>
                      </a:lnTo>
                      <a:lnTo>
                        <a:pt x="329" y="431"/>
                      </a:lnTo>
                      <a:lnTo>
                        <a:pt x="326" y="436"/>
                      </a:lnTo>
                      <a:lnTo>
                        <a:pt x="323" y="440"/>
                      </a:lnTo>
                      <a:lnTo>
                        <a:pt x="321" y="445"/>
                      </a:lnTo>
                      <a:lnTo>
                        <a:pt x="318" y="450"/>
                      </a:lnTo>
                      <a:lnTo>
                        <a:pt x="315" y="455"/>
                      </a:lnTo>
                      <a:lnTo>
                        <a:pt x="313" y="460"/>
                      </a:lnTo>
                      <a:lnTo>
                        <a:pt x="311" y="465"/>
                      </a:lnTo>
                      <a:lnTo>
                        <a:pt x="308" y="471"/>
                      </a:lnTo>
                      <a:lnTo>
                        <a:pt x="306" y="476"/>
                      </a:lnTo>
                      <a:lnTo>
                        <a:pt x="304" y="481"/>
                      </a:lnTo>
                      <a:lnTo>
                        <a:pt x="302" y="487"/>
                      </a:lnTo>
                      <a:lnTo>
                        <a:pt x="300" y="492"/>
                      </a:lnTo>
                      <a:lnTo>
                        <a:pt x="298" y="498"/>
                      </a:lnTo>
                      <a:lnTo>
                        <a:pt x="297" y="503"/>
                      </a:lnTo>
                      <a:lnTo>
                        <a:pt x="295" y="509"/>
                      </a:lnTo>
                      <a:lnTo>
                        <a:pt x="293" y="515"/>
                      </a:lnTo>
                      <a:lnTo>
                        <a:pt x="292" y="520"/>
                      </a:lnTo>
                      <a:lnTo>
                        <a:pt x="290" y="526"/>
                      </a:lnTo>
                      <a:lnTo>
                        <a:pt x="289" y="532"/>
                      </a:lnTo>
                      <a:lnTo>
                        <a:pt x="287" y="537"/>
                      </a:lnTo>
                      <a:lnTo>
                        <a:pt x="286" y="543"/>
                      </a:lnTo>
                      <a:lnTo>
                        <a:pt x="284" y="549"/>
                      </a:lnTo>
                      <a:lnTo>
                        <a:pt x="283" y="554"/>
                      </a:lnTo>
                      <a:lnTo>
                        <a:pt x="281" y="560"/>
                      </a:lnTo>
                      <a:lnTo>
                        <a:pt x="280" y="565"/>
                      </a:lnTo>
                      <a:lnTo>
                        <a:pt x="278" y="571"/>
                      </a:lnTo>
                      <a:lnTo>
                        <a:pt x="277" y="576"/>
                      </a:lnTo>
                      <a:lnTo>
                        <a:pt x="275" y="581"/>
                      </a:lnTo>
                      <a:lnTo>
                        <a:pt x="274" y="587"/>
                      </a:lnTo>
                      <a:lnTo>
                        <a:pt x="273" y="589"/>
                      </a:lnTo>
                      <a:lnTo>
                        <a:pt x="273" y="590"/>
                      </a:lnTo>
                      <a:lnTo>
                        <a:pt x="272" y="592"/>
                      </a:lnTo>
                      <a:lnTo>
                        <a:pt x="271" y="594"/>
                      </a:lnTo>
                      <a:lnTo>
                        <a:pt x="270" y="595"/>
                      </a:lnTo>
                      <a:lnTo>
                        <a:pt x="270" y="597"/>
                      </a:lnTo>
                      <a:lnTo>
                        <a:pt x="269" y="599"/>
                      </a:lnTo>
                      <a:lnTo>
                        <a:pt x="268" y="601"/>
                      </a:lnTo>
                      <a:lnTo>
                        <a:pt x="267" y="602"/>
                      </a:lnTo>
                      <a:lnTo>
                        <a:pt x="266" y="604"/>
                      </a:lnTo>
                      <a:lnTo>
                        <a:pt x="265" y="606"/>
                      </a:lnTo>
                      <a:lnTo>
                        <a:pt x="264" y="608"/>
                      </a:lnTo>
                      <a:lnTo>
                        <a:pt x="263" y="609"/>
                      </a:lnTo>
                      <a:lnTo>
                        <a:pt x="263" y="611"/>
                      </a:lnTo>
                      <a:lnTo>
                        <a:pt x="262" y="613"/>
                      </a:lnTo>
                      <a:lnTo>
                        <a:pt x="261" y="615"/>
                      </a:lnTo>
                      <a:lnTo>
                        <a:pt x="260" y="616"/>
                      </a:lnTo>
                      <a:lnTo>
                        <a:pt x="259" y="618"/>
                      </a:lnTo>
                      <a:lnTo>
                        <a:pt x="258" y="620"/>
                      </a:lnTo>
                      <a:lnTo>
                        <a:pt x="257" y="622"/>
                      </a:lnTo>
                      <a:lnTo>
                        <a:pt x="257" y="623"/>
                      </a:lnTo>
                      <a:lnTo>
                        <a:pt x="256" y="625"/>
                      </a:lnTo>
                      <a:lnTo>
                        <a:pt x="255" y="627"/>
                      </a:lnTo>
                      <a:lnTo>
                        <a:pt x="254" y="629"/>
                      </a:lnTo>
                      <a:lnTo>
                        <a:pt x="254" y="631"/>
                      </a:lnTo>
                      <a:lnTo>
                        <a:pt x="253" y="632"/>
                      </a:lnTo>
                      <a:lnTo>
                        <a:pt x="253" y="634"/>
                      </a:lnTo>
                      <a:lnTo>
                        <a:pt x="253" y="636"/>
                      </a:lnTo>
                      <a:lnTo>
                        <a:pt x="252" y="638"/>
                      </a:lnTo>
                      <a:lnTo>
                        <a:pt x="252" y="639"/>
                      </a:lnTo>
                      <a:lnTo>
                        <a:pt x="252" y="641"/>
                      </a:lnTo>
                      <a:lnTo>
                        <a:pt x="252" y="643"/>
                      </a:lnTo>
                      <a:lnTo>
                        <a:pt x="247" y="639"/>
                      </a:lnTo>
                      <a:lnTo>
                        <a:pt x="242" y="635"/>
                      </a:lnTo>
                      <a:lnTo>
                        <a:pt x="237" y="631"/>
                      </a:lnTo>
                      <a:lnTo>
                        <a:pt x="232" y="627"/>
                      </a:lnTo>
                      <a:lnTo>
                        <a:pt x="227" y="622"/>
                      </a:lnTo>
                      <a:lnTo>
                        <a:pt x="222" y="618"/>
                      </a:lnTo>
                      <a:lnTo>
                        <a:pt x="217" y="613"/>
                      </a:lnTo>
                      <a:lnTo>
                        <a:pt x="212" y="608"/>
                      </a:lnTo>
                      <a:lnTo>
                        <a:pt x="207" y="603"/>
                      </a:lnTo>
                      <a:lnTo>
                        <a:pt x="202" y="597"/>
                      </a:lnTo>
                      <a:lnTo>
                        <a:pt x="197" y="592"/>
                      </a:lnTo>
                      <a:lnTo>
                        <a:pt x="193" y="586"/>
                      </a:lnTo>
                      <a:lnTo>
                        <a:pt x="188" y="581"/>
                      </a:lnTo>
                      <a:lnTo>
                        <a:pt x="183" y="575"/>
                      </a:lnTo>
                      <a:lnTo>
                        <a:pt x="179" y="569"/>
                      </a:lnTo>
                      <a:lnTo>
                        <a:pt x="174" y="563"/>
                      </a:lnTo>
                      <a:lnTo>
                        <a:pt x="169" y="558"/>
                      </a:lnTo>
                      <a:lnTo>
                        <a:pt x="165" y="552"/>
                      </a:lnTo>
                      <a:lnTo>
                        <a:pt x="159" y="546"/>
                      </a:lnTo>
                      <a:lnTo>
                        <a:pt x="155" y="540"/>
                      </a:lnTo>
                      <a:lnTo>
                        <a:pt x="150" y="534"/>
                      </a:lnTo>
                      <a:lnTo>
                        <a:pt x="146" y="528"/>
                      </a:lnTo>
                      <a:lnTo>
                        <a:pt x="142" y="522"/>
                      </a:lnTo>
                      <a:lnTo>
                        <a:pt x="137" y="517"/>
                      </a:lnTo>
                      <a:lnTo>
                        <a:pt x="133" y="511"/>
                      </a:lnTo>
                      <a:lnTo>
                        <a:pt x="129" y="505"/>
                      </a:lnTo>
                      <a:lnTo>
                        <a:pt x="124" y="500"/>
                      </a:lnTo>
                      <a:lnTo>
                        <a:pt x="120" y="495"/>
                      </a:lnTo>
                      <a:lnTo>
                        <a:pt x="116" y="489"/>
                      </a:lnTo>
                      <a:lnTo>
                        <a:pt x="112" y="484"/>
                      </a:lnTo>
                      <a:lnTo>
                        <a:pt x="108" y="479"/>
                      </a:lnTo>
                      <a:lnTo>
                        <a:pt x="103" y="474"/>
                      </a:lnTo>
                      <a:lnTo>
                        <a:pt x="101" y="471"/>
                      </a:lnTo>
                      <a:lnTo>
                        <a:pt x="98" y="468"/>
                      </a:lnTo>
                      <a:lnTo>
                        <a:pt x="95" y="465"/>
                      </a:lnTo>
                      <a:lnTo>
                        <a:pt x="92" y="461"/>
                      </a:lnTo>
                      <a:lnTo>
                        <a:pt x="89" y="457"/>
                      </a:lnTo>
                      <a:lnTo>
                        <a:pt x="86" y="453"/>
                      </a:lnTo>
                      <a:lnTo>
                        <a:pt x="82" y="449"/>
                      </a:lnTo>
                      <a:lnTo>
                        <a:pt x="79" y="445"/>
                      </a:lnTo>
                      <a:lnTo>
                        <a:pt x="75" y="441"/>
                      </a:lnTo>
                      <a:lnTo>
                        <a:pt x="72" y="436"/>
                      </a:lnTo>
                      <a:lnTo>
                        <a:pt x="68" y="432"/>
                      </a:lnTo>
                      <a:lnTo>
                        <a:pt x="65" y="427"/>
                      </a:lnTo>
                      <a:lnTo>
                        <a:pt x="61" y="422"/>
                      </a:lnTo>
                      <a:lnTo>
                        <a:pt x="57" y="417"/>
                      </a:lnTo>
                      <a:lnTo>
                        <a:pt x="54" y="412"/>
                      </a:lnTo>
                      <a:lnTo>
                        <a:pt x="50" y="407"/>
                      </a:lnTo>
                      <a:lnTo>
                        <a:pt x="46" y="402"/>
                      </a:lnTo>
                      <a:lnTo>
                        <a:pt x="43" y="397"/>
                      </a:lnTo>
                      <a:lnTo>
                        <a:pt x="39" y="392"/>
                      </a:lnTo>
                      <a:lnTo>
                        <a:pt x="36" y="387"/>
                      </a:lnTo>
                      <a:lnTo>
                        <a:pt x="33" y="382"/>
                      </a:lnTo>
                      <a:lnTo>
                        <a:pt x="30" y="377"/>
                      </a:lnTo>
                      <a:lnTo>
                        <a:pt x="26" y="372"/>
                      </a:lnTo>
                      <a:lnTo>
                        <a:pt x="23" y="367"/>
                      </a:lnTo>
                      <a:lnTo>
                        <a:pt x="21" y="363"/>
                      </a:lnTo>
                      <a:lnTo>
                        <a:pt x="18" y="358"/>
                      </a:lnTo>
                      <a:lnTo>
                        <a:pt x="15" y="353"/>
                      </a:lnTo>
                      <a:lnTo>
                        <a:pt x="13" y="348"/>
                      </a:lnTo>
                      <a:lnTo>
                        <a:pt x="11" y="344"/>
                      </a:lnTo>
                      <a:lnTo>
                        <a:pt x="8" y="339"/>
                      </a:lnTo>
                      <a:lnTo>
                        <a:pt x="7" y="335"/>
                      </a:lnTo>
                      <a:lnTo>
                        <a:pt x="5" y="331"/>
                      </a:lnTo>
                      <a:lnTo>
                        <a:pt x="4" y="328"/>
                      </a:lnTo>
                      <a:lnTo>
                        <a:pt x="3" y="324"/>
                      </a:lnTo>
                      <a:lnTo>
                        <a:pt x="2" y="321"/>
                      </a:lnTo>
                      <a:lnTo>
                        <a:pt x="2" y="318"/>
                      </a:lnTo>
                      <a:lnTo>
                        <a:pt x="1" y="314"/>
                      </a:lnTo>
                      <a:lnTo>
                        <a:pt x="1" y="311"/>
                      </a:lnTo>
                      <a:lnTo>
                        <a:pt x="1" y="308"/>
                      </a:lnTo>
                      <a:lnTo>
                        <a:pt x="0" y="305"/>
                      </a:lnTo>
                      <a:lnTo>
                        <a:pt x="0" y="302"/>
                      </a:lnTo>
                      <a:lnTo>
                        <a:pt x="0" y="299"/>
                      </a:lnTo>
                      <a:lnTo>
                        <a:pt x="0" y="296"/>
                      </a:lnTo>
                      <a:lnTo>
                        <a:pt x="0" y="294"/>
                      </a:lnTo>
                      <a:lnTo>
                        <a:pt x="0" y="291"/>
                      </a:lnTo>
                      <a:lnTo>
                        <a:pt x="0" y="288"/>
                      </a:lnTo>
                      <a:lnTo>
                        <a:pt x="1" y="286"/>
                      </a:lnTo>
                      <a:lnTo>
                        <a:pt x="1" y="283"/>
                      </a:lnTo>
                      <a:lnTo>
                        <a:pt x="1" y="280"/>
                      </a:lnTo>
                      <a:lnTo>
                        <a:pt x="2" y="278"/>
                      </a:lnTo>
                      <a:lnTo>
                        <a:pt x="2" y="275"/>
                      </a:lnTo>
                      <a:lnTo>
                        <a:pt x="2" y="272"/>
                      </a:lnTo>
                      <a:lnTo>
                        <a:pt x="3" y="270"/>
                      </a:lnTo>
                      <a:lnTo>
                        <a:pt x="3" y="267"/>
                      </a:lnTo>
                      <a:lnTo>
                        <a:pt x="3" y="264"/>
                      </a:lnTo>
                      <a:lnTo>
                        <a:pt x="4" y="261"/>
                      </a:lnTo>
                      <a:lnTo>
                        <a:pt x="4" y="258"/>
                      </a:lnTo>
                      <a:lnTo>
                        <a:pt x="4" y="255"/>
                      </a:lnTo>
                      <a:lnTo>
                        <a:pt x="4" y="252"/>
                      </a:lnTo>
                      <a:lnTo>
                        <a:pt x="5" y="249"/>
                      </a:lnTo>
                      <a:lnTo>
                        <a:pt x="5" y="246"/>
                      </a:lnTo>
                      <a:lnTo>
                        <a:pt x="5" y="243"/>
                      </a:lnTo>
                      <a:lnTo>
                        <a:pt x="5" y="240"/>
                      </a:lnTo>
                      <a:lnTo>
                        <a:pt x="5" y="236"/>
                      </a:lnTo>
                      <a:close/>
                      <a:moveTo>
                        <a:pt x="428" y="400"/>
                      </a:moveTo>
                      <a:lnTo>
                        <a:pt x="436" y="405"/>
                      </a:lnTo>
                      <a:lnTo>
                        <a:pt x="443" y="411"/>
                      </a:lnTo>
                      <a:lnTo>
                        <a:pt x="450" y="417"/>
                      </a:lnTo>
                      <a:lnTo>
                        <a:pt x="456" y="423"/>
                      </a:lnTo>
                      <a:lnTo>
                        <a:pt x="462" y="430"/>
                      </a:lnTo>
                      <a:lnTo>
                        <a:pt x="468" y="437"/>
                      </a:lnTo>
                      <a:lnTo>
                        <a:pt x="473" y="444"/>
                      </a:lnTo>
                      <a:lnTo>
                        <a:pt x="477" y="452"/>
                      </a:lnTo>
                      <a:lnTo>
                        <a:pt x="481" y="460"/>
                      </a:lnTo>
                      <a:lnTo>
                        <a:pt x="485" y="467"/>
                      </a:lnTo>
                      <a:lnTo>
                        <a:pt x="489" y="476"/>
                      </a:lnTo>
                      <a:lnTo>
                        <a:pt x="492" y="484"/>
                      </a:lnTo>
                      <a:lnTo>
                        <a:pt x="495" y="492"/>
                      </a:lnTo>
                      <a:lnTo>
                        <a:pt x="498" y="501"/>
                      </a:lnTo>
                      <a:lnTo>
                        <a:pt x="501" y="509"/>
                      </a:lnTo>
                      <a:lnTo>
                        <a:pt x="503" y="518"/>
                      </a:lnTo>
                      <a:lnTo>
                        <a:pt x="505" y="527"/>
                      </a:lnTo>
                      <a:lnTo>
                        <a:pt x="507" y="536"/>
                      </a:lnTo>
                      <a:lnTo>
                        <a:pt x="509" y="545"/>
                      </a:lnTo>
                      <a:lnTo>
                        <a:pt x="511" y="554"/>
                      </a:lnTo>
                      <a:lnTo>
                        <a:pt x="513" y="563"/>
                      </a:lnTo>
                      <a:lnTo>
                        <a:pt x="515" y="572"/>
                      </a:lnTo>
                      <a:lnTo>
                        <a:pt x="517" y="580"/>
                      </a:lnTo>
                      <a:lnTo>
                        <a:pt x="519" y="589"/>
                      </a:lnTo>
                      <a:lnTo>
                        <a:pt x="520" y="598"/>
                      </a:lnTo>
                      <a:lnTo>
                        <a:pt x="522" y="607"/>
                      </a:lnTo>
                      <a:lnTo>
                        <a:pt x="524" y="615"/>
                      </a:lnTo>
                      <a:lnTo>
                        <a:pt x="527" y="624"/>
                      </a:lnTo>
                      <a:lnTo>
                        <a:pt x="529" y="632"/>
                      </a:lnTo>
                      <a:lnTo>
                        <a:pt x="531" y="640"/>
                      </a:lnTo>
                      <a:lnTo>
                        <a:pt x="534" y="648"/>
                      </a:lnTo>
                      <a:lnTo>
                        <a:pt x="537" y="656"/>
                      </a:lnTo>
                      <a:lnTo>
                        <a:pt x="542" y="649"/>
                      </a:lnTo>
                      <a:lnTo>
                        <a:pt x="547" y="643"/>
                      </a:lnTo>
                      <a:lnTo>
                        <a:pt x="552" y="636"/>
                      </a:lnTo>
                      <a:lnTo>
                        <a:pt x="557" y="629"/>
                      </a:lnTo>
                      <a:lnTo>
                        <a:pt x="561" y="621"/>
                      </a:lnTo>
                      <a:lnTo>
                        <a:pt x="566" y="613"/>
                      </a:lnTo>
                      <a:lnTo>
                        <a:pt x="570" y="605"/>
                      </a:lnTo>
                      <a:lnTo>
                        <a:pt x="574" y="597"/>
                      </a:lnTo>
                      <a:lnTo>
                        <a:pt x="579" y="588"/>
                      </a:lnTo>
                      <a:lnTo>
                        <a:pt x="583" y="579"/>
                      </a:lnTo>
                      <a:lnTo>
                        <a:pt x="587" y="570"/>
                      </a:lnTo>
                      <a:lnTo>
                        <a:pt x="591" y="561"/>
                      </a:lnTo>
                      <a:lnTo>
                        <a:pt x="594" y="551"/>
                      </a:lnTo>
                      <a:lnTo>
                        <a:pt x="598" y="541"/>
                      </a:lnTo>
                      <a:lnTo>
                        <a:pt x="602" y="532"/>
                      </a:lnTo>
                      <a:lnTo>
                        <a:pt x="606" y="522"/>
                      </a:lnTo>
                      <a:lnTo>
                        <a:pt x="609" y="512"/>
                      </a:lnTo>
                      <a:lnTo>
                        <a:pt x="613" y="502"/>
                      </a:lnTo>
                      <a:lnTo>
                        <a:pt x="617" y="492"/>
                      </a:lnTo>
                      <a:lnTo>
                        <a:pt x="620" y="483"/>
                      </a:lnTo>
                      <a:lnTo>
                        <a:pt x="624" y="473"/>
                      </a:lnTo>
                      <a:lnTo>
                        <a:pt x="627" y="463"/>
                      </a:lnTo>
                      <a:lnTo>
                        <a:pt x="630" y="453"/>
                      </a:lnTo>
                      <a:lnTo>
                        <a:pt x="633" y="444"/>
                      </a:lnTo>
                      <a:lnTo>
                        <a:pt x="637" y="434"/>
                      </a:lnTo>
                      <a:lnTo>
                        <a:pt x="640" y="425"/>
                      </a:lnTo>
                      <a:lnTo>
                        <a:pt x="643" y="416"/>
                      </a:lnTo>
                      <a:lnTo>
                        <a:pt x="646" y="407"/>
                      </a:lnTo>
                      <a:lnTo>
                        <a:pt x="649" y="399"/>
                      </a:lnTo>
                      <a:lnTo>
                        <a:pt x="652" y="390"/>
                      </a:lnTo>
                      <a:lnTo>
                        <a:pt x="655" y="382"/>
                      </a:lnTo>
                      <a:lnTo>
                        <a:pt x="658" y="375"/>
                      </a:lnTo>
                      <a:lnTo>
                        <a:pt x="660" y="370"/>
                      </a:lnTo>
                      <a:lnTo>
                        <a:pt x="662" y="366"/>
                      </a:lnTo>
                      <a:lnTo>
                        <a:pt x="663" y="362"/>
                      </a:lnTo>
                      <a:lnTo>
                        <a:pt x="665" y="358"/>
                      </a:lnTo>
                      <a:lnTo>
                        <a:pt x="667" y="354"/>
                      </a:lnTo>
                      <a:lnTo>
                        <a:pt x="669" y="350"/>
                      </a:lnTo>
                      <a:lnTo>
                        <a:pt x="670" y="346"/>
                      </a:lnTo>
                      <a:lnTo>
                        <a:pt x="672" y="342"/>
                      </a:lnTo>
                      <a:lnTo>
                        <a:pt x="674" y="338"/>
                      </a:lnTo>
                      <a:lnTo>
                        <a:pt x="676" y="333"/>
                      </a:lnTo>
                      <a:lnTo>
                        <a:pt x="678" y="329"/>
                      </a:lnTo>
                      <a:lnTo>
                        <a:pt x="680" y="325"/>
                      </a:lnTo>
                      <a:lnTo>
                        <a:pt x="681" y="321"/>
                      </a:lnTo>
                      <a:lnTo>
                        <a:pt x="683" y="315"/>
                      </a:lnTo>
                      <a:lnTo>
                        <a:pt x="685" y="311"/>
                      </a:lnTo>
                      <a:lnTo>
                        <a:pt x="687" y="307"/>
                      </a:lnTo>
                      <a:lnTo>
                        <a:pt x="688" y="302"/>
                      </a:lnTo>
                      <a:lnTo>
                        <a:pt x="690" y="298"/>
                      </a:lnTo>
                      <a:lnTo>
                        <a:pt x="691" y="293"/>
                      </a:lnTo>
                      <a:lnTo>
                        <a:pt x="693" y="289"/>
                      </a:lnTo>
                      <a:lnTo>
                        <a:pt x="694" y="284"/>
                      </a:lnTo>
                      <a:lnTo>
                        <a:pt x="696" y="280"/>
                      </a:lnTo>
                      <a:lnTo>
                        <a:pt x="697" y="275"/>
                      </a:lnTo>
                      <a:lnTo>
                        <a:pt x="698" y="270"/>
                      </a:lnTo>
                      <a:lnTo>
                        <a:pt x="699" y="265"/>
                      </a:lnTo>
                      <a:lnTo>
                        <a:pt x="700" y="261"/>
                      </a:lnTo>
                      <a:lnTo>
                        <a:pt x="701" y="256"/>
                      </a:lnTo>
                      <a:lnTo>
                        <a:pt x="701" y="251"/>
                      </a:lnTo>
                      <a:lnTo>
                        <a:pt x="702" y="246"/>
                      </a:lnTo>
                      <a:lnTo>
                        <a:pt x="702" y="241"/>
                      </a:lnTo>
                      <a:lnTo>
                        <a:pt x="702" y="236"/>
                      </a:lnTo>
                      <a:lnTo>
                        <a:pt x="702" y="230"/>
                      </a:lnTo>
                      <a:lnTo>
                        <a:pt x="701" y="227"/>
                      </a:lnTo>
                      <a:lnTo>
                        <a:pt x="699" y="224"/>
                      </a:lnTo>
                      <a:lnTo>
                        <a:pt x="697" y="221"/>
                      </a:lnTo>
                      <a:lnTo>
                        <a:pt x="695" y="217"/>
                      </a:lnTo>
                      <a:lnTo>
                        <a:pt x="694" y="214"/>
                      </a:lnTo>
                      <a:lnTo>
                        <a:pt x="692" y="210"/>
                      </a:lnTo>
                      <a:lnTo>
                        <a:pt x="691" y="206"/>
                      </a:lnTo>
                      <a:lnTo>
                        <a:pt x="689" y="202"/>
                      </a:lnTo>
                      <a:lnTo>
                        <a:pt x="688" y="198"/>
                      </a:lnTo>
                      <a:lnTo>
                        <a:pt x="687" y="194"/>
                      </a:lnTo>
                      <a:lnTo>
                        <a:pt x="686" y="190"/>
                      </a:lnTo>
                      <a:lnTo>
                        <a:pt x="685" y="187"/>
                      </a:lnTo>
                      <a:lnTo>
                        <a:pt x="683" y="183"/>
                      </a:lnTo>
                      <a:lnTo>
                        <a:pt x="682" y="179"/>
                      </a:lnTo>
                      <a:lnTo>
                        <a:pt x="681" y="175"/>
                      </a:lnTo>
                      <a:lnTo>
                        <a:pt x="680" y="172"/>
                      </a:lnTo>
                      <a:lnTo>
                        <a:pt x="679" y="168"/>
                      </a:lnTo>
                      <a:lnTo>
                        <a:pt x="679" y="165"/>
                      </a:lnTo>
                      <a:lnTo>
                        <a:pt x="678" y="161"/>
                      </a:lnTo>
                      <a:lnTo>
                        <a:pt x="677" y="158"/>
                      </a:lnTo>
                      <a:lnTo>
                        <a:pt x="676" y="156"/>
                      </a:lnTo>
                      <a:lnTo>
                        <a:pt x="675" y="153"/>
                      </a:lnTo>
                      <a:lnTo>
                        <a:pt x="674" y="150"/>
                      </a:lnTo>
                      <a:lnTo>
                        <a:pt x="673" y="148"/>
                      </a:lnTo>
                      <a:lnTo>
                        <a:pt x="672" y="146"/>
                      </a:lnTo>
                      <a:lnTo>
                        <a:pt x="671" y="145"/>
                      </a:lnTo>
                      <a:lnTo>
                        <a:pt x="670" y="143"/>
                      </a:lnTo>
                      <a:lnTo>
                        <a:pt x="669" y="142"/>
                      </a:lnTo>
                      <a:lnTo>
                        <a:pt x="668" y="142"/>
                      </a:lnTo>
                      <a:lnTo>
                        <a:pt x="666" y="141"/>
                      </a:lnTo>
                      <a:lnTo>
                        <a:pt x="665" y="142"/>
                      </a:lnTo>
                      <a:lnTo>
                        <a:pt x="664" y="142"/>
                      </a:lnTo>
                      <a:lnTo>
                        <a:pt x="659" y="152"/>
                      </a:lnTo>
                      <a:lnTo>
                        <a:pt x="654" y="163"/>
                      </a:lnTo>
                      <a:lnTo>
                        <a:pt x="649" y="173"/>
                      </a:lnTo>
                      <a:lnTo>
                        <a:pt x="643" y="183"/>
                      </a:lnTo>
                      <a:lnTo>
                        <a:pt x="638" y="192"/>
                      </a:lnTo>
                      <a:lnTo>
                        <a:pt x="632" y="202"/>
                      </a:lnTo>
                      <a:lnTo>
                        <a:pt x="626" y="211"/>
                      </a:lnTo>
                      <a:lnTo>
                        <a:pt x="619" y="221"/>
                      </a:lnTo>
                      <a:lnTo>
                        <a:pt x="612" y="230"/>
                      </a:lnTo>
                      <a:lnTo>
                        <a:pt x="605" y="239"/>
                      </a:lnTo>
                      <a:lnTo>
                        <a:pt x="598" y="247"/>
                      </a:lnTo>
                      <a:lnTo>
                        <a:pt x="591" y="256"/>
                      </a:lnTo>
                      <a:lnTo>
                        <a:pt x="584" y="264"/>
                      </a:lnTo>
                      <a:lnTo>
                        <a:pt x="577" y="273"/>
                      </a:lnTo>
                      <a:lnTo>
                        <a:pt x="569" y="281"/>
                      </a:lnTo>
                      <a:lnTo>
                        <a:pt x="562" y="289"/>
                      </a:lnTo>
                      <a:lnTo>
                        <a:pt x="554" y="297"/>
                      </a:lnTo>
                      <a:lnTo>
                        <a:pt x="546" y="304"/>
                      </a:lnTo>
                      <a:lnTo>
                        <a:pt x="538" y="312"/>
                      </a:lnTo>
                      <a:lnTo>
                        <a:pt x="530" y="320"/>
                      </a:lnTo>
                      <a:lnTo>
                        <a:pt x="522" y="328"/>
                      </a:lnTo>
                      <a:lnTo>
                        <a:pt x="514" y="335"/>
                      </a:lnTo>
                      <a:lnTo>
                        <a:pt x="505" y="342"/>
                      </a:lnTo>
                      <a:lnTo>
                        <a:pt x="497" y="349"/>
                      </a:lnTo>
                      <a:lnTo>
                        <a:pt x="488" y="356"/>
                      </a:lnTo>
                      <a:lnTo>
                        <a:pt x="480" y="362"/>
                      </a:lnTo>
                      <a:lnTo>
                        <a:pt x="471" y="369"/>
                      </a:lnTo>
                      <a:lnTo>
                        <a:pt x="463" y="375"/>
                      </a:lnTo>
                      <a:lnTo>
                        <a:pt x="454" y="382"/>
                      </a:lnTo>
                      <a:lnTo>
                        <a:pt x="445" y="388"/>
                      </a:lnTo>
                      <a:lnTo>
                        <a:pt x="436" y="394"/>
                      </a:lnTo>
                      <a:lnTo>
                        <a:pt x="428" y="400"/>
                      </a:lnTo>
                      <a:close/>
                      <a:moveTo>
                        <a:pt x="1029" y="1242"/>
                      </a:moveTo>
                      <a:lnTo>
                        <a:pt x="1153" y="787"/>
                      </a:lnTo>
                      <a:lnTo>
                        <a:pt x="1160" y="786"/>
                      </a:lnTo>
                      <a:lnTo>
                        <a:pt x="1167" y="785"/>
                      </a:lnTo>
                      <a:lnTo>
                        <a:pt x="1174" y="784"/>
                      </a:lnTo>
                      <a:lnTo>
                        <a:pt x="1181" y="783"/>
                      </a:lnTo>
                      <a:lnTo>
                        <a:pt x="1188" y="783"/>
                      </a:lnTo>
                      <a:lnTo>
                        <a:pt x="1194" y="782"/>
                      </a:lnTo>
                      <a:lnTo>
                        <a:pt x="1201" y="781"/>
                      </a:lnTo>
                      <a:lnTo>
                        <a:pt x="1208" y="781"/>
                      </a:lnTo>
                      <a:lnTo>
                        <a:pt x="1214" y="781"/>
                      </a:lnTo>
                      <a:lnTo>
                        <a:pt x="1221" y="781"/>
                      </a:lnTo>
                      <a:lnTo>
                        <a:pt x="1227" y="781"/>
                      </a:lnTo>
                      <a:lnTo>
                        <a:pt x="1234" y="781"/>
                      </a:lnTo>
                      <a:lnTo>
                        <a:pt x="1240" y="782"/>
                      </a:lnTo>
                      <a:lnTo>
                        <a:pt x="1247" y="782"/>
                      </a:lnTo>
                      <a:lnTo>
                        <a:pt x="1253" y="783"/>
                      </a:lnTo>
                      <a:lnTo>
                        <a:pt x="1259" y="784"/>
                      </a:lnTo>
                      <a:lnTo>
                        <a:pt x="1265" y="785"/>
                      </a:lnTo>
                      <a:lnTo>
                        <a:pt x="1271" y="787"/>
                      </a:lnTo>
                      <a:lnTo>
                        <a:pt x="1277" y="789"/>
                      </a:lnTo>
                      <a:lnTo>
                        <a:pt x="1283" y="791"/>
                      </a:lnTo>
                      <a:lnTo>
                        <a:pt x="1289" y="793"/>
                      </a:lnTo>
                      <a:lnTo>
                        <a:pt x="1295" y="796"/>
                      </a:lnTo>
                      <a:lnTo>
                        <a:pt x="1301" y="798"/>
                      </a:lnTo>
                      <a:lnTo>
                        <a:pt x="1307" y="801"/>
                      </a:lnTo>
                      <a:lnTo>
                        <a:pt x="1313" y="805"/>
                      </a:lnTo>
                      <a:lnTo>
                        <a:pt x="1318" y="809"/>
                      </a:lnTo>
                      <a:lnTo>
                        <a:pt x="1324" y="813"/>
                      </a:lnTo>
                      <a:lnTo>
                        <a:pt x="1329" y="817"/>
                      </a:lnTo>
                      <a:lnTo>
                        <a:pt x="1334" y="821"/>
                      </a:lnTo>
                      <a:lnTo>
                        <a:pt x="1340" y="826"/>
                      </a:lnTo>
                      <a:lnTo>
                        <a:pt x="1345" y="832"/>
                      </a:lnTo>
                      <a:lnTo>
                        <a:pt x="1350" y="838"/>
                      </a:lnTo>
                      <a:lnTo>
                        <a:pt x="1196" y="1275"/>
                      </a:lnTo>
                      <a:lnTo>
                        <a:pt x="1194" y="1274"/>
                      </a:lnTo>
                      <a:lnTo>
                        <a:pt x="1192" y="1273"/>
                      </a:lnTo>
                      <a:lnTo>
                        <a:pt x="1191" y="1272"/>
                      </a:lnTo>
                      <a:lnTo>
                        <a:pt x="1189" y="1271"/>
                      </a:lnTo>
                      <a:lnTo>
                        <a:pt x="1188" y="1269"/>
                      </a:lnTo>
                      <a:lnTo>
                        <a:pt x="1187" y="1267"/>
                      </a:lnTo>
                      <a:lnTo>
                        <a:pt x="1186" y="1265"/>
                      </a:lnTo>
                      <a:lnTo>
                        <a:pt x="1185" y="1263"/>
                      </a:lnTo>
                      <a:lnTo>
                        <a:pt x="1184" y="1261"/>
                      </a:lnTo>
                      <a:lnTo>
                        <a:pt x="1183" y="1258"/>
                      </a:lnTo>
                      <a:lnTo>
                        <a:pt x="1183" y="1256"/>
                      </a:lnTo>
                      <a:lnTo>
                        <a:pt x="1182" y="1253"/>
                      </a:lnTo>
                      <a:lnTo>
                        <a:pt x="1182" y="1250"/>
                      </a:lnTo>
                      <a:lnTo>
                        <a:pt x="1182" y="1247"/>
                      </a:lnTo>
                      <a:lnTo>
                        <a:pt x="1182" y="1244"/>
                      </a:lnTo>
                      <a:lnTo>
                        <a:pt x="1182" y="1241"/>
                      </a:lnTo>
                      <a:lnTo>
                        <a:pt x="1182" y="1237"/>
                      </a:lnTo>
                      <a:lnTo>
                        <a:pt x="1182" y="1233"/>
                      </a:lnTo>
                      <a:lnTo>
                        <a:pt x="1182" y="1230"/>
                      </a:lnTo>
                      <a:lnTo>
                        <a:pt x="1182" y="1226"/>
                      </a:lnTo>
                      <a:lnTo>
                        <a:pt x="1183" y="1222"/>
                      </a:lnTo>
                      <a:lnTo>
                        <a:pt x="1183" y="1217"/>
                      </a:lnTo>
                      <a:lnTo>
                        <a:pt x="1183" y="1213"/>
                      </a:lnTo>
                      <a:lnTo>
                        <a:pt x="1184" y="1209"/>
                      </a:lnTo>
                      <a:lnTo>
                        <a:pt x="1184" y="1204"/>
                      </a:lnTo>
                      <a:lnTo>
                        <a:pt x="1184" y="1199"/>
                      </a:lnTo>
                      <a:lnTo>
                        <a:pt x="1185" y="1195"/>
                      </a:lnTo>
                      <a:lnTo>
                        <a:pt x="1185" y="1190"/>
                      </a:lnTo>
                      <a:lnTo>
                        <a:pt x="1185" y="1185"/>
                      </a:lnTo>
                      <a:lnTo>
                        <a:pt x="1185" y="1180"/>
                      </a:lnTo>
                      <a:lnTo>
                        <a:pt x="1186" y="1174"/>
                      </a:lnTo>
                      <a:lnTo>
                        <a:pt x="1186" y="1169"/>
                      </a:lnTo>
                      <a:lnTo>
                        <a:pt x="1186" y="1164"/>
                      </a:lnTo>
                      <a:lnTo>
                        <a:pt x="1186" y="1160"/>
                      </a:lnTo>
                      <a:lnTo>
                        <a:pt x="1186" y="1156"/>
                      </a:lnTo>
                      <a:lnTo>
                        <a:pt x="1186" y="1153"/>
                      </a:lnTo>
                      <a:lnTo>
                        <a:pt x="1186" y="1151"/>
                      </a:lnTo>
                      <a:lnTo>
                        <a:pt x="1186" y="1149"/>
                      </a:lnTo>
                      <a:lnTo>
                        <a:pt x="1186" y="1148"/>
                      </a:lnTo>
                      <a:lnTo>
                        <a:pt x="1185" y="1147"/>
                      </a:lnTo>
                      <a:lnTo>
                        <a:pt x="1184" y="1147"/>
                      </a:lnTo>
                      <a:lnTo>
                        <a:pt x="1184" y="1148"/>
                      </a:lnTo>
                      <a:lnTo>
                        <a:pt x="1183" y="1148"/>
                      </a:lnTo>
                      <a:lnTo>
                        <a:pt x="1182" y="1149"/>
                      </a:lnTo>
                      <a:lnTo>
                        <a:pt x="1181" y="1150"/>
                      </a:lnTo>
                      <a:lnTo>
                        <a:pt x="1179" y="1152"/>
                      </a:lnTo>
                      <a:lnTo>
                        <a:pt x="1178" y="1153"/>
                      </a:lnTo>
                      <a:lnTo>
                        <a:pt x="1176" y="1154"/>
                      </a:lnTo>
                      <a:lnTo>
                        <a:pt x="1174" y="1156"/>
                      </a:lnTo>
                      <a:lnTo>
                        <a:pt x="1171" y="1157"/>
                      </a:lnTo>
                      <a:lnTo>
                        <a:pt x="1169" y="1158"/>
                      </a:lnTo>
                      <a:lnTo>
                        <a:pt x="1166" y="1159"/>
                      </a:lnTo>
                      <a:lnTo>
                        <a:pt x="1163" y="1160"/>
                      </a:lnTo>
                      <a:lnTo>
                        <a:pt x="1160" y="1161"/>
                      </a:lnTo>
                      <a:lnTo>
                        <a:pt x="1156" y="1161"/>
                      </a:lnTo>
                      <a:lnTo>
                        <a:pt x="1152" y="1161"/>
                      </a:lnTo>
                      <a:lnTo>
                        <a:pt x="1148" y="1161"/>
                      </a:lnTo>
                      <a:lnTo>
                        <a:pt x="1143" y="1160"/>
                      </a:lnTo>
                      <a:lnTo>
                        <a:pt x="1138" y="1159"/>
                      </a:lnTo>
                      <a:lnTo>
                        <a:pt x="1133" y="1157"/>
                      </a:lnTo>
                      <a:lnTo>
                        <a:pt x="1127" y="1155"/>
                      </a:lnTo>
                      <a:lnTo>
                        <a:pt x="1121" y="1152"/>
                      </a:lnTo>
                      <a:lnTo>
                        <a:pt x="1115" y="1149"/>
                      </a:lnTo>
                      <a:lnTo>
                        <a:pt x="1108" y="1143"/>
                      </a:lnTo>
                      <a:lnTo>
                        <a:pt x="1102" y="1139"/>
                      </a:lnTo>
                      <a:lnTo>
                        <a:pt x="1097" y="1135"/>
                      </a:lnTo>
                      <a:lnTo>
                        <a:pt x="1093" y="1132"/>
                      </a:lnTo>
                      <a:lnTo>
                        <a:pt x="1089" y="1130"/>
                      </a:lnTo>
                      <a:lnTo>
                        <a:pt x="1086" y="1129"/>
                      </a:lnTo>
                      <a:lnTo>
                        <a:pt x="1084" y="1129"/>
                      </a:lnTo>
                      <a:lnTo>
                        <a:pt x="1082" y="1129"/>
                      </a:lnTo>
                      <a:lnTo>
                        <a:pt x="1081" y="1130"/>
                      </a:lnTo>
                      <a:lnTo>
                        <a:pt x="1081" y="1132"/>
                      </a:lnTo>
                      <a:lnTo>
                        <a:pt x="1081" y="1134"/>
                      </a:lnTo>
                      <a:lnTo>
                        <a:pt x="1081" y="1137"/>
                      </a:lnTo>
                      <a:lnTo>
                        <a:pt x="1082" y="1140"/>
                      </a:lnTo>
                      <a:lnTo>
                        <a:pt x="1084" y="1144"/>
                      </a:lnTo>
                      <a:lnTo>
                        <a:pt x="1085" y="1149"/>
                      </a:lnTo>
                      <a:lnTo>
                        <a:pt x="1088" y="1154"/>
                      </a:lnTo>
                      <a:lnTo>
                        <a:pt x="1090" y="1159"/>
                      </a:lnTo>
                      <a:lnTo>
                        <a:pt x="1093" y="1164"/>
                      </a:lnTo>
                      <a:lnTo>
                        <a:pt x="1097" y="1170"/>
                      </a:lnTo>
                      <a:lnTo>
                        <a:pt x="1100" y="1176"/>
                      </a:lnTo>
                      <a:lnTo>
                        <a:pt x="1104" y="1182"/>
                      </a:lnTo>
                      <a:lnTo>
                        <a:pt x="1108" y="1189"/>
                      </a:lnTo>
                      <a:lnTo>
                        <a:pt x="1113" y="1195"/>
                      </a:lnTo>
                      <a:lnTo>
                        <a:pt x="1117" y="1202"/>
                      </a:lnTo>
                      <a:lnTo>
                        <a:pt x="1122" y="1209"/>
                      </a:lnTo>
                      <a:lnTo>
                        <a:pt x="1127" y="1216"/>
                      </a:lnTo>
                      <a:lnTo>
                        <a:pt x="1132" y="1223"/>
                      </a:lnTo>
                      <a:lnTo>
                        <a:pt x="1137" y="1229"/>
                      </a:lnTo>
                      <a:lnTo>
                        <a:pt x="1142" y="1236"/>
                      </a:lnTo>
                      <a:lnTo>
                        <a:pt x="1147" y="1243"/>
                      </a:lnTo>
                      <a:lnTo>
                        <a:pt x="1152" y="1249"/>
                      </a:lnTo>
                      <a:lnTo>
                        <a:pt x="1158" y="1255"/>
                      </a:lnTo>
                      <a:lnTo>
                        <a:pt x="1029" y="1242"/>
                      </a:lnTo>
                      <a:close/>
                      <a:moveTo>
                        <a:pt x="252" y="649"/>
                      </a:moveTo>
                      <a:lnTo>
                        <a:pt x="253" y="646"/>
                      </a:lnTo>
                      <a:lnTo>
                        <a:pt x="254" y="643"/>
                      </a:lnTo>
                      <a:lnTo>
                        <a:pt x="255" y="640"/>
                      </a:lnTo>
                      <a:lnTo>
                        <a:pt x="257" y="638"/>
                      </a:lnTo>
                      <a:lnTo>
                        <a:pt x="258" y="635"/>
                      </a:lnTo>
                      <a:lnTo>
                        <a:pt x="260" y="632"/>
                      </a:lnTo>
                      <a:lnTo>
                        <a:pt x="262" y="629"/>
                      </a:lnTo>
                      <a:lnTo>
                        <a:pt x="264" y="627"/>
                      </a:lnTo>
                      <a:lnTo>
                        <a:pt x="266" y="624"/>
                      </a:lnTo>
                      <a:lnTo>
                        <a:pt x="268" y="621"/>
                      </a:lnTo>
                      <a:lnTo>
                        <a:pt x="270" y="619"/>
                      </a:lnTo>
                      <a:lnTo>
                        <a:pt x="272" y="617"/>
                      </a:lnTo>
                      <a:lnTo>
                        <a:pt x="274" y="614"/>
                      </a:lnTo>
                      <a:lnTo>
                        <a:pt x="277" y="612"/>
                      </a:lnTo>
                      <a:lnTo>
                        <a:pt x="279" y="610"/>
                      </a:lnTo>
                      <a:lnTo>
                        <a:pt x="281" y="609"/>
                      </a:lnTo>
                      <a:lnTo>
                        <a:pt x="284" y="607"/>
                      </a:lnTo>
                      <a:lnTo>
                        <a:pt x="286" y="605"/>
                      </a:lnTo>
                      <a:lnTo>
                        <a:pt x="289" y="604"/>
                      </a:lnTo>
                      <a:lnTo>
                        <a:pt x="291" y="603"/>
                      </a:lnTo>
                      <a:lnTo>
                        <a:pt x="294" y="602"/>
                      </a:lnTo>
                      <a:lnTo>
                        <a:pt x="297" y="601"/>
                      </a:lnTo>
                      <a:lnTo>
                        <a:pt x="299" y="600"/>
                      </a:lnTo>
                      <a:lnTo>
                        <a:pt x="302" y="600"/>
                      </a:lnTo>
                      <a:lnTo>
                        <a:pt x="305" y="600"/>
                      </a:lnTo>
                      <a:lnTo>
                        <a:pt x="307" y="600"/>
                      </a:lnTo>
                      <a:lnTo>
                        <a:pt x="310" y="600"/>
                      </a:lnTo>
                      <a:lnTo>
                        <a:pt x="312" y="601"/>
                      </a:lnTo>
                      <a:lnTo>
                        <a:pt x="315" y="601"/>
                      </a:lnTo>
                      <a:lnTo>
                        <a:pt x="318" y="602"/>
                      </a:lnTo>
                      <a:lnTo>
                        <a:pt x="320" y="604"/>
                      </a:lnTo>
                      <a:lnTo>
                        <a:pt x="323" y="605"/>
                      </a:lnTo>
                      <a:lnTo>
                        <a:pt x="328" y="612"/>
                      </a:lnTo>
                      <a:lnTo>
                        <a:pt x="329" y="613"/>
                      </a:lnTo>
                      <a:lnTo>
                        <a:pt x="329" y="614"/>
                      </a:lnTo>
                      <a:lnTo>
                        <a:pt x="330" y="615"/>
                      </a:lnTo>
                      <a:lnTo>
                        <a:pt x="330" y="617"/>
                      </a:lnTo>
                      <a:lnTo>
                        <a:pt x="331" y="618"/>
                      </a:lnTo>
                      <a:lnTo>
                        <a:pt x="331" y="620"/>
                      </a:lnTo>
                      <a:lnTo>
                        <a:pt x="331" y="621"/>
                      </a:lnTo>
                      <a:lnTo>
                        <a:pt x="332" y="623"/>
                      </a:lnTo>
                      <a:lnTo>
                        <a:pt x="332" y="625"/>
                      </a:lnTo>
                      <a:lnTo>
                        <a:pt x="332" y="626"/>
                      </a:lnTo>
                      <a:lnTo>
                        <a:pt x="332" y="628"/>
                      </a:lnTo>
                      <a:lnTo>
                        <a:pt x="333" y="630"/>
                      </a:lnTo>
                      <a:lnTo>
                        <a:pt x="333" y="631"/>
                      </a:lnTo>
                      <a:lnTo>
                        <a:pt x="333" y="633"/>
                      </a:lnTo>
                      <a:lnTo>
                        <a:pt x="334" y="635"/>
                      </a:lnTo>
                      <a:lnTo>
                        <a:pt x="334" y="637"/>
                      </a:lnTo>
                      <a:lnTo>
                        <a:pt x="334" y="638"/>
                      </a:lnTo>
                      <a:lnTo>
                        <a:pt x="334" y="640"/>
                      </a:lnTo>
                      <a:lnTo>
                        <a:pt x="335" y="642"/>
                      </a:lnTo>
                      <a:lnTo>
                        <a:pt x="335" y="644"/>
                      </a:lnTo>
                      <a:lnTo>
                        <a:pt x="335" y="645"/>
                      </a:lnTo>
                      <a:lnTo>
                        <a:pt x="335" y="647"/>
                      </a:lnTo>
                      <a:lnTo>
                        <a:pt x="336" y="649"/>
                      </a:lnTo>
                      <a:lnTo>
                        <a:pt x="336" y="650"/>
                      </a:lnTo>
                      <a:lnTo>
                        <a:pt x="336" y="652"/>
                      </a:lnTo>
                      <a:lnTo>
                        <a:pt x="337" y="654"/>
                      </a:lnTo>
                      <a:lnTo>
                        <a:pt x="337" y="655"/>
                      </a:lnTo>
                      <a:lnTo>
                        <a:pt x="338" y="657"/>
                      </a:lnTo>
                      <a:lnTo>
                        <a:pt x="338" y="658"/>
                      </a:lnTo>
                      <a:lnTo>
                        <a:pt x="338" y="659"/>
                      </a:lnTo>
                      <a:lnTo>
                        <a:pt x="339" y="661"/>
                      </a:lnTo>
                      <a:lnTo>
                        <a:pt x="339" y="662"/>
                      </a:lnTo>
                      <a:lnTo>
                        <a:pt x="338" y="663"/>
                      </a:lnTo>
                      <a:lnTo>
                        <a:pt x="337" y="664"/>
                      </a:lnTo>
                      <a:lnTo>
                        <a:pt x="336" y="665"/>
                      </a:lnTo>
                      <a:lnTo>
                        <a:pt x="336" y="667"/>
                      </a:lnTo>
                      <a:lnTo>
                        <a:pt x="335" y="668"/>
                      </a:lnTo>
                      <a:lnTo>
                        <a:pt x="334" y="669"/>
                      </a:lnTo>
                      <a:lnTo>
                        <a:pt x="333" y="671"/>
                      </a:lnTo>
                      <a:lnTo>
                        <a:pt x="332" y="672"/>
                      </a:lnTo>
                      <a:lnTo>
                        <a:pt x="331" y="673"/>
                      </a:lnTo>
                      <a:lnTo>
                        <a:pt x="330" y="675"/>
                      </a:lnTo>
                      <a:lnTo>
                        <a:pt x="330" y="676"/>
                      </a:lnTo>
                      <a:lnTo>
                        <a:pt x="329" y="678"/>
                      </a:lnTo>
                      <a:lnTo>
                        <a:pt x="328" y="679"/>
                      </a:lnTo>
                      <a:lnTo>
                        <a:pt x="327" y="681"/>
                      </a:lnTo>
                      <a:lnTo>
                        <a:pt x="326" y="682"/>
                      </a:lnTo>
                      <a:lnTo>
                        <a:pt x="326" y="683"/>
                      </a:lnTo>
                      <a:lnTo>
                        <a:pt x="325" y="685"/>
                      </a:lnTo>
                      <a:lnTo>
                        <a:pt x="324" y="686"/>
                      </a:lnTo>
                      <a:lnTo>
                        <a:pt x="323" y="688"/>
                      </a:lnTo>
                      <a:lnTo>
                        <a:pt x="323" y="689"/>
                      </a:lnTo>
                      <a:lnTo>
                        <a:pt x="322" y="691"/>
                      </a:lnTo>
                      <a:lnTo>
                        <a:pt x="321" y="692"/>
                      </a:lnTo>
                      <a:lnTo>
                        <a:pt x="320" y="694"/>
                      </a:lnTo>
                      <a:lnTo>
                        <a:pt x="319" y="695"/>
                      </a:lnTo>
                      <a:lnTo>
                        <a:pt x="318" y="696"/>
                      </a:lnTo>
                      <a:lnTo>
                        <a:pt x="318" y="698"/>
                      </a:lnTo>
                      <a:lnTo>
                        <a:pt x="317" y="699"/>
                      </a:lnTo>
                      <a:lnTo>
                        <a:pt x="316" y="701"/>
                      </a:lnTo>
                      <a:lnTo>
                        <a:pt x="315" y="703"/>
                      </a:lnTo>
                      <a:lnTo>
                        <a:pt x="314" y="704"/>
                      </a:lnTo>
                      <a:lnTo>
                        <a:pt x="313" y="705"/>
                      </a:lnTo>
                      <a:lnTo>
                        <a:pt x="312" y="706"/>
                      </a:lnTo>
                      <a:lnTo>
                        <a:pt x="252" y="6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7641360" y="4308480"/>
                  <a:ext cx="101160" cy="212760"/>
                </a:xfrm>
                <a:custGeom>
                  <a:avLst/>
                  <a:gdLst/>
                  <a:ahLst/>
                  <a:rect l="l" t="t" r="r" b="b"/>
                  <a:pathLst>
                    <a:path w="339" h="643">
                      <a:moveTo>
                        <a:pt x="5" y="236"/>
                      </a:moveTo>
                      <a:lnTo>
                        <a:pt x="5" y="223"/>
                      </a:lnTo>
                      <a:lnTo>
                        <a:pt x="6" y="210"/>
                      </a:lnTo>
                      <a:lnTo>
                        <a:pt x="7" y="196"/>
                      </a:lnTo>
                      <a:lnTo>
                        <a:pt x="8" y="182"/>
                      </a:lnTo>
                      <a:lnTo>
                        <a:pt x="10" y="168"/>
                      </a:lnTo>
                      <a:lnTo>
                        <a:pt x="12" y="153"/>
                      </a:lnTo>
                      <a:lnTo>
                        <a:pt x="14" y="138"/>
                      </a:lnTo>
                      <a:lnTo>
                        <a:pt x="16" y="124"/>
                      </a:lnTo>
                      <a:lnTo>
                        <a:pt x="18" y="109"/>
                      </a:lnTo>
                      <a:lnTo>
                        <a:pt x="20" y="94"/>
                      </a:lnTo>
                      <a:lnTo>
                        <a:pt x="22" y="79"/>
                      </a:lnTo>
                      <a:lnTo>
                        <a:pt x="23" y="64"/>
                      </a:lnTo>
                      <a:lnTo>
                        <a:pt x="25" y="49"/>
                      </a:lnTo>
                      <a:lnTo>
                        <a:pt x="26" y="34"/>
                      </a:lnTo>
                      <a:lnTo>
                        <a:pt x="27" y="20"/>
                      </a:lnTo>
                      <a:lnTo>
                        <a:pt x="27" y="6"/>
                      </a:lnTo>
                      <a:lnTo>
                        <a:pt x="30" y="2"/>
                      </a:lnTo>
                      <a:lnTo>
                        <a:pt x="33" y="0"/>
                      </a:lnTo>
                      <a:lnTo>
                        <a:pt x="37" y="0"/>
                      </a:lnTo>
                      <a:lnTo>
                        <a:pt x="44" y="0"/>
                      </a:lnTo>
                      <a:lnTo>
                        <a:pt x="44" y="8"/>
                      </a:lnTo>
                      <a:lnTo>
                        <a:pt x="44" y="17"/>
                      </a:lnTo>
                      <a:lnTo>
                        <a:pt x="46" y="27"/>
                      </a:lnTo>
                      <a:lnTo>
                        <a:pt x="48" y="38"/>
                      </a:lnTo>
                      <a:lnTo>
                        <a:pt x="50" y="48"/>
                      </a:lnTo>
                      <a:lnTo>
                        <a:pt x="52" y="58"/>
                      </a:lnTo>
                      <a:lnTo>
                        <a:pt x="54" y="67"/>
                      </a:lnTo>
                      <a:lnTo>
                        <a:pt x="54" y="74"/>
                      </a:lnTo>
                      <a:lnTo>
                        <a:pt x="56" y="84"/>
                      </a:lnTo>
                      <a:lnTo>
                        <a:pt x="56" y="95"/>
                      </a:lnTo>
                      <a:lnTo>
                        <a:pt x="55" y="106"/>
                      </a:lnTo>
                      <a:lnTo>
                        <a:pt x="54" y="118"/>
                      </a:lnTo>
                      <a:lnTo>
                        <a:pt x="53" y="130"/>
                      </a:lnTo>
                      <a:lnTo>
                        <a:pt x="53" y="141"/>
                      </a:lnTo>
                      <a:lnTo>
                        <a:pt x="53" y="152"/>
                      </a:lnTo>
                      <a:lnTo>
                        <a:pt x="54" y="162"/>
                      </a:lnTo>
                      <a:lnTo>
                        <a:pt x="62" y="187"/>
                      </a:lnTo>
                      <a:lnTo>
                        <a:pt x="72" y="210"/>
                      </a:lnTo>
                      <a:lnTo>
                        <a:pt x="85" y="232"/>
                      </a:lnTo>
                      <a:lnTo>
                        <a:pt x="99" y="252"/>
                      </a:lnTo>
                      <a:lnTo>
                        <a:pt x="116" y="272"/>
                      </a:lnTo>
                      <a:lnTo>
                        <a:pt x="134" y="290"/>
                      </a:lnTo>
                      <a:lnTo>
                        <a:pt x="153" y="307"/>
                      </a:lnTo>
                      <a:lnTo>
                        <a:pt x="175" y="323"/>
                      </a:lnTo>
                      <a:lnTo>
                        <a:pt x="196" y="338"/>
                      </a:lnTo>
                      <a:lnTo>
                        <a:pt x="217" y="352"/>
                      </a:lnTo>
                      <a:lnTo>
                        <a:pt x="239" y="365"/>
                      </a:lnTo>
                      <a:lnTo>
                        <a:pt x="260" y="377"/>
                      </a:lnTo>
                      <a:lnTo>
                        <a:pt x="281" y="388"/>
                      </a:lnTo>
                      <a:lnTo>
                        <a:pt x="302" y="399"/>
                      </a:lnTo>
                      <a:lnTo>
                        <a:pt x="321" y="409"/>
                      </a:lnTo>
                      <a:lnTo>
                        <a:pt x="339" y="418"/>
                      </a:lnTo>
                      <a:lnTo>
                        <a:pt x="333" y="427"/>
                      </a:lnTo>
                      <a:lnTo>
                        <a:pt x="326" y="436"/>
                      </a:lnTo>
                      <a:lnTo>
                        <a:pt x="321" y="445"/>
                      </a:lnTo>
                      <a:lnTo>
                        <a:pt x="315" y="455"/>
                      </a:lnTo>
                      <a:lnTo>
                        <a:pt x="311" y="465"/>
                      </a:lnTo>
                      <a:lnTo>
                        <a:pt x="306" y="476"/>
                      </a:lnTo>
                      <a:lnTo>
                        <a:pt x="302" y="487"/>
                      </a:lnTo>
                      <a:lnTo>
                        <a:pt x="298" y="498"/>
                      </a:lnTo>
                      <a:lnTo>
                        <a:pt x="295" y="509"/>
                      </a:lnTo>
                      <a:lnTo>
                        <a:pt x="292" y="520"/>
                      </a:lnTo>
                      <a:lnTo>
                        <a:pt x="289" y="532"/>
                      </a:lnTo>
                      <a:lnTo>
                        <a:pt x="286" y="543"/>
                      </a:lnTo>
                      <a:lnTo>
                        <a:pt x="283" y="554"/>
                      </a:lnTo>
                      <a:lnTo>
                        <a:pt x="280" y="565"/>
                      </a:lnTo>
                      <a:lnTo>
                        <a:pt x="277" y="576"/>
                      </a:lnTo>
                      <a:lnTo>
                        <a:pt x="274" y="587"/>
                      </a:lnTo>
                      <a:lnTo>
                        <a:pt x="271" y="594"/>
                      </a:lnTo>
                      <a:lnTo>
                        <a:pt x="268" y="601"/>
                      </a:lnTo>
                      <a:lnTo>
                        <a:pt x="264" y="608"/>
                      </a:lnTo>
                      <a:lnTo>
                        <a:pt x="261" y="615"/>
                      </a:lnTo>
                      <a:lnTo>
                        <a:pt x="257" y="622"/>
                      </a:lnTo>
                      <a:lnTo>
                        <a:pt x="254" y="629"/>
                      </a:lnTo>
                      <a:lnTo>
                        <a:pt x="253" y="636"/>
                      </a:lnTo>
                      <a:lnTo>
                        <a:pt x="252" y="643"/>
                      </a:lnTo>
                      <a:lnTo>
                        <a:pt x="242" y="635"/>
                      </a:lnTo>
                      <a:lnTo>
                        <a:pt x="232" y="627"/>
                      </a:lnTo>
                      <a:lnTo>
                        <a:pt x="222" y="618"/>
                      </a:lnTo>
                      <a:lnTo>
                        <a:pt x="212" y="608"/>
                      </a:lnTo>
                      <a:lnTo>
                        <a:pt x="202" y="597"/>
                      </a:lnTo>
                      <a:lnTo>
                        <a:pt x="193" y="586"/>
                      </a:lnTo>
                      <a:lnTo>
                        <a:pt x="183" y="575"/>
                      </a:lnTo>
                      <a:lnTo>
                        <a:pt x="174" y="563"/>
                      </a:lnTo>
                      <a:lnTo>
                        <a:pt x="165" y="552"/>
                      </a:lnTo>
                      <a:lnTo>
                        <a:pt x="155" y="540"/>
                      </a:lnTo>
                      <a:lnTo>
                        <a:pt x="146" y="528"/>
                      </a:lnTo>
                      <a:lnTo>
                        <a:pt x="137" y="517"/>
                      </a:lnTo>
                      <a:lnTo>
                        <a:pt x="129" y="505"/>
                      </a:lnTo>
                      <a:lnTo>
                        <a:pt x="120" y="495"/>
                      </a:lnTo>
                      <a:lnTo>
                        <a:pt x="112" y="484"/>
                      </a:lnTo>
                      <a:lnTo>
                        <a:pt x="103" y="474"/>
                      </a:lnTo>
                      <a:lnTo>
                        <a:pt x="92" y="461"/>
                      </a:lnTo>
                      <a:lnTo>
                        <a:pt x="79" y="445"/>
                      </a:lnTo>
                      <a:lnTo>
                        <a:pt x="65" y="427"/>
                      </a:lnTo>
                      <a:lnTo>
                        <a:pt x="50" y="407"/>
                      </a:lnTo>
                      <a:lnTo>
                        <a:pt x="36" y="387"/>
                      </a:lnTo>
                      <a:lnTo>
                        <a:pt x="23" y="367"/>
                      </a:lnTo>
                      <a:lnTo>
                        <a:pt x="13" y="348"/>
                      </a:lnTo>
                      <a:lnTo>
                        <a:pt x="5" y="331"/>
                      </a:lnTo>
                      <a:lnTo>
                        <a:pt x="2" y="318"/>
                      </a:lnTo>
                      <a:lnTo>
                        <a:pt x="0" y="305"/>
                      </a:lnTo>
                      <a:lnTo>
                        <a:pt x="0" y="294"/>
                      </a:lnTo>
                      <a:lnTo>
                        <a:pt x="1" y="283"/>
                      </a:lnTo>
                      <a:lnTo>
                        <a:pt x="2" y="272"/>
                      </a:lnTo>
                      <a:lnTo>
                        <a:pt x="4" y="261"/>
                      </a:lnTo>
                      <a:lnTo>
                        <a:pt x="5" y="249"/>
                      </a:lnTo>
                      <a:lnTo>
                        <a:pt x="5" y="2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7768800" y="4356000"/>
                  <a:ext cx="82440" cy="169200"/>
                </a:xfrm>
                <a:custGeom>
                  <a:avLst/>
                  <a:gdLst/>
                  <a:ahLst/>
                  <a:rect l="l" t="t" r="r" b="b"/>
                  <a:pathLst>
                    <a:path w="274" h="514">
                      <a:moveTo>
                        <a:pt x="0" y="258"/>
                      </a:moveTo>
                      <a:lnTo>
                        <a:pt x="15" y="269"/>
                      </a:lnTo>
                      <a:lnTo>
                        <a:pt x="28" y="281"/>
                      </a:lnTo>
                      <a:lnTo>
                        <a:pt x="40" y="295"/>
                      </a:lnTo>
                      <a:lnTo>
                        <a:pt x="49" y="310"/>
                      </a:lnTo>
                      <a:lnTo>
                        <a:pt x="57" y="325"/>
                      </a:lnTo>
                      <a:lnTo>
                        <a:pt x="64" y="342"/>
                      </a:lnTo>
                      <a:lnTo>
                        <a:pt x="70" y="359"/>
                      </a:lnTo>
                      <a:lnTo>
                        <a:pt x="75" y="376"/>
                      </a:lnTo>
                      <a:lnTo>
                        <a:pt x="79" y="394"/>
                      </a:lnTo>
                      <a:lnTo>
                        <a:pt x="83" y="412"/>
                      </a:lnTo>
                      <a:lnTo>
                        <a:pt x="87" y="430"/>
                      </a:lnTo>
                      <a:lnTo>
                        <a:pt x="91" y="447"/>
                      </a:lnTo>
                      <a:lnTo>
                        <a:pt x="94" y="465"/>
                      </a:lnTo>
                      <a:lnTo>
                        <a:pt x="99" y="482"/>
                      </a:lnTo>
                      <a:lnTo>
                        <a:pt x="103" y="498"/>
                      </a:lnTo>
                      <a:lnTo>
                        <a:pt x="109" y="514"/>
                      </a:lnTo>
                      <a:lnTo>
                        <a:pt x="119" y="501"/>
                      </a:lnTo>
                      <a:lnTo>
                        <a:pt x="129" y="487"/>
                      </a:lnTo>
                      <a:lnTo>
                        <a:pt x="138" y="471"/>
                      </a:lnTo>
                      <a:lnTo>
                        <a:pt x="146" y="455"/>
                      </a:lnTo>
                      <a:lnTo>
                        <a:pt x="155" y="437"/>
                      </a:lnTo>
                      <a:lnTo>
                        <a:pt x="163" y="419"/>
                      </a:lnTo>
                      <a:lnTo>
                        <a:pt x="170" y="399"/>
                      </a:lnTo>
                      <a:lnTo>
                        <a:pt x="178" y="380"/>
                      </a:lnTo>
                      <a:lnTo>
                        <a:pt x="185" y="360"/>
                      </a:lnTo>
                      <a:lnTo>
                        <a:pt x="192" y="341"/>
                      </a:lnTo>
                      <a:lnTo>
                        <a:pt x="199" y="321"/>
                      </a:lnTo>
                      <a:lnTo>
                        <a:pt x="205" y="302"/>
                      </a:lnTo>
                      <a:lnTo>
                        <a:pt x="212" y="283"/>
                      </a:lnTo>
                      <a:lnTo>
                        <a:pt x="218" y="265"/>
                      </a:lnTo>
                      <a:lnTo>
                        <a:pt x="224" y="248"/>
                      </a:lnTo>
                      <a:lnTo>
                        <a:pt x="230" y="233"/>
                      </a:lnTo>
                      <a:lnTo>
                        <a:pt x="237" y="216"/>
                      </a:lnTo>
                      <a:lnTo>
                        <a:pt x="244" y="200"/>
                      </a:lnTo>
                      <a:lnTo>
                        <a:pt x="252" y="183"/>
                      </a:lnTo>
                      <a:lnTo>
                        <a:pt x="259" y="165"/>
                      </a:lnTo>
                      <a:lnTo>
                        <a:pt x="265" y="147"/>
                      </a:lnTo>
                      <a:lnTo>
                        <a:pt x="270" y="128"/>
                      </a:lnTo>
                      <a:lnTo>
                        <a:pt x="273" y="109"/>
                      </a:lnTo>
                      <a:lnTo>
                        <a:pt x="274" y="88"/>
                      </a:lnTo>
                      <a:lnTo>
                        <a:pt x="267" y="75"/>
                      </a:lnTo>
                      <a:lnTo>
                        <a:pt x="261" y="60"/>
                      </a:lnTo>
                      <a:lnTo>
                        <a:pt x="257" y="45"/>
                      </a:lnTo>
                      <a:lnTo>
                        <a:pt x="252" y="30"/>
                      </a:lnTo>
                      <a:lnTo>
                        <a:pt x="249" y="16"/>
                      </a:lnTo>
                      <a:lnTo>
                        <a:pt x="245" y="6"/>
                      </a:lnTo>
                      <a:lnTo>
                        <a:pt x="241" y="0"/>
                      </a:lnTo>
                      <a:lnTo>
                        <a:pt x="236" y="0"/>
                      </a:lnTo>
                      <a:lnTo>
                        <a:pt x="226" y="21"/>
                      </a:lnTo>
                      <a:lnTo>
                        <a:pt x="215" y="41"/>
                      </a:lnTo>
                      <a:lnTo>
                        <a:pt x="204" y="60"/>
                      </a:lnTo>
                      <a:lnTo>
                        <a:pt x="191" y="79"/>
                      </a:lnTo>
                      <a:lnTo>
                        <a:pt x="177" y="97"/>
                      </a:lnTo>
                      <a:lnTo>
                        <a:pt x="163" y="114"/>
                      </a:lnTo>
                      <a:lnTo>
                        <a:pt x="149" y="131"/>
                      </a:lnTo>
                      <a:lnTo>
                        <a:pt x="134" y="147"/>
                      </a:lnTo>
                      <a:lnTo>
                        <a:pt x="118" y="162"/>
                      </a:lnTo>
                      <a:lnTo>
                        <a:pt x="102" y="178"/>
                      </a:lnTo>
                      <a:lnTo>
                        <a:pt x="86" y="193"/>
                      </a:lnTo>
                      <a:lnTo>
                        <a:pt x="69" y="207"/>
                      </a:lnTo>
                      <a:lnTo>
                        <a:pt x="52" y="220"/>
                      </a:lnTo>
                      <a:lnTo>
                        <a:pt x="35" y="233"/>
                      </a:lnTo>
                      <a:lnTo>
                        <a:pt x="17" y="246"/>
                      </a:lnTo>
                      <a:lnTo>
                        <a:pt x="0" y="25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49160" y="4566600"/>
                  <a:ext cx="95400" cy="163800"/>
                </a:xfrm>
                <a:custGeom>
                  <a:avLst/>
                  <a:gdLst/>
                  <a:ahLst/>
                  <a:rect l="l" t="t" r="r" b="b"/>
                  <a:pathLst>
                    <a:path w="321" h="494">
                      <a:moveTo>
                        <a:pt x="0" y="461"/>
                      </a:moveTo>
                      <a:lnTo>
                        <a:pt x="124" y="6"/>
                      </a:lnTo>
                      <a:lnTo>
                        <a:pt x="138" y="4"/>
                      </a:lnTo>
                      <a:lnTo>
                        <a:pt x="152" y="2"/>
                      </a:lnTo>
                      <a:lnTo>
                        <a:pt x="165" y="1"/>
                      </a:lnTo>
                      <a:lnTo>
                        <a:pt x="179" y="0"/>
                      </a:lnTo>
                      <a:lnTo>
                        <a:pt x="192" y="0"/>
                      </a:lnTo>
                      <a:lnTo>
                        <a:pt x="205" y="0"/>
                      </a:lnTo>
                      <a:lnTo>
                        <a:pt x="218" y="1"/>
                      </a:lnTo>
                      <a:lnTo>
                        <a:pt x="230" y="3"/>
                      </a:lnTo>
                      <a:lnTo>
                        <a:pt x="242" y="6"/>
                      </a:lnTo>
                      <a:lnTo>
                        <a:pt x="254" y="10"/>
                      </a:lnTo>
                      <a:lnTo>
                        <a:pt x="266" y="15"/>
                      </a:lnTo>
                      <a:lnTo>
                        <a:pt x="278" y="20"/>
                      </a:lnTo>
                      <a:lnTo>
                        <a:pt x="289" y="28"/>
                      </a:lnTo>
                      <a:lnTo>
                        <a:pt x="300" y="36"/>
                      </a:lnTo>
                      <a:lnTo>
                        <a:pt x="311" y="45"/>
                      </a:lnTo>
                      <a:lnTo>
                        <a:pt x="321" y="57"/>
                      </a:lnTo>
                      <a:lnTo>
                        <a:pt x="167" y="494"/>
                      </a:lnTo>
                      <a:lnTo>
                        <a:pt x="160" y="490"/>
                      </a:lnTo>
                      <a:lnTo>
                        <a:pt x="156" y="482"/>
                      </a:lnTo>
                      <a:lnTo>
                        <a:pt x="153" y="472"/>
                      </a:lnTo>
                      <a:lnTo>
                        <a:pt x="153" y="460"/>
                      </a:lnTo>
                      <a:lnTo>
                        <a:pt x="153" y="445"/>
                      </a:lnTo>
                      <a:lnTo>
                        <a:pt x="155" y="428"/>
                      </a:lnTo>
                      <a:lnTo>
                        <a:pt x="156" y="409"/>
                      </a:lnTo>
                      <a:lnTo>
                        <a:pt x="157" y="388"/>
                      </a:lnTo>
                      <a:lnTo>
                        <a:pt x="157" y="372"/>
                      </a:lnTo>
                      <a:lnTo>
                        <a:pt x="156" y="366"/>
                      </a:lnTo>
                      <a:lnTo>
                        <a:pt x="154" y="367"/>
                      </a:lnTo>
                      <a:lnTo>
                        <a:pt x="149" y="372"/>
                      </a:lnTo>
                      <a:lnTo>
                        <a:pt x="140" y="377"/>
                      </a:lnTo>
                      <a:lnTo>
                        <a:pt x="127" y="380"/>
                      </a:lnTo>
                      <a:lnTo>
                        <a:pt x="109" y="378"/>
                      </a:lnTo>
                      <a:lnTo>
                        <a:pt x="86" y="368"/>
                      </a:lnTo>
                      <a:lnTo>
                        <a:pt x="73" y="358"/>
                      </a:lnTo>
                      <a:lnTo>
                        <a:pt x="64" y="351"/>
                      </a:lnTo>
                      <a:lnTo>
                        <a:pt x="57" y="348"/>
                      </a:lnTo>
                      <a:lnTo>
                        <a:pt x="53" y="348"/>
                      </a:lnTo>
                      <a:lnTo>
                        <a:pt x="52" y="351"/>
                      </a:lnTo>
                      <a:lnTo>
                        <a:pt x="52" y="356"/>
                      </a:lnTo>
                      <a:lnTo>
                        <a:pt x="55" y="363"/>
                      </a:lnTo>
                      <a:lnTo>
                        <a:pt x="59" y="373"/>
                      </a:lnTo>
                      <a:lnTo>
                        <a:pt x="64" y="383"/>
                      </a:lnTo>
                      <a:lnTo>
                        <a:pt x="71" y="395"/>
                      </a:lnTo>
                      <a:lnTo>
                        <a:pt x="79" y="408"/>
                      </a:lnTo>
                      <a:lnTo>
                        <a:pt x="88" y="421"/>
                      </a:lnTo>
                      <a:lnTo>
                        <a:pt x="98" y="435"/>
                      </a:lnTo>
                      <a:lnTo>
                        <a:pt x="108" y="448"/>
                      </a:lnTo>
                      <a:lnTo>
                        <a:pt x="118" y="462"/>
                      </a:lnTo>
                      <a:lnTo>
                        <a:pt x="129" y="474"/>
                      </a:lnTo>
                      <a:lnTo>
                        <a:pt x="0" y="46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7716600" y="4507200"/>
                  <a:ext cx="25920" cy="34200"/>
                </a:xfrm>
                <a:custGeom>
                  <a:avLst/>
                  <a:gdLst/>
                  <a:ahLst/>
                  <a:rect l="l" t="t" r="r" b="b"/>
                  <a:pathLst>
                    <a:path w="87" h="106">
                      <a:moveTo>
                        <a:pt x="0" y="49"/>
                      </a:moveTo>
                      <a:lnTo>
                        <a:pt x="5" y="38"/>
                      </a:lnTo>
                      <a:lnTo>
                        <a:pt x="12" y="27"/>
                      </a:lnTo>
                      <a:lnTo>
                        <a:pt x="20" y="17"/>
                      </a:lnTo>
                      <a:lnTo>
                        <a:pt x="29" y="9"/>
                      </a:lnTo>
                      <a:lnTo>
                        <a:pt x="39" y="3"/>
                      </a:lnTo>
                      <a:lnTo>
                        <a:pt x="50" y="0"/>
                      </a:lnTo>
                      <a:lnTo>
                        <a:pt x="60" y="1"/>
                      </a:lnTo>
                      <a:lnTo>
                        <a:pt x="71" y="5"/>
                      </a:lnTo>
                      <a:lnTo>
                        <a:pt x="76" y="12"/>
                      </a:lnTo>
                      <a:lnTo>
                        <a:pt x="78" y="17"/>
                      </a:lnTo>
                      <a:lnTo>
                        <a:pt x="80" y="23"/>
                      </a:lnTo>
                      <a:lnTo>
                        <a:pt x="81" y="30"/>
                      </a:lnTo>
                      <a:lnTo>
                        <a:pt x="82" y="37"/>
                      </a:lnTo>
                      <a:lnTo>
                        <a:pt x="83" y="44"/>
                      </a:lnTo>
                      <a:lnTo>
                        <a:pt x="84" y="50"/>
                      </a:lnTo>
                      <a:lnTo>
                        <a:pt x="86" y="57"/>
                      </a:lnTo>
                      <a:lnTo>
                        <a:pt x="87" y="62"/>
                      </a:lnTo>
                      <a:lnTo>
                        <a:pt x="84" y="67"/>
                      </a:lnTo>
                      <a:lnTo>
                        <a:pt x="80" y="72"/>
                      </a:lnTo>
                      <a:lnTo>
                        <a:pt x="77" y="78"/>
                      </a:lnTo>
                      <a:lnTo>
                        <a:pt x="74" y="83"/>
                      </a:lnTo>
                      <a:lnTo>
                        <a:pt x="71" y="89"/>
                      </a:lnTo>
                      <a:lnTo>
                        <a:pt x="67" y="95"/>
                      </a:lnTo>
                      <a:lnTo>
                        <a:pt x="64" y="101"/>
                      </a:lnTo>
                      <a:lnTo>
                        <a:pt x="60" y="106"/>
                      </a:lnTo>
                      <a:lnTo>
                        <a:pt x="0" y="4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635240" y="4379760"/>
                  <a:ext cx="223200" cy="214200"/>
                </a:xfrm>
                <a:custGeom>
                  <a:avLst/>
                  <a:gdLst/>
                  <a:ahLst/>
                  <a:rect l="l" t="t" r="r" b="b"/>
                  <a:pathLst>
                    <a:path w="748" h="648">
                      <a:moveTo>
                        <a:pt x="10" y="0"/>
                      </a:moveTo>
                      <a:lnTo>
                        <a:pt x="7" y="14"/>
                      </a:lnTo>
                      <a:lnTo>
                        <a:pt x="4" y="27"/>
                      </a:lnTo>
                      <a:lnTo>
                        <a:pt x="2" y="39"/>
                      </a:lnTo>
                      <a:lnTo>
                        <a:pt x="1" y="50"/>
                      </a:lnTo>
                      <a:lnTo>
                        <a:pt x="0" y="62"/>
                      </a:lnTo>
                      <a:lnTo>
                        <a:pt x="0" y="74"/>
                      </a:lnTo>
                      <a:lnTo>
                        <a:pt x="0" y="87"/>
                      </a:lnTo>
                      <a:lnTo>
                        <a:pt x="0" y="101"/>
                      </a:lnTo>
                      <a:lnTo>
                        <a:pt x="1" y="110"/>
                      </a:lnTo>
                      <a:lnTo>
                        <a:pt x="5" y="121"/>
                      </a:lnTo>
                      <a:lnTo>
                        <a:pt x="10" y="133"/>
                      </a:lnTo>
                      <a:lnTo>
                        <a:pt x="17" y="145"/>
                      </a:lnTo>
                      <a:lnTo>
                        <a:pt x="25" y="159"/>
                      </a:lnTo>
                      <a:lnTo>
                        <a:pt x="33" y="173"/>
                      </a:lnTo>
                      <a:lnTo>
                        <a:pt x="42" y="187"/>
                      </a:lnTo>
                      <a:lnTo>
                        <a:pt x="51" y="200"/>
                      </a:lnTo>
                      <a:lnTo>
                        <a:pt x="61" y="213"/>
                      </a:lnTo>
                      <a:lnTo>
                        <a:pt x="69" y="225"/>
                      </a:lnTo>
                      <a:lnTo>
                        <a:pt x="78" y="236"/>
                      </a:lnTo>
                      <a:lnTo>
                        <a:pt x="85" y="245"/>
                      </a:lnTo>
                      <a:lnTo>
                        <a:pt x="91" y="252"/>
                      </a:lnTo>
                      <a:lnTo>
                        <a:pt x="95" y="256"/>
                      </a:lnTo>
                      <a:lnTo>
                        <a:pt x="98" y="258"/>
                      </a:lnTo>
                      <a:lnTo>
                        <a:pt x="98" y="257"/>
                      </a:lnTo>
                      <a:lnTo>
                        <a:pt x="100" y="260"/>
                      </a:lnTo>
                      <a:lnTo>
                        <a:pt x="103" y="267"/>
                      </a:lnTo>
                      <a:lnTo>
                        <a:pt x="109" y="276"/>
                      </a:lnTo>
                      <a:lnTo>
                        <a:pt x="116" y="289"/>
                      </a:lnTo>
                      <a:lnTo>
                        <a:pt x="124" y="304"/>
                      </a:lnTo>
                      <a:lnTo>
                        <a:pt x="135" y="320"/>
                      </a:lnTo>
                      <a:lnTo>
                        <a:pt x="146" y="337"/>
                      </a:lnTo>
                      <a:lnTo>
                        <a:pt x="158" y="356"/>
                      </a:lnTo>
                      <a:lnTo>
                        <a:pt x="171" y="374"/>
                      </a:lnTo>
                      <a:lnTo>
                        <a:pt x="185" y="392"/>
                      </a:lnTo>
                      <a:lnTo>
                        <a:pt x="199" y="409"/>
                      </a:lnTo>
                      <a:lnTo>
                        <a:pt x="213" y="425"/>
                      </a:lnTo>
                      <a:lnTo>
                        <a:pt x="227" y="439"/>
                      </a:lnTo>
                      <a:lnTo>
                        <a:pt x="240" y="450"/>
                      </a:lnTo>
                      <a:lnTo>
                        <a:pt x="253" y="458"/>
                      </a:lnTo>
                      <a:lnTo>
                        <a:pt x="266" y="463"/>
                      </a:lnTo>
                      <a:lnTo>
                        <a:pt x="279" y="469"/>
                      </a:lnTo>
                      <a:lnTo>
                        <a:pt x="293" y="480"/>
                      </a:lnTo>
                      <a:lnTo>
                        <a:pt x="308" y="494"/>
                      </a:lnTo>
                      <a:lnTo>
                        <a:pt x="322" y="510"/>
                      </a:lnTo>
                      <a:lnTo>
                        <a:pt x="337" y="527"/>
                      </a:lnTo>
                      <a:lnTo>
                        <a:pt x="350" y="543"/>
                      </a:lnTo>
                      <a:lnTo>
                        <a:pt x="362" y="558"/>
                      </a:lnTo>
                      <a:lnTo>
                        <a:pt x="373" y="570"/>
                      </a:lnTo>
                      <a:lnTo>
                        <a:pt x="384" y="584"/>
                      </a:lnTo>
                      <a:lnTo>
                        <a:pt x="394" y="598"/>
                      </a:lnTo>
                      <a:lnTo>
                        <a:pt x="403" y="610"/>
                      </a:lnTo>
                      <a:lnTo>
                        <a:pt x="413" y="622"/>
                      </a:lnTo>
                      <a:lnTo>
                        <a:pt x="421" y="632"/>
                      </a:lnTo>
                      <a:lnTo>
                        <a:pt x="429" y="640"/>
                      </a:lnTo>
                      <a:lnTo>
                        <a:pt x="436" y="646"/>
                      </a:lnTo>
                      <a:lnTo>
                        <a:pt x="444" y="648"/>
                      </a:lnTo>
                      <a:lnTo>
                        <a:pt x="453" y="647"/>
                      </a:lnTo>
                      <a:lnTo>
                        <a:pt x="462" y="642"/>
                      </a:lnTo>
                      <a:lnTo>
                        <a:pt x="472" y="632"/>
                      </a:lnTo>
                      <a:lnTo>
                        <a:pt x="484" y="618"/>
                      </a:lnTo>
                      <a:lnTo>
                        <a:pt x="497" y="598"/>
                      </a:lnTo>
                      <a:lnTo>
                        <a:pt x="512" y="573"/>
                      </a:lnTo>
                      <a:lnTo>
                        <a:pt x="528" y="541"/>
                      </a:lnTo>
                      <a:lnTo>
                        <a:pt x="547" y="503"/>
                      </a:lnTo>
                      <a:lnTo>
                        <a:pt x="557" y="485"/>
                      </a:lnTo>
                      <a:lnTo>
                        <a:pt x="568" y="465"/>
                      </a:lnTo>
                      <a:lnTo>
                        <a:pt x="581" y="447"/>
                      </a:lnTo>
                      <a:lnTo>
                        <a:pt x="593" y="428"/>
                      </a:lnTo>
                      <a:lnTo>
                        <a:pt x="606" y="409"/>
                      </a:lnTo>
                      <a:lnTo>
                        <a:pt x="617" y="390"/>
                      </a:lnTo>
                      <a:lnTo>
                        <a:pt x="627" y="371"/>
                      </a:lnTo>
                      <a:lnTo>
                        <a:pt x="635" y="352"/>
                      </a:lnTo>
                      <a:lnTo>
                        <a:pt x="640" y="339"/>
                      </a:lnTo>
                      <a:lnTo>
                        <a:pt x="645" y="325"/>
                      </a:lnTo>
                      <a:lnTo>
                        <a:pt x="650" y="311"/>
                      </a:lnTo>
                      <a:lnTo>
                        <a:pt x="655" y="297"/>
                      </a:lnTo>
                      <a:lnTo>
                        <a:pt x="660" y="283"/>
                      </a:lnTo>
                      <a:lnTo>
                        <a:pt x="666" y="268"/>
                      </a:lnTo>
                      <a:lnTo>
                        <a:pt x="672" y="254"/>
                      </a:lnTo>
                      <a:lnTo>
                        <a:pt x="677" y="239"/>
                      </a:lnTo>
                      <a:lnTo>
                        <a:pt x="683" y="224"/>
                      </a:lnTo>
                      <a:lnTo>
                        <a:pt x="689" y="210"/>
                      </a:lnTo>
                      <a:lnTo>
                        <a:pt x="694" y="195"/>
                      </a:lnTo>
                      <a:lnTo>
                        <a:pt x="700" y="181"/>
                      </a:lnTo>
                      <a:lnTo>
                        <a:pt x="705" y="167"/>
                      </a:lnTo>
                      <a:lnTo>
                        <a:pt x="710" y="153"/>
                      </a:lnTo>
                      <a:lnTo>
                        <a:pt x="714" y="139"/>
                      </a:lnTo>
                      <a:lnTo>
                        <a:pt x="719" y="126"/>
                      </a:lnTo>
                      <a:lnTo>
                        <a:pt x="723" y="114"/>
                      </a:lnTo>
                      <a:lnTo>
                        <a:pt x="729" y="100"/>
                      </a:lnTo>
                      <a:lnTo>
                        <a:pt x="735" y="84"/>
                      </a:lnTo>
                      <a:lnTo>
                        <a:pt x="740" y="69"/>
                      </a:lnTo>
                      <a:lnTo>
                        <a:pt x="744" y="53"/>
                      </a:lnTo>
                      <a:lnTo>
                        <a:pt x="747" y="38"/>
                      </a:lnTo>
                      <a:lnTo>
                        <a:pt x="748" y="23"/>
                      </a:lnTo>
                      <a:lnTo>
                        <a:pt x="746" y="10"/>
                      </a:lnTo>
                    </a:path>
                  </a:pathLst>
                </a:cu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3" name=""/>
              <p:cNvSpPr/>
              <p:nvPr/>
            </p:nvSpPr>
            <p:spPr>
              <a:xfrm>
                <a:off x="7419600" y="4784760"/>
                <a:ext cx="65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Graduat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"/>
            <p:cNvSpPr/>
            <p:nvPr/>
          </p:nvSpPr>
          <p:spPr>
            <a:xfrm>
              <a:off x="7545240" y="3422520"/>
              <a:ext cx="432000" cy="470160"/>
            </a:xfrm>
            <a:prstGeom prst="downArrow">
              <a:avLst>
                <a:gd name="adj1" fmla="val 50000"/>
                <a:gd name="adj2" fmla="val 50738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458640" y="3274560"/>
            <a:ext cx="3746520" cy="3234240"/>
            <a:chOff x="458640" y="3274560"/>
            <a:chExt cx="3746520" cy="3234240"/>
          </a:xfrm>
        </p:grpSpPr>
        <p:sp>
          <p:nvSpPr>
            <p:cNvPr id="696" name=""/>
            <p:cNvSpPr/>
            <p:nvPr/>
          </p:nvSpPr>
          <p:spPr>
            <a:xfrm flipV="1" rot="18469800">
              <a:off x="2732040" y="3396240"/>
              <a:ext cx="533520" cy="457200"/>
            </a:xfrm>
            <a:prstGeom prst="rightArrow">
              <a:avLst>
                <a:gd name="adj1" fmla="val 48019"/>
                <a:gd name="adj2" fmla="val 47871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458640" y="3968640"/>
              <a:ext cx="3746520" cy="2540160"/>
              <a:chOff x="458640" y="3968640"/>
              <a:chExt cx="3746520" cy="2540160"/>
            </a:xfrm>
          </p:grpSpPr>
          <p:sp>
            <p:nvSpPr>
              <p:cNvPr id="698" name=""/>
              <p:cNvSpPr/>
              <p:nvPr/>
            </p:nvSpPr>
            <p:spPr>
              <a:xfrm>
                <a:off x="458640" y="3968640"/>
                <a:ext cx="3746520" cy="254016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e1e1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9" name=""/>
              <p:cNvGrpSpPr/>
              <p:nvPr/>
            </p:nvGrpSpPr>
            <p:grpSpPr>
              <a:xfrm>
                <a:off x="560520" y="4502160"/>
                <a:ext cx="1295280" cy="1065960"/>
                <a:chOff x="560520" y="4502160"/>
                <a:chExt cx="1295280" cy="1065960"/>
              </a:xfrm>
            </p:grpSpPr>
            <p:pic>
              <p:nvPicPr>
                <p:cNvPr id="70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60520" y="4502160"/>
                  <a:ext cx="1295280" cy="863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1" name=""/>
                <p:cNvSpPr/>
                <p:nvPr/>
              </p:nvSpPr>
              <p:spPr>
                <a:xfrm>
                  <a:off x="850320" y="5337000"/>
                  <a:ext cx="4168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Staff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2085480" y="5492880"/>
                <a:ext cx="603720" cy="980280"/>
                <a:chOff x="2085480" y="5492880"/>
                <a:chExt cx="603720" cy="980280"/>
              </a:xfrm>
            </p:grpSpPr>
            <p:grpSp>
              <p:nvGrpSpPr>
                <p:cNvPr id="703" name=""/>
                <p:cNvGrpSpPr/>
                <p:nvPr/>
              </p:nvGrpSpPr>
              <p:grpSpPr>
                <a:xfrm>
                  <a:off x="2094120" y="5492880"/>
                  <a:ext cx="595080" cy="752400"/>
                  <a:chOff x="2094120" y="5492880"/>
                  <a:chExt cx="595080" cy="75240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>
                    <a:off x="2169720" y="5598360"/>
                    <a:ext cx="113760" cy="22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01" h="3517">
                        <a:moveTo>
                          <a:pt x="23" y="3517"/>
                        </a:moveTo>
                        <a:lnTo>
                          <a:pt x="0" y="0"/>
                        </a:lnTo>
                        <a:lnTo>
                          <a:pt x="9" y="75"/>
                        </a:lnTo>
                        <a:lnTo>
                          <a:pt x="46" y="140"/>
                        </a:lnTo>
                        <a:lnTo>
                          <a:pt x="89" y="198"/>
                        </a:lnTo>
                        <a:lnTo>
                          <a:pt x="166" y="268"/>
                        </a:lnTo>
                        <a:lnTo>
                          <a:pt x="252" y="320"/>
                        </a:lnTo>
                        <a:lnTo>
                          <a:pt x="357" y="366"/>
                        </a:lnTo>
                        <a:lnTo>
                          <a:pt x="477" y="406"/>
                        </a:lnTo>
                        <a:lnTo>
                          <a:pt x="615" y="447"/>
                        </a:lnTo>
                        <a:lnTo>
                          <a:pt x="754" y="470"/>
                        </a:lnTo>
                        <a:lnTo>
                          <a:pt x="910" y="488"/>
                        </a:lnTo>
                        <a:lnTo>
                          <a:pt x="1068" y="492"/>
                        </a:lnTo>
                        <a:lnTo>
                          <a:pt x="1227" y="488"/>
                        </a:lnTo>
                        <a:lnTo>
                          <a:pt x="1375" y="477"/>
                        </a:lnTo>
                        <a:lnTo>
                          <a:pt x="1520" y="454"/>
                        </a:lnTo>
                        <a:lnTo>
                          <a:pt x="1663" y="431"/>
                        </a:lnTo>
                        <a:lnTo>
                          <a:pt x="1787" y="382"/>
                        </a:lnTo>
                        <a:lnTo>
                          <a:pt x="1901" y="343"/>
                        </a:lnTo>
                        <a:lnTo>
                          <a:pt x="1998" y="295"/>
                        </a:lnTo>
                        <a:lnTo>
                          <a:pt x="2086" y="232"/>
                        </a:lnTo>
                        <a:lnTo>
                          <a:pt x="2144" y="171"/>
                        </a:lnTo>
                        <a:lnTo>
                          <a:pt x="2178" y="106"/>
                        </a:lnTo>
                        <a:lnTo>
                          <a:pt x="2201" y="34"/>
                        </a:lnTo>
                        <a:lnTo>
                          <a:pt x="2201" y="0"/>
                        </a:lnTo>
                        <a:lnTo>
                          <a:pt x="2201" y="3517"/>
                        </a:lnTo>
                        <a:lnTo>
                          <a:pt x="23" y="351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2300040" y="5511240"/>
                    <a:ext cx="113760" cy="22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0" h="3524">
                        <a:moveTo>
                          <a:pt x="23" y="3524"/>
                        </a:moveTo>
                        <a:lnTo>
                          <a:pt x="0" y="0"/>
                        </a:lnTo>
                        <a:lnTo>
                          <a:pt x="11" y="75"/>
                        </a:lnTo>
                        <a:lnTo>
                          <a:pt x="45" y="143"/>
                        </a:lnTo>
                        <a:lnTo>
                          <a:pt x="89" y="201"/>
                        </a:lnTo>
                        <a:lnTo>
                          <a:pt x="162" y="271"/>
                        </a:lnTo>
                        <a:lnTo>
                          <a:pt x="250" y="322"/>
                        </a:lnTo>
                        <a:lnTo>
                          <a:pt x="356" y="377"/>
                        </a:lnTo>
                        <a:lnTo>
                          <a:pt x="479" y="417"/>
                        </a:lnTo>
                        <a:lnTo>
                          <a:pt x="618" y="454"/>
                        </a:lnTo>
                        <a:lnTo>
                          <a:pt x="753" y="478"/>
                        </a:lnTo>
                        <a:lnTo>
                          <a:pt x="909" y="495"/>
                        </a:lnTo>
                        <a:lnTo>
                          <a:pt x="1066" y="497"/>
                        </a:lnTo>
                        <a:lnTo>
                          <a:pt x="1225" y="495"/>
                        </a:lnTo>
                        <a:lnTo>
                          <a:pt x="1370" y="485"/>
                        </a:lnTo>
                        <a:lnTo>
                          <a:pt x="1519" y="465"/>
                        </a:lnTo>
                        <a:lnTo>
                          <a:pt x="1660" y="435"/>
                        </a:lnTo>
                        <a:lnTo>
                          <a:pt x="1789" y="390"/>
                        </a:lnTo>
                        <a:lnTo>
                          <a:pt x="1900" y="350"/>
                        </a:lnTo>
                        <a:lnTo>
                          <a:pt x="2000" y="298"/>
                        </a:lnTo>
                        <a:lnTo>
                          <a:pt x="2085" y="234"/>
                        </a:lnTo>
                        <a:lnTo>
                          <a:pt x="2143" y="174"/>
                        </a:lnTo>
                        <a:lnTo>
                          <a:pt x="2177" y="109"/>
                        </a:lnTo>
                        <a:lnTo>
                          <a:pt x="2200" y="38"/>
                        </a:lnTo>
                        <a:lnTo>
                          <a:pt x="2200" y="0"/>
                        </a:lnTo>
                        <a:lnTo>
                          <a:pt x="2200" y="3524"/>
                        </a:lnTo>
                        <a:lnTo>
                          <a:pt x="23" y="352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2430720" y="5554440"/>
                    <a:ext cx="113760" cy="22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97" h="3514">
                        <a:moveTo>
                          <a:pt x="24" y="3514"/>
                        </a:moveTo>
                        <a:lnTo>
                          <a:pt x="0" y="0"/>
                        </a:lnTo>
                        <a:lnTo>
                          <a:pt x="11" y="74"/>
                        </a:lnTo>
                        <a:lnTo>
                          <a:pt x="45" y="134"/>
                        </a:lnTo>
                        <a:lnTo>
                          <a:pt x="89" y="195"/>
                        </a:lnTo>
                        <a:lnTo>
                          <a:pt x="166" y="263"/>
                        </a:lnTo>
                        <a:lnTo>
                          <a:pt x="254" y="321"/>
                        </a:lnTo>
                        <a:lnTo>
                          <a:pt x="356" y="368"/>
                        </a:lnTo>
                        <a:lnTo>
                          <a:pt x="476" y="410"/>
                        </a:lnTo>
                        <a:lnTo>
                          <a:pt x="619" y="449"/>
                        </a:lnTo>
                        <a:lnTo>
                          <a:pt x="757" y="472"/>
                        </a:lnTo>
                        <a:lnTo>
                          <a:pt x="911" y="490"/>
                        </a:lnTo>
                        <a:lnTo>
                          <a:pt x="1068" y="490"/>
                        </a:lnTo>
                        <a:lnTo>
                          <a:pt x="1225" y="490"/>
                        </a:lnTo>
                        <a:lnTo>
                          <a:pt x="1370" y="479"/>
                        </a:lnTo>
                        <a:lnTo>
                          <a:pt x="1521" y="456"/>
                        </a:lnTo>
                        <a:lnTo>
                          <a:pt x="1658" y="426"/>
                        </a:lnTo>
                        <a:lnTo>
                          <a:pt x="1793" y="381"/>
                        </a:lnTo>
                        <a:lnTo>
                          <a:pt x="1904" y="340"/>
                        </a:lnTo>
                        <a:lnTo>
                          <a:pt x="2004" y="290"/>
                        </a:lnTo>
                        <a:lnTo>
                          <a:pt x="2082" y="226"/>
                        </a:lnTo>
                        <a:lnTo>
                          <a:pt x="2143" y="165"/>
                        </a:lnTo>
                        <a:lnTo>
                          <a:pt x="2177" y="100"/>
                        </a:lnTo>
                        <a:lnTo>
                          <a:pt x="2197" y="32"/>
                        </a:lnTo>
                        <a:lnTo>
                          <a:pt x="2197" y="0"/>
                        </a:lnTo>
                        <a:lnTo>
                          <a:pt x="2197" y="3514"/>
                        </a:lnTo>
                        <a:lnTo>
                          <a:pt x="24" y="351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2566080" y="5605560"/>
                    <a:ext cx="11376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99" h="3514">
                        <a:moveTo>
                          <a:pt x="27" y="3514"/>
                        </a:moveTo>
                        <a:lnTo>
                          <a:pt x="0" y="0"/>
                        </a:lnTo>
                        <a:lnTo>
                          <a:pt x="15" y="73"/>
                        </a:lnTo>
                        <a:lnTo>
                          <a:pt x="51" y="142"/>
                        </a:lnTo>
                        <a:lnTo>
                          <a:pt x="92" y="195"/>
                        </a:lnTo>
                        <a:lnTo>
                          <a:pt x="169" y="263"/>
                        </a:lnTo>
                        <a:lnTo>
                          <a:pt x="257" y="321"/>
                        </a:lnTo>
                        <a:lnTo>
                          <a:pt x="357" y="367"/>
                        </a:lnTo>
                        <a:lnTo>
                          <a:pt x="483" y="410"/>
                        </a:lnTo>
                        <a:lnTo>
                          <a:pt x="621" y="445"/>
                        </a:lnTo>
                        <a:lnTo>
                          <a:pt x="759" y="470"/>
                        </a:lnTo>
                        <a:lnTo>
                          <a:pt x="913" y="487"/>
                        </a:lnTo>
                        <a:lnTo>
                          <a:pt x="1070" y="494"/>
                        </a:lnTo>
                        <a:lnTo>
                          <a:pt x="1228" y="487"/>
                        </a:lnTo>
                        <a:lnTo>
                          <a:pt x="1377" y="476"/>
                        </a:lnTo>
                        <a:lnTo>
                          <a:pt x="1528" y="456"/>
                        </a:lnTo>
                        <a:lnTo>
                          <a:pt x="1662" y="426"/>
                        </a:lnTo>
                        <a:lnTo>
                          <a:pt x="1788" y="382"/>
                        </a:lnTo>
                        <a:lnTo>
                          <a:pt x="1903" y="340"/>
                        </a:lnTo>
                        <a:lnTo>
                          <a:pt x="2000" y="287"/>
                        </a:lnTo>
                        <a:lnTo>
                          <a:pt x="2088" y="233"/>
                        </a:lnTo>
                        <a:lnTo>
                          <a:pt x="2145" y="168"/>
                        </a:lnTo>
                        <a:lnTo>
                          <a:pt x="2180" y="104"/>
                        </a:lnTo>
                        <a:lnTo>
                          <a:pt x="2199" y="34"/>
                        </a:lnTo>
                        <a:lnTo>
                          <a:pt x="2199" y="0"/>
                        </a:lnTo>
                        <a:lnTo>
                          <a:pt x="2199" y="3514"/>
                        </a:lnTo>
                        <a:lnTo>
                          <a:pt x="27" y="351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2094120" y="5586840"/>
                    <a:ext cx="198720" cy="65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831" h="10170">
                        <a:moveTo>
                          <a:pt x="0" y="6000"/>
                        </a:moveTo>
                        <a:lnTo>
                          <a:pt x="1309" y="0"/>
                        </a:lnTo>
                        <a:lnTo>
                          <a:pt x="1490" y="0"/>
                        </a:lnTo>
                        <a:lnTo>
                          <a:pt x="1481" y="3143"/>
                        </a:lnTo>
                        <a:lnTo>
                          <a:pt x="1481" y="3215"/>
                        </a:lnTo>
                        <a:lnTo>
                          <a:pt x="1513" y="3282"/>
                        </a:lnTo>
                        <a:lnTo>
                          <a:pt x="1562" y="3353"/>
                        </a:lnTo>
                        <a:lnTo>
                          <a:pt x="1636" y="3411"/>
                        </a:lnTo>
                        <a:lnTo>
                          <a:pt x="1731" y="3461"/>
                        </a:lnTo>
                        <a:lnTo>
                          <a:pt x="1821" y="3515"/>
                        </a:lnTo>
                        <a:lnTo>
                          <a:pt x="1946" y="3552"/>
                        </a:lnTo>
                        <a:lnTo>
                          <a:pt x="2082" y="3594"/>
                        </a:lnTo>
                        <a:lnTo>
                          <a:pt x="2223" y="3618"/>
                        </a:lnTo>
                        <a:lnTo>
                          <a:pt x="2368" y="3634"/>
                        </a:lnTo>
                        <a:lnTo>
                          <a:pt x="2519" y="3641"/>
                        </a:lnTo>
                        <a:lnTo>
                          <a:pt x="2681" y="3641"/>
                        </a:lnTo>
                        <a:lnTo>
                          <a:pt x="2819" y="3625"/>
                        </a:lnTo>
                        <a:lnTo>
                          <a:pt x="2964" y="3603"/>
                        </a:lnTo>
                        <a:lnTo>
                          <a:pt x="3107" y="3575"/>
                        </a:lnTo>
                        <a:lnTo>
                          <a:pt x="3225" y="3540"/>
                        </a:lnTo>
                        <a:lnTo>
                          <a:pt x="3340" y="3488"/>
                        </a:lnTo>
                        <a:lnTo>
                          <a:pt x="3447" y="3434"/>
                        </a:lnTo>
                        <a:lnTo>
                          <a:pt x="3521" y="3377"/>
                        </a:lnTo>
                        <a:lnTo>
                          <a:pt x="3579" y="3312"/>
                        </a:lnTo>
                        <a:lnTo>
                          <a:pt x="3618" y="3246"/>
                        </a:lnTo>
                        <a:lnTo>
                          <a:pt x="3633" y="3174"/>
                        </a:lnTo>
                        <a:lnTo>
                          <a:pt x="3643" y="3143"/>
                        </a:lnTo>
                        <a:lnTo>
                          <a:pt x="3643" y="0"/>
                        </a:lnTo>
                        <a:lnTo>
                          <a:pt x="3831" y="0"/>
                        </a:lnTo>
                        <a:lnTo>
                          <a:pt x="3831" y="3793"/>
                        </a:lnTo>
                        <a:lnTo>
                          <a:pt x="2556" y="9655"/>
                        </a:lnTo>
                        <a:lnTo>
                          <a:pt x="2499" y="9746"/>
                        </a:lnTo>
                        <a:lnTo>
                          <a:pt x="2445" y="9821"/>
                        </a:lnTo>
                        <a:lnTo>
                          <a:pt x="2368" y="9891"/>
                        </a:lnTo>
                        <a:lnTo>
                          <a:pt x="2280" y="9952"/>
                        </a:lnTo>
                        <a:lnTo>
                          <a:pt x="2159" y="10006"/>
                        </a:lnTo>
                        <a:lnTo>
                          <a:pt x="2034" y="10058"/>
                        </a:lnTo>
                        <a:lnTo>
                          <a:pt x="1896" y="10098"/>
                        </a:lnTo>
                        <a:lnTo>
                          <a:pt x="1744" y="10129"/>
                        </a:lnTo>
                        <a:lnTo>
                          <a:pt x="1590" y="10156"/>
                        </a:lnTo>
                        <a:lnTo>
                          <a:pt x="1424" y="10166"/>
                        </a:lnTo>
                        <a:lnTo>
                          <a:pt x="1259" y="10170"/>
                        </a:lnTo>
                        <a:lnTo>
                          <a:pt x="1091" y="10166"/>
                        </a:lnTo>
                        <a:lnTo>
                          <a:pt x="925" y="10147"/>
                        </a:lnTo>
                        <a:lnTo>
                          <a:pt x="769" y="10123"/>
                        </a:lnTo>
                        <a:lnTo>
                          <a:pt x="618" y="10088"/>
                        </a:lnTo>
                        <a:lnTo>
                          <a:pt x="483" y="10054"/>
                        </a:lnTo>
                        <a:lnTo>
                          <a:pt x="358" y="9997"/>
                        </a:lnTo>
                        <a:lnTo>
                          <a:pt x="250" y="9943"/>
                        </a:lnTo>
                        <a:lnTo>
                          <a:pt x="159" y="9875"/>
                        </a:lnTo>
                        <a:lnTo>
                          <a:pt x="84" y="9811"/>
                        </a:lnTo>
                        <a:lnTo>
                          <a:pt x="38" y="9737"/>
                        </a:lnTo>
                        <a:lnTo>
                          <a:pt x="4" y="9703"/>
                        </a:lnTo>
                        <a:lnTo>
                          <a:pt x="0" y="6000"/>
                        </a:lnTo>
                        <a:close/>
                      </a:path>
                    </a:pathLst>
                  </a:custGeom>
                  <a:solidFill>
                    <a:srgbClr val="70230c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2292840" y="5492880"/>
                    <a:ext cx="396360" cy="752400"/>
                  </a:xfrm>
                  <a:custGeom>
                    <a:avLst/>
                    <a:gdLst/>
                    <a:ahLst/>
                    <a:rect l="l" t="t" r="r" b="b"/>
                    <a:pathLst>
                      <a:path w="7652" h="11636">
                        <a:moveTo>
                          <a:pt x="7473" y="4604"/>
                        </a:moveTo>
                        <a:lnTo>
                          <a:pt x="7473" y="4617"/>
                        </a:lnTo>
                        <a:lnTo>
                          <a:pt x="7457" y="4692"/>
                        </a:lnTo>
                        <a:lnTo>
                          <a:pt x="7415" y="4758"/>
                        </a:lnTo>
                        <a:lnTo>
                          <a:pt x="7351" y="4823"/>
                        </a:lnTo>
                        <a:lnTo>
                          <a:pt x="7285" y="4884"/>
                        </a:lnTo>
                        <a:lnTo>
                          <a:pt x="7185" y="4944"/>
                        </a:lnTo>
                        <a:lnTo>
                          <a:pt x="7072" y="4995"/>
                        </a:lnTo>
                        <a:lnTo>
                          <a:pt x="6943" y="5026"/>
                        </a:lnTo>
                        <a:lnTo>
                          <a:pt x="6812" y="5067"/>
                        </a:lnTo>
                        <a:lnTo>
                          <a:pt x="6670" y="5087"/>
                        </a:lnTo>
                        <a:lnTo>
                          <a:pt x="6516" y="5101"/>
                        </a:lnTo>
                        <a:lnTo>
                          <a:pt x="6356" y="5101"/>
                        </a:lnTo>
                        <a:lnTo>
                          <a:pt x="6201" y="5098"/>
                        </a:lnTo>
                        <a:lnTo>
                          <a:pt x="6052" y="5080"/>
                        </a:lnTo>
                        <a:lnTo>
                          <a:pt x="5905" y="5053"/>
                        </a:lnTo>
                        <a:lnTo>
                          <a:pt x="5776" y="5021"/>
                        </a:lnTo>
                        <a:lnTo>
                          <a:pt x="5655" y="4971"/>
                        </a:lnTo>
                        <a:lnTo>
                          <a:pt x="5548" y="4932"/>
                        </a:lnTo>
                        <a:lnTo>
                          <a:pt x="5453" y="4864"/>
                        </a:lnTo>
                        <a:lnTo>
                          <a:pt x="5388" y="4806"/>
                        </a:lnTo>
                        <a:lnTo>
                          <a:pt x="5335" y="4742"/>
                        </a:lnTo>
                        <a:lnTo>
                          <a:pt x="5304" y="4670"/>
                        </a:lnTo>
                        <a:lnTo>
                          <a:pt x="5295" y="4604"/>
                        </a:lnTo>
                        <a:lnTo>
                          <a:pt x="5277" y="4447"/>
                        </a:lnTo>
                        <a:lnTo>
                          <a:pt x="5277" y="1446"/>
                        </a:lnTo>
                        <a:lnTo>
                          <a:pt x="5099" y="1446"/>
                        </a:lnTo>
                        <a:lnTo>
                          <a:pt x="5099" y="749"/>
                        </a:lnTo>
                        <a:lnTo>
                          <a:pt x="4913" y="749"/>
                        </a:lnTo>
                        <a:lnTo>
                          <a:pt x="4913" y="3792"/>
                        </a:lnTo>
                        <a:lnTo>
                          <a:pt x="4911" y="3882"/>
                        </a:lnTo>
                        <a:lnTo>
                          <a:pt x="4911" y="3912"/>
                        </a:lnTo>
                        <a:lnTo>
                          <a:pt x="4889" y="3980"/>
                        </a:lnTo>
                        <a:lnTo>
                          <a:pt x="4854" y="4045"/>
                        </a:lnTo>
                        <a:lnTo>
                          <a:pt x="4796" y="4109"/>
                        </a:lnTo>
                        <a:lnTo>
                          <a:pt x="4719" y="4172"/>
                        </a:lnTo>
                        <a:lnTo>
                          <a:pt x="4612" y="4221"/>
                        </a:lnTo>
                        <a:lnTo>
                          <a:pt x="4505" y="4268"/>
                        </a:lnTo>
                        <a:lnTo>
                          <a:pt x="4371" y="4309"/>
                        </a:lnTo>
                        <a:lnTo>
                          <a:pt x="4236" y="4332"/>
                        </a:lnTo>
                        <a:lnTo>
                          <a:pt x="4083" y="4359"/>
                        </a:lnTo>
                        <a:lnTo>
                          <a:pt x="3925" y="4370"/>
                        </a:lnTo>
                        <a:lnTo>
                          <a:pt x="3780" y="4370"/>
                        </a:lnTo>
                        <a:lnTo>
                          <a:pt x="3621" y="4367"/>
                        </a:lnTo>
                        <a:lnTo>
                          <a:pt x="3471" y="4352"/>
                        </a:lnTo>
                        <a:lnTo>
                          <a:pt x="3333" y="4318"/>
                        </a:lnTo>
                        <a:lnTo>
                          <a:pt x="3190" y="4291"/>
                        </a:lnTo>
                        <a:lnTo>
                          <a:pt x="3065" y="4252"/>
                        </a:lnTo>
                        <a:lnTo>
                          <a:pt x="2965" y="4195"/>
                        </a:lnTo>
                        <a:lnTo>
                          <a:pt x="2880" y="4142"/>
                        </a:lnTo>
                        <a:lnTo>
                          <a:pt x="2803" y="4082"/>
                        </a:lnTo>
                        <a:lnTo>
                          <a:pt x="2750" y="4018"/>
                        </a:lnTo>
                        <a:lnTo>
                          <a:pt x="2722" y="3946"/>
                        </a:lnTo>
                        <a:lnTo>
                          <a:pt x="2715" y="3882"/>
                        </a:lnTo>
                        <a:lnTo>
                          <a:pt x="2732" y="3792"/>
                        </a:lnTo>
                        <a:lnTo>
                          <a:pt x="2732" y="749"/>
                        </a:lnTo>
                        <a:lnTo>
                          <a:pt x="2553" y="749"/>
                        </a:lnTo>
                        <a:lnTo>
                          <a:pt x="2553" y="0"/>
                        </a:lnTo>
                        <a:lnTo>
                          <a:pt x="2363" y="0"/>
                        </a:lnTo>
                        <a:lnTo>
                          <a:pt x="2363" y="3043"/>
                        </a:lnTo>
                        <a:lnTo>
                          <a:pt x="2367" y="3161"/>
                        </a:lnTo>
                        <a:lnTo>
                          <a:pt x="2363" y="3192"/>
                        </a:lnTo>
                        <a:lnTo>
                          <a:pt x="2344" y="3265"/>
                        </a:lnTo>
                        <a:lnTo>
                          <a:pt x="2310" y="3330"/>
                        </a:lnTo>
                        <a:lnTo>
                          <a:pt x="2251" y="3392"/>
                        </a:lnTo>
                        <a:lnTo>
                          <a:pt x="2169" y="3453"/>
                        </a:lnTo>
                        <a:lnTo>
                          <a:pt x="2067" y="3506"/>
                        </a:lnTo>
                        <a:lnTo>
                          <a:pt x="1956" y="3544"/>
                        </a:lnTo>
                        <a:lnTo>
                          <a:pt x="1825" y="3591"/>
                        </a:lnTo>
                        <a:lnTo>
                          <a:pt x="1690" y="3621"/>
                        </a:lnTo>
                        <a:lnTo>
                          <a:pt x="1537" y="3639"/>
                        </a:lnTo>
                        <a:lnTo>
                          <a:pt x="1390" y="3651"/>
                        </a:lnTo>
                        <a:lnTo>
                          <a:pt x="1230" y="3655"/>
                        </a:lnTo>
                        <a:lnTo>
                          <a:pt x="1076" y="3651"/>
                        </a:lnTo>
                        <a:lnTo>
                          <a:pt x="927" y="3635"/>
                        </a:lnTo>
                        <a:lnTo>
                          <a:pt x="784" y="3612"/>
                        </a:lnTo>
                        <a:lnTo>
                          <a:pt x="650" y="3571"/>
                        </a:lnTo>
                        <a:lnTo>
                          <a:pt x="526" y="3530"/>
                        </a:lnTo>
                        <a:lnTo>
                          <a:pt x="415" y="3483"/>
                        </a:lnTo>
                        <a:lnTo>
                          <a:pt x="328" y="3429"/>
                        </a:lnTo>
                        <a:lnTo>
                          <a:pt x="251" y="3353"/>
                        </a:lnTo>
                        <a:lnTo>
                          <a:pt x="205" y="3299"/>
                        </a:lnTo>
                        <a:lnTo>
                          <a:pt x="174" y="3233"/>
                        </a:lnTo>
                        <a:lnTo>
                          <a:pt x="173" y="3161"/>
                        </a:lnTo>
                        <a:lnTo>
                          <a:pt x="173" y="27"/>
                        </a:lnTo>
                        <a:lnTo>
                          <a:pt x="0" y="27"/>
                        </a:lnTo>
                        <a:lnTo>
                          <a:pt x="0" y="11053"/>
                        </a:lnTo>
                        <a:lnTo>
                          <a:pt x="0" y="11125"/>
                        </a:lnTo>
                        <a:lnTo>
                          <a:pt x="35" y="11199"/>
                        </a:lnTo>
                        <a:lnTo>
                          <a:pt x="81" y="11271"/>
                        </a:lnTo>
                        <a:lnTo>
                          <a:pt x="151" y="11341"/>
                        </a:lnTo>
                        <a:lnTo>
                          <a:pt x="243" y="11402"/>
                        </a:lnTo>
                        <a:lnTo>
                          <a:pt x="354" y="11459"/>
                        </a:lnTo>
                        <a:lnTo>
                          <a:pt x="480" y="11513"/>
                        </a:lnTo>
                        <a:lnTo>
                          <a:pt x="614" y="11559"/>
                        </a:lnTo>
                        <a:lnTo>
                          <a:pt x="766" y="11585"/>
                        </a:lnTo>
                        <a:lnTo>
                          <a:pt x="923" y="11612"/>
                        </a:lnTo>
                        <a:lnTo>
                          <a:pt x="1086" y="11632"/>
                        </a:lnTo>
                        <a:lnTo>
                          <a:pt x="1258" y="11636"/>
                        </a:lnTo>
                        <a:lnTo>
                          <a:pt x="1421" y="11632"/>
                        </a:lnTo>
                        <a:lnTo>
                          <a:pt x="1582" y="11616"/>
                        </a:lnTo>
                        <a:lnTo>
                          <a:pt x="1748" y="11593"/>
                        </a:lnTo>
                        <a:lnTo>
                          <a:pt x="1893" y="11562"/>
                        </a:lnTo>
                        <a:lnTo>
                          <a:pt x="2036" y="11524"/>
                        </a:lnTo>
                        <a:lnTo>
                          <a:pt x="2162" y="11473"/>
                        </a:lnTo>
                        <a:lnTo>
                          <a:pt x="2277" y="11423"/>
                        </a:lnTo>
                        <a:lnTo>
                          <a:pt x="2367" y="11348"/>
                        </a:lnTo>
                        <a:lnTo>
                          <a:pt x="2442" y="11283"/>
                        </a:lnTo>
                        <a:lnTo>
                          <a:pt x="2492" y="11210"/>
                        </a:lnTo>
                        <a:lnTo>
                          <a:pt x="2577" y="11199"/>
                        </a:lnTo>
                        <a:lnTo>
                          <a:pt x="2630" y="11271"/>
                        </a:lnTo>
                        <a:lnTo>
                          <a:pt x="2700" y="11341"/>
                        </a:lnTo>
                        <a:lnTo>
                          <a:pt x="2793" y="11402"/>
                        </a:lnTo>
                        <a:lnTo>
                          <a:pt x="2900" y="11459"/>
                        </a:lnTo>
                        <a:lnTo>
                          <a:pt x="3026" y="11513"/>
                        </a:lnTo>
                        <a:lnTo>
                          <a:pt x="3167" y="11559"/>
                        </a:lnTo>
                        <a:lnTo>
                          <a:pt x="3311" y="11585"/>
                        </a:lnTo>
                        <a:lnTo>
                          <a:pt x="3471" y="11612"/>
                        </a:lnTo>
                        <a:lnTo>
                          <a:pt x="3629" y="11632"/>
                        </a:lnTo>
                        <a:lnTo>
                          <a:pt x="3794" y="11636"/>
                        </a:lnTo>
                        <a:lnTo>
                          <a:pt x="3966" y="11632"/>
                        </a:lnTo>
                        <a:lnTo>
                          <a:pt x="4128" y="11616"/>
                        </a:lnTo>
                        <a:lnTo>
                          <a:pt x="4290" y="11593"/>
                        </a:lnTo>
                        <a:lnTo>
                          <a:pt x="4439" y="11562"/>
                        </a:lnTo>
                        <a:lnTo>
                          <a:pt x="4580" y="11524"/>
                        </a:lnTo>
                        <a:lnTo>
                          <a:pt x="4700" y="11473"/>
                        </a:lnTo>
                        <a:lnTo>
                          <a:pt x="4819" y="11423"/>
                        </a:lnTo>
                        <a:lnTo>
                          <a:pt x="4911" y="11348"/>
                        </a:lnTo>
                        <a:lnTo>
                          <a:pt x="4991" y="11283"/>
                        </a:lnTo>
                        <a:lnTo>
                          <a:pt x="5042" y="11210"/>
                        </a:lnTo>
                        <a:lnTo>
                          <a:pt x="5122" y="11199"/>
                        </a:lnTo>
                        <a:lnTo>
                          <a:pt x="5176" y="11271"/>
                        </a:lnTo>
                        <a:lnTo>
                          <a:pt x="5238" y="11341"/>
                        </a:lnTo>
                        <a:lnTo>
                          <a:pt x="5335" y="11402"/>
                        </a:lnTo>
                        <a:lnTo>
                          <a:pt x="5446" y="11459"/>
                        </a:lnTo>
                        <a:lnTo>
                          <a:pt x="5575" y="11513"/>
                        </a:lnTo>
                        <a:lnTo>
                          <a:pt x="5714" y="11559"/>
                        </a:lnTo>
                        <a:lnTo>
                          <a:pt x="5854" y="11585"/>
                        </a:lnTo>
                        <a:lnTo>
                          <a:pt x="6013" y="11612"/>
                        </a:lnTo>
                        <a:lnTo>
                          <a:pt x="6171" y="11632"/>
                        </a:lnTo>
                        <a:lnTo>
                          <a:pt x="6347" y="11636"/>
                        </a:lnTo>
                        <a:lnTo>
                          <a:pt x="6516" y="11632"/>
                        </a:lnTo>
                        <a:lnTo>
                          <a:pt x="6680" y="11616"/>
                        </a:lnTo>
                        <a:lnTo>
                          <a:pt x="6839" y="11593"/>
                        </a:lnTo>
                        <a:lnTo>
                          <a:pt x="6993" y="11562"/>
                        </a:lnTo>
                        <a:lnTo>
                          <a:pt x="7128" y="11524"/>
                        </a:lnTo>
                        <a:lnTo>
                          <a:pt x="7250" y="11473"/>
                        </a:lnTo>
                        <a:lnTo>
                          <a:pt x="7365" y="11423"/>
                        </a:lnTo>
                        <a:lnTo>
                          <a:pt x="7457" y="11348"/>
                        </a:lnTo>
                        <a:lnTo>
                          <a:pt x="7530" y="11283"/>
                        </a:lnTo>
                        <a:lnTo>
                          <a:pt x="7587" y="11210"/>
                        </a:lnTo>
                        <a:lnTo>
                          <a:pt x="7621" y="11138"/>
                        </a:lnTo>
                        <a:lnTo>
                          <a:pt x="7634" y="11067"/>
                        </a:lnTo>
                        <a:lnTo>
                          <a:pt x="7634" y="11053"/>
                        </a:lnTo>
                        <a:lnTo>
                          <a:pt x="7652" y="10915"/>
                        </a:lnTo>
                        <a:lnTo>
                          <a:pt x="7652" y="1446"/>
                        </a:lnTo>
                        <a:lnTo>
                          <a:pt x="7473" y="1446"/>
                        </a:lnTo>
                        <a:lnTo>
                          <a:pt x="7473" y="4447"/>
                        </a:lnTo>
                        <a:lnTo>
                          <a:pt x="7473" y="4604"/>
                        </a:lnTo>
                        <a:close/>
                      </a:path>
                    </a:pathLst>
                  </a:custGeom>
                  <a:solidFill>
                    <a:srgbClr val="70230c"/>
                  </a:solidFill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0" name=""/>
                <p:cNvSpPr/>
                <p:nvPr/>
              </p:nvSpPr>
              <p:spPr>
                <a:xfrm>
                  <a:off x="2085480" y="6242040"/>
                  <a:ext cx="5695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Library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2743200" y="4800600"/>
                <a:ext cx="1224000" cy="770760"/>
                <a:chOff x="2743200" y="4800600"/>
                <a:chExt cx="1224000" cy="770760"/>
              </a:xfrm>
            </p:grpSpPr>
            <p:pic>
              <p:nvPicPr>
                <p:cNvPr id="71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743200" y="4800600"/>
                  <a:ext cx="1224000" cy="56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3" name=""/>
                <p:cNvSpPr/>
                <p:nvPr/>
              </p:nvSpPr>
              <p:spPr>
                <a:xfrm>
                  <a:off x="2803680" y="5340240"/>
                  <a:ext cx="1056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Physical Faciliti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1856160" y="4425840"/>
                <a:ext cx="817920" cy="1002600"/>
                <a:chOff x="1856160" y="4425840"/>
                <a:chExt cx="817920" cy="1002600"/>
              </a:xfrm>
            </p:grpSpPr>
            <p:grpSp>
              <p:nvGrpSpPr>
                <p:cNvPr id="715" name=""/>
                <p:cNvGrpSpPr/>
                <p:nvPr/>
              </p:nvGrpSpPr>
              <p:grpSpPr>
                <a:xfrm>
                  <a:off x="2020680" y="4425840"/>
                  <a:ext cx="488880" cy="694800"/>
                  <a:chOff x="2020680" y="4425840"/>
                  <a:chExt cx="488880" cy="694800"/>
                </a:xfrm>
              </p:grpSpPr>
              <p:sp>
                <p:nvSpPr>
                  <p:cNvPr id="716" name=""/>
                  <p:cNvSpPr/>
                  <p:nvPr/>
                </p:nvSpPr>
                <p:spPr>
                  <a:xfrm>
                    <a:off x="2248560" y="4577400"/>
                    <a:ext cx="202320" cy="46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07" h="3010">
                        <a:moveTo>
                          <a:pt x="707" y="1346"/>
                        </a:moveTo>
                        <a:lnTo>
                          <a:pt x="707" y="2408"/>
                        </a:lnTo>
                        <a:lnTo>
                          <a:pt x="494" y="3010"/>
                        </a:lnTo>
                        <a:lnTo>
                          <a:pt x="1307" y="3010"/>
                        </a:lnTo>
                        <a:lnTo>
                          <a:pt x="1307" y="462"/>
                        </a:lnTo>
                        <a:lnTo>
                          <a:pt x="458" y="0"/>
                        </a:lnTo>
                        <a:lnTo>
                          <a:pt x="0" y="920"/>
                        </a:lnTo>
                        <a:lnTo>
                          <a:pt x="707" y="1346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17" name=""/>
                  <p:cNvGrpSpPr/>
                  <p:nvPr/>
                </p:nvGrpSpPr>
                <p:grpSpPr>
                  <a:xfrm>
                    <a:off x="2057040" y="4778640"/>
                    <a:ext cx="300960" cy="250560"/>
                    <a:chOff x="2057040" y="4778640"/>
                    <a:chExt cx="300960" cy="250560"/>
                  </a:xfrm>
                </p:grpSpPr>
                <p:grpSp>
                  <p:nvGrpSpPr>
                    <p:cNvPr id="718" name=""/>
                    <p:cNvGrpSpPr/>
                    <p:nvPr/>
                  </p:nvGrpSpPr>
                  <p:grpSpPr>
                    <a:xfrm>
                      <a:off x="2057040" y="4835880"/>
                      <a:ext cx="196920" cy="193320"/>
                      <a:chOff x="2057040" y="4835880"/>
                      <a:chExt cx="196920" cy="193320"/>
                    </a:xfrm>
                  </p:grpSpPr>
                  <p:sp>
                    <p:nvSpPr>
                      <p:cNvPr id="719" name=""/>
                      <p:cNvSpPr/>
                      <p:nvPr/>
                    </p:nvSpPr>
                    <p:spPr>
                      <a:xfrm>
                        <a:off x="2057040" y="4835880"/>
                        <a:ext cx="196920" cy="19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0" h="1241">
                            <a:moveTo>
                              <a:pt x="42" y="574"/>
                            </a:moveTo>
                            <a:lnTo>
                              <a:pt x="669" y="889"/>
                            </a:lnTo>
                            <a:lnTo>
                              <a:pt x="635" y="956"/>
                            </a:lnTo>
                            <a:lnTo>
                              <a:pt x="740" y="1100"/>
                            </a:lnTo>
                            <a:lnTo>
                              <a:pt x="954" y="639"/>
                            </a:lnTo>
                            <a:lnTo>
                              <a:pt x="989" y="462"/>
                            </a:lnTo>
                            <a:lnTo>
                              <a:pt x="908" y="514"/>
                            </a:lnTo>
                            <a:lnTo>
                              <a:pt x="177" y="141"/>
                            </a:lnTo>
                            <a:lnTo>
                              <a:pt x="247" y="0"/>
                            </a:lnTo>
                            <a:lnTo>
                              <a:pt x="1095" y="390"/>
                            </a:lnTo>
                            <a:lnTo>
                              <a:pt x="1129" y="321"/>
                            </a:lnTo>
                            <a:lnTo>
                              <a:pt x="1270" y="390"/>
                            </a:lnTo>
                            <a:lnTo>
                              <a:pt x="1200" y="568"/>
                            </a:lnTo>
                            <a:lnTo>
                              <a:pt x="1023" y="709"/>
                            </a:lnTo>
                            <a:lnTo>
                              <a:pt x="774" y="1241"/>
                            </a:lnTo>
                            <a:lnTo>
                              <a:pt x="424" y="1030"/>
                            </a:lnTo>
                            <a:lnTo>
                              <a:pt x="0" y="673"/>
                            </a:lnTo>
                            <a:lnTo>
                              <a:pt x="42" y="574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0" name=""/>
                      <p:cNvSpPr/>
                      <p:nvPr/>
                    </p:nvSpPr>
                    <p:spPr>
                      <a:xfrm>
                        <a:off x="2058480" y="4924800"/>
                        <a:ext cx="102600" cy="60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1" h="388">
                            <a:moveTo>
                              <a:pt x="32" y="0"/>
                            </a:moveTo>
                            <a:lnTo>
                              <a:pt x="661" y="317"/>
                            </a:lnTo>
                            <a:lnTo>
                              <a:pt x="625" y="388"/>
                            </a:lnTo>
                            <a:lnTo>
                              <a:pt x="0" y="73"/>
                            </a:lnTo>
                            <a:lnTo>
                              <a:pt x="32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21" name=""/>
                    <p:cNvGrpSpPr/>
                    <p:nvPr/>
                  </p:nvGrpSpPr>
                  <p:grpSpPr>
                    <a:xfrm>
                      <a:off x="2073240" y="4778640"/>
                      <a:ext cx="284760" cy="107280"/>
                      <a:chOff x="2073240" y="4778640"/>
                      <a:chExt cx="284760" cy="107280"/>
                    </a:xfrm>
                  </p:grpSpPr>
                  <p:sp>
                    <p:nvSpPr>
                      <p:cNvPr id="722" name=""/>
                      <p:cNvSpPr/>
                      <p:nvPr/>
                    </p:nvSpPr>
                    <p:spPr>
                      <a:xfrm>
                        <a:off x="2073240" y="4778640"/>
                        <a:ext cx="284760" cy="10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36" h="691">
                            <a:moveTo>
                              <a:pt x="80" y="0"/>
                            </a:moveTo>
                            <a:lnTo>
                              <a:pt x="1173" y="549"/>
                            </a:lnTo>
                            <a:lnTo>
                              <a:pt x="1836" y="549"/>
                            </a:lnTo>
                            <a:lnTo>
                              <a:pt x="1836" y="691"/>
                            </a:lnTo>
                            <a:lnTo>
                              <a:pt x="1042" y="691"/>
                            </a:lnTo>
                            <a:lnTo>
                              <a:pt x="0" y="159"/>
                            </a:lnTo>
                            <a:lnTo>
                              <a:pt x="80" y="0"/>
                            </a:lnTo>
                            <a:close/>
                          </a:path>
                        </a:pathLst>
                      </a:custGeom>
                      <a:solidFill>
                        <a:srgbClr val="9f9f9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3" name=""/>
                      <p:cNvSpPr/>
                      <p:nvPr/>
                    </p:nvSpPr>
                    <p:spPr>
                      <a:xfrm>
                        <a:off x="2078640" y="4797720"/>
                        <a:ext cx="166680" cy="83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720" bIns="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24" name=""/>
                    <p:cNvSpPr/>
                    <p:nvPr/>
                  </p:nvSpPr>
                  <p:spPr>
                    <a:xfrm>
                      <a:off x="2081520" y="4811400"/>
                      <a:ext cx="1533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0" h="583">
                          <a:moveTo>
                            <a:pt x="54" y="0"/>
                          </a:moveTo>
                          <a:lnTo>
                            <a:pt x="0" y="113"/>
                          </a:lnTo>
                          <a:lnTo>
                            <a:pt x="938" y="583"/>
                          </a:lnTo>
                          <a:lnTo>
                            <a:pt x="990" y="468"/>
                          </a:lnTo>
                          <a:lnTo>
                            <a:pt x="54" y="0"/>
                          </a:lnTo>
                          <a:close/>
                        </a:path>
                      </a:pathLst>
                    </a:custGeom>
                    <a:solidFill>
                      <a:srgbClr val="5f5f5f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5" name=""/>
                  <p:cNvGrpSpPr/>
                  <p:nvPr/>
                </p:nvGrpSpPr>
                <p:grpSpPr>
                  <a:xfrm>
                    <a:off x="2144520" y="4425840"/>
                    <a:ext cx="229320" cy="378000"/>
                    <a:chOff x="2144520" y="4425840"/>
                    <a:chExt cx="229320" cy="378000"/>
                  </a:xfrm>
                </p:grpSpPr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2160720" y="4728960"/>
                      <a:ext cx="658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6" h="376">
                          <a:moveTo>
                            <a:pt x="105" y="0"/>
                          </a:moveTo>
                          <a:lnTo>
                            <a:pt x="0" y="213"/>
                          </a:lnTo>
                          <a:lnTo>
                            <a:pt x="326" y="376"/>
                          </a:lnTo>
                          <a:lnTo>
                            <a:pt x="426" y="177"/>
                          </a:lnTo>
                          <a:lnTo>
                            <a:pt x="105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27" name=""/>
                    <p:cNvGrpSpPr/>
                    <p:nvPr/>
                  </p:nvGrpSpPr>
                  <p:grpSpPr>
                    <a:xfrm>
                      <a:off x="2182680" y="4539240"/>
                      <a:ext cx="142200" cy="198000"/>
                      <a:chOff x="2182680" y="4539240"/>
                      <a:chExt cx="142200" cy="198000"/>
                    </a:xfrm>
                  </p:grpSpPr>
                  <p:sp>
                    <p:nvSpPr>
                      <p:cNvPr id="728" name=""/>
                      <p:cNvSpPr/>
                      <p:nvPr/>
                    </p:nvSpPr>
                    <p:spPr>
                      <a:xfrm>
                        <a:off x="2182680" y="4539240"/>
                        <a:ext cx="142200" cy="19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18" h="1275">
                            <a:moveTo>
                              <a:pt x="530" y="0"/>
                            </a:moveTo>
                            <a:lnTo>
                              <a:pt x="918" y="211"/>
                            </a:lnTo>
                            <a:lnTo>
                              <a:pt x="390" y="1275"/>
                            </a:lnTo>
                            <a:lnTo>
                              <a:pt x="0" y="1061"/>
                            </a:lnTo>
                            <a:lnTo>
                              <a:pt x="53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9" name=""/>
                      <p:cNvSpPr/>
                      <p:nvPr/>
                    </p:nvSpPr>
                    <p:spPr>
                      <a:xfrm>
                        <a:off x="2198880" y="4555440"/>
                        <a:ext cx="92520" cy="16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7" h="1062">
                            <a:moveTo>
                              <a:pt x="529" y="0"/>
                            </a:moveTo>
                            <a:lnTo>
                              <a:pt x="0" y="1026"/>
                            </a:lnTo>
                            <a:lnTo>
                              <a:pt x="71" y="1062"/>
                            </a:lnTo>
                            <a:lnTo>
                              <a:pt x="597" y="40"/>
                            </a:lnTo>
                            <a:lnTo>
                              <a:pt x="529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0" name=""/>
                    <p:cNvGrpSpPr/>
                    <p:nvPr/>
                  </p:nvGrpSpPr>
                  <p:grpSpPr>
                    <a:xfrm>
                      <a:off x="2253960" y="4425840"/>
                      <a:ext cx="119880" cy="157320"/>
                      <a:chOff x="2253960" y="4425840"/>
                      <a:chExt cx="119880" cy="157320"/>
                    </a:xfrm>
                  </p:grpSpPr>
                  <p:sp>
                    <p:nvSpPr>
                      <p:cNvPr id="731" name=""/>
                      <p:cNvSpPr/>
                      <p:nvPr/>
                    </p:nvSpPr>
                    <p:spPr>
                      <a:xfrm>
                        <a:off x="2305440" y="4442040"/>
                        <a:ext cx="54720" cy="69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4" h="446">
                            <a:moveTo>
                              <a:pt x="179" y="0"/>
                            </a:moveTo>
                            <a:lnTo>
                              <a:pt x="0" y="327"/>
                            </a:lnTo>
                            <a:lnTo>
                              <a:pt x="205" y="446"/>
                            </a:lnTo>
                            <a:lnTo>
                              <a:pt x="354" y="88"/>
                            </a:lnTo>
                            <a:lnTo>
                              <a:pt x="179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2680" bIns="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2" name=""/>
                      <p:cNvSpPr/>
                      <p:nvPr/>
                    </p:nvSpPr>
                    <p:spPr>
                      <a:xfrm>
                        <a:off x="2282400" y="4510440"/>
                        <a:ext cx="4788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9" h="255">
                            <a:moveTo>
                              <a:pt x="66" y="0"/>
                            </a:moveTo>
                            <a:lnTo>
                              <a:pt x="0" y="114"/>
                            </a:lnTo>
                            <a:lnTo>
                              <a:pt x="249" y="255"/>
                            </a:lnTo>
                            <a:lnTo>
                              <a:pt x="309" y="132"/>
                            </a:lnTo>
                            <a:lnTo>
                              <a:pt x="66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33" name=""/>
                      <p:cNvGrpSpPr/>
                      <p:nvPr/>
                    </p:nvGrpSpPr>
                    <p:grpSpPr>
                      <a:xfrm>
                        <a:off x="2253960" y="4517280"/>
                        <a:ext cx="87120" cy="65880"/>
                        <a:chOff x="2253960" y="4517280"/>
                        <a:chExt cx="87120" cy="65880"/>
                      </a:xfrm>
                    </p:grpSpPr>
                    <p:sp>
                      <p:nvSpPr>
                        <p:cNvPr id="734" name=""/>
                        <p:cNvSpPr/>
                        <p:nvPr/>
                      </p:nvSpPr>
                      <p:spPr>
                        <a:xfrm>
                          <a:off x="2253960" y="4517280"/>
                          <a:ext cx="87120" cy="65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4" h="425">
                              <a:moveTo>
                                <a:pt x="70" y="0"/>
                              </a:moveTo>
                              <a:lnTo>
                                <a:pt x="564" y="283"/>
                              </a:lnTo>
                              <a:lnTo>
                                <a:pt x="494" y="425"/>
                              </a:lnTo>
                              <a:lnTo>
                                <a:pt x="0" y="142"/>
                              </a:lnTo>
                              <a:lnTo>
                                <a:pt x="7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9080" bIns="19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735" name=""/>
                        <p:cNvGrpSpPr/>
                        <p:nvPr/>
                      </p:nvGrpSpPr>
                      <p:grpSpPr>
                        <a:xfrm>
                          <a:off x="2257920" y="4519440"/>
                          <a:ext cx="79920" cy="61200"/>
                          <a:chOff x="2257920" y="4519440"/>
                          <a:chExt cx="79920" cy="61200"/>
                        </a:xfrm>
                      </p:grpSpPr>
                      <p:sp>
                        <p:nvSpPr>
                          <p:cNvPr id="736" name=""/>
                          <p:cNvSpPr/>
                          <p:nvPr/>
                        </p:nvSpPr>
                        <p:spPr>
                          <a:xfrm flipH="1">
                            <a:off x="2257920" y="4519440"/>
                            <a:ext cx="10080" cy="21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0" bIns="-25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7" name=""/>
                          <p:cNvSpPr/>
                          <p:nvPr/>
                        </p:nvSpPr>
                        <p:spPr>
                          <a:xfrm flipH="1">
                            <a:off x="2266920" y="4524480"/>
                            <a:ext cx="11160" cy="21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840" bIns="-24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8" name=""/>
                          <p:cNvSpPr/>
                          <p:nvPr/>
                        </p:nvSpPr>
                        <p:spPr>
                          <a:xfrm flipH="1">
                            <a:off x="2327040" y="4559400"/>
                            <a:ext cx="10800" cy="21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560" bIns="-25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39" name=""/>
                          <p:cNvSpPr/>
                          <p:nvPr/>
                        </p:nvSpPr>
                        <p:spPr>
                          <a:xfrm flipH="1">
                            <a:off x="2261880" y="4521600"/>
                            <a:ext cx="10800" cy="21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0" bIns="-25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0" name=""/>
                          <p:cNvSpPr/>
                          <p:nvPr/>
                        </p:nvSpPr>
                        <p:spPr>
                          <a:xfrm flipH="1">
                            <a:off x="2274480" y="4529160"/>
                            <a:ext cx="10800" cy="21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0" bIns="-25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1" name=""/>
                          <p:cNvSpPr/>
                          <p:nvPr/>
                        </p:nvSpPr>
                        <p:spPr>
                          <a:xfrm flipH="1">
                            <a:off x="2293920" y="4540320"/>
                            <a:ext cx="10440" cy="21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560" bIns="-25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2" name=""/>
                          <p:cNvSpPr/>
                          <p:nvPr/>
                        </p:nvSpPr>
                        <p:spPr>
                          <a:xfrm flipH="1">
                            <a:off x="2322720" y="4556520"/>
                            <a:ext cx="10440" cy="21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560" bIns="-25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3" name=""/>
                          <p:cNvSpPr/>
                          <p:nvPr/>
                        </p:nvSpPr>
                        <p:spPr>
                          <a:xfrm flipH="1">
                            <a:off x="2317680" y="4554000"/>
                            <a:ext cx="10800" cy="21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560" bIns="-25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4" name=""/>
                          <p:cNvSpPr/>
                          <p:nvPr/>
                        </p:nvSpPr>
                        <p:spPr>
                          <a:xfrm flipH="1">
                            <a:off x="2311560" y="4550400"/>
                            <a:ext cx="10440" cy="21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560" bIns="-25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5" name=""/>
                          <p:cNvSpPr/>
                          <p:nvPr/>
                        </p:nvSpPr>
                        <p:spPr>
                          <a:xfrm flipH="1">
                            <a:off x="2305080" y="4546080"/>
                            <a:ext cx="10440" cy="21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0" bIns="-25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6" name=""/>
                          <p:cNvSpPr/>
                          <p:nvPr/>
                        </p:nvSpPr>
                        <p:spPr>
                          <a:xfrm flipH="1">
                            <a:off x="2283480" y="4533840"/>
                            <a:ext cx="10800" cy="21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0" bIns="-25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47" name=""/>
                      <p:cNvGrpSpPr/>
                      <p:nvPr/>
                    </p:nvGrpSpPr>
                    <p:grpSpPr>
                      <a:xfrm>
                        <a:off x="2281320" y="4484520"/>
                        <a:ext cx="71280" cy="55080"/>
                        <a:chOff x="2281320" y="4484520"/>
                        <a:chExt cx="71280" cy="55080"/>
                      </a:xfrm>
                    </p:grpSpPr>
                    <p:sp>
                      <p:nvSpPr>
                        <p:cNvPr id="748" name=""/>
                        <p:cNvSpPr/>
                        <p:nvPr/>
                      </p:nvSpPr>
                      <p:spPr>
                        <a:xfrm>
                          <a:off x="2281320" y="4484520"/>
                          <a:ext cx="71280" cy="55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60" h="357">
                              <a:moveTo>
                                <a:pt x="0" y="138"/>
                              </a:moveTo>
                              <a:lnTo>
                                <a:pt x="385" y="357"/>
                              </a:lnTo>
                              <a:lnTo>
                                <a:pt x="460" y="213"/>
                              </a:lnTo>
                              <a:lnTo>
                                <a:pt x="68" y="0"/>
                              </a:lnTo>
                              <a:lnTo>
                                <a:pt x="0" y="138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8280" bIns="8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749" name=""/>
                        <p:cNvGrpSpPr/>
                        <p:nvPr/>
                      </p:nvGrpSpPr>
                      <p:grpSpPr>
                        <a:xfrm>
                          <a:off x="2283480" y="4485600"/>
                          <a:ext cx="65880" cy="52200"/>
                          <a:chOff x="2283480" y="4485600"/>
                          <a:chExt cx="65880" cy="52200"/>
                        </a:xfrm>
                      </p:grpSpPr>
                      <p:sp>
                        <p:nvSpPr>
                          <p:cNvPr id="750" name=""/>
                          <p:cNvSpPr/>
                          <p:nvPr/>
                        </p:nvSpPr>
                        <p:spPr>
                          <a:xfrm flipH="1">
                            <a:off x="2308680" y="4499280"/>
                            <a:ext cx="10800" cy="21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0" bIns="-25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1" name=""/>
                          <p:cNvSpPr/>
                          <p:nvPr/>
                        </p:nvSpPr>
                        <p:spPr>
                          <a:xfrm flipH="1">
                            <a:off x="2286720" y="4487400"/>
                            <a:ext cx="10800" cy="21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560" bIns="-25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2" name=""/>
                          <p:cNvSpPr/>
                          <p:nvPr/>
                        </p:nvSpPr>
                        <p:spPr>
                          <a:xfrm flipH="1">
                            <a:off x="2329920" y="4511160"/>
                            <a:ext cx="10440" cy="21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0" bIns="-25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3" name=""/>
                          <p:cNvSpPr/>
                          <p:nvPr/>
                        </p:nvSpPr>
                        <p:spPr>
                          <a:xfrm flipH="1">
                            <a:off x="2283480" y="4485600"/>
                            <a:ext cx="10440" cy="21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560" bIns="-25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4" name=""/>
                          <p:cNvSpPr/>
                          <p:nvPr/>
                        </p:nvSpPr>
                        <p:spPr>
                          <a:xfrm flipH="1">
                            <a:off x="2291040" y="4489560"/>
                            <a:ext cx="10800" cy="21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0" bIns="-25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5" name=""/>
                          <p:cNvSpPr/>
                          <p:nvPr/>
                        </p:nvSpPr>
                        <p:spPr>
                          <a:xfrm flipH="1">
                            <a:off x="2301840" y="4495680"/>
                            <a:ext cx="10800" cy="21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560" bIns="-25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6" name=""/>
                          <p:cNvSpPr/>
                          <p:nvPr/>
                        </p:nvSpPr>
                        <p:spPr>
                          <a:xfrm flipH="1">
                            <a:off x="2336040" y="4514040"/>
                            <a:ext cx="10800" cy="21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0" bIns="-25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7" name=""/>
                          <p:cNvSpPr/>
                          <p:nvPr/>
                        </p:nvSpPr>
                        <p:spPr>
                          <a:xfrm flipH="1">
                            <a:off x="2338560" y="4515840"/>
                            <a:ext cx="10800" cy="21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840" bIns="-24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8" name=""/>
                          <p:cNvSpPr/>
                          <p:nvPr/>
                        </p:nvSpPr>
                        <p:spPr>
                          <a:xfrm flipH="1">
                            <a:off x="2332440" y="4512600"/>
                            <a:ext cx="11160" cy="21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0" bIns="-25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9" name=""/>
                          <p:cNvSpPr/>
                          <p:nvPr/>
                        </p:nvSpPr>
                        <p:spPr>
                          <a:xfrm flipH="1">
                            <a:off x="2326320" y="4508640"/>
                            <a:ext cx="10080" cy="21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0" bIns="-25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60" name=""/>
                          <p:cNvSpPr/>
                          <p:nvPr/>
                        </p:nvSpPr>
                        <p:spPr>
                          <a:xfrm flipH="1">
                            <a:off x="2295720" y="4492080"/>
                            <a:ext cx="10800" cy="21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840" bIns="-24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61" name=""/>
                          <p:cNvSpPr/>
                          <p:nvPr/>
                        </p:nvSpPr>
                        <p:spPr>
                          <a:xfrm flipH="1">
                            <a:off x="2315880" y="4503240"/>
                            <a:ext cx="10440" cy="21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840" bIns="-24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62" name=""/>
                          <p:cNvSpPr/>
                          <p:nvPr/>
                        </p:nvSpPr>
                        <p:spPr>
                          <a:xfrm flipH="1">
                            <a:off x="2320920" y="4506480"/>
                            <a:ext cx="10440" cy="21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200" bIns="-25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63" name=""/>
                      <p:cNvGrpSpPr/>
                      <p:nvPr/>
                    </p:nvGrpSpPr>
                    <p:grpSpPr>
                      <a:xfrm>
                        <a:off x="2326320" y="4425840"/>
                        <a:ext cx="47520" cy="34200"/>
                        <a:chOff x="2326320" y="4425840"/>
                        <a:chExt cx="47520" cy="34200"/>
                      </a:xfrm>
                    </p:grpSpPr>
                    <p:sp>
                      <p:nvSpPr>
                        <p:cNvPr id="764" name=""/>
                        <p:cNvSpPr/>
                        <p:nvPr/>
                      </p:nvSpPr>
                      <p:spPr>
                        <a:xfrm>
                          <a:off x="2326320" y="4425840"/>
                          <a:ext cx="47520" cy="34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09" h="219">
                              <a:moveTo>
                                <a:pt x="0" y="85"/>
                              </a:moveTo>
                              <a:lnTo>
                                <a:pt x="263" y="219"/>
                              </a:lnTo>
                              <a:lnTo>
                                <a:pt x="309" y="131"/>
                              </a:lnTo>
                              <a:lnTo>
                                <a:pt x="42" y="0"/>
                              </a:lnTo>
                              <a:lnTo>
                                <a:pt x="0" y="8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2600" bIns="-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765" name=""/>
                        <p:cNvGrpSpPr/>
                        <p:nvPr/>
                      </p:nvGrpSpPr>
                      <p:grpSpPr>
                        <a:xfrm>
                          <a:off x="2327040" y="4426200"/>
                          <a:ext cx="45000" cy="32760"/>
                          <a:chOff x="2327040" y="4426200"/>
                          <a:chExt cx="45000" cy="32760"/>
                        </a:xfrm>
                      </p:grpSpPr>
                      <p:sp>
                        <p:nvSpPr>
                          <p:cNvPr id="766" name=""/>
                          <p:cNvSpPr/>
                          <p:nvPr/>
                        </p:nvSpPr>
                        <p:spPr>
                          <a:xfrm flipH="1">
                            <a:off x="2327040" y="4426200"/>
                            <a:ext cx="6120" cy="12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840" bIns="-33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67" name=""/>
                          <p:cNvSpPr/>
                          <p:nvPr/>
                        </p:nvSpPr>
                        <p:spPr>
                          <a:xfrm flipH="1">
                            <a:off x="2365560" y="4446000"/>
                            <a:ext cx="6480" cy="12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840" bIns="-33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68" name=""/>
                          <p:cNvSpPr/>
                          <p:nvPr/>
                        </p:nvSpPr>
                        <p:spPr>
                          <a:xfrm flipH="1">
                            <a:off x="2328480" y="4426920"/>
                            <a:ext cx="6120" cy="12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840" bIns="-33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69" name=""/>
                          <p:cNvSpPr/>
                          <p:nvPr/>
                        </p:nvSpPr>
                        <p:spPr>
                          <a:xfrm flipH="1">
                            <a:off x="2363400" y="4444560"/>
                            <a:ext cx="6840" cy="133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480" bIns="-33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0" name=""/>
                          <p:cNvSpPr/>
                          <p:nvPr/>
                        </p:nvSpPr>
                        <p:spPr>
                          <a:xfrm flipH="1">
                            <a:off x="2330640" y="4428000"/>
                            <a:ext cx="6480" cy="12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840" bIns="-33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1" name=""/>
                          <p:cNvSpPr/>
                          <p:nvPr/>
                        </p:nvSpPr>
                        <p:spPr>
                          <a:xfrm flipH="1">
                            <a:off x="2332800" y="4429080"/>
                            <a:ext cx="6480" cy="133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480" bIns="-33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2" name=""/>
                          <p:cNvSpPr/>
                          <p:nvPr/>
                        </p:nvSpPr>
                        <p:spPr>
                          <a:xfrm flipH="1">
                            <a:off x="2361600" y="4443480"/>
                            <a:ext cx="6840" cy="12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200" bIns="-34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3" name=""/>
                          <p:cNvSpPr/>
                          <p:nvPr/>
                        </p:nvSpPr>
                        <p:spPr>
                          <a:xfrm flipH="1">
                            <a:off x="2359080" y="4442400"/>
                            <a:ext cx="6840" cy="12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840" bIns="-33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4" name=""/>
                          <p:cNvSpPr/>
                          <p:nvPr/>
                        </p:nvSpPr>
                        <p:spPr>
                          <a:xfrm flipH="1">
                            <a:off x="2335320" y="4430520"/>
                            <a:ext cx="7200" cy="12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840" bIns="-33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5" name=""/>
                          <p:cNvSpPr/>
                          <p:nvPr/>
                        </p:nvSpPr>
                        <p:spPr>
                          <a:xfrm flipH="1">
                            <a:off x="2355840" y="4440960"/>
                            <a:ext cx="6840" cy="133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480" bIns="-33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6" name=""/>
                          <p:cNvSpPr/>
                          <p:nvPr/>
                        </p:nvSpPr>
                        <p:spPr>
                          <a:xfrm flipH="1">
                            <a:off x="2338920" y="4431960"/>
                            <a:ext cx="6480" cy="12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840" bIns="-33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7" name=""/>
                          <p:cNvSpPr/>
                          <p:nvPr/>
                        </p:nvSpPr>
                        <p:spPr>
                          <a:xfrm flipH="1">
                            <a:off x="2352240" y="4439160"/>
                            <a:ext cx="6840" cy="12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840" bIns="-33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8" name=""/>
                          <p:cNvSpPr/>
                          <p:nvPr/>
                        </p:nvSpPr>
                        <p:spPr>
                          <a:xfrm flipH="1">
                            <a:off x="2342880" y="4434120"/>
                            <a:ext cx="6120" cy="12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840" bIns="-33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9" name=""/>
                          <p:cNvSpPr/>
                          <p:nvPr/>
                        </p:nvSpPr>
                        <p:spPr>
                          <a:xfrm flipH="1">
                            <a:off x="2347560" y="4436640"/>
                            <a:ext cx="6840" cy="126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200" bIns="-34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780" name=""/>
                    <p:cNvGrpSpPr/>
                    <p:nvPr/>
                  </p:nvGrpSpPr>
                  <p:grpSpPr>
                    <a:xfrm>
                      <a:off x="2144520" y="4757040"/>
                      <a:ext cx="77760" cy="46800"/>
                      <a:chOff x="2144520" y="4757040"/>
                      <a:chExt cx="77760" cy="46800"/>
                    </a:xfrm>
                  </p:grpSpPr>
                  <p:sp>
                    <p:nvSpPr>
                      <p:cNvPr id="781" name=""/>
                      <p:cNvSpPr/>
                      <p:nvPr/>
                    </p:nvSpPr>
                    <p:spPr>
                      <a:xfrm>
                        <a:off x="2144520" y="4757040"/>
                        <a:ext cx="77760" cy="4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2" h="303">
                            <a:moveTo>
                              <a:pt x="36" y="0"/>
                            </a:moveTo>
                            <a:lnTo>
                              <a:pt x="502" y="235"/>
                            </a:lnTo>
                            <a:lnTo>
                              <a:pt x="468" y="303"/>
                            </a:lnTo>
                            <a:lnTo>
                              <a:pt x="0" y="70"/>
                            </a:lnTo>
                            <a:lnTo>
                              <a:pt x="36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82" name=""/>
                      <p:cNvGrpSpPr/>
                      <p:nvPr/>
                    </p:nvGrpSpPr>
                    <p:grpSpPr>
                      <a:xfrm>
                        <a:off x="2147400" y="4758840"/>
                        <a:ext cx="72000" cy="43920"/>
                        <a:chOff x="2147400" y="4758840"/>
                        <a:chExt cx="72000" cy="43920"/>
                      </a:xfrm>
                    </p:grpSpPr>
                    <p:sp>
                      <p:nvSpPr>
                        <p:cNvPr id="783" name=""/>
                        <p:cNvSpPr/>
                        <p:nvPr/>
                      </p:nvSpPr>
                      <p:spPr>
                        <a:xfrm flipH="1">
                          <a:off x="2147400" y="4758840"/>
                          <a:ext cx="5040" cy="10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4" name=""/>
                        <p:cNvSpPr/>
                        <p:nvPr/>
                      </p:nvSpPr>
                      <p:spPr>
                        <a:xfrm flipH="1">
                          <a:off x="2149920" y="4760280"/>
                          <a:ext cx="4680" cy="10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5" name=""/>
                        <p:cNvSpPr/>
                        <p:nvPr/>
                      </p:nvSpPr>
                      <p:spPr>
                        <a:xfrm flipH="1">
                          <a:off x="2215080" y="4792680"/>
                          <a:ext cx="4320" cy="10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6" name=""/>
                        <p:cNvSpPr/>
                        <p:nvPr/>
                      </p:nvSpPr>
                      <p:spPr>
                        <a:xfrm flipH="1">
                          <a:off x="2153520" y="4761360"/>
                          <a:ext cx="5040" cy="10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7" name=""/>
                        <p:cNvSpPr/>
                        <p:nvPr/>
                      </p:nvSpPr>
                      <p:spPr>
                        <a:xfrm flipH="1">
                          <a:off x="2157840" y="4763880"/>
                          <a:ext cx="5040" cy="10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8" name=""/>
                        <p:cNvSpPr/>
                        <p:nvPr/>
                      </p:nvSpPr>
                      <p:spPr>
                        <a:xfrm flipH="1">
                          <a:off x="2163600" y="4766760"/>
                          <a:ext cx="5040" cy="10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9" name=""/>
                        <p:cNvSpPr/>
                        <p:nvPr/>
                      </p:nvSpPr>
                      <p:spPr>
                        <a:xfrm flipH="1">
                          <a:off x="2170080" y="4769640"/>
                          <a:ext cx="4680" cy="10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0" name=""/>
                        <p:cNvSpPr/>
                        <p:nvPr/>
                      </p:nvSpPr>
                      <p:spPr>
                        <a:xfrm flipH="1">
                          <a:off x="2176200" y="4772880"/>
                          <a:ext cx="5040" cy="10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1" name=""/>
                        <p:cNvSpPr/>
                        <p:nvPr/>
                      </p:nvSpPr>
                      <p:spPr>
                        <a:xfrm flipH="1">
                          <a:off x="2212560" y="4791600"/>
                          <a:ext cx="5040" cy="9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080" bIns="-37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2" name=""/>
                        <p:cNvSpPr/>
                        <p:nvPr/>
                      </p:nvSpPr>
                      <p:spPr>
                        <a:xfrm flipH="1">
                          <a:off x="2209320" y="4790160"/>
                          <a:ext cx="5040" cy="10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3" name=""/>
                        <p:cNvSpPr/>
                        <p:nvPr/>
                      </p:nvSpPr>
                      <p:spPr>
                        <a:xfrm flipH="1">
                          <a:off x="2206800" y="4788360"/>
                          <a:ext cx="5040" cy="10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4" name=""/>
                        <p:cNvSpPr/>
                        <p:nvPr/>
                      </p:nvSpPr>
                      <p:spPr>
                        <a:xfrm flipH="1">
                          <a:off x="2203200" y="4786920"/>
                          <a:ext cx="4680" cy="10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5" name=""/>
                        <p:cNvSpPr/>
                        <p:nvPr/>
                      </p:nvSpPr>
                      <p:spPr>
                        <a:xfrm flipH="1">
                          <a:off x="2199600" y="4784760"/>
                          <a:ext cx="4680" cy="10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6" name=""/>
                        <p:cNvSpPr/>
                        <p:nvPr/>
                      </p:nvSpPr>
                      <p:spPr>
                        <a:xfrm flipH="1">
                          <a:off x="2194560" y="4782600"/>
                          <a:ext cx="5040" cy="10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720" bIns="-36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7" name=""/>
                        <p:cNvSpPr/>
                        <p:nvPr/>
                      </p:nvSpPr>
                      <p:spPr>
                        <a:xfrm flipH="1">
                          <a:off x="2189160" y="4779000"/>
                          <a:ext cx="5040" cy="10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8" name=""/>
                        <p:cNvSpPr/>
                        <p:nvPr/>
                      </p:nvSpPr>
                      <p:spPr>
                        <a:xfrm flipH="1">
                          <a:off x="2181960" y="4775760"/>
                          <a:ext cx="4680" cy="10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360" bIns="-36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99" name=""/>
                    <p:cNvGrpSpPr/>
                    <p:nvPr/>
                  </p:nvGrpSpPr>
                  <p:grpSpPr>
                    <a:xfrm>
                      <a:off x="2160720" y="4698720"/>
                      <a:ext cx="92880" cy="66960"/>
                      <a:chOff x="2160720" y="4698720"/>
                      <a:chExt cx="92880" cy="66960"/>
                    </a:xfrm>
                  </p:grpSpPr>
                  <p:sp>
                    <p:nvSpPr>
                      <p:cNvPr id="800" name=""/>
                      <p:cNvSpPr/>
                      <p:nvPr/>
                    </p:nvSpPr>
                    <p:spPr>
                      <a:xfrm>
                        <a:off x="2160720" y="4698720"/>
                        <a:ext cx="92880" cy="66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9" h="432">
                            <a:moveTo>
                              <a:pt x="71" y="0"/>
                            </a:moveTo>
                            <a:lnTo>
                              <a:pt x="599" y="288"/>
                            </a:lnTo>
                            <a:lnTo>
                              <a:pt x="529" y="432"/>
                            </a:lnTo>
                            <a:lnTo>
                              <a:pt x="0" y="141"/>
                            </a:lnTo>
                            <a:lnTo>
                              <a:pt x="71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0160" bIns="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01" name=""/>
                      <p:cNvGrpSpPr/>
                      <p:nvPr/>
                    </p:nvGrpSpPr>
                    <p:grpSpPr>
                      <a:xfrm>
                        <a:off x="2164680" y="4700880"/>
                        <a:ext cx="86040" cy="62640"/>
                        <a:chOff x="2164680" y="4700880"/>
                        <a:chExt cx="86040" cy="62640"/>
                      </a:xfrm>
                    </p:grpSpPr>
                    <p:sp>
                      <p:nvSpPr>
                        <p:cNvPr id="802" name=""/>
                        <p:cNvSpPr/>
                        <p:nvPr/>
                      </p:nvSpPr>
                      <p:spPr>
                        <a:xfrm flipH="1">
                          <a:off x="2174040" y="4705560"/>
                          <a:ext cx="10800" cy="21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3" name=""/>
                        <p:cNvSpPr/>
                        <p:nvPr/>
                      </p:nvSpPr>
                      <p:spPr>
                        <a:xfrm flipH="1">
                          <a:off x="2239920" y="4741560"/>
                          <a:ext cx="10800" cy="21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840" bIns="-24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4" name=""/>
                        <p:cNvSpPr/>
                        <p:nvPr/>
                      </p:nvSpPr>
                      <p:spPr>
                        <a:xfrm flipH="1">
                          <a:off x="2169000" y="4703400"/>
                          <a:ext cx="10800" cy="20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5" name=""/>
                        <p:cNvSpPr/>
                        <p:nvPr/>
                      </p:nvSpPr>
                      <p:spPr>
                        <a:xfrm flipH="1">
                          <a:off x="2180520" y="4709160"/>
                          <a:ext cx="10440" cy="21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6" name=""/>
                        <p:cNvSpPr/>
                        <p:nvPr/>
                      </p:nvSpPr>
                      <p:spPr>
                        <a:xfrm flipH="1">
                          <a:off x="2196360" y="4718160"/>
                          <a:ext cx="10800" cy="212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7" name=""/>
                        <p:cNvSpPr/>
                        <p:nvPr/>
                      </p:nvSpPr>
                      <p:spPr>
                        <a:xfrm flipH="1">
                          <a:off x="2236320" y="4739760"/>
                          <a:ext cx="10800" cy="216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8" name=""/>
                        <p:cNvSpPr/>
                        <p:nvPr/>
                      </p:nvSpPr>
                      <p:spPr>
                        <a:xfrm flipH="1">
                          <a:off x="2231640" y="4737600"/>
                          <a:ext cx="11160" cy="21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840" bIns="-24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9" name=""/>
                        <p:cNvSpPr/>
                        <p:nvPr/>
                      </p:nvSpPr>
                      <p:spPr>
                        <a:xfrm flipH="1">
                          <a:off x="2227320" y="4734720"/>
                          <a:ext cx="10800" cy="216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0" name=""/>
                        <p:cNvSpPr/>
                        <p:nvPr/>
                      </p:nvSpPr>
                      <p:spPr>
                        <a:xfrm flipH="1">
                          <a:off x="2206800" y="4723560"/>
                          <a:ext cx="10800" cy="216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1" name=""/>
                        <p:cNvSpPr/>
                        <p:nvPr/>
                      </p:nvSpPr>
                      <p:spPr>
                        <a:xfrm flipH="1">
                          <a:off x="2188080" y="4713120"/>
                          <a:ext cx="10440" cy="216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2" name=""/>
                        <p:cNvSpPr/>
                        <p:nvPr/>
                      </p:nvSpPr>
                      <p:spPr>
                        <a:xfrm flipH="1">
                          <a:off x="2221560" y="4731480"/>
                          <a:ext cx="10800" cy="21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840" bIns="-24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3" name=""/>
                        <p:cNvSpPr/>
                        <p:nvPr/>
                      </p:nvSpPr>
                      <p:spPr>
                        <a:xfrm flipH="1">
                          <a:off x="2215440" y="4727520"/>
                          <a:ext cx="10800" cy="216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0" bIns="-25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4" name=""/>
                        <p:cNvSpPr/>
                        <p:nvPr/>
                      </p:nvSpPr>
                      <p:spPr>
                        <a:xfrm flipH="1">
                          <a:off x="2164680" y="4700880"/>
                          <a:ext cx="10800" cy="20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920" bIns="-25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815" name=""/>
                  <p:cNvGrpSpPr/>
                  <p:nvPr/>
                </p:nvGrpSpPr>
                <p:grpSpPr>
                  <a:xfrm>
                    <a:off x="2020680" y="5045400"/>
                    <a:ext cx="488880" cy="75240"/>
                    <a:chOff x="2020680" y="5045400"/>
                    <a:chExt cx="488880" cy="75240"/>
                  </a:xfrm>
                </p:grpSpPr>
                <p:sp>
                  <p:nvSpPr>
                    <p:cNvPr id="816" name=""/>
                    <p:cNvSpPr/>
                    <p:nvPr/>
                  </p:nvSpPr>
                  <p:spPr>
                    <a:xfrm>
                      <a:off x="2020680" y="5085000"/>
                      <a:ext cx="488880" cy="35640"/>
                    </a:xfrm>
                    <a:prstGeom prst="rect">
                      <a:avLst/>
                    </a:prstGeom>
                    <a:solidFill>
                      <a:srgbClr val="5f5f5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7" name=""/>
                    <p:cNvSpPr/>
                    <p:nvPr/>
                  </p:nvSpPr>
                  <p:spPr>
                    <a:xfrm>
                      <a:off x="2057040" y="5045400"/>
                      <a:ext cx="415440" cy="3852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18" name=""/>
                <p:cNvSpPr/>
                <p:nvPr/>
              </p:nvSpPr>
              <p:spPr>
                <a:xfrm>
                  <a:off x="1856160" y="5197320"/>
                  <a:ext cx="81792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Laboratorie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"/>
              <p:cNvGrpSpPr/>
              <p:nvPr/>
            </p:nvGrpSpPr>
            <p:grpSpPr>
              <a:xfrm>
                <a:off x="3065760" y="3975840"/>
                <a:ext cx="910080" cy="795600"/>
                <a:chOff x="3065760" y="3975840"/>
                <a:chExt cx="910080" cy="795600"/>
              </a:xfrm>
            </p:grpSpPr>
            <p:grpSp>
              <p:nvGrpSpPr>
                <p:cNvPr id="820" name=""/>
                <p:cNvGrpSpPr/>
                <p:nvPr/>
              </p:nvGrpSpPr>
              <p:grpSpPr>
                <a:xfrm>
                  <a:off x="3065760" y="3975840"/>
                  <a:ext cx="910080" cy="735120"/>
                  <a:chOff x="3065760" y="3975840"/>
                  <a:chExt cx="910080" cy="735120"/>
                </a:xfrm>
              </p:grpSpPr>
              <p:grpSp>
                <p:nvGrpSpPr>
                  <p:cNvPr id="821" name=""/>
                  <p:cNvGrpSpPr/>
                  <p:nvPr/>
                </p:nvGrpSpPr>
                <p:grpSpPr>
                  <a:xfrm>
                    <a:off x="3065760" y="3975840"/>
                    <a:ext cx="910080" cy="735120"/>
                    <a:chOff x="3065760" y="3975840"/>
                    <a:chExt cx="910080" cy="735120"/>
                  </a:xfrm>
                </p:grpSpPr>
                <p:grpSp>
                  <p:nvGrpSpPr>
                    <p:cNvPr id="822" name=""/>
                    <p:cNvGrpSpPr/>
                    <p:nvPr/>
                  </p:nvGrpSpPr>
                  <p:grpSpPr>
                    <a:xfrm>
                      <a:off x="3065760" y="3975840"/>
                      <a:ext cx="910080" cy="735120"/>
                      <a:chOff x="3065760" y="3975840"/>
                      <a:chExt cx="910080" cy="735120"/>
                    </a:xfrm>
                  </p:grpSpPr>
                  <p:grpSp>
                    <p:nvGrpSpPr>
                      <p:cNvPr id="823" name=""/>
                      <p:cNvGrpSpPr/>
                      <p:nvPr/>
                    </p:nvGrpSpPr>
                    <p:grpSpPr>
                      <a:xfrm>
                        <a:off x="3065760" y="3975840"/>
                        <a:ext cx="910080" cy="735120"/>
                        <a:chOff x="3065760" y="3975840"/>
                        <a:chExt cx="910080" cy="735120"/>
                      </a:xfrm>
                    </p:grpSpPr>
                    <p:sp>
                      <p:nvSpPr>
                        <p:cNvPr id="824" name=""/>
                        <p:cNvSpPr/>
                        <p:nvPr/>
                      </p:nvSpPr>
                      <p:spPr>
                        <a:xfrm rot="1408800">
                          <a:off x="3095280" y="425232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200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9"/>
                              </a:lnTo>
                              <a:lnTo>
                                <a:pt x="3565" y="1265"/>
                              </a:lnTo>
                              <a:lnTo>
                                <a:pt x="3776" y="1120"/>
                              </a:lnTo>
                              <a:lnTo>
                                <a:pt x="3980" y="986"/>
                              </a:lnTo>
                              <a:lnTo>
                                <a:pt x="4181" y="851"/>
                              </a:lnTo>
                              <a:lnTo>
                                <a:pt x="4384" y="725"/>
                              </a:lnTo>
                              <a:lnTo>
                                <a:pt x="2938" y="0"/>
                              </a:lnTo>
                              <a:lnTo>
                                <a:pt x="2700" y="140"/>
                              </a:lnTo>
                              <a:lnTo>
                                <a:pt x="2459" y="293"/>
                              </a:lnTo>
                              <a:lnTo>
                                <a:pt x="2276" y="418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2"/>
                              </a:lnTo>
                              <a:lnTo>
                                <a:pt x="1084" y="1275"/>
                              </a:lnTo>
                              <a:lnTo>
                                <a:pt x="823" y="1429"/>
                              </a:lnTo>
                              <a:lnTo>
                                <a:pt x="534" y="1632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5" name=""/>
                        <p:cNvSpPr/>
                        <p:nvPr/>
                      </p:nvSpPr>
                      <p:spPr>
                        <a:xfrm rot="1408800">
                          <a:off x="3098520" y="424476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3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4"/>
                              </a:lnTo>
                              <a:lnTo>
                                <a:pt x="3776" y="1120"/>
                              </a:lnTo>
                              <a:lnTo>
                                <a:pt x="3980" y="985"/>
                              </a:lnTo>
                              <a:lnTo>
                                <a:pt x="4181" y="851"/>
                              </a:lnTo>
                              <a:lnTo>
                                <a:pt x="4384" y="724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1"/>
                              </a:lnTo>
                              <a:lnTo>
                                <a:pt x="2276" y="417"/>
                              </a:lnTo>
                              <a:lnTo>
                                <a:pt x="2085" y="570"/>
                              </a:lnTo>
                              <a:lnTo>
                                <a:pt x="1881" y="736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7"/>
                              </a:lnTo>
                              <a:lnTo>
                                <a:pt x="534" y="1630"/>
                              </a:lnTo>
                              <a:lnTo>
                                <a:pt x="275" y="1821"/>
                              </a:lnTo>
                              <a:lnTo>
                                <a:pt x="0" y="20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6" name=""/>
                        <p:cNvSpPr/>
                        <p:nvPr/>
                      </p:nvSpPr>
                      <p:spPr>
                        <a:xfrm rot="1408800">
                          <a:off x="3102120" y="423684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0"/>
                              </a:lnTo>
                              <a:lnTo>
                                <a:pt x="2334" y="2197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39"/>
                              </a:lnTo>
                              <a:lnTo>
                                <a:pt x="3334" y="1438"/>
                              </a:lnTo>
                              <a:lnTo>
                                <a:pt x="3565" y="1265"/>
                              </a:lnTo>
                              <a:lnTo>
                                <a:pt x="3776" y="1119"/>
                              </a:lnTo>
                              <a:lnTo>
                                <a:pt x="3980" y="986"/>
                              </a:lnTo>
                              <a:lnTo>
                                <a:pt x="4181" y="850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3"/>
                              </a:lnTo>
                              <a:lnTo>
                                <a:pt x="2276" y="418"/>
                              </a:lnTo>
                              <a:lnTo>
                                <a:pt x="2085" y="571"/>
                              </a:lnTo>
                              <a:lnTo>
                                <a:pt x="1881" y="735"/>
                              </a:lnTo>
                              <a:lnTo>
                                <a:pt x="1680" y="908"/>
                              </a:lnTo>
                              <a:lnTo>
                                <a:pt x="1363" y="1101"/>
                              </a:lnTo>
                              <a:lnTo>
                                <a:pt x="1084" y="1273"/>
                              </a:lnTo>
                              <a:lnTo>
                                <a:pt x="823" y="1428"/>
                              </a:lnTo>
                              <a:lnTo>
                                <a:pt x="534" y="1629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 rot="1408800">
                          <a:off x="3105000" y="422928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0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8"/>
                              </a:lnTo>
                              <a:lnTo>
                                <a:pt x="3334" y="1436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49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1"/>
                              </a:lnTo>
                              <a:lnTo>
                                <a:pt x="2276" y="416"/>
                              </a:lnTo>
                              <a:lnTo>
                                <a:pt x="2085" y="570"/>
                              </a:lnTo>
                              <a:lnTo>
                                <a:pt x="1881" y="733"/>
                              </a:lnTo>
                              <a:lnTo>
                                <a:pt x="1680" y="906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6"/>
                              </a:lnTo>
                              <a:lnTo>
                                <a:pt x="534" y="1630"/>
                              </a:lnTo>
                              <a:lnTo>
                                <a:pt x="275" y="1821"/>
                              </a:lnTo>
                              <a:lnTo>
                                <a:pt x="0" y="20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8" name=""/>
                        <p:cNvSpPr/>
                        <p:nvPr/>
                      </p:nvSpPr>
                      <p:spPr>
                        <a:xfrm rot="1408800">
                          <a:off x="3108600" y="422136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1"/>
                              </a:lnTo>
                              <a:lnTo>
                                <a:pt x="2276" y="417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7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9" name=""/>
                        <p:cNvSpPr/>
                        <p:nvPr/>
                      </p:nvSpPr>
                      <p:spPr>
                        <a:xfrm rot="1408800">
                          <a:off x="3111840" y="421344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0"/>
                              </a:lnTo>
                              <a:lnTo>
                                <a:pt x="2334" y="2197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39"/>
                              </a:lnTo>
                              <a:lnTo>
                                <a:pt x="3334" y="1438"/>
                              </a:lnTo>
                              <a:lnTo>
                                <a:pt x="3565" y="1265"/>
                              </a:lnTo>
                              <a:lnTo>
                                <a:pt x="3776" y="1119"/>
                              </a:lnTo>
                              <a:lnTo>
                                <a:pt x="3980" y="986"/>
                              </a:lnTo>
                              <a:lnTo>
                                <a:pt x="4181" y="850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9"/>
                              </a:lnTo>
                              <a:lnTo>
                                <a:pt x="2459" y="292"/>
                              </a:lnTo>
                              <a:lnTo>
                                <a:pt x="2276" y="418"/>
                              </a:lnTo>
                              <a:lnTo>
                                <a:pt x="2085" y="571"/>
                              </a:lnTo>
                              <a:lnTo>
                                <a:pt x="1881" y="735"/>
                              </a:lnTo>
                              <a:lnTo>
                                <a:pt x="1680" y="908"/>
                              </a:lnTo>
                              <a:lnTo>
                                <a:pt x="1363" y="1101"/>
                              </a:lnTo>
                              <a:lnTo>
                                <a:pt x="1084" y="1275"/>
                              </a:lnTo>
                              <a:lnTo>
                                <a:pt x="823" y="1428"/>
                              </a:lnTo>
                              <a:lnTo>
                                <a:pt x="534" y="1629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0" name=""/>
                        <p:cNvSpPr/>
                        <p:nvPr/>
                      </p:nvSpPr>
                      <p:spPr>
                        <a:xfrm rot="1408800">
                          <a:off x="3115080" y="420588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0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7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8"/>
                              </a:lnTo>
                              <a:lnTo>
                                <a:pt x="3334" y="1436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49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1"/>
                              </a:lnTo>
                              <a:lnTo>
                                <a:pt x="2276" y="416"/>
                              </a:lnTo>
                              <a:lnTo>
                                <a:pt x="2085" y="570"/>
                              </a:lnTo>
                              <a:lnTo>
                                <a:pt x="1881" y="733"/>
                              </a:lnTo>
                              <a:lnTo>
                                <a:pt x="1680" y="906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6"/>
                              </a:lnTo>
                              <a:lnTo>
                                <a:pt x="534" y="1630"/>
                              </a:lnTo>
                              <a:lnTo>
                                <a:pt x="275" y="1821"/>
                              </a:lnTo>
                              <a:lnTo>
                                <a:pt x="0" y="20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1" name=""/>
                        <p:cNvSpPr/>
                        <p:nvPr/>
                      </p:nvSpPr>
                      <p:spPr>
                        <a:xfrm rot="1408800">
                          <a:off x="3119040" y="419832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3"/>
                              </a:lnTo>
                              <a:lnTo>
                                <a:pt x="2276" y="417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2" name=""/>
                        <p:cNvSpPr/>
                        <p:nvPr/>
                      </p:nvSpPr>
                      <p:spPr>
                        <a:xfrm rot="1408800">
                          <a:off x="3122280" y="419040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8">
                              <a:moveTo>
                                <a:pt x="0" y="2053"/>
                              </a:moveTo>
                              <a:lnTo>
                                <a:pt x="1608" y="2858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9"/>
                              </a:lnTo>
                              <a:lnTo>
                                <a:pt x="3565" y="1266"/>
                              </a:lnTo>
                              <a:lnTo>
                                <a:pt x="3776" y="1120"/>
                              </a:lnTo>
                              <a:lnTo>
                                <a:pt x="3980" y="987"/>
                              </a:lnTo>
                              <a:lnTo>
                                <a:pt x="4181" y="851"/>
                              </a:lnTo>
                              <a:lnTo>
                                <a:pt x="4384" y="724"/>
                              </a:lnTo>
                              <a:lnTo>
                                <a:pt x="2938" y="0"/>
                              </a:lnTo>
                              <a:lnTo>
                                <a:pt x="2700" y="140"/>
                              </a:lnTo>
                              <a:lnTo>
                                <a:pt x="2459" y="293"/>
                              </a:lnTo>
                              <a:lnTo>
                                <a:pt x="2276" y="419"/>
                              </a:lnTo>
                              <a:lnTo>
                                <a:pt x="2085" y="572"/>
                              </a:lnTo>
                              <a:lnTo>
                                <a:pt x="1881" y="736"/>
                              </a:lnTo>
                              <a:lnTo>
                                <a:pt x="1680" y="909"/>
                              </a:lnTo>
                              <a:lnTo>
                                <a:pt x="1363" y="1102"/>
                              </a:lnTo>
                              <a:lnTo>
                                <a:pt x="1084" y="1276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3" name=""/>
                        <p:cNvSpPr/>
                        <p:nvPr/>
                      </p:nvSpPr>
                      <p:spPr>
                        <a:xfrm rot="1408800">
                          <a:off x="3125520" y="418284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0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7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9"/>
                              </a:lnTo>
                              <a:lnTo>
                                <a:pt x="3334" y="1436"/>
                              </a:lnTo>
                              <a:lnTo>
                                <a:pt x="3565" y="1263"/>
                              </a:lnTo>
                              <a:lnTo>
                                <a:pt x="3776" y="1119"/>
                              </a:lnTo>
                              <a:lnTo>
                                <a:pt x="3980" y="984"/>
                              </a:lnTo>
                              <a:lnTo>
                                <a:pt x="4181" y="848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1"/>
                              </a:lnTo>
                              <a:lnTo>
                                <a:pt x="2276" y="416"/>
                              </a:lnTo>
                              <a:lnTo>
                                <a:pt x="2085" y="570"/>
                              </a:lnTo>
                              <a:lnTo>
                                <a:pt x="1881" y="733"/>
                              </a:lnTo>
                              <a:lnTo>
                                <a:pt x="1680" y="906"/>
                              </a:lnTo>
                              <a:lnTo>
                                <a:pt x="1363" y="1099"/>
                              </a:lnTo>
                              <a:lnTo>
                                <a:pt x="1084" y="1273"/>
                              </a:lnTo>
                              <a:lnTo>
                                <a:pt x="823" y="1426"/>
                              </a:lnTo>
                              <a:lnTo>
                                <a:pt x="534" y="1629"/>
                              </a:lnTo>
                              <a:lnTo>
                                <a:pt x="275" y="1821"/>
                              </a:lnTo>
                              <a:lnTo>
                                <a:pt x="0" y="20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4" name=""/>
                        <p:cNvSpPr/>
                        <p:nvPr/>
                      </p:nvSpPr>
                      <p:spPr>
                        <a:xfrm rot="1408800">
                          <a:off x="3128760" y="417492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8"/>
                              </a:lnTo>
                              <a:lnTo>
                                <a:pt x="2595" y="1986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3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3"/>
                              </a:lnTo>
                              <a:lnTo>
                                <a:pt x="2276" y="416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5" name=""/>
                        <p:cNvSpPr/>
                        <p:nvPr/>
                      </p:nvSpPr>
                      <p:spPr>
                        <a:xfrm rot="1408800">
                          <a:off x="3132000" y="416700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9"/>
                              </a:lnTo>
                              <a:lnTo>
                                <a:pt x="3565" y="1265"/>
                              </a:lnTo>
                              <a:lnTo>
                                <a:pt x="3776" y="1120"/>
                              </a:lnTo>
                              <a:lnTo>
                                <a:pt x="3980" y="987"/>
                              </a:lnTo>
                              <a:lnTo>
                                <a:pt x="4181" y="851"/>
                              </a:lnTo>
                              <a:lnTo>
                                <a:pt x="4384" y="724"/>
                              </a:lnTo>
                              <a:lnTo>
                                <a:pt x="2938" y="0"/>
                              </a:lnTo>
                              <a:lnTo>
                                <a:pt x="2700" y="140"/>
                              </a:lnTo>
                              <a:lnTo>
                                <a:pt x="2459" y="293"/>
                              </a:lnTo>
                              <a:lnTo>
                                <a:pt x="2276" y="419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2"/>
                              </a:lnTo>
                              <a:lnTo>
                                <a:pt x="1084" y="1275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6" name=""/>
                        <p:cNvSpPr/>
                        <p:nvPr/>
                      </p:nvSpPr>
                      <p:spPr>
                        <a:xfrm rot="1408800">
                          <a:off x="3135600" y="415944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0"/>
                              </a:lnTo>
                              <a:lnTo>
                                <a:pt x="2103" y="2398"/>
                              </a:lnTo>
                              <a:lnTo>
                                <a:pt x="2334" y="2197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9"/>
                              </a:lnTo>
                              <a:lnTo>
                                <a:pt x="3334" y="1436"/>
                              </a:lnTo>
                              <a:lnTo>
                                <a:pt x="3565" y="1263"/>
                              </a:lnTo>
                              <a:lnTo>
                                <a:pt x="3776" y="1119"/>
                              </a:lnTo>
                              <a:lnTo>
                                <a:pt x="3980" y="984"/>
                              </a:lnTo>
                              <a:lnTo>
                                <a:pt x="4181" y="848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0"/>
                              </a:lnTo>
                              <a:lnTo>
                                <a:pt x="2276" y="416"/>
                              </a:lnTo>
                              <a:lnTo>
                                <a:pt x="2085" y="569"/>
                              </a:lnTo>
                              <a:lnTo>
                                <a:pt x="1881" y="733"/>
                              </a:lnTo>
                              <a:lnTo>
                                <a:pt x="1680" y="906"/>
                              </a:lnTo>
                              <a:lnTo>
                                <a:pt x="1363" y="1099"/>
                              </a:lnTo>
                              <a:lnTo>
                                <a:pt x="1084" y="1273"/>
                              </a:lnTo>
                              <a:lnTo>
                                <a:pt x="823" y="1426"/>
                              </a:lnTo>
                              <a:lnTo>
                                <a:pt x="534" y="1629"/>
                              </a:lnTo>
                              <a:lnTo>
                                <a:pt x="275" y="1821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7" name=""/>
                        <p:cNvSpPr/>
                        <p:nvPr/>
                      </p:nvSpPr>
                      <p:spPr>
                        <a:xfrm rot="1408800">
                          <a:off x="3138840" y="4151520"/>
                          <a:ext cx="793800" cy="31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7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6"/>
                              </a:lnTo>
                              <a:lnTo>
                                <a:pt x="3565" y="1265"/>
                              </a:lnTo>
                              <a:lnTo>
                                <a:pt x="3776" y="1120"/>
                              </a:lnTo>
                              <a:lnTo>
                                <a:pt x="3980" y="984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3"/>
                              </a:lnTo>
                              <a:lnTo>
                                <a:pt x="2276" y="416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8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8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8" name=""/>
                        <p:cNvSpPr/>
                        <p:nvPr/>
                      </p:nvSpPr>
                      <p:spPr>
                        <a:xfrm rot="1408800">
                          <a:off x="3142440" y="414396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3"/>
                              </a:lnTo>
                              <a:lnTo>
                                <a:pt x="3055" y="1640"/>
                              </a:lnTo>
                              <a:lnTo>
                                <a:pt x="3334" y="1439"/>
                              </a:lnTo>
                              <a:lnTo>
                                <a:pt x="3565" y="1265"/>
                              </a:lnTo>
                              <a:lnTo>
                                <a:pt x="3776" y="1120"/>
                              </a:lnTo>
                              <a:lnTo>
                                <a:pt x="3980" y="986"/>
                              </a:lnTo>
                              <a:lnTo>
                                <a:pt x="4181" y="851"/>
                              </a:lnTo>
                              <a:lnTo>
                                <a:pt x="4384" y="725"/>
                              </a:lnTo>
                              <a:lnTo>
                                <a:pt x="2938" y="0"/>
                              </a:lnTo>
                              <a:lnTo>
                                <a:pt x="2700" y="140"/>
                              </a:lnTo>
                              <a:lnTo>
                                <a:pt x="2459" y="293"/>
                              </a:lnTo>
                              <a:lnTo>
                                <a:pt x="2276" y="419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9"/>
                              </a:lnTo>
                              <a:lnTo>
                                <a:pt x="1363" y="1102"/>
                              </a:lnTo>
                              <a:lnTo>
                                <a:pt x="1084" y="1275"/>
                              </a:lnTo>
                              <a:lnTo>
                                <a:pt x="823" y="1429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9" name=""/>
                        <p:cNvSpPr/>
                        <p:nvPr/>
                      </p:nvSpPr>
                      <p:spPr>
                        <a:xfrm rot="1408800">
                          <a:off x="3146040" y="413640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8">
                              <a:moveTo>
                                <a:pt x="0" y="2053"/>
                              </a:moveTo>
                              <a:lnTo>
                                <a:pt x="1608" y="2858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7"/>
                              </a:lnTo>
                              <a:lnTo>
                                <a:pt x="2786" y="1831"/>
                              </a:lnTo>
                              <a:lnTo>
                                <a:pt x="3055" y="1640"/>
                              </a:lnTo>
                              <a:lnTo>
                                <a:pt x="3334" y="1437"/>
                              </a:lnTo>
                              <a:lnTo>
                                <a:pt x="3565" y="1264"/>
                              </a:lnTo>
                              <a:lnTo>
                                <a:pt x="3776" y="1120"/>
                              </a:lnTo>
                              <a:lnTo>
                                <a:pt x="3980" y="985"/>
                              </a:lnTo>
                              <a:lnTo>
                                <a:pt x="4181" y="851"/>
                              </a:lnTo>
                              <a:lnTo>
                                <a:pt x="4384" y="724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1"/>
                              </a:lnTo>
                              <a:lnTo>
                                <a:pt x="2276" y="417"/>
                              </a:lnTo>
                              <a:lnTo>
                                <a:pt x="2085" y="570"/>
                              </a:lnTo>
                              <a:lnTo>
                                <a:pt x="1881" y="736"/>
                              </a:lnTo>
                              <a:lnTo>
                                <a:pt x="1680" y="909"/>
                              </a:lnTo>
                              <a:lnTo>
                                <a:pt x="1363" y="1100"/>
                              </a:lnTo>
                              <a:lnTo>
                                <a:pt x="1084" y="1274"/>
                              </a:lnTo>
                              <a:lnTo>
                                <a:pt x="823" y="1427"/>
                              </a:lnTo>
                              <a:lnTo>
                                <a:pt x="534" y="1630"/>
                              </a:lnTo>
                              <a:lnTo>
                                <a:pt x="275" y="1822"/>
                              </a:lnTo>
                              <a:lnTo>
                                <a:pt x="0" y="205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0" name=""/>
                        <p:cNvSpPr/>
                        <p:nvPr/>
                      </p:nvSpPr>
                      <p:spPr>
                        <a:xfrm rot="1408800">
                          <a:off x="3149280" y="412848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7">
                              <a:moveTo>
                                <a:pt x="0" y="2052"/>
                              </a:moveTo>
                              <a:lnTo>
                                <a:pt x="1608" y="2857"/>
                              </a:lnTo>
                              <a:lnTo>
                                <a:pt x="1863" y="2622"/>
                              </a:lnTo>
                              <a:lnTo>
                                <a:pt x="2103" y="2401"/>
                              </a:lnTo>
                              <a:lnTo>
                                <a:pt x="2334" y="2197"/>
                              </a:lnTo>
                              <a:lnTo>
                                <a:pt x="2595" y="1986"/>
                              </a:lnTo>
                              <a:lnTo>
                                <a:pt x="2786" y="1833"/>
                              </a:lnTo>
                              <a:lnTo>
                                <a:pt x="3055" y="1639"/>
                              </a:lnTo>
                              <a:lnTo>
                                <a:pt x="3334" y="1438"/>
                              </a:lnTo>
                              <a:lnTo>
                                <a:pt x="3565" y="1265"/>
                              </a:lnTo>
                              <a:lnTo>
                                <a:pt x="3776" y="1119"/>
                              </a:lnTo>
                              <a:lnTo>
                                <a:pt x="3980" y="986"/>
                              </a:lnTo>
                              <a:lnTo>
                                <a:pt x="4181" y="851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7"/>
                              </a:lnTo>
                              <a:lnTo>
                                <a:pt x="2459" y="293"/>
                              </a:lnTo>
                              <a:lnTo>
                                <a:pt x="2276" y="416"/>
                              </a:lnTo>
                              <a:lnTo>
                                <a:pt x="2085" y="572"/>
                              </a:lnTo>
                              <a:lnTo>
                                <a:pt x="1881" y="735"/>
                              </a:lnTo>
                              <a:lnTo>
                                <a:pt x="1680" y="908"/>
                              </a:lnTo>
                              <a:lnTo>
                                <a:pt x="1363" y="1100"/>
                              </a:lnTo>
                              <a:lnTo>
                                <a:pt x="1084" y="1273"/>
                              </a:lnTo>
                              <a:lnTo>
                                <a:pt x="823" y="1428"/>
                              </a:lnTo>
                              <a:lnTo>
                                <a:pt x="534" y="1630"/>
                              </a:lnTo>
                              <a:lnTo>
                                <a:pt x="275" y="1823"/>
                              </a:lnTo>
                              <a:lnTo>
                                <a:pt x="0" y="205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7fffd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1" name=""/>
                        <p:cNvSpPr/>
                        <p:nvPr/>
                      </p:nvSpPr>
                      <p:spPr>
                        <a:xfrm rot="1408800">
                          <a:off x="3152520" y="4120920"/>
                          <a:ext cx="793800" cy="313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384" h="2855">
                              <a:moveTo>
                                <a:pt x="0" y="2050"/>
                              </a:moveTo>
                              <a:lnTo>
                                <a:pt x="1608" y="2855"/>
                              </a:lnTo>
                              <a:lnTo>
                                <a:pt x="1863" y="2620"/>
                              </a:lnTo>
                              <a:lnTo>
                                <a:pt x="2103" y="2399"/>
                              </a:lnTo>
                              <a:lnTo>
                                <a:pt x="2334" y="2198"/>
                              </a:lnTo>
                              <a:lnTo>
                                <a:pt x="2595" y="1984"/>
                              </a:lnTo>
                              <a:lnTo>
                                <a:pt x="2786" y="1831"/>
                              </a:lnTo>
                              <a:lnTo>
                                <a:pt x="3055" y="1638"/>
                              </a:lnTo>
                              <a:lnTo>
                                <a:pt x="3334" y="1437"/>
                              </a:lnTo>
                              <a:lnTo>
                                <a:pt x="3565" y="1263"/>
                              </a:lnTo>
                              <a:lnTo>
                                <a:pt x="3776" y="1118"/>
                              </a:lnTo>
                              <a:lnTo>
                                <a:pt x="3980" y="984"/>
                              </a:lnTo>
                              <a:lnTo>
                                <a:pt x="4181" y="849"/>
                              </a:lnTo>
                              <a:lnTo>
                                <a:pt x="4384" y="723"/>
                              </a:lnTo>
                              <a:lnTo>
                                <a:pt x="2938" y="0"/>
                              </a:lnTo>
                              <a:lnTo>
                                <a:pt x="2700" y="138"/>
                              </a:lnTo>
                              <a:lnTo>
                                <a:pt x="2459" y="291"/>
                              </a:lnTo>
                              <a:lnTo>
                                <a:pt x="2276" y="416"/>
                              </a:lnTo>
                              <a:lnTo>
                                <a:pt x="2085" y="570"/>
                              </a:lnTo>
                              <a:lnTo>
                                <a:pt x="1881" y="733"/>
                              </a:lnTo>
                              <a:lnTo>
                                <a:pt x="1680" y="907"/>
                              </a:lnTo>
                              <a:lnTo>
                                <a:pt x="1363" y="1100"/>
                              </a:lnTo>
                              <a:lnTo>
                                <a:pt x="1084" y="1259"/>
                              </a:lnTo>
                              <a:lnTo>
                                <a:pt x="823" y="1427"/>
                              </a:lnTo>
                              <a:lnTo>
                                <a:pt x="534" y="1630"/>
                              </a:lnTo>
                              <a:lnTo>
                                <a:pt x="275" y="1821"/>
                              </a:lnTo>
                              <a:lnTo>
                                <a:pt x="0" y="205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42" name=""/>
                      <p:cNvGrpSpPr/>
                      <p:nvPr/>
                    </p:nvGrpSpPr>
                    <p:grpSpPr>
                      <a:xfrm>
                        <a:off x="3198600" y="4026960"/>
                        <a:ext cx="703080" cy="497880"/>
                        <a:chOff x="3198600" y="4026960"/>
                        <a:chExt cx="703080" cy="497880"/>
                      </a:xfrm>
                    </p:grpSpPr>
                    <p:sp>
                      <p:nvSpPr>
                        <p:cNvPr id="843" name=""/>
                        <p:cNvSpPr/>
                        <p:nvPr/>
                      </p:nvSpPr>
                      <p:spPr>
                        <a:xfrm rot="1408800">
                          <a:off x="3222720" y="4146480"/>
                          <a:ext cx="654480" cy="258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15" h="2355">
                              <a:moveTo>
                                <a:pt x="0" y="1690"/>
                              </a:moveTo>
                              <a:lnTo>
                                <a:pt x="1325" y="2355"/>
                              </a:lnTo>
                              <a:lnTo>
                                <a:pt x="1536" y="2160"/>
                              </a:lnTo>
                              <a:lnTo>
                                <a:pt x="1733" y="1977"/>
                              </a:lnTo>
                              <a:lnTo>
                                <a:pt x="1923" y="1811"/>
                              </a:lnTo>
                              <a:lnTo>
                                <a:pt x="2138" y="1638"/>
                              </a:lnTo>
                              <a:lnTo>
                                <a:pt x="2295" y="1508"/>
                              </a:lnTo>
                              <a:lnTo>
                                <a:pt x="2519" y="1351"/>
                              </a:lnTo>
                              <a:lnTo>
                                <a:pt x="2748" y="1186"/>
                              </a:lnTo>
                              <a:lnTo>
                                <a:pt x="2939" y="1040"/>
                              </a:lnTo>
                              <a:lnTo>
                                <a:pt x="3112" y="923"/>
                              </a:lnTo>
                              <a:lnTo>
                                <a:pt x="3280" y="811"/>
                              </a:lnTo>
                              <a:lnTo>
                                <a:pt x="3447" y="701"/>
                              </a:lnTo>
                              <a:lnTo>
                                <a:pt x="3615" y="594"/>
                              </a:lnTo>
                              <a:lnTo>
                                <a:pt x="2421" y="0"/>
                              </a:lnTo>
                              <a:lnTo>
                                <a:pt x="2226" y="112"/>
                              </a:lnTo>
                              <a:lnTo>
                                <a:pt x="2026" y="239"/>
                              </a:lnTo>
                              <a:lnTo>
                                <a:pt x="1875" y="343"/>
                              </a:lnTo>
                              <a:lnTo>
                                <a:pt x="1718" y="470"/>
                              </a:lnTo>
                              <a:lnTo>
                                <a:pt x="1550" y="604"/>
                              </a:lnTo>
                              <a:lnTo>
                                <a:pt x="1385" y="747"/>
                              </a:lnTo>
                              <a:lnTo>
                                <a:pt x="1122" y="907"/>
                              </a:lnTo>
                              <a:lnTo>
                                <a:pt x="918" y="1022"/>
                              </a:lnTo>
                              <a:lnTo>
                                <a:pt x="677" y="1178"/>
                              </a:lnTo>
                              <a:lnTo>
                                <a:pt x="440" y="1343"/>
                              </a:lnTo>
                              <a:lnTo>
                                <a:pt x="225" y="1500"/>
                              </a:lnTo>
                              <a:lnTo>
                                <a:pt x="0" y="1690"/>
                              </a:lnTo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4" name=""/>
                        <p:cNvSpPr/>
                        <p:nvPr/>
                      </p:nvSpPr>
                      <p:spPr>
                        <a:xfrm rot="1408800">
                          <a:off x="3243600" y="4153680"/>
                          <a:ext cx="614520" cy="244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94" h="2221">
                              <a:moveTo>
                                <a:pt x="0" y="1612"/>
                              </a:moveTo>
                              <a:lnTo>
                                <a:pt x="1206" y="2221"/>
                              </a:lnTo>
                              <a:lnTo>
                                <a:pt x="1407" y="2022"/>
                              </a:lnTo>
                              <a:lnTo>
                                <a:pt x="1624" y="1831"/>
                              </a:lnTo>
                              <a:lnTo>
                                <a:pt x="1796" y="1679"/>
                              </a:lnTo>
                              <a:lnTo>
                                <a:pt x="1989" y="1524"/>
                              </a:lnTo>
                              <a:lnTo>
                                <a:pt x="2131" y="1409"/>
                              </a:lnTo>
                              <a:lnTo>
                                <a:pt x="2332" y="1267"/>
                              </a:lnTo>
                              <a:lnTo>
                                <a:pt x="2537" y="1118"/>
                              </a:lnTo>
                              <a:lnTo>
                                <a:pt x="2711" y="988"/>
                              </a:lnTo>
                              <a:lnTo>
                                <a:pt x="2868" y="881"/>
                              </a:lnTo>
                              <a:lnTo>
                                <a:pt x="3017" y="781"/>
                              </a:lnTo>
                              <a:lnTo>
                                <a:pt x="3195" y="667"/>
                              </a:lnTo>
                              <a:lnTo>
                                <a:pt x="3394" y="536"/>
                              </a:lnTo>
                              <a:lnTo>
                                <a:pt x="2308" y="0"/>
                              </a:lnTo>
                              <a:lnTo>
                                <a:pt x="2119" y="113"/>
                              </a:lnTo>
                              <a:lnTo>
                                <a:pt x="1927" y="229"/>
                              </a:lnTo>
                              <a:lnTo>
                                <a:pt x="1752" y="359"/>
                              </a:lnTo>
                              <a:lnTo>
                                <a:pt x="1610" y="472"/>
                              </a:lnTo>
                              <a:lnTo>
                                <a:pt x="1459" y="594"/>
                              </a:lnTo>
                              <a:lnTo>
                                <a:pt x="1312" y="723"/>
                              </a:lnTo>
                              <a:lnTo>
                                <a:pt x="1074" y="865"/>
                              </a:lnTo>
                              <a:lnTo>
                                <a:pt x="891" y="972"/>
                              </a:lnTo>
                              <a:lnTo>
                                <a:pt x="674" y="1110"/>
                              </a:lnTo>
                              <a:lnTo>
                                <a:pt x="473" y="1261"/>
                              </a:lnTo>
                              <a:lnTo>
                                <a:pt x="265" y="1414"/>
                              </a:lnTo>
                              <a:lnTo>
                                <a:pt x="0" y="16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ffff"/>
                        </a:solidFill>
                        <a:ln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45" name=""/>
                    <p:cNvGrpSpPr/>
                    <p:nvPr/>
                  </p:nvGrpSpPr>
                  <p:grpSpPr>
                    <a:xfrm>
                      <a:off x="3272760" y="4208760"/>
                      <a:ext cx="562320" cy="132120"/>
                      <a:chOff x="3272760" y="4208760"/>
                      <a:chExt cx="562320" cy="132120"/>
                    </a:xfrm>
                  </p:grpSpPr>
                  <p:grpSp>
                    <p:nvGrpSpPr>
                      <p:cNvPr id="846" name=""/>
                      <p:cNvGrpSpPr/>
                      <p:nvPr/>
                    </p:nvGrpSpPr>
                    <p:grpSpPr>
                      <a:xfrm>
                        <a:off x="3272760" y="4212720"/>
                        <a:ext cx="62640" cy="9360"/>
                        <a:chOff x="3272760" y="4212720"/>
                        <a:chExt cx="62640" cy="9360"/>
                      </a:xfrm>
                    </p:grpSpPr>
                    <p:sp>
                      <p:nvSpPr>
                        <p:cNvPr id="847" name=""/>
                        <p:cNvSpPr/>
                        <p:nvPr/>
                      </p:nvSpPr>
                      <p:spPr>
                        <a:xfrm flipV="1">
                          <a:off x="3272760" y="4212720"/>
                          <a:ext cx="53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8" name=""/>
                        <p:cNvSpPr/>
                        <p:nvPr/>
                      </p:nvSpPr>
                      <p:spPr>
                        <a:xfrm flipV="1">
                          <a:off x="3282120" y="4220640"/>
                          <a:ext cx="5328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49" name=""/>
                      <p:cNvGrpSpPr/>
                      <p:nvPr/>
                    </p:nvGrpSpPr>
                    <p:grpSpPr>
                      <a:xfrm>
                        <a:off x="3412080" y="4325760"/>
                        <a:ext cx="59400" cy="15120"/>
                        <a:chOff x="3412080" y="4325760"/>
                        <a:chExt cx="59400" cy="15120"/>
                      </a:xfrm>
                    </p:grpSpPr>
                    <p:sp>
                      <p:nvSpPr>
                        <p:cNvPr id="850" name=""/>
                        <p:cNvSpPr/>
                        <p:nvPr/>
                      </p:nvSpPr>
                      <p:spPr>
                        <a:xfrm flipV="1">
                          <a:off x="3412080" y="4325760"/>
                          <a:ext cx="47520" cy="5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1" name=""/>
                        <p:cNvSpPr/>
                        <p:nvPr/>
                      </p:nvSpPr>
                      <p:spPr>
                        <a:xfrm flipV="1">
                          <a:off x="3423600" y="4335840"/>
                          <a:ext cx="47880" cy="50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52" name=""/>
                      <p:cNvGrpSpPr/>
                      <p:nvPr/>
                    </p:nvGrpSpPr>
                    <p:grpSpPr>
                      <a:xfrm>
                        <a:off x="3778200" y="4319280"/>
                        <a:ext cx="56880" cy="11160"/>
                        <a:chOff x="3778200" y="4319280"/>
                        <a:chExt cx="56880" cy="11160"/>
                      </a:xfrm>
                    </p:grpSpPr>
                    <p:sp>
                      <p:nvSpPr>
                        <p:cNvPr id="853" name=""/>
                        <p:cNvSpPr/>
                        <p:nvPr/>
                      </p:nvSpPr>
                      <p:spPr>
                        <a:xfrm flipH="1" flipV="1">
                          <a:off x="3789360" y="4329360"/>
                          <a:ext cx="4572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4" name=""/>
                        <p:cNvSpPr/>
                        <p:nvPr/>
                      </p:nvSpPr>
                      <p:spPr>
                        <a:xfrm flipH="1" flipV="1">
                          <a:off x="3778200" y="4319280"/>
                          <a:ext cx="4500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55" name=""/>
                      <p:cNvGrpSpPr/>
                      <p:nvPr/>
                    </p:nvGrpSpPr>
                    <p:grpSpPr>
                      <a:xfrm>
                        <a:off x="3655080" y="4214520"/>
                        <a:ext cx="53280" cy="10440"/>
                        <a:chOff x="3655080" y="4214520"/>
                        <a:chExt cx="53280" cy="10440"/>
                      </a:xfrm>
                    </p:grpSpPr>
                    <p:sp>
                      <p:nvSpPr>
                        <p:cNvPr id="856" name=""/>
                        <p:cNvSpPr/>
                        <p:nvPr/>
                      </p:nvSpPr>
                      <p:spPr>
                        <a:xfrm flipH="1" flipV="1">
                          <a:off x="3655080" y="4214520"/>
                          <a:ext cx="43920" cy="2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7" name=""/>
                        <p:cNvSpPr/>
                        <p:nvPr/>
                      </p:nvSpPr>
                      <p:spPr>
                        <a:xfrm flipH="1" flipV="1">
                          <a:off x="3664080" y="4222800"/>
                          <a:ext cx="44280" cy="21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640" bIns="-44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58" name=""/>
                      <p:cNvGrpSpPr/>
                      <p:nvPr/>
                    </p:nvGrpSpPr>
                    <p:grpSpPr>
                      <a:xfrm>
                        <a:off x="3499560" y="4208760"/>
                        <a:ext cx="167040" cy="127800"/>
                        <a:chOff x="3499560" y="4208760"/>
                        <a:chExt cx="167040" cy="127800"/>
                      </a:xfrm>
                    </p:grpSpPr>
                    <p:sp>
                      <p:nvSpPr>
                        <p:cNvPr id="859" name=""/>
                        <p:cNvSpPr/>
                        <p:nvPr/>
                      </p:nvSpPr>
                      <p:spPr>
                        <a:xfrm rot="1408800">
                          <a:off x="3508200" y="4235040"/>
                          <a:ext cx="148680" cy="74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9951" y="16535"/>
                              </a:moveTo>
                              <a:arcTo wR="10800" hR="10800" stAng="1924498" swAng="10903139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9951" y="16535"/>
                              </a:moveTo>
                              <a:arcTo wR="10800" hR="10800" stAng="1924498" swAng="10903139"/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8080" bIns="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0" name=""/>
                        <p:cNvSpPr/>
                        <p:nvPr/>
                      </p:nvSpPr>
                      <p:spPr>
                        <a:xfrm rot="1408800">
                          <a:off x="3508920" y="4235400"/>
                          <a:ext cx="148680" cy="74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693" y="4995"/>
                              </a:moveTo>
                              <a:arcTo wR="10800" hR="10800" stAng="-8849188" swAng="10861628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693" y="4995"/>
                              </a:moveTo>
                              <a:arcTo wR="10800" hR="10800" stAng="-8849188" swAng="10861628"/>
                            </a:path>
                          </a:pathLst>
                        </a:custGeom>
                        <a:noFill/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360" bIns="27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861" name=""/>
                  <p:cNvSpPr/>
                  <p:nvPr/>
                </p:nvSpPr>
                <p:spPr>
                  <a:xfrm rot="1408800">
                    <a:off x="3429720" y="4227120"/>
                    <a:ext cx="25272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7" h="2070">
                        <a:moveTo>
                          <a:pt x="0" y="0"/>
                        </a:moveTo>
                        <a:lnTo>
                          <a:pt x="1397" y="723"/>
                        </a:lnTo>
                        <a:lnTo>
                          <a:pt x="1395" y="207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2" name=""/>
                <p:cNvSpPr/>
                <p:nvPr/>
              </p:nvSpPr>
              <p:spPr>
                <a:xfrm>
                  <a:off x="3232080" y="4540320"/>
                  <a:ext cx="5968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Funding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3" name=""/>
              <p:cNvGrpSpPr/>
              <p:nvPr/>
            </p:nvGrpSpPr>
            <p:grpSpPr>
              <a:xfrm>
                <a:off x="636480" y="5797440"/>
                <a:ext cx="831960" cy="618480"/>
                <a:chOff x="636480" y="5797440"/>
                <a:chExt cx="831960" cy="618480"/>
              </a:xfrm>
            </p:grpSpPr>
            <p:grpSp>
              <p:nvGrpSpPr>
                <p:cNvPr id="864" name=""/>
                <p:cNvGrpSpPr/>
                <p:nvPr/>
              </p:nvGrpSpPr>
              <p:grpSpPr>
                <a:xfrm>
                  <a:off x="668160" y="5797440"/>
                  <a:ext cx="800280" cy="384120"/>
                  <a:chOff x="668160" y="5797440"/>
                  <a:chExt cx="800280" cy="384120"/>
                </a:xfrm>
              </p:grpSpPr>
              <p:sp>
                <p:nvSpPr>
                  <p:cNvPr id="865" name=""/>
                  <p:cNvSpPr/>
                  <p:nvPr/>
                </p:nvSpPr>
                <p:spPr>
                  <a:xfrm>
                    <a:off x="772920" y="5995800"/>
                    <a:ext cx="5922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3888" h="541">
                        <a:moveTo>
                          <a:pt x="0" y="540"/>
                        </a:moveTo>
                        <a:lnTo>
                          <a:pt x="0" y="0"/>
                        </a:lnTo>
                        <a:lnTo>
                          <a:pt x="3888" y="0"/>
                        </a:lnTo>
                        <a:lnTo>
                          <a:pt x="3888" y="541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880" bIns="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1074600" y="5892840"/>
                    <a:ext cx="0" cy="196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963360" y="5797440"/>
                    <a:ext cx="209520" cy="95400"/>
                  </a:xfrm>
                  <a:prstGeom prst="rect">
                    <a:avLst/>
                  </a:prstGeom>
                  <a:solidFill>
                    <a:srgbClr val="0099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68" name=""/>
                  <p:cNvGrpSpPr/>
                  <p:nvPr/>
                </p:nvGrpSpPr>
                <p:grpSpPr>
                  <a:xfrm>
                    <a:off x="668160" y="6086520"/>
                    <a:ext cx="800280" cy="95040"/>
                    <a:chOff x="668160" y="6086520"/>
                    <a:chExt cx="800280" cy="95040"/>
                  </a:xfrm>
                </p:grpSpPr>
                <p:sp>
                  <p:nvSpPr>
                    <p:cNvPr id="869" name=""/>
                    <p:cNvSpPr/>
                    <p:nvPr/>
                  </p:nvSpPr>
                  <p:spPr>
                    <a:xfrm>
                      <a:off x="966600" y="6086520"/>
                      <a:ext cx="209520" cy="95040"/>
                    </a:xfrm>
                    <a:prstGeom prst="rect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0" name=""/>
                    <p:cNvSpPr/>
                    <p:nvPr/>
                  </p:nvSpPr>
                  <p:spPr>
                    <a:xfrm>
                      <a:off x="1258920" y="6086520"/>
                      <a:ext cx="209520" cy="95040"/>
                    </a:xfrm>
                    <a:prstGeom prst="rect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668160" y="6086520"/>
                      <a:ext cx="209520" cy="95040"/>
                    </a:xfrm>
                    <a:prstGeom prst="rect">
                      <a:avLst/>
                    </a:prstGeom>
                    <a:solidFill>
                      <a:srgbClr val="0099cc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72" name=""/>
                <p:cNvSpPr/>
                <p:nvPr/>
              </p:nvSpPr>
              <p:spPr>
                <a:xfrm>
                  <a:off x="636480" y="6184800"/>
                  <a:ext cx="8316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Organiza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3" name=""/>
              <p:cNvSpPr/>
              <p:nvPr/>
            </p:nvSpPr>
            <p:spPr>
              <a:xfrm>
                <a:off x="588240" y="4019400"/>
                <a:ext cx="1209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enguiat Bk BT"/>
                  </a:rPr>
                  <a:t>Resourc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4" name=""/>
              <p:cNvGrpSpPr/>
              <p:nvPr/>
            </p:nvGrpSpPr>
            <p:grpSpPr>
              <a:xfrm>
                <a:off x="3076920" y="5645160"/>
                <a:ext cx="764280" cy="812160"/>
                <a:chOff x="3076920" y="5645160"/>
                <a:chExt cx="764280" cy="81216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3076920" y="6226200"/>
                  <a:ext cx="764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Curriculum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6" name=""/>
                <p:cNvGrpSpPr/>
                <p:nvPr/>
              </p:nvGrpSpPr>
              <p:grpSpPr>
                <a:xfrm>
                  <a:off x="3152880" y="5645160"/>
                  <a:ext cx="579240" cy="614160"/>
                  <a:chOff x="3152880" y="5645160"/>
                  <a:chExt cx="579240" cy="614160"/>
                </a:xfrm>
              </p:grpSpPr>
              <p:grpSp>
                <p:nvGrpSpPr>
                  <p:cNvPr id="877" name=""/>
                  <p:cNvGrpSpPr/>
                  <p:nvPr/>
                </p:nvGrpSpPr>
                <p:grpSpPr>
                  <a:xfrm>
                    <a:off x="3240000" y="5645160"/>
                    <a:ext cx="492120" cy="614160"/>
                    <a:chOff x="3240000" y="5645160"/>
                    <a:chExt cx="492120" cy="614160"/>
                  </a:xfrm>
                </p:grpSpPr>
                <p:sp>
                  <p:nvSpPr>
                    <p:cNvPr id="878" name=""/>
                    <p:cNvSpPr/>
                    <p:nvPr/>
                  </p:nvSpPr>
                  <p:spPr>
                    <a:xfrm>
                      <a:off x="3442680" y="5651280"/>
                      <a:ext cx="175680" cy="10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41" h="1468">
                          <a:moveTo>
                            <a:pt x="1338" y="0"/>
                          </a:moveTo>
                          <a:lnTo>
                            <a:pt x="1178" y="382"/>
                          </a:lnTo>
                          <a:lnTo>
                            <a:pt x="426" y="252"/>
                          </a:lnTo>
                          <a:lnTo>
                            <a:pt x="160" y="417"/>
                          </a:lnTo>
                          <a:lnTo>
                            <a:pt x="0" y="711"/>
                          </a:lnTo>
                          <a:lnTo>
                            <a:pt x="68" y="964"/>
                          </a:lnTo>
                          <a:lnTo>
                            <a:pt x="492" y="1175"/>
                          </a:lnTo>
                          <a:lnTo>
                            <a:pt x="2222" y="1468"/>
                          </a:lnTo>
                          <a:lnTo>
                            <a:pt x="2189" y="1175"/>
                          </a:lnTo>
                          <a:lnTo>
                            <a:pt x="2316" y="922"/>
                          </a:lnTo>
                          <a:lnTo>
                            <a:pt x="2641" y="839"/>
                          </a:lnTo>
                          <a:lnTo>
                            <a:pt x="2549" y="627"/>
                          </a:lnTo>
                          <a:lnTo>
                            <a:pt x="1896" y="503"/>
                          </a:lnTo>
                          <a:lnTo>
                            <a:pt x="2056" y="210"/>
                          </a:lnTo>
                          <a:lnTo>
                            <a:pt x="1338" y="0"/>
                          </a:lnTo>
                          <a:close/>
                        </a:path>
                      </a:pathLst>
                    </a:custGeom>
                    <a:solidFill>
                      <a:srgbClr val="00eaff"/>
                    </a:solidFill>
                    <a:ln w="0">
                      <a:solidFill>
                        <a:srgbClr val="00ea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>
                      <a:off x="3448800" y="5681160"/>
                      <a:ext cx="13896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8" h="676">
                          <a:moveTo>
                            <a:pt x="59" y="0"/>
                          </a:moveTo>
                          <a:lnTo>
                            <a:pt x="2088" y="382"/>
                          </a:lnTo>
                          <a:lnTo>
                            <a:pt x="1923" y="505"/>
                          </a:lnTo>
                          <a:lnTo>
                            <a:pt x="1821" y="676"/>
                          </a:lnTo>
                          <a:lnTo>
                            <a:pt x="1729" y="547"/>
                          </a:lnTo>
                          <a:lnTo>
                            <a:pt x="1630" y="630"/>
                          </a:lnTo>
                          <a:lnTo>
                            <a:pt x="1529" y="505"/>
                          </a:lnTo>
                          <a:lnTo>
                            <a:pt x="1336" y="547"/>
                          </a:lnTo>
                          <a:lnTo>
                            <a:pt x="1272" y="466"/>
                          </a:lnTo>
                          <a:lnTo>
                            <a:pt x="1077" y="505"/>
                          </a:lnTo>
                          <a:lnTo>
                            <a:pt x="1010" y="422"/>
                          </a:lnTo>
                          <a:lnTo>
                            <a:pt x="846" y="466"/>
                          </a:lnTo>
                          <a:lnTo>
                            <a:pt x="777" y="382"/>
                          </a:lnTo>
                          <a:lnTo>
                            <a:pt x="617" y="466"/>
                          </a:lnTo>
                          <a:lnTo>
                            <a:pt x="553" y="340"/>
                          </a:lnTo>
                          <a:lnTo>
                            <a:pt x="391" y="382"/>
                          </a:lnTo>
                          <a:lnTo>
                            <a:pt x="360" y="254"/>
                          </a:lnTo>
                          <a:lnTo>
                            <a:pt x="127" y="340"/>
                          </a:lnTo>
                          <a:lnTo>
                            <a:pt x="94" y="210"/>
                          </a:lnTo>
                          <a:lnTo>
                            <a:pt x="0" y="129"/>
                          </a:lnTo>
                          <a:lnTo>
                            <a:pt x="59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" bIns="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3296520" y="6053400"/>
                      <a:ext cx="278640" cy="15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77" h="2181">
                          <a:moveTo>
                            <a:pt x="0" y="1215"/>
                          </a:moveTo>
                          <a:lnTo>
                            <a:pt x="2872" y="1805"/>
                          </a:lnTo>
                          <a:lnTo>
                            <a:pt x="4177" y="0"/>
                          </a:lnTo>
                          <a:lnTo>
                            <a:pt x="2805" y="2181"/>
                          </a:lnTo>
                          <a:lnTo>
                            <a:pt x="0" y="121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solidFill>
                        <a:srgbClr val="ffffff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3342960" y="5645160"/>
                      <a:ext cx="372960" cy="19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02" h="2694">
                          <a:moveTo>
                            <a:pt x="0" y="2694"/>
                          </a:moveTo>
                          <a:lnTo>
                            <a:pt x="459" y="2104"/>
                          </a:lnTo>
                          <a:lnTo>
                            <a:pt x="685" y="1418"/>
                          </a:lnTo>
                          <a:lnTo>
                            <a:pt x="770" y="1023"/>
                          </a:lnTo>
                          <a:lnTo>
                            <a:pt x="846" y="531"/>
                          </a:lnTo>
                          <a:lnTo>
                            <a:pt x="1471" y="713"/>
                          </a:lnTo>
                          <a:lnTo>
                            <a:pt x="1686" y="432"/>
                          </a:lnTo>
                          <a:lnTo>
                            <a:pt x="1923" y="337"/>
                          </a:lnTo>
                          <a:lnTo>
                            <a:pt x="2688" y="425"/>
                          </a:lnTo>
                          <a:lnTo>
                            <a:pt x="2820" y="50"/>
                          </a:lnTo>
                          <a:lnTo>
                            <a:pt x="3218" y="0"/>
                          </a:lnTo>
                          <a:lnTo>
                            <a:pt x="3503" y="83"/>
                          </a:lnTo>
                          <a:lnTo>
                            <a:pt x="3686" y="337"/>
                          </a:lnTo>
                          <a:lnTo>
                            <a:pt x="3613" y="630"/>
                          </a:lnTo>
                          <a:lnTo>
                            <a:pt x="4332" y="757"/>
                          </a:lnTo>
                          <a:lnTo>
                            <a:pt x="4459" y="1049"/>
                          </a:lnTo>
                          <a:lnTo>
                            <a:pt x="4459" y="1221"/>
                          </a:lnTo>
                          <a:lnTo>
                            <a:pt x="5294" y="1316"/>
                          </a:lnTo>
                          <a:lnTo>
                            <a:pt x="5602" y="1316"/>
                          </a:lnTo>
                          <a:lnTo>
                            <a:pt x="4487" y="1304"/>
                          </a:lnTo>
                          <a:lnTo>
                            <a:pt x="3806" y="1137"/>
                          </a:lnTo>
                          <a:lnTo>
                            <a:pt x="3686" y="1418"/>
                          </a:lnTo>
                          <a:lnTo>
                            <a:pt x="3914" y="1515"/>
                          </a:lnTo>
                          <a:lnTo>
                            <a:pt x="3707" y="1943"/>
                          </a:lnTo>
                          <a:lnTo>
                            <a:pt x="1764" y="1611"/>
                          </a:lnTo>
                          <a:lnTo>
                            <a:pt x="1962" y="1176"/>
                          </a:lnTo>
                          <a:lnTo>
                            <a:pt x="3602" y="1475"/>
                          </a:lnTo>
                          <a:lnTo>
                            <a:pt x="3525" y="1221"/>
                          </a:lnTo>
                          <a:lnTo>
                            <a:pt x="3613" y="1023"/>
                          </a:lnTo>
                          <a:lnTo>
                            <a:pt x="3936" y="757"/>
                          </a:lnTo>
                          <a:lnTo>
                            <a:pt x="3149" y="630"/>
                          </a:lnTo>
                          <a:lnTo>
                            <a:pt x="3378" y="337"/>
                          </a:lnTo>
                          <a:lnTo>
                            <a:pt x="3310" y="171"/>
                          </a:lnTo>
                          <a:lnTo>
                            <a:pt x="3073" y="138"/>
                          </a:lnTo>
                          <a:lnTo>
                            <a:pt x="2923" y="171"/>
                          </a:lnTo>
                          <a:lnTo>
                            <a:pt x="2762" y="531"/>
                          </a:lnTo>
                          <a:lnTo>
                            <a:pt x="1934" y="425"/>
                          </a:lnTo>
                          <a:lnTo>
                            <a:pt x="1630" y="674"/>
                          </a:lnTo>
                          <a:lnTo>
                            <a:pt x="1614" y="918"/>
                          </a:lnTo>
                          <a:lnTo>
                            <a:pt x="1764" y="1122"/>
                          </a:lnTo>
                          <a:lnTo>
                            <a:pt x="1923" y="1221"/>
                          </a:lnTo>
                          <a:lnTo>
                            <a:pt x="1614" y="1122"/>
                          </a:lnTo>
                          <a:lnTo>
                            <a:pt x="1459" y="1023"/>
                          </a:lnTo>
                          <a:lnTo>
                            <a:pt x="1459" y="823"/>
                          </a:lnTo>
                          <a:lnTo>
                            <a:pt x="913" y="674"/>
                          </a:lnTo>
                          <a:lnTo>
                            <a:pt x="685" y="1805"/>
                          </a:lnTo>
                          <a:lnTo>
                            <a:pt x="0" y="269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>
                      <a:off x="3240000" y="5738760"/>
                      <a:ext cx="492120" cy="52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382" h="7285">
                          <a:moveTo>
                            <a:pt x="6995" y="102"/>
                          </a:moveTo>
                          <a:lnTo>
                            <a:pt x="5916" y="2362"/>
                          </a:lnTo>
                          <a:lnTo>
                            <a:pt x="4689" y="4226"/>
                          </a:lnTo>
                          <a:lnTo>
                            <a:pt x="3536" y="5806"/>
                          </a:lnTo>
                          <a:lnTo>
                            <a:pt x="1927" y="5612"/>
                          </a:lnTo>
                          <a:lnTo>
                            <a:pt x="998" y="5414"/>
                          </a:lnTo>
                          <a:lnTo>
                            <a:pt x="3536" y="6006"/>
                          </a:lnTo>
                          <a:lnTo>
                            <a:pt x="4463" y="4923"/>
                          </a:lnTo>
                          <a:lnTo>
                            <a:pt x="5386" y="3548"/>
                          </a:lnTo>
                          <a:lnTo>
                            <a:pt x="6451" y="1571"/>
                          </a:lnTo>
                          <a:lnTo>
                            <a:pt x="5226" y="4039"/>
                          </a:lnTo>
                          <a:lnTo>
                            <a:pt x="3733" y="6513"/>
                          </a:lnTo>
                          <a:lnTo>
                            <a:pt x="5840" y="3445"/>
                          </a:lnTo>
                          <a:lnTo>
                            <a:pt x="5043" y="5127"/>
                          </a:lnTo>
                          <a:lnTo>
                            <a:pt x="3995" y="6888"/>
                          </a:lnTo>
                          <a:lnTo>
                            <a:pt x="2806" y="6513"/>
                          </a:lnTo>
                          <a:lnTo>
                            <a:pt x="1697" y="6216"/>
                          </a:lnTo>
                          <a:lnTo>
                            <a:pt x="0" y="5907"/>
                          </a:lnTo>
                          <a:lnTo>
                            <a:pt x="2225" y="6490"/>
                          </a:lnTo>
                          <a:lnTo>
                            <a:pt x="3767" y="7082"/>
                          </a:lnTo>
                          <a:lnTo>
                            <a:pt x="4153" y="7285"/>
                          </a:lnTo>
                          <a:lnTo>
                            <a:pt x="5916" y="3741"/>
                          </a:lnTo>
                          <a:lnTo>
                            <a:pt x="6995" y="1378"/>
                          </a:lnTo>
                          <a:lnTo>
                            <a:pt x="7382" y="295"/>
                          </a:lnTo>
                          <a:lnTo>
                            <a:pt x="7071" y="396"/>
                          </a:lnTo>
                          <a:lnTo>
                            <a:pt x="7225" y="0"/>
                          </a:lnTo>
                          <a:lnTo>
                            <a:pt x="6995" y="10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3" name=""/>
                    <p:cNvSpPr/>
                    <p:nvPr/>
                  </p:nvSpPr>
                  <p:spPr>
                    <a:xfrm>
                      <a:off x="3258720" y="6135480"/>
                      <a:ext cx="22320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53" h="1048">
                          <a:moveTo>
                            <a:pt x="0" y="0"/>
                          </a:moveTo>
                          <a:lnTo>
                            <a:pt x="3255" y="793"/>
                          </a:lnTo>
                          <a:lnTo>
                            <a:pt x="3353" y="104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84" name=""/>
                  <p:cNvSpPr/>
                  <p:nvPr/>
                </p:nvSpPr>
                <p:spPr>
                  <a:xfrm>
                    <a:off x="3152880" y="5695200"/>
                    <a:ext cx="57852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5" h="800">
                        <a:moveTo>
                          <a:pt x="473" y="0"/>
                        </a:moveTo>
                        <a:lnTo>
                          <a:pt x="445" y="134"/>
                        </a:lnTo>
                        <a:cubicBezTo>
                          <a:pt x="407" y="194"/>
                          <a:pt x="336" y="290"/>
                          <a:pt x="246" y="362"/>
                        </a:cubicBezTo>
                        <a:cubicBezTo>
                          <a:pt x="156" y="434"/>
                          <a:pt x="0" y="585"/>
                          <a:pt x="3" y="650"/>
                        </a:cubicBezTo>
                        <a:lnTo>
                          <a:pt x="291" y="756"/>
                        </a:lnTo>
                        <a:cubicBezTo>
                          <a:pt x="392" y="781"/>
                          <a:pt x="501" y="796"/>
                          <a:pt x="609" y="800"/>
                        </a:cubicBezTo>
                        <a:cubicBezTo>
                          <a:pt x="700" y="748"/>
                          <a:pt x="781" y="542"/>
                          <a:pt x="865" y="428"/>
                        </a:cubicBezTo>
                        <a:cubicBezTo>
                          <a:pt x="949" y="314"/>
                          <a:pt x="1005" y="152"/>
                          <a:pt x="1041" y="90"/>
                        </a:cubicBezTo>
                        <a:cubicBezTo>
                          <a:pt x="1044" y="84"/>
                          <a:pt x="1085" y="78"/>
                          <a:pt x="1065" y="76"/>
                        </a:cubicBezTo>
                        <a:cubicBezTo>
                          <a:pt x="1045" y="74"/>
                          <a:pt x="962" y="81"/>
                          <a:pt x="923" y="78"/>
                        </a:cubicBezTo>
                        <a:lnTo>
                          <a:pt x="833" y="56"/>
                        </a:lnTo>
                        <a:lnTo>
                          <a:pt x="819" y="92"/>
                        </a:lnTo>
                        <a:lnTo>
                          <a:pt x="849" y="100"/>
                        </a:lnTo>
                        <a:lnTo>
                          <a:pt x="817" y="156"/>
                        </a:lnTo>
                        <a:lnTo>
                          <a:pt x="575" y="112"/>
                        </a:lnTo>
                        <a:lnTo>
                          <a:pt x="601" y="66"/>
                        </a:lnTo>
                        <a:lnTo>
                          <a:pt x="539" y="40"/>
                        </a:lnTo>
                        <a:lnTo>
                          <a:pt x="539" y="14"/>
                        </a:lnTo>
                        <a:lnTo>
                          <a:pt x="473" y="0"/>
                        </a:lnTo>
                        <a:lnTo>
                          <a:pt x="47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2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885" name=""/>
          <p:cNvGrpSpPr/>
          <p:nvPr/>
        </p:nvGrpSpPr>
        <p:grpSpPr>
          <a:xfrm>
            <a:off x="4675320" y="3379680"/>
            <a:ext cx="1790640" cy="3332160"/>
            <a:chOff x="4675320" y="3379680"/>
            <a:chExt cx="1790640" cy="3332160"/>
          </a:xfrm>
        </p:grpSpPr>
        <p:grpSp>
          <p:nvGrpSpPr>
            <p:cNvPr id="886" name=""/>
            <p:cNvGrpSpPr/>
            <p:nvPr/>
          </p:nvGrpSpPr>
          <p:grpSpPr>
            <a:xfrm>
              <a:off x="4675320" y="3968640"/>
              <a:ext cx="1790640" cy="2743200"/>
              <a:chOff x="4675320" y="3968640"/>
              <a:chExt cx="1790640" cy="2743200"/>
            </a:xfrm>
          </p:grpSpPr>
          <p:sp>
            <p:nvSpPr>
              <p:cNvPr id="887" name=""/>
              <p:cNvSpPr/>
              <p:nvPr/>
            </p:nvSpPr>
            <p:spPr>
              <a:xfrm>
                <a:off x="4675320" y="3968640"/>
                <a:ext cx="1790640" cy="274320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e1e1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8" name=""/>
              <p:cNvGrpSpPr/>
              <p:nvPr/>
            </p:nvGrpSpPr>
            <p:grpSpPr>
              <a:xfrm>
                <a:off x="4827600" y="4044960"/>
                <a:ext cx="584280" cy="809280"/>
                <a:chOff x="4827600" y="4044960"/>
                <a:chExt cx="584280" cy="80928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5131800" y="4174200"/>
                  <a:ext cx="147240" cy="71640"/>
                </a:xfrm>
                <a:custGeom>
                  <a:avLst/>
                  <a:gdLst/>
                  <a:ahLst/>
                  <a:rect l="l" t="t" r="r" b="b"/>
                  <a:pathLst>
                    <a:path w="2215" h="939">
                      <a:moveTo>
                        <a:pt x="87" y="125"/>
                      </a:moveTo>
                      <a:lnTo>
                        <a:pt x="142" y="60"/>
                      </a:lnTo>
                      <a:lnTo>
                        <a:pt x="506" y="244"/>
                      </a:lnTo>
                      <a:lnTo>
                        <a:pt x="676" y="0"/>
                      </a:lnTo>
                      <a:lnTo>
                        <a:pt x="1299" y="423"/>
                      </a:lnTo>
                      <a:lnTo>
                        <a:pt x="1924" y="423"/>
                      </a:lnTo>
                      <a:lnTo>
                        <a:pt x="2215" y="618"/>
                      </a:lnTo>
                      <a:lnTo>
                        <a:pt x="567" y="847"/>
                      </a:lnTo>
                      <a:lnTo>
                        <a:pt x="469" y="939"/>
                      </a:lnTo>
                      <a:lnTo>
                        <a:pt x="308" y="661"/>
                      </a:lnTo>
                      <a:lnTo>
                        <a:pt x="335" y="558"/>
                      </a:lnTo>
                      <a:lnTo>
                        <a:pt x="0" y="289"/>
                      </a:lnTo>
                      <a:lnTo>
                        <a:pt x="87" y="12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5191560" y="4255200"/>
                  <a:ext cx="219240" cy="353880"/>
                </a:xfrm>
                <a:custGeom>
                  <a:avLst/>
                  <a:gdLst/>
                  <a:ahLst/>
                  <a:rect l="l" t="t" r="r" b="b"/>
                  <a:pathLst>
                    <a:path w="3291" h="4611">
                      <a:moveTo>
                        <a:pt x="0" y="0"/>
                      </a:moveTo>
                      <a:lnTo>
                        <a:pt x="3098" y="0"/>
                      </a:lnTo>
                      <a:lnTo>
                        <a:pt x="3291" y="123"/>
                      </a:lnTo>
                      <a:lnTo>
                        <a:pt x="3291" y="4227"/>
                      </a:lnTo>
                      <a:lnTo>
                        <a:pt x="3059" y="4227"/>
                      </a:lnTo>
                      <a:lnTo>
                        <a:pt x="3059" y="4611"/>
                      </a:lnTo>
                      <a:lnTo>
                        <a:pt x="1458" y="4611"/>
                      </a:lnTo>
                      <a:lnTo>
                        <a:pt x="1458" y="2809"/>
                      </a:lnTo>
                      <a:lnTo>
                        <a:pt x="1160" y="1924"/>
                      </a:lnTo>
                      <a:lnTo>
                        <a:pt x="1440" y="1924"/>
                      </a:lnTo>
                      <a:lnTo>
                        <a:pt x="1655" y="2507"/>
                      </a:lnTo>
                      <a:lnTo>
                        <a:pt x="1655" y="1343"/>
                      </a:lnTo>
                      <a:lnTo>
                        <a:pt x="41" y="934"/>
                      </a:lnTo>
                      <a:lnTo>
                        <a:pt x="0" y="40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5167440" y="4368240"/>
                  <a:ext cx="70560" cy="61560"/>
                </a:xfrm>
                <a:custGeom>
                  <a:avLst/>
                  <a:gdLst/>
                  <a:ahLst/>
                  <a:rect l="l" t="t" r="r" b="b"/>
                  <a:pathLst>
                    <a:path w="1065" h="812">
                      <a:moveTo>
                        <a:pt x="0" y="309"/>
                      </a:moveTo>
                      <a:lnTo>
                        <a:pt x="415" y="0"/>
                      </a:lnTo>
                      <a:lnTo>
                        <a:pt x="831" y="0"/>
                      </a:lnTo>
                      <a:lnTo>
                        <a:pt x="1065" y="281"/>
                      </a:lnTo>
                      <a:lnTo>
                        <a:pt x="572" y="482"/>
                      </a:lnTo>
                      <a:lnTo>
                        <a:pt x="237" y="812"/>
                      </a:lnTo>
                      <a:lnTo>
                        <a:pt x="0" y="309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solidFill>
                    <a:srgbClr val="ffea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827600" y="4252680"/>
                  <a:ext cx="483840" cy="601560"/>
                </a:xfrm>
                <a:custGeom>
                  <a:avLst/>
                  <a:gdLst/>
                  <a:ahLst/>
                  <a:rect l="l" t="t" r="r" b="b"/>
                  <a:pathLst>
                    <a:path w="7258" h="7875">
                      <a:moveTo>
                        <a:pt x="3413" y="253"/>
                      </a:moveTo>
                      <a:lnTo>
                        <a:pt x="3608" y="809"/>
                      </a:lnTo>
                      <a:lnTo>
                        <a:pt x="3489" y="1495"/>
                      </a:lnTo>
                      <a:lnTo>
                        <a:pt x="3511" y="1848"/>
                      </a:lnTo>
                      <a:lnTo>
                        <a:pt x="3530" y="2027"/>
                      </a:lnTo>
                      <a:lnTo>
                        <a:pt x="3667" y="1925"/>
                      </a:lnTo>
                      <a:lnTo>
                        <a:pt x="3708" y="1902"/>
                      </a:lnTo>
                      <a:lnTo>
                        <a:pt x="3843" y="2000"/>
                      </a:lnTo>
                      <a:lnTo>
                        <a:pt x="5084" y="1772"/>
                      </a:lnTo>
                      <a:lnTo>
                        <a:pt x="5379" y="2154"/>
                      </a:lnTo>
                      <a:lnTo>
                        <a:pt x="4105" y="2714"/>
                      </a:lnTo>
                      <a:lnTo>
                        <a:pt x="4338" y="2890"/>
                      </a:lnTo>
                      <a:lnTo>
                        <a:pt x="4377" y="3015"/>
                      </a:lnTo>
                      <a:lnTo>
                        <a:pt x="4556" y="3113"/>
                      </a:lnTo>
                      <a:lnTo>
                        <a:pt x="4593" y="3370"/>
                      </a:lnTo>
                      <a:lnTo>
                        <a:pt x="4770" y="3370"/>
                      </a:lnTo>
                      <a:lnTo>
                        <a:pt x="4930" y="3444"/>
                      </a:lnTo>
                      <a:lnTo>
                        <a:pt x="5264" y="3522"/>
                      </a:lnTo>
                      <a:lnTo>
                        <a:pt x="5425" y="3472"/>
                      </a:lnTo>
                      <a:lnTo>
                        <a:pt x="5540" y="3495"/>
                      </a:lnTo>
                      <a:lnTo>
                        <a:pt x="6291" y="3140"/>
                      </a:lnTo>
                      <a:lnTo>
                        <a:pt x="6843" y="3092"/>
                      </a:lnTo>
                      <a:lnTo>
                        <a:pt x="7119" y="3242"/>
                      </a:lnTo>
                      <a:lnTo>
                        <a:pt x="7258" y="4002"/>
                      </a:lnTo>
                      <a:lnTo>
                        <a:pt x="7156" y="4230"/>
                      </a:lnTo>
                      <a:lnTo>
                        <a:pt x="6468" y="4663"/>
                      </a:lnTo>
                      <a:lnTo>
                        <a:pt x="4969" y="5041"/>
                      </a:lnTo>
                      <a:lnTo>
                        <a:pt x="4076" y="4887"/>
                      </a:lnTo>
                      <a:lnTo>
                        <a:pt x="3575" y="4663"/>
                      </a:lnTo>
                      <a:lnTo>
                        <a:pt x="3179" y="3831"/>
                      </a:lnTo>
                      <a:lnTo>
                        <a:pt x="3041" y="6330"/>
                      </a:lnTo>
                      <a:lnTo>
                        <a:pt x="2780" y="7875"/>
                      </a:lnTo>
                      <a:lnTo>
                        <a:pt x="2088" y="7875"/>
                      </a:lnTo>
                      <a:lnTo>
                        <a:pt x="1577" y="7571"/>
                      </a:lnTo>
                      <a:lnTo>
                        <a:pt x="1499" y="7396"/>
                      </a:lnTo>
                      <a:lnTo>
                        <a:pt x="136" y="6330"/>
                      </a:lnTo>
                      <a:lnTo>
                        <a:pt x="0" y="5875"/>
                      </a:lnTo>
                      <a:lnTo>
                        <a:pt x="17" y="5041"/>
                      </a:lnTo>
                      <a:lnTo>
                        <a:pt x="236" y="3698"/>
                      </a:lnTo>
                      <a:lnTo>
                        <a:pt x="471" y="3219"/>
                      </a:lnTo>
                      <a:lnTo>
                        <a:pt x="651" y="2634"/>
                      </a:lnTo>
                      <a:lnTo>
                        <a:pt x="708" y="2127"/>
                      </a:lnTo>
                      <a:lnTo>
                        <a:pt x="885" y="1318"/>
                      </a:lnTo>
                      <a:lnTo>
                        <a:pt x="1144" y="733"/>
                      </a:lnTo>
                      <a:lnTo>
                        <a:pt x="1737" y="128"/>
                      </a:lnTo>
                      <a:lnTo>
                        <a:pt x="3019" y="0"/>
                      </a:lnTo>
                      <a:lnTo>
                        <a:pt x="3413" y="253"/>
                      </a:lnTo>
                      <a:close/>
                    </a:path>
                  </a:pathLst>
                </a:custGeom>
                <a:solidFill>
                  <a:srgbClr val="00eaff"/>
                </a:solidFill>
                <a:ln w="0">
                  <a:solidFill>
                    <a:srgbClr val="00ea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4921920" y="4044960"/>
                  <a:ext cx="249120" cy="251640"/>
                </a:xfrm>
                <a:custGeom>
                  <a:avLst/>
                  <a:gdLst/>
                  <a:ahLst/>
                  <a:rect l="l" t="t" r="r" b="b"/>
                  <a:pathLst>
                    <a:path w="3741" h="3302">
                      <a:moveTo>
                        <a:pt x="2189" y="2655"/>
                      </a:moveTo>
                      <a:lnTo>
                        <a:pt x="2199" y="2833"/>
                      </a:lnTo>
                      <a:lnTo>
                        <a:pt x="1998" y="2958"/>
                      </a:lnTo>
                      <a:lnTo>
                        <a:pt x="1893" y="2944"/>
                      </a:lnTo>
                      <a:lnTo>
                        <a:pt x="1817" y="3048"/>
                      </a:lnTo>
                      <a:lnTo>
                        <a:pt x="1862" y="3175"/>
                      </a:lnTo>
                      <a:lnTo>
                        <a:pt x="1796" y="3302"/>
                      </a:lnTo>
                      <a:lnTo>
                        <a:pt x="1238" y="3252"/>
                      </a:lnTo>
                      <a:lnTo>
                        <a:pt x="1109" y="3012"/>
                      </a:lnTo>
                      <a:lnTo>
                        <a:pt x="952" y="2958"/>
                      </a:lnTo>
                      <a:lnTo>
                        <a:pt x="667" y="2973"/>
                      </a:lnTo>
                      <a:lnTo>
                        <a:pt x="589" y="2821"/>
                      </a:lnTo>
                      <a:lnTo>
                        <a:pt x="216" y="3022"/>
                      </a:lnTo>
                      <a:lnTo>
                        <a:pt x="0" y="2645"/>
                      </a:lnTo>
                      <a:lnTo>
                        <a:pt x="156" y="2517"/>
                      </a:lnTo>
                      <a:lnTo>
                        <a:pt x="275" y="2341"/>
                      </a:lnTo>
                      <a:lnTo>
                        <a:pt x="234" y="2228"/>
                      </a:lnTo>
                      <a:lnTo>
                        <a:pt x="285" y="2079"/>
                      </a:lnTo>
                      <a:lnTo>
                        <a:pt x="596" y="1889"/>
                      </a:lnTo>
                      <a:lnTo>
                        <a:pt x="930" y="1347"/>
                      </a:lnTo>
                      <a:lnTo>
                        <a:pt x="1156" y="581"/>
                      </a:lnTo>
                      <a:lnTo>
                        <a:pt x="1481" y="214"/>
                      </a:lnTo>
                      <a:lnTo>
                        <a:pt x="1706" y="47"/>
                      </a:lnTo>
                      <a:lnTo>
                        <a:pt x="2176" y="0"/>
                      </a:lnTo>
                      <a:lnTo>
                        <a:pt x="2706" y="99"/>
                      </a:lnTo>
                      <a:lnTo>
                        <a:pt x="3090" y="355"/>
                      </a:lnTo>
                      <a:lnTo>
                        <a:pt x="3461" y="554"/>
                      </a:lnTo>
                      <a:lnTo>
                        <a:pt x="3610" y="706"/>
                      </a:lnTo>
                      <a:lnTo>
                        <a:pt x="3710" y="872"/>
                      </a:lnTo>
                      <a:lnTo>
                        <a:pt x="3741" y="1032"/>
                      </a:lnTo>
                      <a:lnTo>
                        <a:pt x="3741" y="1287"/>
                      </a:lnTo>
                      <a:lnTo>
                        <a:pt x="3618" y="1460"/>
                      </a:lnTo>
                      <a:lnTo>
                        <a:pt x="3499" y="1523"/>
                      </a:lnTo>
                      <a:lnTo>
                        <a:pt x="3495" y="1460"/>
                      </a:lnTo>
                      <a:lnTo>
                        <a:pt x="2982" y="1626"/>
                      </a:lnTo>
                      <a:lnTo>
                        <a:pt x="2189" y="2655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solidFill>
                    <a:srgbClr val="ffea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035680" y="4142520"/>
                  <a:ext cx="111240" cy="122400"/>
                </a:xfrm>
                <a:custGeom>
                  <a:avLst/>
                  <a:gdLst/>
                  <a:ahLst/>
                  <a:rect l="l" t="t" r="r" b="b"/>
                  <a:pathLst>
                    <a:path w="1663" h="1604">
                      <a:moveTo>
                        <a:pt x="209" y="11"/>
                      </a:moveTo>
                      <a:lnTo>
                        <a:pt x="78" y="113"/>
                      </a:lnTo>
                      <a:lnTo>
                        <a:pt x="64" y="201"/>
                      </a:lnTo>
                      <a:lnTo>
                        <a:pt x="107" y="471"/>
                      </a:lnTo>
                      <a:lnTo>
                        <a:pt x="0" y="702"/>
                      </a:lnTo>
                      <a:lnTo>
                        <a:pt x="156" y="984"/>
                      </a:lnTo>
                      <a:lnTo>
                        <a:pt x="201" y="1273"/>
                      </a:lnTo>
                      <a:lnTo>
                        <a:pt x="209" y="1604"/>
                      </a:lnTo>
                      <a:lnTo>
                        <a:pt x="327" y="1311"/>
                      </a:lnTo>
                      <a:lnTo>
                        <a:pt x="446" y="1311"/>
                      </a:lnTo>
                      <a:lnTo>
                        <a:pt x="765" y="1581"/>
                      </a:lnTo>
                      <a:lnTo>
                        <a:pt x="871" y="1581"/>
                      </a:lnTo>
                      <a:lnTo>
                        <a:pt x="976" y="1538"/>
                      </a:lnTo>
                      <a:lnTo>
                        <a:pt x="1000" y="1444"/>
                      </a:lnTo>
                      <a:lnTo>
                        <a:pt x="996" y="1317"/>
                      </a:lnTo>
                      <a:lnTo>
                        <a:pt x="1041" y="1224"/>
                      </a:lnTo>
                      <a:lnTo>
                        <a:pt x="1193" y="1158"/>
                      </a:lnTo>
                      <a:lnTo>
                        <a:pt x="1266" y="1015"/>
                      </a:lnTo>
                      <a:lnTo>
                        <a:pt x="1487" y="984"/>
                      </a:lnTo>
                      <a:lnTo>
                        <a:pt x="1501" y="943"/>
                      </a:lnTo>
                      <a:lnTo>
                        <a:pt x="1391" y="524"/>
                      </a:lnTo>
                      <a:lnTo>
                        <a:pt x="1594" y="403"/>
                      </a:lnTo>
                      <a:lnTo>
                        <a:pt x="1663" y="201"/>
                      </a:lnTo>
                      <a:lnTo>
                        <a:pt x="1530" y="201"/>
                      </a:lnTo>
                      <a:lnTo>
                        <a:pt x="1446" y="140"/>
                      </a:lnTo>
                      <a:lnTo>
                        <a:pt x="1380" y="230"/>
                      </a:lnTo>
                      <a:lnTo>
                        <a:pt x="1327" y="154"/>
                      </a:lnTo>
                      <a:lnTo>
                        <a:pt x="1205" y="263"/>
                      </a:lnTo>
                      <a:lnTo>
                        <a:pt x="1097" y="95"/>
                      </a:lnTo>
                      <a:lnTo>
                        <a:pt x="853" y="154"/>
                      </a:lnTo>
                      <a:lnTo>
                        <a:pt x="292" y="0"/>
                      </a:lnTo>
                      <a:lnTo>
                        <a:pt x="209" y="11"/>
                      </a:lnTo>
                      <a:close/>
                    </a:path>
                  </a:pathLst>
                </a:custGeom>
                <a:solidFill>
                  <a:srgbClr val="ffc98e"/>
                </a:solidFill>
                <a:ln w="0">
                  <a:solidFill>
                    <a:srgbClr val="ffc98e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5042880" y="4190760"/>
                  <a:ext cx="11880" cy="9360"/>
                </a:xfrm>
                <a:custGeom>
                  <a:avLst/>
                  <a:gdLst/>
                  <a:ahLst/>
                  <a:rect l="l" t="t" r="r" b="b"/>
                  <a:pathLst>
                    <a:path w="173" h="141">
                      <a:moveTo>
                        <a:pt x="55" y="14"/>
                      </a:moveTo>
                      <a:lnTo>
                        <a:pt x="125" y="0"/>
                      </a:lnTo>
                      <a:lnTo>
                        <a:pt x="173" y="29"/>
                      </a:lnTo>
                      <a:lnTo>
                        <a:pt x="161" y="82"/>
                      </a:lnTo>
                      <a:lnTo>
                        <a:pt x="110" y="135"/>
                      </a:lnTo>
                      <a:lnTo>
                        <a:pt x="41" y="141"/>
                      </a:lnTo>
                      <a:lnTo>
                        <a:pt x="0" y="82"/>
                      </a:lnTo>
                      <a:lnTo>
                        <a:pt x="55" y="14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solidFill>
                    <a:srgbClr val="ffea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5298120" y="4446720"/>
                  <a:ext cx="86040" cy="111600"/>
                </a:xfrm>
                <a:custGeom>
                  <a:avLst/>
                  <a:gdLst/>
                  <a:ahLst/>
                  <a:rect l="l" t="t" r="r" b="b"/>
                  <a:pathLst>
                    <a:path w="1284" h="1474">
                      <a:moveTo>
                        <a:pt x="0" y="712"/>
                      </a:moveTo>
                      <a:lnTo>
                        <a:pt x="164" y="1474"/>
                      </a:lnTo>
                      <a:lnTo>
                        <a:pt x="636" y="1474"/>
                      </a:lnTo>
                      <a:lnTo>
                        <a:pt x="781" y="1349"/>
                      </a:lnTo>
                      <a:lnTo>
                        <a:pt x="1124" y="1315"/>
                      </a:lnTo>
                      <a:lnTo>
                        <a:pt x="1184" y="1228"/>
                      </a:lnTo>
                      <a:lnTo>
                        <a:pt x="1284" y="749"/>
                      </a:lnTo>
                      <a:lnTo>
                        <a:pt x="1090" y="452"/>
                      </a:lnTo>
                      <a:lnTo>
                        <a:pt x="854" y="354"/>
                      </a:lnTo>
                      <a:lnTo>
                        <a:pt x="597" y="234"/>
                      </a:lnTo>
                      <a:lnTo>
                        <a:pt x="509" y="0"/>
                      </a:lnTo>
                      <a:lnTo>
                        <a:pt x="369" y="23"/>
                      </a:lnTo>
                      <a:lnTo>
                        <a:pt x="291" y="313"/>
                      </a:lnTo>
                      <a:lnTo>
                        <a:pt x="0" y="712"/>
                      </a:lnTo>
                      <a:close/>
                    </a:path>
                  </a:pathLst>
                </a:custGeom>
                <a:solidFill>
                  <a:srgbClr val="ffea00"/>
                </a:solidFill>
                <a:ln w="0">
                  <a:solidFill>
                    <a:srgbClr val="ffea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5083560" y="4048920"/>
                  <a:ext cx="64440" cy="49320"/>
                </a:xfrm>
                <a:custGeom>
                  <a:avLst/>
                  <a:gdLst/>
                  <a:ahLst/>
                  <a:rect l="l" t="t" r="r" b="b"/>
                  <a:pathLst>
                    <a:path w="963" h="637">
                      <a:moveTo>
                        <a:pt x="963" y="464"/>
                      </a:moveTo>
                      <a:lnTo>
                        <a:pt x="834" y="401"/>
                      </a:lnTo>
                      <a:lnTo>
                        <a:pt x="877" y="464"/>
                      </a:lnTo>
                      <a:lnTo>
                        <a:pt x="784" y="507"/>
                      </a:lnTo>
                      <a:lnTo>
                        <a:pt x="694" y="596"/>
                      </a:lnTo>
                      <a:lnTo>
                        <a:pt x="663" y="568"/>
                      </a:lnTo>
                      <a:lnTo>
                        <a:pt x="466" y="637"/>
                      </a:lnTo>
                      <a:lnTo>
                        <a:pt x="706" y="507"/>
                      </a:lnTo>
                      <a:lnTo>
                        <a:pt x="614" y="464"/>
                      </a:lnTo>
                      <a:lnTo>
                        <a:pt x="784" y="429"/>
                      </a:lnTo>
                      <a:lnTo>
                        <a:pt x="631" y="296"/>
                      </a:lnTo>
                      <a:lnTo>
                        <a:pt x="421" y="366"/>
                      </a:lnTo>
                      <a:lnTo>
                        <a:pt x="515" y="415"/>
                      </a:lnTo>
                      <a:lnTo>
                        <a:pt x="521" y="493"/>
                      </a:lnTo>
                      <a:lnTo>
                        <a:pt x="320" y="529"/>
                      </a:lnTo>
                      <a:lnTo>
                        <a:pt x="396" y="568"/>
                      </a:lnTo>
                      <a:lnTo>
                        <a:pt x="185" y="582"/>
                      </a:lnTo>
                      <a:lnTo>
                        <a:pt x="103" y="479"/>
                      </a:lnTo>
                      <a:lnTo>
                        <a:pt x="173" y="464"/>
                      </a:lnTo>
                      <a:lnTo>
                        <a:pt x="103" y="347"/>
                      </a:lnTo>
                      <a:lnTo>
                        <a:pt x="263" y="452"/>
                      </a:lnTo>
                      <a:lnTo>
                        <a:pt x="433" y="464"/>
                      </a:lnTo>
                      <a:lnTo>
                        <a:pt x="273" y="347"/>
                      </a:lnTo>
                      <a:lnTo>
                        <a:pt x="443" y="296"/>
                      </a:lnTo>
                      <a:lnTo>
                        <a:pt x="355" y="259"/>
                      </a:lnTo>
                      <a:lnTo>
                        <a:pt x="515" y="222"/>
                      </a:lnTo>
                      <a:lnTo>
                        <a:pt x="294" y="143"/>
                      </a:lnTo>
                      <a:lnTo>
                        <a:pt x="226" y="56"/>
                      </a:lnTo>
                      <a:lnTo>
                        <a:pt x="0" y="0"/>
                      </a:lnTo>
                      <a:lnTo>
                        <a:pt x="240" y="30"/>
                      </a:lnTo>
                      <a:lnTo>
                        <a:pt x="480" y="108"/>
                      </a:lnTo>
                      <a:lnTo>
                        <a:pt x="651" y="259"/>
                      </a:lnTo>
                      <a:lnTo>
                        <a:pt x="801" y="366"/>
                      </a:lnTo>
                      <a:lnTo>
                        <a:pt x="963" y="4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5114880" y="4092840"/>
                  <a:ext cx="34560" cy="52200"/>
                </a:xfrm>
                <a:custGeom>
                  <a:avLst/>
                  <a:gdLst/>
                  <a:ahLst/>
                  <a:rect l="l" t="t" r="r" b="b"/>
                  <a:pathLst>
                    <a:path w="522" h="685">
                      <a:moveTo>
                        <a:pt x="370" y="0"/>
                      </a:moveTo>
                      <a:lnTo>
                        <a:pt x="313" y="231"/>
                      </a:lnTo>
                      <a:lnTo>
                        <a:pt x="262" y="155"/>
                      </a:lnTo>
                      <a:lnTo>
                        <a:pt x="198" y="324"/>
                      </a:lnTo>
                      <a:lnTo>
                        <a:pt x="0" y="531"/>
                      </a:lnTo>
                      <a:lnTo>
                        <a:pt x="299" y="324"/>
                      </a:lnTo>
                      <a:lnTo>
                        <a:pt x="340" y="399"/>
                      </a:lnTo>
                      <a:lnTo>
                        <a:pt x="340" y="685"/>
                      </a:lnTo>
                      <a:lnTo>
                        <a:pt x="501" y="480"/>
                      </a:lnTo>
                      <a:lnTo>
                        <a:pt x="522" y="182"/>
                      </a:lnTo>
                      <a:lnTo>
                        <a:pt x="473" y="464"/>
                      </a:lnTo>
                      <a:lnTo>
                        <a:pt x="381" y="544"/>
                      </a:lnTo>
                      <a:lnTo>
                        <a:pt x="381" y="336"/>
                      </a:lnTo>
                      <a:lnTo>
                        <a:pt x="348" y="297"/>
                      </a:lnTo>
                      <a:lnTo>
                        <a:pt x="401" y="92"/>
                      </a:lnTo>
                      <a:lnTo>
                        <a:pt x="3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5117400" y="4142520"/>
                  <a:ext cx="11880" cy="19080"/>
                </a:xfrm>
                <a:custGeom>
                  <a:avLst/>
                  <a:gdLst/>
                  <a:ahLst/>
                  <a:rect l="l" t="t" r="r" b="b"/>
                  <a:pathLst>
                    <a:path w="192" h="254">
                      <a:moveTo>
                        <a:pt x="130" y="0"/>
                      </a:moveTo>
                      <a:lnTo>
                        <a:pt x="21" y="148"/>
                      </a:lnTo>
                      <a:lnTo>
                        <a:pt x="0" y="254"/>
                      </a:lnTo>
                      <a:lnTo>
                        <a:pt x="130" y="179"/>
                      </a:lnTo>
                      <a:lnTo>
                        <a:pt x="169" y="242"/>
                      </a:lnTo>
                      <a:lnTo>
                        <a:pt x="192" y="101"/>
                      </a:lnTo>
                      <a:lnTo>
                        <a:pt x="130" y="138"/>
                      </a:lnTo>
                      <a:lnTo>
                        <a:pt x="1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5136480" y="4122000"/>
                  <a:ext cx="37080" cy="41040"/>
                </a:xfrm>
                <a:custGeom>
                  <a:avLst/>
                  <a:gdLst/>
                  <a:ahLst/>
                  <a:rect l="l" t="t" r="r" b="b"/>
                  <a:pathLst>
                    <a:path w="552" h="536">
                      <a:moveTo>
                        <a:pt x="0" y="525"/>
                      </a:moveTo>
                      <a:lnTo>
                        <a:pt x="0" y="419"/>
                      </a:lnTo>
                      <a:lnTo>
                        <a:pt x="84" y="372"/>
                      </a:lnTo>
                      <a:lnTo>
                        <a:pt x="84" y="437"/>
                      </a:lnTo>
                      <a:lnTo>
                        <a:pt x="170" y="343"/>
                      </a:lnTo>
                      <a:lnTo>
                        <a:pt x="253" y="179"/>
                      </a:lnTo>
                      <a:lnTo>
                        <a:pt x="211" y="419"/>
                      </a:lnTo>
                      <a:lnTo>
                        <a:pt x="294" y="343"/>
                      </a:lnTo>
                      <a:lnTo>
                        <a:pt x="304" y="409"/>
                      </a:lnTo>
                      <a:lnTo>
                        <a:pt x="351" y="372"/>
                      </a:lnTo>
                      <a:lnTo>
                        <a:pt x="382" y="409"/>
                      </a:lnTo>
                      <a:lnTo>
                        <a:pt x="474" y="308"/>
                      </a:lnTo>
                      <a:lnTo>
                        <a:pt x="517" y="167"/>
                      </a:lnTo>
                      <a:lnTo>
                        <a:pt x="517" y="0"/>
                      </a:lnTo>
                      <a:lnTo>
                        <a:pt x="552" y="154"/>
                      </a:lnTo>
                      <a:lnTo>
                        <a:pt x="517" y="396"/>
                      </a:lnTo>
                      <a:lnTo>
                        <a:pt x="351" y="525"/>
                      </a:lnTo>
                      <a:lnTo>
                        <a:pt x="229" y="536"/>
                      </a:lnTo>
                      <a:lnTo>
                        <a:pt x="253" y="460"/>
                      </a:lnTo>
                      <a:lnTo>
                        <a:pt x="133" y="525"/>
                      </a:lnTo>
                      <a:lnTo>
                        <a:pt x="0" y="5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5129280" y="4175640"/>
                  <a:ext cx="6840" cy="6840"/>
                </a:xfrm>
                <a:custGeom>
                  <a:avLst/>
                  <a:gdLst/>
                  <a:ahLst/>
                  <a:rect l="l" t="t" r="r" b="b"/>
                  <a:pathLst>
                    <a:path w="98" h="90">
                      <a:moveTo>
                        <a:pt x="0" y="0"/>
                      </a:moveTo>
                      <a:lnTo>
                        <a:pt x="0" y="90"/>
                      </a:lnTo>
                      <a:lnTo>
                        <a:pt x="39" y="90"/>
                      </a:lnTo>
                      <a:lnTo>
                        <a:pt x="98" y="16"/>
                      </a:lnTo>
                      <a:lnTo>
                        <a:pt x="9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5118480" y="4182480"/>
                  <a:ext cx="10800" cy="14760"/>
                </a:xfrm>
                <a:custGeom>
                  <a:avLst/>
                  <a:gdLst/>
                  <a:ahLst/>
                  <a:rect l="l" t="t" r="r" b="b"/>
                  <a:pathLst>
                    <a:path w="159" h="194">
                      <a:moveTo>
                        <a:pt x="159" y="0"/>
                      </a:moveTo>
                      <a:lnTo>
                        <a:pt x="159" y="69"/>
                      </a:lnTo>
                      <a:lnTo>
                        <a:pt x="116" y="69"/>
                      </a:lnTo>
                      <a:lnTo>
                        <a:pt x="0" y="194"/>
                      </a:lnTo>
                      <a:lnTo>
                        <a:pt x="0" y="0"/>
                      </a:lnTo>
                      <a:lnTo>
                        <a:pt x="15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5111280" y="41961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143" h="142">
                      <a:moveTo>
                        <a:pt x="113" y="0"/>
                      </a:moveTo>
                      <a:lnTo>
                        <a:pt x="0" y="142"/>
                      </a:lnTo>
                      <a:lnTo>
                        <a:pt x="113" y="142"/>
                      </a:lnTo>
                      <a:lnTo>
                        <a:pt x="143" y="51"/>
                      </a:lnTo>
                      <a:lnTo>
                        <a:pt x="11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5106600" y="42181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433" h="244">
                      <a:moveTo>
                        <a:pt x="212" y="0"/>
                      </a:moveTo>
                      <a:lnTo>
                        <a:pt x="120" y="166"/>
                      </a:lnTo>
                      <a:lnTo>
                        <a:pt x="0" y="229"/>
                      </a:lnTo>
                      <a:lnTo>
                        <a:pt x="40" y="244"/>
                      </a:lnTo>
                      <a:lnTo>
                        <a:pt x="161" y="180"/>
                      </a:lnTo>
                      <a:lnTo>
                        <a:pt x="220" y="51"/>
                      </a:lnTo>
                      <a:lnTo>
                        <a:pt x="419" y="14"/>
                      </a:lnTo>
                      <a:lnTo>
                        <a:pt x="433" y="0"/>
                      </a:lnTo>
                      <a:lnTo>
                        <a:pt x="2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5046480" y="4197600"/>
                  <a:ext cx="54000" cy="67320"/>
                </a:xfrm>
                <a:custGeom>
                  <a:avLst/>
                  <a:gdLst/>
                  <a:ahLst/>
                  <a:rect l="l" t="t" r="r" b="b"/>
                  <a:pathLst>
                    <a:path w="801" h="888">
                      <a:moveTo>
                        <a:pt x="801" y="824"/>
                      </a:moveTo>
                      <a:lnTo>
                        <a:pt x="705" y="863"/>
                      </a:lnTo>
                      <a:lnTo>
                        <a:pt x="627" y="863"/>
                      </a:lnTo>
                      <a:lnTo>
                        <a:pt x="263" y="516"/>
                      </a:lnTo>
                      <a:lnTo>
                        <a:pt x="92" y="0"/>
                      </a:lnTo>
                      <a:lnTo>
                        <a:pt x="53" y="39"/>
                      </a:lnTo>
                      <a:lnTo>
                        <a:pt x="130" y="299"/>
                      </a:lnTo>
                      <a:lnTo>
                        <a:pt x="92" y="337"/>
                      </a:lnTo>
                      <a:lnTo>
                        <a:pt x="0" y="272"/>
                      </a:lnTo>
                      <a:lnTo>
                        <a:pt x="101" y="493"/>
                      </a:lnTo>
                      <a:lnTo>
                        <a:pt x="101" y="617"/>
                      </a:lnTo>
                      <a:lnTo>
                        <a:pt x="53" y="888"/>
                      </a:lnTo>
                      <a:lnTo>
                        <a:pt x="181" y="646"/>
                      </a:lnTo>
                      <a:lnTo>
                        <a:pt x="253" y="646"/>
                      </a:lnTo>
                      <a:lnTo>
                        <a:pt x="603" y="888"/>
                      </a:lnTo>
                      <a:lnTo>
                        <a:pt x="693" y="888"/>
                      </a:lnTo>
                      <a:lnTo>
                        <a:pt x="801" y="8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5101560" y="4244400"/>
                  <a:ext cx="2160" cy="9360"/>
                </a:xfrm>
                <a:custGeom>
                  <a:avLst/>
                  <a:gdLst/>
                  <a:ahLst/>
                  <a:rect l="l" t="t" r="r" b="b"/>
                  <a:pathLst>
                    <a:path w="21" h="131">
                      <a:moveTo>
                        <a:pt x="0" y="0"/>
                      </a:moveTo>
                      <a:lnTo>
                        <a:pt x="0" y="131"/>
                      </a:lnTo>
                      <a:lnTo>
                        <a:pt x="21" y="107"/>
                      </a:lnTo>
                      <a:lnTo>
                        <a:pt x="21" y="3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5082480" y="4094280"/>
                  <a:ext cx="28440" cy="28800"/>
                </a:xfrm>
                <a:custGeom>
                  <a:avLst/>
                  <a:gdLst/>
                  <a:ahLst/>
                  <a:rect l="l" t="t" r="r" b="b"/>
                  <a:pathLst>
                    <a:path w="423" h="385">
                      <a:moveTo>
                        <a:pt x="423" y="195"/>
                      </a:moveTo>
                      <a:lnTo>
                        <a:pt x="284" y="168"/>
                      </a:lnTo>
                      <a:lnTo>
                        <a:pt x="194" y="64"/>
                      </a:lnTo>
                      <a:lnTo>
                        <a:pt x="63" y="0"/>
                      </a:lnTo>
                      <a:lnTo>
                        <a:pt x="153" y="141"/>
                      </a:lnTo>
                      <a:lnTo>
                        <a:pt x="0" y="64"/>
                      </a:lnTo>
                      <a:lnTo>
                        <a:pt x="106" y="244"/>
                      </a:lnTo>
                      <a:lnTo>
                        <a:pt x="315" y="385"/>
                      </a:lnTo>
                      <a:lnTo>
                        <a:pt x="194" y="258"/>
                      </a:lnTo>
                      <a:lnTo>
                        <a:pt x="323" y="244"/>
                      </a:lnTo>
                      <a:lnTo>
                        <a:pt x="423" y="1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5065560" y="4095720"/>
                  <a:ext cx="33480" cy="30240"/>
                </a:xfrm>
                <a:custGeom>
                  <a:avLst/>
                  <a:gdLst/>
                  <a:ahLst/>
                  <a:rect l="l" t="t" r="r" b="b"/>
                  <a:pathLst>
                    <a:path w="505" h="401">
                      <a:moveTo>
                        <a:pt x="505" y="401"/>
                      </a:moveTo>
                      <a:lnTo>
                        <a:pt x="411" y="401"/>
                      </a:lnTo>
                      <a:lnTo>
                        <a:pt x="180" y="346"/>
                      </a:lnTo>
                      <a:lnTo>
                        <a:pt x="0" y="192"/>
                      </a:lnTo>
                      <a:lnTo>
                        <a:pt x="219" y="219"/>
                      </a:lnTo>
                      <a:lnTo>
                        <a:pt x="151" y="75"/>
                      </a:lnTo>
                      <a:lnTo>
                        <a:pt x="31" y="0"/>
                      </a:lnTo>
                      <a:lnTo>
                        <a:pt x="193" y="90"/>
                      </a:lnTo>
                      <a:lnTo>
                        <a:pt x="345" y="323"/>
                      </a:lnTo>
                      <a:lnTo>
                        <a:pt x="505" y="4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5033520" y="4094280"/>
                  <a:ext cx="68040" cy="67680"/>
                </a:xfrm>
                <a:custGeom>
                  <a:avLst/>
                  <a:gdLst/>
                  <a:ahLst/>
                  <a:rect l="l" t="t" r="r" b="b"/>
                  <a:pathLst>
                    <a:path w="1041" h="874">
                      <a:moveTo>
                        <a:pt x="969" y="473"/>
                      </a:moveTo>
                      <a:lnTo>
                        <a:pt x="853" y="473"/>
                      </a:lnTo>
                      <a:lnTo>
                        <a:pt x="651" y="426"/>
                      </a:lnTo>
                      <a:lnTo>
                        <a:pt x="470" y="308"/>
                      </a:lnTo>
                      <a:lnTo>
                        <a:pt x="319" y="269"/>
                      </a:lnTo>
                      <a:lnTo>
                        <a:pt x="438" y="388"/>
                      </a:lnTo>
                      <a:lnTo>
                        <a:pt x="419" y="473"/>
                      </a:lnTo>
                      <a:lnTo>
                        <a:pt x="267" y="371"/>
                      </a:lnTo>
                      <a:lnTo>
                        <a:pt x="176" y="0"/>
                      </a:lnTo>
                      <a:lnTo>
                        <a:pt x="129" y="11"/>
                      </a:lnTo>
                      <a:lnTo>
                        <a:pt x="97" y="101"/>
                      </a:lnTo>
                      <a:lnTo>
                        <a:pt x="0" y="230"/>
                      </a:lnTo>
                      <a:lnTo>
                        <a:pt x="0" y="396"/>
                      </a:lnTo>
                      <a:lnTo>
                        <a:pt x="156" y="735"/>
                      </a:lnTo>
                      <a:lnTo>
                        <a:pt x="260" y="643"/>
                      </a:lnTo>
                      <a:lnTo>
                        <a:pt x="407" y="786"/>
                      </a:lnTo>
                      <a:lnTo>
                        <a:pt x="479" y="786"/>
                      </a:lnTo>
                      <a:lnTo>
                        <a:pt x="407" y="643"/>
                      </a:lnTo>
                      <a:lnTo>
                        <a:pt x="579" y="786"/>
                      </a:lnTo>
                      <a:lnTo>
                        <a:pt x="682" y="799"/>
                      </a:lnTo>
                      <a:lnTo>
                        <a:pt x="571" y="874"/>
                      </a:lnTo>
                      <a:lnTo>
                        <a:pt x="861" y="874"/>
                      </a:lnTo>
                      <a:lnTo>
                        <a:pt x="747" y="735"/>
                      </a:lnTo>
                      <a:lnTo>
                        <a:pt x="900" y="786"/>
                      </a:lnTo>
                      <a:lnTo>
                        <a:pt x="1041" y="745"/>
                      </a:lnTo>
                      <a:lnTo>
                        <a:pt x="912" y="745"/>
                      </a:lnTo>
                      <a:lnTo>
                        <a:pt x="798" y="657"/>
                      </a:lnTo>
                      <a:lnTo>
                        <a:pt x="892" y="643"/>
                      </a:lnTo>
                      <a:lnTo>
                        <a:pt x="953" y="604"/>
                      </a:lnTo>
                      <a:lnTo>
                        <a:pt x="861" y="592"/>
                      </a:lnTo>
                      <a:lnTo>
                        <a:pt x="759" y="551"/>
                      </a:lnTo>
                      <a:lnTo>
                        <a:pt x="881" y="551"/>
                      </a:lnTo>
                      <a:lnTo>
                        <a:pt x="822" y="503"/>
                      </a:lnTo>
                      <a:lnTo>
                        <a:pt x="969" y="4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5049000" y="4154760"/>
                  <a:ext cx="11880" cy="23400"/>
                </a:xfrm>
                <a:custGeom>
                  <a:avLst/>
                  <a:gdLst/>
                  <a:ahLst/>
                  <a:rect l="l" t="t" r="r" b="b"/>
                  <a:pathLst>
                    <a:path w="179" h="307">
                      <a:moveTo>
                        <a:pt x="27" y="0"/>
                      </a:moveTo>
                      <a:lnTo>
                        <a:pt x="27" y="51"/>
                      </a:lnTo>
                      <a:lnTo>
                        <a:pt x="0" y="129"/>
                      </a:lnTo>
                      <a:lnTo>
                        <a:pt x="97" y="307"/>
                      </a:lnTo>
                      <a:lnTo>
                        <a:pt x="108" y="231"/>
                      </a:lnTo>
                      <a:lnTo>
                        <a:pt x="87" y="184"/>
                      </a:lnTo>
                      <a:lnTo>
                        <a:pt x="179" y="99"/>
                      </a:lnTo>
                      <a:lnTo>
                        <a:pt x="97" y="0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4993560" y="4212720"/>
                  <a:ext cx="18000" cy="41040"/>
                </a:xfrm>
                <a:custGeom>
                  <a:avLst/>
                  <a:gdLst/>
                  <a:ahLst/>
                  <a:rect l="l" t="t" r="r" b="b"/>
                  <a:pathLst>
                    <a:path w="267" h="540">
                      <a:moveTo>
                        <a:pt x="95" y="64"/>
                      </a:moveTo>
                      <a:lnTo>
                        <a:pt x="39" y="105"/>
                      </a:lnTo>
                      <a:lnTo>
                        <a:pt x="29" y="180"/>
                      </a:lnTo>
                      <a:lnTo>
                        <a:pt x="86" y="166"/>
                      </a:lnTo>
                      <a:lnTo>
                        <a:pt x="47" y="258"/>
                      </a:lnTo>
                      <a:lnTo>
                        <a:pt x="95" y="283"/>
                      </a:lnTo>
                      <a:lnTo>
                        <a:pt x="8" y="413"/>
                      </a:lnTo>
                      <a:lnTo>
                        <a:pt x="66" y="377"/>
                      </a:lnTo>
                      <a:lnTo>
                        <a:pt x="0" y="540"/>
                      </a:lnTo>
                      <a:lnTo>
                        <a:pt x="189" y="359"/>
                      </a:lnTo>
                      <a:lnTo>
                        <a:pt x="267" y="111"/>
                      </a:lnTo>
                      <a:lnTo>
                        <a:pt x="205" y="111"/>
                      </a:lnTo>
                      <a:lnTo>
                        <a:pt x="117" y="129"/>
                      </a:lnTo>
                      <a:lnTo>
                        <a:pt x="136" y="0"/>
                      </a:lnTo>
                      <a:lnTo>
                        <a:pt x="95" y="6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018040" y="4046040"/>
                  <a:ext cx="55080" cy="61920"/>
                </a:xfrm>
                <a:custGeom>
                  <a:avLst/>
                  <a:gdLst/>
                  <a:ahLst/>
                  <a:rect l="l" t="t" r="r" b="b"/>
                  <a:pathLst>
                    <a:path w="834" h="811">
                      <a:moveTo>
                        <a:pt x="0" y="811"/>
                      </a:moveTo>
                      <a:lnTo>
                        <a:pt x="124" y="607"/>
                      </a:lnTo>
                      <a:lnTo>
                        <a:pt x="333" y="513"/>
                      </a:lnTo>
                      <a:lnTo>
                        <a:pt x="204" y="513"/>
                      </a:lnTo>
                      <a:lnTo>
                        <a:pt x="563" y="298"/>
                      </a:lnTo>
                      <a:lnTo>
                        <a:pt x="402" y="298"/>
                      </a:lnTo>
                      <a:lnTo>
                        <a:pt x="574" y="179"/>
                      </a:lnTo>
                      <a:lnTo>
                        <a:pt x="723" y="179"/>
                      </a:lnTo>
                      <a:lnTo>
                        <a:pt x="493" y="105"/>
                      </a:lnTo>
                      <a:lnTo>
                        <a:pt x="834" y="39"/>
                      </a:lnTo>
                      <a:lnTo>
                        <a:pt x="737" y="0"/>
                      </a:lnTo>
                      <a:lnTo>
                        <a:pt x="355" y="105"/>
                      </a:lnTo>
                      <a:lnTo>
                        <a:pt x="62" y="386"/>
                      </a:lnTo>
                      <a:lnTo>
                        <a:pt x="355" y="208"/>
                      </a:lnTo>
                      <a:lnTo>
                        <a:pt x="103" y="478"/>
                      </a:lnTo>
                      <a:lnTo>
                        <a:pt x="0" y="8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4943520" y="4050000"/>
                  <a:ext cx="90720" cy="174600"/>
                </a:xfrm>
                <a:custGeom>
                  <a:avLst/>
                  <a:gdLst/>
                  <a:ahLst/>
                  <a:rect l="l" t="t" r="r" b="b"/>
                  <a:pathLst>
                    <a:path w="1364" h="2279">
                      <a:moveTo>
                        <a:pt x="1364" y="0"/>
                      </a:moveTo>
                      <a:lnTo>
                        <a:pt x="1165" y="115"/>
                      </a:lnTo>
                      <a:lnTo>
                        <a:pt x="793" y="543"/>
                      </a:lnTo>
                      <a:lnTo>
                        <a:pt x="562" y="1289"/>
                      </a:lnTo>
                      <a:lnTo>
                        <a:pt x="276" y="1803"/>
                      </a:lnTo>
                      <a:lnTo>
                        <a:pt x="27" y="1999"/>
                      </a:lnTo>
                      <a:lnTo>
                        <a:pt x="0" y="2113"/>
                      </a:lnTo>
                      <a:lnTo>
                        <a:pt x="57" y="2242"/>
                      </a:lnTo>
                      <a:lnTo>
                        <a:pt x="190" y="2279"/>
                      </a:lnTo>
                      <a:lnTo>
                        <a:pt x="107" y="2218"/>
                      </a:lnTo>
                      <a:lnTo>
                        <a:pt x="88" y="2113"/>
                      </a:lnTo>
                      <a:lnTo>
                        <a:pt x="231" y="2007"/>
                      </a:lnTo>
                      <a:lnTo>
                        <a:pt x="310" y="2007"/>
                      </a:lnTo>
                      <a:lnTo>
                        <a:pt x="360" y="2154"/>
                      </a:lnTo>
                      <a:lnTo>
                        <a:pt x="503" y="2049"/>
                      </a:lnTo>
                      <a:lnTo>
                        <a:pt x="599" y="1842"/>
                      </a:lnTo>
                      <a:lnTo>
                        <a:pt x="752" y="1674"/>
                      </a:lnTo>
                      <a:lnTo>
                        <a:pt x="509" y="1803"/>
                      </a:lnTo>
                      <a:lnTo>
                        <a:pt x="579" y="1557"/>
                      </a:lnTo>
                      <a:lnTo>
                        <a:pt x="772" y="1316"/>
                      </a:lnTo>
                      <a:lnTo>
                        <a:pt x="900" y="811"/>
                      </a:lnTo>
                      <a:lnTo>
                        <a:pt x="731" y="1261"/>
                      </a:lnTo>
                      <a:lnTo>
                        <a:pt x="721" y="1084"/>
                      </a:lnTo>
                      <a:lnTo>
                        <a:pt x="871" y="528"/>
                      </a:lnTo>
                      <a:lnTo>
                        <a:pt x="1181" y="128"/>
                      </a:lnTo>
                      <a:lnTo>
                        <a:pt x="136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4929120" y="4215240"/>
                  <a:ext cx="17640" cy="24840"/>
                </a:xfrm>
                <a:custGeom>
                  <a:avLst/>
                  <a:gdLst/>
                  <a:ahLst/>
                  <a:rect l="l" t="t" r="r" b="b"/>
                  <a:pathLst>
                    <a:path w="272" h="308">
                      <a:moveTo>
                        <a:pt x="272" y="129"/>
                      </a:moveTo>
                      <a:lnTo>
                        <a:pt x="200" y="115"/>
                      </a:lnTo>
                      <a:lnTo>
                        <a:pt x="131" y="0"/>
                      </a:lnTo>
                      <a:lnTo>
                        <a:pt x="71" y="138"/>
                      </a:lnTo>
                      <a:lnTo>
                        <a:pt x="71" y="217"/>
                      </a:lnTo>
                      <a:lnTo>
                        <a:pt x="0" y="308"/>
                      </a:lnTo>
                      <a:lnTo>
                        <a:pt x="182" y="232"/>
                      </a:lnTo>
                      <a:lnTo>
                        <a:pt x="272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4986720" y="4127040"/>
                  <a:ext cx="28440" cy="92160"/>
                </a:xfrm>
                <a:custGeom>
                  <a:avLst/>
                  <a:gdLst/>
                  <a:ahLst/>
                  <a:rect l="l" t="t" r="r" b="b"/>
                  <a:pathLst>
                    <a:path w="432" h="1198">
                      <a:moveTo>
                        <a:pt x="432" y="0"/>
                      </a:moveTo>
                      <a:lnTo>
                        <a:pt x="241" y="667"/>
                      </a:lnTo>
                      <a:lnTo>
                        <a:pt x="19" y="992"/>
                      </a:lnTo>
                      <a:lnTo>
                        <a:pt x="112" y="939"/>
                      </a:lnTo>
                      <a:lnTo>
                        <a:pt x="81" y="1069"/>
                      </a:lnTo>
                      <a:lnTo>
                        <a:pt x="0" y="1198"/>
                      </a:lnTo>
                      <a:lnTo>
                        <a:pt x="251" y="912"/>
                      </a:lnTo>
                      <a:lnTo>
                        <a:pt x="354" y="679"/>
                      </a:lnTo>
                      <a:lnTo>
                        <a:pt x="143" y="925"/>
                      </a:lnTo>
                      <a:lnTo>
                        <a:pt x="268" y="667"/>
                      </a:lnTo>
                      <a:lnTo>
                        <a:pt x="43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5040360" y="4190760"/>
                  <a:ext cx="11880" cy="15120"/>
                </a:xfrm>
                <a:custGeom>
                  <a:avLst/>
                  <a:gdLst/>
                  <a:ahLst/>
                  <a:rect l="l" t="t" r="r" b="b"/>
                  <a:pathLst>
                    <a:path w="174" h="196">
                      <a:moveTo>
                        <a:pt x="49" y="25"/>
                      </a:moveTo>
                      <a:lnTo>
                        <a:pt x="0" y="103"/>
                      </a:lnTo>
                      <a:lnTo>
                        <a:pt x="100" y="196"/>
                      </a:lnTo>
                      <a:lnTo>
                        <a:pt x="174" y="103"/>
                      </a:lnTo>
                      <a:lnTo>
                        <a:pt x="100" y="103"/>
                      </a:lnTo>
                      <a:lnTo>
                        <a:pt x="70" y="78"/>
                      </a:lnTo>
                      <a:lnTo>
                        <a:pt x="90" y="0"/>
                      </a:lnTo>
                      <a:lnTo>
                        <a:pt x="49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5021280" y="4146480"/>
                  <a:ext cx="22680" cy="49320"/>
                </a:xfrm>
                <a:custGeom>
                  <a:avLst/>
                  <a:gdLst/>
                  <a:ahLst/>
                  <a:rect l="l" t="t" r="r" b="b"/>
                  <a:pathLst>
                    <a:path w="346" h="646">
                      <a:moveTo>
                        <a:pt x="139" y="0"/>
                      </a:moveTo>
                      <a:lnTo>
                        <a:pt x="287" y="119"/>
                      </a:lnTo>
                      <a:lnTo>
                        <a:pt x="346" y="273"/>
                      </a:lnTo>
                      <a:lnTo>
                        <a:pt x="346" y="400"/>
                      </a:lnTo>
                      <a:lnTo>
                        <a:pt x="227" y="646"/>
                      </a:lnTo>
                      <a:lnTo>
                        <a:pt x="248" y="439"/>
                      </a:lnTo>
                      <a:lnTo>
                        <a:pt x="117" y="235"/>
                      </a:lnTo>
                      <a:lnTo>
                        <a:pt x="117" y="390"/>
                      </a:lnTo>
                      <a:lnTo>
                        <a:pt x="0" y="0"/>
                      </a:lnTo>
                      <a:lnTo>
                        <a:pt x="258" y="337"/>
                      </a:lnTo>
                      <a:lnTo>
                        <a:pt x="238" y="194"/>
                      </a:lnTo>
                      <a:lnTo>
                        <a:pt x="149" y="65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5007960" y="4164480"/>
                  <a:ext cx="21600" cy="39960"/>
                </a:xfrm>
                <a:custGeom>
                  <a:avLst/>
                  <a:gdLst/>
                  <a:ahLst/>
                  <a:rect l="l" t="t" r="r" b="b"/>
                  <a:pathLst>
                    <a:path w="323" h="511">
                      <a:moveTo>
                        <a:pt x="200" y="0"/>
                      </a:moveTo>
                      <a:lnTo>
                        <a:pt x="323" y="374"/>
                      </a:lnTo>
                      <a:lnTo>
                        <a:pt x="138" y="473"/>
                      </a:lnTo>
                      <a:lnTo>
                        <a:pt x="152" y="358"/>
                      </a:lnTo>
                      <a:lnTo>
                        <a:pt x="0" y="511"/>
                      </a:lnTo>
                      <a:lnTo>
                        <a:pt x="119" y="298"/>
                      </a:lnTo>
                      <a:lnTo>
                        <a:pt x="128" y="114"/>
                      </a:lnTo>
                      <a:lnTo>
                        <a:pt x="200" y="282"/>
                      </a:lnTo>
                      <a:lnTo>
                        <a:pt x="241" y="229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5005800" y="4181040"/>
                  <a:ext cx="7920" cy="15120"/>
                </a:xfrm>
                <a:custGeom>
                  <a:avLst/>
                  <a:gdLst/>
                  <a:ahLst/>
                  <a:rect l="l" t="t" r="r" b="b"/>
                  <a:pathLst>
                    <a:path w="115" h="192">
                      <a:moveTo>
                        <a:pt x="72" y="0"/>
                      </a:moveTo>
                      <a:lnTo>
                        <a:pt x="0" y="192"/>
                      </a:lnTo>
                      <a:lnTo>
                        <a:pt x="115" y="88"/>
                      </a:lnTo>
                      <a:lnTo>
                        <a:pt x="115" y="24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995000" y="4226400"/>
                  <a:ext cx="52560" cy="110160"/>
                </a:xfrm>
                <a:custGeom>
                  <a:avLst/>
                  <a:gdLst/>
                  <a:ahLst/>
                  <a:rect l="l" t="t" r="r" b="b"/>
                  <a:pathLst>
                    <a:path w="790" h="1433">
                      <a:moveTo>
                        <a:pt x="651" y="39"/>
                      </a:moveTo>
                      <a:lnTo>
                        <a:pt x="614" y="94"/>
                      </a:lnTo>
                      <a:lnTo>
                        <a:pt x="499" y="378"/>
                      </a:lnTo>
                      <a:lnTo>
                        <a:pt x="460" y="94"/>
                      </a:lnTo>
                      <a:lnTo>
                        <a:pt x="409" y="378"/>
                      </a:lnTo>
                      <a:lnTo>
                        <a:pt x="289" y="607"/>
                      </a:lnTo>
                      <a:lnTo>
                        <a:pt x="306" y="351"/>
                      </a:lnTo>
                      <a:lnTo>
                        <a:pt x="209" y="521"/>
                      </a:lnTo>
                      <a:lnTo>
                        <a:pt x="222" y="713"/>
                      </a:lnTo>
                      <a:lnTo>
                        <a:pt x="87" y="494"/>
                      </a:lnTo>
                      <a:lnTo>
                        <a:pt x="72" y="698"/>
                      </a:lnTo>
                      <a:lnTo>
                        <a:pt x="150" y="971"/>
                      </a:lnTo>
                      <a:lnTo>
                        <a:pt x="0" y="879"/>
                      </a:lnTo>
                      <a:lnTo>
                        <a:pt x="119" y="1059"/>
                      </a:lnTo>
                      <a:lnTo>
                        <a:pt x="300" y="1110"/>
                      </a:lnTo>
                      <a:lnTo>
                        <a:pt x="499" y="1433"/>
                      </a:lnTo>
                      <a:lnTo>
                        <a:pt x="542" y="1316"/>
                      </a:lnTo>
                      <a:lnTo>
                        <a:pt x="542" y="1188"/>
                      </a:lnTo>
                      <a:lnTo>
                        <a:pt x="760" y="958"/>
                      </a:lnTo>
                      <a:lnTo>
                        <a:pt x="790" y="792"/>
                      </a:lnTo>
                      <a:lnTo>
                        <a:pt x="721" y="673"/>
                      </a:lnTo>
                      <a:lnTo>
                        <a:pt x="749" y="792"/>
                      </a:lnTo>
                      <a:lnTo>
                        <a:pt x="711" y="879"/>
                      </a:lnTo>
                      <a:lnTo>
                        <a:pt x="532" y="879"/>
                      </a:lnTo>
                      <a:lnTo>
                        <a:pt x="520" y="815"/>
                      </a:lnTo>
                      <a:lnTo>
                        <a:pt x="641" y="644"/>
                      </a:lnTo>
                      <a:lnTo>
                        <a:pt x="702" y="441"/>
                      </a:lnTo>
                      <a:lnTo>
                        <a:pt x="532" y="658"/>
                      </a:lnTo>
                      <a:lnTo>
                        <a:pt x="542" y="466"/>
                      </a:lnTo>
                      <a:lnTo>
                        <a:pt x="641" y="170"/>
                      </a:lnTo>
                      <a:lnTo>
                        <a:pt x="614" y="441"/>
                      </a:lnTo>
                      <a:lnTo>
                        <a:pt x="739" y="0"/>
                      </a:lnTo>
                      <a:lnTo>
                        <a:pt x="670" y="118"/>
                      </a:lnTo>
                      <a:lnTo>
                        <a:pt x="651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5054760" y="4256640"/>
                  <a:ext cx="14040" cy="14760"/>
                </a:xfrm>
                <a:custGeom>
                  <a:avLst/>
                  <a:gdLst/>
                  <a:ahLst/>
                  <a:rect l="l" t="t" r="r" b="b"/>
                  <a:pathLst>
                    <a:path w="203" h="193">
                      <a:moveTo>
                        <a:pt x="41" y="115"/>
                      </a:moveTo>
                      <a:lnTo>
                        <a:pt x="0" y="193"/>
                      </a:lnTo>
                      <a:lnTo>
                        <a:pt x="92" y="180"/>
                      </a:lnTo>
                      <a:lnTo>
                        <a:pt x="152" y="104"/>
                      </a:lnTo>
                      <a:lnTo>
                        <a:pt x="203" y="139"/>
                      </a:lnTo>
                      <a:lnTo>
                        <a:pt x="193" y="0"/>
                      </a:lnTo>
                      <a:lnTo>
                        <a:pt x="152" y="67"/>
                      </a:lnTo>
                      <a:lnTo>
                        <a:pt x="123" y="39"/>
                      </a:lnTo>
                      <a:lnTo>
                        <a:pt x="70" y="104"/>
                      </a:lnTo>
                      <a:lnTo>
                        <a:pt x="41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4954320" y="4230720"/>
                  <a:ext cx="42840" cy="52200"/>
                </a:xfrm>
                <a:custGeom>
                  <a:avLst/>
                  <a:gdLst/>
                  <a:ahLst/>
                  <a:rect l="l" t="t" r="r" b="b"/>
                  <a:pathLst>
                    <a:path w="643" h="674">
                      <a:moveTo>
                        <a:pt x="643" y="402"/>
                      </a:moveTo>
                      <a:lnTo>
                        <a:pt x="549" y="528"/>
                      </a:lnTo>
                      <a:lnTo>
                        <a:pt x="431" y="552"/>
                      </a:lnTo>
                      <a:lnTo>
                        <a:pt x="290" y="552"/>
                      </a:lnTo>
                      <a:lnTo>
                        <a:pt x="50" y="674"/>
                      </a:lnTo>
                      <a:lnTo>
                        <a:pt x="109" y="425"/>
                      </a:lnTo>
                      <a:lnTo>
                        <a:pt x="30" y="466"/>
                      </a:lnTo>
                      <a:lnTo>
                        <a:pt x="99" y="232"/>
                      </a:lnTo>
                      <a:lnTo>
                        <a:pt x="0" y="271"/>
                      </a:lnTo>
                      <a:lnTo>
                        <a:pt x="191" y="0"/>
                      </a:lnTo>
                      <a:lnTo>
                        <a:pt x="140" y="169"/>
                      </a:lnTo>
                      <a:lnTo>
                        <a:pt x="220" y="139"/>
                      </a:lnTo>
                      <a:lnTo>
                        <a:pt x="140" y="374"/>
                      </a:lnTo>
                      <a:lnTo>
                        <a:pt x="241" y="323"/>
                      </a:lnTo>
                      <a:lnTo>
                        <a:pt x="241" y="425"/>
                      </a:lnTo>
                      <a:lnTo>
                        <a:pt x="472" y="474"/>
                      </a:lnTo>
                      <a:lnTo>
                        <a:pt x="549" y="487"/>
                      </a:lnTo>
                      <a:lnTo>
                        <a:pt x="643" y="4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4895640" y="4238640"/>
                  <a:ext cx="53640" cy="100440"/>
                </a:xfrm>
                <a:custGeom>
                  <a:avLst/>
                  <a:gdLst/>
                  <a:ahLst/>
                  <a:rect l="l" t="t" r="r" b="b"/>
                  <a:pathLst>
                    <a:path w="824" h="1325">
                      <a:moveTo>
                        <a:pt x="824" y="0"/>
                      </a:moveTo>
                      <a:lnTo>
                        <a:pt x="574" y="155"/>
                      </a:lnTo>
                      <a:lnTo>
                        <a:pt x="484" y="143"/>
                      </a:lnTo>
                      <a:lnTo>
                        <a:pt x="373" y="77"/>
                      </a:lnTo>
                      <a:lnTo>
                        <a:pt x="325" y="309"/>
                      </a:lnTo>
                      <a:lnTo>
                        <a:pt x="433" y="541"/>
                      </a:lnTo>
                      <a:lnTo>
                        <a:pt x="235" y="487"/>
                      </a:lnTo>
                      <a:lnTo>
                        <a:pt x="266" y="635"/>
                      </a:lnTo>
                      <a:lnTo>
                        <a:pt x="221" y="748"/>
                      </a:lnTo>
                      <a:lnTo>
                        <a:pt x="157" y="773"/>
                      </a:lnTo>
                      <a:lnTo>
                        <a:pt x="51" y="980"/>
                      </a:lnTo>
                      <a:lnTo>
                        <a:pt x="0" y="1325"/>
                      </a:lnTo>
                      <a:lnTo>
                        <a:pt x="141" y="967"/>
                      </a:lnTo>
                      <a:lnTo>
                        <a:pt x="373" y="736"/>
                      </a:lnTo>
                      <a:lnTo>
                        <a:pt x="663" y="450"/>
                      </a:lnTo>
                      <a:lnTo>
                        <a:pt x="714" y="284"/>
                      </a:lnTo>
                      <a:lnTo>
                        <a:pt x="703" y="169"/>
                      </a:lnTo>
                      <a:lnTo>
                        <a:pt x="82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5001120" y="4339080"/>
                  <a:ext cx="48960" cy="51120"/>
                </a:xfrm>
                <a:custGeom>
                  <a:avLst/>
                  <a:gdLst/>
                  <a:ahLst/>
                  <a:rect l="l" t="t" r="r" b="b"/>
                  <a:pathLst>
                    <a:path w="738" h="665">
                      <a:moveTo>
                        <a:pt x="738" y="665"/>
                      </a:moveTo>
                      <a:lnTo>
                        <a:pt x="738" y="552"/>
                      </a:lnTo>
                      <a:lnTo>
                        <a:pt x="333" y="114"/>
                      </a:lnTo>
                      <a:lnTo>
                        <a:pt x="0" y="0"/>
                      </a:lnTo>
                      <a:lnTo>
                        <a:pt x="290" y="178"/>
                      </a:lnTo>
                      <a:lnTo>
                        <a:pt x="349" y="345"/>
                      </a:lnTo>
                      <a:lnTo>
                        <a:pt x="659" y="552"/>
                      </a:lnTo>
                      <a:lnTo>
                        <a:pt x="738" y="6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977000" y="4351680"/>
                  <a:ext cx="82440" cy="89280"/>
                </a:xfrm>
                <a:custGeom>
                  <a:avLst/>
                  <a:gdLst/>
                  <a:ahLst/>
                  <a:rect l="l" t="t" r="r" b="b"/>
                  <a:pathLst>
                    <a:path w="1247" h="1183">
                      <a:moveTo>
                        <a:pt x="1247" y="1183"/>
                      </a:moveTo>
                      <a:lnTo>
                        <a:pt x="988" y="774"/>
                      </a:lnTo>
                      <a:lnTo>
                        <a:pt x="0" y="0"/>
                      </a:lnTo>
                      <a:lnTo>
                        <a:pt x="88" y="158"/>
                      </a:lnTo>
                      <a:lnTo>
                        <a:pt x="427" y="492"/>
                      </a:lnTo>
                      <a:lnTo>
                        <a:pt x="466" y="618"/>
                      </a:lnTo>
                      <a:lnTo>
                        <a:pt x="347" y="706"/>
                      </a:lnTo>
                      <a:lnTo>
                        <a:pt x="606" y="838"/>
                      </a:lnTo>
                      <a:lnTo>
                        <a:pt x="957" y="940"/>
                      </a:lnTo>
                      <a:lnTo>
                        <a:pt x="1247" y="11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981680" y="4417920"/>
                  <a:ext cx="91080" cy="96120"/>
                </a:xfrm>
                <a:custGeom>
                  <a:avLst/>
                  <a:gdLst/>
                  <a:ahLst/>
                  <a:rect l="l" t="t" r="r" b="b"/>
                  <a:pathLst>
                    <a:path w="1378" h="1260">
                      <a:moveTo>
                        <a:pt x="1378" y="1127"/>
                      </a:moveTo>
                      <a:lnTo>
                        <a:pt x="1208" y="963"/>
                      </a:lnTo>
                      <a:lnTo>
                        <a:pt x="1087" y="1013"/>
                      </a:lnTo>
                      <a:lnTo>
                        <a:pt x="752" y="643"/>
                      </a:lnTo>
                      <a:lnTo>
                        <a:pt x="240" y="333"/>
                      </a:lnTo>
                      <a:lnTo>
                        <a:pt x="0" y="0"/>
                      </a:lnTo>
                      <a:lnTo>
                        <a:pt x="257" y="461"/>
                      </a:lnTo>
                      <a:lnTo>
                        <a:pt x="633" y="857"/>
                      </a:lnTo>
                      <a:lnTo>
                        <a:pt x="1378" y="1260"/>
                      </a:lnTo>
                      <a:lnTo>
                        <a:pt x="1378" y="11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5007960" y="4431600"/>
                  <a:ext cx="113760" cy="60480"/>
                </a:xfrm>
                <a:custGeom>
                  <a:avLst/>
                  <a:gdLst/>
                  <a:ahLst/>
                  <a:rect l="l" t="t" r="r" b="b"/>
                  <a:pathLst>
                    <a:path w="1709" h="794">
                      <a:moveTo>
                        <a:pt x="0" y="0"/>
                      </a:moveTo>
                      <a:lnTo>
                        <a:pt x="810" y="295"/>
                      </a:lnTo>
                      <a:lnTo>
                        <a:pt x="1058" y="330"/>
                      </a:lnTo>
                      <a:lnTo>
                        <a:pt x="1598" y="601"/>
                      </a:lnTo>
                      <a:lnTo>
                        <a:pt x="1481" y="652"/>
                      </a:lnTo>
                      <a:lnTo>
                        <a:pt x="1709" y="794"/>
                      </a:lnTo>
                      <a:lnTo>
                        <a:pt x="1577" y="794"/>
                      </a:lnTo>
                      <a:lnTo>
                        <a:pt x="1078" y="640"/>
                      </a:lnTo>
                      <a:lnTo>
                        <a:pt x="949" y="743"/>
                      </a:lnTo>
                      <a:lnTo>
                        <a:pt x="798" y="446"/>
                      </a:lnTo>
                      <a:lnTo>
                        <a:pt x="720" y="538"/>
                      </a:lnTo>
                      <a:lnTo>
                        <a:pt x="409" y="360"/>
                      </a:lnTo>
                      <a:lnTo>
                        <a:pt x="280" y="188"/>
                      </a:lnTo>
                      <a:lnTo>
                        <a:pt x="31" y="6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050080" y="4308840"/>
                  <a:ext cx="21240" cy="85320"/>
                </a:xfrm>
                <a:custGeom>
                  <a:avLst/>
                  <a:gdLst/>
                  <a:ahLst/>
                  <a:rect l="l" t="t" r="r" b="b"/>
                  <a:pathLst>
                    <a:path w="321" h="1116">
                      <a:moveTo>
                        <a:pt x="249" y="0"/>
                      </a:moveTo>
                      <a:lnTo>
                        <a:pt x="303" y="89"/>
                      </a:lnTo>
                      <a:lnTo>
                        <a:pt x="303" y="266"/>
                      </a:lnTo>
                      <a:lnTo>
                        <a:pt x="239" y="549"/>
                      </a:lnTo>
                      <a:lnTo>
                        <a:pt x="321" y="744"/>
                      </a:lnTo>
                      <a:lnTo>
                        <a:pt x="170" y="1116"/>
                      </a:lnTo>
                      <a:lnTo>
                        <a:pt x="151" y="976"/>
                      </a:lnTo>
                      <a:lnTo>
                        <a:pt x="83" y="884"/>
                      </a:lnTo>
                      <a:lnTo>
                        <a:pt x="0" y="526"/>
                      </a:lnTo>
                      <a:lnTo>
                        <a:pt x="233" y="204"/>
                      </a:lnTo>
                      <a:lnTo>
                        <a:pt x="24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830840" y="4353120"/>
                  <a:ext cx="420480" cy="390960"/>
                </a:xfrm>
                <a:custGeom>
                  <a:avLst/>
                  <a:gdLst/>
                  <a:ahLst/>
                  <a:rect l="l" t="t" r="r" b="b"/>
                  <a:pathLst>
                    <a:path w="6327" h="5107">
                      <a:moveTo>
                        <a:pt x="6327" y="3485"/>
                      </a:moveTo>
                      <a:lnTo>
                        <a:pt x="5506" y="3914"/>
                      </a:lnTo>
                      <a:lnTo>
                        <a:pt x="4543" y="4048"/>
                      </a:lnTo>
                      <a:lnTo>
                        <a:pt x="3642" y="4647"/>
                      </a:lnTo>
                      <a:lnTo>
                        <a:pt x="3333" y="4647"/>
                      </a:lnTo>
                      <a:lnTo>
                        <a:pt x="2989" y="5040"/>
                      </a:lnTo>
                      <a:lnTo>
                        <a:pt x="2748" y="5107"/>
                      </a:lnTo>
                      <a:lnTo>
                        <a:pt x="2954" y="4854"/>
                      </a:lnTo>
                      <a:lnTo>
                        <a:pt x="2830" y="4444"/>
                      </a:lnTo>
                      <a:lnTo>
                        <a:pt x="2367" y="4647"/>
                      </a:lnTo>
                      <a:lnTo>
                        <a:pt x="2178" y="4867"/>
                      </a:lnTo>
                      <a:lnTo>
                        <a:pt x="2377" y="4425"/>
                      </a:lnTo>
                      <a:lnTo>
                        <a:pt x="2110" y="4425"/>
                      </a:lnTo>
                      <a:lnTo>
                        <a:pt x="1605" y="4596"/>
                      </a:lnTo>
                      <a:lnTo>
                        <a:pt x="2020" y="4271"/>
                      </a:lnTo>
                      <a:lnTo>
                        <a:pt x="2427" y="4169"/>
                      </a:lnTo>
                      <a:lnTo>
                        <a:pt x="2309" y="4081"/>
                      </a:lnTo>
                      <a:lnTo>
                        <a:pt x="2087" y="4032"/>
                      </a:lnTo>
                      <a:lnTo>
                        <a:pt x="2020" y="3809"/>
                      </a:lnTo>
                      <a:lnTo>
                        <a:pt x="1763" y="3635"/>
                      </a:lnTo>
                      <a:lnTo>
                        <a:pt x="1872" y="3570"/>
                      </a:lnTo>
                      <a:lnTo>
                        <a:pt x="2020" y="3553"/>
                      </a:lnTo>
                      <a:lnTo>
                        <a:pt x="2192" y="3366"/>
                      </a:lnTo>
                      <a:lnTo>
                        <a:pt x="2272" y="3060"/>
                      </a:lnTo>
                      <a:lnTo>
                        <a:pt x="2096" y="3060"/>
                      </a:lnTo>
                      <a:lnTo>
                        <a:pt x="1791" y="3294"/>
                      </a:lnTo>
                      <a:lnTo>
                        <a:pt x="1472" y="3294"/>
                      </a:lnTo>
                      <a:lnTo>
                        <a:pt x="1377" y="3503"/>
                      </a:lnTo>
                      <a:lnTo>
                        <a:pt x="1338" y="3503"/>
                      </a:lnTo>
                      <a:lnTo>
                        <a:pt x="1286" y="3349"/>
                      </a:lnTo>
                      <a:lnTo>
                        <a:pt x="913" y="3979"/>
                      </a:lnTo>
                      <a:lnTo>
                        <a:pt x="1114" y="3431"/>
                      </a:lnTo>
                      <a:lnTo>
                        <a:pt x="1032" y="3366"/>
                      </a:lnTo>
                      <a:lnTo>
                        <a:pt x="885" y="3397"/>
                      </a:lnTo>
                      <a:lnTo>
                        <a:pt x="531" y="3961"/>
                      </a:lnTo>
                      <a:lnTo>
                        <a:pt x="303" y="4081"/>
                      </a:lnTo>
                      <a:lnTo>
                        <a:pt x="806" y="3382"/>
                      </a:lnTo>
                      <a:lnTo>
                        <a:pt x="834" y="3280"/>
                      </a:lnTo>
                      <a:lnTo>
                        <a:pt x="0" y="4017"/>
                      </a:lnTo>
                      <a:lnTo>
                        <a:pt x="141" y="3590"/>
                      </a:lnTo>
                      <a:lnTo>
                        <a:pt x="791" y="3128"/>
                      </a:lnTo>
                      <a:lnTo>
                        <a:pt x="474" y="3091"/>
                      </a:lnTo>
                      <a:lnTo>
                        <a:pt x="806" y="3006"/>
                      </a:lnTo>
                      <a:lnTo>
                        <a:pt x="1061" y="2836"/>
                      </a:lnTo>
                      <a:lnTo>
                        <a:pt x="1073" y="2988"/>
                      </a:lnTo>
                      <a:lnTo>
                        <a:pt x="1315" y="2750"/>
                      </a:lnTo>
                      <a:lnTo>
                        <a:pt x="1621" y="2732"/>
                      </a:lnTo>
                      <a:lnTo>
                        <a:pt x="1712" y="2644"/>
                      </a:lnTo>
                      <a:lnTo>
                        <a:pt x="1712" y="2409"/>
                      </a:lnTo>
                      <a:lnTo>
                        <a:pt x="2578" y="2887"/>
                      </a:lnTo>
                      <a:lnTo>
                        <a:pt x="2761" y="2869"/>
                      </a:lnTo>
                      <a:lnTo>
                        <a:pt x="2775" y="2732"/>
                      </a:lnTo>
                      <a:lnTo>
                        <a:pt x="2578" y="2511"/>
                      </a:lnTo>
                      <a:lnTo>
                        <a:pt x="2392" y="2580"/>
                      </a:lnTo>
                      <a:lnTo>
                        <a:pt x="2215" y="2151"/>
                      </a:lnTo>
                      <a:lnTo>
                        <a:pt x="1832" y="1879"/>
                      </a:lnTo>
                      <a:lnTo>
                        <a:pt x="1979" y="1795"/>
                      </a:lnTo>
                      <a:lnTo>
                        <a:pt x="1621" y="1405"/>
                      </a:lnTo>
                      <a:lnTo>
                        <a:pt x="1486" y="1415"/>
                      </a:lnTo>
                      <a:lnTo>
                        <a:pt x="1408" y="1570"/>
                      </a:lnTo>
                      <a:lnTo>
                        <a:pt x="1180" y="648"/>
                      </a:lnTo>
                      <a:lnTo>
                        <a:pt x="1897" y="1432"/>
                      </a:lnTo>
                      <a:lnTo>
                        <a:pt x="1582" y="871"/>
                      </a:lnTo>
                      <a:lnTo>
                        <a:pt x="1408" y="0"/>
                      </a:lnTo>
                      <a:lnTo>
                        <a:pt x="1699" y="888"/>
                      </a:lnTo>
                      <a:lnTo>
                        <a:pt x="2897" y="2304"/>
                      </a:lnTo>
                      <a:lnTo>
                        <a:pt x="2724" y="2304"/>
                      </a:lnTo>
                      <a:lnTo>
                        <a:pt x="3016" y="2617"/>
                      </a:lnTo>
                      <a:lnTo>
                        <a:pt x="3363" y="2668"/>
                      </a:lnTo>
                      <a:lnTo>
                        <a:pt x="3467" y="2732"/>
                      </a:lnTo>
                      <a:lnTo>
                        <a:pt x="3416" y="2939"/>
                      </a:lnTo>
                      <a:lnTo>
                        <a:pt x="3562" y="2988"/>
                      </a:lnTo>
                      <a:lnTo>
                        <a:pt x="3627" y="3263"/>
                      </a:lnTo>
                      <a:lnTo>
                        <a:pt x="3775" y="3431"/>
                      </a:lnTo>
                      <a:lnTo>
                        <a:pt x="3268" y="3245"/>
                      </a:lnTo>
                      <a:lnTo>
                        <a:pt x="3204" y="3725"/>
                      </a:lnTo>
                      <a:lnTo>
                        <a:pt x="3627" y="3809"/>
                      </a:lnTo>
                      <a:lnTo>
                        <a:pt x="4161" y="3623"/>
                      </a:lnTo>
                      <a:lnTo>
                        <a:pt x="3895" y="3518"/>
                      </a:lnTo>
                      <a:lnTo>
                        <a:pt x="4907" y="3707"/>
                      </a:lnTo>
                      <a:lnTo>
                        <a:pt x="6114" y="3417"/>
                      </a:lnTo>
                      <a:lnTo>
                        <a:pt x="6089" y="3518"/>
                      </a:lnTo>
                      <a:lnTo>
                        <a:pt x="6327" y="34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875120" y="4423320"/>
                  <a:ext cx="56160" cy="111600"/>
                </a:xfrm>
                <a:custGeom>
                  <a:avLst/>
                  <a:gdLst/>
                  <a:ahLst/>
                  <a:rect l="l" t="t" r="r" b="b"/>
                  <a:pathLst>
                    <a:path w="840" h="1468">
                      <a:moveTo>
                        <a:pt x="253" y="0"/>
                      </a:moveTo>
                      <a:lnTo>
                        <a:pt x="721" y="1025"/>
                      </a:lnTo>
                      <a:lnTo>
                        <a:pt x="589" y="920"/>
                      </a:lnTo>
                      <a:lnTo>
                        <a:pt x="589" y="1059"/>
                      </a:lnTo>
                      <a:lnTo>
                        <a:pt x="840" y="1382"/>
                      </a:lnTo>
                      <a:lnTo>
                        <a:pt x="324" y="1175"/>
                      </a:lnTo>
                      <a:lnTo>
                        <a:pt x="0" y="1468"/>
                      </a:lnTo>
                      <a:lnTo>
                        <a:pt x="214" y="936"/>
                      </a:lnTo>
                      <a:lnTo>
                        <a:pt x="374" y="766"/>
                      </a:lnTo>
                      <a:lnTo>
                        <a:pt x="390" y="562"/>
                      </a:lnTo>
                      <a:lnTo>
                        <a:pt x="269" y="304"/>
                      </a:lnTo>
                      <a:lnTo>
                        <a:pt x="2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847400" y="4551120"/>
                  <a:ext cx="56160" cy="27720"/>
                </a:xfrm>
                <a:custGeom>
                  <a:avLst/>
                  <a:gdLst/>
                  <a:ahLst/>
                  <a:rect l="l" t="t" r="r" b="b"/>
                  <a:pathLst>
                    <a:path w="853" h="359">
                      <a:moveTo>
                        <a:pt x="853" y="102"/>
                      </a:moveTo>
                      <a:lnTo>
                        <a:pt x="493" y="0"/>
                      </a:lnTo>
                      <a:lnTo>
                        <a:pt x="346" y="0"/>
                      </a:lnTo>
                      <a:lnTo>
                        <a:pt x="54" y="170"/>
                      </a:lnTo>
                      <a:lnTo>
                        <a:pt x="0" y="359"/>
                      </a:lnTo>
                      <a:lnTo>
                        <a:pt x="438" y="102"/>
                      </a:lnTo>
                      <a:lnTo>
                        <a:pt x="853" y="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5063400" y="4402800"/>
                  <a:ext cx="123120" cy="56160"/>
                </a:xfrm>
                <a:custGeom>
                  <a:avLst/>
                  <a:gdLst/>
                  <a:ahLst/>
                  <a:rect l="l" t="t" r="r" b="b"/>
                  <a:pathLst>
                    <a:path w="1852" h="751">
                      <a:moveTo>
                        <a:pt x="0" y="35"/>
                      </a:moveTo>
                      <a:lnTo>
                        <a:pt x="0" y="289"/>
                      </a:lnTo>
                      <a:lnTo>
                        <a:pt x="162" y="391"/>
                      </a:lnTo>
                      <a:lnTo>
                        <a:pt x="162" y="579"/>
                      </a:lnTo>
                      <a:lnTo>
                        <a:pt x="573" y="751"/>
                      </a:lnTo>
                      <a:lnTo>
                        <a:pt x="986" y="751"/>
                      </a:lnTo>
                      <a:lnTo>
                        <a:pt x="1852" y="391"/>
                      </a:lnTo>
                      <a:lnTo>
                        <a:pt x="1837" y="189"/>
                      </a:lnTo>
                      <a:lnTo>
                        <a:pt x="1640" y="0"/>
                      </a:lnTo>
                      <a:lnTo>
                        <a:pt x="1556" y="189"/>
                      </a:lnTo>
                      <a:lnTo>
                        <a:pt x="1399" y="0"/>
                      </a:lnTo>
                      <a:lnTo>
                        <a:pt x="733" y="82"/>
                      </a:lnTo>
                      <a:lnTo>
                        <a:pt x="561" y="238"/>
                      </a:lnTo>
                      <a:lnTo>
                        <a:pt x="360" y="119"/>
                      </a:lnTo>
                      <a:lnTo>
                        <a:pt x="281" y="119"/>
                      </a:lnTo>
                      <a:lnTo>
                        <a:pt x="199" y="205"/>
                      </a:lnTo>
                      <a:lnTo>
                        <a:pt x="82" y="20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5085000" y="4490640"/>
                  <a:ext cx="50040" cy="100440"/>
                </a:xfrm>
                <a:custGeom>
                  <a:avLst/>
                  <a:gdLst/>
                  <a:ahLst/>
                  <a:rect l="l" t="t" r="r" b="b"/>
                  <a:pathLst>
                    <a:path w="750" h="1313">
                      <a:moveTo>
                        <a:pt x="695" y="0"/>
                      </a:moveTo>
                      <a:lnTo>
                        <a:pt x="695" y="239"/>
                      </a:lnTo>
                      <a:lnTo>
                        <a:pt x="97" y="955"/>
                      </a:lnTo>
                      <a:lnTo>
                        <a:pt x="0" y="1313"/>
                      </a:lnTo>
                      <a:lnTo>
                        <a:pt x="188" y="1125"/>
                      </a:lnTo>
                      <a:lnTo>
                        <a:pt x="335" y="801"/>
                      </a:lnTo>
                      <a:lnTo>
                        <a:pt x="507" y="748"/>
                      </a:lnTo>
                      <a:lnTo>
                        <a:pt x="750" y="288"/>
                      </a:lnTo>
                      <a:lnTo>
                        <a:pt x="750" y="172"/>
                      </a:lnTo>
                      <a:lnTo>
                        <a:pt x="69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827600" y="4455000"/>
                  <a:ext cx="44280" cy="185760"/>
                </a:xfrm>
                <a:custGeom>
                  <a:avLst/>
                  <a:gdLst/>
                  <a:ahLst/>
                  <a:rect l="l" t="t" r="r" b="b"/>
                  <a:pathLst>
                    <a:path w="655" h="2441">
                      <a:moveTo>
                        <a:pt x="0" y="51"/>
                      </a:moveTo>
                      <a:lnTo>
                        <a:pt x="0" y="2441"/>
                      </a:lnTo>
                      <a:lnTo>
                        <a:pt x="158" y="1875"/>
                      </a:lnTo>
                      <a:lnTo>
                        <a:pt x="293" y="1178"/>
                      </a:lnTo>
                      <a:lnTo>
                        <a:pt x="491" y="799"/>
                      </a:lnTo>
                      <a:lnTo>
                        <a:pt x="655" y="0"/>
                      </a:lnTo>
                      <a:lnTo>
                        <a:pt x="454" y="597"/>
                      </a:lnTo>
                      <a:lnTo>
                        <a:pt x="265" y="579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5133960" y="4510080"/>
                  <a:ext cx="11880" cy="30240"/>
                </a:xfrm>
                <a:custGeom>
                  <a:avLst/>
                  <a:gdLst/>
                  <a:ahLst/>
                  <a:rect l="l" t="t" r="r" b="b"/>
                  <a:pathLst>
                    <a:path w="184" h="392">
                      <a:moveTo>
                        <a:pt x="18" y="17"/>
                      </a:moveTo>
                      <a:lnTo>
                        <a:pt x="18" y="392"/>
                      </a:lnTo>
                      <a:lnTo>
                        <a:pt x="184" y="207"/>
                      </a:lnTo>
                      <a:lnTo>
                        <a:pt x="135" y="33"/>
                      </a:lnTo>
                      <a:lnTo>
                        <a:pt x="0" y="0"/>
                      </a:lnTo>
                      <a:lnTo>
                        <a:pt x="18" y="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4876200" y="4643640"/>
                  <a:ext cx="81360" cy="65880"/>
                </a:xfrm>
                <a:custGeom>
                  <a:avLst/>
                  <a:gdLst/>
                  <a:ahLst/>
                  <a:rect l="l" t="t" r="r" b="b"/>
                  <a:pathLst>
                    <a:path w="1226" h="856">
                      <a:moveTo>
                        <a:pt x="1226" y="276"/>
                      </a:moveTo>
                      <a:lnTo>
                        <a:pt x="1226" y="123"/>
                      </a:lnTo>
                      <a:lnTo>
                        <a:pt x="1039" y="0"/>
                      </a:lnTo>
                      <a:lnTo>
                        <a:pt x="482" y="341"/>
                      </a:lnTo>
                      <a:lnTo>
                        <a:pt x="374" y="579"/>
                      </a:lnTo>
                      <a:lnTo>
                        <a:pt x="0" y="856"/>
                      </a:lnTo>
                      <a:lnTo>
                        <a:pt x="280" y="856"/>
                      </a:lnTo>
                      <a:lnTo>
                        <a:pt x="1226" y="2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4828680" y="4675320"/>
                  <a:ext cx="184320" cy="153000"/>
                </a:xfrm>
                <a:custGeom>
                  <a:avLst/>
                  <a:gdLst/>
                  <a:ahLst/>
                  <a:rect l="l" t="t" r="r" b="b"/>
                  <a:pathLst>
                    <a:path w="2767" h="2006">
                      <a:moveTo>
                        <a:pt x="558" y="147"/>
                      </a:moveTo>
                      <a:lnTo>
                        <a:pt x="352" y="147"/>
                      </a:lnTo>
                      <a:lnTo>
                        <a:pt x="221" y="0"/>
                      </a:lnTo>
                      <a:lnTo>
                        <a:pt x="67" y="229"/>
                      </a:lnTo>
                      <a:lnTo>
                        <a:pt x="29" y="92"/>
                      </a:lnTo>
                      <a:lnTo>
                        <a:pt x="0" y="345"/>
                      </a:lnTo>
                      <a:lnTo>
                        <a:pt x="90" y="646"/>
                      </a:lnTo>
                      <a:lnTo>
                        <a:pt x="170" y="581"/>
                      </a:lnTo>
                      <a:lnTo>
                        <a:pt x="221" y="815"/>
                      </a:lnTo>
                      <a:lnTo>
                        <a:pt x="108" y="815"/>
                      </a:lnTo>
                      <a:lnTo>
                        <a:pt x="154" y="930"/>
                      </a:lnTo>
                      <a:lnTo>
                        <a:pt x="425" y="1124"/>
                      </a:lnTo>
                      <a:lnTo>
                        <a:pt x="595" y="1480"/>
                      </a:lnTo>
                      <a:lnTo>
                        <a:pt x="857" y="1679"/>
                      </a:lnTo>
                      <a:lnTo>
                        <a:pt x="992" y="1648"/>
                      </a:lnTo>
                      <a:lnTo>
                        <a:pt x="1515" y="1930"/>
                      </a:lnTo>
                      <a:lnTo>
                        <a:pt x="1806" y="1930"/>
                      </a:lnTo>
                      <a:lnTo>
                        <a:pt x="1983" y="2006"/>
                      </a:lnTo>
                      <a:lnTo>
                        <a:pt x="2229" y="1920"/>
                      </a:lnTo>
                      <a:lnTo>
                        <a:pt x="2325" y="1961"/>
                      </a:lnTo>
                      <a:lnTo>
                        <a:pt x="2718" y="1858"/>
                      </a:lnTo>
                      <a:lnTo>
                        <a:pt x="2443" y="1815"/>
                      </a:lnTo>
                      <a:lnTo>
                        <a:pt x="2529" y="1722"/>
                      </a:lnTo>
                      <a:lnTo>
                        <a:pt x="2317" y="1785"/>
                      </a:lnTo>
                      <a:lnTo>
                        <a:pt x="1714" y="1785"/>
                      </a:lnTo>
                      <a:lnTo>
                        <a:pt x="1244" y="1562"/>
                      </a:lnTo>
                      <a:lnTo>
                        <a:pt x="1618" y="1607"/>
                      </a:lnTo>
                      <a:lnTo>
                        <a:pt x="1861" y="1607"/>
                      </a:lnTo>
                      <a:lnTo>
                        <a:pt x="2344" y="1396"/>
                      </a:lnTo>
                      <a:lnTo>
                        <a:pt x="2548" y="1386"/>
                      </a:lnTo>
                      <a:lnTo>
                        <a:pt x="2767" y="1304"/>
                      </a:lnTo>
                      <a:lnTo>
                        <a:pt x="2535" y="1359"/>
                      </a:lnTo>
                      <a:lnTo>
                        <a:pt x="2285" y="1345"/>
                      </a:lnTo>
                      <a:lnTo>
                        <a:pt x="1857" y="1472"/>
                      </a:lnTo>
                      <a:lnTo>
                        <a:pt x="1100" y="1460"/>
                      </a:lnTo>
                      <a:lnTo>
                        <a:pt x="949" y="1376"/>
                      </a:lnTo>
                      <a:lnTo>
                        <a:pt x="905" y="1231"/>
                      </a:lnTo>
                      <a:lnTo>
                        <a:pt x="747" y="1249"/>
                      </a:lnTo>
                      <a:lnTo>
                        <a:pt x="683" y="1012"/>
                      </a:lnTo>
                      <a:lnTo>
                        <a:pt x="820" y="999"/>
                      </a:lnTo>
                      <a:lnTo>
                        <a:pt x="1020" y="887"/>
                      </a:lnTo>
                      <a:lnTo>
                        <a:pt x="1402" y="875"/>
                      </a:lnTo>
                      <a:lnTo>
                        <a:pt x="2000" y="660"/>
                      </a:lnTo>
                      <a:lnTo>
                        <a:pt x="2131" y="456"/>
                      </a:lnTo>
                      <a:lnTo>
                        <a:pt x="1868" y="622"/>
                      </a:lnTo>
                      <a:lnTo>
                        <a:pt x="1462" y="622"/>
                      </a:lnTo>
                      <a:lnTo>
                        <a:pt x="1276" y="509"/>
                      </a:lnTo>
                      <a:lnTo>
                        <a:pt x="777" y="677"/>
                      </a:lnTo>
                      <a:lnTo>
                        <a:pt x="546" y="468"/>
                      </a:lnTo>
                      <a:lnTo>
                        <a:pt x="505" y="519"/>
                      </a:lnTo>
                      <a:lnTo>
                        <a:pt x="562" y="660"/>
                      </a:lnTo>
                      <a:lnTo>
                        <a:pt x="482" y="854"/>
                      </a:lnTo>
                      <a:lnTo>
                        <a:pt x="344" y="897"/>
                      </a:lnTo>
                      <a:lnTo>
                        <a:pt x="299" y="844"/>
                      </a:lnTo>
                      <a:lnTo>
                        <a:pt x="425" y="699"/>
                      </a:lnTo>
                      <a:lnTo>
                        <a:pt x="262" y="414"/>
                      </a:lnTo>
                      <a:lnTo>
                        <a:pt x="139" y="519"/>
                      </a:lnTo>
                      <a:lnTo>
                        <a:pt x="108" y="386"/>
                      </a:lnTo>
                      <a:lnTo>
                        <a:pt x="170" y="237"/>
                      </a:lnTo>
                      <a:lnTo>
                        <a:pt x="391" y="248"/>
                      </a:lnTo>
                      <a:lnTo>
                        <a:pt x="558" y="14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4910040" y="4748400"/>
                  <a:ext cx="89640" cy="32760"/>
                </a:xfrm>
                <a:custGeom>
                  <a:avLst/>
                  <a:gdLst/>
                  <a:ahLst/>
                  <a:rect l="l" t="t" r="r" b="b"/>
                  <a:pathLst>
                    <a:path w="1351" h="425">
                      <a:moveTo>
                        <a:pt x="1351" y="0"/>
                      </a:moveTo>
                      <a:lnTo>
                        <a:pt x="772" y="82"/>
                      </a:lnTo>
                      <a:lnTo>
                        <a:pt x="0" y="425"/>
                      </a:lnTo>
                      <a:lnTo>
                        <a:pt x="1125" y="153"/>
                      </a:lnTo>
                      <a:lnTo>
                        <a:pt x="13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4939920" y="4835160"/>
                  <a:ext cx="61920" cy="19080"/>
                </a:xfrm>
                <a:custGeom>
                  <a:avLst/>
                  <a:gdLst/>
                  <a:ahLst/>
                  <a:rect l="l" t="t" r="r" b="b"/>
                  <a:pathLst>
                    <a:path w="930" h="251">
                      <a:moveTo>
                        <a:pt x="930" y="251"/>
                      </a:moveTo>
                      <a:lnTo>
                        <a:pt x="392" y="251"/>
                      </a:lnTo>
                      <a:lnTo>
                        <a:pt x="0" y="0"/>
                      </a:lnTo>
                      <a:lnTo>
                        <a:pt x="731" y="168"/>
                      </a:lnTo>
                      <a:lnTo>
                        <a:pt x="930" y="2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4975920" y="4822560"/>
                  <a:ext cx="41760" cy="18000"/>
                </a:xfrm>
                <a:custGeom>
                  <a:avLst/>
                  <a:gdLst/>
                  <a:ahLst/>
                  <a:rect l="l" t="t" r="r" b="b"/>
                  <a:pathLst>
                    <a:path w="636" h="231">
                      <a:moveTo>
                        <a:pt x="636" y="0"/>
                      </a:moveTo>
                      <a:lnTo>
                        <a:pt x="0" y="198"/>
                      </a:lnTo>
                      <a:lnTo>
                        <a:pt x="595" y="231"/>
                      </a:lnTo>
                      <a:lnTo>
                        <a:pt x="63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V="1">
                  <a:off x="5020200" y="4728600"/>
                  <a:ext cx="11880" cy="82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H="1">
                  <a:off x="4872600" y="4354560"/>
                  <a:ext cx="14040" cy="71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5124240" y="4183560"/>
                  <a:ext cx="41760" cy="35640"/>
                </a:xfrm>
                <a:custGeom>
                  <a:avLst/>
                  <a:gdLst/>
                  <a:ahLst/>
                  <a:rect l="l" t="t" r="r" b="b"/>
                  <a:pathLst>
                    <a:path w="620" h="460">
                      <a:moveTo>
                        <a:pt x="178" y="0"/>
                      </a:moveTo>
                      <a:lnTo>
                        <a:pt x="0" y="199"/>
                      </a:lnTo>
                      <a:lnTo>
                        <a:pt x="450" y="460"/>
                      </a:lnTo>
                      <a:lnTo>
                        <a:pt x="620" y="250"/>
                      </a:lnTo>
                      <a:lnTo>
                        <a:pt x="466" y="127"/>
                      </a:lnTo>
                      <a:lnTo>
                        <a:pt x="318" y="270"/>
                      </a:lnTo>
                      <a:lnTo>
                        <a:pt x="344" y="82"/>
                      </a:lnTo>
                      <a:lnTo>
                        <a:pt x="17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5148360" y="4182480"/>
                  <a:ext cx="20160" cy="16200"/>
                </a:xfrm>
                <a:custGeom>
                  <a:avLst/>
                  <a:gdLst/>
                  <a:ahLst/>
                  <a:rect l="l" t="t" r="r" b="b"/>
                  <a:pathLst>
                    <a:path w="298" h="215">
                      <a:moveTo>
                        <a:pt x="0" y="0"/>
                      </a:moveTo>
                      <a:lnTo>
                        <a:pt x="298" y="215"/>
                      </a:lnTo>
                      <a:lnTo>
                        <a:pt x="298" y="157"/>
                      </a:lnTo>
                      <a:lnTo>
                        <a:pt x="4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5158080" y="4207320"/>
                  <a:ext cx="21240" cy="20520"/>
                </a:xfrm>
                <a:custGeom>
                  <a:avLst/>
                  <a:gdLst/>
                  <a:ahLst/>
                  <a:rect l="l" t="t" r="r" b="b"/>
                  <a:pathLst>
                    <a:path w="332" h="264">
                      <a:moveTo>
                        <a:pt x="0" y="73"/>
                      </a:moveTo>
                      <a:lnTo>
                        <a:pt x="268" y="264"/>
                      </a:lnTo>
                      <a:lnTo>
                        <a:pt x="332" y="182"/>
                      </a:lnTo>
                      <a:lnTo>
                        <a:pt x="84" y="0"/>
                      </a:lnTo>
                      <a:lnTo>
                        <a:pt x="0" y="7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5162760" y="4193280"/>
                  <a:ext cx="247680" cy="97560"/>
                </a:xfrm>
                <a:custGeom>
                  <a:avLst/>
                  <a:gdLst/>
                  <a:ahLst/>
                  <a:rect l="l" t="t" r="r" b="b"/>
                  <a:pathLst>
                    <a:path w="3722" h="1284">
                      <a:moveTo>
                        <a:pt x="0" y="687"/>
                      </a:moveTo>
                      <a:lnTo>
                        <a:pt x="394" y="0"/>
                      </a:lnTo>
                      <a:lnTo>
                        <a:pt x="914" y="370"/>
                      </a:lnTo>
                      <a:lnTo>
                        <a:pt x="1738" y="370"/>
                      </a:lnTo>
                      <a:lnTo>
                        <a:pt x="1738" y="986"/>
                      </a:lnTo>
                      <a:lnTo>
                        <a:pt x="3699" y="986"/>
                      </a:lnTo>
                      <a:lnTo>
                        <a:pt x="3699" y="939"/>
                      </a:lnTo>
                      <a:lnTo>
                        <a:pt x="3535" y="834"/>
                      </a:lnTo>
                      <a:lnTo>
                        <a:pt x="3722" y="926"/>
                      </a:lnTo>
                      <a:lnTo>
                        <a:pt x="3722" y="1284"/>
                      </a:lnTo>
                      <a:lnTo>
                        <a:pt x="536" y="1284"/>
                      </a:lnTo>
                      <a:lnTo>
                        <a:pt x="536" y="926"/>
                      </a:lnTo>
                      <a:lnTo>
                        <a:pt x="192" y="678"/>
                      </a:lnTo>
                      <a:lnTo>
                        <a:pt x="145" y="770"/>
                      </a:lnTo>
                      <a:lnTo>
                        <a:pt x="0" y="68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5217840" y="4168800"/>
                  <a:ext cx="30960" cy="410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5166360" y="4174200"/>
                  <a:ext cx="9720" cy="15120"/>
                </a:xfrm>
                <a:custGeom>
                  <a:avLst/>
                  <a:gdLst/>
                  <a:ahLst/>
                  <a:rect l="l" t="t" r="r" b="b"/>
                  <a:pathLst>
                    <a:path w="140" h="197">
                      <a:moveTo>
                        <a:pt x="29" y="197"/>
                      </a:moveTo>
                      <a:lnTo>
                        <a:pt x="140" y="19"/>
                      </a:lnTo>
                      <a:lnTo>
                        <a:pt x="111" y="0"/>
                      </a:lnTo>
                      <a:lnTo>
                        <a:pt x="0" y="162"/>
                      </a:lnTo>
                      <a:lnTo>
                        <a:pt x="29" y="1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5179680" y="4175640"/>
                  <a:ext cx="34560" cy="28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5179680" y="4179600"/>
                  <a:ext cx="6840" cy="10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5153040" y="4227840"/>
                  <a:ext cx="6840" cy="10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5250240" y="4308840"/>
                  <a:ext cx="25200" cy="28800"/>
                </a:xfrm>
                <a:custGeom>
                  <a:avLst/>
                  <a:gdLst/>
                  <a:ahLst/>
                  <a:rect l="l" t="t" r="r" b="b"/>
                  <a:pathLst>
                    <a:path w="384" h="380">
                      <a:moveTo>
                        <a:pt x="384" y="192"/>
                      </a:moveTo>
                      <a:lnTo>
                        <a:pt x="380" y="172"/>
                      </a:lnTo>
                      <a:lnTo>
                        <a:pt x="378" y="155"/>
                      </a:lnTo>
                      <a:lnTo>
                        <a:pt x="370" y="137"/>
                      </a:lnTo>
                      <a:lnTo>
                        <a:pt x="366" y="120"/>
                      </a:lnTo>
                      <a:lnTo>
                        <a:pt x="358" y="101"/>
                      </a:lnTo>
                      <a:lnTo>
                        <a:pt x="348" y="84"/>
                      </a:lnTo>
                      <a:lnTo>
                        <a:pt x="339" y="70"/>
                      </a:lnTo>
                      <a:lnTo>
                        <a:pt x="325" y="56"/>
                      </a:lnTo>
                      <a:lnTo>
                        <a:pt x="307" y="43"/>
                      </a:lnTo>
                      <a:lnTo>
                        <a:pt x="298" y="29"/>
                      </a:lnTo>
                      <a:lnTo>
                        <a:pt x="280" y="23"/>
                      </a:lnTo>
                      <a:lnTo>
                        <a:pt x="264" y="15"/>
                      </a:lnTo>
                      <a:lnTo>
                        <a:pt x="247" y="9"/>
                      </a:lnTo>
                      <a:lnTo>
                        <a:pt x="229" y="5"/>
                      </a:lnTo>
                      <a:lnTo>
                        <a:pt x="212" y="2"/>
                      </a:lnTo>
                      <a:lnTo>
                        <a:pt x="192" y="0"/>
                      </a:lnTo>
                      <a:lnTo>
                        <a:pt x="171" y="2"/>
                      </a:lnTo>
                      <a:lnTo>
                        <a:pt x="153" y="5"/>
                      </a:lnTo>
                      <a:lnTo>
                        <a:pt x="137" y="7"/>
                      </a:lnTo>
                      <a:lnTo>
                        <a:pt x="118" y="15"/>
                      </a:lnTo>
                      <a:lnTo>
                        <a:pt x="104" y="23"/>
                      </a:lnTo>
                      <a:lnTo>
                        <a:pt x="89" y="29"/>
                      </a:lnTo>
                      <a:lnTo>
                        <a:pt x="73" y="43"/>
                      </a:lnTo>
                      <a:lnTo>
                        <a:pt x="57" y="56"/>
                      </a:lnTo>
                      <a:lnTo>
                        <a:pt x="46" y="66"/>
                      </a:lnTo>
                      <a:lnTo>
                        <a:pt x="34" y="84"/>
                      </a:lnTo>
                      <a:lnTo>
                        <a:pt x="21" y="97"/>
                      </a:lnTo>
                      <a:lnTo>
                        <a:pt x="15" y="116"/>
                      </a:lnTo>
                      <a:lnTo>
                        <a:pt x="8" y="135"/>
                      </a:lnTo>
                      <a:lnTo>
                        <a:pt x="2" y="153"/>
                      </a:lnTo>
                      <a:lnTo>
                        <a:pt x="0" y="171"/>
                      </a:lnTo>
                      <a:lnTo>
                        <a:pt x="0" y="190"/>
                      </a:lnTo>
                      <a:lnTo>
                        <a:pt x="0" y="204"/>
                      </a:lnTo>
                      <a:lnTo>
                        <a:pt x="2" y="223"/>
                      </a:lnTo>
                      <a:lnTo>
                        <a:pt x="8" y="245"/>
                      </a:lnTo>
                      <a:lnTo>
                        <a:pt x="11" y="260"/>
                      </a:lnTo>
                      <a:lnTo>
                        <a:pt x="21" y="278"/>
                      </a:lnTo>
                      <a:lnTo>
                        <a:pt x="32" y="296"/>
                      </a:lnTo>
                      <a:lnTo>
                        <a:pt x="42" y="311"/>
                      </a:lnTo>
                      <a:lnTo>
                        <a:pt x="57" y="321"/>
                      </a:lnTo>
                      <a:lnTo>
                        <a:pt x="65" y="337"/>
                      </a:lnTo>
                      <a:lnTo>
                        <a:pt x="81" y="346"/>
                      </a:lnTo>
                      <a:lnTo>
                        <a:pt x="100" y="356"/>
                      </a:lnTo>
                      <a:lnTo>
                        <a:pt x="114" y="362"/>
                      </a:lnTo>
                      <a:lnTo>
                        <a:pt x="132" y="374"/>
                      </a:lnTo>
                      <a:lnTo>
                        <a:pt x="151" y="378"/>
                      </a:lnTo>
                      <a:lnTo>
                        <a:pt x="169" y="380"/>
                      </a:lnTo>
                      <a:lnTo>
                        <a:pt x="186" y="380"/>
                      </a:lnTo>
                      <a:lnTo>
                        <a:pt x="206" y="380"/>
                      </a:lnTo>
                      <a:lnTo>
                        <a:pt x="225" y="378"/>
                      </a:lnTo>
                      <a:lnTo>
                        <a:pt x="243" y="374"/>
                      </a:lnTo>
                      <a:lnTo>
                        <a:pt x="260" y="366"/>
                      </a:lnTo>
                      <a:lnTo>
                        <a:pt x="274" y="360"/>
                      </a:lnTo>
                      <a:lnTo>
                        <a:pt x="294" y="350"/>
                      </a:lnTo>
                      <a:lnTo>
                        <a:pt x="307" y="342"/>
                      </a:lnTo>
                      <a:lnTo>
                        <a:pt x="325" y="333"/>
                      </a:lnTo>
                      <a:lnTo>
                        <a:pt x="337" y="315"/>
                      </a:lnTo>
                      <a:lnTo>
                        <a:pt x="348" y="297"/>
                      </a:lnTo>
                      <a:lnTo>
                        <a:pt x="354" y="282"/>
                      </a:lnTo>
                      <a:lnTo>
                        <a:pt x="362" y="266"/>
                      </a:lnTo>
                      <a:lnTo>
                        <a:pt x="370" y="251"/>
                      </a:lnTo>
                      <a:lnTo>
                        <a:pt x="376" y="233"/>
                      </a:lnTo>
                      <a:lnTo>
                        <a:pt x="380" y="217"/>
                      </a:lnTo>
                      <a:lnTo>
                        <a:pt x="384" y="194"/>
                      </a:lnTo>
                      <a:lnTo>
                        <a:pt x="384" y="1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5258520" y="4199040"/>
                  <a:ext cx="12960" cy="16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5191560" y="4271760"/>
                  <a:ext cx="2160" cy="42480"/>
                </a:xfrm>
                <a:custGeom>
                  <a:avLst/>
                  <a:gdLst/>
                  <a:ahLst/>
                  <a:rect l="l" t="t" r="r" b="b"/>
                  <a:pathLst>
                    <a:path w="43" h="568">
                      <a:moveTo>
                        <a:pt x="0" y="0"/>
                      </a:moveTo>
                      <a:lnTo>
                        <a:pt x="43" y="177"/>
                      </a:lnTo>
                      <a:lnTo>
                        <a:pt x="43" y="568"/>
                      </a:lnTo>
                      <a:lnTo>
                        <a:pt x="0" y="3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5194080" y="4329720"/>
                  <a:ext cx="81360" cy="63000"/>
                </a:xfrm>
                <a:custGeom>
                  <a:avLst/>
                  <a:gdLst/>
                  <a:ahLst/>
                  <a:rect l="l" t="t" r="r" b="b"/>
                  <a:pathLst>
                    <a:path w="1215" h="841">
                      <a:moveTo>
                        <a:pt x="105" y="415"/>
                      </a:moveTo>
                      <a:lnTo>
                        <a:pt x="105" y="287"/>
                      </a:lnTo>
                      <a:lnTo>
                        <a:pt x="60" y="287"/>
                      </a:lnTo>
                      <a:lnTo>
                        <a:pt x="0" y="0"/>
                      </a:lnTo>
                      <a:lnTo>
                        <a:pt x="1215" y="287"/>
                      </a:lnTo>
                      <a:lnTo>
                        <a:pt x="743" y="287"/>
                      </a:lnTo>
                      <a:lnTo>
                        <a:pt x="743" y="511"/>
                      </a:lnTo>
                      <a:lnTo>
                        <a:pt x="743" y="716"/>
                      </a:lnTo>
                      <a:lnTo>
                        <a:pt x="737" y="720"/>
                      </a:lnTo>
                      <a:lnTo>
                        <a:pt x="731" y="736"/>
                      </a:lnTo>
                      <a:lnTo>
                        <a:pt x="725" y="744"/>
                      </a:lnTo>
                      <a:lnTo>
                        <a:pt x="712" y="757"/>
                      </a:lnTo>
                      <a:lnTo>
                        <a:pt x="700" y="767"/>
                      </a:lnTo>
                      <a:lnTo>
                        <a:pt x="686" y="777"/>
                      </a:lnTo>
                      <a:lnTo>
                        <a:pt x="671" y="783"/>
                      </a:lnTo>
                      <a:lnTo>
                        <a:pt x="653" y="796"/>
                      </a:lnTo>
                      <a:lnTo>
                        <a:pt x="639" y="800"/>
                      </a:lnTo>
                      <a:lnTo>
                        <a:pt x="618" y="814"/>
                      </a:lnTo>
                      <a:lnTo>
                        <a:pt x="598" y="818"/>
                      </a:lnTo>
                      <a:lnTo>
                        <a:pt x="575" y="822"/>
                      </a:lnTo>
                      <a:lnTo>
                        <a:pt x="557" y="831"/>
                      </a:lnTo>
                      <a:lnTo>
                        <a:pt x="534" y="831"/>
                      </a:lnTo>
                      <a:lnTo>
                        <a:pt x="511" y="837"/>
                      </a:lnTo>
                      <a:lnTo>
                        <a:pt x="487" y="841"/>
                      </a:lnTo>
                      <a:lnTo>
                        <a:pt x="464" y="841"/>
                      </a:lnTo>
                      <a:lnTo>
                        <a:pt x="440" y="841"/>
                      </a:lnTo>
                      <a:lnTo>
                        <a:pt x="419" y="841"/>
                      </a:lnTo>
                      <a:lnTo>
                        <a:pt x="391" y="841"/>
                      </a:lnTo>
                      <a:lnTo>
                        <a:pt x="365" y="841"/>
                      </a:lnTo>
                      <a:lnTo>
                        <a:pt x="342" y="839"/>
                      </a:lnTo>
                      <a:lnTo>
                        <a:pt x="318" y="833"/>
                      </a:lnTo>
                      <a:lnTo>
                        <a:pt x="295" y="831"/>
                      </a:lnTo>
                      <a:lnTo>
                        <a:pt x="275" y="828"/>
                      </a:lnTo>
                      <a:lnTo>
                        <a:pt x="252" y="822"/>
                      </a:lnTo>
                      <a:lnTo>
                        <a:pt x="234" y="814"/>
                      </a:lnTo>
                      <a:lnTo>
                        <a:pt x="215" y="808"/>
                      </a:lnTo>
                      <a:lnTo>
                        <a:pt x="193" y="798"/>
                      </a:lnTo>
                      <a:lnTo>
                        <a:pt x="179" y="790"/>
                      </a:lnTo>
                      <a:lnTo>
                        <a:pt x="166" y="781"/>
                      </a:lnTo>
                      <a:lnTo>
                        <a:pt x="152" y="769"/>
                      </a:lnTo>
                      <a:lnTo>
                        <a:pt x="138" y="759"/>
                      </a:lnTo>
                      <a:lnTo>
                        <a:pt x="127" y="751"/>
                      </a:lnTo>
                      <a:lnTo>
                        <a:pt x="117" y="740"/>
                      </a:lnTo>
                      <a:lnTo>
                        <a:pt x="109" y="726"/>
                      </a:lnTo>
                      <a:lnTo>
                        <a:pt x="105" y="716"/>
                      </a:lnTo>
                      <a:lnTo>
                        <a:pt x="105" y="4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H="1">
                  <a:off x="5276160" y="4255200"/>
                  <a:ext cx="1126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5200920" y="4357440"/>
                  <a:ext cx="118440" cy="159480"/>
                </a:xfrm>
                <a:custGeom>
                  <a:avLst/>
                  <a:gdLst/>
                  <a:ahLst/>
                  <a:rect l="l" t="t" r="r" b="b"/>
                  <a:pathLst>
                    <a:path w="1795" h="2087">
                      <a:moveTo>
                        <a:pt x="1520" y="0"/>
                      </a:moveTo>
                      <a:lnTo>
                        <a:pt x="1727" y="51"/>
                      </a:lnTo>
                      <a:lnTo>
                        <a:pt x="1727" y="1354"/>
                      </a:lnTo>
                      <a:lnTo>
                        <a:pt x="1795" y="1428"/>
                      </a:lnTo>
                      <a:lnTo>
                        <a:pt x="1795" y="1634"/>
                      </a:lnTo>
                      <a:lnTo>
                        <a:pt x="1622" y="1838"/>
                      </a:lnTo>
                      <a:lnTo>
                        <a:pt x="1497" y="1869"/>
                      </a:lnTo>
                      <a:lnTo>
                        <a:pt x="1181" y="1744"/>
                      </a:lnTo>
                      <a:lnTo>
                        <a:pt x="643" y="1806"/>
                      </a:lnTo>
                      <a:lnTo>
                        <a:pt x="0" y="2087"/>
                      </a:lnTo>
                      <a:lnTo>
                        <a:pt x="596" y="1773"/>
                      </a:lnTo>
                      <a:lnTo>
                        <a:pt x="804" y="1572"/>
                      </a:lnTo>
                      <a:lnTo>
                        <a:pt x="1105" y="1460"/>
                      </a:lnTo>
                      <a:lnTo>
                        <a:pt x="1105" y="1036"/>
                      </a:lnTo>
                      <a:lnTo>
                        <a:pt x="1021" y="773"/>
                      </a:lnTo>
                      <a:lnTo>
                        <a:pt x="1021" y="630"/>
                      </a:lnTo>
                      <a:lnTo>
                        <a:pt x="1303" y="1428"/>
                      </a:lnTo>
                      <a:lnTo>
                        <a:pt x="1622" y="1428"/>
                      </a:lnTo>
                      <a:lnTo>
                        <a:pt x="1520" y="1161"/>
                      </a:lnTo>
                      <a:lnTo>
                        <a:pt x="15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5088600" y="4552920"/>
                  <a:ext cx="106200" cy="68400"/>
                </a:xfrm>
                <a:custGeom>
                  <a:avLst/>
                  <a:gdLst/>
                  <a:ahLst/>
                  <a:rect l="l" t="t" r="r" b="b"/>
                  <a:pathLst>
                    <a:path w="1599" h="905">
                      <a:moveTo>
                        <a:pt x="12" y="905"/>
                      </a:moveTo>
                      <a:lnTo>
                        <a:pt x="0" y="639"/>
                      </a:lnTo>
                      <a:lnTo>
                        <a:pt x="82" y="532"/>
                      </a:lnTo>
                      <a:lnTo>
                        <a:pt x="281" y="594"/>
                      </a:lnTo>
                      <a:lnTo>
                        <a:pt x="400" y="594"/>
                      </a:lnTo>
                      <a:lnTo>
                        <a:pt x="632" y="234"/>
                      </a:lnTo>
                      <a:lnTo>
                        <a:pt x="843" y="234"/>
                      </a:lnTo>
                      <a:lnTo>
                        <a:pt x="718" y="0"/>
                      </a:lnTo>
                      <a:lnTo>
                        <a:pt x="962" y="0"/>
                      </a:lnTo>
                      <a:lnTo>
                        <a:pt x="1389" y="312"/>
                      </a:lnTo>
                      <a:lnTo>
                        <a:pt x="1511" y="312"/>
                      </a:lnTo>
                      <a:lnTo>
                        <a:pt x="1599" y="357"/>
                      </a:lnTo>
                      <a:lnTo>
                        <a:pt x="1548" y="456"/>
                      </a:lnTo>
                      <a:lnTo>
                        <a:pt x="1076" y="782"/>
                      </a:lnTo>
                      <a:lnTo>
                        <a:pt x="1168" y="626"/>
                      </a:lnTo>
                      <a:lnTo>
                        <a:pt x="1266" y="575"/>
                      </a:lnTo>
                      <a:lnTo>
                        <a:pt x="1340" y="456"/>
                      </a:lnTo>
                      <a:lnTo>
                        <a:pt x="1037" y="123"/>
                      </a:lnTo>
                      <a:lnTo>
                        <a:pt x="1037" y="373"/>
                      </a:lnTo>
                      <a:lnTo>
                        <a:pt x="747" y="860"/>
                      </a:lnTo>
                      <a:lnTo>
                        <a:pt x="620" y="860"/>
                      </a:lnTo>
                      <a:lnTo>
                        <a:pt x="575" y="782"/>
                      </a:lnTo>
                      <a:lnTo>
                        <a:pt x="671" y="813"/>
                      </a:lnTo>
                      <a:lnTo>
                        <a:pt x="852" y="456"/>
                      </a:lnTo>
                      <a:lnTo>
                        <a:pt x="755" y="357"/>
                      </a:lnTo>
                      <a:lnTo>
                        <a:pt x="412" y="796"/>
                      </a:lnTo>
                      <a:lnTo>
                        <a:pt x="195" y="686"/>
                      </a:lnTo>
                      <a:lnTo>
                        <a:pt x="12" y="9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5153040" y="4525200"/>
                  <a:ext cx="19080" cy="38160"/>
                </a:xfrm>
                <a:custGeom>
                  <a:avLst/>
                  <a:gdLst/>
                  <a:ahLst/>
                  <a:rect l="l" t="t" r="r" b="b"/>
                  <a:pathLst>
                    <a:path w="289" h="501">
                      <a:moveTo>
                        <a:pt x="0" y="139"/>
                      </a:moveTo>
                      <a:lnTo>
                        <a:pt x="46" y="0"/>
                      </a:lnTo>
                      <a:lnTo>
                        <a:pt x="146" y="0"/>
                      </a:lnTo>
                      <a:lnTo>
                        <a:pt x="216" y="107"/>
                      </a:lnTo>
                      <a:lnTo>
                        <a:pt x="289" y="501"/>
                      </a:lnTo>
                      <a:lnTo>
                        <a:pt x="119" y="96"/>
                      </a:lnTo>
                      <a:lnTo>
                        <a:pt x="74" y="96"/>
                      </a:lnTo>
                      <a:lnTo>
                        <a:pt x="0" y="1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5176080" y="4529520"/>
                  <a:ext cx="10440" cy="38160"/>
                </a:xfrm>
                <a:custGeom>
                  <a:avLst/>
                  <a:gdLst/>
                  <a:ahLst/>
                  <a:rect l="l" t="t" r="r" b="b"/>
                  <a:pathLst>
                    <a:path w="160" h="503">
                      <a:moveTo>
                        <a:pt x="59" y="0"/>
                      </a:moveTo>
                      <a:lnTo>
                        <a:pt x="0" y="282"/>
                      </a:lnTo>
                      <a:lnTo>
                        <a:pt x="59" y="503"/>
                      </a:lnTo>
                      <a:lnTo>
                        <a:pt x="160" y="440"/>
                      </a:lnTo>
                      <a:lnTo>
                        <a:pt x="108" y="239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154120" y="4512960"/>
                  <a:ext cx="44280" cy="19080"/>
                </a:xfrm>
                <a:custGeom>
                  <a:avLst/>
                  <a:gdLst/>
                  <a:ahLst/>
                  <a:rect l="l" t="t" r="r" b="b"/>
                  <a:pathLst>
                    <a:path w="675" h="248">
                      <a:moveTo>
                        <a:pt x="0" y="63"/>
                      </a:moveTo>
                      <a:lnTo>
                        <a:pt x="182" y="0"/>
                      </a:lnTo>
                      <a:lnTo>
                        <a:pt x="321" y="94"/>
                      </a:lnTo>
                      <a:lnTo>
                        <a:pt x="505" y="31"/>
                      </a:lnTo>
                      <a:lnTo>
                        <a:pt x="675" y="127"/>
                      </a:lnTo>
                      <a:lnTo>
                        <a:pt x="613" y="248"/>
                      </a:lnTo>
                      <a:lnTo>
                        <a:pt x="492" y="94"/>
                      </a:lnTo>
                      <a:lnTo>
                        <a:pt x="260" y="188"/>
                      </a:lnTo>
                      <a:lnTo>
                        <a:pt x="207" y="145"/>
                      </a:lnTo>
                      <a:lnTo>
                        <a:pt x="172" y="63"/>
                      </a:lnTo>
                      <a:lnTo>
                        <a:pt x="0" y="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212800" y="4503240"/>
                  <a:ext cx="28440" cy="46800"/>
                </a:xfrm>
                <a:custGeom>
                  <a:avLst/>
                  <a:gdLst/>
                  <a:ahLst/>
                  <a:rect l="l" t="t" r="r" b="b"/>
                  <a:pathLst>
                    <a:path w="427" h="611">
                      <a:moveTo>
                        <a:pt x="427" y="0"/>
                      </a:moveTo>
                      <a:lnTo>
                        <a:pt x="171" y="300"/>
                      </a:lnTo>
                      <a:lnTo>
                        <a:pt x="37" y="611"/>
                      </a:lnTo>
                      <a:lnTo>
                        <a:pt x="0" y="532"/>
                      </a:lnTo>
                      <a:lnTo>
                        <a:pt x="23" y="300"/>
                      </a:lnTo>
                      <a:lnTo>
                        <a:pt x="87" y="144"/>
                      </a:lnTo>
                      <a:lnTo>
                        <a:pt x="87" y="374"/>
                      </a:lnTo>
                      <a:lnTo>
                        <a:pt x="134" y="271"/>
                      </a:lnTo>
                      <a:lnTo>
                        <a:pt x="42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5217840" y="4533480"/>
                  <a:ext cx="81360" cy="70200"/>
                </a:xfrm>
                <a:custGeom>
                  <a:avLst/>
                  <a:gdLst/>
                  <a:ahLst/>
                  <a:rect l="l" t="t" r="r" b="b"/>
                  <a:pathLst>
                    <a:path w="1220" h="918">
                      <a:moveTo>
                        <a:pt x="545" y="101"/>
                      </a:moveTo>
                      <a:lnTo>
                        <a:pt x="0" y="354"/>
                      </a:lnTo>
                      <a:lnTo>
                        <a:pt x="134" y="510"/>
                      </a:lnTo>
                      <a:lnTo>
                        <a:pt x="488" y="622"/>
                      </a:lnTo>
                      <a:lnTo>
                        <a:pt x="329" y="405"/>
                      </a:lnTo>
                      <a:lnTo>
                        <a:pt x="574" y="249"/>
                      </a:lnTo>
                      <a:lnTo>
                        <a:pt x="914" y="249"/>
                      </a:lnTo>
                      <a:lnTo>
                        <a:pt x="709" y="405"/>
                      </a:lnTo>
                      <a:lnTo>
                        <a:pt x="754" y="575"/>
                      </a:lnTo>
                      <a:lnTo>
                        <a:pt x="501" y="918"/>
                      </a:lnTo>
                      <a:lnTo>
                        <a:pt x="1183" y="387"/>
                      </a:lnTo>
                      <a:lnTo>
                        <a:pt x="1220" y="198"/>
                      </a:lnTo>
                      <a:lnTo>
                        <a:pt x="1097" y="249"/>
                      </a:lnTo>
                      <a:lnTo>
                        <a:pt x="1050" y="186"/>
                      </a:lnTo>
                      <a:lnTo>
                        <a:pt x="1113" y="0"/>
                      </a:lnTo>
                      <a:lnTo>
                        <a:pt x="682" y="166"/>
                      </a:lnTo>
                      <a:lnTo>
                        <a:pt x="545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5323320" y="4442760"/>
                  <a:ext cx="50040" cy="32760"/>
                </a:xfrm>
                <a:custGeom>
                  <a:avLst/>
                  <a:gdLst/>
                  <a:ahLst/>
                  <a:rect l="l" t="t" r="r" b="b"/>
                  <a:pathLst>
                    <a:path w="755" h="425">
                      <a:moveTo>
                        <a:pt x="0" y="66"/>
                      </a:moveTo>
                      <a:lnTo>
                        <a:pt x="146" y="66"/>
                      </a:lnTo>
                      <a:lnTo>
                        <a:pt x="228" y="281"/>
                      </a:lnTo>
                      <a:lnTo>
                        <a:pt x="549" y="425"/>
                      </a:lnTo>
                      <a:lnTo>
                        <a:pt x="755" y="425"/>
                      </a:lnTo>
                      <a:lnTo>
                        <a:pt x="534" y="346"/>
                      </a:lnTo>
                      <a:lnTo>
                        <a:pt x="339" y="33"/>
                      </a:lnTo>
                      <a:lnTo>
                        <a:pt x="207" y="0"/>
                      </a:lnTo>
                      <a:lnTo>
                        <a:pt x="97" y="0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5259600" y="4523760"/>
                  <a:ext cx="76680" cy="85320"/>
                </a:xfrm>
                <a:custGeom>
                  <a:avLst/>
                  <a:gdLst/>
                  <a:ahLst/>
                  <a:rect l="l" t="t" r="r" b="b"/>
                  <a:pathLst>
                    <a:path w="1161" h="1111">
                      <a:moveTo>
                        <a:pt x="0" y="1111"/>
                      </a:moveTo>
                      <a:lnTo>
                        <a:pt x="708" y="591"/>
                      </a:lnTo>
                      <a:lnTo>
                        <a:pt x="746" y="466"/>
                      </a:lnTo>
                      <a:lnTo>
                        <a:pt x="632" y="29"/>
                      </a:lnTo>
                      <a:lnTo>
                        <a:pt x="792" y="0"/>
                      </a:lnTo>
                      <a:lnTo>
                        <a:pt x="893" y="88"/>
                      </a:lnTo>
                      <a:lnTo>
                        <a:pt x="1100" y="0"/>
                      </a:lnTo>
                      <a:lnTo>
                        <a:pt x="1161" y="88"/>
                      </a:lnTo>
                      <a:lnTo>
                        <a:pt x="1012" y="466"/>
                      </a:lnTo>
                      <a:lnTo>
                        <a:pt x="893" y="479"/>
                      </a:lnTo>
                      <a:lnTo>
                        <a:pt x="833" y="530"/>
                      </a:lnTo>
                      <a:lnTo>
                        <a:pt x="876" y="624"/>
                      </a:lnTo>
                      <a:lnTo>
                        <a:pt x="734" y="671"/>
                      </a:lnTo>
                      <a:lnTo>
                        <a:pt x="599" y="949"/>
                      </a:lnTo>
                      <a:lnTo>
                        <a:pt x="462" y="888"/>
                      </a:lnTo>
                      <a:lnTo>
                        <a:pt x="0" y="11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5348520" y="4507200"/>
                  <a:ext cx="23760" cy="28800"/>
                </a:xfrm>
                <a:custGeom>
                  <a:avLst/>
                  <a:gdLst/>
                  <a:ahLst/>
                  <a:rect l="l" t="t" r="r" b="b"/>
                  <a:pathLst>
                    <a:path w="356" h="376">
                      <a:moveTo>
                        <a:pt x="0" y="344"/>
                      </a:moveTo>
                      <a:lnTo>
                        <a:pt x="0" y="251"/>
                      </a:lnTo>
                      <a:lnTo>
                        <a:pt x="126" y="126"/>
                      </a:lnTo>
                      <a:lnTo>
                        <a:pt x="126" y="237"/>
                      </a:lnTo>
                      <a:lnTo>
                        <a:pt x="268" y="112"/>
                      </a:lnTo>
                      <a:lnTo>
                        <a:pt x="268" y="0"/>
                      </a:lnTo>
                      <a:lnTo>
                        <a:pt x="356" y="63"/>
                      </a:lnTo>
                      <a:lnTo>
                        <a:pt x="356" y="280"/>
                      </a:lnTo>
                      <a:lnTo>
                        <a:pt x="268" y="376"/>
                      </a:lnTo>
                      <a:lnTo>
                        <a:pt x="147" y="344"/>
                      </a:lnTo>
                      <a:lnTo>
                        <a:pt x="0" y="3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326920" y="4540320"/>
                  <a:ext cx="46440" cy="24840"/>
                </a:xfrm>
                <a:custGeom>
                  <a:avLst/>
                  <a:gdLst/>
                  <a:ahLst/>
                  <a:rect l="l" t="t" r="r" b="b"/>
                  <a:pathLst>
                    <a:path w="705" h="318">
                      <a:moveTo>
                        <a:pt x="0" y="240"/>
                      </a:moveTo>
                      <a:lnTo>
                        <a:pt x="178" y="318"/>
                      </a:lnTo>
                      <a:lnTo>
                        <a:pt x="364" y="148"/>
                      </a:lnTo>
                      <a:lnTo>
                        <a:pt x="630" y="148"/>
                      </a:lnTo>
                      <a:lnTo>
                        <a:pt x="705" y="85"/>
                      </a:lnTo>
                      <a:lnTo>
                        <a:pt x="630" y="0"/>
                      </a:lnTo>
                      <a:lnTo>
                        <a:pt x="289" y="65"/>
                      </a:lnTo>
                      <a:lnTo>
                        <a:pt x="207" y="240"/>
                      </a:lnTo>
                      <a:lnTo>
                        <a:pt x="0" y="2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375880" y="4492080"/>
                  <a:ext cx="10800" cy="49320"/>
                </a:xfrm>
                <a:custGeom>
                  <a:avLst/>
                  <a:gdLst/>
                  <a:ahLst/>
                  <a:rect l="l" t="t" r="r" b="b"/>
                  <a:pathLst>
                    <a:path w="159" h="656">
                      <a:moveTo>
                        <a:pt x="23" y="0"/>
                      </a:moveTo>
                      <a:lnTo>
                        <a:pt x="99" y="127"/>
                      </a:lnTo>
                      <a:lnTo>
                        <a:pt x="99" y="202"/>
                      </a:lnTo>
                      <a:lnTo>
                        <a:pt x="0" y="453"/>
                      </a:lnTo>
                      <a:lnTo>
                        <a:pt x="11" y="656"/>
                      </a:lnTo>
                      <a:lnTo>
                        <a:pt x="159" y="314"/>
                      </a:lnTo>
                      <a:lnTo>
                        <a:pt x="159" y="127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5377320" y="4507200"/>
                  <a:ext cx="18720" cy="39960"/>
                </a:xfrm>
                <a:custGeom>
                  <a:avLst/>
                  <a:gdLst/>
                  <a:ahLst/>
                  <a:rect l="l" t="t" r="r" b="b"/>
                  <a:pathLst>
                    <a:path w="280" h="519">
                      <a:moveTo>
                        <a:pt x="82" y="519"/>
                      </a:moveTo>
                      <a:lnTo>
                        <a:pt x="243" y="217"/>
                      </a:lnTo>
                      <a:lnTo>
                        <a:pt x="280" y="0"/>
                      </a:lnTo>
                      <a:lnTo>
                        <a:pt x="189" y="237"/>
                      </a:lnTo>
                      <a:lnTo>
                        <a:pt x="0" y="454"/>
                      </a:lnTo>
                      <a:lnTo>
                        <a:pt x="82" y="5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288400" y="4579200"/>
                  <a:ext cx="122040" cy="30240"/>
                </a:xfrm>
                <a:custGeom>
                  <a:avLst/>
                  <a:gdLst/>
                  <a:ahLst/>
                  <a:rect l="l" t="t" r="r" b="b"/>
                  <a:pathLst>
                    <a:path w="1831" h="394">
                      <a:moveTo>
                        <a:pt x="0" y="394"/>
                      </a:moveTo>
                      <a:lnTo>
                        <a:pt x="503" y="201"/>
                      </a:lnTo>
                      <a:lnTo>
                        <a:pt x="1554" y="201"/>
                      </a:lnTo>
                      <a:lnTo>
                        <a:pt x="1554" y="0"/>
                      </a:lnTo>
                      <a:lnTo>
                        <a:pt x="1831" y="0"/>
                      </a:lnTo>
                      <a:lnTo>
                        <a:pt x="1831" y="201"/>
                      </a:lnTo>
                      <a:lnTo>
                        <a:pt x="1640" y="201"/>
                      </a:lnTo>
                      <a:lnTo>
                        <a:pt x="1640" y="394"/>
                      </a:lnTo>
                      <a:lnTo>
                        <a:pt x="0" y="3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410800" y="4298040"/>
                  <a:ext cx="1080" cy="271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063400" y="4399920"/>
                  <a:ext cx="38160" cy="5400"/>
                </a:xfrm>
                <a:custGeom>
                  <a:avLst/>
                  <a:gdLst/>
                  <a:ahLst/>
                  <a:rect l="l" t="t" r="r" b="b"/>
                  <a:pathLst>
                    <a:path w="573" h="65">
                      <a:moveTo>
                        <a:pt x="0" y="65"/>
                      </a:moveTo>
                      <a:lnTo>
                        <a:pt x="101" y="0"/>
                      </a:lnTo>
                      <a:lnTo>
                        <a:pt x="166" y="0"/>
                      </a:lnTo>
                      <a:lnTo>
                        <a:pt x="258" y="65"/>
                      </a:lnTo>
                      <a:lnTo>
                        <a:pt x="573" y="6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5077800" y="4295160"/>
                  <a:ext cx="50040" cy="96480"/>
                </a:xfrm>
                <a:custGeom>
                  <a:avLst/>
                  <a:gdLst/>
                  <a:ahLst/>
                  <a:rect l="l" t="t" r="r" b="b"/>
                  <a:pathLst>
                    <a:path w="758" h="1256">
                      <a:moveTo>
                        <a:pt x="173" y="1256"/>
                      </a:moveTo>
                      <a:lnTo>
                        <a:pt x="227" y="639"/>
                      </a:lnTo>
                      <a:lnTo>
                        <a:pt x="78" y="639"/>
                      </a:lnTo>
                      <a:lnTo>
                        <a:pt x="0" y="567"/>
                      </a:lnTo>
                      <a:lnTo>
                        <a:pt x="0" y="281"/>
                      </a:lnTo>
                      <a:lnTo>
                        <a:pt x="356" y="0"/>
                      </a:lnTo>
                      <a:lnTo>
                        <a:pt x="460" y="86"/>
                      </a:lnTo>
                      <a:lnTo>
                        <a:pt x="758" y="86"/>
                      </a:lnTo>
                      <a:lnTo>
                        <a:pt x="758" y="317"/>
                      </a:lnTo>
                      <a:lnTo>
                        <a:pt x="487" y="317"/>
                      </a:lnTo>
                      <a:lnTo>
                        <a:pt x="341" y="452"/>
                      </a:lnTo>
                      <a:lnTo>
                        <a:pt x="173" y="12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5169960" y="4372200"/>
                  <a:ext cx="24840" cy="16200"/>
                </a:xfrm>
                <a:custGeom>
                  <a:avLst/>
                  <a:gdLst/>
                  <a:ahLst/>
                  <a:rect l="l" t="t" r="r" b="b"/>
                  <a:pathLst>
                    <a:path w="378" h="217">
                      <a:moveTo>
                        <a:pt x="325" y="0"/>
                      </a:moveTo>
                      <a:lnTo>
                        <a:pt x="0" y="217"/>
                      </a:lnTo>
                      <a:lnTo>
                        <a:pt x="378" y="105"/>
                      </a:lnTo>
                      <a:lnTo>
                        <a:pt x="32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97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13400" y="4197240"/>
                <a:ext cx="919440" cy="61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520" y="4883040"/>
                <a:ext cx="825480" cy="563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77" name=""/>
              <p:cNvGrpSpPr/>
              <p:nvPr/>
            </p:nvGrpSpPr>
            <p:grpSpPr>
              <a:xfrm>
                <a:off x="4827600" y="5721480"/>
                <a:ext cx="1482840" cy="732960"/>
                <a:chOff x="4827600" y="5721480"/>
                <a:chExt cx="1482840" cy="73296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4827600" y="5721480"/>
                  <a:ext cx="1482840" cy="732960"/>
                </a:xfrm>
                <a:custGeom>
                  <a:avLst/>
                  <a:gdLst/>
                  <a:ahLst/>
                  <a:rect l="l" t="t" r="r" b="b"/>
                  <a:pathLst>
                    <a:path w="2800" h="1204">
                      <a:moveTo>
                        <a:pt x="1428" y="543"/>
                      </a:moveTo>
                      <a:lnTo>
                        <a:pt x="1427" y="542"/>
                      </a:lnTo>
                      <a:lnTo>
                        <a:pt x="1426" y="542"/>
                      </a:lnTo>
                      <a:lnTo>
                        <a:pt x="1425" y="541"/>
                      </a:lnTo>
                      <a:lnTo>
                        <a:pt x="1424" y="541"/>
                      </a:lnTo>
                      <a:lnTo>
                        <a:pt x="1421" y="541"/>
                      </a:lnTo>
                      <a:lnTo>
                        <a:pt x="1420" y="541"/>
                      </a:lnTo>
                      <a:lnTo>
                        <a:pt x="1419" y="541"/>
                      </a:lnTo>
                      <a:lnTo>
                        <a:pt x="1418" y="541"/>
                      </a:lnTo>
                      <a:lnTo>
                        <a:pt x="1417" y="542"/>
                      </a:lnTo>
                      <a:lnTo>
                        <a:pt x="1416" y="542"/>
                      </a:lnTo>
                      <a:lnTo>
                        <a:pt x="1414" y="542"/>
                      </a:lnTo>
                      <a:lnTo>
                        <a:pt x="1413" y="542"/>
                      </a:lnTo>
                      <a:lnTo>
                        <a:pt x="1412" y="543"/>
                      </a:lnTo>
                      <a:lnTo>
                        <a:pt x="1411" y="543"/>
                      </a:lnTo>
                      <a:lnTo>
                        <a:pt x="1410" y="544"/>
                      </a:lnTo>
                      <a:lnTo>
                        <a:pt x="1408" y="545"/>
                      </a:lnTo>
                      <a:lnTo>
                        <a:pt x="1406" y="545"/>
                      </a:lnTo>
                      <a:lnTo>
                        <a:pt x="1405" y="547"/>
                      </a:lnTo>
                      <a:lnTo>
                        <a:pt x="1404" y="548"/>
                      </a:lnTo>
                      <a:lnTo>
                        <a:pt x="1402" y="548"/>
                      </a:lnTo>
                      <a:lnTo>
                        <a:pt x="1401" y="549"/>
                      </a:lnTo>
                      <a:lnTo>
                        <a:pt x="1398" y="550"/>
                      </a:lnTo>
                      <a:lnTo>
                        <a:pt x="1397" y="551"/>
                      </a:lnTo>
                      <a:lnTo>
                        <a:pt x="1395" y="552"/>
                      </a:lnTo>
                      <a:lnTo>
                        <a:pt x="1394" y="553"/>
                      </a:lnTo>
                      <a:lnTo>
                        <a:pt x="1391" y="553"/>
                      </a:lnTo>
                      <a:lnTo>
                        <a:pt x="1390" y="555"/>
                      </a:lnTo>
                      <a:lnTo>
                        <a:pt x="1388" y="556"/>
                      </a:lnTo>
                      <a:lnTo>
                        <a:pt x="1386" y="557"/>
                      </a:lnTo>
                      <a:lnTo>
                        <a:pt x="1384" y="558"/>
                      </a:lnTo>
                      <a:lnTo>
                        <a:pt x="1382" y="559"/>
                      </a:lnTo>
                      <a:lnTo>
                        <a:pt x="1380" y="560"/>
                      </a:lnTo>
                      <a:lnTo>
                        <a:pt x="1379" y="559"/>
                      </a:lnTo>
                      <a:lnTo>
                        <a:pt x="1377" y="558"/>
                      </a:lnTo>
                      <a:lnTo>
                        <a:pt x="1376" y="557"/>
                      </a:lnTo>
                      <a:lnTo>
                        <a:pt x="1375" y="556"/>
                      </a:lnTo>
                      <a:lnTo>
                        <a:pt x="1375" y="555"/>
                      </a:lnTo>
                      <a:lnTo>
                        <a:pt x="1374" y="555"/>
                      </a:lnTo>
                      <a:lnTo>
                        <a:pt x="1373" y="553"/>
                      </a:lnTo>
                      <a:lnTo>
                        <a:pt x="1372" y="553"/>
                      </a:lnTo>
                      <a:lnTo>
                        <a:pt x="1371" y="552"/>
                      </a:lnTo>
                      <a:lnTo>
                        <a:pt x="1369" y="552"/>
                      </a:lnTo>
                      <a:lnTo>
                        <a:pt x="1368" y="552"/>
                      </a:lnTo>
                      <a:lnTo>
                        <a:pt x="1367" y="552"/>
                      </a:lnTo>
                      <a:lnTo>
                        <a:pt x="1366" y="552"/>
                      </a:lnTo>
                      <a:lnTo>
                        <a:pt x="1365" y="552"/>
                      </a:lnTo>
                      <a:lnTo>
                        <a:pt x="1364" y="552"/>
                      </a:lnTo>
                      <a:lnTo>
                        <a:pt x="1362" y="553"/>
                      </a:lnTo>
                      <a:lnTo>
                        <a:pt x="1361" y="553"/>
                      </a:lnTo>
                      <a:lnTo>
                        <a:pt x="1360" y="555"/>
                      </a:lnTo>
                      <a:lnTo>
                        <a:pt x="1359" y="555"/>
                      </a:lnTo>
                      <a:lnTo>
                        <a:pt x="1358" y="556"/>
                      </a:lnTo>
                      <a:lnTo>
                        <a:pt x="1357" y="556"/>
                      </a:lnTo>
                      <a:lnTo>
                        <a:pt x="1356" y="557"/>
                      </a:lnTo>
                      <a:lnTo>
                        <a:pt x="1354" y="557"/>
                      </a:lnTo>
                      <a:lnTo>
                        <a:pt x="1353" y="558"/>
                      </a:lnTo>
                      <a:lnTo>
                        <a:pt x="1352" y="559"/>
                      </a:lnTo>
                      <a:lnTo>
                        <a:pt x="1351" y="559"/>
                      </a:lnTo>
                      <a:lnTo>
                        <a:pt x="1349" y="560"/>
                      </a:lnTo>
                      <a:lnTo>
                        <a:pt x="1347" y="562"/>
                      </a:lnTo>
                      <a:lnTo>
                        <a:pt x="1346" y="562"/>
                      </a:lnTo>
                      <a:lnTo>
                        <a:pt x="1345" y="563"/>
                      </a:lnTo>
                      <a:lnTo>
                        <a:pt x="1344" y="564"/>
                      </a:lnTo>
                      <a:lnTo>
                        <a:pt x="1343" y="564"/>
                      </a:lnTo>
                      <a:lnTo>
                        <a:pt x="1342" y="565"/>
                      </a:lnTo>
                      <a:lnTo>
                        <a:pt x="1340" y="566"/>
                      </a:lnTo>
                      <a:lnTo>
                        <a:pt x="1339" y="566"/>
                      </a:lnTo>
                      <a:lnTo>
                        <a:pt x="1338" y="566"/>
                      </a:lnTo>
                      <a:lnTo>
                        <a:pt x="1338" y="567"/>
                      </a:lnTo>
                      <a:lnTo>
                        <a:pt x="1337" y="567"/>
                      </a:lnTo>
                      <a:lnTo>
                        <a:pt x="1336" y="569"/>
                      </a:lnTo>
                      <a:lnTo>
                        <a:pt x="1335" y="569"/>
                      </a:lnTo>
                      <a:lnTo>
                        <a:pt x="1335" y="570"/>
                      </a:lnTo>
                      <a:lnTo>
                        <a:pt x="1334" y="570"/>
                      </a:lnTo>
                      <a:lnTo>
                        <a:pt x="1332" y="570"/>
                      </a:lnTo>
                      <a:lnTo>
                        <a:pt x="1332" y="571"/>
                      </a:lnTo>
                      <a:lnTo>
                        <a:pt x="1331" y="571"/>
                      </a:lnTo>
                      <a:lnTo>
                        <a:pt x="1330" y="572"/>
                      </a:lnTo>
                      <a:lnTo>
                        <a:pt x="1329" y="572"/>
                      </a:lnTo>
                      <a:lnTo>
                        <a:pt x="1329" y="573"/>
                      </a:lnTo>
                      <a:lnTo>
                        <a:pt x="1328" y="573"/>
                      </a:lnTo>
                      <a:lnTo>
                        <a:pt x="1328" y="574"/>
                      </a:lnTo>
                      <a:lnTo>
                        <a:pt x="1327" y="574"/>
                      </a:lnTo>
                      <a:lnTo>
                        <a:pt x="1327" y="575"/>
                      </a:lnTo>
                      <a:lnTo>
                        <a:pt x="1325" y="575"/>
                      </a:lnTo>
                      <a:lnTo>
                        <a:pt x="1325" y="577"/>
                      </a:lnTo>
                      <a:lnTo>
                        <a:pt x="1325" y="578"/>
                      </a:lnTo>
                      <a:lnTo>
                        <a:pt x="1325" y="579"/>
                      </a:lnTo>
                      <a:lnTo>
                        <a:pt x="1325" y="580"/>
                      </a:lnTo>
                      <a:lnTo>
                        <a:pt x="1325" y="582"/>
                      </a:lnTo>
                      <a:lnTo>
                        <a:pt x="1325" y="584"/>
                      </a:lnTo>
                      <a:lnTo>
                        <a:pt x="1325" y="585"/>
                      </a:lnTo>
                      <a:lnTo>
                        <a:pt x="1325" y="586"/>
                      </a:lnTo>
                      <a:lnTo>
                        <a:pt x="1325" y="587"/>
                      </a:lnTo>
                      <a:lnTo>
                        <a:pt x="1325" y="588"/>
                      </a:lnTo>
                      <a:lnTo>
                        <a:pt x="1325" y="589"/>
                      </a:lnTo>
                      <a:lnTo>
                        <a:pt x="1327" y="590"/>
                      </a:lnTo>
                      <a:lnTo>
                        <a:pt x="1327" y="592"/>
                      </a:lnTo>
                      <a:lnTo>
                        <a:pt x="1328" y="593"/>
                      </a:lnTo>
                      <a:lnTo>
                        <a:pt x="1329" y="594"/>
                      </a:lnTo>
                      <a:lnTo>
                        <a:pt x="1330" y="595"/>
                      </a:lnTo>
                      <a:lnTo>
                        <a:pt x="1331" y="595"/>
                      </a:lnTo>
                      <a:lnTo>
                        <a:pt x="1332" y="596"/>
                      </a:lnTo>
                      <a:lnTo>
                        <a:pt x="1334" y="596"/>
                      </a:lnTo>
                      <a:lnTo>
                        <a:pt x="1335" y="596"/>
                      </a:lnTo>
                      <a:lnTo>
                        <a:pt x="1336" y="596"/>
                      </a:lnTo>
                      <a:lnTo>
                        <a:pt x="1337" y="596"/>
                      </a:lnTo>
                      <a:lnTo>
                        <a:pt x="1338" y="597"/>
                      </a:lnTo>
                      <a:lnTo>
                        <a:pt x="1340" y="597"/>
                      </a:lnTo>
                      <a:lnTo>
                        <a:pt x="1342" y="597"/>
                      </a:lnTo>
                      <a:lnTo>
                        <a:pt x="1343" y="597"/>
                      </a:lnTo>
                      <a:lnTo>
                        <a:pt x="1344" y="597"/>
                      </a:lnTo>
                      <a:lnTo>
                        <a:pt x="1345" y="597"/>
                      </a:lnTo>
                      <a:lnTo>
                        <a:pt x="1346" y="597"/>
                      </a:lnTo>
                      <a:lnTo>
                        <a:pt x="1346" y="599"/>
                      </a:lnTo>
                      <a:lnTo>
                        <a:pt x="1346" y="600"/>
                      </a:lnTo>
                      <a:lnTo>
                        <a:pt x="1346" y="601"/>
                      </a:lnTo>
                      <a:lnTo>
                        <a:pt x="1347" y="602"/>
                      </a:lnTo>
                      <a:lnTo>
                        <a:pt x="1347" y="603"/>
                      </a:lnTo>
                      <a:lnTo>
                        <a:pt x="1349" y="604"/>
                      </a:lnTo>
                      <a:lnTo>
                        <a:pt x="1349" y="605"/>
                      </a:lnTo>
                      <a:lnTo>
                        <a:pt x="1350" y="607"/>
                      </a:lnTo>
                      <a:lnTo>
                        <a:pt x="1351" y="608"/>
                      </a:lnTo>
                      <a:lnTo>
                        <a:pt x="1351" y="609"/>
                      </a:lnTo>
                      <a:lnTo>
                        <a:pt x="1352" y="609"/>
                      </a:lnTo>
                      <a:lnTo>
                        <a:pt x="1353" y="610"/>
                      </a:lnTo>
                      <a:lnTo>
                        <a:pt x="1353" y="611"/>
                      </a:lnTo>
                      <a:lnTo>
                        <a:pt x="1354" y="612"/>
                      </a:lnTo>
                      <a:lnTo>
                        <a:pt x="1356" y="612"/>
                      </a:lnTo>
                      <a:lnTo>
                        <a:pt x="1357" y="614"/>
                      </a:lnTo>
                      <a:lnTo>
                        <a:pt x="1358" y="615"/>
                      </a:lnTo>
                      <a:lnTo>
                        <a:pt x="1359" y="615"/>
                      </a:lnTo>
                      <a:lnTo>
                        <a:pt x="1360" y="616"/>
                      </a:lnTo>
                      <a:lnTo>
                        <a:pt x="1361" y="616"/>
                      </a:lnTo>
                      <a:lnTo>
                        <a:pt x="1362" y="617"/>
                      </a:lnTo>
                      <a:lnTo>
                        <a:pt x="1364" y="617"/>
                      </a:lnTo>
                      <a:lnTo>
                        <a:pt x="1365" y="618"/>
                      </a:lnTo>
                      <a:lnTo>
                        <a:pt x="1366" y="618"/>
                      </a:lnTo>
                      <a:lnTo>
                        <a:pt x="1367" y="618"/>
                      </a:lnTo>
                      <a:lnTo>
                        <a:pt x="1368" y="618"/>
                      </a:lnTo>
                      <a:lnTo>
                        <a:pt x="1369" y="618"/>
                      </a:lnTo>
                      <a:lnTo>
                        <a:pt x="1371" y="619"/>
                      </a:lnTo>
                      <a:lnTo>
                        <a:pt x="1372" y="619"/>
                      </a:lnTo>
                      <a:lnTo>
                        <a:pt x="1373" y="619"/>
                      </a:lnTo>
                      <a:lnTo>
                        <a:pt x="1374" y="619"/>
                      </a:lnTo>
                      <a:lnTo>
                        <a:pt x="1375" y="619"/>
                      </a:lnTo>
                      <a:lnTo>
                        <a:pt x="1375" y="620"/>
                      </a:lnTo>
                      <a:lnTo>
                        <a:pt x="1376" y="620"/>
                      </a:lnTo>
                      <a:lnTo>
                        <a:pt x="1376" y="622"/>
                      </a:lnTo>
                      <a:lnTo>
                        <a:pt x="1377" y="622"/>
                      </a:lnTo>
                      <a:lnTo>
                        <a:pt x="1377" y="623"/>
                      </a:lnTo>
                      <a:lnTo>
                        <a:pt x="1379" y="623"/>
                      </a:lnTo>
                      <a:lnTo>
                        <a:pt x="1379" y="624"/>
                      </a:lnTo>
                      <a:lnTo>
                        <a:pt x="1380" y="625"/>
                      </a:lnTo>
                      <a:lnTo>
                        <a:pt x="1380" y="626"/>
                      </a:lnTo>
                      <a:lnTo>
                        <a:pt x="1381" y="626"/>
                      </a:lnTo>
                      <a:lnTo>
                        <a:pt x="1381" y="627"/>
                      </a:lnTo>
                      <a:lnTo>
                        <a:pt x="1381" y="629"/>
                      </a:lnTo>
                      <a:lnTo>
                        <a:pt x="1380" y="629"/>
                      </a:lnTo>
                      <a:lnTo>
                        <a:pt x="1379" y="630"/>
                      </a:lnTo>
                      <a:lnTo>
                        <a:pt x="1377" y="631"/>
                      </a:lnTo>
                      <a:lnTo>
                        <a:pt x="1376" y="632"/>
                      </a:lnTo>
                      <a:lnTo>
                        <a:pt x="1375" y="632"/>
                      </a:lnTo>
                      <a:lnTo>
                        <a:pt x="1375" y="633"/>
                      </a:lnTo>
                      <a:lnTo>
                        <a:pt x="1374" y="633"/>
                      </a:lnTo>
                      <a:lnTo>
                        <a:pt x="1374" y="634"/>
                      </a:lnTo>
                      <a:lnTo>
                        <a:pt x="1373" y="634"/>
                      </a:lnTo>
                      <a:lnTo>
                        <a:pt x="1373" y="636"/>
                      </a:lnTo>
                      <a:lnTo>
                        <a:pt x="1372" y="637"/>
                      </a:lnTo>
                      <a:lnTo>
                        <a:pt x="1371" y="638"/>
                      </a:lnTo>
                      <a:lnTo>
                        <a:pt x="1371" y="639"/>
                      </a:lnTo>
                      <a:lnTo>
                        <a:pt x="1369" y="640"/>
                      </a:lnTo>
                      <a:lnTo>
                        <a:pt x="1369" y="641"/>
                      </a:lnTo>
                      <a:lnTo>
                        <a:pt x="1368" y="641"/>
                      </a:lnTo>
                      <a:lnTo>
                        <a:pt x="1368" y="642"/>
                      </a:lnTo>
                      <a:lnTo>
                        <a:pt x="1368" y="644"/>
                      </a:lnTo>
                      <a:lnTo>
                        <a:pt x="1368" y="645"/>
                      </a:lnTo>
                      <a:lnTo>
                        <a:pt x="1367" y="646"/>
                      </a:lnTo>
                      <a:lnTo>
                        <a:pt x="1367" y="647"/>
                      </a:lnTo>
                      <a:lnTo>
                        <a:pt x="1367" y="648"/>
                      </a:lnTo>
                      <a:lnTo>
                        <a:pt x="1367" y="649"/>
                      </a:lnTo>
                      <a:lnTo>
                        <a:pt x="1367" y="651"/>
                      </a:lnTo>
                      <a:lnTo>
                        <a:pt x="1367" y="652"/>
                      </a:lnTo>
                      <a:lnTo>
                        <a:pt x="1367" y="654"/>
                      </a:lnTo>
                      <a:lnTo>
                        <a:pt x="1367" y="655"/>
                      </a:lnTo>
                      <a:lnTo>
                        <a:pt x="1367" y="656"/>
                      </a:lnTo>
                      <a:lnTo>
                        <a:pt x="1368" y="657"/>
                      </a:lnTo>
                      <a:lnTo>
                        <a:pt x="1368" y="659"/>
                      </a:lnTo>
                      <a:lnTo>
                        <a:pt x="1368" y="660"/>
                      </a:lnTo>
                      <a:lnTo>
                        <a:pt x="1368" y="661"/>
                      </a:lnTo>
                      <a:lnTo>
                        <a:pt x="1368" y="662"/>
                      </a:lnTo>
                      <a:lnTo>
                        <a:pt x="1368" y="663"/>
                      </a:lnTo>
                      <a:lnTo>
                        <a:pt x="1368" y="664"/>
                      </a:lnTo>
                      <a:lnTo>
                        <a:pt x="1368" y="666"/>
                      </a:lnTo>
                      <a:lnTo>
                        <a:pt x="1368" y="667"/>
                      </a:lnTo>
                      <a:lnTo>
                        <a:pt x="1368" y="668"/>
                      </a:lnTo>
                      <a:lnTo>
                        <a:pt x="1368" y="669"/>
                      </a:lnTo>
                      <a:lnTo>
                        <a:pt x="1368" y="670"/>
                      </a:lnTo>
                      <a:lnTo>
                        <a:pt x="1369" y="670"/>
                      </a:lnTo>
                      <a:lnTo>
                        <a:pt x="1369" y="671"/>
                      </a:lnTo>
                      <a:lnTo>
                        <a:pt x="1371" y="672"/>
                      </a:lnTo>
                      <a:lnTo>
                        <a:pt x="1366" y="672"/>
                      </a:lnTo>
                      <a:lnTo>
                        <a:pt x="1360" y="672"/>
                      </a:lnTo>
                      <a:lnTo>
                        <a:pt x="1356" y="672"/>
                      </a:lnTo>
                      <a:lnTo>
                        <a:pt x="1350" y="672"/>
                      </a:lnTo>
                      <a:lnTo>
                        <a:pt x="1344" y="672"/>
                      </a:lnTo>
                      <a:lnTo>
                        <a:pt x="1338" y="672"/>
                      </a:lnTo>
                      <a:lnTo>
                        <a:pt x="1334" y="672"/>
                      </a:lnTo>
                      <a:lnTo>
                        <a:pt x="1328" y="671"/>
                      </a:lnTo>
                      <a:lnTo>
                        <a:pt x="1322" y="671"/>
                      </a:lnTo>
                      <a:lnTo>
                        <a:pt x="1316" y="671"/>
                      </a:lnTo>
                      <a:lnTo>
                        <a:pt x="1309" y="671"/>
                      </a:lnTo>
                      <a:lnTo>
                        <a:pt x="1304" y="671"/>
                      </a:lnTo>
                      <a:lnTo>
                        <a:pt x="1298" y="671"/>
                      </a:lnTo>
                      <a:lnTo>
                        <a:pt x="1292" y="671"/>
                      </a:lnTo>
                      <a:lnTo>
                        <a:pt x="1286" y="671"/>
                      </a:lnTo>
                      <a:lnTo>
                        <a:pt x="1280" y="671"/>
                      </a:lnTo>
                      <a:lnTo>
                        <a:pt x="1275" y="671"/>
                      </a:lnTo>
                      <a:lnTo>
                        <a:pt x="1269" y="671"/>
                      </a:lnTo>
                      <a:lnTo>
                        <a:pt x="1263" y="671"/>
                      </a:lnTo>
                      <a:lnTo>
                        <a:pt x="1257" y="671"/>
                      </a:lnTo>
                      <a:lnTo>
                        <a:pt x="1252" y="672"/>
                      </a:lnTo>
                      <a:lnTo>
                        <a:pt x="1246" y="672"/>
                      </a:lnTo>
                      <a:lnTo>
                        <a:pt x="1240" y="672"/>
                      </a:lnTo>
                      <a:lnTo>
                        <a:pt x="1234" y="674"/>
                      </a:lnTo>
                      <a:lnTo>
                        <a:pt x="1228" y="674"/>
                      </a:lnTo>
                      <a:lnTo>
                        <a:pt x="1224" y="675"/>
                      </a:lnTo>
                      <a:lnTo>
                        <a:pt x="1218" y="675"/>
                      </a:lnTo>
                      <a:lnTo>
                        <a:pt x="1213" y="676"/>
                      </a:lnTo>
                      <a:lnTo>
                        <a:pt x="1209" y="677"/>
                      </a:lnTo>
                      <a:lnTo>
                        <a:pt x="1203" y="678"/>
                      </a:lnTo>
                      <a:lnTo>
                        <a:pt x="1198" y="679"/>
                      </a:lnTo>
                      <a:lnTo>
                        <a:pt x="1195" y="681"/>
                      </a:lnTo>
                      <a:lnTo>
                        <a:pt x="1194" y="671"/>
                      </a:lnTo>
                      <a:lnTo>
                        <a:pt x="1196" y="671"/>
                      </a:lnTo>
                      <a:lnTo>
                        <a:pt x="1197" y="671"/>
                      </a:lnTo>
                      <a:lnTo>
                        <a:pt x="1200" y="670"/>
                      </a:lnTo>
                      <a:lnTo>
                        <a:pt x="1201" y="670"/>
                      </a:lnTo>
                      <a:lnTo>
                        <a:pt x="1202" y="670"/>
                      </a:lnTo>
                      <a:lnTo>
                        <a:pt x="1204" y="669"/>
                      </a:lnTo>
                      <a:lnTo>
                        <a:pt x="1205" y="669"/>
                      </a:lnTo>
                      <a:lnTo>
                        <a:pt x="1206" y="668"/>
                      </a:lnTo>
                      <a:lnTo>
                        <a:pt x="1208" y="667"/>
                      </a:lnTo>
                      <a:lnTo>
                        <a:pt x="1208" y="666"/>
                      </a:lnTo>
                      <a:lnTo>
                        <a:pt x="1209" y="664"/>
                      </a:lnTo>
                      <a:lnTo>
                        <a:pt x="1210" y="663"/>
                      </a:lnTo>
                      <a:lnTo>
                        <a:pt x="1210" y="662"/>
                      </a:lnTo>
                      <a:lnTo>
                        <a:pt x="1211" y="661"/>
                      </a:lnTo>
                      <a:lnTo>
                        <a:pt x="1211" y="660"/>
                      </a:lnTo>
                      <a:lnTo>
                        <a:pt x="1211" y="659"/>
                      </a:lnTo>
                      <a:lnTo>
                        <a:pt x="1211" y="656"/>
                      </a:lnTo>
                      <a:lnTo>
                        <a:pt x="1211" y="655"/>
                      </a:lnTo>
                      <a:lnTo>
                        <a:pt x="1211" y="654"/>
                      </a:lnTo>
                      <a:lnTo>
                        <a:pt x="1211" y="652"/>
                      </a:lnTo>
                      <a:lnTo>
                        <a:pt x="1210" y="651"/>
                      </a:lnTo>
                      <a:lnTo>
                        <a:pt x="1210" y="649"/>
                      </a:lnTo>
                      <a:lnTo>
                        <a:pt x="1209" y="647"/>
                      </a:lnTo>
                      <a:lnTo>
                        <a:pt x="1208" y="646"/>
                      </a:lnTo>
                      <a:lnTo>
                        <a:pt x="1206" y="645"/>
                      </a:lnTo>
                      <a:lnTo>
                        <a:pt x="1205" y="642"/>
                      </a:lnTo>
                      <a:lnTo>
                        <a:pt x="1204" y="641"/>
                      </a:lnTo>
                      <a:lnTo>
                        <a:pt x="1202" y="640"/>
                      </a:lnTo>
                      <a:lnTo>
                        <a:pt x="1201" y="638"/>
                      </a:lnTo>
                      <a:lnTo>
                        <a:pt x="1198" y="637"/>
                      </a:lnTo>
                      <a:lnTo>
                        <a:pt x="1196" y="636"/>
                      </a:lnTo>
                      <a:lnTo>
                        <a:pt x="1195" y="634"/>
                      </a:lnTo>
                      <a:lnTo>
                        <a:pt x="1173" y="625"/>
                      </a:lnTo>
                      <a:lnTo>
                        <a:pt x="1172" y="623"/>
                      </a:lnTo>
                      <a:lnTo>
                        <a:pt x="1169" y="619"/>
                      </a:lnTo>
                      <a:lnTo>
                        <a:pt x="1168" y="617"/>
                      </a:lnTo>
                      <a:lnTo>
                        <a:pt x="1167" y="615"/>
                      </a:lnTo>
                      <a:lnTo>
                        <a:pt x="1166" y="612"/>
                      </a:lnTo>
                      <a:lnTo>
                        <a:pt x="1165" y="610"/>
                      </a:lnTo>
                      <a:lnTo>
                        <a:pt x="1164" y="609"/>
                      </a:lnTo>
                      <a:lnTo>
                        <a:pt x="1161" y="607"/>
                      </a:lnTo>
                      <a:lnTo>
                        <a:pt x="1160" y="604"/>
                      </a:lnTo>
                      <a:lnTo>
                        <a:pt x="1159" y="603"/>
                      </a:lnTo>
                      <a:lnTo>
                        <a:pt x="1157" y="602"/>
                      </a:lnTo>
                      <a:lnTo>
                        <a:pt x="1156" y="600"/>
                      </a:lnTo>
                      <a:lnTo>
                        <a:pt x="1153" y="599"/>
                      </a:lnTo>
                      <a:lnTo>
                        <a:pt x="1152" y="597"/>
                      </a:lnTo>
                      <a:lnTo>
                        <a:pt x="1151" y="596"/>
                      </a:lnTo>
                      <a:lnTo>
                        <a:pt x="1149" y="595"/>
                      </a:lnTo>
                      <a:lnTo>
                        <a:pt x="1148" y="595"/>
                      </a:lnTo>
                      <a:lnTo>
                        <a:pt x="1145" y="594"/>
                      </a:lnTo>
                      <a:lnTo>
                        <a:pt x="1144" y="593"/>
                      </a:lnTo>
                      <a:lnTo>
                        <a:pt x="1142" y="593"/>
                      </a:lnTo>
                      <a:lnTo>
                        <a:pt x="1139" y="592"/>
                      </a:lnTo>
                      <a:lnTo>
                        <a:pt x="1138" y="592"/>
                      </a:lnTo>
                      <a:lnTo>
                        <a:pt x="1136" y="590"/>
                      </a:lnTo>
                      <a:lnTo>
                        <a:pt x="1135" y="590"/>
                      </a:lnTo>
                      <a:lnTo>
                        <a:pt x="1133" y="590"/>
                      </a:lnTo>
                      <a:lnTo>
                        <a:pt x="1130" y="590"/>
                      </a:lnTo>
                      <a:lnTo>
                        <a:pt x="1128" y="590"/>
                      </a:lnTo>
                      <a:lnTo>
                        <a:pt x="1127" y="590"/>
                      </a:lnTo>
                      <a:lnTo>
                        <a:pt x="1124" y="590"/>
                      </a:lnTo>
                      <a:lnTo>
                        <a:pt x="1122" y="590"/>
                      </a:lnTo>
                      <a:lnTo>
                        <a:pt x="1121" y="590"/>
                      </a:lnTo>
                      <a:lnTo>
                        <a:pt x="1119" y="590"/>
                      </a:lnTo>
                      <a:lnTo>
                        <a:pt x="1116" y="588"/>
                      </a:lnTo>
                      <a:lnTo>
                        <a:pt x="1115" y="585"/>
                      </a:lnTo>
                      <a:lnTo>
                        <a:pt x="1114" y="582"/>
                      </a:lnTo>
                      <a:lnTo>
                        <a:pt x="1112" y="580"/>
                      </a:lnTo>
                      <a:lnTo>
                        <a:pt x="1111" y="578"/>
                      </a:lnTo>
                      <a:lnTo>
                        <a:pt x="1109" y="575"/>
                      </a:lnTo>
                      <a:lnTo>
                        <a:pt x="1108" y="573"/>
                      </a:lnTo>
                      <a:lnTo>
                        <a:pt x="1107" y="572"/>
                      </a:lnTo>
                      <a:lnTo>
                        <a:pt x="1106" y="570"/>
                      </a:lnTo>
                      <a:lnTo>
                        <a:pt x="1105" y="569"/>
                      </a:lnTo>
                      <a:lnTo>
                        <a:pt x="1104" y="566"/>
                      </a:lnTo>
                      <a:lnTo>
                        <a:pt x="1102" y="565"/>
                      </a:lnTo>
                      <a:lnTo>
                        <a:pt x="1102" y="563"/>
                      </a:lnTo>
                      <a:lnTo>
                        <a:pt x="1101" y="562"/>
                      </a:lnTo>
                      <a:lnTo>
                        <a:pt x="1100" y="559"/>
                      </a:lnTo>
                      <a:lnTo>
                        <a:pt x="1100" y="558"/>
                      </a:lnTo>
                      <a:lnTo>
                        <a:pt x="1099" y="557"/>
                      </a:lnTo>
                      <a:lnTo>
                        <a:pt x="1098" y="556"/>
                      </a:lnTo>
                      <a:lnTo>
                        <a:pt x="1098" y="555"/>
                      </a:lnTo>
                      <a:lnTo>
                        <a:pt x="1097" y="552"/>
                      </a:lnTo>
                      <a:lnTo>
                        <a:pt x="1097" y="551"/>
                      </a:lnTo>
                      <a:lnTo>
                        <a:pt x="1096" y="550"/>
                      </a:lnTo>
                      <a:lnTo>
                        <a:pt x="1096" y="549"/>
                      </a:lnTo>
                      <a:lnTo>
                        <a:pt x="1094" y="548"/>
                      </a:lnTo>
                      <a:lnTo>
                        <a:pt x="1093" y="547"/>
                      </a:lnTo>
                      <a:lnTo>
                        <a:pt x="1093" y="544"/>
                      </a:lnTo>
                      <a:lnTo>
                        <a:pt x="1092" y="543"/>
                      </a:lnTo>
                      <a:lnTo>
                        <a:pt x="1092" y="542"/>
                      </a:lnTo>
                      <a:lnTo>
                        <a:pt x="1091" y="541"/>
                      </a:lnTo>
                      <a:lnTo>
                        <a:pt x="1090" y="540"/>
                      </a:lnTo>
                      <a:lnTo>
                        <a:pt x="1090" y="537"/>
                      </a:lnTo>
                      <a:lnTo>
                        <a:pt x="1089" y="536"/>
                      </a:lnTo>
                      <a:lnTo>
                        <a:pt x="1086" y="535"/>
                      </a:lnTo>
                      <a:lnTo>
                        <a:pt x="1085" y="533"/>
                      </a:lnTo>
                      <a:lnTo>
                        <a:pt x="1083" y="532"/>
                      </a:lnTo>
                      <a:lnTo>
                        <a:pt x="1082" y="529"/>
                      </a:lnTo>
                      <a:lnTo>
                        <a:pt x="1079" y="528"/>
                      </a:lnTo>
                      <a:lnTo>
                        <a:pt x="1078" y="526"/>
                      </a:lnTo>
                      <a:lnTo>
                        <a:pt x="1076" y="523"/>
                      </a:lnTo>
                      <a:lnTo>
                        <a:pt x="1075" y="522"/>
                      </a:lnTo>
                      <a:lnTo>
                        <a:pt x="1072" y="520"/>
                      </a:lnTo>
                      <a:lnTo>
                        <a:pt x="1070" y="518"/>
                      </a:lnTo>
                      <a:lnTo>
                        <a:pt x="1069" y="517"/>
                      </a:lnTo>
                      <a:lnTo>
                        <a:pt x="1067" y="514"/>
                      </a:lnTo>
                      <a:lnTo>
                        <a:pt x="1065" y="512"/>
                      </a:lnTo>
                      <a:lnTo>
                        <a:pt x="1063" y="511"/>
                      </a:lnTo>
                      <a:lnTo>
                        <a:pt x="1061" y="508"/>
                      </a:lnTo>
                      <a:lnTo>
                        <a:pt x="1060" y="506"/>
                      </a:lnTo>
                      <a:lnTo>
                        <a:pt x="1057" y="505"/>
                      </a:lnTo>
                      <a:lnTo>
                        <a:pt x="1056" y="503"/>
                      </a:lnTo>
                      <a:lnTo>
                        <a:pt x="1054" y="502"/>
                      </a:lnTo>
                      <a:lnTo>
                        <a:pt x="1053" y="499"/>
                      </a:lnTo>
                      <a:lnTo>
                        <a:pt x="1050" y="498"/>
                      </a:lnTo>
                      <a:lnTo>
                        <a:pt x="1049" y="496"/>
                      </a:lnTo>
                      <a:lnTo>
                        <a:pt x="1048" y="495"/>
                      </a:lnTo>
                      <a:lnTo>
                        <a:pt x="1046" y="492"/>
                      </a:lnTo>
                      <a:lnTo>
                        <a:pt x="1045" y="491"/>
                      </a:lnTo>
                      <a:lnTo>
                        <a:pt x="1042" y="489"/>
                      </a:lnTo>
                      <a:lnTo>
                        <a:pt x="1041" y="488"/>
                      </a:lnTo>
                      <a:lnTo>
                        <a:pt x="1040" y="486"/>
                      </a:lnTo>
                      <a:lnTo>
                        <a:pt x="1039" y="485"/>
                      </a:lnTo>
                      <a:lnTo>
                        <a:pt x="1038" y="484"/>
                      </a:lnTo>
                      <a:lnTo>
                        <a:pt x="1035" y="482"/>
                      </a:lnTo>
                      <a:lnTo>
                        <a:pt x="1034" y="481"/>
                      </a:lnTo>
                      <a:lnTo>
                        <a:pt x="1034" y="480"/>
                      </a:lnTo>
                      <a:lnTo>
                        <a:pt x="1034" y="477"/>
                      </a:lnTo>
                      <a:lnTo>
                        <a:pt x="1034" y="475"/>
                      </a:lnTo>
                      <a:lnTo>
                        <a:pt x="1034" y="473"/>
                      </a:lnTo>
                      <a:lnTo>
                        <a:pt x="1033" y="470"/>
                      </a:lnTo>
                      <a:lnTo>
                        <a:pt x="1033" y="468"/>
                      </a:lnTo>
                      <a:lnTo>
                        <a:pt x="1033" y="467"/>
                      </a:lnTo>
                      <a:lnTo>
                        <a:pt x="1032" y="465"/>
                      </a:lnTo>
                      <a:lnTo>
                        <a:pt x="1032" y="462"/>
                      </a:lnTo>
                      <a:lnTo>
                        <a:pt x="1031" y="460"/>
                      </a:lnTo>
                      <a:lnTo>
                        <a:pt x="1031" y="459"/>
                      </a:lnTo>
                      <a:lnTo>
                        <a:pt x="1030" y="456"/>
                      </a:lnTo>
                      <a:lnTo>
                        <a:pt x="1030" y="454"/>
                      </a:lnTo>
                      <a:lnTo>
                        <a:pt x="1029" y="452"/>
                      </a:lnTo>
                      <a:lnTo>
                        <a:pt x="1029" y="450"/>
                      </a:lnTo>
                      <a:lnTo>
                        <a:pt x="1027" y="448"/>
                      </a:lnTo>
                      <a:lnTo>
                        <a:pt x="1027" y="446"/>
                      </a:lnTo>
                      <a:lnTo>
                        <a:pt x="1026" y="444"/>
                      </a:lnTo>
                      <a:lnTo>
                        <a:pt x="1025" y="443"/>
                      </a:lnTo>
                      <a:lnTo>
                        <a:pt x="1025" y="440"/>
                      </a:lnTo>
                      <a:lnTo>
                        <a:pt x="1024" y="438"/>
                      </a:lnTo>
                      <a:lnTo>
                        <a:pt x="1023" y="436"/>
                      </a:lnTo>
                      <a:lnTo>
                        <a:pt x="1023" y="435"/>
                      </a:lnTo>
                      <a:lnTo>
                        <a:pt x="1022" y="432"/>
                      </a:lnTo>
                      <a:lnTo>
                        <a:pt x="1020" y="430"/>
                      </a:lnTo>
                      <a:lnTo>
                        <a:pt x="1019" y="429"/>
                      </a:lnTo>
                      <a:lnTo>
                        <a:pt x="1018" y="426"/>
                      </a:lnTo>
                      <a:lnTo>
                        <a:pt x="1018" y="424"/>
                      </a:lnTo>
                      <a:lnTo>
                        <a:pt x="1017" y="422"/>
                      </a:lnTo>
                      <a:lnTo>
                        <a:pt x="1016" y="421"/>
                      </a:lnTo>
                      <a:lnTo>
                        <a:pt x="1015" y="418"/>
                      </a:lnTo>
                      <a:lnTo>
                        <a:pt x="1013" y="416"/>
                      </a:lnTo>
                      <a:lnTo>
                        <a:pt x="980" y="376"/>
                      </a:lnTo>
                      <a:lnTo>
                        <a:pt x="981" y="376"/>
                      </a:lnTo>
                      <a:lnTo>
                        <a:pt x="982" y="374"/>
                      </a:lnTo>
                      <a:lnTo>
                        <a:pt x="983" y="374"/>
                      </a:lnTo>
                      <a:lnTo>
                        <a:pt x="985" y="374"/>
                      </a:lnTo>
                      <a:lnTo>
                        <a:pt x="985" y="373"/>
                      </a:lnTo>
                      <a:lnTo>
                        <a:pt x="986" y="373"/>
                      </a:lnTo>
                      <a:lnTo>
                        <a:pt x="987" y="373"/>
                      </a:lnTo>
                      <a:lnTo>
                        <a:pt x="988" y="372"/>
                      </a:lnTo>
                      <a:lnTo>
                        <a:pt x="989" y="372"/>
                      </a:lnTo>
                      <a:lnTo>
                        <a:pt x="990" y="372"/>
                      </a:lnTo>
                      <a:lnTo>
                        <a:pt x="992" y="371"/>
                      </a:lnTo>
                      <a:lnTo>
                        <a:pt x="993" y="370"/>
                      </a:lnTo>
                      <a:lnTo>
                        <a:pt x="994" y="370"/>
                      </a:lnTo>
                      <a:lnTo>
                        <a:pt x="994" y="369"/>
                      </a:lnTo>
                      <a:lnTo>
                        <a:pt x="995" y="369"/>
                      </a:lnTo>
                      <a:lnTo>
                        <a:pt x="996" y="368"/>
                      </a:lnTo>
                      <a:lnTo>
                        <a:pt x="996" y="366"/>
                      </a:lnTo>
                      <a:lnTo>
                        <a:pt x="997" y="366"/>
                      </a:lnTo>
                      <a:lnTo>
                        <a:pt x="997" y="365"/>
                      </a:lnTo>
                      <a:lnTo>
                        <a:pt x="997" y="364"/>
                      </a:lnTo>
                      <a:lnTo>
                        <a:pt x="998" y="363"/>
                      </a:lnTo>
                      <a:lnTo>
                        <a:pt x="998" y="362"/>
                      </a:lnTo>
                      <a:lnTo>
                        <a:pt x="998" y="361"/>
                      </a:lnTo>
                      <a:lnTo>
                        <a:pt x="998" y="359"/>
                      </a:lnTo>
                      <a:lnTo>
                        <a:pt x="998" y="358"/>
                      </a:lnTo>
                      <a:lnTo>
                        <a:pt x="998" y="357"/>
                      </a:lnTo>
                      <a:lnTo>
                        <a:pt x="998" y="356"/>
                      </a:lnTo>
                      <a:lnTo>
                        <a:pt x="998" y="355"/>
                      </a:lnTo>
                      <a:lnTo>
                        <a:pt x="998" y="352"/>
                      </a:lnTo>
                      <a:lnTo>
                        <a:pt x="997" y="351"/>
                      </a:lnTo>
                      <a:lnTo>
                        <a:pt x="997" y="349"/>
                      </a:lnTo>
                      <a:lnTo>
                        <a:pt x="998" y="348"/>
                      </a:lnTo>
                      <a:lnTo>
                        <a:pt x="1000" y="347"/>
                      </a:lnTo>
                      <a:lnTo>
                        <a:pt x="1001" y="346"/>
                      </a:lnTo>
                      <a:lnTo>
                        <a:pt x="1002" y="344"/>
                      </a:lnTo>
                      <a:lnTo>
                        <a:pt x="1003" y="344"/>
                      </a:lnTo>
                      <a:lnTo>
                        <a:pt x="1003" y="343"/>
                      </a:lnTo>
                      <a:lnTo>
                        <a:pt x="1004" y="343"/>
                      </a:lnTo>
                      <a:lnTo>
                        <a:pt x="1004" y="342"/>
                      </a:lnTo>
                      <a:lnTo>
                        <a:pt x="1005" y="342"/>
                      </a:lnTo>
                      <a:lnTo>
                        <a:pt x="1005" y="341"/>
                      </a:lnTo>
                      <a:lnTo>
                        <a:pt x="1007" y="341"/>
                      </a:lnTo>
                      <a:lnTo>
                        <a:pt x="1007" y="340"/>
                      </a:lnTo>
                      <a:lnTo>
                        <a:pt x="1007" y="339"/>
                      </a:lnTo>
                      <a:lnTo>
                        <a:pt x="1008" y="339"/>
                      </a:lnTo>
                      <a:lnTo>
                        <a:pt x="1008" y="337"/>
                      </a:lnTo>
                      <a:lnTo>
                        <a:pt x="1008" y="336"/>
                      </a:lnTo>
                      <a:lnTo>
                        <a:pt x="1008" y="335"/>
                      </a:lnTo>
                      <a:lnTo>
                        <a:pt x="1008" y="334"/>
                      </a:lnTo>
                      <a:lnTo>
                        <a:pt x="1007" y="334"/>
                      </a:lnTo>
                      <a:lnTo>
                        <a:pt x="1007" y="333"/>
                      </a:lnTo>
                      <a:lnTo>
                        <a:pt x="1007" y="332"/>
                      </a:lnTo>
                      <a:lnTo>
                        <a:pt x="1005" y="332"/>
                      </a:lnTo>
                      <a:lnTo>
                        <a:pt x="1005" y="331"/>
                      </a:lnTo>
                      <a:lnTo>
                        <a:pt x="1005" y="329"/>
                      </a:lnTo>
                      <a:lnTo>
                        <a:pt x="1005" y="328"/>
                      </a:lnTo>
                      <a:lnTo>
                        <a:pt x="1005" y="327"/>
                      </a:lnTo>
                      <a:lnTo>
                        <a:pt x="1007" y="327"/>
                      </a:lnTo>
                      <a:lnTo>
                        <a:pt x="1007" y="326"/>
                      </a:lnTo>
                      <a:lnTo>
                        <a:pt x="1011" y="317"/>
                      </a:lnTo>
                      <a:lnTo>
                        <a:pt x="1009" y="304"/>
                      </a:lnTo>
                      <a:lnTo>
                        <a:pt x="1010" y="304"/>
                      </a:lnTo>
                      <a:lnTo>
                        <a:pt x="1011" y="304"/>
                      </a:lnTo>
                      <a:lnTo>
                        <a:pt x="1012" y="304"/>
                      </a:lnTo>
                      <a:lnTo>
                        <a:pt x="1013" y="304"/>
                      </a:lnTo>
                      <a:lnTo>
                        <a:pt x="1013" y="303"/>
                      </a:lnTo>
                      <a:lnTo>
                        <a:pt x="1015" y="303"/>
                      </a:lnTo>
                      <a:lnTo>
                        <a:pt x="1016" y="303"/>
                      </a:lnTo>
                      <a:lnTo>
                        <a:pt x="1017" y="303"/>
                      </a:lnTo>
                      <a:lnTo>
                        <a:pt x="1018" y="303"/>
                      </a:lnTo>
                      <a:lnTo>
                        <a:pt x="1019" y="303"/>
                      </a:lnTo>
                      <a:lnTo>
                        <a:pt x="1020" y="303"/>
                      </a:lnTo>
                      <a:lnTo>
                        <a:pt x="1022" y="303"/>
                      </a:lnTo>
                      <a:lnTo>
                        <a:pt x="1023" y="303"/>
                      </a:lnTo>
                      <a:lnTo>
                        <a:pt x="1023" y="302"/>
                      </a:lnTo>
                      <a:lnTo>
                        <a:pt x="1024" y="302"/>
                      </a:lnTo>
                      <a:lnTo>
                        <a:pt x="1025" y="302"/>
                      </a:lnTo>
                      <a:lnTo>
                        <a:pt x="1025" y="301"/>
                      </a:lnTo>
                      <a:lnTo>
                        <a:pt x="1026" y="301"/>
                      </a:lnTo>
                      <a:lnTo>
                        <a:pt x="1026" y="299"/>
                      </a:lnTo>
                      <a:lnTo>
                        <a:pt x="1027" y="298"/>
                      </a:lnTo>
                      <a:lnTo>
                        <a:pt x="1029" y="297"/>
                      </a:lnTo>
                      <a:lnTo>
                        <a:pt x="1029" y="296"/>
                      </a:lnTo>
                      <a:lnTo>
                        <a:pt x="1029" y="295"/>
                      </a:lnTo>
                      <a:lnTo>
                        <a:pt x="1029" y="294"/>
                      </a:lnTo>
                      <a:lnTo>
                        <a:pt x="1029" y="292"/>
                      </a:lnTo>
                      <a:lnTo>
                        <a:pt x="1029" y="291"/>
                      </a:lnTo>
                      <a:lnTo>
                        <a:pt x="1027" y="290"/>
                      </a:lnTo>
                      <a:lnTo>
                        <a:pt x="1027" y="289"/>
                      </a:lnTo>
                      <a:lnTo>
                        <a:pt x="1027" y="288"/>
                      </a:lnTo>
                      <a:lnTo>
                        <a:pt x="1026" y="288"/>
                      </a:lnTo>
                      <a:lnTo>
                        <a:pt x="1026" y="287"/>
                      </a:lnTo>
                      <a:lnTo>
                        <a:pt x="1024" y="284"/>
                      </a:lnTo>
                      <a:lnTo>
                        <a:pt x="1023" y="282"/>
                      </a:lnTo>
                      <a:lnTo>
                        <a:pt x="1022" y="280"/>
                      </a:lnTo>
                      <a:lnTo>
                        <a:pt x="1020" y="279"/>
                      </a:lnTo>
                      <a:lnTo>
                        <a:pt x="1019" y="276"/>
                      </a:lnTo>
                      <a:lnTo>
                        <a:pt x="1018" y="274"/>
                      </a:lnTo>
                      <a:lnTo>
                        <a:pt x="1017" y="273"/>
                      </a:lnTo>
                      <a:lnTo>
                        <a:pt x="1016" y="270"/>
                      </a:lnTo>
                      <a:lnTo>
                        <a:pt x="1016" y="269"/>
                      </a:lnTo>
                      <a:lnTo>
                        <a:pt x="1015" y="267"/>
                      </a:lnTo>
                      <a:lnTo>
                        <a:pt x="1013" y="266"/>
                      </a:lnTo>
                      <a:lnTo>
                        <a:pt x="1013" y="265"/>
                      </a:lnTo>
                      <a:lnTo>
                        <a:pt x="1012" y="262"/>
                      </a:lnTo>
                      <a:lnTo>
                        <a:pt x="1011" y="261"/>
                      </a:lnTo>
                      <a:lnTo>
                        <a:pt x="1011" y="260"/>
                      </a:lnTo>
                      <a:lnTo>
                        <a:pt x="1010" y="258"/>
                      </a:lnTo>
                      <a:lnTo>
                        <a:pt x="1010" y="257"/>
                      </a:lnTo>
                      <a:lnTo>
                        <a:pt x="1010" y="255"/>
                      </a:lnTo>
                      <a:lnTo>
                        <a:pt x="1009" y="254"/>
                      </a:lnTo>
                      <a:lnTo>
                        <a:pt x="1009" y="253"/>
                      </a:lnTo>
                      <a:lnTo>
                        <a:pt x="1008" y="252"/>
                      </a:lnTo>
                      <a:lnTo>
                        <a:pt x="1008" y="251"/>
                      </a:lnTo>
                      <a:lnTo>
                        <a:pt x="1007" y="250"/>
                      </a:lnTo>
                      <a:lnTo>
                        <a:pt x="1007" y="249"/>
                      </a:lnTo>
                      <a:lnTo>
                        <a:pt x="1005" y="247"/>
                      </a:lnTo>
                      <a:lnTo>
                        <a:pt x="1005" y="246"/>
                      </a:lnTo>
                      <a:lnTo>
                        <a:pt x="1004" y="245"/>
                      </a:lnTo>
                      <a:lnTo>
                        <a:pt x="1004" y="244"/>
                      </a:lnTo>
                      <a:lnTo>
                        <a:pt x="1003" y="243"/>
                      </a:lnTo>
                      <a:lnTo>
                        <a:pt x="1003" y="242"/>
                      </a:lnTo>
                      <a:lnTo>
                        <a:pt x="1002" y="240"/>
                      </a:lnTo>
                      <a:lnTo>
                        <a:pt x="1001" y="239"/>
                      </a:lnTo>
                      <a:lnTo>
                        <a:pt x="1002" y="238"/>
                      </a:lnTo>
                      <a:lnTo>
                        <a:pt x="1003" y="238"/>
                      </a:lnTo>
                      <a:lnTo>
                        <a:pt x="1003" y="237"/>
                      </a:lnTo>
                      <a:lnTo>
                        <a:pt x="1004" y="236"/>
                      </a:lnTo>
                      <a:lnTo>
                        <a:pt x="1005" y="235"/>
                      </a:lnTo>
                      <a:lnTo>
                        <a:pt x="1007" y="234"/>
                      </a:lnTo>
                      <a:lnTo>
                        <a:pt x="1007" y="232"/>
                      </a:lnTo>
                      <a:lnTo>
                        <a:pt x="1008" y="232"/>
                      </a:lnTo>
                      <a:lnTo>
                        <a:pt x="1008" y="231"/>
                      </a:lnTo>
                      <a:lnTo>
                        <a:pt x="1008" y="230"/>
                      </a:lnTo>
                      <a:lnTo>
                        <a:pt x="1009" y="230"/>
                      </a:lnTo>
                      <a:lnTo>
                        <a:pt x="1009" y="229"/>
                      </a:lnTo>
                      <a:lnTo>
                        <a:pt x="1010" y="228"/>
                      </a:lnTo>
                      <a:lnTo>
                        <a:pt x="1010" y="227"/>
                      </a:lnTo>
                      <a:lnTo>
                        <a:pt x="1010" y="225"/>
                      </a:lnTo>
                      <a:lnTo>
                        <a:pt x="1010" y="224"/>
                      </a:lnTo>
                      <a:lnTo>
                        <a:pt x="1010" y="223"/>
                      </a:lnTo>
                      <a:lnTo>
                        <a:pt x="1010" y="222"/>
                      </a:lnTo>
                      <a:lnTo>
                        <a:pt x="1010" y="221"/>
                      </a:lnTo>
                      <a:lnTo>
                        <a:pt x="1010" y="220"/>
                      </a:lnTo>
                      <a:lnTo>
                        <a:pt x="1010" y="218"/>
                      </a:lnTo>
                      <a:lnTo>
                        <a:pt x="1010" y="217"/>
                      </a:lnTo>
                      <a:lnTo>
                        <a:pt x="1009" y="217"/>
                      </a:lnTo>
                      <a:lnTo>
                        <a:pt x="1009" y="216"/>
                      </a:lnTo>
                      <a:lnTo>
                        <a:pt x="1009" y="215"/>
                      </a:lnTo>
                      <a:lnTo>
                        <a:pt x="1009" y="214"/>
                      </a:lnTo>
                      <a:lnTo>
                        <a:pt x="1008" y="213"/>
                      </a:lnTo>
                      <a:lnTo>
                        <a:pt x="1008" y="212"/>
                      </a:lnTo>
                      <a:lnTo>
                        <a:pt x="1008" y="210"/>
                      </a:lnTo>
                      <a:lnTo>
                        <a:pt x="1008" y="209"/>
                      </a:lnTo>
                      <a:lnTo>
                        <a:pt x="1008" y="208"/>
                      </a:lnTo>
                      <a:lnTo>
                        <a:pt x="1008" y="207"/>
                      </a:lnTo>
                      <a:lnTo>
                        <a:pt x="1007" y="206"/>
                      </a:lnTo>
                      <a:lnTo>
                        <a:pt x="1007" y="205"/>
                      </a:lnTo>
                      <a:lnTo>
                        <a:pt x="1007" y="203"/>
                      </a:lnTo>
                      <a:lnTo>
                        <a:pt x="1007" y="202"/>
                      </a:lnTo>
                      <a:lnTo>
                        <a:pt x="1007" y="201"/>
                      </a:lnTo>
                      <a:lnTo>
                        <a:pt x="1007" y="200"/>
                      </a:lnTo>
                      <a:lnTo>
                        <a:pt x="1007" y="199"/>
                      </a:lnTo>
                      <a:lnTo>
                        <a:pt x="1007" y="198"/>
                      </a:lnTo>
                      <a:lnTo>
                        <a:pt x="1005" y="198"/>
                      </a:lnTo>
                      <a:lnTo>
                        <a:pt x="1005" y="197"/>
                      </a:lnTo>
                      <a:lnTo>
                        <a:pt x="1005" y="195"/>
                      </a:lnTo>
                      <a:lnTo>
                        <a:pt x="1005" y="194"/>
                      </a:lnTo>
                      <a:lnTo>
                        <a:pt x="1005" y="193"/>
                      </a:lnTo>
                      <a:lnTo>
                        <a:pt x="1005" y="192"/>
                      </a:lnTo>
                      <a:lnTo>
                        <a:pt x="1007" y="191"/>
                      </a:lnTo>
                      <a:lnTo>
                        <a:pt x="1008" y="191"/>
                      </a:lnTo>
                      <a:lnTo>
                        <a:pt x="1009" y="190"/>
                      </a:lnTo>
                      <a:lnTo>
                        <a:pt x="1011" y="188"/>
                      </a:lnTo>
                      <a:lnTo>
                        <a:pt x="1012" y="187"/>
                      </a:lnTo>
                      <a:lnTo>
                        <a:pt x="1013" y="187"/>
                      </a:lnTo>
                      <a:lnTo>
                        <a:pt x="1015" y="186"/>
                      </a:lnTo>
                      <a:lnTo>
                        <a:pt x="1016" y="185"/>
                      </a:lnTo>
                      <a:lnTo>
                        <a:pt x="1017" y="185"/>
                      </a:lnTo>
                      <a:lnTo>
                        <a:pt x="1018" y="184"/>
                      </a:lnTo>
                      <a:lnTo>
                        <a:pt x="1019" y="183"/>
                      </a:lnTo>
                      <a:lnTo>
                        <a:pt x="1020" y="183"/>
                      </a:lnTo>
                      <a:lnTo>
                        <a:pt x="1020" y="182"/>
                      </a:lnTo>
                      <a:lnTo>
                        <a:pt x="1022" y="180"/>
                      </a:lnTo>
                      <a:lnTo>
                        <a:pt x="1023" y="180"/>
                      </a:lnTo>
                      <a:lnTo>
                        <a:pt x="1024" y="179"/>
                      </a:lnTo>
                      <a:lnTo>
                        <a:pt x="1025" y="178"/>
                      </a:lnTo>
                      <a:lnTo>
                        <a:pt x="1025" y="177"/>
                      </a:lnTo>
                      <a:lnTo>
                        <a:pt x="1026" y="177"/>
                      </a:lnTo>
                      <a:lnTo>
                        <a:pt x="1027" y="176"/>
                      </a:lnTo>
                      <a:lnTo>
                        <a:pt x="1029" y="175"/>
                      </a:lnTo>
                      <a:lnTo>
                        <a:pt x="1029" y="173"/>
                      </a:lnTo>
                      <a:lnTo>
                        <a:pt x="1030" y="172"/>
                      </a:lnTo>
                      <a:lnTo>
                        <a:pt x="1031" y="171"/>
                      </a:lnTo>
                      <a:lnTo>
                        <a:pt x="1032" y="170"/>
                      </a:lnTo>
                      <a:lnTo>
                        <a:pt x="1033" y="170"/>
                      </a:lnTo>
                      <a:lnTo>
                        <a:pt x="1034" y="169"/>
                      </a:lnTo>
                      <a:lnTo>
                        <a:pt x="1034" y="167"/>
                      </a:lnTo>
                      <a:lnTo>
                        <a:pt x="1035" y="165"/>
                      </a:lnTo>
                      <a:lnTo>
                        <a:pt x="1037" y="164"/>
                      </a:lnTo>
                      <a:lnTo>
                        <a:pt x="1038" y="163"/>
                      </a:lnTo>
                      <a:lnTo>
                        <a:pt x="1039" y="162"/>
                      </a:lnTo>
                      <a:lnTo>
                        <a:pt x="1040" y="161"/>
                      </a:lnTo>
                      <a:lnTo>
                        <a:pt x="1040" y="160"/>
                      </a:lnTo>
                      <a:lnTo>
                        <a:pt x="1041" y="158"/>
                      </a:lnTo>
                      <a:lnTo>
                        <a:pt x="1041" y="157"/>
                      </a:lnTo>
                      <a:lnTo>
                        <a:pt x="1041" y="156"/>
                      </a:lnTo>
                      <a:lnTo>
                        <a:pt x="1042" y="156"/>
                      </a:lnTo>
                      <a:lnTo>
                        <a:pt x="1042" y="155"/>
                      </a:lnTo>
                      <a:lnTo>
                        <a:pt x="1042" y="154"/>
                      </a:lnTo>
                      <a:lnTo>
                        <a:pt x="1042" y="153"/>
                      </a:lnTo>
                      <a:lnTo>
                        <a:pt x="1042" y="151"/>
                      </a:lnTo>
                      <a:lnTo>
                        <a:pt x="1042" y="150"/>
                      </a:lnTo>
                      <a:lnTo>
                        <a:pt x="1042" y="149"/>
                      </a:lnTo>
                      <a:lnTo>
                        <a:pt x="1042" y="148"/>
                      </a:lnTo>
                      <a:lnTo>
                        <a:pt x="1044" y="147"/>
                      </a:lnTo>
                      <a:lnTo>
                        <a:pt x="1044" y="146"/>
                      </a:lnTo>
                      <a:lnTo>
                        <a:pt x="1042" y="145"/>
                      </a:lnTo>
                      <a:lnTo>
                        <a:pt x="1042" y="143"/>
                      </a:lnTo>
                      <a:lnTo>
                        <a:pt x="1042" y="142"/>
                      </a:lnTo>
                      <a:lnTo>
                        <a:pt x="1042" y="141"/>
                      </a:lnTo>
                      <a:lnTo>
                        <a:pt x="1042" y="140"/>
                      </a:lnTo>
                      <a:lnTo>
                        <a:pt x="1042" y="139"/>
                      </a:lnTo>
                      <a:lnTo>
                        <a:pt x="1042" y="138"/>
                      </a:lnTo>
                      <a:lnTo>
                        <a:pt x="1042" y="136"/>
                      </a:lnTo>
                      <a:lnTo>
                        <a:pt x="1042" y="135"/>
                      </a:lnTo>
                      <a:lnTo>
                        <a:pt x="1042" y="134"/>
                      </a:lnTo>
                      <a:lnTo>
                        <a:pt x="1042" y="133"/>
                      </a:lnTo>
                      <a:lnTo>
                        <a:pt x="1042" y="132"/>
                      </a:lnTo>
                      <a:lnTo>
                        <a:pt x="1042" y="131"/>
                      </a:lnTo>
                      <a:lnTo>
                        <a:pt x="1041" y="128"/>
                      </a:lnTo>
                      <a:lnTo>
                        <a:pt x="1040" y="127"/>
                      </a:lnTo>
                      <a:lnTo>
                        <a:pt x="1039" y="125"/>
                      </a:lnTo>
                      <a:lnTo>
                        <a:pt x="1038" y="124"/>
                      </a:lnTo>
                      <a:lnTo>
                        <a:pt x="1035" y="121"/>
                      </a:lnTo>
                      <a:lnTo>
                        <a:pt x="1034" y="120"/>
                      </a:lnTo>
                      <a:lnTo>
                        <a:pt x="1033" y="118"/>
                      </a:lnTo>
                      <a:lnTo>
                        <a:pt x="1031" y="116"/>
                      </a:lnTo>
                      <a:lnTo>
                        <a:pt x="1030" y="115"/>
                      </a:lnTo>
                      <a:lnTo>
                        <a:pt x="1027" y="112"/>
                      </a:lnTo>
                      <a:lnTo>
                        <a:pt x="1025" y="110"/>
                      </a:lnTo>
                      <a:lnTo>
                        <a:pt x="1024" y="109"/>
                      </a:lnTo>
                      <a:lnTo>
                        <a:pt x="1022" y="106"/>
                      </a:lnTo>
                      <a:lnTo>
                        <a:pt x="1019" y="104"/>
                      </a:lnTo>
                      <a:lnTo>
                        <a:pt x="1017" y="103"/>
                      </a:lnTo>
                      <a:lnTo>
                        <a:pt x="1015" y="101"/>
                      </a:lnTo>
                      <a:lnTo>
                        <a:pt x="1012" y="98"/>
                      </a:lnTo>
                      <a:lnTo>
                        <a:pt x="1011" y="97"/>
                      </a:lnTo>
                      <a:lnTo>
                        <a:pt x="1009" y="95"/>
                      </a:lnTo>
                      <a:lnTo>
                        <a:pt x="1007" y="94"/>
                      </a:lnTo>
                      <a:lnTo>
                        <a:pt x="1004" y="91"/>
                      </a:lnTo>
                      <a:lnTo>
                        <a:pt x="1002" y="90"/>
                      </a:lnTo>
                      <a:lnTo>
                        <a:pt x="1000" y="89"/>
                      </a:lnTo>
                      <a:lnTo>
                        <a:pt x="997" y="88"/>
                      </a:lnTo>
                      <a:lnTo>
                        <a:pt x="994" y="87"/>
                      </a:lnTo>
                      <a:lnTo>
                        <a:pt x="992" y="86"/>
                      </a:lnTo>
                      <a:lnTo>
                        <a:pt x="989" y="84"/>
                      </a:lnTo>
                      <a:lnTo>
                        <a:pt x="987" y="83"/>
                      </a:lnTo>
                      <a:lnTo>
                        <a:pt x="985" y="83"/>
                      </a:lnTo>
                      <a:lnTo>
                        <a:pt x="982" y="82"/>
                      </a:lnTo>
                      <a:lnTo>
                        <a:pt x="980" y="82"/>
                      </a:lnTo>
                      <a:lnTo>
                        <a:pt x="978" y="82"/>
                      </a:lnTo>
                      <a:lnTo>
                        <a:pt x="971" y="81"/>
                      </a:lnTo>
                      <a:lnTo>
                        <a:pt x="964" y="81"/>
                      </a:lnTo>
                      <a:lnTo>
                        <a:pt x="957" y="81"/>
                      </a:lnTo>
                      <a:lnTo>
                        <a:pt x="950" y="80"/>
                      </a:lnTo>
                      <a:lnTo>
                        <a:pt x="944" y="80"/>
                      </a:lnTo>
                      <a:lnTo>
                        <a:pt x="937" y="79"/>
                      </a:lnTo>
                      <a:lnTo>
                        <a:pt x="931" y="79"/>
                      </a:lnTo>
                      <a:lnTo>
                        <a:pt x="926" y="78"/>
                      </a:lnTo>
                      <a:lnTo>
                        <a:pt x="920" y="76"/>
                      </a:lnTo>
                      <a:lnTo>
                        <a:pt x="914" y="76"/>
                      </a:lnTo>
                      <a:lnTo>
                        <a:pt x="908" y="75"/>
                      </a:lnTo>
                      <a:lnTo>
                        <a:pt x="903" y="74"/>
                      </a:lnTo>
                      <a:lnTo>
                        <a:pt x="897" y="74"/>
                      </a:lnTo>
                      <a:lnTo>
                        <a:pt x="892" y="73"/>
                      </a:lnTo>
                      <a:lnTo>
                        <a:pt x="886" y="73"/>
                      </a:lnTo>
                      <a:lnTo>
                        <a:pt x="881" y="72"/>
                      </a:lnTo>
                      <a:lnTo>
                        <a:pt x="875" y="72"/>
                      </a:lnTo>
                      <a:lnTo>
                        <a:pt x="870" y="72"/>
                      </a:lnTo>
                      <a:lnTo>
                        <a:pt x="864" y="72"/>
                      </a:lnTo>
                      <a:lnTo>
                        <a:pt x="859" y="72"/>
                      </a:lnTo>
                      <a:lnTo>
                        <a:pt x="853" y="72"/>
                      </a:lnTo>
                      <a:lnTo>
                        <a:pt x="847" y="73"/>
                      </a:lnTo>
                      <a:lnTo>
                        <a:pt x="841" y="74"/>
                      </a:lnTo>
                      <a:lnTo>
                        <a:pt x="836" y="74"/>
                      </a:lnTo>
                      <a:lnTo>
                        <a:pt x="830" y="76"/>
                      </a:lnTo>
                      <a:lnTo>
                        <a:pt x="824" y="78"/>
                      </a:lnTo>
                      <a:lnTo>
                        <a:pt x="817" y="80"/>
                      </a:lnTo>
                      <a:lnTo>
                        <a:pt x="811" y="82"/>
                      </a:lnTo>
                      <a:lnTo>
                        <a:pt x="804" y="84"/>
                      </a:lnTo>
                      <a:lnTo>
                        <a:pt x="797" y="87"/>
                      </a:lnTo>
                      <a:lnTo>
                        <a:pt x="792" y="90"/>
                      </a:lnTo>
                      <a:lnTo>
                        <a:pt x="784" y="94"/>
                      </a:lnTo>
                      <a:lnTo>
                        <a:pt x="781" y="96"/>
                      </a:lnTo>
                      <a:lnTo>
                        <a:pt x="778" y="97"/>
                      </a:lnTo>
                      <a:lnTo>
                        <a:pt x="775" y="100"/>
                      </a:lnTo>
                      <a:lnTo>
                        <a:pt x="773" y="103"/>
                      </a:lnTo>
                      <a:lnTo>
                        <a:pt x="770" y="105"/>
                      </a:lnTo>
                      <a:lnTo>
                        <a:pt x="767" y="109"/>
                      </a:lnTo>
                      <a:lnTo>
                        <a:pt x="764" y="112"/>
                      </a:lnTo>
                      <a:lnTo>
                        <a:pt x="762" y="116"/>
                      </a:lnTo>
                      <a:lnTo>
                        <a:pt x="758" y="119"/>
                      </a:lnTo>
                      <a:lnTo>
                        <a:pt x="756" y="123"/>
                      </a:lnTo>
                      <a:lnTo>
                        <a:pt x="754" y="127"/>
                      </a:lnTo>
                      <a:lnTo>
                        <a:pt x="750" y="132"/>
                      </a:lnTo>
                      <a:lnTo>
                        <a:pt x="748" y="135"/>
                      </a:lnTo>
                      <a:lnTo>
                        <a:pt x="745" y="140"/>
                      </a:lnTo>
                      <a:lnTo>
                        <a:pt x="743" y="145"/>
                      </a:lnTo>
                      <a:lnTo>
                        <a:pt x="741" y="149"/>
                      </a:lnTo>
                      <a:lnTo>
                        <a:pt x="738" y="154"/>
                      </a:lnTo>
                      <a:lnTo>
                        <a:pt x="736" y="160"/>
                      </a:lnTo>
                      <a:lnTo>
                        <a:pt x="735" y="164"/>
                      </a:lnTo>
                      <a:lnTo>
                        <a:pt x="733" y="169"/>
                      </a:lnTo>
                      <a:lnTo>
                        <a:pt x="730" y="173"/>
                      </a:lnTo>
                      <a:lnTo>
                        <a:pt x="729" y="178"/>
                      </a:lnTo>
                      <a:lnTo>
                        <a:pt x="728" y="183"/>
                      </a:lnTo>
                      <a:lnTo>
                        <a:pt x="727" y="187"/>
                      </a:lnTo>
                      <a:lnTo>
                        <a:pt x="726" y="192"/>
                      </a:lnTo>
                      <a:lnTo>
                        <a:pt x="725" y="197"/>
                      </a:lnTo>
                      <a:lnTo>
                        <a:pt x="723" y="201"/>
                      </a:lnTo>
                      <a:lnTo>
                        <a:pt x="723" y="206"/>
                      </a:lnTo>
                      <a:lnTo>
                        <a:pt x="723" y="209"/>
                      </a:lnTo>
                      <a:lnTo>
                        <a:pt x="722" y="214"/>
                      </a:lnTo>
                      <a:lnTo>
                        <a:pt x="723" y="217"/>
                      </a:lnTo>
                      <a:lnTo>
                        <a:pt x="723" y="221"/>
                      </a:lnTo>
                      <a:lnTo>
                        <a:pt x="723" y="222"/>
                      </a:lnTo>
                      <a:lnTo>
                        <a:pt x="723" y="223"/>
                      </a:lnTo>
                      <a:lnTo>
                        <a:pt x="725" y="224"/>
                      </a:lnTo>
                      <a:lnTo>
                        <a:pt x="725" y="225"/>
                      </a:lnTo>
                      <a:lnTo>
                        <a:pt x="726" y="227"/>
                      </a:lnTo>
                      <a:lnTo>
                        <a:pt x="727" y="228"/>
                      </a:lnTo>
                      <a:lnTo>
                        <a:pt x="728" y="229"/>
                      </a:lnTo>
                      <a:lnTo>
                        <a:pt x="728" y="230"/>
                      </a:lnTo>
                      <a:lnTo>
                        <a:pt x="729" y="231"/>
                      </a:lnTo>
                      <a:lnTo>
                        <a:pt x="730" y="232"/>
                      </a:lnTo>
                      <a:lnTo>
                        <a:pt x="732" y="234"/>
                      </a:lnTo>
                      <a:lnTo>
                        <a:pt x="733" y="236"/>
                      </a:lnTo>
                      <a:lnTo>
                        <a:pt x="734" y="237"/>
                      </a:lnTo>
                      <a:lnTo>
                        <a:pt x="736" y="238"/>
                      </a:lnTo>
                      <a:lnTo>
                        <a:pt x="737" y="239"/>
                      </a:lnTo>
                      <a:lnTo>
                        <a:pt x="738" y="240"/>
                      </a:lnTo>
                      <a:lnTo>
                        <a:pt x="740" y="242"/>
                      </a:lnTo>
                      <a:lnTo>
                        <a:pt x="741" y="243"/>
                      </a:lnTo>
                      <a:lnTo>
                        <a:pt x="742" y="244"/>
                      </a:lnTo>
                      <a:lnTo>
                        <a:pt x="743" y="246"/>
                      </a:lnTo>
                      <a:lnTo>
                        <a:pt x="744" y="247"/>
                      </a:lnTo>
                      <a:lnTo>
                        <a:pt x="744" y="249"/>
                      </a:lnTo>
                      <a:lnTo>
                        <a:pt x="745" y="250"/>
                      </a:lnTo>
                      <a:lnTo>
                        <a:pt x="747" y="251"/>
                      </a:lnTo>
                      <a:lnTo>
                        <a:pt x="747" y="253"/>
                      </a:lnTo>
                      <a:lnTo>
                        <a:pt x="748" y="254"/>
                      </a:lnTo>
                      <a:lnTo>
                        <a:pt x="748" y="255"/>
                      </a:lnTo>
                      <a:lnTo>
                        <a:pt x="749" y="257"/>
                      </a:lnTo>
                      <a:lnTo>
                        <a:pt x="749" y="259"/>
                      </a:lnTo>
                      <a:lnTo>
                        <a:pt x="749" y="260"/>
                      </a:lnTo>
                      <a:lnTo>
                        <a:pt x="748" y="261"/>
                      </a:lnTo>
                      <a:lnTo>
                        <a:pt x="747" y="261"/>
                      </a:lnTo>
                      <a:lnTo>
                        <a:pt x="744" y="261"/>
                      </a:lnTo>
                      <a:lnTo>
                        <a:pt x="742" y="261"/>
                      </a:lnTo>
                      <a:lnTo>
                        <a:pt x="741" y="261"/>
                      </a:lnTo>
                      <a:lnTo>
                        <a:pt x="738" y="261"/>
                      </a:lnTo>
                      <a:lnTo>
                        <a:pt x="736" y="261"/>
                      </a:lnTo>
                      <a:lnTo>
                        <a:pt x="734" y="261"/>
                      </a:lnTo>
                      <a:lnTo>
                        <a:pt x="732" y="262"/>
                      </a:lnTo>
                      <a:lnTo>
                        <a:pt x="729" y="262"/>
                      </a:lnTo>
                      <a:lnTo>
                        <a:pt x="727" y="262"/>
                      </a:lnTo>
                      <a:lnTo>
                        <a:pt x="726" y="264"/>
                      </a:lnTo>
                      <a:lnTo>
                        <a:pt x="723" y="264"/>
                      </a:lnTo>
                      <a:lnTo>
                        <a:pt x="721" y="264"/>
                      </a:lnTo>
                      <a:lnTo>
                        <a:pt x="719" y="265"/>
                      </a:lnTo>
                      <a:lnTo>
                        <a:pt x="717" y="266"/>
                      </a:lnTo>
                      <a:lnTo>
                        <a:pt x="714" y="266"/>
                      </a:lnTo>
                      <a:lnTo>
                        <a:pt x="712" y="267"/>
                      </a:lnTo>
                      <a:lnTo>
                        <a:pt x="710" y="268"/>
                      </a:lnTo>
                      <a:lnTo>
                        <a:pt x="707" y="269"/>
                      </a:lnTo>
                      <a:lnTo>
                        <a:pt x="706" y="270"/>
                      </a:lnTo>
                      <a:lnTo>
                        <a:pt x="704" y="272"/>
                      </a:lnTo>
                      <a:lnTo>
                        <a:pt x="702" y="273"/>
                      </a:lnTo>
                      <a:lnTo>
                        <a:pt x="699" y="274"/>
                      </a:lnTo>
                      <a:lnTo>
                        <a:pt x="698" y="276"/>
                      </a:lnTo>
                      <a:lnTo>
                        <a:pt x="696" y="277"/>
                      </a:lnTo>
                      <a:lnTo>
                        <a:pt x="695" y="280"/>
                      </a:lnTo>
                      <a:lnTo>
                        <a:pt x="692" y="281"/>
                      </a:lnTo>
                      <a:lnTo>
                        <a:pt x="691" y="283"/>
                      </a:lnTo>
                      <a:lnTo>
                        <a:pt x="689" y="285"/>
                      </a:lnTo>
                      <a:lnTo>
                        <a:pt x="688" y="288"/>
                      </a:lnTo>
                      <a:lnTo>
                        <a:pt x="687" y="290"/>
                      </a:lnTo>
                      <a:lnTo>
                        <a:pt x="685" y="292"/>
                      </a:lnTo>
                      <a:lnTo>
                        <a:pt x="684" y="295"/>
                      </a:lnTo>
                      <a:lnTo>
                        <a:pt x="684" y="296"/>
                      </a:lnTo>
                      <a:lnTo>
                        <a:pt x="683" y="298"/>
                      </a:lnTo>
                      <a:lnTo>
                        <a:pt x="683" y="301"/>
                      </a:lnTo>
                      <a:lnTo>
                        <a:pt x="683" y="303"/>
                      </a:lnTo>
                      <a:lnTo>
                        <a:pt x="682" y="305"/>
                      </a:lnTo>
                      <a:lnTo>
                        <a:pt x="682" y="307"/>
                      </a:lnTo>
                      <a:lnTo>
                        <a:pt x="682" y="310"/>
                      </a:lnTo>
                      <a:lnTo>
                        <a:pt x="681" y="312"/>
                      </a:lnTo>
                      <a:lnTo>
                        <a:pt x="681" y="314"/>
                      </a:lnTo>
                      <a:lnTo>
                        <a:pt x="681" y="317"/>
                      </a:lnTo>
                      <a:lnTo>
                        <a:pt x="681" y="319"/>
                      </a:lnTo>
                      <a:lnTo>
                        <a:pt x="681" y="321"/>
                      </a:lnTo>
                      <a:lnTo>
                        <a:pt x="681" y="324"/>
                      </a:lnTo>
                      <a:lnTo>
                        <a:pt x="681" y="326"/>
                      </a:lnTo>
                      <a:lnTo>
                        <a:pt x="682" y="329"/>
                      </a:lnTo>
                      <a:lnTo>
                        <a:pt x="682" y="332"/>
                      </a:lnTo>
                      <a:lnTo>
                        <a:pt x="682" y="334"/>
                      </a:lnTo>
                      <a:lnTo>
                        <a:pt x="683" y="336"/>
                      </a:lnTo>
                      <a:lnTo>
                        <a:pt x="683" y="337"/>
                      </a:lnTo>
                      <a:lnTo>
                        <a:pt x="684" y="340"/>
                      </a:lnTo>
                      <a:lnTo>
                        <a:pt x="684" y="342"/>
                      </a:lnTo>
                      <a:lnTo>
                        <a:pt x="685" y="344"/>
                      </a:lnTo>
                      <a:lnTo>
                        <a:pt x="687" y="346"/>
                      </a:lnTo>
                      <a:lnTo>
                        <a:pt x="687" y="348"/>
                      </a:lnTo>
                      <a:lnTo>
                        <a:pt x="688" y="350"/>
                      </a:lnTo>
                      <a:lnTo>
                        <a:pt x="689" y="351"/>
                      </a:lnTo>
                      <a:lnTo>
                        <a:pt x="690" y="352"/>
                      </a:lnTo>
                      <a:lnTo>
                        <a:pt x="692" y="354"/>
                      </a:lnTo>
                      <a:lnTo>
                        <a:pt x="693" y="355"/>
                      </a:lnTo>
                      <a:lnTo>
                        <a:pt x="695" y="356"/>
                      </a:lnTo>
                      <a:lnTo>
                        <a:pt x="697" y="357"/>
                      </a:lnTo>
                      <a:lnTo>
                        <a:pt x="696" y="357"/>
                      </a:lnTo>
                      <a:lnTo>
                        <a:pt x="695" y="358"/>
                      </a:lnTo>
                      <a:lnTo>
                        <a:pt x="693" y="358"/>
                      </a:lnTo>
                      <a:lnTo>
                        <a:pt x="692" y="358"/>
                      </a:lnTo>
                      <a:lnTo>
                        <a:pt x="691" y="359"/>
                      </a:lnTo>
                      <a:lnTo>
                        <a:pt x="690" y="361"/>
                      </a:lnTo>
                      <a:lnTo>
                        <a:pt x="689" y="362"/>
                      </a:lnTo>
                      <a:lnTo>
                        <a:pt x="687" y="363"/>
                      </a:lnTo>
                      <a:lnTo>
                        <a:pt x="685" y="363"/>
                      </a:lnTo>
                      <a:lnTo>
                        <a:pt x="684" y="365"/>
                      </a:lnTo>
                      <a:lnTo>
                        <a:pt x="683" y="366"/>
                      </a:lnTo>
                      <a:lnTo>
                        <a:pt x="681" y="368"/>
                      </a:lnTo>
                      <a:lnTo>
                        <a:pt x="680" y="369"/>
                      </a:lnTo>
                      <a:lnTo>
                        <a:pt x="678" y="370"/>
                      </a:lnTo>
                      <a:lnTo>
                        <a:pt x="676" y="372"/>
                      </a:lnTo>
                      <a:lnTo>
                        <a:pt x="675" y="373"/>
                      </a:lnTo>
                      <a:lnTo>
                        <a:pt x="673" y="376"/>
                      </a:lnTo>
                      <a:lnTo>
                        <a:pt x="671" y="377"/>
                      </a:lnTo>
                      <a:lnTo>
                        <a:pt x="670" y="379"/>
                      </a:lnTo>
                      <a:lnTo>
                        <a:pt x="668" y="381"/>
                      </a:lnTo>
                      <a:lnTo>
                        <a:pt x="667" y="383"/>
                      </a:lnTo>
                      <a:lnTo>
                        <a:pt x="665" y="385"/>
                      </a:lnTo>
                      <a:lnTo>
                        <a:pt x="662" y="387"/>
                      </a:lnTo>
                      <a:lnTo>
                        <a:pt x="661" y="388"/>
                      </a:lnTo>
                      <a:lnTo>
                        <a:pt x="659" y="391"/>
                      </a:lnTo>
                      <a:lnTo>
                        <a:pt x="658" y="393"/>
                      </a:lnTo>
                      <a:lnTo>
                        <a:pt x="655" y="395"/>
                      </a:lnTo>
                      <a:lnTo>
                        <a:pt x="654" y="396"/>
                      </a:lnTo>
                      <a:lnTo>
                        <a:pt x="652" y="399"/>
                      </a:lnTo>
                      <a:lnTo>
                        <a:pt x="651" y="401"/>
                      </a:lnTo>
                      <a:lnTo>
                        <a:pt x="648" y="403"/>
                      </a:lnTo>
                      <a:lnTo>
                        <a:pt x="646" y="404"/>
                      </a:lnTo>
                      <a:lnTo>
                        <a:pt x="645" y="407"/>
                      </a:lnTo>
                      <a:lnTo>
                        <a:pt x="643" y="409"/>
                      </a:lnTo>
                      <a:lnTo>
                        <a:pt x="641" y="411"/>
                      </a:lnTo>
                      <a:lnTo>
                        <a:pt x="639" y="413"/>
                      </a:lnTo>
                      <a:lnTo>
                        <a:pt x="638" y="415"/>
                      </a:lnTo>
                      <a:lnTo>
                        <a:pt x="636" y="417"/>
                      </a:lnTo>
                      <a:lnTo>
                        <a:pt x="635" y="419"/>
                      </a:lnTo>
                      <a:lnTo>
                        <a:pt x="632" y="421"/>
                      </a:lnTo>
                      <a:lnTo>
                        <a:pt x="630" y="423"/>
                      </a:lnTo>
                      <a:lnTo>
                        <a:pt x="629" y="425"/>
                      </a:lnTo>
                      <a:lnTo>
                        <a:pt x="626" y="426"/>
                      </a:lnTo>
                      <a:lnTo>
                        <a:pt x="625" y="429"/>
                      </a:lnTo>
                      <a:lnTo>
                        <a:pt x="624" y="431"/>
                      </a:lnTo>
                      <a:lnTo>
                        <a:pt x="622" y="432"/>
                      </a:lnTo>
                      <a:lnTo>
                        <a:pt x="621" y="435"/>
                      </a:lnTo>
                      <a:lnTo>
                        <a:pt x="618" y="436"/>
                      </a:lnTo>
                      <a:lnTo>
                        <a:pt x="617" y="438"/>
                      </a:lnTo>
                      <a:lnTo>
                        <a:pt x="615" y="440"/>
                      </a:lnTo>
                      <a:lnTo>
                        <a:pt x="614" y="441"/>
                      </a:lnTo>
                      <a:lnTo>
                        <a:pt x="613" y="444"/>
                      </a:lnTo>
                      <a:lnTo>
                        <a:pt x="611" y="446"/>
                      </a:lnTo>
                      <a:lnTo>
                        <a:pt x="609" y="447"/>
                      </a:lnTo>
                      <a:lnTo>
                        <a:pt x="608" y="450"/>
                      </a:lnTo>
                      <a:lnTo>
                        <a:pt x="607" y="451"/>
                      </a:lnTo>
                      <a:lnTo>
                        <a:pt x="606" y="453"/>
                      </a:lnTo>
                      <a:lnTo>
                        <a:pt x="603" y="455"/>
                      </a:lnTo>
                      <a:lnTo>
                        <a:pt x="602" y="456"/>
                      </a:lnTo>
                      <a:lnTo>
                        <a:pt x="601" y="459"/>
                      </a:lnTo>
                      <a:lnTo>
                        <a:pt x="600" y="461"/>
                      </a:lnTo>
                      <a:lnTo>
                        <a:pt x="599" y="462"/>
                      </a:lnTo>
                      <a:lnTo>
                        <a:pt x="598" y="465"/>
                      </a:lnTo>
                      <a:lnTo>
                        <a:pt x="596" y="467"/>
                      </a:lnTo>
                      <a:lnTo>
                        <a:pt x="595" y="465"/>
                      </a:lnTo>
                      <a:lnTo>
                        <a:pt x="595" y="462"/>
                      </a:lnTo>
                      <a:lnTo>
                        <a:pt x="594" y="460"/>
                      </a:lnTo>
                      <a:lnTo>
                        <a:pt x="593" y="458"/>
                      </a:lnTo>
                      <a:lnTo>
                        <a:pt x="592" y="455"/>
                      </a:lnTo>
                      <a:lnTo>
                        <a:pt x="591" y="454"/>
                      </a:lnTo>
                      <a:lnTo>
                        <a:pt x="589" y="452"/>
                      </a:lnTo>
                      <a:lnTo>
                        <a:pt x="588" y="450"/>
                      </a:lnTo>
                      <a:lnTo>
                        <a:pt x="587" y="448"/>
                      </a:lnTo>
                      <a:lnTo>
                        <a:pt x="586" y="447"/>
                      </a:lnTo>
                      <a:lnTo>
                        <a:pt x="584" y="445"/>
                      </a:lnTo>
                      <a:lnTo>
                        <a:pt x="583" y="444"/>
                      </a:lnTo>
                      <a:lnTo>
                        <a:pt x="581" y="443"/>
                      </a:lnTo>
                      <a:lnTo>
                        <a:pt x="579" y="440"/>
                      </a:lnTo>
                      <a:lnTo>
                        <a:pt x="578" y="439"/>
                      </a:lnTo>
                      <a:lnTo>
                        <a:pt x="576" y="438"/>
                      </a:lnTo>
                      <a:lnTo>
                        <a:pt x="574" y="437"/>
                      </a:lnTo>
                      <a:lnTo>
                        <a:pt x="572" y="436"/>
                      </a:lnTo>
                      <a:lnTo>
                        <a:pt x="571" y="435"/>
                      </a:lnTo>
                      <a:lnTo>
                        <a:pt x="569" y="432"/>
                      </a:lnTo>
                      <a:lnTo>
                        <a:pt x="566" y="431"/>
                      </a:lnTo>
                      <a:lnTo>
                        <a:pt x="565" y="430"/>
                      </a:lnTo>
                      <a:lnTo>
                        <a:pt x="563" y="429"/>
                      </a:lnTo>
                      <a:lnTo>
                        <a:pt x="561" y="428"/>
                      </a:lnTo>
                      <a:lnTo>
                        <a:pt x="558" y="426"/>
                      </a:lnTo>
                      <a:lnTo>
                        <a:pt x="556" y="425"/>
                      </a:lnTo>
                      <a:lnTo>
                        <a:pt x="555" y="424"/>
                      </a:lnTo>
                      <a:lnTo>
                        <a:pt x="552" y="423"/>
                      </a:lnTo>
                      <a:lnTo>
                        <a:pt x="550" y="422"/>
                      </a:lnTo>
                      <a:lnTo>
                        <a:pt x="548" y="419"/>
                      </a:lnTo>
                      <a:lnTo>
                        <a:pt x="544" y="418"/>
                      </a:lnTo>
                      <a:lnTo>
                        <a:pt x="542" y="417"/>
                      </a:lnTo>
                      <a:lnTo>
                        <a:pt x="544" y="417"/>
                      </a:lnTo>
                      <a:lnTo>
                        <a:pt x="546" y="417"/>
                      </a:lnTo>
                      <a:lnTo>
                        <a:pt x="548" y="416"/>
                      </a:lnTo>
                      <a:lnTo>
                        <a:pt x="549" y="416"/>
                      </a:lnTo>
                      <a:lnTo>
                        <a:pt x="550" y="416"/>
                      </a:lnTo>
                      <a:lnTo>
                        <a:pt x="552" y="415"/>
                      </a:lnTo>
                      <a:lnTo>
                        <a:pt x="554" y="415"/>
                      </a:lnTo>
                      <a:lnTo>
                        <a:pt x="555" y="414"/>
                      </a:lnTo>
                      <a:lnTo>
                        <a:pt x="557" y="413"/>
                      </a:lnTo>
                      <a:lnTo>
                        <a:pt x="558" y="411"/>
                      </a:lnTo>
                      <a:lnTo>
                        <a:pt x="559" y="410"/>
                      </a:lnTo>
                      <a:lnTo>
                        <a:pt x="561" y="409"/>
                      </a:lnTo>
                      <a:lnTo>
                        <a:pt x="562" y="408"/>
                      </a:lnTo>
                      <a:lnTo>
                        <a:pt x="563" y="407"/>
                      </a:lnTo>
                      <a:lnTo>
                        <a:pt x="564" y="406"/>
                      </a:lnTo>
                      <a:lnTo>
                        <a:pt x="565" y="404"/>
                      </a:lnTo>
                      <a:lnTo>
                        <a:pt x="566" y="402"/>
                      </a:lnTo>
                      <a:lnTo>
                        <a:pt x="566" y="401"/>
                      </a:lnTo>
                      <a:lnTo>
                        <a:pt x="567" y="399"/>
                      </a:lnTo>
                      <a:lnTo>
                        <a:pt x="567" y="398"/>
                      </a:lnTo>
                      <a:lnTo>
                        <a:pt x="569" y="395"/>
                      </a:lnTo>
                      <a:lnTo>
                        <a:pt x="569" y="394"/>
                      </a:lnTo>
                      <a:lnTo>
                        <a:pt x="569" y="392"/>
                      </a:lnTo>
                      <a:lnTo>
                        <a:pt x="567" y="389"/>
                      </a:lnTo>
                      <a:lnTo>
                        <a:pt x="567" y="387"/>
                      </a:lnTo>
                      <a:lnTo>
                        <a:pt x="567" y="386"/>
                      </a:lnTo>
                      <a:lnTo>
                        <a:pt x="566" y="384"/>
                      </a:lnTo>
                      <a:lnTo>
                        <a:pt x="565" y="381"/>
                      </a:lnTo>
                      <a:lnTo>
                        <a:pt x="564" y="379"/>
                      </a:lnTo>
                      <a:lnTo>
                        <a:pt x="562" y="377"/>
                      </a:lnTo>
                      <a:lnTo>
                        <a:pt x="561" y="373"/>
                      </a:lnTo>
                      <a:lnTo>
                        <a:pt x="558" y="371"/>
                      </a:lnTo>
                      <a:lnTo>
                        <a:pt x="559" y="370"/>
                      </a:lnTo>
                      <a:lnTo>
                        <a:pt x="561" y="369"/>
                      </a:lnTo>
                      <a:lnTo>
                        <a:pt x="561" y="368"/>
                      </a:lnTo>
                      <a:lnTo>
                        <a:pt x="562" y="366"/>
                      </a:lnTo>
                      <a:lnTo>
                        <a:pt x="563" y="365"/>
                      </a:lnTo>
                      <a:lnTo>
                        <a:pt x="563" y="364"/>
                      </a:lnTo>
                      <a:lnTo>
                        <a:pt x="564" y="364"/>
                      </a:lnTo>
                      <a:lnTo>
                        <a:pt x="564" y="363"/>
                      </a:lnTo>
                      <a:lnTo>
                        <a:pt x="565" y="363"/>
                      </a:lnTo>
                      <a:lnTo>
                        <a:pt x="565" y="362"/>
                      </a:lnTo>
                      <a:lnTo>
                        <a:pt x="566" y="361"/>
                      </a:lnTo>
                      <a:lnTo>
                        <a:pt x="567" y="359"/>
                      </a:lnTo>
                      <a:lnTo>
                        <a:pt x="569" y="358"/>
                      </a:lnTo>
                      <a:lnTo>
                        <a:pt x="570" y="357"/>
                      </a:lnTo>
                      <a:lnTo>
                        <a:pt x="570" y="356"/>
                      </a:lnTo>
                      <a:lnTo>
                        <a:pt x="571" y="356"/>
                      </a:lnTo>
                      <a:lnTo>
                        <a:pt x="571" y="355"/>
                      </a:lnTo>
                      <a:lnTo>
                        <a:pt x="572" y="355"/>
                      </a:lnTo>
                      <a:lnTo>
                        <a:pt x="572" y="354"/>
                      </a:lnTo>
                      <a:lnTo>
                        <a:pt x="572" y="352"/>
                      </a:lnTo>
                      <a:lnTo>
                        <a:pt x="572" y="351"/>
                      </a:lnTo>
                      <a:lnTo>
                        <a:pt x="572" y="350"/>
                      </a:lnTo>
                      <a:lnTo>
                        <a:pt x="571" y="349"/>
                      </a:lnTo>
                      <a:lnTo>
                        <a:pt x="571" y="348"/>
                      </a:lnTo>
                      <a:lnTo>
                        <a:pt x="570" y="347"/>
                      </a:lnTo>
                      <a:lnTo>
                        <a:pt x="569" y="346"/>
                      </a:lnTo>
                      <a:lnTo>
                        <a:pt x="567" y="346"/>
                      </a:lnTo>
                      <a:lnTo>
                        <a:pt x="567" y="344"/>
                      </a:lnTo>
                      <a:lnTo>
                        <a:pt x="566" y="344"/>
                      </a:lnTo>
                      <a:lnTo>
                        <a:pt x="565" y="344"/>
                      </a:lnTo>
                      <a:lnTo>
                        <a:pt x="565" y="343"/>
                      </a:lnTo>
                      <a:lnTo>
                        <a:pt x="564" y="343"/>
                      </a:lnTo>
                      <a:lnTo>
                        <a:pt x="563" y="343"/>
                      </a:lnTo>
                      <a:lnTo>
                        <a:pt x="562" y="343"/>
                      </a:lnTo>
                      <a:lnTo>
                        <a:pt x="561" y="343"/>
                      </a:lnTo>
                      <a:lnTo>
                        <a:pt x="561" y="342"/>
                      </a:lnTo>
                      <a:lnTo>
                        <a:pt x="559" y="342"/>
                      </a:lnTo>
                      <a:lnTo>
                        <a:pt x="558" y="342"/>
                      </a:lnTo>
                      <a:lnTo>
                        <a:pt x="557" y="341"/>
                      </a:lnTo>
                      <a:lnTo>
                        <a:pt x="557" y="340"/>
                      </a:lnTo>
                      <a:lnTo>
                        <a:pt x="558" y="339"/>
                      </a:lnTo>
                      <a:lnTo>
                        <a:pt x="559" y="337"/>
                      </a:lnTo>
                      <a:lnTo>
                        <a:pt x="561" y="337"/>
                      </a:lnTo>
                      <a:lnTo>
                        <a:pt x="562" y="336"/>
                      </a:lnTo>
                      <a:lnTo>
                        <a:pt x="563" y="335"/>
                      </a:lnTo>
                      <a:lnTo>
                        <a:pt x="564" y="335"/>
                      </a:lnTo>
                      <a:lnTo>
                        <a:pt x="565" y="335"/>
                      </a:lnTo>
                      <a:lnTo>
                        <a:pt x="566" y="335"/>
                      </a:lnTo>
                      <a:lnTo>
                        <a:pt x="566" y="334"/>
                      </a:lnTo>
                      <a:lnTo>
                        <a:pt x="567" y="334"/>
                      </a:lnTo>
                      <a:lnTo>
                        <a:pt x="569" y="334"/>
                      </a:lnTo>
                      <a:lnTo>
                        <a:pt x="570" y="334"/>
                      </a:lnTo>
                      <a:lnTo>
                        <a:pt x="571" y="334"/>
                      </a:lnTo>
                      <a:lnTo>
                        <a:pt x="572" y="333"/>
                      </a:lnTo>
                      <a:lnTo>
                        <a:pt x="573" y="333"/>
                      </a:lnTo>
                      <a:lnTo>
                        <a:pt x="574" y="333"/>
                      </a:lnTo>
                      <a:lnTo>
                        <a:pt x="576" y="333"/>
                      </a:lnTo>
                      <a:lnTo>
                        <a:pt x="577" y="333"/>
                      </a:lnTo>
                      <a:lnTo>
                        <a:pt x="578" y="332"/>
                      </a:lnTo>
                      <a:lnTo>
                        <a:pt x="579" y="332"/>
                      </a:lnTo>
                      <a:lnTo>
                        <a:pt x="580" y="332"/>
                      </a:lnTo>
                      <a:lnTo>
                        <a:pt x="581" y="331"/>
                      </a:lnTo>
                      <a:lnTo>
                        <a:pt x="583" y="331"/>
                      </a:lnTo>
                      <a:lnTo>
                        <a:pt x="584" y="329"/>
                      </a:lnTo>
                      <a:lnTo>
                        <a:pt x="584" y="328"/>
                      </a:lnTo>
                      <a:lnTo>
                        <a:pt x="585" y="328"/>
                      </a:lnTo>
                      <a:lnTo>
                        <a:pt x="585" y="327"/>
                      </a:lnTo>
                      <a:lnTo>
                        <a:pt x="586" y="326"/>
                      </a:lnTo>
                      <a:lnTo>
                        <a:pt x="586" y="325"/>
                      </a:lnTo>
                      <a:lnTo>
                        <a:pt x="586" y="324"/>
                      </a:lnTo>
                      <a:lnTo>
                        <a:pt x="586" y="322"/>
                      </a:lnTo>
                      <a:lnTo>
                        <a:pt x="586" y="321"/>
                      </a:lnTo>
                      <a:lnTo>
                        <a:pt x="586" y="320"/>
                      </a:lnTo>
                      <a:lnTo>
                        <a:pt x="586" y="319"/>
                      </a:lnTo>
                      <a:lnTo>
                        <a:pt x="586" y="318"/>
                      </a:lnTo>
                      <a:lnTo>
                        <a:pt x="586" y="317"/>
                      </a:lnTo>
                      <a:lnTo>
                        <a:pt x="586" y="316"/>
                      </a:lnTo>
                      <a:lnTo>
                        <a:pt x="586" y="314"/>
                      </a:lnTo>
                      <a:lnTo>
                        <a:pt x="586" y="313"/>
                      </a:lnTo>
                      <a:lnTo>
                        <a:pt x="586" y="312"/>
                      </a:lnTo>
                      <a:lnTo>
                        <a:pt x="586" y="311"/>
                      </a:lnTo>
                      <a:lnTo>
                        <a:pt x="586" y="310"/>
                      </a:lnTo>
                      <a:lnTo>
                        <a:pt x="586" y="309"/>
                      </a:lnTo>
                      <a:lnTo>
                        <a:pt x="586" y="307"/>
                      </a:lnTo>
                      <a:lnTo>
                        <a:pt x="586" y="306"/>
                      </a:lnTo>
                      <a:lnTo>
                        <a:pt x="586" y="305"/>
                      </a:lnTo>
                      <a:lnTo>
                        <a:pt x="587" y="305"/>
                      </a:lnTo>
                      <a:lnTo>
                        <a:pt x="588" y="305"/>
                      </a:lnTo>
                      <a:lnTo>
                        <a:pt x="589" y="305"/>
                      </a:lnTo>
                      <a:lnTo>
                        <a:pt x="591" y="305"/>
                      </a:lnTo>
                      <a:lnTo>
                        <a:pt x="592" y="304"/>
                      </a:lnTo>
                      <a:lnTo>
                        <a:pt x="593" y="304"/>
                      </a:lnTo>
                      <a:lnTo>
                        <a:pt x="594" y="304"/>
                      </a:lnTo>
                      <a:lnTo>
                        <a:pt x="595" y="304"/>
                      </a:lnTo>
                      <a:lnTo>
                        <a:pt x="596" y="304"/>
                      </a:lnTo>
                      <a:lnTo>
                        <a:pt x="598" y="303"/>
                      </a:lnTo>
                      <a:lnTo>
                        <a:pt x="599" y="303"/>
                      </a:lnTo>
                      <a:lnTo>
                        <a:pt x="600" y="303"/>
                      </a:lnTo>
                      <a:lnTo>
                        <a:pt x="601" y="303"/>
                      </a:lnTo>
                      <a:lnTo>
                        <a:pt x="602" y="302"/>
                      </a:lnTo>
                      <a:lnTo>
                        <a:pt x="603" y="302"/>
                      </a:lnTo>
                      <a:lnTo>
                        <a:pt x="604" y="302"/>
                      </a:lnTo>
                      <a:lnTo>
                        <a:pt x="606" y="302"/>
                      </a:lnTo>
                      <a:lnTo>
                        <a:pt x="607" y="302"/>
                      </a:lnTo>
                      <a:lnTo>
                        <a:pt x="608" y="301"/>
                      </a:lnTo>
                      <a:lnTo>
                        <a:pt x="609" y="301"/>
                      </a:lnTo>
                      <a:lnTo>
                        <a:pt x="610" y="301"/>
                      </a:lnTo>
                      <a:lnTo>
                        <a:pt x="611" y="301"/>
                      </a:lnTo>
                      <a:lnTo>
                        <a:pt x="613" y="301"/>
                      </a:lnTo>
                      <a:lnTo>
                        <a:pt x="614" y="301"/>
                      </a:lnTo>
                      <a:lnTo>
                        <a:pt x="615" y="301"/>
                      </a:lnTo>
                      <a:lnTo>
                        <a:pt x="615" y="299"/>
                      </a:lnTo>
                      <a:lnTo>
                        <a:pt x="616" y="299"/>
                      </a:lnTo>
                      <a:lnTo>
                        <a:pt x="617" y="299"/>
                      </a:lnTo>
                      <a:lnTo>
                        <a:pt x="618" y="299"/>
                      </a:lnTo>
                      <a:lnTo>
                        <a:pt x="618" y="298"/>
                      </a:lnTo>
                      <a:lnTo>
                        <a:pt x="619" y="298"/>
                      </a:lnTo>
                      <a:lnTo>
                        <a:pt x="621" y="297"/>
                      </a:lnTo>
                      <a:lnTo>
                        <a:pt x="622" y="296"/>
                      </a:lnTo>
                      <a:lnTo>
                        <a:pt x="623" y="295"/>
                      </a:lnTo>
                      <a:lnTo>
                        <a:pt x="623" y="294"/>
                      </a:lnTo>
                      <a:lnTo>
                        <a:pt x="624" y="294"/>
                      </a:lnTo>
                      <a:lnTo>
                        <a:pt x="624" y="292"/>
                      </a:lnTo>
                      <a:lnTo>
                        <a:pt x="624" y="291"/>
                      </a:lnTo>
                      <a:lnTo>
                        <a:pt x="625" y="290"/>
                      </a:lnTo>
                      <a:lnTo>
                        <a:pt x="625" y="289"/>
                      </a:lnTo>
                      <a:lnTo>
                        <a:pt x="625" y="288"/>
                      </a:lnTo>
                      <a:lnTo>
                        <a:pt x="625" y="287"/>
                      </a:lnTo>
                      <a:lnTo>
                        <a:pt x="625" y="285"/>
                      </a:lnTo>
                      <a:lnTo>
                        <a:pt x="625" y="284"/>
                      </a:lnTo>
                      <a:lnTo>
                        <a:pt x="625" y="283"/>
                      </a:lnTo>
                      <a:lnTo>
                        <a:pt x="624" y="282"/>
                      </a:lnTo>
                      <a:lnTo>
                        <a:pt x="624" y="281"/>
                      </a:lnTo>
                      <a:lnTo>
                        <a:pt x="624" y="280"/>
                      </a:lnTo>
                      <a:lnTo>
                        <a:pt x="623" y="279"/>
                      </a:lnTo>
                      <a:lnTo>
                        <a:pt x="622" y="276"/>
                      </a:lnTo>
                      <a:lnTo>
                        <a:pt x="621" y="275"/>
                      </a:lnTo>
                      <a:lnTo>
                        <a:pt x="619" y="274"/>
                      </a:lnTo>
                      <a:lnTo>
                        <a:pt x="618" y="272"/>
                      </a:lnTo>
                      <a:lnTo>
                        <a:pt x="617" y="270"/>
                      </a:lnTo>
                      <a:lnTo>
                        <a:pt x="617" y="269"/>
                      </a:lnTo>
                      <a:lnTo>
                        <a:pt x="616" y="267"/>
                      </a:lnTo>
                      <a:lnTo>
                        <a:pt x="615" y="266"/>
                      </a:lnTo>
                      <a:lnTo>
                        <a:pt x="614" y="265"/>
                      </a:lnTo>
                      <a:lnTo>
                        <a:pt x="613" y="262"/>
                      </a:lnTo>
                      <a:lnTo>
                        <a:pt x="611" y="261"/>
                      </a:lnTo>
                      <a:lnTo>
                        <a:pt x="610" y="260"/>
                      </a:lnTo>
                      <a:lnTo>
                        <a:pt x="609" y="259"/>
                      </a:lnTo>
                      <a:lnTo>
                        <a:pt x="609" y="257"/>
                      </a:lnTo>
                      <a:lnTo>
                        <a:pt x="608" y="255"/>
                      </a:lnTo>
                      <a:lnTo>
                        <a:pt x="607" y="254"/>
                      </a:lnTo>
                      <a:lnTo>
                        <a:pt x="606" y="252"/>
                      </a:lnTo>
                      <a:lnTo>
                        <a:pt x="604" y="251"/>
                      </a:lnTo>
                      <a:lnTo>
                        <a:pt x="603" y="250"/>
                      </a:lnTo>
                      <a:lnTo>
                        <a:pt x="603" y="247"/>
                      </a:lnTo>
                      <a:lnTo>
                        <a:pt x="602" y="246"/>
                      </a:lnTo>
                      <a:lnTo>
                        <a:pt x="601" y="245"/>
                      </a:lnTo>
                      <a:lnTo>
                        <a:pt x="600" y="243"/>
                      </a:lnTo>
                      <a:lnTo>
                        <a:pt x="600" y="242"/>
                      </a:lnTo>
                      <a:lnTo>
                        <a:pt x="599" y="240"/>
                      </a:lnTo>
                      <a:lnTo>
                        <a:pt x="598" y="238"/>
                      </a:lnTo>
                      <a:lnTo>
                        <a:pt x="598" y="237"/>
                      </a:lnTo>
                      <a:lnTo>
                        <a:pt x="596" y="235"/>
                      </a:lnTo>
                      <a:lnTo>
                        <a:pt x="595" y="234"/>
                      </a:lnTo>
                      <a:lnTo>
                        <a:pt x="595" y="231"/>
                      </a:lnTo>
                      <a:lnTo>
                        <a:pt x="594" y="230"/>
                      </a:lnTo>
                      <a:lnTo>
                        <a:pt x="594" y="228"/>
                      </a:lnTo>
                      <a:lnTo>
                        <a:pt x="591" y="220"/>
                      </a:lnTo>
                      <a:lnTo>
                        <a:pt x="592" y="218"/>
                      </a:lnTo>
                      <a:lnTo>
                        <a:pt x="592" y="217"/>
                      </a:lnTo>
                      <a:lnTo>
                        <a:pt x="592" y="216"/>
                      </a:lnTo>
                      <a:lnTo>
                        <a:pt x="593" y="215"/>
                      </a:lnTo>
                      <a:lnTo>
                        <a:pt x="593" y="214"/>
                      </a:lnTo>
                      <a:lnTo>
                        <a:pt x="594" y="213"/>
                      </a:lnTo>
                      <a:lnTo>
                        <a:pt x="594" y="212"/>
                      </a:lnTo>
                      <a:lnTo>
                        <a:pt x="594" y="210"/>
                      </a:lnTo>
                      <a:lnTo>
                        <a:pt x="595" y="210"/>
                      </a:lnTo>
                      <a:lnTo>
                        <a:pt x="595" y="209"/>
                      </a:lnTo>
                      <a:lnTo>
                        <a:pt x="595" y="208"/>
                      </a:lnTo>
                      <a:lnTo>
                        <a:pt x="596" y="208"/>
                      </a:lnTo>
                      <a:lnTo>
                        <a:pt x="596" y="207"/>
                      </a:lnTo>
                      <a:lnTo>
                        <a:pt x="596" y="206"/>
                      </a:lnTo>
                      <a:lnTo>
                        <a:pt x="598" y="205"/>
                      </a:lnTo>
                      <a:lnTo>
                        <a:pt x="598" y="203"/>
                      </a:lnTo>
                      <a:lnTo>
                        <a:pt x="598" y="202"/>
                      </a:lnTo>
                      <a:lnTo>
                        <a:pt x="598" y="201"/>
                      </a:lnTo>
                      <a:lnTo>
                        <a:pt x="599" y="201"/>
                      </a:lnTo>
                      <a:lnTo>
                        <a:pt x="599" y="200"/>
                      </a:lnTo>
                      <a:lnTo>
                        <a:pt x="599" y="199"/>
                      </a:lnTo>
                      <a:lnTo>
                        <a:pt x="599" y="198"/>
                      </a:lnTo>
                      <a:lnTo>
                        <a:pt x="600" y="197"/>
                      </a:lnTo>
                      <a:lnTo>
                        <a:pt x="600" y="195"/>
                      </a:lnTo>
                      <a:lnTo>
                        <a:pt x="600" y="194"/>
                      </a:lnTo>
                      <a:lnTo>
                        <a:pt x="600" y="193"/>
                      </a:lnTo>
                      <a:lnTo>
                        <a:pt x="600" y="191"/>
                      </a:lnTo>
                      <a:lnTo>
                        <a:pt x="601" y="190"/>
                      </a:lnTo>
                      <a:lnTo>
                        <a:pt x="601" y="188"/>
                      </a:lnTo>
                      <a:lnTo>
                        <a:pt x="601" y="187"/>
                      </a:lnTo>
                      <a:lnTo>
                        <a:pt x="601" y="186"/>
                      </a:lnTo>
                      <a:lnTo>
                        <a:pt x="601" y="184"/>
                      </a:lnTo>
                      <a:lnTo>
                        <a:pt x="601" y="183"/>
                      </a:lnTo>
                      <a:lnTo>
                        <a:pt x="601" y="182"/>
                      </a:lnTo>
                      <a:lnTo>
                        <a:pt x="601" y="180"/>
                      </a:lnTo>
                      <a:lnTo>
                        <a:pt x="601" y="179"/>
                      </a:lnTo>
                      <a:lnTo>
                        <a:pt x="601" y="177"/>
                      </a:lnTo>
                      <a:lnTo>
                        <a:pt x="601" y="176"/>
                      </a:lnTo>
                      <a:lnTo>
                        <a:pt x="601" y="175"/>
                      </a:lnTo>
                      <a:lnTo>
                        <a:pt x="601" y="173"/>
                      </a:lnTo>
                      <a:lnTo>
                        <a:pt x="601" y="171"/>
                      </a:lnTo>
                      <a:lnTo>
                        <a:pt x="600" y="170"/>
                      </a:lnTo>
                      <a:lnTo>
                        <a:pt x="600" y="169"/>
                      </a:lnTo>
                      <a:lnTo>
                        <a:pt x="600" y="168"/>
                      </a:lnTo>
                      <a:lnTo>
                        <a:pt x="600" y="167"/>
                      </a:lnTo>
                      <a:lnTo>
                        <a:pt x="600" y="165"/>
                      </a:lnTo>
                      <a:lnTo>
                        <a:pt x="599" y="164"/>
                      </a:lnTo>
                      <a:lnTo>
                        <a:pt x="599" y="163"/>
                      </a:lnTo>
                      <a:lnTo>
                        <a:pt x="599" y="162"/>
                      </a:lnTo>
                      <a:lnTo>
                        <a:pt x="598" y="161"/>
                      </a:lnTo>
                      <a:lnTo>
                        <a:pt x="599" y="160"/>
                      </a:lnTo>
                      <a:lnTo>
                        <a:pt x="600" y="158"/>
                      </a:lnTo>
                      <a:lnTo>
                        <a:pt x="601" y="157"/>
                      </a:lnTo>
                      <a:lnTo>
                        <a:pt x="602" y="156"/>
                      </a:lnTo>
                      <a:lnTo>
                        <a:pt x="603" y="155"/>
                      </a:lnTo>
                      <a:lnTo>
                        <a:pt x="603" y="153"/>
                      </a:lnTo>
                      <a:lnTo>
                        <a:pt x="604" y="151"/>
                      </a:lnTo>
                      <a:lnTo>
                        <a:pt x="606" y="149"/>
                      </a:lnTo>
                      <a:lnTo>
                        <a:pt x="607" y="147"/>
                      </a:lnTo>
                      <a:lnTo>
                        <a:pt x="608" y="146"/>
                      </a:lnTo>
                      <a:lnTo>
                        <a:pt x="609" y="143"/>
                      </a:lnTo>
                      <a:lnTo>
                        <a:pt x="610" y="141"/>
                      </a:lnTo>
                      <a:lnTo>
                        <a:pt x="611" y="139"/>
                      </a:lnTo>
                      <a:lnTo>
                        <a:pt x="613" y="136"/>
                      </a:lnTo>
                      <a:lnTo>
                        <a:pt x="615" y="134"/>
                      </a:lnTo>
                      <a:lnTo>
                        <a:pt x="616" y="132"/>
                      </a:lnTo>
                      <a:lnTo>
                        <a:pt x="617" y="130"/>
                      </a:lnTo>
                      <a:lnTo>
                        <a:pt x="617" y="127"/>
                      </a:lnTo>
                      <a:lnTo>
                        <a:pt x="618" y="125"/>
                      </a:lnTo>
                      <a:lnTo>
                        <a:pt x="619" y="123"/>
                      </a:lnTo>
                      <a:lnTo>
                        <a:pt x="621" y="120"/>
                      </a:lnTo>
                      <a:lnTo>
                        <a:pt x="622" y="118"/>
                      </a:lnTo>
                      <a:lnTo>
                        <a:pt x="623" y="116"/>
                      </a:lnTo>
                      <a:lnTo>
                        <a:pt x="624" y="115"/>
                      </a:lnTo>
                      <a:lnTo>
                        <a:pt x="624" y="112"/>
                      </a:lnTo>
                      <a:lnTo>
                        <a:pt x="625" y="110"/>
                      </a:lnTo>
                      <a:lnTo>
                        <a:pt x="626" y="109"/>
                      </a:lnTo>
                      <a:lnTo>
                        <a:pt x="626" y="106"/>
                      </a:lnTo>
                      <a:lnTo>
                        <a:pt x="628" y="105"/>
                      </a:lnTo>
                      <a:lnTo>
                        <a:pt x="628" y="103"/>
                      </a:lnTo>
                      <a:lnTo>
                        <a:pt x="628" y="102"/>
                      </a:lnTo>
                      <a:lnTo>
                        <a:pt x="629" y="101"/>
                      </a:lnTo>
                      <a:lnTo>
                        <a:pt x="628" y="100"/>
                      </a:lnTo>
                      <a:lnTo>
                        <a:pt x="628" y="98"/>
                      </a:lnTo>
                      <a:lnTo>
                        <a:pt x="626" y="97"/>
                      </a:lnTo>
                      <a:lnTo>
                        <a:pt x="626" y="96"/>
                      </a:lnTo>
                      <a:lnTo>
                        <a:pt x="625" y="96"/>
                      </a:lnTo>
                      <a:lnTo>
                        <a:pt x="625" y="95"/>
                      </a:lnTo>
                      <a:lnTo>
                        <a:pt x="624" y="94"/>
                      </a:lnTo>
                      <a:lnTo>
                        <a:pt x="623" y="94"/>
                      </a:lnTo>
                      <a:lnTo>
                        <a:pt x="623" y="93"/>
                      </a:lnTo>
                      <a:lnTo>
                        <a:pt x="622" y="93"/>
                      </a:lnTo>
                      <a:lnTo>
                        <a:pt x="621" y="91"/>
                      </a:lnTo>
                      <a:lnTo>
                        <a:pt x="619" y="91"/>
                      </a:lnTo>
                      <a:lnTo>
                        <a:pt x="618" y="90"/>
                      </a:lnTo>
                      <a:lnTo>
                        <a:pt x="617" y="90"/>
                      </a:lnTo>
                      <a:lnTo>
                        <a:pt x="616" y="89"/>
                      </a:lnTo>
                      <a:lnTo>
                        <a:pt x="615" y="89"/>
                      </a:lnTo>
                      <a:lnTo>
                        <a:pt x="614" y="88"/>
                      </a:lnTo>
                      <a:lnTo>
                        <a:pt x="613" y="87"/>
                      </a:lnTo>
                      <a:lnTo>
                        <a:pt x="611" y="86"/>
                      </a:lnTo>
                      <a:lnTo>
                        <a:pt x="610" y="86"/>
                      </a:lnTo>
                      <a:lnTo>
                        <a:pt x="609" y="84"/>
                      </a:lnTo>
                      <a:lnTo>
                        <a:pt x="608" y="84"/>
                      </a:lnTo>
                      <a:lnTo>
                        <a:pt x="607" y="83"/>
                      </a:lnTo>
                      <a:lnTo>
                        <a:pt x="606" y="82"/>
                      </a:lnTo>
                      <a:lnTo>
                        <a:pt x="606" y="81"/>
                      </a:lnTo>
                      <a:lnTo>
                        <a:pt x="604" y="81"/>
                      </a:lnTo>
                      <a:lnTo>
                        <a:pt x="604" y="80"/>
                      </a:lnTo>
                      <a:lnTo>
                        <a:pt x="603" y="79"/>
                      </a:lnTo>
                      <a:lnTo>
                        <a:pt x="603" y="78"/>
                      </a:lnTo>
                      <a:lnTo>
                        <a:pt x="603" y="76"/>
                      </a:lnTo>
                      <a:lnTo>
                        <a:pt x="603" y="75"/>
                      </a:lnTo>
                      <a:lnTo>
                        <a:pt x="603" y="74"/>
                      </a:lnTo>
                      <a:lnTo>
                        <a:pt x="603" y="73"/>
                      </a:lnTo>
                      <a:lnTo>
                        <a:pt x="603" y="72"/>
                      </a:lnTo>
                      <a:lnTo>
                        <a:pt x="603" y="71"/>
                      </a:lnTo>
                      <a:lnTo>
                        <a:pt x="604" y="69"/>
                      </a:lnTo>
                      <a:lnTo>
                        <a:pt x="604" y="68"/>
                      </a:lnTo>
                      <a:lnTo>
                        <a:pt x="604" y="67"/>
                      </a:lnTo>
                      <a:lnTo>
                        <a:pt x="604" y="66"/>
                      </a:lnTo>
                      <a:lnTo>
                        <a:pt x="604" y="65"/>
                      </a:lnTo>
                      <a:lnTo>
                        <a:pt x="604" y="64"/>
                      </a:lnTo>
                      <a:lnTo>
                        <a:pt x="606" y="63"/>
                      </a:lnTo>
                      <a:lnTo>
                        <a:pt x="606" y="61"/>
                      </a:lnTo>
                      <a:lnTo>
                        <a:pt x="606" y="60"/>
                      </a:lnTo>
                      <a:lnTo>
                        <a:pt x="606" y="59"/>
                      </a:lnTo>
                      <a:lnTo>
                        <a:pt x="606" y="58"/>
                      </a:lnTo>
                      <a:lnTo>
                        <a:pt x="606" y="57"/>
                      </a:lnTo>
                      <a:lnTo>
                        <a:pt x="607" y="56"/>
                      </a:lnTo>
                      <a:lnTo>
                        <a:pt x="607" y="54"/>
                      </a:lnTo>
                      <a:lnTo>
                        <a:pt x="607" y="53"/>
                      </a:lnTo>
                      <a:lnTo>
                        <a:pt x="607" y="52"/>
                      </a:lnTo>
                      <a:lnTo>
                        <a:pt x="607" y="51"/>
                      </a:lnTo>
                      <a:lnTo>
                        <a:pt x="607" y="50"/>
                      </a:lnTo>
                      <a:lnTo>
                        <a:pt x="607" y="49"/>
                      </a:lnTo>
                      <a:lnTo>
                        <a:pt x="608" y="48"/>
                      </a:lnTo>
                      <a:lnTo>
                        <a:pt x="608" y="46"/>
                      </a:lnTo>
                      <a:lnTo>
                        <a:pt x="608" y="45"/>
                      </a:lnTo>
                      <a:lnTo>
                        <a:pt x="608" y="44"/>
                      </a:lnTo>
                      <a:lnTo>
                        <a:pt x="608" y="43"/>
                      </a:lnTo>
                      <a:lnTo>
                        <a:pt x="607" y="44"/>
                      </a:lnTo>
                      <a:lnTo>
                        <a:pt x="606" y="45"/>
                      </a:lnTo>
                      <a:lnTo>
                        <a:pt x="604" y="45"/>
                      </a:lnTo>
                      <a:lnTo>
                        <a:pt x="603" y="46"/>
                      </a:lnTo>
                      <a:lnTo>
                        <a:pt x="602" y="46"/>
                      </a:lnTo>
                      <a:lnTo>
                        <a:pt x="601" y="48"/>
                      </a:lnTo>
                      <a:lnTo>
                        <a:pt x="600" y="48"/>
                      </a:lnTo>
                      <a:lnTo>
                        <a:pt x="599" y="48"/>
                      </a:lnTo>
                      <a:lnTo>
                        <a:pt x="598" y="48"/>
                      </a:lnTo>
                      <a:lnTo>
                        <a:pt x="596" y="49"/>
                      </a:lnTo>
                      <a:lnTo>
                        <a:pt x="595" y="49"/>
                      </a:lnTo>
                      <a:lnTo>
                        <a:pt x="594" y="49"/>
                      </a:lnTo>
                      <a:lnTo>
                        <a:pt x="593" y="49"/>
                      </a:lnTo>
                      <a:lnTo>
                        <a:pt x="592" y="49"/>
                      </a:lnTo>
                      <a:lnTo>
                        <a:pt x="591" y="49"/>
                      </a:lnTo>
                      <a:lnTo>
                        <a:pt x="589" y="49"/>
                      </a:lnTo>
                      <a:lnTo>
                        <a:pt x="588" y="48"/>
                      </a:lnTo>
                      <a:lnTo>
                        <a:pt x="587" y="48"/>
                      </a:lnTo>
                      <a:lnTo>
                        <a:pt x="586" y="48"/>
                      </a:lnTo>
                      <a:lnTo>
                        <a:pt x="585" y="48"/>
                      </a:lnTo>
                      <a:lnTo>
                        <a:pt x="584" y="48"/>
                      </a:lnTo>
                      <a:lnTo>
                        <a:pt x="583" y="48"/>
                      </a:lnTo>
                      <a:lnTo>
                        <a:pt x="581" y="48"/>
                      </a:lnTo>
                      <a:lnTo>
                        <a:pt x="581" y="46"/>
                      </a:lnTo>
                      <a:lnTo>
                        <a:pt x="581" y="45"/>
                      </a:lnTo>
                      <a:lnTo>
                        <a:pt x="581" y="44"/>
                      </a:lnTo>
                      <a:lnTo>
                        <a:pt x="580" y="43"/>
                      </a:lnTo>
                      <a:lnTo>
                        <a:pt x="580" y="42"/>
                      </a:lnTo>
                      <a:lnTo>
                        <a:pt x="580" y="41"/>
                      </a:lnTo>
                      <a:lnTo>
                        <a:pt x="580" y="39"/>
                      </a:lnTo>
                      <a:lnTo>
                        <a:pt x="579" y="39"/>
                      </a:lnTo>
                      <a:lnTo>
                        <a:pt x="579" y="38"/>
                      </a:lnTo>
                      <a:lnTo>
                        <a:pt x="579" y="37"/>
                      </a:lnTo>
                      <a:lnTo>
                        <a:pt x="579" y="36"/>
                      </a:lnTo>
                      <a:lnTo>
                        <a:pt x="578" y="36"/>
                      </a:lnTo>
                      <a:lnTo>
                        <a:pt x="578" y="35"/>
                      </a:lnTo>
                      <a:lnTo>
                        <a:pt x="578" y="34"/>
                      </a:lnTo>
                      <a:lnTo>
                        <a:pt x="577" y="33"/>
                      </a:lnTo>
                      <a:lnTo>
                        <a:pt x="573" y="27"/>
                      </a:lnTo>
                      <a:lnTo>
                        <a:pt x="572" y="27"/>
                      </a:lnTo>
                      <a:lnTo>
                        <a:pt x="571" y="26"/>
                      </a:lnTo>
                      <a:lnTo>
                        <a:pt x="570" y="26"/>
                      </a:lnTo>
                      <a:lnTo>
                        <a:pt x="567" y="24"/>
                      </a:lnTo>
                      <a:lnTo>
                        <a:pt x="566" y="24"/>
                      </a:lnTo>
                      <a:lnTo>
                        <a:pt x="564" y="23"/>
                      </a:lnTo>
                      <a:lnTo>
                        <a:pt x="562" y="23"/>
                      </a:lnTo>
                      <a:lnTo>
                        <a:pt x="559" y="22"/>
                      </a:lnTo>
                      <a:lnTo>
                        <a:pt x="557" y="22"/>
                      </a:lnTo>
                      <a:lnTo>
                        <a:pt x="555" y="21"/>
                      </a:lnTo>
                      <a:lnTo>
                        <a:pt x="552" y="21"/>
                      </a:lnTo>
                      <a:lnTo>
                        <a:pt x="550" y="20"/>
                      </a:lnTo>
                      <a:lnTo>
                        <a:pt x="547" y="19"/>
                      </a:lnTo>
                      <a:lnTo>
                        <a:pt x="544" y="19"/>
                      </a:lnTo>
                      <a:lnTo>
                        <a:pt x="542" y="17"/>
                      </a:lnTo>
                      <a:lnTo>
                        <a:pt x="539" y="17"/>
                      </a:lnTo>
                      <a:lnTo>
                        <a:pt x="536" y="16"/>
                      </a:lnTo>
                      <a:lnTo>
                        <a:pt x="534" y="16"/>
                      </a:lnTo>
                      <a:lnTo>
                        <a:pt x="531" y="15"/>
                      </a:lnTo>
                      <a:lnTo>
                        <a:pt x="528" y="15"/>
                      </a:lnTo>
                      <a:lnTo>
                        <a:pt x="526" y="14"/>
                      </a:lnTo>
                      <a:lnTo>
                        <a:pt x="524" y="14"/>
                      </a:lnTo>
                      <a:lnTo>
                        <a:pt x="520" y="14"/>
                      </a:lnTo>
                      <a:lnTo>
                        <a:pt x="518" y="13"/>
                      </a:lnTo>
                      <a:lnTo>
                        <a:pt x="517" y="13"/>
                      </a:lnTo>
                      <a:lnTo>
                        <a:pt x="514" y="13"/>
                      </a:lnTo>
                      <a:lnTo>
                        <a:pt x="512" y="12"/>
                      </a:lnTo>
                      <a:lnTo>
                        <a:pt x="511" y="12"/>
                      </a:lnTo>
                      <a:lnTo>
                        <a:pt x="509" y="12"/>
                      </a:lnTo>
                      <a:lnTo>
                        <a:pt x="507" y="12"/>
                      </a:lnTo>
                      <a:lnTo>
                        <a:pt x="506" y="12"/>
                      </a:lnTo>
                      <a:lnTo>
                        <a:pt x="505" y="12"/>
                      </a:lnTo>
                      <a:lnTo>
                        <a:pt x="499" y="9"/>
                      </a:lnTo>
                      <a:lnTo>
                        <a:pt x="492" y="8"/>
                      </a:lnTo>
                      <a:lnTo>
                        <a:pt x="485" y="6"/>
                      </a:lnTo>
                      <a:lnTo>
                        <a:pt x="479" y="5"/>
                      </a:lnTo>
                      <a:lnTo>
                        <a:pt x="472" y="4"/>
                      </a:lnTo>
                      <a:lnTo>
                        <a:pt x="465" y="2"/>
                      </a:lnTo>
                      <a:lnTo>
                        <a:pt x="457" y="1"/>
                      </a:lnTo>
                      <a:lnTo>
                        <a:pt x="450" y="1"/>
                      </a:lnTo>
                      <a:lnTo>
                        <a:pt x="442" y="0"/>
                      </a:lnTo>
                      <a:lnTo>
                        <a:pt x="435" y="0"/>
                      </a:lnTo>
                      <a:lnTo>
                        <a:pt x="427" y="0"/>
                      </a:lnTo>
                      <a:lnTo>
                        <a:pt x="418" y="0"/>
                      </a:lnTo>
                      <a:lnTo>
                        <a:pt x="410" y="0"/>
                      </a:lnTo>
                      <a:lnTo>
                        <a:pt x="402" y="1"/>
                      </a:lnTo>
                      <a:lnTo>
                        <a:pt x="394" y="2"/>
                      </a:lnTo>
                      <a:lnTo>
                        <a:pt x="386" y="2"/>
                      </a:lnTo>
                      <a:lnTo>
                        <a:pt x="378" y="5"/>
                      </a:lnTo>
                      <a:lnTo>
                        <a:pt x="370" y="6"/>
                      </a:lnTo>
                      <a:lnTo>
                        <a:pt x="362" y="8"/>
                      </a:lnTo>
                      <a:lnTo>
                        <a:pt x="353" y="9"/>
                      </a:lnTo>
                      <a:lnTo>
                        <a:pt x="344" y="12"/>
                      </a:lnTo>
                      <a:lnTo>
                        <a:pt x="335" y="15"/>
                      </a:lnTo>
                      <a:lnTo>
                        <a:pt x="327" y="17"/>
                      </a:lnTo>
                      <a:lnTo>
                        <a:pt x="318" y="21"/>
                      </a:lnTo>
                      <a:lnTo>
                        <a:pt x="310" y="24"/>
                      </a:lnTo>
                      <a:lnTo>
                        <a:pt x="301" y="28"/>
                      </a:lnTo>
                      <a:lnTo>
                        <a:pt x="292" y="33"/>
                      </a:lnTo>
                      <a:lnTo>
                        <a:pt x="283" y="37"/>
                      </a:lnTo>
                      <a:lnTo>
                        <a:pt x="275" y="42"/>
                      </a:lnTo>
                      <a:lnTo>
                        <a:pt x="266" y="48"/>
                      </a:lnTo>
                      <a:lnTo>
                        <a:pt x="257" y="52"/>
                      </a:lnTo>
                      <a:lnTo>
                        <a:pt x="249" y="58"/>
                      </a:lnTo>
                      <a:lnTo>
                        <a:pt x="244" y="61"/>
                      </a:lnTo>
                      <a:lnTo>
                        <a:pt x="240" y="64"/>
                      </a:lnTo>
                      <a:lnTo>
                        <a:pt x="237" y="67"/>
                      </a:lnTo>
                      <a:lnTo>
                        <a:pt x="234" y="71"/>
                      </a:lnTo>
                      <a:lnTo>
                        <a:pt x="231" y="75"/>
                      </a:lnTo>
                      <a:lnTo>
                        <a:pt x="229" y="80"/>
                      </a:lnTo>
                      <a:lnTo>
                        <a:pt x="227" y="84"/>
                      </a:lnTo>
                      <a:lnTo>
                        <a:pt x="224" y="90"/>
                      </a:lnTo>
                      <a:lnTo>
                        <a:pt x="223" y="95"/>
                      </a:lnTo>
                      <a:lnTo>
                        <a:pt x="222" y="101"/>
                      </a:lnTo>
                      <a:lnTo>
                        <a:pt x="221" y="108"/>
                      </a:lnTo>
                      <a:lnTo>
                        <a:pt x="220" y="113"/>
                      </a:lnTo>
                      <a:lnTo>
                        <a:pt x="220" y="119"/>
                      </a:lnTo>
                      <a:lnTo>
                        <a:pt x="219" y="126"/>
                      </a:lnTo>
                      <a:lnTo>
                        <a:pt x="219" y="132"/>
                      </a:lnTo>
                      <a:lnTo>
                        <a:pt x="217" y="139"/>
                      </a:lnTo>
                      <a:lnTo>
                        <a:pt x="217" y="146"/>
                      </a:lnTo>
                      <a:lnTo>
                        <a:pt x="217" y="151"/>
                      </a:lnTo>
                      <a:lnTo>
                        <a:pt x="216" y="158"/>
                      </a:lnTo>
                      <a:lnTo>
                        <a:pt x="216" y="164"/>
                      </a:lnTo>
                      <a:lnTo>
                        <a:pt x="216" y="171"/>
                      </a:lnTo>
                      <a:lnTo>
                        <a:pt x="215" y="177"/>
                      </a:lnTo>
                      <a:lnTo>
                        <a:pt x="215" y="184"/>
                      </a:lnTo>
                      <a:lnTo>
                        <a:pt x="214" y="190"/>
                      </a:lnTo>
                      <a:lnTo>
                        <a:pt x="213" y="195"/>
                      </a:lnTo>
                      <a:lnTo>
                        <a:pt x="212" y="200"/>
                      </a:lnTo>
                      <a:lnTo>
                        <a:pt x="210" y="206"/>
                      </a:lnTo>
                      <a:lnTo>
                        <a:pt x="209" y="210"/>
                      </a:lnTo>
                      <a:lnTo>
                        <a:pt x="208" y="215"/>
                      </a:lnTo>
                      <a:lnTo>
                        <a:pt x="206" y="218"/>
                      </a:lnTo>
                      <a:lnTo>
                        <a:pt x="204" y="222"/>
                      </a:lnTo>
                      <a:lnTo>
                        <a:pt x="201" y="225"/>
                      </a:lnTo>
                      <a:lnTo>
                        <a:pt x="201" y="228"/>
                      </a:lnTo>
                      <a:lnTo>
                        <a:pt x="201" y="229"/>
                      </a:lnTo>
                      <a:lnTo>
                        <a:pt x="201" y="231"/>
                      </a:lnTo>
                      <a:lnTo>
                        <a:pt x="201" y="232"/>
                      </a:lnTo>
                      <a:lnTo>
                        <a:pt x="202" y="234"/>
                      </a:lnTo>
                      <a:lnTo>
                        <a:pt x="202" y="235"/>
                      </a:lnTo>
                      <a:lnTo>
                        <a:pt x="202" y="237"/>
                      </a:lnTo>
                      <a:lnTo>
                        <a:pt x="204" y="238"/>
                      </a:lnTo>
                      <a:lnTo>
                        <a:pt x="204" y="239"/>
                      </a:lnTo>
                      <a:lnTo>
                        <a:pt x="205" y="240"/>
                      </a:lnTo>
                      <a:lnTo>
                        <a:pt x="205" y="242"/>
                      </a:lnTo>
                      <a:lnTo>
                        <a:pt x="206" y="243"/>
                      </a:lnTo>
                      <a:lnTo>
                        <a:pt x="206" y="244"/>
                      </a:lnTo>
                      <a:lnTo>
                        <a:pt x="207" y="245"/>
                      </a:lnTo>
                      <a:lnTo>
                        <a:pt x="208" y="246"/>
                      </a:lnTo>
                      <a:lnTo>
                        <a:pt x="209" y="247"/>
                      </a:lnTo>
                      <a:lnTo>
                        <a:pt x="209" y="249"/>
                      </a:lnTo>
                      <a:lnTo>
                        <a:pt x="210" y="250"/>
                      </a:lnTo>
                      <a:lnTo>
                        <a:pt x="212" y="251"/>
                      </a:lnTo>
                      <a:lnTo>
                        <a:pt x="212" y="252"/>
                      </a:lnTo>
                      <a:lnTo>
                        <a:pt x="213" y="252"/>
                      </a:lnTo>
                      <a:lnTo>
                        <a:pt x="213" y="253"/>
                      </a:lnTo>
                      <a:lnTo>
                        <a:pt x="213" y="254"/>
                      </a:lnTo>
                      <a:lnTo>
                        <a:pt x="214" y="254"/>
                      </a:lnTo>
                      <a:lnTo>
                        <a:pt x="214" y="255"/>
                      </a:lnTo>
                      <a:lnTo>
                        <a:pt x="214" y="257"/>
                      </a:lnTo>
                      <a:lnTo>
                        <a:pt x="215" y="257"/>
                      </a:lnTo>
                      <a:lnTo>
                        <a:pt x="215" y="258"/>
                      </a:lnTo>
                      <a:lnTo>
                        <a:pt x="215" y="259"/>
                      </a:lnTo>
                      <a:lnTo>
                        <a:pt x="215" y="261"/>
                      </a:lnTo>
                      <a:lnTo>
                        <a:pt x="215" y="265"/>
                      </a:lnTo>
                      <a:lnTo>
                        <a:pt x="215" y="267"/>
                      </a:lnTo>
                      <a:lnTo>
                        <a:pt x="214" y="269"/>
                      </a:lnTo>
                      <a:lnTo>
                        <a:pt x="214" y="272"/>
                      </a:lnTo>
                      <a:lnTo>
                        <a:pt x="214" y="273"/>
                      </a:lnTo>
                      <a:lnTo>
                        <a:pt x="213" y="275"/>
                      </a:lnTo>
                      <a:lnTo>
                        <a:pt x="213" y="276"/>
                      </a:lnTo>
                      <a:lnTo>
                        <a:pt x="213" y="279"/>
                      </a:lnTo>
                      <a:lnTo>
                        <a:pt x="212" y="280"/>
                      </a:lnTo>
                      <a:lnTo>
                        <a:pt x="212" y="281"/>
                      </a:lnTo>
                      <a:lnTo>
                        <a:pt x="210" y="283"/>
                      </a:lnTo>
                      <a:lnTo>
                        <a:pt x="210" y="284"/>
                      </a:lnTo>
                      <a:lnTo>
                        <a:pt x="210" y="285"/>
                      </a:lnTo>
                      <a:lnTo>
                        <a:pt x="209" y="287"/>
                      </a:lnTo>
                      <a:lnTo>
                        <a:pt x="209" y="288"/>
                      </a:lnTo>
                      <a:lnTo>
                        <a:pt x="208" y="289"/>
                      </a:lnTo>
                      <a:lnTo>
                        <a:pt x="208" y="290"/>
                      </a:lnTo>
                      <a:lnTo>
                        <a:pt x="207" y="291"/>
                      </a:lnTo>
                      <a:lnTo>
                        <a:pt x="206" y="292"/>
                      </a:lnTo>
                      <a:lnTo>
                        <a:pt x="206" y="294"/>
                      </a:lnTo>
                      <a:lnTo>
                        <a:pt x="206" y="295"/>
                      </a:lnTo>
                      <a:lnTo>
                        <a:pt x="205" y="296"/>
                      </a:lnTo>
                      <a:lnTo>
                        <a:pt x="205" y="297"/>
                      </a:lnTo>
                      <a:lnTo>
                        <a:pt x="205" y="298"/>
                      </a:lnTo>
                      <a:lnTo>
                        <a:pt x="204" y="299"/>
                      </a:lnTo>
                      <a:lnTo>
                        <a:pt x="204" y="301"/>
                      </a:lnTo>
                      <a:lnTo>
                        <a:pt x="204" y="302"/>
                      </a:lnTo>
                      <a:lnTo>
                        <a:pt x="204" y="303"/>
                      </a:lnTo>
                      <a:lnTo>
                        <a:pt x="204" y="305"/>
                      </a:lnTo>
                      <a:lnTo>
                        <a:pt x="204" y="306"/>
                      </a:lnTo>
                      <a:lnTo>
                        <a:pt x="204" y="307"/>
                      </a:lnTo>
                      <a:lnTo>
                        <a:pt x="204" y="309"/>
                      </a:lnTo>
                      <a:lnTo>
                        <a:pt x="204" y="310"/>
                      </a:lnTo>
                      <a:lnTo>
                        <a:pt x="204" y="311"/>
                      </a:lnTo>
                      <a:lnTo>
                        <a:pt x="205" y="312"/>
                      </a:lnTo>
                      <a:lnTo>
                        <a:pt x="205" y="313"/>
                      </a:lnTo>
                      <a:lnTo>
                        <a:pt x="205" y="314"/>
                      </a:lnTo>
                      <a:lnTo>
                        <a:pt x="206" y="316"/>
                      </a:lnTo>
                      <a:lnTo>
                        <a:pt x="207" y="317"/>
                      </a:lnTo>
                      <a:lnTo>
                        <a:pt x="208" y="318"/>
                      </a:lnTo>
                      <a:lnTo>
                        <a:pt x="209" y="318"/>
                      </a:lnTo>
                      <a:lnTo>
                        <a:pt x="209" y="319"/>
                      </a:lnTo>
                      <a:lnTo>
                        <a:pt x="210" y="319"/>
                      </a:lnTo>
                      <a:lnTo>
                        <a:pt x="212" y="320"/>
                      </a:lnTo>
                      <a:lnTo>
                        <a:pt x="213" y="320"/>
                      </a:lnTo>
                      <a:lnTo>
                        <a:pt x="213" y="321"/>
                      </a:lnTo>
                      <a:lnTo>
                        <a:pt x="214" y="322"/>
                      </a:lnTo>
                      <a:lnTo>
                        <a:pt x="215" y="322"/>
                      </a:lnTo>
                      <a:lnTo>
                        <a:pt x="216" y="324"/>
                      </a:lnTo>
                      <a:lnTo>
                        <a:pt x="217" y="324"/>
                      </a:lnTo>
                      <a:lnTo>
                        <a:pt x="219" y="325"/>
                      </a:lnTo>
                      <a:lnTo>
                        <a:pt x="220" y="326"/>
                      </a:lnTo>
                      <a:lnTo>
                        <a:pt x="221" y="327"/>
                      </a:lnTo>
                      <a:lnTo>
                        <a:pt x="222" y="328"/>
                      </a:lnTo>
                      <a:lnTo>
                        <a:pt x="223" y="329"/>
                      </a:lnTo>
                      <a:lnTo>
                        <a:pt x="224" y="331"/>
                      </a:lnTo>
                      <a:lnTo>
                        <a:pt x="225" y="332"/>
                      </a:lnTo>
                      <a:lnTo>
                        <a:pt x="227" y="334"/>
                      </a:lnTo>
                      <a:lnTo>
                        <a:pt x="228" y="335"/>
                      </a:lnTo>
                      <a:lnTo>
                        <a:pt x="229" y="337"/>
                      </a:lnTo>
                      <a:lnTo>
                        <a:pt x="228" y="337"/>
                      </a:lnTo>
                      <a:lnTo>
                        <a:pt x="227" y="337"/>
                      </a:lnTo>
                      <a:lnTo>
                        <a:pt x="225" y="336"/>
                      </a:lnTo>
                      <a:lnTo>
                        <a:pt x="224" y="336"/>
                      </a:lnTo>
                      <a:lnTo>
                        <a:pt x="223" y="336"/>
                      </a:lnTo>
                      <a:lnTo>
                        <a:pt x="222" y="336"/>
                      </a:lnTo>
                      <a:lnTo>
                        <a:pt x="221" y="335"/>
                      </a:lnTo>
                      <a:lnTo>
                        <a:pt x="220" y="335"/>
                      </a:lnTo>
                      <a:lnTo>
                        <a:pt x="219" y="335"/>
                      </a:lnTo>
                      <a:lnTo>
                        <a:pt x="217" y="335"/>
                      </a:lnTo>
                      <a:lnTo>
                        <a:pt x="216" y="334"/>
                      </a:lnTo>
                      <a:lnTo>
                        <a:pt x="215" y="334"/>
                      </a:lnTo>
                      <a:lnTo>
                        <a:pt x="214" y="334"/>
                      </a:lnTo>
                      <a:lnTo>
                        <a:pt x="213" y="333"/>
                      </a:lnTo>
                      <a:lnTo>
                        <a:pt x="212" y="333"/>
                      </a:lnTo>
                      <a:lnTo>
                        <a:pt x="210" y="333"/>
                      </a:lnTo>
                      <a:lnTo>
                        <a:pt x="209" y="333"/>
                      </a:lnTo>
                      <a:lnTo>
                        <a:pt x="208" y="332"/>
                      </a:lnTo>
                      <a:lnTo>
                        <a:pt x="207" y="332"/>
                      </a:lnTo>
                      <a:lnTo>
                        <a:pt x="206" y="332"/>
                      </a:lnTo>
                      <a:lnTo>
                        <a:pt x="205" y="332"/>
                      </a:lnTo>
                      <a:lnTo>
                        <a:pt x="204" y="332"/>
                      </a:lnTo>
                      <a:lnTo>
                        <a:pt x="202" y="332"/>
                      </a:lnTo>
                      <a:lnTo>
                        <a:pt x="201" y="332"/>
                      </a:lnTo>
                      <a:lnTo>
                        <a:pt x="200" y="332"/>
                      </a:lnTo>
                      <a:lnTo>
                        <a:pt x="198" y="332"/>
                      </a:lnTo>
                      <a:lnTo>
                        <a:pt x="197" y="332"/>
                      </a:lnTo>
                      <a:lnTo>
                        <a:pt x="194" y="332"/>
                      </a:lnTo>
                      <a:lnTo>
                        <a:pt x="192" y="332"/>
                      </a:lnTo>
                      <a:lnTo>
                        <a:pt x="190" y="332"/>
                      </a:lnTo>
                      <a:lnTo>
                        <a:pt x="187" y="332"/>
                      </a:lnTo>
                      <a:lnTo>
                        <a:pt x="185" y="333"/>
                      </a:lnTo>
                      <a:lnTo>
                        <a:pt x="183" y="334"/>
                      </a:lnTo>
                      <a:lnTo>
                        <a:pt x="182" y="334"/>
                      </a:lnTo>
                      <a:lnTo>
                        <a:pt x="179" y="335"/>
                      </a:lnTo>
                      <a:lnTo>
                        <a:pt x="177" y="336"/>
                      </a:lnTo>
                      <a:lnTo>
                        <a:pt x="175" y="337"/>
                      </a:lnTo>
                      <a:lnTo>
                        <a:pt x="173" y="339"/>
                      </a:lnTo>
                      <a:lnTo>
                        <a:pt x="171" y="340"/>
                      </a:lnTo>
                      <a:lnTo>
                        <a:pt x="169" y="341"/>
                      </a:lnTo>
                      <a:lnTo>
                        <a:pt x="167" y="342"/>
                      </a:lnTo>
                      <a:lnTo>
                        <a:pt x="165" y="343"/>
                      </a:lnTo>
                      <a:lnTo>
                        <a:pt x="163" y="344"/>
                      </a:lnTo>
                      <a:lnTo>
                        <a:pt x="161" y="346"/>
                      </a:lnTo>
                      <a:lnTo>
                        <a:pt x="160" y="348"/>
                      </a:lnTo>
                      <a:lnTo>
                        <a:pt x="157" y="349"/>
                      </a:lnTo>
                      <a:lnTo>
                        <a:pt x="156" y="350"/>
                      </a:lnTo>
                      <a:lnTo>
                        <a:pt x="154" y="351"/>
                      </a:lnTo>
                      <a:lnTo>
                        <a:pt x="152" y="354"/>
                      </a:lnTo>
                      <a:lnTo>
                        <a:pt x="150" y="355"/>
                      </a:lnTo>
                      <a:lnTo>
                        <a:pt x="148" y="356"/>
                      </a:lnTo>
                      <a:lnTo>
                        <a:pt x="147" y="357"/>
                      </a:lnTo>
                      <a:lnTo>
                        <a:pt x="145" y="358"/>
                      </a:lnTo>
                      <a:lnTo>
                        <a:pt x="142" y="361"/>
                      </a:lnTo>
                      <a:lnTo>
                        <a:pt x="141" y="362"/>
                      </a:lnTo>
                      <a:lnTo>
                        <a:pt x="139" y="363"/>
                      </a:lnTo>
                      <a:lnTo>
                        <a:pt x="137" y="364"/>
                      </a:lnTo>
                      <a:lnTo>
                        <a:pt x="135" y="365"/>
                      </a:lnTo>
                      <a:lnTo>
                        <a:pt x="133" y="366"/>
                      </a:lnTo>
                      <a:lnTo>
                        <a:pt x="128" y="368"/>
                      </a:lnTo>
                      <a:lnTo>
                        <a:pt x="125" y="370"/>
                      </a:lnTo>
                      <a:lnTo>
                        <a:pt x="120" y="372"/>
                      </a:lnTo>
                      <a:lnTo>
                        <a:pt x="117" y="373"/>
                      </a:lnTo>
                      <a:lnTo>
                        <a:pt x="112" y="376"/>
                      </a:lnTo>
                      <a:lnTo>
                        <a:pt x="108" y="378"/>
                      </a:lnTo>
                      <a:lnTo>
                        <a:pt x="104" y="380"/>
                      </a:lnTo>
                      <a:lnTo>
                        <a:pt x="100" y="383"/>
                      </a:lnTo>
                      <a:lnTo>
                        <a:pt x="95" y="384"/>
                      </a:lnTo>
                      <a:lnTo>
                        <a:pt x="91" y="386"/>
                      </a:lnTo>
                      <a:lnTo>
                        <a:pt x="87" y="388"/>
                      </a:lnTo>
                      <a:lnTo>
                        <a:pt x="82" y="391"/>
                      </a:lnTo>
                      <a:lnTo>
                        <a:pt x="78" y="393"/>
                      </a:lnTo>
                      <a:lnTo>
                        <a:pt x="74" y="394"/>
                      </a:lnTo>
                      <a:lnTo>
                        <a:pt x="69" y="396"/>
                      </a:lnTo>
                      <a:lnTo>
                        <a:pt x="65" y="399"/>
                      </a:lnTo>
                      <a:lnTo>
                        <a:pt x="60" y="401"/>
                      </a:lnTo>
                      <a:lnTo>
                        <a:pt x="57" y="403"/>
                      </a:lnTo>
                      <a:lnTo>
                        <a:pt x="52" y="406"/>
                      </a:lnTo>
                      <a:lnTo>
                        <a:pt x="48" y="407"/>
                      </a:lnTo>
                      <a:lnTo>
                        <a:pt x="44" y="409"/>
                      </a:lnTo>
                      <a:lnTo>
                        <a:pt x="39" y="411"/>
                      </a:lnTo>
                      <a:lnTo>
                        <a:pt x="35" y="414"/>
                      </a:lnTo>
                      <a:lnTo>
                        <a:pt x="31" y="415"/>
                      </a:lnTo>
                      <a:lnTo>
                        <a:pt x="27" y="417"/>
                      </a:lnTo>
                      <a:lnTo>
                        <a:pt x="23" y="419"/>
                      </a:lnTo>
                      <a:lnTo>
                        <a:pt x="19" y="421"/>
                      </a:lnTo>
                      <a:lnTo>
                        <a:pt x="15" y="423"/>
                      </a:lnTo>
                      <a:lnTo>
                        <a:pt x="12" y="424"/>
                      </a:lnTo>
                      <a:lnTo>
                        <a:pt x="7" y="426"/>
                      </a:lnTo>
                      <a:lnTo>
                        <a:pt x="4" y="428"/>
                      </a:lnTo>
                      <a:lnTo>
                        <a:pt x="0" y="430"/>
                      </a:lnTo>
                      <a:lnTo>
                        <a:pt x="0" y="1204"/>
                      </a:lnTo>
                      <a:lnTo>
                        <a:pt x="2800" y="1204"/>
                      </a:lnTo>
                      <a:lnTo>
                        <a:pt x="2800" y="857"/>
                      </a:lnTo>
                      <a:lnTo>
                        <a:pt x="2800" y="852"/>
                      </a:lnTo>
                      <a:lnTo>
                        <a:pt x="2799" y="846"/>
                      </a:lnTo>
                      <a:lnTo>
                        <a:pt x="2799" y="840"/>
                      </a:lnTo>
                      <a:lnTo>
                        <a:pt x="2798" y="835"/>
                      </a:lnTo>
                      <a:lnTo>
                        <a:pt x="2798" y="832"/>
                      </a:lnTo>
                      <a:lnTo>
                        <a:pt x="2796" y="828"/>
                      </a:lnTo>
                      <a:lnTo>
                        <a:pt x="2796" y="825"/>
                      </a:lnTo>
                      <a:lnTo>
                        <a:pt x="2795" y="821"/>
                      </a:lnTo>
                      <a:lnTo>
                        <a:pt x="2795" y="819"/>
                      </a:lnTo>
                      <a:lnTo>
                        <a:pt x="2794" y="817"/>
                      </a:lnTo>
                      <a:lnTo>
                        <a:pt x="2794" y="816"/>
                      </a:lnTo>
                      <a:lnTo>
                        <a:pt x="2793" y="813"/>
                      </a:lnTo>
                      <a:lnTo>
                        <a:pt x="2793" y="812"/>
                      </a:lnTo>
                      <a:lnTo>
                        <a:pt x="2792" y="810"/>
                      </a:lnTo>
                      <a:lnTo>
                        <a:pt x="2791" y="809"/>
                      </a:lnTo>
                      <a:lnTo>
                        <a:pt x="2791" y="808"/>
                      </a:lnTo>
                      <a:lnTo>
                        <a:pt x="2789" y="805"/>
                      </a:lnTo>
                      <a:lnTo>
                        <a:pt x="2788" y="804"/>
                      </a:lnTo>
                      <a:lnTo>
                        <a:pt x="2788" y="802"/>
                      </a:lnTo>
                      <a:lnTo>
                        <a:pt x="2787" y="801"/>
                      </a:lnTo>
                      <a:lnTo>
                        <a:pt x="2786" y="798"/>
                      </a:lnTo>
                      <a:lnTo>
                        <a:pt x="2785" y="796"/>
                      </a:lnTo>
                      <a:lnTo>
                        <a:pt x="2784" y="793"/>
                      </a:lnTo>
                      <a:lnTo>
                        <a:pt x="2783" y="790"/>
                      </a:lnTo>
                      <a:lnTo>
                        <a:pt x="2781" y="787"/>
                      </a:lnTo>
                      <a:lnTo>
                        <a:pt x="2780" y="782"/>
                      </a:lnTo>
                      <a:lnTo>
                        <a:pt x="2779" y="778"/>
                      </a:lnTo>
                      <a:lnTo>
                        <a:pt x="2778" y="773"/>
                      </a:lnTo>
                      <a:lnTo>
                        <a:pt x="2776" y="767"/>
                      </a:lnTo>
                      <a:lnTo>
                        <a:pt x="2774" y="761"/>
                      </a:lnTo>
                      <a:lnTo>
                        <a:pt x="2773" y="754"/>
                      </a:lnTo>
                      <a:lnTo>
                        <a:pt x="2771" y="748"/>
                      </a:lnTo>
                      <a:lnTo>
                        <a:pt x="2771" y="744"/>
                      </a:lnTo>
                      <a:lnTo>
                        <a:pt x="2770" y="739"/>
                      </a:lnTo>
                      <a:lnTo>
                        <a:pt x="2770" y="735"/>
                      </a:lnTo>
                      <a:lnTo>
                        <a:pt x="2769" y="729"/>
                      </a:lnTo>
                      <a:lnTo>
                        <a:pt x="2769" y="722"/>
                      </a:lnTo>
                      <a:lnTo>
                        <a:pt x="2767" y="716"/>
                      </a:lnTo>
                      <a:lnTo>
                        <a:pt x="2767" y="708"/>
                      </a:lnTo>
                      <a:lnTo>
                        <a:pt x="2766" y="700"/>
                      </a:lnTo>
                      <a:lnTo>
                        <a:pt x="2765" y="692"/>
                      </a:lnTo>
                      <a:lnTo>
                        <a:pt x="2764" y="683"/>
                      </a:lnTo>
                      <a:lnTo>
                        <a:pt x="2763" y="674"/>
                      </a:lnTo>
                      <a:lnTo>
                        <a:pt x="2762" y="664"/>
                      </a:lnTo>
                      <a:lnTo>
                        <a:pt x="2761" y="655"/>
                      </a:lnTo>
                      <a:lnTo>
                        <a:pt x="2758" y="645"/>
                      </a:lnTo>
                      <a:lnTo>
                        <a:pt x="2756" y="634"/>
                      </a:lnTo>
                      <a:lnTo>
                        <a:pt x="2755" y="624"/>
                      </a:lnTo>
                      <a:lnTo>
                        <a:pt x="2751" y="614"/>
                      </a:lnTo>
                      <a:lnTo>
                        <a:pt x="2749" y="603"/>
                      </a:lnTo>
                      <a:lnTo>
                        <a:pt x="2747" y="592"/>
                      </a:lnTo>
                      <a:lnTo>
                        <a:pt x="2743" y="581"/>
                      </a:lnTo>
                      <a:lnTo>
                        <a:pt x="2740" y="571"/>
                      </a:lnTo>
                      <a:lnTo>
                        <a:pt x="2735" y="560"/>
                      </a:lnTo>
                      <a:lnTo>
                        <a:pt x="2731" y="550"/>
                      </a:lnTo>
                      <a:lnTo>
                        <a:pt x="2726" y="541"/>
                      </a:lnTo>
                      <a:lnTo>
                        <a:pt x="2721" y="530"/>
                      </a:lnTo>
                      <a:lnTo>
                        <a:pt x="2715" y="521"/>
                      </a:lnTo>
                      <a:lnTo>
                        <a:pt x="2710" y="512"/>
                      </a:lnTo>
                      <a:lnTo>
                        <a:pt x="2703" y="503"/>
                      </a:lnTo>
                      <a:lnTo>
                        <a:pt x="2696" y="495"/>
                      </a:lnTo>
                      <a:lnTo>
                        <a:pt x="2689" y="486"/>
                      </a:lnTo>
                      <a:lnTo>
                        <a:pt x="2681" y="480"/>
                      </a:lnTo>
                      <a:lnTo>
                        <a:pt x="2673" y="473"/>
                      </a:lnTo>
                      <a:lnTo>
                        <a:pt x="2672" y="473"/>
                      </a:lnTo>
                      <a:lnTo>
                        <a:pt x="2670" y="471"/>
                      </a:lnTo>
                      <a:lnTo>
                        <a:pt x="2669" y="471"/>
                      </a:lnTo>
                      <a:lnTo>
                        <a:pt x="2669" y="470"/>
                      </a:lnTo>
                      <a:lnTo>
                        <a:pt x="2668" y="470"/>
                      </a:lnTo>
                      <a:lnTo>
                        <a:pt x="2668" y="469"/>
                      </a:lnTo>
                      <a:lnTo>
                        <a:pt x="2667" y="469"/>
                      </a:lnTo>
                      <a:lnTo>
                        <a:pt x="2666" y="468"/>
                      </a:lnTo>
                      <a:lnTo>
                        <a:pt x="2665" y="467"/>
                      </a:lnTo>
                      <a:lnTo>
                        <a:pt x="2663" y="466"/>
                      </a:lnTo>
                      <a:lnTo>
                        <a:pt x="2662" y="465"/>
                      </a:lnTo>
                      <a:lnTo>
                        <a:pt x="2661" y="463"/>
                      </a:lnTo>
                      <a:lnTo>
                        <a:pt x="2660" y="462"/>
                      </a:lnTo>
                      <a:lnTo>
                        <a:pt x="2659" y="461"/>
                      </a:lnTo>
                      <a:lnTo>
                        <a:pt x="2658" y="461"/>
                      </a:lnTo>
                      <a:lnTo>
                        <a:pt x="2658" y="460"/>
                      </a:lnTo>
                      <a:lnTo>
                        <a:pt x="2657" y="459"/>
                      </a:lnTo>
                      <a:lnTo>
                        <a:pt x="2655" y="458"/>
                      </a:lnTo>
                      <a:lnTo>
                        <a:pt x="2654" y="456"/>
                      </a:lnTo>
                      <a:lnTo>
                        <a:pt x="2653" y="455"/>
                      </a:lnTo>
                      <a:lnTo>
                        <a:pt x="2653" y="454"/>
                      </a:lnTo>
                      <a:lnTo>
                        <a:pt x="2652" y="454"/>
                      </a:lnTo>
                      <a:lnTo>
                        <a:pt x="2651" y="453"/>
                      </a:lnTo>
                      <a:lnTo>
                        <a:pt x="2650" y="452"/>
                      </a:lnTo>
                      <a:lnTo>
                        <a:pt x="2650" y="451"/>
                      </a:lnTo>
                      <a:lnTo>
                        <a:pt x="2651" y="451"/>
                      </a:lnTo>
                      <a:lnTo>
                        <a:pt x="2652" y="451"/>
                      </a:lnTo>
                      <a:lnTo>
                        <a:pt x="2653" y="450"/>
                      </a:lnTo>
                      <a:lnTo>
                        <a:pt x="2654" y="450"/>
                      </a:lnTo>
                      <a:lnTo>
                        <a:pt x="2654" y="447"/>
                      </a:lnTo>
                      <a:lnTo>
                        <a:pt x="2653" y="446"/>
                      </a:lnTo>
                      <a:lnTo>
                        <a:pt x="2652" y="445"/>
                      </a:lnTo>
                      <a:lnTo>
                        <a:pt x="2651" y="443"/>
                      </a:lnTo>
                      <a:lnTo>
                        <a:pt x="2650" y="441"/>
                      </a:lnTo>
                      <a:lnTo>
                        <a:pt x="2648" y="440"/>
                      </a:lnTo>
                      <a:lnTo>
                        <a:pt x="2647" y="438"/>
                      </a:lnTo>
                      <a:lnTo>
                        <a:pt x="2646" y="437"/>
                      </a:lnTo>
                      <a:lnTo>
                        <a:pt x="2646" y="436"/>
                      </a:lnTo>
                      <a:lnTo>
                        <a:pt x="2645" y="435"/>
                      </a:lnTo>
                      <a:lnTo>
                        <a:pt x="2644" y="432"/>
                      </a:lnTo>
                      <a:lnTo>
                        <a:pt x="2644" y="431"/>
                      </a:lnTo>
                      <a:lnTo>
                        <a:pt x="2643" y="430"/>
                      </a:lnTo>
                      <a:lnTo>
                        <a:pt x="2642" y="429"/>
                      </a:lnTo>
                      <a:lnTo>
                        <a:pt x="2642" y="428"/>
                      </a:lnTo>
                      <a:lnTo>
                        <a:pt x="2640" y="426"/>
                      </a:lnTo>
                      <a:lnTo>
                        <a:pt x="2640" y="425"/>
                      </a:lnTo>
                      <a:lnTo>
                        <a:pt x="2639" y="424"/>
                      </a:lnTo>
                      <a:lnTo>
                        <a:pt x="2639" y="423"/>
                      </a:lnTo>
                      <a:lnTo>
                        <a:pt x="2638" y="422"/>
                      </a:lnTo>
                      <a:lnTo>
                        <a:pt x="2638" y="421"/>
                      </a:lnTo>
                      <a:lnTo>
                        <a:pt x="2637" y="419"/>
                      </a:lnTo>
                      <a:lnTo>
                        <a:pt x="2637" y="418"/>
                      </a:lnTo>
                      <a:lnTo>
                        <a:pt x="2636" y="417"/>
                      </a:lnTo>
                      <a:lnTo>
                        <a:pt x="2636" y="416"/>
                      </a:lnTo>
                      <a:lnTo>
                        <a:pt x="2635" y="416"/>
                      </a:lnTo>
                      <a:lnTo>
                        <a:pt x="2635" y="415"/>
                      </a:lnTo>
                      <a:lnTo>
                        <a:pt x="2633" y="415"/>
                      </a:lnTo>
                      <a:lnTo>
                        <a:pt x="2633" y="414"/>
                      </a:lnTo>
                      <a:lnTo>
                        <a:pt x="2632" y="414"/>
                      </a:lnTo>
                      <a:lnTo>
                        <a:pt x="2631" y="414"/>
                      </a:lnTo>
                      <a:lnTo>
                        <a:pt x="2631" y="413"/>
                      </a:lnTo>
                      <a:lnTo>
                        <a:pt x="2630" y="413"/>
                      </a:lnTo>
                      <a:lnTo>
                        <a:pt x="2630" y="414"/>
                      </a:lnTo>
                      <a:lnTo>
                        <a:pt x="2629" y="414"/>
                      </a:lnTo>
                      <a:lnTo>
                        <a:pt x="2628" y="414"/>
                      </a:lnTo>
                      <a:lnTo>
                        <a:pt x="2627" y="414"/>
                      </a:lnTo>
                      <a:lnTo>
                        <a:pt x="2630" y="389"/>
                      </a:lnTo>
                      <a:lnTo>
                        <a:pt x="2633" y="389"/>
                      </a:lnTo>
                      <a:lnTo>
                        <a:pt x="2637" y="389"/>
                      </a:lnTo>
                      <a:lnTo>
                        <a:pt x="2640" y="389"/>
                      </a:lnTo>
                      <a:lnTo>
                        <a:pt x="2644" y="389"/>
                      </a:lnTo>
                      <a:lnTo>
                        <a:pt x="2647" y="388"/>
                      </a:lnTo>
                      <a:lnTo>
                        <a:pt x="2651" y="388"/>
                      </a:lnTo>
                      <a:lnTo>
                        <a:pt x="2655" y="388"/>
                      </a:lnTo>
                      <a:lnTo>
                        <a:pt x="2659" y="388"/>
                      </a:lnTo>
                      <a:lnTo>
                        <a:pt x="2662" y="388"/>
                      </a:lnTo>
                      <a:lnTo>
                        <a:pt x="2666" y="387"/>
                      </a:lnTo>
                      <a:lnTo>
                        <a:pt x="2669" y="387"/>
                      </a:lnTo>
                      <a:lnTo>
                        <a:pt x="2674" y="386"/>
                      </a:lnTo>
                      <a:lnTo>
                        <a:pt x="2677" y="385"/>
                      </a:lnTo>
                      <a:lnTo>
                        <a:pt x="2681" y="384"/>
                      </a:lnTo>
                      <a:lnTo>
                        <a:pt x="2684" y="383"/>
                      </a:lnTo>
                      <a:lnTo>
                        <a:pt x="2688" y="381"/>
                      </a:lnTo>
                      <a:lnTo>
                        <a:pt x="2691" y="379"/>
                      </a:lnTo>
                      <a:lnTo>
                        <a:pt x="2695" y="378"/>
                      </a:lnTo>
                      <a:lnTo>
                        <a:pt x="2698" y="376"/>
                      </a:lnTo>
                      <a:lnTo>
                        <a:pt x="2702" y="373"/>
                      </a:lnTo>
                      <a:lnTo>
                        <a:pt x="2705" y="371"/>
                      </a:lnTo>
                      <a:lnTo>
                        <a:pt x="2707" y="369"/>
                      </a:lnTo>
                      <a:lnTo>
                        <a:pt x="2711" y="365"/>
                      </a:lnTo>
                      <a:lnTo>
                        <a:pt x="2713" y="362"/>
                      </a:lnTo>
                      <a:lnTo>
                        <a:pt x="2715" y="358"/>
                      </a:lnTo>
                      <a:lnTo>
                        <a:pt x="2719" y="354"/>
                      </a:lnTo>
                      <a:lnTo>
                        <a:pt x="2721" y="350"/>
                      </a:lnTo>
                      <a:lnTo>
                        <a:pt x="2722" y="346"/>
                      </a:lnTo>
                      <a:lnTo>
                        <a:pt x="2725" y="340"/>
                      </a:lnTo>
                      <a:lnTo>
                        <a:pt x="2727" y="335"/>
                      </a:lnTo>
                      <a:lnTo>
                        <a:pt x="2728" y="329"/>
                      </a:lnTo>
                      <a:lnTo>
                        <a:pt x="2729" y="324"/>
                      </a:lnTo>
                      <a:lnTo>
                        <a:pt x="2729" y="318"/>
                      </a:lnTo>
                      <a:lnTo>
                        <a:pt x="2729" y="313"/>
                      </a:lnTo>
                      <a:lnTo>
                        <a:pt x="2729" y="309"/>
                      </a:lnTo>
                      <a:lnTo>
                        <a:pt x="2728" y="305"/>
                      </a:lnTo>
                      <a:lnTo>
                        <a:pt x="2727" y="301"/>
                      </a:lnTo>
                      <a:lnTo>
                        <a:pt x="2726" y="297"/>
                      </a:lnTo>
                      <a:lnTo>
                        <a:pt x="2725" y="292"/>
                      </a:lnTo>
                      <a:lnTo>
                        <a:pt x="2722" y="289"/>
                      </a:lnTo>
                      <a:lnTo>
                        <a:pt x="2721" y="287"/>
                      </a:lnTo>
                      <a:lnTo>
                        <a:pt x="2719" y="283"/>
                      </a:lnTo>
                      <a:lnTo>
                        <a:pt x="2717" y="280"/>
                      </a:lnTo>
                      <a:lnTo>
                        <a:pt x="2713" y="277"/>
                      </a:lnTo>
                      <a:lnTo>
                        <a:pt x="2711" y="275"/>
                      </a:lnTo>
                      <a:lnTo>
                        <a:pt x="2707" y="273"/>
                      </a:lnTo>
                      <a:lnTo>
                        <a:pt x="2705" y="270"/>
                      </a:lnTo>
                      <a:lnTo>
                        <a:pt x="2702" y="269"/>
                      </a:lnTo>
                      <a:lnTo>
                        <a:pt x="2698" y="267"/>
                      </a:lnTo>
                      <a:lnTo>
                        <a:pt x="2695" y="266"/>
                      </a:lnTo>
                      <a:lnTo>
                        <a:pt x="2691" y="265"/>
                      </a:lnTo>
                      <a:lnTo>
                        <a:pt x="2688" y="264"/>
                      </a:lnTo>
                      <a:lnTo>
                        <a:pt x="2684" y="262"/>
                      </a:lnTo>
                      <a:lnTo>
                        <a:pt x="2681" y="261"/>
                      </a:lnTo>
                      <a:lnTo>
                        <a:pt x="2677" y="260"/>
                      </a:lnTo>
                      <a:lnTo>
                        <a:pt x="2674" y="260"/>
                      </a:lnTo>
                      <a:lnTo>
                        <a:pt x="2670" y="260"/>
                      </a:lnTo>
                      <a:lnTo>
                        <a:pt x="2667" y="259"/>
                      </a:lnTo>
                      <a:lnTo>
                        <a:pt x="2663" y="259"/>
                      </a:lnTo>
                      <a:lnTo>
                        <a:pt x="2660" y="259"/>
                      </a:lnTo>
                      <a:lnTo>
                        <a:pt x="2657" y="260"/>
                      </a:lnTo>
                      <a:lnTo>
                        <a:pt x="2653" y="260"/>
                      </a:lnTo>
                      <a:lnTo>
                        <a:pt x="2650" y="260"/>
                      </a:lnTo>
                      <a:lnTo>
                        <a:pt x="2647" y="261"/>
                      </a:lnTo>
                      <a:lnTo>
                        <a:pt x="2646" y="260"/>
                      </a:lnTo>
                      <a:lnTo>
                        <a:pt x="2646" y="259"/>
                      </a:lnTo>
                      <a:lnTo>
                        <a:pt x="2646" y="258"/>
                      </a:lnTo>
                      <a:lnTo>
                        <a:pt x="2645" y="255"/>
                      </a:lnTo>
                      <a:lnTo>
                        <a:pt x="2645" y="254"/>
                      </a:lnTo>
                      <a:lnTo>
                        <a:pt x="2645" y="253"/>
                      </a:lnTo>
                      <a:lnTo>
                        <a:pt x="2645" y="252"/>
                      </a:lnTo>
                      <a:lnTo>
                        <a:pt x="2645" y="251"/>
                      </a:lnTo>
                      <a:lnTo>
                        <a:pt x="2646" y="250"/>
                      </a:lnTo>
                      <a:lnTo>
                        <a:pt x="2646" y="249"/>
                      </a:lnTo>
                      <a:lnTo>
                        <a:pt x="2646" y="247"/>
                      </a:lnTo>
                      <a:lnTo>
                        <a:pt x="2646" y="246"/>
                      </a:lnTo>
                      <a:lnTo>
                        <a:pt x="2646" y="244"/>
                      </a:lnTo>
                      <a:lnTo>
                        <a:pt x="2647" y="243"/>
                      </a:lnTo>
                      <a:lnTo>
                        <a:pt x="2647" y="242"/>
                      </a:lnTo>
                      <a:lnTo>
                        <a:pt x="2647" y="240"/>
                      </a:lnTo>
                      <a:lnTo>
                        <a:pt x="2647" y="239"/>
                      </a:lnTo>
                      <a:lnTo>
                        <a:pt x="2648" y="237"/>
                      </a:lnTo>
                      <a:lnTo>
                        <a:pt x="2648" y="236"/>
                      </a:lnTo>
                      <a:lnTo>
                        <a:pt x="2648" y="235"/>
                      </a:lnTo>
                      <a:lnTo>
                        <a:pt x="2648" y="234"/>
                      </a:lnTo>
                      <a:lnTo>
                        <a:pt x="2648" y="231"/>
                      </a:lnTo>
                      <a:lnTo>
                        <a:pt x="2648" y="230"/>
                      </a:lnTo>
                      <a:lnTo>
                        <a:pt x="2648" y="228"/>
                      </a:lnTo>
                      <a:lnTo>
                        <a:pt x="2647" y="227"/>
                      </a:lnTo>
                      <a:lnTo>
                        <a:pt x="2647" y="224"/>
                      </a:lnTo>
                      <a:lnTo>
                        <a:pt x="2647" y="223"/>
                      </a:lnTo>
                      <a:lnTo>
                        <a:pt x="2646" y="221"/>
                      </a:lnTo>
                      <a:lnTo>
                        <a:pt x="2645" y="218"/>
                      </a:lnTo>
                      <a:lnTo>
                        <a:pt x="2645" y="216"/>
                      </a:lnTo>
                      <a:lnTo>
                        <a:pt x="2644" y="215"/>
                      </a:lnTo>
                      <a:lnTo>
                        <a:pt x="2643" y="213"/>
                      </a:lnTo>
                      <a:lnTo>
                        <a:pt x="2642" y="210"/>
                      </a:lnTo>
                      <a:lnTo>
                        <a:pt x="2640" y="208"/>
                      </a:lnTo>
                      <a:lnTo>
                        <a:pt x="2638" y="206"/>
                      </a:lnTo>
                      <a:lnTo>
                        <a:pt x="2637" y="203"/>
                      </a:lnTo>
                      <a:lnTo>
                        <a:pt x="2636" y="200"/>
                      </a:lnTo>
                      <a:lnTo>
                        <a:pt x="2635" y="198"/>
                      </a:lnTo>
                      <a:lnTo>
                        <a:pt x="2633" y="195"/>
                      </a:lnTo>
                      <a:lnTo>
                        <a:pt x="2632" y="193"/>
                      </a:lnTo>
                      <a:lnTo>
                        <a:pt x="2631" y="191"/>
                      </a:lnTo>
                      <a:lnTo>
                        <a:pt x="2630" y="188"/>
                      </a:lnTo>
                      <a:lnTo>
                        <a:pt x="2629" y="186"/>
                      </a:lnTo>
                      <a:lnTo>
                        <a:pt x="2628" y="183"/>
                      </a:lnTo>
                      <a:lnTo>
                        <a:pt x="2627" y="180"/>
                      </a:lnTo>
                      <a:lnTo>
                        <a:pt x="2625" y="178"/>
                      </a:lnTo>
                      <a:lnTo>
                        <a:pt x="2624" y="176"/>
                      </a:lnTo>
                      <a:lnTo>
                        <a:pt x="2623" y="173"/>
                      </a:lnTo>
                      <a:lnTo>
                        <a:pt x="2622" y="171"/>
                      </a:lnTo>
                      <a:lnTo>
                        <a:pt x="2621" y="169"/>
                      </a:lnTo>
                      <a:lnTo>
                        <a:pt x="2620" y="167"/>
                      </a:lnTo>
                      <a:lnTo>
                        <a:pt x="2618" y="164"/>
                      </a:lnTo>
                      <a:lnTo>
                        <a:pt x="2617" y="162"/>
                      </a:lnTo>
                      <a:lnTo>
                        <a:pt x="2615" y="161"/>
                      </a:lnTo>
                      <a:lnTo>
                        <a:pt x="2614" y="158"/>
                      </a:lnTo>
                      <a:lnTo>
                        <a:pt x="2613" y="156"/>
                      </a:lnTo>
                      <a:lnTo>
                        <a:pt x="2610" y="155"/>
                      </a:lnTo>
                      <a:lnTo>
                        <a:pt x="2609" y="153"/>
                      </a:lnTo>
                      <a:lnTo>
                        <a:pt x="2608" y="151"/>
                      </a:lnTo>
                      <a:lnTo>
                        <a:pt x="2606" y="149"/>
                      </a:lnTo>
                      <a:lnTo>
                        <a:pt x="2605" y="148"/>
                      </a:lnTo>
                      <a:lnTo>
                        <a:pt x="2602" y="147"/>
                      </a:lnTo>
                      <a:lnTo>
                        <a:pt x="2600" y="146"/>
                      </a:lnTo>
                      <a:lnTo>
                        <a:pt x="2599" y="145"/>
                      </a:lnTo>
                      <a:lnTo>
                        <a:pt x="2595" y="143"/>
                      </a:lnTo>
                      <a:lnTo>
                        <a:pt x="2593" y="142"/>
                      </a:lnTo>
                      <a:lnTo>
                        <a:pt x="2591" y="142"/>
                      </a:lnTo>
                      <a:lnTo>
                        <a:pt x="2588" y="141"/>
                      </a:lnTo>
                      <a:lnTo>
                        <a:pt x="2586" y="140"/>
                      </a:lnTo>
                      <a:lnTo>
                        <a:pt x="2583" y="139"/>
                      </a:lnTo>
                      <a:lnTo>
                        <a:pt x="2580" y="139"/>
                      </a:lnTo>
                      <a:lnTo>
                        <a:pt x="2577" y="138"/>
                      </a:lnTo>
                      <a:lnTo>
                        <a:pt x="2575" y="136"/>
                      </a:lnTo>
                      <a:lnTo>
                        <a:pt x="2571" y="136"/>
                      </a:lnTo>
                      <a:lnTo>
                        <a:pt x="2569" y="135"/>
                      </a:lnTo>
                      <a:lnTo>
                        <a:pt x="2565" y="134"/>
                      </a:lnTo>
                      <a:lnTo>
                        <a:pt x="2563" y="134"/>
                      </a:lnTo>
                      <a:lnTo>
                        <a:pt x="2560" y="133"/>
                      </a:lnTo>
                      <a:lnTo>
                        <a:pt x="2557" y="133"/>
                      </a:lnTo>
                      <a:lnTo>
                        <a:pt x="2554" y="132"/>
                      </a:lnTo>
                      <a:lnTo>
                        <a:pt x="2550" y="132"/>
                      </a:lnTo>
                      <a:lnTo>
                        <a:pt x="2548" y="131"/>
                      </a:lnTo>
                      <a:lnTo>
                        <a:pt x="2544" y="131"/>
                      </a:lnTo>
                      <a:lnTo>
                        <a:pt x="2542" y="130"/>
                      </a:lnTo>
                      <a:lnTo>
                        <a:pt x="2539" y="130"/>
                      </a:lnTo>
                      <a:lnTo>
                        <a:pt x="2535" y="128"/>
                      </a:lnTo>
                      <a:lnTo>
                        <a:pt x="2533" y="128"/>
                      </a:lnTo>
                      <a:lnTo>
                        <a:pt x="2529" y="127"/>
                      </a:lnTo>
                      <a:lnTo>
                        <a:pt x="2526" y="127"/>
                      </a:lnTo>
                      <a:lnTo>
                        <a:pt x="2524" y="126"/>
                      </a:lnTo>
                      <a:lnTo>
                        <a:pt x="2520" y="126"/>
                      </a:lnTo>
                      <a:lnTo>
                        <a:pt x="2518" y="125"/>
                      </a:lnTo>
                      <a:lnTo>
                        <a:pt x="2514" y="125"/>
                      </a:lnTo>
                      <a:lnTo>
                        <a:pt x="2512" y="124"/>
                      </a:lnTo>
                      <a:lnTo>
                        <a:pt x="2509" y="124"/>
                      </a:lnTo>
                      <a:lnTo>
                        <a:pt x="2506" y="124"/>
                      </a:lnTo>
                      <a:lnTo>
                        <a:pt x="2501" y="121"/>
                      </a:lnTo>
                      <a:lnTo>
                        <a:pt x="2496" y="120"/>
                      </a:lnTo>
                      <a:lnTo>
                        <a:pt x="2490" y="120"/>
                      </a:lnTo>
                      <a:lnTo>
                        <a:pt x="2486" y="119"/>
                      </a:lnTo>
                      <a:lnTo>
                        <a:pt x="2481" y="119"/>
                      </a:lnTo>
                      <a:lnTo>
                        <a:pt x="2476" y="119"/>
                      </a:lnTo>
                      <a:lnTo>
                        <a:pt x="2471" y="120"/>
                      </a:lnTo>
                      <a:lnTo>
                        <a:pt x="2466" y="120"/>
                      </a:lnTo>
                      <a:lnTo>
                        <a:pt x="2461" y="121"/>
                      </a:lnTo>
                      <a:lnTo>
                        <a:pt x="2457" y="121"/>
                      </a:lnTo>
                      <a:lnTo>
                        <a:pt x="2452" y="123"/>
                      </a:lnTo>
                      <a:lnTo>
                        <a:pt x="2447" y="124"/>
                      </a:lnTo>
                      <a:lnTo>
                        <a:pt x="2443" y="126"/>
                      </a:lnTo>
                      <a:lnTo>
                        <a:pt x="2438" y="127"/>
                      </a:lnTo>
                      <a:lnTo>
                        <a:pt x="2435" y="128"/>
                      </a:lnTo>
                      <a:lnTo>
                        <a:pt x="2430" y="131"/>
                      </a:lnTo>
                      <a:lnTo>
                        <a:pt x="2425" y="132"/>
                      </a:lnTo>
                      <a:lnTo>
                        <a:pt x="2421" y="134"/>
                      </a:lnTo>
                      <a:lnTo>
                        <a:pt x="2417" y="136"/>
                      </a:lnTo>
                      <a:lnTo>
                        <a:pt x="2413" y="139"/>
                      </a:lnTo>
                      <a:lnTo>
                        <a:pt x="2408" y="141"/>
                      </a:lnTo>
                      <a:lnTo>
                        <a:pt x="2405" y="143"/>
                      </a:lnTo>
                      <a:lnTo>
                        <a:pt x="2400" y="146"/>
                      </a:lnTo>
                      <a:lnTo>
                        <a:pt x="2395" y="148"/>
                      </a:lnTo>
                      <a:lnTo>
                        <a:pt x="2392" y="150"/>
                      </a:lnTo>
                      <a:lnTo>
                        <a:pt x="2387" y="153"/>
                      </a:lnTo>
                      <a:lnTo>
                        <a:pt x="2384" y="155"/>
                      </a:lnTo>
                      <a:lnTo>
                        <a:pt x="2379" y="157"/>
                      </a:lnTo>
                      <a:lnTo>
                        <a:pt x="2376" y="158"/>
                      </a:lnTo>
                      <a:lnTo>
                        <a:pt x="2371" y="161"/>
                      </a:lnTo>
                      <a:lnTo>
                        <a:pt x="2368" y="163"/>
                      </a:lnTo>
                      <a:lnTo>
                        <a:pt x="2363" y="165"/>
                      </a:lnTo>
                      <a:lnTo>
                        <a:pt x="2361" y="167"/>
                      </a:lnTo>
                      <a:lnTo>
                        <a:pt x="2358" y="168"/>
                      </a:lnTo>
                      <a:lnTo>
                        <a:pt x="2356" y="169"/>
                      </a:lnTo>
                      <a:lnTo>
                        <a:pt x="2354" y="170"/>
                      </a:lnTo>
                      <a:lnTo>
                        <a:pt x="2353" y="172"/>
                      </a:lnTo>
                      <a:lnTo>
                        <a:pt x="2350" y="173"/>
                      </a:lnTo>
                      <a:lnTo>
                        <a:pt x="2348" y="175"/>
                      </a:lnTo>
                      <a:lnTo>
                        <a:pt x="2347" y="177"/>
                      </a:lnTo>
                      <a:lnTo>
                        <a:pt x="2345" y="178"/>
                      </a:lnTo>
                      <a:lnTo>
                        <a:pt x="2342" y="179"/>
                      </a:lnTo>
                      <a:lnTo>
                        <a:pt x="2341" y="182"/>
                      </a:lnTo>
                      <a:lnTo>
                        <a:pt x="2340" y="183"/>
                      </a:lnTo>
                      <a:lnTo>
                        <a:pt x="2338" y="185"/>
                      </a:lnTo>
                      <a:lnTo>
                        <a:pt x="2337" y="186"/>
                      </a:lnTo>
                      <a:lnTo>
                        <a:pt x="2335" y="188"/>
                      </a:lnTo>
                      <a:lnTo>
                        <a:pt x="2334" y="190"/>
                      </a:lnTo>
                      <a:lnTo>
                        <a:pt x="2333" y="192"/>
                      </a:lnTo>
                      <a:lnTo>
                        <a:pt x="2332" y="193"/>
                      </a:lnTo>
                      <a:lnTo>
                        <a:pt x="2331" y="195"/>
                      </a:lnTo>
                      <a:lnTo>
                        <a:pt x="2330" y="197"/>
                      </a:lnTo>
                      <a:lnTo>
                        <a:pt x="2330" y="199"/>
                      </a:lnTo>
                      <a:lnTo>
                        <a:pt x="2328" y="201"/>
                      </a:lnTo>
                      <a:lnTo>
                        <a:pt x="2328" y="202"/>
                      </a:lnTo>
                      <a:lnTo>
                        <a:pt x="2327" y="205"/>
                      </a:lnTo>
                      <a:lnTo>
                        <a:pt x="2327" y="206"/>
                      </a:lnTo>
                      <a:lnTo>
                        <a:pt x="2327" y="208"/>
                      </a:lnTo>
                      <a:lnTo>
                        <a:pt x="2327" y="209"/>
                      </a:lnTo>
                      <a:lnTo>
                        <a:pt x="2327" y="212"/>
                      </a:lnTo>
                      <a:lnTo>
                        <a:pt x="2327" y="213"/>
                      </a:lnTo>
                      <a:lnTo>
                        <a:pt x="2327" y="215"/>
                      </a:lnTo>
                      <a:lnTo>
                        <a:pt x="2327" y="216"/>
                      </a:lnTo>
                      <a:lnTo>
                        <a:pt x="2327" y="217"/>
                      </a:lnTo>
                      <a:lnTo>
                        <a:pt x="2327" y="220"/>
                      </a:lnTo>
                      <a:lnTo>
                        <a:pt x="2327" y="221"/>
                      </a:lnTo>
                      <a:lnTo>
                        <a:pt x="2326" y="222"/>
                      </a:lnTo>
                      <a:lnTo>
                        <a:pt x="2326" y="223"/>
                      </a:lnTo>
                      <a:lnTo>
                        <a:pt x="2326" y="225"/>
                      </a:lnTo>
                      <a:lnTo>
                        <a:pt x="2325" y="227"/>
                      </a:lnTo>
                      <a:lnTo>
                        <a:pt x="2325" y="228"/>
                      </a:lnTo>
                      <a:lnTo>
                        <a:pt x="2325" y="229"/>
                      </a:lnTo>
                      <a:lnTo>
                        <a:pt x="2325" y="231"/>
                      </a:lnTo>
                      <a:lnTo>
                        <a:pt x="2324" y="232"/>
                      </a:lnTo>
                      <a:lnTo>
                        <a:pt x="2324" y="234"/>
                      </a:lnTo>
                      <a:lnTo>
                        <a:pt x="2324" y="236"/>
                      </a:lnTo>
                      <a:lnTo>
                        <a:pt x="2324" y="237"/>
                      </a:lnTo>
                      <a:lnTo>
                        <a:pt x="2324" y="238"/>
                      </a:lnTo>
                      <a:lnTo>
                        <a:pt x="2323" y="240"/>
                      </a:lnTo>
                      <a:lnTo>
                        <a:pt x="2323" y="242"/>
                      </a:lnTo>
                      <a:lnTo>
                        <a:pt x="2323" y="243"/>
                      </a:lnTo>
                      <a:lnTo>
                        <a:pt x="2323" y="245"/>
                      </a:lnTo>
                      <a:lnTo>
                        <a:pt x="2323" y="246"/>
                      </a:lnTo>
                      <a:lnTo>
                        <a:pt x="2323" y="247"/>
                      </a:lnTo>
                      <a:lnTo>
                        <a:pt x="2323" y="250"/>
                      </a:lnTo>
                      <a:lnTo>
                        <a:pt x="2323" y="251"/>
                      </a:lnTo>
                      <a:lnTo>
                        <a:pt x="2323" y="253"/>
                      </a:lnTo>
                      <a:lnTo>
                        <a:pt x="2321" y="254"/>
                      </a:lnTo>
                      <a:lnTo>
                        <a:pt x="2321" y="255"/>
                      </a:lnTo>
                      <a:lnTo>
                        <a:pt x="2321" y="258"/>
                      </a:lnTo>
                      <a:lnTo>
                        <a:pt x="2321" y="259"/>
                      </a:lnTo>
                      <a:lnTo>
                        <a:pt x="2321" y="261"/>
                      </a:lnTo>
                      <a:lnTo>
                        <a:pt x="2321" y="262"/>
                      </a:lnTo>
                      <a:lnTo>
                        <a:pt x="2321" y="265"/>
                      </a:lnTo>
                      <a:lnTo>
                        <a:pt x="2321" y="266"/>
                      </a:lnTo>
                      <a:lnTo>
                        <a:pt x="2321" y="267"/>
                      </a:lnTo>
                      <a:lnTo>
                        <a:pt x="2321" y="268"/>
                      </a:lnTo>
                      <a:lnTo>
                        <a:pt x="2320" y="269"/>
                      </a:lnTo>
                      <a:lnTo>
                        <a:pt x="2320" y="270"/>
                      </a:lnTo>
                      <a:lnTo>
                        <a:pt x="2319" y="270"/>
                      </a:lnTo>
                      <a:lnTo>
                        <a:pt x="2319" y="272"/>
                      </a:lnTo>
                      <a:lnTo>
                        <a:pt x="2319" y="273"/>
                      </a:lnTo>
                      <a:lnTo>
                        <a:pt x="2319" y="274"/>
                      </a:lnTo>
                      <a:lnTo>
                        <a:pt x="2318" y="274"/>
                      </a:lnTo>
                      <a:lnTo>
                        <a:pt x="2318" y="275"/>
                      </a:lnTo>
                      <a:lnTo>
                        <a:pt x="2318" y="276"/>
                      </a:lnTo>
                      <a:lnTo>
                        <a:pt x="2318" y="277"/>
                      </a:lnTo>
                      <a:lnTo>
                        <a:pt x="2317" y="277"/>
                      </a:lnTo>
                      <a:lnTo>
                        <a:pt x="2317" y="279"/>
                      </a:lnTo>
                      <a:lnTo>
                        <a:pt x="2317" y="280"/>
                      </a:lnTo>
                      <a:lnTo>
                        <a:pt x="2317" y="281"/>
                      </a:lnTo>
                      <a:lnTo>
                        <a:pt x="2317" y="282"/>
                      </a:lnTo>
                      <a:lnTo>
                        <a:pt x="2317" y="283"/>
                      </a:lnTo>
                      <a:lnTo>
                        <a:pt x="2317" y="284"/>
                      </a:lnTo>
                      <a:lnTo>
                        <a:pt x="2317" y="285"/>
                      </a:lnTo>
                      <a:lnTo>
                        <a:pt x="2317" y="287"/>
                      </a:lnTo>
                      <a:lnTo>
                        <a:pt x="2317" y="288"/>
                      </a:lnTo>
                      <a:lnTo>
                        <a:pt x="2317" y="289"/>
                      </a:lnTo>
                      <a:lnTo>
                        <a:pt x="2317" y="290"/>
                      </a:lnTo>
                      <a:lnTo>
                        <a:pt x="2317" y="291"/>
                      </a:lnTo>
                      <a:lnTo>
                        <a:pt x="2318" y="291"/>
                      </a:lnTo>
                      <a:lnTo>
                        <a:pt x="2318" y="292"/>
                      </a:lnTo>
                      <a:lnTo>
                        <a:pt x="2319" y="294"/>
                      </a:lnTo>
                      <a:lnTo>
                        <a:pt x="2319" y="295"/>
                      </a:lnTo>
                      <a:lnTo>
                        <a:pt x="2320" y="295"/>
                      </a:lnTo>
                      <a:lnTo>
                        <a:pt x="2320" y="296"/>
                      </a:lnTo>
                      <a:lnTo>
                        <a:pt x="2320" y="297"/>
                      </a:lnTo>
                      <a:lnTo>
                        <a:pt x="2321" y="297"/>
                      </a:lnTo>
                      <a:lnTo>
                        <a:pt x="2321" y="298"/>
                      </a:lnTo>
                      <a:lnTo>
                        <a:pt x="2321" y="299"/>
                      </a:lnTo>
                      <a:lnTo>
                        <a:pt x="2323" y="299"/>
                      </a:lnTo>
                      <a:lnTo>
                        <a:pt x="2323" y="301"/>
                      </a:lnTo>
                      <a:lnTo>
                        <a:pt x="2324" y="301"/>
                      </a:lnTo>
                      <a:lnTo>
                        <a:pt x="2324" y="302"/>
                      </a:lnTo>
                      <a:lnTo>
                        <a:pt x="2324" y="303"/>
                      </a:lnTo>
                      <a:lnTo>
                        <a:pt x="2325" y="303"/>
                      </a:lnTo>
                      <a:lnTo>
                        <a:pt x="2325" y="304"/>
                      </a:lnTo>
                      <a:lnTo>
                        <a:pt x="2326" y="305"/>
                      </a:lnTo>
                      <a:lnTo>
                        <a:pt x="2325" y="305"/>
                      </a:lnTo>
                      <a:lnTo>
                        <a:pt x="2325" y="306"/>
                      </a:lnTo>
                      <a:lnTo>
                        <a:pt x="2325" y="307"/>
                      </a:lnTo>
                      <a:lnTo>
                        <a:pt x="2324" y="307"/>
                      </a:lnTo>
                      <a:lnTo>
                        <a:pt x="2324" y="309"/>
                      </a:lnTo>
                      <a:lnTo>
                        <a:pt x="2323" y="309"/>
                      </a:lnTo>
                      <a:lnTo>
                        <a:pt x="2323" y="310"/>
                      </a:lnTo>
                      <a:lnTo>
                        <a:pt x="2321" y="311"/>
                      </a:lnTo>
                      <a:lnTo>
                        <a:pt x="2320" y="312"/>
                      </a:lnTo>
                      <a:lnTo>
                        <a:pt x="2320" y="313"/>
                      </a:lnTo>
                      <a:lnTo>
                        <a:pt x="2319" y="313"/>
                      </a:lnTo>
                      <a:lnTo>
                        <a:pt x="2319" y="314"/>
                      </a:lnTo>
                      <a:lnTo>
                        <a:pt x="2320" y="314"/>
                      </a:lnTo>
                      <a:lnTo>
                        <a:pt x="2320" y="316"/>
                      </a:lnTo>
                      <a:lnTo>
                        <a:pt x="2321" y="316"/>
                      </a:lnTo>
                      <a:lnTo>
                        <a:pt x="2321" y="317"/>
                      </a:lnTo>
                      <a:lnTo>
                        <a:pt x="2323" y="317"/>
                      </a:lnTo>
                      <a:lnTo>
                        <a:pt x="2324" y="318"/>
                      </a:lnTo>
                      <a:lnTo>
                        <a:pt x="2325" y="318"/>
                      </a:lnTo>
                      <a:lnTo>
                        <a:pt x="2326" y="319"/>
                      </a:lnTo>
                      <a:lnTo>
                        <a:pt x="2327" y="319"/>
                      </a:lnTo>
                      <a:lnTo>
                        <a:pt x="2327" y="320"/>
                      </a:lnTo>
                      <a:lnTo>
                        <a:pt x="2328" y="320"/>
                      </a:lnTo>
                      <a:lnTo>
                        <a:pt x="2330" y="320"/>
                      </a:lnTo>
                      <a:lnTo>
                        <a:pt x="2330" y="321"/>
                      </a:lnTo>
                      <a:lnTo>
                        <a:pt x="2331" y="321"/>
                      </a:lnTo>
                      <a:lnTo>
                        <a:pt x="2331" y="322"/>
                      </a:lnTo>
                      <a:lnTo>
                        <a:pt x="2332" y="322"/>
                      </a:lnTo>
                      <a:lnTo>
                        <a:pt x="2332" y="324"/>
                      </a:lnTo>
                      <a:lnTo>
                        <a:pt x="2331" y="325"/>
                      </a:lnTo>
                      <a:lnTo>
                        <a:pt x="2331" y="326"/>
                      </a:lnTo>
                      <a:lnTo>
                        <a:pt x="2331" y="327"/>
                      </a:lnTo>
                      <a:lnTo>
                        <a:pt x="2330" y="328"/>
                      </a:lnTo>
                      <a:lnTo>
                        <a:pt x="2330" y="329"/>
                      </a:lnTo>
                      <a:lnTo>
                        <a:pt x="2330" y="331"/>
                      </a:lnTo>
                      <a:lnTo>
                        <a:pt x="2328" y="331"/>
                      </a:lnTo>
                      <a:lnTo>
                        <a:pt x="2328" y="332"/>
                      </a:lnTo>
                      <a:lnTo>
                        <a:pt x="2328" y="333"/>
                      </a:lnTo>
                      <a:lnTo>
                        <a:pt x="2328" y="334"/>
                      </a:lnTo>
                      <a:lnTo>
                        <a:pt x="2327" y="334"/>
                      </a:lnTo>
                      <a:lnTo>
                        <a:pt x="2327" y="335"/>
                      </a:lnTo>
                      <a:lnTo>
                        <a:pt x="2326" y="336"/>
                      </a:lnTo>
                      <a:lnTo>
                        <a:pt x="2326" y="337"/>
                      </a:lnTo>
                      <a:lnTo>
                        <a:pt x="2325" y="339"/>
                      </a:lnTo>
                      <a:lnTo>
                        <a:pt x="2324" y="340"/>
                      </a:lnTo>
                      <a:lnTo>
                        <a:pt x="2324" y="341"/>
                      </a:lnTo>
                      <a:lnTo>
                        <a:pt x="2323" y="342"/>
                      </a:lnTo>
                      <a:lnTo>
                        <a:pt x="2323" y="343"/>
                      </a:lnTo>
                      <a:lnTo>
                        <a:pt x="2321" y="343"/>
                      </a:lnTo>
                      <a:lnTo>
                        <a:pt x="2321" y="344"/>
                      </a:lnTo>
                      <a:lnTo>
                        <a:pt x="2320" y="344"/>
                      </a:lnTo>
                      <a:lnTo>
                        <a:pt x="2320" y="346"/>
                      </a:lnTo>
                      <a:lnTo>
                        <a:pt x="2319" y="347"/>
                      </a:lnTo>
                      <a:lnTo>
                        <a:pt x="2319" y="348"/>
                      </a:lnTo>
                      <a:lnTo>
                        <a:pt x="2318" y="348"/>
                      </a:lnTo>
                      <a:lnTo>
                        <a:pt x="2318" y="349"/>
                      </a:lnTo>
                      <a:lnTo>
                        <a:pt x="2318" y="350"/>
                      </a:lnTo>
                      <a:lnTo>
                        <a:pt x="2317" y="351"/>
                      </a:lnTo>
                      <a:lnTo>
                        <a:pt x="2317" y="352"/>
                      </a:lnTo>
                      <a:lnTo>
                        <a:pt x="2317" y="354"/>
                      </a:lnTo>
                      <a:lnTo>
                        <a:pt x="2317" y="355"/>
                      </a:lnTo>
                      <a:lnTo>
                        <a:pt x="2317" y="356"/>
                      </a:lnTo>
                      <a:lnTo>
                        <a:pt x="2318" y="357"/>
                      </a:lnTo>
                      <a:lnTo>
                        <a:pt x="2318" y="358"/>
                      </a:lnTo>
                      <a:lnTo>
                        <a:pt x="2319" y="358"/>
                      </a:lnTo>
                      <a:lnTo>
                        <a:pt x="2319" y="359"/>
                      </a:lnTo>
                      <a:lnTo>
                        <a:pt x="2320" y="361"/>
                      </a:lnTo>
                      <a:lnTo>
                        <a:pt x="2321" y="361"/>
                      </a:lnTo>
                      <a:lnTo>
                        <a:pt x="2321" y="362"/>
                      </a:lnTo>
                      <a:lnTo>
                        <a:pt x="2323" y="362"/>
                      </a:lnTo>
                      <a:lnTo>
                        <a:pt x="2324" y="363"/>
                      </a:lnTo>
                      <a:lnTo>
                        <a:pt x="2325" y="363"/>
                      </a:lnTo>
                      <a:lnTo>
                        <a:pt x="2326" y="363"/>
                      </a:lnTo>
                      <a:lnTo>
                        <a:pt x="2327" y="364"/>
                      </a:lnTo>
                      <a:lnTo>
                        <a:pt x="2328" y="364"/>
                      </a:lnTo>
                      <a:lnTo>
                        <a:pt x="2330" y="364"/>
                      </a:lnTo>
                      <a:lnTo>
                        <a:pt x="2331" y="365"/>
                      </a:lnTo>
                      <a:lnTo>
                        <a:pt x="2332" y="365"/>
                      </a:lnTo>
                      <a:lnTo>
                        <a:pt x="2333" y="365"/>
                      </a:lnTo>
                      <a:lnTo>
                        <a:pt x="2333" y="366"/>
                      </a:lnTo>
                      <a:lnTo>
                        <a:pt x="2334" y="366"/>
                      </a:lnTo>
                      <a:lnTo>
                        <a:pt x="2334" y="368"/>
                      </a:lnTo>
                      <a:lnTo>
                        <a:pt x="2334" y="369"/>
                      </a:lnTo>
                      <a:lnTo>
                        <a:pt x="2335" y="370"/>
                      </a:lnTo>
                      <a:lnTo>
                        <a:pt x="2335" y="371"/>
                      </a:lnTo>
                      <a:lnTo>
                        <a:pt x="2335" y="372"/>
                      </a:lnTo>
                      <a:lnTo>
                        <a:pt x="2335" y="373"/>
                      </a:lnTo>
                      <a:lnTo>
                        <a:pt x="2337" y="376"/>
                      </a:lnTo>
                      <a:lnTo>
                        <a:pt x="2337" y="377"/>
                      </a:lnTo>
                      <a:lnTo>
                        <a:pt x="2337" y="379"/>
                      </a:lnTo>
                      <a:lnTo>
                        <a:pt x="2338" y="380"/>
                      </a:lnTo>
                      <a:lnTo>
                        <a:pt x="2338" y="383"/>
                      </a:lnTo>
                      <a:lnTo>
                        <a:pt x="2339" y="384"/>
                      </a:lnTo>
                      <a:lnTo>
                        <a:pt x="2339" y="386"/>
                      </a:lnTo>
                      <a:lnTo>
                        <a:pt x="2340" y="387"/>
                      </a:lnTo>
                      <a:lnTo>
                        <a:pt x="2340" y="389"/>
                      </a:lnTo>
                      <a:lnTo>
                        <a:pt x="2341" y="392"/>
                      </a:lnTo>
                      <a:lnTo>
                        <a:pt x="2341" y="393"/>
                      </a:lnTo>
                      <a:lnTo>
                        <a:pt x="2342" y="395"/>
                      </a:lnTo>
                      <a:lnTo>
                        <a:pt x="2343" y="396"/>
                      </a:lnTo>
                      <a:lnTo>
                        <a:pt x="2343" y="399"/>
                      </a:lnTo>
                      <a:lnTo>
                        <a:pt x="2345" y="401"/>
                      </a:lnTo>
                      <a:lnTo>
                        <a:pt x="2346" y="402"/>
                      </a:lnTo>
                      <a:lnTo>
                        <a:pt x="2347" y="404"/>
                      </a:lnTo>
                      <a:lnTo>
                        <a:pt x="2347" y="406"/>
                      </a:lnTo>
                      <a:lnTo>
                        <a:pt x="2348" y="408"/>
                      </a:lnTo>
                      <a:lnTo>
                        <a:pt x="2349" y="409"/>
                      </a:lnTo>
                      <a:lnTo>
                        <a:pt x="2350" y="411"/>
                      </a:lnTo>
                      <a:lnTo>
                        <a:pt x="2352" y="413"/>
                      </a:lnTo>
                      <a:lnTo>
                        <a:pt x="2353" y="415"/>
                      </a:lnTo>
                      <a:lnTo>
                        <a:pt x="2354" y="416"/>
                      </a:lnTo>
                      <a:lnTo>
                        <a:pt x="2354" y="417"/>
                      </a:lnTo>
                      <a:lnTo>
                        <a:pt x="2355" y="418"/>
                      </a:lnTo>
                      <a:lnTo>
                        <a:pt x="2355" y="419"/>
                      </a:lnTo>
                      <a:lnTo>
                        <a:pt x="2355" y="421"/>
                      </a:lnTo>
                      <a:lnTo>
                        <a:pt x="2355" y="422"/>
                      </a:lnTo>
                      <a:lnTo>
                        <a:pt x="2355" y="423"/>
                      </a:lnTo>
                      <a:lnTo>
                        <a:pt x="2355" y="424"/>
                      </a:lnTo>
                      <a:lnTo>
                        <a:pt x="2355" y="425"/>
                      </a:lnTo>
                      <a:lnTo>
                        <a:pt x="2355" y="426"/>
                      </a:lnTo>
                      <a:lnTo>
                        <a:pt x="2355" y="428"/>
                      </a:lnTo>
                      <a:lnTo>
                        <a:pt x="2355" y="429"/>
                      </a:lnTo>
                      <a:lnTo>
                        <a:pt x="2355" y="430"/>
                      </a:lnTo>
                      <a:lnTo>
                        <a:pt x="2354" y="430"/>
                      </a:lnTo>
                      <a:lnTo>
                        <a:pt x="2354" y="431"/>
                      </a:lnTo>
                      <a:lnTo>
                        <a:pt x="2354" y="432"/>
                      </a:lnTo>
                      <a:lnTo>
                        <a:pt x="2354" y="433"/>
                      </a:lnTo>
                      <a:lnTo>
                        <a:pt x="2354" y="435"/>
                      </a:lnTo>
                      <a:lnTo>
                        <a:pt x="2354" y="436"/>
                      </a:lnTo>
                      <a:lnTo>
                        <a:pt x="2354" y="437"/>
                      </a:lnTo>
                      <a:lnTo>
                        <a:pt x="2354" y="438"/>
                      </a:lnTo>
                      <a:lnTo>
                        <a:pt x="2355" y="439"/>
                      </a:lnTo>
                      <a:lnTo>
                        <a:pt x="2355" y="440"/>
                      </a:lnTo>
                      <a:lnTo>
                        <a:pt x="2355" y="441"/>
                      </a:lnTo>
                      <a:lnTo>
                        <a:pt x="2355" y="443"/>
                      </a:lnTo>
                      <a:lnTo>
                        <a:pt x="2357" y="446"/>
                      </a:lnTo>
                      <a:lnTo>
                        <a:pt x="2358" y="448"/>
                      </a:lnTo>
                      <a:lnTo>
                        <a:pt x="2360" y="451"/>
                      </a:lnTo>
                      <a:lnTo>
                        <a:pt x="2362" y="453"/>
                      </a:lnTo>
                      <a:lnTo>
                        <a:pt x="2364" y="454"/>
                      </a:lnTo>
                      <a:lnTo>
                        <a:pt x="2365" y="455"/>
                      </a:lnTo>
                      <a:lnTo>
                        <a:pt x="2368" y="456"/>
                      </a:lnTo>
                      <a:lnTo>
                        <a:pt x="2370" y="458"/>
                      </a:lnTo>
                      <a:lnTo>
                        <a:pt x="2373" y="458"/>
                      </a:lnTo>
                      <a:lnTo>
                        <a:pt x="2376" y="459"/>
                      </a:lnTo>
                      <a:lnTo>
                        <a:pt x="2378" y="459"/>
                      </a:lnTo>
                      <a:lnTo>
                        <a:pt x="2380" y="459"/>
                      </a:lnTo>
                      <a:lnTo>
                        <a:pt x="2384" y="459"/>
                      </a:lnTo>
                      <a:lnTo>
                        <a:pt x="2386" y="458"/>
                      </a:lnTo>
                      <a:lnTo>
                        <a:pt x="2388" y="458"/>
                      </a:lnTo>
                      <a:lnTo>
                        <a:pt x="2392" y="456"/>
                      </a:lnTo>
                      <a:lnTo>
                        <a:pt x="2394" y="456"/>
                      </a:lnTo>
                      <a:lnTo>
                        <a:pt x="2397" y="455"/>
                      </a:lnTo>
                      <a:lnTo>
                        <a:pt x="2400" y="455"/>
                      </a:lnTo>
                      <a:lnTo>
                        <a:pt x="2402" y="454"/>
                      </a:lnTo>
                      <a:lnTo>
                        <a:pt x="2405" y="453"/>
                      </a:lnTo>
                      <a:lnTo>
                        <a:pt x="2407" y="452"/>
                      </a:lnTo>
                      <a:lnTo>
                        <a:pt x="2409" y="452"/>
                      </a:lnTo>
                      <a:lnTo>
                        <a:pt x="2412" y="451"/>
                      </a:lnTo>
                      <a:lnTo>
                        <a:pt x="2414" y="450"/>
                      </a:lnTo>
                      <a:lnTo>
                        <a:pt x="2416" y="450"/>
                      </a:lnTo>
                      <a:lnTo>
                        <a:pt x="2417" y="448"/>
                      </a:lnTo>
                      <a:lnTo>
                        <a:pt x="2420" y="448"/>
                      </a:lnTo>
                      <a:lnTo>
                        <a:pt x="2421" y="448"/>
                      </a:lnTo>
                      <a:lnTo>
                        <a:pt x="2422" y="448"/>
                      </a:lnTo>
                      <a:lnTo>
                        <a:pt x="2423" y="448"/>
                      </a:lnTo>
                      <a:lnTo>
                        <a:pt x="2424" y="448"/>
                      </a:lnTo>
                      <a:lnTo>
                        <a:pt x="2425" y="448"/>
                      </a:lnTo>
                      <a:lnTo>
                        <a:pt x="2427" y="448"/>
                      </a:lnTo>
                      <a:lnTo>
                        <a:pt x="2428" y="448"/>
                      </a:lnTo>
                      <a:lnTo>
                        <a:pt x="2428" y="450"/>
                      </a:lnTo>
                      <a:lnTo>
                        <a:pt x="2429" y="450"/>
                      </a:lnTo>
                      <a:lnTo>
                        <a:pt x="2430" y="450"/>
                      </a:lnTo>
                      <a:lnTo>
                        <a:pt x="2431" y="450"/>
                      </a:lnTo>
                      <a:lnTo>
                        <a:pt x="2432" y="450"/>
                      </a:lnTo>
                      <a:lnTo>
                        <a:pt x="2432" y="451"/>
                      </a:lnTo>
                      <a:lnTo>
                        <a:pt x="2434" y="451"/>
                      </a:lnTo>
                      <a:lnTo>
                        <a:pt x="2435" y="451"/>
                      </a:lnTo>
                      <a:lnTo>
                        <a:pt x="2436" y="451"/>
                      </a:lnTo>
                      <a:lnTo>
                        <a:pt x="2437" y="451"/>
                      </a:lnTo>
                      <a:lnTo>
                        <a:pt x="2437" y="452"/>
                      </a:lnTo>
                      <a:lnTo>
                        <a:pt x="2438" y="452"/>
                      </a:lnTo>
                      <a:lnTo>
                        <a:pt x="2439" y="452"/>
                      </a:lnTo>
                      <a:lnTo>
                        <a:pt x="2440" y="453"/>
                      </a:lnTo>
                      <a:lnTo>
                        <a:pt x="2442" y="454"/>
                      </a:lnTo>
                      <a:lnTo>
                        <a:pt x="2443" y="455"/>
                      </a:lnTo>
                      <a:lnTo>
                        <a:pt x="2444" y="456"/>
                      </a:lnTo>
                      <a:lnTo>
                        <a:pt x="2445" y="458"/>
                      </a:lnTo>
                      <a:lnTo>
                        <a:pt x="2446" y="459"/>
                      </a:lnTo>
                      <a:lnTo>
                        <a:pt x="2446" y="461"/>
                      </a:lnTo>
                      <a:lnTo>
                        <a:pt x="2447" y="462"/>
                      </a:lnTo>
                      <a:lnTo>
                        <a:pt x="2449" y="463"/>
                      </a:lnTo>
                      <a:lnTo>
                        <a:pt x="2450" y="465"/>
                      </a:lnTo>
                      <a:lnTo>
                        <a:pt x="2451" y="467"/>
                      </a:lnTo>
                      <a:lnTo>
                        <a:pt x="2452" y="468"/>
                      </a:lnTo>
                      <a:lnTo>
                        <a:pt x="2453" y="470"/>
                      </a:lnTo>
                      <a:lnTo>
                        <a:pt x="2454" y="471"/>
                      </a:lnTo>
                      <a:lnTo>
                        <a:pt x="2456" y="473"/>
                      </a:lnTo>
                      <a:lnTo>
                        <a:pt x="2457" y="475"/>
                      </a:lnTo>
                      <a:lnTo>
                        <a:pt x="2458" y="476"/>
                      </a:lnTo>
                      <a:lnTo>
                        <a:pt x="2459" y="478"/>
                      </a:lnTo>
                      <a:lnTo>
                        <a:pt x="2460" y="480"/>
                      </a:lnTo>
                      <a:lnTo>
                        <a:pt x="2461" y="481"/>
                      </a:lnTo>
                      <a:lnTo>
                        <a:pt x="2461" y="483"/>
                      </a:lnTo>
                      <a:lnTo>
                        <a:pt x="2462" y="484"/>
                      </a:lnTo>
                      <a:lnTo>
                        <a:pt x="2464" y="485"/>
                      </a:lnTo>
                      <a:lnTo>
                        <a:pt x="2465" y="486"/>
                      </a:lnTo>
                      <a:lnTo>
                        <a:pt x="2466" y="488"/>
                      </a:lnTo>
                      <a:lnTo>
                        <a:pt x="2466" y="489"/>
                      </a:lnTo>
                      <a:lnTo>
                        <a:pt x="2467" y="490"/>
                      </a:lnTo>
                      <a:lnTo>
                        <a:pt x="2468" y="491"/>
                      </a:lnTo>
                      <a:lnTo>
                        <a:pt x="2468" y="492"/>
                      </a:lnTo>
                      <a:lnTo>
                        <a:pt x="2469" y="493"/>
                      </a:lnTo>
                      <a:lnTo>
                        <a:pt x="2471" y="495"/>
                      </a:lnTo>
                      <a:lnTo>
                        <a:pt x="2469" y="496"/>
                      </a:lnTo>
                      <a:lnTo>
                        <a:pt x="2468" y="498"/>
                      </a:lnTo>
                      <a:lnTo>
                        <a:pt x="2467" y="499"/>
                      </a:lnTo>
                      <a:lnTo>
                        <a:pt x="2466" y="502"/>
                      </a:lnTo>
                      <a:lnTo>
                        <a:pt x="2465" y="503"/>
                      </a:lnTo>
                      <a:lnTo>
                        <a:pt x="2464" y="505"/>
                      </a:lnTo>
                      <a:lnTo>
                        <a:pt x="2462" y="506"/>
                      </a:lnTo>
                      <a:lnTo>
                        <a:pt x="2461" y="508"/>
                      </a:lnTo>
                      <a:lnTo>
                        <a:pt x="2459" y="511"/>
                      </a:lnTo>
                      <a:lnTo>
                        <a:pt x="2458" y="512"/>
                      </a:lnTo>
                      <a:lnTo>
                        <a:pt x="2457" y="514"/>
                      </a:lnTo>
                      <a:lnTo>
                        <a:pt x="2456" y="517"/>
                      </a:lnTo>
                      <a:lnTo>
                        <a:pt x="2454" y="519"/>
                      </a:lnTo>
                      <a:lnTo>
                        <a:pt x="2453" y="520"/>
                      </a:lnTo>
                      <a:lnTo>
                        <a:pt x="2452" y="522"/>
                      </a:lnTo>
                      <a:lnTo>
                        <a:pt x="2451" y="525"/>
                      </a:lnTo>
                      <a:lnTo>
                        <a:pt x="2450" y="527"/>
                      </a:lnTo>
                      <a:lnTo>
                        <a:pt x="2449" y="529"/>
                      </a:lnTo>
                      <a:lnTo>
                        <a:pt x="2446" y="532"/>
                      </a:lnTo>
                      <a:lnTo>
                        <a:pt x="2445" y="534"/>
                      </a:lnTo>
                      <a:lnTo>
                        <a:pt x="2444" y="535"/>
                      </a:lnTo>
                      <a:lnTo>
                        <a:pt x="2443" y="537"/>
                      </a:lnTo>
                      <a:lnTo>
                        <a:pt x="2442" y="540"/>
                      </a:lnTo>
                      <a:lnTo>
                        <a:pt x="2440" y="542"/>
                      </a:lnTo>
                      <a:lnTo>
                        <a:pt x="2438" y="544"/>
                      </a:lnTo>
                      <a:lnTo>
                        <a:pt x="2437" y="547"/>
                      </a:lnTo>
                      <a:lnTo>
                        <a:pt x="2436" y="549"/>
                      </a:lnTo>
                      <a:lnTo>
                        <a:pt x="2434" y="550"/>
                      </a:lnTo>
                      <a:lnTo>
                        <a:pt x="2432" y="552"/>
                      </a:lnTo>
                      <a:lnTo>
                        <a:pt x="2431" y="555"/>
                      </a:lnTo>
                      <a:lnTo>
                        <a:pt x="2430" y="557"/>
                      </a:lnTo>
                      <a:lnTo>
                        <a:pt x="2428" y="558"/>
                      </a:lnTo>
                      <a:lnTo>
                        <a:pt x="2428" y="559"/>
                      </a:lnTo>
                      <a:lnTo>
                        <a:pt x="2428" y="560"/>
                      </a:lnTo>
                      <a:lnTo>
                        <a:pt x="2428" y="562"/>
                      </a:lnTo>
                      <a:lnTo>
                        <a:pt x="2428" y="563"/>
                      </a:lnTo>
                      <a:lnTo>
                        <a:pt x="2428" y="564"/>
                      </a:lnTo>
                      <a:lnTo>
                        <a:pt x="2428" y="565"/>
                      </a:lnTo>
                      <a:lnTo>
                        <a:pt x="2428" y="566"/>
                      </a:lnTo>
                      <a:lnTo>
                        <a:pt x="2428" y="567"/>
                      </a:lnTo>
                      <a:lnTo>
                        <a:pt x="2428" y="569"/>
                      </a:lnTo>
                      <a:lnTo>
                        <a:pt x="2428" y="570"/>
                      </a:lnTo>
                      <a:lnTo>
                        <a:pt x="2428" y="571"/>
                      </a:lnTo>
                      <a:lnTo>
                        <a:pt x="2428" y="572"/>
                      </a:lnTo>
                      <a:lnTo>
                        <a:pt x="2428" y="573"/>
                      </a:lnTo>
                      <a:lnTo>
                        <a:pt x="2428" y="574"/>
                      </a:lnTo>
                      <a:lnTo>
                        <a:pt x="2428" y="575"/>
                      </a:lnTo>
                      <a:lnTo>
                        <a:pt x="2428" y="577"/>
                      </a:lnTo>
                      <a:lnTo>
                        <a:pt x="2428" y="578"/>
                      </a:lnTo>
                      <a:lnTo>
                        <a:pt x="2428" y="579"/>
                      </a:lnTo>
                      <a:lnTo>
                        <a:pt x="2427" y="582"/>
                      </a:lnTo>
                      <a:lnTo>
                        <a:pt x="2424" y="585"/>
                      </a:lnTo>
                      <a:lnTo>
                        <a:pt x="2422" y="587"/>
                      </a:lnTo>
                      <a:lnTo>
                        <a:pt x="2421" y="590"/>
                      </a:lnTo>
                      <a:lnTo>
                        <a:pt x="2419" y="593"/>
                      </a:lnTo>
                      <a:lnTo>
                        <a:pt x="2417" y="595"/>
                      </a:lnTo>
                      <a:lnTo>
                        <a:pt x="2416" y="597"/>
                      </a:lnTo>
                      <a:lnTo>
                        <a:pt x="2415" y="599"/>
                      </a:lnTo>
                      <a:lnTo>
                        <a:pt x="2414" y="601"/>
                      </a:lnTo>
                      <a:lnTo>
                        <a:pt x="2412" y="603"/>
                      </a:lnTo>
                      <a:lnTo>
                        <a:pt x="2412" y="605"/>
                      </a:lnTo>
                      <a:lnTo>
                        <a:pt x="2410" y="607"/>
                      </a:lnTo>
                      <a:lnTo>
                        <a:pt x="2409" y="609"/>
                      </a:lnTo>
                      <a:lnTo>
                        <a:pt x="2408" y="610"/>
                      </a:lnTo>
                      <a:lnTo>
                        <a:pt x="2407" y="612"/>
                      </a:lnTo>
                      <a:lnTo>
                        <a:pt x="2406" y="614"/>
                      </a:lnTo>
                      <a:lnTo>
                        <a:pt x="2406" y="616"/>
                      </a:lnTo>
                      <a:lnTo>
                        <a:pt x="2405" y="617"/>
                      </a:lnTo>
                      <a:lnTo>
                        <a:pt x="2404" y="618"/>
                      </a:lnTo>
                      <a:lnTo>
                        <a:pt x="2404" y="620"/>
                      </a:lnTo>
                      <a:lnTo>
                        <a:pt x="2402" y="622"/>
                      </a:lnTo>
                      <a:lnTo>
                        <a:pt x="2401" y="624"/>
                      </a:lnTo>
                      <a:lnTo>
                        <a:pt x="2401" y="625"/>
                      </a:lnTo>
                      <a:lnTo>
                        <a:pt x="2400" y="626"/>
                      </a:lnTo>
                      <a:lnTo>
                        <a:pt x="2399" y="629"/>
                      </a:lnTo>
                      <a:lnTo>
                        <a:pt x="2399" y="630"/>
                      </a:lnTo>
                      <a:lnTo>
                        <a:pt x="2398" y="631"/>
                      </a:lnTo>
                      <a:lnTo>
                        <a:pt x="2397" y="633"/>
                      </a:lnTo>
                      <a:lnTo>
                        <a:pt x="2395" y="634"/>
                      </a:lnTo>
                      <a:lnTo>
                        <a:pt x="2395" y="637"/>
                      </a:lnTo>
                      <a:lnTo>
                        <a:pt x="2394" y="638"/>
                      </a:lnTo>
                      <a:lnTo>
                        <a:pt x="2393" y="640"/>
                      </a:lnTo>
                      <a:lnTo>
                        <a:pt x="2392" y="641"/>
                      </a:lnTo>
                      <a:lnTo>
                        <a:pt x="2391" y="644"/>
                      </a:lnTo>
                      <a:lnTo>
                        <a:pt x="2390" y="645"/>
                      </a:lnTo>
                      <a:lnTo>
                        <a:pt x="2388" y="647"/>
                      </a:lnTo>
                      <a:lnTo>
                        <a:pt x="2387" y="648"/>
                      </a:lnTo>
                      <a:lnTo>
                        <a:pt x="2386" y="651"/>
                      </a:lnTo>
                      <a:lnTo>
                        <a:pt x="2385" y="652"/>
                      </a:lnTo>
                      <a:lnTo>
                        <a:pt x="2384" y="654"/>
                      </a:lnTo>
                      <a:lnTo>
                        <a:pt x="2383" y="655"/>
                      </a:lnTo>
                      <a:lnTo>
                        <a:pt x="2382" y="657"/>
                      </a:lnTo>
                      <a:lnTo>
                        <a:pt x="2380" y="659"/>
                      </a:lnTo>
                      <a:lnTo>
                        <a:pt x="2380" y="661"/>
                      </a:lnTo>
                      <a:lnTo>
                        <a:pt x="2379" y="662"/>
                      </a:lnTo>
                      <a:lnTo>
                        <a:pt x="2378" y="664"/>
                      </a:lnTo>
                      <a:lnTo>
                        <a:pt x="2377" y="666"/>
                      </a:lnTo>
                      <a:lnTo>
                        <a:pt x="2376" y="668"/>
                      </a:lnTo>
                      <a:lnTo>
                        <a:pt x="2375" y="669"/>
                      </a:lnTo>
                      <a:lnTo>
                        <a:pt x="2373" y="670"/>
                      </a:lnTo>
                      <a:lnTo>
                        <a:pt x="2372" y="672"/>
                      </a:lnTo>
                      <a:lnTo>
                        <a:pt x="2371" y="674"/>
                      </a:lnTo>
                      <a:lnTo>
                        <a:pt x="2370" y="676"/>
                      </a:lnTo>
                      <a:lnTo>
                        <a:pt x="2369" y="677"/>
                      </a:lnTo>
                      <a:lnTo>
                        <a:pt x="2368" y="679"/>
                      </a:lnTo>
                      <a:lnTo>
                        <a:pt x="2367" y="681"/>
                      </a:lnTo>
                      <a:lnTo>
                        <a:pt x="2365" y="682"/>
                      </a:lnTo>
                      <a:lnTo>
                        <a:pt x="2364" y="684"/>
                      </a:lnTo>
                      <a:lnTo>
                        <a:pt x="2363" y="685"/>
                      </a:lnTo>
                      <a:lnTo>
                        <a:pt x="2362" y="686"/>
                      </a:lnTo>
                      <a:lnTo>
                        <a:pt x="2361" y="689"/>
                      </a:lnTo>
                      <a:lnTo>
                        <a:pt x="2360" y="690"/>
                      </a:lnTo>
                      <a:lnTo>
                        <a:pt x="2358" y="691"/>
                      </a:lnTo>
                      <a:lnTo>
                        <a:pt x="2357" y="693"/>
                      </a:lnTo>
                      <a:lnTo>
                        <a:pt x="2357" y="694"/>
                      </a:lnTo>
                      <a:lnTo>
                        <a:pt x="2357" y="696"/>
                      </a:lnTo>
                      <a:lnTo>
                        <a:pt x="2358" y="696"/>
                      </a:lnTo>
                      <a:lnTo>
                        <a:pt x="2358" y="697"/>
                      </a:lnTo>
                      <a:lnTo>
                        <a:pt x="2358" y="698"/>
                      </a:lnTo>
                      <a:lnTo>
                        <a:pt x="2360" y="699"/>
                      </a:lnTo>
                      <a:lnTo>
                        <a:pt x="2360" y="700"/>
                      </a:lnTo>
                      <a:lnTo>
                        <a:pt x="2361" y="701"/>
                      </a:lnTo>
                      <a:lnTo>
                        <a:pt x="2361" y="703"/>
                      </a:lnTo>
                      <a:lnTo>
                        <a:pt x="2362" y="704"/>
                      </a:lnTo>
                      <a:lnTo>
                        <a:pt x="2362" y="705"/>
                      </a:lnTo>
                      <a:lnTo>
                        <a:pt x="2363" y="705"/>
                      </a:lnTo>
                      <a:lnTo>
                        <a:pt x="2363" y="706"/>
                      </a:lnTo>
                      <a:lnTo>
                        <a:pt x="2364" y="707"/>
                      </a:lnTo>
                      <a:lnTo>
                        <a:pt x="2364" y="708"/>
                      </a:lnTo>
                      <a:lnTo>
                        <a:pt x="2365" y="709"/>
                      </a:lnTo>
                      <a:lnTo>
                        <a:pt x="2365" y="711"/>
                      </a:lnTo>
                      <a:lnTo>
                        <a:pt x="2367" y="711"/>
                      </a:lnTo>
                      <a:lnTo>
                        <a:pt x="2367" y="712"/>
                      </a:lnTo>
                      <a:lnTo>
                        <a:pt x="2368" y="712"/>
                      </a:lnTo>
                      <a:lnTo>
                        <a:pt x="2368" y="713"/>
                      </a:lnTo>
                      <a:lnTo>
                        <a:pt x="2369" y="713"/>
                      </a:lnTo>
                      <a:lnTo>
                        <a:pt x="2368" y="714"/>
                      </a:lnTo>
                      <a:lnTo>
                        <a:pt x="2368" y="716"/>
                      </a:lnTo>
                      <a:lnTo>
                        <a:pt x="2367" y="718"/>
                      </a:lnTo>
                      <a:lnTo>
                        <a:pt x="2367" y="719"/>
                      </a:lnTo>
                      <a:lnTo>
                        <a:pt x="2367" y="721"/>
                      </a:lnTo>
                      <a:lnTo>
                        <a:pt x="2365" y="722"/>
                      </a:lnTo>
                      <a:lnTo>
                        <a:pt x="2365" y="723"/>
                      </a:lnTo>
                      <a:lnTo>
                        <a:pt x="2364" y="726"/>
                      </a:lnTo>
                      <a:lnTo>
                        <a:pt x="2364" y="728"/>
                      </a:lnTo>
                      <a:lnTo>
                        <a:pt x="2364" y="729"/>
                      </a:lnTo>
                      <a:lnTo>
                        <a:pt x="2363" y="731"/>
                      </a:lnTo>
                      <a:lnTo>
                        <a:pt x="2363" y="734"/>
                      </a:lnTo>
                      <a:lnTo>
                        <a:pt x="2363" y="735"/>
                      </a:lnTo>
                      <a:lnTo>
                        <a:pt x="2362" y="737"/>
                      </a:lnTo>
                      <a:lnTo>
                        <a:pt x="2362" y="739"/>
                      </a:lnTo>
                      <a:lnTo>
                        <a:pt x="2361" y="741"/>
                      </a:lnTo>
                      <a:lnTo>
                        <a:pt x="2361" y="743"/>
                      </a:lnTo>
                      <a:lnTo>
                        <a:pt x="2361" y="745"/>
                      </a:lnTo>
                      <a:lnTo>
                        <a:pt x="2360" y="748"/>
                      </a:lnTo>
                      <a:lnTo>
                        <a:pt x="2360" y="749"/>
                      </a:lnTo>
                      <a:lnTo>
                        <a:pt x="2360" y="751"/>
                      </a:lnTo>
                      <a:lnTo>
                        <a:pt x="2358" y="753"/>
                      </a:lnTo>
                      <a:lnTo>
                        <a:pt x="2358" y="754"/>
                      </a:lnTo>
                      <a:lnTo>
                        <a:pt x="2358" y="757"/>
                      </a:lnTo>
                      <a:lnTo>
                        <a:pt x="2358" y="759"/>
                      </a:lnTo>
                      <a:lnTo>
                        <a:pt x="2357" y="760"/>
                      </a:lnTo>
                      <a:lnTo>
                        <a:pt x="2357" y="763"/>
                      </a:lnTo>
                      <a:lnTo>
                        <a:pt x="2357" y="764"/>
                      </a:lnTo>
                      <a:lnTo>
                        <a:pt x="2357" y="766"/>
                      </a:lnTo>
                      <a:lnTo>
                        <a:pt x="2356" y="767"/>
                      </a:lnTo>
                      <a:lnTo>
                        <a:pt x="2356" y="768"/>
                      </a:lnTo>
                      <a:lnTo>
                        <a:pt x="2356" y="770"/>
                      </a:lnTo>
                      <a:lnTo>
                        <a:pt x="2354" y="770"/>
                      </a:lnTo>
                      <a:lnTo>
                        <a:pt x="2352" y="770"/>
                      </a:lnTo>
                      <a:lnTo>
                        <a:pt x="2349" y="770"/>
                      </a:lnTo>
                      <a:lnTo>
                        <a:pt x="2347" y="768"/>
                      </a:lnTo>
                      <a:lnTo>
                        <a:pt x="2345" y="768"/>
                      </a:lnTo>
                      <a:lnTo>
                        <a:pt x="2342" y="768"/>
                      </a:lnTo>
                      <a:lnTo>
                        <a:pt x="2340" y="767"/>
                      </a:lnTo>
                      <a:lnTo>
                        <a:pt x="2338" y="767"/>
                      </a:lnTo>
                      <a:lnTo>
                        <a:pt x="2335" y="766"/>
                      </a:lnTo>
                      <a:lnTo>
                        <a:pt x="2334" y="766"/>
                      </a:lnTo>
                      <a:lnTo>
                        <a:pt x="2332" y="765"/>
                      </a:lnTo>
                      <a:lnTo>
                        <a:pt x="2330" y="764"/>
                      </a:lnTo>
                      <a:lnTo>
                        <a:pt x="2327" y="764"/>
                      </a:lnTo>
                      <a:lnTo>
                        <a:pt x="2325" y="763"/>
                      </a:lnTo>
                      <a:lnTo>
                        <a:pt x="2323" y="761"/>
                      </a:lnTo>
                      <a:lnTo>
                        <a:pt x="2320" y="761"/>
                      </a:lnTo>
                      <a:lnTo>
                        <a:pt x="2318" y="760"/>
                      </a:lnTo>
                      <a:lnTo>
                        <a:pt x="2316" y="759"/>
                      </a:lnTo>
                      <a:lnTo>
                        <a:pt x="2313" y="759"/>
                      </a:lnTo>
                      <a:lnTo>
                        <a:pt x="2311" y="758"/>
                      </a:lnTo>
                      <a:lnTo>
                        <a:pt x="2309" y="757"/>
                      </a:lnTo>
                      <a:lnTo>
                        <a:pt x="2306" y="756"/>
                      </a:lnTo>
                      <a:lnTo>
                        <a:pt x="2304" y="756"/>
                      </a:lnTo>
                      <a:lnTo>
                        <a:pt x="2301" y="754"/>
                      </a:lnTo>
                      <a:lnTo>
                        <a:pt x="2298" y="754"/>
                      </a:lnTo>
                      <a:lnTo>
                        <a:pt x="2296" y="753"/>
                      </a:lnTo>
                      <a:lnTo>
                        <a:pt x="2294" y="752"/>
                      </a:lnTo>
                      <a:lnTo>
                        <a:pt x="2291" y="752"/>
                      </a:lnTo>
                      <a:lnTo>
                        <a:pt x="2289" y="751"/>
                      </a:lnTo>
                      <a:lnTo>
                        <a:pt x="2286" y="751"/>
                      </a:lnTo>
                      <a:lnTo>
                        <a:pt x="2283" y="751"/>
                      </a:lnTo>
                      <a:lnTo>
                        <a:pt x="2281" y="750"/>
                      </a:lnTo>
                      <a:lnTo>
                        <a:pt x="2280" y="750"/>
                      </a:lnTo>
                      <a:lnTo>
                        <a:pt x="2279" y="749"/>
                      </a:lnTo>
                      <a:lnTo>
                        <a:pt x="2278" y="749"/>
                      </a:lnTo>
                      <a:lnTo>
                        <a:pt x="2276" y="748"/>
                      </a:lnTo>
                      <a:lnTo>
                        <a:pt x="2275" y="746"/>
                      </a:lnTo>
                      <a:lnTo>
                        <a:pt x="2274" y="745"/>
                      </a:lnTo>
                      <a:lnTo>
                        <a:pt x="2273" y="745"/>
                      </a:lnTo>
                      <a:lnTo>
                        <a:pt x="2272" y="744"/>
                      </a:lnTo>
                      <a:lnTo>
                        <a:pt x="2272" y="743"/>
                      </a:lnTo>
                      <a:lnTo>
                        <a:pt x="2271" y="742"/>
                      </a:lnTo>
                      <a:lnTo>
                        <a:pt x="2269" y="742"/>
                      </a:lnTo>
                      <a:lnTo>
                        <a:pt x="2268" y="741"/>
                      </a:lnTo>
                      <a:lnTo>
                        <a:pt x="2268" y="739"/>
                      </a:lnTo>
                      <a:lnTo>
                        <a:pt x="2267" y="738"/>
                      </a:lnTo>
                      <a:lnTo>
                        <a:pt x="2266" y="737"/>
                      </a:lnTo>
                      <a:lnTo>
                        <a:pt x="2265" y="737"/>
                      </a:lnTo>
                      <a:lnTo>
                        <a:pt x="2265" y="736"/>
                      </a:lnTo>
                      <a:lnTo>
                        <a:pt x="2264" y="735"/>
                      </a:lnTo>
                      <a:lnTo>
                        <a:pt x="2263" y="735"/>
                      </a:lnTo>
                      <a:lnTo>
                        <a:pt x="2263" y="734"/>
                      </a:lnTo>
                      <a:lnTo>
                        <a:pt x="2261" y="733"/>
                      </a:lnTo>
                      <a:lnTo>
                        <a:pt x="2260" y="733"/>
                      </a:lnTo>
                      <a:lnTo>
                        <a:pt x="2260" y="731"/>
                      </a:lnTo>
                      <a:lnTo>
                        <a:pt x="2259" y="731"/>
                      </a:lnTo>
                      <a:lnTo>
                        <a:pt x="2258" y="730"/>
                      </a:lnTo>
                      <a:lnTo>
                        <a:pt x="2257" y="729"/>
                      </a:lnTo>
                      <a:lnTo>
                        <a:pt x="2256" y="729"/>
                      </a:lnTo>
                      <a:lnTo>
                        <a:pt x="2254" y="729"/>
                      </a:lnTo>
                      <a:lnTo>
                        <a:pt x="2253" y="729"/>
                      </a:lnTo>
                      <a:lnTo>
                        <a:pt x="2252" y="729"/>
                      </a:lnTo>
                      <a:lnTo>
                        <a:pt x="2252" y="728"/>
                      </a:lnTo>
                      <a:lnTo>
                        <a:pt x="2251" y="728"/>
                      </a:lnTo>
                      <a:lnTo>
                        <a:pt x="2250" y="728"/>
                      </a:lnTo>
                      <a:lnTo>
                        <a:pt x="2249" y="728"/>
                      </a:lnTo>
                      <a:lnTo>
                        <a:pt x="2248" y="728"/>
                      </a:lnTo>
                      <a:lnTo>
                        <a:pt x="2246" y="728"/>
                      </a:lnTo>
                      <a:lnTo>
                        <a:pt x="2245" y="728"/>
                      </a:lnTo>
                      <a:lnTo>
                        <a:pt x="2244" y="728"/>
                      </a:lnTo>
                      <a:lnTo>
                        <a:pt x="2244" y="727"/>
                      </a:lnTo>
                      <a:lnTo>
                        <a:pt x="2243" y="727"/>
                      </a:lnTo>
                      <a:lnTo>
                        <a:pt x="2242" y="727"/>
                      </a:lnTo>
                      <a:lnTo>
                        <a:pt x="2241" y="727"/>
                      </a:lnTo>
                      <a:lnTo>
                        <a:pt x="2239" y="727"/>
                      </a:lnTo>
                      <a:lnTo>
                        <a:pt x="2238" y="727"/>
                      </a:lnTo>
                      <a:lnTo>
                        <a:pt x="2237" y="727"/>
                      </a:lnTo>
                      <a:lnTo>
                        <a:pt x="2236" y="727"/>
                      </a:lnTo>
                      <a:lnTo>
                        <a:pt x="2235" y="726"/>
                      </a:lnTo>
                      <a:lnTo>
                        <a:pt x="2234" y="726"/>
                      </a:lnTo>
                      <a:lnTo>
                        <a:pt x="2233" y="726"/>
                      </a:lnTo>
                      <a:lnTo>
                        <a:pt x="2231" y="726"/>
                      </a:lnTo>
                      <a:lnTo>
                        <a:pt x="2230" y="726"/>
                      </a:lnTo>
                      <a:lnTo>
                        <a:pt x="2229" y="726"/>
                      </a:lnTo>
                      <a:lnTo>
                        <a:pt x="2228" y="724"/>
                      </a:lnTo>
                      <a:lnTo>
                        <a:pt x="2227" y="723"/>
                      </a:lnTo>
                      <a:lnTo>
                        <a:pt x="2226" y="722"/>
                      </a:lnTo>
                      <a:lnTo>
                        <a:pt x="2226" y="721"/>
                      </a:lnTo>
                      <a:lnTo>
                        <a:pt x="2224" y="721"/>
                      </a:lnTo>
                      <a:lnTo>
                        <a:pt x="2224" y="720"/>
                      </a:lnTo>
                      <a:lnTo>
                        <a:pt x="2223" y="720"/>
                      </a:lnTo>
                      <a:lnTo>
                        <a:pt x="2223" y="719"/>
                      </a:lnTo>
                      <a:lnTo>
                        <a:pt x="2222" y="719"/>
                      </a:lnTo>
                      <a:lnTo>
                        <a:pt x="2222" y="718"/>
                      </a:lnTo>
                      <a:lnTo>
                        <a:pt x="2221" y="716"/>
                      </a:lnTo>
                      <a:lnTo>
                        <a:pt x="2220" y="715"/>
                      </a:lnTo>
                      <a:lnTo>
                        <a:pt x="2219" y="715"/>
                      </a:lnTo>
                      <a:lnTo>
                        <a:pt x="2219" y="714"/>
                      </a:lnTo>
                      <a:lnTo>
                        <a:pt x="2217" y="714"/>
                      </a:lnTo>
                      <a:lnTo>
                        <a:pt x="2217" y="713"/>
                      </a:lnTo>
                      <a:lnTo>
                        <a:pt x="2216" y="713"/>
                      </a:lnTo>
                      <a:lnTo>
                        <a:pt x="2215" y="713"/>
                      </a:lnTo>
                      <a:lnTo>
                        <a:pt x="2215" y="712"/>
                      </a:lnTo>
                      <a:lnTo>
                        <a:pt x="2214" y="712"/>
                      </a:lnTo>
                      <a:lnTo>
                        <a:pt x="2213" y="712"/>
                      </a:lnTo>
                      <a:lnTo>
                        <a:pt x="2212" y="712"/>
                      </a:lnTo>
                      <a:lnTo>
                        <a:pt x="2211" y="712"/>
                      </a:lnTo>
                      <a:lnTo>
                        <a:pt x="2209" y="712"/>
                      </a:lnTo>
                      <a:lnTo>
                        <a:pt x="2208" y="712"/>
                      </a:lnTo>
                      <a:lnTo>
                        <a:pt x="2207" y="712"/>
                      </a:lnTo>
                      <a:lnTo>
                        <a:pt x="2207" y="713"/>
                      </a:lnTo>
                      <a:lnTo>
                        <a:pt x="2206" y="713"/>
                      </a:lnTo>
                      <a:lnTo>
                        <a:pt x="2205" y="714"/>
                      </a:lnTo>
                      <a:lnTo>
                        <a:pt x="2204" y="715"/>
                      </a:lnTo>
                      <a:lnTo>
                        <a:pt x="2204" y="716"/>
                      </a:lnTo>
                      <a:lnTo>
                        <a:pt x="2202" y="716"/>
                      </a:lnTo>
                      <a:lnTo>
                        <a:pt x="2202" y="718"/>
                      </a:lnTo>
                      <a:lnTo>
                        <a:pt x="2202" y="719"/>
                      </a:lnTo>
                      <a:lnTo>
                        <a:pt x="2202" y="720"/>
                      </a:lnTo>
                      <a:lnTo>
                        <a:pt x="2202" y="721"/>
                      </a:lnTo>
                      <a:lnTo>
                        <a:pt x="2202" y="722"/>
                      </a:lnTo>
                      <a:lnTo>
                        <a:pt x="2202" y="724"/>
                      </a:lnTo>
                      <a:lnTo>
                        <a:pt x="2202" y="726"/>
                      </a:lnTo>
                      <a:lnTo>
                        <a:pt x="2202" y="727"/>
                      </a:lnTo>
                      <a:lnTo>
                        <a:pt x="2202" y="729"/>
                      </a:lnTo>
                      <a:lnTo>
                        <a:pt x="2202" y="730"/>
                      </a:lnTo>
                      <a:lnTo>
                        <a:pt x="2204" y="733"/>
                      </a:lnTo>
                      <a:lnTo>
                        <a:pt x="2204" y="735"/>
                      </a:lnTo>
                      <a:lnTo>
                        <a:pt x="2205" y="737"/>
                      </a:lnTo>
                      <a:lnTo>
                        <a:pt x="2206" y="739"/>
                      </a:lnTo>
                      <a:lnTo>
                        <a:pt x="2205" y="739"/>
                      </a:lnTo>
                      <a:lnTo>
                        <a:pt x="2205" y="738"/>
                      </a:lnTo>
                      <a:lnTo>
                        <a:pt x="2204" y="738"/>
                      </a:lnTo>
                      <a:lnTo>
                        <a:pt x="2202" y="738"/>
                      </a:lnTo>
                      <a:lnTo>
                        <a:pt x="2201" y="738"/>
                      </a:lnTo>
                      <a:lnTo>
                        <a:pt x="2200" y="738"/>
                      </a:lnTo>
                      <a:lnTo>
                        <a:pt x="2199" y="738"/>
                      </a:lnTo>
                      <a:lnTo>
                        <a:pt x="2198" y="738"/>
                      </a:lnTo>
                      <a:lnTo>
                        <a:pt x="2197" y="738"/>
                      </a:lnTo>
                      <a:lnTo>
                        <a:pt x="2196" y="738"/>
                      </a:lnTo>
                      <a:lnTo>
                        <a:pt x="2194" y="738"/>
                      </a:lnTo>
                      <a:lnTo>
                        <a:pt x="2193" y="738"/>
                      </a:lnTo>
                      <a:lnTo>
                        <a:pt x="2192" y="738"/>
                      </a:lnTo>
                      <a:lnTo>
                        <a:pt x="2191" y="738"/>
                      </a:lnTo>
                      <a:lnTo>
                        <a:pt x="2190" y="738"/>
                      </a:lnTo>
                      <a:lnTo>
                        <a:pt x="2189" y="738"/>
                      </a:lnTo>
                      <a:lnTo>
                        <a:pt x="2187" y="738"/>
                      </a:lnTo>
                      <a:lnTo>
                        <a:pt x="2186" y="738"/>
                      </a:lnTo>
                      <a:lnTo>
                        <a:pt x="2185" y="738"/>
                      </a:lnTo>
                      <a:lnTo>
                        <a:pt x="2184" y="739"/>
                      </a:lnTo>
                      <a:lnTo>
                        <a:pt x="2183" y="739"/>
                      </a:lnTo>
                      <a:lnTo>
                        <a:pt x="2181" y="739"/>
                      </a:lnTo>
                      <a:lnTo>
                        <a:pt x="2179" y="739"/>
                      </a:lnTo>
                      <a:lnTo>
                        <a:pt x="2178" y="739"/>
                      </a:lnTo>
                      <a:lnTo>
                        <a:pt x="2176" y="739"/>
                      </a:lnTo>
                      <a:lnTo>
                        <a:pt x="2175" y="739"/>
                      </a:lnTo>
                      <a:lnTo>
                        <a:pt x="2174" y="739"/>
                      </a:lnTo>
                      <a:lnTo>
                        <a:pt x="2171" y="739"/>
                      </a:lnTo>
                      <a:lnTo>
                        <a:pt x="2170" y="738"/>
                      </a:lnTo>
                      <a:lnTo>
                        <a:pt x="2168" y="737"/>
                      </a:lnTo>
                      <a:lnTo>
                        <a:pt x="2167" y="736"/>
                      </a:lnTo>
                      <a:lnTo>
                        <a:pt x="2164" y="735"/>
                      </a:lnTo>
                      <a:lnTo>
                        <a:pt x="2162" y="734"/>
                      </a:lnTo>
                      <a:lnTo>
                        <a:pt x="2160" y="733"/>
                      </a:lnTo>
                      <a:lnTo>
                        <a:pt x="2157" y="733"/>
                      </a:lnTo>
                      <a:lnTo>
                        <a:pt x="2155" y="731"/>
                      </a:lnTo>
                      <a:lnTo>
                        <a:pt x="2153" y="730"/>
                      </a:lnTo>
                      <a:lnTo>
                        <a:pt x="2150" y="729"/>
                      </a:lnTo>
                      <a:lnTo>
                        <a:pt x="2148" y="729"/>
                      </a:lnTo>
                      <a:lnTo>
                        <a:pt x="2145" y="728"/>
                      </a:lnTo>
                      <a:lnTo>
                        <a:pt x="2142" y="727"/>
                      </a:lnTo>
                      <a:lnTo>
                        <a:pt x="2139" y="727"/>
                      </a:lnTo>
                      <a:lnTo>
                        <a:pt x="2137" y="726"/>
                      </a:lnTo>
                      <a:lnTo>
                        <a:pt x="2133" y="726"/>
                      </a:lnTo>
                      <a:lnTo>
                        <a:pt x="2131" y="724"/>
                      </a:lnTo>
                      <a:lnTo>
                        <a:pt x="2127" y="724"/>
                      </a:lnTo>
                      <a:lnTo>
                        <a:pt x="2125" y="723"/>
                      </a:lnTo>
                      <a:lnTo>
                        <a:pt x="2122" y="723"/>
                      </a:lnTo>
                      <a:lnTo>
                        <a:pt x="2118" y="723"/>
                      </a:lnTo>
                      <a:lnTo>
                        <a:pt x="2116" y="722"/>
                      </a:lnTo>
                      <a:lnTo>
                        <a:pt x="2112" y="722"/>
                      </a:lnTo>
                      <a:lnTo>
                        <a:pt x="2110" y="722"/>
                      </a:lnTo>
                      <a:lnTo>
                        <a:pt x="2107" y="722"/>
                      </a:lnTo>
                      <a:lnTo>
                        <a:pt x="2104" y="722"/>
                      </a:lnTo>
                      <a:lnTo>
                        <a:pt x="2101" y="722"/>
                      </a:lnTo>
                      <a:lnTo>
                        <a:pt x="2098" y="722"/>
                      </a:lnTo>
                      <a:lnTo>
                        <a:pt x="2095" y="721"/>
                      </a:lnTo>
                      <a:lnTo>
                        <a:pt x="2093" y="722"/>
                      </a:lnTo>
                      <a:lnTo>
                        <a:pt x="2090" y="722"/>
                      </a:lnTo>
                      <a:lnTo>
                        <a:pt x="2088" y="722"/>
                      </a:lnTo>
                      <a:lnTo>
                        <a:pt x="2088" y="720"/>
                      </a:lnTo>
                      <a:lnTo>
                        <a:pt x="2089" y="719"/>
                      </a:lnTo>
                      <a:lnTo>
                        <a:pt x="2090" y="718"/>
                      </a:lnTo>
                      <a:lnTo>
                        <a:pt x="2090" y="716"/>
                      </a:lnTo>
                      <a:lnTo>
                        <a:pt x="2092" y="715"/>
                      </a:lnTo>
                      <a:lnTo>
                        <a:pt x="2092" y="714"/>
                      </a:lnTo>
                      <a:lnTo>
                        <a:pt x="2093" y="713"/>
                      </a:lnTo>
                      <a:lnTo>
                        <a:pt x="2094" y="712"/>
                      </a:lnTo>
                      <a:lnTo>
                        <a:pt x="2094" y="711"/>
                      </a:lnTo>
                      <a:lnTo>
                        <a:pt x="2095" y="709"/>
                      </a:lnTo>
                      <a:lnTo>
                        <a:pt x="2096" y="708"/>
                      </a:lnTo>
                      <a:lnTo>
                        <a:pt x="2096" y="707"/>
                      </a:lnTo>
                      <a:lnTo>
                        <a:pt x="2097" y="706"/>
                      </a:lnTo>
                      <a:lnTo>
                        <a:pt x="2097" y="704"/>
                      </a:lnTo>
                      <a:lnTo>
                        <a:pt x="2098" y="703"/>
                      </a:lnTo>
                      <a:lnTo>
                        <a:pt x="2100" y="701"/>
                      </a:lnTo>
                      <a:lnTo>
                        <a:pt x="2100" y="700"/>
                      </a:lnTo>
                      <a:lnTo>
                        <a:pt x="2101" y="699"/>
                      </a:lnTo>
                      <a:lnTo>
                        <a:pt x="2101" y="697"/>
                      </a:lnTo>
                      <a:lnTo>
                        <a:pt x="2102" y="696"/>
                      </a:lnTo>
                      <a:lnTo>
                        <a:pt x="2102" y="693"/>
                      </a:lnTo>
                      <a:lnTo>
                        <a:pt x="2103" y="692"/>
                      </a:lnTo>
                      <a:lnTo>
                        <a:pt x="2103" y="690"/>
                      </a:lnTo>
                      <a:lnTo>
                        <a:pt x="2104" y="689"/>
                      </a:lnTo>
                      <a:lnTo>
                        <a:pt x="2104" y="686"/>
                      </a:lnTo>
                      <a:lnTo>
                        <a:pt x="2105" y="684"/>
                      </a:lnTo>
                      <a:lnTo>
                        <a:pt x="2105" y="682"/>
                      </a:lnTo>
                      <a:lnTo>
                        <a:pt x="2105" y="679"/>
                      </a:lnTo>
                      <a:lnTo>
                        <a:pt x="2107" y="677"/>
                      </a:lnTo>
                      <a:lnTo>
                        <a:pt x="2107" y="675"/>
                      </a:lnTo>
                      <a:lnTo>
                        <a:pt x="2107" y="672"/>
                      </a:lnTo>
                      <a:lnTo>
                        <a:pt x="2108" y="669"/>
                      </a:lnTo>
                      <a:lnTo>
                        <a:pt x="2108" y="667"/>
                      </a:lnTo>
                      <a:lnTo>
                        <a:pt x="2108" y="663"/>
                      </a:lnTo>
                      <a:lnTo>
                        <a:pt x="2108" y="660"/>
                      </a:lnTo>
                      <a:lnTo>
                        <a:pt x="2108" y="656"/>
                      </a:lnTo>
                      <a:lnTo>
                        <a:pt x="2108" y="653"/>
                      </a:lnTo>
                      <a:lnTo>
                        <a:pt x="2108" y="651"/>
                      </a:lnTo>
                      <a:lnTo>
                        <a:pt x="2108" y="646"/>
                      </a:lnTo>
                      <a:lnTo>
                        <a:pt x="2108" y="642"/>
                      </a:lnTo>
                      <a:lnTo>
                        <a:pt x="2108" y="639"/>
                      </a:lnTo>
                      <a:lnTo>
                        <a:pt x="2108" y="636"/>
                      </a:lnTo>
                      <a:lnTo>
                        <a:pt x="2107" y="632"/>
                      </a:lnTo>
                      <a:lnTo>
                        <a:pt x="2107" y="629"/>
                      </a:lnTo>
                      <a:lnTo>
                        <a:pt x="2107" y="625"/>
                      </a:lnTo>
                      <a:lnTo>
                        <a:pt x="2105" y="622"/>
                      </a:lnTo>
                      <a:lnTo>
                        <a:pt x="2105" y="618"/>
                      </a:lnTo>
                      <a:lnTo>
                        <a:pt x="2104" y="614"/>
                      </a:lnTo>
                      <a:lnTo>
                        <a:pt x="2104" y="610"/>
                      </a:lnTo>
                      <a:lnTo>
                        <a:pt x="2103" y="607"/>
                      </a:lnTo>
                      <a:lnTo>
                        <a:pt x="2103" y="604"/>
                      </a:lnTo>
                      <a:lnTo>
                        <a:pt x="2102" y="601"/>
                      </a:lnTo>
                      <a:lnTo>
                        <a:pt x="2101" y="597"/>
                      </a:lnTo>
                      <a:lnTo>
                        <a:pt x="2101" y="594"/>
                      </a:lnTo>
                      <a:lnTo>
                        <a:pt x="2100" y="592"/>
                      </a:lnTo>
                      <a:lnTo>
                        <a:pt x="2098" y="588"/>
                      </a:lnTo>
                      <a:lnTo>
                        <a:pt x="2097" y="586"/>
                      </a:lnTo>
                      <a:lnTo>
                        <a:pt x="2096" y="584"/>
                      </a:lnTo>
                      <a:lnTo>
                        <a:pt x="2096" y="580"/>
                      </a:lnTo>
                      <a:lnTo>
                        <a:pt x="2095" y="579"/>
                      </a:lnTo>
                      <a:lnTo>
                        <a:pt x="2094" y="577"/>
                      </a:lnTo>
                      <a:lnTo>
                        <a:pt x="2093" y="574"/>
                      </a:lnTo>
                      <a:lnTo>
                        <a:pt x="2092" y="573"/>
                      </a:lnTo>
                      <a:lnTo>
                        <a:pt x="2090" y="571"/>
                      </a:lnTo>
                      <a:lnTo>
                        <a:pt x="2090" y="569"/>
                      </a:lnTo>
                      <a:lnTo>
                        <a:pt x="2090" y="566"/>
                      </a:lnTo>
                      <a:lnTo>
                        <a:pt x="2090" y="564"/>
                      </a:lnTo>
                      <a:lnTo>
                        <a:pt x="2090" y="563"/>
                      </a:lnTo>
                      <a:lnTo>
                        <a:pt x="2092" y="560"/>
                      </a:lnTo>
                      <a:lnTo>
                        <a:pt x="2092" y="558"/>
                      </a:lnTo>
                      <a:lnTo>
                        <a:pt x="2092" y="556"/>
                      </a:lnTo>
                      <a:lnTo>
                        <a:pt x="2092" y="553"/>
                      </a:lnTo>
                      <a:lnTo>
                        <a:pt x="2092" y="551"/>
                      </a:lnTo>
                      <a:lnTo>
                        <a:pt x="2093" y="549"/>
                      </a:lnTo>
                      <a:lnTo>
                        <a:pt x="2093" y="548"/>
                      </a:lnTo>
                      <a:lnTo>
                        <a:pt x="2093" y="545"/>
                      </a:lnTo>
                      <a:lnTo>
                        <a:pt x="2093" y="543"/>
                      </a:lnTo>
                      <a:lnTo>
                        <a:pt x="2093" y="541"/>
                      </a:lnTo>
                      <a:lnTo>
                        <a:pt x="2093" y="540"/>
                      </a:lnTo>
                      <a:lnTo>
                        <a:pt x="2094" y="537"/>
                      </a:lnTo>
                      <a:lnTo>
                        <a:pt x="2094" y="536"/>
                      </a:lnTo>
                      <a:lnTo>
                        <a:pt x="2093" y="534"/>
                      </a:lnTo>
                      <a:lnTo>
                        <a:pt x="2093" y="532"/>
                      </a:lnTo>
                      <a:lnTo>
                        <a:pt x="2093" y="530"/>
                      </a:lnTo>
                      <a:lnTo>
                        <a:pt x="2093" y="528"/>
                      </a:lnTo>
                      <a:lnTo>
                        <a:pt x="2093" y="527"/>
                      </a:lnTo>
                      <a:lnTo>
                        <a:pt x="2092" y="526"/>
                      </a:lnTo>
                      <a:lnTo>
                        <a:pt x="2092" y="523"/>
                      </a:lnTo>
                      <a:lnTo>
                        <a:pt x="2090" y="522"/>
                      </a:lnTo>
                      <a:lnTo>
                        <a:pt x="2089" y="520"/>
                      </a:lnTo>
                      <a:lnTo>
                        <a:pt x="2088" y="519"/>
                      </a:lnTo>
                      <a:lnTo>
                        <a:pt x="2087" y="518"/>
                      </a:lnTo>
                      <a:lnTo>
                        <a:pt x="2086" y="517"/>
                      </a:lnTo>
                      <a:lnTo>
                        <a:pt x="2085" y="514"/>
                      </a:lnTo>
                      <a:lnTo>
                        <a:pt x="2083" y="513"/>
                      </a:lnTo>
                      <a:lnTo>
                        <a:pt x="2081" y="512"/>
                      </a:lnTo>
                      <a:lnTo>
                        <a:pt x="2081" y="510"/>
                      </a:lnTo>
                      <a:lnTo>
                        <a:pt x="2081" y="508"/>
                      </a:lnTo>
                      <a:lnTo>
                        <a:pt x="2081" y="506"/>
                      </a:lnTo>
                      <a:lnTo>
                        <a:pt x="2081" y="504"/>
                      </a:lnTo>
                      <a:lnTo>
                        <a:pt x="2081" y="503"/>
                      </a:lnTo>
                      <a:lnTo>
                        <a:pt x="2081" y="500"/>
                      </a:lnTo>
                      <a:lnTo>
                        <a:pt x="2081" y="498"/>
                      </a:lnTo>
                      <a:lnTo>
                        <a:pt x="2081" y="496"/>
                      </a:lnTo>
                      <a:lnTo>
                        <a:pt x="2080" y="493"/>
                      </a:lnTo>
                      <a:lnTo>
                        <a:pt x="2080" y="492"/>
                      </a:lnTo>
                      <a:lnTo>
                        <a:pt x="2080" y="490"/>
                      </a:lnTo>
                      <a:lnTo>
                        <a:pt x="2080" y="488"/>
                      </a:lnTo>
                      <a:lnTo>
                        <a:pt x="2079" y="485"/>
                      </a:lnTo>
                      <a:lnTo>
                        <a:pt x="2079" y="483"/>
                      </a:lnTo>
                      <a:lnTo>
                        <a:pt x="2078" y="481"/>
                      </a:lnTo>
                      <a:lnTo>
                        <a:pt x="2078" y="478"/>
                      </a:lnTo>
                      <a:lnTo>
                        <a:pt x="2077" y="476"/>
                      </a:lnTo>
                      <a:lnTo>
                        <a:pt x="2077" y="474"/>
                      </a:lnTo>
                      <a:lnTo>
                        <a:pt x="2075" y="473"/>
                      </a:lnTo>
                      <a:lnTo>
                        <a:pt x="2074" y="470"/>
                      </a:lnTo>
                      <a:lnTo>
                        <a:pt x="2074" y="468"/>
                      </a:lnTo>
                      <a:lnTo>
                        <a:pt x="2073" y="466"/>
                      </a:lnTo>
                      <a:lnTo>
                        <a:pt x="2072" y="463"/>
                      </a:lnTo>
                      <a:lnTo>
                        <a:pt x="2071" y="461"/>
                      </a:lnTo>
                      <a:lnTo>
                        <a:pt x="2070" y="459"/>
                      </a:lnTo>
                      <a:lnTo>
                        <a:pt x="2068" y="456"/>
                      </a:lnTo>
                      <a:lnTo>
                        <a:pt x="2067" y="454"/>
                      </a:lnTo>
                      <a:lnTo>
                        <a:pt x="2066" y="452"/>
                      </a:lnTo>
                      <a:lnTo>
                        <a:pt x="2065" y="451"/>
                      </a:lnTo>
                      <a:lnTo>
                        <a:pt x="2063" y="448"/>
                      </a:lnTo>
                      <a:lnTo>
                        <a:pt x="2062" y="446"/>
                      </a:lnTo>
                      <a:lnTo>
                        <a:pt x="2059" y="444"/>
                      </a:lnTo>
                      <a:lnTo>
                        <a:pt x="2059" y="443"/>
                      </a:lnTo>
                      <a:lnTo>
                        <a:pt x="2059" y="441"/>
                      </a:lnTo>
                      <a:lnTo>
                        <a:pt x="2059" y="440"/>
                      </a:lnTo>
                      <a:lnTo>
                        <a:pt x="2059" y="439"/>
                      </a:lnTo>
                      <a:lnTo>
                        <a:pt x="2059" y="438"/>
                      </a:lnTo>
                      <a:lnTo>
                        <a:pt x="2059" y="437"/>
                      </a:lnTo>
                      <a:lnTo>
                        <a:pt x="2059" y="436"/>
                      </a:lnTo>
                      <a:lnTo>
                        <a:pt x="2059" y="435"/>
                      </a:lnTo>
                      <a:lnTo>
                        <a:pt x="2059" y="433"/>
                      </a:lnTo>
                      <a:lnTo>
                        <a:pt x="2059" y="432"/>
                      </a:lnTo>
                      <a:lnTo>
                        <a:pt x="2059" y="431"/>
                      </a:lnTo>
                      <a:lnTo>
                        <a:pt x="2059" y="430"/>
                      </a:lnTo>
                      <a:lnTo>
                        <a:pt x="2059" y="429"/>
                      </a:lnTo>
                      <a:lnTo>
                        <a:pt x="2059" y="428"/>
                      </a:lnTo>
                      <a:lnTo>
                        <a:pt x="2058" y="426"/>
                      </a:lnTo>
                      <a:lnTo>
                        <a:pt x="2058" y="425"/>
                      </a:lnTo>
                      <a:lnTo>
                        <a:pt x="2058" y="424"/>
                      </a:lnTo>
                      <a:lnTo>
                        <a:pt x="2058" y="423"/>
                      </a:lnTo>
                      <a:lnTo>
                        <a:pt x="2058" y="422"/>
                      </a:lnTo>
                      <a:lnTo>
                        <a:pt x="2058" y="421"/>
                      </a:lnTo>
                      <a:lnTo>
                        <a:pt x="2058" y="419"/>
                      </a:lnTo>
                      <a:lnTo>
                        <a:pt x="2058" y="418"/>
                      </a:lnTo>
                      <a:lnTo>
                        <a:pt x="2058" y="417"/>
                      </a:lnTo>
                      <a:lnTo>
                        <a:pt x="2058" y="416"/>
                      </a:lnTo>
                      <a:lnTo>
                        <a:pt x="2058" y="415"/>
                      </a:lnTo>
                      <a:lnTo>
                        <a:pt x="2057" y="414"/>
                      </a:lnTo>
                      <a:lnTo>
                        <a:pt x="2057" y="413"/>
                      </a:lnTo>
                      <a:lnTo>
                        <a:pt x="2057" y="411"/>
                      </a:lnTo>
                      <a:lnTo>
                        <a:pt x="2057" y="410"/>
                      </a:lnTo>
                      <a:lnTo>
                        <a:pt x="2057" y="409"/>
                      </a:lnTo>
                      <a:lnTo>
                        <a:pt x="2057" y="408"/>
                      </a:lnTo>
                      <a:lnTo>
                        <a:pt x="2057" y="407"/>
                      </a:lnTo>
                      <a:lnTo>
                        <a:pt x="2056" y="406"/>
                      </a:lnTo>
                      <a:lnTo>
                        <a:pt x="2056" y="404"/>
                      </a:lnTo>
                      <a:lnTo>
                        <a:pt x="2055" y="403"/>
                      </a:lnTo>
                      <a:lnTo>
                        <a:pt x="2055" y="402"/>
                      </a:lnTo>
                      <a:lnTo>
                        <a:pt x="2053" y="401"/>
                      </a:lnTo>
                      <a:lnTo>
                        <a:pt x="2053" y="400"/>
                      </a:lnTo>
                      <a:lnTo>
                        <a:pt x="2052" y="399"/>
                      </a:lnTo>
                      <a:lnTo>
                        <a:pt x="2051" y="398"/>
                      </a:lnTo>
                      <a:lnTo>
                        <a:pt x="2051" y="396"/>
                      </a:lnTo>
                      <a:lnTo>
                        <a:pt x="2050" y="395"/>
                      </a:lnTo>
                      <a:lnTo>
                        <a:pt x="2050" y="394"/>
                      </a:lnTo>
                      <a:lnTo>
                        <a:pt x="2049" y="393"/>
                      </a:lnTo>
                      <a:lnTo>
                        <a:pt x="2049" y="392"/>
                      </a:lnTo>
                      <a:lnTo>
                        <a:pt x="2048" y="391"/>
                      </a:lnTo>
                      <a:lnTo>
                        <a:pt x="2048" y="389"/>
                      </a:lnTo>
                      <a:lnTo>
                        <a:pt x="2046" y="388"/>
                      </a:lnTo>
                      <a:lnTo>
                        <a:pt x="2046" y="386"/>
                      </a:lnTo>
                      <a:lnTo>
                        <a:pt x="2045" y="385"/>
                      </a:lnTo>
                      <a:lnTo>
                        <a:pt x="2045" y="383"/>
                      </a:lnTo>
                      <a:lnTo>
                        <a:pt x="2044" y="381"/>
                      </a:lnTo>
                      <a:lnTo>
                        <a:pt x="2044" y="379"/>
                      </a:lnTo>
                      <a:lnTo>
                        <a:pt x="2043" y="377"/>
                      </a:lnTo>
                      <a:lnTo>
                        <a:pt x="2043" y="373"/>
                      </a:lnTo>
                      <a:lnTo>
                        <a:pt x="2042" y="371"/>
                      </a:lnTo>
                      <a:lnTo>
                        <a:pt x="2042" y="369"/>
                      </a:lnTo>
                      <a:lnTo>
                        <a:pt x="2041" y="365"/>
                      </a:lnTo>
                      <a:lnTo>
                        <a:pt x="2041" y="364"/>
                      </a:lnTo>
                      <a:lnTo>
                        <a:pt x="2041" y="363"/>
                      </a:lnTo>
                      <a:lnTo>
                        <a:pt x="2040" y="363"/>
                      </a:lnTo>
                      <a:lnTo>
                        <a:pt x="2040" y="362"/>
                      </a:lnTo>
                      <a:lnTo>
                        <a:pt x="2040" y="361"/>
                      </a:lnTo>
                      <a:lnTo>
                        <a:pt x="2038" y="358"/>
                      </a:lnTo>
                      <a:lnTo>
                        <a:pt x="2038" y="357"/>
                      </a:lnTo>
                      <a:lnTo>
                        <a:pt x="2037" y="356"/>
                      </a:lnTo>
                      <a:lnTo>
                        <a:pt x="2036" y="354"/>
                      </a:lnTo>
                      <a:lnTo>
                        <a:pt x="2036" y="351"/>
                      </a:lnTo>
                      <a:lnTo>
                        <a:pt x="2035" y="350"/>
                      </a:lnTo>
                      <a:lnTo>
                        <a:pt x="2034" y="348"/>
                      </a:lnTo>
                      <a:lnTo>
                        <a:pt x="2033" y="346"/>
                      </a:lnTo>
                      <a:lnTo>
                        <a:pt x="2031" y="344"/>
                      </a:lnTo>
                      <a:lnTo>
                        <a:pt x="2030" y="342"/>
                      </a:lnTo>
                      <a:lnTo>
                        <a:pt x="2029" y="340"/>
                      </a:lnTo>
                      <a:lnTo>
                        <a:pt x="2028" y="339"/>
                      </a:lnTo>
                      <a:lnTo>
                        <a:pt x="2027" y="336"/>
                      </a:lnTo>
                      <a:lnTo>
                        <a:pt x="2026" y="334"/>
                      </a:lnTo>
                      <a:lnTo>
                        <a:pt x="2025" y="333"/>
                      </a:lnTo>
                      <a:lnTo>
                        <a:pt x="2023" y="331"/>
                      </a:lnTo>
                      <a:lnTo>
                        <a:pt x="2022" y="329"/>
                      </a:lnTo>
                      <a:lnTo>
                        <a:pt x="2021" y="328"/>
                      </a:lnTo>
                      <a:lnTo>
                        <a:pt x="2019" y="327"/>
                      </a:lnTo>
                      <a:lnTo>
                        <a:pt x="2018" y="326"/>
                      </a:lnTo>
                      <a:lnTo>
                        <a:pt x="2016" y="325"/>
                      </a:lnTo>
                      <a:lnTo>
                        <a:pt x="2015" y="324"/>
                      </a:lnTo>
                      <a:lnTo>
                        <a:pt x="2013" y="324"/>
                      </a:lnTo>
                      <a:lnTo>
                        <a:pt x="2012" y="324"/>
                      </a:lnTo>
                      <a:lnTo>
                        <a:pt x="2011" y="324"/>
                      </a:lnTo>
                      <a:lnTo>
                        <a:pt x="2008" y="324"/>
                      </a:lnTo>
                      <a:lnTo>
                        <a:pt x="2008" y="322"/>
                      </a:lnTo>
                      <a:lnTo>
                        <a:pt x="2007" y="321"/>
                      </a:lnTo>
                      <a:lnTo>
                        <a:pt x="2007" y="320"/>
                      </a:lnTo>
                      <a:lnTo>
                        <a:pt x="2006" y="319"/>
                      </a:lnTo>
                      <a:lnTo>
                        <a:pt x="2006" y="318"/>
                      </a:lnTo>
                      <a:lnTo>
                        <a:pt x="2005" y="317"/>
                      </a:lnTo>
                      <a:lnTo>
                        <a:pt x="2005" y="316"/>
                      </a:lnTo>
                      <a:lnTo>
                        <a:pt x="2004" y="316"/>
                      </a:lnTo>
                      <a:lnTo>
                        <a:pt x="2004" y="314"/>
                      </a:lnTo>
                      <a:lnTo>
                        <a:pt x="2003" y="314"/>
                      </a:lnTo>
                      <a:lnTo>
                        <a:pt x="2003" y="313"/>
                      </a:lnTo>
                      <a:lnTo>
                        <a:pt x="2001" y="313"/>
                      </a:lnTo>
                      <a:lnTo>
                        <a:pt x="2001" y="312"/>
                      </a:lnTo>
                      <a:lnTo>
                        <a:pt x="2000" y="312"/>
                      </a:lnTo>
                      <a:lnTo>
                        <a:pt x="1999" y="312"/>
                      </a:lnTo>
                      <a:lnTo>
                        <a:pt x="1998" y="312"/>
                      </a:lnTo>
                      <a:lnTo>
                        <a:pt x="1996" y="311"/>
                      </a:lnTo>
                      <a:lnTo>
                        <a:pt x="1992" y="310"/>
                      </a:lnTo>
                      <a:lnTo>
                        <a:pt x="1989" y="309"/>
                      </a:lnTo>
                      <a:lnTo>
                        <a:pt x="1985" y="307"/>
                      </a:lnTo>
                      <a:lnTo>
                        <a:pt x="1982" y="306"/>
                      </a:lnTo>
                      <a:lnTo>
                        <a:pt x="1977" y="305"/>
                      </a:lnTo>
                      <a:lnTo>
                        <a:pt x="1974" y="305"/>
                      </a:lnTo>
                      <a:lnTo>
                        <a:pt x="1970" y="304"/>
                      </a:lnTo>
                      <a:lnTo>
                        <a:pt x="1966" y="303"/>
                      </a:lnTo>
                      <a:lnTo>
                        <a:pt x="1962" y="303"/>
                      </a:lnTo>
                      <a:lnTo>
                        <a:pt x="1958" y="302"/>
                      </a:lnTo>
                      <a:lnTo>
                        <a:pt x="1953" y="302"/>
                      </a:lnTo>
                      <a:lnTo>
                        <a:pt x="1949" y="301"/>
                      </a:lnTo>
                      <a:lnTo>
                        <a:pt x="1945" y="301"/>
                      </a:lnTo>
                      <a:lnTo>
                        <a:pt x="1940" y="299"/>
                      </a:lnTo>
                      <a:lnTo>
                        <a:pt x="1937" y="299"/>
                      </a:lnTo>
                      <a:lnTo>
                        <a:pt x="1932" y="298"/>
                      </a:lnTo>
                      <a:lnTo>
                        <a:pt x="1927" y="298"/>
                      </a:lnTo>
                      <a:lnTo>
                        <a:pt x="1923" y="298"/>
                      </a:lnTo>
                      <a:lnTo>
                        <a:pt x="1918" y="297"/>
                      </a:lnTo>
                      <a:lnTo>
                        <a:pt x="1915" y="297"/>
                      </a:lnTo>
                      <a:lnTo>
                        <a:pt x="1910" y="296"/>
                      </a:lnTo>
                      <a:lnTo>
                        <a:pt x="1906" y="296"/>
                      </a:lnTo>
                      <a:lnTo>
                        <a:pt x="1901" y="295"/>
                      </a:lnTo>
                      <a:lnTo>
                        <a:pt x="1897" y="295"/>
                      </a:lnTo>
                      <a:lnTo>
                        <a:pt x="1893" y="295"/>
                      </a:lnTo>
                      <a:lnTo>
                        <a:pt x="1888" y="294"/>
                      </a:lnTo>
                      <a:lnTo>
                        <a:pt x="1885" y="294"/>
                      </a:lnTo>
                      <a:lnTo>
                        <a:pt x="1880" y="292"/>
                      </a:lnTo>
                      <a:lnTo>
                        <a:pt x="1875" y="291"/>
                      </a:lnTo>
                      <a:lnTo>
                        <a:pt x="1872" y="291"/>
                      </a:lnTo>
                      <a:lnTo>
                        <a:pt x="1869" y="290"/>
                      </a:lnTo>
                      <a:lnTo>
                        <a:pt x="1859" y="280"/>
                      </a:lnTo>
                      <a:lnTo>
                        <a:pt x="1872" y="265"/>
                      </a:lnTo>
                      <a:lnTo>
                        <a:pt x="1872" y="262"/>
                      </a:lnTo>
                      <a:lnTo>
                        <a:pt x="1872" y="261"/>
                      </a:lnTo>
                      <a:lnTo>
                        <a:pt x="1872" y="260"/>
                      </a:lnTo>
                      <a:lnTo>
                        <a:pt x="1872" y="259"/>
                      </a:lnTo>
                      <a:lnTo>
                        <a:pt x="1871" y="259"/>
                      </a:lnTo>
                      <a:lnTo>
                        <a:pt x="1871" y="258"/>
                      </a:lnTo>
                      <a:lnTo>
                        <a:pt x="1870" y="257"/>
                      </a:lnTo>
                      <a:lnTo>
                        <a:pt x="1869" y="257"/>
                      </a:lnTo>
                      <a:lnTo>
                        <a:pt x="1869" y="255"/>
                      </a:lnTo>
                      <a:lnTo>
                        <a:pt x="1867" y="255"/>
                      </a:lnTo>
                      <a:lnTo>
                        <a:pt x="1866" y="255"/>
                      </a:lnTo>
                      <a:lnTo>
                        <a:pt x="1866" y="254"/>
                      </a:lnTo>
                      <a:lnTo>
                        <a:pt x="1865" y="253"/>
                      </a:lnTo>
                      <a:lnTo>
                        <a:pt x="1865" y="252"/>
                      </a:lnTo>
                      <a:lnTo>
                        <a:pt x="1866" y="252"/>
                      </a:lnTo>
                      <a:lnTo>
                        <a:pt x="1866" y="251"/>
                      </a:lnTo>
                      <a:lnTo>
                        <a:pt x="1866" y="250"/>
                      </a:lnTo>
                      <a:lnTo>
                        <a:pt x="1866" y="249"/>
                      </a:lnTo>
                      <a:lnTo>
                        <a:pt x="1867" y="247"/>
                      </a:lnTo>
                      <a:lnTo>
                        <a:pt x="1867" y="245"/>
                      </a:lnTo>
                      <a:lnTo>
                        <a:pt x="1869" y="244"/>
                      </a:lnTo>
                      <a:lnTo>
                        <a:pt x="1869" y="242"/>
                      </a:lnTo>
                      <a:lnTo>
                        <a:pt x="1870" y="239"/>
                      </a:lnTo>
                      <a:lnTo>
                        <a:pt x="1870" y="237"/>
                      </a:lnTo>
                      <a:lnTo>
                        <a:pt x="1871" y="235"/>
                      </a:lnTo>
                      <a:lnTo>
                        <a:pt x="1871" y="232"/>
                      </a:lnTo>
                      <a:lnTo>
                        <a:pt x="1872" y="230"/>
                      </a:lnTo>
                      <a:lnTo>
                        <a:pt x="1872" y="228"/>
                      </a:lnTo>
                      <a:lnTo>
                        <a:pt x="1873" y="224"/>
                      </a:lnTo>
                      <a:lnTo>
                        <a:pt x="1873" y="222"/>
                      </a:lnTo>
                      <a:lnTo>
                        <a:pt x="1873" y="220"/>
                      </a:lnTo>
                      <a:lnTo>
                        <a:pt x="1873" y="217"/>
                      </a:lnTo>
                      <a:lnTo>
                        <a:pt x="1873" y="214"/>
                      </a:lnTo>
                      <a:lnTo>
                        <a:pt x="1874" y="212"/>
                      </a:lnTo>
                      <a:lnTo>
                        <a:pt x="1874" y="209"/>
                      </a:lnTo>
                      <a:lnTo>
                        <a:pt x="1874" y="207"/>
                      </a:lnTo>
                      <a:lnTo>
                        <a:pt x="1874" y="205"/>
                      </a:lnTo>
                      <a:lnTo>
                        <a:pt x="1874" y="201"/>
                      </a:lnTo>
                      <a:lnTo>
                        <a:pt x="1874" y="199"/>
                      </a:lnTo>
                      <a:lnTo>
                        <a:pt x="1874" y="197"/>
                      </a:lnTo>
                      <a:lnTo>
                        <a:pt x="1874" y="194"/>
                      </a:lnTo>
                      <a:lnTo>
                        <a:pt x="1873" y="192"/>
                      </a:lnTo>
                      <a:lnTo>
                        <a:pt x="1873" y="190"/>
                      </a:lnTo>
                      <a:lnTo>
                        <a:pt x="1873" y="187"/>
                      </a:lnTo>
                      <a:lnTo>
                        <a:pt x="1873" y="185"/>
                      </a:lnTo>
                      <a:lnTo>
                        <a:pt x="1873" y="184"/>
                      </a:lnTo>
                      <a:lnTo>
                        <a:pt x="1873" y="182"/>
                      </a:lnTo>
                      <a:lnTo>
                        <a:pt x="1873" y="179"/>
                      </a:lnTo>
                      <a:lnTo>
                        <a:pt x="1873" y="178"/>
                      </a:lnTo>
                      <a:lnTo>
                        <a:pt x="1873" y="176"/>
                      </a:lnTo>
                      <a:lnTo>
                        <a:pt x="1872" y="175"/>
                      </a:lnTo>
                      <a:lnTo>
                        <a:pt x="1872" y="173"/>
                      </a:lnTo>
                      <a:lnTo>
                        <a:pt x="1872" y="172"/>
                      </a:lnTo>
                      <a:lnTo>
                        <a:pt x="1872" y="171"/>
                      </a:lnTo>
                      <a:lnTo>
                        <a:pt x="1871" y="169"/>
                      </a:lnTo>
                      <a:lnTo>
                        <a:pt x="1871" y="167"/>
                      </a:lnTo>
                      <a:lnTo>
                        <a:pt x="1870" y="165"/>
                      </a:lnTo>
                      <a:lnTo>
                        <a:pt x="1869" y="163"/>
                      </a:lnTo>
                      <a:lnTo>
                        <a:pt x="1866" y="161"/>
                      </a:lnTo>
                      <a:lnTo>
                        <a:pt x="1865" y="160"/>
                      </a:lnTo>
                      <a:lnTo>
                        <a:pt x="1864" y="157"/>
                      </a:lnTo>
                      <a:lnTo>
                        <a:pt x="1862" y="155"/>
                      </a:lnTo>
                      <a:lnTo>
                        <a:pt x="1860" y="153"/>
                      </a:lnTo>
                      <a:lnTo>
                        <a:pt x="1858" y="151"/>
                      </a:lnTo>
                      <a:lnTo>
                        <a:pt x="1857" y="149"/>
                      </a:lnTo>
                      <a:lnTo>
                        <a:pt x="1855" y="147"/>
                      </a:lnTo>
                      <a:lnTo>
                        <a:pt x="1852" y="146"/>
                      </a:lnTo>
                      <a:lnTo>
                        <a:pt x="1851" y="143"/>
                      </a:lnTo>
                      <a:lnTo>
                        <a:pt x="1849" y="141"/>
                      </a:lnTo>
                      <a:lnTo>
                        <a:pt x="1847" y="139"/>
                      </a:lnTo>
                      <a:lnTo>
                        <a:pt x="1844" y="138"/>
                      </a:lnTo>
                      <a:lnTo>
                        <a:pt x="1843" y="135"/>
                      </a:lnTo>
                      <a:lnTo>
                        <a:pt x="1841" y="134"/>
                      </a:lnTo>
                      <a:lnTo>
                        <a:pt x="1838" y="132"/>
                      </a:lnTo>
                      <a:lnTo>
                        <a:pt x="1836" y="130"/>
                      </a:lnTo>
                      <a:lnTo>
                        <a:pt x="1835" y="128"/>
                      </a:lnTo>
                      <a:lnTo>
                        <a:pt x="1833" y="126"/>
                      </a:lnTo>
                      <a:lnTo>
                        <a:pt x="1830" y="125"/>
                      </a:lnTo>
                      <a:lnTo>
                        <a:pt x="1829" y="123"/>
                      </a:lnTo>
                      <a:lnTo>
                        <a:pt x="1827" y="121"/>
                      </a:lnTo>
                      <a:lnTo>
                        <a:pt x="1826" y="119"/>
                      </a:lnTo>
                      <a:lnTo>
                        <a:pt x="1823" y="118"/>
                      </a:lnTo>
                      <a:lnTo>
                        <a:pt x="1822" y="117"/>
                      </a:lnTo>
                      <a:lnTo>
                        <a:pt x="1821" y="115"/>
                      </a:lnTo>
                      <a:lnTo>
                        <a:pt x="1819" y="113"/>
                      </a:lnTo>
                      <a:lnTo>
                        <a:pt x="1818" y="112"/>
                      </a:lnTo>
                      <a:lnTo>
                        <a:pt x="1817" y="111"/>
                      </a:lnTo>
                      <a:lnTo>
                        <a:pt x="1815" y="110"/>
                      </a:lnTo>
                      <a:lnTo>
                        <a:pt x="1813" y="109"/>
                      </a:lnTo>
                      <a:lnTo>
                        <a:pt x="1812" y="109"/>
                      </a:lnTo>
                      <a:lnTo>
                        <a:pt x="1811" y="108"/>
                      </a:lnTo>
                      <a:lnTo>
                        <a:pt x="1808" y="106"/>
                      </a:lnTo>
                      <a:lnTo>
                        <a:pt x="1807" y="106"/>
                      </a:lnTo>
                      <a:lnTo>
                        <a:pt x="1806" y="105"/>
                      </a:lnTo>
                      <a:lnTo>
                        <a:pt x="1805" y="105"/>
                      </a:lnTo>
                      <a:lnTo>
                        <a:pt x="1803" y="105"/>
                      </a:lnTo>
                      <a:lnTo>
                        <a:pt x="1802" y="104"/>
                      </a:lnTo>
                      <a:lnTo>
                        <a:pt x="1800" y="104"/>
                      </a:lnTo>
                      <a:lnTo>
                        <a:pt x="1799" y="104"/>
                      </a:lnTo>
                      <a:lnTo>
                        <a:pt x="1797" y="104"/>
                      </a:lnTo>
                      <a:lnTo>
                        <a:pt x="1796" y="104"/>
                      </a:lnTo>
                      <a:lnTo>
                        <a:pt x="1795" y="104"/>
                      </a:lnTo>
                      <a:lnTo>
                        <a:pt x="1793" y="104"/>
                      </a:lnTo>
                      <a:lnTo>
                        <a:pt x="1792" y="104"/>
                      </a:lnTo>
                      <a:lnTo>
                        <a:pt x="1791" y="104"/>
                      </a:lnTo>
                      <a:lnTo>
                        <a:pt x="1790" y="104"/>
                      </a:lnTo>
                      <a:lnTo>
                        <a:pt x="1789" y="104"/>
                      </a:lnTo>
                      <a:lnTo>
                        <a:pt x="1787" y="104"/>
                      </a:lnTo>
                      <a:lnTo>
                        <a:pt x="1785" y="105"/>
                      </a:lnTo>
                      <a:lnTo>
                        <a:pt x="1784" y="105"/>
                      </a:lnTo>
                      <a:lnTo>
                        <a:pt x="1783" y="106"/>
                      </a:lnTo>
                      <a:lnTo>
                        <a:pt x="1782" y="106"/>
                      </a:lnTo>
                      <a:lnTo>
                        <a:pt x="1781" y="108"/>
                      </a:lnTo>
                      <a:lnTo>
                        <a:pt x="1780" y="108"/>
                      </a:lnTo>
                      <a:lnTo>
                        <a:pt x="1778" y="109"/>
                      </a:lnTo>
                      <a:lnTo>
                        <a:pt x="1777" y="110"/>
                      </a:lnTo>
                      <a:lnTo>
                        <a:pt x="1776" y="109"/>
                      </a:lnTo>
                      <a:lnTo>
                        <a:pt x="1775" y="108"/>
                      </a:lnTo>
                      <a:lnTo>
                        <a:pt x="1774" y="106"/>
                      </a:lnTo>
                      <a:lnTo>
                        <a:pt x="1773" y="105"/>
                      </a:lnTo>
                      <a:lnTo>
                        <a:pt x="1773" y="104"/>
                      </a:lnTo>
                      <a:lnTo>
                        <a:pt x="1771" y="103"/>
                      </a:lnTo>
                      <a:lnTo>
                        <a:pt x="1771" y="102"/>
                      </a:lnTo>
                      <a:lnTo>
                        <a:pt x="1771" y="101"/>
                      </a:lnTo>
                      <a:lnTo>
                        <a:pt x="1770" y="101"/>
                      </a:lnTo>
                      <a:lnTo>
                        <a:pt x="1770" y="100"/>
                      </a:lnTo>
                      <a:lnTo>
                        <a:pt x="1770" y="98"/>
                      </a:lnTo>
                      <a:lnTo>
                        <a:pt x="1769" y="98"/>
                      </a:lnTo>
                      <a:lnTo>
                        <a:pt x="1769" y="97"/>
                      </a:lnTo>
                      <a:lnTo>
                        <a:pt x="1768" y="97"/>
                      </a:lnTo>
                      <a:lnTo>
                        <a:pt x="1768" y="96"/>
                      </a:lnTo>
                      <a:lnTo>
                        <a:pt x="1767" y="96"/>
                      </a:lnTo>
                      <a:lnTo>
                        <a:pt x="1766" y="96"/>
                      </a:lnTo>
                      <a:lnTo>
                        <a:pt x="1765" y="95"/>
                      </a:lnTo>
                      <a:lnTo>
                        <a:pt x="1763" y="95"/>
                      </a:lnTo>
                      <a:lnTo>
                        <a:pt x="1762" y="95"/>
                      </a:lnTo>
                      <a:lnTo>
                        <a:pt x="1761" y="95"/>
                      </a:lnTo>
                      <a:lnTo>
                        <a:pt x="1759" y="95"/>
                      </a:lnTo>
                      <a:lnTo>
                        <a:pt x="1755" y="95"/>
                      </a:lnTo>
                      <a:lnTo>
                        <a:pt x="1752" y="95"/>
                      </a:lnTo>
                      <a:lnTo>
                        <a:pt x="1750" y="95"/>
                      </a:lnTo>
                      <a:lnTo>
                        <a:pt x="1746" y="95"/>
                      </a:lnTo>
                      <a:lnTo>
                        <a:pt x="1743" y="96"/>
                      </a:lnTo>
                      <a:lnTo>
                        <a:pt x="1739" y="96"/>
                      </a:lnTo>
                      <a:lnTo>
                        <a:pt x="1736" y="97"/>
                      </a:lnTo>
                      <a:lnTo>
                        <a:pt x="1733" y="98"/>
                      </a:lnTo>
                      <a:lnTo>
                        <a:pt x="1730" y="98"/>
                      </a:lnTo>
                      <a:lnTo>
                        <a:pt x="1726" y="100"/>
                      </a:lnTo>
                      <a:lnTo>
                        <a:pt x="1724" y="101"/>
                      </a:lnTo>
                      <a:lnTo>
                        <a:pt x="1721" y="102"/>
                      </a:lnTo>
                      <a:lnTo>
                        <a:pt x="1717" y="104"/>
                      </a:lnTo>
                      <a:lnTo>
                        <a:pt x="1714" y="105"/>
                      </a:lnTo>
                      <a:lnTo>
                        <a:pt x="1711" y="106"/>
                      </a:lnTo>
                      <a:lnTo>
                        <a:pt x="1708" y="109"/>
                      </a:lnTo>
                      <a:lnTo>
                        <a:pt x="1704" y="110"/>
                      </a:lnTo>
                      <a:lnTo>
                        <a:pt x="1702" y="111"/>
                      </a:lnTo>
                      <a:lnTo>
                        <a:pt x="1699" y="113"/>
                      </a:lnTo>
                      <a:lnTo>
                        <a:pt x="1696" y="115"/>
                      </a:lnTo>
                      <a:lnTo>
                        <a:pt x="1693" y="117"/>
                      </a:lnTo>
                      <a:lnTo>
                        <a:pt x="1689" y="118"/>
                      </a:lnTo>
                      <a:lnTo>
                        <a:pt x="1687" y="120"/>
                      </a:lnTo>
                      <a:lnTo>
                        <a:pt x="1684" y="123"/>
                      </a:lnTo>
                      <a:lnTo>
                        <a:pt x="1681" y="124"/>
                      </a:lnTo>
                      <a:lnTo>
                        <a:pt x="1679" y="126"/>
                      </a:lnTo>
                      <a:lnTo>
                        <a:pt x="1676" y="127"/>
                      </a:lnTo>
                      <a:lnTo>
                        <a:pt x="1673" y="130"/>
                      </a:lnTo>
                      <a:lnTo>
                        <a:pt x="1671" y="131"/>
                      </a:lnTo>
                      <a:lnTo>
                        <a:pt x="1667" y="133"/>
                      </a:lnTo>
                      <a:lnTo>
                        <a:pt x="1665" y="134"/>
                      </a:lnTo>
                      <a:lnTo>
                        <a:pt x="1663" y="136"/>
                      </a:lnTo>
                      <a:lnTo>
                        <a:pt x="1661" y="138"/>
                      </a:lnTo>
                      <a:lnTo>
                        <a:pt x="1658" y="140"/>
                      </a:lnTo>
                      <a:lnTo>
                        <a:pt x="1655" y="141"/>
                      </a:lnTo>
                      <a:lnTo>
                        <a:pt x="1652" y="142"/>
                      </a:lnTo>
                      <a:lnTo>
                        <a:pt x="1650" y="143"/>
                      </a:lnTo>
                      <a:lnTo>
                        <a:pt x="1648" y="145"/>
                      </a:lnTo>
                      <a:lnTo>
                        <a:pt x="1646" y="147"/>
                      </a:lnTo>
                      <a:lnTo>
                        <a:pt x="1643" y="148"/>
                      </a:lnTo>
                      <a:lnTo>
                        <a:pt x="1641" y="149"/>
                      </a:lnTo>
                      <a:lnTo>
                        <a:pt x="1639" y="150"/>
                      </a:lnTo>
                      <a:lnTo>
                        <a:pt x="1636" y="151"/>
                      </a:lnTo>
                      <a:lnTo>
                        <a:pt x="1634" y="153"/>
                      </a:lnTo>
                      <a:lnTo>
                        <a:pt x="1633" y="154"/>
                      </a:lnTo>
                      <a:lnTo>
                        <a:pt x="1631" y="155"/>
                      </a:lnTo>
                      <a:lnTo>
                        <a:pt x="1628" y="156"/>
                      </a:lnTo>
                      <a:lnTo>
                        <a:pt x="1627" y="157"/>
                      </a:lnTo>
                      <a:lnTo>
                        <a:pt x="1625" y="160"/>
                      </a:lnTo>
                      <a:lnTo>
                        <a:pt x="1624" y="161"/>
                      </a:lnTo>
                      <a:lnTo>
                        <a:pt x="1622" y="162"/>
                      </a:lnTo>
                      <a:lnTo>
                        <a:pt x="1620" y="163"/>
                      </a:lnTo>
                      <a:lnTo>
                        <a:pt x="1619" y="165"/>
                      </a:lnTo>
                      <a:lnTo>
                        <a:pt x="1618" y="167"/>
                      </a:lnTo>
                      <a:lnTo>
                        <a:pt x="1617" y="169"/>
                      </a:lnTo>
                      <a:lnTo>
                        <a:pt x="1617" y="170"/>
                      </a:lnTo>
                      <a:lnTo>
                        <a:pt x="1615" y="172"/>
                      </a:lnTo>
                      <a:lnTo>
                        <a:pt x="1615" y="173"/>
                      </a:lnTo>
                      <a:lnTo>
                        <a:pt x="1614" y="176"/>
                      </a:lnTo>
                      <a:lnTo>
                        <a:pt x="1614" y="178"/>
                      </a:lnTo>
                      <a:lnTo>
                        <a:pt x="1614" y="180"/>
                      </a:lnTo>
                      <a:lnTo>
                        <a:pt x="1614" y="183"/>
                      </a:lnTo>
                      <a:lnTo>
                        <a:pt x="1614" y="186"/>
                      </a:lnTo>
                      <a:lnTo>
                        <a:pt x="1631" y="200"/>
                      </a:lnTo>
                      <a:lnTo>
                        <a:pt x="1631" y="201"/>
                      </a:lnTo>
                      <a:lnTo>
                        <a:pt x="1631" y="203"/>
                      </a:lnTo>
                      <a:lnTo>
                        <a:pt x="1631" y="205"/>
                      </a:lnTo>
                      <a:lnTo>
                        <a:pt x="1631" y="206"/>
                      </a:lnTo>
                      <a:lnTo>
                        <a:pt x="1629" y="208"/>
                      </a:lnTo>
                      <a:lnTo>
                        <a:pt x="1629" y="209"/>
                      </a:lnTo>
                      <a:lnTo>
                        <a:pt x="1629" y="212"/>
                      </a:lnTo>
                      <a:lnTo>
                        <a:pt x="1628" y="214"/>
                      </a:lnTo>
                      <a:lnTo>
                        <a:pt x="1628" y="215"/>
                      </a:lnTo>
                      <a:lnTo>
                        <a:pt x="1628" y="217"/>
                      </a:lnTo>
                      <a:lnTo>
                        <a:pt x="1627" y="220"/>
                      </a:lnTo>
                      <a:lnTo>
                        <a:pt x="1627" y="222"/>
                      </a:lnTo>
                      <a:lnTo>
                        <a:pt x="1626" y="224"/>
                      </a:lnTo>
                      <a:lnTo>
                        <a:pt x="1626" y="227"/>
                      </a:lnTo>
                      <a:lnTo>
                        <a:pt x="1626" y="229"/>
                      </a:lnTo>
                      <a:lnTo>
                        <a:pt x="1625" y="231"/>
                      </a:lnTo>
                      <a:lnTo>
                        <a:pt x="1625" y="232"/>
                      </a:lnTo>
                      <a:lnTo>
                        <a:pt x="1624" y="235"/>
                      </a:lnTo>
                      <a:lnTo>
                        <a:pt x="1624" y="237"/>
                      </a:lnTo>
                      <a:lnTo>
                        <a:pt x="1622" y="239"/>
                      </a:lnTo>
                      <a:lnTo>
                        <a:pt x="1622" y="240"/>
                      </a:lnTo>
                      <a:lnTo>
                        <a:pt x="1622" y="243"/>
                      </a:lnTo>
                      <a:lnTo>
                        <a:pt x="1621" y="245"/>
                      </a:lnTo>
                      <a:lnTo>
                        <a:pt x="1621" y="246"/>
                      </a:lnTo>
                      <a:lnTo>
                        <a:pt x="1621" y="247"/>
                      </a:lnTo>
                      <a:lnTo>
                        <a:pt x="1621" y="250"/>
                      </a:lnTo>
                      <a:lnTo>
                        <a:pt x="1620" y="251"/>
                      </a:lnTo>
                      <a:lnTo>
                        <a:pt x="1620" y="252"/>
                      </a:lnTo>
                      <a:lnTo>
                        <a:pt x="1620" y="253"/>
                      </a:lnTo>
                      <a:lnTo>
                        <a:pt x="1620" y="254"/>
                      </a:lnTo>
                      <a:lnTo>
                        <a:pt x="1620" y="255"/>
                      </a:lnTo>
                      <a:lnTo>
                        <a:pt x="1620" y="257"/>
                      </a:lnTo>
                      <a:lnTo>
                        <a:pt x="1621" y="257"/>
                      </a:lnTo>
                      <a:lnTo>
                        <a:pt x="1621" y="258"/>
                      </a:lnTo>
                      <a:lnTo>
                        <a:pt x="1622" y="259"/>
                      </a:lnTo>
                      <a:lnTo>
                        <a:pt x="1622" y="260"/>
                      </a:lnTo>
                      <a:lnTo>
                        <a:pt x="1624" y="260"/>
                      </a:lnTo>
                      <a:lnTo>
                        <a:pt x="1624" y="261"/>
                      </a:lnTo>
                      <a:lnTo>
                        <a:pt x="1625" y="261"/>
                      </a:lnTo>
                      <a:lnTo>
                        <a:pt x="1625" y="262"/>
                      </a:lnTo>
                      <a:lnTo>
                        <a:pt x="1625" y="264"/>
                      </a:lnTo>
                      <a:lnTo>
                        <a:pt x="1625" y="265"/>
                      </a:lnTo>
                      <a:lnTo>
                        <a:pt x="1625" y="266"/>
                      </a:lnTo>
                      <a:lnTo>
                        <a:pt x="1625" y="268"/>
                      </a:lnTo>
                      <a:lnTo>
                        <a:pt x="1625" y="269"/>
                      </a:lnTo>
                      <a:lnTo>
                        <a:pt x="1625" y="272"/>
                      </a:lnTo>
                      <a:lnTo>
                        <a:pt x="1625" y="273"/>
                      </a:lnTo>
                      <a:lnTo>
                        <a:pt x="1625" y="275"/>
                      </a:lnTo>
                      <a:lnTo>
                        <a:pt x="1625" y="276"/>
                      </a:lnTo>
                      <a:lnTo>
                        <a:pt x="1625" y="279"/>
                      </a:lnTo>
                      <a:lnTo>
                        <a:pt x="1625" y="280"/>
                      </a:lnTo>
                      <a:lnTo>
                        <a:pt x="1625" y="282"/>
                      </a:lnTo>
                      <a:lnTo>
                        <a:pt x="1625" y="283"/>
                      </a:lnTo>
                      <a:lnTo>
                        <a:pt x="1625" y="285"/>
                      </a:lnTo>
                      <a:lnTo>
                        <a:pt x="1625" y="287"/>
                      </a:lnTo>
                      <a:lnTo>
                        <a:pt x="1625" y="289"/>
                      </a:lnTo>
                      <a:lnTo>
                        <a:pt x="1625" y="291"/>
                      </a:lnTo>
                      <a:lnTo>
                        <a:pt x="1625" y="292"/>
                      </a:lnTo>
                      <a:lnTo>
                        <a:pt x="1625" y="295"/>
                      </a:lnTo>
                      <a:lnTo>
                        <a:pt x="1625" y="296"/>
                      </a:lnTo>
                      <a:lnTo>
                        <a:pt x="1625" y="298"/>
                      </a:lnTo>
                      <a:lnTo>
                        <a:pt x="1625" y="301"/>
                      </a:lnTo>
                      <a:lnTo>
                        <a:pt x="1625" y="302"/>
                      </a:lnTo>
                      <a:lnTo>
                        <a:pt x="1625" y="304"/>
                      </a:lnTo>
                      <a:lnTo>
                        <a:pt x="1626" y="305"/>
                      </a:lnTo>
                      <a:lnTo>
                        <a:pt x="1626" y="307"/>
                      </a:lnTo>
                      <a:lnTo>
                        <a:pt x="1626" y="309"/>
                      </a:lnTo>
                      <a:lnTo>
                        <a:pt x="1626" y="311"/>
                      </a:lnTo>
                      <a:lnTo>
                        <a:pt x="1626" y="313"/>
                      </a:lnTo>
                      <a:lnTo>
                        <a:pt x="1626" y="314"/>
                      </a:lnTo>
                      <a:lnTo>
                        <a:pt x="1627" y="317"/>
                      </a:lnTo>
                      <a:lnTo>
                        <a:pt x="1627" y="318"/>
                      </a:lnTo>
                      <a:lnTo>
                        <a:pt x="1625" y="319"/>
                      </a:lnTo>
                      <a:lnTo>
                        <a:pt x="1622" y="319"/>
                      </a:lnTo>
                      <a:lnTo>
                        <a:pt x="1619" y="320"/>
                      </a:lnTo>
                      <a:lnTo>
                        <a:pt x="1615" y="320"/>
                      </a:lnTo>
                      <a:lnTo>
                        <a:pt x="1612" y="321"/>
                      </a:lnTo>
                      <a:lnTo>
                        <a:pt x="1609" y="322"/>
                      </a:lnTo>
                      <a:lnTo>
                        <a:pt x="1605" y="322"/>
                      </a:lnTo>
                      <a:lnTo>
                        <a:pt x="1602" y="324"/>
                      </a:lnTo>
                      <a:lnTo>
                        <a:pt x="1597" y="324"/>
                      </a:lnTo>
                      <a:lnTo>
                        <a:pt x="1594" y="325"/>
                      </a:lnTo>
                      <a:lnTo>
                        <a:pt x="1589" y="326"/>
                      </a:lnTo>
                      <a:lnTo>
                        <a:pt x="1584" y="326"/>
                      </a:lnTo>
                      <a:lnTo>
                        <a:pt x="1581" y="327"/>
                      </a:lnTo>
                      <a:lnTo>
                        <a:pt x="1576" y="328"/>
                      </a:lnTo>
                      <a:lnTo>
                        <a:pt x="1572" y="328"/>
                      </a:lnTo>
                      <a:lnTo>
                        <a:pt x="1567" y="329"/>
                      </a:lnTo>
                      <a:lnTo>
                        <a:pt x="1563" y="331"/>
                      </a:lnTo>
                      <a:lnTo>
                        <a:pt x="1559" y="332"/>
                      </a:lnTo>
                      <a:lnTo>
                        <a:pt x="1555" y="332"/>
                      </a:lnTo>
                      <a:lnTo>
                        <a:pt x="1551" y="333"/>
                      </a:lnTo>
                      <a:lnTo>
                        <a:pt x="1547" y="334"/>
                      </a:lnTo>
                      <a:lnTo>
                        <a:pt x="1544" y="334"/>
                      </a:lnTo>
                      <a:lnTo>
                        <a:pt x="1540" y="335"/>
                      </a:lnTo>
                      <a:lnTo>
                        <a:pt x="1537" y="336"/>
                      </a:lnTo>
                      <a:lnTo>
                        <a:pt x="1535" y="336"/>
                      </a:lnTo>
                      <a:lnTo>
                        <a:pt x="1532" y="337"/>
                      </a:lnTo>
                      <a:lnTo>
                        <a:pt x="1530" y="339"/>
                      </a:lnTo>
                      <a:lnTo>
                        <a:pt x="1528" y="339"/>
                      </a:lnTo>
                      <a:lnTo>
                        <a:pt x="1527" y="340"/>
                      </a:lnTo>
                      <a:lnTo>
                        <a:pt x="1524" y="341"/>
                      </a:lnTo>
                      <a:lnTo>
                        <a:pt x="1523" y="342"/>
                      </a:lnTo>
                      <a:lnTo>
                        <a:pt x="1523" y="343"/>
                      </a:lnTo>
                      <a:lnTo>
                        <a:pt x="1522" y="344"/>
                      </a:lnTo>
                      <a:lnTo>
                        <a:pt x="1521" y="346"/>
                      </a:lnTo>
                      <a:lnTo>
                        <a:pt x="1521" y="348"/>
                      </a:lnTo>
                      <a:lnTo>
                        <a:pt x="1520" y="349"/>
                      </a:lnTo>
                      <a:lnTo>
                        <a:pt x="1518" y="350"/>
                      </a:lnTo>
                      <a:lnTo>
                        <a:pt x="1518" y="352"/>
                      </a:lnTo>
                      <a:lnTo>
                        <a:pt x="1517" y="354"/>
                      </a:lnTo>
                      <a:lnTo>
                        <a:pt x="1517" y="356"/>
                      </a:lnTo>
                      <a:lnTo>
                        <a:pt x="1516" y="357"/>
                      </a:lnTo>
                      <a:lnTo>
                        <a:pt x="1515" y="359"/>
                      </a:lnTo>
                      <a:lnTo>
                        <a:pt x="1515" y="361"/>
                      </a:lnTo>
                      <a:lnTo>
                        <a:pt x="1514" y="363"/>
                      </a:lnTo>
                      <a:lnTo>
                        <a:pt x="1513" y="364"/>
                      </a:lnTo>
                      <a:lnTo>
                        <a:pt x="1513" y="366"/>
                      </a:lnTo>
                      <a:lnTo>
                        <a:pt x="1512" y="369"/>
                      </a:lnTo>
                      <a:lnTo>
                        <a:pt x="1510" y="370"/>
                      </a:lnTo>
                      <a:lnTo>
                        <a:pt x="1510" y="372"/>
                      </a:lnTo>
                      <a:lnTo>
                        <a:pt x="1509" y="374"/>
                      </a:lnTo>
                      <a:lnTo>
                        <a:pt x="1508" y="376"/>
                      </a:lnTo>
                      <a:lnTo>
                        <a:pt x="1508" y="378"/>
                      </a:lnTo>
                      <a:lnTo>
                        <a:pt x="1507" y="379"/>
                      </a:lnTo>
                      <a:lnTo>
                        <a:pt x="1507" y="381"/>
                      </a:lnTo>
                      <a:lnTo>
                        <a:pt x="1506" y="384"/>
                      </a:lnTo>
                      <a:lnTo>
                        <a:pt x="1505" y="385"/>
                      </a:lnTo>
                      <a:lnTo>
                        <a:pt x="1505" y="387"/>
                      </a:lnTo>
                      <a:lnTo>
                        <a:pt x="1503" y="388"/>
                      </a:lnTo>
                      <a:lnTo>
                        <a:pt x="1502" y="391"/>
                      </a:lnTo>
                      <a:lnTo>
                        <a:pt x="1502" y="392"/>
                      </a:lnTo>
                      <a:lnTo>
                        <a:pt x="1501" y="394"/>
                      </a:lnTo>
                      <a:lnTo>
                        <a:pt x="1500" y="395"/>
                      </a:lnTo>
                      <a:lnTo>
                        <a:pt x="1500" y="398"/>
                      </a:lnTo>
                      <a:lnTo>
                        <a:pt x="1499" y="399"/>
                      </a:lnTo>
                      <a:lnTo>
                        <a:pt x="1498" y="400"/>
                      </a:lnTo>
                      <a:lnTo>
                        <a:pt x="1498" y="401"/>
                      </a:lnTo>
                      <a:lnTo>
                        <a:pt x="1496" y="403"/>
                      </a:lnTo>
                      <a:lnTo>
                        <a:pt x="1495" y="404"/>
                      </a:lnTo>
                      <a:lnTo>
                        <a:pt x="1495" y="406"/>
                      </a:lnTo>
                      <a:lnTo>
                        <a:pt x="1494" y="407"/>
                      </a:lnTo>
                      <a:lnTo>
                        <a:pt x="1493" y="408"/>
                      </a:lnTo>
                      <a:lnTo>
                        <a:pt x="1493" y="409"/>
                      </a:lnTo>
                      <a:lnTo>
                        <a:pt x="1492" y="410"/>
                      </a:lnTo>
                      <a:lnTo>
                        <a:pt x="1492" y="411"/>
                      </a:lnTo>
                      <a:lnTo>
                        <a:pt x="1491" y="413"/>
                      </a:lnTo>
                      <a:lnTo>
                        <a:pt x="1490" y="414"/>
                      </a:lnTo>
                      <a:lnTo>
                        <a:pt x="1490" y="415"/>
                      </a:lnTo>
                      <a:lnTo>
                        <a:pt x="1488" y="416"/>
                      </a:lnTo>
                      <a:lnTo>
                        <a:pt x="1488" y="417"/>
                      </a:lnTo>
                      <a:lnTo>
                        <a:pt x="1487" y="418"/>
                      </a:lnTo>
                      <a:lnTo>
                        <a:pt x="1487" y="419"/>
                      </a:lnTo>
                      <a:lnTo>
                        <a:pt x="1486" y="419"/>
                      </a:lnTo>
                      <a:lnTo>
                        <a:pt x="1486" y="421"/>
                      </a:lnTo>
                      <a:lnTo>
                        <a:pt x="1485" y="422"/>
                      </a:lnTo>
                      <a:lnTo>
                        <a:pt x="1485" y="423"/>
                      </a:lnTo>
                      <a:lnTo>
                        <a:pt x="1484" y="424"/>
                      </a:lnTo>
                      <a:lnTo>
                        <a:pt x="1484" y="425"/>
                      </a:lnTo>
                      <a:lnTo>
                        <a:pt x="1484" y="426"/>
                      </a:lnTo>
                      <a:lnTo>
                        <a:pt x="1483" y="428"/>
                      </a:lnTo>
                      <a:lnTo>
                        <a:pt x="1483" y="429"/>
                      </a:lnTo>
                      <a:lnTo>
                        <a:pt x="1483" y="430"/>
                      </a:lnTo>
                      <a:lnTo>
                        <a:pt x="1483" y="432"/>
                      </a:lnTo>
                      <a:lnTo>
                        <a:pt x="1483" y="435"/>
                      </a:lnTo>
                      <a:lnTo>
                        <a:pt x="1483" y="437"/>
                      </a:lnTo>
                      <a:lnTo>
                        <a:pt x="1483" y="439"/>
                      </a:lnTo>
                      <a:lnTo>
                        <a:pt x="1483" y="441"/>
                      </a:lnTo>
                      <a:lnTo>
                        <a:pt x="1481" y="444"/>
                      </a:lnTo>
                      <a:lnTo>
                        <a:pt x="1481" y="446"/>
                      </a:lnTo>
                      <a:lnTo>
                        <a:pt x="1481" y="447"/>
                      </a:lnTo>
                      <a:lnTo>
                        <a:pt x="1481" y="450"/>
                      </a:lnTo>
                      <a:lnTo>
                        <a:pt x="1481" y="451"/>
                      </a:lnTo>
                      <a:lnTo>
                        <a:pt x="1480" y="453"/>
                      </a:lnTo>
                      <a:lnTo>
                        <a:pt x="1480" y="454"/>
                      </a:lnTo>
                      <a:lnTo>
                        <a:pt x="1480" y="455"/>
                      </a:lnTo>
                      <a:lnTo>
                        <a:pt x="1480" y="456"/>
                      </a:lnTo>
                      <a:lnTo>
                        <a:pt x="1480" y="458"/>
                      </a:lnTo>
                      <a:lnTo>
                        <a:pt x="1479" y="459"/>
                      </a:lnTo>
                      <a:lnTo>
                        <a:pt x="1479" y="460"/>
                      </a:lnTo>
                      <a:lnTo>
                        <a:pt x="1479" y="461"/>
                      </a:lnTo>
                      <a:lnTo>
                        <a:pt x="1479" y="462"/>
                      </a:lnTo>
                      <a:lnTo>
                        <a:pt x="1478" y="463"/>
                      </a:lnTo>
                      <a:lnTo>
                        <a:pt x="1478" y="465"/>
                      </a:lnTo>
                      <a:lnTo>
                        <a:pt x="1478" y="466"/>
                      </a:lnTo>
                      <a:lnTo>
                        <a:pt x="1478" y="467"/>
                      </a:lnTo>
                      <a:lnTo>
                        <a:pt x="1478" y="468"/>
                      </a:lnTo>
                      <a:lnTo>
                        <a:pt x="1478" y="469"/>
                      </a:lnTo>
                      <a:lnTo>
                        <a:pt x="1478" y="470"/>
                      </a:lnTo>
                      <a:lnTo>
                        <a:pt x="1478" y="471"/>
                      </a:lnTo>
                      <a:lnTo>
                        <a:pt x="1478" y="473"/>
                      </a:lnTo>
                      <a:lnTo>
                        <a:pt x="1478" y="474"/>
                      </a:lnTo>
                      <a:lnTo>
                        <a:pt x="1478" y="475"/>
                      </a:lnTo>
                      <a:lnTo>
                        <a:pt x="1478" y="476"/>
                      </a:lnTo>
                      <a:lnTo>
                        <a:pt x="1477" y="477"/>
                      </a:lnTo>
                      <a:lnTo>
                        <a:pt x="1477" y="478"/>
                      </a:lnTo>
                      <a:lnTo>
                        <a:pt x="1476" y="480"/>
                      </a:lnTo>
                      <a:lnTo>
                        <a:pt x="1475" y="481"/>
                      </a:lnTo>
                      <a:lnTo>
                        <a:pt x="1472" y="482"/>
                      </a:lnTo>
                      <a:lnTo>
                        <a:pt x="1471" y="484"/>
                      </a:lnTo>
                      <a:lnTo>
                        <a:pt x="1470" y="485"/>
                      </a:lnTo>
                      <a:lnTo>
                        <a:pt x="1469" y="488"/>
                      </a:lnTo>
                      <a:lnTo>
                        <a:pt x="1466" y="490"/>
                      </a:lnTo>
                      <a:lnTo>
                        <a:pt x="1465" y="491"/>
                      </a:lnTo>
                      <a:lnTo>
                        <a:pt x="1463" y="493"/>
                      </a:lnTo>
                      <a:lnTo>
                        <a:pt x="1461" y="496"/>
                      </a:lnTo>
                      <a:lnTo>
                        <a:pt x="1460" y="498"/>
                      </a:lnTo>
                      <a:lnTo>
                        <a:pt x="1457" y="500"/>
                      </a:lnTo>
                      <a:lnTo>
                        <a:pt x="1455" y="503"/>
                      </a:lnTo>
                      <a:lnTo>
                        <a:pt x="1454" y="505"/>
                      </a:lnTo>
                      <a:lnTo>
                        <a:pt x="1451" y="507"/>
                      </a:lnTo>
                      <a:lnTo>
                        <a:pt x="1449" y="510"/>
                      </a:lnTo>
                      <a:lnTo>
                        <a:pt x="1447" y="512"/>
                      </a:lnTo>
                      <a:lnTo>
                        <a:pt x="1446" y="515"/>
                      </a:lnTo>
                      <a:lnTo>
                        <a:pt x="1443" y="518"/>
                      </a:lnTo>
                      <a:lnTo>
                        <a:pt x="1441" y="520"/>
                      </a:lnTo>
                      <a:lnTo>
                        <a:pt x="1440" y="522"/>
                      </a:lnTo>
                      <a:lnTo>
                        <a:pt x="1438" y="525"/>
                      </a:lnTo>
                      <a:lnTo>
                        <a:pt x="1436" y="528"/>
                      </a:lnTo>
                      <a:lnTo>
                        <a:pt x="1434" y="530"/>
                      </a:lnTo>
                      <a:lnTo>
                        <a:pt x="1433" y="533"/>
                      </a:lnTo>
                      <a:lnTo>
                        <a:pt x="1432" y="535"/>
                      </a:lnTo>
                      <a:lnTo>
                        <a:pt x="1431" y="537"/>
                      </a:lnTo>
                      <a:lnTo>
                        <a:pt x="1429" y="540"/>
                      </a:lnTo>
                      <a:lnTo>
                        <a:pt x="1428" y="5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4827600" y="5721480"/>
                  <a:ext cx="1482840" cy="732960"/>
                </a:xfrm>
                <a:custGeom>
                  <a:avLst/>
                  <a:gdLst/>
                  <a:ahLst/>
                  <a:rect l="l" t="t" r="r" b="b"/>
                  <a:pathLst>
                    <a:path w="2800" h="1204">
                      <a:moveTo>
                        <a:pt x="1428" y="543"/>
                      </a:moveTo>
                      <a:lnTo>
                        <a:pt x="1424" y="541"/>
                      </a:lnTo>
                      <a:lnTo>
                        <a:pt x="1418" y="541"/>
                      </a:lnTo>
                      <a:lnTo>
                        <a:pt x="1413" y="542"/>
                      </a:lnTo>
                      <a:lnTo>
                        <a:pt x="1408" y="545"/>
                      </a:lnTo>
                      <a:lnTo>
                        <a:pt x="1402" y="548"/>
                      </a:lnTo>
                      <a:lnTo>
                        <a:pt x="1395" y="552"/>
                      </a:lnTo>
                      <a:lnTo>
                        <a:pt x="1388" y="556"/>
                      </a:lnTo>
                      <a:lnTo>
                        <a:pt x="1380" y="560"/>
                      </a:lnTo>
                      <a:lnTo>
                        <a:pt x="1375" y="556"/>
                      </a:lnTo>
                      <a:lnTo>
                        <a:pt x="1372" y="553"/>
                      </a:lnTo>
                      <a:lnTo>
                        <a:pt x="1368" y="552"/>
                      </a:lnTo>
                      <a:lnTo>
                        <a:pt x="1364" y="552"/>
                      </a:lnTo>
                      <a:lnTo>
                        <a:pt x="1360" y="555"/>
                      </a:lnTo>
                      <a:lnTo>
                        <a:pt x="1356" y="557"/>
                      </a:lnTo>
                      <a:lnTo>
                        <a:pt x="1351" y="559"/>
                      </a:lnTo>
                      <a:lnTo>
                        <a:pt x="1345" y="563"/>
                      </a:lnTo>
                      <a:lnTo>
                        <a:pt x="1338" y="567"/>
                      </a:lnTo>
                      <a:lnTo>
                        <a:pt x="1331" y="571"/>
                      </a:lnTo>
                      <a:lnTo>
                        <a:pt x="1327" y="574"/>
                      </a:lnTo>
                      <a:lnTo>
                        <a:pt x="1325" y="578"/>
                      </a:lnTo>
                      <a:lnTo>
                        <a:pt x="1325" y="588"/>
                      </a:lnTo>
                      <a:lnTo>
                        <a:pt x="1329" y="594"/>
                      </a:lnTo>
                      <a:lnTo>
                        <a:pt x="1336" y="596"/>
                      </a:lnTo>
                      <a:lnTo>
                        <a:pt x="1345" y="597"/>
                      </a:lnTo>
                      <a:lnTo>
                        <a:pt x="1349" y="604"/>
                      </a:lnTo>
                      <a:lnTo>
                        <a:pt x="1354" y="612"/>
                      </a:lnTo>
                      <a:lnTo>
                        <a:pt x="1364" y="617"/>
                      </a:lnTo>
                      <a:lnTo>
                        <a:pt x="1373" y="619"/>
                      </a:lnTo>
                      <a:lnTo>
                        <a:pt x="1375" y="619"/>
                      </a:lnTo>
                      <a:lnTo>
                        <a:pt x="1377" y="622"/>
                      </a:lnTo>
                      <a:lnTo>
                        <a:pt x="1379" y="624"/>
                      </a:lnTo>
                      <a:lnTo>
                        <a:pt x="1381" y="627"/>
                      </a:lnTo>
                      <a:lnTo>
                        <a:pt x="1375" y="632"/>
                      </a:lnTo>
                      <a:lnTo>
                        <a:pt x="1371" y="638"/>
                      </a:lnTo>
                      <a:lnTo>
                        <a:pt x="1368" y="645"/>
                      </a:lnTo>
                      <a:lnTo>
                        <a:pt x="1367" y="654"/>
                      </a:lnTo>
                      <a:lnTo>
                        <a:pt x="1368" y="659"/>
                      </a:lnTo>
                      <a:lnTo>
                        <a:pt x="1368" y="664"/>
                      </a:lnTo>
                      <a:lnTo>
                        <a:pt x="1368" y="669"/>
                      </a:lnTo>
                      <a:lnTo>
                        <a:pt x="1371" y="672"/>
                      </a:lnTo>
                      <a:lnTo>
                        <a:pt x="1350" y="672"/>
                      </a:lnTo>
                      <a:lnTo>
                        <a:pt x="1328" y="671"/>
                      </a:lnTo>
                      <a:lnTo>
                        <a:pt x="1304" y="671"/>
                      </a:lnTo>
                      <a:lnTo>
                        <a:pt x="1280" y="671"/>
                      </a:lnTo>
                      <a:lnTo>
                        <a:pt x="1257" y="671"/>
                      </a:lnTo>
                      <a:lnTo>
                        <a:pt x="1234" y="674"/>
                      </a:lnTo>
                      <a:lnTo>
                        <a:pt x="1213" y="676"/>
                      </a:lnTo>
                      <a:lnTo>
                        <a:pt x="1195" y="681"/>
                      </a:lnTo>
                      <a:lnTo>
                        <a:pt x="1194" y="671"/>
                      </a:lnTo>
                      <a:lnTo>
                        <a:pt x="1201" y="670"/>
                      </a:lnTo>
                      <a:lnTo>
                        <a:pt x="1206" y="668"/>
                      </a:lnTo>
                      <a:lnTo>
                        <a:pt x="1210" y="663"/>
                      </a:lnTo>
                      <a:lnTo>
                        <a:pt x="1211" y="659"/>
                      </a:lnTo>
                      <a:lnTo>
                        <a:pt x="1211" y="652"/>
                      </a:lnTo>
                      <a:lnTo>
                        <a:pt x="1208" y="646"/>
                      </a:lnTo>
                      <a:lnTo>
                        <a:pt x="1202" y="640"/>
                      </a:lnTo>
                      <a:lnTo>
                        <a:pt x="1195" y="634"/>
                      </a:lnTo>
                      <a:lnTo>
                        <a:pt x="1173" y="625"/>
                      </a:lnTo>
                      <a:lnTo>
                        <a:pt x="1167" y="615"/>
                      </a:lnTo>
                      <a:lnTo>
                        <a:pt x="1161" y="607"/>
                      </a:lnTo>
                      <a:lnTo>
                        <a:pt x="1156" y="600"/>
                      </a:lnTo>
                      <a:lnTo>
                        <a:pt x="1149" y="595"/>
                      </a:lnTo>
                      <a:lnTo>
                        <a:pt x="1142" y="593"/>
                      </a:lnTo>
                      <a:lnTo>
                        <a:pt x="1135" y="590"/>
                      </a:lnTo>
                      <a:lnTo>
                        <a:pt x="1127" y="590"/>
                      </a:lnTo>
                      <a:lnTo>
                        <a:pt x="1119" y="590"/>
                      </a:lnTo>
                      <a:lnTo>
                        <a:pt x="1112" y="580"/>
                      </a:lnTo>
                      <a:lnTo>
                        <a:pt x="1107" y="572"/>
                      </a:lnTo>
                      <a:lnTo>
                        <a:pt x="1102" y="565"/>
                      </a:lnTo>
                      <a:lnTo>
                        <a:pt x="1100" y="558"/>
                      </a:lnTo>
                      <a:lnTo>
                        <a:pt x="1097" y="552"/>
                      </a:lnTo>
                      <a:lnTo>
                        <a:pt x="1094" y="548"/>
                      </a:lnTo>
                      <a:lnTo>
                        <a:pt x="1092" y="542"/>
                      </a:lnTo>
                      <a:lnTo>
                        <a:pt x="1089" y="536"/>
                      </a:lnTo>
                      <a:lnTo>
                        <a:pt x="1082" y="529"/>
                      </a:lnTo>
                      <a:lnTo>
                        <a:pt x="1075" y="522"/>
                      </a:lnTo>
                      <a:lnTo>
                        <a:pt x="1067" y="514"/>
                      </a:lnTo>
                      <a:lnTo>
                        <a:pt x="1060" y="506"/>
                      </a:lnTo>
                      <a:lnTo>
                        <a:pt x="1053" y="499"/>
                      </a:lnTo>
                      <a:lnTo>
                        <a:pt x="1046" y="492"/>
                      </a:lnTo>
                      <a:lnTo>
                        <a:pt x="1040" y="486"/>
                      </a:lnTo>
                      <a:lnTo>
                        <a:pt x="1034" y="481"/>
                      </a:lnTo>
                      <a:lnTo>
                        <a:pt x="1034" y="473"/>
                      </a:lnTo>
                      <a:lnTo>
                        <a:pt x="1032" y="465"/>
                      </a:lnTo>
                      <a:lnTo>
                        <a:pt x="1030" y="456"/>
                      </a:lnTo>
                      <a:lnTo>
                        <a:pt x="1027" y="448"/>
                      </a:lnTo>
                      <a:lnTo>
                        <a:pt x="1025" y="440"/>
                      </a:lnTo>
                      <a:lnTo>
                        <a:pt x="1022" y="432"/>
                      </a:lnTo>
                      <a:lnTo>
                        <a:pt x="1018" y="424"/>
                      </a:lnTo>
                      <a:lnTo>
                        <a:pt x="1013" y="416"/>
                      </a:lnTo>
                      <a:lnTo>
                        <a:pt x="980" y="376"/>
                      </a:lnTo>
                      <a:lnTo>
                        <a:pt x="988" y="372"/>
                      </a:lnTo>
                      <a:lnTo>
                        <a:pt x="995" y="369"/>
                      </a:lnTo>
                      <a:lnTo>
                        <a:pt x="998" y="361"/>
                      </a:lnTo>
                      <a:lnTo>
                        <a:pt x="997" y="349"/>
                      </a:lnTo>
                      <a:lnTo>
                        <a:pt x="1000" y="347"/>
                      </a:lnTo>
                      <a:lnTo>
                        <a:pt x="1003" y="343"/>
                      </a:lnTo>
                      <a:lnTo>
                        <a:pt x="1005" y="341"/>
                      </a:lnTo>
                      <a:lnTo>
                        <a:pt x="1008" y="339"/>
                      </a:lnTo>
                      <a:lnTo>
                        <a:pt x="1008" y="335"/>
                      </a:lnTo>
                      <a:lnTo>
                        <a:pt x="1007" y="332"/>
                      </a:lnTo>
                      <a:lnTo>
                        <a:pt x="1005" y="329"/>
                      </a:lnTo>
                      <a:lnTo>
                        <a:pt x="1007" y="326"/>
                      </a:lnTo>
                      <a:lnTo>
                        <a:pt x="1011" y="317"/>
                      </a:lnTo>
                      <a:lnTo>
                        <a:pt x="1009" y="304"/>
                      </a:lnTo>
                      <a:lnTo>
                        <a:pt x="1011" y="304"/>
                      </a:lnTo>
                      <a:lnTo>
                        <a:pt x="1013" y="304"/>
                      </a:lnTo>
                      <a:lnTo>
                        <a:pt x="1016" y="303"/>
                      </a:lnTo>
                      <a:lnTo>
                        <a:pt x="1022" y="303"/>
                      </a:lnTo>
                      <a:lnTo>
                        <a:pt x="1026" y="299"/>
                      </a:lnTo>
                      <a:lnTo>
                        <a:pt x="1029" y="295"/>
                      </a:lnTo>
                      <a:lnTo>
                        <a:pt x="1029" y="291"/>
                      </a:lnTo>
                      <a:lnTo>
                        <a:pt x="1026" y="287"/>
                      </a:lnTo>
                      <a:lnTo>
                        <a:pt x="1020" y="279"/>
                      </a:lnTo>
                      <a:lnTo>
                        <a:pt x="1016" y="270"/>
                      </a:lnTo>
                      <a:lnTo>
                        <a:pt x="1013" y="265"/>
                      </a:lnTo>
                      <a:lnTo>
                        <a:pt x="1010" y="258"/>
                      </a:lnTo>
                      <a:lnTo>
                        <a:pt x="1009" y="253"/>
                      </a:lnTo>
                      <a:lnTo>
                        <a:pt x="1007" y="249"/>
                      </a:lnTo>
                      <a:lnTo>
                        <a:pt x="1004" y="244"/>
                      </a:lnTo>
                      <a:lnTo>
                        <a:pt x="1001" y="239"/>
                      </a:lnTo>
                      <a:lnTo>
                        <a:pt x="1007" y="232"/>
                      </a:lnTo>
                      <a:lnTo>
                        <a:pt x="1010" y="227"/>
                      </a:lnTo>
                      <a:lnTo>
                        <a:pt x="1010" y="222"/>
                      </a:lnTo>
                      <a:lnTo>
                        <a:pt x="1009" y="215"/>
                      </a:lnTo>
                      <a:lnTo>
                        <a:pt x="1008" y="209"/>
                      </a:lnTo>
                      <a:lnTo>
                        <a:pt x="1007" y="203"/>
                      </a:lnTo>
                      <a:lnTo>
                        <a:pt x="1005" y="198"/>
                      </a:lnTo>
                      <a:lnTo>
                        <a:pt x="1005" y="192"/>
                      </a:lnTo>
                      <a:lnTo>
                        <a:pt x="1016" y="185"/>
                      </a:lnTo>
                      <a:lnTo>
                        <a:pt x="1024" y="179"/>
                      </a:lnTo>
                      <a:lnTo>
                        <a:pt x="1031" y="171"/>
                      </a:lnTo>
                      <a:lnTo>
                        <a:pt x="1039" y="162"/>
                      </a:lnTo>
                      <a:lnTo>
                        <a:pt x="1042" y="154"/>
                      </a:lnTo>
                      <a:lnTo>
                        <a:pt x="1044" y="146"/>
                      </a:lnTo>
                      <a:lnTo>
                        <a:pt x="1042" y="138"/>
                      </a:lnTo>
                      <a:lnTo>
                        <a:pt x="1042" y="131"/>
                      </a:lnTo>
                      <a:lnTo>
                        <a:pt x="1038" y="124"/>
                      </a:lnTo>
                      <a:lnTo>
                        <a:pt x="1031" y="116"/>
                      </a:lnTo>
                      <a:lnTo>
                        <a:pt x="1024" y="109"/>
                      </a:lnTo>
                      <a:lnTo>
                        <a:pt x="1015" y="101"/>
                      </a:lnTo>
                      <a:lnTo>
                        <a:pt x="1007" y="94"/>
                      </a:lnTo>
                      <a:lnTo>
                        <a:pt x="997" y="88"/>
                      </a:lnTo>
                      <a:lnTo>
                        <a:pt x="987" y="83"/>
                      </a:lnTo>
                      <a:lnTo>
                        <a:pt x="978" y="82"/>
                      </a:lnTo>
                      <a:lnTo>
                        <a:pt x="964" y="81"/>
                      </a:lnTo>
                      <a:lnTo>
                        <a:pt x="950" y="80"/>
                      </a:lnTo>
                      <a:lnTo>
                        <a:pt x="937" y="79"/>
                      </a:lnTo>
                      <a:lnTo>
                        <a:pt x="926" y="78"/>
                      </a:lnTo>
                      <a:lnTo>
                        <a:pt x="914" y="76"/>
                      </a:lnTo>
                      <a:lnTo>
                        <a:pt x="903" y="74"/>
                      </a:lnTo>
                      <a:lnTo>
                        <a:pt x="892" y="73"/>
                      </a:lnTo>
                      <a:lnTo>
                        <a:pt x="881" y="72"/>
                      </a:lnTo>
                      <a:lnTo>
                        <a:pt x="870" y="72"/>
                      </a:lnTo>
                      <a:lnTo>
                        <a:pt x="859" y="72"/>
                      </a:lnTo>
                      <a:lnTo>
                        <a:pt x="847" y="73"/>
                      </a:lnTo>
                      <a:lnTo>
                        <a:pt x="836" y="74"/>
                      </a:lnTo>
                      <a:lnTo>
                        <a:pt x="824" y="78"/>
                      </a:lnTo>
                      <a:lnTo>
                        <a:pt x="811" y="82"/>
                      </a:lnTo>
                      <a:lnTo>
                        <a:pt x="797" y="87"/>
                      </a:lnTo>
                      <a:lnTo>
                        <a:pt x="784" y="94"/>
                      </a:lnTo>
                      <a:lnTo>
                        <a:pt x="773" y="103"/>
                      </a:lnTo>
                      <a:lnTo>
                        <a:pt x="762" y="116"/>
                      </a:lnTo>
                      <a:lnTo>
                        <a:pt x="750" y="132"/>
                      </a:lnTo>
                      <a:lnTo>
                        <a:pt x="741" y="149"/>
                      </a:lnTo>
                      <a:lnTo>
                        <a:pt x="733" y="169"/>
                      </a:lnTo>
                      <a:lnTo>
                        <a:pt x="727" y="187"/>
                      </a:lnTo>
                      <a:lnTo>
                        <a:pt x="723" y="206"/>
                      </a:lnTo>
                      <a:lnTo>
                        <a:pt x="723" y="221"/>
                      </a:lnTo>
                      <a:lnTo>
                        <a:pt x="725" y="224"/>
                      </a:lnTo>
                      <a:lnTo>
                        <a:pt x="728" y="229"/>
                      </a:lnTo>
                      <a:lnTo>
                        <a:pt x="732" y="234"/>
                      </a:lnTo>
                      <a:lnTo>
                        <a:pt x="737" y="239"/>
                      </a:lnTo>
                      <a:lnTo>
                        <a:pt x="742" y="244"/>
                      </a:lnTo>
                      <a:lnTo>
                        <a:pt x="745" y="250"/>
                      </a:lnTo>
                      <a:lnTo>
                        <a:pt x="748" y="255"/>
                      </a:lnTo>
                      <a:lnTo>
                        <a:pt x="748" y="261"/>
                      </a:lnTo>
                      <a:lnTo>
                        <a:pt x="741" y="261"/>
                      </a:lnTo>
                      <a:lnTo>
                        <a:pt x="732" y="262"/>
                      </a:lnTo>
                      <a:lnTo>
                        <a:pt x="723" y="264"/>
                      </a:lnTo>
                      <a:lnTo>
                        <a:pt x="714" y="266"/>
                      </a:lnTo>
                      <a:lnTo>
                        <a:pt x="706" y="270"/>
                      </a:lnTo>
                      <a:lnTo>
                        <a:pt x="698" y="276"/>
                      </a:lnTo>
                      <a:lnTo>
                        <a:pt x="691" y="283"/>
                      </a:lnTo>
                      <a:lnTo>
                        <a:pt x="685" y="292"/>
                      </a:lnTo>
                      <a:lnTo>
                        <a:pt x="683" y="301"/>
                      </a:lnTo>
                      <a:lnTo>
                        <a:pt x="682" y="310"/>
                      </a:lnTo>
                      <a:lnTo>
                        <a:pt x="681" y="319"/>
                      </a:lnTo>
                      <a:lnTo>
                        <a:pt x="682" y="329"/>
                      </a:lnTo>
                      <a:lnTo>
                        <a:pt x="683" y="337"/>
                      </a:lnTo>
                      <a:lnTo>
                        <a:pt x="687" y="346"/>
                      </a:lnTo>
                      <a:lnTo>
                        <a:pt x="690" y="352"/>
                      </a:lnTo>
                      <a:lnTo>
                        <a:pt x="697" y="357"/>
                      </a:lnTo>
                      <a:lnTo>
                        <a:pt x="692" y="358"/>
                      </a:lnTo>
                      <a:lnTo>
                        <a:pt x="687" y="363"/>
                      </a:lnTo>
                      <a:lnTo>
                        <a:pt x="681" y="368"/>
                      </a:lnTo>
                      <a:lnTo>
                        <a:pt x="675" y="373"/>
                      </a:lnTo>
                      <a:lnTo>
                        <a:pt x="668" y="381"/>
                      </a:lnTo>
                      <a:lnTo>
                        <a:pt x="661" y="388"/>
                      </a:lnTo>
                      <a:lnTo>
                        <a:pt x="654" y="396"/>
                      </a:lnTo>
                      <a:lnTo>
                        <a:pt x="646" y="404"/>
                      </a:lnTo>
                      <a:lnTo>
                        <a:pt x="639" y="413"/>
                      </a:lnTo>
                      <a:lnTo>
                        <a:pt x="632" y="421"/>
                      </a:lnTo>
                      <a:lnTo>
                        <a:pt x="625" y="429"/>
                      </a:lnTo>
                      <a:lnTo>
                        <a:pt x="618" y="436"/>
                      </a:lnTo>
                      <a:lnTo>
                        <a:pt x="613" y="444"/>
                      </a:lnTo>
                      <a:lnTo>
                        <a:pt x="607" y="451"/>
                      </a:lnTo>
                      <a:lnTo>
                        <a:pt x="601" y="459"/>
                      </a:lnTo>
                      <a:lnTo>
                        <a:pt x="596" y="467"/>
                      </a:lnTo>
                      <a:lnTo>
                        <a:pt x="593" y="458"/>
                      </a:lnTo>
                      <a:lnTo>
                        <a:pt x="588" y="450"/>
                      </a:lnTo>
                      <a:lnTo>
                        <a:pt x="583" y="444"/>
                      </a:lnTo>
                      <a:lnTo>
                        <a:pt x="576" y="438"/>
                      </a:lnTo>
                      <a:lnTo>
                        <a:pt x="569" y="432"/>
                      </a:lnTo>
                      <a:lnTo>
                        <a:pt x="561" y="428"/>
                      </a:lnTo>
                      <a:lnTo>
                        <a:pt x="552" y="423"/>
                      </a:lnTo>
                      <a:lnTo>
                        <a:pt x="542" y="417"/>
                      </a:lnTo>
                      <a:lnTo>
                        <a:pt x="549" y="416"/>
                      </a:lnTo>
                      <a:lnTo>
                        <a:pt x="555" y="414"/>
                      </a:lnTo>
                      <a:lnTo>
                        <a:pt x="561" y="409"/>
                      </a:lnTo>
                      <a:lnTo>
                        <a:pt x="565" y="404"/>
                      </a:lnTo>
                      <a:lnTo>
                        <a:pt x="567" y="398"/>
                      </a:lnTo>
                      <a:lnTo>
                        <a:pt x="567" y="389"/>
                      </a:lnTo>
                      <a:lnTo>
                        <a:pt x="565" y="381"/>
                      </a:lnTo>
                      <a:lnTo>
                        <a:pt x="558" y="371"/>
                      </a:lnTo>
                      <a:lnTo>
                        <a:pt x="563" y="364"/>
                      </a:lnTo>
                      <a:lnTo>
                        <a:pt x="567" y="359"/>
                      </a:lnTo>
                      <a:lnTo>
                        <a:pt x="571" y="355"/>
                      </a:lnTo>
                      <a:lnTo>
                        <a:pt x="572" y="351"/>
                      </a:lnTo>
                      <a:lnTo>
                        <a:pt x="569" y="346"/>
                      </a:lnTo>
                      <a:lnTo>
                        <a:pt x="564" y="343"/>
                      </a:lnTo>
                      <a:lnTo>
                        <a:pt x="559" y="342"/>
                      </a:lnTo>
                      <a:lnTo>
                        <a:pt x="557" y="340"/>
                      </a:lnTo>
                      <a:lnTo>
                        <a:pt x="564" y="335"/>
                      </a:lnTo>
                      <a:lnTo>
                        <a:pt x="572" y="333"/>
                      </a:lnTo>
                      <a:lnTo>
                        <a:pt x="579" y="332"/>
                      </a:lnTo>
                      <a:lnTo>
                        <a:pt x="584" y="328"/>
                      </a:lnTo>
                      <a:lnTo>
                        <a:pt x="586" y="325"/>
                      </a:lnTo>
                      <a:lnTo>
                        <a:pt x="586" y="319"/>
                      </a:lnTo>
                      <a:lnTo>
                        <a:pt x="586" y="313"/>
                      </a:lnTo>
                      <a:lnTo>
                        <a:pt x="586" y="305"/>
                      </a:lnTo>
                      <a:lnTo>
                        <a:pt x="591" y="305"/>
                      </a:lnTo>
                      <a:lnTo>
                        <a:pt x="599" y="303"/>
                      </a:lnTo>
                      <a:lnTo>
                        <a:pt x="607" y="302"/>
                      </a:lnTo>
                      <a:lnTo>
                        <a:pt x="615" y="301"/>
                      </a:lnTo>
                      <a:lnTo>
                        <a:pt x="619" y="298"/>
                      </a:lnTo>
                      <a:lnTo>
                        <a:pt x="624" y="292"/>
                      </a:lnTo>
                      <a:lnTo>
                        <a:pt x="625" y="285"/>
                      </a:lnTo>
                      <a:lnTo>
                        <a:pt x="623" y="279"/>
                      </a:lnTo>
                      <a:lnTo>
                        <a:pt x="618" y="272"/>
                      </a:lnTo>
                      <a:lnTo>
                        <a:pt x="615" y="266"/>
                      </a:lnTo>
                      <a:lnTo>
                        <a:pt x="610" y="260"/>
                      </a:lnTo>
                      <a:lnTo>
                        <a:pt x="607" y="254"/>
                      </a:lnTo>
                      <a:lnTo>
                        <a:pt x="603" y="247"/>
                      </a:lnTo>
                      <a:lnTo>
                        <a:pt x="600" y="242"/>
                      </a:lnTo>
                      <a:lnTo>
                        <a:pt x="596" y="235"/>
                      </a:lnTo>
                      <a:lnTo>
                        <a:pt x="594" y="228"/>
                      </a:lnTo>
                      <a:lnTo>
                        <a:pt x="591" y="220"/>
                      </a:lnTo>
                      <a:lnTo>
                        <a:pt x="593" y="214"/>
                      </a:lnTo>
                      <a:lnTo>
                        <a:pt x="595" y="209"/>
                      </a:lnTo>
                      <a:lnTo>
                        <a:pt x="598" y="205"/>
                      </a:lnTo>
                      <a:lnTo>
                        <a:pt x="598" y="201"/>
                      </a:lnTo>
                      <a:lnTo>
                        <a:pt x="599" y="198"/>
                      </a:lnTo>
                      <a:lnTo>
                        <a:pt x="600" y="193"/>
                      </a:lnTo>
                      <a:lnTo>
                        <a:pt x="601" y="187"/>
                      </a:lnTo>
                      <a:lnTo>
                        <a:pt x="601" y="182"/>
                      </a:lnTo>
                      <a:lnTo>
                        <a:pt x="601" y="176"/>
                      </a:lnTo>
                      <a:lnTo>
                        <a:pt x="600" y="170"/>
                      </a:lnTo>
                      <a:lnTo>
                        <a:pt x="600" y="165"/>
                      </a:lnTo>
                      <a:lnTo>
                        <a:pt x="598" y="161"/>
                      </a:lnTo>
                      <a:lnTo>
                        <a:pt x="602" y="156"/>
                      </a:lnTo>
                      <a:lnTo>
                        <a:pt x="606" y="149"/>
                      </a:lnTo>
                      <a:lnTo>
                        <a:pt x="610" y="141"/>
                      </a:lnTo>
                      <a:lnTo>
                        <a:pt x="616" y="132"/>
                      </a:lnTo>
                      <a:lnTo>
                        <a:pt x="619" y="123"/>
                      </a:lnTo>
                      <a:lnTo>
                        <a:pt x="624" y="115"/>
                      </a:lnTo>
                      <a:lnTo>
                        <a:pt x="626" y="106"/>
                      </a:lnTo>
                      <a:lnTo>
                        <a:pt x="629" y="101"/>
                      </a:lnTo>
                      <a:lnTo>
                        <a:pt x="624" y="94"/>
                      </a:lnTo>
                      <a:lnTo>
                        <a:pt x="616" y="89"/>
                      </a:lnTo>
                      <a:lnTo>
                        <a:pt x="608" y="84"/>
                      </a:lnTo>
                      <a:lnTo>
                        <a:pt x="603" y="79"/>
                      </a:lnTo>
                      <a:lnTo>
                        <a:pt x="603" y="74"/>
                      </a:lnTo>
                      <a:lnTo>
                        <a:pt x="604" y="69"/>
                      </a:lnTo>
                      <a:lnTo>
                        <a:pt x="604" y="65"/>
                      </a:lnTo>
                      <a:lnTo>
                        <a:pt x="606" y="60"/>
                      </a:lnTo>
                      <a:lnTo>
                        <a:pt x="607" y="56"/>
                      </a:lnTo>
                      <a:lnTo>
                        <a:pt x="607" y="51"/>
                      </a:lnTo>
                      <a:lnTo>
                        <a:pt x="608" y="46"/>
                      </a:lnTo>
                      <a:lnTo>
                        <a:pt x="608" y="43"/>
                      </a:lnTo>
                      <a:lnTo>
                        <a:pt x="601" y="48"/>
                      </a:lnTo>
                      <a:lnTo>
                        <a:pt x="593" y="49"/>
                      </a:lnTo>
                      <a:lnTo>
                        <a:pt x="586" y="48"/>
                      </a:lnTo>
                      <a:lnTo>
                        <a:pt x="581" y="48"/>
                      </a:lnTo>
                      <a:lnTo>
                        <a:pt x="580" y="43"/>
                      </a:lnTo>
                      <a:lnTo>
                        <a:pt x="579" y="38"/>
                      </a:lnTo>
                      <a:lnTo>
                        <a:pt x="578" y="34"/>
                      </a:lnTo>
                      <a:lnTo>
                        <a:pt x="577" y="33"/>
                      </a:lnTo>
                      <a:lnTo>
                        <a:pt x="573" y="27"/>
                      </a:lnTo>
                      <a:lnTo>
                        <a:pt x="567" y="24"/>
                      </a:lnTo>
                      <a:lnTo>
                        <a:pt x="559" y="22"/>
                      </a:lnTo>
                      <a:lnTo>
                        <a:pt x="550" y="20"/>
                      </a:lnTo>
                      <a:lnTo>
                        <a:pt x="539" y="17"/>
                      </a:lnTo>
                      <a:lnTo>
                        <a:pt x="528" y="15"/>
                      </a:lnTo>
                      <a:lnTo>
                        <a:pt x="518" y="13"/>
                      </a:lnTo>
                      <a:lnTo>
                        <a:pt x="511" y="12"/>
                      </a:lnTo>
                      <a:lnTo>
                        <a:pt x="505" y="12"/>
                      </a:lnTo>
                      <a:lnTo>
                        <a:pt x="492" y="8"/>
                      </a:lnTo>
                      <a:lnTo>
                        <a:pt x="479" y="5"/>
                      </a:lnTo>
                      <a:lnTo>
                        <a:pt x="465" y="2"/>
                      </a:lnTo>
                      <a:lnTo>
                        <a:pt x="450" y="1"/>
                      </a:lnTo>
                      <a:lnTo>
                        <a:pt x="435" y="0"/>
                      </a:lnTo>
                      <a:lnTo>
                        <a:pt x="418" y="0"/>
                      </a:lnTo>
                      <a:lnTo>
                        <a:pt x="402" y="1"/>
                      </a:lnTo>
                      <a:lnTo>
                        <a:pt x="386" y="2"/>
                      </a:lnTo>
                      <a:lnTo>
                        <a:pt x="370" y="6"/>
                      </a:lnTo>
                      <a:lnTo>
                        <a:pt x="353" y="9"/>
                      </a:lnTo>
                      <a:lnTo>
                        <a:pt x="335" y="15"/>
                      </a:lnTo>
                      <a:lnTo>
                        <a:pt x="318" y="21"/>
                      </a:lnTo>
                      <a:lnTo>
                        <a:pt x="301" y="28"/>
                      </a:lnTo>
                      <a:lnTo>
                        <a:pt x="283" y="37"/>
                      </a:lnTo>
                      <a:lnTo>
                        <a:pt x="266" y="48"/>
                      </a:lnTo>
                      <a:lnTo>
                        <a:pt x="249" y="58"/>
                      </a:lnTo>
                      <a:lnTo>
                        <a:pt x="234" y="71"/>
                      </a:lnTo>
                      <a:lnTo>
                        <a:pt x="224" y="90"/>
                      </a:lnTo>
                      <a:lnTo>
                        <a:pt x="220" y="113"/>
                      </a:lnTo>
                      <a:lnTo>
                        <a:pt x="217" y="139"/>
                      </a:lnTo>
                      <a:lnTo>
                        <a:pt x="216" y="164"/>
                      </a:lnTo>
                      <a:lnTo>
                        <a:pt x="214" y="190"/>
                      </a:lnTo>
                      <a:lnTo>
                        <a:pt x="209" y="210"/>
                      </a:lnTo>
                      <a:lnTo>
                        <a:pt x="201" y="225"/>
                      </a:lnTo>
                      <a:lnTo>
                        <a:pt x="204" y="238"/>
                      </a:lnTo>
                      <a:lnTo>
                        <a:pt x="208" y="246"/>
                      </a:lnTo>
                      <a:lnTo>
                        <a:pt x="213" y="253"/>
                      </a:lnTo>
                      <a:lnTo>
                        <a:pt x="215" y="259"/>
                      </a:lnTo>
                      <a:lnTo>
                        <a:pt x="214" y="269"/>
                      </a:lnTo>
                      <a:lnTo>
                        <a:pt x="213" y="276"/>
                      </a:lnTo>
                      <a:lnTo>
                        <a:pt x="210" y="283"/>
                      </a:lnTo>
                      <a:lnTo>
                        <a:pt x="209" y="288"/>
                      </a:lnTo>
                      <a:lnTo>
                        <a:pt x="207" y="291"/>
                      </a:lnTo>
                      <a:lnTo>
                        <a:pt x="205" y="296"/>
                      </a:lnTo>
                      <a:lnTo>
                        <a:pt x="204" y="301"/>
                      </a:lnTo>
                      <a:lnTo>
                        <a:pt x="204" y="306"/>
                      </a:lnTo>
                      <a:lnTo>
                        <a:pt x="206" y="316"/>
                      </a:lnTo>
                      <a:lnTo>
                        <a:pt x="212" y="320"/>
                      </a:lnTo>
                      <a:lnTo>
                        <a:pt x="220" y="326"/>
                      </a:lnTo>
                      <a:lnTo>
                        <a:pt x="229" y="337"/>
                      </a:lnTo>
                      <a:lnTo>
                        <a:pt x="221" y="335"/>
                      </a:lnTo>
                      <a:lnTo>
                        <a:pt x="214" y="334"/>
                      </a:lnTo>
                      <a:lnTo>
                        <a:pt x="206" y="332"/>
                      </a:lnTo>
                      <a:lnTo>
                        <a:pt x="197" y="332"/>
                      </a:lnTo>
                      <a:lnTo>
                        <a:pt x="187" y="332"/>
                      </a:lnTo>
                      <a:lnTo>
                        <a:pt x="179" y="335"/>
                      </a:lnTo>
                      <a:lnTo>
                        <a:pt x="171" y="340"/>
                      </a:lnTo>
                      <a:lnTo>
                        <a:pt x="163" y="344"/>
                      </a:lnTo>
                      <a:lnTo>
                        <a:pt x="156" y="350"/>
                      </a:lnTo>
                      <a:lnTo>
                        <a:pt x="148" y="356"/>
                      </a:lnTo>
                      <a:lnTo>
                        <a:pt x="141" y="362"/>
                      </a:lnTo>
                      <a:lnTo>
                        <a:pt x="133" y="366"/>
                      </a:lnTo>
                      <a:lnTo>
                        <a:pt x="117" y="373"/>
                      </a:lnTo>
                      <a:lnTo>
                        <a:pt x="100" y="383"/>
                      </a:lnTo>
                      <a:lnTo>
                        <a:pt x="82" y="391"/>
                      </a:lnTo>
                      <a:lnTo>
                        <a:pt x="65" y="399"/>
                      </a:lnTo>
                      <a:lnTo>
                        <a:pt x="48" y="407"/>
                      </a:lnTo>
                      <a:lnTo>
                        <a:pt x="31" y="415"/>
                      </a:lnTo>
                      <a:lnTo>
                        <a:pt x="15" y="423"/>
                      </a:lnTo>
                      <a:lnTo>
                        <a:pt x="0" y="430"/>
                      </a:lnTo>
                      <a:lnTo>
                        <a:pt x="0" y="1204"/>
                      </a:lnTo>
                      <a:lnTo>
                        <a:pt x="2800" y="1204"/>
                      </a:lnTo>
                      <a:lnTo>
                        <a:pt x="2800" y="857"/>
                      </a:lnTo>
                      <a:lnTo>
                        <a:pt x="2798" y="835"/>
                      </a:lnTo>
                      <a:lnTo>
                        <a:pt x="2795" y="821"/>
                      </a:lnTo>
                      <a:lnTo>
                        <a:pt x="2793" y="813"/>
                      </a:lnTo>
                      <a:lnTo>
                        <a:pt x="2791" y="808"/>
                      </a:lnTo>
                      <a:lnTo>
                        <a:pt x="2787" y="801"/>
                      </a:lnTo>
                      <a:lnTo>
                        <a:pt x="2783" y="790"/>
                      </a:lnTo>
                      <a:lnTo>
                        <a:pt x="2778" y="773"/>
                      </a:lnTo>
                      <a:lnTo>
                        <a:pt x="2771" y="748"/>
                      </a:lnTo>
                      <a:lnTo>
                        <a:pt x="2770" y="739"/>
                      </a:lnTo>
                      <a:lnTo>
                        <a:pt x="2769" y="729"/>
                      </a:lnTo>
                      <a:lnTo>
                        <a:pt x="2767" y="716"/>
                      </a:lnTo>
                      <a:lnTo>
                        <a:pt x="2766" y="700"/>
                      </a:lnTo>
                      <a:lnTo>
                        <a:pt x="2764" y="683"/>
                      </a:lnTo>
                      <a:lnTo>
                        <a:pt x="2762" y="664"/>
                      </a:lnTo>
                      <a:lnTo>
                        <a:pt x="2758" y="645"/>
                      </a:lnTo>
                      <a:lnTo>
                        <a:pt x="2755" y="624"/>
                      </a:lnTo>
                      <a:lnTo>
                        <a:pt x="2749" y="603"/>
                      </a:lnTo>
                      <a:lnTo>
                        <a:pt x="2743" y="581"/>
                      </a:lnTo>
                      <a:lnTo>
                        <a:pt x="2735" y="560"/>
                      </a:lnTo>
                      <a:lnTo>
                        <a:pt x="2726" y="541"/>
                      </a:lnTo>
                      <a:lnTo>
                        <a:pt x="2715" y="521"/>
                      </a:lnTo>
                      <a:lnTo>
                        <a:pt x="2703" y="503"/>
                      </a:lnTo>
                      <a:lnTo>
                        <a:pt x="2689" y="486"/>
                      </a:lnTo>
                      <a:lnTo>
                        <a:pt x="2673" y="473"/>
                      </a:lnTo>
                      <a:lnTo>
                        <a:pt x="2668" y="469"/>
                      </a:lnTo>
                      <a:lnTo>
                        <a:pt x="2661" y="463"/>
                      </a:lnTo>
                      <a:lnTo>
                        <a:pt x="2655" y="458"/>
                      </a:lnTo>
                      <a:lnTo>
                        <a:pt x="2650" y="451"/>
                      </a:lnTo>
                      <a:lnTo>
                        <a:pt x="2651" y="451"/>
                      </a:lnTo>
                      <a:lnTo>
                        <a:pt x="2652" y="451"/>
                      </a:lnTo>
                      <a:lnTo>
                        <a:pt x="2653" y="450"/>
                      </a:lnTo>
                      <a:lnTo>
                        <a:pt x="2654" y="450"/>
                      </a:lnTo>
                      <a:lnTo>
                        <a:pt x="2651" y="443"/>
                      </a:lnTo>
                      <a:lnTo>
                        <a:pt x="2646" y="437"/>
                      </a:lnTo>
                      <a:lnTo>
                        <a:pt x="2644" y="431"/>
                      </a:lnTo>
                      <a:lnTo>
                        <a:pt x="2640" y="426"/>
                      </a:lnTo>
                      <a:lnTo>
                        <a:pt x="2638" y="422"/>
                      </a:lnTo>
                      <a:lnTo>
                        <a:pt x="2637" y="418"/>
                      </a:lnTo>
                      <a:lnTo>
                        <a:pt x="2635" y="416"/>
                      </a:lnTo>
                      <a:lnTo>
                        <a:pt x="2633" y="415"/>
                      </a:lnTo>
                      <a:lnTo>
                        <a:pt x="2632" y="414"/>
                      </a:lnTo>
                      <a:lnTo>
                        <a:pt x="2631" y="413"/>
                      </a:lnTo>
                      <a:lnTo>
                        <a:pt x="2629" y="414"/>
                      </a:lnTo>
                      <a:lnTo>
                        <a:pt x="2627" y="414"/>
                      </a:lnTo>
                      <a:lnTo>
                        <a:pt x="2630" y="389"/>
                      </a:lnTo>
                      <a:lnTo>
                        <a:pt x="2644" y="389"/>
                      </a:lnTo>
                      <a:lnTo>
                        <a:pt x="2659" y="388"/>
                      </a:lnTo>
                      <a:lnTo>
                        <a:pt x="2674" y="386"/>
                      </a:lnTo>
                      <a:lnTo>
                        <a:pt x="2688" y="381"/>
                      </a:lnTo>
                      <a:lnTo>
                        <a:pt x="2702" y="373"/>
                      </a:lnTo>
                      <a:lnTo>
                        <a:pt x="2713" y="362"/>
                      </a:lnTo>
                      <a:lnTo>
                        <a:pt x="2722" y="346"/>
                      </a:lnTo>
                      <a:lnTo>
                        <a:pt x="2729" y="324"/>
                      </a:lnTo>
                      <a:lnTo>
                        <a:pt x="2728" y="305"/>
                      </a:lnTo>
                      <a:lnTo>
                        <a:pt x="2722" y="289"/>
                      </a:lnTo>
                      <a:lnTo>
                        <a:pt x="2713" y="277"/>
                      </a:lnTo>
                      <a:lnTo>
                        <a:pt x="2702" y="269"/>
                      </a:lnTo>
                      <a:lnTo>
                        <a:pt x="2688" y="264"/>
                      </a:lnTo>
                      <a:lnTo>
                        <a:pt x="2674" y="260"/>
                      </a:lnTo>
                      <a:lnTo>
                        <a:pt x="2660" y="259"/>
                      </a:lnTo>
                      <a:lnTo>
                        <a:pt x="2647" y="261"/>
                      </a:lnTo>
                      <a:lnTo>
                        <a:pt x="2645" y="255"/>
                      </a:lnTo>
                      <a:lnTo>
                        <a:pt x="2645" y="251"/>
                      </a:lnTo>
                      <a:lnTo>
                        <a:pt x="2646" y="246"/>
                      </a:lnTo>
                      <a:lnTo>
                        <a:pt x="2647" y="240"/>
                      </a:lnTo>
                      <a:lnTo>
                        <a:pt x="2648" y="235"/>
                      </a:lnTo>
                      <a:lnTo>
                        <a:pt x="2648" y="228"/>
                      </a:lnTo>
                      <a:lnTo>
                        <a:pt x="2646" y="221"/>
                      </a:lnTo>
                      <a:lnTo>
                        <a:pt x="2643" y="213"/>
                      </a:lnTo>
                      <a:lnTo>
                        <a:pt x="2637" y="203"/>
                      </a:lnTo>
                      <a:lnTo>
                        <a:pt x="2632" y="193"/>
                      </a:lnTo>
                      <a:lnTo>
                        <a:pt x="2628" y="183"/>
                      </a:lnTo>
                      <a:lnTo>
                        <a:pt x="2623" y="173"/>
                      </a:lnTo>
                      <a:lnTo>
                        <a:pt x="2618" y="164"/>
                      </a:lnTo>
                      <a:lnTo>
                        <a:pt x="2613" y="156"/>
                      </a:lnTo>
                      <a:lnTo>
                        <a:pt x="2606" y="149"/>
                      </a:lnTo>
                      <a:lnTo>
                        <a:pt x="2599" y="145"/>
                      </a:lnTo>
                      <a:lnTo>
                        <a:pt x="2588" y="141"/>
                      </a:lnTo>
                      <a:lnTo>
                        <a:pt x="2577" y="138"/>
                      </a:lnTo>
                      <a:lnTo>
                        <a:pt x="2565" y="134"/>
                      </a:lnTo>
                      <a:lnTo>
                        <a:pt x="2554" y="132"/>
                      </a:lnTo>
                      <a:lnTo>
                        <a:pt x="2542" y="130"/>
                      </a:lnTo>
                      <a:lnTo>
                        <a:pt x="2529" y="127"/>
                      </a:lnTo>
                      <a:lnTo>
                        <a:pt x="2518" y="125"/>
                      </a:lnTo>
                      <a:lnTo>
                        <a:pt x="2506" y="124"/>
                      </a:lnTo>
                      <a:lnTo>
                        <a:pt x="2486" y="119"/>
                      </a:lnTo>
                      <a:lnTo>
                        <a:pt x="2466" y="120"/>
                      </a:lnTo>
                      <a:lnTo>
                        <a:pt x="2447" y="124"/>
                      </a:lnTo>
                      <a:lnTo>
                        <a:pt x="2430" y="131"/>
                      </a:lnTo>
                      <a:lnTo>
                        <a:pt x="2413" y="139"/>
                      </a:lnTo>
                      <a:lnTo>
                        <a:pt x="2395" y="148"/>
                      </a:lnTo>
                      <a:lnTo>
                        <a:pt x="2379" y="157"/>
                      </a:lnTo>
                      <a:lnTo>
                        <a:pt x="2363" y="165"/>
                      </a:lnTo>
                      <a:lnTo>
                        <a:pt x="2354" y="170"/>
                      </a:lnTo>
                      <a:lnTo>
                        <a:pt x="2347" y="177"/>
                      </a:lnTo>
                      <a:lnTo>
                        <a:pt x="2340" y="183"/>
                      </a:lnTo>
                      <a:lnTo>
                        <a:pt x="2334" y="190"/>
                      </a:lnTo>
                      <a:lnTo>
                        <a:pt x="2330" y="197"/>
                      </a:lnTo>
                      <a:lnTo>
                        <a:pt x="2327" y="205"/>
                      </a:lnTo>
                      <a:lnTo>
                        <a:pt x="2327" y="212"/>
                      </a:lnTo>
                      <a:lnTo>
                        <a:pt x="2327" y="217"/>
                      </a:lnTo>
                      <a:lnTo>
                        <a:pt x="2326" y="223"/>
                      </a:lnTo>
                      <a:lnTo>
                        <a:pt x="2325" y="229"/>
                      </a:lnTo>
                      <a:lnTo>
                        <a:pt x="2324" y="236"/>
                      </a:lnTo>
                      <a:lnTo>
                        <a:pt x="2323" y="242"/>
                      </a:lnTo>
                      <a:lnTo>
                        <a:pt x="2323" y="247"/>
                      </a:lnTo>
                      <a:lnTo>
                        <a:pt x="2321" y="254"/>
                      </a:lnTo>
                      <a:lnTo>
                        <a:pt x="2321" y="261"/>
                      </a:lnTo>
                      <a:lnTo>
                        <a:pt x="2321" y="267"/>
                      </a:lnTo>
                      <a:lnTo>
                        <a:pt x="2319" y="273"/>
                      </a:lnTo>
                      <a:lnTo>
                        <a:pt x="2317" y="277"/>
                      </a:lnTo>
                      <a:lnTo>
                        <a:pt x="2317" y="283"/>
                      </a:lnTo>
                      <a:lnTo>
                        <a:pt x="2317" y="290"/>
                      </a:lnTo>
                      <a:lnTo>
                        <a:pt x="2319" y="294"/>
                      </a:lnTo>
                      <a:lnTo>
                        <a:pt x="2321" y="297"/>
                      </a:lnTo>
                      <a:lnTo>
                        <a:pt x="2324" y="302"/>
                      </a:lnTo>
                      <a:lnTo>
                        <a:pt x="2326" y="305"/>
                      </a:lnTo>
                      <a:lnTo>
                        <a:pt x="2325" y="307"/>
                      </a:lnTo>
                      <a:lnTo>
                        <a:pt x="2323" y="310"/>
                      </a:lnTo>
                      <a:lnTo>
                        <a:pt x="2320" y="312"/>
                      </a:lnTo>
                      <a:lnTo>
                        <a:pt x="2319" y="314"/>
                      </a:lnTo>
                      <a:lnTo>
                        <a:pt x="2323" y="317"/>
                      </a:lnTo>
                      <a:lnTo>
                        <a:pt x="2327" y="319"/>
                      </a:lnTo>
                      <a:lnTo>
                        <a:pt x="2331" y="321"/>
                      </a:lnTo>
                      <a:lnTo>
                        <a:pt x="2332" y="324"/>
                      </a:lnTo>
                      <a:lnTo>
                        <a:pt x="2331" y="326"/>
                      </a:lnTo>
                      <a:lnTo>
                        <a:pt x="2330" y="328"/>
                      </a:lnTo>
                      <a:lnTo>
                        <a:pt x="2328" y="332"/>
                      </a:lnTo>
                      <a:lnTo>
                        <a:pt x="2327" y="335"/>
                      </a:lnTo>
                      <a:lnTo>
                        <a:pt x="2324" y="341"/>
                      </a:lnTo>
                      <a:lnTo>
                        <a:pt x="2320" y="346"/>
                      </a:lnTo>
                      <a:lnTo>
                        <a:pt x="2318" y="350"/>
                      </a:lnTo>
                      <a:lnTo>
                        <a:pt x="2317" y="355"/>
                      </a:lnTo>
                      <a:lnTo>
                        <a:pt x="2319" y="359"/>
                      </a:lnTo>
                      <a:lnTo>
                        <a:pt x="2324" y="363"/>
                      </a:lnTo>
                      <a:lnTo>
                        <a:pt x="2328" y="364"/>
                      </a:lnTo>
                      <a:lnTo>
                        <a:pt x="2334" y="366"/>
                      </a:lnTo>
                      <a:lnTo>
                        <a:pt x="2335" y="371"/>
                      </a:lnTo>
                      <a:lnTo>
                        <a:pt x="2337" y="377"/>
                      </a:lnTo>
                      <a:lnTo>
                        <a:pt x="2339" y="384"/>
                      </a:lnTo>
                      <a:lnTo>
                        <a:pt x="2341" y="392"/>
                      </a:lnTo>
                      <a:lnTo>
                        <a:pt x="2343" y="399"/>
                      </a:lnTo>
                      <a:lnTo>
                        <a:pt x="2347" y="406"/>
                      </a:lnTo>
                      <a:lnTo>
                        <a:pt x="2352" y="413"/>
                      </a:lnTo>
                      <a:lnTo>
                        <a:pt x="2355" y="418"/>
                      </a:lnTo>
                      <a:lnTo>
                        <a:pt x="2355" y="424"/>
                      </a:lnTo>
                      <a:lnTo>
                        <a:pt x="2354" y="430"/>
                      </a:lnTo>
                      <a:lnTo>
                        <a:pt x="2354" y="436"/>
                      </a:lnTo>
                      <a:lnTo>
                        <a:pt x="2355" y="443"/>
                      </a:lnTo>
                      <a:lnTo>
                        <a:pt x="2362" y="453"/>
                      </a:lnTo>
                      <a:lnTo>
                        <a:pt x="2370" y="458"/>
                      </a:lnTo>
                      <a:lnTo>
                        <a:pt x="2380" y="459"/>
                      </a:lnTo>
                      <a:lnTo>
                        <a:pt x="2392" y="456"/>
                      </a:lnTo>
                      <a:lnTo>
                        <a:pt x="2402" y="454"/>
                      </a:lnTo>
                      <a:lnTo>
                        <a:pt x="2412" y="451"/>
                      </a:lnTo>
                      <a:lnTo>
                        <a:pt x="2420" y="448"/>
                      </a:lnTo>
                      <a:lnTo>
                        <a:pt x="2424" y="448"/>
                      </a:lnTo>
                      <a:lnTo>
                        <a:pt x="2428" y="450"/>
                      </a:lnTo>
                      <a:lnTo>
                        <a:pt x="2432" y="450"/>
                      </a:lnTo>
                      <a:lnTo>
                        <a:pt x="2436" y="451"/>
                      </a:lnTo>
                      <a:lnTo>
                        <a:pt x="2439" y="452"/>
                      </a:lnTo>
                      <a:lnTo>
                        <a:pt x="2444" y="456"/>
                      </a:lnTo>
                      <a:lnTo>
                        <a:pt x="2447" y="462"/>
                      </a:lnTo>
                      <a:lnTo>
                        <a:pt x="2452" y="468"/>
                      </a:lnTo>
                      <a:lnTo>
                        <a:pt x="2457" y="475"/>
                      </a:lnTo>
                      <a:lnTo>
                        <a:pt x="2461" y="481"/>
                      </a:lnTo>
                      <a:lnTo>
                        <a:pt x="2465" y="486"/>
                      </a:lnTo>
                      <a:lnTo>
                        <a:pt x="2468" y="491"/>
                      </a:lnTo>
                      <a:lnTo>
                        <a:pt x="2471" y="495"/>
                      </a:lnTo>
                      <a:lnTo>
                        <a:pt x="2466" y="502"/>
                      </a:lnTo>
                      <a:lnTo>
                        <a:pt x="2461" y="508"/>
                      </a:lnTo>
                      <a:lnTo>
                        <a:pt x="2456" y="517"/>
                      </a:lnTo>
                      <a:lnTo>
                        <a:pt x="2451" y="525"/>
                      </a:lnTo>
                      <a:lnTo>
                        <a:pt x="2445" y="534"/>
                      </a:lnTo>
                      <a:lnTo>
                        <a:pt x="2440" y="542"/>
                      </a:lnTo>
                      <a:lnTo>
                        <a:pt x="2434" y="550"/>
                      </a:lnTo>
                      <a:lnTo>
                        <a:pt x="2428" y="558"/>
                      </a:lnTo>
                      <a:lnTo>
                        <a:pt x="2428" y="563"/>
                      </a:lnTo>
                      <a:lnTo>
                        <a:pt x="2428" y="569"/>
                      </a:lnTo>
                      <a:lnTo>
                        <a:pt x="2428" y="574"/>
                      </a:lnTo>
                      <a:lnTo>
                        <a:pt x="2428" y="579"/>
                      </a:lnTo>
                      <a:lnTo>
                        <a:pt x="2421" y="590"/>
                      </a:lnTo>
                      <a:lnTo>
                        <a:pt x="2415" y="599"/>
                      </a:lnTo>
                      <a:lnTo>
                        <a:pt x="2410" y="607"/>
                      </a:lnTo>
                      <a:lnTo>
                        <a:pt x="2406" y="614"/>
                      </a:lnTo>
                      <a:lnTo>
                        <a:pt x="2404" y="620"/>
                      </a:lnTo>
                      <a:lnTo>
                        <a:pt x="2400" y="626"/>
                      </a:lnTo>
                      <a:lnTo>
                        <a:pt x="2397" y="633"/>
                      </a:lnTo>
                      <a:lnTo>
                        <a:pt x="2393" y="640"/>
                      </a:lnTo>
                      <a:lnTo>
                        <a:pt x="2388" y="647"/>
                      </a:lnTo>
                      <a:lnTo>
                        <a:pt x="2384" y="654"/>
                      </a:lnTo>
                      <a:lnTo>
                        <a:pt x="2380" y="661"/>
                      </a:lnTo>
                      <a:lnTo>
                        <a:pt x="2376" y="668"/>
                      </a:lnTo>
                      <a:lnTo>
                        <a:pt x="2371" y="674"/>
                      </a:lnTo>
                      <a:lnTo>
                        <a:pt x="2367" y="681"/>
                      </a:lnTo>
                      <a:lnTo>
                        <a:pt x="2362" y="686"/>
                      </a:lnTo>
                      <a:lnTo>
                        <a:pt x="2357" y="693"/>
                      </a:lnTo>
                      <a:lnTo>
                        <a:pt x="2360" y="699"/>
                      </a:lnTo>
                      <a:lnTo>
                        <a:pt x="2362" y="704"/>
                      </a:lnTo>
                      <a:lnTo>
                        <a:pt x="2365" y="709"/>
                      </a:lnTo>
                      <a:lnTo>
                        <a:pt x="2369" y="713"/>
                      </a:lnTo>
                      <a:lnTo>
                        <a:pt x="2367" y="719"/>
                      </a:lnTo>
                      <a:lnTo>
                        <a:pt x="2364" y="726"/>
                      </a:lnTo>
                      <a:lnTo>
                        <a:pt x="2363" y="734"/>
                      </a:lnTo>
                      <a:lnTo>
                        <a:pt x="2361" y="741"/>
                      </a:lnTo>
                      <a:lnTo>
                        <a:pt x="2360" y="749"/>
                      </a:lnTo>
                      <a:lnTo>
                        <a:pt x="2358" y="757"/>
                      </a:lnTo>
                      <a:lnTo>
                        <a:pt x="2357" y="764"/>
                      </a:lnTo>
                      <a:lnTo>
                        <a:pt x="2356" y="770"/>
                      </a:lnTo>
                      <a:lnTo>
                        <a:pt x="2347" y="768"/>
                      </a:lnTo>
                      <a:lnTo>
                        <a:pt x="2338" y="767"/>
                      </a:lnTo>
                      <a:lnTo>
                        <a:pt x="2330" y="764"/>
                      </a:lnTo>
                      <a:lnTo>
                        <a:pt x="2320" y="761"/>
                      </a:lnTo>
                      <a:lnTo>
                        <a:pt x="2311" y="758"/>
                      </a:lnTo>
                      <a:lnTo>
                        <a:pt x="2301" y="754"/>
                      </a:lnTo>
                      <a:lnTo>
                        <a:pt x="2291" y="752"/>
                      </a:lnTo>
                      <a:lnTo>
                        <a:pt x="2281" y="750"/>
                      </a:lnTo>
                      <a:lnTo>
                        <a:pt x="2273" y="745"/>
                      </a:lnTo>
                      <a:lnTo>
                        <a:pt x="2266" y="738"/>
                      </a:lnTo>
                      <a:lnTo>
                        <a:pt x="2260" y="731"/>
                      </a:lnTo>
                      <a:lnTo>
                        <a:pt x="2253" y="729"/>
                      </a:lnTo>
                      <a:lnTo>
                        <a:pt x="2250" y="728"/>
                      </a:lnTo>
                      <a:lnTo>
                        <a:pt x="2245" y="728"/>
                      </a:lnTo>
                      <a:lnTo>
                        <a:pt x="2238" y="727"/>
                      </a:lnTo>
                      <a:lnTo>
                        <a:pt x="2229" y="726"/>
                      </a:lnTo>
                      <a:lnTo>
                        <a:pt x="2226" y="722"/>
                      </a:lnTo>
                      <a:lnTo>
                        <a:pt x="2222" y="719"/>
                      </a:lnTo>
                      <a:lnTo>
                        <a:pt x="2219" y="715"/>
                      </a:lnTo>
                      <a:lnTo>
                        <a:pt x="2215" y="712"/>
                      </a:lnTo>
                      <a:lnTo>
                        <a:pt x="2209" y="712"/>
                      </a:lnTo>
                      <a:lnTo>
                        <a:pt x="2204" y="715"/>
                      </a:lnTo>
                      <a:lnTo>
                        <a:pt x="2202" y="724"/>
                      </a:lnTo>
                      <a:lnTo>
                        <a:pt x="2206" y="739"/>
                      </a:lnTo>
                      <a:lnTo>
                        <a:pt x="2204" y="738"/>
                      </a:lnTo>
                      <a:lnTo>
                        <a:pt x="2200" y="738"/>
                      </a:lnTo>
                      <a:lnTo>
                        <a:pt x="2197" y="738"/>
                      </a:lnTo>
                      <a:lnTo>
                        <a:pt x="2193" y="738"/>
                      </a:lnTo>
                      <a:lnTo>
                        <a:pt x="2189" y="738"/>
                      </a:lnTo>
                      <a:lnTo>
                        <a:pt x="2184" y="739"/>
                      </a:lnTo>
                      <a:lnTo>
                        <a:pt x="2178" y="739"/>
                      </a:lnTo>
                      <a:lnTo>
                        <a:pt x="2171" y="739"/>
                      </a:lnTo>
                      <a:lnTo>
                        <a:pt x="2164" y="735"/>
                      </a:lnTo>
                      <a:lnTo>
                        <a:pt x="2155" y="731"/>
                      </a:lnTo>
                      <a:lnTo>
                        <a:pt x="2145" y="728"/>
                      </a:lnTo>
                      <a:lnTo>
                        <a:pt x="2133" y="726"/>
                      </a:lnTo>
                      <a:lnTo>
                        <a:pt x="2122" y="723"/>
                      </a:lnTo>
                      <a:lnTo>
                        <a:pt x="2110" y="722"/>
                      </a:lnTo>
                      <a:lnTo>
                        <a:pt x="2098" y="722"/>
                      </a:lnTo>
                      <a:lnTo>
                        <a:pt x="2088" y="722"/>
                      </a:lnTo>
                      <a:lnTo>
                        <a:pt x="2090" y="716"/>
                      </a:lnTo>
                      <a:lnTo>
                        <a:pt x="2094" y="712"/>
                      </a:lnTo>
                      <a:lnTo>
                        <a:pt x="2096" y="707"/>
                      </a:lnTo>
                      <a:lnTo>
                        <a:pt x="2100" y="701"/>
                      </a:lnTo>
                      <a:lnTo>
                        <a:pt x="2102" y="696"/>
                      </a:lnTo>
                      <a:lnTo>
                        <a:pt x="2104" y="689"/>
                      </a:lnTo>
                      <a:lnTo>
                        <a:pt x="2105" y="679"/>
                      </a:lnTo>
                      <a:lnTo>
                        <a:pt x="2108" y="669"/>
                      </a:lnTo>
                      <a:lnTo>
                        <a:pt x="2108" y="656"/>
                      </a:lnTo>
                      <a:lnTo>
                        <a:pt x="2108" y="642"/>
                      </a:lnTo>
                      <a:lnTo>
                        <a:pt x="2107" y="629"/>
                      </a:lnTo>
                      <a:lnTo>
                        <a:pt x="2104" y="614"/>
                      </a:lnTo>
                      <a:lnTo>
                        <a:pt x="2102" y="601"/>
                      </a:lnTo>
                      <a:lnTo>
                        <a:pt x="2098" y="588"/>
                      </a:lnTo>
                      <a:lnTo>
                        <a:pt x="2095" y="579"/>
                      </a:lnTo>
                      <a:lnTo>
                        <a:pt x="2090" y="571"/>
                      </a:lnTo>
                      <a:lnTo>
                        <a:pt x="2090" y="563"/>
                      </a:lnTo>
                      <a:lnTo>
                        <a:pt x="2092" y="553"/>
                      </a:lnTo>
                      <a:lnTo>
                        <a:pt x="2093" y="545"/>
                      </a:lnTo>
                      <a:lnTo>
                        <a:pt x="2094" y="537"/>
                      </a:lnTo>
                      <a:lnTo>
                        <a:pt x="2093" y="530"/>
                      </a:lnTo>
                      <a:lnTo>
                        <a:pt x="2092" y="523"/>
                      </a:lnTo>
                      <a:lnTo>
                        <a:pt x="2087" y="518"/>
                      </a:lnTo>
                      <a:lnTo>
                        <a:pt x="2081" y="512"/>
                      </a:lnTo>
                      <a:lnTo>
                        <a:pt x="2081" y="504"/>
                      </a:lnTo>
                      <a:lnTo>
                        <a:pt x="2081" y="496"/>
                      </a:lnTo>
                      <a:lnTo>
                        <a:pt x="2080" y="488"/>
                      </a:lnTo>
                      <a:lnTo>
                        <a:pt x="2078" y="478"/>
                      </a:lnTo>
                      <a:lnTo>
                        <a:pt x="2074" y="470"/>
                      </a:lnTo>
                      <a:lnTo>
                        <a:pt x="2071" y="461"/>
                      </a:lnTo>
                      <a:lnTo>
                        <a:pt x="2066" y="452"/>
                      </a:lnTo>
                      <a:lnTo>
                        <a:pt x="2059" y="444"/>
                      </a:lnTo>
                      <a:lnTo>
                        <a:pt x="2059" y="440"/>
                      </a:lnTo>
                      <a:lnTo>
                        <a:pt x="2059" y="437"/>
                      </a:lnTo>
                      <a:lnTo>
                        <a:pt x="2059" y="432"/>
                      </a:lnTo>
                      <a:lnTo>
                        <a:pt x="2059" y="428"/>
                      </a:lnTo>
                      <a:lnTo>
                        <a:pt x="2058" y="423"/>
                      </a:lnTo>
                      <a:lnTo>
                        <a:pt x="2058" y="418"/>
                      </a:lnTo>
                      <a:lnTo>
                        <a:pt x="2057" y="414"/>
                      </a:lnTo>
                      <a:lnTo>
                        <a:pt x="2057" y="409"/>
                      </a:lnTo>
                      <a:lnTo>
                        <a:pt x="2056" y="406"/>
                      </a:lnTo>
                      <a:lnTo>
                        <a:pt x="2055" y="402"/>
                      </a:lnTo>
                      <a:lnTo>
                        <a:pt x="2052" y="399"/>
                      </a:lnTo>
                      <a:lnTo>
                        <a:pt x="2050" y="395"/>
                      </a:lnTo>
                      <a:lnTo>
                        <a:pt x="2048" y="391"/>
                      </a:lnTo>
                      <a:lnTo>
                        <a:pt x="2045" y="385"/>
                      </a:lnTo>
                      <a:lnTo>
                        <a:pt x="2043" y="377"/>
                      </a:lnTo>
                      <a:lnTo>
                        <a:pt x="2041" y="365"/>
                      </a:lnTo>
                      <a:lnTo>
                        <a:pt x="2040" y="363"/>
                      </a:lnTo>
                      <a:lnTo>
                        <a:pt x="2038" y="357"/>
                      </a:lnTo>
                      <a:lnTo>
                        <a:pt x="2035" y="350"/>
                      </a:lnTo>
                      <a:lnTo>
                        <a:pt x="2030" y="342"/>
                      </a:lnTo>
                      <a:lnTo>
                        <a:pt x="2026" y="334"/>
                      </a:lnTo>
                      <a:lnTo>
                        <a:pt x="2021" y="328"/>
                      </a:lnTo>
                      <a:lnTo>
                        <a:pt x="2015" y="324"/>
                      </a:lnTo>
                      <a:lnTo>
                        <a:pt x="2008" y="324"/>
                      </a:lnTo>
                      <a:lnTo>
                        <a:pt x="2007" y="321"/>
                      </a:lnTo>
                      <a:lnTo>
                        <a:pt x="2006" y="318"/>
                      </a:lnTo>
                      <a:lnTo>
                        <a:pt x="2003" y="314"/>
                      </a:lnTo>
                      <a:lnTo>
                        <a:pt x="1998" y="312"/>
                      </a:lnTo>
                      <a:lnTo>
                        <a:pt x="1985" y="307"/>
                      </a:lnTo>
                      <a:lnTo>
                        <a:pt x="1970" y="304"/>
                      </a:lnTo>
                      <a:lnTo>
                        <a:pt x="1953" y="302"/>
                      </a:lnTo>
                      <a:lnTo>
                        <a:pt x="1937" y="299"/>
                      </a:lnTo>
                      <a:lnTo>
                        <a:pt x="1918" y="297"/>
                      </a:lnTo>
                      <a:lnTo>
                        <a:pt x="1901" y="295"/>
                      </a:lnTo>
                      <a:lnTo>
                        <a:pt x="1885" y="294"/>
                      </a:lnTo>
                      <a:lnTo>
                        <a:pt x="1869" y="290"/>
                      </a:lnTo>
                      <a:lnTo>
                        <a:pt x="1859" y="280"/>
                      </a:lnTo>
                      <a:lnTo>
                        <a:pt x="1872" y="265"/>
                      </a:lnTo>
                      <a:lnTo>
                        <a:pt x="1871" y="258"/>
                      </a:lnTo>
                      <a:lnTo>
                        <a:pt x="1867" y="255"/>
                      </a:lnTo>
                      <a:lnTo>
                        <a:pt x="1865" y="252"/>
                      </a:lnTo>
                      <a:lnTo>
                        <a:pt x="1869" y="242"/>
                      </a:lnTo>
                      <a:lnTo>
                        <a:pt x="1871" y="232"/>
                      </a:lnTo>
                      <a:lnTo>
                        <a:pt x="1873" y="222"/>
                      </a:lnTo>
                      <a:lnTo>
                        <a:pt x="1874" y="212"/>
                      </a:lnTo>
                      <a:lnTo>
                        <a:pt x="1874" y="201"/>
                      </a:lnTo>
                      <a:lnTo>
                        <a:pt x="1873" y="192"/>
                      </a:lnTo>
                      <a:lnTo>
                        <a:pt x="1873" y="184"/>
                      </a:lnTo>
                      <a:lnTo>
                        <a:pt x="1873" y="176"/>
                      </a:lnTo>
                      <a:lnTo>
                        <a:pt x="1872" y="171"/>
                      </a:lnTo>
                      <a:lnTo>
                        <a:pt x="1869" y="163"/>
                      </a:lnTo>
                      <a:lnTo>
                        <a:pt x="1862" y="155"/>
                      </a:lnTo>
                      <a:lnTo>
                        <a:pt x="1855" y="147"/>
                      </a:lnTo>
                      <a:lnTo>
                        <a:pt x="1847" y="139"/>
                      </a:lnTo>
                      <a:lnTo>
                        <a:pt x="1838" y="132"/>
                      </a:lnTo>
                      <a:lnTo>
                        <a:pt x="1830" y="125"/>
                      </a:lnTo>
                      <a:lnTo>
                        <a:pt x="1823" y="118"/>
                      </a:lnTo>
                      <a:lnTo>
                        <a:pt x="1818" y="112"/>
                      </a:lnTo>
                      <a:lnTo>
                        <a:pt x="1812" y="109"/>
                      </a:lnTo>
                      <a:lnTo>
                        <a:pt x="1806" y="105"/>
                      </a:lnTo>
                      <a:lnTo>
                        <a:pt x="1800" y="104"/>
                      </a:lnTo>
                      <a:lnTo>
                        <a:pt x="1795" y="104"/>
                      </a:lnTo>
                      <a:lnTo>
                        <a:pt x="1790" y="104"/>
                      </a:lnTo>
                      <a:lnTo>
                        <a:pt x="1785" y="105"/>
                      </a:lnTo>
                      <a:lnTo>
                        <a:pt x="1781" y="108"/>
                      </a:lnTo>
                      <a:lnTo>
                        <a:pt x="1777" y="110"/>
                      </a:lnTo>
                      <a:lnTo>
                        <a:pt x="1773" y="105"/>
                      </a:lnTo>
                      <a:lnTo>
                        <a:pt x="1771" y="101"/>
                      </a:lnTo>
                      <a:lnTo>
                        <a:pt x="1768" y="97"/>
                      </a:lnTo>
                      <a:lnTo>
                        <a:pt x="1761" y="95"/>
                      </a:lnTo>
                      <a:lnTo>
                        <a:pt x="1750" y="95"/>
                      </a:lnTo>
                      <a:lnTo>
                        <a:pt x="1737" y="97"/>
                      </a:lnTo>
                      <a:lnTo>
                        <a:pt x="1724" y="101"/>
                      </a:lnTo>
                      <a:lnTo>
                        <a:pt x="1711" y="106"/>
                      </a:lnTo>
                      <a:lnTo>
                        <a:pt x="1699" y="113"/>
                      </a:lnTo>
                      <a:lnTo>
                        <a:pt x="1687" y="120"/>
                      </a:lnTo>
                      <a:lnTo>
                        <a:pt x="1676" y="127"/>
                      </a:lnTo>
                      <a:lnTo>
                        <a:pt x="1665" y="134"/>
                      </a:lnTo>
                      <a:lnTo>
                        <a:pt x="1655" y="141"/>
                      </a:lnTo>
                      <a:lnTo>
                        <a:pt x="1646" y="147"/>
                      </a:lnTo>
                      <a:lnTo>
                        <a:pt x="1636" y="151"/>
                      </a:lnTo>
                      <a:lnTo>
                        <a:pt x="1628" y="156"/>
                      </a:lnTo>
                      <a:lnTo>
                        <a:pt x="1622" y="162"/>
                      </a:lnTo>
                      <a:lnTo>
                        <a:pt x="1617" y="169"/>
                      </a:lnTo>
                      <a:lnTo>
                        <a:pt x="1614" y="176"/>
                      </a:lnTo>
                      <a:lnTo>
                        <a:pt x="1614" y="186"/>
                      </a:lnTo>
                      <a:lnTo>
                        <a:pt x="1631" y="200"/>
                      </a:lnTo>
                      <a:lnTo>
                        <a:pt x="1631" y="205"/>
                      </a:lnTo>
                      <a:lnTo>
                        <a:pt x="1629" y="212"/>
                      </a:lnTo>
                      <a:lnTo>
                        <a:pt x="1627" y="220"/>
                      </a:lnTo>
                      <a:lnTo>
                        <a:pt x="1626" y="229"/>
                      </a:lnTo>
                      <a:lnTo>
                        <a:pt x="1624" y="237"/>
                      </a:lnTo>
                      <a:lnTo>
                        <a:pt x="1621" y="245"/>
                      </a:lnTo>
                      <a:lnTo>
                        <a:pt x="1620" y="251"/>
                      </a:lnTo>
                      <a:lnTo>
                        <a:pt x="1620" y="254"/>
                      </a:lnTo>
                      <a:lnTo>
                        <a:pt x="1620" y="257"/>
                      </a:lnTo>
                      <a:lnTo>
                        <a:pt x="1621" y="258"/>
                      </a:lnTo>
                      <a:lnTo>
                        <a:pt x="1624" y="260"/>
                      </a:lnTo>
                      <a:lnTo>
                        <a:pt x="1625" y="262"/>
                      </a:lnTo>
                      <a:lnTo>
                        <a:pt x="1625" y="268"/>
                      </a:lnTo>
                      <a:lnTo>
                        <a:pt x="1625" y="275"/>
                      </a:lnTo>
                      <a:lnTo>
                        <a:pt x="1625" y="282"/>
                      </a:lnTo>
                      <a:lnTo>
                        <a:pt x="1625" y="289"/>
                      </a:lnTo>
                      <a:lnTo>
                        <a:pt x="1625" y="296"/>
                      </a:lnTo>
                      <a:lnTo>
                        <a:pt x="1625" y="304"/>
                      </a:lnTo>
                      <a:lnTo>
                        <a:pt x="1626" y="311"/>
                      </a:lnTo>
                      <a:lnTo>
                        <a:pt x="1627" y="318"/>
                      </a:lnTo>
                      <a:lnTo>
                        <a:pt x="1615" y="320"/>
                      </a:lnTo>
                      <a:lnTo>
                        <a:pt x="1602" y="324"/>
                      </a:lnTo>
                      <a:lnTo>
                        <a:pt x="1584" y="326"/>
                      </a:lnTo>
                      <a:lnTo>
                        <a:pt x="1567" y="329"/>
                      </a:lnTo>
                      <a:lnTo>
                        <a:pt x="1551" y="333"/>
                      </a:lnTo>
                      <a:lnTo>
                        <a:pt x="1537" y="336"/>
                      </a:lnTo>
                      <a:lnTo>
                        <a:pt x="1528" y="339"/>
                      </a:lnTo>
                      <a:lnTo>
                        <a:pt x="1523" y="342"/>
                      </a:lnTo>
                      <a:lnTo>
                        <a:pt x="1521" y="348"/>
                      </a:lnTo>
                      <a:lnTo>
                        <a:pt x="1517" y="354"/>
                      </a:lnTo>
                      <a:lnTo>
                        <a:pt x="1515" y="361"/>
                      </a:lnTo>
                      <a:lnTo>
                        <a:pt x="1512" y="369"/>
                      </a:lnTo>
                      <a:lnTo>
                        <a:pt x="1508" y="376"/>
                      </a:lnTo>
                      <a:lnTo>
                        <a:pt x="1506" y="384"/>
                      </a:lnTo>
                      <a:lnTo>
                        <a:pt x="1502" y="391"/>
                      </a:lnTo>
                      <a:lnTo>
                        <a:pt x="1500" y="398"/>
                      </a:lnTo>
                      <a:lnTo>
                        <a:pt x="1493" y="408"/>
                      </a:lnTo>
                      <a:lnTo>
                        <a:pt x="1488" y="417"/>
                      </a:lnTo>
                      <a:lnTo>
                        <a:pt x="1484" y="424"/>
                      </a:lnTo>
                      <a:lnTo>
                        <a:pt x="1483" y="430"/>
                      </a:lnTo>
                      <a:lnTo>
                        <a:pt x="1483" y="439"/>
                      </a:lnTo>
                      <a:lnTo>
                        <a:pt x="1481" y="447"/>
                      </a:lnTo>
                      <a:lnTo>
                        <a:pt x="1480" y="454"/>
                      </a:lnTo>
                      <a:lnTo>
                        <a:pt x="1479" y="459"/>
                      </a:lnTo>
                      <a:lnTo>
                        <a:pt x="1478" y="463"/>
                      </a:lnTo>
                      <a:lnTo>
                        <a:pt x="1478" y="468"/>
                      </a:lnTo>
                      <a:lnTo>
                        <a:pt x="1478" y="471"/>
                      </a:lnTo>
                      <a:lnTo>
                        <a:pt x="1478" y="475"/>
                      </a:lnTo>
                      <a:lnTo>
                        <a:pt x="1476" y="480"/>
                      </a:lnTo>
                      <a:lnTo>
                        <a:pt x="1470" y="485"/>
                      </a:lnTo>
                      <a:lnTo>
                        <a:pt x="1463" y="493"/>
                      </a:lnTo>
                      <a:lnTo>
                        <a:pt x="1455" y="503"/>
                      </a:lnTo>
                      <a:lnTo>
                        <a:pt x="1447" y="512"/>
                      </a:lnTo>
                      <a:lnTo>
                        <a:pt x="1440" y="522"/>
                      </a:lnTo>
                      <a:lnTo>
                        <a:pt x="1433" y="533"/>
                      </a:lnTo>
                      <a:lnTo>
                        <a:pt x="1428" y="54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4991400" y="5801400"/>
                  <a:ext cx="1188720" cy="220320"/>
                </a:xfrm>
                <a:custGeom>
                  <a:avLst/>
                  <a:gdLst/>
                  <a:ahLst/>
                  <a:rect l="l" t="t" r="r" b="b"/>
                  <a:pathLst>
                    <a:path w="2248" h="363">
                      <a:moveTo>
                        <a:pt x="2163" y="363"/>
                      </a:moveTo>
                      <a:lnTo>
                        <a:pt x="2161" y="361"/>
                      </a:lnTo>
                      <a:lnTo>
                        <a:pt x="2160" y="360"/>
                      </a:lnTo>
                      <a:lnTo>
                        <a:pt x="2160" y="359"/>
                      </a:lnTo>
                      <a:lnTo>
                        <a:pt x="2159" y="358"/>
                      </a:lnTo>
                      <a:lnTo>
                        <a:pt x="2158" y="357"/>
                      </a:lnTo>
                      <a:lnTo>
                        <a:pt x="2158" y="356"/>
                      </a:lnTo>
                      <a:lnTo>
                        <a:pt x="2157" y="354"/>
                      </a:lnTo>
                      <a:lnTo>
                        <a:pt x="2156" y="353"/>
                      </a:lnTo>
                      <a:lnTo>
                        <a:pt x="2154" y="352"/>
                      </a:lnTo>
                      <a:lnTo>
                        <a:pt x="2153" y="351"/>
                      </a:lnTo>
                      <a:lnTo>
                        <a:pt x="2153" y="349"/>
                      </a:lnTo>
                      <a:lnTo>
                        <a:pt x="2152" y="348"/>
                      </a:lnTo>
                      <a:lnTo>
                        <a:pt x="2151" y="346"/>
                      </a:lnTo>
                      <a:lnTo>
                        <a:pt x="2150" y="344"/>
                      </a:lnTo>
                      <a:lnTo>
                        <a:pt x="2149" y="343"/>
                      </a:lnTo>
                      <a:lnTo>
                        <a:pt x="2148" y="341"/>
                      </a:lnTo>
                      <a:lnTo>
                        <a:pt x="2146" y="339"/>
                      </a:lnTo>
                      <a:lnTo>
                        <a:pt x="2145" y="338"/>
                      </a:lnTo>
                      <a:lnTo>
                        <a:pt x="2144" y="336"/>
                      </a:lnTo>
                      <a:lnTo>
                        <a:pt x="2143" y="335"/>
                      </a:lnTo>
                      <a:lnTo>
                        <a:pt x="2142" y="333"/>
                      </a:lnTo>
                      <a:lnTo>
                        <a:pt x="2141" y="331"/>
                      </a:lnTo>
                      <a:lnTo>
                        <a:pt x="2139" y="330"/>
                      </a:lnTo>
                      <a:lnTo>
                        <a:pt x="2138" y="329"/>
                      </a:lnTo>
                      <a:lnTo>
                        <a:pt x="2138" y="327"/>
                      </a:lnTo>
                      <a:lnTo>
                        <a:pt x="2137" y="326"/>
                      </a:lnTo>
                      <a:lnTo>
                        <a:pt x="2136" y="324"/>
                      </a:lnTo>
                      <a:lnTo>
                        <a:pt x="2135" y="323"/>
                      </a:lnTo>
                      <a:lnTo>
                        <a:pt x="2134" y="322"/>
                      </a:lnTo>
                      <a:lnTo>
                        <a:pt x="2132" y="321"/>
                      </a:lnTo>
                      <a:lnTo>
                        <a:pt x="2131" y="320"/>
                      </a:lnTo>
                      <a:lnTo>
                        <a:pt x="2130" y="320"/>
                      </a:lnTo>
                      <a:lnTo>
                        <a:pt x="2129" y="320"/>
                      </a:lnTo>
                      <a:lnTo>
                        <a:pt x="2129" y="319"/>
                      </a:lnTo>
                      <a:lnTo>
                        <a:pt x="2128" y="319"/>
                      </a:lnTo>
                      <a:lnTo>
                        <a:pt x="2127" y="319"/>
                      </a:lnTo>
                      <a:lnTo>
                        <a:pt x="2126" y="319"/>
                      </a:lnTo>
                      <a:lnTo>
                        <a:pt x="2124" y="319"/>
                      </a:lnTo>
                      <a:lnTo>
                        <a:pt x="2124" y="318"/>
                      </a:lnTo>
                      <a:lnTo>
                        <a:pt x="2123" y="318"/>
                      </a:lnTo>
                      <a:lnTo>
                        <a:pt x="2122" y="318"/>
                      </a:lnTo>
                      <a:lnTo>
                        <a:pt x="2121" y="318"/>
                      </a:lnTo>
                      <a:lnTo>
                        <a:pt x="2120" y="318"/>
                      </a:lnTo>
                      <a:lnTo>
                        <a:pt x="2120" y="316"/>
                      </a:lnTo>
                      <a:lnTo>
                        <a:pt x="2119" y="316"/>
                      </a:lnTo>
                      <a:lnTo>
                        <a:pt x="2117" y="316"/>
                      </a:lnTo>
                      <a:lnTo>
                        <a:pt x="2116" y="316"/>
                      </a:lnTo>
                      <a:lnTo>
                        <a:pt x="2115" y="316"/>
                      </a:lnTo>
                      <a:lnTo>
                        <a:pt x="2114" y="316"/>
                      </a:lnTo>
                      <a:lnTo>
                        <a:pt x="2113" y="316"/>
                      </a:lnTo>
                      <a:lnTo>
                        <a:pt x="2112" y="316"/>
                      </a:lnTo>
                      <a:lnTo>
                        <a:pt x="2109" y="316"/>
                      </a:lnTo>
                      <a:lnTo>
                        <a:pt x="2108" y="318"/>
                      </a:lnTo>
                      <a:lnTo>
                        <a:pt x="2106" y="318"/>
                      </a:lnTo>
                      <a:lnTo>
                        <a:pt x="2104" y="319"/>
                      </a:lnTo>
                      <a:lnTo>
                        <a:pt x="2101" y="320"/>
                      </a:lnTo>
                      <a:lnTo>
                        <a:pt x="2099" y="320"/>
                      </a:lnTo>
                      <a:lnTo>
                        <a:pt x="2097" y="321"/>
                      </a:lnTo>
                      <a:lnTo>
                        <a:pt x="2094" y="322"/>
                      </a:lnTo>
                      <a:lnTo>
                        <a:pt x="2092" y="323"/>
                      </a:lnTo>
                      <a:lnTo>
                        <a:pt x="2089" y="323"/>
                      </a:lnTo>
                      <a:lnTo>
                        <a:pt x="2086" y="324"/>
                      </a:lnTo>
                      <a:lnTo>
                        <a:pt x="2084" y="324"/>
                      </a:lnTo>
                      <a:lnTo>
                        <a:pt x="2080" y="326"/>
                      </a:lnTo>
                      <a:lnTo>
                        <a:pt x="2078" y="326"/>
                      </a:lnTo>
                      <a:lnTo>
                        <a:pt x="2076" y="327"/>
                      </a:lnTo>
                      <a:lnTo>
                        <a:pt x="2072" y="327"/>
                      </a:lnTo>
                      <a:lnTo>
                        <a:pt x="2070" y="327"/>
                      </a:lnTo>
                      <a:lnTo>
                        <a:pt x="2068" y="327"/>
                      </a:lnTo>
                      <a:lnTo>
                        <a:pt x="2065" y="326"/>
                      </a:lnTo>
                      <a:lnTo>
                        <a:pt x="2062" y="326"/>
                      </a:lnTo>
                      <a:lnTo>
                        <a:pt x="2060" y="324"/>
                      </a:lnTo>
                      <a:lnTo>
                        <a:pt x="2057" y="323"/>
                      </a:lnTo>
                      <a:lnTo>
                        <a:pt x="2056" y="322"/>
                      </a:lnTo>
                      <a:lnTo>
                        <a:pt x="2054" y="321"/>
                      </a:lnTo>
                      <a:lnTo>
                        <a:pt x="2052" y="319"/>
                      </a:lnTo>
                      <a:lnTo>
                        <a:pt x="2050" y="316"/>
                      </a:lnTo>
                      <a:lnTo>
                        <a:pt x="2049" y="314"/>
                      </a:lnTo>
                      <a:lnTo>
                        <a:pt x="2047" y="311"/>
                      </a:lnTo>
                      <a:lnTo>
                        <a:pt x="2047" y="309"/>
                      </a:lnTo>
                      <a:lnTo>
                        <a:pt x="2047" y="308"/>
                      </a:lnTo>
                      <a:lnTo>
                        <a:pt x="2047" y="307"/>
                      </a:lnTo>
                      <a:lnTo>
                        <a:pt x="2046" y="306"/>
                      </a:lnTo>
                      <a:lnTo>
                        <a:pt x="2046" y="305"/>
                      </a:lnTo>
                      <a:lnTo>
                        <a:pt x="2046" y="304"/>
                      </a:lnTo>
                      <a:lnTo>
                        <a:pt x="2046" y="303"/>
                      </a:lnTo>
                      <a:lnTo>
                        <a:pt x="2046" y="301"/>
                      </a:lnTo>
                      <a:lnTo>
                        <a:pt x="2046" y="300"/>
                      </a:lnTo>
                      <a:lnTo>
                        <a:pt x="2046" y="299"/>
                      </a:lnTo>
                      <a:lnTo>
                        <a:pt x="2046" y="298"/>
                      </a:lnTo>
                      <a:lnTo>
                        <a:pt x="2047" y="298"/>
                      </a:lnTo>
                      <a:lnTo>
                        <a:pt x="2047" y="297"/>
                      </a:lnTo>
                      <a:lnTo>
                        <a:pt x="2047" y="296"/>
                      </a:lnTo>
                      <a:lnTo>
                        <a:pt x="2047" y="294"/>
                      </a:lnTo>
                      <a:lnTo>
                        <a:pt x="2047" y="293"/>
                      </a:lnTo>
                      <a:lnTo>
                        <a:pt x="2047" y="292"/>
                      </a:lnTo>
                      <a:lnTo>
                        <a:pt x="2047" y="291"/>
                      </a:lnTo>
                      <a:lnTo>
                        <a:pt x="2047" y="290"/>
                      </a:lnTo>
                      <a:lnTo>
                        <a:pt x="2047" y="289"/>
                      </a:lnTo>
                      <a:lnTo>
                        <a:pt x="2047" y="287"/>
                      </a:lnTo>
                      <a:lnTo>
                        <a:pt x="2047" y="286"/>
                      </a:lnTo>
                      <a:lnTo>
                        <a:pt x="2046" y="285"/>
                      </a:lnTo>
                      <a:lnTo>
                        <a:pt x="2046" y="284"/>
                      </a:lnTo>
                      <a:lnTo>
                        <a:pt x="2045" y="283"/>
                      </a:lnTo>
                      <a:lnTo>
                        <a:pt x="2044" y="281"/>
                      </a:lnTo>
                      <a:lnTo>
                        <a:pt x="2042" y="279"/>
                      </a:lnTo>
                      <a:lnTo>
                        <a:pt x="2041" y="277"/>
                      </a:lnTo>
                      <a:lnTo>
                        <a:pt x="2040" y="276"/>
                      </a:lnTo>
                      <a:lnTo>
                        <a:pt x="2039" y="274"/>
                      </a:lnTo>
                      <a:lnTo>
                        <a:pt x="2039" y="272"/>
                      </a:lnTo>
                      <a:lnTo>
                        <a:pt x="2038" y="270"/>
                      </a:lnTo>
                      <a:lnTo>
                        <a:pt x="2037" y="269"/>
                      </a:lnTo>
                      <a:lnTo>
                        <a:pt x="2035" y="267"/>
                      </a:lnTo>
                      <a:lnTo>
                        <a:pt x="2035" y="264"/>
                      </a:lnTo>
                      <a:lnTo>
                        <a:pt x="2034" y="263"/>
                      </a:lnTo>
                      <a:lnTo>
                        <a:pt x="2033" y="261"/>
                      </a:lnTo>
                      <a:lnTo>
                        <a:pt x="2033" y="260"/>
                      </a:lnTo>
                      <a:lnTo>
                        <a:pt x="2032" y="257"/>
                      </a:lnTo>
                      <a:lnTo>
                        <a:pt x="2032" y="255"/>
                      </a:lnTo>
                      <a:lnTo>
                        <a:pt x="2031" y="254"/>
                      </a:lnTo>
                      <a:lnTo>
                        <a:pt x="2031" y="252"/>
                      </a:lnTo>
                      <a:lnTo>
                        <a:pt x="2030" y="251"/>
                      </a:lnTo>
                      <a:lnTo>
                        <a:pt x="2030" y="248"/>
                      </a:lnTo>
                      <a:lnTo>
                        <a:pt x="2029" y="247"/>
                      </a:lnTo>
                      <a:lnTo>
                        <a:pt x="2029" y="245"/>
                      </a:lnTo>
                      <a:lnTo>
                        <a:pt x="2029" y="244"/>
                      </a:lnTo>
                      <a:lnTo>
                        <a:pt x="2027" y="241"/>
                      </a:lnTo>
                      <a:lnTo>
                        <a:pt x="2027" y="240"/>
                      </a:lnTo>
                      <a:lnTo>
                        <a:pt x="2027" y="239"/>
                      </a:lnTo>
                      <a:lnTo>
                        <a:pt x="2027" y="238"/>
                      </a:lnTo>
                      <a:lnTo>
                        <a:pt x="2026" y="237"/>
                      </a:lnTo>
                      <a:lnTo>
                        <a:pt x="2026" y="236"/>
                      </a:lnTo>
                      <a:lnTo>
                        <a:pt x="2026" y="234"/>
                      </a:lnTo>
                      <a:lnTo>
                        <a:pt x="2025" y="234"/>
                      </a:lnTo>
                      <a:lnTo>
                        <a:pt x="2025" y="233"/>
                      </a:lnTo>
                      <a:lnTo>
                        <a:pt x="2024" y="233"/>
                      </a:lnTo>
                      <a:lnTo>
                        <a:pt x="2023" y="233"/>
                      </a:lnTo>
                      <a:lnTo>
                        <a:pt x="2022" y="232"/>
                      </a:lnTo>
                      <a:lnTo>
                        <a:pt x="2020" y="232"/>
                      </a:lnTo>
                      <a:lnTo>
                        <a:pt x="2019" y="232"/>
                      </a:lnTo>
                      <a:lnTo>
                        <a:pt x="2018" y="231"/>
                      </a:lnTo>
                      <a:lnTo>
                        <a:pt x="2017" y="231"/>
                      </a:lnTo>
                      <a:lnTo>
                        <a:pt x="2016" y="231"/>
                      </a:lnTo>
                      <a:lnTo>
                        <a:pt x="2015" y="230"/>
                      </a:lnTo>
                      <a:lnTo>
                        <a:pt x="2013" y="230"/>
                      </a:lnTo>
                      <a:lnTo>
                        <a:pt x="2013" y="229"/>
                      </a:lnTo>
                      <a:lnTo>
                        <a:pt x="2012" y="229"/>
                      </a:lnTo>
                      <a:lnTo>
                        <a:pt x="2011" y="227"/>
                      </a:lnTo>
                      <a:lnTo>
                        <a:pt x="2011" y="226"/>
                      </a:lnTo>
                      <a:lnTo>
                        <a:pt x="2010" y="226"/>
                      </a:lnTo>
                      <a:lnTo>
                        <a:pt x="2010" y="225"/>
                      </a:lnTo>
                      <a:lnTo>
                        <a:pt x="2009" y="224"/>
                      </a:lnTo>
                      <a:lnTo>
                        <a:pt x="2009" y="223"/>
                      </a:lnTo>
                      <a:lnTo>
                        <a:pt x="2009" y="222"/>
                      </a:lnTo>
                      <a:lnTo>
                        <a:pt x="2009" y="220"/>
                      </a:lnTo>
                      <a:lnTo>
                        <a:pt x="2009" y="219"/>
                      </a:lnTo>
                      <a:lnTo>
                        <a:pt x="2010" y="218"/>
                      </a:lnTo>
                      <a:lnTo>
                        <a:pt x="2010" y="217"/>
                      </a:lnTo>
                      <a:lnTo>
                        <a:pt x="2010" y="216"/>
                      </a:lnTo>
                      <a:lnTo>
                        <a:pt x="2011" y="216"/>
                      </a:lnTo>
                      <a:lnTo>
                        <a:pt x="2011" y="215"/>
                      </a:lnTo>
                      <a:lnTo>
                        <a:pt x="2012" y="214"/>
                      </a:lnTo>
                      <a:lnTo>
                        <a:pt x="2012" y="212"/>
                      </a:lnTo>
                      <a:lnTo>
                        <a:pt x="2013" y="212"/>
                      </a:lnTo>
                      <a:lnTo>
                        <a:pt x="2013" y="211"/>
                      </a:lnTo>
                      <a:lnTo>
                        <a:pt x="2015" y="211"/>
                      </a:lnTo>
                      <a:lnTo>
                        <a:pt x="2015" y="210"/>
                      </a:lnTo>
                      <a:lnTo>
                        <a:pt x="2016" y="209"/>
                      </a:lnTo>
                      <a:lnTo>
                        <a:pt x="2016" y="208"/>
                      </a:lnTo>
                      <a:lnTo>
                        <a:pt x="2017" y="207"/>
                      </a:lnTo>
                      <a:lnTo>
                        <a:pt x="2018" y="205"/>
                      </a:lnTo>
                      <a:lnTo>
                        <a:pt x="2018" y="204"/>
                      </a:lnTo>
                      <a:lnTo>
                        <a:pt x="2019" y="203"/>
                      </a:lnTo>
                      <a:lnTo>
                        <a:pt x="2019" y="202"/>
                      </a:lnTo>
                      <a:lnTo>
                        <a:pt x="2020" y="202"/>
                      </a:lnTo>
                      <a:lnTo>
                        <a:pt x="2020" y="201"/>
                      </a:lnTo>
                      <a:lnTo>
                        <a:pt x="2020" y="200"/>
                      </a:lnTo>
                      <a:lnTo>
                        <a:pt x="2020" y="199"/>
                      </a:lnTo>
                      <a:lnTo>
                        <a:pt x="2022" y="199"/>
                      </a:lnTo>
                      <a:lnTo>
                        <a:pt x="2022" y="197"/>
                      </a:lnTo>
                      <a:lnTo>
                        <a:pt x="2022" y="196"/>
                      </a:lnTo>
                      <a:lnTo>
                        <a:pt x="2023" y="195"/>
                      </a:lnTo>
                      <a:lnTo>
                        <a:pt x="2023" y="194"/>
                      </a:lnTo>
                      <a:lnTo>
                        <a:pt x="2023" y="193"/>
                      </a:lnTo>
                      <a:lnTo>
                        <a:pt x="2024" y="192"/>
                      </a:lnTo>
                      <a:lnTo>
                        <a:pt x="2024" y="190"/>
                      </a:lnTo>
                      <a:lnTo>
                        <a:pt x="2023" y="190"/>
                      </a:lnTo>
                      <a:lnTo>
                        <a:pt x="2023" y="189"/>
                      </a:lnTo>
                      <a:lnTo>
                        <a:pt x="2022" y="189"/>
                      </a:lnTo>
                      <a:lnTo>
                        <a:pt x="2022" y="188"/>
                      </a:lnTo>
                      <a:lnTo>
                        <a:pt x="2020" y="188"/>
                      </a:lnTo>
                      <a:lnTo>
                        <a:pt x="2019" y="188"/>
                      </a:lnTo>
                      <a:lnTo>
                        <a:pt x="2019" y="187"/>
                      </a:lnTo>
                      <a:lnTo>
                        <a:pt x="2018" y="187"/>
                      </a:lnTo>
                      <a:lnTo>
                        <a:pt x="2017" y="186"/>
                      </a:lnTo>
                      <a:lnTo>
                        <a:pt x="2016" y="186"/>
                      </a:lnTo>
                      <a:lnTo>
                        <a:pt x="2015" y="185"/>
                      </a:lnTo>
                      <a:lnTo>
                        <a:pt x="2013" y="185"/>
                      </a:lnTo>
                      <a:lnTo>
                        <a:pt x="2013" y="184"/>
                      </a:lnTo>
                      <a:lnTo>
                        <a:pt x="2012" y="184"/>
                      </a:lnTo>
                      <a:lnTo>
                        <a:pt x="2012" y="182"/>
                      </a:lnTo>
                      <a:lnTo>
                        <a:pt x="2011" y="182"/>
                      </a:lnTo>
                      <a:lnTo>
                        <a:pt x="2011" y="181"/>
                      </a:lnTo>
                      <a:lnTo>
                        <a:pt x="2012" y="181"/>
                      </a:lnTo>
                      <a:lnTo>
                        <a:pt x="2012" y="180"/>
                      </a:lnTo>
                      <a:lnTo>
                        <a:pt x="2013" y="179"/>
                      </a:lnTo>
                      <a:lnTo>
                        <a:pt x="2015" y="178"/>
                      </a:lnTo>
                      <a:lnTo>
                        <a:pt x="2015" y="177"/>
                      </a:lnTo>
                      <a:lnTo>
                        <a:pt x="2016" y="177"/>
                      </a:lnTo>
                      <a:lnTo>
                        <a:pt x="2016" y="175"/>
                      </a:lnTo>
                      <a:lnTo>
                        <a:pt x="2017" y="175"/>
                      </a:lnTo>
                      <a:lnTo>
                        <a:pt x="2017" y="174"/>
                      </a:lnTo>
                      <a:lnTo>
                        <a:pt x="2017" y="173"/>
                      </a:lnTo>
                      <a:lnTo>
                        <a:pt x="2018" y="173"/>
                      </a:lnTo>
                      <a:lnTo>
                        <a:pt x="2017" y="172"/>
                      </a:lnTo>
                      <a:lnTo>
                        <a:pt x="2017" y="171"/>
                      </a:lnTo>
                      <a:lnTo>
                        <a:pt x="2016" y="171"/>
                      </a:lnTo>
                      <a:lnTo>
                        <a:pt x="2016" y="170"/>
                      </a:lnTo>
                      <a:lnTo>
                        <a:pt x="2016" y="169"/>
                      </a:lnTo>
                      <a:lnTo>
                        <a:pt x="2015" y="169"/>
                      </a:lnTo>
                      <a:lnTo>
                        <a:pt x="2015" y="167"/>
                      </a:lnTo>
                      <a:lnTo>
                        <a:pt x="2013" y="167"/>
                      </a:lnTo>
                      <a:lnTo>
                        <a:pt x="2013" y="166"/>
                      </a:lnTo>
                      <a:lnTo>
                        <a:pt x="2013" y="165"/>
                      </a:lnTo>
                      <a:lnTo>
                        <a:pt x="2012" y="165"/>
                      </a:lnTo>
                      <a:lnTo>
                        <a:pt x="2012" y="164"/>
                      </a:lnTo>
                      <a:lnTo>
                        <a:pt x="2012" y="163"/>
                      </a:lnTo>
                      <a:lnTo>
                        <a:pt x="2011" y="163"/>
                      </a:lnTo>
                      <a:lnTo>
                        <a:pt x="2011" y="162"/>
                      </a:lnTo>
                      <a:lnTo>
                        <a:pt x="2010" y="160"/>
                      </a:lnTo>
                      <a:lnTo>
                        <a:pt x="2010" y="159"/>
                      </a:lnTo>
                      <a:lnTo>
                        <a:pt x="2009" y="159"/>
                      </a:lnTo>
                      <a:lnTo>
                        <a:pt x="2009" y="158"/>
                      </a:lnTo>
                      <a:lnTo>
                        <a:pt x="2009" y="157"/>
                      </a:lnTo>
                      <a:lnTo>
                        <a:pt x="2009" y="156"/>
                      </a:lnTo>
                      <a:lnTo>
                        <a:pt x="2009" y="155"/>
                      </a:lnTo>
                      <a:lnTo>
                        <a:pt x="2009" y="153"/>
                      </a:lnTo>
                      <a:lnTo>
                        <a:pt x="2009" y="152"/>
                      </a:lnTo>
                      <a:lnTo>
                        <a:pt x="2009" y="151"/>
                      </a:lnTo>
                      <a:lnTo>
                        <a:pt x="2009" y="150"/>
                      </a:lnTo>
                      <a:lnTo>
                        <a:pt x="2009" y="149"/>
                      </a:lnTo>
                      <a:lnTo>
                        <a:pt x="2009" y="148"/>
                      </a:lnTo>
                      <a:lnTo>
                        <a:pt x="2009" y="147"/>
                      </a:lnTo>
                      <a:lnTo>
                        <a:pt x="2009" y="145"/>
                      </a:lnTo>
                      <a:lnTo>
                        <a:pt x="2010" y="145"/>
                      </a:lnTo>
                      <a:lnTo>
                        <a:pt x="2010" y="144"/>
                      </a:lnTo>
                      <a:lnTo>
                        <a:pt x="2010" y="143"/>
                      </a:lnTo>
                      <a:lnTo>
                        <a:pt x="2010" y="142"/>
                      </a:lnTo>
                      <a:lnTo>
                        <a:pt x="2011" y="142"/>
                      </a:lnTo>
                      <a:lnTo>
                        <a:pt x="2011" y="141"/>
                      </a:lnTo>
                      <a:lnTo>
                        <a:pt x="2011" y="140"/>
                      </a:lnTo>
                      <a:lnTo>
                        <a:pt x="2011" y="138"/>
                      </a:lnTo>
                      <a:lnTo>
                        <a:pt x="2012" y="138"/>
                      </a:lnTo>
                      <a:lnTo>
                        <a:pt x="2012" y="137"/>
                      </a:lnTo>
                      <a:lnTo>
                        <a:pt x="2013" y="136"/>
                      </a:lnTo>
                      <a:lnTo>
                        <a:pt x="2013" y="135"/>
                      </a:lnTo>
                      <a:lnTo>
                        <a:pt x="2013" y="134"/>
                      </a:lnTo>
                      <a:lnTo>
                        <a:pt x="2013" y="133"/>
                      </a:lnTo>
                      <a:lnTo>
                        <a:pt x="2013" y="130"/>
                      </a:lnTo>
                      <a:lnTo>
                        <a:pt x="2013" y="129"/>
                      </a:lnTo>
                      <a:lnTo>
                        <a:pt x="2013" y="127"/>
                      </a:lnTo>
                      <a:lnTo>
                        <a:pt x="2013" y="126"/>
                      </a:lnTo>
                      <a:lnTo>
                        <a:pt x="2013" y="123"/>
                      </a:lnTo>
                      <a:lnTo>
                        <a:pt x="2013" y="122"/>
                      </a:lnTo>
                      <a:lnTo>
                        <a:pt x="2015" y="121"/>
                      </a:lnTo>
                      <a:lnTo>
                        <a:pt x="2015" y="119"/>
                      </a:lnTo>
                      <a:lnTo>
                        <a:pt x="2015" y="118"/>
                      </a:lnTo>
                      <a:lnTo>
                        <a:pt x="2015" y="115"/>
                      </a:lnTo>
                      <a:lnTo>
                        <a:pt x="2015" y="114"/>
                      </a:lnTo>
                      <a:lnTo>
                        <a:pt x="2015" y="113"/>
                      </a:lnTo>
                      <a:lnTo>
                        <a:pt x="2015" y="111"/>
                      </a:lnTo>
                      <a:lnTo>
                        <a:pt x="2015" y="110"/>
                      </a:lnTo>
                      <a:lnTo>
                        <a:pt x="2015" y="108"/>
                      </a:lnTo>
                      <a:lnTo>
                        <a:pt x="2016" y="106"/>
                      </a:lnTo>
                      <a:lnTo>
                        <a:pt x="2016" y="105"/>
                      </a:lnTo>
                      <a:lnTo>
                        <a:pt x="2016" y="104"/>
                      </a:lnTo>
                      <a:lnTo>
                        <a:pt x="2016" y="102"/>
                      </a:lnTo>
                      <a:lnTo>
                        <a:pt x="2016" y="100"/>
                      </a:lnTo>
                      <a:lnTo>
                        <a:pt x="2017" y="99"/>
                      </a:lnTo>
                      <a:lnTo>
                        <a:pt x="2017" y="97"/>
                      </a:lnTo>
                      <a:lnTo>
                        <a:pt x="2017" y="96"/>
                      </a:lnTo>
                      <a:lnTo>
                        <a:pt x="2017" y="95"/>
                      </a:lnTo>
                      <a:lnTo>
                        <a:pt x="2018" y="93"/>
                      </a:lnTo>
                      <a:lnTo>
                        <a:pt x="2018" y="91"/>
                      </a:lnTo>
                      <a:lnTo>
                        <a:pt x="2018" y="90"/>
                      </a:lnTo>
                      <a:lnTo>
                        <a:pt x="2019" y="89"/>
                      </a:lnTo>
                      <a:lnTo>
                        <a:pt x="2019" y="88"/>
                      </a:lnTo>
                      <a:lnTo>
                        <a:pt x="2019" y="85"/>
                      </a:lnTo>
                      <a:lnTo>
                        <a:pt x="2020" y="84"/>
                      </a:lnTo>
                      <a:lnTo>
                        <a:pt x="2022" y="83"/>
                      </a:lnTo>
                      <a:lnTo>
                        <a:pt x="2023" y="82"/>
                      </a:lnTo>
                      <a:lnTo>
                        <a:pt x="2025" y="81"/>
                      </a:lnTo>
                      <a:lnTo>
                        <a:pt x="2026" y="80"/>
                      </a:lnTo>
                      <a:lnTo>
                        <a:pt x="2027" y="78"/>
                      </a:lnTo>
                      <a:lnTo>
                        <a:pt x="2029" y="77"/>
                      </a:lnTo>
                      <a:lnTo>
                        <a:pt x="2030" y="77"/>
                      </a:lnTo>
                      <a:lnTo>
                        <a:pt x="2031" y="76"/>
                      </a:lnTo>
                      <a:lnTo>
                        <a:pt x="2032" y="75"/>
                      </a:lnTo>
                      <a:lnTo>
                        <a:pt x="2034" y="74"/>
                      </a:lnTo>
                      <a:lnTo>
                        <a:pt x="2035" y="73"/>
                      </a:lnTo>
                      <a:lnTo>
                        <a:pt x="2037" y="71"/>
                      </a:lnTo>
                      <a:lnTo>
                        <a:pt x="2038" y="71"/>
                      </a:lnTo>
                      <a:lnTo>
                        <a:pt x="2039" y="70"/>
                      </a:lnTo>
                      <a:lnTo>
                        <a:pt x="2041" y="69"/>
                      </a:lnTo>
                      <a:lnTo>
                        <a:pt x="2042" y="69"/>
                      </a:lnTo>
                      <a:lnTo>
                        <a:pt x="2044" y="69"/>
                      </a:lnTo>
                      <a:lnTo>
                        <a:pt x="2045" y="68"/>
                      </a:lnTo>
                      <a:lnTo>
                        <a:pt x="2047" y="68"/>
                      </a:lnTo>
                      <a:lnTo>
                        <a:pt x="2048" y="68"/>
                      </a:lnTo>
                      <a:lnTo>
                        <a:pt x="2049" y="68"/>
                      </a:lnTo>
                      <a:lnTo>
                        <a:pt x="2050" y="68"/>
                      </a:lnTo>
                      <a:lnTo>
                        <a:pt x="2053" y="68"/>
                      </a:lnTo>
                      <a:lnTo>
                        <a:pt x="2054" y="68"/>
                      </a:lnTo>
                      <a:lnTo>
                        <a:pt x="2055" y="69"/>
                      </a:lnTo>
                      <a:lnTo>
                        <a:pt x="2056" y="69"/>
                      </a:lnTo>
                      <a:lnTo>
                        <a:pt x="2059" y="70"/>
                      </a:lnTo>
                      <a:lnTo>
                        <a:pt x="2060" y="71"/>
                      </a:lnTo>
                      <a:lnTo>
                        <a:pt x="2061" y="73"/>
                      </a:lnTo>
                      <a:lnTo>
                        <a:pt x="2062" y="74"/>
                      </a:lnTo>
                      <a:lnTo>
                        <a:pt x="2064" y="75"/>
                      </a:lnTo>
                      <a:lnTo>
                        <a:pt x="2065" y="77"/>
                      </a:lnTo>
                      <a:lnTo>
                        <a:pt x="2067" y="80"/>
                      </a:lnTo>
                      <a:lnTo>
                        <a:pt x="2068" y="81"/>
                      </a:lnTo>
                      <a:lnTo>
                        <a:pt x="2069" y="83"/>
                      </a:lnTo>
                      <a:lnTo>
                        <a:pt x="2069" y="85"/>
                      </a:lnTo>
                      <a:lnTo>
                        <a:pt x="2070" y="86"/>
                      </a:lnTo>
                      <a:lnTo>
                        <a:pt x="2070" y="89"/>
                      </a:lnTo>
                      <a:lnTo>
                        <a:pt x="2070" y="91"/>
                      </a:lnTo>
                      <a:lnTo>
                        <a:pt x="2070" y="93"/>
                      </a:lnTo>
                      <a:lnTo>
                        <a:pt x="2070" y="95"/>
                      </a:lnTo>
                      <a:lnTo>
                        <a:pt x="2069" y="97"/>
                      </a:lnTo>
                      <a:lnTo>
                        <a:pt x="2069" y="99"/>
                      </a:lnTo>
                      <a:lnTo>
                        <a:pt x="2068" y="102"/>
                      </a:lnTo>
                      <a:lnTo>
                        <a:pt x="2067" y="104"/>
                      </a:lnTo>
                      <a:lnTo>
                        <a:pt x="2065" y="105"/>
                      </a:lnTo>
                      <a:lnTo>
                        <a:pt x="2064" y="107"/>
                      </a:lnTo>
                      <a:lnTo>
                        <a:pt x="2063" y="110"/>
                      </a:lnTo>
                      <a:lnTo>
                        <a:pt x="2062" y="112"/>
                      </a:lnTo>
                      <a:lnTo>
                        <a:pt x="2061" y="114"/>
                      </a:lnTo>
                      <a:lnTo>
                        <a:pt x="2060" y="117"/>
                      </a:lnTo>
                      <a:lnTo>
                        <a:pt x="2057" y="119"/>
                      </a:lnTo>
                      <a:lnTo>
                        <a:pt x="2056" y="120"/>
                      </a:lnTo>
                      <a:lnTo>
                        <a:pt x="2055" y="122"/>
                      </a:lnTo>
                      <a:lnTo>
                        <a:pt x="2053" y="125"/>
                      </a:lnTo>
                      <a:lnTo>
                        <a:pt x="2052" y="127"/>
                      </a:lnTo>
                      <a:lnTo>
                        <a:pt x="2049" y="129"/>
                      </a:lnTo>
                      <a:lnTo>
                        <a:pt x="2048" y="132"/>
                      </a:lnTo>
                      <a:lnTo>
                        <a:pt x="2046" y="134"/>
                      </a:lnTo>
                      <a:lnTo>
                        <a:pt x="2045" y="136"/>
                      </a:lnTo>
                      <a:lnTo>
                        <a:pt x="2042" y="138"/>
                      </a:lnTo>
                      <a:lnTo>
                        <a:pt x="2041" y="140"/>
                      </a:lnTo>
                      <a:lnTo>
                        <a:pt x="2040" y="142"/>
                      </a:lnTo>
                      <a:lnTo>
                        <a:pt x="2047" y="153"/>
                      </a:lnTo>
                      <a:lnTo>
                        <a:pt x="2072" y="153"/>
                      </a:lnTo>
                      <a:lnTo>
                        <a:pt x="2098" y="184"/>
                      </a:lnTo>
                      <a:lnTo>
                        <a:pt x="2099" y="199"/>
                      </a:lnTo>
                      <a:lnTo>
                        <a:pt x="2100" y="199"/>
                      </a:lnTo>
                      <a:lnTo>
                        <a:pt x="2101" y="199"/>
                      </a:lnTo>
                      <a:lnTo>
                        <a:pt x="2102" y="199"/>
                      </a:lnTo>
                      <a:lnTo>
                        <a:pt x="2104" y="199"/>
                      </a:lnTo>
                      <a:lnTo>
                        <a:pt x="2104" y="197"/>
                      </a:lnTo>
                      <a:lnTo>
                        <a:pt x="2105" y="197"/>
                      </a:lnTo>
                      <a:lnTo>
                        <a:pt x="2106" y="197"/>
                      </a:lnTo>
                      <a:lnTo>
                        <a:pt x="2107" y="197"/>
                      </a:lnTo>
                      <a:lnTo>
                        <a:pt x="2108" y="197"/>
                      </a:lnTo>
                      <a:lnTo>
                        <a:pt x="2108" y="196"/>
                      </a:lnTo>
                      <a:lnTo>
                        <a:pt x="2109" y="196"/>
                      </a:lnTo>
                      <a:lnTo>
                        <a:pt x="2111" y="196"/>
                      </a:lnTo>
                      <a:lnTo>
                        <a:pt x="2112" y="196"/>
                      </a:lnTo>
                      <a:lnTo>
                        <a:pt x="2113" y="196"/>
                      </a:lnTo>
                      <a:lnTo>
                        <a:pt x="2113" y="195"/>
                      </a:lnTo>
                      <a:lnTo>
                        <a:pt x="2114" y="195"/>
                      </a:lnTo>
                      <a:lnTo>
                        <a:pt x="2115" y="195"/>
                      </a:lnTo>
                      <a:lnTo>
                        <a:pt x="2116" y="195"/>
                      </a:lnTo>
                      <a:lnTo>
                        <a:pt x="2117" y="195"/>
                      </a:lnTo>
                      <a:lnTo>
                        <a:pt x="2119" y="195"/>
                      </a:lnTo>
                      <a:lnTo>
                        <a:pt x="2119" y="193"/>
                      </a:lnTo>
                      <a:lnTo>
                        <a:pt x="2119" y="192"/>
                      </a:lnTo>
                      <a:lnTo>
                        <a:pt x="2120" y="189"/>
                      </a:lnTo>
                      <a:lnTo>
                        <a:pt x="2120" y="188"/>
                      </a:lnTo>
                      <a:lnTo>
                        <a:pt x="2120" y="187"/>
                      </a:lnTo>
                      <a:lnTo>
                        <a:pt x="2121" y="185"/>
                      </a:lnTo>
                      <a:lnTo>
                        <a:pt x="2121" y="184"/>
                      </a:lnTo>
                      <a:lnTo>
                        <a:pt x="2122" y="182"/>
                      </a:lnTo>
                      <a:lnTo>
                        <a:pt x="2123" y="181"/>
                      </a:lnTo>
                      <a:lnTo>
                        <a:pt x="2123" y="180"/>
                      </a:lnTo>
                      <a:lnTo>
                        <a:pt x="2124" y="179"/>
                      </a:lnTo>
                      <a:lnTo>
                        <a:pt x="2126" y="178"/>
                      </a:lnTo>
                      <a:lnTo>
                        <a:pt x="2127" y="177"/>
                      </a:lnTo>
                      <a:lnTo>
                        <a:pt x="2128" y="175"/>
                      </a:lnTo>
                      <a:lnTo>
                        <a:pt x="2129" y="175"/>
                      </a:lnTo>
                      <a:lnTo>
                        <a:pt x="2130" y="174"/>
                      </a:lnTo>
                      <a:lnTo>
                        <a:pt x="2131" y="173"/>
                      </a:lnTo>
                      <a:lnTo>
                        <a:pt x="2132" y="173"/>
                      </a:lnTo>
                      <a:lnTo>
                        <a:pt x="2134" y="172"/>
                      </a:lnTo>
                      <a:lnTo>
                        <a:pt x="2135" y="172"/>
                      </a:lnTo>
                      <a:lnTo>
                        <a:pt x="2136" y="172"/>
                      </a:lnTo>
                      <a:lnTo>
                        <a:pt x="2138" y="171"/>
                      </a:lnTo>
                      <a:lnTo>
                        <a:pt x="2139" y="171"/>
                      </a:lnTo>
                      <a:lnTo>
                        <a:pt x="2141" y="171"/>
                      </a:lnTo>
                      <a:lnTo>
                        <a:pt x="2142" y="171"/>
                      </a:lnTo>
                      <a:lnTo>
                        <a:pt x="2143" y="171"/>
                      </a:lnTo>
                      <a:lnTo>
                        <a:pt x="2145" y="171"/>
                      </a:lnTo>
                      <a:lnTo>
                        <a:pt x="2146" y="171"/>
                      </a:lnTo>
                      <a:lnTo>
                        <a:pt x="2148" y="172"/>
                      </a:lnTo>
                      <a:lnTo>
                        <a:pt x="2149" y="172"/>
                      </a:lnTo>
                      <a:lnTo>
                        <a:pt x="2150" y="172"/>
                      </a:lnTo>
                      <a:lnTo>
                        <a:pt x="2151" y="173"/>
                      </a:lnTo>
                      <a:lnTo>
                        <a:pt x="2152" y="173"/>
                      </a:lnTo>
                      <a:lnTo>
                        <a:pt x="2153" y="173"/>
                      </a:lnTo>
                      <a:lnTo>
                        <a:pt x="2153" y="174"/>
                      </a:lnTo>
                      <a:lnTo>
                        <a:pt x="2154" y="174"/>
                      </a:lnTo>
                      <a:lnTo>
                        <a:pt x="2156" y="175"/>
                      </a:lnTo>
                      <a:lnTo>
                        <a:pt x="2157" y="177"/>
                      </a:lnTo>
                      <a:lnTo>
                        <a:pt x="2158" y="178"/>
                      </a:lnTo>
                      <a:lnTo>
                        <a:pt x="2158" y="179"/>
                      </a:lnTo>
                      <a:lnTo>
                        <a:pt x="2159" y="179"/>
                      </a:lnTo>
                      <a:lnTo>
                        <a:pt x="2159" y="180"/>
                      </a:lnTo>
                      <a:lnTo>
                        <a:pt x="2160" y="181"/>
                      </a:lnTo>
                      <a:lnTo>
                        <a:pt x="2160" y="182"/>
                      </a:lnTo>
                      <a:lnTo>
                        <a:pt x="2161" y="182"/>
                      </a:lnTo>
                      <a:lnTo>
                        <a:pt x="2161" y="184"/>
                      </a:lnTo>
                      <a:lnTo>
                        <a:pt x="2163" y="185"/>
                      </a:lnTo>
                      <a:lnTo>
                        <a:pt x="2163" y="186"/>
                      </a:lnTo>
                      <a:lnTo>
                        <a:pt x="2164" y="187"/>
                      </a:lnTo>
                      <a:lnTo>
                        <a:pt x="2164" y="188"/>
                      </a:lnTo>
                      <a:lnTo>
                        <a:pt x="2165" y="189"/>
                      </a:lnTo>
                      <a:lnTo>
                        <a:pt x="2165" y="190"/>
                      </a:lnTo>
                      <a:lnTo>
                        <a:pt x="2165" y="192"/>
                      </a:lnTo>
                      <a:lnTo>
                        <a:pt x="2166" y="193"/>
                      </a:lnTo>
                      <a:lnTo>
                        <a:pt x="2166" y="194"/>
                      </a:lnTo>
                      <a:lnTo>
                        <a:pt x="2166" y="195"/>
                      </a:lnTo>
                      <a:lnTo>
                        <a:pt x="2166" y="196"/>
                      </a:lnTo>
                      <a:lnTo>
                        <a:pt x="2167" y="197"/>
                      </a:lnTo>
                      <a:lnTo>
                        <a:pt x="2167" y="199"/>
                      </a:lnTo>
                      <a:lnTo>
                        <a:pt x="2167" y="200"/>
                      </a:lnTo>
                      <a:lnTo>
                        <a:pt x="2167" y="201"/>
                      </a:lnTo>
                      <a:lnTo>
                        <a:pt x="2167" y="202"/>
                      </a:lnTo>
                      <a:lnTo>
                        <a:pt x="2167" y="203"/>
                      </a:lnTo>
                      <a:lnTo>
                        <a:pt x="2167" y="204"/>
                      </a:lnTo>
                      <a:lnTo>
                        <a:pt x="2167" y="205"/>
                      </a:lnTo>
                      <a:lnTo>
                        <a:pt x="2167" y="207"/>
                      </a:lnTo>
                      <a:lnTo>
                        <a:pt x="2166" y="208"/>
                      </a:lnTo>
                      <a:lnTo>
                        <a:pt x="2166" y="209"/>
                      </a:lnTo>
                      <a:lnTo>
                        <a:pt x="2166" y="210"/>
                      </a:lnTo>
                      <a:lnTo>
                        <a:pt x="2166" y="211"/>
                      </a:lnTo>
                      <a:lnTo>
                        <a:pt x="2165" y="212"/>
                      </a:lnTo>
                      <a:lnTo>
                        <a:pt x="2165" y="214"/>
                      </a:lnTo>
                      <a:lnTo>
                        <a:pt x="2164" y="215"/>
                      </a:lnTo>
                      <a:lnTo>
                        <a:pt x="2164" y="216"/>
                      </a:lnTo>
                      <a:lnTo>
                        <a:pt x="2163" y="217"/>
                      </a:lnTo>
                      <a:lnTo>
                        <a:pt x="2163" y="218"/>
                      </a:lnTo>
                      <a:lnTo>
                        <a:pt x="2161" y="219"/>
                      </a:lnTo>
                      <a:lnTo>
                        <a:pt x="2161" y="220"/>
                      </a:lnTo>
                      <a:lnTo>
                        <a:pt x="2160" y="222"/>
                      </a:lnTo>
                      <a:lnTo>
                        <a:pt x="2160" y="223"/>
                      </a:lnTo>
                      <a:lnTo>
                        <a:pt x="2159" y="224"/>
                      </a:lnTo>
                      <a:lnTo>
                        <a:pt x="2159" y="225"/>
                      </a:lnTo>
                      <a:lnTo>
                        <a:pt x="2158" y="227"/>
                      </a:lnTo>
                      <a:lnTo>
                        <a:pt x="2158" y="229"/>
                      </a:lnTo>
                      <a:lnTo>
                        <a:pt x="2157" y="230"/>
                      </a:lnTo>
                      <a:lnTo>
                        <a:pt x="2156" y="231"/>
                      </a:lnTo>
                      <a:lnTo>
                        <a:pt x="2156" y="232"/>
                      </a:lnTo>
                      <a:lnTo>
                        <a:pt x="2154" y="234"/>
                      </a:lnTo>
                      <a:lnTo>
                        <a:pt x="2154" y="236"/>
                      </a:lnTo>
                      <a:lnTo>
                        <a:pt x="2156" y="236"/>
                      </a:lnTo>
                      <a:lnTo>
                        <a:pt x="2158" y="236"/>
                      </a:lnTo>
                      <a:lnTo>
                        <a:pt x="2160" y="236"/>
                      </a:lnTo>
                      <a:lnTo>
                        <a:pt x="2163" y="236"/>
                      </a:lnTo>
                      <a:lnTo>
                        <a:pt x="2164" y="236"/>
                      </a:lnTo>
                      <a:lnTo>
                        <a:pt x="2166" y="236"/>
                      </a:lnTo>
                      <a:lnTo>
                        <a:pt x="2168" y="236"/>
                      </a:lnTo>
                      <a:lnTo>
                        <a:pt x="2169" y="236"/>
                      </a:lnTo>
                      <a:lnTo>
                        <a:pt x="2172" y="236"/>
                      </a:lnTo>
                      <a:lnTo>
                        <a:pt x="2174" y="237"/>
                      </a:lnTo>
                      <a:lnTo>
                        <a:pt x="2176" y="237"/>
                      </a:lnTo>
                      <a:lnTo>
                        <a:pt x="2178" y="237"/>
                      </a:lnTo>
                      <a:lnTo>
                        <a:pt x="2180" y="237"/>
                      </a:lnTo>
                      <a:lnTo>
                        <a:pt x="2182" y="238"/>
                      </a:lnTo>
                      <a:lnTo>
                        <a:pt x="2183" y="238"/>
                      </a:lnTo>
                      <a:lnTo>
                        <a:pt x="2186" y="238"/>
                      </a:lnTo>
                      <a:lnTo>
                        <a:pt x="2188" y="239"/>
                      </a:lnTo>
                      <a:lnTo>
                        <a:pt x="2189" y="239"/>
                      </a:lnTo>
                      <a:lnTo>
                        <a:pt x="2191" y="240"/>
                      </a:lnTo>
                      <a:lnTo>
                        <a:pt x="2194" y="240"/>
                      </a:lnTo>
                      <a:lnTo>
                        <a:pt x="2195" y="241"/>
                      </a:lnTo>
                      <a:lnTo>
                        <a:pt x="2197" y="242"/>
                      </a:lnTo>
                      <a:lnTo>
                        <a:pt x="2198" y="244"/>
                      </a:lnTo>
                      <a:lnTo>
                        <a:pt x="2201" y="245"/>
                      </a:lnTo>
                      <a:lnTo>
                        <a:pt x="2202" y="246"/>
                      </a:lnTo>
                      <a:lnTo>
                        <a:pt x="2204" y="247"/>
                      </a:lnTo>
                      <a:lnTo>
                        <a:pt x="2205" y="248"/>
                      </a:lnTo>
                      <a:lnTo>
                        <a:pt x="2208" y="249"/>
                      </a:lnTo>
                      <a:lnTo>
                        <a:pt x="2209" y="251"/>
                      </a:lnTo>
                      <a:lnTo>
                        <a:pt x="2211" y="253"/>
                      </a:lnTo>
                      <a:lnTo>
                        <a:pt x="2212" y="254"/>
                      </a:lnTo>
                      <a:lnTo>
                        <a:pt x="2215" y="256"/>
                      </a:lnTo>
                      <a:lnTo>
                        <a:pt x="2216" y="256"/>
                      </a:lnTo>
                      <a:lnTo>
                        <a:pt x="2217" y="256"/>
                      </a:lnTo>
                      <a:lnTo>
                        <a:pt x="2218" y="256"/>
                      </a:lnTo>
                      <a:lnTo>
                        <a:pt x="2219" y="256"/>
                      </a:lnTo>
                      <a:lnTo>
                        <a:pt x="2220" y="256"/>
                      </a:lnTo>
                      <a:lnTo>
                        <a:pt x="2221" y="256"/>
                      </a:lnTo>
                      <a:lnTo>
                        <a:pt x="2223" y="257"/>
                      </a:lnTo>
                      <a:lnTo>
                        <a:pt x="2224" y="257"/>
                      </a:lnTo>
                      <a:lnTo>
                        <a:pt x="2225" y="257"/>
                      </a:lnTo>
                      <a:lnTo>
                        <a:pt x="2226" y="257"/>
                      </a:lnTo>
                      <a:lnTo>
                        <a:pt x="2227" y="257"/>
                      </a:lnTo>
                      <a:lnTo>
                        <a:pt x="2228" y="259"/>
                      </a:lnTo>
                      <a:lnTo>
                        <a:pt x="2230" y="259"/>
                      </a:lnTo>
                      <a:lnTo>
                        <a:pt x="2231" y="259"/>
                      </a:lnTo>
                      <a:lnTo>
                        <a:pt x="2232" y="259"/>
                      </a:lnTo>
                      <a:lnTo>
                        <a:pt x="2233" y="260"/>
                      </a:lnTo>
                      <a:lnTo>
                        <a:pt x="2234" y="260"/>
                      </a:lnTo>
                      <a:lnTo>
                        <a:pt x="2235" y="260"/>
                      </a:lnTo>
                      <a:lnTo>
                        <a:pt x="2236" y="261"/>
                      </a:lnTo>
                      <a:lnTo>
                        <a:pt x="2238" y="261"/>
                      </a:lnTo>
                      <a:lnTo>
                        <a:pt x="2239" y="262"/>
                      </a:lnTo>
                      <a:lnTo>
                        <a:pt x="2240" y="262"/>
                      </a:lnTo>
                      <a:lnTo>
                        <a:pt x="2241" y="263"/>
                      </a:lnTo>
                      <a:lnTo>
                        <a:pt x="2242" y="263"/>
                      </a:lnTo>
                      <a:lnTo>
                        <a:pt x="2243" y="263"/>
                      </a:lnTo>
                      <a:lnTo>
                        <a:pt x="2243" y="264"/>
                      </a:lnTo>
                      <a:lnTo>
                        <a:pt x="2245" y="264"/>
                      </a:lnTo>
                      <a:lnTo>
                        <a:pt x="2246" y="266"/>
                      </a:lnTo>
                      <a:lnTo>
                        <a:pt x="2247" y="266"/>
                      </a:lnTo>
                      <a:lnTo>
                        <a:pt x="2248" y="267"/>
                      </a:lnTo>
                      <a:lnTo>
                        <a:pt x="2248" y="298"/>
                      </a:lnTo>
                      <a:lnTo>
                        <a:pt x="2246" y="299"/>
                      </a:lnTo>
                      <a:lnTo>
                        <a:pt x="2242" y="300"/>
                      </a:lnTo>
                      <a:lnTo>
                        <a:pt x="2240" y="303"/>
                      </a:lnTo>
                      <a:lnTo>
                        <a:pt x="2236" y="304"/>
                      </a:lnTo>
                      <a:lnTo>
                        <a:pt x="2234" y="305"/>
                      </a:lnTo>
                      <a:lnTo>
                        <a:pt x="2232" y="307"/>
                      </a:lnTo>
                      <a:lnTo>
                        <a:pt x="2228" y="308"/>
                      </a:lnTo>
                      <a:lnTo>
                        <a:pt x="2226" y="309"/>
                      </a:lnTo>
                      <a:lnTo>
                        <a:pt x="2223" y="312"/>
                      </a:lnTo>
                      <a:lnTo>
                        <a:pt x="2220" y="313"/>
                      </a:lnTo>
                      <a:lnTo>
                        <a:pt x="2218" y="315"/>
                      </a:lnTo>
                      <a:lnTo>
                        <a:pt x="2215" y="316"/>
                      </a:lnTo>
                      <a:lnTo>
                        <a:pt x="2212" y="319"/>
                      </a:lnTo>
                      <a:lnTo>
                        <a:pt x="2209" y="321"/>
                      </a:lnTo>
                      <a:lnTo>
                        <a:pt x="2206" y="322"/>
                      </a:lnTo>
                      <a:lnTo>
                        <a:pt x="2204" y="324"/>
                      </a:lnTo>
                      <a:lnTo>
                        <a:pt x="2201" y="327"/>
                      </a:lnTo>
                      <a:lnTo>
                        <a:pt x="2198" y="328"/>
                      </a:lnTo>
                      <a:lnTo>
                        <a:pt x="2196" y="330"/>
                      </a:lnTo>
                      <a:lnTo>
                        <a:pt x="2193" y="333"/>
                      </a:lnTo>
                      <a:lnTo>
                        <a:pt x="2190" y="335"/>
                      </a:lnTo>
                      <a:lnTo>
                        <a:pt x="2188" y="337"/>
                      </a:lnTo>
                      <a:lnTo>
                        <a:pt x="2186" y="339"/>
                      </a:lnTo>
                      <a:lnTo>
                        <a:pt x="2182" y="342"/>
                      </a:lnTo>
                      <a:lnTo>
                        <a:pt x="2180" y="344"/>
                      </a:lnTo>
                      <a:lnTo>
                        <a:pt x="2178" y="346"/>
                      </a:lnTo>
                      <a:lnTo>
                        <a:pt x="2175" y="349"/>
                      </a:lnTo>
                      <a:lnTo>
                        <a:pt x="2173" y="352"/>
                      </a:lnTo>
                      <a:lnTo>
                        <a:pt x="2169" y="354"/>
                      </a:lnTo>
                      <a:lnTo>
                        <a:pt x="2167" y="357"/>
                      </a:lnTo>
                      <a:lnTo>
                        <a:pt x="2165" y="360"/>
                      </a:lnTo>
                      <a:lnTo>
                        <a:pt x="2163" y="363"/>
                      </a:lnTo>
                      <a:close/>
                      <a:moveTo>
                        <a:pt x="1323" y="68"/>
                      </a:moveTo>
                      <a:lnTo>
                        <a:pt x="1323" y="69"/>
                      </a:lnTo>
                      <a:lnTo>
                        <a:pt x="1323" y="71"/>
                      </a:lnTo>
                      <a:lnTo>
                        <a:pt x="1323" y="73"/>
                      </a:lnTo>
                      <a:lnTo>
                        <a:pt x="1323" y="74"/>
                      </a:lnTo>
                      <a:lnTo>
                        <a:pt x="1321" y="76"/>
                      </a:lnTo>
                      <a:lnTo>
                        <a:pt x="1321" y="77"/>
                      </a:lnTo>
                      <a:lnTo>
                        <a:pt x="1321" y="80"/>
                      </a:lnTo>
                      <a:lnTo>
                        <a:pt x="1320" y="82"/>
                      </a:lnTo>
                      <a:lnTo>
                        <a:pt x="1320" y="83"/>
                      </a:lnTo>
                      <a:lnTo>
                        <a:pt x="1320" y="85"/>
                      </a:lnTo>
                      <a:lnTo>
                        <a:pt x="1319" y="88"/>
                      </a:lnTo>
                      <a:lnTo>
                        <a:pt x="1319" y="90"/>
                      </a:lnTo>
                      <a:lnTo>
                        <a:pt x="1318" y="92"/>
                      </a:lnTo>
                      <a:lnTo>
                        <a:pt x="1318" y="95"/>
                      </a:lnTo>
                      <a:lnTo>
                        <a:pt x="1318" y="97"/>
                      </a:lnTo>
                      <a:lnTo>
                        <a:pt x="1317" y="99"/>
                      </a:lnTo>
                      <a:lnTo>
                        <a:pt x="1317" y="100"/>
                      </a:lnTo>
                      <a:lnTo>
                        <a:pt x="1316" y="103"/>
                      </a:lnTo>
                      <a:lnTo>
                        <a:pt x="1316" y="105"/>
                      </a:lnTo>
                      <a:lnTo>
                        <a:pt x="1314" y="107"/>
                      </a:lnTo>
                      <a:lnTo>
                        <a:pt x="1314" y="108"/>
                      </a:lnTo>
                      <a:lnTo>
                        <a:pt x="1314" y="111"/>
                      </a:lnTo>
                      <a:lnTo>
                        <a:pt x="1313" y="113"/>
                      </a:lnTo>
                      <a:lnTo>
                        <a:pt x="1313" y="114"/>
                      </a:lnTo>
                      <a:lnTo>
                        <a:pt x="1313" y="115"/>
                      </a:lnTo>
                      <a:lnTo>
                        <a:pt x="1313" y="118"/>
                      </a:lnTo>
                      <a:lnTo>
                        <a:pt x="1312" y="119"/>
                      </a:lnTo>
                      <a:lnTo>
                        <a:pt x="1312" y="120"/>
                      </a:lnTo>
                      <a:lnTo>
                        <a:pt x="1312" y="121"/>
                      </a:lnTo>
                      <a:lnTo>
                        <a:pt x="1312" y="122"/>
                      </a:lnTo>
                      <a:lnTo>
                        <a:pt x="1312" y="123"/>
                      </a:lnTo>
                      <a:lnTo>
                        <a:pt x="1312" y="125"/>
                      </a:lnTo>
                      <a:lnTo>
                        <a:pt x="1313" y="125"/>
                      </a:lnTo>
                      <a:lnTo>
                        <a:pt x="1313" y="126"/>
                      </a:lnTo>
                      <a:lnTo>
                        <a:pt x="1314" y="127"/>
                      </a:lnTo>
                      <a:lnTo>
                        <a:pt x="1314" y="128"/>
                      </a:lnTo>
                      <a:lnTo>
                        <a:pt x="1316" y="128"/>
                      </a:lnTo>
                      <a:lnTo>
                        <a:pt x="1316" y="129"/>
                      </a:lnTo>
                      <a:lnTo>
                        <a:pt x="1317" y="129"/>
                      </a:lnTo>
                      <a:lnTo>
                        <a:pt x="1317" y="130"/>
                      </a:lnTo>
                      <a:lnTo>
                        <a:pt x="1317" y="132"/>
                      </a:lnTo>
                      <a:lnTo>
                        <a:pt x="1317" y="133"/>
                      </a:lnTo>
                      <a:lnTo>
                        <a:pt x="1317" y="134"/>
                      </a:lnTo>
                      <a:lnTo>
                        <a:pt x="1317" y="136"/>
                      </a:lnTo>
                      <a:lnTo>
                        <a:pt x="1317" y="137"/>
                      </a:lnTo>
                      <a:lnTo>
                        <a:pt x="1317" y="140"/>
                      </a:lnTo>
                      <a:lnTo>
                        <a:pt x="1317" y="141"/>
                      </a:lnTo>
                      <a:lnTo>
                        <a:pt x="1317" y="143"/>
                      </a:lnTo>
                      <a:lnTo>
                        <a:pt x="1317" y="144"/>
                      </a:lnTo>
                      <a:lnTo>
                        <a:pt x="1317" y="147"/>
                      </a:lnTo>
                      <a:lnTo>
                        <a:pt x="1317" y="148"/>
                      </a:lnTo>
                      <a:lnTo>
                        <a:pt x="1317" y="150"/>
                      </a:lnTo>
                      <a:lnTo>
                        <a:pt x="1317" y="151"/>
                      </a:lnTo>
                      <a:lnTo>
                        <a:pt x="1317" y="153"/>
                      </a:lnTo>
                      <a:lnTo>
                        <a:pt x="1317" y="155"/>
                      </a:lnTo>
                      <a:lnTo>
                        <a:pt x="1317" y="157"/>
                      </a:lnTo>
                      <a:lnTo>
                        <a:pt x="1317" y="159"/>
                      </a:lnTo>
                      <a:lnTo>
                        <a:pt x="1317" y="160"/>
                      </a:lnTo>
                      <a:lnTo>
                        <a:pt x="1317" y="163"/>
                      </a:lnTo>
                      <a:lnTo>
                        <a:pt x="1317" y="164"/>
                      </a:lnTo>
                      <a:lnTo>
                        <a:pt x="1317" y="166"/>
                      </a:lnTo>
                      <a:lnTo>
                        <a:pt x="1317" y="169"/>
                      </a:lnTo>
                      <a:lnTo>
                        <a:pt x="1317" y="170"/>
                      </a:lnTo>
                      <a:lnTo>
                        <a:pt x="1317" y="172"/>
                      </a:lnTo>
                      <a:lnTo>
                        <a:pt x="1318" y="173"/>
                      </a:lnTo>
                      <a:lnTo>
                        <a:pt x="1318" y="175"/>
                      </a:lnTo>
                      <a:lnTo>
                        <a:pt x="1318" y="177"/>
                      </a:lnTo>
                      <a:lnTo>
                        <a:pt x="1318" y="179"/>
                      </a:lnTo>
                      <a:lnTo>
                        <a:pt x="1318" y="181"/>
                      </a:lnTo>
                      <a:lnTo>
                        <a:pt x="1318" y="182"/>
                      </a:lnTo>
                      <a:lnTo>
                        <a:pt x="1319" y="185"/>
                      </a:lnTo>
                      <a:lnTo>
                        <a:pt x="1319" y="186"/>
                      </a:lnTo>
                      <a:lnTo>
                        <a:pt x="1319" y="187"/>
                      </a:lnTo>
                      <a:lnTo>
                        <a:pt x="1319" y="188"/>
                      </a:lnTo>
                      <a:lnTo>
                        <a:pt x="1319" y="190"/>
                      </a:lnTo>
                      <a:lnTo>
                        <a:pt x="1320" y="192"/>
                      </a:lnTo>
                      <a:lnTo>
                        <a:pt x="1320" y="193"/>
                      </a:lnTo>
                      <a:lnTo>
                        <a:pt x="1320" y="194"/>
                      </a:lnTo>
                      <a:lnTo>
                        <a:pt x="1320" y="195"/>
                      </a:lnTo>
                      <a:lnTo>
                        <a:pt x="1321" y="196"/>
                      </a:lnTo>
                      <a:lnTo>
                        <a:pt x="1321" y="199"/>
                      </a:lnTo>
                      <a:lnTo>
                        <a:pt x="1321" y="200"/>
                      </a:lnTo>
                      <a:lnTo>
                        <a:pt x="1323" y="201"/>
                      </a:lnTo>
                      <a:lnTo>
                        <a:pt x="1323" y="202"/>
                      </a:lnTo>
                      <a:lnTo>
                        <a:pt x="1323" y="203"/>
                      </a:lnTo>
                      <a:lnTo>
                        <a:pt x="1324" y="204"/>
                      </a:lnTo>
                      <a:lnTo>
                        <a:pt x="1324" y="207"/>
                      </a:lnTo>
                      <a:lnTo>
                        <a:pt x="1325" y="208"/>
                      </a:lnTo>
                      <a:lnTo>
                        <a:pt x="1325" y="209"/>
                      </a:lnTo>
                      <a:lnTo>
                        <a:pt x="1325" y="210"/>
                      </a:lnTo>
                      <a:lnTo>
                        <a:pt x="1326" y="211"/>
                      </a:lnTo>
                      <a:lnTo>
                        <a:pt x="1326" y="212"/>
                      </a:lnTo>
                      <a:lnTo>
                        <a:pt x="1327" y="214"/>
                      </a:lnTo>
                      <a:lnTo>
                        <a:pt x="1327" y="215"/>
                      </a:lnTo>
                      <a:lnTo>
                        <a:pt x="1328" y="216"/>
                      </a:lnTo>
                      <a:lnTo>
                        <a:pt x="1328" y="218"/>
                      </a:lnTo>
                      <a:lnTo>
                        <a:pt x="1329" y="219"/>
                      </a:lnTo>
                      <a:lnTo>
                        <a:pt x="1329" y="220"/>
                      </a:lnTo>
                      <a:lnTo>
                        <a:pt x="1331" y="220"/>
                      </a:lnTo>
                      <a:lnTo>
                        <a:pt x="1331" y="222"/>
                      </a:lnTo>
                      <a:lnTo>
                        <a:pt x="1332" y="223"/>
                      </a:lnTo>
                      <a:lnTo>
                        <a:pt x="1332" y="224"/>
                      </a:lnTo>
                      <a:lnTo>
                        <a:pt x="1333" y="225"/>
                      </a:lnTo>
                      <a:lnTo>
                        <a:pt x="1334" y="226"/>
                      </a:lnTo>
                      <a:lnTo>
                        <a:pt x="1334" y="227"/>
                      </a:lnTo>
                      <a:lnTo>
                        <a:pt x="1335" y="229"/>
                      </a:lnTo>
                      <a:lnTo>
                        <a:pt x="1336" y="230"/>
                      </a:lnTo>
                      <a:lnTo>
                        <a:pt x="1338" y="231"/>
                      </a:lnTo>
                      <a:lnTo>
                        <a:pt x="1338" y="232"/>
                      </a:lnTo>
                      <a:lnTo>
                        <a:pt x="1339" y="233"/>
                      </a:lnTo>
                      <a:lnTo>
                        <a:pt x="1340" y="234"/>
                      </a:lnTo>
                      <a:lnTo>
                        <a:pt x="1340" y="236"/>
                      </a:lnTo>
                      <a:lnTo>
                        <a:pt x="1341" y="236"/>
                      </a:lnTo>
                      <a:lnTo>
                        <a:pt x="1341" y="237"/>
                      </a:lnTo>
                      <a:lnTo>
                        <a:pt x="1341" y="238"/>
                      </a:lnTo>
                      <a:lnTo>
                        <a:pt x="1342" y="238"/>
                      </a:lnTo>
                      <a:lnTo>
                        <a:pt x="1342" y="239"/>
                      </a:lnTo>
                      <a:lnTo>
                        <a:pt x="1342" y="240"/>
                      </a:lnTo>
                      <a:lnTo>
                        <a:pt x="1343" y="240"/>
                      </a:lnTo>
                      <a:lnTo>
                        <a:pt x="1343" y="241"/>
                      </a:lnTo>
                      <a:lnTo>
                        <a:pt x="1344" y="242"/>
                      </a:lnTo>
                      <a:lnTo>
                        <a:pt x="1346" y="244"/>
                      </a:lnTo>
                      <a:lnTo>
                        <a:pt x="1346" y="245"/>
                      </a:lnTo>
                      <a:lnTo>
                        <a:pt x="1347" y="246"/>
                      </a:lnTo>
                      <a:lnTo>
                        <a:pt x="1347" y="247"/>
                      </a:lnTo>
                      <a:lnTo>
                        <a:pt x="1348" y="248"/>
                      </a:lnTo>
                      <a:lnTo>
                        <a:pt x="1348" y="249"/>
                      </a:lnTo>
                      <a:lnTo>
                        <a:pt x="1349" y="251"/>
                      </a:lnTo>
                      <a:lnTo>
                        <a:pt x="1349" y="252"/>
                      </a:lnTo>
                      <a:lnTo>
                        <a:pt x="1349" y="254"/>
                      </a:lnTo>
                      <a:lnTo>
                        <a:pt x="1349" y="256"/>
                      </a:lnTo>
                      <a:lnTo>
                        <a:pt x="1349" y="259"/>
                      </a:lnTo>
                      <a:lnTo>
                        <a:pt x="1350" y="261"/>
                      </a:lnTo>
                      <a:lnTo>
                        <a:pt x="1350" y="262"/>
                      </a:lnTo>
                      <a:lnTo>
                        <a:pt x="1350" y="264"/>
                      </a:lnTo>
                      <a:lnTo>
                        <a:pt x="1350" y="266"/>
                      </a:lnTo>
                      <a:lnTo>
                        <a:pt x="1351" y="268"/>
                      </a:lnTo>
                      <a:lnTo>
                        <a:pt x="1351" y="269"/>
                      </a:lnTo>
                      <a:lnTo>
                        <a:pt x="1353" y="270"/>
                      </a:lnTo>
                      <a:lnTo>
                        <a:pt x="1353" y="271"/>
                      </a:lnTo>
                      <a:lnTo>
                        <a:pt x="1354" y="272"/>
                      </a:lnTo>
                      <a:lnTo>
                        <a:pt x="1354" y="274"/>
                      </a:lnTo>
                      <a:lnTo>
                        <a:pt x="1355" y="275"/>
                      </a:lnTo>
                      <a:lnTo>
                        <a:pt x="1355" y="276"/>
                      </a:lnTo>
                      <a:lnTo>
                        <a:pt x="1356" y="276"/>
                      </a:lnTo>
                      <a:lnTo>
                        <a:pt x="1357" y="277"/>
                      </a:lnTo>
                      <a:lnTo>
                        <a:pt x="1358" y="277"/>
                      </a:lnTo>
                      <a:lnTo>
                        <a:pt x="1358" y="278"/>
                      </a:lnTo>
                      <a:lnTo>
                        <a:pt x="1359" y="278"/>
                      </a:lnTo>
                      <a:lnTo>
                        <a:pt x="1361" y="279"/>
                      </a:lnTo>
                      <a:lnTo>
                        <a:pt x="1362" y="279"/>
                      </a:lnTo>
                      <a:lnTo>
                        <a:pt x="1363" y="281"/>
                      </a:lnTo>
                      <a:lnTo>
                        <a:pt x="1364" y="281"/>
                      </a:lnTo>
                      <a:lnTo>
                        <a:pt x="1365" y="281"/>
                      </a:lnTo>
                      <a:lnTo>
                        <a:pt x="1366" y="281"/>
                      </a:lnTo>
                      <a:lnTo>
                        <a:pt x="1368" y="282"/>
                      </a:lnTo>
                      <a:lnTo>
                        <a:pt x="1369" y="282"/>
                      </a:lnTo>
                      <a:lnTo>
                        <a:pt x="1370" y="282"/>
                      </a:lnTo>
                      <a:lnTo>
                        <a:pt x="1372" y="283"/>
                      </a:lnTo>
                      <a:lnTo>
                        <a:pt x="1373" y="283"/>
                      </a:lnTo>
                      <a:lnTo>
                        <a:pt x="1376" y="284"/>
                      </a:lnTo>
                      <a:lnTo>
                        <a:pt x="1378" y="284"/>
                      </a:lnTo>
                      <a:lnTo>
                        <a:pt x="1379" y="284"/>
                      </a:lnTo>
                      <a:lnTo>
                        <a:pt x="1381" y="285"/>
                      </a:lnTo>
                      <a:lnTo>
                        <a:pt x="1383" y="285"/>
                      </a:lnTo>
                      <a:lnTo>
                        <a:pt x="1385" y="285"/>
                      </a:lnTo>
                      <a:lnTo>
                        <a:pt x="1386" y="285"/>
                      </a:lnTo>
                      <a:lnTo>
                        <a:pt x="1388" y="285"/>
                      </a:lnTo>
                      <a:lnTo>
                        <a:pt x="1390" y="285"/>
                      </a:lnTo>
                      <a:lnTo>
                        <a:pt x="1392" y="285"/>
                      </a:lnTo>
                      <a:lnTo>
                        <a:pt x="1393" y="284"/>
                      </a:lnTo>
                      <a:lnTo>
                        <a:pt x="1394" y="284"/>
                      </a:lnTo>
                      <a:lnTo>
                        <a:pt x="1396" y="284"/>
                      </a:lnTo>
                      <a:lnTo>
                        <a:pt x="1398" y="284"/>
                      </a:lnTo>
                      <a:lnTo>
                        <a:pt x="1399" y="283"/>
                      </a:lnTo>
                      <a:lnTo>
                        <a:pt x="1401" y="283"/>
                      </a:lnTo>
                      <a:lnTo>
                        <a:pt x="1402" y="283"/>
                      </a:lnTo>
                      <a:lnTo>
                        <a:pt x="1403" y="282"/>
                      </a:lnTo>
                      <a:lnTo>
                        <a:pt x="1406" y="282"/>
                      </a:lnTo>
                      <a:lnTo>
                        <a:pt x="1407" y="281"/>
                      </a:lnTo>
                      <a:lnTo>
                        <a:pt x="1408" y="281"/>
                      </a:lnTo>
                      <a:lnTo>
                        <a:pt x="1409" y="281"/>
                      </a:lnTo>
                      <a:lnTo>
                        <a:pt x="1411" y="279"/>
                      </a:lnTo>
                      <a:lnTo>
                        <a:pt x="1413" y="279"/>
                      </a:lnTo>
                      <a:lnTo>
                        <a:pt x="1414" y="278"/>
                      </a:lnTo>
                      <a:lnTo>
                        <a:pt x="1415" y="278"/>
                      </a:lnTo>
                      <a:lnTo>
                        <a:pt x="1416" y="278"/>
                      </a:lnTo>
                      <a:lnTo>
                        <a:pt x="1418" y="277"/>
                      </a:lnTo>
                      <a:lnTo>
                        <a:pt x="1420" y="277"/>
                      </a:lnTo>
                      <a:lnTo>
                        <a:pt x="1421" y="277"/>
                      </a:lnTo>
                      <a:lnTo>
                        <a:pt x="1422" y="277"/>
                      </a:lnTo>
                      <a:lnTo>
                        <a:pt x="1423" y="277"/>
                      </a:lnTo>
                      <a:lnTo>
                        <a:pt x="1424" y="277"/>
                      </a:lnTo>
                      <a:lnTo>
                        <a:pt x="1425" y="278"/>
                      </a:lnTo>
                      <a:lnTo>
                        <a:pt x="1427" y="278"/>
                      </a:lnTo>
                      <a:lnTo>
                        <a:pt x="1428" y="278"/>
                      </a:lnTo>
                      <a:lnTo>
                        <a:pt x="1429" y="279"/>
                      </a:lnTo>
                      <a:lnTo>
                        <a:pt x="1430" y="279"/>
                      </a:lnTo>
                      <a:lnTo>
                        <a:pt x="1431" y="279"/>
                      </a:lnTo>
                      <a:lnTo>
                        <a:pt x="1432" y="281"/>
                      </a:lnTo>
                      <a:lnTo>
                        <a:pt x="1433" y="281"/>
                      </a:lnTo>
                      <a:lnTo>
                        <a:pt x="1435" y="281"/>
                      </a:lnTo>
                      <a:lnTo>
                        <a:pt x="1435" y="282"/>
                      </a:lnTo>
                      <a:lnTo>
                        <a:pt x="1436" y="282"/>
                      </a:lnTo>
                      <a:lnTo>
                        <a:pt x="1437" y="282"/>
                      </a:lnTo>
                      <a:lnTo>
                        <a:pt x="1438" y="282"/>
                      </a:lnTo>
                      <a:lnTo>
                        <a:pt x="1438" y="283"/>
                      </a:lnTo>
                      <a:lnTo>
                        <a:pt x="1439" y="283"/>
                      </a:lnTo>
                      <a:lnTo>
                        <a:pt x="1443" y="282"/>
                      </a:lnTo>
                      <a:lnTo>
                        <a:pt x="1446" y="281"/>
                      </a:lnTo>
                      <a:lnTo>
                        <a:pt x="1448" y="278"/>
                      </a:lnTo>
                      <a:lnTo>
                        <a:pt x="1452" y="277"/>
                      </a:lnTo>
                      <a:lnTo>
                        <a:pt x="1454" y="275"/>
                      </a:lnTo>
                      <a:lnTo>
                        <a:pt x="1458" y="274"/>
                      </a:lnTo>
                      <a:lnTo>
                        <a:pt x="1461" y="271"/>
                      </a:lnTo>
                      <a:lnTo>
                        <a:pt x="1463" y="269"/>
                      </a:lnTo>
                      <a:lnTo>
                        <a:pt x="1467" y="267"/>
                      </a:lnTo>
                      <a:lnTo>
                        <a:pt x="1469" y="264"/>
                      </a:lnTo>
                      <a:lnTo>
                        <a:pt x="1472" y="261"/>
                      </a:lnTo>
                      <a:lnTo>
                        <a:pt x="1475" y="259"/>
                      </a:lnTo>
                      <a:lnTo>
                        <a:pt x="1477" y="256"/>
                      </a:lnTo>
                      <a:lnTo>
                        <a:pt x="1480" y="253"/>
                      </a:lnTo>
                      <a:lnTo>
                        <a:pt x="1483" y="251"/>
                      </a:lnTo>
                      <a:lnTo>
                        <a:pt x="1485" y="247"/>
                      </a:lnTo>
                      <a:lnTo>
                        <a:pt x="1488" y="244"/>
                      </a:lnTo>
                      <a:lnTo>
                        <a:pt x="1490" y="241"/>
                      </a:lnTo>
                      <a:lnTo>
                        <a:pt x="1492" y="238"/>
                      </a:lnTo>
                      <a:lnTo>
                        <a:pt x="1495" y="234"/>
                      </a:lnTo>
                      <a:lnTo>
                        <a:pt x="1497" y="231"/>
                      </a:lnTo>
                      <a:lnTo>
                        <a:pt x="1499" y="227"/>
                      </a:lnTo>
                      <a:lnTo>
                        <a:pt x="1502" y="225"/>
                      </a:lnTo>
                      <a:lnTo>
                        <a:pt x="1504" y="222"/>
                      </a:lnTo>
                      <a:lnTo>
                        <a:pt x="1506" y="218"/>
                      </a:lnTo>
                      <a:lnTo>
                        <a:pt x="1507" y="215"/>
                      </a:lnTo>
                      <a:lnTo>
                        <a:pt x="1510" y="211"/>
                      </a:lnTo>
                      <a:lnTo>
                        <a:pt x="1511" y="208"/>
                      </a:lnTo>
                      <a:lnTo>
                        <a:pt x="1513" y="204"/>
                      </a:lnTo>
                      <a:lnTo>
                        <a:pt x="1514" y="201"/>
                      </a:lnTo>
                      <a:lnTo>
                        <a:pt x="1515" y="197"/>
                      </a:lnTo>
                      <a:lnTo>
                        <a:pt x="1518" y="195"/>
                      </a:lnTo>
                      <a:lnTo>
                        <a:pt x="1517" y="194"/>
                      </a:lnTo>
                      <a:lnTo>
                        <a:pt x="1515" y="193"/>
                      </a:lnTo>
                      <a:lnTo>
                        <a:pt x="1514" y="193"/>
                      </a:lnTo>
                      <a:lnTo>
                        <a:pt x="1514" y="192"/>
                      </a:lnTo>
                      <a:lnTo>
                        <a:pt x="1513" y="192"/>
                      </a:lnTo>
                      <a:lnTo>
                        <a:pt x="1512" y="190"/>
                      </a:lnTo>
                      <a:lnTo>
                        <a:pt x="1511" y="190"/>
                      </a:lnTo>
                      <a:lnTo>
                        <a:pt x="1511" y="189"/>
                      </a:lnTo>
                      <a:lnTo>
                        <a:pt x="1510" y="189"/>
                      </a:lnTo>
                      <a:lnTo>
                        <a:pt x="1509" y="189"/>
                      </a:lnTo>
                      <a:lnTo>
                        <a:pt x="1509" y="188"/>
                      </a:lnTo>
                      <a:lnTo>
                        <a:pt x="1507" y="188"/>
                      </a:lnTo>
                      <a:lnTo>
                        <a:pt x="1506" y="188"/>
                      </a:lnTo>
                      <a:lnTo>
                        <a:pt x="1506" y="187"/>
                      </a:lnTo>
                      <a:lnTo>
                        <a:pt x="1505" y="187"/>
                      </a:lnTo>
                      <a:lnTo>
                        <a:pt x="1507" y="187"/>
                      </a:lnTo>
                      <a:lnTo>
                        <a:pt x="1510" y="187"/>
                      </a:lnTo>
                      <a:lnTo>
                        <a:pt x="1511" y="187"/>
                      </a:lnTo>
                      <a:lnTo>
                        <a:pt x="1512" y="187"/>
                      </a:lnTo>
                      <a:lnTo>
                        <a:pt x="1514" y="187"/>
                      </a:lnTo>
                      <a:lnTo>
                        <a:pt x="1515" y="187"/>
                      </a:lnTo>
                      <a:lnTo>
                        <a:pt x="1517" y="186"/>
                      </a:lnTo>
                      <a:lnTo>
                        <a:pt x="1518" y="186"/>
                      </a:lnTo>
                      <a:lnTo>
                        <a:pt x="1519" y="186"/>
                      </a:lnTo>
                      <a:lnTo>
                        <a:pt x="1520" y="186"/>
                      </a:lnTo>
                      <a:lnTo>
                        <a:pt x="1521" y="185"/>
                      </a:lnTo>
                      <a:lnTo>
                        <a:pt x="1522" y="185"/>
                      </a:lnTo>
                      <a:lnTo>
                        <a:pt x="1524" y="185"/>
                      </a:lnTo>
                      <a:lnTo>
                        <a:pt x="1524" y="184"/>
                      </a:lnTo>
                      <a:lnTo>
                        <a:pt x="1525" y="184"/>
                      </a:lnTo>
                      <a:lnTo>
                        <a:pt x="1526" y="182"/>
                      </a:lnTo>
                      <a:lnTo>
                        <a:pt x="1527" y="182"/>
                      </a:lnTo>
                      <a:lnTo>
                        <a:pt x="1527" y="181"/>
                      </a:lnTo>
                      <a:lnTo>
                        <a:pt x="1528" y="180"/>
                      </a:lnTo>
                      <a:lnTo>
                        <a:pt x="1529" y="179"/>
                      </a:lnTo>
                      <a:lnTo>
                        <a:pt x="1529" y="178"/>
                      </a:lnTo>
                      <a:lnTo>
                        <a:pt x="1530" y="178"/>
                      </a:lnTo>
                      <a:lnTo>
                        <a:pt x="1530" y="177"/>
                      </a:lnTo>
                      <a:lnTo>
                        <a:pt x="1530" y="175"/>
                      </a:lnTo>
                      <a:lnTo>
                        <a:pt x="1532" y="175"/>
                      </a:lnTo>
                      <a:lnTo>
                        <a:pt x="1532" y="174"/>
                      </a:lnTo>
                      <a:lnTo>
                        <a:pt x="1533" y="173"/>
                      </a:lnTo>
                      <a:lnTo>
                        <a:pt x="1533" y="172"/>
                      </a:lnTo>
                      <a:lnTo>
                        <a:pt x="1534" y="171"/>
                      </a:lnTo>
                      <a:lnTo>
                        <a:pt x="1534" y="170"/>
                      </a:lnTo>
                      <a:lnTo>
                        <a:pt x="1535" y="169"/>
                      </a:lnTo>
                      <a:lnTo>
                        <a:pt x="1535" y="167"/>
                      </a:lnTo>
                      <a:lnTo>
                        <a:pt x="1535" y="166"/>
                      </a:lnTo>
                      <a:lnTo>
                        <a:pt x="1535" y="165"/>
                      </a:lnTo>
                      <a:lnTo>
                        <a:pt x="1536" y="164"/>
                      </a:lnTo>
                      <a:lnTo>
                        <a:pt x="1536" y="163"/>
                      </a:lnTo>
                      <a:lnTo>
                        <a:pt x="1536" y="162"/>
                      </a:lnTo>
                      <a:lnTo>
                        <a:pt x="1536" y="160"/>
                      </a:lnTo>
                      <a:lnTo>
                        <a:pt x="1536" y="159"/>
                      </a:lnTo>
                      <a:lnTo>
                        <a:pt x="1536" y="158"/>
                      </a:lnTo>
                      <a:lnTo>
                        <a:pt x="1536" y="157"/>
                      </a:lnTo>
                      <a:lnTo>
                        <a:pt x="1537" y="156"/>
                      </a:lnTo>
                      <a:lnTo>
                        <a:pt x="1537" y="155"/>
                      </a:lnTo>
                      <a:lnTo>
                        <a:pt x="1537" y="153"/>
                      </a:lnTo>
                      <a:lnTo>
                        <a:pt x="1537" y="151"/>
                      </a:lnTo>
                      <a:lnTo>
                        <a:pt x="1539" y="150"/>
                      </a:lnTo>
                      <a:lnTo>
                        <a:pt x="1539" y="149"/>
                      </a:lnTo>
                      <a:lnTo>
                        <a:pt x="1539" y="148"/>
                      </a:lnTo>
                      <a:lnTo>
                        <a:pt x="1539" y="147"/>
                      </a:lnTo>
                      <a:lnTo>
                        <a:pt x="1540" y="145"/>
                      </a:lnTo>
                      <a:lnTo>
                        <a:pt x="1540" y="144"/>
                      </a:lnTo>
                      <a:lnTo>
                        <a:pt x="1541" y="143"/>
                      </a:lnTo>
                      <a:lnTo>
                        <a:pt x="1541" y="141"/>
                      </a:lnTo>
                      <a:lnTo>
                        <a:pt x="1542" y="140"/>
                      </a:lnTo>
                      <a:lnTo>
                        <a:pt x="1542" y="138"/>
                      </a:lnTo>
                      <a:lnTo>
                        <a:pt x="1542" y="136"/>
                      </a:lnTo>
                      <a:lnTo>
                        <a:pt x="1542" y="135"/>
                      </a:lnTo>
                      <a:lnTo>
                        <a:pt x="1542" y="134"/>
                      </a:lnTo>
                      <a:lnTo>
                        <a:pt x="1542" y="133"/>
                      </a:lnTo>
                      <a:lnTo>
                        <a:pt x="1542" y="132"/>
                      </a:lnTo>
                      <a:lnTo>
                        <a:pt x="1542" y="130"/>
                      </a:lnTo>
                      <a:lnTo>
                        <a:pt x="1542" y="129"/>
                      </a:lnTo>
                      <a:lnTo>
                        <a:pt x="1542" y="128"/>
                      </a:lnTo>
                      <a:lnTo>
                        <a:pt x="1541" y="128"/>
                      </a:lnTo>
                      <a:lnTo>
                        <a:pt x="1541" y="127"/>
                      </a:lnTo>
                      <a:lnTo>
                        <a:pt x="1540" y="126"/>
                      </a:lnTo>
                      <a:lnTo>
                        <a:pt x="1539" y="125"/>
                      </a:lnTo>
                      <a:lnTo>
                        <a:pt x="1537" y="123"/>
                      </a:lnTo>
                      <a:lnTo>
                        <a:pt x="1536" y="123"/>
                      </a:lnTo>
                      <a:lnTo>
                        <a:pt x="1536" y="122"/>
                      </a:lnTo>
                      <a:lnTo>
                        <a:pt x="1535" y="122"/>
                      </a:lnTo>
                      <a:lnTo>
                        <a:pt x="1534" y="122"/>
                      </a:lnTo>
                      <a:lnTo>
                        <a:pt x="1533" y="122"/>
                      </a:lnTo>
                      <a:lnTo>
                        <a:pt x="1532" y="122"/>
                      </a:lnTo>
                      <a:lnTo>
                        <a:pt x="1530" y="122"/>
                      </a:lnTo>
                      <a:lnTo>
                        <a:pt x="1529" y="122"/>
                      </a:lnTo>
                      <a:lnTo>
                        <a:pt x="1528" y="122"/>
                      </a:lnTo>
                      <a:lnTo>
                        <a:pt x="1527" y="122"/>
                      </a:lnTo>
                      <a:lnTo>
                        <a:pt x="1526" y="122"/>
                      </a:lnTo>
                      <a:lnTo>
                        <a:pt x="1525" y="122"/>
                      </a:lnTo>
                      <a:lnTo>
                        <a:pt x="1524" y="122"/>
                      </a:lnTo>
                      <a:lnTo>
                        <a:pt x="1522" y="123"/>
                      </a:lnTo>
                      <a:lnTo>
                        <a:pt x="1521" y="123"/>
                      </a:lnTo>
                      <a:lnTo>
                        <a:pt x="1520" y="125"/>
                      </a:lnTo>
                      <a:lnTo>
                        <a:pt x="1519" y="125"/>
                      </a:lnTo>
                      <a:lnTo>
                        <a:pt x="1518" y="126"/>
                      </a:lnTo>
                      <a:lnTo>
                        <a:pt x="1517" y="126"/>
                      </a:lnTo>
                      <a:lnTo>
                        <a:pt x="1515" y="127"/>
                      </a:lnTo>
                      <a:lnTo>
                        <a:pt x="1513" y="127"/>
                      </a:lnTo>
                      <a:lnTo>
                        <a:pt x="1512" y="128"/>
                      </a:lnTo>
                      <a:lnTo>
                        <a:pt x="1511" y="129"/>
                      </a:lnTo>
                      <a:lnTo>
                        <a:pt x="1510" y="129"/>
                      </a:lnTo>
                      <a:lnTo>
                        <a:pt x="1509" y="130"/>
                      </a:lnTo>
                      <a:lnTo>
                        <a:pt x="1507" y="132"/>
                      </a:lnTo>
                      <a:lnTo>
                        <a:pt x="1505" y="133"/>
                      </a:lnTo>
                      <a:lnTo>
                        <a:pt x="1504" y="134"/>
                      </a:lnTo>
                      <a:lnTo>
                        <a:pt x="1503" y="135"/>
                      </a:lnTo>
                      <a:lnTo>
                        <a:pt x="1502" y="136"/>
                      </a:lnTo>
                      <a:lnTo>
                        <a:pt x="1500" y="137"/>
                      </a:lnTo>
                      <a:lnTo>
                        <a:pt x="1499" y="138"/>
                      </a:lnTo>
                      <a:lnTo>
                        <a:pt x="1498" y="140"/>
                      </a:lnTo>
                      <a:lnTo>
                        <a:pt x="1497" y="141"/>
                      </a:lnTo>
                      <a:lnTo>
                        <a:pt x="1496" y="143"/>
                      </a:lnTo>
                      <a:lnTo>
                        <a:pt x="1495" y="144"/>
                      </a:lnTo>
                      <a:lnTo>
                        <a:pt x="1494" y="145"/>
                      </a:lnTo>
                      <a:lnTo>
                        <a:pt x="1492" y="147"/>
                      </a:lnTo>
                      <a:lnTo>
                        <a:pt x="1492" y="149"/>
                      </a:lnTo>
                      <a:lnTo>
                        <a:pt x="1491" y="150"/>
                      </a:lnTo>
                      <a:lnTo>
                        <a:pt x="1490" y="152"/>
                      </a:lnTo>
                      <a:lnTo>
                        <a:pt x="1489" y="153"/>
                      </a:lnTo>
                      <a:lnTo>
                        <a:pt x="1489" y="155"/>
                      </a:lnTo>
                      <a:lnTo>
                        <a:pt x="1488" y="157"/>
                      </a:lnTo>
                      <a:lnTo>
                        <a:pt x="1488" y="158"/>
                      </a:lnTo>
                      <a:lnTo>
                        <a:pt x="1487" y="160"/>
                      </a:lnTo>
                      <a:lnTo>
                        <a:pt x="1485" y="162"/>
                      </a:lnTo>
                      <a:lnTo>
                        <a:pt x="1485" y="164"/>
                      </a:lnTo>
                      <a:lnTo>
                        <a:pt x="1484" y="165"/>
                      </a:lnTo>
                      <a:lnTo>
                        <a:pt x="1483" y="166"/>
                      </a:lnTo>
                      <a:lnTo>
                        <a:pt x="1482" y="166"/>
                      </a:lnTo>
                      <a:lnTo>
                        <a:pt x="1481" y="166"/>
                      </a:lnTo>
                      <a:lnTo>
                        <a:pt x="1480" y="166"/>
                      </a:lnTo>
                      <a:lnTo>
                        <a:pt x="1479" y="166"/>
                      </a:lnTo>
                      <a:lnTo>
                        <a:pt x="1477" y="166"/>
                      </a:lnTo>
                      <a:lnTo>
                        <a:pt x="1476" y="165"/>
                      </a:lnTo>
                      <a:lnTo>
                        <a:pt x="1475" y="165"/>
                      </a:lnTo>
                      <a:lnTo>
                        <a:pt x="1475" y="164"/>
                      </a:lnTo>
                      <a:lnTo>
                        <a:pt x="1474" y="164"/>
                      </a:lnTo>
                      <a:lnTo>
                        <a:pt x="1473" y="163"/>
                      </a:lnTo>
                      <a:lnTo>
                        <a:pt x="1472" y="162"/>
                      </a:lnTo>
                      <a:lnTo>
                        <a:pt x="1470" y="160"/>
                      </a:lnTo>
                      <a:lnTo>
                        <a:pt x="1470" y="159"/>
                      </a:lnTo>
                      <a:lnTo>
                        <a:pt x="1470" y="158"/>
                      </a:lnTo>
                      <a:lnTo>
                        <a:pt x="1470" y="157"/>
                      </a:lnTo>
                      <a:lnTo>
                        <a:pt x="1470" y="156"/>
                      </a:lnTo>
                      <a:lnTo>
                        <a:pt x="1470" y="155"/>
                      </a:lnTo>
                      <a:lnTo>
                        <a:pt x="1469" y="155"/>
                      </a:lnTo>
                      <a:lnTo>
                        <a:pt x="1469" y="153"/>
                      </a:lnTo>
                      <a:lnTo>
                        <a:pt x="1469" y="152"/>
                      </a:lnTo>
                      <a:lnTo>
                        <a:pt x="1469" y="151"/>
                      </a:lnTo>
                      <a:lnTo>
                        <a:pt x="1469" y="150"/>
                      </a:lnTo>
                      <a:lnTo>
                        <a:pt x="1469" y="149"/>
                      </a:lnTo>
                      <a:lnTo>
                        <a:pt x="1469" y="148"/>
                      </a:lnTo>
                      <a:lnTo>
                        <a:pt x="1469" y="147"/>
                      </a:lnTo>
                      <a:lnTo>
                        <a:pt x="1469" y="145"/>
                      </a:lnTo>
                      <a:lnTo>
                        <a:pt x="1469" y="144"/>
                      </a:lnTo>
                      <a:lnTo>
                        <a:pt x="1469" y="143"/>
                      </a:lnTo>
                      <a:lnTo>
                        <a:pt x="1468" y="142"/>
                      </a:lnTo>
                      <a:lnTo>
                        <a:pt x="1468" y="141"/>
                      </a:lnTo>
                      <a:lnTo>
                        <a:pt x="1467" y="140"/>
                      </a:lnTo>
                      <a:lnTo>
                        <a:pt x="1467" y="138"/>
                      </a:lnTo>
                      <a:lnTo>
                        <a:pt x="1466" y="137"/>
                      </a:lnTo>
                      <a:lnTo>
                        <a:pt x="1465" y="136"/>
                      </a:lnTo>
                      <a:lnTo>
                        <a:pt x="1463" y="136"/>
                      </a:lnTo>
                      <a:lnTo>
                        <a:pt x="1463" y="135"/>
                      </a:lnTo>
                      <a:lnTo>
                        <a:pt x="1462" y="135"/>
                      </a:lnTo>
                      <a:lnTo>
                        <a:pt x="1461" y="134"/>
                      </a:lnTo>
                      <a:lnTo>
                        <a:pt x="1460" y="134"/>
                      </a:lnTo>
                      <a:lnTo>
                        <a:pt x="1459" y="134"/>
                      </a:lnTo>
                      <a:lnTo>
                        <a:pt x="1458" y="134"/>
                      </a:lnTo>
                      <a:lnTo>
                        <a:pt x="1458" y="133"/>
                      </a:lnTo>
                      <a:lnTo>
                        <a:pt x="1457" y="133"/>
                      </a:lnTo>
                      <a:lnTo>
                        <a:pt x="1455" y="133"/>
                      </a:lnTo>
                      <a:lnTo>
                        <a:pt x="1454" y="133"/>
                      </a:lnTo>
                      <a:lnTo>
                        <a:pt x="1453" y="133"/>
                      </a:lnTo>
                      <a:lnTo>
                        <a:pt x="1453" y="132"/>
                      </a:lnTo>
                      <a:lnTo>
                        <a:pt x="1454" y="130"/>
                      </a:lnTo>
                      <a:lnTo>
                        <a:pt x="1454" y="129"/>
                      </a:lnTo>
                      <a:lnTo>
                        <a:pt x="1455" y="128"/>
                      </a:lnTo>
                      <a:lnTo>
                        <a:pt x="1457" y="127"/>
                      </a:lnTo>
                      <a:lnTo>
                        <a:pt x="1457" y="126"/>
                      </a:lnTo>
                      <a:lnTo>
                        <a:pt x="1458" y="125"/>
                      </a:lnTo>
                      <a:lnTo>
                        <a:pt x="1458" y="123"/>
                      </a:lnTo>
                      <a:lnTo>
                        <a:pt x="1459" y="122"/>
                      </a:lnTo>
                      <a:lnTo>
                        <a:pt x="1459" y="121"/>
                      </a:lnTo>
                      <a:lnTo>
                        <a:pt x="1460" y="120"/>
                      </a:lnTo>
                      <a:lnTo>
                        <a:pt x="1460" y="119"/>
                      </a:lnTo>
                      <a:lnTo>
                        <a:pt x="1460" y="118"/>
                      </a:lnTo>
                      <a:lnTo>
                        <a:pt x="1461" y="117"/>
                      </a:lnTo>
                      <a:lnTo>
                        <a:pt x="1461" y="115"/>
                      </a:lnTo>
                      <a:lnTo>
                        <a:pt x="1461" y="114"/>
                      </a:lnTo>
                      <a:lnTo>
                        <a:pt x="1461" y="113"/>
                      </a:lnTo>
                      <a:lnTo>
                        <a:pt x="1461" y="112"/>
                      </a:lnTo>
                      <a:lnTo>
                        <a:pt x="1461" y="111"/>
                      </a:lnTo>
                      <a:lnTo>
                        <a:pt x="1461" y="110"/>
                      </a:lnTo>
                      <a:lnTo>
                        <a:pt x="1461" y="108"/>
                      </a:lnTo>
                      <a:lnTo>
                        <a:pt x="1460" y="107"/>
                      </a:lnTo>
                      <a:lnTo>
                        <a:pt x="1460" y="106"/>
                      </a:lnTo>
                      <a:lnTo>
                        <a:pt x="1459" y="105"/>
                      </a:lnTo>
                      <a:lnTo>
                        <a:pt x="1459" y="104"/>
                      </a:lnTo>
                      <a:lnTo>
                        <a:pt x="1458" y="103"/>
                      </a:lnTo>
                      <a:lnTo>
                        <a:pt x="1457" y="102"/>
                      </a:lnTo>
                      <a:lnTo>
                        <a:pt x="1455" y="102"/>
                      </a:lnTo>
                      <a:lnTo>
                        <a:pt x="1453" y="100"/>
                      </a:lnTo>
                      <a:lnTo>
                        <a:pt x="1452" y="100"/>
                      </a:lnTo>
                      <a:lnTo>
                        <a:pt x="1450" y="99"/>
                      </a:lnTo>
                      <a:lnTo>
                        <a:pt x="1447" y="99"/>
                      </a:lnTo>
                      <a:lnTo>
                        <a:pt x="1445" y="99"/>
                      </a:lnTo>
                      <a:lnTo>
                        <a:pt x="1443" y="99"/>
                      </a:lnTo>
                      <a:lnTo>
                        <a:pt x="1440" y="99"/>
                      </a:lnTo>
                      <a:lnTo>
                        <a:pt x="1438" y="99"/>
                      </a:lnTo>
                      <a:lnTo>
                        <a:pt x="1435" y="99"/>
                      </a:lnTo>
                      <a:lnTo>
                        <a:pt x="1432" y="99"/>
                      </a:lnTo>
                      <a:lnTo>
                        <a:pt x="1430" y="100"/>
                      </a:lnTo>
                      <a:lnTo>
                        <a:pt x="1427" y="100"/>
                      </a:lnTo>
                      <a:lnTo>
                        <a:pt x="1423" y="100"/>
                      </a:lnTo>
                      <a:lnTo>
                        <a:pt x="1421" y="102"/>
                      </a:lnTo>
                      <a:lnTo>
                        <a:pt x="1417" y="102"/>
                      </a:lnTo>
                      <a:lnTo>
                        <a:pt x="1415" y="102"/>
                      </a:lnTo>
                      <a:lnTo>
                        <a:pt x="1411" y="103"/>
                      </a:lnTo>
                      <a:lnTo>
                        <a:pt x="1409" y="103"/>
                      </a:lnTo>
                      <a:lnTo>
                        <a:pt x="1406" y="104"/>
                      </a:lnTo>
                      <a:lnTo>
                        <a:pt x="1403" y="104"/>
                      </a:lnTo>
                      <a:lnTo>
                        <a:pt x="1400" y="105"/>
                      </a:lnTo>
                      <a:lnTo>
                        <a:pt x="1398" y="105"/>
                      </a:lnTo>
                      <a:lnTo>
                        <a:pt x="1394" y="105"/>
                      </a:lnTo>
                      <a:lnTo>
                        <a:pt x="1392" y="106"/>
                      </a:lnTo>
                      <a:lnTo>
                        <a:pt x="1390" y="106"/>
                      </a:lnTo>
                      <a:lnTo>
                        <a:pt x="1387" y="106"/>
                      </a:lnTo>
                      <a:lnTo>
                        <a:pt x="1385" y="107"/>
                      </a:lnTo>
                      <a:lnTo>
                        <a:pt x="1383" y="107"/>
                      </a:lnTo>
                      <a:lnTo>
                        <a:pt x="1381" y="107"/>
                      </a:lnTo>
                      <a:lnTo>
                        <a:pt x="1379" y="107"/>
                      </a:lnTo>
                      <a:lnTo>
                        <a:pt x="1378" y="107"/>
                      </a:lnTo>
                      <a:lnTo>
                        <a:pt x="1377" y="106"/>
                      </a:lnTo>
                      <a:lnTo>
                        <a:pt x="1375" y="106"/>
                      </a:lnTo>
                      <a:lnTo>
                        <a:pt x="1371" y="105"/>
                      </a:lnTo>
                      <a:lnTo>
                        <a:pt x="1369" y="105"/>
                      </a:lnTo>
                      <a:lnTo>
                        <a:pt x="1366" y="104"/>
                      </a:lnTo>
                      <a:lnTo>
                        <a:pt x="1364" y="104"/>
                      </a:lnTo>
                      <a:lnTo>
                        <a:pt x="1362" y="103"/>
                      </a:lnTo>
                      <a:lnTo>
                        <a:pt x="1361" y="102"/>
                      </a:lnTo>
                      <a:lnTo>
                        <a:pt x="1358" y="102"/>
                      </a:lnTo>
                      <a:lnTo>
                        <a:pt x="1357" y="100"/>
                      </a:lnTo>
                      <a:lnTo>
                        <a:pt x="1355" y="99"/>
                      </a:lnTo>
                      <a:lnTo>
                        <a:pt x="1354" y="99"/>
                      </a:lnTo>
                      <a:lnTo>
                        <a:pt x="1353" y="98"/>
                      </a:lnTo>
                      <a:lnTo>
                        <a:pt x="1351" y="97"/>
                      </a:lnTo>
                      <a:lnTo>
                        <a:pt x="1350" y="96"/>
                      </a:lnTo>
                      <a:lnTo>
                        <a:pt x="1349" y="96"/>
                      </a:lnTo>
                      <a:lnTo>
                        <a:pt x="1348" y="95"/>
                      </a:lnTo>
                      <a:lnTo>
                        <a:pt x="1347" y="93"/>
                      </a:lnTo>
                      <a:lnTo>
                        <a:pt x="1346" y="92"/>
                      </a:lnTo>
                      <a:lnTo>
                        <a:pt x="1344" y="91"/>
                      </a:lnTo>
                      <a:lnTo>
                        <a:pt x="1343" y="90"/>
                      </a:lnTo>
                      <a:lnTo>
                        <a:pt x="1342" y="88"/>
                      </a:lnTo>
                      <a:lnTo>
                        <a:pt x="1341" y="86"/>
                      </a:lnTo>
                      <a:lnTo>
                        <a:pt x="1340" y="85"/>
                      </a:lnTo>
                      <a:lnTo>
                        <a:pt x="1338" y="83"/>
                      </a:lnTo>
                      <a:lnTo>
                        <a:pt x="1336" y="82"/>
                      </a:lnTo>
                      <a:lnTo>
                        <a:pt x="1335" y="80"/>
                      </a:lnTo>
                      <a:lnTo>
                        <a:pt x="1333" y="78"/>
                      </a:lnTo>
                      <a:lnTo>
                        <a:pt x="1332" y="76"/>
                      </a:lnTo>
                      <a:lnTo>
                        <a:pt x="1329" y="74"/>
                      </a:lnTo>
                      <a:lnTo>
                        <a:pt x="1327" y="73"/>
                      </a:lnTo>
                      <a:lnTo>
                        <a:pt x="1325" y="70"/>
                      </a:lnTo>
                      <a:lnTo>
                        <a:pt x="1323" y="68"/>
                      </a:lnTo>
                      <a:close/>
                      <a:moveTo>
                        <a:pt x="672" y="244"/>
                      </a:moveTo>
                      <a:lnTo>
                        <a:pt x="673" y="244"/>
                      </a:lnTo>
                      <a:lnTo>
                        <a:pt x="674" y="242"/>
                      </a:lnTo>
                      <a:lnTo>
                        <a:pt x="675" y="242"/>
                      </a:lnTo>
                      <a:lnTo>
                        <a:pt x="677" y="242"/>
                      </a:lnTo>
                      <a:lnTo>
                        <a:pt x="677" y="241"/>
                      </a:lnTo>
                      <a:lnTo>
                        <a:pt x="678" y="241"/>
                      </a:lnTo>
                      <a:lnTo>
                        <a:pt x="679" y="241"/>
                      </a:lnTo>
                      <a:lnTo>
                        <a:pt x="680" y="240"/>
                      </a:lnTo>
                      <a:lnTo>
                        <a:pt x="681" y="240"/>
                      </a:lnTo>
                      <a:lnTo>
                        <a:pt x="682" y="240"/>
                      </a:lnTo>
                      <a:lnTo>
                        <a:pt x="684" y="239"/>
                      </a:lnTo>
                      <a:lnTo>
                        <a:pt x="685" y="238"/>
                      </a:lnTo>
                      <a:lnTo>
                        <a:pt x="686" y="238"/>
                      </a:lnTo>
                      <a:lnTo>
                        <a:pt x="686" y="237"/>
                      </a:lnTo>
                      <a:lnTo>
                        <a:pt x="687" y="237"/>
                      </a:lnTo>
                      <a:lnTo>
                        <a:pt x="688" y="236"/>
                      </a:lnTo>
                      <a:lnTo>
                        <a:pt x="688" y="234"/>
                      </a:lnTo>
                      <a:lnTo>
                        <a:pt x="689" y="234"/>
                      </a:lnTo>
                      <a:lnTo>
                        <a:pt x="689" y="233"/>
                      </a:lnTo>
                      <a:lnTo>
                        <a:pt x="689" y="232"/>
                      </a:lnTo>
                      <a:lnTo>
                        <a:pt x="690" y="231"/>
                      </a:lnTo>
                      <a:lnTo>
                        <a:pt x="690" y="230"/>
                      </a:lnTo>
                      <a:lnTo>
                        <a:pt x="690" y="229"/>
                      </a:lnTo>
                      <a:lnTo>
                        <a:pt x="690" y="227"/>
                      </a:lnTo>
                      <a:lnTo>
                        <a:pt x="690" y="226"/>
                      </a:lnTo>
                      <a:lnTo>
                        <a:pt x="690" y="225"/>
                      </a:lnTo>
                      <a:lnTo>
                        <a:pt x="690" y="224"/>
                      </a:lnTo>
                      <a:lnTo>
                        <a:pt x="690" y="223"/>
                      </a:lnTo>
                      <a:lnTo>
                        <a:pt x="690" y="220"/>
                      </a:lnTo>
                      <a:lnTo>
                        <a:pt x="689" y="219"/>
                      </a:lnTo>
                      <a:lnTo>
                        <a:pt x="689" y="217"/>
                      </a:lnTo>
                      <a:lnTo>
                        <a:pt x="690" y="216"/>
                      </a:lnTo>
                      <a:lnTo>
                        <a:pt x="692" y="215"/>
                      </a:lnTo>
                      <a:lnTo>
                        <a:pt x="693" y="214"/>
                      </a:lnTo>
                      <a:lnTo>
                        <a:pt x="694" y="212"/>
                      </a:lnTo>
                      <a:lnTo>
                        <a:pt x="695" y="212"/>
                      </a:lnTo>
                      <a:lnTo>
                        <a:pt x="695" y="211"/>
                      </a:lnTo>
                      <a:lnTo>
                        <a:pt x="696" y="211"/>
                      </a:lnTo>
                      <a:lnTo>
                        <a:pt x="696" y="210"/>
                      </a:lnTo>
                      <a:lnTo>
                        <a:pt x="697" y="210"/>
                      </a:lnTo>
                      <a:lnTo>
                        <a:pt x="697" y="209"/>
                      </a:lnTo>
                      <a:lnTo>
                        <a:pt x="699" y="209"/>
                      </a:lnTo>
                      <a:lnTo>
                        <a:pt x="699" y="208"/>
                      </a:lnTo>
                      <a:lnTo>
                        <a:pt x="699" y="207"/>
                      </a:lnTo>
                      <a:lnTo>
                        <a:pt x="700" y="207"/>
                      </a:lnTo>
                      <a:lnTo>
                        <a:pt x="700" y="205"/>
                      </a:lnTo>
                      <a:lnTo>
                        <a:pt x="700" y="204"/>
                      </a:lnTo>
                      <a:lnTo>
                        <a:pt x="700" y="203"/>
                      </a:lnTo>
                      <a:lnTo>
                        <a:pt x="700" y="202"/>
                      </a:lnTo>
                      <a:lnTo>
                        <a:pt x="699" y="202"/>
                      </a:lnTo>
                      <a:lnTo>
                        <a:pt x="699" y="201"/>
                      </a:lnTo>
                      <a:lnTo>
                        <a:pt x="699" y="200"/>
                      </a:lnTo>
                      <a:lnTo>
                        <a:pt x="697" y="200"/>
                      </a:lnTo>
                      <a:lnTo>
                        <a:pt x="697" y="199"/>
                      </a:lnTo>
                      <a:lnTo>
                        <a:pt x="697" y="197"/>
                      </a:lnTo>
                      <a:lnTo>
                        <a:pt x="697" y="196"/>
                      </a:lnTo>
                      <a:lnTo>
                        <a:pt x="697" y="195"/>
                      </a:lnTo>
                      <a:lnTo>
                        <a:pt x="699" y="195"/>
                      </a:lnTo>
                      <a:lnTo>
                        <a:pt x="699" y="194"/>
                      </a:lnTo>
                      <a:lnTo>
                        <a:pt x="703" y="185"/>
                      </a:lnTo>
                      <a:lnTo>
                        <a:pt x="701" y="172"/>
                      </a:lnTo>
                      <a:lnTo>
                        <a:pt x="702" y="172"/>
                      </a:lnTo>
                      <a:lnTo>
                        <a:pt x="703" y="172"/>
                      </a:lnTo>
                      <a:lnTo>
                        <a:pt x="704" y="172"/>
                      </a:lnTo>
                      <a:lnTo>
                        <a:pt x="705" y="172"/>
                      </a:lnTo>
                      <a:lnTo>
                        <a:pt x="705" y="171"/>
                      </a:lnTo>
                      <a:lnTo>
                        <a:pt x="707" y="171"/>
                      </a:lnTo>
                      <a:lnTo>
                        <a:pt x="708" y="171"/>
                      </a:lnTo>
                      <a:lnTo>
                        <a:pt x="709" y="171"/>
                      </a:lnTo>
                      <a:lnTo>
                        <a:pt x="710" y="171"/>
                      </a:lnTo>
                      <a:lnTo>
                        <a:pt x="711" y="171"/>
                      </a:lnTo>
                      <a:lnTo>
                        <a:pt x="712" y="171"/>
                      </a:lnTo>
                      <a:lnTo>
                        <a:pt x="714" y="171"/>
                      </a:lnTo>
                      <a:lnTo>
                        <a:pt x="715" y="171"/>
                      </a:lnTo>
                      <a:lnTo>
                        <a:pt x="715" y="170"/>
                      </a:lnTo>
                      <a:lnTo>
                        <a:pt x="716" y="170"/>
                      </a:lnTo>
                      <a:lnTo>
                        <a:pt x="717" y="170"/>
                      </a:lnTo>
                      <a:lnTo>
                        <a:pt x="717" y="169"/>
                      </a:lnTo>
                      <a:lnTo>
                        <a:pt x="718" y="169"/>
                      </a:lnTo>
                      <a:lnTo>
                        <a:pt x="718" y="167"/>
                      </a:lnTo>
                      <a:lnTo>
                        <a:pt x="719" y="166"/>
                      </a:lnTo>
                      <a:lnTo>
                        <a:pt x="721" y="165"/>
                      </a:lnTo>
                      <a:lnTo>
                        <a:pt x="721" y="164"/>
                      </a:lnTo>
                      <a:lnTo>
                        <a:pt x="721" y="163"/>
                      </a:lnTo>
                      <a:lnTo>
                        <a:pt x="721" y="162"/>
                      </a:lnTo>
                      <a:lnTo>
                        <a:pt x="721" y="160"/>
                      </a:lnTo>
                      <a:lnTo>
                        <a:pt x="721" y="159"/>
                      </a:lnTo>
                      <a:lnTo>
                        <a:pt x="719" y="158"/>
                      </a:lnTo>
                      <a:lnTo>
                        <a:pt x="719" y="157"/>
                      </a:lnTo>
                      <a:lnTo>
                        <a:pt x="719" y="156"/>
                      </a:lnTo>
                      <a:lnTo>
                        <a:pt x="718" y="156"/>
                      </a:lnTo>
                      <a:lnTo>
                        <a:pt x="718" y="155"/>
                      </a:lnTo>
                      <a:lnTo>
                        <a:pt x="716" y="152"/>
                      </a:lnTo>
                      <a:lnTo>
                        <a:pt x="715" y="150"/>
                      </a:lnTo>
                      <a:lnTo>
                        <a:pt x="714" y="148"/>
                      </a:lnTo>
                      <a:lnTo>
                        <a:pt x="712" y="147"/>
                      </a:lnTo>
                      <a:lnTo>
                        <a:pt x="711" y="144"/>
                      </a:lnTo>
                      <a:lnTo>
                        <a:pt x="710" y="142"/>
                      </a:lnTo>
                      <a:lnTo>
                        <a:pt x="709" y="141"/>
                      </a:lnTo>
                      <a:lnTo>
                        <a:pt x="708" y="138"/>
                      </a:lnTo>
                      <a:lnTo>
                        <a:pt x="708" y="137"/>
                      </a:lnTo>
                      <a:lnTo>
                        <a:pt x="707" y="135"/>
                      </a:lnTo>
                      <a:lnTo>
                        <a:pt x="705" y="134"/>
                      </a:lnTo>
                      <a:lnTo>
                        <a:pt x="705" y="133"/>
                      </a:lnTo>
                      <a:lnTo>
                        <a:pt x="704" y="130"/>
                      </a:lnTo>
                      <a:lnTo>
                        <a:pt x="703" y="129"/>
                      </a:lnTo>
                      <a:lnTo>
                        <a:pt x="703" y="128"/>
                      </a:lnTo>
                      <a:lnTo>
                        <a:pt x="702" y="126"/>
                      </a:lnTo>
                      <a:lnTo>
                        <a:pt x="702" y="125"/>
                      </a:lnTo>
                      <a:lnTo>
                        <a:pt x="702" y="123"/>
                      </a:lnTo>
                      <a:lnTo>
                        <a:pt x="701" y="122"/>
                      </a:lnTo>
                      <a:lnTo>
                        <a:pt x="701" y="121"/>
                      </a:lnTo>
                      <a:lnTo>
                        <a:pt x="700" y="120"/>
                      </a:lnTo>
                      <a:lnTo>
                        <a:pt x="700" y="119"/>
                      </a:lnTo>
                      <a:lnTo>
                        <a:pt x="699" y="118"/>
                      </a:lnTo>
                      <a:lnTo>
                        <a:pt x="699" y="117"/>
                      </a:lnTo>
                      <a:lnTo>
                        <a:pt x="697" y="115"/>
                      </a:lnTo>
                      <a:lnTo>
                        <a:pt x="697" y="114"/>
                      </a:lnTo>
                      <a:lnTo>
                        <a:pt x="696" y="113"/>
                      </a:lnTo>
                      <a:lnTo>
                        <a:pt x="696" y="112"/>
                      </a:lnTo>
                      <a:lnTo>
                        <a:pt x="695" y="111"/>
                      </a:lnTo>
                      <a:lnTo>
                        <a:pt x="695" y="110"/>
                      </a:lnTo>
                      <a:lnTo>
                        <a:pt x="694" y="108"/>
                      </a:lnTo>
                      <a:lnTo>
                        <a:pt x="693" y="107"/>
                      </a:lnTo>
                      <a:lnTo>
                        <a:pt x="694" y="106"/>
                      </a:lnTo>
                      <a:lnTo>
                        <a:pt x="695" y="106"/>
                      </a:lnTo>
                      <a:lnTo>
                        <a:pt x="695" y="105"/>
                      </a:lnTo>
                      <a:lnTo>
                        <a:pt x="696" y="104"/>
                      </a:lnTo>
                      <a:lnTo>
                        <a:pt x="697" y="103"/>
                      </a:lnTo>
                      <a:lnTo>
                        <a:pt x="699" y="102"/>
                      </a:lnTo>
                      <a:lnTo>
                        <a:pt x="699" y="100"/>
                      </a:lnTo>
                      <a:lnTo>
                        <a:pt x="700" y="100"/>
                      </a:lnTo>
                      <a:lnTo>
                        <a:pt x="700" y="99"/>
                      </a:lnTo>
                      <a:lnTo>
                        <a:pt x="700" y="98"/>
                      </a:lnTo>
                      <a:lnTo>
                        <a:pt x="701" y="98"/>
                      </a:lnTo>
                      <a:lnTo>
                        <a:pt x="701" y="97"/>
                      </a:lnTo>
                      <a:lnTo>
                        <a:pt x="702" y="96"/>
                      </a:lnTo>
                      <a:lnTo>
                        <a:pt x="702" y="95"/>
                      </a:lnTo>
                      <a:lnTo>
                        <a:pt x="702" y="93"/>
                      </a:lnTo>
                      <a:lnTo>
                        <a:pt x="702" y="92"/>
                      </a:lnTo>
                      <a:lnTo>
                        <a:pt x="702" y="91"/>
                      </a:lnTo>
                      <a:lnTo>
                        <a:pt x="702" y="90"/>
                      </a:lnTo>
                      <a:lnTo>
                        <a:pt x="702" y="89"/>
                      </a:lnTo>
                      <a:lnTo>
                        <a:pt x="702" y="88"/>
                      </a:lnTo>
                      <a:lnTo>
                        <a:pt x="702" y="86"/>
                      </a:lnTo>
                      <a:lnTo>
                        <a:pt x="702" y="85"/>
                      </a:lnTo>
                      <a:lnTo>
                        <a:pt x="701" y="85"/>
                      </a:lnTo>
                      <a:lnTo>
                        <a:pt x="701" y="84"/>
                      </a:lnTo>
                      <a:lnTo>
                        <a:pt x="701" y="83"/>
                      </a:lnTo>
                      <a:lnTo>
                        <a:pt x="701" y="82"/>
                      </a:lnTo>
                      <a:lnTo>
                        <a:pt x="700" y="81"/>
                      </a:lnTo>
                      <a:lnTo>
                        <a:pt x="700" y="80"/>
                      </a:lnTo>
                      <a:lnTo>
                        <a:pt x="700" y="78"/>
                      </a:lnTo>
                      <a:lnTo>
                        <a:pt x="700" y="77"/>
                      </a:lnTo>
                      <a:lnTo>
                        <a:pt x="700" y="76"/>
                      </a:lnTo>
                      <a:lnTo>
                        <a:pt x="700" y="75"/>
                      </a:lnTo>
                      <a:lnTo>
                        <a:pt x="699" y="74"/>
                      </a:lnTo>
                      <a:lnTo>
                        <a:pt x="699" y="73"/>
                      </a:lnTo>
                      <a:lnTo>
                        <a:pt x="699" y="71"/>
                      </a:lnTo>
                      <a:lnTo>
                        <a:pt x="699" y="70"/>
                      </a:lnTo>
                      <a:lnTo>
                        <a:pt x="699" y="69"/>
                      </a:lnTo>
                      <a:lnTo>
                        <a:pt x="699" y="68"/>
                      </a:lnTo>
                      <a:lnTo>
                        <a:pt x="699" y="67"/>
                      </a:lnTo>
                      <a:lnTo>
                        <a:pt x="699" y="66"/>
                      </a:lnTo>
                      <a:lnTo>
                        <a:pt x="697" y="66"/>
                      </a:lnTo>
                      <a:lnTo>
                        <a:pt x="697" y="65"/>
                      </a:lnTo>
                      <a:lnTo>
                        <a:pt x="697" y="63"/>
                      </a:lnTo>
                      <a:lnTo>
                        <a:pt x="697" y="62"/>
                      </a:lnTo>
                      <a:lnTo>
                        <a:pt x="697" y="61"/>
                      </a:lnTo>
                      <a:lnTo>
                        <a:pt x="697" y="60"/>
                      </a:lnTo>
                      <a:lnTo>
                        <a:pt x="696" y="60"/>
                      </a:lnTo>
                      <a:lnTo>
                        <a:pt x="696" y="61"/>
                      </a:lnTo>
                      <a:lnTo>
                        <a:pt x="695" y="61"/>
                      </a:lnTo>
                      <a:lnTo>
                        <a:pt x="694" y="61"/>
                      </a:lnTo>
                      <a:lnTo>
                        <a:pt x="693" y="61"/>
                      </a:lnTo>
                      <a:lnTo>
                        <a:pt x="693" y="62"/>
                      </a:lnTo>
                      <a:lnTo>
                        <a:pt x="692" y="62"/>
                      </a:lnTo>
                      <a:lnTo>
                        <a:pt x="690" y="62"/>
                      </a:lnTo>
                      <a:lnTo>
                        <a:pt x="689" y="62"/>
                      </a:lnTo>
                      <a:lnTo>
                        <a:pt x="688" y="62"/>
                      </a:lnTo>
                      <a:lnTo>
                        <a:pt x="687" y="62"/>
                      </a:lnTo>
                      <a:lnTo>
                        <a:pt x="686" y="62"/>
                      </a:lnTo>
                      <a:lnTo>
                        <a:pt x="685" y="62"/>
                      </a:lnTo>
                      <a:lnTo>
                        <a:pt x="684" y="62"/>
                      </a:lnTo>
                      <a:lnTo>
                        <a:pt x="682" y="62"/>
                      </a:lnTo>
                      <a:lnTo>
                        <a:pt x="681" y="62"/>
                      </a:lnTo>
                      <a:lnTo>
                        <a:pt x="681" y="61"/>
                      </a:lnTo>
                      <a:lnTo>
                        <a:pt x="682" y="61"/>
                      </a:lnTo>
                      <a:lnTo>
                        <a:pt x="684" y="61"/>
                      </a:lnTo>
                      <a:lnTo>
                        <a:pt x="685" y="61"/>
                      </a:lnTo>
                      <a:lnTo>
                        <a:pt x="686" y="60"/>
                      </a:lnTo>
                      <a:lnTo>
                        <a:pt x="687" y="60"/>
                      </a:lnTo>
                      <a:lnTo>
                        <a:pt x="687" y="59"/>
                      </a:lnTo>
                      <a:lnTo>
                        <a:pt x="688" y="59"/>
                      </a:lnTo>
                      <a:lnTo>
                        <a:pt x="689" y="59"/>
                      </a:lnTo>
                      <a:lnTo>
                        <a:pt x="689" y="58"/>
                      </a:lnTo>
                      <a:lnTo>
                        <a:pt x="690" y="58"/>
                      </a:lnTo>
                      <a:lnTo>
                        <a:pt x="692" y="56"/>
                      </a:lnTo>
                      <a:lnTo>
                        <a:pt x="692" y="55"/>
                      </a:lnTo>
                      <a:lnTo>
                        <a:pt x="693" y="55"/>
                      </a:lnTo>
                      <a:lnTo>
                        <a:pt x="693" y="54"/>
                      </a:lnTo>
                      <a:lnTo>
                        <a:pt x="694" y="53"/>
                      </a:lnTo>
                      <a:lnTo>
                        <a:pt x="694" y="52"/>
                      </a:lnTo>
                      <a:lnTo>
                        <a:pt x="695" y="51"/>
                      </a:lnTo>
                      <a:lnTo>
                        <a:pt x="695" y="50"/>
                      </a:lnTo>
                      <a:lnTo>
                        <a:pt x="695" y="48"/>
                      </a:lnTo>
                      <a:lnTo>
                        <a:pt x="696" y="47"/>
                      </a:lnTo>
                      <a:lnTo>
                        <a:pt x="696" y="46"/>
                      </a:lnTo>
                      <a:lnTo>
                        <a:pt x="696" y="45"/>
                      </a:lnTo>
                      <a:lnTo>
                        <a:pt x="695" y="44"/>
                      </a:lnTo>
                      <a:lnTo>
                        <a:pt x="695" y="43"/>
                      </a:lnTo>
                      <a:lnTo>
                        <a:pt x="695" y="41"/>
                      </a:lnTo>
                      <a:lnTo>
                        <a:pt x="694" y="41"/>
                      </a:lnTo>
                      <a:lnTo>
                        <a:pt x="694" y="40"/>
                      </a:lnTo>
                      <a:lnTo>
                        <a:pt x="693" y="39"/>
                      </a:lnTo>
                      <a:lnTo>
                        <a:pt x="693" y="38"/>
                      </a:lnTo>
                      <a:lnTo>
                        <a:pt x="693" y="37"/>
                      </a:lnTo>
                      <a:lnTo>
                        <a:pt x="692" y="37"/>
                      </a:lnTo>
                      <a:lnTo>
                        <a:pt x="692" y="36"/>
                      </a:lnTo>
                      <a:lnTo>
                        <a:pt x="690" y="35"/>
                      </a:lnTo>
                      <a:lnTo>
                        <a:pt x="690" y="33"/>
                      </a:lnTo>
                      <a:lnTo>
                        <a:pt x="689" y="32"/>
                      </a:lnTo>
                      <a:lnTo>
                        <a:pt x="689" y="31"/>
                      </a:lnTo>
                      <a:lnTo>
                        <a:pt x="688" y="30"/>
                      </a:lnTo>
                      <a:lnTo>
                        <a:pt x="687" y="29"/>
                      </a:lnTo>
                      <a:lnTo>
                        <a:pt x="687" y="28"/>
                      </a:lnTo>
                      <a:lnTo>
                        <a:pt x="686" y="26"/>
                      </a:lnTo>
                      <a:lnTo>
                        <a:pt x="686" y="25"/>
                      </a:lnTo>
                      <a:lnTo>
                        <a:pt x="685" y="25"/>
                      </a:lnTo>
                      <a:lnTo>
                        <a:pt x="685" y="24"/>
                      </a:lnTo>
                      <a:lnTo>
                        <a:pt x="684" y="23"/>
                      </a:lnTo>
                      <a:lnTo>
                        <a:pt x="682" y="22"/>
                      </a:lnTo>
                      <a:lnTo>
                        <a:pt x="682" y="23"/>
                      </a:lnTo>
                      <a:lnTo>
                        <a:pt x="681" y="23"/>
                      </a:lnTo>
                      <a:lnTo>
                        <a:pt x="681" y="24"/>
                      </a:lnTo>
                      <a:lnTo>
                        <a:pt x="681" y="25"/>
                      </a:lnTo>
                      <a:lnTo>
                        <a:pt x="680" y="26"/>
                      </a:lnTo>
                      <a:lnTo>
                        <a:pt x="680" y="28"/>
                      </a:lnTo>
                      <a:lnTo>
                        <a:pt x="679" y="29"/>
                      </a:lnTo>
                      <a:lnTo>
                        <a:pt x="679" y="30"/>
                      </a:lnTo>
                      <a:lnTo>
                        <a:pt x="678" y="30"/>
                      </a:lnTo>
                      <a:lnTo>
                        <a:pt x="678" y="31"/>
                      </a:lnTo>
                      <a:lnTo>
                        <a:pt x="677" y="32"/>
                      </a:lnTo>
                      <a:lnTo>
                        <a:pt x="677" y="33"/>
                      </a:lnTo>
                      <a:lnTo>
                        <a:pt x="675" y="33"/>
                      </a:lnTo>
                      <a:lnTo>
                        <a:pt x="675" y="35"/>
                      </a:lnTo>
                      <a:lnTo>
                        <a:pt x="674" y="36"/>
                      </a:lnTo>
                      <a:lnTo>
                        <a:pt x="673" y="37"/>
                      </a:lnTo>
                      <a:lnTo>
                        <a:pt x="672" y="38"/>
                      </a:lnTo>
                      <a:lnTo>
                        <a:pt x="671" y="38"/>
                      </a:lnTo>
                      <a:lnTo>
                        <a:pt x="671" y="39"/>
                      </a:lnTo>
                      <a:lnTo>
                        <a:pt x="670" y="39"/>
                      </a:lnTo>
                      <a:lnTo>
                        <a:pt x="670" y="40"/>
                      </a:lnTo>
                      <a:lnTo>
                        <a:pt x="669" y="40"/>
                      </a:lnTo>
                      <a:lnTo>
                        <a:pt x="667" y="41"/>
                      </a:lnTo>
                      <a:lnTo>
                        <a:pt x="667" y="43"/>
                      </a:lnTo>
                      <a:lnTo>
                        <a:pt x="667" y="44"/>
                      </a:lnTo>
                      <a:lnTo>
                        <a:pt x="669" y="44"/>
                      </a:lnTo>
                      <a:lnTo>
                        <a:pt x="669" y="45"/>
                      </a:lnTo>
                      <a:lnTo>
                        <a:pt x="669" y="46"/>
                      </a:lnTo>
                      <a:lnTo>
                        <a:pt x="669" y="47"/>
                      </a:lnTo>
                      <a:lnTo>
                        <a:pt x="669" y="48"/>
                      </a:lnTo>
                      <a:lnTo>
                        <a:pt x="669" y="50"/>
                      </a:lnTo>
                      <a:lnTo>
                        <a:pt x="669" y="51"/>
                      </a:lnTo>
                      <a:lnTo>
                        <a:pt x="670" y="51"/>
                      </a:lnTo>
                      <a:lnTo>
                        <a:pt x="670" y="52"/>
                      </a:lnTo>
                      <a:lnTo>
                        <a:pt x="670" y="53"/>
                      </a:lnTo>
                      <a:lnTo>
                        <a:pt x="670" y="54"/>
                      </a:lnTo>
                      <a:lnTo>
                        <a:pt x="670" y="55"/>
                      </a:lnTo>
                      <a:lnTo>
                        <a:pt x="670" y="56"/>
                      </a:lnTo>
                      <a:lnTo>
                        <a:pt x="670" y="58"/>
                      </a:lnTo>
                      <a:lnTo>
                        <a:pt x="670" y="59"/>
                      </a:lnTo>
                      <a:lnTo>
                        <a:pt x="670" y="60"/>
                      </a:lnTo>
                      <a:lnTo>
                        <a:pt x="669" y="61"/>
                      </a:lnTo>
                      <a:lnTo>
                        <a:pt x="669" y="62"/>
                      </a:lnTo>
                      <a:lnTo>
                        <a:pt x="669" y="63"/>
                      </a:lnTo>
                      <a:lnTo>
                        <a:pt x="669" y="65"/>
                      </a:lnTo>
                      <a:lnTo>
                        <a:pt x="669" y="66"/>
                      </a:lnTo>
                      <a:lnTo>
                        <a:pt x="667" y="66"/>
                      </a:lnTo>
                      <a:lnTo>
                        <a:pt x="667" y="67"/>
                      </a:lnTo>
                      <a:lnTo>
                        <a:pt x="666" y="68"/>
                      </a:lnTo>
                      <a:lnTo>
                        <a:pt x="666" y="69"/>
                      </a:lnTo>
                      <a:lnTo>
                        <a:pt x="666" y="70"/>
                      </a:lnTo>
                      <a:lnTo>
                        <a:pt x="665" y="71"/>
                      </a:lnTo>
                      <a:lnTo>
                        <a:pt x="663" y="75"/>
                      </a:lnTo>
                      <a:lnTo>
                        <a:pt x="660" y="77"/>
                      </a:lnTo>
                      <a:lnTo>
                        <a:pt x="657" y="80"/>
                      </a:lnTo>
                      <a:lnTo>
                        <a:pt x="655" y="83"/>
                      </a:lnTo>
                      <a:lnTo>
                        <a:pt x="652" y="85"/>
                      </a:lnTo>
                      <a:lnTo>
                        <a:pt x="650" y="88"/>
                      </a:lnTo>
                      <a:lnTo>
                        <a:pt x="647" y="90"/>
                      </a:lnTo>
                      <a:lnTo>
                        <a:pt x="644" y="92"/>
                      </a:lnTo>
                      <a:lnTo>
                        <a:pt x="642" y="95"/>
                      </a:lnTo>
                      <a:lnTo>
                        <a:pt x="638" y="97"/>
                      </a:lnTo>
                      <a:lnTo>
                        <a:pt x="636" y="99"/>
                      </a:lnTo>
                      <a:lnTo>
                        <a:pt x="633" y="102"/>
                      </a:lnTo>
                      <a:lnTo>
                        <a:pt x="630" y="103"/>
                      </a:lnTo>
                      <a:lnTo>
                        <a:pt x="628" y="105"/>
                      </a:lnTo>
                      <a:lnTo>
                        <a:pt x="625" y="107"/>
                      </a:lnTo>
                      <a:lnTo>
                        <a:pt x="622" y="110"/>
                      </a:lnTo>
                      <a:lnTo>
                        <a:pt x="619" y="112"/>
                      </a:lnTo>
                      <a:lnTo>
                        <a:pt x="617" y="114"/>
                      </a:lnTo>
                      <a:lnTo>
                        <a:pt x="614" y="117"/>
                      </a:lnTo>
                      <a:lnTo>
                        <a:pt x="612" y="118"/>
                      </a:lnTo>
                      <a:lnTo>
                        <a:pt x="608" y="120"/>
                      </a:lnTo>
                      <a:lnTo>
                        <a:pt x="606" y="122"/>
                      </a:lnTo>
                      <a:lnTo>
                        <a:pt x="604" y="125"/>
                      </a:lnTo>
                      <a:lnTo>
                        <a:pt x="602" y="127"/>
                      </a:lnTo>
                      <a:lnTo>
                        <a:pt x="599" y="129"/>
                      </a:lnTo>
                      <a:lnTo>
                        <a:pt x="597" y="132"/>
                      </a:lnTo>
                      <a:lnTo>
                        <a:pt x="595" y="134"/>
                      </a:lnTo>
                      <a:lnTo>
                        <a:pt x="592" y="137"/>
                      </a:lnTo>
                      <a:lnTo>
                        <a:pt x="591" y="140"/>
                      </a:lnTo>
                      <a:lnTo>
                        <a:pt x="589" y="142"/>
                      </a:lnTo>
                      <a:lnTo>
                        <a:pt x="586" y="145"/>
                      </a:lnTo>
                      <a:lnTo>
                        <a:pt x="585" y="148"/>
                      </a:lnTo>
                      <a:lnTo>
                        <a:pt x="581" y="153"/>
                      </a:lnTo>
                      <a:lnTo>
                        <a:pt x="555" y="153"/>
                      </a:lnTo>
                      <a:lnTo>
                        <a:pt x="554" y="150"/>
                      </a:lnTo>
                      <a:lnTo>
                        <a:pt x="553" y="147"/>
                      </a:lnTo>
                      <a:lnTo>
                        <a:pt x="552" y="144"/>
                      </a:lnTo>
                      <a:lnTo>
                        <a:pt x="550" y="142"/>
                      </a:lnTo>
                      <a:lnTo>
                        <a:pt x="547" y="140"/>
                      </a:lnTo>
                      <a:lnTo>
                        <a:pt x="545" y="138"/>
                      </a:lnTo>
                      <a:lnTo>
                        <a:pt x="543" y="137"/>
                      </a:lnTo>
                      <a:lnTo>
                        <a:pt x="540" y="136"/>
                      </a:lnTo>
                      <a:lnTo>
                        <a:pt x="538" y="135"/>
                      </a:lnTo>
                      <a:lnTo>
                        <a:pt x="536" y="134"/>
                      </a:lnTo>
                      <a:lnTo>
                        <a:pt x="532" y="134"/>
                      </a:lnTo>
                      <a:lnTo>
                        <a:pt x="530" y="134"/>
                      </a:lnTo>
                      <a:lnTo>
                        <a:pt x="528" y="134"/>
                      </a:lnTo>
                      <a:lnTo>
                        <a:pt x="524" y="134"/>
                      </a:lnTo>
                      <a:lnTo>
                        <a:pt x="522" y="135"/>
                      </a:lnTo>
                      <a:lnTo>
                        <a:pt x="519" y="136"/>
                      </a:lnTo>
                      <a:lnTo>
                        <a:pt x="517" y="137"/>
                      </a:lnTo>
                      <a:lnTo>
                        <a:pt x="515" y="138"/>
                      </a:lnTo>
                      <a:lnTo>
                        <a:pt x="513" y="140"/>
                      </a:lnTo>
                      <a:lnTo>
                        <a:pt x="510" y="141"/>
                      </a:lnTo>
                      <a:lnTo>
                        <a:pt x="509" y="143"/>
                      </a:lnTo>
                      <a:lnTo>
                        <a:pt x="507" y="145"/>
                      </a:lnTo>
                      <a:lnTo>
                        <a:pt x="506" y="148"/>
                      </a:lnTo>
                      <a:lnTo>
                        <a:pt x="506" y="150"/>
                      </a:lnTo>
                      <a:lnTo>
                        <a:pt x="504" y="152"/>
                      </a:lnTo>
                      <a:lnTo>
                        <a:pt x="504" y="155"/>
                      </a:lnTo>
                      <a:lnTo>
                        <a:pt x="504" y="158"/>
                      </a:lnTo>
                      <a:lnTo>
                        <a:pt x="506" y="160"/>
                      </a:lnTo>
                      <a:lnTo>
                        <a:pt x="507" y="164"/>
                      </a:lnTo>
                      <a:lnTo>
                        <a:pt x="508" y="167"/>
                      </a:lnTo>
                      <a:lnTo>
                        <a:pt x="510" y="170"/>
                      </a:lnTo>
                      <a:lnTo>
                        <a:pt x="513" y="173"/>
                      </a:lnTo>
                      <a:lnTo>
                        <a:pt x="513" y="215"/>
                      </a:lnTo>
                      <a:lnTo>
                        <a:pt x="515" y="217"/>
                      </a:lnTo>
                      <a:lnTo>
                        <a:pt x="516" y="218"/>
                      </a:lnTo>
                      <a:lnTo>
                        <a:pt x="518" y="220"/>
                      </a:lnTo>
                      <a:lnTo>
                        <a:pt x="519" y="223"/>
                      </a:lnTo>
                      <a:lnTo>
                        <a:pt x="522" y="224"/>
                      </a:lnTo>
                      <a:lnTo>
                        <a:pt x="523" y="226"/>
                      </a:lnTo>
                      <a:lnTo>
                        <a:pt x="525" y="229"/>
                      </a:lnTo>
                      <a:lnTo>
                        <a:pt x="528" y="231"/>
                      </a:lnTo>
                      <a:lnTo>
                        <a:pt x="530" y="232"/>
                      </a:lnTo>
                      <a:lnTo>
                        <a:pt x="532" y="234"/>
                      </a:lnTo>
                      <a:lnTo>
                        <a:pt x="533" y="237"/>
                      </a:lnTo>
                      <a:lnTo>
                        <a:pt x="536" y="238"/>
                      </a:lnTo>
                      <a:lnTo>
                        <a:pt x="538" y="240"/>
                      </a:lnTo>
                      <a:lnTo>
                        <a:pt x="540" y="242"/>
                      </a:lnTo>
                      <a:lnTo>
                        <a:pt x="543" y="244"/>
                      </a:lnTo>
                      <a:lnTo>
                        <a:pt x="545" y="246"/>
                      </a:lnTo>
                      <a:lnTo>
                        <a:pt x="547" y="248"/>
                      </a:lnTo>
                      <a:lnTo>
                        <a:pt x="550" y="249"/>
                      </a:lnTo>
                      <a:lnTo>
                        <a:pt x="551" y="252"/>
                      </a:lnTo>
                      <a:lnTo>
                        <a:pt x="553" y="254"/>
                      </a:lnTo>
                      <a:lnTo>
                        <a:pt x="555" y="255"/>
                      </a:lnTo>
                      <a:lnTo>
                        <a:pt x="558" y="257"/>
                      </a:lnTo>
                      <a:lnTo>
                        <a:pt x="560" y="260"/>
                      </a:lnTo>
                      <a:lnTo>
                        <a:pt x="562" y="261"/>
                      </a:lnTo>
                      <a:lnTo>
                        <a:pt x="563" y="263"/>
                      </a:lnTo>
                      <a:lnTo>
                        <a:pt x="566" y="266"/>
                      </a:lnTo>
                      <a:lnTo>
                        <a:pt x="568" y="267"/>
                      </a:lnTo>
                      <a:lnTo>
                        <a:pt x="569" y="269"/>
                      </a:lnTo>
                      <a:lnTo>
                        <a:pt x="571" y="271"/>
                      </a:lnTo>
                      <a:lnTo>
                        <a:pt x="574" y="272"/>
                      </a:lnTo>
                      <a:lnTo>
                        <a:pt x="575" y="275"/>
                      </a:lnTo>
                      <a:lnTo>
                        <a:pt x="576" y="277"/>
                      </a:lnTo>
                      <a:lnTo>
                        <a:pt x="607" y="241"/>
                      </a:lnTo>
                      <a:lnTo>
                        <a:pt x="608" y="241"/>
                      </a:lnTo>
                      <a:lnTo>
                        <a:pt x="611" y="241"/>
                      </a:lnTo>
                      <a:lnTo>
                        <a:pt x="613" y="241"/>
                      </a:lnTo>
                      <a:lnTo>
                        <a:pt x="615" y="241"/>
                      </a:lnTo>
                      <a:lnTo>
                        <a:pt x="618" y="241"/>
                      </a:lnTo>
                      <a:lnTo>
                        <a:pt x="619" y="241"/>
                      </a:lnTo>
                      <a:lnTo>
                        <a:pt x="621" y="241"/>
                      </a:lnTo>
                      <a:lnTo>
                        <a:pt x="623" y="241"/>
                      </a:lnTo>
                      <a:lnTo>
                        <a:pt x="626" y="241"/>
                      </a:lnTo>
                      <a:lnTo>
                        <a:pt x="628" y="241"/>
                      </a:lnTo>
                      <a:lnTo>
                        <a:pt x="630" y="242"/>
                      </a:lnTo>
                      <a:lnTo>
                        <a:pt x="633" y="242"/>
                      </a:lnTo>
                      <a:lnTo>
                        <a:pt x="635" y="242"/>
                      </a:lnTo>
                      <a:lnTo>
                        <a:pt x="637" y="242"/>
                      </a:lnTo>
                      <a:lnTo>
                        <a:pt x="640" y="242"/>
                      </a:lnTo>
                      <a:lnTo>
                        <a:pt x="642" y="242"/>
                      </a:lnTo>
                      <a:lnTo>
                        <a:pt x="643" y="244"/>
                      </a:lnTo>
                      <a:lnTo>
                        <a:pt x="645" y="244"/>
                      </a:lnTo>
                      <a:lnTo>
                        <a:pt x="648" y="244"/>
                      </a:lnTo>
                      <a:lnTo>
                        <a:pt x="650" y="244"/>
                      </a:lnTo>
                      <a:lnTo>
                        <a:pt x="652" y="244"/>
                      </a:lnTo>
                      <a:lnTo>
                        <a:pt x="655" y="244"/>
                      </a:lnTo>
                      <a:lnTo>
                        <a:pt x="656" y="244"/>
                      </a:lnTo>
                      <a:lnTo>
                        <a:pt x="658" y="244"/>
                      </a:lnTo>
                      <a:lnTo>
                        <a:pt x="660" y="244"/>
                      </a:lnTo>
                      <a:lnTo>
                        <a:pt x="662" y="244"/>
                      </a:lnTo>
                      <a:lnTo>
                        <a:pt x="664" y="244"/>
                      </a:lnTo>
                      <a:lnTo>
                        <a:pt x="665" y="244"/>
                      </a:lnTo>
                      <a:lnTo>
                        <a:pt x="667" y="244"/>
                      </a:lnTo>
                      <a:lnTo>
                        <a:pt x="669" y="244"/>
                      </a:lnTo>
                      <a:lnTo>
                        <a:pt x="671" y="244"/>
                      </a:lnTo>
                      <a:lnTo>
                        <a:pt x="672" y="244"/>
                      </a:lnTo>
                      <a:close/>
                      <a:moveTo>
                        <a:pt x="234" y="285"/>
                      </a:moveTo>
                      <a:lnTo>
                        <a:pt x="236" y="285"/>
                      </a:lnTo>
                      <a:lnTo>
                        <a:pt x="238" y="285"/>
                      </a:lnTo>
                      <a:lnTo>
                        <a:pt x="240" y="284"/>
                      </a:lnTo>
                      <a:lnTo>
                        <a:pt x="241" y="284"/>
                      </a:lnTo>
                      <a:lnTo>
                        <a:pt x="242" y="284"/>
                      </a:lnTo>
                      <a:lnTo>
                        <a:pt x="244" y="283"/>
                      </a:lnTo>
                      <a:lnTo>
                        <a:pt x="246" y="283"/>
                      </a:lnTo>
                      <a:lnTo>
                        <a:pt x="247" y="282"/>
                      </a:lnTo>
                      <a:lnTo>
                        <a:pt x="249" y="281"/>
                      </a:lnTo>
                      <a:lnTo>
                        <a:pt x="250" y="279"/>
                      </a:lnTo>
                      <a:lnTo>
                        <a:pt x="251" y="278"/>
                      </a:lnTo>
                      <a:lnTo>
                        <a:pt x="253" y="277"/>
                      </a:lnTo>
                      <a:lnTo>
                        <a:pt x="254" y="276"/>
                      </a:lnTo>
                      <a:lnTo>
                        <a:pt x="255" y="275"/>
                      </a:lnTo>
                      <a:lnTo>
                        <a:pt x="256" y="274"/>
                      </a:lnTo>
                      <a:lnTo>
                        <a:pt x="257" y="272"/>
                      </a:lnTo>
                      <a:lnTo>
                        <a:pt x="258" y="270"/>
                      </a:lnTo>
                      <a:lnTo>
                        <a:pt x="258" y="269"/>
                      </a:lnTo>
                      <a:lnTo>
                        <a:pt x="259" y="267"/>
                      </a:lnTo>
                      <a:lnTo>
                        <a:pt x="259" y="266"/>
                      </a:lnTo>
                      <a:lnTo>
                        <a:pt x="261" y="263"/>
                      </a:lnTo>
                      <a:lnTo>
                        <a:pt x="261" y="262"/>
                      </a:lnTo>
                      <a:lnTo>
                        <a:pt x="261" y="260"/>
                      </a:lnTo>
                      <a:lnTo>
                        <a:pt x="259" y="257"/>
                      </a:lnTo>
                      <a:lnTo>
                        <a:pt x="259" y="255"/>
                      </a:lnTo>
                      <a:lnTo>
                        <a:pt x="259" y="254"/>
                      </a:lnTo>
                      <a:lnTo>
                        <a:pt x="258" y="252"/>
                      </a:lnTo>
                      <a:lnTo>
                        <a:pt x="257" y="249"/>
                      </a:lnTo>
                      <a:lnTo>
                        <a:pt x="256" y="247"/>
                      </a:lnTo>
                      <a:lnTo>
                        <a:pt x="254" y="245"/>
                      </a:lnTo>
                      <a:lnTo>
                        <a:pt x="253" y="241"/>
                      </a:lnTo>
                      <a:lnTo>
                        <a:pt x="250" y="239"/>
                      </a:lnTo>
                      <a:lnTo>
                        <a:pt x="251" y="238"/>
                      </a:lnTo>
                      <a:lnTo>
                        <a:pt x="253" y="237"/>
                      </a:lnTo>
                      <a:lnTo>
                        <a:pt x="253" y="236"/>
                      </a:lnTo>
                      <a:lnTo>
                        <a:pt x="254" y="234"/>
                      </a:lnTo>
                      <a:lnTo>
                        <a:pt x="255" y="233"/>
                      </a:lnTo>
                      <a:lnTo>
                        <a:pt x="255" y="232"/>
                      </a:lnTo>
                      <a:lnTo>
                        <a:pt x="256" y="232"/>
                      </a:lnTo>
                      <a:lnTo>
                        <a:pt x="256" y="231"/>
                      </a:lnTo>
                      <a:lnTo>
                        <a:pt x="257" y="231"/>
                      </a:lnTo>
                      <a:lnTo>
                        <a:pt x="257" y="230"/>
                      </a:lnTo>
                      <a:lnTo>
                        <a:pt x="258" y="229"/>
                      </a:lnTo>
                      <a:lnTo>
                        <a:pt x="259" y="227"/>
                      </a:lnTo>
                      <a:lnTo>
                        <a:pt x="261" y="226"/>
                      </a:lnTo>
                      <a:lnTo>
                        <a:pt x="262" y="225"/>
                      </a:lnTo>
                      <a:lnTo>
                        <a:pt x="262" y="224"/>
                      </a:lnTo>
                      <a:lnTo>
                        <a:pt x="263" y="224"/>
                      </a:lnTo>
                      <a:lnTo>
                        <a:pt x="263" y="223"/>
                      </a:lnTo>
                      <a:lnTo>
                        <a:pt x="264" y="223"/>
                      </a:lnTo>
                      <a:lnTo>
                        <a:pt x="264" y="222"/>
                      </a:lnTo>
                      <a:lnTo>
                        <a:pt x="264" y="220"/>
                      </a:lnTo>
                      <a:lnTo>
                        <a:pt x="264" y="219"/>
                      </a:lnTo>
                      <a:lnTo>
                        <a:pt x="264" y="218"/>
                      </a:lnTo>
                      <a:lnTo>
                        <a:pt x="263" y="217"/>
                      </a:lnTo>
                      <a:lnTo>
                        <a:pt x="263" y="216"/>
                      </a:lnTo>
                      <a:lnTo>
                        <a:pt x="262" y="215"/>
                      </a:lnTo>
                      <a:lnTo>
                        <a:pt x="261" y="214"/>
                      </a:lnTo>
                      <a:lnTo>
                        <a:pt x="259" y="214"/>
                      </a:lnTo>
                      <a:lnTo>
                        <a:pt x="259" y="212"/>
                      </a:lnTo>
                      <a:lnTo>
                        <a:pt x="258" y="212"/>
                      </a:lnTo>
                      <a:lnTo>
                        <a:pt x="257" y="212"/>
                      </a:lnTo>
                      <a:lnTo>
                        <a:pt x="257" y="211"/>
                      </a:lnTo>
                      <a:lnTo>
                        <a:pt x="256" y="211"/>
                      </a:lnTo>
                      <a:lnTo>
                        <a:pt x="255" y="211"/>
                      </a:lnTo>
                      <a:lnTo>
                        <a:pt x="254" y="211"/>
                      </a:lnTo>
                      <a:lnTo>
                        <a:pt x="253" y="211"/>
                      </a:lnTo>
                      <a:lnTo>
                        <a:pt x="253" y="210"/>
                      </a:lnTo>
                      <a:lnTo>
                        <a:pt x="251" y="210"/>
                      </a:lnTo>
                      <a:lnTo>
                        <a:pt x="250" y="210"/>
                      </a:lnTo>
                      <a:lnTo>
                        <a:pt x="249" y="209"/>
                      </a:lnTo>
                      <a:lnTo>
                        <a:pt x="249" y="208"/>
                      </a:lnTo>
                      <a:lnTo>
                        <a:pt x="250" y="207"/>
                      </a:lnTo>
                      <a:lnTo>
                        <a:pt x="251" y="205"/>
                      </a:lnTo>
                      <a:lnTo>
                        <a:pt x="253" y="205"/>
                      </a:lnTo>
                      <a:lnTo>
                        <a:pt x="254" y="204"/>
                      </a:lnTo>
                      <a:lnTo>
                        <a:pt x="255" y="203"/>
                      </a:lnTo>
                      <a:lnTo>
                        <a:pt x="256" y="203"/>
                      </a:lnTo>
                      <a:lnTo>
                        <a:pt x="257" y="203"/>
                      </a:lnTo>
                      <a:lnTo>
                        <a:pt x="258" y="203"/>
                      </a:lnTo>
                      <a:lnTo>
                        <a:pt x="258" y="202"/>
                      </a:lnTo>
                      <a:lnTo>
                        <a:pt x="259" y="202"/>
                      </a:lnTo>
                      <a:lnTo>
                        <a:pt x="261" y="202"/>
                      </a:lnTo>
                      <a:lnTo>
                        <a:pt x="262" y="202"/>
                      </a:lnTo>
                      <a:lnTo>
                        <a:pt x="263" y="202"/>
                      </a:lnTo>
                      <a:lnTo>
                        <a:pt x="264" y="201"/>
                      </a:lnTo>
                      <a:lnTo>
                        <a:pt x="265" y="201"/>
                      </a:lnTo>
                      <a:lnTo>
                        <a:pt x="266" y="201"/>
                      </a:lnTo>
                      <a:lnTo>
                        <a:pt x="268" y="201"/>
                      </a:lnTo>
                      <a:lnTo>
                        <a:pt x="269" y="201"/>
                      </a:lnTo>
                      <a:lnTo>
                        <a:pt x="270" y="200"/>
                      </a:lnTo>
                      <a:lnTo>
                        <a:pt x="271" y="200"/>
                      </a:lnTo>
                      <a:lnTo>
                        <a:pt x="272" y="200"/>
                      </a:lnTo>
                      <a:lnTo>
                        <a:pt x="273" y="199"/>
                      </a:lnTo>
                      <a:lnTo>
                        <a:pt x="275" y="199"/>
                      </a:lnTo>
                      <a:lnTo>
                        <a:pt x="276" y="197"/>
                      </a:lnTo>
                      <a:lnTo>
                        <a:pt x="276" y="196"/>
                      </a:lnTo>
                      <a:lnTo>
                        <a:pt x="277" y="196"/>
                      </a:lnTo>
                      <a:lnTo>
                        <a:pt x="277" y="195"/>
                      </a:lnTo>
                      <a:lnTo>
                        <a:pt x="278" y="194"/>
                      </a:lnTo>
                      <a:lnTo>
                        <a:pt x="278" y="193"/>
                      </a:lnTo>
                      <a:lnTo>
                        <a:pt x="278" y="192"/>
                      </a:lnTo>
                      <a:lnTo>
                        <a:pt x="278" y="190"/>
                      </a:lnTo>
                      <a:lnTo>
                        <a:pt x="278" y="189"/>
                      </a:lnTo>
                      <a:lnTo>
                        <a:pt x="278" y="188"/>
                      </a:lnTo>
                      <a:lnTo>
                        <a:pt x="278" y="187"/>
                      </a:lnTo>
                      <a:lnTo>
                        <a:pt x="278" y="186"/>
                      </a:lnTo>
                      <a:lnTo>
                        <a:pt x="278" y="185"/>
                      </a:lnTo>
                      <a:lnTo>
                        <a:pt x="278" y="184"/>
                      </a:lnTo>
                      <a:lnTo>
                        <a:pt x="278" y="182"/>
                      </a:lnTo>
                      <a:lnTo>
                        <a:pt x="278" y="181"/>
                      </a:lnTo>
                      <a:lnTo>
                        <a:pt x="278" y="180"/>
                      </a:lnTo>
                      <a:lnTo>
                        <a:pt x="278" y="179"/>
                      </a:lnTo>
                      <a:lnTo>
                        <a:pt x="278" y="178"/>
                      </a:lnTo>
                      <a:lnTo>
                        <a:pt x="278" y="177"/>
                      </a:lnTo>
                      <a:lnTo>
                        <a:pt x="278" y="175"/>
                      </a:lnTo>
                      <a:lnTo>
                        <a:pt x="278" y="174"/>
                      </a:lnTo>
                      <a:lnTo>
                        <a:pt x="278" y="173"/>
                      </a:lnTo>
                      <a:lnTo>
                        <a:pt x="279" y="173"/>
                      </a:lnTo>
                      <a:lnTo>
                        <a:pt x="280" y="173"/>
                      </a:lnTo>
                      <a:lnTo>
                        <a:pt x="281" y="173"/>
                      </a:lnTo>
                      <a:lnTo>
                        <a:pt x="283" y="173"/>
                      </a:lnTo>
                      <a:lnTo>
                        <a:pt x="284" y="172"/>
                      </a:lnTo>
                      <a:lnTo>
                        <a:pt x="285" y="172"/>
                      </a:lnTo>
                      <a:lnTo>
                        <a:pt x="286" y="172"/>
                      </a:lnTo>
                      <a:lnTo>
                        <a:pt x="287" y="172"/>
                      </a:lnTo>
                      <a:lnTo>
                        <a:pt x="288" y="172"/>
                      </a:lnTo>
                      <a:lnTo>
                        <a:pt x="290" y="171"/>
                      </a:lnTo>
                      <a:lnTo>
                        <a:pt x="291" y="171"/>
                      </a:lnTo>
                      <a:lnTo>
                        <a:pt x="292" y="171"/>
                      </a:lnTo>
                      <a:lnTo>
                        <a:pt x="293" y="171"/>
                      </a:lnTo>
                      <a:lnTo>
                        <a:pt x="294" y="170"/>
                      </a:lnTo>
                      <a:lnTo>
                        <a:pt x="295" y="170"/>
                      </a:lnTo>
                      <a:lnTo>
                        <a:pt x="296" y="170"/>
                      </a:lnTo>
                      <a:lnTo>
                        <a:pt x="298" y="170"/>
                      </a:lnTo>
                      <a:lnTo>
                        <a:pt x="299" y="170"/>
                      </a:lnTo>
                      <a:lnTo>
                        <a:pt x="300" y="169"/>
                      </a:lnTo>
                      <a:lnTo>
                        <a:pt x="301" y="169"/>
                      </a:lnTo>
                      <a:lnTo>
                        <a:pt x="302" y="169"/>
                      </a:lnTo>
                      <a:lnTo>
                        <a:pt x="303" y="169"/>
                      </a:lnTo>
                      <a:lnTo>
                        <a:pt x="305" y="169"/>
                      </a:lnTo>
                      <a:lnTo>
                        <a:pt x="306" y="169"/>
                      </a:lnTo>
                      <a:lnTo>
                        <a:pt x="307" y="169"/>
                      </a:lnTo>
                      <a:lnTo>
                        <a:pt x="307" y="167"/>
                      </a:lnTo>
                      <a:lnTo>
                        <a:pt x="308" y="167"/>
                      </a:lnTo>
                      <a:lnTo>
                        <a:pt x="309" y="167"/>
                      </a:lnTo>
                      <a:lnTo>
                        <a:pt x="310" y="167"/>
                      </a:lnTo>
                      <a:lnTo>
                        <a:pt x="310" y="166"/>
                      </a:lnTo>
                      <a:lnTo>
                        <a:pt x="311" y="166"/>
                      </a:lnTo>
                      <a:lnTo>
                        <a:pt x="313" y="165"/>
                      </a:lnTo>
                      <a:lnTo>
                        <a:pt x="314" y="164"/>
                      </a:lnTo>
                      <a:lnTo>
                        <a:pt x="315" y="163"/>
                      </a:lnTo>
                      <a:lnTo>
                        <a:pt x="315" y="162"/>
                      </a:lnTo>
                      <a:lnTo>
                        <a:pt x="316" y="162"/>
                      </a:lnTo>
                      <a:lnTo>
                        <a:pt x="316" y="160"/>
                      </a:lnTo>
                      <a:lnTo>
                        <a:pt x="316" y="159"/>
                      </a:lnTo>
                      <a:lnTo>
                        <a:pt x="317" y="158"/>
                      </a:lnTo>
                      <a:lnTo>
                        <a:pt x="317" y="157"/>
                      </a:lnTo>
                      <a:lnTo>
                        <a:pt x="317" y="156"/>
                      </a:lnTo>
                      <a:lnTo>
                        <a:pt x="317" y="155"/>
                      </a:lnTo>
                      <a:lnTo>
                        <a:pt x="317" y="153"/>
                      </a:lnTo>
                      <a:lnTo>
                        <a:pt x="317" y="152"/>
                      </a:lnTo>
                      <a:lnTo>
                        <a:pt x="317" y="151"/>
                      </a:lnTo>
                      <a:lnTo>
                        <a:pt x="316" y="150"/>
                      </a:lnTo>
                      <a:lnTo>
                        <a:pt x="316" y="149"/>
                      </a:lnTo>
                      <a:lnTo>
                        <a:pt x="316" y="148"/>
                      </a:lnTo>
                      <a:lnTo>
                        <a:pt x="315" y="147"/>
                      </a:lnTo>
                      <a:lnTo>
                        <a:pt x="314" y="144"/>
                      </a:lnTo>
                      <a:lnTo>
                        <a:pt x="313" y="143"/>
                      </a:lnTo>
                      <a:lnTo>
                        <a:pt x="311" y="142"/>
                      </a:lnTo>
                      <a:lnTo>
                        <a:pt x="310" y="140"/>
                      </a:lnTo>
                      <a:lnTo>
                        <a:pt x="309" y="138"/>
                      </a:lnTo>
                      <a:lnTo>
                        <a:pt x="309" y="137"/>
                      </a:lnTo>
                      <a:lnTo>
                        <a:pt x="308" y="135"/>
                      </a:lnTo>
                      <a:lnTo>
                        <a:pt x="307" y="134"/>
                      </a:lnTo>
                      <a:lnTo>
                        <a:pt x="306" y="133"/>
                      </a:lnTo>
                      <a:lnTo>
                        <a:pt x="305" y="130"/>
                      </a:lnTo>
                      <a:lnTo>
                        <a:pt x="303" y="129"/>
                      </a:lnTo>
                      <a:lnTo>
                        <a:pt x="302" y="128"/>
                      </a:lnTo>
                      <a:lnTo>
                        <a:pt x="301" y="127"/>
                      </a:lnTo>
                      <a:lnTo>
                        <a:pt x="301" y="125"/>
                      </a:lnTo>
                      <a:lnTo>
                        <a:pt x="300" y="123"/>
                      </a:lnTo>
                      <a:lnTo>
                        <a:pt x="299" y="122"/>
                      </a:lnTo>
                      <a:lnTo>
                        <a:pt x="298" y="120"/>
                      </a:lnTo>
                      <a:lnTo>
                        <a:pt x="296" y="119"/>
                      </a:lnTo>
                      <a:lnTo>
                        <a:pt x="295" y="118"/>
                      </a:lnTo>
                      <a:lnTo>
                        <a:pt x="295" y="115"/>
                      </a:lnTo>
                      <a:lnTo>
                        <a:pt x="294" y="114"/>
                      </a:lnTo>
                      <a:lnTo>
                        <a:pt x="293" y="113"/>
                      </a:lnTo>
                      <a:lnTo>
                        <a:pt x="292" y="111"/>
                      </a:lnTo>
                      <a:lnTo>
                        <a:pt x="292" y="110"/>
                      </a:lnTo>
                      <a:lnTo>
                        <a:pt x="291" y="108"/>
                      </a:lnTo>
                      <a:lnTo>
                        <a:pt x="290" y="106"/>
                      </a:lnTo>
                      <a:lnTo>
                        <a:pt x="290" y="105"/>
                      </a:lnTo>
                      <a:lnTo>
                        <a:pt x="288" y="103"/>
                      </a:lnTo>
                      <a:lnTo>
                        <a:pt x="287" y="102"/>
                      </a:lnTo>
                      <a:lnTo>
                        <a:pt x="287" y="99"/>
                      </a:lnTo>
                      <a:lnTo>
                        <a:pt x="286" y="98"/>
                      </a:lnTo>
                      <a:lnTo>
                        <a:pt x="286" y="96"/>
                      </a:lnTo>
                      <a:lnTo>
                        <a:pt x="283" y="88"/>
                      </a:lnTo>
                      <a:lnTo>
                        <a:pt x="284" y="86"/>
                      </a:lnTo>
                      <a:lnTo>
                        <a:pt x="284" y="85"/>
                      </a:lnTo>
                      <a:lnTo>
                        <a:pt x="284" y="84"/>
                      </a:lnTo>
                      <a:lnTo>
                        <a:pt x="285" y="83"/>
                      </a:lnTo>
                      <a:lnTo>
                        <a:pt x="285" y="82"/>
                      </a:lnTo>
                      <a:lnTo>
                        <a:pt x="286" y="81"/>
                      </a:lnTo>
                      <a:lnTo>
                        <a:pt x="286" y="80"/>
                      </a:lnTo>
                      <a:lnTo>
                        <a:pt x="286" y="78"/>
                      </a:lnTo>
                      <a:lnTo>
                        <a:pt x="287" y="78"/>
                      </a:lnTo>
                      <a:lnTo>
                        <a:pt x="287" y="77"/>
                      </a:lnTo>
                      <a:lnTo>
                        <a:pt x="287" y="76"/>
                      </a:lnTo>
                      <a:lnTo>
                        <a:pt x="288" y="76"/>
                      </a:lnTo>
                      <a:lnTo>
                        <a:pt x="288" y="75"/>
                      </a:lnTo>
                      <a:lnTo>
                        <a:pt x="288" y="74"/>
                      </a:lnTo>
                      <a:lnTo>
                        <a:pt x="290" y="73"/>
                      </a:lnTo>
                      <a:lnTo>
                        <a:pt x="290" y="71"/>
                      </a:lnTo>
                      <a:lnTo>
                        <a:pt x="290" y="70"/>
                      </a:lnTo>
                      <a:lnTo>
                        <a:pt x="290" y="69"/>
                      </a:lnTo>
                      <a:lnTo>
                        <a:pt x="291" y="69"/>
                      </a:lnTo>
                      <a:lnTo>
                        <a:pt x="291" y="68"/>
                      </a:lnTo>
                      <a:lnTo>
                        <a:pt x="291" y="67"/>
                      </a:lnTo>
                      <a:lnTo>
                        <a:pt x="291" y="66"/>
                      </a:lnTo>
                      <a:lnTo>
                        <a:pt x="292" y="65"/>
                      </a:lnTo>
                      <a:lnTo>
                        <a:pt x="292" y="63"/>
                      </a:lnTo>
                      <a:lnTo>
                        <a:pt x="292" y="62"/>
                      </a:lnTo>
                      <a:lnTo>
                        <a:pt x="292" y="61"/>
                      </a:lnTo>
                      <a:lnTo>
                        <a:pt x="292" y="59"/>
                      </a:lnTo>
                      <a:lnTo>
                        <a:pt x="293" y="58"/>
                      </a:lnTo>
                      <a:lnTo>
                        <a:pt x="293" y="56"/>
                      </a:lnTo>
                      <a:lnTo>
                        <a:pt x="293" y="55"/>
                      </a:lnTo>
                      <a:lnTo>
                        <a:pt x="293" y="54"/>
                      </a:lnTo>
                      <a:lnTo>
                        <a:pt x="293" y="52"/>
                      </a:lnTo>
                      <a:lnTo>
                        <a:pt x="293" y="51"/>
                      </a:lnTo>
                      <a:lnTo>
                        <a:pt x="293" y="50"/>
                      </a:lnTo>
                      <a:lnTo>
                        <a:pt x="293" y="48"/>
                      </a:lnTo>
                      <a:lnTo>
                        <a:pt x="293" y="47"/>
                      </a:lnTo>
                      <a:lnTo>
                        <a:pt x="293" y="45"/>
                      </a:lnTo>
                      <a:lnTo>
                        <a:pt x="293" y="44"/>
                      </a:lnTo>
                      <a:lnTo>
                        <a:pt x="293" y="43"/>
                      </a:lnTo>
                      <a:lnTo>
                        <a:pt x="293" y="41"/>
                      </a:lnTo>
                      <a:lnTo>
                        <a:pt x="293" y="39"/>
                      </a:lnTo>
                      <a:lnTo>
                        <a:pt x="292" y="38"/>
                      </a:lnTo>
                      <a:lnTo>
                        <a:pt x="292" y="37"/>
                      </a:lnTo>
                      <a:lnTo>
                        <a:pt x="292" y="36"/>
                      </a:lnTo>
                      <a:lnTo>
                        <a:pt x="292" y="35"/>
                      </a:lnTo>
                      <a:lnTo>
                        <a:pt x="292" y="33"/>
                      </a:lnTo>
                      <a:lnTo>
                        <a:pt x="291" y="32"/>
                      </a:lnTo>
                      <a:lnTo>
                        <a:pt x="291" y="31"/>
                      </a:lnTo>
                      <a:lnTo>
                        <a:pt x="291" y="30"/>
                      </a:lnTo>
                      <a:lnTo>
                        <a:pt x="290" y="29"/>
                      </a:lnTo>
                      <a:lnTo>
                        <a:pt x="287" y="31"/>
                      </a:lnTo>
                      <a:lnTo>
                        <a:pt x="284" y="33"/>
                      </a:lnTo>
                      <a:lnTo>
                        <a:pt x="281" y="36"/>
                      </a:lnTo>
                      <a:lnTo>
                        <a:pt x="278" y="37"/>
                      </a:lnTo>
                      <a:lnTo>
                        <a:pt x="275" y="38"/>
                      </a:lnTo>
                      <a:lnTo>
                        <a:pt x="271" y="39"/>
                      </a:lnTo>
                      <a:lnTo>
                        <a:pt x="268" y="39"/>
                      </a:lnTo>
                      <a:lnTo>
                        <a:pt x="265" y="39"/>
                      </a:lnTo>
                      <a:lnTo>
                        <a:pt x="262" y="39"/>
                      </a:lnTo>
                      <a:lnTo>
                        <a:pt x="258" y="39"/>
                      </a:lnTo>
                      <a:lnTo>
                        <a:pt x="255" y="38"/>
                      </a:lnTo>
                      <a:lnTo>
                        <a:pt x="251" y="37"/>
                      </a:lnTo>
                      <a:lnTo>
                        <a:pt x="248" y="36"/>
                      </a:lnTo>
                      <a:lnTo>
                        <a:pt x="244" y="35"/>
                      </a:lnTo>
                      <a:lnTo>
                        <a:pt x="241" y="33"/>
                      </a:lnTo>
                      <a:lnTo>
                        <a:pt x="238" y="32"/>
                      </a:lnTo>
                      <a:lnTo>
                        <a:pt x="234" y="30"/>
                      </a:lnTo>
                      <a:lnTo>
                        <a:pt x="231" y="29"/>
                      </a:lnTo>
                      <a:lnTo>
                        <a:pt x="228" y="26"/>
                      </a:lnTo>
                      <a:lnTo>
                        <a:pt x="225" y="24"/>
                      </a:lnTo>
                      <a:lnTo>
                        <a:pt x="221" y="23"/>
                      </a:lnTo>
                      <a:lnTo>
                        <a:pt x="219" y="21"/>
                      </a:lnTo>
                      <a:lnTo>
                        <a:pt x="217" y="18"/>
                      </a:lnTo>
                      <a:lnTo>
                        <a:pt x="213" y="16"/>
                      </a:lnTo>
                      <a:lnTo>
                        <a:pt x="211" y="14"/>
                      </a:lnTo>
                      <a:lnTo>
                        <a:pt x="209" y="11"/>
                      </a:lnTo>
                      <a:lnTo>
                        <a:pt x="206" y="9"/>
                      </a:lnTo>
                      <a:lnTo>
                        <a:pt x="204" y="8"/>
                      </a:lnTo>
                      <a:lnTo>
                        <a:pt x="202" y="6"/>
                      </a:lnTo>
                      <a:lnTo>
                        <a:pt x="201" y="3"/>
                      </a:lnTo>
                      <a:lnTo>
                        <a:pt x="198" y="2"/>
                      </a:lnTo>
                      <a:lnTo>
                        <a:pt x="197" y="0"/>
                      </a:lnTo>
                      <a:lnTo>
                        <a:pt x="197" y="1"/>
                      </a:lnTo>
                      <a:lnTo>
                        <a:pt x="197" y="2"/>
                      </a:lnTo>
                      <a:lnTo>
                        <a:pt x="196" y="3"/>
                      </a:lnTo>
                      <a:lnTo>
                        <a:pt x="196" y="4"/>
                      </a:lnTo>
                      <a:lnTo>
                        <a:pt x="196" y="6"/>
                      </a:lnTo>
                      <a:lnTo>
                        <a:pt x="195" y="6"/>
                      </a:lnTo>
                      <a:lnTo>
                        <a:pt x="195" y="7"/>
                      </a:lnTo>
                      <a:lnTo>
                        <a:pt x="195" y="8"/>
                      </a:lnTo>
                      <a:lnTo>
                        <a:pt x="195" y="9"/>
                      </a:lnTo>
                      <a:lnTo>
                        <a:pt x="195" y="10"/>
                      </a:lnTo>
                      <a:lnTo>
                        <a:pt x="196" y="10"/>
                      </a:lnTo>
                      <a:lnTo>
                        <a:pt x="196" y="11"/>
                      </a:lnTo>
                      <a:lnTo>
                        <a:pt x="196" y="13"/>
                      </a:lnTo>
                      <a:lnTo>
                        <a:pt x="196" y="14"/>
                      </a:lnTo>
                      <a:lnTo>
                        <a:pt x="196" y="15"/>
                      </a:lnTo>
                      <a:lnTo>
                        <a:pt x="196" y="16"/>
                      </a:lnTo>
                      <a:lnTo>
                        <a:pt x="196" y="17"/>
                      </a:lnTo>
                      <a:lnTo>
                        <a:pt x="196" y="18"/>
                      </a:lnTo>
                      <a:lnTo>
                        <a:pt x="195" y="18"/>
                      </a:lnTo>
                      <a:lnTo>
                        <a:pt x="194" y="18"/>
                      </a:lnTo>
                      <a:lnTo>
                        <a:pt x="194" y="19"/>
                      </a:lnTo>
                      <a:lnTo>
                        <a:pt x="192" y="19"/>
                      </a:lnTo>
                      <a:lnTo>
                        <a:pt x="191" y="19"/>
                      </a:lnTo>
                      <a:lnTo>
                        <a:pt x="191" y="21"/>
                      </a:lnTo>
                      <a:lnTo>
                        <a:pt x="190" y="21"/>
                      </a:lnTo>
                      <a:lnTo>
                        <a:pt x="189" y="22"/>
                      </a:lnTo>
                      <a:lnTo>
                        <a:pt x="188" y="22"/>
                      </a:lnTo>
                      <a:lnTo>
                        <a:pt x="187" y="23"/>
                      </a:lnTo>
                      <a:lnTo>
                        <a:pt x="186" y="23"/>
                      </a:lnTo>
                      <a:lnTo>
                        <a:pt x="184" y="23"/>
                      </a:lnTo>
                      <a:lnTo>
                        <a:pt x="183" y="23"/>
                      </a:lnTo>
                      <a:lnTo>
                        <a:pt x="184" y="23"/>
                      </a:lnTo>
                      <a:lnTo>
                        <a:pt x="186" y="23"/>
                      </a:lnTo>
                      <a:lnTo>
                        <a:pt x="186" y="24"/>
                      </a:lnTo>
                      <a:lnTo>
                        <a:pt x="187" y="24"/>
                      </a:lnTo>
                      <a:lnTo>
                        <a:pt x="188" y="24"/>
                      </a:lnTo>
                      <a:lnTo>
                        <a:pt x="189" y="24"/>
                      </a:lnTo>
                      <a:lnTo>
                        <a:pt x="190" y="24"/>
                      </a:lnTo>
                      <a:lnTo>
                        <a:pt x="191" y="24"/>
                      </a:lnTo>
                      <a:lnTo>
                        <a:pt x="192" y="25"/>
                      </a:lnTo>
                      <a:lnTo>
                        <a:pt x="194" y="25"/>
                      </a:lnTo>
                      <a:lnTo>
                        <a:pt x="195" y="25"/>
                      </a:lnTo>
                      <a:lnTo>
                        <a:pt x="196" y="26"/>
                      </a:lnTo>
                      <a:lnTo>
                        <a:pt x="197" y="26"/>
                      </a:lnTo>
                      <a:lnTo>
                        <a:pt x="198" y="26"/>
                      </a:lnTo>
                      <a:lnTo>
                        <a:pt x="199" y="26"/>
                      </a:lnTo>
                      <a:lnTo>
                        <a:pt x="199" y="28"/>
                      </a:lnTo>
                      <a:lnTo>
                        <a:pt x="201" y="28"/>
                      </a:lnTo>
                      <a:lnTo>
                        <a:pt x="202" y="28"/>
                      </a:lnTo>
                      <a:lnTo>
                        <a:pt x="203" y="28"/>
                      </a:lnTo>
                      <a:lnTo>
                        <a:pt x="204" y="29"/>
                      </a:lnTo>
                      <a:lnTo>
                        <a:pt x="205" y="29"/>
                      </a:lnTo>
                      <a:lnTo>
                        <a:pt x="204" y="29"/>
                      </a:lnTo>
                      <a:lnTo>
                        <a:pt x="203" y="29"/>
                      </a:lnTo>
                      <a:lnTo>
                        <a:pt x="202" y="29"/>
                      </a:lnTo>
                      <a:lnTo>
                        <a:pt x="202" y="30"/>
                      </a:lnTo>
                      <a:lnTo>
                        <a:pt x="201" y="30"/>
                      </a:lnTo>
                      <a:lnTo>
                        <a:pt x="199" y="30"/>
                      </a:lnTo>
                      <a:lnTo>
                        <a:pt x="199" y="31"/>
                      </a:lnTo>
                      <a:lnTo>
                        <a:pt x="198" y="31"/>
                      </a:lnTo>
                      <a:lnTo>
                        <a:pt x="197" y="32"/>
                      </a:lnTo>
                      <a:lnTo>
                        <a:pt x="196" y="32"/>
                      </a:lnTo>
                      <a:lnTo>
                        <a:pt x="195" y="33"/>
                      </a:lnTo>
                      <a:lnTo>
                        <a:pt x="194" y="33"/>
                      </a:lnTo>
                      <a:lnTo>
                        <a:pt x="192" y="33"/>
                      </a:lnTo>
                      <a:lnTo>
                        <a:pt x="194" y="33"/>
                      </a:lnTo>
                      <a:lnTo>
                        <a:pt x="195" y="35"/>
                      </a:lnTo>
                      <a:lnTo>
                        <a:pt x="196" y="35"/>
                      </a:lnTo>
                      <a:lnTo>
                        <a:pt x="197" y="35"/>
                      </a:lnTo>
                      <a:lnTo>
                        <a:pt x="198" y="35"/>
                      </a:lnTo>
                      <a:lnTo>
                        <a:pt x="199" y="35"/>
                      </a:lnTo>
                      <a:lnTo>
                        <a:pt x="201" y="36"/>
                      </a:lnTo>
                      <a:lnTo>
                        <a:pt x="202" y="36"/>
                      </a:lnTo>
                      <a:lnTo>
                        <a:pt x="203" y="36"/>
                      </a:lnTo>
                      <a:lnTo>
                        <a:pt x="204" y="36"/>
                      </a:lnTo>
                      <a:lnTo>
                        <a:pt x="204" y="37"/>
                      </a:lnTo>
                      <a:lnTo>
                        <a:pt x="205" y="37"/>
                      </a:lnTo>
                      <a:lnTo>
                        <a:pt x="206" y="37"/>
                      </a:lnTo>
                      <a:lnTo>
                        <a:pt x="207" y="37"/>
                      </a:lnTo>
                      <a:lnTo>
                        <a:pt x="209" y="38"/>
                      </a:lnTo>
                      <a:lnTo>
                        <a:pt x="210" y="38"/>
                      </a:lnTo>
                      <a:lnTo>
                        <a:pt x="211" y="38"/>
                      </a:lnTo>
                      <a:lnTo>
                        <a:pt x="212" y="38"/>
                      </a:lnTo>
                      <a:lnTo>
                        <a:pt x="212" y="39"/>
                      </a:lnTo>
                      <a:lnTo>
                        <a:pt x="213" y="39"/>
                      </a:lnTo>
                      <a:lnTo>
                        <a:pt x="205" y="50"/>
                      </a:lnTo>
                      <a:lnTo>
                        <a:pt x="206" y="50"/>
                      </a:lnTo>
                      <a:lnTo>
                        <a:pt x="207" y="50"/>
                      </a:lnTo>
                      <a:lnTo>
                        <a:pt x="209" y="50"/>
                      </a:lnTo>
                      <a:lnTo>
                        <a:pt x="210" y="50"/>
                      </a:lnTo>
                      <a:lnTo>
                        <a:pt x="211" y="50"/>
                      </a:lnTo>
                      <a:lnTo>
                        <a:pt x="212" y="50"/>
                      </a:lnTo>
                      <a:lnTo>
                        <a:pt x="213" y="50"/>
                      </a:lnTo>
                      <a:lnTo>
                        <a:pt x="214" y="50"/>
                      </a:lnTo>
                      <a:lnTo>
                        <a:pt x="216" y="51"/>
                      </a:lnTo>
                      <a:lnTo>
                        <a:pt x="217" y="51"/>
                      </a:lnTo>
                      <a:lnTo>
                        <a:pt x="218" y="51"/>
                      </a:lnTo>
                      <a:lnTo>
                        <a:pt x="218" y="52"/>
                      </a:lnTo>
                      <a:lnTo>
                        <a:pt x="219" y="52"/>
                      </a:lnTo>
                      <a:lnTo>
                        <a:pt x="219" y="53"/>
                      </a:lnTo>
                      <a:lnTo>
                        <a:pt x="220" y="53"/>
                      </a:lnTo>
                      <a:lnTo>
                        <a:pt x="220" y="54"/>
                      </a:lnTo>
                      <a:lnTo>
                        <a:pt x="221" y="54"/>
                      </a:lnTo>
                      <a:lnTo>
                        <a:pt x="221" y="55"/>
                      </a:lnTo>
                      <a:lnTo>
                        <a:pt x="221" y="56"/>
                      </a:lnTo>
                      <a:lnTo>
                        <a:pt x="221" y="58"/>
                      </a:lnTo>
                      <a:lnTo>
                        <a:pt x="223" y="59"/>
                      </a:lnTo>
                      <a:lnTo>
                        <a:pt x="223" y="60"/>
                      </a:lnTo>
                      <a:lnTo>
                        <a:pt x="220" y="60"/>
                      </a:lnTo>
                      <a:lnTo>
                        <a:pt x="217" y="61"/>
                      </a:lnTo>
                      <a:lnTo>
                        <a:pt x="214" y="62"/>
                      </a:lnTo>
                      <a:lnTo>
                        <a:pt x="212" y="63"/>
                      </a:lnTo>
                      <a:lnTo>
                        <a:pt x="210" y="65"/>
                      </a:lnTo>
                      <a:lnTo>
                        <a:pt x="207" y="66"/>
                      </a:lnTo>
                      <a:lnTo>
                        <a:pt x="206" y="67"/>
                      </a:lnTo>
                      <a:lnTo>
                        <a:pt x="204" y="69"/>
                      </a:lnTo>
                      <a:lnTo>
                        <a:pt x="202" y="70"/>
                      </a:lnTo>
                      <a:lnTo>
                        <a:pt x="199" y="73"/>
                      </a:lnTo>
                      <a:lnTo>
                        <a:pt x="197" y="75"/>
                      </a:lnTo>
                      <a:lnTo>
                        <a:pt x="195" y="76"/>
                      </a:lnTo>
                      <a:lnTo>
                        <a:pt x="192" y="78"/>
                      </a:lnTo>
                      <a:lnTo>
                        <a:pt x="191" y="81"/>
                      </a:lnTo>
                      <a:lnTo>
                        <a:pt x="189" y="83"/>
                      </a:lnTo>
                      <a:lnTo>
                        <a:pt x="187" y="85"/>
                      </a:lnTo>
                      <a:lnTo>
                        <a:pt x="184" y="88"/>
                      </a:lnTo>
                      <a:lnTo>
                        <a:pt x="183" y="90"/>
                      </a:lnTo>
                      <a:lnTo>
                        <a:pt x="181" y="92"/>
                      </a:lnTo>
                      <a:lnTo>
                        <a:pt x="179" y="95"/>
                      </a:lnTo>
                      <a:lnTo>
                        <a:pt x="177" y="97"/>
                      </a:lnTo>
                      <a:lnTo>
                        <a:pt x="175" y="99"/>
                      </a:lnTo>
                      <a:lnTo>
                        <a:pt x="173" y="102"/>
                      </a:lnTo>
                      <a:lnTo>
                        <a:pt x="172" y="105"/>
                      </a:lnTo>
                      <a:lnTo>
                        <a:pt x="169" y="107"/>
                      </a:lnTo>
                      <a:lnTo>
                        <a:pt x="168" y="110"/>
                      </a:lnTo>
                      <a:lnTo>
                        <a:pt x="166" y="112"/>
                      </a:lnTo>
                      <a:lnTo>
                        <a:pt x="165" y="114"/>
                      </a:lnTo>
                      <a:lnTo>
                        <a:pt x="162" y="117"/>
                      </a:lnTo>
                      <a:lnTo>
                        <a:pt x="161" y="118"/>
                      </a:lnTo>
                      <a:lnTo>
                        <a:pt x="159" y="120"/>
                      </a:lnTo>
                      <a:lnTo>
                        <a:pt x="158" y="122"/>
                      </a:lnTo>
                      <a:lnTo>
                        <a:pt x="157" y="122"/>
                      </a:lnTo>
                      <a:lnTo>
                        <a:pt x="155" y="122"/>
                      </a:lnTo>
                      <a:lnTo>
                        <a:pt x="154" y="122"/>
                      </a:lnTo>
                      <a:lnTo>
                        <a:pt x="153" y="121"/>
                      </a:lnTo>
                      <a:lnTo>
                        <a:pt x="152" y="121"/>
                      </a:lnTo>
                      <a:lnTo>
                        <a:pt x="151" y="121"/>
                      </a:lnTo>
                      <a:lnTo>
                        <a:pt x="150" y="120"/>
                      </a:lnTo>
                      <a:lnTo>
                        <a:pt x="149" y="120"/>
                      </a:lnTo>
                      <a:lnTo>
                        <a:pt x="147" y="120"/>
                      </a:lnTo>
                      <a:lnTo>
                        <a:pt x="146" y="119"/>
                      </a:lnTo>
                      <a:lnTo>
                        <a:pt x="145" y="118"/>
                      </a:lnTo>
                      <a:lnTo>
                        <a:pt x="144" y="118"/>
                      </a:lnTo>
                      <a:lnTo>
                        <a:pt x="143" y="117"/>
                      </a:lnTo>
                      <a:lnTo>
                        <a:pt x="142" y="117"/>
                      </a:lnTo>
                      <a:lnTo>
                        <a:pt x="140" y="115"/>
                      </a:lnTo>
                      <a:lnTo>
                        <a:pt x="139" y="115"/>
                      </a:lnTo>
                      <a:lnTo>
                        <a:pt x="138" y="114"/>
                      </a:lnTo>
                      <a:lnTo>
                        <a:pt x="137" y="114"/>
                      </a:lnTo>
                      <a:lnTo>
                        <a:pt x="136" y="113"/>
                      </a:lnTo>
                      <a:lnTo>
                        <a:pt x="135" y="113"/>
                      </a:lnTo>
                      <a:lnTo>
                        <a:pt x="134" y="112"/>
                      </a:lnTo>
                      <a:lnTo>
                        <a:pt x="134" y="111"/>
                      </a:lnTo>
                      <a:lnTo>
                        <a:pt x="132" y="111"/>
                      </a:lnTo>
                      <a:lnTo>
                        <a:pt x="131" y="110"/>
                      </a:lnTo>
                      <a:lnTo>
                        <a:pt x="130" y="108"/>
                      </a:lnTo>
                      <a:lnTo>
                        <a:pt x="129" y="107"/>
                      </a:lnTo>
                      <a:lnTo>
                        <a:pt x="128" y="106"/>
                      </a:lnTo>
                      <a:lnTo>
                        <a:pt x="128" y="105"/>
                      </a:lnTo>
                      <a:lnTo>
                        <a:pt x="128" y="104"/>
                      </a:lnTo>
                      <a:lnTo>
                        <a:pt x="128" y="103"/>
                      </a:lnTo>
                      <a:lnTo>
                        <a:pt x="128" y="102"/>
                      </a:lnTo>
                      <a:lnTo>
                        <a:pt x="128" y="100"/>
                      </a:lnTo>
                      <a:lnTo>
                        <a:pt x="128" y="99"/>
                      </a:lnTo>
                      <a:lnTo>
                        <a:pt x="129" y="98"/>
                      </a:lnTo>
                      <a:lnTo>
                        <a:pt x="129" y="97"/>
                      </a:lnTo>
                      <a:lnTo>
                        <a:pt x="129" y="96"/>
                      </a:lnTo>
                      <a:lnTo>
                        <a:pt x="129" y="95"/>
                      </a:lnTo>
                      <a:lnTo>
                        <a:pt x="129" y="93"/>
                      </a:lnTo>
                      <a:lnTo>
                        <a:pt x="129" y="92"/>
                      </a:lnTo>
                      <a:lnTo>
                        <a:pt x="129" y="91"/>
                      </a:lnTo>
                      <a:lnTo>
                        <a:pt x="130" y="91"/>
                      </a:lnTo>
                      <a:lnTo>
                        <a:pt x="130" y="90"/>
                      </a:lnTo>
                      <a:lnTo>
                        <a:pt x="130" y="89"/>
                      </a:lnTo>
                      <a:lnTo>
                        <a:pt x="130" y="88"/>
                      </a:lnTo>
                      <a:lnTo>
                        <a:pt x="131" y="86"/>
                      </a:lnTo>
                      <a:lnTo>
                        <a:pt x="130" y="83"/>
                      </a:lnTo>
                      <a:lnTo>
                        <a:pt x="129" y="81"/>
                      </a:lnTo>
                      <a:lnTo>
                        <a:pt x="128" y="77"/>
                      </a:lnTo>
                      <a:lnTo>
                        <a:pt x="125" y="75"/>
                      </a:lnTo>
                      <a:lnTo>
                        <a:pt x="124" y="73"/>
                      </a:lnTo>
                      <a:lnTo>
                        <a:pt x="123" y="70"/>
                      </a:lnTo>
                      <a:lnTo>
                        <a:pt x="121" y="68"/>
                      </a:lnTo>
                      <a:lnTo>
                        <a:pt x="119" y="66"/>
                      </a:lnTo>
                      <a:lnTo>
                        <a:pt x="116" y="63"/>
                      </a:lnTo>
                      <a:lnTo>
                        <a:pt x="114" y="62"/>
                      </a:lnTo>
                      <a:lnTo>
                        <a:pt x="112" y="61"/>
                      </a:lnTo>
                      <a:lnTo>
                        <a:pt x="109" y="60"/>
                      </a:lnTo>
                      <a:lnTo>
                        <a:pt x="107" y="59"/>
                      </a:lnTo>
                      <a:lnTo>
                        <a:pt x="105" y="59"/>
                      </a:lnTo>
                      <a:lnTo>
                        <a:pt x="102" y="58"/>
                      </a:lnTo>
                      <a:lnTo>
                        <a:pt x="100" y="58"/>
                      </a:lnTo>
                      <a:lnTo>
                        <a:pt x="98" y="58"/>
                      </a:lnTo>
                      <a:lnTo>
                        <a:pt x="94" y="58"/>
                      </a:lnTo>
                      <a:lnTo>
                        <a:pt x="92" y="59"/>
                      </a:lnTo>
                      <a:lnTo>
                        <a:pt x="90" y="59"/>
                      </a:lnTo>
                      <a:lnTo>
                        <a:pt x="87" y="60"/>
                      </a:lnTo>
                      <a:lnTo>
                        <a:pt x="85" y="61"/>
                      </a:lnTo>
                      <a:lnTo>
                        <a:pt x="83" y="62"/>
                      </a:lnTo>
                      <a:lnTo>
                        <a:pt x="80" y="63"/>
                      </a:lnTo>
                      <a:lnTo>
                        <a:pt x="78" y="66"/>
                      </a:lnTo>
                      <a:lnTo>
                        <a:pt x="77" y="68"/>
                      </a:lnTo>
                      <a:lnTo>
                        <a:pt x="75" y="70"/>
                      </a:lnTo>
                      <a:lnTo>
                        <a:pt x="73" y="73"/>
                      </a:lnTo>
                      <a:lnTo>
                        <a:pt x="71" y="76"/>
                      </a:lnTo>
                      <a:lnTo>
                        <a:pt x="70" y="78"/>
                      </a:lnTo>
                      <a:lnTo>
                        <a:pt x="69" y="82"/>
                      </a:lnTo>
                      <a:lnTo>
                        <a:pt x="68" y="85"/>
                      </a:lnTo>
                      <a:lnTo>
                        <a:pt x="68" y="89"/>
                      </a:lnTo>
                      <a:lnTo>
                        <a:pt x="68" y="91"/>
                      </a:lnTo>
                      <a:lnTo>
                        <a:pt x="68" y="93"/>
                      </a:lnTo>
                      <a:lnTo>
                        <a:pt x="68" y="96"/>
                      </a:lnTo>
                      <a:lnTo>
                        <a:pt x="68" y="98"/>
                      </a:lnTo>
                      <a:lnTo>
                        <a:pt x="68" y="100"/>
                      </a:lnTo>
                      <a:lnTo>
                        <a:pt x="68" y="103"/>
                      </a:lnTo>
                      <a:lnTo>
                        <a:pt x="69" y="105"/>
                      </a:lnTo>
                      <a:lnTo>
                        <a:pt x="69" y="107"/>
                      </a:lnTo>
                      <a:lnTo>
                        <a:pt x="69" y="110"/>
                      </a:lnTo>
                      <a:lnTo>
                        <a:pt x="69" y="112"/>
                      </a:lnTo>
                      <a:lnTo>
                        <a:pt x="69" y="114"/>
                      </a:lnTo>
                      <a:lnTo>
                        <a:pt x="69" y="117"/>
                      </a:lnTo>
                      <a:lnTo>
                        <a:pt x="70" y="119"/>
                      </a:lnTo>
                      <a:lnTo>
                        <a:pt x="70" y="121"/>
                      </a:lnTo>
                      <a:lnTo>
                        <a:pt x="70" y="123"/>
                      </a:lnTo>
                      <a:lnTo>
                        <a:pt x="70" y="126"/>
                      </a:lnTo>
                      <a:lnTo>
                        <a:pt x="71" y="128"/>
                      </a:lnTo>
                      <a:lnTo>
                        <a:pt x="71" y="130"/>
                      </a:lnTo>
                      <a:lnTo>
                        <a:pt x="72" y="133"/>
                      </a:lnTo>
                      <a:lnTo>
                        <a:pt x="72" y="135"/>
                      </a:lnTo>
                      <a:lnTo>
                        <a:pt x="73" y="137"/>
                      </a:lnTo>
                      <a:lnTo>
                        <a:pt x="75" y="140"/>
                      </a:lnTo>
                      <a:lnTo>
                        <a:pt x="75" y="142"/>
                      </a:lnTo>
                      <a:lnTo>
                        <a:pt x="76" y="144"/>
                      </a:lnTo>
                      <a:lnTo>
                        <a:pt x="77" y="147"/>
                      </a:lnTo>
                      <a:lnTo>
                        <a:pt x="78" y="148"/>
                      </a:lnTo>
                      <a:lnTo>
                        <a:pt x="79" y="150"/>
                      </a:lnTo>
                      <a:lnTo>
                        <a:pt x="80" y="152"/>
                      </a:lnTo>
                      <a:lnTo>
                        <a:pt x="82" y="155"/>
                      </a:lnTo>
                      <a:lnTo>
                        <a:pt x="84" y="156"/>
                      </a:lnTo>
                      <a:lnTo>
                        <a:pt x="85" y="158"/>
                      </a:lnTo>
                      <a:lnTo>
                        <a:pt x="84" y="158"/>
                      </a:lnTo>
                      <a:lnTo>
                        <a:pt x="83" y="158"/>
                      </a:lnTo>
                      <a:lnTo>
                        <a:pt x="82" y="158"/>
                      </a:lnTo>
                      <a:lnTo>
                        <a:pt x="80" y="158"/>
                      </a:lnTo>
                      <a:lnTo>
                        <a:pt x="78" y="158"/>
                      </a:lnTo>
                      <a:lnTo>
                        <a:pt x="77" y="159"/>
                      </a:lnTo>
                      <a:lnTo>
                        <a:pt x="76" y="159"/>
                      </a:lnTo>
                      <a:lnTo>
                        <a:pt x="75" y="159"/>
                      </a:lnTo>
                      <a:lnTo>
                        <a:pt x="72" y="159"/>
                      </a:lnTo>
                      <a:lnTo>
                        <a:pt x="71" y="160"/>
                      </a:lnTo>
                      <a:lnTo>
                        <a:pt x="70" y="160"/>
                      </a:lnTo>
                      <a:lnTo>
                        <a:pt x="69" y="160"/>
                      </a:lnTo>
                      <a:lnTo>
                        <a:pt x="68" y="162"/>
                      </a:lnTo>
                      <a:lnTo>
                        <a:pt x="65" y="162"/>
                      </a:lnTo>
                      <a:lnTo>
                        <a:pt x="64" y="163"/>
                      </a:lnTo>
                      <a:lnTo>
                        <a:pt x="63" y="163"/>
                      </a:lnTo>
                      <a:lnTo>
                        <a:pt x="62" y="164"/>
                      </a:lnTo>
                      <a:lnTo>
                        <a:pt x="61" y="164"/>
                      </a:lnTo>
                      <a:lnTo>
                        <a:pt x="60" y="165"/>
                      </a:lnTo>
                      <a:lnTo>
                        <a:pt x="58" y="166"/>
                      </a:lnTo>
                      <a:lnTo>
                        <a:pt x="57" y="166"/>
                      </a:lnTo>
                      <a:lnTo>
                        <a:pt x="56" y="167"/>
                      </a:lnTo>
                      <a:lnTo>
                        <a:pt x="55" y="169"/>
                      </a:lnTo>
                      <a:lnTo>
                        <a:pt x="55" y="170"/>
                      </a:lnTo>
                      <a:lnTo>
                        <a:pt x="54" y="171"/>
                      </a:lnTo>
                      <a:lnTo>
                        <a:pt x="53" y="171"/>
                      </a:lnTo>
                      <a:lnTo>
                        <a:pt x="53" y="172"/>
                      </a:lnTo>
                      <a:lnTo>
                        <a:pt x="52" y="173"/>
                      </a:lnTo>
                      <a:lnTo>
                        <a:pt x="52" y="175"/>
                      </a:lnTo>
                      <a:lnTo>
                        <a:pt x="52" y="177"/>
                      </a:lnTo>
                      <a:lnTo>
                        <a:pt x="52" y="178"/>
                      </a:lnTo>
                      <a:lnTo>
                        <a:pt x="52" y="179"/>
                      </a:lnTo>
                      <a:lnTo>
                        <a:pt x="49" y="180"/>
                      </a:lnTo>
                      <a:lnTo>
                        <a:pt x="48" y="182"/>
                      </a:lnTo>
                      <a:lnTo>
                        <a:pt x="47" y="184"/>
                      </a:lnTo>
                      <a:lnTo>
                        <a:pt x="45" y="185"/>
                      </a:lnTo>
                      <a:lnTo>
                        <a:pt x="43" y="186"/>
                      </a:lnTo>
                      <a:lnTo>
                        <a:pt x="41" y="188"/>
                      </a:lnTo>
                      <a:lnTo>
                        <a:pt x="40" y="189"/>
                      </a:lnTo>
                      <a:lnTo>
                        <a:pt x="38" y="190"/>
                      </a:lnTo>
                      <a:lnTo>
                        <a:pt x="35" y="193"/>
                      </a:lnTo>
                      <a:lnTo>
                        <a:pt x="33" y="194"/>
                      </a:lnTo>
                      <a:lnTo>
                        <a:pt x="31" y="195"/>
                      </a:lnTo>
                      <a:lnTo>
                        <a:pt x="30" y="197"/>
                      </a:lnTo>
                      <a:lnTo>
                        <a:pt x="27" y="199"/>
                      </a:lnTo>
                      <a:lnTo>
                        <a:pt x="25" y="200"/>
                      </a:lnTo>
                      <a:lnTo>
                        <a:pt x="23" y="202"/>
                      </a:lnTo>
                      <a:lnTo>
                        <a:pt x="20" y="203"/>
                      </a:lnTo>
                      <a:lnTo>
                        <a:pt x="18" y="205"/>
                      </a:lnTo>
                      <a:lnTo>
                        <a:pt x="17" y="207"/>
                      </a:lnTo>
                      <a:lnTo>
                        <a:pt x="15" y="209"/>
                      </a:lnTo>
                      <a:lnTo>
                        <a:pt x="12" y="210"/>
                      </a:lnTo>
                      <a:lnTo>
                        <a:pt x="11" y="212"/>
                      </a:lnTo>
                      <a:lnTo>
                        <a:pt x="9" y="215"/>
                      </a:lnTo>
                      <a:lnTo>
                        <a:pt x="8" y="216"/>
                      </a:lnTo>
                      <a:lnTo>
                        <a:pt x="6" y="218"/>
                      </a:lnTo>
                      <a:lnTo>
                        <a:pt x="4" y="220"/>
                      </a:lnTo>
                      <a:lnTo>
                        <a:pt x="3" y="222"/>
                      </a:lnTo>
                      <a:lnTo>
                        <a:pt x="2" y="224"/>
                      </a:lnTo>
                      <a:lnTo>
                        <a:pt x="2" y="226"/>
                      </a:lnTo>
                      <a:lnTo>
                        <a:pt x="1" y="229"/>
                      </a:lnTo>
                      <a:lnTo>
                        <a:pt x="1" y="231"/>
                      </a:lnTo>
                      <a:lnTo>
                        <a:pt x="0" y="233"/>
                      </a:lnTo>
                      <a:lnTo>
                        <a:pt x="0" y="236"/>
                      </a:lnTo>
                      <a:lnTo>
                        <a:pt x="3" y="239"/>
                      </a:lnTo>
                      <a:lnTo>
                        <a:pt x="8" y="241"/>
                      </a:lnTo>
                      <a:lnTo>
                        <a:pt x="11" y="245"/>
                      </a:lnTo>
                      <a:lnTo>
                        <a:pt x="15" y="247"/>
                      </a:lnTo>
                      <a:lnTo>
                        <a:pt x="19" y="249"/>
                      </a:lnTo>
                      <a:lnTo>
                        <a:pt x="23" y="253"/>
                      </a:lnTo>
                      <a:lnTo>
                        <a:pt x="27" y="255"/>
                      </a:lnTo>
                      <a:lnTo>
                        <a:pt x="31" y="259"/>
                      </a:lnTo>
                      <a:lnTo>
                        <a:pt x="35" y="261"/>
                      </a:lnTo>
                      <a:lnTo>
                        <a:pt x="40" y="264"/>
                      </a:lnTo>
                      <a:lnTo>
                        <a:pt x="43" y="267"/>
                      </a:lnTo>
                      <a:lnTo>
                        <a:pt x="48" y="269"/>
                      </a:lnTo>
                      <a:lnTo>
                        <a:pt x="53" y="272"/>
                      </a:lnTo>
                      <a:lnTo>
                        <a:pt x="57" y="275"/>
                      </a:lnTo>
                      <a:lnTo>
                        <a:pt x="61" y="278"/>
                      </a:lnTo>
                      <a:lnTo>
                        <a:pt x="65" y="281"/>
                      </a:lnTo>
                      <a:lnTo>
                        <a:pt x="70" y="284"/>
                      </a:lnTo>
                      <a:lnTo>
                        <a:pt x="73" y="286"/>
                      </a:lnTo>
                      <a:lnTo>
                        <a:pt x="78" y="290"/>
                      </a:lnTo>
                      <a:lnTo>
                        <a:pt x="83" y="293"/>
                      </a:lnTo>
                      <a:lnTo>
                        <a:pt x="86" y="296"/>
                      </a:lnTo>
                      <a:lnTo>
                        <a:pt x="91" y="299"/>
                      </a:lnTo>
                      <a:lnTo>
                        <a:pt x="95" y="303"/>
                      </a:lnTo>
                      <a:lnTo>
                        <a:pt x="99" y="305"/>
                      </a:lnTo>
                      <a:lnTo>
                        <a:pt x="102" y="308"/>
                      </a:lnTo>
                      <a:lnTo>
                        <a:pt x="107" y="312"/>
                      </a:lnTo>
                      <a:lnTo>
                        <a:pt x="110" y="315"/>
                      </a:lnTo>
                      <a:lnTo>
                        <a:pt x="114" y="319"/>
                      </a:lnTo>
                      <a:lnTo>
                        <a:pt x="117" y="322"/>
                      </a:lnTo>
                      <a:lnTo>
                        <a:pt x="121" y="326"/>
                      </a:lnTo>
                      <a:lnTo>
                        <a:pt x="124" y="330"/>
                      </a:lnTo>
                      <a:lnTo>
                        <a:pt x="128" y="334"/>
                      </a:lnTo>
                      <a:lnTo>
                        <a:pt x="129" y="333"/>
                      </a:lnTo>
                      <a:lnTo>
                        <a:pt x="130" y="330"/>
                      </a:lnTo>
                      <a:lnTo>
                        <a:pt x="131" y="329"/>
                      </a:lnTo>
                      <a:lnTo>
                        <a:pt x="132" y="328"/>
                      </a:lnTo>
                      <a:lnTo>
                        <a:pt x="134" y="326"/>
                      </a:lnTo>
                      <a:lnTo>
                        <a:pt x="135" y="324"/>
                      </a:lnTo>
                      <a:lnTo>
                        <a:pt x="136" y="323"/>
                      </a:lnTo>
                      <a:lnTo>
                        <a:pt x="137" y="321"/>
                      </a:lnTo>
                      <a:lnTo>
                        <a:pt x="138" y="320"/>
                      </a:lnTo>
                      <a:lnTo>
                        <a:pt x="138" y="318"/>
                      </a:lnTo>
                      <a:lnTo>
                        <a:pt x="139" y="316"/>
                      </a:lnTo>
                      <a:lnTo>
                        <a:pt x="140" y="314"/>
                      </a:lnTo>
                      <a:lnTo>
                        <a:pt x="142" y="313"/>
                      </a:lnTo>
                      <a:lnTo>
                        <a:pt x="142" y="312"/>
                      </a:lnTo>
                      <a:lnTo>
                        <a:pt x="143" y="309"/>
                      </a:lnTo>
                      <a:lnTo>
                        <a:pt x="144" y="308"/>
                      </a:lnTo>
                      <a:lnTo>
                        <a:pt x="145" y="306"/>
                      </a:lnTo>
                      <a:lnTo>
                        <a:pt x="145" y="305"/>
                      </a:lnTo>
                      <a:lnTo>
                        <a:pt x="146" y="303"/>
                      </a:lnTo>
                      <a:lnTo>
                        <a:pt x="147" y="301"/>
                      </a:lnTo>
                      <a:lnTo>
                        <a:pt x="147" y="299"/>
                      </a:lnTo>
                      <a:lnTo>
                        <a:pt x="149" y="298"/>
                      </a:lnTo>
                      <a:lnTo>
                        <a:pt x="149" y="296"/>
                      </a:lnTo>
                      <a:lnTo>
                        <a:pt x="150" y="294"/>
                      </a:lnTo>
                      <a:lnTo>
                        <a:pt x="150" y="293"/>
                      </a:lnTo>
                      <a:lnTo>
                        <a:pt x="151" y="291"/>
                      </a:lnTo>
                      <a:lnTo>
                        <a:pt x="151" y="290"/>
                      </a:lnTo>
                      <a:lnTo>
                        <a:pt x="152" y="287"/>
                      </a:lnTo>
                      <a:lnTo>
                        <a:pt x="152" y="286"/>
                      </a:lnTo>
                      <a:lnTo>
                        <a:pt x="153" y="285"/>
                      </a:lnTo>
                      <a:lnTo>
                        <a:pt x="153" y="284"/>
                      </a:lnTo>
                      <a:lnTo>
                        <a:pt x="153" y="282"/>
                      </a:lnTo>
                      <a:lnTo>
                        <a:pt x="157" y="282"/>
                      </a:lnTo>
                      <a:lnTo>
                        <a:pt x="159" y="282"/>
                      </a:lnTo>
                      <a:lnTo>
                        <a:pt x="162" y="282"/>
                      </a:lnTo>
                      <a:lnTo>
                        <a:pt x="165" y="283"/>
                      </a:lnTo>
                      <a:lnTo>
                        <a:pt x="167" y="283"/>
                      </a:lnTo>
                      <a:lnTo>
                        <a:pt x="169" y="283"/>
                      </a:lnTo>
                      <a:lnTo>
                        <a:pt x="173" y="283"/>
                      </a:lnTo>
                      <a:lnTo>
                        <a:pt x="175" y="284"/>
                      </a:lnTo>
                      <a:lnTo>
                        <a:pt x="177" y="284"/>
                      </a:lnTo>
                      <a:lnTo>
                        <a:pt x="180" y="284"/>
                      </a:lnTo>
                      <a:lnTo>
                        <a:pt x="182" y="284"/>
                      </a:lnTo>
                      <a:lnTo>
                        <a:pt x="184" y="285"/>
                      </a:lnTo>
                      <a:lnTo>
                        <a:pt x="187" y="285"/>
                      </a:lnTo>
                      <a:lnTo>
                        <a:pt x="189" y="285"/>
                      </a:lnTo>
                      <a:lnTo>
                        <a:pt x="191" y="286"/>
                      </a:lnTo>
                      <a:lnTo>
                        <a:pt x="194" y="286"/>
                      </a:lnTo>
                      <a:lnTo>
                        <a:pt x="196" y="286"/>
                      </a:lnTo>
                      <a:lnTo>
                        <a:pt x="198" y="286"/>
                      </a:lnTo>
                      <a:lnTo>
                        <a:pt x="201" y="287"/>
                      </a:lnTo>
                      <a:lnTo>
                        <a:pt x="203" y="287"/>
                      </a:lnTo>
                      <a:lnTo>
                        <a:pt x="206" y="287"/>
                      </a:lnTo>
                      <a:lnTo>
                        <a:pt x="209" y="287"/>
                      </a:lnTo>
                      <a:lnTo>
                        <a:pt x="211" y="287"/>
                      </a:lnTo>
                      <a:lnTo>
                        <a:pt x="213" y="287"/>
                      </a:lnTo>
                      <a:lnTo>
                        <a:pt x="216" y="287"/>
                      </a:lnTo>
                      <a:lnTo>
                        <a:pt x="218" y="287"/>
                      </a:lnTo>
                      <a:lnTo>
                        <a:pt x="221" y="287"/>
                      </a:lnTo>
                      <a:lnTo>
                        <a:pt x="224" y="287"/>
                      </a:lnTo>
                      <a:lnTo>
                        <a:pt x="226" y="286"/>
                      </a:lnTo>
                      <a:lnTo>
                        <a:pt x="228" y="286"/>
                      </a:lnTo>
                      <a:lnTo>
                        <a:pt x="232" y="285"/>
                      </a:lnTo>
                      <a:lnTo>
                        <a:pt x="234" y="285"/>
                      </a:lnTo>
                      <a:close/>
                    </a:path>
                  </a:pathLst>
                </a:custGeom>
                <a:solidFill>
                  <a:srgbClr val="ffba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6054840" y="5843520"/>
                  <a:ext cx="125280" cy="178560"/>
                </a:xfrm>
                <a:custGeom>
                  <a:avLst/>
                  <a:gdLst/>
                  <a:ahLst/>
                  <a:rect l="l" t="t" r="r" b="b"/>
                  <a:pathLst>
                    <a:path w="239" h="295">
                      <a:moveTo>
                        <a:pt x="154" y="295"/>
                      </a:moveTo>
                      <a:lnTo>
                        <a:pt x="151" y="291"/>
                      </a:lnTo>
                      <a:lnTo>
                        <a:pt x="148" y="286"/>
                      </a:lnTo>
                      <a:lnTo>
                        <a:pt x="144" y="281"/>
                      </a:lnTo>
                      <a:lnTo>
                        <a:pt x="140" y="275"/>
                      </a:lnTo>
                      <a:lnTo>
                        <a:pt x="135" y="268"/>
                      </a:lnTo>
                      <a:lnTo>
                        <a:pt x="130" y="262"/>
                      </a:lnTo>
                      <a:lnTo>
                        <a:pt x="127" y="256"/>
                      </a:lnTo>
                      <a:lnTo>
                        <a:pt x="122" y="252"/>
                      </a:lnTo>
                      <a:lnTo>
                        <a:pt x="119" y="251"/>
                      </a:lnTo>
                      <a:lnTo>
                        <a:pt x="115" y="250"/>
                      </a:lnTo>
                      <a:lnTo>
                        <a:pt x="111" y="250"/>
                      </a:lnTo>
                      <a:lnTo>
                        <a:pt x="107" y="248"/>
                      </a:lnTo>
                      <a:lnTo>
                        <a:pt x="103" y="248"/>
                      </a:lnTo>
                      <a:lnTo>
                        <a:pt x="95" y="251"/>
                      </a:lnTo>
                      <a:lnTo>
                        <a:pt x="85" y="254"/>
                      </a:lnTo>
                      <a:lnTo>
                        <a:pt x="75" y="256"/>
                      </a:lnTo>
                      <a:lnTo>
                        <a:pt x="63" y="259"/>
                      </a:lnTo>
                      <a:lnTo>
                        <a:pt x="53" y="258"/>
                      </a:lnTo>
                      <a:lnTo>
                        <a:pt x="45" y="253"/>
                      </a:lnTo>
                      <a:lnTo>
                        <a:pt x="38" y="243"/>
                      </a:lnTo>
                      <a:lnTo>
                        <a:pt x="37" y="236"/>
                      </a:lnTo>
                      <a:lnTo>
                        <a:pt x="37" y="230"/>
                      </a:lnTo>
                      <a:lnTo>
                        <a:pt x="38" y="224"/>
                      </a:lnTo>
                      <a:lnTo>
                        <a:pt x="38" y="218"/>
                      </a:lnTo>
                      <a:lnTo>
                        <a:pt x="35" y="213"/>
                      </a:lnTo>
                      <a:lnTo>
                        <a:pt x="30" y="206"/>
                      </a:lnTo>
                      <a:lnTo>
                        <a:pt x="26" y="199"/>
                      </a:lnTo>
                      <a:lnTo>
                        <a:pt x="24" y="192"/>
                      </a:lnTo>
                      <a:lnTo>
                        <a:pt x="22" y="184"/>
                      </a:lnTo>
                      <a:lnTo>
                        <a:pt x="20" y="177"/>
                      </a:lnTo>
                      <a:lnTo>
                        <a:pt x="18" y="171"/>
                      </a:lnTo>
                      <a:lnTo>
                        <a:pt x="17" y="166"/>
                      </a:lnTo>
                      <a:lnTo>
                        <a:pt x="11" y="164"/>
                      </a:lnTo>
                      <a:lnTo>
                        <a:pt x="7" y="163"/>
                      </a:lnTo>
                      <a:lnTo>
                        <a:pt x="2" y="159"/>
                      </a:lnTo>
                      <a:lnTo>
                        <a:pt x="0" y="155"/>
                      </a:lnTo>
                      <a:lnTo>
                        <a:pt x="1" y="150"/>
                      </a:lnTo>
                      <a:lnTo>
                        <a:pt x="3" y="146"/>
                      </a:lnTo>
                      <a:lnTo>
                        <a:pt x="7" y="141"/>
                      </a:lnTo>
                      <a:lnTo>
                        <a:pt x="10" y="135"/>
                      </a:lnTo>
                      <a:lnTo>
                        <a:pt x="11" y="132"/>
                      </a:lnTo>
                      <a:lnTo>
                        <a:pt x="13" y="128"/>
                      </a:lnTo>
                      <a:lnTo>
                        <a:pt x="14" y="126"/>
                      </a:lnTo>
                      <a:lnTo>
                        <a:pt x="15" y="124"/>
                      </a:lnTo>
                      <a:lnTo>
                        <a:pt x="14" y="121"/>
                      </a:lnTo>
                      <a:lnTo>
                        <a:pt x="10" y="119"/>
                      </a:lnTo>
                      <a:lnTo>
                        <a:pt x="6" y="117"/>
                      </a:lnTo>
                      <a:lnTo>
                        <a:pt x="2" y="114"/>
                      </a:lnTo>
                      <a:lnTo>
                        <a:pt x="3" y="112"/>
                      </a:lnTo>
                      <a:lnTo>
                        <a:pt x="6" y="110"/>
                      </a:lnTo>
                      <a:lnTo>
                        <a:pt x="8" y="107"/>
                      </a:lnTo>
                      <a:lnTo>
                        <a:pt x="9" y="105"/>
                      </a:lnTo>
                      <a:lnTo>
                        <a:pt x="7" y="102"/>
                      </a:lnTo>
                      <a:lnTo>
                        <a:pt x="4" y="97"/>
                      </a:lnTo>
                      <a:lnTo>
                        <a:pt x="2" y="94"/>
                      </a:lnTo>
                      <a:lnTo>
                        <a:pt x="0" y="90"/>
                      </a:lnTo>
                      <a:lnTo>
                        <a:pt x="0" y="83"/>
                      </a:lnTo>
                      <a:lnTo>
                        <a:pt x="0" y="77"/>
                      </a:lnTo>
                      <a:lnTo>
                        <a:pt x="2" y="73"/>
                      </a:lnTo>
                      <a:lnTo>
                        <a:pt x="4" y="67"/>
                      </a:lnTo>
                      <a:lnTo>
                        <a:pt x="4" y="61"/>
                      </a:lnTo>
                      <a:lnTo>
                        <a:pt x="4" y="54"/>
                      </a:lnTo>
                      <a:lnTo>
                        <a:pt x="6" y="47"/>
                      </a:lnTo>
                      <a:lnTo>
                        <a:pt x="6" y="42"/>
                      </a:lnTo>
                      <a:lnTo>
                        <a:pt x="7" y="36"/>
                      </a:lnTo>
                      <a:lnTo>
                        <a:pt x="8" y="29"/>
                      </a:lnTo>
                      <a:lnTo>
                        <a:pt x="9" y="23"/>
                      </a:lnTo>
                      <a:lnTo>
                        <a:pt x="10" y="17"/>
                      </a:lnTo>
                      <a:lnTo>
                        <a:pt x="16" y="13"/>
                      </a:lnTo>
                      <a:lnTo>
                        <a:pt x="21" y="9"/>
                      </a:lnTo>
                      <a:lnTo>
                        <a:pt x="26" y="5"/>
                      </a:lnTo>
                      <a:lnTo>
                        <a:pt x="32" y="1"/>
                      </a:lnTo>
                      <a:lnTo>
                        <a:pt x="38" y="0"/>
                      </a:lnTo>
                      <a:lnTo>
                        <a:pt x="44" y="0"/>
                      </a:lnTo>
                      <a:lnTo>
                        <a:pt x="50" y="2"/>
                      </a:lnTo>
                      <a:lnTo>
                        <a:pt x="55" y="7"/>
                      </a:lnTo>
                      <a:lnTo>
                        <a:pt x="60" y="15"/>
                      </a:lnTo>
                      <a:lnTo>
                        <a:pt x="61" y="23"/>
                      </a:lnTo>
                      <a:lnTo>
                        <a:pt x="60" y="31"/>
                      </a:lnTo>
                      <a:lnTo>
                        <a:pt x="55" y="39"/>
                      </a:lnTo>
                      <a:lnTo>
                        <a:pt x="51" y="49"/>
                      </a:lnTo>
                      <a:lnTo>
                        <a:pt x="44" y="57"/>
                      </a:lnTo>
                      <a:lnTo>
                        <a:pt x="37" y="66"/>
                      </a:lnTo>
                      <a:lnTo>
                        <a:pt x="31" y="74"/>
                      </a:lnTo>
                      <a:lnTo>
                        <a:pt x="38" y="85"/>
                      </a:lnTo>
                      <a:lnTo>
                        <a:pt x="63" y="85"/>
                      </a:lnTo>
                      <a:lnTo>
                        <a:pt x="89" y="116"/>
                      </a:lnTo>
                      <a:lnTo>
                        <a:pt x="90" y="131"/>
                      </a:lnTo>
                      <a:lnTo>
                        <a:pt x="95" y="129"/>
                      </a:lnTo>
                      <a:lnTo>
                        <a:pt x="99" y="128"/>
                      </a:lnTo>
                      <a:lnTo>
                        <a:pt x="104" y="127"/>
                      </a:lnTo>
                      <a:lnTo>
                        <a:pt x="110" y="127"/>
                      </a:lnTo>
                      <a:lnTo>
                        <a:pt x="113" y="114"/>
                      </a:lnTo>
                      <a:lnTo>
                        <a:pt x="121" y="106"/>
                      </a:lnTo>
                      <a:lnTo>
                        <a:pt x="132" y="103"/>
                      </a:lnTo>
                      <a:lnTo>
                        <a:pt x="142" y="105"/>
                      </a:lnTo>
                      <a:lnTo>
                        <a:pt x="148" y="109"/>
                      </a:lnTo>
                      <a:lnTo>
                        <a:pt x="152" y="114"/>
                      </a:lnTo>
                      <a:lnTo>
                        <a:pt x="156" y="122"/>
                      </a:lnTo>
                      <a:lnTo>
                        <a:pt x="158" y="131"/>
                      </a:lnTo>
                      <a:lnTo>
                        <a:pt x="158" y="135"/>
                      </a:lnTo>
                      <a:lnTo>
                        <a:pt x="158" y="139"/>
                      </a:lnTo>
                      <a:lnTo>
                        <a:pt x="157" y="143"/>
                      </a:lnTo>
                      <a:lnTo>
                        <a:pt x="155" y="147"/>
                      </a:lnTo>
                      <a:lnTo>
                        <a:pt x="152" y="151"/>
                      </a:lnTo>
                      <a:lnTo>
                        <a:pt x="150" y="156"/>
                      </a:lnTo>
                      <a:lnTo>
                        <a:pt x="148" y="162"/>
                      </a:lnTo>
                      <a:lnTo>
                        <a:pt x="145" y="168"/>
                      </a:lnTo>
                      <a:lnTo>
                        <a:pt x="154" y="168"/>
                      </a:lnTo>
                      <a:lnTo>
                        <a:pt x="160" y="168"/>
                      </a:lnTo>
                      <a:lnTo>
                        <a:pt x="169" y="169"/>
                      </a:lnTo>
                      <a:lnTo>
                        <a:pt x="177" y="170"/>
                      </a:lnTo>
                      <a:lnTo>
                        <a:pt x="185" y="172"/>
                      </a:lnTo>
                      <a:lnTo>
                        <a:pt x="192" y="177"/>
                      </a:lnTo>
                      <a:lnTo>
                        <a:pt x="199" y="181"/>
                      </a:lnTo>
                      <a:lnTo>
                        <a:pt x="206" y="188"/>
                      </a:lnTo>
                      <a:lnTo>
                        <a:pt x="215" y="189"/>
                      </a:lnTo>
                      <a:lnTo>
                        <a:pt x="224" y="192"/>
                      </a:lnTo>
                      <a:lnTo>
                        <a:pt x="232" y="195"/>
                      </a:lnTo>
                      <a:lnTo>
                        <a:pt x="239" y="199"/>
                      </a:lnTo>
                      <a:lnTo>
                        <a:pt x="239" y="230"/>
                      </a:lnTo>
                      <a:lnTo>
                        <a:pt x="227" y="236"/>
                      </a:lnTo>
                      <a:lnTo>
                        <a:pt x="217" y="241"/>
                      </a:lnTo>
                      <a:lnTo>
                        <a:pt x="206" y="248"/>
                      </a:lnTo>
                      <a:lnTo>
                        <a:pt x="195" y="256"/>
                      </a:lnTo>
                      <a:lnTo>
                        <a:pt x="184" y="265"/>
                      </a:lnTo>
                      <a:lnTo>
                        <a:pt x="173" y="274"/>
                      </a:lnTo>
                      <a:lnTo>
                        <a:pt x="164" y="284"/>
                      </a:lnTo>
                      <a:lnTo>
                        <a:pt x="154" y="29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685120" y="5843520"/>
                  <a:ext cx="122040" cy="131400"/>
                </a:xfrm>
                <a:custGeom>
                  <a:avLst/>
                  <a:gdLst/>
                  <a:ahLst/>
                  <a:rect l="l" t="t" r="r" b="b"/>
                  <a:pathLst>
                    <a:path w="230" h="217">
                      <a:moveTo>
                        <a:pt x="11" y="0"/>
                      </a:moveTo>
                      <a:lnTo>
                        <a:pt x="11" y="5"/>
                      </a:lnTo>
                      <a:lnTo>
                        <a:pt x="9" y="12"/>
                      </a:lnTo>
                      <a:lnTo>
                        <a:pt x="7" y="20"/>
                      </a:lnTo>
                      <a:lnTo>
                        <a:pt x="6" y="29"/>
                      </a:lnTo>
                      <a:lnTo>
                        <a:pt x="4" y="37"/>
                      </a:lnTo>
                      <a:lnTo>
                        <a:pt x="1" y="45"/>
                      </a:lnTo>
                      <a:lnTo>
                        <a:pt x="0" y="51"/>
                      </a:lnTo>
                      <a:lnTo>
                        <a:pt x="0" y="54"/>
                      </a:lnTo>
                      <a:lnTo>
                        <a:pt x="0" y="57"/>
                      </a:lnTo>
                      <a:lnTo>
                        <a:pt x="1" y="58"/>
                      </a:lnTo>
                      <a:lnTo>
                        <a:pt x="4" y="60"/>
                      </a:lnTo>
                      <a:lnTo>
                        <a:pt x="5" y="62"/>
                      </a:lnTo>
                      <a:lnTo>
                        <a:pt x="5" y="68"/>
                      </a:lnTo>
                      <a:lnTo>
                        <a:pt x="5" y="75"/>
                      </a:lnTo>
                      <a:lnTo>
                        <a:pt x="5" y="82"/>
                      </a:lnTo>
                      <a:lnTo>
                        <a:pt x="5" y="89"/>
                      </a:lnTo>
                      <a:lnTo>
                        <a:pt x="5" y="96"/>
                      </a:lnTo>
                      <a:lnTo>
                        <a:pt x="5" y="104"/>
                      </a:lnTo>
                      <a:lnTo>
                        <a:pt x="6" y="111"/>
                      </a:lnTo>
                      <a:lnTo>
                        <a:pt x="7" y="118"/>
                      </a:lnTo>
                      <a:lnTo>
                        <a:pt x="8" y="124"/>
                      </a:lnTo>
                      <a:lnTo>
                        <a:pt x="9" y="128"/>
                      </a:lnTo>
                      <a:lnTo>
                        <a:pt x="11" y="134"/>
                      </a:lnTo>
                      <a:lnTo>
                        <a:pt x="13" y="140"/>
                      </a:lnTo>
                      <a:lnTo>
                        <a:pt x="14" y="144"/>
                      </a:lnTo>
                      <a:lnTo>
                        <a:pt x="16" y="150"/>
                      </a:lnTo>
                      <a:lnTo>
                        <a:pt x="19" y="154"/>
                      </a:lnTo>
                      <a:lnTo>
                        <a:pt x="22" y="158"/>
                      </a:lnTo>
                      <a:lnTo>
                        <a:pt x="26" y="163"/>
                      </a:lnTo>
                      <a:lnTo>
                        <a:pt x="29" y="169"/>
                      </a:lnTo>
                      <a:lnTo>
                        <a:pt x="32" y="174"/>
                      </a:lnTo>
                      <a:lnTo>
                        <a:pt x="37" y="184"/>
                      </a:lnTo>
                      <a:lnTo>
                        <a:pt x="39" y="200"/>
                      </a:lnTo>
                      <a:lnTo>
                        <a:pt x="44" y="208"/>
                      </a:lnTo>
                      <a:lnTo>
                        <a:pt x="51" y="213"/>
                      </a:lnTo>
                      <a:lnTo>
                        <a:pt x="58" y="214"/>
                      </a:lnTo>
                      <a:lnTo>
                        <a:pt x="66" y="216"/>
                      </a:lnTo>
                      <a:lnTo>
                        <a:pt x="73" y="217"/>
                      </a:lnTo>
                      <a:lnTo>
                        <a:pt x="80" y="217"/>
                      </a:lnTo>
                      <a:lnTo>
                        <a:pt x="86" y="216"/>
                      </a:lnTo>
                      <a:lnTo>
                        <a:pt x="91" y="214"/>
                      </a:lnTo>
                      <a:lnTo>
                        <a:pt x="97" y="213"/>
                      </a:lnTo>
                      <a:lnTo>
                        <a:pt x="103" y="210"/>
                      </a:lnTo>
                      <a:lnTo>
                        <a:pt x="109" y="209"/>
                      </a:lnTo>
                      <a:lnTo>
                        <a:pt x="115" y="210"/>
                      </a:lnTo>
                      <a:lnTo>
                        <a:pt x="120" y="213"/>
                      </a:lnTo>
                      <a:lnTo>
                        <a:pt x="124" y="214"/>
                      </a:lnTo>
                      <a:lnTo>
                        <a:pt x="127" y="215"/>
                      </a:lnTo>
                      <a:lnTo>
                        <a:pt x="140" y="209"/>
                      </a:lnTo>
                      <a:lnTo>
                        <a:pt x="151" y="201"/>
                      </a:lnTo>
                      <a:lnTo>
                        <a:pt x="163" y="191"/>
                      </a:lnTo>
                      <a:lnTo>
                        <a:pt x="173" y="179"/>
                      </a:lnTo>
                      <a:lnTo>
                        <a:pt x="183" y="166"/>
                      </a:lnTo>
                      <a:lnTo>
                        <a:pt x="192" y="154"/>
                      </a:lnTo>
                      <a:lnTo>
                        <a:pt x="199" y="140"/>
                      </a:lnTo>
                      <a:lnTo>
                        <a:pt x="206" y="127"/>
                      </a:lnTo>
                      <a:lnTo>
                        <a:pt x="203" y="125"/>
                      </a:lnTo>
                      <a:lnTo>
                        <a:pt x="200" y="122"/>
                      </a:lnTo>
                      <a:lnTo>
                        <a:pt x="197" y="120"/>
                      </a:lnTo>
                      <a:lnTo>
                        <a:pt x="193" y="119"/>
                      </a:lnTo>
                      <a:lnTo>
                        <a:pt x="206" y="118"/>
                      </a:lnTo>
                      <a:lnTo>
                        <a:pt x="213" y="116"/>
                      </a:lnTo>
                      <a:lnTo>
                        <a:pt x="217" y="111"/>
                      </a:lnTo>
                      <a:lnTo>
                        <a:pt x="220" y="106"/>
                      </a:lnTo>
                      <a:lnTo>
                        <a:pt x="222" y="103"/>
                      </a:lnTo>
                      <a:lnTo>
                        <a:pt x="223" y="98"/>
                      </a:lnTo>
                      <a:lnTo>
                        <a:pt x="224" y="95"/>
                      </a:lnTo>
                      <a:lnTo>
                        <a:pt x="224" y="91"/>
                      </a:lnTo>
                      <a:lnTo>
                        <a:pt x="225" y="87"/>
                      </a:lnTo>
                      <a:lnTo>
                        <a:pt x="227" y="82"/>
                      </a:lnTo>
                      <a:lnTo>
                        <a:pt x="228" y="77"/>
                      </a:lnTo>
                      <a:lnTo>
                        <a:pt x="230" y="72"/>
                      </a:lnTo>
                      <a:lnTo>
                        <a:pt x="230" y="61"/>
                      </a:lnTo>
                      <a:lnTo>
                        <a:pt x="225" y="55"/>
                      </a:lnTo>
                      <a:lnTo>
                        <a:pt x="217" y="54"/>
                      </a:lnTo>
                      <a:lnTo>
                        <a:pt x="208" y="57"/>
                      </a:lnTo>
                      <a:lnTo>
                        <a:pt x="203" y="59"/>
                      </a:lnTo>
                      <a:lnTo>
                        <a:pt x="198" y="61"/>
                      </a:lnTo>
                      <a:lnTo>
                        <a:pt x="192" y="66"/>
                      </a:lnTo>
                      <a:lnTo>
                        <a:pt x="187" y="70"/>
                      </a:lnTo>
                      <a:lnTo>
                        <a:pt x="183" y="76"/>
                      </a:lnTo>
                      <a:lnTo>
                        <a:pt x="179" y="82"/>
                      </a:lnTo>
                      <a:lnTo>
                        <a:pt x="176" y="89"/>
                      </a:lnTo>
                      <a:lnTo>
                        <a:pt x="173" y="96"/>
                      </a:lnTo>
                      <a:lnTo>
                        <a:pt x="170" y="98"/>
                      </a:lnTo>
                      <a:lnTo>
                        <a:pt x="167" y="98"/>
                      </a:lnTo>
                      <a:lnTo>
                        <a:pt x="162" y="96"/>
                      </a:lnTo>
                      <a:lnTo>
                        <a:pt x="158" y="92"/>
                      </a:lnTo>
                      <a:lnTo>
                        <a:pt x="158" y="88"/>
                      </a:lnTo>
                      <a:lnTo>
                        <a:pt x="157" y="84"/>
                      </a:lnTo>
                      <a:lnTo>
                        <a:pt x="157" y="80"/>
                      </a:lnTo>
                      <a:lnTo>
                        <a:pt x="157" y="75"/>
                      </a:lnTo>
                      <a:lnTo>
                        <a:pt x="153" y="68"/>
                      </a:lnTo>
                      <a:lnTo>
                        <a:pt x="148" y="66"/>
                      </a:lnTo>
                      <a:lnTo>
                        <a:pt x="145" y="65"/>
                      </a:lnTo>
                      <a:lnTo>
                        <a:pt x="141" y="64"/>
                      </a:lnTo>
                      <a:lnTo>
                        <a:pt x="147" y="54"/>
                      </a:lnTo>
                      <a:lnTo>
                        <a:pt x="149" y="45"/>
                      </a:lnTo>
                      <a:lnTo>
                        <a:pt x="148" y="38"/>
                      </a:lnTo>
                      <a:lnTo>
                        <a:pt x="143" y="34"/>
                      </a:lnTo>
                      <a:lnTo>
                        <a:pt x="135" y="31"/>
                      </a:lnTo>
                      <a:lnTo>
                        <a:pt x="126" y="31"/>
                      </a:lnTo>
                      <a:lnTo>
                        <a:pt x="115" y="32"/>
                      </a:lnTo>
                      <a:lnTo>
                        <a:pt x="103" y="34"/>
                      </a:lnTo>
                      <a:lnTo>
                        <a:pt x="91" y="36"/>
                      </a:lnTo>
                      <a:lnTo>
                        <a:pt x="80" y="38"/>
                      </a:lnTo>
                      <a:lnTo>
                        <a:pt x="71" y="39"/>
                      </a:lnTo>
                      <a:lnTo>
                        <a:pt x="65" y="38"/>
                      </a:lnTo>
                      <a:lnTo>
                        <a:pt x="54" y="36"/>
                      </a:lnTo>
                      <a:lnTo>
                        <a:pt x="46" y="34"/>
                      </a:lnTo>
                      <a:lnTo>
                        <a:pt x="41" y="30"/>
                      </a:lnTo>
                      <a:lnTo>
                        <a:pt x="36" y="27"/>
                      </a:lnTo>
                      <a:lnTo>
                        <a:pt x="31" y="22"/>
                      </a:lnTo>
                      <a:lnTo>
                        <a:pt x="26" y="15"/>
                      </a:lnTo>
                      <a:lnTo>
                        <a:pt x="20" y="8"/>
                      </a:lnTo>
                      <a:lnTo>
                        <a:pt x="1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259600" y="5816160"/>
                  <a:ext cx="112680" cy="155160"/>
                </a:xfrm>
                <a:custGeom>
                  <a:avLst/>
                  <a:gdLst/>
                  <a:ahLst/>
                  <a:rect l="l" t="t" r="r" b="b"/>
                  <a:pathLst>
                    <a:path w="215" h="255">
                      <a:moveTo>
                        <a:pt x="166" y="222"/>
                      </a:moveTo>
                      <a:lnTo>
                        <a:pt x="174" y="218"/>
                      </a:lnTo>
                      <a:lnTo>
                        <a:pt x="181" y="215"/>
                      </a:lnTo>
                      <a:lnTo>
                        <a:pt x="184" y="207"/>
                      </a:lnTo>
                      <a:lnTo>
                        <a:pt x="183" y="195"/>
                      </a:lnTo>
                      <a:lnTo>
                        <a:pt x="186" y="193"/>
                      </a:lnTo>
                      <a:lnTo>
                        <a:pt x="189" y="189"/>
                      </a:lnTo>
                      <a:lnTo>
                        <a:pt x="191" y="187"/>
                      </a:lnTo>
                      <a:lnTo>
                        <a:pt x="194" y="185"/>
                      </a:lnTo>
                      <a:lnTo>
                        <a:pt x="194" y="181"/>
                      </a:lnTo>
                      <a:lnTo>
                        <a:pt x="193" y="178"/>
                      </a:lnTo>
                      <a:lnTo>
                        <a:pt x="191" y="175"/>
                      </a:lnTo>
                      <a:lnTo>
                        <a:pt x="193" y="172"/>
                      </a:lnTo>
                      <a:lnTo>
                        <a:pt x="197" y="163"/>
                      </a:lnTo>
                      <a:lnTo>
                        <a:pt x="195" y="150"/>
                      </a:lnTo>
                      <a:lnTo>
                        <a:pt x="197" y="150"/>
                      </a:lnTo>
                      <a:lnTo>
                        <a:pt x="199" y="150"/>
                      </a:lnTo>
                      <a:lnTo>
                        <a:pt x="202" y="149"/>
                      </a:lnTo>
                      <a:lnTo>
                        <a:pt x="208" y="149"/>
                      </a:lnTo>
                      <a:lnTo>
                        <a:pt x="212" y="145"/>
                      </a:lnTo>
                      <a:lnTo>
                        <a:pt x="215" y="141"/>
                      </a:lnTo>
                      <a:lnTo>
                        <a:pt x="215" y="137"/>
                      </a:lnTo>
                      <a:lnTo>
                        <a:pt x="212" y="133"/>
                      </a:lnTo>
                      <a:lnTo>
                        <a:pt x="206" y="125"/>
                      </a:lnTo>
                      <a:lnTo>
                        <a:pt x="202" y="116"/>
                      </a:lnTo>
                      <a:lnTo>
                        <a:pt x="199" y="111"/>
                      </a:lnTo>
                      <a:lnTo>
                        <a:pt x="196" y="104"/>
                      </a:lnTo>
                      <a:lnTo>
                        <a:pt x="195" y="99"/>
                      </a:lnTo>
                      <a:lnTo>
                        <a:pt x="193" y="95"/>
                      </a:lnTo>
                      <a:lnTo>
                        <a:pt x="190" y="90"/>
                      </a:lnTo>
                      <a:lnTo>
                        <a:pt x="187" y="85"/>
                      </a:lnTo>
                      <a:lnTo>
                        <a:pt x="193" y="78"/>
                      </a:lnTo>
                      <a:lnTo>
                        <a:pt x="196" y="73"/>
                      </a:lnTo>
                      <a:lnTo>
                        <a:pt x="196" y="68"/>
                      </a:lnTo>
                      <a:lnTo>
                        <a:pt x="195" y="61"/>
                      </a:lnTo>
                      <a:lnTo>
                        <a:pt x="194" y="55"/>
                      </a:lnTo>
                      <a:lnTo>
                        <a:pt x="193" y="49"/>
                      </a:lnTo>
                      <a:lnTo>
                        <a:pt x="191" y="44"/>
                      </a:lnTo>
                      <a:lnTo>
                        <a:pt x="191" y="38"/>
                      </a:lnTo>
                      <a:lnTo>
                        <a:pt x="187" y="40"/>
                      </a:lnTo>
                      <a:lnTo>
                        <a:pt x="182" y="40"/>
                      </a:lnTo>
                      <a:lnTo>
                        <a:pt x="179" y="40"/>
                      </a:lnTo>
                      <a:lnTo>
                        <a:pt x="175" y="39"/>
                      </a:lnTo>
                      <a:lnTo>
                        <a:pt x="183" y="37"/>
                      </a:lnTo>
                      <a:lnTo>
                        <a:pt x="188" y="31"/>
                      </a:lnTo>
                      <a:lnTo>
                        <a:pt x="189" y="25"/>
                      </a:lnTo>
                      <a:lnTo>
                        <a:pt x="189" y="21"/>
                      </a:lnTo>
                      <a:lnTo>
                        <a:pt x="187" y="16"/>
                      </a:lnTo>
                      <a:lnTo>
                        <a:pt x="183" y="10"/>
                      </a:lnTo>
                      <a:lnTo>
                        <a:pt x="180" y="4"/>
                      </a:lnTo>
                      <a:lnTo>
                        <a:pt x="176" y="0"/>
                      </a:lnTo>
                      <a:lnTo>
                        <a:pt x="174" y="4"/>
                      </a:lnTo>
                      <a:lnTo>
                        <a:pt x="172" y="9"/>
                      </a:lnTo>
                      <a:lnTo>
                        <a:pt x="167" y="15"/>
                      </a:lnTo>
                      <a:lnTo>
                        <a:pt x="161" y="19"/>
                      </a:lnTo>
                      <a:lnTo>
                        <a:pt x="163" y="26"/>
                      </a:lnTo>
                      <a:lnTo>
                        <a:pt x="164" y="33"/>
                      </a:lnTo>
                      <a:lnTo>
                        <a:pt x="163" y="41"/>
                      </a:lnTo>
                      <a:lnTo>
                        <a:pt x="159" y="49"/>
                      </a:lnTo>
                      <a:lnTo>
                        <a:pt x="149" y="61"/>
                      </a:lnTo>
                      <a:lnTo>
                        <a:pt x="138" y="70"/>
                      </a:lnTo>
                      <a:lnTo>
                        <a:pt x="127" y="80"/>
                      </a:lnTo>
                      <a:lnTo>
                        <a:pt x="116" y="88"/>
                      </a:lnTo>
                      <a:lnTo>
                        <a:pt x="106" y="96"/>
                      </a:lnTo>
                      <a:lnTo>
                        <a:pt x="96" y="105"/>
                      </a:lnTo>
                      <a:lnTo>
                        <a:pt x="86" y="115"/>
                      </a:lnTo>
                      <a:lnTo>
                        <a:pt x="79" y="126"/>
                      </a:lnTo>
                      <a:lnTo>
                        <a:pt x="75" y="131"/>
                      </a:lnTo>
                      <a:lnTo>
                        <a:pt x="49" y="131"/>
                      </a:lnTo>
                      <a:lnTo>
                        <a:pt x="44" y="120"/>
                      </a:lnTo>
                      <a:lnTo>
                        <a:pt x="34" y="114"/>
                      </a:lnTo>
                      <a:lnTo>
                        <a:pt x="24" y="112"/>
                      </a:lnTo>
                      <a:lnTo>
                        <a:pt x="13" y="114"/>
                      </a:lnTo>
                      <a:lnTo>
                        <a:pt x="4" y="119"/>
                      </a:lnTo>
                      <a:lnTo>
                        <a:pt x="0" y="128"/>
                      </a:lnTo>
                      <a:lnTo>
                        <a:pt x="0" y="138"/>
                      </a:lnTo>
                      <a:lnTo>
                        <a:pt x="7" y="151"/>
                      </a:lnTo>
                      <a:lnTo>
                        <a:pt x="7" y="193"/>
                      </a:lnTo>
                      <a:lnTo>
                        <a:pt x="13" y="201"/>
                      </a:lnTo>
                      <a:lnTo>
                        <a:pt x="22" y="209"/>
                      </a:lnTo>
                      <a:lnTo>
                        <a:pt x="30" y="216"/>
                      </a:lnTo>
                      <a:lnTo>
                        <a:pt x="39" y="224"/>
                      </a:lnTo>
                      <a:lnTo>
                        <a:pt x="47" y="232"/>
                      </a:lnTo>
                      <a:lnTo>
                        <a:pt x="56" y="239"/>
                      </a:lnTo>
                      <a:lnTo>
                        <a:pt x="63" y="247"/>
                      </a:lnTo>
                      <a:lnTo>
                        <a:pt x="70" y="255"/>
                      </a:lnTo>
                      <a:lnTo>
                        <a:pt x="101" y="219"/>
                      </a:lnTo>
                      <a:lnTo>
                        <a:pt x="109" y="219"/>
                      </a:lnTo>
                      <a:lnTo>
                        <a:pt x="117" y="219"/>
                      </a:lnTo>
                      <a:lnTo>
                        <a:pt x="127" y="220"/>
                      </a:lnTo>
                      <a:lnTo>
                        <a:pt x="136" y="220"/>
                      </a:lnTo>
                      <a:lnTo>
                        <a:pt x="144" y="222"/>
                      </a:lnTo>
                      <a:lnTo>
                        <a:pt x="152" y="222"/>
                      </a:lnTo>
                      <a:lnTo>
                        <a:pt x="159" y="222"/>
                      </a:lnTo>
                      <a:lnTo>
                        <a:pt x="166" y="22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4991400" y="5801400"/>
                  <a:ext cx="168120" cy="204120"/>
                </a:xfrm>
                <a:custGeom>
                  <a:avLst/>
                  <a:gdLst/>
                  <a:ahLst/>
                  <a:rect l="l" t="t" r="r" b="b"/>
                  <a:pathLst>
                    <a:path w="317" h="334">
                      <a:moveTo>
                        <a:pt x="234" y="285"/>
                      </a:moveTo>
                      <a:lnTo>
                        <a:pt x="241" y="284"/>
                      </a:lnTo>
                      <a:lnTo>
                        <a:pt x="247" y="282"/>
                      </a:lnTo>
                      <a:lnTo>
                        <a:pt x="253" y="277"/>
                      </a:lnTo>
                      <a:lnTo>
                        <a:pt x="257" y="272"/>
                      </a:lnTo>
                      <a:lnTo>
                        <a:pt x="259" y="266"/>
                      </a:lnTo>
                      <a:lnTo>
                        <a:pt x="259" y="257"/>
                      </a:lnTo>
                      <a:lnTo>
                        <a:pt x="257" y="249"/>
                      </a:lnTo>
                      <a:lnTo>
                        <a:pt x="250" y="239"/>
                      </a:lnTo>
                      <a:lnTo>
                        <a:pt x="255" y="232"/>
                      </a:lnTo>
                      <a:lnTo>
                        <a:pt x="259" y="227"/>
                      </a:lnTo>
                      <a:lnTo>
                        <a:pt x="263" y="223"/>
                      </a:lnTo>
                      <a:lnTo>
                        <a:pt x="264" y="219"/>
                      </a:lnTo>
                      <a:lnTo>
                        <a:pt x="261" y="214"/>
                      </a:lnTo>
                      <a:lnTo>
                        <a:pt x="256" y="211"/>
                      </a:lnTo>
                      <a:lnTo>
                        <a:pt x="251" y="210"/>
                      </a:lnTo>
                      <a:lnTo>
                        <a:pt x="249" y="208"/>
                      </a:lnTo>
                      <a:lnTo>
                        <a:pt x="256" y="203"/>
                      </a:lnTo>
                      <a:lnTo>
                        <a:pt x="264" y="201"/>
                      </a:lnTo>
                      <a:lnTo>
                        <a:pt x="271" y="200"/>
                      </a:lnTo>
                      <a:lnTo>
                        <a:pt x="276" y="196"/>
                      </a:lnTo>
                      <a:lnTo>
                        <a:pt x="278" y="193"/>
                      </a:lnTo>
                      <a:lnTo>
                        <a:pt x="278" y="187"/>
                      </a:lnTo>
                      <a:lnTo>
                        <a:pt x="278" y="181"/>
                      </a:lnTo>
                      <a:lnTo>
                        <a:pt x="278" y="173"/>
                      </a:lnTo>
                      <a:lnTo>
                        <a:pt x="283" y="173"/>
                      </a:lnTo>
                      <a:lnTo>
                        <a:pt x="291" y="171"/>
                      </a:lnTo>
                      <a:lnTo>
                        <a:pt x="299" y="170"/>
                      </a:lnTo>
                      <a:lnTo>
                        <a:pt x="307" y="169"/>
                      </a:lnTo>
                      <a:lnTo>
                        <a:pt x="311" y="166"/>
                      </a:lnTo>
                      <a:lnTo>
                        <a:pt x="316" y="160"/>
                      </a:lnTo>
                      <a:lnTo>
                        <a:pt x="317" y="153"/>
                      </a:lnTo>
                      <a:lnTo>
                        <a:pt x="315" y="147"/>
                      </a:lnTo>
                      <a:lnTo>
                        <a:pt x="310" y="140"/>
                      </a:lnTo>
                      <a:lnTo>
                        <a:pt x="307" y="134"/>
                      </a:lnTo>
                      <a:lnTo>
                        <a:pt x="302" y="128"/>
                      </a:lnTo>
                      <a:lnTo>
                        <a:pt x="299" y="122"/>
                      </a:lnTo>
                      <a:lnTo>
                        <a:pt x="295" y="115"/>
                      </a:lnTo>
                      <a:lnTo>
                        <a:pt x="292" y="110"/>
                      </a:lnTo>
                      <a:lnTo>
                        <a:pt x="288" y="103"/>
                      </a:lnTo>
                      <a:lnTo>
                        <a:pt x="286" y="96"/>
                      </a:lnTo>
                      <a:lnTo>
                        <a:pt x="283" y="88"/>
                      </a:lnTo>
                      <a:lnTo>
                        <a:pt x="285" y="82"/>
                      </a:lnTo>
                      <a:lnTo>
                        <a:pt x="287" y="77"/>
                      </a:lnTo>
                      <a:lnTo>
                        <a:pt x="290" y="73"/>
                      </a:lnTo>
                      <a:lnTo>
                        <a:pt x="290" y="69"/>
                      </a:lnTo>
                      <a:lnTo>
                        <a:pt x="291" y="66"/>
                      </a:lnTo>
                      <a:lnTo>
                        <a:pt x="292" y="61"/>
                      </a:lnTo>
                      <a:lnTo>
                        <a:pt x="293" y="55"/>
                      </a:lnTo>
                      <a:lnTo>
                        <a:pt x="293" y="50"/>
                      </a:lnTo>
                      <a:lnTo>
                        <a:pt x="293" y="44"/>
                      </a:lnTo>
                      <a:lnTo>
                        <a:pt x="292" y="38"/>
                      </a:lnTo>
                      <a:lnTo>
                        <a:pt x="292" y="33"/>
                      </a:lnTo>
                      <a:lnTo>
                        <a:pt x="290" y="29"/>
                      </a:lnTo>
                      <a:lnTo>
                        <a:pt x="278" y="37"/>
                      </a:lnTo>
                      <a:lnTo>
                        <a:pt x="265" y="39"/>
                      </a:lnTo>
                      <a:lnTo>
                        <a:pt x="251" y="37"/>
                      </a:lnTo>
                      <a:lnTo>
                        <a:pt x="238" y="32"/>
                      </a:lnTo>
                      <a:lnTo>
                        <a:pt x="225" y="24"/>
                      </a:lnTo>
                      <a:lnTo>
                        <a:pt x="213" y="16"/>
                      </a:lnTo>
                      <a:lnTo>
                        <a:pt x="204" y="8"/>
                      </a:lnTo>
                      <a:lnTo>
                        <a:pt x="197" y="0"/>
                      </a:lnTo>
                      <a:lnTo>
                        <a:pt x="195" y="6"/>
                      </a:lnTo>
                      <a:lnTo>
                        <a:pt x="195" y="9"/>
                      </a:lnTo>
                      <a:lnTo>
                        <a:pt x="196" y="13"/>
                      </a:lnTo>
                      <a:lnTo>
                        <a:pt x="196" y="18"/>
                      </a:lnTo>
                      <a:lnTo>
                        <a:pt x="194" y="19"/>
                      </a:lnTo>
                      <a:lnTo>
                        <a:pt x="190" y="21"/>
                      </a:lnTo>
                      <a:lnTo>
                        <a:pt x="187" y="23"/>
                      </a:lnTo>
                      <a:lnTo>
                        <a:pt x="183" y="23"/>
                      </a:lnTo>
                      <a:lnTo>
                        <a:pt x="190" y="24"/>
                      </a:lnTo>
                      <a:lnTo>
                        <a:pt x="196" y="26"/>
                      </a:lnTo>
                      <a:lnTo>
                        <a:pt x="201" y="28"/>
                      </a:lnTo>
                      <a:lnTo>
                        <a:pt x="205" y="29"/>
                      </a:lnTo>
                      <a:lnTo>
                        <a:pt x="202" y="29"/>
                      </a:lnTo>
                      <a:lnTo>
                        <a:pt x="198" y="31"/>
                      </a:lnTo>
                      <a:lnTo>
                        <a:pt x="195" y="33"/>
                      </a:lnTo>
                      <a:lnTo>
                        <a:pt x="192" y="33"/>
                      </a:lnTo>
                      <a:lnTo>
                        <a:pt x="198" y="35"/>
                      </a:lnTo>
                      <a:lnTo>
                        <a:pt x="204" y="37"/>
                      </a:lnTo>
                      <a:lnTo>
                        <a:pt x="210" y="38"/>
                      </a:lnTo>
                      <a:lnTo>
                        <a:pt x="213" y="39"/>
                      </a:lnTo>
                      <a:lnTo>
                        <a:pt x="205" y="50"/>
                      </a:lnTo>
                      <a:lnTo>
                        <a:pt x="211" y="50"/>
                      </a:lnTo>
                      <a:lnTo>
                        <a:pt x="217" y="51"/>
                      </a:lnTo>
                      <a:lnTo>
                        <a:pt x="220" y="54"/>
                      </a:lnTo>
                      <a:lnTo>
                        <a:pt x="223" y="60"/>
                      </a:lnTo>
                      <a:lnTo>
                        <a:pt x="212" y="63"/>
                      </a:lnTo>
                      <a:lnTo>
                        <a:pt x="204" y="69"/>
                      </a:lnTo>
                      <a:lnTo>
                        <a:pt x="195" y="76"/>
                      </a:lnTo>
                      <a:lnTo>
                        <a:pt x="187" y="85"/>
                      </a:lnTo>
                      <a:lnTo>
                        <a:pt x="179" y="95"/>
                      </a:lnTo>
                      <a:lnTo>
                        <a:pt x="172" y="105"/>
                      </a:lnTo>
                      <a:lnTo>
                        <a:pt x="165" y="114"/>
                      </a:lnTo>
                      <a:lnTo>
                        <a:pt x="158" y="122"/>
                      </a:lnTo>
                      <a:lnTo>
                        <a:pt x="150" y="120"/>
                      </a:lnTo>
                      <a:lnTo>
                        <a:pt x="142" y="117"/>
                      </a:lnTo>
                      <a:lnTo>
                        <a:pt x="134" y="111"/>
                      </a:lnTo>
                      <a:lnTo>
                        <a:pt x="128" y="106"/>
                      </a:lnTo>
                      <a:lnTo>
                        <a:pt x="128" y="103"/>
                      </a:lnTo>
                      <a:lnTo>
                        <a:pt x="129" y="97"/>
                      </a:lnTo>
                      <a:lnTo>
                        <a:pt x="129" y="92"/>
                      </a:lnTo>
                      <a:lnTo>
                        <a:pt x="131" y="86"/>
                      </a:lnTo>
                      <a:lnTo>
                        <a:pt x="125" y="75"/>
                      </a:lnTo>
                      <a:lnTo>
                        <a:pt x="119" y="66"/>
                      </a:lnTo>
                      <a:lnTo>
                        <a:pt x="109" y="60"/>
                      </a:lnTo>
                      <a:lnTo>
                        <a:pt x="100" y="58"/>
                      </a:lnTo>
                      <a:lnTo>
                        <a:pt x="90" y="59"/>
                      </a:lnTo>
                      <a:lnTo>
                        <a:pt x="80" y="63"/>
                      </a:lnTo>
                      <a:lnTo>
                        <a:pt x="73" y="73"/>
                      </a:lnTo>
                      <a:lnTo>
                        <a:pt x="68" y="85"/>
                      </a:lnTo>
                      <a:lnTo>
                        <a:pt x="68" y="96"/>
                      </a:lnTo>
                      <a:lnTo>
                        <a:pt x="69" y="105"/>
                      </a:lnTo>
                      <a:lnTo>
                        <a:pt x="69" y="114"/>
                      </a:lnTo>
                      <a:lnTo>
                        <a:pt x="70" y="123"/>
                      </a:lnTo>
                      <a:lnTo>
                        <a:pt x="72" y="133"/>
                      </a:lnTo>
                      <a:lnTo>
                        <a:pt x="75" y="142"/>
                      </a:lnTo>
                      <a:lnTo>
                        <a:pt x="79" y="150"/>
                      </a:lnTo>
                      <a:lnTo>
                        <a:pt x="85" y="158"/>
                      </a:lnTo>
                      <a:lnTo>
                        <a:pt x="75" y="159"/>
                      </a:lnTo>
                      <a:lnTo>
                        <a:pt x="63" y="163"/>
                      </a:lnTo>
                      <a:lnTo>
                        <a:pt x="55" y="170"/>
                      </a:lnTo>
                      <a:lnTo>
                        <a:pt x="52" y="179"/>
                      </a:lnTo>
                      <a:lnTo>
                        <a:pt x="45" y="185"/>
                      </a:lnTo>
                      <a:lnTo>
                        <a:pt x="38" y="190"/>
                      </a:lnTo>
                      <a:lnTo>
                        <a:pt x="30" y="197"/>
                      </a:lnTo>
                      <a:lnTo>
                        <a:pt x="20" y="203"/>
                      </a:lnTo>
                      <a:lnTo>
                        <a:pt x="12" y="210"/>
                      </a:lnTo>
                      <a:lnTo>
                        <a:pt x="6" y="218"/>
                      </a:lnTo>
                      <a:lnTo>
                        <a:pt x="2" y="226"/>
                      </a:lnTo>
                      <a:lnTo>
                        <a:pt x="0" y="236"/>
                      </a:lnTo>
                      <a:lnTo>
                        <a:pt x="15" y="247"/>
                      </a:lnTo>
                      <a:lnTo>
                        <a:pt x="31" y="259"/>
                      </a:lnTo>
                      <a:lnTo>
                        <a:pt x="48" y="269"/>
                      </a:lnTo>
                      <a:lnTo>
                        <a:pt x="65" y="281"/>
                      </a:lnTo>
                      <a:lnTo>
                        <a:pt x="83" y="293"/>
                      </a:lnTo>
                      <a:lnTo>
                        <a:pt x="99" y="305"/>
                      </a:lnTo>
                      <a:lnTo>
                        <a:pt x="114" y="319"/>
                      </a:lnTo>
                      <a:lnTo>
                        <a:pt x="128" y="334"/>
                      </a:lnTo>
                      <a:lnTo>
                        <a:pt x="132" y="328"/>
                      </a:lnTo>
                      <a:lnTo>
                        <a:pt x="137" y="321"/>
                      </a:lnTo>
                      <a:lnTo>
                        <a:pt x="140" y="314"/>
                      </a:lnTo>
                      <a:lnTo>
                        <a:pt x="144" y="308"/>
                      </a:lnTo>
                      <a:lnTo>
                        <a:pt x="147" y="301"/>
                      </a:lnTo>
                      <a:lnTo>
                        <a:pt x="150" y="294"/>
                      </a:lnTo>
                      <a:lnTo>
                        <a:pt x="152" y="287"/>
                      </a:lnTo>
                      <a:lnTo>
                        <a:pt x="153" y="282"/>
                      </a:lnTo>
                      <a:lnTo>
                        <a:pt x="165" y="283"/>
                      </a:lnTo>
                      <a:lnTo>
                        <a:pt x="175" y="284"/>
                      </a:lnTo>
                      <a:lnTo>
                        <a:pt x="184" y="285"/>
                      </a:lnTo>
                      <a:lnTo>
                        <a:pt x="194" y="286"/>
                      </a:lnTo>
                      <a:lnTo>
                        <a:pt x="203" y="287"/>
                      </a:lnTo>
                      <a:lnTo>
                        <a:pt x="213" y="287"/>
                      </a:lnTo>
                      <a:lnTo>
                        <a:pt x="224" y="287"/>
                      </a:lnTo>
                      <a:lnTo>
                        <a:pt x="234" y="28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4991400" y="5845320"/>
                  <a:ext cx="1188720" cy="176400"/>
                </a:xfrm>
                <a:custGeom>
                  <a:avLst/>
                  <a:gdLst/>
                  <a:ahLst/>
                  <a:rect l="l" t="t" r="r" b="b"/>
                  <a:pathLst>
                    <a:path w="2248" h="293">
                      <a:moveTo>
                        <a:pt x="1321" y="45"/>
                      </a:moveTo>
                      <a:lnTo>
                        <a:pt x="1320" y="45"/>
                      </a:lnTo>
                      <a:lnTo>
                        <a:pt x="1319" y="47"/>
                      </a:lnTo>
                      <a:lnTo>
                        <a:pt x="1318" y="47"/>
                      </a:lnTo>
                      <a:lnTo>
                        <a:pt x="1317" y="47"/>
                      </a:lnTo>
                      <a:lnTo>
                        <a:pt x="1316" y="48"/>
                      </a:lnTo>
                      <a:lnTo>
                        <a:pt x="1314" y="48"/>
                      </a:lnTo>
                      <a:lnTo>
                        <a:pt x="1314" y="49"/>
                      </a:lnTo>
                      <a:lnTo>
                        <a:pt x="1313" y="50"/>
                      </a:lnTo>
                      <a:lnTo>
                        <a:pt x="1313" y="51"/>
                      </a:lnTo>
                      <a:lnTo>
                        <a:pt x="1312" y="51"/>
                      </a:lnTo>
                      <a:lnTo>
                        <a:pt x="1312" y="52"/>
                      </a:lnTo>
                      <a:lnTo>
                        <a:pt x="1312" y="53"/>
                      </a:lnTo>
                      <a:lnTo>
                        <a:pt x="1312" y="55"/>
                      </a:lnTo>
                      <a:lnTo>
                        <a:pt x="1313" y="55"/>
                      </a:lnTo>
                      <a:lnTo>
                        <a:pt x="1313" y="56"/>
                      </a:lnTo>
                      <a:lnTo>
                        <a:pt x="1314" y="57"/>
                      </a:lnTo>
                      <a:lnTo>
                        <a:pt x="1314" y="58"/>
                      </a:lnTo>
                      <a:lnTo>
                        <a:pt x="1316" y="58"/>
                      </a:lnTo>
                      <a:lnTo>
                        <a:pt x="1316" y="59"/>
                      </a:lnTo>
                      <a:lnTo>
                        <a:pt x="1317" y="59"/>
                      </a:lnTo>
                      <a:lnTo>
                        <a:pt x="1317" y="60"/>
                      </a:lnTo>
                      <a:lnTo>
                        <a:pt x="1317" y="62"/>
                      </a:lnTo>
                      <a:lnTo>
                        <a:pt x="1317" y="63"/>
                      </a:lnTo>
                      <a:lnTo>
                        <a:pt x="1317" y="64"/>
                      </a:lnTo>
                      <a:lnTo>
                        <a:pt x="1317" y="66"/>
                      </a:lnTo>
                      <a:lnTo>
                        <a:pt x="1317" y="67"/>
                      </a:lnTo>
                      <a:lnTo>
                        <a:pt x="1317" y="70"/>
                      </a:lnTo>
                      <a:lnTo>
                        <a:pt x="1317" y="71"/>
                      </a:lnTo>
                      <a:lnTo>
                        <a:pt x="1317" y="73"/>
                      </a:lnTo>
                      <a:lnTo>
                        <a:pt x="1317" y="74"/>
                      </a:lnTo>
                      <a:lnTo>
                        <a:pt x="1317" y="77"/>
                      </a:lnTo>
                      <a:lnTo>
                        <a:pt x="1317" y="78"/>
                      </a:lnTo>
                      <a:lnTo>
                        <a:pt x="1317" y="80"/>
                      </a:lnTo>
                      <a:lnTo>
                        <a:pt x="1317" y="81"/>
                      </a:lnTo>
                      <a:lnTo>
                        <a:pt x="1317" y="83"/>
                      </a:lnTo>
                      <a:lnTo>
                        <a:pt x="1317" y="85"/>
                      </a:lnTo>
                      <a:lnTo>
                        <a:pt x="1317" y="87"/>
                      </a:lnTo>
                      <a:lnTo>
                        <a:pt x="1317" y="89"/>
                      </a:lnTo>
                      <a:lnTo>
                        <a:pt x="1317" y="90"/>
                      </a:lnTo>
                      <a:lnTo>
                        <a:pt x="1317" y="93"/>
                      </a:lnTo>
                      <a:lnTo>
                        <a:pt x="1317" y="94"/>
                      </a:lnTo>
                      <a:lnTo>
                        <a:pt x="1317" y="96"/>
                      </a:lnTo>
                      <a:lnTo>
                        <a:pt x="1317" y="99"/>
                      </a:lnTo>
                      <a:lnTo>
                        <a:pt x="1317" y="100"/>
                      </a:lnTo>
                      <a:lnTo>
                        <a:pt x="1317" y="102"/>
                      </a:lnTo>
                      <a:lnTo>
                        <a:pt x="1318" y="103"/>
                      </a:lnTo>
                      <a:lnTo>
                        <a:pt x="1318" y="105"/>
                      </a:lnTo>
                      <a:lnTo>
                        <a:pt x="1318" y="107"/>
                      </a:lnTo>
                      <a:lnTo>
                        <a:pt x="1318" y="109"/>
                      </a:lnTo>
                      <a:lnTo>
                        <a:pt x="1318" y="111"/>
                      </a:lnTo>
                      <a:lnTo>
                        <a:pt x="1318" y="112"/>
                      </a:lnTo>
                      <a:lnTo>
                        <a:pt x="1319" y="115"/>
                      </a:lnTo>
                      <a:lnTo>
                        <a:pt x="1319" y="116"/>
                      </a:lnTo>
                      <a:lnTo>
                        <a:pt x="1319" y="117"/>
                      </a:lnTo>
                      <a:lnTo>
                        <a:pt x="1319" y="118"/>
                      </a:lnTo>
                      <a:lnTo>
                        <a:pt x="1319" y="120"/>
                      </a:lnTo>
                      <a:lnTo>
                        <a:pt x="1320" y="122"/>
                      </a:lnTo>
                      <a:lnTo>
                        <a:pt x="1320" y="123"/>
                      </a:lnTo>
                      <a:lnTo>
                        <a:pt x="1320" y="124"/>
                      </a:lnTo>
                      <a:lnTo>
                        <a:pt x="1320" y="125"/>
                      </a:lnTo>
                      <a:lnTo>
                        <a:pt x="1321" y="126"/>
                      </a:lnTo>
                      <a:lnTo>
                        <a:pt x="1321" y="129"/>
                      </a:lnTo>
                      <a:lnTo>
                        <a:pt x="1321" y="130"/>
                      </a:lnTo>
                      <a:lnTo>
                        <a:pt x="1323" y="131"/>
                      </a:lnTo>
                      <a:lnTo>
                        <a:pt x="1323" y="132"/>
                      </a:lnTo>
                      <a:lnTo>
                        <a:pt x="1323" y="133"/>
                      </a:lnTo>
                      <a:lnTo>
                        <a:pt x="1324" y="134"/>
                      </a:lnTo>
                      <a:lnTo>
                        <a:pt x="1324" y="137"/>
                      </a:lnTo>
                      <a:lnTo>
                        <a:pt x="1325" y="138"/>
                      </a:lnTo>
                      <a:lnTo>
                        <a:pt x="1325" y="139"/>
                      </a:lnTo>
                      <a:lnTo>
                        <a:pt x="1325" y="140"/>
                      </a:lnTo>
                      <a:lnTo>
                        <a:pt x="1326" y="141"/>
                      </a:lnTo>
                      <a:lnTo>
                        <a:pt x="1326" y="142"/>
                      </a:lnTo>
                      <a:lnTo>
                        <a:pt x="1327" y="144"/>
                      </a:lnTo>
                      <a:lnTo>
                        <a:pt x="1327" y="145"/>
                      </a:lnTo>
                      <a:lnTo>
                        <a:pt x="1328" y="146"/>
                      </a:lnTo>
                      <a:lnTo>
                        <a:pt x="1328" y="148"/>
                      </a:lnTo>
                      <a:lnTo>
                        <a:pt x="1329" y="149"/>
                      </a:lnTo>
                      <a:lnTo>
                        <a:pt x="1329" y="150"/>
                      </a:lnTo>
                      <a:lnTo>
                        <a:pt x="1331" y="150"/>
                      </a:lnTo>
                      <a:lnTo>
                        <a:pt x="1331" y="152"/>
                      </a:lnTo>
                      <a:lnTo>
                        <a:pt x="1332" y="153"/>
                      </a:lnTo>
                      <a:lnTo>
                        <a:pt x="1332" y="154"/>
                      </a:lnTo>
                      <a:lnTo>
                        <a:pt x="1333" y="155"/>
                      </a:lnTo>
                      <a:lnTo>
                        <a:pt x="1334" y="156"/>
                      </a:lnTo>
                      <a:lnTo>
                        <a:pt x="1334" y="157"/>
                      </a:lnTo>
                      <a:lnTo>
                        <a:pt x="1335" y="159"/>
                      </a:lnTo>
                      <a:lnTo>
                        <a:pt x="1336" y="160"/>
                      </a:lnTo>
                      <a:lnTo>
                        <a:pt x="1338" y="161"/>
                      </a:lnTo>
                      <a:lnTo>
                        <a:pt x="1338" y="162"/>
                      </a:lnTo>
                      <a:lnTo>
                        <a:pt x="1339" y="163"/>
                      </a:lnTo>
                      <a:lnTo>
                        <a:pt x="1340" y="164"/>
                      </a:lnTo>
                      <a:lnTo>
                        <a:pt x="1340" y="166"/>
                      </a:lnTo>
                      <a:lnTo>
                        <a:pt x="1341" y="166"/>
                      </a:lnTo>
                      <a:lnTo>
                        <a:pt x="1341" y="167"/>
                      </a:lnTo>
                      <a:lnTo>
                        <a:pt x="1341" y="168"/>
                      </a:lnTo>
                      <a:lnTo>
                        <a:pt x="1342" y="168"/>
                      </a:lnTo>
                      <a:lnTo>
                        <a:pt x="1342" y="169"/>
                      </a:lnTo>
                      <a:lnTo>
                        <a:pt x="1342" y="170"/>
                      </a:lnTo>
                      <a:lnTo>
                        <a:pt x="1343" y="170"/>
                      </a:lnTo>
                      <a:lnTo>
                        <a:pt x="1343" y="171"/>
                      </a:lnTo>
                      <a:lnTo>
                        <a:pt x="1344" y="172"/>
                      </a:lnTo>
                      <a:lnTo>
                        <a:pt x="1346" y="174"/>
                      </a:lnTo>
                      <a:lnTo>
                        <a:pt x="1346" y="175"/>
                      </a:lnTo>
                      <a:lnTo>
                        <a:pt x="1347" y="176"/>
                      </a:lnTo>
                      <a:lnTo>
                        <a:pt x="1347" y="177"/>
                      </a:lnTo>
                      <a:lnTo>
                        <a:pt x="1348" y="178"/>
                      </a:lnTo>
                      <a:lnTo>
                        <a:pt x="1348" y="179"/>
                      </a:lnTo>
                      <a:lnTo>
                        <a:pt x="1349" y="181"/>
                      </a:lnTo>
                      <a:lnTo>
                        <a:pt x="1349" y="182"/>
                      </a:lnTo>
                      <a:lnTo>
                        <a:pt x="1349" y="184"/>
                      </a:lnTo>
                      <a:lnTo>
                        <a:pt x="1349" y="186"/>
                      </a:lnTo>
                      <a:lnTo>
                        <a:pt x="1349" y="189"/>
                      </a:lnTo>
                      <a:lnTo>
                        <a:pt x="1350" y="191"/>
                      </a:lnTo>
                      <a:lnTo>
                        <a:pt x="1350" y="192"/>
                      </a:lnTo>
                      <a:lnTo>
                        <a:pt x="1350" y="194"/>
                      </a:lnTo>
                      <a:lnTo>
                        <a:pt x="1350" y="196"/>
                      </a:lnTo>
                      <a:lnTo>
                        <a:pt x="1351" y="198"/>
                      </a:lnTo>
                      <a:lnTo>
                        <a:pt x="1351" y="199"/>
                      </a:lnTo>
                      <a:lnTo>
                        <a:pt x="1353" y="200"/>
                      </a:lnTo>
                      <a:lnTo>
                        <a:pt x="1353" y="201"/>
                      </a:lnTo>
                      <a:lnTo>
                        <a:pt x="1354" y="202"/>
                      </a:lnTo>
                      <a:lnTo>
                        <a:pt x="1354" y="204"/>
                      </a:lnTo>
                      <a:lnTo>
                        <a:pt x="1355" y="205"/>
                      </a:lnTo>
                      <a:lnTo>
                        <a:pt x="1355" y="206"/>
                      </a:lnTo>
                      <a:lnTo>
                        <a:pt x="1356" y="206"/>
                      </a:lnTo>
                      <a:lnTo>
                        <a:pt x="1357" y="207"/>
                      </a:lnTo>
                      <a:lnTo>
                        <a:pt x="1358" y="207"/>
                      </a:lnTo>
                      <a:lnTo>
                        <a:pt x="1358" y="208"/>
                      </a:lnTo>
                      <a:lnTo>
                        <a:pt x="1359" y="208"/>
                      </a:lnTo>
                      <a:lnTo>
                        <a:pt x="1361" y="209"/>
                      </a:lnTo>
                      <a:lnTo>
                        <a:pt x="1362" y="209"/>
                      </a:lnTo>
                      <a:lnTo>
                        <a:pt x="1363" y="211"/>
                      </a:lnTo>
                      <a:lnTo>
                        <a:pt x="1364" y="211"/>
                      </a:lnTo>
                      <a:lnTo>
                        <a:pt x="1365" y="211"/>
                      </a:lnTo>
                      <a:lnTo>
                        <a:pt x="1366" y="211"/>
                      </a:lnTo>
                      <a:lnTo>
                        <a:pt x="1368" y="212"/>
                      </a:lnTo>
                      <a:lnTo>
                        <a:pt x="1369" y="212"/>
                      </a:lnTo>
                      <a:lnTo>
                        <a:pt x="1370" y="212"/>
                      </a:lnTo>
                      <a:lnTo>
                        <a:pt x="1372" y="213"/>
                      </a:lnTo>
                      <a:lnTo>
                        <a:pt x="1373" y="213"/>
                      </a:lnTo>
                      <a:lnTo>
                        <a:pt x="1376" y="214"/>
                      </a:lnTo>
                      <a:lnTo>
                        <a:pt x="1378" y="214"/>
                      </a:lnTo>
                      <a:lnTo>
                        <a:pt x="1379" y="214"/>
                      </a:lnTo>
                      <a:lnTo>
                        <a:pt x="1381" y="215"/>
                      </a:lnTo>
                      <a:lnTo>
                        <a:pt x="1383" y="215"/>
                      </a:lnTo>
                      <a:lnTo>
                        <a:pt x="1385" y="215"/>
                      </a:lnTo>
                      <a:lnTo>
                        <a:pt x="1386" y="215"/>
                      </a:lnTo>
                      <a:lnTo>
                        <a:pt x="1388" y="215"/>
                      </a:lnTo>
                      <a:lnTo>
                        <a:pt x="1390" y="215"/>
                      </a:lnTo>
                      <a:lnTo>
                        <a:pt x="1392" y="215"/>
                      </a:lnTo>
                      <a:lnTo>
                        <a:pt x="1393" y="214"/>
                      </a:lnTo>
                      <a:lnTo>
                        <a:pt x="1394" y="214"/>
                      </a:lnTo>
                      <a:lnTo>
                        <a:pt x="1396" y="214"/>
                      </a:lnTo>
                      <a:lnTo>
                        <a:pt x="1398" y="214"/>
                      </a:lnTo>
                      <a:lnTo>
                        <a:pt x="1399" y="213"/>
                      </a:lnTo>
                      <a:lnTo>
                        <a:pt x="1401" y="213"/>
                      </a:lnTo>
                      <a:lnTo>
                        <a:pt x="1402" y="213"/>
                      </a:lnTo>
                      <a:lnTo>
                        <a:pt x="1403" y="212"/>
                      </a:lnTo>
                      <a:lnTo>
                        <a:pt x="1406" y="212"/>
                      </a:lnTo>
                      <a:lnTo>
                        <a:pt x="1407" y="211"/>
                      </a:lnTo>
                      <a:lnTo>
                        <a:pt x="1408" y="211"/>
                      </a:lnTo>
                      <a:lnTo>
                        <a:pt x="1409" y="211"/>
                      </a:lnTo>
                      <a:lnTo>
                        <a:pt x="1411" y="209"/>
                      </a:lnTo>
                      <a:lnTo>
                        <a:pt x="1413" y="209"/>
                      </a:lnTo>
                      <a:lnTo>
                        <a:pt x="1414" y="208"/>
                      </a:lnTo>
                      <a:lnTo>
                        <a:pt x="1415" y="208"/>
                      </a:lnTo>
                      <a:lnTo>
                        <a:pt x="1416" y="208"/>
                      </a:lnTo>
                      <a:lnTo>
                        <a:pt x="1418" y="207"/>
                      </a:lnTo>
                      <a:lnTo>
                        <a:pt x="1420" y="207"/>
                      </a:lnTo>
                      <a:lnTo>
                        <a:pt x="1421" y="207"/>
                      </a:lnTo>
                      <a:lnTo>
                        <a:pt x="1422" y="207"/>
                      </a:lnTo>
                      <a:lnTo>
                        <a:pt x="1423" y="207"/>
                      </a:lnTo>
                      <a:lnTo>
                        <a:pt x="1424" y="207"/>
                      </a:lnTo>
                      <a:lnTo>
                        <a:pt x="1425" y="208"/>
                      </a:lnTo>
                      <a:lnTo>
                        <a:pt x="1427" y="208"/>
                      </a:lnTo>
                      <a:lnTo>
                        <a:pt x="1428" y="208"/>
                      </a:lnTo>
                      <a:lnTo>
                        <a:pt x="1429" y="209"/>
                      </a:lnTo>
                      <a:lnTo>
                        <a:pt x="1430" y="209"/>
                      </a:lnTo>
                      <a:lnTo>
                        <a:pt x="1431" y="209"/>
                      </a:lnTo>
                      <a:lnTo>
                        <a:pt x="1432" y="211"/>
                      </a:lnTo>
                      <a:lnTo>
                        <a:pt x="1433" y="211"/>
                      </a:lnTo>
                      <a:lnTo>
                        <a:pt x="1435" y="211"/>
                      </a:lnTo>
                      <a:lnTo>
                        <a:pt x="1435" y="212"/>
                      </a:lnTo>
                      <a:lnTo>
                        <a:pt x="1436" y="212"/>
                      </a:lnTo>
                      <a:lnTo>
                        <a:pt x="1437" y="212"/>
                      </a:lnTo>
                      <a:lnTo>
                        <a:pt x="1438" y="212"/>
                      </a:lnTo>
                      <a:lnTo>
                        <a:pt x="1438" y="213"/>
                      </a:lnTo>
                      <a:lnTo>
                        <a:pt x="1439" y="213"/>
                      </a:lnTo>
                      <a:lnTo>
                        <a:pt x="1443" y="212"/>
                      </a:lnTo>
                      <a:lnTo>
                        <a:pt x="1446" y="211"/>
                      </a:lnTo>
                      <a:lnTo>
                        <a:pt x="1448" y="208"/>
                      </a:lnTo>
                      <a:lnTo>
                        <a:pt x="1452" y="207"/>
                      </a:lnTo>
                      <a:lnTo>
                        <a:pt x="1454" y="205"/>
                      </a:lnTo>
                      <a:lnTo>
                        <a:pt x="1458" y="204"/>
                      </a:lnTo>
                      <a:lnTo>
                        <a:pt x="1461" y="201"/>
                      </a:lnTo>
                      <a:lnTo>
                        <a:pt x="1463" y="199"/>
                      </a:lnTo>
                      <a:lnTo>
                        <a:pt x="1467" y="197"/>
                      </a:lnTo>
                      <a:lnTo>
                        <a:pt x="1469" y="194"/>
                      </a:lnTo>
                      <a:lnTo>
                        <a:pt x="1472" y="191"/>
                      </a:lnTo>
                      <a:lnTo>
                        <a:pt x="1475" y="189"/>
                      </a:lnTo>
                      <a:lnTo>
                        <a:pt x="1477" y="186"/>
                      </a:lnTo>
                      <a:lnTo>
                        <a:pt x="1480" y="183"/>
                      </a:lnTo>
                      <a:lnTo>
                        <a:pt x="1483" y="181"/>
                      </a:lnTo>
                      <a:lnTo>
                        <a:pt x="1485" y="177"/>
                      </a:lnTo>
                      <a:lnTo>
                        <a:pt x="1488" y="174"/>
                      </a:lnTo>
                      <a:lnTo>
                        <a:pt x="1490" y="171"/>
                      </a:lnTo>
                      <a:lnTo>
                        <a:pt x="1492" y="168"/>
                      </a:lnTo>
                      <a:lnTo>
                        <a:pt x="1495" y="164"/>
                      </a:lnTo>
                      <a:lnTo>
                        <a:pt x="1497" y="161"/>
                      </a:lnTo>
                      <a:lnTo>
                        <a:pt x="1499" y="157"/>
                      </a:lnTo>
                      <a:lnTo>
                        <a:pt x="1502" y="155"/>
                      </a:lnTo>
                      <a:lnTo>
                        <a:pt x="1504" y="152"/>
                      </a:lnTo>
                      <a:lnTo>
                        <a:pt x="1506" y="148"/>
                      </a:lnTo>
                      <a:lnTo>
                        <a:pt x="1507" y="145"/>
                      </a:lnTo>
                      <a:lnTo>
                        <a:pt x="1510" y="141"/>
                      </a:lnTo>
                      <a:lnTo>
                        <a:pt x="1511" y="138"/>
                      </a:lnTo>
                      <a:lnTo>
                        <a:pt x="1513" y="134"/>
                      </a:lnTo>
                      <a:lnTo>
                        <a:pt x="1514" y="131"/>
                      </a:lnTo>
                      <a:lnTo>
                        <a:pt x="1515" y="127"/>
                      </a:lnTo>
                      <a:lnTo>
                        <a:pt x="1518" y="125"/>
                      </a:lnTo>
                      <a:lnTo>
                        <a:pt x="1517" y="124"/>
                      </a:lnTo>
                      <a:lnTo>
                        <a:pt x="1515" y="123"/>
                      </a:lnTo>
                      <a:lnTo>
                        <a:pt x="1514" y="123"/>
                      </a:lnTo>
                      <a:lnTo>
                        <a:pt x="1514" y="122"/>
                      </a:lnTo>
                      <a:lnTo>
                        <a:pt x="1513" y="122"/>
                      </a:lnTo>
                      <a:lnTo>
                        <a:pt x="1512" y="120"/>
                      </a:lnTo>
                      <a:lnTo>
                        <a:pt x="1511" y="120"/>
                      </a:lnTo>
                      <a:lnTo>
                        <a:pt x="1511" y="119"/>
                      </a:lnTo>
                      <a:lnTo>
                        <a:pt x="1510" y="119"/>
                      </a:lnTo>
                      <a:lnTo>
                        <a:pt x="1509" y="119"/>
                      </a:lnTo>
                      <a:lnTo>
                        <a:pt x="1509" y="118"/>
                      </a:lnTo>
                      <a:lnTo>
                        <a:pt x="1507" y="118"/>
                      </a:lnTo>
                      <a:lnTo>
                        <a:pt x="1506" y="118"/>
                      </a:lnTo>
                      <a:lnTo>
                        <a:pt x="1506" y="117"/>
                      </a:lnTo>
                      <a:lnTo>
                        <a:pt x="1505" y="117"/>
                      </a:lnTo>
                      <a:lnTo>
                        <a:pt x="1504" y="117"/>
                      </a:lnTo>
                      <a:lnTo>
                        <a:pt x="1503" y="117"/>
                      </a:lnTo>
                      <a:lnTo>
                        <a:pt x="1502" y="117"/>
                      </a:lnTo>
                      <a:lnTo>
                        <a:pt x="1500" y="117"/>
                      </a:lnTo>
                      <a:lnTo>
                        <a:pt x="1499" y="117"/>
                      </a:lnTo>
                      <a:lnTo>
                        <a:pt x="1498" y="117"/>
                      </a:lnTo>
                      <a:lnTo>
                        <a:pt x="1498" y="118"/>
                      </a:lnTo>
                      <a:lnTo>
                        <a:pt x="1497" y="118"/>
                      </a:lnTo>
                      <a:lnTo>
                        <a:pt x="1496" y="118"/>
                      </a:lnTo>
                      <a:lnTo>
                        <a:pt x="1495" y="118"/>
                      </a:lnTo>
                      <a:lnTo>
                        <a:pt x="1494" y="118"/>
                      </a:lnTo>
                      <a:lnTo>
                        <a:pt x="1492" y="117"/>
                      </a:lnTo>
                      <a:lnTo>
                        <a:pt x="1491" y="117"/>
                      </a:lnTo>
                      <a:lnTo>
                        <a:pt x="1490" y="117"/>
                      </a:lnTo>
                      <a:lnTo>
                        <a:pt x="1490" y="116"/>
                      </a:lnTo>
                      <a:lnTo>
                        <a:pt x="1490" y="115"/>
                      </a:lnTo>
                      <a:lnTo>
                        <a:pt x="1489" y="115"/>
                      </a:lnTo>
                      <a:lnTo>
                        <a:pt x="1489" y="114"/>
                      </a:lnTo>
                      <a:lnTo>
                        <a:pt x="1489" y="112"/>
                      </a:lnTo>
                      <a:lnTo>
                        <a:pt x="1489" y="111"/>
                      </a:lnTo>
                      <a:lnTo>
                        <a:pt x="1489" y="110"/>
                      </a:lnTo>
                      <a:lnTo>
                        <a:pt x="1489" y="109"/>
                      </a:lnTo>
                      <a:lnTo>
                        <a:pt x="1489" y="108"/>
                      </a:lnTo>
                      <a:lnTo>
                        <a:pt x="1489" y="107"/>
                      </a:lnTo>
                      <a:lnTo>
                        <a:pt x="1489" y="105"/>
                      </a:lnTo>
                      <a:lnTo>
                        <a:pt x="1489" y="104"/>
                      </a:lnTo>
                      <a:lnTo>
                        <a:pt x="1489" y="103"/>
                      </a:lnTo>
                      <a:lnTo>
                        <a:pt x="1488" y="102"/>
                      </a:lnTo>
                      <a:lnTo>
                        <a:pt x="1488" y="101"/>
                      </a:lnTo>
                      <a:lnTo>
                        <a:pt x="1487" y="101"/>
                      </a:lnTo>
                      <a:lnTo>
                        <a:pt x="1487" y="100"/>
                      </a:lnTo>
                      <a:lnTo>
                        <a:pt x="1485" y="99"/>
                      </a:lnTo>
                      <a:lnTo>
                        <a:pt x="1485" y="97"/>
                      </a:lnTo>
                      <a:lnTo>
                        <a:pt x="1485" y="96"/>
                      </a:lnTo>
                      <a:lnTo>
                        <a:pt x="1485" y="95"/>
                      </a:lnTo>
                      <a:lnTo>
                        <a:pt x="1484" y="97"/>
                      </a:lnTo>
                      <a:lnTo>
                        <a:pt x="1484" y="99"/>
                      </a:lnTo>
                      <a:lnTo>
                        <a:pt x="1483" y="100"/>
                      </a:lnTo>
                      <a:lnTo>
                        <a:pt x="1483" y="101"/>
                      </a:lnTo>
                      <a:lnTo>
                        <a:pt x="1482" y="102"/>
                      </a:lnTo>
                      <a:lnTo>
                        <a:pt x="1482" y="103"/>
                      </a:lnTo>
                      <a:lnTo>
                        <a:pt x="1481" y="103"/>
                      </a:lnTo>
                      <a:lnTo>
                        <a:pt x="1481" y="104"/>
                      </a:lnTo>
                      <a:lnTo>
                        <a:pt x="1480" y="104"/>
                      </a:lnTo>
                      <a:lnTo>
                        <a:pt x="1479" y="105"/>
                      </a:lnTo>
                      <a:lnTo>
                        <a:pt x="1477" y="105"/>
                      </a:lnTo>
                      <a:lnTo>
                        <a:pt x="1476" y="105"/>
                      </a:lnTo>
                      <a:lnTo>
                        <a:pt x="1475" y="105"/>
                      </a:lnTo>
                      <a:lnTo>
                        <a:pt x="1474" y="107"/>
                      </a:lnTo>
                      <a:lnTo>
                        <a:pt x="1473" y="107"/>
                      </a:lnTo>
                      <a:lnTo>
                        <a:pt x="1472" y="107"/>
                      </a:lnTo>
                      <a:lnTo>
                        <a:pt x="1470" y="107"/>
                      </a:lnTo>
                      <a:lnTo>
                        <a:pt x="1469" y="107"/>
                      </a:lnTo>
                      <a:lnTo>
                        <a:pt x="1468" y="108"/>
                      </a:lnTo>
                      <a:lnTo>
                        <a:pt x="1467" y="108"/>
                      </a:lnTo>
                      <a:lnTo>
                        <a:pt x="1466" y="109"/>
                      </a:lnTo>
                      <a:lnTo>
                        <a:pt x="1465" y="110"/>
                      </a:lnTo>
                      <a:lnTo>
                        <a:pt x="1463" y="110"/>
                      </a:lnTo>
                      <a:lnTo>
                        <a:pt x="1463" y="111"/>
                      </a:lnTo>
                      <a:lnTo>
                        <a:pt x="1462" y="112"/>
                      </a:lnTo>
                      <a:lnTo>
                        <a:pt x="1461" y="114"/>
                      </a:lnTo>
                      <a:lnTo>
                        <a:pt x="1461" y="115"/>
                      </a:lnTo>
                      <a:lnTo>
                        <a:pt x="1460" y="117"/>
                      </a:lnTo>
                      <a:lnTo>
                        <a:pt x="1459" y="118"/>
                      </a:lnTo>
                      <a:lnTo>
                        <a:pt x="1459" y="119"/>
                      </a:lnTo>
                      <a:lnTo>
                        <a:pt x="1458" y="120"/>
                      </a:lnTo>
                      <a:lnTo>
                        <a:pt x="1458" y="122"/>
                      </a:lnTo>
                      <a:lnTo>
                        <a:pt x="1457" y="123"/>
                      </a:lnTo>
                      <a:lnTo>
                        <a:pt x="1455" y="125"/>
                      </a:lnTo>
                      <a:lnTo>
                        <a:pt x="1455" y="126"/>
                      </a:lnTo>
                      <a:lnTo>
                        <a:pt x="1454" y="127"/>
                      </a:lnTo>
                      <a:lnTo>
                        <a:pt x="1453" y="129"/>
                      </a:lnTo>
                      <a:lnTo>
                        <a:pt x="1452" y="130"/>
                      </a:lnTo>
                      <a:lnTo>
                        <a:pt x="1452" y="131"/>
                      </a:lnTo>
                      <a:lnTo>
                        <a:pt x="1451" y="132"/>
                      </a:lnTo>
                      <a:lnTo>
                        <a:pt x="1450" y="133"/>
                      </a:lnTo>
                      <a:lnTo>
                        <a:pt x="1448" y="134"/>
                      </a:lnTo>
                      <a:lnTo>
                        <a:pt x="1448" y="135"/>
                      </a:lnTo>
                      <a:lnTo>
                        <a:pt x="1447" y="137"/>
                      </a:lnTo>
                      <a:lnTo>
                        <a:pt x="1446" y="138"/>
                      </a:lnTo>
                      <a:lnTo>
                        <a:pt x="1445" y="139"/>
                      </a:lnTo>
                      <a:lnTo>
                        <a:pt x="1444" y="140"/>
                      </a:lnTo>
                      <a:lnTo>
                        <a:pt x="1443" y="141"/>
                      </a:lnTo>
                      <a:lnTo>
                        <a:pt x="1442" y="142"/>
                      </a:lnTo>
                      <a:lnTo>
                        <a:pt x="1440" y="142"/>
                      </a:lnTo>
                      <a:lnTo>
                        <a:pt x="1439" y="144"/>
                      </a:lnTo>
                      <a:lnTo>
                        <a:pt x="1438" y="144"/>
                      </a:lnTo>
                      <a:lnTo>
                        <a:pt x="1437" y="144"/>
                      </a:lnTo>
                      <a:lnTo>
                        <a:pt x="1436" y="145"/>
                      </a:lnTo>
                      <a:lnTo>
                        <a:pt x="1435" y="145"/>
                      </a:lnTo>
                      <a:lnTo>
                        <a:pt x="1433" y="145"/>
                      </a:lnTo>
                      <a:lnTo>
                        <a:pt x="1432" y="145"/>
                      </a:lnTo>
                      <a:lnTo>
                        <a:pt x="1432" y="146"/>
                      </a:lnTo>
                      <a:lnTo>
                        <a:pt x="1433" y="147"/>
                      </a:lnTo>
                      <a:lnTo>
                        <a:pt x="1433" y="148"/>
                      </a:lnTo>
                      <a:lnTo>
                        <a:pt x="1433" y="149"/>
                      </a:lnTo>
                      <a:lnTo>
                        <a:pt x="1433" y="150"/>
                      </a:lnTo>
                      <a:lnTo>
                        <a:pt x="1433" y="152"/>
                      </a:lnTo>
                      <a:lnTo>
                        <a:pt x="1433" y="153"/>
                      </a:lnTo>
                      <a:lnTo>
                        <a:pt x="1433" y="154"/>
                      </a:lnTo>
                      <a:lnTo>
                        <a:pt x="1433" y="155"/>
                      </a:lnTo>
                      <a:lnTo>
                        <a:pt x="1433" y="156"/>
                      </a:lnTo>
                      <a:lnTo>
                        <a:pt x="1433" y="157"/>
                      </a:lnTo>
                      <a:lnTo>
                        <a:pt x="1433" y="159"/>
                      </a:lnTo>
                      <a:lnTo>
                        <a:pt x="1435" y="160"/>
                      </a:lnTo>
                      <a:lnTo>
                        <a:pt x="1435" y="162"/>
                      </a:lnTo>
                      <a:lnTo>
                        <a:pt x="1435" y="163"/>
                      </a:lnTo>
                      <a:lnTo>
                        <a:pt x="1436" y="164"/>
                      </a:lnTo>
                      <a:lnTo>
                        <a:pt x="1436" y="166"/>
                      </a:lnTo>
                      <a:lnTo>
                        <a:pt x="1436" y="167"/>
                      </a:lnTo>
                      <a:lnTo>
                        <a:pt x="1437" y="168"/>
                      </a:lnTo>
                      <a:lnTo>
                        <a:pt x="1437" y="169"/>
                      </a:lnTo>
                      <a:lnTo>
                        <a:pt x="1438" y="169"/>
                      </a:lnTo>
                      <a:lnTo>
                        <a:pt x="1439" y="170"/>
                      </a:lnTo>
                      <a:lnTo>
                        <a:pt x="1440" y="171"/>
                      </a:lnTo>
                      <a:lnTo>
                        <a:pt x="1440" y="172"/>
                      </a:lnTo>
                      <a:lnTo>
                        <a:pt x="1442" y="172"/>
                      </a:lnTo>
                      <a:lnTo>
                        <a:pt x="1443" y="174"/>
                      </a:lnTo>
                      <a:lnTo>
                        <a:pt x="1444" y="175"/>
                      </a:lnTo>
                      <a:lnTo>
                        <a:pt x="1446" y="175"/>
                      </a:lnTo>
                      <a:lnTo>
                        <a:pt x="1447" y="175"/>
                      </a:lnTo>
                      <a:lnTo>
                        <a:pt x="1448" y="176"/>
                      </a:lnTo>
                      <a:lnTo>
                        <a:pt x="1451" y="176"/>
                      </a:lnTo>
                      <a:lnTo>
                        <a:pt x="1453" y="176"/>
                      </a:lnTo>
                      <a:lnTo>
                        <a:pt x="1452" y="177"/>
                      </a:lnTo>
                      <a:lnTo>
                        <a:pt x="1451" y="178"/>
                      </a:lnTo>
                      <a:lnTo>
                        <a:pt x="1450" y="178"/>
                      </a:lnTo>
                      <a:lnTo>
                        <a:pt x="1450" y="179"/>
                      </a:lnTo>
                      <a:lnTo>
                        <a:pt x="1448" y="181"/>
                      </a:lnTo>
                      <a:lnTo>
                        <a:pt x="1447" y="181"/>
                      </a:lnTo>
                      <a:lnTo>
                        <a:pt x="1446" y="182"/>
                      </a:lnTo>
                      <a:lnTo>
                        <a:pt x="1445" y="183"/>
                      </a:lnTo>
                      <a:lnTo>
                        <a:pt x="1444" y="183"/>
                      </a:lnTo>
                      <a:lnTo>
                        <a:pt x="1443" y="184"/>
                      </a:lnTo>
                      <a:lnTo>
                        <a:pt x="1442" y="184"/>
                      </a:lnTo>
                      <a:lnTo>
                        <a:pt x="1440" y="185"/>
                      </a:lnTo>
                      <a:lnTo>
                        <a:pt x="1439" y="186"/>
                      </a:lnTo>
                      <a:lnTo>
                        <a:pt x="1438" y="186"/>
                      </a:lnTo>
                      <a:lnTo>
                        <a:pt x="1437" y="187"/>
                      </a:lnTo>
                      <a:lnTo>
                        <a:pt x="1435" y="189"/>
                      </a:lnTo>
                      <a:lnTo>
                        <a:pt x="1433" y="189"/>
                      </a:lnTo>
                      <a:lnTo>
                        <a:pt x="1432" y="190"/>
                      </a:lnTo>
                      <a:lnTo>
                        <a:pt x="1431" y="191"/>
                      </a:lnTo>
                      <a:lnTo>
                        <a:pt x="1430" y="191"/>
                      </a:lnTo>
                      <a:lnTo>
                        <a:pt x="1429" y="192"/>
                      </a:lnTo>
                      <a:lnTo>
                        <a:pt x="1428" y="193"/>
                      </a:lnTo>
                      <a:lnTo>
                        <a:pt x="1427" y="193"/>
                      </a:lnTo>
                      <a:lnTo>
                        <a:pt x="1425" y="194"/>
                      </a:lnTo>
                      <a:lnTo>
                        <a:pt x="1424" y="196"/>
                      </a:lnTo>
                      <a:lnTo>
                        <a:pt x="1423" y="196"/>
                      </a:lnTo>
                      <a:lnTo>
                        <a:pt x="1423" y="197"/>
                      </a:lnTo>
                      <a:lnTo>
                        <a:pt x="1422" y="197"/>
                      </a:lnTo>
                      <a:lnTo>
                        <a:pt x="1421" y="198"/>
                      </a:lnTo>
                      <a:lnTo>
                        <a:pt x="1421" y="199"/>
                      </a:lnTo>
                      <a:lnTo>
                        <a:pt x="1417" y="201"/>
                      </a:lnTo>
                      <a:lnTo>
                        <a:pt x="1415" y="202"/>
                      </a:lnTo>
                      <a:lnTo>
                        <a:pt x="1413" y="205"/>
                      </a:lnTo>
                      <a:lnTo>
                        <a:pt x="1410" y="206"/>
                      </a:lnTo>
                      <a:lnTo>
                        <a:pt x="1407" y="207"/>
                      </a:lnTo>
                      <a:lnTo>
                        <a:pt x="1405" y="208"/>
                      </a:lnTo>
                      <a:lnTo>
                        <a:pt x="1401" y="209"/>
                      </a:lnTo>
                      <a:lnTo>
                        <a:pt x="1399" y="209"/>
                      </a:lnTo>
                      <a:lnTo>
                        <a:pt x="1395" y="211"/>
                      </a:lnTo>
                      <a:lnTo>
                        <a:pt x="1393" y="211"/>
                      </a:lnTo>
                      <a:lnTo>
                        <a:pt x="1390" y="211"/>
                      </a:lnTo>
                      <a:lnTo>
                        <a:pt x="1387" y="211"/>
                      </a:lnTo>
                      <a:lnTo>
                        <a:pt x="1384" y="211"/>
                      </a:lnTo>
                      <a:lnTo>
                        <a:pt x="1381" y="209"/>
                      </a:lnTo>
                      <a:lnTo>
                        <a:pt x="1378" y="209"/>
                      </a:lnTo>
                      <a:lnTo>
                        <a:pt x="1376" y="208"/>
                      </a:lnTo>
                      <a:lnTo>
                        <a:pt x="1373" y="207"/>
                      </a:lnTo>
                      <a:lnTo>
                        <a:pt x="1371" y="206"/>
                      </a:lnTo>
                      <a:lnTo>
                        <a:pt x="1369" y="205"/>
                      </a:lnTo>
                      <a:lnTo>
                        <a:pt x="1366" y="202"/>
                      </a:lnTo>
                      <a:lnTo>
                        <a:pt x="1364" y="201"/>
                      </a:lnTo>
                      <a:lnTo>
                        <a:pt x="1362" y="199"/>
                      </a:lnTo>
                      <a:lnTo>
                        <a:pt x="1359" y="197"/>
                      </a:lnTo>
                      <a:lnTo>
                        <a:pt x="1358" y="194"/>
                      </a:lnTo>
                      <a:lnTo>
                        <a:pt x="1356" y="192"/>
                      </a:lnTo>
                      <a:lnTo>
                        <a:pt x="1355" y="190"/>
                      </a:lnTo>
                      <a:lnTo>
                        <a:pt x="1354" y="187"/>
                      </a:lnTo>
                      <a:lnTo>
                        <a:pt x="1353" y="184"/>
                      </a:lnTo>
                      <a:lnTo>
                        <a:pt x="1353" y="182"/>
                      </a:lnTo>
                      <a:lnTo>
                        <a:pt x="1351" y="178"/>
                      </a:lnTo>
                      <a:lnTo>
                        <a:pt x="1351" y="175"/>
                      </a:lnTo>
                      <a:lnTo>
                        <a:pt x="1351" y="171"/>
                      </a:lnTo>
                      <a:lnTo>
                        <a:pt x="1353" y="171"/>
                      </a:lnTo>
                      <a:lnTo>
                        <a:pt x="1354" y="171"/>
                      </a:lnTo>
                      <a:lnTo>
                        <a:pt x="1355" y="172"/>
                      </a:lnTo>
                      <a:lnTo>
                        <a:pt x="1356" y="172"/>
                      </a:lnTo>
                      <a:lnTo>
                        <a:pt x="1357" y="172"/>
                      </a:lnTo>
                      <a:lnTo>
                        <a:pt x="1357" y="174"/>
                      </a:lnTo>
                      <a:lnTo>
                        <a:pt x="1358" y="174"/>
                      </a:lnTo>
                      <a:lnTo>
                        <a:pt x="1359" y="174"/>
                      </a:lnTo>
                      <a:lnTo>
                        <a:pt x="1361" y="175"/>
                      </a:lnTo>
                      <a:lnTo>
                        <a:pt x="1362" y="175"/>
                      </a:lnTo>
                      <a:lnTo>
                        <a:pt x="1363" y="175"/>
                      </a:lnTo>
                      <a:lnTo>
                        <a:pt x="1363" y="176"/>
                      </a:lnTo>
                      <a:lnTo>
                        <a:pt x="1364" y="176"/>
                      </a:lnTo>
                      <a:lnTo>
                        <a:pt x="1365" y="176"/>
                      </a:lnTo>
                      <a:lnTo>
                        <a:pt x="1366" y="177"/>
                      </a:lnTo>
                      <a:lnTo>
                        <a:pt x="1368" y="177"/>
                      </a:lnTo>
                      <a:lnTo>
                        <a:pt x="1369" y="177"/>
                      </a:lnTo>
                      <a:lnTo>
                        <a:pt x="1369" y="178"/>
                      </a:lnTo>
                      <a:lnTo>
                        <a:pt x="1370" y="178"/>
                      </a:lnTo>
                      <a:lnTo>
                        <a:pt x="1371" y="178"/>
                      </a:lnTo>
                      <a:lnTo>
                        <a:pt x="1372" y="178"/>
                      </a:lnTo>
                      <a:lnTo>
                        <a:pt x="1372" y="179"/>
                      </a:lnTo>
                      <a:lnTo>
                        <a:pt x="1373" y="179"/>
                      </a:lnTo>
                      <a:lnTo>
                        <a:pt x="1375" y="179"/>
                      </a:lnTo>
                      <a:lnTo>
                        <a:pt x="1375" y="178"/>
                      </a:lnTo>
                      <a:lnTo>
                        <a:pt x="1375" y="177"/>
                      </a:lnTo>
                      <a:lnTo>
                        <a:pt x="1375" y="176"/>
                      </a:lnTo>
                      <a:lnTo>
                        <a:pt x="1373" y="176"/>
                      </a:lnTo>
                      <a:lnTo>
                        <a:pt x="1373" y="175"/>
                      </a:lnTo>
                      <a:lnTo>
                        <a:pt x="1373" y="174"/>
                      </a:lnTo>
                      <a:lnTo>
                        <a:pt x="1372" y="174"/>
                      </a:lnTo>
                      <a:lnTo>
                        <a:pt x="1372" y="172"/>
                      </a:lnTo>
                      <a:lnTo>
                        <a:pt x="1372" y="171"/>
                      </a:lnTo>
                      <a:lnTo>
                        <a:pt x="1373" y="171"/>
                      </a:lnTo>
                      <a:lnTo>
                        <a:pt x="1375" y="171"/>
                      </a:lnTo>
                      <a:lnTo>
                        <a:pt x="1376" y="171"/>
                      </a:lnTo>
                      <a:lnTo>
                        <a:pt x="1377" y="171"/>
                      </a:lnTo>
                      <a:lnTo>
                        <a:pt x="1378" y="171"/>
                      </a:lnTo>
                      <a:lnTo>
                        <a:pt x="1379" y="171"/>
                      </a:lnTo>
                      <a:lnTo>
                        <a:pt x="1380" y="171"/>
                      </a:lnTo>
                      <a:lnTo>
                        <a:pt x="1381" y="171"/>
                      </a:lnTo>
                      <a:lnTo>
                        <a:pt x="1383" y="171"/>
                      </a:lnTo>
                      <a:lnTo>
                        <a:pt x="1384" y="171"/>
                      </a:lnTo>
                      <a:lnTo>
                        <a:pt x="1385" y="171"/>
                      </a:lnTo>
                      <a:lnTo>
                        <a:pt x="1386" y="171"/>
                      </a:lnTo>
                      <a:lnTo>
                        <a:pt x="1387" y="170"/>
                      </a:lnTo>
                      <a:lnTo>
                        <a:pt x="1388" y="170"/>
                      </a:lnTo>
                      <a:lnTo>
                        <a:pt x="1390" y="170"/>
                      </a:lnTo>
                      <a:lnTo>
                        <a:pt x="1391" y="170"/>
                      </a:lnTo>
                      <a:lnTo>
                        <a:pt x="1392" y="170"/>
                      </a:lnTo>
                      <a:lnTo>
                        <a:pt x="1393" y="169"/>
                      </a:lnTo>
                      <a:lnTo>
                        <a:pt x="1394" y="169"/>
                      </a:lnTo>
                      <a:lnTo>
                        <a:pt x="1395" y="169"/>
                      </a:lnTo>
                      <a:lnTo>
                        <a:pt x="1396" y="168"/>
                      </a:lnTo>
                      <a:lnTo>
                        <a:pt x="1398" y="168"/>
                      </a:lnTo>
                      <a:lnTo>
                        <a:pt x="1399" y="168"/>
                      </a:lnTo>
                      <a:lnTo>
                        <a:pt x="1399" y="167"/>
                      </a:lnTo>
                      <a:lnTo>
                        <a:pt x="1400" y="167"/>
                      </a:lnTo>
                      <a:lnTo>
                        <a:pt x="1401" y="167"/>
                      </a:lnTo>
                      <a:lnTo>
                        <a:pt x="1402" y="166"/>
                      </a:lnTo>
                      <a:lnTo>
                        <a:pt x="1401" y="166"/>
                      </a:lnTo>
                      <a:lnTo>
                        <a:pt x="1400" y="166"/>
                      </a:lnTo>
                      <a:lnTo>
                        <a:pt x="1399" y="166"/>
                      </a:lnTo>
                      <a:lnTo>
                        <a:pt x="1398" y="166"/>
                      </a:lnTo>
                      <a:lnTo>
                        <a:pt x="1396" y="166"/>
                      </a:lnTo>
                      <a:lnTo>
                        <a:pt x="1395" y="166"/>
                      </a:lnTo>
                      <a:lnTo>
                        <a:pt x="1394" y="166"/>
                      </a:lnTo>
                      <a:lnTo>
                        <a:pt x="1393" y="166"/>
                      </a:lnTo>
                      <a:lnTo>
                        <a:pt x="1392" y="166"/>
                      </a:lnTo>
                      <a:lnTo>
                        <a:pt x="1391" y="166"/>
                      </a:lnTo>
                      <a:lnTo>
                        <a:pt x="1390" y="166"/>
                      </a:lnTo>
                      <a:lnTo>
                        <a:pt x="1388" y="166"/>
                      </a:lnTo>
                      <a:lnTo>
                        <a:pt x="1387" y="166"/>
                      </a:lnTo>
                      <a:lnTo>
                        <a:pt x="1386" y="166"/>
                      </a:lnTo>
                      <a:lnTo>
                        <a:pt x="1385" y="166"/>
                      </a:lnTo>
                      <a:lnTo>
                        <a:pt x="1384" y="166"/>
                      </a:lnTo>
                      <a:lnTo>
                        <a:pt x="1383" y="166"/>
                      </a:lnTo>
                      <a:lnTo>
                        <a:pt x="1381" y="166"/>
                      </a:lnTo>
                      <a:lnTo>
                        <a:pt x="1380" y="166"/>
                      </a:lnTo>
                      <a:lnTo>
                        <a:pt x="1379" y="164"/>
                      </a:lnTo>
                      <a:lnTo>
                        <a:pt x="1378" y="164"/>
                      </a:lnTo>
                      <a:lnTo>
                        <a:pt x="1377" y="164"/>
                      </a:lnTo>
                      <a:lnTo>
                        <a:pt x="1376" y="163"/>
                      </a:lnTo>
                      <a:lnTo>
                        <a:pt x="1375" y="163"/>
                      </a:lnTo>
                      <a:lnTo>
                        <a:pt x="1373" y="162"/>
                      </a:lnTo>
                      <a:lnTo>
                        <a:pt x="1372" y="162"/>
                      </a:lnTo>
                      <a:lnTo>
                        <a:pt x="1371" y="162"/>
                      </a:lnTo>
                      <a:lnTo>
                        <a:pt x="1370" y="161"/>
                      </a:lnTo>
                      <a:lnTo>
                        <a:pt x="1369" y="161"/>
                      </a:lnTo>
                      <a:lnTo>
                        <a:pt x="1368" y="161"/>
                      </a:lnTo>
                      <a:lnTo>
                        <a:pt x="1366" y="161"/>
                      </a:lnTo>
                      <a:lnTo>
                        <a:pt x="1365" y="161"/>
                      </a:lnTo>
                      <a:lnTo>
                        <a:pt x="1364" y="161"/>
                      </a:lnTo>
                      <a:lnTo>
                        <a:pt x="1363" y="162"/>
                      </a:lnTo>
                      <a:lnTo>
                        <a:pt x="1362" y="162"/>
                      </a:lnTo>
                      <a:lnTo>
                        <a:pt x="1361" y="162"/>
                      </a:lnTo>
                      <a:lnTo>
                        <a:pt x="1359" y="162"/>
                      </a:lnTo>
                      <a:lnTo>
                        <a:pt x="1358" y="161"/>
                      </a:lnTo>
                      <a:lnTo>
                        <a:pt x="1357" y="161"/>
                      </a:lnTo>
                      <a:lnTo>
                        <a:pt x="1356" y="161"/>
                      </a:lnTo>
                      <a:lnTo>
                        <a:pt x="1357" y="161"/>
                      </a:lnTo>
                      <a:lnTo>
                        <a:pt x="1357" y="160"/>
                      </a:lnTo>
                      <a:lnTo>
                        <a:pt x="1358" y="160"/>
                      </a:lnTo>
                      <a:lnTo>
                        <a:pt x="1358" y="159"/>
                      </a:lnTo>
                      <a:lnTo>
                        <a:pt x="1359" y="159"/>
                      </a:lnTo>
                      <a:lnTo>
                        <a:pt x="1359" y="157"/>
                      </a:lnTo>
                      <a:lnTo>
                        <a:pt x="1361" y="157"/>
                      </a:lnTo>
                      <a:lnTo>
                        <a:pt x="1361" y="156"/>
                      </a:lnTo>
                      <a:lnTo>
                        <a:pt x="1361" y="155"/>
                      </a:lnTo>
                      <a:lnTo>
                        <a:pt x="1362" y="155"/>
                      </a:lnTo>
                      <a:lnTo>
                        <a:pt x="1362" y="154"/>
                      </a:lnTo>
                      <a:lnTo>
                        <a:pt x="1362" y="153"/>
                      </a:lnTo>
                      <a:lnTo>
                        <a:pt x="1363" y="152"/>
                      </a:lnTo>
                      <a:lnTo>
                        <a:pt x="1363" y="150"/>
                      </a:lnTo>
                      <a:lnTo>
                        <a:pt x="1363" y="149"/>
                      </a:lnTo>
                      <a:lnTo>
                        <a:pt x="1364" y="148"/>
                      </a:lnTo>
                      <a:lnTo>
                        <a:pt x="1364" y="147"/>
                      </a:lnTo>
                      <a:lnTo>
                        <a:pt x="1364" y="146"/>
                      </a:lnTo>
                      <a:lnTo>
                        <a:pt x="1365" y="146"/>
                      </a:lnTo>
                      <a:lnTo>
                        <a:pt x="1365" y="145"/>
                      </a:lnTo>
                      <a:lnTo>
                        <a:pt x="1365" y="144"/>
                      </a:lnTo>
                      <a:lnTo>
                        <a:pt x="1366" y="144"/>
                      </a:lnTo>
                      <a:lnTo>
                        <a:pt x="1366" y="142"/>
                      </a:lnTo>
                      <a:lnTo>
                        <a:pt x="1368" y="142"/>
                      </a:lnTo>
                      <a:lnTo>
                        <a:pt x="1368" y="141"/>
                      </a:lnTo>
                      <a:lnTo>
                        <a:pt x="1369" y="141"/>
                      </a:lnTo>
                      <a:lnTo>
                        <a:pt x="1370" y="141"/>
                      </a:lnTo>
                      <a:lnTo>
                        <a:pt x="1371" y="141"/>
                      </a:lnTo>
                      <a:lnTo>
                        <a:pt x="1372" y="141"/>
                      </a:lnTo>
                      <a:lnTo>
                        <a:pt x="1373" y="141"/>
                      </a:lnTo>
                      <a:lnTo>
                        <a:pt x="1373" y="142"/>
                      </a:lnTo>
                      <a:lnTo>
                        <a:pt x="1375" y="142"/>
                      </a:lnTo>
                      <a:lnTo>
                        <a:pt x="1376" y="142"/>
                      </a:lnTo>
                      <a:lnTo>
                        <a:pt x="1375" y="141"/>
                      </a:lnTo>
                      <a:lnTo>
                        <a:pt x="1375" y="140"/>
                      </a:lnTo>
                      <a:lnTo>
                        <a:pt x="1375" y="139"/>
                      </a:lnTo>
                      <a:lnTo>
                        <a:pt x="1375" y="138"/>
                      </a:lnTo>
                      <a:lnTo>
                        <a:pt x="1375" y="137"/>
                      </a:lnTo>
                      <a:lnTo>
                        <a:pt x="1376" y="137"/>
                      </a:lnTo>
                      <a:lnTo>
                        <a:pt x="1376" y="135"/>
                      </a:lnTo>
                      <a:lnTo>
                        <a:pt x="1376" y="134"/>
                      </a:lnTo>
                      <a:lnTo>
                        <a:pt x="1376" y="133"/>
                      </a:lnTo>
                      <a:lnTo>
                        <a:pt x="1377" y="132"/>
                      </a:lnTo>
                      <a:lnTo>
                        <a:pt x="1377" y="131"/>
                      </a:lnTo>
                      <a:lnTo>
                        <a:pt x="1377" y="130"/>
                      </a:lnTo>
                      <a:lnTo>
                        <a:pt x="1377" y="131"/>
                      </a:lnTo>
                      <a:lnTo>
                        <a:pt x="1376" y="132"/>
                      </a:lnTo>
                      <a:lnTo>
                        <a:pt x="1376" y="133"/>
                      </a:lnTo>
                      <a:lnTo>
                        <a:pt x="1375" y="133"/>
                      </a:lnTo>
                      <a:lnTo>
                        <a:pt x="1375" y="134"/>
                      </a:lnTo>
                      <a:lnTo>
                        <a:pt x="1373" y="134"/>
                      </a:lnTo>
                      <a:lnTo>
                        <a:pt x="1372" y="135"/>
                      </a:lnTo>
                      <a:lnTo>
                        <a:pt x="1371" y="135"/>
                      </a:lnTo>
                      <a:lnTo>
                        <a:pt x="1370" y="135"/>
                      </a:lnTo>
                      <a:lnTo>
                        <a:pt x="1369" y="135"/>
                      </a:lnTo>
                      <a:lnTo>
                        <a:pt x="1368" y="137"/>
                      </a:lnTo>
                      <a:lnTo>
                        <a:pt x="1366" y="137"/>
                      </a:lnTo>
                      <a:lnTo>
                        <a:pt x="1365" y="137"/>
                      </a:lnTo>
                      <a:lnTo>
                        <a:pt x="1364" y="137"/>
                      </a:lnTo>
                      <a:lnTo>
                        <a:pt x="1363" y="137"/>
                      </a:lnTo>
                      <a:lnTo>
                        <a:pt x="1362" y="137"/>
                      </a:lnTo>
                      <a:lnTo>
                        <a:pt x="1361" y="137"/>
                      </a:lnTo>
                      <a:lnTo>
                        <a:pt x="1359" y="137"/>
                      </a:lnTo>
                      <a:lnTo>
                        <a:pt x="1358" y="137"/>
                      </a:lnTo>
                      <a:lnTo>
                        <a:pt x="1357" y="138"/>
                      </a:lnTo>
                      <a:lnTo>
                        <a:pt x="1356" y="138"/>
                      </a:lnTo>
                      <a:lnTo>
                        <a:pt x="1355" y="138"/>
                      </a:lnTo>
                      <a:lnTo>
                        <a:pt x="1354" y="139"/>
                      </a:lnTo>
                      <a:lnTo>
                        <a:pt x="1353" y="140"/>
                      </a:lnTo>
                      <a:lnTo>
                        <a:pt x="1351" y="140"/>
                      </a:lnTo>
                      <a:lnTo>
                        <a:pt x="1351" y="141"/>
                      </a:lnTo>
                      <a:lnTo>
                        <a:pt x="1350" y="141"/>
                      </a:lnTo>
                      <a:lnTo>
                        <a:pt x="1349" y="141"/>
                      </a:lnTo>
                      <a:lnTo>
                        <a:pt x="1349" y="142"/>
                      </a:lnTo>
                      <a:lnTo>
                        <a:pt x="1348" y="142"/>
                      </a:lnTo>
                      <a:lnTo>
                        <a:pt x="1347" y="142"/>
                      </a:lnTo>
                      <a:lnTo>
                        <a:pt x="1346" y="142"/>
                      </a:lnTo>
                      <a:lnTo>
                        <a:pt x="1344" y="144"/>
                      </a:lnTo>
                      <a:lnTo>
                        <a:pt x="1343" y="144"/>
                      </a:lnTo>
                      <a:lnTo>
                        <a:pt x="1342" y="144"/>
                      </a:lnTo>
                      <a:lnTo>
                        <a:pt x="1341" y="144"/>
                      </a:lnTo>
                      <a:lnTo>
                        <a:pt x="1340" y="144"/>
                      </a:lnTo>
                      <a:lnTo>
                        <a:pt x="1339" y="144"/>
                      </a:lnTo>
                      <a:lnTo>
                        <a:pt x="1338" y="142"/>
                      </a:lnTo>
                      <a:lnTo>
                        <a:pt x="1336" y="142"/>
                      </a:lnTo>
                      <a:lnTo>
                        <a:pt x="1335" y="142"/>
                      </a:lnTo>
                      <a:lnTo>
                        <a:pt x="1334" y="142"/>
                      </a:lnTo>
                      <a:lnTo>
                        <a:pt x="1334" y="141"/>
                      </a:lnTo>
                      <a:lnTo>
                        <a:pt x="1333" y="141"/>
                      </a:lnTo>
                      <a:lnTo>
                        <a:pt x="1332" y="141"/>
                      </a:lnTo>
                      <a:lnTo>
                        <a:pt x="1332" y="140"/>
                      </a:lnTo>
                      <a:lnTo>
                        <a:pt x="1331" y="140"/>
                      </a:lnTo>
                      <a:lnTo>
                        <a:pt x="1331" y="139"/>
                      </a:lnTo>
                      <a:lnTo>
                        <a:pt x="1329" y="139"/>
                      </a:lnTo>
                      <a:lnTo>
                        <a:pt x="1329" y="138"/>
                      </a:lnTo>
                      <a:lnTo>
                        <a:pt x="1329" y="137"/>
                      </a:lnTo>
                      <a:lnTo>
                        <a:pt x="1329" y="135"/>
                      </a:lnTo>
                      <a:lnTo>
                        <a:pt x="1329" y="134"/>
                      </a:lnTo>
                      <a:lnTo>
                        <a:pt x="1329" y="133"/>
                      </a:lnTo>
                      <a:lnTo>
                        <a:pt x="1329" y="132"/>
                      </a:lnTo>
                      <a:lnTo>
                        <a:pt x="1329" y="131"/>
                      </a:lnTo>
                      <a:lnTo>
                        <a:pt x="1331" y="131"/>
                      </a:lnTo>
                      <a:lnTo>
                        <a:pt x="1331" y="130"/>
                      </a:lnTo>
                      <a:lnTo>
                        <a:pt x="1331" y="129"/>
                      </a:lnTo>
                      <a:lnTo>
                        <a:pt x="1332" y="127"/>
                      </a:lnTo>
                      <a:lnTo>
                        <a:pt x="1332" y="126"/>
                      </a:lnTo>
                      <a:lnTo>
                        <a:pt x="1333" y="125"/>
                      </a:lnTo>
                      <a:lnTo>
                        <a:pt x="1334" y="124"/>
                      </a:lnTo>
                      <a:lnTo>
                        <a:pt x="1334" y="123"/>
                      </a:lnTo>
                      <a:lnTo>
                        <a:pt x="1335" y="123"/>
                      </a:lnTo>
                      <a:lnTo>
                        <a:pt x="1335" y="122"/>
                      </a:lnTo>
                      <a:lnTo>
                        <a:pt x="1336" y="120"/>
                      </a:lnTo>
                      <a:lnTo>
                        <a:pt x="1338" y="119"/>
                      </a:lnTo>
                      <a:lnTo>
                        <a:pt x="1338" y="118"/>
                      </a:lnTo>
                      <a:lnTo>
                        <a:pt x="1339" y="117"/>
                      </a:lnTo>
                      <a:lnTo>
                        <a:pt x="1339" y="116"/>
                      </a:lnTo>
                      <a:lnTo>
                        <a:pt x="1340" y="115"/>
                      </a:lnTo>
                      <a:lnTo>
                        <a:pt x="1340" y="114"/>
                      </a:lnTo>
                      <a:lnTo>
                        <a:pt x="1341" y="112"/>
                      </a:lnTo>
                      <a:lnTo>
                        <a:pt x="1341" y="111"/>
                      </a:lnTo>
                      <a:lnTo>
                        <a:pt x="1341" y="110"/>
                      </a:lnTo>
                      <a:lnTo>
                        <a:pt x="1342" y="109"/>
                      </a:lnTo>
                      <a:lnTo>
                        <a:pt x="1342" y="108"/>
                      </a:lnTo>
                      <a:lnTo>
                        <a:pt x="1342" y="107"/>
                      </a:lnTo>
                      <a:lnTo>
                        <a:pt x="1342" y="108"/>
                      </a:lnTo>
                      <a:lnTo>
                        <a:pt x="1341" y="109"/>
                      </a:lnTo>
                      <a:lnTo>
                        <a:pt x="1341" y="110"/>
                      </a:lnTo>
                      <a:lnTo>
                        <a:pt x="1340" y="111"/>
                      </a:lnTo>
                      <a:lnTo>
                        <a:pt x="1339" y="112"/>
                      </a:lnTo>
                      <a:lnTo>
                        <a:pt x="1339" y="114"/>
                      </a:lnTo>
                      <a:lnTo>
                        <a:pt x="1339" y="115"/>
                      </a:lnTo>
                      <a:lnTo>
                        <a:pt x="1338" y="115"/>
                      </a:lnTo>
                      <a:lnTo>
                        <a:pt x="1338" y="116"/>
                      </a:lnTo>
                      <a:lnTo>
                        <a:pt x="1336" y="117"/>
                      </a:lnTo>
                      <a:lnTo>
                        <a:pt x="1336" y="118"/>
                      </a:lnTo>
                      <a:lnTo>
                        <a:pt x="1335" y="119"/>
                      </a:lnTo>
                      <a:lnTo>
                        <a:pt x="1335" y="120"/>
                      </a:lnTo>
                      <a:lnTo>
                        <a:pt x="1334" y="120"/>
                      </a:lnTo>
                      <a:lnTo>
                        <a:pt x="1334" y="122"/>
                      </a:lnTo>
                      <a:lnTo>
                        <a:pt x="1333" y="123"/>
                      </a:lnTo>
                      <a:lnTo>
                        <a:pt x="1333" y="124"/>
                      </a:lnTo>
                      <a:lnTo>
                        <a:pt x="1332" y="124"/>
                      </a:lnTo>
                      <a:lnTo>
                        <a:pt x="1332" y="125"/>
                      </a:lnTo>
                      <a:lnTo>
                        <a:pt x="1331" y="126"/>
                      </a:lnTo>
                      <a:lnTo>
                        <a:pt x="1329" y="127"/>
                      </a:lnTo>
                      <a:lnTo>
                        <a:pt x="1328" y="129"/>
                      </a:lnTo>
                      <a:lnTo>
                        <a:pt x="1327" y="130"/>
                      </a:lnTo>
                      <a:lnTo>
                        <a:pt x="1327" y="131"/>
                      </a:lnTo>
                      <a:lnTo>
                        <a:pt x="1326" y="131"/>
                      </a:lnTo>
                      <a:lnTo>
                        <a:pt x="1325" y="132"/>
                      </a:lnTo>
                      <a:lnTo>
                        <a:pt x="1325" y="131"/>
                      </a:lnTo>
                      <a:lnTo>
                        <a:pt x="1325" y="130"/>
                      </a:lnTo>
                      <a:lnTo>
                        <a:pt x="1324" y="129"/>
                      </a:lnTo>
                      <a:lnTo>
                        <a:pt x="1324" y="127"/>
                      </a:lnTo>
                      <a:lnTo>
                        <a:pt x="1323" y="125"/>
                      </a:lnTo>
                      <a:lnTo>
                        <a:pt x="1323" y="124"/>
                      </a:lnTo>
                      <a:lnTo>
                        <a:pt x="1323" y="123"/>
                      </a:lnTo>
                      <a:lnTo>
                        <a:pt x="1321" y="122"/>
                      </a:lnTo>
                      <a:lnTo>
                        <a:pt x="1321" y="119"/>
                      </a:lnTo>
                      <a:lnTo>
                        <a:pt x="1321" y="118"/>
                      </a:lnTo>
                      <a:lnTo>
                        <a:pt x="1320" y="116"/>
                      </a:lnTo>
                      <a:lnTo>
                        <a:pt x="1320" y="115"/>
                      </a:lnTo>
                      <a:lnTo>
                        <a:pt x="1320" y="112"/>
                      </a:lnTo>
                      <a:lnTo>
                        <a:pt x="1319" y="111"/>
                      </a:lnTo>
                      <a:lnTo>
                        <a:pt x="1319" y="109"/>
                      </a:lnTo>
                      <a:lnTo>
                        <a:pt x="1319" y="108"/>
                      </a:lnTo>
                      <a:lnTo>
                        <a:pt x="1319" y="105"/>
                      </a:lnTo>
                      <a:lnTo>
                        <a:pt x="1318" y="103"/>
                      </a:lnTo>
                      <a:lnTo>
                        <a:pt x="1318" y="102"/>
                      </a:lnTo>
                      <a:lnTo>
                        <a:pt x="1318" y="100"/>
                      </a:lnTo>
                      <a:lnTo>
                        <a:pt x="1318" y="97"/>
                      </a:lnTo>
                      <a:lnTo>
                        <a:pt x="1318" y="95"/>
                      </a:lnTo>
                      <a:lnTo>
                        <a:pt x="1318" y="93"/>
                      </a:lnTo>
                      <a:lnTo>
                        <a:pt x="1318" y="90"/>
                      </a:lnTo>
                      <a:lnTo>
                        <a:pt x="1317" y="88"/>
                      </a:lnTo>
                      <a:lnTo>
                        <a:pt x="1317" y="86"/>
                      </a:lnTo>
                      <a:lnTo>
                        <a:pt x="1317" y="83"/>
                      </a:lnTo>
                      <a:lnTo>
                        <a:pt x="1318" y="81"/>
                      </a:lnTo>
                      <a:lnTo>
                        <a:pt x="1318" y="79"/>
                      </a:lnTo>
                      <a:lnTo>
                        <a:pt x="1318" y="77"/>
                      </a:lnTo>
                      <a:lnTo>
                        <a:pt x="1318" y="74"/>
                      </a:lnTo>
                      <a:lnTo>
                        <a:pt x="1318" y="72"/>
                      </a:lnTo>
                      <a:lnTo>
                        <a:pt x="1318" y="73"/>
                      </a:lnTo>
                      <a:lnTo>
                        <a:pt x="1319" y="74"/>
                      </a:lnTo>
                      <a:lnTo>
                        <a:pt x="1319" y="75"/>
                      </a:lnTo>
                      <a:lnTo>
                        <a:pt x="1319" y="77"/>
                      </a:lnTo>
                      <a:lnTo>
                        <a:pt x="1320" y="78"/>
                      </a:lnTo>
                      <a:lnTo>
                        <a:pt x="1320" y="79"/>
                      </a:lnTo>
                      <a:lnTo>
                        <a:pt x="1321" y="80"/>
                      </a:lnTo>
                      <a:lnTo>
                        <a:pt x="1323" y="81"/>
                      </a:lnTo>
                      <a:lnTo>
                        <a:pt x="1324" y="82"/>
                      </a:lnTo>
                      <a:lnTo>
                        <a:pt x="1325" y="82"/>
                      </a:lnTo>
                      <a:lnTo>
                        <a:pt x="1326" y="83"/>
                      </a:lnTo>
                      <a:lnTo>
                        <a:pt x="1327" y="83"/>
                      </a:lnTo>
                      <a:lnTo>
                        <a:pt x="1327" y="85"/>
                      </a:lnTo>
                      <a:lnTo>
                        <a:pt x="1328" y="85"/>
                      </a:lnTo>
                      <a:lnTo>
                        <a:pt x="1329" y="85"/>
                      </a:lnTo>
                      <a:lnTo>
                        <a:pt x="1331" y="86"/>
                      </a:lnTo>
                      <a:lnTo>
                        <a:pt x="1332" y="86"/>
                      </a:lnTo>
                      <a:lnTo>
                        <a:pt x="1333" y="86"/>
                      </a:lnTo>
                      <a:lnTo>
                        <a:pt x="1334" y="86"/>
                      </a:lnTo>
                      <a:lnTo>
                        <a:pt x="1335" y="87"/>
                      </a:lnTo>
                      <a:lnTo>
                        <a:pt x="1336" y="87"/>
                      </a:lnTo>
                      <a:lnTo>
                        <a:pt x="1338" y="87"/>
                      </a:lnTo>
                      <a:lnTo>
                        <a:pt x="1339" y="88"/>
                      </a:lnTo>
                      <a:lnTo>
                        <a:pt x="1340" y="88"/>
                      </a:lnTo>
                      <a:lnTo>
                        <a:pt x="1341" y="88"/>
                      </a:lnTo>
                      <a:lnTo>
                        <a:pt x="1342" y="88"/>
                      </a:lnTo>
                      <a:lnTo>
                        <a:pt x="1342" y="89"/>
                      </a:lnTo>
                      <a:lnTo>
                        <a:pt x="1343" y="89"/>
                      </a:lnTo>
                      <a:lnTo>
                        <a:pt x="1344" y="90"/>
                      </a:lnTo>
                      <a:lnTo>
                        <a:pt x="1346" y="89"/>
                      </a:lnTo>
                      <a:lnTo>
                        <a:pt x="1347" y="88"/>
                      </a:lnTo>
                      <a:lnTo>
                        <a:pt x="1348" y="88"/>
                      </a:lnTo>
                      <a:lnTo>
                        <a:pt x="1348" y="87"/>
                      </a:lnTo>
                      <a:lnTo>
                        <a:pt x="1349" y="86"/>
                      </a:lnTo>
                      <a:lnTo>
                        <a:pt x="1349" y="85"/>
                      </a:lnTo>
                      <a:lnTo>
                        <a:pt x="1350" y="85"/>
                      </a:lnTo>
                      <a:lnTo>
                        <a:pt x="1350" y="83"/>
                      </a:lnTo>
                      <a:lnTo>
                        <a:pt x="1350" y="82"/>
                      </a:lnTo>
                      <a:lnTo>
                        <a:pt x="1351" y="82"/>
                      </a:lnTo>
                      <a:lnTo>
                        <a:pt x="1351" y="81"/>
                      </a:lnTo>
                      <a:lnTo>
                        <a:pt x="1351" y="80"/>
                      </a:lnTo>
                      <a:lnTo>
                        <a:pt x="1353" y="80"/>
                      </a:lnTo>
                      <a:lnTo>
                        <a:pt x="1353" y="81"/>
                      </a:lnTo>
                      <a:lnTo>
                        <a:pt x="1354" y="81"/>
                      </a:lnTo>
                      <a:lnTo>
                        <a:pt x="1355" y="81"/>
                      </a:lnTo>
                      <a:lnTo>
                        <a:pt x="1356" y="81"/>
                      </a:lnTo>
                      <a:lnTo>
                        <a:pt x="1357" y="82"/>
                      </a:lnTo>
                      <a:lnTo>
                        <a:pt x="1358" y="82"/>
                      </a:lnTo>
                      <a:lnTo>
                        <a:pt x="1358" y="83"/>
                      </a:lnTo>
                      <a:lnTo>
                        <a:pt x="1359" y="83"/>
                      </a:lnTo>
                      <a:lnTo>
                        <a:pt x="1361" y="85"/>
                      </a:lnTo>
                      <a:lnTo>
                        <a:pt x="1362" y="86"/>
                      </a:lnTo>
                      <a:lnTo>
                        <a:pt x="1363" y="87"/>
                      </a:lnTo>
                      <a:lnTo>
                        <a:pt x="1363" y="88"/>
                      </a:lnTo>
                      <a:lnTo>
                        <a:pt x="1364" y="88"/>
                      </a:lnTo>
                      <a:lnTo>
                        <a:pt x="1364" y="89"/>
                      </a:lnTo>
                      <a:lnTo>
                        <a:pt x="1365" y="90"/>
                      </a:lnTo>
                      <a:lnTo>
                        <a:pt x="1366" y="92"/>
                      </a:lnTo>
                      <a:lnTo>
                        <a:pt x="1366" y="93"/>
                      </a:lnTo>
                      <a:lnTo>
                        <a:pt x="1368" y="93"/>
                      </a:lnTo>
                      <a:lnTo>
                        <a:pt x="1369" y="94"/>
                      </a:lnTo>
                      <a:lnTo>
                        <a:pt x="1370" y="95"/>
                      </a:lnTo>
                      <a:lnTo>
                        <a:pt x="1371" y="96"/>
                      </a:lnTo>
                      <a:lnTo>
                        <a:pt x="1372" y="96"/>
                      </a:lnTo>
                      <a:lnTo>
                        <a:pt x="1373" y="96"/>
                      </a:lnTo>
                      <a:lnTo>
                        <a:pt x="1375" y="97"/>
                      </a:lnTo>
                      <a:lnTo>
                        <a:pt x="1376" y="97"/>
                      </a:lnTo>
                      <a:lnTo>
                        <a:pt x="1378" y="97"/>
                      </a:lnTo>
                      <a:lnTo>
                        <a:pt x="1379" y="97"/>
                      </a:lnTo>
                      <a:lnTo>
                        <a:pt x="1381" y="99"/>
                      </a:lnTo>
                      <a:lnTo>
                        <a:pt x="1383" y="99"/>
                      </a:lnTo>
                      <a:lnTo>
                        <a:pt x="1384" y="99"/>
                      </a:lnTo>
                      <a:lnTo>
                        <a:pt x="1384" y="100"/>
                      </a:lnTo>
                      <a:lnTo>
                        <a:pt x="1385" y="100"/>
                      </a:lnTo>
                      <a:lnTo>
                        <a:pt x="1385" y="101"/>
                      </a:lnTo>
                      <a:lnTo>
                        <a:pt x="1386" y="101"/>
                      </a:lnTo>
                      <a:lnTo>
                        <a:pt x="1387" y="102"/>
                      </a:lnTo>
                      <a:lnTo>
                        <a:pt x="1388" y="103"/>
                      </a:lnTo>
                      <a:lnTo>
                        <a:pt x="1390" y="104"/>
                      </a:lnTo>
                      <a:lnTo>
                        <a:pt x="1391" y="104"/>
                      </a:lnTo>
                      <a:lnTo>
                        <a:pt x="1392" y="105"/>
                      </a:lnTo>
                      <a:lnTo>
                        <a:pt x="1393" y="105"/>
                      </a:lnTo>
                      <a:lnTo>
                        <a:pt x="1394" y="107"/>
                      </a:lnTo>
                      <a:lnTo>
                        <a:pt x="1395" y="107"/>
                      </a:lnTo>
                      <a:lnTo>
                        <a:pt x="1395" y="108"/>
                      </a:lnTo>
                      <a:lnTo>
                        <a:pt x="1396" y="108"/>
                      </a:lnTo>
                      <a:lnTo>
                        <a:pt x="1398" y="108"/>
                      </a:lnTo>
                      <a:lnTo>
                        <a:pt x="1399" y="109"/>
                      </a:lnTo>
                      <a:lnTo>
                        <a:pt x="1400" y="109"/>
                      </a:lnTo>
                      <a:lnTo>
                        <a:pt x="1401" y="109"/>
                      </a:lnTo>
                      <a:lnTo>
                        <a:pt x="1402" y="109"/>
                      </a:lnTo>
                      <a:lnTo>
                        <a:pt x="1401" y="109"/>
                      </a:lnTo>
                      <a:lnTo>
                        <a:pt x="1400" y="108"/>
                      </a:lnTo>
                      <a:lnTo>
                        <a:pt x="1399" y="107"/>
                      </a:lnTo>
                      <a:lnTo>
                        <a:pt x="1398" y="107"/>
                      </a:lnTo>
                      <a:lnTo>
                        <a:pt x="1396" y="105"/>
                      </a:lnTo>
                      <a:lnTo>
                        <a:pt x="1395" y="105"/>
                      </a:lnTo>
                      <a:lnTo>
                        <a:pt x="1394" y="104"/>
                      </a:lnTo>
                      <a:lnTo>
                        <a:pt x="1393" y="103"/>
                      </a:lnTo>
                      <a:lnTo>
                        <a:pt x="1392" y="102"/>
                      </a:lnTo>
                      <a:lnTo>
                        <a:pt x="1391" y="101"/>
                      </a:lnTo>
                      <a:lnTo>
                        <a:pt x="1391" y="100"/>
                      </a:lnTo>
                      <a:lnTo>
                        <a:pt x="1391" y="99"/>
                      </a:lnTo>
                      <a:lnTo>
                        <a:pt x="1392" y="99"/>
                      </a:lnTo>
                      <a:lnTo>
                        <a:pt x="1393" y="99"/>
                      </a:lnTo>
                      <a:lnTo>
                        <a:pt x="1394" y="99"/>
                      </a:lnTo>
                      <a:lnTo>
                        <a:pt x="1395" y="99"/>
                      </a:lnTo>
                      <a:lnTo>
                        <a:pt x="1396" y="99"/>
                      </a:lnTo>
                      <a:lnTo>
                        <a:pt x="1398" y="99"/>
                      </a:lnTo>
                      <a:lnTo>
                        <a:pt x="1399" y="99"/>
                      </a:lnTo>
                      <a:lnTo>
                        <a:pt x="1401" y="99"/>
                      </a:lnTo>
                      <a:lnTo>
                        <a:pt x="1403" y="97"/>
                      </a:lnTo>
                      <a:lnTo>
                        <a:pt x="1406" y="97"/>
                      </a:lnTo>
                      <a:lnTo>
                        <a:pt x="1407" y="97"/>
                      </a:lnTo>
                      <a:lnTo>
                        <a:pt x="1409" y="97"/>
                      </a:lnTo>
                      <a:lnTo>
                        <a:pt x="1413" y="97"/>
                      </a:lnTo>
                      <a:lnTo>
                        <a:pt x="1415" y="96"/>
                      </a:lnTo>
                      <a:lnTo>
                        <a:pt x="1417" y="96"/>
                      </a:lnTo>
                      <a:lnTo>
                        <a:pt x="1420" y="96"/>
                      </a:lnTo>
                      <a:lnTo>
                        <a:pt x="1422" y="96"/>
                      </a:lnTo>
                      <a:lnTo>
                        <a:pt x="1425" y="95"/>
                      </a:lnTo>
                      <a:lnTo>
                        <a:pt x="1428" y="95"/>
                      </a:lnTo>
                      <a:lnTo>
                        <a:pt x="1430" y="95"/>
                      </a:lnTo>
                      <a:lnTo>
                        <a:pt x="1432" y="95"/>
                      </a:lnTo>
                      <a:lnTo>
                        <a:pt x="1435" y="94"/>
                      </a:lnTo>
                      <a:lnTo>
                        <a:pt x="1437" y="94"/>
                      </a:lnTo>
                      <a:lnTo>
                        <a:pt x="1439" y="94"/>
                      </a:lnTo>
                      <a:lnTo>
                        <a:pt x="1440" y="94"/>
                      </a:lnTo>
                      <a:lnTo>
                        <a:pt x="1443" y="94"/>
                      </a:lnTo>
                      <a:lnTo>
                        <a:pt x="1444" y="94"/>
                      </a:lnTo>
                      <a:lnTo>
                        <a:pt x="1445" y="94"/>
                      </a:lnTo>
                      <a:lnTo>
                        <a:pt x="1446" y="94"/>
                      </a:lnTo>
                      <a:lnTo>
                        <a:pt x="1447" y="94"/>
                      </a:lnTo>
                      <a:lnTo>
                        <a:pt x="1448" y="94"/>
                      </a:lnTo>
                      <a:lnTo>
                        <a:pt x="1446" y="93"/>
                      </a:lnTo>
                      <a:lnTo>
                        <a:pt x="1445" y="92"/>
                      </a:lnTo>
                      <a:lnTo>
                        <a:pt x="1443" y="90"/>
                      </a:lnTo>
                      <a:lnTo>
                        <a:pt x="1442" y="90"/>
                      </a:lnTo>
                      <a:lnTo>
                        <a:pt x="1439" y="89"/>
                      </a:lnTo>
                      <a:lnTo>
                        <a:pt x="1437" y="88"/>
                      </a:lnTo>
                      <a:lnTo>
                        <a:pt x="1436" y="88"/>
                      </a:lnTo>
                      <a:lnTo>
                        <a:pt x="1433" y="87"/>
                      </a:lnTo>
                      <a:lnTo>
                        <a:pt x="1431" y="86"/>
                      </a:lnTo>
                      <a:lnTo>
                        <a:pt x="1429" y="86"/>
                      </a:lnTo>
                      <a:lnTo>
                        <a:pt x="1428" y="85"/>
                      </a:lnTo>
                      <a:lnTo>
                        <a:pt x="1425" y="83"/>
                      </a:lnTo>
                      <a:lnTo>
                        <a:pt x="1423" y="83"/>
                      </a:lnTo>
                      <a:lnTo>
                        <a:pt x="1422" y="82"/>
                      </a:lnTo>
                      <a:lnTo>
                        <a:pt x="1420" y="82"/>
                      </a:lnTo>
                      <a:lnTo>
                        <a:pt x="1417" y="81"/>
                      </a:lnTo>
                      <a:lnTo>
                        <a:pt x="1416" y="81"/>
                      </a:lnTo>
                      <a:lnTo>
                        <a:pt x="1414" y="80"/>
                      </a:lnTo>
                      <a:lnTo>
                        <a:pt x="1411" y="80"/>
                      </a:lnTo>
                      <a:lnTo>
                        <a:pt x="1410" y="79"/>
                      </a:lnTo>
                      <a:lnTo>
                        <a:pt x="1408" y="79"/>
                      </a:lnTo>
                      <a:lnTo>
                        <a:pt x="1407" y="78"/>
                      </a:lnTo>
                      <a:lnTo>
                        <a:pt x="1406" y="78"/>
                      </a:lnTo>
                      <a:lnTo>
                        <a:pt x="1403" y="78"/>
                      </a:lnTo>
                      <a:lnTo>
                        <a:pt x="1402" y="77"/>
                      </a:lnTo>
                      <a:lnTo>
                        <a:pt x="1401" y="77"/>
                      </a:lnTo>
                      <a:lnTo>
                        <a:pt x="1400" y="75"/>
                      </a:lnTo>
                      <a:lnTo>
                        <a:pt x="1398" y="75"/>
                      </a:lnTo>
                      <a:lnTo>
                        <a:pt x="1396" y="74"/>
                      </a:lnTo>
                      <a:lnTo>
                        <a:pt x="1395" y="74"/>
                      </a:lnTo>
                      <a:lnTo>
                        <a:pt x="1394" y="74"/>
                      </a:lnTo>
                      <a:lnTo>
                        <a:pt x="1393" y="73"/>
                      </a:lnTo>
                      <a:lnTo>
                        <a:pt x="1391" y="73"/>
                      </a:lnTo>
                      <a:lnTo>
                        <a:pt x="1390" y="73"/>
                      </a:lnTo>
                      <a:lnTo>
                        <a:pt x="1388" y="73"/>
                      </a:lnTo>
                      <a:lnTo>
                        <a:pt x="1387" y="73"/>
                      </a:lnTo>
                      <a:lnTo>
                        <a:pt x="1385" y="73"/>
                      </a:lnTo>
                      <a:lnTo>
                        <a:pt x="1384" y="73"/>
                      </a:lnTo>
                      <a:lnTo>
                        <a:pt x="1383" y="73"/>
                      </a:lnTo>
                      <a:lnTo>
                        <a:pt x="1380" y="73"/>
                      </a:lnTo>
                      <a:lnTo>
                        <a:pt x="1379" y="73"/>
                      </a:lnTo>
                      <a:lnTo>
                        <a:pt x="1378" y="73"/>
                      </a:lnTo>
                      <a:lnTo>
                        <a:pt x="1377" y="74"/>
                      </a:lnTo>
                      <a:lnTo>
                        <a:pt x="1376" y="74"/>
                      </a:lnTo>
                      <a:lnTo>
                        <a:pt x="1375" y="74"/>
                      </a:lnTo>
                      <a:lnTo>
                        <a:pt x="1373" y="74"/>
                      </a:lnTo>
                      <a:lnTo>
                        <a:pt x="1371" y="74"/>
                      </a:lnTo>
                      <a:lnTo>
                        <a:pt x="1370" y="74"/>
                      </a:lnTo>
                      <a:lnTo>
                        <a:pt x="1369" y="75"/>
                      </a:lnTo>
                      <a:lnTo>
                        <a:pt x="1368" y="75"/>
                      </a:lnTo>
                      <a:lnTo>
                        <a:pt x="1366" y="75"/>
                      </a:lnTo>
                      <a:lnTo>
                        <a:pt x="1365" y="77"/>
                      </a:lnTo>
                      <a:lnTo>
                        <a:pt x="1364" y="77"/>
                      </a:lnTo>
                      <a:lnTo>
                        <a:pt x="1363" y="77"/>
                      </a:lnTo>
                      <a:lnTo>
                        <a:pt x="1362" y="77"/>
                      </a:lnTo>
                      <a:lnTo>
                        <a:pt x="1362" y="78"/>
                      </a:lnTo>
                      <a:lnTo>
                        <a:pt x="1361" y="78"/>
                      </a:lnTo>
                      <a:lnTo>
                        <a:pt x="1359" y="79"/>
                      </a:lnTo>
                      <a:lnTo>
                        <a:pt x="1358" y="79"/>
                      </a:lnTo>
                      <a:lnTo>
                        <a:pt x="1358" y="80"/>
                      </a:lnTo>
                      <a:lnTo>
                        <a:pt x="1357" y="80"/>
                      </a:lnTo>
                      <a:lnTo>
                        <a:pt x="1356" y="80"/>
                      </a:lnTo>
                      <a:lnTo>
                        <a:pt x="1355" y="80"/>
                      </a:lnTo>
                      <a:lnTo>
                        <a:pt x="1354" y="80"/>
                      </a:lnTo>
                      <a:lnTo>
                        <a:pt x="1353" y="80"/>
                      </a:lnTo>
                      <a:lnTo>
                        <a:pt x="1353" y="79"/>
                      </a:lnTo>
                      <a:lnTo>
                        <a:pt x="1351" y="79"/>
                      </a:lnTo>
                      <a:lnTo>
                        <a:pt x="1351" y="78"/>
                      </a:lnTo>
                      <a:lnTo>
                        <a:pt x="1350" y="77"/>
                      </a:lnTo>
                      <a:lnTo>
                        <a:pt x="1349" y="75"/>
                      </a:lnTo>
                      <a:lnTo>
                        <a:pt x="1348" y="74"/>
                      </a:lnTo>
                      <a:lnTo>
                        <a:pt x="1348" y="73"/>
                      </a:lnTo>
                      <a:lnTo>
                        <a:pt x="1347" y="72"/>
                      </a:lnTo>
                      <a:lnTo>
                        <a:pt x="1346" y="71"/>
                      </a:lnTo>
                      <a:lnTo>
                        <a:pt x="1346" y="70"/>
                      </a:lnTo>
                      <a:lnTo>
                        <a:pt x="1344" y="68"/>
                      </a:lnTo>
                      <a:lnTo>
                        <a:pt x="1343" y="67"/>
                      </a:lnTo>
                      <a:lnTo>
                        <a:pt x="1342" y="66"/>
                      </a:lnTo>
                      <a:lnTo>
                        <a:pt x="1340" y="64"/>
                      </a:lnTo>
                      <a:lnTo>
                        <a:pt x="1339" y="63"/>
                      </a:lnTo>
                      <a:lnTo>
                        <a:pt x="1338" y="60"/>
                      </a:lnTo>
                      <a:lnTo>
                        <a:pt x="1335" y="59"/>
                      </a:lnTo>
                      <a:lnTo>
                        <a:pt x="1334" y="57"/>
                      </a:lnTo>
                      <a:lnTo>
                        <a:pt x="1332" y="55"/>
                      </a:lnTo>
                      <a:lnTo>
                        <a:pt x="1329" y="52"/>
                      </a:lnTo>
                      <a:lnTo>
                        <a:pt x="1327" y="50"/>
                      </a:lnTo>
                      <a:lnTo>
                        <a:pt x="1324" y="48"/>
                      </a:lnTo>
                      <a:lnTo>
                        <a:pt x="1321" y="45"/>
                      </a:lnTo>
                      <a:close/>
                      <a:moveTo>
                        <a:pt x="2034" y="115"/>
                      </a:moveTo>
                      <a:lnTo>
                        <a:pt x="2034" y="116"/>
                      </a:lnTo>
                      <a:lnTo>
                        <a:pt x="2033" y="117"/>
                      </a:lnTo>
                      <a:lnTo>
                        <a:pt x="2033" y="118"/>
                      </a:lnTo>
                      <a:lnTo>
                        <a:pt x="2033" y="119"/>
                      </a:lnTo>
                      <a:lnTo>
                        <a:pt x="2032" y="119"/>
                      </a:lnTo>
                      <a:lnTo>
                        <a:pt x="2032" y="120"/>
                      </a:lnTo>
                      <a:lnTo>
                        <a:pt x="2032" y="122"/>
                      </a:lnTo>
                      <a:lnTo>
                        <a:pt x="2031" y="122"/>
                      </a:lnTo>
                      <a:lnTo>
                        <a:pt x="2031" y="123"/>
                      </a:lnTo>
                      <a:lnTo>
                        <a:pt x="2030" y="124"/>
                      </a:lnTo>
                      <a:lnTo>
                        <a:pt x="2030" y="125"/>
                      </a:lnTo>
                      <a:lnTo>
                        <a:pt x="2029" y="125"/>
                      </a:lnTo>
                      <a:lnTo>
                        <a:pt x="2029" y="126"/>
                      </a:lnTo>
                      <a:lnTo>
                        <a:pt x="2027" y="127"/>
                      </a:lnTo>
                      <a:lnTo>
                        <a:pt x="2027" y="129"/>
                      </a:lnTo>
                      <a:lnTo>
                        <a:pt x="2026" y="130"/>
                      </a:lnTo>
                      <a:lnTo>
                        <a:pt x="2025" y="131"/>
                      </a:lnTo>
                      <a:lnTo>
                        <a:pt x="2026" y="130"/>
                      </a:lnTo>
                      <a:lnTo>
                        <a:pt x="2026" y="129"/>
                      </a:lnTo>
                      <a:lnTo>
                        <a:pt x="2025" y="129"/>
                      </a:lnTo>
                      <a:lnTo>
                        <a:pt x="2025" y="127"/>
                      </a:lnTo>
                      <a:lnTo>
                        <a:pt x="2025" y="126"/>
                      </a:lnTo>
                      <a:lnTo>
                        <a:pt x="2025" y="125"/>
                      </a:lnTo>
                      <a:lnTo>
                        <a:pt x="2025" y="124"/>
                      </a:lnTo>
                      <a:lnTo>
                        <a:pt x="2024" y="124"/>
                      </a:lnTo>
                      <a:lnTo>
                        <a:pt x="2024" y="123"/>
                      </a:lnTo>
                      <a:lnTo>
                        <a:pt x="2024" y="122"/>
                      </a:lnTo>
                      <a:lnTo>
                        <a:pt x="2024" y="120"/>
                      </a:lnTo>
                      <a:lnTo>
                        <a:pt x="2023" y="120"/>
                      </a:lnTo>
                      <a:lnTo>
                        <a:pt x="2023" y="119"/>
                      </a:lnTo>
                      <a:lnTo>
                        <a:pt x="2022" y="119"/>
                      </a:lnTo>
                      <a:lnTo>
                        <a:pt x="2022" y="118"/>
                      </a:lnTo>
                      <a:lnTo>
                        <a:pt x="2020" y="118"/>
                      </a:lnTo>
                      <a:lnTo>
                        <a:pt x="2019" y="118"/>
                      </a:lnTo>
                      <a:lnTo>
                        <a:pt x="2019" y="117"/>
                      </a:lnTo>
                      <a:lnTo>
                        <a:pt x="2018" y="117"/>
                      </a:lnTo>
                      <a:lnTo>
                        <a:pt x="2017" y="116"/>
                      </a:lnTo>
                      <a:lnTo>
                        <a:pt x="2016" y="116"/>
                      </a:lnTo>
                      <a:lnTo>
                        <a:pt x="2015" y="115"/>
                      </a:lnTo>
                      <a:lnTo>
                        <a:pt x="2013" y="115"/>
                      </a:lnTo>
                      <a:lnTo>
                        <a:pt x="2013" y="114"/>
                      </a:lnTo>
                      <a:lnTo>
                        <a:pt x="2012" y="114"/>
                      </a:lnTo>
                      <a:lnTo>
                        <a:pt x="2012" y="112"/>
                      </a:lnTo>
                      <a:lnTo>
                        <a:pt x="2011" y="112"/>
                      </a:lnTo>
                      <a:lnTo>
                        <a:pt x="2011" y="111"/>
                      </a:lnTo>
                      <a:lnTo>
                        <a:pt x="2012" y="111"/>
                      </a:lnTo>
                      <a:lnTo>
                        <a:pt x="2012" y="110"/>
                      </a:lnTo>
                      <a:lnTo>
                        <a:pt x="2013" y="109"/>
                      </a:lnTo>
                      <a:lnTo>
                        <a:pt x="2015" y="108"/>
                      </a:lnTo>
                      <a:lnTo>
                        <a:pt x="2015" y="107"/>
                      </a:lnTo>
                      <a:lnTo>
                        <a:pt x="2016" y="107"/>
                      </a:lnTo>
                      <a:lnTo>
                        <a:pt x="2016" y="105"/>
                      </a:lnTo>
                      <a:lnTo>
                        <a:pt x="2017" y="105"/>
                      </a:lnTo>
                      <a:lnTo>
                        <a:pt x="2017" y="104"/>
                      </a:lnTo>
                      <a:lnTo>
                        <a:pt x="2017" y="103"/>
                      </a:lnTo>
                      <a:lnTo>
                        <a:pt x="2018" y="103"/>
                      </a:lnTo>
                      <a:lnTo>
                        <a:pt x="2017" y="102"/>
                      </a:lnTo>
                      <a:lnTo>
                        <a:pt x="2017" y="101"/>
                      </a:lnTo>
                      <a:lnTo>
                        <a:pt x="2016" y="101"/>
                      </a:lnTo>
                      <a:lnTo>
                        <a:pt x="2016" y="100"/>
                      </a:lnTo>
                      <a:lnTo>
                        <a:pt x="2016" y="99"/>
                      </a:lnTo>
                      <a:lnTo>
                        <a:pt x="2015" y="99"/>
                      </a:lnTo>
                      <a:lnTo>
                        <a:pt x="2015" y="97"/>
                      </a:lnTo>
                      <a:lnTo>
                        <a:pt x="2013" y="97"/>
                      </a:lnTo>
                      <a:lnTo>
                        <a:pt x="2013" y="96"/>
                      </a:lnTo>
                      <a:lnTo>
                        <a:pt x="2013" y="95"/>
                      </a:lnTo>
                      <a:lnTo>
                        <a:pt x="2012" y="95"/>
                      </a:lnTo>
                      <a:lnTo>
                        <a:pt x="2012" y="94"/>
                      </a:lnTo>
                      <a:lnTo>
                        <a:pt x="2012" y="93"/>
                      </a:lnTo>
                      <a:lnTo>
                        <a:pt x="2011" y="93"/>
                      </a:lnTo>
                      <a:lnTo>
                        <a:pt x="2011" y="92"/>
                      </a:lnTo>
                      <a:lnTo>
                        <a:pt x="2010" y="90"/>
                      </a:lnTo>
                      <a:lnTo>
                        <a:pt x="2010" y="89"/>
                      </a:lnTo>
                      <a:lnTo>
                        <a:pt x="2009" y="89"/>
                      </a:lnTo>
                      <a:lnTo>
                        <a:pt x="2009" y="88"/>
                      </a:lnTo>
                      <a:lnTo>
                        <a:pt x="2010" y="88"/>
                      </a:lnTo>
                      <a:lnTo>
                        <a:pt x="2010" y="89"/>
                      </a:lnTo>
                      <a:lnTo>
                        <a:pt x="2011" y="89"/>
                      </a:lnTo>
                      <a:lnTo>
                        <a:pt x="2012" y="90"/>
                      </a:lnTo>
                      <a:lnTo>
                        <a:pt x="2013" y="92"/>
                      </a:lnTo>
                      <a:lnTo>
                        <a:pt x="2015" y="93"/>
                      </a:lnTo>
                      <a:lnTo>
                        <a:pt x="2016" y="94"/>
                      </a:lnTo>
                      <a:lnTo>
                        <a:pt x="2017" y="95"/>
                      </a:lnTo>
                      <a:lnTo>
                        <a:pt x="2018" y="95"/>
                      </a:lnTo>
                      <a:lnTo>
                        <a:pt x="2018" y="96"/>
                      </a:lnTo>
                      <a:lnTo>
                        <a:pt x="2019" y="97"/>
                      </a:lnTo>
                      <a:lnTo>
                        <a:pt x="2020" y="99"/>
                      </a:lnTo>
                      <a:lnTo>
                        <a:pt x="2022" y="99"/>
                      </a:lnTo>
                      <a:lnTo>
                        <a:pt x="2023" y="100"/>
                      </a:lnTo>
                      <a:lnTo>
                        <a:pt x="2023" y="101"/>
                      </a:lnTo>
                      <a:lnTo>
                        <a:pt x="2024" y="102"/>
                      </a:lnTo>
                      <a:lnTo>
                        <a:pt x="2025" y="103"/>
                      </a:lnTo>
                      <a:lnTo>
                        <a:pt x="2026" y="104"/>
                      </a:lnTo>
                      <a:lnTo>
                        <a:pt x="2027" y="105"/>
                      </a:lnTo>
                      <a:lnTo>
                        <a:pt x="2029" y="107"/>
                      </a:lnTo>
                      <a:lnTo>
                        <a:pt x="2030" y="108"/>
                      </a:lnTo>
                      <a:lnTo>
                        <a:pt x="2030" y="109"/>
                      </a:lnTo>
                      <a:lnTo>
                        <a:pt x="2031" y="109"/>
                      </a:lnTo>
                      <a:lnTo>
                        <a:pt x="2031" y="110"/>
                      </a:lnTo>
                      <a:lnTo>
                        <a:pt x="2032" y="111"/>
                      </a:lnTo>
                      <a:lnTo>
                        <a:pt x="2033" y="112"/>
                      </a:lnTo>
                      <a:lnTo>
                        <a:pt x="2034" y="114"/>
                      </a:lnTo>
                      <a:lnTo>
                        <a:pt x="2034" y="115"/>
                      </a:lnTo>
                      <a:close/>
                      <a:moveTo>
                        <a:pt x="2129" y="176"/>
                      </a:moveTo>
                      <a:lnTo>
                        <a:pt x="2130" y="176"/>
                      </a:lnTo>
                      <a:lnTo>
                        <a:pt x="2131" y="176"/>
                      </a:lnTo>
                      <a:lnTo>
                        <a:pt x="2132" y="176"/>
                      </a:lnTo>
                      <a:lnTo>
                        <a:pt x="2134" y="176"/>
                      </a:lnTo>
                      <a:lnTo>
                        <a:pt x="2135" y="176"/>
                      </a:lnTo>
                      <a:lnTo>
                        <a:pt x="2136" y="175"/>
                      </a:lnTo>
                      <a:lnTo>
                        <a:pt x="2137" y="175"/>
                      </a:lnTo>
                      <a:lnTo>
                        <a:pt x="2138" y="175"/>
                      </a:lnTo>
                      <a:lnTo>
                        <a:pt x="2139" y="175"/>
                      </a:lnTo>
                      <a:lnTo>
                        <a:pt x="2141" y="175"/>
                      </a:lnTo>
                      <a:lnTo>
                        <a:pt x="2141" y="174"/>
                      </a:lnTo>
                      <a:lnTo>
                        <a:pt x="2142" y="174"/>
                      </a:lnTo>
                      <a:lnTo>
                        <a:pt x="2143" y="174"/>
                      </a:lnTo>
                      <a:lnTo>
                        <a:pt x="2144" y="172"/>
                      </a:lnTo>
                      <a:lnTo>
                        <a:pt x="2145" y="172"/>
                      </a:lnTo>
                      <a:lnTo>
                        <a:pt x="2145" y="171"/>
                      </a:lnTo>
                      <a:lnTo>
                        <a:pt x="2146" y="171"/>
                      </a:lnTo>
                      <a:lnTo>
                        <a:pt x="2148" y="170"/>
                      </a:lnTo>
                      <a:lnTo>
                        <a:pt x="2149" y="170"/>
                      </a:lnTo>
                      <a:lnTo>
                        <a:pt x="2149" y="169"/>
                      </a:lnTo>
                      <a:lnTo>
                        <a:pt x="2150" y="169"/>
                      </a:lnTo>
                      <a:lnTo>
                        <a:pt x="2151" y="168"/>
                      </a:lnTo>
                      <a:lnTo>
                        <a:pt x="2152" y="167"/>
                      </a:lnTo>
                      <a:lnTo>
                        <a:pt x="2153" y="167"/>
                      </a:lnTo>
                      <a:lnTo>
                        <a:pt x="2154" y="166"/>
                      </a:lnTo>
                      <a:lnTo>
                        <a:pt x="2156" y="166"/>
                      </a:lnTo>
                      <a:lnTo>
                        <a:pt x="2158" y="166"/>
                      </a:lnTo>
                      <a:lnTo>
                        <a:pt x="2160" y="166"/>
                      </a:lnTo>
                      <a:lnTo>
                        <a:pt x="2163" y="166"/>
                      </a:lnTo>
                      <a:lnTo>
                        <a:pt x="2164" y="166"/>
                      </a:lnTo>
                      <a:lnTo>
                        <a:pt x="2166" y="166"/>
                      </a:lnTo>
                      <a:lnTo>
                        <a:pt x="2168" y="166"/>
                      </a:lnTo>
                      <a:lnTo>
                        <a:pt x="2169" y="166"/>
                      </a:lnTo>
                      <a:lnTo>
                        <a:pt x="2172" y="166"/>
                      </a:lnTo>
                      <a:lnTo>
                        <a:pt x="2174" y="167"/>
                      </a:lnTo>
                      <a:lnTo>
                        <a:pt x="2176" y="167"/>
                      </a:lnTo>
                      <a:lnTo>
                        <a:pt x="2178" y="167"/>
                      </a:lnTo>
                      <a:lnTo>
                        <a:pt x="2180" y="167"/>
                      </a:lnTo>
                      <a:lnTo>
                        <a:pt x="2182" y="168"/>
                      </a:lnTo>
                      <a:lnTo>
                        <a:pt x="2183" y="168"/>
                      </a:lnTo>
                      <a:lnTo>
                        <a:pt x="2186" y="168"/>
                      </a:lnTo>
                      <a:lnTo>
                        <a:pt x="2188" y="169"/>
                      </a:lnTo>
                      <a:lnTo>
                        <a:pt x="2189" y="169"/>
                      </a:lnTo>
                      <a:lnTo>
                        <a:pt x="2191" y="170"/>
                      </a:lnTo>
                      <a:lnTo>
                        <a:pt x="2194" y="170"/>
                      </a:lnTo>
                      <a:lnTo>
                        <a:pt x="2195" y="171"/>
                      </a:lnTo>
                      <a:lnTo>
                        <a:pt x="2197" y="172"/>
                      </a:lnTo>
                      <a:lnTo>
                        <a:pt x="2198" y="174"/>
                      </a:lnTo>
                      <a:lnTo>
                        <a:pt x="2201" y="175"/>
                      </a:lnTo>
                      <a:lnTo>
                        <a:pt x="2202" y="176"/>
                      </a:lnTo>
                      <a:lnTo>
                        <a:pt x="2204" y="177"/>
                      </a:lnTo>
                      <a:lnTo>
                        <a:pt x="2205" y="178"/>
                      </a:lnTo>
                      <a:lnTo>
                        <a:pt x="2208" y="179"/>
                      </a:lnTo>
                      <a:lnTo>
                        <a:pt x="2209" y="181"/>
                      </a:lnTo>
                      <a:lnTo>
                        <a:pt x="2211" y="183"/>
                      </a:lnTo>
                      <a:lnTo>
                        <a:pt x="2212" y="184"/>
                      </a:lnTo>
                      <a:lnTo>
                        <a:pt x="2215" y="186"/>
                      </a:lnTo>
                      <a:lnTo>
                        <a:pt x="2216" y="186"/>
                      </a:lnTo>
                      <a:lnTo>
                        <a:pt x="2217" y="186"/>
                      </a:lnTo>
                      <a:lnTo>
                        <a:pt x="2218" y="186"/>
                      </a:lnTo>
                      <a:lnTo>
                        <a:pt x="2219" y="186"/>
                      </a:lnTo>
                      <a:lnTo>
                        <a:pt x="2220" y="186"/>
                      </a:lnTo>
                      <a:lnTo>
                        <a:pt x="2221" y="186"/>
                      </a:lnTo>
                      <a:lnTo>
                        <a:pt x="2223" y="187"/>
                      </a:lnTo>
                      <a:lnTo>
                        <a:pt x="2224" y="187"/>
                      </a:lnTo>
                      <a:lnTo>
                        <a:pt x="2225" y="187"/>
                      </a:lnTo>
                      <a:lnTo>
                        <a:pt x="2226" y="187"/>
                      </a:lnTo>
                      <a:lnTo>
                        <a:pt x="2227" y="187"/>
                      </a:lnTo>
                      <a:lnTo>
                        <a:pt x="2228" y="189"/>
                      </a:lnTo>
                      <a:lnTo>
                        <a:pt x="2230" y="189"/>
                      </a:lnTo>
                      <a:lnTo>
                        <a:pt x="2231" y="189"/>
                      </a:lnTo>
                      <a:lnTo>
                        <a:pt x="2232" y="189"/>
                      </a:lnTo>
                      <a:lnTo>
                        <a:pt x="2233" y="190"/>
                      </a:lnTo>
                      <a:lnTo>
                        <a:pt x="2234" y="190"/>
                      </a:lnTo>
                      <a:lnTo>
                        <a:pt x="2235" y="190"/>
                      </a:lnTo>
                      <a:lnTo>
                        <a:pt x="2236" y="191"/>
                      </a:lnTo>
                      <a:lnTo>
                        <a:pt x="2238" y="191"/>
                      </a:lnTo>
                      <a:lnTo>
                        <a:pt x="2239" y="192"/>
                      </a:lnTo>
                      <a:lnTo>
                        <a:pt x="2240" y="192"/>
                      </a:lnTo>
                      <a:lnTo>
                        <a:pt x="2241" y="193"/>
                      </a:lnTo>
                      <a:lnTo>
                        <a:pt x="2242" y="193"/>
                      </a:lnTo>
                      <a:lnTo>
                        <a:pt x="2243" y="193"/>
                      </a:lnTo>
                      <a:lnTo>
                        <a:pt x="2243" y="194"/>
                      </a:lnTo>
                      <a:lnTo>
                        <a:pt x="2245" y="194"/>
                      </a:lnTo>
                      <a:lnTo>
                        <a:pt x="2246" y="196"/>
                      </a:lnTo>
                      <a:lnTo>
                        <a:pt x="2247" y="196"/>
                      </a:lnTo>
                      <a:lnTo>
                        <a:pt x="2248" y="197"/>
                      </a:lnTo>
                      <a:lnTo>
                        <a:pt x="2248" y="228"/>
                      </a:lnTo>
                      <a:lnTo>
                        <a:pt x="2246" y="229"/>
                      </a:lnTo>
                      <a:lnTo>
                        <a:pt x="2242" y="230"/>
                      </a:lnTo>
                      <a:lnTo>
                        <a:pt x="2240" y="233"/>
                      </a:lnTo>
                      <a:lnTo>
                        <a:pt x="2236" y="234"/>
                      </a:lnTo>
                      <a:lnTo>
                        <a:pt x="2234" y="235"/>
                      </a:lnTo>
                      <a:lnTo>
                        <a:pt x="2232" y="237"/>
                      </a:lnTo>
                      <a:lnTo>
                        <a:pt x="2228" y="238"/>
                      </a:lnTo>
                      <a:lnTo>
                        <a:pt x="2226" y="239"/>
                      </a:lnTo>
                      <a:lnTo>
                        <a:pt x="2223" y="242"/>
                      </a:lnTo>
                      <a:lnTo>
                        <a:pt x="2220" y="243"/>
                      </a:lnTo>
                      <a:lnTo>
                        <a:pt x="2218" y="245"/>
                      </a:lnTo>
                      <a:lnTo>
                        <a:pt x="2215" y="246"/>
                      </a:lnTo>
                      <a:lnTo>
                        <a:pt x="2212" y="249"/>
                      </a:lnTo>
                      <a:lnTo>
                        <a:pt x="2209" y="251"/>
                      </a:lnTo>
                      <a:lnTo>
                        <a:pt x="2206" y="252"/>
                      </a:lnTo>
                      <a:lnTo>
                        <a:pt x="2204" y="254"/>
                      </a:lnTo>
                      <a:lnTo>
                        <a:pt x="2201" y="257"/>
                      </a:lnTo>
                      <a:lnTo>
                        <a:pt x="2198" y="258"/>
                      </a:lnTo>
                      <a:lnTo>
                        <a:pt x="2196" y="260"/>
                      </a:lnTo>
                      <a:lnTo>
                        <a:pt x="2193" y="263"/>
                      </a:lnTo>
                      <a:lnTo>
                        <a:pt x="2190" y="265"/>
                      </a:lnTo>
                      <a:lnTo>
                        <a:pt x="2188" y="267"/>
                      </a:lnTo>
                      <a:lnTo>
                        <a:pt x="2186" y="269"/>
                      </a:lnTo>
                      <a:lnTo>
                        <a:pt x="2182" y="272"/>
                      </a:lnTo>
                      <a:lnTo>
                        <a:pt x="2180" y="274"/>
                      </a:lnTo>
                      <a:lnTo>
                        <a:pt x="2178" y="276"/>
                      </a:lnTo>
                      <a:lnTo>
                        <a:pt x="2175" y="279"/>
                      </a:lnTo>
                      <a:lnTo>
                        <a:pt x="2173" y="282"/>
                      </a:lnTo>
                      <a:lnTo>
                        <a:pt x="2169" y="284"/>
                      </a:lnTo>
                      <a:lnTo>
                        <a:pt x="2167" y="287"/>
                      </a:lnTo>
                      <a:lnTo>
                        <a:pt x="2165" y="290"/>
                      </a:lnTo>
                      <a:lnTo>
                        <a:pt x="2163" y="293"/>
                      </a:lnTo>
                      <a:lnTo>
                        <a:pt x="2161" y="291"/>
                      </a:lnTo>
                      <a:lnTo>
                        <a:pt x="2160" y="290"/>
                      </a:lnTo>
                      <a:lnTo>
                        <a:pt x="2160" y="289"/>
                      </a:lnTo>
                      <a:lnTo>
                        <a:pt x="2159" y="288"/>
                      </a:lnTo>
                      <a:lnTo>
                        <a:pt x="2158" y="287"/>
                      </a:lnTo>
                      <a:lnTo>
                        <a:pt x="2158" y="286"/>
                      </a:lnTo>
                      <a:lnTo>
                        <a:pt x="2157" y="284"/>
                      </a:lnTo>
                      <a:lnTo>
                        <a:pt x="2156" y="283"/>
                      </a:lnTo>
                      <a:lnTo>
                        <a:pt x="2154" y="282"/>
                      </a:lnTo>
                      <a:lnTo>
                        <a:pt x="2153" y="281"/>
                      </a:lnTo>
                      <a:lnTo>
                        <a:pt x="2153" y="279"/>
                      </a:lnTo>
                      <a:lnTo>
                        <a:pt x="2152" y="278"/>
                      </a:lnTo>
                      <a:lnTo>
                        <a:pt x="2151" y="276"/>
                      </a:lnTo>
                      <a:lnTo>
                        <a:pt x="2150" y="274"/>
                      </a:lnTo>
                      <a:lnTo>
                        <a:pt x="2149" y="273"/>
                      </a:lnTo>
                      <a:lnTo>
                        <a:pt x="2148" y="271"/>
                      </a:lnTo>
                      <a:lnTo>
                        <a:pt x="2146" y="269"/>
                      </a:lnTo>
                      <a:lnTo>
                        <a:pt x="2145" y="268"/>
                      </a:lnTo>
                      <a:lnTo>
                        <a:pt x="2144" y="266"/>
                      </a:lnTo>
                      <a:lnTo>
                        <a:pt x="2143" y="265"/>
                      </a:lnTo>
                      <a:lnTo>
                        <a:pt x="2142" y="263"/>
                      </a:lnTo>
                      <a:lnTo>
                        <a:pt x="2141" y="261"/>
                      </a:lnTo>
                      <a:lnTo>
                        <a:pt x="2139" y="260"/>
                      </a:lnTo>
                      <a:lnTo>
                        <a:pt x="2138" y="259"/>
                      </a:lnTo>
                      <a:lnTo>
                        <a:pt x="2138" y="257"/>
                      </a:lnTo>
                      <a:lnTo>
                        <a:pt x="2137" y="256"/>
                      </a:lnTo>
                      <a:lnTo>
                        <a:pt x="2136" y="254"/>
                      </a:lnTo>
                      <a:lnTo>
                        <a:pt x="2135" y="253"/>
                      </a:lnTo>
                      <a:lnTo>
                        <a:pt x="2134" y="252"/>
                      </a:lnTo>
                      <a:lnTo>
                        <a:pt x="2132" y="251"/>
                      </a:lnTo>
                      <a:lnTo>
                        <a:pt x="2131" y="250"/>
                      </a:lnTo>
                      <a:lnTo>
                        <a:pt x="2130" y="250"/>
                      </a:lnTo>
                      <a:lnTo>
                        <a:pt x="2129" y="250"/>
                      </a:lnTo>
                      <a:lnTo>
                        <a:pt x="2129" y="249"/>
                      </a:lnTo>
                      <a:lnTo>
                        <a:pt x="2128" y="249"/>
                      </a:lnTo>
                      <a:lnTo>
                        <a:pt x="2127" y="249"/>
                      </a:lnTo>
                      <a:lnTo>
                        <a:pt x="2126" y="249"/>
                      </a:lnTo>
                      <a:lnTo>
                        <a:pt x="2124" y="249"/>
                      </a:lnTo>
                      <a:lnTo>
                        <a:pt x="2124" y="248"/>
                      </a:lnTo>
                      <a:lnTo>
                        <a:pt x="2123" y="248"/>
                      </a:lnTo>
                      <a:lnTo>
                        <a:pt x="2122" y="248"/>
                      </a:lnTo>
                      <a:lnTo>
                        <a:pt x="2121" y="248"/>
                      </a:lnTo>
                      <a:lnTo>
                        <a:pt x="2120" y="248"/>
                      </a:lnTo>
                      <a:lnTo>
                        <a:pt x="2120" y="246"/>
                      </a:lnTo>
                      <a:lnTo>
                        <a:pt x="2119" y="246"/>
                      </a:lnTo>
                      <a:lnTo>
                        <a:pt x="2117" y="246"/>
                      </a:lnTo>
                      <a:lnTo>
                        <a:pt x="2116" y="246"/>
                      </a:lnTo>
                      <a:lnTo>
                        <a:pt x="2115" y="246"/>
                      </a:lnTo>
                      <a:lnTo>
                        <a:pt x="2114" y="246"/>
                      </a:lnTo>
                      <a:lnTo>
                        <a:pt x="2113" y="246"/>
                      </a:lnTo>
                      <a:lnTo>
                        <a:pt x="2112" y="246"/>
                      </a:lnTo>
                      <a:lnTo>
                        <a:pt x="2111" y="246"/>
                      </a:lnTo>
                      <a:lnTo>
                        <a:pt x="2109" y="248"/>
                      </a:lnTo>
                      <a:lnTo>
                        <a:pt x="2108" y="248"/>
                      </a:lnTo>
                      <a:lnTo>
                        <a:pt x="2107" y="248"/>
                      </a:lnTo>
                      <a:lnTo>
                        <a:pt x="2106" y="249"/>
                      </a:lnTo>
                      <a:lnTo>
                        <a:pt x="2105" y="249"/>
                      </a:lnTo>
                      <a:lnTo>
                        <a:pt x="2104" y="249"/>
                      </a:lnTo>
                      <a:lnTo>
                        <a:pt x="2102" y="250"/>
                      </a:lnTo>
                      <a:lnTo>
                        <a:pt x="2101" y="250"/>
                      </a:lnTo>
                      <a:lnTo>
                        <a:pt x="2100" y="250"/>
                      </a:lnTo>
                      <a:lnTo>
                        <a:pt x="2099" y="251"/>
                      </a:lnTo>
                      <a:lnTo>
                        <a:pt x="2098" y="251"/>
                      </a:lnTo>
                      <a:lnTo>
                        <a:pt x="2097" y="251"/>
                      </a:lnTo>
                      <a:lnTo>
                        <a:pt x="2096" y="252"/>
                      </a:lnTo>
                      <a:lnTo>
                        <a:pt x="2094" y="252"/>
                      </a:lnTo>
                      <a:lnTo>
                        <a:pt x="2092" y="252"/>
                      </a:lnTo>
                      <a:lnTo>
                        <a:pt x="2091" y="253"/>
                      </a:lnTo>
                      <a:lnTo>
                        <a:pt x="2090" y="253"/>
                      </a:lnTo>
                      <a:lnTo>
                        <a:pt x="2089" y="253"/>
                      </a:lnTo>
                      <a:lnTo>
                        <a:pt x="2087" y="254"/>
                      </a:lnTo>
                      <a:lnTo>
                        <a:pt x="2086" y="254"/>
                      </a:lnTo>
                      <a:lnTo>
                        <a:pt x="2085" y="254"/>
                      </a:lnTo>
                      <a:lnTo>
                        <a:pt x="2083" y="254"/>
                      </a:lnTo>
                      <a:lnTo>
                        <a:pt x="2086" y="253"/>
                      </a:lnTo>
                      <a:lnTo>
                        <a:pt x="2090" y="251"/>
                      </a:lnTo>
                      <a:lnTo>
                        <a:pt x="2093" y="249"/>
                      </a:lnTo>
                      <a:lnTo>
                        <a:pt x="2097" y="246"/>
                      </a:lnTo>
                      <a:lnTo>
                        <a:pt x="2099" y="244"/>
                      </a:lnTo>
                      <a:lnTo>
                        <a:pt x="2102" y="242"/>
                      </a:lnTo>
                      <a:lnTo>
                        <a:pt x="2105" y="239"/>
                      </a:lnTo>
                      <a:lnTo>
                        <a:pt x="2107" y="236"/>
                      </a:lnTo>
                      <a:lnTo>
                        <a:pt x="2109" y="234"/>
                      </a:lnTo>
                      <a:lnTo>
                        <a:pt x="2112" y="231"/>
                      </a:lnTo>
                      <a:lnTo>
                        <a:pt x="2114" y="228"/>
                      </a:lnTo>
                      <a:lnTo>
                        <a:pt x="2116" y="226"/>
                      </a:lnTo>
                      <a:lnTo>
                        <a:pt x="2117" y="223"/>
                      </a:lnTo>
                      <a:lnTo>
                        <a:pt x="2120" y="220"/>
                      </a:lnTo>
                      <a:lnTo>
                        <a:pt x="2121" y="217"/>
                      </a:lnTo>
                      <a:lnTo>
                        <a:pt x="2122" y="214"/>
                      </a:lnTo>
                      <a:lnTo>
                        <a:pt x="2123" y="212"/>
                      </a:lnTo>
                      <a:lnTo>
                        <a:pt x="2124" y="208"/>
                      </a:lnTo>
                      <a:lnTo>
                        <a:pt x="2126" y="206"/>
                      </a:lnTo>
                      <a:lnTo>
                        <a:pt x="2127" y="204"/>
                      </a:lnTo>
                      <a:lnTo>
                        <a:pt x="2128" y="200"/>
                      </a:lnTo>
                      <a:lnTo>
                        <a:pt x="2128" y="198"/>
                      </a:lnTo>
                      <a:lnTo>
                        <a:pt x="2129" y="196"/>
                      </a:lnTo>
                      <a:lnTo>
                        <a:pt x="2129" y="193"/>
                      </a:lnTo>
                      <a:lnTo>
                        <a:pt x="2129" y="190"/>
                      </a:lnTo>
                      <a:lnTo>
                        <a:pt x="2130" y="187"/>
                      </a:lnTo>
                      <a:lnTo>
                        <a:pt x="2130" y="185"/>
                      </a:lnTo>
                      <a:lnTo>
                        <a:pt x="2130" y="183"/>
                      </a:lnTo>
                      <a:lnTo>
                        <a:pt x="2130" y="182"/>
                      </a:lnTo>
                      <a:lnTo>
                        <a:pt x="2130" y="179"/>
                      </a:lnTo>
                      <a:lnTo>
                        <a:pt x="2129" y="177"/>
                      </a:lnTo>
                      <a:lnTo>
                        <a:pt x="2129" y="176"/>
                      </a:lnTo>
                      <a:close/>
                      <a:moveTo>
                        <a:pt x="235" y="26"/>
                      </a:moveTo>
                      <a:lnTo>
                        <a:pt x="236" y="25"/>
                      </a:lnTo>
                      <a:lnTo>
                        <a:pt x="238" y="25"/>
                      </a:lnTo>
                      <a:lnTo>
                        <a:pt x="240" y="25"/>
                      </a:lnTo>
                      <a:lnTo>
                        <a:pt x="241" y="25"/>
                      </a:lnTo>
                      <a:lnTo>
                        <a:pt x="242" y="23"/>
                      </a:lnTo>
                      <a:lnTo>
                        <a:pt x="244" y="23"/>
                      </a:lnTo>
                      <a:lnTo>
                        <a:pt x="246" y="22"/>
                      </a:lnTo>
                      <a:lnTo>
                        <a:pt x="248" y="22"/>
                      </a:lnTo>
                      <a:lnTo>
                        <a:pt x="249" y="21"/>
                      </a:lnTo>
                      <a:lnTo>
                        <a:pt x="251" y="21"/>
                      </a:lnTo>
                      <a:lnTo>
                        <a:pt x="254" y="20"/>
                      </a:lnTo>
                      <a:lnTo>
                        <a:pt x="255" y="19"/>
                      </a:lnTo>
                      <a:lnTo>
                        <a:pt x="257" y="18"/>
                      </a:lnTo>
                      <a:lnTo>
                        <a:pt x="259" y="18"/>
                      </a:lnTo>
                      <a:lnTo>
                        <a:pt x="261" y="16"/>
                      </a:lnTo>
                      <a:lnTo>
                        <a:pt x="263" y="15"/>
                      </a:lnTo>
                      <a:lnTo>
                        <a:pt x="264" y="14"/>
                      </a:lnTo>
                      <a:lnTo>
                        <a:pt x="266" y="13"/>
                      </a:lnTo>
                      <a:lnTo>
                        <a:pt x="269" y="13"/>
                      </a:lnTo>
                      <a:lnTo>
                        <a:pt x="270" y="12"/>
                      </a:lnTo>
                      <a:lnTo>
                        <a:pt x="272" y="11"/>
                      </a:lnTo>
                      <a:lnTo>
                        <a:pt x="273" y="10"/>
                      </a:lnTo>
                      <a:lnTo>
                        <a:pt x="276" y="8"/>
                      </a:lnTo>
                      <a:lnTo>
                        <a:pt x="277" y="7"/>
                      </a:lnTo>
                      <a:lnTo>
                        <a:pt x="279" y="6"/>
                      </a:lnTo>
                      <a:lnTo>
                        <a:pt x="280" y="6"/>
                      </a:lnTo>
                      <a:lnTo>
                        <a:pt x="281" y="5"/>
                      </a:lnTo>
                      <a:lnTo>
                        <a:pt x="284" y="4"/>
                      </a:lnTo>
                      <a:lnTo>
                        <a:pt x="285" y="3"/>
                      </a:lnTo>
                      <a:lnTo>
                        <a:pt x="286" y="1"/>
                      </a:lnTo>
                      <a:lnTo>
                        <a:pt x="287" y="1"/>
                      </a:lnTo>
                      <a:lnTo>
                        <a:pt x="288" y="0"/>
                      </a:lnTo>
                      <a:lnTo>
                        <a:pt x="288" y="1"/>
                      </a:lnTo>
                      <a:lnTo>
                        <a:pt x="288" y="3"/>
                      </a:lnTo>
                      <a:lnTo>
                        <a:pt x="287" y="3"/>
                      </a:lnTo>
                      <a:lnTo>
                        <a:pt x="287" y="4"/>
                      </a:lnTo>
                      <a:lnTo>
                        <a:pt x="287" y="5"/>
                      </a:lnTo>
                      <a:lnTo>
                        <a:pt x="286" y="6"/>
                      </a:lnTo>
                      <a:lnTo>
                        <a:pt x="286" y="7"/>
                      </a:lnTo>
                      <a:lnTo>
                        <a:pt x="286" y="8"/>
                      </a:lnTo>
                      <a:lnTo>
                        <a:pt x="285" y="8"/>
                      </a:lnTo>
                      <a:lnTo>
                        <a:pt x="285" y="10"/>
                      </a:lnTo>
                      <a:lnTo>
                        <a:pt x="285" y="11"/>
                      </a:lnTo>
                      <a:lnTo>
                        <a:pt x="284" y="11"/>
                      </a:lnTo>
                      <a:lnTo>
                        <a:pt x="284" y="12"/>
                      </a:lnTo>
                      <a:lnTo>
                        <a:pt x="284" y="13"/>
                      </a:lnTo>
                      <a:lnTo>
                        <a:pt x="283" y="14"/>
                      </a:lnTo>
                      <a:lnTo>
                        <a:pt x="283" y="15"/>
                      </a:lnTo>
                      <a:lnTo>
                        <a:pt x="281" y="16"/>
                      </a:lnTo>
                      <a:lnTo>
                        <a:pt x="281" y="18"/>
                      </a:lnTo>
                      <a:lnTo>
                        <a:pt x="281" y="19"/>
                      </a:lnTo>
                      <a:lnTo>
                        <a:pt x="280" y="20"/>
                      </a:lnTo>
                      <a:lnTo>
                        <a:pt x="279" y="21"/>
                      </a:lnTo>
                      <a:lnTo>
                        <a:pt x="279" y="22"/>
                      </a:lnTo>
                      <a:lnTo>
                        <a:pt x="278" y="22"/>
                      </a:lnTo>
                      <a:lnTo>
                        <a:pt x="278" y="23"/>
                      </a:lnTo>
                      <a:lnTo>
                        <a:pt x="277" y="25"/>
                      </a:lnTo>
                      <a:lnTo>
                        <a:pt x="276" y="25"/>
                      </a:lnTo>
                      <a:lnTo>
                        <a:pt x="276" y="26"/>
                      </a:lnTo>
                      <a:lnTo>
                        <a:pt x="275" y="27"/>
                      </a:lnTo>
                      <a:lnTo>
                        <a:pt x="273" y="28"/>
                      </a:lnTo>
                      <a:lnTo>
                        <a:pt x="272" y="29"/>
                      </a:lnTo>
                      <a:lnTo>
                        <a:pt x="271" y="30"/>
                      </a:lnTo>
                      <a:lnTo>
                        <a:pt x="270" y="32"/>
                      </a:lnTo>
                      <a:lnTo>
                        <a:pt x="269" y="33"/>
                      </a:lnTo>
                      <a:lnTo>
                        <a:pt x="268" y="34"/>
                      </a:lnTo>
                      <a:lnTo>
                        <a:pt x="268" y="35"/>
                      </a:lnTo>
                      <a:lnTo>
                        <a:pt x="266" y="35"/>
                      </a:lnTo>
                      <a:lnTo>
                        <a:pt x="266" y="36"/>
                      </a:lnTo>
                      <a:lnTo>
                        <a:pt x="265" y="37"/>
                      </a:lnTo>
                      <a:lnTo>
                        <a:pt x="265" y="38"/>
                      </a:lnTo>
                      <a:lnTo>
                        <a:pt x="265" y="41"/>
                      </a:lnTo>
                      <a:lnTo>
                        <a:pt x="265" y="43"/>
                      </a:lnTo>
                      <a:lnTo>
                        <a:pt x="264" y="45"/>
                      </a:lnTo>
                      <a:lnTo>
                        <a:pt x="264" y="47"/>
                      </a:lnTo>
                      <a:lnTo>
                        <a:pt x="263" y="49"/>
                      </a:lnTo>
                      <a:lnTo>
                        <a:pt x="263" y="50"/>
                      </a:lnTo>
                      <a:lnTo>
                        <a:pt x="262" y="50"/>
                      </a:lnTo>
                      <a:lnTo>
                        <a:pt x="261" y="51"/>
                      </a:lnTo>
                      <a:lnTo>
                        <a:pt x="259" y="51"/>
                      </a:lnTo>
                      <a:lnTo>
                        <a:pt x="258" y="51"/>
                      </a:lnTo>
                      <a:lnTo>
                        <a:pt x="257" y="50"/>
                      </a:lnTo>
                      <a:lnTo>
                        <a:pt x="256" y="50"/>
                      </a:lnTo>
                      <a:lnTo>
                        <a:pt x="255" y="49"/>
                      </a:lnTo>
                      <a:lnTo>
                        <a:pt x="254" y="48"/>
                      </a:lnTo>
                      <a:lnTo>
                        <a:pt x="253" y="47"/>
                      </a:lnTo>
                      <a:lnTo>
                        <a:pt x="251" y="45"/>
                      </a:lnTo>
                      <a:lnTo>
                        <a:pt x="250" y="44"/>
                      </a:lnTo>
                      <a:lnTo>
                        <a:pt x="249" y="43"/>
                      </a:lnTo>
                      <a:lnTo>
                        <a:pt x="248" y="42"/>
                      </a:lnTo>
                      <a:lnTo>
                        <a:pt x="247" y="41"/>
                      </a:lnTo>
                      <a:lnTo>
                        <a:pt x="246" y="38"/>
                      </a:lnTo>
                      <a:lnTo>
                        <a:pt x="244" y="37"/>
                      </a:lnTo>
                      <a:lnTo>
                        <a:pt x="243" y="36"/>
                      </a:lnTo>
                      <a:lnTo>
                        <a:pt x="242" y="34"/>
                      </a:lnTo>
                      <a:lnTo>
                        <a:pt x="241" y="33"/>
                      </a:lnTo>
                      <a:lnTo>
                        <a:pt x="240" y="32"/>
                      </a:lnTo>
                      <a:lnTo>
                        <a:pt x="239" y="29"/>
                      </a:lnTo>
                      <a:lnTo>
                        <a:pt x="238" y="28"/>
                      </a:lnTo>
                      <a:lnTo>
                        <a:pt x="236" y="27"/>
                      </a:lnTo>
                      <a:lnTo>
                        <a:pt x="235" y="26"/>
                      </a:lnTo>
                      <a:close/>
                      <a:moveTo>
                        <a:pt x="276" y="75"/>
                      </a:moveTo>
                      <a:lnTo>
                        <a:pt x="276" y="79"/>
                      </a:lnTo>
                      <a:lnTo>
                        <a:pt x="275" y="81"/>
                      </a:lnTo>
                      <a:lnTo>
                        <a:pt x="275" y="83"/>
                      </a:lnTo>
                      <a:lnTo>
                        <a:pt x="273" y="86"/>
                      </a:lnTo>
                      <a:lnTo>
                        <a:pt x="273" y="88"/>
                      </a:lnTo>
                      <a:lnTo>
                        <a:pt x="273" y="90"/>
                      </a:lnTo>
                      <a:lnTo>
                        <a:pt x="273" y="92"/>
                      </a:lnTo>
                      <a:lnTo>
                        <a:pt x="275" y="93"/>
                      </a:lnTo>
                      <a:lnTo>
                        <a:pt x="275" y="94"/>
                      </a:lnTo>
                      <a:lnTo>
                        <a:pt x="275" y="95"/>
                      </a:lnTo>
                      <a:lnTo>
                        <a:pt x="276" y="96"/>
                      </a:lnTo>
                      <a:lnTo>
                        <a:pt x="277" y="97"/>
                      </a:lnTo>
                      <a:lnTo>
                        <a:pt x="278" y="97"/>
                      </a:lnTo>
                      <a:lnTo>
                        <a:pt x="279" y="99"/>
                      </a:lnTo>
                      <a:lnTo>
                        <a:pt x="280" y="99"/>
                      </a:lnTo>
                      <a:lnTo>
                        <a:pt x="281" y="99"/>
                      </a:lnTo>
                      <a:lnTo>
                        <a:pt x="283" y="100"/>
                      </a:lnTo>
                      <a:lnTo>
                        <a:pt x="284" y="100"/>
                      </a:lnTo>
                      <a:lnTo>
                        <a:pt x="285" y="100"/>
                      </a:lnTo>
                      <a:lnTo>
                        <a:pt x="287" y="100"/>
                      </a:lnTo>
                      <a:lnTo>
                        <a:pt x="288" y="100"/>
                      </a:lnTo>
                      <a:lnTo>
                        <a:pt x="290" y="100"/>
                      </a:lnTo>
                      <a:lnTo>
                        <a:pt x="292" y="99"/>
                      </a:lnTo>
                      <a:lnTo>
                        <a:pt x="293" y="99"/>
                      </a:lnTo>
                      <a:lnTo>
                        <a:pt x="295" y="99"/>
                      </a:lnTo>
                      <a:lnTo>
                        <a:pt x="296" y="99"/>
                      </a:lnTo>
                      <a:lnTo>
                        <a:pt x="299" y="99"/>
                      </a:lnTo>
                      <a:lnTo>
                        <a:pt x="300" y="99"/>
                      </a:lnTo>
                      <a:lnTo>
                        <a:pt x="301" y="99"/>
                      </a:lnTo>
                      <a:lnTo>
                        <a:pt x="303" y="99"/>
                      </a:lnTo>
                      <a:lnTo>
                        <a:pt x="305" y="99"/>
                      </a:lnTo>
                      <a:lnTo>
                        <a:pt x="307" y="99"/>
                      </a:lnTo>
                      <a:lnTo>
                        <a:pt x="306" y="99"/>
                      </a:lnTo>
                      <a:lnTo>
                        <a:pt x="305" y="99"/>
                      </a:lnTo>
                      <a:lnTo>
                        <a:pt x="303" y="99"/>
                      </a:lnTo>
                      <a:lnTo>
                        <a:pt x="302" y="99"/>
                      </a:lnTo>
                      <a:lnTo>
                        <a:pt x="301" y="99"/>
                      </a:lnTo>
                      <a:lnTo>
                        <a:pt x="300" y="99"/>
                      </a:lnTo>
                      <a:lnTo>
                        <a:pt x="299" y="100"/>
                      </a:lnTo>
                      <a:lnTo>
                        <a:pt x="298" y="100"/>
                      </a:lnTo>
                      <a:lnTo>
                        <a:pt x="296" y="100"/>
                      </a:lnTo>
                      <a:lnTo>
                        <a:pt x="295" y="100"/>
                      </a:lnTo>
                      <a:lnTo>
                        <a:pt x="294" y="100"/>
                      </a:lnTo>
                      <a:lnTo>
                        <a:pt x="293" y="101"/>
                      </a:lnTo>
                      <a:lnTo>
                        <a:pt x="292" y="101"/>
                      </a:lnTo>
                      <a:lnTo>
                        <a:pt x="291" y="101"/>
                      </a:lnTo>
                      <a:lnTo>
                        <a:pt x="290" y="101"/>
                      </a:lnTo>
                      <a:lnTo>
                        <a:pt x="288" y="102"/>
                      </a:lnTo>
                      <a:lnTo>
                        <a:pt x="287" y="102"/>
                      </a:lnTo>
                      <a:lnTo>
                        <a:pt x="286" y="102"/>
                      </a:lnTo>
                      <a:lnTo>
                        <a:pt x="285" y="102"/>
                      </a:lnTo>
                      <a:lnTo>
                        <a:pt x="284" y="102"/>
                      </a:lnTo>
                      <a:lnTo>
                        <a:pt x="283" y="103"/>
                      </a:lnTo>
                      <a:lnTo>
                        <a:pt x="281" y="103"/>
                      </a:lnTo>
                      <a:lnTo>
                        <a:pt x="280" y="103"/>
                      </a:lnTo>
                      <a:lnTo>
                        <a:pt x="279" y="103"/>
                      </a:lnTo>
                      <a:lnTo>
                        <a:pt x="278" y="103"/>
                      </a:lnTo>
                      <a:lnTo>
                        <a:pt x="277" y="103"/>
                      </a:lnTo>
                      <a:lnTo>
                        <a:pt x="276" y="103"/>
                      </a:lnTo>
                      <a:lnTo>
                        <a:pt x="275" y="103"/>
                      </a:lnTo>
                      <a:lnTo>
                        <a:pt x="273" y="103"/>
                      </a:lnTo>
                      <a:lnTo>
                        <a:pt x="273" y="102"/>
                      </a:lnTo>
                      <a:lnTo>
                        <a:pt x="272" y="102"/>
                      </a:lnTo>
                      <a:lnTo>
                        <a:pt x="271" y="102"/>
                      </a:lnTo>
                      <a:lnTo>
                        <a:pt x="271" y="101"/>
                      </a:lnTo>
                      <a:lnTo>
                        <a:pt x="270" y="100"/>
                      </a:lnTo>
                      <a:lnTo>
                        <a:pt x="269" y="99"/>
                      </a:lnTo>
                      <a:lnTo>
                        <a:pt x="269" y="97"/>
                      </a:lnTo>
                      <a:lnTo>
                        <a:pt x="269" y="96"/>
                      </a:lnTo>
                      <a:lnTo>
                        <a:pt x="269" y="95"/>
                      </a:lnTo>
                      <a:lnTo>
                        <a:pt x="269" y="94"/>
                      </a:lnTo>
                      <a:lnTo>
                        <a:pt x="269" y="93"/>
                      </a:lnTo>
                      <a:lnTo>
                        <a:pt x="269" y="92"/>
                      </a:lnTo>
                      <a:lnTo>
                        <a:pt x="269" y="90"/>
                      </a:lnTo>
                      <a:lnTo>
                        <a:pt x="269" y="89"/>
                      </a:lnTo>
                      <a:lnTo>
                        <a:pt x="269" y="88"/>
                      </a:lnTo>
                      <a:lnTo>
                        <a:pt x="270" y="87"/>
                      </a:lnTo>
                      <a:lnTo>
                        <a:pt x="270" y="86"/>
                      </a:lnTo>
                      <a:lnTo>
                        <a:pt x="271" y="85"/>
                      </a:lnTo>
                      <a:lnTo>
                        <a:pt x="271" y="83"/>
                      </a:lnTo>
                      <a:lnTo>
                        <a:pt x="272" y="82"/>
                      </a:lnTo>
                      <a:lnTo>
                        <a:pt x="273" y="80"/>
                      </a:lnTo>
                      <a:lnTo>
                        <a:pt x="273" y="79"/>
                      </a:lnTo>
                      <a:lnTo>
                        <a:pt x="275" y="78"/>
                      </a:lnTo>
                      <a:lnTo>
                        <a:pt x="276" y="75"/>
                      </a:lnTo>
                      <a:close/>
                      <a:moveTo>
                        <a:pt x="264" y="125"/>
                      </a:moveTo>
                      <a:lnTo>
                        <a:pt x="265" y="125"/>
                      </a:lnTo>
                      <a:lnTo>
                        <a:pt x="266" y="125"/>
                      </a:lnTo>
                      <a:lnTo>
                        <a:pt x="268" y="125"/>
                      </a:lnTo>
                      <a:lnTo>
                        <a:pt x="269" y="125"/>
                      </a:lnTo>
                      <a:lnTo>
                        <a:pt x="270" y="125"/>
                      </a:lnTo>
                      <a:lnTo>
                        <a:pt x="271" y="124"/>
                      </a:lnTo>
                      <a:lnTo>
                        <a:pt x="272" y="124"/>
                      </a:lnTo>
                      <a:lnTo>
                        <a:pt x="273" y="124"/>
                      </a:lnTo>
                      <a:lnTo>
                        <a:pt x="273" y="125"/>
                      </a:lnTo>
                      <a:lnTo>
                        <a:pt x="275" y="125"/>
                      </a:lnTo>
                      <a:lnTo>
                        <a:pt x="276" y="125"/>
                      </a:lnTo>
                      <a:lnTo>
                        <a:pt x="276" y="126"/>
                      </a:lnTo>
                      <a:lnTo>
                        <a:pt x="276" y="127"/>
                      </a:lnTo>
                      <a:lnTo>
                        <a:pt x="275" y="129"/>
                      </a:lnTo>
                      <a:lnTo>
                        <a:pt x="273" y="129"/>
                      </a:lnTo>
                      <a:lnTo>
                        <a:pt x="272" y="130"/>
                      </a:lnTo>
                      <a:lnTo>
                        <a:pt x="271" y="130"/>
                      </a:lnTo>
                      <a:lnTo>
                        <a:pt x="270" y="130"/>
                      </a:lnTo>
                      <a:lnTo>
                        <a:pt x="269" y="131"/>
                      </a:lnTo>
                      <a:lnTo>
                        <a:pt x="268" y="131"/>
                      </a:lnTo>
                      <a:lnTo>
                        <a:pt x="266" y="131"/>
                      </a:lnTo>
                      <a:lnTo>
                        <a:pt x="265" y="131"/>
                      </a:lnTo>
                      <a:lnTo>
                        <a:pt x="264" y="131"/>
                      </a:lnTo>
                      <a:lnTo>
                        <a:pt x="263" y="132"/>
                      </a:lnTo>
                      <a:lnTo>
                        <a:pt x="262" y="132"/>
                      </a:lnTo>
                      <a:lnTo>
                        <a:pt x="261" y="132"/>
                      </a:lnTo>
                      <a:lnTo>
                        <a:pt x="259" y="132"/>
                      </a:lnTo>
                      <a:lnTo>
                        <a:pt x="258" y="132"/>
                      </a:lnTo>
                      <a:lnTo>
                        <a:pt x="258" y="133"/>
                      </a:lnTo>
                      <a:lnTo>
                        <a:pt x="257" y="133"/>
                      </a:lnTo>
                      <a:lnTo>
                        <a:pt x="256" y="133"/>
                      </a:lnTo>
                      <a:lnTo>
                        <a:pt x="255" y="133"/>
                      </a:lnTo>
                      <a:lnTo>
                        <a:pt x="254" y="134"/>
                      </a:lnTo>
                      <a:lnTo>
                        <a:pt x="253" y="135"/>
                      </a:lnTo>
                      <a:lnTo>
                        <a:pt x="251" y="135"/>
                      </a:lnTo>
                      <a:lnTo>
                        <a:pt x="250" y="137"/>
                      </a:lnTo>
                      <a:lnTo>
                        <a:pt x="249" y="138"/>
                      </a:lnTo>
                      <a:lnTo>
                        <a:pt x="249" y="137"/>
                      </a:lnTo>
                      <a:lnTo>
                        <a:pt x="250" y="137"/>
                      </a:lnTo>
                      <a:lnTo>
                        <a:pt x="250" y="135"/>
                      </a:lnTo>
                      <a:lnTo>
                        <a:pt x="250" y="134"/>
                      </a:lnTo>
                      <a:lnTo>
                        <a:pt x="251" y="134"/>
                      </a:lnTo>
                      <a:lnTo>
                        <a:pt x="251" y="133"/>
                      </a:lnTo>
                      <a:lnTo>
                        <a:pt x="253" y="133"/>
                      </a:lnTo>
                      <a:lnTo>
                        <a:pt x="253" y="132"/>
                      </a:lnTo>
                      <a:lnTo>
                        <a:pt x="254" y="132"/>
                      </a:lnTo>
                      <a:lnTo>
                        <a:pt x="254" y="131"/>
                      </a:lnTo>
                      <a:lnTo>
                        <a:pt x="255" y="131"/>
                      </a:lnTo>
                      <a:lnTo>
                        <a:pt x="256" y="131"/>
                      </a:lnTo>
                      <a:lnTo>
                        <a:pt x="256" y="130"/>
                      </a:lnTo>
                      <a:lnTo>
                        <a:pt x="257" y="130"/>
                      </a:lnTo>
                      <a:lnTo>
                        <a:pt x="258" y="130"/>
                      </a:lnTo>
                      <a:lnTo>
                        <a:pt x="258" y="129"/>
                      </a:lnTo>
                      <a:lnTo>
                        <a:pt x="259" y="129"/>
                      </a:lnTo>
                      <a:lnTo>
                        <a:pt x="261" y="129"/>
                      </a:lnTo>
                      <a:lnTo>
                        <a:pt x="261" y="127"/>
                      </a:lnTo>
                      <a:lnTo>
                        <a:pt x="262" y="127"/>
                      </a:lnTo>
                      <a:lnTo>
                        <a:pt x="262" y="126"/>
                      </a:lnTo>
                      <a:lnTo>
                        <a:pt x="263" y="126"/>
                      </a:lnTo>
                      <a:lnTo>
                        <a:pt x="264" y="125"/>
                      </a:lnTo>
                      <a:close/>
                      <a:moveTo>
                        <a:pt x="65" y="211"/>
                      </a:moveTo>
                      <a:lnTo>
                        <a:pt x="67" y="207"/>
                      </a:lnTo>
                      <a:lnTo>
                        <a:pt x="67" y="204"/>
                      </a:lnTo>
                      <a:lnTo>
                        <a:pt x="68" y="200"/>
                      </a:lnTo>
                      <a:lnTo>
                        <a:pt x="68" y="197"/>
                      </a:lnTo>
                      <a:lnTo>
                        <a:pt x="69" y="193"/>
                      </a:lnTo>
                      <a:lnTo>
                        <a:pt x="69" y="191"/>
                      </a:lnTo>
                      <a:lnTo>
                        <a:pt x="69" y="187"/>
                      </a:lnTo>
                      <a:lnTo>
                        <a:pt x="69" y="184"/>
                      </a:lnTo>
                      <a:lnTo>
                        <a:pt x="69" y="182"/>
                      </a:lnTo>
                      <a:lnTo>
                        <a:pt x="69" y="179"/>
                      </a:lnTo>
                      <a:lnTo>
                        <a:pt x="69" y="176"/>
                      </a:lnTo>
                      <a:lnTo>
                        <a:pt x="69" y="174"/>
                      </a:lnTo>
                      <a:lnTo>
                        <a:pt x="69" y="171"/>
                      </a:lnTo>
                      <a:lnTo>
                        <a:pt x="69" y="169"/>
                      </a:lnTo>
                      <a:lnTo>
                        <a:pt x="69" y="167"/>
                      </a:lnTo>
                      <a:lnTo>
                        <a:pt x="69" y="164"/>
                      </a:lnTo>
                      <a:lnTo>
                        <a:pt x="69" y="162"/>
                      </a:lnTo>
                      <a:lnTo>
                        <a:pt x="69" y="160"/>
                      </a:lnTo>
                      <a:lnTo>
                        <a:pt x="69" y="157"/>
                      </a:lnTo>
                      <a:lnTo>
                        <a:pt x="70" y="155"/>
                      </a:lnTo>
                      <a:lnTo>
                        <a:pt x="70" y="153"/>
                      </a:lnTo>
                      <a:lnTo>
                        <a:pt x="71" y="150"/>
                      </a:lnTo>
                      <a:lnTo>
                        <a:pt x="71" y="148"/>
                      </a:lnTo>
                      <a:lnTo>
                        <a:pt x="72" y="146"/>
                      </a:lnTo>
                      <a:lnTo>
                        <a:pt x="73" y="144"/>
                      </a:lnTo>
                      <a:lnTo>
                        <a:pt x="73" y="141"/>
                      </a:lnTo>
                      <a:lnTo>
                        <a:pt x="76" y="139"/>
                      </a:lnTo>
                      <a:lnTo>
                        <a:pt x="77" y="137"/>
                      </a:lnTo>
                      <a:lnTo>
                        <a:pt x="78" y="134"/>
                      </a:lnTo>
                      <a:lnTo>
                        <a:pt x="80" y="131"/>
                      </a:lnTo>
                      <a:lnTo>
                        <a:pt x="83" y="129"/>
                      </a:lnTo>
                      <a:lnTo>
                        <a:pt x="85" y="126"/>
                      </a:lnTo>
                      <a:lnTo>
                        <a:pt x="87" y="129"/>
                      </a:lnTo>
                      <a:lnTo>
                        <a:pt x="88" y="131"/>
                      </a:lnTo>
                      <a:lnTo>
                        <a:pt x="91" y="134"/>
                      </a:lnTo>
                      <a:lnTo>
                        <a:pt x="92" y="137"/>
                      </a:lnTo>
                      <a:lnTo>
                        <a:pt x="93" y="139"/>
                      </a:lnTo>
                      <a:lnTo>
                        <a:pt x="94" y="141"/>
                      </a:lnTo>
                      <a:lnTo>
                        <a:pt x="95" y="145"/>
                      </a:lnTo>
                      <a:lnTo>
                        <a:pt x="97" y="147"/>
                      </a:lnTo>
                      <a:lnTo>
                        <a:pt x="98" y="149"/>
                      </a:lnTo>
                      <a:lnTo>
                        <a:pt x="99" y="152"/>
                      </a:lnTo>
                      <a:lnTo>
                        <a:pt x="99" y="154"/>
                      </a:lnTo>
                      <a:lnTo>
                        <a:pt x="100" y="156"/>
                      </a:lnTo>
                      <a:lnTo>
                        <a:pt x="100" y="159"/>
                      </a:lnTo>
                      <a:lnTo>
                        <a:pt x="101" y="161"/>
                      </a:lnTo>
                      <a:lnTo>
                        <a:pt x="101" y="163"/>
                      </a:lnTo>
                      <a:lnTo>
                        <a:pt x="101" y="166"/>
                      </a:lnTo>
                      <a:lnTo>
                        <a:pt x="102" y="168"/>
                      </a:lnTo>
                      <a:lnTo>
                        <a:pt x="102" y="170"/>
                      </a:lnTo>
                      <a:lnTo>
                        <a:pt x="102" y="172"/>
                      </a:lnTo>
                      <a:lnTo>
                        <a:pt x="102" y="175"/>
                      </a:lnTo>
                      <a:lnTo>
                        <a:pt x="102" y="177"/>
                      </a:lnTo>
                      <a:lnTo>
                        <a:pt x="104" y="179"/>
                      </a:lnTo>
                      <a:lnTo>
                        <a:pt x="104" y="182"/>
                      </a:lnTo>
                      <a:lnTo>
                        <a:pt x="104" y="184"/>
                      </a:lnTo>
                      <a:lnTo>
                        <a:pt x="104" y="186"/>
                      </a:lnTo>
                      <a:lnTo>
                        <a:pt x="104" y="189"/>
                      </a:lnTo>
                      <a:lnTo>
                        <a:pt x="105" y="191"/>
                      </a:lnTo>
                      <a:lnTo>
                        <a:pt x="105" y="193"/>
                      </a:lnTo>
                      <a:lnTo>
                        <a:pt x="105" y="196"/>
                      </a:lnTo>
                      <a:lnTo>
                        <a:pt x="106" y="199"/>
                      </a:lnTo>
                      <a:lnTo>
                        <a:pt x="106" y="201"/>
                      </a:lnTo>
                      <a:lnTo>
                        <a:pt x="107" y="204"/>
                      </a:lnTo>
                      <a:lnTo>
                        <a:pt x="108" y="205"/>
                      </a:lnTo>
                      <a:lnTo>
                        <a:pt x="109" y="206"/>
                      </a:lnTo>
                      <a:lnTo>
                        <a:pt x="110" y="207"/>
                      </a:lnTo>
                      <a:lnTo>
                        <a:pt x="112" y="207"/>
                      </a:lnTo>
                      <a:lnTo>
                        <a:pt x="113" y="208"/>
                      </a:lnTo>
                      <a:lnTo>
                        <a:pt x="114" y="209"/>
                      </a:lnTo>
                      <a:lnTo>
                        <a:pt x="115" y="209"/>
                      </a:lnTo>
                      <a:lnTo>
                        <a:pt x="116" y="211"/>
                      </a:lnTo>
                      <a:lnTo>
                        <a:pt x="117" y="212"/>
                      </a:lnTo>
                      <a:lnTo>
                        <a:pt x="120" y="212"/>
                      </a:lnTo>
                      <a:lnTo>
                        <a:pt x="121" y="213"/>
                      </a:lnTo>
                      <a:lnTo>
                        <a:pt x="122" y="213"/>
                      </a:lnTo>
                      <a:lnTo>
                        <a:pt x="123" y="214"/>
                      </a:lnTo>
                      <a:lnTo>
                        <a:pt x="124" y="215"/>
                      </a:lnTo>
                      <a:lnTo>
                        <a:pt x="127" y="215"/>
                      </a:lnTo>
                      <a:lnTo>
                        <a:pt x="128" y="216"/>
                      </a:lnTo>
                      <a:lnTo>
                        <a:pt x="129" y="217"/>
                      </a:lnTo>
                      <a:lnTo>
                        <a:pt x="130" y="217"/>
                      </a:lnTo>
                      <a:lnTo>
                        <a:pt x="131" y="219"/>
                      </a:lnTo>
                      <a:lnTo>
                        <a:pt x="132" y="220"/>
                      </a:lnTo>
                      <a:lnTo>
                        <a:pt x="134" y="221"/>
                      </a:lnTo>
                      <a:lnTo>
                        <a:pt x="135" y="222"/>
                      </a:lnTo>
                      <a:lnTo>
                        <a:pt x="136" y="223"/>
                      </a:lnTo>
                      <a:lnTo>
                        <a:pt x="137" y="224"/>
                      </a:lnTo>
                      <a:lnTo>
                        <a:pt x="138" y="226"/>
                      </a:lnTo>
                      <a:lnTo>
                        <a:pt x="139" y="227"/>
                      </a:lnTo>
                      <a:lnTo>
                        <a:pt x="140" y="228"/>
                      </a:lnTo>
                      <a:lnTo>
                        <a:pt x="142" y="230"/>
                      </a:lnTo>
                      <a:lnTo>
                        <a:pt x="142" y="231"/>
                      </a:lnTo>
                      <a:lnTo>
                        <a:pt x="143" y="234"/>
                      </a:lnTo>
                      <a:lnTo>
                        <a:pt x="144" y="236"/>
                      </a:lnTo>
                      <a:lnTo>
                        <a:pt x="144" y="237"/>
                      </a:lnTo>
                      <a:lnTo>
                        <a:pt x="145" y="236"/>
                      </a:lnTo>
                      <a:lnTo>
                        <a:pt x="145" y="235"/>
                      </a:lnTo>
                      <a:lnTo>
                        <a:pt x="146" y="234"/>
                      </a:lnTo>
                      <a:lnTo>
                        <a:pt x="146" y="233"/>
                      </a:lnTo>
                      <a:lnTo>
                        <a:pt x="146" y="231"/>
                      </a:lnTo>
                      <a:lnTo>
                        <a:pt x="147" y="231"/>
                      </a:lnTo>
                      <a:lnTo>
                        <a:pt x="147" y="230"/>
                      </a:lnTo>
                      <a:lnTo>
                        <a:pt x="147" y="229"/>
                      </a:lnTo>
                      <a:lnTo>
                        <a:pt x="149" y="229"/>
                      </a:lnTo>
                      <a:lnTo>
                        <a:pt x="149" y="228"/>
                      </a:lnTo>
                      <a:lnTo>
                        <a:pt x="149" y="227"/>
                      </a:lnTo>
                      <a:lnTo>
                        <a:pt x="150" y="226"/>
                      </a:lnTo>
                      <a:lnTo>
                        <a:pt x="150" y="224"/>
                      </a:lnTo>
                      <a:lnTo>
                        <a:pt x="150" y="223"/>
                      </a:lnTo>
                      <a:lnTo>
                        <a:pt x="151" y="222"/>
                      </a:lnTo>
                      <a:lnTo>
                        <a:pt x="151" y="221"/>
                      </a:lnTo>
                      <a:lnTo>
                        <a:pt x="151" y="220"/>
                      </a:lnTo>
                      <a:lnTo>
                        <a:pt x="152" y="219"/>
                      </a:lnTo>
                      <a:lnTo>
                        <a:pt x="152" y="217"/>
                      </a:lnTo>
                      <a:lnTo>
                        <a:pt x="152" y="216"/>
                      </a:lnTo>
                      <a:lnTo>
                        <a:pt x="153" y="216"/>
                      </a:lnTo>
                      <a:lnTo>
                        <a:pt x="153" y="215"/>
                      </a:lnTo>
                      <a:lnTo>
                        <a:pt x="153" y="214"/>
                      </a:lnTo>
                      <a:lnTo>
                        <a:pt x="153" y="213"/>
                      </a:lnTo>
                      <a:lnTo>
                        <a:pt x="153" y="212"/>
                      </a:lnTo>
                      <a:lnTo>
                        <a:pt x="157" y="212"/>
                      </a:lnTo>
                      <a:lnTo>
                        <a:pt x="159" y="212"/>
                      </a:lnTo>
                      <a:lnTo>
                        <a:pt x="162" y="212"/>
                      </a:lnTo>
                      <a:lnTo>
                        <a:pt x="165" y="213"/>
                      </a:lnTo>
                      <a:lnTo>
                        <a:pt x="167" y="213"/>
                      </a:lnTo>
                      <a:lnTo>
                        <a:pt x="169" y="213"/>
                      </a:lnTo>
                      <a:lnTo>
                        <a:pt x="173" y="213"/>
                      </a:lnTo>
                      <a:lnTo>
                        <a:pt x="175" y="214"/>
                      </a:lnTo>
                      <a:lnTo>
                        <a:pt x="177" y="214"/>
                      </a:lnTo>
                      <a:lnTo>
                        <a:pt x="180" y="214"/>
                      </a:lnTo>
                      <a:lnTo>
                        <a:pt x="182" y="214"/>
                      </a:lnTo>
                      <a:lnTo>
                        <a:pt x="184" y="215"/>
                      </a:lnTo>
                      <a:lnTo>
                        <a:pt x="187" y="215"/>
                      </a:lnTo>
                      <a:lnTo>
                        <a:pt x="189" y="215"/>
                      </a:lnTo>
                      <a:lnTo>
                        <a:pt x="191" y="216"/>
                      </a:lnTo>
                      <a:lnTo>
                        <a:pt x="194" y="216"/>
                      </a:lnTo>
                      <a:lnTo>
                        <a:pt x="196" y="216"/>
                      </a:lnTo>
                      <a:lnTo>
                        <a:pt x="198" y="216"/>
                      </a:lnTo>
                      <a:lnTo>
                        <a:pt x="201" y="217"/>
                      </a:lnTo>
                      <a:lnTo>
                        <a:pt x="203" y="217"/>
                      </a:lnTo>
                      <a:lnTo>
                        <a:pt x="206" y="217"/>
                      </a:lnTo>
                      <a:lnTo>
                        <a:pt x="209" y="217"/>
                      </a:lnTo>
                      <a:lnTo>
                        <a:pt x="211" y="217"/>
                      </a:lnTo>
                      <a:lnTo>
                        <a:pt x="213" y="217"/>
                      </a:lnTo>
                      <a:lnTo>
                        <a:pt x="216" y="217"/>
                      </a:lnTo>
                      <a:lnTo>
                        <a:pt x="218" y="217"/>
                      </a:lnTo>
                      <a:lnTo>
                        <a:pt x="221" y="217"/>
                      </a:lnTo>
                      <a:lnTo>
                        <a:pt x="224" y="217"/>
                      </a:lnTo>
                      <a:lnTo>
                        <a:pt x="226" y="216"/>
                      </a:lnTo>
                      <a:lnTo>
                        <a:pt x="228" y="216"/>
                      </a:lnTo>
                      <a:lnTo>
                        <a:pt x="232" y="215"/>
                      </a:lnTo>
                      <a:lnTo>
                        <a:pt x="234" y="215"/>
                      </a:lnTo>
                      <a:lnTo>
                        <a:pt x="235" y="215"/>
                      </a:lnTo>
                      <a:lnTo>
                        <a:pt x="236" y="215"/>
                      </a:lnTo>
                      <a:lnTo>
                        <a:pt x="238" y="215"/>
                      </a:lnTo>
                      <a:lnTo>
                        <a:pt x="239" y="215"/>
                      </a:lnTo>
                      <a:lnTo>
                        <a:pt x="240" y="215"/>
                      </a:lnTo>
                      <a:lnTo>
                        <a:pt x="240" y="214"/>
                      </a:lnTo>
                      <a:lnTo>
                        <a:pt x="241" y="214"/>
                      </a:lnTo>
                      <a:lnTo>
                        <a:pt x="242" y="214"/>
                      </a:lnTo>
                      <a:lnTo>
                        <a:pt x="243" y="214"/>
                      </a:lnTo>
                      <a:lnTo>
                        <a:pt x="244" y="213"/>
                      </a:lnTo>
                      <a:lnTo>
                        <a:pt x="246" y="213"/>
                      </a:lnTo>
                      <a:lnTo>
                        <a:pt x="247" y="212"/>
                      </a:lnTo>
                      <a:lnTo>
                        <a:pt x="248" y="212"/>
                      </a:lnTo>
                      <a:lnTo>
                        <a:pt x="249" y="211"/>
                      </a:lnTo>
                      <a:lnTo>
                        <a:pt x="250" y="211"/>
                      </a:lnTo>
                      <a:lnTo>
                        <a:pt x="250" y="209"/>
                      </a:lnTo>
                      <a:lnTo>
                        <a:pt x="251" y="209"/>
                      </a:lnTo>
                      <a:lnTo>
                        <a:pt x="253" y="208"/>
                      </a:lnTo>
                      <a:lnTo>
                        <a:pt x="254" y="208"/>
                      </a:lnTo>
                      <a:lnTo>
                        <a:pt x="254" y="207"/>
                      </a:lnTo>
                      <a:lnTo>
                        <a:pt x="255" y="207"/>
                      </a:lnTo>
                      <a:lnTo>
                        <a:pt x="255" y="206"/>
                      </a:lnTo>
                      <a:lnTo>
                        <a:pt x="256" y="205"/>
                      </a:lnTo>
                      <a:lnTo>
                        <a:pt x="256" y="204"/>
                      </a:lnTo>
                      <a:lnTo>
                        <a:pt x="257" y="204"/>
                      </a:lnTo>
                      <a:lnTo>
                        <a:pt x="257" y="202"/>
                      </a:lnTo>
                      <a:lnTo>
                        <a:pt x="256" y="204"/>
                      </a:lnTo>
                      <a:lnTo>
                        <a:pt x="255" y="205"/>
                      </a:lnTo>
                      <a:lnTo>
                        <a:pt x="254" y="206"/>
                      </a:lnTo>
                      <a:lnTo>
                        <a:pt x="251" y="206"/>
                      </a:lnTo>
                      <a:lnTo>
                        <a:pt x="250" y="207"/>
                      </a:lnTo>
                      <a:lnTo>
                        <a:pt x="249" y="207"/>
                      </a:lnTo>
                      <a:lnTo>
                        <a:pt x="248" y="208"/>
                      </a:lnTo>
                      <a:lnTo>
                        <a:pt x="247" y="208"/>
                      </a:lnTo>
                      <a:lnTo>
                        <a:pt x="246" y="209"/>
                      </a:lnTo>
                      <a:lnTo>
                        <a:pt x="244" y="209"/>
                      </a:lnTo>
                      <a:lnTo>
                        <a:pt x="243" y="209"/>
                      </a:lnTo>
                      <a:lnTo>
                        <a:pt x="241" y="211"/>
                      </a:lnTo>
                      <a:lnTo>
                        <a:pt x="240" y="211"/>
                      </a:lnTo>
                      <a:lnTo>
                        <a:pt x="239" y="211"/>
                      </a:lnTo>
                      <a:lnTo>
                        <a:pt x="238" y="211"/>
                      </a:lnTo>
                      <a:lnTo>
                        <a:pt x="236" y="211"/>
                      </a:lnTo>
                      <a:lnTo>
                        <a:pt x="235" y="211"/>
                      </a:lnTo>
                      <a:lnTo>
                        <a:pt x="234" y="211"/>
                      </a:lnTo>
                      <a:lnTo>
                        <a:pt x="233" y="211"/>
                      </a:lnTo>
                      <a:lnTo>
                        <a:pt x="231" y="211"/>
                      </a:lnTo>
                      <a:lnTo>
                        <a:pt x="229" y="211"/>
                      </a:lnTo>
                      <a:lnTo>
                        <a:pt x="228" y="209"/>
                      </a:lnTo>
                      <a:lnTo>
                        <a:pt x="227" y="209"/>
                      </a:lnTo>
                      <a:lnTo>
                        <a:pt x="225" y="209"/>
                      </a:lnTo>
                      <a:lnTo>
                        <a:pt x="224" y="208"/>
                      </a:lnTo>
                      <a:lnTo>
                        <a:pt x="223" y="208"/>
                      </a:lnTo>
                      <a:lnTo>
                        <a:pt x="220" y="207"/>
                      </a:lnTo>
                      <a:lnTo>
                        <a:pt x="219" y="207"/>
                      </a:lnTo>
                      <a:lnTo>
                        <a:pt x="217" y="206"/>
                      </a:lnTo>
                      <a:lnTo>
                        <a:pt x="216" y="205"/>
                      </a:lnTo>
                      <a:lnTo>
                        <a:pt x="213" y="205"/>
                      </a:lnTo>
                      <a:lnTo>
                        <a:pt x="211" y="204"/>
                      </a:lnTo>
                      <a:lnTo>
                        <a:pt x="210" y="202"/>
                      </a:lnTo>
                      <a:lnTo>
                        <a:pt x="207" y="201"/>
                      </a:lnTo>
                      <a:lnTo>
                        <a:pt x="205" y="200"/>
                      </a:lnTo>
                      <a:lnTo>
                        <a:pt x="204" y="199"/>
                      </a:lnTo>
                      <a:lnTo>
                        <a:pt x="202" y="198"/>
                      </a:lnTo>
                      <a:lnTo>
                        <a:pt x="199" y="197"/>
                      </a:lnTo>
                      <a:lnTo>
                        <a:pt x="197" y="196"/>
                      </a:lnTo>
                      <a:lnTo>
                        <a:pt x="196" y="193"/>
                      </a:lnTo>
                      <a:lnTo>
                        <a:pt x="194" y="192"/>
                      </a:lnTo>
                      <a:lnTo>
                        <a:pt x="191" y="191"/>
                      </a:lnTo>
                      <a:lnTo>
                        <a:pt x="190" y="189"/>
                      </a:lnTo>
                      <a:lnTo>
                        <a:pt x="188" y="187"/>
                      </a:lnTo>
                      <a:lnTo>
                        <a:pt x="186" y="185"/>
                      </a:lnTo>
                      <a:lnTo>
                        <a:pt x="184" y="184"/>
                      </a:lnTo>
                      <a:lnTo>
                        <a:pt x="182" y="183"/>
                      </a:lnTo>
                      <a:lnTo>
                        <a:pt x="180" y="181"/>
                      </a:lnTo>
                      <a:lnTo>
                        <a:pt x="179" y="179"/>
                      </a:lnTo>
                      <a:lnTo>
                        <a:pt x="176" y="177"/>
                      </a:lnTo>
                      <a:lnTo>
                        <a:pt x="174" y="176"/>
                      </a:lnTo>
                      <a:lnTo>
                        <a:pt x="173" y="174"/>
                      </a:lnTo>
                      <a:lnTo>
                        <a:pt x="171" y="172"/>
                      </a:lnTo>
                      <a:lnTo>
                        <a:pt x="168" y="170"/>
                      </a:lnTo>
                      <a:lnTo>
                        <a:pt x="167" y="169"/>
                      </a:lnTo>
                      <a:lnTo>
                        <a:pt x="165" y="168"/>
                      </a:lnTo>
                      <a:lnTo>
                        <a:pt x="162" y="166"/>
                      </a:lnTo>
                      <a:lnTo>
                        <a:pt x="161" y="164"/>
                      </a:lnTo>
                      <a:lnTo>
                        <a:pt x="159" y="163"/>
                      </a:lnTo>
                      <a:lnTo>
                        <a:pt x="157" y="162"/>
                      </a:lnTo>
                      <a:lnTo>
                        <a:pt x="155" y="161"/>
                      </a:lnTo>
                      <a:lnTo>
                        <a:pt x="153" y="160"/>
                      </a:lnTo>
                      <a:lnTo>
                        <a:pt x="151" y="159"/>
                      </a:lnTo>
                      <a:lnTo>
                        <a:pt x="150" y="157"/>
                      </a:lnTo>
                      <a:lnTo>
                        <a:pt x="149" y="156"/>
                      </a:lnTo>
                      <a:lnTo>
                        <a:pt x="149" y="154"/>
                      </a:lnTo>
                      <a:lnTo>
                        <a:pt x="147" y="153"/>
                      </a:lnTo>
                      <a:lnTo>
                        <a:pt x="147" y="150"/>
                      </a:lnTo>
                      <a:lnTo>
                        <a:pt x="146" y="149"/>
                      </a:lnTo>
                      <a:lnTo>
                        <a:pt x="146" y="148"/>
                      </a:lnTo>
                      <a:lnTo>
                        <a:pt x="145" y="146"/>
                      </a:lnTo>
                      <a:lnTo>
                        <a:pt x="145" y="145"/>
                      </a:lnTo>
                      <a:lnTo>
                        <a:pt x="144" y="142"/>
                      </a:lnTo>
                      <a:lnTo>
                        <a:pt x="144" y="141"/>
                      </a:lnTo>
                      <a:lnTo>
                        <a:pt x="143" y="139"/>
                      </a:lnTo>
                      <a:lnTo>
                        <a:pt x="143" y="138"/>
                      </a:lnTo>
                      <a:lnTo>
                        <a:pt x="142" y="135"/>
                      </a:lnTo>
                      <a:lnTo>
                        <a:pt x="142" y="134"/>
                      </a:lnTo>
                      <a:lnTo>
                        <a:pt x="140" y="133"/>
                      </a:lnTo>
                      <a:lnTo>
                        <a:pt x="140" y="131"/>
                      </a:lnTo>
                      <a:lnTo>
                        <a:pt x="140" y="130"/>
                      </a:lnTo>
                      <a:lnTo>
                        <a:pt x="139" y="127"/>
                      </a:lnTo>
                      <a:lnTo>
                        <a:pt x="139" y="126"/>
                      </a:lnTo>
                      <a:lnTo>
                        <a:pt x="138" y="124"/>
                      </a:lnTo>
                      <a:lnTo>
                        <a:pt x="138" y="123"/>
                      </a:lnTo>
                      <a:lnTo>
                        <a:pt x="137" y="122"/>
                      </a:lnTo>
                      <a:lnTo>
                        <a:pt x="137" y="119"/>
                      </a:lnTo>
                      <a:lnTo>
                        <a:pt x="136" y="118"/>
                      </a:lnTo>
                      <a:lnTo>
                        <a:pt x="136" y="116"/>
                      </a:lnTo>
                      <a:lnTo>
                        <a:pt x="135" y="115"/>
                      </a:lnTo>
                      <a:lnTo>
                        <a:pt x="135" y="112"/>
                      </a:lnTo>
                      <a:lnTo>
                        <a:pt x="134" y="111"/>
                      </a:lnTo>
                      <a:lnTo>
                        <a:pt x="134" y="110"/>
                      </a:lnTo>
                      <a:lnTo>
                        <a:pt x="132" y="108"/>
                      </a:lnTo>
                      <a:lnTo>
                        <a:pt x="132" y="107"/>
                      </a:lnTo>
                      <a:lnTo>
                        <a:pt x="132" y="104"/>
                      </a:lnTo>
                      <a:lnTo>
                        <a:pt x="131" y="105"/>
                      </a:lnTo>
                      <a:lnTo>
                        <a:pt x="131" y="107"/>
                      </a:lnTo>
                      <a:lnTo>
                        <a:pt x="131" y="108"/>
                      </a:lnTo>
                      <a:lnTo>
                        <a:pt x="130" y="108"/>
                      </a:lnTo>
                      <a:lnTo>
                        <a:pt x="130" y="109"/>
                      </a:lnTo>
                      <a:lnTo>
                        <a:pt x="130" y="110"/>
                      </a:lnTo>
                      <a:lnTo>
                        <a:pt x="129" y="110"/>
                      </a:lnTo>
                      <a:lnTo>
                        <a:pt x="129" y="111"/>
                      </a:lnTo>
                      <a:lnTo>
                        <a:pt x="128" y="111"/>
                      </a:lnTo>
                      <a:lnTo>
                        <a:pt x="128" y="112"/>
                      </a:lnTo>
                      <a:lnTo>
                        <a:pt x="127" y="112"/>
                      </a:lnTo>
                      <a:lnTo>
                        <a:pt x="125" y="112"/>
                      </a:lnTo>
                      <a:lnTo>
                        <a:pt x="125" y="114"/>
                      </a:lnTo>
                      <a:lnTo>
                        <a:pt x="124" y="114"/>
                      </a:lnTo>
                      <a:lnTo>
                        <a:pt x="123" y="114"/>
                      </a:lnTo>
                      <a:lnTo>
                        <a:pt x="122" y="114"/>
                      </a:lnTo>
                      <a:lnTo>
                        <a:pt x="122" y="112"/>
                      </a:lnTo>
                      <a:lnTo>
                        <a:pt x="121" y="112"/>
                      </a:lnTo>
                      <a:lnTo>
                        <a:pt x="121" y="111"/>
                      </a:lnTo>
                      <a:lnTo>
                        <a:pt x="120" y="111"/>
                      </a:lnTo>
                      <a:lnTo>
                        <a:pt x="120" y="110"/>
                      </a:lnTo>
                      <a:lnTo>
                        <a:pt x="120" y="109"/>
                      </a:lnTo>
                      <a:lnTo>
                        <a:pt x="119" y="109"/>
                      </a:lnTo>
                      <a:lnTo>
                        <a:pt x="119" y="108"/>
                      </a:lnTo>
                      <a:lnTo>
                        <a:pt x="117" y="107"/>
                      </a:lnTo>
                      <a:lnTo>
                        <a:pt x="117" y="105"/>
                      </a:lnTo>
                      <a:lnTo>
                        <a:pt x="116" y="104"/>
                      </a:lnTo>
                      <a:lnTo>
                        <a:pt x="116" y="103"/>
                      </a:lnTo>
                      <a:lnTo>
                        <a:pt x="115" y="102"/>
                      </a:lnTo>
                      <a:lnTo>
                        <a:pt x="115" y="101"/>
                      </a:lnTo>
                      <a:lnTo>
                        <a:pt x="115" y="100"/>
                      </a:lnTo>
                      <a:lnTo>
                        <a:pt x="114" y="100"/>
                      </a:lnTo>
                      <a:lnTo>
                        <a:pt x="114" y="99"/>
                      </a:lnTo>
                      <a:lnTo>
                        <a:pt x="114" y="97"/>
                      </a:lnTo>
                      <a:lnTo>
                        <a:pt x="113" y="96"/>
                      </a:lnTo>
                      <a:lnTo>
                        <a:pt x="112" y="96"/>
                      </a:lnTo>
                      <a:lnTo>
                        <a:pt x="110" y="96"/>
                      </a:lnTo>
                      <a:lnTo>
                        <a:pt x="109" y="96"/>
                      </a:lnTo>
                      <a:lnTo>
                        <a:pt x="108" y="96"/>
                      </a:lnTo>
                      <a:lnTo>
                        <a:pt x="107" y="96"/>
                      </a:lnTo>
                      <a:lnTo>
                        <a:pt x="106" y="96"/>
                      </a:lnTo>
                      <a:lnTo>
                        <a:pt x="105" y="96"/>
                      </a:lnTo>
                      <a:lnTo>
                        <a:pt x="104" y="96"/>
                      </a:lnTo>
                      <a:lnTo>
                        <a:pt x="102" y="96"/>
                      </a:lnTo>
                      <a:lnTo>
                        <a:pt x="101" y="96"/>
                      </a:lnTo>
                      <a:lnTo>
                        <a:pt x="100" y="96"/>
                      </a:lnTo>
                      <a:lnTo>
                        <a:pt x="99" y="95"/>
                      </a:lnTo>
                      <a:lnTo>
                        <a:pt x="98" y="95"/>
                      </a:lnTo>
                      <a:lnTo>
                        <a:pt x="97" y="95"/>
                      </a:lnTo>
                      <a:lnTo>
                        <a:pt x="95" y="95"/>
                      </a:lnTo>
                      <a:lnTo>
                        <a:pt x="94" y="95"/>
                      </a:lnTo>
                      <a:lnTo>
                        <a:pt x="93" y="94"/>
                      </a:lnTo>
                      <a:lnTo>
                        <a:pt x="92" y="94"/>
                      </a:lnTo>
                      <a:lnTo>
                        <a:pt x="91" y="93"/>
                      </a:lnTo>
                      <a:lnTo>
                        <a:pt x="90" y="93"/>
                      </a:lnTo>
                      <a:lnTo>
                        <a:pt x="88" y="92"/>
                      </a:lnTo>
                      <a:lnTo>
                        <a:pt x="87" y="92"/>
                      </a:lnTo>
                      <a:lnTo>
                        <a:pt x="87" y="90"/>
                      </a:lnTo>
                      <a:lnTo>
                        <a:pt x="86" y="89"/>
                      </a:lnTo>
                      <a:lnTo>
                        <a:pt x="85" y="88"/>
                      </a:lnTo>
                      <a:lnTo>
                        <a:pt x="84" y="88"/>
                      </a:lnTo>
                      <a:lnTo>
                        <a:pt x="83" y="88"/>
                      </a:lnTo>
                      <a:lnTo>
                        <a:pt x="82" y="88"/>
                      </a:lnTo>
                      <a:lnTo>
                        <a:pt x="80" y="88"/>
                      </a:lnTo>
                      <a:lnTo>
                        <a:pt x="78" y="88"/>
                      </a:lnTo>
                      <a:lnTo>
                        <a:pt x="77" y="89"/>
                      </a:lnTo>
                      <a:lnTo>
                        <a:pt x="76" y="89"/>
                      </a:lnTo>
                      <a:lnTo>
                        <a:pt x="75" y="89"/>
                      </a:lnTo>
                      <a:lnTo>
                        <a:pt x="72" y="89"/>
                      </a:lnTo>
                      <a:lnTo>
                        <a:pt x="71" y="90"/>
                      </a:lnTo>
                      <a:lnTo>
                        <a:pt x="70" y="90"/>
                      </a:lnTo>
                      <a:lnTo>
                        <a:pt x="69" y="90"/>
                      </a:lnTo>
                      <a:lnTo>
                        <a:pt x="68" y="92"/>
                      </a:lnTo>
                      <a:lnTo>
                        <a:pt x="65" y="92"/>
                      </a:lnTo>
                      <a:lnTo>
                        <a:pt x="64" y="93"/>
                      </a:lnTo>
                      <a:lnTo>
                        <a:pt x="63" y="93"/>
                      </a:lnTo>
                      <a:lnTo>
                        <a:pt x="62" y="94"/>
                      </a:lnTo>
                      <a:lnTo>
                        <a:pt x="61" y="94"/>
                      </a:lnTo>
                      <a:lnTo>
                        <a:pt x="60" y="95"/>
                      </a:lnTo>
                      <a:lnTo>
                        <a:pt x="58" y="96"/>
                      </a:lnTo>
                      <a:lnTo>
                        <a:pt x="57" y="96"/>
                      </a:lnTo>
                      <a:lnTo>
                        <a:pt x="56" y="97"/>
                      </a:lnTo>
                      <a:lnTo>
                        <a:pt x="55" y="99"/>
                      </a:lnTo>
                      <a:lnTo>
                        <a:pt x="55" y="100"/>
                      </a:lnTo>
                      <a:lnTo>
                        <a:pt x="54" y="101"/>
                      </a:lnTo>
                      <a:lnTo>
                        <a:pt x="53" y="101"/>
                      </a:lnTo>
                      <a:lnTo>
                        <a:pt x="53" y="102"/>
                      </a:lnTo>
                      <a:lnTo>
                        <a:pt x="52" y="103"/>
                      </a:lnTo>
                      <a:lnTo>
                        <a:pt x="52" y="105"/>
                      </a:lnTo>
                      <a:lnTo>
                        <a:pt x="52" y="107"/>
                      </a:lnTo>
                      <a:lnTo>
                        <a:pt x="52" y="108"/>
                      </a:lnTo>
                      <a:lnTo>
                        <a:pt x="52" y="109"/>
                      </a:lnTo>
                      <a:lnTo>
                        <a:pt x="49" y="110"/>
                      </a:lnTo>
                      <a:lnTo>
                        <a:pt x="48" y="112"/>
                      </a:lnTo>
                      <a:lnTo>
                        <a:pt x="47" y="114"/>
                      </a:lnTo>
                      <a:lnTo>
                        <a:pt x="45" y="115"/>
                      </a:lnTo>
                      <a:lnTo>
                        <a:pt x="43" y="116"/>
                      </a:lnTo>
                      <a:lnTo>
                        <a:pt x="41" y="118"/>
                      </a:lnTo>
                      <a:lnTo>
                        <a:pt x="40" y="119"/>
                      </a:lnTo>
                      <a:lnTo>
                        <a:pt x="38" y="120"/>
                      </a:lnTo>
                      <a:lnTo>
                        <a:pt x="35" y="123"/>
                      </a:lnTo>
                      <a:lnTo>
                        <a:pt x="33" y="124"/>
                      </a:lnTo>
                      <a:lnTo>
                        <a:pt x="31" y="125"/>
                      </a:lnTo>
                      <a:lnTo>
                        <a:pt x="30" y="127"/>
                      </a:lnTo>
                      <a:lnTo>
                        <a:pt x="27" y="129"/>
                      </a:lnTo>
                      <a:lnTo>
                        <a:pt x="25" y="130"/>
                      </a:lnTo>
                      <a:lnTo>
                        <a:pt x="23" y="132"/>
                      </a:lnTo>
                      <a:lnTo>
                        <a:pt x="20" y="133"/>
                      </a:lnTo>
                      <a:lnTo>
                        <a:pt x="18" y="135"/>
                      </a:lnTo>
                      <a:lnTo>
                        <a:pt x="17" y="137"/>
                      </a:lnTo>
                      <a:lnTo>
                        <a:pt x="15" y="139"/>
                      </a:lnTo>
                      <a:lnTo>
                        <a:pt x="12" y="140"/>
                      </a:lnTo>
                      <a:lnTo>
                        <a:pt x="11" y="142"/>
                      </a:lnTo>
                      <a:lnTo>
                        <a:pt x="9" y="145"/>
                      </a:lnTo>
                      <a:lnTo>
                        <a:pt x="8" y="146"/>
                      </a:lnTo>
                      <a:lnTo>
                        <a:pt x="6" y="148"/>
                      </a:lnTo>
                      <a:lnTo>
                        <a:pt x="4" y="150"/>
                      </a:lnTo>
                      <a:lnTo>
                        <a:pt x="3" y="152"/>
                      </a:lnTo>
                      <a:lnTo>
                        <a:pt x="2" y="154"/>
                      </a:lnTo>
                      <a:lnTo>
                        <a:pt x="2" y="156"/>
                      </a:lnTo>
                      <a:lnTo>
                        <a:pt x="1" y="159"/>
                      </a:lnTo>
                      <a:lnTo>
                        <a:pt x="1" y="161"/>
                      </a:lnTo>
                      <a:lnTo>
                        <a:pt x="0" y="163"/>
                      </a:lnTo>
                      <a:lnTo>
                        <a:pt x="0" y="166"/>
                      </a:lnTo>
                      <a:lnTo>
                        <a:pt x="2" y="167"/>
                      </a:lnTo>
                      <a:lnTo>
                        <a:pt x="3" y="169"/>
                      </a:lnTo>
                      <a:lnTo>
                        <a:pt x="5" y="170"/>
                      </a:lnTo>
                      <a:lnTo>
                        <a:pt x="8" y="171"/>
                      </a:lnTo>
                      <a:lnTo>
                        <a:pt x="9" y="172"/>
                      </a:lnTo>
                      <a:lnTo>
                        <a:pt x="11" y="175"/>
                      </a:lnTo>
                      <a:lnTo>
                        <a:pt x="13" y="176"/>
                      </a:lnTo>
                      <a:lnTo>
                        <a:pt x="15" y="177"/>
                      </a:lnTo>
                      <a:lnTo>
                        <a:pt x="17" y="178"/>
                      </a:lnTo>
                      <a:lnTo>
                        <a:pt x="19" y="179"/>
                      </a:lnTo>
                      <a:lnTo>
                        <a:pt x="20" y="182"/>
                      </a:lnTo>
                      <a:lnTo>
                        <a:pt x="23" y="183"/>
                      </a:lnTo>
                      <a:lnTo>
                        <a:pt x="25" y="184"/>
                      </a:lnTo>
                      <a:lnTo>
                        <a:pt x="27" y="185"/>
                      </a:lnTo>
                      <a:lnTo>
                        <a:pt x="30" y="186"/>
                      </a:lnTo>
                      <a:lnTo>
                        <a:pt x="31" y="189"/>
                      </a:lnTo>
                      <a:lnTo>
                        <a:pt x="33" y="190"/>
                      </a:lnTo>
                      <a:lnTo>
                        <a:pt x="35" y="191"/>
                      </a:lnTo>
                      <a:lnTo>
                        <a:pt x="38" y="192"/>
                      </a:lnTo>
                      <a:lnTo>
                        <a:pt x="40" y="194"/>
                      </a:lnTo>
                      <a:lnTo>
                        <a:pt x="42" y="196"/>
                      </a:lnTo>
                      <a:lnTo>
                        <a:pt x="43" y="197"/>
                      </a:lnTo>
                      <a:lnTo>
                        <a:pt x="46" y="198"/>
                      </a:lnTo>
                      <a:lnTo>
                        <a:pt x="48" y="199"/>
                      </a:lnTo>
                      <a:lnTo>
                        <a:pt x="50" y="201"/>
                      </a:lnTo>
                      <a:lnTo>
                        <a:pt x="53" y="202"/>
                      </a:lnTo>
                      <a:lnTo>
                        <a:pt x="55" y="204"/>
                      </a:lnTo>
                      <a:lnTo>
                        <a:pt x="57" y="205"/>
                      </a:lnTo>
                      <a:lnTo>
                        <a:pt x="60" y="207"/>
                      </a:lnTo>
                      <a:lnTo>
                        <a:pt x="61" y="208"/>
                      </a:lnTo>
                      <a:lnTo>
                        <a:pt x="63" y="209"/>
                      </a:lnTo>
                      <a:lnTo>
                        <a:pt x="65" y="211"/>
                      </a:lnTo>
                      <a:close/>
                      <a:moveTo>
                        <a:pt x="607" y="171"/>
                      </a:moveTo>
                      <a:lnTo>
                        <a:pt x="604" y="170"/>
                      </a:lnTo>
                      <a:lnTo>
                        <a:pt x="600" y="169"/>
                      </a:lnTo>
                      <a:lnTo>
                        <a:pt x="598" y="168"/>
                      </a:lnTo>
                      <a:lnTo>
                        <a:pt x="596" y="166"/>
                      </a:lnTo>
                      <a:lnTo>
                        <a:pt x="593" y="164"/>
                      </a:lnTo>
                      <a:lnTo>
                        <a:pt x="591" y="162"/>
                      </a:lnTo>
                      <a:lnTo>
                        <a:pt x="589" y="161"/>
                      </a:lnTo>
                      <a:lnTo>
                        <a:pt x="588" y="159"/>
                      </a:lnTo>
                      <a:lnTo>
                        <a:pt x="585" y="156"/>
                      </a:lnTo>
                      <a:lnTo>
                        <a:pt x="584" y="154"/>
                      </a:lnTo>
                      <a:lnTo>
                        <a:pt x="583" y="152"/>
                      </a:lnTo>
                      <a:lnTo>
                        <a:pt x="582" y="149"/>
                      </a:lnTo>
                      <a:lnTo>
                        <a:pt x="581" y="147"/>
                      </a:lnTo>
                      <a:lnTo>
                        <a:pt x="580" y="144"/>
                      </a:lnTo>
                      <a:lnTo>
                        <a:pt x="578" y="141"/>
                      </a:lnTo>
                      <a:lnTo>
                        <a:pt x="577" y="139"/>
                      </a:lnTo>
                      <a:lnTo>
                        <a:pt x="576" y="137"/>
                      </a:lnTo>
                      <a:lnTo>
                        <a:pt x="576" y="134"/>
                      </a:lnTo>
                      <a:lnTo>
                        <a:pt x="575" y="132"/>
                      </a:lnTo>
                      <a:lnTo>
                        <a:pt x="574" y="130"/>
                      </a:lnTo>
                      <a:lnTo>
                        <a:pt x="574" y="127"/>
                      </a:lnTo>
                      <a:lnTo>
                        <a:pt x="573" y="126"/>
                      </a:lnTo>
                      <a:lnTo>
                        <a:pt x="573" y="124"/>
                      </a:lnTo>
                      <a:lnTo>
                        <a:pt x="571" y="123"/>
                      </a:lnTo>
                      <a:lnTo>
                        <a:pt x="571" y="122"/>
                      </a:lnTo>
                      <a:lnTo>
                        <a:pt x="570" y="120"/>
                      </a:lnTo>
                      <a:lnTo>
                        <a:pt x="569" y="119"/>
                      </a:lnTo>
                      <a:lnTo>
                        <a:pt x="568" y="118"/>
                      </a:lnTo>
                      <a:lnTo>
                        <a:pt x="567" y="117"/>
                      </a:lnTo>
                      <a:lnTo>
                        <a:pt x="566" y="117"/>
                      </a:lnTo>
                      <a:lnTo>
                        <a:pt x="565" y="118"/>
                      </a:lnTo>
                      <a:lnTo>
                        <a:pt x="565" y="120"/>
                      </a:lnTo>
                      <a:lnTo>
                        <a:pt x="565" y="122"/>
                      </a:lnTo>
                      <a:lnTo>
                        <a:pt x="566" y="124"/>
                      </a:lnTo>
                      <a:lnTo>
                        <a:pt x="566" y="125"/>
                      </a:lnTo>
                      <a:lnTo>
                        <a:pt x="565" y="127"/>
                      </a:lnTo>
                      <a:lnTo>
                        <a:pt x="565" y="129"/>
                      </a:lnTo>
                      <a:lnTo>
                        <a:pt x="563" y="130"/>
                      </a:lnTo>
                      <a:lnTo>
                        <a:pt x="562" y="131"/>
                      </a:lnTo>
                      <a:lnTo>
                        <a:pt x="561" y="132"/>
                      </a:lnTo>
                      <a:lnTo>
                        <a:pt x="560" y="132"/>
                      </a:lnTo>
                      <a:lnTo>
                        <a:pt x="559" y="132"/>
                      </a:lnTo>
                      <a:lnTo>
                        <a:pt x="558" y="132"/>
                      </a:lnTo>
                      <a:lnTo>
                        <a:pt x="555" y="132"/>
                      </a:lnTo>
                      <a:lnTo>
                        <a:pt x="554" y="132"/>
                      </a:lnTo>
                      <a:lnTo>
                        <a:pt x="552" y="132"/>
                      </a:lnTo>
                      <a:lnTo>
                        <a:pt x="551" y="132"/>
                      </a:lnTo>
                      <a:lnTo>
                        <a:pt x="548" y="131"/>
                      </a:lnTo>
                      <a:lnTo>
                        <a:pt x="547" y="131"/>
                      </a:lnTo>
                      <a:lnTo>
                        <a:pt x="545" y="130"/>
                      </a:lnTo>
                      <a:lnTo>
                        <a:pt x="543" y="130"/>
                      </a:lnTo>
                      <a:lnTo>
                        <a:pt x="540" y="129"/>
                      </a:lnTo>
                      <a:lnTo>
                        <a:pt x="539" y="127"/>
                      </a:lnTo>
                      <a:lnTo>
                        <a:pt x="537" y="127"/>
                      </a:lnTo>
                      <a:lnTo>
                        <a:pt x="534" y="126"/>
                      </a:lnTo>
                      <a:lnTo>
                        <a:pt x="532" y="125"/>
                      </a:lnTo>
                      <a:lnTo>
                        <a:pt x="531" y="124"/>
                      </a:lnTo>
                      <a:lnTo>
                        <a:pt x="529" y="123"/>
                      </a:lnTo>
                      <a:lnTo>
                        <a:pt x="526" y="122"/>
                      </a:lnTo>
                      <a:lnTo>
                        <a:pt x="525" y="122"/>
                      </a:lnTo>
                      <a:lnTo>
                        <a:pt x="523" y="120"/>
                      </a:lnTo>
                      <a:lnTo>
                        <a:pt x="522" y="119"/>
                      </a:lnTo>
                      <a:lnTo>
                        <a:pt x="521" y="118"/>
                      </a:lnTo>
                      <a:lnTo>
                        <a:pt x="521" y="117"/>
                      </a:lnTo>
                      <a:lnTo>
                        <a:pt x="519" y="117"/>
                      </a:lnTo>
                      <a:lnTo>
                        <a:pt x="519" y="116"/>
                      </a:lnTo>
                      <a:lnTo>
                        <a:pt x="519" y="115"/>
                      </a:lnTo>
                      <a:lnTo>
                        <a:pt x="518" y="115"/>
                      </a:lnTo>
                      <a:lnTo>
                        <a:pt x="518" y="114"/>
                      </a:lnTo>
                      <a:lnTo>
                        <a:pt x="518" y="112"/>
                      </a:lnTo>
                      <a:lnTo>
                        <a:pt x="517" y="112"/>
                      </a:lnTo>
                      <a:lnTo>
                        <a:pt x="517" y="111"/>
                      </a:lnTo>
                      <a:lnTo>
                        <a:pt x="517" y="110"/>
                      </a:lnTo>
                      <a:lnTo>
                        <a:pt x="516" y="109"/>
                      </a:lnTo>
                      <a:lnTo>
                        <a:pt x="516" y="108"/>
                      </a:lnTo>
                      <a:lnTo>
                        <a:pt x="515" y="108"/>
                      </a:lnTo>
                      <a:lnTo>
                        <a:pt x="515" y="107"/>
                      </a:lnTo>
                      <a:lnTo>
                        <a:pt x="515" y="105"/>
                      </a:lnTo>
                      <a:lnTo>
                        <a:pt x="514" y="105"/>
                      </a:lnTo>
                      <a:lnTo>
                        <a:pt x="514" y="104"/>
                      </a:lnTo>
                      <a:lnTo>
                        <a:pt x="513" y="103"/>
                      </a:lnTo>
                      <a:lnTo>
                        <a:pt x="513" y="104"/>
                      </a:lnTo>
                      <a:lnTo>
                        <a:pt x="513" y="107"/>
                      </a:lnTo>
                      <a:lnTo>
                        <a:pt x="513" y="108"/>
                      </a:lnTo>
                      <a:lnTo>
                        <a:pt x="513" y="109"/>
                      </a:lnTo>
                      <a:lnTo>
                        <a:pt x="513" y="110"/>
                      </a:lnTo>
                      <a:lnTo>
                        <a:pt x="513" y="111"/>
                      </a:lnTo>
                      <a:lnTo>
                        <a:pt x="513" y="112"/>
                      </a:lnTo>
                      <a:lnTo>
                        <a:pt x="513" y="114"/>
                      </a:lnTo>
                      <a:lnTo>
                        <a:pt x="513" y="115"/>
                      </a:lnTo>
                      <a:lnTo>
                        <a:pt x="513" y="117"/>
                      </a:lnTo>
                      <a:lnTo>
                        <a:pt x="513" y="118"/>
                      </a:lnTo>
                      <a:lnTo>
                        <a:pt x="513" y="119"/>
                      </a:lnTo>
                      <a:lnTo>
                        <a:pt x="513" y="120"/>
                      </a:lnTo>
                      <a:lnTo>
                        <a:pt x="513" y="122"/>
                      </a:lnTo>
                      <a:lnTo>
                        <a:pt x="513" y="123"/>
                      </a:lnTo>
                      <a:lnTo>
                        <a:pt x="513" y="124"/>
                      </a:lnTo>
                      <a:lnTo>
                        <a:pt x="513" y="125"/>
                      </a:lnTo>
                      <a:lnTo>
                        <a:pt x="513" y="127"/>
                      </a:lnTo>
                      <a:lnTo>
                        <a:pt x="513" y="129"/>
                      </a:lnTo>
                      <a:lnTo>
                        <a:pt x="513" y="130"/>
                      </a:lnTo>
                      <a:lnTo>
                        <a:pt x="513" y="131"/>
                      </a:lnTo>
                      <a:lnTo>
                        <a:pt x="513" y="132"/>
                      </a:lnTo>
                      <a:lnTo>
                        <a:pt x="513" y="133"/>
                      </a:lnTo>
                      <a:lnTo>
                        <a:pt x="513" y="134"/>
                      </a:lnTo>
                      <a:lnTo>
                        <a:pt x="513" y="135"/>
                      </a:lnTo>
                      <a:lnTo>
                        <a:pt x="513" y="137"/>
                      </a:lnTo>
                      <a:lnTo>
                        <a:pt x="513" y="139"/>
                      </a:lnTo>
                      <a:lnTo>
                        <a:pt x="513" y="140"/>
                      </a:lnTo>
                      <a:lnTo>
                        <a:pt x="513" y="141"/>
                      </a:lnTo>
                      <a:lnTo>
                        <a:pt x="513" y="142"/>
                      </a:lnTo>
                      <a:lnTo>
                        <a:pt x="513" y="144"/>
                      </a:lnTo>
                      <a:lnTo>
                        <a:pt x="513" y="145"/>
                      </a:lnTo>
                      <a:lnTo>
                        <a:pt x="515" y="147"/>
                      </a:lnTo>
                      <a:lnTo>
                        <a:pt x="516" y="148"/>
                      </a:lnTo>
                      <a:lnTo>
                        <a:pt x="518" y="150"/>
                      </a:lnTo>
                      <a:lnTo>
                        <a:pt x="519" y="153"/>
                      </a:lnTo>
                      <a:lnTo>
                        <a:pt x="522" y="154"/>
                      </a:lnTo>
                      <a:lnTo>
                        <a:pt x="523" y="156"/>
                      </a:lnTo>
                      <a:lnTo>
                        <a:pt x="525" y="159"/>
                      </a:lnTo>
                      <a:lnTo>
                        <a:pt x="528" y="161"/>
                      </a:lnTo>
                      <a:lnTo>
                        <a:pt x="530" y="162"/>
                      </a:lnTo>
                      <a:lnTo>
                        <a:pt x="532" y="164"/>
                      </a:lnTo>
                      <a:lnTo>
                        <a:pt x="533" y="167"/>
                      </a:lnTo>
                      <a:lnTo>
                        <a:pt x="536" y="168"/>
                      </a:lnTo>
                      <a:lnTo>
                        <a:pt x="538" y="170"/>
                      </a:lnTo>
                      <a:lnTo>
                        <a:pt x="540" y="172"/>
                      </a:lnTo>
                      <a:lnTo>
                        <a:pt x="543" y="174"/>
                      </a:lnTo>
                      <a:lnTo>
                        <a:pt x="545" y="176"/>
                      </a:lnTo>
                      <a:lnTo>
                        <a:pt x="547" y="178"/>
                      </a:lnTo>
                      <a:lnTo>
                        <a:pt x="550" y="179"/>
                      </a:lnTo>
                      <a:lnTo>
                        <a:pt x="551" y="182"/>
                      </a:lnTo>
                      <a:lnTo>
                        <a:pt x="553" y="184"/>
                      </a:lnTo>
                      <a:lnTo>
                        <a:pt x="555" y="185"/>
                      </a:lnTo>
                      <a:lnTo>
                        <a:pt x="558" y="187"/>
                      </a:lnTo>
                      <a:lnTo>
                        <a:pt x="560" y="190"/>
                      </a:lnTo>
                      <a:lnTo>
                        <a:pt x="562" y="191"/>
                      </a:lnTo>
                      <a:lnTo>
                        <a:pt x="563" y="193"/>
                      </a:lnTo>
                      <a:lnTo>
                        <a:pt x="566" y="196"/>
                      </a:lnTo>
                      <a:lnTo>
                        <a:pt x="568" y="197"/>
                      </a:lnTo>
                      <a:lnTo>
                        <a:pt x="569" y="199"/>
                      </a:lnTo>
                      <a:lnTo>
                        <a:pt x="571" y="201"/>
                      </a:lnTo>
                      <a:lnTo>
                        <a:pt x="574" y="202"/>
                      </a:lnTo>
                      <a:lnTo>
                        <a:pt x="575" y="205"/>
                      </a:lnTo>
                      <a:lnTo>
                        <a:pt x="576" y="207"/>
                      </a:lnTo>
                      <a:lnTo>
                        <a:pt x="577" y="206"/>
                      </a:lnTo>
                      <a:lnTo>
                        <a:pt x="578" y="205"/>
                      </a:lnTo>
                      <a:lnTo>
                        <a:pt x="580" y="204"/>
                      </a:lnTo>
                      <a:lnTo>
                        <a:pt x="581" y="202"/>
                      </a:lnTo>
                      <a:lnTo>
                        <a:pt x="582" y="201"/>
                      </a:lnTo>
                      <a:lnTo>
                        <a:pt x="582" y="200"/>
                      </a:lnTo>
                      <a:lnTo>
                        <a:pt x="583" y="199"/>
                      </a:lnTo>
                      <a:lnTo>
                        <a:pt x="584" y="198"/>
                      </a:lnTo>
                      <a:lnTo>
                        <a:pt x="585" y="197"/>
                      </a:lnTo>
                      <a:lnTo>
                        <a:pt x="586" y="196"/>
                      </a:lnTo>
                      <a:lnTo>
                        <a:pt x="588" y="194"/>
                      </a:lnTo>
                      <a:lnTo>
                        <a:pt x="588" y="193"/>
                      </a:lnTo>
                      <a:lnTo>
                        <a:pt x="589" y="192"/>
                      </a:lnTo>
                      <a:lnTo>
                        <a:pt x="590" y="191"/>
                      </a:lnTo>
                      <a:lnTo>
                        <a:pt x="591" y="190"/>
                      </a:lnTo>
                      <a:lnTo>
                        <a:pt x="592" y="189"/>
                      </a:lnTo>
                      <a:lnTo>
                        <a:pt x="592" y="187"/>
                      </a:lnTo>
                      <a:lnTo>
                        <a:pt x="593" y="186"/>
                      </a:lnTo>
                      <a:lnTo>
                        <a:pt x="595" y="185"/>
                      </a:lnTo>
                      <a:lnTo>
                        <a:pt x="596" y="184"/>
                      </a:lnTo>
                      <a:lnTo>
                        <a:pt x="597" y="183"/>
                      </a:lnTo>
                      <a:lnTo>
                        <a:pt x="597" y="182"/>
                      </a:lnTo>
                      <a:lnTo>
                        <a:pt x="598" y="181"/>
                      </a:lnTo>
                      <a:lnTo>
                        <a:pt x="599" y="179"/>
                      </a:lnTo>
                      <a:lnTo>
                        <a:pt x="600" y="178"/>
                      </a:lnTo>
                      <a:lnTo>
                        <a:pt x="602" y="177"/>
                      </a:lnTo>
                      <a:lnTo>
                        <a:pt x="602" y="176"/>
                      </a:lnTo>
                      <a:lnTo>
                        <a:pt x="603" y="175"/>
                      </a:lnTo>
                      <a:lnTo>
                        <a:pt x="604" y="174"/>
                      </a:lnTo>
                      <a:lnTo>
                        <a:pt x="605" y="174"/>
                      </a:lnTo>
                      <a:lnTo>
                        <a:pt x="606" y="172"/>
                      </a:lnTo>
                      <a:lnTo>
                        <a:pt x="607" y="171"/>
                      </a:lnTo>
                      <a:close/>
                      <a:moveTo>
                        <a:pt x="667" y="135"/>
                      </a:moveTo>
                      <a:lnTo>
                        <a:pt x="669" y="135"/>
                      </a:lnTo>
                      <a:lnTo>
                        <a:pt x="670" y="135"/>
                      </a:lnTo>
                      <a:lnTo>
                        <a:pt x="671" y="135"/>
                      </a:lnTo>
                      <a:lnTo>
                        <a:pt x="672" y="135"/>
                      </a:lnTo>
                      <a:lnTo>
                        <a:pt x="673" y="135"/>
                      </a:lnTo>
                      <a:lnTo>
                        <a:pt x="674" y="135"/>
                      </a:lnTo>
                      <a:lnTo>
                        <a:pt x="675" y="137"/>
                      </a:lnTo>
                      <a:lnTo>
                        <a:pt x="677" y="137"/>
                      </a:lnTo>
                      <a:lnTo>
                        <a:pt x="678" y="137"/>
                      </a:lnTo>
                      <a:lnTo>
                        <a:pt x="679" y="137"/>
                      </a:lnTo>
                      <a:lnTo>
                        <a:pt x="680" y="137"/>
                      </a:lnTo>
                      <a:lnTo>
                        <a:pt x="680" y="138"/>
                      </a:lnTo>
                      <a:lnTo>
                        <a:pt x="681" y="138"/>
                      </a:lnTo>
                      <a:lnTo>
                        <a:pt x="682" y="138"/>
                      </a:lnTo>
                      <a:lnTo>
                        <a:pt x="684" y="138"/>
                      </a:lnTo>
                      <a:lnTo>
                        <a:pt x="684" y="139"/>
                      </a:lnTo>
                      <a:lnTo>
                        <a:pt x="685" y="139"/>
                      </a:lnTo>
                      <a:lnTo>
                        <a:pt x="686" y="139"/>
                      </a:lnTo>
                      <a:lnTo>
                        <a:pt x="687" y="139"/>
                      </a:lnTo>
                      <a:lnTo>
                        <a:pt x="687" y="140"/>
                      </a:lnTo>
                      <a:lnTo>
                        <a:pt x="688" y="140"/>
                      </a:lnTo>
                      <a:lnTo>
                        <a:pt x="689" y="140"/>
                      </a:lnTo>
                      <a:lnTo>
                        <a:pt x="690" y="140"/>
                      </a:lnTo>
                      <a:lnTo>
                        <a:pt x="692" y="140"/>
                      </a:lnTo>
                      <a:lnTo>
                        <a:pt x="693" y="140"/>
                      </a:lnTo>
                      <a:lnTo>
                        <a:pt x="694" y="140"/>
                      </a:lnTo>
                      <a:lnTo>
                        <a:pt x="695" y="140"/>
                      </a:lnTo>
                      <a:lnTo>
                        <a:pt x="696" y="139"/>
                      </a:lnTo>
                      <a:lnTo>
                        <a:pt x="697" y="139"/>
                      </a:lnTo>
                      <a:lnTo>
                        <a:pt x="699" y="138"/>
                      </a:lnTo>
                      <a:lnTo>
                        <a:pt x="699" y="137"/>
                      </a:lnTo>
                      <a:lnTo>
                        <a:pt x="700" y="137"/>
                      </a:lnTo>
                      <a:lnTo>
                        <a:pt x="700" y="135"/>
                      </a:lnTo>
                      <a:lnTo>
                        <a:pt x="700" y="134"/>
                      </a:lnTo>
                      <a:lnTo>
                        <a:pt x="700" y="133"/>
                      </a:lnTo>
                      <a:lnTo>
                        <a:pt x="700" y="132"/>
                      </a:lnTo>
                      <a:lnTo>
                        <a:pt x="699" y="132"/>
                      </a:lnTo>
                      <a:lnTo>
                        <a:pt x="699" y="131"/>
                      </a:lnTo>
                      <a:lnTo>
                        <a:pt x="699" y="130"/>
                      </a:lnTo>
                      <a:lnTo>
                        <a:pt x="697" y="130"/>
                      </a:lnTo>
                      <a:lnTo>
                        <a:pt x="697" y="129"/>
                      </a:lnTo>
                      <a:lnTo>
                        <a:pt x="697" y="127"/>
                      </a:lnTo>
                      <a:lnTo>
                        <a:pt x="697" y="126"/>
                      </a:lnTo>
                      <a:lnTo>
                        <a:pt x="697" y="125"/>
                      </a:lnTo>
                      <a:lnTo>
                        <a:pt x="699" y="125"/>
                      </a:lnTo>
                      <a:lnTo>
                        <a:pt x="699" y="124"/>
                      </a:lnTo>
                      <a:lnTo>
                        <a:pt x="700" y="123"/>
                      </a:lnTo>
                      <a:lnTo>
                        <a:pt x="700" y="122"/>
                      </a:lnTo>
                      <a:lnTo>
                        <a:pt x="701" y="120"/>
                      </a:lnTo>
                      <a:lnTo>
                        <a:pt x="701" y="119"/>
                      </a:lnTo>
                      <a:lnTo>
                        <a:pt x="702" y="118"/>
                      </a:lnTo>
                      <a:lnTo>
                        <a:pt x="702" y="117"/>
                      </a:lnTo>
                      <a:lnTo>
                        <a:pt x="703" y="116"/>
                      </a:lnTo>
                      <a:lnTo>
                        <a:pt x="703" y="115"/>
                      </a:lnTo>
                      <a:lnTo>
                        <a:pt x="702" y="116"/>
                      </a:lnTo>
                      <a:lnTo>
                        <a:pt x="701" y="116"/>
                      </a:lnTo>
                      <a:lnTo>
                        <a:pt x="700" y="116"/>
                      </a:lnTo>
                      <a:lnTo>
                        <a:pt x="700" y="117"/>
                      </a:lnTo>
                      <a:lnTo>
                        <a:pt x="699" y="117"/>
                      </a:lnTo>
                      <a:lnTo>
                        <a:pt x="697" y="117"/>
                      </a:lnTo>
                      <a:lnTo>
                        <a:pt x="696" y="117"/>
                      </a:lnTo>
                      <a:lnTo>
                        <a:pt x="695" y="117"/>
                      </a:lnTo>
                      <a:lnTo>
                        <a:pt x="694" y="117"/>
                      </a:lnTo>
                      <a:lnTo>
                        <a:pt x="693" y="117"/>
                      </a:lnTo>
                      <a:lnTo>
                        <a:pt x="693" y="118"/>
                      </a:lnTo>
                      <a:lnTo>
                        <a:pt x="692" y="118"/>
                      </a:lnTo>
                      <a:lnTo>
                        <a:pt x="690" y="119"/>
                      </a:lnTo>
                      <a:lnTo>
                        <a:pt x="689" y="119"/>
                      </a:lnTo>
                      <a:lnTo>
                        <a:pt x="689" y="120"/>
                      </a:lnTo>
                      <a:lnTo>
                        <a:pt x="688" y="120"/>
                      </a:lnTo>
                      <a:lnTo>
                        <a:pt x="688" y="122"/>
                      </a:lnTo>
                      <a:lnTo>
                        <a:pt x="687" y="123"/>
                      </a:lnTo>
                      <a:lnTo>
                        <a:pt x="686" y="123"/>
                      </a:lnTo>
                      <a:lnTo>
                        <a:pt x="685" y="124"/>
                      </a:lnTo>
                      <a:lnTo>
                        <a:pt x="684" y="125"/>
                      </a:lnTo>
                      <a:lnTo>
                        <a:pt x="682" y="126"/>
                      </a:lnTo>
                      <a:lnTo>
                        <a:pt x="681" y="126"/>
                      </a:lnTo>
                      <a:lnTo>
                        <a:pt x="681" y="127"/>
                      </a:lnTo>
                      <a:lnTo>
                        <a:pt x="680" y="129"/>
                      </a:lnTo>
                      <a:lnTo>
                        <a:pt x="679" y="129"/>
                      </a:lnTo>
                      <a:lnTo>
                        <a:pt x="678" y="130"/>
                      </a:lnTo>
                      <a:lnTo>
                        <a:pt x="677" y="130"/>
                      </a:lnTo>
                      <a:lnTo>
                        <a:pt x="677" y="131"/>
                      </a:lnTo>
                      <a:lnTo>
                        <a:pt x="675" y="132"/>
                      </a:lnTo>
                      <a:lnTo>
                        <a:pt x="674" y="132"/>
                      </a:lnTo>
                      <a:lnTo>
                        <a:pt x="673" y="133"/>
                      </a:lnTo>
                      <a:lnTo>
                        <a:pt x="672" y="133"/>
                      </a:lnTo>
                      <a:lnTo>
                        <a:pt x="671" y="134"/>
                      </a:lnTo>
                      <a:lnTo>
                        <a:pt x="670" y="135"/>
                      </a:lnTo>
                      <a:lnTo>
                        <a:pt x="669" y="135"/>
                      </a:lnTo>
                      <a:lnTo>
                        <a:pt x="667" y="135"/>
                      </a:lnTo>
                      <a:close/>
                      <a:moveTo>
                        <a:pt x="679" y="109"/>
                      </a:moveTo>
                      <a:lnTo>
                        <a:pt x="680" y="109"/>
                      </a:lnTo>
                      <a:lnTo>
                        <a:pt x="681" y="109"/>
                      </a:lnTo>
                      <a:lnTo>
                        <a:pt x="682" y="109"/>
                      </a:lnTo>
                      <a:lnTo>
                        <a:pt x="684" y="108"/>
                      </a:lnTo>
                      <a:lnTo>
                        <a:pt x="685" y="108"/>
                      </a:lnTo>
                      <a:lnTo>
                        <a:pt x="686" y="108"/>
                      </a:lnTo>
                      <a:lnTo>
                        <a:pt x="687" y="108"/>
                      </a:lnTo>
                      <a:lnTo>
                        <a:pt x="687" y="107"/>
                      </a:lnTo>
                      <a:lnTo>
                        <a:pt x="688" y="107"/>
                      </a:lnTo>
                      <a:lnTo>
                        <a:pt x="689" y="107"/>
                      </a:lnTo>
                      <a:lnTo>
                        <a:pt x="690" y="107"/>
                      </a:lnTo>
                      <a:lnTo>
                        <a:pt x="690" y="105"/>
                      </a:lnTo>
                      <a:lnTo>
                        <a:pt x="692" y="105"/>
                      </a:lnTo>
                      <a:lnTo>
                        <a:pt x="693" y="105"/>
                      </a:lnTo>
                      <a:lnTo>
                        <a:pt x="694" y="104"/>
                      </a:lnTo>
                      <a:lnTo>
                        <a:pt x="695" y="104"/>
                      </a:lnTo>
                      <a:lnTo>
                        <a:pt x="696" y="104"/>
                      </a:lnTo>
                      <a:lnTo>
                        <a:pt x="697" y="103"/>
                      </a:lnTo>
                      <a:lnTo>
                        <a:pt x="699" y="103"/>
                      </a:lnTo>
                      <a:lnTo>
                        <a:pt x="700" y="103"/>
                      </a:lnTo>
                      <a:lnTo>
                        <a:pt x="700" y="102"/>
                      </a:lnTo>
                      <a:lnTo>
                        <a:pt x="701" y="102"/>
                      </a:lnTo>
                      <a:lnTo>
                        <a:pt x="699" y="103"/>
                      </a:lnTo>
                      <a:lnTo>
                        <a:pt x="697" y="103"/>
                      </a:lnTo>
                      <a:lnTo>
                        <a:pt x="696" y="103"/>
                      </a:lnTo>
                      <a:lnTo>
                        <a:pt x="694" y="103"/>
                      </a:lnTo>
                      <a:lnTo>
                        <a:pt x="693" y="103"/>
                      </a:lnTo>
                      <a:lnTo>
                        <a:pt x="692" y="103"/>
                      </a:lnTo>
                      <a:lnTo>
                        <a:pt x="690" y="103"/>
                      </a:lnTo>
                      <a:lnTo>
                        <a:pt x="689" y="103"/>
                      </a:lnTo>
                      <a:lnTo>
                        <a:pt x="688" y="103"/>
                      </a:lnTo>
                      <a:lnTo>
                        <a:pt x="687" y="102"/>
                      </a:lnTo>
                      <a:lnTo>
                        <a:pt x="686" y="102"/>
                      </a:lnTo>
                      <a:lnTo>
                        <a:pt x="686" y="101"/>
                      </a:lnTo>
                      <a:lnTo>
                        <a:pt x="685" y="101"/>
                      </a:lnTo>
                      <a:lnTo>
                        <a:pt x="685" y="100"/>
                      </a:lnTo>
                      <a:lnTo>
                        <a:pt x="684" y="99"/>
                      </a:lnTo>
                      <a:lnTo>
                        <a:pt x="684" y="97"/>
                      </a:lnTo>
                      <a:lnTo>
                        <a:pt x="684" y="96"/>
                      </a:lnTo>
                      <a:lnTo>
                        <a:pt x="684" y="95"/>
                      </a:lnTo>
                      <a:lnTo>
                        <a:pt x="685" y="95"/>
                      </a:lnTo>
                      <a:lnTo>
                        <a:pt x="685" y="94"/>
                      </a:lnTo>
                      <a:lnTo>
                        <a:pt x="685" y="93"/>
                      </a:lnTo>
                      <a:lnTo>
                        <a:pt x="686" y="92"/>
                      </a:lnTo>
                      <a:lnTo>
                        <a:pt x="687" y="90"/>
                      </a:lnTo>
                      <a:lnTo>
                        <a:pt x="686" y="92"/>
                      </a:lnTo>
                      <a:lnTo>
                        <a:pt x="685" y="92"/>
                      </a:lnTo>
                      <a:lnTo>
                        <a:pt x="684" y="93"/>
                      </a:lnTo>
                      <a:lnTo>
                        <a:pt x="682" y="94"/>
                      </a:lnTo>
                      <a:lnTo>
                        <a:pt x="681" y="95"/>
                      </a:lnTo>
                      <a:lnTo>
                        <a:pt x="680" y="96"/>
                      </a:lnTo>
                      <a:lnTo>
                        <a:pt x="679" y="97"/>
                      </a:lnTo>
                      <a:lnTo>
                        <a:pt x="679" y="99"/>
                      </a:lnTo>
                      <a:lnTo>
                        <a:pt x="679" y="100"/>
                      </a:lnTo>
                      <a:lnTo>
                        <a:pt x="678" y="100"/>
                      </a:lnTo>
                      <a:lnTo>
                        <a:pt x="678" y="101"/>
                      </a:lnTo>
                      <a:lnTo>
                        <a:pt x="678" y="102"/>
                      </a:lnTo>
                      <a:lnTo>
                        <a:pt x="678" y="103"/>
                      </a:lnTo>
                      <a:lnTo>
                        <a:pt x="678" y="104"/>
                      </a:lnTo>
                      <a:lnTo>
                        <a:pt x="678" y="105"/>
                      </a:lnTo>
                      <a:lnTo>
                        <a:pt x="679" y="107"/>
                      </a:lnTo>
                      <a:lnTo>
                        <a:pt x="679" y="108"/>
                      </a:lnTo>
                      <a:lnTo>
                        <a:pt x="679" y="109"/>
                      </a:lnTo>
                      <a:close/>
                      <a:moveTo>
                        <a:pt x="634" y="79"/>
                      </a:moveTo>
                      <a:lnTo>
                        <a:pt x="640" y="79"/>
                      </a:lnTo>
                      <a:lnTo>
                        <a:pt x="644" y="79"/>
                      </a:lnTo>
                      <a:lnTo>
                        <a:pt x="649" y="79"/>
                      </a:lnTo>
                      <a:lnTo>
                        <a:pt x="654" y="79"/>
                      </a:lnTo>
                      <a:lnTo>
                        <a:pt x="657" y="78"/>
                      </a:lnTo>
                      <a:lnTo>
                        <a:pt x="660" y="78"/>
                      </a:lnTo>
                      <a:lnTo>
                        <a:pt x="664" y="77"/>
                      </a:lnTo>
                      <a:lnTo>
                        <a:pt x="666" y="75"/>
                      </a:lnTo>
                      <a:lnTo>
                        <a:pt x="670" y="74"/>
                      </a:lnTo>
                      <a:lnTo>
                        <a:pt x="672" y="72"/>
                      </a:lnTo>
                      <a:lnTo>
                        <a:pt x="673" y="71"/>
                      </a:lnTo>
                      <a:lnTo>
                        <a:pt x="675" y="68"/>
                      </a:lnTo>
                      <a:lnTo>
                        <a:pt x="677" y="67"/>
                      </a:lnTo>
                      <a:lnTo>
                        <a:pt x="678" y="65"/>
                      </a:lnTo>
                      <a:lnTo>
                        <a:pt x="679" y="64"/>
                      </a:lnTo>
                      <a:lnTo>
                        <a:pt x="680" y="62"/>
                      </a:lnTo>
                      <a:lnTo>
                        <a:pt x="681" y="59"/>
                      </a:lnTo>
                      <a:lnTo>
                        <a:pt x="682" y="57"/>
                      </a:lnTo>
                      <a:lnTo>
                        <a:pt x="682" y="56"/>
                      </a:lnTo>
                      <a:lnTo>
                        <a:pt x="684" y="53"/>
                      </a:lnTo>
                      <a:lnTo>
                        <a:pt x="684" y="51"/>
                      </a:lnTo>
                      <a:lnTo>
                        <a:pt x="685" y="50"/>
                      </a:lnTo>
                      <a:lnTo>
                        <a:pt x="685" y="48"/>
                      </a:lnTo>
                      <a:lnTo>
                        <a:pt x="686" y="47"/>
                      </a:lnTo>
                      <a:lnTo>
                        <a:pt x="686" y="44"/>
                      </a:lnTo>
                      <a:lnTo>
                        <a:pt x="687" y="43"/>
                      </a:lnTo>
                      <a:lnTo>
                        <a:pt x="687" y="42"/>
                      </a:lnTo>
                      <a:lnTo>
                        <a:pt x="688" y="41"/>
                      </a:lnTo>
                      <a:lnTo>
                        <a:pt x="689" y="40"/>
                      </a:lnTo>
                      <a:lnTo>
                        <a:pt x="690" y="38"/>
                      </a:lnTo>
                      <a:lnTo>
                        <a:pt x="692" y="38"/>
                      </a:lnTo>
                      <a:lnTo>
                        <a:pt x="693" y="37"/>
                      </a:lnTo>
                      <a:lnTo>
                        <a:pt x="693" y="36"/>
                      </a:lnTo>
                      <a:lnTo>
                        <a:pt x="692" y="35"/>
                      </a:lnTo>
                      <a:lnTo>
                        <a:pt x="690" y="34"/>
                      </a:lnTo>
                      <a:lnTo>
                        <a:pt x="689" y="33"/>
                      </a:lnTo>
                      <a:lnTo>
                        <a:pt x="688" y="33"/>
                      </a:lnTo>
                      <a:lnTo>
                        <a:pt x="687" y="32"/>
                      </a:lnTo>
                      <a:lnTo>
                        <a:pt x="686" y="32"/>
                      </a:lnTo>
                      <a:lnTo>
                        <a:pt x="685" y="32"/>
                      </a:lnTo>
                      <a:lnTo>
                        <a:pt x="684" y="30"/>
                      </a:lnTo>
                      <a:lnTo>
                        <a:pt x="681" y="30"/>
                      </a:lnTo>
                      <a:lnTo>
                        <a:pt x="680" y="30"/>
                      </a:lnTo>
                      <a:lnTo>
                        <a:pt x="678" y="32"/>
                      </a:lnTo>
                      <a:lnTo>
                        <a:pt x="677" y="32"/>
                      </a:lnTo>
                      <a:lnTo>
                        <a:pt x="674" y="32"/>
                      </a:lnTo>
                      <a:lnTo>
                        <a:pt x="672" y="33"/>
                      </a:lnTo>
                      <a:lnTo>
                        <a:pt x="670" y="33"/>
                      </a:lnTo>
                      <a:lnTo>
                        <a:pt x="667" y="34"/>
                      </a:lnTo>
                      <a:lnTo>
                        <a:pt x="665" y="35"/>
                      </a:lnTo>
                      <a:lnTo>
                        <a:pt x="664" y="36"/>
                      </a:lnTo>
                      <a:lnTo>
                        <a:pt x="662" y="37"/>
                      </a:lnTo>
                      <a:lnTo>
                        <a:pt x="658" y="38"/>
                      </a:lnTo>
                      <a:lnTo>
                        <a:pt x="656" y="41"/>
                      </a:lnTo>
                      <a:lnTo>
                        <a:pt x="654" y="42"/>
                      </a:lnTo>
                      <a:lnTo>
                        <a:pt x="651" y="44"/>
                      </a:lnTo>
                      <a:lnTo>
                        <a:pt x="649" y="47"/>
                      </a:lnTo>
                      <a:lnTo>
                        <a:pt x="647" y="49"/>
                      </a:lnTo>
                      <a:lnTo>
                        <a:pt x="644" y="52"/>
                      </a:lnTo>
                      <a:lnTo>
                        <a:pt x="642" y="55"/>
                      </a:lnTo>
                      <a:lnTo>
                        <a:pt x="640" y="58"/>
                      </a:lnTo>
                      <a:lnTo>
                        <a:pt x="637" y="62"/>
                      </a:lnTo>
                      <a:lnTo>
                        <a:pt x="635" y="65"/>
                      </a:lnTo>
                      <a:lnTo>
                        <a:pt x="638" y="62"/>
                      </a:lnTo>
                      <a:lnTo>
                        <a:pt x="642" y="59"/>
                      </a:lnTo>
                      <a:lnTo>
                        <a:pt x="645" y="58"/>
                      </a:lnTo>
                      <a:lnTo>
                        <a:pt x="649" y="56"/>
                      </a:lnTo>
                      <a:lnTo>
                        <a:pt x="651" y="53"/>
                      </a:lnTo>
                      <a:lnTo>
                        <a:pt x="655" y="52"/>
                      </a:lnTo>
                      <a:lnTo>
                        <a:pt x="657" y="51"/>
                      </a:lnTo>
                      <a:lnTo>
                        <a:pt x="659" y="50"/>
                      </a:lnTo>
                      <a:lnTo>
                        <a:pt x="660" y="50"/>
                      </a:lnTo>
                      <a:lnTo>
                        <a:pt x="663" y="49"/>
                      </a:lnTo>
                      <a:lnTo>
                        <a:pt x="664" y="49"/>
                      </a:lnTo>
                      <a:lnTo>
                        <a:pt x="666" y="48"/>
                      </a:lnTo>
                      <a:lnTo>
                        <a:pt x="667" y="48"/>
                      </a:lnTo>
                      <a:lnTo>
                        <a:pt x="669" y="48"/>
                      </a:lnTo>
                      <a:lnTo>
                        <a:pt x="670" y="48"/>
                      </a:lnTo>
                      <a:lnTo>
                        <a:pt x="671" y="48"/>
                      </a:lnTo>
                      <a:lnTo>
                        <a:pt x="672" y="48"/>
                      </a:lnTo>
                      <a:lnTo>
                        <a:pt x="672" y="49"/>
                      </a:lnTo>
                      <a:lnTo>
                        <a:pt x="673" y="49"/>
                      </a:lnTo>
                      <a:lnTo>
                        <a:pt x="673" y="50"/>
                      </a:lnTo>
                      <a:lnTo>
                        <a:pt x="674" y="50"/>
                      </a:lnTo>
                      <a:lnTo>
                        <a:pt x="674" y="51"/>
                      </a:lnTo>
                      <a:lnTo>
                        <a:pt x="675" y="51"/>
                      </a:lnTo>
                      <a:lnTo>
                        <a:pt x="675" y="52"/>
                      </a:lnTo>
                      <a:lnTo>
                        <a:pt x="674" y="52"/>
                      </a:lnTo>
                      <a:lnTo>
                        <a:pt x="674" y="53"/>
                      </a:lnTo>
                      <a:lnTo>
                        <a:pt x="673" y="53"/>
                      </a:lnTo>
                      <a:lnTo>
                        <a:pt x="673" y="55"/>
                      </a:lnTo>
                      <a:lnTo>
                        <a:pt x="672" y="55"/>
                      </a:lnTo>
                      <a:lnTo>
                        <a:pt x="672" y="56"/>
                      </a:lnTo>
                      <a:lnTo>
                        <a:pt x="671" y="56"/>
                      </a:lnTo>
                      <a:lnTo>
                        <a:pt x="671" y="57"/>
                      </a:lnTo>
                      <a:lnTo>
                        <a:pt x="670" y="57"/>
                      </a:lnTo>
                      <a:lnTo>
                        <a:pt x="669" y="58"/>
                      </a:lnTo>
                      <a:lnTo>
                        <a:pt x="667" y="59"/>
                      </a:lnTo>
                      <a:lnTo>
                        <a:pt x="666" y="59"/>
                      </a:lnTo>
                      <a:lnTo>
                        <a:pt x="665" y="60"/>
                      </a:lnTo>
                      <a:lnTo>
                        <a:pt x="664" y="62"/>
                      </a:lnTo>
                      <a:lnTo>
                        <a:pt x="663" y="62"/>
                      </a:lnTo>
                      <a:lnTo>
                        <a:pt x="662" y="63"/>
                      </a:lnTo>
                      <a:lnTo>
                        <a:pt x="660" y="63"/>
                      </a:lnTo>
                      <a:lnTo>
                        <a:pt x="659" y="64"/>
                      </a:lnTo>
                      <a:lnTo>
                        <a:pt x="658" y="64"/>
                      </a:lnTo>
                      <a:lnTo>
                        <a:pt x="657" y="64"/>
                      </a:lnTo>
                      <a:lnTo>
                        <a:pt x="656" y="65"/>
                      </a:lnTo>
                      <a:lnTo>
                        <a:pt x="655" y="65"/>
                      </a:lnTo>
                      <a:lnTo>
                        <a:pt x="654" y="65"/>
                      </a:lnTo>
                      <a:lnTo>
                        <a:pt x="652" y="66"/>
                      </a:lnTo>
                      <a:lnTo>
                        <a:pt x="651" y="66"/>
                      </a:lnTo>
                      <a:lnTo>
                        <a:pt x="650" y="66"/>
                      </a:lnTo>
                      <a:lnTo>
                        <a:pt x="649" y="66"/>
                      </a:lnTo>
                      <a:lnTo>
                        <a:pt x="648" y="66"/>
                      </a:lnTo>
                      <a:lnTo>
                        <a:pt x="647" y="66"/>
                      </a:lnTo>
                      <a:lnTo>
                        <a:pt x="645" y="66"/>
                      </a:lnTo>
                      <a:lnTo>
                        <a:pt x="644" y="67"/>
                      </a:lnTo>
                      <a:lnTo>
                        <a:pt x="643" y="67"/>
                      </a:lnTo>
                      <a:lnTo>
                        <a:pt x="642" y="67"/>
                      </a:lnTo>
                      <a:lnTo>
                        <a:pt x="641" y="68"/>
                      </a:lnTo>
                      <a:lnTo>
                        <a:pt x="640" y="68"/>
                      </a:lnTo>
                      <a:lnTo>
                        <a:pt x="640" y="70"/>
                      </a:lnTo>
                      <a:lnTo>
                        <a:pt x="638" y="70"/>
                      </a:lnTo>
                      <a:lnTo>
                        <a:pt x="638" y="71"/>
                      </a:lnTo>
                      <a:lnTo>
                        <a:pt x="637" y="71"/>
                      </a:lnTo>
                      <a:lnTo>
                        <a:pt x="637" y="72"/>
                      </a:lnTo>
                      <a:lnTo>
                        <a:pt x="637" y="73"/>
                      </a:lnTo>
                      <a:lnTo>
                        <a:pt x="636" y="73"/>
                      </a:lnTo>
                      <a:lnTo>
                        <a:pt x="636" y="74"/>
                      </a:lnTo>
                      <a:lnTo>
                        <a:pt x="636" y="75"/>
                      </a:lnTo>
                      <a:lnTo>
                        <a:pt x="635" y="75"/>
                      </a:lnTo>
                      <a:lnTo>
                        <a:pt x="635" y="77"/>
                      </a:lnTo>
                      <a:lnTo>
                        <a:pt x="635" y="78"/>
                      </a:lnTo>
                      <a:lnTo>
                        <a:pt x="634" y="78"/>
                      </a:lnTo>
                      <a:lnTo>
                        <a:pt x="634" y="79"/>
                      </a:lnTo>
                      <a:close/>
                    </a:path>
                  </a:pathLst>
                </a:custGeom>
                <a:solidFill>
                  <a:srgbClr val="bf7a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185080" y="6057000"/>
                  <a:ext cx="839520" cy="284400"/>
                </a:xfrm>
                <a:custGeom>
                  <a:avLst/>
                  <a:gdLst/>
                  <a:ahLst/>
                  <a:rect l="l" t="t" r="r" b="b"/>
                  <a:pathLst>
                    <a:path w="1587" h="466">
                      <a:moveTo>
                        <a:pt x="1535" y="368"/>
                      </a:moveTo>
                      <a:lnTo>
                        <a:pt x="1587" y="334"/>
                      </a:lnTo>
                      <a:lnTo>
                        <a:pt x="1586" y="333"/>
                      </a:lnTo>
                      <a:lnTo>
                        <a:pt x="1585" y="333"/>
                      </a:lnTo>
                      <a:lnTo>
                        <a:pt x="1584" y="332"/>
                      </a:lnTo>
                      <a:lnTo>
                        <a:pt x="1583" y="331"/>
                      </a:lnTo>
                      <a:lnTo>
                        <a:pt x="1582" y="330"/>
                      </a:lnTo>
                      <a:lnTo>
                        <a:pt x="1580" y="328"/>
                      </a:lnTo>
                      <a:lnTo>
                        <a:pt x="1578" y="327"/>
                      </a:lnTo>
                      <a:lnTo>
                        <a:pt x="1577" y="326"/>
                      </a:lnTo>
                      <a:lnTo>
                        <a:pt x="1576" y="325"/>
                      </a:lnTo>
                      <a:lnTo>
                        <a:pt x="1575" y="324"/>
                      </a:lnTo>
                      <a:lnTo>
                        <a:pt x="1572" y="323"/>
                      </a:lnTo>
                      <a:lnTo>
                        <a:pt x="1571" y="321"/>
                      </a:lnTo>
                      <a:lnTo>
                        <a:pt x="1570" y="320"/>
                      </a:lnTo>
                      <a:lnTo>
                        <a:pt x="1569" y="319"/>
                      </a:lnTo>
                      <a:lnTo>
                        <a:pt x="1567" y="318"/>
                      </a:lnTo>
                      <a:lnTo>
                        <a:pt x="1565" y="317"/>
                      </a:lnTo>
                      <a:lnTo>
                        <a:pt x="1564" y="316"/>
                      </a:lnTo>
                      <a:lnTo>
                        <a:pt x="1562" y="315"/>
                      </a:lnTo>
                      <a:lnTo>
                        <a:pt x="1561" y="312"/>
                      </a:lnTo>
                      <a:lnTo>
                        <a:pt x="1560" y="311"/>
                      </a:lnTo>
                      <a:lnTo>
                        <a:pt x="1559" y="310"/>
                      </a:lnTo>
                      <a:lnTo>
                        <a:pt x="1556" y="309"/>
                      </a:lnTo>
                      <a:lnTo>
                        <a:pt x="1555" y="308"/>
                      </a:lnTo>
                      <a:lnTo>
                        <a:pt x="1554" y="306"/>
                      </a:lnTo>
                      <a:lnTo>
                        <a:pt x="1553" y="305"/>
                      </a:lnTo>
                      <a:lnTo>
                        <a:pt x="1552" y="304"/>
                      </a:lnTo>
                      <a:lnTo>
                        <a:pt x="1549" y="303"/>
                      </a:lnTo>
                      <a:lnTo>
                        <a:pt x="1548" y="302"/>
                      </a:lnTo>
                      <a:lnTo>
                        <a:pt x="1547" y="301"/>
                      </a:lnTo>
                      <a:lnTo>
                        <a:pt x="1546" y="300"/>
                      </a:lnTo>
                      <a:lnTo>
                        <a:pt x="1545" y="298"/>
                      </a:lnTo>
                      <a:lnTo>
                        <a:pt x="1545" y="297"/>
                      </a:lnTo>
                      <a:lnTo>
                        <a:pt x="1228" y="254"/>
                      </a:lnTo>
                      <a:lnTo>
                        <a:pt x="1141" y="289"/>
                      </a:lnTo>
                      <a:lnTo>
                        <a:pt x="1140" y="289"/>
                      </a:lnTo>
                      <a:lnTo>
                        <a:pt x="1139" y="289"/>
                      </a:lnTo>
                      <a:lnTo>
                        <a:pt x="1138" y="289"/>
                      </a:lnTo>
                      <a:lnTo>
                        <a:pt x="1137" y="289"/>
                      </a:lnTo>
                      <a:lnTo>
                        <a:pt x="1134" y="289"/>
                      </a:lnTo>
                      <a:lnTo>
                        <a:pt x="1133" y="289"/>
                      </a:lnTo>
                      <a:lnTo>
                        <a:pt x="1132" y="289"/>
                      </a:lnTo>
                      <a:lnTo>
                        <a:pt x="1131" y="289"/>
                      </a:lnTo>
                      <a:lnTo>
                        <a:pt x="1129" y="289"/>
                      </a:lnTo>
                      <a:lnTo>
                        <a:pt x="1128" y="289"/>
                      </a:lnTo>
                      <a:lnTo>
                        <a:pt x="1126" y="289"/>
                      </a:lnTo>
                      <a:lnTo>
                        <a:pt x="1125" y="289"/>
                      </a:lnTo>
                      <a:lnTo>
                        <a:pt x="1123" y="289"/>
                      </a:lnTo>
                      <a:lnTo>
                        <a:pt x="1122" y="289"/>
                      </a:lnTo>
                      <a:lnTo>
                        <a:pt x="1121" y="289"/>
                      </a:lnTo>
                      <a:lnTo>
                        <a:pt x="1119" y="289"/>
                      </a:lnTo>
                      <a:lnTo>
                        <a:pt x="1117" y="289"/>
                      </a:lnTo>
                      <a:lnTo>
                        <a:pt x="1116" y="289"/>
                      </a:lnTo>
                      <a:lnTo>
                        <a:pt x="1115" y="289"/>
                      </a:lnTo>
                      <a:lnTo>
                        <a:pt x="1114" y="288"/>
                      </a:lnTo>
                      <a:lnTo>
                        <a:pt x="1113" y="288"/>
                      </a:lnTo>
                      <a:lnTo>
                        <a:pt x="1110" y="288"/>
                      </a:lnTo>
                      <a:lnTo>
                        <a:pt x="1109" y="288"/>
                      </a:lnTo>
                      <a:lnTo>
                        <a:pt x="1108" y="288"/>
                      </a:lnTo>
                      <a:lnTo>
                        <a:pt x="1107" y="288"/>
                      </a:lnTo>
                      <a:lnTo>
                        <a:pt x="1106" y="288"/>
                      </a:lnTo>
                      <a:lnTo>
                        <a:pt x="1104" y="287"/>
                      </a:lnTo>
                      <a:lnTo>
                        <a:pt x="1103" y="287"/>
                      </a:lnTo>
                      <a:lnTo>
                        <a:pt x="1102" y="287"/>
                      </a:lnTo>
                      <a:lnTo>
                        <a:pt x="1101" y="286"/>
                      </a:lnTo>
                      <a:lnTo>
                        <a:pt x="1100" y="286"/>
                      </a:lnTo>
                      <a:lnTo>
                        <a:pt x="1113" y="301"/>
                      </a:lnTo>
                      <a:lnTo>
                        <a:pt x="1100" y="306"/>
                      </a:lnTo>
                      <a:lnTo>
                        <a:pt x="1100" y="311"/>
                      </a:lnTo>
                      <a:lnTo>
                        <a:pt x="1535" y="368"/>
                      </a:lnTo>
                      <a:close/>
                      <a:moveTo>
                        <a:pt x="456" y="220"/>
                      </a:moveTo>
                      <a:lnTo>
                        <a:pt x="457" y="221"/>
                      </a:lnTo>
                      <a:lnTo>
                        <a:pt x="460" y="222"/>
                      </a:lnTo>
                      <a:lnTo>
                        <a:pt x="462" y="222"/>
                      </a:lnTo>
                      <a:lnTo>
                        <a:pt x="464" y="223"/>
                      </a:lnTo>
                      <a:lnTo>
                        <a:pt x="465" y="223"/>
                      </a:lnTo>
                      <a:lnTo>
                        <a:pt x="468" y="223"/>
                      </a:lnTo>
                      <a:lnTo>
                        <a:pt x="470" y="223"/>
                      </a:lnTo>
                      <a:lnTo>
                        <a:pt x="472" y="223"/>
                      </a:lnTo>
                      <a:lnTo>
                        <a:pt x="475" y="222"/>
                      </a:lnTo>
                      <a:lnTo>
                        <a:pt x="477" y="222"/>
                      </a:lnTo>
                      <a:lnTo>
                        <a:pt x="480" y="222"/>
                      </a:lnTo>
                      <a:lnTo>
                        <a:pt x="483" y="221"/>
                      </a:lnTo>
                      <a:lnTo>
                        <a:pt x="485" y="220"/>
                      </a:lnTo>
                      <a:lnTo>
                        <a:pt x="487" y="220"/>
                      </a:lnTo>
                      <a:lnTo>
                        <a:pt x="491" y="219"/>
                      </a:lnTo>
                      <a:lnTo>
                        <a:pt x="493" y="218"/>
                      </a:lnTo>
                      <a:lnTo>
                        <a:pt x="495" y="216"/>
                      </a:lnTo>
                      <a:lnTo>
                        <a:pt x="499" y="216"/>
                      </a:lnTo>
                      <a:lnTo>
                        <a:pt x="501" y="215"/>
                      </a:lnTo>
                      <a:lnTo>
                        <a:pt x="504" y="214"/>
                      </a:lnTo>
                      <a:lnTo>
                        <a:pt x="507" y="213"/>
                      </a:lnTo>
                      <a:lnTo>
                        <a:pt x="509" y="212"/>
                      </a:lnTo>
                      <a:lnTo>
                        <a:pt x="512" y="211"/>
                      </a:lnTo>
                      <a:lnTo>
                        <a:pt x="515" y="209"/>
                      </a:lnTo>
                      <a:lnTo>
                        <a:pt x="517" y="208"/>
                      </a:lnTo>
                      <a:lnTo>
                        <a:pt x="520" y="207"/>
                      </a:lnTo>
                      <a:lnTo>
                        <a:pt x="522" y="206"/>
                      </a:lnTo>
                      <a:lnTo>
                        <a:pt x="526" y="205"/>
                      </a:lnTo>
                      <a:lnTo>
                        <a:pt x="528" y="204"/>
                      </a:lnTo>
                      <a:lnTo>
                        <a:pt x="530" y="202"/>
                      </a:lnTo>
                      <a:lnTo>
                        <a:pt x="532" y="202"/>
                      </a:lnTo>
                      <a:lnTo>
                        <a:pt x="535" y="201"/>
                      </a:lnTo>
                      <a:lnTo>
                        <a:pt x="537" y="200"/>
                      </a:lnTo>
                      <a:lnTo>
                        <a:pt x="539" y="200"/>
                      </a:lnTo>
                      <a:lnTo>
                        <a:pt x="543" y="200"/>
                      </a:lnTo>
                      <a:lnTo>
                        <a:pt x="546" y="200"/>
                      </a:lnTo>
                      <a:lnTo>
                        <a:pt x="550" y="200"/>
                      </a:lnTo>
                      <a:lnTo>
                        <a:pt x="553" y="200"/>
                      </a:lnTo>
                      <a:lnTo>
                        <a:pt x="558" y="200"/>
                      </a:lnTo>
                      <a:lnTo>
                        <a:pt x="563" y="201"/>
                      </a:lnTo>
                      <a:lnTo>
                        <a:pt x="567" y="201"/>
                      </a:lnTo>
                      <a:lnTo>
                        <a:pt x="572" y="202"/>
                      </a:lnTo>
                      <a:lnTo>
                        <a:pt x="578" y="202"/>
                      </a:lnTo>
                      <a:lnTo>
                        <a:pt x="582" y="204"/>
                      </a:lnTo>
                      <a:lnTo>
                        <a:pt x="588" y="204"/>
                      </a:lnTo>
                      <a:lnTo>
                        <a:pt x="594" y="205"/>
                      </a:lnTo>
                      <a:lnTo>
                        <a:pt x="598" y="206"/>
                      </a:lnTo>
                      <a:lnTo>
                        <a:pt x="604" y="206"/>
                      </a:lnTo>
                      <a:lnTo>
                        <a:pt x="610" y="207"/>
                      </a:lnTo>
                      <a:lnTo>
                        <a:pt x="616" y="207"/>
                      </a:lnTo>
                      <a:lnTo>
                        <a:pt x="620" y="208"/>
                      </a:lnTo>
                      <a:lnTo>
                        <a:pt x="626" y="208"/>
                      </a:lnTo>
                      <a:lnTo>
                        <a:pt x="631" y="209"/>
                      </a:lnTo>
                      <a:lnTo>
                        <a:pt x="636" y="209"/>
                      </a:lnTo>
                      <a:lnTo>
                        <a:pt x="641" y="209"/>
                      </a:lnTo>
                      <a:lnTo>
                        <a:pt x="646" y="209"/>
                      </a:lnTo>
                      <a:lnTo>
                        <a:pt x="650" y="209"/>
                      </a:lnTo>
                      <a:lnTo>
                        <a:pt x="654" y="209"/>
                      </a:lnTo>
                      <a:lnTo>
                        <a:pt x="658" y="208"/>
                      </a:lnTo>
                      <a:lnTo>
                        <a:pt x="662" y="208"/>
                      </a:lnTo>
                      <a:lnTo>
                        <a:pt x="664" y="207"/>
                      </a:lnTo>
                      <a:lnTo>
                        <a:pt x="668" y="206"/>
                      </a:lnTo>
                      <a:lnTo>
                        <a:pt x="670" y="205"/>
                      </a:lnTo>
                      <a:lnTo>
                        <a:pt x="671" y="204"/>
                      </a:lnTo>
                      <a:lnTo>
                        <a:pt x="672" y="204"/>
                      </a:lnTo>
                      <a:lnTo>
                        <a:pt x="673" y="202"/>
                      </a:lnTo>
                      <a:lnTo>
                        <a:pt x="675" y="202"/>
                      </a:lnTo>
                      <a:lnTo>
                        <a:pt x="676" y="201"/>
                      </a:lnTo>
                      <a:lnTo>
                        <a:pt x="677" y="201"/>
                      </a:lnTo>
                      <a:lnTo>
                        <a:pt x="677" y="200"/>
                      </a:lnTo>
                      <a:lnTo>
                        <a:pt x="678" y="200"/>
                      </a:lnTo>
                      <a:lnTo>
                        <a:pt x="679" y="199"/>
                      </a:lnTo>
                      <a:lnTo>
                        <a:pt x="680" y="198"/>
                      </a:lnTo>
                      <a:lnTo>
                        <a:pt x="682" y="198"/>
                      </a:lnTo>
                      <a:lnTo>
                        <a:pt x="683" y="197"/>
                      </a:lnTo>
                      <a:lnTo>
                        <a:pt x="684" y="196"/>
                      </a:lnTo>
                      <a:lnTo>
                        <a:pt x="685" y="194"/>
                      </a:lnTo>
                      <a:lnTo>
                        <a:pt x="686" y="193"/>
                      </a:lnTo>
                      <a:lnTo>
                        <a:pt x="687" y="192"/>
                      </a:lnTo>
                      <a:lnTo>
                        <a:pt x="688" y="191"/>
                      </a:lnTo>
                      <a:lnTo>
                        <a:pt x="690" y="190"/>
                      </a:lnTo>
                      <a:lnTo>
                        <a:pt x="690" y="189"/>
                      </a:lnTo>
                      <a:lnTo>
                        <a:pt x="691" y="189"/>
                      </a:lnTo>
                      <a:lnTo>
                        <a:pt x="691" y="187"/>
                      </a:lnTo>
                      <a:lnTo>
                        <a:pt x="692" y="187"/>
                      </a:lnTo>
                      <a:lnTo>
                        <a:pt x="692" y="189"/>
                      </a:lnTo>
                      <a:lnTo>
                        <a:pt x="692" y="190"/>
                      </a:lnTo>
                      <a:lnTo>
                        <a:pt x="693" y="190"/>
                      </a:lnTo>
                      <a:lnTo>
                        <a:pt x="693" y="191"/>
                      </a:lnTo>
                      <a:lnTo>
                        <a:pt x="693" y="192"/>
                      </a:lnTo>
                      <a:lnTo>
                        <a:pt x="693" y="193"/>
                      </a:lnTo>
                      <a:lnTo>
                        <a:pt x="693" y="194"/>
                      </a:lnTo>
                      <a:lnTo>
                        <a:pt x="693" y="196"/>
                      </a:lnTo>
                      <a:lnTo>
                        <a:pt x="693" y="197"/>
                      </a:lnTo>
                      <a:lnTo>
                        <a:pt x="693" y="198"/>
                      </a:lnTo>
                      <a:lnTo>
                        <a:pt x="693" y="199"/>
                      </a:lnTo>
                      <a:lnTo>
                        <a:pt x="693" y="200"/>
                      </a:lnTo>
                      <a:lnTo>
                        <a:pt x="693" y="201"/>
                      </a:lnTo>
                      <a:lnTo>
                        <a:pt x="692" y="202"/>
                      </a:lnTo>
                      <a:lnTo>
                        <a:pt x="692" y="204"/>
                      </a:lnTo>
                      <a:lnTo>
                        <a:pt x="692" y="205"/>
                      </a:lnTo>
                      <a:lnTo>
                        <a:pt x="692" y="206"/>
                      </a:lnTo>
                      <a:lnTo>
                        <a:pt x="692" y="207"/>
                      </a:lnTo>
                      <a:lnTo>
                        <a:pt x="691" y="208"/>
                      </a:lnTo>
                      <a:lnTo>
                        <a:pt x="691" y="209"/>
                      </a:lnTo>
                      <a:lnTo>
                        <a:pt x="694" y="209"/>
                      </a:lnTo>
                      <a:lnTo>
                        <a:pt x="697" y="209"/>
                      </a:lnTo>
                      <a:lnTo>
                        <a:pt x="700" y="209"/>
                      </a:lnTo>
                      <a:lnTo>
                        <a:pt x="702" y="209"/>
                      </a:lnTo>
                      <a:lnTo>
                        <a:pt x="705" y="209"/>
                      </a:lnTo>
                      <a:lnTo>
                        <a:pt x="708" y="209"/>
                      </a:lnTo>
                      <a:lnTo>
                        <a:pt x="710" y="209"/>
                      </a:lnTo>
                      <a:lnTo>
                        <a:pt x="714" y="209"/>
                      </a:lnTo>
                      <a:lnTo>
                        <a:pt x="716" y="209"/>
                      </a:lnTo>
                      <a:lnTo>
                        <a:pt x="720" y="209"/>
                      </a:lnTo>
                      <a:lnTo>
                        <a:pt x="722" y="209"/>
                      </a:lnTo>
                      <a:lnTo>
                        <a:pt x="725" y="209"/>
                      </a:lnTo>
                      <a:lnTo>
                        <a:pt x="728" y="209"/>
                      </a:lnTo>
                      <a:lnTo>
                        <a:pt x="730" y="209"/>
                      </a:lnTo>
                      <a:lnTo>
                        <a:pt x="734" y="209"/>
                      </a:lnTo>
                      <a:lnTo>
                        <a:pt x="736" y="209"/>
                      </a:lnTo>
                      <a:lnTo>
                        <a:pt x="739" y="209"/>
                      </a:lnTo>
                      <a:lnTo>
                        <a:pt x="742" y="209"/>
                      </a:lnTo>
                      <a:lnTo>
                        <a:pt x="744" y="209"/>
                      </a:lnTo>
                      <a:lnTo>
                        <a:pt x="747" y="209"/>
                      </a:lnTo>
                      <a:lnTo>
                        <a:pt x="750" y="208"/>
                      </a:lnTo>
                      <a:lnTo>
                        <a:pt x="752" y="208"/>
                      </a:lnTo>
                      <a:lnTo>
                        <a:pt x="755" y="208"/>
                      </a:lnTo>
                      <a:lnTo>
                        <a:pt x="758" y="208"/>
                      </a:lnTo>
                      <a:lnTo>
                        <a:pt x="760" y="207"/>
                      </a:lnTo>
                      <a:lnTo>
                        <a:pt x="764" y="207"/>
                      </a:lnTo>
                      <a:lnTo>
                        <a:pt x="766" y="206"/>
                      </a:lnTo>
                      <a:lnTo>
                        <a:pt x="768" y="206"/>
                      </a:lnTo>
                      <a:lnTo>
                        <a:pt x="772" y="205"/>
                      </a:lnTo>
                      <a:lnTo>
                        <a:pt x="774" y="205"/>
                      </a:lnTo>
                      <a:lnTo>
                        <a:pt x="776" y="204"/>
                      </a:lnTo>
                      <a:lnTo>
                        <a:pt x="779" y="202"/>
                      </a:lnTo>
                      <a:lnTo>
                        <a:pt x="780" y="205"/>
                      </a:lnTo>
                      <a:lnTo>
                        <a:pt x="779" y="207"/>
                      </a:lnTo>
                      <a:lnTo>
                        <a:pt x="779" y="209"/>
                      </a:lnTo>
                      <a:lnTo>
                        <a:pt x="777" y="212"/>
                      </a:lnTo>
                      <a:lnTo>
                        <a:pt x="776" y="214"/>
                      </a:lnTo>
                      <a:lnTo>
                        <a:pt x="774" y="218"/>
                      </a:lnTo>
                      <a:lnTo>
                        <a:pt x="773" y="220"/>
                      </a:lnTo>
                      <a:lnTo>
                        <a:pt x="770" y="222"/>
                      </a:lnTo>
                      <a:lnTo>
                        <a:pt x="768" y="224"/>
                      </a:lnTo>
                      <a:lnTo>
                        <a:pt x="766" y="228"/>
                      </a:lnTo>
                      <a:lnTo>
                        <a:pt x="764" y="230"/>
                      </a:lnTo>
                      <a:lnTo>
                        <a:pt x="760" y="233"/>
                      </a:lnTo>
                      <a:lnTo>
                        <a:pt x="758" y="236"/>
                      </a:lnTo>
                      <a:lnTo>
                        <a:pt x="754" y="238"/>
                      </a:lnTo>
                      <a:lnTo>
                        <a:pt x="751" y="242"/>
                      </a:lnTo>
                      <a:lnTo>
                        <a:pt x="749" y="244"/>
                      </a:lnTo>
                      <a:lnTo>
                        <a:pt x="745" y="246"/>
                      </a:lnTo>
                      <a:lnTo>
                        <a:pt x="742" y="250"/>
                      </a:lnTo>
                      <a:lnTo>
                        <a:pt x="738" y="252"/>
                      </a:lnTo>
                      <a:lnTo>
                        <a:pt x="735" y="254"/>
                      </a:lnTo>
                      <a:lnTo>
                        <a:pt x="731" y="257"/>
                      </a:lnTo>
                      <a:lnTo>
                        <a:pt x="728" y="260"/>
                      </a:lnTo>
                      <a:lnTo>
                        <a:pt x="724" y="263"/>
                      </a:lnTo>
                      <a:lnTo>
                        <a:pt x="721" y="265"/>
                      </a:lnTo>
                      <a:lnTo>
                        <a:pt x="717" y="267"/>
                      </a:lnTo>
                      <a:lnTo>
                        <a:pt x="714" y="269"/>
                      </a:lnTo>
                      <a:lnTo>
                        <a:pt x="710" y="272"/>
                      </a:lnTo>
                      <a:lnTo>
                        <a:pt x="708" y="273"/>
                      </a:lnTo>
                      <a:lnTo>
                        <a:pt x="705" y="275"/>
                      </a:lnTo>
                      <a:lnTo>
                        <a:pt x="702" y="278"/>
                      </a:lnTo>
                      <a:lnTo>
                        <a:pt x="700" y="279"/>
                      </a:lnTo>
                      <a:lnTo>
                        <a:pt x="698" y="281"/>
                      </a:lnTo>
                      <a:lnTo>
                        <a:pt x="691" y="281"/>
                      </a:lnTo>
                      <a:lnTo>
                        <a:pt x="684" y="280"/>
                      </a:lnTo>
                      <a:lnTo>
                        <a:pt x="678" y="280"/>
                      </a:lnTo>
                      <a:lnTo>
                        <a:pt x="671" y="280"/>
                      </a:lnTo>
                      <a:lnTo>
                        <a:pt x="665" y="279"/>
                      </a:lnTo>
                      <a:lnTo>
                        <a:pt x="658" y="279"/>
                      </a:lnTo>
                      <a:lnTo>
                        <a:pt x="651" y="279"/>
                      </a:lnTo>
                      <a:lnTo>
                        <a:pt x="646" y="279"/>
                      </a:lnTo>
                      <a:lnTo>
                        <a:pt x="639" y="278"/>
                      </a:lnTo>
                      <a:lnTo>
                        <a:pt x="633" y="278"/>
                      </a:lnTo>
                      <a:lnTo>
                        <a:pt x="626" y="278"/>
                      </a:lnTo>
                      <a:lnTo>
                        <a:pt x="619" y="276"/>
                      </a:lnTo>
                      <a:lnTo>
                        <a:pt x="613" y="276"/>
                      </a:lnTo>
                      <a:lnTo>
                        <a:pt x="606" y="276"/>
                      </a:lnTo>
                      <a:lnTo>
                        <a:pt x="601" y="276"/>
                      </a:lnTo>
                      <a:lnTo>
                        <a:pt x="594" y="275"/>
                      </a:lnTo>
                      <a:lnTo>
                        <a:pt x="587" y="275"/>
                      </a:lnTo>
                      <a:lnTo>
                        <a:pt x="581" y="275"/>
                      </a:lnTo>
                      <a:lnTo>
                        <a:pt x="574" y="275"/>
                      </a:lnTo>
                      <a:lnTo>
                        <a:pt x="568" y="274"/>
                      </a:lnTo>
                      <a:lnTo>
                        <a:pt x="561" y="274"/>
                      </a:lnTo>
                      <a:lnTo>
                        <a:pt x="554" y="274"/>
                      </a:lnTo>
                      <a:lnTo>
                        <a:pt x="549" y="273"/>
                      </a:lnTo>
                      <a:lnTo>
                        <a:pt x="542" y="273"/>
                      </a:lnTo>
                      <a:lnTo>
                        <a:pt x="535" y="273"/>
                      </a:lnTo>
                      <a:lnTo>
                        <a:pt x="529" y="273"/>
                      </a:lnTo>
                      <a:lnTo>
                        <a:pt x="522" y="272"/>
                      </a:lnTo>
                      <a:lnTo>
                        <a:pt x="516" y="272"/>
                      </a:lnTo>
                      <a:lnTo>
                        <a:pt x="509" y="272"/>
                      </a:lnTo>
                      <a:lnTo>
                        <a:pt x="502" y="272"/>
                      </a:lnTo>
                      <a:lnTo>
                        <a:pt x="497" y="271"/>
                      </a:lnTo>
                      <a:lnTo>
                        <a:pt x="490" y="271"/>
                      </a:lnTo>
                      <a:lnTo>
                        <a:pt x="490" y="269"/>
                      </a:lnTo>
                      <a:lnTo>
                        <a:pt x="490" y="267"/>
                      </a:lnTo>
                      <a:lnTo>
                        <a:pt x="490" y="266"/>
                      </a:lnTo>
                      <a:lnTo>
                        <a:pt x="490" y="265"/>
                      </a:lnTo>
                      <a:lnTo>
                        <a:pt x="489" y="263"/>
                      </a:lnTo>
                      <a:lnTo>
                        <a:pt x="489" y="261"/>
                      </a:lnTo>
                      <a:lnTo>
                        <a:pt x="489" y="260"/>
                      </a:lnTo>
                      <a:lnTo>
                        <a:pt x="487" y="259"/>
                      </a:lnTo>
                      <a:lnTo>
                        <a:pt x="487" y="258"/>
                      </a:lnTo>
                      <a:lnTo>
                        <a:pt x="486" y="256"/>
                      </a:lnTo>
                      <a:lnTo>
                        <a:pt x="485" y="254"/>
                      </a:lnTo>
                      <a:lnTo>
                        <a:pt x="485" y="253"/>
                      </a:lnTo>
                      <a:lnTo>
                        <a:pt x="484" y="252"/>
                      </a:lnTo>
                      <a:lnTo>
                        <a:pt x="483" y="251"/>
                      </a:lnTo>
                      <a:lnTo>
                        <a:pt x="482" y="250"/>
                      </a:lnTo>
                      <a:lnTo>
                        <a:pt x="480" y="249"/>
                      </a:lnTo>
                      <a:lnTo>
                        <a:pt x="479" y="246"/>
                      </a:lnTo>
                      <a:lnTo>
                        <a:pt x="478" y="245"/>
                      </a:lnTo>
                      <a:lnTo>
                        <a:pt x="477" y="244"/>
                      </a:lnTo>
                      <a:lnTo>
                        <a:pt x="476" y="243"/>
                      </a:lnTo>
                      <a:lnTo>
                        <a:pt x="475" y="241"/>
                      </a:lnTo>
                      <a:lnTo>
                        <a:pt x="474" y="239"/>
                      </a:lnTo>
                      <a:lnTo>
                        <a:pt x="471" y="238"/>
                      </a:lnTo>
                      <a:lnTo>
                        <a:pt x="470" y="236"/>
                      </a:lnTo>
                      <a:lnTo>
                        <a:pt x="469" y="235"/>
                      </a:lnTo>
                      <a:lnTo>
                        <a:pt x="467" y="233"/>
                      </a:lnTo>
                      <a:lnTo>
                        <a:pt x="465" y="231"/>
                      </a:lnTo>
                      <a:lnTo>
                        <a:pt x="463" y="229"/>
                      </a:lnTo>
                      <a:lnTo>
                        <a:pt x="462" y="227"/>
                      </a:lnTo>
                      <a:lnTo>
                        <a:pt x="460" y="224"/>
                      </a:lnTo>
                      <a:lnTo>
                        <a:pt x="459" y="222"/>
                      </a:lnTo>
                      <a:lnTo>
                        <a:pt x="456" y="220"/>
                      </a:lnTo>
                      <a:close/>
                      <a:moveTo>
                        <a:pt x="185" y="440"/>
                      </a:moveTo>
                      <a:lnTo>
                        <a:pt x="186" y="442"/>
                      </a:lnTo>
                      <a:lnTo>
                        <a:pt x="187" y="443"/>
                      </a:lnTo>
                      <a:lnTo>
                        <a:pt x="188" y="443"/>
                      </a:lnTo>
                      <a:lnTo>
                        <a:pt x="189" y="444"/>
                      </a:lnTo>
                      <a:lnTo>
                        <a:pt x="190" y="444"/>
                      </a:lnTo>
                      <a:lnTo>
                        <a:pt x="192" y="444"/>
                      </a:lnTo>
                      <a:lnTo>
                        <a:pt x="193" y="444"/>
                      </a:lnTo>
                      <a:lnTo>
                        <a:pt x="194" y="444"/>
                      </a:lnTo>
                      <a:lnTo>
                        <a:pt x="195" y="443"/>
                      </a:lnTo>
                      <a:lnTo>
                        <a:pt x="196" y="443"/>
                      </a:lnTo>
                      <a:lnTo>
                        <a:pt x="196" y="442"/>
                      </a:lnTo>
                      <a:lnTo>
                        <a:pt x="197" y="440"/>
                      </a:lnTo>
                      <a:lnTo>
                        <a:pt x="197" y="439"/>
                      </a:lnTo>
                      <a:lnTo>
                        <a:pt x="199" y="438"/>
                      </a:lnTo>
                      <a:lnTo>
                        <a:pt x="199" y="437"/>
                      </a:lnTo>
                      <a:lnTo>
                        <a:pt x="199" y="436"/>
                      </a:lnTo>
                      <a:lnTo>
                        <a:pt x="199" y="435"/>
                      </a:lnTo>
                      <a:lnTo>
                        <a:pt x="199" y="434"/>
                      </a:lnTo>
                      <a:lnTo>
                        <a:pt x="199" y="432"/>
                      </a:lnTo>
                      <a:lnTo>
                        <a:pt x="199" y="431"/>
                      </a:lnTo>
                      <a:lnTo>
                        <a:pt x="199" y="429"/>
                      </a:lnTo>
                      <a:lnTo>
                        <a:pt x="199" y="428"/>
                      </a:lnTo>
                      <a:lnTo>
                        <a:pt x="199" y="427"/>
                      </a:lnTo>
                      <a:lnTo>
                        <a:pt x="199" y="425"/>
                      </a:lnTo>
                      <a:lnTo>
                        <a:pt x="199" y="424"/>
                      </a:lnTo>
                      <a:lnTo>
                        <a:pt x="200" y="423"/>
                      </a:lnTo>
                      <a:lnTo>
                        <a:pt x="200" y="422"/>
                      </a:lnTo>
                      <a:lnTo>
                        <a:pt x="200" y="420"/>
                      </a:lnTo>
                      <a:lnTo>
                        <a:pt x="200" y="419"/>
                      </a:lnTo>
                      <a:lnTo>
                        <a:pt x="200" y="417"/>
                      </a:lnTo>
                      <a:lnTo>
                        <a:pt x="200" y="416"/>
                      </a:lnTo>
                      <a:lnTo>
                        <a:pt x="200" y="415"/>
                      </a:lnTo>
                      <a:lnTo>
                        <a:pt x="200" y="414"/>
                      </a:lnTo>
                      <a:lnTo>
                        <a:pt x="200" y="413"/>
                      </a:lnTo>
                      <a:lnTo>
                        <a:pt x="201" y="412"/>
                      </a:lnTo>
                      <a:lnTo>
                        <a:pt x="201" y="409"/>
                      </a:lnTo>
                      <a:lnTo>
                        <a:pt x="201" y="408"/>
                      </a:lnTo>
                      <a:lnTo>
                        <a:pt x="201" y="407"/>
                      </a:lnTo>
                      <a:lnTo>
                        <a:pt x="201" y="406"/>
                      </a:lnTo>
                      <a:lnTo>
                        <a:pt x="201" y="405"/>
                      </a:lnTo>
                      <a:lnTo>
                        <a:pt x="201" y="403"/>
                      </a:lnTo>
                      <a:lnTo>
                        <a:pt x="201" y="402"/>
                      </a:lnTo>
                      <a:lnTo>
                        <a:pt x="201" y="401"/>
                      </a:lnTo>
                      <a:lnTo>
                        <a:pt x="202" y="400"/>
                      </a:lnTo>
                      <a:lnTo>
                        <a:pt x="202" y="399"/>
                      </a:lnTo>
                      <a:lnTo>
                        <a:pt x="202" y="398"/>
                      </a:lnTo>
                      <a:lnTo>
                        <a:pt x="202" y="397"/>
                      </a:lnTo>
                      <a:lnTo>
                        <a:pt x="202" y="395"/>
                      </a:lnTo>
                      <a:lnTo>
                        <a:pt x="202" y="394"/>
                      </a:lnTo>
                      <a:lnTo>
                        <a:pt x="202" y="393"/>
                      </a:lnTo>
                      <a:lnTo>
                        <a:pt x="202" y="392"/>
                      </a:lnTo>
                      <a:lnTo>
                        <a:pt x="201" y="390"/>
                      </a:lnTo>
                      <a:lnTo>
                        <a:pt x="200" y="387"/>
                      </a:lnTo>
                      <a:lnTo>
                        <a:pt x="199" y="385"/>
                      </a:lnTo>
                      <a:lnTo>
                        <a:pt x="199" y="383"/>
                      </a:lnTo>
                      <a:lnTo>
                        <a:pt x="197" y="382"/>
                      </a:lnTo>
                      <a:lnTo>
                        <a:pt x="196" y="379"/>
                      </a:lnTo>
                      <a:lnTo>
                        <a:pt x="196" y="377"/>
                      </a:lnTo>
                      <a:lnTo>
                        <a:pt x="195" y="376"/>
                      </a:lnTo>
                      <a:lnTo>
                        <a:pt x="195" y="375"/>
                      </a:lnTo>
                      <a:lnTo>
                        <a:pt x="194" y="372"/>
                      </a:lnTo>
                      <a:lnTo>
                        <a:pt x="194" y="371"/>
                      </a:lnTo>
                      <a:lnTo>
                        <a:pt x="193" y="370"/>
                      </a:lnTo>
                      <a:lnTo>
                        <a:pt x="193" y="369"/>
                      </a:lnTo>
                      <a:lnTo>
                        <a:pt x="192" y="368"/>
                      </a:lnTo>
                      <a:lnTo>
                        <a:pt x="192" y="367"/>
                      </a:lnTo>
                      <a:lnTo>
                        <a:pt x="192" y="365"/>
                      </a:lnTo>
                      <a:lnTo>
                        <a:pt x="190" y="364"/>
                      </a:lnTo>
                      <a:lnTo>
                        <a:pt x="190" y="363"/>
                      </a:lnTo>
                      <a:lnTo>
                        <a:pt x="190" y="362"/>
                      </a:lnTo>
                      <a:lnTo>
                        <a:pt x="189" y="361"/>
                      </a:lnTo>
                      <a:lnTo>
                        <a:pt x="189" y="360"/>
                      </a:lnTo>
                      <a:lnTo>
                        <a:pt x="188" y="358"/>
                      </a:lnTo>
                      <a:lnTo>
                        <a:pt x="188" y="357"/>
                      </a:lnTo>
                      <a:lnTo>
                        <a:pt x="188" y="356"/>
                      </a:lnTo>
                      <a:lnTo>
                        <a:pt x="187" y="355"/>
                      </a:lnTo>
                      <a:lnTo>
                        <a:pt x="187" y="354"/>
                      </a:lnTo>
                      <a:lnTo>
                        <a:pt x="186" y="353"/>
                      </a:lnTo>
                      <a:lnTo>
                        <a:pt x="186" y="352"/>
                      </a:lnTo>
                      <a:lnTo>
                        <a:pt x="333" y="356"/>
                      </a:lnTo>
                      <a:lnTo>
                        <a:pt x="336" y="356"/>
                      </a:lnTo>
                      <a:lnTo>
                        <a:pt x="338" y="356"/>
                      </a:lnTo>
                      <a:lnTo>
                        <a:pt x="342" y="356"/>
                      </a:lnTo>
                      <a:lnTo>
                        <a:pt x="344" y="356"/>
                      </a:lnTo>
                      <a:lnTo>
                        <a:pt x="346" y="355"/>
                      </a:lnTo>
                      <a:lnTo>
                        <a:pt x="349" y="355"/>
                      </a:lnTo>
                      <a:lnTo>
                        <a:pt x="352" y="354"/>
                      </a:lnTo>
                      <a:lnTo>
                        <a:pt x="355" y="354"/>
                      </a:lnTo>
                      <a:lnTo>
                        <a:pt x="357" y="353"/>
                      </a:lnTo>
                      <a:lnTo>
                        <a:pt x="359" y="353"/>
                      </a:lnTo>
                      <a:lnTo>
                        <a:pt x="361" y="352"/>
                      </a:lnTo>
                      <a:lnTo>
                        <a:pt x="364" y="350"/>
                      </a:lnTo>
                      <a:lnTo>
                        <a:pt x="366" y="349"/>
                      </a:lnTo>
                      <a:lnTo>
                        <a:pt x="368" y="348"/>
                      </a:lnTo>
                      <a:lnTo>
                        <a:pt x="371" y="347"/>
                      </a:lnTo>
                      <a:lnTo>
                        <a:pt x="373" y="346"/>
                      </a:lnTo>
                      <a:lnTo>
                        <a:pt x="375" y="345"/>
                      </a:lnTo>
                      <a:lnTo>
                        <a:pt x="378" y="343"/>
                      </a:lnTo>
                      <a:lnTo>
                        <a:pt x="380" y="342"/>
                      </a:lnTo>
                      <a:lnTo>
                        <a:pt x="382" y="340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9" y="335"/>
                      </a:lnTo>
                      <a:lnTo>
                        <a:pt x="391" y="333"/>
                      </a:lnTo>
                      <a:lnTo>
                        <a:pt x="393" y="332"/>
                      </a:lnTo>
                      <a:lnTo>
                        <a:pt x="395" y="330"/>
                      </a:lnTo>
                      <a:lnTo>
                        <a:pt x="397" y="327"/>
                      </a:lnTo>
                      <a:lnTo>
                        <a:pt x="400" y="325"/>
                      </a:lnTo>
                      <a:lnTo>
                        <a:pt x="402" y="324"/>
                      </a:lnTo>
                      <a:lnTo>
                        <a:pt x="403" y="321"/>
                      </a:lnTo>
                      <a:lnTo>
                        <a:pt x="405" y="319"/>
                      </a:lnTo>
                      <a:lnTo>
                        <a:pt x="408" y="317"/>
                      </a:lnTo>
                      <a:lnTo>
                        <a:pt x="420" y="332"/>
                      </a:lnTo>
                      <a:lnTo>
                        <a:pt x="422" y="332"/>
                      </a:lnTo>
                      <a:lnTo>
                        <a:pt x="423" y="332"/>
                      </a:lnTo>
                      <a:lnTo>
                        <a:pt x="423" y="331"/>
                      </a:lnTo>
                      <a:lnTo>
                        <a:pt x="424" y="331"/>
                      </a:lnTo>
                      <a:lnTo>
                        <a:pt x="425" y="331"/>
                      </a:lnTo>
                      <a:lnTo>
                        <a:pt x="426" y="331"/>
                      </a:lnTo>
                      <a:lnTo>
                        <a:pt x="426" y="330"/>
                      </a:lnTo>
                      <a:lnTo>
                        <a:pt x="427" y="330"/>
                      </a:lnTo>
                      <a:lnTo>
                        <a:pt x="428" y="330"/>
                      </a:lnTo>
                      <a:lnTo>
                        <a:pt x="428" y="328"/>
                      </a:lnTo>
                      <a:lnTo>
                        <a:pt x="430" y="328"/>
                      </a:lnTo>
                      <a:lnTo>
                        <a:pt x="431" y="328"/>
                      </a:lnTo>
                      <a:lnTo>
                        <a:pt x="431" y="327"/>
                      </a:lnTo>
                      <a:lnTo>
                        <a:pt x="432" y="327"/>
                      </a:lnTo>
                      <a:lnTo>
                        <a:pt x="433" y="327"/>
                      </a:lnTo>
                      <a:lnTo>
                        <a:pt x="434" y="328"/>
                      </a:lnTo>
                      <a:lnTo>
                        <a:pt x="434" y="330"/>
                      </a:lnTo>
                      <a:lnTo>
                        <a:pt x="434" y="331"/>
                      </a:lnTo>
                      <a:lnTo>
                        <a:pt x="434" y="332"/>
                      </a:lnTo>
                      <a:lnTo>
                        <a:pt x="435" y="333"/>
                      </a:lnTo>
                      <a:lnTo>
                        <a:pt x="435" y="334"/>
                      </a:lnTo>
                      <a:lnTo>
                        <a:pt x="435" y="335"/>
                      </a:lnTo>
                      <a:lnTo>
                        <a:pt x="435" y="336"/>
                      </a:lnTo>
                      <a:lnTo>
                        <a:pt x="435" y="339"/>
                      </a:lnTo>
                      <a:lnTo>
                        <a:pt x="435" y="340"/>
                      </a:lnTo>
                      <a:lnTo>
                        <a:pt x="435" y="341"/>
                      </a:lnTo>
                      <a:lnTo>
                        <a:pt x="435" y="342"/>
                      </a:lnTo>
                      <a:lnTo>
                        <a:pt x="434" y="343"/>
                      </a:lnTo>
                      <a:lnTo>
                        <a:pt x="434" y="345"/>
                      </a:lnTo>
                      <a:lnTo>
                        <a:pt x="434" y="347"/>
                      </a:lnTo>
                      <a:lnTo>
                        <a:pt x="434" y="348"/>
                      </a:lnTo>
                      <a:lnTo>
                        <a:pt x="434" y="349"/>
                      </a:lnTo>
                      <a:lnTo>
                        <a:pt x="434" y="350"/>
                      </a:lnTo>
                      <a:lnTo>
                        <a:pt x="433" y="352"/>
                      </a:lnTo>
                      <a:lnTo>
                        <a:pt x="433" y="353"/>
                      </a:lnTo>
                      <a:lnTo>
                        <a:pt x="433" y="355"/>
                      </a:lnTo>
                      <a:lnTo>
                        <a:pt x="433" y="356"/>
                      </a:lnTo>
                      <a:lnTo>
                        <a:pt x="432" y="357"/>
                      </a:lnTo>
                      <a:lnTo>
                        <a:pt x="432" y="358"/>
                      </a:lnTo>
                      <a:lnTo>
                        <a:pt x="432" y="360"/>
                      </a:lnTo>
                      <a:lnTo>
                        <a:pt x="432" y="361"/>
                      </a:lnTo>
                      <a:lnTo>
                        <a:pt x="431" y="362"/>
                      </a:lnTo>
                      <a:lnTo>
                        <a:pt x="431" y="363"/>
                      </a:lnTo>
                      <a:lnTo>
                        <a:pt x="431" y="364"/>
                      </a:lnTo>
                      <a:lnTo>
                        <a:pt x="430" y="365"/>
                      </a:lnTo>
                      <a:lnTo>
                        <a:pt x="430" y="367"/>
                      </a:lnTo>
                      <a:lnTo>
                        <a:pt x="457" y="372"/>
                      </a:lnTo>
                      <a:lnTo>
                        <a:pt x="324" y="466"/>
                      </a:lnTo>
                      <a:lnTo>
                        <a:pt x="320" y="465"/>
                      </a:lnTo>
                      <a:lnTo>
                        <a:pt x="316" y="465"/>
                      </a:lnTo>
                      <a:lnTo>
                        <a:pt x="312" y="465"/>
                      </a:lnTo>
                      <a:lnTo>
                        <a:pt x="308" y="465"/>
                      </a:lnTo>
                      <a:lnTo>
                        <a:pt x="304" y="465"/>
                      </a:lnTo>
                      <a:lnTo>
                        <a:pt x="299" y="464"/>
                      </a:lnTo>
                      <a:lnTo>
                        <a:pt x="296" y="464"/>
                      </a:lnTo>
                      <a:lnTo>
                        <a:pt x="291" y="464"/>
                      </a:lnTo>
                      <a:lnTo>
                        <a:pt x="286" y="462"/>
                      </a:lnTo>
                      <a:lnTo>
                        <a:pt x="282" y="462"/>
                      </a:lnTo>
                      <a:lnTo>
                        <a:pt x="277" y="462"/>
                      </a:lnTo>
                      <a:lnTo>
                        <a:pt x="272" y="461"/>
                      </a:lnTo>
                      <a:lnTo>
                        <a:pt x="268" y="461"/>
                      </a:lnTo>
                      <a:lnTo>
                        <a:pt x="263" y="460"/>
                      </a:lnTo>
                      <a:lnTo>
                        <a:pt x="259" y="460"/>
                      </a:lnTo>
                      <a:lnTo>
                        <a:pt x="254" y="460"/>
                      </a:lnTo>
                      <a:lnTo>
                        <a:pt x="249" y="459"/>
                      </a:lnTo>
                      <a:lnTo>
                        <a:pt x="245" y="459"/>
                      </a:lnTo>
                      <a:lnTo>
                        <a:pt x="240" y="458"/>
                      </a:lnTo>
                      <a:lnTo>
                        <a:pt x="236" y="458"/>
                      </a:lnTo>
                      <a:lnTo>
                        <a:pt x="230" y="457"/>
                      </a:lnTo>
                      <a:lnTo>
                        <a:pt x="225" y="457"/>
                      </a:lnTo>
                      <a:lnTo>
                        <a:pt x="220" y="457"/>
                      </a:lnTo>
                      <a:lnTo>
                        <a:pt x="216" y="455"/>
                      </a:lnTo>
                      <a:lnTo>
                        <a:pt x="211" y="455"/>
                      </a:lnTo>
                      <a:lnTo>
                        <a:pt x="207" y="455"/>
                      </a:lnTo>
                      <a:lnTo>
                        <a:pt x="202" y="454"/>
                      </a:lnTo>
                      <a:lnTo>
                        <a:pt x="197" y="454"/>
                      </a:lnTo>
                      <a:lnTo>
                        <a:pt x="194" y="454"/>
                      </a:lnTo>
                      <a:lnTo>
                        <a:pt x="189" y="454"/>
                      </a:lnTo>
                      <a:lnTo>
                        <a:pt x="185" y="454"/>
                      </a:lnTo>
                      <a:lnTo>
                        <a:pt x="180" y="453"/>
                      </a:lnTo>
                      <a:lnTo>
                        <a:pt x="181" y="453"/>
                      </a:lnTo>
                      <a:lnTo>
                        <a:pt x="181" y="452"/>
                      </a:lnTo>
                      <a:lnTo>
                        <a:pt x="182" y="452"/>
                      </a:lnTo>
                      <a:lnTo>
                        <a:pt x="182" y="451"/>
                      </a:lnTo>
                      <a:lnTo>
                        <a:pt x="182" y="450"/>
                      </a:lnTo>
                      <a:lnTo>
                        <a:pt x="184" y="450"/>
                      </a:lnTo>
                      <a:lnTo>
                        <a:pt x="184" y="449"/>
                      </a:lnTo>
                      <a:lnTo>
                        <a:pt x="184" y="447"/>
                      </a:lnTo>
                      <a:lnTo>
                        <a:pt x="184" y="446"/>
                      </a:lnTo>
                      <a:lnTo>
                        <a:pt x="185" y="446"/>
                      </a:lnTo>
                      <a:lnTo>
                        <a:pt x="185" y="445"/>
                      </a:lnTo>
                      <a:lnTo>
                        <a:pt x="185" y="444"/>
                      </a:lnTo>
                      <a:lnTo>
                        <a:pt x="185" y="443"/>
                      </a:lnTo>
                      <a:lnTo>
                        <a:pt x="185" y="442"/>
                      </a:lnTo>
                      <a:lnTo>
                        <a:pt x="185" y="440"/>
                      </a:lnTo>
                      <a:close/>
                      <a:moveTo>
                        <a:pt x="0" y="438"/>
                      </a:moveTo>
                      <a:lnTo>
                        <a:pt x="2" y="438"/>
                      </a:lnTo>
                      <a:lnTo>
                        <a:pt x="3" y="438"/>
                      </a:lnTo>
                      <a:lnTo>
                        <a:pt x="4" y="438"/>
                      </a:lnTo>
                      <a:lnTo>
                        <a:pt x="6" y="437"/>
                      </a:lnTo>
                      <a:lnTo>
                        <a:pt x="7" y="437"/>
                      </a:lnTo>
                      <a:lnTo>
                        <a:pt x="8" y="437"/>
                      </a:lnTo>
                      <a:lnTo>
                        <a:pt x="9" y="437"/>
                      </a:lnTo>
                      <a:lnTo>
                        <a:pt x="10" y="436"/>
                      </a:lnTo>
                      <a:lnTo>
                        <a:pt x="11" y="436"/>
                      </a:lnTo>
                      <a:lnTo>
                        <a:pt x="13" y="436"/>
                      </a:lnTo>
                      <a:lnTo>
                        <a:pt x="15" y="435"/>
                      </a:lnTo>
                      <a:lnTo>
                        <a:pt x="16" y="435"/>
                      </a:lnTo>
                      <a:lnTo>
                        <a:pt x="17" y="434"/>
                      </a:lnTo>
                      <a:lnTo>
                        <a:pt x="18" y="434"/>
                      </a:lnTo>
                      <a:lnTo>
                        <a:pt x="19" y="434"/>
                      </a:lnTo>
                      <a:lnTo>
                        <a:pt x="21" y="432"/>
                      </a:lnTo>
                      <a:lnTo>
                        <a:pt x="22" y="432"/>
                      </a:lnTo>
                      <a:lnTo>
                        <a:pt x="23" y="431"/>
                      </a:lnTo>
                      <a:lnTo>
                        <a:pt x="25" y="431"/>
                      </a:lnTo>
                      <a:lnTo>
                        <a:pt x="26" y="430"/>
                      </a:lnTo>
                      <a:lnTo>
                        <a:pt x="28" y="429"/>
                      </a:lnTo>
                      <a:lnTo>
                        <a:pt x="29" y="429"/>
                      </a:lnTo>
                      <a:lnTo>
                        <a:pt x="30" y="428"/>
                      </a:lnTo>
                      <a:lnTo>
                        <a:pt x="32" y="427"/>
                      </a:lnTo>
                      <a:lnTo>
                        <a:pt x="33" y="427"/>
                      </a:lnTo>
                      <a:lnTo>
                        <a:pt x="34" y="425"/>
                      </a:lnTo>
                      <a:lnTo>
                        <a:pt x="36" y="424"/>
                      </a:lnTo>
                      <a:lnTo>
                        <a:pt x="38" y="423"/>
                      </a:lnTo>
                      <a:lnTo>
                        <a:pt x="39" y="423"/>
                      </a:lnTo>
                      <a:lnTo>
                        <a:pt x="40" y="422"/>
                      </a:lnTo>
                      <a:lnTo>
                        <a:pt x="43" y="421"/>
                      </a:lnTo>
                      <a:lnTo>
                        <a:pt x="44" y="420"/>
                      </a:lnTo>
                      <a:lnTo>
                        <a:pt x="45" y="420"/>
                      </a:lnTo>
                      <a:lnTo>
                        <a:pt x="45" y="421"/>
                      </a:lnTo>
                      <a:lnTo>
                        <a:pt x="46" y="421"/>
                      </a:lnTo>
                      <a:lnTo>
                        <a:pt x="47" y="421"/>
                      </a:lnTo>
                      <a:lnTo>
                        <a:pt x="48" y="421"/>
                      </a:lnTo>
                      <a:lnTo>
                        <a:pt x="49" y="421"/>
                      </a:lnTo>
                      <a:lnTo>
                        <a:pt x="51" y="421"/>
                      </a:lnTo>
                      <a:lnTo>
                        <a:pt x="52" y="422"/>
                      </a:lnTo>
                      <a:lnTo>
                        <a:pt x="53" y="422"/>
                      </a:lnTo>
                      <a:lnTo>
                        <a:pt x="54" y="422"/>
                      </a:lnTo>
                      <a:lnTo>
                        <a:pt x="55" y="422"/>
                      </a:lnTo>
                      <a:lnTo>
                        <a:pt x="58" y="422"/>
                      </a:lnTo>
                      <a:lnTo>
                        <a:pt x="59" y="421"/>
                      </a:lnTo>
                      <a:lnTo>
                        <a:pt x="60" y="421"/>
                      </a:lnTo>
                      <a:lnTo>
                        <a:pt x="62" y="421"/>
                      </a:lnTo>
                      <a:lnTo>
                        <a:pt x="63" y="421"/>
                      </a:lnTo>
                      <a:lnTo>
                        <a:pt x="64" y="421"/>
                      </a:lnTo>
                      <a:lnTo>
                        <a:pt x="67" y="421"/>
                      </a:lnTo>
                      <a:lnTo>
                        <a:pt x="68" y="420"/>
                      </a:lnTo>
                      <a:lnTo>
                        <a:pt x="69" y="420"/>
                      </a:lnTo>
                      <a:lnTo>
                        <a:pt x="71" y="420"/>
                      </a:lnTo>
                      <a:lnTo>
                        <a:pt x="73" y="419"/>
                      </a:lnTo>
                      <a:lnTo>
                        <a:pt x="74" y="419"/>
                      </a:lnTo>
                      <a:lnTo>
                        <a:pt x="75" y="417"/>
                      </a:lnTo>
                      <a:lnTo>
                        <a:pt x="76" y="417"/>
                      </a:lnTo>
                      <a:lnTo>
                        <a:pt x="77" y="416"/>
                      </a:lnTo>
                      <a:lnTo>
                        <a:pt x="78" y="416"/>
                      </a:lnTo>
                      <a:lnTo>
                        <a:pt x="80" y="415"/>
                      </a:lnTo>
                      <a:lnTo>
                        <a:pt x="81" y="415"/>
                      </a:lnTo>
                      <a:lnTo>
                        <a:pt x="82" y="414"/>
                      </a:lnTo>
                      <a:lnTo>
                        <a:pt x="83" y="413"/>
                      </a:lnTo>
                      <a:lnTo>
                        <a:pt x="84" y="414"/>
                      </a:lnTo>
                      <a:lnTo>
                        <a:pt x="84" y="415"/>
                      </a:lnTo>
                      <a:lnTo>
                        <a:pt x="85" y="416"/>
                      </a:lnTo>
                      <a:lnTo>
                        <a:pt x="86" y="416"/>
                      </a:lnTo>
                      <a:lnTo>
                        <a:pt x="88" y="417"/>
                      </a:lnTo>
                      <a:lnTo>
                        <a:pt x="88" y="419"/>
                      </a:lnTo>
                      <a:lnTo>
                        <a:pt x="89" y="419"/>
                      </a:lnTo>
                      <a:lnTo>
                        <a:pt x="91" y="420"/>
                      </a:lnTo>
                      <a:lnTo>
                        <a:pt x="92" y="420"/>
                      </a:lnTo>
                      <a:lnTo>
                        <a:pt x="93" y="421"/>
                      </a:lnTo>
                      <a:lnTo>
                        <a:pt x="95" y="422"/>
                      </a:lnTo>
                      <a:lnTo>
                        <a:pt x="96" y="422"/>
                      </a:lnTo>
                      <a:lnTo>
                        <a:pt x="98" y="423"/>
                      </a:lnTo>
                      <a:lnTo>
                        <a:pt x="99" y="423"/>
                      </a:lnTo>
                      <a:lnTo>
                        <a:pt x="100" y="424"/>
                      </a:lnTo>
                      <a:lnTo>
                        <a:pt x="101" y="424"/>
                      </a:lnTo>
                      <a:lnTo>
                        <a:pt x="104" y="425"/>
                      </a:lnTo>
                      <a:lnTo>
                        <a:pt x="105" y="425"/>
                      </a:lnTo>
                      <a:lnTo>
                        <a:pt x="106" y="425"/>
                      </a:lnTo>
                      <a:lnTo>
                        <a:pt x="107" y="427"/>
                      </a:lnTo>
                      <a:lnTo>
                        <a:pt x="108" y="427"/>
                      </a:lnTo>
                      <a:lnTo>
                        <a:pt x="110" y="427"/>
                      </a:lnTo>
                      <a:lnTo>
                        <a:pt x="111" y="428"/>
                      </a:lnTo>
                      <a:lnTo>
                        <a:pt x="112" y="428"/>
                      </a:lnTo>
                      <a:lnTo>
                        <a:pt x="113" y="428"/>
                      </a:lnTo>
                      <a:lnTo>
                        <a:pt x="114" y="428"/>
                      </a:lnTo>
                      <a:lnTo>
                        <a:pt x="115" y="428"/>
                      </a:lnTo>
                      <a:lnTo>
                        <a:pt x="116" y="429"/>
                      </a:lnTo>
                      <a:lnTo>
                        <a:pt x="116" y="430"/>
                      </a:lnTo>
                      <a:lnTo>
                        <a:pt x="116" y="431"/>
                      </a:lnTo>
                      <a:lnTo>
                        <a:pt x="118" y="432"/>
                      </a:lnTo>
                      <a:lnTo>
                        <a:pt x="118" y="434"/>
                      </a:lnTo>
                      <a:lnTo>
                        <a:pt x="118" y="435"/>
                      </a:lnTo>
                      <a:lnTo>
                        <a:pt x="119" y="435"/>
                      </a:lnTo>
                      <a:lnTo>
                        <a:pt x="119" y="436"/>
                      </a:lnTo>
                      <a:lnTo>
                        <a:pt x="119" y="437"/>
                      </a:lnTo>
                      <a:lnTo>
                        <a:pt x="120" y="438"/>
                      </a:lnTo>
                      <a:lnTo>
                        <a:pt x="120" y="439"/>
                      </a:lnTo>
                      <a:lnTo>
                        <a:pt x="120" y="440"/>
                      </a:lnTo>
                      <a:lnTo>
                        <a:pt x="121" y="440"/>
                      </a:lnTo>
                      <a:lnTo>
                        <a:pt x="121" y="442"/>
                      </a:lnTo>
                      <a:lnTo>
                        <a:pt x="121" y="443"/>
                      </a:lnTo>
                      <a:lnTo>
                        <a:pt x="122" y="444"/>
                      </a:lnTo>
                      <a:lnTo>
                        <a:pt x="122" y="445"/>
                      </a:lnTo>
                      <a:lnTo>
                        <a:pt x="123" y="446"/>
                      </a:lnTo>
                      <a:lnTo>
                        <a:pt x="123" y="447"/>
                      </a:lnTo>
                      <a:lnTo>
                        <a:pt x="125" y="447"/>
                      </a:lnTo>
                      <a:lnTo>
                        <a:pt x="125" y="449"/>
                      </a:lnTo>
                      <a:lnTo>
                        <a:pt x="125" y="450"/>
                      </a:lnTo>
                      <a:lnTo>
                        <a:pt x="126" y="450"/>
                      </a:lnTo>
                      <a:lnTo>
                        <a:pt x="126" y="451"/>
                      </a:lnTo>
                      <a:lnTo>
                        <a:pt x="127" y="452"/>
                      </a:lnTo>
                      <a:lnTo>
                        <a:pt x="127" y="453"/>
                      </a:lnTo>
                      <a:lnTo>
                        <a:pt x="128" y="453"/>
                      </a:lnTo>
                      <a:lnTo>
                        <a:pt x="126" y="453"/>
                      </a:lnTo>
                      <a:lnTo>
                        <a:pt x="125" y="453"/>
                      </a:lnTo>
                      <a:lnTo>
                        <a:pt x="122" y="453"/>
                      </a:lnTo>
                      <a:lnTo>
                        <a:pt x="120" y="453"/>
                      </a:lnTo>
                      <a:lnTo>
                        <a:pt x="118" y="452"/>
                      </a:lnTo>
                      <a:lnTo>
                        <a:pt x="116" y="452"/>
                      </a:lnTo>
                      <a:lnTo>
                        <a:pt x="114" y="452"/>
                      </a:lnTo>
                      <a:lnTo>
                        <a:pt x="112" y="452"/>
                      </a:lnTo>
                      <a:lnTo>
                        <a:pt x="110" y="452"/>
                      </a:lnTo>
                      <a:lnTo>
                        <a:pt x="108" y="451"/>
                      </a:lnTo>
                      <a:lnTo>
                        <a:pt x="106" y="451"/>
                      </a:lnTo>
                      <a:lnTo>
                        <a:pt x="104" y="451"/>
                      </a:lnTo>
                      <a:lnTo>
                        <a:pt x="101" y="451"/>
                      </a:lnTo>
                      <a:lnTo>
                        <a:pt x="99" y="451"/>
                      </a:lnTo>
                      <a:lnTo>
                        <a:pt x="98" y="450"/>
                      </a:lnTo>
                      <a:lnTo>
                        <a:pt x="96" y="450"/>
                      </a:lnTo>
                      <a:lnTo>
                        <a:pt x="93" y="450"/>
                      </a:lnTo>
                      <a:lnTo>
                        <a:pt x="91" y="450"/>
                      </a:lnTo>
                      <a:lnTo>
                        <a:pt x="90" y="450"/>
                      </a:lnTo>
                      <a:lnTo>
                        <a:pt x="88" y="450"/>
                      </a:lnTo>
                      <a:lnTo>
                        <a:pt x="85" y="449"/>
                      </a:lnTo>
                      <a:lnTo>
                        <a:pt x="83" y="449"/>
                      </a:lnTo>
                      <a:lnTo>
                        <a:pt x="81" y="449"/>
                      </a:lnTo>
                      <a:lnTo>
                        <a:pt x="80" y="449"/>
                      </a:lnTo>
                      <a:lnTo>
                        <a:pt x="77" y="449"/>
                      </a:lnTo>
                      <a:lnTo>
                        <a:pt x="75" y="449"/>
                      </a:lnTo>
                      <a:lnTo>
                        <a:pt x="73" y="447"/>
                      </a:lnTo>
                      <a:lnTo>
                        <a:pt x="71" y="447"/>
                      </a:lnTo>
                      <a:lnTo>
                        <a:pt x="69" y="447"/>
                      </a:lnTo>
                      <a:lnTo>
                        <a:pt x="67" y="447"/>
                      </a:lnTo>
                      <a:lnTo>
                        <a:pt x="64" y="447"/>
                      </a:lnTo>
                      <a:lnTo>
                        <a:pt x="63" y="446"/>
                      </a:lnTo>
                      <a:lnTo>
                        <a:pt x="61" y="446"/>
                      </a:lnTo>
                      <a:lnTo>
                        <a:pt x="59" y="446"/>
                      </a:lnTo>
                      <a:lnTo>
                        <a:pt x="56" y="446"/>
                      </a:lnTo>
                      <a:lnTo>
                        <a:pt x="55" y="446"/>
                      </a:lnTo>
                      <a:lnTo>
                        <a:pt x="53" y="445"/>
                      </a:lnTo>
                      <a:lnTo>
                        <a:pt x="51" y="445"/>
                      </a:lnTo>
                      <a:lnTo>
                        <a:pt x="49" y="445"/>
                      </a:lnTo>
                      <a:lnTo>
                        <a:pt x="47" y="445"/>
                      </a:lnTo>
                      <a:lnTo>
                        <a:pt x="45" y="444"/>
                      </a:lnTo>
                      <a:lnTo>
                        <a:pt x="44" y="444"/>
                      </a:lnTo>
                      <a:lnTo>
                        <a:pt x="41" y="444"/>
                      </a:lnTo>
                      <a:lnTo>
                        <a:pt x="39" y="444"/>
                      </a:lnTo>
                      <a:lnTo>
                        <a:pt x="38" y="443"/>
                      </a:lnTo>
                      <a:lnTo>
                        <a:pt x="36" y="443"/>
                      </a:lnTo>
                      <a:lnTo>
                        <a:pt x="33" y="443"/>
                      </a:lnTo>
                      <a:lnTo>
                        <a:pt x="31" y="443"/>
                      </a:lnTo>
                      <a:lnTo>
                        <a:pt x="30" y="443"/>
                      </a:lnTo>
                      <a:lnTo>
                        <a:pt x="28" y="442"/>
                      </a:lnTo>
                      <a:lnTo>
                        <a:pt x="25" y="442"/>
                      </a:lnTo>
                      <a:lnTo>
                        <a:pt x="24" y="442"/>
                      </a:lnTo>
                      <a:lnTo>
                        <a:pt x="22" y="442"/>
                      </a:lnTo>
                      <a:lnTo>
                        <a:pt x="19" y="440"/>
                      </a:lnTo>
                      <a:lnTo>
                        <a:pt x="18" y="440"/>
                      </a:lnTo>
                      <a:lnTo>
                        <a:pt x="16" y="440"/>
                      </a:lnTo>
                      <a:lnTo>
                        <a:pt x="14" y="440"/>
                      </a:lnTo>
                      <a:lnTo>
                        <a:pt x="13" y="439"/>
                      </a:lnTo>
                      <a:lnTo>
                        <a:pt x="10" y="439"/>
                      </a:lnTo>
                      <a:lnTo>
                        <a:pt x="8" y="439"/>
                      </a:lnTo>
                      <a:lnTo>
                        <a:pt x="7" y="439"/>
                      </a:lnTo>
                      <a:lnTo>
                        <a:pt x="4" y="439"/>
                      </a:lnTo>
                      <a:lnTo>
                        <a:pt x="2" y="438"/>
                      </a:lnTo>
                      <a:lnTo>
                        <a:pt x="0" y="438"/>
                      </a:lnTo>
                      <a:close/>
                      <a:moveTo>
                        <a:pt x="148" y="454"/>
                      </a:moveTo>
                      <a:lnTo>
                        <a:pt x="148" y="453"/>
                      </a:lnTo>
                      <a:lnTo>
                        <a:pt x="148" y="452"/>
                      </a:lnTo>
                      <a:lnTo>
                        <a:pt x="148" y="451"/>
                      </a:lnTo>
                      <a:lnTo>
                        <a:pt x="148" y="450"/>
                      </a:lnTo>
                      <a:lnTo>
                        <a:pt x="148" y="449"/>
                      </a:lnTo>
                      <a:lnTo>
                        <a:pt x="148" y="447"/>
                      </a:lnTo>
                      <a:lnTo>
                        <a:pt x="148" y="446"/>
                      </a:lnTo>
                      <a:lnTo>
                        <a:pt x="149" y="446"/>
                      </a:lnTo>
                      <a:lnTo>
                        <a:pt x="149" y="445"/>
                      </a:lnTo>
                      <a:lnTo>
                        <a:pt x="149" y="444"/>
                      </a:lnTo>
                      <a:lnTo>
                        <a:pt x="149" y="443"/>
                      </a:lnTo>
                      <a:lnTo>
                        <a:pt x="149" y="442"/>
                      </a:lnTo>
                      <a:lnTo>
                        <a:pt x="149" y="440"/>
                      </a:lnTo>
                      <a:lnTo>
                        <a:pt x="149" y="439"/>
                      </a:lnTo>
                      <a:lnTo>
                        <a:pt x="149" y="438"/>
                      </a:lnTo>
                      <a:lnTo>
                        <a:pt x="149" y="437"/>
                      </a:lnTo>
                      <a:lnTo>
                        <a:pt x="149" y="436"/>
                      </a:lnTo>
                      <a:lnTo>
                        <a:pt x="149" y="435"/>
                      </a:lnTo>
                      <a:lnTo>
                        <a:pt x="149" y="434"/>
                      </a:lnTo>
                      <a:lnTo>
                        <a:pt x="149" y="432"/>
                      </a:lnTo>
                      <a:lnTo>
                        <a:pt x="149" y="431"/>
                      </a:lnTo>
                      <a:lnTo>
                        <a:pt x="149" y="430"/>
                      </a:lnTo>
                      <a:lnTo>
                        <a:pt x="149" y="429"/>
                      </a:lnTo>
                      <a:lnTo>
                        <a:pt x="148" y="429"/>
                      </a:lnTo>
                      <a:lnTo>
                        <a:pt x="148" y="428"/>
                      </a:lnTo>
                      <a:lnTo>
                        <a:pt x="148" y="427"/>
                      </a:lnTo>
                      <a:lnTo>
                        <a:pt x="148" y="425"/>
                      </a:lnTo>
                      <a:lnTo>
                        <a:pt x="148" y="424"/>
                      </a:lnTo>
                      <a:lnTo>
                        <a:pt x="147" y="423"/>
                      </a:lnTo>
                      <a:lnTo>
                        <a:pt x="147" y="422"/>
                      </a:lnTo>
                      <a:lnTo>
                        <a:pt x="147" y="421"/>
                      </a:lnTo>
                      <a:lnTo>
                        <a:pt x="147" y="420"/>
                      </a:lnTo>
                      <a:lnTo>
                        <a:pt x="145" y="420"/>
                      </a:lnTo>
                      <a:lnTo>
                        <a:pt x="145" y="419"/>
                      </a:lnTo>
                      <a:lnTo>
                        <a:pt x="145" y="417"/>
                      </a:lnTo>
                      <a:lnTo>
                        <a:pt x="145" y="416"/>
                      </a:lnTo>
                      <a:lnTo>
                        <a:pt x="144" y="415"/>
                      </a:lnTo>
                      <a:lnTo>
                        <a:pt x="144" y="414"/>
                      </a:lnTo>
                      <a:lnTo>
                        <a:pt x="145" y="415"/>
                      </a:lnTo>
                      <a:lnTo>
                        <a:pt x="147" y="415"/>
                      </a:lnTo>
                      <a:lnTo>
                        <a:pt x="148" y="415"/>
                      </a:lnTo>
                      <a:lnTo>
                        <a:pt x="149" y="416"/>
                      </a:lnTo>
                      <a:lnTo>
                        <a:pt x="150" y="416"/>
                      </a:lnTo>
                      <a:lnTo>
                        <a:pt x="151" y="416"/>
                      </a:lnTo>
                      <a:lnTo>
                        <a:pt x="151" y="417"/>
                      </a:lnTo>
                      <a:lnTo>
                        <a:pt x="151" y="419"/>
                      </a:lnTo>
                      <a:lnTo>
                        <a:pt x="152" y="420"/>
                      </a:lnTo>
                      <a:lnTo>
                        <a:pt x="152" y="421"/>
                      </a:lnTo>
                      <a:lnTo>
                        <a:pt x="152" y="422"/>
                      </a:lnTo>
                      <a:lnTo>
                        <a:pt x="152" y="423"/>
                      </a:lnTo>
                      <a:lnTo>
                        <a:pt x="152" y="424"/>
                      </a:lnTo>
                      <a:lnTo>
                        <a:pt x="152" y="425"/>
                      </a:lnTo>
                      <a:lnTo>
                        <a:pt x="153" y="427"/>
                      </a:lnTo>
                      <a:lnTo>
                        <a:pt x="153" y="429"/>
                      </a:lnTo>
                      <a:lnTo>
                        <a:pt x="153" y="430"/>
                      </a:lnTo>
                      <a:lnTo>
                        <a:pt x="153" y="431"/>
                      </a:lnTo>
                      <a:lnTo>
                        <a:pt x="153" y="434"/>
                      </a:lnTo>
                      <a:lnTo>
                        <a:pt x="153" y="435"/>
                      </a:lnTo>
                      <a:lnTo>
                        <a:pt x="155" y="436"/>
                      </a:lnTo>
                      <a:lnTo>
                        <a:pt x="155" y="438"/>
                      </a:lnTo>
                      <a:lnTo>
                        <a:pt x="155" y="439"/>
                      </a:lnTo>
                      <a:lnTo>
                        <a:pt x="155" y="442"/>
                      </a:lnTo>
                      <a:lnTo>
                        <a:pt x="156" y="443"/>
                      </a:lnTo>
                      <a:lnTo>
                        <a:pt x="156" y="444"/>
                      </a:lnTo>
                      <a:lnTo>
                        <a:pt x="157" y="445"/>
                      </a:lnTo>
                      <a:lnTo>
                        <a:pt x="157" y="447"/>
                      </a:lnTo>
                      <a:lnTo>
                        <a:pt x="157" y="449"/>
                      </a:lnTo>
                      <a:lnTo>
                        <a:pt x="158" y="450"/>
                      </a:lnTo>
                      <a:lnTo>
                        <a:pt x="158" y="451"/>
                      </a:lnTo>
                      <a:lnTo>
                        <a:pt x="159" y="452"/>
                      </a:lnTo>
                      <a:lnTo>
                        <a:pt x="159" y="453"/>
                      </a:lnTo>
                      <a:lnTo>
                        <a:pt x="160" y="454"/>
                      </a:lnTo>
                      <a:lnTo>
                        <a:pt x="162" y="455"/>
                      </a:lnTo>
                      <a:lnTo>
                        <a:pt x="148" y="454"/>
                      </a:lnTo>
                      <a:close/>
                      <a:moveTo>
                        <a:pt x="831" y="33"/>
                      </a:moveTo>
                      <a:lnTo>
                        <a:pt x="831" y="34"/>
                      </a:lnTo>
                      <a:lnTo>
                        <a:pt x="831" y="36"/>
                      </a:lnTo>
                      <a:lnTo>
                        <a:pt x="831" y="38"/>
                      </a:lnTo>
                      <a:lnTo>
                        <a:pt x="832" y="41"/>
                      </a:lnTo>
                      <a:lnTo>
                        <a:pt x="832" y="43"/>
                      </a:lnTo>
                      <a:lnTo>
                        <a:pt x="832" y="44"/>
                      </a:lnTo>
                      <a:lnTo>
                        <a:pt x="832" y="47"/>
                      </a:lnTo>
                      <a:lnTo>
                        <a:pt x="832" y="49"/>
                      </a:lnTo>
                      <a:lnTo>
                        <a:pt x="833" y="51"/>
                      </a:lnTo>
                      <a:lnTo>
                        <a:pt x="833" y="53"/>
                      </a:lnTo>
                      <a:lnTo>
                        <a:pt x="833" y="56"/>
                      </a:lnTo>
                      <a:lnTo>
                        <a:pt x="834" y="59"/>
                      </a:lnTo>
                      <a:lnTo>
                        <a:pt x="834" y="62"/>
                      </a:lnTo>
                      <a:lnTo>
                        <a:pt x="834" y="64"/>
                      </a:lnTo>
                      <a:lnTo>
                        <a:pt x="834" y="66"/>
                      </a:lnTo>
                      <a:lnTo>
                        <a:pt x="835" y="68"/>
                      </a:lnTo>
                      <a:lnTo>
                        <a:pt x="835" y="71"/>
                      </a:lnTo>
                      <a:lnTo>
                        <a:pt x="836" y="73"/>
                      </a:lnTo>
                      <a:lnTo>
                        <a:pt x="836" y="75"/>
                      </a:lnTo>
                      <a:lnTo>
                        <a:pt x="836" y="78"/>
                      </a:lnTo>
                      <a:lnTo>
                        <a:pt x="836" y="80"/>
                      </a:lnTo>
                      <a:lnTo>
                        <a:pt x="838" y="82"/>
                      </a:lnTo>
                      <a:lnTo>
                        <a:pt x="838" y="85"/>
                      </a:lnTo>
                      <a:lnTo>
                        <a:pt x="838" y="87"/>
                      </a:lnTo>
                      <a:lnTo>
                        <a:pt x="839" y="89"/>
                      </a:lnTo>
                      <a:lnTo>
                        <a:pt x="839" y="92"/>
                      </a:lnTo>
                      <a:lnTo>
                        <a:pt x="839" y="94"/>
                      </a:lnTo>
                      <a:lnTo>
                        <a:pt x="839" y="96"/>
                      </a:lnTo>
                      <a:lnTo>
                        <a:pt x="839" y="99"/>
                      </a:lnTo>
                      <a:lnTo>
                        <a:pt x="839" y="101"/>
                      </a:lnTo>
                      <a:lnTo>
                        <a:pt x="839" y="103"/>
                      </a:lnTo>
                      <a:lnTo>
                        <a:pt x="839" y="104"/>
                      </a:lnTo>
                      <a:lnTo>
                        <a:pt x="840" y="105"/>
                      </a:lnTo>
                      <a:lnTo>
                        <a:pt x="841" y="107"/>
                      </a:lnTo>
                      <a:lnTo>
                        <a:pt x="841" y="108"/>
                      </a:lnTo>
                      <a:lnTo>
                        <a:pt x="842" y="109"/>
                      </a:lnTo>
                      <a:lnTo>
                        <a:pt x="843" y="110"/>
                      </a:lnTo>
                      <a:lnTo>
                        <a:pt x="843" y="112"/>
                      </a:lnTo>
                      <a:lnTo>
                        <a:pt x="844" y="114"/>
                      </a:lnTo>
                      <a:lnTo>
                        <a:pt x="846" y="115"/>
                      </a:lnTo>
                      <a:lnTo>
                        <a:pt x="846" y="116"/>
                      </a:lnTo>
                      <a:lnTo>
                        <a:pt x="847" y="118"/>
                      </a:lnTo>
                      <a:lnTo>
                        <a:pt x="848" y="119"/>
                      </a:lnTo>
                      <a:lnTo>
                        <a:pt x="848" y="122"/>
                      </a:lnTo>
                      <a:lnTo>
                        <a:pt x="849" y="123"/>
                      </a:lnTo>
                      <a:lnTo>
                        <a:pt x="849" y="125"/>
                      </a:lnTo>
                      <a:lnTo>
                        <a:pt x="850" y="126"/>
                      </a:lnTo>
                      <a:lnTo>
                        <a:pt x="850" y="129"/>
                      </a:lnTo>
                      <a:lnTo>
                        <a:pt x="851" y="130"/>
                      </a:lnTo>
                      <a:lnTo>
                        <a:pt x="851" y="132"/>
                      </a:lnTo>
                      <a:lnTo>
                        <a:pt x="853" y="134"/>
                      </a:lnTo>
                      <a:lnTo>
                        <a:pt x="853" y="135"/>
                      </a:lnTo>
                      <a:lnTo>
                        <a:pt x="854" y="138"/>
                      </a:lnTo>
                      <a:lnTo>
                        <a:pt x="854" y="139"/>
                      </a:lnTo>
                      <a:lnTo>
                        <a:pt x="855" y="141"/>
                      </a:lnTo>
                      <a:lnTo>
                        <a:pt x="855" y="144"/>
                      </a:lnTo>
                      <a:lnTo>
                        <a:pt x="855" y="145"/>
                      </a:lnTo>
                      <a:lnTo>
                        <a:pt x="855" y="147"/>
                      </a:lnTo>
                      <a:lnTo>
                        <a:pt x="856" y="148"/>
                      </a:lnTo>
                      <a:lnTo>
                        <a:pt x="856" y="151"/>
                      </a:lnTo>
                      <a:lnTo>
                        <a:pt x="856" y="152"/>
                      </a:lnTo>
                      <a:lnTo>
                        <a:pt x="856" y="153"/>
                      </a:lnTo>
                      <a:lnTo>
                        <a:pt x="856" y="155"/>
                      </a:lnTo>
                      <a:lnTo>
                        <a:pt x="856" y="156"/>
                      </a:lnTo>
                      <a:lnTo>
                        <a:pt x="1071" y="146"/>
                      </a:lnTo>
                      <a:lnTo>
                        <a:pt x="1071" y="144"/>
                      </a:lnTo>
                      <a:lnTo>
                        <a:pt x="1070" y="142"/>
                      </a:lnTo>
                      <a:lnTo>
                        <a:pt x="1070" y="140"/>
                      </a:lnTo>
                      <a:lnTo>
                        <a:pt x="1070" y="139"/>
                      </a:lnTo>
                      <a:lnTo>
                        <a:pt x="1070" y="138"/>
                      </a:lnTo>
                      <a:lnTo>
                        <a:pt x="1070" y="137"/>
                      </a:lnTo>
                      <a:lnTo>
                        <a:pt x="1070" y="135"/>
                      </a:lnTo>
                      <a:lnTo>
                        <a:pt x="1070" y="134"/>
                      </a:lnTo>
                      <a:lnTo>
                        <a:pt x="1071" y="133"/>
                      </a:lnTo>
                      <a:lnTo>
                        <a:pt x="1071" y="132"/>
                      </a:lnTo>
                      <a:lnTo>
                        <a:pt x="1072" y="131"/>
                      </a:lnTo>
                      <a:lnTo>
                        <a:pt x="1073" y="131"/>
                      </a:lnTo>
                      <a:lnTo>
                        <a:pt x="1074" y="131"/>
                      </a:lnTo>
                      <a:lnTo>
                        <a:pt x="1076" y="130"/>
                      </a:lnTo>
                      <a:lnTo>
                        <a:pt x="1077" y="130"/>
                      </a:lnTo>
                      <a:lnTo>
                        <a:pt x="1078" y="130"/>
                      </a:lnTo>
                      <a:lnTo>
                        <a:pt x="1080" y="130"/>
                      </a:lnTo>
                      <a:lnTo>
                        <a:pt x="1081" y="129"/>
                      </a:lnTo>
                      <a:lnTo>
                        <a:pt x="1082" y="130"/>
                      </a:lnTo>
                      <a:lnTo>
                        <a:pt x="1085" y="130"/>
                      </a:lnTo>
                      <a:lnTo>
                        <a:pt x="1086" y="130"/>
                      </a:lnTo>
                      <a:lnTo>
                        <a:pt x="1088" y="130"/>
                      </a:lnTo>
                      <a:lnTo>
                        <a:pt x="1089" y="130"/>
                      </a:lnTo>
                      <a:lnTo>
                        <a:pt x="1092" y="131"/>
                      </a:lnTo>
                      <a:lnTo>
                        <a:pt x="1093" y="131"/>
                      </a:lnTo>
                      <a:lnTo>
                        <a:pt x="1095" y="131"/>
                      </a:lnTo>
                      <a:lnTo>
                        <a:pt x="1096" y="132"/>
                      </a:lnTo>
                      <a:lnTo>
                        <a:pt x="1099" y="132"/>
                      </a:lnTo>
                      <a:lnTo>
                        <a:pt x="1100" y="133"/>
                      </a:lnTo>
                      <a:lnTo>
                        <a:pt x="1102" y="134"/>
                      </a:lnTo>
                      <a:lnTo>
                        <a:pt x="1103" y="134"/>
                      </a:lnTo>
                      <a:lnTo>
                        <a:pt x="1104" y="135"/>
                      </a:lnTo>
                      <a:lnTo>
                        <a:pt x="1104" y="134"/>
                      </a:lnTo>
                      <a:lnTo>
                        <a:pt x="1104" y="133"/>
                      </a:lnTo>
                      <a:lnTo>
                        <a:pt x="1104" y="132"/>
                      </a:lnTo>
                      <a:lnTo>
                        <a:pt x="1104" y="131"/>
                      </a:lnTo>
                      <a:lnTo>
                        <a:pt x="1104" y="130"/>
                      </a:lnTo>
                      <a:lnTo>
                        <a:pt x="1103" y="130"/>
                      </a:lnTo>
                      <a:lnTo>
                        <a:pt x="1103" y="129"/>
                      </a:lnTo>
                      <a:lnTo>
                        <a:pt x="1104" y="127"/>
                      </a:lnTo>
                      <a:lnTo>
                        <a:pt x="1104" y="126"/>
                      </a:lnTo>
                      <a:lnTo>
                        <a:pt x="1104" y="125"/>
                      </a:lnTo>
                      <a:lnTo>
                        <a:pt x="1104" y="124"/>
                      </a:lnTo>
                      <a:lnTo>
                        <a:pt x="1104" y="123"/>
                      </a:lnTo>
                      <a:lnTo>
                        <a:pt x="1106" y="122"/>
                      </a:lnTo>
                      <a:lnTo>
                        <a:pt x="1106" y="120"/>
                      </a:lnTo>
                      <a:lnTo>
                        <a:pt x="1107" y="119"/>
                      </a:lnTo>
                      <a:lnTo>
                        <a:pt x="1108" y="118"/>
                      </a:lnTo>
                      <a:lnTo>
                        <a:pt x="1109" y="117"/>
                      </a:lnTo>
                      <a:lnTo>
                        <a:pt x="1110" y="117"/>
                      </a:lnTo>
                      <a:lnTo>
                        <a:pt x="1111" y="116"/>
                      </a:lnTo>
                      <a:lnTo>
                        <a:pt x="1113" y="116"/>
                      </a:lnTo>
                      <a:lnTo>
                        <a:pt x="1114" y="115"/>
                      </a:lnTo>
                      <a:lnTo>
                        <a:pt x="1115" y="115"/>
                      </a:lnTo>
                      <a:lnTo>
                        <a:pt x="1116" y="115"/>
                      </a:lnTo>
                      <a:lnTo>
                        <a:pt x="1117" y="115"/>
                      </a:lnTo>
                      <a:lnTo>
                        <a:pt x="1119" y="115"/>
                      </a:lnTo>
                      <a:lnTo>
                        <a:pt x="1121" y="115"/>
                      </a:lnTo>
                      <a:lnTo>
                        <a:pt x="1123" y="115"/>
                      </a:lnTo>
                      <a:lnTo>
                        <a:pt x="1124" y="115"/>
                      </a:lnTo>
                      <a:lnTo>
                        <a:pt x="1126" y="115"/>
                      </a:lnTo>
                      <a:lnTo>
                        <a:pt x="1129" y="115"/>
                      </a:lnTo>
                      <a:lnTo>
                        <a:pt x="1126" y="89"/>
                      </a:lnTo>
                      <a:lnTo>
                        <a:pt x="1126" y="87"/>
                      </a:lnTo>
                      <a:lnTo>
                        <a:pt x="1126" y="86"/>
                      </a:lnTo>
                      <a:lnTo>
                        <a:pt x="1125" y="84"/>
                      </a:lnTo>
                      <a:lnTo>
                        <a:pt x="1125" y="81"/>
                      </a:lnTo>
                      <a:lnTo>
                        <a:pt x="1125" y="79"/>
                      </a:lnTo>
                      <a:lnTo>
                        <a:pt x="1125" y="77"/>
                      </a:lnTo>
                      <a:lnTo>
                        <a:pt x="1125" y="74"/>
                      </a:lnTo>
                      <a:lnTo>
                        <a:pt x="1125" y="72"/>
                      </a:lnTo>
                      <a:lnTo>
                        <a:pt x="1125" y="70"/>
                      </a:lnTo>
                      <a:lnTo>
                        <a:pt x="1125" y="67"/>
                      </a:lnTo>
                      <a:lnTo>
                        <a:pt x="1125" y="64"/>
                      </a:lnTo>
                      <a:lnTo>
                        <a:pt x="1124" y="62"/>
                      </a:lnTo>
                      <a:lnTo>
                        <a:pt x="1124" y="58"/>
                      </a:lnTo>
                      <a:lnTo>
                        <a:pt x="1124" y="56"/>
                      </a:lnTo>
                      <a:lnTo>
                        <a:pt x="1124" y="52"/>
                      </a:lnTo>
                      <a:lnTo>
                        <a:pt x="1124" y="50"/>
                      </a:lnTo>
                      <a:lnTo>
                        <a:pt x="1123" y="47"/>
                      </a:lnTo>
                      <a:lnTo>
                        <a:pt x="1123" y="43"/>
                      </a:lnTo>
                      <a:lnTo>
                        <a:pt x="1123" y="41"/>
                      </a:lnTo>
                      <a:lnTo>
                        <a:pt x="1123" y="37"/>
                      </a:lnTo>
                      <a:lnTo>
                        <a:pt x="1122" y="34"/>
                      </a:lnTo>
                      <a:lnTo>
                        <a:pt x="1122" y="30"/>
                      </a:lnTo>
                      <a:lnTo>
                        <a:pt x="1122" y="28"/>
                      </a:lnTo>
                      <a:lnTo>
                        <a:pt x="1122" y="25"/>
                      </a:lnTo>
                      <a:lnTo>
                        <a:pt x="1121" y="21"/>
                      </a:lnTo>
                      <a:lnTo>
                        <a:pt x="1121" y="18"/>
                      </a:lnTo>
                      <a:lnTo>
                        <a:pt x="1119" y="15"/>
                      </a:lnTo>
                      <a:lnTo>
                        <a:pt x="1119" y="12"/>
                      </a:lnTo>
                      <a:lnTo>
                        <a:pt x="1118" y="8"/>
                      </a:lnTo>
                      <a:lnTo>
                        <a:pt x="1118" y="6"/>
                      </a:lnTo>
                      <a:lnTo>
                        <a:pt x="1117" y="3"/>
                      </a:lnTo>
                      <a:lnTo>
                        <a:pt x="1117" y="0"/>
                      </a:lnTo>
                      <a:lnTo>
                        <a:pt x="1114" y="1"/>
                      </a:lnTo>
                      <a:lnTo>
                        <a:pt x="1110" y="4"/>
                      </a:lnTo>
                      <a:lnTo>
                        <a:pt x="1107" y="5"/>
                      </a:lnTo>
                      <a:lnTo>
                        <a:pt x="1103" y="7"/>
                      </a:lnTo>
                      <a:lnTo>
                        <a:pt x="1099" y="8"/>
                      </a:lnTo>
                      <a:lnTo>
                        <a:pt x="1094" y="10"/>
                      </a:lnTo>
                      <a:lnTo>
                        <a:pt x="1091" y="12"/>
                      </a:lnTo>
                      <a:lnTo>
                        <a:pt x="1086" y="13"/>
                      </a:lnTo>
                      <a:lnTo>
                        <a:pt x="1080" y="14"/>
                      </a:lnTo>
                      <a:lnTo>
                        <a:pt x="1076" y="17"/>
                      </a:lnTo>
                      <a:lnTo>
                        <a:pt x="1071" y="18"/>
                      </a:lnTo>
                      <a:lnTo>
                        <a:pt x="1065" y="19"/>
                      </a:lnTo>
                      <a:lnTo>
                        <a:pt x="1061" y="20"/>
                      </a:lnTo>
                      <a:lnTo>
                        <a:pt x="1055" y="21"/>
                      </a:lnTo>
                      <a:lnTo>
                        <a:pt x="1049" y="22"/>
                      </a:lnTo>
                      <a:lnTo>
                        <a:pt x="1043" y="25"/>
                      </a:lnTo>
                      <a:lnTo>
                        <a:pt x="1039" y="26"/>
                      </a:lnTo>
                      <a:lnTo>
                        <a:pt x="1033" y="26"/>
                      </a:lnTo>
                      <a:lnTo>
                        <a:pt x="1027" y="27"/>
                      </a:lnTo>
                      <a:lnTo>
                        <a:pt x="1021" y="28"/>
                      </a:lnTo>
                      <a:lnTo>
                        <a:pt x="1015" y="29"/>
                      </a:lnTo>
                      <a:lnTo>
                        <a:pt x="1010" y="30"/>
                      </a:lnTo>
                      <a:lnTo>
                        <a:pt x="1004" y="32"/>
                      </a:lnTo>
                      <a:lnTo>
                        <a:pt x="999" y="33"/>
                      </a:lnTo>
                      <a:lnTo>
                        <a:pt x="993" y="33"/>
                      </a:lnTo>
                      <a:lnTo>
                        <a:pt x="988" y="34"/>
                      </a:lnTo>
                      <a:lnTo>
                        <a:pt x="983" y="35"/>
                      </a:lnTo>
                      <a:lnTo>
                        <a:pt x="977" y="35"/>
                      </a:lnTo>
                      <a:lnTo>
                        <a:pt x="973" y="36"/>
                      </a:lnTo>
                      <a:lnTo>
                        <a:pt x="968" y="36"/>
                      </a:lnTo>
                      <a:lnTo>
                        <a:pt x="963" y="37"/>
                      </a:lnTo>
                      <a:lnTo>
                        <a:pt x="959" y="37"/>
                      </a:lnTo>
                      <a:lnTo>
                        <a:pt x="955" y="38"/>
                      </a:lnTo>
                      <a:lnTo>
                        <a:pt x="952" y="38"/>
                      </a:lnTo>
                      <a:lnTo>
                        <a:pt x="948" y="38"/>
                      </a:lnTo>
                      <a:lnTo>
                        <a:pt x="945" y="38"/>
                      </a:lnTo>
                      <a:lnTo>
                        <a:pt x="941" y="38"/>
                      </a:lnTo>
                      <a:lnTo>
                        <a:pt x="938" y="38"/>
                      </a:lnTo>
                      <a:lnTo>
                        <a:pt x="933" y="38"/>
                      </a:lnTo>
                      <a:lnTo>
                        <a:pt x="930" y="38"/>
                      </a:lnTo>
                      <a:lnTo>
                        <a:pt x="925" y="38"/>
                      </a:lnTo>
                      <a:lnTo>
                        <a:pt x="922" y="38"/>
                      </a:lnTo>
                      <a:lnTo>
                        <a:pt x="917" y="38"/>
                      </a:lnTo>
                      <a:lnTo>
                        <a:pt x="914" y="38"/>
                      </a:lnTo>
                      <a:lnTo>
                        <a:pt x="909" y="37"/>
                      </a:lnTo>
                      <a:lnTo>
                        <a:pt x="905" y="37"/>
                      </a:lnTo>
                      <a:lnTo>
                        <a:pt x="901" y="37"/>
                      </a:lnTo>
                      <a:lnTo>
                        <a:pt x="896" y="37"/>
                      </a:lnTo>
                      <a:lnTo>
                        <a:pt x="892" y="36"/>
                      </a:lnTo>
                      <a:lnTo>
                        <a:pt x="888" y="36"/>
                      </a:lnTo>
                      <a:lnTo>
                        <a:pt x="884" y="36"/>
                      </a:lnTo>
                      <a:lnTo>
                        <a:pt x="879" y="35"/>
                      </a:lnTo>
                      <a:lnTo>
                        <a:pt x="874" y="35"/>
                      </a:lnTo>
                      <a:lnTo>
                        <a:pt x="871" y="35"/>
                      </a:lnTo>
                      <a:lnTo>
                        <a:pt x="866" y="34"/>
                      </a:lnTo>
                      <a:lnTo>
                        <a:pt x="862" y="34"/>
                      </a:lnTo>
                      <a:lnTo>
                        <a:pt x="858" y="34"/>
                      </a:lnTo>
                      <a:lnTo>
                        <a:pt x="854" y="33"/>
                      </a:lnTo>
                      <a:lnTo>
                        <a:pt x="850" y="33"/>
                      </a:lnTo>
                      <a:lnTo>
                        <a:pt x="846" y="33"/>
                      </a:lnTo>
                      <a:lnTo>
                        <a:pt x="842" y="33"/>
                      </a:lnTo>
                      <a:lnTo>
                        <a:pt x="839" y="33"/>
                      </a:lnTo>
                      <a:lnTo>
                        <a:pt x="834" y="33"/>
                      </a:lnTo>
                      <a:lnTo>
                        <a:pt x="831" y="33"/>
                      </a:lnTo>
                      <a:close/>
                      <a:moveTo>
                        <a:pt x="1100" y="171"/>
                      </a:moveTo>
                      <a:lnTo>
                        <a:pt x="1079" y="187"/>
                      </a:lnTo>
                      <a:lnTo>
                        <a:pt x="783" y="177"/>
                      </a:lnTo>
                      <a:lnTo>
                        <a:pt x="783" y="167"/>
                      </a:lnTo>
                      <a:lnTo>
                        <a:pt x="786" y="166"/>
                      </a:lnTo>
                      <a:lnTo>
                        <a:pt x="788" y="164"/>
                      </a:lnTo>
                      <a:lnTo>
                        <a:pt x="790" y="164"/>
                      </a:lnTo>
                      <a:lnTo>
                        <a:pt x="792" y="163"/>
                      </a:lnTo>
                      <a:lnTo>
                        <a:pt x="795" y="162"/>
                      </a:lnTo>
                      <a:lnTo>
                        <a:pt x="797" y="161"/>
                      </a:lnTo>
                      <a:lnTo>
                        <a:pt x="798" y="161"/>
                      </a:lnTo>
                      <a:lnTo>
                        <a:pt x="801" y="160"/>
                      </a:lnTo>
                      <a:lnTo>
                        <a:pt x="803" y="159"/>
                      </a:lnTo>
                      <a:lnTo>
                        <a:pt x="805" y="159"/>
                      </a:lnTo>
                      <a:lnTo>
                        <a:pt x="807" y="157"/>
                      </a:lnTo>
                      <a:lnTo>
                        <a:pt x="810" y="156"/>
                      </a:lnTo>
                      <a:lnTo>
                        <a:pt x="812" y="156"/>
                      </a:lnTo>
                      <a:lnTo>
                        <a:pt x="813" y="155"/>
                      </a:lnTo>
                      <a:lnTo>
                        <a:pt x="816" y="154"/>
                      </a:lnTo>
                      <a:lnTo>
                        <a:pt x="818" y="153"/>
                      </a:lnTo>
                      <a:lnTo>
                        <a:pt x="820" y="153"/>
                      </a:lnTo>
                      <a:lnTo>
                        <a:pt x="822" y="152"/>
                      </a:lnTo>
                      <a:lnTo>
                        <a:pt x="825" y="151"/>
                      </a:lnTo>
                      <a:lnTo>
                        <a:pt x="827" y="151"/>
                      </a:lnTo>
                      <a:lnTo>
                        <a:pt x="828" y="149"/>
                      </a:lnTo>
                      <a:lnTo>
                        <a:pt x="831" y="148"/>
                      </a:lnTo>
                      <a:lnTo>
                        <a:pt x="833" y="147"/>
                      </a:lnTo>
                      <a:lnTo>
                        <a:pt x="835" y="147"/>
                      </a:lnTo>
                      <a:lnTo>
                        <a:pt x="838" y="146"/>
                      </a:lnTo>
                      <a:lnTo>
                        <a:pt x="840" y="145"/>
                      </a:lnTo>
                      <a:lnTo>
                        <a:pt x="842" y="145"/>
                      </a:lnTo>
                      <a:lnTo>
                        <a:pt x="843" y="144"/>
                      </a:lnTo>
                      <a:lnTo>
                        <a:pt x="846" y="142"/>
                      </a:lnTo>
                      <a:lnTo>
                        <a:pt x="848" y="142"/>
                      </a:lnTo>
                      <a:lnTo>
                        <a:pt x="850" y="141"/>
                      </a:lnTo>
                      <a:lnTo>
                        <a:pt x="853" y="140"/>
                      </a:lnTo>
                      <a:lnTo>
                        <a:pt x="854" y="140"/>
                      </a:lnTo>
                      <a:lnTo>
                        <a:pt x="855" y="140"/>
                      </a:lnTo>
                      <a:lnTo>
                        <a:pt x="855" y="141"/>
                      </a:lnTo>
                      <a:lnTo>
                        <a:pt x="855" y="142"/>
                      </a:lnTo>
                      <a:lnTo>
                        <a:pt x="855" y="144"/>
                      </a:lnTo>
                      <a:lnTo>
                        <a:pt x="855" y="145"/>
                      </a:lnTo>
                      <a:lnTo>
                        <a:pt x="855" y="146"/>
                      </a:lnTo>
                      <a:lnTo>
                        <a:pt x="856" y="147"/>
                      </a:lnTo>
                      <a:lnTo>
                        <a:pt x="856" y="148"/>
                      </a:lnTo>
                      <a:lnTo>
                        <a:pt x="856" y="149"/>
                      </a:lnTo>
                      <a:lnTo>
                        <a:pt x="856" y="151"/>
                      </a:lnTo>
                      <a:lnTo>
                        <a:pt x="856" y="152"/>
                      </a:lnTo>
                      <a:lnTo>
                        <a:pt x="856" y="153"/>
                      </a:lnTo>
                      <a:lnTo>
                        <a:pt x="856" y="154"/>
                      </a:lnTo>
                      <a:lnTo>
                        <a:pt x="856" y="155"/>
                      </a:lnTo>
                      <a:lnTo>
                        <a:pt x="856" y="156"/>
                      </a:lnTo>
                      <a:lnTo>
                        <a:pt x="1071" y="147"/>
                      </a:lnTo>
                      <a:lnTo>
                        <a:pt x="1072" y="148"/>
                      </a:lnTo>
                      <a:lnTo>
                        <a:pt x="1073" y="149"/>
                      </a:lnTo>
                      <a:lnTo>
                        <a:pt x="1074" y="149"/>
                      </a:lnTo>
                      <a:lnTo>
                        <a:pt x="1074" y="151"/>
                      </a:lnTo>
                      <a:lnTo>
                        <a:pt x="1076" y="151"/>
                      </a:lnTo>
                      <a:lnTo>
                        <a:pt x="1077" y="152"/>
                      </a:lnTo>
                      <a:lnTo>
                        <a:pt x="1078" y="153"/>
                      </a:lnTo>
                      <a:lnTo>
                        <a:pt x="1079" y="153"/>
                      </a:lnTo>
                      <a:lnTo>
                        <a:pt x="1080" y="154"/>
                      </a:lnTo>
                      <a:lnTo>
                        <a:pt x="1080" y="155"/>
                      </a:lnTo>
                      <a:lnTo>
                        <a:pt x="1081" y="155"/>
                      </a:lnTo>
                      <a:lnTo>
                        <a:pt x="1082" y="156"/>
                      </a:lnTo>
                      <a:lnTo>
                        <a:pt x="1084" y="156"/>
                      </a:lnTo>
                      <a:lnTo>
                        <a:pt x="1085" y="157"/>
                      </a:lnTo>
                      <a:lnTo>
                        <a:pt x="1086" y="159"/>
                      </a:lnTo>
                      <a:lnTo>
                        <a:pt x="1087" y="159"/>
                      </a:lnTo>
                      <a:lnTo>
                        <a:pt x="1088" y="160"/>
                      </a:lnTo>
                      <a:lnTo>
                        <a:pt x="1089" y="161"/>
                      </a:lnTo>
                      <a:lnTo>
                        <a:pt x="1091" y="161"/>
                      </a:lnTo>
                      <a:lnTo>
                        <a:pt x="1092" y="162"/>
                      </a:lnTo>
                      <a:lnTo>
                        <a:pt x="1093" y="163"/>
                      </a:lnTo>
                      <a:lnTo>
                        <a:pt x="1094" y="163"/>
                      </a:lnTo>
                      <a:lnTo>
                        <a:pt x="1095" y="164"/>
                      </a:lnTo>
                      <a:lnTo>
                        <a:pt x="1096" y="164"/>
                      </a:lnTo>
                      <a:lnTo>
                        <a:pt x="1096" y="166"/>
                      </a:lnTo>
                      <a:lnTo>
                        <a:pt x="1097" y="166"/>
                      </a:lnTo>
                      <a:lnTo>
                        <a:pt x="1099" y="167"/>
                      </a:lnTo>
                      <a:lnTo>
                        <a:pt x="1100" y="17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767560" y="6212160"/>
                  <a:ext cx="257040" cy="68760"/>
                </a:xfrm>
                <a:custGeom>
                  <a:avLst/>
                  <a:gdLst/>
                  <a:ahLst/>
                  <a:rect l="l" t="t" r="r" b="b"/>
                  <a:pathLst>
                    <a:path w="487" h="114">
                      <a:moveTo>
                        <a:pt x="435" y="114"/>
                      </a:moveTo>
                      <a:lnTo>
                        <a:pt x="487" y="80"/>
                      </a:lnTo>
                      <a:lnTo>
                        <a:pt x="483" y="77"/>
                      </a:lnTo>
                      <a:lnTo>
                        <a:pt x="477" y="72"/>
                      </a:lnTo>
                      <a:lnTo>
                        <a:pt x="471" y="67"/>
                      </a:lnTo>
                      <a:lnTo>
                        <a:pt x="465" y="63"/>
                      </a:lnTo>
                      <a:lnTo>
                        <a:pt x="460" y="57"/>
                      </a:lnTo>
                      <a:lnTo>
                        <a:pt x="454" y="52"/>
                      </a:lnTo>
                      <a:lnTo>
                        <a:pt x="448" y="48"/>
                      </a:lnTo>
                      <a:lnTo>
                        <a:pt x="445" y="43"/>
                      </a:lnTo>
                      <a:lnTo>
                        <a:pt x="128" y="0"/>
                      </a:lnTo>
                      <a:lnTo>
                        <a:pt x="41" y="35"/>
                      </a:lnTo>
                      <a:lnTo>
                        <a:pt x="37" y="35"/>
                      </a:lnTo>
                      <a:lnTo>
                        <a:pt x="31" y="35"/>
                      </a:lnTo>
                      <a:lnTo>
                        <a:pt x="25" y="35"/>
                      </a:lnTo>
                      <a:lnTo>
                        <a:pt x="19" y="35"/>
                      </a:lnTo>
                      <a:lnTo>
                        <a:pt x="14" y="34"/>
                      </a:lnTo>
                      <a:lnTo>
                        <a:pt x="8" y="34"/>
                      </a:lnTo>
                      <a:lnTo>
                        <a:pt x="3" y="33"/>
                      </a:lnTo>
                      <a:lnTo>
                        <a:pt x="0" y="32"/>
                      </a:lnTo>
                      <a:lnTo>
                        <a:pt x="13" y="47"/>
                      </a:lnTo>
                      <a:lnTo>
                        <a:pt x="0" y="52"/>
                      </a:lnTo>
                      <a:lnTo>
                        <a:pt x="0" y="57"/>
                      </a:lnTo>
                      <a:lnTo>
                        <a:pt x="435" y="11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426280" y="6171840"/>
                  <a:ext cx="171360" cy="56520"/>
                </a:xfrm>
                <a:custGeom>
                  <a:avLst/>
                  <a:gdLst/>
                  <a:ahLst/>
                  <a:rect l="l" t="t" r="r" b="b"/>
                  <a:pathLst>
                    <a:path w="323" h="94">
                      <a:moveTo>
                        <a:pt x="0" y="33"/>
                      </a:moveTo>
                      <a:lnTo>
                        <a:pt x="8" y="36"/>
                      </a:lnTo>
                      <a:lnTo>
                        <a:pt x="16" y="36"/>
                      </a:lnTo>
                      <a:lnTo>
                        <a:pt x="27" y="34"/>
                      </a:lnTo>
                      <a:lnTo>
                        <a:pt x="37" y="31"/>
                      </a:lnTo>
                      <a:lnTo>
                        <a:pt x="48" y="27"/>
                      </a:lnTo>
                      <a:lnTo>
                        <a:pt x="59" y="22"/>
                      </a:lnTo>
                      <a:lnTo>
                        <a:pt x="70" y="18"/>
                      </a:lnTo>
                      <a:lnTo>
                        <a:pt x="79" y="14"/>
                      </a:lnTo>
                      <a:lnTo>
                        <a:pt x="90" y="13"/>
                      </a:lnTo>
                      <a:lnTo>
                        <a:pt x="107" y="14"/>
                      </a:lnTo>
                      <a:lnTo>
                        <a:pt x="126" y="17"/>
                      </a:lnTo>
                      <a:lnTo>
                        <a:pt x="148" y="19"/>
                      </a:lnTo>
                      <a:lnTo>
                        <a:pt x="170" y="21"/>
                      </a:lnTo>
                      <a:lnTo>
                        <a:pt x="190" y="22"/>
                      </a:lnTo>
                      <a:lnTo>
                        <a:pt x="206" y="21"/>
                      </a:lnTo>
                      <a:lnTo>
                        <a:pt x="215" y="17"/>
                      </a:lnTo>
                      <a:lnTo>
                        <a:pt x="222" y="13"/>
                      </a:lnTo>
                      <a:lnTo>
                        <a:pt x="228" y="9"/>
                      </a:lnTo>
                      <a:lnTo>
                        <a:pt x="232" y="4"/>
                      </a:lnTo>
                      <a:lnTo>
                        <a:pt x="236" y="0"/>
                      </a:lnTo>
                      <a:lnTo>
                        <a:pt x="237" y="5"/>
                      </a:lnTo>
                      <a:lnTo>
                        <a:pt x="237" y="11"/>
                      </a:lnTo>
                      <a:lnTo>
                        <a:pt x="236" y="17"/>
                      </a:lnTo>
                      <a:lnTo>
                        <a:pt x="235" y="22"/>
                      </a:lnTo>
                      <a:lnTo>
                        <a:pt x="246" y="22"/>
                      </a:lnTo>
                      <a:lnTo>
                        <a:pt x="258" y="22"/>
                      </a:lnTo>
                      <a:lnTo>
                        <a:pt x="269" y="22"/>
                      </a:lnTo>
                      <a:lnTo>
                        <a:pt x="280" y="22"/>
                      </a:lnTo>
                      <a:lnTo>
                        <a:pt x="291" y="22"/>
                      </a:lnTo>
                      <a:lnTo>
                        <a:pt x="302" y="21"/>
                      </a:lnTo>
                      <a:lnTo>
                        <a:pt x="312" y="19"/>
                      </a:lnTo>
                      <a:lnTo>
                        <a:pt x="323" y="15"/>
                      </a:lnTo>
                      <a:lnTo>
                        <a:pt x="321" y="25"/>
                      </a:lnTo>
                      <a:lnTo>
                        <a:pt x="314" y="35"/>
                      </a:lnTo>
                      <a:lnTo>
                        <a:pt x="304" y="46"/>
                      </a:lnTo>
                      <a:lnTo>
                        <a:pt x="293" y="57"/>
                      </a:lnTo>
                      <a:lnTo>
                        <a:pt x="279" y="67"/>
                      </a:lnTo>
                      <a:lnTo>
                        <a:pt x="265" y="78"/>
                      </a:lnTo>
                      <a:lnTo>
                        <a:pt x="252" y="86"/>
                      </a:lnTo>
                      <a:lnTo>
                        <a:pt x="242" y="94"/>
                      </a:lnTo>
                      <a:lnTo>
                        <a:pt x="228" y="93"/>
                      </a:lnTo>
                      <a:lnTo>
                        <a:pt x="215" y="93"/>
                      </a:lnTo>
                      <a:lnTo>
                        <a:pt x="202" y="92"/>
                      </a:lnTo>
                      <a:lnTo>
                        <a:pt x="190" y="92"/>
                      </a:lnTo>
                      <a:lnTo>
                        <a:pt x="177" y="91"/>
                      </a:lnTo>
                      <a:lnTo>
                        <a:pt x="163" y="89"/>
                      </a:lnTo>
                      <a:lnTo>
                        <a:pt x="150" y="89"/>
                      </a:lnTo>
                      <a:lnTo>
                        <a:pt x="138" y="88"/>
                      </a:lnTo>
                      <a:lnTo>
                        <a:pt x="125" y="88"/>
                      </a:lnTo>
                      <a:lnTo>
                        <a:pt x="112" y="87"/>
                      </a:lnTo>
                      <a:lnTo>
                        <a:pt x="98" y="87"/>
                      </a:lnTo>
                      <a:lnTo>
                        <a:pt x="86" y="86"/>
                      </a:lnTo>
                      <a:lnTo>
                        <a:pt x="73" y="86"/>
                      </a:lnTo>
                      <a:lnTo>
                        <a:pt x="60" y="85"/>
                      </a:lnTo>
                      <a:lnTo>
                        <a:pt x="46" y="85"/>
                      </a:lnTo>
                      <a:lnTo>
                        <a:pt x="34" y="84"/>
                      </a:lnTo>
                      <a:lnTo>
                        <a:pt x="34" y="78"/>
                      </a:lnTo>
                      <a:lnTo>
                        <a:pt x="31" y="72"/>
                      </a:lnTo>
                      <a:lnTo>
                        <a:pt x="29" y="66"/>
                      </a:lnTo>
                      <a:lnTo>
                        <a:pt x="24" y="62"/>
                      </a:lnTo>
                      <a:lnTo>
                        <a:pt x="20" y="56"/>
                      </a:lnTo>
                      <a:lnTo>
                        <a:pt x="14" y="49"/>
                      </a:lnTo>
                      <a:lnTo>
                        <a:pt x="7" y="42"/>
                      </a:lnTo>
                      <a:lnTo>
                        <a:pt x="0" y="3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5280120" y="6250320"/>
                  <a:ext cx="146160" cy="91440"/>
                </a:xfrm>
                <a:custGeom>
                  <a:avLst/>
                  <a:gdLst/>
                  <a:ahLst/>
                  <a:rect l="l" t="t" r="r" b="b"/>
                  <a:pathLst>
                    <a:path w="277" h="149">
                      <a:moveTo>
                        <a:pt x="5" y="123"/>
                      </a:moveTo>
                      <a:lnTo>
                        <a:pt x="8" y="126"/>
                      </a:lnTo>
                      <a:lnTo>
                        <a:pt x="13" y="127"/>
                      </a:lnTo>
                      <a:lnTo>
                        <a:pt x="17" y="123"/>
                      </a:lnTo>
                      <a:lnTo>
                        <a:pt x="19" y="114"/>
                      </a:lnTo>
                      <a:lnTo>
                        <a:pt x="19" y="108"/>
                      </a:lnTo>
                      <a:lnTo>
                        <a:pt x="20" y="103"/>
                      </a:lnTo>
                      <a:lnTo>
                        <a:pt x="20" y="98"/>
                      </a:lnTo>
                      <a:lnTo>
                        <a:pt x="21" y="92"/>
                      </a:lnTo>
                      <a:lnTo>
                        <a:pt x="21" y="88"/>
                      </a:lnTo>
                      <a:lnTo>
                        <a:pt x="22" y="83"/>
                      </a:lnTo>
                      <a:lnTo>
                        <a:pt x="22" y="78"/>
                      </a:lnTo>
                      <a:lnTo>
                        <a:pt x="22" y="75"/>
                      </a:lnTo>
                      <a:lnTo>
                        <a:pt x="19" y="66"/>
                      </a:lnTo>
                      <a:lnTo>
                        <a:pt x="15" y="59"/>
                      </a:lnTo>
                      <a:lnTo>
                        <a:pt x="13" y="53"/>
                      </a:lnTo>
                      <a:lnTo>
                        <a:pt x="12" y="48"/>
                      </a:lnTo>
                      <a:lnTo>
                        <a:pt x="9" y="44"/>
                      </a:lnTo>
                      <a:lnTo>
                        <a:pt x="8" y="40"/>
                      </a:lnTo>
                      <a:lnTo>
                        <a:pt x="7" y="38"/>
                      </a:lnTo>
                      <a:lnTo>
                        <a:pt x="6" y="35"/>
                      </a:lnTo>
                      <a:lnTo>
                        <a:pt x="153" y="39"/>
                      </a:lnTo>
                      <a:lnTo>
                        <a:pt x="164" y="39"/>
                      </a:lnTo>
                      <a:lnTo>
                        <a:pt x="175" y="37"/>
                      </a:lnTo>
                      <a:lnTo>
                        <a:pt x="184" y="33"/>
                      </a:lnTo>
                      <a:lnTo>
                        <a:pt x="193" y="29"/>
                      </a:lnTo>
                      <a:lnTo>
                        <a:pt x="202" y="23"/>
                      </a:lnTo>
                      <a:lnTo>
                        <a:pt x="211" y="16"/>
                      </a:lnTo>
                      <a:lnTo>
                        <a:pt x="220" y="8"/>
                      </a:lnTo>
                      <a:lnTo>
                        <a:pt x="228" y="0"/>
                      </a:lnTo>
                      <a:lnTo>
                        <a:pt x="240" y="15"/>
                      </a:lnTo>
                      <a:lnTo>
                        <a:pt x="244" y="14"/>
                      </a:lnTo>
                      <a:lnTo>
                        <a:pt x="247" y="13"/>
                      </a:lnTo>
                      <a:lnTo>
                        <a:pt x="251" y="11"/>
                      </a:lnTo>
                      <a:lnTo>
                        <a:pt x="253" y="10"/>
                      </a:lnTo>
                      <a:lnTo>
                        <a:pt x="254" y="14"/>
                      </a:lnTo>
                      <a:lnTo>
                        <a:pt x="255" y="18"/>
                      </a:lnTo>
                      <a:lnTo>
                        <a:pt x="255" y="24"/>
                      </a:lnTo>
                      <a:lnTo>
                        <a:pt x="254" y="30"/>
                      </a:lnTo>
                      <a:lnTo>
                        <a:pt x="253" y="35"/>
                      </a:lnTo>
                      <a:lnTo>
                        <a:pt x="252" y="40"/>
                      </a:lnTo>
                      <a:lnTo>
                        <a:pt x="251" y="45"/>
                      </a:lnTo>
                      <a:lnTo>
                        <a:pt x="250" y="50"/>
                      </a:lnTo>
                      <a:lnTo>
                        <a:pt x="277" y="55"/>
                      </a:lnTo>
                      <a:lnTo>
                        <a:pt x="144" y="149"/>
                      </a:lnTo>
                      <a:lnTo>
                        <a:pt x="128" y="148"/>
                      </a:lnTo>
                      <a:lnTo>
                        <a:pt x="111" y="147"/>
                      </a:lnTo>
                      <a:lnTo>
                        <a:pt x="92" y="144"/>
                      </a:lnTo>
                      <a:lnTo>
                        <a:pt x="74" y="143"/>
                      </a:lnTo>
                      <a:lnTo>
                        <a:pt x="56" y="141"/>
                      </a:lnTo>
                      <a:lnTo>
                        <a:pt x="36" y="138"/>
                      </a:lnTo>
                      <a:lnTo>
                        <a:pt x="17" y="137"/>
                      </a:lnTo>
                      <a:lnTo>
                        <a:pt x="0" y="136"/>
                      </a:lnTo>
                      <a:lnTo>
                        <a:pt x="2" y="134"/>
                      </a:lnTo>
                      <a:lnTo>
                        <a:pt x="4" y="132"/>
                      </a:lnTo>
                      <a:lnTo>
                        <a:pt x="5" y="128"/>
                      </a:lnTo>
                      <a:lnTo>
                        <a:pt x="5" y="12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185080" y="6309000"/>
                  <a:ext cx="68040" cy="23400"/>
                </a:xfrm>
                <a:custGeom>
                  <a:avLst/>
                  <a:gdLst/>
                  <a:ahLst/>
                  <a:rect l="l" t="t" r="r" b="b"/>
                  <a:pathLst>
                    <a:path w="128" h="40">
                      <a:moveTo>
                        <a:pt x="0" y="25"/>
                      </a:moveTo>
                      <a:lnTo>
                        <a:pt x="6" y="24"/>
                      </a:lnTo>
                      <a:lnTo>
                        <a:pt x="10" y="23"/>
                      </a:lnTo>
                      <a:lnTo>
                        <a:pt x="16" y="22"/>
                      </a:lnTo>
                      <a:lnTo>
                        <a:pt x="21" y="19"/>
                      </a:lnTo>
                      <a:lnTo>
                        <a:pt x="26" y="17"/>
                      </a:lnTo>
                      <a:lnTo>
                        <a:pt x="32" y="14"/>
                      </a:lnTo>
                      <a:lnTo>
                        <a:pt x="38" y="10"/>
                      </a:lnTo>
                      <a:lnTo>
                        <a:pt x="44" y="7"/>
                      </a:lnTo>
                      <a:lnTo>
                        <a:pt x="47" y="8"/>
                      </a:lnTo>
                      <a:lnTo>
                        <a:pt x="52" y="9"/>
                      </a:lnTo>
                      <a:lnTo>
                        <a:pt x="58" y="9"/>
                      </a:lnTo>
                      <a:lnTo>
                        <a:pt x="63" y="8"/>
                      </a:lnTo>
                      <a:lnTo>
                        <a:pt x="69" y="7"/>
                      </a:lnTo>
                      <a:lnTo>
                        <a:pt x="75" y="4"/>
                      </a:lnTo>
                      <a:lnTo>
                        <a:pt x="80" y="2"/>
                      </a:lnTo>
                      <a:lnTo>
                        <a:pt x="83" y="0"/>
                      </a:lnTo>
                      <a:lnTo>
                        <a:pt x="88" y="6"/>
                      </a:lnTo>
                      <a:lnTo>
                        <a:pt x="99" y="10"/>
                      </a:lnTo>
                      <a:lnTo>
                        <a:pt x="110" y="14"/>
                      </a:lnTo>
                      <a:lnTo>
                        <a:pt x="115" y="15"/>
                      </a:lnTo>
                      <a:lnTo>
                        <a:pt x="119" y="23"/>
                      </a:lnTo>
                      <a:lnTo>
                        <a:pt x="122" y="31"/>
                      </a:lnTo>
                      <a:lnTo>
                        <a:pt x="125" y="37"/>
                      </a:lnTo>
                      <a:lnTo>
                        <a:pt x="128" y="40"/>
                      </a:lnTo>
                      <a:lnTo>
                        <a:pt x="120" y="40"/>
                      </a:lnTo>
                      <a:lnTo>
                        <a:pt x="112" y="39"/>
                      </a:lnTo>
                      <a:lnTo>
                        <a:pt x="104" y="38"/>
                      </a:lnTo>
                      <a:lnTo>
                        <a:pt x="96" y="37"/>
                      </a:lnTo>
                      <a:lnTo>
                        <a:pt x="88" y="37"/>
                      </a:lnTo>
                      <a:lnTo>
                        <a:pt x="80" y="36"/>
                      </a:lnTo>
                      <a:lnTo>
                        <a:pt x="71" y="34"/>
                      </a:lnTo>
                      <a:lnTo>
                        <a:pt x="63" y="33"/>
                      </a:lnTo>
                      <a:lnTo>
                        <a:pt x="55" y="33"/>
                      </a:lnTo>
                      <a:lnTo>
                        <a:pt x="47" y="32"/>
                      </a:lnTo>
                      <a:lnTo>
                        <a:pt x="39" y="31"/>
                      </a:lnTo>
                      <a:lnTo>
                        <a:pt x="31" y="30"/>
                      </a:lnTo>
                      <a:lnTo>
                        <a:pt x="24" y="29"/>
                      </a:lnTo>
                      <a:lnTo>
                        <a:pt x="16" y="27"/>
                      </a:lnTo>
                      <a:lnTo>
                        <a:pt x="8" y="26"/>
                      </a:lnTo>
                      <a:lnTo>
                        <a:pt x="0" y="2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261040" y="6309000"/>
                  <a:ext cx="9720" cy="2520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4" y="40"/>
                      </a:moveTo>
                      <a:lnTo>
                        <a:pt x="4" y="36"/>
                      </a:lnTo>
                      <a:lnTo>
                        <a:pt x="5" y="31"/>
                      </a:lnTo>
                      <a:lnTo>
                        <a:pt x="5" y="24"/>
                      </a:lnTo>
                      <a:lnTo>
                        <a:pt x="5" y="18"/>
                      </a:lnTo>
                      <a:lnTo>
                        <a:pt x="4" y="13"/>
                      </a:lnTo>
                      <a:lnTo>
                        <a:pt x="3" y="7"/>
                      </a:ln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7" y="3"/>
                      </a:lnTo>
                      <a:lnTo>
                        <a:pt x="7" y="5"/>
                      </a:lnTo>
                      <a:lnTo>
                        <a:pt x="8" y="8"/>
                      </a:lnTo>
                      <a:lnTo>
                        <a:pt x="9" y="13"/>
                      </a:lnTo>
                      <a:lnTo>
                        <a:pt x="9" y="20"/>
                      </a:lnTo>
                      <a:lnTo>
                        <a:pt x="11" y="25"/>
                      </a:lnTo>
                      <a:lnTo>
                        <a:pt x="13" y="31"/>
                      </a:lnTo>
                      <a:lnTo>
                        <a:pt x="14" y="37"/>
                      </a:lnTo>
                      <a:lnTo>
                        <a:pt x="18" y="41"/>
                      </a:lnTo>
                      <a:lnTo>
                        <a:pt x="4" y="4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624640" y="6057000"/>
                  <a:ext cx="157320" cy="94680"/>
                </a:xfrm>
                <a:custGeom>
                  <a:avLst/>
                  <a:gdLst/>
                  <a:ahLst/>
                  <a:rect l="l" t="t" r="r" b="b"/>
                  <a:pathLst>
                    <a:path w="298" h="156">
                      <a:moveTo>
                        <a:pt x="0" y="33"/>
                      </a:moveTo>
                      <a:lnTo>
                        <a:pt x="1" y="41"/>
                      </a:lnTo>
                      <a:lnTo>
                        <a:pt x="1" y="49"/>
                      </a:lnTo>
                      <a:lnTo>
                        <a:pt x="3" y="59"/>
                      </a:lnTo>
                      <a:lnTo>
                        <a:pt x="4" y="68"/>
                      </a:lnTo>
                      <a:lnTo>
                        <a:pt x="5" y="78"/>
                      </a:lnTo>
                      <a:lnTo>
                        <a:pt x="7" y="87"/>
                      </a:lnTo>
                      <a:lnTo>
                        <a:pt x="8" y="96"/>
                      </a:lnTo>
                      <a:lnTo>
                        <a:pt x="8" y="104"/>
                      </a:lnTo>
                      <a:lnTo>
                        <a:pt x="11" y="109"/>
                      </a:lnTo>
                      <a:lnTo>
                        <a:pt x="15" y="115"/>
                      </a:lnTo>
                      <a:lnTo>
                        <a:pt x="17" y="122"/>
                      </a:lnTo>
                      <a:lnTo>
                        <a:pt x="19" y="129"/>
                      </a:lnTo>
                      <a:lnTo>
                        <a:pt x="22" y="135"/>
                      </a:lnTo>
                      <a:lnTo>
                        <a:pt x="24" y="144"/>
                      </a:lnTo>
                      <a:lnTo>
                        <a:pt x="25" y="151"/>
                      </a:lnTo>
                      <a:lnTo>
                        <a:pt x="25" y="156"/>
                      </a:lnTo>
                      <a:lnTo>
                        <a:pt x="240" y="146"/>
                      </a:lnTo>
                      <a:lnTo>
                        <a:pt x="239" y="139"/>
                      </a:lnTo>
                      <a:lnTo>
                        <a:pt x="239" y="134"/>
                      </a:lnTo>
                      <a:lnTo>
                        <a:pt x="242" y="131"/>
                      </a:lnTo>
                      <a:lnTo>
                        <a:pt x="247" y="130"/>
                      </a:lnTo>
                      <a:lnTo>
                        <a:pt x="254" y="130"/>
                      </a:lnTo>
                      <a:lnTo>
                        <a:pt x="261" y="131"/>
                      </a:lnTo>
                      <a:lnTo>
                        <a:pt x="268" y="132"/>
                      </a:lnTo>
                      <a:lnTo>
                        <a:pt x="273" y="135"/>
                      </a:lnTo>
                      <a:lnTo>
                        <a:pt x="273" y="127"/>
                      </a:lnTo>
                      <a:lnTo>
                        <a:pt x="276" y="119"/>
                      </a:lnTo>
                      <a:lnTo>
                        <a:pt x="284" y="115"/>
                      </a:lnTo>
                      <a:lnTo>
                        <a:pt x="298" y="115"/>
                      </a:lnTo>
                      <a:lnTo>
                        <a:pt x="295" y="89"/>
                      </a:lnTo>
                      <a:lnTo>
                        <a:pt x="294" y="81"/>
                      </a:lnTo>
                      <a:lnTo>
                        <a:pt x="294" y="72"/>
                      </a:lnTo>
                      <a:lnTo>
                        <a:pt x="293" y="62"/>
                      </a:lnTo>
                      <a:lnTo>
                        <a:pt x="293" y="50"/>
                      </a:lnTo>
                      <a:lnTo>
                        <a:pt x="292" y="37"/>
                      </a:lnTo>
                      <a:lnTo>
                        <a:pt x="291" y="25"/>
                      </a:lnTo>
                      <a:lnTo>
                        <a:pt x="288" y="12"/>
                      </a:lnTo>
                      <a:lnTo>
                        <a:pt x="286" y="0"/>
                      </a:lnTo>
                      <a:lnTo>
                        <a:pt x="272" y="7"/>
                      </a:lnTo>
                      <a:lnTo>
                        <a:pt x="255" y="13"/>
                      </a:lnTo>
                      <a:lnTo>
                        <a:pt x="234" y="19"/>
                      </a:lnTo>
                      <a:lnTo>
                        <a:pt x="212" y="25"/>
                      </a:lnTo>
                      <a:lnTo>
                        <a:pt x="190" y="28"/>
                      </a:lnTo>
                      <a:lnTo>
                        <a:pt x="168" y="33"/>
                      </a:lnTo>
                      <a:lnTo>
                        <a:pt x="146" y="35"/>
                      </a:lnTo>
                      <a:lnTo>
                        <a:pt x="128" y="37"/>
                      </a:lnTo>
                      <a:lnTo>
                        <a:pt x="114" y="38"/>
                      </a:lnTo>
                      <a:lnTo>
                        <a:pt x="99" y="38"/>
                      </a:lnTo>
                      <a:lnTo>
                        <a:pt x="83" y="38"/>
                      </a:lnTo>
                      <a:lnTo>
                        <a:pt x="65" y="37"/>
                      </a:lnTo>
                      <a:lnTo>
                        <a:pt x="48" y="35"/>
                      </a:lnTo>
                      <a:lnTo>
                        <a:pt x="31" y="34"/>
                      </a:lnTo>
                      <a:lnTo>
                        <a:pt x="15" y="33"/>
                      </a:lnTo>
                      <a:lnTo>
                        <a:pt x="0" y="3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599080" y="6142680"/>
                  <a:ext cx="168480" cy="29160"/>
                </a:xfrm>
                <a:custGeom>
                  <a:avLst/>
                  <a:gdLst/>
                  <a:ahLst/>
                  <a:rect l="l" t="t" r="r" b="b"/>
                  <a:pathLst>
                    <a:path w="317" h="47">
                      <a:moveTo>
                        <a:pt x="317" y="31"/>
                      </a:moveTo>
                      <a:lnTo>
                        <a:pt x="296" y="47"/>
                      </a:lnTo>
                      <a:lnTo>
                        <a:pt x="0" y="37"/>
                      </a:lnTo>
                      <a:lnTo>
                        <a:pt x="0" y="27"/>
                      </a:lnTo>
                      <a:lnTo>
                        <a:pt x="9" y="23"/>
                      </a:lnTo>
                      <a:lnTo>
                        <a:pt x="18" y="20"/>
                      </a:lnTo>
                      <a:lnTo>
                        <a:pt x="27" y="16"/>
                      </a:lnTo>
                      <a:lnTo>
                        <a:pt x="35" y="13"/>
                      </a:lnTo>
                      <a:lnTo>
                        <a:pt x="44" y="11"/>
                      </a:lnTo>
                      <a:lnTo>
                        <a:pt x="52" y="7"/>
                      </a:lnTo>
                      <a:lnTo>
                        <a:pt x="60" y="4"/>
                      </a:lnTo>
                      <a:lnTo>
                        <a:pt x="70" y="0"/>
                      </a:lnTo>
                      <a:lnTo>
                        <a:pt x="71" y="0"/>
                      </a:lnTo>
                      <a:lnTo>
                        <a:pt x="72" y="0"/>
                      </a:lnTo>
                      <a:lnTo>
                        <a:pt x="72" y="5"/>
                      </a:lnTo>
                      <a:lnTo>
                        <a:pt x="73" y="8"/>
                      </a:lnTo>
                      <a:lnTo>
                        <a:pt x="73" y="13"/>
                      </a:lnTo>
                      <a:lnTo>
                        <a:pt x="73" y="16"/>
                      </a:lnTo>
                      <a:lnTo>
                        <a:pt x="288" y="7"/>
                      </a:lnTo>
                      <a:lnTo>
                        <a:pt x="294" y="12"/>
                      </a:lnTo>
                      <a:lnTo>
                        <a:pt x="301" y="16"/>
                      </a:lnTo>
                      <a:lnTo>
                        <a:pt x="309" y="22"/>
                      </a:lnTo>
                      <a:lnTo>
                        <a:pt x="316" y="27"/>
                      </a:lnTo>
                      <a:lnTo>
                        <a:pt x="317" y="31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126040" y="6184800"/>
                  <a:ext cx="47880" cy="63720"/>
                </a:xfrm>
                <a:custGeom>
                  <a:avLst/>
                  <a:gdLst/>
                  <a:ahLst/>
                  <a:rect l="l" t="t" r="r" b="b"/>
                  <a:pathLst>
                    <a:path w="88" h="105">
                      <a:moveTo>
                        <a:pt x="17" y="0"/>
                      </a:moveTo>
                      <a:lnTo>
                        <a:pt x="88" y="71"/>
                      </a:lnTo>
                      <a:lnTo>
                        <a:pt x="0" y="105"/>
                      </a:lnTo>
                      <a:lnTo>
                        <a:pt x="0" y="104"/>
                      </a:lnTo>
                      <a:lnTo>
                        <a:pt x="0" y="102"/>
                      </a:lnTo>
                      <a:lnTo>
                        <a:pt x="0" y="101"/>
                      </a:lnTo>
                      <a:lnTo>
                        <a:pt x="0" y="100"/>
                      </a:lnTo>
                      <a:lnTo>
                        <a:pt x="1" y="97"/>
                      </a:lnTo>
                      <a:lnTo>
                        <a:pt x="1" y="96"/>
                      </a:lnTo>
                      <a:lnTo>
                        <a:pt x="1" y="95"/>
                      </a:lnTo>
                      <a:lnTo>
                        <a:pt x="1" y="94"/>
                      </a:lnTo>
                      <a:lnTo>
                        <a:pt x="2" y="92"/>
                      </a:lnTo>
                      <a:lnTo>
                        <a:pt x="2" y="90"/>
                      </a:lnTo>
                      <a:lnTo>
                        <a:pt x="2" y="89"/>
                      </a:lnTo>
                      <a:lnTo>
                        <a:pt x="3" y="87"/>
                      </a:lnTo>
                      <a:lnTo>
                        <a:pt x="3" y="86"/>
                      </a:lnTo>
                      <a:lnTo>
                        <a:pt x="5" y="85"/>
                      </a:lnTo>
                      <a:lnTo>
                        <a:pt x="5" y="83"/>
                      </a:lnTo>
                      <a:lnTo>
                        <a:pt x="6" y="81"/>
                      </a:lnTo>
                      <a:lnTo>
                        <a:pt x="6" y="80"/>
                      </a:lnTo>
                      <a:lnTo>
                        <a:pt x="7" y="79"/>
                      </a:lnTo>
                      <a:lnTo>
                        <a:pt x="7" y="78"/>
                      </a:lnTo>
                      <a:lnTo>
                        <a:pt x="8" y="75"/>
                      </a:lnTo>
                      <a:lnTo>
                        <a:pt x="9" y="74"/>
                      </a:lnTo>
                      <a:lnTo>
                        <a:pt x="9" y="73"/>
                      </a:lnTo>
                      <a:lnTo>
                        <a:pt x="10" y="72"/>
                      </a:lnTo>
                      <a:lnTo>
                        <a:pt x="12" y="71"/>
                      </a:lnTo>
                      <a:lnTo>
                        <a:pt x="12" y="70"/>
                      </a:lnTo>
                      <a:lnTo>
                        <a:pt x="13" y="68"/>
                      </a:lnTo>
                      <a:lnTo>
                        <a:pt x="14" y="67"/>
                      </a:lnTo>
                      <a:lnTo>
                        <a:pt x="14" y="66"/>
                      </a:lnTo>
                      <a:lnTo>
                        <a:pt x="15" y="65"/>
                      </a:lnTo>
                      <a:lnTo>
                        <a:pt x="16" y="64"/>
                      </a:lnTo>
                      <a:lnTo>
                        <a:pt x="16" y="63"/>
                      </a:lnTo>
                      <a:lnTo>
                        <a:pt x="17" y="6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126040" y="6184800"/>
                  <a:ext cx="47880" cy="63720"/>
                </a:xfrm>
                <a:custGeom>
                  <a:avLst/>
                  <a:gdLst/>
                  <a:ahLst/>
                  <a:rect l="l" t="t" r="r" b="b"/>
                  <a:pathLst>
                    <a:path w="88" h="105">
                      <a:moveTo>
                        <a:pt x="17" y="0"/>
                      </a:moveTo>
                      <a:lnTo>
                        <a:pt x="88" y="71"/>
                      </a:lnTo>
                      <a:lnTo>
                        <a:pt x="0" y="105"/>
                      </a:lnTo>
                      <a:lnTo>
                        <a:pt x="0" y="100"/>
                      </a:lnTo>
                      <a:lnTo>
                        <a:pt x="1" y="94"/>
                      </a:lnTo>
                      <a:lnTo>
                        <a:pt x="3" y="87"/>
                      </a:lnTo>
                      <a:lnTo>
                        <a:pt x="6" y="81"/>
                      </a:lnTo>
                      <a:lnTo>
                        <a:pt x="8" y="75"/>
                      </a:lnTo>
                      <a:lnTo>
                        <a:pt x="12" y="71"/>
                      </a:lnTo>
                      <a:lnTo>
                        <a:pt x="14" y="66"/>
                      </a:lnTo>
                      <a:lnTo>
                        <a:pt x="17" y="61"/>
                      </a:lnTo>
                      <a:lnTo>
                        <a:pt x="17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110200" y="6226560"/>
                  <a:ext cx="120600" cy="29160"/>
                </a:xfrm>
                <a:custGeom>
                  <a:avLst/>
                  <a:gdLst/>
                  <a:ahLst/>
                  <a:rect l="l" t="t" r="r" b="b"/>
                  <a:pathLst>
                    <a:path w="228" h="47">
                      <a:moveTo>
                        <a:pt x="0" y="47"/>
                      </a:moveTo>
                      <a:lnTo>
                        <a:pt x="121" y="0"/>
                      </a:lnTo>
                      <a:lnTo>
                        <a:pt x="228" y="1"/>
                      </a:lnTo>
                      <a:lnTo>
                        <a:pt x="225" y="3"/>
                      </a:lnTo>
                      <a:lnTo>
                        <a:pt x="222" y="4"/>
                      </a:lnTo>
                      <a:lnTo>
                        <a:pt x="217" y="7"/>
                      </a:lnTo>
                      <a:lnTo>
                        <a:pt x="213" y="8"/>
                      </a:lnTo>
                      <a:lnTo>
                        <a:pt x="209" y="9"/>
                      </a:lnTo>
                      <a:lnTo>
                        <a:pt x="205" y="11"/>
                      </a:lnTo>
                      <a:lnTo>
                        <a:pt x="201" y="12"/>
                      </a:lnTo>
                      <a:lnTo>
                        <a:pt x="196" y="14"/>
                      </a:lnTo>
                      <a:lnTo>
                        <a:pt x="193" y="15"/>
                      </a:lnTo>
                      <a:lnTo>
                        <a:pt x="188" y="16"/>
                      </a:lnTo>
                      <a:lnTo>
                        <a:pt x="183" y="17"/>
                      </a:lnTo>
                      <a:lnTo>
                        <a:pt x="179" y="18"/>
                      </a:lnTo>
                      <a:lnTo>
                        <a:pt x="174" y="18"/>
                      </a:lnTo>
                      <a:lnTo>
                        <a:pt x="170" y="19"/>
                      </a:lnTo>
                      <a:lnTo>
                        <a:pt x="165" y="21"/>
                      </a:lnTo>
                      <a:lnTo>
                        <a:pt x="160" y="22"/>
                      </a:lnTo>
                      <a:lnTo>
                        <a:pt x="156" y="23"/>
                      </a:lnTo>
                      <a:lnTo>
                        <a:pt x="151" y="24"/>
                      </a:lnTo>
                      <a:lnTo>
                        <a:pt x="146" y="25"/>
                      </a:lnTo>
                      <a:lnTo>
                        <a:pt x="142" y="25"/>
                      </a:lnTo>
                      <a:lnTo>
                        <a:pt x="138" y="26"/>
                      </a:lnTo>
                      <a:lnTo>
                        <a:pt x="134" y="27"/>
                      </a:lnTo>
                      <a:lnTo>
                        <a:pt x="129" y="29"/>
                      </a:lnTo>
                      <a:lnTo>
                        <a:pt x="124" y="30"/>
                      </a:lnTo>
                      <a:lnTo>
                        <a:pt x="120" y="31"/>
                      </a:lnTo>
                      <a:lnTo>
                        <a:pt x="116" y="32"/>
                      </a:lnTo>
                      <a:lnTo>
                        <a:pt x="112" y="34"/>
                      </a:lnTo>
                      <a:lnTo>
                        <a:pt x="108" y="36"/>
                      </a:lnTo>
                      <a:lnTo>
                        <a:pt x="104" y="37"/>
                      </a:lnTo>
                      <a:lnTo>
                        <a:pt x="100" y="39"/>
                      </a:lnTo>
                      <a:lnTo>
                        <a:pt x="96" y="40"/>
                      </a:lnTo>
                      <a:lnTo>
                        <a:pt x="92" y="42"/>
                      </a:lnTo>
                      <a:lnTo>
                        <a:pt x="90" y="41"/>
                      </a:lnTo>
                      <a:lnTo>
                        <a:pt x="86" y="41"/>
                      </a:lnTo>
                      <a:lnTo>
                        <a:pt x="83" y="41"/>
                      </a:lnTo>
                      <a:lnTo>
                        <a:pt x="81" y="41"/>
                      </a:lnTo>
                      <a:lnTo>
                        <a:pt x="77" y="41"/>
                      </a:lnTo>
                      <a:lnTo>
                        <a:pt x="75" y="41"/>
                      </a:lnTo>
                      <a:lnTo>
                        <a:pt x="71" y="41"/>
                      </a:lnTo>
                      <a:lnTo>
                        <a:pt x="69" y="41"/>
                      </a:lnTo>
                      <a:lnTo>
                        <a:pt x="66" y="41"/>
                      </a:lnTo>
                      <a:lnTo>
                        <a:pt x="63" y="41"/>
                      </a:lnTo>
                      <a:lnTo>
                        <a:pt x="60" y="41"/>
                      </a:lnTo>
                      <a:lnTo>
                        <a:pt x="57" y="41"/>
                      </a:lnTo>
                      <a:lnTo>
                        <a:pt x="54" y="41"/>
                      </a:lnTo>
                      <a:lnTo>
                        <a:pt x="52" y="42"/>
                      </a:lnTo>
                      <a:lnTo>
                        <a:pt x="49" y="42"/>
                      </a:lnTo>
                      <a:lnTo>
                        <a:pt x="46" y="42"/>
                      </a:lnTo>
                      <a:lnTo>
                        <a:pt x="44" y="42"/>
                      </a:lnTo>
                      <a:lnTo>
                        <a:pt x="40" y="42"/>
                      </a:lnTo>
                      <a:lnTo>
                        <a:pt x="38" y="44"/>
                      </a:lnTo>
                      <a:lnTo>
                        <a:pt x="34" y="44"/>
                      </a:lnTo>
                      <a:lnTo>
                        <a:pt x="32" y="44"/>
                      </a:lnTo>
                      <a:lnTo>
                        <a:pt x="30" y="45"/>
                      </a:lnTo>
                      <a:lnTo>
                        <a:pt x="26" y="45"/>
                      </a:lnTo>
                      <a:lnTo>
                        <a:pt x="24" y="45"/>
                      </a:lnTo>
                      <a:lnTo>
                        <a:pt x="20" y="45"/>
                      </a:lnTo>
                      <a:lnTo>
                        <a:pt x="18" y="46"/>
                      </a:lnTo>
                      <a:lnTo>
                        <a:pt x="15" y="46"/>
                      </a:lnTo>
                      <a:lnTo>
                        <a:pt x="12" y="46"/>
                      </a:lnTo>
                      <a:lnTo>
                        <a:pt x="9" y="46"/>
                      </a:lnTo>
                      <a:lnTo>
                        <a:pt x="5" y="47"/>
                      </a:lnTo>
                      <a:lnTo>
                        <a:pt x="3" y="47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ab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110200" y="6226560"/>
                  <a:ext cx="120600" cy="29160"/>
                </a:xfrm>
                <a:custGeom>
                  <a:avLst/>
                  <a:gdLst/>
                  <a:ahLst/>
                  <a:rect l="l" t="t" r="r" b="b"/>
                  <a:pathLst>
                    <a:path w="228" h="47">
                      <a:moveTo>
                        <a:pt x="0" y="47"/>
                      </a:moveTo>
                      <a:lnTo>
                        <a:pt x="121" y="0"/>
                      </a:lnTo>
                      <a:lnTo>
                        <a:pt x="228" y="1"/>
                      </a:lnTo>
                      <a:lnTo>
                        <a:pt x="213" y="8"/>
                      </a:lnTo>
                      <a:lnTo>
                        <a:pt x="196" y="14"/>
                      </a:lnTo>
                      <a:lnTo>
                        <a:pt x="179" y="18"/>
                      </a:lnTo>
                      <a:lnTo>
                        <a:pt x="160" y="22"/>
                      </a:lnTo>
                      <a:lnTo>
                        <a:pt x="142" y="25"/>
                      </a:lnTo>
                      <a:lnTo>
                        <a:pt x="124" y="30"/>
                      </a:lnTo>
                      <a:lnTo>
                        <a:pt x="108" y="36"/>
                      </a:lnTo>
                      <a:lnTo>
                        <a:pt x="92" y="42"/>
                      </a:lnTo>
                      <a:lnTo>
                        <a:pt x="81" y="41"/>
                      </a:lnTo>
                      <a:lnTo>
                        <a:pt x="69" y="41"/>
                      </a:lnTo>
                      <a:lnTo>
                        <a:pt x="57" y="41"/>
                      </a:lnTo>
                      <a:lnTo>
                        <a:pt x="46" y="42"/>
                      </a:lnTo>
                      <a:lnTo>
                        <a:pt x="34" y="44"/>
                      </a:lnTo>
                      <a:lnTo>
                        <a:pt x="24" y="45"/>
                      </a:lnTo>
                      <a:lnTo>
                        <a:pt x="12" y="46"/>
                      </a:lnTo>
                      <a:lnTo>
                        <a:pt x="0" y="4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248440" y="6237720"/>
                  <a:ext cx="114120" cy="36360"/>
                </a:xfrm>
                <a:custGeom>
                  <a:avLst/>
                  <a:gdLst/>
                  <a:ahLst/>
                  <a:rect l="l" t="t" r="r" b="b"/>
                  <a:pathLst>
                    <a:path w="215" h="60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5" y="5"/>
                      </a:lnTo>
                      <a:lnTo>
                        <a:pt x="7" y="7"/>
                      </a:lnTo>
                      <a:lnTo>
                        <a:pt x="9" y="8"/>
                      </a:lnTo>
                      <a:lnTo>
                        <a:pt x="10" y="10"/>
                      </a:lnTo>
                      <a:lnTo>
                        <a:pt x="13" y="12"/>
                      </a:lnTo>
                      <a:lnTo>
                        <a:pt x="15" y="13"/>
                      </a:lnTo>
                      <a:lnTo>
                        <a:pt x="17" y="15"/>
                      </a:lnTo>
                      <a:lnTo>
                        <a:pt x="20" y="16"/>
                      </a:lnTo>
                      <a:lnTo>
                        <a:pt x="22" y="17"/>
                      </a:lnTo>
                      <a:lnTo>
                        <a:pt x="24" y="19"/>
                      </a:lnTo>
                      <a:lnTo>
                        <a:pt x="27" y="20"/>
                      </a:lnTo>
                      <a:lnTo>
                        <a:pt x="29" y="20"/>
                      </a:lnTo>
                      <a:lnTo>
                        <a:pt x="31" y="21"/>
                      </a:lnTo>
                      <a:lnTo>
                        <a:pt x="33" y="22"/>
                      </a:lnTo>
                      <a:lnTo>
                        <a:pt x="36" y="23"/>
                      </a:lnTo>
                      <a:lnTo>
                        <a:pt x="38" y="24"/>
                      </a:lnTo>
                      <a:lnTo>
                        <a:pt x="40" y="25"/>
                      </a:lnTo>
                      <a:lnTo>
                        <a:pt x="43" y="27"/>
                      </a:lnTo>
                      <a:lnTo>
                        <a:pt x="45" y="28"/>
                      </a:lnTo>
                      <a:lnTo>
                        <a:pt x="47" y="29"/>
                      </a:lnTo>
                      <a:lnTo>
                        <a:pt x="48" y="30"/>
                      </a:lnTo>
                      <a:lnTo>
                        <a:pt x="51" y="32"/>
                      </a:lnTo>
                      <a:lnTo>
                        <a:pt x="53" y="34"/>
                      </a:lnTo>
                      <a:lnTo>
                        <a:pt x="54" y="36"/>
                      </a:lnTo>
                      <a:lnTo>
                        <a:pt x="57" y="38"/>
                      </a:lnTo>
                      <a:lnTo>
                        <a:pt x="58" y="40"/>
                      </a:lnTo>
                      <a:lnTo>
                        <a:pt x="60" y="43"/>
                      </a:lnTo>
                      <a:lnTo>
                        <a:pt x="61" y="45"/>
                      </a:lnTo>
                      <a:lnTo>
                        <a:pt x="62" y="49"/>
                      </a:lnTo>
                      <a:lnTo>
                        <a:pt x="64" y="52"/>
                      </a:lnTo>
                      <a:lnTo>
                        <a:pt x="65" y="56"/>
                      </a:lnTo>
                      <a:lnTo>
                        <a:pt x="215" y="60"/>
                      </a:lnTo>
                      <a:lnTo>
                        <a:pt x="215" y="59"/>
                      </a:lnTo>
                      <a:lnTo>
                        <a:pt x="214" y="59"/>
                      </a:lnTo>
                      <a:lnTo>
                        <a:pt x="213" y="59"/>
                      </a:lnTo>
                      <a:lnTo>
                        <a:pt x="213" y="58"/>
                      </a:lnTo>
                      <a:lnTo>
                        <a:pt x="211" y="58"/>
                      </a:lnTo>
                      <a:lnTo>
                        <a:pt x="210" y="57"/>
                      </a:lnTo>
                      <a:lnTo>
                        <a:pt x="209" y="57"/>
                      </a:lnTo>
                      <a:lnTo>
                        <a:pt x="208" y="56"/>
                      </a:lnTo>
                      <a:lnTo>
                        <a:pt x="207" y="56"/>
                      </a:lnTo>
                      <a:lnTo>
                        <a:pt x="206" y="54"/>
                      </a:lnTo>
                      <a:lnTo>
                        <a:pt x="204" y="54"/>
                      </a:lnTo>
                      <a:lnTo>
                        <a:pt x="203" y="54"/>
                      </a:lnTo>
                      <a:lnTo>
                        <a:pt x="202" y="54"/>
                      </a:lnTo>
                      <a:lnTo>
                        <a:pt x="201" y="53"/>
                      </a:lnTo>
                      <a:lnTo>
                        <a:pt x="200" y="53"/>
                      </a:lnTo>
                      <a:lnTo>
                        <a:pt x="199" y="53"/>
                      </a:lnTo>
                      <a:lnTo>
                        <a:pt x="198" y="52"/>
                      </a:lnTo>
                      <a:lnTo>
                        <a:pt x="196" y="52"/>
                      </a:lnTo>
                      <a:lnTo>
                        <a:pt x="194" y="52"/>
                      </a:lnTo>
                      <a:lnTo>
                        <a:pt x="193" y="52"/>
                      </a:lnTo>
                      <a:lnTo>
                        <a:pt x="192" y="52"/>
                      </a:lnTo>
                      <a:lnTo>
                        <a:pt x="191" y="52"/>
                      </a:lnTo>
                      <a:lnTo>
                        <a:pt x="189" y="52"/>
                      </a:lnTo>
                      <a:lnTo>
                        <a:pt x="188" y="51"/>
                      </a:lnTo>
                      <a:lnTo>
                        <a:pt x="187" y="51"/>
                      </a:lnTo>
                      <a:lnTo>
                        <a:pt x="185" y="51"/>
                      </a:lnTo>
                      <a:lnTo>
                        <a:pt x="184" y="51"/>
                      </a:lnTo>
                      <a:lnTo>
                        <a:pt x="183" y="51"/>
                      </a:lnTo>
                      <a:lnTo>
                        <a:pt x="180" y="51"/>
                      </a:lnTo>
                      <a:lnTo>
                        <a:pt x="177" y="47"/>
                      </a:lnTo>
                      <a:lnTo>
                        <a:pt x="173" y="44"/>
                      </a:lnTo>
                      <a:lnTo>
                        <a:pt x="170" y="40"/>
                      </a:lnTo>
                      <a:lnTo>
                        <a:pt x="165" y="38"/>
                      </a:lnTo>
                      <a:lnTo>
                        <a:pt x="161" y="36"/>
                      </a:lnTo>
                      <a:lnTo>
                        <a:pt x="156" y="32"/>
                      </a:lnTo>
                      <a:lnTo>
                        <a:pt x="151" y="31"/>
                      </a:lnTo>
                      <a:lnTo>
                        <a:pt x="147" y="29"/>
                      </a:lnTo>
                      <a:lnTo>
                        <a:pt x="142" y="27"/>
                      </a:lnTo>
                      <a:lnTo>
                        <a:pt x="136" y="25"/>
                      </a:lnTo>
                      <a:lnTo>
                        <a:pt x="131" y="24"/>
                      </a:lnTo>
                      <a:lnTo>
                        <a:pt x="126" y="23"/>
                      </a:lnTo>
                      <a:lnTo>
                        <a:pt x="120" y="22"/>
                      </a:lnTo>
                      <a:lnTo>
                        <a:pt x="114" y="21"/>
                      </a:lnTo>
                      <a:lnTo>
                        <a:pt x="109" y="20"/>
                      </a:lnTo>
                      <a:lnTo>
                        <a:pt x="103" y="19"/>
                      </a:lnTo>
                      <a:lnTo>
                        <a:pt x="97" y="19"/>
                      </a:lnTo>
                      <a:lnTo>
                        <a:pt x="91" y="17"/>
                      </a:lnTo>
                      <a:lnTo>
                        <a:pt x="85" y="17"/>
                      </a:lnTo>
                      <a:lnTo>
                        <a:pt x="80" y="16"/>
                      </a:lnTo>
                      <a:lnTo>
                        <a:pt x="74" y="16"/>
                      </a:lnTo>
                      <a:lnTo>
                        <a:pt x="68" y="16"/>
                      </a:lnTo>
                      <a:lnTo>
                        <a:pt x="62" y="15"/>
                      </a:lnTo>
                      <a:lnTo>
                        <a:pt x="57" y="15"/>
                      </a:lnTo>
                      <a:lnTo>
                        <a:pt x="51" y="15"/>
                      </a:lnTo>
                      <a:lnTo>
                        <a:pt x="46" y="14"/>
                      </a:lnTo>
                      <a:lnTo>
                        <a:pt x="40" y="14"/>
                      </a:lnTo>
                      <a:lnTo>
                        <a:pt x="36" y="13"/>
                      </a:lnTo>
                      <a:lnTo>
                        <a:pt x="31" y="13"/>
                      </a:lnTo>
                      <a:lnTo>
                        <a:pt x="27" y="12"/>
                      </a:lnTo>
                      <a:lnTo>
                        <a:pt x="22" y="10"/>
                      </a:lnTo>
                      <a:lnTo>
                        <a:pt x="18" y="10"/>
                      </a:lnTo>
                      <a:lnTo>
                        <a:pt x="17" y="10"/>
                      </a:lnTo>
                      <a:lnTo>
                        <a:pt x="17" y="9"/>
                      </a:lnTo>
                      <a:lnTo>
                        <a:pt x="16" y="9"/>
                      </a:lnTo>
                      <a:lnTo>
                        <a:pt x="15" y="9"/>
                      </a:lnTo>
                      <a:lnTo>
                        <a:pt x="14" y="9"/>
                      </a:lnTo>
                      <a:lnTo>
                        <a:pt x="14" y="8"/>
                      </a:lnTo>
                      <a:lnTo>
                        <a:pt x="13" y="8"/>
                      </a:lnTo>
                      <a:lnTo>
                        <a:pt x="12" y="7"/>
                      </a:lnTo>
                      <a:lnTo>
                        <a:pt x="10" y="7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9" y="5"/>
                      </a:lnTo>
                      <a:lnTo>
                        <a:pt x="8" y="5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5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b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248440" y="6237720"/>
                  <a:ext cx="114120" cy="36360"/>
                </a:xfrm>
                <a:custGeom>
                  <a:avLst/>
                  <a:gdLst/>
                  <a:ahLst/>
                  <a:rect l="l" t="t" r="r" b="b"/>
                  <a:pathLst>
                    <a:path w="215" h="60">
                      <a:moveTo>
                        <a:pt x="0" y="0"/>
                      </a:moveTo>
                      <a:lnTo>
                        <a:pt x="9" y="8"/>
                      </a:lnTo>
                      <a:lnTo>
                        <a:pt x="17" y="15"/>
                      </a:lnTo>
                      <a:lnTo>
                        <a:pt x="27" y="20"/>
                      </a:lnTo>
                      <a:lnTo>
                        <a:pt x="36" y="23"/>
                      </a:lnTo>
                      <a:lnTo>
                        <a:pt x="45" y="28"/>
                      </a:lnTo>
                      <a:lnTo>
                        <a:pt x="53" y="34"/>
                      </a:lnTo>
                      <a:lnTo>
                        <a:pt x="60" y="43"/>
                      </a:lnTo>
                      <a:lnTo>
                        <a:pt x="65" y="56"/>
                      </a:lnTo>
                      <a:lnTo>
                        <a:pt x="215" y="60"/>
                      </a:lnTo>
                      <a:lnTo>
                        <a:pt x="213" y="58"/>
                      </a:lnTo>
                      <a:lnTo>
                        <a:pt x="209" y="57"/>
                      </a:lnTo>
                      <a:lnTo>
                        <a:pt x="206" y="54"/>
                      </a:lnTo>
                      <a:lnTo>
                        <a:pt x="201" y="53"/>
                      </a:lnTo>
                      <a:lnTo>
                        <a:pt x="198" y="52"/>
                      </a:lnTo>
                      <a:lnTo>
                        <a:pt x="192" y="52"/>
                      </a:lnTo>
                      <a:lnTo>
                        <a:pt x="187" y="51"/>
                      </a:lnTo>
                      <a:lnTo>
                        <a:pt x="180" y="51"/>
                      </a:lnTo>
                      <a:lnTo>
                        <a:pt x="165" y="38"/>
                      </a:lnTo>
                      <a:lnTo>
                        <a:pt x="147" y="29"/>
                      </a:lnTo>
                      <a:lnTo>
                        <a:pt x="126" y="23"/>
                      </a:lnTo>
                      <a:lnTo>
                        <a:pt x="103" y="19"/>
                      </a:lnTo>
                      <a:lnTo>
                        <a:pt x="80" y="16"/>
                      </a:lnTo>
                      <a:lnTo>
                        <a:pt x="57" y="15"/>
                      </a:lnTo>
                      <a:lnTo>
                        <a:pt x="36" y="13"/>
                      </a:lnTo>
                      <a:lnTo>
                        <a:pt x="18" y="10"/>
                      </a:lnTo>
                      <a:lnTo>
                        <a:pt x="15" y="9"/>
                      </a:lnTo>
                      <a:lnTo>
                        <a:pt x="10" y="7"/>
                      </a:lnTo>
                      <a:lnTo>
                        <a:pt x="6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4827600" y="6129720"/>
                  <a:ext cx="1320840" cy="324720"/>
                </a:xfrm>
                <a:custGeom>
                  <a:avLst/>
                  <a:gdLst/>
                  <a:ahLst/>
                  <a:rect l="l" t="t" r="r" b="b"/>
                  <a:pathLst>
                    <a:path w="2494" h="533">
                      <a:moveTo>
                        <a:pt x="0" y="403"/>
                      </a:moveTo>
                      <a:lnTo>
                        <a:pt x="4" y="403"/>
                      </a:lnTo>
                      <a:lnTo>
                        <a:pt x="8" y="403"/>
                      </a:lnTo>
                      <a:lnTo>
                        <a:pt x="12" y="402"/>
                      </a:lnTo>
                      <a:lnTo>
                        <a:pt x="16" y="402"/>
                      </a:lnTo>
                      <a:lnTo>
                        <a:pt x="20" y="401"/>
                      </a:lnTo>
                      <a:lnTo>
                        <a:pt x="23" y="400"/>
                      </a:lnTo>
                      <a:lnTo>
                        <a:pt x="28" y="399"/>
                      </a:lnTo>
                      <a:lnTo>
                        <a:pt x="31" y="398"/>
                      </a:lnTo>
                      <a:lnTo>
                        <a:pt x="35" y="395"/>
                      </a:lnTo>
                      <a:lnTo>
                        <a:pt x="39" y="394"/>
                      </a:lnTo>
                      <a:lnTo>
                        <a:pt x="43" y="393"/>
                      </a:lnTo>
                      <a:lnTo>
                        <a:pt x="46" y="391"/>
                      </a:lnTo>
                      <a:lnTo>
                        <a:pt x="51" y="390"/>
                      </a:lnTo>
                      <a:lnTo>
                        <a:pt x="54" y="387"/>
                      </a:lnTo>
                      <a:lnTo>
                        <a:pt x="58" y="386"/>
                      </a:lnTo>
                      <a:lnTo>
                        <a:pt x="63" y="384"/>
                      </a:lnTo>
                      <a:lnTo>
                        <a:pt x="66" y="383"/>
                      </a:lnTo>
                      <a:lnTo>
                        <a:pt x="71" y="382"/>
                      </a:lnTo>
                      <a:lnTo>
                        <a:pt x="74" y="379"/>
                      </a:lnTo>
                      <a:lnTo>
                        <a:pt x="78" y="378"/>
                      </a:lnTo>
                      <a:lnTo>
                        <a:pt x="82" y="377"/>
                      </a:lnTo>
                      <a:lnTo>
                        <a:pt x="86" y="376"/>
                      </a:lnTo>
                      <a:lnTo>
                        <a:pt x="90" y="375"/>
                      </a:lnTo>
                      <a:lnTo>
                        <a:pt x="94" y="373"/>
                      </a:lnTo>
                      <a:lnTo>
                        <a:pt x="98" y="372"/>
                      </a:lnTo>
                      <a:lnTo>
                        <a:pt x="103" y="372"/>
                      </a:lnTo>
                      <a:lnTo>
                        <a:pt x="106" y="371"/>
                      </a:lnTo>
                      <a:lnTo>
                        <a:pt x="111" y="371"/>
                      </a:lnTo>
                      <a:lnTo>
                        <a:pt x="115" y="371"/>
                      </a:lnTo>
                      <a:lnTo>
                        <a:pt x="119" y="371"/>
                      </a:lnTo>
                      <a:lnTo>
                        <a:pt x="124" y="372"/>
                      </a:lnTo>
                      <a:lnTo>
                        <a:pt x="128" y="372"/>
                      </a:lnTo>
                      <a:lnTo>
                        <a:pt x="133" y="373"/>
                      </a:lnTo>
                      <a:lnTo>
                        <a:pt x="138" y="375"/>
                      </a:lnTo>
                      <a:lnTo>
                        <a:pt x="142" y="375"/>
                      </a:lnTo>
                      <a:lnTo>
                        <a:pt x="148" y="376"/>
                      </a:lnTo>
                      <a:lnTo>
                        <a:pt x="153" y="376"/>
                      </a:lnTo>
                      <a:lnTo>
                        <a:pt x="158" y="376"/>
                      </a:lnTo>
                      <a:lnTo>
                        <a:pt x="163" y="376"/>
                      </a:lnTo>
                      <a:lnTo>
                        <a:pt x="169" y="376"/>
                      </a:lnTo>
                      <a:lnTo>
                        <a:pt x="173" y="377"/>
                      </a:lnTo>
                      <a:lnTo>
                        <a:pt x="179" y="376"/>
                      </a:lnTo>
                      <a:lnTo>
                        <a:pt x="184" y="376"/>
                      </a:lnTo>
                      <a:lnTo>
                        <a:pt x="190" y="376"/>
                      </a:lnTo>
                      <a:lnTo>
                        <a:pt x="195" y="376"/>
                      </a:lnTo>
                      <a:lnTo>
                        <a:pt x="200" y="376"/>
                      </a:lnTo>
                      <a:lnTo>
                        <a:pt x="206" y="376"/>
                      </a:lnTo>
                      <a:lnTo>
                        <a:pt x="212" y="376"/>
                      </a:lnTo>
                      <a:lnTo>
                        <a:pt x="217" y="375"/>
                      </a:lnTo>
                      <a:lnTo>
                        <a:pt x="222" y="375"/>
                      </a:lnTo>
                      <a:lnTo>
                        <a:pt x="228" y="375"/>
                      </a:lnTo>
                      <a:lnTo>
                        <a:pt x="234" y="375"/>
                      </a:lnTo>
                      <a:lnTo>
                        <a:pt x="238" y="375"/>
                      </a:lnTo>
                      <a:lnTo>
                        <a:pt x="244" y="375"/>
                      </a:lnTo>
                      <a:lnTo>
                        <a:pt x="249" y="375"/>
                      </a:lnTo>
                      <a:lnTo>
                        <a:pt x="254" y="375"/>
                      </a:lnTo>
                      <a:lnTo>
                        <a:pt x="260" y="375"/>
                      </a:lnTo>
                      <a:lnTo>
                        <a:pt x="265" y="375"/>
                      </a:lnTo>
                      <a:lnTo>
                        <a:pt x="269" y="375"/>
                      </a:lnTo>
                      <a:lnTo>
                        <a:pt x="275" y="375"/>
                      </a:lnTo>
                      <a:lnTo>
                        <a:pt x="280" y="376"/>
                      </a:lnTo>
                      <a:lnTo>
                        <a:pt x="286" y="376"/>
                      </a:lnTo>
                      <a:lnTo>
                        <a:pt x="290" y="377"/>
                      </a:lnTo>
                      <a:lnTo>
                        <a:pt x="295" y="378"/>
                      </a:lnTo>
                      <a:lnTo>
                        <a:pt x="298" y="379"/>
                      </a:lnTo>
                      <a:lnTo>
                        <a:pt x="303" y="380"/>
                      </a:lnTo>
                      <a:lnTo>
                        <a:pt x="308" y="380"/>
                      </a:lnTo>
                      <a:lnTo>
                        <a:pt x="312" y="382"/>
                      </a:lnTo>
                      <a:lnTo>
                        <a:pt x="317" y="383"/>
                      </a:lnTo>
                      <a:lnTo>
                        <a:pt x="323" y="384"/>
                      </a:lnTo>
                      <a:lnTo>
                        <a:pt x="327" y="385"/>
                      </a:lnTo>
                      <a:lnTo>
                        <a:pt x="333" y="385"/>
                      </a:lnTo>
                      <a:lnTo>
                        <a:pt x="339" y="386"/>
                      </a:lnTo>
                      <a:lnTo>
                        <a:pt x="344" y="387"/>
                      </a:lnTo>
                      <a:lnTo>
                        <a:pt x="351" y="387"/>
                      </a:lnTo>
                      <a:lnTo>
                        <a:pt x="357" y="388"/>
                      </a:lnTo>
                      <a:lnTo>
                        <a:pt x="363" y="388"/>
                      </a:lnTo>
                      <a:lnTo>
                        <a:pt x="370" y="390"/>
                      </a:lnTo>
                      <a:lnTo>
                        <a:pt x="376" y="390"/>
                      </a:lnTo>
                      <a:lnTo>
                        <a:pt x="383" y="390"/>
                      </a:lnTo>
                      <a:lnTo>
                        <a:pt x="388" y="391"/>
                      </a:lnTo>
                      <a:lnTo>
                        <a:pt x="395" y="391"/>
                      </a:lnTo>
                      <a:lnTo>
                        <a:pt x="401" y="391"/>
                      </a:lnTo>
                      <a:lnTo>
                        <a:pt x="408" y="391"/>
                      </a:lnTo>
                      <a:lnTo>
                        <a:pt x="414" y="391"/>
                      </a:lnTo>
                      <a:lnTo>
                        <a:pt x="420" y="391"/>
                      </a:lnTo>
                      <a:lnTo>
                        <a:pt x="427" y="391"/>
                      </a:lnTo>
                      <a:lnTo>
                        <a:pt x="432" y="390"/>
                      </a:lnTo>
                      <a:lnTo>
                        <a:pt x="437" y="390"/>
                      </a:lnTo>
                      <a:lnTo>
                        <a:pt x="443" y="388"/>
                      </a:lnTo>
                      <a:lnTo>
                        <a:pt x="448" y="388"/>
                      </a:lnTo>
                      <a:lnTo>
                        <a:pt x="453" y="387"/>
                      </a:lnTo>
                      <a:lnTo>
                        <a:pt x="458" y="386"/>
                      </a:lnTo>
                      <a:lnTo>
                        <a:pt x="462" y="385"/>
                      </a:lnTo>
                      <a:lnTo>
                        <a:pt x="466" y="384"/>
                      </a:lnTo>
                      <a:lnTo>
                        <a:pt x="470" y="383"/>
                      </a:lnTo>
                      <a:lnTo>
                        <a:pt x="481" y="379"/>
                      </a:lnTo>
                      <a:lnTo>
                        <a:pt x="492" y="376"/>
                      </a:lnTo>
                      <a:lnTo>
                        <a:pt x="504" y="373"/>
                      </a:lnTo>
                      <a:lnTo>
                        <a:pt x="515" y="371"/>
                      </a:lnTo>
                      <a:lnTo>
                        <a:pt x="528" y="370"/>
                      </a:lnTo>
                      <a:lnTo>
                        <a:pt x="540" y="368"/>
                      </a:lnTo>
                      <a:lnTo>
                        <a:pt x="552" y="367"/>
                      </a:lnTo>
                      <a:lnTo>
                        <a:pt x="565" y="367"/>
                      </a:lnTo>
                      <a:lnTo>
                        <a:pt x="578" y="365"/>
                      </a:lnTo>
                      <a:lnTo>
                        <a:pt x="591" y="365"/>
                      </a:lnTo>
                      <a:lnTo>
                        <a:pt x="603" y="365"/>
                      </a:lnTo>
                      <a:lnTo>
                        <a:pt x="617" y="364"/>
                      </a:lnTo>
                      <a:lnTo>
                        <a:pt x="630" y="364"/>
                      </a:lnTo>
                      <a:lnTo>
                        <a:pt x="643" y="364"/>
                      </a:lnTo>
                      <a:lnTo>
                        <a:pt x="656" y="365"/>
                      </a:lnTo>
                      <a:lnTo>
                        <a:pt x="669" y="365"/>
                      </a:lnTo>
                      <a:lnTo>
                        <a:pt x="683" y="365"/>
                      </a:lnTo>
                      <a:lnTo>
                        <a:pt x="696" y="365"/>
                      </a:lnTo>
                      <a:lnTo>
                        <a:pt x="708" y="364"/>
                      </a:lnTo>
                      <a:lnTo>
                        <a:pt x="721" y="364"/>
                      </a:lnTo>
                      <a:lnTo>
                        <a:pt x="735" y="364"/>
                      </a:lnTo>
                      <a:lnTo>
                        <a:pt x="748" y="363"/>
                      </a:lnTo>
                      <a:lnTo>
                        <a:pt x="759" y="362"/>
                      </a:lnTo>
                      <a:lnTo>
                        <a:pt x="772" y="361"/>
                      </a:lnTo>
                      <a:lnTo>
                        <a:pt x="785" y="360"/>
                      </a:lnTo>
                      <a:lnTo>
                        <a:pt x="796" y="357"/>
                      </a:lnTo>
                      <a:lnTo>
                        <a:pt x="808" y="355"/>
                      </a:lnTo>
                      <a:lnTo>
                        <a:pt x="819" y="351"/>
                      </a:lnTo>
                      <a:lnTo>
                        <a:pt x="831" y="348"/>
                      </a:lnTo>
                      <a:lnTo>
                        <a:pt x="841" y="345"/>
                      </a:lnTo>
                      <a:lnTo>
                        <a:pt x="852" y="340"/>
                      </a:lnTo>
                      <a:lnTo>
                        <a:pt x="862" y="335"/>
                      </a:lnTo>
                      <a:lnTo>
                        <a:pt x="867" y="335"/>
                      </a:lnTo>
                      <a:lnTo>
                        <a:pt x="870" y="336"/>
                      </a:lnTo>
                      <a:lnTo>
                        <a:pt x="875" y="336"/>
                      </a:lnTo>
                      <a:lnTo>
                        <a:pt x="878" y="336"/>
                      </a:lnTo>
                      <a:lnTo>
                        <a:pt x="883" y="338"/>
                      </a:lnTo>
                      <a:lnTo>
                        <a:pt x="888" y="338"/>
                      </a:lnTo>
                      <a:lnTo>
                        <a:pt x="891" y="339"/>
                      </a:lnTo>
                      <a:lnTo>
                        <a:pt x="896" y="339"/>
                      </a:lnTo>
                      <a:lnTo>
                        <a:pt x="900" y="339"/>
                      </a:lnTo>
                      <a:lnTo>
                        <a:pt x="905" y="340"/>
                      </a:lnTo>
                      <a:lnTo>
                        <a:pt x="910" y="340"/>
                      </a:lnTo>
                      <a:lnTo>
                        <a:pt x="914" y="341"/>
                      </a:lnTo>
                      <a:lnTo>
                        <a:pt x="919" y="341"/>
                      </a:lnTo>
                      <a:lnTo>
                        <a:pt x="923" y="342"/>
                      </a:lnTo>
                      <a:lnTo>
                        <a:pt x="928" y="342"/>
                      </a:lnTo>
                      <a:lnTo>
                        <a:pt x="933" y="342"/>
                      </a:lnTo>
                      <a:lnTo>
                        <a:pt x="937" y="343"/>
                      </a:lnTo>
                      <a:lnTo>
                        <a:pt x="942" y="343"/>
                      </a:lnTo>
                      <a:lnTo>
                        <a:pt x="946" y="345"/>
                      </a:lnTo>
                      <a:lnTo>
                        <a:pt x="951" y="345"/>
                      </a:lnTo>
                      <a:lnTo>
                        <a:pt x="955" y="345"/>
                      </a:lnTo>
                      <a:lnTo>
                        <a:pt x="959" y="346"/>
                      </a:lnTo>
                      <a:lnTo>
                        <a:pt x="964" y="346"/>
                      </a:lnTo>
                      <a:lnTo>
                        <a:pt x="968" y="346"/>
                      </a:lnTo>
                      <a:lnTo>
                        <a:pt x="972" y="347"/>
                      </a:lnTo>
                      <a:lnTo>
                        <a:pt x="977" y="347"/>
                      </a:lnTo>
                      <a:lnTo>
                        <a:pt x="980" y="347"/>
                      </a:lnTo>
                      <a:lnTo>
                        <a:pt x="983" y="347"/>
                      </a:lnTo>
                      <a:lnTo>
                        <a:pt x="988" y="347"/>
                      </a:lnTo>
                      <a:lnTo>
                        <a:pt x="992" y="347"/>
                      </a:lnTo>
                      <a:lnTo>
                        <a:pt x="995" y="347"/>
                      </a:lnTo>
                      <a:lnTo>
                        <a:pt x="998" y="347"/>
                      </a:lnTo>
                      <a:lnTo>
                        <a:pt x="1001" y="346"/>
                      </a:lnTo>
                      <a:lnTo>
                        <a:pt x="1004" y="343"/>
                      </a:lnTo>
                      <a:lnTo>
                        <a:pt x="1008" y="341"/>
                      </a:lnTo>
                      <a:lnTo>
                        <a:pt x="1011" y="339"/>
                      </a:lnTo>
                      <a:lnTo>
                        <a:pt x="1015" y="335"/>
                      </a:lnTo>
                      <a:lnTo>
                        <a:pt x="1018" y="333"/>
                      </a:lnTo>
                      <a:lnTo>
                        <a:pt x="1023" y="330"/>
                      </a:lnTo>
                      <a:lnTo>
                        <a:pt x="1027" y="327"/>
                      </a:lnTo>
                      <a:lnTo>
                        <a:pt x="1032" y="324"/>
                      </a:lnTo>
                      <a:lnTo>
                        <a:pt x="1037" y="320"/>
                      </a:lnTo>
                      <a:lnTo>
                        <a:pt x="1041" y="317"/>
                      </a:lnTo>
                      <a:lnTo>
                        <a:pt x="1046" y="313"/>
                      </a:lnTo>
                      <a:lnTo>
                        <a:pt x="1050" y="310"/>
                      </a:lnTo>
                      <a:lnTo>
                        <a:pt x="1056" y="306"/>
                      </a:lnTo>
                      <a:lnTo>
                        <a:pt x="1061" y="303"/>
                      </a:lnTo>
                      <a:lnTo>
                        <a:pt x="1065" y="300"/>
                      </a:lnTo>
                      <a:lnTo>
                        <a:pt x="1071" y="296"/>
                      </a:lnTo>
                      <a:lnTo>
                        <a:pt x="1076" y="293"/>
                      </a:lnTo>
                      <a:lnTo>
                        <a:pt x="1081" y="289"/>
                      </a:lnTo>
                      <a:lnTo>
                        <a:pt x="1086" y="287"/>
                      </a:lnTo>
                      <a:lnTo>
                        <a:pt x="1091" y="283"/>
                      </a:lnTo>
                      <a:lnTo>
                        <a:pt x="1096" y="280"/>
                      </a:lnTo>
                      <a:lnTo>
                        <a:pt x="1100" y="276"/>
                      </a:lnTo>
                      <a:lnTo>
                        <a:pt x="1105" y="273"/>
                      </a:lnTo>
                      <a:lnTo>
                        <a:pt x="1109" y="271"/>
                      </a:lnTo>
                      <a:lnTo>
                        <a:pt x="1113" y="267"/>
                      </a:lnTo>
                      <a:lnTo>
                        <a:pt x="1116" y="265"/>
                      </a:lnTo>
                      <a:lnTo>
                        <a:pt x="1121" y="263"/>
                      </a:lnTo>
                      <a:lnTo>
                        <a:pt x="1123" y="260"/>
                      </a:lnTo>
                      <a:lnTo>
                        <a:pt x="1127" y="258"/>
                      </a:lnTo>
                      <a:lnTo>
                        <a:pt x="1130" y="256"/>
                      </a:lnTo>
                      <a:lnTo>
                        <a:pt x="1133" y="254"/>
                      </a:lnTo>
                      <a:lnTo>
                        <a:pt x="1111" y="249"/>
                      </a:lnTo>
                      <a:lnTo>
                        <a:pt x="1112" y="249"/>
                      </a:lnTo>
                      <a:lnTo>
                        <a:pt x="1112" y="248"/>
                      </a:lnTo>
                      <a:lnTo>
                        <a:pt x="1112" y="246"/>
                      </a:lnTo>
                      <a:lnTo>
                        <a:pt x="1113" y="246"/>
                      </a:lnTo>
                      <a:lnTo>
                        <a:pt x="1114" y="245"/>
                      </a:lnTo>
                      <a:lnTo>
                        <a:pt x="1115" y="245"/>
                      </a:lnTo>
                      <a:lnTo>
                        <a:pt x="1115" y="244"/>
                      </a:lnTo>
                      <a:lnTo>
                        <a:pt x="1116" y="244"/>
                      </a:lnTo>
                      <a:lnTo>
                        <a:pt x="1117" y="244"/>
                      </a:lnTo>
                      <a:lnTo>
                        <a:pt x="1117" y="243"/>
                      </a:lnTo>
                      <a:lnTo>
                        <a:pt x="1119" y="243"/>
                      </a:lnTo>
                      <a:lnTo>
                        <a:pt x="1120" y="242"/>
                      </a:lnTo>
                      <a:lnTo>
                        <a:pt x="1121" y="242"/>
                      </a:lnTo>
                      <a:lnTo>
                        <a:pt x="1121" y="241"/>
                      </a:lnTo>
                      <a:lnTo>
                        <a:pt x="1122" y="241"/>
                      </a:lnTo>
                      <a:lnTo>
                        <a:pt x="1123" y="239"/>
                      </a:lnTo>
                      <a:lnTo>
                        <a:pt x="1123" y="238"/>
                      </a:lnTo>
                      <a:lnTo>
                        <a:pt x="1124" y="238"/>
                      </a:lnTo>
                      <a:lnTo>
                        <a:pt x="1124" y="237"/>
                      </a:lnTo>
                      <a:lnTo>
                        <a:pt x="1124" y="236"/>
                      </a:lnTo>
                      <a:lnTo>
                        <a:pt x="1124" y="235"/>
                      </a:lnTo>
                      <a:lnTo>
                        <a:pt x="1126" y="236"/>
                      </a:lnTo>
                      <a:lnTo>
                        <a:pt x="1127" y="236"/>
                      </a:lnTo>
                      <a:lnTo>
                        <a:pt x="1128" y="236"/>
                      </a:lnTo>
                      <a:lnTo>
                        <a:pt x="1129" y="236"/>
                      </a:lnTo>
                      <a:lnTo>
                        <a:pt x="1130" y="236"/>
                      </a:lnTo>
                      <a:lnTo>
                        <a:pt x="1131" y="236"/>
                      </a:lnTo>
                      <a:lnTo>
                        <a:pt x="1134" y="236"/>
                      </a:lnTo>
                      <a:lnTo>
                        <a:pt x="1135" y="235"/>
                      </a:lnTo>
                      <a:lnTo>
                        <a:pt x="1137" y="235"/>
                      </a:lnTo>
                      <a:lnTo>
                        <a:pt x="1138" y="234"/>
                      </a:lnTo>
                      <a:lnTo>
                        <a:pt x="1141" y="233"/>
                      </a:lnTo>
                      <a:lnTo>
                        <a:pt x="1142" y="231"/>
                      </a:lnTo>
                      <a:lnTo>
                        <a:pt x="1144" y="230"/>
                      </a:lnTo>
                      <a:lnTo>
                        <a:pt x="1145" y="229"/>
                      </a:lnTo>
                      <a:lnTo>
                        <a:pt x="1148" y="228"/>
                      </a:lnTo>
                      <a:lnTo>
                        <a:pt x="1150" y="227"/>
                      </a:lnTo>
                      <a:lnTo>
                        <a:pt x="1151" y="224"/>
                      </a:lnTo>
                      <a:lnTo>
                        <a:pt x="1153" y="223"/>
                      </a:lnTo>
                      <a:lnTo>
                        <a:pt x="1156" y="221"/>
                      </a:lnTo>
                      <a:lnTo>
                        <a:pt x="1157" y="220"/>
                      </a:lnTo>
                      <a:lnTo>
                        <a:pt x="1159" y="217"/>
                      </a:lnTo>
                      <a:lnTo>
                        <a:pt x="1160" y="215"/>
                      </a:lnTo>
                      <a:lnTo>
                        <a:pt x="1163" y="214"/>
                      </a:lnTo>
                      <a:lnTo>
                        <a:pt x="1164" y="212"/>
                      </a:lnTo>
                      <a:lnTo>
                        <a:pt x="1166" y="209"/>
                      </a:lnTo>
                      <a:lnTo>
                        <a:pt x="1167" y="207"/>
                      </a:lnTo>
                      <a:lnTo>
                        <a:pt x="1168" y="205"/>
                      </a:lnTo>
                      <a:lnTo>
                        <a:pt x="1171" y="202"/>
                      </a:lnTo>
                      <a:lnTo>
                        <a:pt x="1172" y="200"/>
                      </a:lnTo>
                      <a:lnTo>
                        <a:pt x="1173" y="198"/>
                      </a:lnTo>
                      <a:lnTo>
                        <a:pt x="1174" y="196"/>
                      </a:lnTo>
                      <a:lnTo>
                        <a:pt x="1174" y="192"/>
                      </a:lnTo>
                      <a:lnTo>
                        <a:pt x="1175" y="191"/>
                      </a:lnTo>
                      <a:lnTo>
                        <a:pt x="1175" y="190"/>
                      </a:lnTo>
                      <a:lnTo>
                        <a:pt x="1175" y="189"/>
                      </a:lnTo>
                      <a:lnTo>
                        <a:pt x="1175" y="187"/>
                      </a:lnTo>
                      <a:lnTo>
                        <a:pt x="1175" y="186"/>
                      </a:lnTo>
                      <a:lnTo>
                        <a:pt x="1175" y="185"/>
                      </a:lnTo>
                      <a:lnTo>
                        <a:pt x="1174" y="185"/>
                      </a:lnTo>
                      <a:lnTo>
                        <a:pt x="1174" y="184"/>
                      </a:lnTo>
                      <a:lnTo>
                        <a:pt x="1174" y="183"/>
                      </a:lnTo>
                      <a:lnTo>
                        <a:pt x="1174" y="182"/>
                      </a:lnTo>
                      <a:lnTo>
                        <a:pt x="1173" y="182"/>
                      </a:lnTo>
                      <a:lnTo>
                        <a:pt x="1173" y="181"/>
                      </a:lnTo>
                      <a:lnTo>
                        <a:pt x="1172" y="179"/>
                      </a:lnTo>
                      <a:lnTo>
                        <a:pt x="1172" y="178"/>
                      </a:lnTo>
                      <a:lnTo>
                        <a:pt x="1171" y="178"/>
                      </a:lnTo>
                      <a:lnTo>
                        <a:pt x="1171" y="177"/>
                      </a:lnTo>
                      <a:lnTo>
                        <a:pt x="1169" y="177"/>
                      </a:lnTo>
                      <a:lnTo>
                        <a:pt x="1169" y="176"/>
                      </a:lnTo>
                      <a:lnTo>
                        <a:pt x="1168" y="176"/>
                      </a:lnTo>
                      <a:lnTo>
                        <a:pt x="1168" y="175"/>
                      </a:lnTo>
                      <a:lnTo>
                        <a:pt x="1168" y="174"/>
                      </a:lnTo>
                      <a:lnTo>
                        <a:pt x="1169" y="172"/>
                      </a:lnTo>
                      <a:lnTo>
                        <a:pt x="1169" y="171"/>
                      </a:lnTo>
                      <a:lnTo>
                        <a:pt x="1169" y="170"/>
                      </a:lnTo>
                      <a:lnTo>
                        <a:pt x="1171" y="169"/>
                      </a:lnTo>
                      <a:lnTo>
                        <a:pt x="1171" y="168"/>
                      </a:lnTo>
                      <a:lnTo>
                        <a:pt x="1171" y="167"/>
                      </a:lnTo>
                      <a:lnTo>
                        <a:pt x="1171" y="166"/>
                      </a:lnTo>
                      <a:lnTo>
                        <a:pt x="1171" y="164"/>
                      </a:lnTo>
                      <a:lnTo>
                        <a:pt x="1171" y="163"/>
                      </a:lnTo>
                      <a:lnTo>
                        <a:pt x="1171" y="162"/>
                      </a:lnTo>
                      <a:lnTo>
                        <a:pt x="1169" y="161"/>
                      </a:lnTo>
                      <a:lnTo>
                        <a:pt x="1169" y="160"/>
                      </a:lnTo>
                      <a:lnTo>
                        <a:pt x="1168" y="159"/>
                      </a:lnTo>
                      <a:lnTo>
                        <a:pt x="1167" y="159"/>
                      </a:lnTo>
                      <a:lnTo>
                        <a:pt x="1167" y="157"/>
                      </a:lnTo>
                      <a:lnTo>
                        <a:pt x="1166" y="157"/>
                      </a:lnTo>
                      <a:lnTo>
                        <a:pt x="1166" y="156"/>
                      </a:lnTo>
                      <a:lnTo>
                        <a:pt x="1165" y="156"/>
                      </a:lnTo>
                      <a:lnTo>
                        <a:pt x="1165" y="155"/>
                      </a:lnTo>
                      <a:lnTo>
                        <a:pt x="1164" y="155"/>
                      </a:lnTo>
                      <a:lnTo>
                        <a:pt x="1163" y="154"/>
                      </a:lnTo>
                      <a:lnTo>
                        <a:pt x="1161" y="153"/>
                      </a:lnTo>
                      <a:lnTo>
                        <a:pt x="1164" y="153"/>
                      </a:lnTo>
                      <a:lnTo>
                        <a:pt x="1166" y="153"/>
                      </a:lnTo>
                      <a:lnTo>
                        <a:pt x="1168" y="154"/>
                      </a:lnTo>
                      <a:lnTo>
                        <a:pt x="1169" y="154"/>
                      </a:lnTo>
                      <a:lnTo>
                        <a:pt x="1172" y="154"/>
                      </a:lnTo>
                      <a:lnTo>
                        <a:pt x="1175" y="154"/>
                      </a:lnTo>
                      <a:lnTo>
                        <a:pt x="1178" y="154"/>
                      </a:lnTo>
                      <a:lnTo>
                        <a:pt x="1180" y="154"/>
                      </a:lnTo>
                      <a:lnTo>
                        <a:pt x="1182" y="154"/>
                      </a:lnTo>
                      <a:lnTo>
                        <a:pt x="1185" y="154"/>
                      </a:lnTo>
                      <a:lnTo>
                        <a:pt x="1187" y="154"/>
                      </a:lnTo>
                      <a:lnTo>
                        <a:pt x="1190" y="154"/>
                      </a:lnTo>
                      <a:lnTo>
                        <a:pt x="1193" y="155"/>
                      </a:lnTo>
                      <a:lnTo>
                        <a:pt x="1195" y="155"/>
                      </a:lnTo>
                      <a:lnTo>
                        <a:pt x="1197" y="155"/>
                      </a:lnTo>
                      <a:lnTo>
                        <a:pt x="1201" y="155"/>
                      </a:lnTo>
                      <a:lnTo>
                        <a:pt x="1203" y="155"/>
                      </a:lnTo>
                      <a:lnTo>
                        <a:pt x="1205" y="155"/>
                      </a:lnTo>
                      <a:lnTo>
                        <a:pt x="1209" y="155"/>
                      </a:lnTo>
                      <a:lnTo>
                        <a:pt x="1211" y="156"/>
                      </a:lnTo>
                      <a:lnTo>
                        <a:pt x="1213" y="156"/>
                      </a:lnTo>
                      <a:lnTo>
                        <a:pt x="1216" y="156"/>
                      </a:lnTo>
                      <a:lnTo>
                        <a:pt x="1219" y="156"/>
                      </a:lnTo>
                      <a:lnTo>
                        <a:pt x="1221" y="156"/>
                      </a:lnTo>
                      <a:lnTo>
                        <a:pt x="1224" y="156"/>
                      </a:lnTo>
                      <a:lnTo>
                        <a:pt x="1226" y="156"/>
                      </a:lnTo>
                      <a:lnTo>
                        <a:pt x="1228" y="157"/>
                      </a:lnTo>
                      <a:lnTo>
                        <a:pt x="1231" y="157"/>
                      </a:lnTo>
                      <a:lnTo>
                        <a:pt x="1233" y="157"/>
                      </a:lnTo>
                      <a:lnTo>
                        <a:pt x="1235" y="157"/>
                      </a:lnTo>
                      <a:lnTo>
                        <a:pt x="1238" y="157"/>
                      </a:lnTo>
                      <a:lnTo>
                        <a:pt x="1240" y="157"/>
                      </a:lnTo>
                      <a:lnTo>
                        <a:pt x="1243" y="157"/>
                      </a:lnTo>
                      <a:lnTo>
                        <a:pt x="1246" y="157"/>
                      </a:lnTo>
                      <a:lnTo>
                        <a:pt x="1249" y="157"/>
                      </a:lnTo>
                      <a:lnTo>
                        <a:pt x="1253" y="159"/>
                      </a:lnTo>
                      <a:lnTo>
                        <a:pt x="1256" y="159"/>
                      </a:lnTo>
                      <a:lnTo>
                        <a:pt x="1260" y="159"/>
                      </a:lnTo>
                      <a:lnTo>
                        <a:pt x="1263" y="159"/>
                      </a:lnTo>
                      <a:lnTo>
                        <a:pt x="1268" y="159"/>
                      </a:lnTo>
                      <a:lnTo>
                        <a:pt x="1271" y="159"/>
                      </a:lnTo>
                      <a:lnTo>
                        <a:pt x="1275" y="159"/>
                      </a:lnTo>
                      <a:lnTo>
                        <a:pt x="1279" y="160"/>
                      </a:lnTo>
                      <a:lnTo>
                        <a:pt x="1284" y="160"/>
                      </a:lnTo>
                      <a:lnTo>
                        <a:pt x="1287" y="160"/>
                      </a:lnTo>
                      <a:lnTo>
                        <a:pt x="1292" y="160"/>
                      </a:lnTo>
                      <a:lnTo>
                        <a:pt x="1297" y="160"/>
                      </a:lnTo>
                      <a:lnTo>
                        <a:pt x="1301" y="161"/>
                      </a:lnTo>
                      <a:lnTo>
                        <a:pt x="1305" y="161"/>
                      </a:lnTo>
                      <a:lnTo>
                        <a:pt x="1309" y="161"/>
                      </a:lnTo>
                      <a:lnTo>
                        <a:pt x="1314" y="161"/>
                      </a:lnTo>
                      <a:lnTo>
                        <a:pt x="1319" y="162"/>
                      </a:lnTo>
                      <a:lnTo>
                        <a:pt x="1323" y="162"/>
                      </a:lnTo>
                      <a:lnTo>
                        <a:pt x="1327" y="162"/>
                      </a:lnTo>
                      <a:lnTo>
                        <a:pt x="1331" y="163"/>
                      </a:lnTo>
                      <a:lnTo>
                        <a:pt x="1336" y="163"/>
                      </a:lnTo>
                      <a:lnTo>
                        <a:pt x="1340" y="163"/>
                      </a:lnTo>
                      <a:lnTo>
                        <a:pt x="1345" y="164"/>
                      </a:lnTo>
                      <a:lnTo>
                        <a:pt x="1349" y="164"/>
                      </a:lnTo>
                      <a:lnTo>
                        <a:pt x="1353" y="166"/>
                      </a:lnTo>
                      <a:lnTo>
                        <a:pt x="1358" y="166"/>
                      </a:lnTo>
                      <a:lnTo>
                        <a:pt x="1361" y="167"/>
                      </a:lnTo>
                      <a:lnTo>
                        <a:pt x="1365" y="167"/>
                      </a:lnTo>
                      <a:lnTo>
                        <a:pt x="1369" y="168"/>
                      </a:lnTo>
                      <a:lnTo>
                        <a:pt x="1373" y="166"/>
                      </a:lnTo>
                      <a:lnTo>
                        <a:pt x="1376" y="163"/>
                      </a:lnTo>
                      <a:lnTo>
                        <a:pt x="1380" y="161"/>
                      </a:lnTo>
                      <a:lnTo>
                        <a:pt x="1383" y="159"/>
                      </a:lnTo>
                      <a:lnTo>
                        <a:pt x="1386" y="156"/>
                      </a:lnTo>
                      <a:lnTo>
                        <a:pt x="1389" y="154"/>
                      </a:lnTo>
                      <a:lnTo>
                        <a:pt x="1392" y="153"/>
                      </a:lnTo>
                      <a:lnTo>
                        <a:pt x="1396" y="150"/>
                      </a:lnTo>
                      <a:lnTo>
                        <a:pt x="1398" y="148"/>
                      </a:lnTo>
                      <a:lnTo>
                        <a:pt x="1402" y="146"/>
                      </a:lnTo>
                      <a:lnTo>
                        <a:pt x="1404" y="144"/>
                      </a:lnTo>
                      <a:lnTo>
                        <a:pt x="1408" y="141"/>
                      </a:lnTo>
                      <a:lnTo>
                        <a:pt x="1410" y="140"/>
                      </a:lnTo>
                      <a:lnTo>
                        <a:pt x="1412" y="138"/>
                      </a:lnTo>
                      <a:lnTo>
                        <a:pt x="1416" y="135"/>
                      </a:lnTo>
                      <a:lnTo>
                        <a:pt x="1418" y="133"/>
                      </a:lnTo>
                      <a:lnTo>
                        <a:pt x="1420" y="132"/>
                      </a:lnTo>
                      <a:lnTo>
                        <a:pt x="1423" y="130"/>
                      </a:lnTo>
                      <a:lnTo>
                        <a:pt x="1425" y="129"/>
                      </a:lnTo>
                      <a:lnTo>
                        <a:pt x="1427" y="126"/>
                      </a:lnTo>
                      <a:lnTo>
                        <a:pt x="1428" y="124"/>
                      </a:lnTo>
                      <a:lnTo>
                        <a:pt x="1431" y="123"/>
                      </a:lnTo>
                      <a:lnTo>
                        <a:pt x="1432" y="122"/>
                      </a:lnTo>
                      <a:lnTo>
                        <a:pt x="1434" y="119"/>
                      </a:lnTo>
                      <a:lnTo>
                        <a:pt x="1435" y="118"/>
                      </a:lnTo>
                      <a:lnTo>
                        <a:pt x="1436" y="117"/>
                      </a:lnTo>
                      <a:lnTo>
                        <a:pt x="1438" y="115"/>
                      </a:lnTo>
                      <a:lnTo>
                        <a:pt x="1439" y="114"/>
                      </a:lnTo>
                      <a:lnTo>
                        <a:pt x="1440" y="112"/>
                      </a:lnTo>
                      <a:lnTo>
                        <a:pt x="1441" y="111"/>
                      </a:lnTo>
                      <a:lnTo>
                        <a:pt x="1441" y="110"/>
                      </a:lnTo>
                      <a:lnTo>
                        <a:pt x="1442" y="109"/>
                      </a:lnTo>
                      <a:lnTo>
                        <a:pt x="1443" y="108"/>
                      </a:lnTo>
                      <a:lnTo>
                        <a:pt x="1443" y="107"/>
                      </a:lnTo>
                      <a:lnTo>
                        <a:pt x="1444" y="105"/>
                      </a:lnTo>
                      <a:lnTo>
                        <a:pt x="1446" y="105"/>
                      </a:lnTo>
                      <a:lnTo>
                        <a:pt x="1446" y="104"/>
                      </a:lnTo>
                      <a:lnTo>
                        <a:pt x="1447" y="103"/>
                      </a:lnTo>
                      <a:lnTo>
                        <a:pt x="1447" y="102"/>
                      </a:lnTo>
                      <a:lnTo>
                        <a:pt x="1448" y="101"/>
                      </a:lnTo>
                      <a:lnTo>
                        <a:pt x="1449" y="100"/>
                      </a:lnTo>
                      <a:lnTo>
                        <a:pt x="1449" y="99"/>
                      </a:lnTo>
                      <a:lnTo>
                        <a:pt x="1450" y="97"/>
                      </a:lnTo>
                      <a:lnTo>
                        <a:pt x="1450" y="96"/>
                      </a:lnTo>
                      <a:lnTo>
                        <a:pt x="1451" y="96"/>
                      </a:lnTo>
                      <a:lnTo>
                        <a:pt x="1451" y="95"/>
                      </a:lnTo>
                      <a:lnTo>
                        <a:pt x="1453" y="94"/>
                      </a:lnTo>
                      <a:lnTo>
                        <a:pt x="1453" y="93"/>
                      </a:lnTo>
                      <a:lnTo>
                        <a:pt x="1454" y="92"/>
                      </a:lnTo>
                      <a:lnTo>
                        <a:pt x="1454" y="90"/>
                      </a:lnTo>
                      <a:lnTo>
                        <a:pt x="1454" y="89"/>
                      </a:lnTo>
                      <a:lnTo>
                        <a:pt x="1455" y="88"/>
                      </a:lnTo>
                      <a:lnTo>
                        <a:pt x="1455" y="87"/>
                      </a:lnTo>
                      <a:lnTo>
                        <a:pt x="1455" y="86"/>
                      </a:lnTo>
                      <a:lnTo>
                        <a:pt x="1454" y="85"/>
                      </a:lnTo>
                      <a:lnTo>
                        <a:pt x="1454" y="83"/>
                      </a:lnTo>
                      <a:lnTo>
                        <a:pt x="1453" y="83"/>
                      </a:lnTo>
                      <a:lnTo>
                        <a:pt x="1451" y="83"/>
                      </a:lnTo>
                      <a:lnTo>
                        <a:pt x="1449" y="85"/>
                      </a:lnTo>
                      <a:lnTo>
                        <a:pt x="1447" y="86"/>
                      </a:lnTo>
                      <a:lnTo>
                        <a:pt x="1446" y="86"/>
                      </a:lnTo>
                      <a:lnTo>
                        <a:pt x="1442" y="87"/>
                      </a:lnTo>
                      <a:lnTo>
                        <a:pt x="1440" y="87"/>
                      </a:lnTo>
                      <a:lnTo>
                        <a:pt x="1438" y="88"/>
                      </a:lnTo>
                      <a:lnTo>
                        <a:pt x="1435" y="88"/>
                      </a:lnTo>
                      <a:lnTo>
                        <a:pt x="1432" y="88"/>
                      </a:lnTo>
                      <a:lnTo>
                        <a:pt x="1429" y="89"/>
                      </a:lnTo>
                      <a:lnTo>
                        <a:pt x="1426" y="89"/>
                      </a:lnTo>
                      <a:lnTo>
                        <a:pt x="1423" y="89"/>
                      </a:lnTo>
                      <a:lnTo>
                        <a:pt x="1420" y="89"/>
                      </a:lnTo>
                      <a:lnTo>
                        <a:pt x="1417" y="89"/>
                      </a:lnTo>
                      <a:lnTo>
                        <a:pt x="1413" y="89"/>
                      </a:lnTo>
                      <a:lnTo>
                        <a:pt x="1410" y="90"/>
                      </a:lnTo>
                      <a:lnTo>
                        <a:pt x="1408" y="90"/>
                      </a:lnTo>
                      <a:lnTo>
                        <a:pt x="1404" y="90"/>
                      </a:lnTo>
                      <a:lnTo>
                        <a:pt x="1401" y="90"/>
                      </a:lnTo>
                      <a:lnTo>
                        <a:pt x="1397" y="90"/>
                      </a:lnTo>
                      <a:lnTo>
                        <a:pt x="1395" y="90"/>
                      </a:lnTo>
                      <a:lnTo>
                        <a:pt x="1391" y="89"/>
                      </a:lnTo>
                      <a:lnTo>
                        <a:pt x="1388" y="89"/>
                      </a:lnTo>
                      <a:lnTo>
                        <a:pt x="1386" y="89"/>
                      </a:lnTo>
                      <a:lnTo>
                        <a:pt x="1382" y="89"/>
                      </a:lnTo>
                      <a:lnTo>
                        <a:pt x="1380" y="89"/>
                      </a:lnTo>
                      <a:lnTo>
                        <a:pt x="1376" y="89"/>
                      </a:lnTo>
                      <a:lnTo>
                        <a:pt x="1374" y="89"/>
                      </a:lnTo>
                      <a:lnTo>
                        <a:pt x="1372" y="89"/>
                      </a:lnTo>
                      <a:lnTo>
                        <a:pt x="1369" y="89"/>
                      </a:lnTo>
                      <a:lnTo>
                        <a:pt x="1367" y="89"/>
                      </a:lnTo>
                      <a:lnTo>
                        <a:pt x="1365" y="89"/>
                      </a:lnTo>
                      <a:lnTo>
                        <a:pt x="1365" y="88"/>
                      </a:lnTo>
                      <a:lnTo>
                        <a:pt x="1366" y="87"/>
                      </a:lnTo>
                      <a:lnTo>
                        <a:pt x="1366" y="86"/>
                      </a:lnTo>
                      <a:lnTo>
                        <a:pt x="1366" y="85"/>
                      </a:lnTo>
                      <a:lnTo>
                        <a:pt x="1366" y="83"/>
                      </a:lnTo>
                      <a:lnTo>
                        <a:pt x="1366" y="82"/>
                      </a:lnTo>
                      <a:lnTo>
                        <a:pt x="1366" y="81"/>
                      </a:lnTo>
                      <a:lnTo>
                        <a:pt x="1367" y="80"/>
                      </a:lnTo>
                      <a:lnTo>
                        <a:pt x="1367" y="79"/>
                      </a:lnTo>
                      <a:lnTo>
                        <a:pt x="1367" y="78"/>
                      </a:lnTo>
                      <a:lnTo>
                        <a:pt x="1367" y="77"/>
                      </a:lnTo>
                      <a:lnTo>
                        <a:pt x="1367" y="75"/>
                      </a:lnTo>
                      <a:lnTo>
                        <a:pt x="1367" y="74"/>
                      </a:lnTo>
                      <a:lnTo>
                        <a:pt x="1367" y="73"/>
                      </a:lnTo>
                      <a:lnTo>
                        <a:pt x="1367" y="72"/>
                      </a:lnTo>
                      <a:lnTo>
                        <a:pt x="1366" y="72"/>
                      </a:lnTo>
                      <a:lnTo>
                        <a:pt x="1366" y="71"/>
                      </a:lnTo>
                      <a:lnTo>
                        <a:pt x="1366" y="70"/>
                      </a:lnTo>
                      <a:lnTo>
                        <a:pt x="1366" y="68"/>
                      </a:lnTo>
                      <a:lnTo>
                        <a:pt x="1365" y="70"/>
                      </a:lnTo>
                      <a:lnTo>
                        <a:pt x="1364" y="70"/>
                      </a:lnTo>
                      <a:lnTo>
                        <a:pt x="1364" y="71"/>
                      </a:lnTo>
                      <a:lnTo>
                        <a:pt x="1362" y="72"/>
                      </a:lnTo>
                      <a:lnTo>
                        <a:pt x="1361" y="73"/>
                      </a:lnTo>
                      <a:lnTo>
                        <a:pt x="1360" y="74"/>
                      </a:lnTo>
                      <a:lnTo>
                        <a:pt x="1360" y="75"/>
                      </a:lnTo>
                      <a:lnTo>
                        <a:pt x="1359" y="75"/>
                      </a:lnTo>
                      <a:lnTo>
                        <a:pt x="1358" y="77"/>
                      </a:lnTo>
                      <a:lnTo>
                        <a:pt x="1357" y="78"/>
                      </a:lnTo>
                      <a:lnTo>
                        <a:pt x="1356" y="79"/>
                      </a:lnTo>
                      <a:lnTo>
                        <a:pt x="1354" y="80"/>
                      </a:lnTo>
                      <a:lnTo>
                        <a:pt x="1353" y="80"/>
                      </a:lnTo>
                      <a:lnTo>
                        <a:pt x="1353" y="81"/>
                      </a:lnTo>
                      <a:lnTo>
                        <a:pt x="1352" y="81"/>
                      </a:lnTo>
                      <a:lnTo>
                        <a:pt x="1351" y="82"/>
                      </a:lnTo>
                      <a:lnTo>
                        <a:pt x="1350" y="82"/>
                      </a:lnTo>
                      <a:lnTo>
                        <a:pt x="1350" y="83"/>
                      </a:lnTo>
                      <a:lnTo>
                        <a:pt x="1349" y="83"/>
                      </a:lnTo>
                      <a:lnTo>
                        <a:pt x="1347" y="83"/>
                      </a:lnTo>
                      <a:lnTo>
                        <a:pt x="1346" y="85"/>
                      </a:lnTo>
                      <a:lnTo>
                        <a:pt x="1345" y="85"/>
                      </a:lnTo>
                      <a:lnTo>
                        <a:pt x="1344" y="86"/>
                      </a:lnTo>
                      <a:lnTo>
                        <a:pt x="1343" y="86"/>
                      </a:lnTo>
                      <a:lnTo>
                        <a:pt x="1342" y="87"/>
                      </a:lnTo>
                      <a:lnTo>
                        <a:pt x="1340" y="87"/>
                      </a:lnTo>
                      <a:lnTo>
                        <a:pt x="1339" y="88"/>
                      </a:lnTo>
                      <a:lnTo>
                        <a:pt x="1338" y="88"/>
                      </a:lnTo>
                      <a:lnTo>
                        <a:pt x="1337" y="88"/>
                      </a:lnTo>
                      <a:lnTo>
                        <a:pt x="1335" y="89"/>
                      </a:lnTo>
                      <a:lnTo>
                        <a:pt x="1332" y="89"/>
                      </a:lnTo>
                      <a:lnTo>
                        <a:pt x="1329" y="89"/>
                      </a:lnTo>
                      <a:lnTo>
                        <a:pt x="1325" y="90"/>
                      </a:lnTo>
                      <a:lnTo>
                        <a:pt x="1322" y="90"/>
                      </a:lnTo>
                      <a:lnTo>
                        <a:pt x="1319" y="90"/>
                      </a:lnTo>
                      <a:lnTo>
                        <a:pt x="1315" y="89"/>
                      </a:lnTo>
                      <a:lnTo>
                        <a:pt x="1310" y="89"/>
                      </a:lnTo>
                      <a:lnTo>
                        <a:pt x="1307" y="89"/>
                      </a:lnTo>
                      <a:lnTo>
                        <a:pt x="1302" y="89"/>
                      </a:lnTo>
                      <a:lnTo>
                        <a:pt x="1298" y="88"/>
                      </a:lnTo>
                      <a:lnTo>
                        <a:pt x="1293" y="88"/>
                      </a:lnTo>
                      <a:lnTo>
                        <a:pt x="1288" y="87"/>
                      </a:lnTo>
                      <a:lnTo>
                        <a:pt x="1284" y="87"/>
                      </a:lnTo>
                      <a:lnTo>
                        <a:pt x="1279" y="86"/>
                      </a:lnTo>
                      <a:lnTo>
                        <a:pt x="1275" y="86"/>
                      </a:lnTo>
                      <a:lnTo>
                        <a:pt x="1270" y="85"/>
                      </a:lnTo>
                      <a:lnTo>
                        <a:pt x="1264" y="85"/>
                      </a:lnTo>
                      <a:lnTo>
                        <a:pt x="1260" y="83"/>
                      </a:lnTo>
                      <a:lnTo>
                        <a:pt x="1255" y="83"/>
                      </a:lnTo>
                      <a:lnTo>
                        <a:pt x="1250" y="82"/>
                      </a:lnTo>
                      <a:lnTo>
                        <a:pt x="1246" y="82"/>
                      </a:lnTo>
                      <a:lnTo>
                        <a:pt x="1240" y="81"/>
                      </a:lnTo>
                      <a:lnTo>
                        <a:pt x="1235" y="81"/>
                      </a:lnTo>
                      <a:lnTo>
                        <a:pt x="1231" y="80"/>
                      </a:lnTo>
                      <a:lnTo>
                        <a:pt x="1226" y="80"/>
                      </a:lnTo>
                      <a:lnTo>
                        <a:pt x="1223" y="79"/>
                      </a:lnTo>
                      <a:lnTo>
                        <a:pt x="1218" y="79"/>
                      </a:lnTo>
                      <a:lnTo>
                        <a:pt x="1213" y="79"/>
                      </a:lnTo>
                      <a:lnTo>
                        <a:pt x="1210" y="79"/>
                      </a:lnTo>
                      <a:lnTo>
                        <a:pt x="1205" y="78"/>
                      </a:lnTo>
                      <a:lnTo>
                        <a:pt x="1202" y="78"/>
                      </a:lnTo>
                      <a:lnTo>
                        <a:pt x="1203" y="78"/>
                      </a:lnTo>
                      <a:lnTo>
                        <a:pt x="1203" y="77"/>
                      </a:lnTo>
                      <a:lnTo>
                        <a:pt x="1204" y="75"/>
                      </a:lnTo>
                      <a:lnTo>
                        <a:pt x="1205" y="74"/>
                      </a:lnTo>
                      <a:lnTo>
                        <a:pt x="1206" y="73"/>
                      </a:lnTo>
                      <a:lnTo>
                        <a:pt x="1208" y="72"/>
                      </a:lnTo>
                      <a:lnTo>
                        <a:pt x="1209" y="72"/>
                      </a:lnTo>
                      <a:lnTo>
                        <a:pt x="1209" y="71"/>
                      </a:lnTo>
                      <a:lnTo>
                        <a:pt x="1210" y="71"/>
                      </a:lnTo>
                      <a:lnTo>
                        <a:pt x="1210" y="70"/>
                      </a:lnTo>
                      <a:lnTo>
                        <a:pt x="1211" y="68"/>
                      </a:lnTo>
                      <a:lnTo>
                        <a:pt x="1212" y="67"/>
                      </a:lnTo>
                      <a:lnTo>
                        <a:pt x="1212" y="66"/>
                      </a:lnTo>
                      <a:lnTo>
                        <a:pt x="1213" y="66"/>
                      </a:lnTo>
                      <a:lnTo>
                        <a:pt x="1213" y="65"/>
                      </a:lnTo>
                      <a:lnTo>
                        <a:pt x="1215" y="64"/>
                      </a:lnTo>
                      <a:lnTo>
                        <a:pt x="1215" y="63"/>
                      </a:lnTo>
                      <a:lnTo>
                        <a:pt x="1215" y="62"/>
                      </a:lnTo>
                      <a:lnTo>
                        <a:pt x="1215" y="60"/>
                      </a:lnTo>
                      <a:lnTo>
                        <a:pt x="1216" y="60"/>
                      </a:lnTo>
                      <a:lnTo>
                        <a:pt x="1216" y="59"/>
                      </a:lnTo>
                      <a:lnTo>
                        <a:pt x="1215" y="58"/>
                      </a:lnTo>
                      <a:lnTo>
                        <a:pt x="1215" y="57"/>
                      </a:lnTo>
                      <a:lnTo>
                        <a:pt x="1215" y="56"/>
                      </a:lnTo>
                      <a:lnTo>
                        <a:pt x="1215" y="55"/>
                      </a:lnTo>
                      <a:lnTo>
                        <a:pt x="1215" y="53"/>
                      </a:lnTo>
                      <a:lnTo>
                        <a:pt x="1213" y="53"/>
                      </a:lnTo>
                      <a:lnTo>
                        <a:pt x="1213" y="52"/>
                      </a:lnTo>
                      <a:lnTo>
                        <a:pt x="1213" y="51"/>
                      </a:lnTo>
                      <a:lnTo>
                        <a:pt x="1213" y="50"/>
                      </a:lnTo>
                      <a:lnTo>
                        <a:pt x="1212" y="50"/>
                      </a:lnTo>
                      <a:lnTo>
                        <a:pt x="1212" y="49"/>
                      </a:lnTo>
                      <a:lnTo>
                        <a:pt x="1212" y="48"/>
                      </a:lnTo>
                      <a:lnTo>
                        <a:pt x="1211" y="47"/>
                      </a:lnTo>
                      <a:lnTo>
                        <a:pt x="1211" y="45"/>
                      </a:lnTo>
                      <a:lnTo>
                        <a:pt x="1210" y="44"/>
                      </a:lnTo>
                      <a:lnTo>
                        <a:pt x="1210" y="43"/>
                      </a:lnTo>
                      <a:lnTo>
                        <a:pt x="1209" y="42"/>
                      </a:lnTo>
                      <a:lnTo>
                        <a:pt x="1209" y="41"/>
                      </a:lnTo>
                      <a:lnTo>
                        <a:pt x="1208" y="40"/>
                      </a:lnTo>
                      <a:lnTo>
                        <a:pt x="1208" y="38"/>
                      </a:lnTo>
                      <a:lnTo>
                        <a:pt x="1206" y="37"/>
                      </a:lnTo>
                      <a:lnTo>
                        <a:pt x="1206" y="36"/>
                      </a:lnTo>
                      <a:lnTo>
                        <a:pt x="1206" y="35"/>
                      </a:lnTo>
                      <a:lnTo>
                        <a:pt x="1206" y="34"/>
                      </a:lnTo>
                      <a:lnTo>
                        <a:pt x="1205" y="34"/>
                      </a:lnTo>
                      <a:lnTo>
                        <a:pt x="1205" y="33"/>
                      </a:lnTo>
                      <a:lnTo>
                        <a:pt x="1205" y="32"/>
                      </a:lnTo>
                      <a:lnTo>
                        <a:pt x="1204" y="30"/>
                      </a:lnTo>
                      <a:lnTo>
                        <a:pt x="1204" y="29"/>
                      </a:lnTo>
                      <a:lnTo>
                        <a:pt x="1203" y="28"/>
                      </a:lnTo>
                      <a:lnTo>
                        <a:pt x="1202" y="27"/>
                      </a:lnTo>
                      <a:lnTo>
                        <a:pt x="1201" y="27"/>
                      </a:lnTo>
                      <a:lnTo>
                        <a:pt x="1201" y="26"/>
                      </a:lnTo>
                      <a:lnTo>
                        <a:pt x="1200" y="26"/>
                      </a:lnTo>
                      <a:lnTo>
                        <a:pt x="1200" y="25"/>
                      </a:lnTo>
                      <a:lnTo>
                        <a:pt x="1198" y="25"/>
                      </a:lnTo>
                      <a:lnTo>
                        <a:pt x="1197" y="25"/>
                      </a:lnTo>
                      <a:lnTo>
                        <a:pt x="1197" y="23"/>
                      </a:lnTo>
                      <a:lnTo>
                        <a:pt x="1196" y="23"/>
                      </a:lnTo>
                      <a:lnTo>
                        <a:pt x="1195" y="23"/>
                      </a:lnTo>
                      <a:lnTo>
                        <a:pt x="1195" y="22"/>
                      </a:lnTo>
                      <a:lnTo>
                        <a:pt x="1195" y="21"/>
                      </a:lnTo>
                      <a:lnTo>
                        <a:pt x="1195" y="20"/>
                      </a:lnTo>
                      <a:lnTo>
                        <a:pt x="1195" y="19"/>
                      </a:lnTo>
                      <a:lnTo>
                        <a:pt x="1195" y="18"/>
                      </a:lnTo>
                      <a:lnTo>
                        <a:pt x="1195" y="16"/>
                      </a:lnTo>
                      <a:lnTo>
                        <a:pt x="1194" y="15"/>
                      </a:lnTo>
                      <a:lnTo>
                        <a:pt x="1194" y="14"/>
                      </a:lnTo>
                      <a:lnTo>
                        <a:pt x="1194" y="13"/>
                      </a:lnTo>
                      <a:lnTo>
                        <a:pt x="1194" y="12"/>
                      </a:lnTo>
                      <a:lnTo>
                        <a:pt x="1194" y="11"/>
                      </a:lnTo>
                      <a:lnTo>
                        <a:pt x="1195" y="10"/>
                      </a:lnTo>
                      <a:lnTo>
                        <a:pt x="1198" y="8"/>
                      </a:lnTo>
                      <a:lnTo>
                        <a:pt x="1203" y="7"/>
                      </a:lnTo>
                      <a:lnTo>
                        <a:pt x="1209" y="6"/>
                      </a:lnTo>
                      <a:lnTo>
                        <a:pt x="1213" y="5"/>
                      </a:lnTo>
                      <a:lnTo>
                        <a:pt x="1218" y="5"/>
                      </a:lnTo>
                      <a:lnTo>
                        <a:pt x="1224" y="4"/>
                      </a:lnTo>
                      <a:lnTo>
                        <a:pt x="1228" y="3"/>
                      </a:lnTo>
                      <a:lnTo>
                        <a:pt x="1234" y="3"/>
                      </a:lnTo>
                      <a:lnTo>
                        <a:pt x="1240" y="1"/>
                      </a:lnTo>
                      <a:lnTo>
                        <a:pt x="1246" y="1"/>
                      </a:lnTo>
                      <a:lnTo>
                        <a:pt x="1252" y="1"/>
                      </a:lnTo>
                      <a:lnTo>
                        <a:pt x="1257" y="1"/>
                      </a:lnTo>
                      <a:lnTo>
                        <a:pt x="1263" y="0"/>
                      </a:lnTo>
                      <a:lnTo>
                        <a:pt x="1269" y="0"/>
                      </a:lnTo>
                      <a:lnTo>
                        <a:pt x="1275" y="0"/>
                      </a:lnTo>
                      <a:lnTo>
                        <a:pt x="1280" y="0"/>
                      </a:lnTo>
                      <a:lnTo>
                        <a:pt x="1286" y="0"/>
                      </a:lnTo>
                      <a:lnTo>
                        <a:pt x="1292" y="0"/>
                      </a:lnTo>
                      <a:lnTo>
                        <a:pt x="1298" y="0"/>
                      </a:lnTo>
                      <a:lnTo>
                        <a:pt x="1304" y="0"/>
                      </a:lnTo>
                      <a:lnTo>
                        <a:pt x="1309" y="0"/>
                      </a:lnTo>
                      <a:lnTo>
                        <a:pt x="1316" y="0"/>
                      </a:lnTo>
                      <a:lnTo>
                        <a:pt x="1322" y="0"/>
                      </a:lnTo>
                      <a:lnTo>
                        <a:pt x="1328" y="0"/>
                      </a:lnTo>
                      <a:lnTo>
                        <a:pt x="1334" y="1"/>
                      </a:lnTo>
                      <a:lnTo>
                        <a:pt x="1338" y="1"/>
                      </a:lnTo>
                      <a:lnTo>
                        <a:pt x="1344" y="1"/>
                      </a:lnTo>
                      <a:lnTo>
                        <a:pt x="1350" y="1"/>
                      </a:lnTo>
                      <a:lnTo>
                        <a:pt x="1356" y="1"/>
                      </a:lnTo>
                      <a:lnTo>
                        <a:pt x="1360" y="1"/>
                      </a:lnTo>
                      <a:lnTo>
                        <a:pt x="1366" y="1"/>
                      </a:lnTo>
                      <a:lnTo>
                        <a:pt x="1371" y="1"/>
                      </a:lnTo>
                      <a:lnTo>
                        <a:pt x="1373" y="7"/>
                      </a:lnTo>
                      <a:lnTo>
                        <a:pt x="1374" y="12"/>
                      </a:lnTo>
                      <a:lnTo>
                        <a:pt x="1376" y="15"/>
                      </a:lnTo>
                      <a:lnTo>
                        <a:pt x="1379" y="19"/>
                      </a:lnTo>
                      <a:lnTo>
                        <a:pt x="1382" y="22"/>
                      </a:lnTo>
                      <a:lnTo>
                        <a:pt x="1384" y="25"/>
                      </a:lnTo>
                      <a:lnTo>
                        <a:pt x="1388" y="27"/>
                      </a:lnTo>
                      <a:lnTo>
                        <a:pt x="1391" y="29"/>
                      </a:lnTo>
                      <a:lnTo>
                        <a:pt x="1395" y="30"/>
                      </a:lnTo>
                      <a:lnTo>
                        <a:pt x="1398" y="32"/>
                      </a:lnTo>
                      <a:lnTo>
                        <a:pt x="1402" y="33"/>
                      </a:lnTo>
                      <a:lnTo>
                        <a:pt x="1406" y="34"/>
                      </a:lnTo>
                      <a:lnTo>
                        <a:pt x="1410" y="34"/>
                      </a:lnTo>
                      <a:lnTo>
                        <a:pt x="1414" y="34"/>
                      </a:lnTo>
                      <a:lnTo>
                        <a:pt x="1419" y="34"/>
                      </a:lnTo>
                      <a:lnTo>
                        <a:pt x="1423" y="34"/>
                      </a:lnTo>
                      <a:lnTo>
                        <a:pt x="1427" y="33"/>
                      </a:lnTo>
                      <a:lnTo>
                        <a:pt x="1432" y="33"/>
                      </a:lnTo>
                      <a:lnTo>
                        <a:pt x="1436" y="32"/>
                      </a:lnTo>
                      <a:lnTo>
                        <a:pt x="1440" y="32"/>
                      </a:lnTo>
                      <a:lnTo>
                        <a:pt x="1444" y="30"/>
                      </a:lnTo>
                      <a:lnTo>
                        <a:pt x="1449" y="29"/>
                      </a:lnTo>
                      <a:lnTo>
                        <a:pt x="1454" y="28"/>
                      </a:lnTo>
                      <a:lnTo>
                        <a:pt x="1457" y="27"/>
                      </a:lnTo>
                      <a:lnTo>
                        <a:pt x="1462" y="26"/>
                      </a:lnTo>
                      <a:lnTo>
                        <a:pt x="1465" y="26"/>
                      </a:lnTo>
                      <a:lnTo>
                        <a:pt x="1470" y="25"/>
                      </a:lnTo>
                      <a:lnTo>
                        <a:pt x="1473" y="23"/>
                      </a:lnTo>
                      <a:lnTo>
                        <a:pt x="1478" y="23"/>
                      </a:lnTo>
                      <a:lnTo>
                        <a:pt x="1481" y="22"/>
                      </a:lnTo>
                      <a:lnTo>
                        <a:pt x="1485" y="22"/>
                      </a:lnTo>
                      <a:lnTo>
                        <a:pt x="1488" y="22"/>
                      </a:lnTo>
                      <a:lnTo>
                        <a:pt x="1490" y="22"/>
                      </a:lnTo>
                      <a:lnTo>
                        <a:pt x="1491" y="22"/>
                      </a:lnTo>
                      <a:lnTo>
                        <a:pt x="1492" y="23"/>
                      </a:lnTo>
                      <a:lnTo>
                        <a:pt x="1493" y="23"/>
                      </a:lnTo>
                      <a:lnTo>
                        <a:pt x="1494" y="23"/>
                      </a:lnTo>
                      <a:lnTo>
                        <a:pt x="1495" y="23"/>
                      </a:lnTo>
                      <a:lnTo>
                        <a:pt x="1496" y="23"/>
                      </a:lnTo>
                      <a:lnTo>
                        <a:pt x="1498" y="23"/>
                      </a:lnTo>
                      <a:lnTo>
                        <a:pt x="1499" y="23"/>
                      </a:lnTo>
                      <a:lnTo>
                        <a:pt x="1500" y="25"/>
                      </a:lnTo>
                      <a:lnTo>
                        <a:pt x="1501" y="25"/>
                      </a:lnTo>
                      <a:lnTo>
                        <a:pt x="1502" y="25"/>
                      </a:lnTo>
                      <a:lnTo>
                        <a:pt x="1503" y="25"/>
                      </a:lnTo>
                      <a:lnTo>
                        <a:pt x="1505" y="25"/>
                      </a:lnTo>
                      <a:lnTo>
                        <a:pt x="1506" y="25"/>
                      </a:lnTo>
                      <a:lnTo>
                        <a:pt x="1507" y="26"/>
                      </a:lnTo>
                      <a:lnTo>
                        <a:pt x="1508" y="26"/>
                      </a:lnTo>
                      <a:lnTo>
                        <a:pt x="1509" y="26"/>
                      </a:lnTo>
                      <a:lnTo>
                        <a:pt x="1510" y="26"/>
                      </a:lnTo>
                      <a:lnTo>
                        <a:pt x="1512" y="26"/>
                      </a:lnTo>
                      <a:lnTo>
                        <a:pt x="1513" y="26"/>
                      </a:lnTo>
                      <a:lnTo>
                        <a:pt x="1513" y="27"/>
                      </a:lnTo>
                      <a:lnTo>
                        <a:pt x="1457" y="48"/>
                      </a:lnTo>
                      <a:lnTo>
                        <a:pt x="1457" y="58"/>
                      </a:lnTo>
                      <a:lnTo>
                        <a:pt x="1753" y="70"/>
                      </a:lnTo>
                      <a:lnTo>
                        <a:pt x="1774" y="53"/>
                      </a:lnTo>
                      <a:lnTo>
                        <a:pt x="1775" y="53"/>
                      </a:lnTo>
                      <a:lnTo>
                        <a:pt x="1775" y="55"/>
                      </a:lnTo>
                      <a:lnTo>
                        <a:pt x="1776" y="55"/>
                      </a:lnTo>
                      <a:lnTo>
                        <a:pt x="1776" y="56"/>
                      </a:lnTo>
                      <a:lnTo>
                        <a:pt x="1777" y="57"/>
                      </a:lnTo>
                      <a:lnTo>
                        <a:pt x="1778" y="58"/>
                      </a:lnTo>
                      <a:lnTo>
                        <a:pt x="1780" y="59"/>
                      </a:lnTo>
                      <a:lnTo>
                        <a:pt x="1781" y="60"/>
                      </a:lnTo>
                      <a:lnTo>
                        <a:pt x="1781" y="62"/>
                      </a:lnTo>
                      <a:lnTo>
                        <a:pt x="1782" y="63"/>
                      </a:lnTo>
                      <a:lnTo>
                        <a:pt x="1783" y="64"/>
                      </a:lnTo>
                      <a:lnTo>
                        <a:pt x="1784" y="65"/>
                      </a:lnTo>
                      <a:lnTo>
                        <a:pt x="1785" y="66"/>
                      </a:lnTo>
                      <a:lnTo>
                        <a:pt x="1787" y="66"/>
                      </a:lnTo>
                      <a:lnTo>
                        <a:pt x="1788" y="67"/>
                      </a:lnTo>
                      <a:lnTo>
                        <a:pt x="1789" y="68"/>
                      </a:lnTo>
                      <a:lnTo>
                        <a:pt x="1790" y="70"/>
                      </a:lnTo>
                      <a:lnTo>
                        <a:pt x="1791" y="71"/>
                      </a:lnTo>
                      <a:lnTo>
                        <a:pt x="1792" y="72"/>
                      </a:lnTo>
                      <a:lnTo>
                        <a:pt x="1793" y="73"/>
                      </a:lnTo>
                      <a:lnTo>
                        <a:pt x="1795" y="73"/>
                      </a:lnTo>
                      <a:lnTo>
                        <a:pt x="1795" y="74"/>
                      </a:lnTo>
                      <a:lnTo>
                        <a:pt x="1796" y="75"/>
                      </a:lnTo>
                      <a:lnTo>
                        <a:pt x="1797" y="75"/>
                      </a:lnTo>
                      <a:lnTo>
                        <a:pt x="1798" y="77"/>
                      </a:lnTo>
                      <a:lnTo>
                        <a:pt x="1799" y="78"/>
                      </a:lnTo>
                      <a:lnTo>
                        <a:pt x="1800" y="78"/>
                      </a:lnTo>
                      <a:lnTo>
                        <a:pt x="1802" y="78"/>
                      </a:lnTo>
                      <a:lnTo>
                        <a:pt x="1803" y="78"/>
                      </a:lnTo>
                      <a:lnTo>
                        <a:pt x="1803" y="79"/>
                      </a:lnTo>
                      <a:lnTo>
                        <a:pt x="1804" y="79"/>
                      </a:lnTo>
                      <a:lnTo>
                        <a:pt x="1812" y="81"/>
                      </a:lnTo>
                      <a:lnTo>
                        <a:pt x="1820" y="83"/>
                      </a:lnTo>
                      <a:lnTo>
                        <a:pt x="1828" y="85"/>
                      </a:lnTo>
                      <a:lnTo>
                        <a:pt x="1837" y="86"/>
                      </a:lnTo>
                      <a:lnTo>
                        <a:pt x="1845" y="87"/>
                      </a:lnTo>
                      <a:lnTo>
                        <a:pt x="1855" y="87"/>
                      </a:lnTo>
                      <a:lnTo>
                        <a:pt x="1863" y="87"/>
                      </a:lnTo>
                      <a:lnTo>
                        <a:pt x="1872" y="87"/>
                      </a:lnTo>
                      <a:lnTo>
                        <a:pt x="1881" y="87"/>
                      </a:lnTo>
                      <a:lnTo>
                        <a:pt x="1890" y="86"/>
                      </a:lnTo>
                      <a:lnTo>
                        <a:pt x="1900" y="85"/>
                      </a:lnTo>
                      <a:lnTo>
                        <a:pt x="1909" y="83"/>
                      </a:lnTo>
                      <a:lnTo>
                        <a:pt x="1918" y="81"/>
                      </a:lnTo>
                      <a:lnTo>
                        <a:pt x="1927" y="80"/>
                      </a:lnTo>
                      <a:lnTo>
                        <a:pt x="1937" y="78"/>
                      </a:lnTo>
                      <a:lnTo>
                        <a:pt x="1946" y="77"/>
                      </a:lnTo>
                      <a:lnTo>
                        <a:pt x="1955" y="74"/>
                      </a:lnTo>
                      <a:lnTo>
                        <a:pt x="1964" y="72"/>
                      </a:lnTo>
                      <a:lnTo>
                        <a:pt x="1974" y="70"/>
                      </a:lnTo>
                      <a:lnTo>
                        <a:pt x="1983" y="67"/>
                      </a:lnTo>
                      <a:lnTo>
                        <a:pt x="1992" y="65"/>
                      </a:lnTo>
                      <a:lnTo>
                        <a:pt x="2001" y="64"/>
                      </a:lnTo>
                      <a:lnTo>
                        <a:pt x="2011" y="62"/>
                      </a:lnTo>
                      <a:lnTo>
                        <a:pt x="2019" y="59"/>
                      </a:lnTo>
                      <a:lnTo>
                        <a:pt x="2028" y="58"/>
                      </a:lnTo>
                      <a:lnTo>
                        <a:pt x="2037" y="56"/>
                      </a:lnTo>
                      <a:lnTo>
                        <a:pt x="2045" y="55"/>
                      </a:lnTo>
                      <a:lnTo>
                        <a:pt x="2055" y="53"/>
                      </a:lnTo>
                      <a:lnTo>
                        <a:pt x="2063" y="52"/>
                      </a:lnTo>
                      <a:lnTo>
                        <a:pt x="2071" y="51"/>
                      </a:lnTo>
                      <a:lnTo>
                        <a:pt x="2080" y="51"/>
                      </a:lnTo>
                      <a:lnTo>
                        <a:pt x="2088" y="51"/>
                      </a:lnTo>
                      <a:lnTo>
                        <a:pt x="2090" y="51"/>
                      </a:lnTo>
                      <a:lnTo>
                        <a:pt x="2093" y="51"/>
                      </a:lnTo>
                      <a:lnTo>
                        <a:pt x="2095" y="50"/>
                      </a:lnTo>
                      <a:lnTo>
                        <a:pt x="2098" y="51"/>
                      </a:lnTo>
                      <a:lnTo>
                        <a:pt x="2101" y="51"/>
                      </a:lnTo>
                      <a:lnTo>
                        <a:pt x="2104" y="51"/>
                      </a:lnTo>
                      <a:lnTo>
                        <a:pt x="2107" y="51"/>
                      </a:lnTo>
                      <a:lnTo>
                        <a:pt x="2110" y="51"/>
                      </a:lnTo>
                      <a:lnTo>
                        <a:pt x="2112" y="51"/>
                      </a:lnTo>
                      <a:lnTo>
                        <a:pt x="2116" y="51"/>
                      </a:lnTo>
                      <a:lnTo>
                        <a:pt x="2118" y="52"/>
                      </a:lnTo>
                      <a:lnTo>
                        <a:pt x="2122" y="52"/>
                      </a:lnTo>
                      <a:lnTo>
                        <a:pt x="2125" y="52"/>
                      </a:lnTo>
                      <a:lnTo>
                        <a:pt x="2127" y="53"/>
                      </a:lnTo>
                      <a:lnTo>
                        <a:pt x="2131" y="53"/>
                      </a:lnTo>
                      <a:lnTo>
                        <a:pt x="2133" y="55"/>
                      </a:lnTo>
                      <a:lnTo>
                        <a:pt x="2137" y="55"/>
                      </a:lnTo>
                      <a:lnTo>
                        <a:pt x="2139" y="56"/>
                      </a:lnTo>
                      <a:lnTo>
                        <a:pt x="2142" y="56"/>
                      </a:lnTo>
                      <a:lnTo>
                        <a:pt x="2145" y="57"/>
                      </a:lnTo>
                      <a:lnTo>
                        <a:pt x="2148" y="58"/>
                      </a:lnTo>
                      <a:lnTo>
                        <a:pt x="2150" y="58"/>
                      </a:lnTo>
                      <a:lnTo>
                        <a:pt x="2153" y="59"/>
                      </a:lnTo>
                      <a:lnTo>
                        <a:pt x="2155" y="60"/>
                      </a:lnTo>
                      <a:lnTo>
                        <a:pt x="2157" y="62"/>
                      </a:lnTo>
                      <a:lnTo>
                        <a:pt x="2160" y="62"/>
                      </a:lnTo>
                      <a:lnTo>
                        <a:pt x="2162" y="63"/>
                      </a:lnTo>
                      <a:lnTo>
                        <a:pt x="2164" y="64"/>
                      </a:lnTo>
                      <a:lnTo>
                        <a:pt x="2167" y="65"/>
                      </a:lnTo>
                      <a:lnTo>
                        <a:pt x="2168" y="66"/>
                      </a:lnTo>
                      <a:lnTo>
                        <a:pt x="2170" y="67"/>
                      </a:lnTo>
                      <a:lnTo>
                        <a:pt x="2171" y="68"/>
                      </a:lnTo>
                      <a:lnTo>
                        <a:pt x="2170" y="70"/>
                      </a:lnTo>
                      <a:lnTo>
                        <a:pt x="2168" y="70"/>
                      </a:lnTo>
                      <a:lnTo>
                        <a:pt x="2167" y="71"/>
                      </a:lnTo>
                      <a:lnTo>
                        <a:pt x="2164" y="71"/>
                      </a:lnTo>
                      <a:lnTo>
                        <a:pt x="2163" y="71"/>
                      </a:lnTo>
                      <a:lnTo>
                        <a:pt x="2161" y="72"/>
                      </a:lnTo>
                      <a:lnTo>
                        <a:pt x="2160" y="72"/>
                      </a:lnTo>
                      <a:lnTo>
                        <a:pt x="2159" y="73"/>
                      </a:lnTo>
                      <a:lnTo>
                        <a:pt x="2157" y="73"/>
                      </a:lnTo>
                      <a:lnTo>
                        <a:pt x="2155" y="74"/>
                      </a:lnTo>
                      <a:lnTo>
                        <a:pt x="2154" y="74"/>
                      </a:lnTo>
                      <a:lnTo>
                        <a:pt x="2153" y="75"/>
                      </a:lnTo>
                      <a:lnTo>
                        <a:pt x="2152" y="77"/>
                      </a:lnTo>
                      <a:lnTo>
                        <a:pt x="2150" y="77"/>
                      </a:lnTo>
                      <a:lnTo>
                        <a:pt x="2149" y="78"/>
                      </a:lnTo>
                      <a:lnTo>
                        <a:pt x="2148" y="78"/>
                      </a:lnTo>
                      <a:lnTo>
                        <a:pt x="2147" y="79"/>
                      </a:lnTo>
                      <a:lnTo>
                        <a:pt x="2146" y="80"/>
                      </a:lnTo>
                      <a:lnTo>
                        <a:pt x="2145" y="80"/>
                      </a:lnTo>
                      <a:lnTo>
                        <a:pt x="2144" y="81"/>
                      </a:lnTo>
                      <a:lnTo>
                        <a:pt x="2142" y="81"/>
                      </a:lnTo>
                      <a:lnTo>
                        <a:pt x="2141" y="82"/>
                      </a:lnTo>
                      <a:lnTo>
                        <a:pt x="2139" y="83"/>
                      </a:lnTo>
                      <a:lnTo>
                        <a:pt x="2138" y="85"/>
                      </a:lnTo>
                      <a:lnTo>
                        <a:pt x="2137" y="85"/>
                      </a:lnTo>
                      <a:lnTo>
                        <a:pt x="2135" y="86"/>
                      </a:lnTo>
                      <a:lnTo>
                        <a:pt x="2134" y="87"/>
                      </a:lnTo>
                      <a:lnTo>
                        <a:pt x="2133" y="88"/>
                      </a:lnTo>
                      <a:lnTo>
                        <a:pt x="2131" y="88"/>
                      </a:lnTo>
                      <a:lnTo>
                        <a:pt x="2130" y="89"/>
                      </a:lnTo>
                      <a:lnTo>
                        <a:pt x="2129" y="90"/>
                      </a:lnTo>
                      <a:lnTo>
                        <a:pt x="2126" y="92"/>
                      </a:lnTo>
                      <a:lnTo>
                        <a:pt x="2125" y="93"/>
                      </a:lnTo>
                      <a:lnTo>
                        <a:pt x="2124" y="94"/>
                      </a:lnTo>
                      <a:lnTo>
                        <a:pt x="2123" y="95"/>
                      </a:lnTo>
                      <a:lnTo>
                        <a:pt x="2122" y="96"/>
                      </a:lnTo>
                      <a:lnTo>
                        <a:pt x="2120" y="97"/>
                      </a:lnTo>
                      <a:lnTo>
                        <a:pt x="2120" y="99"/>
                      </a:lnTo>
                      <a:lnTo>
                        <a:pt x="2120" y="100"/>
                      </a:lnTo>
                      <a:lnTo>
                        <a:pt x="2120" y="101"/>
                      </a:lnTo>
                      <a:lnTo>
                        <a:pt x="2119" y="102"/>
                      </a:lnTo>
                      <a:lnTo>
                        <a:pt x="2120" y="103"/>
                      </a:lnTo>
                      <a:lnTo>
                        <a:pt x="2120" y="104"/>
                      </a:lnTo>
                      <a:lnTo>
                        <a:pt x="2120" y="105"/>
                      </a:lnTo>
                      <a:lnTo>
                        <a:pt x="2122" y="107"/>
                      </a:lnTo>
                      <a:lnTo>
                        <a:pt x="2122" y="108"/>
                      </a:lnTo>
                      <a:lnTo>
                        <a:pt x="2123" y="108"/>
                      </a:lnTo>
                      <a:lnTo>
                        <a:pt x="2123" y="109"/>
                      </a:lnTo>
                      <a:lnTo>
                        <a:pt x="2124" y="109"/>
                      </a:lnTo>
                      <a:lnTo>
                        <a:pt x="2125" y="109"/>
                      </a:lnTo>
                      <a:lnTo>
                        <a:pt x="2126" y="110"/>
                      </a:lnTo>
                      <a:lnTo>
                        <a:pt x="2127" y="110"/>
                      </a:lnTo>
                      <a:lnTo>
                        <a:pt x="2129" y="110"/>
                      </a:lnTo>
                      <a:lnTo>
                        <a:pt x="2130" y="110"/>
                      </a:lnTo>
                      <a:lnTo>
                        <a:pt x="2132" y="110"/>
                      </a:lnTo>
                      <a:lnTo>
                        <a:pt x="2133" y="110"/>
                      </a:lnTo>
                      <a:lnTo>
                        <a:pt x="2134" y="110"/>
                      </a:lnTo>
                      <a:lnTo>
                        <a:pt x="2135" y="110"/>
                      </a:lnTo>
                      <a:lnTo>
                        <a:pt x="2137" y="109"/>
                      </a:lnTo>
                      <a:lnTo>
                        <a:pt x="2138" y="109"/>
                      </a:lnTo>
                      <a:lnTo>
                        <a:pt x="2137" y="110"/>
                      </a:lnTo>
                      <a:lnTo>
                        <a:pt x="2135" y="110"/>
                      </a:lnTo>
                      <a:lnTo>
                        <a:pt x="2135" y="111"/>
                      </a:lnTo>
                      <a:lnTo>
                        <a:pt x="2134" y="111"/>
                      </a:lnTo>
                      <a:lnTo>
                        <a:pt x="2134" y="112"/>
                      </a:lnTo>
                      <a:lnTo>
                        <a:pt x="2133" y="114"/>
                      </a:lnTo>
                      <a:lnTo>
                        <a:pt x="2133" y="115"/>
                      </a:lnTo>
                      <a:lnTo>
                        <a:pt x="2132" y="115"/>
                      </a:lnTo>
                      <a:lnTo>
                        <a:pt x="2132" y="116"/>
                      </a:lnTo>
                      <a:lnTo>
                        <a:pt x="2132" y="117"/>
                      </a:lnTo>
                      <a:lnTo>
                        <a:pt x="2132" y="118"/>
                      </a:lnTo>
                      <a:lnTo>
                        <a:pt x="2133" y="119"/>
                      </a:lnTo>
                      <a:lnTo>
                        <a:pt x="2133" y="120"/>
                      </a:lnTo>
                      <a:lnTo>
                        <a:pt x="2134" y="122"/>
                      </a:lnTo>
                      <a:lnTo>
                        <a:pt x="2135" y="123"/>
                      </a:lnTo>
                      <a:lnTo>
                        <a:pt x="2137" y="123"/>
                      </a:lnTo>
                      <a:lnTo>
                        <a:pt x="2138" y="124"/>
                      </a:lnTo>
                      <a:lnTo>
                        <a:pt x="2139" y="124"/>
                      </a:lnTo>
                      <a:lnTo>
                        <a:pt x="2140" y="124"/>
                      </a:lnTo>
                      <a:lnTo>
                        <a:pt x="2142" y="125"/>
                      </a:lnTo>
                      <a:lnTo>
                        <a:pt x="2144" y="125"/>
                      </a:lnTo>
                      <a:lnTo>
                        <a:pt x="2146" y="125"/>
                      </a:lnTo>
                      <a:lnTo>
                        <a:pt x="2148" y="125"/>
                      </a:lnTo>
                      <a:lnTo>
                        <a:pt x="2150" y="125"/>
                      </a:lnTo>
                      <a:lnTo>
                        <a:pt x="2150" y="126"/>
                      </a:lnTo>
                      <a:lnTo>
                        <a:pt x="2150" y="127"/>
                      </a:lnTo>
                      <a:lnTo>
                        <a:pt x="2150" y="129"/>
                      </a:lnTo>
                      <a:lnTo>
                        <a:pt x="2152" y="129"/>
                      </a:lnTo>
                      <a:lnTo>
                        <a:pt x="2152" y="130"/>
                      </a:lnTo>
                      <a:lnTo>
                        <a:pt x="2153" y="131"/>
                      </a:lnTo>
                      <a:lnTo>
                        <a:pt x="2154" y="131"/>
                      </a:lnTo>
                      <a:lnTo>
                        <a:pt x="2154" y="132"/>
                      </a:lnTo>
                      <a:lnTo>
                        <a:pt x="2155" y="132"/>
                      </a:lnTo>
                      <a:lnTo>
                        <a:pt x="2156" y="133"/>
                      </a:lnTo>
                      <a:lnTo>
                        <a:pt x="2157" y="134"/>
                      </a:lnTo>
                      <a:lnTo>
                        <a:pt x="2159" y="134"/>
                      </a:lnTo>
                      <a:lnTo>
                        <a:pt x="2160" y="135"/>
                      </a:lnTo>
                      <a:lnTo>
                        <a:pt x="2161" y="135"/>
                      </a:lnTo>
                      <a:lnTo>
                        <a:pt x="2162" y="135"/>
                      </a:lnTo>
                      <a:lnTo>
                        <a:pt x="2163" y="137"/>
                      </a:lnTo>
                      <a:lnTo>
                        <a:pt x="2164" y="137"/>
                      </a:lnTo>
                      <a:lnTo>
                        <a:pt x="2165" y="137"/>
                      </a:lnTo>
                      <a:lnTo>
                        <a:pt x="2167" y="137"/>
                      </a:lnTo>
                      <a:lnTo>
                        <a:pt x="2168" y="137"/>
                      </a:lnTo>
                      <a:lnTo>
                        <a:pt x="2169" y="137"/>
                      </a:lnTo>
                      <a:lnTo>
                        <a:pt x="2170" y="137"/>
                      </a:lnTo>
                      <a:lnTo>
                        <a:pt x="2171" y="137"/>
                      </a:lnTo>
                      <a:lnTo>
                        <a:pt x="2172" y="137"/>
                      </a:lnTo>
                      <a:lnTo>
                        <a:pt x="2174" y="137"/>
                      </a:lnTo>
                      <a:lnTo>
                        <a:pt x="2175" y="138"/>
                      </a:lnTo>
                      <a:lnTo>
                        <a:pt x="2176" y="138"/>
                      </a:lnTo>
                      <a:lnTo>
                        <a:pt x="2177" y="138"/>
                      </a:lnTo>
                      <a:lnTo>
                        <a:pt x="2178" y="138"/>
                      </a:lnTo>
                      <a:lnTo>
                        <a:pt x="2179" y="138"/>
                      </a:lnTo>
                      <a:lnTo>
                        <a:pt x="2181" y="138"/>
                      </a:lnTo>
                      <a:lnTo>
                        <a:pt x="2181" y="139"/>
                      </a:lnTo>
                      <a:lnTo>
                        <a:pt x="2182" y="139"/>
                      </a:lnTo>
                      <a:lnTo>
                        <a:pt x="2183" y="139"/>
                      </a:lnTo>
                      <a:lnTo>
                        <a:pt x="2184" y="140"/>
                      </a:lnTo>
                      <a:lnTo>
                        <a:pt x="2185" y="140"/>
                      </a:lnTo>
                      <a:lnTo>
                        <a:pt x="2186" y="140"/>
                      </a:lnTo>
                      <a:lnTo>
                        <a:pt x="2187" y="141"/>
                      </a:lnTo>
                      <a:lnTo>
                        <a:pt x="2189" y="141"/>
                      </a:lnTo>
                      <a:lnTo>
                        <a:pt x="2190" y="141"/>
                      </a:lnTo>
                      <a:lnTo>
                        <a:pt x="2191" y="141"/>
                      </a:lnTo>
                      <a:lnTo>
                        <a:pt x="2192" y="141"/>
                      </a:lnTo>
                      <a:lnTo>
                        <a:pt x="2192" y="142"/>
                      </a:lnTo>
                      <a:lnTo>
                        <a:pt x="2193" y="142"/>
                      </a:lnTo>
                      <a:lnTo>
                        <a:pt x="2192" y="142"/>
                      </a:lnTo>
                      <a:lnTo>
                        <a:pt x="2192" y="144"/>
                      </a:lnTo>
                      <a:lnTo>
                        <a:pt x="2191" y="144"/>
                      </a:lnTo>
                      <a:lnTo>
                        <a:pt x="2191" y="145"/>
                      </a:lnTo>
                      <a:lnTo>
                        <a:pt x="2190" y="145"/>
                      </a:lnTo>
                      <a:lnTo>
                        <a:pt x="2190" y="146"/>
                      </a:lnTo>
                      <a:lnTo>
                        <a:pt x="2189" y="146"/>
                      </a:lnTo>
                      <a:lnTo>
                        <a:pt x="2187" y="147"/>
                      </a:lnTo>
                      <a:lnTo>
                        <a:pt x="2187" y="148"/>
                      </a:lnTo>
                      <a:lnTo>
                        <a:pt x="2186" y="149"/>
                      </a:lnTo>
                      <a:lnTo>
                        <a:pt x="2186" y="150"/>
                      </a:lnTo>
                      <a:lnTo>
                        <a:pt x="2185" y="150"/>
                      </a:lnTo>
                      <a:lnTo>
                        <a:pt x="2185" y="152"/>
                      </a:lnTo>
                      <a:lnTo>
                        <a:pt x="2185" y="153"/>
                      </a:lnTo>
                      <a:lnTo>
                        <a:pt x="2184" y="153"/>
                      </a:lnTo>
                      <a:lnTo>
                        <a:pt x="2184" y="154"/>
                      </a:lnTo>
                      <a:lnTo>
                        <a:pt x="2184" y="155"/>
                      </a:lnTo>
                      <a:lnTo>
                        <a:pt x="2184" y="156"/>
                      </a:lnTo>
                      <a:lnTo>
                        <a:pt x="2184" y="157"/>
                      </a:lnTo>
                      <a:lnTo>
                        <a:pt x="2184" y="159"/>
                      </a:lnTo>
                      <a:lnTo>
                        <a:pt x="2184" y="160"/>
                      </a:lnTo>
                      <a:lnTo>
                        <a:pt x="2183" y="160"/>
                      </a:lnTo>
                      <a:lnTo>
                        <a:pt x="2184" y="161"/>
                      </a:lnTo>
                      <a:lnTo>
                        <a:pt x="2184" y="162"/>
                      </a:lnTo>
                      <a:lnTo>
                        <a:pt x="2184" y="163"/>
                      </a:lnTo>
                      <a:lnTo>
                        <a:pt x="2184" y="164"/>
                      </a:lnTo>
                      <a:lnTo>
                        <a:pt x="2184" y="166"/>
                      </a:lnTo>
                      <a:lnTo>
                        <a:pt x="2184" y="167"/>
                      </a:lnTo>
                      <a:lnTo>
                        <a:pt x="2185" y="167"/>
                      </a:lnTo>
                      <a:lnTo>
                        <a:pt x="2185" y="168"/>
                      </a:lnTo>
                      <a:lnTo>
                        <a:pt x="2186" y="168"/>
                      </a:lnTo>
                      <a:lnTo>
                        <a:pt x="2186" y="169"/>
                      </a:lnTo>
                      <a:lnTo>
                        <a:pt x="2187" y="169"/>
                      </a:lnTo>
                      <a:lnTo>
                        <a:pt x="2187" y="170"/>
                      </a:lnTo>
                      <a:lnTo>
                        <a:pt x="2189" y="170"/>
                      </a:lnTo>
                      <a:lnTo>
                        <a:pt x="2190" y="171"/>
                      </a:lnTo>
                      <a:lnTo>
                        <a:pt x="2191" y="171"/>
                      </a:lnTo>
                      <a:lnTo>
                        <a:pt x="2191" y="172"/>
                      </a:lnTo>
                      <a:lnTo>
                        <a:pt x="2192" y="172"/>
                      </a:lnTo>
                      <a:lnTo>
                        <a:pt x="2193" y="174"/>
                      </a:lnTo>
                      <a:lnTo>
                        <a:pt x="2194" y="174"/>
                      </a:lnTo>
                      <a:lnTo>
                        <a:pt x="2196" y="175"/>
                      </a:lnTo>
                      <a:lnTo>
                        <a:pt x="2197" y="175"/>
                      </a:lnTo>
                      <a:lnTo>
                        <a:pt x="2198" y="175"/>
                      </a:lnTo>
                      <a:lnTo>
                        <a:pt x="2199" y="176"/>
                      </a:lnTo>
                      <a:lnTo>
                        <a:pt x="2200" y="176"/>
                      </a:lnTo>
                      <a:lnTo>
                        <a:pt x="1897" y="135"/>
                      </a:lnTo>
                      <a:lnTo>
                        <a:pt x="1775" y="186"/>
                      </a:lnTo>
                      <a:lnTo>
                        <a:pt x="1774" y="193"/>
                      </a:lnTo>
                      <a:lnTo>
                        <a:pt x="2215" y="250"/>
                      </a:lnTo>
                      <a:lnTo>
                        <a:pt x="2217" y="250"/>
                      </a:lnTo>
                      <a:lnTo>
                        <a:pt x="2220" y="249"/>
                      </a:lnTo>
                      <a:lnTo>
                        <a:pt x="2222" y="249"/>
                      </a:lnTo>
                      <a:lnTo>
                        <a:pt x="2226" y="249"/>
                      </a:lnTo>
                      <a:lnTo>
                        <a:pt x="2229" y="250"/>
                      </a:lnTo>
                      <a:lnTo>
                        <a:pt x="2231" y="250"/>
                      </a:lnTo>
                      <a:lnTo>
                        <a:pt x="2235" y="250"/>
                      </a:lnTo>
                      <a:lnTo>
                        <a:pt x="2238" y="250"/>
                      </a:lnTo>
                      <a:lnTo>
                        <a:pt x="2242" y="250"/>
                      </a:lnTo>
                      <a:lnTo>
                        <a:pt x="2245" y="250"/>
                      </a:lnTo>
                      <a:lnTo>
                        <a:pt x="2249" y="250"/>
                      </a:lnTo>
                      <a:lnTo>
                        <a:pt x="2252" y="250"/>
                      </a:lnTo>
                      <a:lnTo>
                        <a:pt x="2256" y="250"/>
                      </a:lnTo>
                      <a:lnTo>
                        <a:pt x="2259" y="251"/>
                      </a:lnTo>
                      <a:lnTo>
                        <a:pt x="2263" y="251"/>
                      </a:lnTo>
                      <a:lnTo>
                        <a:pt x="2266" y="251"/>
                      </a:lnTo>
                      <a:lnTo>
                        <a:pt x="2269" y="251"/>
                      </a:lnTo>
                      <a:lnTo>
                        <a:pt x="2273" y="251"/>
                      </a:lnTo>
                      <a:lnTo>
                        <a:pt x="2276" y="252"/>
                      </a:lnTo>
                      <a:lnTo>
                        <a:pt x="2280" y="252"/>
                      </a:lnTo>
                      <a:lnTo>
                        <a:pt x="2283" y="252"/>
                      </a:lnTo>
                      <a:lnTo>
                        <a:pt x="2287" y="252"/>
                      </a:lnTo>
                      <a:lnTo>
                        <a:pt x="2290" y="252"/>
                      </a:lnTo>
                      <a:lnTo>
                        <a:pt x="2293" y="252"/>
                      </a:lnTo>
                      <a:lnTo>
                        <a:pt x="2296" y="253"/>
                      </a:lnTo>
                      <a:lnTo>
                        <a:pt x="2300" y="253"/>
                      </a:lnTo>
                      <a:lnTo>
                        <a:pt x="2302" y="253"/>
                      </a:lnTo>
                      <a:lnTo>
                        <a:pt x="2304" y="253"/>
                      </a:lnTo>
                      <a:lnTo>
                        <a:pt x="2308" y="253"/>
                      </a:lnTo>
                      <a:lnTo>
                        <a:pt x="2310" y="253"/>
                      </a:lnTo>
                      <a:lnTo>
                        <a:pt x="2312" y="253"/>
                      </a:lnTo>
                      <a:lnTo>
                        <a:pt x="2313" y="253"/>
                      </a:lnTo>
                      <a:lnTo>
                        <a:pt x="2313" y="254"/>
                      </a:lnTo>
                      <a:lnTo>
                        <a:pt x="2313" y="256"/>
                      </a:lnTo>
                      <a:lnTo>
                        <a:pt x="2313" y="257"/>
                      </a:lnTo>
                      <a:lnTo>
                        <a:pt x="2313" y="258"/>
                      </a:lnTo>
                      <a:lnTo>
                        <a:pt x="2313" y="259"/>
                      </a:lnTo>
                      <a:lnTo>
                        <a:pt x="2313" y="260"/>
                      </a:lnTo>
                      <a:lnTo>
                        <a:pt x="2315" y="261"/>
                      </a:lnTo>
                      <a:lnTo>
                        <a:pt x="2315" y="263"/>
                      </a:lnTo>
                      <a:lnTo>
                        <a:pt x="2315" y="264"/>
                      </a:lnTo>
                      <a:lnTo>
                        <a:pt x="2316" y="265"/>
                      </a:lnTo>
                      <a:lnTo>
                        <a:pt x="2316" y="266"/>
                      </a:lnTo>
                      <a:lnTo>
                        <a:pt x="2317" y="267"/>
                      </a:lnTo>
                      <a:lnTo>
                        <a:pt x="2317" y="268"/>
                      </a:lnTo>
                      <a:lnTo>
                        <a:pt x="2318" y="269"/>
                      </a:lnTo>
                      <a:lnTo>
                        <a:pt x="2319" y="271"/>
                      </a:lnTo>
                      <a:lnTo>
                        <a:pt x="2319" y="272"/>
                      </a:lnTo>
                      <a:lnTo>
                        <a:pt x="2320" y="272"/>
                      </a:lnTo>
                      <a:lnTo>
                        <a:pt x="2320" y="273"/>
                      </a:lnTo>
                      <a:lnTo>
                        <a:pt x="2321" y="273"/>
                      </a:lnTo>
                      <a:lnTo>
                        <a:pt x="2323" y="274"/>
                      </a:lnTo>
                      <a:lnTo>
                        <a:pt x="2324" y="274"/>
                      </a:lnTo>
                      <a:lnTo>
                        <a:pt x="2325" y="275"/>
                      </a:lnTo>
                      <a:lnTo>
                        <a:pt x="2326" y="275"/>
                      </a:lnTo>
                      <a:lnTo>
                        <a:pt x="2327" y="276"/>
                      </a:lnTo>
                      <a:lnTo>
                        <a:pt x="2328" y="276"/>
                      </a:lnTo>
                      <a:lnTo>
                        <a:pt x="2330" y="278"/>
                      </a:lnTo>
                      <a:lnTo>
                        <a:pt x="2332" y="279"/>
                      </a:lnTo>
                      <a:lnTo>
                        <a:pt x="2334" y="279"/>
                      </a:lnTo>
                      <a:lnTo>
                        <a:pt x="2337" y="280"/>
                      </a:lnTo>
                      <a:lnTo>
                        <a:pt x="2340" y="280"/>
                      </a:lnTo>
                      <a:lnTo>
                        <a:pt x="2342" y="281"/>
                      </a:lnTo>
                      <a:lnTo>
                        <a:pt x="2346" y="281"/>
                      </a:lnTo>
                      <a:lnTo>
                        <a:pt x="2349" y="282"/>
                      </a:lnTo>
                      <a:lnTo>
                        <a:pt x="2353" y="282"/>
                      </a:lnTo>
                      <a:lnTo>
                        <a:pt x="2356" y="282"/>
                      </a:lnTo>
                      <a:lnTo>
                        <a:pt x="2360" y="283"/>
                      </a:lnTo>
                      <a:lnTo>
                        <a:pt x="2363" y="283"/>
                      </a:lnTo>
                      <a:lnTo>
                        <a:pt x="2367" y="283"/>
                      </a:lnTo>
                      <a:lnTo>
                        <a:pt x="2371" y="284"/>
                      </a:lnTo>
                      <a:lnTo>
                        <a:pt x="2375" y="284"/>
                      </a:lnTo>
                      <a:lnTo>
                        <a:pt x="2378" y="284"/>
                      </a:lnTo>
                      <a:lnTo>
                        <a:pt x="2383" y="286"/>
                      </a:lnTo>
                      <a:lnTo>
                        <a:pt x="2386" y="286"/>
                      </a:lnTo>
                      <a:lnTo>
                        <a:pt x="2390" y="286"/>
                      </a:lnTo>
                      <a:lnTo>
                        <a:pt x="2394" y="287"/>
                      </a:lnTo>
                      <a:lnTo>
                        <a:pt x="2398" y="287"/>
                      </a:lnTo>
                      <a:lnTo>
                        <a:pt x="2401" y="287"/>
                      </a:lnTo>
                      <a:lnTo>
                        <a:pt x="2405" y="287"/>
                      </a:lnTo>
                      <a:lnTo>
                        <a:pt x="2408" y="288"/>
                      </a:lnTo>
                      <a:lnTo>
                        <a:pt x="2410" y="288"/>
                      </a:lnTo>
                      <a:lnTo>
                        <a:pt x="2414" y="288"/>
                      </a:lnTo>
                      <a:lnTo>
                        <a:pt x="2416" y="289"/>
                      </a:lnTo>
                      <a:lnTo>
                        <a:pt x="2420" y="289"/>
                      </a:lnTo>
                      <a:lnTo>
                        <a:pt x="2422" y="289"/>
                      </a:lnTo>
                      <a:lnTo>
                        <a:pt x="2424" y="290"/>
                      </a:lnTo>
                      <a:lnTo>
                        <a:pt x="2494" y="533"/>
                      </a:lnTo>
                      <a:lnTo>
                        <a:pt x="0" y="533"/>
                      </a:lnTo>
                      <a:lnTo>
                        <a:pt x="0" y="403"/>
                      </a:lnTo>
                      <a:close/>
                    </a:path>
                  </a:pathLst>
                </a:custGeom>
                <a:solidFill>
                  <a:srgbClr val="ab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4827600" y="6129720"/>
                  <a:ext cx="1320840" cy="324720"/>
                </a:xfrm>
                <a:custGeom>
                  <a:avLst/>
                  <a:gdLst/>
                  <a:ahLst/>
                  <a:rect l="l" t="t" r="r" b="b"/>
                  <a:pathLst>
                    <a:path w="2494" h="533">
                      <a:moveTo>
                        <a:pt x="0" y="403"/>
                      </a:moveTo>
                      <a:lnTo>
                        <a:pt x="16" y="402"/>
                      </a:lnTo>
                      <a:lnTo>
                        <a:pt x="31" y="398"/>
                      </a:lnTo>
                      <a:lnTo>
                        <a:pt x="46" y="391"/>
                      </a:lnTo>
                      <a:lnTo>
                        <a:pt x="63" y="384"/>
                      </a:lnTo>
                      <a:lnTo>
                        <a:pt x="78" y="378"/>
                      </a:lnTo>
                      <a:lnTo>
                        <a:pt x="94" y="373"/>
                      </a:lnTo>
                      <a:lnTo>
                        <a:pt x="111" y="371"/>
                      </a:lnTo>
                      <a:lnTo>
                        <a:pt x="128" y="372"/>
                      </a:lnTo>
                      <a:lnTo>
                        <a:pt x="148" y="376"/>
                      </a:lnTo>
                      <a:lnTo>
                        <a:pt x="169" y="376"/>
                      </a:lnTo>
                      <a:lnTo>
                        <a:pt x="190" y="376"/>
                      </a:lnTo>
                      <a:lnTo>
                        <a:pt x="212" y="376"/>
                      </a:lnTo>
                      <a:lnTo>
                        <a:pt x="234" y="375"/>
                      </a:lnTo>
                      <a:lnTo>
                        <a:pt x="254" y="375"/>
                      </a:lnTo>
                      <a:lnTo>
                        <a:pt x="275" y="375"/>
                      </a:lnTo>
                      <a:lnTo>
                        <a:pt x="295" y="378"/>
                      </a:lnTo>
                      <a:lnTo>
                        <a:pt x="312" y="382"/>
                      </a:lnTo>
                      <a:lnTo>
                        <a:pt x="333" y="385"/>
                      </a:lnTo>
                      <a:lnTo>
                        <a:pt x="357" y="388"/>
                      </a:lnTo>
                      <a:lnTo>
                        <a:pt x="383" y="390"/>
                      </a:lnTo>
                      <a:lnTo>
                        <a:pt x="408" y="391"/>
                      </a:lnTo>
                      <a:lnTo>
                        <a:pt x="432" y="390"/>
                      </a:lnTo>
                      <a:lnTo>
                        <a:pt x="453" y="387"/>
                      </a:lnTo>
                      <a:lnTo>
                        <a:pt x="470" y="383"/>
                      </a:lnTo>
                      <a:lnTo>
                        <a:pt x="492" y="376"/>
                      </a:lnTo>
                      <a:lnTo>
                        <a:pt x="515" y="371"/>
                      </a:lnTo>
                      <a:lnTo>
                        <a:pt x="540" y="368"/>
                      </a:lnTo>
                      <a:lnTo>
                        <a:pt x="565" y="367"/>
                      </a:lnTo>
                      <a:lnTo>
                        <a:pt x="591" y="365"/>
                      </a:lnTo>
                      <a:lnTo>
                        <a:pt x="617" y="364"/>
                      </a:lnTo>
                      <a:lnTo>
                        <a:pt x="643" y="364"/>
                      </a:lnTo>
                      <a:lnTo>
                        <a:pt x="669" y="365"/>
                      </a:lnTo>
                      <a:lnTo>
                        <a:pt x="696" y="365"/>
                      </a:lnTo>
                      <a:lnTo>
                        <a:pt x="721" y="364"/>
                      </a:lnTo>
                      <a:lnTo>
                        <a:pt x="748" y="363"/>
                      </a:lnTo>
                      <a:lnTo>
                        <a:pt x="772" y="361"/>
                      </a:lnTo>
                      <a:lnTo>
                        <a:pt x="796" y="357"/>
                      </a:lnTo>
                      <a:lnTo>
                        <a:pt x="819" y="351"/>
                      </a:lnTo>
                      <a:lnTo>
                        <a:pt x="841" y="345"/>
                      </a:lnTo>
                      <a:lnTo>
                        <a:pt x="862" y="335"/>
                      </a:lnTo>
                      <a:lnTo>
                        <a:pt x="878" y="336"/>
                      </a:lnTo>
                      <a:lnTo>
                        <a:pt x="896" y="339"/>
                      </a:lnTo>
                      <a:lnTo>
                        <a:pt x="914" y="341"/>
                      </a:lnTo>
                      <a:lnTo>
                        <a:pt x="933" y="342"/>
                      </a:lnTo>
                      <a:lnTo>
                        <a:pt x="951" y="345"/>
                      </a:lnTo>
                      <a:lnTo>
                        <a:pt x="968" y="346"/>
                      </a:lnTo>
                      <a:lnTo>
                        <a:pt x="983" y="347"/>
                      </a:lnTo>
                      <a:lnTo>
                        <a:pt x="998" y="347"/>
                      </a:lnTo>
                      <a:lnTo>
                        <a:pt x="1011" y="339"/>
                      </a:lnTo>
                      <a:lnTo>
                        <a:pt x="1027" y="327"/>
                      </a:lnTo>
                      <a:lnTo>
                        <a:pt x="1046" y="313"/>
                      </a:lnTo>
                      <a:lnTo>
                        <a:pt x="1065" y="300"/>
                      </a:lnTo>
                      <a:lnTo>
                        <a:pt x="1086" y="287"/>
                      </a:lnTo>
                      <a:lnTo>
                        <a:pt x="1105" y="273"/>
                      </a:lnTo>
                      <a:lnTo>
                        <a:pt x="1121" y="263"/>
                      </a:lnTo>
                      <a:lnTo>
                        <a:pt x="1133" y="254"/>
                      </a:lnTo>
                      <a:lnTo>
                        <a:pt x="1111" y="249"/>
                      </a:lnTo>
                      <a:lnTo>
                        <a:pt x="1113" y="246"/>
                      </a:lnTo>
                      <a:lnTo>
                        <a:pt x="1117" y="243"/>
                      </a:lnTo>
                      <a:lnTo>
                        <a:pt x="1122" y="241"/>
                      </a:lnTo>
                      <a:lnTo>
                        <a:pt x="1124" y="235"/>
                      </a:lnTo>
                      <a:lnTo>
                        <a:pt x="1129" y="236"/>
                      </a:lnTo>
                      <a:lnTo>
                        <a:pt x="1135" y="235"/>
                      </a:lnTo>
                      <a:lnTo>
                        <a:pt x="1142" y="231"/>
                      </a:lnTo>
                      <a:lnTo>
                        <a:pt x="1150" y="227"/>
                      </a:lnTo>
                      <a:lnTo>
                        <a:pt x="1157" y="220"/>
                      </a:lnTo>
                      <a:lnTo>
                        <a:pt x="1164" y="212"/>
                      </a:lnTo>
                      <a:lnTo>
                        <a:pt x="1171" y="202"/>
                      </a:lnTo>
                      <a:lnTo>
                        <a:pt x="1174" y="192"/>
                      </a:lnTo>
                      <a:lnTo>
                        <a:pt x="1175" y="187"/>
                      </a:lnTo>
                      <a:lnTo>
                        <a:pt x="1174" y="183"/>
                      </a:lnTo>
                      <a:lnTo>
                        <a:pt x="1172" y="179"/>
                      </a:lnTo>
                      <a:lnTo>
                        <a:pt x="1168" y="175"/>
                      </a:lnTo>
                      <a:lnTo>
                        <a:pt x="1171" y="167"/>
                      </a:lnTo>
                      <a:lnTo>
                        <a:pt x="1169" y="161"/>
                      </a:lnTo>
                      <a:lnTo>
                        <a:pt x="1166" y="157"/>
                      </a:lnTo>
                      <a:lnTo>
                        <a:pt x="1161" y="153"/>
                      </a:lnTo>
                      <a:lnTo>
                        <a:pt x="1169" y="154"/>
                      </a:lnTo>
                      <a:lnTo>
                        <a:pt x="1180" y="154"/>
                      </a:lnTo>
                      <a:lnTo>
                        <a:pt x="1190" y="154"/>
                      </a:lnTo>
                      <a:lnTo>
                        <a:pt x="1201" y="155"/>
                      </a:lnTo>
                      <a:lnTo>
                        <a:pt x="1211" y="156"/>
                      </a:lnTo>
                      <a:lnTo>
                        <a:pt x="1221" y="156"/>
                      </a:lnTo>
                      <a:lnTo>
                        <a:pt x="1231" y="157"/>
                      </a:lnTo>
                      <a:lnTo>
                        <a:pt x="1240" y="157"/>
                      </a:lnTo>
                      <a:lnTo>
                        <a:pt x="1253" y="159"/>
                      </a:lnTo>
                      <a:lnTo>
                        <a:pt x="1268" y="159"/>
                      </a:lnTo>
                      <a:lnTo>
                        <a:pt x="1284" y="160"/>
                      </a:lnTo>
                      <a:lnTo>
                        <a:pt x="1301" y="161"/>
                      </a:lnTo>
                      <a:lnTo>
                        <a:pt x="1319" y="162"/>
                      </a:lnTo>
                      <a:lnTo>
                        <a:pt x="1336" y="163"/>
                      </a:lnTo>
                      <a:lnTo>
                        <a:pt x="1353" y="166"/>
                      </a:lnTo>
                      <a:lnTo>
                        <a:pt x="1369" y="168"/>
                      </a:lnTo>
                      <a:lnTo>
                        <a:pt x="1383" y="159"/>
                      </a:lnTo>
                      <a:lnTo>
                        <a:pt x="1396" y="150"/>
                      </a:lnTo>
                      <a:lnTo>
                        <a:pt x="1408" y="141"/>
                      </a:lnTo>
                      <a:lnTo>
                        <a:pt x="1418" y="133"/>
                      </a:lnTo>
                      <a:lnTo>
                        <a:pt x="1427" y="126"/>
                      </a:lnTo>
                      <a:lnTo>
                        <a:pt x="1434" y="119"/>
                      </a:lnTo>
                      <a:lnTo>
                        <a:pt x="1439" y="114"/>
                      </a:lnTo>
                      <a:lnTo>
                        <a:pt x="1442" y="109"/>
                      </a:lnTo>
                      <a:lnTo>
                        <a:pt x="1447" y="102"/>
                      </a:lnTo>
                      <a:lnTo>
                        <a:pt x="1451" y="95"/>
                      </a:lnTo>
                      <a:lnTo>
                        <a:pt x="1455" y="88"/>
                      </a:lnTo>
                      <a:lnTo>
                        <a:pt x="1453" y="83"/>
                      </a:lnTo>
                      <a:lnTo>
                        <a:pt x="1446" y="86"/>
                      </a:lnTo>
                      <a:lnTo>
                        <a:pt x="1435" y="88"/>
                      </a:lnTo>
                      <a:lnTo>
                        <a:pt x="1423" y="89"/>
                      </a:lnTo>
                      <a:lnTo>
                        <a:pt x="1410" y="90"/>
                      </a:lnTo>
                      <a:lnTo>
                        <a:pt x="1397" y="90"/>
                      </a:lnTo>
                      <a:lnTo>
                        <a:pt x="1386" y="89"/>
                      </a:lnTo>
                      <a:lnTo>
                        <a:pt x="1374" y="89"/>
                      </a:lnTo>
                      <a:lnTo>
                        <a:pt x="1365" y="89"/>
                      </a:lnTo>
                      <a:lnTo>
                        <a:pt x="1366" y="83"/>
                      </a:lnTo>
                      <a:lnTo>
                        <a:pt x="1367" y="79"/>
                      </a:lnTo>
                      <a:lnTo>
                        <a:pt x="1367" y="73"/>
                      </a:lnTo>
                      <a:lnTo>
                        <a:pt x="1366" y="68"/>
                      </a:lnTo>
                      <a:lnTo>
                        <a:pt x="1360" y="75"/>
                      </a:lnTo>
                      <a:lnTo>
                        <a:pt x="1353" y="80"/>
                      </a:lnTo>
                      <a:lnTo>
                        <a:pt x="1346" y="85"/>
                      </a:lnTo>
                      <a:lnTo>
                        <a:pt x="1337" y="88"/>
                      </a:lnTo>
                      <a:lnTo>
                        <a:pt x="1325" y="90"/>
                      </a:lnTo>
                      <a:lnTo>
                        <a:pt x="1310" y="89"/>
                      </a:lnTo>
                      <a:lnTo>
                        <a:pt x="1293" y="88"/>
                      </a:lnTo>
                      <a:lnTo>
                        <a:pt x="1275" y="86"/>
                      </a:lnTo>
                      <a:lnTo>
                        <a:pt x="1255" y="83"/>
                      </a:lnTo>
                      <a:lnTo>
                        <a:pt x="1235" y="81"/>
                      </a:lnTo>
                      <a:lnTo>
                        <a:pt x="1218" y="79"/>
                      </a:lnTo>
                      <a:lnTo>
                        <a:pt x="1202" y="78"/>
                      </a:lnTo>
                      <a:lnTo>
                        <a:pt x="1208" y="72"/>
                      </a:lnTo>
                      <a:lnTo>
                        <a:pt x="1212" y="67"/>
                      </a:lnTo>
                      <a:lnTo>
                        <a:pt x="1215" y="64"/>
                      </a:lnTo>
                      <a:lnTo>
                        <a:pt x="1216" y="59"/>
                      </a:lnTo>
                      <a:lnTo>
                        <a:pt x="1213" y="52"/>
                      </a:lnTo>
                      <a:lnTo>
                        <a:pt x="1211" y="45"/>
                      </a:lnTo>
                      <a:lnTo>
                        <a:pt x="1208" y="38"/>
                      </a:lnTo>
                      <a:lnTo>
                        <a:pt x="1206" y="35"/>
                      </a:lnTo>
                      <a:lnTo>
                        <a:pt x="1204" y="30"/>
                      </a:lnTo>
                      <a:lnTo>
                        <a:pt x="1202" y="27"/>
                      </a:lnTo>
                      <a:lnTo>
                        <a:pt x="1198" y="25"/>
                      </a:lnTo>
                      <a:lnTo>
                        <a:pt x="1195" y="22"/>
                      </a:lnTo>
                      <a:lnTo>
                        <a:pt x="1195" y="20"/>
                      </a:lnTo>
                      <a:lnTo>
                        <a:pt x="1195" y="19"/>
                      </a:lnTo>
                      <a:lnTo>
                        <a:pt x="1195" y="16"/>
                      </a:lnTo>
                      <a:lnTo>
                        <a:pt x="1195" y="10"/>
                      </a:lnTo>
                      <a:lnTo>
                        <a:pt x="1213" y="5"/>
                      </a:lnTo>
                      <a:lnTo>
                        <a:pt x="1234" y="3"/>
                      </a:lnTo>
                      <a:lnTo>
                        <a:pt x="1257" y="1"/>
                      </a:lnTo>
                      <a:lnTo>
                        <a:pt x="1280" y="0"/>
                      </a:lnTo>
                      <a:lnTo>
                        <a:pt x="1304" y="0"/>
                      </a:lnTo>
                      <a:lnTo>
                        <a:pt x="1328" y="0"/>
                      </a:lnTo>
                      <a:lnTo>
                        <a:pt x="1350" y="1"/>
                      </a:lnTo>
                      <a:lnTo>
                        <a:pt x="1371" y="1"/>
                      </a:lnTo>
                      <a:lnTo>
                        <a:pt x="1379" y="19"/>
                      </a:lnTo>
                      <a:lnTo>
                        <a:pt x="1391" y="29"/>
                      </a:lnTo>
                      <a:lnTo>
                        <a:pt x="1406" y="34"/>
                      </a:lnTo>
                      <a:lnTo>
                        <a:pt x="1423" y="34"/>
                      </a:lnTo>
                      <a:lnTo>
                        <a:pt x="1440" y="32"/>
                      </a:lnTo>
                      <a:lnTo>
                        <a:pt x="1457" y="27"/>
                      </a:lnTo>
                      <a:lnTo>
                        <a:pt x="1473" y="23"/>
                      </a:lnTo>
                      <a:lnTo>
                        <a:pt x="1488" y="22"/>
                      </a:lnTo>
                      <a:lnTo>
                        <a:pt x="1496" y="23"/>
                      </a:lnTo>
                      <a:lnTo>
                        <a:pt x="1505" y="25"/>
                      </a:lnTo>
                      <a:lnTo>
                        <a:pt x="1510" y="26"/>
                      </a:lnTo>
                      <a:lnTo>
                        <a:pt x="1513" y="27"/>
                      </a:lnTo>
                      <a:lnTo>
                        <a:pt x="1457" y="48"/>
                      </a:lnTo>
                      <a:lnTo>
                        <a:pt x="1457" y="58"/>
                      </a:lnTo>
                      <a:lnTo>
                        <a:pt x="1753" y="70"/>
                      </a:lnTo>
                      <a:lnTo>
                        <a:pt x="1774" y="53"/>
                      </a:lnTo>
                      <a:lnTo>
                        <a:pt x="1780" y="59"/>
                      </a:lnTo>
                      <a:lnTo>
                        <a:pt x="1788" y="67"/>
                      </a:lnTo>
                      <a:lnTo>
                        <a:pt x="1796" y="75"/>
                      </a:lnTo>
                      <a:lnTo>
                        <a:pt x="1804" y="79"/>
                      </a:lnTo>
                      <a:lnTo>
                        <a:pt x="1820" y="83"/>
                      </a:lnTo>
                      <a:lnTo>
                        <a:pt x="1837" y="86"/>
                      </a:lnTo>
                      <a:lnTo>
                        <a:pt x="1855" y="87"/>
                      </a:lnTo>
                      <a:lnTo>
                        <a:pt x="1872" y="87"/>
                      </a:lnTo>
                      <a:lnTo>
                        <a:pt x="1890" y="86"/>
                      </a:lnTo>
                      <a:lnTo>
                        <a:pt x="1909" y="83"/>
                      </a:lnTo>
                      <a:lnTo>
                        <a:pt x="1927" y="80"/>
                      </a:lnTo>
                      <a:lnTo>
                        <a:pt x="1946" y="77"/>
                      </a:lnTo>
                      <a:lnTo>
                        <a:pt x="1964" y="72"/>
                      </a:lnTo>
                      <a:lnTo>
                        <a:pt x="1983" y="67"/>
                      </a:lnTo>
                      <a:lnTo>
                        <a:pt x="2001" y="64"/>
                      </a:lnTo>
                      <a:lnTo>
                        <a:pt x="2019" y="59"/>
                      </a:lnTo>
                      <a:lnTo>
                        <a:pt x="2037" y="56"/>
                      </a:lnTo>
                      <a:lnTo>
                        <a:pt x="2055" y="53"/>
                      </a:lnTo>
                      <a:lnTo>
                        <a:pt x="2071" y="51"/>
                      </a:lnTo>
                      <a:lnTo>
                        <a:pt x="2088" y="51"/>
                      </a:lnTo>
                      <a:lnTo>
                        <a:pt x="2098" y="51"/>
                      </a:lnTo>
                      <a:lnTo>
                        <a:pt x="2110" y="51"/>
                      </a:lnTo>
                      <a:lnTo>
                        <a:pt x="2122" y="52"/>
                      </a:lnTo>
                      <a:lnTo>
                        <a:pt x="2133" y="55"/>
                      </a:lnTo>
                      <a:lnTo>
                        <a:pt x="2145" y="57"/>
                      </a:lnTo>
                      <a:lnTo>
                        <a:pt x="2155" y="60"/>
                      </a:lnTo>
                      <a:lnTo>
                        <a:pt x="2164" y="64"/>
                      </a:lnTo>
                      <a:lnTo>
                        <a:pt x="2171" y="68"/>
                      </a:lnTo>
                      <a:lnTo>
                        <a:pt x="2164" y="71"/>
                      </a:lnTo>
                      <a:lnTo>
                        <a:pt x="2159" y="73"/>
                      </a:lnTo>
                      <a:lnTo>
                        <a:pt x="2153" y="75"/>
                      </a:lnTo>
                      <a:lnTo>
                        <a:pt x="2148" y="78"/>
                      </a:lnTo>
                      <a:lnTo>
                        <a:pt x="2144" y="81"/>
                      </a:lnTo>
                      <a:lnTo>
                        <a:pt x="2138" y="85"/>
                      </a:lnTo>
                      <a:lnTo>
                        <a:pt x="2133" y="88"/>
                      </a:lnTo>
                      <a:lnTo>
                        <a:pt x="2126" y="92"/>
                      </a:lnTo>
                      <a:lnTo>
                        <a:pt x="2120" y="100"/>
                      </a:lnTo>
                      <a:lnTo>
                        <a:pt x="2122" y="107"/>
                      </a:lnTo>
                      <a:lnTo>
                        <a:pt x="2129" y="110"/>
                      </a:lnTo>
                      <a:lnTo>
                        <a:pt x="2138" y="109"/>
                      </a:lnTo>
                      <a:lnTo>
                        <a:pt x="2134" y="112"/>
                      </a:lnTo>
                      <a:lnTo>
                        <a:pt x="2132" y="118"/>
                      </a:lnTo>
                      <a:lnTo>
                        <a:pt x="2137" y="123"/>
                      </a:lnTo>
                      <a:lnTo>
                        <a:pt x="2150" y="125"/>
                      </a:lnTo>
                      <a:lnTo>
                        <a:pt x="2152" y="130"/>
                      </a:lnTo>
                      <a:lnTo>
                        <a:pt x="2156" y="133"/>
                      </a:lnTo>
                      <a:lnTo>
                        <a:pt x="2163" y="137"/>
                      </a:lnTo>
                      <a:lnTo>
                        <a:pt x="2170" y="137"/>
                      </a:lnTo>
                      <a:lnTo>
                        <a:pt x="2177" y="138"/>
                      </a:lnTo>
                      <a:lnTo>
                        <a:pt x="2183" y="139"/>
                      </a:lnTo>
                      <a:lnTo>
                        <a:pt x="2187" y="141"/>
                      </a:lnTo>
                      <a:lnTo>
                        <a:pt x="2193" y="142"/>
                      </a:lnTo>
                      <a:lnTo>
                        <a:pt x="2189" y="146"/>
                      </a:lnTo>
                      <a:lnTo>
                        <a:pt x="2185" y="150"/>
                      </a:lnTo>
                      <a:lnTo>
                        <a:pt x="2184" y="157"/>
                      </a:lnTo>
                      <a:lnTo>
                        <a:pt x="2184" y="166"/>
                      </a:lnTo>
                      <a:lnTo>
                        <a:pt x="2187" y="169"/>
                      </a:lnTo>
                      <a:lnTo>
                        <a:pt x="2191" y="171"/>
                      </a:lnTo>
                      <a:lnTo>
                        <a:pt x="2194" y="174"/>
                      </a:lnTo>
                      <a:lnTo>
                        <a:pt x="2200" y="176"/>
                      </a:lnTo>
                      <a:lnTo>
                        <a:pt x="1897" y="135"/>
                      </a:lnTo>
                      <a:lnTo>
                        <a:pt x="1775" y="186"/>
                      </a:lnTo>
                      <a:lnTo>
                        <a:pt x="1774" y="193"/>
                      </a:lnTo>
                      <a:lnTo>
                        <a:pt x="2215" y="250"/>
                      </a:lnTo>
                      <a:lnTo>
                        <a:pt x="2226" y="249"/>
                      </a:lnTo>
                      <a:lnTo>
                        <a:pt x="2238" y="250"/>
                      </a:lnTo>
                      <a:lnTo>
                        <a:pt x="2252" y="250"/>
                      </a:lnTo>
                      <a:lnTo>
                        <a:pt x="2266" y="251"/>
                      </a:lnTo>
                      <a:lnTo>
                        <a:pt x="2280" y="252"/>
                      </a:lnTo>
                      <a:lnTo>
                        <a:pt x="2293" y="252"/>
                      </a:lnTo>
                      <a:lnTo>
                        <a:pt x="2304" y="253"/>
                      </a:lnTo>
                      <a:lnTo>
                        <a:pt x="2313" y="253"/>
                      </a:lnTo>
                      <a:lnTo>
                        <a:pt x="2313" y="258"/>
                      </a:lnTo>
                      <a:lnTo>
                        <a:pt x="2316" y="265"/>
                      </a:lnTo>
                      <a:lnTo>
                        <a:pt x="2319" y="272"/>
                      </a:lnTo>
                      <a:lnTo>
                        <a:pt x="2326" y="275"/>
                      </a:lnTo>
                      <a:lnTo>
                        <a:pt x="2332" y="279"/>
                      </a:lnTo>
                      <a:lnTo>
                        <a:pt x="2342" y="281"/>
                      </a:lnTo>
                      <a:lnTo>
                        <a:pt x="2356" y="282"/>
                      </a:lnTo>
                      <a:lnTo>
                        <a:pt x="2371" y="284"/>
                      </a:lnTo>
                      <a:lnTo>
                        <a:pt x="2386" y="286"/>
                      </a:lnTo>
                      <a:lnTo>
                        <a:pt x="2401" y="287"/>
                      </a:lnTo>
                      <a:lnTo>
                        <a:pt x="2414" y="288"/>
                      </a:lnTo>
                      <a:lnTo>
                        <a:pt x="2424" y="290"/>
                      </a:lnTo>
                      <a:lnTo>
                        <a:pt x="2494" y="533"/>
                      </a:lnTo>
                      <a:lnTo>
                        <a:pt x="0" y="533"/>
                      </a:lnTo>
                      <a:lnTo>
                        <a:pt x="0" y="40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042240" y="5980320"/>
                  <a:ext cx="144360" cy="304560"/>
                </a:xfrm>
                <a:custGeom>
                  <a:avLst/>
                  <a:gdLst/>
                  <a:ahLst/>
                  <a:rect l="l" t="t" r="r" b="b"/>
                  <a:pathLst>
                    <a:path w="271" h="501">
                      <a:moveTo>
                        <a:pt x="52" y="401"/>
                      </a:moveTo>
                      <a:lnTo>
                        <a:pt x="51" y="401"/>
                      </a:lnTo>
                      <a:lnTo>
                        <a:pt x="50" y="401"/>
                      </a:lnTo>
                      <a:lnTo>
                        <a:pt x="48" y="401"/>
                      </a:lnTo>
                      <a:lnTo>
                        <a:pt x="47" y="400"/>
                      </a:lnTo>
                      <a:lnTo>
                        <a:pt x="46" y="400"/>
                      </a:lnTo>
                      <a:lnTo>
                        <a:pt x="45" y="400"/>
                      </a:lnTo>
                      <a:lnTo>
                        <a:pt x="44" y="400"/>
                      </a:lnTo>
                      <a:lnTo>
                        <a:pt x="44" y="399"/>
                      </a:lnTo>
                      <a:lnTo>
                        <a:pt x="43" y="399"/>
                      </a:lnTo>
                      <a:lnTo>
                        <a:pt x="42" y="399"/>
                      </a:lnTo>
                      <a:lnTo>
                        <a:pt x="40" y="398"/>
                      </a:lnTo>
                      <a:lnTo>
                        <a:pt x="39" y="398"/>
                      </a:lnTo>
                      <a:lnTo>
                        <a:pt x="38" y="398"/>
                      </a:lnTo>
                      <a:lnTo>
                        <a:pt x="37" y="398"/>
                      </a:lnTo>
                      <a:lnTo>
                        <a:pt x="36" y="398"/>
                      </a:lnTo>
                      <a:lnTo>
                        <a:pt x="35" y="398"/>
                      </a:lnTo>
                      <a:lnTo>
                        <a:pt x="33" y="400"/>
                      </a:lnTo>
                      <a:lnTo>
                        <a:pt x="32" y="401"/>
                      </a:lnTo>
                      <a:lnTo>
                        <a:pt x="31" y="402"/>
                      </a:lnTo>
                      <a:lnTo>
                        <a:pt x="30" y="405"/>
                      </a:lnTo>
                      <a:lnTo>
                        <a:pt x="30" y="407"/>
                      </a:lnTo>
                      <a:lnTo>
                        <a:pt x="29" y="409"/>
                      </a:lnTo>
                      <a:lnTo>
                        <a:pt x="28" y="412"/>
                      </a:lnTo>
                      <a:lnTo>
                        <a:pt x="26" y="414"/>
                      </a:lnTo>
                      <a:lnTo>
                        <a:pt x="25" y="417"/>
                      </a:lnTo>
                      <a:lnTo>
                        <a:pt x="24" y="420"/>
                      </a:lnTo>
                      <a:lnTo>
                        <a:pt x="22" y="423"/>
                      </a:lnTo>
                      <a:lnTo>
                        <a:pt x="21" y="427"/>
                      </a:lnTo>
                      <a:lnTo>
                        <a:pt x="20" y="430"/>
                      </a:lnTo>
                      <a:lnTo>
                        <a:pt x="18" y="432"/>
                      </a:lnTo>
                      <a:lnTo>
                        <a:pt x="17" y="436"/>
                      </a:lnTo>
                      <a:lnTo>
                        <a:pt x="16" y="439"/>
                      </a:lnTo>
                      <a:lnTo>
                        <a:pt x="15" y="443"/>
                      </a:lnTo>
                      <a:lnTo>
                        <a:pt x="14" y="446"/>
                      </a:lnTo>
                      <a:lnTo>
                        <a:pt x="13" y="450"/>
                      </a:lnTo>
                      <a:lnTo>
                        <a:pt x="11" y="453"/>
                      </a:lnTo>
                      <a:lnTo>
                        <a:pt x="10" y="457"/>
                      </a:lnTo>
                      <a:lnTo>
                        <a:pt x="9" y="459"/>
                      </a:lnTo>
                      <a:lnTo>
                        <a:pt x="8" y="462"/>
                      </a:lnTo>
                      <a:lnTo>
                        <a:pt x="7" y="466"/>
                      </a:lnTo>
                      <a:lnTo>
                        <a:pt x="6" y="468"/>
                      </a:lnTo>
                      <a:lnTo>
                        <a:pt x="5" y="472"/>
                      </a:lnTo>
                      <a:lnTo>
                        <a:pt x="5" y="474"/>
                      </a:lnTo>
                      <a:lnTo>
                        <a:pt x="3" y="476"/>
                      </a:lnTo>
                      <a:lnTo>
                        <a:pt x="2" y="480"/>
                      </a:lnTo>
                      <a:lnTo>
                        <a:pt x="1" y="482"/>
                      </a:lnTo>
                      <a:lnTo>
                        <a:pt x="0" y="483"/>
                      </a:lnTo>
                      <a:lnTo>
                        <a:pt x="1" y="483"/>
                      </a:lnTo>
                      <a:lnTo>
                        <a:pt x="1" y="484"/>
                      </a:lnTo>
                      <a:lnTo>
                        <a:pt x="2" y="484"/>
                      </a:lnTo>
                      <a:lnTo>
                        <a:pt x="2" y="486"/>
                      </a:lnTo>
                      <a:lnTo>
                        <a:pt x="3" y="486"/>
                      </a:lnTo>
                      <a:lnTo>
                        <a:pt x="3" y="487"/>
                      </a:lnTo>
                      <a:lnTo>
                        <a:pt x="3" y="488"/>
                      </a:lnTo>
                      <a:lnTo>
                        <a:pt x="5" y="489"/>
                      </a:lnTo>
                      <a:lnTo>
                        <a:pt x="5" y="490"/>
                      </a:lnTo>
                      <a:lnTo>
                        <a:pt x="6" y="491"/>
                      </a:lnTo>
                      <a:lnTo>
                        <a:pt x="6" y="493"/>
                      </a:lnTo>
                      <a:lnTo>
                        <a:pt x="7" y="493"/>
                      </a:lnTo>
                      <a:lnTo>
                        <a:pt x="7" y="494"/>
                      </a:lnTo>
                      <a:lnTo>
                        <a:pt x="8" y="494"/>
                      </a:lnTo>
                      <a:lnTo>
                        <a:pt x="9" y="495"/>
                      </a:lnTo>
                      <a:lnTo>
                        <a:pt x="10" y="495"/>
                      </a:lnTo>
                      <a:lnTo>
                        <a:pt x="11" y="495"/>
                      </a:lnTo>
                      <a:lnTo>
                        <a:pt x="11" y="496"/>
                      </a:lnTo>
                      <a:lnTo>
                        <a:pt x="13" y="496"/>
                      </a:lnTo>
                      <a:lnTo>
                        <a:pt x="14" y="496"/>
                      </a:lnTo>
                      <a:lnTo>
                        <a:pt x="15" y="496"/>
                      </a:lnTo>
                      <a:lnTo>
                        <a:pt x="16" y="496"/>
                      </a:lnTo>
                      <a:lnTo>
                        <a:pt x="16" y="497"/>
                      </a:lnTo>
                      <a:lnTo>
                        <a:pt x="17" y="497"/>
                      </a:lnTo>
                      <a:lnTo>
                        <a:pt x="18" y="497"/>
                      </a:lnTo>
                      <a:lnTo>
                        <a:pt x="20" y="497"/>
                      </a:lnTo>
                      <a:lnTo>
                        <a:pt x="21" y="497"/>
                      </a:lnTo>
                      <a:lnTo>
                        <a:pt x="22" y="497"/>
                      </a:lnTo>
                      <a:lnTo>
                        <a:pt x="23" y="498"/>
                      </a:lnTo>
                      <a:lnTo>
                        <a:pt x="24" y="498"/>
                      </a:lnTo>
                      <a:lnTo>
                        <a:pt x="25" y="498"/>
                      </a:lnTo>
                      <a:lnTo>
                        <a:pt x="26" y="498"/>
                      </a:lnTo>
                      <a:lnTo>
                        <a:pt x="28" y="498"/>
                      </a:lnTo>
                      <a:lnTo>
                        <a:pt x="29" y="498"/>
                      </a:lnTo>
                      <a:lnTo>
                        <a:pt x="29" y="499"/>
                      </a:lnTo>
                      <a:lnTo>
                        <a:pt x="30" y="499"/>
                      </a:lnTo>
                      <a:lnTo>
                        <a:pt x="31" y="499"/>
                      </a:lnTo>
                      <a:lnTo>
                        <a:pt x="32" y="499"/>
                      </a:lnTo>
                      <a:lnTo>
                        <a:pt x="32" y="501"/>
                      </a:lnTo>
                      <a:lnTo>
                        <a:pt x="33" y="501"/>
                      </a:lnTo>
                      <a:lnTo>
                        <a:pt x="33" y="497"/>
                      </a:lnTo>
                      <a:lnTo>
                        <a:pt x="35" y="494"/>
                      </a:lnTo>
                      <a:lnTo>
                        <a:pt x="35" y="491"/>
                      </a:lnTo>
                      <a:lnTo>
                        <a:pt x="36" y="488"/>
                      </a:lnTo>
                      <a:lnTo>
                        <a:pt x="37" y="486"/>
                      </a:lnTo>
                      <a:lnTo>
                        <a:pt x="37" y="483"/>
                      </a:lnTo>
                      <a:lnTo>
                        <a:pt x="38" y="481"/>
                      </a:lnTo>
                      <a:lnTo>
                        <a:pt x="39" y="479"/>
                      </a:lnTo>
                      <a:lnTo>
                        <a:pt x="40" y="476"/>
                      </a:lnTo>
                      <a:lnTo>
                        <a:pt x="40" y="474"/>
                      </a:lnTo>
                      <a:lnTo>
                        <a:pt x="42" y="472"/>
                      </a:lnTo>
                      <a:lnTo>
                        <a:pt x="43" y="471"/>
                      </a:lnTo>
                      <a:lnTo>
                        <a:pt x="44" y="468"/>
                      </a:lnTo>
                      <a:lnTo>
                        <a:pt x="45" y="466"/>
                      </a:lnTo>
                      <a:lnTo>
                        <a:pt x="45" y="464"/>
                      </a:lnTo>
                      <a:lnTo>
                        <a:pt x="46" y="462"/>
                      </a:lnTo>
                      <a:lnTo>
                        <a:pt x="47" y="460"/>
                      </a:lnTo>
                      <a:lnTo>
                        <a:pt x="48" y="458"/>
                      </a:lnTo>
                      <a:lnTo>
                        <a:pt x="48" y="456"/>
                      </a:lnTo>
                      <a:lnTo>
                        <a:pt x="50" y="452"/>
                      </a:lnTo>
                      <a:lnTo>
                        <a:pt x="50" y="450"/>
                      </a:lnTo>
                      <a:lnTo>
                        <a:pt x="51" y="446"/>
                      </a:lnTo>
                      <a:lnTo>
                        <a:pt x="51" y="444"/>
                      </a:lnTo>
                      <a:lnTo>
                        <a:pt x="52" y="441"/>
                      </a:lnTo>
                      <a:lnTo>
                        <a:pt x="52" y="436"/>
                      </a:lnTo>
                      <a:lnTo>
                        <a:pt x="52" y="432"/>
                      </a:lnTo>
                      <a:lnTo>
                        <a:pt x="53" y="428"/>
                      </a:lnTo>
                      <a:lnTo>
                        <a:pt x="53" y="423"/>
                      </a:lnTo>
                      <a:lnTo>
                        <a:pt x="53" y="419"/>
                      </a:lnTo>
                      <a:lnTo>
                        <a:pt x="52" y="413"/>
                      </a:lnTo>
                      <a:lnTo>
                        <a:pt x="52" y="407"/>
                      </a:lnTo>
                      <a:lnTo>
                        <a:pt x="52" y="401"/>
                      </a:lnTo>
                      <a:close/>
                      <a:moveTo>
                        <a:pt x="176" y="69"/>
                      </a:moveTo>
                      <a:lnTo>
                        <a:pt x="179" y="65"/>
                      </a:lnTo>
                      <a:lnTo>
                        <a:pt x="182" y="62"/>
                      </a:lnTo>
                      <a:lnTo>
                        <a:pt x="186" y="58"/>
                      </a:lnTo>
                      <a:lnTo>
                        <a:pt x="189" y="55"/>
                      </a:lnTo>
                      <a:lnTo>
                        <a:pt x="193" y="51"/>
                      </a:lnTo>
                      <a:lnTo>
                        <a:pt x="196" y="48"/>
                      </a:lnTo>
                      <a:lnTo>
                        <a:pt x="200" y="45"/>
                      </a:lnTo>
                      <a:lnTo>
                        <a:pt x="204" y="42"/>
                      </a:lnTo>
                      <a:lnTo>
                        <a:pt x="208" y="39"/>
                      </a:lnTo>
                      <a:lnTo>
                        <a:pt x="211" y="36"/>
                      </a:lnTo>
                      <a:lnTo>
                        <a:pt x="215" y="33"/>
                      </a:lnTo>
                      <a:lnTo>
                        <a:pt x="218" y="30"/>
                      </a:lnTo>
                      <a:lnTo>
                        <a:pt x="222" y="28"/>
                      </a:lnTo>
                      <a:lnTo>
                        <a:pt x="225" y="26"/>
                      </a:lnTo>
                      <a:lnTo>
                        <a:pt x="229" y="24"/>
                      </a:lnTo>
                      <a:lnTo>
                        <a:pt x="232" y="21"/>
                      </a:lnTo>
                      <a:lnTo>
                        <a:pt x="236" y="19"/>
                      </a:lnTo>
                      <a:lnTo>
                        <a:pt x="239" y="17"/>
                      </a:lnTo>
                      <a:lnTo>
                        <a:pt x="243" y="14"/>
                      </a:lnTo>
                      <a:lnTo>
                        <a:pt x="246" y="13"/>
                      </a:lnTo>
                      <a:lnTo>
                        <a:pt x="248" y="11"/>
                      </a:lnTo>
                      <a:lnTo>
                        <a:pt x="252" y="10"/>
                      </a:lnTo>
                      <a:lnTo>
                        <a:pt x="254" y="9"/>
                      </a:lnTo>
                      <a:lnTo>
                        <a:pt x="256" y="7"/>
                      </a:lnTo>
                      <a:lnTo>
                        <a:pt x="260" y="5"/>
                      </a:lnTo>
                      <a:lnTo>
                        <a:pt x="262" y="5"/>
                      </a:lnTo>
                      <a:lnTo>
                        <a:pt x="263" y="4"/>
                      </a:lnTo>
                      <a:lnTo>
                        <a:pt x="266" y="3"/>
                      </a:lnTo>
                      <a:lnTo>
                        <a:pt x="268" y="2"/>
                      </a:lnTo>
                      <a:lnTo>
                        <a:pt x="269" y="2"/>
                      </a:lnTo>
                      <a:lnTo>
                        <a:pt x="270" y="2"/>
                      </a:lnTo>
                      <a:lnTo>
                        <a:pt x="271" y="0"/>
                      </a:lnTo>
                      <a:lnTo>
                        <a:pt x="271" y="2"/>
                      </a:lnTo>
                      <a:lnTo>
                        <a:pt x="271" y="3"/>
                      </a:lnTo>
                      <a:lnTo>
                        <a:pt x="270" y="4"/>
                      </a:lnTo>
                      <a:lnTo>
                        <a:pt x="269" y="5"/>
                      </a:lnTo>
                      <a:lnTo>
                        <a:pt x="268" y="6"/>
                      </a:lnTo>
                      <a:lnTo>
                        <a:pt x="267" y="7"/>
                      </a:lnTo>
                      <a:lnTo>
                        <a:pt x="266" y="9"/>
                      </a:lnTo>
                      <a:lnTo>
                        <a:pt x="263" y="10"/>
                      </a:lnTo>
                      <a:lnTo>
                        <a:pt x="262" y="11"/>
                      </a:lnTo>
                      <a:lnTo>
                        <a:pt x="260" y="12"/>
                      </a:lnTo>
                      <a:lnTo>
                        <a:pt x="258" y="14"/>
                      </a:lnTo>
                      <a:lnTo>
                        <a:pt x="256" y="15"/>
                      </a:lnTo>
                      <a:lnTo>
                        <a:pt x="254" y="17"/>
                      </a:lnTo>
                      <a:lnTo>
                        <a:pt x="251" y="19"/>
                      </a:lnTo>
                      <a:lnTo>
                        <a:pt x="248" y="20"/>
                      </a:lnTo>
                      <a:lnTo>
                        <a:pt x="246" y="22"/>
                      </a:lnTo>
                      <a:lnTo>
                        <a:pt x="244" y="25"/>
                      </a:lnTo>
                      <a:lnTo>
                        <a:pt x="241" y="27"/>
                      </a:lnTo>
                      <a:lnTo>
                        <a:pt x="238" y="29"/>
                      </a:lnTo>
                      <a:lnTo>
                        <a:pt x="236" y="32"/>
                      </a:lnTo>
                      <a:lnTo>
                        <a:pt x="233" y="34"/>
                      </a:lnTo>
                      <a:lnTo>
                        <a:pt x="230" y="36"/>
                      </a:lnTo>
                      <a:lnTo>
                        <a:pt x="228" y="39"/>
                      </a:lnTo>
                      <a:lnTo>
                        <a:pt x="225" y="41"/>
                      </a:lnTo>
                      <a:lnTo>
                        <a:pt x="222" y="44"/>
                      </a:lnTo>
                      <a:lnTo>
                        <a:pt x="219" y="47"/>
                      </a:lnTo>
                      <a:lnTo>
                        <a:pt x="217" y="49"/>
                      </a:lnTo>
                      <a:lnTo>
                        <a:pt x="215" y="52"/>
                      </a:lnTo>
                      <a:lnTo>
                        <a:pt x="213" y="56"/>
                      </a:lnTo>
                      <a:lnTo>
                        <a:pt x="209" y="58"/>
                      </a:lnTo>
                      <a:lnTo>
                        <a:pt x="208" y="62"/>
                      </a:lnTo>
                      <a:lnTo>
                        <a:pt x="206" y="65"/>
                      </a:lnTo>
                      <a:lnTo>
                        <a:pt x="203" y="69"/>
                      </a:lnTo>
                      <a:lnTo>
                        <a:pt x="201" y="71"/>
                      </a:lnTo>
                      <a:lnTo>
                        <a:pt x="199" y="74"/>
                      </a:lnTo>
                      <a:lnTo>
                        <a:pt x="195" y="78"/>
                      </a:lnTo>
                      <a:lnTo>
                        <a:pt x="193" y="80"/>
                      </a:lnTo>
                      <a:lnTo>
                        <a:pt x="191" y="84"/>
                      </a:lnTo>
                      <a:lnTo>
                        <a:pt x="188" y="86"/>
                      </a:lnTo>
                      <a:lnTo>
                        <a:pt x="186" y="89"/>
                      </a:lnTo>
                      <a:lnTo>
                        <a:pt x="184" y="92"/>
                      </a:lnTo>
                      <a:lnTo>
                        <a:pt x="181" y="95"/>
                      </a:lnTo>
                      <a:lnTo>
                        <a:pt x="179" y="97"/>
                      </a:lnTo>
                      <a:lnTo>
                        <a:pt x="177" y="101"/>
                      </a:lnTo>
                      <a:lnTo>
                        <a:pt x="173" y="103"/>
                      </a:lnTo>
                      <a:lnTo>
                        <a:pt x="171" y="107"/>
                      </a:lnTo>
                      <a:lnTo>
                        <a:pt x="169" y="109"/>
                      </a:lnTo>
                      <a:lnTo>
                        <a:pt x="166" y="112"/>
                      </a:lnTo>
                      <a:lnTo>
                        <a:pt x="164" y="115"/>
                      </a:lnTo>
                      <a:lnTo>
                        <a:pt x="162" y="118"/>
                      </a:lnTo>
                      <a:lnTo>
                        <a:pt x="159" y="121"/>
                      </a:lnTo>
                      <a:lnTo>
                        <a:pt x="157" y="124"/>
                      </a:lnTo>
                      <a:lnTo>
                        <a:pt x="155" y="126"/>
                      </a:lnTo>
                      <a:lnTo>
                        <a:pt x="151" y="130"/>
                      </a:lnTo>
                      <a:lnTo>
                        <a:pt x="149" y="132"/>
                      </a:lnTo>
                      <a:lnTo>
                        <a:pt x="147" y="136"/>
                      </a:lnTo>
                      <a:lnTo>
                        <a:pt x="144" y="138"/>
                      </a:lnTo>
                      <a:lnTo>
                        <a:pt x="142" y="141"/>
                      </a:lnTo>
                      <a:lnTo>
                        <a:pt x="140" y="144"/>
                      </a:lnTo>
                      <a:lnTo>
                        <a:pt x="137" y="147"/>
                      </a:lnTo>
                      <a:lnTo>
                        <a:pt x="135" y="151"/>
                      </a:lnTo>
                      <a:lnTo>
                        <a:pt x="133" y="153"/>
                      </a:lnTo>
                      <a:lnTo>
                        <a:pt x="133" y="152"/>
                      </a:lnTo>
                      <a:lnTo>
                        <a:pt x="133" y="151"/>
                      </a:lnTo>
                      <a:lnTo>
                        <a:pt x="133" y="149"/>
                      </a:lnTo>
                      <a:lnTo>
                        <a:pt x="133" y="148"/>
                      </a:lnTo>
                      <a:lnTo>
                        <a:pt x="133" y="147"/>
                      </a:lnTo>
                      <a:lnTo>
                        <a:pt x="133" y="146"/>
                      </a:lnTo>
                      <a:lnTo>
                        <a:pt x="133" y="145"/>
                      </a:lnTo>
                      <a:lnTo>
                        <a:pt x="133" y="144"/>
                      </a:lnTo>
                      <a:lnTo>
                        <a:pt x="133" y="143"/>
                      </a:lnTo>
                      <a:lnTo>
                        <a:pt x="133" y="141"/>
                      </a:lnTo>
                      <a:lnTo>
                        <a:pt x="133" y="140"/>
                      </a:lnTo>
                      <a:lnTo>
                        <a:pt x="133" y="139"/>
                      </a:lnTo>
                      <a:lnTo>
                        <a:pt x="133" y="138"/>
                      </a:lnTo>
                      <a:lnTo>
                        <a:pt x="133" y="137"/>
                      </a:lnTo>
                      <a:lnTo>
                        <a:pt x="133" y="136"/>
                      </a:lnTo>
                      <a:lnTo>
                        <a:pt x="133" y="134"/>
                      </a:lnTo>
                      <a:lnTo>
                        <a:pt x="133" y="133"/>
                      </a:lnTo>
                      <a:lnTo>
                        <a:pt x="133" y="132"/>
                      </a:lnTo>
                      <a:lnTo>
                        <a:pt x="135" y="131"/>
                      </a:lnTo>
                      <a:lnTo>
                        <a:pt x="136" y="129"/>
                      </a:lnTo>
                      <a:lnTo>
                        <a:pt x="137" y="126"/>
                      </a:lnTo>
                      <a:lnTo>
                        <a:pt x="139" y="124"/>
                      </a:lnTo>
                      <a:lnTo>
                        <a:pt x="141" y="123"/>
                      </a:lnTo>
                      <a:lnTo>
                        <a:pt x="142" y="121"/>
                      </a:lnTo>
                      <a:lnTo>
                        <a:pt x="143" y="118"/>
                      </a:lnTo>
                      <a:lnTo>
                        <a:pt x="145" y="116"/>
                      </a:lnTo>
                      <a:lnTo>
                        <a:pt x="147" y="114"/>
                      </a:lnTo>
                      <a:lnTo>
                        <a:pt x="148" y="111"/>
                      </a:lnTo>
                      <a:lnTo>
                        <a:pt x="149" y="109"/>
                      </a:lnTo>
                      <a:lnTo>
                        <a:pt x="150" y="108"/>
                      </a:lnTo>
                      <a:lnTo>
                        <a:pt x="151" y="106"/>
                      </a:lnTo>
                      <a:lnTo>
                        <a:pt x="154" y="103"/>
                      </a:lnTo>
                      <a:lnTo>
                        <a:pt x="155" y="101"/>
                      </a:lnTo>
                      <a:lnTo>
                        <a:pt x="156" y="99"/>
                      </a:lnTo>
                      <a:lnTo>
                        <a:pt x="157" y="96"/>
                      </a:lnTo>
                      <a:lnTo>
                        <a:pt x="158" y="94"/>
                      </a:lnTo>
                      <a:lnTo>
                        <a:pt x="159" y="93"/>
                      </a:lnTo>
                      <a:lnTo>
                        <a:pt x="161" y="91"/>
                      </a:lnTo>
                      <a:lnTo>
                        <a:pt x="162" y="88"/>
                      </a:lnTo>
                      <a:lnTo>
                        <a:pt x="163" y="86"/>
                      </a:lnTo>
                      <a:lnTo>
                        <a:pt x="164" y="85"/>
                      </a:lnTo>
                      <a:lnTo>
                        <a:pt x="166" y="82"/>
                      </a:lnTo>
                      <a:lnTo>
                        <a:pt x="167" y="80"/>
                      </a:lnTo>
                      <a:lnTo>
                        <a:pt x="169" y="79"/>
                      </a:lnTo>
                      <a:lnTo>
                        <a:pt x="170" y="77"/>
                      </a:lnTo>
                      <a:lnTo>
                        <a:pt x="171" y="76"/>
                      </a:lnTo>
                      <a:lnTo>
                        <a:pt x="172" y="73"/>
                      </a:lnTo>
                      <a:lnTo>
                        <a:pt x="173" y="72"/>
                      </a:lnTo>
                      <a:lnTo>
                        <a:pt x="174" y="70"/>
                      </a:lnTo>
                      <a:lnTo>
                        <a:pt x="176" y="69"/>
                      </a:lnTo>
                      <a:close/>
                      <a:moveTo>
                        <a:pt x="62" y="339"/>
                      </a:moveTo>
                      <a:lnTo>
                        <a:pt x="61" y="340"/>
                      </a:lnTo>
                      <a:lnTo>
                        <a:pt x="61" y="342"/>
                      </a:lnTo>
                      <a:lnTo>
                        <a:pt x="61" y="344"/>
                      </a:lnTo>
                      <a:lnTo>
                        <a:pt x="61" y="346"/>
                      </a:lnTo>
                      <a:lnTo>
                        <a:pt x="61" y="348"/>
                      </a:lnTo>
                      <a:lnTo>
                        <a:pt x="60" y="349"/>
                      </a:lnTo>
                      <a:lnTo>
                        <a:pt x="60" y="352"/>
                      </a:lnTo>
                      <a:lnTo>
                        <a:pt x="60" y="354"/>
                      </a:lnTo>
                      <a:lnTo>
                        <a:pt x="60" y="355"/>
                      </a:lnTo>
                      <a:lnTo>
                        <a:pt x="60" y="357"/>
                      </a:lnTo>
                      <a:lnTo>
                        <a:pt x="60" y="360"/>
                      </a:lnTo>
                      <a:lnTo>
                        <a:pt x="59" y="361"/>
                      </a:lnTo>
                      <a:lnTo>
                        <a:pt x="59" y="363"/>
                      </a:lnTo>
                      <a:lnTo>
                        <a:pt x="59" y="364"/>
                      </a:lnTo>
                      <a:lnTo>
                        <a:pt x="59" y="367"/>
                      </a:lnTo>
                      <a:lnTo>
                        <a:pt x="59" y="369"/>
                      </a:lnTo>
                      <a:lnTo>
                        <a:pt x="58" y="370"/>
                      </a:lnTo>
                      <a:lnTo>
                        <a:pt x="58" y="372"/>
                      </a:lnTo>
                      <a:lnTo>
                        <a:pt x="58" y="375"/>
                      </a:lnTo>
                      <a:lnTo>
                        <a:pt x="58" y="376"/>
                      </a:lnTo>
                      <a:lnTo>
                        <a:pt x="58" y="378"/>
                      </a:lnTo>
                      <a:lnTo>
                        <a:pt x="58" y="380"/>
                      </a:lnTo>
                      <a:lnTo>
                        <a:pt x="57" y="382"/>
                      </a:lnTo>
                      <a:lnTo>
                        <a:pt x="57" y="384"/>
                      </a:lnTo>
                      <a:lnTo>
                        <a:pt x="57" y="385"/>
                      </a:lnTo>
                      <a:lnTo>
                        <a:pt x="57" y="387"/>
                      </a:lnTo>
                      <a:lnTo>
                        <a:pt x="57" y="390"/>
                      </a:lnTo>
                      <a:lnTo>
                        <a:pt x="57" y="391"/>
                      </a:lnTo>
                      <a:lnTo>
                        <a:pt x="55" y="393"/>
                      </a:lnTo>
                      <a:lnTo>
                        <a:pt x="55" y="395"/>
                      </a:lnTo>
                      <a:lnTo>
                        <a:pt x="55" y="397"/>
                      </a:lnTo>
                      <a:lnTo>
                        <a:pt x="55" y="399"/>
                      </a:lnTo>
                      <a:lnTo>
                        <a:pt x="57" y="399"/>
                      </a:lnTo>
                      <a:lnTo>
                        <a:pt x="58" y="400"/>
                      </a:lnTo>
                      <a:lnTo>
                        <a:pt x="59" y="400"/>
                      </a:lnTo>
                      <a:lnTo>
                        <a:pt x="60" y="400"/>
                      </a:lnTo>
                      <a:lnTo>
                        <a:pt x="61" y="400"/>
                      </a:lnTo>
                      <a:lnTo>
                        <a:pt x="62" y="401"/>
                      </a:lnTo>
                      <a:lnTo>
                        <a:pt x="63" y="401"/>
                      </a:lnTo>
                      <a:lnTo>
                        <a:pt x="65" y="401"/>
                      </a:lnTo>
                      <a:lnTo>
                        <a:pt x="66" y="401"/>
                      </a:lnTo>
                      <a:lnTo>
                        <a:pt x="67" y="401"/>
                      </a:lnTo>
                      <a:lnTo>
                        <a:pt x="68" y="402"/>
                      </a:lnTo>
                      <a:lnTo>
                        <a:pt x="69" y="402"/>
                      </a:lnTo>
                      <a:lnTo>
                        <a:pt x="70" y="402"/>
                      </a:lnTo>
                      <a:lnTo>
                        <a:pt x="72" y="402"/>
                      </a:lnTo>
                      <a:lnTo>
                        <a:pt x="73" y="402"/>
                      </a:lnTo>
                      <a:lnTo>
                        <a:pt x="74" y="404"/>
                      </a:lnTo>
                      <a:lnTo>
                        <a:pt x="75" y="404"/>
                      </a:lnTo>
                      <a:lnTo>
                        <a:pt x="76" y="404"/>
                      </a:lnTo>
                      <a:lnTo>
                        <a:pt x="77" y="405"/>
                      </a:lnTo>
                      <a:lnTo>
                        <a:pt x="77" y="400"/>
                      </a:lnTo>
                      <a:lnTo>
                        <a:pt x="77" y="397"/>
                      </a:lnTo>
                      <a:lnTo>
                        <a:pt x="77" y="393"/>
                      </a:lnTo>
                      <a:lnTo>
                        <a:pt x="77" y="390"/>
                      </a:lnTo>
                      <a:lnTo>
                        <a:pt x="77" y="385"/>
                      </a:lnTo>
                      <a:lnTo>
                        <a:pt x="77" y="382"/>
                      </a:lnTo>
                      <a:lnTo>
                        <a:pt x="77" y="378"/>
                      </a:lnTo>
                      <a:lnTo>
                        <a:pt x="77" y="375"/>
                      </a:lnTo>
                      <a:lnTo>
                        <a:pt x="77" y="370"/>
                      </a:lnTo>
                      <a:lnTo>
                        <a:pt x="77" y="367"/>
                      </a:lnTo>
                      <a:lnTo>
                        <a:pt x="77" y="363"/>
                      </a:lnTo>
                      <a:lnTo>
                        <a:pt x="77" y="360"/>
                      </a:lnTo>
                      <a:lnTo>
                        <a:pt x="77" y="355"/>
                      </a:lnTo>
                      <a:lnTo>
                        <a:pt x="77" y="352"/>
                      </a:lnTo>
                      <a:lnTo>
                        <a:pt x="77" y="348"/>
                      </a:lnTo>
                      <a:lnTo>
                        <a:pt x="77" y="345"/>
                      </a:lnTo>
                      <a:lnTo>
                        <a:pt x="77" y="340"/>
                      </a:lnTo>
                      <a:lnTo>
                        <a:pt x="77" y="337"/>
                      </a:lnTo>
                      <a:lnTo>
                        <a:pt x="77" y="333"/>
                      </a:lnTo>
                      <a:lnTo>
                        <a:pt x="77" y="330"/>
                      </a:lnTo>
                      <a:lnTo>
                        <a:pt x="77" y="326"/>
                      </a:lnTo>
                      <a:lnTo>
                        <a:pt x="77" y="323"/>
                      </a:lnTo>
                      <a:lnTo>
                        <a:pt x="77" y="319"/>
                      </a:lnTo>
                      <a:lnTo>
                        <a:pt x="77" y="315"/>
                      </a:lnTo>
                      <a:lnTo>
                        <a:pt x="78" y="311"/>
                      </a:lnTo>
                      <a:lnTo>
                        <a:pt x="78" y="308"/>
                      </a:lnTo>
                      <a:lnTo>
                        <a:pt x="78" y="304"/>
                      </a:lnTo>
                      <a:lnTo>
                        <a:pt x="78" y="301"/>
                      </a:lnTo>
                      <a:lnTo>
                        <a:pt x="78" y="297"/>
                      </a:lnTo>
                      <a:lnTo>
                        <a:pt x="78" y="295"/>
                      </a:lnTo>
                      <a:lnTo>
                        <a:pt x="80" y="292"/>
                      </a:lnTo>
                      <a:lnTo>
                        <a:pt x="80" y="288"/>
                      </a:lnTo>
                      <a:lnTo>
                        <a:pt x="80" y="286"/>
                      </a:lnTo>
                      <a:lnTo>
                        <a:pt x="80" y="283"/>
                      </a:lnTo>
                      <a:lnTo>
                        <a:pt x="81" y="281"/>
                      </a:lnTo>
                      <a:lnTo>
                        <a:pt x="81" y="279"/>
                      </a:lnTo>
                      <a:lnTo>
                        <a:pt x="81" y="277"/>
                      </a:lnTo>
                      <a:lnTo>
                        <a:pt x="82" y="274"/>
                      </a:lnTo>
                      <a:lnTo>
                        <a:pt x="82" y="271"/>
                      </a:lnTo>
                      <a:lnTo>
                        <a:pt x="82" y="268"/>
                      </a:lnTo>
                      <a:lnTo>
                        <a:pt x="83" y="266"/>
                      </a:lnTo>
                      <a:lnTo>
                        <a:pt x="83" y="264"/>
                      </a:lnTo>
                      <a:lnTo>
                        <a:pt x="84" y="261"/>
                      </a:lnTo>
                      <a:lnTo>
                        <a:pt x="84" y="259"/>
                      </a:lnTo>
                      <a:lnTo>
                        <a:pt x="84" y="257"/>
                      </a:lnTo>
                      <a:lnTo>
                        <a:pt x="85" y="255"/>
                      </a:lnTo>
                      <a:lnTo>
                        <a:pt x="85" y="252"/>
                      </a:lnTo>
                      <a:lnTo>
                        <a:pt x="87" y="250"/>
                      </a:lnTo>
                      <a:lnTo>
                        <a:pt x="87" y="248"/>
                      </a:lnTo>
                      <a:lnTo>
                        <a:pt x="88" y="245"/>
                      </a:lnTo>
                      <a:lnTo>
                        <a:pt x="88" y="243"/>
                      </a:lnTo>
                      <a:lnTo>
                        <a:pt x="89" y="241"/>
                      </a:lnTo>
                      <a:lnTo>
                        <a:pt x="89" y="238"/>
                      </a:lnTo>
                      <a:lnTo>
                        <a:pt x="90" y="236"/>
                      </a:lnTo>
                      <a:lnTo>
                        <a:pt x="90" y="234"/>
                      </a:lnTo>
                      <a:lnTo>
                        <a:pt x="91" y="231"/>
                      </a:lnTo>
                      <a:lnTo>
                        <a:pt x="92" y="229"/>
                      </a:lnTo>
                      <a:lnTo>
                        <a:pt x="92" y="227"/>
                      </a:lnTo>
                      <a:lnTo>
                        <a:pt x="93" y="225"/>
                      </a:lnTo>
                      <a:lnTo>
                        <a:pt x="95" y="222"/>
                      </a:lnTo>
                      <a:lnTo>
                        <a:pt x="95" y="220"/>
                      </a:lnTo>
                      <a:lnTo>
                        <a:pt x="96" y="218"/>
                      </a:lnTo>
                      <a:lnTo>
                        <a:pt x="97" y="216"/>
                      </a:lnTo>
                      <a:lnTo>
                        <a:pt x="98" y="214"/>
                      </a:lnTo>
                      <a:lnTo>
                        <a:pt x="97" y="215"/>
                      </a:lnTo>
                      <a:lnTo>
                        <a:pt x="96" y="218"/>
                      </a:lnTo>
                      <a:lnTo>
                        <a:pt x="95" y="219"/>
                      </a:lnTo>
                      <a:lnTo>
                        <a:pt x="93" y="221"/>
                      </a:lnTo>
                      <a:lnTo>
                        <a:pt x="92" y="222"/>
                      </a:lnTo>
                      <a:lnTo>
                        <a:pt x="91" y="225"/>
                      </a:lnTo>
                      <a:lnTo>
                        <a:pt x="90" y="226"/>
                      </a:lnTo>
                      <a:lnTo>
                        <a:pt x="89" y="228"/>
                      </a:lnTo>
                      <a:lnTo>
                        <a:pt x="88" y="229"/>
                      </a:lnTo>
                      <a:lnTo>
                        <a:pt x="87" y="231"/>
                      </a:lnTo>
                      <a:lnTo>
                        <a:pt x="85" y="233"/>
                      </a:lnTo>
                      <a:lnTo>
                        <a:pt x="85" y="235"/>
                      </a:lnTo>
                      <a:lnTo>
                        <a:pt x="84" y="236"/>
                      </a:lnTo>
                      <a:lnTo>
                        <a:pt x="83" y="238"/>
                      </a:lnTo>
                      <a:lnTo>
                        <a:pt x="82" y="240"/>
                      </a:lnTo>
                      <a:lnTo>
                        <a:pt x="81" y="242"/>
                      </a:lnTo>
                      <a:lnTo>
                        <a:pt x="80" y="243"/>
                      </a:lnTo>
                      <a:lnTo>
                        <a:pt x="78" y="244"/>
                      </a:lnTo>
                      <a:lnTo>
                        <a:pt x="77" y="246"/>
                      </a:lnTo>
                      <a:lnTo>
                        <a:pt x="76" y="248"/>
                      </a:lnTo>
                      <a:lnTo>
                        <a:pt x="75" y="250"/>
                      </a:lnTo>
                      <a:lnTo>
                        <a:pt x="74" y="251"/>
                      </a:lnTo>
                      <a:lnTo>
                        <a:pt x="73" y="253"/>
                      </a:lnTo>
                      <a:lnTo>
                        <a:pt x="72" y="255"/>
                      </a:lnTo>
                      <a:lnTo>
                        <a:pt x="70" y="256"/>
                      </a:lnTo>
                      <a:lnTo>
                        <a:pt x="69" y="258"/>
                      </a:lnTo>
                      <a:lnTo>
                        <a:pt x="68" y="259"/>
                      </a:lnTo>
                      <a:lnTo>
                        <a:pt x="67" y="260"/>
                      </a:lnTo>
                      <a:lnTo>
                        <a:pt x="66" y="263"/>
                      </a:lnTo>
                      <a:lnTo>
                        <a:pt x="65" y="264"/>
                      </a:lnTo>
                      <a:lnTo>
                        <a:pt x="63" y="265"/>
                      </a:lnTo>
                      <a:lnTo>
                        <a:pt x="62" y="267"/>
                      </a:lnTo>
                      <a:lnTo>
                        <a:pt x="62" y="268"/>
                      </a:lnTo>
                      <a:lnTo>
                        <a:pt x="62" y="270"/>
                      </a:lnTo>
                      <a:lnTo>
                        <a:pt x="63" y="270"/>
                      </a:lnTo>
                      <a:lnTo>
                        <a:pt x="63" y="271"/>
                      </a:lnTo>
                      <a:lnTo>
                        <a:pt x="63" y="272"/>
                      </a:lnTo>
                      <a:lnTo>
                        <a:pt x="65" y="273"/>
                      </a:lnTo>
                      <a:lnTo>
                        <a:pt x="65" y="274"/>
                      </a:lnTo>
                      <a:lnTo>
                        <a:pt x="66" y="275"/>
                      </a:lnTo>
                      <a:lnTo>
                        <a:pt x="66" y="277"/>
                      </a:lnTo>
                      <a:lnTo>
                        <a:pt x="67" y="278"/>
                      </a:lnTo>
                      <a:lnTo>
                        <a:pt x="67" y="279"/>
                      </a:lnTo>
                      <a:lnTo>
                        <a:pt x="68" y="279"/>
                      </a:lnTo>
                      <a:lnTo>
                        <a:pt x="68" y="280"/>
                      </a:lnTo>
                      <a:lnTo>
                        <a:pt x="69" y="281"/>
                      </a:lnTo>
                      <a:lnTo>
                        <a:pt x="69" y="282"/>
                      </a:lnTo>
                      <a:lnTo>
                        <a:pt x="70" y="283"/>
                      </a:lnTo>
                      <a:lnTo>
                        <a:pt x="70" y="285"/>
                      </a:lnTo>
                      <a:lnTo>
                        <a:pt x="72" y="285"/>
                      </a:lnTo>
                      <a:lnTo>
                        <a:pt x="72" y="286"/>
                      </a:lnTo>
                      <a:lnTo>
                        <a:pt x="73" y="286"/>
                      </a:lnTo>
                      <a:lnTo>
                        <a:pt x="73" y="287"/>
                      </a:lnTo>
                      <a:lnTo>
                        <a:pt x="74" y="287"/>
                      </a:lnTo>
                      <a:lnTo>
                        <a:pt x="73" y="288"/>
                      </a:lnTo>
                      <a:lnTo>
                        <a:pt x="73" y="289"/>
                      </a:lnTo>
                      <a:lnTo>
                        <a:pt x="73" y="290"/>
                      </a:lnTo>
                      <a:lnTo>
                        <a:pt x="72" y="293"/>
                      </a:lnTo>
                      <a:lnTo>
                        <a:pt x="72" y="294"/>
                      </a:lnTo>
                      <a:lnTo>
                        <a:pt x="72" y="295"/>
                      </a:lnTo>
                      <a:lnTo>
                        <a:pt x="70" y="297"/>
                      </a:lnTo>
                      <a:lnTo>
                        <a:pt x="70" y="298"/>
                      </a:lnTo>
                      <a:lnTo>
                        <a:pt x="70" y="300"/>
                      </a:lnTo>
                      <a:lnTo>
                        <a:pt x="69" y="302"/>
                      </a:lnTo>
                      <a:lnTo>
                        <a:pt x="69" y="303"/>
                      </a:lnTo>
                      <a:lnTo>
                        <a:pt x="68" y="305"/>
                      </a:lnTo>
                      <a:lnTo>
                        <a:pt x="68" y="307"/>
                      </a:lnTo>
                      <a:lnTo>
                        <a:pt x="68" y="309"/>
                      </a:lnTo>
                      <a:lnTo>
                        <a:pt x="67" y="310"/>
                      </a:lnTo>
                      <a:lnTo>
                        <a:pt x="67" y="312"/>
                      </a:lnTo>
                      <a:lnTo>
                        <a:pt x="67" y="313"/>
                      </a:lnTo>
                      <a:lnTo>
                        <a:pt x="66" y="316"/>
                      </a:lnTo>
                      <a:lnTo>
                        <a:pt x="66" y="317"/>
                      </a:lnTo>
                      <a:lnTo>
                        <a:pt x="66" y="319"/>
                      </a:lnTo>
                      <a:lnTo>
                        <a:pt x="65" y="320"/>
                      </a:lnTo>
                      <a:lnTo>
                        <a:pt x="65" y="323"/>
                      </a:lnTo>
                      <a:lnTo>
                        <a:pt x="65" y="324"/>
                      </a:lnTo>
                      <a:lnTo>
                        <a:pt x="63" y="326"/>
                      </a:lnTo>
                      <a:lnTo>
                        <a:pt x="63" y="327"/>
                      </a:lnTo>
                      <a:lnTo>
                        <a:pt x="63" y="330"/>
                      </a:lnTo>
                      <a:lnTo>
                        <a:pt x="63" y="331"/>
                      </a:lnTo>
                      <a:lnTo>
                        <a:pt x="62" y="332"/>
                      </a:lnTo>
                      <a:lnTo>
                        <a:pt x="62" y="334"/>
                      </a:lnTo>
                      <a:lnTo>
                        <a:pt x="62" y="335"/>
                      </a:lnTo>
                      <a:lnTo>
                        <a:pt x="62" y="337"/>
                      </a:lnTo>
                      <a:lnTo>
                        <a:pt x="62" y="33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6042240" y="6222960"/>
                  <a:ext cx="28440" cy="61920"/>
                </a:xfrm>
                <a:custGeom>
                  <a:avLst/>
                  <a:gdLst/>
                  <a:ahLst/>
                  <a:rect l="l" t="t" r="r" b="b"/>
                  <a:pathLst>
                    <a:path w="53" h="103">
                      <a:moveTo>
                        <a:pt x="52" y="3"/>
                      </a:moveTo>
                      <a:lnTo>
                        <a:pt x="48" y="3"/>
                      </a:lnTo>
                      <a:lnTo>
                        <a:pt x="44" y="1"/>
                      </a:lnTo>
                      <a:lnTo>
                        <a:pt x="39" y="0"/>
                      </a:lnTo>
                      <a:lnTo>
                        <a:pt x="36" y="0"/>
                      </a:lnTo>
                      <a:lnTo>
                        <a:pt x="31" y="4"/>
                      </a:lnTo>
                      <a:lnTo>
                        <a:pt x="28" y="14"/>
                      </a:lnTo>
                      <a:lnTo>
                        <a:pt x="22" y="25"/>
                      </a:lnTo>
                      <a:lnTo>
                        <a:pt x="17" y="38"/>
                      </a:lnTo>
                      <a:lnTo>
                        <a:pt x="13" y="52"/>
                      </a:lnTo>
                      <a:lnTo>
                        <a:pt x="8" y="64"/>
                      </a:lnTo>
                      <a:lnTo>
                        <a:pt x="5" y="76"/>
                      </a:lnTo>
                      <a:lnTo>
                        <a:pt x="0" y="85"/>
                      </a:lnTo>
                      <a:lnTo>
                        <a:pt x="3" y="88"/>
                      </a:lnTo>
                      <a:lnTo>
                        <a:pt x="5" y="91"/>
                      </a:lnTo>
                      <a:lnTo>
                        <a:pt x="7" y="95"/>
                      </a:lnTo>
                      <a:lnTo>
                        <a:pt x="11" y="97"/>
                      </a:lnTo>
                      <a:lnTo>
                        <a:pt x="17" y="99"/>
                      </a:lnTo>
                      <a:lnTo>
                        <a:pt x="23" y="100"/>
                      </a:lnTo>
                      <a:lnTo>
                        <a:pt x="29" y="101"/>
                      </a:lnTo>
                      <a:lnTo>
                        <a:pt x="33" y="103"/>
                      </a:lnTo>
                      <a:lnTo>
                        <a:pt x="36" y="90"/>
                      </a:lnTo>
                      <a:lnTo>
                        <a:pt x="39" y="81"/>
                      </a:lnTo>
                      <a:lnTo>
                        <a:pt x="43" y="73"/>
                      </a:lnTo>
                      <a:lnTo>
                        <a:pt x="46" y="64"/>
                      </a:lnTo>
                      <a:lnTo>
                        <a:pt x="50" y="54"/>
                      </a:lnTo>
                      <a:lnTo>
                        <a:pt x="52" y="43"/>
                      </a:lnTo>
                      <a:lnTo>
                        <a:pt x="53" y="25"/>
                      </a:lnTo>
                      <a:lnTo>
                        <a:pt x="52" y="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6113520" y="5980320"/>
                  <a:ext cx="73080" cy="92880"/>
                </a:xfrm>
                <a:custGeom>
                  <a:avLst/>
                  <a:gdLst/>
                  <a:ahLst/>
                  <a:rect l="l" t="t" r="r" b="b"/>
                  <a:pathLst>
                    <a:path w="138" h="153">
                      <a:moveTo>
                        <a:pt x="43" y="69"/>
                      </a:moveTo>
                      <a:lnTo>
                        <a:pt x="56" y="55"/>
                      </a:lnTo>
                      <a:lnTo>
                        <a:pt x="71" y="42"/>
                      </a:lnTo>
                      <a:lnTo>
                        <a:pt x="85" y="30"/>
                      </a:lnTo>
                      <a:lnTo>
                        <a:pt x="99" y="21"/>
                      </a:lnTo>
                      <a:lnTo>
                        <a:pt x="113" y="13"/>
                      </a:lnTo>
                      <a:lnTo>
                        <a:pt x="123" y="7"/>
                      </a:lnTo>
                      <a:lnTo>
                        <a:pt x="133" y="3"/>
                      </a:lnTo>
                      <a:lnTo>
                        <a:pt x="138" y="0"/>
                      </a:lnTo>
                      <a:lnTo>
                        <a:pt x="138" y="3"/>
                      </a:lnTo>
                      <a:lnTo>
                        <a:pt x="134" y="7"/>
                      </a:lnTo>
                      <a:lnTo>
                        <a:pt x="127" y="12"/>
                      </a:lnTo>
                      <a:lnTo>
                        <a:pt x="118" y="19"/>
                      </a:lnTo>
                      <a:lnTo>
                        <a:pt x="108" y="27"/>
                      </a:lnTo>
                      <a:lnTo>
                        <a:pt x="97" y="36"/>
                      </a:lnTo>
                      <a:lnTo>
                        <a:pt x="86" y="47"/>
                      </a:lnTo>
                      <a:lnTo>
                        <a:pt x="76" y="58"/>
                      </a:lnTo>
                      <a:lnTo>
                        <a:pt x="68" y="71"/>
                      </a:lnTo>
                      <a:lnTo>
                        <a:pt x="58" y="84"/>
                      </a:lnTo>
                      <a:lnTo>
                        <a:pt x="48" y="95"/>
                      </a:lnTo>
                      <a:lnTo>
                        <a:pt x="38" y="107"/>
                      </a:lnTo>
                      <a:lnTo>
                        <a:pt x="29" y="118"/>
                      </a:lnTo>
                      <a:lnTo>
                        <a:pt x="18" y="130"/>
                      </a:lnTo>
                      <a:lnTo>
                        <a:pt x="9" y="141"/>
                      </a:lnTo>
                      <a:lnTo>
                        <a:pt x="0" y="153"/>
                      </a:lnTo>
                      <a:lnTo>
                        <a:pt x="0" y="148"/>
                      </a:lnTo>
                      <a:lnTo>
                        <a:pt x="0" y="143"/>
                      </a:lnTo>
                      <a:lnTo>
                        <a:pt x="0" y="137"/>
                      </a:lnTo>
                      <a:lnTo>
                        <a:pt x="0" y="132"/>
                      </a:lnTo>
                      <a:lnTo>
                        <a:pt x="6" y="124"/>
                      </a:lnTo>
                      <a:lnTo>
                        <a:pt x="12" y="116"/>
                      </a:lnTo>
                      <a:lnTo>
                        <a:pt x="17" y="108"/>
                      </a:lnTo>
                      <a:lnTo>
                        <a:pt x="23" y="99"/>
                      </a:lnTo>
                      <a:lnTo>
                        <a:pt x="28" y="91"/>
                      </a:lnTo>
                      <a:lnTo>
                        <a:pt x="33" y="82"/>
                      </a:lnTo>
                      <a:lnTo>
                        <a:pt x="38" y="76"/>
                      </a:lnTo>
                      <a:lnTo>
                        <a:pt x="43" y="6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6072480" y="6111360"/>
                  <a:ext cx="21960" cy="114840"/>
                </a:xfrm>
                <a:custGeom>
                  <a:avLst/>
                  <a:gdLst/>
                  <a:ahLst/>
                  <a:rect l="l" t="t" r="r" b="b"/>
                  <a:pathLst>
                    <a:path w="43" h="191">
                      <a:moveTo>
                        <a:pt x="7" y="125"/>
                      </a:moveTo>
                      <a:lnTo>
                        <a:pt x="6" y="132"/>
                      </a:lnTo>
                      <a:lnTo>
                        <a:pt x="5" y="140"/>
                      </a:lnTo>
                      <a:lnTo>
                        <a:pt x="4" y="147"/>
                      </a:lnTo>
                      <a:lnTo>
                        <a:pt x="4" y="155"/>
                      </a:lnTo>
                      <a:lnTo>
                        <a:pt x="3" y="162"/>
                      </a:lnTo>
                      <a:lnTo>
                        <a:pt x="2" y="170"/>
                      </a:lnTo>
                      <a:lnTo>
                        <a:pt x="2" y="177"/>
                      </a:lnTo>
                      <a:lnTo>
                        <a:pt x="0" y="185"/>
                      </a:lnTo>
                      <a:lnTo>
                        <a:pt x="6" y="186"/>
                      </a:lnTo>
                      <a:lnTo>
                        <a:pt x="11" y="187"/>
                      </a:lnTo>
                      <a:lnTo>
                        <a:pt x="17" y="188"/>
                      </a:lnTo>
                      <a:lnTo>
                        <a:pt x="22" y="191"/>
                      </a:lnTo>
                      <a:lnTo>
                        <a:pt x="22" y="176"/>
                      </a:lnTo>
                      <a:lnTo>
                        <a:pt x="22" y="161"/>
                      </a:lnTo>
                      <a:lnTo>
                        <a:pt x="22" y="146"/>
                      </a:lnTo>
                      <a:lnTo>
                        <a:pt x="22" y="131"/>
                      </a:lnTo>
                      <a:lnTo>
                        <a:pt x="22" y="116"/>
                      </a:lnTo>
                      <a:lnTo>
                        <a:pt x="22" y="101"/>
                      </a:lnTo>
                      <a:lnTo>
                        <a:pt x="23" y="87"/>
                      </a:lnTo>
                      <a:lnTo>
                        <a:pt x="25" y="74"/>
                      </a:lnTo>
                      <a:lnTo>
                        <a:pt x="26" y="65"/>
                      </a:lnTo>
                      <a:lnTo>
                        <a:pt x="27" y="54"/>
                      </a:lnTo>
                      <a:lnTo>
                        <a:pt x="29" y="45"/>
                      </a:lnTo>
                      <a:lnTo>
                        <a:pt x="32" y="36"/>
                      </a:lnTo>
                      <a:lnTo>
                        <a:pt x="34" y="27"/>
                      </a:lnTo>
                      <a:lnTo>
                        <a:pt x="36" y="17"/>
                      </a:lnTo>
                      <a:lnTo>
                        <a:pt x="40" y="8"/>
                      </a:lnTo>
                      <a:lnTo>
                        <a:pt x="43" y="0"/>
                      </a:lnTo>
                      <a:lnTo>
                        <a:pt x="38" y="7"/>
                      </a:lnTo>
                      <a:lnTo>
                        <a:pt x="34" y="14"/>
                      </a:lnTo>
                      <a:lnTo>
                        <a:pt x="30" y="21"/>
                      </a:lnTo>
                      <a:lnTo>
                        <a:pt x="26" y="28"/>
                      </a:lnTo>
                      <a:lnTo>
                        <a:pt x="21" y="34"/>
                      </a:lnTo>
                      <a:lnTo>
                        <a:pt x="17" y="41"/>
                      </a:lnTo>
                      <a:lnTo>
                        <a:pt x="12" y="46"/>
                      </a:lnTo>
                      <a:lnTo>
                        <a:pt x="7" y="53"/>
                      </a:lnTo>
                      <a:lnTo>
                        <a:pt x="10" y="59"/>
                      </a:lnTo>
                      <a:lnTo>
                        <a:pt x="12" y="64"/>
                      </a:lnTo>
                      <a:lnTo>
                        <a:pt x="15" y="69"/>
                      </a:lnTo>
                      <a:lnTo>
                        <a:pt x="19" y="73"/>
                      </a:lnTo>
                      <a:lnTo>
                        <a:pt x="17" y="79"/>
                      </a:lnTo>
                      <a:lnTo>
                        <a:pt x="15" y="84"/>
                      </a:lnTo>
                      <a:lnTo>
                        <a:pt x="13" y="91"/>
                      </a:lnTo>
                      <a:lnTo>
                        <a:pt x="12" y="98"/>
                      </a:lnTo>
                      <a:lnTo>
                        <a:pt x="11" y="105"/>
                      </a:lnTo>
                      <a:lnTo>
                        <a:pt x="8" y="112"/>
                      </a:lnTo>
                      <a:lnTo>
                        <a:pt x="7" y="118"/>
                      </a:lnTo>
                      <a:lnTo>
                        <a:pt x="7" y="12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950080" y="6170040"/>
                  <a:ext cx="47520" cy="45720"/>
                </a:xfrm>
                <a:custGeom>
                  <a:avLst/>
                  <a:gdLst/>
                  <a:ahLst/>
                  <a:rect l="l" t="t" r="r" b="b"/>
                  <a:pathLst>
                    <a:path w="91" h="75">
                      <a:moveTo>
                        <a:pt x="5" y="25"/>
                      </a:moveTo>
                      <a:lnTo>
                        <a:pt x="6" y="25"/>
                      </a:lnTo>
                      <a:lnTo>
                        <a:pt x="9" y="23"/>
                      </a:lnTo>
                      <a:lnTo>
                        <a:pt x="10" y="22"/>
                      </a:lnTo>
                      <a:lnTo>
                        <a:pt x="11" y="21"/>
                      </a:lnTo>
                      <a:lnTo>
                        <a:pt x="12" y="21"/>
                      </a:lnTo>
                      <a:lnTo>
                        <a:pt x="14" y="20"/>
                      </a:lnTo>
                      <a:lnTo>
                        <a:pt x="15" y="19"/>
                      </a:lnTo>
                      <a:lnTo>
                        <a:pt x="18" y="18"/>
                      </a:lnTo>
                      <a:lnTo>
                        <a:pt x="19" y="16"/>
                      </a:lnTo>
                      <a:lnTo>
                        <a:pt x="21" y="15"/>
                      </a:lnTo>
                      <a:lnTo>
                        <a:pt x="22" y="14"/>
                      </a:lnTo>
                      <a:lnTo>
                        <a:pt x="25" y="13"/>
                      </a:lnTo>
                      <a:lnTo>
                        <a:pt x="26" y="13"/>
                      </a:lnTo>
                      <a:lnTo>
                        <a:pt x="28" y="12"/>
                      </a:lnTo>
                      <a:lnTo>
                        <a:pt x="30" y="11"/>
                      </a:lnTo>
                      <a:lnTo>
                        <a:pt x="32" y="10"/>
                      </a:lnTo>
                      <a:lnTo>
                        <a:pt x="34" y="8"/>
                      </a:lnTo>
                      <a:lnTo>
                        <a:pt x="35" y="7"/>
                      </a:lnTo>
                      <a:lnTo>
                        <a:pt x="37" y="7"/>
                      </a:lnTo>
                      <a:lnTo>
                        <a:pt x="40" y="6"/>
                      </a:lnTo>
                      <a:lnTo>
                        <a:pt x="41" y="5"/>
                      </a:lnTo>
                      <a:lnTo>
                        <a:pt x="43" y="5"/>
                      </a:lnTo>
                      <a:lnTo>
                        <a:pt x="44" y="4"/>
                      </a:lnTo>
                      <a:lnTo>
                        <a:pt x="47" y="3"/>
                      </a:lnTo>
                      <a:lnTo>
                        <a:pt x="48" y="3"/>
                      </a:lnTo>
                      <a:lnTo>
                        <a:pt x="50" y="1"/>
                      </a:lnTo>
                      <a:lnTo>
                        <a:pt x="52" y="1"/>
                      </a:lnTo>
                      <a:lnTo>
                        <a:pt x="54" y="1"/>
                      </a:lnTo>
                      <a:lnTo>
                        <a:pt x="55" y="1"/>
                      </a:lnTo>
                      <a:lnTo>
                        <a:pt x="57" y="0"/>
                      </a:lnTo>
                      <a:lnTo>
                        <a:pt x="58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62" y="0"/>
                      </a:lnTo>
                      <a:lnTo>
                        <a:pt x="63" y="0"/>
                      </a:lnTo>
                      <a:lnTo>
                        <a:pt x="64" y="0"/>
                      </a:lnTo>
                      <a:lnTo>
                        <a:pt x="65" y="0"/>
                      </a:lnTo>
                      <a:lnTo>
                        <a:pt x="66" y="0"/>
                      </a:lnTo>
                      <a:lnTo>
                        <a:pt x="67" y="0"/>
                      </a:lnTo>
                      <a:lnTo>
                        <a:pt x="69" y="0"/>
                      </a:lnTo>
                      <a:lnTo>
                        <a:pt x="70" y="0"/>
                      </a:lnTo>
                      <a:lnTo>
                        <a:pt x="71" y="0"/>
                      </a:lnTo>
                      <a:lnTo>
                        <a:pt x="72" y="0"/>
                      </a:lnTo>
                      <a:lnTo>
                        <a:pt x="73" y="0"/>
                      </a:lnTo>
                      <a:lnTo>
                        <a:pt x="74" y="0"/>
                      </a:lnTo>
                      <a:lnTo>
                        <a:pt x="76" y="0"/>
                      </a:lnTo>
                      <a:lnTo>
                        <a:pt x="77" y="0"/>
                      </a:lnTo>
                      <a:lnTo>
                        <a:pt x="78" y="0"/>
                      </a:lnTo>
                      <a:lnTo>
                        <a:pt x="79" y="0"/>
                      </a:lnTo>
                      <a:lnTo>
                        <a:pt x="80" y="0"/>
                      </a:lnTo>
                      <a:lnTo>
                        <a:pt x="81" y="0"/>
                      </a:lnTo>
                      <a:lnTo>
                        <a:pt x="82" y="0"/>
                      </a:lnTo>
                      <a:lnTo>
                        <a:pt x="84" y="0"/>
                      </a:lnTo>
                      <a:lnTo>
                        <a:pt x="84" y="1"/>
                      </a:lnTo>
                      <a:lnTo>
                        <a:pt x="85" y="1"/>
                      </a:lnTo>
                      <a:lnTo>
                        <a:pt x="86" y="1"/>
                      </a:lnTo>
                      <a:lnTo>
                        <a:pt x="85" y="1"/>
                      </a:lnTo>
                      <a:lnTo>
                        <a:pt x="85" y="3"/>
                      </a:lnTo>
                      <a:lnTo>
                        <a:pt x="85" y="4"/>
                      </a:lnTo>
                      <a:lnTo>
                        <a:pt x="85" y="5"/>
                      </a:lnTo>
                      <a:lnTo>
                        <a:pt x="85" y="6"/>
                      </a:lnTo>
                      <a:lnTo>
                        <a:pt x="85" y="7"/>
                      </a:lnTo>
                      <a:lnTo>
                        <a:pt x="85" y="8"/>
                      </a:lnTo>
                      <a:lnTo>
                        <a:pt x="86" y="10"/>
                      </a:lnTo>
                      <a:lnTo>
                        <a:pt x="86" y="11"/>
                      </a:lnTo>
                      <a:lnTo>
                        <a:pt x="86" y="12"/>
                      </a:lnTo>
                      <a:lnTo>
                        <a:pt x="87" y="12"/>
                      </a:lnTo>
                      <a:lnTo>
                        <a:pt x="87" y="13"/>
                      </a:lnTo>
                      <a:lnTo>
                        <a:pt x="87" y="14"/>
                      </a:lnTo>
                      <a:lnTo>
                        <a:pt x="88" y="14"/>
                      </a:lnTo>
                      <a:lnTo>
                        <a:pt x="91" y="21"/>
                      </a:lnTo>
                      <a:lnTo>
                        <a:pt x="86" y="22"/>
                      </a:lnTo>
                      <a:lnTo>
                        <a:pt x="85" y="22"/>
                      </a:lnTo>
                      <a:lnTo>
                        <a:pt x="84" y="22"/>
                      </a:lnTo>
                      <a:lnTo>
                        <a:pt x="82" y="22"/>
                      </a:lnTo>
                      <a:lnTo>
                        <a:pt x="81" y="22"/>
                      </a:lnTo>
                      <a:lnTo>
                        <a:pt x="80" y="23"/>
                      </a:lnTo>
                      <a:lnTo>
                        <a:pt x="79" y="25"/>
                      </a:lnTo>
                      <a:lnTo>
                        <a:pt x="78" y="25"/>
                      </a:lnTo>
                      <a:lnTo>
                        <a:pt x="78" y="26"/>
                      </a:lnTo>
                      <a:lnTo>
                        <a:pt x="77" y="27"/>
                      </a:lnTo>
                      <a:lnTo>
                        <a:pt x="76" y="27"/>
                      </a:lnTo>
                      <a:lnTo>
                        <a:pt x="76" y="28"/>
                      </a:lnTo>
                      <a:lnTo>
                        <a:pt x="74" y="29"/>
                      </a:lnTo>
                      <a:lnTo>
                        <a:pt x="74" y="30"/>
                      </a:lnTo>
                      <a:lnTo>
                        <a:pt x="73" y="30"/>
                      </a:lnTo>
                      <a:lnTo>
                        <a:pt x="73" y="32"/>
                      </a:lnTo>
                      <a:lnTo>
                        <a:pt x="73" y="33"/>
                      </a:lnTo>
                      <a:lnTo>
                        <a:pt x="72" y="34"/>
                      </a:lnTo>
                      <a:lnTo>
                        <a:pt x="72" y="35"/>
                      </a:lnTo>
                      <a:lnTo>
                        <a:pt x="72" y="36"/>
                      </a:lnTo>
                      <a:lnTo>
                        <a:pt x="72" y="37"/>
                      </a:lnTo>
                      <a:lnTo>
                        <a:pt x="71" y="38"/>
                      </a:lnTo>
                      <a:lnTo>
                        <a:pt x="71" y="40"/>
                      </a:lnTo>
                      <a:lnTo>
                        <a:pt x="72" y="41"/>
                      </a:lnTo>
                      <a:lnTo>
                        <a:pt x="72" y="42"/>
                      </a:lnTo>
                      <a:lnTo>
                        <a:pt x="72" y="43"/>
                      </a:lnTo>
                      <a:lnTo>
                        <a:pt x="72" y="44"/>
                      </a:lnTo>
                      <a:lnTo>
                        <a:pt x="73" y="44"/>
                      </a:lnTo>
                      <a:lnTo>
                        <a:pt x="73" y="45"/>
                      </a:lnTo>
                      <a:lnTo>
                        <a:pt x="74" y="47"/>
                      </a:lnTo>
                      <a:lnTo>
                        <a:pt x="73" y="47"/>
                      </a:lnTo>
                      <a:lnTo>
                        <a:pt x="72" y="47"/>
                      </a:lnTo>
                      <a:lnTo>
                        <a:pt x="71" y="47"/>
                      </a:lnTo>
                      <a:lnTo>
                        <a:pt x="70" y="48"/>
                      </a:lnTo>
                      <a:lnTo>
                        <a:pt x="69" y="49"/>
                      </a:lnTo>
                      <a:lnTo>
                        <a:pt x="69" y="50"/>
                      </a:lnTo>
                      <a:lnTo>
                        <a:pt x="67" y="50"/>
                      </a:lnTo>
                      <a:lnTo>
                        <a:pt x="67" y="51"/>
                      </a:lnTo>
                      <a:lnTo>
                        <a:pt x="66" y="52"/>
                      </a:lnTo>
                      <a:lnTo>
                        <a:pt x="66" y="53"/>
                      </a:lnTo>
                      <a:lnTo>
                        <a:pt x="65" y="55"/>
                      </a:lnTo>
                      <a:lnTo>
                        <a:pt x="65" y="56"/>
                      </a:lnTo>
                      <a:lnTo>
                        <a:pt x="65" y="57"/>
                      </a:lnTo>
                      <a:lnTo>
                        <a:pt x="65" y="58"/>
                      </a:lnTo>
                      <a:lnTo>
                        <a:pt x="65" y="59"/>
                      </a:lnTo>
                      <a:lnTo>
                        <a:pt x="65" y="60"/>
                      </a:lnTo>
                      <a:lnTo>
                        <a:pt x="65" y="62"/>
                      </a:lnTo>
                      <a:lnTo>
                        <a:pt x="65" y="63"/>
                      </a:lnTo>
                      <a:lnTo>
                        <a:pt x="65" y="64"/>
                      </a:lnTo>
                      <a:lnTo>
                        <a:pt x="65" y="65"/>
                      </a:lnTo>
                      <a:lnTo>
                        <a:pt x="66" y="66"/>
                      </a:lnTo>
                      <a:lnTo>
                        <a:pt x="66" y="67"/>
                      </a:lnTo>
                      <a:lnTo>
                        <a:pt x="66" y="68"/>
                      </a:lnTo>
                      <a:lnTo>
                        <a:pt x="67" y="70"/>
                      </a:lnTo>
                      <a:lnTo>
                        <a:pt x="67" y="71"/>
                      </a:lnTo>
                      <a:lnTo>
                        <a:pt x="69" y="72"/>
                      </a:lnTo>
                      <a:lnTo>
                        <a:pt x="70" y="73"/>
                      </a:lnTo>
                      <a:lnTo>
                        <a:pt x="71" y="74"/>
                      </a:lnTo>
                      <a:lnTo>
                        <a:pt x="72" y="74"/>
                      </a:lnTo>
                      <a:lnTo>
                        <a:pt x="73" y="75"/>
                      </a:lnTo>
                      <a:lnTo>
                        <a:pt x="73" y="74"/>
                      </a:lnTo>
                      <a:lnTo>
                        <a:pt x="72" y="74"/>
                      </a:lnTo>
                      <a:lnTo>
                        <a:pt x="71" y="74"/>
                      </a:lnTo>
                      <a:lnTo>
                        <a:pt x="70" y="74"/>
                      </a:lnTo>
                      <a:lnTo>
                        <a:pt x="69" y="73"/>
                      </a:lnTo>
                      <a:lnTo>
                        <a:pt x="67" y="73"/>
                      </a:lnTo>
                      <a:lnTo>
                        <a:pt x="66" y="73"/>
                      </a:lnTo>
                      <a:lnTo>
                        <a:pt x="66" y="72"/>
                      </a:lnTo>
                      <a:lnTo>
                        <a:pt x="65" y="72"/>
                      </a:lnTo>
                      <a:lnTo>
                        <a:pt x="64" y="72"/>
                      </a:lnTo>
                      <a:lnTo>
                        <a:pt x="64" y="71"/>
                      </a:lnTo>
                      <a:lnTo>
                        <a:pt x="63" y="71"/>
                      </a:lnTo>
                      <a:lnTo>
                        <a:pt x="62" y="71"/>
                      </a:lnTo>
                      <a:lnTo>
                        <a:pt x="61" y="70"/>
                      </a:lnTo>
                      <a:lnTo>
                        <a:pt x="59" y="70"/>
                      </a:lnTo>
                      <a:lnTo>
                        <a:pt x="58" y="70"/>
                      </a:lnTo>
                      <a:lnTo>
                        <a:pt x="57" y="70"/>
                      </a:lnTo>
                      <a:lnTo>
                        <a:pt x="56" y="70"/>
                      </a:lnTo>
                      <a:lnTo>
                        <a:pt x="56" y="68"/>
                      </a:lnTo>
                      <a:lnTo>
                        <a:pt x="55" y="68"/>
                      </a:lnTo>
                      <a:lnTo>
                        <a:pt x="54" y="68"/>
                      </a:lnTo>
                      <a:lnTo>
                        <a:pt x="52" y="68"/>
                      </a:lnTo>
                      <a:lnTo>
                        <a:pt x="51" y="70"/>
                      </a:lnTo>
                      <a:lnTo>
                        <a:pt x="50" y="70"/>
                      </a:lnTo>
                      <a:lnTo>
                        <a:pt x="49" y="68"/>
                      </a:lnTo>
                      <a:lnTo>
                        <a:pt x="48" y="68"/>
                      </a:lnTo>
                      <a:lnTo>
                        <a:pt x="47" y="68"/>
                      </a:lnTo>
                      <a:lnTo>
                        <a:pt x="45" y="68"/>
                      </a:lnTo>
                      <a:lnTo>
                        <a:pt x="44" y="68"/>
                      </a:lnTo>
                      <a:lnTo>
                        <a:pt x="43" y="68"/>
                      </a:lnTo>
                      <a:lnTo>
                        <a:pt x="42" y="68"/>
                      </a:lnTo>
                      <a:lnTo>
                        <a:pt x="42" y="67"/>
                      </a:lnTo>
                      <a:lnTo>
                        <a:pt x="41" y="67"/>
                      </a:lnTo>
                      <a:lnTo>
                        <a:pt x="40" y="67"/>
                      </a:lnTo>
                      <a:lnTo>
                        <a:pt x="39" y="66"/>
                      </a:lnTo>
                      <a:lnTo>
                        <a:pt x="37" y="66"/>
                      </a:lnTo>
                      <a:lnTo>
                        <a:pt x="36" y="65"/>
                      </a:lnTo>
                      <a:lnTo>
                        <a:pt x="35" y="65"/>
                      </a:lnTo>
                      <a:lnTo>
                        <a:pt x="35" y="64"/>
                      </a:lnTo>
                      <a:lnTo>
                        <a:pt x="34" y="64"/>
                      </a:lnTo>
                      <a:lnTo>
                        <a:pt x="34" y="63"/>
                      </a:lnTo>
                      <a:lnTo>
                        <a:pt x="33" y="63"/>
                      </a:lnTo>
                      <a:lnTo>
                        <a:pt x="33" y="62"/>
                      </a:lnTo>
                      <a:lnTo>
                        <a:pt x="32" y="62"/>
                      </a:lnTo>
                      <a:lnTo>
                        <a:pt x="32" y="60"/>
                      </a:lnTo>
                      <a:lnTo>
                        <a:pt x="30" y="59"/>
                      </a:lnTo>
                      <a:lnTo>
                        <a:pt x="30" y="58"/>
                      </a:lnTo>
                      <a:lnTo>
                        <a:pt x="30" y="57"/>
                      </a:lnTo>
                      <a:lnTo>
                        <a:pt x="28" y="57"/>
                      </a:lnTo>
                      <a:lnTo>
                        <a:pt x="27" y="57"/>
                      </a:lnTo>
                      <a:lnTo>
                        <a:pt x="26" y="57"/>
                      </a:lnTo>
                      <a:lnTo>
                        <a:pt x="25" y="57"/>
                      </a:lnTo>
                      <a:lnTo>
                        <a:pt x="24" y="57"/>
                      </a:lnTo>
                      <a:lnTo>
                        <a:pt x="22" y="57"/>
                      </a:lnTo>
                      <a:lnTo>
                        <a:pt x="21" y="57"/>
                      </a:lnTo>
                      <a:lnTo>
                        <a:pt x="20" y="57"/>
                      </a:lnTo>
                      <a:lnTo>
                        <a:pt x="19" y="57"/>
                      </a:lnTo>
                      <a:lnTo>
                        <a:pt x="18" y="56"/>
                      </a:lnTo>
                      <a:lnTo>
                        <a:pt x="17" y="56"/>
                      </a:lnTo>
                      <a:lnTo>
                        <a:pt x="15" y="55"/>
                      </a:lnTo>
                      <a:lnTo>
                        <a:pt x="14" y="53"/>
                      </a:lnTo>
                      <a:lnTo>
                        <a:pt x="13" y="52"/>
                      </a:lnTo>
                      <a:lnTo>
                        <a:pt x="13" y="51"/>
                      </a:lnTo>
                      <a:lnTo>
                        <a:pt x="13" y="50"/>
                      </a:lnTo>
                      <a:lnTo>
                        <a:pt x="13" y="49"/>
                      </a:lnTo>
                      <a:lnTo>
                        <a:pt x="13" y="48"/>
                      </a:lnTo>
                      <a:lnTo>
                        <a:pt x="13" y="47"/>
                      </a:lnTo>
                      <a:lnTo>
                        <a:pt x="14" y="45"/>
                      </a:lnTo>
                      <a:lnTo>
                        <a:pt x="14" y="44"/>
                      </a:lnTo>
                      <a:lnTo>
                        <a:pt x="15" y="44"/>
                      </a:lnTo>
                      <a:lnTo>
                        <a:pt x="17" y="43"/>
                      </a:lnTo>
                      <a:lnTo>
                        <a:pt x="17" y="42"/>
                      </a:lnTo>
                      <a:lnTo>
                        <a:pt x="18" y="42"/>
                      </a:lnTo>
                      <a:lnTo>
                        <a:pt x="17" y="42"/>
                      </a:lnTo>
                      <a:lnTo>
                        <a:pt x="14" y="42"/>
                      </a:lnTo>
                      <a:lnTo>
                        <a:pt x="13" y="43"/>
                      </a:lnTo>
                      <a:lnTo>
                        <a:pt x="12" y="43"/>
                      </a:lnTo>
                      <a:lnTo>
                        <a:pt x="11" y="43"/>
                      </a:lnTo>
                      <a:lnTo>
                        <a:pt x="10" y="43"/>
                      </a:lnTo>
                      <a:lnTo>
                        <a:pt x="9" y="42"/>
                      </a:lnTo>
                      <a:lnTo>
                        <a:pt x="7" y="42"/>
                      </a:lnTo>
                      <a:lnTo>
                        <a:pt x="6" y="42"/>
                      </a:lnTo>
                      <a:lnTo>
                        <a:pt x="5" y="42"/>
                      </a:lnTo>
                      <a:lnTo>
                        <a:pt x="4" y="41"/>
                      </a:lnTo>
                      <a:lnTo>
                        <a:pt x="3" y="40"/>
                      </a:lnTo>
                      <a:lnTo>
                        <a:pt x="2" y="38"/>
                      </a:lnTo>
                      <a:lnTo>
                        <a:pt x="2" y="37"/>
                      </a:lnTo>
                      <a:lnTo>
                        <a:pt x="0" y="36"/>
                      </a:lnTo>
                      <a:lnTo>
                        <a:pt x="0" y="35"/>
                      </a:lnTo>
                      <a:lnTo>
                        <a:pt x="0" y="34"/>
                      </a:lnTo>
                      <a:lnTo>
                        <a:pt x="0" y="33"/>
                      </a:lnTo>
                      <a:lnTo>
                        <a:pt x="0" y="32"/>
                      </a:lnTo>
                      <a:lnTo>
                        <a:pt x="2" y="30"/>
                      </a:lnTo>
                      <a:lnTo>
                        <a:pt x="2" y="29"/>
                      </a:lnTo>
                      <a:lnTo>
                        <a:pt x="2" y="28"/>
                      </a:lnTo>
                      <a:lnTo>
                        <a:pt x="3" y="28"/>
                      </a:lnTo>
                      <a:lnTo>
                        <a:pt x="3" y="27"/>
                      </a:lnTo>
                      <a:lnTo>
                        <a:pt x="4" y="27"/>
                      </a:lnTo>
                      <a:lnTo>
                        <a:pt x="5" y="26"/>
                      </a:lnTo>
                      <a:lnTo>
                        <a:pt x="5" y="25"/>
                      </a:lnTo>
                      <a:close/>
                    </a:path>
                  </a:pathLst>
                </a:custGeom>
                <a:solidFill>
                  <a:srgbClr val="ffba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950080" y="6170040"/>
                  <a:ext cx="47520" cy="45720"/>
                </a:xfrm>
                <a:custGeom>
                  <a:avLst/>
                  <a:gdLst/>
                  <a:ahLst/>
                  <a:rect l="l" t="t" r="r" b="b"/>
                  <a:pathLst>
                    <a:path w="91" h="75">
                      <a:moveTo>
                        <a:pt x="5" y="25"/>
                      </a:moveTo>
                      <a:lnTo>
                        <a:pt x="11" y="21"/>
                      </a:lnTo>
                      <a:lnTo>
                        <a:pt x="18" y="18"/>
                      </a:lnTo>
                      <a:lnTo>
                        <a:pt x="25" y="13"/>
                      </a:lnTo>
                      <a:lnTo>
                        <a:pt x="32" y="10"/>
                      </a:lnTo>
                      <a:lnTo>
                        <a:pt x="40" y="6"/>
                      </a:lnTo>
                      <a:lnTo>
                        <a:pt x="47" y="3"/>
                      </a:lnTo>
                      <a:lnTo>
                        <a:pt x="54" y="1"/>
                      </a:lnTo>
                      <a:lnTo>
                        <a:pt x="59" y="0"/>
                      </a:lnTo>
                      <a:lnTo>
                        <a:pt x="67" y="0"/>
                      </a:lnTo>
                      <a:lnTo>
                        <a:pt x="74" y="0"/>
                      </a:lnTo>
                      <a:lnTo>
                        <a:pt x="80" y="0"/>
                      </a:lnTo>
                      <a:lnTo>
                        <a:pt x="86" y="1"/>
                      </a:lnTo>
                      <a:lnTo>
                        <a:pt x="85" y="4"/>
                      </a:lnTo>
                      <a:lnTo>
                        <a:pt x="85" y="7"/>
                      </a:lnTo>
                      <a:lnTo>
                        <a:pt x="86" y="11"/>
                      </a:lnTo>
                      <a:lnTo>
                        <a:pt x="88" y="14"/>
                      </a:lnTo>
                      <a:lnTo>
                        <a:pt x="91" y="21"/>
                      </a:lnTo>
                      <a:lnTo>
                        <a:pt x="86" y="22"/>
                      </a:lnTo>
                      <a:lnTo>
                        <a:pt x="79" y="25"/>
                      </a:lnTo>
                      <a:lnTo>
                        <a:pt x="73" y="30"/>
                      </a:lnTo>
                      <a:lnTo>
                        <a:pt x="71" y="40"/>
                      </a:lnTo>
                      <a:lnTo>
                        <a:pt x="74" y="47"/>
                      </a:lnTo>
                      <a:lnTo>
                        <a:pt x="67" y="50"/>
                      </a:lnTo>
                      <a:lnTo>
                        <a:pt x="65" y="59"/>
                      </a:lnTo>
                      <a:lnTo>
                        <a:pt x="66" y="68"/>
                      </a:lnTo>
                      <a:lnTo>
                        <a:pt x="73" y="75"/>
                      </a:lnTo>
                      <a:lnTo>
                        <a:pt x="69" y="73"/>
                      </a:lnTo>
                      <a:lnTo>
                        <a:pt x="64" y="71"/>
                      </a:lnTo>
                      <a:lnTo>
                        <a:pt x="58" y="70"/>
                      </a:lnTo>
                      <a:lnTo>
                        <a:pt x="52" y="68"/>
                      </a:lnTo>
                      <a:lnTo>
                        <a:pt x="44" y="68"/>
                      </a:lnTo>
                      <a:lnTo>
                        <a:pt x="37" y="66"/>
                      </a:lnTo>
                      <a:lnTo>
                        <a:pt x="33" y="62"/>
                      </a:lnTo>
                      <a:lnTo>
                        <a:pt x="30" y="57"/>
                      </a:lnTo>
                      <a:lnTo>
                        <a:pt x="20" y="57"/>
                      </a:lnTo>
                      <a:lnTo>
                        <a:pt x="14" y="53"/>
                      </a:lnTo>
                      <a:lnTo>
                        <a:pt x="13" y="48"/>
                      </a:lnTo>
                      <a:lnTo>
                        <a:pt x="18" y="42"/>
                      </a:lnTo>
                      <a:lnTo>
                        <a:pt x="7" y="42"/>
                      </a:lnTo>
                      <a:lnTo>
                        <a:pt x="2" y="37"/>
                      </a:lnTo>
                      <a:lnTo>
                        <a:pt x="0" y="32"/>
                      </a:lnTo>
                      <a:lnTo>
                        <a:pt x="5" y="2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158080" y="6051600"/>
                  <a:ext cx="917280" cy="284400"/>
                </a:xfrm>
                <a:custGeom>
                  <a:avLst/>
                  <a:gdLst/>
                  <a:ahLst/>
                  <a:rect l="l" t="t" r="r" b="b"/>
                  <a:pathLst>
                    <a:path w="1732" h="470">
                      <a:moveTo>
                        <a:pt x="756" y="19"/>
                      </a:moveTo>
                      <a:lnTo>
                        <a:pt x="758" y="18"/>
                      </a:lnTo>
                      <a:lnTo>
                        <a:pt x="760" y="17"/>
                      </a:lnTo>
                      <a:lnTo>
                        <a:pt x="762" y="16"/>
                      </a:lnTo>
                      <a:lnTo>
                        <a:pt x="764" y="15"/>
                      </a:lnTo>
                      <a:lnTo>
                        <a:pt x="766" y="14"/>
                      </a:lnTo>
                      <a:lnTo>
                        <a:pt x="767" y="12"/>
                      </a:lnTo>
                      <a:lnTo>
                        <a:pt x="770" y="12"/>
                      </a:lnTo>
                      <a:lnTo>
                        <a:pt x="771" y="11"/>
                      </a:lnTo>
                      <a:lnTo>
                        <a:pt x="773" y="10"/>
                      </a:lnTo>
                      <a:lnTo>
                        <a:pt x="774" y="9"/>
                      </a:lnTo>
                      <a:lnTo>
                        <a:pt x="777" y="8"/>
                      </a:lnTo>
                      <a:lnTo>
                        <a:pt x="778" y="7"/>
                      </a:lnTo>
                      <a:lnTo>
                        <a:pt x="780" y="7"/>
                      </a:lnTo>
                      <a:lnTo>
                        <a:pt x="781" y="6"/>
                      </a:lnTo>
                      <a:lnTo>
                        <a:pt x="782" y="4"/>
                      </a:lnTo>
                      <a:lnTo>
                        <a:pt x="784" y="4"/>
                      </a:lnTo>
                      <a:lnTo>
                        <a:pt x="786" y="3"/>
                      </a:lnTo>
                      <a:lnTo>
                        <a:pt x="787" y="2"/>
                      </a:lnTo>
                      <a:lnTo>
                        <a:pt x="788" y="2"/>
                      </a:lnTo>
                      <a:lnTo>
                        <a:pt x="789" y="1"/>
                      </a:lnTo>
                      <a:lnTo>
                        <a:pt x="790" y="1"/>
                      </a:lnTo>
                      <a:lnTo>
                        <a:pt x="792" y="1"/>
                      </a:lnTo>
                      <a:lnTo>
                        <a:pt x="793" y="1"/>
                      </a:lnTo>
                      <a:lnTo>
                        <a:pt x="794" y="0"/>
                      </a:lnTo>
                      <a:lnTo>
                        <a:pt x="795" y="0"/>
                      </a:lnTo>
                      <a:lnTo>
                        <a:pt x="796" y="0"/>
                      </a:lnTo>
                      <a:lnTo>
                        <a:pt x="797" y="0"/>
                      </a:lnTo>
                      <a:lnTo>
                        <a:pt x="800" y="0"/>
                      </a:lnTo>
                      <a:lnTo>
                        <a:pt x="801" y="0"/>
                      </a:lnTo>
                      <a:lnTo>
                        <a:pt x="802" y="1"/>
                      </a:lnTo>
                      <a:lnTo>
                        <a:pt x="803" y="1"/>
                      </a:lnTo>
                      <a:lnTo>
                        <a:pt x="804" y="2"/>
                      </a:lnTo>
                      <a:lnTo>
                        <a:pt x="805" y="2"/>
                      </a:lnTo>
                      <a:lnTo>
                        <a:pt x="808" y="3"/>
                      </a:lnTo>
                      <a:lnTo>
                        <a:pt x="809" y="3"/>
                      </a:lnTo>
                      <a:lnTo>
                        <a:pt x="811" y="4"/>
                      </a:lnTo>
                      <a:lnTo>
                        <a:pt x="814" y="4"/>
                      </a:lnTo>
                      <a:lnTo>
                        <a:pt x="815" y="6"/>
                      </a:lnTo>
                      <a:lnTo>
                        <a:pt x="816" y="6"/>
                      </a:lnTo>
                      <a:lnTo>
                        <a:pt x="818" y="7"/>
                      </a:lnTo>
                      <a:lnTo>
                        <a:pt x="819" y="7"/>
                      </a:lnTo>
                      <a:lnTo>
                        <a:pt x="820" y="8"/>
                      </a:lnTo>
                      <a:lnTo>
                        <a:pt x="823" y="8"/>
                      </a:lnTo>
                      <a:lnTo>
                        <a:pt x="824" y="9"/>
                      </a:lnTo>
                      <a:lnTo>
                        <a:pt x="825" y="10"/>
                      </a:lnTo>
                      <a:lnTo>
                        <a:pt x="826" y="10"/>
                      </a:lnTo>
                      <a:lnTo>
                        <a:pt x="827" y="11"/>
                      </a:lnTo>
                      <a:lnTo>
                        <a:pt x="829" y="12"/>
                      </a:lnTo>
                      <a:lnTo>
                        <a:pt x="830" y="14"/>
                      </a:lnTo>
                      <a:lnTo>
                        <a:pt x="831" y="14"/>
                      </a:lnTo>
                      <a:lnTo>
                        <a:pt x="832" y="15"/>
                      </a:lnTo>
                      <a:lnTo>
                        <a:pt x="833" y="16"/>
                      </a:lnTo>
                      <a:lnTo>
                        <a:pt x="833" y="17"/>
                      </a:lnTo>
                      <a:lnTo>
                        <a:pt x="834" y="18"/>
                      </a:lnTo>
                      <a:lnTo>
                        <a:pt x="836" y="21"/>
                      </a:lnTo>
                      <a:lnTo>
                        <a:pt x="836" y="22"/>
                      </a:lnTo>
                      <a:lnTo>
                        <a:pt x="837" y="23"/>
                      </a:lnTo>
                      <a:lnTo>
                        <a:pt x="837" y="25"/>
                      </a:lnTo>
                      <a:lnTo>
                        <a:pt x="837" y="26"/>
                      </a:lnTo>
                      <a:lnTo>
                        <a:pt x="838" y="29"/>
                      </a:lnTo>
                      <a:lnTo>
                        <a:pt x="838" y="30"/>
                      </a:lnTo>
                      <a:lnTo>
                        <a:pt x="838" y="32"/>
                      </a:lnTo>
                      <a:lnTo>
                        <a:pt x="838" y="34"/>
                      </a:lnTo>
                      <a:lnTo>
                        <a:pt x="838" y="37"/>
                      </a:lnTo>
                      <a:lnTo>
                        <a:pt x="839" y="37"/>
                      </a:lnTo>
                      <a:lnTo>
                        <a:pt x="841" y="37"/>
                      </a:lnTo>
                      <a:lnTo>
                        <a:pt x="842" y="38"/>
                      </a:lnTo>
                      <a:lnTo>
                        <a:pt x="844" y="38"/>
                      </a:lnTo>
                      <a:lnTo>
                        <a:pt x="845" y="38"/>
                      </a:lnTo>
                      <a:lnTo>
                        <a:pt x="846" y="39"/>
                      </a:lnTo>
                      <a:lnTo>
                        <a:pt x="847" y="39"/>
                      </a:lnTo>
                      <a:lnTo>
                        <a:pt x="848" y="40"/>
                      </a:lnTo>
                      <a:lnTo>
                        <a:pt x="849" y="40"/>
                      </a:lnTo>
                      <a:lnTo>
                        <a:pt x="851" y="41"/>
                      </a:lnTo>
                      <a:lnTo>
                        <a:pt x="852" y="43"/>
                      </a:lnTo>
                      <a:lnTo>
                        <a:pt x="853" y="43"/>
                      </a:lnTo>
                      <a:lnTo>
                        <a:pt x="853" y="44"/>
                      </a:lnTo>
                      <a:lnTo>
                        <a:pt x="854" y="45"/>
                      </a:lnTo>
                      <a:lnTo>
                        <a:pt x="855" y="46"/>
                      </a:lnTo>
                      <a:lnTo>
                        <a:pt x="856" y="47"/>
                      </a:lnTo>
                      <a:lnTo>
                        <a:pt x="857" y="48"/>
                      </a:lnTo>
                      <a:lnTo>
                        <a:pt x="859" y="49"/>
                      </a:lnTo>
                      <a:lnTo>
                        <a:pt x="859" y="51"/>
                      </a:lnTo>
                      <a:lnTo>
                        <a:pt x="860" y="52"/>
                      </a:lnTo>
                      <a:lnTo>
                        <a:pt x="861" y="52"/>
                      </a:lnTo>
                      <a:lnTo>
                        <a:pt x="861" y="53"/>
                      </a:lnTo>
                      <a:lnTo>
                        <a:pt x="861" y="54"/>
                      </a:lnTo>
                      <a:lnTo>
                        <a:pt x="862" y="54"/>
                      </a:lnTo>
                      <a:lnTo>
                        <a:pt x="862" y="55"/>
                      </a:lnTo>
                      <a:lnTo>
                        <a:pt x="863" y="55"/>
                      </a:lnTo>
                      <a:lnTo>
                        <a:pt x="863" y="56"/>
                      </a:lnTo>
                      <a:lnTo>
                        <a:pt x="863" y="58"/>
                      </a:lnTo>
                      <a:lnTo>
                        <a:pt x="863" y="59"/>
                      </a:lnTo>
                      <a:lnTo>
                        <a:pt x="863" y="60"/>
                      </a:lnTo>
                      <a:lnTo>
                        <a:pt x="863" y="61"/>
                      </a:lnTo>
                      <a:lnTo>
                        <a:pt x="863" y="62"/>
                      </a:lnTo>
                      <a:lnTo>
                        <a:pt x="863" y="64"/>
                      </a:lnTo>
                      <a:lnTo>
                        <a:pt x="863" y="66"/>
                      </a:lnTo>
                      <a:lnTo>
                        <a:pt x="863" y="67"/>
                      </a:lnTo>
                      <a:lnTo>
                        <a:pt x="863" y="68"/>
                      </a:lnTo>
                      <a:lnTo>
                        <a:pt x="863" y="70"/>
                      </a:lnTo>
                      <a:lnTo>
                        <a:pt x="863" y="71"/>
                      </a:lnTo>
                      <a:lnTo>
                        <a:pt x="863" y="74"/>
                      </a:lnTo>
                      <a:lnTo>
                        <a:pt x="863" y="75"/>
                      </a:lnTo>
                      <a:lnTo>
                        <a:pt x="863" y="76"/>
                      </a:lnTo>
                      <a:lnTo>
                        <a:pt x="863" y="78"/>
                      </a:lnTo>
                      <a:lnTo>
                        <a:pt x="863" y="79"/>
                      </a:lnTo>
                      <a:lnTo>
                        <a:pt x="863" y="82"/>
                      </a:lnTo>
                      <a:lnTo>
                        <a:pt x="862" y="83"/>
                      </a:lnTo>
                      <a:lnTo>
                        <a:pt x="862" y="84"/>
                      </a:lnTo>
                      <a:lnTo>
                        <a:pt x="862" y="86"/>
                      </a:lnTo>
                      <a:lnTo>
                        <a:pt x="862" y="88"/>
                      </a:lnTo>
                      <a:lnTo>
                        <a:pt x="861" y="90"/>
                      </a:lnTo>
                      <a:lnTo>
                        <a:pt x="861" y="91"/>
                      </a:lnTo>
                      <a:lnTo>
                        <a:pt x="860" y="92"/>
                      </a:lnTo>
                      <a:lnTo>
                        <a:pt x="860" y="93"/>
                      </a:lnTo>
                      <a:lnTo>
                        <a:pt x="859" y="95"/>
                      </a:lnTo>
                      <a:lnTo>
                        <a:pt x="859" y="96"/>
                      </a:lnTo>
                      <a:lnTo>
                        <a:pt x="857" y="97"/>
                      </a:lnTo>
                      <a:lnTo>
                        <a:pt x="856" y="98"/>
                      </a:lnTo>
                      <a:lnTo>
                        <a:pt x="855" y="99"/>
                      </a:lnTo>
                      <a:lnTo>
                        <a:pt x="854" y="100"/>
                      </a:lnTo>
                      <a:lnTo>
                        <a:pt x="854" y="101"/>
                      </a:lnTo>
                      <a:lnTo>
                        <a:pt x="852" y="101"/>
                      </a:lnTo>
                      <a:lnTo>
                        <a:pt x="849" y="100"/>
                      </a:lnTo>
                      <a:lnTo>
                        <a:pt x="848" y="100"/>
                      </a:lnTo>
                      <a:lnTo>
                        <a:pt x="846" y="100"/>
                      </a:lnTo>
                      <a:lnTo>
                        <a:pt x="845" y="100"/>
                      </a:lnTo>
                      <a:lnTo>
                        <a:pt x="842" y="100"/>
                      </a:lnTo>
                      <a:lnTo>
                        <a:pt x="841" y="100"/>
                      </a:lnTo>
                      <a:lnTo>
                        <a:pt x="839" y="100"/>
                      </a:lnTo>
                      <a:lnTo>
                        <a:pt x="838" y="100"/>
                      </a:lnTo>
                      <a:lnTo>
                        <a:pt x="836" y="101"/>
                      </a:lnTo>
                      <a:lnTo>
                        <a:pt x="834" y="101"/>
                      </a:lnTo>
                      <a:lnTo>
                        <a:pt x="832" y="101"/>
                      </a:lnTo>
                      <a:lnTo>
                        <a:pt x="831" y="101"/>
                      </a:lnTo>
                      <a:lnTo>
                        <a:pt x="829" y="101"/>
                      </a:lnTo>
                      <a:lnTo>
                        <a:pt x="827" y="101"/>
                      </a:lnTo>
                      <a:lnTo>
                        <a:pt x="825" y="101"/>
                      </a:lnTo>
                      <a:lnTo>
                        <a:pt x="824" y="101"/>
                      </a:lnTo>
                      <a:lnTo>
                        <a:pt x="823" y="101"/>
                      </a:lnTo>
                      <a:lnTo>
                        <a:pt x="820" y="101"/>
                      </a:lnTo>
                      <a:lnTo>
                        <a:pt x="819" y="103"/>
                      </a:lnTo>
                      <a:lnTo>
                        <a:pt x="818" y="103"/>
                      </a:lnTo>
                      <a:lnTo>
                        <a:pt x="816" y="103"/>
                      </a:lnTo>
                      <a:lnTo>
                        <a:pt x="815" y="103"/>
                      </a:lnTo>
                      <a:lnTo>
                        <a:pt x="814" y="103"/>
                      </a:lnTo>
                      <a:lnTo>
                        <a:pt x="812" y="103"/>
                      </a:lnTo>
                      <a:lnTo>
                        <a:pt x="810" y="103"/>
                      </a:lnTo>
                      <a:lnTo>
                        <a:pt x="809" y="103"/>
                      </a:lnTo>
                      <a:lnTo>
                        <a:pt x="808" y="103"/>
                      </a:lnTo>
                      <a:lnTo>
                        <a:pt x="807" y="103"/>
                      </a:lnTo>
                      <a:lnTo>
                        <a:pt x="805" y="103"/>
                      </a:lnTo>
                      <a:lnTo>
                        <a:pt x="804" y="103"/>
                      </a:lnTo>
                      <a:lnTo>
                        <a:pt x="803" y="103"/>
                      </a:lnTo>
                      <a:lnTo>
                        <a:pt x="801" y="103"/>
                      </a:lnTo>
                      <a:lnTo>
                        <a:pt x="799" y="104"/>
                      </a:lnTo>
                      <a:lnTo>
                        <a:pt x="797" y="104"/>
                      </a:lnTo>
                      <a:lnTo>
                        <a:pt x="795" y="105"/>
                      </a:lnTo>
                      <a:lnTo>
                        <a:pt x="794" y="105"/>
                      </a:lnTo>
                      <a:lnTo>
                        <a:pt x="792" y="105"/>
                      </a:lnTo>
                      <a:lnTo>
                        <a:pt x="790" y="105"/>
                      </a:lnTo>
                      <a:lnTo>
                        <a:pt x="789" y="105"/>
                      </a:lnTo>
                      <a:lnTo>
                        <a:pt x="788" y="104"/>
                      </a:lnTo>
                      <a:lnTo>
                        <a:pt x="787" y="104"/>
                      </a:lnTo>
                      <a:lnTo>
                        <a:pt x="786" y="104"/>
                      </a:lnTo>
                      <a:lnTo>
                        <a:pt x="786" y="103"/>
                      </a:lnTo>
                      <a:lnTo>
                        <a:pt x="785" y="103"/>
                      </a:lnTo>
                      <a:lnTo>
                        <a:pt x="784" y="101"/>
                      </a:lnTo>
                      <a:lnTo>
                        <a:pt x="782" y="100"/>
                      </a:lnTo>
                      <a:lnTo>
                        <a:pt x="781" y="99"/>
                      </a:lnTo>
                      <a:lnTo>
                        <a:pt x="781" y="98"/>
                      </a:lnTo>
                      <a:lnTo>
                        <a:pt x="780" y="98"/>
                      </a:lnTo>
                      <a:lnTo>
                        <a:pt x="780" y="97"/>
                      </a:lnTo>
                      <a:lnTo>
                        <a:pt x="779" y="96"/>
                      </a:lnTo>
                      <a:lnTo>
                        <a:pt x="778" y="95"/>
                      </a:lnTo>
                      <a:lnTo>
                        <a:pt x="777" y="93"/>
                      </a:lnTo>
                      <a:lnTo>
                        <a:pt x="775" y="93"/>
                      </a:lnTo>
                      <a:lnTo>
                        <a:pt x="774" y="92"/>
                      </a:lnTo>
                      <a:lnTo>
                        <a:pt x="773" y="92"/>
                      </a:lnTo>
                      <a:lnTo>
                        <a:pt x="771" y="92"/>
                      </a:lnTo>
                      <a:lnTo>
                        <a:pt x="770" y="93"/>
                      </a:lnTo>
                      <a:lnTo>
                        <a:pt x="768" y="93"/>
                      </a:lnTo>
                      <a:lnTo>
                        <a:pt x="767" y="93"/>
                      </a:lnTo>
                      <a:lnTo>
                        <a:pt x="766" y="93"/>
                      </a:lnTo>
                      <a:lnTo>
                        <a:pt x="765" y="93"/>
                      </a:lnTo>
                      <a:lnTo>
                        <a:pt x="764" y="92"/>
                      </a:lnTo>
                      <a:lnTo>
                        <a:pt x="763" y="92"/>
                      </a:lnTo>
                      <a:lnTo>
                        <a:pt x="762" y="91"/>
                      </a:lnTo>
                      <a:lnTo>
                        <a:pt x="760" y="91"/>
                      </a:lnTo>
                      <a:lnTo>
                        <a:pt x="759" y="90"/>
                      </a:lnTo>
                      <a:lnTo>
                        <a:pt x="759" y="89"/>
                      </a:lnTo>
                      <a:lnTo>
                        <a:pt x="758" y="89"/>
                      </a:lnTo>
                      <a:lnTo>
                        <a:pt x="758" y="88"/>
                      </a:lnTo>
                      <a:lnTo>
                        <a:pt x="757" y="86"/>
                      </a:lnTo>
                      <a:lnTo>
                        <a:pt x="756" y="85"/>
                      </a:lnTo>
                      <a:lnTo>
                        <a:pt x="756" y="84"/>
                      </a:lnTo>
                      <a:lnTo>
                        <a:pt x="755" y="84"/>
                      </a:lnTo>
                      <a:lnTo>
                        <a:pt x="755" y="83"/>
                      </a:lnTo>
                      <a:lnTo>
                        <a:pt x="753" y="82"/>
                      </a:lnTo>
                      <a:lnTo>
                        <a:pt x="752" y="81"/>
                      </a:lnTo>
                      <a:lnTo>
                        <a:pt x="752" y="79"/>
                      </a:lnTo>
                      <a:lnTo>
                        <a:pt x="751" y="79"/>
                      </a:lnTo>
                      <a:lnTo>
                        <a:pt x="751" y="78"/>
                      </a:lnTo>
                      <a:lnTo>
                        <a:pt x="750" y="78"/>
                      </a:lnTo>
                      <a:lnTo>
                        <a:pt x="749" y="78"/>
                      </a:lnTo>
                      <a:lnTo>
                        <a:pt x="748" y="78"/>
                      </a:lnTo>
                      <a:lnTo>
                        <a:pt x="747" y="78"/>
                      </a:lnTo>
                      <a:lnTo>
                        <a:pt x="745" y="77"/>
                      </a:lnTo>
                      <a:lnTo>
                        <a:pt x="744" y="77"/>
                      </a:lnTo>
                      <a:lnTo>
                        <a:pt x="743" y="77"/>
                      </a:lnTo>
                      <a:lnTo>
                        <a:pt x="742" y="77"/>
                      </a:lnTo>
                      <a:lnTo>
                        <a:pt x="741" y="77"/>
                      </a:lnTo>
                      <a:lnTo>
                        <a:pt x="740" y="76"/>
                      </a:lnTo>
                      <a:lnTo>
                        <a:pt x="738" y="76"/>
                      </a:lnTo>
                      <a:lnTo>
                        <a:pt x="737" y="75"/>
                      </a:lnTo>
                      <a:lnTo>
                        <a:pt x="736" y="75"/>
                      </a:lnTo>
                      <a:lnTo>
                        <a:pt x="735" y="74"/>
                      </a:lnTo>
                      <a:lnTo>
                        <a:pt x="734" y="74"/>
                      </a:lnTo>
                      <a:lnTo>
                        <a:pt x="733" y="73"/>
                      </a:lnTo>
                      <a:lnTo>
                        <a:pt x="732" y="71"/>
                      </a:lnTo>
                      <a:lnTo>
                        <a:pt x="730" y="71"/>
                      </a:lnTo>
                      <a:lnTo>
                        <a:pt x="729" y="70"/>
                      </a:lnTo>
                      <a:lnTo>
                        <a:pt x="729" y="69"/>
                      </a:lnTo>
                      <a:lnTo>
                        <a:pt x="728" y="68"/>
                      </a:lnTo>
                      <a:lnTo>
                        <a:pt x="727" y="68"/>
                      </a:lnTo>
                      <a:lnTo>
                        <a:pt x="727" y="67"/>
                      </a:lnTo>
                      <a:lnTo>
                        <a:pt x="726" y="66"/>
                      </a:lnTo>
                      <a:lnTo>
                        <a:pt x="725" y="64"/>
                      </a:lnTo>
                      <a:lnTo>
                        <a:pt x="725" y="63"/>
                      </a:lnTo>
                      <a:lnTo>
                        <a:pt x="723" y="62"/>
                      </a:lnTo>
                      <a:lnTo>
                        <a:pt x="723" y="61"/>
                      </a:lnTo>
                      <a:lnTo>
                        <a:pt x="722" y="60"/>
                      </a:lnTo>
                      <a:lnTo>
                        <a:pt x="722" y="59"/>
                      </a:lnTo>
                      <a:lnTo>
                        <a:pt x="722" y="58"/>
                      </a:lnTo>
                      <a:lnTo>
                        <a:pt x="722" y="56"/>
                      </a:lnTo>
                      <a:lnTo>
                        <a:pt x="721" y="56"/>
                      </a:lnTo>
                      <a:lnTo>
                        <a:pt x="720" y="56"/>
                      </a:lnTo>
                      <a:lnTo>
                        <a:pt x="719" y="56"/>
                      </a:lnTo>
                      <a:lnTo>
                        <a:pt x="718" y="56"/>
                      </a:lnTo>
                      <a:lnTo>
                        <a:pt x="716" y="56"/>
                      </a:lnTo>
                      <a:lnTo>
                        <a:pt x="714" y="56"/>
                      </a:lnTo>
                      <a:lnTo>
                        <a:pt x="713" y="55"/>
                      </a:lnTo>
                      <a:lnTo>
                        <a:pt x="712" y="55"/>
                      </a:lnTo>
                      <a:lnTo>
                        <a:pt x="711" y="55"/>
                      </a:lnTo>
                      <a:lnTo>
                        <a:pt x="710" y="55"/>
                      </a:lnTo>
                      <a:lnTo>
                        <a:pt x="708" y="55"/>
                      </a:lnTo>
                      <a:lnTo>
                        <a:pt x="707" y="54"/>
                      </a:lnTo>
                      <a:lnTo>
                        <a:pt x="706" y="54"/>
                      </a:lnTo>
                      <a:lnTo>
                        <a:pt x="705" y="53"/>
                      </a:lnTo>
                      <a:lnTo>
                        <a:pt x="704" y="52"/>
                      </a:lnTo>
                      <a:lnTo>
                        <a:pt x="703" y="51"/>
                      </a:lnTo>
                      <a:lnTo>
                        <a:pt x="703" y="49"/>
                      </a:lnTo>
                      <a:lnTo>
                        <a:pt x="701" y="48"/>
                      </a:lnTo>
                      <a:lnTo>
                        <a:pt x="701" y="47"/>
                      </a:lnTo>
                      <a:lnTo>
                        <a:pt x="701" y="46"/>
                      </a:lnTo>
                      <a:lnTo>
                        <a:pt x="701" y="45"/>
                      </a:lnTo>
                      <a:lnTo>
                        <a:pt x="701" y="44"/>
                      </a:lnTo>
                      <a:lnTo>
                        <a:pt x="701" y="43"/>
                      </a:lnTo>
                      <a:lnTo>
                        <a:pt x="701" y="41"/>
                      </a:lnTo>
                      <a:lnTo>
                        <a:pt x="701" y="39"/>
                      </a:lnTo>
                      <a:lnTo>
                        <a:pt x="701" y="38"/>
                      </a:lnTo>
                      <a:lnTo>
                        <a:pt x="701" y="37"/>
                      </a:lnTo>
                      <a:lnTo>
                        <a:pt x="701" y="36"/>
                      </a:lnTo>
                      <a:lnTo>
                        <a:pt x="701" y="34"/>
                      </a:lnTo>
                      <a:lnTo>
                        <a:pt x="703" y="34"/>
                      </a:lnTo>
                      <a:lnTo>
                        <a:pt x="703" y="33"/>
                      </a:lnTo>
                      <a:lnTo>
                        <a:pt x="704" y="33"/>
                      </a:lnTo>
                      <a:lnTo>
                        <a:pt x="704" y="32"/>
                      </a:lnTo>
                      <a:lnTo>
                        <a:pt x="705" y="32"/>
                      </a:lnTo>
                      <a:lnTo>
                        <a:pt x="705" y="31"/>
                      </a:lnTo>
                      <a:lnTo>
                        <a:pt x="706" y="31"/>
                      </a:lnTo>
                      <a:lnTo>
                        <a:pt x="707" y="30"/>
                      </a:lnTo>
                      <a:lnTo>
                        <a:pt x="708" y="30"/>
                      </a:lnTo>
                      <a:lnTo>
                        <a:pt x="708" y="29"/>
                      </a:lnTo>
                      <a:lnTo>
                        <a:pt x="710" y="29"/>
                      </a:lnTo>
                      <a:lnTo>
                        <a:pt x="711" y="29"/>
                      </a:lnTo>
                      <a:lnTo>
                        <a:pt x="711" y="28"/>
                      </a:lnTo>
                      <a:lnTo>
                        <a:pt x="712" y="28"/>
                      </a:lnTo>
                      <a:lnTo>
                        <a:pt x="713" y="26"/>
                      </a:lnTo>
                      <a:lnTo>
                        <a:pt x="714" y="26"/>
                      </a:lnTo>
                      <a:lnTo>
                        <a:pt x="714" y="25"/>
                      </a:lnTo>
                      <a:lnTo>
                        <a:pt x="715" y="25"/>
                      </a:lnTo>
                      <a:lnTo>
                        <a:pt x="716" y="25"/>
                      </a:lnTo>
                      <a:lnTo>
                        <a:pt x="718" y="24"/>
                      </a:lnTo>
                      <a:lnTo>
                        <a:pt x="719" y="23"/>
                      </a:lnTo>
                      <a:lnTo>
                        <a:pt x="720" y="23"/>
                      </a:lnTo>
                      <a:lnTo>
                        <a:pt x="721" y="22"/>
                      </a:lnTo>
                      <a:lnTo>
                        <a:pt x="722" y="21"/>
                      </a:lnTo>
                      <a:lnTo>
                        <a:pt x="723" y="21"/>
                      </a:lnTo>
                      <a:lnTo>
                        <a:pt x="725" y="19"/>
                      </a:lnTo>
                      <a:lnTo>
                        <a:pt x="727" y="18"/>
                      </a:lnTo>
                      <a:lnTo>
                        <a:pt x="728" y="18"/>
                      </a:lnTo>
                      <a:lnTo>
                        <a:pt x="729" y="17"/>
                      </a:lnTo>
                      <a:lnTo>
                        <a:pt x="730" y="16"/>
                      </a:lnTo>
                      <a:lnTo>
                        <a:pt x="732" y="16"/>
                      </a:lnTo>
                      <a:lnTo>
                        <a:pt x="733" y="15"/>
                      </a:lnTo>
                      <a:lnTo>
                        <a:pt x="734" y="15"/>
                      </a:lnTo>
                      <a:lnTo>
                        <a:pt x="735" y="14"/>
                      </a:lnTo>
                      <a:lnTo>
                        <a:pt x="736" y="14"/>
                      </a:lnTo>
                      <a:lnTo>
                        <a:pt x="737" y="12"/>
                      </a:lnTo>
                      <a:lnTo>
                        <a:pt x="738" y="12"/>
                      </a:lnTo>
                      <a:lnTo>
                        <a:pt x="740" y="11"/>
                      </a:lnTo>
                      <a:lnTo>
                        <a:pt x="741" y="11"/>
                      </a:lnTo>
                      <a:lnTo>
                        <a:pt x="742" y="11"/>
                      </a:lnTo>
                      <a:lnTo>
                        <a:pt x="743" y="11"/>
                      </a:lnTo>
                      <a:lnTo>
                        <a:pt x="744" y="11"/>
                      </a:lnTo>
                      <a:lnTo>
                        <a:pt x="745" y="11"/>
                      </a:lnTo>
                      <a:lnTo>
                        <a:pt x="747" y="11"/>
                      </a:lnTo>
                      <a:lnTo>
                        <a:pt x="748" y="12"/>
                      </a:lnTo>
                      <a:lnTo>
                        <a:pt x="749" y="12"/>
                      </a:lnTo>
                      <a:lnTo>
                        <a:pt x="750" y="14"/>
                      </a:lnTo>
                      <a:lnTo>
                        <a:pt x="751" y="14"/>
                      </a:lnTo>
                      <a:lnTo>
                        <a:pt x="751" y="15"/>
                      </a:lnTo>
                      <a:lnTo>
                        <a:pt x="752" y="16"/>
                      </a:lnTo>
                      <a:lnTo>
                        <a:pt x="753" y="17"/>
                      </a:lnTo>
                      <a:lnTo>
                        <a:pt x="755" y="18"/>
                      </a:lnTo>
                      <a:lnTo>
                        <a:pt x="756" y="19"/>
                      </a:lnTo>
                      <a:close/>
                      <a:moveTo>
                        <a:pt x="413" y="143"/>
                      </a:moveTo>
                      <a:lnTo>
                        <a:pt x="414" y="143"/>
                      </a:lnTo>
                      <a:lnTo>
                        <a:pt x="415" y="143"/>
                      </a:lnTo>
                      <a:lnTo>
                        <a:pt x="416" y="144"/>
                      </a:lnTo>
                      <a:lnTo>
                        <a:pt x="417" y="144"/>
                      </a:lnTo>
                      <a:lnTo>
                        <a:pt x="418" y="145"/>
                      </a:lnTo>
                      <a:lnTo>
                        <a:pt x="420" y="145"/>
                      </a:lnTo>
                      <a:lnTo>
                        <a:pt x="421" y="146"/>
                      </a:lnTo>
                      <a:lnTo>
                        <a:pt x="422" y="148"/>
                      </a:lnTo>
                      <a:lnTo>
                        <a:pt x="423" y="149"/>
                      </a:lnTo>
                      <a:lnTo>
                        <a:pt x="424" y="149"/>
                      </a:lnTo>
                      <a:lnTo>
                        <a:pt x="424" y="150"/>
                      </a:lnTo>
                      <a:lnTo>
                        <a:pt x="425" y="150"/>
                      </a:lnTo>
                      <a:lnTo>
                        <a:pt x="426" y="151"/>
                      </a:lnTo>
                      <a:lnTo>
                        <a:pt x="426" y="152"/>
                      </a:lnTo>
                      <a:lnTo>
                        <a:pt x="428" y="152"/>
                      </a:lnTo>
                      <a:lnTo>
                        <a:pt x="428" y="153"/>
                      </a:lnTo>
                      <a:lnTo>
                        <a:pt x="429" y="153"/>
                      </a:lnTo>
                      <a:lnTo>
                        <a:pt x="430" y="155"/>
                      </a:lnTo>
                      <a:lnTo>
                        <a:pt x="430" y="156"/>
                      </a:lnTo>
                      <a:lnTo>
                        <a:pt x="431" y="156"/>
                      </a:lnTo>
                      <a:lnTo>
                        <a:pt x="431" y="157"/>
                      </a:lnTo>
                      <a:lnTo>
                        <a:pt x="432" y="158"/>
                      </a:lnTo>
                      <a:lnTo>
                        <a:pt x="432" y="159"/>
                      </a:lnTo>
                      <a:lnTo>
                        <a:pt x="432" y="160"/>
                      </a:lnTo>
                      <a:lnTo>
                        <a:pt x="432" y="162"/>
                      </a:lnTo>
                      <a:lnTo>
                        <a:pt x="432" y="164"/>
                      </a:lnTo>
                      <a:lnTo>
                        <a:pt x="432" y="165"/>
                      </a:lnTo>
                      <a:lnTo>
                        <a:pt x="432" y="166"/>
                      </a:lnTo>
                      <a:lnTo>
                        <a:pt x="433" y="167"/>
                      </a:lnTo>
                      <a:lnTo>
                        <a:pt x="433" y="168"/>
                      </a:lnTo>
                      <a:lnTo>
                        <a:pt x="433" y="171"/>
                      </a:lnTo>
                      <a:lnTo>
                        <a:pt x="433" y="172"/>
                      </a:lnTo>
                      <a:lnTo>
                        <a:pt x="433" y="173"/>
                      </a:lnTo>
                      <a:lnTo>
                        <a:pt x="433" y="174"/>
                      </a:lnTo>
                      <a:lnTo>
                        <a:pt x="435" y="177"/>
                      </a:lnTo>
                      <a:lnTo>
                        <a:pt x="435" y="178"/>
                      </a:lnTo>
                      <a:lnTo>
                        <a:pt x="435" y="179"/>
                      </a:lnTo>
                      <a:lnTo>
                        <a:pt x="435" y="181"/>
                      </a:lnTo>
                      <a:lnTo>
                        <a:pt x="435" y="182"/>
                      </a:lnTo>
                      <a:lnTo>
                        <a:pt x="435" y="183"/>
                      </a:lnTo>
                      <a:lnTo>
                        <a:pt x="435" y="186"/>
                      </a:lnTo>
                      <a:lnTo>
                        <a:pt x="436" y="187"/>
                      </a:lnTo>
                      <a:lnTo>
                        <a:pt x="436" y="188"/>
                      </a:lnTo>
                      <a:lnTo>
                        <a:pt x="436" y="189"/>
                      </a:lnTo>
                      <a:lnTo>
                        <a:pt x="436" y="192"/>
                      </a:lnTo>
                      <a:lnTo>
                        <a:pt x="436" y="193"/>
                      </a:lnTo>
                      <a:lnTo>
                        <a:pt x="436" y="194"/>
                      </a:lnTo>
                      <a:lnTo>
                        <a:pt x="436" y="196"/>
                      </a:lnTo>
                      <a:lnTo>
                        <a:pt x="436" y="197"/>
                      </a:lnTo>
                      <a:lnTo>
                        <a:pt x="436" y="198"/>
                      </a:lnTo>
                      <a:lnTo>
                        <a:pt x="436" y="201"/>
                      </a:lnTo>
                      <a:lnTo>
                        <a:pt x="436" y="202"/>
                      </a:lnTo>
                      <a:lnTo>
                        <a:pt x="436" y="203"/>
                      </a:lnTo>
                      <a:lnTo>
                        <a:pt x="438" y="203"/>
                      </a:lnTo>
                      <a:lnTo>
                        <a:pt x="441" y="203"/>
                      </a:lnTo>
                      <a:lnTo>
                        <a:pt x="444" y="203"/>
                      </a:lnTo>
                      <a:lnTo>
                        <a:pt x="446" y="203"/>
                      </a:lnTo>
                      <a:lnTo>
                        <a:pt x="448" y="203"/>
                      </a:lnTo>
                      <a:lnTo>
                        <a:pt x="451" y="202"/>
                      </a:lnTo>
                      <a:lnTo>
                        <a:pt x="453" y="202"/>
                      </a:lnTo>
                      <a:lnTo>
                        <a:pt x="455" y="202"/>
                      </a:lnTo>
                      <a:lnTo>
                        <a:pt x="458" y="201"/>
                      </a:lnTo>
                      <a:lnTo>
                        <a:pt x="460" y="201"/>
                      </a:lnTo>
                      <a:lnTo>
                        <a:pt x="462" y="201"/>
                      </a:lnTo>
                      <a:lnTo>
                        <a:pt x="465" y="200"/>
                      </a:lnTo>
                      <a:lnTo>
                        <a:pt x="467" y="200"/>
                      </a:lnTo>
                      <a:lnTo>
                        <a:pt x="468" y="198"/>
                      </a:lnTo>
                      <a:lnTo>
                        <a:pt x="470" y="197"/>
                      </a:lnTo>
                      <a:lnTo>
                        <a:pt x="473" y="197"/>
                      </a:lnTo>
                      <a:lnTo>
                        <a:pt x="475" y="196"/>
                      </a:lnTo>
                      <a:lnTo>
                        <a:pt x="477" y="195"/>
                      </a:lnTo>
                      <a:lnTo>
                        <a:pt x="478" y="195"/>
                      </a:lnTo>
                      <a:lnTo>
                        <a:pt x="481" y="194"/>
                      </a:lnTo>
                      <a:lnTo>
                        <a:pt x="482" y="193"/>
                      </a:lnTo>
                      <a:lnTo>
                        <a:pt x="484" y="192"/>
                      </a:lnTo>
                      <a:lnTo>
                        <a:pt x="485" y="192"/>
                      </a:lnTo>
                      <a:lnTo>
                        <a:pt x="488" y="190"/>
                      </a:lnTo>
                      <a:lnTo>
                        <a:pt x="489" y="189"/>
                      </a:lnTo>
                      <a:lnTo>
                        <a:pt x="491" y="188"/>
                      </a:lnTo>
                      <a:lnTo>
                        <a:pt x="492" y="187"/>
                      </a:lnTo>
                      <a:lnTo>
                        <a:pt x="493" y="186"/>
                      </a:lnTo>
                      <a:lnTo>
                        <a:pt x="495" y="185"/>
                      </a:lnTo>
                      <a:lnTo>
                        <a:pt x="496" y="183"/>
                      </a:lnTo>
                      <a:lnTo>
                        <a:pt x="497" y="182"/>
                      </a:lnTo>
                      <a:lnTo>
                        <a:pt x="498" y="181"/>
                      </a:lnTo>
                      <a:lnTo>
                        <a:pt x="510" y="168"/>
                      </a:lnTo>
                      <a:lnTo>
                        <a:pt x="509" y="168"/>
                      </a:lnTo>
                      <a:lnTo>
                        <a:pt x="509" y="170"/>
                      </a:lnTo>
                      <a:lnTo>
                        <a:pt x="509" y="171"/>
                      </a:lnTo>
                      <a:lnTo>
                        <a:pt x="507" y="172"/>
                      </a:lnTo>
                      <a:lnTo>
                        <a:pt x="507" y="173"/>
                      </a:lnTo>
                      <a:lnTo>
                        <a:pt x="507" y="174"/>
                      </a:lnTo>
                      <a:lnTo>
                        <a:pt x="506" y="175"/>
                      </a:lnTo>
                      <a:lnTo>
                        <a:pt x="506" y="177"/>
                      </a:lnTo>
                      <a:lnTo>
                        <a:pt x="506" y="178"/>
                      </a:lnTo>
                      <a:lnTo>
                        <a:pt x="505" y="178"/>
                      </a:lnTo>
                      <a:lnTo>
                        <a:pt x="505" y="179"/>
                      </a:lnTo>
                      <a:lnTo>
                        <a:pt x="505" y="180"/>
                      </a:lnTo>
                      <a:lnTo>
                        <a:pt x="505" y="181"/>
                      </a:lnTo>
                      <a:lnTo>
                        <a:pt x="504" y="182"/>
                      </a:lnTo>
                      <a:lnTo>
                        <a:pt x="504" y="183"/>
                      </a:lnTo>
                      <a:lnTo>
                        <a:pt x="504" y="185"/>
                      </a:lnTo>
                      <a:lnTo>
                        <a:pt x="503" y="185"/>
                      </a:lnTo>
                      <a:lnTo>
                        <a:pt x="503" y="186"/>
                      </a:lnTo>
                      <a:lnTo>
                        <a:pt x="503" y="187"/>
                      </a:lnTo>
                      <a:lnTo>
                        <a:pt x="503" y="188"/>
                      </a:lnTo>
                      <a:lnTo>
                        <a:pt x="502" y="189"/>
                      </a:lnTo>
                      <a:lnTo>
                        <a:pt x="502" y="190"/>
                      </a:lnTo>
                      <a:lnTo>
                        <a:pt x="502" y="192"/>
                      </a:lnTo>
                      <a:lnTo>
                        <a:pt x="500" y="193"/>
                      </a:lnTo>
                      <a:lnTo>
                        <a:pt x="500" y="194"/>
                      </a:lnTo>
                      <a:lnTo>
                        <a:pt x="499" y="195"/>
                      </a:lnTo>
                      <a:lnTo>
                        <a:pt x="499" y="196"/>
                      </a:lnTo>
                      <a:lnTo>
                        <a:pt x="499" y="197"/>
                      </a:lnTo>
                      <a:lnTo>
                        <a:pt x="499" y="198"/>
                      </a:lnTo>
                      <a:lnTo>
                        <a:pt x="499" y="200"/>
                      </a:lnTo>
                      <a:lnTo>
                        <a:pt x="499" y="201"/>
                      </a:lnTo>
                      <a:lnTo>
                        <a:pt x="499" y="202"/>
                      </a:lnTo>
                      <a:lnTo>
                        <a:pt x="499" y="203"/>
                      </a:lnTo>
                      <a:lnTo>
                        <a:pt x="499" y="204"/>
                      </a:lnTo>
                      <a:lnTo>
                        <a:pt x="499" y="205"/>
                      </a:lnTo>
                      <a:lnTo>
                        <a:pt x="499" y="207"/>
                      </a:lnTo>
                      <a:lnTo>
                        <a:pt x="500" y="208"/>
                      </a:lnTo>
                      <a:lnTo>
                        <a:pt x="500" y="209"/>
                      </a:lnTo>
                      <a:lnTo>
                        <a:pt x="500" y="210"/>
                      </a:lnTo>
                      <a:lnTo>
                        <a:pt x="502" y="210"/>
                      </a:lnTo>
                      <a:lnTo>
                        <a:pt x="502" y="211"/>
                      </a:lnTo>
                      <a:lnTo>
                        <a:pt x="503" y="212"/>
                      </a:lnTo>
                      <a:lnTo>
                        <a:pt x="504" y="213"/>
                      </a:lnTo>
                      <a:lnTo>
                        <a:pt x="504" y="215"/>
                      </a:lnTo>
                      <a:lnTo>
                        <a:pt x="503" y="215"/>
                      </a:lnTo>
                      <a:lnTo>
                        <a:pt x="503" y="216"/>
                      </a:lnTo>
                      <a:lnTo>
                        <a:pt x="503" y="217"/>
                      </a:lnTo>
                      <a:lnTo>
                        <a:pt x="503" y="218"/>
                      </a:lnTo>
                      <a:lnTo>
                        <a:pt x="503" y="219"/>
                      </a:lnTo>
                      <a:lnTo>
                        <a:pt x="503" y="220"/>
                      </a:lnTo>
                      <a:lnTo>
                        <a:pt x="504" y="222"/>
                      </a:lnTo>
                      <a:lnTo>
                        <a:pt x="504" y="223"/>
                      </a:lnTo>
                      <a:lnTo>
                        <a:pt x="505" y="223"/>
                      </a:lnTo>
                      <a:lnTo>
                        <a:pt x="505" y="224"/>
                      </a:lnTo>
                      <a:lnTo>
                        <a:pt x="506" y="224"/>
                      </a:lnTo>
                      <a:lnTo>
                        <a:pt x="521" y="224"/>
                      </a:lnTo>
                      <a:lnTo>
                        <a:pt x="532" y="215"/>
                      </a:lnTo>
                      <a:lnTo>
                        <a:pt x="532" y="216"/>
                      </a:lnTo>
                      <a:lnTo>
                        <a:pt x="533" y="217"/>
                      </a:lnTo>
                      <a:lnTo>
                        <a:pt x="533" y="218"/>
                      </a:lnTo>
                      <a:lnTo>
                        <a:pt x="534" y="219"/>
                      </a:lnTo>
                      <a:lnTo>
                        <a:pt x="534" y="220"/>
                      </a:lnTo>
                      <a:lnTo>
                        <a:pt x="535" y="220"/>
                      </a:lnTo>
                      <a:lnTo>
                        <a:pt x="536" y="222"/>
                      </a:lnTo>
                      <a:lnTo>
                        <a:pt x="537" y="223"/>
                      </a:lnTo>
                      <a:lnTo>
                        <a:pt x="539" y="223"/>
                      </a:lnTo>
                      <a:lnTo>
                        <a:pt x="540" y="223"/>
                      </a:lnTo>
                      <a:lnTo>
                        <a:pt x="540" y="224"/>
                      </a:lnTo>
                      <a:lnTo>
                        <a:pt x="541" y="224"/>
                      </a:lnTo>
                      <a:lnTo>
                        <a:pt x="542" y="223"/>
                      </a:lnTo>
                      <a:lnTo>
                        <a:pt x="543" y="223"/>
                      </a:lnTo>
                      <a:lnTo>
                        <a:pt x="544" y="223"/>
                      </a:lnTo>
                      <a:lnTo>
                        <a:pt x="545" y="222"/>
                      </a:lnTo>
                      <a:lnTo>
                        <a:pt x="547" y="220"/>
                      </a:lnTo>
                      <a:lnTo>
                        <a:pt x="548" y="220"/>
                      </a:lnTo>
                      <a:lnTo>
                        <a:pt x="549" y="219"/>
                      </a:lnTo>
                      <a:lnTo>
                        <a:pt x="550" y="218"/>
                      </a:lnTo>
                      <a:lnTo>
                        <a:pt x="551" y="218"/>
                      </a:lnTo>
                      <a:lnTo>
                        <a:pt x="552" y="217"/>
                      </a:lnTo>
                      <a:lnTo>
                        <a:pt x="554" y="216"/>
                      </a:lnTo>
                      <a:lnTo>
                        <a:pt x="555" y="215"/>
                      </a:lnTo>
                      <a:lnTo>
                        <a:pt x="556" y="212"/>
                      </a:lnTo>
                      <a:lnTo>
                        <a:pt x="557" y="211"/>
                      </a:lnTo>
                      <a:lnTo>
                        <a:pt x="558" y="210"/>
                      </a:lnTo>
                      <a:lnTo>
                        <a:pt x="561" y="209"/>
                      </a:lnTo>
                      <a:lnTo>
                        <a:pt x="561" y="210"/>
                      </a:lnTo>
                      <a:lnTo>
                        <a:pt x="562" y="211"/>
                      </a:lnTo>
                      <a:lnTo>
                        <a:pt x="562" y="212"/>
                      </a:lnTo>
                      <a:lnTo>
                        <a:pt x="563" y="212"/>
                      </a:lnTo>
                      <a:lnTo>
                        <a:pt x="563" y="213"/>
                      </a:lnTo>
                      <a:lnTo>
                        <a:pt x="564" y="213"/>
                      </a:lnTo>
                      <a:lnTo>
                        <a:pt x="564" y="215"/>
                      </a:lnTo>
                      <a:lnTo>
                        <a:pt x="565" y="215"/>
                      </a:lnTo>
                      <a:lnTo>
                        <a:pt x="566" y="215"/>
                      </a:lnTo>
                      <a:lnTo>
                        <a:pt x="567" y="215"/>
                      </a:lnTo>
                      <a:lnTo>
                        <a:pt x="567" y="216"/>
                      </a:lnTo>
                      <a:lnTo>
                        <a:pt x="569" y="216"/>
                      </a:lnTo>
                      <a:lnTo>
                        <a:pt x="570" y="216"/>
                      </a:lnTo>
                      <a:lnTo>
                        <a:pt x="570" y="215"/>
                      </a:lnTo>
                      <a:lnTo>
                        <a:pt x="571" y="215"/>
                      </a:lnTo>
                      <a:lnTo>
                        <a:pt x="572" y="215"/>
                      </a:lnTo>
                      <a:lnTo>
                        <a:pt x="573" y="213"/>
                      </a:lnTo>
                      <a:lnTo>
                        <a:pt x="574" y="212"/>
                      </a:lnTo>
                      <a:lnTo>
                        <a:pt x="576" y="211"/>
                      </a:lnTo>
                      <a:lnTo>
                        <a:pt x="577" y="210"/>
                      </a:lnTo>
                      <a:lnTo>
                        <a:pt x="577" y="209"/>
                      </a:lnTo>
                      <a:lnTo>
                        <a:pt x="578" y="209"/>
                      </a:lnTo>
                      <a:lnTo>
                        <a:pt x="578" y="208"/>
                      </a:lnTo>
                      <a:lnTo>
                        <a:pt x="579" y="207"/>
                      </a:lnTo>
                      <a:lnTo>
                        <a:pt x="580" y="205"/>
                      </a:lnTo>
                      <a:lnTo>
                        <a:pt x="581" y="204"/>
                      </a:lnTo>
                      <a:lnTo>
                        <a:pt x="582" y="203"/>
                      </a:lnTo>
                      <a:lnTo>
                        <a:pt x="584" y="202"/>
                      </a:lnTo>
                      <a:lnTo>
                        <a:pt x="585" y="201"/>
                      </a:lnTo>
                      <a:lnTo>
                        <a:pt x="586" y="200"/>
                      </a:lnTo>
                      <a:lnTo>
                        <a:pt x="587" y="198"/>
                      </a:lnTo>
                      <a:lnTo>
                        <a:pt x="588" y="197"/>
                      </a:lnTo>
                      <a:lnTo>
                        <a:pt x="588" y="196"/>
                      </a:lnTo>
                      <a:lnTo>
                        <a:pt x="589" y="196"/>
                      </a:lnTo>
                      <a:lnTo>
                        <a:pt x="589" y="195"/>
                      </a:lnTo>
                      <a:lnTo>
                        <a:pt x="591" y="194"/>
                      </a:lnTo>
                      <a:lnTo>
                        <a:pt x="591" y="193"/>
                      </a:lnTo>
                      <a:lnTo>
                        <a:pt x="591" y="192"/>
                      </a:lnTo>
                      <a:lnTo>
                        <a:pt x="592" y="190"/>
                      </a:lnTo>
                      <a:lnTo>
                        <a:pt x="592" y="189"/>
                      </a:lnTo>
                      <a:lnTo>
                        <a:pt x="592" y="188"/>
                      </a:lnTo>
                      <a:lnTo>
                        <a:pt x="591" y="187"/>
                      </a:lnTo>
                      <a:lnTo>
                        <a:pt x="591" y="186"/>
                      </a:lnTo>
                      <a:lnTo>
                        <a:pt x="591" y="185"/>
                      </a:lnTo>
                      <a:lnTo>
                        <a:pt x="591" y="183"/>
                      </a:lnTo>
                      <a:lnTo>
                        <a:pt x="589" y="182"/>
                      </a:lnTo>
                      <a:lnTo>
                        <a:pt x="589" y="181"/>
                      </a:lnTo>
                      <a:lnTo>
                        <a:pt x="589" y="180"/>
                      </a:lnTo>
                      <a:lnTo>
                        <a:pt x="588" y="180"/>
                      </a:lnTo>
                      <a:lnTo>
                        <a:pt x="588" y="179"/>
                      </a:lnTo>
                      <a:lnTo>
                        <a:pt x="588" y="178"/>
                      </a:lnTo>
                      <a:lnTo>
                        <a:pt x="587" y="177"/>
                      </a:lnTo>
                      <a:lnTo>
                        <a:pt x="587" y="175"/>
                      </a:lnTo>
                      <a:lnTo>
                        <a:pt x="586" y="174"/>
                      </a:lnTo>
                      <a:lnTo>
                        <a:pt x="586" y="173"/>
                      </a:lnTo>
                      <a:lnTo>
                        <a:pt x="585" y="172"/>
                      </a:lnTo>
                      <a:lnTo>
                        <a:pt x="585" y="171"/>
                      </a:lnTo>
                      <a:lnTo>
                        <a:pt x="584" y="170"/>
                      </a:lnTo>
                      <a:lnTo>
                        <a:pt x="584" y="168"/>
                      </a:lnTo>
                      <a:lnTo>
                        <a:pt x="584" y="167"/>
                      </a:lnTo>
                      <a:lnTo>
                        <a:pt x="582" y="166"/>
                      </a:lnTo>
                      <a:lnTo>
                        <a:pt x="582" y="165"/>
                      </a:lnTo>
                      <a:lnTo>
                        <a:pt x="582" y="164"/>
                      </a:lnTo>
                      <a:lnTo>
                        <a:pt x="581" y="163"/>
                      </a:lnTo>
                      <a:lnTo>
                        <a:pt x="581" y="162"/>
                      </a:lnTo>
                      <a:lnTo>
                        <a:pt x="580" y="160"/>
                      </a:lnTo>
                      <a:lnTo>
                        <a:pt x="580" y="159"/>
                      </a:lnTo>
                      <a:lnTo>
                        <a:pt x="579" y="158"/>
                      </a:lnTo>
                      <a:lnTo>
                        <a:pt x="579" y="157"/>
                      </a:lnTo>
                      <a:lnTo>
                        <a:pt x="578" y="157"/>
                      </a:lnTo>
                      <a:lnTo>
                        <a:pt x="578" y="156"/>
                      </a:lnTo>
                      <a:lnTo>
                        <a:pt x="577" y="156"/>
                      </a:lnTo>
                      <a:lnTo>
                        <a:pt x="576" y="156"/>
                      </a:lnTo>
                      <a:lnTo>
                        <a:pt x="576" y="155"/>
                      </a:lnTo>
                      <a:lnTo>
                        <a:pt x="574" y="155"/>
                      </a:lnTo>
                      <a:lnTo>
                        <a:pt x="573" y="153"/>
                      </a:lnTo>
                      <a:lnTo>
                        <a:pt x="572" y="153"/>
                      </a:lnTo>
                      <a:lnTo>
                        <a:pt x="571" y="152"/>
                      </a:lnTo>
                      <a:lnTo>
                        <a:pt x="570" y="152"/>
                      </a:lnTo>
                      <a:lnTo>
                        <a:pt x="570" y="151"/>
                      </a:lnTo>
                      <a:lnTo>
                        <a:pt x="569" y="151"/>
                      </a:lnTo>
                      <a:lnTo>
                        <a:pt x="567" y="150"/>
                      </a:lnTo>
                      <a:lnTo>
                        <a:pt x="567" y="149"/>
                      </a:lnTo>
                      <a:lnTo>
                        <a:pt x="566" y="146"/>
                      </a:lnTo>
                      <a:lnTo>
                        <a:pt x="566" y="145"/>
                      </a:lnTo>
                      <a:lnTo>
                        <a:pt x="565" y="144"/>
                      </a:lnTo>
                      <a:lnTo>
                        <a:pt x="565" y="143"/>
                      </a:lnTo>
                      <a:lnTo>
                        <a:pt x="564" y="142"/>
                      </a:lnTo>
                      <a:lnTo>
                        <a:pt x="564" y="140"/>
                      </a:lnTo>
                      <a:lnTo>
                        <a:pt x="563" y="138"/>
                      </a:lnTo>
                      <a:lnTo>
                        <a:pt x="563" y="137"/>
                      </a:lnTo>
                      <a:lnTo>
                        <a:pt x="562" y="136"/>
                      </a:lnTo>
                      <a:lnTo>
                        <a:pt x="562" y="135"/>
                      </a:lnTo>
                      <a:lnTo>
                        <a:pt x="561" y="134"/>
                      </a:lnTo>
                      <a:lnTo>
                        <a:pt x="561" y="133"/>
                      </a:lnTo>
                      <a:lnTo>
                        <a:pt x="559" y="130"/>
                      </a:lnTo>
                      <a:lnTo>
                        <a:pt x="559" y="129"/>
                      </a:lnTo>
                      <a:lnTo>
                        <a:pt x="558" y="128"/>
                      </a:lnTo>
                      <a:lnTo>
                        <a:pt x="558" y="127"/>
                      </a:lnTo>
                      <a:lnTo>
                        <a:pt x="557" y="126"/>
                      </a:lnTo>
                      <a:lnTo>
                        <a:pt x="556" y="125"/>
                      </a:lnTo>
                      <a:lnTo>
                        <a:pt x="556" y="123"/>
                      </a:lnTo>
                      <a:lnTo>
                        <a:pt x="555" y="122"/>
                      </a:lnTo>
                      <a:lnTo>
                        <a:pt x="554" y="121"/>
                      </a:lnTo>
                      <a:lnTo>
                        <a:pt x="554" y="120"/>
                      </a:lnTo>
                      <a:lnTo>
                        <a:pt x="552" y="120"/>
                      </a:lnTo>
                      <a:lnTo>
                        <a:pt x="551" y="119"/>
                      </a:lnTo>
                      <a:lnTo>
                        <a:pt x="551" y="118"/>
                      </a:lnTo>
                      <a:lnTo>
                        <a:pt x="550" y="118"/>
                      </a:lnTo>
                      <a:lnTo>
                        <a:pt x="549" y="116"/>
                      </a:lnTo>
                      <a:lnTo>
                        <a:pt x="548" y="116"/>
                      </a:lnTo>
                      <a:lnTo>
                        <a:pt x="547" y="115"/>
                      </a:lnTo>
                      <a:lnTo>
                        <a:pt x="545" y="115"/>
                      </a:lnTo>
                      <a:lnTo>
                        <a:pt x="544" y="115"/>
                      </a:lnTo>
                      <a:lnTo>
                        <a:pt x="544" y="114"/>
                      </a:lnTo>
                      <a:lnTo>
                        <a:pt x="543" y="114"/>
                      </a:lnTo>
                      <a:lnTo>
                        <a:pt x="542" y="113"/>
                      </a:lnTo>
                      <a:lnTo>
                        <a:pt x="541" y="113"/>
                      </a:lnTo>
                      <a:lnTo>
                        <a:pt x="540" y="112"/>
                      </a:lnTo>
                      <a:lnTo>
                        <a:pt x="540" y="111"/>
                      </a:lnTo>
                      <a:lnTo>
                        <a:pt x="539" y="110"/>
                      </a:lnTo>
                      <a:lnTo>
                        <a:pt x="537" y="108"/>
                      </a:lnTo>
                      <a:lnTo>
                        <a:pt x="536" y="107"/>
                      </a:lnTo>
                      <a:lnTo>
                        <a:pt x="535" y="106"/>
                      </a:lnTo>
                      <a:lnTo>
                        <a:pt x="535" y="105"/>
                      </a:lnTo>
                      <a:lnTo>
                        <a:pt x="534" y="104"/>
                      </a:lnTo>
                      <a:lnTo>
                        <a:pt x="533" y="103"/>
                      </a:lnTo>
                      <a:lnTo>
                        <a:pt x="532" y="101"/>
                      </a:lnTo>
                      <a:lnTo>
                        <a:pt x="530" y="100"/>
                      </a:lnTo>
                      <a:lnTo>
                        <a:pt x="530" y="99"/>
                      </a:lnTo>
                      <a:lnTo>
                        <a:pt x="529" y="97"/>
                      </a:lnTo>
                      <a:lnTo>
                        <a:pt x="528" y="96"/>
                      </a:lnTo>
                      <a:lnTo>
                        <a:pt x="527" y="95"/>
                      </a:lnTo>
                      <a:lnTo>
                        <a:pt x="527" y="93"/>
                      </a:lnTo>
                      <a:lnTo>
                        <a:pt x="526" y="92"/>
                      </a:lnTo>
                      <a:lnTo>
                        <a:pt x="525" y="91"/>
                      </a:lnTo>
                      <a:lnTo>
                        <a:pt x="525" y="90"/>
                      </a:lnTo>
                      <a:lnTo>
                        <a:pt x="524" y="90"/>
                      </a:lnTo>
                      <a:lnTo>
                        <a:pt x="524" y="89"/>
                      </a:lnTo>
                      <a:lnTo>
                        <a:pt x="522" y="88"/>
                      </a:lnTo>
                      <a:lnTo>
                        <a:pt x="522" y="86"/>
                      </a:lnTo>
                      <a:lnTo>
                        <a:pt x="521" y="86"/>
                      </a:lnTo>
                      <a:lnTo>
                        <a:pt x="521" y="85"/>
                      </a:lnTo>
                      <a:lnTo>
                        <a:pt x="520" y="85"/>
                      </a:lnTo>
                      <a:lnTo>
                        <a:pt x="518" y="86"/>
                      </a:lnTo>
                      <a:lnTo>
                        <a:pt x="517" y="86"/>
                      </a:lnTo>
                      <a:lnTo>
                        <a:pt x="514" y="86"/>
                      </a:lnTo>
                      <a:lnTo>
                        <a:pt x="513" y="86"/>
                      </a:lnTo>
                      <a:lnTo>
                        <a:pt x="512" y="86"/>
                      </a:lnTo>
                      <a:lnTo>
                        <a:pt x="510" y="86"/>
                      </a:lnTo>
                      <a:lnTo>
                        <a:pt x="509" y="88"/>
                      </a:lnTo>
                      <a:lnTo>
                        <a:pt x="507" y="88"/>
                      </a:lnTo>
                      <a:lnTo>
                        <a:pt x="505" y="88"/>
                      </a:lnTo>
                      <a:lnTo>
                        <a:pt x="504" y="88"/>
                      </a:lnTo>
                      <a:lnTo>
                        <a:pt x="503" y="89"/>
                      </a:lnTo>
                      <a:lnTo>
                        <a:pt x="500" y="89"/>
                      </a:lnTo>
                      <a:lnTo>
                        <a:pt x="499" y="89"/>
                      </a:lnTo>
                      <a:lnTo>
                        <a:pt x="498" y="90"/>
                      </a:lnTo>
                      <a:lnTo>
                        <a:pt x="496" y="90"/>
                      </a:lnTo>
                      <a:lnTo>
                        <a:pt x="495" y="90"/>
                      </a:lnTo>
                      <a:lnTo>
                        <a:pt x="493" y="91"/>
                      </a:lnTo>
                      <a:lnTo>
                        <a:pt x="491" y="91"/>
                      </a:lnTo>
                      <a:lnTo>
                        <a:pt x="490" y="91"/>
                      </a:lnTo>
                      <a:lnTo>
                        <a:pt x="489" y="91"/>
                      </a:lnTo>
                      <a:lnTo>
                        <a:pt x="487" y="92"/>
                      </a:lnTo>
                      <a:lnTo>
                        <a:pt x="485" y="92"/>
                      </a:lnTo>
                      <a:lnTo>
                        <a:pt x="484" y="92"/>
                      </a:lnTo>
                      <a:lnTo>
                        <a:pt x="482" y="93"/>
                      </a:lnTo>
                      <a:lnTo>
                        <a:pt x="481" y="93"/>
                      </a:lnTo>
                      <a:lnTo>
                        <a:pt x="478" y="93"/>
                      </a:lnTo>
                      <a:lnTo>
                        <a:pt x="477" y="93"/>
                      </a:lnTo>
                      <a:lnTo>
                        <a:pt x="476" y="93"/>
                      </a:lnTo>
                      <a:lnTo>
                        <a:pt x="474" y="93"/>
                      </a:lnTo>
                      <a:lnTo>
                        <a:pt x="473" y="93"/>
                      </a:lnTo>
                      <a:lnTo>
                        <a:pt x="472" y="93"/>
                      </a:lnTo>
                      <a:lnTo>
                        <a:pt x="469" y="95"/>
                      </a:lnTo>
                      <a:lnTo>
                        <a:pt x="467" y="96"/>
                      </a:lnTo>
                      <a:lnTo>
                        <a:pt x="465" y="97"/>
                      </a:lnTo>
                      <a:lnTo>
                        <a:pt x="462" y="98"/>
                      </a:lnTo>
                      <a:lnTo>
                        <a:pt x="460" y="99"/>
                      </a:lnTo>
                      <a:lnTo>
                        <a:pt x="458" y="100"/>
                      </a:lnTo>
                      <a:lnTo>
                        <a:pt x="455" y="101"/>
                      </a:lnTo>
                      <a:lnTo>
                        <a:pt x="454" y="103"/>
                      </a:lnTo>
                      <a:lnTo>
                        <a:pt x="452" y="105"/>
                      </a:lnTo>
                      <a:lnTo>
                        <a:pt x="450" y="106"/>
                      </a:lnTo>
                      <a:lnTo>
                        <a:pt x="448" y="107"/>
                      </a:lnTo>
                      <a:lnTo>
                        <a:pt x="446" y="110"/>
                      </a:lnTo>
                      <a:lnTo>
                        <a:pt x="445" y="111"/>
                      </a:lnTo>
                      <a:lnTo>
                        <a:pt x="443" y="113"/>
                      </a:lnTo>
                      <a:lnTo>
                        <a:pt x="441" y="114"/>
                      </a:lnTo>
                      <a:lnTo>
                        <a:pt x="439" y="115"/>
                      </a:lnTo>
                      <a:lnTo>
                        <a:pt x="438" y="118"/>
                      </a:lnTo>
                      <a:lnTo>
                        <a:pt x="436" y="119"/>
                      </a:lnTo>
                      <a:lnTo>
                        <a:pt x="435" y="121"/>
                      </a:lnTo>
                      <a:lnTo>
                        <a:pt x="432" y="123"/>
                      </a:lnTo>
                      <a:lnTo>
                        <a:pt x="431" y="125"/>
                      </a:lnTo>
                      <a:lnTo>
                        <a:pt x="429" y="127"/>
                      </a:lnTo>
                      <a:lnTo>
                        <a:pt x="428" y="128"/>
                      </a:lnTo>
                      <a:lnTo>
                        <a:pt x="426" y="130"/>
                      </a:lnTo>
                      <a:lnTo>
                        <a:pt x="424" y="131"/>
                      </a:lnTo>
                      <a:lnTo>
                        <a:pt x="423" y="134"/>
                      </a:lnTo>
                      <a:lnTo>
                        <a:pt x="421" y="135"/>
                      </a:lnTo>
                      <a:lnTo>
                        <a:pt x="420" y="136"/>
                      </a:lnTo>
                      <a:lnTo>
                        <a:pt x="418" y="138"/>
                      </a:lnTo>
                      <a:lnTo>
                        <a:pt x="416" y="140"/>
                      </a:lnTo>
                      <a:lnTo>
                        <a:pt x="415" y="141"/>
                      </a:lnTo>
                      <a:lnTo>
                        <a:pt x="413" y="143"/>
                      </a:lnTo>
                      <a:close/>
                      <a:moveTo>
                        <a:pt x="403" y="244"/>
                      </a:moveTo>
                      <a:lnTo>
                        <a:pt x="401" y="244"/>
                      </a:lnTo>
                      <a:lnTo>
                        <a:pt x="400" y="245"/>
                      </a:lnTo>
                      <a:lnTo>
                        <a:pt x="399" y="245"/>
                      </a:lnTo>
                      <a:lnTo>
                        <a:pt x="396" y="245"/>
                      </a:lnTo>
                      <a:lnTo>
                        <a:pt x="395" y="245"/>
                      </a:lnTo>
                      <a:lnTo>
                        <a:pt x="394" y="246"/>
                      </a:lnTo>
                      <a:lnTo>
                        <a:pt x="393" y="246"/>
                      </a:lnTo>
                      <a:lnTo>
                        <a:pt x="391" y="246"/>
                      </a:lnTo>
                      <a:lnTo>
                        <a:pt x="389" y="246"/>
                      </a:lnTo>
                      <a:lnTo>
                        <a:pt x="388" y="247"/>
                      </a:lnTo>
                      <a:lnTo>
                        <a:pt x="386" y="247"/>
                      </a:lnTo>
                      <a:lnTo>
                        <a:pt x="385" y="247"/>
                      </a:lnTo>
                      <a:lnTo>
                        <a:pt x="384" y="248"/>
                      </a:lnTo>
                      <a:lnTo>
                        <a:pt x="381" y="248"/>
                      </a:lnTo>
                      <a:lnTo>
                        <a:pt x="380" y="249"/>
                      </a:lnTo>
                      <a:lnTo>
                        <a:pt x="379" y="249"/>
                      </a:lnTo>
                      <a:lnTo>
                        <a:pt x="378" y="249"/>
                      </a:lnTo>
                      <a:lnTo>
                        <a:pt x="376" y="250"/>
                      </a:lnTo>
                      <a:lnTo>
                        <a:pt x="374" y="250"/>
                      </a:lnTo>
                      <a:lnTo>
                        <a:pt x="373" y="252"/>
                      </a:lnTo>
                      <a:lnTo>
                        <a:pt x="372" y="252"/>
                      </a:lnTo>
                      <a:lnTo>
                        <a:pt x="371" y="253"/>
                      </a:lnTo>
                      <a:lnTo>
                        <a:pt x="369" y="253"/>
                      </a:lnTo>
                      <a:lnTo>
                        <a:pt x="368" y="254"/>
                      </a:lnTo>
                      <a:lnTo>
                        <a:pt x="366" y="255"/>
                      </a:lnTo>
                      <a:lnTo>
                        <a:pt x="365" y="255"/>
                      </a:lnTo>
                      <a:lnTo>
                        <a:pt x="364" y="256"/>
                      </a:lnTo>
                      <a:lnTo>
                        <a:pt x="363" y="256"/>
                      </a:lnTo>
                      <a:lnTo>
                        <a:pt x="362" y="257"/>
                      </a:lnTo>
                      <a:lnTo>
                        <a:pt x="362" y="259"/>
                      </a:lnTo>
                      <a:lnTo>
                        <a:pt x="361" y="260"/>
                      </a:lnTo>
                      <a:lnTo>
                        <a:pt x="359" y="260"/>
                      </a:lnTo>
                      <a:lnTo>
                        <a:pt x="358" y="261"/>
                      </a:lnTo>
                      <a:lnTo>
                        <a:pt x="358" y="262"/>
                      </a:lnTo>
                      <a:lnTo>
                        <a:pt x="357" y="263"/>
                      </a:lnTo>
                      <a:lnTo>
                        <a:pt x="356" y="264"/>
                      </a:lnTo>
                      <a:lnTo>
                        <a:pt x="356" y="265"/>
                      </a:lnTo>
                      <a:lnTo>
                        <a:pt x="355" y="267"/>
                      </a:lnTo>
                      <a:lnTo>
                        <a:pt x="355" y="268"/>
                      </a:lnTo>
                      <a:lnTo>
                        <a:pt x="355" y="270"/>
                      </a:lnTo>
                      <a:lnTo>
                        <a:pt x="354" y="271"/>
                      </a:lnTo>
                      <a:lnTo>
                        <a:pt x="354" y="272"/>
                      </a:lnTo>
                      <a:lnTo>
                        <a:pt x="354" y="274"/>
                      </a:lnTo>
                      <a:lnTo>
                        <a:pt x="354" y="276"/>
                      </a:lnTo>
                      <a:lnTo>
                        <a:pt x="354" y="277"/>
                      </a:lnTo>
                      <a:lnTo>
                        <a:pt x="354" y="279"/>
                      </a:lnTo>
                      <a:lnTo>
                        <a:pt x="354" y="280"/>
                      </a:lnTo>
                      <a:lnTo>
                        <a:pt x="354" y="283"/>
                      </a:lnTo>
                      <a:lnTo>
                        <a:pt x="354" y="284"/>
                      </a:lnTo>
                      <a:lnTo>
                        <a:pt x="354" y="286"/>
                      </a:lnTo>
                      <a:lnTo>
                        <a:pt x="354" y="287"/>
                      </a:lnTo>
                      <a:lnTo>
                        <a:pt x="354" y="290"/>
                      </a:lnTo>
                      <a:lnTo>
                        <a:pt x="354" y="291"/>
                      </a:lnTo>
                      <a:lnTo>
                        <a:pt x="354" y="293"/>
                      </a:lnTo>
                      <a:lnTo>
                        <a:pt x="355" y="294"/>
                      </a:lnTo>
                      <a:lnTo>
                        <a:pt x="355" y="297"/>
                      </a:lnTo>
                      <a:lnTo>
                        <a:pt x="355" y="298"/>
                      </a:lnTo>
                      <a:lnTo>
                        <a:pt x="356" y="300"/>
                      </a:lnTo>
                      <a:lnTo>
                        <a:pt x="356" y="301"/>
                      </a:lnTo>
                      <a:lnTo>
                        <a:pt x="357" y="304"/>
                      </a:lnTo>
                      <a:lnTo>
                        <a:pt x="357" y="305"/>
                      </a:lnTo>
                      <a:lnTo>
                        <a:pt x="357" y="307"/>
                      </a:lnTo>
                      <a:lnTo>
                        <a:pt x="358" y="308"/>
                      </a:lnTo>
                      <a:lnTo>
                        <a:pt x="358" y="311"/>
                      </a:lnTo>
                      <a:lnTo>
                        <a:pt x="361" y="311"/>
                      </a:lnTo>
                      <a:lnTo>
                        <a:pt x="363" y="312"/>
                      </a:lnTo>
                      <a:lnTo>
                        <a:pt x="364" y="313"/>
                      </a:lnTo>
                      <a:lnTo>
                        <a:pt x="366" y="313"/>
                      </a:lnTo>
                      <a:lnTo>
                        <a:pt x="369" y="314"/>
                      </a:lnTo>
                      <a:lnTo>
                        <a:pt x="371" y="314"/>
                      </a:lnTo>
                      <a:lnTo>
                        <a:pt x="373" y="315"/>
                      </a:lnTo>
                      <a:lnTo>
                        <a:pt x="376" y="316"/>
                      </a:lnTo>
                      <a:lnTo>
                        <a:pt x="378" y="316"/>
                      </a:lnTo>
                      <a:lnTo>
                        <a:pt x="380" y="317"/>
                      </a:lnTo>
                      <a:lnTo>
                        <a:pt x="384" y="317"/>
                      </a:lnTo>
                      <a:lnTo>
                        <a:pt x="386" y="319"/>
                      </a:lnTo>
                      <a:lnTo>
                        <a:pt x="388" y="319"/>
                      </a:lnTo>
                      <a:lnTo>
                        <a:pt x="391" y="319"/>
                      </a:lnTo>
                      <a:lnTo>
                        <a:pt x="393" y="320"/>
                      </a:lnTo>
                      <a:lnTo>
                        <a:pt x="395" y="320"/>
                      </a:lnTo>
                      <a:lnTo>
                        <a:pt x="399" y="320"/>
                      </a:lnTo>
                      <a:lnTo>
                        <a:pt x="401" y="320"/>
                      </a:lnTo>
                      <a:lnTo>
                        <a:pt x="403" y="320"/>
                      </a:lnTo>
                      <a:lnTo>
                        <a:pt x="406" y="320"/>
                      </a:lnTo>
                      <a:lnTo>
                        <a:pt x="408" y="320"/>
                      </a:lnTo>
                      <a:lnTo>
                        <a:pt x="410" y="319"/>
                      </a:lnTo>
                      <a:lnTo>
                        <a:pt x="413" y="319"/>
                      </a:lnTo>
                      <a:lnTo>
                        <a:pt x="415" y="317"/>
                      </a:lnTo>
                      <a:lnTo>
                        <a:pt x="416" y="317"/>
                      </a:lnTo>
                      <a:lnTo>
                        <a:pt x="418" y="316"/>
                      </a:lnTo>
                      <a:lnTo>
                        <a:pt x="421" y="315"/>
                      </a:lnTo>
                      <a:lnTo>
                        <a:pt x="422" y="314"/>
                      </a:lnTo>
                      <a:lnTo>
                        <a:pt x="423" y="313"/>
                      </a:lnTo>
                      <a:lnTo>
                        <a:pt x="425" y="311"/>
                      </a:lnTo>
                      <a:lnTo>
                        <a:pt x="426" y="309"/>
                      </a:lnTo>
                      <a:lnTo>
                        <a:pt x="428" y="307"/>
                      </a:lnTo>
                      <a:lnTo>
                        <a:pt x="426" y="307"/>
                      </a:lnTo>
                      <a:lnTo>
                        <a:pt x="425" y="306"/>
                      </a:lnTo>
                      <a:lnTo>
                        <a:pt x="424" y="306"/>
                      </a:lnTo>
                      <a:lnTo>
                        <a:pt x="423" y="306"/>
                      </a:lnTo>
                      <a:lnTo>
                        <a:pt x="422" y="306"/>
                      </a:lnTo>
                      <a:lnTo>
                        <a:pt x="421" y="306"/>
                      </a:lnTo>
                      <a:lnTo>
                        <a:pt x="420" y="306"/>
                      </a:lnTo>
                      <a:lnTo>
                        <a:pt x="418" y="305"/>
                      </a:lnTo>
                      <a:lnTo>
                        <a:pt x="417" y="305"/>
                      </a:lnTo>
                      <a:lnTo>
                        <a:pt x="416" y="305"/>
                      </a:lnTo>
                      <a:lnTo>
                        <a:pt x="415" y="305"/>
                      </a:lnTo>
                      <a:lnTo>
                        <a:pt x="414" y="305"/>
                      </a:lnTo>
                      <a:lnTo>
                        <a:pt x="413" y="304"/>
                      </a:lnTo>
                      <a:lnTo>
                        <a:pt x="411" y="304"/>
                      </a:lnTo>
                      <a:lnTo>
                        <a:pt x="410" y="304"/>
                      </a:lnTo>
                      <a:lnTo>
                        <a:pt x="409" y="304"/>
                      </a:lnTo>
                      <a:lnTo>
                        <a:pt x="408" y="304"/>
                      </a:lnTo>
                      <a:lnTo>
                        <a:pt x="408" y="302"/>
                      </a:lnTo>
                      <a:lnTo>
                        <a:pt x="407" y="302"/>
                      </a:lnTo>
                      <a:lnTo>
                        <a:pt x="406" y="302"/>
                      </a:lnTo>
                      <a:lnTo>
                        <a:pt x="407" y="301"/>
                      </a:lnTo>
                      <a:lnTo>
                        <a:pt x="408" y="301"/>
                      </a:lnTo>
                      <a:lnTo>
                        <a:pt x="409" y="301"/>
                      </a:lnTo>
                      <a:lnTo>
                        <a:pt x="410" y="301"/>
                      </a:lnTo>
                      <a:lnTo>
                        <a:pt x="411" y="301"/>
                      </a:lnTo>
                      <a:lnTo>
                        <a:pt x="413" y="300"/>
                      </a:lnTo>
                      <a:lnTo>
                        <a:pt x="414" y="300"/>
                      </a:lnTo>
                      <a:lnTo>
                        <a:pt x="415" y="300"/>
                      </a:lnTo>
                      <a:lnTo>
                        <a:pt x="416" y="300"/>
                      </a:lnTo>
                      <a:lnTo>
                        <a:pt x="417" y="300"/>
                      </a:lnTo>
                      <a:lnTo>
                        <a:pt x="418" y="299"/>
                      </a:lnTo>
                      <a:lnTo>
                        <a:pt x="420" y="299"/>
                      </a:lnTo>
                      <a:lnTo>
                        <a:pt x="421" y="299"/>
                      </a:lnTo>
                      <a:lnTo>
                        <a:pt x="422" y="299"/>
                      </a:lnTo>
                      <a:lnTo>
                        <a:pt x="422" y="298"/>
                      </a:lnTo>
                      <a:lnTo>
                        <a:pt x="423" y="298"/>
                      </a:lnTo>
                      <a:lnTo>
                        <a:pt x="424" y="298"/>
                      </a:lnTo>
                      <a:lnTo>
                        <a:pt x="425" y="297"/>
                      </a:lnTo>
                      <a:lnTo>
                        <a:pt x="426" y="297"/>
                      </a:lnTo>
                      <a:lnTo>
                        <a:pt x="426" y="296"/>
                      </a:lnTo>
                      <a:lnTo>
                        <a:pt x="428" y="296"/>
                      </a:lnTo>
                      <a:lnTo>
                        <a:pt x="429" y="294"/>
                      </a:lnTo>
                      <a:lnTo>
                        <a:pt x="429" y="296"/>
                      </a:lnTo>
                      <a:lnTo>
                        <a:pt x="430" y="296"/>
                      </a:lnTo>
                      <a:lnTo>
                        <a:pt x="431" y="296"/>
                      </a:lnTo>
                      <a:lnTo>
                        <a:pt x="432" y="297"/>
                      </a:lnTo>
                      <a:lnTo>
                        <a:pt x="433" y="297"/>
                      </a:lnTo>
                      <a:lnTo>
                        <a:pt x="435" y="298"/>
                      </a:lnTo>
                      <a:lnTo>
                        <a:pt x="436" y="298"/>
                      </a:lnTo>
                      <a:lnTo>
                        <a:pt x="437" y="299"/>
                      </a:lnTo>
                      <a:lnTo>
                        <a:pt x="438" y="300"/>
                      </a:lnTo>
                      <a:lnTo>
                        <a:pt x="439" y="300"/>
                      </a:lnTo>
                      <a:lnTo>
                        <a:pt x="440" y="301"/>
                      </a:lnTo>
                      <a:lnTo>
                        <a:pt x="441" y="301"/>
                      </a:lnTo>
                      <a:lnTo>
                        <a:pt x="443" y="302"/>
                      </a:lnTo>
                      <a:lnTo>
                        <a:pt x="444" y="304"/>
                      </a:lnTo>
                      <a:lnTo>
                        <a:pt x="445" y="304"/>
                      </a:lnTo>
                      <a:lnTo>
                        <a:pt x="446" y="305"/>
                      </a:lnTo>
                      <a:lnTo>
                        <a:pt x="447" y="306"/>
                      </a:lnTo>
                      <a:lnTo>
                        <a:pt x="448" y="306"/>
                      </a:lnTo>
                      <a:lnTo>
                        <a:pt x="450" y="306"/>
                      </a:lnTo>
                      <a:lnTo>
                        <a:pt x="450" y="307"/>
                      </a:lnTo>
                      <a:lnTo>
                        <a:pt x="451" y="307"/>
                      </a:lnTo>
                      <a:lnTo>
                        <a:pt x="452" y="308"/>
                      </a:lnTo>
                      <a:lnTo>
                        <a:pt x="453" y="308"/>
                      </a:lnTo>
                      <a:lnTo>
                        <a:pt x="454" y="309"/>
                      </a:lnTo>
                      <a:lnTo>
                        <a:pt x="455" y="309"/>
                      </a:lnTo>
                      <a:lnTo>
                        <a:pt x="457" y="309"/>
                      </a:lnTo>
                      <a:lnTo>
                        <a:pt x="458" y="309"/>
                      </a:lnTo>
                      <a:lnTo>
                        <a:pt x="458" y="311"/>
                      </a:lnTo>
                      <a:lnTo>
                        <a:pt x="459" y="311"/>
                      </a:lnTo>
                      <a:lnTo>
                        <a:pt x="460" y="311"/>
                      </a:lnTo>
                      <a:lnTo>
                        <a:pt x="461" y="311"/>
                      </a:lnTo>
                      <a:lnTo>
                        <a:pt x="462" y="311"/>
                      </a:lnTo>
                      <a:lnTo>
                        <a:pt x="463" y="311"/>
                      </a:lnTo>
                      <a:lnTo>
                        <a:pt x="465" y="311"/>
                      </a:lnTo>
                      <a:lnTo>
                        <a:pt x="466" y="311"/>
                      </a:lnTo>
                      <a:lnTo>
                        <a:pt x="467" y="311"/>
                      </a:lnTo>
                      <a:lnTo>
                        <a:pt x="468" y="311"/>
                      </a:lnTo>
                      <a:lnTo>
                        <a:pt x="469" y="311"/>
                      </a:lnTo>
                      <a:lnTo>
                        <a:pt x="470" y="311"/>
                      </a:lnTo>
                      <a:lnTo>
                        <a:pt x="472" y="309"/>
                      </a:lnTo>
                      <a:lnTo>
                        <a:pt x="473" y="309"/>
                      </a:lnTo>
                      <a:lnTo>
                        <a:pt x="474" y="308"/>
                      </a:lnTo>
                      <a:lnTo>
                        <a:pt x="475" y="308"/>
                      </a:lnTo>
                      <a:lnTo>
                        <a:pt x="475" y="307"/>
                      </a:lnTo>
                      <a:lnTo>
                        <a:pt x="476" y="306"/>
                      </a:lnTo>
                      <a:lnTo>
                        <a:pt x="477" y="305"/>
                      </a:lnTo>
                      <a:lnTo>
                        <a:pt x="477" y="304"/>
                      </a:lnTo>
                      <a:lnTo>
                        <a:pt x="478" y="304"/>
                      </a:lnTo>
                      <a:lnTo>
                        <a:pt x="478" y="302"/>
                      </a:lnTo>
                      <a:lnTo>
                        <a:pt x="480" y="301"/>
                      </a:lnTo>
                      <a:lnTo>
                        <a:pt x="480" y="300"/>
                      </a:lnTo>
                      <a:lnTo>
                        <a:pt x="481" y="299"/>
                      </a:lnTo>
                      <a:lnTo>
                        <a:pt x="481" y="298"/>
                      </a:lnTo>
                      <a:lnTo>
                        <a:pt x="481" y="297"/>
                      </a:lnTo>
                      <a:lnTo>
                        <a:pt x="481" y="296"/>
                      </a:lnTo>
                      <a:lnTo>
                        <a:pt x="482" y="296"/>
                      </a:lnTo>
                      <a:lnTo>
                        <a:pt x="482" y="294"/>
                      </a:lnTo>
                      <a:lnTo>
                        <a:pt x="482" y="293"/>
                      </a:lnTo>
                      <a:lnTo>
                        <a:pt x="482" y="292"/>
                      </a:lnTo>
                      <a:lnTo>
                        <a:pt x="482" y="291"/>
                      </a:lnTo>
                      <a:lnTo>
                        <a:pt x="481" y="290"/>
                      </a:lnTo>
                      <a:lnTo>
                        <a:pt x="481" y="289"/>
                      </a:lnTo>
                      <a:lnTo>
                        <a:pt x="481" y="287"/>
                      </a:lnTo>
                      <a:lnTo>
                        <a:pt x="480" y="287"/>
                      </a:lnTo>
                      <a:lnTo>
                        <a:pt x="480" y="286"/>
                      </a:lnTo>
                      <a:lnTo>
                        <a:pt x="478" y="285"/>
                      </a:lnTo>
                      <a:lnTo>
                        <a:pt x="477" y="284"/>
                      </a:lnTo>
                      <a:lnTo>
                        <a:pt x="476" y="283"/>
                      </a:lnTo>
                      <a:lnTo>
                        <a:pt x="476" y="282"/>
                      </a:lnTo>
                      <a:lnTo>
                        <a:pt x="475" y="282"/>
                      </a:lnTo>
                      <a:lnTo>
                        <a:pt x="475" y="280"/>
                      </a:lnTo>
                      <a:lnTo>
                        <a:pt x="474" y="280"/>
                      </a:lnTo>
                      <a:lnTo>
                        <a:pt x="474" y="279"/>
                      </a:lnTo>
                      <a:lnTo>
                        <a:pt x="473" y="279"/>
                      </a:lnTo>
                      <a:lnTo>
                        <a:pt x="472" y="278"/>
                      </a:lnTo>
                      <a:lnTo>
                        <a:pt x="470" y="278"/>
                      </a:lnTo>
                      <a:lnTo>
                        <a:pt x="470" y="277"/>
                      </a:lnTo>
                      <a:lnTo>
                        <a:pt x="469" y="277"/>
                      </a:lnTo>
                      <a:lnTo>
                        <a:pt x="469" y="276"/>
                      </a:lnTo>
                      <a:lnTo>
                        <a:pt x="468" y="276"/>
                      </a:lnTo>
                      <a:lnTo>
                        <a:pt x="467" y="276"/>
                      </a:lnTo>
                      <a:lnTo>
                        <a:pt x="467" y="275"/>
                      </a:lnTo>
                      <a:lnTo>
                        <a:pt x="466" y="275"/>
                      </a:lnTo>
                      <a:lnTo>
                        <a:pt x="465" y="274"/>
                      </a:lnTo>
                      <a:lnTo>
                        <a:pt x="463" y="274"/>
                      </a:lnTo>
                      <a:lnTo>
                        <a:pt x="463" y="272"/>
                      </a:lnTo>
                      <a:lnTo>
                        <a:pt x="462" y="272"/>
                      </a:lnTo>
                      <a:lnTo>
                        <a:pt x="461" y="272"/>
                      </a:lnTo>
                      <a:lnTo>
                        <a:pt x="460" y="271"/>
                      </a:lnTo>
                      <a:lnTo>
                        <a:pt x="459" y="271"/>
                      </a:lnTo>
                      <a:lnTo>
                        <a:pt x="459" y="270"/>
                      </a:lnTo>
                      <a:lnTo>
                        <a:pt x="458" y="270"/>
                      </a:lnTo>
                      <a:lnTo>
                        <a:pt x="457" y="269"/>
                      </a:lnTo>
                      <a:lnTo>
                        <a:pt x="455" y="269"/>
                      </a:lnTo>
                      <a:lnTo>
                        <a:pt x="454" y="268"/>
                      </a:lnTo>
                      <a:lnTo>
                        <a:pt x="453" y="268"/>
                      </a:lnTo>
                      <a:lnTo>
                        <a:pt x="452" y="267"/>
                      </a:lnTo>
                      <a:lnTo>
                        <a:pt x="451" y="267"/>
                      </a:lnTo>
                      <a:lnTo>
                        <a:pt x="451" y="265"/>
                      </a:lnTo>
                      <a:lnTo>
                        <a:pt x="450" y="265"/>
                      </a:lnTo>
                      <a:lnTo>
                        <a:pt x="448" y="265"/>
                      </a:lnTo>
                      <a:lnTo>
                        <a:pt x="447" y="264"/>
                      </a:lnTo>
                      <a:lnTo>
                        <a:pt x="446" y="264"/>
                      </a:lnTo>
                      <a:lnTo>
                        <a:pt x="445" y="264"/>
                      </a:lnTo>
                      <a:lnTo>
                        <a:pt x="444" y="264"/>
                      </a:lnTo>
                      <a:lnTo>
                        <a:pt x="444" y="263"/>
                      </a:lnTo>
                      <a:lnTo>
                        <a:pt x="443" y="263"/>
                      </a:lnTo>
                      <a:lnTo>
                        <a:pt x="441" y="263"/>
                      </a:lnTo>
                      <a:lnTo>
                        <a:pt x="440" y="263"/>
                      </a:lnTo>
                      <a:lnTo>
                        <a:pt x="439" y="263"/>
                      </a:lnTo>
                      <a:lnTo>
                        <a:pt x="440" y="263"/>
                      </a:lnTo>
                      <a:lnTo>
                        <a:pt x="441" y="263"/>
                      </a:lnTo>
                      <a:lnTo>
                        <a:pt x="443" y="262"/>
                      </a:lnTo>
                      <a:lnTo>
                        <a:pt x="444" y="262"/>
                      </a:lnTo>
                      <a:lnTo>
                        <a:pt x="445" y="261"/>
                      </a:lnTo>
                      <a:lnTo>
                        <a:pt x="446" y="261"/>
                      </a:lnTo>
                      <a:lnTo>
                        <a:pt x="446" y="260"/>
                      </a:lnTo>
                      <a:lnTo>
                        <a:pt x="447" y="260"/>
                      </a:lnTo>
                      <a:lnTo>
                        <a:pt x="447" y="259"/>
                      </a:lnTo>
                      <a:lnTo>
                        <a:pt x="447" y="257"/>
                      </a:lnTo>
                      <a:lnTo>
                        <a:pt x="448" y="257"/>
                      </a:lnTo>
                      <a:lnTo>
                        <a:pt x="448" y="256"/>
                      </a:lnTo>
                      <a:lnTo>
                        <a:pt x="448" y="255"/>
                      </a:lnTo>
                      <a:lnTo>
                        <a:pt x="448" y="254"/>
                      </a:lnTo>
                      <a:lnTo>
                        <a:pt x="448" y="253"/>
                      </a:lnTo>
                      <a:lnTo>
                        <a:pt x="448" y="252"/>
                      </a:lnTo>
                      <a:lnTo>
                        <a:pt x="448" y="250"/>
                      </a:lnTo>
                      <a:lnTo>
                        <a:pt x="448" y="249"/>
                      </a:lnTo>
                      <a:lnTo>
                        <a:pt x="448" y="248"/>
                      </a:lnTo>
                      <a:lnTo>
                        <a:pt x="448" y="247"/>
                      </a:lnTo>
                      <a:lnTo>
                        <a:pt x="447" y="246"/>
                      </a:lnTo>
                      <a:lnTo>
                        <a:pt x="447" y="245"/>
                      </a:lnTo>
                      <a:lnTo>
                        <a:pt x="447" y="244"/>
                      </a:lnTo>
                      <a:lnTo>
                        <a:pt x="448" y="244"/>
                      </a:lnTo>
                      <a:lnTo>
                        <a:pt x="448" y="245"/>
                      </a:lnTo>
                      <a:lnTo>
                        <a:pt x="448" y="246"/>
                      </a:lnTo>
                      <a:lnTo>
                        <a:pt x="450" y="247"/>
                      </a:lnTo>
                      <a:lnTo>
                        <a:pt x="450" y="248"/>
                      </a:lnTo>
                      <a:lnTo>
                        <a:pt x="451" y="248"/>
                      </a:lnTo>
                      <a:lnTo>
                        <a:pt x="451" y="249"/>
                      </a:lnTo>
                      <a:lnTo>
                        <a:pt x="452" y="250"/>
                      </a:lnTo>
                      <a:lnTo>
                        <a:pt x="452" y="252"/>
                      </a:lnTo>
                      <a:lnTo>
                        <a:pt x="453" y="252"/>
                      </a:lnTo>
                      <a:lnTo>
                        <a:pt x="453" y="253"/>
                      </a:lnTo>
                      <a:lnTo>
                        <a:pt x="454" y="253"/>
                      </a:lnTo>
                      <a:lnTo>
                        <a:pt x="454" y="254"/>
                      </a:lnTo>
                      <a:lnTo>
                        <a:pt x="455" y="254"/>
                      </a:lnTo>
                      <a:lnTo>
                        <a:pt x="455" y="255"/>
                      </a:lnTo>
                      <a:lnTo>
                        <a:pt x="457" y="255"/>
                      </a:lnTo>
                      <a:lnTo>
                        <a:pt x="458" y="256"/>
                      </a:lnTo>
                      <a:lnTo>
                        <a:pt x="459" y="256"/>
                      </a:lnTo>
                      <a:lnTo>
                        <a:pt x="460" y="256"/>
                      </a:lnTo>
                      <a:lnTo>
                        <a:pt x="461" y="256"/>
                      </a:lnTo>
                      <a:lnTo>
                        <a:pt x="462" y="256"/>
                      </a:lnTo>
                      <a:lnTo>
                        <a:pt x="463" y="256"/>
                      </a:lnTo>
                      <a:lnTo>
                        <a:pt x="465" y="256"/>
                      </a:lnTo>
                      <a:lnTo>
                        <a:pt x="466" y="257"/>
                      </a:lnTo>
                      <a:lnTo>
                        <a:pt x="467" y="257"/>
                      </a:lnTo>
                      <a:lnTo>
                        <a:pt x="468" y="257"/>
                      </a:lnTo>
                      <a:lnTo>
                        <a:pt x="469" y="259"/>
                      </a:lnTo>
                      <a:lnTo>
                        <a:pt x="470" y="259"/>
                      </a:lnTo>
                      <a:lnTo>
                        <a:pt x="472" y="259"/>
                      </a:lnTo>
                      <a:lnTo>
                        <a:pt x="473" y="260"/>
                      </a:lnTo>
                      <a:lnTo>
                        <a:pt x="474" y="260"/>
                      </a:lnTo>
                      <a:lnTo>
                        <a:pt x="475" y="260"/>
                      </a:lnTo>
                      <a:lnTo>
                        <a:pt x="476" y="260"/>
                      </a:lnTo>
                      <a:lnTo>
                        <a:pt x="477" y="261"/>
                      </a:lnTo>
                      <a:lnTo>
                        <a:pt x="478" y="261"/>
                      </a:lnTo>
                      <a:lnTo>
                        <a:pt x="480" y="261"/>
                      </a:lnTo>
                      <a:lnTo>
                        <a:pt x="481" y="262"/>
                      </a:lnTo>
                      <a:lnTo>
                        <a:pt x="482" y="262"/>
                      </a:lnTo>
                      <a:lnTo>
                        <a:pt x="483" y="262"/>
                      </a:lnTo>
                      <a:lnTo>
                        <a:pt x="484" y="262"/>
                      </a:lnTo>
                      <a:lnTo>
                        <a:pt x="485" y="261"/>
                      </a:lnTo>
                      <a:lnTo>
                        <a:pt x="487" y="260"/>
                      </a:lnTo>
                      <a:lnTo>
                        <a:pt x="487" y="259"/>
                      </a:lnTo>
                      <a:lnTo>
                        <a:pt x="487" y="257"/>
                      </a:lnTo>
                      <a:lnTo>
                        <a:pt x="488" y="259"/>
                      </a:lnTo>
                      <a:lnTo>
                        <a:pt x="488" y="260"/>
                      </a:lnTo>
                      <a:lnTo>
                        <a:pt x="488" y="261"/>
                      </a:lnTo>
                      <a:lnTo>
                        <a:pt x="489" y="261"/>
                      </a:lnTo>
                      <a:lnTo>
                        <a:pt x="489" y="262"/>
                      </a:lnTo>
                      <a:lnTo>
                        <a:pt x="489" y="263"/>
                      </a:lnTo>
                      <a:lnTo>
                        <a:pt x="490" y="264"/>
                      </a:lnTo>
                      <a:lnTo>
                        <a:pt x="490" y="265"/>
                      </a:lnTo>
                      <a:lnTo>
                        <a:pt x="491" y="267"/>
                      </a:lnTo>
                      <a:lnTo>
                        <a:pt x="491" y="269"/>
                      </a:lnTo>
                      <a:lnTo>
                        <a:pt x="491" y="270"/>
                      </a:lnTo>
                      <a:lnTo>
                        <a:pt x="492" y="271"/>
                      </a:lnTo>
                      <a:lnTo>
                        <a:pt x="492" y="272"/>
                      </a:lnTo>
                      <a:lnTo>
                        <a:pt x="493" y="274"/>
                      </a:lnTo>
                      <a:lnTo>
                        <a:pt x="493" y="275"/>
                      </a:lnTo>
                      <a:lnTo>
                        <a:pt x="493" y="276"/>
                      </a:lnTo>
                      <a:lnTo>
                        <a:pt x="495" y="277"/>
                      </a:lnTo>
                      <a:lnTo>
                        <a:pt x="495" y="279"/>
                      </a:lnTo>
                      <a:lnTo>
                        <a:pt x="496" y="280"/>
                      </a:lnTo>
                      <a:lnTo>
                        <a:pt x="496" y="282"/>
                      </a:lnTo>
                      <a:lnTo>
                        <a:pt x="497" y="283"/>
                      </a:lnTo>
                      <a:lnTo>
                        <a:pt x="497" y="284"/>
                      </a:lnTo>
                      <a:lnTo>
                        <a:pt x="497" y="285"/>
                      </a:lnTo>
                      <a:lnTo>
                        <a:pt x="498" y="286"/>
                      </a:lnTo>
                      <a:lnTo>
                        <a:pt x="498" y="287"/>
                      </a:lnTo>
                      <a:lnTo>
                        <a:pt x="499" y="289"/>
                      </a:lnTo>
                      <a:lnTo>
                        <a:pt x="499" y="290"/>
                      </a:lnTo>
                      <a:lnTo>
                        <a:pt x="499" y="291"/>
                      </a:lnTo>
                      <a:lnTo>
                        <a:pt x="500" y="292"/>
                      </a:lnTo>
                      <a:lnTo>
                        <a:pt x="502" y="293"/>
                      </a:lnTo>
                      <a:lnTo>
                        <a:pt x="502" y="294"/>
                      </a:lnTo>
                      <a:lnTo>
                        <a:pt x="500" y="296"/>
                      </a:lnTo>
                      <a:lnTo>
                        <a:pt x="499" y="297"/>
                      </a:lnTo>
                      <a:lnTo>
                        <a:pt x="498" y="298"/>
                      </a:lnTo>
                      <a:lnTo>
                        <a:pt x="498" y="299"/>
                      </a:lnTo>
                      <a:lnTo>
                        <a:pt x="497" y="300"/>
                      </a:lnTo>
                      <a:lnTo>
                        <a:pt x="496" y="301"/>
                      </a:lnTo>
                      <a:lnTo>
                        <a:pt x="496" y="302"/>
                      </a:lnTo>
                      <a:lnTo>
                        <a:pt x="495" y="304"/>
                      </a:lnTo>
                      <a:lnTo>
                        <a:pt x="493" y="305"/>
                      </a:lnTo>
                      <a:lnTo>
                        <a:pt x="493" y="306"/>
                      </a:lnTo>
                      <a:lnTo>
                        <a:pt x="492" y="307"/>
                      </a:lnTo>
                      <a:lnTo>
                        <a:pt x="491" y="308"/>
                      </a:lnTo>
                      <a:lnTo>
                        <a:pt x="491" y="309"/>
                      </a:lnTo>
                      <a:lnTo>
                        <a:pt x="490" y="309"/>
                      </a:lnTo>
                      <a:lnTo>
                        <a:pt x="490" y="311"/>
                      </a:lnTo>
                      <a:lnTo>
                        <a:pt x="489" y="312"/>
                      </a:lnTo>
                      <a:lnTo>
                        <a:pt x="489" y="313"/>
                      </a:lnTo>
                      <a:lnTo>
                        <a:pt x="488" y="313"/>
                      </a:lnTo>
                      <a:lnTo>
                        <a:pt x="488" y="314"/>
                      </a:lnTo>
                      <a:lnTo>
                        <a:pt x="487" y="315"/>
                      </a:lnTo>
                      <a:lnTo>
                        <a:pt x="487" y="316"/>
                      </a:lnTo>
                      <a:lnTo>
                        <a:pt x="485" y="316"/>
                      </a:lnTo>
                      <a:lnTo>
                        <a:pt x="485" y="317"/>
                      </a:lnTo>
                      <a:lnTo>
                        <a:pt x="484" y="317"/>
                      </a:lnTo>
                      <a:lnTo>
                        <a:pt x="484" y="319"/>
                      </a:lnTo>
                      <a:lnTo>
                        <a:pt x="484" y="320"/>
                      </a:lnTo>
                      <a:lnTo>
                        <a:pt x="483" y="320"/>
                      </a:lnTo>
                      <a:lnTo>
                        <a:pt x="483" y="321"/>
                      </a:lnTo>
                      <a:lnTo>
                        <a:pt x="483" y="322"/>
                      </a:lnTo>
                      <a:lnTo>
                        <a:pt x="482" y="323"/>
                      </a:lnTo>
                      <a:lnTo>
                        <a:pt x="482" y="326"/>
                      </a:lnTo>
                      <a:lnTo>
                        <a:pt x="482" y="327"/>
                      </a:lnTo>
                      <a:lnTo>
                        <a:pt x="482" y="328"/>
                      </a:lnTo>
                      <a:lnTo>
                        <a:pt x="482" y="329"/>
                      </a:lnTo>
                      <a:lnTo>
                        <a:pt x="483" y="330"/>
                      </a:lnTo>
                      <a:lnTo>
                        <a:pt x="483" y="331"/>
                      </a:lnTo>
                      <a:lnTo>
                        <a:pt x="483" y="332"/>
                      </a:lnTo>
                      <a:lnTo>
                        <a:pt x="483" y="334"/>
                      </a:lnTo>
                      <a:lnTo>
                        <a:pt x="484" y="335"/>
                      </a:lnTo>
                      <a:lnTo>
                        <a:pt x="484" y="336"/>
                      </a:lnTo>
                      <a:lnTo>
                        <a:pt x="485" y="337"/>
                      </a:lnTo>
                      <a:lnTo>
                        <a:pt x="487" y="338"/>
                      </a:lnTo>
                      <a:lnTo>
                        <a:pt x="487" y="339"/>
                      </a:lnTo>
                      <a:lnTo>
                        <a:pt x="488" y="339"/>
                      </a:lnTo>
                      <a:lnTo>
                        <a:pt x="488" y="341"/>
                      </a:lnTo>
                      <a:lnTo>
                        <a:pt x="489" y="341"/>
                      </a:lnTo>
                      <a:lnTo>
                        <a:pt x="489" y="342"/>
                      </a:lnTo>
                      <a:lnTo>
                        <a:pt x="490" y="342"/>
                      </a:lnTo>
                      <a:lnTo>
                        <a:pt x="491" y="342"/>
                      </a:lnTo>
                      <a:lnTo>
                        <a:pt x="492" y="343"/>
                      </a:lnTo>
                      <a:lnTo>
                        <a:pt x="493" y="343"/>
                      </a:lnTo>
                      <a:lnTo>
                        <a:pt x="495" y="343"/>
                      </a:lnTo>
                      <a:lnTo>
                        <a:pt x="496" y="343"/>
                      </a:lnTo>
                      <a:lnTo>
                        <a:pt x="495" y="343"/>
                      </a:lnTo>
                      <a:lnTo>
                        <a:pt x="495" y="344"/>
                      </a:lnTo>
                      <a:lnTo>
                        <a:pt x="495" y="345"/>
                      </a:lnTo>
                      <a:lnTo>
                        <a:pt x="493" y="346"/>
                      </a:lnTo>
                      <a:lnTo>
                        <a:pt x="493" y="347"/>
                      </a:lnTo>
                      <a:lnTo>
                        <a:pt x="493" y="349"/>
                      </a:lnTo>
                      <a:lnTo>
                        <a:pt x="493" y="350"/>
                      </a:lnTo>
                      <a:lnTo>
                        <a:pt x="493" y="351"/>
                      </a:lnTo>
                      <a:lnTo>
                        <a:pt x="495" y="352"/>
                      </a:lnTo>
                      <a:lnTo>
                        <a:pt x="495" y="353"/>
                      </a:lnTo>
                      <a:lnTo>
                        <a:pt x="495" y="354"/>
                      </a:lnTo>
                      <a:lnTo>
                        <a:pt x="495" y="356"/>
                      </a:lnTo>
                      <a:lnTo>
                        <a:pt x="496" y="356"/>
                      </a:lnTo>
                      <a:lnTo>
                        <a:pt x="496" y="357"/>
                      </a:lnTo>
                      <a:lnTo>
                        <a:pt x="497" y="358"/>
                      </a:lnTo>
                      <a:lnTo>
                        <a:pt x="498" y="359"/>
                      </a:lnTo>
                      <a:lnTo>
                        <a:pt x="498" y="360"/>
                      </a:lnTo>
                      <a:lnTo>
                        <a:pt x="498" y="361"/>
                      </a:lnTo>
                      <a:lnTo>
                        <a:pt x="498" y="363"/>
                      </a:lnTo>
                      <a:lnTo>
                        <a:pt x="499" y="363"/>
                      </a:lnTo>
                      <a:lnTo>
                        <a:pt x="499" y="364"/>
                      </a:lnTo>
                      <a:lnTo>
                        <a:pt x="499" y="365"/>
                      </a:lnTo>
                      <a:lnTo>
                        <a:pt x="500" y="365"/>
                      </a:lnTo>
                      <a:lnTo>
                        <a:pt x="503" y="366"/>
                      </a:lnTo>
                      <a:lnTo>
                        <a:pt x="504" y="366"/>
                      </a:lnTo>
                      <a:lnTo>
                        <a:pt x="505" y="367"/>
                      </a:lnTo>
                      <a:lnTo>
                        <a:pt x="506" y="367"/>
                      </a:lnTo>
                      <a:lnTo>
                        <a:pt x="509" y="366"/>
                      </a:lnTo>
                      <a:lnTo>
                        <a:pt x="510" y="366"/>
                      </a:lnTo>
                      <a:lnTo>
                        <a:pt x="512" y="366"/>
                      </a:lnTo>
                      <a:lnTo>
                        <a:pt x="513" y="365"/>
                      </a:lnTo>
                      <a:lnTo>
                        <a:pt x="515" y="364"/>
                      </a:lnTo>
                      <a:lnTo>
                        <a:pt x="517" y="363"/>
                      </a:lnTo>
                      <a:lnTo>
                        <a:pt x="519" y="361"/>
                      </a:lnTo>
                      <a:lnTo>
                        <a:pt x="521" y="360"/>
                      </a:lnTo>
                      <a:lnTo>
                        <a:pt x="522" y="359"/>
                      </a:lnTo>
                      <a:lnTo>
                        <a:pt x="525" y="357"/>
                      </a:lnTo>
                      <a:lnTo>
                        <a:pt x="527" y="356"/>
                      </a:lnTo>
                      <a:lnTo>
                        <a:pt x="528" y="353"/>
                      </a:lnTo>
                      <a:lnTo>
                        <a:pt x="530" y="352"/>
                      </a:lnTo>
                      <a:lnTo>
                        <a:pt x="532" y="350"/>
                      </a:lnTo>
                      <a:lnTo>
                        <a:pt x="534" y="347"/>
                      </a:lnTo>
                      <a:lnTo>
                        <a:pt x="535" y="346"/>
                      </a:lnTo>
                      <a:lnTo>
                        <a:pt x="537" y="344"/>
                      </a:lnTo>
                      <a:lnTo>
                        <a:pt x="539" y="342"/>
                      </a:lnTo>
                      <a:lnTo>
                        <a:pt x="541" y="339"/>
                      </a:lnTo>
                      <a:lnTo>
                        <a:pt x="542" y="337"/>
                      </a:lnTo>
                      <a:lnTo>
                        <a:pt x="543" y="335"/>
                      </a:lnTo>
                      <a:lnTo>
                        <a:pt x="544" y="334"/>
                      </a:lnTo>
                      <a:lnTo>
                        <a:pt x="545" y="331"/>
                      </a:lnTo>
                      <a:lnTo>
                        <a:pt x="547" y="329"/>
                      </a:lnTo>
                      <a:lnTo>
                        <a:pt x="548" y="327"/>
                      </a:lnTo>
                      <a:lnTo>
                        <a:pt x="549" y="326"/>
                      </a:lnTo>
                      <a:lnTo>
                        <a:pt x="550" y="323"/>
                      </a:lnTo>
                      <a:lnTo>
                        <a:pt x="550" y="322"/>
                      </a:lnTo>
                      <a:lnTo>
                        <a:pt x="551" y="321"/>
                      </a:lnTo>
                      <a:lnTo>
                        <a:pt x="551" y="320"/>
                      </a:lnTo>
                      <a:lnTo>
                        <a:pt x="551" y="319"/>
                      </a:lnTo>
                      <a:lnTo>
                        <a:pt x="551" y="317"/>
                      </a:lnTo>
                      <a:lnTo>
                        <a:pt x="551" y="316"/>
                      </a:lnTo>
                      <a:lnTo>
                        <a:pt x="550" y="315"/>
                      </a:lnTo>
                      <a:lnTo>
                        <a:pt x="550" y="314"/>
                      </a:lnTo>
                      <a:lnTo>
                        <a:pt x="550" y="313"/>
                      </a:lnTo>
                      <a:lnTo>
                        <a:pt x="549" y="312"/>
                      </a:lnTo>
                      <a:lnTo>
                        <a:pt x="549" y="311"/>
                      </a:lnTo>
                      <a:lnTo>
                        <a:pt x="548" y="309"/>
                      </a:lnTo>
                      <a:lnTo>
                        <a:pt x="547" y="308"/>
                      </a:lnTo>
                      <a:lnTo>
                        <a:pt x="547" y="307"/>
                      </a:lnTo>
                      <a:lnTo>
                        <a:pt x="545" y="307"/>
                      </a:lnTo>
                      <a:lnTo>
                        <a:pt x="545" y="306"/>
                      </a:lnTo>
                      <a:lnTo>
                        <a:pt x="544" y="306"/>
                      </a:lnTo>
                      <a:lnTo>
                        <a:pt x="544" y="305"/>
                      </a:lnTo>
                      <a:lnTo>
                        <a:pt x="544" y="304"/>
                      </a:lnTo>
                      <a:lnTo>
                        <a:pt x="545" y="302"/>
                      </a:lnTo>
                      <a:lnTo>
                        <a:pt x="545" y="301"/>
                      </a:lnTo>
                      <a:lnTo>
                        <a:pt x="547" y="300"/>
                      </a:lnTo>
                      <a:lnTo>
                        <a:pt x="547" y="299"/>
                      </a:lnTo>
                      <a:lnTo>
                        <a:pt x="547" y="298"/>
                      </a:lnTo>
                      <a:lnTo>
                        <a:pt x="548" y="297"/>
                      </a:lnTo>
                      <a:lnTo>
                        <a:pt x="548" y="296"/>
                      </a:lnTo>
                      <a:lnTo>
                        <a:pt x="548" y="294"/>
                      </a:lnTo>
                      <a:lnTo>
                        <a:pt x="548" y="293"/>
                      </a:lnTo>
                      <a:lnTo>
                        <a:pt x="547" y="293"/>
                      </a:lnTo>
                      <a:lnTo>
                        <a:pt x="547" y="292"/>
                      </a:lnTo>
                      <a:lnTo>
                        <a:pt x="547" y="291"/>
                      </a:lnTo>
                      <a:lnTo>
                        <a:pt x="545" y="290"/>
                      </a:lnTo>
                      <a:lnTo>
                        <a:pt x="544" y="289"/>
                      </a:lnTo>
                      <a:lnTo>
                        <a:pt x="543" y="287"/>
                      </a:lnTo>
                      <a:lnTo>
                        <a:pt x="542" y="286"/>
                      </a:lnTo>
                      <a:lnTo>
                        <a:pt x="541" y="286"/>
                      </a:lnTo>
                      <a:lnTo>
                        <a:pt x="540" y="285"/>
                      </a:lnTo>
                      <a:lnTo>
                        <a:pt x="539" y="285"/>
                      </a:lnTo>
                      <a:lnTo>
                        <a:pt x="539" y="284"/>
                      </a:lnTo>
                      <a:lnTo>
                        <a:pt x="537" y="284"/>
                      </a:lnTo>
                      <a:lnTo>
                        <a:pt x="537" y="283"/>
                      </a:lnTo>
                      <a:lnTo>
                        <a:pt x="537" y="282"/>
                      </a:lnTo>
                      <a:lnTo>
                        <a:pt x="539" y="282"/>
                      </a:lnTo>
                      <a:lnTo>
                        <a:pt x="539" y="280"/>
                      </a:lnTo>
                      <a:lnTo>
                        <a:pt x="539" y="279"/>
                      </a:lnTo>
                      <a:lnTo>
                        <a:pt x="539" y="278"/>
                      </a:lnTo>
                      <a:lnTo>
                        <a:pt x="539" y="277"/>
                      </a:lnTo>
                      <a:lnTo>
                        <a:pt x="539" y="276"/>
                      </a:lnTo>
                      <a:lnTo>
                        <a:pt x="539" y="275"/>
                      </a:lnTo>
                      <a:lnTo>
                        <a:pt x="539" y="274"/>
                      </a:lnTo>
                      <a:lnTo>
                        <a:pt x="539" y="272"/>
                      </a:lnTo>
                      <a:lnTo>
                        <a:pt x="537" y="271"/>
                      </a:lnTo>
                      <a:lnTo>
                        <a:pt x="537" y="270"/>
                      </a:lnTo>
                      <a:lnTo>
                        <a:pt x="537" y="269"/>
                      </a:lnTo>
                      <a:lnTo>
                        <a:pt x="536" y="268"/>
                      </a:lnTo>
                      <a:lnTo>
                        <a:pt x="535" y="267"/>
                      </a:lnTo>
                      <a:lnTo>
                        <a:pt x="535" y="265"/>
                      </a:lnTo>
                      <a:lnTo>
                        <a:pt x="534" y="264"/>
                      </a:lnTo>
                      <a:lnTo>
                        <a:pt x="533" y="263"/>
                      </a:lnTo>
                      <a:lnTo>
                        <a:pt x="532" y="262"/>
                      </a:lnTo>
                      <a:lnTo>
                        <a:pt x="530" y="261"/>
                      </a:lnTo>
                      <a:lnTo>
                        <a:pt x="529" y="260"/>
                      </a:lnTo>
                      <a:lnTo>
                        <a:pt x="528" y="259"/>
                      </a:lnTo>
                      <a:lnTo>
                        <a:pt x="527" y="257"/>
                      </a:lnTo>
                      <a:lnTo>
                        <a:pt x="526" y="255"/>
                      </a:lnTo>
                      <a:lnTo>
                        <a:pt x="525" y="254"/>
                      </a:lnTo>
                      <a:lnTo>
                        <a:pt x="524" y="253"/>
                      </a:lnTo>
                      <a:lnTo>
                        <a:pt x="524" y="252"/>
                      </a:lnTo>
                      <a:lnTo>
                        <a:pt x="522" y="250"/>
                      </a:lnTo>
                      <a:lnTo>
                        <a:pt x="521" y="249"/>
                      </a:lnTo>
                      <a:lnTo>
                        <a:pt x="520" y="248"/>
                      </a:lnTo>
                      <a:lnTo>
                        <a:pt x="519" y="247"/>
                      </a:lnTo>
                      <a:lnTo>
                        <a:pt x="519" y="246"/>
                      </a:lnTo>
                      <a:lnTo>
                        <a:pt x="518" y="245"/>
                      </a:lnTo>
                      <a:lnTo>
                        <a:pt x="517" y="244"/>
                      </a:lnTo>
                      <a:lnTo>
                        <a:pt x="515" y="242"/>
                      </a:lnTo>
                      <a:lnTo>
                        <a:pt x="514" y="241"/>
                      </a:lnTo>
                      <a:lnTo>
                        <a:pt x="513" y="240"/>
                      </a:lnTo>
                      <a:lnTo>
                        <a:pt x="512" y="238"/>
                      </a:lnTo>
                      <a:lnTo>
                        <a:pt x="511" y="237"/>
                      </a:lnTo>
                      <a:lnTo>
                        <a:pt x="510" y="235"/>
                      </a:lnTo>
                      <a:lnTo>
                        <a:pt x="509" y="234"/>
                      </a:lnTo>
                      <a:lnTo>
                        <a:pt x="507" y="233"/>
                      </a:lnTo>
                      <a:lnTo>
                        <a:pt x="506" y="232"/>
                      </a:lnTo>
                      <a:lnTo>
                        <a:pt x="505" y="231"/>
                      </a:lnTo>
                      <a:lnTo>
                        <a:pt x="504" y="230"/>
                      </a:lnTo>
                      <a:lnTo>
                        <a:pt x="503" y="229"/>
                      </a:lnTo>
                      <a:lnTo>
                        <a:pt x="502" y="227"/>
                      </a:lnTo>
                      <a:lnTo>
                        <a:pt x="500" y="226"/>
                      </a:lnTo>
                      <a:lnTo>
                        <a:pt x="500" y="225"/>
                      </a:lnTo>
                      <a:lnTo>
                        <a:pt x="499" y="224"/>
                      </a:lnTo>
                      <a:lnTo>
                        <a:pt x="498" y="223"/>
                      </a:lnTo>
                      <a:lnTo>
                        <a:pt x="498" y="222"/>
                      </a:lnTo>
                      <a:lnTo>
                        <a:pt x="497" y="222"/>
                      </a:lnTo>
                      <a:lnTo>
                        <a:pt x="496" y="220"/>
                      </a:lnTo>
                      <a:lnTo>
                        <a:pt x="495" y="219"/>
                      </a:lnTo>
                      <a:lnTo>
                        <a:pt x="493" y="218"/>
                      </a:lnTo>
                      <a:lnTo>
                        <a:pt x="492" y="217"/>
                      </a:lnTo>
                      <a:lnTo>
                        <a:pt x="491" y="216"/>
                      </a:lnTo>
                      <a:lnTo>
                        <a:pt x="490" y="216"/>
                      </a:lnTo>
                      <a:lnTo>
                        <a:pt x="490" y="215"/>
                      </a:lnTo>
                      <a:lnTo>
                        <a:pt x="489" y="215"/>
                      </a:lnTo>
                      <a:lnTo>
                        <a:pt x="488" y="215"/>
                      </a:lnTo>
                      <a:lnTo>
                        <a:pt x="487" y="213"/>
                      </a:lnTo>
                      <a:lnTo>
                        <a:pt x="485" y="213"/>
                      </a:lnTo>
                      <a:lnTo>
                        <a:pt x="484" y="213"/>
                      </a:lnTo>
                      <a:lnTo>
                        <a:pt x="483" y="213"/>
                      </a:lnTo>
                      <a:lnTo>
                        <a:pt x="482" y="213"/>
                      </a:lnTo>
                      <a:lnTo>
                        <a:pt x="481" y="213"/>
                      </a:lnTo>
                      <a:lnTo>
                        <a:pt x="480" y="213"/>
                      </a:lnTo>
                      <a:lnTo>
                        <a:pt x="478" y="213"/>
                      </a:lnTo>
                      <a:lnTo>
                        <a:pt x="478" y="215"/>
                      </a:lnTo>
                      <a:lnTo>
                        <a:pt x="477" y="215"/>
                      </a:lnTo>
                      <a:lnTo>
                        <a:pt x="476" y="216"/>
                      </a:lnTo>
                      <a:lnTo>
                        <a:pt x="476" y="215"/>
                      </a:lnTo>
                      <a:lnTo>
                        <a:pt x="475" y="215"/>
                      </a:lnTo>
                      <a:lnTo>
                        <a:pt x="474" y="215"/>
                      </a:lnTo>
                      <a:lnTo>
                        <a:pt x="474" y="213"/>
                      </a:lnTo>
                      <a:lnTo>
                        <a:pt x="473" y="213"/>
                      </a:lnTo>
                      <a:lnTo>
                        <a:pt x="472" y="213"/>
                      </a:lnTo>
                      <a:lnTo>
                        <a:pt x="472" y="212"/>
                      </a:lnTo>
                      <a:lnTo>
                        <a:pt x="470" y="212"/>
                      </a:lnTo>
                      <a:lnTo>
                        <a:pt x="469" y="212"/>
                      </a:lnTo>
                      <a:lnTo>
                        <a:pt x="469" y="211"/>
                      </a:lnTo>
                      <a:lnTo>
                        <a:pt x="468" y="211"/>
                      </a:lnTo>
                      <a:lnTo>
                        <a:pt x="467" y="211"/>
                      </a:lnTo>
                      <a:lnTo>
                        <a:pt x="467" y="210"/>
                      </a:lnTo>
                      <a:lnTo>
                        <a:pt x="466" y="210"/>
                      </a:lnTo>
                      <a:lnTo>
                        <a:pt x="465" y="210"/>
                      </a:lnTo>
                      <a:lnTo>
                        <a:pt x="465" y="209"/>
                      </a:lnTo>
                      <a:lnTo>
                        <a:pt x="463" y="209"/>
                      </a:lnTo>
                      <a:lnTo>
                        <a:pt x="462" y="209"/>
                      </a:lnTo>
                      <a:lnTo>
                        <a:pt x="462" y="208"/>
                      </a:lnTo>
                      <a:lnTo>
                        <a:pt x="461" y="208"/>
                      </a:lnTo>
                      <a:lnTo>
                        <a:pt x="459" y="208"/>
                      </a:lnTo>
                      <a:lnTo>
                        <a:pt x="458" y="208"/>
                      </a:lnTo>
                      <a:lnTo>
                        <a:pt x="457" y="208"/>
                      </a:lnTo>
                      <a:lnTo>
                        <a:pt x="454" y="209"/>
                      </a:lnTo>
                      <a:lnTo>
                        <a:pt x="453" y="210"/>
                      </a:lnTo>
                      <a:lnTo>
                        <a:pt x="452" y="210"/>
                      </a:lnTo>
                      <a:lnTo>
                        <a:pt x="451" y="211"/>
                      </a:lnTo>
                      <a:lnTo>
                        <a:pt x="450" y="212"/>
                      </a:lnTo>
                      <a:lnTo>
                        <a:pt x="447" y="213"/>
                      </a:lnTo>
                      <a:lnTo>
                        <a:pt x="446" y="215"/>
                      </a:lnTo>
                      <a:lnTo>
                        <a:pt x="445" y="217"/>
                      </a:lnTo>
                      <a:lnTo>
                        <a:pt x="444" y="218"/>
                      </a:lnTo>
                      <a:lnTo>
                        <a:pt x="443" y="219"/>
                      </a:lnTo>
                      <a:lnTo>
                        <a:pt x="440" y="220"/>
                      </a:lnTo>
                      <a:lnTo>
                        <a:pt x="439" y="223"/>
                      </a:lnTo>
                      <a:lnTo>
                        <a:pt x="438" y="224"/>
                      </a:lnTo>
                      <a:lnTo>
                        <a:pt x="436" y="226"/>
                      </a:lnTo>
                      <a:lnTo>
                        <a:pt x="435" y="227"/>
                      </a:lnTo>
                      <a:lnTo>
                        <a:pt x="433" y="229"/>
                      </a:lnTo>
                      <a:lnTo>
                        <a:pt x="431" y="231"/>
                      </a:lnTo>
                      <a:lnTo>
                        <a:pt x="430" y="232"/>
                      </a:lnTo>
                      <a:lnTo>
                        <a:pt x="428" y="233"/>
                      </a:lnTo>
                      <a:lnTo>
                        <a:pt x="425" y="235"/>
                      </a:lnTo>
                      <a:lnTo>
                        <a:pt x="423" y="237"/>
                      </a:lnTo>
                      <a:lnTo>
                        <a:pt x="422" y="238"/>
                      </a:lnTo>
                      <a:lnTo>
                        <a:pt x="420" y="239"/>
                      </a:lnTo>
                      <a:lnTo>
                        <a:pt x="416" y="240"/>
                      </a:lnTo>
                      <a:lnTo>
                        <a:pt x="414" y="241"/>
                      </a:lnTo>
                      <a:lnTo>
                        <a:pt x="411" y="242"/>
                      </a:lnTo>
                      <a:lnTo>
                        <a:pt x="409" y="242"/>
                      </a:lnTo>
                      <a:lnTo>
                        <a:pt x="406" y="244"/>
                      </a:lnTo>
                      <a:lnTo>
                        <a:pt x="403" y="244"/>
                      </a:lnTo>
                      <a:close/>
                      <a:moveTo>
                        <a:pt x="2" y="337"/>
                      </a:moveTo>
                      <a:lnTo>
                        <a:pt x="4" y="341"/>
                      </a:lnTo>
                      <a:lnTo>
                        <a:pt x="5" y="344"/>
                      </a:lnTo>
                      <a:lnTo>
                        <a:pt x="5" y="346"/>
                      </a:lnTo>
                      <a:lnTo>
                        <a:pt x="6" y="350"/>
                      </a:lnTo>
                      <a:lnTo>
                        <a:pt x="6" y="353"/>
                      </a:lnTo>
                      <a:lnTo>
                        <a:pt x="7" y="356"/>
                      </a:lnTo>
                      <a:lnTo>
                        <a:pt x="7" y="359"/>
                      </a:lnTo>
                      <a:lnTo>
                        <a:pt x="7" y="363"/>
                      </a:lnTo>
                      <a:lnTo>
                        <a:pt x="7" y="366"/>
                      </a:lnTo>
                      <a:lnTo>
                        <a:pt x="7" y="369"/>
                      </a:lnTo>
                      <a:lnTo>
                        <a:pt x="7" y="373"/>
                      </a:lnTo>
                      <a:lnTo>
                        <a:pt x="7" y="376"/>
                      </a:lnTo>
                      <a:lnTo>
                        <a:pt x="7" y="380"/>
                      </a:lnTo>
                      <a:lnTo>
                        <a:pt x="7" y="383"/>
                      </a:lnTo>
                      <a:lnTo>
                        <a:pt x="6" y="387"/>
                      </a:lnTo>
                      <a:lnTo>
                        <a:pt x="6" y="390"/>
                      </a:lnTo>
                      <a:lnTo>
                        <a:pt x="6" y="394"/>
                      </a:lnTo>
                      <a:lnTo>
                        <a:pt x="5" y="397"/>
                      </a:lnTo>
                      <a:lnTo>
                        <a:pt x="5" y="401"/>
                      </a:lnTo>
                      <a:lnTo>
                        <a:pt x="5" y="404"/>
                      </a:lnTo>
                      <a:lnTo>
                        <a:pt x="4" y="408"/>
                      </a:lnTo>
                      <a:lnTo>
                        <a:pt x="4" y="411"/>
                      </a:lnTo>
                      <a:lnTo>
                        <a:pt x="4" y="414"/>
                      </a:lnTo>
                      <a:lnTo>
                        <a:pt x="2" y="418"/>
                      </a:lnTo>
                      <a:lnTo>
                        <a:pt x="2" y="421"/>
                      </a:lnTo>
                      <a:lnTo>
                        <a:pt x="1" y="426"/>
                      </a:lnTo>
                      <a:lnTo>
                        <a:pt x="1" y="430"/>
                      </a:lnTo>
                      <a:lnTo>
                        <a:pt x="1" y="433"/>
                      </a:lnTo>
                      <a:lnTo>
                        <a:pt x="0" y="436"/>
                      </a:lnTo>
                      <a:lnTo>
                        <a:pt x="0" y="440"/>
                      </a:lnTo>
                      <a:lnTo>
                        <a:pt x="0" y="443"/>
                      </a:lnTo>
                      <a:lnTo>
                        <a:pt x="0" y="447"/>
                      </a:lnTo>
                      <a:lnTo>
                        <a:pt x="4" y="447"/>
                      </a:lnTo>
                      <a:lnTo>
                        <a:pt x="7" y="448"/>
                      </a:lnTo>
                      <a:lnTo>
                        <a:pt x="12" y="448"/>
                      </a:lnTo>
                      <a:lnTo>
                        <a:pt x="15" y="449"/>
                      </a:lnTo>
                      <a:lnTo>
                        <a:pt x="19" y="449"/>
                      </a:lnTo>
                      <a:lnTo>
                        <a:pt x="22" y="449"/>
                      </a:lnTo>
                      <a:lnTo>
                        <a:pt x="24" y="449"/>
                      </a:lnTo>
                      <a:lnTo>
                        <a:pt x="28" y="450"/>
                      </a:lnTo>
                      <a:lnTo>
                        <a:pt x="31" y="450"/>
                      </a:lnTo>
                      <a:lnTo>
                        <a:pt x="34" y="450"/>
                      </a:lnTo>
                      <a:lnTo>
                        <a:pt x="37" y="450"/>
                      </a:lnTo>
                      <a:lnTo>
                        <a:pt x="39" y="450"/>
                      </a:lnTo>
                      <a:lnTo>
                        <a:pt x="42" y="450"/>
                      </a:lnTo>
                      <a:lnTo>
                        <a:pt x="45" y="450"/>
                      </a:lnTo>
                      <a:lnTo>
                        <a:pt x="47" y="449"/>
                      </a:lnTo>
                      <a:lnTo>
                        <a:pt x="50" y="449"/>
                      </a:lnTo>
                      <a:lnTo>
                        <a:pt x="53" y="449"/>
                      </a:lnTo>
                      <a:lnTo>
                        <a:pt x="56" y="448"/>
                      </a:lnTo>
                      <a:lnTo>
                        <a:pt x="58" y="448"/>
                      </a:lnTo>
                      <a:lnTo>
                        <a:pt x="60" y="447"/>
                      </a:lnTo>
                      <a:lnTo>
                        <a:pt x="63" y="447"/>
                      </a:lnTo>
                      <a:lnTo>
                        <a:pt x="66" y="446"/>
                      </a:lnTo>
                      <a:lnTo>
                        <a:pt x="68" y="445"/>
                      </a:lnTo>
                      <a:lnTo>
                        <a:pt x="71" y="443"/>
                      </a:lnTo>
                      <a:lnTo>
                        <a:pt x="73" y="442"/>
                      </a:lnTo>
                      <a:lnTo>
                        <a:pt x="76" y="441"/>
                      </a:lnTo>
                      <a:lnTo>
                        <a:pt x="79" y="440"/>
                      </a:lnTo>
                      <a:lnTo>
                        <a:pt x="82" y="438"/>
                      </a:lnTo>
                      <a:lnTo>
                        <a:pt x="84" y="436"/>
                      </a:lnTo>
                      <a:lnTo>
                        <a:pt x="88" y="434"/>
                      </a:lnTo>
                      <a:lnTo>
                        <a:pt x="90" y="433"/>
                      </a:lnTo>
                      <a:lnTo>
                        <a:pt x="94" y="431"/>
                      </a:lnTo>
                      <a:lnTo>
                        <a:pt x="95" y="431"/>
                      </a:lnTo>
                      <a:lnTo>
                        <a:pt x="95" y="432"/>
                      </a:lnTo>
                      <a:lnTo>
                        <a:pt x="96" y="432"/>
                      </a:lnTo>
                      <a:lnTo>
                        <a:pt x="97" y="432"/>
                      </a:lnTo>
                      <a:lnTo>
                        <a:pt x="98" y="432"/>
                      </a:lnTo>
                      <a:lnTo>
                        <a:pt x="99" y="432"/>
                      </a:lnTo>
                      <a:lnTo>
                        <a:pt x="101" y="432"/>
                      </a:lnTo>
                      <a:lnTo>
                        <a:pt x="102" y="433"/>
                      </a:lnTo>
                      <a:lnTo>
                        <a:pt x="103" y="433"/>
                      </a:lnTo>
                      <a:lnTo>
                        <a:pt x="104" y="433"/>
                      </a:lnTo>
                      <a:lnTo>
                        <a:pt x="105" y="433"/>
                      </a:lnTo>
                      <a:lnTo>
                        <a:pt x="108" y="433"/>
                      </a:lnTo>
                      <a:lnTo>
                        <a:pt x="109" y="432"/>
                      </a:lnTo>
                      <a:lnTo>
                        <a:pt x="110" y="432"/>
                      </a:lnTo>
                      <a:lnTo>
                        <a:pt x="112" y="432"/>
                      </a:lnTo>
                      <a:lnTo>
                        <a:pt x="113" y="432"/>
                      </a:lnTo>
                      <a:lnTo>
                        <a:pt x="114" y="432"/>
                      </a:lnTo>
                      <a:lnTo>
                        <a:pt x="117" y="432"/>
                      </a:lnTo>
                      <a:lnTo>
                        <a:pt x="118" y="431"/>
                      </a:lnTo>
                      <a:lnTo>
                        <a:pt x="119" y="431"/>
                      </a:lnTo>
                      <a:lnTo>
                        <a:pt x="121" y="431"/>
                      </a:lnTo>
                      <a:lnTo>
                        <a:pt x="123" y="430"/>
                      </a:lnTo>
                      <a:lnTo>
                        <a:pt x="124" y="430"/>
                      </a:lnTo>
                      <a:lnTo>
                        <a:pt x="125" y="428"/>
                      </a:lnTo>
                      <a:lnTo>
                        <a:pt x="126" y="428"/>
                      </a:lnTo>
                      <a:lnTo>
                        <a:pt x="127" y="427"/>
                      </a:lnTo>
                      <a:lnTo>
                        <a:pt x="128" y="427"/>
                      </a:lnTo>
                      <a:lnTo>
                        <a:pt x="130" y="426"/>
                      </a:lnTo>
                      <a:lnTo>
                        <a:pt x="131" y="426"/>
                      </a:lnTo>
                      <a:lnTo>
                        <a:pt x="132" y="425"/>
                      </a:lnTo>
                      <a:lnTo>
                        <a:pt x="133" y="424"/>
                      </a:lnTo>
                      <a:lnTo>
                        <a:pt x="134" y="425"/>
                      </a:lnTo>
                      <a:lnTo>
                        <a:pt x="134" y="426"/>
                      </a:lnTo>
                      <a:lnTo>
                        <a:pt x="135" y="427"/>
                      </a:lnTo>
                      <a:lnTo>
                        <a:pt x="136" y="427"/>
                      </a:lnTo>
                      <a:lnTo>
                        <a:pt x="138" y="428"/>
                      </a:lnTo>
                      <a:lnTo>
                        <a:pt x="138" y="430"/>
                      </a:lnTo>
                      <a:lnTo>
                        <a:pt x="139" y="430"/>
                      </a:lnTo>
                      <a:lnTo>
                        <a:pt x="141" y="431"/>
                      </a:lnTo>
                      <a:lnTo>
                        <a:pt x="142" y="431"/>
                      </a:lnTo>
                      <a:lnTo>
                        <a:pt x="143" y="432"/>
                      </a:lnTo>
                      <a:lnTo>
                        <a:pt x="145" y="433"/>
                      </a:lnTo>
                      <a:lnTo>
                        <a:pt x="146" y="433"/>
                      </a:lnTo>
                      <a:lnTo>
                        <a:pt x="148" y="434"/>
                      </a:lnTo>
                      <a:lnTo>
                        <a:pt x="149" y="434"/>
                      </a:lnTo>
                      <a:lnTo>
                        <a:pt x="150" y="435"/>
                      </a:lnTo>
                      <a:lnTo>
                        <a:pt x="151" y="435"/>
                      </a:lnTo>
                      <a:lnTo>
                        <a:pt x="154" y="436"/>
                      </a:lnTo>
                      <a:lnTo>
                        <a:pt x="155" y="436"/>
                      </a:lnTo>
                      <a:lnTo>
                        <a:pt x="156" y="436"/>
                      </a:lnTo>
                      <a:lnTo>
                        <a:pt x="157" y="438"/>
                      </a:lnTo>
                      <a:lnTo>
                        <a:pt x="158" y="438"/>
                      </a:lnTo>
                      <a:lnTo>
                        <a:pt x="160" y="438"/>
                      </a:lnTo>
                      <a:lnTo>
                        <a:pt x="161" y="439"/>
                      </a:lnTo>
                      <a:lnTo>
                        <a:pt x="162" y="439"/>
                      </a:lnTo>
                      <a:lnTo>
                        <a:pt x="163" y="439"/>
                      </a:lnTo>
                      <a:lnTo>
                        <a:pt x="164" y="439"/>
                      </a:lnTo>
                      <a:lnTo>
                        <a:pt x="165" y="439"/>
                      </a:lnTo>
                      <a:lnTo>
                        <a:pt x="166" y="440"/>
                      </a:lnTo>
                      <a:lnTo>
                        <a:pt x="166" y="441"/>
                      </a:lnTo>
                      <a:lnTo>
                        <a:pt x="166" y="442"/>
                      </a:lnTo>
                      <a:lnTo>
                        <a:pt x="168" y="443"/>
                      </a:lnTo>
                      <a:lnTo>
                        <a:pt x="168" y="445"/>
                      </a:lnTo>
                      <a:lnTo>
                        <a:pt x="168" y="446"/>
                      </a:lnTo>
                      <a:lnTo>
                        <a:pt x="169" y="446"/>
                      </a:lnTo>
                      <a:lnTo>
                        <a:pt x="169" y="447"/>
                      </a:lnTo>
                      <a:lnTo>
                        <a:pt x="169" y="448"/>
                      </a:lnTo>
                      <a:lnTo>
                        <a:pt x="170" y="449"/>
                      </a:lnTo>
                      <a:lnTo>
                        <a:pt x="170" y="450"/>
                      </a:lnTo>
                      <a:lnTo>
                        <a:pt x="170" y="451"/>
                      </a:lnTo>
                      <a:lnTo>
                        <a:pt x="171" y="451"/>
                      </a:lnTo>
                      <a:lnTo>
                        <a:pt x="171" y="453"/>
                      </a:lnTo>
                      <a:lnTo>
                        <a:pt x="171" y="454"/>
                      </a:lnTo>
                      <a:lnTo>
                        <a:pt x="172" y="455"/>
                      </a:lnTo>
                      <a:lnTo>
                        <a:pt x="172" y="456"/>
                      </a:lnTo>
                      <a:lnTo>
                        <a:pt x="173" y="457"/>
                      </a:lnTo>
                      <a:lnTo>
                        <a:pt x="173" y="458"/>
                      </a:lnTo>
                      <a:lnTo>
                        <a:pt x="175" y="458"/>
                      </a:lnTo>
                      <a:lnTo>
                        <a:pt x="175" y="460"/>
                      </a:lnTo>
                      <a:lnTo>
                        <a:pt x="175" y="461"/>
                      </a:lnTo>
                      <a:lnTo>
                        <a:pt x="176" y="461"/>
                      </a:lnTo>
                      <a:lnTo>
                        <a:pt x="176" y="462"/>
                      </a:lnTo>
                      <a:lnTo>
                        <a:pt x="177" y="463"/>
                      </a:lnTo>
                      <a:lnTo>
                        <a:pt x="177" y="464"/>
                      </a:lnTo>
                      <a:lnTo>
                        <a:pt x="178" y="464"/>
                      </a:lnTo>
                      <a:lnTo>
                        <a:pt x="178" y="465"/>
                      </a:lnTo>
                      <a:lnTo>
                        <a:pt x="179" y="465"/>
                      </a:lnTo>
                      <a:lnTo>
                        <a:pt x="180" y="466"/>
                      </a:lnTo>
                      <a:lnTo>
                        <a:pt x="182" y="466"/>
                      </a:lnTo>
                      <a:lnTo>
                        <a:pt x="182" y="468"/>
                      </a:lnTo>
                      <a:lnTo>
                        <a:pt x="183" y="468"/>
                      </a:lnTo>
                      <a:lnTo>
                        <a:pt x="183" y="469"/>
                      </a:lnTo>
                      <a:lnTo>
                        <a:pt x="184" y="469"/>
                      </a:lnTo>
                      <a:lnTo>
                        <a:pt x="185" y="469"/>
                      </a:lnTo>
                      <a:lnTo>
                        <a:pt x="186" y="470"/>
                      </a:lnTo>
                      <a:lnTo>
                        <a:pt x="187" y="470"/>
                      </a:lnTo>
                      <a:lnTo>
                        <a:pt x="188" y="470"/>
                      </a:lnTo>
                      <a:lnTo>
                        <a:pt x="190" y="470"/>
                      </a:lnTo>
                      <a:lnTo>
                        <a:pt x="191" y="470"/>
                      </a:lnTo>
                      <a:lnTo>
                        <a:pt x="192" y="469"/>
                      </a:lnTo>
                      <a:lnTo>
                        <a:pt x="193" y="469"/>
                      </a:lnTo>
                      <a:lnTo>
                        <a:pt x="194" y="469"/>
                      </a:lnTo>
                      <a:lnTo>
                        <a:pt x="194" y="468"/>
                      </a:lnTo>
                      <a:lnTo>
                        <a:pt x="195" y="468"/>
                      </a:lnTo>
                      <a:lnTo>
                        <a:pt x="197" y="466"/>
                      </a:lnTo>
                      <a:lnTo>
                        <a:pt x="198" y="465"/>
                      </a:lnTo>
                      <a:lnTo>
                        <a:pt x="198" y="464"/>
                      </a:lnTo>
                      <a:lnTo>
                        <a:pt x="198" y="463"/>
                      </a:lnTo>
                      <a:lnTo>
                        <a:pt x="198" y="462"/>
                      </a:lnTo>
                      <a:lnTo>
                        <a:pt x="198" y="461"/>
                      </a:lnTo>
                      <a:lnTo>
                        <a:pt x="198" y="460"/>
                      </a:lnTo>
                      <a:lnTo>
                        <a:pt x="198" y="458"/>
                      </a:lnTo>
                      <a:lnTo>
                        <a:pt x="198" y="457"/>
                      </a:lnTo>
                      <a:lnTo>
                        <a:pt x="199" y="457"/>
                      </a:lnTo>
                      <a:lnTo>
                        <a:pt x="199" y="456"/>
                      </a:lnTo>
                      <a:lnTo>
                        <a:pt x="199" y="455"/>
                      </a:lnTo>
                      <a:lnTo>
                        <a:pt x="199" y="454"/>
                      </a:lnTo>
                      <a:lnTo>
                        <a:pt x="199" y="453"/>
                      </a:lnTo>
                      <a:lnTo>
                        <a:pt x="199" y="451"/>
                      </a:lnTo>
                      <a:lnTo>
                        <a:pt x="199" y="450"/>
                      </a:lnTo>
                      <a:lnTo>
                        <a:pt x="199" y="449"/>
                      </a:lnTo>
                      <a:lnTo>
                        <a:pt x="199" y="448"/>
                      </a:lnTo>
                      <a:lnTo>
                        <a:pt x="199" y="447"/>
                      </a:lnTo>
                      <a:lnTo>
                        <a:pt x="199" y="446"/>
                      </a:lnTo>
                      <a:lnTo>
                        <a:pt x="199" y="445"/>
                      </a:lnTo>
                      <a:lnTo>
                        <a:pt x="199" y="443"/>
                      </a:lnTo>
                      <a:lnTo>
                        <a:pt x="199" y="442"/>
                      </a:lnTo>
                      <a:lnTo>
                        <a:pt x="199" y="441"/>
                      </a:lnTo>
                      <a:lnTo>
                        <a:pt x="199" y="440"/>
                      </a:lnTo>
                      <a:lnTo>
                        <a:pt x="198" y="440"/>
                      </a:lnTo>
                      <a:lnTo>
                        <a:pt x="198" y="439"/>
                      </a:lnTo>
                      <a:lnTo>
                        <a:pt x="198" y="438"/>
                      </a:lnTo>
                      <a:lnTo>
                        <a:pt x="198" y="436"/>
                      </a:lnTo>
                      <a:lnTo>
                        <a:pt x="198" y="435"/>
                      </a:lnTo>
                      <a:lnTo>
                        <a:pt x="197" y="434"/>
                      </a:lnTo>
                      <a:lnTo>
                        <a:pt x="197" y="433"/>
                      </a:lnTo>
                      <a:lnTo>
                        <a:pt x="197" y="432"/>
                      </a:lnTo>
                      <a:lnTo>
                        <a:pt x="197" y="431"/>
                      </a:lnTo>
                      <a:lnTo>
                        <a:pt x="195" y="431"/>
                      </a:lnTo>
                      <a:lnTo>
                        <a:pt x="195" y="430"/>
                      </a:lnTo>
                      <a:lnTo>
                        <a:pt x="195" y="428"/>
                      </a:lnTo>
                      <a:lnTo>
                        <a:pt x="195" y="427"/>
                      </a:lnTo>
                      <a:lnTo>
                        <a:pt x="194" y="426"/>
                      </a:lnTo>
                      <a:lnTo>
                        <a:pt x="194" y="425"/>
                      </a:lnTo>
                      <a:lnTo>
                        <a:pt x="195" y="426"/>
                      </a:lnTo>
                      <a:lnTo>
                        <a:pt x="197" y="426"/>
                      </a:lnTo>
                      <a:lnTo>
                        <a:pt x="198" y="426"/>
                      </a:lnTo>
                      <a:lnTo>
                        <a:pt x="199" y="427"/>
                      </a:lnTo>
                      <a:lnTo>
                        <a:pt x="200" y="427"/>
                      </a:lnTo>
                      <a:lnTo>
                        <a:pt x="201" y="427"/>
                      </a:lnTo>
                      <a:lnTo>
                        <a:pt x="201" y="428"/>
                      </a:lnTo>
                      <a:lnTo>
                        <a:pt x="201" y="430"/>
                      </a:lnTo>
                      <a:lnTo>
                        <a:pt x="202" y="430"/>
                      </a:lnTo>
                      <a:lnTo>
                        <a:pt x="202" y="431"/>
                      </a:lnTo>
                      <a:lnTo>
                        <a:pt x="202" y="432"/>
                      </a:lnTo>
                      <a:lnTo>
                        <a:pt x="202" y="433"/>
                      </a:lnTo>
                      <a:lnTo>
                        <a:pt x="202" y="434"/>
                      </a:lnTo>
                      <a:lnTo>
                        <a:pt x="202" y="435"/>
                      </a:lnTo>
                      <a:lnTo>
                        <a:pt x="203" y="436"/>
                      </a:lnTo>
                      <a:lnTo>
                        <a:pt x="203" y="438"/>
                      </a:lnTo>
                      <a:lnTo>
                        <a:pt x="203" y="439"/>
                      </a:lnTo>
                      <a:lnTo>
                        <a:pt x="203" y="441"/>
                      </a:lnTo>
                      <a:lnTo>
                        <a:pt x="203" y="442"/>
                      </a:lnTo>
                      <a:lnTo>
                        <a:pt x="203" y="443"/>
                      </a:lnTo>
                      <a:lnTo>
                        <a:pt x="205" y="446"/>
                      </a:lnTo>
                      <a:lnTo>
                        <a:pt x="205" y="447"/>
                      </a:lnTo>
                      <a:lnTo>
                        <a:pt x="205" y="448"/>
                      </a:lnTo>
                      <a:lnTo>
                        <a:pt x="205" y="450"/>
                      </a:lnTo>
                      <a:lnTo>
                        <a:pt x="206" y="451"/>
                      </a:lnTo>
                      <a:lnTo>
                        <a:pt x="206" y="453"/>
                      </a:lnTo>
                      <a:lnTo>
                        <a:pt x="206" y="455"/>
                      </a:lnTo>
                      <a:lnTo>
                        <a:pt x="207" y="456"/>
                      </a:lnTo>
                      <a:lnTo>
                        <a:pt x="207" y="457"/>
                      </a:lnTo>
                      <a:lnTo>
                        <a:pt x="208" y="458"/>
                      </a:lnTo>
                      <a:lnTo>
                        <a:pt x="208" y="461"/>
                      </a:lnTo>
                      <a:lnTo>
                        <a:pt x="209" y="462"/>
                      </a:lnTo>
                      <a:lnTo>
                        <a:pt x="209" y="463"/>
                      </a:lnTo>
                      <a:lnTo>
                        <a:pt x="210" y="464"/>
                      </a:lnTo>
                      <a:lnTo>
                        <a:pt x="210" y="465"/>
                      </a:lnTo>
                      <a:lnTo>
                        <a:pt x="212" y="466"/>
                      </a:lnTo>
                      <a:lnTo>
                        <a:pt x="213" y="468"/>
                      </a:lnTo>
                      <a:lnTo>
                        <a:pt x="214" y="469"/>
                      </a:lnTo>
                      <a:lnTo>
                        <a:pt x="215" y="469"/>
                      </a:lnTo>
                      <a:lnTo>
                        <a:pt x="216" y="469"/>
                      </a:lnTo>
                      <a:lnTo>
                        <a:pt x="216" y="470"/>
                      </a:lnTo>
                      <a:lnTo>
                        <a:pt x="217" y="470"/>
                      </a:lnTo>
                      <a:lnTo>
                        <a:pt x="218" y="470"/>
                      </a:lnTo>
                      <a:lnTo>
                        <a:pt x="220" y="470"/>
                      </a:lnTo>
                      <a:lnTo>
                        <a:pt x="221" y="470"/>
                      </a:lnTo>
                      <a:lnTo>
                        <a:pt x="222" y="470"/>
                      </a:lnTo>
                      <a:lnTo>
                        <a:pt x="223" y="470"/>
                      </a:lnTo>
                      <a:lnTo>
                        <a:pt x="224" y="469"/>
                      </a:lnTo>
                      <a:lnTo>
                        <a:pt x="225" y="469"/>
                      </a:lnTo>
                      <a:lnTo>
                        <a:pt x="227" y="468"/>
                      </a:lnTo>
                      <a:lnTo>
                        <a:pt x="228" y="468"/>
                      </a:lnTo>
                      <a:lnTo>
                        <a:pt x="229" y="466"/>
                      </a:lnTo>
                      <a:lnTo>
                        <a:pt x="229" y="465"/>
                      </a:lnTo>
                      <a:lnTo>
                        <a:pt x="230" y="465"/>
                      </a:lnTo>
                      <a:lnTo>
                        <a:pt x="231" y="464"/>
                      </a:lnTo>
                      <a:lnTo>
                        <a:pt x="231" y="463"/>
                      </a:lnTo>
                      <a:lnTo>
                        <a:pt x="232" y="462"/>
                      </a:lnTo>
                      <a:lnTo>
                        <a:pt x="232" y="461"/>
                      </a:lnTo>
                      <a:lnTo>
                        <a:pt x="234" y="460"/>
                      </a:lnTo>
                      <a:lnTo>
                        <a:pt x="234" y="458"/>
                      </a:lnTo>
                      <a:lnTo>
                        <a:pt x="235" y="457"/>
                      </a:lnTo>
                      <a:lnTo>
                        <a:pt x="235" y="456"/>
                      </a:lnTo>
                      <a:lnTo>
                        <a:pt x="235" y="455"/>
                      </a:lnTo>
                      <a:lnTo>
                        <a:pt x="235" y="454"/>
                      </a:lnTo>
                      <a:lnTo>
                        <a:pt x="235" y="453"/>
                      </a:lnTo>
                      <a:lnTo>
                        <a:pt x="235" y="451"/>
                      </a:lnTo>
                      <a:lnTo>
                        <a:pt x="236" y="453"/>
                      </a:lnTo>
                      <a:lnTo>
                        <a:pt x="237" y="454"/>
                      </a:lnTo>
                      <a:lnTo>
                        <a:pt x="238" y="454"/>
                      </a:lnTo>
                      <a:lnTo>
                        <a:pt x="239" y="455"/>
                      </a:lnTo>
                      <a:lnTo>
                        <a:pt x="240" y="455"/>
                      </a:lnTo>
                      <a:lnTo>
                        <a:pt x="242" y="455"/>
                      </a:lnTo>
                      <a:lnTo>
                        <a:pt x="243" y="455"/>
                      </a:lnTo>
                      <a:lnTo>
                        <a:pt x="244" y="455"/>
                      </a:lnTo>
                      <a:lnTo>
                        <a:pt x="245" y="454"/>
                      </a:lnTo>
                      <a:lnTo>
                        <a:pt x="246" y="454"/>
                      </a:lnTo>
                      <a:lnTo>
                        <a:pt x="246" y="453"/>
                      </a:lnTo>
                      <a:lnTo>
                        <a:pt x="247" y="451"/>
                      </a:lnTo>
                      <a:lnTo>
                        <a:pt x="247" y="450"/>
                      </a:lnTo>
                      <a:lnTo>
                        <a:pt x="249" y="449"/>
                      </a:lnTo>
                      <a:lnTo>
                        <a:pt x="249" y="448"/>
                      </a:lnTo>
                      <a:lnTo>
                        <a:pt x="249" y="447"/>
                      </a:lnTo>
                      <a:lnTo>
                        <a:pt x="249" y="446"/>
                      </a:lnTo>
                      <a:lnTo>
                        <a:pt x="249" y="445"/>
                      </a:lnTo>
                      <a:lnTo>
                        <a:pt x="249" y="443"/>
                      </a:lnTo>
                      <a:lnTo>
                        <a:pt x="249" y="442"/>
                      </a:lnTo>
                      <a:lnTo>
                        <a:pt x="249" y="440"/>
                      </a:lnTo>
                      <a:lnTo>
                        <a:pt x="249" y="439"/>
                      </a:lnTo>
                      <a:lnTo>
                        <a:pt x="249" y="438"/>
                      </a:lnTo>
                      <a:lnTo>
                        <a:pt x="249" y="436"/>
                      </a:lnTo>
                      <a:lnTo>
                        <a:pt x="249" y="435"/>
                      </a:lnTo>
                      <a:lnTo>
                        <a:pt x="250" y="434"/>
                      </a:lnTo>
                      <a:lnTo>
                        <a:pt x="250" y="433"/>
                      </a:lnTo>
                      <a:lnTo>
                        <a:pt x="250" y="431"/>
                      </a:lnTo>
                      <a:lnTo>
                        <a:pt x="250" y="430"/>
                      </a:lnTo>
                      <a:lnTo>
                        <a:pt x="250" y="428"/>
                      </a:lnTo>
                      <a:lnTo>
                        <a:pt x="250" y="427"/>
                      </a:lnTo>
                      <a:lnTo>
                        <a:pt x="250" y="426"/>
                      </a:lnTo>
                      <a:lnTo>
                        <a:pt x="250" y="425"/>
                      </a:lnTo>
                      <a:lnTo>
                        <a:pt x="250" y="424"/>
                      </a:lnTo>
                      <a:lnTo>
                        <a:pt x="251" y="423"/>
                      </a:lnTo>
                      <a:lnTo>
                        <a:pt x="251" y="420"/>
                      </a:lnTo>
                      <a:lnTo>
                        <a:pt x="251" y="419"/>
                      </a:lnTo>
                      <a:lnTo>
                        <a:pt x="251" y="418"/>
                      </a:lnTo>
                      <a:lnTo>
                        <a:pt x="251" y="417"/>
                      </a:lnTo>
                      <a:lnTo>
                        <a:pt x="251" y="416"/>
                      </a:lnTo>
                      <a:lnTo>
                        <a:pt x="251" y="414"/>
                      </a:lnTo>
                      <a:lnTo>
                        <a:pt x="251" y="413"/>
                      </a:lnTo>
                      <a:lnTo>
                        <a:pt x="251" y="412"/>
                      </a:lnTo>
                      <a:lnTo>
                        <a:pt x="252" y="411"/>
                      </a:lnTo>
                      <a:lnTo>
                        <a:pt x="252" y="410"/>
                      </a:lnTo>
                      <a:lnTo>
                        <a:pt x="252" y="409"/>
                      </a:lnTo>
                      <a:lnTo>
                        <a:pt x="252" y="408"/>
                      </a:lnTo>
                      <a:lnTo>
                        <a:pt x="252" y="406"/>
                      </a:lnTo>
                      <a:lnTo>
                        <a:pt x="252" y="405"/>
                      </a:lnTo>
                      <a:lnTo>
                        <a:pt x="252" y="404"/>
                      </a:lnTo>
                      <a:lnTo>
                        <a:pt x="252" y="403"/>
                      </a:lnTo>
                      <a:lnTo>
                        <a:pt x="251" y="401"/>
                      </a:lnTo>
                      <a:lnTo>
                        <a:pt x="250" y="398"/>
                      </a:lnTo>
                      <a:lnTo>
                        <a:pt x="249" y="396"/>
                      </a:lnTo>
                      <a:lnTo>
                        <a:pt x="247" y="394"/>
                      </a:lnTo>
                      <a:lnTo>
                        <a:pt x="247" y="391"/>
                      </a:lnTo>
                      <a:lnTo>
                        <a:pt x="246" y="389"/>
                      </a:lnTo>
                      <a:lnTo>
                        <a:pt x="245" y="388"/>
                      </a:lnTo>
                      <a:lnTo>
                        <a:pt x="245" y="386"/>
                      </a:lnTo>
                      <a:lnTo>
                        <a:pt x="244" y="383"/>
                      </a:lnTo>
                      <a:lnTo>
                        <a:pt x="243" y="382"/>
                      </a:lnTo>
                      <a:lnTo>
                        <a:pt x="243" y="380"/>
                      </a:lnTo>
                      <a:lnTo>
                        <a:pt x="242" y="379"/>
                      </a:lnTo>
                      <a:lnTo>
                        <a:pt x="242" y="378"/>
                      </a:lnTo>
                      <a:lnTo>
                        <a:pt x="240" y="375"/>
                      </a:lnTo>
                      <a:lnTo>
                        <a:pt x="240" y="374"/>
                      </a:lnTo>
                      <a:lnTo>
                        <a:pt x="239" y="372"/>
                      </a:lnTo>
                      <a:lnTo>
                        <a:pt x="239" y="371"/>
                      </a:lnTo>
                      <a:lnTo>
                        <a:pt x="238" y="369"/>
                      </a:lnTo>
                      <a:lnTo>
                        <a:pt x="238" y="367"/>
                      </a:lnTo>
                      <a:lnTo>
                        <a:pt x="237" y="366"/>
                      </a:lnTo>
                      <a:lnTo>
                        <a:pt x="237" y="365"/>
                      </a:lnTo>
                      <a:lnTo>
                        <a:pt x="236" y="363"/>
                      </a:lnTo>
                      <a:lnTo>
                        <a:pt x="235" y="361"/>
                      </a:lnTo>
                      <a:lnTo>
                        <a:pt x="235" y="360"/>
                      </a:lnTo>
                      <a:lnTo>
                        <a:pt x="234" y="358"/>
                      </a:lnTo>
                      <a:lnTo>
                        <a:pt x="232" y="357"/>
                      </a:lnTo>
                      <a:lnTo>
                        <a:pt x="231" y="354"/>
                      </a:lnTo>
                      <a:lnTo>
                        <a:pt x="231" y="353"/>
                      </a:lnTo>
                      <a:lnTo>
                        <a:pt x="230" y="351"/>
                      </a:lnTo>
                      <a:lnTo>
                        <a:pt x="229" y="349"/>
                      </a:lnTo>
                      <a:lnTo>
                        <a:pt x="228" y="347"/>
                      </a:lnTo>
                      <a:lnTo>
                        <a:pt x="227" y="345"/>
                      </a:lnTo>
                      <a:lnTo>
                        <a:pt x="225" y="344"/>
                      </a:lnTo>
                      <a:lnTo>
                        <a:pt x="223" y="343"/>
                      </a:lnTo>
                      <a:lnTo>
                        <a:pt x="222" y="342"/>
                      </a:lnTo>
                      <a:lnTo>
                        <a:pt x="221" y="341"/>
                      </a:lnTo>
                      <a:lnTo>
                        <a:pt x="220" y="339"/>
                      </a:lnTo>
                      <a:lnTo>
                        <a:pt x="218" y="338"/>
                      </a:lnTo>
                      <a:lnTo>
                        <a:pt x="217" y="338"/>
                      </a:lnTo>
                      <a:lnTo>
                        <a:pt x="216" y="337"/>
                      </a:lnTo>
                      <a:lnTo>
                        <a:pt x="215" y="336"/>
                      </a:lnTo>
                      <a:lnTo>
                        <a:pt x="214" y="335"/>
                      </a:lnTo>
                      <a:lnTo>
                        <a:pt x="213" y="335"/>
                      </a:lnTo>
                      <a:lnTo>
                        <a:pt x="212" y="334"/>
                      </a:lnTo>
                      <a:lnTo>
                        <a:pt x="210" y="334"/>
                      </a:lnTo>
                      <a:lnTo>
                        <a:pt x="209" y="332"/>
                      </a:lnTo>
                      <a:lnTo>
                        <a:pt x="208" y="332"/>
                      </a:lnTo>
                      <a:lnTo>
                        <a:pt x="207" y="331"/>
                      </a:lnTo>
                      <a:lnTo>
                        <a:pt x="206" y="331"/>
                      </a:lnTo>
                      <a:lnTo>
                        <a:pt x="206" y="330"/>
                      </a:lnTo>
                      <a:lnTo>
                        <a:pt x="205" y="330"/>
                      </a:lnTo>
                      <a:lnTo>
                        <a:pt x="203" y="329"/>
                      </a:lnTo>
                      <a:lnTo>
                        <a:pt x="202" y="329"/>
                      </a:lnTo>
                      <a:lnTo>
                        <a:pt x="201" y="328"/>
                      </a:lnTo>
                      <a:lnTo>
                        <a:pt x="200" y="328"/>
                      </a:lnTo>
                      <a:lnTo>
                        <a:pt x="199" y="327"/>
                      </a:lnTo>
                      <a:lnTo>
                        <a:pt x="198" y="327"/>
                      </a:lnTo>
                      <a:lnTo>
                        <a:pt x="197" y="326"/>
                      </a:lnTo>
                      <a:lnTo>
                        <a:pt x="194" y="326"/>
                      </a:lnTo>
                      <a:lnTo>
                        <a:pt x="193" y="324"/>
                      </a:lnTo>
                      <a:lnTo>
                        <a:pt x="192" y="324"/>
                      </a:lnTo>
                      <a:lnTo>
                        <a:pt x="191" y="323"/>
                      </a:lnTo>
                      <a:lnTo>
                        <a:pt x="188" y="322"/>
                      </a:lnTo>
                      <a:lnTo>
                        <a:pt x="187" y="322"/>
                      </a:lnTo>
                      <a:lnTo>
                        <a:pt x="186" y="321"/>
                      </a:lnTo>
                      <a:lnTo>
                        <a:pt x="184" y="320"/>
                      </a:lnTo>
                      <a:lnTo>
                        <a:pt x="183" y="319"/>
                      </a:lnTo>
                      <a:lnTo>
                        <a:pt x="182" y="317"/>
                      </a:lnTo>
                      <a:lnTo>
                        <a:pt x="180" y="316"/>
                      </a:lnTo>
                      <a:lnTo>
                        <a:pt x="179" y="316"/>
                      </a:lnTo>
                      <a:lnTo>
                        <a:pt x="178" y="315"/>
                      </a:lnTo>
                      <a:lnTo>
                        <a:pt x="177" y="314"/>
                      </a:lnTo>
                      <a:lnTo>
                        <a:pt x="176" y="313"/>
                      </a:lnTo>
                      <a:lnTo>
                        <a:pt x="175" y="312"/>
                      </a:lnTo>
                      <a:lnTo>
                        <a:pt x="173" y="311"/>
                      </a:lnTo>
                      <a:lnTo>
                        <a:pt x="172" y="309"/>
                      </a:lnTo>
                      <a:lnTo>
                        <a:pt x="171" y="308"/>
                      </a:lnTo>
                      <a:lnTo>
                        <a:pt x="170" y="307"/>
                      </a:lnTo>
                      <a:lnTo>
                        <a:pt x="170" y="306"/>
                      </a:lnTo>
                      <a:lnTo>
                        <a:pt x="169" y="305"/>
                      </a:lnTo>
                      <a:lnTo>
                        <a:pt x="168" y="304"/>
                      </a:lnTo>
                      <a:lnTo>
                        <a:pt x="166" y="304"/>
                      </a:lnTo>
                      <a:lnTo>
                        <a:pt x="165" y="302"/>
                      </a:lnTo>
                      <a:lnTo>
                        <a:pt x="165" y="301"/>
                      </a:lnTo>
                      <a:lnTo>
                        <a:pt x="164" y="300"/>
                      </a:lnTo>
                      <a:lnTo>
                        <a:pt x="163" y="300"/>
                      </a:lnTo>
                      <a:lnTo>
                        <a:pt x="162" y="299"/>
                      </a:lnTo>
                      <a:lnTo>
                        <a:pt x="161" y="298"/>
                      </a:lnTo>
                      <a:lnTo>
                        <a:pt x="160" y="298"/>
                      </a:lnTo>
                      <a:lnTo>
                        <a:pt x="158" y="297"/>
                      </a:lnTo>
                      <a:lnTo>
                        <a:pt x="157" y="297"/>
                      </a:lnTo>
                      <a:lnTo>
                        <a:pt x="156" y="297"/>
                      </a:lnTo>
                      <a:lnTo>
                        <a:pt x="155" y="297"/>
                      </a:lnTo>
                      <a:lnTo>
                        <a:pt x="149" y="297"/>
                      </a:lnTo>
                      <a:lnTo>
                        <a:pt x="143" y="298"/>
                      </a:lnTo>
                      <a:lnTo>
                        <a:pt x="139" y="298"/>
                      </a:lnTo>
                      <a:lnTo>
                        <a:pt x="134" y="299"/>
                      </a:lnTo>
                      <a:lnTo>
                        <a:pt x="128" y="300"/>
                      </a:lnTo>
                      <a:lnTo>
                        <a:pt x="124" y="301"/>
                      </a:lnTo>
                      <a:lnTo>
                        <a:pt x="119" y="302"/>
                      </a:lnTo>
                      <a:lnTo>
                        <a:pt x="114" y="304"/>
                      </a:lnTo>
                      <a:lnTo>
                        <a:pt x="109" y="305"/>
                      </a:lnTo>
                      <a:lnTo>
                        <a:pt x="104" y="307"/>
                      </a:lnTo>
                      <a:lnTo>
                        <a:pt x="99" y="308"/>
                      </a:lnTo>
                      <a:lnTo>
                        <a:pt x="95" y="311"/>
                      </a:lnTo>
                      <a:lnTo>
                        <a:pt x="90" y="312"/>
                      </a:lnTo>
                      <a:lnTo>
                        <a:pt x="86" y="314"/>
                      </a:lnTo>
                      <a:lnTo>
                        <a:pt x="82" y="315"/>
                      </a:lnTo>
                      <a:lnTo>
                        <a:pt x="78" y="317"/>
                      </a:lnTo>
                      <a:lnTo>
                        <a:pt x="73" y="320"/>
                      </a:lnTo>
                      <a:lnTo>
                        <a:pt x="68" y="321"/>
                      </a:lnTo>
                      <a:lnTo>
                        <a:pt x="64" y="323"/>
                      </a:lnTo>
                      <a:lnTo>
                        <a:pt x="59" y="324"/>
                      </a:lnTo>
                      <a:lnTo>
                        <a:pt x="54" y="327"/>
                      </a:lnTo>
                      <a:lnTo>
                        <a:pt x="50" y="328"/>
                      </a:lnTo>
                      <a:lnTo>
                        <a:pt x="45" y="329"/>
                      </a:lnTo>
                      <a:lnTo>
                        <a:pt x="41" y="331"/>
                      </a:lnTo>
                      <a:lnTo>
                        <a:pt x="36" y="332"/>
                      </a:lnTo>
                      <a:lnTo>
                        <a:pt x="31" y="334"/>
                      </a:lnTo>
                      <a:lnTo>
                        <a:pt x="27" y="335"/>
                      </a:lnTo>
                      <a:lnTo>
                        <a:pt x="22" y="336"/>
                      </a:lnTo>
                      <a:lnTo>
                        <a:pt x="17" y="336"/>
                      </a:lnTo>
                      <a:lnTo>
                        <a:pt x="13" y="337"/>
                      </a:lnTo>
                      <a:lnTo>
                        <a:pt x="7" y="337"/>
                      </a:lnTo>
                      <a:lnTo>
                        <a:pt x="2" y="337"/>
                      </a:lnTo>
                      <a:close/>
                      <a:moveTo>
                        <a:pt x="1707" y="283"/>
                      </a:moveTo>
                      <a:lnTo>
                        <a:pt x="1707" y="282"/>
                      </a:lnTo>
                      <a:lnTo>
                        <a:pt x="1706" y="280"/>
                      </a:lnTo>
                      <a:lnTo>
                        <a:pt x="1706" y="279"/>
                      </a:lnTo>
                      <a:lnTo>
                        <a:pt x="1704" y="278"/>
                      </a:lnTo>
                      <a:lnTo>
                        <a:pt x="1704" y="277"/>
                      </a:lnTo>
                      <a:lnTo>
                        <a:pt x="1704" y="276"/>
                      </a:lnTo>
                      <a:lnTo>
                        <a:pt x="1703" y="276"/>
                      </a:lnTo>
                      <a:lnTo>
                        <a:pt x="1703" y="275"/>
                      </a:lnTo>
                      <a:lnTo>
                        <a:pt x="1702" y="274"/>
                      </a:lnTo>
                      <a:lnTo>
                        <a:pt x="1701" y="272"/>
                      </a:lnTo>
                      <a:lnTo>
                        <a:pt x="1700" y="271"/>
                      </a:lnTo>
                      <a:lnTo>
                        <a:pt x="1700" y="270"/>
                      </a:lnTo>
                      <a:lnTo>
                        <a:pt x="1699" y="270"/>
                      </a:lnTo>
                      <a:lnTo>
                        <a:pt x="1697" y="269"/>
                      </a:lnTo>
                      <a:lnTo>
                        <a:pt x="1697" y="268"/>
                      </a:lnTo>
                      <a:lnTo>
                        <a:pt x="1696" y="268"/>
                      </a:lnTo>
                      <a:lnTo>
                        <a:pt x="1695" y="267"/>
                      </a:lnTo>
                      <a:lnTo>
                        <a:pt x="1695" y="265"/>
                      </a:lnTo>
                      <a:lnTo>
                        <a:pt x="1694" y="265"/>
                      </a:lnTo>
                      <a:lnTo>
                        <a:pt x="1694" y="264"/>
                      </a:lnTo>
                      <a:lnTo>
                        <a:pt x="1693" y="263"/>
                      </a:lnTo>
                      <a:lnTo>
                        <a:pt x="1692" y="263"/>
                      </a:lnTo>
                      <a:lnTo>
                        <a:pt x="1692" y="262"/>
                      </a:lnTo>
                      <a:lnTo>
                        <a:pt x="1691" y="261"/>
                      </a:lnTo>
                      <a:lnTo>
                        <a:pt x="1689" y="260"/>
                      </a:lnTo>
                      <a:lnTo>
                        <a:pt x="1688" y="259"/>
                      </a:lnTo>
                      <a:lnTo>
                        <a:pt x="1688" y="257"/>
                      </a:lnTo>
                      <a:lnTo>
                        <a:pt x="1687" y="256"/>
                      </a:lnTo>
                      <a:lnTo>
                        <a:pt x="1687" y="255"/>
                      </a:lnTo>
                      <a:lnTo>
                        <a:pt x="1686" y="255"/>
                      </a:lnTo>
                      <a:lnTo>
                        <a:pt x="1686" y="254"/>
                      </a:lnTo>
                      <a:lnTo>
                        <a:pt x="1685" y="253"/>
                      </a:lnTo>
                      <a:lnTo>
                        <a:pt x="1685" y="252"/>
                      </a:lnTo>
                      <a:lnTo>
                        <a:pt x="1684" y="249"/>
                      </a:lnTo>
                      <a:lnTo>
                        <a:pt x="1684" y="248"/>
                      </a:lnTo>
                      <a:lnTo>
                        <a:pt x="1682" y="247"/>
                      </a:lnTo>
                      <a:lnTo>
                        <a:pt x="1682" y="246"/>
                      </a:lnTo>
                      <a:lnTo>
                        <a:pt x="1681" y="245"/>
                      </a:lnTo>
                      <a:lnTo>
                        <a:pt x="1680" y="244"/>
                      </a:lnTo>
                      <a:lnTo>
                        <a:pt x="1680" y="241"/>
                      </a:lnTo>
                      <a:lnTo>
                        <a:pt x="1679" y="240"/>
                      </a:lnTo>
                      <a:lnTo>
                        <a:pt x="1679" y="239"/>
                      </a:lnTo>
                      <a:lnTo>
                        <a:pt x="1678" y="237"/>
                      </a:lnTo>
                      <a:lnTo>
                        <a:pt x="1677" y="235"/>
                      </a:lnTo>
                      <a:lnTo>
                        <a:pt x="1676" y="234"/>
                      </a:lnTo>
                      <a:lnTo>
                        <a:pt x="1676" y="232"/>
                      </a:lnTo>
                      <a:lnTo>
                        <a:pt x="1674" y="231"/>
                      </a:lnTo>
                      <a:lnTo>
                        <a:pt x="1673" y="230"/>
                      </a:lnTo>
                      <a:lnTo>
                        <a:pt x="1672" y="227"/>
                      </a:lnTo>
                      <a:lnTo>
                        <a:pt x="1672" y="226"/>
                      </a:lnTo>
                      <a:lnTo>
                        <a:pt x="1671" y="225"/>
                      </a:lnTo>
                      <a:lnTo>
                        <a:pt x="1670" y="223"/>
                      </a:lnTo>
                      <a:lnTo>
                        <a:pt x="1669" y="222"/>
                      </a:lnTo>
                      <a:lnTo>
                        <a:pt x="1667" y="220"/>
                      </a:lnTo>
                      <a:lnTo>
                        <a:pt x="1666" y="218"/>
                      </a:lnTo>
                      <a:lnTo>
                        <a:pt x="1665" y="217"/>
                      </a:lnTo>
                      <a:lnTo>
                        <a:pt x="1664" y="216"/>
                      </a:lnTo>
                      <a:lnTo>
                        <a:pt x="1662" y="215"/>
                      </a:lnTo>
                      <a:lnTo>
                        <a:pt x="1661" y="213"/>
                      </a:lnTo>
                      <a:lnTo>
                        <a:pt x="1659" y="212"/>
                      </a:lnTo>
                      <a:lnTo>
                        <a:pt x="1658" y="211"/>
                      </a:lnTo>
                      <a:lnTo>
                        <a:pt x="1656" y="210"/>
                      </a:lnTo>
                      <a:lnTo>
                        <a:pt x="1659" y="210"/>
                      </a:lnTo>
                      <a:lnTo>
                        <a:pt x="1662" y="210"/>
                      </a:lnTo>
                      <a:lnTo>
                        <a:pt x="1665" y="211"/>
                      </a:lnTo>
                      <a:lnTo>
                        <a:pt x="1667" y="211"/>
                      </a:lnTo>
                      <a:lnTo>
                        <a:pt x="1670" y="212"/>
                      </a:lnTo>
                      <a:lnTo>
                        <a:pt x="1672" y="212"/>
                      </a:lnTo>
                      <a:lnTo>
                        <a:pt x="1674" y="213"/>
                      </a:lnTo>
                      <a:lnTo>
                        <a:pt x="1677" y="213"/>
                      </a:lnTo>
                      <a:lnTo>
                        <a:pt x="1679" y="215"/>
                      </a:lnTo>
                      <a:lnTo>
                        <a:pt x="1681" y="216"/>
                      </a:lnTo>
                      <a:lnTo>
                        <a:pt x="1684" y="216"/>
                      </a:lnTo>
                      <a:lnTo>
                        <a:pt x="1686" y="217"/>
                      </a:lnTo>
                      <a:lnTo>
                        <a:pt x="1688" y="218"/>
                      </a:lnTo>
                      <a:lnTo>
                        <a:pt x="1691" y="218"/>
                      </a:lnTo>
                      <a:lnTo>
                        <a:pt x="1693" y="219"/>
                      </a:lnTo>
                      <a:lnTo>
                        <a:pt x="1695" y="220"/>
                      </a:lnTo>
                      <a:lnTo>
                        <a:pt x="1696" y="220"/>
                      </a:lnTo>
                      <a:lnTo>
                        <a:pt x="1699" y="222"/>
                      </a:lnTo>
                      <a:lnTo>
                        <a:pt x="1701" y="223"/>
                      </a:lnTo>
                      <a:lnTo>
                        <a:pt x="1703" y="223"/>
                      </a:lnTo>
                      <a:lnTo>
                        <a:pt x="1706" y="224"/>
                      </a:lnTo>
                      <a:lnTo>
                        <a:pt x="1708" y="225"/>
                      </a:lnTo>
                      <a:lnTo>
                        <a:pt x="1710" y="225"/>
                      </a:lnTo>
                      <a:lnTo>
                        <a:pt x="1711" y="226"/>
                      </a:lnTo>
                      <a:lnTo>
                        <a:pt x="1714" y="226"/>
                      </a:lnTo>
                      <a:lnTo>
                        <a:pt x="1716" y="227"/>
                      </a:lnTo>
                      <a:lnTo>
                        <a:pt x="1719" y="227"/>
                      </a:lnTo>
                      <a:lnTo>
                        <a:pt x="1722" y="227"/>
                      </a:lnTo>
                      <a:lnTo>
                        <a:pt x="1724" y="229"/>
                      </a:lnTo>
                      <a:lnTo>
                        <a:pt x="1726" y="229"/>
                      </a:lnTo>
                      <a:lnTo>
                        <a:pt x="1730" y="229"/>
                      </a:lnTo>
                      <a:lnTo>
                        <a:pt x="1732" y="229"/>
                      </a:lnTo>
                      <a:lnTo>
                        <a:pt x="1732" y="230"/>
                      </a:lnTo>
                      <a:lnTo>
                        <a:pt x="1732" y="232"/>
                      </a:lnTo>
                      <a:lnTo>
                        <a:pt x="1732" y="233"/>
                      </a:lnTo>
                      <a:lnTo>
                        <a:pt x="1732" y="234"/>
                      </a:lnTo>
                      <a:lnTo>
                        <a:pt x="1732" y="235"/>
                      </a:lnTo>
                      <a:lnTo>
                        <a:pt x="1731" y="237"/>
                      </a:lnTo>
                      <a:lnTo>
                        <a:pt x="1731" y="238"/>
                      </a:lnTo>
                      <a:lnTo>
                        <a:pt x="1731" y="239"/>
                      </a:lnTo>
                      <a:lnTo>
                        <a:pt x="1731" y="240"/>
                      </a:lnTo>
                      <a:lnTo>
                        <a:pt x="1731" y="242"/>
                      </a:lnTo>
                      <a:lnTo>
                        <a:pt x="1731" y="244"/>
                      </a:lnTo>
                      <a:lnTo>
                        <a:pt x="1731" y="245"/>
                      </a:lnTo>
                      <a:lnTo>
                        <a:pt x="1731" y="246"/>
                      </a:lnTo>
                      <a:lnTo>
                        <a:pt x="1730" y="247"/>
                      </a:lnTo>
                      <a:lnTo>
                        <a:pt x="1730" y="248"/>
                      </a:lnTo>
                      <a:lnTo>
                        <a:pt x="1730" y="249"/>
                      </a:lnTo>
                      <a:lnTo>
                        <a:pt x="1730" y="250"/>
                      </a:lnTo>
                      <a:lnTo>
                        <a:pt x="1730" y="252"/>
                      </a:lnTo>
                      <a:lnTo>
                        <a:pt x="1730" y="253"/>
                      </a:lnTo>
                      <a:lnTo>
                        <a:pt x="1730" y="254"/>
                      </a:lnTo>
                      <a:lnTo>
                        <a:pt x="1730" y="255"/>
                      </a:lnTo>
                      <a:lnTo>
                        <a:pt x="1730" y="256"/>
                      </a:lnTo>
                      <a:lnTo>
                        <a:pt x="1729" y="257"/>
                      </a:lnTo>
                      <a:lnTo>
                        <a:pt x="1729" y="259"/>
                      </a:lnTo>
                      <a:lnTo>
                        <a:pt x="1729" y="260"/>
                      </a:lnTo>
                      <a:lnTo>
                        <a:pt x="1729" y="261"/>
                      </a:lnTo>
                      <a:lnTo>
                        <a:pt x="1729" y="262"/>
                      </a:lnTo>
                      <a:lnTo>
                        <a:pt x="1729" y="263"/>
                      </a:lnTo>
                      <a:lnTo>
                        <a:pt x="1729" y="264"/>
                      </a:lnTo>
                      <a:lnTo>
                        <a:pt x="1729" y="265"/>
                      </a:lnTo>
                      <a:lnTo>
                        <a:pt x="1729" y="267"/>
                      </a:lnTo>
                      <a:lnTo>
                        <a:pt x="1728" y="268"/>
                      </a:lnTo>
                      <a:lnTo>
                        <a:pt x="1728" y="269"/>
                      </a:lnTo>
                      <a:lnTo>
                        <a:pt x="1726" y="269"/>
                      </a:lnTo>
                      <a:lnTo>
                        <a:pt x="1725" y="270"/>
                      </a:lnTo>
                      <a:lnTo>
                        <a:pt x="1724" y="271"/>
                      </a:lnTo>
                      <a:lnTo>
                        <a:pt x="1724" y="272"/>
                      </a:lnTo>
                      <a:lnTo>
                        <a:pt x="1723" y="272"/>
                      </a:lnTo>
                      <a:lnTo>
                        <a:pt x="1723" y="274"/>
                      </a:lnTo>
                      <a:lnTo>
                        <a:pt x="1722" y="274"/>
                      </a:lnTo>
                      <a:lnTo>
                        <a:pt x="1722" y="275"/>
                      </a:lnTo>
                      <a:lnTo>
                        <a:pt x="1721" y="275"/>
                      </a:lnTo>
                      <a:lnTo>
                        <a:pt x="1721" y="276"/>
                      </a:lnTo>
                      <a:lnTo>
                        <a:pt x="1719" y="276"/>
                      </a:lnTo>
                      <a:lnTo>
                        <a:pt x="1719" y="277"/>
                      </a:lnTo>
                      <a:lnTo>
                        <a:pt x="1718" y="277"/>
                      </a:lnTo>
                      <a:lnTo>
                        <a:pt x="1717" y="278"/>
                      </a:lnTo>
                      <a:lnTo>
                        <a:pt x="1716" y="278"/>
                      </a:lnTo>
                      <a:lnTo>
                        <a:pt x="1716" y="279"/>
                      </a:lnTo>
                      <a:lnTo>
                        <a:pt x="1715" y="279"/>
                      </a:lnTo>
                      <a:lnTo>
                        <a:pt x="1714" y="280"/>
                      </a:lnTo>
                      <a:lnTo>
                        <a:pt x="1713" y="280"/>
                      </a:lnTo>
                      <a:lnTo>
                        <a:pt x="1711" y="280"/>
                      </a:lnTo>
                      <a:lnTo>
                        <a:pt x="1710" y="282"/>
                      </a:lnTo>
                      <a:lnTo>
                        <a:pt x="1709" y="282"/>
                      </a:lnTo>
                      <a:lnTo>
                        <a:pt x="1708" y="282"/>
                      </a:lnTo>
                      <a:lnTo>
                        <a:pt x="1707" y="283"/>
                      </a:lnTo>
                      <a:close/>
                      <a:moveTo>
                        <a:pt x="1176" y="100"/>
                      </a:moveTo>
                      <a:lnTo>
                        <a:pt x="1179" y="100"/>
                      </a:lnTo>
                      <a:lnTo>
                        <a:pt x="1180" y="99"/>
                      </a:lnTo>
                      <a:lnTo>
                        <a:pt x="1182" y="99"/>
                      </a:lnTo>
                      <a:lnTo>
                        <a:pt x="1184" y="99"/>
                      </a:lnTo>
                      <a:lnTo>
                        <a:pt x="1186" y="99"/>
                      </a:lnTo>
                      <a:lnTo>
                        <a:pt x="1188" y="98"/>
                      </a:lnTo>
                      <a:lnTo>
                        <a:pt x="1189" y="98"/>
                      </a:lnTo>
                      <a:lnTo>
                        <a:pt x="1190" y="98"/>
                      </a:lnTo>
                      <a:lnTo>
                        <a:pt x="1193" y="97"/>
                      </a:lnTo>
                      <a:lnTo>
                        <a:pt x="1194" y="97"/>
                      </a:lnTo>
                      <a:lnTo>
                        <a:pt x="1195" y="96"/>
                      </a:lnTo>
                      <a:lnTo>
                        <a:pt x="1196" y="96"/>
                      </a:lnTo>
                      <a:lnTo>
                        <a:pt x="1197" y="96"/>
                      </a:lnTo>
                      <a:lnTo>
                        <a:pt x="1198" y="95"/>
                      </a:lnTo>
                      <a:lnTo>
                        <a:pt x="1199" y="95"/>
                      </a:lnTo>
                      <a:lnTo>
                        <a:pt x="1201" y="93"/>
                      </a:lnTo>
                      <a:lnTo>
                        <a:pt x="1202" y="93"/>
                      </a:lnTo>
                      <a:lnTo>
                        <a:pt x="1203" y="93"/>
                      </a:lnTo>
                      <a:lnTo>
                        <a:pt x="1204" y="92"/>
                      </a:lnTo>
                      <a:lnTo>
                        <a:pt x="1205" y="92"/>
                      </a:lnTo>
                      <a:lnTo>
                        <a:pt x="1206" y="92"/>
                      </a:lnTo>
                      <a:lnTo>
                        <a:pt x="1206" y="91"/>
                      </a:lnTo>
                      <a:lnTo>
                        <a:pt x="1208" y="91"/>
                      </a:lnTo>
                      <a:lnTo>
                        <a:pt x="1209" y="91"/>
                      </a:lnTo>
                      <a:lnTo>
                        <a:pt x="1210" y="91"/>
                      </a:lnTo>
                      <a:lnTo>
                        <a:pt x="1211" y="91"/>
                      </a:lnTo>
                      <a:lnTo>
                        <a:pt x="1212" y="91"/>
                      </a:lnTo>
                      <a:lnTo>
                        <a:pt x="1213" y="91"/>
                      </a:lnTo>
                      <a:lnTo>
                        <a:pt x="1214" y="91"/>
                      </a:lnTo>
                      <a:lnTo>
                        <a:pt x="1216" y="91"/>
                      </a:lnTo>
                      <a:lnTo>
                        <a:pt x="1217" y="91"/>
                      </a:lnTo>
                      <a:lnTo>
                        <a:pt x="1218" y="92"/>
                      </a:lnTo>
                      <a:lnTo>
                        <a:pt x="1219" y="92"/>
                      </a:lnTo>
                      <a:lnTo>
                        <a:pt x="1220" y="92"/>
                      </a:lnTo>
                      <a:lnTo>
                        <a:pt x="1221" y="93"/>
                      </a:lnTo>
                      <a:lnTo>
                        <a:pt x="1223" y="93"/>
                      </a:lnTo>
                      <a:lnTo>
                        <a:pt x="1224" y="95"/>
                      </a:lnTo>
                      <a:lnTo>
                        <a:pt x="1225" y="95"/>
                      </a:lnTo>
                      <a:lnTo>
                        <a:pt x="1226" y="96"/>
                      </a:lnTo>
                      <a:lnTo>
                        <a:pt x="1227" y="97"/>
                      </a:lnTo>
                      <a:lnTo>
                        <a:pt x="1228" y="98"/>
                      </a:lnTo>
                      <a:lnTo>
                        <a:pt x="1230" y="98"/>
                      </a:lnTo>
                      <a:lnTo>
                        <a:pt x="1232" y="99"/>
                      </a:lnTo>
                      <a:lnTo>
                        <a:pt x="1233" y="100"/>
                      </a:lnTo>
                      <a:lnTo>
                        <a:pt x="1234" y="101"/>
                      </a:lnTo>
                      <a:lnTo>
                        <a:pt x="1235" y="103"/>
                      </a:lnTo>
                      <a:lnTo>
                        <a:pt x="1236" y="104"/>
                      </a:lnTo>
                      <a:lnTo>
                        <a:pt x="1238" y="105"/>
                      </a:lnTo>
                      <a:lnTo>
                        <a:pt x="1240" y="106"/>
                      </a:lnTo>
                      <a:lnTo>
                        <a:pt x="1241" y="107"/>
                      </a:lnTo>
                      <a:lnTo>
                        <a:pt x="1242" y="108"/>
                      </a:lnTo>
                      <a:lnTo>
                        <a:pt x="1243" y="110"/>
                      </a:lnTo>
                      <a:lnTo>
                        <a:pt x="1246" y="112"/>
                      </a:lnTo>
                      <a:lnTo>
                        <a:pt x="1247" y="113"/>
                      </a:lnTo>
                      <a:lnTo>
                        <a:pt x="1248" y="114"/>
                      </a:lnTo>
                      <a:lnTo>
                        <a:pt x="1249" y="115"/>
                      </a:lnTo>
                      <a:lnTo>
                        <a:pt x="1250" y="118"/>
                      </a:lnTo>
                      <a:lnTo>
                        <a:pt x="1253" y="119"/>
                      </a:lnTo>
                      <a:lnTo>
                        <a:pt x="1254" y="120"/>
                      </a:lnTo>
                      <a:lnTo>
                        <a:pt x="1255" y="122"/>
                      </a:lnTo>
                      <a:lnTo>
                        <a:pt x="1256" y="123"/>
                      </a:lnTo>
                      <a:lnTo>
                        <a:pt x="1258" y="126"/>
                      </a:lnTo>
                      <a:lnTo>
                        <a:pt x="1258" y="127"/>
                      </a:lnTo>
                      <a:lnTo>
                        <a:pt x="1258" y="128"/>
                      </a:lnTo>
                      <a:lnTo>
                        <a:pt x="1258" y="129"/>
                      </a:lnTo>
                      <a:lnTo>
                        <a:pt x="1260" y="130"/>
                      </a:lnTo>
                      <a:lnTo>
                        <a:pt x="1260" y="131"/>
                      </a:lnTo>
                      <a:lnTo>
                        <a:pt x="1260" y="133"/>
                      </a:lnTo>
                      <a:lnTo>
                        <a:pt x="1260" y="134"/>
                      </a:lnTo>
                      <a:lnTo>
                        <a:pt x="1260" y="135"/>
                      </a:lnTo>
                      <a:lnTo>
                        <a:pt x="1260" y="136"/>
                      </a:lnTo>
                      <a:lnTo>
                        <a:pt x="1260" y="137"/>
                      </a:lnTo>
                      <a:lnTo>
                        <a:pt x="1260" y="138"/>
                      </a:lnTo>
                      <a:lnTo>
                        <a:pt x="1258" y="140"/>
                      </a:lnTo>
                      <a:lnTo>
                        <a:pt x="1258" y="141"/>
                      </a:lnTo>
                      <a:lnTo>
                        <a:pt x="1257" y="142"/>
                      </a:lnTo>
                      <a:lnTo>
                        <a:pt x="1256" y="143"/>
                      </a:lnTo>
                      <a:lnTo>
                        <a:pt x="1256" y="144"/>
                      </a:lnTo>
                      <a:lnTo>
                        <a:pt x="1255" y="144"/>
                      </a:lnTo>
                      <a:lnTo>
                        <a:pt x="1255" y="145"/>
                      </a:lnTo>
                      <a:lnTo>
                        <a:pt x="1254" y="146"/>
                      </a:lnTo>
                      <a:lnTo>
                        <a:pt x="1253" y="146"/>
                      </a:lnTo>
                      <a:lnTo>
                        <a:pt x="1254" y="148"/>
                      </a:lnTo>
                      <a:lnTo>
                        <a:pt x="1254" y="149"/>
                      </a:lnTo>
                      <a:lnTo>
                        <a:pt x="1254" y="150"/>
                      </a:lnTo>
                      <a:lnTo>
                        <a:pt x="1255" y="150"/>
                      </a:lnTo>
                      <a:lnTo>
                        <a:pt x="1255" y="151"/>
                      </a:lnTo>
                      <a:lnTo>
                        <a:pt x="1256" y="151"/>
                      </a:lnTo>
                      <a:lnTo>
                        <a:pt x="1256" y="152"/>
                      </a:lnTo>
                      <a:lnTo>
                        <a:pt x="1257" y="152"/>
                      </a:lnTo>
                      <a:lnTo>
                        <a:pt x="1257" y="153"/>
                      </a:lnTo>
                      <a:lnTo>
                        <a:pt x="1258" y="155"/>
                      </a:lnTo>
                      <a:lnTo>
                        <a:pt x="1258" y="156"/>
                      </a:lnTo>
                      <a:lnTo>
                        <a:pt x="1260" y="156"/>
                      </a:lnTo>
                      <a:lnTo>
                        <a:pt x="1260" y="157"/>
                      </a:lnTo>
                      <a:lnTo>
                        <a:pt x="1261" y="158"/>
                      </a:lnTo>
                      <a:lnTo>
                        <a:pt x="1261" y="159"/>
                      </a:lnTo>
                      <a:lnTo>
                        <a:pt x="1261" y="160"/>
                      </a:lnTo>
                      <a:lnTo>
                        <a:pt x="1262" y="162"/>
                      </a:lnTo>
                      <a:lnTo>
                        <a:pt x="1262" y="163"/>
                      </a:lnTo>
                      <a:lnTo>
                        <a:pt x="1262" y="164"/>
                      </a:lnTo>
                      <a:lnTo>
                        <a:pt x="1262" y="165"/>
                      </a:lnTo>
                      <a:lnTo>
                        <a:pt x="1262" y="166"/>
                      </a:lnTo>
                      <a:lnTo>
                        <a:pt x="1262" y="167"/>
                      </a:lnTo>
                      <a:lnTo>
                        <a:pt x="1262" y="170"/>
                      </a:lnTo>
                      <a:lnTo>
                        <a:pt x="1261" y="171"/>
                      </a:lnTo>
                      <a:lnTo>
                        <a:pt x="1261" y="173"/>
                      </a:lnTo>
                      <a:lnTo>
                        <a:pt x="1261" y="175"/>
                      </a:lnTo>
                      <a:lnTo>
                        <a:pt x="1261" y="177"/>
                      </a:lnTo>
                      <a:lnTo>
                        <a:pt x="1260" y="178"/>
                      </a:lnTo>
                      <a:lnTo>
                        <a:pt x="1260" y="179"/>
                      </a:lnTo>
                      <a:lnTo>
                        <a:pt x="1258" y="180"/>
                      </a:lnTo>
                      <a:lnTo>
                        <a:pt x="1258" y="181"/>
                      </a:lnTo>
                      <a:lnTo>
                        <a:pt x="1257" y="182"/>
                      </a:lnTo>
                      <a:lnTo>
                        <a:pt x="1256" y="183"/>
                      </a:lnTo>
                      <a:lnTo>
                        <a:pt x="1255" y="185"/>
                      </a:lnTo>
                      <a:lnTo>
                        <a:pt x="1255" y="186"/>
                      </a:lnTo>
                      <a:lnTo>
                        <a:pt x="1254" y="186"/>
                      </a:lnTo>
                      <a:lnTo>
                        <a:pt x="1254" y="187"/>
                      </a:lnTo>
                      <a:lnTo>
                        <a:pt x="1253" y="187"/>
                      </a:lnTo>
                      <a:lnTo>
                        <a:pt x="1253" y="188"/>
                      </a:lnTo>
                      <a:lnTo>
                        <a:pt x="1251" y="188"/>
                      </a:lnTo>
                      <a:lnTo>
                        <a:pt x="1251" y="189"/>
                      </a:lnTo>
                      <a:lnTo>
                        <a:pt x="1250" y="189"/>
                      </a:lnTo>
                      <a:lnTo>
                        <a:pt x="1250" y="190"/>
                      </a:lnTo>
                      <a:lnTo>
                        <a:pt x="1249" y="190"/>
                      </a:lnTo>
                      <a:lnTo>
                        <a:pt x="1249" y="192"/>
                      </a:lnTo>
                      <a:lnTo>
                        <a:pt x="1248" y="192"/>
                      </a:lnTo>
                      <a:lnTo>
                        <a:pt x="1248" y="193"/>
                      </a:lnTo>
                      <a:lnTo>
                        <a:pt x="1247" y="193"/>
                      </a:lnTo>
                      <a:lnTo>
                        <a:pt x="1247" y="194"/>
                      </a:lnTo>
                      <a:lnTo>
                        <a:pt x="1246" y="194"/>
                      </a:lnTo>
                      <a:lnTo>
                        <a:pt x="1246" y="195"/>
                      </a:lnTo>
                      <a:lnTo>
                        <a:pt x="1245" y="196"/>
                      </a:lnTo>
                      <a:lnTo>
                        <a:pt x="1243" y="197"/>
                      </a:lnTo>
                      <a:lnTo>
                        <a:pt x="1243" y="198"/>
                      </a:lnTo>
                      <a:lnTo>
                        <a:pt x="1242" y="198"/>
                      </a:lnTo>
                      <a:lnTo>
                        <a:pt x="1241" y="198"/>
                      </a:lnTo>
                      <a:lnTo>
                        <a:pt x="1240" y="198"/>
                      </a:lnTo>
                      <a:lnTo>
                        <a:pt x="1238" y="198"/>
                      </a:lnTo>
                      <a:lnTo>
                        <a:pt x="1236" y="198"/>
                      </a:lnTo>
                      <a:lnTo>
                        <a:pt x="1234" y="198"/>
                      </a:lnTo>
                      <a:lnTo>
                        <a:pt x="1232" y="200"/>
                      </a:lnTo>
                      <a:lnTo>
                        <a:pt x="1231" y="200"/>
                      </a:lnTo>
                      <a:lnTo>
                        <a:pt x="1228" y="200"/>
                      </a:lnTo>
                      <a:lnTo>
                        <a:pt x="1226" y="200"/>
                      </a:lnTo>
                      <a:lnTo>
                        <a:pt x="1224" y="200"/>
                      </a:lnTo>
                      <a:lnTo>
                        <a:pt x="1220" y="200"/>
                      </a:lnTo>
                      <a:lnTo>
                        <a:pt x="1218" y="201"/>
                      </a:lnTo>
                      <a:lnTo>
                        <a:pt x="1216" y="201"/>
                      </a:lnTo>
                      <a:lnTo>
                        <a:pt x="1213" y="201"/>
                      </a:lnTo>
                      <a:lnTo>
                        <a:pt x="1211" y="201"/>
                      </a:lnTo>
                      <a:lnTo>
                        <a:pt x="1209" y="201"/>
                      </a:lnTo>
                      <a:lnTo>
                        <a:pt x="1206" y="201"/>
                      </a:lnTo>
                      <a:lnTo>
                        <a:pt x="1204" y="201"/>
                      </a:lnTo>
                      <a:lnTo>
                        <a:pt x="1202" y="201"/>
                      </a:lnTo>
                      <a:lnTo>
                        <a:pt x="1199" y="201"/>
                      </a:lnTo>
                      <a:lnTo>
                        <a:pt x="1197" y="201"/>
                      </a:lnTo>
                      <a:lnTo>
                        <a:pt x="1195" y="201"/>
                      </a:lnTo>
                      <a:lnTo>
                        <a:pt x="1193" y="200"/>
                      </a:lnTo>
                      <a:lnTo>
                        <a:pt x="1191" y="200"/>
                      </a:lnTo>
                      <a:lnTo>
                        <a:pt x="1189" y="200"/>
                      </a:lnTo>
                      <a:lnTo>
                        <a:pt x="1188" y="198"/>
                      </a:lnTo>
                      <a:lnTo>
                        <a:pt x="1187" y="198"/>
                      </a:lnTo>
                      <a:lnTo>
                        <a:pt x="1186" y="197"/>
                      </a:lnTo>
                      <a:lnTo>
                        <a:pt x="1184" y="197"/>
                      </a:lnTo>
                      <a:lnTo>
                        <a:pt x="1183" y="196"/>
                      </a:lnTo>
                      <a:lnTo>
                        <a:pt x="1183" y="195"/>
                      </a:lnTo>
                      <a:lnTo>
                        <a:pt x="1181" y="195"/>
                      </a:lnTo>
                      <a:lnTo>
                        <a:pt x="1180" y="195"/>
                      </a:lnTo>
                      <a:lnTo>
                        <a:pt x="1179" y="195"/>
                      </a:lnTo>
                      <a:lnTo>
                        <a:pt x="1176" y="195"/>
                      </a:lnTo>
                      <a:lnTo>
                        <a:pt x="1175" y="194"/>
                      </a:lnTo>
                      <a:lnTo>
                        <a:pt x="1174" y="194"/>
                      </a:lnTo>
                      <a:lnTo>
                        <a:pt x="1173" y="194"/>
                      </a:lnTo>
                      <a:lnTo>
                        <a:pt x="1172" y="194"/>
                      </a:lnTo>
                      <a:lnTo>
                        <a:pt x="1171" y="193"/>
                      </a:lnTo>
                      <a:lnTo>
                        <a:pt x="1169" y="193"/>
                      </a:lnTo>
                      <a:lnTo>
                        <a:pt x="1168" y="193"/>
                      </a:lnTo>
                      <a:lnTo>
                        <a:pt x="1167" y="192"/>
                      </a:lnTo>
                      <a:lnTo>
                        <a:pt x="1166" y="192"/>
                      </a:lnTo>
                      <a:lnTo>
                        <a:pt x="1165" y="192"/>
                      </a:lnTo>
                      <a:lnTo>
                        <a:pt x="1165" y="190"/>
                      </a:lnTo>
                      <a:lnTo>
                        <a:pt x="1164" y="190"/>
                      </a:lnTo>
                      <a:lnTo>
                        <a:pt x="1163" y="189"/>
                      </a:lnTo>
                      <a:lnTo>
                        <a:pt x="1161" y="188"/>
                      </a:lnTo>
                      <a:lnTo>
                        <a:pt x="1160" y="188"/>
                      </a:lnTo>
                      <a:lnTo>
                        <a:pt x="1160" y="187"/>
                      </a:lnTo>
                      <a:lnTo>
                        <a:pt x="1159" y="187"/>
                      </a:lnTo>
                      <a:lnTo>
                        <a:pt x="1159" y="186"/>
                      </a:lnTo>
                      <a:lnTo>
                        <a:pt x="1158" y="185"/>
                      </a:lnTo>
                      <a:lnTo>
                        <a:pt x="1157" y="185"/>
                      </a:lnTo>
                      <a:lnTo>
                        <a:pt x="1157" y="183"/>
                      </a:lnTo>
                      <a:lnTo>
                        <a:pt x="1156" y="182"/>
                      </a:lnTo>
                      <a:lnTo>
                        <a:pt x="1156" y="181"/>
                      </a:lnTo>
                      <a:lnTo>
                        <a:pt x="1154" y="180"/>
                      </a:lnTo>
                      <a:lnTo>
                        <a:pt x="1153" y="179"/>
                      </a:lnTo>
                      <a:lnTo>
                        <a:pt x="1153" y="178"/>
                      </a:lnTo>
                      <a:lnTo>
                        <a:pt x="1152" y="178"/>
                      </a:lnTo>
                      <a:lnTo>
                        <a:pt x="1151" y="178"/>
                      </a:lnTo>
                      <a:lnTo>
                        <a:pt x="1150" y="177"/>
                      </a:lnTo>
                      <a:lnTo>
                        <a:pt x="1149" y="177"/>
                      </a:lnTo>
                      <a:lnTo>
                        <a:pt x="1147" y="175"/>
                      </a:lnTo>
                      <a:lnTo>
                        <a:pt x="1146" y="175"/>
                      </a:lnTo>
                      <a:lnTo>
                        <a:pt x="1146" y="174"/>
                      </a:lnTo>
                      <a:lnTo>
                        <a:pt x="1145" y="174"/>
                      </a:lnTo>
                      <a:lnTo>
                        <a:pt x="1144" y="173"/>
                      </a:lnTo>
                      <a:lnTo>
                        <a:pt x="1143" y="173"/>
                      </a:lnTo>
                      <a:lnTo>
                        <a:pt x="1142" y="172"/>
                      </a:lnTo>
                      <a:lnTo>
                        <a:pt x="1141" y="172"/>
                      </a:lnTo>
                      <a:lnTo>
                        <a:pt x="1139" y="171"/>
                      </a:lnTo>
                      <a:lnTo>
                        <a:pt x="1138" y="170"/>
                      </a:lnTo>
                      <a:lnTo>
                        <a:pt x="1137" y="170"/>
                      </a:lnTo>
                      <a:lnTo>
                        <a:pt x="1137" y="168"/>
                      </a:lnTo>
                      <a:lnTo>
                        <a:pt x="1136" y="168"/>
                      </a:lnTo>
                      <a:lnTo>
                        <a:pt x="1135" y="168"/>
                      </a:lnTo>
                      <a:lnTo>
                        <a:pt x="1135" y="167"/>
                      </a:lnTo>
                      <a:lnTo>
                        <a:pt x="1134" y="167"/>
                      </a:lnTo>
                      <a:lnTo>
                        <a:pt x="1134" y="166"/>
                      </a:lnTo>
                      <a:lnTo>
                        <a:pt x="1132" y="166"/>
                      </a:lnTo>
                      <a:lnTo>
                        <a:pt x="1131" y="165"/>
                      </a:lnTo>
                      <a:lnTo>
                        <a:pt x="1130" y="165"/>
                      </a:lnTo>
                      <a:lnTo>
                        <a:pt x="1130" y="164"/>
                      </a:lnTo>
                      <a:lnTo>
                        <a:pt x="1129" y="164"/>
                      </a:lnTo>
                      <a:lnTo>
                        <a:pt x="1128" y="163"/>
                      </a:lnTo>
                      <a:lnTo>
                        <a:pt x="1127" y="163"/>
                      </a:lnTo>
                      <a:lnTo>
                        <a:pt x="1127" y="162"/>
                      </a:lnTo>
                      <a:lnTo>
                        <a:pt x="1126" y="162"/>
                      </a:lnTo>
                      <a:lnTo>
                        <a:pt x="1124" y="160"/>
                      </a:lnTo>
                      <a:lnTo>
                        <a:pt x="1123" y="160"/>
                      </a:lnTo>
                      <a:lnTo>
                        <a:pt x="1123" y="159"/>
                      </a:lnTo>
                      <a:lnTo>
                        <a:pt x="1122" y="158"/>
                      </a:lnTo>
                      <a:lnTo>
                        <a:pt x="1121" y="157"/>
                      </a:lnTo>
                      <a:lnTo>
                        <a:pt x="1121" y="156"/>
                      </a:lnTo>
                      <a:lnTo>
                        <a:pt x="1120" y="155"/>
                      </a:lnTo>
                      <a:lnTo>
                        <a:pt x="1120" y="153"/>
                      </a:lnTo>
                      <a:lnTo>
                        <a:pt x="1120" y="152"/>
                      </a:lnTo>
                      <a:lnTo>
                        <a:pt x="1120" y="151"/>
                      </a:lnTo>
                      <a:lnTo>
                        <a:pt x="1120" y="150"/>
                      </a:lnTo>
                      <a:lnTo>
                        <a:pt x="1120" y="149"/>
                      </a:lnTo>
                      <a:lnTo>
                        <a:pt x="1120" y="148"/>
                      </a:lnTo>
                      <a:lnTo>
                        <a:pt x="1120" y="146"/>
                      </a:lnTo>
                      <a:lnTo>
                        <a:pt x="1120" y="145"/>
                      </a:lnTo>
                      <a:lnTo>
                        <a:pt x="1120" y="144"/>
                      </a:lnTo>
                      <a:lnTo>
                        <a:pt x="1121" y="144"/>
                      </a:lnTo>
                      <a:lnTo>
                        <a:pt x="1121" y="143"/>
                      </a:lnTo>
                      <a:lnTo>
                        <a:pt x="1122" y="142"/>
                      </a:lnTo>
                      <a:lnTo>
                        <a:pt x="1123" y="142"/>
                      </a:lnTo>
                      <a:lnTo>
                        <a:pt x="1124" y="142"/>
                      </a:lnTo>
                      <a:lnTo>
                        <a:pt x="1126" y="141"/>
                      </a:lnTo>
                      <a:lnTo>
                        <a:pt x="1127" y="141"/>
                      </a:lnTo>
                      <a:lnTo>
                        <a:pt x="1128" y="141"/>
                      </a:lnTo>
                      <a:lnTo>
                        <a:pt x="1129" y="141"/>
                      </a:lnTo>
                      <a:lnTo>
                        <a:pt x="1130" y="140"/>
                      </a:lnTo>
                      <a:lnTo>
                        <a:pt x="1131" y="140"/>
                      </a:lnTo>
                      <a:lnTo>
                        <a:pt x="1132" y="140"/>
                      </a:lnTo>
                      <a:lnTo>
                        <a:pt x="1134" y="140"/>
                      </a:lnTo>
                      <a:lnTo>
                        <a:pt x="1135" y="140"/>
                      </a:lnTo>
                      <a:lnTo>
                        <a:pt x="1136" y="141"/>
                      </a:lnTo>
                      <a:lnTo>
                        <a:pt x="1137" y="141"/>
                      </a:lnTo>
                      <a:lnTo>
                        <a:pt x="1138" y="141"/>
                      </a:lnTo>
                      <a:lnTo>
                        <a:pt x="1139" y="141"/>
                      </a:lnTo>
                      <a:lnTo>
                        <a:pt x="1142" y="141"/>
                      </a:lnTo>
                      <a:lnTo>
                        <a:pt x="1143" y="142"/>
                      </a:lnTo>
                      <a:lnTo>
                        <a:pt x="1144" y="142"/>
                      </a:lnTo>
                      <a:lnTo>
                        <a:pt x="1145" y="142"/>
                      </a:lnTo>
                      <a:lnTo>
                        <a:pt x="1146" y="143"/>
                      </a:lnTo>
                      <a:lnTo>
                        <a:pt x="1147" y="143"/>
                      </a:lnTo>
                      <a:lnTo>
                        <a:pt x="1149" y="144"/>
                      </a:lnTo>
                      <a:lnTo>
                        <a:pt x="1150" y="144"/>
                      </a:lnTo>
                      <a:lnTo>
                        <a:pt x="1151" y="145"/>
                      </a:lnTo>
                      <a:lnTo>
                        <a:pt x="1152" y="145"/>
                      </a:lnTo>
                      <a:lnTo>
                        <a:pt x="1153" y="145"/>
                      </a:lnTo>
                      <a:lnTo>
                        <a:pt x="1153" y="146"/>
                      </a:lnTo>
                      <a:lnTo>
                        <a:pt x="1154" y="146"/>
                      </a:lnTo>
                      <a:lnTo>
                        <a:pt x="1154" y="145"/>
                      </a:lnTo>
                      <a:lnTo>
                        <a:pt x="1153" y="144"/>
                      </a:lnTo>
                      <a:lnTo>
                        <a:pt x="1153" y="143"/>
                      </a:lnTo>
                      <a:lnTo>
                        <a:pt x="1153" y="142"/>
                      </a:lnTo>
                      <a:lnTo>
                        <a:pt x="1153" y="141"/>
                      </a:lnTo>
                      <a:lnTo>
                        <a:pt x="1153" y="138"/>
                      </a:lnTo>
                      <a:lnTo>
                        <a:pt x="1153" y="137"/>
                      </a:lnTo>
                      <a:lnTo>
                        <a:pt x="1153" y="136"/>
                      </a:lnTo>
                      <a:lnTo>
                        <a:pt x="1154" y="136"/>
                      </a:lnTo>
                      <a:lnTo>
                        <a:pt x="1154" y="135"/>
                      </a:lnTo>
                      <a:lnTo>
                        <a:pt x="1154" y="134"/>
                      </a:lnTo>
                      <a:lnTo>
                        <a:pt x="1156" y="133"/>
                      </a:lnTo>
                      <a:lnTo>
                        <a:pt x="1156" y="131"/>
                      </a:lnTo>
                      <a:lnTo>
                        <a:pt x="1157" y="130"/>
                      </a:lnTo>
                      <a:lnTo>
                        <a:pt x="1158" y="130"/>
                      </a:lnTo>
                      <a:lnTo>
                        <a:pt x="1158" y="129"/>
                      </a:lnTo>
                      <a:lnTo>
                        <a:pt x="1159" y="128"/>
                      </a:lnTo>
                      <a:lnTo>
                        <a:pt x="1160" y="128"/>
                      </a:lnTo>
                      <a:lnTo>
                        <a:pt x="1161" y="127"/>
                      </a:lnTo>
                      <a:lnTo>
                        <a:pt x="1163" y="127"/>
                      </a:lnTo>
                      <a:lnTo>
                        <a:pt x="1164" y="126"/>
                      </a:lnTo>
                      <a:lnTo>
                        <a:pt x="1166" y="126"/>
                      </a:lnTo>
                      <a:lnTo>
                        <a:pt x="1167" y="126"/>
                      </a:lnTo>
                      <a:lnTo>
                        <a:pt x="1168" y="126"/>
                      </a:lnTo>
                      <a:lnTo>
                        <a:pt x="1169" y="125"/>
                      </a:lnTo>
                      <a:lnTo>
                        <a:pt x="1171" y="125"/>
                      </a:lnTo>
                      <a:lnTo>
                        <a:pt x="1173" y="125"/>
                      </a:lnTo>
                      <a:lnTo>
                        <a:pt x="1174" y="126"/>
                      </a:lnTo>
                      <a:lnTo>
                        <a:pt x="1175" y="126"/>
                      </a:lnTo>
                      <a:lnTo>
                        <a:pt x="1178" y="126"/>
                      </a:lnTo>
                      <a:lnTo>
                        <a:pt x="1179" y="126"/>
                      </a:lnTo>
                      <a:lnTo>
                        <a:pt x="1179" y="125"/>
                      </a:lnTo>
                      <a:lnTo>
                        <a:pt x="1179" y="123"/>
                      </a:lnTo>
                      <a:lnTo>
                        <a:pt x="1179" y="122"/>
                      </a:lnTo>
                      <a:lnTo>
                        <a:pt x="1179" y="121"/>
                      </a:lnTo>
                      <a:lnTo>
                        <a:pt x="1179" y="120"/>
                      </a:lnTo>
                      <a:lnTo>
                        <a:pt x="1179" y="119"/>
                      </a:lnTo>
                      <a:lnTo>
                        <a:pt x="1179" y="118"/>
                      </a:lnTo>
                      <a:lnTo>
                        <a:pt x="1179" y="116"/>
                      </a:lnTo>
                      <a:lnTo>
                        <a:pt x="1179" y="115"/>
                      </a:lnTo>
                      <a:lnTo>
                        <a:pt x="1178" y="115"/>
                      </a:lnTo>
                      <a:lnTo>
                        <a:pt x="1178" y="114"/>
                      </a:lnTo>
                      <a:lnTo>
                        <a:pt x="1178" y="113"/>
                      </a:lnTo>
                      <a:lnTo>
                        <a:pt x="1178" y="112"/>
                      </a:lnTo>
                      <a:lnTo>
                        <a:pt x="1178" y="111"/>
                      </a:lnTo>
                      <a:lnTo>
                        <a:pt x="1178" y="110"/>
                      </a:lnTo>
                      <a:lnTo>
                        <a:pt x="1178" y="108"/>
                      </a:lnTo>
                      <a:lnTo>
                        <a:pt x="1178" y="107"/>
                      </a:lnTo>
                      <a:lnTo>
                        <a:pt x="1178" y="106"/>
                      </a:lnTo>
                      <a:lnTo>
                        <a:pt x="1178" y="105"/>
                      </a:lnTo>
                      <a:lnTo>
                        <a:pt x="1176" y="105"/>
                      </a:lnTo>
                      <a:lnTo>
                        <a:pt x="1176" y="104"/>
                      </a:lnTo>
                      <a:lnTo>
                        <a:pt x="1176" y="103"/>
                      </a:lnTo>
                      <a:lnTo>
                        <a:pt x="1176" y="101"/>
                      </a:lnTo>
                      <a:lnTo>
                        <a:pt x="1176" y="100"/>
                      </a:lnTo>
                      <a:close/>
                      <a:moveTo>
                        <a:pt x="1605" y="185"/>
                      </a:moveTo>
                      <a:lnTo>
                        <a:pt x="1605" y="183"/>
                      </a:lnTo>
                      <a:lnTo>
                        <a:pt x="1604" y="183"/>
                      </a:lnTo>
                      <a:lnTo>
                        <a:pt x="1604" y="182"/>
                      </a:lnTo>
                      <a:lnTo>
                        <a:pt x="1603" y="182"/>
                      </a:lnTo>
                      <a:lnTo>
                        <a:pt x="1603" y="181"/>
                      </a:lnTo>
                      <a:lnTo>
                        <a:pt x="1602" y="180"/>
                      </a:lnTo>
                      <a:lnTo>
                        <a:pt x="1600" y="179"/>
                      </a:lnTo>
                      <a:lnTo>
                        <a:pt x="1599" y="178"/>
                      </a:lnTo>
                      <a:lnTo>
                        <a:pt x="1598" y="177"/>
                      </a:lnTo>
                      <a:lnTo>
                        <a:pt x="1597" y="177"/>
                      </a:lnTo>
                      <a:lnTo>
                        <a:pt x="1597" y="175"/>
                      </a:lnTo>
                      <a:lnTo>
                        <a:pt x="1596" y="175"/>
                      </a:lnTo>
                      <a:lnTo>
                        <a:pt x="1596" y="174"/>
                      </a:lnTo>
                      <a:lnTo>
                        <a:pt x="1595" y="174"/>
                      </a:lnTo>
                      <a:lnTo>
                        <a:pt x="1593" y="173"/>
                      </a:lnTo>
                      <a:lnTo>
                        <a:pt x="1592" y="173"/>
                      </a:lnTo>
                      <a:lnTo>
                        <a:pt x="1592" y="172"/>
                      </a:lnTo>
                      <a:lnTo>
                        <a:pt x="1591" y="172"/>
                      </a:lnTo>
                      <a:lnTo>
                        <a:pt x="1590" y="172"/>
                      </a:lnTo>
                      <a:lnTo>
                        <a:pt x="1590" y="171"/>
                      </a:lnTo>
                      <a:lnTo>
                        <a:pt x="1589" y="171"/>
                      </a:lnTo>
                      <a:lnTo>
                        <a:pt x="1588" y="171"/>
                      </a:lnTo>
                      <a:lnTo>
                        <a:pt x="1587" y="171"/>
                      </a:lnTo>
                      <a:lnTo>
                        <a:pt x="1585" y="171"/>
                      </a:lnTo>
                      <a:lnTo>
                        <a:pt x="1584" y="171"/>
                      </a:lnTo>
                      <a:lnTo>
                        <a:pt x="1583" y="172"/>
                      </a:lnTo>
                      <a:lnTo>
                        <a:pt x="1582" y="172"/>
                      </a:lnTo>
                      <a:lnTo>
                        <a:pt x="1581" y="173"/>
                      </a:lnTo>
                      <a:lnTo>
                        <a:pt x="1580" y="174"/>
                      </a:lnTo>
                      <a:lnTo>
                        <a:pt x="1580" y="175"/>
                      </a:lnTo>
                      <a:lnTo>
                        <a:pt x="1578" y="175"/>
                      </a:lnTo>
                      <a:lnTo>
                        <a:pt x="1578" y="177"/>
                      </a:lnTo>
                      <a:lnTo>
                        <a:pt x="1578" y="178"/>
                      </a:lnTo>
                      <a:lnTo>
                        <a:pt x="1577" y="179"/>
                      </a:lnTo>
                      <a:lnTo>
                        <a:pt x="1577" y="180"/>
                      </a:lnTo>
                      <a:lnTo>
                        <a:pt x="1577" y="181"/>
                      </a:lnTo>
                      <a:lnTo>
                        <a:pt x="1577" y="182"/>
                      </a:lnTo>
                      <a:lnTo>
                        <a:pt x="1577" y="183"/>
                      </a:lnTo>
                      <a:lnTo>
                        <a:pt x="1577" y="185"/>
                      </a:lnTo>
                      <a:lnTo>
                        <a:pt x="1578" y="186"/>
                      </a:lnTo>
                      <a:lnTo>
                        <a:pt x="1578" y="187"/>
                      </a:lnTo>
                      <a:lnTo>
                        <a:pt x="1578" y="188"/>
                      </a:lnTo>
                      <a:lnTo>
                        <a:pt x="1580" y="189"/>
                      </a:lnTo>
                      <a:lnTo>
                        <a:pt x="1580" y="190"/>
                      </a:lnTo>
                      <a:lnTo>
                        <a:pt x="1580" y="192"/>
                      </a:lnTo>
                      <a:lnTo>
                        <a:pt x="1581" y="193"/>
                      </a:lnTo>
                      <a:lnTo>
                        <a:pt x="1581" y="194"/>
                      </a:lnTo>
                      <a:lnTo>
                        <a:pt x="1581" y="195"/>
                      </a:lnTo>
                      <a:lnTo>
                        <a:pt x="1581" y="196"/>
                      </a:lnTo>
                      <a:lnTo>
                        <a:pt x="1582" y="196"/>
                      </a:lnTo>
                      <a:lnTo>
                        <a:pt x="1582" y="197"/>
                      </a:lnTo>
                      <a:lnTo>
                        <a:pt x="1582" y="198"/>
                      </a:lnTo>
                      <a:lnTo>
                        <a:pt x="1581" y="198"/>
                      </a:lnTo>
                      <a:lnTo>
                        <a:pt x="1581" y="200"/>
                      </a:lnTo>
                      <a:lnTo>
                        <a:pt x="1581" y="201"/>
                      </a:lnTo>
                      <a:lnTo>
                        <a:pt x="1581" y="202"/>
                      </a:lnTo>
                      <a:lnTo>
                        <a:pt x="1581" y="203"/>
                      </a:lnTo>
                      <a:lnTo>
                        <a:pt x="1581" y="204"/>
                      </a:lnTo>
                      <a:lnTo>
                        <a:pt x="1581" y="205"/>
                      </a:lnTo>
                      <a:lnTo>
                        <a:pt x="1582" y="207"/>
                      </a:lnTo>
                      <a:lnTo>
                        <a:pt x="1582" y="208"/>
                      </a:lnTo>
                      <a:lnTo>
                        <a:pt x="1582" y="209"/>
                      </a:lnTo>
                      <a:lnTo>
                        <a:pt x="1583" y="209"/>
                      </a:lnTo>
                      <a:lnTo>
                        <a:pt x="1583" y="210"/>
                      </a:lnTo>
                      <a:lnTo>
                        <a:pt x="1583" y="211"/>
                      </a:lnTo>
                      <a:lnTo>
                        <a:pt x="1584" y="211"/>
                      </a:lnTo>
                      <a:lnTo>
                        <a:pt x="1585" y="212"/>
                      </a:lnTo>
                      <a:lnTo>
                        <a:pt x="1585" y="213"/>
                      </a:lnTo>
                      <a:lnTo>
                        <a:pt x="1587" y="215"/>
                      </a:lnTo>
                      <a:lnTo>
                        <a:pt x="1588" y="216"/>
                      </a:lnTo>
                      <a:lnTo>
                        <a:pt x="1588" y="217"/>
                      </a:lnTo>
                      <a:lnTo>
                        <a:pt x="1589" y="217"/>
                      </a:lnTo>
                      <a:lnTo>
                        <a:pt x="1589" y="218"/>
                      </a:lnTo>
                      <a:lnTo>
                        <a:pt x="1590" y="218"/>
                      </a:lnTo>
                      <a:lnTo>
                        <a:pt x="1591" y="219"/>
                      </a:lnTo>
                      <a:lnTo>
                        <a:pt x="1592" y="219"/>
                      </a:lnTo>
                      <a:lnTo>
                        <a:pt x="1592" y="220"/>
                      </a:lnTo>
                      <a:lnTo>
                        <a:pt x="1593" y="220"/>
                      </a:lnTo>
                      <a:lnTo>
                        <a:pt x="1595" y="220"/>
                      </a:lnTo>
                      <a:lnTo>
                        <a:pt x="1596" y="220"/>
                      </a:lnTo>
                      <a:lnTo>
                        <a:pt x="1597" y="222"/>
                      </a:lnTo>
                      <a:lnTo>
                        <a:pt x="1598" y="222"/>
                      </a:lnTo>
                      <a:lnTo>
                        <a:pt x="1599" y="222"/>
                      </a:lnTo>
                      <a:lnTo>
                        <a:pt x="1600" y="222"/>
                      </a:lnTo>
                      <a:lnTo>
                        <a:pt x="1602" y="222"/>
                      </a:lnTo>
                      <a:lnTo>
                        <a:pt x="1603" y="222"/>
                      </a:lnTo>
                      <a:lnTo>
                        <a:pt x="1604" y="222"/>
                      </a:lnTo>
                      <a:lnTo>
                        <a:pt x="1603" y="223"/>
                      </a:lnTo>
                      <a:lnTo>
                        <a:pt x="1602" y="223"/>
                      </a:lnTo>
                      <a:lnTo>
                        <a:pt x="1600" y="223"/>
                      </a:lnTo>
                      <a:lnTo>
                        <a:pt x="1599" y="223"/>
                      </a:lnTo>
                      <a:lnTo>
                        <a:pt x="1598" y="223"/>
                      </a:lnTo>
                      <a:lnTo>
                        <a:pt x="1597" y="223"/>
                      </a:lnTo>
                      <a:lnTo>
                        <a:pt x="1596" y="223"/>
                      </a:lnTo>
                      <a:lnTo>
                        <a:pt x="1595" y="223"/>
                      </a:lnTo>
                      <a:lnTo>
                        <a:pt x="1593" y="223"/>
                      </a:lnTo>
                      <a:lnTo>
                        <a:pt x="1593" y="222"/>
                      </a:lnTo>
                      <a:lnTo>
                        <a:pt x="1592" y="222"/>
                      </a:lnTo>
                      <a:lnTo>
                        <a:pt x="1591" y="222"/>
                      </a:lnTo>
                      <a:lnTo>
                        <a:pt x="1590" y="222"/>
                      </a:lnTo>
                      <a:lnTo>
                        <a:pt x="1589" y="220"/>
                      </a:lnTo>
                      <a:lnTo>
                        <a:pt x="1588" y="220"/>
                      </a:lnTo>
                      <a:lnTo>
                        <a:pt x="1587" y="220"/>
                      </a:lnTo>
                      <a:lnTo>
                        <a:pt x="1585" y="219"/>
                      </a:lnTo>
                      <a:lnTo>
                        <a:pt x="1584" y="219"/>
                      </a:lnTo>
                      <a:lnTo>
                        <a:pt x="1583" y="219"/>
                      </a:lnTo>
                      <a:lnTo>
                        <a:pt x="1582" y="219"/>
                      </a:lnTo>
                      <a:lnTo>
                        <a:pt x="1581" y="219"/>
                      </a:lnTo>
                      <a:lnTo>
                        <a:pt x="1580" y="219"/>
                      </a:lnTo>
                      <a:lnTo>
                        <a:pt x="1578" y="219"/>
                      </a:lnTo>
                      <a:lnTo>
                        <a:pt x="1577" y="219"/>
                      </a:lnTo>
                      <a:lnTo>
                        <a:pt x="1576" y="220"/>
                      </a:lnTo>
                      <a:lnTo>
                        <a:pt x="1575" y="222"/>
                      </a:lnTo>
                      <a:lnTo>
                        <a:pt x="1574" y="222"/>
                      </a:lnTo>
                      <a:lnTo>
                        <a:pt x="1574" y="223"/>
                      </a:lnTo>
                      <a:lnTo>
                        <a:pt x="1573" y="224"/>
                      </a:lnTo>
                      <a:lnTo>
                        <a:pt x="1572" y="224"/>
                      </a:lnTo>
                      <a:lnTo>
                        <a:pt x="1572" y="225"/>
                      </a:lnTo>
                      <a:lnTo>
                        <a:pt x="1570" y="226"/>
                      </a:lnTo>
                      <a:lnTo>
                        <a:pt x="1570" y="227"/>
                      </a:lnTo>
                      <a:lnTo>
                        <a:pt x="1569" y="227"/>
                      </a:lnTo>
                      <a:lnTo>
                        <a:pt x="1569" y="229"/>
                      </a:lnTo>
                      <a:lnTo>
                        <a:pt x="1569" y="230"/>
                      </a:lnTo>
                      <a:lnTo>
                        <a:pt x="1568" y="231"/>
                      </a:lnTo>
                      <a:lnTo>
                        <a:pt x="1568" y="232"/>
                      </a:lnTo>
                      <a:lnTo>
                        <a:pt x="1568" y="233"/>
                      </a:lnTo>
                      <a:lnTo>
                        <a:pt x="1568" y="234"/>
                      </a:lnTo>
                      <a:lnTo>
                        <a:pt x="1567" y="235"/>
                      </a:lnTo>
                      <a:lnTo>
                        <a:pt x="1567" y="237"/>
                      </a:lnTo>
                      <a:lnTo>
                        <a:pt x="1568" y="238"/>
                      </a:lnTo>
                      <a:lnTo>
                        <a:pt x="1568" y="239"/>
                      </a:lnTo>
                      <a:lnTo>
                        <a:pt x="1568" y="240"/>
                      </a:lnTo>
                      <a:lnTo>
                        <a:pt x="1568" y="241"/>
                      </a:lnTo>
                      <a:lnTo>
                        <a:pt x="1569" y="241"/>
                      </a:lnTo>
                      <a:lnTo>
                        <a:pt x="1569" y="242"/>
                      </a:lnTo>
                      <a:lnTo>
                        <a:pt x="1570" y="244"/>
                      </a:lnTo>
                      <a:lnTo>
                        <a:pt x="1569" y="244"/>
                      </a:lnTo>
                      <a:lnTo>
                        <a:pt x="1568" y="244"/>
                      </a:lnTo>
                      <a:lnTo>
                        <a:pt x="1567" y="244"/>
                      </a:lnTo>
                      <a:lnTo>
                        <a:pt x="1566" y="245"/>
                      </a:lnTo>
                      <a:lnTo>
                        <a:pt x="1565" y="246"/>
                      </a:lnTo>
                      <a:lnTo>
                        <a:pt x="1565" y="247"/>
                      </a:lnTo>
                      <a:lnTo>
                        <a:pt x="1563" y="247"/>
                      </a:lnTo>
                      <a:lnTo>
                        <a:pt x="1563" y="248"/>
                      </a:lnTo>
                      <a:lnTo>
                        <a:pt x="1562" y="249"/>
                      </a:lnTo>
                      <a:lnTo>
                        <a:pt x="1562" y="250"/>
                      </a:lnTo>
                      <a:lnTo>
                        <a:pt x="1561" y="252"/>
                      </a:lnTo>
                      <a:lnTo>
                        <a:pt x="1561" y="253"/>
                      </a:lnTo>
                      <a:lnTo>
                        <a:pt x="1561" y="254"/>
                      </a:lnTo>
                      <a:lnTo>
                        <a:pt x="1561" y="255"/>
                      </a:lnTo>
                      <a:lnTo>
                        <a:pt x="1561" y="256"/>
                      </a:lnTo>
                      <a:lnTo>
                        <a:pt x="1561" y="257"/>
                      </a:lnTo>
                      <a:lnTo>
                        <a:pt x="1561" y="259"/>
                      </a:lnTo>
                      <a:lnTo>
                        <a:pt x="1561" y="260"/>
                      </a:lnTo>
                      <a:lnTo>
                        <a:pt x="1561" y="261"/>
                      </a:lnTo>
                      <a:lnTo>
                        <a:pt x="1561" y="262"/>
                      </a:lnTo>
                      <a:lnTo>
                        <a:pt x="1562" y="263"/>
                      </a:lnTo>
                      <a:lnTo>
                        <a:pt x="1562" y="264"/>
                      </a:lnTo>
                      <a:lnTo>
                        <a:pt x="1562" y="265"/>
                      </a:lnTo>
                      <a:lnTo>
                        <a:pt x="1563" y="267"/>
                      </a:lnTo>
                      <a:lnTo>
                        <a:pt x="1563" y="268"/>
                      </a:lnTo>
                      <a:lnTo>
                        <a:pt x="1565" y="269"/>
                      </a:lnTo>
                      <a:lnTo>
                        <a:pt x="1566" y="270"/>
                      </a:lnTo>
                      <a:lnTo>
                        <a:pt x="1567" y="271"/>
                      </a:lnTo>
                      <a:lnTo>
                        <a:pt x="1568" y="271"/>
                      </a:lnTo>
                      <a:lnTo>
                        <a:pt x="1569" y="272"/>
                      </a:lnTo>
                      <a:lnTo>
                        <a:pt x="1568" y="272"/>
                      </a:lnTo>
                      <a:lnTo>
                        <a:pt x="1568" y="274"/>
                      </a:lnTo>
                      <a:lnTo>
                        <a:pt x="1567" y="274"/>
                      </a:lnTo>
                      <a:lnTo>
                        <a:pt x="1567" y="275"/>
                      </a:lnTo>
                      <a:lnTo>
                        <a:pt x="1566" y="275"/>
                      </a:lnTo>
                      <a:lnTo>
                        <a:pt x="1566" y="276"/>
                      </a:lnTo>
                      <a:lnTo>
                        <a:pt x="1565" y="276"/>
                      </a:lnTo>
                      <a:lnTo>
                        <a:pt x="1565" y="277"/>
                      </a:lnTo>
                      <a:lnTo>
                        <a:pt x="1563" y="277"/>
                      </a:lnTo>
                      <a:lnTo>
                        <a:pt x="1563" y="278"/>
                      </a:lnTo>
                      <a:lnTo>
                        <a:pt x="1562" y="278"/>
                      </a:lnTo>
                      <a:lnTo>
                        <a:pt x="1562" y="279"/>
                      </a:lnTo>
                      <a:lnTo>
                        <a:pt x="1562" y="280"/>
                      </a:lnTo>
                      <a:lnTo>
                        <a:pt x="1561" y="282"/>
                      </a:lnTo>
                      <a:lnTo>
                        <a:pt x="1561" y="283"/>
                      </a:lnTo>
                      <a:lnTo>
                        <a:pt x="1561" y="284"/>
                      </a:lnTo>
                      <a:lnTo>
                        <a:pt x="1561" y="285"/>
                      </a:lnTo>
                      <a:lnTo>
                        <a:pt x="1561" y="286"/>
                      </a:lnTo>
                      <a:lnTo>
                        <a:pt x="1561" y="287"/>
                      </a:lnTo>
                      <a:lnTo>
                        <a:pt x="1562" y="289"/>
                      </a:lnTo>
                      <a:lnTo>
                        <a:pt x="1562" y="290"/>
                      </a:lnTo>
                      <a:lnTo>
                        <a:pt x="1562" y="291"/>
                      </a:lnTo>
                      <a:lnTo>
                        <a:pt x="1563" y="293"/>
                      </a:lnTo>
                      <a:lnTo>
                        <a:pt x="1563" y="294"/>
                      </a:lnTo>
                      <a:lnTo>
                        <a:pt x="1565" y="296"/>
                      </a:lnTo>
                      <a:lnTo>
                        <a:pt x="1565" y="297"/>
                      </a:lnTo>
                      <a:lnTo>
                        <a:pt x="1565" y="298"/>
                      </a:lnTo>
                      <a:lnTo>
                        <a:pt x="1566" y="298"/>
                      </a:lnTo>
                      <a:lnTo>
                        <a:pt x="1566" y="299"/>
                      </a:lnTo>
                      <a:lnTo>
                        <a:pt x="1567" y="300"/>
                      </a:lnTo>
                      <a:lnTo>
                        <a:pt x="1568" y="301"/>
                      </a:lnTo>
                      <a:lnTo>
                        <a:pt x="1569" y="301"/>
                      </a:lnTo>
                      <a:lnTo>
                        <a:pt x="1570" y="302"/>
                      </a:lnTo>
                      <a:lnTo>
                        <a:pt x="1572" y="302"/>
                      </a:lnTo>
                      <a:lnTo>
                        <a:pt x="1573" y="304"/>
                      </a:lnTo>
                      <a:lnTo>
                        <a:pt x="1574" y="304"/>
                      </a:lnTo>
                      <a:lnTo>
                        <a:pt x="1575" y="304"/>
                      </a:lnTo>
                      <a:lnTo>
                        <a:pt x="1576" y="304"/>
                      </a:lnTo>
                      <a:lnTo>
                        <a:pt x="1577" y="304"/>
                      </a:lnTo>
                      <a:lnTo>
                        <a:pt x="1578" y="304"/>
                      </a:lnTo>
                      <a:lnTo>
                        <a:pt x="1580" y="304"/>
                      </a:lnTo>
                      <a:lnTo>
                        <a:pt x="1581" y="304"/>
                      </a:lnTo>
                      <a:lnTo>
                        <a:pt x="1582" y="304"/>
                      </a:lnTo>
                      <a:lnTo>
                        <a:pt x="1584" y="304"/>
                      </a:lnTo>
                      <a:lnTo>
                        <a:pt x="1585" y="304"/>
                      </a:lnTo>
                      <a:lnTo>
                        <a:pt x="1587" y="304"/>
                      </a:lnTo>
                      <a:lnTo>
                        <a:pt x="1589" y="306"/>
                      </a:lnTo>
                      <a:lnTo>
                        <a:pt x="1592" y="307"/>
                      </a:lnTo>
                      <a:lnTo>
                        <a:pt x="1595" y="309"/>
                      </a:lnTo>
                      <a:lnTo>
                        <a:pt x="1597" y="312"/>
                      </a:lnTo>
                      <a:lnTo>
                        <a:pt x="1599" y="314"/>
                      </a:lnTo>
                      <a:lnTo>
                        <a:pt x="1602" y="315"/>
                      </a:lnTo>
                      <a:lnTo>
                        <a:pt x="1605" y="317"/>
                      </a:lnTo>
                      <a:lnTo>
                        <a:pt x="1607" y="320"/>
                      </a:lnTo>
                      <a:lnTo>
                        <a:pt x="1610" y="322"/>
                      </a:lnTo>
                      <a:lnTo>
                        <a:pt x="1612" y="324"/>
                      </a:lnTo>
                      <a:lnTo>
                        <a:pt x="1614" y="327"/>
                      </a:lnTo>
                      <a:lnTo>
                        <a:pt x="1618" y="329"/>
                      </a:lnTo>
                      <a:lnTo>
                        <a:pt x="1620" y="331"/>
                      </a:lnTo>
                      <a:lnTo>
                        <a:pt x="1622" y="334"/>
                      </a:lnTo>
                      <a:lnTo>
                        <a:pt x="1626" y="336"/>
                      </a:lnTo>
                      <a:lnTo>
                        <a:pt x="1628" y="338"/>
                      </a:lnTo>
                      <a:lnTo>
                        <a:pt x="1630" y="341"/>
                      </a:lnTo>
                      <a:lnTo>
                        <a:pt x="1634" y="342"/>
                      </a:lnTo>
                      <a:lnTo>
                        <a:pt x="1636" y="344"/>
                      </a:lnTo>
                      <a:lnTo>
                        <a:pt x="1639" y="346"/>
                      </a:lnTo>
                      <a:lnTo>
                        <a:pt x="1642" y="347"/>
                      </a:lnTo>
                      <a:lnTo>
                        <a:pt x="1644" y="350"/>
                      </a:lnTo>
                      <a:lnTo>
                        <a:pt x="1648" y="351"/>
                      </a:lnTo>
                      <a:lnTo>
                        <a:pt x="1650" y="352"/>
                      </a:lnTo>
                      <a:lnTo>
                        <a:pt x="1654" y="354"/>
                      </a:lnTo>
                      <a:lnTo>
                        <a:pt x="1657" y="356"/>
                      </a:lnTo>
                      <a:lnTo>
                        <a:pt x="1659" y="356"/>
                      </a:lnTo>
                      <a:lnTo>
                        <a:pt x="1663" y="357"/>
                      </a:lnTo>
                      <a:lnTo>
                        <a:pt x="1666" y="358"/>
                      </a:lnTo>
                      <a:lnTo>
                        <a:pt x="1669" y="358"/>
                      </a:lnTo>
                      <a:lnTo>
                        <a:pt x="1672" y="358"/>
                      </a:lnTo>
                      <a:lnTo>
                        <a:pt x="1676" y="358"/>
                      </a:lnTo>
                      <a:lnTo>
                        <a:pt x="1677" y="356"/>
                      </a:lnTo>
                      <a:lnTo>
                        <a:pt x="1678" y="353"/>
                      </a:lnTo>
                      <a:lnTo>
                        <a:pt x="1679" y="350"/>
                      </a:lnTo>
                      <a:lnTo>
                        <a:pt x="1680" y="347"/>
                      </a:lnTo>
                      <a:lnTo>
                        <a:pt x="1680" y="344"/>
                      </a:lnTo>
                      <a:lnTo>
                        <a:pt x="1681" y="342"/>
                      </a:lnTo>
                      <a:lnTo>
                        <a:pt x="1682" y="338"/>
                      </a:lnTo>
                      <a:lnTo>
                        <a:pt x="1684" y="335"/>
                      </a:lnTo>
                      <a:lnTo>
                        <a:pt x="1685" y="332"/>
                      </a:lnTo>
                      <a:lnTo>
                        <a:pt x="1686" y="329"/>
                      </a:lnTo>
                      <a:lnTo>
                        <a:pt x="1687" y="326"/>
                      </a:lnTo>
                      <a:lnTo>
                        <a:pt x="1688" y="323"/>
                      </a:lnTo>
                      <a:lnTo>
                        <a:pt x="1689" y="320"/>
                      </a:lnTo>
                      <a:lnTo>
                        <a:pt x="1691" y="316"/>
                      </a:lnTo>
                      <a:lnTo>
                        <a:pt x="1692" y="314"/>
                      </a:lnTo>
                      <a:lnTo>
                        <a:pt x="1693" y="311"/>
                      </a:lnTo>
                      <a:lnTo>
                        <a:pt x="1694" y="308"/>
                      </a:lnTo>
                      <a:lnTo>
                        <a:pt x="1695" y="306"/>
                      </a:lnTo>
                      <a:lnTo>
                        <a:pt x="1696" y="302"/>
                      </a:lnTo>
                      <a:lnTo>
                        <a:pt x="1696" y="300"/>
                      </a:lnTo>
                      <a:lnTo>
                        <a:pt x="1697" y="298"/>
                      </a:lnTo>
                      <a:lnTo>
                        <a:pt x="1699" y="296"/>
                      </a:lnTo>
                      <a:lnTo>
                        <a:pt x="1700" y="293"/>
                      </a:lnTo>
                      <a:lnTo>
                        <a:pt x="1701" y="292"/>
                      </a:lnTo>
                      <a:lnTo>
                        <a:pt x="1701" y="290"/>
                      </a:lnTo>
                      <a:lnTo>
                        <a:pt x="1702" y="287"/>
                      </a:lnTo>
                      <a:lnTo>
                        <a:pt x="1703" y="286"/>
                      </a:lnTo>
                      <a:lnTo>
                        <a:pt x="1704" y="285"/>
                      </a:lnTo>
                      <a:lnTo>
                        <a:pt x="1704" y="284"/>
                      </a:lnTo>
                      <a:lnTo>
                        <a:pt x="1706" y="283"/>
                      </a:lnTo>
                      <a:lnTo>
                        <a:pt x="1707" y="283"/>
                      </a:lnTo>
                      <a:lnTo>
                        <a:pt x="1707" y="282"/>
                      </a:lnTo>
                      <a:lnTo>
                        <a:pt x="1706" y="280"/>
                      </a:lnTo>
                      <a:lnTo>
                        <a:pt x="1706" y="279"/>
                      </a:lnTo>
                      <a:lnTo>
                        <a:pt x="1704" y="278"/>
                      </a:lnTo>
                      <a:lnTo>
                        <a:pt x="1704" y="277"/>
                      </a:lnTo>
                      <a:lnTo>
                        <a:pt x="1704" y="276"/>
                      </a:lnTo>
                      <a:lnTo>
                        <a:pt x="1703" y="276"/>
                      </a:lnTo>
                      <a:lnTo>
                        <a:pt x="1703" y="275"/>
                      </a:lnTo>
                      <a:lnTo>
                        <a:pt x="1702" y="274"/>
                      </a:lnTo>
                      <a:lnTo>
                        <a:pt x="1701" y="272"/>
                      </a:lnTo>
                      <a:lnTo>
                        <a:pt x="1700" y="271"/>
                      </a:lnTo>
                      <a:lnTo>
                        <a:pt x="1700" y="270"/>
                      </a:lnTo>
                      <a:lnTo>
                        <a:pt x="1699" y="270"/>
                      </a:lnTo>
                      <a:lnTo>
                        <a:pt x="1697" y="269"/>
                      </a:lnTo>
                      <a:lnTo>
                        <a:pt x="1697" y="268"/>
                      </a:lnTo>
                      <a:lnTo>
                        <a:pt x="1696" y="268"/>
                      </a:lnTo>
                      <a:lnTo>
                        <a:pt x="1695" y="267"/>
                      </a:lnTo>
                      <a:lnTo>
                        <a:pt x="1695" y="265"/>
                      </a:lnTo>
                      <a:lnTo>
                        <a:pt x="1694" y="265"/>
                      </a:lnTo>
                      <a:lnTo>
                        <a:pt x="1694" y="264"/>
                      </a:lnTo>
                      <a:lnTo>
                        <a:pt x="1693" y="263"/>
                      </a:lnTo>
                      <a:lnTo>
                        <a:pt x="1692" y="263"/>
                      </a:lnTo>
                      <a:lnTo>
                        <a:pt x="1692" y="262"/>
                      </a:lnTo>
                      <a:lnTo>
                        <a:pt x="1691" y="261"/>
                      </a:lnTo>
                      <a:lnTo>
                        <a:pt x="1689" y="260"/>
                      </a:lnTo>
                      <a:lnTo>
                        <a:pt x="1688" y="259"/>
                      </a:lnTo>
                      <a:lnTo>
                        <a:pt x="1688" y="257"/>
                      </a:lnTo>
                      <a:lnTo>
                        <a:pt x="1687" y="256"/>
                      </a:lnTo>
                      <a:lnTo>
                        <a:pt x="1687" y="255"/>
                      </a:lnTo>
                      <a:lnTo>
                        <a:pt x="1686" y="255"/>
                      </a:lnTo>
                      <a:lnTo>
                        <a:pt x="1686" y="254"/>
                      </a:lnTo>
                      <a:lnTo>
                        <a:pt x="1685" y="253"/>
                      </a:lnTo>
                      <a:lnTo>
                        <a:pt x="1685" y="252"/>
                      </a:lnTo>
                      <a:lnTo>
                        <a:pt x="1684" y="249"/>
                      </a:lnTo>
                      <a:lnTo>
                        <a:pt x="1684" y="248"/>
                      </a:lnTo>
                      <a:lnTo>
                        <a:pt x="1682" y="247"/>
                      </a:lnTo>
                      <a:lnTo>
                        <a:pt x="1682" y="246"/>
                      </a:lnTo>
                      <a:lnTo>
                        <a:pt x="1681" y="245"/>
                      </a:lnTo>
                      <a:lnTo>
                        <a:pt x="1680" y="244"/>
                      </a:lnTo>
                      <a:lnTo>
                        <a:pt x="1680" y="241"/>
                      </a:lnTo>
                      <a:lnTo>
                        <a:pt x="1679" y="240"/>
                      </a:lnTo>
                      <a:lnTo>
                        <a:pt x="1679" y="239"/>
                      </a:lnTo>
                      <a:lnTo>
                        <a:pt x="1678" y="237"/>
                      </a:lnTo>
                      <a:lnTo>
                        <a:pt x="1677" y="235"/>
                      </a:lnTo>
                      <a:lnTo>
                        <a:pt x="1676" y="234"/>
                      </a:lnTo>
                      <a:lnTo>
                        <a:pt x="1676" y="232"/>
                      </a:lnTo>
                      <a:lnTo>
                        <a:pt x="1674" y="231"/>
                      </a:lnTo>
                      <a:lnTo>
                        <a:pt x="1673" y="230"/>
                      </a:lnTo>
                      <a:lnTo>
                        <a:pt x="1672" y="227"/>
                      </a:lnTo>
                      <a:lnTo>
                        <a:pt x="1672" y="226"/>
                      </a:lnTo>
                      <a:lnTo>
                        <a:pt x="1671" y="225"/>
                      </a:lnTo>
                      <a:lnTo>
                        <a:pt x="1670" y="223"/>
                      </a:lnTo>
                      <a:lnTo>
                        <a:pt x="1669" y="222"/>
                      </a:lnTo>
                      <a:lnTo>
                        <a:pt x="1667" y="220"/>
                      </a:lnTo>
                      <a:lnTo>
                        <a:pt x="1666" y="218"/>
                      </a:lnTo>
                      <a:lnTo>
                        <a:pt x="1665" y="217"/>
                      </a:lnTo>
                      <a:lnTo>
                        <a:pt x="1664" y="216"/>
                      </a:lnTo>
                      <a:lnTo>
                        <a:pt x="1662" y="215"/>
                      </a:lnTo>
                      <a:lnTo>
                        <a:pt x="1661" y="213"/>
                      </a:lnTo>
                      <a:lnTo>
                        <a:pt x="1659" y="212"/>
                      </a:lnTo>
                      <a:lnTo>
                        <a:pt x="1658" y="211"/>
                      </a:lnTo>
                      <a:lnTo>
                        <a:pt x="1656" y="210"/>
                      </a:lnTo>
                      <a:lnTo>
                        <a:pt x="1655" y="209"/>
                      </a:lnTo>
                      <a:lnTo>
                        <a:pt x="1654" y="208"/>
                      </a:lnTo>
                      <a:lnTo>
                        <a:pt x="1651" y="207"/>
                      </a:lnTo>
                      <a:lnTo>
                        <a:pt x="1650" y="205"/>
                      </a:lnTo>
                      <a:lnTo>
                        <a:pt x="1649" y="204"/>
                      </a:lnTo>
                      <a:lnTo>
                        <a:pt x="1648" y="203"/>
                      </a:lnTo>
                      <a:lnTo>
                        <a:pt x="1647" y="202"/>
                      </a:lnTo>
                      <a:lnTo>
                        <a:pt x="1645" y="201"/>
                      </a:lnTo>
                      <a:lnTo>
                        <a:pt x="1645" y="200"/>
                      </a:lnTo>
                      <a:lnTo>
                        <a:pt x="1644" y="198"/>
                      </a:lnTo>
                      <a:lnTo>
                        <a:pt x="1643" y="198"/>
                      </a:lnTo>
                      <a:lnTo>
                        <a:pt x="1642" y="197"/>
                      </a:lnTo>
                      <a:lnTo>
                        <a:pt x="1642" y="196"/>
                      </a:lnTo>
                      <a:lnTo>
                        <a:pt x="1641" y="195"/>
                      </a:lnTo>
                      <a:lnTo>
                        <a:pt x="1640" y="194"/>
                      </a:lnTo>
                      <a:lnTo>
                        <a:pt x="1639" y="193"/>
                      </a:lnTo>
                      <a:lnTo>
                        <a:pt x="1639" y="192"/>
                      </a:lnTo>
                      <a:lnTo>
                        <a:pt x="1637" y="192"/>
                      </a:lnTo>
                      <a:lnTo>
                        <a:pt x="1636" y="190"/>
                      </a:lnTo>
                      <a:lnTo>
                        <a:pt x="1635" y="189"/>
                      </a:lnTo>
                      <a:lnTo>
                        <a:pt x="1634" y="189"/>
                      </a:lnTo>
                      <a:lnTo>
                        <a:pt x="1634" y="188"/>
                      </a:lnTo>
                      <a:lnTo>
                        <a:pt x="1633" y="188"/>
                      </a:lnTo>
                      <a:lnTo>
                        <a:pt x="1632" y="188"/>
                      </a:lnTo>
                      <a:lnTo>
                        <a:pt x="1630" y="188"/>
                      </a:lnTo>
                      <a:lnTo>
                        <a:pt x="1629" y="188"/>
                      </a:lnTo>
                      <a:lnTo>
                        <a:pt x="1628" y="188"/>
                      </a:lnTo>
                      <a:lnTo>
                        <a:pt x="1627" y="187"/>
                      </a:lnTo>
                      <a:lnTo>
                        <a:pt x="1626" y="187"/>
                      </a:lnTo>
                      <a:lnTo>
                        <a:pt x="1625" y="187"/>
                      </a:lnTo>
                      <a:lnTo>
                        <a:pt x="1624" y="187"/>
                      </a:lnTo>
                      <a:lnTo>
                        <a:pt x="1622" y="187"/>
                      </a:lnTo>
                      <a:lnTo>
                        <a:pt x="1621" y="187"/>
                      </a:lnTo>
                      <a:lnTo>
                        <a:pt x="1620" y="187"/>
                      </a:lnTo>
                      <a:lnTo>
                        <a:pt x="1620" y="186"/>
                      </a:lnTo>
                      <a:lnTo>
                        <a:pt x="1619" y="186"/>
                      </a:lnTo>
                      <a:lnTo>
                        <a:pt x="1618" y="186"/>
                      </a:lnTo>
                      <a:lnTo>
                        <a:pt x="1617" y="186"/>
                      </a:lnTo>
                      <a:lnTo>
                        <a:pt x="1615" y="186"/>
                      </a:lnTo>
                      <a:lnTo>
                        <a:pt x="1614" y="186"/>
                      </a:lnTo>
                      <a:lnTo>
                        <a:pt x="1613" y="185"/>
                      </a:lnTo>
                      <a:lnTo>
                        <a:pt x="1612" y="185"/>
                      </a:lnTo>
                      <a:lnTo>
                        <a:pt x="1611" y="185"/>
                      </a:lnTo>
                      <a:lnTo>
                        <a:pt x="1610" y="185"/>
                      </a:lnTo>
                      <a:lnTo>
                        <a:pt x="1609" y="185"/>
                      </a:lnTo>
                      <a:lnTo>
                        <a:pt x="1607" y="185"/>
                      </a:lnTo>
                      <a:lnTo>
                        <a:pt x="1606" y="185"/>
                      </a:lnTo>
                      <a:lnTo>
                        <a:pt x="1605" y="185"/>
                      </a:lnTo>
                      <a:close/>
                    </a:path>
                  </a:pathLst>
                </a:custGeom>
                <a:solidFill>
                  <a:srgbClr val="ffba8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5529240" y="6051600"/>
                  <a:ext cx="86040" cy="63720"/>
                </a:xfrm>
                <a:custGeom>
                  <a:avLst/>
                  <a:gdLst/>
                  <a:ahLst/>
                  <a:rect l="l" t="t" r="r" b="b"/>
                  <a:pathLst>
                    <a:path w="162" h="105">
                      <a:moveTo>
                        <a:pt x="55" y="19"/>
                      </a:moveTo>
                      <a:lnTo>
                        <a:pt x="63" y="15"/>
                      </a:lnTo>
                      <a:lnTo>
                        <a:pt x="70" y="11"/>
                      </a:lnTo>
                      <a:lnTo>
                        <a:pt x="77" y="7"/>
                      </a:lnTo>
                      <a:lnTo>
                        <a:pt x="83" y="4"/>
                      </a:lnTo>
                      <a:lnTo>
                        <a:pt x="88" y="1"/>
                      </a:lnTo>
                      <a:lnTo>
                        <a:pt x="93" y="0"/>
                      </a:lnTo>
                      <a:lnTo>
                        <a:pt x="99" y="0"/>
                      </a:lnTo>
                      <a:lnTo>
                        <a:pt x="103" y="2"/>
                      </a:lnTo>
                      <a:lnTo>
                        <a:pt x="110" y="4"/>
                      </a:lnTo>
                      <a:lnTo>
                        <a:pt x="117" y="7"/>
                      </a:lnTo>
                      <a:lnTo>
                        <a:pt x="123" y="9"/>
                      </a:lnTo>
                      <a:lnTo>
                        <a:pt x="128" y="12"/>
                      </a:lnTo>
                      <a:lnTo>
                        <a:pt x="132" y="16"/>
                      </a:lnTo>
                      <a:lnTo>
                        <a:pt x="135" y="22"/>
                      </a:lnTo>
                      <a:lnTo>
                        <a:pt x="137" y="29"/>
                      </a:lnTo>
                      <a:lnTo>
                        <a:pt x="137" y="37"/>
                      </a:lnTo>
                      <a:lnTo>
                        <a:pt x="147" y="40"/>
                      </a:lnTo>
                      <a:lnTo>
                        <a:pt x="155" y="47"/>
                      </a:lnTo>
                      <a:lnTo>
                        <a:pt x="160" y="54"/>
                      </a:lnTo>
                      <a:lnTo>
                        <a:pt x="162" y="56"/>
                      </a:lnTo>
                      <a:lnTo>
                        <a:pt x="162" y="61"/>
                      </a:lnTo>
                      <a:lnTo>
                        <a:pt x="162" y="67"/>
                      </a:lnTo>
                      <a:lnTo>
                        <a:pt x="162" y="74"/>
                      </a:lnTo>
                      <a:lnTo>
                        <a:pt x="162" y="79"/>
                      </a:lnTo>
                      <a:lnTo>
                        <a:pt x="161" y="86"/>
                      </a:lnTo>
                      <a:lnTo>
                        <a:pt x="159" y="92"/>
                      </a:lnTo>
                      <a:lnTo>
                        <a:pt x="156" y="97"/>
                      </a:lnTo>
                      <a:lnTo>
                        <a:pt x="153" y="101"/>
                      </a:lnTo>
                      <a:lnTo>
                        <a:pt x="145" y="100"/>
                      </a:lnTo>
                      <a:lnTo>
                        <a:pt x="138" y="100"/>
                      </a:lnTo>
                      <a:lnTo>
                        <a:pt x="131" y="101"/>
                      </a:lnTo>
                      <a:lnTo>
                        <a:pt x="124" y="101"/>
                      </a:lnTo>
                      <a:lnTo>
                        <a:pt x="118" y="103"/>
                      </a:lnTo>
                      <a:lnTo>
                        <a:pt x="113" y="103"/>
                      </a:lnTo>
                      <a:lnTo>
                        <a:pt x="107" y="103"/>
                      </a:lnTo>
                      <a:lnTo>
                        <a:pt x="102" y="103"/>
                      </a:lnTo>
                      <a:lnTo>
                        <a:pt x="88" y="105"/>
                      </a:lnTo>
                      <a:lnTo>
                        <a:pt x="81" y="100"/>
                      </a:lnTo>
                      <a:lnTo>
                        <a:pt x="78" y="96"/>
                      </a:lnTo>
                      <a:lnTo>
                        <a:pt x="72" y="92"/>
                      </a:lnTo>
                      <a:lnTo>
                        <a:pt x="62" y="92"/>
                      </a:lnTo>
                      <a:lnTo>
                        <a:pt x="56" y="86"/>
                      </a:lnTo>
                      <a:lnTo>
                        <a:pt x="51" y="81"/>
                      </a:lnTo>
                      <a:lnTo>
                        <a:pt x="48" y="78"/>
                      </a:lnTo>
                      <a:lnTo>
                        <a:pt x="39" y="76"/>
                      </a:lnTo>
                      <a:lnTo>
                        <a:pt x="29" y="71"/>
                      </a:lnTo>
                      <a:lnTo>
                        <a:pt x="24" y="63"/>
                      </a:lnTo>
                      <a:lnTo>
                        <a:pt x="20" y="56"/>
                      </a:lnTo>
                      <a:lnTo>
                        <a:pt x="11" y="55"/>
                      </a:lnTo>
                      <a:lnTo>
                        <a:pt x="4" y="53"/>
                      </a:lnTo>
                      <a:lnTo>
                        <a:pt x="0" y="47"/>
                      </a:lnTo>
                      <a:lnTo>
                        <a:pt x="0" y="37"/>
                      </a:lnTo>
                      <a:lnTo>
                        <a:pt x="2" y="33"/>
                      </a:lnTo>
                      <a:lnTo>
                        <a:pt x="6" y="30"/>
                      </a:lnTo>
                      <a:lnTo>
                        <a:pt x="13" y="26"/>
                      </a:lnTo>
                      <a:lnTo>
                        <a:pt x="20" y="22"/>
                      </a:lnTo>
                      <a:lnTo>
                        <a:pt x="26" y="18"/>
                      </a:lnTo>
                      <a:lnTo>
                        <a:pt x="31" y="16"/>
                      </a:lnTo>
                      <a:lnTo>
                        <a:pt x="35" y="14"/>
                      </a:lnTo>
                      <a:lnTo>
                        <a:pt x="39" y="11"/>
                      </a:lnTo>
                      <a:lnTo>
                        <a:pt x="43" y="11"/>
                      </a:lnTo>
                      <a:lnTo>
                        <a:pt x="47" y="12"/>
                      </a:lnTo>
                      <a:lnTo>
                        <a:pt x="50" y="15"/>
                      </a:lnTo>
                      <a:lnTo>
                        <a:pt x="55" y="1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5376960" y="6102360"/>
                  <a:ext cx="95400" cy="83880"/>
                </a:xfrm>
                <a:custGeom>
                  <a:avLst/>
                  <a:gdLst/>
                  <a:ahLst/>
                  <a:rect l="l" t="t" r="r" b="b"/>
                  <a:pathLst>
                    <a:path w="179" h="139">
                      <a:moveTo>
                        <a:pt x="0" y="58"/>
                      </a:moveTo>
                      <a:lnTo>
                        <a:pt x="4" y="59"/>
                      </a:lnTo>
                      <a:lnTo>
                        <a:pt x="10" y="64"/>
                      </a:lnTo>
                      <a:lnTo>
                        <a:pt x="16" y="68"/>
                      </a:lnTo>
                      <a:lnTo>
                        <a:pt x="18" y="72"/>
                      </a:lnTo>
                      <a:lnTo>
                        <a:pt x="19" y="77"/>
                      </a:lnTo>
                      <a:lnTo>
                        <a:pt x="20" y="82"/>
                      </a:lnTo>
                      <a:lnTo>
                        <a:pt x="20" y="88"/>
                      </a:lnTo>
                      <a:lnTo>
                        <a:pt x="22" y="94"/>
                      </a:lnTo>
                      <a:lnTo>
                        <a:pt x="22" y="101"/>
                      </a:lnTo>
                      <a:lnTo>
                        <a:pt x="23" y="107"/>
                      </a:lnTo>
                      <a:lnTo>
                        <a:pt x="23" y="112"/>
                      </a:lnTo>
                      <a:lnTo>
                        <a:pt x="23" y="118"/>
                      </a:lnTo>
                      <a:lnTo>
                        <a:pt x="33" y="118"/>
                      </a:lnTo>
                      <a:lnTo>
                        <a:pt x="42" y="117"/>
                      </a:lnTo>
                      <a:lnTo>
                        <a:pt x="52" y="115"/>
                      </a:lnTo>
                      <a:lnTo>
                        <a:pt x="60" y="112"/>
                      </a:lnTo>
                      <a:lnTo>
                        <a:pt x="68" y="109"/>
                      </a:lnTo>
                      <a:lnTo>
                        <a:pt x="75" y="105"/>
                      </a:lnTo>
                      <a:lnTo>
                        <a:pt x="80" y="101"/>
                      </a:lnTo>
                      <a:lnTo>
                        <a:pt x="85" y="96"/>
                      </a:lnTo>
                      <a:lnTo>
                        <a:pt x="97" y="83"/>
                      </a:lnTo>
                      <a:lnTo>
                        <a:pt x="93" y="90"/>
                      </a:lnTo>
                      <a:lnTo>
                        <a:pt x="92" y="95"/>
                      </a:lnTo>
                      <a:lnTo>
                        <a:pt x="90" y="101"/>
                      </a:lnTo>
                      <a:lnTo>
                        <a:pt x="87" y="108"/>
                      </a:lnTo>
                      <a:lnTo>
                        <a:pt x="86" y="115"/>
                      </a:lnTo>
                      <a:lnTo>
                        <a:pt x="86" y="122"/>
                      </a:lnTo>
                      <a:lnTo>
                        <a:pt x="89" y="126"/>
                      </a:lnTo>
                      <a:lnTo>
                        <a:pt x="91" y="128"/>
                      </a:lnTo>
                      <a:lnTo>
                        <a:pt x="90" y="132"/>
                      </a:lnTo>
                      <a:lnTo>
                        <a:pt x="90" y="134"/>
                      </a:lnTo>
                      <a:lnTo>
                        <a:pt x="91" y="138"/>
                      </a:lnTo>
                      <a:lnTo>
                        <a:pt x="93" y="139"/>
                      </a:lnTo>
                      <a:lnTo>
                        <a:pt x="108" y="139"/>
                      </a:lnTo>
                      <a:lnTo>
                        <a:pt x="119" y="130"/>
                      </a:lnTo>
                      <a:lnTo>
                        <a:pt x="123" y="137"/>
                      </a:lnTo>
                      <a:lnTo>
                        <a:pt x="129" y="138"/>
                      </a:lnTo>
                      <a:lnTo>
                        <a:pt x="137" y="133"/>
                      </a:lnTo>
                      <a:lnTo>
                        <a:pt x="148" y="124"/>
                      </a:lnTo>
                      <a:lnTo>
                        <a:pt x="149" y="127"/>
                      </a:lnTo>
                      <a:lnTo>
                        <a:pt x="152" y="130"/>
                      </a:lnTo>
                      <a:lnTo>
                        <a:pt x="156" y="131"/>
                      </a:lnTo>
                      <a:lnTo>
                        <a:pt x="159" y="130"/>
                      </a:lnTo>
                      <a:lnTo>
                        <a:pt x="164" y="125"/>
                      </a:lnTo>
                      <a:lnTo>
                        <a:pt x="167" y="120"/>
                      </a:lnTo>
                      <a:lnTo>
                        <a:pt x="172" y="116"/>
                      </a:lnTo>
                      <a:lnTo>
                        <a:pt x="176" y="111"/>
                      </a:lnTo>
                      <a:lnTo>
                        <a:pt x="179" y="103"/>
                      </a:lnTo>
                      <a:lnTo>
                        <a:pt x="176" y="95"/>
                      </a:lnTo>
                      <a:lnTo>
                        <a:pt x="173" y="88"/>
                      </a:lnTo>
                      <a:lnTo>
                        <a:pt x="169" y="80"/>
                      </a:lnTo>
                      <a:lnTo>
                        <a:pt x="167" y="74"/>
                      </a:lnTo>
                      <a:lnTo>
                        <a:pt x="164" y="71"/>
                      </a:lnTo>
                      <a:lnTo>
                        <a:pt x="160" y="68"/>
                      </a:lnTo>
                      <a:lnTo>
                        <a:pt x="156" y="66"/>
                      </a:lnTo>
                      <a:lnTo>
                        <a:pt x="153" y="60"/>
                      </a:lnTo>
                      <a:lnTo>
                        <a:pt x="151" y="55"/>
                      </a:lnTo>
                      <a:lnTo>
                        <a:pt x="149" y="50"/>
                      </a:lnTo>
                      <a:lnTo>
                        <a:pt x="146" y="44"/>
                      </a:lnTo>
                      <a:lnTo>
                        <a:pt x="144" y="41"/>
                      </a:lnTo>
                      <a:lnTo>
                        <a:pt x="141" y="36"/>
                      </a:lnTo>
                      <a:lnTo>
                        <a:pt x="138" y="33"/>
                      </a:lnTo>
                      <a:lnTo>
                        <a:pt x="134" y="30"/>
                      </a:lnTo>
                      <a:lnTo>
                        <a:pt x="127" y="27"/>
                      </a:lnTo>
                      <a:lnTo>
                        <a:pt x="120" y="18"/>
                      </a:lnTo>
                      <a:lnTo>
                        <a:pt x="113" y="7"/>
                      </a:lnTo>
                      <a:lnTo>
                        <a:pt x="108" y="0"/>
                      </a:lnTo>
                      <a:lnTo>
                        <a:pt x="101" y="1"/>
                      </a:lnTo>
                      <a:lnTo>
                        <a:pt x="96" y="3"/>
                      </a:lnTo>
                      <a:lnTo>
                        <a:pt x="90" y="4"/>
                      </a:lnTo>
                      <a:lnTo>
                        <a:pt x="83" y="5"/>
                      </a:lnTo>
                      <a:lnTo>
                        <a:pt x="77" y="6"/>
                      </a:lnTo>
                      <a:lnTo>
                        <a:pt x="71" y="7"/>
                      </a:lnTo>
                      <a:lnTo>
                        <a:pt x="64" y="8"/>
                      </a:lnTo>
                      <a:lnTo>
                        <a:pt x="59" y="8"/>
                      </a:lnTo>
                      <a:lnTo>
                        <a:pt x="49" y="13"/>
                      </a:lnTo>
                      <a:lnTo>
                        <a:pt x="41" y="18"/>
                      </a:lnTo>
                      <a:lnTo>
                        <a:pt x="33" y="25"/>
                      </a:lnTo>
                      <a:lnTo>
                        <a:pt x="26" y="30"/>
                      </a:lnTo>
                      <a:lnTo>
                        <a:pt x="19" y="38"/>
                      </a:lnTo>
                      <a:lnTo>
                        <a:pt x="13" y="45"/>
                      </a:lnTo>
                      <a:lnTo>
                        <a:pt x="7" y="51"/>
                      </a:lnTo>
                      <a:lnTo>
                        <a:pt x="0" y="5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5345280" y="6177240"/>
                  <a:ext cx="104760" cy="96480"/>
                </a:xfrm>
                <a:custGeom>
                  <a:avLst/>
                  <a:gdLst/>
                  <a:ahLst/>
                  <a:rect l="l" t="t" r="r" b="b"/>
                  <a:pathLst>
                    <a:path w="197" h="159">
                      <a:moveTo>
                        <a:pt x="49" y="36"/>
                      </a:moveTo>
                      <a:lnTo>
                        <a:pt x="42" y="37"/>
                      </a:lnTo>
                      <a:lnTo>
                        <a:pt x="37" y="38"/>
                      </a:lnTo>
                      <a:lnTo>
                        <a:pt x="31" y="39"/>
                      </a:lnTo>
                      <a:lnTo>
                        <a:pt x="25" y="41"/>
                      </a:lnTo>
                      <a:lnTo>
                        <a:pt x="19" y="44"/>
                      </a:lnTo>
                      <a:lnTo>
                        <a:pt x="14" y="46"/>
                      </a:lnTo>
                      <a:lnTo>
                        <a:pt x="9" y="48"/>
                      </a:lnTo>
                      <a:lnTo>
                        <a:pt x="5" y="52"/>
                      </a:lnTo>
                      <a:lnTo>
                        <a:pt x="2" y="56"/>
                      </a:lnTo>
                      <a:lnTo>
                        <a:pt x="1" y="62"/>
                      </a:lnTo>
                      <a:lnTo>
                        <a:pt x="0" y="68"/>
                      </a:lnTo>
                      <a:lnTo>
                        <a:pt x="0" y="75"/>
                      </a:lnTo>
                      <a:lnTo>
                        <a:pt x="0" y="82"/>
                      </a:lnTo>
                      <a:lnTo>
                        <a:pt x="1" y="89"/>
                      </a:lnTo>
                      <a:lnTo>
                        <a:pt x="3" y="96"/>
                      </a:lnTo>
                      <a:lnTo>
                        <a:pt x="4" y="103"/>
                      </a:lnTo>
                      <a:lnTo>
                        <a:pt x="12" y="105"/>
                      </a:lnTo>
                      <a:lnTo>
                        <a:pt x="22" y="108"/>
                      </a:lnTo>
                      <a:lnTo>
                        <a:pt x="32" y="111"/>
                      </a:lnTo>
                      <a:lnTo>
                        <a:pt x="41" y="112"/>
                      </a:lnTo>
                      <a:lnTo>
                        <a:pt x="52" y="112"/>
                      </a:lnTo>
                      <a:lnTo>
                        <a:pt x="61" y="109"/>
                      </a:lnTo>
                      <a:lnTo>
                        <a:pt x="68" y="106"/>
                      </a:lnTo>
                      <a:lnTo>
                        <a:pt x="74" y="99"/>
                      </a:lnTo>
                      <a:lnTo>
                        <a:pt x="71" y="98"/>
                      </a:lnTo>
                      <a:lnTo>
                        <a:pt x="64" y="97"/>
                      </a:lnTo>
                      <a:lnTo>
                        <a:pt x="57" y="96"/>
                      </a:lnTo>
                      <a:lnTo>
                        <a:pt x="52" y="94"/>
                      </a:lnTo>
                      <a:lnTo>
                        <a:pt x="61" y="92"/>
                      </a:lnTo>
                      <a:lnTo>
                        <a:pt x="67" y="91"/>
                      </a:lnTo>
                      <a:lnTo>
                        <a:pt x="71" y="89"/>
                      </a:lnTo>
                      <a:lnTo>
                        <a:pt x="75" y="86"/>
                      </a:lnTo>
                      <a:lnTo>
                        <a:pt x="78" y="89"/>
                      </a:lnTo>
                      <a:lnTo>
                        <a:pt x="85" y="92"/>
                      </a:lnTo>
                      <a:lnTo>
                        <a:pt x="91" y="96"/>
                      </a:lnTo>
                      <a:lnTo>
                        <a:pt x="96" y="99"/>
                      </a:lnTo>
                      <a:lnTo>
                        <a:pt x="100" y="101"/>
                      </a:lnTo>
                      <a:lnTo>
                        <a:pt x="105" y="103"/>
                      </a:lnTo>
                      <a:lnTo>
                        <a:pt x="109" y="103"/>
                      </a:lnTo>
                      <a:lnTo>
                        <a:pt x="115" y="103"/>
                      </a:lnTo>
                      <a:lnTo>
                        <a:pt x="121" y="100"/>
                      </a:lnTo>
                      <a:lnTo>
                        <a:pt x="126" y="93"/>
                      </a:lnTo>
                      <a:lnTo>
                        <a:pt x="128" y="86"/>
                      </a:lnTo>
                      <a:lnTo>
                        <a:pt x="126" y="79"/>
                      </a:lnTo>
                      <a:lnTo>
                        <a:pt x="122" y="75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4"/>
                      </a:lnTo>
                      <a:lnTo>
                        <a:pt x="104" y="62"/>
                      </a:lnTo>
                      <a:lnTo>
                        <a:pt x="98" y="59"/>
                      </a:lnTo>
                      <a:lnTo>
                        <a:pt x="92" y="56"/>
                      </a:lnTo>
                      <a:lnTo>
                        <a:pt x="85" y="55"/>
                      </a:lnTo>
                      <a:lnTo>
                        <a:pt x="92" y="53"/>
                      </a:lnTo>
                      <a:lnTo>
                        <a:pt x="94" y="48"/>
                      </a:lnTo>
                      <a:lnTo>
                        <a:pt x="94" y="42"/>
                      </a:lnTo>
                      <a:lnTo>
                        <a:pt x="93" y="36"/>
                      </a:lnTo>
                      <a:lnTo>
                        <a:pt x="96" y="39"/>
                      </a:lnTo>
                      <a:lnTo>
                        <a:pt x="99" y="44"/>
                      </a:lnTo>
                      <a:lnTo>
                        <a:pt x="103" y="47"/>
                      </a:lnTo>
                      <a:lnTo>
                        <a:pt x="106" y="48"/>
                      </a:lnTo>
                      <a:lnTo>
                        <a:pt x="114" y="49"/>
                      </a:lnTo>
                      <a:lnTo>
                        <a:pt x="123" y="53"/>
                      </a:lnTo>
                      <a:lnTo>
                        <a:pt x="130" y="54"/>
                      </a:lnTo>
                      <a:lnTo>
                        <a:pt x="133" y="49"/>
                      </a:lnTo>
                      <a:lnTo>
                        <a:pt x="135" y="53"/>
                      </a:lnTo>
                      <a:lnTo>
                        <a:pt x="136" y="57"/>
                      </a:lnTo>
                      <a:lnTo>
                        <a:pt x="138" y="63"/>
                      </a:lnTo>
                      <a:lnTo>
                        <a:pt x="139" y="68"/>
                      </a:lnTo>
                      <a:lnTo>
                        <a:pt x="142" y="74"/>
                      </a:lnTo>
                      <a:lnTo>
                        <a:pt x="144" y="78"/>
                      </a:lnTo>
                      <a:lnTo>
                        <a:pt x="145" y="83"/>
                      </a:lnTo>
                      <a:lnTo>
                        <a:pt x="148" y="86"/>
                      </a:lnTo>
                      <a:lnTo>
                        <a:pt x="143" y="92"/>
                      </a:lnTo>
                      <a:lnTo>
                        <a:pt x="138" y="99"/>
                      </a:lnTo>
                      <a:lnTo>
                        <a:pt x="134" y="106"/>
                      </a:lnTo>
                      <a:lnTo>
                        <a:pt x="129" y="112"/>
                      </a:lnTo>
                      <a:lnTo>
                        <a:pt x="129" y="122"/>
                      </a:lnTo>
                      <a:lnTo>
                        <a:pt x="131" y="129"/>
                      </a:lnTo>
                      <a:lnTo>
                        <a:pt x="136" y="134"/>
                      </a:lnTo>
                      <a:lnTo>
                        <a:pt x="142" y="135"/>
                      </a:lnTo>
                      <a:lnTo>
                        <a:pt x="139" y="138"/>
                      </a:lnTo>
                      <a:lnTo>
                        <a:pt x="139" y="143"/>
                      </a:lnTo>
                      <a:lnTo>
                        <a:pt x="142" y="148"/>
                      </a:lnTo>
                      <a:lnTo>
                        <a:pt x="144" y="151"/>
                      </a:lnTo>
                      <a:lnTo>
                        <a:pt x="144" y="153"/>
                      </a:lnTo>
                      <a:lnTo>
                        <a:pt x="144" y="155"/>
                      </a:lnTo>
                      <a:lnTo>
                        <a:pt x="145" y="156"/>
                      </a:lnTo>
                      <a:lnTo>
                        <a:pt x="146" y="157"/>
                      </a:lnTo>
                      <a:lnTo>
                        <a:pt x="152" y="159"/>
                      </a:lnTo>
                      <a:lnTo>
                        <a:pt x="159" y="157"/>
                      </a:lnTo>
                      <a:lnTo>
                        <a:pt x="167" y="152"/>
                      </a:lnTo>
                      <a:lnTo>
                        <a:pt x="174" y="145"/>
                      </a:lnTo>
                      <a:lnTo>
                        <a:pt x="181" y="138"/>
                      </a:lnTo>
                      <a:lnTo>
                        <a:pt x="188" y="129"/>
                      </a:lnTo>
                      <a:lnTo>
                        <a:pt x="193" y="121"/>
                      </a:lnTo>
                      <a:lnTo>
                        <a:pt x="196" y="114"/>
                      </a:lnTo>
                      <a:lnTo>
                        <a:pt x="197" y="108"/>
                      </a:lnTo>
                      <a:lnTo>
                        <a:pt x="195" y="104"/>
                      </a:lnTo>
                      <a:lnTo>
                        <a:pt x="193" y="100"/>
                      </a:lnTo>
                      <a:lnTo>
                        <a:pt x="190" y="97"/>
                      </a:lnTo>
                      <a:lnTo>
                        <a:pt x="194" y="89"/>
                      </a:lnTo>
                      <a:lnTo>
                        <a:pt x="193" y="83"/>
                      </a:lnTo>
                      <a:lnTo>
                        <a:pt x="189" y="79"/>
                      </a:lnTo>
                      <a:lnTo>
                        <a:pt x="183" y="76"/>
                      </a:lnTo>
                      <a:lnTo>
                        <a:pt x="185" y="69"/>
                      </a:lnTo>
                      <a:lnTo>
                        <a:pt x="183" y="63"/>
                      </a:lnTo>
                      <a:lnTo>
                        <a:pt x="180" y="56"/>
                      </a:lnTo>
                      <a:lnTo>
                        <a:pt x="172" y="47"/>
                      </a:lnTo>
                      <a:lnTo>
                        <a:pt x="170" y="44"/>
                      </a:lnTo>
                      <a:lnTo>
                        <a:pt x="165" y="39"/>
                      </a:lnTo>
                      <a:lnTo>
                        <a:pt x="161" y="34"/>
                      </a:lnTo>
                      <a:lnTo>
                        <a:pt x="157" y="29"/>
                      </a:lnTo>
                      <a:lnTo>
                        <a:pt x="152" y="24"/>
                      </a:lnTo>
                      <a:lnTo>
                        <a:pt x="148" y="19"/>
                      </a:lnTo>
                      <a:lnTo>
                        <a:pt x="144" y="15"/>
                      </a:lnTo>
                      <a:lnTo>
                        <a:pt x="142" y="12"/>
                      </a:lnTo>
                      <a:lnTo>
                        <a:pt x="137" y="8"/>
                      </a:lnTo>
                      <a:lnTo>
                        <a:pt x="131" y="5"/>
                      </a:lnTo>
                      <a:lnTo>
                        <a:pt x="127" y="5"/>
                      </a:lnTo>
                      <a:lnTo>
                        <a:pt x="122" y="8"/>
                      </a:lnTo>
                      <a:lnTo>
                        <a:pt x="119" y="5"/>
                      </a:lnTo>
                      <a:lnTo>
                        <a:pt x="114" y="3"/>
                      </a:lnTo>
                      <a:lnTo>
                        <a:pt x="111" y="2"/>
                      </a:lnTo>
                      <a:lnTo>
                        <a:pt x="107" y="0"/>
                      </a:lnTo>
                      <a:lnTo>
                        <a:pt x="100" y="1"/>
                      </a:lnTo>
                      <a:lnTo>
                        <a:pt x="96" y="4"/>
                      </a:lnTo>
                      <a:lnTo>
                        <a:pt x="90" y="10"/>
                      </a:lnTo>
                      <a:lnTo>
                        <a:pt x="84" y="16"/>
                      </a:lnTo>
                      <a:lnTo>
                        <a:pt x="77" y="23"/>
                      </a:lnTo>
                      <a:lnTo>
                        <a:pt x="69" y="29"/>
                      </a:lnTo>
                      <a:lnTo>
                        <a:pt x="60" y="33"/>
                      </a:lnTo>
                      <a:lnTo>
                        <a:pt x="49" y="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5158080" y="6231960"/>
                  <a:ext cx="133200" cy="104040"/>
                </a:xfrm>
                <a:custGeom>
                  <a:avLst/>
                  <a:gdLst/>
                  <a:ahLst/>
                  <a:rect l="l" t="t" r="r" b="b"/>
                  <a:pathLst>
                    <a:path w="252" h="173">
                      <a:moveTo>
                        <a:pt x="2" y="40"/>
                      </a:moveTo>
                      <a:lnTo>
                        <a:pt x="6" y="53"/>
                      </a:lnTo>
                      <a:lnTo>
                        <a:pt x="7" y="66"/>
                      </a:lnTo>
                      <a:lnTo>
                        <a:pt x="7" y="79"/>
                      </a:lnTo>
                      <a:lnTo>
                        <a:pt x="6" y="93"/>
                      </a:lnTo>
                      <a:lnTo>
                        <a:pt x="5" y="107"/>
                      </a:lnTo>
                      <a:lnTo>
                        <a:pt x="2" y="121"/>
                      </a:lnTo>
                      <a:lnTo>
                        <a:pt x="1" y="136"/>
                      </a:lnTo>
                      <a:lnTo>
                        <a:pt x="0" y="150"/>
                      </a:lnTo>
                      <a:lnTo>
                        <a:pt x="15" y="152"/>
                      </a:lnTo>
                      <a:lnTo>
                        <a:pt x="28" y="153"/>
                      </a:lnTo>
                      <a:lnTo>
                        <a:pt x="39" y="153"/>
                      </a:lnTo>
                      <a:lnTo>
                        <a:pt x="50" y="152"/>
                      </a:lnTo>
                      <a:lnTo>
                        <a:pt x="60" y="150"/>
                      </a:lnTo>
                      <a:lnTo>
                        <a:pt x="71" y="146"/>
                      </a:lnTo>
                      <a:lnTo>
                        <a:pt x="82" y="141"/>
                      </a:lnTo>
                      <a:lnTo>
                        <a:pt x="94" y="134"/>
                      </a:lnTo>
                      <a:lnTo>
                        <a:pt x="97" y="135"/>
                      </a:lnTo>
                      <a:lnTo>
                        <a:pt x="102" y="136"/>
                      </a:lnTo>
                      <a:lnTo>
                        <a:pt x="108" y="136"/>
                      </a:lnTo>
                      <a:lnTo>
                        <a:pt x="113" y="135"/>
                      </a:lnTo>
                      <a:lnTo>
                        <a:pt x="119" y="134"/>
                      </a:lnTo>
                      <a:lnTo>
                        <a:pt x="125" y="131"/>
                      </a:lnTo>
                      <a:lnTo>
                        <a:pt x="130" y="129"/>
                      </a:lnTo>
                      <a:lnTo>
                        <a:pt x="133" y="127"/>
                      </a:lnTo>
                      <a:lnTo>
                        <a:pt x="138" y="133"/>
                      </a:lnTo>
                      <a:lnTo>
                        <a:pt x="149" y="137"/>
                      </a:lnTo>
                      <a:lnTo>
                        <a:pt x="160" y="141"/>
                      </a:lnTo>
                      <a:lnTo>
                        <a:pt x="165" y="142"/>
                      </a:lnTo>
                      <a:lnTo>
                        <a:pt x="169" y="150"/>
                      </a:lnTo>
                      <a:lnTo>
                        <a:pt x="172" y="158"/>
                      </a:lnTo>
                      <a:lnTo>
                        <a:pt x="175" y="164"/>
                      </a:lnTo>
                      <a:lnTo>
                        <a:pt x="178" y="167"/>
                      </a:lnTo>
                      <a:lnTo>
                        <a:pt x="183" y="171"/>
                      </a:lnTo>
                      <a:lnTo>
                        <a:pt x="187" y="173"/>
                      </a:lnTo>
                      <a:lnTo>
                        <a:pt x="192" y="172"/>
                      </a:lnTo>
                      <a:lnTo>
                        <a:pt x="198" y="168"/>
                      </a:lnTo>
                      <a:lnTo>
                        <a:pt x="198" y="164"/>
                      </a:lnTo>
                      <a:lnTo>
                        <a:pt x="199" y="159"/>
                      </a:lnTo>
                      <a:lnTo>
                        <a:pt x="199" y="152"/>
                      </a:lnTo>
                      <a:lnTo>
                        <a:pt x="199" y="146"/>
                      </a:lnTo>
                      <a:lnTo>
                        <a:pt x="198" y="141"/>
                      </a:lnTo>
                      <a:lnTo>
                        <a:pt x="197" y="135"/>
                      </a:lnTo>
                      <a:lnTo>
                        <a:pt x="195" y="131"/>
                      </a:lnTo>
                      <a:lnTo>
                        <a:pt x="194" y="128"/>
                      </a:lnTo>
                      <a:lnTo>
                        <a:pt x="197" y="129"/>
                      </a:lnTo>
                      <a:lnTo>
                        <a:pt x="198" y="129"/>
                      </a:lnTo>
                      <a:lnTo>
                        <a:pt x="199" y="130"/>
                      </a:lnTo>
                      <a:lnTo>
                        <a:pt x="201" y="131"/>
                      </a:lnTo>
                      <a:lnTo>
                        <a:pt x="201" y="133"/>
                      </a:lnTo>
                      <a:lnTo>
                        <a:pt x="202" y="136"/>
                      </a:lnTo>
                      <a:lnTo>
                        <a:pt x="203" y="141"/>
                      </a:lnTo>
                      <a:lnTo>
                        <a:pt x="203" y="146"/>
                      </a:lnTo>
                      <a:lnTo>
                        <a:pt x="205" y="153"/>
                      </a:lnTo>
                      <a:lnTo>
                        <a:pt x="207" y="159"/>
                      </a:lnTo>
                      <a:lnTo>
                        <a:pt x="209" y="165"/>
                      </a:lnTo>
                      <a:lnTo>
                        <a:pt x="212" y="169"/>
                      </a:lnTo>
                      <a:lnTo>
                        <a:pt x="218" y="173"/>
                      </a:lnTo>
                      <a:lnTo>
                        <a:pt x="227" y="171"/>
                      </a:lnTo>
                      <a:lnTo>
                        <a:pt x="232" y="164"/>
                      </a:lnTo>
                      <a:lnTo>
                        <a:pt x="235" y="154"/>
                      </a:lnTo>
                      <a:lnTo>
                        <a:pt x="238" y="157"/>
                      </a:lnTo>
                      <a:lnTo>
                        <a:pt x="243" y="158"/>
                      </a:lnTo>
                      <a:lnTo>
                        <a:pt x="247" y="154"/>
                      </a:lnTo>
                      <a:lnTo>
                        <a:pt x="249" y="145"/>
                      </a:lnTo>
                      <a:lnTo>
                        <a:pt x="249" y="139"/>
                      </a:lnTo>
                      <a:lnTo>
                        <a:pt x="250" y="134"/>
                      </a:lnTo>
                      <a:lnTo>
                        <a:pt x="250" y="129"/>
                      </a:lnTo>
                      <a:lnTo>
                        <a:pt x="251" y="123"/>
                      </a:lnTo>
                      <a:lnTo>
                        <a:pt x="251" y="119"/>
                      </a:lnTo>
                      <a:lnTo>
                        <a:pt x="252" y="114"/>
                      </a:lnTo>
                      <a:lnTo>
                        <a:pt x="252" y="109"/>
                      </a:lnTo>
                      <a:lnTo>
                        <a:pt x="252" y="106"/>
                      </a:lnTo>
                      <a:lnTo>
                        <a:pt x="247" y="97"/>
                      </a:lnTo>
                      <a:lnTo>
                        <a:pt x="245" y="89"/>
                      </a:lnTo>
                      <a:lnTo>
                        <a:pt x="242" y="82"/>
                      </a:lnTo>
                      <a:lnTo>
                        <a:pt x="239" y="75"/>
                      </a:lnTo>
                      <a:lnTo>
                        <a:pt x="237" y="69"/>
                      </a:lnTo>
                      <a:lnTo>
                        <a:pt x="235" y="63"/>
                      </a:lnTo>
                      <a:lnTo>
                        <a:pt x="231" y="56"/>
                      </a:lnTo>
                      <a:lnTo>
                        <a:pt x="227" y="48"/>
                      </a:lnTo>
                      <a:lnTo>
                        <a:pt x="221" y="44"/>
                      </a:lnTo>
                      <a:lnTo>
                        <a:pt x="216" y="40"/>
                      </a:lnTo>
                      <a:lnTo>
                        <a:pt x="213" y="38"/>
                      </a:lnTo>
                      <a:lnTo>
                        <a:pt x="208" y="35"/>
                      </a:lnTo>
                      <a:lnTo>
                        <a:pt x="205" y="33"/>
                      </a:lnTo>
                      <a:lnTo>
                        <a:pt x="200" y="31"/>
                      </a:lnTo>
                      <a:lnTo>
                        <a:pt x="194" y="29"/>
                      </a:lnTo>
                      <a:lnTo>
                        <a:pt x="188" y="25"/>
                      </a:lnTo>
                      <a:lnTo>
                        <a:pt x="178" y="18"/>
                      </a:lnTo>
                      <a:lnTo>
                        <a:pt x="170" y="9"/>
                      </a:lnTo>
                      <a:lnTo>
                        <a:pt x="162" y="2"/>
                      </a:lnTo>
                      <a:lnTo>
                        <a:pt x="155" y="0"/>
                      </a:lnTo>
                      <a:lnTo>
                        <a:pt x="134" y="2"/>
                      </a:lnTo>
                      <a:lnTo>
                        <a:pt x="114" y="7"/>
                      </a:lnTo>
                      <a:lnTo>
                        <a:pt x="95" y="14"/>
                      </a:lnTo>
                      <a:lnTo>
                        <a:pt x="78" y="20"/>
                      </a:lnTo>
                      <a:lnTo>
                        <a:pt x="59" y="27"/>
                      </a:lnTo>
                      <a:lnTo>
                        <a:pt x="41" y="34"/>
                      </a:lnTo>
                      <a:lnTo>
                        <a:pt x="22" y="39"/>
                      </a:lnTo>
                      <a:lnTo>
                        <a:pt x="2" y="4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034320" y="6179400"/>
                  <a:ext cx="41040" cy="43200"/>
                </a:xfrm>
                <a:custGeom>
                  <a:avLst/>
                  <a:gdLst/>
                  <a:ahLst/>
                  <a:rect l="l" t="t" r="r" b="b"/>
                  <a:pathLst>
                    <a:path w="76" h="73">
                      <a:moveTo>
                        <a:pt x="51" y="73"/>
                      </a:moveTo>
                      <a:lnTo>
                        <a:pt x="47" y="65"/>
                      </a:lnTo>
                      <a:lnTo>
                        <a:pt x="41" y="58"/>
                      </a:lnTo>
                      <a:lnTo>
                        <a:pt x="36" y="52"/>
                      </a:lnTo>
                      <a:lnTo>
                        <a:pt x="30" y="45"/>
                      </a:lnTo>
                      <a:lnTo>
                        <a:pt x="28" y="39"/>
                      </a:lnTo>
                      <a:lnTo>
                        <a:pt x="25" y="35"/>
                      </a:lnTo>
                      <a:lnTo>
                        <a:pt x="23" y="29"/>
                      </a:lnTo>
                      <a:lnTo>
                        <a:pt x="20" y="22"/>
                      </a:lnTo>
                      <a:lnTo>
                        <a:pt x="16" y="16"/>
                      </a:lnTo>
                      <a:lnTo>
                        <a:pt x="11" y="10"/>
                      </a:lnTo>
                      <a:lnTo>
                        <a:pt x="6" y="5"/>
                      </a:lnTo>
                      <a:lnTo>
                        <a:pt x="0" y="0"/>
                      </a:lnTo>
                      <a:lnTo>
                        <a:pt x="11" y="1"/>
                      </a:lnTo>
                      <a:lnTo>
                        <a:pt x="21" y="3"/>
                      </a:lnTo>
                      <a:lnTo>
                        <a:pt x="30" y="7"/>
                      </a:lnTo>
                      <a:lnTo>
                        <a:pt x="39" y="10"/>
                      </a:lnTo>
                      <a:lnTo>
                        <a:pt x="47" y="13"/>
                      </a:lnTo>
                      <a:lnTo>
                        <a:pt x="55" y="16"/>
                      </a:lnTo>
                      <a:lnTo>
                        <a:pt x="66" y="17"/>
                      </a:lnTo>
                      <a:lnTo>
                        <a:pt x="76" y="19"/>
                      </a:lnTo>
                      <a:lnTo>
                        <a:pt x="76" y="24"/>
                      </a:lnTo>
                      <a:lnTo>
                        <a:pt x="75" y="29"/>
                      </a:lnTo>
                      <a:lnTo>
                        <a:pt x="75" y="35"/>
                      </a:lnTo>
                      <a:lnTo>
                        <a:pt x="74" y="39"/>
                      </a:lnTo>
                      <a:lnTo>
                        <a:pt x="74" y="44"/>
                      </a:lnTo>
                      <a:lnTo>
                        <a:pt x="73" y="49"/>
                      </a:lnTo>
                      <a:lnTo>
                        <a:pt x="73" y="53"/>
                      </a:lnTo>
                      <a:lnTo>
                        <a:pt x="73" y="57"/>
                      </a:lnTo>
                      <a:lnTo>
                        <a:pt x="67" y="62"/>
                      </a:lnTo>
                      <a:lnTo>
                        <a:pt x="63" y="67"/>
                      </a:lnTo>
                      <a:lnTo>
                        <a:pt x="59" y="69"/>
                      </a:lnTo>
                      <a:lnTo>
                        <a:pt x="51" y="73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5751720" y="6106320"/>
                  <a:ext cx="74520" cy="67320"/>
                </a:xfrm>
                <a:custGeom>
                  <a:avLst/>
                  <a:gdLst/>
                  <a:ahLst/>
                  <a:rect l="l" t="t" r="r" b="b"/>
                  <a:pathLst>
                    <a:path w="142" h="110">
                      <a:moveTo>
                        <a:pt x="56" y="9"/>
                      </a:moveTo>
                      <a:lnTo>
                        <a:pt x="64" y="8"/>
                      </a:lnTo>
                      <a:lnTo>
                        <a:pt x="70" y="7"/>
                      </a:lnTo>
                      <a:lnTo>
                        <a:pt x="76" y="5"/>
                      </a:lnTo>
                      <a:lnTo>
                        <a:pt x="81" y="2"/>
                      </a:lnTo>
                      <a:lnTo>
                        <a:pt x="85" y="1"/>
                      </a:lnTo>
                      <a:lnTo>
                        <a:pt x="89" y="0"/>
                      </a:lnTo>
                      <a:lnTo>
                        <a:pt x="92" y="0"/>
                      </a:lnTo>
                      <a:lnTo>
                        <a:pt x="96" y="0"/>
                      </a:lnTo>
                      <a:lnTo>
                        <a:pt x="100" y="1"/>
                      </a:lnTo>
                      <a:lnTo>
                        <a:pt x="105" y="4"/>
                      </a:lnTo>
                      <a:lnTo>
                        <a:pt x="110" y="7"/>
                      </a:lnTo>
                      <a:lnTo>
                        <a:pt x="115" y="12"/>
                      </a:lnTo>
                      <a:lnTo>
                        <a:pt x="121" y="16"/>
                      </a:lnTo>
                      <a:lnTo>
                        <a:pt x="127" y="22"/>
                      </a:lnTo>
                      <a:lnTo>
                        <a:pt x="133" y="28"/>
                      </a:lnTo>
                      <a:lnTo>
                        <a:pt x="138" y="35"/>
                      </a:lnTo>
                      <a:lnTo>
                        <a:pt x="140" y="39"/>
                      </a:lnTo>
                      <a:lnTo>
                        <a:pt x="140" y="45"/>
                      </a:lnTo>
                      <a:lnTo>
                        <a:pt x="138" y="50"/>
                      </a:lnTo>
                      <a:lnTo>
                        <a:pt x="133" y="55"/>
                      </a:lnTo>
                      <a:lnTo>
                        <a:pt x="136" y="61"/>
                      </a:lnTo>
                      <a:lnTo>
                        <a:pt x="140" y="65"/>
                      </a:lnTo>
                      <a:lnTo>
                        <a:pt x="142" y="72"/>
                      </a:lnTo>
                      <a:lnTo>
                        <a:pt x="141" y="84"/>
                      </a:lnTo>
                      <a:lnTo>
                        <a:pt x="137" y="91"/>
                      </a:lnTo>
                      <a:lnTo>
                        <a:pt x="133" y="97"/>
                      </a:lnTo>
                      <a:lnTo>
                        <a:pt x="128" y="102"/>
                      </a:lnTo>
                      <a:lnTo>
                        <a:pt x="123" y="107"/>
                      </a:lnTo>
                      <a:lnTo>
                        <a:pt x="118" y="107"/>
                      </a:lnTo>
                      <a:lnTo>
                        <a:pt x="111" y="109"/>
                      </a:lnTo>
                      <a:lnTo>
                        <a:pt x="100" y="109"/>
                      </a:lnTo>
                      <a:lnTo>
                        <a:pt x="91" y="110"/>
                      </a:lnTo>
                      <a:lnTo>
                        <a:pt x="82" y="110"/>
                      </a:lnTo>
                      <a:lnTo>
                        <a:pt x="73" y="109"/>
                      </a:lnTo>
                      <a:lnTo>
                        <a:pt x="67" y="107"/>
                      </a:lnTo>
                      <a:lnTo>
                        <a:pt x="63" y="104"/>
                      </a:lnTo>
                      <a:lnTo>
                        <a:pt x="52" y="103"/>
                      </a:lnTo>
                      <a:lnTo>
                        <a:pt x="45" y="99"/>
                      </a:lnTo>
                      <a:lnTo>
                        <a:pt x="39" y="95"/>
                      </a:lnTo>
                      <a:lnTo>
                        <a:pt x="33" y="87"/>
                      </a:lnTo>
                      <a:lnTo>
                        <a:pt x="26" y="83"/>
                      </a:lnTo>
                      <a:lnTo>
                        <a:pt x="19" y="80"/>
                      </a:lnTo>
                      <a:lnTo>
                        <a:pt x="14" y="75"/>
                      </a:lnTo>
                      <a:lnTo>
                        <a:pt x="8" y="72"/>
                      </a:lnTo>
                      <a:lnTo>
                        <a:pt x="3" y="69"/>
                      </a:lnTo>
                      <a:lnTo>
                        <a:pt x="1" y="65"/>
                      </a:lnTo>
                      <a:lnTo>
                        <a:pt x="0" y="60"/>
                      </a:lnTo>
                      <a:lnTo>
                        <a:pt x="1" y="53"/>
                      </a:lnTo>
                      <a:lnTo>
                        <a:pt x="8" y="50"/>
                      </a:lnTo>
                      <a:lnTo>
                        <a:pt x="17" y="50"/>
                      </a:lnTo>
                      <a:lnTo>
                        <a:pt x="26" y="52"/>
                      </a:lnTo>
                      <a:lnTo>
                        <a:pt x="34" y="55"/>
                      </a:lnTo>
                      <a:lnTo>
                        <a:pt x="33" y="45"/>
                      </a:lnTo>
                      <a:lnTo>
                        <a:pt x="38" y="38"/>
                      </a:lnTo>
                      <a:lnTo>
                        <a:pt x="47" y="35"/>
                      </a:lnTo>
                      <a:lnTo>
                        <a:pt x="59" y="35"/>
                      </a:lnTo>
                      <a:lnTo>
                        <a:pt x="59" y="29"/>
                      </a:lnTo>
                      <a:lnTo>
                        <a:pt x="58" y="22"/>
                      </a:lnTo>
                      <a:lnTo>
                        <a:pt x="58" y="16"/>
                      </a:lnTo>
                      <a:lnTo>
                        <a:pt x="56" y="9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5985000" y="6155280"/>
                  <a:ext cx="76320" cy="113040"/>
                </a:xfrm>
                <a:custGeom>
                  <a:avLst/>
                  <a:gdLst/>
                  <a:ahLst/>
                  <a:rect l="l" t="t" r="r" b="b"/>
                  <a:pathLst>
                    <a:path w="146" h="187">
                      <a:moveTo>
                        <a:pt x="44" y="14"/>
                      </a:moveTo>
                      <a:lnTo>
                        <a:pt x="41" y="9"/>
                      </a:lnTo>
                      <a:lnTo>
                        <a:pt x="36" y="6"/>
                      </a:lnTo>
                      <a:lnTo>
                        <a:pt x="31" y="2"/>
                      </a:lnTo>
                      <a:lnTo>
                        <a:pt x="27" y="0"/>
                      </a:lnTo>
                      <a:lnTo>
                        <a:pt x="22" y="1"/>
                      </a:lnTo>
                      <a:lnTo>
                        <a:pt x="19" y="3"/>
                      </a:lnTo>
                      <a:lnTo>
                        <a:pt x="17" y="7"/>
                      </a:lnTo>
                      <a:lnTo>
                        <a:pt x="16" y="11"/>
                      </a:lnTo>
                      <a:lnTo>
                        <a:pt x="17" y="15"/>
                      </a:lnTo>
                      <a:lnTo>
                        <a:pt x="19" y="19"/>
                      </a:lnTo>
                      <a:lnTo>
                        <a:pt x="20" y="23"/>
                      </a:lnTo>
                      <a:lnTo>
                        <a:pt x="21" y="27"/>
                      </a:lnTo>
                      <a:lnTo>
                        <a:pt x="20" y="30"/>
                      </a:lnTo>
                      <a:lnTo>
                        <a:pt x="20" y="33"/>
                      </a:lnTo>
                      <a:lnTo>
                        <a:pt x="21" y="37"/>
                      </a:lnTo>
                      <a:lnTo>
                        <a:pt x="23" y="40"/>
                      </a:lnTo>
                      <a:lnTo>
                        <a:pt x="28" y="47"/>
                      </a:lnTo>
                      <a:lnTo>
                        <a:pt x="32" y="49"/>
                      </a:lnTo>
                      <a:lnTo>
                        <a:pt x="38" y="51"/>
                      </a:lnTo>
                      <a:lnTo>
                        <a:pt x="43" y="51"/>
                      </a:lnTo>
                      <a:lnTo>
                        <a:pt x="37" y="52"/>
                      </a:lnTo>
                      <a:lnTo>
                        <a:pt x="31" y="51"/>
                      </a:lnTo>
                      <a:lnTo>
                        <a:pt x="27" y="49"/>
                      </a:lnTo>
                      <a:lnTo>
                        <a:pt x="21" y="48"/>
                      </a:lnTo>
                      <a:lnTo>
                        <a:pt x="14" y="51"/>
                      </a:lnTo>
                      <a:lnTo>
                        <a:pt x="8" y="56"/>
                      </a:lnTo>
                      <a:lnTo>
                        <a:pt x="6" y="66"/>
                      </a:lnTo>
                      <a:lnTo>
                        <a:pt x="9" y="73"/>
                      </a:lnTo>
                      <a:lnTo>
                        <a:pt x="2" y="76"/>
                      </a:lnTo>
                      <a:lnTo>
                        <a:pt x="0" y="85"/>
                      </a:lnTo>
                      <a:lnTo>
                        <a:pt x="1" y="94"/>
                      </a:lnTo>
                      <a:lnTo>
                        <a:pt x="8" y="101"/>
                      </a:lnTo>
                      <a:lnTo>
                        <a:pt x="5" y="104"/>
                      </a:lnTo>
                      <a:lnTo>
                        <a:pt x="2" y="107"/>
                      </a:lnTo>
                      <a:lnTo>
                        <a:pt x="1" y="109"/>
                      </a:lnTo>
                      <a:lnTo>
                        <a:pt x="0" y="115"/>
                      </a:lnTo>
                      <a:lnTo>
                        <a:pt x="4" y="125"/>
                      </a:lnTo>
                      <a:lnTo>
                        <a:pt x="8" y="130"/>
                      </a:lnTo>
                      <a:lnTo>
                        <a:pt x="15" y="133"/>
                      </a:lnTo>
                      <a:lnTo>
                        <a:pt x="26" y="133"/>
                      </a:lnTo>
                      <a:lnTo>
                        <a:pt x="36" y="141"/>
                      </a:lnTo>
                      <a:lnTo>
                        <a:pt x="46" y="149"/>
                      </a:lnTo>
                      <a:lnTo>
                        <a:pt x="57" y="158"/>
                      </a:lnTo>
                      <a:lnTo>
                        <a:pt x="67" y="167"/>
                      </a:lnTo>
                      <a:lnTo>
                        <a:pt x="78" y="175"/>
                      </a:lnTo>
                      <a:lnTo>
                        <a:pt x="89" y="181"/>
                      </a:lnTo>
                      <a:lnTo>
                        <a:pt x="102" y="186"/>
                      </a:lnTo>
                      <a:lnTo>
                        <a:pt x="115" y="187"/>
                      </a:lnTo>
                      <a:lnTo>
                        <a:pt x="119" y="176"/>
                      </a:lnTo>
                      <a:lnTo>
                        <a:pt x="123" y="164"/>
                      </a:lnTo>
                      <a:lnTo>
                        <a:pt x="127" y="152"/>
                      </a:lnTo>
                      <a:lnTo>
                        <a:pt x="132" y="140"/>
                      </a:lnTo>
                      <a:lnTo>
                        <a:pt x="135" y="129"/>
                      </a:lnTo>
                      <a:lnTo>
                        <a:pt x="140" y="121"/>
                      </a:lnTo>
                      <a:lnTo>
                        <a:pt x="143" y="114"/>
                      </a:lnTo>
                      <a:lnTo>
                        <a:pt x="146" y="112"/>
                      </a:lnTo>
                      <a:lnTo>
                        <a:pt x="142" y="104"/>
                      </a:lnTo>
                      <a:lnTo>
                        <a:pt x="136" y="97"/>
                      </a:lnTo>
                      <a:lnTo>
                        <a:pt x="131" y="91"/>
                      </a:lnTo>
                      <a:lnTo>
                        <a:pt x="125" y="84"/>
                      </a:lnTo>
                      <a:lnTo>
                        <a:pt x="123" y="78"/>
                      </a:lnTo>
                      <a:lnTo>
                        <a:pt x="120" y="74"/>
                      </a:lnTo>
                      <a:lnTo>
                        <a:pt x="118" y="68"/>
                      </a:lnTo>
                      <a:lnTo>
                        <a:pt x="115" y="61"/>
                      </a:lnTo>
                      <a:lnTo>
                        <a:pt x="111" y="55"/>
                      </a:lnTo>
                      <a:lnTo>
                        <a:pt x="106" y="49"/>
                      </a:lnTo>
                      <a:lnTo>
                        <a:pt x="101" y="44"/>
                      </a:lnTo>
                      <a:lnTo>
                        <a:pt x="95" y="39"/>
                      </a:lnTo>
                      <a:lnTo>
                        <a:pt x="84" y="30"/>
                      </a:lnTo>
                      <a:lnTo>
                        <a:pt x="79" y="23"/>
                      </a:lnTo>
                      <a:lnTo>
                        <a:pt x="74" y="18"/>
                      </a:lnTo>
                      <a:lnTo>
                        <a:pt x="68" y="17"/>
                      </a:lnTo>
                      <a:lnTo>
                        <a:pt x="63" y="16"/>
                      </a:lnTo>
                      <a:lnTo>
                        <a:pt x="58" y="15"/>
                      </a:lnTo>
                      <a:lnTo>
                        <a:pt x="53" y="15"/>
                      </a:lnTo>
                      <a:lnTo>
                        <a:pt x="44" y="1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975200" y="5943960"/>
                  <a:ext cx="406440" cy="388440"/>
                </a:xfrm>
                <a:custGeom>
                  <a:avLst/>
                  <a:gdLst/>
                  <a:ahLst/>
                  <a:rect l="l" t="t" r="r" b="b"/>
                  <a:pathLst>
                    <a:path w="768" h="639">
                      <a:moveTo>
                        <a:pt x="768" y="409"/>
                      </a:moveTo>
                      <a:lnTo>
                        <a:pt x="765" y="409"/>
                      </a:lnTo>
                      <a:lnTo>
                        <a:pt x="761" y="409"/>
                      </a:lnTo>
                      <a:lnTo>
                        <a:pt x="758" y="409"/>
                      </a:lnTo>
                      <a:lnTo>
                        <a:pt x="754" y="409"/>
                      </a:lnTo>
                      <a:lnTo>
                        <a:pt x="751" y="409"/>
                      </a:lnTo>
                      <a:lnTo>
                        <a:pt x="747" y="409"/>
                      </a:lnTo>
                      <a:lnTo>
                        <a:pt x="743" y="408"/>
                      </a:lnTo>
                      <a:lnTo>
                        <a:pt x="739" y="408"/>
                      </a:lnTo>
                      <a:lnTo>
                        <a:pt x="736" y="408"/>
                      </a:lnTo>
                      <a:lnTo>
                        <a:pt x="732" y="407"/>
                      </a:lnTo>
                      <a:lnTo>
                        <a:pt x="729" y="407"/>
                      </a:lnTo>
                      <a:lnTo>
                        <a:pt x="725" y="406"/>
                      </a:lnTo>
                      <a:lnTo>
                        <a:pt x="722" y="406"/>
                      </a:lnTo>
                      <a:lnTo>
                        <a:pt x="718" y="405"/>
                      </a:lnTo>
                      <a:lnTo>
                        <a:pt x="715" y="405"/>
                      </a:lnTo>
                      <a:lnTo>
                        <a:pt x="711" y="405"/>
                      </a:lnTo>
                      <a:lnTo>
                        <a:pt x="708" y="404"/>
                      </a:lnTo>
                      <a:lnTo>
                        <a:pt x="704" y="404"/>
                      </a:lnTo>
                      <a:lnTo>
                        <a:pt x="701" y="404"/>
                      </a:lnTo>
                      <a:lnTo>
                        <a:pt x="698" y="404"/>
                      </a:lnTo>
                      <a:lnTo>
                        <a:pt x="694" y="404"/>
                      </a:lnTo>
                      <a:lnTo>
                        <a:pt x="691" y="404"/>
                      </a:lnTo>
                      <a:lnTo>
                        <a:pt x="687" y="404"/>
                      </a:lnTo>
                      <a:lnTo>
                        <a:pt x="684" y="405"/>
                      </a:lnTo>
                      <a:lnTo>
                        <a:pt x="680" y="405"/>
                      </a:lnTo>
                      <a:lnTo>
                        <a:pt x="677" y="406"/>
                      </a:lnTo>
                      <a:lnTo>
                        <a:pt x="673" y="407"/>
                      </a:lnTo>
                      <a:lnTo>
                        <a:pt x="670" y="408"/>
                      </a:lnTo>
                      <a:lnTo>
                        <a:pt x="666" y="409"/>
                      </a:lnTo>
                      <a:lnTo>
                        <a:pt x="663" y="410"/>
                      </a:lnTo>
                      <a:lnTo>
                        <a:pt x="659" y="413"/>
                      </a:lnTo>
                      <a:lnTo>
                        <a:pt x="656" y="415"/>
                      </a:lnTo>
                      <a:lnTo>
                        <a:pt x="655" y="415"/>
                      </a:lnTo>
                      <a:lnTo>
                        <a:pt x="654" y="416"/>
                      </a:lnTo>
                      <a:lnTo>
                        <a:pt x="652" y="417"/>
                      </a:lnTo>
                      <a:lnTo>
                        <a:pt x="651" y="419"/>
                      </a:lnTo>
                      <a:lnTo>
                        <a:pt x="650" y="420"/>
                      </a:lnTo>
                      <a:lnTo>
                        <a:pt x="650" y="421"/>
                      </a:lnTo>
                      <a:lnTo>
                        <a:pt x="649" y="422"/>
                      </a:lnTo>
                      <a:lnTo>
                        <a:pt x="648" y="424"/>
                      </a:lnTo>
                      <a:lnTo>
                        <a:pt x="647" y="425"/>
                      </a:lnTo>
                      <a:lnTo>
                        <a:pt x="647" y="427"/>
                      </a:lnTo>
                      <a:lnTo>
                        <a:pt x="646" y="428"/>
                      </a:lnTo>
                      <a:lnTo>
                        <a:pt x="646" y="430"/>
                      </a:lnTo>
                      <a:lnTo>
                        <a:pt x="644" y="431"/>
                      </a:lnTo>
                      <a:lnTo>
                        <a:pt x="643" y="432"/>
                      </a:lnTo>
                      <a:lnTo>
                        <a:pt x="643" y="435"/>
                      </a:lnTo>
                      <a:lnTo>
                        <a:pt x="642" y="436"/>
                      </a:lnTo>
                      <a:lnTo>
                        <a:pt x="642" y="438"/>
                      </a:lnTo>
                      <a:lnTo>
                        <a:pt x="641" y="439"/>
                      </a:lnTo>
                      <a:lnTo>
                        <a:pt x="641" y="440"/>
                      </a:lnTo>
                      <a:lnTo>
                        <a:pt x="640" y="443"/>
                      </a:lnTo>
                      <a:lnTo>
                        <a:pt x="640" y="444"/>
                      </a:lnTo>
                      <a:lnTo>
                        <a:pt x="639" y="445"/>
                      </a:lnTo>
                      <a:lnTo>
                        <a:pt x="639" y="446"/>
                      </a:lnTo>
                      <a:lnTo>
                        <a:pt x="637" y="449"/>
                      </a:lnTo>
                      <a:lnTo>
                        <a:pt x="637" y="450"/>
                      </a:lnTo>
                      <a:lnTo>
                        <a:pt x="636" y="451"/>
                      </a:lnTo>
                      <a:lnTo>
                        <a:pt x="636" y="452"/>
                      </a:lnTo>
                      <a:lnTo>
                        <a:pt x="635" y="453"/>
                      </a:lnTo>
                      <a:lnTo>
                        <a:pt x="634" y="453"/>
                      </a:lnTo>
                      <a:lnTo>
                        <a:pt x="634" y="454"/>
                      </a:lnTo>
                      <a:lnTo>
                        <a:pt x="633" y="455"/>
                      </a:lnTo>
                      <a:lnTo>
                        <a:pt x="632" y="458"/>
                      </a:lnTo>
                      <a:lnTo>
                        <a:pt x="632" y="460"/>
                      </a:lnTo>
                      <a:lnTo>
                        <a:pt x="632" y="461"/>
                      </a:lnTo>
                      <a:lnTo>
                        <a:pt x="632" y="464"/>
                      </a:lnTo>
                      <a:lnTo>
                        <a:pt x="632" y="465"/>
                      </a:lnTo>
                      <a:lnTo>
                        <a:pt x="632" y="466"/>
                      </a:lnTo>
                      <a:lnTo>
                        <a:pt x="633" y="467"/>
                      </a:lnTo>
                      <a:lnTo>
                        <a:pt x="633" y="468"/>
                      </a:lnTo>
                      <a:lnTo>
                        <a:pt x="634" y="469"/>
                      </a:lnTo>
                      <a:lnTo>
                        <a:pt x="634" y="471"/>
                      </a:lnTo>
                      <a:lnTo>
                        <a:pt x="635" y="472"/>
                      </a:lnTo>
                      <a:lnTo>
                        <a:pt x="636" y="473"/>
                      </a:lnTo>
                      <a:lnTo>
                        <a:pt x="637" y="474"/>
                      </a:lnTo>
                      <a:lnTo>
                        <a:pt x="639" y="475"/>
                      </a:lnTo>
                      <a:lnTo>
                        <a:pt x="640" y="475"/>
                      </a:lnTo>
                      <a:lnTo>
                        <a:pt x="640" y="476"/>
                      </a:lnTo>
                      <a:lnTo>
                        <a:pt x="641" y="477"/>
                      </a:lnTo>
                      <a:lnTo>
                        <a:pt x="642" y="477"/>
                      </a:lnTo>
                      <a:lnTo>
                        <a:pt x="643" y="479"/>
                      </a:lnTo>
                      <a:lnTo>
                        <a:pt x="643" y="480"/>
                      </a:lnTo>
                      <a:lnTo>
                        <a:pt x="644" y="481"/>
                      </a:lnTo>
                      <a:lnTo>
                        <a:pt x="644" y="482"/>
                      </a:lnTo>
                      <a:lnTo>
                        <a:pt x="646" y="483"/>
                      </a:lnTo>
                      <a:lnTo>
                        <a:pt x="646" y="484"/>
                      </a:lnTo>
                      <a:lnTo>
                        <a:pt x="647" y="486"/>
                      </a:lnTo>
                      <a:lnTo>
                        <a:pt x="647" y="488"/>
                      </a:lnTo>
                      <a:lnTo>
                        <a:pt x="648" y="489"/>
                      </a:lnTo>
                      <a:lnTo>
                        <a:pt x="648" y="491"/>
                      </a:lnTo>
                      <a:lnTo>
                        <a:pt x="648" y="494"/>
                      </a:lnTo>
                      <a:lnTo>
                        <a:pt x="648" y="496"/>
                      </a:lnTo>
                      <a:lnTo>
                        <a:pt x="649" y="496"/>
                      </a:lnTo>
                      <a:lnTo>
                        <a:pt x="650" y="495"/>
                      </a:lnTo>
                      <a:lnTo>
                        <a:pt x="652" y="495"/>
                      </a:lnTo>
                      <a:lnTo>
                        <a:pt x="654" y="495"/>
                      </a:lnTo>
                      <a:lnTo>
                        <a:pt x="656" y="496"/>
                      </a:lnTo>
                      <a:lnTo>
                        <a:pt x="658" y="496"/>
                      </a:lnTo>
                      <a:lnTo>
                        <a:pt x="661" y="496"/>
                      </a:lnTo>
                      <a:lnTo>
                        <a:pt x="663" y="496"/>
                      </a:lnTo>
                      <a:lnTo>
                        <a:pt x="665" y="496"/>
                      </a:lnTo>
                      <a:lnTo>
                        <a:pt x="667" y="497"/>
                      </a:lnTo>
                      <a:lnTo>
                        <a:pt x="670" y="497"/>
                      </a:lnTo>
                      <a:lnTo>
                        <a:pt x="672" y="498"/>
                      </a:lnTo>
                      <a:lnTo>
                        <a:pt x="674" y="498"/>
                      </a:lnTo>
                      <a:lnTo>
                        <a:pt x="678" y="499"/>
                      </a:lnTo>
                      <a:lnTo>
                        <a:pt x="680" y="499"/>
                      </a:lnTo>
                      <a:lnTo>
                        <a:pt x="684" y="501"/>
                      </a:lnTo>
                      <a:lnTo>
                        <a:pt x="686" y="501"/>
                      </a:lnTo>
                      <a:lnTo>
                        <a:pt x="688" y="502"/>
                      </a:lnTo>
                      <a:lnTo>
                        <a:pt x="692" y="502"/>
                      </a:lnTo>
                      <a:lnTo>
                        <a:pt x="694" y="503"/>
                      </a:lnTo>
                      <a:lnTo>
                        <a:pt x="696" y="503"/>
                      </a:lnTo>
                      <a:lnTo>
                        <a:pt x="700" y="504"/>
                      </a:lnTo>
                      <a:lnTo>
                        <a:pt x="702" y="504"/>
                      </a:lnTo>
                      <a:lnTo>
                        <a:pt x="704" y="505"/>
                      </a:lnTo>
                      <a:lnTo>
                        <a:pt x="707" y="505"/>
                      </a:lnTo>
                      <a:lnTo>
                        <a:pt x="709" y="506"/>
                      </a:lnTo>
                      <a:lnTo>
                        <a:pt x="711" y="506"/>
                      </a:lnTo>
                      <a:lnTo>
                        <a:pt x="714" y="506"/>
                      </a:lnTo>
                      <a:lnTo>
                        <a:pt x="716" y="506"/>
                      </a:lnTo>
                      <a:lnTo>
                        <a:pt x="718" y="507"/>
                      </a:lnTo>
                      <a:lnTo>
                        <a:pt x="719" y="507"/>
                      </a:lnTo>
                      <a:lnTo>
                        <a:pt x="722" y="507"/>
                      </a:lnTo>
                      <a:lnTo>
                        <a:pt x="719" y="505"/>
                      </a:lnTo>
                      <a:lnTo>
                        <a:pt x="718" y="503"/>
                      </a:lnTo>
                      <a:lnTo>
                        <a:pt x="716" y="502"/>
                      </a:lnTo>
                      <a:lnTo>
                        <a:pt x="715" y="499"/>
                      </a:lnTo>
                      <a:lnTo>
                        <a:pt x="713" y="498"/>
                      </a:lnTo>
                      <a:lnTo>
                        <a:pt x="711" y="496"/>
                      </a:lnTo>
                      <a:lnTo>
                        <a:pt x="710" y="495"/>
                      </a:lnTo>
                      <a:lnTo>
                        <a:pt x="709" y="492"/>
                      </a:lnTo>
                      <a:lnTo>
                        <a:pt x="708" y="491"/>
                      </a:lnTo>
                      <a:lnTo>
                        <a:pt x="706" y="490"/>
                      </a:lnTo>
                      <a:lnTo>
                        <a:pt x="704" y="488"/>
                      </a:lnTo>
                      <a:lnTo>
                        <a:pt x="704" y="487"/>
                      </a:lnTo>
                      <a:lnTo>
                        <a:pt x="703" y="486"/>
                      </a:lnTo>
                      <a:lnTo>
                        <a:pt x="702" y="483"/>
                      </a:lnTo>
                      <a:lnTo>
                        <a:pt x="701" y="482"/>
                      </a:lnTo>
                      <a:lnTo>
                        <a:pt x="700" y="480"/>
                      </a:lnTo>
                      <a:lnTo>
                        <a:pt x="700" y="479"/>
                      </a:lnTo>
                      <a:lnTo>
                        <a:pt x="699" y="476"/>
                      </a:lnTo>
                      <a:lnTo>
                        <a:pt x="699" y="475"/>
                      </a:lnTo>
                      <a:lnTo>
                        <a:pt x="698" y="473"/>
                      </a:lnTo>
                      <a:lnTo>
                        <a:pt x="698" y="471"/>
                      </a:lnTo>
                      <a:lnTo>
                        <a:pt x="696" y="468"/>
                      </a:lnTo>
                      <a:lnTo>
                        <a:pt x="696" y="467"/>
                      </a:lnTo>
                      <a:lnTo>
                        <a:pt x="696" y="465"/>
                      </a:lnTo>
                      <a:lnTo>
                        <a:pt x="696" y="461"/>
                      </a:lnTo>
                      <a:lnTo>
                        <a:pt x="695" y="459"/>
                      </a:lnTo>
                      <a:lnTo>
                        <a:pt x="695" y="457"/>
                      </a:lnTo>
                      <a:lnTo>
                        <a:pt x="695" y="454"/>
                      </a:lnTo>
                      <a:lnTo>
                        <a:pt x="696" y="451"/>
                      </a:lnTo>
                      <a:lnTo>
                        <a:pt x="696" y="447"/>
                      </a:lnTo>
                      <a:lnTo>
                        <a:pt x="696" y="445"/>
                      </a:lnTo>
                      <a:lnTo>
                        <a:pt x="696" y="442"/>
                      </a:lnTo>
                      <a:lnTo>
                        <a:pt x="698" y="439"/>
                      </a:lnTo>
                      <a:lnTo>
                        <a:pt x="699" y="437"/>
                      </a:lnTo>
                      <a:lnTo>
                        <a:pt x="700" y="435"/>
                      </a:lnTo>
                      <a:lnTo>
                        <a:pt x="701" y="434"/>
                      </a:lnTo>
                      <a:lnTo>
                        <a:pt x="703" y="431"/>
                      </a:lnTo>
                      <a:lnTo>
                        <a:pt x="706" y="430"/>
                      </a:lnTo>
                      <a:lnTo>
                        <a:pt x="708" y="429"/>
                      </a:lnTo>
                      <a:lnTo>
                        <a:pt x="710" y="428"/>
                      </a:lnTo>
                      <a:lnTo>
                        <a:pt x="713" y="427"/>
                      </a:lnTo>
                      <a:lnTo>
                        <a:pt x="716" y="425"/>
                      </a:lnTo>
                      <a:lnTo>
                        <a:pt x="718" y="424"/>
                      </a:lnTo>
                      <a:lnTo>
                        <a:pt x="722" y="423"/>
                      </a:lnTo>
                      <a:lnTo>
                        <a:pt x="724" y="422"/>
                      </a:lnTo>
                      <a:lnTo>
                        <a:pt x="728" y="422"/>
                      </a:lnTo>
                      <a:lnTo>
                        <a:pt x="730" y="421"/>
                      </a:lnTo>
                      <a:lnTo>
                        <a:pt x="733" y="420"/>
                      </a:lnTo>
                      <a:lnTo>
                        <a:pt x="737" y="420"/>
                      </a:lnTo>
                      <a:lnTo>
                        <a:pt x="739" y="419"/>
                      </a:lnTo>
                      <a:lnTo>
                        <a:pt x="743" y="419"/>
                      </a:lnTo>
                      <a:lnTo>
                        <a:pt x="745" y="417"/>
                      </a:lnTo>
                      <a:lnTo>
                        <a:pt x="748" y="417"/>
                      </a:lnTo>
                      <a:lnTo>
                        <a:pt x="751" y="416"/>
                      </a:lnTo>
                      <a:lnTo>
                        <a:pt x="754" y="416"/>
                      </a:lnTo>
                      <a:lnTo>
                        <a:pt x="756" y="415"/>
                      </a:lnTo>
                      <a:lnTo>
                        <a:pt x="759" y="415"/>
                      </a:lnTo>
                      <a:lnTo>
                        <a:pt x="760" y="414"/>
                      </a:lnTo>
                      <a:lnTo>
                        <a:pt x="762" y="414"/>
                      </a:lnTo>
                      <a:lnTo>
                        <a:pt x="765" y="413"/>
                      </a:lnTo>
                      <a:lnTo>
                        <a:pt x="766" y="412"/>
                      </a:lnTo>
                      <a:lnTo>
                        <a:pt x="767" y="412"/>
                      </a:lnTo>
                      <a:lnTo>
                        <a:pt x="768" y="410"/>
                      </a:lnTo>
                      <a:lnTo>
                        <a:pt x="768" y="409"/>
                      </a:lnTo>
                      <a:close/>
                      <a:moveTo>
                        <a:pt x="239" y="513"/>
                      </a:moveTo>
                      <a:lnTo>
                        <a:pt x="238" y="516"/>
                      </a:lnTo>
                      <a:lnTo>
                        <a:pt x="238" y="517"/>
                      </a:lnTo>
                      <a:lnTo>
                        <a:pt x="236" y="519"/>
                      </a:lnTo>
                      <a:lnTo>
                        <a:pt x="236" y="521"/>
                      </a:lnTo>
                      <a:lnTo>
                        <a:pt x="235" y="522"/>
                      </a:lnTo>
                      <a:lnTo>
                        <a:pt x="234" y="525"/>
                      </a:lnTo>
                      <a:lnTo>
                        <a:pt x="233" y="527"/>
                      </a:lnTo>
                      <a:lnTo>
                        <a:pt x="232" y="528"/>
                      </a:lnTo>
                      <a:lnTo>
                        <a:pt x="232" y="531"/>
                      </a:lnTo>
                      <a:lnTo>
                        <a:pt x="231" y="533"/>
                      </a:lnTo>
                      <a:lnTo>
                        <a:pt x="230" y="534"/>
                      </a:lnTo>
                      <a:lnTo>
                        <a:pt x="228" y="536"/>
                      </a:lnTo>
                      <a:lnTo>
                        <a:pt x="227" y="539"/>
                      </a:lnTo>
                      <a:lnTo>
                        <a:pt x="226" y="540"/>
                      </a:lnTo>
                      <a:lnTo>
                        <a:pt x="224" y="542"/>
                      </a:lnTo>
                      <a:lnTo>
                        <a:pt x="223" y="544"/>
                      </a:lnTo>
                      <a:lnTo>
                        <a:pt x="221" y="546"/>
                      </a:lnTo>
                      <a:lnTo>
                        <a:pt x="220" y="548"/>
                      </a:lnTo>
                      <a:lnTo>
                        <a:pt x="219" y="549"/>
                      </a:lnTo>
                      <a:lnTo>
                        <a:pt x="218" y="551"/>
                      </a:lnTo>
                      <a:lnTo>
                        <a:pt x="217" y="553"/>
                      </a:lnTo>
                      <a:lnTo>
                        <a:pt x="216" y="555"/>
                      </a:lnTo>
                      <a:lnTo>
                        <a:pt x="215" y="556"/>
                      </a:lnTo>
                      <a:lnTo>
                        <a:pt x="213" y="558"/>
                      </a:lnTo>
                      <a:lnTo>
                        <a:pt x="212" y="559"/>
                      </a:lnTo>
                      <a:lnTo>
                        <a:pt x="211" y="561"/>
                      </a:lnTo>
                      <a:lnTo>
                        <a:pt x="211" y="563"/>
                      </a:lnTo>
                      <a:lnTo>
                        <a:pt x="210" y="564"/>
                      </a:lnTo>
                      <a:lnTo>
                        <a:pt x="209" y="565"/>
                      </a:lnTo>
                      <a:lnTo>
                        <a:pt x="209" y="568"/>
                      </a:lnTo>
                      <a:lnTo>
                        <a:pt x="208" y="569"/>
                      </a:lnTo>
                      <a:lnTo>
                        <a:pt x="208" y="570"/>
                      </a:lnTo>
                      <a:lnTo>
                        <a:pt x="208" y="571"/>
                      </a:lnTo>
                      <a:lnTo>
                        <a:pt x="208" y="572"/>
                      </a:lnTo>
                      <a:lnTo>
                        <a:pt x="208" y="573"/>
                      </a:lnTo>
                      <a:lnTo>
                        <a:pt x="209" y="574"/>
                      </a:lnTo>
                      <a:lnTo>
                        <a:pt x="209" y="576"/>
                      </a:lnTo>
                      <a:lnTo>
                        <a:pt x="210" y="577"/>
                      </a:lnTo>
                      <a:lnTo>
                        <a:pt x="210" y="578"/>
                      </a:lnTo>
                      <a:lnTo>
                        <a:pt x="211" y="579"/>
                      </a:lnTo>
                      <a:lnTo>
                        <a:pt x="211" y="580"/>
                      </a:lnTo>
                      <a:lnTo>
                        <a:pt x="212" y="581"/>
                      </a:lnTo>
                      <a:lnTo>
                        <a:pt x="212" y="583"/>
                      </a:lnTo>
                      <a:lnTo>
                        <a:pt x="212" y="584"/>
                      </a:lnTo>
                      <a:lnTo>
                        <a:pt x="212" y="585"/>
                      </a:lnTo>
                      <a:lnTo>
                        <a:pt x="212" y="586"/>
                      </a:lnTo>
                      <a:lnTo>
                        <a:pt x="211" y="586"/>
                      </a:lnTo>
                      <a:lnTo>
                        <a:pt x="210" y="587"/>
                      </a:lnTo>
                      <a:lnTo>
                        <a:pt x="210" y="588"/>
                      </a:lnTo>
                      <a:lnTo>
                        <a:pt x="209" y="588"/>
                      </a:lnTo>
                      <a:lnTo>
                        <a:pt x="209" y="589"/>
                      </a:lnTo>
                      <a:lnTo>
                        <a:pt x="208" y="591"/>
                      </a:lnTo>
                      <a:lnTo>
                        <a:pt x="208" y="592"/>
                      </a:lnTo>
                      <a:lnTo>
                        <a:pt x="206" y="593"/>
                      </a:lnTo>
                      <a:lnTo>
                        <a:pt x="206" y="594"/>
                      </a:lnTo>
                      <a:lnTo>
                        <a:pt x="205" y="595"/>
                      </a:lnTo>
                      <a:lnTo>
                        <a:pt x="205" y="596"/>
                      </a:lnTo>
                      <a:lnTo>
                        <a:pt x="205" y="598"/>
                      </a:lnTo>
                      <a:lnTo>
                        <a:pt x="205" y="599"/>
                      </a:lnTo>
                      <a:lnTo>
                        <a:pt x="205" y="600"/>
                      </a:lnTo>
                      <a:lnTo>
                        <a:pt x="205" y="601"/>
                      </a:lnTo>
                      <a:lnTo>
                        <a:pt x="205" y="602"/>
                      </a:lnTo>
                      <a:lnTo>
                        <a:pt x="205" y="603"/>
                      </a:lnTo>
                      <a:lnTo>
                        <a:pt x="205" y="605"/>
                      </a:lnTo>
                      <a:lnTo>
                        <a:pt x="205" y="606"/>
                      </a:lnTo>
                      <a:lnTo>
                        <a:pt x="206" y="607"/>
                      </a:lnTo>
                      <a:lnTo>
                        <a:pt x="206" y="608"/>
                      </a:lnTo>
                      <a:lnTo>
                        <a:pt x="208" y="608"/>
                      </a:lnTo>
                      <a:lnTo>
                        <a:pt x="208" y="609"/>
                      </a:lnTo>
                      <a:lnTo>
                        <a:pt x="209" y="610"/>
                      </a:lnTo>
                      <a:lnTo>
                        <a:pt x="209" y="611"/>
                      </a:lnTo>
                      <a:lnTo>
                        <a:pt x="210" y="611"/>
                      </a:lnTo>
                      <a:lnTo>
                        <a:pt x="211" y="613"/>
                      </a:lnTo>
                      <a:lnTo>
                        <a:pt x="212" y="613"/>
                      </a:lnTo>
                      <a:lnTo>
                        <a:pt x="213" y="614"/>
                      </a:lnTo>
                      <a:lnTo>
                        <a:pt x="215" y="614"/>
                      </a:lnTo>
                      <a:lnTo>
                        <a:pt x="204" y="639"/>
                      </a:lnTo>
                      <a:lnTo>
                        <a:pt x="209" y="639"/>
                      </a:lnTo>
                      <a:lnTo>
                        <a:pt x="213" y="639"/>
                      </a:lnTo>
                      <a:lnTo>
                        <a:pt x="217" y="639"/>
                      </a:lnTo>
                      <a:lnTo>
                        <a:pt x="221" y="639"/>
                      </a:lnTo>
                      <a:lnTo>
                        <a:pt x="226" y="638"/>
                      </a:lnTo>
                      <a:lnTo>
                        <a:pt x="231" y="638"/>
                      </a:lnTo>
                      <a:lnTo>
                        <a:pt x="235" y="638"/>
                      </a:lnTo>
                      <a:lnTo>
                        <a:pt x="239" y="637"/>
                      </a:lnTo>
                      <a:lnTo>
                        <a:pt x="243" y="637"/>
                      </a:lnTo>
                      <a:lnTo>
                        <a:pt x="248" y="636"/>
                      </a:lnTo>
                      <a:lnTo>
                        <a:pt x="253" y="636"/>
                      </a:lnTo>
                      <a:lnTo>
                        <a:pt x="257" y="635"/>
                      </a:lnTo>
                      <a:lnTo>
                        <a:pt x="261" y="635"/>
                      </a:lnTo>
                      <a:lnTo>
                        <a:pt x="265" y="633"/>
                      </a:lnTo>
                      <a:lnTo>
                        <a:pt x="270" y="633"/>
                      </a:lnTo>
                      <a:lnTo>
                        <a:pt x="275" y="632"/>
                      </a:lnTo>
                      <a:lnTo>
                        <a:pt x="279" y="632"/>
                      </a:lnTo>
                      <a:lnTo>
                        <a:pt x="283" y="631"/>
                      </a:lnTo>
                      <a:lnTo>
                        <a:pt x="287" y="631"/>
                      </a:lnTo>
                      <a:lnTo>
                        <a:pt x="292" y="630"/>
                      </a:lnTo>
                      <a:lnTo>
                        <a:pt x="297" y="630"/>
                      </a:lnTo>
                      <a:lnTo>
                        <a:pt x="301" y="629"/>
                      </a:lnTo>
                      <a:lnTo>
                        <a:pt x="306" y="629"/>
                      </a:lnTo>
                      <a:lnTo>
                        <a:pt x="309" y="628"/>
                      </a:lnTo>
                      <a:lnTo>
                        <a:pt x="314" y="628"/>
                      </a:lnTo>
                      <a:lnTo>
                        <a:pt x="319" y="628"/>
                      </a:lnTo>
                      <a:lnTo>
                        <a:pt x="323" y="626"/>
                      </a:lnTo>
                      <a:lnTo>
                        <a:pt x="328" y="626"/>
                      </a:lnTo>
                      <a:lnTo>
                        <a:pt x="331" y="626"/>
                      </a:lnTo>
                      <a:lnTo>
                        <a:pt x="336" y="626"/>
                      </a:lnTo>
                      <a:lnTo>
                        <a:pt x="340" y="626"/>
                      </a:lnTo>
                      <a:lnTo>
                        <a:pt x="345" y="626"/>
                      </a:lnTo>
                      <a:lnTo>
                        <a:pt x="345" y="624"/>
                      </a:lnTo>
                      <a:lnTo>
                        <a:pt x="345" y="621"/>
                      </a:lnTo>
                      <a:lnTo>
                        <a:pt x="345" y="618"/>
                      </a:lnTo>
                      <a:lnTo>
                        <a:pt x="345" y="615"/>
                      </a:lnTo>
                      <a:lnTo>
                        <a:pt x="346" y="613"/>
                      </a:lnTo>
                      <a:lnTo>
                        <a:pt x="346" y="609"/>
                      </a:lnTo>
                      <a:lnTo>
                        <a:pt x="346" y="606"/>
                      </a:lnTo>
                      <a:lnTo>
                        <a:pt x="347" y="602"/>
                      </a:lnTo>
                      <a:lnTo>
                        <a:pt x="347" y="599"/>
                      </a:lnTo>
                      <a:lnTo>
                        <a:pt x="347" y="595"/>
                      </a:lnTo>
                      <a:lnTo>
                        <a:pt x="349" y="591"/>
                      </a:lnTo>
                      <a:lnTo>
                        <a:pt x="349" y="587"/>
                      </a:lnTo>
                      <a:lnTo>
                        <a:pt x="349" y="584"/>
                      </a:lnTo>
                      <a:lnTo>
                        <a:pt x="350" y="580"/>
                      </a:lnTo>
                      <a:lnTo>
                        <a:pt x="350" y="576"/>
                      </a:lnTo>
                      <a:lnTo>
                        <a:pt x="351" y="572"/>
                      </a:lnTo>
                      <a:lnTo>
                        <a:pt x="351" y="568"/>
                      </a:lnTo>
                      <a:lnTo>
                        <a:pt x="351" y="564"/>
                      </a:lnTo>
                      <a:lnTo>
                        <a:pt x="351" y="561"/>
                      </a:lnTo>
                      <a:lnTo>
                        <a:pt x="352" y="557"/>
                      </a:lnTo>
                      <a:lnTo>
                        <a:pt x="352" y="553"/>
                      </a:lnTo>
                      <a:lnTo>
                        <a:pt x="352" y="549"/>
                      </a:lnTo>
                      <a:lnTo>
                        <a:pt x="352" y="546"/>
                      </a:lnTo>
                      <a:lnTo>
                        <a:pt x="352" y="542"/>
                      </a:lnTo>
                      <a:lnTo>
                        <a:pt x="352" y="539"/>
                      </a:lnTo>
                      <a:lnTo>
                        <a:pt x="352" y="535"/>
                      </a:lnTo>
                      <a:lnTo>
                        <a:pt x="352" y="532"/>
                      </a:lnTo>
                      <a:lnTo>
                        <a:pt x="352" y="528"/>
                      </a:lnTo>
                      <a:lnTo>
                        <a:pt x="351" y="526"/>
                      </a:lnTo>
                      <a:lnTo>
                        <a:pt x="351" y="522"/>
                      </a:lnTo>
                      <a:lnTo>
                        <a:pt x="350" y="520"/>
                      </a:lnTo>
                      <a:lnTo>
                        <a:pt x="350" y="518"/>
                      </a:lnTo>
                      <a:lnTo>
                        <a:pt x="345" y="507"/>
                      </a:lnTo>
                      <a:lnTo>
                        <a:pt x="343" y="507"/>
                      </a:lnTo>
                      <a:lnTo>
                        <a:pt x="340" y="506"/>
                      </a:lnTo>
                      <a:lnTo>
                        <a:pt x="338" y="506"/>
                      </a:lnTo>
                      <a:lnTo>
                        <a:pt x="335" y="506"/>
                      </a:lnTo>
                      <a:lnTo>
                        <a:pt x="331" y="506"/>
                      </a:lnTo>
                      <a:lnTo>
                        <a:pt x="329" y="506"/>
                      </a:lnTo>
                      <a:lnTo>
                        <a:pt x="325" y="506"/>
                      </a:lnTo>
                      <a:lnTo>
                        <a:pt x="322" y="506"/>
                      </a:lnTo>
                      <a:lnTo>
                        <a:pt x="319" y="506"/>
                      </a:lnTo>
                      <a:lnTo>
                        <a:pt x="315" y="506"/>
                      </a:lnTo>
                      <a:lnTo>
                        <a:pt x="312" y="506"/>
                      </a:lnTo>
                      <a:lnTo>
                        <a:pt x="308" y="506"/>
                      </a:lnTo>
                      <a:lnTo>
                        <a:pt x="305" y="506"/>
                      </a:lnTo>
                      <a:lnTo>
                        <a:pt x="300" y="507"/>
                      </a:lnTo>
                      <a:lnTo>
                        <a:pt x="297" y="507"/>
                      </a:lnTo>
                      <a:lnTo>
                        <a:pt x="293" y="507"/>
                      </a:lnTo>
                      <a:lnTo>
                        <a:pt x="290" y="509"/>
                      </a:lnTo>
                      <a:lnTo>
                        <a:pt x="285" y="509"/>
                      </a:lnTo>
                      <a:lnTo>
                        <a:pt x="282" y="509"/>
                      </a:lnTo>
                      <a:lnTo>
                        <a:pt x="278" y="510"/>
                      </a:lnTo>
                      <a:lnTo>
                        <a:pt x="275" y="510"/>
                      </a:lnTo>
                      <a:lnTo>
                        <a:pt x="271" y="511"/>
                      </a:lnTo>
                      <a:lnTo>
                        <a:pt x="267" y="511"/>
                      </a:lnTo>
                      <a:lnTo>
                        <a:pt x="263" y="511"/>
                      </a:lnTo>
                      <a:lnTo>
                        <a:pt x="260" y="512"/>
                      </a:lnTo>
                      <a:lnTo>
                        <a:pt x="256" y="512"/>
                      </a:lnTo>
                      <a:lnTo>
                        <a:pt x="254" y="512"/>
                      </a:lnTo>
                      <a:lnTo>
                        <a:pt x="250" y="512"/>
                      </a:lnTo>
                      <a:lnTo>
                        <a:pt x="247" y="513"/>
                      </a:lnTo>
                      <a:lnTo>
                        <a:pt x="245" y="513"/>
                      </a:lnTo>
                      <a:lnTo>
                        <a:pt x="241" y="513"/>
                      </a:lnTo>
                      <a:lnTo>
                        <a:pt x="239" y="513"/>
                      </a:lnTo>
                      <a:close/>
                      <a:moveTo>
                        <a:pt x="160" y="101"/>
                      </a:moveTo>
                      <a:lnTo>
                        <a:pt x="161" y="102"/>
                      </a:lnTo>
                      <a:lnTo>
                        <a:pt x="163" y="103"/>
                      </a:lnTo>
                      <a:lnTo>
                        <a:pt x="165" y="104"/>
                      </a:lnTo>
                      <a:lnTo>
                        <a:pt x="166" y="104"/>
                      </a:lnTo>
                      <a:lnTo>
                        <a:pt x="167" y="105"/>
                      </a:lnTo>
                      <a:lnTo>
                        <a:pt x="168" y="107"/>
                      </a:lnTo>
                      <a:lnTo>
                        <a:pt x="171" y="108"/>
                      </a:lnTo>
                      <a:lnTo>
                        <a:pt x="172" y="108"/>
                      </a:lnTo>
                      <a:lnTo>
                        <a:pt x="173" y="109"/>
                      </a:lnTo>
                      <a:lnTo>
                        <a:pt x="174" y="110"/>
                      </a:lnTo>
                      <a:lnTo>
                        <a:pt x="175" y="111"/>
                      </a:lnTo>
                      <a:lnTo>
                        <a:pt x="176" y="112"/>
                      </a:lnTo>
                      <a:lnTo>
                        <a:pt x="178" y="114"/>
                      </a:lnTo>
                      <a:lnTo>
                        <a:pt x="179" y="115"/>
                      </a:lnTo>
                      <a:lnTo>
                        <a:pt x="180" y="116"/>
                      </a:lnTo>
                      <a:lnTo>
                        <a:pt x="180" y="117"/>
                      </a:lnTo>
                      <a:lnTo>
                        <a:pt x="181" y="118"/>
                      </a:lnTo>
                      <a:lnTo>
                        <a:pt x="181" y="120"/>
                      </a:lnTo>
                      <a:lnTo>
                        <a:pt x="182" y="122"/>
                      </a:lnTo>
                      <a:lnTo>
                        <a:pt x="182" y="123"/>
                      </a:lnTo>
                      <a:lnTo>
                        <a:pt x="182" y="124"/>
                      </a:lnTo>
                      <a:lnTo>
                        <a:pt x="182" y="126"/>
                      </a:lnTo>
                      <a:lnTo>
                        <a:pt x="182" y="129"/>
                      </a:lnTo>
                      <a:lnTo>
                        <a:pt x="182" y="130"/>
                      </a:lnTo>
                      <a:lnTo>
                        <a:pt x="182" y="132"/>
                      </a:lnTo>
                      <a:lnTo>
                        <a:pt x="182" y="134"/>
                      </a:lnTo>
                      <a:lnTo>
                        <a:pt x="182" y="137"/>
                      </a:lnTo>
                      <a:lnTo>
                        <a:pt x="181" y="139"/>
                      </a:lnTo>
                      <a:lnTo>
                        <a:pt x="181" y="142"/>
                      </a:lnTo>
                      <a:lnTo>
                        <a:pt x="180" y="145"/>
                      </a:lnTo>
                      <a:lnTo>
                        <a:pt x="179" y="148"/>
                      </a:lnTo>
                      <a:lnTo>
                        <a:pt x="181" y="145"/>
                      </a:lnTo>
                      <a:lnTo>
                        <a:pt x="182" y="142"/>
                      </a:lnTo>
                      <a:lnTo>
                        <a:pt x="183" y="140"/>
                      </a:lnTo>
                      <a:lnTo>
                        <a:pt x="184" y="138"/>
                      </a:lnTo>
                      <a:lnTo>
                        <a:pt x="184" y="136"/>
                      </a:lnTo>
                      <a:lnTo>
                        <a:pt x="186" y="133"/>
                      </a:lnTo>
                      <a:lnTo>
                        <a:pt x="186" y="131"/>
                      </a:lnTo>
                      <a:lnTo>
                        <a:pt x="187" y="129"/>
                      </a:lnTo>
                      <a:lnTo>
                        <a:pt x="187" y="126"/>
                      </a:lnTo>
                      <a:lnTo>
                        <a:pt x="187" y="125"/>
                      </a:lnTo>
                      <a:lnTo>
                        <a:pt x="187" y="123"/>
                      </a:lnTo>
                      <a:lnTo>
                        <a:pt x="187" y="120"/>
                      </a:lnTo>
                      <a:lnTo>
                        <a:pt x="187" y="119"/>
                      </a:lnTo>
                      <a:lnTo>
                        <a:pt x="186" y="117"/>
                      </a:lnTo>
                      <a:lnTo>
                        <a:pt x="186" y="116"/>
                      </a:lnTo>
                      <a:lnTo>
                        <a:pt x="186" y="114"/>
                      </a:lnTo>
                      <a:lnTo>
                        <a:pt x="184" y="111"/>
                      </a:lnTo>
                      <a:lnTo>
                        <a:pt x="184" y="110"/>
                      </a:lnTo>
                      <a:lnTo>
                        <a:pt x="183" y="108"/>
                      </a:lnTo>
                      <a:lnTo>
                        <a:pt x="183" y="105"/>
                      </a:lnTo>
                      <a:lnTo>
                        <a:pt x="182" y="103"/>
                      </a:lnTo>
                      <a:lnTo>
                        <a:pt x="181" y="102"/>
                      </a:lnTo>
                      <a:lnTo>
                        <a:pt x="181" y="100"/>
                      </a:lnTo>
                      <a:lnTo>
                        <a:pt x="180" y="97"/>
                      </a:lnTo>
                      <a:lnTo>
                        <a:pt x="179" y="95"/>
                      </a:lnTo>
                      <a:lnTo>
                        <a:pt x="179" y="93"/>
                      </a:lnTo>
                      <a:lnTo>
                        <a:pt x="178" y="90"/>
                      </a:lnTo>
                      <a:lnTo>
                        <a:pt x="176" y="87"/>
                      </a:lnTo>
                      <a:lnTo>
                        <a:pt x="176" y="85"/>
                      </a:lnTo>
                      <a:lnTo>
                        <a:pt x="175" y="82"/>
                      </a:lnTo>
                      <a:lnTo>
                        <a:pt x="174" y="79"/>
                      </a:lnTo>
                      <a:lnTo>
                        <a:pt x="174" y="75"/>
                      </a:lnTo>
                      <a:lnTo>
                        <a:pt x="173" y="77"/>
                      </a:lnTo>
                      <a:lnTo>
                        <a:pt x="173" y="78"/>
                      </a:lnTo>
                      <a:lnTo>
                        <a:pt x="173" y="79"/>
                      </a:lnTo>
                      <a:lnTo>
                        <a:pt x="172" y="80"/>
                      </a:lnTo>
                      <a:lnTo>
                        <a:pt x="172" y="81"/>
                      </a:lnTo>
                      <a:lnTo>
                        <a:pt x="172" y="82"/>
                      </a:lnTo>
                      <a:lnTo>
                        <a:pt x="171" y="82"/>
                      </a:lnTo>
                      <a:lnTo>
                        <a:pt x="171" y="84"/>
                      </a:lnTo>
                      <a:lnTo>
                        <a:pt x="171" y="85"/>
                      </a:lnTo>
                      <a:lnTo>
                        <a:pt x="169" y="85"/>
                      </a:lnTo>
                      <a:lnTo>
                        <a:pt x="169" y="86"/>
                      </a:lnTo>
                      <a:lnTo>
                        <a:pt x="168" y="87"/>
                      </a:lnTo>
                      <a:lnTo>
                        <a:pt x="168" y="88"/>
                      </a:lnTo>
                      <a:lnTo>
                        <a:pt x="167" y="89"/>
                      </a:lnTo>
                      <a:lnTo>
                        <a:pt x="167" y="90"/>
                      </a:lnTo>
                      <a:lnTo>
                        <a:pt x="166" y="90"/>
                      </a:lnTo>
                      <a:lnTo>
                        <a:pt x="166" y="92"/>
                      </a:lnTo>
                      <a:lnTo>
                        <a:pt x="165" y="93"/>
                      </a:lnTo>
                      <a:lnTo>
                        <a:pt x="165" y="94"/>
                      </a:lnTo>
                      <a:lnTo>
                        <a:pt x="164" y="94"/>
                      </a:lnTo>
                      <a:lnTo>
                        <a:pt x="164" y="95"/>
                      </a:lnTo>
                      <a:lnTo>
                        <a:pt x="164" y="96"/>
                      </a:lnTo>
                      <a:lnTo>
                        <a:pt x="163" y="96"/>
                      </a:lnTo>
                      <a:lnTo>
                        <a:pt x="163" y="97"/>
                      </a:lnTo>
                      <a:lnTo>
                        <a:pt x="161" y="99"/>
                      </a:lnTo>
                      <a:lnTo>
                        <a:pt x="160" y="100"/>
                      </a:lnTo>
                      <a:lnTo>
                        <a:pt x="160" y="101"/>
                      </a:lnTo>
                      <a:close/>
                      <a:moveTo>
                        <a:pt x="0" y="18"/>
                      </a:moveTo>
                      <a:lnTo>
                        <a:pt x="1" y="21"/>
                      </a:lnTo>
                      <a:lnTo>
                        <a:pt x="2" y="25"/>
                      </a:lnTo>
                      <a:lnTo>
                        <a:pt x="3" y="28"/>
                      </a:lnTo>
                      <a:lnTo>
                        <a:pt x="4" y="32"/>
                      </a:lnTo>
                      <a:lnTo>
                        <a:pt x="5" y="35"/>
                      </a:lnTo>
                      <a:lnTo>
                        <a:pt x="7" y="37"/>
                      </a:lnTo>
                      <a:lnTo>
                        <a:pt x="8" y="41"/>
                      </a:lnTo>
                      <a:lnTo>
                        <a:pt x="9" y="44"/>
                      </a:lnTo>
                      <a:lnTo>
                        <a:pt x="10" y="47"/>
                      </a:lnTo>
                      <a:lnTo>
                        <a:pt x="11" y="50"/>
                      </a:lnTo>
                      <a:lnTo>
                        <a:pt x="11" y="52"/>
                      </a:lnTo>
                      <a:lnTo>
                        <a:pt x="12" y="56"/>
                      </a:lnTo>
                      <a:lnTo>
                        <a:pt x="13" y="58"/>
                      </a:lnTo>
                      <a:lnTo>
                        <a:pt x="15" y="62"/>
                      </a:lnTo>
                      <a:lnTo>
                        <a:pt x="16" y="64"/>
                      </a:lnTo>
                      <a:lnTo>
                        <a:pt x="17" y="67"/>
                      </a:lnTo>
                      <a:lnTo>
                        <a:pt x="17" y="70"/>
                      </a:lnTo>
                      <a:lnTo>
                        <a:pt x="18" y="73"/>
                      </a:lnTo>
                      <a:lnTo>
                        <a:pt x="19" y="75"/>
                      </a:lnTo>
                      <a:lnTo>
                        <a:pt x="20" y="78"/>
                      </a:lnTo>
                      <a:lnTo>
                        <a:pt x="22" y="81"/>
                      </a:lnTo>
                      <a:lnTo>
                        <a:pt x="23" y="84"/>
                      </a:lnTo>
                      <a:lnTo>
                        <a:pt x="24" y="87"/>
                      </a:lnTo>
                      <a:lnTo>
                        <a:pt x="24" y="90"/>
                      </a:lnTo>
                      <a:lnTo>
                        <a:pt x="25" y="93"/>
                      </a:lnTo>
                      <a:lnTo>
                        <a:pt x="26" y="96"/>
                      </a:lnTo>
                      <a:lnTo>
                        <a:pt x="27" y="100"/>
                      </a:lnTo>
                      <a:lnTo>
                        <a:pt x="29" y="102"/>
                      </a:lnTo>
                      <a:lnTo>
                        <a:pt x="30" y="105"/>
                      </a:lnTo>
                      <a:lnTo>
                        <a:pt x="31" y="109"/>
                      </a:lnTo>
                      <a:lnTo>
                        <a:pt x="32" y="112"/>
                      </a:lnTo>
                      <a:lnTo>
                        <a:pt x="34" y="116"/>
                      </a:lnTo>
                      <a:lnTo>
                        <a:pt x="37" y="118"/>
                      </a:lnTo>
                      <a:lnTo>
                        <a:pt x="39" y="120"/>
                      </a:lnTo>
                      <a:lnTo>
                        <a:pt x="41" y="123"/>
                      </a:lnTo>
                      <a:lnTo>
                        <a:pt x="44" y="126"/>
                      </a:lnTo>
                      <a:lnTo>
                        <a:pt x="47" y="129"/>
                      </a:lnTo>
                      <a:lnTo>
                        <a:pt x="49" y="132"/>
                      </a:lnTo>
                      <a:lnTo>
                        <a:pt x="53" y="134"/>
                      </a:lnTo>
                      <a:lnTo>
                        <a:pt x="55" y="138"/>
                      </a:lnTo>
                      <a:lnTo>
                        <a:pt x="59" y="141"/>
                      </a:lnTo>
                      <a:lnTo>
                        <a:pt x="61" y="145"/>
                      </a:lnTo>
                      <a:lnTo>
                        <a:pt x="64" y="148"/>
                      </a:lnTo>
                      <a:lnTo>
                        <a:pt x="68" y="152"/>
                      </a:lnTo>
                      <a:lnTo>
                        <a:pt x="70" y="155"/>
                      </a:lnTo>
                      <a:lnTo>
                        <a:pt x="74" y="159"/>
                      </a:lnTo>
                      <a:lnTo>
                        <a:pt x="76" y="162"/>
                      </a:lnTo>
                      <a:lnTo>
                        <a:pt x="79" y="166"/>
                      </a:lnTo>
                      <a:lnTo>
                        <a:pt x="83" y="169"/>
                      </a:lnTo>
                      <a:lnTo>
                        <a:pt x="85" y="171"/>
                      </a:lnTo>
                      <a:lnTo>
                        <a:pt x="89" y="175"/>
                      </a:lnTo>
                      <a:lnTo>
                        <a:pt x="91" y="178"/>
                      </a:lnTo>
                      <a:lnTo>
                        <a:pt x="94" y="181"/>
                      </a:lnTo>
                      <a:lnTo>
                        <a:pt x="97" y="183"/>
                      </a:lnTo>
                      <a:lnTo>
                        <a:pt x="99" y="186"/>
                      </a:lnTo>
                      <a:lnTo>
                        <a:pt x="101" y="187"/>
                      </a:lnTo>
                      <a:lnTo>
                        <a:pt x="104" y="190"/>
                      </a:lnTo>
                      <a:lnTo>
                        <a:pt x="106" y="192"/>
                      </a:lnTo>
                      <a:lnTo>
                        <a:pt x="108" y="193"/>
                      </a:lnTo>
                      <a:lnTo>
                        <a:pt x="111" y="194"/>
                      </a:lnTo>
                      <a:lnTo>
                        <a:pt x="113" y="196"/>
                      </a:lnTo>
                      <a:lnTo>
                        <a:pt x="114" y="197"/>
                      </a:lnTo>
                      <a:lnTo>
                        <a:pt x="116" y="197"/>
                      </a:lnTo>
                      <a:lnTo>
                        <a:pt x="117" y="197"/>
                      </a:lnTo>
                      <a:lnTo>
                        <a:pt x="119" y="196"/>
                      </a:lnTo>
                      <a:lnTo>
                        <a:pt x="119" y="194"/>
                      </a:lnTo>
                      <a:lnTo>
                        <a:pt x="120" y="193"/>
                      </a:lnTo>
                      <a:lnTo>
                        <a:pt x="120" y="192"/>
                      </a:lnTo>
                      <a:lnTo>
                        <a:pt x="120" y="191"/>
                      </a:lnTo>
                      <a:lnTo>
                        <a:pt x="121" y="190"/>
                      </a:lnTo>
                      <a:lnTo>
                        <a:pt x="121" y="189"/>
                      </a:lnTo>
                      <a:lnTo>
                        <a:pt x="122" y="186"/>
                      </a:lnTo>
                      <a:lnTo>
                        <a:pt x="122" y="184"/>
                      </a:lnTo>
                      <a:lnTo>
                        <a:pt x="122" y="183"/>
                      </a:lnTo>
                      <a:lnTo>
                        <a:pt x="123" y="181"/>
                      </a:lnTo>
                      <a:lnTo>
                        <a:pt x="124" y="178"/>
                      </a:lnTo>
                      <a:lnTo>
                        <a:pt x="124" y="176"/>
                      </a:lnTo>
                      <a:lnTo>
                        <a:pt x="126" y="174"/>
                      </a:lnTo>
                      <a:lnTo>
                        <a:pt x="127" y="171"/>
                      </a:lnTo>
                      <a:lnTo>
                        <a:pt x="128" y="168"/>
                      </a:lnTo>
                      <a:lnTo>
                        <a:pt x="128" y="166"/>
                      </a:lnTo>
                      <a:lnTo>
                        <a:pt x="129" y="162"/>
                      </a:lnTo>
                      <a:lnTo>
                        <a:pt x="130" y="160"/>
                      </a:lnTo>
                      <a:lnTo>
                        <a:pt x="133" y="156"/>
                      </a:lnTo>
                      <a:lnTo>
                        <a:pt x="134" y="153"/>
                      </a:lnTo>
                      <a:lnTo>
                        <a:pt x="135" y="151"/>
                      </a:lnTo>
                      <a:lnTo>
                        <a:pt x="137" y="147"/>
                      </a:lnTo>
                      <a:lnTo>
                        <a:pt x="138" y="144"/>
                      </a:lnTo>
                      <a:lnTo>
                        <a:pt x="141" y="140"/>
                      </a:lnTo>
                      <a:lnTo>
                        <a:pt x="143" y="137"/>
                      </a:lnTo>
                      <a:lnTo>
                        <a:pt x="145" y="132"/>
                      </a:lnTo>
                      <a:lnTo>
                        <a:pt x="148" y="129"/>
                      </a:lnTo>
                      <a:lnTo>
                        <a:pt x="150" y="125"/>
                      </a:lnTo>
                      <a:lnTo>
                        <a:pt x="152" y="122"/>
                      </a:lnTo>
                      <a:lnTo>
                        <a:pt x="153" y="120"/>
                      </a:lnTo>
                      <a:lnTo>
                        <a:pt x="153" y="119"/>
                      </a:lnTo>
                      <a:lnTo>
                        <a:pt x="154" y="118"/>
                      </a:lnTo>
                      <a:lnTo>
                        <a:pt x="154" y="117"/>
                      </a:lnTo>
                      <a:lnTo>
                        <a:pt x="154" y="116"/>
                      </a:lnTo>
                      <a:lnTo>
                        <a:pt x="156" y="116"/>
                      </a:lnTo>
                      <a:lnTo>
                        <a:pt x="156" y="115"/>
                      </a:lnTo>
                      <a:lnTo>
                        <a:pt x="156" y="114"/>
                      </a:lnTo>
                      <a:lnTo>
                        <a:pt x="156" y="112"/>
                      </a:lnTo>
                      <a:lnTo>
                        <a:pt x="156" y="111"/>
                      </a:lnTo>
                      <a:lnTo>
                        <a:pt x="157" y="110"/>
                      </a:lnTo>
                      <a:lnTo>
                        <a:pt x="157" y="109"/>
                      </a:lnTo>
                      <a:lnTo>
                        <a:pt x="157" y="108"/>
                      </a:lnTo>
                      <a:lnTo>
                        <a:pt x="157" y="107"/>
                      </a:lnTo>
                      <a:lnTo>
                        <a:pt x="156" y="107"/>
                      </a:lnTo>
                      <a:lnTo>
                        <a:pt x="156" y="105"/>
                      </a:lnTo>
                      <a:lnTo>
                        <a:pt x="156" y="104"/>
                      </a:lnTo>
                      <a:lnTo>
                        <a:pt x="156" y="103"/>
                      </a:lnTo>
                      <a:lnTo>
                        <a:pt x="154" y="103"/>
                      </a:lnTo>
                      <a:lnTo>
                        <a:pt x="154" y="102"/>
                      </a:lnTo>
                      <a:lnTo>
                        <a:pt x="153" y="101"/>
                      </a:lnTo>
                      <a:lnTo>
                        <a:pt x="153" y="100"/>
                      </a:lnTo>
                      <a:lnTo>
                        <a:pt x="152" y="100"/>
                      </a:lnTo>
                      <a:lnTo>
                        <a:pt x="149" y="95"/>
                      </a:lnTo>
                      <a:lnTo>
                        <a:pt x="145" y="92"/>
                      </a:lnTo>
                      <a:lnTo>
                        <a:pt x="142" y="88"/>
                      </a:lnTo>
                      <a:lnTo>
                        <a:pt x="138" y="84"/>
                      </a:lnTo>
                      <a:lnTo>
                        <a:pt x="135" y="80"/>
                      </a:lnTo>
                      <a:lnTo>
                        <a:pt x="130" y="77"/>
                      </a:lnTo>
                      <a:lnTo>
                        <a:pt x="127" y="73"/>
                      </a:lnTo>
                      <a:lnTo>
                        <a:pt x="122" y="70"/>
                      </a:lnTo>
                      <a:lnTo>
                        <a:pt x="119" y="67"/>
                      </a:lnTo>
                      <a:lnTo>
                        <a:pt x="114" y="64"/>
                      </a:lnTo>
                      <a:lnTo>
                        <a:pt x="111" y="60"/>
                      </a:lnTo>
                      <a:lnTo>
                        <a:pt x="106" y="58"/>
                      </a:lnTo>
                      <a:lnTo>
                        <a:pt x="101" y="55"/>
                      </a:lnTo>
                      <a:lnTo>
                        <a:pt x="97" y="52"/>
                      </a:lnTo>
                      <a:lnTo>
                        <a:pt x="92" y="49"/>
                      </a:lnTo>
                      <a:lnTo>
                        <a:pt x="89" y="47"/>
                      </a:lnTo>
                      <a:lnTo>
                        <a:pt x="84" y="43"/>
                      </a:lnTo>
                      <a:lnTo>
                        <a:pt x="79" y="41"/>
                      </a:lnTo>
                      <a:lnTo>
                        <a:pt x="75" y="38"/>
                      </a:lnTo>
                      <a:lnTo>
                        <a:pt x="70" y="35"/>
                      </a:lnTo>
                      <a:lnTo>
                        <a:pt x="65" y="33"/>
                      </a:lnTo>
                      <a:lnTo>
                        <a:pt x="62" y="29"/>
                      </a:lnTo>
                      <a:lnTo>
                        <a:pt x="57" y="27"/>
                      </a:lnTo>
                      <a:lnTo>
                        <a:pt x="53" y="25"/>
                      </a:lnTo>
                      <a:lnTo>
                        <a:pt x="48" y="21"/>
                      </a:lnTo>
                      <a:lnTo>
                        <a:pt x="45" y="19"/>
                      </a:lnTo>
                      <a:lnTo>
                        <a:pt x="40" y="15"/>
                      </a:lnTo>
                      <a:lnTo>
                        <a:pt x="37" y="13"/>
                      </a:lnTo>
                      <a:lnTo>
                        <a:pt x="32" y="10"/>
                      </a:lnTo>
                      <a:lnTo>
                        <a:pt x="29" y="6"/>
                      </a:lnTo>
                      <a:lnTo>
                        <a:pt x="24" y="3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9" y="2"/>
                      </a:lnTo>
                      <a:lnTo>
                        <a:pt x="18" y="2"/>
                      </a:lnTo>
                      <a:lnTo>
                        <a:pt x="17" y="3"/>
                      </a:lnTo>
                      <a:lnTo>
                        <a:pt x="16" y="4"/>
                      </a:lnTo>
                      <a:lnTo>
                        <a:pt x="15" y="5"/>
                      </a:lnTo>
                      <a:lnTo>
                        <a:pt x="13" y="6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1" y="7"/>
                      </a:lnTo>
                      <a:lnTo>
                        <a:pt x="11" y="8"/>
                      </a:lnTo>
                      <a:lnTo>
                        <a:pt x="10" y="8"/>
                      </a:lnTo>
                      <a:lnTo>
                        <a:pt x="9" y="10"/>
                      </a:lnTo>
                      <a:lnTo>
                        <a:pt x="8" y="11"/>
                      </a:lnTo>
                      <a:lnTo>
                        <a:pt x="7" y="12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4" y="14"/>
                      </a:lnTo>
                      <a:lnTo>
                        <a:pt x="3" y="14"/>
                      </a:lnTo>
                      <a:lnTo>
                        <a:pt x="3" y="15"/>
                      </a:lnTo>
                      <a:lnTo>
                        <a:pt x="2" y="15"/>
                      </a:lnTo>
                      <a:lnTo>
                        <a:pt x="1" y="15"/>
                      </a:lnTo>
                      <a:lnTo>
                        <a:pt x="1" y="17"/>
                      </a:lnTo>
                      <a:lnTo>
                        <a:pt x="0" y="17"/>
                      </a:lnTo>
                      <a:lnTo>
                        <a:pt x="0" y="18"/>
                      </a:lnTo>
                      <a:close/>
                      <a:moveTo>
                        <a:pt x="46" y="137"/>
                      </a:moveTo>
                      <a:lnTo>
                        <a:pt x="48" y="142"/>
                      </a:lnTo>
                      <a:lnTo>
                        <a:pt x="50" y="147"/>
                      </a:lnTo>
                      <a:lnTo>
                        <a:pt x="53" y="153"/>
                      </a:lnTo>
                      <a:lnTo>
                        <a:pt x="55" y="159"/>
                      </a:lnTo>
                      <a:lnTo>
                        <a:pt x="57" y="164"/>
                      </a:lnTo>
                      <a:lnTo>
                        <a:pt x="60" y="171"/>
                      </a:lnTo>
                      <a:lnTo>
                        <a:pt x="61" y="178"/>
                      </a:lnTo>
                      <a:lnTo>
                        <a:pt x="63" y="185"/>
                      </a:lnTo>
                      <a:lnTo>
                        <a:pt x="65" y="192"/>
                      </a:lnTo>
                      <a:lnTo>
                        <a:pt x="67" y="200"/>
                      </a:lnTo>
                      <a:lnTo>
                        <a:pt x="69" y="208"/>
                      </a:lnTo>
                      <a:lnTo>
                        <a:pt x="71" y="216"/>
                      </a:lnTo>
                      <a:lnTo>
                        <a:pt x="72" y="224"/>
                      </a:lnTo>
                      <a:lnTo>
                        <a:pt x="74" y="233"/>
                      </a:lnTo>
                      <a:lnTo>
                        <a:pt x="76" y="241"/>
                      </a:lnTo>
                      <a:lnTo>
                        <a:pt x="77" y="250"/>
                      </a:lnTo>
                      <a:lnTo>
                        <a:pt x="78" y="258"/>
                      </a:lnTo>
                      <a:lnTo>
                        <a:pt x="79" y="267"/>
                      </a:lnTo>
                      <a:lnTo>
                        <a:pt x="81" y="276"/>
                      </a:lnTo>
                      <a:lnTo>
                        <a:pt x="82" y="286"/>
                      </a:lnTo>
                      <a:lnTo>
                        <a:pt x="83" y="295"/>
                      </a:lnTo>
                      <a:lnTo>
                        <a:pt x="84" y="303"/>
                      </a:lnTo>
                      <a:lnTo>
                        <a:pt x="85" y="312"/>
                      </a:lnTo>
                      <a:lnTo>
                        <a:pt x="86" y="323"/>
                      </a:lnTo>
                      <a:lnTo>
                        <a:pt x="86" y="332"/>
                      </a:lnTo>
                      <a:lnTo>
                        <a:pt x="87" y="341"/>
                      </a:lnTo>
                      <a:lnTo>
                        <a:pt x="87" y="350"/>
                      </a:lnTo>
                      <a:lnTo>
                        <a:pt x="87" y="360"/>
                      </a:lnTo>
                      <a:lnTo>
                        <a:pt x="89" y="368"/>
                      </a:lnTo>
                      <a:lnTo>
                        <a:pt x="89" y="377"/>
                      </a:lnTo>
                      <a:lnTo>
                        <a:pt x="89" y="386"/>
                      </a:lnTo>
                      <a:lnTo>
                        <a:pt x="89" y="395"/>
                      </a:lnTo>
                      <a:lnTo>
                        <a:pt x="90" y="388"/>
                      </a:lnTo>
                      <a:lnTo>
                        <a:pt x="91" y="382"/>
                      </a:lnTo>
                      <a:lnTo>
                        <a:pt x="92" y="376"/>
                      </a:lnTo>
                      <a:lnTo>
                        <a:pt x="93" y="369"/>
                      </a:lnTo>
                      <a:lnTo>
                        <a:pt x="94" y="363"/>
                      </a:lnTo>
                      <a:lnTo>
                        <a:pt x="96" y="357"/>
                      </a:lnTo>
                      <a:lnTo>
                        <a:pt x="98" y="350"/>
                      </a:lnTo>
                      <a:lnTo>
                        <a:pt x="99" y="345"/>
                      </a:lnTo>
                      <a:lnTo>
                        <a:pt x="101" y="339"/>
                      </a:lnTo>
                      <a:lnTo>
                        <a:pt x="102" y="333"/>
                      </a:lnTo>
                      <a:lnTo>
                        <a:pt x="104" y="326"/>
                      </a:lnTo>
                      <a:lnTo>
                        <a:pt x="106" y="320"/>
                      </a:lnTo>
                      <a:lnTo>
                        <a:pt x="107" y="315"/>
                      </a:lnTo>
                      <a:lnTo>
                        <a:pt x="109" y="309"/>
                      </a:lnTo>
                      <a:lnTo>
                        <a:pt x="111" y="304"/>
                      </a:lnTo>
                      <a:lnTo>
                        <a:pt x="113" y="298"/>
                      </a:lnTo>
                      <a:lnTo>
                        <a:pt x="114" y="293"/>
                      </a:lnTo>
                      <a:lnTo>
                        <a:pt x="115" y="287"/>
                      </a:lnTo>
                      <a:lnTo>
                        <a:pt x="117" y="281"/>
                      </a:lnTo>
                      <a:lnTo>
                        <a:pt x="119" y="275"/>
                      </a:lnTo>
                      <a:lnTo>
                        <a:pt x="120" y="271"/>
                      </a:lnTo>
                      <a:lnTo>
                        <a:pt x="121" y="265"/>
                      </a:lnTo>
                      <a:lnTo>
                        <a:pt x="122" y="259"/>
                      </a:lnTo>
                      <a:lnTo>
                        <a:pt x="123" y="254"/>
                      </a:lnTo>
                      <a:lnTo>
                        <a:pt x="124" y="249"/>
                      </a:lnTo>
                      <a:lnTo>
                        <a:pt x="124" y="243"/>
                      </a:lnTo>
                      <a:lnTo>
                        <a:pt x="126" y="238"/>
                      </a:lnTo>
                      <a:lnTo>
                        <a:pt x="126" y="233"/>
                      </a:lnTo>
                      <a:lnTo>
                        <a:pt x="127" y="228"/>
                      </a:lnTo>
                      <a:lnTo>
                        <a:pt x="127" y="222"/>
                      </a:lnTo>
                      <a:lnTo>
                        <a:pt x="127" y="216"/>
                      </a:lnTo>
                      <a:lnTo>
                        <a:pt x="126" y="212"/>
                      </a:lnTo>
                      <a:lnTo>
                        <a:pt x="126" y="211"/>
                      </a:lnTo>
                      <a:lnTo>
                        <a:pt x="126" y="209"/>
                      </a:lnTo>
                      <a:lnTo>
                        <a:pt x="126" y="208"/>
                      </a:lnTo>
                      <a:lnTo>
                        <a:pt x="124" y="208"/>
                      </a:lnTo>
                      <a:lnTo>
                        <a:pt x="123" y="208"/>
                      </a:lnTo>
                      <a:lnTo>
                        <a:pt x="123" y="209"/>
                      </a:lnTo>
                      <a:lnTo>
                        <a:pt x="122" y="209"/>
                      </a:lnTo>
                      <a:lnTo>
                        <a:pt x="122" y="211"/>
                      </a:lnTo>
                      <a:lnTo>
                        <a:pt x="121" y="212"/>
                      </a:lnTo>
                      <a:lnTo>
                        <a:pt x="120" y="213"/>
                      </a:lnTo>
                      <a:lnTo>
                        <a:pt x="120" y="214"/>
                      </a:lnTo>
                      <a:lnTo>
                        <a:pt x="119" y="215"/>
                      </a:lnTo>
                      <a:lnTo>
                        <a:pt x="117" y="216"/>
                      </a:lnTo>
                      <a:lnTo>
                        <a:pt x="116" y="216"/>
                      </a:lnTo>
                      <a:lnTo>
                        <a:pt x="116" y="218"/>
                      </a:lnTo>
                      <a:lnTo>
                        <a:pt x="115" y="218"/>
                      </a:lnTo>
                      <a:lnTo>
                        <a:pt x="114" y="218"/>
                      </a:lnTo>
                      <a:lnTo>
                        <a:pt x="113" y="218"/>
                      </a:lnTo>
                      <a:lnTo>
                        <a:pt x="112" y="218"/>
                      </a:lnTo>
                      <a:lnTo>
                        <a:pt x="112" y="215"/>
                      </a:lnTo>
                      <a:lnTo>
                        <a:pt x="112" y="213"/>
                      </a:lnTo>
                      <a:lnTo>
                        <a:pt x="111" y="209"/>
                      </a:lnTo>
                      <a:lnTo>
                        <a:pt x="111" y="207"/>
                      </a:lnTo>
                      <a:lnTo>
                        <a:pt x="109" y="205"/>
                      </a:lnTo>
                      <a:lnTo>
                        <a:pt x="107" y="201"/>
                      </a:lnTo>
                      <a:lnTo>
                        <a:pt x="106" y="199"/>
                      </a:lnTo>
                      <a:lnTo>
                        <a:pt x="104" y="196"/>
                      </a:lnTo>
                      <a:lnTo>
                        <a:pt x="101" y="193"/>
                      </a:lnTo>
                      <a:lnTo>
                        <a:pt x="99" y="190"/>
                      </a:lnTo>
                      <a:lnTo>
                        <a:pt x="97" y="187"/>
                      </a:lnTo>
                      <a:lnTo>
                        <a:pt x="94" y="184"/>
                      </a:lnTo>
                      <a:lnTo>
                        <a:pt x="92" y="182"/>
                      </a:lnTo>
                      <a:lnTo>
                        <a:pt x="89" y="178"/>
                      </a:lnTo>
                      <a:lnTo>
                        <a:pt x="86" y="175"/>
                      </a:lnTo>
                      <a:lnTo>
                        <a:pt x="83" y="172"/>
                      </a:lnTo>
                      <a:lnTo>
                        <a:pt x="81" y="169"/>
                      </a:lnTo>
                      <a:lnTo>
                        <a:pt x="77" y="167"/>
                      </a:lnTo>
                      <a:lnTo>
                        <a:pt x="75" y="164"/>
                      </a:lnTo>
                      <a:lnTo>
                        <a:pt x="71" y="161"/>
                      </a:lnTo>
                      <a:lnTo>
                        <a:pt x="69" y="159"/>
                      </a:lnTo>
                      <a:lnTo>
                        <a:pt x="65" y="156"/>
                      </a:lnTo>
                      <a:lnTo>
                        <a:pt x="63" y="154"/>
                      </a:lnTo>
                      <a:lnTo>
                        <a:pt x="61" y="151"/>
                      </a:lnTo>
                      <a:lnTo>
                        <a:pt x="59" y="149"/>
                      </a:lnTo>
                      <a:lnTo>
                        <a:pt x="56" y="147"/>
                      </a:lnTo>
                      <a:lnTo>
                        <a:pt x="54" y="145"/>
                      </a:lnTo>
                      <a:lnTo>
                        <a:pt x="52" y="142"/>
                      </a:lnTo>
                      <a:lnTo>
                        <a:pt x="50" y="141"/>
                      </a:lnTo>
                      <a:lnTo>
                        <a:pt x="48" y="140"/>
                      </a:lnTo>
                      <a:lnTo>
                        <a:pt x="47" y="138"/>
                      </a:lnTo>
                      <a:lnTo>
                        <a:pt x="46" y="137"/>
                      </a:lnTo>
                      <a:close/>
                      <a:moveTo>
                        <a:pt x="131" y="166"/>
                      </a:moveTo>
                      <a:lnTo>
                        <a:pt x="133" y="178"/>
                      </a:lnTo>
                      <a:lnTo>
                        <a:pt x="133" y="191"/>
                      </a:lnTo>
                      <a:lnTo>
                        <a:pt x="133" y="203"/>
                      </a:lnTo>
                      <a:lnTo>
                        <a:pt x="133" y="214"/>
                      </a:lnTo>
                      <a:lnTo>
                        <a:pt x="131" y="226"/>
                      </a:lnTo>
                      <a:lnTo>
                        <a:pt x="130" y="237"/>
                      </a:lnTo>
                      <a:lnTo>
                        <a:pt x="129" y="248"/>
                      </a:lnTo>
                      <a:lnTo>
                        <a:pt x="128" y="259"/>
                      </a:lnTo>
                      <a:lnTo>
                        <a:pt x="126" y="270"/>
                      </a:lnTo>
                      <a:lnTo>
                        <a:pt x="123" y="280"/>
                      </a:lnTo>
                      <a:lnTo>
                        <a:pt x="121" y="291"/>
                      </a:lnTo>
                      <a:lnTo>
                        <a:pt x="119" y="301"/>
                      </a:lnTo>
                      <a:lnTo>
                        <a:pt x="116" y="311"/>
                      </a:lnTo>
                      <a:lnTo>
                        <a:pt x="114" y="321"/>
                      </a:lnTo>
                      <a:lnTo>
                        <a:pt x="111" y="332"/>
                      </a:lnTo>
                      <a:lnTo>
                        <a:pt x="108" y="341"/>
                      </a:lnTo>
                      <a:lnTo>
                        <a:pt x="105" y="352"/>
                      </a:lnTo>
                      <a:lnTo>
                        <a:pt x="101" y="361"/>
                      </a:lnTo>
                      <a:lnTo>
                        <a:pt x="99" y="371"/>
                      </a:lnTo>
                      <a:lnTo>
                        <a:pt x="96" y="380"/>
                      </a:lnTo>
                      <a:lnTo>
                        <a:pt x="93" y="390"/>
                      </a:lnTo>
                      <a:lnTo>
                        <a:pt x="90" y="400"/>
                      </a:lnTo>
                      <a:lnTo>
                        <a:pt x="87" y="409"/>
                      </a:lnTo>
                      <a:lnTo>
                        <a:pt x="85" y="419"/>
                      </a:lnTo>
                      <a:lnTo>
                        <a:pt x="82" y="429"/>
                      </a:lnTo>
                      <a:lnTo>
                        <a:pt x="81" y="438"/>
                      </a:lnTo>
                      <a:lnTo>
                        <a:pt x="78" y="447"/>
                      </a:lnTo>
                      <a:lnTo>
                        <a:pt x="76" y="458"/>
                      </a:lnTo>
                      <a:lnTo>
                        <a:pt x="75" y="467"/>
                      </a:lnTo>
                      <a:lnTo>
                        <a:pt x="74" y="477"/>
                      </a:lnTo>
                      <a:lnTo>
                        <a:pt x="72" y="487"/>
                      </a:lnTo>
                      <a:lnTo>
                        <a:pt x="71" y="497"/>
                      </a:lnTo>
                      <a:lnTo>
                        <a:pt x="74" y="496"/>
                      </a:lnTo>
                      <a:lnTo>
                        <a:pt x="75" y="495"/>
                      </a:lnTo>
                      <a:lnTo>
                        <a:pt x="76" y="494"/>
                      </a:lnTo>
                      <a:lnTo>
                        <a:pt x="78" y="492"/>
                      </a:lnTo>
                      <a:lnTo>
                        <a:pt x="79" y="491"/>
                      </a:lnTo>
                      <a:lnTo>
                        <a:pt x="82" y="490"/>
                      </a:lnTo>
                      <a:lnTo>
                        <a:pt x="83" y="489"/>
                      </a:lnTo>
                      <a:lnTo>
                        <a:pt x="85" y="488"/>
                      </a:lnTo>
                      <a:lnTo>
                        <a:pt x="86" y="487"/>
                      </a:lnTo>
                      <a:lnTo>
                        <a:pt x="87" y="484"/>
                      </a:lnTo>
                      <a:lnTo>
                        <a:pt x="90" y="483"/>
                      </a:lnTo>
                      <a:lnTo>
                        <a:pt x="91" y="482"/>
                      </a:lnTo>
                      <a:lnTo>
                        <a:pt x="93" y="480"/>
                      </a:lnTo>
                      <a:lnTo>
                        <a:pt x="94" y="479"/>
                      </a:lnTo>
                      <a:lnTo>
                        <a:pt x="96" y="476"/>
                      </a:lnTo>
                      <a:lnTo>
                        <a:pt x="98" y="475"/>
                      </a:lnTo>
                      <a:lnTo>
                        <a:pt x="99" y="473"/>
                      </a:lnTo>
                      <a:lnTo>
                        <a:pt x="100" y="472"/>
                      </a:lnTo>
                      <a:lnTo>
                        <a:pt x="101" y="469"/>
                      </a:lnTo>
                      <a:lnTo>
                        <a:pt x="104" y="467"/>
                      </a:lnTo>
                      <a:lnTo>
                        <a:pt x="105" y="465"/>
                      </a:lnTo>
                      <a:lnTo>
                        <a:pt x="106" y="464"/>
                      </a:lnTo>
                      <a:lnTo>
                        <a:pt x="107" y="461"/>
                      </a:lnTo>
                      <a:lnTo>
                        <a:pt x="108" y="459"/>
                      </a:lnTo>
                      <a:lnTo>
                        <a:pt x="109" y="457"/>
                      </a:lnTo>
                      <a:lnTo>
                        <a:pt x="111" y="455"/>
                      </a:lnTo>
                      <a:lnTo>
                        <a:pt x="112" y="453"/>
                      </a:lnTo>
                      <a:lnTo>
                        <a:pt x="113" y="451"/>
                      </a:lnTo>
                      <a:lnTo>
                        <a:pt x="114" y="449"/>
                      </a:lnTo>
                      <a:lnTo>
                        <a:pt x="115" y="446"/>
                      </a:lnTo>
                      <a:lnTo>
                        <a:pt x="116" y="444"/>
                      </a:lnTo>
                      <a:lnTo>
                        <a:pt x="117" y="442"/>
                      </a:lnTo>
                      <a:lnTo>
                        <a:pt x="117" y="440"/>
                      </a:lnTo>
                      <a:lnTo>
                        <a:pt x="119" y="439"/>
                      </a:lnTo>
                      <a:lnTo>
                        <a:pt x="119" y="438"/>
                      </a:lnTo>
                      <a:lnTo>
                        <a:pt x="119" y="437"/>
                      </a:lnTo>
                      <a:lnTo>
                        <a:pt x="117" y="437"/>
                      </a:lnTo>
                      <a:lnTo>
                        <a:pt x="116" y="437"/>
                      </a:lnTo>
                      <a:lnTo>
                        <a:pt x="115" y="437"/>
                      </a:lnTo>
                      <a:lnTo>
                        <a:pt x="114" y="437"/>
                      </a:lnTo>
                      <a:lnTo>
                        <a:pt x="113" y="438"/>
                      </a:lnTo>
                      <a:lnTo>
                        <a:pt x="112" y="438"/>
                      </a:lnTo>
                      <a:lnTo>
                        <a:pt x="112" y="439"/>
                      </a:lnTo>
                      <a:lnTo>
                        <a:pt x="111" y="439"/>
                      </a:lnTo>
                      <a:lnTo>
                        <a:pt x="109" y="440"/>
                      </a:lnTo>
                      <a:lnTo>
                        <a:pt x="108" y="440"/>
                      </a:lnTo>
                      <a:lnTo>
                        <a:pt x="107" y="442"/>
                      </a:lnTo>
                      <a:lnTo>
                        <a:pt x="106" y="442"/>
                      </a:lnTo>
                      <a:lnTo>
                        <a:pt x="105" y="443"/>
                      </a:lnTo>
                      <a:lnTo>
                        <a:pt x="104" y="443"/>
                      </a:lnTo>
                      <a:lnTo>
                        <a:pt x="102" y="443"/>
                      </a:lnTo>
                      <a:lnTo>
                        <a:pt x="101" y="444"/>
                      </a:lnTo>
                      <a:lnTo>
                        <a:pt x="100" y="444"/>
                      </a:lnTo>
                      <a:lnTo>
                        <a:pt x="99" y="444"/>
                      </a:lnTo>
                      <a:lnTo>
                        <a:pt x="98" y="444"/>
                      </a:lnTo>
                      <a:lnTo>
                        <a:pt x="98" y="443"/>
                      </a:lnTo>
                      <a:lnTo>
                        <a:pt x="98" y="442"/>
                      </a:lnTo>
                      <a:lnTo>
                        <a:pt x="99" y="439"/>
                      </a:lnTo>
                      <a:lnTo>
                        <a:pt x="100" y="438"/>
                      </a:lnTo>
                      <a:lnTo>
                        <a:pt x="101" y="436"/>
                      </a:lnTo>
                      <a:lnTo>
                        <a:pt x="102" y="435"/>
                      </a:lnTo>
                      <a:lnTo>
                        <a:pt x="104" y="434"/>
                      </a:lnTo>
                      <a:lnTo>
                        <a:pt x="105" y="432"/>
                      </a:lnTo>
                      <a:lnTo>
                        <a:pt x="106" y="431"/>
                      </a:lnTo>
                      <a:lnTo>
                        <a:pt x="107" y="430"/>
                      </a:lnTo>
                      <a:lnTo>
                        <a:pt x="107" y="429"/>
                      </a:lnTo>
                      <a:lnTo>
                        <a:pt x="108" y="428"/>
                      </a:lnTo>
                      <a:lnTo>
                        <a:pt x="109" y="427"/>
                      </a:lnTo>
                      <a:lnTo>
                        <a:pt x="111" y="427"/>
                      </a:lnTo>
                      <a:lnTo>
                        <a:pt x="112" y="425"/>
                      </a:lnTo>
                      <a:lnTo>
                        <a:pt x="112" y="424"/>
                      </a:lnTo>
                      <a:lnTo>
                        <a:pt x="113" y="424"/>
                      </a:lnTo>
                      <a:lnTo>
                        <a:pt x="114" y="423"/>
                      </a:lnTo>
                      <a:lnTo>
                        <a:pt x="115" y="422"/>
                      </a:lnTo>
                      <a:lnTo>
                        <a:pt x="116" y="422"/>
                      </a:lnTo>
                      <a:lnTo>
                        <a:pt x="116" y="421"/>
                      </a:lnTo>
                      <a:lnTo>
                        <a:pt x="117" y="421"/>
                      </a:lnTo>
                      <a:lnTo>
                        <a:pt x="117" y="420"/>
                      </a:lnTo>
                      <a:lnTo>
                        <a:pt x="119" y="420"/>
                      </a:lnTo>
                      <a:lnTo>
                        <a:pt x="119" y="419"/>
                      </a:lnTo>
                      <a:lnTo>
                        <a:pt x="120" y="417"/>
                      </a:lnTo>
                      <a:lnTo>
                        <a:pt x="121" y="416"/>
                      </a:lnTo>
                      <a:lnTo>
                        <a:pt x="121" y="415"/>
                      </a:lnTo>
                      <a:lnTo>
                        <a:pt x="122" y="415"/>
                      </a:lnTo>
                      <a:lnTo>
                        <a:pt x="122" y="414"/>
                      </a:lnTo>
                      <a:lnTo>
                        <a:pt x="122" y="413"/>
                      </a:lnTo>
                      <a:lnTo>
                        <a:pt x="122" y="412"/>
                      </a:lnTo>
                      <a:lnTo>
                        <a:pt x="123" y="410"/>
                      </a:lnTo>
                      <a:lnTo>
                        <a:pt x="123" y="409"/>
                      </a:lnTo>
                      <a:lnTo>
                        <a:pt x="123" y="408"/>
                      </a:lnTo>
                      <a:lnTo>
                        <a:pt x="123" y="406"/>
                      </a:lnTo>
                      <a:lnTo>
                        <a:pt x="124" y="405"/>
                      </a:lnTo>
                      <a:lnTo>
                        <a:pt x="124" y="402"/>
                      </a:lnTo>
                      <a:lnTo>
                        <a:pt x="124" y="400"/>
                      </a:lnTo>
                      <a:lnTo>
                        <a:pt x="124" y="398"/>
                      </a:lnTo>
                      <a:lnTo>
                        <a:pt x="124" y="395"/>
                      </a:lnTo>
                      <a:lnTo>
                        <a:pt x="124" y="393"/>
                      </a:lnTo>
                      <a:lnTo>
                        <a:pt x="124" y="391"/>
                      </a:lnTo>
                      <a:lnTo>
                        <a:pt x="124" y="388"/>
                      </a:lnTo>
                      <a:lnTo>
                        <a:pt x="126" y="385"/>
                      </a:lnTo>
                      <a:lnTo>
                        <a:pt x="126" y="383"/>
                      </a:lnTo>
                      <a:lnTo>
                        <a:pt x="126" y="380"/>
                      </a:lnTo>
                      <a:lnTo>
                        <a:pt x="126" y="377"/>
                      </a:lnTo>
                      <a:lnTo>
                        <a:pt x="126" y="375"/>
                      </a:lnTo>
                      <a:lnTo>
                        <a:pt x="126" y="371"/>
                      </a:lnTo>
                      <a:lnTo>
                        <a:pt x="124" y="368"/>
                      </a:lnTo>
                      <a:lnTo>
                        <a:pt x="124" y="365"/>
                      </a:lnTo>
                      <a:lnTo>
                        <a:pt x="124" y="362"/>
                      </a:lnTo>
                      <a:lnTo>
                        <a:pt x="124" y="358"/>
                      </a:lnTo>
                      <a:lnTo>
                        <a:pt x="124" y="356"/>
                      </a:lnTo>
                      <a:lnTo>
                        <a:pt x="124" y="353"/>
                      </a:lnTo>
                      <a:lnTo>
                        <a:pt x="124" y="350"/>
                      </a:lnTo>
                      <a:lnTo>
                        <a:pt x="123" y="347"/>
                      </a:lnTo>
                      <a:lnTo>
                        <a:pt x="123" y="345"/>
                      </a:lnTo>
                      <a:lnTo>
                        <a:pt x="123" y="341"/>
                      </a:lnTo>
                      <a:lnTo>
                        <a:pt x="122" y="339"/>
                      </a:lnTo>
                      <a:lnTo>
                        <a:pt x="122" y="335"/>
                      </a:lnTo>
                      <a:lnTo>
                        <a:pt x="122" y="333"/>
                      </a:lnTo>
                      <a:lnTo>
                        <a:pt x="121" y="331"/>
                      </a:lnTo>
                      <a:lnTo>
                        <a:pt x="122" y="330"/>
                      </a:lnTo>
                      <a:lnTo>
                        <a:pt x="122" y="328"/>
                      </a:lnTo>
                      <a:lnTo>
                        <a:pt x="123" y="328"/>
                      </a:lnTo>
                      <a:lnTo>
                        <a:pt x="123" y="327"/>
                      </a:lnTo>
                      <a:lnTo>
                        <a:pt x="123" y="326"/>
                      </a:lnTo>
                      <a:lnTo>
                        <a:pt x="124" y="326"/>
                      </a:lnTo>
                      <a:lnTo>
                        <a:pt x="124" y="325"/>
                      </a:lnTo>
                      <a:lnTo>
                        <a:pt x="126" y="325"/>
                      </a:lnTo>
                      <a:lnTo>
                        <a:pt x="126" y="324"/>
                      </a:lnTo>
                      <a:lnTo>
                        <a:pt x="127" y="323"/>
                      </a:lnTo>
                      <a:lnTo>
                        <a:pt x="127" y="321"/>
                      </a:lnTo>
                      <a:lnTo>
                        <a:pt x="128" y="320"/>
                      </a:lnTo>
                      <a:lnTo>
                        <a:pt x="128" y="319"/>
                      </a:lnTo>
                      <a:lnTo>
                        <a:pt x="129" y="319"/>
                      </a:lnTo>
                      <a:lnTo>
                        <a:pt x="129" y="318"/>
                      </a:lnTo>
                      <a:lnTo>
                        <a:pt x="130" y="318"/>
                      </a:lnTo>
                      <a:lnTo>
                        <a:pt x="130" y="317"/>
                      </a:lnTo>
                      <a:lnTo>
                        <a:pt x="130" y="316"/>
                      </a:lnTo>
                      <a:lnTo>
                        <a:pt x="131" y="316"/>
                      </a:lnTo>
                      <a:lnTo>
                        <a:pt x="131" y="315"/>
                      </a:lnTo>
                      <a:lnTo>
                        <a:pt x="133" y="312"/>
                      </a:lnTo>
                      <a:lnTo>
                        <a:pt x="133" y="310"/>
                      </a:lnTo>
                      <a:lnTo>
                        <a:pt x="133" y="309"/>
                      </a:lnTo>
                      <a:lnTo>
                        <a:pt x="134" y="306"/>
                      </a:lnTo>
                      <a:lnTo>
                        <a:pt x="134" y="305"/>
                      </a:lnTo>
                      <a:lnTo>
                        <a:pt x="134" y="303"/>
                      </a:lnTo>
                      <a:lnTo>
                        <a:pt x="135" y="302"/>
                      </a:lnTo>
                      <a:lnTo>
                        <a:pt x="135" y="300"/>
                      </a:lnTo>
                      <a:lnTo>
                        <a:pt x="135" y="298"/>
                      </a:lnTo>
                      <a:lnTo>
                        <a:pt x="136" y="297"/>
                      </a:lnTo>
                      <a:lnTo>
                        <a:pt x="136" y="296"/>
                      </a:lnTo>
                      <a:lnTo>
                        <a:pt x="136" y="294"/>
                      </a:lnTo>
                      <a:lnTo>
                        <a:pt x="137" y="293"/>
                      </a:lnTo>
                      <a:lnTo>
                        <a:pt x="137" y="291"/>
                      </a:lnTo>
                      <a:lnTo>
                        <a:pt x="137" y="290"/>
                      </a:lnTo>
                      <a:lnTo>
                        <a:pt x="137" y="288"/>
                      </a:lnTo>
                      <a:lnTo>
                        <a:pt x="138" y="287"/>
                      </a:lnTo>
                      <a:lnTo>
                        <a:pt x="138" y="286"/>
                      </a:lnTo>
                      <a:lnTo>
                        <a:pt x="138" y="285"/>
                      </a:lnTo>
                      <a:lnTo>
                        <a:pt x="139" y="282"/>
                      </a:lnTo>
                      <a:lnTo>
                        <a:pt x="139" y="281"/>
                      </a:lnTo>
                      <a:lnTo>
                        <a:pt x="139" y="280"/>
                      </a:lnTo>
                      <a:lnTo>
                        <a:pt x="141" y="279"/>
                      </a:lnTo>
                      <a:lnTo>
                        <a:pt x="141" y="276"/>
                      </a:lnTo>
                      <a:lnTo>
                        <a:pt x="141" y="275"/>
                      </a:lnTo>
                      <a:lnTo>
                        <a:pt x="141" y="274"/>
                      </a:lnTo>
                      <a:lnTo>
                        <a:pt x="142" y="272"/>
                      </a:lnTo>
                      <a:lnTo>
                        <a:pt x="142" y="271"/>
                      </a:lnTo>
                      <a:lnTo>
                        <a:pt x="142" y="268"/>
                      </a:lnTo>
                      <a:lnTo>
                        <a:pt x="143" y="267"/>
                      </a:lnTo>
                      <a:lnTo>
                        <a:pt x="143" y="265"/>
                      </a:lnTo>
                      <a:lnTo>
                        <a:pt x="144" y="263"/>
                      </a:lnTo>
                      <a:lnTo>
                        <a:pt x="144" y="260"/>
                      </a:lnTo>
                      <a:lnTo>
                        <a:pt x="144" y="258"/>
                      </a:lnTo>
                      <a:lnTo>
                        <a:pt x="144" y="254"/>
                      </a:lnTo>
                      <a:lnTo>
                        <a:pt x="144" y="252"/>
                      </a:lnTo>
                      <a:lnTo>
                        <a:pt x="144" y="249"/>
                      </a:lnTo>
                      <a:lnTo>
                        <a:pt x="144" y="246"/>
                      </a:lnTo>
                      <a:lnTo>
                        <a:pt x="144" y="243"/>
                      </a:lnTo>
                      <a:lnTo>
                        <a:pt x="144" y="241"/>
                      </a:lnTo>
                      <a:lnTo>
                        <a:pt x="144" y="237"/>
                      </a:lnTo>
                      <a:lnTo>
                        <a:pt x="144" y="234"/>
                      </a:lnTo>
                      <a:lnTo>
                        <a:pt x="144" y="231"/>
                      </a:lnTo>
                      <a:lnTo>
                        <a:pt x="143" y="228"/>
                      </a:lnTo>
                      <a:lnTo>
                        <a:pt x="143" y="224"/>
                      </a:lnTo>
                      <a:lnTo>
                        <a:pt x="143" y="222"/>
                      </a:lnTo>
                      <a:lnTo>
                        <a:pt x="143" y="219"/>
                      </a:lnTo>
                      <a:lnTo>
                        <a:pt x="143" y="215"/>
                      </a:lnTo>
                      <a:lnTo>
                        <a:pt x="143" y="213"/>
                      </a:lnTo>
                      <a:lnTo>
                        <a:pt x="143" y="209"/>
                      </a:lnTo>
                      <a:lnTo>
                        <a:pt x="143" y="206"/>
                      </a:lnTo>
                      <a:lnTo>
                        <a:pt x="143" y="204"/>
                      </a:lnTo>
                      <a:lnTo>
                        <a:pt x="143" y="200"/>
                      </a:lnTo>
                      <a:lnTo>
                        <a:pt x="144" y="198"/>
                      </a:lnTo>
                      <a:lnTo>
                        <a:pt x="144" y="194"/>
                      </a:lnTo>
                      <a:lnTo>
                        <a:pt x="144" y="192"/>
                      </a:lnTo>
                      <a:lnTo>
                        <a:pt x="144" y="190"/>
                      </a:lnTo>
                      <a:lnTo>
                        <a:pt x="145" y="186"/>
                      </a:lnTo>
                      <a:lnTo>
                        <a:pt x="145" y="184"/>
                      </a:lnTo>
                      <a:lnTo>
                        <a:pt x="145" y="182"/>
                      </a:lnTo>
                      <a:lnTo>
                        <a:pt x="146" y="179"/>
                      </a:lnTo>
                      <a:lnTo>
                        <a:pt x="146" y="177"/>
                      </a:lnTo>
                      <a:lnTo>
                        <a:pt x="148" y="175"/>
                      </a:lnTo>
                      <a:lnTo>
                        <a:pt x="149" y="174"/>
                      </a:lnTo>
                      <a:lnTo>
                        <a:pt x="148" y="172"/>
                      </a:lnTo>
                      <a:lnTo>
                        <a:pt x="146" y="172"/>
                      </a:lnTo>
                      <a:lnTo>
                        <a:pt x="146" y="171"/>
                      </a:lnTo>
                      <a:lnTo>
                        <a:pt x="145" y="171"/>
                      </a:lnTo>
                      <a:lnTo>
                        <a:pt x="144" y="171"/>
                      </a:lnTo>
                      <a:lnTo>
                        <a:pt x="143" y="171"/>
                      </a:lnTo>
                      <a:lnTo>
                        <a:pt x="143" y="170"/>
                      </a:lnTo>
                      <a:lnTo>
                        <a:pt x="142" y="170"/>
                      </a:lnTo>
                      <a:lnTo>
                        <a:pt x="141" y="170"/>
                      </a:lnTo>
                      <a:lnTo>
                        <a:pt x="139" y="169"/>
                      </a:lnTo>
                      <a:lnTo>
                        <a:pt x="138" y="169"/>
                      </a:lnTo>
                      <a:lnTo>
                        <a:pt x="137" y="169"/>
                      </a:lnTo>
                      <a:lnTo>
                        <a:pt x="137" y="168"/>
                      </a:lnTo>
                      <a:lnTo>
                        <a:pt x="136" y="168"/>
                      </a:lnTo>
                      <a:lnTo>
                        <a:pt x="135" y="168"/>
                      </a:lnTo>
                      <a:lnTo>
                        <a:pt x="134" y="167"/>
                      </a:lnTo>
                      <a:lnTo>
                        <a:pt x="133" y="167"/>
                      </a:lnTo>
                      <a:lnTo>
                        <a:pt x="131" y="1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5310360" y="6190200"/>
                  <a:ext cx="71280" cy="61920"/>
                </a:xfrm>
                <a:custGeom>
                  <a:avLst/>
                  <a:gdLst/>
                  <a:ahLst/>
                  <a:rect l="l" t="t" r="r" b="b"/>
                  <a:pathLst>
                    <a:path w="136" h="103">
                      <a:moveTo>
                        <a:pt x="136" y="5"/>
                      </a:moveTo>
                      <a:lnTo>
                        <a:pt x="122" y="5"/>
                      </a:lnTo>
                      <a:lnTo>
                        <a:pt x="107" y="4"/>
                      </a:lnTo>
                      <a:lnTo>
                        <a:pt x="93" y="2"/>
                      </a:lnTo>
                      <a:lnTo>
                        <a:pt x="79" y="1"/>
                      </a:lnTo>
                      <a:lnTo>
                        <a:pt x="66" y="0"/>
                      </a:lnTo>
                      <a:lnTo>
                        <a:pt x="52" y="1"/>
                      </a:lnTo>
                      <a:lnTo>
                        <a:pt x="38" y="4"/>
                      </a:lnTo>
                      <a:lnTo>
                        <a:pt x="24" y="11"/>
                      </a:lnTo>
                      <a:lnTo>
                        <a:pt x="19" y="15"/>
                      </a:lnTo>
                      <a:lnTo>
                        <a:pt x="16" y="20"/>
                      </a:lnTo>
                      <a:lnTo>
                        <a:pt x="14" y="26"/>
                      </a:lnTo>
                      <a:lnTo>
                        <a:pt x="10" y="32"/>
                      </a:lnTo>
                      <a:lnTo>
                        <a:pt x="8" y="39"/>
                      </a:lnTo>
                      <a:lnTo>
                        <a:pt x="5" y="45"/>
                      </a:lnTo>
                      <a:lnTo>
                        <a:pt x="3" y="49"/>
                      </a:lnTo>
                      <a:lnTo>
                        <a:pt x="1" y="51"/>
                      </a:lnTo>
                      <a:lnTo>
                        <a:pt x="0" y="60"/>
                      </a:lnTo>
                      <a:lnTo>
                        <a:pt x="1" y="64"/>
                      </a:lnTo>
                      <a:lnTo>
                        <a:pt x="3" y="68"/>
                      </a:lnTo>
                      <a:lnTo>
                        <a:pt x="7" y="71"/>
                      </a:lnTo>
                      <a:lnTo>
                        <a:pt x="10" y="73"/>
                      </a:lnTo>
                      <a:lnTo>
                        <a:pt x="12" y="78"/>
                      </a:lnTo>
                      <a:lnTo>
                        <a:pt x="15" y="84"/>
                      </a:lnTo>
                      <a:lnTo>
                        <a:pt x="16" y="92"/>
                      </a:lnTo>
                      <a:lnTo>
                        <a:pt x="22" y="91"/>
                      </a:lnTo>
                      <a:lnTo>
                        <a:pt x="31" y="92"/>
                      </a:lnTo>
                      <a:lnTo>
                        <a:pt x="40" y="94"/>
                      </a:lnTo>
                      <a:lnTo>
                        <a:pt x="52" y="97"/>
                      </a:lnTo>
                      <a:lnTo>
                        <a:pt x="62" y="99"/>
                      </a:lnTo>
                      <a:lnTo>
                        <a:pt x="72" y="101"/>
                      </a:lnTo>
                      <a:lnTo>
                        <a:pt x="82" y="102"/>
                      </a:lnTo>
                      <a:lnTo>
                        <a:pt x="90" y="103"/>
                      </a:lnTo>
                      <a:lnTo>
                        <a:pt x="83" y="95"/>
                      </a:lnTo>
                      <a:lnTo>
                        <a:pt x="77" y="88"/>
                      </a:lnTo>
                      <a:lnTo>
                        <a:pt x="72" y="83"/>
                      </a:lnTo>
                      <a:lnTo>
                        <a:pt x="68" y="76"/>
                      </a:lnTo>
                      <a:lnTo>
                        <a:pt x="66" y="69"/>
                      </a:lnTo>
                      <a:lnTo>
                        <a:pt x="64" y="61"/>
                      </a:lnTo>
                      <a:lnTo>
                        <a:pt x="63" y="50"/>
                      </a:lnTo>
                      <a:lnTo>
                        <a:pt x="64" y="38"/>
                      </a:lnTo>
                      <a:lnTo>
                        <a:pt x="69" y="30"/>
                      </a:lnTo>
                      <a:lnTo>
                        <a:pt x="78" y="24"/>
                      </a:lnTo>
                      <a:lnTo>
                        <a:pt x="90" y="19"/>
                      </a:lnTo>
                      <a:lnTo>
                        <a:pt x="101" y="16"/>
                      </a:lnTo>
                      <a:lnTo>
                        <a:pt x="113" y="13"/>
                      </a:lnTo>
                      <a:lnTo>
                        <a:pt x="124" y="11"/>
                      </a:lnTo>
                      <a:lnTo>
                        <a:pt x="133" y="9"/>
                      </a:lnTo>
                      <a:lnTo>
                        <a:pt x="136" y="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5083200" y="6252120"/>
                  <a:ext cx="79560" cy="79920"/>
                </a:xfrm>
                <a:custGeom>
                  <a:avLst/>
                  <a:gdLst/>
                  <a:ahLst/>
                  <a:rect l="l" t="t" r="r" b="b"/>
                  <a:pathLst>
                    <a:path w="148" h="133">
                      <a:moveTo>
                        <a:pt x="35" y="7"/>
                      </a:moveTo>
                      <a:lnTo>
                        <a:pt x="32" y="15"/>
                      </a:lnTo>
                      <a:lnTo>
                        <a:pt x="28" y="22"/>
                      </a:lnTo>
                      <a:lnTo>
                        <a:pt x="24" y="30"/>
                      </a:lnTo>
                      <a:lnTo>
                        <a:pt x="19" y="38"/>
                      </a:lnTo>
                      <a:lnTo>
                        <a:pt x="14" y="45"/>
                      </a:lnTo>
                      <a:lnTo>
                        <a:pt x="9" y="52"/>
                      </a:lnTo>
                      <a:lnTo>
                        <a:pt x="6" y="58"/>
                      </a:lnTo>
                      <a:lnTo>
                        <a:pt x="4" y="64"/>
                      </a:lnTo>
                      <a:lnTo>
                        <a:pt x="4" y="67"/>
                      </a:lnTo>
                      <a:lnTo>
                        <a:pt x="6" y="72"/>
                      </a:lnTo>
                      <a:lnTo>
                        <a:pt x="8" y="75"/>
                      </a:lnTo>
                      <a:lnTo>
                        <a:pt x="8" y="79"/>
                      </a:lnTo>
                      <a:lnTo>
                        <a:pt x="4" y="86"/>
                      </a:lnTo>
                      <a:lnTo>
                        <a:pt x="1" y="94"/>
                      </a:lnTo>
                      <a:lnTo>
                        <a:pt x="4" y="102"/>
                      </a:lnTo>
                      <a:lnTo>
                        <a:pt x="11" y="108"/>
                      </a:lnTo>
                      <a:lnTo>
                        <a:pt x="0" y="133"/>
                      </a:lnTo>
                      <a:lnTo>
                        <a:pt x="17" y="133"/>
                      </a:lnTo>
                      <a:lnTo>
                        <a:pt x="35" y="131"/>
                      </a:lnTo>
                      <a:lnTo>
                        <a:pt x="53" y="129"/>
                      </a:lnTo>
                      <a:lnTo>
                        <a:pt x="71" y="126"/>
                      </a:lnTo>
                      <a:lnTo>
                        <a:pt x="88" y="124"/>
                      </a:lnTo>
                      <a:lnTo>
                        <a:pt x="105" y="122"/>
                      </a:lnTo>
                      <a:lnTo>
                        <a:pt x="124" y="120"/>
                      </a:lnTo>
                      <a:lnTo>
                        <a:pt x="141" y="120"/>
                      </a:lnTo>
                      <a:lnTo>
                        <a:pt x="141" y="109"/>
                      </a:lnTo>
                      <a:lnTo>
                        <a:pt x="143" y="96"/>
                      </a:lnTo>
                      <a:lnTo>
                        <a:pt x="145" y="81"/>
                      </a:lnTo>
                      <a:lnTo>
                        <a:pt x="147" y="66"/>
                      </a:lnTo>
                      <a:lnTo>
                        <a:pt x="148" y="51"/>
                      </a:lnTo>
                      <a:lnTo>
                        <a:pt x="148" y="36"/>
                      </a:lnTo>
                      <a:lnTo>
                        <a:pt x="148" y="22"/>
                      </a:lnTo>
                      <a:lnTo>
                        <a:pt x="146" y="12"/>
                      </a:lnTo>
                      <a:lnTo>
                        <a:pt x="141" y="1"/>
                      </a:lnTo>
                      <a:lnTo>
                        <a:pt x="131" y="0"/>
                      </a:lnTo>
                      <a:lnTo>
                        <a:pt x="118" y="0"/>
                      </a:lnTo>
                      <a:lnTo>
                        <a:pt x="104" y="0"/>
                      </a:lnTo>
                      <a:lnTo>
                        <a:pt x="89" y="1"/>
                      </a:lnTo>
                      <a:lnTo>
                        <a:pt x="74" y="4"/>
                      </a:lnTo>
                      <a:lnTo>
                        <a:pt x="59" y="5"/>
                      </a:lnTo>
                      <a:lnTo>
                        <a:pt x="46" y="6"/>
                      </a:lnTo>
                      <a:lnTo>
                        <a:pt x="35" y="7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5061240" y="5989320"/>
                  <a:ext cx="14040" cy="45360"/>
                </a:xfrm>
                <a:custGeom>
                  <a:avLst/>
                  <a:gdLst/>
                  <a:ahLst/>
                  <a:rect l="l" t="t" r="r" b="b"/>
                  <a:pathLst>
                    <a:path w="27" h="73">
                      <a:moveTo>
                        <a:pt x="0" y="26"/>
                      </a:moveTo>
                      <a:lnTo>
                        <a:pt x="6" y="29"/>
                      </a:lnTo>
                      <a:lnTo>
                        <a:pt x="12" y="33"/>
                      </a:lnTo>
                      <a:lnTo>
                        <a:pt x="16" y="37"/>
                      </a:lnTo>
                      <a:lnTo>
                        <a:pt x="20" y="41"/>
                      </a:lnTo>
                      <a:lnTo>
                        <a:pt x="22" y="47"/>
                      </a:lnTo>
                      <a:lnTo>
                        <a:pt x="22" y="54"/>
                      </a:lnTo>
                      <a:lnTo>
                        <a:pt x="22" y="62"/>
                      </a:lnTo>
                      <a:lnTo>
                        <a:pt x="19" y="73"/>
                      </a:lnTo>
                      <a:lnTo>
                        <a:pt x="24" y="63"/>
                      </a:lnTo>
                      <a:lnTo>
                        <a:pt x="27" y="54"/>
                      </a:lnTo>
                      <a:lnTo>
                        <a:pt x="27" y="45"/>
                      </a:lnTo>
                      <a:lnTo>
                        <a:pt x="26" y="39"/>
                      </a:lnTo>
                      <a:lnTo>
                        <a:pt x="23" y="30"/>
                      </a:lnTo>
                      <a:lnTo>
                        <a:pt x="20" y="22"/>
                      </a:lnTo>
                      <a:lnTo>
                        <a:pt x="16" y="12"/>
                      </a:lnTo>
                      <a:lnTo>
                        <a:pt x="14" y="0"/>
                      </a:lnTo>
                      <a:lnTo>
                        <a:pt x="11" y="7"/>
                      </a:lnTo>
                      <a:lnTo>
                        <a:pt x="7" y="14"/>
                      </a:lnTo>
                      <a:lnTo>
                        <a:pt x="4" y="20"/>
                      </a:lnTo>
                      <a:lnTo>
                        <a:pt x="0" y="2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975200" y="5943960"/>
                  <a:ext cx="84240" cy="120240"/>
                </a:xfrm>
                <a:custGeom>
                  <a:avLst/>
                  <a:gdLst/>
                  <a:ahLst/>
                  <a:rect l="l" t="t" r="r" b="b"/>
                  <a:pathLst>
                    <a:path w="157" h="197">
                      <a:moveTo>
                        <a:pt x="0" y="18"/>
                      </a:moveTo>
                      <a:lnTo>
                        <a:pt x="4" y="32"/>
                      </a:lnTo>
                      <a:lnTo>
                        <a:pt x="9" y="44"/>
                      </a:lnTo>
                      <a:lnTo>
                        <a:pt x="12" y="56"/>
                      </a:lnTo>
                      <a:lnTo>
                        <a:pt x="17" y="67"/>
                      </a:lnTo>
                      <a:lnTo>
                        <a:pt x="20" y="78"/>
                      </a:lnTo>
                      <a:lnTo>
                        <a:pt x="24" y="90"/>
                      </a:lnTo>
                      <a:lnTo>
                        <a:pt x="29" y="102"/>
                      </a:lnTo>
                      <a:lnTo>
                        <a:pt x="34" y="116"/>
                      </a:lnTo>
                      <a:lnTo>
                        <a:pt x="44" y="126"/>
                      </a:lnTo>
                      <a:lnTo>
                        <a:pt x="55" y="138"/>
                      </a:lnTo>
                      <a:lnTo>
                        <a:pt x="68" y="152"/>
                      </a:lnTo>
                      <a:lnTo>
                        <a:pt x="79" y="166"/>
                      </a:lnTo>
                      <a:lnTo>
                        <a:pt x="91" y="178"/>
                      </a:lnTo>
                      <a:lnTo>
                        <a:pt x="101" y="187"/>
                      </a:lnTo>
                      <a:lnTo>
                        <a:pt x="111" y="194"/>
                      </a:lnTo>
                      <a:lnTo>
                        <a:pt x="117" y="197"/>
                      </a:lnTo>
                      <a:lnTo>
                        <a:pt x="119" y="194"/>
                      </a:lnTo>
                      <a:lnTo>
                        <a:pt x="121" y="190"/>
                      </a:lnTo>
                      <a:lnTo>
                        <a:pt x="122" y="183"/>
                      </a:lnTo>
                      <a:lnTo>
                        <a:pt x="126" y="174"/>
                      </a:lnTo>
                      <a:lnTo>
                        <a:pt x="129" y="162"/>
                      </a:lnTo>
                      <a:lnTo>
                        <a:pt x="135" y="151"/>
                      </a:lnTo>
                      <a:lnTo>
                        <a:pt x="143" y="137"/>
                      </a:lnTo>
                      <a:lnTo>
                        <a:pt x="152" y="122"/>
                      </a:lnTo>
                      <a:lnTo>
                        <a:pt x="156" y="114"/>
                      </a:lnTo>
                      <a:lnTo>
                        <a:pt x="157" y="108"/>
                      </a:lnTo>
                      <a:lnTo>
                        <a:pt x="156" y="103"/>
                      </a:lnTo>
                      <a:lnTo>
                        <a:pt x="152" y="100"/>
                      </a:lnTo>
                      <a:lnTo>
                        <a:pt x="138" y="84"/>
                      </a:lnTo>
                      <a:lnTo>
                        <a:pt x="122" y="70"/>
                      </a:lnTo>
                      <a:lnTo>
                        <a:pt x="106" y="58"/>
                      </a:lnTo>
                      <a:lnTo>
                        <a:pt x="89" y="47"/>
                      </a:lnTo>
                      <a:lnTo>
                        <a:pt x="70" y="35"/>
                      </a:lnTo>
                      <a:lnTo>
                        <a:pt x="53" y="25"/>
                      </a:lnTo>
                      <a:lnTo>
                        <a:pt x="37" y="13"/>
                      </a:lnTo>
                      <a:lnTo>
                        <a:pt x="20" y="0"/>
                      </a:lnTo>
                      <a:lnTo>
                        <a:pt x="16" y="4"/>
                      </a:lnTo>
                      <a:lnTo>
                        <a:pt x="10" y="8"/>
                      </a:lnTo>
                      <a:lnTo>
                        <a:pt x="4" y="13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5000760" y="6027840"/>
                  <a:ext cx="41400" cy="156600"/>
                </a:xfrm>
                <a:custGeom>
                  <a:avLst/>
                  <a:gdLst/>
                  <a:ahLst/>
                  <a:rect l="l" t="t" r="r" b="b"/>
                  <a:pathLst>
                    <a:path w="80" h="258">
                      <a:moveTo>
                        <a:pt x="0" y="0"/>
                      </a:moveTo>
                      <a:lnTo>
                        <a:pt x="4" y="10"/>
                      </a:lnTo>
                      <a:lnTo>
                        <a:pt x="9" y="22"/>
                      </a:lnTo>
                      <a:lnTo>
                        <a:pt x="14" y="34"/>
                      </a:lnTo>
                      <a:lnTo>
                        <a:pt x="17" y="48"/>
                      </a:lnTo>
                      <a:lnTo>
                        <a:pt x="21" y="63"/>
                      </a:lnTo>
                      <a:lnTo>
                        <a:pt x="25" y="79"/>
                      </a:lnTo>
                      <a:lnTo>
                        <a:pt x="28" y="96"/>
                      </a:lnTo>
                      <a:lnTo>
                        <a:pt x="31" y="113"/>
                      </a:lnTo>
                      <a:lnTo>
                        <a:pt x="33" y="130"/>
                      </a:lnTo>
                      <a:lnTo>
                        <a:pt x="36" y="149"/>
                      </a:lnTo>
                      <a:lnTo>
                        <a:pt x="38" y="166"/>
                      </a:lnTo>
                      <a:lnTo>
                        <a:pt x="40" y="186"/>
                      </a:lnTo>
                      <a:lnTo>
                        <a:pt x="41" y="204"/>
                      </a:lnTo>
                      <a:lnTo>
                        <a:pt x="41" y="223"/>
                      </a:lnTo>
                      <a:lnTo>
                        <a:pt x="43" y="240"/>
                      </a:lnTo>
                      <a:lnTo>
                        <a:pt x="43" y="258"/>
                      </a:lnTo>
                      <a:lnTo>
                        <a:pt x="47" y="232"/>
                      </a:lnTo>
                      <a:lnTo>
                        <a:pt x="53" y="208"/>
                      </a:lnTo>
                      <a:lnTo>
                        <a:pt x="60" y="183"/>
                      </a:lnTo>
                      <a:lnTo>
                        <a:pt x="67" y="161"/>
                      </a:lnTo>
                      <a:lnTo>
                        <a:pt x="73" y="138"/>
                      </a:lnTo>
                      <a:lnTo>
                        <a:pt x="77" y="117"/>
                      </a:lnTo>
                      <a:lnTo>
                        <a:pt x="80" y="96"/>
                      </a:lnTo>
                      <a:lnTo>
                        <a:pt x="80" y="75"/>
                      </a:lnTo>
                      <a:lnTo>
                        <a:pt x="78" y="71"/>
                      </a:lnTo>
                      <a:lnTo>
                        <a:pt x="75" y="75"/>
                      </a:lnTo>
                      <a:lnTo>
                        <a:pt x="71" y="79"/>
                      </a:lnTo>
                      <a:lnTo>
                        <a:pt x="66" y="81"/>
                      </a:lnTo>
                      <a:lnTo>
                        <a:pt x="65" y="70"/>
                      </a:lnTo>
                      <a:lnTo>
                        <a:pt x="58" y="59"/>
                      </a:lnTo>
                      <a:lnTo>
                        <a:pt x="48" y="47"/>
                      </a:lnTo>
                      <a:lnTo>
                        <a:pt x="37" y="35"/>
                      </a:lnTo>
                      <a:lnTo>
                        <a:pt x="25" y="24"/>
                      </a:lnTo>
                      <a:lnTo>
                        <a:pt x="15" y="14"/>
                      </a:lnTo>
                      <a:lnTo>
                        <a:pt x="6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5013360" y="6046200"/>
                  <a:ext cx="41400" cy="200520"/>
                </a:xfrm>
                <a:custGeom>
                  <a:avLst/>
                  <a:gdLst/>
                  <a:ahLst/>
                  <a:rect l="l" t="t" r="r" b="b"/>
                  <a:pathLst>
                    <a:path w="78" h="331">
                      <a:moveTo>
                        <a:pt x="60" y="0"/>
                      </a:moveTo>
                      <a:lnTo>
                        <a:pt x="62" y="25"/>
                      </a:lnTo>
                      <a:lnTo>
                        <a:pt x="62" y="48"/>
                      </a:lnTo>
                      <a:lnTo>
                        <a:pt x="59" y="71"/>
                      </a:lnTo>
                      <a:lnTo>
                        <a:pt x="57" y="93"/>
                      </a:lnTo>
                      <a:lnTo>
                        <a:pt x="52" y="114"/>
                      </a:lnTo>
                      <a:lnTo>
                        <a:pt x="48" y="135"/>
                      </a:lnTo>
                      <a:lnTo>
                        <a:pt x="43" y="155"/>
                      </a:lnTo>
                      <a:lnTo>
                        <a:pt x="37" y="175"/>
                      </a:lnTo>
                      <a:lnTo>
                        <a:pt x="30" y="195"/>
                      </a:lnTo>
                      <a:lnTo>
                        <a:pt x="25" y="214"/>
                      </a:lnTo>
                      <a:lnTo>
                        <a:pt x="19" y="234"/>
                      </a:lnTo>
                      <a:lnTo>
                        <a:pt x="14" y="253"/>
                      </a:lnTo>
                      <a:lnTo>
                        <a:pt x="10" y="272"/>
                      </a:lnTo>
                      <a:lnTo>
                        <a:pt x="5" y="292"/>
                      </a:lnTo>
                      <a:lnTo>
                        <a:pt x="3" y="311"/>
                      </a:lnTo>
                      <a:lnTo>
                        <a:pt x="0" y="331"/>
                      </a:lnTo>
                      <a:lnTo>
                        <a:pt x="7" y="326"/>
                      </a:lnTo>
                      <a:lnTo>
                        <a:pt x="14" y="322"/>
                      </a:lnTo>
                      <a:lnTo>
                        <a:pt x="20" y="316"/>
                      </a:lnTo>
                      <a:lnTo>
                        <a:pt x="27" y="309"/>
                      </a:lnTo>
                      <a:lnTo>
                        <a:pt x="33" y="301"/>
                      </a:lnTo>
                      <a:lnTo>
                        <a:pt x="37" y="293"/>
                      </a:lnTo>
                      <a:lnTo>
                        <a:pt x="42" y="285"/>
                      </a:lnTo>
                      <a:lnTo>
                        <a:pt x="46" y="276"/>
                      </a:lnTo>
                      <a:lnTo>
                        <a:pt x="45" y="271"/>
                      </a:lnTo>
                      <a:lnTo>
                        <a:pt x="38" y="274"/>
                      </a:lnTo>
                      <a:lnTo>
                        <a:pt x="30" y="278"/>
                      </a:lnTo>
                      <a:lnTo>
                        <a:pt x="27" y="276"/>
                      </a:lnTo>
                      <a:lnTo>
                        <a:pt x="36" y="264"/>
                      </a:lnTo>
                      <a:lnTo>
                        <a:pt x="43" y="257"/>
                      </a:lnTo>
                      <a:lnTo>
                        <a:pt x="48" y="253"/>
                      </a:lnTo>
                      <a:lnTo>
                        <a:pt x="51" y="246"/>
                      </a:lnTo>
                      <a:lnTo>
                        <a:pt x="52" y="240"/>
                      </a:lnTo>
                      <a:lnTo>
                        <a:pt x="53" y="232"/>
                      </a:lnTo>
                      <a:lnTo>
                        <a:pt x="53" y="222"/>
                      </a:lnTo>
                      <a:lnTo>
                        <a:pt x="55" y="211"/>
                      </a:lnTo>
                      <a:lnTo>
                        <a:pt x="53" y="199"/>
                      </a:lnTo>
                      <a:lnTo>
                        <a:pt x="53" y="187"/>
                      </a:lnTo>
                      <a:lnTo>
                        <a:pt x="52" y="175"/>
                      </a:lnTo>
                      <a:lnTo>
                        <a:pt x="50" y="165"/>
                      </a:lnTo>
                      <a:lnTo>
                        <a:pt x="53" y="160"/>
                      </a:lnTo>
                      <a:lnTo>
                        <a:pt x="56" y="157"/>
                      </a:lnTo>
                      <a:lnTo>
                        <a:pt x="58" y="152"/>
                      </a:lnTo>
                      <a:lnTo>
                        <a:pt x="60" y="149"/>
                      </a:lnTo>
                      <a:lnTo>
                        <a:pt x="63" y="140"/>
                      </a:lnTo>
                      <a:lnTo>
                        <a:pt x="64" y="134"/>
                      </a:lnTo>
                      <a:lnTo>
                        <a:pt x="65" y="128"/>
                      </a:lnTo>
                      <a:lnTo>
                        <a:pt x="66" y="122"/>
                      </a:lnTo>
                      <a:lnTo>
                        <a:pt x="68" y="116"/>
                      </a:lnTo>
                      <a:lnTo>
                        <a:pt x="70" y="110"/>
                      </a:lnTo>
                      <a:lnTo>
                        <a:pt x="71" y="105"/>
                      </a:lnTo>
                      <a:lnTo>
                        <a:pt x="73" y="97"/>
                      </a:lnTo>
                      <a:lnTo>
                        <a:pt x="73" y="86"/>
                      </a:lnTo>
                      <a:lnTo>
                        <a:pt x="73" y="75"/>
                      </a:lnTo>
                      <a:lnTo>
                        <a:pt x="72" y="62"/>
                      </a:lnTo>
                      <a:lnTo>
                        <a:pt x="72" y="49"/>
                      </a:lnTo>
                      <a:lnTo>
                        <a:pt x="72" y="38"/>
                      </a:lnTo>
                      <a:lnTo>
                        <a:pt x="73" y="26"/>
                      </a:lnTo>
                      <a:lnTo>
                        <a:pt x="74" y="16"/>
                      </a:lnTo>
                      <a:lnTo>
                        <a:pt x="78" y="8"/>
                      </a:lnTo>
                      <a:lnTo>
                        <a:pt x="73" y="5"/>
                      </a:lnTo>
                      <a:lnTo>
                        <a:pt x="68" y="3"/>
                      </a:lnTo>
                      <a:lnTo>
                        <a:pt x="64" y="2"/>
                      </a:lnTo>
                      <a:lnTo>
                        <a:pt x="6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5577120" y="5916600"/>
                  <a:ext cx="263520" cy="242280"/>
                </a:xfrm>
                <a:custGeom>
                  <a:avLst/>
                  <a:gdLst/>
                  <a:ahLst/>
                  <a:rect l="l" t="t" r="r" b="b"/>
                  <a:pathLst>
                    <a:path w="498" h="399">
                      <a:moveTo>
                        <a:pt x="61" y="254"/>
                      </a:moveTo>
                      <a:lnTo>
                        <a:pt x="61" y="256"/>
                      </a:lnTo>
                      <a:lnTo>
                        <a:pt x="62" y="257"/>
                      </a:lnTo>
                      <a:lnTo>
                        <a:pt x="62" y="258"/>
                      </a:lnTo>
                      <a:lnTo>
                        <a:pt x="62" y="259"/>
                      </a:lnTo>
                      <a:lnTo>
                        <a:pt x="63" y="259"/>
                      </a:lnTo>
                      <a:lnTo>
                        <a:pt x="63" y="260"/>
                      </a:lnTo>
                      <a:lnTo>
                        <a:pt x="64" y="261"/>
                      </a:lnTo>
                      <a:lnTo>
                        <a:pt x="65" y="263"/>
                      </a:lnTo>
                      <a:lnTo>
                        <a:pt x="65" y="264"/>
                      </a:lnTo>
                      <a:lnTo>
                        <a:pt x="66" y="265"/>
                      </a:lnTo>
                      <a:lnTo>
                        <a:pt x="67" y="266"/>
                      </a:lnTo>
                      <a:lnTo>
                        <a:pt x="69" y="267"/>
                      </a:lnTo>
                      <a:lnTo>
                        <a:pt x="70" y="268"/>
                      </a:lnTo>
                      <a:lnTo>
                        <a:pt x="71" y="269"/>
                      </a:lnTo>
                      <a:lnTo>
                        <a:pt x="72" y="271"/>
                      </a:lnTo>
                      <a:lnTo>
                        <a:pt x="72" y="272"/>
                      </a:lnTo>
                      <a:lnTo>
                        <a:pt x="73" y="272"/>
                      </a:lnTo>
                      <a:lnTo>
                        <a:pt x="74" y="273"/>
                      </a:lnTo>
                      <a:lnTo>
                        <a:pt x="76" y="274"/>
                      </a:lnTo>
                      <a:lnTo>
                        <a:pt x="77" y="275"/>
                      </a:lnTo>
                      <a:lnTo>
                        <a:pt x="77" y="276"/>
                      </a:lnTo>
                      <a:lnTo>
                        <a:pt x="77" y="278"/>
                      </a:lnTo>
                      <a:lnTo>
                        <a:pt x="77" y="279"/>
                      </a:lnTo>
                      <a:lnTo>
                        <a:pt x="77" y="280"/>
                      </a:lnTo>
                      <a:lnTo>
                        <a:pt x="77" y="281"/>
                      </a:lnTo>
                      <a:lnTo>
                        <a:pt x="77" y="282"/>
                      </a:lnTo>
                      <a:lnTo>
                        <a:pt x="77" y="284"/>
                      </a:lnTo>
                      <a:lnTo>
                        <a:pt x="77" y="286"/>
                      </a:lnTo>
                      <a:lnTo>
                        <a:pt x="77" y="288"/>
                      </a:lnTo>
                      <a:lnTo>
                        <a:pt x="77" y="289"/>
                      </a:lnTo>
                      <a:lnTo>
                        <a:pt x="76" y="291"/>
                      </a:lnTo>
                      <a:lnTo>
                        <a:pt x="76" y="293"/>
                      </a:lnTo>
                      <a:lnTo>
                        <a:pt x="76" y="295"/>
                      </a:lnTo>
                      <a:lnTo>
                        <a:pt x="76" y="296"/>
                      </a:lnTo>
                      <a:lnTo>
                        <a:pt x="76" y="298"/>
                      </a:lnTo>
                      <a:lnTo>
                        <a:pt x="76" y="301"/>
                      </a:lnTo>
                      <a:lnTo>
                        <a:pt x="74" y="302"/>
                      </a:lnTo>
                      <a:lnTo>
                        <a:pt x="74" y="304"/>
                      </a:lnTo>
                      <a:lnTo>
                        <a:pt x="74" y="306"/>
                      </a:lnTo>
                      <a:lnTo>
                        <a:pt x="73" y="308"/>
                      </a:lnTo>
                      <a:lnTo>
                        <a:pt x="73" y="310"/>
                      </a:lnTo>
                      <a:lnTo>
                        <a:pt x="73" y="311"/>
                      </a:lnTo>
                      <a:lnTo>
                        <a:pt x="72" y="312"/>
                      </a:lnTo>
                      <a:lnTo>
                        <a:pt x="72" y="315"/>
                      </a:lnTo>
                      <a:lnTo>
                        <a:pt x="71" y="316"/>
                      </a:lnTo>
                      <a:lnTo>
                        <a:pt x="70" y="317"/>
                      </a:lnTo>
                      <a:lnTo>
                        <a:pt x="70" y="318"/>
                      </a:lnTo>
                      <a:lnTo>
                        <a:pt x="69" y="319"/>
                      </a:lnTo>
                      <a:lnTo>
                        <a:pt x="67" y="320"/>
                      </a:lnTo>
                      <a:lnTo>
                        <a:pt x="66" y="320"/>
                      </a:lnTo>
                      <a:lnTo>
                        <a:pt x="66" y="321"/>
                      </a:lnTo>
                      <a:lnTo>
                        <a:pt x="67" y="321"/>
                      </a:lnTo>
                      <a:lnTo>
                        <a:pt x="69" y="321"/>
                      </a:lnTo>
                      <a:lnTo>
                        <a:pt x="70" y="321"/>
                      </a:lnTo>
                      <a:lnTo>
                        <a:pt x="71" y="321"/>
                      </a:lnTo>
                      <a:lnTo>
                        <a:pt x="72" y="321"/>
                      </a:lnTo>
                      <a:lnTo>
                        <a:pt x="73" y="321"/>
                      </a:lnTo>
                      <a:lnTo>
                        <a:pt x="74" y="321"/>
                      </a:lnTo>
                      <a:lnTo>
                        <a:pt x="76" y="321"/>
                      </a:lnTo>
                      <a:lnTo>
                        <a:pt x="76" y="320"/>
                      </a:lnTo>
                      <a:lnTo>
                        <a:pt x="77" y="320"/>
                      </a:lnTo>
                      <a:lnTo>
                        <a:pt x="78" y="320"/>
                      </a:lnTo>
                      <a:lnTo>
                        <a:pt x="79" y="319"/>
                      </a:lnTo>
                      <a:lnTo>
                        <a:pt x="79" y="318"/>
                      </a:lnTo>
                      <a:lnTo>
                        <a:pt x="80" y="318"/>
                      </a:lnTo>
                      <a:lnTo>
                        <a:pt x="80" y="317"/>
                      </a:lnTo>
                      <a:lnTo>
                        <a:pt x="81" y="316"/>
                      </a:lnTo>
                      <a:lnTo>
                        <a:pt x="81" y="315"/>
                      </a:lnTo>
                      <a:lnTo>
                        <a:pt x="82" y="315"/>
                      </a:lnTo>
                      <a:lnTo>
                        <a:pt x="82" y="313"/>
                      </a:lnTo>
                      <a:lnTo>
                        <a:pt x="84" y="312"/>
                      </a:lnTo>
                      <a:lnTo>
                        <a:pt x="84" y="311"/>
                      </a:lnTo>
                      <a:lnTo>
                        <a:pt x="84" y="310"/>
                      </a:lnTo>
                      <a:lnTo>
                        <a:pt x="85" y="310"/>
                      </a:lnTo>
                      <a:lnTo>
                        <a:pt x="85" y="309"/>
                      </a:lnTo>
                      <a:lnTo>
                        <a:pt x="85" y="308"/>
                      </a:lnTo>
                      <a:lnTo>
                        <a:pt x="86" y="306"/>
                      </a:lnTo>
                      <a:lnTo>
                        <a:pt x="86" y="305"/>
                      </a:lnTo>
                      <a:lnTo>
                        <a:pt x="87" y="305"/>
                      </a:lnTo>
                      <a:lnTo>
                        <a:pt x="87" y="304"/>
                      </a:lnTo>
                      <a:lnTo>
                        <a:pt x="87" y="303"/>
                      </a:lnTo>
                      <a:lnTo>
                        <a:pt x="88" y="303"/>
                      </a:lnTo>
                      <a:lnTo>
                        <a:pt x="88" y="302"/>
                      </a:lnTo>
                      <a:lnTo>
                        <a:pt x="89" y="301"/>
                      </a:lnTo>
                      <a:lnTo>
                        <a:pt x="89" y="298"/>
                      </a:lnTo>
                      <a:lnTo>
                        <a:pt x="89" y="297"/>
                      </a:lnTo>
                      <a:lnTo>
                        <a:pt x="89" y="296"/>
                      </a:lnTo>
                      <a:lnTo>
                        <a:pt x="89" y="295"/>
                      </a:lnTo>
                      <a:lnTo>
                        <a:pt x="89" y="294"/>
                      </a:lnTo>
                      <a:lnTo>
                        <a:pt x="89" y="293"/>
                      </a:lnTo>
                      <a:lnTo>
                        <a:pt x="89" y="291"/>
                      </a:lnTo>
                      <a:lnTo>
                        <a:pt x="88" y="290"/>
                      </a:lnTo>
                      <a:lnTo>
                        <a:pt x="88" y="289"/>
                      </a:lnTo>
                      <a:lnTo>
                        <a:pt x="88" y="288"/>
                      </a:lnTo>
                      <a:lnTo>
                        <a:pt x="88" y="287"/>
                      </a:lnTo>
                      <a:lnTo>
                        <a:pt x="88" y="286"/>
                      </a:lnTo>
                      <a:lnTo>
                        <a:pt x="88" y="284"/>
                      </a:lnTo>
                      <a:lnTo>
                        <a:pt x="87" y="283"/>
                      </a:lnTo>
                      <a:lnTo>
                        <a:pt x="87" y="282"/>
                      </a:lnTo>
                      <a:lnTo>
                        <a:pt x="87" y="281"/>
                      </a:lnTo>
                      <a:lnTo>
                        <a:pt x="87" y="280"/>
                      </a:lnTo>
                      <a:lnTo>
                        <a:pt x="86" y="280"/>
                      </a:lnTo>
                      <a:lnTo>
                        <a:pt x="86" y="279"/>
                      </a:lnTo>
                      <a:lnTo>
                        <a:pt x="86" y="278"/>
                      </a:lnTo>
                      <a:lnTo>
                        <a:pt x="85" y="276"/>
                      </a:lnTo>
                      <a:lnTo>
                        <a:pt x="85" y="275"/>
                      </a:lnTo>
                      <a:lnTo>
                        <a:pt x="85" y="274"/>
                      </a:lnTo>
                      <a:lnTo>
                        <a:pt x="85" y="273"/>
                      </a:lnTo>
                      <a:lnTo>
                        <a:pt x="84" y="273"/>
                      </a:lnTo>
                      <a:lnTo>
                        <a:pt x="84" y="272"/>
                      </a:lnTo>
                      <a:lnTo>
                        <a:pt x="84" y="271"/>
                      </a:lnTo>
                      <a:lnTo>
                        <a:pt x="84" y="269"/>
                      </a:lnTo>
                      <a:lnTo>
                        <a:pt x="82" y="268"/>
                      </a:lnTo>
                      <a:lnTo>
                        <a:pt x="81" y="267"/>
                      </a:lnTo>
                      <a:lnTo>
                        <a:pt x="80" y="266"/>
                      </a:lnTo>
                      <a:lnTo>
                        <a:pt x="79" y="265"/>
                      </a:lnTo>
                      <a:lnTo>
                        <a:pt x="78" y="265"/>
                      </a:lnTo>
                      <a:lnTo>
                        <a:pt x="77" y="264"/>
                      </a:lnTo>
                      <a:lnTo>
                        <a:pt x="76" y="263"/>
                      </a:lnTo>
                      <a:lnTo>
                        <a:pt x="74" y="263"/>
                      </a:lnTo>
                      <a:lnTo>
                        <a:pt x="73" y="261"/>
                      </a:lnTo>
                      <a:lnTo>
                        <a:pt x="72" y="261"/>
                      </a:lnTo>
                      <a:lnTo>
                        <a:pt x="71" y="260"/>
                      </a:lnTo>
                      <a:lnTo>
                        <a:pt x="70" y="260"/>
                      </a:lnTo>
                      <a:lnTo>
                        <a:pt x="70" y="259"/>
                      </a:lnTo>
                      <a:lnTo>
                        <a:pt x="69" y="259"/>
                      </a:lnTo>
                      <a:lnTo>
                        <a:pt x="67" y="259"/>
                      </a:lnTo>
                      <a:lnTo>
                        <a:pt x="66" y="258"/>
                      </a:lnTo>
                      <a:lnTo>
                        <a:pt x="65" y="258"/>
                      </a:lnTo>
                      <a:lnTo>
                        <a:pt x="65" y="257"/>
                      </a:lnTo>
                      <a:lnTo>
                        <a:pt x="64" y="257"/>
                      </a:lnTo>
                      <a:lnTo>
                        <a:pt x="63" y="257"/>
                      </a:lnTo>
                      <a:lnTo>
                        <a:pt x="62" y="256"/>
                      </a:lnTo>
                      <a:lnTo>
                        <a:pt x="61" y="254"/>
                      </a:lnTo>
                      <a:close/>
                      <a:moveTo>
                        <a:pt x="81" y="321"/>
                      </a:moveTo>
                      <a:lnTo>
                        <a:pt x="80" y="323"/>
                      </a:lnTo>
                      <a:lnTo>
                        <a:pt x="79" y="323"/>
                      </a:lnTo>
                      <a:lnTo>
                        <a:pt x="78" y="323"/>
                      </a:lnTo>
                      <a:lnTo>
                        <a:pt x="77" y="323"/>
                      </a:lnTo>
                      <a:lnTo>
                        <a:pt x="76" y="323"/>
                      </a:lnTo>
                      <a:lnTo>
                        <a:pt x="74" y="323"/>
                      </a:lnTo>
                      <a:lnTo>
                        <a:pt x="73" y="323"/>
                      </a:lnTo>
                      <a:lnTo>
                        <a:pt x="72" y="323"/>
                      </a:lnTo>
                      <a:lnTo>
                        <a:pt x="71" y="323"/>
                      </a:lnTo>
                      <a:lnTo>
                        <a:pt x="70" y="323"/>
                      </a:lnTo>
                      <a:lnTo>
                        <a:pt x="69" y="323"/>
                      </a:lnTo>
                      <a:lnTo>
                        <a:pt x="67" y="323"/>
                      </a:lnTo>
                      <a:lnTo>
                        <a:pt x="66" y="323"/>
                      </a:lnTo>
                      <a:lnTo>
                        <a:pt x="65" y="323"/>
                      </a:lnTo>
                      <a:lnTo>
                        <a:pt x="64" y="323"/>
                      </a:lnTo>
                      <a:lnTo>
                        <a:pt x="63" y="323"/>
                      </a:lnTo>
                      <a:lnTo>
                        <a:pt x="62" y="323"/>
                      </a:lnTo>
                      <a:lnTo>
                        <a:pt x="61" y="323"/>
                      </a:lnTo>
                      <a:lnTo>
                        <a:pt x="59" y="323"/>
                      </a:lnTo>
                      <a:lnTo>
                        <a:pt x="58" y="323"/>
                      </a:lnTo>
                      <a:lnTo>
                        <a:pt x="57" y="323"/>
                      </a:lnTo>
                      <a:lnTo>
                        <a:pt x="55" y="323"/>
                      </a:lnTo>
                      <a:lnTo>
                        <a:pt x="54" y="323"/>
                      </a:lnTo>
                      <a:lnTo>
                        <a:pt x="52" y="323"/>
                      </a:lnTo>
                      <a:lnTo>
                        <a:pt x="51" y="323"/>
                      </a:lnTo>
                      <a:lnTo>
                        <a:pt x="50" y="323"/>
                      </a:lnTo>
                      <a:lnTo>
                        <a:pt x="49" y="324"/>
                      </a:lnTo>
                      <a:lnTo>
                        <a:pt x="47" y="324"/>
                      </a:lnTo>
                      <a:lnTo>
                        <a:pt x="46" y="324"/>
                      </a:lnTo>
                      <a:lnTo>
                        <a:pt x="44" y="325"/>
                      </a:lnTo>
                      <a:lnTo>
                        <a:pt x="43" y="325"/>
                      </a:lnTo>
                      <a:lnTo>
                        <a:pt x="42" y="326"/>
                      </a:lnTo>
                      <a:lnTo>
                        <a:pt x="41" y="326"/>
                      </a:lnTo>
                      <a:lnTo>
                        <a:pt x="40" y="325"/>
                      </a:lnTo>
                      <a:lnTo>
                        <a:pt x="39" y="325"/>
                      </a:lnTo>
                      <a:lnTo>
                        <a:pt x="37" y="325"/>
                      </a:lnTo>
                      <a:lnTo>
                        <a:pt x="36" y="325"/>
                      </a:lnTo>
                      <a:lnTo>
                        <a:pt x="35" y="325"/>
                      </a:lnTo>
                      <a:lnTo>
                        <a:pt x="34" y="325"/>
                      </a:lnTo>
                      <a:lnTo>
                        <a:pt x="33" y="325"/>
                      </a:lnTo>
                      <a:lnTo>
                        <a:pt x="32" y="325"/>
                      </a:lnTo>
                      <a:lnTo>
                        <a:pt x="30" y="325"/>
                      </a:lnTo>
                      <a:lnTo>
                        <a:pt x="29" y="325"/>
                      </a:lnTo>
                      <a:lnTo>
                        <a:pt x="27" y="325"/>
                      </a:lnTo>
                      <a:lnTo>
                        <a:pt x="26" y="325"/>
                      </a:lnTo>
                      <a:lnTo>
                        <a:pt x="25" y="325"/>
                      </a:lnTo>
                      <a:lnTo>
                        <a:pt x="24" y="325"/>
                      </a:lnTo>
                      <a:lnTo>
                        <a:pt x="22" y="325"/>
                      </a:lnTo>
                      <a:lnTo>
                        <a:pt x="21" y="326"/>
                      </a:lnTo>
                      <a:lnTo>
                        <a:pt x="19" y="326"/>
                      </a:lnTo>
                      <a:lnTo>
                        <a:pt x="18" y="326"/>
                      </a:lnTo>
                      <a:lnTo>
                        <a:pt x="17" y="326"/>
                      </a:lnTo>
                      <a:lnTo>
                        <a:pt x="15" y="326"/>
                      </a:lnTo>
                      <a:lnTo>
                        <a:pt x="13" y="326"/>
                      </a:lnTo>
                      <a:lnTo>
                        <a:pt x="12" y="326"/>
                      </a:lnTo>
                      <a:lnTo>
                        <a:pt x="11" y="326"/>
                      </a:lnTo>
                      <a:lnTo>
                        <a:pt x="10" y="326"/>
                      </a:lnTo>
                      <a:lnTo>
                        <a:pt x="9" y="326"/>
                      </a:lnTo>
                      <a:lnTo>
                        <a:pt x="6" y="326"/>
                      </a:lnTo>
                      <a:lnTo>
                        <a:pt x="5" y="326"/>
                      </a:lnTo>
                      <a:lnTo>
                        <a:pt x="4" y="326"/>
                      </a:lnTo>
                      <a:lnTo>
                        <a:pt x="3" y="326"/>
                      </a:lnTo>
                      <a:lnTo>
                        <a:pt x="0" y="325"/>
                      </a:lnTo>
                      <a:lnTo>
                        <a:pt x="3" y="326"/>
                      </a:lnTo>
                      <a:lnTo>
                        <a:pt x="4" y="327"/>
                      </a:lnTo>
                      <a:lnTo>
                        <a:pt x="5" y="327"/>
                      </a:lnTo>
                      <a:lnTo>
                        <a:pt x="6" y="328"/>
                      </a:lnTo>
                      <a:lnTo>
                        <a:pt x="7" y="328"/>
                      </a:lnTo>
                      <a:lnTo>
                        <a:pt x="9" y="330"/>
                      </a:lnTo>
                      <a:lnTo>
                        <a:pt x="10" y="330"/>
                      </a:lnTo>
                      <a:lnTo>
                        <a:pt x="11" y="331"/>
                      </a:lnTo>
                      <a:lnTo>
                        <a:pt x="12" y="331"/>
                      </a:lnTo>
                      <a:lnTo>
                        <a:pt x="13" y="332"/>
                      </a:lnTo>
                      <a:lnTo>
                        <a:pt x="14" y="332"/>
                      </a:lnTo>
                      <a:lnTo>
                        <a:pt x="15" y="332"/>
                      </a:lnTo>
                      <a:lnTo>
                        <a:pt x="17" y="333"/>
                      </a:lnTo>
                      <a:lnTo>
                        <a:pt x="18" y="333"/>
                      </a:lnTo>
                      <a:lnTo>
                        <a:pt x="19" y="333"/>
                      </a:lnTo>
                      <a:lnTo>
                        <a:pt x="21" y="334"/>
                      </a:lnTo>
                      <a:lnTo>
                        <a:pt x="22" y="334"/>
                      </a:lnTo>
                      <a:lnTo>
                        <a:pt x="24" y="334"/>
                      </a:lnTo>
                      <a:lnTo>
                        <a:pt x="25" y="334"/>
                      </a:lnTo>
                      <a:lnTo>
                        <a:pt x="26" y="334"/>
                      </a:lnTo>
                      <a:lnTo>
                        <a:pt x="27" y="334"/>
                      </a:lnTo>
                      <a:lnTo>
                        <a:pt x="28" y="334"/>
                      </a:lnTo>
                      <a:lnTo>
                        <a:pt x="30" y="334"/>
                      </a:lnTo>
                      <a:lnTo>
                        <a:pt x="32" y="334"/>
                      </a:lnTo>
                      <a:lnTo>
                        <a:pt x="33" y="334"/>
                      </a:lnTo>
                      <a:lnTo>
                        <a:pt x="35" y="334"/>
                      </a:lnTo>
                      <a:lnTo>
                        <a:pt x="36" y="334"/>
                      </a:lnTo>
                      <a:lnTo>
                        <a:pt x="37" y="334"/>
                      </a:lnTo>
                      <a:lnTo>
                        <a:pt x="40" y="333"/>
                      </a:lnTo>
                      <a:lnTo>
                        <a:pt x="41" y="333"/>
                      </a:lnTo>
                      <a:lnTo>
                        <a:pt x="42" y="333"/>
                      </a:lnTo>
                      <a:lnTo>
                        <a:pt x="44" y="332"/>
                      </a:lnTo>
                      <a:lnTo>
                        <a:pt x="47" y="332"/>
                      </a:lnTo>
                      <a:lnTo>
                        <a:pt x="48" y="331"/>
                      </a:lnTo>
                      <a:lnTo>
                        <a:pt x="50" y="331"/>
                      </a:lnTo>
                      <a:lnTo>
                        <a:pt x="51" y="331"/>
                      </a:lnTo>
                      <a:lnTo>
                        <a:pt x="54" y="330"/>
                      </a:lnTo>
                      <a:lnTo>
                        <a:pt x="55" y="330"/>
                      </a:lnTo>
                      <a:lnTo>
                        <a:pt x="57" y="330"/>
                      </a:lnTo>
                      <a:lnTo>
                        <a:pt x="58" y="330"/>
                      </a:lnTo>
                      <a:lnTo>
                        <a:pt x="61" y="328"/>
                      </a:lnTo>
                      <a:lnTo>
                        <a:pt x="62" y="328"/>
                      </a:lnTo>
                      <a:lnTo>
                        <a:pt x="63" y="328"/>
                      </a:lnTo>
                      <a:lnTo>
                        <a:pt x="65" y="327"/>
                      </a:lnTo>
                      <a:lnTo>
                        <a:pt x="66" y="327"/>
                      </a:lnTo>
                      <a:lnTo>
                        <a:pt x="69" y="327"/>
                      </a:lnTo>
                      <a:lnTo>
                        <a:pt x="70" y="327"/>
                      </a:lnTo>
                      <a:lnTo>
                        <a:pt x="71" y="327"/>
                      </a:lnTo>
                      <a:lnTo>
                        <a:pt x="72" y="326"/>
                      </a:lnTo>
                      <a:lnTo>
                        <a:pt x="73" y="326"/>
                      </a:lnTo>
                      <a:lnTo>
                        <a:pt x="74" y="326"/>
                      </a:lnTo>
                      <a:lnTo>
                        <a:pt x="76" y="326"/>
                      </a:lnTo>
                      <a:lnTo>
                        <a:pt x="77" y="325"/>
                      </a:lnTo>
                      <a:lnTo>
                        <a:pt x="78" y="325"/>
                      </a:lnTo>
                      <a:lnTo>
                        <a:pt x="79" y="325"/>
                      </a:lnTo>
                      <a:lnTo>
                        <a:pt x="80" y="324"/>
                      </a:lnTo>
                      <a:lnTo>
                        <a:pt x="81" y="324"/>
                      </a:lnTo>
                      <a:lnTo>
                        <a:pt x="81" y="323"/>
                      </a:lnTo>
                      <a:lnTo>
                        <a:pt x="82" y="323"/>
                      </a:lnTo>
                      <a:lnTo>
                        <a:pt x="81" y="321"/>
                      </a:lnTo>
                      <a:close/>
                      <a:moveTo>
                        <a:pt x="337" y="95"/>
                      </a:moveTo>
                      <a:lnTo>
                        <a:pt x="340" y="93"/>
                      </a:lnTo>
                      <a:lnTo>
                        <a:pt x="344" y="90"/>
                      </a:lnTo>
                      <a:lnTo>
                        <a:pt x="347" y="89"/>
                      </a:lnTo>
                      <a:lnTo>
                        <a:pt x="351" y="86"/>
                      </a:lnTo>
                      <a:lnTo>
                        <a:pt x="354" y="83"/>
                      </a:lnTo>
                      <a:lnTo>
                        <a:pt x="357" y="81"/>
                      </a:lnTo>
                      <a:lnTo>
                        <a:pt x="361" y="79"/>
                      </a:lnTo>
                      <a:lnTo>
                        <a:pt x="364" y="77"/>
                      </a:lnTo>
                      <a:lnTo>
                        <a:pt x="368" y="73"/>
                      </a:lnTo>
                      <a:lnTo>
                        <a:pt x="370" y="71"/>
                      </a:lnTo>
                      <a:lnTo>
                        <a:pt x="374" y="67"/>
                      </a:lnTo>
                      <a:lnTo>
                        <a:pt x="376" y="64"/>
                      </a:lnTo>
                      <a:lnTo>
                        <a:pt x="378" y="62"/>
                      </a:lnTo>
                      <a:lnTo>
                        <a:pt x="382" y="58"/>
                      </a:lnTo>
                      <a:lnTo>
                        <a:pt x="384" y="55"/>
                      </a:lnTo>
                      <a:lnTo>
                        <a:pt x="386" y="52"/>
                      </a:lnTo>
                      <a:lnTo>
                        <a:pt x="389" y="49"/>
                      </a:lnTo>
                      <a:lnTo>
                        <a:pt x="391" y="45"/>
                      </a:lnTo>
                      <a:lnTo>
                        <a:pt x="393" y="42"/>
                      </a:lnTo>
                      <a:lnTo>
                        <a:pt x="396" y="38"/>
                      </a:lnTo>
                      <a:lnTo>
                        <a:pt x="398" y="35"/>
                      </a:lnTo>
                      <a:lnTo>
                        <a:pt x="400" y="33"/>
                      </a:lnTo>
                      <a:lnTo>
                        <a:pt x="401" y="29"/>
                      </a:lnTo>
                      <a:lnTo>
                        <a:pt x="404" y="26"/>
                      </a:lnTo>
                      <a:lnTo>
                        <a:pt x="405" y="22"/>
                      </a:lnTo>
                      <a:lnTo>
                        <a:pt x="407" y="19"/>
                      </a:lnTo>
                      <a:lnTo>
                        <a:pt x="408" y="15"/>
                      </a:lnTo>
                      <a:lnTo>
                        <a:pt x="411" y="13"/>
                      </a:lnTo>
                      <a:lnTo>
                        <a:pt x="412" y="10"/>
                      </a:lnTo>
                      <a:lnTo>
                        <a:pt x="413" y="6"/>
                      </a:lnTo>
                      <a:lnTo>
                        <a:pt x="414" y="3"/>
                      </a:lnTo>
                      <a:lnTo>
                        <a:pt x="415" y="0"/>
                      </a:lnTo>
                      <a:lnTo>
                        <a:pt x="415" y="3"/>
                      </a:lnTo>
                      <a:lnTo>
                        <a:pt x="416" y="5"/>
                      </a:lnTo>
                      <a:lnTo>
                        <a:pt x="416" y="7"/>
                      </a:lnTo>
                      <a:lnTo>
                        <a:pt x="416" y="8"/>
                      </a:lnTo>
                      <a:lnTo>
                        <a:pt x="416" y="11"/>
                      </a:lnTo>
                      <a:lnTo>
                        <a:pt x="416" y="12"/>
                      </a:lnTo>
                      <a:lnTo>
                        <a:pt x="416" y="14"/>
                      </a:lnTo>
                      <a:lnTo>
                        <a:pt x="416" y="15"/>
                      </a:lnTo>
                      <a:lnTo>
                        <a:pt x="415" y="16"/>
                      </a:lnTo>
                      <a:lnTo>
                        <a:pt x="415" y="18"/>
                      </a:lnTo>
                      <a:lnTo>
                        <a:pt x="415" y="20"/>
                      </a:lnTo>
                      <a:lnTo>
                        <a:pt x="415" y="21"/>
                      </a:lnTo>
                      <a:lnTo>
                        <a:pt x="415" y="22"/>
                      </a:lnTo>
                      <a:lnTo>
                        <a:pt x="414" y="23"/>
                      </a:lnTo>
                      <a:lnTo>
                        <a:pt x="414" y="25"/>
                      </a:lnTo>
                      <a:lnTo>
                        <a:pt x="413" y="26"/>
                      </a:lnTo>
                      <a:lnTo>
                        <a:pt x="413" y="27"/>
                      </a:lnTo>
                      <a:lnTo>
                        <a:pt x="413" y="28"/>
                      </a:lnTo>
                      <a:lnTo>
                        <a:pt x="412" y="29"/>
                      </a:lnTo>
                      <a:lnTo>
                        <a:pt x="412" y="30"/>
                      </a:lnTo>
                      <a:lnTo>
                        <a:pt x="412" y="31"/>
                      </a:lnTo>
                      <a:lnTo>
                        <a:pt x="411" y="33"/>
                      </a:lnTo>
                      <a:lnTo>
                        <a:pt x="411" y="34"/>
                      </a:lnTo>
                      <a:lnTo>
                        <a:pt x="409" y="35"/>
                      </a:lnTo>
                      <a:lnTo>
                        <a:pt x="409" y="37"/>
                      </a:lnTo>
                      <a:lnTo>
                        <a:pt x="409" y="38"/>
                      </a:lnTo>
                      <a:lnTo>
                        <a:pt x="409" y="40"/>
                      </a:lnTo>
                      <a:lnTo>
                        <a:pt x="409" y="41"/>
                      </a:lnTo>
                      <a:lnTo>
                        <a:pt x="408" y="42"/>
                      </a:lnTo>
                      <a:lnTo>
                        <a:pt x="408" y="44"/>
                      </a:lnTo>
                      <a:lnTo>
                        <a:pt x="408" y="45"/>
                      </a:lnTo>
                      <a:lnTo>
                        <a:pt x="408" y="47"/>
                      </a:lnTo>
                      <a:lnTo>
                        <a:pt x="408" y="49"/>
                      </a:lnTo>
                      <a:lnTo>
                        <a:pt x="408" y="50"/>
                      </a:lnTo>
                      <a:lnTo>
                        <a:pt x="408" y="51"/>
                      </a:lnTo>
                      <a:lnTo>
                        <a:pt x="408" y="53"/>
                      </a:lnTo>
                      <a:lnTo>
                        <a:pt x="408" y="55"/>
                      </a:lnTo>
                      <a:lnTo>
                        <a:pt x="408" y="56"/>
                      </a:lnTo>
                      <a:lnTo>
                        <a:pt x="408" y="58"/>
                      </a:lnTo>
                      <a:lnTo>
                        <a:pt x="408" y="59"/>
                      </a:lnTo>
                      <a:lnTo>
                        <a:pt x="408" y="60"/>
                      </a:lnTo>
                      <a:lnTo>
                        <a:pt x="408" y="62"/>
                      </a:lnTo>
                      <a:lnTo>
                        <a:pt x="408" y="63"/>
                      </a:lnTo>
                      <a:lnTo>
                        <a:pt x="408" y="65"/>
                      </a:lnTo>
                      <a:lnTo>
                        <a:pt x="408" y="66"/>
                      </a:lnTo>
                      <a:lnTo>
                        <a:pt x="409" y="67"/>
                      </a:lnTo>
                      <a:lnTo>
                        <a:pt x="409" y="68"/>
                      </a:lnTo>
                      <a:lnTo>
                        <a:pt x="409" y="70"/>
                      </a:lnTo>
                      <a:lnTo>
                        <a:pt x="409" y="72"/>
                      </a:lnTo>
                      <a:lnTo>
                        <a:pt x="409" y="73"/>
                      </a:lnTo>
                      <a:lnTo>
                        <a:pt x="409" y="74"/>
                      </a:lnTo>
                      <a:lnTo>
                        <a:pt x="409" y="75"/>
                      </a:lnTo>
                      <a:lnTo>
                        <a:pt x="409" y="77"/>
                      </a:lnTo>
                      <a:lnTo>
                        <a:pt x="411" y="78"/>
                      </a:lnTo>
                      <a:lnTo>
                        <a:pt x="411" y="80"/>
                      </a:lnTo>
                      <a:lnTo>
                        <a:pt x="411" y="81"/>
                      </a:lnTo>
                      <a:lnTo>
                        <a:pt x="411" y="82"/>
                      </a:lnTo>
                      <a:lnTo>
                        <a:pt x="411" y="83"/>
                      </a:lnTo>
                      <a:lnTo>
                        <a:pt x="411" y="85"/>
                      </a:lnTo>
                      <a:lnTo>
                        <a:pt x="411" y="87"/>
                      </a:lnTo>
                      <a:lnTo>
                        <a:pt x="411" y="88"/>
                      </a:lnTo>
                      <a:lnTo>
                        <a:pt x="411" y="89"/>
                      </a:lnTo>
                      <a:lnTo>
                        <a:pt x="409" y="92"/>
                      </a:lnTo>
                      <a:lnTo>
                        <a:pt x="408" y="93"/>
                      </a:lnTo>
                      <a:lnTo>
                        <a:pt x="407" y="94"/>
                      </a:lnTo>
                      <a:lnTo>
                        <a:pt x="406" y="95"/>
                      </a:lnTo>
                      <a:lnTo>
                        <a:pt x="405" y="97"/>
                      </a:lnTo>
                      <a:lnTo>
                        <a:pt x="404" y="98"/>
                      </a:lnTo>
                      <a:lnTo>
                        <a:pt x="403" y="101"/>
                      </a:lnTo>
                      <a:lnTo>
                        <a:pt x="401" y="102"/>
                      </a:lnTo>
                      <a:lnTo>
                        <a:pt x="400" y="103"/>
                      </a:lnTo>
                      <a:lnTo>
                        <a:pt x="400" y="105"/>
                      </a:lnTo>
                      <a:lnTo>
                        <a:pt x="399" y="107"/>
                      </a:lnTo>
                      <a:lnTo>
                        <a:pt x="398" y="109"/>
                      </a:lnTo>
                      <a:lnTo>
                        <a:pt x="397" y="110"/>
                      </a:lnTo>
                      <a:lnTo>
                        <a:pt x="396" y="111"/>
                      </a:lnTo>
                      <a:lnTo>
                        <a:pt x="394" y="114"/>
                      </a:lnTo>
                      <a:lnTo>
                        <a:pt x="394" y="115"/>
                      </a:lnTo>
                      <a:lnTo>
                        <a:pt x="393" y="117"/>
                      </a:lnTo>
                      <a:lnTo>
                        <a:pt x="392" y="118"/>
                      </a:lnTo>
                      <a:lnTo>
                        <a:pt x="391" y="120"/>
                      </a:lnTo>
                      <a:lnTo>
                        <a:pt x="390" y="122"/>
                      </a:lnTo>
                      <a:lnTo>
                        <a:pt x="389" y="124"/>
                      </a:lnTo>
                      <a:lnTo>
                        <a:pt x="388" y="125"/>
                      </a:lnTo>
                      <a:lnTo>
                        <a:pt x="386" y="127"/>
                      </a:lnTo>
                      <a:lnTo>
                        <a:pt x="385" y="130"/>
                      </a:lnTo>
                      <a:lnTo>
                        <a:pt x="384" y="131"/>
                      </a:lnTo>
                      <a:lnTo>
                        <a:pt x="383" y="133"/>
                      </a:lnTo>
                      <a:lnTo>
                        <a:pt x="381" y="134"/>
                      </a:lnTo>
                      <a:lnTo>
                        <a:pt x="379" y="137"/>
                      </a:lnTo>
                      <a:lnTo>
                        <a:pt x="378" y="138"/>
                      </a:lnTo>
                      <a:lnTo>
                        <a:pt x="377" y="140"/>
                      </a:lnTo>
                      <a:lnTo>
                        <a:pt x="375" y="141"/>
                      </a:lnTo>
                      <a:lnTo>
                        <a:pt x="374" y="144"/>
                      </a:lnTo>
                      <a:lnTo>
                        <a:pt x="373" y="145"/>
                      </a:lnTo>
                      <a:lnTo>
                        <a:pt x="371" y="145"/>
                      </a:lnTo>
                      <a:lnTo>
                        <a:pt x="370" y="145"/>
                      </a:lnTo>
                      <a:lnTo>
                        <a:pt x="369" y="145"/>
                      </a:lnTo>
                      <a:lnTo>
                        <a:pt x="369" y="144"/>
                      </a:lnTo>
                      <a:lnTo>
                        <a:pt x="368" y="142"/>
                      </a:lnTo>
                      <a:lnTo>
                        <a:pt x="367" y="142"/>
                      </a:lnTo>
                      <a:lnTo>
                        <a:pt x="367" y="141"/>
                      </a:lnTo>
                      <a:lnTo>
                        <a:pt x="366" y="140"/>
                      </a:lnTo>
                      <a:lnTo>
                        <a:pt x="364" y="138"/>
                      </a:lnTo>
                      <a:lnTo>
                        <a:pt x="363" y="137"/>
                      </a:lnTo>
                      <a:lnTo>
                        <a:pt x="362" y="135"/>
                      </a:lnTo>
                      <a:lnTo>
                        <a:pt x="361" y="133"/>
                      </a:lnTo>
                      <a:lnTo>
                        <a:pt x="360" y="131"/>
                      </a:lnTo>
                      <a:lnTo>
                        <a:pt x="359" y="130"/>
                      </a:lnTo>
                      <a:lnTo>
                        <a:pt x="357" y="127"/>
                      </a:lnTo>
                      <a:lnTo>
                        <a:pt x="356" y="125"/>
                      </a:lnTo>
                      <a:lnTo>
                        <a:pt x="355" y="123"/>
                      </a:lnTo>
                      <a:lnTo>
                        <a:pt x="354" y="120"/>
                      </a:lnTo>
                      <a:lnTo>
                        <a:pt x="353" y="118"/>
                      </a:lnTo>
                      <a:lnTo>
                        <a:pt x="351" y="116"/>
                      </a:lnTo>
                      <a:lnTo>
                        <a:pt x="349" y="114"/>
                      </a:lnTo>
                      <a:lnTo>
                        <a:pt x="348" y="111"/>
                      </a:lnTo>
                      <a:lnTo>
                        <a:pt x="346" y="109"/>
                      </a:lnTo>
                      <a:lnTo>
                        <a:pt x="345" y="107"/>
                      </a:lnTo>
                      <a:lnTo>
                        <a:pt x="344" y="104"/>
                      </a:lnTo>
                      <a:lnTo>
                        <a:pt x="341" y="102"/>
                      </a:lnTo>
                      <a:lnTo>
                        <a:pt x="340" y="100"/>
                      </a:lnTo>
                      <a:lnTo>
                        <a:pt x="338" y="97"/>
                      </a:lnTo>
                      <a:lnTo>
                        <a:pt x="337" y="95"/>
                      </a:lnTo>
                      <a:close/>
                      <a:moveTo>
                        <a:pt x="315" y="88"/>
                      </a:moveTo>
                      <a:lnTo>
                        <a:pt x="312" y="89"/>
                      </a:lnTo>
                      <a:lnTo>
                        <a:pt x="311" y="89"/>
                      </a:lnTo>
                      <a:lnTo>
                        <a:pt x="310" y="89"/>
                      </a:lnTo>
                      <a:lnTo>
                        <a:pt x="309" y="89"/>
                      </a:lnTo>
                      <a:lnTo>
                        <a:pt x="308" y="90"/>
                      </a:lnTo>
                      <a:lnTo>
                        <a:pt x="307" y="90"/>
                      </a:lnTo>
                      <a:lnTo>
                        <a:pt x="305" y="90"/>
                      </a:lnTo>
                      <a:lnTo>
                        <a:pt x="304" y="92"/>
                      </a:lnTo>
                      <a:lnTo>
                        <a:pt x="303" y="92"/>
                      </a:lnTo>
                      <a:lnTo>
                        <a:pt x="302" y="92"/>
                      </a:lnTo>
                      <a:lnTo>
                        <a:pt x="301" y="93"/>
                      </a:lnTo>
                      <a:lnTo>
                        <a:pt x="300" y="93"/>
                      </a:lnTo>
                      <a:lnTo>
                        <a:pt x="299" y="93"/>
                      </a:lnTo>
                      <a:lnTo>
                        <a:pt x="297" y="94"/>
                      </a:lnTo>
                      <a:lnTo>
                        <a:pt x="296" y="94"/>
                      </a:lnTo>
                      <a:lnTo>
                        <a:pt x="295" y="95"/>
                      </a:lnTo>
                      <a:lnTo>
                        <a:pt x="294" y="95"/>
                      </a:lnTo>
                      <a:lnTo>
                        <a:pt x="293" y="95"/>
                      </a:lnTo>
                      <a:lnTo>
                        <a:pt x="292" y="95"/>
                      </a:lnTo>
                      <a:lnTo>
                        <a:pt x="290" y="96"/>
                      </a:lnTo>
                      <a:lnTo>
                        <a:pt x="289" y="96"/>
                      </a:lnTo>
                      <a:lnTo>
                        <a:pt x="287" y="96"/>
                      </a:lnTo>
                      <a:lnTo>
                        <a:pt x="286" y="96"/>
                      </a:lnTo>
                      <a:lnTo>
                        <a:pt x="285" y="97"/>
                      </a:lnTo>
                      <a:lnTo>
                        <a:pt x="284" y="97"/>
                      </a:lnTo>
                      <a:lnTo>
                        <a:pt x="282" y="97"/>
                      </a:lnTo>
                      <a:lnTo>
                        <a:pt x="281" y="97"/>
                      </a:lnTo>
                      <a:lnTo>
                        <a:pt x="280" y="97"/>
                      </a:lnTo>
                      <a:lnTo>
                        <a:pt x="278" y="97"/>
                      </a:lnTo>
                      <a:lnTo>
                        <a:pt x="277" y="97"/>
                      </a:lnTo>
                      <a:lnTo>
                        <a:pt x="275" y="97"/>
                      </a:lnTo>
                      <a:lnTo>
                        <a:pt x="273" y="97"/>
                      </a:lnTo>
                      <a:lnTo>
                        <a:pt x="274" y="98"/>
                      </a:lnTo>
                      <a:lnTo>
                        <a:pt x="275" y="98"/>
                      </a:lnTo>
                      <a:lnTo>
                        <a:pt x="275" y="100"/>
                      </a:lnTo>
                      <a:lnTo>
                        <a:pt x="277" y="101"/>
                      </a:lnTo>
                      <a:lnTo>
                        <a:pt x="277" y="102"/>
                      </a:lnTo>
                      <a:lnTo>
                        <a:pt x="277" y="103"/>
                      </a:lnTo>
                      <a:lnTo>
                        <a:pt x="278" y="104"/>
                      </a:lnTo>
                      <a:lnTo>
                        <a:pt x="278" y="105"/>
                      </a:lnTo>
                      <a:lnTo>
                        <a:pt x="279" y="107"/>
                      </a:lnTo>
                      <a:lnTo>
                        <a:pt x="279" y="108"/>
                      </a:lnTo>
                      <a:lnTo>
                        <a:pt x="280" y="108"/>
                      </a:lnTo>
                      <a:lnTo>
                        <a:pt x="280" y="109"/>
                      </a:lnTo>
                      <a:lnTo>
                        <a:pt x="281" y="110"/>
                      </a:lnTo>
                      <a:lnTo>
                        <a:pt x="281" y="111"/>
                      </a:lnTo>
                      <a:lnTo>
                        <a:pt x="282" y="112"/>
                      </a:lnTo>
                      <a:lnTo>
                        <a:pt x="282" y="114"/>
                      </a:lnTo>
                      <a:lnTo>
                        <a:pt x="284" y="115"/>
                      </a:lnTo>
                      <a:lnTo>
                        <a:pt x="285" y="116"/>
                      </a:lnTo>
                      <a:lnTo>
                        <a:pt x="285" y="117"/>
                      </a:lnTo>
                      <a:lnTo>
                        <a:pt x="286" y="117"/>
                      </a:lnTo>
                      <a:lnTo>
                        <a:pt x="286" y="118"/>
                      </a:lnTo>
                      <a:lnTo>
                        <a:pt x="287" y="119"/>
                      </a:lnTo>
                      <a:lnTo>
                        <a:pt x="287" y="120"/>
                      </a:lnTo>
                      <a:lnTo>
                        <a:pt x="288" y="120"/>
                      </a:lnTo>
                      <a:lnTo>
                        <a:pt x="288" y="122"/>
                      </a:lnTo>
                      <a:lnTo>
                        <a:pt x="289" y="122"/>
                      </a:lnTo>
                      <a:lnTo>
                        <a:pt x="289" y="123"/>
                      </a:lnTo>
                      <a:lnTo>
                        <a:pt x="290" y="123"/>
                      </a:lnTo>
                      <a:lnTo>
                        <a:pt x="290" y="124"/>
                      </a:lnTo>
                      <a:lnTo>
                        <a:pt x="292" y="124"/>
                      </a:lnTo>
                      <a:lnTo>
                        <a:pt x="293" y="125"/>
                      </a:lnTo>
                      <a:lnTo>
                        <a:pt x="294" y="125"/>
                      </a:lnTo>
                      <a:lnTo>
                        <a:pt x="294" y="126"/>
                      </a:lnTo>
                      <a:lnTo>
                        <a:pt x="295" y="126"/>
                      </a:lnTo>
                      <a:lnTo>
                        <a:pt x="296" y="126"/>
                      </a:lnTo>
                      <a:lnTo>
                        <a:pt x="296" y="127"/>
                      </a:lnTo>
                      <a:lnTo>
                        <a:pt x="297" y="127"/>
                      </a:lnTo>
                      <a:lnTo>
                        <a:pt x="299" y="129"/>
                      </a:lnTo>
                      <a:lnTo>
                        <a:pt x="300" y="129"/>
                      </a:lnTo>
                      <a:lnTo>
                        <a:pt x="301" y="130"/>
                      </a:lnTo>
                      <a:lnTo>
                        <a:pt x="302" y="130"/>
                      </a:lnTo>
                      <a:lnTo>
                        <a:pt x="303" y="131"/>
                      </a:lnTo>
                      <a:lnTo>
                        <a:pt x="304" y="131"/>
                      </a:lnTo>
                      <a:lnTo>
                        <a:pt x="305" y="132"/>
                      </a:lnTo>
                      <a:lnTo>
                        <a:pt x="307" y="133"/>
                      </a:lnTo>
                      <a:lnTo>
                        <a:pt x="308" y="133"/>
                      </a:lnTo>
                      <a:lnTo>
                        <a:pt x="309" y="134"/>
                      </a:lnTo>
                      <a:lnTo>
                        <a:pt x="310" y="135"/>
                      </a:lnTo>
                      <a:lnTo>
                        <a:pt x="311" y="135"/>
                      </a:lnTo>
                      <a:lnTo>
                        <a:pt x="312" y="137"/>
                      </a:lnTo>
                      <a:lnTo>
                        <a:pt x="314" y="138"/>
                      </a:lnTo>
                      <a:lnTo>
                        <a:pt x="315" y="139"/>
                      </a:lnTo>
                      <a:lnTo>
                        <a:pt x="316" y="140"/>
                      </a:lnTo>
                      <a:lnTo>
                        <a:pt x="317" y="141"/>
                      </a:lnTo>
                      <a:lnTo>
                        <a:pt x="318" y="142"/>
                      </a:lnTo>
                      <a:lnTo>
                        <a:pt x="318" y="141"/>
                      </a:lnTo>
                      <a:lnTo>
                        <a:pt x="318" y="140"/>
                      </a:lnTo>
                      <a:lnTo>
                        <a:pt x="317" y="139"/>
                      </a:lnTo>
                      <a:lnTo>
                        <a:pt x="316" y="138"/>
                      </a:lnTo>
                      <a:lnTo>
                        <a:pt x="316" y="137"/>
                      </a:lnTo>
                      <a:lnTo>
                        <a:pt x="315" y="135"/>
                      </a:lnTo>
                      <a:lnTo>
                        <a:pt x="314" y="134"/>
                      </a:lnTo>
                      <a:lnTo>
                        <a:pt x="312" y="133"/>
                      </a:lnTo>
                      <a:lnTo>
                        <a:pt x="311" y="132"/>
                      </a:lnTo>
                      <a:lnTo>
                        <a:pt x="310" y="131"/>
                      </a:lnTo>
                      <a:lnTo>
                        <a:pt x="309" y="131"/>
                      </a:lnTo>
                      <a:lnTo>
                        <a:pt x="308" y="130"/>
                      </a:lnTo>
                      <a:lnTo>
                        <a:pt x="307" y="129"/>
                      </a:lnTo>
                      <a:lnTo>
                        <a:pt x="305" y="127"/>
                      </a:lnTo>
                      <a:lnTo>
                        <a:pt x="304" y="126"/>
                      </a:lnTo>
                      <a:lnTo>
                        <a:pt x="303" y="125"/>
                      </a:lnTo>
                      <a:lnTo>
                        <a:pt x="302" y="124"/>
                      </a:lnTo>
                      <a:lnTo>
                        <a:pt x="301" y="123"/>
                      </a:lnTo>
                      <a:lnTo>
                        <a:pt x="300" y="122"/>
                      </a:lnTo>
                      <a:lnTo>
                        <a:pt x="299" y="120"/>
                      </a:lnTo>
                      <a:lnTo>
                        <a:pt x="297" y="119"/>
                      </a:lnTo>
                      <a:lnTo>
                        <a:pt x="296" y="118"/>
                      </a:lnTo>
                      <a:lnTo>
                        <a:pt x="295" y="117"/>
                      </a:lnTo>
                      <a:lnTo>
                        <a:pt x="294" y="116"/>
                      </a:lnTo>
                      <a:lnTo>
                        <a:pt x="293" y="115"/>
                      </a:lnTo>
                      <a:lnTo>
                        <a:pt x="293" y="114"/>
                      </a:lnTo>
                      <a:lnTo>
                        <a:pt x="292" y="112"/>
                      </a:lnTo>
                      <a:lnTo>
                        <a:pt x="292" y="111"/>
                      </a:lnTo>
                      <a:lnTo>
                        <a:pt x="292" y="110"/>
                      </a:lnTo>
                      <a:lnTo>
                        <a:pt x="292" y="109"/>
                      </a:lnTo>
                      <a:lnTo>
                        <a:pt x="292" y="108"/>
                      </a:lnTo>
                      <a:lnTo>
                        <a:pt x="293" y="108"/>
                      </a:lnTo>
                      <a:lnTo>
                        <a:pt x="293" y="107"/>
                      </a:lnTo>
                      <a:lnTo>
                        <a:pt x="293" y="105"/>
                      </a:lnTo>
                      <a:lnTo>
                        <a:pt x="294" y="105"/>
                      </a:lnTo>
                      <a:lnTo>
                        <a:pt x="295" y="104"/>
                      </a:lnTo>
                      <a:lnTo>
                        <a:pt x="296" y="103"/>
                      </a:lnTo>
                      <a:lnTo>
                        <a:pt x="297" y="103"/>
                      </a:lnTo>
                      <a:lnTo>
                        <a:pt x="299" y="102"/>
                      </a:lnTo>
                      <a:lnTo>
                        <a:pt x="299" y="101"/>
                      </a:lnTo>
                      <a:lnTo>
                        <a:pt x="300" y="101"/>
                      </a:lnTo>
                      <a:lnTo>
                        <a:pt x="301" y="100"/>
                      </a:lnTo>
                      <a:lnTo>
                        <a:pt x="302" y="100"/>
                      </a:lnTo>
                      <a:lnTo>
                        <a:pt x="303" y="98"/>
                      </a:lnTo>
                      <a:lnTo>
                        <a:pt x="304" y="98"/>
                      </a:lnTo>
                      <a:lnTo>
                        <a:pt x="305" y="97"/>
                      </a:lnTo>
                      <a:lnTo>
                        <a:pt x="307" y="96"/>
                      </a:lnTo>
                      <a:lnTo>
                        <a:pt x="308" y="95"/>
                      </a:lnTo>
                      <a:lnTo>
                        <a:pt x="309" y="95"/>
                      </a:lnTo>
                      <a:lnTo>
                        <a:pt x="310" y="94"/>
                      </a:lnTo>
                      <a:lnTo>
                        <a:pt x="311" y="94"/>
                      </a:lnTo>
                      <a:lnTo>
                        <a:pt x="311" y="93"/>
                      </a:lnTo>
                      <a:lnTo>
                        <a:pt x="312" y="92"/>
                      </a:lnTo>
                      <a:lnTo>
                        <a:pt x="314" y="90"/>
                      </a:lnTo>
                      <a:lnTo>
                        <a:pt x="314" y="89"/>
                      </a:lnTo>
                      <a:lnTo>
                        <a:pt x="315" y="88"/>
                      </a:lnTo>
                      <a:close/>
                      <a:moveTo>
                        <a:pt x="272" y="97"/>
                      </a:moveTo>
                      <a:lnTo>
                        <a:pt x="271" y="103"/>
                      </a:lnTo>
                      <a:lnTo>
                        <a:pt x="269" y="108"/>
                      </a:lnTo>
                      <a:lnTo>
                        <a:pt x="267" y="114"/>
                      </a:lnTo>
                      <a:lnTo>
                        <a:pt x="266" y="119"/>
                      </a:lnTo>
                      <a:lnTo>
                        <a:pt x="265" y="124"/>
                      </a:lnTo>
                      <a:lnTo>
                        <a:pt x="264" y="130"/>
                      </a:lnTo>
                      <a:lnTo>
                        <a:pt x="263" y="135"/>
                      </a:lnTo>
                      <a:lnTo>
                        <a:pt x="262" y="140"/>
                      </a:lnTo>
                      <a:lnTo>
                        <a:pt x="260" y="146"/>
                      </a:lnTo>
                      <a:lnTo>
                        <a:pt x="260" y="152"/>
                      </a:lnTo>
                      <a:lnTo>
                        <a:pt x="259" y="156"/>
                      </a:lnTo>
                      <a:lnTo>
                        <a:pt x="259" y="162"/>
                      </a:lnTo>
                      <a:lnTo>
                        <a:pt x="258" y="167"/>
                      </a:lnTo>
                      <a:lnTo>
                        <a:pt x="258" y="172"/>
                      </a:lnTo>
                      <a:lnTo>
                        <a:pt x="257" y="177"/>
                      </a:lnTo>
                      <a:lnTo>
                        <a:pt x="257" y="183"/>
                      </a:lnTo>
                      <a:lnTo>
                        <a:pt x="256" y="187"/>
                      </a:lnTo>
                      <a:lnTo>
                        <a:pt x="256" y="193"/>
                      </a:lnTo>
                      <a:lnTo>
                        <a:pt x="256" y="198"/>
                      </a:lnTo>
                      <a:lnTo>
                        <a:pt x="255" y="204"/>
                      </a:lnTo>
                      <a:lnTo>
                        <a:pt x="255" y="208"/>
                      </a:lnTo>
                      <a:lnTo>
                        <a:pt x="255" y="214"/>
                      </a:lnTo>
                      <a:lnTo>
                        <a:pt x="255" y="219"/>
                      </a:lnTo>
                      <a:lnTo>
                        <a:pt x="253" y="224"/>
                      </a:lnTo>
                      <a:lnTo>
                        <a:pt x="253" y="229"/>
                      </a:lnTo>
                      <a:lnTo>
                        <a:pt x="253" y="235"/>
                      </a:lnTo>
                      <a:lnTo>
                        <a:pt x="253" y="239"/>
                      </a:lnTo>
                      <a:lnTo>
                        <a:pt x="252" y="245"/>
                      </a:lnTo>
                      <a:lnTo>
                        <a:pt x="252" y="250"/>
                      </a:lnTo>
                      <a:lnTo>
                        <a:pt x="252" y="254"/>
                      </a:lnTo>
                      <a:lnTo>
                        <a:pt x="252" y="260"/>
                      </a:lnTo>
                      <a:lnTo>
                        <a:pt x="251" y="265"/>
                      </a:lnTo>
                      <a:lnTo>
                        <a:pt x="252" y="265"/>
                      </a:lnTo>
                      <a:lnTo>
                        <a:pt x="253" y="265"/>
                      </a:lnTo>
                      <a:lnTo>
                        <a:pt x="255" y="265"/>
                      </a:lnTo>
                      <a:lnTo>
                        <a:pt x="257" y="265"/>
                      </a:lnTo>
                      <a:lnTo>
                        <a:pt x="258" y="264"/>
                      </a:lnTo>
                      <a:lnTo>
                        <a:pt x="259" y="264"/>
                      </a:lnTo>
                      <a:lnTo>
                        <a:pt x="260" y="264"/>
                      </a:lnTo>
                      <a:lnTo>
                        <a:pt x="262" y="264"/>
                      </a:lnTo>
                      <a:lnTo>
                        <a:pt x="263" y="264"/>
                      </a:lnTo>
                      <a:lnTo>
                        <a:pt x="264" y="263"/>
                      </a:lnTo>
                      <a:lnTo>
                        <a:pt x="265" y="263"/>
                      </a:lnTo>
                      <a:lnTo>
                        <a:pt x="266" y="263"/>
                      </a:lnTo>
                      <a:lnTo>
                        <a:pt x="267" y="263"/>
                      </a:lnTo>
                      <a:lnTo>
                        <a:pt x="269" y="263"/>
                      </a:lnTo>
                      <a:lnTo>
                        <a:pt x="270" y="261"/>
                      </a:lnTo>
                      <a:lnTo>
                        <a:pt x="271" y="261"/>
                      </a:lnTo>
                      <a:lnTo>
                        <a:pt x="272" y="261"/>
                      </a:lnTo>
                      <a:lnTo>
                        <a:pt x="273" y="261"/>
                      </a:lnTo>
                      <a:lnTo>
                        <a:pt x="274" y="261"/>
                      </a:lnTo>
                      <a:lnTo>
                        <a:pt x="275" y="260"/>
                      </a:lnTo>
                      <a:lnTo>
                        <a:pt x="277" y="260"/>
                      </a:lnTo>
                      <a:lnTo>
                        <a:pt x="279" y="260"/>
                      </a:lnTo>
                      <a:lnTo>
                        <a:pt x="280" y="260"/>
                      </a:lnTo>
                      <a:lnTo>
                        <a:pt x="281" y="260"/>
                      </a:lnTo>
                      <a:lnTo>
                        <a:pt x="282" y="260"/>
                      </a:lnTo>
                      <a:lnTo>
                        <a:pt x="284" y="259"/>
                      </a:lnTo>
                      <a:lnTo>
                        <a:pt x="285" y="259"/>
                      </a:lnTo>
                      <a:lnTo>
                        <a:pt x="286" y="259"/>
                      </a:lnTo>
                      <a:lnTo>
                        <a:pt x="287" y="259"/>
                      </a:lnTo>
                      <a:lnTo>
                        <a:pt x="288" y="259"/>
                      </a:lnTo>
                      <a:lnTo>
                        <a:pt x="289" y="259"/>
                      </a:lnTo>
                      <a:lnTo>
                        <a:pt x="290" y="258"/>
                      </a:lnTo>
                      <a:lnTo>
                        <a:pt x="292" y="252"/>
                      </a:lnTo>
                      <a:lnTo>
                        <a:pt x="293" y="245"/>
                      </a:lnTo>
                      <a:lnTo>
                        <a:pt x="294" y="239"/>
                      </a:lnTo>
                      <a:lnTo>
                        <a:pt x="295" y="234"/>
                      </a:lnTo>
                      <a:lnTo>
                        <a:pt x="296" y="229"/>
                      </a:lnTo>
                      <a:lnTo>
                        <a:pt x="297" y="223"/>
                      </a:lnTo>
                      <a:lnTo>
                        <a:pt x="299" y="219"/>
                      </a:lnTo>
                      <a:lnTo>
                        <a:pt x="300" y="214"/>
                      </a:lnTo>
                      <a:lnTo>
                        <a:pt x="301" y="209"/>
                      </a:lnTo>
                      <a:lnTo>
                        <a:pt x="302" y="206"/>
                      </a:lnTo>
                      <a:lnTo>
                        <a:pt x="303" y="201"/>
                      </a:lnTo>
                      <a:lnTo>
                        <a:pt x="304" y="198"/>
                      </a:lnTo>
                      <a:lnTo>
                        <a:pt x="305" y="194"/>
                      </a:lnTo>
                      <a:lnTo>
                        <a:pt x="307" y="191"/>
                      </a:lnTo>
                      <a:lnTo>
                        <a:pt x="308" y="187"/>
                      </a:lnTo>
                      <a:lnTo>
                        <a:pt x="309" y="185"/>
                      </a:lnTo>
                      <a:lnTo>
                        <a:pt x="310" y="182"/>
                      </a:lnTo>
                      <a:lnTo>
                        <a:pt x="311" y="178"/>
                      </a:lnTo>
                      <a:lnTo>
                        <a:pt x="312" y="176"/>
                      </a:lnTo>
                      <a:lnTo>
                        <a:pt x="312" y="174"/>
                      </a:lnTo>
                      <a:lnTo>
                        <a:pt x="314" y="170"/>
                      </a:lnTo>
                      <a:lnTo>
                        <a:pt x="315" y="168"/>
                      </a:lnTo>
                      <a:lnTo>
                        <a:pt x="315" y="165"/>
                      </a:lnTo>
                      <a:lnTo>
                        <a:pt x="316" y="163"/>
                      </a:lnTo>
                      <a:lnTo>
                        <a:pt x="317" y="161"/>
                      </a:lnTo>
                      <a:lnTo>
                        <a:pt x="317" y="159"/>
                      </a:lnTo>
                      <a:lnTo>
                        <a:pt x="317" y="155"/>
                      </a:lnTo>
                      <a:lnTo>
                        <a:pt x="318" y="153"/>
                      </a:lnTo>
                      <a:lnTo>
                        <a:pt x="318" y="150"/>
                      </a:lnTo>
                      <a:lnTo>
                        <a:pt x="318" y="148"/>
                      </a:lnTo>
                      <a:lnTo>
                        <a:pt x="318" y="146"/>
                      </a:lnTo>
                      <a:lnTo>
                        <a:pt x="318" y="142"/>
                      </a:lnTo>
                      <a:lnTo>
                        <a:pt x="316" y="141"/>
                      </a:lnTo>
                      <a:lnTo>
                        <a:pt x="314" y="139"/>
                      </a:lnTo>
                      <a:lnTo>
                        <a:pt x="311" y="138"/>
                      </a:lnTo>
                      <a:lnTo>
                        <a:pt x="309" y="137"/>
                      </a:lnTo>
                      <a:lnTo>
                        <a:pt x="308" y="135"/>
                      </a:lnTo>
                      <a:lnTo>
                        <a:pt x="305" y="134"/>
                      </a:lnTo>
                      <a:lnTo>
                        <a:pt x="304" y="133"/>
                      </a:lnTo>
                      <a:lnTo>
                        <a:pt x="303" y="132"/>
                      </a:lnTo>
                      <a:lnTo>
                        <a:pt x="302" y="132"/>
                      </a:lnTo>
                      <a:lnTo>
                        <a:pt x="300" y="131"/>
                      </a:lnTo>
                      <a:lnTo>
                        <a:pt x="299" y="131"/>
                      </a:lnTo>
                      <a:lnTo>
                        <a:pt x="297" y="130"/>
                      </a:lnTo>
                      <a:lnTo>
                        <a:pt x="296" y="129"/>
                      </a:lnTo>
                      <a:lnTo>
                        <a:pt x="295" y="129"/>
                      </a:lnTo>
                      <a:lnTo>
                        <a:pt x="294" y="127"/>
                      </a:lnTo>
                      <a:lnTo>
                        <a:pt x="293" y="127"/>
                      </a:lnTo>
                      <a:lnTo>
                        <a:pt x="293" y="126"/>
                      </a:lnTo>
                      <a:lnTo>
                        <a:pt x="292" y="125"/>
                      </a:lnTo>
                      <a:lnTo>
                        <a:pt x="290" y="124"/>
                      </a:lnTo>
                      <a:lnTo>
                        <a:pt x="289" y="124"/>
                      </a:lnTo>
                      <a:lnTo>
                        <a:pt x="288" y="123"/>
                      </a:lnTo>
                      <a:lnTo>
                        <a:pt x="287" y="120"/>
                      </a:lnTo>
                      <a:lnTo>
                        <a:pt x="286" y="119"/>
                      </a:lnTo>
                      <a:lnTo>
                        <a:pt x="285" y="118"/>
                      </a:lnTo>
                      <a:lnTo>
                        <a:pt x="284" y="116"/>
                      </a:lnTo>
                      <a:lnTo>
                        <a:pt x="282" y="115"/>
                      </a:lnTo>
                      <a:lnTo>
                        <a:pt x="280" y="112"/>
                      </a:lnTo>
                      <a:lnTo>
                        <a:pt x="279" y="110"/>
                      </a:lnTo>
                      <a:lnTo>
                        <a:pt x="278" y="107"/>
                      </a:lnTo>
                      <a:lnTo>
                        <a:pt x="275" y="104"/>
                      </a:lnTo>
                      <a:lnTo>
                        <a:pt x="274" y="101"/>
                      </a:lnTo>
                      <a:lnTo>
                        <a:pt x="272" y="97"/>
                      </a:lnTo>
                      <a:close/>
                      <a:moveTo>
                        <a:pt x="352" y="120"/>
                      </a:moveTo>
                      <a:lnTo>
                        <a:pt x="353" y="122"/>
                      </a:lnTo>
                      <a:lnTo>
                        <a:pt x="353" y="123"/>
                      </a:lnTo>
                      <a:lnTo>
                        <a:pt x="354" y="124"/>
                      </a:lnTo>
                      <a:lnTo>
                        <a:pt x="354" y="125"/>
                      </a:lnTo>
                      <a:lnTo>
                        <a:pt x="354" y="126"/>
                      </a:lnTo>
                      <a:lnTo>
                        <a:pt x="355" y="127"/>
                      </a:lnTo>
                      <a:lnTo>
                        <a:pt x="356" y="129"/>
                      </a:lnTo>
                      <a:lnTo>
                        <a:pt x="356" y="130"/>
                      </a:lnTo>
                      <a:lnTo>
                        <a:pt x="356" y="131"/>
                      </a:lnTo>
                      <a:lnTo>
                        <a:pt x="357" y="131"/>
                      </a:lnTo>
                      <a:lnTo>
                        <a:pt x="357" y="132"/>
                      </a:lnTo>
                      <a:lnTo>
                        <a:pt x="359" y="133"/>
                      </a:lnTo>
                      <a:lnTo>
                        <a:pt x="359" y="134"/>
                      </a:lnTo>
                      <a:lnTo>
                        <a:pt x="360" y="135"/>
                      </a:lnTo>
                      <a:lnTo>
                        <a:pt x="360" y="137"/>
                      </a:lnTo>
                      <a:lnTo>
                        <a:pt x="361" y="138"/>
                      </a:lnTo>
                      <a:lnTo>
                        <a:pt x="362" y="139"/>
                      </a:lnTo>
                      <a:lnTo>
                        <a:pt x="362" y="140"/>
                      </a:lnTo>
                      <a:lnTo>
                        <a:pt x="363" y="141"/>
                      </a:lnTo>
                      <a:lnTo>
                        <a:pt x="364" y="142"/>
                      </a:lnTo>
                      <a:lnTo>
                        <a:pt x="364" y="144"/>
                      </a:lnTo>
                      <a:lnTo>
                        <a:pt x="366" y="144"/>
                      </a:lnTo>
                      <a:lnTo>
                        <a:pt x="367" y="145"/>
                      </a:lnTo>
                      <a:lnTo>
                        <a:pt x="368" y="146"/>
                      </a:lnTo>
                      <a:lnTo>
                        <a:pt x="368" y="147"/>
                      </a:lnTo>
                      <a:lnTo>
                        <a:pt x="369" y="147"/>
                      </a:lnTo>
                      <a:lnTo>
                        <a:pt x="370" y="147"/>
                      </a:lnTo>
                      <a:lnTo>
                        <a:pt x="371" y="147"/>
                      </a:lnTo>
                      <a:lnTo>
                        <a:pt x="373" y="146"/>
                      </a:lnTo>
                      <a:lnTo>
                        <a:pt x="374" y="146"/>
                      </a:lnTo>
                      <a:lnTo>
                        <a:pt x="375" y="145"/>
                      </a:lnTo>
                      <a:lnTo>
                        <a:pt x="376" y="144"/>
                      </a:lnTo>
                      <a:lnTo>
                        <a:pt x="377" y="142"/>
                      </a:lnTo>
                      <a:lnTo>
                        <a:pt x="379" y="141"/>
                      </a:lnTo>
                      <a:lnTo>
                        <a:pt x="381" y="140"/>
                      </a:lnTo>
                      <a:lnTo>
                        <a:pt x="382" y="138"/>
                      </a:lnTo>
                      <a:lnTo>
                        <a:pt x="383" y="137"/>
                      </a:lnTo>
                      <a:lnTo>
                        <a:pt x="385" y="134"/>
                      </a:lnTo>
                      <a:lnTo>
                        <a:pt x="386" y="133"/>
                      </a:lnTo>
                      <a:lnTo>
                        <a:pt x="388" y="131"/>
                      </a:lnTo>
                      <a:lnTo>
                        <a:pt x="390" y="129"/>
                      </a:lnTo>
                      <a:lnTo>
                        <a:pt x="391" y="127"/>
                      </a:lnTo>
                      <a:lnTo>
                        <a:pt x="392" y="125"/>
                      </a:lnTo>
                      <a:lnTo>
                        <a:pt x="394" y="123"/>
                      </a:lnTo>
                      <a:lnTo>
                        <a:pt x="396" y="120"/>
                      </a:lnTo>
                      <a:lnTo>
                        <a:pt x="398" y="119"/>
                      </a:lnTo>
                      <a:lnTo>
                        <a:pt x="399" y="117"/>
                      </a:lnTo>
                      <a:lnTo>
                        <a:pt x="400" y="115"/>
                      </a:lnTo>
                      <a:lnTo>
                        <a:pt x="403" y="112"/>
                      </a:lnTo>
                      <a:lnTo>
                        <a:pt x="404" y="111"/>
                      </a:lnTo>
                      <a:lnTo>
                        <a:pt x="405" y="109"/>
                      </a:lnTo>
                      <a:lnTo>
                        <a:pt x="407" y="108"/>
                      </a:lnTo>
                      <a:lnTo>
                        <a:pt x="408" y="105"/>
                      </a:lnTo>
                      <a:lnTo>
                        <a:pt x="409" y="104"/>
                      </a:lnTo>
                      <a:lnTo>
                        <a:pt x="411" y="102"/>
                      </a:lnTo>
                      <a:lnTo>
                        <a:pt x="411" y="108"/>
                      </a:lnTo>
                      <a:lnTo>
                        <a:pt x="411" y="112"/>
                      </a:lnTo>
                      <a:lnTo>
                        <a:pt x="409" y="117"/>
                      </a:lnTo>
                      <a:lnTo>
                        <a:pt x="409" y="122"/>
                      </a:lnTo>
                      <a:lnTo>
                        <a:pt x="409" y="126"/>
                      </a:lnTo>
                      <a:lnTo>
                        <a:pt x="408" y="130"/>
                      </a:lnTo>
                      <a:lnTo>
                        <a:pt x="408" y="134"/>
                      </a:lnTo>
                      <a:lnTo>
                        <a:pt x="407" y="138"/>
                      </a:lnTo>
                      <a:lnTo>
                        <a:pt x="407" y="141"/>
                      </a:lnTo>
                      <a:lnTo>
                        <a:pt x="406" y="145"/>
                      </a:lnTo>
                      <a:lnTo>
                        <a:pt x="406" y="148"/>
                      </a:lnTo>
                      <a:lnTo>
                        <a:pt x="405" y="152"/>
                      </a:lnTo>
                      <a:lnTo>
                        <a:pt x="405" y="154"/>
                      </a:lnTo>
                      <a:lnTo>
                        <a:pt x="404" y="157"/>
                      </a:lnTo>
                      <a:lnTo>
                        <a:pt x="404" y="160"/>
                      </a:lnTo>
                      <a:lnTo>
                        <a:pt x="403" y="163"/>
                      </a:lnTo>
                      <a:lnTo>
                        <a:pt x="403" y="165"/>
                      </a:lnTo>
                      <a:lnTo>
                        <a:pt x="401" y="168"/>
                      </a:lnTo>
                      <a:lnTo>
                        <a:pt x="400" y="171"/>
                      </a:lnTo>
                      <a:lnTo>
                        <a:pt x="400" y="174"/>
                      </a:lnTo>
                      <a:lnTo>
                        <a:pt x="400" y="176"/>
                      </a:lnTo>
                      <a:lnTo>
                        <a:pt x="399" y="178"/>
                      </a:lnTo>
                      <a:lnTo>
                        <a:pt x="399" y="182"/>
                      </a:lnTo>
                      <a:lnTo>
                        <a:pt x="398" y="184"/>
                      </a:lnTo>
                      <a:lnTo>
                        <a:pt x="398" y="186"/>
                      </a:lnTo>
                      <a:lnTo>
                        <a:pt x="398" y="190"/>
                      </a:lnTo>
                      <a:lnTo>
                        <a:pt x="397" y="192"/>
                      </a:lnTo>
                      <a:lnTo>
                        <a:pt x="397" y="194"/>
                      </a:lnTo>
                      <a:lnTo>
                        <a:pt x="397" y="198"/>
                      </a:lnTo>
                      <a:lnTo>
                        <a:pt x="397" y="200"/>
                      </a:lnTo>
                      <a:lnTo>
                        <a:pt x="396" y="204"/>
                      </a:lnTo>
                      <a:lnTo>
                        <a:pt x="396" y="207"/>
                      </a:lnTo>
                      <a:lnTo>
                        <a:pt x="396" y="208"/>
                      </a:lnTo>
                      <a:lnTo>
                        <a:pt x="397" y="209"/>
                      </a:lnTo>
                      <a:lnTo>
                        <a:pt x="397" y="208"/>
                      </a:lnTo>
                      <a:lnTo>
                        <a:pt x="398" y="207"/>
                      </a:lnTo>
                      <a:lnTo>
                        <a:pt x="398" y="205"/>
                      </a:lnTo>
                      <a:lnTo>
                        <a:pt x="398" y="204"/>
                      </a:lnTo>
                      <a:lnTo>
                        <a:pt x="399" y="201"/>
                      </a:lnTo>
                      <a:lnTo>
                        <a:pt x="399" y="199"/>
                      </a:lnTo>
                      <a:lnTo>
                        <a:pt x="400" y="197"/>
                      </a:lnTo>
                      <a:lnTo>
                        <a:pt x="400" y="194"/>
                      </a:lnTo>
                      <a:lnTo>
                        <a:pt x="401" y="192"/>
                      </a:lnTo>
                      <a:lnTo>
                        <a:pt x="401" y="190"/>
                      </a:lnTo>
                      <a:lnTo>
                        <a:pt x="403" y="187"/>
                      </a:lnTo>
                      <a:lnTo>
                        <a:pt x="403" y="185"/>
                      </a:lnTo>
                      <a:lnTo>
                        <a:pt x="404" y="183"/>
                      </a:lnTo>
                      <a:lnTo>
                        <a:pt x="405" y="181"/>
                      </a:lnTo>
                      <a:lnTo>
                        <a:pt x="405" y="178"/>
                      </a:lnTo>
                      <a:lnTo>
                        <a:pt x="405" y="176"/>
                      </a:lnTo>
                      <a:lnTo>
                        <a:pt x="406" y="174"/>
                      </a:lnTo>
                      <a:lnTo>
                        <a:pt x="406" y="172"/>
                      </a:lnTo>
                      <a:lnTo>
                        <a:pt x="407" y="171"/>
                      </a:lnTo>
                      <a:lnTo>
                        <a:pt x="407" y="170"/>
                      </a:lnTo>
                      <a:lnTo>
                        <a:pt x="407" y="169"/>
                      </a:lnTo>
                      <a:lnTo>
                        <a:pt x="408" y="169"/>
                      </a:lnTo>
                      <a:lnTo>
                        <a:pt x="408" y="170"/>
                      </a:lnTo>
                      <a:lnTo>
                        <a:pt x="408" y="171"/>
                      </a:lnTo>
                      <a:lnTo>
                        <a:pt x="408" y="172"/>
                      </a:lnTo>
                      <a:lnTo>
                        <a:pt x="408" y="175"/>
                      </a:lnTo>
                      <a:lnTo>
                        <a:pt x="408" y="177"/>
                      </a:lnTo>
                      <a:lnTo>
                        <a:pt x="408" y="181"/>
                      </a:lnTo>
                      <a:lnTo>
                        <a:pt x="408" y="184"/>
                      </a:lnTo>
                      <a:lnTo>
                        <a:pt x="408" y="187"/>
                      </a:lnTo>
                      <a:lnTo>
                        <a:pt x="408" y="191"/>
                      </a:lnTo>
                      <a:lnTo>
                        <a:pt x="408" y="196"/>
                      </a:lnTo>
                      <a:lnTo>
                        <a:pt x="408" y="199"/>
                      </a:lnTo>
                      <a:lnTo>
                        <a:pt x="408" y="204"/>
                      </a:lnTo>
                      <a:lnTo>
                        <a:pt x="408" y="208"/>
                      </a:lnTo>
                      <a:lnTo>
                        <a:pt x="408" y="213"/>
                      </a:lnTo>
                      <a:lnTo>
                        <a:pt x="408" y="217"/>
                      </a:lnTo>
                      <a:lnTo>
                        <a:pt x="408" y="223"/>
                      </a:lnTo>
                      <a:lnTo>
                        <a:pt x="408" y="228"/>
                      </a:lnTo>
                      <a:lnTo>
                        <a:pt x="408" y="234"/>
                      </a:lnTo>
                      <a:lnTo>
                        <a:pt x="407" y="238"/>
                      </a:lnTo>
                      <a:lnTo>
                        <a:pt x="407" y="244"/>
                      </a:lnTo>
                      <a:lnTo>
                        <a:pt x="407" y="249"/>
                      </a:lnTo>
                      <a:lnTo>
                        <a:pt x="407" y="254"/>
                      </a:lnTo>
                      <a:lnTo>
                        <a:pt x="407" y="259"/>
                      </a:lnTo>
                      <a:lnTo>
                        <a:pt x="407" y="265"/>
                      </a:lnTo>
                      <a:lnTo>
                        <a:pt x="407" y="269"/>
                      </a:lnTo>
                      <a:lnTo>
                        <a:pt x="407" y="275"/>
                      </a:lnTo>
                      <a:lnTo>
                        <a:pt x="407" y="280"/>
                      </a:lnTo>
                      <a:lnTo>
                        <a:pt x="407" y="284"/>
                      </a:lnTo>
                      <a:lnTo>
                        <a:pt x="407" y="289"/>
                      </a:lnTo>
                      <a:lnTo>
                        <a:pt x="408" y="294"/>
                      </a:lnTo>
                      <a:lnTo>
                        <a:pt x="408" y="297"/>
                      </a:lnTo>
                      <a:lnTo>
                        <a:pt x="408" y="302"/>
                      </a:lnTo>
                      <a:lnTo>
                        <a:pt x="408" y="305"/>
                      </a:lnTo>
                      <a:lnTo>
                        <a:pt x="408" y="309"/>
                      </a:lnTo>
                      <a:lnTo>
                        <a:pt x="408" y="312"/>
                      </a:lnTo>
                      <a:lnTo>
                        <a:pt x="408" y="315"/>
                      </a:lnTo>
                      <a:lnTo>
                        <a:pt x="407" y="315"/>
                      </a:lnTo>
                      <a:lnTo>
                        <a:pt x="407" y="316"/>
                      </a:lnTo>
                      <a:lnTo>
                        <a:pt x="406" y="316"/>
                      </a:lnTo>
                      <a:lnTo>
                        <a:pt x="405" y="316"/>
                      </a:lnTo>
                      <a:lnTo>
                        <a:pt x="404" y="316"/>
                      </a:lnTo>
                      <a:lnTo>
                        <a:pt x="404" y="317"/>
                      </a:lnTo>
                      <a:lnTo>
                        <a:pt x="403" y="317"/>
                      </a:lnTo>
                      <a:lnTo>
                        <a:pt x="401" y="317"/>
                      </a:lnTo>
                      <a:lnTo>
                        <a:pt x="400" y="317"/>
                      </a:lnTo>
                      <a:lnTo>
                        <a:pt x="400" y="318"/>
                      </a:lnTo>
                      <a:lnTo>
                        <a:pt x="399" y="318"/>
                      </a:lnTo>
                      <a:lnTo>
                        <a:pt x="398" y="318"/>
                      </a:lnTo>
                      <a:lnTo>
                        <a:pt x="397" y="318"/>
                      </a:lnTo>
                      <a:lnTo>
                        <a:pt x="396" y="318"/>
                      </a:lnTo>
                      <a:lnTo>
                        <a:pt x="394" y="319"/>
                      </a:lnTo>
                      <a:lnTo>
                        <a:pt x="393" y="319"/>
                      </a:lnTo>
                      <a:lnTo>
                        <a:pt x="392" y="319"/>
                      </a:lnTo>
                      <a:lnTo>
                        <a:pt x="391" y="319"/>
                      </a:lnTo>
                      <a:lnTo>
                        <a:pt x="390" y="319"/>
                      </a:lnTo>
                      <a:lnTo>
                        <a:pt x="389" y="319"/>
                      </a:lnTo>
                      <a:lnTo>
                        <a:pt x="389" y="320"/>
                      </a:lnTo>
                      <a:lnTo>
                        <a:pt x="388" y="320"/>
                      </a:lnTo>
                      <a:lnTo>
                        <a:pt x="386" y="320"/>
                      </a:lnTo>
                      <a:lnTo>
                        <a:pt x="386" y="318"/>
                      </a:lnTo>
                      <a:lnTo>
                        <a:pt x="386" y="315"/>
                      </a:lnTo>
                      <a:lnTo>
                        <a:pt x="386" y="312"/>
                      </a:lnTo>
                      <a:lnTo>
                        <a:pt x="385" y="310"/>
                      </a:lnTo>
                      <a:lnTo>
                        <a:pt x="385" y="308"/>
                      </a:lnTo>
                      <a:lnTo>
                        <a:pt x="385" y="305"/>
                      </a:lnTo>
                      <a:lnTo>
                        <a:pt x="385" y="302"/>
                      </a:lnTo>
                      <a:lnTo>
                        <a:pt x="385" y="299"/>
                      </a:lnTo>
                      <a:lnTo>
                        <a:pt x="385" y="297"/>
                      </a:lnTo>
                      <a:lnTo>
                        <a:pt x="385" y="294"/>
                      </a:lnTo>
                      <a:lnTo>
                        <a:pt x="385" y="291"/>
                      </a:lnTo>
                      <a:lnTo>
                        <a:pt x="384" y="288"/>
                      </a:lnTo>
                      <a:lnTo>
                        <a:pt x="384" y="286"/>
                      </a:lnTo>
                      <a:lnTo>
                        <a:pt x="384" y="283"/>
                      </a:lnTo>
                      <a:lnTo>
                        <a:pt x="384" y="280"/>
                      </a:lnTo>
                      <a:lnTo>
                        <a:pt x="383" y="278"/>
                      </a:lnTo>
                      <a:lnTo>
                        <a:pt x="383" y="274"/>
                      </a:lnTo>
                      <a:lnTo>
                        <a:pt x="383" y="272"/>
                      </a:lnTo>
                      <a:lnTo>
                        <a:pt x="383" y="268"/>
                      </a:lnTo>
                      <a:lnTo>
                        <a:pt x="382" y="266"/>
                      </a:lnTo>
                      <a:lnTo>
                        <a:pt x="382" y="263"/>
                      </a:lnTo>
                      <a:lnTo>
                        <a:pt x="382" y="260"/>
                      </a:lnTo>
                      <a:lnTo>
                        <a:pt x="381" y="257"/>
                      </a:lnTo>
                      <a:lnTo>
                        <a:pt x="381" y="254"/>
                      </a:lnTo>
                      <a:lnTo>
                        <a:pt x="381" y="251"/>
                      </a:lnTo>
                      <a:lnTo>
                        <a:pt x="379" y="249"/>
                      </a:lnTo>
                      <a:lnTo>
                        <a:pt x="379" y="245"/>
                      </a:lnTo>
                      <a:lnTo>
                        <a:pt x="378" y="243"/>
                      </a:lnTo>
                      <a:lnTo>
                        <a:pt x="378" y="239"/>
                      </a:lnTo>
                      <a:lnTo>
                        <a:pt x="378" y="237"/>
                      </a:lnTo>
                      <a:lnTo>
                        <a:pt x="377" y="234"/>
                      </a:lnTo>
                      <a:lnTo>
                        <a:pt x="377" y="231"/>
                      </a:lnTo>
                      <a:lnTo>
                        <a:pt x="376" y="231"/>
                      </a:lnTo>
                      <a:lnTo>
                        <a:pt x="375" y="232"/>
                      </a:lnTo>
                      <a:lnTo>
                        <a:pt x="374" y="232"/>
                      </a:lnTo>
                      <a:lnTo>
                        <a:pt x="374" y="234"/>
                      </a:lnTo>
                      <a:lnTo>
                        <a:pt x="373" y="234"/>
                      </a:lnTo>
                      <a:lnTo>
                        <a:pt x="371" y="235"/>
                      </a:lnTo>
                      <a:lnTo>
                        <a:pt x="370" y="235"/>
                      </a:lnTo>
                      <a:lnTo>
                        <a:pt x="369" y="236"/>
                      </a:lnTo>
                      <a:lnTo>
                        <a:pt x="368" y="236"/>
                      </a:lnTo>
                      <a:lnTo>
                        <a:pt x="367" y="237"/>
                      </a:lnTo>
                      <a:lnTo>
                        <a:pt x="366" y="237"/>
                      </a:lnTo>
                      <a:lnTo>
                        <a:pt x="364" y="237"/>
                      </a:lnTo>
                      <a:lnTo>
                        <a:pt x="363" y="238"/>
                      </a:lnTo>
                      <a:lnTo>
                        <a:pt x="362" y="238"/>
                      </a:lnTo>
                      <a:lnTo>
                        <a:pt x="361" y="238"/>
                      </a:lnTo>
                      <a:lnTo>
                        <a:pt x="360" y="239"/>
                      </a:lnTo>
                      <a:lnTo>
                        <a:pt x="359" y="239"/>
                      </a:lnTo>
                      <a:lnTo>
                        <a:pt x="357" y="239"/>
                      </a:lnTo>
                      <a:lnTo>
                        <a:pt x="356" y="241"/>
                      </a:lnTo>
                      <a:lnTo>
                        <a:pt x="355" y="241"/>
                      </a:lnTo>
                      <a:lnTo>
                        <a:pt x="354" y="242"/>
                      </a:lnTo>
                      <a:lnTo>
                        <a:pt x="353" y="242"/>
                      </a:lnTo>
                      <a:lnTo>
                        <a:pt x="352" y="243"/>
                      </a:lnTo>
                      <a:lnTo>
                        <a:pt x="351" y="243"/>
                      </a:lnTo>
                      <a:lnTo>
                        <a:pt x="351" y="239"/>
                      </a:lnTo>
                      <a:lnTo>
                        <a:pt x="351" y="236"/>
                      </a:lnTo>
                      <a:lnTo>
                        <a:pt x="351" y="232"/>
                      </a:lnTo>
                      <a:lnTo>
                        <a:pt x="349" y="229"/>
                      </a:lnTo>
                      <a:lnTo>
                        <a:pt x="349" y="226"/>
                      </a:lnTo>
                      <a:lnTo>
                        <a:pt x="349" y="222"/>
                      </a:lnTo>
                      <a:lnTo>
                        <a:pt x="349" y="219"/>
                      </a:lnTo>
                      <a:lnTo>
                        <a:pt x="349" y="215"/>
                      </a:lnTo>
                      <a:lnTo>
                        <a:pt x="349" y="212"/>
                      </a:lnTo>
                      <a:lnTo>
                        <a:pt x="349" y="207"/>
                      </a:lnTo>
                      <a:lnTo>
                        <a:pt x="349" y="204"/>
                      </a:lnTo>
                      <a:lnTo>
                        <a:pt x="349" y="200"/>
                      </a:lnTo>
                      <a:lnTo>
                        <a:pt x="349" y="197"/>
                      </a:lnTo>
                      <a:lnTo>
                        <a:pt x="349" y="193"/>
                      </a:lnTo>
                      <a:lnTo>
                        <a:pt x="351" y="190"/>
                      </a:lnTo>
                      <a:lnTo>
                        <a:pt x="351" y="186"/>
                      </a:lnTo>
                      <a:lnTo>
                        <a:pt x="351" y="183"/>
                      </a:lnTo>
                      <a:lnTo>
                        <a:pt x="351" y="179"/>
                      </a:lnTo>
                      <a:lnTo>
                        <a:pt x="351" y="176"/>
                      </a:lnTo>
                      <a:lnTo>
                        <a:pt x="349" y="174"/>
                      </a:lnTo>
                      <a:lnTo>
                        <a:pt x="349" y="170"/>
                      </a:lnTo>
                      <a:lnTo>
                        <a:pt x="349" y="167"/>
                      </a:lnTo>
                      <a:lnTo>
                        <a:pt x="349" y="164"/>
                      </a:lnTo>
                      <a:lnTo>
                        <a:pt x="349" y="161"/>
                      </a:lnTo>
                      <a:lnTo>
                        <a:pt x="348" y="159"/>
                      </a:lnTo>
                      <a:lnTo>
                        <a:pt x="348" y="156"/>
                      </a:lnTo>
                      <a:lnTo>
                        <a:pt x="347" y="153"/>
                      </a:lnTo>
                      <a:lnTo>
                        <a:pt x="346" y="150"/>
                      </a:lnTo>
                      <a:lnTo>
                        <a:pt x="346" y="148"/>
                      </a:lnTo>
                      <a:lnTo>
                        <a:pt x="345" y="147"/>
                      </a:lnTo>
                      <a:lnTo>
                        <a:pt x="344" y="145"/>
                      </a:lnTo>
                      <a:lnTo>
                        <a:pt x="342" y="142"/>
                      </a:lnTo>
                      <a:lnTo>
                        <a:pt x="342" y="141"/>
                      </a:lnTo>
                      <a:lnTo>
                        <a:pt x="344" y="141"/>
                      </a:lnTo>
                      <a:lnTo>
                        <a:pt x="344" y="140"/>
                      </a:lnTo>
                      <a:lnTo>
                        <a:pt x="344" y="139"/>
                      </a:lnTo>
                      <a:lnTo>
                        <a:pt x="344" y="138"/>
                      </a:lnTo>
                      <a:lnTo>
                        <a:pt x="345" y="137"/>
                      </a:lnTo>
                      <a:lnTo>
                        <a:pt x="345" y="135"/>
                      </a:lnTo>
                      <a:lnTo>
                        <a:pt x="345" y="134"/>
                      </a:lnTo>
                      <a:lnTo>
                        <a:pt x="346" y="133"/>
                      </a:lnTo>
                      <a:lnTo>
                        <a:pt x="346" y="132"/>
                      </a:lnTo>
                      <a:lnTo>
                        <a:pt x="346" y="131"/>
                      </a:lnTo>
                      <a:lnTo>
                        <a:pt x="347" y="130"/>
                      </a:lnTo>
                      <a:lnTo>
                        <a:pt x="347" y="129"/>
                      </a:lnTo>
                      <a:lnTo>
                        <a:pt x="347" y="127"/>
                      </a:lnTo>
                      <a:lnTo>
                        <a:pt x="348" y="127"/>
                      </a:lnTo>
                      <a:lnTo>
                        <a:pt x="348" y="126"/>
                      </a:lnTo>
                      <a:lnTo>
                        <a:pt x="348" y="125"/>
                      </a:lnTo>
                      <a:lnTo>
                        <a:pt x="349" y="124"/>
                      </a:lnTo>
                      <a:lnTo>
                        <a:pt x="349" y="123"/>
                      </a:lnTo>
                      <a:lnTo>
                        <a:pt x="351" y="123"/>
                      </a:lnTo>
                      <a:lnTo>
                        <a:pt x="351" y="122"/>
                      </a:lnTo>
                      <a:lnTo>
                        <a:pt x="352" y="122"/>
                      </a:lnTo>
                      <a:lnTo>
                        <a:pt x="352" y="120"/>
                      </a:lnTo>
                      <a:close/>
                      <a:moveTo>
                        <a:pt x="470" y="399"/>
                      </a:moveTo>
                      <a:lnTo>
                        <a:pt x="470" y="397"/>
                      </a:lnTo>
                      <a:lnTo>
                        <a:pt x="471" y="394"/>
                      </a:lnTo>
                      <a:lnTo>
                        <a:pt x="471" y="392"/>
                      </a:lnTo>
                      <a:lnTo>
                        <a:pt x="471" y="391"/>
                      </a:lnTo>
                      <a:lnTo>
                        <a:pt x="472" y="388"/>
                      </a:lnTo>
                      <a:lnTo>
                        <a:pt x="472" y="387"/>
                      </a:lnTo>
                      <a:lnTo>
                        <a:pt x="472" y="386"/>
                      </a:lnTo>
                      <a:lnTo>
                        <a:pt x="472" y="384"/>
                      </a:lnTo>
                      <a:lnTo>
                        <a:pt x="472" y="383"/>
                      </a:lnTo>
                      <a:lnTo>
                        <a:pt x="472" y="382"/>
                      </a:lnTo>
                      <a:lnTo>
                        <a:pt x="472" y="380"/>
                      </a:lnTo>
                      <a:lnTo>
                        <a:pt x="471" y="380"/>
                      </a:lnTo>
                      <a:lnTo>
                        <a:pt x="471" y="379"/>
                      </a:lnTo>
                      <a:lnTo>
                        <a:pt x="471" y="378"/>
                      </a:lnTo>
                      <a:lnTo>
                        <a:pt x="470" y="377"/>
                      </a:lnTo>
                      <a:lnTo>
                        <a:pt x="470" y="376"/>
                      </a:lnTo>
                      <a:lnTo>
                        <a:pt x="468" y="376"/>
                      </a:lnTo>
                      <a:lnTo>
                        <a:pt x="468" y="375"/>
                      </a:lnTo>
                      <a:lnTo>
                        <a:pt x="467" y="373"/>
                      </a:lnTo>
                      <a:lnTo>
                        <a:pt x="466" y="372"/>
                      </a:lnTo>
                      <a:lnTo>
                        <a:pt x="465" y="371"/>
                      </a:lnTo>
                      <a:lnTo>
                        <a:pt x="465" y="370"/>
                      </a:lnTo>
                      <a:lnTo>
                        <a:pt x="464" y="369"/>
                      </a:lnTo>
                      <a:lnTo>
                        <a:pt x="464" y="368"/>
                      </a:lnTo>
                      <a:lnTo>
                        <a:pt x="464" y="366"/>
                      </a:lnTo>
                      <a:lnTo>
                        <a:pt x="465" y="365"/>
                      </a:lnTo>
                      <a:lnTo>
                        <a:pt x="466" y="364"/>
                      </a:lnTo>
                      <a:lnTo>
                        <a:pt x="467" y="363"/>
                      </a:lnTo>
                      <a:lnTo>
                        <a:pt x="467" y="362"/>
                      </a:lnTo>
                      <a:lnTo>
                        <a:pt x="468" y="362"/>
                      </a:lnTo>
                      <a:lnTo>
                        <a:pt x="468" y="361"/>
                      </a:lnTo>
                      <a:lnTo>
                        <a:pt x="468" y="360"/>
                      </a:lnTo>
                      <a:lnTo>
                        <a:pt x="470" y="360"/>
                      </a:lnTo>
                      <a:lnTo>
                        <a:pt x="470" y="358"/>
                      </a:lnTo>
                      <a:lnTo>
                        <a:pt x="470" y="357"/>
                      </a:lnTo>
                      <a:lnTo>
                        <a:pt x="470" y="356"/>
                      </a:lnTo>
                      <a:lnTo>
                        <a:pt x="470" y="355"/>
                      </a:lnTo>
                      <a:lnTo>
                        <a:pt x="470" y="354"/>
                      </a:lnTo>
                      <a:lnTo>
                        <a:pt x="470" y="353"/>
                      </a:lnTo>
                      <a:lnTo>
                        <a:pt x="470" y="351"/>
                      </a:lnTo>
                      <a:lnTo>
                        <a:pt x="470" y="350"/>
                      </a:lnTo>
                      <a:lnTo>
                        <a:pt x="468" y="349"/>
                      </a:lnTo>
                      <a:lnTo>
                        <a:pt x="468" y="348"/>
                      </a:lnTo>
                      <a:lnTo>
                        <a:pt x="468" y="347"/>
                      </a:lnTo>
                      <a:lnTo>
                        <a:pt x="468" y="346"/>
                      </a:lnTo>
                      <a:lnTo>
                        <a:pt x="468" y="345"/>
                      </a:lnTo>
                      <a:lnTo>
                        <a:pt x="467" y="345"/>
                      </a:lnTo>
                      <a:lnTo>
                        <a:pt x="466" y="343"/>
                      </a:lnTo>
                      <a:lnTo>
                        <a:pt x="466" y="342"/>
                      </a:lnTo>
                      <a:lnTo>
                        <a:pt x="465" y="341"/>
                      </a:lnTo>
                      <a:lnTo>
                        <a:pt x="464" y="341"/>
                      </a:lnTo>
                      <a:lnTo>
                        <a:pt x="463" y="340"/>
                      </a:lnTo>
                      <a:lnTo>
                        <a:pt x="463" y="339"/>
                      </a:lnTo>
                      <a:lnTo>
                        <a:pt x="461" y="338"/>
                      </a:lnTo>
                      <a:lnTo>
                        <a:pt x="460" y="336"/>
                      </a:lnTo>
                      <a:lnTo>
                        <a:pt x="459" y="336"/>
                      </a:lnTo>
                      <a:lnTo>
                        <a:pt x="458" y="335"/>
                      </a:lnTo>
                      <a:lnTo>
                        <a:pt x="458" y="334"/>
                      </a:lnTo>
                      <a:lnTo>
                        <a:pt x="457" y="333"/>
                      </a:lnTo>
                      <a:lnTo>
                        <a:pt x="456" y="332"/>
                      </a:lnTo>
                      <a:lnTo>
                        <a:pt x="455" y="331"/>
                      </a:lnTo>
                      <a:lnTo>
                        <a:pt x="453" y="330"/>
                      </a:lnTo>
                      <a:lnTo>
                        <a:pt x="452" y="328"/>
                      </a:lnTo>
                      <a:lnTo>
                        <a:pt x="451" y="328"/>
                      </a:lnTo>
                      <a:lnTo>
                        <a:pt x="450" y="327"/>
                      </a:lnTo>
                      <a:lnTo>
                        <a:pt x="449" y="326"/>
                      </a:lnTo>
                      <a:lnTo>
                        <a:pt x="449" y="325"/>
                      </a:lnTo>
                      <a:lnTo>
                        <a:pt x="448" y="324"/>
                      </a:lnTo>
                      <a:lnTo>
                        <a:pt x="446" y="323"/>
                      </a:lnTo>
                      <a:lnTo>
                        <a:pt x="445" y="321"/>
                      </a:lnTo>
                      <a:lnTo>
                        <a:pt x="444" y="321"/>
                      </a:lnTo>
                      <a:lnTo>
                        <a:pt x="443" y="320"/>
                      </a:lnTo>
                      <a:lnTo>
                        <a:pt x="441" y="319"/>
                      </a:lnTo>
                      <a:lnTo>
                        <a:pt x="440" y="318"/>
                      </a:lnTo>
                      <a:lnTo>
                        <a:pt x="438" y="318"/>
                      </a:lnTo>
                      <a:lnTo>
                        <a:pt x="437" y="317"/>
                      </a:lnTo>
                      <a:lnTo>
                        <a:pt x="436" y="316"/>
                      </a:lnTo>
                      <a:lnTo>
                        <a:pt x="435" y="316"/>
                      </a:lnTo>
                      <a:lnTo>
                        <a:pt x="435" y="315"/>
                      </a:lnTo>
                      <a:lnTo>
                        <a:pt x="435" y="313"/>
                      </a:lnTo>
                      <a:lnTo>
                        <a:pt x="435" y="312"/>
                      </a:lnTo>
                      <a:lnTo>
                        <a:pt x="436" y="312"/>
                      </a:lnTo>
                      <a:lnTo>
                        <a:pt x="436" y="311"/>
                      </a:lnTo>
                      <a:lnTo>
                        <a:pt x="437" y="311"/>
                      </a:lnTo>
                      <a:lnTo>
                        <a:pt x="437" y="310"/>
                      </a:lnTo>
                      <a:lnTo>
                        <a:pt x="438" y="310"/>
                      </a:lnTo>
                      <a:lnTo>
                        <a:pt x="440" y="310"/>
                      </a:lnTo>
                      <a:lnTo>
                        <a:pt x="441" y="310"/>
                      </a:lnTo>
                      <a:lnTo>
                        <a:pt x="442" y="309"/>
                      </a:lnTo>
                      <a:lnTo>
                        <a:pt x="443" y="309"/>
                      </a:lnTo>
                      <a:lnTo>
                        <a:pt x="444" y="309"/>
                      </a:lnTo>
                      <a:lnTo>
                        <a:pt x="445" y="309"/>
                      </a:lnTo>
                      <a:lnTo>
                        <a:pt x="446" y="309"/>
                      </a:lnTo>
                      <a:lnTo>
                        <a:pt x="448" y="309"/>
                      </a:lnTo>
                      <a:lnTo>
                        <a:pt x="450" y="309"/>
                      </a:lnTo>
                      <a:lnTo>
                        <a:pt x="451" y="309"/>
                      </a:lnTo>
                      <a:lnTo>
                        <a:pt x="452" y="309"/>
                      </a:lnTo>
                      <a:lnTo>
                        <a:pt x="453" y="309"/>
                      </a:lnTo>
                      <a:lnTo>
                        <a:pt x="455" y="309"/>
                      </a:lnTo>
                      <a:lnTo>
                        <a:pt x="457" y="309"/>
                      </a:lnTo>
                      <a:lnTo>
                        <a:pt x="458" y="309"/>
                      </a:lnTo>
                      <a:lnTo>
                        <a:pt x="459" y="309"/>
                      </a:lnTo>
                      <a:lnTo>
                        <a:pt x="461" y="309"/>
                      </a:lnTo>
                      <a:lnTo>
                        <a:pt x="463" y="309"/>
                      </a:lnTo>
                      <a:lnTo>
                        <a:pt x="465" y="309"/>
                      </a:lnTo>
                      <a:lnTo>
                        <a:pt x="466" y="309"/>
                      </a:lnTo>
                      <a:lnTo>
                        <a:pt x="467" y="309"/>
                      </a:lnTo>
                      <a:lnTo>
                        <a:pt x="470" y="313"/>
                      </a:lnTo>
                      <a:lnTo>
                        <a:pt x="472" y="317"/>
                      </a:lnTo>
                      <a:lnTo>
                        <a:pt x="474" y="320"/>
                      </a:lnTo>
                      <a:lnTo>
                        <a:pt x="475" y="323"/>
                      </a:lnTo>
                      <a:lnTo>
                        <a:pt x="478" y="326"/>
                      </a:lnTo>
                      <a:lnTo>
                        <a:pt x="480" y="328"/>
                      </a:lnTo>
                      <a:lnTo>
                        <a:pt x="481" y="331"/>
                      </a:lnTo>
                      <a:lnTo>
                        <a:pt x="483" y="333"/>
                      </a:lnTo>
                      <a:lnTo>
                        <a:pt x="485" y="335"/>
                      </a:lnTo>
                      <a:lnTo>
                        <a:pt x="486" y="336"/>
                      </a:lnTo>
                      <a:lnTo>
                        <a:pt x="487" y="339"/>
                      </a:lnTo>
                      <a:lnTo>
                        <a:pt x="489" y="340"/>
                      </a:lnTo>
                      <a:lnTo>
                        <a:pt x="490" y="342"/>
                      </a:lnTo>
                      <a:lnTo>
                        <a:pt x="492" y="343"/>
                      </a:lnTo>
                      <a:lnTo>
                        <a:pt x="493" y="346"/>
                      </a:lnTo>
                      <a:lnTo>
                        <a:pt x="494" y="347"/>
                      </a:lnTo>
                      <a:lnTo>
                        <a:pt x="494" y="348"/>
                      </a:lnTo>
                      <a:lnTo>
                        <a:pt x="495" y="350"/>
                      </a:lnTo>
                      <a:lnTo>
                        <a:pt x="496" y="351"/>
                      </a:lnTo>
                      <a:lnTo>
                        <a:pt x="496" y="353"/>
                      </a:lnTo>
                      <a:lnTo>
                        <a:pt x="497" y="355"/>
                      </a:lnTo>
                      <a:lnTo>
                        <a:pt x="497" y="357"/>
                      </a:lnTo>
                      <a:lnTo>
                        <a:pt x="497" y="358"/>
                      </a:lnTo>
                      <a:lnTo>
                        <a:pt x="498" y="361"/>
                      </a:lnTo>
                      <a:lnTo>
                        <a:pt x="498" y="363"/>
                      </a:lnTo>
                      <a:lnTo>
                        <a:pt x="498" y="365"/>
                      </a:lnTo>
                      <a:lnTo>
                        <a:pt x="498" y="369"/>
                      </a:lnTo>
                      <a:lnTo>
                        <a:pt x="498" y="371"/>
                      </a:lnTo>
                      <a:lnTo>
                        <a:pt x="498" y="375"/>
                      </a:lnTo>
                      <a:lnTo>
                        <a:pt x="497" y="378"/>
                      </a:lnTo>
                      <a:lnTo>
                        <a:pt x="497" y="382"/>
                      </a:lnTo>
                      <a:lnTo>
                        <a:pt x="497" y="385"/>
                      </a:lnTo>
                      <a:lnTo>
                        <a:pt x="496" y="386"/>
                      </a:lnTo>
                      <a:lnTo>
                        <a:pt x="495" y="387"/>
                      </a:lnTo>
                      <a:lnTo>
                        <a:pt x="495" y="388"/>
                      </a:lnTo>
                      <a:lnTo>
                        <a:pt x="494" y="390"/>
                      </a:lnTo>
                      <a:lnTo>
                        <a:pt x="494" y="391"/>
                      </a:lnTo>
                      <a:lnTo>
                        <a:pt x="493" y="391"/>
                      </a:lnTo>
                      <a:lnTo>
                        <a:pt x="493" y="392"/>
                      </a:lnTo>
                      <a:lnTo>
                        <a:pt x="492" y="392"/>
                      </a:lnTo>
                      <a:lnTo>
                        <a:pt x="492" y="393"/>
                      </a:lnTo>
                      <a:lnTo>
                        <a:pt x="490" y="393"/>
                      </a:lnTo>
                      <a:lnTo>
                        <a:pt x="490" y="394"/>
                      </a:lnTo>
                      <a:lnTo>
                        <a:pt x="489" y="394"/>
                      </a:lnTo>
                      <a:lnTo>
                        <a:pt x="488" y="395"/>
                      </a:lnTo>
                      <a:lnTo>
                        <a:pt x="487" y="395"/>
                      </a:lnTo>
                      <a:lnTo>
                        <a:pt x="486" y="395"/>
                      </a:lnTo>
                      <a:lnTo>
                        <a:pt x="486" y="397"/>
                      </a:lnTo>
                      <a:lnTo>
                        <a:pt x="485" y="397"/>
                      </a:lnTo>
                      <a:lnTo>
                        <a:pt x="483" y="397"/>
                      </a:lnTo>
                      <a:lnTo>
                        <a:pt x="482" y="397"/>
                      </a:lnTo>
                      <a:lnTo>
                        <a:pt x="481" y="397"/>
                      </a:lnTo>
                      <a:lnTo>
                        <a:pt x="480" y="397"/>
                      </a:lnTo>
                      <a:lnTo>
                        <a:pt x="479" y="398"/>
                      </a:lnTo>
                      <a:lnTo>
                        <a:pt x="478" y="398"/>
                      </a:lnTo>
                      <a:lnTo>
                        <a:pt x="476" y="398"/>
                      </a:lnTo>
                      <a:lnTo>
                        <a:pt x="474" y="398"/>
                      </a:lnTo>
                      <a:lnTo>
                        <a:pt x="473" y="398"/>
                      </a:lnTo>
                      <a:lnTo>
                        <a:pt x="471" y="399"/>
                      </a:lnTo>
                      <a:lnTo>
                        <a:pt x="470" y="399"/>
                      </a:lnTo>
                      <a:close/>
                    </a:path>
                  </a:pathLst>
                </a:custGeom>
                <a:solidFill>
                  <a:srgbClr val="387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608800" y="6071400"/>
                  <a:ext cx="14400" cy="39960"/>
                </a:xfrm>
                <a:custGeom>
                  <a:avLst/>
                  <a:gdLst/>
                  <a:ahLst/>
                  <a:rect l="l" t="t" r="r" b="b"/>
                  <a:pathLst>
                    <a:path w="28" h="67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8" y="13"/>
                      </a:lnTo>
                      <a:lnTo>
                        <a:pt x="11" y="18"/>
                      </a:lnTo>
                      <a:lnTo>
                        <a:pt x="16" y="21"/>
                      </a:lnTo>
                      <a:lnTo>
                        <a:pt x="16" y="25"/>
                      </a:lnTo>
                      <a:lnTo>
                        <a:pt x="16" y="30"/>
                      </a:lnTo>
                      <a:lnTo>
                        <a:pt x="15" y="37"/>
                      </a:lnTo>
                      <a:lnTo>
                        <a:pt x="15" y="44"/>
                      </a:lnTo>
                      <a:lnTo>
                        <a:pt x="13" y="52"/>
                      </a:lnTo>
                      <a:lnTo>
                        <a:pt x="11" y="58"/>
                      </a:lnTo>
                      <a:lnTo>
                        <a:pt x="9" y="64"/>
                      </a:lnTo>
                      <a:lnTo>
                        <a:pt x="5" y="67"/>
                      </a:lnTo>
                      <a:lnTo>
                        <a:pt x="9" y="67"/>
                      </a:lnTo>
                      <a:lnTo>
                        <a:pt x="11" y="67"/>
                      </a:lnTo>
                      <a:lnTo>
                        <a:pt x="15" y="67"/>
                      </a:lnTo>
                      <a:lnTo>
                        <a:pt x="17" y="66"/>
                      </a:lnTo>
                      <a:lnTo>
                        <a:pt x="20" y="62"/>
                      </a:lnTo>
                      <a:lnTo>
                        <a:pt x="23" y="56"/>
                      </a:lnTo>
                      <a:lnTo>
                        <a:pt x="26" y="51"/>
                      </a:lnTo>
                      <a:lnTo>
                        <a:pt x="28" y="47"/>
                      </a:lnTo>
                      <a:lnTo>
                        <a:pt x="27" y="36"/>
                      </a:lnTo>
                      <a:lnTo>
                        <a:pt x="26" y="28"/>
                      </a:lnTo>
                      <a:lnTo>
                        <a:pt x="24" y="22"/>
                      </a:lnTo>
                      <a:lnTo>
                        <a:pt x="23" y="17"/>
                      </a:lnTo>
                      <a:lnTo>
                        <a:pt x="19" y="12"/>
                      </a:lnTo>
                      <a:lnTo>
                        <a:pt x="13" y="9"/>
                      </a:lnTo>
                      <a:lnTo>
                        <a:pt x="6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5577120" y="6111360"/>
                  <a:ext cx="42840" cy="9000"/>
                </a:xfrm>
                <a:custGeom>
                  <a:avLst/>
                  <a:gdLst/>
                  <a:ahLst/>
                  <a:rect l="l" t="t" r="r" b="b"/>
                  <a:pathLst>
                    <a:path w="81" h="13">
                      <a:moveTo>
                        <a:pt x="81" y="0"/>
                      </a:moveTo>
                      <a:lnTo>
                        <a:pt x="77" y="2"/>
                      </a:lnTo>
                      <a:lnTo>
                        <a:pt x="72" y="2"/>
                      </a:lnTo>
                      <a:lnTo>
                        <a:pt x="67" y="2"/>
                      </a:lnTo>
                      <a:lnTo>
                        <a:pt x="63" y="2"/>
                      </a:lnTo>
                      <a:lnTo>
                        <a:pt x="58" y="2"/>
                      </a:lnTo>
                      <a:lnTo>
                        <a:pt x="52" y="2"/>
                      </a:lnTo>
                      <a:lnTo>
                        <a:pt x="47" y="3"/>
                      </a:lnTo>
                      <a:lnTo>
                        <a:pt x="42" y="5"/>
                      </a:lnTo>
                      <a:lnTo>
                        <a:pt x="37" y="4"/>
                      </a:lnTo>
                      <a:lnTo>
                        <a:pt x="34" y="4"/>
                      </a:lnTo>
                      <a:lnTo>
                        <a:pt x="29" y="4"/>
                      </a:lnTo>
                      <a:lnTo>
                        <a:pt x="24" y="4"/>
                      </a:lnTo>
                      <a:lnTo>
                        <a:pt x="18" y="5"/>
                      </a:lnTo>
                      <a:lnTo>
                        <a:pt x="12" y="5"/>
                      </a:lnTo>
                      <a:lnTo>
                        <a:pt x="6" y="5"/>
                      </a:lnTo>
                      <a:lnTo>
                        <a:pt x="0" y="4"/>
                      </a:lnTo>
                      <a:lnTo>
                        <a:pt x="6" y="7"/>
                      </a:lnTo>
                      <a:lnTo>
                        <a:pt x="11" y="10"/>
                      </a:lnTo>
                      <a:lnTo>
                        <a:pt x="15" y="11"/>
                      </a:lnTo>
                      <a:lnTo>
                        <a:pt x="21" y="13"/>
                      </a:lnTo>
                      <a:lnTo>
                        <a:pt x="26" y="13"/>
                      </a:lnTo>
                      <a:lnTo>
                        <a:pt x="32" y="13"/>
                      </a:lnTo>
                      <a:lnTo>
                        <a:pt x="37" y="13"/>
                      </a:lnTo>
                      <a:lnTo>
                        <a:pt x="44" y="11"/>
                      </a:lnTo>
                      <a:lnTo>
                        <a:pt x="51" y="10"/>
                      </a:lnTo>
                      <a:lnTo>
                        <a:pt x="58" y="7"/>
                      </a:lnTo>
                      <a:lnTo>
                        <a:pt x="65" y="6"/>
                      </a:lnTo>
                      <a:lnTo>
                        <a:pt x="71" y="6"/>
                      </a:lnTo>
                      <a:lnTo>
                        <a:pt x="76" y="5"/>
                      </a:lnTo>
                      <a:lnTo>
                        <a:pt x="79" y="4"/>
                      </a:lnTo>
                      <a:lnTo>
                        <a:pt x="81" y="3"/>
                      </a:lnTo>
                      <a:lnTo>
                        <a:pt x="8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5754960" y="5916600"/>
                  <a:ext cx="41040" cy="89280"/>
                </a:xfrm>
                <a:custGeom>
                  <a:avLst/>
                  <a:gdLst/>
                  <a:ahLst/>
                  <a:rect l="l" t="t" r="r" b="b"/>
                  <a:pathLst>
                    <a:path w="79" h="145">
                      <a:moveTo>
                        <a:pt x="0" y="95"/>
                      </a:moveTo>
                      <a:lnTo>
                        <a:pt x="14" y="86"/>
                      </a:lnTo>
                      <a:lnTo>
                        <a:pt x="27" y="77"/>
                      </a:lnTo>
                      <a:lnTo>
                        <a:pt x="39" y="64"/>
                      </a:lnTo>
                      <a:lnTo>
                        <a:pt x="49" y="52"/>
                      </a:lnTo>
                      <a:lnTo>
                        <a:pt x="59" y="38"/>
                      </a:lnTo>
                      <a:lnTo>
                        <a:pt x="67" y="26"/>
                      </a:lnTo>
                      <a:lnTo>
                        <a:pt x="74" y="13"/>
                      </a:lnTo>
                      <a:lnTo>
                        <a:pt x="78" y="0"/>
                      </a:lnTo>
                      <a:lnTo>
                        <a:pt x="79" y="8"/>
                      </a:lnTo>
                      <a:lnTo>
                        <a:pt x="79" y="15"/>
                      </a:lnTo>
                      <a:lnTo>
                        <a:pt x="78" y="21"/>
                      </a:lnTo>
                      <a:lnTo>
                        <a:pt x="77" y="25"/>
                      </a:lnTo>
                      <a:lnTo>
                        <a:pt x="75" y="29"/>
                      </a:lnTo>
                      <a:lnTo>
                        <a:pt x="74" y="34"/>
                      </a:lnTo>
                      <a:lnTo>
                        <a:pt x="72" y="38"/>
                      </a:lnTo>
                      <a:lnTo>
                        <a:pt x="71" y="44"/>
                      </a:lnTo>
                      <a:lnTo>
                        <a:pt x="71" y="50"/>
                      </a:lnTo>
                      <a:lnTo>
                        <a:pt x="71" y="56"/>
                      </a:lnTo>
                      <a:lnTo>
                        <a:pt x="71" y="62"/>
                      </a:lnTo>
                      <a:lnTo>
                        <a:pt x="72" y="67"/>
                      </a:lnTo>
                      <a:lnTo>
                        <a:pt x="72" y="73"/>
                      </a:lnTo>
                      <a:lnTo>
                        <a:pt x="74" y="78"/>
                      </a:lnTo>
                      <a:lnTo>
                        <a:pt x="74" y="83"/>
                      </a:lnTo>
                      <a:lnTo>
                        <a:pt x="74" y="89"/>
                      </a:lnTo>
                      <a:lnTo>
                        <a:pt x="69" y="95"/>
                      </a:lnTo>
                      <a:lnTo>
                        <a:pt x="64" y="102"/>
                      </a:lnTo>
                      <a:lnTo>
                        <a:pt x="61" y="109"/>
                      </a:lnTo>
                      <a:lnTo>
                        <a:pt x="57" y="115"/>
                      </a:lnTo>
                      <a:lnTo>
                        <a:pt x="53" y="122"/>
                      </a:lnTo>
                      <a:lnTo>
                        <a:pt x="48" y="130"/>
                      </a:lnTo>
                      <a:lnTo>
                        <a:pt x="42" y="137"/>
                      </a:lnTo>
                      <a:lnTo>
                        <a:pt x="37" y="144"/>
                      </a:lnTo>
                      <a:lnTo>
                        <a:pt x="34" y="145"/>
                      </a:lnTo>
                      <a:lnTo>
                        <a:pt x="31" y="142"/>
                      </a:lnTo>
                      <a:lnTo>
                        <a:pt x="27" y="138"/>
                      </a:lnTo>
                      <a:lnTo>
                        <a:pt x="23" y="131"/>
                      </a:lnTo>
                      <a:lnTo>
                        <a:pt x="18" y="123"/>
                      </a:lnTo>
                      <a:lnTo>
                        <a:pt x="12" y="114"/>
                      </a:lnTo>
                      <a:lnTo>
                        <a:pt x="7" y="104"/>
                      </a:lnTo>
                      <a:lnTo>
                        <a:pt x="0" y="95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5721480" y="5971320"/>
                  <a:ext cx="23760" cy="32400"/>
                </a:xfrm>
                <a:custGeom>
                  <a:avLst/>
                  <a:gdLst/>
                  <a:ahLst/>
                  <a:rect l="l" t="t" r="r" b="b"/>
                  <a:pathLst>
                    <a:path w="45" h="54">
                      <a:moveTo>
                        <a:pt x="42" y="0"/>
                      </a:moveTo>
                      <a:lnTo>
                        <a:pt x="36" y="1"/>
                      </a:lnTo>
                      <a:lnTo>
                        <a:pt x="31" y="4"/>
                      </a:lnTo>
                      <a:lnTo>
                        <a:pt x="27" y="5"/>
                      </a:lnTo>
                      <a:lnTo>
                        <a:pt x="22" y="7"/>
                      </a:lnTo>
                      <a:lnTo>
                        <a:pt x="17" y="8"/>
                      </a:lnTo>
                      <a:lnTo>
                        <a:pt x="12" y="9"/>
                      </a:lnTo>
                      <a:lnTo>
                        <a:pt x="7" y="9"/>
                      </a:lnTo>
                      <a:lnTo>
                        <a:pt x="0" y="9"/>
                      </a:lnTo>
                      <a:lnTo>
                        <a:pt x="5" y="17"/>
                      </a:lnTo>
                      <a:lnTo>
                        <a:pt x="9" y="24"/>
                      </a:lnTo>
                      <a:lnTo>
                        <a:pt x="14" y="31"/>
                      </a:lnTo>
                      <a:lnTo>
                        <a:pt x="17" y="36"/>
                      </a:lnTo>
                      <a:lnTo>
                        <a:pt x="23" y="38"/>
                      </a:lnTo>
                      <a:lnTo>
                        <a:pt x="29" y="42"/>
                      </a:lnTo>
                      <a:lnTo>
                        <a:pt x="36" y="46"/>
                      </a:lnTo>
                      <a:lnTo>
                        <a:pt x="45" y="54"/>
                      </a:lnTo>
                      <a:lnTo>
                        <a:pt x="41" y="46"/>
                      </a:lnTo>
                      <a:lnTo>
                        <a:pt x="31" y="38"/>
                      </a:lnTo>
                      <a:lnTo>
                        <a:pt x="22" y="29"/>
                      </a:lnTo>
                      <a:lnTo>
                        <a:pt x="19" y="22"/>
                      </a:lnTo>
                      <a:lnTo>
                        <a:pt x="22" y="16"/>
                      </a:lnTo>
                      <a:lnTo>
                        <a:pt x="29" y="12"/>
                      </a:lnTo>
                      <a:lnTo>
                        <a:pt x="37" y="6"/>
                      </a:lnTo>
                      <a:lnTo>
                        <a:pt x="42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5708880" y="5976720"/>
                  <a:ext cx="36360" cy="101880"/>
                </a:xfrm>
                <a:custGeom>
                  <a:avLst/>
                  <a:gdLst/>
                  <a:ahLst/>
                  <a:rect l="l" t="t" r="r" b="b"/>
                  <a:pathLst>
                    <a:path w="67" h="168">
                      <a:moveTo>
                        <a:pt x="21" y="0"/>
                      </a:moveTo>
                      <a:lnTo>
                        <a:pt x="15" y="22"/>
                      </a:lnTo>
                      <a:lnTo>
                        <a:pt x="11" y="43"/>
                      </a:lnTo>
                      <a:lnTo>
                        <a:pt x="8" y="65"/>
                      </a:lnTo>
                      <a:lnTo>
                        <a:pt x="6" y="86"/>
                      </a:lnTo>
                      <a:lnTo>
                        <a:pt x="4" y="107"/>
                      </a:lnTo>
                      <a:lnTo>
                        <a:pt x="2" y="127"/>
                      </a:lnTo>
                      <a:lnTo>
                        <a:pt x="1" y="148"/>
                      </a:lnTo>
                      <a:lnTo>
                        <a:pt x="0" y="168"/>
                      </a:lnTo>
                      <a:lnTo>
                        <a:pt x="6" y="168"/>
                      </a:lnTo>
                      <a:lnTo>
                        <a:pt x="11" y="167"/>
                      </a:lnTo>
                      <a:lnTo>
                        <a:pt x="15" y="166"/>
                      </a:lnTo>
                      <a:lnTo>
                        <a:pt x="20" y="164"/>
                      </a:lnTo>
                      <a:lnTo>
                        <a:pt x="24" y="163"/>
                      </a:lnTo>
                      <a:lnTo>
                        <a:pt x="30" y="163"/>
                      </a:lnTo>
                      <a:lnTo>
                        <a:pt x="35" y="162"/>
                      </a:lnTo>
                      <a:lnTo>
                        <a:pt x="39" y="161"/>
                      </a:lnTo>
                      <a:lnTo>
                        <a:pt x="44" y="137"/>
                      </a:lnTo>
                      <a:lnTo>
                        <a:pt x="49" y="117"/>
                      </a:lnTo>
                      <a:lnTo>
                        <a:pt x="53" y="101"/>
                      </a:lnTo>
                      <a:lnTo>
                        <a:pt x="58" y="88"/>
                      </a:lnTo>
                      <a:lnTo>
                        <a:pt x="61" y="77"/>
                      </a:lnTo>
                      <a:lnTo>
                        <a:pt x="65" y="66"/>
                      </a:lnTo>
                      <a:lnTo>
                        <a:pt x="67" y="56"/>
                      </a:lnTo>
                      <a:lnTo>
                        <a:pt x="67" y="45"/>
                      </a:lnTo>
                      <a:lnTo>
                        <a:pt x="58" y="40"/>
                      </a:lnTo>
                      <a:lnTo>
                        <a:pt x="52" y="35"/>
                      </a:lnTo>
                      <a:lnTo>
                        <a:pt x="46" y="33"/>
                      </a:lnTo>
                      <a:lnTo>
                        <a:pt x="42" y="30"/>
                      </a:lnTo>
                      <a:lnTo>
                        <a:pt x="38" y="27"/>
                      </a:lnTo>
                      <a:lnTo>
                        <a:pt x="34" y="21"/>
                      </a:lnTo>
                      <a:lnTo>
                        <a:pt x="28" y="13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5757840" y="5978160"/>
                  <a:ext cx="36720" cy="133200"/>
                </a:xfrm>
                <a:custGeom>
                  <a:avLst/>
                  <a:gdLst/>
                  <a:ahLst/>
                  <a:rect l="l" t="t" r="r" b="b"/>
                  <a:pathLst>
                    <a:path w="69" h="218">
                      <a:moveTo>
                        <a:pt x="10" y="18"/>
                      </a:moveTo>
                      <a:lnTo>
                        <a:pt x="14" y="27"/>
                      </a:lnTo>
                      <a:lnTo>
                        <a:pt x="18" y="33"/>
                      </a:lnTo>
                      <a:lnTo>
                        <a:pt x="21" y="39"/>
                      </a:lnTo>
                      <a:lnTo>
                        <a:pt x="26" y="45"/>
                      </a:lnTo>
                      <a:lnTo>
                        <a:pt x="29" y="45"/>
                      </a:lnTo>
                      <a:lnTo>
                        <a:pt x="33" y="43"/>
                      </a:lnTo>
                      <a:lnTo>
                        <a:pt x="39" y="38"/>
                      </a:lnTo>
                      <a:lnTo>
                        <a:pt x="44" y="31"/>
                      </a:lnTo>
                      <a:lnTo>
                        <a:pt x="50" y="23"/>
                      </a:lnTo>
                      <a:lnTo>
                        <a:pt x="57" y="15"/>
                      </a:lnTo>
                      <a:lnTo>
                        <a:pt x="63" y="7"/>
                      </a:lnTo>
                      <a:lnTo>
                        <a:pt x="69" y="0"/>
                      </a:lnTo>
                      <a:lnTo>
                        <a:pt x="67" y="20"/>
                      </a:lnTo>
                      <a:lnTo>
                        <a:pt x="65" y="36"/>
                      </a:lnTo>
                      <a:lnTo>
                        <a:pt x="63" y="50"/>
                      </a:lnTo>
                      <a:lnTo>
                        <a:pt x="61" y="61"/>
                      </a:lnTo>
                      <a:lnTo>
                        <a:pt x="58" y="72"/>
                      </a:lnTo>
                      <a:lnTo>
                        <a:pt x="56" y="82"/>
                      </a:lnTo>
                      <a:lnTo>
                        <a:pt x="55" y="92"/>
                      </a:lnTo>
                      <a:lnTo>
                        <a:pt x="54" y="105"/>
                      </a:lnTo>
                      <a:lnTo>
                        <a:pt x="55" y="107"/>
                      </a:lnTo>
                      <a:lnTo>
                        <a:pt x="56" y="103"/>
                      </a:lnTo>
                      <a:lnTo>
                        <a:pt x="58" y="95"/>
                      </a:lnTo>
                      <a:lnTo>
                        <a:pt x="61" y="85"/>
                      </a:lnTo>
                      <a:lnTo>
                        <a:pt x="63" y="76"/>
                      </a:lnTo>
                      <a:lnTo>
                        <a:pt x="65" y="69"/>
                      </a:lnTo>
                      <a:lnTo>
                        <a:pt x="66" y="67"/>
                      </a:lnTo>
                      <a:lnTo>
                        <a:pt x="66" y="73"/>
                      </a:lnTo>
                      <a:lnTo>
                        <a:pt x="66" y="85"/>
                      </a:lnTo>
                      <a:lnTo>
                        <a:pt x="66" y="102"/>
                      </a:lnTo>
                      <a:lnTo>
                        <a:pt x="66" y="121"/>
                      </a:lnTo>
                      <a:lnTo>
                        <a:pt x="65" y="142"/>
                      </a:lnTo>
                      <a:lnTo>
                        <a:pt x="65" y="163"/>
                      </a:lnTo>
                      <a:lnTo>
                        <a:pt x="65" y="182"/>
                      </a:lnTo>
                      <a:lnTo>
                        <a:pt x="66" y="200"/>
                      </a:lnTo>
                      <a:lnTo>
                        <a:pt x="66" y="213"/>
                      </a:lnTo>
                      <a:lnTo>
                        <a:pt x="62" y="215"/>
                      </a:lnTo>
                      <a:lnTo>
                        <a:pt x="56" y="216"/>
                      </a:lnTo>
                      <a:lnTo>
                        <a:pt x="50" y="217"/>
                      </a:lnTo>
                      <a:lnTo>
                        <a:pt x="44" y="218"/>
                      </a:lnTo>
                      <a:lnTo>
                        <a:pt x="43" y="208"/>
                      </a:lnTo>
                      <a:lnTo>
                        <a:pt x="43" y="197"/>
                      </a:lnTo>
                      <a:lnTo>
                        <a:pt x="42" y="186"/>
                      </a:lnTo>
                      <a:lnTo>
                        <a:pt x="41" y="176"/>
                      </a:lnTo>
                      <a:lnTo>
                        <a:pt x="40" y="164"/>
                      </a:lnTo>
                      <a:lnTo>
                        <a:pt x="39" y="152"/>
                      </a:lnTo>
                      <a:lnTo>
                        <a:pt x="36" y="141"/>
                      </a:lnTo>
                      <a:lnTo>
                        <a:pt x="35" y="129"/>
                      </a:lnTo>
                      <a:lnTo>
                        <a:pt x="29" y="133"/>
                      </a:lnTo>
                      <a:lnTo>
                        <a:pt x="22" y="135"/>
                      </a:lnTo>
                      <a:lnTo>
                        <a:pt x="15" y="137"/>
                      </a:lnTo>
                      <a:lnTo>
                        <a:pt x="9" y="141"/>
                      </a:lnTo>
                      <a:lnTo>
                        <a:pt x="7" y="127"/>
                      </a:lnTo>
                      <a:lnTo>
                        <a:pt x="7" y="113"/>
                      </a:lnTo>
                      <a:lnTo>
                        <a:pt x="7" y="98"/>
                      </a:lnTo>
                      <a:lnTo>
                        <a:pt x="9" y="84"/>
                      </a:lnTo>
                      <a:lnTo>
                        <a:pt x="7" y="72"/>
                      </a:lnTo>
                      <a:lnTo>
                        <a:pt x="7" y="59"/>
                      </a:lnTo>
                      <a:lnTo>
                        <a:pt x="4" y="48"/>
                      </a:lnTo>
                      <a:lnTo>
                        <a:pt x="0" y="40"/>
                      </a:lnTo>
                      <a:lnTo>
                        <a:pt x="3" y="35"/>
                      </a:lnTo>
                      <a:lnTo>
                        <a:pt x="4" y="29"/>
                      </a:lnTo>
                      <a:lnTo>
                        <a:pt x="6" y="24"/>
                      </a:lnTo>
                      <a:lnTo>
                        <a:pt x="10" y="1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5807160" y="6104520"/>
                  <a:ext cx="33480" cy="54360"/>
                </a:xfrm>
                <a:custGeom>
                  <a:avLst/>
                  <a:gdLst/>
                  <a:ahLst/>
                  <a:rect l="l" t="t" r="r" b="b"/>
                  <a:pathLst>
                    <a:path w="63" h="90">
                      <a:moveTo>
                        <a:pt x="35" y="90"/>
                      </a:moveTo>
                      <a:lnTo>
                        <a:pt x="37" y="75"/>
                      </a:lnTo>
                      <a:lnTo>
                        <a:pt x="35" y="68"/>
                      </a:lnTo>
                      <a:lnTo>
                        <a:pt x="31" y="63"/>
                      </a:lnTo>
                      <a:lnTo>
                        <a:pt x="29" y="57"/>
                      </a:lnTo>
                      <a:lnTo>
                        <a:pt x="32" y="53"/>
                      </a:lnTo>
                      <a:lnTo>
                        <a:pt x="35" y="49"/>
                      </a:lnTo>
                      <a:lnTo>
                        <a:pt x="35" y="44"/>
                      </a:lnTo>
                      <a:lnTo>
                        <a:pt x="33" y="36"/>
                      </a:lnTo>
                      <a:lnTo>
                        <a:pt x="26" y="29"/>
                      </a:lnTo>
                      <a:lnTo>
                        <a:pt x="18" y="21"/>
                      </a:lnTo>
                      <a:lnTo>
                        <a:pt x="10" y="12"/>
                      </a:lnTo>
                      <a:lnTo>
                        <a:pt x="0" y="7"/>
                      </a:lnTo>
                      <a:lnTo>
                        <a:pt x="2" y="2"/>
                      </a:lnTo>
                      <a:lnTo>
                        <a:pt x="9" y="0"/>
                      </a:lnTo>
                      <a:lnTo>
                        <a:pt x="20" y="0"/>
                      </a:lnTo>
                      <a:lnTo>
                        <a:pt x="32" y="0"/>
                      </a:lnTo>
                      <a:lnTo>
                        <a:pt x="40" y="14"/>
                      </a:lnTo>
                      <a:lnTo>
                        <a:pt x="48" y="24"/>
                      </a:lnTo>
                      <a:lnTo>
                        <a:pt x="54" y="31"/>
                      </a:lnTo>
                      <a:lnTo>
                        <a:pt x="59" y="38"/>
                      </a:lnTo>
                      <a:lnTo>
                        <a:pt x="61" y="44"/>
                      </a:lnTo>
                      <a:lnTo>
                        <a:pt x="63" y="52"/>
                      </a:lnTo>
                      <a:lnTo>
                        <a:pt x="63" y="62"/>
                      </a:lnTo>
                      <a:lnTo>
                        <a:pt x="62" y="76"/>
                      </a:lnTo>
                      <a:lnTo>
                        <a:pt x="57" y="83"/>
                      </a:lnTo>
                      <a:lnTo>
                        <a:pt x="52" y="86"/>
                      </a:lnTo>
                      <a:lnTo>
                        <a:pt x="46" y="88"/>
                      </a:lnTo>
                      <a:lnTo>
                        <a:pt x="35" y="9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6061320" y="5980320"/>
                  <a:ext cx="249120" cy="374040"/>
                </a:xfrm>
                <a:custGeom>
                  <a:avLst/>
                  <a:gdLst/>
                  <a:ahLst/>
                  <a:rect l="l" t="t" r="r" b="b"/>
                  <a:pathLst>
                    <a:path w="469" h="613">
                      <a:moveTo>
                        <a:pt x="246" y="0"/>
                      </a:moveTo>
                      <a:lnTo>
                        <a:pt x="249" y="0"/>
                      </a:lnTo>
                      <a:lnTo>
                        <a:pt x="253" y="0"/>
                      </a:lnTo>
                      <a:lnTo>
                        <a:pt x="256" y="0"/>
                      </a:lnTo>
                      <a:lnTo>
                        <a:pt x="259" y="0"/>
                      </a:lnTo>
                      <a:lnTo>
                        <a:pt x="261" y="0"/>
                      </a:lnTo>
                      <a:lnTo>
                        <a:pt x="263" y="0"/>
                      </a:lnTo>
                      <a:lnTo>
                        <a:pt x="265" y="2"/>
                      </a:lnTo>
                      <a:lnTo>
                        <a:pt x="267" y="2"/>
                      </a:lnTo>
                      <a:lnTo>
                        <a:pt x="269" y="3"/>
                      </a:lnTo>
                      <a:lnTo>
                        <a:pt x="270" y="3"/>
                      </a:lnTo>
                      <a:lnTo>
                        <a:pt x="271" y="4"/>
                      </a:lnTo>
                      <a:lnTo>
                        <a:pt x="272" y="5"/>
                      </a:lnTo>
                      <a:lnTo>
                        <a:pt x="274" y="6"/>
                      </a:lnTo>
                      <a:lnTo>
                        <a:pt x="275" y="7"/>
                      </a:lnTo>
                      <a:lnTo>
                        <a:pt x="275" y="9"/>
                      </a:lnTo>
                      <a:lnTo>
                        <a:pt x="276" y="10"/>
                      </a:lnTo>
                      <a:lnTo>
                        <a:pt x="276" y="11"/>
                      </a:lnTo>
                      <a:lnTo>
                        <a:pt x="277" y="13"/>
                      </a:lnTo>
                      <a:lnTo>
                        <a:pt x="277" y="14"/>
                      </a:lnTo>
                      <a:lnTo>
                        <a:pt x="277" y="15"/>
                      </a:lnTo>
                      <a:lnTo>
                        <a:pt x="278" y="18"/>
                      </a:lnTo>
                      <a:lnTo>
                        <a:pt x="278" y="19"/>
                      </a:lnTo>
                      <a:lnTo>
                        <a:pt x="278" y="20"/>
                      </a:lnTo>
                      <a:lnTo>
                        <a:pt x="279" y="22"/>
                      </a:lnTo>
                      <a:lnTo>
                        <a:pt x="279" y="24"/>
                      </a:lnTo>
                      <a:lnTo>
                        <a:pt x="281" y="25"/>
                      </a:lnTo>
                      <a:lnTo>
                        <a:pt x="281" y="27"/>
                      </a:lnTo>
                      <a:lnTo>
                        <a:pt x="282" y="28"/>
                      </a:lnTo>
                      <a:lnTo>
                        <a:pt x="282" y="30"/>
                      </a:lnTo>
                      <a:lnTo>
                        <a:pt x="283" y="32"/>
                      </a:lnTo>
                      <a:lnTo>
                        <a:pt x="284" y="33"/>
                      </a:lnTo>
                      <a:lnTo>
                        <a:pt x="285" y="34"/>
                      </a:lnTo>
                      <a:lnTo>
                        <a:pt x="279" y="37"/>
                      </a:lnTo>
                      <a:lnTo>
                        <a:pt x="275" y="41"/>
                      </a:lnTo>
                      <a:lnTo>
                        <a:pt x="269" y="44"/>
                      </a:lnTo>
                      <a:lnTo>
                        <a:pt x="264" y="48"/>
                      </a:lnTo>
                      <a:lnTo>
                        <a:pt x="259" y="52"/>
                      </a:lnTo>
                      <a:lnTo>
                        <a:pt x="253" y="56"/>
                      </a:lnTo>
                      <a:lnTo>
                        <a:pt x="248" y="60"/>
                      </a:lnTo>
                      <a:lnTo>
                        <a:pt x="242" y="65"/>
                      </a:lnTo>
                      <a:lnTo>
                        <a:pt x="237" y="70"/>
                      </a:lnTo>
                      <a:lnTo>
                        <a:pt x="231" y="76"/>
                      </a:lnTo>
                      <a:lnTo>
                        <a:pt x="226" y="80"/>
                      </a:lnTo>
                      <a:lnTo>
                        <a:pt x="220" y="85"/>
                      </a:lnTo>
                      <a:lnTo>
                        <a:pt x="215" y="91"/>
                      </a:lnTo>
                      <a:lnTo>
                        <a:pt x="210" y="96"/>
                      </a:lnTo>
                      <a:lnTo>
                        <a:pt x="204" y="101"/>
                      </a:lnTo>
                      <a:lnTo>
                        <a:pt x="198" y="107"/>
                      </a:lnTo>
                      <a:lnTo>
                        <a:pt x="194" y="112"/>
                      </a:lnTo>
                      <a:lnTo>
                        <a:pt x="188" y="117"/>
                      </a:lnTo>
                      <a:lnTo>
                        <a:pt x="183" y="123"/>
                      </a:lnTo>
                      <a:lnTo>
                        <a:pt x="178" y="129"/>
                      </a:lnTo>
                      <a:lnTo>
                        <a:pt x="173" y="134"/>
                      </a:lnTo>
                      <a:lnTo>
                        <a:pt x="168" y="139"/>
                      </a:lnTo>
                      <a:lnTo>
                        <a:pt x="163" y="145"/>
                      </a:lnTo>
                      <a:lnTo>
                        <a:pt x="158" y="151"/>
                      </a:lnTo>
                      <a:lnTo>
                        <a:pt x="153" y="155"/>
                      </a:lnTo>
                      <a:lnTo>
                        <a:pt x="149" y="160"/>
                      </a:lnTo>
                      <a:lnTo>
                        <a:pt x="144" y="166"/>
                      </a:lnTo>
                      <a:lnTo>
                        <a:pt x="140" y="170"/>
                      </a:lnTo>
                      <a:lnTo>
                        <a:pt x="135" y="175"/>
                      </a:lnTo>
                      <a:lnTo>
                        <a:pt x="130" y="179"/>
                      </a:lnTo>
                      <a:lnTo>
                        <a:pt x="127" y="183"/>
                      </a:lnTo>
                      <a:lnTo>
                        <a:pt x="122" y="188"/>
                      </a:lnTo>
                      <a:lnTo>
                        <a:pt x="100" y="188"/>
                      </a:lnTo>
                      <a:lnTo>
                        <a:pt x="99" y="190"/>
                      </a:lnTo>
                      <a:lnTo>
                        <a:pt x="99" y="191"/>
                      </a:lnTo>
                      <a:lnTo>
                        <a:pt x="99" y="193"/>
                      </a:lnTo>
                      <a:lnTo>
                        <a:pt x="99" y="194"/>
                      </a:lnTo>
                      <a:lnTo>
                        <a:pt x="99" y="196"/>
                      </a:lnTo>
                      <a:lnTo>
                        <a:pt x="99" y="197"/>
                      </a:lnTo>
                      <a:lnTo>
                        <a:pt x="99" y="198"/>
                      </a:lnTo>
                      <a:lnTo>
                        <a:pt x="99" y="199"/>
                      </a:lnTo>
                      <a:lnTo>
                        <a:pt x="98" y="199"/>
                      </a:lnTo>
                      <a:lnTo>
                        <a:pt x="98" y="200"/>
                      </a:lnTo>
                      <a:lnTo>
                        <a:pt x="98" y="201"/>
                      </a:lnTo>
                      <a:lnTo>
                        <a:pt x="98" y="203"/>
                      </a:lnTo>
                      <a:lnTo>
                        <a:pt x="98" y="204"/>
                      </a:lnTo>
                      <a:lnTo>
                        <a:pt x="98" y="205"/>
                      </a:lnTo>
                      <a:lnTo>
                        <a:pt x="98" y="206"/>
                      </a:lnTo>
                      <a:lnTo>
                        <a:pt x="98" y="207"/>
                      </a:lnTo>
                      <a:lnTo>
                        <a:pt x="98" y="208"/>
                      </a:lnTo>
                      <a:lnTo>
                        <a:pt x="98" y="210"/>
                      </a:lnTo>
                      <a:lnTo>
                        <a:pt x="98" y="211"/>
                      </a:lnTo>
                      <a:lnTo>
                        <a:pt x="98" y="212"/>
                      </a:lnTo>
                      <a:lnTo>
                        <a:pt x="98" y="214"/>
                      </a:lnTo>
                      <a:lnTo>
                        <a:pt x="98" y="216"/>
                      </a:lnTo>
                      <a:lnTo>
                        <a:pt x="98" y="219"/>
                      </a:lnTo>
                      <a:lnTo>
                        <a:pt x="98" y="221"/>
                      </a:lnTo>
                      <a:lnTo>
                        <a:pt x="98" y="223"/>
                      </a:lnTo>
                      <a:lnTo>
                        <a:pt x="97" y="227"/>
                      </a:lnTo>
                      <a:lnTo>
                        <a:pt x="94" y="229"/>
                      </a:lnTo>
                      <a:lnTo>
                        <a:pt x="92" y="233"/>
                      </a:lnTo>
                      <a:lnTo>
                        <a:pt x="90" y="237"/>
                      </a:lnTo>
                      <a:lnTo>
                        <a:pt x="88" y="241"/>
                      </a:lnTo>
                      <a:lnTo>
                        <a:pt x="86" y="245"/>
                      </a:lnTo>
                      <a:lnTo>
                        <a:pt x="84" y="250"/>
                      </a:lnTo>
                      <a:lnTo>
                        <a:pt x="82" y="255"/>
                      </a:lnTo>
                      <a:lnTo>
                        <a:pt x="79" y="259"/>
                      </a:lnTo>
                      <a:lnTo>
                        <a:pt x="77" y="264"/>
                      </a:lnTo>
                      <a:lnTo>
                        <a:pt x="75" y="270"/>
                      </a:lnTo>
                      <a:lnTo>
                        <a:pt x="73" y="274"/>
                      </a:lnTo>
                      <a:lnTo>
                        <a:pt x="70" y="280"/>
                      </a:lnTo>
                      <a:lnTo>
                        <a:pt x="68" y="285"/>
                      </a:lnTo>
                      <a:lnTo>
                        <a:pt x="66" y="290"/>
                      </a:lnTo>
                      <a:lnTo>
                        <a:pt x="63" y="296"/>
                      </a:lnTo>
                      <a:lnTo>
                        <a:pt x="61" y="301"/>
                      </a:lnTo>
                      <a:lnTo>
                        <a:pt x="59" y="307"/>
                      </a:lnTo>
                      <a:lnTo>
                        <a:pt x="57" y="312"/>
                      </a:lnTo>
                      <a:lnTo>
                        <a:pt x="55" y="317"/>
                      </a:lnTo>
                      <a:lnTo>
                        <a:pt x="53" y="323"/>
                      </a:lnTo>
                      <a:lnTo>
                        <a:pt x="52" y="327"/>
                      </a:lnTo>
                      <a:lnTo>
                        <a:pt x="51" y="333"/>
                      </a:lnTo>
                      <a:lnTo>
                        <a:pt x="48" y="338"/>
                      </a:lnTo>
                      <a:lnTo>
                        <a:pt x="47" y="342"/>
                      </a:lnTo>
                      <a:lnTo>
                        <a:pt x="46" y="347"/>
                      </a:lnTo>
                      <a:lnTo>
                        <a:pt x="45" y="350"/>
                      </a:lnTo>
                      <a:lnTo>
                        <a:pt x="44" y="355"/>
                      </a:lnTo>
                      <a:lnTo>
                        <a:pt x="42" y="359"/>
                      </a:lnTo>
                      <a:lnTo>
                        <a:pt x="42" y="362"/>
                      </a:lnTo>
                      <a:lnTo>
                        <a:pt x="41" y="364"/>
                      </a:lnTo>
                      <a:lnTo>
                        <a:pt x="41" y="368"/>
                      </a:lnTo>
                      <a:lnTo>
                        <a:pt x="41" y="359"/>
                      </a:lnTo>
                      <a:lnTo>
                        <a:pt x="41" y="350"/>
                      </a:lnTo>
                      <a:lnTo>
                        <a:pt x="41" y="342"/>
                      </a:lnTo>
                      <a:lnTo>
                        <a:pt x="41" y="335"/>
                      </a:lnTo>
                      <a:lnTo>
                        <a:pt x="41" y="328"/>
                      </a:lnTo>
                      <a:lnTo>
                        <a:pt x="41" y="322"/>
                      </a:lnTo>
                      <a:lnTo>
                        <a:pt x="41" y="315"/>
                      </a:lnTo>
                      <a:lnTo>
                        <a:pt x="42" y="309"/>
                      </a:lnTo>
                      <a:lnTo>
                        <a:pt x="42" y="303"/>
                      </a:lnTo>
                      <a:lnTo>
                        <a:pt x="42" y="297"/>
                      </a:lnTo>
                      <a:lnTo>
                        <a:pt x="44" y="293"/>
                      </a:lnTo>
                      <a:lnTo>
                        <a:pt x="44" y="287"/>
                      </a:lnTo>
                      <a:lnTo>
                        <a:pt x="45" y="282"/>
                      </a:lnTo>
                      <a:lnTo>
                        <a:pt x="45" y="278"/>
                      </a:lnTo>
                      <a:lnTo>
                        <a:pt x="46" y="273"/>
                      </a:lnTo>
                      <a:lnTo>
                        <a:pt x="46" y="268"/>
                      </a:lnTo>
                      <a:lnTo>
                        <a:pt x="47" y="265"/>
                      </a:lnTo>
                      <a:lnTo>
                        <a:pt x="48" y="260"/>
                      </a:lnTo>
                      <a:lnTo>
                        <a:pt x="49" y="257"/>
                      </a:lnTo>
                      <a:lnTo>
                        <a:pt x="51" y="252"/>
                      </a:lnTo>
                      <a:lnTo>
                        <a:pt x="52" y="249"/>
                      </a:lnTo>
                      <a:lnTo>
                        <a:pt x="53" y="244"/>
                      </a:lnTo>
                      <a:lnTo>
                        <a:pt x="54" y="241"/>
                      </a:lnTo>
                      <a:lnTo>
                        <a:pt x="55" y="237"/>
                      </a:lnTo>
                      <a:lnTo>
                        <a:pt x="56" y="233"/>
                      </a:lnTo>
                      <a:lnTo>
                        <a:pt x="57" y="229"/>
                      </a:lnTo>
                      <a:lnTo>
                        <a:pt x="60" y="225"/>
                      </a:lnTo>
                      <a:lnTo>
                        <a:pt x="61" y="221"/>
                      </a:lnTo>
                      <a:lnTo>
                        <a:pt x="62" y="216"/>
                      </a:lnTo>
                      <a:lnTo>
                        <a:pt x="64" y="212"/>
                      </a:lnTo>
                      <a:lnTo>
                        <a:pt x="67" y="208"/>
                      </a:lnTo>
                      <a:lnTo>
                        <a:pt x="68" y="204"/>
                      </a:lnTo>
                      <a:lnTo>
                        <a:pt x="70" y="198"/>
                      </a:lnTo>
                      <a:lnTo>
                        <a:pt x="73" y="193"/>
                      </a:lnTo>
                      <a:lnTo>
                        <a:pt x="75" y="189"/>
                      </a:lnTo>
                      <a:lnTo>
                        <a:pt x="77" y="184"/>
                      </a:lnTo>
                      <a:lnTo>
                        <a:pt x="79" y="179"/>
                      </a:lnTo>
                      <a:lnTo>
                        <a:pt x="83" y="175"/>
                      </a:lnTo>
                      <a:lnTo>
                        <a:pt x="85" y="171"/>
                      </a:lnTo>
                      <a:lnTo>
                        <a:pt x="88" y="167"/>
                      </a:lnTo>
                      <a:lnTo>
                        <a:pt x="90" y="163"/>
                      </a:lnTo>
                      <a:lnTo>
                        <a:pt x="92" y="160"/>
                      </a:lnTo>
                      <a:lnTo>
                        <a:pt x="94" y="156"/>
                      </a:lnTo>
                      <a:lnTo>
                        <a:pt x="97" y="153"/>
                      </a:lnTo>
                      <a:lnTo>
                        <a:pt x="99" y="149"/>
                      </a:lnTo>
                      <a:lnTo>
                        <a:pt x="101" y="147"/>
                      </a:lnTo>
                      <a:lnTo>
                        <a:pt x="104" y="144"/>
                      </a:lnTo>
                      <a:lnTo>
                        <a:pt x="106" y="141"/>
                      </a:lnTo>
                      <a:lnTo>
                        <a:pt x="108" y="138"/>
                      </a:lnTo>
                      <a:lnTo>
                        <a:pt x="111" y="136"/>
                      </a:lnTo>
                      <a:lnTo>
                        <a:pt x="113" y="133"/>
                      </a:lnTo>
                      <a:lnTo>
                        <a:pt x="114" y="131"/>
                      </a:lnTo>
                      <a:lnTo>
                        <a:pt x="116" y="129"/>
                      </a:lnTo>
                      <a:lnTo>
                        <a:pt x="119" y="126"/>
                      </a:lnTo>
                      <a:lnTo>
                        <a:pt x="120" y="124"/>
                      </a:lnTo>
                      <a:lnTo>
                        <a:pt x="122" y="123"/>
                      </a:lnTo>
                      <a:lnTo>
                        <a:pt x="125" y="121"/>
                      </a:lnTo>
                      <a:lnTo>
                        <a:pt x="126" y="119"/>
                      </a:lnTo>
                      <a:lnTo>
                        <a:pt x="127" y="117"/>
                      </a:lnTo>
                      <a:lnTo>
                        <a:pt x="129" y="116"/>
                      </a:lnTo>
                      <a:lnTo>
                        <a:pt x="130" y="115"/>
                      </a:lnTo>
                      <a:lnTo>
                        <a:pt x="131" y="112"/>
                      </a:lnTo>
                      <a:lnTo>
                        <a:pt x="133" y="111"/>
                      </a:lnTo>
                      <a:lnTo>
                        <a:pt x="134" y="110"/>
                      </a:lnTo>
                      <a:lnTo>
                        <a:pt x="136" y="107"/>
                      </a:lnTo>
                      <a:lnTo>
                        <a:pt x="140" y="103"/>
                      </a:lnTo>
                      <a:lnTo>
                        <a:pt x="142" y="99"/>
                      </a:lnTo>
                      <a:lnTo>
                        <a:pt x="145" y="95"/>
                      </a:lnTo>
                      <a:lnTo>
                        <a:pt x="149" y="92"/>
                      </a:lnTo>
                      <a:lnTo>
                        <a:pt x="152" y="87"/>
                      </a:lnTo>
                      <a:lnTo>
                        <a:pt x="156" y="84"/>
                      </a:lnTo>
                      <a:lnTo>
                        <a:pt x="159" y="79"/>
                      </a:lnTo>
                      <a:lnTo>
                        <a:pt x="163" y="74"/>
                      </a:lnTo>
                      <a:lnTo>
                        <a:pt x="166" y="71"/>
                      </a:lnTo>
                      <a:lnTo>
                        <a:pt x="170" y="66"/>
                      </a:lnTo>
                      <a:lnTo>
                        <a:pt x="174" y="63"/>
                      </a:lnTo>
                      <a:lnTo>
                        <a:pt x="178" y="58"/>
                      </a:lnTo>
                      <a:lnTo>
                        <a:pt x="181" y="55"/>
                      </a:lnTo>
                      <a:lnTo>
                        <a:pt x="186" y="50"/>
                      </a:lnTo>
                      <a:lnTo>
                        <a:pt x="189" y="47"/>
                      </a:lnTo>
                      <a:lnTo>
                        <a:pt x="193" y="43"/>
                      </a:lnTo>
                      <a:lnTo>
                        <a:pt x="197" y="39"/>
                      </a:lnTo>
                      <a:lnTo>
                        <a:pt x="201" y="35"/>
                      </a:lnTo>
                      <a:lnTo>
                        <a:pt x="204" y="32"/>
                      </a:lnTo>
                      <a:lnTo>
                        <a:pt x="209" y="28"/>
                      </a:lnTo>
                      <a:lnTo>
                        <a:pt x="212" y="25"/>
                      </a:lnTo>
                      <a:lnTo>
                        <a:pt x="216" y="21"/>
                      </a:lnTo>
                      <a:lnTo>
                        <a:pt x="219" y="19"/>
                      </a:lnTo>
                      <a:lnTo>
                        <a:pt x="223" y="15"/>
                      </a:lnTo>
                      <a:lnTo>
                        <a:pt x="227" y="13"/>
                      </a:lnTo>
                      <a:lnTo>
                        <a:pt x="230" y="11"/>
                      </a:lnTo>
                      <a:lnTo>
                        <a:pt x="233" y="9"/>
                      </a:lnTo>
                      <a:lnTo>
                        <a:pt x="237" y="6"/>
                      </a:lnTo>
                      <a:lnTo>
                        <a:pt x="240" y="4"/>
                      </a:lnTo>
                      <a:lnTo>
                        <a:pt x="242" y="2"/>
                      </a:lnTo>
                      <a:lnTo>
                        <a:pt x="246" y="0"/>
                      </a:lnTo>
                      <a:close/>
                      <a:moveTo>
                        <a:pt x="291" y="37"/>
                      </a:moveTo>
                      <a:lnTo>
                        <a:pt x="285" y="40"/>
                      </a:lnTo>
                      <a:lnTo>
                        <a:pt x="279" y="42"/>
                      </a:lnTo>
                      <a:lnTo>
                        <a:pt x="274" y="44"/>
                      </a:lnTo>
                      <a:lnTo>
                        <a:pt x="268" y="48"/>
                      </a:lnTo>
                      <a:lnTo>
                        <a:pt x="263" y="51"/>
                      </a:lnTo>
                      <a:lnTo>
                        <a:pt x="257" y="56"/>
                      </a:lnTo>
                      <a:lnTo>
                        <a:pt x="252" y="60"/>
                      </a:lnTo>
                      <a:lnTo>
                        <a:pt x="246" y="64"/>
                      </a:lnTo>
                      <a:lnTo>
                        <a:pt x="241" y="70"/>
                      </a:lnTo>
                      <a:lnTo>
                        <a:pt x="235" y="74"/>
                      </a:lnTo>
                      <a:lnTo>
                        <a:pt x="230" y="79"/>
                      </a:lnTo>
                      <a:lnTo>
                        <a:pt x="225" y="85"/>
                      </a:lnTo>
                      <a:lnTo>
                        <a:pt x="219" y="91"/>
                      </a:lnTo>
                      <a:lnTo>
                        <a:pt x="213" y="96"/>
                      </a:lnTo>
                      <a:lnTo>
                        <a:pt x="209" y="102"/>
                      </a:lnTo>
                      <a:lnTo>
                        <a:pt x="203" y="108"/>
                      </a:lnTo>
                      <a:lnTo>
                        <a:pt x="198" y="114"/>
                      </a:lnTo>
                      <a:lnTo>
                        <a:pt x="193" y="119"/>
                      </a:lnTo>
                      <a:lnTo>
                        <a:pt x="187" y="125"/>
                      </a:lnTo>
                      <a:lnTo>
                        <a:pt x="182" y="131"/>
                      </a:lnTo>
                      <a:lnTo>
                        <a:pt x="177" y="137"/>
                      </a:lnTo>
                      <a:lnTo>
                        <a:pt x="172" y="143"/>
                      </a:lnTo>
                      <a:lnTo>
                        <a:pt x="166" y="148"/>
                      </a:lnTo>
                      <a:lnTo>
                        <a:pt x="161" y="154"/>
                      </a:lnTo>
                      <a:lnTo>
                        <a:pt x="157" y="160"/>
                      </a:lnTo>
                      <a:lnTo>
                        <a:pt x="151" y="164"/>
                      </a:lnTo>
                      <a:lnTo>
                        <a:pt x="146" y="169"/>
                      </a:lnTo>
                      <a:lnTo>
                        <a:pt x="141" y="175"/>
                      </a:lnTo>
                      <a:lnTo>
                        <a:pt x="136" y="179"/>
                      </a:lnTo>
                      <a:lnTo>
                        <a:pt x="131" y="183"/>
                      </a:lnTo>
                      <a:lnTo>
                        <a:pt x="126" y="188"/>
                      </a:lnTo>
                      <a:lnTo>
                        <a:pt x="121" y="191"/>
                      </a:lnTo>
                      <a:lnTo>
                        <a:pt x="101" y="205"/>
                      </a:lnTo>
                      <a:lnTo>
                        <a:pt x="101" y="206"/>
                      </a:lnTo>
                      <a:lnTo>
                        <a:pt x="101" y="207"/>
                      </a:lnTo>
                      <a:lnTo>
                        <a:pt x="101" y="208"/>
                      </a:lnTo>
                      <a:lnTo>
                        <a:pt x="101" y="210"/>
                      </a:lnTo>
                      <a:lnTo>
                        <a:pt x="101" y="211"/>
                      </a:lnTo>
                      <a:lnTo>
                        <a:pt x="101" y="212"/>
                      </a:lnTo>
                      <a:lnTo>
                        <a:pt x="101" y="213"/>
                      </a:lnTo>
                      <a:lnTo>
                        <a:pt x="103" y="214"/>
                      </a:lnTo>
                      <a:lnTo>
                        <a:pt x="103" y="215"/>
                      </a:lnTo>
                      <a:lnTo>
                        <a:pt x="103" y="216"/>
                      </a:lnTo>
                      <a:lnTo>
                        <a:pt x="103" y="218"/>
                      </a:lnTo>
                      <a:lnTo>
                        <a:pt x="103" y="219"/>
                      </a:lnTo>
                      <a:lnTo>
                        <a:pt x="103" y="220"/>
                      </a:lnTo>
                      <a:lnTo>
                        <a:pt x="104" y="221"/>
                      </a:lnTo>
                      <a:lnTo>
                        <a:pt x="104" y="223"/>
                      </a:lnTo>
                      <a:lnTo>
                        <a:pt x="104" y="225"/>
                      </a:lnTo>
                      <a:lnTo>
                        <a:pt x="104" y="226"/>
                      </a:lnTo>
                      <a:lnTo>
                        <a:pt x="104" y="227"/>
                      </a:lnTo>
                      <a:lnTo>
                        <a:pt x="104" y="228"/>
                      </a:lnTo>
                      <a:lnTo>
                        <a:pt x="105" y="229"/>
                      </a:lnTo>
                      <a:lnTo>
                        <a:pt x="105" y="230"/>
                      </a:lnTo>
                      <a:lnTo>
                        <a:pt x="105" y="231"/>
                      </a:lnTo>
                      <a:lnTo>
                        <a:pt x="105" y="233"/>
                      </a:lnTo>
                      <a:lnTo>
                        <a:pt x="105" y="234"/>
                      </a:lnTo>
                      <a:lnTo>
                        <a:pt x="105" y="235"/>
                      </a:lnTo>
                      <a:lnTo>
                        <a:pt x="105" y="236"/>
                      </a:lnTo>
                      <a:lnTo>
                        <a:pt x="105" y="237"/>
                      </a:lnTo>
                      <a:lnTo>
                        <a:pt x="106" y="238"/>
                      </a:lnTo>
                      <a:lnTo>
                        <a:pt x="106" y="240"/>
                      </a:lnTo>
                      <a:lnTo>
                        <a:pt x="106" y="241"/>
                      </a:lnTo>
                      <a:lnTo>
                        <a:pt x="105" y="242"/>
                      </a:lnTo>
                      <a:lnTo>
                        <a:pt x="105" y="243"/>
                      </a:lnTo>
                      <a:lnTo>
                        <a:pt x="104" y="243"/>
                      </a:lnTo>
                      <a:lnTo>
                        <a:pt x="104" y="244"/>
                      </a:lnTo>
                      <a:lnTo>
                        <a:pt x="103" y="244"/>
                      </a:lnTo>
                      <a:lnTo>
                        <a:pt x="103" y="245"/>
                      </a:lnTo>
                      <a:lnTo>
                        <a:pt x="101" y="245"/>
                      </a:lnTo>
                      <a:lnTo>
                        <a:pt x="101" y="246"/>
                      </a:lnTo>
                      <a:lnTo>
                        <a:pt x="100" y="248"/>
                      </a:lnTo>
                      <a:lnTo>
                        <a:pt x="99" y="249"/>
                      </a:lnTo>
                      <a:lnTo>
                        <a:pt x="99" y="250"/>
                      </a:lnTo>
                      <a:lnTo>
                        <a:pt x="98" y="250"/>
                      </a:lnTo>
                      <a:lnTo>
                        <a:pt x="98" y="251"/>
                      </a:lnTo>
                      <a:lnTo>
                        <a:pt x="97" y="251"/>
                      </a:lnTo>
                      <a:lnTo>
                        <a:pt x="97" y="252"/>
                      </a:lnTo>
                      <a:lnTo>
                        <a:pt x="96" y="253"/>
                      </a:lnTo>
                      <a:lnTo>
                        <a:pt x="96" y="255"/>
                      </a:lnTo>
                      <a:lnTo>
                        <a:pt x="94" y="255"/>
                      </a:lnTo>
                      <a:lnTo>
                        <a:pt x="94" y="256"/>
                      </a:lnTo>
                      <a:lnTo>
                        <a:pt x="93" y="257"/>
                      </a:lnTo>
                      <a:lnTo>
                        <a:pt x="92" y="258"/>
                      </a:lnTo>
                      <a:lnTo>
                        <a:pt x="92" y="259"/>
                      </a:lnTo>
                      <a:lnTo>
                        <a:pt x="91" y="259"/>
                      </a:lnTo>
                      <a:lnTo>
                        <a:pt x="91" y="260"/>
                      </a:lnTo>
                      <a:lnTo>
                        <a:pt x="90" y="260"/>
                      </a:lnTo>
                      <a:lnTo>
                        <a:pt x="90" y="261"/>
                      </a:lnTo>
                      <a:lnTo>
                        <a:pt x="145" y="264"/>
                      </a:lnTo>
                      <a:lnTo>
                        <a:pt x="86" y="267"/>
                      </a:lnTo>
                      <a:lnTo>
                        <a:pt x="86" y="268"/>
                      </a:lnTo>
                      <a:lnTo>
                        <a:pt x="85" y="270"/>
                      </a:lnTo>
                      <a:lnTo>
                        <a:pt x="84" y="271"/>
                      </a:lnTo>
                      <a:lnTo>
                        <a:pt x="84" y="272"/>
                      </a:lnTo>
                      <a:lnTo>
                        <a:pt x="83" y="273"/>
                      </a:lnTo>
                      <a:lnTo>
                        <a:pt x="83" y="274"/>
                      </a:lnTo>
                      <a:lnTo>
                        <a:pt x="82" y="275"/>
                      </a:lnTo>
                      <a:lnTo>
                        <a:pt x="81" y="277"/>
                      </a:lnTo>
                      <a:lnTo>
                        <a:pt x="81" y="278"/>
                      </a:lnTo>
                      <a:lnTo>
                        <a:pt x="79" y="279"/>
                      </a:lnTo>
                      <a:lnTo>
                        <a:pt x="79" y="280"/>
                      </a:lnTo>
                      <a:lnTo>
                        <a:pt x="78" y="281"/>
                      </a:lnTo>
                      <a:lnTo>
                        <a:pt x="78" y="282"/>
                      </a:lnTo>
                      <a:lnTo>
                        <a:pt x="77" y="283"/>
                      </a:lnTo>
                      <a:lnTo>
                        <a:pt x="76" y="285"/>
                      </a:lnTo>
                      <a:lnTo>
                        <a:pt x="76" y="286"/>
                      </a:lnTo>
                      <a:lnTo>
                        <a:pt x="75" y="287"/>
                      </a:lnTo>
                      <a:lnTo>
                        <a:pt x="75" y="288"/>
                      </a:lnTo>
                      <a:lnTo>
                        <a:pt x="74" y="289"/>
                      </a:lnTo>
                      <a:lnTo>
                        <a:pt x="73" y="290"/>
                      </a:lnTo>
                      <a:lnTo>
                        <a:pt x="73" y="292"/>
                      </a:lnTo>
                      <a:lnTo>
                        <a:pt x="71" y="292"/>
                      </a:lnTo>
                      <a:lnTo>
                        <a:pt x="71" y="293"/>
                      </a:lnTo>
                      <a:lnTo>
                        <a:pt x="128" y="297"/>
                      </a:lnTo>
                      <a:lnTo>
                        <a:pt x="69" y="297"/>
                      </a:lnTo>
                      <a:lnTo>
                        <a:pt x="69" y="298"/>
                      </a:lnTo>
                      <a:lnTo>
                        <a:pt x="68" y="301"/>
                      </a:lnTo>
                      <a:lnTo>
                        <a:pt x="67" y="303"/>
                      </a:lnTo>
                      <a:lnTo>
                        <a:pt x="66" y="304"/>
                      </a:lnTo>
                      <a:lnTo>
                        <a:pt x="64" y="307"/>
                      </a:lnTo>
                      <a:lnTo>
                        <a:pt x="64" y="309"/>
                      </a:lnTo>
                      <a:lnTo>
                        <a:pt x="63" y="311"/>
                      </a:lnTo>
                      <a:lnTo>
                        <a:pt x="62" y="313"/>
                      </a:lnTo>
                      <a:lnTo>
                        <a:pt x="61" y="315"/>
                      </a:lnTo>
                      <a:lnTo>
                        <a:pt x="60" y="317"/>
                      </a:lnTo>
                      <a:lnTo>
                        <a:pt x="59" y="319"/>
                      </a:lnTo>
                      <a:lnTo>
                        <a:pt x="57" y="322"/>
                      </a:lnTo>
                      <a:lnTo>
                        <a:pt x="56" y="324"/>
                      </a:lnTo>
                      <a:lnTo>
                        <a:pt x="55" y="326"/>
                      </a:lnTo>
                      <a:lnTo>
                        <a:pt x="55" y="328"/>
                      </a:lnTo>
                      <a:lnTo>
                        <a:pt x="54" y="331"/>
                      </a:lnTo>
                      <a:lnTo>
                        <a:pt x="53" y="333"/>
                      </a:lnTo>
                      <a:lnTo>
                        <a:pt x="52" y="335"/>
                      </a:lnTo>
                      <a:lnTo>
                        <a:pt x="51" y="338"/>
                      </a:lnTo>
                      <a:lnTo>
                        <a:pt x="49" y="340"/>
                      </a:lnTo>
                      <a:lnTo>
                        <a:pt x="48" y="342"/>
                      </a:lnTo>
                      <a:lnTo>
                        <a:pt x="48" y="345"/>
                      </a:lnTo>
                      <a:lnTo>
                        <a:pt x="47" y="347"/>
                      </a:lnTo>
                      <a:lnTo>
                        <a:pt x="46" y="349"/>
                      </a:lnTo>
                      <a:lnTo>
                        <a:pt x="46" y="352"/>
                      </a:lnTo>
                      <a:lnTo>
                        <a:pt x="45" y="354"/>
                      </a:lnTo>
                      <a:lnTo>
                        <a:pt x="44" y="356"/>
                      </a:lnTo>
                      <a:lnTo>
                        <a:pt x="44" y="359"/>
                      </a:lnTo>
                      <a:lnTo>
                        <a:pt x="42" y="361"/>
                      </a:lnTo>
                      <a:lnTo>
                        <a:pt x="42" y="363"/>
                      </a:lnTo>
                      <a:lnTo>
                        <a:pt x="41" y="365"/>
                      </a:lnTo>
                      <a:lnTo>
                        <a:pt x="41" y="367"/>
                      </a:lnTo>
                      <a:lnTo>
                        <a:pt x="41" y="368"/>
                      </a:lnTo>
                      <a:lnTo>
                        <a:pt x="41" y="369"/>
                      </a:lnTo>
                      <a:lnTo>
                        <a:pt x="41" y="370"/>
                      </a:lnTo>
                      <a:lnTo>
                        <a:pt x="41" y="371"/>
                      </a:lnTo>
                      <a:lnTo>
                        <a:pt x="41" y="372"/>
                      </a:lnTo>
                      <a:lnTo>
                        <a:pt x="41" y="374"/>
                      </a:lnTo>
                      <a:lnTo>
                        <a:pt x="41" y="375"/>
                      </a:lnTo>
                      <a:lnTo>
                        <a:pt x="41" y="376"/>
                      </a:lnTo>
                      <a:lnTo>
                        <a:pt x="41" y="377"/>
                      </a:lnTo>
                      <a:lnTo>
                        <a:pt x="41" y="378"/>
                      </a:lnTo>
                      <a:lnTo>
                        <a:pt x="41" y="379"/>
                      </a:lnTo>
                      <a:lnTo>
                        <a:pt x="41" y="380"/>
                      </a:lnTo>
                      <a:lnTo>
                        <a:pt x="41" y="382"/>
                      </a:lnTo>
                      <a:lnTo>
                        <a:pt x="41" y="383"/>
                      </a:lnTo>
                      <a:lnTo>
                        <a:pt x="41" y="384"/>
                      </a:lnTo>
                      <a:lnTo>
                        <a:pt x="41" y="385"/>
                      </a:lnTo>
                      <a:lnTo>
                        <a:pt x="41" y="386"/>
                      </a:lnTo>
                      <a:lnTo>
                        <a:pt x="41" y="387"/>
                      </a:lnTo>
                      <a:lnTo>
                        <a:pt x="41" y="389"/>
                      </a:lnTo>
                      <a:lnTo>
                        <a:pt x="41" y="390"/>
                      </a:lnTo>
                      <a:lnTo>
                        <a:pt x="41" y="391"/>
                      </a:lnTo>
                      <a:lnTo>
                        <a:pt x="41" y="392"/>
                      </a:lnTo>
                      <a:lnTo>
                        <a:pt x="41" y="393"/>
                      </a:lnTo>
                      <a:lnTo>
                        <a:pt x="41" y="395"/>
                      </a:lnTo>
                      <a:lnTo>
                        <a:pt x="41" y="397"/>
                      </a:lnTo>
                      <a:lnTo>
                        <a:pt x="41" y="398"/>
                      </a:lnTo>
                      <a:lnTo>
                        <a:pt x="41" y="400"/>
                      </a:lnTo>
                      <a:lnTo>
                        <a:pt x="41" y="401"/>
                      </a:lnTo>
                      <a:lnTo>
                        <a:pt x="41" y="402"/>
                      </a:lnTo>
                      <a:lnTo>
                        <a:pt x="41" y="405"/>
                      </a:lnTo>
                      <a:lnTo>
                        <a:pt x="77" y="424"/>
                      </a:lnTo>
                      <a:lnTo>
                        <a:pt x="83" y="424"/>
                      </a:lnTo>
                      <a:lnTo>
                        <a:pt x="89" y="423"/>
                      </a:lnTo>
                      <a:lnTo>
                        <a:pt x="94" y="421"/>
                      </a:lnTo>
                      <a:lnTo>
                        <a:pt x="100" y="419"/>
                      </a:lnTo>
                      <a:lnTo>
                        <a:pt x="105" y="415"/>
                      </a:lnTo>
                      <a:lnTo>
                        <a:pt x="109" y="412"/>
                      </a:lnTo>
                      <a:lnTo>
                        <a:pt x="114" y="407"/>
                      </a:lnTo>
                      <a:lnTo>
                        <a:pt x="119" y="401"/>
                      </a:lnTo>
                      <a:lnTo>
                        <a:pt x="122" y="395"/>
                      </a:lnTo>
                      <a:lnTo>
                        <a:pt x="126" y="389"/>
                      </a:lnTo>
                      <a:lnTo>
                        <a:pt x="130" y="382"/>
                      </a:lnTo>
                      <a:lnTo>
                        <a:pt x="134" y="375"/>
                      </a:lnTo>
                      <a:lnTo>
                        <a:pt x="136" y="367"/>
                      </a:lnTo>
                      <a:lnTo>
                        <a:pt x="140" y="359"/>
                      </a:lnTo>
                      <a:lnTo>
                        <a:pt x="143" y="350"/>
                      </a:lnTo>
                      <a:lnTo>
                        <a:pt x="145" y="342"/>
                      </a:lnTo>
                      <a:lnTo>
                        <a:pt x="149" y="334"/>
                      </a:lnTo>
                      <a:lnTo>
                        <a:pt x="151" y="325"/>
                      </a:lnTo>
                      <a:lnTo>
                        <a:pt x="153" y="316"/>
                      </a:lnTo>
                      <a:lnTo>
                        <a:pt x="157" y="308"/>
                      </a:lnTo>
                      <a:lnTo>
                        <a:pt x="159" y="298"/>
                      </a:lnTo>
                      <a:lnTo>
                        <a:pt x="161" y="290"/>
                      </a:lnTo>
                      <a:lnTo>
                        <a:pt x="164" y="281"/>
                      </a:lnTo>
                      <a:lnTo>
                        <a:pt x="166" y="273"/>
                      </a:lnTo>
                      <a:lnTo>
                        <a:pt x="168" y="265"/>
                      </a:lnTo>
                      <a:lnTo>
                        <a:pt x="172" y="257"/>
                      </a:lnTo>
                      <a:lnTo>
                        <a:pt x="174" y="250"/>
                      </a:lnTo>
                      <a:lnTo>
                        <a:pt x="177" y="243"/>
                      </a:lnTo>
                      <a:lnTo>
                        <a:pt x="180" y="236"/>
                      </a:lnTo>
                      <a:lnTo>
                        <a:pt x="182" y="230"/>
                      </a:lnTo>
                      <a:lnTo>
                        <a:pt x="185" y="225"/>
                      </a:lnTo>
                      <a:lnTo>
                        <a:pt x="188" y="219"/>
                      </a:lnTo>
                      <a:lnTo>
                        <a:pt x="187" y="225"/>
                      </a:lnTo>
                      <a:lnTo>
                        <a:pt x="187" y="229"/>
                      </a:lnTo>
                      <a:lnTo>
                        <a:pt x="186" y="234"/>
                      </a:lnTo>
                      <a:lnTo>
                        <a:pt x="185" y="238"/>
                      </a:lnTo>
                      <a:lnTo>
                        <a:pt x="185" y="244"/>
                      </a:lnTo>
                      <a:lnTo>
                        <a:pt x="183" y="249"/>
                      </a:lnTo>
                      <a:lnTo>
                        <a:pt x="183" y="253"/>
                      </a:lnTo>
                      <a:lnTo>
                        <a:pt x="183" y="258"/>
                      </a:lnTo>
                      <a:lnTo>
                        <a:pt x="182" y="264"/>
                      </a:lnTo>
                      <a:lnTo>
                        <a:pt x="182" y="268"/>
                      </a:lnTo>
                      <a:lnTo>
                        <a:pt x="182" y="273"/>
                      </a:lnTo>
                      <a:lnTo>
                        <a:pt x="182" y="278"/>
                      </a:lnTo>
                      <a:lnTo>
                        <a:pt x="182" y="282"/>
                      </a:lnTo>
                      <a:lnTo>
                        <a:pt x="182" y="287"/>
                      </a:lnTo>
                      <a:lnTo>
                        <a:pt x="182" y="292"/>
                      </a:lnTo>
                      <a:lnTo>
                        <a:pt x="183" y="296"/>
                      </a:lnTo>
                      <a:lnTo>
                        <a:pt x="183" y="301"/>
                      </a:lnTo>
                      <a:lnTo>
                        <a:pt x="185" y="304"/>
                      </a:lnTo>
                      <a:lnTo>
                        <a:pt x="186" y="309"/>
                      </a:lnTo>
                      <a:lnTo>
                        <a:pt x="187" y="312"/>
                      </a:lnTo>
                      <a:lnTo>
                        <a:pt x="188" y="317"/>
                      </a:lnTo>
                      <a:lnTo>
                        <a:pt x="189" y="320"/>
                      </a:lnTo>
                      <a:lnTo>
                        <a:pt x="192" y="324"/>
                      </a:lnTo>
                      <a:lnTo>
                        <a:pt x="193" y="327"/>
                      </a:lnTo>
                      <a:lnTo>
                        <a:pt x="195" y="331"/>
                      </a:lnTo>
                      <a:lnTo>
                        <a:pt x="197" y="334"/>
                      </a:lnTo>
                      <a:lnTo>
                        <a:pt x="200" y="337"/>
                      </a:lnTo>
                      <a:lnTo>
                        <a:pt x="203" y="340"/>
                      </a:lnTo>
                      <a:lnTo>
                        <a:pt x="205" y="342"/>
                      </a:lnTo>
                      <a:lnTo>
                        <a:pt x="209" y="345"/>
                      </a:lnTo>
                      <a:lnTo>
                        <a:pt x="212" y="347"/>
                      </a:lnTo>
                      <a:lnTo>
                        <a:pt x="217" y="349"/>
                      </a:lnTo>
                      <a:lnTo>
                        <a:pt x="225" y="360"/>
                      </a:lnTo>
                      <a:lnTo>
                        <a:pt x="227" y="360"/>
                      </a:lnTo>
                      <a:lnTo>
                        <a:pt x="230" y="360"/>
                      </a:lnTo>
                      <a:lnTo>
                        <a:pt x="232" y="360"/>
                      </a:lnTo>
                      <a:lnTo>
                        <a:pt x="233" y="360"/>
                      </a:lnTo>
                      <a:lnTo>
                        <a:pt x="235" y="360"/>
                      </a:lnTo>
                      <a:lnTo>
                        <a:pt x="238" y="361"/>
                      </a:lnTo>
                      <a:lnTo>
                        <a:pt x="240" y="361"/>
                      </a:lnTo>
                      <a:lnTo>
                        <a:pt x="242" y="361"/>
                      </a:lnTo>
                      <a:lnTo>
                        <a:pt x="245" y="362"/>
                      </a:lnTo>
                      <a:lnTo>
                        <a:pt x="247" y="362"/>
                      </a:lnTo>
                      <a:lnTo>
                        <a:pt x="248" y="362"/>
                      </a:lnTo>
                      <a:lnTo>
                        <a:pt x="250" y="363"/>
                      </a:lnTo>
                      <a:lnTo>
                        <a:pt x="253" y="363"/>
                      </a:lnTo>
                      <a:lnTo>
                        <a:pt x="255" y="364"/>
                      </a:lnTo>
                      <a:lnTo>
                        <a:pt x="257" y="364"/>
                      </a:lnTo>
                      <a:lnTo>
                        <a:pt x="260" y="364"/>
                      </a:lnTo>
                      <a:lnTo>
                        <a:pt x="262" y="365"/>
                      </a:lnTo>
                      <a:lnTo>
                        <a:pt x="264" y="365"/>
                      </a:lnTo>
                      <a:lnTo>
                        <a:pt x="267" y="367"/>
                      </a:lnTo>
                      <a:lnTo>
                        <a:pt x="269" y="367"/>
                      </a:lnTo>
                      <a:lnTo>
                        <a:pt x="271" y="367"/>
                      </a:lnTo>
                      <a:lnTo>
                        <a:pt x="274" y="368"/>
                      </a:lnTo>
                      <a:lnTo>
                        <a:pt x="276" y="368"/>
                      </a:lnTo>
                      <a:lnTo>
                        <a:pt x="278" y="368"/>
                      </a:lnTo>
                      <a:lnTo>
                        <a:pt x="281" y="369"/>
                      </a:lnTo>
                      <a:lnTo>
                        <a:pt x="284" y="369"/>
                      </a:lnTo>
                      <a:lnTo>
                        <a:pt x="286" y="369"/>
                      </a:lnTo>
                      <a:lnTo>
                        <a:pt x="289" y="369"/>
                      </a:lnTo>
                      <a:lnTo>
                        <a:pt x="291" y="370"/>
                      </a:lnTo>
                      <a:lnTo>
                        <a:pt x="293" y="370"/>
                      </a:lnTo>
                      <a:lnTo>
                        <a:pt x="296" y="370"/>
                      </a:lnTo>
                      <a:lnTo>
                        <a:pt x="298" y="370"/>
                      </a:lnTo>
                      <a:lnTo>
                        <a:pt x="297" y="372"/>
                      </a:lnTo>
                      <a:lnTo>
                        <a:pt x="294" y="376"/>
                      </a:lnTo>
                      <a:lnTo>
                        <a:pt x="292" y="378"/>
                      </a:lnTo>
                      <a:lnTo>
                        <a:pt x="291" y="380"/>
                      </a:lnTo>
                      <a:lnTo>
                        <a:pt x="289" y="382"/>
                      </a:lnTo>
                      <a:lnTo>
                        <a:pt x="286" y="384"/>
                      </a:lnTo>
                      <a:lnTo>
                        <a:pt x="284" y="385"/>
                      </a:lnTo>
                      <a:lnTo>
                        <a:pt x="283" y="387"/>
                      </a:lnTo>
                      <a:lnTo>
                        <a:pt x="281" y="389"/>
                      </a:lnTo>
                      <a:lnTo>
                        <a:pt x="278" y="390"/>
                      </a:lnTo>
                      <a:lnTo>
                        <a:pt x="275" y="391"/>
                      </a:lnTo>
                      <a:lnTo>
                        <a:pt x="272" y="392"/>
                      </a:lnTo>
                      <a:lnTo>
                        <a:pt x="270" y="392"/>
                      </a:lnTo>
                      <a:lnTo>
                        <a:pt x="268" y="393"/>
                      </a:lnTo>
                      <a:lnTo>
                        <a:pt x="265" y="394"/>
                      </a:lnTo>
                      <a:lnTo>
                        <a:pt x="263" y="394"/>
                      </a:lnTo>
                      <a:lnTo>
                        <a:pt x="260" y="395"/>
                      </a:lnTo>
                      <a:lnTo>
                        <a:pt x="257" y="395"/>
                      </a:lnTo>
                      <a:lnTo>
                        <a:pt x="255" y="395"/>
                      </a:lnTo>
                      <a:lnTo>
                        <a:pt x="252" y="395"/>
                      </a:lnTo>
                      <a:lnTo>
                        <a:pt x="249" y="395"/>
                      </a:lnTo>
                      <a:lnTo>
                        <a:pt x="247" y="397"/>
                      </a:lnTo>
                      <a:lnTo>
                        <a:pt x="244" y="397"/>
                      </a:lnTo>
                      <a:lnTo>
                        <a:pt x="241" y="397"/>
                      </a:lnTo>
                      <a:lnTo>
                        <a:pt x="239" y="397"/>
                      </a:lnTo>
                      <a:lnTo>
                        <a:pt x="237" y="397"/>
                      </a:lnTo>
                      <a:lnTo>
                        <a:pt x="233" y="397"/>
                      </a:lnTo>
                      <a:lnTo>
                        <a:pt x="231" y="395"/>
                      </a:lnTo>
                      <a:lnTo>
                        <a:pt x="229" y="395"/>
                      </a:lnTo>
                      <a:lnTo>
                        <a:pt x="226" y="395"/>
                      </a:lnTo>
                      <a:lnTo>
                        <a:pt x="223" y="395"/>
                      </a:lnTo>
                      <a:lnTo>
                        <a:pt x="220" y="395"/>
                      </a:lnTo>
                      <a:lnTo>
                        <a:pt x="200" y="370"/>
                      </a:lnTo>
                      <a:lnTo>
                        <a:pt x="200" y="376"/>
                      </a:lnTo>
                      <a:lnTo>
                        <a:pt x="201" y="382"/>
                      </a:lnTo>
                      <a:lnTo>
                        <a:pt x="202" y="387"/>
                      </a:lnTo>
                      <a:lnTo>
                        <a:pt x="203" y="392"/>
                      </a:lnTo>
                      <a:lnTo>
                        <a:pt x="205" y="397"/>
                      </a:lnTo>
                      <a:lnTo>
                        <a:pt x="208" y="401"/>
                      </a:lnTo>
                      <a:lnTo>
                        <a:pt x="210" y="406"/>
                      </a:lnTo>
                      <a:lnTo>
                        <a:pt x="213" y="409"/>
                      </a:lnTo>
                      <a:lnTo>
                        <a:pt x="216" y="413"/>
                      </a:lnTo>
                      <a:lnTo>
                        <a:pt x="219" y="416"/>
                      </a:lnTo>
                      <a:lnTo>
                        <a:pt x="224" y="420"/>
                      </a:lnTo>
                      <a:lnTo>
                        <a:pt x="227" y="423"/>
                      </a:lnTo>
                      <a:lnTo>
                        <a:pt x="232" y="426"/>
                      </a:lnTo>
                      <a:lnTo>
                        <a:pt x="235" y="428"/>
                      </a:lnTo>
                      <a:lnTo>
                        <a:pt x="240" y="430"/>
                      </a:lnTo>
                      <a:lnTo>
                        <a:pt x="245" y="432"/>
                      </a:lnTo>
                      <a:lnTo>
                        <a:pt x="249" y="435"/>
                      </a:lnTo>
                      <a:lnTo>
                        <a:pt x="255" y="436"/>
                      </a:lnTo>
                      <a:lnTo>
                        <a:pt x="260" y="438"/>
                      </a:lnTo>
                      <a:lnTo>
                        <a:pt x="264" y="439"/>
                      </a:lnTo>
                      <a:lnTo>
                        <a:pt x="269" y="441"/>
                      </a:lnTo>
                      <a:lnTo>
                        <a:pt x="275" y="443"/>
                      </a:lnTo>
                      <a:lnTo>
                        <a:pt x="279" y="444"/>
                      </a:lnTo>
                      <a:lnTo>
                        <a:pt x="284" y="445"/>
                      </a:lnTo>
                      <a:lnTo>
                        <a:pt x="290" y="446"/>
                      </a:lnTo>
                      <a:lnTo>
                        <a:pt x="294" y="447"/>
                      </a:lnTo>
                      <a:lnTo>
                        <a:pt x="299" y="447"/>
                      </a:lnTo>
                      <a:lnTo>
                        <a:pt x="304" y="449"/>
                      </a:lnTo>
                      <a:lnTo>
                        <a:pt x="307" y="450"/>
                      </a:lnTo>
                      <a:lnTo>
                        <a:pt x="312" y="451"/>
                      </a:lnTo>
                      <a:lnTo>
                        <a:pt x="315" y="452"/>
                      </a:lnTo>
                      <a:lnTo>
                        <a:pt x="320" y="453"/>
                      </a:lnTo>
                      <a:lnTo>
                        <a:pt x="322" y="453"/>
                      </a:lnTo>
                      <a:lnTo>
                        <a:pt x="326" y="454"/>
                      </a:lnTo>
                      <a:lnTo>
                        <a:pt x="329" y="454"/>
                      </a:lnTo>
                      <a:lnTo>
                        <a:pt x="332" y="456"/>
                      </a:lnTo>
                      <a:lnTo>
                        <a:pt x="337" y="457"/>
                      </a:lnTo>
                      <a:lnTo>
                        <a:pt x="341" y="458"/>
                      </a:lnTo>
                      <a:lnTo>
                        <a:pt x="345" y="459"/>
                      </a:lnTo>
                      <a:lnTo>
                        <a:pt x="350" y="460"/>
                      </a:lnTo>
                      <a:lnTo>
                        <a:pt x="354" y="461"/>
                      </a:lnTo>
                      <a:lnTo>
                        <a:pt x="359" y="462"/>
                      </a:lnTo>
                      <a:lnTo>
                        <a:pt x="364" y="465"/>
                      </a:lnTo>
                      <a:lnTo>
                        <a:pt x="368" y="466"/>
                      </a:lnTo>
                      <a:lnTo>
                        <a:pt x="374" y="468"/>
                      </a:lnTo>
                      <a:lnTo>
                        <a:pt x="379" y="469"/>
                      </a:lnTo>
                      <a:lnTo>
                        <a:pt x="383" y="472"/>
                      </a:lnTo>
                      <a:lnTo>
                        <a:pt x="389" y="473"/>
                      </a:lnTo>
                      <a:lnTo>
                        <a:pt x="394" y="475"/>
                      </a:lnTo>
                      <a:lnTo>
                        <a:pt x="398" y="478"/>
                      </a:lnTo>
                      <a:lnTo>
                        <a:pt x="403" y="480"/>
                      </a:lnTo>
                      <a:lnTo>
                        <a:pt x="409" y="481"/>
                      </a:lnTo>
                      <a:lnTo>
                        <a:pt x="413" y="483"/>
                      </a:lnTo>
                      <a:lnTo>
                        <a:pt x="418" y="486"/>
                      </a:lnTo>
                      <a:lnTo>
                        <a:pt x="421" y="488"/>
                      </a:lnTo>
                      <a:lnTo>
                        <a:pt x="426" y="490"/>
                      </a:lnTo>
                      <a:lnTo>
                        <a:pt x="431" y="493"/>
                      </a:lnTo>
                      <a:lnTo>
                        <a:pt x="434" y="495"/>
                      </a:lnTo>
                      <a:lnTo>
                        <a:pt x="438" y="497"/>
                      </a:lnTo>
                      <a:lnTo>
                        <a:pt x="441" y="499"/>
                      </a:lnTo>
                      <a:lnTo>
                        <a:pt x="445" y="502"/>
                      </a:lnTo>
                      <a:lnTo>
                        <a:pt x="447" y="504"/>
                      </a:lnTo>
                      <a:lnTo>
                        <a:pt x="449" y="506"/>
                      </a:lnTo>
                      <a:lnTo>
                        <a:pt x="452" y="509"/>
                      </a:lnTo>
                      <a:lnTo>
                        <a:pt x="448" y="509"/>
                      </a:lnTo>
                      <a:lnTo>
                        <a:pt x="445" y="509"/>
                      </a:lnTo>
                      <a:lnTo>
                        <a:pt x="441" y="509"/>
                      </a:lnTo>
                      <a:lnTo>
                        <a:pt x="438" y="508"/>
                      </a:lnTo>
                      <a:lnTo>
                        <a:pt x="434" y="508"/>
                      </a:lnTo>
                      <a:lnTo>
                        <a:pt x="431" y="506"/>
                      </a:lnTo>
                      <a:lnTo>
                        <a:pt x="427" y="505"/>
                      </a:lnTo>
                      <a:lnTo>
                        <a:pt x="424" y="504"/>
                      </a:lnTo>
                      <a:lnTo>
                        <a:pt x="421" y="503"/>
                      </a:lnTo>
                      <a:lnTo>
                        <a:pt x="418" y="502"/>
                      </a:lnTo>
                      <a:lnTo>
                        <a:pt x="415" y="501"/>
                      </a:lnTo>
                      <a:lnTo>
                        <a:pt x="411" y="499"/>
                      </a:lnTo>
                      <a:lnTo>
                        <a:pt x="409" y="498"/>
                      </a:lnTo>
                      <a:lnTo>
                        <a:pt x="405" y="497"/>
                      </a:lnTo>
                      <a:lnTo>
                        <a:pt x="402" y="495"/>
                      </a:lnTo>
                      <a:lnTo>
                        <a:pt x="398" y="494"/>
                      </a:lnTo>
                      <a:lnTo>
                        <a:pt x="396" y="493"/>
                      </a:lnTo>
                      <a:lnTo>
                        <a:pt x="393" y="491"/>
                      </a:lnTo>
                      <a:lnTo>
                        <a:pt x="389" y="489"/>
                      </a:lnTo>
                      <a:lnTo>
                        <a:pt x="387" y="488"/>
                      </a:lnTo>
                      <a:lnTo>
                        <a:pt x="383" y="487"/>
                      </a:lnTo>
                      <a:lnTo>
                        <a:pt x="380" y="486"/>
                      </a:lnTo>
                      <a:lnTo>
                        <a:pt x="378" y="484"/>
                      </a:lnTo>
                      <a:lnTo>
                        <a:pt x="374" y="483"/>
                      </a:lnTo>
                      <a:lnTo>
                        <a:pt x="371" y="482"/>
                      </a:lnTo>
                      <a:lnTo>
                        <a:pt x="368" y="481"/>
                      </a:lnTo>
                      <a:lnTo>
                        <a:pt x="365" y="481"/>
                      </a:lnTo>
                      <a:lnTo>
                        <a:pt x="361" y="480"/>
                      </a:lnTo>
                      <a:lnTo>
                        <a:pt x="359" y="479"/>
                      </a:lnTo>
                      <a:lnTo>
                        <a:pt x="356" y="479"/>
                      </a:lnTo>
                      <a:lnTo>
                        <a:pt x="352" y="479"/>
                      </a:lnTo>
                      <a:lnTo>
                        <a:pt x="349" y="479"/>
                      </a:lnTo>
                      <a:lnTo>
                        <a:pt x="341" y="489"/>
                      </a:lnTo>
                      <a:lnTo>
                        <a:pt x="341" y="490"/>
                      </a:lnTo>
                      <a:lnTo>
                        <a:pt x="341" y="491"/>
                      </a:lnTo>
                      <a:lnTo>
                        <a:pt x="341" y="493"/>
                      </a:lnTo>
                      <a:lnTo>
                        <a:pt x="342" y="495"/>
                      </a:lnTo>
                      <a:lnTo>
                        <a:pt x="342" y="496"/>
                      </a:lnTo>
                      <a:lnTo>
                        <a:pt x="342" y="497"/>
                      </a:lnTo>
                      <a:lnTo>
                        <a:pt x="342" y="498"/>
                      </a:lnTo>
                      <a:lnTo>
                        <a:pt x="342" y="501"/>
                      </a:lnTo>
                      <a:lnTo>
                        <a:pt x="343" y="502"/>
                      </a:lnTo>
                      <a:lnTo>
                        <a:pt x="343" y="503"/>
                      </a:lnTo>
                      <a:lnTo>
                        <a:pt x="343" y="504"/>
                      </a:lnTo>
                      <a:lnTo>
                        <a:pt x="344" y="506"/>
                      </a:lnTo>
                      <a:lnTo>
                        <a:pt x="344" y="508"/>
                      </a:lnTo>
                      <a:lnTo>
                        <a:pt x="345" y="509"/>
                      </a:lnTo>
                      <a:lnTo>
                        <a:pt x="345" y="510"/>
                      </a:lnTo>
                      <a:lnTo>
                        <a:pt x="346" y="511"/>
                      </a:lnTo>
                      <a:lnTo>
                        <a:pt x="346" y="512"/>
                      </a:lnTo>
                      <a:lnTo>
                        <a:pt x="348" y="513"/>
                      </a:lnTo>
                      <a:lnTo>
                        <a:pt x="348" y="516"/>
                      </a:lnTo>
                      <a:lnTo>
                        <a:pt x="349" y="517"/>
                      </a:lnTo>
                      <a:lnTo>
                        <a:pt x="350" y="518"/>
                      </a:lnTo>
                      <a:lnTo>
                        <a:pt x="350" y="519"/>
                      </a:lnTo>
                      <a:lnTo>
                        <a:pt x="351" y="520"/>
                      </a:lnTo>
                      <a:lnTo>
                        <a:pt x="351" y="521"/>
                      </a:lnTo>
                      <a:lnTo>
                        <a:pt x="352" y="523"/>
                      </a:lnTo>
                      <a:lnTo>
                        <a:pt x="353" y="524"/>
                      </a:lnTo>
                      <a:lnTo>
                        <a:pt x="353" y="525"/>
                      </a:lnTo>
                      <a:lnTo>
                        <a:pt x="354" y="526"/>
                      </a:lnTo>
                      <a:lnTo>
                        <a:pt x="356" y="527"/>
                      </a:lnTo>
                      <a:lnTo>
                        <a:pt x="357" y="528"/>
                      </a:lnTo>
                      <a:lnTo>
                        <a:pt x="357" y="529"/>
                      </a:lnTo>
                      <a:lnTo>
                        <a:pt x="358" y="529"/>
                      </a:lnTo>
                      <a:lnTo>
                        <a:pt x="356" y="529"/>
                      </a:lnTo>
                      <a:lnTo>
                        <a:pt x="353" y="528"/>
                      </a:lnTo>
                      <a:lnTo>
                        <a:pt x="352" y="527"/>
                      </a:lnTo>
                      <a:lnTo>
                        <a:pt x="350" y="526"/>
                      </a:lnTo>
                      <a:lnTo>
                        <a:pt x="348" y="524"/>
                      </a:lnTo>
                      <a:lnTo>
                        <a:pt x="345" y="523"/>
                      </a:lnTo>
                      <a:lnTo>
                        <a:pt x="343" y="521"/>
                      </a:lnTo>
                      <a:lnTo>
                        <a:pt x="342" y="520"/>
                      </a:lnTo>
                      <a:lnTo>
                        <a:pt x="339" y="519"/>
                      </a:lnTo>
                      <a:lnTo>
                        <a:pt x="337" y="517"/>
                      </a:lnTo>
                      <a:lnTo>
                        <a:pt x="335" y="516"/>
                      </a:lnTo>
                      <a:lnTo>
                        <a:pt x="332" y="513"/>
                      </a:lnTo>
                      <a:lnTo>
                        <a:pt x="330" y="512"/>
                      </a:lnTo>
                      <a:lnTo>
                        <a:pt x="329" y="511"/>
                      </a:lnTo>
                      <a:lnTo>
                        <a:pt x="327" y="509"/>
                      </a:lnTo>
                      <a:lnTo>
                        <a:pt x="324" y="508"/>
                      </a:lnTo>
                      <a:lnTo>
                        <a:pt x="322" y="505"/>
                      </a:lnTo>
                      <a:lnTo>
                        <a:pt x="320" y="504"/>
                      </a:lnTo>
                      <a:lnTo>
                        <a:pt x="317" y="503"/>
                      </a:lnTo>
                      <a:lnTo>
                        <a:pt x="316" y="501"/>
                      </a:lnTo>
                      <a:lnTo>
                        <a:pt x="314" y="499"/>
                      </a:lnTo>
                      <a:lnTo>
                        <a:pt x="312" y="497"/>
                      </a:lnTo>
                      <a:lnTo>
                        <a:pt x="309" y="496"/>
                      </a:lnTo>
                      <a:lnTo>
                        <a:pt x="307" y="495"/>
                      </a:lnTo>
                      <a:lnTo>
                        <a:pt x="305" y="494"/>
                      </a:lnTo>
                      <a:lnTo>
                        <a:pt x="304" y="491"/>
                      </a:lnTo>
                      <a:lnTo>
                        <a:pt x="301" y="490"/>
                      </a:lnTo>
                      <a:lnTo>
                        <a:pt x="299" y="489"/>
                      </a:lnTo>
                      <a:lnTo>
                        <a:pt x="297" y="488"/>
                      </a:lnTo>
                      <a:lnTo>
                        <a:pt x="294" y="487"/>
                      </a:lnTo>
                      <a:lnTo>
                        <a:pt x="293" y="486"/>
                      </a:lnTo>
                      <a:lnTo>
                        <a:pt x="291" y="484"/>
                      </a:lnTo>
                      <a:lnTo>
                        <a:pt x="291" y="486"/>
                      </a:lnTo>
                      <a:lnTo>
                        <a:pt x="291" y="487"/>
                      </a:lnTo>
                      <a:lnTo>
                        <a:pt x="291" y="488"/>
                      </a:lnTo>
                      <a:lnTo>
                        <a:pt x="291" y="489"/>
                      </a:lnTo>
                      <a:lnTo>
                        <a:pt x="292" y="489"/>
                      </a:lnTo>
                      <a:lnTo>
                        <a:pt x="292" y="490"/>
                      </a:lnTo>
                      <a:lnTo>
                        <a:pt x="292" y="491"/>
                      </a:lnTo>
                      <a:lnTo>
                        <a:pt x="292" y="493"/>
                      </a:lnTo>
                      <a:lnTo>
                        <a:pt x="293" y="493"/>
                      </a:lnTo>
                      <a:lnTo>
                        <a:pt x="293" y="494"/>
                      </a:lnTo>
                      <a:lnTo>
                        <a:pt x="293" y="495"/>
                      </a:lnTo>
                      <a:lnTo>
                        <a:pt x="293" y="496"/>
                      </a:lnTo>
                      <a:lnTo>
                        <a:pt x="293" y="497"/>
                      </a:lnTo>
                      <a:lnTo>
                        <a:pt x="293" y="498"/>
                      </a:lnTo>
                      <a:lnTo>
                        <a:pt x="291" y="497"/>
                      </a:lnTo>
                      <a:lnTo>
                        <a:pt x="289" y="495"/>
                      </a:lnTo>
                      <a:lnTo>
                        <a:pt x="285" y="493"/>
                      </a:lnTo>
                      <a:lnTo>
                        <a:pt x="283" y="490"/>
                      </a:lnTo>
                      <a:lnTo>
                        <a:pt x="281" y="487"/>
                      </a:lnTo>
                      <a:lnTo>
                        <a:pt x="278" y="484"/>
                      </a:lnTo>
                      <a:lnTo>
                        <a:pt x="276" y="482"/>
                      </a:lnTo>
                      <a:lnTo>
                        <a:pt x="272" y="480"/>
                      </a:lnTo>
                      <a:lnTo>
                        <a:pt x="270" y="478"/>
                      </a:lnTo>
                      <a:lnTo>
                        <a:pt x="268" y="475"/>
                      </a:lnTo>
                      <a:lnTo>
                        <a:pt x="265" y="473"/>
                      </a:lnTo>
                      <a:lnTo>
                        <a:pt x="263" y="471"/>
                      </a:lnTo>
                      <a:lnTo>
                        <a:pt x="261" y="468"/>
                      </a:lnTo>
                      <a:lnTo>
                        <a:pt x="259" y="466"/>
                      </a:lnTo>
                      <a:lnTo>
                        <a:pt x="256" y="465"/>
                      </a:lnTo>
                      <a:lnTo>
                        <a:pt x="254" y="462"/>
                      </a:lnTo>
                      <a:lnTo>
                        <a:pt x="252" y="461"/>
                      </a:lnTo>
                      <a:lnTo>
                        <a:pt x="249" y="460"/>
                      </a:lnTo>
                      <a:lnTo>
                        <a:pt x="247" y="459"/>
                      </a:lnTo>
                      <a:lnTo>
                        <a:pt x="245" y="458"/>
                      </a:lnTo>
                      <a:lnTo>
                        <a:pt x="242" y="458"/>
                      </a:lnTo>
                      <a:lnTo>
                        <a:pt x="241" y="457"/>
                      </a:lnTo>
                      <a:lnTo>
                        <a:pt x="239" y="457"/>
                      </a:lnTo>
                      <a:lnTo>
                        <a:pt x="237" y="458"/>
                      </a:lnTo>
                      <a:lnTo>
                        <a:pt x="234" y="458"/>
                      </a:lnTo>
                      <a:lnTo>
                        <a:pt x="232" y="459"/>
                      </a:lnTo>
                      <a:lnTo>
                        <a:pt x="230" y="460"/>
                      </a:lnTo>
                      <a:lnTo>
                        <a:pt x="229" y="462"/>
                      </a:lnTo>
                      <a:lnTo>
                        <a:pt x="226" y="465"/>
                      </a:lnTo>
                      <a:lnTo>
                        <a:pt x="224" y="467"/>
                      </a:lnTo>
                      <a:lnTo>
                        <a:pt x="222" y="469"/>
                      </a:lnTo>
                      <a:lnTo>
                        <a:pt x="220" y="473"/>
                      </a:lnTo>
                      <a:lnTo>
                        <a:pt x="219" y="473"/>
                      </a:lnTo>
                      <a:lnTo>
                        <a:pt x="218" y="473"/>
                      </a:lnTo>
                      <a:lnTo>
                        <a:pt x="217" y="473"/>
                      </a:lnTo>
                      <a:lnTo>
                        <a:pt x="216" y="473"/>
                      </a:lnTo>
                      <a:lnTo>
                        <a:pt x="215" y="473"/>
                      </a:lnTo>
                      <a:lnTo>
                        <a:pt x="213" y="473"/>
                      </a:lnTo>
                      <a:lnTo>
                        <a:pt x="212" y="473"/>
                      </a:lnTo>
                      <a:lnTo>
                        <a:pt x="211" y="473"/>
                      </a:lnTo>
                      <a:lnTo>
                        <a:pt x="210" y="473"/>
                      </a:lnTo>
                      <a:lnTo>
                        <a:pt x="209" y="473"/>
                      </a:lnTo>
                      <a:lnTo>
                        <a:pt x="209" y="472"/>
                      </a:lnTo>
                      <a:lnTo>
                        <a:pt x="208" y="472"/>
                      </a:lnTo>
                      <a:lnTo>
                        <a:pt x="207" y="472"/>
                      </a:lnTo>
                      <a:lnTo>
                        <a:pt x="205" y="472"/>
                      </a:lnTo>
                      <a:lnTo>
                        <a:pt x="204" y="472"/>
                      </a:lnTo>
                      <a:lnTo>
                        <a:pt x="203" y="472"/>
                      </a:lnTo>
                      <a:lnTo>
                        <a:pt x="202" y="471"/>
                      </a:lnTo>
                      <a:lnTo>
                        <a:pt x="201" y="469"/>
                      </a:lnTo>
                      <a:lnTo>
                        <a:pt x="200" y="468"/>
                      </a:lnTo>
                      <a:lnTo>
                        <a:pt x="198" y="468"/>
                      </a:lnTo>
                      <a:lnTo>
                        <a:pt x="198" y="467"/>
                      </a:lnTo>
                      <a:lnTo>
                        <a:pt x="197" y="466"/>
                      </a:lnTo>
                      <a:lnTo>
                        <a:pt x="196" y="466"/>
                      </a:lnTo>
                      <a:lnTo>
                        <a:pt x="196" y="465"/>
                      </a:lnTo>
                      <a:lnTo>
                        <a:pt x="195" y="465"/>
                      </a:lnTo>
                      <a:lnTo>
                        <a:pt x="194" y="464"/>
                      </a:lnTo>
                      <a:lnTo>
                        <a:pt x="193" y="462"/>
                      </a:lnTo>
                      <a:lnTo>
                        <a:pt x="192" y="461"/>
                      </a:lnTo>
                      <a:lnTo>
                        <a:pt x="190" y="461"/>
                      </a:lnTo>
                      <a:lnTo>
                        <a:pt x="189" y="460"/>
                      </a:lnTo>
                      <a:lnTo>
                        <a:pt x="189" y="459"/>
                      </a:lnTo>
                      <a:lnTo>
                        <a:pt x="188" y="459"/>
                      </a:lnTo>
                      <a:lnTo>
                        <a:pt x="187" y="458"/>
                      </a:lnTo>
                      <a:lnTo>
                        <a:pt x="186" y="457"/>
                      </a:lnTo>
                      <a:lnTo>
                        <a:pt x="185" y="457"/>
                      </a:lnTo>
                      <a:lnTo>
                        <a:pt x="183" y="456"/>
                      </a:lnTo>
                      <a:lnTo>
                        <a:pt x="182" y="454"/>
                      </a:lnTo>
                      <a:lnTo>
                        <a:pt x="181" y="454"/>
                      </a:lnTo>
                      <a:lnTo>
                        <a:pt x="180" y="453"/>
                      </a:lnTo>
                      <a:lnTo>
                        <a:pt x="179" y="453"/>
                      </a:lnTo>
                      <a:lnTo>
                        <a:pt x="178" y="453"/>
                      </a:lnTo>
                      <a:lnTo>
                        <a:pt x="175" y="452"/>
                      </a:lnTo>
                      <a:lnTo>
                        <a:pt x="173" y="451"/>
                      </a:lnTo>
                      <a:lnTo>
                        <a:pt x="171" y="450"/>
                      </a:lnTo>
                      <a:lnTo>
                        <a:pt x="168" y="449"/>
                      </a:lnTo>
                      <a:lnTo>
                        <a:pt x="166" y="447"/>
                      </a:lnTo>
                      <a:lnTo>
                        <a:pt x="164" y="447"/>
                      </a:lnTo>
                      <a:lnTo>
                        <a:pt x="163" y="446"/>
                      </a:lnTo>
                      <a:lnTo>
                        <a:pt x="160" y="445"/>
                      </a:lnTo>
                      <a:lnTo>
                        <a:pt x="158" y="445"/>
                      </a:lnTo>
                      <a:lnTo>
                        <a:pt x="156" y="444"/>
                      </a:lnTo>
                      <a:lnTo>
                        <a:pt x="153" y="443"/>
                      </a:lnTo>
                      <a:lnTo>
                        <a:pt x="151" y="443"/>
                      </a:lnTo>
                      <a:lnTo>
                        <a:pt x="149" y="442"/>
                      </a:lnTo>
                      <a:lnTo>
                        <a:pt x="148" y="441"/>
                      </a:lnTo>
                      <a:lnTo>
                        <a:pt x="145" y="441"/>
                      </a:lnTo>
                      <a:lnTo>
                        <a:pt x="143" y="439"/>
                      </a:lnTo>
                      <a:lnTo>
                        <a:pt x="141" y="439"/>
                      </a:lnTo>
                      <a:lnTo>
                        <a:pt x="138" y="439"/>
                      </a:lnTo>
                      <a:lnTo>
                        <a:pt x="136" y="438"/>
                      </a:lnTo>
                      <a:lnTo>
                        <a:pt x="134" y="438"/>
                      </a:lnTo>
                      <a:lnTo>
                        <a:pt x="133" y="438"/>
                      </a:lnTo>
                      <a:lnTo>
                        <a:pt x="130" y="438"/>
                      </a:lnTo>
                      <a:lnTo>
                        <a:pt x="128" y="437"/>
                      </a:lnTo>
                      <a:lnTo>
                        <a:pt x="126" y="437"/>
                      </a:lnTo>
                      <a:lnTo>
                        <a:pt x="123" y="437"/>
                      </a:lnTo>
                      <a:lnTo>
                        <a:pt x="121" y="437"/>
                      </a:lnTo>
                      <a:lnTo>
                        <a:pt x="119" y="438"/>
                      </a:lnTo>
                      <a:lnTo>
                        <a:pt x="116" y="438"/>
                      </a:lnTo>
                      <a:lnTo>
                        <a:pt x="113" y="438"/>
                      </a:lnTo>
                      <a:lnTo>
                        <a:pt x="111" y="438"/>
                      </a:lnTo>
                      <a:lnTo>
                        <a:pt x="108" y="439"/>
                      </a:lnTo>
                      <a:lnTo>
                        <a:pt x="106" y="439"/>
                      </a:lnTo>
                      <a:lnTo>
                        <a:pt x="104" y="439"/>
                      </a:lnTo>
                      <a:lnTo>
                        <a:pt x="100" y="438"/>
                      </a:lnTo>
                      <a:lnTo>
                        <a:pt x="98" y="437"/>
                      </a:lnTo>
                      <a:lnTo>
                        <a:pt x="96" y="436"/>
                      </a:lnTo>
                      <a:lnTo>
                        <a:pt x="93" y="436"/>
                      </a:lnTo>
                      <a:lnTo>
                        <a:pt x="90" y="434"/>
                      </a:lnTo>
                      <a:lnTo>
                        <a:pt x="88" y="432"/>
                      </a:lnTo>
                      <a:lnTo>
                        <a:pt x="85" y="431"/>
                      </a:lnTo>
                      <a:lnTo>
                        <a:pt x="82" y="430"/>
                      </a:lnTo>
                      <a:lnTo>
                        <a:pt x="79" y="429"/>
                      </a:lnTo>
                      <a:lnTo>
                        <a:pt x="77" y="427"/>
                      </a:lnTo>
                      <a:lnTo>
                        <a:pt x="74" y="426"/>
                      </a:lnTo>
                      <a:lnTo>
                        <a:pt x="71" y="423"/>
                      </a:lnTo>
                      <a:lnTo>
                        <a:pt x="68" y="422"/>
                      </a:lnTo>
                      <a:lnTo>
                        <a:pt x="66" y="420"/>
                      </a:lnTo>
                      <a:lnTo>
                        <a:pt x="62" y="419"/>
                      </a:lnTo>
                      <a:lnTo>
                        <a:pt x="60" y="417"/>
                      </a:lnTo>
                      <a:lnTo>
                        <a:pt x="56" y="415"/>
                      </a:lnTo>
                      <a:lnTo>
                        <a:pt x="54" y="414"/>
                      </a:lnTo>
                      <a:lnTo>
                        <a:pt x="51" y="412"/>
                      </a:lnTo>
                      <a:lnTo>
                        <a:pt x="48" y="411"/>
                      </a:lnTo>
                      <a:lnTo>
                        <a:pt x="45" y="409"/>
                      </a:lnTo>
                      <a:lnTo>
                        <a:pt x="42" y="408"/>
                      </a:lnTo>
                      <a:lnTo>
                        <a:pt x="39" y="407"/>
                      </a:lnTo>
                      <a:lnTo>
                        <a:pt x="37" y="406"/>
                      </a:lnTo>
                      <a:lnTo>
                        <a:pt x="33" y="405"/>
                      </a:lnTo>
                      <a:lnTo>
                        <a:pt x="31" y="404"/>
                      </a:lnTo>
                      <a:lnTo>
                        <a:pt x="27" y="402"/>
                      </a:lnTo>
                      <a:lnTo>
                        <a:pt x="25" y="402"/>
                      </a:lnTo>
                      <a:lnTo>
                        <a:pt x="22" y="401"/>
                      </a:lnTo>
                      <a:lnTo>
                        <a:pt x="19" y="401"/>
                      </a:lnTo>
                      <a:lnTo>
                        <a:pt x="16" y="401"/>
                      </a:lnTo>
                      <a:lnTo>
                        <a:pt x="17" y="407"/>
                      </a:lnTo>
                      <a:lnTo>
                        <a:pt x="17" y="412"/>
                      </a:lnTo>
                      <a:lnTo>
                        <a:pt x="17" y="416"/>
                      </a:lnTo>
                      <a:lnTo>
                        <a:pt x="18" y="421"/>
                      </a:lnTo>
                      <a:lnTo>
                        <a:pt x="18" y="424"/>
                      </a:lnTo>
                      <a:lnTo>
                        <a:pt x="18" y="429"/>
                      </a:lnTo>
                      <a:lnTo>
                        <a:pt x="18" y="432"/>
                      </a:lnTo>
                      <a:lnTo>
                        <a:pt x="17" y="436"/>
                      </a:lnTo>
                      <a:lnTo>
                        <a:pt x="17" y="439"/>
                      </a:lnTo>
                      <a:lnTo>
                        <a:pt x="17" y="443"/>
                      </a:lnTo>
                      <a:lnTo>
                        <a:pt x="16" y="446"/>
                      </a:lnTo>
                      <a:lnTo>
                        <a:pt x="16" y="449"/>
                      </a:lnTo>
                      <a:lnTo>
                        <a:pt x="15" y="452"/>
                      </a:lnTo>
                      <a:lnTo>
                        <a:pt x="15" y="454"/>
                      </a:lnTo>
                      <a:lnTo>
                        <a:pt x="14" y="458"/>
                      </a:lnTo>
                      <a:lnTo>
                        <a:pt x="12" y="460"/>
                      </a:lnTo>
                      <a:lnTo>
                        <a:pt x="12" y="462"/>
                      </a:lnTo>
                      <a:lnTo>
                        <a:pt x="11" y="465"/>
                      </a:lnTo>
                      <a:lnTo>
                        <a:pt x="10" y="467"/>
                      </a:lnTo>
                      <a:lnTo>
                        <a:pt x="9" y="469"/>
                      </a:lnTo>
                      <a:lnTo>
                        <a:pt x="8" y="472"/>
                      </a:lnTo>
                      <a:lnTo>
                        <a:pt x="8" y="474"/>
                      </a:lnTo>
                      <a:lnTo>
                        <a:pt x="7" y="476"/>
                      </a:lnTo>
                      <a:lnTo>
                        <a:pt x="6" y="478"/>
                      </a:lnTo>
                      <a:lnTo>
                        <a:pt x="4" y="480"/>
                      </a:lnTo>
                      <a:lnTo>
                        <a:pt x="3" y="482"/>
                      </a:lnTo>
                      <a:lnTo>
                        <a:pt x="3" y="484"/>
                      </a:lnTo>
                      <a:lnTo>
                        <a:pt x="2" y="487"/>
                      </a:lnTo>
                      <a:lnTo>
                        <a:pt x="1" y="489"/>
                      </a:lnTo>
                      <a:lnTo>
                        <a:pt x="1" y="491"/>
                      </a:lnTo>
                      <a:lnTo>
                        <a:pt x="0" y="495"/>
                      </a:lnTo>
                      <a:lnTo>
                        <a:pt x="0" y="497"/>
                      </a:lnTo>
                      <a:lnTo>
                        <a:pt x="1" y="497"/>
                      </a:lnTo>
                      <a:lnTo>
                        <a:pt x="1" y="498"/>
                      </a:lnTo>
                      <a:lnTo>
                        <a:pt x="2" y="498"/>
                      </a:lnTo>
                      <a:lnTo>
                        <a:pt x="2" y="499"/>
                      </a:lnTo>
                      <a:lnTo>
                        <a:pt x="3" y="499"/>
                      </a:lnTo>
                      <a:lnTo>
                        <a:pt x="3" y="501"/>
                      </a:lnTo>
                      <a:lnTo>
                        <a:pt x="4" y="502"/>
                      </a:lnTo>
                      <a:lnTo>
                        <a:pt x="6" y="503"/>
                      </a:lnTo>
                      <a:lnTo>
                        <a:pt x="6" y="504"/>
                      </a:lnTo>
                      <a:lnTo>
                        <a:pt x="6" y="505"/>
                      </a:lnTo>
                      <a:lnTo>
                        <a:pt x="7" y="506"/>
                      </a:lnTo>
                      <a:lnTo>
                        <a:pt x="7" y="508"/>
                      </a:lnTo>
                      <a:lnTo>
                        <a:pt x="7" y="509"/>
                      </a:lnTo>
                      <a:lnTo>
                        <a:pt x="7" y="510"/>
                      </a:lnTo>
                      <a:lnTo>
                        <a:pt x="7" y="511"/>
                      </a:lnTo>
                      <a:lnTo>
                        <a:pt x="7" y="512"/>
                      </a:lnTo>
                      <a:lnTo>
                        <a:pt x="7" y="513"/>
                      </a:lnTo>
                      <a:lnTo>
                        <a:pt x="6" y="514"/>
                      </a:lnTo>
                      <a:lnTo>
                        <a:pt x="6" y="516"/>
                      </a:lnTo>
                      <a:lnTo>
                        <a:pt x="6" y="517"/>
                      </a:lnTo>
                      <a:lnTo>
                        <a:pt x="4" y="518"/>
                      </a:lnTo>
                      <a:lnTo>
                        <a:pt x="4" y="519"/>
                      </a:lnTo>
                      <a:lnTo>
                        <a:pt x="4" y="520"/>
                      </a:lnTo>
                      <a:lnTo>
                        <a:pt x="3" y="520"/>
                      </a:lnTo>
                      <a:lnTo>
                        <a:pt x="3" y="521"/>
                      </a:lnTo>
                      <a:lnTo>
                        <a:pt x="2" y="521"/>
                      </a:lnTo>
                      <a:lnTo>
                        <a:pt x="3" y="521"/>
                      </a:lnTo>
                      <a:lnTo>
                        <a:pt x="4" y="523"/>
                      </a:lnTo>
                      <a:lnTo>
                        <a:pt x="6" y="523"/>
                      </a:lnTo>
                      <a:lnTo>
                        <a:pt x="7" y="523"/>
                      </a:lnTo>
                      <a:lnTo>
                        <a:pt x="8" y="523"/>
                      </a:lnTo>
                      <a:lnTo>
                        <a:pt x="9" y="523"/>
                      </a:lnTo>
                      <a:lnTo>
                        <a:pt x="10" y="523"/>
                      </a:lnTo>
                      <a:lnTo>
                        <a:pt x="10" y="521"/>
                      </a:lnTo>
                      <a:lnTo>
                        <a:pt x="11" y="521"/>
                      </a:lnTo>
                      <a:lnTo>
                        <a:pt x="12" y="520"/>
                      </a:lnTo>
                      <a:lnTo>
                        <a:pt x="14" y="520"/>
                      </a:lnTo>
                      <a:lnTo>
                        <a:pt x="14" y="519"/>
                      </a:lnTo>
                      <a:lnTo>
                        <a:pt x="15" y="519"/>
                      </a:lnTo>
                      <a:lnTo>
                        <a:pt x="15" y="518"/>
                      </a:lnTo>
                      <a:lnTo>
                        <a:pt x="16" y="518"/>
                      </a:lnTo>
                      <a:lnTo>
                        <a:pt x="16" y="517"/>
                      </a:lnTo>
                      <a:lnTo>
                        <a:pt x="17" y="517"/>
                      </a:lnTo>
                      <a:lnTo>
                        <a:pt x="18" y="516"/>
                      </a:lnTo>
                      <a:lnTo>
                        <a:pt x="19" y="514"/>
                      </a:lnTo>
                      <a:lnTo>
                        <a:pt x="19" y="513"/>
                      </a:lnTo>
                      <a:lnTo>
                        <a:pt x="21" y="513"/>
                      </a:lnTo>
                      <a:lnTo>
                        <a:pt x="21" y="512"/>
                      </a:lnTo>
                      <a:lnTo>
                        <a:pt x="22" y="511"/>
                      </a:lnTo>
                      <a:lnTo>
                        <a:pt x="23" y="511"/>
                      </a:lnTo>
                      <a:lnTo>
                        <a:pt x="23" y="510"/>
                      </a:lnTo>
                      <a:lnTo>
                        <a:pt x="24" y="510"/>
                      </a:lnTo>
                      <a:lnTo>
                        <a:pt x="25" y="510"/>
                      </a:lnTo>
                      <a:lnTo>
                        <a:pt x="27" y="511"/>
                      </a:lnTo>
                      <a:lnTo>
                        <a:pt x="30" y="511"/>
                      </a:lnTo>
                      <a:lnTo>
                        <a:pt x="32" y="511"/>
                      </a:lnTo>
                      <a:lnTo>
                        <a:pt x="34" y="512"/>
                      </a:lnTo>
                      <a:lnTo>
                        <a:pt x="37" y="512"/>
                      </a:lnTo>
                      <a:lnTo>
                        <a:pt x="39" y="513"/>
                      </a:lnTo>
                      <a:lnTo>
                        <a:pt x="42" y="513"/>
                      </a:lnTo>
                      <a:lnTo>
                        <a:pt x="45" y="514"/>
                      </a:lnTo>
                      <a:lnTo>
                        <a:pt x="48" y="516"/>
                      </a:lnTo>
                      <a:lnTo>
                        <a:pt x="51" y="517"/>
                      </a:lnTo>
                      <a:lnTo>
                        <a:pt x="54" y="517"/>
                      </a:lnTo>
                      <a:lnTo>
                        <a:pt x="56" y="518"/>
                      </a:lnTo>
                      <a:lnTo>
                        <a:pt x="60" y="519"/>
                      </a:lnTo>
                      <a:lnTo>
                        <a:pt x="63" y="519"/>
                      </a:lnTo>
                      <a:lnTo>
                        <a:pt x="66" y="520"/>
                      </a:lnTo>
                      <a:lnTo>
                        <a:pt x="69" y="521"/>
                      </a:lnTo>
                      <a:lnTo>
                        <a:pt x="71" y="521"/>
                      </a:lnTo>
                      <a:lnTo>
                        <a:pt x="75" y="523"/>
                      </a:lnTo>
                      <a:lnTo>
                        <a:pt x="77" y="523"/>
                      </a:lnTo>
                      <a:lnTo>
                        <a:pt x="79" y="524"/>
                      </a:lnTo>
                      <a:lnTo>
                        <a:pt x="82" y="524"/>
                      </a:lnTo>
                      <a:lnTo>
                        <a:pt x="84" y="525"/>
                      </a:lnTo>
                      <a:lnTo>
                        <a:pt x="86" y="525"/>
                      </a:lnTo>
                      <a:lnTo>
                        <a:pt x="89" y="525"/>
                      </a:lnTo>
                      <a:lnTo>
                        <a:pt x="90" y="525"/>
                      </a:lnTo>
                      <a:lnTo>
                        <a:pt x="91" y="525"/>
                      </a:lnTo>
                      <a:lnTo>
                        <a:pt x="92" y="525"/>
                      </a:lnTo>
                      <a:lnTo>
                        <a:pt x="93" y="524"/>
                      </a:lnTo>
                      <a:lnTo>
                        <a:pt x="94" y="524"/>
                      </a:lnTo>
                      <a:lnTo>
                        <a:pt x="94" y="523"/>
                      </a:lnTo>
                      <a:lnTo>
                        <a:pt x="93" y="521"/>
                      </a:lnTo>
                      <a:lnTo>
                        <a:pt x="92" y="520"/>
                      </a:lnTo>
                      <a:lnTo>
                        <a:pt x="90" y="519"/>
                      </a:lnTo>
                      <a:lnTo>
                        <a:pt x="89" y="519"/>
                      </a:lnTo>
                      <a:lnTo>
                        <a:pt x="86" y="518"/>
                      </a:lnTo>
                      <a:lnTo>
                        <a:pt x="85" y="518"/>
                      </a:lnTo>
                      <a:lnTo>
                        <a:pt x="83" y="517"/>
                      </a:lnTo>
                      <a:lnTo>
                        <a:pt x="79" y="516"/>
                      </a:lnTo>
                      <a:lnTo>
                        <a:pt x="77" y="516"/>
                      </a:lnTo>
                      <a:lnTo>
                        <a:pt x="75" y="514"/>
                      </a:lnTo>
                      <a:lnTo>
                        <a:pt x="71" y="513"/>
                      </a:lnTo>
                      <a:lnTo>
                        <a:pt x="68" y="513"/>
                      </a:lnTo>
                      <a:lnTo>
                        <a:pt x="66" y="512"/>
                      </a:lnTo>
                      <a:lnTo>
                        <a:pt x="62" y="511"/>
                      </a:lnTo>
                      <a:lnTo>
                        <a:pt x="59" y="511"/>
                      </a:lnTo>
                      <a:lnTo>
                        <a:pt x="55" y="510"/>
                      </a:lnTo>
                      <a:lnTo>
                        <a:pt x="53" y="509"/>
                      </a:lnTo>
                      <a:lnTo>
                        <a:pt x="49" y="508"/>
                      </a:lnTo>
                      <a:lnTo>
                        <a:pt x="46" y="506"/>
                      </a:lnTo>
                      <a:lnTo>
                        <a:pt x="42" y="506"/>
                      </a:lnTo>
                      <a:lnTo>
                        <a:pt x="40" y="505"/>
                      </a:lnTo>
                      <a:lnTo>
                        <a:pt x="37" y="504"/>
                      </a:lnTo>
                      <a:lnTo>
                        <a:pt x="34" y="503"/>
                      </a:lnTo>
                      <a:lnTo>
                        <a:pt x="32" y="502"/>
                      </a:lnTo>
                      <a:lnTo>
                        <a:pt x="29" y="501"/>
                      </a:lnTo>
                      <a:lnTo>
                        <a:pt x="26" y="499"/>
                      </a:lnTo>
                      <a:lnTo>
                        <a:pt x="25" y="498"/>
                      </a:lnTo>
                      <a:lnTo>
                        <a:pt x="23" y="496"/>
                      </a:lnTo>
                      <a:lnTo>
                        <a:pt x="22" y="495"/>
                      </a:lnTo>
                      <a:lnTo>
                        <a:pt x="19" y="494"/>
                      </a:lnTo>
                      <a:lnTo>
                        <a:pt x="21" y="494"/>
                      </a:lnTo>
                      <a:lnTo>
                        <a:pt x="22" y="493"/>
                      </a:lnTo>
                      <a:lnTo>
                        <a:pt x="24" y="493"/>
                      </a:lnTo>
                      <a:lnTo>
                        <a:pt x="25" y="493"/>
                      </a:lnTo>
                      <a:lnTo>
                        <a:pt x="27" y="493"/>
                      </a:lnTo>
                      <a:lnTo>
                        <a:pt x="30" y="494"/>
                      </a:lnTo>
                      <a:lnTo>
                        <a:pt x="32" y="494"/>
                      </a:lnTo>
                      <a:lnTo>
                        <a:pt x="34" y="494"/>
                      </a:lnTo>
                      <a:lnTo>
                        <a:pt x="37" y="495"/>
                      </a:lnTo>
                      <a:lnTo>
                        <a:pt x="40" y="495"/>
                      </a:lnTo>
                      <a:lnTo>
                        <a:pt x="44" y="496"/>
                      </a:lnTo>
                      <a:lnTo>
                        <a:pt x="46" y="497"/>
                      </a:lnTo>
                      <a:lnTo>
                        <a:pt x="49" y="497"/>
                      </a:lnTo>
                      <a:lnTo>
                        <a:pt x="53" y="498"/>
                      </a:lnTo>
                      <a:lnTo>
                        <a:pt x="56" y="499"/>
                      </a:lnTo>
                      <a:lnTo>
                        <a:pt x="59" y="501"/>
                      </a:lnTo>
                      <a:lnTo>
                        <a:pt x="62" y="502"/>
                      </a:lnTo>
                      <a:lnTo>
                        <a:pt x="66" y="502"/>
                      </a:lnTo>
                      <a:lnTo>
                        <a:pt x="69" y="503"/>
                      </a:lnTo>
                      <a:lnTo>
                        <a:pt x="73" y="504"/>
                      </a:lnTo>
                      <a:lnTo>
                        <a:pt x="75" y="505"/>
                      </a:lnTo>
                      <a:lnTo>
                        <a:pt x="78" y="506"/>
                      </a:lnTo>
                      <a:lnTo>
                        <a:pt x="82" y="508"/>
                      </a:lnTo>
                      <a:lnTo>
                        <a:pt x="84" y="509"/>
                      </a:lnTo>
                      <a:lnTo>
                        <a:pt x="88" y="509"/>
                      </a:lnTo>
                      <a:lnTo>
                        <a:pt x="90" y="510"/>
                      </a:lnTo>
                      <a:lnTo>
                        <a:pt x="92" y="511"/>
                      </a:lnTo>
                      <a:lnTo>
                        <a:pt x="94" y="512"/>
                      </a:lnTo>
                      <a:lnTo>
                        <a:pt x="97" y="512"/>
                      </a:lnTo>
                      <a:lnTo>
                        <a:pt x="98" y="513"/>
                      </a:lnTo>
                      <a:lnTo>
                        <a:pt x="100" y="514"/>
                      </a:lnTo>
                      <a:lnTo>
                        <a:pt x="101" y="514"/>
                      </a:lnTo>
                      <a:lnTo>
                        <a:pt x="105" y="516"/>
                      </a:lnTo>
                      <a:lnTo>
                        <a:pt x="107" y="517"/>
                      </a:lnTo>
                      <a:lnTo>
                        <a:pt x="111" y="518"/>
                      </a:lnTo>
                      <a:lnTo>
                        <a:pt x="114" y="520"/>
                      </a:lnTo>
                      <a:lnTo>
                        <a:pt x="116" y="521"/>
                      </a:lnTo>
                      <a:lnTo>
                        <a:pt x="120" y="524"/>
                      </a:lnTo>
                      <a:lnTo>
                        <a:pt x="123" y="526"/>
                      </a:lnTo>
                      <a:lnTo>
                        <a:pt x="126" y="527"/>
                      </a:lnTo>
                      <a:lnTo>
                        <a:pt x="129" y="529"/>
                      </a:lnTo>
                      <a:lnTo>
                        <a:pt x="133" y="532"/>
                      </a:lnTo>
                      <a:lnTo>
                        <a:pt x="135" y="534"/>
                      </a:lnTo>
                      <a:lnTo>
                        <a:pt x="138" y="536"/>
                      </a:lnTo>
                      <a:lnTo>
                        <a:pt x="142" y="540"/>
                      </a:lnTo>
                      <a:lnTo>
                        <a:pt x="144" y="542"/>
                      </a:lnTo>
                      <a:lnTo>
                        <a:pt x="148" y="545"/>
                      </a:lnTo>
                      <a:lnTo>
                        <a:pt x="151" y="547"/>
                      </a:lnTo>
                      <a:lnTo>
                        <a:pt x="155" y="549"/>
                      </a:lnTo>
                      <a:lnTo>
                        <a:pt x="157" y="551"/>
                      </a:lnTo>
                      <a:lnTo>
                        <a:pt x="160" y="554"/>
                      </a:lnTo>
                      <a:lnTo>
                        <a:pt x="164" y="556"/>
                      </a:lnTo>
                      <a:lnTo>
                        <a:pt x="166" y="558"/>
                      </a:lnTo>
                      <a:lnTo>
                        <a:pt x="170" y="560"/>
                      </a:lnTo>
                      <a:lnTo>
                        <a:pt x="173" y="562"/>
                      </a:lnTo>
                      <a:lnTo>
                        <a:pt x="177" y="564"/>
                      </a:lnTo>
                      <a:lnTo>
                        <a:pt x="180" y="565"/>
                      </a:lnTo>
                      <a:lnTo>
                        <a:pt x="183" y="566"/>
                      </a:lnTo>
                      <a:lnTo>
                        <a:pt x="187" y="568"/>
                      </a:lnTo>
                      <a:lnTo>
                        <a:pt x="189" y="569"/>
                      </a:lnTo>
                      <a:lnTo>
                        <a:pt x="193" y="570"/>
                      </a:lnTo>
                      <a:lnTo>
                        <a:pt x="196" y="570"/>
                      </a:lnTo>
                      <a:lnTo>
                        <a:pt x="201" y="571"/>
                      </a:lnTo>
                      <a:lnTo>
                        <a:pt x="204" y="571"/>
                      </a:lnTo>
                      <a:lnTo>
                        <a:pt x="201" y="568"/>
                      </a:lnTo>
                      <a:lnTo>
                        <a:pt x="197" y="563"/>
                      </a:lnTo>
                      <a:lnTo>
                        <a:pt x="194" y="560"/>
                      </a:lnTo>
                      <a:lnTo>
                        <a:pt x="190" y="556"/>
                      </a:lnTo>
                      <a:lnTo>
                        <a:pt x="187" y="553"/>
                      </a:lnTo>
                      <a:lnTo>
                        <a:pt x="185" y="548"/>
                      </a:lnTo>
                      <a:lnTo>
                        <a:pt x="181" y="545"/>
                      </a:lnTo>
                      <a:lnTo>
                        <a:pt x="178" y="541"/>
                      </a:lnTo>
                      <a:lnTo>
                        <a:pt x="174" y="538"/>
                      </a:lnTo>
                      <a:lnTo>
                        <a:pt x="171" y="534"/>
                      </a:lnTo>
                      <a:lnTo>
                        <a:pt x="167" y="529"/>
                      </a:lnTo>
                      <a:lnTo>
                        <a:pt x="164" y="526"/>
                      </a:lnTo>
                      <a:lnTo>
                        <a:pt x="160" y="523"/>
                      </a:lnTo>
                      <a:lnTo>
                        <a:pt x="157" y="519"/>
                      </a:lnTo>
                      <a:lnTo>
                        <a:pt x="153" y="516"/>
                      </a:lnTo>
                      <a:lnTo>
                        <a:pt x="150" y="512"/>
                      </a:lnTo>
                      <a:lnTo>
                        <a:pt x="146" y="509"/>
                      </a:lnTo>
                      <a:lnTo>
                        <a:pt x="143" y="504"/>
                      </a:lnTo>
                      <a:lnTo>
                        <a:pt x="140" y="501"/>
                      </a:lnTo>
                      <a:lnTo>
                        <a:pt x="136" y="497"/>
                      </a:lnTo>
                      <a:lnTo>
                        <a:pt x="134" y="494"/>
                      </a:lnTo>
                      <a:lnTo>
                        <a:pt x="130" y="490"/>
                      </a:lnTo>
                      <a:lnTo>
                        <a:pt x="127" y="487"/>
                      </a:lnTo>
                      <a:lnTo>
                        <a:pt x="123" y="483"/>
                      </a:lnTo>
                      <a:lnTo>
                        <a:pt x="120" y="479"/>
                      </a:lnTo>
                      <a:lnTo>
                        <a:pt x="116" y="475"/>
                      </a:lnTo>
                      <a:lnTo>
                        <a:pt x="113" y="472"/>
                      </a:lnTo>
                      <a:lnTo>
                        <a:pt x="109" y="468"/>
                      </a:lnTo>
                      <a:lnTo>
                        <a:pt x="107" y="464"/>
                      </a:lnTo>
                      <a:lnTo>
                        <a:pt x="104" y="460"/>
                      </a:lnTo>
                      <a:lnTo>
                        <a:pt x="100" y="457"/>
                      </a:lnTo>
                      <a:lnTo>
                        <a:pt x="97" y="453"/>
                      </a:lnTo>
                      <a:lnTo>
                        <a:pt x="98" y="452"/>
                      </a:lnTo>
                      <a:lnTo>
                        <a:pt x="99" y="452"/>
                      </a:lnTo>
                      <a:lnTo>
                        <a:pt x="100" y="452"/>
                      </a:lnTo>
                      <a:lnTo>
                        <a:pt x="101" y="452"/>
                      </a:lnTo>
                      <a:lnTo>
                        <a:pt x="104" y="451"/>
                      </a:lnTo>
                      <a:lnTo>
                        <a:pt x="105" y="451"/>
                      </a:lnTo>
                      <a:lnTo>
                        <a:pt x="106" y="451"/>
                      </a:lnTo>
                      <a:lnTo>
                        <a:pt x="107" y="451"/>
                      </a:lnTo>
                      <a:lnTo>
                        <a:pt x="108" y="452"/>
                      </a:lnTo>
                      <a:lnTo>
                        <a:pt x="109" y="452"/>
                      </a:lnTo>
                      <a:lnTo>
                        <a:pt x="111" y="452"/>
                      </a:lnTo>
                      <a:lnTo>
                        <a:pt x="112" y="452"/>
                      </a:lnTo>
                      <a:lnTo>
                        <a:pt x="113" y="452"/>
                      </a:lnTo>
                      <a:lnTo>
                        <a:pt x="114" y="453"/>
                      </a:lnTo>
                      <a:lnTo>
                        <a:pt x="115" y="453"/>
                      </a:lnTo>
                      <a:lnTo>
                        <a:pt x="116" y="453"/>
                      </a:lnTo>
                      <a:lnTo>
                        <a:pt x="118" y="454"/>
                      </a:lnTo>
                      <a:lnTo>
                        <a:pt x="119" y="454"/>
                      </a:lnTo>
                      <a:lnTo>
                        <a:pt x="120" y="456"/>
                      </a:lnTo>
                      <a:lnTo>
                        <a:pt x="121" y="457"/>
                      </a:lnTo>
                      <a:lnTo>
                        <a:pt x="122" y="457"/>
                      </a:lnTo>
                      <a:lnTo>
                        <a:pt x="123" y="458"/>
                      </a:lnTo>
                      <a:lnTo>
                        <a:pt x="125" y="459"/>
                      </a:lnTo>
                      <a:lnTo>
                        <a:pt x="126" y="459"/>
                      </a:lnTo>
                      <a:lnTo>
                        <a:pt x="127" y="460"/>
                      </a:lnTo>
                      <a:lnTo>
                        <a:pt x="128" y="461"/>
                      </a:lnTo>
                      <a:lnTo>
                        <a:pt x="129" y="462"/>
                      </a:lnTo>
                      <a:lnTo>
                        <a:pt x="130" y="464"/>
                      </a:lnTo>
                      <a:lnTo>
                        <a:pt x="131" y="465"/>
                      </a:lnTo>
                      <a:lnTo>
                        <a:pt x="133" y="466"/>
                      </a:lnTo>
                      <a:lnTo>
                        <a:pt x="134" y="467"/>
                      </a:lnTo>
                      <a:lnTo>
                        <a:pt x="137" y="469"/>
                      </a:lnTo>
                      <a:lnTo>
                        <a:pt x="140" y="473"/>
                      </a:lnTo>
                      <a:lnTo>
                        <a:pt x="143" y="476"/>
                      </a:lnTo>
                      <a:lnTo>
                        <a:pt x="145" y="480"/>
                      </a:lnTo>
                      <a:lnTo>
                        <a:pt x="149" y="482"/>
                      </a:lnTo>
                      <a:lnTo>
                        <a:pt x="151" y="486"/>
                      </a:lnTo>
                      <a:lnTo>
                        <a:pt x="155" y="488"/>
                      </a:lnTo>
                      <a:lnTo>
                        <a:pt x="157" y="491"/>
                      </a:lnTo>
                      <a:lnTo>
                        <a:pt x="160" y="494"/>
                      </a:lnTo>
                      <a:lnTo>
                        <a:pt x="163" y="496"/>
                      </a:lnTo>
                      <a:lnTo>
                        <a:pt x="166" y="499"/>
                      </a:lnTo>
                      <a:lnTo>
                        <a:pt x="168" y="502"/>
                      </a:lnTo>
                      <a:lnTo>
                        <a:pt x="172" y="504"/>
                      </a:lnTo>
                      <a:lnTo>
                        <a:pt x="174" y="508"/>
                      </a:lnTo>
                      <a:lnTo>
                        <a:pt x="178" y="510"/>
                      </a:lnTo>
                      <a:lnTo>
                        <a:pt x="180" y="512"/>
                      </a:lnTo>
                      <a:lnTo>
                        <a:pt x="183" y="516"/>
                      </a:lnTo>
                      <a:lnTo>
                        <a:pt x="186" y="518"/>
                      </a:lnTo>
                      <a:lnTo>
                        <a:pt x="188" y="520"/>
                      </a:lnTo>
                      <a:lnTo>
                        <a:pt x="190" y="524"/>
                      </a:lnTo>
                      <a:lnTo>
                        <a:pt x="194" y="527"/>
                      </a:lnTo>
                      <a:lnTo>
                        <a:pt x="196" y="529"/>
                      </a:lnTo>
                      <a:lnTo>
                        <a:pt x="198" y="533"/>
                      </a:lnTo>
                      <a:lnTo>
                        <a:pt x="201" y="536"/>
                      </a:lnTo>
                      <a:lnTo>
                        <a:pt x="203" y="540"/>
                      </a:lnTo>
                      <a:lnTo>
                        <a:pt x="205" y="542"/>
                      </a:lnTo>
                      <a:lnTo>
                        <a:pt x="208" y="547"/>
                      </a:lnTo>
                      <a:lnTo>
                        <a:pt x="209" y="550"/>
                      </a:lnTo>
                      <a:lnTo>
                        <a:pt x="211" y="554"/>
                      </a:lnTo>
                      <a:lnTo>
                        <a:pt x="213" y="557"/>
                      </a:lnTo>
                      <a:lnTo>
                        <a:pt x="215" y="562"/>
                      </a:lnTo>
                      <a:lnTo>
                        <a:pt x="217" y="566"/>
                      </a:lnTo>
                      <a:lnTo>
                        <a:pt x="217" y="568"/>
                      </a:lnTo>
                      <a:lnTo>
                        <a:pt x="218" y="569"/>
                      </a:lnTo>
                      <a:lnTo>
                        <a:pt x="218" y="570"/>
                      </a:lnTo>
                      <a:lnTo>
                        <a:pt x="219" y="571"/>
                      </a:lnTo>
                      <a:lnTo>
                        <a:pt x="220" y="573"/>
                      </a:lnTo>
                      <a:lnTo>
                        <a:pt x="222" y="575"/>
                      </a:lnTo>
                      <a:lnTo>
                        <a:pt x="223" y="576"/>
                      </a:lnTo>
                      <a:lnTo>
                        <a:pt x="224" y="577"/>
                      </a:lnTo>
                      <a:lnTo>
                        <a:pt x="225" y="578"/>
                      </a:lnTo>
                      <a:lnTo>
                        <a:pt x="226" y="579"/>
                      </a:lnTo>
                      <a:lnTo>
                        <a:pt x="229" y="580"/>
                      </a:lnTo>
                      <a:lnTo>
                        <a:pt x="230" y="581"/>
                      </a:lnTo>
                      <a:lnTo>
                        <a:pt x="231" y="581"/>
                      </a:lnTo>
                      <a:lnTo>
                        <a:pt x="233" y="583"/>
                      </a:lnTo>
                      <a:lnTo>
                        <a:pt x="234" y="584"/>
                      </a:lnTo>
                      <a:lnTo>
                        <a:pt x="237" y="585"/>
                      </a:lnTo>
                      <a:lnTo>
                        <a:pt x="238" y="585"/>
                      </a:lnTo>
                      <a:lnTo>
                        <a:pt x="240" y="586"/>
                      </a:lnTo>
                      <a:lnTo>
                        <a:pt x="241" y="587"/>
                      </a:lnTo>
                      <a:lnTo>
                        <a:pt x="244" y="587"/>
                      </a:lnTo>
                      <a:lnTo>
                        <a:pt x="245" y="588"/>
                      </a:lnTo>
                      <a:lnTo>
                        <a:pt x="247" y="588"/>
                      </a:lnTo>
                      <a:lnTo>
                        <a:pt x="248" y="590"/>
                      </a:lnTo>
                      <a:lnTo>
                        <a:pt x="249" y="590"/>
                      </a:lnTo>
                      <a:lnTo>
                        <a:pt x="252" y="591"/>
                      </a:lnTo>
                      <a:lnTo>
                        <a:pt x="253" y="591"/>
                      </a:lnTo>
                      <a:lnTo>
                        <a:pt x="254" y="591"/>
                      </a:lnTo>
                      <a:lnTo>
                        <a:pt x="255" y="591"/>
                      </a:lnTo>
                      <a:lnTo>
                        <a:pt x="256" y="592"/>
                      </a:lnTo>
                      <a:lnTo>
                        <a:pt x="257" y="592"/>
                      </a:lnTo>
                      <a:lnTo>
                        <a:pt x="259" y="592"/>
                      </a:lnTo>
                      <a:lnTo>
                        <a:pt x="260" y="592"/>
                      </a:lnTo>
                      <a:lnTo>
                        <a:pt x="256" y="590"/>
                      </a:lnTo>
                      <a:lnTo>
                        <a:pt x="254" y="587"/>
                      </a:lnTo>
                      <a:lnTo>
                        <a:pt x="250" y="585"/>
                      </a:lnTo>
                      <a:lnTo>
                        <a:pt x="248" y="583"/>
                      </a:lnTo>
                      <a:lnTo>
                        <a:pt x="246" y="580"/>
                      </a:lnTo>
                      <a:lnTo>
                        <a:pt x="244" y="578"/>
                      </a:lnTo>
                      <a:lnTo>
                        <a:pt x="241" y="575"/>
                      </a:lnTo>
                      <a:lnTo>
                        <a:pt x="239" y="572"/>
                      </a:lnTo>
                      <a:lnTo>
                        <a:pt x="237" y="570"/>
                      </a:lnTo>
                      <a:lnTo>
                        <a:pt x="234" y="566"/>
                      </a:lnTo>
                      <a:lnTo>
                        <a:pt x="232" y="564"/>
                      </a:lnTo>
                      <a:lnTo>
                        <a:pt x="230" y="561"/>
                      </a:lnTo>
                      <a:lnTo>
                        <a:pt x="229" y="558"/>
                      </a:lnTo>
                      <a:lnTo>
                        <a:pt x="226" y="555"/>
                      </a:lnTo>
                      <a:lnTo>
                        <a:pt x="225" y="553"/>
                      </a:lnTo>
                      <a:lnTo>
                        <a:pt x="223" y="549"/>
                      </a:lnTo>
                      <a:lnTo>
                        <a:pt x="222" y="547"/>
                      </a:lnTo>
                      <a:lnTo>
                        <a:pt x="219" y="543"/>
                      </a:lnTo>
                      <a:lnTo>
                        <a:pt x="218" y="540"/>
                      </a:lnTo>
                      <a:lnTo>
                        <a:pt x="216" y="538"/>
                      </a:lnTo>
                      <a:lnTo>
                        <a:pt x="215" y="534"/>
                      </a:lnTo>
                      <a:lnTo>
                        <a:pt x="212" y="532"/>
                      </a:lnTo>
                      <a:lnTo>
                        <a:pt x="211" y="528"/>
                      </a:lnTo>
                      <a:lnTo>
                        <a:pt x="210" y="526"/>
                      </a:lnTo>
                      <a:lnTo>
                        <a:pt x="208" y="523"/>
                      </a:lnTo>
                      <a:lnTo>
                        <a:pt x="207" y="520"/>
                      </a:lnTo>
                      <a:lnTo>
                        <a:pt x="204" y="517"/>
                      </a:lnTo>
                      <a:lnTo>
                        <a:pt x="203" y="514"/>
                      </a:lnTo>
                      <a:lnTo>
                        <a:pt x="201" y="512"/>
                      </a:lnTo>
                      <a:lnTo>
                        <a:pt x="198" y="509"/>
                      </a:lnTo>
                      <a:lnTo>
                        <a:pt x="197" y="506"/>
                      </a:lnTo>
                      <a:lnTo>
                        <a:pt x="195" y="504"/>
                      </a:lnTo>
                      <a:lnTo>
                        <a:pt x="194" y="503"/>
                      </a:lnTo>
                      <a:lnTo>
                        <a:pt x="194" y="502"/>
                      </a:lnTo>
                      <a:lnTo>
                        <a:pt x="193" y="501"/>
                      </a:lnTo>
                      <a:lnTo>
                        <a:pt x="192" y="499"/>
                      </a:lnTo>
                      <a:lnTo>
                        <a:pt x="190" y="498"/>
                      </a:lnTo>
                      <a:lnTo>
                        <a:pt x="189" y="497"/>
                      </a:lnTo>
                      <a:lnTo>
                        <a:pt x="188" y="495"/>
                      </a:lnTo>
                      <a:lnTo>
                        <a:pt x="186" y="494"/>
                      </a:lnTo>
                      <a:lnTo>
                        <a:pt x="185" y="493"/>
                      </a:lnTo>
                      <a:lnTo>
                        <a:pt x="183" y="490"/>
                      </a:lnTo>
                      <a:lnTo>
                        <a:pt x="182" y="489"/>
                      </a:lnTo>
                      <a:lnTo>
                        <a:pt x="181" y="487"/>
                      </a:lnTo>
                      <a:lnTo>
                        <a:pt x="179" y="486"/>
                      </a:lnTo>
                      <a:lnTo>
                        <a:pt x="178" y="483"/>
                      </a:lnTo>
                      <a:lnTo>
                        <a:pt x="177" y="482"/>
                      </a:lnTo>
                      <a:lnTo>
                        <a:pt x="175" y="480"/>
                      </a:lnTo>
                      <a:lnTo>
                        <a:pt x="174" y="479"/>
                      </a:lnTo>
                      <a:lnTo>
                        <a:pt x="172" y="476"/>
                      </a:lnTo>
                      <a:lnTo>
                        <a:pt x="171" y="475"/>
                      </a:lnTo>
                      <a:lnTo>
                        <a:pt x="170" y="473"/>
                      </a:lnTo>
                      <a:lnTo>
                        <a:pt x="168" y="471"/>
                      </a:lnTo>
                      <a:lnTo>
                        <a:pt x="167" y="469"/>
                      </a:lnTo>
                      <a:lnTo>
                        <a:pt x="166" y="467"/>
                      </a:lnTo>
                      <a:lnTo>
                        <a:pt x="165" y="466"/>
                      </a:lnTo>
                      <a:lnTo>
                        <a:pt x="164" y="464"/>
                      </a:lnTo>
                      <a:lnTo>
                        <a:pt x="164" y="462"/>
                      </a:lnTo>
                      <a:lnTo>
                        <a:pt x="163" y="460"/>
                      </a:lnTo>
                      <a:lnTo>
                        <a:pt x="163" y="459"/>
                      </a:lnTo>
                      <a:lnTo>
                        <a:pt x="161" y="458"/>
                      </a:lnTo>
                      <a:lnTo>
                        <a:pt x="161" y="456"/>
                      </a:lnTo>
                      <a:lnTo>
                        <a:pt x="161" y="454"/>
                      </a:lnTo>
                      <a:lnTo>
                        <a:pt x="161" y="453"/>
                      </a:lnTo>
                      <a:lnTo>
                        <a:pt x="166" y="459"/>
                      </a:lnTo>
                      <a:lnTo>
                        <a:pt x="171" y="465"/>
                      </a:lnTo>
                      <a:lnTo>
                        <a:pt x="175" y="471"/>
                      </a:lnTo>
                      <a:lnTo>
                        <a:pt x="181" y="476"/>
                      </a:lnTo>
                      <a:lnTo>
                        <a:pt x="186" y="483"/>
                      </a:lnTo>
                      <a:lnTo>
                        <a:pt x="190" y="489"/>
                      </a:lnTo>
                      <a:lnTo>
                        <a:pt x="195" y="495"/>
                      </a:lnTo>
                      <a:lnTo>
                        <a:pt x="201" y="502"/>
                      </a:lnTo>
                      <a:lnTo>
                        <a:pt x="205" y="508"/>
                      </a:lnTo>
                      <a:lnTo>
                        <a:pt x="210" y="514"/>
                      </a:lnTo>
                      <a:lnTo>
                        <a:pt x="216" y="520"/>
                      </a:lnTo>
                      <a:lnTo>
                        <a:pt x="220" y="526"/>
                      </a:lnTo>
                      <a:lnTo>
                        <a:pt x="226" y="532"/>
                      </a:lnTo>
                      <a:lnTo>
                        <a:pt x="231" y="539"/>
                      </a:lnTo>
                      <a:lnTo>
                        <a:pt x="237" y="545"/>
                      </a:lnTo>
                      <a:lnTo>
                        <a:pt x="241" y="550"/>
                      </a:lnTo>
                      <a:lnTo>
                        <a:pt x="247" y="555"/>
                      </a:lnTo>
                      <a:lnTo>
                        <a:pt x="253" y="561"/>
                      </a:lnTo>
                      <a:lnTo>
                        <a:pt x="257" y="566"/>
                      </a:lnTo>
                      <a:lnTo>
                        <a:pt x="263" y="571"/>
                      </a:lnTo>
                      <a:lnTo>
                        <a:pt x="269" y="576"/>
                      </a:lnTo>
                      <a:lnTo>
                        <a:pt x="274" y="580"/>
                      </a:lnTo>
                      <a:lnTo>
                        <a:pt x="279" y="585"/>
                      </a:lnTo>
                      <a:lnTo>
                        <a:pt x="285" y="590"/>
                      </a:lnTo>
                      <a:lnTo>
                        <a:pt x="291" y="593"/>
                      </a:lnTo>
                      <a:lnTo>
                        <a:pt x="297" y="598"/>
                      </a:lnTo>
                      <a:lnTo>
                        <a:pt x="302" y="601"/>
                      </a:lnTo>
                      <a:lnTo>
                        <a:pt x="308" y="603"/>
                      </a:lnTo>
                      <a:lnTo>
                        <a:pt x="314" y="607"/>
                      </a:lnTo>
                      <a:lnTo>
                        <a:pt x="320" y="609"/>
                      </a:lnTo>
                      <a:lnTo>
                        <a:pt x="326" y="610"/>
                      </a:lnTo>
                      <a:lnTo>
                        <a:pt x="332" y="613"/>
                      </a:lnTo>
                      <a:lnTo>
                        <a:pt x="322" y="605"/>
                      </a:lnTo>
                      <a:lnTo>
                        <a:pt x="312" y="596"/>
                      </a:lnTo>
                      <a:lnTo>
                        <a:pt x="302" y="588"/>
                      </a:lnTo>
                      <a:lnTo>
                        <a:pt x="294" y="581"/>
                      </a:lnTo>
                      <a:lnTo>
                        <a:pt x="287" y="575"/>
                      </a:lnTo>
                      <a:lnTo>
                        <a:pt x="281" y="569"/>
                      </a:lnTo>
                      <a:lnTo>
                        <a:pt x="274" y="563"/>
                      </a:lnTo>
                      <a:lnTo>
                        <a:pt x="268" y="557"/>
                      </a:lnTo>
                      <a:lnTo>
                        <a:pt x="262" y="551"/>
                      </a:lnTo>
                      <a:lnTo>
                        <a:pt x="257" y="547"/>
                      </a:lnTo>
                      <a:lnTo>
                        <a:pt x="254" y="542"/>
                      </a:lnTo>
                      <a:lnTo>
                        <a:pt x="249" y="538"/>
                      </a:lnTo>
                      <a:lnTo>
                        <a:pt x="246" y="534"/>
                      </a:lnTo>
                      <a:lnTo>
                        <a:pt x="244" y="529"/>
                      </a:lnTo>
                      <a:lnTo>
                        <a:pt x="241" y="526"/>
                      </a:lnTo>
                      <a:lnTo>
                        <a:pt x="239" y="523"/>
                      </a:lnTo>
                      <a:lnTo>
                        <a:pt x="237" y="519"/>
                      </a:lnTo>
                      <a:lnTo>
                        <a:pt x="235" y="517"/>
                      </a:lnTo>
                      <a:lnTo>
                        <a:pt x="234" y="513"/>
                      </a:lnTo>
                      <a:lnTo>
                        <a:pt x="233" y="511"/>
                      </a:lnTo>
                      <a:lnTo>
                        <a:pt x="233" y="509"/>
                      </a:lnTo>
                      <a:lnTo>
                        <a:pt x="232" y="506"/>
                      </a:lnTo>
                      <a:lnTo>
                        <a:pt x="232" y="503"/>
                      </a:lnTo>
                      <a:lnTo>
                        <a:pt x="232" y="501"/>
                      </a:lnTo>
                      <a:lnTo>
                        <a:pt x="232" y="499"/>
                      </a:lnTo>
                      <a:lnTo>
                        <a:pt x="232" y="497"/>
                      </a:lnTo>
                      <a:lnTo>
                        <a:pt x="232" y="495"/>
                      </a:lnTo>
                      <a:lnTo>
                        <a:pt x="232" y="493"/>
                      </a:lnTo>
                      <a:lnTo>
                        <a:pt x="233" y="490"/>
                      </a:lnTo>
                      <a:lnTo>
                        <a:pt x="233" y="488"/>
                      </a:lnTo>
                      <a:lnTo>
                        <a:pt x="233" y="486"/>
                      </a:lnTo>
                      <a:lnTo>
                        <a:pt x="233" y="483"/>
                      </a:lnTo>
                      <a:lnTo>
                        <a:pt x="233" y="487"/>
                      </a:lnTo>
                      <a:lnTo>
                        <a:pt x="234" y="489"/>
                      </a:lnTo>
                      <a:lnTo>
                        <a:pt x="234" y="493"/>
                      </a:lnTo>
                      <a:lnTo>
                        <a:pt x="234" y="495"/>
                      </a:lnTo>
                      <a:lnTo>
                        <a:pt x="235" y="497"/>
                      </a:lnTo>
                      <a:lnTo>
                        <a:pt x="235" y="501"/>
                      </a:lnTo>
                      <a:lnTo>
                        <a:pt x="237" y="503"/>
                      </a:lnTo>
                      <a:lnTo>
                        <a:pt x="238" y="505"/>
                      </a:lnTo>
                      <a:lnTo>
                        <a:pt x="239" y="508"/>
                      </a:lnTo>
                      <a:lnTo>
                        <a:pt x="239" y="511"/>
                      </a:lnTo>
                      <a:lnTo>
                        <a:pt x="240" y="513"/>
                      </a:lnTo>
                      <a:lnTo>
                        <a:pt x="241" y="516"/>
                      </a:lnTo>
                      <a:lnTo>
                        <a:pt x="244" y="518"/>
                      </a:lnTo>
                      <a:lnTo>
                        <a:pt x="245" y="519"/>
                      </a:lnTo>
                      <a:lnTo>
                        <a:pt x="246" y="521"/>
                      </a:lnTo>
                      <a:lnTo>
                        <a:pt x="248" y="524"/>
                      </a:lnTo>
                      <a:lnTo>
                        <a:pt x="249" y="526"/>
                      </a:lnTo>
                      <a:lnTo>
                        <a:pt x="250" y="527"/>
                      </a:lnTo>
                      <a:lnTo>
                        <a:pt x="253" y="529"/>
                      </a:lnTo>
                      <a:lnTo>
                        <a:pt x="255" y="531"/>
                      </a:lnTo>
                      <a:lnTo>
                        <a:pt x="256" y="532"/>
                      </a:lnTo>
                      <a:lnTo>
                        <a:pt x="259" y="533"/>
                      </a:lnTo>
                      <a:lnTo>
                        <a:pt x="261" y="535"/>
                      </a:lnTo>
                      <a:lnTo>
                        <a:pt x="263" y="536"/>
                      </a:lnTo>
                      <a:lnTo>
                        <a:pt x="264" y="536"/>
                      </a:lnTo>
                      <a:lnTo>
                        <a:pt x="267" y="538"/>
                      </a:lnTo>
                      <a:lnTo>
                        <a:pt x="269" y="539"/>
                      </a:lnTo>
                      <a:lnTo>
                        <a:pt x="271" y="539"/>
                      </a:lnTo>
                      <a:lnTo>
                        <a:pt x="274" y="540"/>
                      </a:lnTo>
                      <a:lnTo>
                        <a:pt x="276" y="540"/>
                      </a:lnTo>
                      <a:lnTo>
                        <a:pt x="278" y="540"/>
                      </a:lnTo>
                      <a:lnTo>
                        <a:pt x="281" y="540"/>
                      </a:lnTo>
                      <a:lnTo>
                        <a:pt x="291" y="527"/>
                      </a:lnTo>
                      <a:lnTo>
                        <a:pt x="290" y="526"/>
                      </a:lnTo>
                      <a:lnTo>
                        <a:pt x="289" y="525"/>
                      </a:lnTo>
                      <a:lnTo>
                        <a:pt x="287" y="523"/>
                      </a:lnTo>
                      <a:lnTo>
                        <a:pt x="285" y="521"/>
                      </a:lnTo>
                      <a:lnTo>
                        <a:pt x="284" y="520"/>
                      </a:lnTo>
                      <a:lnTo>
                        <a:pt x="283" y="518"/>
                      </a:lnTo>
                      <a:lnTo>
                        <a:pt x="282" y="517"/>
                      </a:lnTo>
                      <a:lnTo>
                        <a:pt x="279" y="516"/>
                      </a:lnTo>
                      <a:lnTo>
                        <a:pt x="278" y="513"/>
                      </a:lnTo>
                      <a:lnTo>
                        <a:pt x="277" y="512"/>
                      </a:lnTo>
                      <a:lnTo>
                        <a:pt x="275" y="511"/>
                      </a:lnTo>
                      <a:lnTo>
                        <a:pt x="274" y="509"/>
                      </a:lnTo>
                      <a:lnTo>
                        <a:pt x="271" y="508"/>
                      </a:lnTo>
                      <a:lnTo>
                        <a:pt x="270" y="505"/>
                      </a:lnTo>
                      <a:lnTo>
                        <a:pt x="269" y="504"/>
                      </a:lnTo>
                      <a:lnTo>
                        <a:pt x="267" y="502"/>
                      </a:lnTo>
                      <a:lnTo>
                        <a:pt x="265" y="501"/>
                      </a:lnTo>
                      <a:lnTo>
                        <a:pt x="264" y="499"/>
                      </a:lnTo>
                      <a:lnTo>
                        <a:pt x="262" y="497"/>
                      </a:lnTo>
                      <a:lnTo>
                        <a:pt x="261" y="496"/>
                      </a:lnTo>
                      <a:lnTo>
                        <a:pt x="260" y="494"/>
                      </a:lnTo>
                      <a:lnTo>
                        <a:pt x="259" y="493"/>
                      </a:lnTo>
                      <a:lnTo>
                        <a:pt x="256" y="490"/>
                      </a:lnTo>
                      <a:lnTo>
                        <a:pt x="255" y="488"/>
                      </a:lnTo>
                      <a:lnTo>
                        <a:pt x="254" y="487"/>
                      </a:lnTo>
                      <a:lnTo>
                        <a:pt x="253" y="484"/>
                      </a:lnTo>
                      <a:lnTo>
                        <a:pt x="252" y="483"/>
                      </a:lnTo>
                      <a:lnTo>
                        <a:pt x="250" y="481"/>
                      </a:lnTo>
                      <a:lnTo>
                        <a:pt x="249" y="479"/>
                      </a:lnTo>
                      <a:lnTo>
                        <a:pt x="248" y="478"/>
                      </a:lnTo>
                      <a:lnTo>
                        <a:pt x="248" y="475"/>
                      </a:lnTo>
                      <a:lnTo>
                        <a:pt x="247" y="473"/>
                      </a:lnTo>
                      <a:lnTo>
                        <a:pt x="249" y="476"/>
                      </a:lnTo>
                      <a:lnTo>
                        <a:pt x="252" y="479"/>
                      </a:lnTo>
                      <a:lnTo>
                        <a:pt x="254" y="482"/>
                      </a:lnTo>
                      <a:lnTo>
                        <a:pt x="257" y="486"/>
                      </a:lnTo>
                      <a:lnTo>
                        <a:pt x="260" y="489"/>
                      </a:lnTo>
                      <a:lnTo>
                        <a:pt x="263" y="493"/>
                      </a:lnTo>
                      <a:lnTo>
                        <a:pt x="265" y="496"/>
                      </a:lnTo>
                      <a:lnTo>
                        <a:pt x="269" y="499"/>
                      </a:lnTo>
                      <a:lnTo>
                        <a:pt x="272" y="503"/>
                      </a:lnTo>
                      <a:lnTo>
                        <a:pt x="275" y="506"/>
                      </a:lnTo>
                      <a:lnTo>
                        <a:pt x="278" y="510"/>
                      </a:lnTo>
                      <a:lnTo>
                        <a:pt x="282" y="513"/>
                      </a:lnTo>
                      <a:lnTo>
                        <a:pt x="285" y="517"/>
                      </a:lnTo>
                      <a:lnTo>
                        <a:pt x="289" y="519"/>
                      </a:lnTo>
                      <a:lnTo>
                        <a:pt x="292" y="523"/>
                      </a:lnTo>
                      <a:lnTo>
                        <a:pt x="296" y="526"/>
                      </a:lnTo>
                      <a:lnTo>
                        <a:pt x="299" y="529"/>
                      </a:lnTo>
                      <a:lnTo>
                        <a:pt x="302" y="532"/>
                      </a:lnTo>
                      <a:lnTo>
                        <a:pt x="306" y="535"/>
                      </a:lnTo>
                      <a:lnTo>
                        <a:pt x="309" y="538"/>
                      </a:lnTo>
                      <a:lnTo>
                        <a:pt x="313" y="540"/>
                      </a:lnTo>
                      <a:lnTo>
                        <a:pt x="316" y="542"/>
                      </a:lnTo>
                      <a:lnTo>
                        <a:pt x="321" y="545"/>
                      </a:lnTo>
                      <a:lnTo>
                        <a:pt x="324" y="547"/>
                      </a:lnTo>
                      <a:lnTo>
                        <a:pt x="328" y="549"/>
                      </a:lnTo>
                      <a:lnTo>
                        <a:pt x="331" y="550"/>
                      </a:lnTo>
                      <a:lnTo>
                        <a:pt x="335" y="553"/>
                      </a:lnTo>
                      <a:lnTo>
                        <a:pt x="338" y="554"/>
                      </a:lnTo>
                      <a:lnTo>
                        <a:pt x="343" y="555"/>
                      </a:lnTo>
                      <a:lnTo>
                        <a:pt x="346" y="555"/>
                      </a:lnTo>
                      <a:lnTo>
                        <a:pt x="350" y="556"/>
                      </a:lnTo>
                      <a:lnTo>
                        <a:pt x="353" y="556"/>
                      </a:lnTo>
                      <a:lnTo>
                        <a:pt x="353" y="555"/>
                      </a:lnTo>
                      <a:lnTo>
                        <a:pt x="353" y="554"/>
                      </a:lnTo>
                      <a:lnTo>
                        <a:pt x="353" y="553"/>
                      </a:lnTo>
                      <a:lnTo>
                        <a:pt x="354" y="551"/>
                      </a:lnTo>
                      <a:lnTo>
                        <a:pt x="354" y="550"/>
                      </a:lnTo>
                      <a:lnTo>
                        <a:pt x="354" y="549"/>
                      </a:lnTo>
                      <a:lnTo>
                        <a:pt x="356" y="548"/>
                      </a:lnTo>
                      <a:lnTo>
                        <a:pt x="357" y="547"/>
                      </a:lnTo>
                      <a:lnTo>
                        <a:pt x="357" y="546"/>
                      </a:lnTo>
                      <a:lnTo>
                        <a:pt x="358" y="546"/>
                      </a:lnTo>
                      <a:lnTo>
                        <a:pt x="358" y="545"/>
                      </a:lnTo>
                      <a:lnTo>
                        <a:pt x="359" y="545"/>
                      </a:lnTo>
                      <a:lnTo>
                        <a:pt x="360" y="543"/>
                      </a:lnTo>
                      <a:lnTo>
                        <a:pt x="361" y="542"/>
                      </a:lnTo>
                      <a:lnTo>
                        <a:pt x="363" y="541"/>
                      </a:lnTo>
                      <a:lnTo>
                        <a:pt x="364" y="541"/>
                      </a:lnTo>
                      <a:lnTo>
                        <a:pt x="364" y="540"/>
                      </a:lnTo>
                      <a:lnTo>
                        <a:pt x="365" y="540"/>
                      </a:lnTo>
                      <a:lnTo>
                        <a:pt x="365" y="539"/>
                      </a:lnTo>
                      <a:lnTo>
                        <a:pt x="366" y="538"/>
                      </a:lnTo>
                      <a:lnTo>
                        <a:pt x="366" y="536"/>
                      </a:lnTo>
                      <a:lnTo>
                        <a:pt x="367" y="535"/>
                      </a:lnTo>
                      <a:lnTo>
                        <a:pt x="367" y="534"/>
                      </a:lnTo>
                      <a:lnTo>
                        <a:pt x="367" y="533"/>
                      </a:lnTo>
                      <a:lnTo>
                        <a:pt x="367" y="532"/>
                      </a:lnTo>
                      <a:lnTo>
                        <a:pt x="367" y="531"/>
                      </a:lnTo>
                      <a:lnTo>
                        <a:pt x="366" y="529"/>
                      </a:lnTo>
                      <a:lnTo>
                        <a:pt x="365" y="527"/>
                      </a:lnTo>
                      <a:lnTo>
                        <a:pt x="364" y="525"/>
                      </a:lnTo>
                      <a:lnTo>
                        <a:pt x="363" y="521"/>
                      </a:lnTo>
                      <a:lnTo>
                        <a:pt x="361" y="519"/>
                      </a:lnTo>
                      <a:lnTo>
                        <a:pt x="361" y="517"/>
                      </a:lnTo>
                      <a:lnTo>
                        <a:pt x="360" y="516"/>
                      </a:lnTo>
                      <a:lnTo>
                        <a:pt x="360" y="513"/>
                      </a:lnTo>
                      <a:lnTo>
                        <a:pt x="360" y="511"/>
                      </a:lnTo>
                      <a:lnTo>
                        <a:pt x="360" y="510"/>
                      </a:lnTo>
                      <a:lnTo>
                        <a:pt x="360" y="509"/>
                      </a:lnTo>
                      <a:lnTo>
                        <a:pt x="360" y="508"/>
                      </a:lnTo>
                      <a:lnTo>
                        <a:pt x="361" y="505"/>
                      </a:lnTo>
                      <a:lnTo>
                        <a:pt x="361" y="504"/>
                      </a:lnTo>
                      <a:lnTo>
                        <a:pt x="363" y="504"/>
                      </a:lnTo>
                      <a:lnTo>
                        <a:pt x="364" y="503"/>
                      </a:lnTo>
                      <a:lnTo>
                        <a:pt x="364" y="502"/>
                      </a:lnTo>
                      <a:lnTo>
                        <a:pt x="365" y="501"/>
                      </a:lnTo>
                      <a:lnTo>
                        <a:pt x="366" y="501"/>
                      </a:lnTo>
                      <a:lnTo>
                        <a:pt x="367" y="499"/>
                      </a:lnTo>
                      <a:lnTo>
                        <a:pt x="368" y="499"/>
                      </a:lnTo>
                      <a:lnTo>
                        <a:pt x="369" y="498"/>
                      </a:lnTo>
                      <a:lnTo>
                        <a:pt x="371" y="498"/>
                      </a:lnTo>
                      <a:lnTo>
                        <a:pt x="372" y="497"/>
                      </a:lnTo>
                      <a:lnTo>
                        <a:pt x="373" y="497"/>
                      </a:lnTo>
                      <a:lnTo>
                        <a:pt x="374" y="497"/>
                      </a:lnTo>
                      <a:lnTo>
                        <a:pt x="375" y="496"/>
                      </a:lnTo>
                      <a:lnTo>
                        <a:pt x="376" y="495"/>
                      </a:lnTo>
                      <a:lnTo>
                        <a:pt x="378" y="495"/>
                      </a:lnTo>
                      <a:lnTo>
                        <a:pt x="379" y="494"/>
                      </a:lnTo>
                      <a:lnTo>
                        <a:pt x="381" y="496"/>
                      </a:lnTo>
                      <a:lnTo>
                        <a:pt x="383" y="498"/>
                      </a:lnTo>
                      <a:lnTo>
                        <a:pt x="386" y="501"/>
                      </a:lnTo>
                      <a:lnTo>
                        <a:pt x="388" y="503"/>
                      </a:lnTo>
                      <a:lnTo>
                        <a:pt x="389" y="504"/>
                      </a:lnTo>
                      <a:lnTo>
                        <a:pt x="391" y="506"/>
                      </a:lnTo>
                      <a:lnTo>
                        <a:pt x="394" y="508"/>
                      </a:lnTo>
                      <a:lnTo>
                        <a:pt x="396" y="510"/>
                      </a:lnTo>
                      <a:lnTo>
                        <a:pt x="398" y="511"/>
                      </a:lnTo>
                      <a:lnTo>
                        <a:pt x="402" y="512"/>
                      </a:lnTo>
                      <a:lnTo>
                        <a:pt x="404" y="513"/>
                      </a:lnTo>
                      <a:lnTo>
                        <a:pt x="406" y="514"/>
                      </a:lnTo>
                      <a:lnTo>
                        <a:pt x="409" y="516"/>
                      </a:lnTo>
                      <a:lnTo>
                        <a:pt x="411" y="517"/>
                      </a:lnTo>
                      <a:lnTo>
                        <a:pt x="413" y="518"/>
                      </a:lnTo>
                      <a:lnTo>
                        <a:pt x="417" y="519"/>
                      </a:lnTo>
                      <a:lnTo>
                        <a:pt x="419" y="520"/>
                      </a:lnTo>
                      <a:lnTo>
                        <a:pt x="421" y="520"/>
                      </a:lnTo>
                      <a:lnTo>
                        <a:pt x="425" y="521"/>
                      </a:lnTo>
                      <a:lnTo>
                        <a:pt x="427" y="521"/>
                      </a:lnTo>
                      <a:lnTo>
                        <a:pt x="430" y="523"/>
                      </a:lnTo>
                      <a:lnTo>
                        <a:pt x="433" y="523"/>
                      </a:lnTo>
                      <a:lnTo>
                        <a:pt x="435" y="524"/>
                      </a:lnTo>
                      <a:lnTo>
                        <a:pt x="438" y="524"/>
                      </a:lnTo>
                      <a:lnTo>
                        <a:pt x="441" y="524"/>
                      </a:lnTo>
                      <a:lnTo>
                        <a:pt x="443" y="524"/>
                      </a:lnTo>
                      <a:lnTo>
                        <a:pt x="447" y="525"/>
                      </a:lnTo>
                      <a:lnTo>
                        <a:pt x="449" y="525"/>
                      </a:lnTo>
                      <a:lnTo>
                        <a:pt x="452" y="525"/>
                      </a:lnTo>
                      <a:lnTo>
                        <a:pt x="455" y="525"/>
                      </a:lnTo>
                      <a:lnTo>
                        <a:pt x="457" y="525"/>
                      </a:lnTo>
                      <a:lnTo>
                        <a:pt x="461" y="525"/>
                      </a:lnTo>
                      <a:lnTo>
                        <a:pt x="469" y="514"/>
                      </a:lnTo>
                      <a:lnTo>
                        <a:pt x="469" y="504"/>
                      </a:lnTo>
                      <a:lnTo>
                        <a:pt x="468" y="502"/>
                      </a:lnTo>
                      <a:lnTo>
                        <a:pt x="467" y="498"/>
                      </a:lnTo>
                      <a:lnTo>
                        <a:pt x="465" y="496"/>
                      </a:lnTo>
                      <a:lnTo>
                        <a:pt x="463" y="494"/>
                      </a:lnTo>
                      <a:lnTo>
                        <a:pt x="461" y="490"/>
                      </a:lnTo>
                      <a:lnTo>
                        <a:pt x="457" y="488"/>
                      </a:lnTo>
                      <a:lnTo>
                        <a:pt x="455" y="486"/>
                      </a:lnTo>
                      <a:lnTo>
                        <a:pt x="450" y="483"/>
                      </a:lnTo>
                      <a:lnTo>
                        <a:pt x="447" y="481"/>
                      </a:lnTo>
                      <a:lnTo>
                        <a:pt x="442" y="480"/>
                      </a:lnTo>
                      <a:lnTo>
                        <a:pt x="439" y="478"/>
                      </a:lnTo>
                      <a:lnTo>
                        <a:pt x="434" y="475"/>
                      </a:lnTo>
                      <a:lnTo>
                        <a:pt x="428" y="473"/>
                      </a:lnTo>
                      <a:lnTo>
                        <a:pt x="424" y="472"/>
                      </a:lnTo>
                      <a:lnTo>
                        <a:pt x="419" y="469"/>
                      </a:lnTo>
                      <a:lnTo>
                        <a:pt x="413" y="468"/>
                      </a:lnTo>
                      <a:lnTo>
                        <a:pt x="409" y="466"/>
                      </a:lnTo>
                      <a:lnTo>
                        <a:pt x="404" y="465"/>
                      </a:lnTo>
                      <a:lnTo>
                        <a:pt x="398" y="464"/>
                      </a:lnTo>
                      <a:lnTo>
                        <a:pt x="394" y="461"/>
                      </a:lnTo>
                      <a:lnTo>
                        <a:pt x="389" y="460"/>
                      </a:lnTo>
                      <a:lnTo>
                        <a:pt x="383" y="459"/>
                      </a:lnTo>
                      <a:lnTo>
                        <a:pt x="379" y="458"/>
                      </a:lnTo>
                      <a:lnTo>
                        <a:pt x="374" y="457"/>
                      </a:lnTo>
                      <a:lnTo>
                        <a:pt x="371" y="454"/>
                      </a:lnTo>
                      <a:lnTo>
                        <a:pt x="366" y="453"/>
                      </a:lnTo>
                      <a:lnTo>
                        <a:pt x="363" y="452"/>
                      </a:lnTo>
                      <a:lnTo>
                        <a:pt x="359" y="451"/>
                      </a:lnTo>
                      <a:lnTo>
                        <a:pt x="356" y="450"/>
                      </a:lnTo>
                      <a:lnTo>
                        <a:pt x="353" y="450"/>
                      </a:lnTo>
                      <a:lnTo>
                        <a:pt x="351" y="449"/>
                      </a:lnTo>
                      <a:lnTo>
                        <a:pt x="349" y="447"/>
                      </a:lnTo>
                      <a:lnTo>
                        <a:pt x="346" y="446"/>
                      </a:lnTo>
                      <a:lnTo>
                        <a:pt x="344" y="444"/>
                      </a:lnTo>
                      <a:lnTo>
                        <a:pt x="341" y="443"/>
                      </a:lnTo>
                      <a:lnTo>
                        <a:pt x="338" y="442"/>
                      </a:lnTo>
                      <a:lnTo>
                        <a:pt x="336" y="441"/>
                      </a:lnTo>
                      <a:lnTo>
                        <a:pt x="334" y="439"/>
                      </a:lnTo>
                      <a:lnTo>
                        <a:pt x="330" y="438"/>
                      </a:lnTo>
                      <a:lnTo>
                        <a:pt x="328" y="437"/>
                      </a:lnTo>
                      <a:lnTo>
                        <a:pt x="326" y="436"/>
                      </a:lnTo>
                      <a:lnTo>
                        <a:pt x="323" y="435"/>
                      </a:lnTo>
                      <a:lnTo>
                        <a:pt x="321" y="434"/>
                      </a:lnTo>
                      <a:lnTo>
                        <a:pt x="317" y="432"/>
                      </a:lnTo>
                      <a:lnTo>
                        <a:pt x="315" y="431"/>
                      </a:lnTo>
                      <a:lnTo>
                        <a:pt x="313" y="430"/>
                      </a:lnTo>
                      <a:lnTo>
                        <a:pt x="311" y="429"/>
                      </a:lnTo>
                      <a:lnTo>
                        <a:pt x="308" y="429"/>
                      </a:lnTo>
                      <a:lnTo>
                        <a:pt x="306" y="428"/>
                      </a:lnTo>
                      <a:lnTo>
                        <a:pt x="302" y="427"/>
                      </a:lnTo>
                      <a:lnTo>
                        <a:pt x="300" y="427"/>
                      </a:lnTo>
                      <a:lnTo>
                        <a:pt x="298" y="426"/>
                      </a:lnTo>
                      <a:lnTo>
                        <a:pt x="296" y="426"/>
                      </a:lnTo>
                      <a:lnTo>
                        <a:pt x="293" y="424"/>
                      </a:lnTo>
                      <a:lnTo>
                        <a:pt x="290" y="424"/>
                      </a:lnTo>
                      <a:lnTo>
                        <a:pt x="287" y="423"/>
                      </a:lnTo>
                      <a:lnTo>
                        <a:pt x="285" y="423"/>
                      </a:lnTo>
                      <a:lnTo>
                        <a:pt x="282" y="422"/>
                      </a:lnTo>
                      <a:lnTo>
                        <a:pt x="279" y="422"/>
                      </a:lnTo>
                      <a:lnTo>
                        <a:pt x="276" y="422"/>
                      </a:lnTo>
                      <a:lnTo>
                        <a:pt x="274" y="422"/>
                      </a:lnTo>
                      <a:lnTo>
                        <a:pt x="270" y="422"/>
                      </a:lnTo>
                      <a:lnTo>
                        <a:pt x="267" y="422"/>
                      </a:lnTo>
                      <a:lnTo>
                        <a:pt x="264" y="422"/>
                      </a:lnTo>
                      <a:lnTo>
                        <a:pt x="267" y="415"/>
                      </a:lnTo>
                      <a:lnTo>
                        <a:pt x="271" y="411"/>
                      </a:lnTo>
                      <a:lnTo>
                        <a:pt x="275" y="405"/>
                      </a:lnTo>
                      <a:lnTo>
                        <a:pt x="278" y="401"/>
                      </a:lnTo>
                      <a:lnTo>
                        <a:pt x="283" y="397"/>
                      </a:lnTo>
                      <a:lnTo>
                        <a:pt x="287" y="393"/>
                      </a:lnTo>
                      <a:lnTo>
                        <a:pt x="292" y="390"/>
                      </a:lnTo>
                      <a:lnTo>
                        <a:pt x="297" y="387"/>
                      </a:lnTo>
                      <a:lnTo>
                        <a:pt x="302" y="385"/>
                      </a:lnTo>
                      <a:lnTo>
                        <a:pt x="307" y="383"/>
                      </a:lnTo>
                      <a:lnTo>
                        <a:pt x="313" y="380"/>
                      </a:lnTo>
                      <a:lnTo>
                        <a:pt x="317" y="379"/>
                      </a:lnTo>
                      <a:lnTo>
                        <a:pt x="323" y="378"/>
                      </a:lnTo>
                      <a:lnTo>
                        <a:pt x="329" y="376"/>
                      </a:lnTo>
                      <a:lnTo>
                        <a:pt x="335" y="375"/>
                      </a:lnTo>
                      <a:lnTo>
                        <a:pt x="341" y="374"/>
                      </a:lnTo>
                      <a:lnTo>
                        <a:pt x="345" y="372"/>
                      </a:lnTo>
                      <a:lnTo>
                        <a:pt x="351" y="371"/>
                      </a:lnTo>
                      <a:lnTo>
                        <a:pt x="357" y="370"/>
                      </a:lnTo>
                      <a:lnTo>
                        <a:pt x="363" y="369"/>
                      </a:lnTo>
                      <a:lnTo>
                        <a:pt x="368" y="368"/>
                      </a:lnTo>
                      <a:lnTo>
                        <a:pt x="374" y="365"/>
                      </a:lnTo>
                      <a:lnTo>
                        <a:pt x="380" y="364"/>
                      </a:lnTo>
                      <a:lnTo>
                        <a:pt x="386" y="362"/>
                      </a:lnTo>
                      <a:lnTo>
                        <a:pt x="391" y="360"/>
                      </a:lnTo>
                      <a:lnTo>
                        <a:pt x="396" y="357"/>
                      </a:lnTo>
                      <a:lnTo>
                        <a:pt x="402" y="354"/>
                      </a:lnTo>
                      <a:lnTo>
                        <a:pt x="408" y="352"/>
                      </a:lnTo>
                      <a:lnTo>
                        <a:pt x="412" y="347"/>
                      </a:lnTo>
                      <a:lnTo>
                        <a:pt x="417" y="344"/>
                      </a:lnTo>
                      <a:lnTo>
                        <a:pt x="421" y="339"/>
                      </a:lnTo>
                      <a:lnTo>
                        <a:pt x="426" y="334"/>
                      </a:lnTo>
                      <a:lnTo>
                        <a:pt x="426" y="330"/>
                      </a:lnTo>
                      <a:lnTo>
                        <a:pt x="425" y="326"/>
                      </a:lnTo>
                      <a:lnTo>
                        <a:pt x="424" y="323"/>
                      </a:lnTo>
                      <a:lnTo>
                        <a:pt x="423" y="319"/>
                      </a:lnTo>
                      <a:lnTo>
                        <a:pt x="421" y="316"/>
                      </a:lnTo>
                      <a:lnTo>
                        <a:pt x="419" y="312"/>
                      </a:lnTo>
                      <a:lnTo>
                        <a:pt x="417" y="309"/>
                      </a:lnTo>
                      <a:lnTo>
                        <a:pt x="413" y="307"/>
                      </a:lnTo>
                      <a:lnTo>
                        <a:pt x="411" y="303"/>
                      </a:lnTo>
                      <a:lnTo>
                        <a:pt x="408" y="301"/>
                      </a:lnTo>
                      <a:lnTo>
                        <a:pt x="404" y="297"/>
                      </a:lnTo>
                      <a:lnTo>
                        <a:pt x="401" y="295"/>
                      </a:lnTo>
                      <a:lnTo>
                        <a:pt x="397" y="292"/>
                      </a:lnTo>
                      <a:lnTo>
                        <a:pt x="393" y="289"/>
                      </a:lnTo>
                      <a:lnTo>
                        <a:pt x="389" y="287"/>
                      </a:lnTo>
                      <a:lnTo>
                        <a:pt x="384" y="283"/>
                      </a:lnTo>
                      <a:lnTo>
                        <a:pt x="381" y="281"/>
                      </a:lnTo>
                      <a:lnTo>
                        <a:pt x="376" y="279"/>
                      </a:lnTo>
                      <a:lnTo>
                        <a:pt x="373" y="277"/>
                      </a:lnTo>
                      <a:lnTo>
                        <a:pt x="368" y="274"/>
                      </a:lnTo>
                      <a:lnTo>
                        <a:pt x="364" y="272"/>
                      </a:lnTo>
                      <a:lnTo>
                        <a:pt x="360" y="270"/>
                      </a:lnTo>
                      <a:lnTo>
                        <a:pt x="356" y="267"/>
                      </a:lnTo>
                      <a:lnTo>
                        <a:pt x="352" y="265"/>
                      </a:lnTo>
                      <a:lnTo>
                        <a:pt x="349" y="263"/>
                      </a:lnTo>
                      <a:lnTo>
                        <a:pt x="345" y="260"/>
                      </a:lnTo>
                      <a:lnTo>
                        <a:pt x="342" y="258"/>
                      </a:lnTo>
                      <a:lnTo>
                        <a:pt x="338" y="256"/>
                      </a:lnTo>
                      <a:lnTo>
                        <a:pt x="335" y="253"/>
                      </a:lnTo>
                      <a:lnTo>
                        <a:pt x="332" y="251"/>
                      </a:lnTo>
                      <a:lnTo>
                        <a:pt x="330" y="249"/>
                      </a:lnTo>
                      <a:lnTo>
                        <a:pt x="328" y="245"/>
                      </a:lnTo>
                      <a:lnTo>
                        <a:pt x="331" y="246"/>
                      </a:lnTo>
                      <a:lnTo>
                        <a:pt x="335" y="246"/>
                      </a:lnTo>
                      <a:lnTo>
                        <a:pt x="338" y="246"/>
                      </a:lnTo>
                      <a:lnTo>
                        <a:pt x="342" y="246"/>
                      </a:lnTo>
                      <a:lnTo>
                        <a:pt x="345" y="248"/>
                      </a:lnTo>
                      <a:lnTo>
                        <a:pt x="349" y="248"/>
                      </a:lnTo>
                      <a:lnTo>
                        <a:pt x="352" y="249"/>
                      </a:lnTo>
                      <a:lnTo>
                        <a:pt x="356" y="250"/>
                      </a:lnTo>
                      <a:lnTo>
                        <a:pt x="359" y="251"/>
                      </a:lnTo>
                      <a:lnTo>
                        <a:pt x="363" y="251"/>
                      </a:lnTo>
                      <a:lnTo>
                        <a:pt x="366" y="252"/>
                      </a:lnTo>
                      <a:lnTo>
                        <a:pt x="369" y="255"/>
                      </a:lnTo>
                      <a:lnTo>
                        <a:pt x="373" y="256"/>
                      </a:lnTo>
                      <a:lnTo>
                        <a:pt x="375" y="257"/>
                      </a:lnTo>
                      <a:lnTo>
                        <a:pt x="379" y="258"/>
                      </a:lnTo>
                      <a:lnTo>
                        <a:pt x="382" y="260"/>
                      </a:lnTo>
                      <a:lnTo>
                        <a:pt x="384" y="261"/>
                      </a:lnTo>
                      <a:lnTo>
                        <a:pt x="388" y="264"/>
                      </a:lnTo>
                      <a:lnTo>
                        <a:pt x="391" y="266"/>
                      </a:lnTo>
                      <a:lnTo>
                        <a:pt x="394" y="267"/>
                      </a:lnTo>
                      <a:lnTo>
                        <a:pt x="397" y="270"/>
                      </a:lnTo>
                      <a:lnTo>
                        <a:pt x="400" y="272"/>
                      </a:lnTo>
                      <a:lnTo>
                        <a:pt x="403" y="274"/>
                      </a:lnTo>
                      <a:lnTo>
                        <a:pt x="405" y="277"/>
                      </a:lnTo>
                      <a:lnTo>
                        <a:pt x="408" y="279"/>
                      </a:lnTo>
                      <a:lnTo>
                        <a:pt x="411" y="281"/>
                      </a:lnTo>
                      <a:lnTo>
                        <a:pt x="413" y="283"/>
                      </a:lnTo>
                      <a:lnTo>
                        <a:pt x="416" y="287"/>
                      </a:lnTo>
                      <a:lnTo>
                        <a:pt x="419" y="289"/>
                      </a:lnTo>
                      <a:lnTo>
                        <a:pt x="421" y="293"/>
                      </a:lnTo>
                      <a:lnTo>
                        <a:pt x="424" y="295"/>
                      </a:lnTo>
                      <a:lnTo>
                        <a:pt x="426" y="297"/>
                      </a:lnTo>
                      <a:lnTo>
                        <a:pt x="426" y="295"/>
                      </a:lnTo>
                      <a:lnTo>
                        <a:pt x="426" y="292"/>
                      </a:lnTo>
                      <a:lnTo>
                        <a:pt x="425" y="289"/>
                      </a:lnTo>
                      <a:lnTo>
                        <a:pt x="425" y="287"/>
                      </a:lnTo>
                      <a:lnTo>
                        <a:pt x="424" y="283"/>
                      </a:lnTo>
                      <a:lnTo>
                        <a:pt x="423" y="281"/>
                      </a:lnTo>
                      <a:lnTo>
                        <a:pt x="421" y="279"/>
                      </a:lnTo>
                      <a:lnTo>
                        <a:pt x="420" y="275"/>
                      </a:lnTo>
                      <a:lnTo>
                        <a:pt x="419" y="273"/>
                      </a:lnTo>
                      <a:lnTo>
                        <a:pt x="418" y="271"/>
                      </a:lnTo>
                      <a:lnTo>
                        <a:pt x="417" y="268"/>
                      </a:lnTo>
                      <a:lnTo>
                        <a:pt x="415" y="266"/>
                      </a:lnTo>
                      <a:lnTo>
                        <a:pt x="413" y="264"/>
                      </a:lnTo>
                      <a:lnTo>
                        <a:pt x="411" y="261"/>
                      </a:lnTo>
                      <a:lnTo>
                        <a:pt x="410" y="260"/>
                      </a:lnTo>
                      <a:lnTo>
                        <a:pt x="408" y="258"/>
                      </a:lnTo>
                      <a:lnTo>
                        <a:pt x="406" y="256"/>
                      </a:lnTo>
                      <a:lnTo>
                        <a:pt x="404" y="253"/>
                      </a:lnTo>
                      <a:lnTo>
                        <a:pt x="402" y="252"/>
                      </a:lnTo>
                      <a:lnTo>
                        <a:pt x="400" y="250"/>
                      </a:lnTo>
                      <a:lnTo>
                        <a:pt x="398" y="249"/>
                      </a:lnTo>
                      <a:lnTo>
                        <a:pt x="396" y="248"/>
                      </a:lnTo>
                      <a:lnTo>
                        <a:pt x="394" y="245"/>
                      </a:lnTo>
                      <a:lnTo>
                        <a:pt x="391" y="244"/>
                      </a:lnTo>
                      <a:lnTo>
                        <a:pt x="390" y="243"/>
                      </a:lnTo>
                      <a:lnTo>
                        <a:pt x="388" y="242"/>
                      </a:lnTo>
                      <a:lnTo>
                        <a:pt x="386" y="241"/>
                      </a:lnTo>
                      <a:lnTo>
                        <a:pt x="383" y="240"/>
                      </a:lnTo>
                      <a:lnTo>
                        <a:pt x="382" y="240"/>
                      </a:lnTo>
                      <a:lnTo>
                        <a:pt x="380" y="238"/>
                      </a:lnTo>
                      <a:lnTo>
                        <a:pt x="379" y="237"/>
                      </a:lnTo>
                      <a:lnTo>
                        <a:pt x="376" y="237"/>
                      </a:lnTo>
                      <a:lnTo>
                        <a:pt x="374" y="236"/>
                      </a:lnTo>
                      <a:lnTo>
                        <a:pt x="372" y="235"/>
                      </a:lnTo>
                      <a:lnTo>
                        <a:pt x="369" y="234"/>
                      </a:lnTo>
                      <a:lnTo>
                        <a:pt x="366" y="231"/>
                      </a:lnTo>
                      <a:lnTo>
                        <a:pt x="364" y="230"/>
                      </a:lnTo>
                      <a:lnTo>
                        <a:pt x="360" y="228"/>
                      </a:lnTo>
                      <a:lnTo>
                        <a:pt x="358" y="226"/>
                      </a:lnTo>
                      <a:lnTo>
                        <a:pt x="354" y="223"/>
                      </a:lnTo>
                      <a:lnTo>
                        <a:pt x="351" y="221"/>
                      </a:lnTo>
                      <a:lnTo>
                        <a:pt x="348" y="219"/>
                      </a:lnTo>
                      <a:lnTo>
                        <a:pt x="344" y="216"/>
                      </a:lnTo>
                      <a:lnTo>
                        <a:pt x="341" y="214"/>
                      </a:lnTo>
                      <a:lnTo>
                        <a:pt x="337" y="211"/>
                      </a:lnTo>
                      <a:lnTo>
                        <a:pt x="334" y="208"/>
                      </a:lnTo>
                      <a:lnTo>
                        <a:pt x="330" y="205"/>
                      </a:lnTo>
                      <a:lnTo>
                        <a:pt x="327" y="203"/>
                      </a:lnTo>
                      <a:lnTo>
                        <a:pt x="323" y="200"/>
                      </a:lnTo>
                      <a:lnTo>
                        <a:pt x="320" y="197"/>
                      </a:lnTo>
                      <a:lnTo>
                        <a:pt x="316" y="194"/>
                      </a:lnTo>
                      <a:lnTo>
                        <a:pt x="313" y="192"/>
                      </a:lnTo>
                      <a:lnTo>
                        <a:pt x="309" y="189"/>
                      </a:lnTo>
                      <a:lnTo>
                        <a:pt x="306" y="186"/>
                      </a:lnTo>
                      <a:lnTo>
                        <a:pt x="302" y="184"/>
                      </a:lnTo>
                      <a:lnTo>
                        <a:pt x="299" y="182"/>
                      </a:lnTo>
                      <a:lnTo>
                        <a:pt x="297" y="179"/>
                      </a:lnTo>
                      <a:lnTo>
                        <a:pt x="293" y="177"/>
                      </a:lnTo>
                      <a:lnTo>
                        <a:pt x="290" y="176"/>
                      </a:lnTo>
                      <a:lnTo>
                        <a:pt x="286" y="174"/>
                      </a:lnTo>
                      <a:lnTo>
                        <a:pt x="284" y="173"/>
                      </a:lnTo>
                      <a:lnTo>
                        <a:pt x="281" y="170"/>
                      </a:lnTo>
                      <a:lnTo>
                        <a:pt x="278" y="169"/>
                      </a:lnTo>
                      <a:lnTo>
                        <a:pt x="275" y="168"/>
                      </a:lnTo>
                      <a:lnTo>
                        <a:pt x="271" y="166"/>
                      </a:lnTo>
                      <a:lnTo>
                        <a:pt x="268" y="164"/>
                      </a:lnTo>
                      <a:lnTo>
                        <a:pt x="264" y="162"/>
                      </a:lnTo>
                      <a:lnTo>
                        <a:pt x="262" y="160"/>
                      </a:lnTo>
                      <a:lnTo>
                        <a:pt x="259" y="158"/>
                      </a:lnTo>
                      <a:lnTo>
                        <a:pt x="256" y="155"/>
                      </a:lnTo>
                      <a:lnTo>
                        <a:pt x="254" y="153"/>
                      </a:lnTo>
                      <a:lnTo>
                        <a:pt x="252" y="151"/>
                      </a:lnTo>
                      <a:lnTo>
                        <a:pt x="250" y="148"/>
                      </a:lnTo>
                      <a:lnTo>
                        <a:pt x="248" y="147"/>
                      </a:lnTo>
                      <a:lnTo>
                        <a:pt x="247" y="145"/>
                      </a:lnTo>
                      <a:lnTo>
                        <a:pt x="246" y="143"/>
                      </a:lnTo>
                      <a:lnTo>
                        <a:pt x="246" y="141"/>
                      </a:lnTo>
                      <a:lnTo>
                        <a:pt x="245" y="139"/>
                      </a:lnTo>
                      <a:lnTo>
                        <a:pt x="245" y="137"/>
                      </a:lnTo>
                      <a:lnTo>
                        <a:pt x="245" y="136"/>
                      </a:lnTo>
                      <a:lnTo>
                        <a:pt x="245" y="134"/>
                      </a:lnTo>
                      <a:lnTo>
                        <a:pt x="246" y="133"/>
                      </a:lnTo>
                      <a:lnTo>
                        <a:pt x="246" y="132"/>
                      </a:lnTo>
                      <a:lnTo>
                        <a:pt x="247" y="131"/>
                      </a:lnTo>
                      <a:lnTo>
                        <a:pt x="248" y="130"/>
                      </a:lnTo>
                      <a:lnTo>
                        <a:pt x="250" y="129"/>
                      </a:lnTo>
                      <a:lnTo>
                        <a:pt x="252" y="129"/>
                      </a:lnTo>
                      <a:lnTo>
                        <a:pt x="254" y="127"/>
                      </a:lnTo>
                      <a:lnTo>
                        <a:pt x="256" y="127"/>
                      </a:lnTo>
                      <a:lnTo>
                        <a:pt x="259" y="127"/>
                      </a:lnTo>
                      <a:lnTo>
                        <a:pt x="262" y="127"/>
                      </a:lnTo>
                      <a:lnTo>
                        <a:pt x="265" y="129"/>
                      </a:lnTo>
                      <a:lnTo>
                        <a:pt x="269" y="129"/>
                      </a:lnTo>
                      <a:lnTo>
                        <a:pt x="272" y="130"/>
                      </a:lnTo>
                      <a:lnTo>
                        <a:pt x="277" y="131"/>
                      </a:lnTo>
                      <a:lnTo>
                        <a:pt x="281" y="132"/>
                      </a:lnTo>
                      <a:lnTo>
                        <a:pt x="284" y="133"/>
                      </a:lnTo>
                      <a:lnTo>
                        <a:pt x="289" y="134"/>
                      </a:lnTo>
                      <a:lnTo>
                        <a:pt x="292" y="137"/>
                      </a:lnTo>
                      <a:lnTo>
                        <a:pt x="297" y="138"/>
                      </a:lnTo>
                      <a:lnTo>
                        <a:pt x="301" y="140"/>
                      </a:lnTo>
                      <a:lnTo>
                        <a:pt x="306" y="143"/>
                      </a:lnTo>
                      <a:lnTo>
                        <a:pt x="311" y="145"/>
                      </a:lnTo>
                      <a:lnTo>
                        <a:pt x="315" y="147"/>
                      </a:lnTo>
                      <a:lnTo>
                        <a:pt x="320" y="149"/>
                      </a:lnTo>
                      <a:lnTo>
                        <a:pt x="324" y="153"/>
                      </a:lnTo>
                      <a:lnTo>
                        <a:pt x="329" y="155"/>
                      </a:lnTo>
                      <a:lnTo>
                        <a:pt x="335" y="159"/>
                      </a:lnTo>
                      <a:lnTo>
                        <a:pt x="339" y="162"/>
                      </a:lnTo>
                      <a:lnTo>
                        <a:pt x="344" y="166"/>
                      </a:lnTo>
                      <a:lnTo>
                        <a:pt x="350" y="168"/>
                      </a:lnTo>
                      <a:lnTo>
                        <a:pt x="354" y="171"/>
                      </a:lnTo>
                      <a:lnTo>
                        <a:pt x="359" y="176"/>
                      </a:lnTo>
                      <a:lnTo>
                        <a:pt x="365" y="179"/>
                      </a:lnTo>
                      <a:lnTo>
                        <a:pt x="369" y="183"/>
                      </a:lnTo>
                      <a:lnTo>
                        <a:pt x="374" y="186"/>
                      </a:lnTo>
                      <a:lnTo>
                        <a:pt x="379" y="190"/>
                      </a:lnTo>
                      <a:lnTo>
                        <a:pt x="383" y="194"/>
                      </a:lnTo>
                      <a:lnTo>
                        <a:pt x="388" y="198"/>
                      </a:lnTo>
                      <a:lnTo>
                        <a:pt x="393" y="201"/>
                      </a:lnTo>
                      <a:lnTo>
                        <a:pt x="397" y="205"/>
                      </a:lnTo>
                      <a:lnTo>
                        <a:pt x="401" y="210"/>
                      </a:lnTo>
                      <a:lnTo>
                        <a:pt x="405" y="213"/>
                      </a:lnTo>
                      <a:lnTo>
                        <a:pt x="409" y="216"/>
                      </a:lnTo>
                      <a:lnTo>
                        <a:pt x="412" y="220"/>
                      </a:lnTo>
                      <a:lnTo>
                        <a:pt x="416" y="223"/>
                      </a:lnTo>
                      <a:lnTo>
                        <a:pt x="419" y="227"/>
                      </a:lnTo>
                      <a:lnTo>
                        <a:pt x="421" y="230"/>
                      </a:lnTo>
                      <a:lnTo>
                        <a:pt x="421" y="227"/>
                      </a:lnTo>
                      <a:lnTo>
                        <a:pt x="421" y="225"/>
                      </a:lnTo>
                      <a:lnTo>
                        <a:pt x="420" y="221"/>
                      </a:lnTo>
                      <a:lnTo>
                        <a:pt x="420" y="218"/>
                      </a:lnTo>
                      <a:lnTo>
                        <a:pt x="419" y="215"/>
                      </a:lnTo>
                      <a:lnTo>
                        <a:pt x="418" y="212"/>
                      </a:lnTo>
                      <a:lnTo>
                        <a:pt x="417" y="210"/>
                      </a:lnTo>
                      <a:lnTo>
                        <a:pt x="416" y="207"/>
                      </a:lnTo>
                      <a:lnTo>
                        <a:pt x="415" y="205"/>
                      </a:lnTo>
                      <a:lnTo>
                        <a:pt x="413" y="201"/>
                      </a:lnTo>
                      <a:lnTo>
                        <a:pt x="411" y="199"/>
                      </a:lnTo>
                      <a:lnTo>
                        <a:pt x="410" y="197"/>
                      </a:lnTo>
                      <a:lnTo>
                        <a:pt x="408" y="194"/>
                      </a:lnTo>
                      <a:lnTo>
                        <a:pt x="405" y="192"/>
                      </a:lnTo>
                      <a:lnTo>
                        <a:pt x="404" y="190"/>
                      </a:lnTo>
                      <a:lnTo>
                        <a:pt x="402" y="189"/>
                      </a:lnTo>
                      <a:lnTo>
                        <a:pt x="400" y="186"/>
                      </a:lnTo>
                      <a:lnTo>
                        <a:pt x="397" y="184"/>
                      </a:lnTo>
                      <a:lnTo>
                        <a:pt x="395" y="182"/>
                      </a:lnTo>
                      <a:lnTo>
                        <a:pt x="394" y="181"/>
                      </a:lnTo>
                      <a:lnTo>
                        <a:pt x="391" y="178"/>
                      </a:lnTo>
                      <a:lnTo>
                        <a:pt x="389" y="176"/>
                      </a:lnTo>
                      <a:lnTo>
                        <a:pt x="387" y="175"/>
                      </a:lnTo>
                      <a:lnTo>
                        <a:pt x="384" y="173"/>
                      </a:lnTo>
                      <a:lnTo>
                        <a:pt x="382" y="170"/>
                      </a:lnTo>
                      <a:lnTo>
                        <a:pt x="380" y="169"/>
                      </a:lnTo>
                      <a:lnTo>
                        <a:pt x="379" y="167"/>
                      </a:lnTo>
                      <a:lnTo>
                        <a:pt x="376" y="166"/>
                      </a:lnTo>
                      <a:lnTo>
                        <a:pt x="374" y="163"/>
                      </a:lnTo>
                      <a:lnTo>
                        <a:pt x="373" y="161"/>
                      </a:lnTo>
                      <a:lnTo>
                        <a:pt x="371" y="160"/>
                      </a:lnTo>
                      <a:lnTo>
                        <a:pt x="369" y="158"/>
                      </a:lnTo>
                      <a:lnTo>
                        <a:pt x="369" y="156"/>
                      </a:lnTo>
                      <a:lnTo>
                        <a:pt x="368" y="155"/>
                      </a:lnTo>
                      <a:lnTo>
                        <a:pt x="368" y="154"/>
                      </a:lnTo>
                      <a:lnTo>
                        <a:pt x="367" y="153"/>
                      </a:lnTo>
                      <a:lnTo>
                        <a:pt x="367" y="151"/>
                      </a:lnTo>
                      <a:lnTo>
                        <a:pt x="366" y="149"/>
                      </a:lnTo>
                      <a:lnTo>
                        <a:pt x="365" y="147"/>
                      </a:lnTo>
                      <a:lnTo>
                        <a:pt x="364" y="145"/>
                      </a:lnTo>
                      <a:lnTo>
                        <a:pt x="363" y="143"/>
                      </a:lnTo>
                      <a:lnTo>
                        <a:pt x="360" y="140"/>
                      </a:lnTo>
                      <a:lnTo>
                        <a:pt x="359" y="138"/>
                      </a:lnTo>
                      <a:lnTo>
                        <a:pt x="358" y="134"/>
                      </a:lnTo>
                      <a:lnTo>
                        <a:pt x="356" y="132"/>
                      </a:lnTo>
                      <a:lnTo>
                        <a:pt x="354" y="130"/>
                      </a:lnTo>
                      <a:lnTo>
                        <a:pt x="352" y="126"/>
                      </a:lnTo>
                      <a:lnTo>
                        <a:pt x="351" y="124"/>
                      </a:lnTo>
                      <a:lnTo>
                        <a:pt x="349" y="121"/>
                      </a:lnTo>
                      <a:lnTo>
                        <a:pt x="348" y="118"/>
                      </a:lnTo>
                      <a:lnTo>
                        <a:pt x="345" y="116"/>
                      </a:lnTo>
                      <a:lnTo>
                        <a:pt x="343" y="112"/>
                      </a:lnTo>
                      <a:lnTo>
                        <a:pt x="342" y="110"/>
                      </a:lnTo>
                      <a:lnTo>
                        <a:pt x="339" y="108"/>
                      </a:lnTo>
                      <a:lnTo>
                        <a:pt x="338" y="104"/>
                      </a:lnTo>
                      <a:lnTo>
                        <a:pt x="336" y="102"/>
                      </a:lnTo>
                      <a:lnTo>
                        <a:pt x="335" y="100"/>
                      </a:lnTo>
                      <a:lnTo>
                        <a:pt x="332" y="97"/>
                      </a:lnTo>
                      <a:lnTo>
                        <a:pt x="331" y="96"/>
                      </a:lnTo>
                      <a:lnTo>
                        <a:pt x="330" y="94"/>
                      </a:lnTo>
                      <a:lnTo>
                        <a:pt x="329" y="93"/>
                      </a:lnTo>
                      <a:lnTo>
                        <a:pt x="328" y="92"/>
                      </a:lnTo>
                      <a:lnTo>
                        <a:pt x="327" y="91"/>
                      </a:lnTo>
                      <a:lnTo>
                        <a:pt x="328" y="91"/>
                      </a:lnTo>
                      <a:lnTo>
                        <a:pt x="328" y="92"/>
                      </a:lnTo>
                      <a:lnTo>
                        <a:pt x="329" y="93"/>
                      </a:lnTo>
                      <a:lnTo>
                        <a:pt x="330" y="94"/>
                      </a:lnTo>
                      <a:lnTo>
                        <a:pt x="331" y="95"/>
                      </a:lnTo>
                      <a:lnTo>
                        <a:pt x="334" y="97"/>
                      </a:lnTo>
                      <a:lnTo>
                        <a:pt x="336" y="99"/>
                      </a:lnTo>
                      <a:lnTo>
                        <a:pt x="337" y="101"/>
                      </a:lnTo>
                      <a:lnTo>
                        <a:pt x="339" y="103"/>
                      </a:lnTo>
                      <a:lnTo>
                        <a:pt x="343" y="107"/>
                      </a:lnTo>
                      <a:lnTo>
                        <a:pt x="345" y="109"/>
                      </a:lnTo>
                      <a:lnTo>
                        <a:pt x="348" y="111"/>
                      </a:lnTo>
                      <a:lnTo>
                        <a:pt x="351" y="115"/>
                      </a:lnTo>
                      <a:lnTo>
                        <a:pt x="353" y="117"/>
                      </a:lnTo>
                      <a:lnTo>
                        <a:pt x="357" y="121"/>
                      </a:lnTo>
                      <a:lnTo>
                        <a:pt x="360" y="124"/>
                      </a:lnTo>
                      <a:lnTo>
                        <a:pt x="363" y="126"/>
                      </a:lnTo>
                      <a:lnTo>
                        <a:pt x="366" y="130"/>
                      </a:lnTo>
                      <a:lnTo>
                        <a:pt x="369" y="132"/>
                      </a:lnTo>
                      <a:lnTo>
                        <a:pt x="373" y="136"/>
                      </a:lnTo>
                      <a:lnTo>
                        <a:pt x="375" y="138"/>
                      </a:lnTo>
                      <a:lnTo>
                        <a:pt x="379" y="140"/>
                      </a:lnTo>
                      <a:lnTo>
                        <a:pt x="382" y="143"/>
                      </a:lnTo>
                      <a:lnTo>
                        <a:pt x="384" y="145"/>
                      </a:lnTo>
                      <a:lnTo>
                        <a:pt x="388" y="147"/>
                      </a:lnTo>
                      <a:lnTo>
                        <a:pt x="390" y="149"/>
                      </a:lnTo>
                      <a:lnTo>
                        <a:pt x="394" y="151"/>
                      </a:lnTo>
                      <a:lnTo>
                        <a:pt x="396" y="152"/>
                      </a:lnTo>
                      <a:lnTo>
                        <a:pt x="398" y="153"/>
                      </a:lnTo>
                      <a:lnTo>
                        <a:pt x="401" y="154"/>
                      </a:lnTo>
                      <a:lnTo>
                        <a:pt x="409" y="154"/>
                      </a:lnTo>
                      <a:lnTo>
                        <a:pt x="405" y="149"/>
                      </a:lnTo>
                      <a:lnTo>
                        <a:pt x="402" y="146"/>
                      </a:lnTo>
                      <a:lnTo>
                        <a:pt x="398" y="143"/>
                      </a:lnTo>
                      <a:lnTo>
                        <a:pt x="396" y="138"/>
                      </a:lnTo>
                      <a:lnTo>
                        <a:pt x="393" y="134"/>
                      </a:lnTo>
                      <a:lnTo>
                        <a:pt x="389" y="131"/>
                      </a:lnTo>
                      <a:lnTo>
                        <a:pt x="386" y="127"/>
                      </a:lnTo>
                      <a:lnTo>
                        <a:pt x="382" y="123"/>
                      </a:lnTo>
                      <a:lnTo>
                        <a:pt x="379" y="119"/>
                      </a:lnTo>
                      <a:lnTo>
                        <a:pt x="375" y="116"/>
                      </a:lnTo>
                      <a:lnTo>
                        <a:pt x="372" y="112"/>
                      </a:lnTo>
                      <a:lnTo>
                        <a:pt x="368" y="109"/>
                      </a:lnTo>
                      <a:lnTo>
                        <a:pt x="365" y="106"/>
                      </a:lnTo>
                      <a:lnTo>
                        <a:pt x="361" y="103"/>
                      </a:lnTo>
                      <a:lnTo>
                        <a:pt x="358" y="100"/>
                      </a:lnTo>
                      <a:lnTo>
                        <a:pt x="353" y="96"/>
                      </a:lnTo>
                      <a:lnTo>
                        <a:pt x="350" y="94"/>
                      </a:lnTo>
                      <a:lnTo>
                        <a:pt x="346" y="91"/>
                      </a:lnTo>
                      <a:lnTo>
                        <a:pt x="343" y="88"/>
                      </a:lnTo>
                      <a:lnTo>
                        <a:pt x="338" y="86"/>
                      </a:lnTo>
                      <a:lnTo>
                        <a:pt x="335" y="84"/>
                      </a:lnTo>
                      <a:lnTo>
                        <a:pt x="331" y="81"/>
                      </a:lnTo>
                      <a:lnTo>
                        <a:pt x="327" y="79"/>
                      </a:lnTo>
                      <a:lnTo>
                        <a:pt x="323" y="78"/>
                      </a:lnTo>
                      <a:lnTo>
                        <a:pt x="319" y="76"/>
                      </a:lnTo>
                      <a:lnTo>
                        <a:pt x="315" y="74"/>
                      </a:lnTo>
                      <a:lnTo>
                        <a:pt x="311" y="73"/>
                      </a:lnTo>
                      <a:lnTo>
                        <a:pt x="306" y="72"/>
                      </a:lnTo>
                      <a:lnTo>
                        <a:pt x="302" y="72"/>
                      </a:lnTo>
                      <a:lnTo>
                        <a:pt x="298" y="71"/>
                      </a:lnTo>
                      <a:lnTo>
                        <a:pt x="293" y="71"/>
                      </a:lnTo>
                      <a:lnTo>
                        <a:pt x="289" y="71"/>
                      </a:lnTo>
                      <a:lnTo>
                        <a:pt x="292" y="71"/>
                      </a:lnTo>
                      <a:lnTo>
                        <a:pt x="296" y="71"/>
                      </a:lnTo>
                      <a:lnTo>
                        <a:pt x="299" y="71"/>
                      </a:lnTo>
                      <a:lnTo>
                        <a:pt x="302" y="71"/>
                      </a:lnTo>
                      <a:lnTo>
                        <a:pt x="306" y="72"/>
                      </a:lnTo>
                      <a:lnTo>
                        <a:pt x="309" y="72"/>
                      </a:lnTo>
                      <a:lnTo>
                        <a:pt x="312" y="72"/>
                      </a:lnTo>
                      <a:lnTo>
                        <a:pt x="315" y="73"/>
                      </a:lnTo>
                      <a:lnTo>
                        <a:pt x="319" y="74"/>
                      </a:lnTo>
                      <a:lnTo>
                        <a:pt x="322" y="74"/>
                      </a:lnTo>
                      <a:lnTo>
                        <a:pt x="326" y="76"/>
                      </a:lnTo>
                      <a:lnTo>
                        <a:pt x="329" y="77"/>
                      </a:lnTo>
                      <a:lnTo>
                        <a:pt x="332" y="78"/>
                      </a:lnTo>
                      <a:lnTo>
                        <a:pt x="335" y="79"/>
                      </a:lnTo>
                      <a:lnTo>
                        <a:pt x="338" y="80"/>
                      </a:lnTo>
                      <a:lnTo>
                        <a:pt x="342" y="81"/>
                      </a:lnTo>
                      <a:lnTo>
                        <a:pt x="345" y="82"/>
                      </a:lnTo>
                      <a:lnTo>
                        <a:pt x="348" y="84"/>
                      </a:lnTo>
                      <a:lnTo>
                        <a:pt x="351" y="86"/>
                      </a:lnTo>
                      <a:lnTo>
                        <a:pt x="354" y="87"/>
                      </a:lnTo>
                      <a:lnTo>
                        <a:pt x="357" y="89"/>
                      </a:lnTo>
                      <a:lnTo>
                        <a:pt x="360" y="91"/>
                      </a:lnTo>
                      <a:lnTo>
                        <a:pt x="363" y="93"/>
                      </a:lnTo>
                      <a:lnTo>
                        <a:pt x="365" y="94"/>
                      </a:lnTo>
                      <a:lnTo>
                        <a:pt x="368" y="96"/>
                      </a:lnTo>
                      <a:lnTo>
                        <a:pt x="371" y="99"/>
                      </a:lnTo>
                      <a:lnTo>
                        <a:pt x="373" y="100"/>
                      </a:lnTo>
                      <a:lnTo>
                        <a:pt x="375" y="102"/>
                      </a:lnTo>
                      <a:lnTo>
                        <a:pt x="378" y="104"/>
                      </a:lnTo>
                      <a:lnTo>
                        <a:pt x="380" y="107"/>
                      </a:lnTo>
                      <a:lnTo>
                        <a:pt x="382" y="109"/>
                      </a:lnTo>
                      <a:lnTo>
                        <a:pt x="384" y="111"/>
                      </a:lnTo>
                      <a:lnTo>
                        <a:pt x="382" y="107"/>
                      </a:lnTo>
                      <a:lnTo>
                        <a:pt x="380" y="101"/>
                      </a:lnTo>
                      <a:lnTo>
                        <a:pt x="378" y="96"/>
                      </a:lnTo>
                      <a:lnTo>
                        <a:pt x="375" y="91"/>
                      </a:lnTo>
                      <a:lnTo>
                        <a:pt x="372" y="86"/>
                      </a:lnTo>
                      <a:lnTo>
                        <a:pt x="368" y="82"/>
                      </a:lnTo>
                      <a:lnTo>
                        <a:pt x="365" y="78"/>
                      </a:lnTo>
                      <a:lnTo>
                        <a:pt x="361" y="74"/>
                      </a:lnTo>
                      <a:lnTo>
                        <a:pt x="358" y="71"/>
                      </a:lnTo>
                      <a:lnTo>
                        <a:pt x="353" y="67"/>
                      </a:lnTo>
                      <a:lnTo>
                        <a:pt x="350" y="64"/>
                      </a:lnTo>
                      <a:lnTo>
                        <a:pt x="345" y="60"/>
                      </a:lnTo>
                      <a:lnTo>
                        <a:pt x="342" y="58"/>
                      </a:lnTo>
                      <a:lnTo>
                        <a:pt x="337" y="56"/>
                      </a:lnTo>
                      <a:lnTo>
                        <a:pt x="334" y="52"/>
                      </a:lnTo>
                      <a:lnTo>
                        <a:pt x="329" y="51"/>
                      </a:lnTo>
                      <a:lnTo>
                        <a:pt x="326" y="49"/>
                      </a:lnTo>
                      <a:lnTo>
                        <a:pt x="321" y="47"/>
                      </a:lnTo>
                      <a:lnTo>
                        <a:pt x="317" y="45"/>
                      </a:lnTo>
                      <a:lnTo>
                        <a:pt x="314" y="43"/>
                      </a:lnTo>
                      <a:lnTo>
                        <a:pt x="311" y="42"/>
                      </a:lnTo>
                      <a:lnTo>
                        <a:pt x="307" y="41"/>
                      </a:lnTo>
                      <a:lnTo>
                        <a:pt x="304" y="40"/>
                      </a:lnTo>
                      <a:lnTo>
                        <a:pt x="301" y="40"/>
                      </a:lnTo>
                      <a:lnTo>
                        <a:pt x="299" y="39"/>
                      </a:lnTo>
                      <a:lnTo>
                        <a:pt x="297" y="37"/>
                      </a:lnTo>
                      <a:lnTo>
                        <a:pt x="294" y="37"/>
                      </a:lnTo>
                      <a:lnTo>
                        <a:pt x="293" y="37"/>
                      </a:lnTo>
                      <a:lnTo>
                        <a:pt x="292" y="37"/>
                      </a:lnTo>
                      <a:lnTo>
                        <a:pt x="291" y="37"/>
                      </a:lnTo>
                      <a:close/>
                    </a:path>
                  </a:pathLst>
                </a:custGeom>
                <a:solidFill>
                  <a:srgbClr val="7f6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083280" y="5980320"/>
                  <a:ext cx="128880" cy="224280"/>
                </a:xfrm>
                <a:custGeom>
                  <a:avLst/>
                  <a:gdLst/>
                  <a:ahLst/>
                  <a:rect l="l" t="t" r="r" b="b"/>
                  <a:pathLst>
                    <a:path w="244" h="368">
                      <a:moveTo>
                        <a:pt x="205" y="0"/>
                      </a:moveTo>
                      <a:lnTo>
                        <a:pt x="218" y="0"/>
                      </a:lnTo>
                      <a:lnTo>
                        <a:pt x="226" y="2"/>
                      </a:lnTo>
                      <a:lnTo>
                        <a:pt x="231" y="5"/>
                      </a:lnTo>
                      <a:lnTo>
                        <a:pt x="235" y="10"/>
                      </a:lnTo>
                      <a:lnTo>
                        <a:pt x="236" y="15"/>
                      </a:lnTo>
                      <a:lnTo>
                        <a:pt x="238" y="22"/>
                      </a:lnTo>
                      <a:lnTo>
                        <a:pt x="241" y="28"/>
                      </a:lnTo>
                      <a:lnTo>
                        <a:pt x="244" y="34"/>
                      </a:lnTo>
                      <a:lnTo>
                        <a:pt x="223" y="48"/>
                      </a:lnTo>
                      <a:lnTo>
                        <a:pt x="201" y="65"/>
                      </a:lnTo>
                      <a:lnTo>
                        <a:pt x="179" y="85"/>
                      </a:lnTo>
                      <a:lnTo>
                        <a:pt x="157" y="107"/>
                      </a:lnTo>
                      <a:lnTo>
                        <a:pt x="137" y="129"/>
                      </a:lnTo>
                      <a:lnTo>
                        <a:pt x="117" y="151"/>
                      </a:lnTo>
                      <a:lnTo>
                        <a:pt x="99" y="170"/>
                      </a:lnTo>
                      <a:lnTo>
                        <a:pt x="81" y="188"/>
                      </a:lnTo>
                      <a:lnTo>
                        <a:pt x="59" y="188"/>
                      </a:lnTo>
                      <a:lnTo>
                        <a:pt x="58" y="194"/>
                      </a:lnTo>
                      <a:lnTo>
                        <a:pt x="58" y="198"/>
                      </a:lnTo>
                      <a:lnTo>
                        <a:pt x="57" y="200"/>
                      </a:lnTo>
                      <a:lnTo>
                        <a:pt x="57" y="203"/>
                      </a:lnTo>
                      <a:lnTo>
                        <a:pt x="57" y="205"/>
                      </a:lnTo>
                      <a:lnTo>
                        <a:pt x="57" y="208"/>
                      </a:lnTo>
                      <a:lnTo>
                        <a:pt x="57" y="214"/>
                      </a:lnTo>
                      <a:lnTo>
                        <a:pt x="57" y="223"/>
                      </a:lnTo>
                      <a:lnTo>
                        <a:pt x="49" y="237"/>
                      </a:lnTo>
                      <a:lnTo>
                        <a:pt x="41" y="255"/>
                      </a:lnTo>
                      <a:lnTo>
                        <a:pt x="32" y="274"/>
                      </a:lnTo>
                      <a:lnTo>
                        <a:pt x="22" y="296"/>
                      </a:lnTo>
                      <a:lnTo>
                        <a:pt x="14" y="317"/>
                      </a:lnTo>
                      <a:lnTo>
                        <a:pt x="7" y="338"/>
                      </a:lnTo>
                      <a:lnTo>
                        <a:pt x="3" y="355"/>
                      </a:lnTo>
                      <a:lnTo>
                        <a:pt x="0" y="368"/>
                      </a:lnTo>
                      <a:lnTo>
                        <a:pt x="0" y="335"/>
                      </a:lnTo>
                      <a:lnTo>
                        <a:pt x="1" y="309"/>
                      </a:lnTo>
                      <a:lnTo>
                        <a:pt x="3" y="287"/>
                      </a:lnTo>
                      <a:lnTo>
                        <a:pt x="5" y="268"/>
                      </a:lnTo>
                      <a:lnTo>
                        <a:pt x="10" y="252"/>
                      </a:lnTo>
                      <a:lnTo>
                        <a:pt x="14" y="237"/>
                      </a:lnTo>
                      <a:lnTo>
                        <a:pt x="20" y="221"/>
                      </a:lnTo>
                      <a:lnTo>
                        <a:pt x="27" y="204"/>
                      </a:lnTo>
                      <a:lnTo>
                        <a:pt x="36" y="184"/>
                      </a:lnTo>
                      <a:lnTo>
                        <a:pt x="47" y="167"/>
                      </a:lnTo>
                      <a:lnTo>
                        <a:pt x="56" y="153"/>
                      </a:lnTo>
                      <a:lnTo>
                        <a:pt x="65" y="141"/>
                      </a:lnTo>
                      <a:lnTo>
                        <a:pt x="73" y="131"/>
                      </a:lnTo>
                      <a:lnTo>
                        <a:pt x="81" y="123"/>
                      </a:lnTo>
                      <a:lnTo>
                        <a:pt x="88" y="116"/>
                      </a:lnTo>
                      <a:lnTo>
                        <a:pt x="93" y="110"/>
                      </a:lnTo>
                      <a:lnTo>
                        <a:pt x="104" y="95"/>
                      </a:lnTo>
                      <a:lnTo>
                        <a:pt x="118" y="79"/>
                      </a:lnTo>
                      <a:lnTo>
                        <a:pt x="133" y="63"/>
                      </a:lnTo>
                      <a:lnTo>
                        <a:pt x="148" y="47"/>
                      </a:lnTo>
                      <a:lnTo>
                        <a:pt x="163" y="32"/>
                      </a:lnTo>
                      <a:lnTo>
                        <a:pt x="178" y="19"/>
                      </a:lnTo>
                      <a:lnTo>
                        <a:pt x="192" y="9"/>
                      </a:lnTo>
                      <a:lnTo>
                        <a:pt x="205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061320" y="6004080"/>
                  <a:ext cx="249120" cy="350280"/>
                </a:xfrm>
                <a:custGeom>
                  <a:avLst/>
                  <a:gdLst/>
                  <a:ahLst/>
                  <a:rect l="l" t="t" r="r" b="b"/>
                  <a:pathLst>
                    <a:path w="469" h="576">
                      <a:moveTo>
                        <a:pt x="291" y="0"/>
                      </a:moveTo>
                      <a:lnTo>
                        <a:pt x="268" y="11"/>
                      </a:lnTo>
                      <a:lnTo>
                        <a:pt x="246" y="27"/>
                      </a:lnTo>
                      <a:lnTo>
                        <a:pt x="225" y="48"/>
                      </a:lnTo>
                      <a:lnTo>
                        <a:pt x="203" y="71"/>
                      </a:lnTo>
                      <a:lnTo>
                        <a:pt x="182" y="94"/>
                      </a:lnTo>
                      <a:lnTo>
                        <a:pt x="161" y="117"/>
                      </a:lnTo>
                      <a:lnTo>
                        <a:pt x="141" y="138"/>
                      </a:lnTo>
                      <a:lnTo>
                        <a:pt x="121" y="154"/>
                      </a:lnTo>
                      <a:lnTo>
                        <a:pt x="101" y="168"/>
                      </a:lnTo>
                      <a:lnTo>
                        <a:pt x="101" y="173"/>
                      </a:lnTo>
                      <a:lnTo>
                        <a:pt x="101" y="176"/>
                      </a:lnTo>
                      <a:lnTo>
                        <a:pt x="103" y="181"/>
                      </a:lnTo>
                      <a:lnTo>
                        <a:pt x="104" y="186"/>
                      </a:lnTo>
                      <a:lnTo>
                        <a:pt x="104" y="191"/>
                      </a:lnTo>
                      <a:lnTo>
                        <a:pt x="105" y="196"/>
                      </a:lnTo>
                      <a:lnTo>
                        <a:pt x="105" y="200"/>
                      </a:lnTo>
                      <a:lnTo>
                        <a:pt x="106" y="204"/>
                      </a:lnTo>
                      <a:lnTo>
                        <a:pt x="101" y="208"/>
                      </a:lnTo>
                      <a:lnTo>
                        <a:pt x="98" y="214"/>
                      </a:lnTo>
                      <a:lnTo>
                        <a:pt x="93" y="220"/>
                      </a:lnTo>
                      <a:lnTo>
                        <a:pt x="90" y="224"/>
                      </a:lnTo>
                      <a:lnTo>
                        <a:pt x="145" y="227"/>
                      </a:lnTo>
                      <a:lnTo>
                        <a:pt x="86" y="230"/>
                      </a:lnTo>
                      <a:lnTo>
                        <a:pt x="83" y="236"/>
                      </a:lnTo>
                      <a:lnTo>
                        <a:pt x="79" y="243"/>
                      </a:lnTo>
                      <a:lnTo>
                        <a:pt x="75" y="250"/>
                      </a:lnTo>
                      <a:lnTo>
                        <a:pt x="71" y="256"/>
                      </a:lnTo>
                      <a:lnTo>
                        <a:pt x="128" y="260"/>
                      </a:lnTo>
                      <a:lnTo>
                        <a:pt x="69" y="260"/>
                      </a:lnTo>
                      <a:lnTo>
                        <a:pt x="66" y="267"/>
                      </a:lnTo>
                      <a:lnTo>
                        <a:pt x="62" y="276"/>
                      </a:lnTo>
                      <a:lnTo>
                        <a:pt x="57" y="285"/>
                      </a:lnTo>
                      <a:lnTo>
                        <a:pt x="54" y="294"/>
                      </a:lnTo>
                      <a:lnTo>
                        <a:pt x="49" y="303"/>
                      </a:lnTo>
                      <a:lnTo>
                        <a:pt x="46" y="312"/>
                      </a:lnTo>
                      <a:lnTo>
                        <a:pt x="44" y="322"/>
                      </a:lnTo>
                      <a:lnTo>
                        <a:pt x="41" y="330"/>
                      </a:lnTo>
                      <a:lnTo>
                        <a:pt x="41" y="333"/>
                      </a:lnTo>
                      <a:lnTo>
                        <a:pt x="41" y="338"/>
                      </a:lnTo>
                      <a:lnTo>
                        <a:pt x="41" y="341"/>
                      </a:lnTo>
                      <a:lnTo>
                        <a:pt x="41" y="346"/>
                      </a:lnTo>
                      <a:lnTo>
                        <a:pt x="41" y="350"/>
                      </a:lnTo>
                      <a:lnTo>
                        <a:pt x="41" y="355"/>
                      </a:lnTo>
                      <a:lnTo>
                        <a:pt x="41" y="361"/>
                      </a:lnTo>
                      <a:lnTo>
                        <a:pt x="41" y="368"/>
                      </a:lnTo>
                      <a:lnTo>
                        <a:pt x="77" y="387"/>
                      </a:lnTo>
                      <a:lnTo>
                        <a:pt x="89" y="386"/>
                      </a:lnTo>
                      <a:lnTo>
                        <a:pt x="100" y="382"/>
                      </a:lnTo>
                      <a:lnTo>
                        <a:pt x="109" y="375"/>
                      </a:lnTo>
                      <a:lnTo>
                        <a:pt x="119" y="364"/>
                      </a:lnTo>
                      <a:lnTo>
                        <a:pt x="126" y="352"/>
                      </a:lnTo>
                      <a:lnTo>
                        <a:pt x="134" y="338"/>
                      </a:lnTo>
                      <a:lnTo>
                        <a:pt x="140" y="322"/>
                      </a:lnTo>
                      <a:lnTo>
                        <a:pt x="145" y="305"/>
                      </a:lnTo>
                      <a:lnTo>
                        <a:pt x="151" y="288"/>
                      </a:lnTo>
                      <a:lnTo>
                        <a:pt x="157" y="271"/>
                      </a:lnTo>
                      <a:lnTo>
                        <a:pt x="161" y="253"/>
                      </a:lnTo>
                      <a:lnTo>
                        <a:pt x="166" y="236"/>
                      </a:lnTo>
                      <a:lnTo>
                        <a:pt x="172" y="220"/>
                      </a:lnTo>
                      <a:lnTo>
                        <a:pt x="177" y="206"/>
                      </a:lnTo>
                      <a:lnTo>
                        <a:pt x="182" y="193"/>
                      </a:lnTo>
                      <a:lnTo>
                        <a:pt x="188" y="182"/>
                      </a:lnTo>
                      <a:lnTo>
                        <a:pt x="185" y="201"/>
                      </a:lnTo>
                      <a:lnTo>
                        <a:pt x="183" y="221"/>
                      </a:lnTo>
                      <a:lnTo>
                        <a:pt x="182" y="241"/>
                      </a:lnTo>
                      <a:lnTo>
                        <a:pt x="183" y="259"/>
                      </a:lnTo>
                      <a:lnTo>
                        <a:pt x="187" y="275"/>
                      </a:lnTo>
                      <a:lnTo>
                        <a:pt x="193" y="290"/>
                      </a:lnTo>
                      <a:lnTo>
                        <a:pt x="203" y="303"/>
                      </a:lnTo>
                      <a:lnTo>
                        <a:pt x="217" y="312"/>
                      </a:lnTo>
                      <a:lnTo>
                        <a:pt x="225" y="323"/>
                      </a:lnTo>
                      <a:lnTo>
                        <a:pt x="233" y="323"/>
                      </a:lnTo>
                      <a:lnTo>
                        <a:pt x="242" y="324"/>
                      </a:lnTo>
                      <a:lnTo>
                        <a:pt x="250" y="326"/>
                      </a:lnTo>
                      <a:lnTo>
                        <a:pt x="260" y="327"/>
                      </a:lnTo>
                      <a:lnTo>
                        <a:pt x="269" y="330"/>
                      </a:lnTo>
                      <a:lnTo>
                        <a:pt x="278" y="331"/>
                      </a:lnTo>
                      <a:lnTo>
                        <a:pt x="289" y="332"/>
                      </a:lnTo>
                      <a:lnTo>
                        <a:pt x="298" y="333"/>
                      </a:lnTo>
                      <a:lnTo>
                        <a:pt x="291" y="343"/>
                      </a:lnTo>
                      <a:lnTo>
                        <a:pt x="283" y="350"/>
                      </a:lnTo>
                      <a:lnTo>
                        <a:pt x="272" y="355"/>
                      </a:lnTo>
                      <a:lnTo>
                        <a:pt x="263" y="357"/>
                      </a:lnTo>
                      <a:lnTo>
                        <a:pt x="252" y="358"/>
                      </a:lnTo>
                      <a:lnTo>
                        <a:pt x="241" y="360"/>
                      </a:lnTo>
                      <a:lnTo>
                        <a:pt x="231" y="358"/>
                      </a:lnTo>
                      <a:lnTo>
                        <a:pt x="220" y="358"/>
                      </a:lnTo>
                      <a:lnTo>
                        <a:pt x="200" y="333"/>
                      </a:lnTo>
                      <a:lnTo>
                        <a:pt x="203" y="355"/>
                      </a:lnTo>
                      <a:lnTo>
                        <a:pt x="213" y="372"/>
                      </a:lnTo>
                      <a:lnTo>
                        <a:pt x="227" y="386"/>
                      </a:lnTo>
                      <a:lnTo>
                        <a:pt x="245" y="395"/>
                      </a:lnTo>
                      <a:lnTo>
                        <a:pt x="264" y="402"/>
                      </a:lnTo>
                      <a:lnTo>
                        <a:pt x="284" y="408"/>
                      </a:lnTo>
                      <a:lnTo>
                        <a:pt x="304" y="412"/>
                      </a:lnTo>
                      <a:lnTo>
                        <a:pt x="320" y="416"/>
                      </a:lnTo>
                      <a:lnTo>
                        <a:pt x="332" y="419"/>
                      </a:lnTo>
                      <a:lnTo>
                        <a:pt x="350" y="423"/>
                      </a:lnTo>
                      <a:lnTo>
                        <a:pt x="368" y="429"/>
                      </a:lnTo>
                      <a:lnTo>
                        <a:pt x="389" y="436"/>
                      </a:lnTo>
                      <a:lnTo>
                        <a:pt x="409" y="444"/>
                      </a:lnTo>
                      <a:lnTo>
                        <a:pt x="426" y="453"/>
                      </a:lnTo>
                      <a:lnTo>
                        <a:pt x="441" y="462"/>
                      </a:lnTo>
                      <a:lnTo>
                        <a:pt x="452" y="472"/>
                      </a:lnTo>
                      <a:lnTo>
                        <a:pt x="438" y="471"/>
                      </a:lnTo>
                      <a:lnTo>
                        <a:pt x="424" y="467"/>
                      </a:lnTo>
                      <a:lnTo>
                        <a:pt x="411" y="462"/>
                      </a:lnTo>
                      <a:lnTo>
                        <a:pt x="398" y="457"/>
                      </a:lnTo>
                      <a:lnTo>
                        <a:pt x="387" y="451"/>
                      </a:lnTo>
                      <a:lnTo>
                        <a:pt x="374" y="446"/>
                      </a:lnTo>
                      <a:lnTo>
                        <a:pt x="361" y="443"/>
                      </a:lnTo>
                      <a:lnTo>
                        <a:pt x="349" y="442"/>
                      </a:lnTo>
                      <a:lnTo>
                        <a:pt x="341" y="452"/>
                      </a:lnTo>
                      <a:lnTo>
                        <a:pt x="342" y="458"/>
                      </a:lnTo>
                      <a:lnTo>
                        <a:pt x="342" y="464"/>
                      </a:lnTo>
                      <a:lnTo>
                        <a:pt x="344" y="469"/>
                      </a:lnTo>
                      <a:lnTo>
                        <a:pt x="346" y="474"/>
                      </a:lnTo>
                      <a:lnTo>
                        <a:pt x="349" y="480"/>
                      </a:lnTo>
                      <a:lnTo>
                        <a:pt x="351" y="484"/>
                      </a:lnTo>
                      <a:lnTo>
                        <a:pt x="354" y="489"/>
                      </a:lnTo>
                      <a:lnTo>
                        <a:pt x="358" y="492"/>
                      </a:lnTo>
                      <a:lnTo>
                        <a:pt x="350" y="489"/>
                      </a:lnTo>
                      <a:lnTo>
                        <a:pt x="342" y="483"/>
                      </a:lnTo>
                      <a:lnTo>
                        <a:pt x="332" y="476"/>
                      </a:lnTo>
                      <a:lnTo>
                        <a:pt x="324" y="471"/>
                      </a:lnTo>
                      <a:lnTo>
                        <a:pt x="316" y="464"/>
                      </a:lnTo>
                      <a:lnTo>
                        <a:pt x="307" y="458"/>
                      </a:lnTo>
                      <a:lnTo>
                        <a:pt x="299" y="452"/>
                      </a:lnTo>
                      <a:lnTo>
                        <a:pt x="291" y="447"/>
                      </a:lnTo>
                      <a:lnTo>
                        <a:pt x="291" y="451"/>
                      </a:lnTo>
                      <a:lnTo>
                        <a:pt x="292" y="454"/>
                      </a:lnTo>
                      <a:lnTo>
                        <a:pt x="293" y="458"/>
                      </a:lnTo>
                      <a:lnTo>
                        <a:pt x="293" y="461"/>
                      </a:lnTo>
                      <a:lnTo>
                        <a:pt x="283" y="453"/>
                      </a:lnTo>
                      <a:lnTo>
                        <a:pt x="272" y="443"/>
                      </a:lnTo>
                      <a:lnTo>
                        <a:pt x="263" y="434"/>
                      </a:lnTo>
                      <a:lnTo>
                        <a:pt x="254" y="425"/>
                      </a:lnTo>
                      <a:lnTo>
                        <a:pt x="245" y="421"/>
                      </a:lnTo>
                      <a:lnTo>
                        <a:pt x="237" y="421"/>
                      </a:lnTo>
                      <a:lnTo>
                        <a:pt x="229" y="425"/>
                      </a:lnTo>
                      <a:lnTo>
                        <a:pt x="220" y="436"/>
                      </a:lnTo>
                      <a:lnTo>
                        <a:pt x="217" y="436"/>
                      </a:lnTo>
                      <a:lnTo>
                        <a:pt x="212" y="436"/>
                      </a:lnTo>
                      <a:lnTo>
                        <a:pt x="208" y="435"/>
                      </a:lnTo>
                      <a:lnTo>
                        <a:pt x="203" y="435"/>
                      </a:lnTo>
                      <a:lnTo>
                        <a:pt x="197" y="429"/>
                      </a:lnTo>
                      <a:lnTo>
                        <a:pt x="190" y="424"/>
                      </a:lnTo>
                      <a:lnTo>
                        <a:pt x="183" y="419"/>
                      </a:lnTo>
                      <a:lnTo>
                        <a:pt x="178" y="416"/>
                      </a:lnTo>
                      <a:lnTo>
                        <a:pt x="168" y="412"/>
                      </a:lnTo>
                      <a:lnTo>
                        <a:pt x="160" y="408"/>
                      </a:lnTo>
                      <a:lnTo>
                        <a:pt x="151" y="406"/>
                      </a:lnTo>
                      <a:lnTo>
                        <a:pt x="143" y="402"/>
                      </a:lnTo>
                      <a:lnTo>
                        <a:pt x="134" y="401"/>
                      </a:lnTo>
                      <a:lnTo>
                        <a:pt x="126" y="400"/>
                      </a:lnTo>
                      <a:lnTo>
                        <a:pt x="116" y="401"/>
                      </a:lnTo>
                      <a:lnTo>
                        <a:pt x="106" y="402"/>
                      </a:lnTo>
                      <a:lnTo>
                        <a:pt x="96" y="399"/>
                      </a:lnTo>
                      <a:lnTo>
                        <a:pt x="85" y="394"/>
                      </a:lnTo>
                      <a:lnTo>
                        <a:pt x="74" y="389"/>
                      </a:lnTo>
                      <a:lnTo>
                        <a:pt x="62" y="382"/>
                      </a:lnTo>
                      <a:lnTo>
                        <a:pt x="51" y="375"/>
                      </a:lnTo>
                      <a:lnTo>
                        <a:pt x="39" y="370"/>
                      </a:lnTo>
                      <a:lnTo>
                        <a:pt x="27" y="365"/>
                      </a:lnTo>
                      <a:lnTo>
                        <a:pt x="16" y="364"/>
                      </a:lnTo>
                      <a:lnTo>
                        <a:pt x="18" y="384"/>
                      </a:lnTo>
                      <a:lnTo>
                        <a:pt x="17" y="399"/>
                      </a:lnTo>
                      <a:lnTo>
                        <a:pt x="16" y="412"/>
                      </a:lnTo>
                      <a:lnTo>
                        <a:pt x="12" y="423"/>
                      </a:lnTo>
                      <a:lnTo>
                        <a:pt x="9" y="432"/>
                      </a:lnTo>
                      <a:lnTo>
                        <a:pt x="6" y="441"/>
                      </a:lnTo>
                      <a:lnTo>
                        <a:pt x="2" y="450"/>
                      </a:lnTo>
                      <a:lnTo>
                        <a:pt x="0" y="460"/>
                      </a:lnTo>
                      <a:lnTo>
                        <a:pt x="4" y="465"/>
                      </a:lnTo>
                      <a:lnTo>
                        <a:pt x="7" y="472"/>
                      </a:lnTo>
                      <a:lnTo>
                        <a:pt x="6" y="480"/>
                      </a:lnTo>
                      <a:lnTo>
                        <a:pt x="2" y="484"/>
                      </a:lnTo>
                      <a:lnTo>
                        <a:pt x="8" y="486"/>
                      </a:lnTo>
                      <a:lnTo>
                        <a:pt x="14" y="482"/>
                      </a:lnTo>
                      <a:lnTo>
                        <a:pt x="19" y="477"/>
                      </a:lnTo>
                      <a:lnTo>
                        <a:pt x="23" y="473"/>
                      </a:lnTo>
                      <a:lnTo>
                        <a:pt x="30" y="474"/>
                      </a:lnTo>
                      <a:lnTo>
                        <a:pt x="39" y="476"/>
                      </a:lnTo>
                      <a:lnTo>
                        <a:pt x="51" y="480"/>
                      </a:lnTo>
                      <a:lnTo>
                        <a:pt x="63" y="482"/>
                      </a:lnTo>
                      <a:lnTo>
                        <a:pt x="75" y="486"/>
                      </a:lnTo>
                      <a:lnTo>
                        <a:pt x="84" y="488"/>
                      </a:lnTo>
                      <a:lnTo>
                        <a:pt x="91" y="488"/>
                      </a:lnTo>
                      <a:lnTo>
                        <a:pt x="94" y="486"/>
                      </a:lnTo>
                      <a:lnTo>
                        <a:pt x="92" y="483"/>
                      </a:lnTo>
                      <a:lnTo>
                        <a:pt x="85" y="481"/>
                      </a:lnTo>
                      <a:lnTo>
                        <a:pt x="75" y="477"/>
                      </a:lnTo>
                      <a:lnTo>
                        <a:pt x="62" y="474"/>
                      </a:lnTo>
                      <a:lnTo>
                        <a:pt x="49" y="471"/>
                      </a:lnTo>
                      <a:lnTo>
                        <a:pt x="37" y="467"/>
                      </a:lnTo>
                      <a:lnTo>
                        <a:pt x="26" y="462"/>
                      </a:lnTo>
                      <a:lnTo>
                        <a:pt x="19" y="457"/>
                      </a:lnTo>
                      <a:lnTo>
                        <a:pt x="25" y="456"/>
                      </a:lnTo>
                      <a:lnTo>
                        <a:pt x="34" y="457"/>
                      </a:lnTo>
                      <a:lnTo>
                        <a:pt x="46" y="460"/>
                      </a:lnTo>
                      <a:lnTo>
                        <a:pt x="59" y="464"/>
                      </a:lnTo>
                      <a:lnTo>
                        <a:pt x="73" y="467"/>
                      </a:lnTo>
                      <a:lnTo>
                        <a:pt x="84" y="472"/>
                      </a:lnTo>
                      <a:lnTo>
                        <a:pt x="94" y="475"/>
                      </a:lnTo>
                      <a:lnTo>
                        <a:pt x="101" y="477"/>
                      </a:lnTo>
                      <a:lnTo>
                        <a:pt x="114" y="483"/>
                      </a:lnTo>
                      <a:lnTo>
                        <a:pt x="126" y="490"/>
                      </a:lnTo>
                      <a:lnTo>
                        <a:pt x="138" y="499"/>
                      </a:lnTo>
                      <a:lnTo>
                        <a:pt x="151" y="510"/>
                      </a:lnTo>
                      <a:lnTo>
                        <a:pt x="164" y="519"/>
                      </a:lnTo>
                      <a:lnTo>
                        <a:pt x="177" y="527"/>
                      </a:lnTo>
                      <a:lnTo>
                        <a:pt x="189" y="532"/>
                      </a:lnTo>
                      <a:lnTo>
                        <a:pt x="204" y="534"/>
                      </a:lnTo>
                      <a:lnTo>
                        <a:pt x="190" y="519"/>
                      </a:lnTo>
                      <a:lnTo>
                        <a:pt x="178" y="504"/>
                      </a:lnTo>
                      <a:lnTo>
                        <a:pt x="164" y="489"/>
                      </a:lnTo>
                      <a:lnTo>
                        <a:pt x="150" y="475"/>
                      </a:lnTo>
                      <a:lnTo>
                        <a:pt x="136" y="460"/>
                      </a:lnTo>
                      <a:lnTo>
                        <a:pt x="123" y="446"/>
                      </a:lnTo>
                      <a:lnTo>
                        <a:pt x="109" y="431"/>
                      </a:lnTo>
                      <a:lnTo>
                        <a:pt x="97" y="416"/>
                      </a:lnTo>
                      <a:lnTo>
                        <a:pt x="101" y="415"/>
                      </a:lnTo>
                      <a:lnTo>
                        <a:pt x="107" y="414"/>
                      </a:lnTo>
                      <a:lnTo>
                        <a:pt x="111" y="415"/>
                      </a:lnTo>
                      <a:lnTo>
                        <a:pt x="115" y="416"/>
                      </a:lnTo>
                      <a:lnTo>
                        <a:pt x="120" y="419"/>
                      </a:lnTo>
                      <a:lnTo>
                        <a:pt x="125" y="422"/>
                      </a:lnTo>
                      <a:lnTo>
                        <a:pt x="129" y="425"/>
                      </a:lnTo>
                      <a:lnTo>
                        <a:pt x="134" y="430"/>
                      </a:lnTo>
                      <a:lnTo>
                        <a:pt x="145" y="443"/>
                      </a:lnTo>
                      <a:lnTo>
                        <a:pt x="157" y="454"/>
                      </a:lnTo>
                      <a:lnTo>
                        <a:pt x="168" y="465"/>
                      </a:lnTo>
                      <a:lnTo>
                        <a:pt x="180" y="475"/>
                      </a:lnTo>
                      <a:lnTo>
                        <a:pt x="190" y="487"/>
                      </a:lnTo>
                      <a:lnTo>
                        <a:pt x="201" y="499"/>
                      </a:lnTo>
                      <a:lnTo>
                        <a:pt x="209" y="513"/>
                      </a:lnTo>
                      <a:lnTo>
                        <a:pt x="217" y="529"/>
                      </a:lnTo>
                      <a:lnTo>
                        <a:pt x="219" y="534"/>
                      </a:lnTo>
                      <a:lnTo>
                        <a:pt x="224" y="540"/>
                      </a:lnTo>
                      <a:lnTo>
                        <a:pt x="230" y="544"/>
                      </a:lnTo>
                      <a:lnTo>
                        <a:pt x="237" y="548"/>
                      </a:lnTo>
                      <a:lnTo>
                        <a:pt x="244" y="550"/>
                      </a:lnTo>
                      <a:lnTo>
                        <a:pt x="249" y="553"/>
                      </a:lnTo>
                      <a:lnTo>
                        <a:pt x="255" y="554"/>
                      </a:lnTo>
                      <a:lnTo>
                        <a:pt x="260" y="555"/>
                      </a:lnTo>
                      <a:lnTo>
                        <a:pt x="248" y="546"/>
                      </a:lnTo>
                      <a:lnTo>
                        <a:pt x="239" y="535"/>
                      </a:lnTo>
                      <a:lnTo>
                        <a:pt x="230" y="524"/>
                      </a:lnTo>
                      <a:lnTo>
                        <a:pt x="223" y="512"/>
                      </a:lnTo>
                      <a:lnTo>
                        <a:pt x="216" y="501"/>
                      </a:lnTo>
                      <a:lnTo>
                        <a:pt x="210" y="489"/>
                      </a:lnTo>
                      <a:lnTo>
                        <a:pt x="203" y="477"/>
                      </a:lnTo>
                      <a:lnTo>
                        <a:pt x="195" y="467"/>
                      </a:lnTo>
                      <a:lnTo>
                        <a:pt x="192" y="462"/>
                      </a:lnTo>
                      <a:lnTo>
                        <a:pt x="186" y="457"/>
                      </a:lnTo>
                      <a:lnTo>
                        <a:pt x="181" y="450"/>
                      </a:lnTo>
                      <a:lnTo>
                        <a:pt x="175" y="443"/>
                      </a:lnTo>
                      <a:lnTo>
                        <a:pt x="170" y="436"/>
                      </a:lnTo>
                      <a:lnTo>
                        <a:pt x="165" y="429"/>
                      </a:lnTo>
                      <a:lnTo>
                        <a:pt x="163" y="422"/>
                      </a:lnTo>
                      <a:lnTo>
                        <a:pt x="161" y="416"/>
                      </a:lnTo>
                      <a:lnTo>
                        <a:pt x="181" y="439"/>
                      </a:lnTo>
                      <a:lnTo>
                        <a:pt x="201" y="465"/>
                      </a:lnTo>
                      <a:lnTo>
                        <a:pt x="220" y="489"/>
                      </a:lnTo>
                      <a:lnTo>
                        <a:pt x="241" y="513"/>
                      </a:lnTo>
                      <a:lnTo>
                        <a:pt x="263" y="534"/>
                      </a:lnTo>
                      <a:lnTo>
                        <a:pt x="285" y="553"/>
                      </a:lnTo>
                      <a:lnTo>
                        <a:pt x="308" y="566"/>
                      </a:lnTo>
                      <a:lnTo>
                        <a:pt x="332" y="576"/>
                      </a:lnTo>
                      <a:lnTo>
                        <a:pt x="294" y="544"/>
                      </a:lnTo>
                      <a:lnTo>
                        <a:pt x="268" y="520"/>
                      </a:lnTo>
                      <a:lnTo>
                        <a:pt x="249" y="501"/>
                      </a:lnTo>
                      <a:lnTo>
                        <a:pt x="239" y="486"/>
                      </a:lnTo>
                      <a:lnTo>
                        <a:pt x="233" y="474"/>
                      </a:lnTo>
                      <a:lnTo>
                        <a:pt x="232" y="464"/>
                      </a:lnTo>
                      <a:lnTo>
                        <a:pt x="232" y="456"/>
                      </a:lnTo>
                      <a:lnTo>
                        <a:pt x="233" y="446"/>
                      </a:lnTo>
                      <a:lnTo>
                        <a:pt x="234" y="458"/>
                      </a:lnTo>
                      <a:lnTo>
                        <a:pt x="238" y="468"/>
                      </a:lnTo>
                      <a:lnTo>
                        <a:pt x="242" y="479"/>
                      </a:lnTo>
                      <a:lnTo>
                        <a:pt x="248" y="487"/>
                      </a:lnTo>
                      <a:lnTo>
                        <a:pt x="255" y="494"/>
                      </a:lnTo>
                      <a:lnTo>
                        <a:pt x="263" y="499"/>
                      </a:lnTo>
                      <a:lnTo>
                        <a:pt x="271" y="502"/>
                      </a:lnTo>
                      <a:lnTo>
                        <a:pt x="281" y="503"/>
                      </a:lnTo>
                      <a:lnTo>
                        <a:pt x="291" y="490"/>
                      </a:lnTo>
                      <a:lnTo>
                        <a:pt x="285" y="484"/>
                      </a:lnTo>
                      <a:lnTo>
                        <a:pt x="279" y="479"/>
                      </a:lnTo>
                      <a:lnTo>
                        <a:pt x="274" y="472"/>
                      </a:lnTo>
                      <a:lnTo>
                        <a:pt x="267" y="465"/>
                      </a:lnTo>
                      <a:lnTo>
                        <a:pt x="261" y="459"/>
                      </a:lnTo>
                      <a:lnTo>
                        <a:pt x="255" y="451"/>
                      </a:lnTo>
                      <a:lnTo>
                        <a:pt x="250" y="444"/>
                      </a:lnTo>
                      <a:lnTo>
                        <a:pt x="247" y="436"/>
                      </a:lnTo>
                      <a:lnTo>
                        <a:pt x="257" y="449"/>
                      </a:lnTo>
                      <a:lnTo>
                        <a:pt x="269" y="462"/>
                      </a:lnTo>
                      <a:lnTo>
                        <a:pt x="282" y="476"/>
                      </a:lnTo>
                      <a:lnTo>
                        <a:pt x="296" y="489"/>
                      </a:lnTo>
                      <a:lnTo>
                        <a:pt x="309" y="501"/>
                      </a:lnTo>
                      <a:lnTo>
                        <a:pt x="324" y="510"/>
                      </a:lnTo>
                      <a:lnTo>
                        <a:pt x="338" y="517"/>
                      </a:lnTo>
                      <a:lnTo>
                        <a:pt x="353" y="519"/>
                      </a:lnTo>
                      <a:lnTo>
                        <a:pt x="356" y="511"/>
                      </a:lnTo>
                      <a:lnTo>
                        <a:pt x="361" y="505"/>
                      </a:lnTo>
                      <a:lnTo>
                        <a:pt x="366" y="501"/>
                      </a:lnTo>
                      <a:lnTo>
                        <a:pt x="366" y="492"/>
                      </a:lnTo>
                      <a:lnTo>
                        <a:pt x="361" y="482"/>
                      </a:lnTo>
                      <a:lnTo>
                        <a:pt x="360" y="474"/>
                      </a:lnTo>
                      <a:lnTo>
                        <a:pt x="361" y="468"/>
                      </a:lnTo>
                      <a:lnTo>
                        <a:pt x="364" y="465"/>
                      </a:lnTo>
                      <a:lnTo>
                        <a:pt x="368" y="462"/>
                      </a:lnTo>
                      <a:lnTo>
                        <a:pt x="373" y="460"/>
                      </a:lnTo>
                      <a:lnTo>
                        <a:pt x="376" y="458"/>
                      </a:lnTo>
                      <a:lnTo>
                        <a:pt x="379" y="457"/>
                      </a:lnTo>
                      <a:lnTo>
                        <a:pt x="388" y="466"/>
                      </a:lnTo>
                      <a:lnTo>
                        <a:pt x="396" y="473"/>
                      </a:lnTo>
                      <a:lnTo>
                        <a:pt x="406" y="477"/>
                      </a:lnTo>
                      <a:lnTo>
                        <a:pt x="417" y="482"/>
                      </a:lnTo>
                      <a:lnTo>
                        <a:pt x="427" y="484"/>
                      </a:lnTo>
                      <a:lnTo>
                        <a:pt x="438" y="487"/>
                      </a:lnTo>
                      <a:lnTo>
                        <a:pt x="449" y="488"/>
                      </a:lnTo>
                      <a:lnTo>
                        <a:pt x="461" y="488"/>
                      </a:lnTo>
                      <a:lnTo>
                        <a:pt x="469" y="477"/>
                      </a:lnTo>
                      <a:lnTo>
                        <a:pt x="469" y="467"/>
                      </a:lnTo>
                      <a:lnTo>
                        <a:pt x="463" y="457"/>
                      </a:lnTo>
                      <a:lnTo>
                        <a:pt x="450" y="446"/>
                      </a:lnTo>
                      <a:lnTo>
                        <a:pt x="434" y="438"/>
                      </a:lnTo>
                      <a:lnTo>
                        <a:pt x="413" y="431"/>
                      </a:lnTo>
                      <a:lnTo>
                        <a:pt x="394" y="424"/>
                      </a:lnTo>
                      <a:lnTo>
                        <a:pt x="374" y="420"/>
                      </a:lnTo>
                      <a:lnTo>
                        <a:pt x="359" y="414"/>
                      </a:lnTo>
                      <a:lnTo>
                        <a:pt x="349" y="410"/>
                      </a:lnTo>
                      <a:lnTo>
                        <a:pt x="338" y="405"/>
                      </a:lnTo>
                      <a:lnTo>
                        <a:pt x="328" y="400"/>
                      </a:lnTo>
                      <a:lnTo>
                        <a:pt x="317" y="395"/>
                      </a:lnTo>
                      <a:lnTo>
                        <a:pt x="308" y="392"/>
                      </a:lnTo>
                      <a:lnTo>
                        <a:pt x="298" y="389"/>
                      </a:lnTo>
                      <a:lnTo>
                        <a:pt x="287" y="386"/>
                      </a:lnTo>
                      <a:lnTo>
                        <a:pt x="276" y="385"/>
                      </a:lnTo>
                      <a:lnTo>
                        <a:pt x="264" y="385"/>
                      </a:lnTo>
                      <a:lnTo>
                        <a:pt x="278" y="364"/>
                      </a:lnTo>
                      <a:lnTo>
                        <a:pt x="297" y="350"/>
                      </a:lnTo>
                      <a:lnTo>
                        <a:pt x="317" y="342"/>
                      </a:lnTo>
                      <a:lnTo>
                        <a:pt x="341" y="337"/>
                      </a:lnTo>
                      <a:lnTo>
                        <a:pt x="363" y="332"/>
                      </a:lnTo>
                      <a:lnTo>
                        <a:pt x="386" y="325"/>
                      </a:lnTo>
                      <a:lnTo>
                        <a:pt x="408" y="315"/>
                      </a:lnTo>
                      <a:lnTo>
                        <a:pt x="426" y="297"/>
                      </a:lnTo>
                      <a:lnTo>
                        <a:pt x="423" y="282"/>
                      </a:lnTo>
                      <a:lnTo>
                        <a:pt x="413" y="270"/>
                      </a:lnTo>
                      <a:lnTo>
                        <a:pt x="401" y="258"/>
                      </a:lnTo>
                      <a:lnTo>
                        <a:pt x="384" y="246"/>
                      </a:lnTo>
                      <a:lnTo>
                        <a:pt x="368" y="237"/>
                      </a:lnTo>
                      <a:lnTo>
                        <a:pt x="352" y="228"/>
                      </a:lnTo>
                      <a:lnTo>
                        <a:pt x="338" y="219"/>
                      </a:lnTo>
                      <a:lnTo>
                        <a:pt x="328" y="208"/>
                      </a:lnTo>
                      <a:lnTo>
                        <a:pt x="342" y="209"/>
                      </a:lnTo>
                      <a:lnTo>
                        <a:pt x="356" y="213"/>
                      </a:lnTo>
                      <a:lnTo>
                        <a:pt x="369" y="218"/>
                      </a:lnTo>
                      <a:lnTo>
                        <a:pt x="382" y="223"/>
                      </a:lnTo>
                      <a:lnTo>
                        <a:pt x="394" y="230"/>
                      </a:lnTo>
                      <a:lnTo>
                        <a:pt x="405" y="240"/>
                      </a:lnTo>
                      <a:lnTo>
                        <a:pt x="416" y="250"/>
                      </a:lnTo>
                      <a:lnTo>
                        <a:pt x="426" y="260"/>
                      </a:lnTo>
                      <a:lnTo>
                        <a:pt x="425" y="250"/>
                      </a:lnTo>
                      <a:lnTo>
                        <a:pt x="420" y="238"/>
                      </a:lnTo>
                      <a:lnTo>
                        <a:pt x="415" y="229"/>
                      </a:lnTo>
                      <a:lnTo>
                        <a:pt x="408" y="221"/>
                      </a:lnTo>
                      <a:lnTo>
                        <a:pt x="400" y="213"/>
                      </a:lnTo>
                      <a:lnTo>
                        <a:pt x="391" y="207"/>
                      </a:lnTo>
                      <a:lnTo>
                        <a:pt x="383" y="203"/>
                      </a:lnTo>
                      <a:lnTo>
                        <a:pt x="376" y="200"/>
                      </a:lnTo>
                      <a:lnTo>
                        <a:pt x="366" y="194"/>
                      </a:lnTo>
                      <a:lnTo>
                        <a:pt x="354" y="186"/>
                      </a:lnTo>
                      <a:lnTo>
                        <a:pt x="341" y="177"/>
                      </a:lnTo>
                      <a:lnTo>
                        <a:pt x="327" y="166"/>
                      </a:lnTo>
                      <a:lnTo>
                        <a:pt x="313" y="155"/>
                      </a:lnTo>
                      <a:lnTo>
                        <a:pt x="299" y="145"/>
                      </a:lnTo>
                      <a:lnTo>
                        <a:pt x="286" y="137"/>
                      </a:lnTo>
                      <a:lnTo>
                        <a:pt x="275" y="131"/>
                      </a:lnTo>
                      <a:lnTo>
                        <a:pt x="262" y="123"/>
                      </a:lnTo>
                      <a:lnTo>
                        <a:pt x="252" y="114"/>
                      </a:lnTo>
                      <a:lnTo>
                        <a:pt x="246" y="106"/>
                      </a:lnTo>
                      <a:lnTo>
                        <a:pt x="245" y="99"/>
                      </a:lnTo>
                      <a:lnTo>
                        <a:pt x="247" y="94"/>
                      </a:lnTo>
                      <a:lnTo>
                        <a:pt x="254" y="90"/>
                      </a:lnTo>
                      <a:lnTo>
                        <a:pt x="265" y="92"/>
                      </a:lnTo>
                      <a:lnTo>
                        <a:pt x="281" y="95"/>
                      </a:lnTo>
                      <a:lnTo>
                        <a:pt x="297" y="101"/>
                      </a:lnTo>
                      <a:lnTo>
                        <a:pt x="315" y="110"/>
                      </a:lnTo>
                      <a:lnTo>
                        <a:pt x="335" y="122"/>
                      </a:lnTo>
                      <a:lnTo>
                        <a:pt x="354" y="134"/>
                      </a:lnTo>
                      <a:lnTo>
                        <a:pt x="374" y="149"/>
                      </a:lnTo>
                      <a:lnTo>
                        <a:pt x="393" y="164"/>
                      </a:lnTo>
                      <a:lnTo>
                        <a:pt x="409" y="179"/>
                      </a:lnTo>
                      <a:lnTo>
                        <a:pt x="421" y="193"/>
                      </a:lnTo>
                      <a:lnTo>
                        <a:pt x="420" y="181"/>
                      </a:lnTo>
                      <a:lnTo>
                        <a:pt x="416" y="170"/>
                      </a:lnTo>
                      <a:lnTo>
                        <a:pt x="410" y="160"/>
                      </a:lnTo>
                      <a:lnTo>
                        <a:pt x="402" y="152"/>
                      </a:lnTo>
                      <a:lnTo>
                        <a:pt x="394" y="144"/>
                      </a:lnTo>
                      <a:lnTo>
                        <a:pt x="384" y="136"/>
                      </a:lnTo>
                      <a:lnTo>
                        <a:pt x="376" y="129"/>
                      </a:lnTo>
                      <a:lnTo>
                        <a:pt x="369" y="121"/>
                      </a:lnTo>
                      <a:lnTo>
                        <a:pt x="368" y="118"/>
                      </a:lnTo>
                      <a:lnTo>
                        <a:pt x="366" y="112"/>
                      </a:lnTo>
                      <a:lnTo>
                        <a:pt x="361" y="103"/>
                      </a:lnTo>
                      <a:lnTo>
                        <a:pt x="354" y="93"/>
                      </a:lnTo>
                      <a:lnTo>
                        <a:pt x="348" y="81"/>
                      </a:lnTo>
                      <a:lnTo>
                        <a:pt x="339" y="71"/>
                      </a:lnTo>
                      <a:lnTo>
                        <a:pt x="332" y="60"/>
                      </a:lnTo>
                      <a:lnTo>
                        <a:pt x="328" y="55"/>
                      </a:lnTo>
                      <a:lnTo>
                        <a:pt x="334" y="60"/>
                      </a:lnTo>
                      <a:lnTo>
                        <a:pt x="343" y="70"/>
                      </a:lnTo>
                      <a:lnTo>
                        <a:pt x="353" y="80"/>
                      </a:lnTo>
                      <a:lnTo>
                        <a:pt x="366" y="93"/>
                      </a:lnTo>
                      <a:lnTo>
                        <a:pt x="379" y="103"/>
                      </a:lnTo>
                      <a:lnTo>
                        <a:pt x="390" y="112"/>
                      </a:lnTo>
                      <a:lnTo>
                        <a:pt x="401" y="117"/>
                      </a:lnTo>
                      <a:lnTo>
                        <a:pt x="409" y="117"/>
                      </a:lnTo>
                      <a:lnTo>
                        <a:pt x="396" y="101"/>
                      </a:lnTo>
                      <a:lnTo>
                        <a:pt x="382" y="86"/>
                      </a:lnTo>
                      <a:lnTo>
                        <a:pt x="368" y="72"/>
                      </a:lnTo>
                      <a:lnTo>
                        <a:pt x="353" y="59"/>
                      </a:lnTo>
                      <a:lnTo>
                        <a:pt x="338" y="49"/>
                      </a:lnTo>
                      <a:lnTo>
                        <a:pt x="323" y="41"/>
                      </a:lnTo>
                      <a:lnTo>
                        <a:pt x="306" y="35"/>
                      </a:lnTo>
                      <a:lnTo>
                        <a:pt x="289" y="34"/>
                      </a:lnTo>
                      <a:lnTo>
                        <a:pt x="302" y="34"/>
                      </a:lnTo>
                      <a:lnTo>
                        <a:pt x="315" y="36"/>
                      </a:lnTo>
                      <a:lnTo>
                        <a:pt x="329" y="40"/>
                      </a:lnTo>
                      <a:lnTo>
                        <a:pt x="342" y="44"/>
                      </a:lnTo>
                      <a:lnTo>
                        <a:pt x="354" y="50"/>
                      </a:lnTo>
                      <a:lnTo>
                        <a:pt x="365" y="57"/>
                      </a:lnTo>
                      <a:lnTo>
                        <a:pt x="375" y="65"/>
                      </a:lnTo>
                      <a:lnTo>
                        <a:pt x="384" y="74"/>
                      </a:lnTo>
                      <a:lnTo>
                        <a:pt x="375" y="54"/>
                      </a:lnTo>
                      <a:lnTo>
                        <a:pt x="361" y="37"/>
                      </a:lnTo>
                      <a:lnTo>
                        <a:pt x="345" y="23"/>
                      </a:lnTo>
                      <a:lnTo>
                        <a:pt x="329" y="14"/>
                      </a:lnTo>
                      <a:lnTo>
                        <a:pt x="314" y="6"/>
                      </a:lnTo>
                      <a:lnTo>
                        <a:pt x="301" y="3"/>
                      </a:lnTo>
                      <a:lnTo>
                        <a:pt x="293" y="0"/>
                      </a:lnTo>
                      <a:lnTo>
                        <a:pt x="291" y="0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5143680" y="5923800"/>
                  <a:ext cx="325440" cy="262440"/>
                </a:xfrm>
                <a:custGeom>
                  <a:avLst/>
                  <a:gdLst/>
                  <a:ahLst/>
                  <a:rect l="l" t="t" r="r" b="b"/>
                  <a:pathLst>
                    <a:path w="615" h="432">
                      <a:moveTo>
                        <a:pt x="341" y="234"/>
                      </a:moveTo>
                      <a:lnTo>
                        <a:pt x="342" y="234"/>
                      </a:lnTo>
                      <a:lnTo>
                        <a:pt x="344" y="233"/>
                      </a:lnTo>
                      <a:lnTo>
                        <a:pt x="345" y="232"/>
                      </a:lnTo>
                      <a:lnTo>
                        <a:pt x="346" y="232"/>
                      </a:lnTo>
                      <a:lnTo>
                        <a:pt x="347" y="232"/>
                      </a:lnTo>
                      <a:lnTo>
                        <a:pt x="347" y="231"/>
                      </a:lnTo>
                      <a:lnTo>
                        <a:pt x="348" y="231"/>
                      </a:lnTo>
                      <a:lnTo>
                        <a:pt x="349" y="229"/>
                      </a:lnTo>
                      <a:lnTo>
                        <a:pt x="350" y="229"/>
                      </a:lnTo>
                      <a:lnTo>
                        <a:pt x="352" y="228"/>
                      </a:lnTo>
                      <a:lnTo>
                        <a:pt x="353" y="228"/>
                      </a:lnTo>
                      <a:lnTo>
                        <a:pt x="354" y="227"/>
                      </a:lnTo>
                      <a:lnTo>
                        <a:pt x="355" y="227"/>
                      </a:lnTo>
                      <a:lnTo>
                        <a:pt x="356" y="226"/>
                      </a:lnTo>
                      <a:lnTo>
                        <a:pt x="357" y="226"/>
                      </a:lnTo>
                      <a:lnTo>
                        <a:pt x="359" y="225"/>
                      </a:lnTo>
                      <a:lnTo>
                        <a:pt x="360" y="225"/>
                      </a:lnTo>
                      <a:lnTo>
                        <a:pt x="360" y="224"/>
                      </a:lnTo>
                      <a:lnTo>
                        <a:pt x="361" y="224"/>
                      </a:lnTo>
                      <a:lnTo>
                        <a:pt x="362" y="222"/>
                      </a:lnTo>
                      <a:lnTo>
                        <a:pt x="363" y="222"/>
                      </a:lnTo>
                      <a:lnTo>
                        <a:pt x="363" y="221"/>
                      </a:lnTo>
                      <a:lnTo>
                        <a:pt x="364" y="221"/>
                      </a:lnTo>
                      <a:lnTo>
                        <a:pt x="366" y="220"/>
                      </a:lnTo>
                      <a:lnTo>
                        <a:pt x="367" y="219"/>
                      </a:lnTo>
                      <a:lnTo>
                        <a:pt x="368" y="219"/>
                      </a:lnTo>
                      <a:lnTo>
                        <a:pt x="369" y="218"/>
                      </a:lnTo>
                      <a:lnTo>
                        <a:pt x="370" y="217"/>
                      </a:lnTo>
                      <a:lnTo>
                        <a:pt x="371" y="216"/>
                      </a:lnTo>
                      <a:lnTo>
                        <a:pt x="371" y="218"/>
                      </a:lnTo>
                      <a:lnTo>
                        <a:pt x="371" y="221"/>
                      </a:lnTo>
                      <a:lnTo>
                        <a:pt x="371" y="224"/>
                      </a:lnTo>
                      <a:lnTo>
                        <a:pt x="371" y="227"/>
                      </a:lnTo>
                      <a:lnTo>
                        <a:pt x="371" y="231"/>
                      </a:lnTo>
                      <a:lnTo>
                        <a:pt x="372" y="233"/>
                      </a:lnTo>
                      <a:lnTo>
                        <a:pt x="372" y="236"/>
                      </a:lnTo>
                      <a:lnTo>
                        <a:pt x="372" y="240"/>
                      </a:lnTo>
                      <a:lnTo>
                        <a:pt x="372" y="242"/>
                      </a:lnTo>
                      <a:lnTo>
                        <a:pt x="374" y="246"/>
                      </a:lnTo>
                      <a:lnTo>
                        <a:pt x="374" y="249"/>
                      </a:lnTo>
                      <a:lnTo>
                        <a:pt x="374" y="251"/>
                      </a:lnTo>
                      <a:lnTo>
                        <a:pt x="375" y="255"/>
                      </a:lnTo>
                      <a:lnTo>
                        <a:pt x="376" y="257"/>
                      </a:lnTo>
                      <a:lnTo>
                        <a:pt x="376" y="261"/>
                      </a:lnTo>
                      <a:lnTo>
                        <a:pt x="377" y="264"/>
                      </a:lnTo>
                      <a:lnTo>
                        <a:pt x="377" y="266"/>
                      </a:lnTo>
                      <a:lnTo>
                        <a:pt x="378" y="270"/>
                      </a:lnTo>
                      <a:lnTo>
                        <a:pt x="379" y="272"/>
                      </a:lnTo>
                      <a:lnTo>
                        <a:pt x="381" y="276"/>
                      </a:lnTo>
                      <a:lnTo>
                        <a:pt x="382" y="278"/>
                      </a:lnTo>
                      <a:lnTo>
                        <a:pt x="382" y="281"/>
                      </a:lnTo>
                      <a:lnTo>
                        <a:pt x="383" y="284"/>
                      </a:lnTo>
                      <a:lnTo>
                        <a:pt x="384" y="286"/>
                      </a:lnTo>
                      <a:lnTo>
                        <a:pt x="385" y="289"/>
                      </a:lnTo>
                      <a:lnTo>
                        <a:pt x="386" y="292"/>
                      </a:lnTo>
                      <a:lnTo>
                        <a:pt x="387" y="294"/>
                      </a:lnTo>
                      <a:lnTo>
                        <a:pt x="390" y="298"/>
                      </a:lnTo>
                      <a:lnTo>
                        <a:pt x="391" y="300"/>
                      </a:lnTo>
                      <a:lnTo>
                        <a:pt x="392" y="302"/>
                      </a:lnTo>
                      <a:lnTo>
                        <a:pt x="393" y="305"/>
                      </a:lnTo>
                      <a:lnTo>
                        <a:pt x="394" y="307"/>
                      </a:lnTo>
                      <a:lnTo>
                        <a:pt x="390" y="306"/>
                      </a:lnTo>
                      <a:lnTo>
                        <a:pt x="386" y="305"/>
                      </a:lnTo>
                      <a:lnTo>
                        <a:pt x="382" y="303"/>
                      </a:lnTo>
                      <a:lnTo>
                        <a:pt x="378" y="302"/>
                      </a:lnTo>
                      <a:lnTo>
                        <a:pt x="375" y="301"/>
                      </a:lnTo>
                      <a:lnTo>
                        <a:pt x="371" y="299"/>
                      </a:lnTo>
                      <a:lnTo>
                        <a:pt x="368" y="298"/>
                      </a:lnTo>
                      <a:lnTo>
                        <a:pt x="364" y="296"/>
                      </a:lnTo>
                      <a:lnTo>
                        <a:pt x="362" y="295"/>
                      </a:lnTo>
                      <a:lnTo>
                        <a:pt x="360" y="294"/>
                      </a:lnTo>
                      <a:lnTo>
                        <a:pt x="357" y="292"/>
                      </a:lnTo>
                      <a:lnTo>
                        <a:pt x="355" y="291"/>
                      </a:lnTo>
                      <a:lnTo>
                        <a:pt x="353" y="289"/>
                      </a:lnTo>
                      <a:lnTo>
                        <a:pt x="350" y="287"/>
                      </a:lnTo>
                      <a:lnTo>
                        <a:pt x="349" y="286"/>
                      </a:lnTo>
                      <a:lnTo>
                        <a:pt x="348" y="284"/>
                      </a:lnTo>
                      <a:lnTo>
                        <a:pt x="346" y="283"/>
                      </a:lnTo>
                      <a:lnTo>
                        <a:pt x="345" y="280"/>
                      </a:lnTo>
                      <a:lnTo>
                        <a:pt x="345" y="278"/>
                      </a:lnTo>
                      <a:lnTo>
                        <a:pt x="344" y="276"/>
                      </a:lnTo>
                      <a:lnTo>
                        <a:pt x="342" y="273"/>
                      </a:lnTo>
                      <a:lnTo>
                        <a:pt x="341" y="270"/>
                      </a:lnTo>
                      <a:lnTo>
                        <a:pt x="341" y="268"/>
                      </a:lnTo>
                      <a:lnTo>
                        <a:pt x="341" y="265"/>
                      </a:lnTo>
                      <a:lnTo>
                        <a:pt x="340" y="262"/>
                      </a:lnTo>
                      <a:lnTo>
                        <a:pt x="340" y="258"/>
                      </a:lnTo>
                      <a:lnTo>
                        <a:pt x="340" y="255"/>
                      </a:lnTo>
                      <a:lnTo>
                        <a:pt x="340" y="251"/>
                      </a:lnTo>
                      <a:lnTo>
                        <a:pt x="340" y="247"/>
                      </a:lnTo>
                      <a:lnTo>
                        <a:pt x="340" y="243"/>
                      </a:lnTo>
                      <a:lnTo>
                        <a:pt x="340" y="239"/>
                      </a:lnTo>
                      <a:lnTo>
                        <a:pt x="341" y="234"/>
                      </a:lnTo>
                      <a:close/>
                      <a:moveTo>
                        <a:pt x="33" y="201"/>
                      </a:moveTo>
                      <a:lnTo>
                        <a:pt x="32" y="197"/>
                      </a:lnTo>
                      <a:lnTo>
                        <a:pt x="30" y="195"/>
                      </a:lnTo>
                      <a:lnTo>
                        <a:pt x="30" y="191"/>
                      </a:lnTo>
                      <a:lnTo>
                        <a:pt x="29" y="189"/>
                      </a:lnTo>
                      <a:lnTo>
                        <a:pt x="29" y="186"/>
                      </a:lnTo>
                      <a:lnTo>
                        <a:pt x="28" y="183"/>
                      </a:lnTo>
                      <a:lnTo>
                        <a:pt x="28" y="180"/>
                      </a:lnTo>
                      <a:lnTo>
                        <a:pt x="27" y="176"/>
                      </a:lnTo>
                      <a:lnTo>
                        <a:pt x="27" y="174"/>
                      </a:lnTo>
                      <a:lnTo>
                        <a:pt x="27" y="171"/>
                      </a:lnTo>
                      <a:lnTo>
                        <a:pt x="27" y="167"/>
                      </a:lnTo>
                      <a:lnTo>
                        <a:pt x="26" y="165"/>
                      </a:lnTo>
                      <a:lnTo>
                        <a:pt x="26" y="161"/>
                      </a:lnTo>
                      <a:lnTo>
                        <a:pt x="26" y="159"/>
                      </a:lnTo>
                      <a:lnTo>
                        <a:pt x="26" y="155"/>
                      </a:lnTo>
                      <a:lnTo>
                        <a:pt x="26" y="152"/>
                      </a:lnTo>
                      <a:lnTo>
                        <a:pt x="26" y="150"/>
                      </a:lnTo>
                      <a:lnTo>
                        <a:pt x="25" y="146"/>
                      </a:lnTo>
                      <a:lnTo>
                        <a:pt x="25" y="144"/>
                      </a:lnTo>
                      <a:lnTo>
                        <a:pt x="25" y="140"/>
                      </a:lnTo>
                      <a:lnTo>
                        <a:pt x="25" y="138"/>
                      </a:lnTo>
                      <a:lnTo>
                        <a:pt x="25" y="135"/>
                      </a:lnTo>
                      <a:lnTo>
                        <a:pt x="25" y="132"/>
                      </a:lnTo>
                      <a:lnTo>
                        <a:pt x="25" y="130"/>
                      </a:lnTo>
                      <a:lnTo>
                        <a:pt x="23" y="127"/>
                      </a:lnTo>
                      <a:lnTo>
                        <a:pt x="23" y="124"/>
                      </a:lnTo>
                      <a:lnTo>
                        <a:pt x="23" y="122"/>
                      </a:lnTo>
                      <a:lnTo>
                        <a:pt x="22" y="120"/>
                      </a:lnTo>
                      <a:lnTo>
                        <a:pt x="22" y="117"/>
                      </a:lnTo>
                      <a:lnTo>
                        <a:pt x="21" y="115"/>
                      </a:lnTo>
                      <a:lnTo>
                        <a:pt x="21" y="113"/>
                      </a:lnTo>
                      <a:lnTo>
                        <a:pt x="20" y="110"/>
                      </a:lnTo>
                      <a:lnTo>
                        <a:pt x="21" y="109"/>
                      </a:lnTo>
                      <a:lnTo>
                        <a:pt x="22" y="109"/>
                      </a:lnTo>
                      <a:lnTo>
                        <a:pt x="23" y="108"/>
                      </a:lnTo>
                      <a:lnTo>
                        <a:pt x="25" y="107"/>
                      </a:lnTo>
                      <a:lnTo>
                        <a:pt x="26" y="106"/>
                      </a:lnTo>
                      <a:lnTo>
                        <a:pt x="27" y="105"/>
                      </a:lnTo>
                      <a:lnTo>
                        <a:pt x="28" y="102"/>
                      </a:lnTo>
                      <a:lnTo>
                        <a:pt x="30" y="101"/>
                      </a:lnTo>
                      <a:lnTo>
                        <a:pt x="32" y="100"/>
                      </a:lnTo>
                      <a:lnTo>
                        <a:pt x="33" y="99"/>
                      </a:lnTo>
                      <a:lnTo>
                        <a:pt x="35" y="98"/>
                      </a:lnTo>
                      <a:lnTo>
                        <a:pt x="36" y="97"/>
                      </a:lnTo>
                      <a:lnTo>
                        <a:pt x="39" y="94"/>
                      </a:lnTo>
                      <a:lnTo>
                        <a:pt x="40" y="93"/>
                      </a:lnTo>
                      <a:lnTo>
                        <a:pt x="42" y="92"/>
                      </a:lnTo>
                      <a:lnTo>
                        <a:pt x="43" y="91"/>
                      </a:lnTo>
                      <a:lnTo>
                        <a:pt x="45" y="90"/>
                      </a:lnTo>
                      <a:lnTo>
                        <a:pt x="47" y="88"/>
                      </a:lnTo>
                      <a:lnTo>
                        <a:pt x="49" y="87"/>
                      </a:lnTo>
                      <a:lnTo>
                        <a:pt x="51" y="86"/>
                      </a:lnTo>
                      <a:lnTo>
                        <a:pt x="52" y="85"/>
                      </a:lnTo>
                      <a:lnTo>
                        <a:pt x="55" y="84"/>
                      </a:lnTo>
                      <a:lnTo>
                        <a:pt x="56" y="83"/>
                      </a:lnTo>
                      <a:lnTo>
                        <a:pt x="58" y="82"/>
                      </a:lnTo>
                      <a:lnTo>
                        <a:pt x="59" y="80"/>
                      </a:lnTo>
                      <a:lnTo>
                        <a:pt x="62" y="80"/>
                      </a:lnTo>
                      <a:lnTo>
                        <a:pt x="63" y="79"/>
                      </a:lnTo>
                      <a:lnTo>
                        <a:pt x="65" y="78"/>
                      </a:lnTo>
                      <a:lnTo>
                        <a:pt x="66" y="78"/>
                      </a:lnTo>
                      <a:lnTo>
                        <a:pt x="67" y="78"/>
                      </a:lnTo>
                      <a:lnTo>
                        <a:pt x="69" y="77"/>
                      </a:lnTo>
                      <a:lnTo>
                        <a:pt x="71" y="77"/>
                      </a:lnTo>
                      <a:lnTo>
                        <a:pt x="70" y="77"/>
                      </a:lnTo>
                      <a:lnTo>
                        <a:pt x="70" y="78"/>
                      </a:lnTo>
                      <a:lnTo>
                        <a:pt x="69" y="78"/>
                      </a:lnTo>
                      <a:lnTo>
                        <a:pt x="67" y="79"/>
                      </a:lnTo>
                      <a:lnTo>
                        <a:pt x="66" y="79"/>
                      </a:lnTo>
                      <a:lnTo>
                        <a:pt x="66" y="80"/>
                      </a:lnTo>
                      <a:lnTo>
                        <a:pt x="65" y="80"/>
                      </a:lnTo>
                      <a:lnTo>
                        <a:pt x="64" y="82"/>
                      </a:lnTo>
                      <a:lnTo>
                        <a:pt x="63" y="82"/>
                      </a:lnTo>
                      <a:lnTo>
                        <a:pt x="63" y="83"/>
                      </a:lnTo>
                      <a:lnTo>
                        <a:pt x="62" y="84"/>
                      </a:lnTo>
                      <a:lnTo>
                        <a:pt x="62" y="85"/>
                      </a:lnTo>
                      <a:lnTo>
                        <a:pt x="62" y="86"/>
                      </a:lnTo>
                      <a:lnTo>
                        <a:pt x="60" y="86"/>
                      </a:lnTo>
                      <a:lnTo>
                        <a:pt x="62" y="87"/>
                      </a:lnTo>
                      <a:lnTo>
                        <a:pt x="63" y="88"/>
                      </a:lnTo>
                      <a:lnTo>
                        <a:pt x="63" y="90"/>
                      </a:lnTo>
                      <a:lnTo>
                        <a:pt x="64" y="90"/>
                      </a:lnTo>
                      <a:lnTo>
                        <a:pt x="65" y="91"/>
                      </a:lnTo>
                      <a:lnTo>
                        <a:pt x="66" y="91"/>
                      </a:lnTo>
                      <a:lnTo>
                        <a:pt x="67" y="92"/>
                      </a:lnTo>
                      <a:lnTo>
                        <a:pt x="69" y="92"/>
                      </a:lnTo>
                      <a:lnTo>
                        <a:pt x="70" y="92"/>
                      </a:lnTo>
                      <a:lnTo>
                        <a:pt x="71" y="93"/>
                      </a:lnTo>
                      <a:lnTo>
                        <a:pt x="72" y="93"/>
                      </a:lnTo>
                      <a:lnTo>
                        <a:pt x="73" y="93"/>
                      </a:lnTo>
                      <a:lnTo>
                        <a:pt x="74" y="93"/>
                      </a:lnTo>
                      <a:lnTo>
                        <a:pt x="77" y="93"/>
                      </a:lnTo>
                      <a:lnTo>
                        <a:pt x="78" y="93"/>
                      </a:lnTo>
                      <a:lnTo>
                        <a:pt x="79" y="94"/>
                      </a:lnTo>
                      <a:lnTo>
                        <a:pt x="81" y="94"/>
                      </a:lnTo>
                      <a:lnTo>
                        <a:pt x="82" y="94"/>
                      </a:lnTo>
                      <a:lnTo>
                        <a:pt x="85" y="94"/>
                      </a:lnTo>
                      <a:lnTo>
                        <a:pt x="86" y="95"/>
                      </a:lnTo>
                      <a:lnTo>
                        <a:pt x="88" y="95"/>
                      </a:lnTo>
                      <a:lnTo>
                        <a:pt x="89" y="97"/>
                      </a:lnTo>
                      <a:lnTo>
                        <a:pt x="92" y="97"/>
                      </a:lnTo>
                      <a:lnTo>
                        <a:pt x="93" y="98"/>
                      </a:lnTo>
                      <a:lnTo>
                        <a:pt x="95" y="99"/>
                      </a:lnTo>
                      <a:lnTo>
                        <a:pt x="97" y="100"/>
                      </a:lnTo>
                      <a:lnTo>
                        <a:pt x="99" y="101"/>
                      </a:lnTo>
                      <a:lnTo>
                        <a:pt x="101" y="102"/>
                      </a:lnTo>
                      <a:lnTo>
                        <a:pt x="102" y="105"/>
                      </a:lnTo>
                      <a:lnTo>
                        <a:pt x="104" y="106"/>
                      </a:lnTo>
                      <a:lnTo>
                        <a:pt x="106" y="108"/>
                      </a:lnTo>
                      <a:lnTo>
                        <a:pt x="108" y="110"/>
                      </a:lnTo>
                      <a:lnTo>
                        <a:pt x="108" y="109"/>
                      </a:lnTo>
                      <a:lnTo>
                        <a:pt x="108" y="108"/>
                      </a:lnTo>
                      <a:lnTo>
                        <a:pt x="108" y="107"/>
                      </a:lnTo>
                      <a:lnTo>
                        <a:pt x="108" y="106"/>
                      </a:lnTo>
                      <a:lnTo>
                        <a:pt x="108" y="105"/>
                      </a:lnTo>
                      <a:lnTo>
                        <a:pt x="108" y="104"/>
                      </a:lnTo>
                      <a:lnTo>
                        <a:pt x="108" y="102"/>
                      </a:lnTo>
                      <a:lnTo>
                        <a:pt x="108" y="101"/>
                      </a:lnTo>
                      <a:lnTo>
                        <a:pt x="108" y="100"/>
                      </a:lnTo>
                      <a:lnTo>
                        <a:pt x="108" y="99"/>
                      </a:lnTo>
                      <a:lnTo>
                        <a:pt x="108" y="98"/>
                      </a:lnTo>
                      <a:lnTo>
                        <a:pt x="108" y="97"/>
                      </a:lnTo>
                      <a:lnTo>
                        <a:pt x="108" y="95"/>
                      </a:lnTo>
                      <a:lnTo>
                        <a:pt x="109" y="95"/>
                      </a:lnTo>
                      <a:lnTo>
                        <a:pt x="109" y="94"/>
                      </a:lnTo>
                      <a:lnTo>
                        <a:pt x="109" y="93"/>
                      </a:lnTo>
                      <a:lnTo>
                        <a:pt x="111" y="95"/>
                      </a:lnTo>
                      <a:lnTo>
                        <a:pt x="112" y="98"/>
                      </a:lnTo>
                      <a:lnTo>
                        <a:pt x="115" y="99"/>
                      </a:lnTo>
                      <a:lnTo>
                        <a:pt x="117" y="101"/>
                      </a:lnTo>
                      <a:lnTo>
                        <a:pt x="118" y="102"/>
                      </a:lnTo>
                      <a:lnTo>
                        <a:pt x="121" y="105"/>
                      </a:lnTo>
                      <a:lnTo>
                        <a:pt x="122" y="106"/>
                      </a:lnTo>
                      <a:lnTo>
                        <a:pt x="123" y="107"/>
                      </a:lnTo>
                      <a:lnTo>
                        <a:pt x="125" y="108"/>
                      </a:lnTo>
                      <a:lnTo>
                        <a:pt x="126" y="110"/>
                      </a:lnTo>
                      <a:lnTo>
                        <a:pt x="129" y="112"/>
                      </a:lnTo>
                      <a:lnTo>
                        <a:pt x="130" y="113"/>
                      </a:lnTo>
                      <a:lnTo>
                        <a:pt x="131" y="114"/>
                      </a:lnTo>
                      <a:lnTo>
                        <a:pt x="132" y="115"/>
                      </a:lnTo>
                      <a:lnTo>
                        <a:pt x="134" y="116"/>
                      </a:lnTo>
                      <a:lnTo>
                        <a:pt x="136" y="117"/>
                      </a:lnTo>
                      <a:lnTo>
                        <a:pt x="137" y="120"/>
                      </a:lnTo>
                      <a:lnTo>
                        <a:pt x="138" y="121"/>
                      </a:lnTo>
                      <a:lnTo>
                        <a:pt x="139" y="122"/>
                      </a:lnTo>
                      <a:lnTo>
                        <a:pt x="140" y="124"/>
                      </a:lnTo>
                      <a:lnTo>
                        <a:pt x="142" y="125"/>
                      </a:lnTo>
                      <a:lnTo>
                        <a:pt x="144" y="128"/>
                      </a:lnTo>
                      <a:lnTo>
                        <a:pt x="145" y="129"/>
                      </a:lnTo>
                      <a:lnTo>
                        <a:pt x="146" y="131"/>
                      </a:lnTo>
                      <a:lnTo>
                        <a:pt x="147" y="134"/>
                      </a:lnTo>
                      <a:lnTo>
                        <a:pt x="148" y="136"/>
                      </a:lnTo>
                      <a:lnTo>
                        <a:pt x="149" y="138"/>
                      </a:lnTo>
                      <a:lnTo>
                        <a:pt x="151" y="140"/>
                      </a:lnTo>
                      <a:lnTo>
                        <a:pt x="152" y="144"/>
                      </a:lnTo>
                      <a:lnTo>
                        <a:pt x="153" y="147"/>
                      </a:lnTo>
                      <a:lnTo>
                        <a:pt x="154" y="150"/>
                      </a:lnTo>
                      <a:lnTo>
                        <a:pt x="155" y="153"/>
                      </a:lnTo>
                      <a:lnTo>
                        <a:pt x="158" y="158"/>
                      </a:lnTo>
                      <a:lnTo>
                        <a:pt x="159" y="161"/>
                      </a:lnTo>
                      <a:lnTo>
                        <a:pt x="160" y="166"/>
                      </a:lnTo>
                      <a:lnTo>
                        <a:pt x="162" y="169"/>
                      </a:lnTo>
                      <a:lnTo>
                        <a:pt x="163" y="174"/>
                      </a:lnTo>
                      <a:lnTo>
                        <a:pt x="164" y="177"/>
                      </a:lnTo>
                      <a:lnTo>
                        <a:pt x="167" y="182"/>
                      </a:lnTo>
                      <a:lnTo>
                        <a:pt x="168" y="186"/>
                      </a:lnTo>
                      <a:lnTo>
                        <a:pt x="170" y="190"/>
                      </a:lnTo>
                      <a:lnTo>
                        <a:pt x="171" y="194"/>
                      </a:lnTo>
                      <a:lnTo>
                        <a:pt x="174" y="198"/>
                      </a:lnTo>
                      <a:lnTo>
                        <a:pt x="175" y="202"/>
                      </a:lnTo>
                      <a:lnTo>
                        <a:pt x="177" y="206"/>
                      </a:lnTo>
                      <a:lnTo>
                        <a:pt x="178" y="210"/>
                      </a:lnTo>
                      <a:lnTo>
                        <a:pt x="181" y="214"/>
                      </a:lnTo>
                      <a:lnTo>
                        <a:pt x="182" y="218"/>
                      </a:lnTo>
                      <a:lnTo>
                        <a:pt x="183" y="222"/>
                      </a:lnTo>
                      <a:lnTo>
                        <a:pt x="184" y="226"/>
                      </a:lnTo>
                      <a:lnTo>
                        <a:pt x="185" y="231"/>
                      </a:lnTo>
                      <a:lnTo>
                        <a:pt x="188" y="234"/>
                      </a:lnTo>
                      <a:lnTo>
                        <a:pt x="189" y="239"/>
                      </a:lnTo>
                      <a:lnTo>
                        <a:pt x="189" y="242"/>
                      </a:lnTo>
                      <a:lnTo>
                        <a:pt x="190" y="247"/>
                      </a:lnTo>
                      <a:lnTo>
                        <a:pt x="191" y="250"/>
                      </a:lnTo>
                      <a:lnTo>
                        <a:pt x="191" y="255"/>
                      </a:lnTo>
                      <a:lnTo>
                        <a:pt x="192" y="258"/>
                      </a:lnTo>
                      <a:lnTo>
                        <a:pt x="192" y="263"/>
                      </a:lnTo>
                      <a:lnTo>
                        <a:pt x="192" y="268"/>
                      </a:lnTo>
                      <a:lnTo>
                        <a:pt x="192" y="271"/>
                      </a:lnTo>
                      <a:lnTo>
                        <a:pt x="192" y="276"/>
                      </a:lnTo>
                      <a:lnTo>
                        <a:pt x="192" y="280"/>
                      </a:lnTo>
                      <a:lnTo>
                        <a:pt x="191" y="284"/>
                      </a:lnTo>
                      <a:lnTo>
                        <a:pt x="190" y="280"/>
                      </a:lnTo>
                      <a:lnTo>
                        <a:pt x="189" y="276"/>
                      </a:lnTo>
                      <a:lnTo>
                        <a:pt x="186" y="272"/>
                      </a:lnTo>
                      <a:lnTo>
                        <a:pt x="184" y="266"/>
                      </a:lnTo>
                      <a:lnTo>
                        <a:pt x="183" y="262"/>
                      </a:lnTo>
                      <a:lnTo>
                        <a:pt x="181" y="256"/>
                      </a:lnTo>
                      <a:lnTo>
                        <a:pt x="178" y="251"/>
                      </a:lnTo>
                      <a:lnTo>
                        <a:pt x="176" y="246"/>
                      </a:lnTo>
                      <a:lnTo>
                        <a:pt x="174" y="239"/>
                      </a:lnTo>
                      <a:lnTo>
                        <a:pt x="171" y="233"/>
                      </a:lnTo>
                      <a:lnTo>
                        <a:pt x="169" y="226"/>
                      </a:lnTo>
                      <a:lnTo>
                        <a:pt x="167" y="220"/>
                      </a:lnTo>
                      <a:lnTo>
                        <a:pt x="164" y="213"/>
                      </a:lnTo>
                      <a:lnTo>
                        <a:pt x="162" y="207"/>
                      </a:lnTo>
                      <a:lnTo>
                        <a:pt x="159" y="201"/>
                      </a:lnTo>
                      <a:lnTo>
                        <a:pt x="156" y="194"/>
                      </a:lnTo>
                      <a:lnTo>
                        <a:pt x="154" y="188"/>
                      </a:lnTo>
                      <a:lnTo>
                        <a:pt x="151" y="181"/>
                      </a:lnTo>
                      <a:lnTo>
                        <a:pt x="148" y="174"/>
                      </a:lnTo>
                      <a:lnTo>
                        <a:pt x="145" y="168"/>
                      </a:lnTo>
                      <a:lnTo>
                        <a:pt x="142" y="162"/>
                      </a:lnTo>
                      <a:lnTo>
                        <a:pt x="139" y="157"/>
                      </a:lnTo>
                      <a:lnTo>
                        <a:pt x="137" y="151"/>
                      </a:lnTo>
                      <a:lnTo>
                        <a:pt x="133" y="145"/>
                      </a:lnTo>
                      <a:lnTo>
                        <a:pt x="130" y="139"/>
                      </a:lnTo>
                      <a:lnTo>
                        <a:pt x="127" y="135"/>
                      </a:lnTo>
                      <a:lnTo>
                        <a:pt x="124" y="130"/>
                      </a:lnTo>
                      <a:lnTo>
                        <a:pt x="121" y="125"/>
                      </a:lnTo>
                      <a:lnTo>
                        <a:pt x="118" y="122"/>
                      </a:lnTo>
                      <a:lnTo>
                        <a:pt x="115" y="119"/>
                      </a:lnTo>
                      <a:lnTo>
                        <a:pt x="111" y="115"/>
                      </a:lnTo>
                      <a:lnTo>
                        <a:pt x="109" y="113"/>
                      </a:lnTo>
                      <a:lnTo>
                        <a:pt x="108" y="112"/>
                      </a:lnTo>
                      <a:lnTo>
                        <a:pt x="107" y="110"/>
                      </a:lnTo>
                      <a:lnTo>
                        <a:pt x="106" y="109"/>
                      </a:lnTo>
                      <a:lnTo>
                        <a:pt x="104" y="108"/>
                      </a:lnTo>
                      <a:lnTo>
                        <a:pt x="103" y="107"/>
                      </a:lnTo>
                      <a:lnTo>
                        <a:pt x="102" y="106"/>
                      </a:lnTo>
                      <a:lnTo>
                        <a:pt x="101" y="105"/>
                      </a:lnTo>
                      <a:lnTo>
                        <a:pt x="100" y="105"/>
                      </a:lnTo>
                      <a:lnTo>
                        <a:pt x="99" y="104"/>
                      </a:lnTo>
                      <a:lnTo>
                        <a:pt x="96" y="102"/>
                      </a:lnTo>
                      <a:lnTo>
                        <a:pt x="95" y="101"/>
                      </a:lnTo>
                      <a:lnTo>
                        <a:pt x="94" y="100"/>
                      </a:lnTo>
                      <a:lnTo>
                        <a:pt x="93" y="99"/>
                      </a:lnTo>
                      <a:lnTo>
                        <a:pt x="92" y="99"/>
                      </a:lnTo>
                      <a:lnTo>
                        <a:pt x="89" y="98"/>
                      </a:lnTo>
                      <a:lnTo>
                        <a:pt x="88" y="98"/>
                      </a:lnTo>
                      <a:lnTo>
                        <a:pt x="87" y="97"/>
                      </a:lnTo>
                      <a:lnTo>
                        <a:pt x="86" y="97"/>
                      </a:lnTo>
                      <a:lnTo>
                        <a:pt x="84" y="95"/>
                      </a:lnTo>
                      <a:lnTo>
                        <a:pt x="82" y="95"/>
                      </a:lnTo>
                      <a:lnTo>
                        <a:pt x="81" y="95"/>
                      </a:lnTo>
                      <a:lnTo>
                        <a:pt x="79" y="95"/>
                      </a:lnTo>
                      <a:lnTo>
                        <a:pt x="78" y="95"/>
                      </a:lnTo>
                      <a:lnTo>
                        <a:pt x="77" y="95"/>
                      </a:lnTo>
                      <a:lnTo>
                        <a:pt x="74" y="95"/>
                      </a:lnTo>
                      <a:lnTo>
                        <a:pt x="73" y="95"/>
                      </a:lnTo>
                      <a:lnTo>
                        <a:pt x="72" y="97"/>
                      </a:lnTo>
                      <a:lnTo>
                        <a:pt x="71" y="97"/>
                      </a:lnTo>
                      <a:lnTo>
                        <a:pt x="69" y="98"/>
                      </a:lnTo>
                      <a:lnTo>
                        <a:pt x="67" y="99"/>
                      </a:lnTo>
                      <a:lnTo>
                        <a:pt x="66" y="100"/>
                      </a:lnTo>
                      <a:lnTo>
                        <a:pt x="64" y="101"/>
                      </a:lnTo>
                      <a:lnTo>
                        <a:pt x="63" y="104"/>
                      </a:lnTo>
                      <a:lnTo>
                        <a:pt x="62" y="106"/>
                      </a:lnTo>
                      <a:lnTo>
                        <a:pt x="60" y="108"/>
                      </a:lnTo>
                      <a:lnTo>
                        <a:pt x="59" y="112"/>
                      </a:lnTo>
                      <a:lnTo>
                        <a:pt x="59" y="115"/>
                      </a:lnTo>
                      <a:lnTo>
                        <a:pt x="58" y="119"/>
                      </a:lnTo>
                      <a:lnTo>
                        <a:pt x="58" y="123"/>
                      </a:lnTo>
                      <a:lnTo>
                        <a:pt x="58" y="127"/>
                      </a:lnTo>
                      <a:lnTo>
                        <a:pt x="59" y="131"/>
                      </a:lnTo>
                      <a:lnTo>
                        <a:pt x="59" y="136"/>
                      </a:lnTo>
                      <a:lnTo>
                        <a:pt x="59" y="139"/>
                      </a:lnTo>
                      <a:lnTo>
                        <a:pt x="60" y="145"/>
                      </a:lnTo>
                      <a:lnTo>
                        <a:pt x="60" y="150"/>
                      </a:lnTo>
                      <a:lnTo>
                        <a:pt x="62" y="154"/>
                      </a:lnTo>
                      <a:lnTo>
                        <a:pt x="63" y="159"/>
                      </a:lnTo>
                      <a:lnTo>
                        <a:pt x="63" y="165"/>
                      </a:lnTo>
                      <a:lnTo>
                        <a:pt x="64" y="169"/>
                      </a:lnTo>
                      <a:lnTo>
                        <a:pt x="65" y="174"/>
                      </a:lnTo>
                      <a:lnTo>
                        <a:pt x="65" y="180"/>
                      </a:lnTo>
                      <a:lnTo>
                        <a:pt x="66" y="184"/>
                      </a:lnTo>
                      <a:lnTo>
                        <a:pt x="67" y="190"/>
                      </a:lnTo>
                      <a:lnTo>
                        <a:pt x="67" y="195"/>
                      </a:lnTo>
                      <a:lnTo>
                        <a:pt x="67" y="199"/>
                      </a:lnTo>
                      <a:lnTo>
                        <a:pt x="69" y="204"/>
                      </a:lnTo>
                      <a:lnTo>
                        <a:pt x="69" y="210"/>
                      </a:lnTo>
                      <a:lnTo>
                        <a:pt x="67" y="214"/>
                      </a:lnTo>
                      <a:lnTo>
                        <a:pt x="67" y="218"/>
                      </a:lnTo>
                      <a:lnTo>
                        <a:pt x="67" y="222"/>
                      </a:lnTo>
                      <a:lnTo>
                        <a:pt x="66" y="227"/>
                      </a:lnTo>
                      <a:lnTo>
                        <a:pt x="65" y="231"/>
                      </a:lnTo>
                      <a:lnTo>
                        <a:pt x="64" y="234"/>
                      </a:lnTo>
                      <a:lnTo>
                        <a:pt x="62" y="238"/>
                      </a:lnTo>
                      <a:lnTo>
                        <a:pt x="62" y="236"/>
                      </a:lnTo>
                      <a:lnTo>
                        <a:pt x="62" y="235"/>
                      </a:lnTo>
                      <a:lnTo>
                        <a:pt x="60" y="234"/>
                      </a:lnTo>
                      <a:lnTo>
                        <a:pt x="60" y="233"/>
                      </a:lnTo>
                      <a:lnTo>
                        <a:pt x="59" y="232"/>
                      </a:lnTo>
                      <a:lnTo>
                        <a:pt x="59" y="231"/>
                      </a:lnTo>
                      <a:lnTo>
                        <a:pt x="58" y="231"/>
                      </a:lnTo>
                      <a:lnTo>
                        <a:pt x="58" y="229"/>
                      </a:lnTo>
                      <a:lnTo>
                        <a:pt x="59" y="226"/>
                      </a:lnTo>
                      <a:lnTo>
                        <a:pt x="59" y="222"/>
                      </a:lnTo>
                      <a:lnTo>
                        <a:pt x="60" y="218"/>
                      </a:lnTo>
                      <a:lnTo>
                        <a:pt x="60" y="214"/>
                      </a:lnTo>
                      <a:lnTo>
                        <a:pt x="60" y="210"/>
                      </a:lnTo>
                      <a:lnTo>
                        <a:pt x="60" y="206"/>
                      </a:lnTo>
                      <a:lnTo>
                        <a:pt x="60" y="202"/>
                      </a:lnTo>
                      <a:lnTo>
                        <a:pt x="60" y="197"/>
                      </a:lnTo>
                      <a:lnTo>
                        <a:pt x="60" y="192"/>
                      </a:lnTo>
                      <a:lnTo>
                        <a:pt x="60" y="187"/>
                      </a:lnTo>
                      <a:lnTo>
                        <a:pt x="60" y="182"/>
                      </a:lnTo>
                      <a:lnTo>
                        <a:pt x="59" y="177"/>
                      </a:lnTo>
                      <a:lnTo>
                        <a:pt x="59" y="173"/>
                      </a:lnTo>
                      <a:lnTo>
                        <a:pt x="59" y="167"/>
                      </a:lnTo>
                      <a:lnTo>
                        <a:pt x="58" y="162"/>
                      </a:lnTo>
                      <a:lnTo>
                        <a:pt x="58" y="158"/>
                      </a:lnTo>
                      <a:lnTo>
                        <a:pt x="57" y="152"/>
                      </a:lnTo>
                      <a:lnTo>
                        <a:pt x="57" y="147"/>
                      </a:lnTo>
                      <a:lnTo>
                        <a:pt x="57" y="143"/>
                      </a:lnTo>
                      <a:lnTo>
                        <a:pt x="56" y="138"/>
                      </a:lnTo>
                      <a:lnTo>
                        <a:pt x="56" y="134"/>
                      </a:lnTo>
                      <a:lnTo>
                        <a:pt x="56" y="129"/>
                      </a:lnTo>
                      <a:lnTo>
                        <a:pt x="55" y="124"/>
                      </a:lnTo>
                      <a:lnTo>
                        <a:pt x="55" y="121"/>
                      </a:lnTo>
                      <a:lnTo>
                        <a:pt x="55" y="116"/>
                      </a:lnTo>
                      <a:lnTo>
                        <a:pt x="55" y="113"/>
                      </a:lnTo>
                      <a:lnTo>
                        <a:pt x="55" y="109"/>
                      </a:lnTo>
                      <a:lnTo>
                        <a:pt x="55" y="106"/>
                      </a:lnTo>
                      <a:lnTo>
                        <a:pt x="55" y="102"/>
                      </a:lnTo>
                      <a:lnTo>
                        <a:pt x="56" y="100"/>
                      </a:lnTo>
                      <a:lnTo>
                        <a:pt x="56" y="98"/>
                      </a:lnTo>
                      <a:lnTo>
                        <a:pt x="57" y="95"/>
                      </a:lnTo>
                      <a:lnTo>
                        <a:pt x="56" y="95"/>
                      </a:lnTo>
                      <a:lnTo>
                        <a:pt x="55" y="95"/>
                      </a:lnTo>
                      <a:lnTo>
                        <a:pt x="54" y="95"/>
                      </a:lnTo>
                      <a:lnTo>
                        <a:pt x="52" y="95"/>
                      </a:lnTo>
                      <a:lnTo>
                        <a:pt x="51" y="95"/>
                      </a:lnTo>
                      <a:lnTo>
                        <a:pt x="50" y="97"/>
                      </a:lnTo>
                      <a:lnTo>
                        <a:pt x="49" y="97"/>
                      </a:lnTo>
                      <a:lnTo>
                        <a:pt x="48" y="98"/>
                      </a:lnTo>
                      <a:lnTo>
                        <a:pt x="47" y="99"/>
                      </a:lnTo>
                      <a:lnTo>
                        <a:pt x="45" y="99"/>
                      </a:lnTo>
                      <a:lnTo>
                        <a:pt x="45" y="100"/>
                      </a:lnTo>
                      <a:lnTo>
                        <a:pt x="44" y="100"/>
                      </a:lnTo>
                      <a:lnTo>
                        <a:pt x="43" y="101"/>
                      </a:lnTo>
                      <a:lnTo>
                        <a:pt x="43" y="102"/>
                      </a:lnTo>
                      <a:lnTo>
                        <a:pt x="42" y="102"/>
                      </a:lnTo>
                      <a:lnTo>
                        <a:pt x="42" y="104"/>
                      </a:lnTo>
                      <a:lnTo>
                        <a:pt x="41" y="105"/>
                      </a:lnTo>
                      <a:lnTo>
                        <a:pt x="40" y="106"/>
                      </a:lnTo>
                      <a:lnTo>
                        <a:pt x="40" y="107"/>
                      </a:lnTo>
                      <a:lnTo>
                        <a:pt x="39" y="108"/>
                      </a:lnTo>
                      <a:lnTo>
                        <a:pt x="39" y="109"/>
                      </a:lnTo>
                      <a:lnTo>
                        <a:pt x="37" y="110"/>
                      </a:lnTo>
                      <a:lnTo>
                        <a:pt x="37" y="112"/>
                      </a:lnTo>
                      <a:lnTo>
                        <a:pt x="36" y="113"/>
                      </a:lnTo>
                      <a:lnTo>
                        <a:pt x="36" y="114"/>
                      </a:lnTo>
                      <a:lnTo>
                        <a:pt x="36" y="115"/>
                      </a:lnTo>
                      <a:lnTo>
                        <a:pt x="35" y="116"/>
                      </a:lnTo>
                      <a:lnTo>
                        <a:pt x="35" y="117"/>
                      </a:lnTo>
                      <a:lnTo>
                        <a:pt x="34" y="119"/>
                      </a:lnTo>
                      <a:lnTo>
                        <a:pt x="33" y="119"/>
                      </a:lnTo>
                      <a:lnTo>
                        <a:pt x="33" y="120"/>
                      </a:lnTo>
                      <a:lnTo>
                        <a:pt x="33" y="121"/>
                      </a:lnTo>
                      <a:lnTo>
                        <a:pt x="32" y="122"/>
                      </a:lnTo>
                      <a:lnTo>
                        <a:pt x="32" y="123"/>
                      </a:lnTo>
                      <a:lnTo>
                        <a:pt x="32" y="124"/>
                      </a:lnTo>
                      <a:lnTo>
                        <a:pt x="32" y="125"/>
                      </a:lnTo>
                      <a:lnTo>
                        <a:pt x="32" y="128"/>
                      </a:lnTo>
                      <a:lnTo>
                        <a:pt x="32" y="129"/>
                      </a:lnTo>
                      <a:lnTo>
                        <a:pt x="32" y="131"/>
                      </a:lnTo>
                      <a:lnTo>
                        <a:pt x="32" y="134"/>
                      </a:lnTo>
                      <a:lnTo>
                        <a:pt x="33" y="136"/>
                      </a:lnTo>
                      <a:lnTo>
                        <a:pt x="33" y="138"/>
                      </a:lnTo>
                      <a:lnTo>
                        <a:pt x="33" y="140"/>
                      </a:lnTo>
                      <a:lnTo>
                        <a:pt x="33" y="144"/>
                      </a:lnTo>
                      <a:lnTo>
                        <a:pt x="34" y="146"/>
                      </a:lnTo>
                      <a:lnTo>
                        <a:pt x="34" y="150"/>
                      </a:lnTo>
                      <a:lnTo>
                        <a:pt x="34" y="152"/>
                      </a:lnTo>
                      <a:lnTo>
                        <a:pt x="35" y="155"/>
                      </a:lnTo>
                      <a:lnTo>
                        <a:pt x="35" y="159"/>
                      </a:lnTo>
                      <a:lnTo>
                        <a:pt x="35" y="161"/>
                      </a:lnTo>
                      <a:lnTo>
                        <a:pt x="35" y="165"/>
                      </a:lnTo>
                      <a:lnTo>
                        <a:pt x="35" y="168"/>
                      </a:lnTo>
                      <a:lnTo>
                        <a:pt x="35" y="172"/>
                      </a:lnTo>
                      <a:lnTo>
                        <a:pt x="35" y="175"/>
                      </a:lnTo>
                      <a:lnTo>
                        <a:pt x="35" y="179"/>
                      </a:lnTo>
                      <a:lnTo>
                        <a:pt x="35" y="182"/>
                      </a:lnTo>
                      <a:lnTo>
                        <a:pt x="35" y="186"/>
                      </a:lnTo>
                      <a:lnTo>
                        <a:pt x="35" y="189"/>
                      </a:lnTo>
                      <a:lnTo>
                        <a:pt x="34" y="192"/>
                      </a:lnTo>
                      <a:lnTo>
                        <a:pt x="34" y="197"/>
                      </a:lnTo>
                      <a:lnTo>
                        <a:pt x="33" y="201"/>
                      </a:lnTo>
                      <a:close/>
                      <a:moveTo>
                        <a:pt x="302" y="83"/>
                      </a:moveTo>
                      <a:lnTo>
                        <a:pt x="303" y="82"/>
                      </a:lnTo>
                      <a:lnTo>
                        <a:pt x="304" y="82"/>
                      </a:lnTo>
                      <a:lnTo>
                        <a:pt x="305" y="80"/>
                      </a:lnTo>
                      <a:lnTo>
                        <a:pt x="307" y="80"/>
                      </a:lnTo>
                      <a:lnTo>
                        <a:pt x="308" y="79"/>
                      </a:lnTo>
                      <a:lnTo>
                        <a:pt x="309" y="79"/>
                      </a:lnTo>
                      <a:lnTo>
                        <a:pt x="310" y="78"/>
                      </a:lnTo>
                      <a:lnTo>
                        <a:pt x="311" y="78"/>
                      </a:lnTo>
                      <a:lnTo>
                        <a:pt x="312" y="78"/>
                      </a:lnTo>
                      <a:lnTo>
                        <a:pt x="314" y="78"/>
                      </a:lnTo>
                      <a:lnTo>
                        <a:pt x="314" y="77"/>
                      </a:lnTo>
                      <a:lnTo>
                        <a:pt x="315" y="77"/>
                      </a:lnTo>
                      <a:lnTo>
                        <a:pt x="316" y="79"/>
                      </a:lnTo>
                      <a:lnTo>
                        <a:pt x="316" y="80"/>
                      </a:lnTo>
                      <a:lnTo>
                        <a:pt x="317" y="82"/>
                      </a:lnTo>
                      <a:lnTo>
                        <a:pt x="317" y="83"/>
                      </a:lnTo>
                      <a:lnTo>
                        <a:pt x="318" y="84"/>
                      </a:lnTo>
                      <a:lnTo>
                        <a:pt x="319" y="85"/>
                      </a:lnTo>
                      <a:lnTo>
                        <a:pt x="320" y="87"/>
                      </a:lnTo>
                      <a:lnTo>
                        <a:pt x="322" y="88"/>
                      </a:lnTo>
                      <a:lnTo>
                        <a:pt x="323" y="90"/>
                      </a:lnTo>
                      <a:lnTo>
                        <a:pt x="324" y="91"/>
                      </a:lnTo>
                      <a:lnTo>
                        <a:pt x="326" y="92"/>
                      </a:lnTo>
                      <a:lnTo>
                        <a:pt x="327" y="93"/>
                      </a:lnTo>
                      <a:lnTo>
                        <a:pt x="329" y="94"/>
                      </a:lnTo>
                      <a:lnTo>
                        <a:pt x="330" y="95"/>
                      </a:lnTo>
                      <a:lnTo>
                        <a:pt x="332" y="97"/>
                      </a:lnTo>
                      <a:lnTo>
                        <a:pt x="333" y="98"/>
                      </a:lnTo>
                      <a:lnTo>
                        <a:pt x="334" y="99"/>
                      </a:lnTo>
                      <a:lnTo>
                        <a:pt x="337" y="100"/>
                      </a:lnTo>
                      <a:lnTo>
                        <a:pt x="338" y="101"/>
                      </a:lnTo>
                      <a:lnTo>
                        <a:pt x="339" y="102"/>
                      </a:lnTo>
                      <a:lnTo>
                        <a:pt x="341" y="104"/>
                      </a:lnTo>
                      <a:lnTo>
                        <a:pt x="342" y="105"/>
                      </a:lnTo>
                      <a:lnTo>
                        <a:pt x="344" y="106"/>
                      </a:lnTo>
                      <a:lnTo>
                        <a:pt x="345" y="107"/>
                      </a:lnTo>
                      <a:lnTo>
                        <a:pt x="346" y="108"/>
                      </a:lnTo>
                      <a:lnTo>
                        <a:pt x="347" y="110"/>
                      </a:lnTo>
                      <a:lnTo>
                        <a:pt x="348" y="112"/>
                      </a:lnTo>
                      <a:lnTo>
                        <a:pt x="349" y="113"/>
                      </a:lnTo>
                      <a:lnTo>
                        <a:pt x="350" y="114"/>
                      </a:lnTo>
                      <a:lnTo>
                        <a:pt x="352" y="116"/>
                      </a:lnTo>
                      <a:lnTo>
                        <a:pt x="352" y="117"/>
                      </a:lnTo>
                      <a:lnTo>
                        <a:pt x="353" y="119"/>
                      </a:lnTo>
                      <a:lnTo>
                        <a:pt x="353" y="122"/>
                      </a:lnTo>
                      <a:lnTo>
                        <a:pt x="354" y="124"/>
                      </a:lnTo>
                      <a:lnTo>
                        <a:pt x="355" y="127"/>
                      </a:lnTo>
                      <a:lnTo>
                        <a:pt x="355" y="130"/>
                      </a:lnTo>
                      <a:lnTo>
                        <a:pt x="356" y="132"/>
                      </a:lnTo>
                      <a:lnTo>
                        <a:pt x="356" y="136"/>
                      </a:lnTo>
                      <a:lnTo>
                        <a:pt x="357" y="138"/>
                      </a:lnTo>
                      <a:lnTo>
                        <a:pt x="359" y="142"/>
                      </a:lnTo>
                      <a:lnTo>
                        <a:pt x="359" y="145"/>
                      </a:lnTo>
                      <a:lnTo>
                        <a:pt x="360" y="147"/>
                      </a:lnTo>
                      <a:lnTo>
                        <a:pt x="360" y="151"/>
                      </a:lnTo>
                      <a:lnTo>
                        <a:pt x="361" y="154"/>
                      </a:lnTo>
                      <a:lnTo>
                        <a:pt x="361" y="158"/>
                      </a:lnTo>
                      <a:lnTo>
                        <a:pt x="362" y="161"/>
                      </a:lnTo>
                      <a:lnTo>
                        <a:pt x="362" y="164"/>
                      </a:lnTo>
                      <a:lnTo>
                        <a:pt x="362" y="167"/>
                      </a:lnTo>
                      <a:lnTo>
                        <a:pt x="363" y="171"/>
                      </a:lnTo>
                      <a:lnTo>
                        <a:pt x="363" y="174"/>
                      </a:lnTo>
                      <a:lnTo>
                        <a:pt x="364" y="177"/>
                      </a:lnTo>
                      <a:lnTo>
                        <a:pt x="364" y="180"/>
                      </a:lnTo>
                      <a:lnTo>
                        <a:pt x="366" y="183"/>
                      </a:lnTo>
                      <a:lnTo>
                        <a:pt x="367" y="187"/>
                      </a:lnTo>
                      <a:lnTo>
                        <a:pt x="367" y="189"/>
                      </a:lnTo>
                      <a:lnTo>
                        <a:pt x="368" y="192"/>
                      </a:lnTo>
                      <a:lnTo>
                        <a:pt x="368" y="195"/>
                      </a:lnTo>
                      <a:lnTo>
                        <a:pt x="369" y="198"/>
                      </a:lnTo>
                      <a:lnTo>
                        <a:pt x="369" y="201"/>
                      </a:lnTo>
                      <a:lnTo>
                        <a:pt x="370" y="203"/>
                      </a:lnTo>
                      <a:lnTo>
                        <a:pt x="371" y="205"/>
                      </a:lnTo>
                      <a:lnTo>
                        <a:pt x="371" y="207"/>
                      </a:lnTo>
                      <a:lnTo>
                        <a:pt x="372" y="210"/>
                      </a:lnTo>
                      <a:lnTo>
                        <a:pt x="374" y="212"/>
                      </a:lnTo>
                      <a:lnTo>
                        <a:pt x="371" y="213"/>
                      </a:lnTo>
                      <a:lnTo>
                        <a:pt x="370" y="216"/>
                      </a:lnTo>
                      <a:lnTo>
                        <a:pt x="368" y="217"/>
                      </a:lnTo>
                      <a:lnTo>
                        <a:pt x="366" y="219"/>
                      </a:lnTo>
                      <a:lnTo>
                        <a:pt x="363" y="220"/>
                      </a:lnTo>
                      <a:lnTo>
                        <a:pt x="361" y="221"/>
                      </a:lnTo>
                      <a:lnTo>
                        <a:pt x="359" y="224"/>
                      </a:lnTo>
                      <a:lnTo>
                        <a:pt x="355" y="225"/>
                      </a:lnTo>
                      <a:lnTo>
                        <a:pt x="353" y="226"/>
                      </a:lnTo>
                      <a:lnTo>
                        <a:pt x="349" y="228"/>
                      </a:lnTo>
                      <a:lnTo>
                        <a:pt x="347" y="229"/>
                      </a:lnTo>
                      <a:lnTo>
                        <a:pt x="344" y="231"/>
                      </a:lnTo>
                      <a:lnTo>
                        <a:pt x="341" y="233"/>
                      </a:lnTo>
                      <a:lnTo>
                        <a:pt x="338" y="234"/>
                      </a:lnTo>
                      <a:lnTo>
                        <a:pt x="334" y="235"/>
                      </a:lnTo>
                      <a:lnTo>
                        <a:pt x="331" y="238"/>
                      </a:lnTo>
                      <a:lnTo>
                        <a:pt x="327" y="239"/>
                      </a:lnTo>
                      <a:lnTo>
                        <a:pt x="324" y="240"/>
                      </a:lnTo>
                      <a:lnTo>
                        <a:pt x="320" y="242"/>
                      </a:lnTo>
                      <a:lnTo>
                        <a:pt x="316" y="243"/>
                      </a:lnTo>
                      <a:lnTo>
                        <a:pt x="312" y="246"/>
                      </a:lnTo>
                      <a:lnTo>
                        <a:pt x="309" y="247"/>
                      </a:lnTo>
                      <a:lnTo>
                        <a:pt x="305" y="249"/>
                      </a:lnTo>
                      <a:lnTo>
                        <a:pt x="301" y="250"/>
                      </a:lnTo>
                      <a:lnTo>
                        <a:pt x="297" y="253"/>
                      </a:lnTo>
                      <a:lnTo>
                        <a:pt x="293" y="254"/>
                      </a:lnTo>
                      <a:lnTo>
                        <a:pt x="289" y="256"/>
                      </a:lnTo>
                      <a:lnTo>
                        <a:pt x="285" y="258"/>
                      </a:lnTo>
                      <a:lnTo>
                        <a:pt x="281" y="261"/>
                      </a:lnTo>
                      <a:lnTo>
                        <a:pt x="277" y="262"/>
                      </a:lnTo>
                      <a:lnTo>
                        <a:pt x="272" y="264"/>
                      </a:lnTo>
                      <a:lnTo>
                        <a:pt x="268" y="266"/>
                      </a:lnTo>
                      <a:lnTo>
                        <a:pt x="268" y="264"/>
                      </a:lnTo>
                      <a:lnTo>
                        <a:pt x="268" y="262"/>
                      </a:lnTo>
                      <a:lnTo>
                        <a:pt x="270" y="259"/>
                      </a:lnTo>
                      <a:lnTo>
                        <a:pt x="270" y="257"/>
                      </a:lnTo>
                      <a:lnTo>
                        <a:pt x="270" y="254"/>
                      </a:lnTo>
                      <a:lnTo>
                        <a:pt x="271" y="251"/>
                      </a:lnTo>
                      <a:lnTo>
                        <a:pt x="271" y="248"/>
                      </a:lnTo>
                      <a:lnTo>
                        <a:pt x="271" y="246"/>
                      </a:lnTo>
                      <a:lnTo>
                        <a:pt x="271" y="242"/>
                      </a:lnTo>
                      <a:lnTo>
                        <a:pt x="271" y="239"/>
                      </a:lnTo>
                      <a:lnTo>
                        <a:pt x="272" y="235"/>
                      </a:lnTo>
                      <a:lnTo>
                        <a:pt x="272" y="233"/>
                      </a:lnTo>
                      <a:lnTo>
                        <a:pt x="272" y="229"/>
                      </a:lnTo>
                      <a:lnTo>
                        <a:pt x="272" y="226"/>
                      </a:lnTo>
                      <a:lnTo>
                        <a:pt x="272" y="222"/>
                      </a:lnTo>
                      <a:lnTo>
                        <a:pt x="272" y="219"/>
                      </a:lnTo>
                      <a:lnTo>
                        <a:pt x="272" y="216"/>
                      </a:lnTo>
                      <a:lnTo>
                        <a:pt x="272" y="212"/>
                      </a:lnTo>
                      <a:lnTo>
                        <a:pt x="272" y="209"/>
                      </a:lnTo>
                      <a:lnTo>
                        <a:pt x="272" y="205"/>
                      </a:lnTo>
                      <a:lnTo>
                        <a:pt x="272" y="202"/>
                      </a:lnTo>
                      <a:lnTo>
                        <a:pt x="272" y="199"/>
                      </a:lnTo>
                      <a:lnTo>
                        <a:pt x="272" y="196"/>
                      </a:lnTo>
                      <a:lnTo>
                        <a:pt x="272" y="192"/>
                      </a:lnTo>
                      <a:lnTo>
                        <a:pt x="272" y="189"/>
                      </a:lnTo>
                      <a:lnTo>
                        <a:pt x="272" y="187"/>
                      </a:lnTo>
                      <a:lnTo>
                        <a:pt x="272" y="183"/>
                      </a:lnTo>
                      <a:lnTo>
                        <a:pt x="272" y="181"/>
                      </a:lnTo>
                      <a:lnTo>
                        <a:pt x="272" y="177"/>
                      </a:lnTo>
                      <a:lnTo>
                        <a:pt x="272" y="175"/>
                      </a:lnTo>
                      <a:lnTo>
                        <a:pt x="272" y="173"/>
                      </a:lnTo>
                      <a:lnTo>
                        <a:pt x="272" y="171"/>
                      </a:lnTo>
                      <a:lnTo>
                        <a:pt x="272" y="169"/>
                      </a:lnTo>
                      <a:lnTo>
                        <a:pt x="271" y="168"/>
                      </a:lnTo>
                      <a:lnTo>
                        <a:pt x="270" y="167"/>
                      </a:lnTo>
                      <a:lnTo>
                        <a:pt x="270" y="166"/>
                      </a:lnTo>
                      <a:lnTo>
                        <a:pt x="268" y="166"/>
                      </a:lnTo>
                      <a:lnTo>
                        <a:pt x="268" y="165"/>
                      </a:lnTo>
                      <a:lnTo>
                        <a:pt x="267" y="164"/>
                      </a:lnTo>
                      <a:lnTo>
                        <a:pt x="266" y="162"/>
                      </a:lnTo>
                      <a:lnTo>
                        <a:pt x="266" y="161"/>
                      </a:lnTo>
                      <a:lnTo>
                        <a:pt x="265" y="161"/>
                      </a:lnTo>
                      <a:lnTo>
                        <a:pt x="265" y="160"/>
                      </a:lnTo>
                      <a:lnTo>
                        <a:pt x="264" y="159"/>
                      </a:lnTo>
                      <a:lnTo>
                        <a:pt x="264" y="158"/>
                      </a:lnTo>
                      <a:lnTo>
                        <a:pt x="263" y="157"/>
                      </a:lnTo>
                      <a:lnTo>
                        <a:pt x="262" y="155"/>
                      </a:lnTo>
                      <a:lnTo>
                        <a:pt x="262" y="154"/>
                      </a:lnTo>
                      <a:lnTo>
                        <a:pt x="260" y="153"/>
                      </a:lnTo>
                      <a:lnTo>
                        <a:pt x="260" y="152"/>
                      </a:lnTo>
                      <a:lnTo>
                        <a:pt x="259" y="151"/>
                      </a:lnTo>
                      <a:lnTo>
                        <a:pt x="258" y="150"/>
                      </a:lnTo>
                      <a:lnTo>
                        <a:pt x="258" y="149"/>
                      </a:lnTo>
                      <a:lnTo>
                        <a:pt x="257" y="149"/>
                      </a:lnTo>
                      <a:lnTo>
                        <a:pt x="257" y="147"/>
                      </a:lnTo>
                      <a:lnTo>
                        <a:pt x="256" y="146"/>
                      </a:lnTo>
                      <a:lnTo>
                        <a:pt x="255" y="145"/>
                      </a:lnTo>
                      <a:lnTo>
                        <a:pt x="255" y="147"/>
                      </a:lnTo>
                      <a:lnTo>
                        <a:pt x="255" y="149"/>
                      </a:lnTo>
                      <a:lnTo>
                        <a:pt x="255" y="151"/>
                      </a:lnTo>
                      <a:lnTo>
                        <a:pt x="255" y="153"/>
                      </a:lnTo>
                      <a:lnTo>
                        <a:pt x="255" y="154"/>
                      </a:lnTo>
                      <a:lnTo>
                        <a:pt x="256" y="157"/>
                      </a:lnTo>
                      <a:lnTo>
                        <a:pt x="256" y="159"/>
                      </a:lnTo>
                      <a:lnTo>
                        <a:pt x="256" y="161"/>
                      </a:lnTo>
                      <a:lnTo>
                        <a:pt x="256" y="162"/>
                      </a:lnTo>
                      <a:lnTo>
                        <a:pt x="257" y="165"/>
                      </a:lnTo>
                      <a:lnTo>
                        <a:pt x="257" y="167"/>
                      </a:lnTo>
                      <a:lnTo>
                        <a:pt x="257" y="169"/>
                      </a:lnTo>
                      <a:lnTo>
                        <a:pt x="258" y="171"/>
                      </a:lnTo>
                      <a:lnTo>
                        <a:pt x="258" y="173"/>
                      </a:lnTo>
                      <a:lnTo>
                        <a:pt x="259" y="175"/>
                      </a:lnTo>
                      <a:lnTo>
                        <a:pt x="259" y="177"/>
                      </a:lnTo>
                      <a:lnTo>
                        <a:pt x="260" y="179"/>
                      </a:lnTo>
                      <a:lnTo>
                        <a:pt x="260" y="181"/>
                      </a:lnTo>
                      <a:lnTo>
                        <a:pt x="262" y="182"/>
                      </a:lnTo>
                      <a:lnTo>
                        <a:pt x="262" y="184"/>
                      </a:lnTo>
                      <a:lnTo>
                        <a:pt x="263" y="186"/>
                      </a:lnTo>
                      <a:lnTo>
                        <a:pt x="264" y="188"/>
                      </a:lnTo>
                      <a:lnTo>
                        <a:pt x="264" y="189"/>
                      </a:lnTo>
                      <a:lnTo>
                        <a:pt x="265" y="191"/>
                      </a:lnTo>
                      <a:lnTo>
                        <a:pt x="265" y="192"/>
                      </a:lnTo>
                      <a:lnTo>
                        <a:pt x="266" y="194"/>
                      </a:lnTo>
                      <a:lnTo>
                        <a:pt x="267" y="195"/>
                      </a:lnTo>
                      <a:lnTo>
                        <a:pt x="267" y="197"/>
                      </a:lnTo>
                      <a:lnTo>
                        <a:pt x="268" y="198"/>
                      </a:lnTo>
                      <a:lnTo>
                        <a:pt x="270" y="199"/>
                      </a:lnTo>
                      <a:lnTo>
                        <a:pt x="270" y="201"/>
                      </a:lnTo>
                      <a:lnTo>
                        <a:pt x="271" y="202"/>
                      </a:lnTo>
                      <a:lnTo>
                        <a:pt x="271" y="203"/>
                      </a:lnTo>
                      <a:lnTo>
                        <a:pt x="271" y="204"/>
                      </a:lnTo>
                      <a:lnTo>
                        <a:pt x="271" y="205"/>
                      </a:lnTo>
                      <a:lnTo>
                        <a:pt x="271" y="206"/>
                      </a:lnTo>
                      <a:lnTo>
                        <a:pt x="271" y="207"/>
                      </a:lnTo>
                      <a:lnTo>
                        <a:pt x="271" y="209"/>
                      </a:lnTo>
                      <a:lnTo>
                        <a:pt x="271" y="210"/>
                      </a:lnTo>
                      <a:lnTo>
                        <a:pt x="271" y="211"/>
                      </a:lnTo>
                      <a:lnTo>
                        <a:pt x="271" y="212"/>
                      </a:lnTo>
                      <a:lnTo>
                        <a:pt x="271" y="213"/>
                      </a:lnTo>
                      <a:lnTo>
                        <a:pt x="271" y="214"/>
                      </a:lnTo>
                      <a:lnTo>
                        <a:pt x="271" y="216"/>
                      </a:lnTo>
                      <a:lnTo>
                        <a:pt x="271" y="217"/>
                      </a:lnTo>
                      <a:lnTo>
                        <a:pt x="271" y="218"/>
                      </a:lnTo>
                      <a:lnTo>
                        <a:pt x="271" y="219"/>
                      </a:lnTo>
                      <a:lnTo>
                        <a:pt x="271" y="220"/>
                      </a:lnTo>
                      <a:lnTo>
                        <a:pt x="271" y="221"/>
                      </a:lnTo>
                      <a:lnTo>
                        <a:pt x="271" y="222"/>
                      </a:lnTo>
                      <a:lnTo>
                        <a:pt x="270" y="221"/>
                      </a:lnTo>
                      <a:lnTo>
                        <a:pt x="270" y="219"/>
                      </a:lnTo>
                      <a:lnTo>
                        <a:pt x="268" y="218"/>
                      </a:lnTo>
                      <a:lnTo>
                        <a:pt x="267" y="216"/>
                      </a:lnTo>
                      <a:lnTo>
                        <a:pt x="266" y="214"/>
                      </a:lnTo>
                      <a:lnTo>
                        <a:pt x="266" y="212"/>
                      </a:lnTo>
                      <a:lnTo>
                        <a:pt x="265" y="211"/>
                      </a:lnTo>
                      <a:lnTo>
                        <a:pt x="264" y="209"/>
                      </a:lnTo>
                      <a:lnTo>
                        <a:pt x="263" y="206"/>
                      </a:lnTo>
                      <a:lnTo>
                        <a:pt x="262" y="204"/>
                      </a:lnTo>
                      <a:lnTo>
                        <a:pt x="262" y="203"/>
                      </a:lnTo>
                      <a:lnTo>
                        <a:pt x="260" y="201"/>
                      </a:lnTo>
                      <a:lnTo>
                        <a:pt x="259" y="198"/>
                      </a:lnTo>
                      <a:lnTo>
                        <a:pt x="258" y="196"/>
                      </a:lnTo>
                      <a:lnTo>
                        <a:pt x="257" y="194"/>
                      </a:lnTo>
                      <a:lnTo>
                        <a:pt x="256" y="192"/>
                      </a:lnTo>
                      <a:lnTo>
                        <a:pt x="256" y="190"/>
                      </a:lnTo>
                      <a:lnTo>
                        <a:pt x="255" y="188"/>
                      </a:lnTo>
                      <a:lnTo>
                        <a:pt x="253" y="186"/>
                      </a:lnTo>
                      <a:lnTo>
                        <a:pt x="252" y="184"/>
                      </a:lnTo>
                      <a:lnTo>
                        <a:pt x="251" y="182"/>
                      </a:lnTo>
                      <a:lnTo>
                        <a:pt x="251" y="180"/>
                      </a:lnTo>
                      <a:lnTo>
                        <a:pt x="250" y="179"/>
                      </a:lnTo>
                      <a:lnTo>
                        <a:pt x="249" y="176"/>
                      </a:lnTo>
                      <a:lnTo>
                        <a:pt x="248" y="175"/>
                      </a:lnTo>
                      <a:lnTo>
                        <a:pt x="246" y="173"/>
                      </a:lnTo>
                      <a:lnTo>
                        <a:pt x="246" y="172"/>
                      </a:lnTo>
                      <a:lnTo>
                        <a:pt x="245" y="171"/>
                      </a:lnTo>
                      <a:lnTo>
                        <a:pt x="244" y="169"/>
                      </a:lnTo>
                      <a:lnTo>
                        <a:pt x="243" y="168"/>
                      </a:lnTo>
                      <a:lnTo>
                        <a:pt x="243" y="167"/>
                      </a:lnTo>
                      <a:lnTo>
                        <a:pt x="242" y="166"/>
                      </a:lnTo>
                      <a:lnTo>
                        <a:pt x="242" y="162"/>
                      </a:lnTo>
                      <a:lnTo>
                        <a:pt x="243" y="160"/>
                      </a:lnTo>
                      <a:lnTo>
                        <a:pt x="244" y="158"/>
                      </a:lnTo>
                      <a:lnTo>
                        <a:pt x="244" y="155"/>
                      </a:lnTo>
                      <a:lnTo>
                        <a:pt x="245" y="153"/>
                      </a:lnTo>
                      <a:lnTo>
                        <a:pt x="246" y="151"/>
                      </a:lnTo>
                      <a:lnTo>
                        <a:pt x="248" y="149"/>
                      </a:lnTo>
                      <a:lnTo>
                        <a:pt x="249" y="146"/>
                      </a:lnTo>
                      <a:lnTo>
                        <a:pt x="250" y="144"/>
                      </a:lnTo>
                      <a:lnTo>
                        <a:pt x="251" y="143"/>
                      </a:lnTo>
                      <a:lnTo>
                        <a:pt x="252" y="140"/>
                      </a:lnTo>
                      <a:lnTo>
                        <a:pt x="253" y="138"/>
                      </a:lnTo>
                      <a:lnTo>
                        <a:pt x="255" y="136"/>
                      </a:lnTo>
                      <a:lnTo>
                        <a:pt x="257" y="135"/>
                      </a:lnTo>
                      <a:lnTo>
                        <a:pt x="258" y="132"/>
                      </a:lnTo>
                      <a:lnTo>
                        <a:pt x="259" y="130"/>
                      </a:lnTo>
                      <a:lnTo>
                        <a:pt x="260" y="129"/>
                      </a:lnTo>
                      <a:lnTo>
                        <a:pt x="263" y="127"/>
                      </a:lnTo>
                      <a:lnTo>
                        <a:pt x="264" y="124"/>
                      </a:lnTo>
                      <a:lnTo>
                        <a:pt x="265" y="123"/>
                      </a:lnTo>
                      <a:lnTo>
                        <a:pt x="267" y="121"/>
                      </a:lnTo>
                      <a:lnTo>
                        <a:pt x="268" y="120"/>
                      </a:lnTo>
                      <a:lnTo>
                        <a:pt x="270" y="117"/>
                      </a:lnTo>
                      <a:lnTo>
                        <a:pt x="272" y="116"/>
                      </a:lnTo>
                      <a:lnTo>
                        <a:pt x="273" y="114"/>
                      </a:lnTo>
                      <a:lnTo>
                        <a:pt x="274" y="113"/>
                      </a:lnTo>
                      <a:lnTo>
                        <a:pt x="275" y="110"/>
                      </a:lnTo>
                      <a:lnTo>
                        <a:pt x="278" y="109"/>
                      </a:lnTo>
                      <a:lnTo>
                        <a:pt x="279" y="108"/>
                      </a:lnTo>
                      <a:lnTo>
                        <a:pt x="280" y="106"/>
                      </a:lnTo>
                      <a:lnTo>
                        <a:pt x="281" y="105"/>
                      </a:lnTo>
                      <a:lnTo>
                        <a:pt x="283" y="102"/>
                      </a:lnTo>
                      <a:lnTo>
                        <a:pt x="285" y="102"/>
                      </a:lnTo>
                      <a:lnTo>
                        <a:pt x="286" y="101"/>
                      </a:lnTo>
                      <a:lnTo>
                        <a:pt x="287" y="100"/>
                      </a:lnTo>
                      <a:lnTo>
                        <a:pt x="288" y="99"/>
                      </a:lnTo>
                      <a:lnTo>
                        <a:pt x="289" y="99"/>
                      </a:lnTo>
                      <a:lnTo>
                        <a:pt x="289" y="98"/>
                      </a:lnTo>
                      <a:lnTo>
                        <a:pt x="290" y="98"/>
                      </a:lnTo>
                      <a:lnTo>
                        <a:pt x="290" y="97"/>
                      </a:lnTo>
                      <a:lnTo>
                        <a:pt x="292" y="97"/>
                      </a:lnTo>
                      <a:lnTo>
                        <a:pt x="293" y="95"/>
                      </a:lnTo>
                      <a:lnTo>
                        <a:pt x="293" y="94"/>
                      </a:lnTo>
                      <a:lnTo>
                        <a:pt x="294" y="94"/>
                      </a:lnTo>
                      <a:lnTo>
                        <a:pt x="295" y="93"/>
                      </a:lnTo>
                      <a:lnTo>
                        <a:pt x="296" y="92"/>
                      </a:lnTo>
                      <a:lnTo>
                        <a:pt x="297" y="91"/>
                      </a:lnTo>
                      <a:lnTo>
                        <a:pt x="298" y="90"/>
                      </a:lnTo>
                      <a:lnTo>
                        <a:pt x="300" y="90"/>
                      </a:lnTo>
                      <a:lnTo>
                        <a:pt x="300" y="88"/>
                      </a:lnTo>
                      <a:lnTo>
                        <a:pt x="301" y="88"/>
                      </a:lnTo>
                      <a:lnTo>
                        <a:pt x="302" y="88"/>
                      </a:lnTo>
                      <a:lnTo>
                        <a:pt x="303" y="88"/>
                      </a:lnTo>
                      <a:lnTo>
                        <a:pt x="304" y="90"/>
                      </a:lnTo>
                      <a:lnTo>
                        <a:pt x="305" y="91"/>
                      </a:lnTo>
                      <a:lnTo>
                        <a:pt x="305" y="92"/>
                      </a:lnTo>
                      <a:lnTo>
                        <a:pt x="307" y="94"/>
                      </a:lnTo>
                      <a:lnTo>
                        <a:pt x="308" y="97"/>
                      </a:lnTo>
                      <a:lnTo>
                        <a:pt x="309" y="99"/>
                      </a:lnTo>
                      <a:lnTo>
                        <a:pt x="310" y="101"/>
                      </a:lnTo>
                      <a:lnTo>
                        <a:pt x="311" y="104"/>
                      </a:lnTo>
                      <a:lnTo>
                        <a:pt x="312" y="107"/>
                      </a:lnTo>
                      <a:lnTo>
                        <a:pt x="314" y="110"/>
                      </a:lnTo>
                      <a:lnTo>
                        <a:pt x="315" y="113"/>
                      </a:lnTo>
                      <a:lnTo>
                        <a:pt x="315" y="116"/>
                      </a:lnTo>
                      <a:lnTo>
                        <a:pt x="316" y="121"/>
                      </a:lnTo>
                      <a:lnTo>
                        <a:pt x="317" y="124"/>
                      </a:lnTo>
                      <a:lnTo>
                        <a:pt x="318" y="128"/>
                      </a:lnTo>
                      <a:lnTo>
                        <a:pt x="319" y="131"/>
                      </a:lnTo>
                      <a:lnTo>
                        <a:pt x="320" y="135"/>
                      </a:lnTo>
                      <a:lnTo>
                        <a:pt x="320" y="139"/>
                      </a:lnTo>
                      <a:lnTo>
                        <a:pt x="322" y="143"/>
                      </a:lnTo>
                      <a:lnTo>
                        <a:pt x="323" y="146"/>
                      </a:lnTo>
                      <a:lnTo>
                        <a:pt x="323" y="151"/>
                      </a:lnTo>
                      <a:lnTo>
                        <a:pt x="324" y="154"/>
                      </a:lnTo>
                      <a:lnTo>
                        <a:pt x="325" y="158"/>
                      </a:lnTo>
                      <a:lnTo>
                        <a:pt x="325" y="161"/>
                      </a:lnTo>
                      <a:lnTo>
                        <a:pt x="326" y="165"/>
                      </a:lnTo>
                      <a:lnTo>
                        <a:pt x="326" y="168"/>
                      </a:lnTo>
                      <a:lnTo>
                        <a:pt x="326" y="172"/>
                      </a:lnTo>
                      <a:lnTo>
                        <a:pt x="327" y="175"/>
                      </a:lnTo>
                      <a:lnTo>
                        <a:pt x="327" y="177"/>
                      </a:lnTo>
                      <a:lnTo>
                        <a:pt x="327" y="181"/>
                      </a:lnTo>
                      <a:lnTo>
                        <a:pt x="329" y="179"/>
                      </a:lnTo>
                      <a:lnTo>
                        <a:pt x="329" y="177"/>
                      </a:lnTo>
                      <a:lnTo>
                        <a:pt x="330" y="175"/>
                      </a:lnTo>
                      <a:lnTo>
                        <a:pt x="330" y="174"/>
                      </a:lnTo>
                      <a:lnTo>
                        <a:pt x="331" y="173"/>
                      </a:lnTo>
                      <a:lnTo>
                        <a:pt x="331" y="171"/>
                      </a:lnTo>
                      <a:lnTo>
                        <a:pt x="331" y="169"/>
                      </a:lnTo>
                      <a:lnTo>
                        <a:pt x="332" y="168"/>
                      </a:lnTo>
                      <a:lnTo>
                        <a:pt x="332" y="166"/>
                      </a:lnTo>
                      <a:lnTo>
                        <a:pt x="332" y="165"/>
                      </a:lnTo>
                      <a:lnTo>
                        <a:pt x="332" y="164"/>
                      </a:lnTo>
                      <a:lnTo>
                        <a:pt x="332" y="162"/>
                      </a:lnTo>
                      <a:lnTo>
                        <a:pt x="332" y="160"/>
                      </a:lnTo>
                      <a:lnTo>
                        <a:pt x="332" y="159"/>
                      </a:lnTo>
                      <a:lnTo>
                        <a:pt x="332" y="158"/>
                      </a:lnTo>
                      <a:lnTo>
                        <a:pt x="332" y="157"/>
                      </a:lnTo>
                      <a:lnTo>
                        <a:pt x="332" y="154"/>
                      </a:lnTo>
                      <a:lnTo>
                        <a:pt x="331" y="153"/>
                      </a:lnTo>
                      <a:lnTo>
                        <a:pt x="331" y="152"/>
                      </a:lnTo>
                      <a:lnTo>
                        <a:pt x="331" y="151"/>
                      </a:lnTo>
                      <a:lnTo>
                        <a:pt x="330" y="149"/>
                      </a:lnTo>
                      <a:lnTo>
                        <a:pt x="330" y="147"/>
                      </a:lnTo>
                      <a:lnTo>
                        <a:pt x="330" y="146"/>
                      </a:lnTo>
                      <a:lnTo>
                        <a:pt x="329" y="145"/>
                      </a:lnTo>
                      <a:lnTo>
                        <a:pt x="329" y="143"/>
                      </a:lnTo>
                      <a:lnTo>
                        <a:pt x="327" y="142"/>
                      </a:lnTo>
                      <a:lnTo>
                        <a:pt x="327" y="140"/>
                      </a:lnTo>
                      <a:lnTo>
                        <a:pt x="326" y="138"/>
                      </a:lnTo>
                      <a:lnTo>
                        <a:pt x="326" y="137"/>
                      </a:lnTo>
                      <a:lnTo>
                        <a:pt x="325" y="136"/>
                      </a:lnTo>
                      <a:lnTo>
                        <a:pt x="325" y="134"/>
                      </a:lnTo>
                      <a:lnTo>
                        <a:pt x="324" y="132"/>
                      </a:lnTo>
                      <a:lnTo>
                        <a:pt x="324" y="131"/>
                      </a:lnTo>
                      <a:lnTo>
                        <a:pt x="323" y="129"/>
                      </a:lnTo>
                      <a:lnTo>
                        <a:pt x="323" y="128"/>
                      </a:lnTo>
                      <a:lnTo>
                        <a:pt x="322" y="125"/>
                      </a:lnTo>
                      <a:lnTo>
                        <a:pt x="322" y="124"/>
                      </a:lnTo>
                      <a:lnTo>
                        <a:pt x="320" y="123"/>
                      </a:lnTo>
                      <a:lnTo>
                        <a:pt x="320" y="121"/>
                      </a:lnTo>
                      <a:lnTo>
                        <a:pt x="319" y="120"/>
                      </a:lnTo>
                      <a:lnTo>
                        <a:pt x="319" y="117"/>
                      </a:lnTo>
                      <a:lnTo>
                        <a:pt x="318" y="116"/>
                      </a:lnTo>
                      <a:lnTo>
                        <a:pt x="318" y="114"/>
                      </a:lnTo>
                      <a:lnTo>
                        <a:pt x="317" y="113"/>
                      </a:lnTo>
                      <a:lnTo>
                        <a:pt x="317" y="110"/>
                      </a:lnTo>
                      <a:lnTo>
                        <a:pt x="316" y="109"/>
                      </a:lnTo>
                      <a:lnTo>
                        <a:pt x="316" y="107"/>
                      </a:lnTo>
                      <a:lnTo>
                        <a:pt x="315" y="106"/>
                      </a:lnTo>
                      <a:lnTo>
                        <a:pt x="315" y="104"/>
                      </a:lnTo>
                      <a:lnTo>
                        <a:pt x="314" y="102"/>
                      </a:lnTo>
                      <a:lnTo>
                        <a:pt x="314" y="100"/>
                      </a:lnTo>
                      <a:lnTo>
                        <a:pt x="312" y="99"/>
                      </a:lnTo>
                      <a:lnTo>
                        <a:pt x="311" y="98"/>
                      </a:lnTo>
                      <a:lnTo>
                        <a:pt x="311" y="95"/>
                      </a:lnTo>
                      <a:lnTo>
                        <a:pt x="310" y="94"/>
                      </a:lnTo>
                      <a:lnTo>
                        <a:pt x="309" y="93"/>
                      </a:lnTo>
                      <a:lnTo>
                        <a:pt x="309" y="92"/>
                      </a:lnTo>
                      <a:lnTo>
                        <a:pt x="308" y="90"/>
                      </a:lnTo>
                      <a:lnTo>
                        <a:pt x="307" y="88"/>
                      </a:lnTo>
                      <a:lnTo>
                        <a:pt x="305" y="87"/>
                      </a:lnTo>
                      <a:lnTo>
                        <a:pt x="304" y="86"/>
                      </a:lnTo>
                      <a:lnTo>
                        <a:pt x="303" y="85"/>
                      </a:lnTo>
                      <a:lnTo>
                        <a:pt x="303" y="84"/>
                      </a:lnTo>
                      <a:lnTo>
                        <a:pt x="302" y="83"/>
                      </a:lnTo>
                      <a:close/>
                      <a:moveTo>
                        <a:pt x="0" y="136"/>
                      </a:moveTo>
                      <a:lnTo>
                        <a:pt x="2" y="134"/>
                      </a:lnTo>
                      <a:lnTo>
                        <a:pt x="3" y="131"/>
                      </a:lnTo>
                      <a:lnTo>
                        <a:pt x="4" y="130"/>
                      </a:lnTo>
                      <a:lnTo>
                        <a:pt x="5" y="128"/>
                      </a:lnTo>
                      <a:lnTo>
                        <a:pt x="6" y="125"/>
                      </a:lnTo>
                      <a:lnTo>
                        <a:pt x="7" y="124"/>
                      </a:lnTo>
                      <a:lnTo>
                        <a:pt x="10" y="122"/>
                      </a:lnTo>
                      <a:lnTo>
                        <a:pt x="11" y="120"/>
                      </a:lnTo>
                      <a:lnTo>
                        <a:pt x="12" y="119"/>
                      </a:lnTo>
                      <a:lnTo>
                        <a:pt x="13" y="116"/>
                      </a:lnTo>
                      <a:lnTo>
                        <a:pt x="15" y="115"/>
                      </a:lnTo>
                      <a:lnTo>
                        <a:pt x="17" y="113"/>
                      </a:lnTo>
                      <a:lnTo>
                        <a:pt x="18" y="110"/>
                      </a:lnTo>
                      <a:lnTo>
                        <a:pt x="19" y="109"/>
                      </a:lnTo>
                      <a:lnTo>
                        <a:pt x="21" y="107"/>
                      </a:lnTo>
                      <a:lnTo>
                        <a:pt x="22" y="105"/>
                      </a:lnTo>
                      <a:lnTo>
                        <a:pt x="25" y="104"/>
                      </a:lnTo>
                      <a:lnTo>
                        <a:pt x="26" y="101"/>
                      </a:lnTo>
                      <a:lnTo>
                        <a:pt x="28" y="100"/>
                      </a:lnTo>
                      <a:lnTo>
                        <a:pt x="29" y="98"/>
                      </a:lnTo>
                      <a:lnTo>
                        <a:pt x="30" y="95"/>
                      </a:lnTo>
                      <a:lnTo>
                        <a:pt x="33" y="94"/>
                      </a:lnTo>
                      <a:lnTo>
                        <a:pt x="34" y="92"/>
                      </a:lnTo>
                      <a:lnTo>
                        <a:pt x="36" y="90"/>
                      </a:lnTo>
                      <a:lnTo>
                        <a:pt x="39" y="88"/>
                      </a:lnTo>
                      <a:lnTo>
                        <a:pt x="40" y="86"/>
                      </a:lnTo>
                      <a:lnTo>
                        <a:pt x="42" y="84"/>
                      </a:lnTo>
                      <a:lnTo>
                        <a:pt x="43" y="82"/>
                      </a:lnTo>
                      <a:lnTo>
                        <a:pt x="45" y="80"/>
                      </a:lnTo>
                      <a:lnTo>
                        <a:pt x="47" y="78"/>
                      </a:lnTo>
                      <a:lnTo>
                        <a:pt x="49" y="76"/>
                      </a:lnTo>
                      <a:lnTo>
                        <a:pt x="50" y="73"/>
                      </a:lnTo>
                      <a:lnTo>
                        <a:pt x="52" y="72"/>
                      </a:lnTo>
                      <a:lnTo>
                        <a:pt x="55" y="70"/>
                      </a:lnTo>
                      <a:lnTo>
                        <a:pt x="56" y="68"/>
                      </a:lnTo>
                      <a:lnTo>
                        <a:pt x="58" y="65"/>
                      </a:lnTo>
                      <a:lnTo>
                        <a:pt x="59" y="64"/>
                      </a:lnTo>
                      <a:lnTo>
                        <a:pt x="62" y="62"/>
                      </a:lnTo>
                      <a:lnTo>
                        <a:pt x="63" y="60"/>
                      </a:lnTo>
                      <a:lnTo>
                        <a:pt x="65" y="57"/>
                      </a:lnTo>
                      <a:lnTo>
                        <a:pt x="66" y="56"/>
                      </a:lnTo>
                      <a:lnTo>
                        <a:pt x="69" y="54"/>
                      </a:lnTo>
                      <a:lnTo>
                        <a:pt x="71" y="52"/>
                      </a:lnTo>
                      <a:lnTo>
                        <a:pt x="72" y="50"/>
                      </a:lnTo>
                      <a:lnTo>
                        <a:pt x="74" y="48"/>
                      </a:lnTo>
                      <a:lnTo>
                        <a:pt x="75" y="46"/>
                      </a:lnTo>
                      <a:lnTo>
                        <a:pt x="77" y="45"/>
                      </a:lnTo>
                      <a:lnTo>
                        <a:pt x="79" y="42"/>
                      </a:lnTo>
                      <a:lnTo>
                        <a:pt x="80" y="41"/>
                      </a:lnTo>
                      <a:lnTo>
                        <a:pt x="82" y="40"/>
                      </a:lnTo>
                      <a:lnTo>
                        <a:pt x="84" y="38"/>
                      </a:lnTo>
                      <a:lnTo>
                        <a:pt x="85" y="37"/>
                      </a:lnTo>
                      <a:lnTo>
                        <a:pt x="87" y="35"/>
                      </a:lnTo>
                      <a:lnTo>
                        <a:pt x="88" y="34"/>
                      </a:lnTo>
                      <a:lnTo>
                        <a:pt x="89" y="33"/>
                      </a:lnTo>
                      <a:lnTo>
                        <a:pt x="92" y="32"/>
                      </a:lnTo>
                      <a:lnTo>
                        <a:pt x="93" y="31"/>
                      </a:lnTo>
                      <a:lnTo>
                        <a:pt x="94" y="30"/>
                      </a:lnTo>
                      <a:lnTo>
                        <a:pt x="95" y="28"/>
                      </a:lnTo>
                      <a:lnTo>
                        <a:pt x="96" y="28"/>
                      </a:lnTo>
                      <a:lnTo>
                        <a:pt x="97" y="27"/>
                      </a:lnTo>
                      <a:lnTo>
                        <a:pt x="99" y="27"/>
                      </a:lnTo>
                      <a:lnTo>
                        <a:pt x="100" y="27"/>
                      </a:lnTo>
                      <a:lnTo>
                        <a:pt x="101" y="26"/>
                      </a:lnTo>
                      <a:lnTo>
                        <a:pt x="102" y="26"/>
                      </a:lnTo>
                      <a:lnTo>
                        <a:pt x="103" y="26"/>
                      </a:lnTo>
                      <a:lnTo>
                        <a:pt x="104" y="26"/>
                      </a:lnTo>
                      <a:lnTo>
                        <a:pt x="106" y="25"/>
                      </a:lnTo>
                      <a:lnTo>
                        <a:pt x="107" y="25"/>
                      </a:lnTo>
                      <a:lnTo>
                        <a:pt x="108" y="24"/>
                      </a:lnTo>
                      <a:lnTo>
                        <a:pt x="110" y="24"/>
                      </a:lnTo>
                      <a:lnTo>
                        <a:pt x="111" y="23"/>
                      </a:lnTo>
                      <a:lnTo>
                        <a:pt x="114" y="21"/>
                      </a:lnTo>
                      <a:lnTo>
                        <a:pt x="115" y="20"/>
                      </a:lnTo>
                      <a:lnTo>
                        <a:pt x="117" y="19"/>
                      </a:lnTo>
                      <a:lnTo>
                        <a:pt x="119" y="18"/>
                      </a:lnTo>
                      <a:lnTo>
                        <a:pt x="121" y="17"/>
                      </a:lnTo>
                      <a:lnTo>
                        <a:pt x="123" y="16"/>
                      </a:lnTo>
                      <a:lnTo>
                        <a:pt x="125" y="15"/>
                      </a:lnTo>
                      <a:lnTo>
                        <a:pt x="127" y="13"/>
                      </a:lnTo>
                      <a:lnTo>
                        <a:pt x="129" y="12"/>
                      </a:lnTo>
                      <a:lnTo>
                        <a:pt x="131" y="11"/>
                      </a:lnTo>
                      <a:lnTo>
                        <a:pt x="133" y="10"/>
                      </a:lnTo>
                      <a:lnTo>
                        <a:pt x="134" y="9"/>
                      </a:lnTo>
                      <a:lnTo>
                        <a:pt x="137" y="8"/>
                      </a:lnTo>
                      <a:lnTo>
                        <a:pt x="139" y="6"/>
                      </a:lnTo>
                      <a:lnTo>
                        <a:pt x="140" y="5"/>
                      </a:lnTo>
                      <a:lnTo>
                        <a:pt x="142" y="4"/>
                      </a:lnTo>
                      <a:lnTo>
                        <a:pt x="144" y="4"/>
                      </a:lnTo>
                      <a:lnTo>
                        <a:pt x="146" y="3"/>
                      </a:lnTo>
                      <a:lnTo>
                        <a:pt x="147" y="2"/>
                      </a:lnTo>
                      <a:lnTo>
                        <a:pt x="148" y="2"/>
                      </a:lnTo>
                      <a:lnTo>
                        <a:pt x="149" y="1"/>
                      </a:lnTo>
                      <a:lnTo>
                        <a:pt x="151" y="1"/>
                      </a:lnTo>
                      <a:lnTo>
                        <a:pt x="152" y="1"/>
                      </a:lnTo>
                      <a:lnTo>
                        <a:pt x="152" y="2"/>
                      </a:lnTo>
                      <a:lnTo>
                        <a:pt x="152" y="3"/>
                      </a:lnTo>
                      <a:lnTo>
                        <a:pt x="152" y="4"/>
                      </a:lnTo>
                      <a:lnTo>
                        <a:pt x="152" y="5"/>
                      </a:lnTo>
                      <a:lnTo>
                        <a:pt x="152" y="6"/>
                      </a:lnTo>
                      <a:lnTo>
                        <a:pt x="152" y="8"/>
                      </a:lnTo>
                      <a:lnTo>
                        <a:pt x="152" y="9"/>
                      </a:lnTo>
                      <a:lnTo>
                        <a:pt x="152" y="10"/>
                      </a:lnTo>
                      <a:lnTo>
                        <a:pt x="152" y="11"/>
                      </a:lnTo>
                      <a:lnTo>
                        <a:pt x="152" y="12"/>
                      </a:lnTo>
                      <a:lnTo>
                        <a:pt x="152" y="13"/>
                      </a:lnTo>
                      <a:lnTo>
                        <a:pt x="152" y="15"/>
                      </a:lnTo>
                      <a:lnTo>
                        <a:pt x="152" y="16"/>
                      </a:lnTo>
                      <a:lnTo>
                        <a:pt x="152" y="17"/>
                      </a:lnTo>
                      <a:lnTo>
                        <a:pt x="153" y="17"/>
                      </a:lnTo>
                      <a:lnTo>
                        <a:pt x="153" y="18"/>
                      </a:lnTo>
                      <a:lnTo>
                        <a:pt x="153" y="19"/>
                      </a:lnTo>
                      <a:lnTo>
                        <a:pt x="153" y="20"/>
                      </a:lnTo>
                      <a:lnTo>
                        <a:pt x="155" y="17"/>
                      </a:lnTo>
                      <a:lnTo>
                        <a:pt x="158" y="15"/>
                      </a:lnTo>
                      <a:lnTo>
                        <a:pt x="160" y="12"/>
                      </a:lnTo>
                      <a:lnTo>
                        <a:pt x="162" y="11"/>
                      </a:lnTo>
                      <a:lnTo>
                        <a:pt x="164" y="9"/>
                      </a:lnTo>
                      <a:lnTo>
                        <a:pt x="167" y="6"/>
                      </a:lnTo>
                      <a:lnTo>
                        <a:pt x="168" y="5"/>
                      </a:lnTo>
                      <a:lnTo>
                        <a:pt x="170" y="4"/>
                      </a:lnTo>
                      <a:lnTo>
                        <a:pt x="173" y="3"/>
                      </a:lnTo>
                      <a:lnTo>
                        <a:pt x="175" y="2"/>
                      </a:lnTo>
                      <a:lnTo>
                        <a:pt x="177" y="2"/>
                      </a:lnTo>
                      <a:lnTo>
                        <a:pt x="179" y="1"/>
                      </a:lnTo>
                      <a:lnTo>
                        <a:pt x="182" y="1"/>
                      </a:lnTo>
                      <a:lnTo>
                        <a:pt x="184" y="0"/>
                      </a:lnTo>
                      <a:lnTo>
                        <a:pt x="186" y="0"/>
                      </a:lnTo>
                      <a:lnTo>
                        <a:pt x="189" y="0"/>
                      </a:lnTo>
                      <a:lnTo>
                        <a:pt x="191" y="0"/>
                      </a:lnTo>
                      <a:lnTo>
                        <a:pt x="193" y="1"/>
                      </a:lnTo>
                      <a:lnTo>
                        <a:pt x="196" y="1"/>
                      </a:lnTo>
                      <a:lnTo>
                        <a:pt x="198" y="1"/>
                      </a:lnTo>
                      <a:lnTo>
                        <a:pt x="200" y="2"/>
                      </a:lnTo>
                      <a:lnTo>
                        <a:pt x="203" y="3"/>
                      </a:lnTo>
                      <a:lnTo>
                        <a:pt x="205" y="4"/>
                      </a:lnTo>
                      <a:lnTo>
                        <a:pt x="207" y="4"/>
                      </a:lnTo>
                      <a:lnTo>
                        <a:pt x="210" y="6"/>
                      </a:lnTo>
                      <a:lnTo>
                        <a:pt x="211" y="8"/>
                      </a:lnTo>
                      <a:lnTo>
                        <a:pt x="213" y="9"/>
                      </a:lnTo>
                      <a:lnTo>
                        <a:pt x="215" y="10"/>
                      </a:lnTo>
                      <a:lnTo>
                        <a:pt x="218" y="12"/>
                      </a:lnTo>
                      <a:lnTo>
                        <a:pt x="219" y="13"/>
                      </a:lnTo>
                      <a:lnTo>
                        <a:pt x="221" y="16"/>
                      </a:lnTo>
                      <a:lnTo>
                        <a:pt x="223" y="18"/>
                      </a:lnTo>
                      <a:lnTo>
                        <a:pt x="225" y="19"/>
                      </a:lnTo>
                      <a:lnTo>
                        <a:pt x="227" y="21"/>
                      </a:lnTo>
                      <a:lnTo>
                        <a:pt x="229" y="24"/>
                      </a:lnTo>
                      <a:lnTo>
                        <a:pt x="231" y="26"/>
                      </a:lnTo>
                      <a:lnTo>
                        <a:pt x="234" y="28"/>
                      </a:lnTo>
                      <a:lnTo>
                        <a:pt x="236" y="31"/>
                      </a:lnTo>
                      <a:lnTo>
                        <a:pt x="240" y="34"/>
                      </a:lnTo>
                      <a:lnTo>
                        <a:pt x="242" y="37"/>
                      </a:lnTo>
                      <a:lnTo>
                        <a:pt x="244" y="39"/>
                      </a:lnTo>
                      <a:lnTo>
                        <a:pt x="248" y="41"/>
                      </a:lnTo>
                      <a:lnTo>
                        <a:pt x="250" y="45"/>
                      </a:lnTo>
                      <a:lnTo>
                        <a:pt x="253" y="47"/>
                      </a:lnTo>
                      <a:lnTo>
                        <a:pt x="256" y="49"/>
                      </a:lnTo>
                      <a:lnTo>
                        <a:pt x="258" y="53"/>
                      </a:lnTo>
                      <a:lnTo>
                        <a:pt x="262" y="55"/>
                      </a:lnTo>
                      <a:lnTo>
                        <a:pt x="264" y="57"/>
                      </a:lnTo>
                      <a:lnTo>
                        <a:pt x="267" y="60"/>
                      </a:lnTo>
                      <a:lnTo>
                        <a:pt x="270" y="63"/>
                      </a:lnTo>
                      <a:lnTo>
                        <a:pt x="272" y="65"/>
                      </a:lnTo>
                      <a:lnTo>
                        <a:pt x="275" y="68"/>
                      </a:lnTo>
                      <a:lnTo>
                        <a:pt x="278" y="70"/>
                      </a:lnTo>
                      <a:lnTo>
                        <a:pt x="280" y="72"/>
                      </a:lnTo>
                      <a:lnTo>
                        <a:pt x="282" y="75"/>
                      </a:lnTo>
                      <a:lnTo>
                        <a:pt x="285" y="77"/>
                      </a:lnTo>
                      <a:lnTo>
                        <a:pt x="287" y="78"/>
                      </a:lnTo>
                      <a:lnTo>
                        <a:pt x="288" y="80"/>
                      </a:lnTo>
                      <a:lnTo>
                        <a:pt x="290" y="82"/>
                      </a:lnTo>
                      <a:lnTo>
                        <a:pt x="293" y="84"/>
                      </a:lnTo>
                      <a:lnTo>
                        <a:pt x="294" y="85"/>
                      </a:lnTo>
                      <a:lnTo>
                        <a:pt x="295" y="86"/>
                      </a:lnTo>
                      <a:lnTo>
                        <a:pt x="296" y="87"/>
                      </a:lnTo>
                      <a:lnTo>
                        <a:pt x="297" y="88"/>
                      </a:lnTo>
                      <a:lnTo>
                        <a:pt x="296" y="90"/>
                      </a:lnTo>
                      <a:lnTo>
                        <a:pt x="295" y="91"/>
                      </a:lnTo>
                      <a:lnTo>
                        <a:pt x="294" y="92"/>
                      </a:lnTo>
                      <a:lnTo>
                        <a:pt x="293" y="93"/>
                      </a:lnTo>
                      <a:lnTo>
                        <a:pt x="292" y="95"/>
                      </a:lnTo>
                      <a:lnTo>
                        <a:pt x="290" y="97"/>
                      </a:lnTo>
                      <a:lnTo>
                        <a:pt x="289" y="98"/>
                      </a:lnTo>
                      <a:lnTo>
                        <a:pt x="287" y="99"/>
                      </a:lnTo>
                      <a:lnTo>
                        <a:pt x="286" y="100"/>
                      </a:lnTo>
                      <a:lnTo>
                        <a:pt x="285" y="100"/>
                      </a:lnTo>
                      <a:lnTo>
                        <a:pt x="283" y="101"/>
                      </a:lnTo>
                      <a:lnTo>
                        <a:pt x="282" y="102"/>
                      </a:lnTo>
                      <a:lnTo>
                        <a:pt x="281" y="104"/>
                      </a:lnTo>
                      <a:lnTo>
                        <a:pt x="280" y="105"/>
                      </a:lnTo>
                      <a:lnTo>
                        <a:pt x="279" y="106"/>
                      </a:lnTo>
                      <a:lnTo>
                        <a:pt x="278" y="107"/>
                      </a:lnTo>
                      <a:lnTo>
                        <a:pt x="275" y="108"/>
                      </a:lnTo>
                      <a:lnTo>
                        <a:pt x="274" y="109"/>
                      </a:lnTo>
                      <a:lnTo>
                        <a:pt x="273" y="110"/>
                      </a:lnTo>
                      <a:lnTo>
                        <a:pt x="272" y="112"/>
                      </a:lnTo>
                      <a:lnTo>
                        <a:pt x="271" y="113"/>
                      </a:lnTo>
                      <a:lnTo>
                        <a:pt x="270" y="114"/>
                      </a:lnTo>
                      <a:lnTo>
                        <a:pt x="267" y="115"/>
                      </a:lnTo>
                      <a:lnTo>
                        <a:pt x="266" y="116"/>
                      </a:lnTo>
                      <a:lnTo>
                        <a:pt x="265" y="119"/>
                      </a:lnTo>
                      <a:lnTo>
                        <a:pt x="264" y="120"/>
                      </a:lnTo>
                      <a:lnTo>
                        <a:pt x="263" y="121"/>
                      </a:lnTo>
                      <a:lnTo>
                        <a:pt x="260" y="122"/>
                      </a:lnTo>
                      <a:lnTo>
                        <a:pt x="259" y="124"/>
                      </a:lnTo>
                      <a:lnTo>
                        <a:pt x="258" y="125"/>
                      </a:lnTo>
                      <a:lnTo>
                        <a:pt x="257" y="128"/>
                      </a:lnTo>
                      <a:lnTo>
                        <a:pt x="255" y="129"/>
                      </a:lnTo>
                      <a:lnTo>
                        <a:pt x="253" y="129"/>
                      </a:lnTo>
                      <a:lnTo>
                        <a:pt x="252" y="128"/>
                      </a:lnTo>
                      <a:lnTo>
                        <a:pt x="250" y="127"/>
                      </a:lnTo>
                      <a:lnTo>
                        <a:pt x="249" y="124"/>
                      </a:lnTo>
                      <a:lnTo>
                        <a:pt x="246" y="123"/>
                      </a:lnTo>
                      <a:lnTo>
                        <a:pt x="245" y="121"/>
                      </a:lnTo>
                      <a:lnTo>
                        <a:pt x="243" y="119"/>
                      </a:lnTo>
                      <a:lnTo>
                        <a:pt x="241" y="117"/>
                      </a:lnTo>
                      <a:lnTo>
                        <a:pt x="240" y="115"/>
                      </a:lnTo>
                      <a:lnTo>
                        <a:pt x="237" y="112"/>
                      </a:lnTo>
                      <a:lnTo>
                        <a:pt x="235" y="109"/>
                      </a:lnTo>
                      <a:lnTo>
                        <a:pt x="233" y="107"/>
                      </a:lnTo>
                      <a:lnTo>
                        <a:pt x="231" y="104"/>
                      </a:lnTo>
                      <a:lnTo>
                        <a:pt x="229" y="101"/>
                      </a:lnTo>
                      <a:lnTo>
                        <a:pt x="227" y="99"/>
                      </a:lnTo>
                      <a:lnTo>
                        <a:pt x="225" y="95"/>
                      </a:lnTo>
                      <a:lnTo>
                        <a:pt x="223" y="93"/>
                      </a:lnTo>
                      <a:lnTo>
                        <a:pt x="221" y="90"/>
                      </a:lnTo>
                      <a:lnTo>
                        <a:pt x="219" y="87"/>
                      </a:lnTo>
                      <a:lnTo>
                        <a:pt x="218" y="84"/>
                      </a:lnTo>
                      <a:lnTo>
                        <a:pt x="215" y="82"/>
                      </a:lnTo>
                      <a:lnTo>
                        <a:pt x="214" y="79"/>
                      </a:lnTo>
                      <a:lnTo>
                        <a:pt x="212" y="76"/>
                      </a:lnTo>
                      <a:lnTo>
                        <a:pt x="211" y="73"/>
                      </a:lnTo>
                      <a:lnTo>
                        <a:pt x="210" y="71"/>
                      </a:lnTo>
                      <a:lnTo>
                        <a:pt x="208" y="69"/>
                      </a:lnTo>
                      <a:lnTo>
                        <a:pt x="206" y="68"/>
                      </a:lnTo>
                      <a:lnTo>
                        <a:pt x="206" y="65"/>
                      </a:lnTo>
                      <a:lnTo>
                        <a:pt x="205" y="64"/>
                      </a:lnTo>
                      <a:lnTo>
                        <a:pt x="204" y="62"/>
                      </a:lnTo>
                      <a:lnTo>
                        <a:pt x="203" y="61"/>
                      </a:lnTo>
                      <a:lnTo>
                        <a:pt x="203" y="60"/>
                      </a:lnTo>
                      <a:lnTo>
                        <a:pt x="204" y="64"/>
                      </a:lnTo>
                      <a:lnTo>
                        <a:pt x="204" y="69"/>
                      </a:lnTo>
                      <a:lnTo>
                        <a:pt x="205" y="73"/>
                      </a:lnTo>
                      <a:lnTo>
                        <a:pt x="206" y="77"/>
                      </a:lnTo>
                      <a:lnTo>
                        <a:pt x="207" y="82"/>
                      </a:lnTo>
                      <a:lnTo>
                        <a:pt x="208" y="85"/>
                      </a:lnTo>
                      <a:lnTo>
                        <a:pt x="210" y="88"/>
                      </a:lnTo>
                      <a:lnTo>
                        <a:pt x="211" y="92"/>
                      </a:lnTo>
                      <a:lnTo>
                        <a:pt x="212" y="95"/>
                      </a:lnTo>
                      <a:lnTo>
                        <a:pt x="213" y="98"/>
                      </a:lnTo>
                      <a:lnTo>
                        <a:pt x="215" y="101"/>
                      </a:lnTo>
                      <a:lnTo>
                        <a:pt x="216" y="104"/>
                      </a:lnTo>
                      <a:lnTo>
                        <a:pt x="218" y="107"/>
                      </a:lnTo>
                      <a:lnTo>
                        <a:pt x="219" y="109"/>
                      </a:lnTo>
                      <a:lnTo>
                        <a:pt x="221" y="112"/>
                      </a:lnTo>
                      <a:lnTo>
                        <a:pt x="222" y="114"/>
                      </a:lnTo>
                      <a:lnTo>
                        <a:pt x="223" y="116"/>
                      </a:lnTo>
                      <a:lnTo>
                        <a:pt x="225" y="119"/>
                      </a:lnTo>
                      <a:lnTo>
                        <a:pt x="227" y="121"/>
                      </a:lnTo>
                      <a:lnTo>
                        <a:pt x="228" y="123"/>
                      </a:lnTo>
                      <a:lnTo>
                        <a:pt x="229" y="125"/>
                      </a:lnTo>
                      <a:lnTo>
                        <a:pt x="230" y="127"/>
                      </a:lnTo>
                      <a:lnTo>
                        <a:pt x="231" y="129"/>
                      </a:lnTo>
                      <a:lnTo>
                        <a:pt x="233" y="131"/>
                      </a:lnTo>
                      <a:lnTo>
                        <a:pt x="234" y="132"/>
                      </a:lnTo>
                      <a:lnTo>
                        <a:pt x="235" y="135"/>
                      </a:lnTo>
                      <a:lnTo>
                        <a:pt x="236" y="136"/>
                      </a:lnTo>
                      <a:lnTo>
                        <a:pt x="237" y="138"/>
                      </a:lnTo>
                      <a:lnTo>
                        <a:pt x="238" y="139"/>
                      </a:lnTo>
                      <a:lnTo>
                        <a:pt x="238" y="140"/>
                      </a:lnTo>
                      <a:lnTo>
                        <a:pt x="240" y="143"/>
                      </a:lnTo>
                      <a:lnTo>
                        <a:pt x="240" y="144"/>
                      </a:lnTo>
                      <a:lnTo>
                        <a:pt x="240" y="145"/>
                      </a:lnTo>
                      <a:lnTo>
                        <a:pt x="241" y="147"/>
                      </a:lnTo>
                      <a:lnTo>
                        <a:pt x="241" y="149"/>
                      </a:lnTo>
                      <a:lnTo>
                        <a:pt x="241" y="151"/>
                      </a:lnTo>
                      <a:lnTo>
                        <a:pt x="241" y="152"/>
                      </a:lnTo>
                      <a:lnTo>
                        <a:pt x="241" y="153"/>
                      </a:lnTo>
                      <a:lnTo>
                        <a:pt x="241" y="155"/>
                      </a:lnTo>
                      <a:lnTo>
                        <a:pt x="241" y="157"/>
                      </a:lnTo>
                      <a:lnTo>
                        <a:pt x="240" y="158"/>
                      </a:lnTo>
                      <a:lnTo>
                        <a:pt x="240" y="159"/>
                      </a:lnTo>
                      <a:lnTo>
                        <a:pt x="240" y="161"/>
                      </a:lnTo>
                      <a:lnTo>
                        <a:pt x="238" y="162"/>
                      </a:lnTo>
                      <a:lnTo>
                        <a:pt x="238" y="164"/>
                      </a:lnTo>
                      <a:lnTo>
                        <a:pt x="238" y="165"/>
                      </a:lnTo>
                      <a:lnTo>
                        <a:pt x="237" y="167"/>
                      </a:lnTo>
                      <a:lnTo>
                        <a:pt x="237" y="168"/>
                      </a:lnTo>
                      <a:lnTo>
                        <a:pt x="237" y="169"/>
                      </a:lnTo>
                      <a:lnTo>
                        <a:pt x="236" y="171"/>
                      </a:lnTo>
                      <a:lnTo>
                        <a:pt x="236" y="172"/>
                      </a:lnTo>
                      <a:lnTo>
                        <a:pt x="236" y="174"/>
                      </a:lnTo>
                      <a:lnTo>
                        <a:pt x="236" y="175"/>
                      </a:lnTo>
                      <a:lnTo>
                        <a:pt x="235" y="176"/>
                      </a:lnTo>
                      <a:lnTo>
                        <a:pt x="235" y="177"/>
                      </a:lnTo>
                      <a:lnTo>
                        <a:pt x="235" y="179"/>
                      </a:lnTo>
                      <a:lnTo>
                        <a:pt x="235" y="180"/>
                      </a:lnTo>
                      <a:lnTo>
                        <a:pt x="235" y="181"/>
                      </a:lnTo>
                      <a:lnTo>
                        <a:pt x="235" y="182"/>
                      </a:lnTo>
                      <a:lnTo>
                        <a:pt x="235" y="183"/>
                      </a:lnTo>
                      <a:lnTo>
                        <a:pt x="236" y="184"/>
                      </a:lnTo>
                      <a:lnTo>
                        <a:pt x="236" y="186"/>
                      </a:lnTo>
                      <a:lnTo>
                        <a:pt x="237" y="187"/>
                      </a:lnTo>
                      <a:lnTo>
                        <a:pt x="237" y="188"/>
                      </a:lnTo>
                      <a:lnTo>
                        <a:pt x="241" y="191"/>
                      </a:lnTo>
                      <a:lnTo>
                        <a:pt x="244" y="196"/>
                      </a:lnTo>
                      <a:lnTo>
                        <a:pt x="248" y="199"/>
                      </a:lnTo>
                      <a:lnTo>
                        <a:pt x="250" y="204"/>
                      </a:lnTo>
                      <a:lnTo>
                        <a:pt x="252" y="209"/>
                      </a:lnTo>
                      <a:lnTo>
                        <a:pt x="255" y="214"/>
                      </a:lnTo>
                      <a:lnTo>
                        <a:pt x="257" y="219"/>
                      </a:lnTo>
                      <a:lnTo>
                        <a:pt x="259" y="224"/>
                      </a:lnTo>
                      <a:lnTo>
                        <a:pt x="260" y="229"/>
                      </a:lnTo>
                      <a:lnTo>
                        <a:pt x="262" y="235"/>
                      </a:lnTo>
                      <a:lnTo>
                        <a:pt x="263" y="240"/>
                      </a:lnTo>
                      <a:lnTo>
                        <a:pt x="264" y="246"/>
                      </a:lnTo>
                      <a:lnTo>
                        <a:pt x="265" y="251"/>
                      </a:lnTo>
                      <a:lnTo>
                        <a:pt x="266" y="256"/>
                      </a:lnTo>
                      <a:lnTo>
                        <a:pt x="266" y="262"/>
                      </a:lnTo>
                      <a:lnTo>
                        <a:pt x="267" y="268"/>
                      </a:lnTo>
                      <a:lnTo>
                        <a:pt x="267" y="273"/>
                      </a:lnTo>
                      <a:lnTo>
                        <a:pt x="267" y="278"/>
                      </a:lnTo>
                      <a:lnTo>
                        <a:pt x="267" y="284"/>
                      </a:lnTo>
                      <a:lnTo>
                        <a:pt x="267" y="288"/>
                      </a:lnTo>
                      <a:lnTo>
                        <a:pt x="267" y="294"/>
                      </a:lnTo>
                      <a:lnTo>
                        <a:pt x="267" y="299"/>
                      </a:lnTo>
                      <a:lnTo>
                        <a:pt x="267" y="303"/>
                      </a:lnTo>
                      <a:lnTo>
                        <a:pt x="266" y="308"/>
                      </a:lnTo>
                      <a:lnTo>
                        <a:pt x="266" y="313"/>
                      </a:lnTo>
                      <a:lnTo>
                        <a:pt x="266" y="317"/>
                      </a:lnTo>
                      <a:lnTo>
                        <a:pt x="265" y="321"/>
                      </a:lnTo>
                      <a:lnTo>
                        <a:pt x="265" y="324"/>
                      </a:lnTo>
                      <a:lnTo>
                        <a:pt x="265" y="328"/>
                      </a:lnTo>
                      <a:lnTo>
                        <a:pt x="264" y="331"/>
                      </a:lnTo>
                      <a:lnTo>
                        <a:pt x="264" y="335"/>
                      </a:lnTo>
                      <a:lnTo>
                        <a:pt x="263" y="337"/>
                      </a:lnTo>
                      <a:lnTo>
                        <a:pt x="262" y="337"/>
                      </a:lnTo>
                      <a:lnTo>
                        <a:pt x="260" y="338"/>
                      </a:lnTo>
                      <a:lnTo>
                        <a:pt x="259" y="338"/>
                      </a:lnTo>
                      <a:lnTo>
                        <a:pt x="258" y="338"/>
                      </a:lnTo>
                      <a:lnTo>
                        <a:pt x="257" y="338"/>
                      </a:lnTo>
                      <a:lnTo>
                        <a:pt x="256" y="339"/>
                      </a:lnTo>
                      <a:lnTo>
                        <a:pt x="255" y="339"/>
                      </a:lnTo>
                      <a:lnTo>
                        <a:pt x="253" y="339"/>
                      </a:lnTo>
                      <a:lnTo>
                        <a:pt x="252" y="339"/>
                      </a:lnTo>
                      <a:lnTo>
                        <a:pt x="251" y="339"/>
                      </a:lnTo>
                      <a:lnTo>
                        <a:pt x="250" y="339"/>
                      </a:lnTo>
                      <a:lnTo>
                        <a:pt x="249" y="340"/>
                      </a:lnTo>
                      <a:lnTo>
                        <a:pt x="248" y="340"/>
                      </a:lnTo>
                      <a:lnTo>
                        <a:pt x="246" y="340"/>
                      </a:lnTo>
                      <a:lnTo>
                        <a:pt x="245" y="340"/>
                      </a:lnTo>
                      <a:lnTo>
                        <a:pt x="244" y="340"/>
                      </a:lnTo>
                      <a:lnTo>
                        <a:pt x="243" y="341"/>
                      </a:lnTo>
                      <a:lnTo>
                        <a:pt x="242" y="341"/>
                      </a:lnTo>
                      <a:lnTo>
                        <a:pt x="241" y="343"/>
                      </a:lnTo>
                      <a:lnTo>
                        <a:pt x="240" y="343"/>
                      </a:lnTo>
                      <a:lnTo>
                        <a:pt x="238" y="344"/>
                      </a:lnTo>
                      <a:lnTo>
                        <a:pt x="237" y="344"/>
                      </a:lnTo>
                      <a:lnTo>
                        <a:pt x="236" y="345"/>
                      </a:lnTo>
                      <a:lnTo>
                        <a:pt x="235" y="345"/>
                      </a:lnTo>
                      <a:lnTo>
                        <a:pt x="234" y="346"/>
                      </a:lnTo>
                      <a:lnTo>
                        <a:pt x="233" y="347"/>
                      </a:lnTo>
                      <a:lnTo>
                        <a:pt x="231" y="348"/>
                      </a:lnTo>
                      <a:lnTo>
                        <a:pt x="230" y="350"/>
                      </a:lnTo>
                      <a:lnTo>
                        <a:pt x="229" y="351"/>
                      </a:lnTo>
                      <a:lnTo>
                        <a:pt x="228" y="352"/>
                      </a:lnTo>
                      <a:lnTo>
                        <a:pt x="227" y="353"/>
                      </a:lnTo>
                      <a:lnTo>
                        <a:pt x="227" y="352"/>
                      </a:lnTo>
                      <a:lnTo>
                        <a:pt x="226" y="352"/>
                      </a:lnTo>
                      <a:lnTo>
                        <a:pt x="226" y="351"/>
                      </a:lnTo>
                      <a:lnTo>
                        <a:pt x="225" y="351"/>
                      </a:lnTo>
                      <a:lnTo>
                        <a:pt x="225" y="350"/>
                      </a:lnTo>
                      <a:lnTo>
                        <a:pt x="223" y="350"/>
                      </a:lnTo>
                      <a:lnTo>
                        <a:pt x="223" y="348"/>
                      </a:lnTo>
                      <a:lnTo>
                        <a:pt x="222" y="347"/>
                      </a:lnTo>
                      <a:lnTo>
                        <a:pt x="222" y="346"/>
                      </a:lnTo>
                      <a:lnTo>
                        <a:pt x="221" y="346"/>
                      </a:lnTo>
                      <a:lnTo>
                        <a:pt x="221" y="345"/>
                      </a:lnTo>
                      <a:lnTo>
                        <a:pt x="221" y="344"/>
                      </a:lnTo>
                      <a:lnTo>
                        <a:pt x="221" y="343"/>
                      </a:lnTo>
                      <a:lnTo>
                        <a:pt x="220" y="343"/>
                      </a:lnTo>
                      <a:lnTo>
                        <a:pt x="220" y="341"/>
                      </a:lnTo>
                      <a:lnTo>
                        <a:pt x="220" y="340"/>
                      </a:lnTo>
                      <a:lnTo>
                        <a:pt x="221" y="340"/>
                      </a:lnTo>
                      <a:lnTo>
                        <a:pt x="221" y="339"/>
                      </a:lnTo>
                      <a:lnTo>
                        <a:pt x="222" y="339"/>
                      </a:lnTo>
                      <a:lnTo>
                        <a:pt x="222" y="338"/>
                      </a:lnTo>
                      <a:lnTo>
                        <a:pt x="223" y="338"/>
                      </a:lnTo>
                      <a:lnTo>
                        <a:pt x="223" y="337"/>
                      </a:lnTo>
                      <a:lnTo>
                        <a:pt x="225" y="337"/>
                      </a:lnTo>
                      <a:lnTo>
                        <a:pt x="225" y="336"/>
                      </a:lnTo>
                      <a:lnTo>
                        <a:pt x="226" y="335"/>
                      </a:lnTo>
                      <a:lnTo>
                        <a:pt x="227" y="333"/>
                      </a:lnTo>
                      <a:lnTo>
                        <a:pt x="227" y="332"/>
                      </a:lnTo>
                      <a:lnTo>
                        <a:pt x="228" y="332"/>
                      </a:lnTo>
                      <a:lnTo>
                        <a:pt x="228" y="331"/>
                      </a:lnTo>
                      <a:lnTo>
                        <a:pt x="229" y="331"/>
                      </a:lnTo>
                      <a:lnTo>
                        <a:pt x="228" y="330"/>
                      </a:lnTo>
                      <a:lnTo>
                        <a:pt x="228" y="329"/>
                      </a:lnTo>
                      <a:lnTo>
                        <a:pt x="227" y="329"/>
                      </a:lnTo>
                      <a:lnTo>
                        <a:pt x="227" y="328"/>
                      </a:lnTo>
                      <a:lnTo>
                        <a:pt x="226" y="328"/>
                      </a:lnTo>
                      <a:lnTo>
                        <a:pt x="226" y="326"/>
                      </a:lnTo>
                      <a:lnTo>
                        <a:pt x="225" y="326"/>
                      </a:lnTo>
                      <a:lnTo>
                        <a:pt x="225" y="325"/>
                      </a:lnTo>
                      <a:lnTo>
                        <a:pt x="223" y="325"/>
                      </a:lnTo>
                      <a:lnTo>
                        <a:pt x="223" y="324"/>
                      </a:lnTo>
                      <a:lnTo>
                        <a:pt x="222" y="324"/>
                      </a:lnTo>
                      <a:lnTo>
                        <a:pt x="221" y="323"/>
                      </a:lnTo>
                      <a:lnTo>
                        <a:pt x="220" y="323"/>
                      </a:lnTo>
                      <a:lnTo>
                        <a:pt x="220" y="322"/>
                      </a:lnTo>
                      <a:lnTo>
                        <a:pt x="219" y="322"/>
                      </a:lnTo>
                      <a:lnTo>
                        <a:pt x="218" y="322"/>
                      </a:lnTo>
                      <a:lnTo>
                        <a:pt x="216" y="321"/>
                      </a:lnTo>
                      <a:lnTo>
                        <a:pt x="215" y="321"/>
                      </a:lnTo>
                      <a:lnTo>
                        <a:pt x="214" y="321"/>
                      </a:lnTo>
                      <a:lnTo>
                        <a:pt x="213" y="321"/>
                      </a:lnTo>
                      <a:lnTo>
                        <a:pt x="212" y="321"/>
                      </a:lnTo>
                      <a:lnTo>
                        <a:pt x="212" y="314"/>
                      </a:lnTo>
                      <a:lnTo>
                        <a:pt x="212" y="306"/>
                      </a:lnTo>
                      <a:lnTo>
                        <a:pt x="212" y="299"/>
                      </a:lnTo>
                      <a:lnTo>
                        <a:pt x="212" y="293"/>
                      </a:lnTo>
                      <a:lnTo>
                        <a:pt x="212" y="286"/>
                      </a:lnTo>
                      <a:lnTo>
                        <a:pt x="212" y="279"/>
                      </a:lnTo>
                      <a:lnTo>
                        <a:pt x="212" y="273"/>
                      </a:lnTo>
                      <a:lnTo>
                        <a:pt x="212" y="266"/>
                      </a:lnTo>
                      <a:lnTo>
                        <a:pt x="211" y="261"/>
                      </a:lnTo>
                      <a:lnTo>
                        <a:pt x="211" y="255"/>
                      </a:lnTo>
                      <a:lnTo>
                        <a:pt x="211" y="248"/>
                      </a:lnTo>
                      <a:lnTo>
                        <a:pt x="210" y="242"/>
                      </a:lnTo>
                      <a:lnTo>
                        <a:pt x="210" y="236"/>
                      </a:lnTo>
                      <a:lnTo>
                        <a:pt x="208" y="231"/>
                      </a:lnTo>
                      <a:lnTo>
                        <a:pt x="208" y="225"/>
                      </a:lnTo>
                      <a:lnTo>
                        <a:pt x="207" y="219"/>
                      </a:lnTo>
                      <a:lnTo>
                        <a:pt x="206" y="213"/>
                      </a:lnTo>
                      <a:lnTo>
                        <a:pt x="205" y="207"/>
                      </a:lnTo>
                      <a:lnTo>
                        <a:pt x="204" y="203"/>
                      </a:lnTo>
                      <a:lnTo>
                        <a:pt x="203" y="197"/>
                      </a:lnTo>
                      <a:lnTo>
                        <a:pt x="201" y="191"/>
                      </a:lnTo>
                      <a:lnTo>
                        <a:pt x="199" y="186"/>
                      </a:lnTo>
                      <a:lnTo>
                        <a:pt x="198" y="180"/>
                      </a:lnTo>
                      <a:lnTo>
                        <a:pt x="196" y="175"/>
                      </a:lnTo>
                      <a:lnTo>
                        <a:pt x="193" y="169"/>
                      </a:lnTo>
                      <a:lnTo>
                        <a:pt x="191" y="164"/>
                      </a:lnTo>
                      <a:lnTo>
                        <a:pt x="189" y="158"/>
                      </a:lnTo>
                      <a:lnTo>
                        <a:pt x="186" y="152"/>
                      </a:lnTo>
                      <a:lnTo>
                        <a:pt x="183" y="146"/>
                      </a:lnTo>
                      <a:lnTo>
                        <a:pt x="181" y="140"/>
                      </a:lnTo>
                      <a:lnTo>
                        <a:pt x="177" y="135"/>
                      </a:lnTo>
                      <a:lnTo>
                        <a:pt x="174" y="129"/>
                      </a:lnTo>
                      <a:lnTo>
                        <a:pt x="170" y="125"/>
                      </a:lnTo>
                      <a:lnTo>
                        <a:pt x="168" y="121"/>
                      </a:lnTo>
                      <a:lnTo>
                        <a:pt x="166" y="119"/>
                      </a:lnTo>
                      <a:lnTo>
                        <a:pt x="164" y="116"/>
                      </a:lnTo>
                      <a:lnTo>
                        <a:pt x="163" y="114"/>
                      </a:lnTo>
                      <a:lnTo>
                        <a:pt x="162" y="113"/>
                      </a:lnTo>
                      <a:lnTo>
                        <a:pt x="161" y="112"/>
                      </a:lnTo>
                      <a:lnTo>
                        <a:pt x="161" y="113"/>
                      </a:lnTo>
                      <a:lnTo>
                        <a:pt x="162" y="114"/>
                      </a:lnTo>
                      <a:lnTo>
                        <a:pt x="163" y="115"/>
                      </a:lnTo>
                      <a:lnTo>
                        <a:pt x="163" y="117"/>
                      </a:lnTo>
                      <a:lnTo>
                        <a:pt x="164" y="120"/>
                      </a:lnTo>
                      <a:lnTo>
                        <a:pt x="167" y="122"/>
                      </a:lnTo>
                      <a:lnTo>
                        <a:pt x="168" y="125"/>
                      </a:lnTo>
                      <a:lnTo>
                        <a:pt x="169" y="128"/>
                      </a:lnTo>
                      <a:lnTo>
                        <a:pt x="171" y="131"/>
                      </a:lnTo>
                      <a:lnTo>
                        <a:pt x="173" y="135"/>
                      </a:lnTo>
                      <a:lnTo>
                        <a:pt x="175" y="138"/>
                      </a:lnTo>
                      <a:lnTo>
                        <a:pt x="176" y="142"/>
                      </a:lnTo>
                      <a:lnTo>
                        <a:pt x="178" y="145"/>
                      </a:lnTo>
                      <a:lnTo>
                        <a:pt x="181" y="149"/>
                      </a:lnTo>
                      <a:lnTo>
                        <a:pt x="182" y="152"/>
                      </a:lnTo>
                      <a:lnTo>
                        <a:pt x="184" y="155"/>
                      </a:lnTo>
                      <a:lnTo>
                        <a:pt x="185" y="158"/>
                      </a:lnTo>
                      <a:lnTo>
                        <a:pt x="186" y="161"/>
                      </a:lnTo>
                      <a:lnTo>
                        <a:pt x="188" y="165"/>
                      </a:lnTo>
                      <a:lnTo>
                        <a:pt x="189" y="167"/>
                      </a:lnTo>
                      <a:lnTo>
                        <a:pt x="190" y="171"/>
                      </a:lnTo>
                      <a:lnTo>
                        <a:pt x="191" y="173"/>
                      </a:lnTo>
                      <a:lnTo>
                        <a:pt x="191" y="174"/>
                      </a:lnTo>
                      <a:lnTo>
                        <a:pt x="192" y="175"/>
                      </a:lnTo>
                      <a:lnTo>
                        <a:pt x="192" y="176"/>
                      </a:lnTo>
                      <a:lnTo>
                        <a:pt x="192" y="177"/>
                      </a:lnTo>
                      <a:lnTo>
                        <a:pt x="193" y="179"/>
                      </a:lnTo>
                      <a:lnTo>
                        <a:pt x="193" y="180"/>
                      </a:lnTo>
                      <a:lnTo>
                        <a:pt x="193" y="181"/>
                      </a:lnTo>
                      <a:lnTo>
                        <a:pt x="194" y="182"/>
                      </a:lnTo>
                      <a:lnTo>
                        <a:pt x="194" y="183"/>
                      </a:lnTo>
                      <a:lnTo>
                        <a:pt x="194" y="184"/>
                      </a:lnTo>
                      <a:lnTo>
                        <a:pt x="194" y="186"/>
                      </a:lnTo>
                      <a:lnTo>
                        <a:pt x="196" y="187"/>
                      </a:lnTo>
                      <a:lnTo>
                        <a:pt x="196" y="188"/>
                      </a:lnTo>
                      <a:lnTo>
                        <a:pt x="196" y="189"/>
                      </a:lnTo>
                      <a:lnTo>
                        <a:pt x="196" y="191"/>
                      </a:lnTo>
                      <a:lnTo>
                        <a:pt x="197" y="192"/>
                      </a:lnTo>
                      <a:lnTo>
                        <a:pt x="197" y="194"/>
                      </a:lnTo>
                      <a:lnTo>
                        <a:pt x="197" y="195"/>
                      </a:lnTo>
                      <a:lnTo>
                        <a:pt x="197" y="196"/>
                      </a:lnTo>
                      <a:lnTo>
                        <a:pt x="197" y="197"/>
                      </a:lnTo>
                      <a:lnTo>
                        <a:pt x="198" y="198"/>
                      </a:lnTo>
                      <a:lnTo>
                        <a:pt x="198" y="199"/>
                      </a:lnTo>
                      <a:lnTo>
                        <a:pt x="198" y="201"/>
                      </a:lnTo>
                      <a:lnTo>
                        <a:pt x="198" y="202"/>
                      </a:lnTo>
                      <a:lnTo>
                        <a:pt x="198" y="204"/>
                      </a:lnTo>
                      <a:lnTo>
                        <a:pt x="198" y="205"/>
                      </a:lnTo>
                      <a:lnTo>
                        <a:pt x="198" y="206"/>
                      </a:lnTo>
                      <a:lnTo>
                        <a:pt x="198" y="207"/>
                      </a:lnTo>
                      <a:lnTo>
                        <a:pt x="199" y="209"/>
                      </a:lnTo>
                      <a:lnTo>
                        <a:pt x="199" y="210"/>
                      </a:lnTo>
                      <a:lnTo>
                        <a:pt x="199" y="211"/>
                      </a:lnTo>
                      <a:lnTo>
                        <a:pt x="199" y="212"/>
                      </a:lnTo>
                      <a:lnTo>
                        <a:pt x="198" y="216"/>
                      </a:lnTo>
                      <a:lnTo>
                        <a:pt x="198" y="218"/>
                      </a:lnTo>
                      <a:lnTo>
                        <a:pt x="198" y="221"/>
                      </a:lnTo>
                      <a:lnTo>
                        <a:pt x="198" y="225"/>
                      </a:lnTo>
                      <a:lnTo>
                        <a:pt x="199" y="227"/>
                      </a:lnTo>
                      <a:lnTo>
                        <a:pt x="199" y="231"/>
                      </a:lnTo>
                      <a:lnTo>
                        <a:pt x="199" y="234"/>
                      </a:lnTo>
                      <a:lnTo>
                        <a:pt x="200" y="238"/>
                      </a:lnTo>
                      <a:lnTo>
                        <a:pt x="200" y="241"/>
                      </a:lnTo>
                      <a:lnTo>
                        <a:pt x="201" y="243"/>
                      </a:lnTo>
                      <a:lnTo>
                        <a:pt x="203" y="247"/>
                      </a:lnTo>
                      <a:lnTo>
                        <a:pt x="203" y="250"/>
                      </a:lnTo>
                      <a:lnTo>
                        <a:pt x="204" y="254"/>
                      </a:lnTo>
                      <a:lnTo>
                        <a:pt x="205" y="257"/>
                      </a:lnTo>
                      <a:lnTo>
                        <a:pt x="205" y="261"/>
                      </a:lnTo>
                      <a:lnTo>
                        <a:pt x="206" y="264"/>
                      </a:lnTo>
                      <a:lnTo>
                        <a:pt x="207" y="268"/>
                      </a:lnTo>
                      <a:lnTo>
                        <a:pt x="207" y="271"/>
                      </a:lnTo>
                      <a:lnTo>
                        <a:pt x="208" y="274"/>
                      </a:lnTo>
                      <a:lnTo>
                        <a:pt x="208" y="278"/>
                      </a:lnTo>
                      <a:lnTo>
                        <a:pt x="210" y="283"/>
                      </a:lnTo>
                      <a:lnTo>
                        <a:pt x="210" y="286"/>
                      </a:lnTo>
                      <a:lnTo>
                        <a:pt x="211" y="289"/>
                      </a:lnTo>
                      <a:lnTo>
                        <a:pt x="211" y="293"/>
                      </a:lnTo>
                      <a:lnTo>
                        <a:pt x="211" y="296"/>
                      </a:lnTo>
                      <a:lnTo>
                        <a:pt x="211" y="300"/>
                      </a:lnTo>
                      <a:lnTo>
                        <a:pt x="211" y="303"/>
                      </a:lnTo>
                      <a:lnTo>
                        <a:pt x="211" y="307"/>
                      </a:lnTo>
                      <a:lnTo>
                        <a:pt x="210" y="310"/>
                      </a:lnTo>
                      <a:lnTo>
                        <a:pt x="210" y="314"/>
                      </a:lnTo>
                      <a:lnTo>
                        <a:pt x="208" y="317"/>
                      </a:lnTo>
                      <a:lnTo>
                        <a:pt x="207" y="321"/>
                      </a:lnTo>
                      <a:lnTo>
                        <a:pt x="206" y="321"/>
                      </a:lnTo>
                      <a:lnTo>
                        <a:pt x="206" y="322"/>
                      </a:lnTo>
                      <a:lnTo>
                        <a:pt x="205" y="322"/>
                      </a:lnTo>
                      <a:lnTo>
                        <a:pt x="204" y="322"/>
                      </a:lnTo>
                      <a:lnTo>
                        <a:pt x="204" y="323"/>
                      </a:lnTo>
                      <a:lnTo>
                        <a:pt x="203" y="323"/>
                      </a:lnTo>
                      <a:lnTo>
                        <a:pt x="203" y="324"/>
                      </a:lnTo>
                      <a:lnTo>
                        <a:pt x="201" y="324"/>
                      </a:lnTo>
                      <a:lnTo>
                        <a:pt x="200" y="325"/>
                      </a:lnTo>
                      <a:lnTo>
                        <a:pt x="199" y="325"/>
                      </a:lnTo>
                      <a:lnTo>
                        <a:pt x="198" y="325"/>
                      </a:lnTo>
                      <a:lnTo>
                        <a:pt x="197" y="326"/>
                      </a:lnTo>
                      <a:lnTo>
                        <a:pt x="194" y="326"/>
                      </a:lnTo>
                      <a:lnTo>
                        <a:pt x="193" y="326"/>
                      </a:lnTo>
                      <a:lnTo>
                        <a:pt x="192" y="326"/>
                      </a:lnTo>
                      <a:lnTo>
                        <a:pt x="191" y="326"/>
                      </a:lnTo>
                      <a:lnTo>
                        <a:pt x="190" y="326"/>
                      </a:lnTo>
                      <a:lnTo>
                        <a:pt x="188" y="325"/>
                      </a:lnTo>
                      <a:lnTo>
                        <a:pt x="186" y="325"/>
                      </a:lnTo>
                      <a:lnTo>
                        <a:pt x="185" y="325"/>
                      </a:lnTo>
                      <a:lnTo>
                        <a:pt x="183" y="325"/>
                      </a:lnTo>
                      <a:lnTo>
                        <a:pt x="182" y="325"/>
                      </a:lnTo>
                      <a:lnTo>
                        <a:pt x="179" y="325"/>
                      </a:lnTo>
                      <a:lnTo>
                        <a:pt x="178" y="325"/>
                      </a:lnTo>
                      <a:lnTo>
                        <a:pt x="176" y="325"/>
                      </a:lnTo>
                      <a:lnTo>
                        <a:pt x="175" y="325"/>
                      </a:lnTo>
                      <a:lnTo>
                        <a:pt x="174" y="325"/>
                      </a:lnTo>
                      <a:lnTo>
                        <a:pt x="171" y="325"/>
                      </a:lnTo>
                      <a:lnTo>
                        <a:pt x="170" y="325"/>
                      </a:lnTo>
                      <a:lnTo>
                        <a:pt x="169" y="325"/>
                      </a:lnTo>
                      <a:lnTo>
                        <a:pt x="167" y="325"/>
                      </a:lnTo>
                      <a:lnTo>
                        <a:pt x="166" y="325"/>
                      </a:lnTo>
                      <a:lnTo>
                        <a:pt x="164" y="326"/>
                      </a:lnTo>
                      <a:lnTo>
                        <a:pt x="163" y="326"/>
                      </a:lnTo>
                      <a:lnTo>
                        <a:pt x="161" y="326"/>
                      </a:lnTo>
                      <a:lnTo>
                        <a:pt x="160" y="328"/>
                      </a:lnTo>
                      <a:lnTo>
                        <a:pt x="159" y="329"/>
                      </a:lnTo>
                      <a:lnTo>
                        <a:pt x="158" y="329"/>
                      </a:lnTo>
                      <a:lnTo>
                        <a:pt x="158" y="330"/>
                      </a:lnTo>
                      <a:lnTo>
                        <a:pt x="159" y="330"/>
                      </a:lnTo>
                      <a:lnTo>
                        <a:pt x="160" y="331"/>
                      </a:lnTo>
                      <a:lnTo>
                        <a:pt x="161" y="331"/>
                      </a:lnTo>
                      <a:lnTo>
                        <a:pt x="162" y="331"/>
                      </a:lnTo>
                      <a:lnTo>
                        <a:pt x="163" y="331"/>
                      </a:lnTo>
                      <a:lnTo>
                        <a:pt x="164" y="331"/>
                      </a:lnTo>
                      <a:lnTo>
                        <a:pt x="166" y="331"/>
                      </a:lnTo>
                      <a:lnTo>
                        <a:pt x="167" y="331"/>
                      </a:lnTo>
                      <a:lnTo>
                        <a:pt x="168" y="331"/>
                      </a:lnTo>
                      <a:lnTo>
                        <a:pt x="169" y="331"/>
                      </a:lnTo>
                      <a:lnTo>
                        <a:pt x="170" y="331"/>
                      </a:lnTo>
                      <a:lnTo>
                        <a:pt x="171" y="331"/>
                      </a:lnTo>
                      <a:lnTo>
                        <a:pt x="173" y="331"/>
                      </a:lnTo>
                      <a:lnTo>
                        <a:pt x="174" y="331"/>
                      </a:lnTo>
                      <a:lnTo>
                        <a:pt x="175" y="331"/>
                      </a:lnTo>
                      <a:lnTo>
                        <a:pt x="176" y="331"/>
                      </a:lnTo>
                      <a:lnTo>
                        <a:pt x="177" y="331"/>
                      </a:lnTo>
                      <a:lnTo>
                        <a:pt x="178" y="331"/>
                      </a:lnTo>
                      <a:lnTo>
                        <a:pt x="179" y="331"/>
                      </a:lnTo>
                      <a:lnTo>
                        <a:pt x="181" y="331"/>
                      </a:lnTo>
                      <a:lnTo>
                        <a:pt x="182" y="331"/>
                      </a:lnTo>
                      <a:lnTo>
                        <a:pt x="183" y="331"/>
                      </a:lnTo>
                      <a:lnTo>
                        <a:pt x="184" y="331"/>
                      </a:lnTo>
                      <a:lnTo>
                        <a:pt x="185" y="331"/>
                      </a:lnTo>
                      <a:lnTo>
                        <a:pt x="186" y="331"/>
                      </a:lnTo>
                      <a:lnTo>
                        <a:pt x="188" y="331"/>
                      </a:lnTo>
                      <a:lnTo>
                        <a:pt x="189" y="331"/>
                      </a:lnTo>
                      <a:lnTo>
                        <a:pt x="190" y="331"/>
                      </a:lnTo>
                      <a:lnTo>
                        <a:pt x="193" y="332"/>
                      </a:lnTo>
                      <a:lnTo>
                        <a:pt x="196" y="335"/>
                      </a:lnTo>
                      <a:lnTo>
                        <a:pt x="198" y="337"/>
                      </a:lnTo>
                      <a:lnTo>
                        <a:pt x="200" y="338"/>
                      </a:lnTo>
                      <a:lnTo>
                        <a:pt x="203" y="339"/>
                      </a:lnTo>
                      <a:lnTo>
                        <a:pt x="205" y="341"/>
                      </a:lnTo>
                      <a:lnTo>
                        <a:pt x="207" y="343"/>
                      </a:lnTo>
                      <a:lnTo>
                        <a:pt x="208" y="344"/>
                      </a:lnTo>
                      <a:lnTo>
                        <a:pt x="211" y="345"/>
                      </a:lnTo>
                      <a:lnTo>
                        <a:pt x="213" y="346"/>
                      </a:lnTo>
                      <a:lnTo>
                        <a:pt x="215" y="348"/>
                      </a:lnTo>
                      <a:lnTo>
                        <a:pt x="218" y="350"/>
                      </a:lnTo>
                      <a:lnTo>
                        <a:pt x="219" y="351"/>
                      </a:lnTo>
                      <a:lnTo>
                        <a:pt x="221" y="352"/>
                      </a:lnTo>
                      <a:lnTo>
                        <a:pt x="222" y="353"/>
                      </a:lnTo>
                      <a:lnTo>
                        <a:pt x="225" y="354"/>
                      </a:lnTo>
                      <a:lnTo>
                        <a:pt x="226" y="354"/>
                      </a:lnTo>
                      <a:lnTo>
                        <a:pt x="228" y="355"/>
                      </a:lnTo>
                      <a:lnTo>
                        <a:pt x="229" y="356"/>
                      </a:lnTo>
                      <a:lnTo>
                        <a:pt x="230" y="358"/>
                      </a:lnTo>
                      <a:lnTo>
                        <a:pt x="231" y="359"/>
                      </a:lnTo>
                      <a:lnTo>
                        <a:pt x="233" y="360"/>
                      </a:lnTo>
                      <a:lnTo>
                        <a:pt x="235" y="361"/>
                      </a:lnTo>
                      <a:lnTo>
                        <a:pt x="236" y="362"/>
                      </a:lnTo>
                      <a:lnTo>
                        <a:pt x="236" y="363"/>
                      </a:lnTo>
                      <a:lnTo>
                        <a:pt x="237" y="365"/>
                      </a:lnTo>
                      <a:lnTo>
                        <a:pt x="238" y="366"/>
                      </a:lnTo>
                      <a:lnTo>
                        <a:pt x="240" y="367"/>
                      </a:lnTo>
                      <a:lnTo>
                        <a:pt x="240" y="368"/>
                      </a:lnTo>
                      <a:lnTo>
                        <a:pt x="241" y="369"/>
                      </a:lnTo>
                      <a:lnTo>
                        <a:pt x="241" y="370"/>
                      </a:lnTo>
                      <a:lnTo>
                        <a:pt x="242" y="372"/>
                      </a:lnTo>
                      <a:lnTo>
                        <a:pt x="243" y="372"/>
                      </a:lnTo>
                      <a:lnTo>
                        <a:pt x="244" y="372"/>
                      </a:lnTo>
                      <a:lnTo>
                        <a:pt x="245" y="372"/>
                      </a:lnTo>
                      <a:lnTo>
                        <a:pt x="245" y="370"/>
                      </a:lnTo>
                      <a:lnTo>
                        <a:pt x="246" y="370"/>
                      </a:lnTo>
                      <a:lnTo>
                        <a:pt x="246" y="369"/>
                      </a:lnTo>
                      <a:lnTo>
                        <a:pt x="248" y="369"/>
                      </a:lnTo>
                      <a:lnTo>
                        <a:pt x="248" y="368"/>
                      </a:lnTo>
                      <a:lnTo>
                        <a:pt x="249" y="367"/>
                      </a:lnTo>
                      <a:lnTo>
                        <a:pt x="249" y="366"/>
                      </a:lnTo>
                      <a:lnTo>
                        <a:pt x="250" y="366"/>
                      </a:lnTo>
                      <a:lnTo>
                        <a:pt x="250" y="365"/>
                      </a:lnTo>
                      <a:lnTo>
                        <a:pt x="250" y="363"/>
                      </a:lnTo>
                      <a:lnTo>
                        <a:pt x="251" y="362"/>
                      </a:lnTo>
                      <a:lnTo>
                        <a:pt x="251" y="361"/>
                      </a:lnTo>
                      <a:lnTo>
                        <a:pt x="251" y="360"/>
                      </a:lnTo>
                      <a:lnTo>
                        <a:pt x="252" y="360"/>
                      </a:lnTo>
                      <a:lnTo>
                        <a:pt x="252" y="359"/>
                      </a:lnTo>
                      <a:lnTo>
                        <a:pt x="252" y="358"/>
                      </a:lnTo>
                      <a:lnTo>
                        <a:pt x="253" y="358"/>
                      </a:lnTo>
                      <a:lnTo>
                        <a:pt x="255" y="358"/>
                      </a:lnTo>
                      <a:lnTo>
                        <a:pt x="255" y="356"/>
                      </a:lnTo>
                      <a:lnTo>
                        <a:pt x="255" y="355"/>
                      </a:lnTo>
                      <a:lnTo>
                        <a:pt x="253" y="355"/>
                      </a:lnTo>
                      <a:lnTo>
                        <a:pt x="253" y="354"/>
                      </a:lnTo>
                      <a:lnTo>
                        <a:pt x="252" y="354"/>
                      </a:lnTo>
                      <a:lnTo>
                        <a:pt x="252" y="353"/>
                      </a:lnTo>
                      <a:lnTo>
                        <a:pt x="251" y="353"/>
                      </a:lnTo>
                      <a:lnTo>
                        <a:pt x="250" y="353"/>
                      </a:lnTo>
                      <a:lnTo>
                        <a:pt x="249" y="352"/>
                      </a:lnTo>
                      <a:lnTo>
                        <a:pt x="248" y="352"/>
                      </a:lnTo>
                      <a:lnTo>
                        <a:pt x="246" y="352"/>
                      </a:lnTo>
                      <a:lnTo>
                        <a:pt x="245" y="352"/>
                      </a:lnTo>
                      <a:lnTo>
                        <a:pt x="244" y="352"/>
                      </a:lnTo>
                      <a:lnTo>
                        <a:pt x="243" y="352"/>
                      </a:lnTo>
                      <a:lnTo>
                        <a:pt x="242" y="352"/>
                      </a:lnTo>
                      <a:lnTo>
                        <a:pt x="241" y="352"/>
                      </a:lnTo>
                      <a:lnTo>
                        <a:pt x="240" y="352"/>
                      </a:lnTo>
                      <a:lnTo>
                        <a:pt x="238" y="352"/>
                      </a:lnTo>
                      <a:lnTo>
                        <a:pt x="237" y="353"/>
                      </a:lnTo>
                      <a:lnTo>
                        <a:pt x="236" y="353"/>
                      </a:lnTo>
                      <a:lnTo>
                        <a:pt x="235" y="353"/>
                      </a:lnTo>
                      <a:lnTo>
                        <a:pt x="234" y="353"/>
                      </a:lnTo>
                      <a:lnTo>
                        <a:pt x="233" y="353"/>
                      </a:lnTo>
                      <a:lnTo>
                        <a:pt x="233" y="354"/>
                      </a:lnTo>
                      <a:lnTo>
                        <a:pt x="231" y="354"/>
                      </a:lnTo>
                      <a:lnTo>
                        <a:pt x="230" y="354"/>
                      </a:lnTo>
                      <a:lnTo>
                        <a:pt x="229" y="354"/>
                      </a:lnTo>
                      <a:lnTo>
                        <a:pt x="229" y="353"/>
                      </a:lnTo>
                      <a:lnTo>
                        <a:pt x="230" y="352"/>
                      </a:lnTo>
                      <a:lnTo>
                        <a:pt x="230" y="351"/>
                      </a:lnTo>
                      <a:lnTo>
                        <a:pt x="231" y="350"/>
                      </a:lnTo>
                      <a:lnTo>
                        <a:pt x="233" y="348"/>
                      </a:lnTo>
                      <a:lnTo>
                        <a:pt x="234" y="348"/>
                      </a:lnTo>
                      <a:lnTo>
                        <a:pt x="235" y="347"/>
                      </a:lnTo>
                      <a:lnTo>
                        <a:pt x="237" y="346"/>
                      </a:lnTo>
                      <a:lnTo>
                        <a:pt x="238" y="345"/>
                      </a:lnTo>
                      <a:lnTo>
                        <a:pt x="240" y="345"/>
                      </a:lnTo>
                      <a:lnTo>
                        <a:pt x="242" y="344"/>
                      </a:lnTo>
                      <a:lnTo>
                        <a:pt x="243" y="343"/>
                      </a:lnTo>
                      <a:lnTo>
                        <a:pt x="245" y="343"/>
                      </a:lnTo>
                      <a:lnTo>
                        <a:pt x="246" y="341"/>
                      </a:lnTo>
                      <a:lnTo>
                        <a:pt x="249" y="341"/>
                      </a:lnTo>
                      <a:lnTo>
                        <a:pt x="251" y="340"/>
                      </a:lnTo>
                      <a:lnTo>
                        <a:pt x="252" y="340"/>
                      </a:lnTo>
                      <a:lnTo>
                        <a:pt x="255" y="340"/>
                      </a:lnTo>
                      <a:lnTo>
                        <a:pt x="257" y="339"/>
                      </a:lnTo>
                      <a:lnTo>
                        <a:pt x="259" y="339"/>
                      </a:lnTo>
                      <a:lnTo>
                        <a:pt x="262" y="339"/>
                      </a:lnTo>
                      <a:lnTo>
                        <a:pt x="264" y="339"/>
                      </a:lnTo>
                      <a:lnTo>
                        <a:pt x="266" y="339"/>
                      </a:lnTo>
                      <a:lnTo>
                        <a:pt x="268" y="339"/>
                      </a:lnTo>
                      <a:lnTo>
                        <a:pt x="271" y="339"/>
                      </a:lnTo>
                      <a:lnTo>
                        <a:pt x="273" y="339"/>
                      </a:lnTo>
                      <a:lnTo>
                        <a:pt x="275" y="339"/>
                      </a:lnTo>
                      <a:lnTo>
                        <a:pt x="279" y="339"/>
                      </a:lnTo>
                      <a:lnTo>
                        <a:pt x="281" y="340"/>
                      </a:lnTo>
                      <a:lnTo>
                        <a:pt x="283" y="340"/>
                      </a:lnTo>
                      <a:lnTo>
                        <a:pt x="286" y="340"/>
                      </a:lnTo>
                      <a:lnTo>
                        <a:pt x="289" y="341"/>
                      </a:lnTo>
                      <a:lnTo>
                        <a:pt x="292" y="341"/>
                      </a:lnTo>
                      <a:lnTo>
                        <a:pt x="295" y="341"/>
                      </a:lnTo>
                      <a:lnTo>
                        <a:pt x="300" y="343"/>
                      </a:lnTo>
                      <a:lnTo>
                        <a:pt x="303" y="343"/>
                      </a:lnTo>
                      <a:lnTo>
                        <a:pt x="308" y="343"/>
                      </a:lnTo>
                      <a:lnTo>
                        <a:pt x="311" y="344"/>
                      </a:lnTo>
                      <a:lnTo>
                        <a:pt x="315" y="344"/>
                      </a:lnTo>
                      <a:lnTo>
                        <a:pt x="319" y="344"/>
                      </a:lnTo>
                      <a:lnTo>
                        <a:pt x="323" y="344"/>
                      </a:lnTo>
                      <a:lnTo>
                        <a:pt x="326" y="345"/>
                      </a:lnTo>
                      <a:lnTo>
                        <a:pt x="331" y="345"/>
                      </a:lnTo>
                      <a:lnTo>
                        <a:pt x="334" y="345"/>
                      </a:lnTo>
                      <a:lnTo>
                        <a:pt x="338" y="345"/>
                      </a:lnTo>
                      <a:lnTo>
                        <a:pt x="342" y="346"/>
                      </a:lnTo>
                      <a:lnTo>
                        <a:pt x="346" y="346"/>
                      </a:lnTo>
                      <a:lnTo>
                        <a:pt x="350" y="346"/>
                      </a:lnTo>
                      <a:lnTo>
                        <a:pt x="355" y="346"/>
                      </a:lnTo>
                      <a:lnTo>
                        <a:pt x="359" y="346"/>
                      </a:lnTo>
                      <a:lnTo>
                        <a:pt x="363" y="347"/>
                      </a:lnTo>
                      <a:lnTo>
                        <a:pt x="368" y="347"/>
                      </a:lnTo>
                      <a:lnTo>
                        <a:pt x="372" y="347"/>
                      </a:lnTo>
                      <a:lnTo>
                        <a:pt x="377" y="347"/>
                      </a:lnTo>
                      <a:lnTo>
                        <a:pt x="382" y="348"/>
                      </a:lnTo>
                      <a:lnTo>
                        <a:pt x="387" y="348"/>
                      </a:lnTo>
                      <a:lnTo>
                        <a:pt x="392" y="348"/>
                      </a:lnTo>
                      <a:lnTo>
                        <a:pt x="398" y="348"/>
                      </a:lnTo>
                      <a:lnTo>
                        <a:pt x="404" y="350"/>
                      </a:lnTo>
                      <a:lnTo>
                        <a:pt x="409" y="350"/>
                      </a:lnTo>
                      <a:lnTo>
                        <a:pt x="415" y="350"/>
                      </a:lnTo>
                      <a:lnTo>
                        <a:pt x="422" y="351"/>
                      </a:lnTo>
                      <a:lnTo>
                        <a:pt x="428" y="351"/>
                      </a:lnTo>
                      <a:lnTo>
                        <a:pt x="435" y="351"/>
                      </a:lnTo>
                      <a:lnTo>
                        <a:pt x="442" y="351"/>
                      </a:lnTo>
                      <a:lnTo>
                        <a:pt x="443" y="352"/>
                      </a:lnTo>
                      <a:lnTo>
                        <a:pt x="444" y="352"/>
                      </a:lnTo>
                      <a:lnTo>
                        <a:pt x="445" y="353"/>
                      </a:lnTo>
                      <a:lnTo>
                        <a:pt x="446" y="353"/>
                      </a:lnTo>
                      <a:lnTo>
                        <a:pt x="446" y="354"/>
                      </a:lnTo>
                      <a:lnTo>
                        <a:pt x="448" y="354"/>
                      </a:lnTo>
                      <a:lnTo>
                        <a:pt x="449" y="355"/>
                      </a:lnTo>
                      <a:lnTo>
                        <a:pt x="450" y="355"/>
                      </a:lnTo>
                      <a:lnTo>
                        <a:pt x="450" y="356"/>
                      </a:lnTo>
                      <a:lnTo>
                        <a:pt x="451" y="356"/>
                      </a:lnTo>
                      <a:lnTo>
                        <a:pt x="451" y="358"/>
                      </a:lnTo>
                      <a:lnTo>
                        <a:pt x="452" y="358"/>
                      </a:lnTo>
                      <a:lnTo>
                        <a:pt x="452" y="359"/>
                      </a:lnTo>
                      <a:lnTo>
                        <a:pt x="453" y="360"/>
                      </a:lnTo>
                      <a:lnTo>
                        <a:pt x="454" y="360"/>
                      </a:lnTo>
                      <a:lnTo>
                        <a:pt x="454" y="361"/>
                      </a:lnTo>
                      <a:lnTo>
                        <a:pt x="454" y="362"/>
                      </a:lnTo>
                      <a:lnTo>
                        <a:pt x="456" y="362"/>
                      </a:lnTo>
                      <a:lnTo>
                        <a:pt x="456" y="363"/>
                      </a:lnTo>
                      <a:lnTo>
                        <a:pt x="457" y="363"/>
                      </a:lnTo>
                      <a:lnTo>
                        <a:pt x="457" y="365"/>
                      </a:lnTo>
                      <a:lnTo>
                        <a:pt x="458" y="366"/>
                      </a:lnTo>
                      <a:lnTo>
                        <a:pt x="458" y="367"/>
                      </a:lnTo>
                      <a:lnTo>
                        <a:pt x="459" y="367"/>
                      </a:lnTo>
                      <a:lnTo>
                        <a:pt x="460" y="368"/>
                      </a:lnTo>
                      <a:lnTo>
                        <a:pt x="460" y="370"/>
                      </a:lnTo>
                      <a:lnTo>
                        <a:pt x="460" y="372"/>
                      </a:lnTo>
                      <a:lnTo>
                        <a:pt x="461" y="374"/>
                      </a:lnTo>
                      <a:lnTo>
                        <a:pt x="461" y="375"/>
                      </a:lnTo>
                      <a:lnTo>
                        <a:pt x="461" y="377"/>
                      </a:lnTo>
                      <a:lnTo>
                        <a:pt x="461" y="380"/>
                      </a:lnTo>
                      <a:lnTo>
                        <a:pt x="463" y="382"/>
                      </a:lnTo>
                      <a:lnTo>
                        <a:pt x="463" y="383"/>
                      </a:lnTo>
                      <a:lnTo>
                        <a:pt x="463" y="385"/>
                      </a:lnTo>
                      <a:lnTo>
                        <a:pt x="463" y="388"/>
                      </a:lnTo>
                      <a:lnTo>
                        <a:pt x="464" y="390"/>
                      </a:lnTo>
                      <a:lnTo>
                        <a:pt x="464" y="392"/>
                      </a:lnTo>
                      <a:lnTo>
                        <a:pt x="464" y="395"/>
                      </a:lnTo>
                      <a:lnTo>
                        <a:pt x="464" y="397"/>
                      </a:lnTo>
                      <a:lnTo>
                        <a:pt x="464" y="399"/>
                      </a:lnTo>
                      <a:lnTo>
                        <a:pt x="464" y="402"/>
                      </a:lnTo>
                      <a:lnTo>
                        <a:pt x="464" y="403"/>
                      </a:lnTo>
                      <a:lnTo>
                        <a:pt x="464" y="405"/>
                      </a:lnTo>
                      <a:lnTo>
                        <a:pt x="464" y="407"/>
                      </a:lnTo>
                      <a:lnTo>
                        <a:pt x="464" y="410"/>
                      </a:lnTo>
                      <a:lnTo>
                        <a:pt x="464" y="412"/>
                      </a:lnTo>
                      <a:lnTo>
                        <a:pt x="464" y="413"/>
                      </a:lnTo>
                      <a:lnTo>
                        <a:pt x="464" y="415"/>
                      </a:lnTo>
                      <a:lnTo>
                        <a:pt x="464" y="418"/>
                      </a:lnTo>
                      <a:lnTo>
                        <a:pt x="463" y="419"/>
                      </a:lnTo>
                      <a:lnTo>
                        <a:pt x="463" y="421"/>
                      </a:lnTo>
                      <a:lnTo>
                        <a:pt x="463" y="422"/>
                      </a:lnTo>
                      <a:lnTo>
                        <a:pt x="461" y="423"/>
                      </a:lnTo>
                      <a:lnTo>
                        <a:pt x="461" y="426"/>
                      </a:lnTo>
                      <a:lnTo>
                        <a:pt x="461" y="427"/>
                      </a:lnTo>
                      <a:lnTo>
                        <a:pt x="460" y="428"/>
                      </a:lnTo>
                      <a:lnTo>
                        <a:pt x="459" y="429"/>
                      </a:lnTo>
                      <a:lnTo>
                        <a:pt x="456" y="429"/>
                      </a:lnTo>
                      <a:lnTo>
                        <a:pt x="452" y="430"/>
                      </a:lnTo>
                      <a:lnTo>
                        <a:pt x="449" y="430"/>
                      </a:lnTo>
                      <a:lnTo>
                        <a:pt x="445" y="430"/>
                      </a:lnTo>
                      <a:lnTo>
                        <a:pt x="442" y="430"/>
                      </a:lnTo>
                      <a:lnTo>
                        <a:pt x="437" y="430"/>
                      </a:lnTo>
                      <a:lnTo>
                        <a:pt x="434" y="432"/>
                      </a:lnTo>
                      <a:lnTo>
                        <a:pt x="430" y="432"/>
                      </a:lnTo>
                      <a:lnTo>
                        <a:pt x="427" y="430"/>
                      </a:lnTo>
                      <a:lnTo>
                        <a:pt x="423" y="430"/>
                      </a:lnTo>
                      <a:lnTo>
                        <a:pt x="420" y="430"/>
                      </a:lnTo>
                      <a:lnTo>
                        <a:pt x="416" y="430"/>
                      </a:lnTo>
                      <a:lnTo>
                        <a:pt x="413" y="430"/>
                      </a:lnTo>
                      <a:lnTo>
                        <a:pt x="408" y="430"/>
                      </a:lnTo>
                      <a:lnTo>
                        <a:pt x="405" y="429"/>
                      </a:lnTo>
                      <a:lnTo>
                        <a:pt x="401" y="429"/>
                      </a:lnTo>
                      <a:lnTo>
                        <a:pt x="398" y="429"/>
                      </a:lnTo>
                      <a:lnTo>
                        <a:pt x="394" y="428"/>
                      </a:lnTo>
                      <a:lnTo>
                        <a:pt x="391" y="428"/>
                      </a:lnTo>
                      <a:lnTo>
                        <a:pt x="387" y="428"/>
                      </a:lnTo>
                      <a:lnTo>
                        <a:pt x="384" y="427"/>
                      </a:lnTo>
                      <a:lnTo>
                        <a:pt x="381" y="427"/>
                      </a:lnTo>
                      <a:lnTo>
                        <a:pt x="377" y="427"/>
                      </a:lnTo>
                      <a:lnTo>
                        <a:pt x="374" y="426"/>
                      </a:lnTo>
                      <a:lnTo>
                        <a:pt x="369" y="426"/>
                      </a:lnTo>
                      <a:lnTo>
                        <a:pt x="366" y="426"/>
                      </a:lnTo>
                      <a:lnTo>
                        <a:pt x="362" y="425"/>
                      </a:lnTo>
                      <a:lnTo>
                        <a:pt x="359" y="425"/>
                      </a:lnTo>
                      <a:lnTo>
                        <a:pt x="355" y="425"/>
                      </a:lnTo>
                      <a:lnTo>
                        <a:pt x="352" y="423"/>
                      </a:lnTo>
                      <a:lnTo>
                        <a:pt x="348" y="423"/>
                      </a:lnTo>
                      <a:lnTo>
                        <a:pt x="345" y="423"/>
                      </a:lnTo>
                      <a:lnTo>
                        <a:pt x="342" y="421"/>
                      </a:lnTo>
                      <a:lnTo>
                        <a:pt x="339" y="419"/>
                      </a:lnTo>
                      <a:lnTo>
                        <a:pt x="337" y="417"/>
                      </a:lnTo>
                      <a:lnTo>
                        <a:pt x="334" y="414"/>
                      </a:lnTo>
                      <a:lnTo>
                        <a:pt x="332" y="412"/>
                      </a:lnTo>
                      <a:lnTo>
                        <a:pt x="330" y="411"/>
                      </a:lnTo>
                      <a:lnTo>
                        <a:pt x="326" y="408"/>
                      </a:lnTo>
                      <a:lnTo>
                        <a:pt x="324" y="407"/>
                      </a:lnTo>
                      <a:lnTo>
                        <a:pt x="320" y="406"/>
                      </a:lnTo>
                      <a:lnTo>
                        <a:pt x="318" y="405"/>
                      </a:lnTo>
                      <a:lnTo>
                        <a:pt x="316" y="404"/>
                      </a:lnTo>
                      <a:lnTo>
                        <a:pt x="312" y="404"/>
                      </a:lnTo>
                      <a:lnTo>
                        <a:pt x="310" y="403"/>
                      </a:lnTo>
                      <a:lnTo>
                        <a:pt x="307" y="402"/>
                      </a:lnTo>
                      <a:lnTo>
                        <a:pt x="304" y="402"/>
                      </a:lnTo>
                      <a:lnTo>
                        <a:pt x="302" y="400"/>
                      </a:lnTo>
                      <a:lnTo>
                        <a:pt x="298" y="399"/>
                      </a:lnTo>
                      <a:lnTo>
                        <a:pt x="296" y="399"/>
                      </a:lnTo>
                      <a:lnTo>
                        <a:pt x="294" y="398"/>
                      </a:lnTo>
                      <a:lnTo>
                        <a:pt x="290" y="398"/>
                      </a:lnTo>
                      <a:lnTo>
                        <a:pt x="288" y="397"/>
                      </a:lnTo>
                      <a:lnTo>
                        <a:pt x="286" y="396"/>
                      </a:lnTo>
                      <a:lnTo>
                        <a:pt x="282" y="395"/>
                      </a:lnTo>
                      <a:lnTo>
                        <a:pt x="280" y="395"/>
                      </a:lnTo>
                      <a:lnTo>
                        <a:pt x="278" y="393"/>
                      </a:lnTo>
                      <a:lnTo>
                        <a:pt x="275" y="391"/>
                      </a:lnTo>
                      <a:lnTo>
                        <a:pt x="273" y="390"/>
                      </a:lnTo>
                      <a:lnTo>
                        <a:pt x="271" y="389"/>
                      </a:lnTo>
                      <a:lnTo>
                        <a:pt x="268" y="387"/>
                      </a:lnTo>
                      <a:lnTo>
                        <a:pt x="266" y="385"/>
                      </a:lnTo>
                      <a:lnTo>
                        <a:pt x="264" y="383"/>
                      </a:lnTo>
                      <a:lnTo>
                        <a:pt x="262" y="381"/>
                      </a:lnTo>
                      <a:lnTo>
                        <a:pt x="262" y="380"/>
                      </a:lnTo>
                      <a:lnTo>
                        <a:pt x="260" y="380"/>
                      </a:lnTo>
                      <a:lnTo>
                        <a:pt x="259" y="380"/>
                      </a:lnTo>
                      <a:lnTo>
                        <a:pt x="258" y="378"/>
                      </a:lnTo>
                      <a:lnTo>
                        <a:pt x="257" y="378"/>
                      </a:lnTo>
                      <a:lnTo>
                        <a:pt x="256" y="377"/>
                      </a:lnTo>
                      <a:lnTo>
                        <a:pt x="255" y="377"/>
                      </a:lnTo>
                      <a:lnTo>
                        <a:pt x="253" y="377"/>
                      </a:lnTo>
                      <a:lnTo>
                        <a:pt x="252" y="377"/>
                      </a:lnTo>
                      <a:lnTo>
                        <a:pt x="251" y="377"/>
                      </a:lnTo>
                      <a:lnTo>
                        <a:pt x="250" y="376"/>
                      </a:lnTo>
                      <a:lnTo>
                        <a:pt x="249" y="376"/>
                      </a:lnTo>
                      <a:lnTo>
                        <a:pt x="248" y="376"/>
                      </a:lnTo>
                      <a:lnTo>
                        <a:pt x="246" y="376"/>
                      </a:lnTo>
                      <a:lnTo>
                        <a:pt x="245" y="376"/>
                      </a:lnTo>
                      <a:lnTo>
                        <a:pt x="243" y="376"/>
                      </a:lnTo>
                      <a:lnTo>
                        <a:pt x="242" y="376"/>
                      </a:lnTo>
                      <a:lnTo>
                        <a:pt x="241" y="376"/>
                      </a:lnTo>
                      <a:lnTo>
                        <a:pt x="240" y="376"/>
                      </a:lnTo>
                      <a:lnTo>
                        <a:pt x="238" y="376"/>
                      </a:lnTo>
                      <a:lnTo>
                        <a:pt x="236" y="376"/>
                      </a:lnTo>
                      <a:lnTo>
                        <a:pt x="235" y="376"/>
                      </a:lnTo>
                      <a:lnTo>
                        <a:pt x="234" y="377"/>
                      </a:lnTo>
                      <a:lnTo>
                        <a:pt x="233" y="377"/>
                      </a:lnTo>
                      <a:lnTo>
                        <a:pt x="231" y="377"/>
                      </a:lnTo>
                      <a:lnTo>
                        <a:pt x="229" y="377"/>
                      </a:lnTo>
                      <a:lnTo>
                        <a:pt x="228" y="377"/>
                      </a:lnTo>
                      <a:lnTo>
                        <a:pt x="227" y="377"/>
                      </a:lnTo>
                      <a:lnTo>
                        <a:pt x="226" y="377"/>
                      </a:lnTo>
                      <a:lnTo>
                        <a:pt x="225" y="377"/>
                      </a:lnTo>
                      <a:lnTo>
                        <a:pt x="222" y="377"/>
                      </a:lnTo>
                      <a:lnTo>
                        <a:pt x="221" y="377"/>
                      </a:lnTo>
                      <a:lnTo>
                        <a:pt x="221" y="376"/>
                      </a:lnTo>
                      <a:lnTo>
                        <a:pt x="221" y="375"/>
                      </a:lnTo>
                      <a:lnTo>
                        <a:pt x="221" y="374"/>
                      </a:lnTo>
                      <a:lnTo>
                        <a:pt x="221" y="373"/>
                      </a:lnTo>
                      <a:lnTo>
                        <a:pt x="221" y="372"/>
                      </a:lnTo>
                      <a:lnTo>
                        <a:pt x="220" y="370"/>
                      </a:lnTo>
                      <a:lnTo>
                        <a:pt x="220" y="369"/>
                      </a:lnTo>
                      <a:lnTo>
                        <a:pt x="219" y="369"/>
                      </a:lnTo>
                      <a:lnTo>
                        <a:pt x="219" y="368"/>
                      </a:lnTo>
                      <a:lnTo>
                        <a:pt x="219" y="367"/>
                      </a:lnTo>
                      <a:lnTo>
                        <a:pt x="218" y="367"/>
                      </a:lnTo>
                      <a:lnTo>
                        <a:pt x="218" y="366"/>
                      </a:lnTo>
                      <a:lnTo>
                        <a:pt x="216" y="366"/>
                      </a:lnTo>
                      <a:lnTo>
                        <a:pt x="216" y="365"/>
                      </a:lnTo>
                      <a:lnTo>
                        <a:pt x="215" y="365"/>
                      </a:lnTo>
                      <a:lnTo>
                        <a:pt x="215" y="363"/>
                      </a:lnTo>
                      <a:lnTo>
                        <a:pt x="214" y="363"/>
                      </a:lnTo>
                      <a:lnTo>
                        <a:pt x="214" y="362"/>
                      </a:lnTo>
                      <a:lnTo>
                        <a:pt x="213" y="362"/>
                      </a:lnTo>
                      <a:lnTo>
                        <a:pt x="213" y="361"/>
                      </a:lnTo>
                      <a:lnTo>
                        <a:pt x="212" y="361"/>
                      </a:lnTo>
                      <a:lnTo>
                        <a:pt x="212" y="360"/>
                      </a:lnTo>
                      <a:lnTo>
                        <a:pt x="211" y="360"/>
                      </a:lnTo>
                      <a:lnTo>
                        <a:pt x="210" y="359"/>
                      </a:lnTo>
                      <a:lnTo>
                        <a:pt x="208" y="359"/>
                      </a:lnTo>
                      <a:lnTo>
                        <a:pt x="207" y="358"/>
                      </a:lnTo>
                      <a:lnTo>
                        <a:pt x="206" y="358"/>
                      </a:lnTo>
                      <a:lnTo>
                        <a:pt x="205" y="358"/>
                      </a:lnTo>
                      <a:lnTo>
                        <a:pt x="204" y="356"/>
                      </a:lnTo>
                      <a:lnTo>
                        <a:pt x="203" y="356"/>
                      </a:lnTo>
                      <a:lnTo>
                        <a:pt x="201" y="356"/>
                      </a:lnTo>
                      <a:lnTo>
                        <a:pt x="200" y="356"/>
                      </a:lnTo>
                      <a:lnTo>
                        <a:pt x="199" y="356"/>
                      </a:lnTo>
                      <a:lnTo>
                        <a:pt x="198" y="356"/>
                      </a:lnTo>
                      <a:lnTo>
                        <a:pt x="197" y="356"/>
                      </a:lnTo>
                      <a:lnTo>
                        <a:pt x="196" y="356"/>
                      </a:lnTo>
                      <a:lnTo>
                        <a:pt x="194" y="356"/>
                      </a:lnTo>
                      <a:lnTo>
                        <a:pt x="193" y="356"/>
                      </a:lnTo>
                      <a:lnTo>
                        <a:pt x="192" y="356"/>
                      </a:lnTo>
                      <a:lnTo>
                        <a:pt x="191" y="356"/>
                      </a:lnTo>
                      <a:lnTo>
                        <a:pt x="190" y="356"/>
                      </a:lnTo>
                      <a:lnTo>
                        <a:pt x="189" y="356"/>
                      </a:lnTo>
                      <a:lnTo>
                        <a:pt x="188" y="356"/>
                      </a:lnTo>
                      <a:lnTo>
                        <a:pt x="186" y="356"/>
                      </a:lnTo>
                      <a:lnTo>
                        <a:pt x="185" y="356"/>
                      </a:lnTo>
                      <a:lnTo>
                        <a:pt x="184" y="356"/>
                      </a:lnTo>
                      <a:lnTo>
                        <a:pt x="183" y="356"/>
                      </a:lnTo>
                      <a:lnTo>
                        <a:pt x="182" y="356"/>
                      </a:lnTo>
                      <a:lnTo>
                        <a:pt x="181" y="356"/>
                      </a:lnTo>
                      <a:lnTo>
                        <a:pt x="179" y="356"/>
                      </a:lnTo>
                      <a:lnTo>
                        <a:pt x="178" y="356"/>
                      </a:lnTo>
                      <a:lnTo>
                        <a:pt x="177" y="356"/>
                      </a:lnTo>
                      <a:lnTo>
                        <a:pt x="174" y="352"/>
                      </a:lnTo>
                      <a:lnTo>
                        <a:pt x="169" y="347"/>
                      </a:lnTo>
                      <a:lnTo>
                        <a:pt x="166" y="344"/>
                      </a:lnTo>
                      <a:lnTo>
                        <a:pt x="162" y="340"/>
                      </a:lnTo>
                      <a:lnTo>
                        <a:pt x="158" y="337"/>
                      </a:lnTo>
                      <a:lnTo>
                        <a:pt x="154" y="333"/>
                      </a:lnTo>
                      <a:lnTo>
                        <a:pt x="149" y="331"/>
                      </a:lnTo>
                      <a:lnTo>
                        <a:pt x="146" y="329"/>
                      </a:lnTo>
                      <a:lnTo>
                        <a:pt x="142" y="326"/>
                      </a:lnTo>
                      <a:lnTo>
                        <a:pt x="138" y="324"/>
                      </a:lnTo>
                      <a:lnTo>
                        <a:pt x="134" y="322"/>
                      </a:lnTo>
                      <a:lnTo>
                        <a:pt x="131" y="320"/>
                      </a:lnTo>
                      <a:lnTo>
                        <a:pt x="126" y="317"/>
                      </a:lnTo>
                      <a:lnTo>
                        <a:pt x="123" y="315"/>
                      </a:lnTo>
                      <a:lnTo>
                        <a:pt x="119" y="314"/>
                      </a:lnTo>
                      <a:lnTo>
                        <a:pt x="116" y="311"/>
                      </a:lnTo>
                      <a:lnTo>
                        <a:pt x="112" y="309"/>
                      </a:lnTo>
                      <a:lnTo>
                        <a:pt x="109" y="307"/>
                      </a:lnTo>
                      <a:lnTo>
                        <a:pt x="106" y="305"/>
                      </a:lnTo>
                      <a:lnTo>
                        <a:pt x="102" y="302"/>
                      </a:lnTo>
                      <a:lnTo>
                        <a:pt x="99" y="300"/>
                      </a:lnTo>
                      <a:lnTo>
                        <a:pt x="95" y="298"/>
                      </a:lnTo>
                      <a:lnTo>
                        <a:pt x="92" y="295"/>
                      </a:lnTo>
                      <a:lnTo>
                        <a:pt x="88" y="292"/>
                      </a:lnTo>
                      <a:lnTo>
                        <a:pt x="86" y="288"/>
                      </a:lnTo>
                      <a:lnTo>
                        <a:pt x="82" y="285"/>
                      </a:lnTo>
                      <a:lnTo>
                        <a:pt x="80" y="280"/>
                      </a:lnTo>
                      <a:lnTo>
                        <a:pt x="77" y="276"/>
                      </a:lnTo>
                      <a:lnTo>
                        <a:pt x="74" y="271"/>
                      </a:lnTo>
                      <a:lnTo>
                        <a:pt x="72" y="266"/>
                      </a:lnTo>
                      <a:lnTo>
                        <a:pt x="69" y="261"/>
                      </a:lnTo>
                      <a:lnTo>
                        <a:pt x="66" y="255"/>
                      </a:lnTo>
                      <a:lnTo>
                        <a:pt x="66" y="254"/>
                      </a:lnTo>
                      <a:lnTo>
                        <a:pt x="66" y="251"/>
                      </a:lnTo>
                      <a:lnTo>
                        <a:pt x="66" y="250"/>
                      </a:lnTo>
                      <a:lnTo>
                        <a:pt x="66" y="249"/>
                      </a:lnTo>
                      <a:lnTo>
                        <a:pt x="66" y="248"/>
                      </a:lnTo>
                      <a:lnTo>
                        <a:pt x="65" y="246"/>
                      </a:lnTo>
                      <a:lnTo>
                        <a:pt x="65" y="244"/>
                      </a:lnTo>
                      <a:lnTo>
                        <a:pt x="64" y="243"/>
                      </a:lnTo>
                      <a:lnTo>
                        <a:pt x="64" y="241"/>
                      </a:lnTo>
                      <a:lnTo>
                        <a:pt x="63" y="240"/>
                      </a:lnTo>
                      <a:lnTo>
                        <a:pt x="62" y="238"/>
                      </a:lnTo>
                      <a:lnTo>
                        <a:pt x="62" y="236"/>
                      </a:lnTo>
                      <a:lnTo>
                        <a:pt x="60" y="234"/>
                      </a:lnTo>
                      <a:lnTo>
                        <a:pt x="59" y="233"/>
                      </a:lnTo>
                      <a:lnTo>
                        <a:pt x="58" y="232"/>
                      </a:lnTo>
                      <a:lnTo>
                        <a:pt x="58" y="229"/>
                      </a:lnTo>
                      <a:lnTo>
                        <a:pt x="57" y="228"/>
                      </a:lnTo>
                      <a:lnTo>
                        <a:pt x="56" y="226"/>
                      </a:lnTo>
                      <a:lnTo>
                        <a:pt x="55" y="225"/>
                      </a:lnTo>
                      <a:lnTo>
                        <a:pt x="54" y="224"/>
                      </a:lnTo>
                      <a:lnTo>
                        <a:pt x="52" y="222"/>
                      </a:lnTo>
                      <a:lnTo>
                        <a:pt x="51" y="221"/>
                      </a:lnTo>
                      <a:lnTo>
                        <a:pt x="51" y="220"/>
                      </a:lnTo>
                      <a:lnTo>
                        <a:pt x="50" y="219"/>
                      </a:lnTo>
                      <a:lnTo>
                        <a:pt x="49" y="218"/>
                      </a:lnTo>
                      <a:lnTo>
                        <a:pt x="48" y="217"/>
                      </a:lnTo>
                      <a:lnTo>
                        <a:pt x="48" y="216"/>
                      </a:lnTo>
                      <a:lnTo>
                        <a:pt x="47" y="214"/>
                      </a:lnTo>
                      <a:lnTo>
                        <a:pt x="45" y="214"/>
                      </a:lnTo>
                      <a:lnTo>
                        <a:pt x="45" y="213"/>
                      </a:lnTo>
                      <a:lnTo>
                        <a:pt x="44" y="213"/>
                      </a:lnTo>
                      <a:lnTo>
                        <a:pt x="43" y="213"/>
                      </a:lnTo>
                      <a:lnTo>
                        <a:pt x="43" y="212"/>
                      </a:lnTo>
                      <a:lnTo>
                        <a:pt x="43" y="211"/>
                      </a:lnTo>
                      <a:lnTo>
                        <a:pt x="42" y="211"/>
                      </a:lnTo>
                      <a:lnTo>
                        <a:pt x="41" y="210"/>
                      </a:lnTo>
                      <a:lnTo>
                        <a:pt x="41" y="209"/>
                      </a:lnTo>
                      <a:lnTo>
                        <a:pt x="40" y="207"/>
                      </a:lnTo>
                      <a:lnTo>
                        <a:pt x="39" y="206"/>
                      </a:lnTo>
                      <a:lnTo>
                        <a:pt x="37" y="206"/>
                      </a:lnTo>
                      <a:lnTo>
                        <a:pt x="37" y="205"/>
                      </a:lnTo>
                      <a:lnTo>
                        <a:pt x="36" y="204"/>
                      </a:lnTo>
                      <a:lnTo>
                        <a:pt x="35" y="203"/>
                      </a:lnTo>
                      <a:lnTo>
                        <a:pt x="34" y="202"/>
                      </a:lnTo>
                      <a:lnTo>
                        <a:pt x="33" y="201"/>
                      </a:lnTo>
                      <a:lnTo>
                        <a:pt x="32" y="199"/>
                      </a:lnTo>
                      <a:lnTo>
                        <a:pt x="30" y="198"/>
                      </a:lnTo>
                      <a:lnTo>
                        <a:pt x="29" y="197"/>
                      </a:lnTo>
                      <a:lnTo>
                        <a:pt x="28" y="196"/>
                      </a:lnTo>
                      <a:lnTo>
                        <a:pt x="27" y="195"/>
                      </a:lnTo>
                      <a:lnTo>
                        <a:pt x="27" y="194"/>
                      </a:lnTo>
                      <a:lnTo>
                        <a:pt x="26" y="192"/>
                      </a:lnTo>
                      <a:lnTo>
                        <a:pt x="25" y="191"/>
                      </a:lnTo>
                      <a:lnTo>
                        <a:pt x="23" y="190"/>
                      </a:lnTo>
                      <a:lnTo>
                        <a:pt x="22" y="189"/>
                      </a:lnTo>
                      <a:lnTo>
                        <a:pt x="22" y="188"/>
                      </a:lnTo>
                      <a:lnTo>
                        <a:pt x="21" y="187"/>
                      </a:lnTo>
                      <a:lnTo>
                        <a:pt x="20" y="184"/>
                      </a:lnTo>
                      <a:lnTo>
                        <a:pt x="20" y="183"/>
                      </a:lnTo>
                      <a:lnTo>
                        <a:pt x="19" y="182"/>
                      </a:lnTo>
                      <a:lnTo>
                        <a:pt x="19" y="181"/>
                      </a:lnTo>
                      <a:lnTo>
                        <a:pt x="19" y="180"/>
                      </a:lnTo>
                      <a:lnTo>
                        <a:pt x="18" y="177"/>
                      </a:lnTo>
                      <a:lnTo>
                        <a:pt x="18" y="176"/>
                      </a:lnTo>
                      <a:lnTo>
                        <a:pt x="18" y="175"/>
                      </a:lnTo>
                      <a:lnTo>
                        <a:pt x="17" y="175"/>
                      </a:lnTo>
                      <a:lnTo>
                        <a:pt x="17" y="174"/>
                      </a:lnTo>
                      <a:lnTo>
                        <a:pt x="17" y="173"/>
                      </a:lnTo>
                      <a:lnTo>
                        <a:pt x="15" y="173"/>
                      </a:lnTo>
                      <a:lnTo>
                        <a:pt x="15" y="172"/>
                      </a:lnTo>
                      <a:lnTo>
                        <a:pt x="15" y="171"/>
                      </a:lnTo>
                      <a:lnTo>
                        <a:pt x="14" y="171"/>
                      </a:lnTo>
                      <a:lnTo>
                        <a:pt x="14" y="169"/>
                      </a:lnTo>
                      <a:lnTo>
                        <a:pt x="13" y="168"/>
                      </a:lnTo>
                      <a:lnTo>
                        <a:pt x="13" y="167"/>
                      </a:lnTo>
                      <a:lnTo>
                        <a:pt x="12" y="167"/>
                      </a:lnTo>
                      <a:lnTo>
                        <a:pt x="12" y="166"/>
                      </a:lnTo>
                      <a:lnTo>
                        <a:pt x="11" y="165"/>
                      </a:lnTo>
                      <a:lnTo>
                        <a:pt x="11" y="164"/>
                      </a:lnTo>
                      <a:lnTo>
                        <a:pt x="10" y="164"/>
                      </a:lnTo>
                      <a:lnTo>
                        <a:pt x="10" y="162"/>
                      </a:lnTo>
                      <a:lnTo>
                        <a:pt x="8" y="161"/>
                      </a:lnTo>
                      <a:lnTo>
                        <a:pt x="7" y="160"/>
                      </a:lnTo>
                      <a:lnTo>
                        <a:pt x="7" y="159"/>
                      </a:lnTo>
                      <a:lnTo>
                        <a:pt x="6" y="159"/>
                      </a:lnTo>
                      <a:lnTo>
                        <a:pt x="6" y="158"/>
                      </a:lnTo>
                      <a:lnTo>
                        <a:pt x="5" y="158"/>
                      </a:lnTo>
                      <a:lnTo>
                        <a:pt x="5" y="157"/>
                      </a:lnTo>
                      <a:lnTo>
                        <a:pt x="4" y="157"/>
                      </a:lnTo>
                      <a:lnTo>
                        <a:pt x="3" y="155"/>
                      </a:lnTo>
                      <a:lnTo>
                        <a:pt x="2" y="155"/>
                      </a:lnTo>
                      <a:lnTo>
                        <a:pt x="2" y="154"/>
                      </a:lnTo>
                      <a:lnTo>
                        <a:pt x="2" y="153"/>
                      </a:lnTo>
                      <a:lnTo>
                        <a:pt x="2" y="152"/>
                      </a:lnTo>
                      <a:lnTo>
                        <a:pt x="2" y="151"/>
                      </a:lnTo>
                      <a:lnTo>
                        <a:pt x="2" y="150"/>
                      </a:lnTo>
                      <a:lnTo>
                        <a:pt x="2" y="149"/>
                      </a:lnTo>
                      <a:lnTo>
                        <a:pt x="2" y="147"/>
                      </a:lnTo>
                      <a:lnTo>
                        <a:pt x="2" y="146"/>
                      </a:lnTo>
                      <a:lnTo>
                        <a:pt x="2" y="145"/>
                      </a:lnTo>
                      <a:lnTo>
                        <a:pt x="2" y="144"/>
                      </a:lnTo>
                      <a:lnTo>
                        <a:pt x="2" y="143"/>
                      </a:lnTo>
                      <a:lnTo>
                        <a:pt x="2" y="142"/>
                      </a:lnTo>
                      <a:lnTo>
                        <a:pt x="2" y="140"/>
                      </a:lnTo>
                      <a:lnTo>
                        <a:pt x="2" y="139"/>
                      </a:lnTo>
                      <a:lnTo>
                        <a:pt x="2" y="138"/>
                      </a:lnTo>
                      <a:lnTo>
                        <a:pt x="0" y="137"/>
                      </a:lnTo>
                      <a:lnTo>
                        <a:pt x="0" y="136"/>
                      </a:lnTo>
                      <a:close/>
                      <a:moveTo>
                        <a:pt x="384" y="45"/>
                      </a:moveTo>
                      <a:lnTo>
                        <a:pt x="417" y="85"/>
                      </a:lnTo>
                      <a:lnTo>
                        <a:pt x="419" y="87"/>
                      </a:lnTo>
                      <a:lnTo>
                        <a:pt x="420" y="90"/>
                      </a:lnTo>
                      <a:lnTo>
                        <a:pt x="421" y="91"/>
                      </a:lnTo>
                      <a:lnTo>
                        <a:pt x="422" y="93"/>
                      </a:lnTo>
                      <a:lnTo>
                        <a:pt x="422" y="95"/>
                      </a:lnTo>
                      <a:lnTo>
                        <a:pt x="423" y="98"/>
                      </a:lnTo>
                      <a:lnTo>
                        <a:pt x="424" y="99"/>
                      </a:lnTo>
                      <a:lnTo>
                        <a:pt x="426" y="101"/>
                      </a:lnTo>
                      <a:lnTo>
                        <a:pt x="427" y="104"/>
                      </a:lnTo>
                      <a:lnTo>
                        <a:pt x="427" y="105"/>
                      </a:lnTo>
                      <a:lnTo>
                        <a:pt x="428" y="107"/>
                      </a:lnTo>
                      <a:lnTo>
                        <a:pt x="429" y="109"/>
                      </a:lnTo>
                      <a:lnTo>
                        <a:pt x="429" y="112"/>
                      </a:lnTo>
                      <a:lnTo>
                        <a:pt x="430" y="113"/>
                      </a:lnTo>
                      <a:lnTo>
                        <a:pt x="431" y="115"/>
                      </a:lnTo>
                      <a:lnTo>
                        <a:pt x="431" y="117"/>
                      </a:lnTo>
                      <a:lnTo>
                        <a:pt x="433" y="119"/>
                      </a:lnTo>
                      <a:lnTo>
                        <a:pt x="433" y="121"/>
                      </a:lnTo>
                      <a:lnTo>
                        <a:pt x="434" y="123"/>
                      </a:lnTo>
                      <a:lnTo>
                        <a:pt x="434" y="125"/>
                      </a:lnTo>
                      <a:lnTo>
                        <a:pt x="435" y="128"/>
                      </a:lnTo>
                      <a:lnTo>
                        <a:pt x="435" y="129"/>
                      </a:lnTo>
                      <a:lnTo>
                        <a:pt x="436" y="131"/>
                      </a:lnTo>
                      <a:lnTo>
                        <a:pt x="436" y="134"/>
                      </a:lnTo>
                      <a:lnTo>
                        <a:pt x="437" y="136"/>
                      </a:lnTo>
                      <a:lnTo>
                        <a:pt x="437" y="137"/>
                      </a:lnTo>
                      <a:lnTo>
                        <a:pt x="437" y="139"/>
                      </a:lnTo>
                      <a:lnTo>
                        <a:pt x="438" y="142"/>
                      </a:lnTo>
                      <a:lnTo>
                        <a:pt x="438" y="144"/>
                      </a:lnTo>
                      <a:lnTo>
                        <a:pt x="438" y="146"/>
                      </a:lnTo>
                      <a:lnTo>
                        <a:pt x="438" y="149"/>
                      </a:lnTo>
                      <a:lnTo>
                        <a:pt x="438" y="150"/>
                      </a:lnTo>
                      <a:lnTo>
                        <a:pt x="439" y="151"/>
                      </a:lnTo>
                      <a:lnTo>
                        <a:pt x="442" y="153"/>
                      </a:lnTo>
                      <a:lnTo>
                        <a:pt x="443" y="154"/>
                      </a:lnTo>
                      <a:lnTo>
                        <a:pt x="444" y="155"/>
                      </a:lnTo>
                      <a:lnTo>
                        <a:pt x="445" y="157"/>
                      </a:lnTo>
                      <a:lnTo>
                        <a:pt x="446" y="158"/>
                      </a:lnTo>
                      <a:lnTo>
                        <a:pt x="449" y="160"/>
                      </a:lnTo>
                      <a:lnTo>
                        <a:pt x="450" y="161"/>
                      </a:lnTo>
                      <a:lnTo>
                        <a:pt x="452" y="164"/>
                      </a:lnTo>
                      <a:lnTo>
                        <a:pt x="453" y="165"/>
                      </a:lnTo>
                      <a:lnTo>
                        <a:pt x="454" y="167"/>
                      </a:lnTo>
                      <a:lnTo>
                        <a:pt x="457" y="168"/>
                      </a:lnTo>
                      <a:lnTo>
                        <a:pt x="458" y="171"/>
                      </a:lnTo>
                      <a:lnTo>
                        <a:pt x="460" y="172"/>
                      </a:lnTo>
                      <a:lnTo>
                        <a:pt x="461" y="174"/>
                      </a:lnTo>
                      <a:lnTo>
                        <a:pt x="464" y="175"/>
                      </a:lnTo>
                      <a:lnTo>
                        <a:pt x="465" y="177"/>
                      </a:lnTo>
                      <a:lnTo>
                        <a:pt x="467" y="180"/>
                      </a:lnTo>
                      <a:lnTo>
                        <a:pt x="469" y="181"/>
                      </a:lnTo>
                      <a:lnTo>
                        <a:pt x="471" y="183"/>
                      </a:lnTo>
                      <a:lnTo>
                        <a:pt x="473" y="186"/>
                      </a:lnTo>
                      <a:lnTo>
                        <a:pt x="474" y="187"/>
                      </a:lnTo>
                      <a:lnTo>
                        <a:pt x="476" y="189"/>
                      </a:lnTo>
                      <a:lnTo>
                        <a:pt x="479" y="191"/>
                      </a:lnTo>
                      <a:lnTo>
                        <a:pt x="480" y="192"/>
                      </a:lnTo>
                      <a:lnTo>
                        <a:pt x="482" y="195"/>
                      </a:lnTo>
                      <a:lnTo>
                        <a:pt x="483" y="197"/>
                      </a:lnTo>
                      <a:lnTo>
                        <a:pt x="486" y="198"/>
                      </a:lnTo>
                      <a:lnTo>
                        <a:pt x="487" y="201"/>
                      </a:lnTo>
                      <a:lnTo>
                        <a:pt x="489" y="202"/>
                      </a:lnTo>
                      <a:lnTo>
                        <a:pt x="490" y="204"/>
                      </a:lnTo>
                      <a:lnTo>
                        <a:pt x="493" y="205"/>
                      </a:lnTo>
                      <a:lnTo>
                        <a:pt x="494" y="206"/>
                      </a:lnTo>
                      <a:lnTo>
                        <a:pt x="494" y="209"/>
                      </a:lnTo>
                      <a:lnTo>
                        <a:pt x="495" y="210"/>
                      </a:lnTo>
                      <a:lnTo>
                        <a:pt x="496" y="211"/>
                      </a:lnTo>
                      <a:lnTo>
                        <a:pt x="496" y="212"/>
                      </a:lnTo>
                      <a:lnTo>
                        <a:pt x="497" y="213"/>
                      </a:lnTo>
                      <a:lnTo>
                        <a:pt x="497" y="216"/>
                      </a:lnTo>
                      <a:lnTo>
                        <a:pt x="498" y="217"/>
                      </a:lnTo>
                      <a:lnTo>
                        <a:pt x="500" y="218"/>
                      </a:lnTo>
                      <a:lnTo>
                        <a:pt x="500" y="219"/>
                      </a:lnTo>
                      <a:lnTo>
                        <a:pt x="501" y="220"/>
                      </a:lnTo>
                      <a:lnTo>
                        <a:pt x="501" y="221"/>
                      </a:lnTo>
                      <a:lnTo>
                        <a:pt x="502" y="224"/>
                      </a:lnTo>
                      <a:lnTo>
                        <a:pt x="502" y="225"/>
                      </a:lnTo>
                      <a:lnTo>
                        <a:pt x="503" y="226"/>
                      </a:lnTo>
                      <a:lnTo>
                        <a:pt x="504" y="227"/>
                      </a:lnTo>
                      <a:lnTo>
                        <a:pt x="504" y="228"/>
                      </a:lnTo>
                      <a:lnTo>
                        <a:pt x="505" y="231"/>
                      </a:lnTo>
                      <a:lnTo>
                        <a:pt x="506" y="232"/>
                      </a:lnTo>
                      <a:lnTo>
                        <a:pt x="506" y="234"/>
                      </a:lnTo>
                      <a:lnTo>
                        <a:pt x="508" y="235"/>
                      </a:lnTo>
                      <a:lnTo>
                        <a:pt x="509" y="238"/>
                      </a:lnTo>
                      <a:lnTo>
                        <a:pt x="510" y="239"/>
                      </a:lnTo>
                      <a:lnTo>
                        <a:pt x="511" y="241"/>
                      </a:lnTo>
                      <a:lnTo>
                        <a:pt x="512" y="242"/>
                      </a:lnTo>
                      <a:lnTo>
                        <a:pt x="513" y="244"/>
                      </a:lnTo>
                      <a:lnTo>
                        <a:pt x="515" y="247"/>
                      </a:lnTo>
                      <a:lnTo>
                        <a:pt x="516" y="249"/>
                      </a:lnTo>
                      <a:lnTo>
                        <a:pt x="518" y="251"/>
                      </a:lnTo>
                      <a:lnTo>
                        <a:pt x="519" y="254"/>
                      </a:lnTo>
                      <a:lnTo>
                        <a:pt x="520" y="257"/>
                      </a:lnTo>
                      <a:lnTo>
                        <a:pt x="523" y="259"/>
                      </a:lnTo>
                      <a:lnTo>
                        <a:pt x="525" y="259"/>
                      </a:lnTo>
                      <a:lnTo>
                        <a:pt x="526" y="259"/>
                      </a:lnTo>
                      <a:lnTo>
                        <a:pt x="528" y="259"/>
                      </a:lnTo>
                      <a:lnTo>
                        <a:pt x="531" y="259"/>
                      </a:lnTo>
                      <a:lnTo>
                        <a:pt x="532" y="259"/>
                      </a:lnTo>
                      <a:lnTo>
                        <a:pt x="534" y="259"/>
                      </a:lnTo>
                      <a:lnTo>
                        <a:pt x="537" y="259"/>
                      </a:lnTo>
                      <a:lnTo>
                        <a:pt x="539" y="259"/>
                      </a:lnTo>
                      <a:lnTo>
                        <a:pt x="540" y="259"/>
                      </a:lnTo>
                      <a:lnTo>
                        <a:pt x="542" y="261"/>
                      </a:lnTo>
                      <a:lnTo>
                        <a:pt x="543" y="261"/>
                      </a:lnTo>
                      <a:lnTo>
                        <a:pt x="546" y="262"/>
                      </a:lnTo>
                      <a:lnTo>
                        <a:pt x="548" y="262"/>
                      </a:lnTo>
                      <a:lnTo>
                        <a:pt x="549" y="263"/>
                      </a:lnTo>
                      <a:lnTo>
                        <a:pt x="552" y="264"/>
                      </a:lnTo>
                      <a:lnTo>
                        <a:pt x="553" y="264"/>
                      </a:lnTo>
                      <a:lnTo>
                        <a:pt x="555" y="265"/>
                      </a:lnTo>
                      <a:lnTo>
                        <a:pt x="556" y="266"/>
                      </a:lnTo>
                      <a:lnTo>
                        <a:pt x="557" y="268"/>
                      </a:lnTo>
                      <a:lnTo>
                        <a:pt x="560" y="269"/>
                      </a:lnTo>
                      <a:lnTo>
                        <a:pt x="561" y="271"/>
                      </a:lnTo>
                      <a:lnTo>
                        <a:pt x="563" y="272"/>
                      </a:lnTo>
                      <a:lnTo>
                        <a:pt x="564" y="273"/>
                      </a:lnTo>
                      <a:lnTo>
                        <a:pt x="565" y="276"/>
                      </a:lnTo>
                      <a:lnTo>
                        <a:pt x="568" y="278"/>
                      </a:lnTo>
                      <a:lnTo>
                        <a:pt x="569" y="279"/>
                      </a:lnTo>
                      <a:lnTo>
                        <a:pt x="570" y="281"/>
                      </a:lnTo>
                      <a:lnTo>
                        <a:pt x="571" y="284"/>
                      </a:lnTo>
                      <a:lnTo>
                        <a:pt x="572" y="286"/>
                      </a:lnTo>
                      <a:lnTo>
                        <a:pt x="573" y="288"/>
                      </a:lnTo>
                      <a:lnTo>
                        <a:pt x="576" y="292"/>
                      </a:lnTo>
                      <a:lnTo>
                        <a:pt x="577" y="294"/>
                      </a:lnTo>
                      <a:lnTo>
                        <a:pt x="599" y="303"/>
                      </a:lnTo>
                      <a:lnTo>
                        <a:pt x="600" y="305"/>
                      </a:lnTo>
                      <a:lnTo>
                        <a:pt x="602" y="306"/>
                      </a:lnTo>
                      <a:lnTo>
                        <a:pt x="605" y="307"/>
                      </a:lnTo>
                      <a:lnTo>
                        <a:pt x="606" y="309"/>
                      </a:lnTo>
                      <a:lnTo>
                        <a:pt x="608" y="310"/>
                      </a:lnTo>
                      <a:lnTo>
                        <a:pt x="609" y="311"/>
                      </a:lnTo>
                      <a:lnTo>
                        <a:pt x="610" y="314"/>
                      </a:lnTo>
                      <a:lnTo>
                        <a:pt x="612" y="315"/>
                      </a:lnTo>
                      <a:lnTo>
                        <a:pt x="613" y="316"/>
                      </a:lnTo>
                      <a:lnTo>
                        <a:pt x="614" y="318"/>
                      </a:lnTo>
                      <a:lnTo>
                        <a:pt x="614" y="320"/>
                      </a:lnTo>
                      <a:lnTo>
                        <a:pt x="615" y="321"/>
                      </a:lnTo>
                      <a:lnTo>
                        <a:pt x="615" y="323"/>
                      </a:lnTo>
                      <a:lnTo>
                        <a:pt x="615" y="324"/>
                      </a:lnTo>
                      <a:lnTo>
                        <a:pt x="615" y="325"/>
                      </a:lnTo>
                      <a:lnTo>
                        <a:pt x="615" y="328"/>
                      </a:lnTo>
                      <a:lnTo>
                        <a:pt x="615" y="329"/>
                      </a:lnTo>
                      <a:lnTo>
                        <a:pt x="615" y="330"/>
                      </a:lnTo>
                      <a:lnTo>
                        <a:pt x="614" y="331"/>
                      </a:lnTo>
                      <a:lnTo>
                        <a:pt x="614" y="332"/>
                      </a:lnTo>
                      <a:lnTo>
                        <a:pt x="613" y="333"/>
                      </a:lnTo>
                      <a:lnTo>
                        <a:pt x="612" y="335"/>
                      </a:lnTo>
                      <a:lnTo>
                        <a:pt x="612" y="336"/>
                      </a:lnTo>
                      <a:lnTo>
                        <a:pt x="610" y="337"/>
                      </a:lnTo>
                      <a:lnTo>
                        <a:pt x="609" y="338"/>
                      </a:lnTo>
                      <a:lnTo>
                        <a:pt x="608" y="338"/>
                      </a:lnTo>
                      <a:lnTo>
                        <a:pt x="606" y="339"/>
                      </a:lnTo>
                      <a:lnTo>
                        <a:pt x="605" y="339"/>
                      </a:lnTo>
                      <a:lnTo>
                        <a:pt x="604" y="339"/>
                      </a:lnTo>
                      <a:lnTo>
                        <a:pt x="601" y="340"/>
                      </a:lnTo>
                      <a:lnTo>
                        <a:pt x="600" y="340"/>
                      </a:lnTo>
                      <a:lnTo>
                        <a:pt x="598" y="340"/>
                      </a:lnTo>
                      <a:lnTo>
                        <a:pt x="597" y="339"/>
                      </a:lnTo>
                      <a:lnTo>
                        <a:pt x="595" y="339"/>
                      </a:lnTo>
                      <a:lnTo>
                        <a:pt x="594" y="338"/>
                      </a:lnTo>
                      <a:lnTo>
                        <a:pt x="593" y="337"/>
                      </a:lnTo>
                      <a:lnTo>
                        <a:pt x="592" y="337"/>
                      </a:lnTo>
                      <a:lnTo>
                        <a:pt x="592" y="336"/>
                      </a:lnTo>
                      <a:lnTo>
                        <a:pt x="591" y="336"/>
                      </a:lnTo>
                      <a:lnTo>
                        <a:pt x="591" y="335"/>
                      </a:lnTo>
                      <a:lnTo>
                        <a:pt x="590" y="335"/>
                      </a:lnTo>
                      <a:lnTo>
                        <a:pt x="589" y="333"/>
                      </a:lnTo>
                      <a:lnTo>
                        <a:pt x="587" y="332"/>
                      </a:lnTo>
                      <a:lnTo>
                        <a:pt x="586" y="332"/>
                      </a:lnTo>
                      <a:lnTo>
                        <a:pt x="585" y="331"/>
                      </a:lnTo>
                      <a:lnTo>
                        <a:pt x="584" y="331"/>
                      </a:lnTo>
                      <a:lnTo>
                        <a:pt x="583" y="330"/>
                      </a:lnTo>
                      <a:lnTo>
                        <a:pt x="582" y="329"/>
                      </a:lnTo>
                      <a:lnTo>
                        <a:pt x="580" y="329"/>
                      </a:lnTo>
                      <a:lnTo>
                        <a:pt x="579" y="328"/>
                      </a:lnTo>
                      <a:lnTo>
                        <a:pt x="578" y="328"/>
                      </a:lnTo>
                      <a:lnTo>
                        <a:pt x="577" y="326"/>
                      </a:lnTo>
                      <a:lnTo>
                        <a:pt x="576" y="326"/>
                      </a:lnTo>
                      <a:lnTo>
                        <a:pt x="575" y="325"/>
                      </a:lnTo>
                      <a:lnTo>
                        <a:pt x="573" y="325"/>
                      </a:lnTo>
                      <a:lnTo>
                        <a:pt x="572" y="325"/>
                      </a:lnTo>
                      <a:lnTo>
                        <a:pt x="571" y="324"/>
                      </a:lnTo>
                      <a:lnTo>
                        <a:pt x="570" y="324"/>
                      </a:lnTo>
                      <a:lnTo>
                        <a:pt x="569" y="323"/>
                      </a:lnTo>
                      <a:lnTo>
                        <a:pt x="569" y="322"/>
                      </a:lnTo>
                      <a:lnTo>
                        <a:pt x="568" y="322"/>
                      </a:lnTo>
                      <a:lnTo>
                        <a:pt x="567" y="321"/>
                      </a:lnTo>
                      <a:lnTo>
                        <a:pt x="565" y="320"/>
                      </a:lnTo>
                      <a:lnTo>
                        <a:pt x="565" y="318"/>
                      </a:lnTo>
                      <a:lnTo>
                        <a:pt x="564" y="318"/>
                      </a:lnTo>
                      <a:lnTo>
                        <a:pt x="563" y="317"/>
                      </a:lnTo>
                      <a:lnTo>
                        <a:pt x="563" y="316"/>
                      </a:lnTo>
                      <a:lnTo>
                        <a:pt x="562" y="315"/>
                      </a:lnTo>
                      <a:lnTo>
                        <a:pt x="561" y="314"/>
                      </a:lnTo>
                      <a:lnTo>
                        <a:pt x="561" y="313"/>
                      </a:lnTo>
                      <a:lnTo>
                        <a:pt x="560" y="311"/>
                      </a:lnTo>
                      <a:lnTo>
                        <a:pt x="560" y="310"/>
                      </a:lnTo>
                      <a:lnTo>
                        <a:pt x="558" y="309"/>
                      </a:lnTo>
                      <a:lnTo>
                        <a:pt x="557" y="308"/>
                      </a:lnTo>
                      <a:lnTo>
                        <a:pt x="557" y="307"/>
                      </a:lnTo>
                      <a:lnTo>
                        <a:pt x="556" y="306"/>
                      </a:lnTo>
                      <a:lnTo>
                        <a:pt x="556" y="305"/>
                      </a:lnTo>
                      <a:lnTo>
                        <a:pt x="555" y="303"/>
                      </a:lnTo>
                      <a:lnTo>
                        <a:pt x="555" y="302"/>
                      </a:lnTo>
                      <a:lnTo>
                        <a:pt x="554" y="301"/>
                      </a:lnTo>
                      <a:lnTo>
                        <a:pt x="554" y="300"/>
                      </a:lnTo>
                      <a:lnTo>
                        <a:pt x="553" y="300"/>
                      </a:lnTo>
                      <a:lnTo>
                        <a:pt x="552" y="299"/>
                      </a:lnTo>
                      <a:lnTo>
                        <a:pt x="552" y="298"/>
                      </a:lnTo>
                      <a:lnTo>
                        <a:pt x="550" y="296"/>
                      </a:lnTo>
                      <a:lnTo>
                        <a:pt x="549" y="295"/>
                      </a:lnTo>
                      <a:lnTo>
                        <a:pt x="548" y="295"/>
                      </a:lnTo>
                      <a:lnTo>
                        <a:pt x="547" y="295"/>
                      </a:lnTo>
                      <a:lnTo>
                        <a:pt x="545" y="295"/>
                      </a:lnTo>
                      <a:lnTo>
                        <a:pt x="543" y="295"/>
                      </a:lnTo>
                      <a:lnTo>
                        <a:pt x="542" y="296"/>
                      </a:lnTo>
                      <a:lnTo>
                        <a:pt x="540" y="296"/>
                      </a:lnTo>
                      <a:lnTo>
                        <a:pt x="539" y="296"/>
                      </a:lnTo>
                      <a:lnTo>
                        <a:pt x="538" y="296"/>
                      </a:lnTo>
                      <a:lnTo>
                        <a:pt x="535" y="296"/>
                      </a:lnTo>
                      <a:lnTo>
                        <a:pt x="534" y="298"/>
                      </a:lnTo>
                      <a:lnTo>
                        <a:pt x="532" y="298"/>
                      </a:lnTo>
                      <a:lnTo>
                        <a:pt x="531" y="298"/>
                      </a:lnTo>
                      <a:lnTo>
                        <a:pt x="528" y="299"/>
                      </a:lnTo>
                      <a:lnTo>
                        <a:pt x="527" y="299"/>
                      </a:lnTo>
                      <a:lnTo>
                        <a:pt x="526" y="299"/>
                      </a:lnTo>
                      <a:lnTo>
                        <a:pt x="524" y="300"/>
                      </a:lnTo>
                      <a:lnTo>
                        <a:pt x="523" y="300"/>
                      </a:lnTo>
                      <a:lnTo>
                        <a:pt x="520" y="300"/>
                      </a:lnTo>
                      <a:lnTo>
                        <a:pt x="519" y="301"/>
                      </a:lnTo>
                      <a:lnTo>
                        <a:pt x="517" y="301"/>
                      </a:lnTo>
                      <a:lnTo>
                        <a:pt x="516" y="301"/>
                      </a:lnTo>
                      <a:lnTo>
                        <a:pt x="513" y="302"/>
                      </a:lnTo>
                      <a:lnTo>
                        <a:pt x="512" y="302"/>
                      </a:lnTo>
                      <a:lnTo>
                        <a:pt x="511" y="302"/>
                      </a:lnTo>
                      <a:lnTo>
                        <a:pt x="509" y="302"/>
                      </a:lnTo>
                      <a:lnTo>
                        <a:pt x="508" y="303"/>
                      </a:lnTo>
                      <a:lnTo>
                        <a:pt x="506" y="303"/>
                      </a:lnTo>
                      <a:lnTo>
                        <a:pt x="504" y="303"/>
                      </a:lnTo>
                      <a:lnTo>
                        <a:pt x="503" y="303"/>
                      </a:lnTo>
                      <a:lnTo>
                        <a:pt x="502" y="303"/>
                      </a:lnTo>
                      <a:lnTo>
                        <a:pt x="500" y="303"/>
                      </a:lnTo>
                      <a:lnTo>
                        <a:pt x="498" y="303"/>
                      </a:lnTo>
                      <a:lnTo>
                        <a:pt x="497" y="303"/>
                      </a:lnTo>
                      <a:lnTo>
                        <a:pt x="496" y="303"/>
                      </a:lnTo>
                      <a:lnTo>
                        <a:pt x="494" y="303"/>
                      </a:lnTo>
                      <a:lnTo>
                        <a:pt x="493" y="303"/>
                      </a:lnTo>
                      <a:lnTo>
                        <a:pt x="491" y="303"/>
                      </a:lnTo>
                      <a:lnTo>
                        <a:pt x="490" y="305"/>
                      </a:lnTo>
                      <a:lnTo>
                        <a:pt x="489" y="305"/>
                      </a:lnTo>
                      <a:lnTo>
                        <a:pt x="488" y="305"/>
                      </a:lnTo>
                      <a:lnTo>
                        <a:pt x="487" y="306"/>
                      </a:lnTo>
                      <a:lnTo>
                        <a:pt x="486" y="306"/>
                      </a:lnTo>
                      <a:lnTo>
                        <a:pt x="485" y="306"/>
                      </a:lnTo>
                      <a:lnTo>
                        <a:pt x="483" y="307"/>
                      </a:lnTo>
                      <a:lnTo>
                        <a:pt x="482" y="307"/>
                      </a:lnTo>
                      <a:lnTo>
                        <a:pt x="481" y="307"/>
                      </a:lnTo>
                      <a:lnTo>
                        <a:pt x="480" y="308"/>
                      </a:lnTo>
                      <a:lnTo>
                        <a:pt x="479" y="308"/>
                      </a:lnTo>
                      <a:lnTo>
                        <a:pt x="478" y="309"/>
                      </a:lnTo>
                      <a:lnTo>
                        <a:pt x="476" y="309"/>
                      </a:lnTo>
                      <a:lnTo>
                        <a:pt x="475" y="310"/>
                      </a:lnTo>
                      <a:lnTo>
                        <a:pt x="474" y="310"/>
                      </a:lnTo>
                      <a:lnTo>
                        <a:pt x="473" y="310"/>
                      </a:lnTo>
                      <a:lnTo>
                        <a:pt x="472" y="311"/>
                      </a:lnTo>
                      <a:lnTo>
                        <a:pt x="471" y="311"/>
                      </a:lnTo>
                      <a:lnTo>
                        <a:pt x="469" y="313"/>
                      </a:lnTo>
                      <a:lnTo>
                        <a:pt x="468" y="313"/>
                      </a:lnTo>
                      <a:lnTo>
                        <a:pt x="467" y="314"/>
                      </a:lnTo>
                      <a:lnTo>
                        <a:pt x="466" y="314"/>
                      </a:lnTo>
                      <a:lnTo>
                        <a:pt x="465" y="314"/>
                      </a:lnTo>
                      <a:lnTo>
                        <a:pt x="464" y="315"/>
                      </a:lnTo>
                      <a:lnTo>
                        <a:pt x="461" y="315"/>
                      </a:lnTo>
                      <a:lnTo>
                        <a:pt x="460" y="315"/>
                      </a:lnTo>
                      <a:lnTo>
                        <a:pt x="459" y="315"/>
                      </a:lnTo>
                      <a:lnTo>
                        <a:pt x="460" y="314"/>
                      </a:lnTo>
                      <a:lnTo>
                        <a:pt x="463" y="313"/>
                      </a:lnTo>
                      <a:lnTo>
                        <a:pt x="464" y="311"/>
                      </a:lnTo>
                      <a:lnTo>
                        <a:pt x="466" y="310"/>
                      </a:lnTo>
                      <a:lnTo>
                        <a:pt x="467" y="309"/>
                      </a:lnTo>
                      <a:lnTo>
                        <a:pt x="468" y="307"/>
                      </a:lnTo>
                      <a:lnTo>
                        <a:pt x="471" y="306"/>
                      </a:lnTo>
                      <a:lnTo>
                        <a:pt x="472" y="305"/>
                      </a:lnTo>
                      <a:lnTo>
                        <a:pt x="473" y="303"/>
                      </a:lnTo>
                      <a:lnTo>
                        <a:pt x="475" y="302"/>
                      </a:lnTo>
                      <a:lnTo>
                        <a:pt x="476" y="300"/>
                      </a:lnTo>
                      <a:lnTo>
                        <a:pt x="478" y="299"/>
                      </a:lnTo>
                      <a:lnTo>
                        <a:pt x="480" y="298"/>
                      </a:lnTo>
                      <a:lnTo>
                        <a:pt x="481" y="296"/>
                      </a:lnTo>
                      <a:lnTo>
                        <a:pt x="483" y="295"/>
                      </a:lnTo>
                      <a:lnTo>
                        <a:pt x="485" y="293"/>
                      </a:lnTo>
                      <a:lnTo>
                        <a:pt x="487" y="292"/>
                      </a:lnTo>
                      <a:lnTo>
                        <a:pt x="488" y="291"/>
                      </a:lnTo>
                      <a:lnTo>
                        <a:pt x="490" y="289"/>
                      </a:lnTo>
                      <a:lnTo>
                        <a:pt x="491" y="288"/>
                      </a:lnTo>
                      <a:lnTo>
                        <a:pt x="494" y="287"/>
                      </a:lnTo>
                      <a:lnTo>
                        <a:pt x="495" y="285"/>
                      </a:lnTo>
                      <a:lnTo>
                        <a:pt x="497" y="284"/>
                      </a:lnTo>
                      <a:lnTo>
                        <a:pt x="500" y="283"/>
                      </a:lnTo>
                      <a:lnTo>
                        <a:pt x="502" y="281"/>
                      </a:lnTo>
                      <a:lnTo>
                        <a:pt x="504" y="280"/>
                      </a:lnTo>
                      <a:lnTo>
                        <a:pt x="506" y="279"/>
                      </a:lnTo>
                      <a:lnTo>
                        <a:pt x="509" y="278"/>
                      </a:lnTo>
                      <a:lnTo>
                        <a:pt x="511" y="277"/>
                      </a:lnTo>
                      <a:lnTo>
                        <a:pt x="513" y="277"/>
                      </a:lnTo>
                      <a:lnTo>
                        <a:pt x="516" y="276"/>
                      </a:lnTo>
                      <a:lnTo>
                        <a:pt x="519" y="274"/>
                      </a:lnTo>
                      <a:lnTo>
                        <a:pt x="516" y="274"/>
                      </a:lnTo>
                      <a:lnTo>
                        <a:pt x="512" y="274"/>
                      </a:lnTo>
                      <a:lnTo>
                        <a:pt x="510" y="276"/>
                      </a:lnTo>
                      <a:lnTo>
                        <a:pt x="506" y="276"/>
                      </a:lnTo>
                      <a:lnTo>
                        <a:pt x="503" y="277"/>
                      </a:lnTo>
                      <a:lnTo>
                        <a:pt x="500" y="277"/>
                      </a:lnTo>
                      <a:lnTo>
                        <a:pt x="496" y="278"/>
                      </a:lnTo>
                      <a:lnTo>
                        <a:pt x="493" y="279"/>
                      </a:lnTo>
                      <a:lnTo>
                        <a:pt x="489" y="279"/>
                      </a:lnTo>
                      <a:lnTo>
                        <a:pt x="485" y="280"/>
                      </a:lnTo>
                      <a:lnTo>
                        <a:pt x="481" y="281"/>
                      </a:lnTo>
                      <a:lnTo>
                        <a:pt x="478" y="283"/>
                      </a:lnTo>
                      <a:lnTo>
                        <a:pt x="474" y="284"/>
                      </a:lnTo>
                      <a:lnTo>
                        <a:pt x="471" y="285"/>
                      </a:lnTo>
                      <a:lnTo>
                        <a:pt x="466" y="286"/>
                      </a:lnTo>
                      <a:lnTo>
                        <a:pt x="463" y="287"/>
                      </a:lnTo>
                      <a:lnTo>
                        <a:pt x="459" y="287"/>
                      </a:lnTo>
                      <a:lnTo>
                        <a:pt x="454" y="288"/>
                      </a:lnTo>
                      <a:lnTo>
                        <a:pt x="451" y="289"/>
                      </a:lnTo>
                      <a:lnTo>
                        <a:pt x="448" y="291"/>
                      </a:lnTo>
                      <a:lnTo>
                        <a:pt x="443" y="292"/>
                      </a:lnTo>
                      <a:lnTo>
                        <a:pt x="439" y="293"/>
                      </a:lnTo>
                      <a:lnTo>
                        <a:pt x="436" y="294"/>
                      </a:lnTo>
                      <a:lnTo>
                        <a:pt x="431" y="295"/>
                      </a:lnTo>
                      <a:lnTo>
                        <a:pt x="428" y="296"/>
                      </a:lnTo>
                      <a:lnTo>
                        <a:pt x="424" y="298"/>
                      </a:lnTo>
                      <a:lnTo>
                        <a:pt x="420" y="298"/>
                      </a:lnTo>
                      <a:lnTo>
                        <a:pt x="416" y="299"/>
                      </a:lnTo>
                      <a:lnTo>
                        <a:pt x="413" y="300"/>
                      </a:lnTo>
                      <a:lnTo>
                        <a:pt x="408" y="300"/>
                      </a:lnTo>
                      <a:lnTo>
                        <a:pt x="405" y="301"/>
                      </a:lnTo>
                      <a:lnTo>
                        <a:pt x="401" y="301"/>
                      </a:lnTo>
                      <a:lnTo>
                        <a:pt x="400" y="301"/>
                      </a:lnTo>
                      <a:lnTo>
                        <a:pt x="399" y="300"/>
                      </a:lnTo>
                      <a:lnTo>
                        <a:pt x="398" y="300"/>
                      </a:lnTo>
                      <a:lnTo>
                        <a:pt x="398" y="299"/>
                      </a:lnTo>
                      <a:lnTo>
                        <a:pt x="397" y="299"/>
                      </a:lnTo>
                      <a:lnTo>
                        <a:pt x="397" y="298"/>
                      </a:lnTo>
                      <a:lnTo>
                        <a:pt x="396" y="298"/>
                      </a:lnTo>
                      <a:lnTo>
                        <a:pt x="396" y="296"/>
                      </a:lnTo>
                      <a:lnTo>
                        <a:pt x="394" y="296"/>
                      </a:lnTo>
                      <a:lnTo>
                        <a:pt x="394" y="295"/>
                      </a:lnTo>
                      <a:lnTo>
                        <a:pt x="393" y="295"/>
                      </a:lnTo>
                      <a:lnTo>
                        <a:pt x="393" y="294"/>
                      </a:lnTo>
                      <a:lnTo>
                        <a:pt x="393" y="293"/>
                      </a:lnTo>
                      <a:lnTo>
                        <a:pt x="392" y="292"/>
                      </a:lnTo>
                      <a:lnTo>
                        <a:pt x="392" y="291"/>
                      </a:lnTo>
                      <a:lnTo>
                        <a:pt x="392" y="289"/>
                      </a:lnTo>
                      <a:lnTo>
                        <a:pt x="391" y="289"/>
                      </a:lnTo>
                      <a:lnTo>
                        <a:pt x="391" y="288"/>
                      </a:lnTo>
                      <a:lnTo>
                        <a:pt x="391" y="287"/>
                      </a:lnTo>
                      <a:lnTo>
                        <a:pt x="391" y="286"/>
                      </a:lnTo>
                      <a:lnTo>
                        <a:pt x="390" y="286"/>
                      </a:lnTo>
                      <a:lnTo>
                        <a:pt x="390" y="285"/>
                      </a:lnTo>
                      <a:lnTo>
                        <a:pt x="390" y="284"/>
                      </a:lnTo>
                      <a:lnTo>
                        <a:pt x="389" y="283"/>
                      </a:lnTo>
                      <a:lnTo>
                        <a:pt x="389" y="281"/>
                      </a:lnTo>
                      <a:lnTo>
                        <a:pt x="387" y="281"/>
                      </a:lnTo>
                      <a:lnTo>
                        <a:pt x="390" y="276"/>
                      </a:lnTo>
                      <a:lnTo>
                        <a:pt x="392" y="271"/>
                      </a:lnTo>
                      <a:lnTo>
                        <a:pt x="394" y="266"/>
                      </a:lnTo>
                      <a:lnTo>
                        <a:pt x="397" y="262"/>
                      </a:lnTo>
                      <a:lnTo>
                        <a:pt x="398" y="257"/>
                      </a:lnTo>
                      <a:lnTo>
                        <a:pt x="400" y="253"/>
                      </a:lnTo>
                      <a:lnTo>
                        <a:pt x="402" y="248"/>
                      </a:lnTo>
                      <a:lnTo>
                        <a:pt x="404" y="243"/>
                      </a:lnTo>
                      <a:lnTo>
                        <a:pt x="406" y="239"/>
                      </a:lnTo>
                      <a:lnTo>
                        <a:pt x="407" y="234"/>
                      </a:lnTo>
                      <a:lnTo>
                        <a:pt x="409" y="229"/>
                      </a:lnTo>
                      <a:lnTo>
                        <a:pt x="411" y="225"/>
                      </a:lnTo>
                      <a:lnTo>
                        <a:pt x="412" y="220"/>
                      </a:lnTo>
                      <a:lnTo>
                        <a:pt x="413" y="214"/>
                      </a:lnTo>
                      <a:lnTo>
                        <a:pt x="414" y="210"/>
                      </a:lnTo>
                      <a:lnTo>
                        <a:pt x="415" y="205"/>
                      </a:lnTo>
                      <a:lnTo>
                        <a:pt x="416" y="199"/>
                      </a:lnTo>
                      <a:lnTo>
                        <a:pt x="417" y="195"/>
                      </a:lnTo>
                      <a:lnTo>
                        <a:pt x="417" y="189"/>
                      </a:lnTo>
                      <a:lnTo>
                        <a:pt x="419" y="183"/>
                      </a:lnTo>
                      <a:lnTo>
                        <a:pt x="419" y="179"/>
                      </a:lnTo>
                      <a:lnTo>
                        <a:pt x="420" y="173"/>
                      </a:lnTo>
                      <a:lnTo>
                        <a:pt x="420" y="167"/>
                      </a:lnTo>
                      <a:lnTo>
                        <a:pt x="420" y="161"/>
                      </a:lnTo>
                      <a:lnTo>
                        <a:pt x="420" y="155"/>
                      </a:lnTo>
                      <a:lnTo>
                        <a:pt x="420" y="150"/>
                      </a:lnTo>
                      <a:lnTo>
                        <a:pt x="419" y="143"/>
                      </a:lnTo>
                      <a:lnTo>
                        <a:pt x="419" y="137"/>
                      </a:lnTo>
                      <a:lnTo>
                        <a:pt x="417" y="130"/>
                      </a:lnTo>
                      <a:lnTo>
                        <a:pt x="417" y="124"/>
                      </a:lnTo>
                      <a:lnTo>
                        <a:pt x="416" y="117"/>
                      </a:lnTo>
                      <a:lnTo>
                        <a:pt x="415" y="110"/>
                      </a:lnTo>
                      <a:lnTo>
                        <a:pt x="415" y="119"/>
                      </a:lnTo>
                      <a:lnTo>
                        <a:pt x="416" y="127"/>
                      </a:lnTo>
                      <a:lnTo>
                        <a:pt x="416" y="135"/>
                      </a:lnTo>
                      <a:lnTo>
                        <a:pt x="416" y="143"/>
                      </a:lnTo>
                      <a:lnTo>
                        <a:pt x="416" y="150"/>
                      </a:lnTo>
                      <a:lnTo>
                        <a:pt x="416" y="158"/>
                      </a:lnTo>
                      <a:lnTo>
                        <a:pt x="415" y="165"/>
                      </a:lnTo>
                      <a:lnTo>
                        <a:pt x="415" y="171"/>
                      </a:lnTo>
                      <a:lnTo>
                        <a:pt x="414" y="177"/>
                      </a:lnTo>
                      <a:lnTo>
                        <a:pt x="414" y="183"/>
                      </a:lnTo>
                      <a:lnTo>
                        <a:pt x="413" y="190"/>
                      </a:lnTo>
                      <a:lnTo>
                        <a:pt x="412" y="195"/>
                      </a:lnTo>
                      <a:lnTo>
                        <a:pt x="411" y="201"/>
                      </a:lnTo>
                      <a:lnTo>
                        <a:pt x="409" y="206"/>
                      </a:lnTo>
                      <a:lnTo>
                        <a:pt x="408" y="211"/>
                      </a:lnTo>
                      <a:lnTo>
                        <a:pt x="407" y="216"/>
                      </a:lnTo>
                      <a:lnTo>
                        <a:pt x="406" y="220"/>
                      </a:lnTo>
                      <a:lnTo>
                        <a:pt x="404" y="224"/>
                      </a:lnTo>
                      <a:lnTo>
                        <a:pt x="402" y="228"/>
                      </a:lnTo>
                      <a:lnTo>
                        <a:pt x="401" y="232"/>
                      </a:lnTo>
                      <a:lnTo>
                        <a:pt x="399" y="234"/>
                      </a:lnTo>
                      <a:lnTo>
                        <a:pt x="398" y="238"/>
                      </a:lnTo>
                      <a:lnTo>
                        <a:pt x="396" y="240"/>
                      </a:lnTo>
                      <a:lnTo>
                        <a:pt x="394" y="243"/>
                      </a:lnTo>
                      <a:lnTo>
                        <a:pt x="392" y="246"/>
                      </a:lnTo>
                      <a:lnTo>
                        <a:pt x="391" y="247"/>
                      </a:lnTo>
                      <a:lnTo>
                        <a:pt x="389" y="249"/>
                      </a:lnTo>
                      <a:lnTo>
                        <a:pt x="386" y="250"/>
                      </a:lnTo>
                      <a:lnTo>
                        <a:pt x="385" y="251"/>
                      </a:lnTo>
                      <a:lnTo>
                        <a:pt x="383" y="253"/>
                      </a:lnTo>
                      <a:lnTo>
                        <a:pt x="381" y="253"/>
                      </a:lnTo>
                      <a:lnTo>
                        <a:pt x="379" y="254"/>
                      </a:lnTo>
                      <a:lnTo>
                        <a:pt x="378" y="253"/>
                      </a:lnTo>
                      <a:lnTo>
                        <a:pt x="378" y="251"/>
                      </a:lnTo>
                      <a:lnTo>
                        <a:pt x="378" y="250"/>
                      </a:lnTo>
                      <a:lnTo>
                        <a:pt x="377" y="249"/>
                      </a:lnTo>
                      <a:lnTo>
                        <a:pt x="377" y="248"/>
                      </a:lnTo>
                      <a:lnTo>
                        <a:pt x="377" y="247"/>
                      </a:lnTo>
                      <a:lnTo>
                        <a:pt x="377" y="246"/>
                      </a:lnTo>
                      <a:lnTo>
                        <a:pt x="376" y="244"/>
                      </a:lnTo>
                      <a:lnTo>
                        <a:pt x="376" y="243"/>
                      </a:lnTo>
                      <a:lnTo>
                        <a:pt x="376" y="242"/>
                      </a:lnTo>
                      <a:lnTo>
                        <a:pt x="376" y="241"/>
                      </a:lnTo>
                      <a:lnTo>
                        <a:pt x="376" y="240"/>
                      </a:lnTo>
                      <a:lnTo>
                        <a:pt x="375" y="239"/>
                      </a:lnTo>
                      <a:lnTo>
                        <a:pt x="375" y="238"/>
                      </a:lnTo>
                      <a:lnTo>
                        <a:pt x="375" y="236"/>
                      </a:lnTo>
                      <a:lnTo>
                        <a:pt x="375" y="235"/>
                      </a:lnTo>
                      <a:lnTo>
                        <a:pt x="375" y="234"/>
                      </a:lnTo>
                      <a:lnTo>
                        <a:pt x="375" y="233"/>
                      </a:lnTo>
                      <a:lnTo>
                        <a:pt x="375" y="232"/>
                      </a:lnTo>
                      <a:lnTo>
                        <a:pt x="375" y="231"/>
                      </a:lnTo>
                      <a:lnTo>
                        <a:pt x="375" y="229"/>
                      </a:lnTo>
                      <a:lnTo>
                        <a:pt x="376" y="228"/>
                      </a:lnTo>
                      <a:lnTo>
                        <a:pt x="376" y="227"/>
                      </a:lnTo>
                      <a:lnTo>
                        <a:pt x="376" y="226"/>
                      </a:lnTo>
                      <a:lnTo>
                        <a:pt x="376" y="225"/>
                      </a:lnTo>
                      <a:lnTo>
                        <a:pt x="376" y="224"/>
                      </a:lnTo>
                      <a:lnTo>
                        <a:pt x="377" y="222"/>
                      </a:lnTo>
                      <a:lnTo>
                        <a:pt x="377" y="221"/>
                      </a:lnTo>
                      <a:lnTo>
                        <a:pt x="377" y="219"/>
                      </a:lnTo>
                      <a:lnTo>
                        <a:pt x="378" y="217"/>
                      </a:lnTo>
                      <a:lnTo>
                        <a:pt x="379" y="214"/>
                      </a:lnTo>
                      <a:lnTo>
                        <a:pt x="381" y="212"/>
                      </a:lnTo>
                      <a:lnTo>
                        <a:pt x="382" y="209"/>
                      </a:lnTo>
                      <a:lnTo>
                        <a:pt x="382" y="206"/>
                      </a:lnTo>
                      <a:lnTo>
                        <a:pt x="383" y="203"/>
                      </a:lnTo>
                      <a:lnTo>
                        <a:pt x="384" y="199"/>
                      </a:lnTo>
                      <a:lnTo>
                        <a:pt x="385" y="197"/>
                      </a:lnTo>
                      <a:lnTo>
                        <a:pt x="386" y="194"/>
                      </a:lnTo>
                      <a:lnTo>
                        <a:pt x="387" y="190"/>
                      </a:lnTo>
                      <a:lnTo>
                        <a:pt x="387" y="187"/>
                      </a:lnTo>
                      <a:lnTo>
                        <a:pt x="389" y="183"/>
                      </a:lnTo>
                      <a:lnTo>
                        <a:pt x="390" y="180"/>
                      </a:lnTo>
                      <a:lnTo>
                        <a:pt x="390" y="176"/>
                      </a:lnTo>
                      <a:lnTo>
                        <a:pt x="391" y="173"/>
                      </a:lnTo>
                      <a:lnTo>
                        <a:pt x="391" y="169"/>
                      </a:lnTo>
                      <a:lnTo>
                        <a:pt x="392" y="166"/>
                      </a:lnTo>
                      <a:lnTo>
                        <a:pt x="392" y="162"/>
                      </a:lnTo>
                      <a:lnTo>
                        <a:pt x="392" y="158"/>
                      </a:lnTo>
                      <a:lnTo>
                        <a:pt x="393" y="154"/>
                      </a:lnTo>
                      <a:lnTo>
                        <a:pt x="393" y="151"/>
                      </a:lnTo>
                      <a:lnTo>
                        <a:pt x="393" y="147"/>
                      </a:lnTo>
                      <a:lnTo>
                        <a:pt x="393" y="143"/>
                      </a:lnTo>
                      <a:lnTo>
                        <a:pt x="393" y="139"/>
                      </a:lnTo>
                      <a:lnTo>
                        <a:pt x="393" y="136"/>
                      </a:lnTo>
                      <a:lnTo>
                        <a:pt x="393" y="132"/>
                      </a:lnTo>
                      <a:lnTo>
                        <a:pt x="392" y="128"/>
                      </a:lnTo>
                      <a:lnTo>
                        <a:pt x="392" y="124"/>
                      </a:lnTo>
                      <a:lnTo>
                        <a:pt x="391" y="121"/>
                      </a:lnTo>
                      <a:lnTo>
                        <a:pt x="390" y="117"/>
                      </a:lnTo>
                      <a:lnTo>
                        <a:pt x="390" y="114"/>
                      </a:lnTo>
                      <a:lnTo>
                        <a:pt x="389" y="110"/>
                      </a:lnTo>
                      <a:lnTo>
                        <a:pt x="389" y="114"/>
                      </a:lnTo>
                      <a:lnTo>
                        <a:pt x="389" y="119"/>
                      </a:lnTo>
                      <a:lnTo>
                        <a:pt x="390" y="123"/>
                      </a:lnTo>
                      <a:lnTo>
                        <a:pt x="390" y="127"/>
                      </a:lnTo>
                      <a:lnTo>
                        <a:pt x="390" y="131"/>
                      </a:lnTo>
                      <a:lnTo>
                        <a:pt x="390" y="135"/>
                      </a:lnTo>
                      <a:lnTo>
                        <a:pt x="390" y="138"/>
                      </a:lnTo>
                      <a:lnTo>
                        <a:pt x="390" y="142"/>
                      </a:lnTo>
                      <a:lnTo>
                        <a:pt x="390" y="146"/>
                      </a:lnTo>
                      <a:lnTo>
                        <a:pt x="390" y="150"/>
                      </a:lnTo>
                      <a:lnTo>
                        <a:pt x="390" y="152"/>
                      </a:lnTo>
                      <a:lnTo>
                        <a:pt x="390" y="155"/>
                      </a:lnTo>
                      <a:lnTo>
                        <a:pt x="389" y="159"/>
                      </a:lnTo>
                      <a:lnTo>
                        <a:pt x="389" y="162"/>
                      </a:lnTo>
                      <a:lnTo>
                        <a:pt x="389" y="165"/>
                      </a:lnTo>
                      <a:lnTo>
                        <a:pt x="387" y="168"/>
                      </a:lnTo>
                      <a:lnTo>
                        <a:pt x="387" y="172"/>
                      </a:lnTo>
                      <a:lnTo>
                        <a:pt x="386" y="174"/>
                      </a:lnTo>
                      <a:lnTo>
                        <a:pt x="386" y="177"/>
                      </a:lnTo>
                      <a:lnTo>
                        <a:pt x="385" y="180"/>
                      </a:lnTo>
                      <a:lnTo>
                        <a:pt x="385" y="183"/>
                      </a:lnTo>
                      <a:lnTo>
                        <a:pt x="384" y="186"/>
                      </a:lnTo>
                      <a:lnTo>
                        <a:pt x="384" y="189"/>
                      </a:lnTo>
                      <a:lnTo>
                        <a:pt x="383" y="191"/>
                      </a:lnTo>
                      <a:lnTo>
                        <a:pt x="382" y="194"/>
                      </a:lnTo>
                      <a:lnTo>
                        <a:pt x="381" y="197"/>
                      </a:lnTo>
                      <a:lnTo>
                        <a:pt x="381" y="199"/>
                      </a:lnTo>
                      <a:lnTo>
                        <a:pt x="379" y="203"/>
                      </a:lnTo>
                      <a:lnTo>
                        <a:pt x="378" y="205"/>
                      </a:lnTo>
                      <a:lnTo>
                        <a:pt x="378" y="209"/>
                      </a:lnTo>
                      <a:lnTo>
                        <a:pt x="377" y="211"/>
                      </a:lnTo>
                      <a:lnTo>
                        <a:pt x="376" y="214"/>
                      </a:lnTo>
                      <a:lnTo>
                        <a:pt x="376" y="212"/>
                      </a:lnTo>
                      <a:lnTo>
                        <a:pt x="376" y="210"/>
                      </a:lnTo>
                      <a:lnTo>
                        <a:pt x="376" y="207"/>
                      </a:lnTo>
                      <a:lnTo>
                        <a:pt x="375" y="205"/>
                      </a:lnTo>
                      <a:lnTo>
                        <a:pt x="375" y="204"/>
                      </a:lnTo>
                      <a:lnTo>
                        <a:pt x="375" y="202"/>
                      </a:lnTo>
                      <a:lnTo>
                        <a:pt x="374" y="199"/>
                      </a:lnTo>
                      <a:lnTo>
                        <a:pt x="374" y="197"/>
                      </a:lnTo>
                      <a:lnTo>
                        <a:pt x="374" y="196"/>
                      </a:lnTo>
                      <a:lnTo>
                        <a:pt x="372" y="194"/>
                      </a:lnTo>
                      <a:lnTo>
                        <a:pt x="372" y="192"/>
                      </a:lnTo>
                      <a:lnTo>
                        <a:pt x="372" y="190"/>
                      </a:lnTo>
                      <a:lnTo>
                        <a:pt x="371" y="189"/>
                      </a:lnTo>
                      <a:lnTo>
                        <a:pt x="371" y="187"/>
                      </a:lnTo>
                      <a:lnTo>
                        <a:pt x="370" y="186"/>
                      </a:lnTo>
                      <a:lnTo>
                        <a:pt x="370" y="183"/>
                      </a:lnTo>
                      <a:lnTo>
                        <a:pt x="370" y="182"/>
                      </a:lnTo>
                      <a:lnTo>
                        <a:pt x="369" y="180"/>
                      </a:lnTo>
                      <a:lnTo>
                        <a:pt x="369" y="179"/>
                      </a:lnTo>
                      <a:lnTo>
                        <a:pt x="369" y="176"/>
                      </a:lnTo>
                      <a:lnTo>
                        <a:pt x="368" y="175"/>
                      </a:lnTo>
                      <a:lnTo>
                        <a:pt x="368" y="173"/>
                      </a:lnTo>
                      <a:lnTo>
                        <a:pt x="368" y="171"/>
                      </a:lnTo>
                      <a:lnTo>
                        <a:pt x="367" y="169"/>
                      </a:lnTo>
                      <a:lnTo>
                        <a:pt x="367" y="167"/>
                      </a:lnTo>
                      <a:lnTo>
                        <a:pt x="367" y="165"/>
                      </a:lnTo>
                      <a:lnTo>
                        <a:pt x="367" y="162"/>
                      </a:lnTo>
                      <a:lnTo>
                        <a:pt x="367" y="161"/>
                      </a:lnTo>
                      <a:lnTo>
                        <a:pt x="366" y="159"/>
                      </a:lnTo>
                      <a:lnTo>
                        <a:pt x="366" y="157"/>
                      </a:lnTo>
                      <a:lnTo>
                        <a:pt x="366" y="153"/>
                      </a:lnTo>
                      <a:lnTo>
                        <a:pt x="366" y="151"/>
                      </a:lnTo>
                      <a:lnTo>
                        <a:pt x="367" y="151"/>
                      </a:lnTo>
                      <a:lnTo>
                        <a:pt x="367" y="152"/>
                      </a:lnTo>
                      <a:lnTo>
                        <a:pt x="368" y="152"/>
                      </a:lnTo>
                      <a:lnTo>
                        <a:pt x="369" y="153"/>
                      </a:lnTo>
                      <a:lnTo>
                        <a:pt x="370" y="153"/>
                      </a:lnTo>
                      <a:lnTo>
                        <a:pt x="371" y="154"/>
                      </a:lnTo>
                      <a:lnTo>
                        <a:pt x="372" y="155"/>
                      </a:lnTo>
                      <a:lnTo>
                        <a:pt x="374" y="155"/>
                      </a:lnTo>
                      <a:lnTo>
                        <a:pt x="375" y="155"/>
                      </a:lnTo>
                      <a:lnTo>
                        <a:pt x="376" y="157"/>
                      </a:lnTo>
                      <a:lnTo>
                        <a:pt x="377" y="158"/>
                      </a:lnTo>
                      <a:lnTo>
                        <a:pt x="378" y="158"/>
                      </a:lnTo>
                      <a:lnTo>
                        <a:pt x="379" y="159"/>
                      </a:lnTo>
                      <a:lnTo>
                        <a:pt x="381" y="159"/>
                      </a:lnTo>
                      <a:lnTo>
                        <a:pt x="381" y="160"/>
                      </a:lnTo>
                      <a:lnTo>
                        <a:pt x="382" y="160"/>
                      </a:lnTo>
                      <a:lnTo>
                        <a:pt x="383" y="160"/>
                      </a:lnTo>
                      <a:lnTo>
                        <a:pt x="383" y="161"/>
                      </a:lnTo>
                      <a:lnTo>
                        <a:pt x="383" y="160"/>
                      </a:lnTo>
                      <a:lnTo>
                        <a:pt x="382" y="160"/>
                      </a:lnTo>
                      <a:lnTo>
                        <a:pt x="382" y="159"/>
                      </a:lnTo>
                      <a:lnTo>
                        <a:pt x="381" y="159"/>
                      </a:lnTo>
                      <a:lnTo>
                        <a:pt x="379" y="158"/>
                      </a:lnTo>
                      <a:lnTo>
                        <a:pt x="378" y="157"/>
                      </a:lnTo>
                      <a:lnTo>
                        <a:pt x="378" y="155"/>
                      </a:lnTo>
                      <a:lnTo>
                        <a:pt x="377" y="155"/>
                      </a:lnTo>
                      <a:lnTo>
                        <a:pt x="377" y="154"/>
                      </a:lnTo>
                      <a:lnTo>
                        <a:pt x="376" y="154"/>
                      </a:lnTo>
                      <a:lnTo>
                        <a:pt x="376" y="153"/>
                      </a:lnTo>
                      <a:lnTo>
                        <a:pt x="375" y="152"/>
                      </a:lnTo>
                      <a:lnTo>
                        <a:pt x="375" y="151"/>
                      </a:lnTo>
                      <a:lnTo>
                        <a:pt x="374" y="151"/>
                      </a:lnTo>
                      <a:lnTo>
                        <a:pt x="374" y="150"/>
                      </a:lnTo>
                      <a:lnTo>
                        <a:pt x="372" y="150"/>
                      </a:lnTo>
                      <a:lnTo>
                        <a:pt x="372" y="149"/>
                      </a:lnTo>
                      <a:lnTo>
                        <a:pt x="371" y="149"/>
                      </a:lnTo>
                      <a:lnTo>
                        <a:pt x="370" y="147"/>
                      </a:lnTo>
                      <a:lnTo>
                        <a:pt x="369" y="146"/>
                      </a:lnTo>
                      <a:lnTo>
                        <a:pt x="368" y="146"/>
                      </a:lnTo>
                      <a:lnTo>
                        <a:pt x="367" y="145"/>
                      </a:lnTo>
                      <a:lnTo>
                        <a:pt x="366" y="145"/>
                      </a:lnTo>
                      <a:lnTo>
                        <a:pt x="367" y="145"/>
                      </a:lnTo>
                      <a:lnTo>
                        <a:pt x="368" y="145"/>
                      </a:lnTo>
                      <a:lnTo>
                        <a:pt x="368" y="144"/>
                      </a:lnTo>
                      <a:lnTo>
                        <a:pt x="369" y="144"/>
                      </a:lnTo>
                      <a:lnTo>
                        <a:pt x="369" y="145"/>
                      </a:lnTo>
                      <a:lnTo>
                        <a:pt x="370" y="145"/>
                      </a:lnTo>
                      <a:lnTo>
                        <a:pt x="371" y="145"/>
                      </a:lnTo>
                      <a:lnTo>
                        <a:pt x="372" y="145"/>
                      </a:lnTo>
                      <a:lnTo>
                        <a:pt x="374" y="145"/>
                      </a:lnTo>
                      <a:lnTo>
                        <a:pt x="375" y="145"/>
                      </a:lnTo>
                      <a:lnTo>
                        <a:pt x="376" y="145"/>
                      </a:lnTo>
                      <a:lnTo>
                        <a:pt x="377" y="145"/>
                      </a:lnTo>
                      <a:lnTo>
                        <a:pt x="377" y="144"/>
                      </a:lnTo>
                      <a:lnTo>
                        <a:pt x="378" y="144"/>
                      </a:lnTo>
                      <a:lnTo>
                        <a:pt x="379" y="144"/>
                      </a:lnTo>
                      <a:lnTo>
                        <a:pt x="379" y="143"/>
                      </a:lnTo>
                      <a:lnTo>
                        <a:pt x="379" y="142"/>
                      </a:lnTo>
                      <a:lnTo>
                        <a:pt x="379" y="140"/>
                      </a:lnTo>
                      <a:lnTo>
                        <a:pt x="379" y="139"/>
                      </a:lnTo>
                      <a:lnTo>
                        <a:pt x="379" y="138"/>
                      </a:lnTo>
                      <a:lnTo>
                        <a:pt x="379" y="137"/>
                      </a:lnTo>
                      <a:lnTo>
                        <a:pt x="379" y="136"/>
                      </a:lnTo>
                      <a:lnTo>
                        <a:pt x="379" y="135"/>
                      </a:lnTo>
                      <a:lnTo>
                        <a:pt x="379" y="134"/>
                      </a:lnTo>
                      <a:lnTo>
                        <a:pt x="379" y="132"/>
                      </a:lnTo>
                      <a:lnTo>
                        <a:pt x="379" y="131"/>
                      </a:lnTo>
                      <a:lnTo>
                        <a:pt x="379" y="130"/>
                      </a:lnTo>
                      <a:lnTo>
                        <a:pt x="379" y="129"/>
                      </a:lnTo>
                      <a:lnTo>
                        <a:pt x="379" y="128"/>
                      </a:lnTo>
                      <a:lnTo>
                        <a:pt x="379" y="127"/>
                      </a:lnTo>
                      <a:lnTo>
                        <a:pt x="379" y="125"/>
                      </a:lnTo>
                      <a:lnTo>
                        <a:pt x="379" y="124"/>
                      </a:lnTo>
                      <a:lnTo>
                        <a:pt x="379" y="123"/>
                      </a:lnTo>
                      <a:lnTo>
                        <a:pt x="379" y="122"/>
                      </a:lnTo>
                      <a:lnTo>
                        <a:pt x="379" y="121"/>
                      </a:lnTo>
                      <a:lnTo>
                        <a:pt x="379" y="120"/>
                      </a:lnTo>
                      <a:lnTo>
                        <a:pt x="379" y="119"/>
                      </a:lnTo>
                      <a:lnTo>
                        <a:pt x="379" y="117"/>
                      </a:lnTo>
                      <a:lnTo>
                        <a:pt x="378" y="117"/>
                      </a:lnTo>
                      <a:lnTo>
                        <a:pt x="378" y="116"/>
                      </a:lnTo>
                      <a:lnTo>
                        <a:pt x="378" y="115"/>
                      </a:lnTo>
                      <a:lnTo>
                        <a:pt x="378" y="114"/>
                      </a:lnTo>
                      <a:lnTo>
                        <a:pt x="377" y="114"/>
                      </a:lnTo>
                      <a:lnTo>
                        <a:pt x="377" y="113"/>
                      </a:lnTo>
                      <a:lnTo>
                        <a:pt x="376" y="112"/>
                      </a:lnTo>
                      <a:lnTo>
                        <a:pt x="376" y="110"/>
                      </a:lnTo>
                      <a:lnTo>
                        <a:pt x="375" y="110"/>
                      </a:lnTo>
                      <a:lnTo>
                        <a:pt x="374" y="109"/>
                      </a:lnTo>
                      <a:lnTo>
                        <a:pt x="372" y="108"/>
                      </a:lnTo>
                      <a:lnTo>
                        <a:pt x="371" y="107"/>
                      </a:lnTo>
                      <a:lnTo>
                        <a:pt x="370" y="107"/>
                      </a:lnTo>
                      <a:lnTo>
                        <a:pt x="369" y="106"/>
                      </a:lnTo>
                      <a:lnTo>
                        <a:pt x="368" y="105"/>
                      </a:lnTo>
                      <a:lnTo>
                        <a:pt x="367" y="105"/>
                      </a:lnTo>
                      <a:lnTo>
                        <a:pt x="366" y="104"/>
                      </a:lnTo>
                      <a:lnTo>
                        <a:pt x="363" y="102"/>
                      </a:lnTo>
                      <a:lnTo>
                        <a:pt x="362" y="102"/>
                      </a:lnTo>
                      <a:lnTo>
                        <a:pt x="361" y="101"/>
                      </a:lnTo>
                      <a:lnTo>
                        <a:pt x="359" y="101"/>
                      </a:lnTo>
                      <a:lnTo>
                        <a:pt x="357" y="100"/>
                      </a:lnTo>
                      <a:lnTo>
                        <a:pt x="356" y="100"/>
                      </a:lnTo>
                      <a:lnTo>
                        <a:pt x="354" y="99"/>
                      </a:lnTo>
                      <a:lnTo>
                        <a:pt x="353" y="99"/>
                      </a:lnTo>
                      <a:lnTo>
                        <a:pt x="350" y="98"/>
                      </a:lnTo>
                      <a:lnTo>
                        <a:pt x="349" y="98"/>
                      </a:lnTo>
                      <a:lnTo>
                        <a:pt x="348" y="98"/>
                      </a:lnTo>
                      <a:lnTo>
                        <a:pt x="346" y="98"/>
                      </a:lnTo>
                      <a:lnTo>
                        <a:pt x="345" y="98"/>
                      </a:lnTo>
                      <a:lnTo>
                        <a:pt x="344" y="98"/>
                      </a:lnTo>
                      <a:lnTo>
                        <a:pt x="341" y="98"/>
                      </a:lnTo>
                      <a:lnTo>
                        <a:pt x="340" y="98"/>
                      </a:lnTo>
                      <a:lnTo>
                        <a:pt x="339" y="98"/>
                      </a:lnTo>
                      <a:lnTo>
                        <a:pt x="338" y="98"/>
                      </a:lnTo>
                      <a:lnTo>
                        <a:pt x="337" y="98"/>
                      </a:lnTo>
                      <a:lnTo>
                        <a:pt x="335" y="98"/>
                      </a:lnTo>
                      <a:lnTo>
                        <a:pt x="335" y="97"/>
                      </a:lnTo>
                      <a:lnTo>
                        <a:pt x="335" y="95"/>
                      </a:lnTo>
                      <a:lnTo>
                        <a:pt x="334" y="94"/>
                      </a:lnTo>
                      <a:lnTo>
                        <a:pt x="334" y="93"/>
                      </a:lnTo>
                      <a:lnTo>
                        <a:pt x="334" y="92"/>
                      </a:lnTo>
                      <a:lnTo>
                        <a:pt x="333" y="92"/>
                      </a:lnTo>
                      <a:lnTo>
                        <a:pt x="333" y="91"/>
                      </a:lnTo>
                      <a:lnTo>
                        <a:pt x="333" y="90"/>
                      </a:lnTo>
                      <a:lnTo>
                        <a:pt x="332" y="90"/>
                      </a:lnTo>
                      <a:lnTo>
                        <a:pt x="332" y="88"/>
                      </a:lnTo>
                      <a:lnTo>
                        <a:pt x="332" y="87"/>
                      </a:lnTo>
                      <a:lnTo>
                        <a:pt x="331" y="87"/>
                      </a:lnTo>
                      <a:lnTo>
                        <a:pt x="331" y="86"/>
                      </a:lnTo>
                      <a:lnTo>
                        <a:pt x="330" y="84"/>
                      </a:lnTo>
                      <a:lnTo>
                        <a:pt x="330" y="83"/>
                      </a:lnTo>
                      <a:lnTo>
                        <a:pt x="329" y="80"/>
                      </a:lnTo>
                      <a:lnTo>
                        <a:pt x="329" y="79"/>
                      </a:lnTo>
                      <a:lnTo>
                        <a:pt x="327" y="77"/>
                      </a:lnTo>
                      <a:lnTo>
                        <a:pt x="327" y="76"/>
                      </a:lnTo>
                      <a:lnTo>
                        <a:pt x="326" y="75"/>
                      </a:lnTo>
                      <a:lnTo>
                        <a:pt x="326" y="72"/>
                      </a:lnTo>
                      <a:lnTo>
                        <a:pt x="326" y="71"/>
                      </a:lnTo>
                      <a:lnTo>
                        <a:pt x="325" y="70"/>
                      </a:lnTo>
                      <a:lnTo>
                        <a:pt x="325" y="69"/>
                      </a:lnTo>
                      <a:lnTo>
                        <a:pt x="325" y="68"/>
                      </a:lnTo>
                      <a:lnTo>
                        <a:pt x="324" y="65"/>
                      </a:lnTo>
                      <a:lnTo>
                        <a:pt x="324" y="64"/>
                      </a:lnTo>
                      <a:lnTo>
                        <a:pt x="324" y="63"/>
                      </a:lnTo>
                      <a:lnTo>
                        <a:pt x="324" y="62"/>
                      </a:lnTo>
                      <a:lnTo>
                        <a:pt x="324" y="61"/>
                      </a:lnTo>
                      <a:lnTo>
                        <a:pt x="324" y="60"/>
                      </a:lnTo>
                      <a:lnTo>
                        <a:pt x="324" y="58"/>
                      </a:lnTo>
                      <a:lnTo>
                        <a:pt x="324" y="57"/>
                      </a:lnTo>
                      <a:lnTo>
                        <a:pt x="324" y="56"/>
                      </a:lnTo>
                      <a:lnTo>
                        <a:pt x="324" y="55"/>
                      </a:lnTo>
                      <a:lnTo>
                        <a:pt x="323" y="54"/>
                      </a:lnTo>
                      <a:lnTo>
                        <a:pt x="323" y="53"/>
                      </a:lnTo>
                      <a:lnTo>
                        <a:pt x="324" y="52"/>
                      </a:lnTo>
                      <a:lnTo>
                        <a:pt x="324" y="50"/>
                      </a:lnTo>
                      <a:lnTo>
                        <a:pt x="324" y="49"/>
                      </a:lnTo>
                      <a:lnTo>
                        <a:pt x="324" y="48"/>
                      </a:lnTo>
                      <a:lnTo>
                        <a:pt x="324" y="47"/>
                      </a:lnTo>
                      <a:lnTo>
                        <a:pt x="324" y="46"/>
                      </a:lnTo>
                      <a:lnTo>
                        <a:pt x="324" y="45"/>
                      </a:lnTo>
                      <a:lnTo>
                        <a:pt x="324" y="43"/>
                      </a:lnTo>
                      <a:lnTo>
                        <a:pt x="326" y="43"/>
                      </a:lnTo>
                      <a:lnTo>
                        <a:pt x="327" y="43"/>
                      </a:lnTo>
                      <a:lnTo>
                        <a:pt x="330" y="43"/>
                      </a:lnTo>
                      <a:lnTo>
                        <a:pt x="332" y="43"/>
                      </a:lnTo>
                      <a:lnTo>
                        <a:pt x="333" y="43"/>
                      </a:lnTo>
                      <a:lnTo>
                        <a:pt x="335" y="43"/>
                      </a:lnTo>
                      <a:lnTo>
                        <a:pt x="338" y="43"/>
                      </a:lnTo>
                      <a:lnTo>
                        <a:pt x="339" y="43"/>
                      </a:lnTo>
                      <a:lnTo>
                        <a:pt x="341" y="43"/>
                      </a:lnTo>
                      <a:lnTo>
                        <a:pt x="342" y="43"/>
                      </a:lnTo>
                      <a:lnTo>
                        <a:pt x="345" y="43"/>
                      </a:lnTo>
                      <a:lnTo>
                        <a:pt x="347" y="43"/>
                      </a:lnTo>
                      <a:lnTo>
                        <a:pt x="348" y="43"/>
                      </a:lnTo>
                      <a:lnTo>
                        <a:pt x="350" y="43"/>
                      </a:lnTo>
                      <a:lnTo>
                        <a:pt x="352" y="43"/>
                      </a:lnTo>
                      <a:lnTo>
                        <a:pt x="354" y="43"/>
                      </a:lnTo>
                      <a:lnTo>
                        <a:pt x="356" y="43"/>
                      </a:lnTo>
                      <a:lnTo>
                        <a:pt x="357" y="43"/>
                      </a:lnTo>
                      <a:lnTo>
                        <a:pt x="360" y="43"/>
                      </a:lnTo>
                      <a:lnTo>
                        <a:pt x="361" y="43"/>
                      </a:lnTo>
                      <a:lnTo>
                        <a:pt x="363" y="43"/>
                      </a:lnTo>
                      <a:lnTo>
                        <a:pt x="366" y="45"/>
                      </a:lnTo>
                      <a:lnTo>
                        <a:pt x="367" y="45"/>
                      </a:lnTo>
                      <a:lnTo>
                        <a:pt x="369" y="45"/>
                      </a:lnTo>
                      <a:lnTo>
                        <a:pt x="370" y="45"/>
                      </a:lnTo>
                      <a:lnTo>
                        <a:pt x="372" y="45"/>
                      </a:lnTo>
                      <a:lnTo>
                        <a:pt x="375" y="45"/>
                      </a:lnTo>
                      <a:lnTo>
                        <a:pt x="376" y="45"/>
                      </a:lnTo>
                      <a:lnTo>
                        <a:pt x="378" y="45"/>
                      </a:lnTo>
                      <a:lnTo>
                        <a:pt x="381" y="45"/>
                      </a:lnTo>
                      <a:lnTo>
                        <a:pt x="382" y="45"/>
                      </a:lnTo>
                      <a:lnTo>
                        <a:pt x="384" y="45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5322960" y="6055200"/>
                  <a:ext cx="28800" cy="54360"/>
                </a:xfrm>
                <a:custGeom>
                  <a:avLst/>
                  <a:gdLst/>
                  <a:ahLst/>
                  <a:rect l="l" t="t" r="r" b="b"/>
                  <a:pathLst>
                    <a:path w="54" h="91">
                      <a:moveTo>
                        <a:pt x="1" y="18"/>
                      </a:moveTo>
                      <a:lnTo>
                        <a:pt x="9" y="13"/>
                      </a:lnTo>
                      <a:lnTo>
                        <a:pt x="16" y="10"/>
                      </a:lnTo>
                      <a:lnTo>
                        <a:pt x="23" y="5"/>
                      </a:lnTo>
                      <a:lnTo>
                        <a:pt x="31" y="0"/>
                      </a:lnTo>
                      <a:lnTo>
                        <a:pt x="31" y="11"/>
                      </a:lnTo>
                      <a:lnTo>
                        <a:pt x="32" y="24"/>
                      </a:lnTo>
                      <a:lnTo>
                        <a:pt x="34" y="35"/>
                      </a:lnTo>
                      <a:lnTo>
                        <a:pt x="37" y="48"/>
                      </a:lnTo>
                      <a:lnTo>
                        <a:pt x="41" y="60"/>
                      </a:lnTo>
                      <a:lnTo>
                        <a:pt x="44" y="70"/>
                      </a:lnTo>
                      <a:lnTo>
                        <a:pt x="50" y="82"/>
                      </a:lnTo>
                      <a:lnTo>
                        <a:pt x="54" y="91"/>
                      </a:lnTo>
                      <a:lnTo>
                        <a:pt x="38" y="86"/>
                      </a:lnTo>
                      <a:lnTo>
                        <a:pt x="24" y="80"/>
                      </a:lnTo>
                      <a:lnTo>
                        <a:pt x="15" y="75"/>
                      </a:lnTo>
                      <a:lnTo>
                        <a:pt x="8" y="68"/>
                      </a:lnTo>
                      <a:lnTo>
                        <a:pt x="4" y="60"/>
                      </a:lnTo>
                      <a:lnTo>
                        <a:pt x="1" y="49"/>
                      </a:lnTo>
                      <a:lnTo>
                        <a:pt x="0" y="35"/>
                      </a:lnTo>
                      <a:lnTo>
                        <a:pt x="1" y="18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5154840" y="5969160"/>
                  <a:ext cx="90360" cy="126000"/>
                </a:xfrm>
                <a:custGeom>
                  <a:avLst/>
                  <a:gdLst/>
                  <a:ahLst/>
                  <a:rect l="l" t="t" r="r" b="b"/>
                  <a:pathLst>
                    <a:path w="172" h="207">
                      <a:moveTo>
                        <a:pt x="13" y="124"/>
                      </a:moveTo>
                      <a:lnTo>
                        <a:pt x="9" y="112"/>
                      </a:lnTo>
                      <a:lnTo>
                        <a:pt x="7" y="99"/>
                      </a:lnTo>
                      <a:lnTo>
                        <a:pt x="6" y="88"/>
                      </a:lnTo>
                      <a:lnTo>
                        <a:pt x="6" y="75"/>
                      </a:lnTo>
                      <a:lnTo>
                        <a:pt x="5" y="63"/>
                      </a:lnTo>
                      <a:lnTo>
                        <a:pt x="5" y="53"/>
                      </a:lnTo>
                      <a:lnTo>
                        <a:pt x="2" y="43"/>
                      </a:lnTo>
                      <a:lnTo>
                        <a:pt x="0" y="33"/>
                      </a:lnTo>
                      <a:lnTo>
                        <a:pt x="5" y="30"/>
                      </a:lnTo>
                      <a:lnTo>
                        <a:pt x="10" y="24"/>
                      </a:lnTo>
                      <a:lnTo>
                        <a:pt x="16" y="20"/>
                      </a:lnTo>
                      <a:lnTo>
                        <a:pt x="23" y="14"/>
                      </a:lnTo>
                      <a:lnTo>
                        <a:pt x="31" y="9"/>
                      </a:lnTo>
                      <a:lnTo>
                        <a:pt x="38" y="5"/>
                      </a:lnTo>
                      <a:lnTo>
                        <a:pt x="45" y="1"/>
                      </a:lnTo>
                      <a:lnTo>
                        <a:pt x="51" y="0"/>
                      </a:lnTo>
                      <a:lnTo>
                        <a:pt x="47" y="2"/>
                      </a:lnTo>
                      <a:lnTo>
                        <a:pt x="44" y="5"/>
                      </a:lnTo>
                      <a:lnTo>
                        <a:pt x="42" y="7"/>
                      </a:lnTo>
                      <a:lnTo>
                        <a:pt x="40" y="9"/>
                      </a:lnTo>
                      <a:lnTo>
                        <a:pt x="44" y="13"/>
                      </a:lnTo>
                      <a:lnTo>
                        <a:pt x="49" y="15"/>
                      </a:lnTo>
                      <a:lnTo>
                        <a:pt x="53" y="16"/>
                      </a:lnTo>
                      <a:lnTo>
                        <a:pt x="59" y="17"/>
                      </a:lnTo>
                      <a:lnTo>
                        <a:pt x="66" y="18"/>
                      </a:lnTo>
                      <a:lnTo>
                        <a:pt x="73" y="21"/>
                      </a:lnTo>
                      <a:lnTo>
                        <a:pt x="81" y="25"/>
                      </a:lnTo>
                      <a:lnTo>
                        <a:pt x="88" y="33"/>
                      </a:lnTo>
                      <a:lnTo>
                        <a:pt x="88" y="29"/>
                      </a:lnTo>
                      <a:lnTo>
                        <a:pt x="88" y="24"/>
                      </a:lnTo>
                      <a:lnTo>
                        <a:pt x="88" y="21"/>
                      </a:lnTo>
                      <a:lnTo>
                        <a:pt x="89" y="16"/>
                      </a:lnTo>
                      <a:lnTo>
                        <a:pt x="97" y="24"/>
                      </a:lnTo>
                      <a:lnTo>
                        <a:pt x="103" y="30"/>
                      </a:lnTo>
                      <a:lnTo>
                        <a:pt x="110" y="36"/>
                      </a:lnTo>
                      <a:lnTo>
                        <a:pt x="116" y="40"/>
                      </a:lnTo>
                      <a:lnTo>
                        <a:pt x="120" y="47"/>
                      </a:lnTo>
                      <a:lnTo>
                        <a:pt x="126" y="54"/>
                      </a:lnTo>
                      <a:lnTo>
                        <a:pt x="131" y="63"/>
                      </a:lnTo>
                      <a:lnTo>
                        <a:pt x="135" y="76"/>
                      </a:lnTo>
                      <a:lnTo>
                        <a:pt x="142" y="92"/>
                      </a:lnTo>
                      <a:lnTo>
                        <a:pt x="148" y="109"/>
                      </a:lnTo>
                      <a:lnTo>
                        <a:pt x="155" y="125"/>
                      </a:lnTo>
                      <a:lnTo>
                        <a:pt x="162" y="141"/>
                      </a:lnTo>
                      <a:lnTo>
                        <a:pt x="168" y="157"/>
                      </a:lnTo>
                      <a:lnTo>
                        <a:pt x="171" y="173"/>
                      </a:lnTo>
                      <a:lnTo>
                        <a:pt x="172" y="191"/>
                      </a:lnTo>
                      <a:lnTo>
                        <a:pt x="171" y="207"/>
                      </a:lnTo>
                      <a:lnTo>
                        <a:pt x="164" y="189"/>
                      </a:lnTo>
                      <a:lnTo>
                        <a:pt x="156" y="169"/>
                      </a:lnTo>
                      <a:lnTo>
                        <a:pt x="147" y="143"/>
                      </a:lnTo>
                      <a:lnTo>
                        <a:pt x="136" y="117"/>
                      </a:lnTo>
                      <a:lnTo>
                        <a:pt x="125" y="91"/>
                      </a:lnTo>
                      <a:lnTo>
                        <a:pt x="113" y="68"/>
                      </a:lnTo>
                      <a:lnTo>
                        <a:pt x="101" y="48"/>
                      </a:lnTo>
                      <a:lnTo>
                        <a:pt x="89" y="36"/>
                      </a:lnTo>
                      <a:lnTo>
                        <a:pt x="84" y="31"/>
                      </a:lnTo>
                      <a:lnTo>
                        <a:pt x="80" y="28"/>
                      </a:lnTo>
                      <a:lnTo>
                        <a:pt x="74" y="23"/>
                      </a:lnTo>
                      <a:lnTo>
                        <a:pt x="68" y="21"/>
                      </a:lnTo>
                      <a:lnTo>
                        <a:pt x="62" y="18"/>
                      </a:lnTo>
                      <a:lnTo>
                        <a:pt x="57" y="18"/>
                      </a:lnTo>
                      <a:lnTo>
                        <a:pt x="51" y="20"/>
                      </a:lnTo>
                      <a:lnTo>
                        <a:pt x="44" y="24"/>
                      </a:lnTo>
                      <a:lnTo>
                        <a:pt x="39" y="35"/>
                      </a:lnTo>
                      <a:lnTo>
                        <a:pt x="38" y="50"/>
                      </a:lnTo>
                      <a:lnTo>
                        <a:pt x="40" y="68"/>
                      </a:lnTo>
                      <a:lnTo>
                        <a:pt x="43" y="88"/>
                      </a:lnTo>
                      <a:lnTo>
                        <a:pt x="46" y="107"/>
                      </a:lnTo>
                      <a:lnTo>
                        <a:pt x="49" y="127"/>
                      </a:lnTo>
                      <a:lnTo>
                        <a:pt x="47" y="145"/>
                      </a:lnTo>
                      <a:lnTo>
                        <a:pt x="42" y="161"/>
                      </a:lnTo>
                      <a:lnTo>
                        <a:pt x="40" y="157"/>
                      </a:lnTo>
                      <a:lnTo>
                        <a:pt x="39" y="155"/>
                      </a:lnTo>
                      <a:lnTo>
                        <a:pt x="38" y="154"/>
                      </a:lnTo>
                      <a:lnTo>
                        <a:pt x="38" y="152"/>
                      </a:lnTo>
                      <a:lnTo>
                        <a:pt x="40" y="137"/>
                      </a:lnTo>
                      <a:lnTo>
                        <a:pt x="40" y="120"/>
                      </a:lnTo>
                      <a:lnTo>
                        <a:pt x="39" y="100"/>
                      </a:lnTo>
                      <a:lnTo>
                        <a:pt x="38" y="81"/>
                      </a:lnTo>
                      <a:lnTo>
                        <a:pt x="36" y="61"/>
                      </a:lnTo>
                      <a:lnTo>
                        <a:pt x="35" y="44"/>
                      </a:lnTo>
                      <a:lnTo>
                        <a:pt x="35" y="29"/>
                      </a:lnTo>
                      <a:lnTo>
                        <a:pt x="37" y="18"/>
                      </a:lnTo>
                      <a:lnTo>
                        <a:pt x="29" y="20"/>
                      </a:lnTo>
                      <a:lnTo>
                        <a:pt x="23" y="25"/>
                      </a:lnTo>
                      <a:lnTo>
                        <a:pt x="19" y="32"/>
                      </a:lnTo>
                      <a:lnTo>
                        <a:pt x="14" y="42"/>
                      </a:lnTo>
                      <a:lnTo>
                        <a:pt x="12" y="45"/>
                      </a:lnTo>
                      <a:lnTo>
                        <a:pt x="12" y="51"/>
                      </a:lnTo>
                      <a:lnTo>
                        <a:pt x="13" y="59"/>
                      </a:lnTo>
                      <a:lnTo>
                        <a:pt x="14" y="69"/>
                      </a:lnTo>
                      <a:lnTo>
                        <a:pt x="15" y="82"/>
                      </a:lnTo>
                      <a:lnTo>
                        <a:pt x="15" y="95"/>
                      </a:lnTo>
                      <a:lnTo>
                        <a:pt x="15" y="109"/>
                      </a:lnTo>
                      <a:lnTo>
                        <a:pt x="13" y="124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5272200" y="5969160"/>
                  <a:ext cx="69840" cy="114840"/>
                </a:xfrm>
                <a:custGeom>
                  <a:avLst/>
                  <a:gdLst/>
                  <a:ahLst/>
                  <a:rect l="l" t="t" r="r" b="b"/>
                  <a:pathLst>
                    <a:path w="132" h="189">
                      <a:moveTo>
                        <a:pt x="60" y="6"/>
                      </a:moveTo>
                      <a:lnTo>
                        <a:pt x="63" y="3"/>
                      </a:lnTo>
                      <a:lnTo>
                        <a:pt x="67" y="2"/>
                      </a:lnTo>
                      <a:lnTo>
                        <a:pt x="69" y="1"/>
                      </a:lnTo>
                      <a:lnTo>
                        <a:pt x="73" y="0"/>
                      </a:lnTo>
                      <a:lnTo>
                        <a:pt x="75" y="6"/>
                      </a:lnTo>
                      <a:lnTo>
                        <a:pt x="80" y="11"/>
                      </a:lnTo>
                      <a:lnTo>
                        <a:pt x="85" y="16"/>
                      </a:lnTo>
                      <a:lnTo>
                        <a:pt x="91" y="21"/>
                      </a:lnTo>
                      <a:lnTo>
                        <a:pt x="97" y="25"/>
                      </a:lnTo>
                      <a:lnTo>
                        <a:pt x="103" y="30"/>
                      </a:lnTo>
                      <a:lnTo>
                        <a:pt x="107" y="36"/>
                      </a:lnTo>
                      <a:lnTo>
                        <a:pt x="111" y="42"/>
                      </a:lnTo>
                      <a:lnTo>
                        <a:pt x="113" y="53"/>
                      </a:lnTo>
                      <a:lnTo>
                        <a:pt x="117" y="65"/>
                      </a:lnTo>
                      <a:lnTo>
                        <a:pt x="119" y="77"/>
                      </a:lnTo>
                      <a:lnTo>
                        <a:pt x="120" y="90"/>
                      </a:lnTo>
                      <a:lnTo>
                        <a:pt x="122" y="103"/>
                      </a:lnTo>
                      <a:lnTo>
                        <a:pt x="126" y="115"/>
                      </a:lnTo>
                      <a:lnTo>
                        <a:pt x="128" y="126"/>
                      </a:lnTo>
                      <a:lnTo>
                        <a:pt x="132" y="135"/>
                      </a:lnTo>
                      <a:lnTo>
                        <a:pt x="124" y="142"/>
                      </a:lnTo>
                      <a:lnTo>
                        <a:pt x="113" y="148"/>
                      </a:lnTo>
                      <a:lnTo>
                        <a:pt x="102" y="154"/>
                      </a:lnTo>
                      <a:lnTo>
                        <a:pt x="89" y="161"/>
                      </a:lnTo>
                      <a:lnTo>
                        <a:pt x="74" y="166"/>
                      </a:lnTo>
                      <a:lnTo>
                        <a:pt x="59" y="173"/>
                      </a:lnTo>
                      <a:lnTo>
                        <a:pt x="43" y="181"/>
                      </a:lnTo>
                      <a:lnTo>
                        <a:pt x="26" y="189"/>
                      </a:lnTo>
                      <a:lnTo>
                        <a:pt x="28" y="180"/>
                      </a:lnTo>
                      <a:lnTo>
                        <a:pt x="29" y="169"/>
                      </a:lnTo>
                      <a:lnTo>
                        <a:pt x="30" y="156"/>
                      </a:lnTo>
                      <a:lnTo>
                        <a:pt x="30" y="142"/>
                      </a:lnTo>
                      <a:lnTo>
                        <a:pt x="30" y="128"/>
                      </a:lnTo>
                      <a:lnTo>
                        <a:pt x="30" y="115"/>
                      </a:lnTo>
                      <a:lnTo>
                        <a:pt x="30" y="104"/>
                      </a:lnTo>
                      <a:lnTo>
                        <a:pt x="30" y="94"/>
                      </a:lnTo>
                      <a:lnTo>
                        <a:pt x="25" y="87"/>
                      </a:lnTo>
                      <a:lnTo>
                        <a:pt x="22" y="81"/>
                      </a:lnTo>
                      <a:lnTo>
                        <a:pt x="17" y="74"/>
                      </a:lnTo>
                      <a:lnTo>
                        <a:pt x="13" y="68"/>
                      </a:lnTo>
                      <a:lnTo>
                        <a:pt x="13" y="76"/>
                      </a:lnTo>
                      <a:lnTo>
                        <a:pt x="14" y="84"/>
                      </a:lnTo>
                      <a:lnTo>
                        <a:pt x="15" y="92"/>
                      </a:lnTo>
                      <a:lnTo>
                        <a:pt x="17" y="100"/>
                      </a:lnTo>
                      <a:lnTo>
                        <a:pt x="20" y="107"/>
                      </a:lnTo>
                      <a:lnTo>
                        <a:pt x="23" y="114"/>
                      </a:lnTo>
                      <a:lnTo>
                        <a:pt x="25" y="120"/>
                      </a:lnTo>
                      <a:lnTo>
                        <a:pt x="29" y="125"/>
                      </a:lnTo>
                      <a:lnTo>
                        <a:pt x="29" y="129"/>
                      </a:lnTo>
                      <a:lnTo>
                        <a:pt x="29" y="134"/>
                      </a:lnTo>
                      <a:lnTo>
                        <a:pt x="29" y="140"/>
                      </a:lnTo>
                      <a:lnTo>
                        <a:pt x="29" y="145"/>
                      </a:lnTo>
                      <a:lnTo>
                        <a:pt x="25" y="139"/>
                      </a:lnTo>
                      <a:lnTo>
                        <a:pt x="22" y="132"/>
                      </a:lnTo>
                      <a:lnTo>
                        <a:pt x="18" y="124"/>
                      </a:lnTo>
                      <a:lnTo>
                        <a:pt x="14" y="115"/>
                      </a:lnTo>
                      <a:lnTo>
                        <a:pt x="10" y="107"/>
                      </a:lnTo>
                      <a:lnTo>
                        <a:pt x="7" y="99"/>
                      </a:lnTo>
                      <a:lnTo>
                        <a:pt x="3" y="94"/>
                      </a:lnTo>
                      <a:lnTo>
                        <a:pt x="0" y="89"/>
                      </a:lnTo>
                      <a:lnTo>
                        <a:pt x="2" y="78"/>
                      </a:lnTo>
                      <a:lnTo>
                        <a:pt x="7" y="69"/>
                      </a:lnTo>
                      <a:lnTo>
                        <a:pt x="11" y="61"/>
                      </a:lnTo>
                      <a:lnTo>
                        <a:pt x="17" y="53"/>
                      </a:lnTo>
                      <a:lnTo>
                        <a:pt x="23" y="46"/>
                      </a:lnTo>
                      <a:lnTo>
                        <a:pt x="30" y="39"/>
                      </a:lnTo>
                      <a:lnTo>
                        <a:pt x="36" y="32"/>
                      </a:lnTo>
                      <a:lnTo>
                        <a:pt x="41" y="25"/>
                      </a:lnTo>
                      <a:lnTo>
                        <a:pt x="45" y="23"/>
                      </a:lnTo>
                      <a:lnTo>
                        <a:pt x="51" y="18"/>
                      </a:lnTo>
                      <a:lnTo>
                        <a:pt x="55" y="14"/>
                      </a:lnTo>
                      <a:lnTo>
                        <a:pt x="60" y="11"/>
                      </a:lnTo>
                      <a:lnTo>
                        <a:pt x="63" y="14"/>
                      </a:lnTo>
                      <a:lnTo>
                        <a:pt x="67" y="22"/>
                      </a:lnTo>
                      <a:lnTo>
                        <a:pt x="72" y="33"/>
                      </a:lnTo>
                      <a:lnTo>
                        <a:pt x="75" y="47"/>
                      </a:lnTo>
                      <a:lnTo>
                        <a:pt x="78" y="62"/>
                      </a:lnTo>
                      <a:lnTo>
                        <a:pt x="82" y="77"/>
                      </a:lnTo>
                      <a:lnTo>
                        <a:pt x="84" y="91"/>
                      </a:lnTo>
                      <a:lnTo>
                        <a:pt x="85" y="104"/>
                      </a:lnTo>
                      <a:lnTo>
                        <a:pt x="88" y="97"/>
                      </a:lnTo>
                      <a:lnTo>
                        <a:pt x="90" y="91"/>
                      </a:lnTo>
                      <a:lnTo>
                        <a:pt x="90" y="85"/>
                      </a:lnTo>
                      <a:lnTo>
                        <a:pt x="90" y="80"/>
                      </a:lnTo>
                      <a:lnTo>
                        <a:pt x="89" y="74"/>
                      </a:lnTo>
                      <a:lnTo>
                        <a:pt x="87" y="68"/>
                      </a:lnTo>
                      <a:lnTo>
                        <a:pt x="84" y="61"/>
                      </a:lnTo>
                      <a:lnTo>
                        <a:pt x="82" y="55"/>
                      </a:lnTo>
                      <a:lnTo>
                        <a:pt x="80" y="48"/>
                      </a:lnTo>
                      <a:lnTo>
                        <a:pt x="77" y="43"/>
                      </a:lnTo>
                      <a:lnTo>
                        <a:pt x="75" y="36"/>
                      </a:lnTo>
                      <a:lnTo>
                        <a:pt x="73" y="29"/>
                      </a:lnTo>
                      <a:lnTo>
                        <a:pt x="70" y="22"/>
                      </a:lnTo>
                      <a:lnTo>
                        <a:pt x="67" y="16"/>
                      </a:lnTo>
                      <a:lnTo>
                        <a:pt x="63" y="10"/>
                      </a:lnTo>
                      <a:lnTo>
                        <a:pt x="60" y="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5143680" y="5923800"/>
                  <a:ext cx="245880" cy="262440"/>
                </a:xfrm>
                <a:custGeom>
                  <a:avLst/>
                  <a:gdLst/>
                  <a:ahLst/>
                  <a:rect l="l" t="t" r="r" b="b"/>
                  <a:pathLst>
                    <a:path w="464" h="432">
                      <a:moveTo>
                        <a:pt x="0" y="136"/>
                      </a:moveTo>
                      <a:lnTo>
                        <a:pt x="5" y="128"/>
                      </a:lnTo>
                      <a:lnTo>
                        <a:pt x="11" y="120"/>
                      </a:lnTo>
                      <a:lnTo>
                        <a:pt x="17" y="113"/>
                      </a:lnTo>
                      <a:lnTo>
                        <a:pt x="22" y="105"/>
                      </a:lnTo>
                      <a:lnTo>
                        <a:pt x="29" y="98"/>
                      </a:lnTo>
                      <a:lnTo>
                        <a:pt x="36" y="90"/>
                      </a:lnTo>
                      <a:lnTo>
                        <a:pt x="43" y="82"/>
                      </a:lnTo>
                      <a:lnTo>
                        <a:pt x="50" y="73"/>
                      </a:lnTo>
                      <a:lnTo>
                        <a:pt x="58" y="65"/>
                      </a:lnTo>
                      <a:lnTo>
                        <a:pt x="65" y="57"/>
                      </a:lnTo>
                      <a:lnTo>
                        <a:pt x="72" y="50"/>
                      </a:lnTo>
                      <a:lnTo>
                        <a:pt x="79" y="42"/>
                      </a:lnTo>
                      <a:lnTo>
                        <a:pt x="85" y="37"/>
                      </a:lnTo>
                      <a:lnTo>
                        <a:pt x="92" y="32"/>
                      </a:lnTo>
                      <a:lnTo>
                        <a:pt x="96" y="28"/>
                      </a:lnTo>
                      <a:lnTo>
                        <a:pt x="101" y="26"/>
                      </a:lnTo>
                      <a:lnTo>
                        <a:pt x="106" y="25"/>
                      </a:lnTo>
                      <a:lnTo>
                        <a:pt x="111" y="23"/>
                      </a:lnTo>
                      <a:lnTo>
                        <a:pt x="119" y="18"/>
                      </a:lnTo>
                      <a:lnTo>
                        <a:pt x="127" y="13"/>
                      </a:lnTo>
                      <a:lnTo>
                        <a:pt x="134" y="9"/>
                      </a:lnTo>
                      <a:lnTo>
                        <a:pt x="142" y="4"/>
                      </a:lnTo>
                      <a:lnTo>
                        <a:pt x="148" y="2"/>
                      </a:lnTo>
                      <a:lnTo>
                        <a:pt x="152" y="1"/>
                      </a:lnTo>
                      <a:lnTo>
                        <a:pt x="152" y="6"/>
                      </a:lnTo>
                      <a:lnTo>
                        <a:pt x="152" y="11"/>
                      </a:lnTo>
                      <a:lnTo>
                        <a:pt x="152" y="16"/>
                      </a:lnTo>
                      <a:lnTo>
                        <a:pt x="153" y="20"/>
                      </a:lnTo>
                      <a:lnTo>
                        <a:pt x="162" y="11"/>
                      </a:lnTo>
                      <a:lnTo>
                        <a:pt x="170" y="4"/>
                      </a:lnTo>
                      <a:lnTo>
                        <a:pt x="179" y="1"/>
                      </a:lnTo>
                      <a:lnTo>
                        <a:pt x="189" y="0"/>
                      </a:lnTo>
                      <a:lnTo>
                        <a:pt x="198" y="1"/>
                      </a:lnTo>
                      <a:lnTo>
                        <a:pt x="207" y="4"/>
                      </a:lnTo>
                      <a:lnTo>
                        <a:pt x="215" y="10"/>
                      </a:lnTo>
                      <a:lnTo>
                        <a:pt x="223" y="18"/>
                      </a:lnTo>
                      <a:lnTo>
                        <a:pt x="231" y="26"/>
                      </a:lnTo>
                      <a:lnTo>
                        <a:pt x="242" y="37"/>
                      </a:lnTo>
                      <a:lnTo>
                        <a:pt x="253" y="47"/>
                      </a:lnTo>
                      <a:lnTo>
                        <a:pt x="264" y="57"/>
                      </a:lnTo>
                      <a:lnTo>
                        <a:pt x="275" y="68"/>
                      </a:lnTo>
                      <a:lnTo>
                        <a:pt x="285" y="76"/>
                      </a:lnTo>
                      <a:lnTo>
                        <a:pt x="293" y="84"/>
                      </a:lnTo>
                      <a:lnTo>
                        <a:pt x="297" y="88"/>
                      </a:lnTo>
                      <a:lnTo>
                        <a:pt x="293" y="93"/>
                      </a:lnTo>
                      <a:lnTo>
                        <a:pt x="287" y="99"/>
                      </a:lnTo>
                      <a:lnTo>
                        <a:pt x="282" y="102"/>
                      </a:lnTo>
                      <a:lnTo>
                        <a:pt x="278" y="107"/>
                      </a:lnTo>
                      <a:lnTo>
                        <a:pt x="272" y="112"/>
                      </a:lnTo>
                      <a:lnTo>
                        <a:pt x="266" y="116"/>
                      </a:lnTo>
                      <a:lnTo>
                        <a:pt x="260" y="122"/>
                      </a:lnTo>
                      <a:lnTo>
                        <a:pt x="255" y="129"/>
                      </a:lnTo>
                      <a:lnTo>
                        <a:pt x="249" y="124"/>
                      </a:lnTo>
                      <a:lnTo>
                        <a:pt x="241" y="117"/>
                      </a:lnTo>
                      <a:lnTo>
                        <a:pt x="233" y="107"/>
                      </a:lnTo>
                      <a:lnTo>
                        <a:pt x="225" y="95"/>
                      </a:lnTo>
                      <a:lnTo>
                        <a:pt x="218" y="84"/>
                      </a:lnTo>
                      <a:lnTo>
                        <a:pt x="211" y="73"/>
                      </a:lnTo>
                      <a:lnTo>
                        <a:pt x="206" y="65"/>
                      </a:lnTo>
                      <a:lnTo>
                        <a:pt x="203" y="60"/>
                      </a:lnTo>
                      <a:lnTo>
                        <a:pt x="206" y="77"/>
                      </a:lnTo>
                      <a:lnTo>
                        <a:pt x="211" y="92"/>
                      </a:lnTo>
                      <a:lnTo>
                        <a:pt x="216" y="104"/>
                      </a:lnTo>
                      <a:lnTo>
                        <a:pt x="222" y="114"/>
                      </a:lnTo>
                      <a:lnTo>
                        <a:pt x="228" y="123"/>
                      </a:lnTo>
                      <a:lnTo>
                        <a:pt x="233" y="131"/>
                      </a:lnTo>
                      <a:lnTo>
                        <a:pt x="237" y="138"/>
                      </a:lnTo>
                      <a:lnTo>
                        <a:pt x="240" y="144"/>
                      </a:lnTo>
                      <a:lnTo>
                        <a:pt x="241" y="151"/>
                      </a:lnTo>
                      <a:lnTo>
                        <a:pt x="241" y="157"/>
                      </a:lnTo>
                      <a:lnTo>
                        <a:pt x="238" y="162"/>
                      </a:lnTo>
                      <a:lnTo>
                        <a:pt x="237" y="168"/>
                      </a:lnTo>
                      <a:lnTo>
                        <a:pt x="236" y="174"/>
                      </a:lnTo>
                      <a:lnTo>
                        <a:pt x="235" y="179"/>
                      </a:lnTo>
                      <a:lnTo>
                        <a:pt x="235" y="183"/>
                      </a:lnTo>
                      <a:lnTo>
                        <a:pt x="237" y="188"/>
                      </a:lnTo>
                      <a:lnTo>
                        <a:pt x="250" y="204"/>
                      </a:lnTo>
                      <a:lnTo>
                        <a:pt x="259" y="224"/>
                      </a:lnTo>
                      <a:lnTo>
                        <a:pt x="264" y="246"/>
                      </a:lnTo>
                      <a:lnTo>
                        <a:pt x="267" y="268"/>
                      </a:lnTo>
                      <a:lnTo>
                        <a:pt x="267" y="288"/>
                      </a:lnTo>
                      <a:lnTo>
                        <a:pt x="266" y="308"/>
                      </a:lnTo>
                      <a:lnTo>
                        <a:pt x="265" y="324"/>
                      </a:lnTo>
                      <a:lnTo>
                        <a:pt x="263" y="337"/>
                      </a:lnTo>
                      <a:lnTo>
                        <a:pt x="258" y="338"/>
                      </a:lnTo>
                      <a:lnTo>
                        <a:pt x="253" y="339"/>
                      </a:lnTo>
                      <a:lnTo>
                        <a:pt x="249" y="340"/>
                      </a:lnTo>
                      <a:lnTo>
                        <a:pt x="244" y="340"/>
                      </a:lnTo>
                      <a:lnTo>
                        <a:pt x="241" y="343"/>
                      </a:lnTo>
                      <a:lnTo>
                        <a:pt x="236" y="345"/>
                      </a:lnTo>
                      <a:lnTo>
                        <a:pt x="231" y="348"/>
                      </a:lnTo>
                      <a:lnTo>
                        <a:pt x="227" y="353"/>
                      </a:lnTo>
                      <a:lnTo>
                        <a:pt x="226" y="352"/>
                      </a:lnTo>
                      <a:lnTo>
                        <a:pt x="223" y="350"/>
                      </a:lnTo>
                      <a:lnTo>
                        <a:pt x="221" y="345"/>
                      </a:lnTo>
                      <a:lnTo>
                        <a:pt x="220" y="340"/>
                      </a:lnTo>
                      <a:lnTo>
                        <a:pt x="222" y="338"/>
                      </a:lnTo>
                      <a:lnTo>
                        <a:pt x="225" y="336"/>
                      </a:lnTo>
                      <a:lnTo>
                        <a:pt x="227" y="333"/>
                      </a:lnTo>
                      <a:lnTo>
                        <a:pt x="229" y="331"/>
                      </a:lnTo>
                      <a:lnTo>
                        <a:pt x="226" y="326"/>
                      </a:lnTo>
                      <a:lnTo>
                        <a:pt x="222" y="324"/>
                      </a:lnTo>
                      <a:lnTo>
                        <a:pt x="218" y="322"/>
                      </a:lnTo>
                      <a:lnTo>
                        <a:pt x="212" y="321"/>
                      </a:lnTo>
                      <a:lnTo>
                        <a:pt x="212" y="306"/>
                      </a:lnTo>
                      <a:lnTo>
                        <a:pt x="212" y="293"/>
                      </a:lnTo>
                      <a:lnTo>
                        <a:pt x="212" y="279"/>
                      </a:lnTo>
                      <a:lnTo>
                        <a:pt x="212" y="266"/>
                      </a:lnTo>
                      <a:lnTo>
                        <a:pt x="211" y="255"/>
                      </a:lnTo>
                      <a:lnTo>
                        <a:pt x="210" y="242"/>
                      </a:lnTo>
                      <a:lnTo>
                        <a:pt x="208" y="231"/>
                      </a:lnTo>
                      <a:lnTo>
                        <a:pt x="207" y="219"/>
                      </a:lnTo>
                      <a:lnTo>
                        <a:pt x="205" y="207"/>
                      </a:lnTo>
                      <a:lnTo>
                        <a:pt x="203" y="197"/>
                      </a:lnTo>
                      <a:lnTo>
                        <a:pt x="199" y="186"/>
                      </a:lnTo>
                      <a:lnTo>
                        <a:pt x="196" y="175"/>
                      </a:lnTo>
                      <a:lnTo>
                        <a:pt x="191" y="164"/>
                      </a:lnTo>
                      <a:lnTo>
                        <a:pt x="186" y="152"/>
                      </a:lnTo>
                      <a:lnTo>
                        <a:pt x="181" y="140"/>
                      </a:lnTo>
                      <a:lnTo>
                        <a:pt x="174" y="129"/>
                      </a:lnTo>
                      <a:lnTo>
                        <a:pt x="164" y="116"/>
                      </a:lnTo>
                      <a:lnTo>
                        <a:pt x="161" y="112"/>
                      </a:lnTo>
                      <a:lnTo>
                        <a:pt x="163" y="115"/>
                      </a:lnTo>
                      <a:lnTo>
                        <a:pt x="168" y="125"/>
                      </a:lnTo>
                      <a:lnTo>
                        <a:pt x="175" y="138"/>
                      </a:lnTo>
                      <a:lnTo>
                        <a:pt x="182" y="152"/>
                      </a:lnTo>
                      <a:lnTo>
                        <a:pt x="188" y="165"/>
                      </a:lnTo>
                      <a:lnTo>
                        <a:pt x="191" y="174"/>
                      </a:lnTo>
                      <a:lnTo>
                        <a:pt x="193" y="179"/>
                      </a:lnTo>
                      <a:lnTo>
                        <a:pt x="194" y="183"/>
                      </a:lnTo>
                      <a:lnTo>
                        <a:pt x="196" y="188"/>
                      </a:lnTo>
                      <a:lnTo>
                        <a:pt x="197" y="194"/>
                      </a:lnTo>
                      <a:lnTo>
                        <a:pt x="198" y="198"/>
                      </a:lnTo>
                      <a:lnTo>
                        <a:pt x="198" y="204"/>
                      </a:lnTo>
                      <a:lnTo>
                        <a:pt x="199" y="209"/>
                      </a:lnTo>
                      <a:lnTo>
                        <a:pt x="199" y="212"/>
                      </a:lnTo>
                      <a:lnTo>
                        <a:pt x="198" y="225"/>
                      </a:lnTo>
                      <a:lnTo>
                        <a:pt x="200" y="238"/>
                      </a:lnTo>
                      <a:lnTo>
                        <a:pt x="203" y="250"/>
                      </a:lnTo>
                      <a:lnTo>
                        <a:pt x="206" y="264"/>
                      </a:lnTo>
                      <a:lnTo>
                        <a:pt x="208" y="278"/>
                      </a:lnTo>
                      <a:lnTo>
                        <a:pt x="211" y="293"/>
                      </a:lnTo>
                      <a:lnTo>
                        <a:pt x="211" y="307"/>
                      </a:lnTo>
                      <a:lnTo>
                        <a:pt x="207" y="321"/>
                      </a:lnTo>
                      <a:lnTo>
                        <a:pt x="206" y="322"/>
                      </a:lnTo>
                      <a:lnTo>
                        <a:pt x="204" y="322"/>
                      </a:lnTo>
                      <a:lnTo>
                        <a:pt x="203" y="323"/>
                      </a:lnTo>
                      <a:lnTo>
                        <a:pt x="201" y="324"/>
                      </a:lnTo>
                      <a:lnTo>
                        <a:pt x="198" y="325"/>
                      </a:lnTo>
                      <a:lnTo>
                        <a:pt x="192" y="326"/>
                      </a:lnTo>
                      <a:lnTo>
                        <a:pt x="186" y="325"/>
                      </a:lnTo>
                      <a:lnTo>
                        <a:pt x="179" y="325"/>
                      </a:lnTo>
                      <a:lnTo>
                        <a:pt x="174" y="325"/>
                      </a:lnTo>
                      <a:lnTo>
                        <a:pt x="167" y="325"/>
                      </a:lnTo>
                      <a:lnTo>
                        <a:pt x="161" y="326"/>
                      </a:lnTo>
                      <a:lnTo>
                        <a:pt x="158" y="330"/>
                      </a:lnTo>
                      <a:lnTo>
                        <a:pt x="163" y="331"/>
                      </a:lnTo>
                      <a:lnTo>
                        <a:pt x="171" y="331"/>
                      </a:lnTo>
                      <a:lnTo>
                        <a:pt x="181" y="331"/>
                      </a:lnTo>
                      <a:lnTo>
                        <a:pt x="190" y="331"/>
                      </a:lnTo>
                      <a:lnTo>
                        <a:pt x="200" y="338"/>
                      </a:lnTo>
                      <a:lnTo>
                        <a:pt x="208" y="344"/>
                      </a:lnTo>
                      <a:lnTo>
                        <a:pt x="218" y="350"/>
                      </a:lnTo>
                      <a:lnTo>
                        <a:pt x="225" y="354"/>
                      </a:lnTo>
                      <a:lnTo>
                        <a:pt x="230" y="358"/>
                      </a:lnTo>
                      <a:lnTo>
                        <a:pt x="236" y="362"/>
                      </a:lnTo>
                      <a:lnTo>
                        <a:pt x="240" y="367"/>
                      </a:lnTo>
                      <a:lnTo>
                        <a:pt x="242" y="372"/>
                      </a:lnTo>
                      <a:lnTo>
                        <a:pt x="246" y="369"/>
                      </a:lnTo>
                      <a:lnTo>
                        <a:pt x="250" y="365"/>
                      </a:lnTo>
                      <a:lnTo>
                        <a:pt x="252" y="360"/>
                      </a:lnTo>
                      <a:lnTo>
                        <a:pt x="255" y="358"/>
                      </a:lnTo>
                      <a:lnTo>
                        <a:pt x="253" y="354"/>
                      </a:lnTo>
                      <a:lnTo>
                        <a:pt x="249" y="352"/>
                      </a:lnTo>
                      <a:lnTo>
                        <a:pt x="244" y="352"/>
                      </a:lnTo>
                      <a:lnTo>
                        <a:pt x="240" y="352"/>
                      </a:lnTo>
                      <a:lnTo>
                        <a:pt x="234" y="353"/>
                      </a:lnTo>
                      <a:lnTo>
                        <a:pt x="231" y="354"/>
                      </a:lnTo>
                      <a:lnTo>
                        <a:pt x="229" y="354"/>
                      </a:lnTo>
                      <a:lnTo>
                        <a:pt x="229" y="353"/>
                      </a:lnTo>
                      <a:lnTo>
                        <a:pt x="233" y="348"/>
                      </a:lnTo>
                      <a:lnTo>
                        <a:pt x="238" y="345"/>
                      </a:lnTo>
                      <a:lnTo>
                        <a:pt x="245" y="343"/>
                      </a:lnTo>
                      <a:lnTo>
                        <a:pt x="252" y="340"/>
                      </a:lnTo>
                      <a:lnTo>
                        <a:pt x="262" y="339"/>
                      </a:lnTo>
                      <a:lnTo>
                        <a:pt x="271" y="339"/>
                      </a:lnTo>
                      <a:lnTo>
                        <a:pt x="281" y="340"/>
                      </a:lnTo>
                      <a:lnTo>
                        <a:pt x="292" y="341"/>
                      </a:lnTo>
                      <a:lnTo>
                        <a:pt x="308" y="343"/>
                      </a:lnTo>
                      <a:lnTo>
                        <a:pt x="323" y="344"/>
                      </a:lnTo>
                      <a:lnTo>
                        <a:pt x="338" y="345"/>
                      </a:lnTo>
                      <a:lnTo>
                        <a:pt x="355" y="346"/>
                      </a:lnTo>
                      <a:lnTo>
                        <a:pt x="372" y="347"/>
                      </a:lnTo>
                      <a:lnTo>
                        <a:pt x="392" y="348"/>
                      </a:lnTo>
                      <a:lnTo>
                        <a:pt x="415" y="350"/>
                      </a:lnTo>
                      <a:lnTo>
                        <a:pt x="442" y="351"/>
                      </a:lnTo>
                      <a:lnTo>
                        <a:pt x="448" y="354"/>
                      </a:lnTo>
                      <a:lnTo>
                        <a:pt x="451" y="358"/>
                      </a:lnTo>
                      <a:lnTo>
                        <a:pt x="454" y="362"/>
                      </a:lnTo>
                      <a:lnTo>
                        <a:pt x="460" y="368"/>
                      </a:lnTo>
                      <a:lnTo>
                        <a:pt x="461" y="375"/>
                      </a:lnTo>
                      <a:lnTo>
                        <a:pt x="463" y="383"/>
                      </a:lnTo>
                      <a:lnTo>
                        <a:pt x="464" y="392"/>
                      </a:lnTo>
                      <a:lnTo>
                        <a:pt x="464" y="402"/>
                      </a:lnTo>
                      <a:lnTo>
                        <a:pt x="464" y="410"/>
                      </a:lnTo>
                      <a:lnTo>
                        <a:pt x="464" y="418"/>
                      </a:lnTo>
                      <a:lnTo>
                        <a:pt x="461" y="423"/>
                      </a:lnTo>
                      <a:lnTo>
                        <a:pt x="459" y="429"/>
                      </a:lnTo>
                      <a:lnTo>
                        <a:pt x="445" y="430"/>
                      </a:lnTo>
                      <a:lnTo>
                        <a:pt x="430" y="432"/>
                      </a:lnTo>
                      <a:lnTo>
                        <a:pt x="416" y="430"/>
                      </a:lnTo>
                      <a:lnTo>
                        <a:pt x="401" y="429"/>
                      </a:lnTo>
                      <a:lnTo>
                        <a:pt x="387" y="428"/>
                      </a:lnTo>
                      <a:lnTo>
                        <a:pt x="374" y="426"/>
                      </a:lnTo>
                      <a:lnTo>
                        <a:pt x="359" y="425"/>
                      </a:lnTo>
                      <a:lnTo>
                        <a:pt x="345" y="423"/>
                      </a:lnTo>
                      <a:lnTo>
                        <a:pt x="334" y="414"/>
                      </a:lnTo>
                      <a:lnTo>
                        <a:pt x="324" y="407"/>
                      </a:lnTo>
                      <a:lnTo>
                        <a:pt x="312" y="404"/>
                      </a:lnTo>
                      <a:lnTo>
                        <a:pt x="302" y="400"/>
                      </a:lnTo>
                      <a:lnTo>
                        <a:pt x="290" y="398"/>
                      </a:lnTo>
                      <a:lnTo>
                        <a:pt x="280" y="395"/>
                      </a:lnTo>
                      <a:lnTo>
                        <a:pt x="271" y="389"/>
                      </a:lnTo>
                      <a:lnTo>
                        <a:pt x="262" y="381"/>
                      </a:lnTo>
                      <a:lnTo>
                        <a:pt x="258" y="378"/>
                      </a:lnTo>
                      <a:lnTo>
                        <a:pt x="253" y="377"/>
                      </a:lnTo>
                      <a:lnTo>
                        <a:pt x="249" y="376"/>
                      </a:lnTo>
                      <a:lnTo>
                        <a:pt x="243" y="376"/>
                      </a:lnTo>
                      <a:lnTo>
                        <a:pt x="238" y="376"/>
                      </a:lnTo>
                      <a:lnTo>
                        <a:pt x="233" y="377"/>
                      </a:lnTo>
                      <a:lnTo>
                        <a:pt x="227" y="377"/>
                      </a:lnTo>
                      <a:lnTo>
                        <a:pt x="221" y="377"/>
                      </a:lnTo>
                      <a:lnTo>
                        <a:pt x="220" y="370"/>
                      </a:lnTo>
                      <a:lnTo>
                        <a:pt x="218" y="367"/>
                      </a:lnTo>
                      <a:lnTo>
                        <a:pt x="215" y="363"/>
                      </a:lnTo>
                      <a:lnTo>
                        <a:pt x="212" y="360"/>
                      </a:lnTo>
                      <a:lnTo>
                        <a:pt x="207" y="358"/>
                      </a:lnTo>
                      <a:lnTo>
                        <a:pt x="203" y="356"/>
                      </a:lnTo>
                      <a:lnTo>
                        <a:pt x="199" y="356"/>
                      </a:lnTo>
                      <a:lnTo>
                        <a:pt x="194" y="356"/>
                      </a:lnTo>
                      <a:lnTo>
                        <a:pt x="190" y="356"/>
                      </a:lnTo>
                      <a:lnTo>
                        <a:pt x="186" y="356"/>
                      </a:lnTo>
                      <a:lnTo>
                        <a:pt x="182" y="356"/>
                      </a:lnTo>
                      <a:lnTo>
                        <a:pt x="177" y="356"/>
                      </a:lnTo>
                      <a:lnTo>
                        <a:pt x="162" y="340"/>
                      </a:lnTo>
                      <a:lnTo>
                        <a:pt x="146" y="329"/>
                      </a:lnTo>
                      <a:lnTo>
                        <a:pt x="131" y="320"/>
                      </a:lnTo>
                      <a:lnTo>
                        <a:pt x="116" y="311"/>
                      </a:lnTo>
                      <a:lnTo>
                        <a:pt x="102" y="302"/>
                      </a:lnTo>
                      <a:lnTo>
                        <a:pt x="88" y="292"/>
                      </a:lnTo>
                      <a:lnTo>
                        <a:pt x="77" y="276"/>
                      </a:lnTo>
                      <a:lnTo>
                        <a:pt x="66" y="255"/>
                      </a:lnTo>
                      <a:lnTo>
                        <a:pt x="66" y="249"/>
                      </a:lnTo>
                      <a:lnTo>
                        <a:pt x="64" y="243"/>
                      </a:lnTo>
                      <a:lnTo>
                        <a:pt x="62" y="236"/>
                      </a:lnTo>
                      <a:lnTo>
                        <a:pt x="58" y="229"/>
                      </a:lnTo>
                      <a:lnTo>
                        <a:pt x="54" y="224"/>
                      </a:lnTo>
                      <a:lnTo>
                        <a:pt x="50" y="219"/>
                      </a:lnTo>
                      <a:lnTo>
                        <a:pt x="47" y="214"/>
                      </a:lnTo>
                      <a:lnTo>
                        <a:pt x="43" y="213"/>
                      </a:lnTo>
                      <a:lnTo>
                        <a:pt x="41" y="210"/>
                      </a:lnTo>
                      <a:lnTo>
                        <a:pt x="37" y="206"/>
                      </a:lnTo>
                      <a:lnTo>
                        <a:pt x="34" y="202"/>
                      </a:lnTo>
                      <a:lnTo>
                        <a:pt x="29" y="197"/>
                      </a:lnTo>
                      <a:lnTo>
                        <a:pt x="26" y="192"/>
                      </a:lnTo>
                      <a:lnTo>
                        <a:pt x="22" y="188"/>
                      </a:lnTo>
                      <a:lnTo>
                        <a:pt x="19" y="182"/>
                      </a:lnTo>
                      <a:lnTo>
                        <a:pt x="18" y="176"/>
                      </a:lnTo>
                      <a:lnTo>
                        <a:pt x="15" y="171"/>
                      </a:lnTo>
                      <a:lnTo>
                        <a:pt x="11" y="164"/>
                      </a:lnTo>
                      <a:lnTo>
                        <a:pt x="6" y="158"/>
                      </a:lnTo>
                      <a:lnTo>
                        <a:pt x="2" y="155"/>
                      </a:lnTo>
                      <a:lnTo>
                        <a:pt x="2" y="150"/>
                      </a:lnTo>
                      <a:lnTo>
                        <a:pt x="2" y="144"/>
                      </a:lnTo>
                      <a:lnTo>
                        <a:pt x="2" y="140"/>
                      </a:lnTo>
                      <a:lnTo>
                        <a:pt x="0" y="136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5315040" y="5949360"/>
                  <a:ext cx="154080" cy="180360"/>
                </a:xfrm>
                <a:custGeom>
                  <a:avLst/>
                  <a:gdLst/>
                  <a:ahLst/>
                  <a:rect l="l" t="t" r="r" b="b"/>
                  <a:pathLst>
                    <a:path w="292" h="297">
                      <a:moveTo>
                        <a:pt x="61" y="2"/>
                      </a:moveTo>
                      <a:lnTo>
                        <a:pt x="94" y="42"/>
                      </a:lnTo>
                      <a:lnTo>
                        <a:pt x="99" y="50"/>
                      </a:lnTo>
                      <a:lnTo>
                        <a:pt x="103" y="58"/>
                      </a:lnTo>
                      <a:lnTo>
                        <a:pt x="106" y="66"/>
                      </a:lnTo>
                      <a:lnTo>
                        <a:pt x="108" y="74"/>
                      </a:lnTo>
                      <a:lnTo>
                        <a:pt x="111" y="82"/>
                      </a:lnTo>
                      <a:lnTo>
                        <a:pt x="113" y="91"/>
                      </a:lnTo>
                      <a:lnTo>
                        <a:pt x="115" y="99"/>
                      </a:lnTo>
                      <a:lnTo>
                        <a:pt x="115" y="107"/>
                      </a:lnTo>
                      <a:lnTo>
                        <a:pt x="121" y="112"/>
                      </a:lnTo>
                      <a:lnTo>
                        <a:pt x="127" y="118"/>
                      </a:lnTo>
                      <a:lnTo>
                        <a:pt x="134" y="125"/>
                      </a:lnTo>
                      <a:lnTo>
                        <a:pt x="141" y="132"/>
                      </a:lnTo>
                      <a:lnTo>
                        <a:pt x="148" y="140"/>
                      </a:lnTo>
                      <a:lnTo>
                        <a:pt x="156" y="148"/>
                      </a:lnTo>
                      <a:lnTo>
                        <a:pt x="163" y="155"/>
                      </a:lnTo>
                      <a:lnTo>
                        <a:pt x="170" y="162"/>
                      </a:lnTo>
                      <a:lnTo>
                        <a:pt x="173" y="168"/>
                      </a:lnTo>
                      <a:lnTo>
                        <a:pt x="175" y="174"/>
                      </a:lnTo>
                      <a:lnTo>
                        <a:pt x="178" y="178"/>
                      </a:lnTo>
                      <a:lnTo>
                        <a:pt x="181" y="184"/>
                      </a:lnTo>
                      <a:lnTo>
                        <a:pt x="183" y="191"/>
                      </a:lnTo>
                      <a:lnTo>
                        <a:pt x="188" y="198"/>
                      </a:lnTo>
                      <a:lnTo>
                        <a:pt x="193" y="206"/>
                      </a:lnTo>
                      <a:lnTo>
                        <a:pt x="200" y="216"/>
                      </a:lnTo>
                      <a:lnTo>
                        <a:pt x="208" y="216"/>
                      </a:lnTo>
                      <a:lnTo>
                        <a:pt x="216" y="216"/>
                      </a:lnTo>
                      <a:lnTo>
                        <a:pt x="223" y="219"/>
                      </a:lnTo>
                      <a:lnTo>
                        <a:pt x="230" y="221"/>
                      </a:lnTo>
                      <a:lnTo>
                        <a:pt x="237" y="226"/>
                      </a:lnTo>
                      <a:lnTo>
                        <a:pt x="242" y="233"/>
                      </a:lnTo>
                      <a:lnTo>
                        <a:pt x="248" y="241"/>
                      </a:lnTo>
                      <a:lnTo>
                        <a:pt x="254" y="251"/>
                      </a:lnTo>
                      <a:lnTo>
                        <a:pt x="276" y="260"/>
                      </a:lnTo>
                      <a:lnTo>
                        <a:pt x="283" y="266"/>
                      </a:lnTo>
                      <a:lnTo>
                        <a:pt x="289" y="272"/>
                      </a:lnTo>
                      <a:lnTo>
                        <a:pt x="292" y="278"/>
                      </a:lnTo>
                      <a:lnTo>
                        <a:pt x="292" y="285"/>
                      </a:lnTo>
                      <a:lnTo>
                        <a:pt x="291" y="289"/>
                      </a:lnTo>
                      <a:lnTo>
                        <a:pt x="287" y="294"/>
                      </a:lnTo>
                      <a:lnTo>
                        <a:pt x="282" y="296"/>
                      </a:lnTo>
                      <a:lnTo>
                        <a:pt x="275" y="297"/>
                      </a:lnTo>
                      <a:lnTo>
                        <a:pt x="270" y="294"/>
                      </a:lnTo>
                      <a:lnTo>
                        <a:pt x="266" y="290"/>
                      </a:lnTo>
                      <a:lnTo>
                        <a:pt x="259" y="286"/>
                      </a:lnTo>
                      <a:lnTo>
                        <a:pt x="250" y="282"/>
                      </a:lnTo>
                      <a:lnTo>
                        <a:pt x="242" y="277"/>
                      </a:lnTo>
                      <a:lnTo>
                        <a:pt x="237" y="268"/>
                      </a:lnTo>
                      <a:lnTo>
                        <a:pt x="232" y="259"/>
                      </a:lnTo>
                      <a:lnTo>
                        <a:pt x="226" y="252"/>
                      </a:lnTo>
                      <a:lnTo>
                        <a:pt x="220" y="252"/>
                      </a:lnTo>
                      <a:lnTo>
                        <a:pt x="215" y="253"/>
                      </a:lnTo>
                      <a:lnTo>
                        <a:pt x="208" y="255"/>
                      </a:lnTo>
                      <a:lnTo>
                        <a:pt x="201" y="257"/>
                      </a:lnTo>
                      <a:lnTo>
                        <a:pt x="194" y="258"/>
                      </a:lnTo>
                      <a:lnTo>
                        <a:pt x="188" y="259"/>
                      </a:lnTo>
                      <a:lnTo>
                        <a:pt x="181" y="260"/>
                      </a:lnTo>
                      <a:lnTo>
                        <a:pt x="175" y="260"/>
                      </a:lnTo>
                      <a:lnTo>
                        <a:pt x="170" y="260"/>
                      </a:lnTo>
                      <a:lnTo>
                        <a:pt x="165" y="262"/>
                      </a:lnTo>
                      <a:lnTo>
                        <a:pt x="160" y="264"/>
                      </a:lnTo>
                      <a:lnTo>
                        <a:pt x="156" y="265"/>
                      </a:lnTo>
                      <a:lnTo>
                        <a:pt x="151" y="267"/>
                      </a:lnTo>
                      <a:lnTo>
                        <a:pt x="146" y="270"/>
                      </a:lnTo>
                      <a:lnTo>
                        <a:pt x="142" y="271"/>
                      </a:lnTo>
                      <a:lnTo>
                        <a:pt x="136" y="272"/>
                      </a:lnTo>
                      <a:lnTo>
                        <a:pt x="143" y="267"/>
                      </a:lnTo>
                      <a:lnTo>
                        <a:pt x="149" y="262"/>
                      </a:lnTo>
                      <a:lnTo>
                        <a:pt x="155" y="256"/>
                      </a:lnTo>
                      <a:lnTo>
                        <a:pt x="162" y="250"/>
                      </a:lnTo>
                      <a:lnTo>
                        <a:pt x="168" y="245"/>
                      </a:lnTo>
                      <a:lnTo>
                        <a:pt x="177" y="240"/>
                      </a:lnTo>
                      <a:lnTo>
                        <a:pt x="186" y="235"/>
                      </a:lnTo>
                      <a:lnTo>
                        <a:pt x="196" y="231"/>
                      </a:lnTo>
                      <a:lnTo>
                        <a:pt x="183" y="233"/>
                      </a:lnTo>
                      <a:lnTo>
                        <a:pt x="170" y="236"/>
                      </a:lnTo>
                      <a:lnTo>
                        <a:pt x="155" y="240"/>
                      </a:lnTo>
                      <a:lnTo>
                        <a:pt x="140" y="244"/>
                      </a:lnTo>
                      <a:lnTo>
                        <a:pt x="125" y="248"/>
                      </a:lnTo>
                      <a:lnTo>
                        <a:pt x="108" y="252"/>
                      </a:lnTo>
                      <a:lnTo>
                        <a:pt x="93" y="256"/>
                      </a:lnTo>
                      <a:lnTo>
                        <a:pt x="78" y="258"/>
                      </a:lnTo>
                      <a:lnTo>
                        <a:pt x="73" y="255"/>
                      </a:lnTo>
                      <a:lnTo>
                        <a:pt x="69" y="249"/>
                      </a:lnTo>
                      <a:lnTo>
                        <a:pt x="68" y="243"/>
                      </a:lnTo>
                      <a:lnTo>
                        <a:pt x="64" y="238"/>
                      </a:lnTo>
                      <a:lnTo>
                        <a:pt x="74" y="219"/>
                      </a:lnTo>
                      <a:lnTo>
                        <a:pt x="81" y="200"/>
                      </a:lnTo>
                      <a:lnTo>
                        <a:pt x="88" y="182"/>
                      </a:lnTo>
                      <a:lnTo>
                        <a:pt x="92" y="162"/>
                      </a:lnTo>
                      <a:lnTo>
                        <a:pt x="96" y="140"/>
                      </a:lnTo>
                      <a:lnTo>
                        <a:pt x="97" y="118"/>
                      </a:lnTo>
                      <a:lnTo>
                        <a:pt x="96" y="94"/>
                      </a:lnTo>
                      <a:lnTo>
                        <a:pt x="92" y="67"/>
                      </a:lnTo>
                      <a:lnTo>
                        <a:pt x="93" y="100"/>
                      </a:lnTo>
                      <a:lnTo>
                        <a:pt x="92" y="128"/>
                      </a:lnTo>
                      <a:lnTo>
                        <a:pt x="89" y="152"/>
                      </a:lnTo>
                      <a:lnTo>
                        <a:pt x="84" y="173"/>
                      </a:lnTo>
                      <a:lnTo>
                        <a:pt x="78" y="189"/>
                      </a:lnTo>
                      <a:lnTo>
                        <a:pt x="71" y="200"/>
                      </a:lnTo>
                      <a:lnTo>
                        <a:pt x="63" y="207"/>
                      </a:lnTo>
                      <a:lnTo>
                        <a:pt x="56" y="211"/>
                      </a:lnTo>
                      <a:lnTo>
                        <a:pt x="54" y="206"/>
                      </a:lnTo>
                      <a:lnTo>
                        <a:pt x="53" y="201"/>
                      </a:lnTo>
                      <a:lnTo>
                        <a:pt x="53" y="198"/>
                      </a:lnTo>
                      <a:lnTo>
                        <a:pt x="52" y="193"/>
                      </a:lnTo>
                      <a:lnTo>
                        <a:pt x="52" y="190"/>
                      </a:lnTo>
                      <a:lnTo>
                        <a:pt x="53" y="185"/>
                      </a:lnTo>
                      <a:lnTo>
                        <a:pt x="53" y="182"/>
                      </a:lnTo>
                      <a:lnTo>
                        <a:pt x="54" y="176"/>
                      </a:lnTo>
                      <a:lnTo>
                        <a:pt x="59" y="166"/>
                      </a:lnTo>
                      <a:lnTo>
                        <a:pt x="62" y="154"/>
                      </a:lnTo>
                      <a:lnTo>
                        <a:pt x="66" y="140"/>
                      </a:lnTo>
                      <a:lnTo>
                        <a:pt x="68" y="126"/>
                      </a:lnTo>
                      <a:lnTo>
                        <a:pt x="70" y="111"/>
                      </a:lnTo>
                      <a:lnTo>
                        <a:pt x="70" y="96"/>
                      </a:lnTo>
                      <a:lnTo>
                        <a:pt x="69" y="81"/>
                      </a:lnTo>
                      <a:lnTo>
                        <a:pt x="66" y="67"/>
                      </a:lnTo>
                      <a:lnTo>
                        <a:pt x="67" y="84"/>
                      </a:lnTo>
                      <a:lnTo>
                        <a:pt x="67" y="99"/>
                      </a:lnTo>
                      <a:lnTo>
                        <a:pt x="67" y="112"/>
                      </a:lnTo>
                      <a:lnTo>
                        <a:pt x="64" y="125"/>
                      </a:lnTo>
                      <a:lnTo>
                        <a:pt x="62" y="137"/>
                      </a:lnTo>
                      <a:lnTo>
                        <a:pt x="60" y="148"/>
                      </a:lnTo>
                      <a:lnTo>
                        <a:pt x="56" y="160"/>
                      </a:lnTo>
                      <a:lnTo>
                        <a:pt x="53" y="171"/>
                      </a:lnTo>
                      <a:lnTo>
                        <a:pt x="52" y="162"/>
                      </a:lnTo>
                      <a:lnTo>
                        <a:pt x="51" y="154"/>
                      </a:lnTo>
                      <a:lnTo>
                        <a:pt x="49" y="147"/>
                      </a:lnTo>
                      <a:lnTo>
                        <a:pt x="47" y="140"/>
                      </a:lnTo>
                      <a:lnTo>
                        <a:pt x="46" y="133"/>
                      </a:lnTo>
                      <a:lnTo>
                        <a:pt x="44" y="126"/>
                      </a:lnTo>
                      <a:lnTo>
                        <a:pt x="44" y="118"/>
                      </a:lnTo>
                      <a:lnTo>
                        <a:pt x="43" y="108"/>
                      </a:lnTo>
                      <a:lnTo>
                        <a:pt x="45" y="109"/>
                      </a:lnTo>
                      <a:lnTo>
                        <a:pt x="52" y="112"/>
                      </a:lnTo>
                      <a:lnTo>
                        <a:pt x="58" y="117"/>
                      </a:lnTo>
                      <a:lnTo>
                        <a:pt x="60" y="118"/>
                      </a:lnTo>
                      <a:lnTo>
                        <a:pt x="56" y="115"/>
                      </a:lnTo>
                      <a:lnTo>
                        <a:pt x="53" y="111"/>
                      </a:lnTo>
                      <a:lnTo>
                        <a:pt x="49" y="107"/>
                      </a:lnTo>
                      <a:lnTo>
                        <a:pt x="43" y="102"/>
                      </a:lnTo>
                      <a:lnTo>
                        <a:pt x="46" y="102"/>
                      </a:lnTo>
                      <a:lnTo>
                        <a:pt x="49" y="102"/>
                      </a:lnTo>
                      <a:lnTo>
                        <a:pt x="53" y="102"/>
                      </a:lnTo>
                      <a:lnTo>
                        <a:pt x="56" y="101"/>
                      </a:lnTo>
                      <a:lnTo>
                        <a:pt x="56" y="94"/>
                      </a:lnTo>
                      <a:lnTo>
                        <a:pt x="56" y="86"/>
                      </a:lnTo>
                      <a:lnTo>
                        <a:pt x="56" y="78"/>
                      </a:lnTo>
                      <a:lnTo>
                        <a:pt x="55" y="71"/>
                      </a:lnTo>
                      <a:lnTo>
                        <a:pt x="53" y="67"/>
                      </a:lnTo>
                      <a:lnTo>
                        <a:pt x="48" y="64"/>
                      </a:lnTo>
                      <a:lnTo>
                        <a:pt x="44" y="62"/>
                      </a:lnTo>
                      <a:lnTo>
                        <a:pt x="38" y="58"/>
                      </a:lnTo>
                      <a:lnTo>
                        <a:pt x="31" y="56"/>
                      </a:lnTo>
                      <a:lnTo>
                        <a:pt x="25" y="55"/>
                      </a:lnTo>
                      <a:lnTo>
                        <a:pt x="18" y="55"/>
                      </a:lnTo>
                      <a:lnTo>
                        <a:pt x="14" y="55"/>
                      </a:lnTo>
                      <a:lnTo>
                        <a:pt x="11" y="51"/>
                      </a:lnTo>
                      <a:lnTo>
                        <a:pt x="10" y="48"/>
                      </a:lnTo>
                      <a:lnTo>
                        <a:pt x="9" y="44"/>
                      </a:lnTo>
                      <a:lnTo>
                        <a:pt x="8" y="43"/>
                      </a:lnTo>
                      <a:lnTo>
                        <a:pt x="6" y="36"/>
                      </a:lnTo>
                      <a:lnTo>
                        <a:pt x="3" y="29"/>
                      </a:lnTo>
                      <a:lnTo>
                        <a:pt x="2" y="25"/>
                      </a:lnTo>
                      <a:lnTo>
                        <a:pt x="1" y="19"/>
                      </a:lnTo>
                      <a:lnTo>
                        <a:pt x="1" y="14"/>
                      </a:lnTo>
                      <a:lnTo>
                        <a:pt x="0" y="10"/>
                      </a:lnTo>
                      <a:lnTo>
                        <a:pt x="1" y="5"/>
                      </a:lnTo>
                      <a:lnTo>
                        <a:pt x="1" y="0"/>
                      </a:lnTo>
                      <a:lnTo>
                        <a:pt x="9" y="0"/>
                      </a:ln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31" y="0"/>
                      </a:lnTo>
                      <a:lnTo>
                        <a:pt x="38" y="0"/>
                      </a:lnTo>
                      <a:lnTo>
                        <a:pt x="46" y="2"/>
                      </a:lnTo>
                      <a:lnTo>
                        <a:pt x="53" y="2"/>
                      </a:lnTo>
                      <a:lnTo>
                        <a:pt x="61" y="2"/>
                      </a:ln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5031000" y="5847120"/>
                  <a:ext cx="1104840" cy="96480"/>
                </a:xfrm>
                <a:custGeom>
                  <a:avLst/>
                  <a:gdLst/>
                  <a:ahLst/>
                  <a:rect l="l" t="t" r="r" b="b"/>
                  <a:pathLst>
                    <a:path w="2088" h="160">
                      <a:moveTo>
                        <a:pt x="48" y="43"/>
                      </a:moveTo>
                      <a:lnTo>
                        <a:pt x="48" y="45"/>
                      </a:lnTo>
                      <a:lnTo>
                        <a:pt x="47" y="46"/>
                      </a:lnTo>
                      <a:lnTo>
                        <a:pt x="47" y="47"/>
                      </a:lnTo>
                      <a:lnTo>
                        <a:pt x="47" y="49"/>
                      </a:lnTo>
                      <a:lnTo>
                        <a:pt x="47" y="51"/>
                      </a:lnTo>
                      <a:lnTo>
                        <a:pt x="47" y="52"/>
                      </a:lnTo>
                      <a:lnTo>
                        <a:pt x="47" y="53"/>
                      </a:lnTo>
                      <a:lnTo>
                        <a:pt x="47" y="54"/>
                      </a:lnTo>
                      <a:lnTo>
                        <a:pt x="47" y="55"/>
                      </a:lnTo>
                      <a:lnTo>
                        <a:pt x="47" y="56"/>
                      </a:lnTo>
                      <a:lnTo>
                        <a:pt x="47" y="58"/>
                      </a:lnTo>
                      <a:lnTo>
                        <a:pt x="47" y="59"/>
                      </a:lnTo>
                      <a:lnTo>
                        <a:pt x="48" y="60"/>
                      </a:lnTo>
                      <a:lnTo>
                        <a:pt x="48" y="61"/>
                      </a:lnTo>
                      <a:lnTo>
                        <a:pt x="49" y="62"/>
                      </a:lnTo>
                      <a:lnTo>
                        <a:pt x="49" y="63"/>
                      </a:lnTo>
                      <a:lnTo>
                        <a:pt x="50" y="64"/>
                      </a:lnTo>
                      <a:lnTo>
                        <a:pt x="50" y="66"/>
                      </a:lnTo>
                      <a:lnTo>
                        <a:pt x="52" y="67"/>
                      </a:lnTo>
                      <a:lnTo>
                        <a:pt x="52" y="68"/>
                      </a:lnTo>
                      <a:lnTo>
                        <a:pt x="52" y="69"/>
                      </a:lnTo>
                      <a:lnTo>
                        <a:pt x="53" y="69"/>
                      </a:lnTo>
                      <a:lnTo>
                        <a:pt x="53" y="70"/>
                      </a:lnTo>
                      <a:lnTo>
                        <a:pt x="53" y="71"/>
                      </a:lnTo>
                      <a:lnTo>
                        <a:pt x="53" y="73"/>
                      </a:lnTo>
                      <a:lnTo>
                        <a:pt x="53" y="74"/>
                      </a:lnTo>
                      <a:lnTo>
                        <a:pt x="52" y="74"/>
                      </a:lnTo>
                      <a:lnTo>
                        <a:pt x="50" y="74"/>
                      </a:lnTo>
                      <a:lnTo>
                        <a:pt x="49" y="74"/>
                      </a:lnTo>
                      <a:lnTo>
                        <a:pt x="48" y="73"/>
                      </a:lnTo>
                      <a:lnTo>
                        <a:pt x="47" y="73"/>
                      </a:lnTo>
                      <a:lnTo>
                        <a:pt x="45" y="73"/>
                      </a:lnTo>
                      <a:lnTo>
                        <a:pt x="44" y="71"/>
                      </a:lnTo>
                      <a:lnTo>
                        <a:pt x="42" y="71"/>
                      </a:lnTo>
                      <a:lnTo>
                        <a:pt x="40" y="70"/>
                      </a:lnTo>
                      <a:lnTo>
                        <a:pt x="39" y="70"/>
                      </a:lnTo>
                      <a:lnTo>
                        <a:pt x="38" y="69"/>
                      </a:lnTo>
                      <a:lnTo>
                        <a:pt x="35" y="69"/>
                      </a:lnTo>
                      <a:lnTo>
                        <a:pt x="34" y="68"/>
                      </a:lnTo>
                      <a:lnTo>
                        <a:pt x="32" y="68"/>
                      </a:lnTo>
                      <a:lnTo>
                        <a:pt x="31" y="67"/>
                      </a:lnTo>
                      <a:lnTo>
                        <a:pt x="29" y="66"/>
                      </a:lnTo>
                      <a:lnTo>
                        <a:pt x="27" y="64"/>
                      </a:lnTo>
                      <a:lnTo>
                        <a:pt x="25" y="64"/>
                      </a:lnTo>
                      <a:lnTo>
                        <a:pt x="24" y="63"/>
                      </a:lnTo>
                      <a:lnTo>
                        <a:pt x="23" y="62"/>
                      </a:lnTo>
                      <a:lnTo>
                        <a:pt x="22" y="62"/>
                      </a:lnTo>
                      <a:lnTo>
                        <a:pt x="20" y="61"/>
                      </a:lnTo>
                      <a:lnTo>
                        <a:pt x="19" y="60"/>
                      </a:lnTo>
                      <a:lnTo>
                        <a:pt x="18" y="59"/>
                      </a:lnTo>
                      <a:lnTo>
                        <a:pt x="17" y="58"/>
                      </a:lnTo>
                      <a:lnTo>
                        <a:pt x="16" y="56"/>
                      </a:lnTo>
                      <a:lnTo>
                        <a:pt x="15" y="55"/>
                      </a:lnTo>
                      <a:lnTo>
                        <a:pt x="15" y="54"/>
                      </a:lnTo>
                      <a:lnTo>
                        <a:pt x="15" y="53"/>
                      </a:lnTo>
                      <a:lnTo>
                        <a:pt x="15" y="52"/>
                      </a:lnTo>
                      <a:lnTo>
                        <a:pt x="16" y="51"/>
                      </a:lnTo>
                      <a:lnTo>
                        <a:pt x="16" y="49"/>
                      </a:lnTo>
                      <a:lnTo>
                        <a:pt x="16" y="48"/>
                      </a:lnTo>
                      <a:lnTo>
                        <a:pt x="17" y="47"/>
                      </a:lnTo>
                      <a:lnTo>
                        <a:pt x="17" y="46"/>
                      </a:lnTo>
                      <a:lnTo>
                        <a:pt x="17" y="45"/>
                      </a:lnTo>
                      <a:lnTo>
                        <a:pt x="18" y="45"/>
                      </a:lnTo>
                      <a:lnTo>
                        <a:pt x="18" y="44"/>
                      </a:lnTo>
                      <a:lnTo>
                        <a:pt x="18" y="43"/>
                      </a:lnTo>
                      <a:lnTo>
                        <a:pt x="18" y="41"/>
                      </a:lnTo>
                      <a:lnTo>
                        <a:pt x="19" y="41"/>
                      </a:lnTo>
                      <a:lnTo>
                        <a:pt x="19" y="40"/>
                      </a:lnTo>
                      <a:lnTo>
                        <a:pt x="19" y="39"/>
                      </a:lnTo>
                      <a:lnTo>
                        <a:pt x="19" y="38"/>
                      </a:lnTo>
                      <a:lnTo>
                        <a:pt x="19" y="37"/>
                      </a:lnTo>
                      <a:lnTo>
                        <a:pt x="20" y="36"/>
                      </a:lnTo>
                      <a:lnTo>
                        <a:pt x="20" y="34"/>
                      </a:lnTo>
                      <a:lnTo>
                        <a:pt x="22" y="33"/>
                      </a:lnTo>
                      <a:lnTo>
                        <a:pt x="23" y="32"/>
                      </a:lnTo>
                      <a:lnTo>
                        <a:pt x="24" y="31"/>
                      </a:lnTo>
                      <a:lnTo>
                        <a:pt x="25" y="31"/>
                      </a:lnTo>
                      <a:lnTo>
                        <a:pt x="25" y="30"/>
                      </a:lnTo>
                      <a:lnTo>
                        <a:pt x="26" y="30"/>
                      </a:lnTo>
                      <a:lnTo>
                        <a:pt x="27" y="30"/>
                      </a:lnTo>
                      <a:lnTo>
                        <a:pt x="29" y="29"/>
                      </a:lnTo>
                      <a:lnTo>
                        <a:pt x="30" y="28"/>
                      </a:lnTo>
                      <a:lnTo>
                        <a:pt x="31" y="28"/>
                      </a:lnTo>
                      <a:lnTo>
                        <a:pt x="32" y="28"/>
                      </a:lnTo>
                      <a:lnTo>
                        <a:pt x="32" y="26"/>
                      </a:lnTo>
                      <a:lnTo>
                        <a:pt x="33" y="26"/>
                      </a:lnTo>
                      <a:lnTo>
                        <a:pt x="34" y="26"/>
                      </a:lnTo>
                      <a:lnTo>
                        <a:pt x="35" y="25"/>
                      </a:lnTo>
                      <a:lnTo>
                        <a:pt x="37" y="25"/>
                      </a:lnTo>
                      <a:lnTo>
                        <a:pt x="38" y="24"/>
                      </a:lnTo>
                      <a:lnTo>
                        <a:pt x="39" y="24"/>
                      </a:lnTo>
                      <a:lnTo>
                        <a:pt x="39" y="23"/>
                      </a:lnTo>
                      <a:lnTo>
                        <a:pt x="40" y="23"/>
                      </a:lnTo>
                      <a:lnTo>
                        <a:pt x="40" y="22"/>
                      </a:lnTo>
                      <a:lnTo>
                        <a:pt x="39" y="22"/>
                      </a:lnTo>
                      <a:lnTo>
                        <a:pt x="37" y="22"/>
                      </a:lnTo>
                      <a:lnTo>
                        <a:pt x="35" y="22"/>
                      </a:lnTo>
                      <a:lnTo>
                        <a:pt x="34" y="22"/>
                      </a:lnTo>
                      <a:lnTo>
                        <a:pt x="33" y="22"/>
                      </a:lnTo>
                      <a:lnTo>
                        <a:pt x="31" y="22"/>
                      </a:lnTo>
                      <a:lnTo>
                        <a:pt x="30" y="21"/>
                      </a:lnTo>
                      <a:lnTo>
                        <a:pt x="29" y="21"/>
                      </a:lnTo>
                      <a:lnTo>
                        <a:pt x="27" y="21"/>
                      </a:lnTo>
                      <a:lnTo>
                        <a:pt x="26" y="21"/>
                      </a:lnTo>
                      <a:lnTo>
                        <a:pt x="25" y="21"/>
                      </a:lnTo>
                      <a:lnTo>
                        <a:pt x="24" y="19"/>
                      </a:lnTo>
                      <a:lnTo>
                        <a:pt x="23" y="19"/>
                      </a:lnTo>
                      <a:lnTo>
                        <a:pt x="22" y="19"/>
                      </a:lnTo>
                      <a:lnTo>
                        <a:pt x="20" y="19"/>
                      </a:lnTo>
                      <a:lnTo>
                        <a:pt x="19" y="19"/>
                      </a:lnTo>
                      <a:lnTo>
                        <a:pt x="18" y="19"/>
                      </a:lnTo>
                      <a:lnTo>
                        <a:pt x="17" y="19"/>
                      </a:lnTo>
                      <a:lnTo>
                        <a:pt x="17" y="21"/>
                      </a:lnTo>
                      <a:lnTo>
                        <a:pt x="16" y="21"/>
                      </a:lnTo>
                      <a:lnTo>
                        <a:pt x="15" y="21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1" y="24"/>
                      </a:lnTo>
                      <a:lnTo>
                        <a:pt x="10" y="25"/>
                      </a:lnTo>
                      <a:lnTo>
                        <a:pt x="10" y="26"/>
                      </a:lnTo>
                      <a:lnTo>
                        <a:pt x="9" y="28"/>
                      </a:lnTo>
                      <a:lnTo>
                        <a:pt x="8" y="29"/>
                      </a:lnTo>
                      <a:lnTo>
                        <a:pt x="7" y="31"/>
                      </a:lnTo>
                      <a:lnTo>
                        <a:pt x="5" y="32"/>
                      </a:lnTo>
                      <a:lnTo>
                        <a:pt x="7" y="36"/>
                      </a:lnTo>
                      <a:lnTo>
                        <a:pt x="7" y="38"/>
                      </a:lnTo>
                      <a:lnTo>
                        <a:pt x="7" y="40"/>
                      </a:lnTo>
                      <a:lnTo>
                        <a:pt x="7" y="43"/>
                      </a:lnTo>
                      <a:lnTo>
                        <a:pt x="7" y="45"/>
                      </a:lnTo>
                      <a:lnTo>
                        <a:pt x="8" y="47"/>
                      </a:lnTo>
                      <a:lnTo>
                        <a:pt x="8" y="48"/>
                      </a:lnTo>
                      <a:lnTo>
                        <a:pt x="8" y="51"/>
                      </a:lnTo>
                      <a:lnTo>
                        <a:pt x="8" y="52"/>
                      </a:lnTo>
                      <a:lnTo>
                        <a:pt x="9" y="54"/>
                      </a:lnTo>
                      <a:lnTo>
                        <a:pt x="9" y="55"/>
                      </a:lnTo>
                      <a:lnTo>
                        <a:pt x="10" y="56"/>
                      </a:lnTo>
                      <a:lnTo>
                        <a:pt x="10" y="58"/>
                      </a:lnTo>
                      <a:lnTo>
                        <a:pt x="11" y="59"/>
                      </a:lnTo>
                      <a:lnTo>
                        <a:pt x="11" y="60"/>
                      </a:lnTo>
                      <a:lnTo>
                        <a:pt x="12" y="61"/>
                      </a:lnTo>
                      <a:lnTo>
                        <a:pt x="13" y="62"/>
                      </a:lnTo>
                      <a:lnTo>
                        <a:pt x="13" y="63"/>
                      </a:lnTo>
                      <a:lnTo>
                        <a:pt x="15" y="64"/>
                      </a:lnTo>
                      <a:lnTo>
                        <a:pt x="16" y="66"/>
                      </a:lnTo>
                      <a:lnTo>
                        <a:pt x="17" y="67"/>
                      </a:lnTo>
                      <a:lnTo>
                        <a:pt x="18" y="68"/>
                      </a:lnTo>
                      <a:lnTo>
                        <a:pt x="19" y="69"/>
                      </a:lnTo>
                      <a:lnTo>
                        <a:pt x="20" y="69"/>
                      </a:lnTo>
                      <a:lnTo>
                        <a:pt x="23" y="70"/>
                      </a:lnTo>
                      <a:lnTo>
                        <a:pt x="24" y="71"/>
                      </a:lnTo>
                      <a:lnTo>
                        <a:pt x="25" y="73"/>
                      </a:lnTo>
                      <a:lnTo>
                        <a:pt x="27" y="74"/>
                      </a:lnTo>
                      <a:lnTo>
                        <a:pt x="30" y="75"/>
                      </a:lnTo>
                      <a:lnTo>
                        <a:pt x="31" y="76"/>
                      </a:lnTo>
                      <a:lnTo>
                        <a:pt x="33" y="77"/>
                      </a:lnTo>
                      <a:lnTo>
                        <a:pt x="35" y="79"/>
                      </a:lnTo>
                      <a:lnTo>
                        <a:pt x="34" y="79"/>
                      </a:lnTo>
                      <a:lnTo>
                        <a:pt x="33" y="79"/>
                      </a:lnTo>
                      <a:lnTo>
                        <a:pt x="32" y="79"/>
                      </a:lnTo>
                      <a:lnTo>
                        <a:pt x="31" y="78"/>
                      </a:lnTo>
                      <a:lnTo>
                        <a:pt x="30" y="78"/>
                      </a:lnTo>
                      <a:lnTo>
                        <a:pt x="29" y="78"/>
                      </a:lnTo>
                      <a:lnTo>
                        <a:pt x="27" y="77"/>
                      </a:lnTo>
                      <a:lnTo>
                        <a:pt x="26" y="77"/>
                      </a:lnTo>
                      <a:lnTo>
                        <a:pt x="25" y="77"/>
                      </a:lnTo>
                      <a:lnTo>
                        <a:pt x="25" y="76"/>
                      </a:lnTo>
                      <a:lnTo>
                        <a:pt x="24" y="76"/>
                      </a:lnTo>
                      <a:lnTo>
                        <a:pt x="23" y="75"/>
                      </a:lnTo>
                      <a:lnTo>
                        <a:pt x="22" y="74"/>
                      </a:lnTo>
                      <a:lnTo>
                        <a:pt x="20" y="74"/>
                      </a:lnTo>
                      <a:lnTo>
                        <a:pt x="19" y="73"/>
                      </a:lnTo>
                      <a:lnTo>
                        <a:pt x="18" y="71"/>
                      </a:lnTo>
                      <a:lnTo>
                        <a:pt x="17" y="71"/>
                      </a:lnTo>
                      <a:lnTo>
                        <a:pt x="16" y="70"/>
                      </a:lnTo>
                      <a:lnTo>
                        <a:pt x="15" y="69"/>
                      </a:lnTo>
                      <a:lnTo>
                        <a:pt x="13" y="69"/>
                      </a:lnTo>
                      <a:lnTo>
                        <a:pt x="12" y="68"/>
                      </a:lnTo>
                      <a:lnTo>
                        <a:pt x="11" y="67"/>
                      </a:lnTo>
                      <a:lnTo>
                        <a:pt x="10" y="67"/>
                      </a:lnTo>
                      <a:lnTo>
                        <a:pt x="9" y="66"/>
                      </a:lnTo>
                      <a:lnTo>
                        <a:pt x="8" y="66"/>
                      </a:lnTo>
                      <a:lnTo>
                        <a:pt x="7" y="64"/>
                      </a:lnTo>
                      <a:lnTo>
                        <a:pt x="7" y="63"/>
                      </a:lnTo>
                      <a:lnTo>
                        <a:pt x="5" y="63"/>
                      </a:lnTo>
                      <a:lnTo>
                        <a:pt x="4" y="62"/>
                      </a:lnTo>
                      <a:lnTo>
                        <a:pt x="3" y="62"/>
                      </a:lnTo>
                      <a:lnTo>
                        <a:pt x="3" y="61"/>
                      </a:lnTo>
                      <a:lnTo>
                        <a:pt x="3" y="59"/>
                      </a:lnTo>
                      <a:lnTo>
                        <a:pt x="3" y="58"/>
                      </a:lnTo>
                      <a:lnTo>
                        <a:pt x="3" y="56"/>
                      </a:lnTo>
                      <a:lnTo>
                        <a:pt x="3" y="55"/>
                      </a:lnTo>
                      <a:lnTo>
                        <a:pt x="3" y="53"/>
                      </a:lnTo>
                      <a:lnTo>
                        <a:pt x="3" y="52"/>
                      </a:lnTo>
                      <a:lnTo>
                        <a:pt x="2" y="51"/>
                      </a:lnTo>
                      <a:lnTo>
                        <a:pt x="2" y="49"/>
                      </a:lnTo>
                      <a:lnTo>
                        <a:pt x="2" y="48"/>
                      </a:lnTo>
                      <a:lnTo>
                        <a:pt x="2" y="46"/>
                      </a:lnTo>
                      <a:lnTo>
                        <a:pt x="2" y="45"/>
                      </a:lnTo>
                      <a:lnTo>
                        <a:pt x="1" y="44"/>
                      </a:lnTo>
                      <a:lnTo>
                        <a:pt x="1" y="43"/>
                      </a:lnTo>
                      <a:lnTo>
                        <a:pt x="1" y="41"/>
                      </a:lnTo>
                      <a:lnTo>
                        <a:pt x="1" y="40"/>
                      </a:lnTo>
                      <a:lnTo>
                        <a:pt x="1" y="38"/>
                      </a:lnTo>
                      <a:lnTo>
                        <a:pt x="1" y="37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3"/>
                      </a:lnTo>
                      <a:lnTo>
                        <a:pt x="0" y="31"/>
                      </a:lnTo>
                      <a:lnTo>
                        <a:pt x="0" y="30"/>
                      </a:ln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0" y="25"/>
                      </a:lnTo>
                      <a:lnTo>
                        <a:pt x="0" y="24"/>
                      </a:lnTo>
                      <a:lnTo>
                        <a:pt x="1" y="23"/>
                      </a:lnTo>
                      <a:lnTo>
                        <a:pt x="1" y="22"/>
                      </a:lnTo>
                      <a:lnTo>
                        <a:pt x="1" y="19"/>
                      </a:lnTo>
                      <a:lnTo>
                        <a:pt x="1" y="18"/>
                      </a:lnTo>
                      <a:lnTo>
                        <a:pt x="2" y="17"/>
                      </a:lnTo>
                      <a:lnTo>
                        <a:pt x="3" y="15"/>
                      </a:lnTo>
                      <a:lnTo>
                        <a:pt x="4" y="12"/>
                      </a:lnTo>
                      <a:lnTo>
                        <a:pt x="5" y="11"/>
                      </a:lnTo>
                      <a:lnTo>
                        <a:pt x="7" y="9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10" y="6"/>
                      </a:lnTo>
                      <a:lnTo>
                        <a:pt x="11" y="4"/>
                      </a:lnTo>
                      <a:lnTo>
                        <a:pt x="12" y="3"/>
                      </a:lnTo>
                      <a:lnTo>
                        <a:pt x="13" y="2"/>
                      </a:lnTo>
                      <a:lnTo>
                        <a:pt x="15" y="2"/>
                      </a:lnTo>
                      <a:lnTo>
                        <a:pt x="17" y="1"/>
                      </a:lnTo>
                      <a:lnTo>
                        <a:pt x="18" y="1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3" y="0"/>
                      </a:lnTo>
                      <a:lnTo>
                        <a:pt x="24" y="0"/>
                      </a:lnTo>
                      <a:lnTo>
                        <a:pt x="25" y="0"/>
                      </a:lnTo>
                      <a:lnTo>
                        <a:pt x="26" y="0"/>
                      </a:lnTo>
                      <a:lnTo>
                        <a:pt x="29" y="0"/>
                      </a:lnTo>
                      <a:lnTo>
                        <a:pt x="30" y="0"/>
                      </a:lnTo>
                      <a:lnTo>
                        <a:pt x="31" y="0"/>
                      </a:lnTo>
                      <a:lnTo>
                        <a:pt x="32" y="0"/>
                      </a:lnTo>
                      <a:lnTo>
                        <a:pt x="33" y="1"/>
                      </a:lnTo>
                      <a:lnTo>
                        <a:pt x="35" y="1"/>
                      </a:lnTo>
                      <a:lnTo>
                        <a:pt x="37" y="2"/>
                      </a:lnTo>
                      <a:lnTo>
                        <a:pt x="38" y="2"/>
                      </a:lnTo>
                      <a:lnTo>
                        <a:pt x="39" y="3"/>
                      </a:lnTo>
                      <a:lnTo>
                        <a:pt x="40" y="4"/>
                      </a:lnTo>
                      <a:lnTo>
                        <a:pt x="42" y="4"/>
                      </a:lnTo>
                      <a:lnTo>
                        <a:pt x="44" y="6"/>
                      </a:lnTo>
                      <a:lnTo>
                        <a:pt x="45" y="7"/>
                      </a:lnTo>
                      <a:lnTo>
                        <a:pt x="46" y="8"/>
                      </a:lnTo>
                      <a:lnTo>
                        <a:pt x="47" y="9"/>
                      </a:lnTo>
                      <a:lnTo>
                        <a:pt x="47" y="10"/>
                      </a:lnTo>
                      <a:lnTo>
                        <a:pt x="48" y="11"/>
                      </a:lnTo>
                      <a:lnTo>
                        <a:pt x="49" y="12"/>
                      </a:lnTo>
                      <a:lnTo>
                        <a:pt x="49" y="14"/>
                      </a:lnTo>
                      <a:lnTo>
                        <a:pt x="50" y="15"/>
                      </a:lnTo>
                      <a:lnTo>
                        <a:pt x="50" y="16"/>
                      </a:lnTo>
                      <a:lnTo>
                        <a:pt x="52" y="17"/>
                      </a:lnTo>
                      <a:lnTo>
                        <a:pt x="52" y="18"/>
                      </a:lnTo>
                      <a:lnTo>
                        <a:pt x="52" y="19"/>
                      </a:lnTo>
                      <a:lnTo>
                        <a:pt x="53" y="21"/>
                      </a:lnTo>
                      <a:lnTo>
                        <a:pt x="53" y="22"/>
                      </a:lnTo>
                      <a:lnTo>
                        <a:pt x="53" y="23"/>
                      </a:lnTo>
                      <a:lnTo>
                        <a:pt x="52" y="23"/>
                      </a:lnTo>
                      <a:lnTo>
                        <a:pt x="52" y="24"/>
                      </a:lnTo>
                      <a:lnTo>
                        <a:pt x="52" y="25"/>
                      </a:lnTo>
                      <a:lnTo>
                        <a:pt x="52" y="26"/>
                      </a:lnTo>
                      <a:lnTo>
                        <a:pt x="52" y="28"/>
                      </a:lnTo>
                      <a:lnTo>
                        <a:pt x="50" y="28"/>
                      </a:lnTo>
                      <a:lnTo>
                        <a:pt x="50" y="29"/>
                      </a:lnTo>
                      <a:lnTo>
                        <a:pt x="49" y="30"/>
                      </a:lnTo>
                      <a:lnTo>
                        <a:pt x="49" y="31"/>
                      </a:lnTo>
                      <a:lnTo>
                        <a:pt x="49" y="32"/>
                      </a:lnTo>
                      <a:lnTo>
                        <a:pt x="48" y="33"/>
                      </a:lnTo>
                      <a:lnTo>
                        <a:pt x="47" y="34"/>
                      </a:lnTo>
                      <a:lnTo>
                        <a:pt x="47" y="36"/>
                      </a:lnTo>
                      <a:lnTo>
                        <a:pt x="46" y="37"/>
                      </a:lnTo>
                      <a:lnTo>
                        <a:pt x="45" y="38"/>
                      </a:lnTo>
                      <a:lnTo>
                        <a:pt x="45" y="40"/>
                      </a:lnTo>
                      <a:lnTo>
                        <a:pt x="44" y="41"/>
                      </a:lnTo>
                      <a:lnTo>
                        <a:pt x="44" y="43"/>
                      </a:lnTo>
                      <a:lnTo>
                        <a:pt x="44" y="44"/>
                      </a:lnTo>
                      <a:lnTo>
                        <a:pt x="45" y="44"/>
                      </a:lnTo>
                      <a:lnTo>
                        <a:pt x="46" y="44"/>
                      </a:lnTo>
                      <a:lnTo>
                        <a:pt x="47" y="44"/>
                      </a:lnTo>
                      <a:lnTo>
                        <a:pt x="48" y="43"/>
                      </a:lnTo>
                      <a:close/>
                      <a:moveTo>
                        <a:pt x="469" y="84"/>
                      </a:moveTo>
                      <a:lnTo>
                        <a:pt x="468" y="84"/>
                      </a:lnTo>
                      <a:lnTo>
                        <a:pt x="468" y="83"/>
                      </a:lnTo>
                      <a:lnTo>
                        <a:pt x="468" y="82"/>
                      </a:lnTo>
                      <a:lnTo>
                        <a:pt x="468" y="81"/>
                      </a:lnTo>
                      <a:lnTo>
                        <a:pt x="468" y="79"/>
                      </a:lnTo>
                      <a:lnTo>
                        <a:pt x="468" y="78"/>
                      </a:lnTo>
                      <a:lnTo>
                        <a:pt x="468" y="77"/>
                      </a:lnTo>
                      <a:lnTo>
                        <a:pt x="468" y="76"/>
                      </a:lnTo>
                      <a:lnTo>
                        <a:pt x="468" y="75"/>
                      </a:lnTo>
                      <a:lnTo>
                        <a:pt x="468" y="74"/>
                      </a:lnTo>
                      <a:lnTo>
                        <a:pt x="466" y="74"/>
                      </a:lnTo>
                      <a:lnTo>
                        <a:pt x="466" y="73"/>
                      </a:lnTo>
                      <a:lnTo>
                        <a:pt x="466" y="71"/>
                      </a:lnTo>
                      <a:lnTo>
                        <a:pt x="465" y="71"/>
                      </a:lnTo>
                      <a:lnTo>
                        <a:pt x="465" y="70"/>
                      </a:lnTo>
                      <a:lnTo>
                        <a:pt x="464" y="70"/>
                      </a:lnTo>
                      <a:lnTo>
                        <a:pt x="464" y="69"/>
                      </a:lnTo>
                      <a:lnTo>
                        <a:pt x="463" y="69"/>
                      </a:lnTo>
                      <a:lnTo>
                        <a:pt x="462" y="68"/>
                      </a:lnTo>
                      <a:lnTo>
                        <a:pt x="461" y="68"/>
                      </a:lnTo>
                      <a:lnTo>
                        <a:pt x="459" y="67"/>
                      </a:lnTo>
                      <a:lnTo>
                        <a:pt x="458" y="67"/>
                      </a:lnTo>
                      <a:lnTo>
                        <a:pt x="457" y="67"/>
                      </a:lnTo>
                      <a:lnTo>
                        <a:pt x="456" y="67"/>
                      </a:lnTo>
                      <a:lnTo>
                        <a:pt x="455" y="67"/>
                      </a:lnTo>
                      <a:lnTo>
                        <a:pt x="454" y="67"/>
                      </a:lnTo>
                      <a:lnTo>
                        <a:pt x="453" y="67"/>
                      </a:lnTo>
                      <a:lnTo>
                        <a:pt x="451" y="67"/>
                      </a:lnTo>
                      <a:lnTo>
                        <a:pt x="450" y="67"/>
                      </a:lnTo>
                      <a:lnTo>
                        <a:pt x="450" y="68"/>
                      </a:lnTo>
                      <a:lnTo>
                        <a:pt x="449" y="68"/>
                      </a:lnTo>
                      <a:lnTo>
                        <a:pt x="448" y="68"/>
                      </a:lnTo>
                      <a:lnTo>
                        <a:pt x="448" y="69"/>
                      </a:lnTo>
                      <a:lnTo>
                        <a:pt x="447" y="69"/>
                      </a:lnTo>
                      <a:lnTo>
                        <a:pt x="446" y="70"/>
                      </a:lnTo>
                      <a:lnTo>
                        <a:pt x="444" y="71"/>
                      </a:lnTo>
                      <a:lnTo>
                        <a:pt x="443" y="73"/>
                      </a:lnTo>
                      <a:lnTo>
                        <a:pt x="442" y="74"/>
                      </a:lnTo>
                      <a:lnTo>
                        <a:pt x="441" y="75"/>
                      </a:lnTo>
                      <a:lnTo>
                        <a:pt x="440" y="76"/>
                      </a:lnTo>
                      <a:lnTo>
                        <a:pt x="439" y="77"/>
                      </a:lnTo>
                      <a:lnTo>
                        <a:pt x="439" y="78"/>
                      </a:lnTo>
                      <a:lnTo>
                        <a:pt x="438" y="79"/>
                      </a:lnTo>
                      <a:lnTo>
                        <a:pt x="438" y="81"/>
                      </a:lnTo>
                      <a:lnTo>
                        <a:pt x="438" y="82"/>
                      </a:lnTo>
                      <a:lnTo>
                        <a:pt x="438" y="83"/>
                      </a:lnTo>
                      <a:lnTo>
                        <a:pt x="438" y="84"/>
                      </a:lnTo>
                      <a:lnTo>
                        <a:pt x="439" y="86"/>
                      </a:lnTo>
                      <a:lnTo>
                        <a:pt x="439" y="88"/>
                      </a:lnTo>
                      <a:lnTo>
                        <a:pt x="439" y="89"/>
                      </a:lnTo>
                      <a:lnTo>
                        <a:pt x="439" y="90"/>
                      </a:lnTo>
                      <a:lnTo>
                        <a:pt x="440" y="91"/>
                      </a:lnTo>
                      <a:lnTo>
                        <a:pt x="440" y="92"/>
                      </a:lnTo>
                      <a:lnTo>
                        <a:pt x="440" y="93"/>
                      </a:lnTo>
                      <a:lnTo>
                        <a:pt x="441" y="95"/>
                      </a:lnTo>
                      <a:lnTo>
                        <a:pt x="441" y="96"/>
                      </a:lnTo>
                      <a:lnTo>
                        <a:pt x="442" y="97"/>
                      </a:lnTo>
                      <a:lnTo>
                        <a:pt x="442" y="98"/>
                      </a:lnTo>
                      <a:lnTo>
                        <a:pt x="443" y="99"/>
                      </a:lnTo>
                      <a:lnTo>
                        <a:pt x="443" y="100"/>
                      </a:lnTo>
                      <a:lnTo>
                        <a:pt x="444" y="101"/>
                      </a:lnTo>
                      <a:lnTo>
                        <a:pt x="444" y="103"/>
                      </a:lnTo>
                      <a:lnTo>
                        <a:pt x="446" y="103"/>
                      </a:lnTo>
                      <a:lnTo>
                        <a:pt x="447" y="104"/>
                      </a:lnTo>
                      <a:lnTo>
                        <a:pt x="447" y="105"/>
                      </a:lnTo>
                      <a:lnTo>
                        <a:pt x="448" y="106"/>
                      </a:lnTo>
                      <a:lnTo>
                        <a:pt x="448" y="107"/>
                      </a:lnTo>
                      <a:lnTo>
                        <a:pt x="449" y="108"/>
                      </a:lnTo>
                      <a:lnTo>
                        <a:pt x="450" y="110"/>
                      </a:lnTo>
                      <a:lnTo>
                        <a:pt x="450" y="111"/>
                      </a:lnTo>
                      <a:lnTo>
                        <a:pt x="451" y="111"/>
                      </a:lnTo>
                      <a:lnTo>
                        <a:pt x="453" y="112"/>
                      </a:lnTo>
                      <a:lnTo>
                        <a:pt x="453" y="113"/>
                      </a:lnTo>
                      <a:lnTo>
                        <a:pt x="454" y="114"/>
                      </a:lnTo>
                      <a:lnTo>
                        <a:pt x="455" y="115"/>
                      </a:lnTo>
                      <a:lnTo>
                        <a:pt x="455" y="114"/>
                      </a:lnTo>
                      <a:lnTo>
                        <a:pt x="454" y="113"/>
                      </a:lnTo>
                      <a:lnTo>
                        <a:pt x="454" y="112"/>
                      </a:lnTo>
                      <a:lnTo>
                        <a:pt x="453" y="111"/>
                      </a:lnTo>
                      <a:lnTo>
                        <a:pt x="453" y="110"/>
                      </a:lnTo>
                      <a:lnTo>
                        <a:pt x="453" y="108"/>
                      </a:lnTo>
                      <a:lnTo>
                        <a:pt x="451" y="108"/>
                      </a:lnTo>
                      <a:lnTo>
                        <a:pt x="451" y="107"/>
                      </a:lnTo>
                      <a:lnTo>
                        <a:pt x="450" y="106"/>
                      </a:lnTo>
                      <a:lnTo>
                        <a:pt x="450" y="105"/>
                      </a:lnTo>
                      <a:lnTo>
                        <a:pt x="449" y="104"/>
                      </a:lnTo>
                      <a:lnTo>
                        <a:pt x="449" y="103"/>
                      </a:lnTo>
                      <a:lnTo>
                        <a:pt x="448" y="101"/>
                      </a:lnTo>
                      <a:lnTo>
                        <a:pt x="448" y="100"/>
                      </a:lnTo>
                      <a:lnTo>
                        <a:pt x="447" y="100"/>
                      </a:lnTo>
                      <a:lnTo>
                        <a:pt x="447" y="99"/>
                      </a:lnTo>
                      <a:lnTo>
                        <a:pt x="446" y="98"/>
                      </a:lnTo>
                      <a:lnTo>
                        <a:pt x="446" y="97"/>
                      </a:lnTo>
                      <a:lnTo>
                        <a:pt x="446" y="96"/>
                      </a:lnTo>
                      <a:lnTo>
                        <a:pt x="444" y="96"/>
                      </a:lnTo>
                      <a:lnTo>
                        <a:pt x="444" y="95"/>
                      </a:lnTo>
                      <a:lnTo>
                        <a:pt x="444" y="93"/>
                      </a:lnTo>
                      <a:lnTo>
                        <a:pt x="443" y="92"/>
                      </a:lnTo>
                      <a:lnTo>
                        <a:pt x="443" y="91"/>
                      </a:lnTo>
                      <a:lnTo>
                        <a:pt x="443" y="90"/>
                      </a:lnTo>
                      <a:lnTo>
                        <a:pt x="442" y="89"/>
                      </a:lnTo>
                      <a:lnTo>
                        <a:pt x="442" y="88"/>
                      </a:lnTo>
                      <a:lnTo>
                        <a:pt x="442" y="86"/>
                      </a:lnTo>
                      <a:lnTo>
                        <a:pt x="442" y="85"/>
                      </a:lnTo>
                      <a:lnTo>
                        <a:pt x="442" y="84"/>
                      </a:lnTo>
                      <a:lnTo>
                        <a:pt x="443" y="83"/>
                      </a:lnTo>
                      <a:lnTo>
                        <a:pt x="444" y="83"/>
                      </a:lnTo>
                      <a:lnTo>
                        <a:pt x="446" y="82"/>
                      </a:lnTo>
                      <a:lnTo>
                        <a:pt x="447" y="82"/>
                      </a:lnTo>
                      <a:lnTo>
                        <a:pt x="448" y="81"/>
                      </a:lnTo>
                      <a:lnTo>
                        <a:pt x="449" y="81"/>
                      </a:lnTo>
                      <a:lnTo>
                        <a:pt x="450" y="81"/>
                      </a:lnTo>
                      <a:lnTo>
                        <a:pt x="451" y="81"/>
                      </a:lnTo>
                      <a:lnTo>
                        <a:pt x="453" y="81"/>
                      </a:lnTo>
                      <a:lnTo>
                        <a:pt x="454" y="81"/>
                      </a:lnTo>
                      <a:lnTo>
                        <a:pt x="454" y="82"/>
                      </a:lnTo>
                      <a:lnTo>
                        <a:pt x="455" y="82"/>
                      </a:lnTo>
                      <a:lnTo>
                        <a:pt x="456" y="82"/>
                      </a:lnTo>
                      <a:lnTo>
                        <a:pt x="456" y="83"/>
                      </a:lnTo>
                      <a:lnTo>
                        <a:pt x="457" y="83"/>
                      </a:lnTo>
                      <a:lnTo>
                        <a:pt x="458" y="84"/>
                      </a:lnTo>
                      <a:lnTo>
                        <a:pt x="458" y="85"/>
                      </a:lnTo>
                      <a:lnTo>
                        <a:pt x="458" y="86"/>
                      </a:lnTo>
                      <a:lnTo>
                        <a:pt x="458" y="88"/>
                      </a:lnTo>
                      <a:lnTo>
                        <a:pt x="458" y="89"/>
                      </a:lnTo>
                      <a:lnTo>
                        <a:pt x="458" y="90"/>
                      </a:lnTo>
                      <a:lnTo>
                        <a:pt x="457" y="90"/>
                      </a:lnTo>
                      <a:lnTo>
                        <a:pt x="457" y="91"/>
                      </a:lnTo>
                      <a:lnTo>
                        <a:pt x="457" y="92"/>
                      </a:lnTo>
                      <a:lnTo>
                        <a:pt x="456" y="93"/>
                      </a:lnTo>
                      <a:lnTo>
                        <a:pt x="456" y="95"/>
                      </a:lnTo>
                      <a:lnTo>
                        <a:pt x="456" y="96"/>
                      </a:lnTo>
                      <a:lnTo>
                        <a:pt x="455" y="96"/>
                      </a:lnTo>
                      <a:lnTo>
                        <a:pt x="455" y="97"/>
                      </a:lnTo>
                      <a:lnTo>
                        <a:pt x="455" y="98"/>
                      </a:lnTo>
                      <a:lnTo>
                        <a:pt x="455" y="99"/>
                      </a:lnTo>
                      <a:lnTo>
                        <a:pt x="455" y="100"/>
                      </a:lnTo>
                      <a:lnTo>
                        <a:pt x="456" y="100"/>
                      </a:lnTo>
                      <a:lnTo>
                        <a:pt x="456" y="101"/>
                      </a:lnTo>
                      <a:lnTo>
                        <a:pt x="457" y="101"/>
                      </a:lnTo>
                      <a:lnTo>
                        <a:pt x="458" y="103"/>
                      </a:lnTo>
                      <a:lnTo>
                        <a:pt x="459" y="103"/>
                      </a:lnTo>
                      <a:lnTo>
                        <a:pt x="459" y="104"/>
                      </a:lnTo>
                      <a:lnTo>
                        <a:pt x="461" y="104"/>
                      </a:lnTo>
                      <a:lnTo>
                        <a:pt x="462" y="104"/>
                      </a:lnTo>
                      <a:lnTo>
                        <a:pt x="463" y="105"/>
                      </a:lnTo>
                      <a:lnTo>
                        <a:pt x="464" y="105"/>
                      </a:lnTo>
                      <a:lnTo>
                        <a:pt x="465" y="105"/>
                      </a:lnTo>
                      <a:lnTo>
                        <a:pt x="466" y="106"/>
                      </a:lnTo>
                      <a:lnTo>
                        <a:pt x="468" y="106"/>
                      </a:lnTo>
                      <a:lnTo>
                        <a:pt x="469" y="106"/>
                      </a:lnTo>
                      <a:lnTo>
                        <a:pt x="470" y="106"/>
                      </a:lnTo>
                      <a:lnTo>
                        <a:pt x="470" y="107"/>
                      </a:lnTo>
                      <a:lnTo>
                        <a:pt x="471" y="107"/>
                      </a:lnTo>
                      <a:lnTo>
                        <a:pt x="472" y="107"/>
                      </a:lnTo>
                      <a:lnTo>
                        <a:pt x="473" y="107"/>
                      </a:lnTo>
                      <a:lnTo>
                        <a:pt x="475" y="107"/>
                      </a:lnTo>
                      <a:lnTo>
                        <a:pt x="476" y="107"/>
                      </a:lnTo>
                      <a:lnTo>
                        <a:pt x="477" y="107"/>
                      </a:lnTo>
                      <a:lnTo>
                        <a:pt x="478" y="107"/>
                      </a:lnTo>
                      <a:lnTo>
                        <a:pt x="479" y="107"/>
                      </a:lnTo>
                      <a:lnTo>
                        <a:pt x="480" y="107"/>
                      </a:lnTo>
                      <a:lnTo>
                        <a:pt x="481" y="107"/>
                      </a:lnTo>
                      <a:lnTo>
                        <a:pt x="483" y="107"/>
                      </a:lnTo>
                      <a:lnTo>
                        <a:pt x="483" y="106"/>
                      </a:lnTo>
                      <a:lnTo>
                        <a:pt x="484" y="106"/>
                      </a:lnTo>
                      <a:lnTo>
                        <a:pt x="484" y="105"/>
                      </a:lnTo>
                      <a:lnTo>
                        <a:pt x="485" y="105"/>
                      </a:lnTo>
                      <a:lnTo>
                        <a:pt x="484" y="105"/>
                      </a:lnTo>
                      <a:lnTo>
                        <a:pt x="483" y="104"/>
                      </a:lnTo>
                      <a:lnTo>
                        <a:pt x="481" y="104"/>
                      </a:lnTo>
                      <a:lnTo>
                        <a:pt x="481" y="103"/>
                      </a:lnTo>
                      <a:lnTo>
                        <a:pt x="480" y="103"/>
                      </a:lnTo>
                      <a:lnTo>
                        <a:pt x="480" y="101"/>
                      </a:lnTo>
                      <a:lnTo>
                        <a:pt x="479" y="101"/>
                      </a:lnTo>
                      <a:lnTo>
                        <a:pt x="479" y="100"/>
                      </a:lnTo>
                      <a:lnTo>
                        <a:pt x="478" y="100"/>
                      </a:lnTo>
                      <a:lnTo>
                        <a:pt x="478" y="99"/>
                      </a:lnTo>
                      <a:lnTo>
                        <a:pt x="478" y="98"/>
                      </a:lnTo>
                      <a:lnTo>
                        <a:pt x="477" y="98"/>
                      </a:lnTo>
                      <a:lnTo>
                        <a:pt x="477" y="97"/>
                      </a:lnTo>
                      <a:lnTo>
                        <a:pt x="477" y="96"/>
                      </a:lnTo>
                      <a:lnTo>
                        <a:pt x="477" y="95"/>
                      </a:lnTo>
                      <a:lnTo>
                        <a:pt x="477" y="93"/>
                      </a:lnTo>
                      <a:lnTo>
                        <a:pt x="477" y="92"/>
                      </a:lnTo>
                      <a:lnTo>
                        <a:pt x="478" y="92"/>
                      </a:lnTo>
                      <a:lnTo>
                        <a:pt x="478" y="91"/>
                      </a:lnTo>
                      <a:lnTo>
                        <a:pt x="478" y="90"/>
                      </a:lnTo>
                      <a:lnTo>
                        <a:pt x="479" y="89"/>
                      </a:lnTo>
                      <a:lnTo>
                        <a:pt x="479" y="88"/>
                      </a:lnTo>
                      <a:lnTo>
                        <a:pt x="479" y="86"/>
                      </a:lnTo>
                      <a:lnTo>
                        <a:pt x="480" y="86"/>
                      </a:lnTo>
                      <a:lnTo>
                        <a:pt x="480" y="85"/>
                      </a:lnTo>
                      <a:lnTo>
                        <a:pt x="480" y="84"/>
                      </a:lnTo>
                      <a:lnTo>
                        <a:pt x="480" y="83"/>
                      </a:lnTo>
                      <a:lnTo>
                        <a:pt x="480" y="82"/>
                      </a:lnTo>
                      <a:lnTo>
                        <a:pt x="480" y="81"/>
                      </a:lnTo>
                      <a:lnTo>
                        <a:pt x="480" y="79"/>
                      </a:lnTo>
                      <a:lnTo>
                        <a:pt x="479" y="81"/>
                      </a:lnTo>
                      <a:lnTo>
                        <a:pt x="478" y="81"/>
                      </a:lnTo>
                      <a:lnTo>
                        <a:pt x="478" y="82"/>
                      </a:lnTo>
                      <a:lnTo>
                        <a:pt x="477" y="82"/>
                      </a:lnTo>
                      <a:lnTo>
                        <a:pt x="477" y="83"/>
                      </a:lnTo>
                      <a:lnTo>
                        <a:pt x="476" y="83"/>
                      </a:lnTo>
                      <a:lnTo>
                        <a:pt x="476" y="84"/>
                      </a:lnTo>
                      <a:lnTo>
                        <a:pt x="475" y="84"/>
                      </a:lnTo>
                      <a:lnTo>
                        <a:pt x="473" y="85"/>
                      </a:lnTo>
                      <a:lnTo>
                        <a:pt x="472" y="86"/>
                      </a:lnTo>
                      <a:lnTo>
                        <a:pt x="472" y="88"/>
                      </a:lnTo>
                      <a:lnTo>
                        <a:pt x="471" y="88"/>
                      </a:lnTo>
                      <a:lnTo>
                        <a:pt x="470" y="89"/>
                      </a:lnTo>
                      <a:lnTo>
                        <a:pt x="469" y="90"/>
                      </a:lnTo>
                      <a:lnTo>
                        <a:pt x="468" y="90"/>
                      </a:lnTo>
                      <a:lnTo>
                        <a:pt x="468" y="91"/>
                      </a:lnTo>
                      <a:lnTo>
                        <a:pt x="466" y="91"/>
                      </a:lnTo>
                      <a:lnTo>
                        <a:pt x="466" y="92"/>
                      </a:lnTo>
                      <a:lnTo>
                        <a:pt x="465" y="92"/>
                      </a:lnTo>
                      <a:lnTo>
                        <a:pt x="465" y="93"/>
                      </a:lnTo>
                      <a:lnTo>
                        <a:pt x="464" y="93"/>
                      </a:lnTo>
                      <a:lnTo>
                        <a:pt x="463" y="92"/>
                      </a:lnTo>
                      <a:lnTo>
                        <a:pt x="463" y="91"/>
                      </a:lnTo>
                      <a:lnTo>
                        <a:pt x="464" y="91"/>
                      </a:lnTo>
                      <a:lnTo>
                        <a:pt x="464" y="90"/>
                      </a:lnTo>
                      <a:lnTo>
                        <a:pt x="464" y="89"/>
                      </a:lnTo>
                      <a:lnTo>
                        <a:pt x="465" y="89"/>
                      </a:lnTo>
                      <a:lnTo>
                        <a:pt x="465" y="88"/>
                      </a:lnTo>
                      <a:lnTo>
                        <a:pt x="465" y="86"/>
                      </a:lnTo>
                      <a:lnTo>
                        <a:pt x="466" y="86"/>
                      </a:lnTo>
                      <a:lnTo>
                        <a:pt x="466" y="85"/>
                      </a:lnTo>
                      <a:lnTo>
                        <a:pt x="468" y="85"/>
                      </a:lnTo>
                      <a:lnTo>
                        <a:pt x="469" y="84"/>
                      </a:lnTo>
                      <a:close/>
                      <a:moveTo>
                        <a:pt x="1425" y="79"/>
                      </a:moveTo>
                      <a:lnTo>
                        <a:pt x="1427" y="78"/>
                      </a:lnTo>
                      <a:lnTo>
                        <a:pt x="1428" y="77"/>
                      </a:lnTo>
                      <a:lnTo>
                        <a:pt x="1429" y="76"/>
                      </a:lnTo>
                      <a:lnTo>
                        <a:pt x="1430" y="75"/>
                      </a:lnTo>
                      <a:lnTo>
                        <a:pt x="1431" y="74"/>
                      </a:lnTo>
                      <a:lnTo>
                        <a:pt x="1432" y="73"/>
                      </a:lnTo>
                      <a:lnTo>
                        <a:pt x="1434" y="71"/>
                      </a:lnTo>
                      <a:lnTo>
                        <a:pt x="1434" y="70"/>
                      </a:lnTo>
                      <a:lnTo>
                        <a:pt x="1435" y="69"/>
                      </a:lnTo>
                      <a:lnTo>
                        <a:pt x="1436" y="69"/>
                      </a:lnTo>
                      <a:lnTo>
                        <a:pt x="1437" y="68"/>
                      </a:lnTo>
                      <a:lnTo>
                        <a:pt x="1438" y="67"/>
                      </a:lnTo>
                      <a:lnTo>
                        <a:pt x="1439" y="66"/>
                      </a:lnTo>
                      <a:lnTo>
                        <a:pt x="1440" y="64"/>
                      </a:lnTo>
                      <a:lnTo>
                        <a:pt x="1442" y="63"/>
                      </a:lnTo>
                      <a:lnTo>
                        <a:pt x="1443" y="63"/>
                      </a:lnTo>
                      <a:lnTo>
                        <a:pt x="1444" y="62"/>
                      </a:lnTo>
                      <a:lnTo>
                        <a:pt x="1445" y="61"/>
                      </a:lnTo>
                      <a:lnTo>
                        <a:pt x="1446" y="61"/>
                      </a:lnTo>
                      <a:lnTo>
                        <a:pt x="1447" y="60"/>
                      </a:lnTo>
                      <a:lnTo>
                        <a:pt x="1449" y="59"/>
                      </a:lnTo>
                      <a:lnTo>
                        <a:pt x="1450" y="59"/>
                      </a:lnTo>
                      <a:lnTo>
                        <a:pt x="1451" y="59"/>
                      </a:lnTo>
                      <a:lnTo>
                        <a:pt x="1452" y="58"/>
                      </a:lnTo>
                      <a:lnTo>
                        <a:pt x="1453" y="58"/>
                      </a:lnTo>
                      <a:lnTo>
                        <a:pt x="1454" y="58"/>
                      </a:lnTo>
                      <a:lnTo>
                        <a:pt x="1457" y="58"/>
                      </a:lnTo>
                      <a:lnTo>
                        <a:pt x="1458" y="58"/>
                      </a:lnTo>
                      <a:lnTo>
                        <a:pt x="1459" y="58"/>
                      </a:lnTo>
                      <a:lnTo>
                        <a:pt x="1460" y="58"/>
                      </a:lnTo>
                      <a:lnTo>
                        <a:pt x="1462" y="58"/>
                      </a:lnTo>
                      <a:lnTo>
                        <a:pt x="1464" y="59"/>
                      </a:lnTo>
                      <a:lnTo>
                        <a:pt x="1464" y="61"/>
                      </a:lnTo>
                      <a:lnTo>
                        <a:pt x="1462" y="64"/>
                      </a:lnTo>
                      <a:lnTo>
                        <a:pt x="1462" y="67"/>
                      </a:lnTo>
                      <a:lnTo>
                        <a:pt x="1462" y="70"/>
                      </a:lnTo>
                      <a:lnTo>
                        <a:pt x="1461" y="73"/>
                      </a:lnTo>
                      <a:lnTo>
                        <a:pt x="1461" y="75"/>
                      </a:lnTo>
                      <a:lnTo>
                        <a:pt x="1461" y="77"/>
                      </a:lnTo>
                      <a:lnTo>
                        <a:pt x="1460" y="79"/>
                      </a:lnTo>
                      <a:lnTo>
                        <a:pt x="1460" y="81"/>
                      </a:lnTo>
                      <a:lnTo>
                        <a:pt x="1459" y="83"/>
                      </a:lnTo>
                      <a:lnTo>
                        <a:pt x="1459" y="84"/>
                      </a:lnTo>
                      <a:lnTo>
                        <a:pt x="1458" y="86"/>
                      </a:lnTo>
                      <a:lnTo>
                        <a:pt x="1457" y="88"/>
                      </a:lnTo>
                      <a:lnTo>
                        <a:pt x="1457" y="89"/>
                      </a:lnTo>
                      <a:lnTo>
                        <a:pt x="1455" y="90"/>
                      </a:lnTo>
                      <a:lnTo>
                        <a:pt x="1455" y="91"/>
                      </a:lnTo>
                      <a:lnTo>
                        <a:pt x="1454" y="92"/>
                      </a:lnTo>
                      <a:lnTo>
                        <a:pt x="1453" y="93"/>
                      </a:lnTo>
                      <a:lnTo>
                        <a:pt x="1452" y="95"/>
                      </a:lnTo>
                      <a:lnTo>
                        <a:pt x="1451" y="95"/>
                      </a:lnTo>
                      <a:lnTo>
                        <a:pt x="1451" y="96"/>
                      </a:lnTo>
                      <a:lnTo>
                        <a:pt x="1450" y="96"/>
                      </a:lnTo>
                      <a:lnTo>
                        <a:pt x="1449" y="96"/>
                      </a:lnTo>
                      <a:lnTo>
                        <a:pt x="1447" y="96"/>
                      </a:lnTo>
                      <a:lnTo>
                        <a:pt x="1446" y="96"/>
                      </a:lnTo>
                      <a:lnTo>
                        <a:pt x="1445" y="96"/>
                      </a:lnTo>
                      <a:lnTo>
                        <a:pt x="1444" y="96"/>
                      </a:lnTo>
                      <a:lnTo>
                        <a:pt x="1443" y="95"/>
                      </a:lnTo>
                      <a:lnTo>
                        <a:pt x="1444" y="95"/>
                      </a:lnTo>
                      <a:lnTo>
                        <a:pt x="1445" y="95"/>
                      </a:lnTo>
                      <a:lnTo>
                        <a:pt x="1446" y="95"/>
                      </a:lnTo>
                      <a:lnTo>
                        <a:pt x="1446" y="93"/>
                      </a:lnTo>
                      <a:lnTo>
                        <a:pt x="1447" y="93"/>
                      </a:lnTo>
                      <a:lnTo>
                        <a:pt x="1449" y="93"/>
                      </a:lnTo>
                      <a:lnTo>
                        <a:pt x="1450" y="93"/>
                      </a:lnTo>
                      <a:lnTo>
                        <a:pt x="1450" y="92"/>
                      </a:lnTo>
                      <a:lnTo>
                        <a:pt x="1451" y="92"/>
                      </a:lnTo>
                      <a:lnTo>
                        <a:pt x="1452" y="92"/>
                      </a:lnTo>
                      <a:lnTo>
                        <a:pt x="1452" y="91"/>
                      </a:lnTo>
                      <a:lnTo>
                        <a:pt x="1453" y="91"/>
                      </a:lnTo>
                      <a:lnTo>
                        <a:pt x="1454" y="90"/>
                      </a:lnTo>
                      <a:lnTo>
                        <a:pt x="1454" y="89"/>
                      </a:lnTo>
                      <a:lnTo>
                        <a:pt x="1455" y="88"/>
                      </a:lnTo>
                      <a:lnTo>
                        <a:pt x="1455" y="86"/>
                      </a:lnTo>
                      <a:lnTo>
                        <a:pt x="1455" y="85"/>
                      </a:lnTo>
                      <a:lnTo>
                        <a:pt x="1455" y="84"/>
                      </a:lnTo>
                      <a:lnTo>
                        <a:pt x="1455" y="83"/>
                      </a:lnTo>
                      <a:lnTo>
                        <a:pt x="1455" y="82"/>
                      </a:lnTo>
                      <a:lnTo>
                        <a:pt x="1455" y="81"/>
                      </a:lnTo>
                      <a:lnTo>
                        <a:pt x="1457" y="79"/>
                      </a:lnTo>
                      <a:lnTo>
                        <a:pt x="1457" y="78"/>
                      </a:lnTo>
                      <a:lnTo>
                        <a:pt x="1457" y="77"/>
                      </a:lnTo>
                      <a:lnTo>
                        <a:pt x="1458" y="76"/>
                      </a:lnTo>
                      <a:lnTo>
                        <a:pt x="1458" y="75"/>
                      </a:lnTo>
                      <a:lnTo>
                        <a:pt x="1458" y="74"/>
                      </a:lnTo>
                      <a:lnTo>
                        <a:pt x="1458" y="73"/>
                      </a:lnTo>
                      <a:lnTo>
                        <a:pt x="1458" y="71"/>
                      </a:lnTo>
                      <a:lnTo>
                        <a:pt x="1458" y="70"/>
                      </a:lnTo>
                      <a:lnTo>
                        <a:pt x="1459" y="69"/>
                      </a:lnTo>
                      <a:lnTo>
                        <a:pt x="1459" y="68"/>
                      </a:lnTo>
                      <a:lnTo>
                        <a:pt x="1459" y="67"/>
                      </a:lnTo>
                      <a:lnTo>
                        <a:pt x="1459" y="66"/>
                      </a:lnTo>
                      <a:lnTo>
                        <a:pt x="1459" y="64"/>
                      </a:lnTo>
                      <a:lnTo>
                        <a:pt x="1458" y="63"/>
                      </a:lnTo>
                      <a:lnTo>
                        <a:pt x="1458" y="62"/>
                      </a:lnTo>
                      <a:lnTo>
                        <a:pt x="1457" y="62"/>
                      </a:lnTo>
                      <a:lnTo>
                        <a:pt x="1457" y="61"/>
                      </a:lnTo>
                      <a:lnTo>
                        <a:pt x="1455" y="61"/>
                      </a:lnTo>
                      <a:lnTo>
                        <a:pt x="1455" y="62"/>
                      </a:lnTo>
                      <a:lnTo>
                        <a:pt x="1454" y="63"/>
                      </a:lnTo>
                      <a:lnTo>
                        <a:pt x="1454" y="64"/>
                      </a:lnTo>
                      <a:lnTo>
                        <a:pt x="1453" y="66"/>
                      </a:lnTo>
                      <a:lnTo>
                        <a:pt x="1452" y="67"/>
                      </a:lnTo>
                      <a:lnTo>
                        <a:pt x="1452" y="68"/>
                      </a:lnTo>
                      <a:lnTo>
                        <a:pt x="1451" y="68"/>
                      </a:lnTo>
                      <a:lnTo>
                        <a:pt x="1451" y="69"/>
                      </a:lnTo>
                      <a:lnTo>
                        <a:pt x="1450" y="70"/>
                      </a:lnTo>
                      <a:lnTo>
                        <a:pt x="1449" y="71"/>
                      </a:lnTo>
                      <a:lnTo>
                        <a:pt x="1449" y="73"/>
                      </a:lnTo>
                      <a:lnTo>
                        <a:pt x="1447" y="73"/>
                      </a:lnTo>
                      <a:lnTo>
                        <a:pt x="1446" y="74"/>
                      </a:lnTo>
                      <a:lnTo>
                        <a:pt x="1446" y="75"/>
                      </a:lnTo>
                      <a:lnTo>
                        <a:pt x="1446" y="76"/>
                      </a:lnTo>
                      <a:lnTo>
                        <a:pt x="1446" y="77"/>
                      </a:lnTo>
                      <a:lnTo>
                        <a:pt x="1446" y="78"/>
                      </a:lnTo>
                      <a:lnTo>
                        <a:pt x="1447" y="79"/>
                      </a:lnTo>
                      <a:lnTo>
                        <a:pt x="1449" y="81"/>
                      </a:lnTo>
                      <a:lnTo>
                        <a:pt x="1449" y="82"/>
                      </a:lnTo>
                      <a:lnTo>
                        <a:pt x="1450" y="83"/>
                      </a:lnTo>
                      <a:lnTo>
                        <a:pt x="1451" y="84"/>
                      </a:lnTo>
                      <a:lnTo>
                        <a:pt x="1451" y="85"/>
                      </a:lnTo>
                      <a:lnTo>
                        <a:pt x="1450" y="85"/>
                      </a:lnTo>
                      <a:lnTo>
                        <a:pt x="1450" y="86"/>
                      </a:lnTo>
                      <a:lnTo>
                        <a:pt x="1449" y="88"/>
                      </a:lnTo>
                      <a:lnTo>
                        <a:pt x="1447" y="88"/>
                      </a:lnTo>
                      <a:lnTo>
                        <a:pt x="1447" y="89"/>
                      </a:lnTo>
                      <a:lnTo>
                        <a:pt x="1446" y="89"/>
                      </a:lnTo>
                      <a:lnTo>
                        <a:pt x="1446" y="90"/>
                      </a:lnTo>
                      <a:lnTo>
                        <a:pt x="1445" y="90"/>
                      </a:lnTo>
                      <a:lnTo>
                        <a:pt x="1444" y="90"/>
                      </a:lnTo>
                      <a:lnTo>
                        <a:pt x="1444" y="91"/>
                      </a:lnTo>
                      <a:lnTo>
                        <a:pt x="1443" y="91"/>
                      </a:lnTo>
                      <a:lnTo>
                        <a:pt x="1442" y="92"/>
                      </a:lnTo>
                      <a:lnTo>
                        <a:pt x="1440" y="92"/>
                      </a:lnTo>
                      <a:lnTo>
                        <a:pt x="1439" y="93"/>
                      </a:lnTo>
                      <a:lnTo>
                        <a:pt x="1438" y="93"/>
                      </a:lnTo>
                      <a:lnTo>
                        <a:pt x="1437" y="95"/>
                      </a:lnTo>
                      <a:lnTo>
                        <a:pt x="1436" y="95"/>
                      </a:lnTo>
                      <a:lnTo>
                        <a:pt x="1435" y="96"/>
                      </a:lnTo>
                      <a:lnTo>
                        <a:pt x="1434" y="97"/>
                      </a:lnTo>
                      <a:lnTo>
                        <a:pt x="1432" y="97"/>
                      </a:lnTo>
                      <a:lnTo>
                        <a:pt x="1431" y="98"/>
                      </a:lnTo>
                      <a:lnTo>
                        <a:pt x="1430" y="98"/>
                      </a:lnTo>
                      <a:lnTo>
                        <a:pt x="1430" y="99"/>
                      </a:lnTo>
                      <a:lnTo>
                        <a:pt x="1430" y="98"/>
                      </a:lnTo>
                      <a:lnTo>
                        <a:pt x="1430" y="97"/>
                      </a:lnTo>
                      <a:lnTo>
                        <a:pt x="1430" y="96"/>
                      </a:lnTo>
                      <a:lnTo>
                        <a:pt x="1430" y="95"/>
                      </a:lnTo>
                      <a:lnTo>
                        <a:pt x="1431" y="95"/>
                      </a:lnTo>
                      <a:lnTo>
                        <a:pt x="1431" y="93"/>
                      </a:lnTo>
                      <a:lnTo>
                        <a:pt x="1430" y="92"/>
                      </a:lnTo>
                      <a:lnTo>
                        <a:pt x="1430" y="91"/>
                      </a:lnTo>
                      <a:lnTo>
                        <a:pt x="1430" y="90"/>
                      </a:lnTo>
                      <a:lnTo>
                        <a:pt x="1429" y="89"/>
                      </a:lnTo>
                      <a:lnTo>
                        <a:pt x="1429" y="88"/>
                      </a:lnTo>
                      <a:lnTo>
                        <a:pt x="1428" y="86"/>
                      </a:lnTo>
                      <a:lnTo>
                        <a:pt x="1427" y="85"/>
                      </a:lnTo>
                      <a:lnTo>
                        <a:pt x="1425" y="85"/>
                      </a:lnTo>
                      <a:lnTo>
                        <a:pt x="1425" y="84"/>
                      </a:lnTo>
                      <a:lnTo>
                        <a:pt x="1425" y="83"/>
                      </a:lnTo>
                      <a:lnTo>
                        <a:pt x="1425" y="82"/>
                      </a:lnTo>
                      <a:lnTo>
                        <a:pt x="1425" y="81"/>
                      </a:lnTo>
                      <a:lnTo>
                        <a:pt x="1425" y="79"/>
                      </a:lnTo>
                      <a:close/>
                      <a:moveTo>
                        <a:pt x="2054" y="110"/>
                      </a:moveTo>
                      <a:lnTo>
                        <a:pt x="2054" y="108"/>
                      </a:lnTo>
                      <a:lnTo>
                        <a:pt x="2055" y="107"/>
                      </a:lnTo>
                      <a:lnTo>
                        <a:pt x="2056" y="106"/>
                      </a:lnTo>
                      <a:lnTo>
                        <a:pt x="2057" y="105"/>
                      </a:lnTo>
                      <a:lnTo>
                        <a:pt x="2059" y="104"/>
                      </a:lnTo>
                      <a:lnTo>
                        <a:pt x="2060" y="104"/>
                      </a:lnTo>
                      <a:lnTo>
                        <a:pt x="2061" y="103"/>
                      </a:lnTo>
                      <a:lnTo>
                        <a:pt x="2062" y="103"/>
                      </a:lnTo>
                      <a:lnTo>
                        <a:pt x="2063" y="103"/>
                      </a:lnTo>
                      <a:lnTo>
                        <a:pt x="2064" y="103"/>
                      </a:lnTo>
                      <a:lnTo>
                        <a:pt x="2066" y="104"/>
                      </a:lnTo>
                      <a:lnTo>
                        <a:pt x="2067" y="104"/>
                      </a:lnTo>
                      <a:lnTo>
                        <a:pt x="2068" y="104"/>
                      </a:lnTo>
                      <a:lnTo>
                        <a:pt x="2069" y="105"/>
                      </a:lnTo>
                      <a:lnTo>
                        <a:pt x="2070" y="105"/>
                      </a:lnTo>
                      <a:lnTo>
                        <a:pt x="2071" y="106"/>
                      </a:lnTo>
                      <a:lnTo>
                        <a:pt x="2073" y="106"/>
                      </a:lnTo>
                      <a:lnTo>
                        <a:pt x="2074" y="107"/>
                      </a:lnTo>
                      <a:lnTo>
                        <a:pt x="2074" y="108"/>
                      </a:lnTo>
                      <a:lnTo>
                        <a:pt x="2075" y="110"/>
                      </a:lnTo>
                      <a:lnTo>
                        <a:pt x="2076" y="110"/>
                      </a:lnTo>
                      <a:lnTo>
                        <a:pt x="2077" y="111"/>
                      </a:lnTo>
                      <a:lnTo>
                        <a:pt x="2078" y="112"/>
                      </a:lnTo>
                      <a:lnTo>
                        <a:pt x="2079" y="113"/>
                      </a:lnTo>
                      <a:lnTo>
                        <a:pt x="2079" y="114"/>
                      </a:lnTo>
                      <a:lnTo>
                        <a:pt x="2081" y="115"/>
                      </a:lnTo>
                      <a:lnTo>
                        <a:pt x="2082" y="116"/>
                      </a:lnTo>
                      <a:lnTo>
                        <a:pt x="2083" y="116"/>
                      </a:lnTo>
                      <a:lnTo>
                        <a:pt x="2083" y="118"/>
                      </a:lnTo>
                      <a:lnTo>
                        <a:pt x="2084" y="119"/>
                      </a:lnTo>
                      <a:lnTo>
                        <a:pt x="2088" y="136"/>
                      </a:lnTo>
                      <a:lnTo>
                        <a:pt x="2088" y="137"/>
                      </a:lnTo>
                      <a:lnTo>
                        <a:pt x="2086" y="137"/>
                      </a:lnTo>
                      <a:lnTo>
                        <a:pt x="2086" y="138"/>
                      </a:lnTo>
                      <a:lnTo>
                        <a:pt x="2085" y="140"/>
                      </a:lnTo>
                      <a:lnTo>
                        <a:pt x="2085" y="141"/>
                      </a:lnTo>
                      <a:lnTo>
                        <a:pt x="2084" y="141"/>
                      </a:lnTo>
                      <a:lnTo>
                        <a:pt x="2084" y="142"/>
                      </a:lnTo>
                      <a:lnTo>
                        <a:pt x="2084" y="143"/>
                      </a:lnTo>
                      <a:lnTo>
                        <a:pt x="2083" y="144"/>
                      </a:lnTo>
                      <a:lnTo>
                        <a:pt x="2083" y="145"/>
                      </a:lnTo>
                      <a:lnTo>
                        <a:pt x="2082" y="146"/>
                      </a:lnTo>
                      <a:lnTo>
                        <a:pt x="2081" y="148"/>
                      </a:lnTo>
                      <a:lnTo>
                        <a:pt x="2081" y="149"/>
                      </a:lnTo>
                      <a:lnTo>
                        <a:pt x="2079" y="150"/>
                      </a:lnTo>
                      <a:lnTo>
                        <a:pt x="2079" y="151"/>
                      </a:lnTo>
                      <a:lnTo>
                        <a:pt x="2078" y="152"/>
                      </a:lnTo>
                      <a:lnTo>
                        <a:pt x="2077" y="153"/>
                      </a:lnTo>
                      <a:lnTo>
                        <a:pt x="2077" y="155"/>
                      </a:lnTo>
                      <a:lnTo>
                        <a:pt x="2076" y="156"/>
                      </a:lnTo>
                      <a:lnTo>
                        <a:pt x="2075" y="157"/>
                      </a:lnTo>
                      <a:lnTo>
                        <a:pt x="2074" y="158"/>
                      </a:lnTo>
                      <a:lnTo>
                        <a:pt x="2073" y="158"/>
                      </a:lnTo>
                      <a:lnTo>
                        <a:pt x="2073" y="159"/>
                      </a:lnTo>
                      <a:lnTo>
                        <a:pt x="2071" y="159"/>
                      </a:lnTo>
                      <a:lnTo>
                        <a:pt x="2070" y="159"/>
                      </a:lnTo>
                      <a:lnTo>
                        <a:pt x="2069" y="160"/>
                      </a:lnTo>
                      <a:lnTo>
                        <a:pt x="2076" y="146"/>
                      </a:lnTo>
                      <a:lnTo>
                        <a:pt x="2076" y="144"/>
                      </a:lnTo>
                      <a:lnTo>
                        <a:pt x="2076" y="143"/>
                      </a:lnTo>
                      <a:lnTo>
                        <a:pt x="2077" y="142"/>
                      </a:lnTo>
                      <a:lnTo>
                        <a:pt x="2077" y="141"/>
                      </a:lnTo>
                      <a:lnTo>
                        <a:pt x="2077" y="138"/>
                      </a:lnTo>
                      <a:lnTo>
                        <a:pt x="2077" y="137"/>
                      </a:lnTo>
                      <a:lnTo>
                        <a:pt x="2077" y="136"/>
                      </a:lnTo>
                      <a:lnTo>
                        <a:pt x="2077" y="135"/>
                      </a:lnTo>
                      <a:lnTo>
                        <a:pt x="2077" y="134"/>
                      </a:lnTo>
                      <a:lnTo>
                        <a:pt x="2077" y="133"/>
                      </a:lnTo>
                      <a:lnTo>
                        <a:pt x="2077" y="131"/>
                      </a:lnTo>
                      <a:lnTo>
                        <a:pt x="2077" y="130"/>
                      </a:lnTo>
                      <a:lnTo>
                        <a:pt x="2077" y="129"/>
                      </a:lnTo>
                      <a:lnTo>
                        <a:pt x="2076" y="128"/>
                      </a:lnTo>
                      <a:lnTo>
                        <a:pt x="2076" y="127"/>
                      </a:lnTo>
                      <a:lnTo>
                        <a:pt x="2076" y="126"/>
                      </a:lnTo>
                      <a:lnTo>
                        <a:pt x="2076" y="125"/>
                      </a:lnTo>
                      <a:lnTo>
                        <a:pt x="2076" y="123"/>
                      </a:lnTo>
                      <a:lnTo>
                        <a:pt x="2075" y="122"/>
                      </a:lnTo>
                      <a:lnTo>
                        <a:pt x="2075" y="121"/>
                      </a:lnTo>
                      <a:lnTo>
                        <a:pt x="2074" y="120"/>
                      </a:lnTo>
                      <a:lnTo>
                        <a:pt x="2074" y="119"/>
                      </a:lnTo>
                      <a:lnTo>
                        <a:pt x="2073" y="119"/>
                      </a:lnTo>
                      <a:lnTo>
                        <a:pt x="2073" y="118"/>
                      </a:lnTo>
                      <a:lnTo>
                        <a:pt x="2071" y="118"/>
                      </a:lnTo>
                      <a:lnTo>
                        <a:pt x="2070" y="116"/>
                      </a:lnTo>
                      <a:lnTo>
                        <a:pt x="2069" y="116"/>
                      </a:lnTo>
                      <a:lnTo>
                        <a:pt x="2068" y="115"/>
                      </a:lnTo>
                      <a:lnTo>
                        <a:pt x="2067" y="115"/>
                      </a:lnTo>
                      <a:lnTo>
                        <a:pt x="2067" y="116"/>
                      </a:lnTo>
                      <a:lnTo>
                        <a:pt x="2067" y="118"/>
                      </a:lnTo>
                      <a:lnTo>
                        <a:pt x="2067" y="119"/>
                      </a:lnTo>
                      <a:lnTo>
                        <a:pt x="2067" y="120"/>
                      </a:lnTo>
                      <a:lnTo>
                        <a:pt x="2067" y="121"/>
                      </a:lnTo>
                      <a:lnTo>
                        <a:pt x="2067" y="122"/>
                      </a:lnTo>
                      <a:lnTo>
                        <a:pt x="2067" y="123"/>
                      </a:lnTo>
                      <a:lnTo>
                        <a:pt x="2068" y="123"/>
                      </a:lnTo>
                      <a:lnTo>
                        <a:pt x="2068" y="125"/>
                      </a:lnTo>
                      <a:lnTo>
                        <a:pt x="2068" y="126"/>
                      </a:lnTo>
                      <a:lnTo>
                        <a:pt x="2068" y="127"/>
                      </a:lnTo>
                      <a:lnTo>
                        <a:pt x="2068" y="128"/>
                      </a:lnTo>
                      <a:lnTo>
                        <a:pt x="2069" y="128"/>
                      </a:lnTo>
                      <a:lnTo>
                        <a:pt x="2069" y="129"/>
                      </a:lnTo>
                      <a:lnTo>
                        <a:pt x="2069" y="130"/>
                      </a:lnTo>
                      <a:lnTo>
                        <a:pt x="2069" y="131"/>
                      </a:lnTo>
                      <a:lnTo>
                        <a:pt x="2070" y="133"/>
                      </a:lnTo>
                      <a:lnTo>
                        <a:pt x="2070" y="134"/>
                      </a:lnTo>
                      <a:lnTo>
                        <a:pt x="2070" y="135"/>
                      </a:lnTo>
                      <a:lnTo>
                        <a:pt x="2070" y="136"/>
                      </a:lnTo>
                      <a:lnTo>
                        <a:pt x="2070" y="137"/>
                      </a:lnTo>
                      <a:lnTo>
                        <a:pt x="2070" y="138"/>
                      </a:lnTo>
                      <a:lnTo>
                        <a:pt x="2070" y="140"/>
                      </a:lnTo>
                      <a:lnTo>
                        <a:pt x="2070" y="141"/>
                      </a:lnTo>
                      <a:lnTo>
                        <a:pt x="2070" y="142"/>
                      </a:lnTo>
                      <a:lnTo>
                        <a:pt x="2069" y="142"/>
                      </a:lnTo>
                      <a:lnTo>
                        <a:pt x="2068" y="143"/>
                      </a:lnTo>
                      <a:lnTo>
                        <a:pt x="2067" y="143"/>
                      </a:lnTo>
                      <a:lnTo>
                        <a:pt x="2067" y="144"/>
                      </a:lnTo>
                      <a:lnTo>
                        <a:pt x="2066" y="144"/>
                      </a:lnTo>
                      <a:lnTo>
                        <a:pt x="2066" y="145"/>
                      </a:lnTo>
                      <a:lnTo>
                        <a:pt x="2064" y="145"/>
                      </a:lnTo>
                      <a:lnTo>
                        <a:pt x="2063" y="146"/>
                      </a:lnTo>
                      <a:lnTo>
                        <a:pt x="2063" y="148"/>
                      </a:lnTo>
                      <a:lnTo>
                        <a:pt x="2062" y="148"/>
                      </a:lnTo>
                      <a:lnTo>
                        <a:pt x="2061" y="149"/>
                      </a:lnTo>
                      <a:lnTo>
                        <a:pt x="2061" y="150"/>
                      </a:lnTo>
                      <a:lnTo>
                        <a:pt x="2060" y="150"/>
                      </a:lnTo>
                      <a:lnTo>
                        <a:pt x="2059" y="151"/>
                      </a:lnTo>
                      <a:lnTo>
                        <a:pt x="2059" y="152"/>
                      </a:lnTo>
                      <a:lnTo>
                        <a:pt x="2057" y="152"/>
                      </a:lnTo>
                      <a:lnTo>
                        <a:pt x="2056" y="153"/>
                      </a:lnTo>
                      <a:lnTo>
                        <a:pt x="2055" y="155"/>
                      </a:lnTo>
                      <a:lnTo>
                        <a:pt x="2054" y="156"/>
                      </a:lnTo>
                      <a:lnTo>
                        <a:pt x="2053" y="156"/>
                      </a:lnTo>
                      <a:lnTo>
                        <a:pt x="2052" y="157"/>
                      </a:lnTo>
                      <a:lnTo>
                        <a:pt x="2051" y="157"/>
                      </a:lnTo>
                      <a:lnTo>
                        <a:pt x="2049" y="157"/>
                      </a:lnTo>
                      <a:lnTo>
                        <a:pt x="2049" y="158"/>
                      </a:lnTo>
                      <a:lnTo>
                        <a:pt x="2048" y="158"/>
                      </a:lnTo>
                      <a:lnTo>
                        <a:pt x="2047" y="158"/>
                      </a:lnTo>
                      <a:lnTo>
                        <a:pt x="2048" y="157"/>
                      </a:lnTo>
                      <a:lnTo>
                        <a:pt x="2049" y="156"/>
                      </a:lnTo>
                      <a:lnTo>
                        <a:pt x="2049" y="155"/>
                      </a:lnTo>
                      <a:lnTo>
                        <a:pt x="2051" y="153"/>
                      </a:lnTo>
                      <a:lnTo>
                        <a:pt x="2052" y="152"/>
                      </a:lnTo>
                      <a:lnTo>
                        <a:pt x="2052" y="151"/>
                      </a:lnTo>
                      <a:lnTo>
                        <a:pt x="2052" y="150"/>
                      </a:lnTo>
                      <a:lnTo>
                        <a:pt x="2052" y="149"/>
                      </a:lnTo>
                      <a:lnTo>
                        <a:pt x="2052" y="148"/>
                      </a:lnTo>
                      <a:lnTo>
                        <a:pt x="2052" y="146"/>
                      </a:lnTo>
                      <a:lnTo>
                        <a:pt x="2052" y="145"/>
                      </a:lnTo>
                      <a:lnTo>
                        <a:pt x="2052" y="144"/>
                      </a:lnTo>
                      <a:lnTo>
                        <a:pt x="2052" y="143"/>
                      </a:lnTo>
                      <a:lnTo>
                        <a:pt x="2051" y="142"/>
                      </a:lnTo>
                      <a:lnTo>
                        <a:pt x="2051" y="141"/>
                      </a:lnTo>
                      <a:lnTo>
                        <a:pt x="2051" y="140"/>
                      </a:lnTo>
                      <a:lnTo>
                        <a:pt x="2051" y="138"/>
                      </a:lnTo>
                      <a:lnTo>
                        <a:pt x="2051" y="137"/>
                      </a:lnTo>
                      <a:lnTo>
                        <a:pt x="2052" y="137"/>
                      </a:lnTo>
                      <a:lnTo>
                        <a:pt x="2053" y="137"/>
                      </a:lnTo>
                      <a:lnTo>
                        <a:pt x="2054" y="137"/>
                      </a:lnTo>
                      <a:lnTo>
                        <a:pt x="2054" y="136"/>
                      </a:lnTo>
                      <a:lnTo>
                        <a:pt x="2055" y="136"/>
                      </a:lnTo>
                      <a:lnTo>
                        <a:pt x="2056" y="136"/>
                      </a:lnTo>
                      <a:lnTo>
                        <a:pt x="2057" y="136"/>
                      </a:lnTo>
                      <a:lnTo>
                        <a:pt x="2059" y="136"/>
                      </a:lnTo>
                      <a:lnTo>
                        <a:pt x="2060" y="136"/>
                      </a:lnTo>
                      <a:lnTo>
                        <a:pt x="2061" y="136"/>
                      </a:lnTo>
                      <a:lnTo>
                        <a:pt x="2062" y="136"/>
                      </a:lnTo>
                      <a:lnTo>
                        <a:pt x="2063" y="136"/>
                      </a:lnTo>
                      <a:lnTo>
                        <a:pt x="2064" y="136"/>
                      </a:lnTo>
                      <a:lnTo>
                        <a:pt x="2066" y="136"/>
                      </a:lnTo>
                      <a:lnTo>
                        <a:pt x="2067" y="136"/>
                      </a:lnTo>
                      <a:lnTo>
                        <a:pt x="2066" y="135"/>
                      </a:lnTo>
                      <a:lnTo>
                        <a:pt x="2066" y="134"/>
                      </a:lnTo>
                      <a:lnTo>
                        <a:pt x="2064" y="134"/>
                      </a:lnTo>
                      <a:lnTo>
                        <a:pt x="2064" y="133"/>
                      </a:lnTo>
                      <a:lnTo>
                        <a:pt x="2063" y="133"/>
                      </a:lnTo>
                      <a:lnTo>
                        <a:pt x="2063" y="131"/>
                      </a:lnTo>
                      <a:lnTo>
                        <a:pt x="2062" y="131"/>
                      </a:lnTo>
                      <a:lnTo>
                        <a:pt x="2062" y="130"/>
                      </a:lnTo>
                      <a:lnTo>
                        <a:pt x="2061" y="129"/>
                      </a:lnTo>
                      <a:lnTo>
                        <a:pt x="2061" y="128"/>
                      </a:lnTo>
                      <a:lnTo>
                        <a:pt x="2060" y="127"/>
                      </a:lnTo>
                      <a:lnTo>
                        <a:pt x="2059" y="126"/>
                      </a:lnTo>
                      <a:lnTo>
                        <a:pt x="2059" y="125"/>
                      </a:lnTo>
                      <a:lnTo>
                        <a:pt x="2057" y="123"/>
                      </a:lnTo>
                      <a:lnTo>
                        <a:pt x="2057" y="122"/>
                      </a:lnTo>
                      <a:lnTo>
                        <a:pt x="2056" y="121"/>
                      </a:lnTo>
                      <a:lnTo>
                        <a:pt x="2056" y="120"/>
                      </a:lnTo>
                      <a:lnTo>
                        <a:pt x="2055" y="120"/>
                      </a:lnTo>
                      <a:lnTo>
                        <a:pt x="2055" y="119"/>
                      </a:lnTo>
                      <a:lnTo>
                        <a:pt x="2055" y="118"/>
                      </a:lnTo>
                      <a:lnTo>
                        <a:pt x="2055" y="116"/>
                      </a:lnTo>
                      <a:lnTo>
                        <a:pt x="2054" y="115"/>
                      </a:lnTo>
                      <a:lnTo>
                        <a:pt x="2054" y="114"/>
                      </a:lnTo>
                      <a:lnTo>
                        <a:pt x="2054" y="113"/>
                      </a:lnTo>
                      <a:lnTo>
                        <a:pt x="2054" y="112"/>
                      </a:lnTo>
                      <a:lnTo>
                        <a:pt x="2054" y="111"/>
                      </a:lnTo>
                      <a:lnTo>
                        <a:pt x="2054" y="110"/>
                      </a:lnTo>
                      <a:close/>
                    </a:path>
                  </a:pathLst>
                </a:custGeom>
                <a:solidFill>
                  <a:srgbClr val="bf7a4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5113440" y="5841720"/>
                  <a:ext cx="954000" cy="76320"/>
                </a:xfrm>
                <a:custGeom>
                  <a:avLst/>
                  <a:gdLst/>
                  <a:ahLst/>
                  <a:rect l="l" t="t" r="r" b="b"/>
                  <a:pathLst>
                    <a:path w="1802" h="126">
                      <a:moveTo>
                        <a:pt x="51" y="103"/>
                      </a:moveTo>
                      <a:lnTo>
                        <a:pt x="52" y="103"/>
                      </a:lnTo>
                      <a:lnTo>
                        <a:pt x="53" y="103"/>
                      </a:lnTo>
                      <a:lnTo>
                        <a:pt x="54" y="101"/>
                      </a:lnTo>
                      <a:lnTo>
                        <a:pt x="55" y="101"/>
                      </a:lnTo>
                      <a:lnTo>
                        <a:pt x="56" y="101"/>
                      </a:lnTo>
                      <a:lnTo>
                        <a:pt x="58" y="101"/>
                      </a:lnTo>
                      <a:lnTo>
                        <a:pt x="58" y="100"/>
                      </a:lnTo>
                      <a:lnTo>
                        <a:pt x="59" y="100"/>
                      </a:lnTo>
                      <a:lnTo>
                        <a:pt x="60" y="100"/>
                      </a:lnTo>
                      <a:lnTo>
                        <a:pt x="61" y="100"/>
                      </a:lnTo>
                      <a:lnTo>
                        <a:pt x="61" y="99"/>
                      </a:lnTo>
                      <a:lnTo>
                        <a:pt x="62" y="99"/>
                      </a:lnTo>
                      <a:lnTo>
                        <a:pt x="63" y="99"/>
                      </a:lnTo>
                      <a:lnTo>
                        <a:pt x="64" y="99"/>
                      </a:lnTo>
                      <a:lnTo>
                        <a:pt x="64" y="100"/>
                      </a:lnTo>
                      <a:lnTo>
                        <a:pt x="66" y="100"/>
                      </a:lnTo>
                      <a:lnTo>
                        <a:pt x="67" y="100"/>
                      </a:lnTo>
                      <a:lnTo>
                        <a:pt x="66" y="100"/>
                      </a:lnTo>
                      <a:lnTo>
                        <a:pt x="66" y="101"/>
                      </a:lnTo>
                      <a:lnTo>
                        <a:pt x="64" y="101"/>
                      </a:lnTo>
                      <a:lnTo>
                        <a:pt x="63" y="101"/>
                      </a:lnTo>
                      <a:lnTo>
                        <a:pt x="62" y="101"/>
                      </a:lnTo>
                      <a:lnTo>
                        <a:pt x="61" y="101"/>
                      </a:lnTo>
                      <a:lnTo>
                        <a:pt x="60" y="103"/>
                      </a:lnTo>
                      <a:lnTo>
                        <a:pt x="59" y="103"/>
                      </a:lnTo>
                      <a:lnTo>
                        <a:pt x="58" y="103"/>
                      </a:lnTo>
                      <a:lnTo>
                        <a:pt x="56" y="103"/>
                      </a:lnTo>
                      <a:lnTo>
                        <a:pt x="55" y="103"/>
                      </a:lnTo>
                      <a:lnTo>
                        <a:pt x="54" y="103"/>
                      </a:lnTo>
                      <a:lnTo>
                        <a:pt x="53" y="103"/>
                      </a:lnTo>
                      <a:lnTo>
                        <a:pt x="52" y="103"/>
                      </a:lnTo>
                      <a:lnTo>
                        <a:pt x="51" y="103"/>
                      </a:lnTo>
                      <a:close/>
                      <a:moveTo>
                        <a:pt x="45" y="25"/>
                      </a:moveTo>
                      <a:lnTo>
                        <a:pt x="10" y="36"/>
                      </a:lnTo>
                      <a:lnTo>
                        <a:pt x="33" y="42"/>
                      </a:lnTo>
                      <a:lnTo>
                        <a:pt x="22" y="37"/>
                      </a:lnTo>
                      <a:lnTo>
                        <a:pt x="27" y="32"/>
                      </a:lnTo>
                      <a:lnTo>
                        <a:pt x="45" y="25"/>
                      </a:lnTo>
                      <a:close/>
                      <a:moveTo>
                        <a:pt x="26" y="10"/>
                      </a:moveTo>
                      <a:lnTo>
                        <a:pt x="27" y="10"/>
                      </a:lnTo>
                      <a:lnTo>
                        <a:pt x="29" y="10"/>
                      </a:lnTo>
                      <a:lnTo>
                        <a:pt x="30" y="10"/>
                      </a:lnTo>
                      <a:lnTo>
                        <a:pt x="31" y="9"/>
                      </a:lnTo>
                      <a:lnTo>
                        <a:pt x="32" y="9"/>
                      </a:lnTo>
                      <a:lnTo>
                        <a:pt x="33" y="8"/>
                      </a:lnTo>
                      <a:lnTo>
                        <a:pt x="34" y="8"/>
                      </a:lnTo>
                      <a:lnTo>
                        <a:pt x="36" y="7"/>
                      </a:lnTo>
                      <a:lnTo>
                        <a:pt x="37" y="7"/>
                      </a:lnTo>
                      <a:lnTo>
                        <a:pt x="39" y="5"/>
                      </a:lnTo>
                      <a:lnTo>
                        <a:pt x="40" y="4"/>
                      </a:lnTo>
                      <a:lnTo>
                        <a:pt x="41" y="4"/>
                      </a:lnTo>
                      <a:lnTo>
                        <a:pt x="44" y="3"/>
                      </a:lnTo>
                      <a:lnTo>
                        <a:pt x="45" y="3"/>
                      </a:lnTo>
                      <a:lnTo>
                        <a:pt x="46" y="2"/>
                      </a:lnTo>
                      <a:lnTo>
                        <a:pt x="48" y="2"/>
                      </a:lnTo>
                      <a:lnTo>
                        <a:pt x="49" y="1"/>
                      </a:lnTo>
                      <a:lnTo>
                        <a:pt x="51" y="1"/>
                      </a:lnTo>
                      <a:lnTo>
                        <a:pt x="52" y="1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6" y="1"/>
                      </a:lnTo>
                      <a:lnTo>
                        <a:pt x="58" y="1"/>
                      </a:lnTo>
                      <a:lnTo>
                        <a:pt x="58" y="2"/>
                      </a:lnTo>
                      <a:lnTo>
                        <a:pt x="59" y="2"/>
                      </a:lnTo>
                      <a:lnTo>
                        <a:pt x="59" y="3"/>
                      </a:lnTo>
                      <a:lnTo>
                        <a:pt x="58" y="4"/>
                      </a:lnTo>
                      <a:lnTo>
                        <a:pt x="58" y="7"/>
                      </a:lnTo>
                      <a:lnTo>
                        <a:pt x="58" y="8"/>
                      </a:lnTo>
                      <a:lnTo>
                        <a:pt x="56" y="10"/>
                      </a:lnTo>
                      <a:lnTo>
                        <a:pt x="55" y="10"/>
                      </a:lnTo>
                      <a:lnTo>
                        <a:pt x="55" y="11"/>
                      </a:lnTo>
                      <a:lnTo>
                        <a:pt x="54" y="11"/>
                      </a:lnTo>
                      <a:lnTo>
                        <a:pt x="54" y="12"/>
                      </a:lnTo>
                      <a:lnTo>
                        <a:pt x="53" y="12"/>
                      </a:lnTo>
                      <a:lnTo>
                        <a:pt x="52" y="12"/>
                      </a:lnTo>
                      <a:lnTo>
                        <a:pt x="51" y="12"/>
                      </a:lnTo>
                      <a:lnTo>
                        <a:pt x="51" y="14"/>
                      </a:lnTo>
                      <a:lnTo>
                        <a:pt x="49" y="14"/>
                      </a:lnTo>
                      <a:lnTo>
                        <a:pt x="48" y="14"/>
                      </a:lnTo>
                      <a:lnTo>
                        <a:pt x="47" y="14"/>
                      </a:lnTo>
                      <a:lnTo>
                        <a:pt x="46" y="15"/>
                      </a:lnTo>
                      <a:lnTo>
                        <a:pt x="45" y="15"/>
                      </a:lnTo>
                      <a:lnTo>
                        <a:pt x="44" y="15"/>
                      </a:lnTo>
                      <a:lnTo>
                        <a:pt x="43" y="15"/>
                      </a:lnTo>
                      <a:lnTo>
                        <a:pt x="41" y="16"/>
                      </a:lnTo>
                      <a:lnTo>
                        <a:pt x="40" y="16"/>
                      </a:lnTo>
                      <a:lnTo>
                        <a:pt x="39" y="17"/>
                      </a:lnTo>
                      <a:lnTo>
                        <a:pt x="38" y="17"/>
                      </a:lnTo>
                      <a:lnTo>
                        <a:pt x="37" y="18"/>
                      </a:lnTo>
                      <a:lnTo>
                        <a:pt x="34" y="18"/>
                      </a:lnTo>
                      <a:lnTo>
                        <a:pt x="33" y="18"/>
                      </a:lnTo>
                      <a:lnTo>
                        <a:pt x="32" y="18"/>
                      </a:lnTo>
                      <a:lnTo>
                        <a:pt x="31" y="19"/>
                      </a:lnTo>
                      <a:lnTo>
                        <a:pt x="30" y="19"/>
                      </a:lnTo>
                      <a:lnTo>
                        <a:pt x="29" y="19"/>
                      </a:lnTo>
                      <a:lnTo>
                        <a:pt x="27" y="19"/>
                      </a:lnTo>
                      <a:lnTo>
                        <a:pt x="26" y="19"/>
                      </a:lnTo>
                      <a:lnTo>
                        <a:pt x="25" y="20"/>
                      </a:lnTo>
                      <a:lnTo>
                        <a:pt x="24" y="20"/>
                      </a:lnTo>
                      <a:lnTo>
                        <a:pt x="23" y="20"/>
                      </a:lnTo>
                      <a:lnTo>
                        <a:pt x="22" y="20"/>
                      </a:lnTo>
                      <a:lnTo>
                        <a:pt x="21" y="20"/>
                      </a:lnTo>
                      <a:lnTo>
                        <a:pt x="19" y="20"/>
                      </a:lnTo>
                      <a:lnTo>
                        <a:pt x="18" y="22"/>
                      </a:lnTo>
                      <a:lnTo>
                        <a:pt x="17" y="22"/>
                      </a:lnTo>
                      <a:lnTo>
                        <a:pt x="16" y="22"/>
                      </a:lnTo>
                      <a:lnTo>
                        <a:pt x="15" y="23"/>
                      </a:lnTo>
                      <a:lnTo>
                        <a:pt x="14" y="23"/>
                      </a:lnTo>
                      <a:lnTo>
                        <a:pt x="12" y="23"/>
                      </a:lnTo>
                      <a:lnTo>
                        <a:pt x="11" y="24"/>
                      </a:lnTo>
                      <a:lnTo>
                        <a:pt x="10" y="24"/>
                      </a:lnTo>
                      <a:lnTo>
                        <a:pt x="9" y="24"/>
                      </a:lnTo>
                      <a:lnTo>
                        <a:pt x="8" y="25"/>
                      </a:lnTo>
                      <a:lnTo>
                        <a:pt x="7" y="25"/>
                      </a:lnTo>
                      <a:lnTo>
                        <a:pt x="6" y="26"/>
                      </a:lnTo>
                      <a:lnTo>
                        <a:pt x="4" y="26"/>
                      </a:lnTo>
                      <a:lnTo>
                        <a:pt x="3" y="27"/>
                      </a:lnTo>
                      <a:lnTo>
                        <a:pt x="2" y="29"/>
                      </a:lnTo>
                      <a:lnTo>
                        <a:pt x="0" y="30"/>
                      </a:lnTo>
                      <a:lnTo>
                        <a:pt x="1" y="29"/>
                      </a:lnTo>
                      <a:lnTo>
                        <a:pt x="1" y="27"/>
                      </a:lnTo>
                      <a:lnTo>
                        <a:pt x="2" y="26"/>
                      </a:lnTo>
                      <a:lnTo>
                        <a:pt x="2" y="25"/>
                      </a:lnTo>
                      <a:lnTo>
                        <a:pt x="3" y="24"/>
                      </a:lnTo>
                      <a:lnTo>
                        <a:pt x="4" y="24"/>
                      </a:lnTo>
                      <a:lnTo>
                        <a:pt x="4" y="23"/>
                      </a:lnTo>
                      <a:lnTo>
                        <a:pt x="6" y="22"/>
                      </a:lnTo>
                      <a:lnTo>
                        <a:pt x="7" y="20"/>
                      </a:lnTo>
                      <a:lnTo>
                        <a:pt x="8" y="20"/>
                      </a:lnTo>
                      <a:lnTo>
                        <a:pt x="8" y="19"/>
                      </a:lnTo>
                      <a:lnTo>
                        <a:pt x="9" y="19"/>
                      </a:lnTo>
                      <a:lnTo>
                        <a:pt x="10" y="18"/>
                      </a:lnTo>
                      <a:lnTo>
                        <a:pt x="11" y="18"/>
                      </a:lnTo>
                      <a:lnTo>
                        <a:pt x="12" y="17"/>
                      </a:lnTo>
                      <a:lnTo>
                        <a:pt x="14" y="17"/>
                      </a:lnTo>
                      <a:lnTo>
                        <a:pt x="14" y="16"/>
                      </a:lnTo>
                      <a:lnTo>
                        <a:pt x="15" y="16"/>
                      </a:lnTo>
                      <a:lnTo>
                        <a:pt x="16" y="16"/>
                      </a:lnTo>
                      <a:lnTo>
                        <a:pt x="17" y="15"/>
                      </a:lnTo>
                      <a:lnTo>
                        <a:pt x="18" y="15"/>
                      </a:lnTo>
                      <a:lnTo>
                        <a:pt x="18" y="14"/>
                      </a:lnTo>
                      <a:lnTo>
                        <a:pt x="19" y="14"/>
                      </a:lnTo>
                      <a:lnTo>
                        <a:pt x="21" y="14"/>
                      </a:lnTo>
                      <a:lnTo>
                        <a:pt x="22" y="12"/>
                      </a:lnTo>
                      <a:lnTo>
                        <a:pt x="23" y="12"/>
                      </a:lnTo>
                      <a:lnTo>
                        <a:pt x="24" y="12"/>
                      </a:lnTo>
                      <a:lnTo>
                        <a:pt x="25" y="11"/>
                      </a:lnTo>
                      <a:lnTo>
                        <a:pt x="26" y="10"/>
                      </a:lnTo>
                      <a:close/>
                      <a:moveTo>
                        <a:pt x="413" y="70"/>
                      </a:moveTo>
                      <a:lnTo>
                        <a:pt x="415" y="70"/>
                      </a:lnTo>
                      <a:lnTo>
                        <a:pt x="417" y="71"/>
                      </a:lnTo>
                      <a:lnTo>
                        <a:pt x="418" y="71"/>
                      </a:lnTo>
                      <a:lnTo>
                        <a:pt x="420" y="71"/>
                      </a:lnTo>
                      <a:lnTo>
                        <a:pt x="422" y="71"/>
                      </a:lnTo>
                      <a:lnTo>
                        <a:pt x="424" y="70"/>
                      </a:lnTo>
                      <a:lnTo>
                        <a:pt x="425" y="70"/>
                      </a:lnTo>
                      <a:lnTo>
                        <a:pt x="427" y="70"/>
                      </a:lnTo>
                      <a:lnTo>
                        <a:pt x="428" y="70"/>
                      </a:lnTo>
                      <a:lnTo>
                        <a:pt x="430" y="69"/>
                      </a:lnTo>
                      <a:lnTo>
                        <a:pt x="432" y="69"/>
                      </a:lnTo>
                      <a:lnTo>
                        <a:pt x="433" y="68"/>
                      </a:lnTo>
                      <a:lnTo>
                        <a:pt x="434" y="68"/>
                      </a:lnTo>
                      <a:lnTo>
                        <a:pt x="437" y="68"/>
                      </a:lnTo>
                      <a:lnTo>
                        <a:pt x="438" y="67"/>
                      </a:lnTo>
                      <a:lnTo>
                        <a:pt x="439" y="66"/>
                      </a:lnTo>
                      <a:lnTo>
                        <a:pt x="440" y="66"/>
                      </a:lnTo>
                      <a:lnTo>
                        <a:pt x="441" y="64"/>
                      </a:lnTo>
                      <a:lnTo>
                        <a:pt x="442" y="64"/>
                      </a:lnTo>
                      <a:lnTo>
                        <a:pt x="442" y="63"/>
                      </a:lnTo>
                      <a:lnTo>
                        <a:pt x="443" y="63"/>
                      </a:lnTo>
                      <a:lnTo>
                        <a:pt x="445" y="62"/>
                      </a:lnTo>
                      <a:lnTo>
                        <a:pt x="445" y="61"/>
                      </a:lnTo>
                      <a:lnTo>
                        <a:pt x="446" y="60"/>
                      </a:lnTo>
                      <a:lnTo>
                        <a:pt x="446" y="59"/>
                      </a:lnTo>
                      <a:lnTo>
                        <a:pt x="445" y="57"/>
                      </a:lnTo>
                      <a:lnTo>
                        <a:pt x="443" y="56"/>
                      </a:lnTo>
                      <a:lnTo>
                        <a:pt x="442" y="56"/>
                      </a:lnTo>
                      <a:lnTo>
                        <a:pt x="442" y="57"/>
                      </a:lnTo>
                      <a:lnTo>
                        <a:pt x="441" y="57"/>
                      </a:lnTo>
                      <a:lnTo>
                        <a:pt x="441" y="59"/>
                      </a:lnTo>
                      <a:lnTo>
                        <a:pt x="440" y="59"/>
                      </a:lnTo>
                      <a:lnTo>
                        <a:pt x="440" y="60"/>
                      </a:lnTo>
                      <a:lnTo>
                        <a:pt x="439" y="60"/>
                      </a:lnTo>
                      <a:lnTo>
                        <a:pt x="438" y="61"/>
                      </a:lnTo>
                      <a:lnTo>
                        <a:pt x="437" y="62"/>
                      </a:lnTo>
                      <a:lnTo>
                        <a:pt x="435" y="63"/>
                      </a:lnTo>
                      <a:lnTo>
                        <a:pt x="434" y="63"/>
                      </a:lnTo>
                      <a:lnTo>
                        <a:pt x="433" y="64"/>
                      </a:lnTo>
                      <a:lnTo>
                        <a:pt x="432" y="64"/>
                      </a:lnTo>
                      <a:lnTo>
                        <a:pt x="431" y="66"/>
                      </a:lnTo>
                      <a:lnTo>
                        <a:pt x="430" y="66"/>
                      </a:lnTo>
                      <a:lnTo>
                        <a:pt x="428" y="66"/>
                      </a:lnTo>
                      <a:lnTo>
                        <a:pt x="427" y="67"/>
                      </a:lnTo>
                      <a:lnTo>
                        <a:pt x="426" y="67"/>
                      </a:lnTo>
                      <a:lnTo>
                        <a:pt x="425" y="68"/>
                      </a:lnTo>
                      <a:lnTo>
                        <a:pt x="424" y="68"/>
                      </a:lnTo>
                      <a:lnTo>
                        <a:pt x="423" y="68"/>
                      </a:lnTo>
                      <a:lnTo>
                        <a:pt x="422" y="69"/>
                      </a:lnTo>
                      <a:lnTo>
                        <a:pt x="420" y="69"/>
                      </a:lnTo>
                      <a:lnTo>
                        <a:pt x="419" y="69"/>
                      </a:lnTo>
                      <a:lnTo>
                        <a:pt x="418" y="70"/>
                      </a:lnTo>
                      <a:lnTo>
                        <a:pt x="417" y="70"/>
                      </a:lnTo>
                      <a:lnTo>
                        <a:pt x="416" y="70"/>
                      </a:lnTo>
                      <a:lnTo>
                        <a:pt x="415" y="70"/>
                      </a:lnTo>
                      <a:lnTo>
                        <a:pt x="413" y="70"/>
                      </a:lnTo>
                      <a:close/>
                      <a:moveTo>
                        <a:pt x="404" y="67"/>
                      </a:moveTo>
                      <a:lnTo>
                        <a:pt x="405" y="66"/>
                      </a:lnTo>
                      <a:lnTo>
                        <a:pt x="405" y="64"/>
                      </a:lnTo>
                      <a:lnTo>
                        <a:pt x="406" y="63"/>
                      </a:lnTo>
                      <a:lnTo>
                        <a:pt x="408" y="62"/>
                      </a:lnTo>
                      <a:lnTo>
                        <a:pt x="408" y="61"/>
                      </a:lnTo>
                      <a:lnTo>
                        <a:pt x="409" y="60"/>
                      </a:lnTo>
                      <a:lnTo>
                        <a:pt x="409" y="59"/>
                      </a:lnTo>
                      <a:lnTo>
                        <a:pt x="410" y="57"/>
                      </a:lnTo>
                      <a:lnTo>
                        <a:pt x="411" y="57"/>
                      </a:lnTo>
                      <a:lnTo>
                        <a:pt x="411" y="56"/>
                      </a:lnTo>
                      <a:lnTo>
                        <a:pt x="412" y="55"/>
                      </a:lnTo>
                      <a:lnTo>
                        <a:pt x="412" y="54"/>
                      </a:lnTo>
                      <a:lnTo>
                        <a:pt x="413" y="53"/>
                      </a:lnTo>
                      <a:lnTo>
                        <a:pt x="413" y="52"/>
                      </a:lnTo>
                      <a:lnTo>
                        <a:pt x="415" y="51"/>
                      </a:lnTo>
                      <a:lnTo>
                        <a:pt x="416" y="49"/>
                      </a:lnTo>
                      <a:lnTo>
                        <a:pt x="416" y="48"/>
                      </a:lnTo>
                      <a:lnTo>
                        <a:pt x="417" y="47"/>
                      </a:lnTo>
                      <a:lnTo>
                        <a:pt x="418" y="46"/>
                      </a:lnTo>
                      <a:lnTo>
                        <a:pt x="418" y="45"/>
                      </a:lnTo>
                      <a:lnTo>
                        <a:pt x="419" y="45"/>
                      </a:lnTo>
                      <a:lnTo>
                        <a:pt x="420" y="44"/>
                      </a:lnTo>
                      <a:lnTo>
                        <a:pt x="420" y="42"/>
                      </a:lnTo>
                      <a:lnTo>
                        <a:pt x="422" y="41"/>
                      </a:lnTo>
                      <a:lnTo>
                        <a:pt x="423" y="41"/>
                      </a:lnTo>
                      <a:lnTo>
                        <a:pt x="424" y="40"/>
                      </a:lnTo>
                      <a:lnTo>
                        <a:pt x="424" y="39"/>
                      </a:lnTo>
                      <a:lnTo>
                        <a:pt x="425" y="39"/>
                      </a:lnTo>
                      <a:lnTo>
                        <a:pt x="426" y="38"/>
                      </a:lnTo>
                      <a:lnTo>
                        <a:pt x="427" y="38"/>
                      </a:lnTo>
                      <a:lnTo>
                        <a:pt x="428" y="37"/>
                      </a:lnTo>
                      <a:lnTo>
                        <a:pt x="430" y="37"/>
                      </a:lnTo>
                      <a:lnTo>
                        <a:pt x="431" y="36"/>
                      </a:lnTo>
                      <a:lnTo>
                        <a:pt x="432" y="36"/>
                      </a:lnTo>
                      <a:lnTo>
                        <a:pt x="433" y="36"/>
                      </a:lnTo>
                      <a:lnTo>
                        <a:pt x="434" y="36"/>
                      </a:lnTo>
                      <a:lnTo>
                        <a:pt x="435" y="34"/>
                      </a:lnTo>
                      <a:lnTo>
                        <a:pt x="437" y="34"/>
                      </a:lnTo>
                      <a:lnTo>
                        <a:pt x="438" y="34"/>
                      </a:lnTo>
                      <a:lnTo>
                        <a:pt x="439" y="33"/>
                      </a:lnTo>
                      <a:lnTo>
                        <a:pt x="440" y="33"/>
                      </a:lnTo>
                      <a:lnTo>
                        <a:pt x="441" y="33"/>
                      </a:lnTo>
                      <a:lnTo>
                        <a:pt x="442" y="33"/>
                      </a:lnTo>
                      <a:lnTo>
                        <a:pt x="443" y="33"/>
                      </a:lnTo>
                      <a:lnTo>
                        <a:pt x="445" y="32"/>
                      </a:lnTo>
                      <a:lnTo>
                        <a:pt x="446" y="32"/>
                      </a:lnTo>
                      <a:lnTo>
                        <a:pt x="447" y="32"/>
                      </a:lnTo>
                      <a:lnTo>
                        <a:pt x="448" y="32"/>
                      </a:lnTo>
                      <a:lnTo>
                        <a:pt x="449" y="32"/>
                      </a:lnTo>
                      <a:lnTo>
                        <a:pt x="450" y="32"/>
                      </a:lnTo>
                      <a:lnTo>
                        <a:pt x="452" y="32"/>
                      </a:lnTo>
                      <a:lnTo>
                        <a:pt x="453" y="33"/>
                      </a:lnTo>
                      <a:lnTo>
                        <a:pt x="454" y="33"/>
                      </a:lnTo>
                      <a:lnTo>
                        <a:pt x="455" y="33"/>
                      </a:lnTo>
                      <a:lnTo>
                        <a:pt x="455" y="34"/>
                      </a:lnTo>
                      <a:lnTo>
                        <a:pt x="456" y="34"/>
                      </a:lnTo>
                      <a:lnTo>
                        <a:pt x="457" y="34"/>
                      </a:lnTo>
                      <a:lnTo>
                        <a:pt x="457" y="36"/>
                      </a:lnTo>
                      <a:lnTo>
                        <a:pt x="458" y="37"/>
                      </a:lnTo>
                      <a:lnTo>
                        <a:pt x="458" y="38"/>
                      </a:lnTo>
                      <a:lnTo>
                        <a:pt x="460" y="39"/>
                      </a:lnTo>
                      <a:lnTo>
                        <a:pt x="460" y="40"/>
                      </a:lnTo>
                      <a:lnTo>
                        <a:pt x="460" y="41"/>
                      </a:lnTo>
                      <a:lnTo>
                        <a:pt x="458" y="40"/>
                      </a:lnTo>
                      <a:lnTo>
                        <a:pt x="457" y="40"/>
                      </a:lnTo>
                      <a:lnTo>
                        <a:pt x="456" y="39"/>
                      </a:lnTo>
                      <a:lnTo>
                        <a:pt x="454" y="39"/>
                      </a:lnTo>
                      <a:lnTo>
                        <a:pt x="453" y="39"/>
                      </a:lnTo>
                      <a:lnTo>
                        <a:pt x="452" y="38"/>
                      </a:lnTo>
                      <a:lnTo>
                        <a:pt x="450" y="38"/>
                      </a:lnTo>
                      <a:lnTo>
                        <a:pt x="448" y="38"/>
                      </a:lnTo>
                      <a:lnTo>
                        <a:pt x="447" y="38"/>
                      </a:lnTo>
                      <a:lnTo>
                        <a:pt x="446" y="38"/>
                      </a:lnTo>
                      <a:lnTo>
                        <a:pt x="443" y="39"/>
                      </a:lnTo>
                      <a:lnTo>
                        <a:pt x="442" y="39"/>
                      </a:lnTo>
                      <a:lnTo>
                        <a:pt x="441" y="39"/>
                      </a:lnTo>
                      <a:lnTo>
                        <a:pt x="439" y="40"/>
                      </a:lnTo>
                      <a:lnTo>
                        <a:pt x="438" y="40"/>
                      </a:lnTo>
                      <a:lnTo>
                        <a:pt x="437" y="41"/>
                      </a:lnTo>
                      <a:lnTo>
                        <a:pt x="434" y="41"/>
                      </a:lnTo>
                      <a:lnTo>
                        <a:pt x="433" y="42"/>
                      </a:lnTo>
                      <a:lnTo>
                        <a:pt x="431" y="44"/>
                      </a:lnTo>
                      <a:lnTo>
                        <a:pt x="430" y="45"/>
                      </a:lnTo>
                      <a:lnTo>
                        <a:pt x="427" y="46"/>
                      </a:lnTo>
                      <a:lnTo>
                        <a:pt x="425" y="47"/>
                      </a:lnTo>
                      <a:lnTo>
                        <a:pt x="424" y="48"/>
                      </a:lnTo>
                      <a:lnTo>
                        <a:pt x="422" y="51"/>
                      </a:lnTo>
                      <a:lnTo>
                        <a:pt x="419" y="52"/>
                      </a:lnTo>
                      <a:lnTo>
                        <a:pt x="418" y="54"/>
                      </a:lnTo>
                      <a:lnTo>
                        <a:pt x="416" y="55"/>
                      </a:lnTo>
                      <a:lnTo>
                        <a:pt x="413" y="57"/>
                      </a:lnTo>
                      <a:lnTo>
                        <a:pt x="411" y="60"/>
                      </a:lnTo>
                      <a:lnTo>
                        <a:pt x="409" y="62"/>
                      </a:lnTo>
                      <a:lnTo>
                        <a:pt x="406" y="64"/>
                      </a:lnTo>
                      <a:lnTo>
                        <a:pt x="404" y="67"/>
                      </a:lnTo>
                      <a:close/>
                      <a:moveTo>
                        <a:pt x="1085" y="64"/>
                      </a:moveTo>
                      <a:lnTo>
                        <a:pt x="1087" y="64"/>
                      </a:lnTo>
                      <a:lnTo>
                        <a:pt x="1089" y="66"/>
                      </a:lnTo>
                      <a:lnTo>
                        <a:pt x="1091" y="66"/>
                      </a:lnTo>
                      <a:lnTo>
                        <a:pt x="1093" y="67"/>
                      </a:lnTo>
                      <a:lnTo>
                        <a:pt x="1094" y="67"/>
                      </a:lnTo>
                      <a:lnTo>
                        <a:pt x="1095" y="68"/>
                      </a:lnTo>
                      <a:lnTo>
                        <a:pt x="1096" y="68"/>
                      </a:lnTo>
                      <a:lnTo>
                        <a:pt x="1097" y="69"/>
                      </a:lnTo>
                      <a:lnTo>
                        <a:pt x="1099" y="69"/>
                      </a:lnTo>
                      <a:lnTo>
                        <a:pt x="1100" y="70"/>
                      </a:lnTo>
                      <a:lnTo>
                        <a:pt x="1101" y="71"/>
                      </a:lnTo>
                      <a:lnTo>
                        <a:pt x="1102" y="71"/>
                      </a:lnTo>
                      <a:lnTo>
                        <a:pt x="1103" y="72"/>
                      </a:lnTo>
                      <a:lnTo>
                        <a:pt x="1104" y="72"/>
                      </a:lnTo>
                      <a:lnTo>
                        <a:pt x="1104" y="74"/>
                      </a:lnTo>
                      <a:lnTo>
                        <a:pt x="1106" y="74"/>
                      </a:lnTo>
                      <a:lnTo>
                        <a:pt x="1107" y="75"/>
                      </a:lnTo>
                      <a:lnTo>
                        <a:pt x="1108" y="76"/>
                      </a:lnTo>
                      <a:lnTo>
                        <a:pt x="1109" y="77"/>
                      </a:lnTo>
                      <a:lnTo>
                        <a:pt x="1110" y="77"/>
                      </a:lnTo>
                      <a:lnTo>
                        <a:pt x="1111" y="78"/>
                      </a:lnTo>
                      <a:lnTo>
                        <a:pt x="1112" y="79"/>
                      </a:lnTo>
                      <a:lnTo>
                        <a:pt x="1114" y="79"/>
                      </a:lnTo>
                      <a:lnTo>
                        <a:pt x="1115" y="81"/>
                      </a:lnTo>
                      <a:lnTo>
                        <a:pt x="1116" y="81"/>
                      </a:lnTo>
                      <a:lnTo>
                        <a:pt x="1117" y="81"/>
                      </a:lnTo>
                      <a:lnTo>
                        <a:pt x="1118" y="82"/>
                      </a:lnTo>
                      <a:lnTo>
                        <a:pt x="1117" y="79"/>
                      </a:lnTo>
                      <a:lnTo>
                        <a:pt x="1116" y="78"/>
                      </a:lnTo>
                      <a:lnTo>
                        <a:pt x="1115" y="77"/>
                      </a:lnTo>
                      <a:lnTo>
                        <a:pt x="1115" y="76"/>
                      </a:lnTo>
                      <a:lnTo>
                        <a:pt x="1114" y="75"/>
                      </a:lnTo>
                      <a:lnTo>
                        <a:pt x="1112" y="74"/>
                      </a:lnTo>
                      <a:lnTo>
                        <a:pt x="1111" y="72"/>
                      </a:lnTo>
                      <a:lnTo>
                        <a:pt x="1111" y="71"/>
                      </a:lnTo>
                      <a:lnTo>
                        <a:pt x="1110" y="70"/>
                      </a:lnTo>
                      <a:lnTo>
                        <a:pt x="1109" y="69"/>
                      </a:lnTo>
                      <a:lnTo>
                        <a:pt x="1108" y="68"/>
                      </a:lnTo>
                      <a:lnTo>
                        <a:pt x="1107" y="67"/>
                      </a:lnTo>
                      <a:lnTo>
                        <a:pt x="1106" y="66"/>
                      </a:lnTo>
                      <a:lnTo>
                        <a:pt x="1104" y="64"/>
                      </a:lnTo>
                      <a:lnTo>
                        <a:pt x="1104" y="63"/>
                      </a:lnTo>
                      <a:lnTo>
                        <a:pt x="1103" y="63"/>
                      </a:lnTo>
                      <a:lnTo>
                        <a:pt x="1102" y="62"/>
                      </a:lnTo>
                      <a:lnTo>
                        <a:pt x="1101" y="61"/>
                      </a:lnTo>
                      <a:lnTo>
                        <a:pt x="1101" y="60"/>
                      </a:lnTo>
                      <a:lnTo>
                        <a:pt x="1100" y="60"/>
                      </a:lnTo>
                      <a:lnTo>
                        <a:pt x="1099" y="59"/>
                      </a:lnTo>
                      <a:lnTo>
                        <a:pt x="1097" y="57"/>
                      </a:lnTo>
                      <a:lnTo>
                        <a:pt x="1097" y="56"/>
                      </a:lnTo>
                      <a:lnTo>
                        <a:pt x="1096" y="56"/>
                      </a:lnTo>
                      <a:lnTo>
                        <a:pt x="1095" y="55"/>
                      </a:lnTo>
                      <a:lnTo>
                        <a:pt x="1094" y="54"/>
                      </a:lnTo>
                      <a:lnTo>
                        <a:pt x="1093" y="53"/>
                      </a:lnTo>
                      <a:lnTo>
                        <a:pt x="1092" y="53"/>
                      </a:lnTo>
                      <a:lnTo>
                        <a:pt x="1091" y="52"/>
                      </a:lnTo>
                      <a:lnTo>
                        <a:pt x="1091" y="51"/>
                      </a:lnTo>
                      <a:lnTo>
                        <a:pt x="1089" y="49"/>
                      </a:lnTo>
                      <a:lnTo>
                        <a:pt x="1088" y="49"/>
                      </a:lnTo>
                      <a:lnTo>
                        <a:pt x="1088" y="51"/>
                      </a:lnTo>
                      <a:lnTo>
                        <a:pt x="1087" y="51"/>
                      </a:lnTo>
                      <a:lnTo>
                        <a:pt x="1086" y="51"/>
                      </a:lnTo>
                      <a:lnTo>
                        <a:pt x="1085" y="52"/>
                      </a:lnTo>
                      <a:lnTo>
                        <a:pt x="1084" y="52"/>
                      </a:lnTo>
                      <a:lnTo>
                        <a:pt x="1084" y="53"/>
                      </a:lnTo>
                      <a:lnTo>
                        <a:pt x="1082" y="53"/>
                      </a:lnTo>
                      <a:lnTo>
                        <a:pt x="1082" y="54"/>
                      </a:lnTo>
                      <a:lnTo>
                        <a:pt x="1081" y="54"/>
                      </a:lnTo>
                      <a:lnTo>
                        <a:pt x="1080" y="55"/>
                      </a:lnTo>
                      <a:lnTo>
                        <a:pt x="1080" y="56"/>
                      </a:lnTo>
                      <a:lnTo>
                        <a:pt x="1080" y="57"/>
                      </a:lnTo>
                      <a:lnTo>
                        <a:pt x="1080" y="59"/>
                      </a:lnTo>
                      <a:lnTo>
                        <a:pt x="1081" y="59"/>
                      </a:lnTo>
                      <a:lnTo>
                        <a:pt x="1081" y="60"/>
                      </a:lnTo>
                      <a:lnTo>
                        <a:pt x="1082" y="60"/>
                      </a:lnTo>
                      <a:lnTo>
                        <a:pt x="1082" y="61"/>
                      </a:lnTo>
                      <a:lnTo>
                        <a:pt x="1084" y="61"/>
                      </a:lnTo>
                      <a:lnTo>
                        <a:pt x="1084" y="62"/>
                      </a:lnTo>
                      <a:lnTo>
                        <a:pt x="1085" y="62"/>
                      </a:lnTo>
                      <a:lnTo>
                        <a:pt x="1085" y="63"/>
                      </a:lnTo>
                      <a:lnTo>
                        <a:pt x="1085" y="64"/>
                      </a:lnTo>
                      <a:close/>
                      <a:moveTo>
                        <a:pt x="1094" y="76"/>
                      </a:moveTo>
                      <a:lnTo>
                        <a:pt x="1095" y="76"/>
                      </a:lnTo>
                      <a:lnTo>
                        <a:pt x="1095" y="77"/>
                      </a:lnTo>
                      <a:lnTo>
                        <a:pt x="1096" y="77"/>
                      </a:lnTo>
                      <a:lnTo>
                        <a:pt x="1097" y="78"/>
                      </a:lnTo>
                      <a:lnTo>
                        <a:pt x="1099" y="78"/>
                      </a:lnTo>
                      <a:lnTo>
                        <a:pt x="1100" y="79"/>
                      </a:lnTo>
                      <a:lnTo>
                        <a:pt x="1101" y="79"/>
                      </a:lnTo>
                      <a:lnTo>
                        <a:pt x="1102" y="81"/>
                      </a:lnTo>
                      <a:lnTo>
                        <a:pt x="1103" y="81"/>
                      </a:lnTo>
                      <a:lnTo>
                        <a:pt x="1104" y="81"/>
                      </a:lnTo>
                      <a:lnTo>
                        <a:pt x="1106" y="81"/>
                      </a:lnTo>
                      <a:lnTo>
                        <a:pt x="1106" y="82"/>
                      </a:lnTo>
                      <a:lnTo>
                        <a:pt x="1107" y="82"/>
                      </a:lnTo>
                      <a:lnTo>
                        <a:pt x="1108" y="82"/>
                      </a:lnTo>
                      <a:lnTo>
                        <a:pt x="1109" y="82"/>
                      </a:lnTo>
                      <a:lnTo>
                        <a:pt x="1110" y="82"/>
                      </a:lnTo>
                      <a:lnTo>
                        <a:pt x="1111" y="82"/>
                      </a:lnTo>
                      <a:lnTo>
                        <a:pt x="1112" y="82"/>
                      </a:lnTo>
                      <a:lnTo>
                        <a:pt x="1114" y="82"/>
                      </a:lnTo>
                      <a:lnTo>
                        <a:pt x="1115" y="83"/>
                      </a:lnTo>
                      <a:lnTo>
                        <a:pt x="1116" y="83"/>
                      </a:lnTo>
                      <a:lnTo>
                        <a:pt x="1115" y="84"/>
                      </a:lnTo>
                      <a:lnTo>
                        <a:pt x="1115" y="85"/>
                      </a:lnTo>
                      <a:lnTo>
                        <a:pt x="1114" y="86"/>
                      </a:lnTo>
                      <a:lnTo>
                        <a:pt x="1112" y="86"/>
                      </a:lnTo>
                      <a:lnTo>
                        <a:pt x="1111" y="86"/>
                      </a:lnTo>
                      <a:lnTo>
                        <a:pt x="1110" y="86"/>
                      </a:lnTo>
                      <a:lnTo>
                        <a:pt x="1109" y="85"/>
                      </a:lnTo>
                      <a:lnTo>
                        <a:pt x="1108" y="85"/>
                      </a:lnTo>
                      <a:lnTo>
                        <a:pt x="1107" y="85"/>
                      </a:lnTo>
                      <a:lnTo>
                        <a:pt x="1106" y="85"/>
                      </a:lnTo>
                      <a:lnTo>
                        <a:pt x="1104" y="84"/>
                      </a:lnTo>
                      <a:lnTo>
                        <a:pt x="1103" y="84"/>
                      </a:lnTo>
                      <a:lnTo>
                        <a:pt x="1102" y="83"/>
                      </a:lnTo>
                      <a:lnTo>
                        <a:pt x="1101" y="83"/>
                      </a:lnTo>
                      <a:lnTo>
                        <a:pt x="1100" y="82"/>
                      </a:lnTo>
                      <a:lnTo>
                        <a:pt x="1099" y="82"/>
                      </a:lnTo>
                      <a:lnTo>
                        <a:pt x="1097" y="81"/>
                      </a:lnTo>
                      <a:lnTo>
                        <a:pt x="1096" y="81"/>
                      </a:lnTo>
                      <a:lnTo>
                        <a:pt x="1096" y="79"/>
                      </a:lnTo>
                      <a:lnTo>
                        <a:pt x="1095" y="79"/>
                      </a:lnTo>
                      <a:lnTo>
                        <a:pt x="1095" y="78"/>
                      </a:lnTo>
                      <a:lnTo>
                        <a:pt x="1094" y="77"/>
                      </a:lnTo>
                      <a:lnTo>
                        <a:pt x="1094" y="76"/>
                      </a:lnTo>
                      <a:close/>
                      <a:moveTo>
                        <a:pt x="1131" y="82"/>
                      </a:moveTo>
                      <a:lnTo>
                        <a:pt x="1131" y="81"/>
                      </a:lnTo>
                      <a:lnTo>
                        <a:pt x="1132" y="81"/>
                      </a:lnTo>
                      <a:lnTo>
                        <a:pt x="1133" y="79"/>
                      </a:lnTo>
                      <a:lnTo>
                        <a:pt x="1134" y="79"/>
                      </a:lnTo>
                      <a:lnTo>
                        <a:pt x="1136" y="79"/>
                      </a:lnTo>
                      <a:lnTo>
                        <a:pt x="1138" y="78"/>
                      </a:lnTo>
                      <a:lnTo>
                        <a:pt x="1139" y="78"/>
                      </a:lnTo>
                      <a:lnTo>
                        <a:pt x="1140" y="78"/>
                      </a:lnTo>
                      <a:lnTo>
                        <a:pt x="1143" y="78"/>
                      </a:lnTo>
                      <a:lnTo>
                        <a:pt x="1144" y="78"/>
                      </a:lnTo>
                      <a:lnTo>
                        <a:pt x="1146" y="78"/>
                      </a:lnTo>
                      <a:lnTo>
                        <a:pt x="1147" y="77"/>
                      </a:lnTo>
                      <a:lnTo>
                        <a:pt x="1149" y="77"/>
                      </a:lnTo>
                      <a:lnTo>
                        <a:pt x="1152" y="77"/>
                      </a:lnTo>
                      <a:lnTo>
                        <a:pt x="1153" y="77"/>
                      </a:lnTo>
                      <a:lnTo>
                        <a:pt x="1155" y="77"/>
                      </a:lnTo>
                      <a:lnTo>
                        <a:pt x="1158" y="77"/>
                      </a:lnTo>
                      <a:lnTo>
                        <a:pt x="1159" y="77"/>
                      </a:lnTo>
                      <a:lnTo>
                        <a:pt x="1161" y="77"/>
                      </a:lnTo>
                      <a:lnTo>
                        <a:pt x="1162" y="77"/>
                      </a:lnTo>
                      <a:lnTo>
                        <a:pt x="1164" y="77"/>
                      </a:lnTo>
                      <a:lnTo>
                        <a:pt x="1166" y="77"/>
                      </a:lnTo>
                      <a:lnTo>
                        <a:pt x="1168" y="77"/>
                      </a:lnTo>
                      <a:lnTo>
                        <a:pt x="1169" y="77"/>
                      </a:lnTo>
                      <a:lnTo>
                        <a:pt x="1170" y="77"/>
                      </a:lnTo>
                      <a:lnTo>
                        <a:pt x="1171" y="77"/>
                      </a:lnTo>
                      <a:lnTo>
                        <a:pt x="1173" y="77"/>
                      </a:lnTo>
                      <a:lnTo>
                        <a:pt x="1174" y="77"/>
                      </a:lnTo>
                      <a:lnTo>
                        <a:pt x="1175" y="77"/>
                      </a:lnTo>
                      <a:lnTo>
                        <a:pt x="1176" y="76"/>
                      </a:lnTo>
                      <a:lnTo>
                        <a:pt x="1177" y="76"/>
                      </a:lnTo>
                      <a:lnTo>
                        <a:pt x="1178" y="76"/>
                      </a:lnTo>
                      <a:lnTo>
                        <a:pt x="1179" y="76"/>
                      </a:lnTo>
                      <a:lnTo>
                        <a:pt x="1181" y="76"/>
                      </a:lnTo>
                      <a:lnTo>
                        <a:pt x="1182" y="76"/>
                      </a:lnTo>
                      <a:lnTo>
                        <a:pt x="1183" y="77"/>
                      </a:lnTo>
                      <a:lnTo>
                        <a:pt x="1184" y="77"/>
                      </a:lnTo>
                      <a:lnTo>
                        <a:pt x="1185" y="78"/>
                      </a:lnTo>
                      <a:lnTo>
                        <a:pt x="1186" y="78"/>
                      </a:lnTo>
                      <a:lnTo>
                        <a:pt x="1186" y="79"/>
                      </a:lnTo>
                      <a:lnTo>
                        <a:pt x="1188" y="79"/>
                      </a:lnTo>
                      <a:lnTo>
                        <a:pt x="1189" y="81"/>
                      </a:lnTo>
                      <a:lnTo>
                        <a:pt x="1190" y="82"/>
                      </a:lnTo>
                      <a:lnTo>
                        <a:pt x="1191" y="83"/>
                      </a:lnTo>
                      <a:lnTo>
                        <a:pt x="1192" y="83"/>
                      </a:lnTo>
                      <a:lnTo>
                        <a:pt x="1192" y="84"/>
                      </a:lnTo>
                      <a:lnTo>
                        <a:pt x="1193" y="85"/>
                      </a:lnTo>
                      <a:lnTo>
                        <a:pt x="1196" y="86"/>
                      </a:lnTo>
                      <a:lnTo>
                        <a:pt x="1197" y="86"/>
                      </a:lnTo>
                      <a:lnTo>
                        <a:pt x="1198" y="87"/>
                      </a:lnTo>
                      <a:lnTo>
                        <a:pt x="1199" y="89"/>
                      </a:lnTo>
                      <a:lnTo>
                        <a:pt x="1200" y="90"/>
                      </a:lnTo>
                      <a:lnTo>
                        <a:pt x="1203" y="91"/>
                      </a:lnTo>
                      <a:lnTo>
                        <a:pt x="1204" y="92"/>
                      </a:lnTo>
                      <a:lnTo>
                        <a:pt x="1206" y="93"/>
                      </a:lnTo>
                      <a:lnTo>
                        <a:pt x="1207" y="94"/>
                      </a:lnTo>
                      <a:lnTo>
                        <a:pt x="1210" y="94"/>
                      </a:lnTo>
                      <a:lnTo>
                        <a:pt x="1212" y="96"/>
                      </a:lnTo>
                      <a:lnTo>
                        <a:pt x="1213" y="97"/>
                      </a:lnTo>
                      <a:lnTo>
                        <a:pt x="1212" y="97"/>
                      </a:lnTo>
                      <a:lnTo>
                        <a:pt x="1211" y="98"/>
                      </a:lnTo>
                      <a:lnTo>
                        <a:pt x="1210" y="98"/>
                      </a:lnTo>
                      <a:lnTo>
                        <a:pt x="1208" y="97"/>
                      </a:lnTo>
                      <a:lnTo>
                        <a:pt x="1207" y="97"/>
                      </a:lnTo>
                      <a:lnTo>
                        <a:pt x="1206" y="97"/>
                      </a:lnTo>
                      <a:lnTo>
                        <a:pt x="1205" y="97"/>
                      </a:lnTo>
                      <a:lnTo>
                        <a:pt x="1204" y="96"/>
                      </a:lnTo>
                      <a:lnTo>
                        <a:pt x="1203" y="96"/>
                      </a:lnTo>
                      <a:lnTo>
                        <a:pt x="1201" y="96"/>
                      </a:lnTo>
                      <a:lnTo>
                        <a:pt x="1199" y="94"/>
                      </a:lnTo>
                      <a:lnTo>
                        <a:pt x="1198" y="94"/>
                      </a:lnTo>
                      <a:lnTo>
                        <a:pt x="1197" y="93"/>
                      </a:lnTo>
                      <a:lnTo>
                        <a:pt x="1196" y="93"/>
                      </a:lnTo>
                      <a:lnTo>
                        <a:pt x="1193" y="92"/>
                      </a:lnTo>
                      <a:lnTo>
                        <a:pt x="1192" y="91"/>
                      </a:lnTo>
                      <a:lnTo>
                        <a:pt x="1191" y="91"/>
                      </a:lnTo>
                      <a:lnTo>
                        <a:pt x="1190" y="90"/>
                      </a:lnTo>
                      <a:lnTo>
                        <a:pt x="1188" y="90"/>
                      </a:lnTo>
                      <a:lnTo>
                        <a:pt x="1186" y="89"/>
                      </a:lnTo>
                      <a:lnTo>
                        <a:pt x="1185" y="89"/>
                      </a:lnTo>
                      <a:lnTo>
                        <a:pt x="1184" y="87"/>
                      </a:lnTo>
                      <a:lnTo>
                        <a:pt x="1183" y="87"/>
                      </a:lnTo>
                      <a:lnTo>
                        <a:pt x="1182" y="87"/>
                      </a:lnTo>
                      <a:lnTo>
                        <a:pt x="1181" y="86"/>
                      </a:lnTo>
                      <a:lnTo>
                        <a:pt x="1179" y="86"/>
                      </a:lnTo>
                      <a:lnTo>
                        <a:pt x="1178" y="86"/>
                      </a:lnTo>
                      <a:lnTo>
                        <a:pt x="1177" y="86"/>
                      </a:lnTo>
                      <a:lnTo>
                        <a:pt x="1176" y="86"/>
                      </a:lnTo>
                      <a:lnTo>
                        <a:pt x="1174" y="86"/>
                      </a:lnTo>
                      <a:lnTo>
                        <a:pt x="1170" y="85"/>
                      </a:lnTo>
                      <a:lnTo>
                        <a:pt x="1168" y="85"/>
                      </a:lnTo>
                      <a:lnTo>
                        <a:pt x="1166" y="85"/>
                      </a:lnTo>
                      <a:lnTo>
                        <a:pt x="1163" y="84"/>
                      </a:lnTo>
                      <a:lnTo>
                        <a:pt x="1161" y="84"/>
                      </a:lnTo>
                      <a:lnTo>
                        <a:pt x="1159" y="84"/>
                      </a:lnTo>
                      <a:lnTo>
                        <a:pt x="1156" y="84"/>
                      </a:lnTo>
                      <a:lnTo>
                        <a:pt x="1155" y="84"/>
                      </a:lnTo>
                      <a:lnTo>
                        <a:pt x="1153" y="84"/>
                      </a:lnTo>
                      <a:lnTo>
                        <a:pt x="1151" y="84"/>
                      </a:lnTo>
                      <a:lnTo>
                        <a:pt x="1148" y="84"/>
                      </a:lnTo>
                      <a:lnTo>
                        <a:pt x="1147" y="84"/>
                      </a:lnTo>
                      <a:lnTo>
                        <a:pt x="1145" y="84"/>
                      </a:lnTo>
                      <a:lnTo>
                        <a:pt x="1144" y="84"/>
                      </a:lnTo>
                      <a:lnTo>
                        <a:pt x="1141" y="84"/>
                      </a:lnTo>
                      <a:lnTo>
                        <a:pt x="1140" y="84"/>
                      </a:lnTo>
                      <a:lnTo>
                        <a:pt x="1139" y="84"/>
                      </a:lnTo>
                      <a:lnTo>
                        <a:pt x="1138" y="84"/>
                      </a:lnTo>
                      <a:lnTo>
                        <a:pt x="1137" y="84"/>
                      </a:lnTo>
                      <a:lnTo>
                        <a:pt x="1136" y="84"/>
                      </a:lnTo>
                      <a:lnTo>
                        <a:pt x="1134" y="84"/>
                      </a:lnTo>
                      <a:lnTo>
                        <a:pt x="1133" y="84"/>
                      </a:lnTo>
                      <a:lnTo>
                        <a:pt x="1132" y="84"/>
                      </a:lnTo>
                      <a:lnTo>
                        <a:pt x="1131" y="84"/>
                      </a:lnTo>
                      <a:lnTo>
                        <a:pt x="1131" y="83"/>
                      </a:lnTo>
                      <a:lnTo>
                        <a:pt x="1130" y="83"/>
                      </a:lnTo>
                      <a:lnTo>
                        <a:pt x="1130" y="82"/>
                      </a:lnTo>
                      <a:lnTo>
                        <a:pt x="1131" y="82"/>
                      </a:lnTo>
                      <a:close/>
                      <a:moveTo>
                        <a:pt x="1151" y="85"/>
                      </a:moveTo>
                      <a:lnTo>
                        <a:pt x="1151" y="86"/>
                      </a:lnTo>
                      <a:lnTo>
                        <a:pt x="1151" y="87"/>
                      </a:lnTo>
                      <a:lnTo>
                        <a:pt x="1151" y="89"/>
                      </a:lnTo>
                      <a:lnTo>
                        <a:pt x="1152" y="90"/>
                      </a:lnTo>
                      <a:lnTo>
                        <a:pt x="1153" y="91"/>
                      </a:lnTo>
                      <a:lnTo>
                        <a:pt x="1154" y="92"/>
                      </a:lnTo>
                      <a:lnTo>
                        <a:pt x="1155" y="92"/>
                      </a:lnTo>
                      <a:lnTo>
                        <a:pt x="1156" y="92"/>
                      </a:lnTo>
                      <a:lnTo>
                        <a:pt x="1158" y="93"/>
                      </a:lnTo>
                      <a:lnTo>
                        <a:pt x="1159" y="93"/>
                      </a:lnTo>
                      <a:lnTo>
                        <a:pt x="1160" y="93"/>
                      </a:lnTo>
                      <a:lnTo>
                        <a:pt x="1161" y="93"/>
                      </a:lnTo>
                      <a:lnTo>
                        <a:pt x="1162" y="94"/>
                      </a:lnTo>
                      <a:lnTo>
                        <a:pt x="1163" y="94"/>
                      </a:lnTo>
                      <a:lnTo>
                        <a:pt x="1166" y="94"/>
                      </a:lnTo>
                      <a:lnTo>
                        <a:pt x="1167" y="94"/>
                      </a:lnTo>
                      <a:lnTo>
                        <a:pt x="1168" y="94"/>
                      </a:lnTo>
                      <a:lnTo>
                        <a:pt x="1169" y="94"/>
                      </a:lnTo>
                      <a:lnTo>
                        <a:pt x="1171" y="94"/>
                      </a:lnTo>
                      <a:lnTo>
                        <a:pt x="1173" y="94"/>
                      </a:lnTo>
                      <a:lnTo>
                        <a:pt x="1174" y="93"/>
                      </a:lnTo>
                      <a:lnTo>
                        <a:pt x="1176" y="93"/>
                      </a:lnTo>
                      <a:lnTo>
                        <a:pt x="1177" y="93"/>
                      </a:lnTo>
                      <a:lnTo>
                        <a:pt x="1178" y="92"/>
                      </a:lnTo>
                      <a:lnTo>
                        <a:pt x="1181" y="92"/>
                      </a:lnTo>
                      <a:lnTo>
                        <a:pt x="1182" y="92"/>
                      </a:lnTo>
                      <a:lnTo>
                        <a:pt x="1183" y="91"/>
                      </a:lnTo>
                      <a:lnTo>
                        <a:pt x="1182" y="91"/>
                      </a:lnTo>
                      <a:lnTo>
                        <a:pt x="1181" y="91"/>
                      </a:lnTo>
                      <a:lnTo>
                        <a:pt x="1179" y="91"/>
                      </a:lnTo>
                      <a:lnTo>
                        <a:pt x="1178" y="91"/>
                      </a:lnTo>
                      <a:lnTo>
                        <a:pt x="1177" y="91"/>
                      </a:lnTo>
                      <a:lnTo>
                        <a:pt x="1176" y="91"/>
                      </a:lnTo>
                      <a:lnTo>
                        <a:pt x="1175" y="91"/>
                      </a:lnTo>
                      <a:lnTo>
                        <a:pt x="1174" y="91"/>
                      </a:lnTo>
                      <a:lnTo>
                        <a:pt x="1173" y="91"/>
                      </a:lnTo>
                      <a:lnTo>
                        <a:pt x="1171" y="91"/>
                      </a:lnTo>
                      <a:lnTo>
                        <a:pt x="1170" y="91"/>
                      </a:lnTo>
                      <a:lnTo>
                        <a:pt x="1169" y="91"/>
                      </a:lnTo>
                      <a:lnTo>
                        <a:pt x="1168" y="91"/>
                      </a:lnTo>
                      <a:lnTo>
                        <a:pt x="1167" y="91"/>
                      </a:lnTo>
                      <a:lnTo>
                        <a:pt x="1166" y="91"/>
                      </a:lnTo>
                      <a:lnTo>
                        <a:pt x="1164" y="91"/>
                      </a:lnTo>
                      <a:lnTo>
                        <a:pt x="1163" y="91"/>
                      </a:lnTo>
                      <a:lnTo>
                        <a:pt x="1162" y="91"/>
                      </a:lnTo>
                      <a:lnTo>
                        <a:pt x="1161" y="90"/>
                      </a:lnTo>
                      <a:lnTo>
                        <a:pt x="1160" y="90"/>
                      </a:lnTo>
                      <a:lnTo>
                        <a:pt x="1159" y="90"/>
                      </a:lnTo>
                      <a:lnTo>
                        <a:pt x="1158" y="90"/>
                      </a:lnTo>
                      <a:lnTo>
                        <a:pt x="1156" y="89"/>
                      </a:lnTo>
                      <a:lnTo>
                        <a:pt x="1155" y="89"/>
                      </a:lnTo>
                      <a:lnTo>
                        <a:pt x="1154" y="87"/>
                      </a:lnTo>
                      <a:lnTo>
                        <a:pt x="1153" y="87"/>
                      </a:lnTo>
                      <a:lnTo>
                        <a:pt x="1152" y="86"/>
                      </a:lnTo>
                      <a:lnTo>
                        <a:pt x="1151" y="86"/>
                      </a:lnTo>
                      <a:lnTo>
                        <a:pt x="1151" y="85"/>
                      </a:lnTo>
                      <a:close/>
                      <a:moveTo>
                        <a:pt x="1786" y="108"/>
                      </a:moveTo>
                      <a:lnTo>
                        <a:pt x="1787" y="108"/>
                      </a:lnTo>
                      <a:lnTo>
                        <a:pt x="1788" y="108"/>
                      </a:lnTo>
                      <a:lnTo>
                        <a:pt x="1788" y="109"/>
                      </a:lnTo>
                      <a:lnTo>
                        <a:pt x="1790" y="111"/>
                      </a:lnTo>
                      <a:lnTo>
                        <a:pt x="1791" y="112"/>
                      </a:lnTo>
                      <a:lnTo>
                        <a:pt x="1792" y="113"/>
                      </a:lnTo>
                      <a:lnTo>
                        <a:pt x="1793" y="114"/>
                      </a:lnTo>
                      <a:lnTo>
                        <a:pt x="1793" y="115"/>
                      </a:lnTo>
                      <a:lnTo>
                        <a:pt x="1794" y="115"/>
                      </a:lnTo>
                      <a:lnTo>
                        <a:pt x="1794" y="116"/>
                      </a:lnTo>
                      <a:lnTo>
                        <a:pt x="1795" y="116"/>
                      </a:lnTo>
                      <a:lnTo>
                        <a:pt x="1795" y="118"/>
                      </a:lnTo>
                      <a:lnTo>
                        <a:pt x="1797" y="119"/>
                      </a:lnTo>
                      <a:lnTo>
                        <a:pt x="1798" y="120"/>
                      </a:lnTo>
                      <a:lnTo>
                        <a:pt x="1799" y="121"/>
                      </a:lnTo>
                      <a:lnTo>
                        <a:pt x="1800" y="122"/>
                      </a:lnTo>
                      <a:lnTo>
                        <a:pt x="1801" y="123"/>
                      </a:lnTo>
                      <a:lnTo>
                        <a:pt x="1802" y="123"/>
                      </a:lnTo>
                      <a:lnTo>
                        <a:pt x="1801" y="123"/>
                      </a:lnTo>
                      <a:lnTo>
                        <a:pt x="1800" y="123"/>
                      </a:lnTo>
                      <a:lnTo>
                        <a:pt x="1800" y="124"/>
                      </a:lnTo>
                      <a:lnTo>
                        <a:pt x="1799" y="124"/>
                      </a:lnTo>
                      <a:lnTo>
                        <a:pt x="1798" y="124"/>
                      </a:lnTo>
                      <a:lnTo>
                        <a:pt x="1797" y="126"/>
                      </a:lnTo>
                      <a:lnTo>
                        <a:pt x="1795" y="126"/>
                      </a:lnTo>
                      <a:lnTo>
                        <a:pt x="1794" y="126"/>
                      </a:lnTo>
                      <a:lnTo>
                        <a:pt x="1793" y="124"/>
                      </a:lnTo>
                      <a:lnTo>
                        <a:pt x="1792" y="124"/>
                      </a:lnTo>
                      <a:lnTo>
                        <a:pt x="1791" y="124"/>
                      </a:lnTo>
                      <a:lnTo>
                        <a:pt x="1791" y="123"/>
                      </a:lnTo>
                      <a:lnTo>
                        <a:pt x="1790" y="123"/>
                      </a:lnTo>
                      <a:lnTo>
                        <a:pt x="1788" y="123"/>
                      </a:lnTo>
                      <a:lnTo>
                        <a:pt x="1788" y="122"/>
                      </a:lnTo>
                      <a:lnTo>
                        <a:pt x="1787" y="122"/>
                      </a:lnTo>
                      <a:lnTo>
                        <a:pt x="1787" y="121"/>
                      </a:lnTo>
                      <a:lnTo>
                        <a:pt x="1786" y="121"/>
                      </a:lnTo>
                      <a:lnTo>
                        <a:pt x="1785" y="121"/>
                      </a:lnTo>
                      <a:lnTo>
                        <a:pt x="1785" y="120"/>
                      </a:lnTo>
                      <a:lnTo>
                        <a:pt x="1784" y="120"/>
                      </a:lnTo>
                      <a:lnTo>
                        <a:pt x="1783" y="119"/>
                      </a:lnTo>
                      <a:lnTo>
                        <a:pt x="1781" y="119"/>
                      </a:lnTo>
                      <a:lnTo>
                        <a:pt x="1781" y="118"/>
                      </a:lnTo>
                      <a:lnTo>
                        <a:pt x="1780" y="118"/>
                      </a:lnTo>
                      <a:lnTo>
                        <a:pt x="1780" y="116"/>
                      </a:lnTo>
                      <a:lnTo>
                        <a:pt x="1780" y="115"/>
                      </a:lnTo>
                      <a:lnTo>
                        <a:pt x="1780" y="114"/>
                      </a:lnTo>
                      <a:lnTo>
                        <a:pt x="1781" y="114"/>
                      </a:lnTo>
                      <a:lnTo>
                        <a:pt x="1781" y="113"/>
                      </a:lnTo>
                      <a:lnTo>
                        <a:pt x="1783" y="113"/>
                      </a:lnTo>
                      <a:lnTo>
                        <a:pt x="1783" y="112"/>
                      </a:lnTo>
                      <a:lnTo>
                        <a:pt x="1784" y="112"/>
                      </a:lnTo>
                      <a:lnTo>
                        <a:pt x="1784" y="111"/>
                      </a:lnTo>
                      <a:lnTo>
                        <a:pt x="1785" y="109"/>
                      </a:lnTo>
                      <a:lnTo>
                        <a:pt x="1785" y="108"/>
                      </a:lnTo>
                      <a:lnTo>
                        <a:pt x="1786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2" name=""/>
              <p:cNvSpPr/>
              <p:nvPr/>
            </p:nvSpPr>
            <p:spPr>
              <a:xfrm>
                <a:off x="4980240" y="5416560"/>
                <a:ext cx="12384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eaching &amp; Learn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934880" y="6432480"/>
                <a:ext cx="1287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Academic Atmospher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4" name=""/>
            <p:cNvSpPr/>
            <p:nvPr/>
          </p:nvSpPr>
          <p:spPr>
            <a:xfrm>
              <a:off x="5373720" y="3379680"/>
              <a:ext cx="482400" cy="582840"/>
            </a:xfrm>
            <a:prstGeom prst="upDownArrow">
              <a:avLst>
                <a:gd name="adj1" fmla="val 51972"/>
                <a:gd name="adj2" fmla="val 41308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904760" y="121932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Benguiat Bk BT"/>
              </a:rPr>
              <a:t>Perencanaan</a:t>
            </a:r>
            <a:br>
              <a:rPr sz="6600"/>
            </a:br>
            <a:r>
              <a:rPr b="0" i="1" lang="en-US" sz="6600" spc="-1" strike="noStrike">
                <a:solidFill>
                  <a:srgbClr val="000000"/>
                </a:solidFill>
                <a:latin typeface="Benguiat Bk BT"/>
              </a:rPr>
              <a:t>dalam</a:t>
            </a:r>
            <a:br>
              <a:rPr sz="6600"/>
            </a:br>
            <a:r>
              <a:rPr b="0" i="1" lang="en-US" sz="6600" spc="-1" strike="noStrike">
                <a:solidFill>
                  <a:srgbClr val="000000"/>
                </a:solidFill>
                <a:latin typeface="Benguiat Bk BT"/>
              </a:rPr>
              <a:t>Pengembangan</a:t>
            </a:r>
            <a:br>
              <a:rPr sz="6600"/>
            </a:br>
            <a:r>
              <a:rPr b="0" i="1" lang="en-US" sz="6600" spc="-1" strike="noStrike">
                <a:solidFill>
                  <a:srgbClr val="000000"/>
                </a:solidFill>
                <a:latin typeface="Benguiat Bk BT"/>
              </a:rPr>
              <a:t>Institusi</a:t>
            </a:r>
            <a:endParaRPr b="1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6" name=""/>
          <p:cNvGrpSpPr/>
          <p:nvPr/>
        </p:nvGrpSpPr>
        <p:grpSpPr>
          <a:xfrm>
            <a:off x="380880" y="1905120"/>
            <a:ext cx="4038840" cy="2971800"/>
            <a:chOff x="380880" y="1905120"/>
            <a:chExt cx="4038840" cy="2971800"/>
          </a:xfrm>
        </p:grpSpPr>
        <p:sp>
          <p:nvSpPr>
            <p:cNvPr id="1047" name=""/>
            <p:cNvSpPr/>
            <p:nvPr/>
          </p:nvSpPr>
          <p:spPr>
            <a:xfrm>
              <a:off x="380880" y="1905120"/>
              <a:ext cx="4038840" cy="2209680"/>
            </a:xfrm>
            <a:prstGeom prst="rect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905120" y="4267080"/>
              <a:ext cx="761760" cy="609840"/>
            </a:xfrm>
            <a:prstGeom prst="upArrow">
              <a:avLst>
                <a:gd name="adj1" fmla="val 50000"/>
                <a:gd name="adj2" fmla="val 4844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541080" y="4952880"/>
            <a:ext cx="3813840" cy="1328400"/>
            <a:chOff x="541080" y="4952880"/>
            <a:chExt cx="3813840" cy="1328400"/>
          </a:xfrm>
        </p:grpSpPr>
        <p:pic>
          <p:nvPicPr>
            <p:cNvPr id="1050" name="" descr=""/>
            <p:cNvPicPr/>
            <p:nvPr/>
          </p:nvPicPr>
          <p:blipFill>
            <a:blip r:embed="rId1"/>
            <a:stretch/>
          </p:blipFill>
          <p:spPr>
            <a:xfrm>
              <a:off x="1546200" y="4952880"/>
              <a:ext cx="1600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1" name=""/>
            <p:cNvSpPr/>
            <p:nvPr/>
          </p:nvSpPr>
          <p:spPr>
            <a:xfrm>
              <a:off x="541080" y="5700600"/>
              <a:ext cx="3813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enry Mintzberg:</a:t>
              </a:r>
              <a:br>
                <a:rPr sz="1600"/>
              </a:b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”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The Rise and Fall of Strategic Planning</a:t>
              </a:r>
              <a:r>
                <a:rPr b="0" lang="en-US" sz="1600" spc="-1" strike="noStrike">
                  <a:solidFill>
                    <a:srgbClr val="ff0000"/>
                  </a:solidFill>
                  <a:latin typeface="Times New Roman"/>
                </a:rPr>
                <a:t>”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228600" y="4267080"/>
            <a:ext cx="8686800" cy="1981080"/>
            <a:chOff x="228600" y="4267080"/>
            <a:chExt cx="8686800" cy="1981080"/>
          </a:xfrm>
        </p:grpSpPr>
        <p:sp>
          <p:nvSpPr>
            <p:cNvPr id="1053" name=""/>
            <p:cNvSpPr/>
            <p:nvPr/>
          </p:nvSpPr>
          <p:spPr>
            <a:xfrm>
              <a:off x="228600" y="4267080"/>
              <a:ext cx="8686800" cy="1981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28600" y="4267080"/>
              <a:ext cx="8686800" cy="18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0000"/>
                  </a:solidFill>
                  <a:uFillTx/>
                  <a:latin typeface="Benguiat Bk BT"/>
                </a:rPr>
                <a:t>Perencanaan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alah kegiatan yang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engupayakan dan menyepakati 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hari depa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yang 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diinginka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dalam keterkaitan dengan 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kelaika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kemungkina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dan 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keboleh-jadia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untuk mencapainy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5" name=""/>
          <p:cNvGrpSpPr/>
          <p:nvPr/>
        </p:nvGrpSpPr>
        <p:grpSpPr>
          <a:xfrm>
            <a:off x="4572000" y="152280"/>
            <a:ext cx="4419720" cy="3809880"/>
            <a:chOff x="4572000" y="152280"/>
            <a:chExt cx="4419720" cy="3809880"/>
          </a:xfrm>
        </p:grpSpPr>
        <p:grpSp>
          <p:nvGrpSpPr>
            <p:cNvPr id="1056" name=""/>
            <p:cNvGrpSpPr/>
            <p:nvPr/>
          </p:nvGrpSpPr>
          <p:grpSpPr>
            <a:xfrm>
              <a:off x="4572000" y="1981080"/>
              <a:ext cx="2361960" cy="1981080"/>
              <a:chOff x="4572000" y="1981080"/>
              <a:chExt cx="2361960" cy="1981080"/>
            </a:xfrm>
          </p:grpSpPr>
          <p:sp>
            <p:nvSpPr>
              <p:cNvPr id="1057" name=""/>
              <p:cNvSpPr/>
              <p:nvPr/>
            </p:nvSpPr>
            <p:spPr>
              <a:xfrm>
                <a:off x="5146920" y="3677400"/>
                <a:ext cx="1028160" cy="284760"/>
              </a:xfrm>
              <a:custGeom>
                <a:avLst/>
                <a:gdLst/>
                <a:ahLst/>
                <a:rect l="l" t="t" r="r" b="b"/>
                <a:pathLst>
                  <a:path w="6619" h="1728">
                    <a:moveTo>
                      <a:pt x="6619" y="1083"/>
                    </a:moveTo>
                    <a:lnTo>
                      <a:pt x="2248" y="1728"/>
                    </a:lnTo>
                    <a:lnTo>
                      <a:pt x="0" y="463"/>
                    </a:lnTo>
                    <a:lnTo>
                      <a:pt x="3828" y="0"/>
                    </a:lnTo>
                    <a:lnTo>
                      <a:pt x="6619" y="10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19080" y="3683880"/>
                <a:ext cx="34560" cy="48600"/>
              </a:xfrm>
              <a:custGeom>
                <a:avLst/>
                <a:gdLst/>
                <a:ahLst/>
                <a:rect l="l" t="t" r="r" b="b"/>
                <a:pathLst>
                  <a:path w="227" h="293">
                    <a:moveTo>
                      <a:pt x="108" y="0"/>
                    </a:moveTo>
                    <a:lnTo>
                      <a:pt x="227" y="293"/>
                    </a:lnTo>
                    <a:lnTo>
                      <a:pt x="53" y="133"/>
                    </a:lnTo>
                    <a:lnTo>
                      <a:pt x="0" y="65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5680" y="2590920"/>
                <a:ext cx="1994400" cy="1094040"/>
              </a:xfrm>
              <a:custGeom>
                <a:avLst/>
                <a:gdLst/>
                <a:ahLst/>
                <a:rect l="l" t="t" r="r" b="b"/>
                <a:pathLst>
                  <a:path w="12853" h="6633">
                    <a:moveTo>
                      <a:pt x="929" y="6532"/>
                    </a:moveTo>
                    <a:lnTo>
                      <a:pt x="1058" y="6454"/>
                    </a:lnTo>
                    <a:lnTo>
                      <a:pt x="1136" y="6297"/>
                    </a:lnTo>
                    <a:lnTo>
                      <a:pt x="2353" y="5963"/>
                    </a:lnTo>
                    <a:lnTo>
                      <a:pt x="2688" y="5138"/>
                    </a:lnTo>
                    <a:lnTo>
                      <a:pt x="4214" y="4078"/>
                    </a:lnTo>
                    <a:lnTo>
                      <a:pt x="4809" y="5164"/>
                    </a:lnTo>
                    <a:lnTo>
                      <a:pt x="5535" y="6324"/>
                    </a:lnTo>
                    <a:lnTo>
                      <a:pt x="11248" y="6324"/>
                    </a:lnTo>
                    <a:lnTo>
                      <a:pt x="12233" y="6633"/>
                    </a:lnTo>
                    <a:lnTo>
                      <a:pt x="12543" y="6532"/>
                    </a:lnTo>
                    <a:lnTo>
                      <a:pt x="12853" y="5396"/>
                    </a:lnTo>
                    <a:lnTo>
                      <a:pt x="12648" y="4546"/>
                    </a:lnTo>
                    <a:lnTo>
                      <a:pt x="12233" y="3847"/>
                    </a:lnTo>
                    <a:lnTo>
                      <a:pt x="12106" y="3486"/>
                    </a:lnTo>
                    <a:lnTo>
                      <a:pt x="11845" y="2762"/>
                    </a:lnTo>
                    <a:lnTo>
                      <a:pt x="11820" y="2376"/>
                    </a:lnTo>
                    <a:lnTo>
                      <a:pt x="11820" y="1420"/>
                    </a:lnTo>
                    <a:lnTo>
                      <a:pt x="11767" y="1265"/>
                    </a:lnTo>
                    <a:lnTo>
                      <a:pt x="11510" y="1111"/>
                    </a:lnTo>
                    <a:lnTo>
                      <a:pt x="10939" y="904"/>
                    </a:lnTo>
                    <a:lnTo>
                      <a:pt x="10473" y="772"/>
                    </a:lnTo>
                    <a:lnTo>
                      <a:pt x="9673" y="438"/>
                    </a:lnTo>
                    <a:lnTo>
                      <a:pt x="9102" y="0"/>
                    </a:lnTo>
                    <a:lnTo>
                      <a:pt x="6907" y="26"/>
                    </a:lnTo>
                    <a:lnTo>
                      <a:pt x="6155" y="386"/>
                    </a:lnTo>
                    <a:lnTo>
                      <a:pt x="5689" y="465"/>
                    </a:lnTo>
                    <a:lnTo>
                      <a:pt x="5120" y="438"/>
                    </a:lnTo>
                    <a:lnTo>
                      <a:pt x="4836" y="412"/>
                    </a:lnTo>
                    <a:lnTo>
                      <a:pt x="4240" y="542"/>
                    </a:lnTo>
                    <a:lnTo>
                      <a:pt x="3903" y="1032"/>
                    </a:lnTo>
                    <a:lnTo>
                      <a:pt x="3827" y="1392"/>
                    </a:lnTo>
                    <a:lnTo>
                      <a:pt x="3569" y="1470"/>
                    </a:lnTo>
                    <a:lnTo>
                      <a:pt x="2559" y="2683"/>
                    </a:lnTo>
                    <a:lnTo>
                      <a:pt x="2353" y="2862"/>
                    </a:lnTo>
                    <a:lnTo>
                      <a:pt x="1990" y="3408"/>
                    </a:lnTo>
                    <a:lnTo>
                      <a:pt x="1085" y="4130"/>
                    </a:lnTo>
                    <a:lnTo>
                      <a:pt x="853" y="4365"/>
                    </a:lnTo>
                    <a:lnTo>
                      <a:pt x="569" y="4466"/>
                    </a:lnTo>
                    <a:lnTo>
                      <a:pt x="154" y="4852"/>
                    </a:lnTo>
                    <a:lnTo>
                      <a:pt x="0" y="5290"/>
                    </a:lnTo>
                    <a:lnTo>
                      <a:pt x="53" y="5728"/>
                    </a:lnTo>
                    <a:lnTo>
                      <a:pt x="540" y="6144"/>
                    </a:lnTo>
                    <a:lnTo>
                      <a:pt x="929" y="6532"/>
                    </a:lnTo>
                    <a:close/>
                  </a:path>
                </a:pathLst>
              </a:custGeom>
              <a:solidFill>
                <a:srgbClr val="5151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109560" y="2869560"/>
                <a:ext cx="121320" cy="255960"/>
              </a:xfrm>
              <a:custGeom>
                <a:avLst/>
                <a:gdLst/>
                <a:ahLst/>
                <a:rect l="l" t="t" r="r" b="b"/>
                <a:pathLst>
                  <a:path w="782" h="1558">
                    <a:moveTo>
                      <a:pt x="723" y="0"/>
                    </a:moveTo>
                    <a:lnTo>
                      <a:pt x="775" y="102"/>
                    </a:lnTo>
                    <a:lnTo>
                      <a:pt x="782" y="287"/>
                    </a:lnTo>
                    <a:lnTo>
                      <a:pt x="750" y="533"/>
                    </a:lnTo>
                    <a:lnTo>
                      <a:pt x="697" y="674"/>
                    </a:lnTo>
                    <a:lnTo>
                      <a:pt x="628" y="871"/>
                    </a:lnTo>
                    <a:lnTo>
                      <a:pt x="543" y="1047"/>
                    </a:lnTo>
                    <a:lnTo>
                      <a:pt x="453" y="1205"/>
                    </a:lnTo>
                    <a:lnTo>
                      <a:pt x="136" y="1558"/>
                    </a:lnTo>
                    <a:lnTo>
                      <a:pt x="0" y="968"/>
                    </a:lnTo>
                    <a:lnTo>
                      <a:pt x="664" y="0"/>
                    </a:lnTo>
                    <a:lnTo>
                      <a:pt x="7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812840" y="3481920"/>
                <a:ext cx="261720" cy="186120"/>
              </a:xfrm>
              <a:custGeom>
                <a:avLst/>
                <a:gdLst/>
                <a:ahLst/>
                <a:rect l="l" t="t" r="r" b="b"/>
                <a:pathLst>
                  <a:path w="1688" h="1124">
                    <a:moveTo>
                      <a:pt x="120" y="483"/>
                    </a:moveTo>
                    <a:lnTo>
                      <a:pt x="321" y="283"/>
                    </a:lnTo>
                    <a:lnTo>
                      <a:pt x="806" y="40"/>
                    </a:lnTo>
                    <a:lnTo>
                      <a:pt x="1127" y="0"/>
                    </a:lnTo>
                    <a:lnTo>
                      <a:pt x="1364" y="40"/>
                    </a:lnTo>
                    <a:lnTo>
                      <a:pt x="1571" y="161"/>
                    </a:lnTo>
                    <a:lnTo>
                      <a:pt x="1688" y="321"/>
                    </a:lnTo>
                    <a:lnTo>
                      <a:pt x="844" y="1124"/>
                    </a:lnTo>
                    <a:lnTo>
                      <a:pt x="362" y="1085"/>
                    </a:lnTo>
                    <a:lnTo>
                      <a:pt x="0" y="845"/>
                    </a:lnTo>
                    <a:lnTo>
                      <a:pt x="120" y="4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042240" y="2965680"/>
                <a:ext cx="136800" cy="164880"/>
              </a:xfrm>
              <a:custGeom>
                <a:avLst/>
                <a:gdLst/>
                <a:ahLst/>
                <a:rect l="l" t="t" r="r" b="b"/>
                <a:pathLst>
                  <a:path w="884" h="1000">
                    <a:moveTo>
                      <a:pt x="683" y="279"/>
                    </a:moveTo>
                    <a:lnTo>
                      <a:pt x="884" y="599"/>
                    </a:lnTo>
                    <a:lnTo>
                      <a:pt x="561" y="1000"/>
                    </a:lnTo>
                    <a:lnTo>
                      <a:pt x="400" y="920"/>
                    </a:lnTo>
                    <a:lnTo>
                      <a:pt x="282" y="599"/>
                    </a:lnTo>
                    <a:lnTo>
                      <a:pt x="0" y="442"/>
                    </a:lnTo>
                    <a:lnTo>
                      <a:pt x="198" y="0"/>
                    </a:lnTo>
                    <a:lnTo>
                      <a:pt x="683" y="27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788000" y="3534840"/>
                <a:ext cx="181080" cy="152640"/>
              </a:xfrm>
              <a:custGeom>
                <a:avLst/>
                <a:gdLst/>
                <a:ahLst/>
                <a:rect l="l" t="t" r="r" b="b"/>
                <a:pathLst>
                  <a:path w="1167" h="925">
                    <a:moveTo>
                      <a:pt x="482" y="0"/>
                    </a:moveTo>
                    <a:lnTo>
                      <a:pt x="1167" y="162"/>
                    </a:lnTo>
                    <a:lnTo>
                      <a:pt x="1005" y="885"/>
                    </a:lnTo>
                    <a:lnTo>
                      <a:pt x="765" y="925"/>
                    </a:lnTo>
                    <a:lnTo>
                      <a:pt x="482" y="844"/>
                    </a:lnTo>
                    <a:lnTo>
                      <a:pt x="323" y="722"/>
                    </a:lnTo>
                    <a:lnTo>
                      <a:pt x="0" y="563"/>
                    </a:lnTo>
                    <a:lnTo>
                      <a:pt x="281" y="123"/>
                    </a:lnTo>
                    <a:lnTo>
                      <a:pt x="48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634000" y="2585520"/>
                <a:ext cx="330120" cy="793080"/>
              </a:xfrm>
              <a:custGeom>
                <a:avLst/>
                <a:gdLst/>
                <a:ahLst/>
                <a:rect l="l" t="t" r="r" b="b"/>
                <a:pathLst>
                  <a:path w="2123" h="4812">
                    <a:moveTo>
                      <a:pt x="265" y="0"/>
                    </a:moveTo>
                    <a:lnTo>
                      <a:pt x="101" y="77"/>
                    </a:lnTo>
                    <a:lnTo>
                      <a:pt x="0" y="391"/>
                    </a:lnTo>
                    <a:lnTo>
                      <a:pt x="16" y="808"/>
                    </a:lnTo>
                    <a:lnTo>
                      <a:pt x="127" y="1414"/>
                    </a:lnTo>
                    <a:lnTo>
                      <a:pt x="279" y="2484"/>
                    </a:lnTo>
                    <a:lnTo>
                      <a:pt x="364" y="3253"/>
                    </a:lnTo>
                    <a:lnTo>
                      <a:pt x="431" y="4059"/>
                    </a:lnTo>
                    <a:lnTo>
                      <a:pt x="556" y="4812"/>
                    </a:lnTo>
                    <a:lnTo>
                      <a:pt x="960" y="4271"/>
                    </a:lnTo>
                    <a:lnTo>
                      <a:pt x="1476" y="3644"/>
                    </a:lnTo>
                    <a:lnTo>
                      <a:pt x="1679" y="3176"/>
                    </a:lnTo>
                    <a:lnTo>
                      <a:pt x="2123" y="1564"/>
                    </a:lnTo>
                    <a:lnTo>
                      <a:pt x="1630" y="833"/>
                    </a:lnTo>
                    <a:lnTo>
                      <a:pt x="26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703480" y="2782440"/>
                <a:ext cx="166320" cy="580680"/>
              </a:xfrm>
              <a:custGeom>
                <a:avLst/>
                <a:gdLst/>
                <a:ahLst/>
                <a:rect l="l" t="t" r="r" b="b"/>
                <a:pathLst>
                  <a:path w="1074" h="3516">
                    <a:moveTo>
                      <a:pt x="645" y="13"/>
                    </a:moveTo>
                    <a:lnTo>
                      <a:pt x="355" y="266"/>
                    </a:lnTo>
                    <a:lnTo>
                      <a:pt x="392" y="431"/>
                    </a:lnTo>
                    <a:lnTo>
                      <a:pt x="629" y="832"/>
                    </a:lnTo>
                    <a:lnTo>
                      <a:pt x="645" y="982"/>
                    </a:lnTo>
                    <a:lnTo>
                      <a:pt x="579" y="1274"/>
                    </a:lnTo>
                    <a:lnTo>
                      <a:pt x="417" y="1830"/>
                    </a:lnTo>
                    <a:lnTo>
                      <a:pt x="0" y="3178"/>
                    </a:lnTo>
                    <a:lnTo>
                      <a:pt x="366" y="3516"/>
                    </a:lnTo>
                    <a:lnTo>
                      <a:pt x="405" y="3505"/>
                    </a:lnTo>
                    <a:lnTo>
                      <a:pt x="645" y="3215"/>
                    </a:lnTo>
                    <a:lnTo>
                      <a:pt x="795" y="2963"/>
                    </a:lnTo>
                    <a:lnTo>
                      <a:pt x="1049" y="2420"/>
                    </a:lnTo>
                    <a:lnTo>
                      <a:pt x="1074" y="2117"/>
                    </a:lnTo>
                    <a:lnTo>
                      <a:pt x="1060" y="1816"/>
                    </a:lnTo>
                    <a:lnTo>
                      <a:pt x="1033" y="1311"/>
                    </a:lnTo>
                    <a:lnTo>
                      <a:pt x="984" y="1021"/>
                    </a:lnTo>
                    <a:lnTo>
                      <a:pt x="908" y="858"/>
                    </a:lnTo>
                    <a:lnTo>
                      <a:pt x="933" y="542"/>
                    </a:lnTo>
                    <a:lnTo>
                      <a:pt x="1023" y="252"/>
                    </a:lnTo>
                    <a:lnTo>
                      <a:pt x="959" y="127"/>
                    </a:lnTo>
                    <a:lnTo>
                      <a:pt x="783" y="0"/>
                    </a:lnTo>
                    <a:lnTo>
                      <a:pt x="645" y="13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850000" y="2759760"/>
                <a:ext cx="110160" cy="387720"/>
              </a:xfrm>
              <a:custGeom>
                <a:avLst/>
                <a:gdLst/>
                <a:ahLst/>
                <a:rect l="l" t="t" r="r" b="b"/>
                <a:pathLst>
                  <a:path w="707" h="2355">
                    <a:moveTo>
                      <a:pt x="50" y="279"/>
                    </a:moveTo>
                    <a:lnTo>
                      <a:pt x="288" y="0"/>
                    </a:lnTo>
                    <a:lnTo>
                      <a:pt x="707" y="505"/>
                    </a:lnTo>
                    <a:lnTo>
                      <a:pt x="453" y="1689"/>
                    </a:lnTo>
                    <a:lnTo>
                      <a:pt x="225" y="2355"/>
                    </a:lnTo>
                    <a:lnTo>
                      <a:pt x="365" y="1601"/>
                    </a:lnTo>
                    <a:lnTo>
                      <a:pt x="378" y="1247"/>
                    </a:lnTo>
                    <a:lnTo>
                      <a:pt x="264" y="1021"/>
                    </a:lnTo>
                    <a:lnTo>
                      <a:pt x="0" y="720"/>
                    </a:lnTo>
                    <a:lnTo>
                      <a:pt x="75" y="454"/>
                    </a:lnTo>
                    <a:lnTo>
                      <a:pt x="50" y="27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634000" y="2589480"/>
                <a:ext cx="172440" cy="690120"/>
              </a:xfrm>
              <a:custGeom>
                <a:avLst/>
                <a:gdLst/>
                <a:ahLst/>
                <a:rect l="l" t="t" r="r" b="b"/>
                <a:pathLst>
                  <a:path w="1112" h="4184">
                    <a:moveTo>
                      <a:pt x="152" y="0"/>
                    </a:moveTo>
                    <a:lnTo>
                      <a:pt x="127" y="364"/>
                    </a:lnTo>
                    <a:lnTo>
                      <a:pt x="279" y="818"/>
                    </a:lnTo>
                    <a:lnTo>
                      <a:pt x="848" y="1297"/>
                    </a:lnTo>
                    <a:lnTo>
                      <a:pt x="773" y="1511"/>
                    </a:lnTo>
                    <a:lnTo>
                      <a:pt x="1022" y="1827"/>
                    </a:lnTo>
                    <a:lnTo>
                      <a:pt x="1112" y="2079"/>
                    </a:lnTo>
                    <a:lnTo>
                      <a:pt x="1010" y="2544"/>
                    </a:lnTo>
                    <a:lnTo>
                      <a:pt x="644" y="3691"/>
                    </a:lnTo>
                    <a:lnTo>
                      <a:pt x="454" y="4184"/>
                    </a:lnTo>
                    <a:lnTo>
                      <a:pt x="394" y="3691"/>
                    </a:lnTo>
                    <a:lnTo>
                      <a:pt x="809" y="2558"/>
                    </a:lnTo>
                    <a:lnTo>
                      <a:pt x="897" y="2191"/>
                    </a:lnTo>
                    <a:lnTo>
                      <a:pt x="860" y="1938"/>
                    </a:lnTo>
                    <a:lnTo>
                      <a:pt x="745" y="1776"/>
                    </a:lnTo>
                    <a:lnTo>
                      <a:pt x="593" y="1979"/>
                    </a:lnTo>
                    <a:lnTo>
                      <a:pt x="505" y="2228"/>
                    </a:lnTo>
                    <a:lnTo>
                      <a:pt x="420" y="2117"/>
                    </a:lnTo>
                    <a:lnTo>
                      <a:pt x="353" y="2279"/>
                    </a:lnTo>
                    <a:lnTo>
                      <a:pt x="303" y="2885"/>
                    </a:lnTo>
                    <a:lnTo>
                      <a:pt x="265" y="2318"/>
                    </a:lnTo>
                    <a:lnTo>
                      <a:pt x="205" y="1912"/>
                    </a:lnTo>
                    <a:lnTo>
                      <a:pt x="90" y="1233"/>
                    </a:lnTo>
                    <a:lnTo>
                      <a:pt x="26" y="843"/>
                    </a:lnTo>
                    <a:lnTo>
                      <a:pt x="0" y="514"/>
                    </a:lnTo>
                    <a:lnTo>
                      <a:pt x="16" y="302"/>
                    </a:lnTo>
                    <a:lnTo>
                      <a:pt x="90" y="138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4925880" y="3463200"/>
                <a:ext cx="514080" cy="295560"/>
              </a:xfrm>
              <a:custGeom>
                <a:avLst/>
                <a:gdLst/>
                <a:ahLst/>
                <a:rect l="l" t="t" r="r" b="b"/>
                <a:pathLst>
                  <a:path w="3310" h="1788">
                    <a:moveTo>
                      <a:pt x="165" y="1245"/>
                    </a:moveTo>
                    <a:lnTo>
                      <a:pt x="0" y="1089"/>
                    </a:lnTo>
                    <a:lnTo>
                      <a:pt x="55" y="709"/>
                    </a:lnTo>
                    <a:lnTo>
                      <a:pt x="182" y="590"/>
                    </a:lnTo>
                    <a:lnTo>
                      <a:pt x="431" y="498"/>
                    </a:lnTo>
                    <a:lnTo>
                      <a:pt x="728" y="408"/>
                    </a:lnTo>
                    <a:lnTo>
                      <a:pt x="929" y="408"/>
                    </a:lnTo>
                    <a:lnTo>
                      <a:pt x="1344" y="419"/>
                    </a:lnTo>
                    <a:lnTo>
                      <a:pt x="1473" y="327"/>
                    </a:lnTo>
                    <a:lnTo>
                      <a:pt x="1563" y="309"/>
                    </a:lnTo>
                    <a:lnTo>
                      <a:pt x="1635" y="118"/>
                    </a:lnTo>
                    <a:lnTo>
                      <a:pt x="1916" y="0"/>
                    </a:lnTo>
                    <a:lnTo>
                      <a:pt x="2745" y="228"/>
                    </a:lnTo>
                    <a:lnTo>
                      <a:pt x="3299" y="1016"/>
                    </a:lnTo>
                    <a:lnTo>
                      <a:pt x="3310" y="1332"/>
                    </a:lnTo>
                    <a:lnTo>
                      <a:pt x="3188" y="1368"/>
                    </a:lnTo>
                    <a:lnTo>
                      <a:pt x="3061" y="1352"/>
                    </a:lnTo>
                    <a:lnTo>
                      <a:pt x="3135" y="1643"/>
                    </a:lnTo>
                    <a:lnTo>
                      <a:pt x="3061" y="1714"/>
                    </a:lnTo>
                    <a:lnTo>
                      <a:pt x="2817" y="1622"/>
                    </a:lnTo>
                    <a:lnTo>
                      <a:pt x="2397" y="1668"/>
                    </a:lnTo>
                    <a:lnTo>
                      <a:pt x="2263" y="1659"/>
                    </a:lnTo>
                    <a:lnTo>
                      <a:pt x="2081" y="1788"/>
                    </a:lnTo>
                    <a:lnTo>
                      <a:pt x="1745" y="1788"/>
                    </a:lnTo>
                    <a:lnTo>
                      <a:pt x="1452" y="1677"/>
                    </a:lnTo>
                    <a:lnTo>
                      <a:pt x="710" y="1324"/>
                    </a:lnTo>
                    <a:lnTo>
                      <a:pt x="431" y="1245"/>
                    </a:lnTo>
                    <a:lnTo>
                      <a:pt x="272" y="1253"/>
                    </a:lnTo>
                    <a:lnTo>
                      <a:pt x="165" y="1245"/>
                    </a:lnTo>
                    <a:close/>
                  </a:path>
                </a:pathLst>
              </a:custGeom>
              <a:solidFill>
                <a:srgbClr val="ffc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563080" y="2062800"/>
                <a:ext cx="649440" cy="967320"/>
              </a:xfrm>
              <a:custGeom>
                <a:avLst/>
                <a:gdLst/>
                <a:ahLst/>
                <a:rect l="l" t="t" r="r" b="b"/>
                <a:pathLst>
                  <a:path w="4184" h="5866">
                    <a:moveTo>
                      <a:pt x="107" y="1993"/>
                    </a:moveTo>
                    <a:lnTo>
                      <a:pt x="42" y="2104"/>
                    </a:lnTo>
                    <a:lnTo>
                      <a:pt x="0" y="2255"/>
                    </a:lnTo>
                    <a:lnTo>
                      <a:pt x="0" y="2352"/>
                    </a:lnTo>
                    <a:lnTo>
                      <a:pt x="12" y="2516"/>
                    </a:lnTo>
                    <a:lnTo>
                      <a:pt x="123" y="2698"/>
                    </a:lnTo>
                    <a:lnTo>
                      <a:pt x="235" y="2782"/>
                    </a:lnTo>
                    <a:lnTo>
                      <a:pt x="316" y="2809"/>
                    </a:lnTo>
                    <a:lnTo>
                      <a:pt x="480" y="2975"/>
                    </a:lnTo>
                    <a:lnTo>
                      <a:pt x="609" y="2988"/>
                    </a:lnTo>
                    <a:lnTo>
                      <a:pt x="690" y="2975"/>
                    </a:lnTo>
                    <a:lnTo>
                      <a:pt x="982" y="3597"/>
                    </a:lnTo>
                    <a:lnTo>
                      <a:pt x="1522" y="4122"/>
                    </a:lnTo>
                    <a:lnTo>
                      <a:pt x="1784" y="4152"/>
                    </a:lnTo>
                    <a:lnTo>
                      <a:pt x="1784" y="4053"/>
                    </a:lnTo>
                    <a:lnTo>
                      <a:pt x="1702" y="3915"/>
                    </a:lnTo>
                    <a:lnTo>
                      <a:pt x="1854" y="3804"/>
                    </a:lnTo>
                    <a:lnTo>
                      <a:pt x="2010" y="3944"/>
                    </a:lnTo>
                    <a:lnTo>
                      <a:pt x="2204" y="4288"/>
                    </a:lnTo>
                    <a:lnTo>
                      <a:pt x="2384" y="4539"/>
                    </a:lnTo>
                    <a:lnTo>
                      <a:pt x="2577" y="4703"/>
                    </a:lnTo>
                    <a:lnTo>
                      <a:pt x="2771" y="4813"/>
                    </a:lnTo>
                    <a:lnTo>
                      <a:pt x="2964" y="4912"/>
                    </a:lnTo>
                    <a:lnTo>
                      <a:pt x="3105" y="5103"/>
                    </a:lnTo>
                    <a:lnTo>
                      <a:pt x="3298" y="5424"/>
                    </a:lnTo>
                    <a:lnTo>
                      <a:pt x="3465" y="5866"/>
                    </a:lnTo>
                    <a:lnTo>
                      <a:pt x="3768" y="5742"/>
                    </a:lnTo>
                    <a:lnTo>
                      <a:pt x="3977" y="5492"/>
                    </a:lnTo>
                    <a:lnTo>
                      <a:pt x="4141" y="5218"/>
                    </a:lnTo>
                    <a:lnTo>
                      <a:pt x="4184" y="5103"/>
                    </a:lnTo>
                    <a:lnTo>
                      <a:pt x="3781" y="4429"/>
                    </a:lnTo>
                    <a:lnTo>
                      <a:pt x="3145" y="3375"/>
                    </a:lnTo>
                    <a:lnTo>
                      <a:pt x="3241" y="2975"/>
                    </a:lnTo>
                    <a:lnTo>
                      <a:pt x="3298" y="2477"/>
                    </a:lnTo>
                    <a:lnTo>
                      <a:pt x="3272" y="1979"/>
                    </a:lnTo>
                    <a:lnTo>
                      <a:pt x="3226" y="1495"/>
                    </a:lnTo>
                    <a:lnTo>
                      <a:pt x="3131" y="984"/>
                    </a:lnTo>
                    <a:lnTo>
                      <a:pt x="2757" y="208"/>
                    </a:lnTo>
                    <a:lnTo>
                      <a:pt x="2342" y="0"/>
                    </a:lnTo>
                    <a:lnTo>
                      <a:pt x="760" y="235"/>
                    </a:lnTo>
                    <a:lnTo>
                      <a:pt x="360" y="678"/>
                    </a:lnTo>
                    <a:lnTo>
                      <a:pt x="107" y="1993"/>
                    </a:lnTo>
                    <a:close/>
                  </a:path>
                </a:pathLst>
              </a:custGeom>
              <a:solidFill>
                <a:srgbClr val="ffca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975280" y="2302920"/>
                <a:ext cx="58320" cy="31680"/>
              </a:xfrm>
              <a:custGeom>
                <a:avLst/>
                <a:gdLst/>
                <a:ahLst/>
                <a:rect l="l" t="t" r="r" b="b"/>
                <a:pathLst>
                  <a:path w="374" h="193">
                    <a:moveTo>
                      <a:pt x="0" y="193"/>
                    </a:moveTo>
                    <a:lnTo>
                      <a:pt x="125" y="164"/>
                    </a:lnTo>
                    <a:lnTo>
                      <a:pt x="374" y="150"/>
                    </a:lnTo>
                    <a:lnTo>
                      <a:pt x="361" y="55"/>
                    </a:lnTo>
                    <a:lnTo>
                      <a:pt x="321" y="0"/>
                    </a:lnTo>
                    <a:lnTo>
                      <a:pt x="168" y="12"/>
                    </a:lnTo>
                    <a:lnTo>
                      <a:pt x="58" y="67"/>
                    </a:lnTo>
                    <a:lnTo>
                      <a:pt x="0" y="1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781600" y="2328120"/>
                <a:ext cx="79560" cy="40680"/>
              </a:xfrm>
              <a:custGeom>
                <a:avLst/>
                <a:gdLst/>
                <a:ahLst/>
                <a:rect l="l" t="t" r="r" b="b"/>
                <a:pathLst>
                  <a:path w="514" h="249">
                    <a:moveTo>
                      <a:pt x="14" y="249"/>
                    </a:moveTo>
                    <a:lnTo>
                      <a:pt x="180" y="249"/>
                    </a:lnTo>
                    <a:lnTo>
                      <a:pt x="514" y="111"/>
                    </a:lnTo>
                    <a:lnTo>
                      <a:pt x="500" y="43"/>
                    </a:lnTo>
                    <a:lnTo>
                      <a:pt x="346" y="0"/>
                    </a:lnTo>
                    <a:lnTo>
                      <a:pt x="210" y="58"/>
                    </a:lnTo>
                    <a:lnTo>
                      <a:pt x="56" y="140"/>
                    </a:lnTo>
                    <a:lnTo>
                      <a:pt x="0" y="194"/>
                    </a:lnTo>
                    <a:lnTo>
                      <a:pt x="14" y="24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089400" y="2852280"/>
                <a:ext cx="101880" cy="102960"/>
              </a:xfrm>
              <a:custGeom>
                <a:avLst/>
                <a:gdLst/>
                <a:ahLst/>
                <a:rect l="l" t="t" r="r" b="b"/>
                <a:pathLst>
                  <a:path w="654" h="621">
                    <a:moveTo>
                      <a:pt x="0" y="415"/>
                    </a:moveTo>
                    <a:lnTo>
                      <a:pt x="140" y="334"/>
                    </a:lnTo>
                    <a:lnTo>
                      <a:pt x="275" y="226"/>
                    </a:lnTo>
                    <a:lnTo>
                      <a:pt x="334" y="173"/>
                    </a:lnTo>
                    <a:lnTo>
                      <a:pt x="389" y="127"/>
                    </a:lnTo>
                    <a:lnTo>
                      <a:pt x="391" y="63"/>
                    </a:lnTo>
                    <a:lnTo>
                      <a:pt x="474" y="0"/>
                    </a:lnTo>
                    <a:lnTo>
                      <a:pt x="654" y="318"/>
                    </a:lnTo>
                    <a:lnTo>
                      <a:pt x="556" y="376"/>
                    </a:lnTo>
                    <a:lnTo>
                      <a:pt x="407" y="479"/>
                    </a:lnTo>
                    <a:lnTo>
                      <a:pt x="132" y="621"/>
                    </a:lnTo>
                    <a:lnTo>
                      <a:pt x="0" y="415"/>
                    </a:lnTo>
                    <a:close/>
                  </a:path>
                </a:pathLst>
              </a:custGeom>
              <a:solidFill>
                <a:srgbClr val="ff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158160" y="2824560"/>
                <a:ext cx="60480" cy="84240"/>
              </a:xfrm>
              <a:custGeom>
                <a:avLst/>
                <a:gdLst/>
                <a:ahLst/>
                <a:rect l="l" t="t" r="r" b="b"/>
                <a:pathLst>
                  <a:path w="385" h="507">
                    <a:moveTo>
                      <a:pt x="60" y="0"/>
                    </a:moveTo>
                    <a:lnTo>
                      <a:pt x="16" y="50"/>
                    </a:lnTo>
                    <a:lnTo>
                      <a:pt x="0" y="119"/>
                    </a:lnTo>
                    <a:lnTo>
                      <a:pt x="12" y="202"/>
                    </a:lnTo>
                    <a:lnTo>
                      <a:pt x="44" y="312"/>
                    </a:lnTo>
                    <a:lnTo>
                      <a:pt x="155" y="444"/>
                    </a:lnTo>
                    <a:lnTo>
                      <a:pt x="256" y="507"/>
                    </a:lnTo>
                    <a:lnTo>
                      <a:pt x="310" y="503"/>
                    </a:lnTo>
                    <a:lnTo>
                      <a:pt x="367" y="474"/>
                    </a:lnTo>
                    <a:lnTo>
                      <a:pt x="385" y="442"/>
                    </a:lnTo>
                    <a:lnTo>
                      <a:pt x="385" y="305"/>
                    </a:lnTo>
                    <a:lnTo>
                      <a:pt x="344" y="167"/>
                    </a:lnTo>
                    <a:lnTo>
                      <a:pt x="245" y="50"/>
                    </a:lnTo>
                    <a:lnTo>
                      <a:pt x="167" y="6"/>
                    </a:lnTo>
                    <a:lnTo>
                      <a:pt x="108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105600" y="2892960"/>
                <a:ext cx="48240" cy="54000"/>
              </a:xfrm>
              <a:custGeom>
                <a:avLst/>
                <a:gdLst/>
                <a:ahLst/>
                <a:rect l="l" t="t" r="r" b="b"/>
                <a:pathLst>
                  <a:path w="317" h="327">
                    <a:moveTo>
                      <a:pt x="174" y="0"/>
                    </a:moveTo>
                    <a:lnTo>
                      <a:pt x="317" y="208"/>
                    </a:lnTo>
                    <a:lnTo>
                      <a:pt x="123" y="327"/>
                    </a:lnTo>
                    <a:lnTo>
                      <a:pt x="0" y="125"/>
                    </a:lnTo>
                    <a:lnTo>
                      <a:pt x="103" y="49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7023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543280" y="1981080"/>
                <a:ext cx="521280" cy="581040"/>
              </a:xfrm>
              <a:custGeom>
                <a:avLst/>
                <a:gdLst/>
                <a:ahLst/>
                <a:rect l="l" t="t" r="r" b="b"/>
                <a:pathLst>
                  <a:path w="3366" h="3521">
                    <a:moveTo>
                      <a:pt x="770" y="2719"/>
                    </a:moveTo>
                    <a:lnTo>
                      <a:pt x="733" y="2599"/>
                    </a:lnTo>
                    <a:lnTo>
                      <a:pt x="733" y="2221"/>
                    </a:lnTo>
                    <a:lnTo>
                      <a:pt x="880" y="1867"/>
                    </a:lnTo>
                    <a:lnTo>
                      <a:pt x="795" y="1452"/>
                    </a:lnTo>
                    <a:lnTo>
                      <a:pt x="759" y="1050"/>
                    </a:lnTo>
                    <a:lnTo>
                      <a:pt x="1067" y="873"/>
                    </a:lnTo>
                    <a:lnTo>
                      <a:pt x="1399" y="754"/>
                    </a:lnTo>
                    <a:lnTo>
                      <a:pt x="1752" y="684"/>
                    </a:lnTo>
                    <a:lnTo>
                      <a:pt x="2157" y="673"/>
                    </a:lnTo>
                    <a:lnTo>
                      <a:pt x="2618" y="708"/>
                    </a:lnTo>
                    <a:lnTo>
                      <a:pt x="2858" y="778"/>
                    </a:lnTo>
                    <a:lnTo>
                      <a:pt x="2985" y="931"/>
                    </a:lnTo>
                    <a:lnTo>
                      <a:pt x="3130" y="1311"/>
                    </a:lnTo>
                    <a:lnTo>
                      <a:pt x="3211" y="1463"/>
                    </a:lnTo>
                    <a:lnTo>
                      <a:pt x="3071" y="1560"/>
                    </a:lnTo>
                    <a:lnTo>
                      <a:pt x="2939" y="1714"/>
                    </a:lnTo>
                    <a:lnTo>
                      <a:pt x="2928" y="1762"/>
                    </a:lnTo>
                    <a:lnTo>
                      <a:pt x="3152" y="1641"/>
                    </a:lnTo>
                    <a:lnTo>
                      <a:pt x="3260" y="1619"/>
                    </a:lnTo>
                    <a:lnTo>
                      <a:pt x="3285" y="1749"/>
                    </a:lnTo>
                    <a:lnTo>
                      <a:pt x="3285" y="1821"/>
                    </a:lnTo>
                    <a:lnTo>
                      <a:pt x="3211" y="1984"/>
                    </a:lnTo>
                    <a:lnTo>
                      <a:pt x="3236" y="2021"/>
                    </a:lnTo>
                    <a:lnTo>
                      <a:pt x="3343" y="1913"/>
                    </a:lnTo>
                    <a:lnTo>
                      <a:pt x="3366" y="2067"/>
                    </a:lnTo>
                    <a:lnTo>
                      <a:pt x="3366" y="1808"/>
                    </a:lnTo>
                    <a:lnTo>
                      <a:pt x="3343" y="1665"/>
                    </a:lnTo>
                    <a:lnTo>
                      <a:pt x="3333" y="1393"/>
                    </a:lnTo>
                    <a:lnTo>
                      <a:pt x="3260" y="1088"/>
                    </a:lnTo>
                    <a:lnTo>
                      <a:pt x="3103" y="719"/>
                    </a:lnTo>
                    <a:lnTo>
                      <a:pt x="2893" y="435"/>
                    </a:lnTo>
                    <a:lnTo>
                      <a:pt x="2596" y="212"/>
                    </a:lnTo>
                    <a:lnTo>
                      <a:pt x="2312" y="81"/>
                    </a:lnTo>
                    <a:lnTo>
                      <a:pt x="2040" y="0"/>
                    </a:lnTo>
                    <a:lnTo>
                      <a:pt x="1577" y="0"/>
                    </a:lnTo>
                    <a:lnTo>
                      <a:pt x="1162" y="104"/>
                    </a:lnTo>
                    <a:lnTo>
                      <a:pt x="700" y="306"/>
                    </a:lnTo>
                    <a:lnTo>
                      <a:pt x="392" y="519"/>
                    </a:lnTo>
                    <a:lnTo>
                      <a:pt x="166" y="850"/>
                    </a:lnTo>
                    <a:lnTo>
                      <a:pt x="36" y="1168"/>
                    </a:lnTo>
                    <a:lnTo>
                      <a:pt x="0" y="1489"/>
                    </a:lnTo>
                    <a:lnTo>
                      <a:pt x="25" y="1903"/>
                    </a:lnTo>
                    <a:lnTo>
                      <a:pt x="106" y="2280"/>
                    </a:lnTo>
                    <a:lnTo>
                      <a:pt x="166" y="2479"/>
                    </a:lnTo>
                    <a:lnTo>
                      <a:pt x="177" y="2539"/>
                    </a:lnTo>
                    <a:lnTo>
                      <a:pt x="133" y="2636"/>
                    </a:lnTo>
                    <a:lnTo>
                      <a:pt x="95" y="2801"/>
                    </a:lnTo>
                    <a:lnTo>
                      <a:pt x="133" y="3000"/>
                    </a:lnTo>
                    <a:lnTo>
                      <a:pt x="225" y="3191"/>
                    </a:lnTo>
                    <a:lnTo>
                      <a:pt x="320" y="3274"/>
                    </a:lnTo>
                    <a:lnTo>
                      <a:pt x="427" y="3310"/>
                    </a:lnTo>
                    <a:lnTo>
                      <a:pt x="521" y="3405"/>
                    </a:lnTo>
                    <a:lnTo>
                      <a:pt x="581" y="3474"/>
                    </a:lnTo>
                    <a:lnTo>
                      <a:pt x="652" y="3521"/>
                    </a:lnTo>
                    <a:lnTo>
                      <a:pt x="722" y="3521"/>
                    </a:lnTo>
                    <a:lnTo>
                      <a:pt x="759" y="3497"/>
                    </a:lnTo>
                    <a:lnTo>
                      <a:pt x="781" y="3426"/>
                    </a:lnTo>
                    <a:lnTo>
                      <a:pt x="781" y="3380"/>
                    </a:lnTo>
                    <a:lnTo>
                      <a:pt x="749" y="3426"/>
                    </a:lnTo>
                    <a:lnTo>
                      <a:pt x="652" y="3463"/>
                    </a:lnTo>
                    <a:lnTo>
                      <a:pt x="592" y="3440"/>
                    </a:lnTo>
                    <a:lnTo>
                      <a:pt x="440" y="3262"/>
                    </a:lnTo>
                    <a:lnTo>
                      <a:pt x="332" y="3240"/>
                    </a:lnTo>
                    <a:lnTo>
                      <a:pt x="225" y="3121"/>
                    </a:lnTo>
                    <a:lnTo>
                      <a:pt x="155" y="2952"/>
                    </a:lnTo>
                    <a:lnTo>
                      <a:pt x="133" y="2801"/>
                    </a:lnTo>
                    <a:lnTo>
                      <a:pt x="166" y="2647"/>
                    </a:lnTo>
                    <a:lnTo>
                      <a:pt x="225" y="2539"/>
                    </a:lnTo>
                    <a:lnTo>
                      <a:pt x="309" y="2506"/>
                    </a:lnTo>
                    <a:lnTo>
                      <a:pt x="381" y="2506"/>
                    </a:lnTo>
                    <a:lnTo>
                      <a:pt x="463" y="2566"/>
                    </a:lnTo>
                    <a:lnTo>
                      <a:pt x="546" y="2576"/>
                    </a:lnTo>
                    <a:lnTo>
                      <a:pt x="616" y="2636"/>
                    </a:lnTo>
                    <a:lnTo>
                      <a:pt x="652" y="2682"/>
                    </a:lnTo>
                    <a:lnTo>
                      <a:pt x="710" y="2682"/>
                    </a:lnTo>
                    <a:lnTo>
                      <a:pt x="770" y="27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796360" y="228312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56" h="129">
                    <a:moveTo>
                      <a:pt x="70" y="59"/>
                    </a:moveTo>
                    <a:lnTo>
                      <a:pt x="0" y="129"/>
                    </a:lnTo>
                    <a:lnTo>
                      <a:pt x="275" y="129"/>
                    </a:lnTo>
                    <a:lnTo>
                      <a:pt x="356" y="46"/>
                    </a:lnTo>
                    <a:lnTo>
                      <a:pt x="307" y="0"/>
                    </a:lnTo>
                    <a:lnTo>
                      <a:pt x="202" y="46"/>
                    </a:lnTo>
                    <a:lnTo>
                      <a:pt x="7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846400" y="2304360"/>
                <a:ext cx="39600" cy="82800"/>
              </a:xfrm>
              <a:custGeom>
                <a:avLst/>
                <a:gdLst/>
                <a:ahLst/>
                <a:rect l="l" t="t" r="r" b="b"/>
                <a:pathLst>
                  <a:path w="261" h="497">
                    <a:moveTo>
                      <a:pt x="0" y="0"/>
                    </a:moveTo>
                    <a:lnTo>
                      <a:pt x="166" y="60"/>
                    </a:lnTo>
                    <a:lnTo>
                      <a:pt x="248" y="154"/>
                    </a:lnTo>
                    <a:lnTo>
                      <a:pt x="261" y="286"/>
                    </a:lnTo>
                    <a:lnTo>
                      <a:pt x="237" y="378"/>
                    </a:lnTo>
                    <a:lnTo>
                      <a:pt x="131" y="497"/>
                    </a:lnTo>
                    <a:lnTo>
                      <a:pt x="215" y="368"/>
                    </a:lnTo>
                    <a:lnTo>
                      <a:pt x="215" y="237"/>
                    </a:lnTo>
                    <a:lnTo>
                      <a:pt x="74" y="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740560" y="2324160"/>
                <a:ext cx="129240" cy="64440"/>
              </a:xfrm>
              <a:custGeom>
                <a:avLst/>
                <a:gdLst/>
                <a:ahLst/>
                <a:rect l="l" t="t" r="r" b="b"/>
                <a:pathLst>
                  <a:path w="831" h="391">
                    <a:moveTo>
                      <a:pt x="749" y="202"/>
                    </a:moveTo>
                    <a:lnTo>
                      <a:pt x="831" y="97"/>
                    </a:lnTo>
                    <a:lnTo>
                      <a:pt x="831" y="72"/>
                    </a:lnTo>
                    <a:lnTo>
                      <a:pt x="690" y="0"/>
                    </a:lnTo>
                    <a:lnTo>
                      <a:pt x="523" y="0"/>
                    </a:lnTo>
                    <a:lnTo>
                      <a:pt x="402" y="83"/>
                    </a:lnTo>
                    <a:lnTo>
                      <a:pt x="297" y="169"/>
                    </a:lnTo>
                    <a:lnTo>
                      <a:pt x="73" y="143"/>
                    </a:lnTo>
                    <a:lnTo>
                      <a:pt x="0" y="272"/>
                    </a:lnTo>
                    <a:lnTo>
                      <a:pt x="189" y="391"/>
                    </a:lnTo>
                    <a:lnTo>
                      <a:pt x="308" y="332"/>
                    </a:lnTo>
                    <a:lnTo>
                      <a:pt x="248" y="309"/>
                    </a:lnTo>
                    <a:lnTo>
                      <a:pt x="274" y="240"/>
                    </a:lnTo>
                    <a:lnTo>
                      <a:pt x="380" y="143"/>
                    </a:lnTo>
                    <a:lnTo>
                      <a:pt x="440" y="108"/>
                    </a:lnTo>
                    <a:lnTo>
                      <a:pt x="523" y="240"/>
                    </a:lnTo>
                    <a:lnTo>
                      <a:pt x="652" y="191"/>
                    </a:lnTo>
                    <a:lnTo>
                      <a:pt x="663" y="97"/>
                    </a:lnTo>
                    <a:lnTo>
                      <a:pt x="749" y="108"/>
                    </a:lnTo>
                    <a:lnTo>
                      <a:pt x="749" y="169"/>
                    </a:lnTo>
                    <a:lnTo>
                      <a:pt x="749" y="2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703480" y="2226600"/>
                <a:ext cx="28440" cy="135720"/>
              </a:xfrm>
              <a:custGeom>
                <a:avLst/>
                <a:gdLst/>
                <a:ahLst/>
                <a:rect l="l" t="t" r="r" b="b"/>
                <a:pathLst>
                  <a:path w="188" h="817">
                    <a:moveTo>
                      <a:pt x="0" y="188"/>
                    </a:moveTo>
                    <a:lnTo>
                      <a:pt x="94" y="414"/>
                    </a:lnTo>
                    <a:lnTo>
                      <a:pt x="10" y="745"/>
                    </a:lnTo>
                    <a:lnTo>
                      <a:pt x="164" y="817"/>
                    </a:lnTo>
                    <a:lnTo>
                      <a:pt x="188" y="402"/>
                    </a:lnTo>
                    <a:lnTo>
                      <a:pt x="24" y="163"/>
                    </a:lnTo>
                    <a:lnTo>
                      <a:pt x="24" y="0"/>
                    </a:lnTo>
                    <a:lnTo>
                      <a:pt x="0" y="34"/>
                    </a:lnTo>
                    <a:lnTo>
                      <a:pt x="0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684760" y="2378520"/>
                <a:ext cx="61920" cy="117000"/>
              </a:xfrm>
              <a:custGeom>
                <a:avLst/>
                <a:gdLst/>
                <a:ahLst/>
                <a:rect l="l" t="t" r="r" b="b"/>
                <a:pathLst>
                  <a:path w="404" h="711">
                    <a:moveTo>
                      <a:pt x="83" y="0"/>
                    </a:moveTo>
                    <a:lnTo>
                      <a:pt x="0" y="272"/>
                    </a:lnTo>
                    <a:lnTo>
                      <a:pt x="0" y="428"/>
                    </a:lnTo>
                    <a:lnTo>
                      <a:pt x="143" y="580"/>
                    </a:lnTo>
                    <a:lnTo>
                      <a:pt x="237" y="569"/>
                    </a:lnTo>
                    <a:lnTo>
                      <a:pt x="404" y="711"/>
                    </a:lnTo>
                    <a:lnTo>
                      <a:pt x="321" y="509"/>
                    </a:lnTo>
                    <a:lnTo>
                      <a:pt x="83" y="285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950440" y="2289960"/>
                <a:ext cx="37080" cy="88560"/>
              </a:xfrm>
              <a:custGeom>
                <a:avLst/>
                <a:gdLst/>
                <a:ahLst/>
                <a:rect l="l" t="t" r="r" b="b"/>
                <a:pathLst>
                  <a:path w="239" h="543">
                    <a:moveTo>
                      <a:pt x="121" y="0"/>
                    </a:moveTo>
                    <a:lnTo>
                      <a:pt x="27" y="165"/>
                    </a:lnTo>
                    <a:lnTo>
                      <a:pt x="0" y="248"/>
                    </a:lnTo>
                    <a:lnTo>
                      <a:pt x="0" y="308"/>
                    </a:lnTo>
                    <a:lnTo>
                      <a:pt x="156" y="543"/>
                    </a:lnTo>
                    <a:lnTo>
                      <a:pt x="156" y="248"/>
                    </a:lnTo>
                    <a:lnTo>
                      <a:pt x="239" y="130"/>
                    </a:lnTo>
                    <a:lnTo>
                      <a:pt x="96" y="225"/>
                    </a:lnTo>
                    <a:lnTo>
                      <a:pt x="27" y="225"/>
                    </a:lnTo>
                    <a:lnTo>
                      <a:pt x="27" y="200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996520" y="2298960"/>
                <a:ext cx="52200" cy="46080"/>
              </a:xfrm>
              <a:custGeom>
                <a:avLst/>
                <a:gdLst/>
                <a:ahLst/>
                <a:rect l="l" t="t" r="r" b="b"/>
                <a:pathLst>
                  <a:path w="332" h="284">
                    <a:moveTo>
                      <a:pt x="0" y="35"/>
                    </a:moveTo>
                    <a:lnTo>
                      <a:pt x="71" y="0"/>
                    </a:lnTo>
                    <a:lnTo>
                      <a:pt x="246" y="0"/>
                    </a:lnTo>
                    <a:lnTo>
                      <a:pt x="332" y="71"/>
                    </a:lnTo>
                    <a:lnTo>
                      <a:pt x="332" y="212"/>
                    </a:lnTo>
                    <a:lnTo>
                      <a:pt x="246" y="212"/>
                    </a:lnTo>
                    <a:lnTo>
                      <a:pt x="94" y="284"/>
                    </a:lnTo>
                    <a:lnTo>
                      <a:pt x="235" y="189"/>
                    </a:lnTo>
                    <a:lnTo>
                      <a:pt x="214" y="71"/>
                    </a:lnTo>
                    <a:lnTo>
                      <a:pt x="165" y="35"/>
                    </a:lnTo>
                    <a:lnTo>
                      <a:pt x="165" y="166"/>
                    </a:lnTo>
                    <a:lnTo>
                      <a:pt x="57" y="166"/>
                    </a:lnTo>
                    <a:lnTo>
                      <a:pt x="94" y="117"/>
                    </a:lnTo>
                    <a:lnTo>
                      <a:pt x="46" y="81"/>
                    </a:lnTo>
                    <a:lnTo>
                      <a:pt x="46" y="23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79280" y="2418120"/>
                <a:ext cx="57960" cy="85680"/>
              </a:xfrm>
              <a:custGeom>
                <a:avLst/>
                <a:gdLst/>
                <a:ahLst/>
                <a:rect l="l" t="t" r="r" b="b"/>
                <a:pathLst>
                  <a:path w="380" h="523">
                    <a:moveTo>
                      <a:pt x="0" y="120"/>
                    </a:moveTo>
                    <a:lnTo>
                      <a:pt x="59" y="24"/>
                    </a:lnTo>
                    <a:lnTo>
                      <a:pt x="191" y="0"/>
                    </a:lnTo>
                    <a:lnTo>
                      <a:pt x="227" y="94"/>
                    </a:lnTo>
                    <a:lnTo>
                      <a:pt x="285" y="224"/>
                    </a:lnTo>
                    <a:lnTo>
                      <a:pt x="370" y="283"/>
                    </a:lnTo>
                    <a:lnTo>
                      <a:pt x="380" y="426"/>
                    </a:lnTo>
                    <a:lnTo>
                      <a:pt x="275" y="523"/>
                    </a:lnTo>
                    <a:lnTo>
                      <a:pt x="275" y="295"/>
                    </a:lnTo>
                    <a:lnTo>
                      <a:pt x="227" y="248"/>
                    </a:lnTo>
                    <a:lnTo>
                      <a:pt x="156" y="343"/>
                    </a:lnTo>
                    <a:lnTo>
                      <a:pt x="191" y="437"/>
                    </a:lnTo>
                    <a:lnTo>
                      <a:pt x="169" y="450"/>
                    </a:lnTo>
                    <a:lnTo>
                      <a:pt x="121" y="364"/>
                    </a:lnTo>
                    <a:lnTo>
                      <a:pt x="121" y="295"/>
                    </a:lnTo>
                    <a:lnTo>
                      <a:pt x="59" y="295"/>
                    </a:lnTo>
                    <a:lnTo>
                      <a:pt x="132" y="224"/>
                    </a:lnTo>
                    <a:lnTo>
                      <a:pt x="132" y="120"/>
                    </a:lnTo>
                    <a:lnTo>
                      <a:pt x="181" y="72"/>
                    </a:lnTo>
                    <a:lnTo>
                      <a:pt x="48" y="72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883480" y="2395440"/>
                <a:ext cx="50760" cy="86760"/>
              </a:xfrm>
              <a:custGeom>
                <a:avLst/>
                <a:gdLst/>
                <a:ahLst/>
                <a:rect l="l" t="t" r="r" b="b"/>
                <a:pathLst>
                  <a:path w="334" h="532">
                    <a:moveTo>
                      <a:pt x="275" y="0"/>
                    </a:moveTo>
                    <a:lnTo>
                      <a:pt x="334" y="70"/>
                    </a:lnTo>
                    <a:lnTo>
                      <a:pt x="249" y="261"/>
                    </a:lnTo>
                    <a:lnTo>
                      <a:pt x="132" y="261"/>
                    </a:lnTo>
                    <a:lnTo>
                      <a:pt x="48" y="413"/>
                    </a:lnTo>
                    <a:lnTo>
                      <a:pt x="48" y="473"/>
                    </a:lnTo>
                    <a:lnTo>
                      <a:pt x="155" y="532"/>
                    </a:lnTo>
                    <a:lnTo>
                      <a:pt x="72" y="532"/>
                    </a:lnTo>
                    <a:lnTo>
                      <a:pt x="0" y="473"/>
                    </a:lnTo>
                    <a:lnTo>
                      <a:pt x="0" y="365"/>
                    </a:lnTo>
                    <a:lnTo>
                      <a:pt x="155" y="176"/>
                    </a:lnTo>
                    <a:lnTo>
                      <a:pt x="215" y="176"/>
                    </a:lnTo>
                    <a:lnTo>
                      <a:pt x="249" y="22"/>
                    </a:lnTo>
                    <a:lnTo>
                      <a:pt x="2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842440" y="2449800"/>
                <a:ext cx="217080" cy="108000"/>
              </a:xfrm>
              <a:custGeom>
                <a:avLst/>
                <a:gdLst/>
                <a:ahLst/>
                <a:rect l="l" t="t" r="r" b="b"/>
                <a:pathLst>
                  <a:path w="1401" h="659">
                    <a:moveTo>
                      <a:pt x="451" y="114"/>
                    </a:moveTo>
                    <a:lnTo>
                      <a:pt x="556" y="44"/>
                    </a:lnTo>
                    <a:lnTo>
                      <a:pt x="627" y="44"/>
                    </a:lnTo>
                    <a:lnTo>
                      <a:pt x="793" y="141"/>
                    </a:lnTo>
                    <a:lnTo>
                      <a:pt x="878" y="141"/>
                    </a:lnTo>
                    <a:lnTo>
                      <a:pt x="972" y="0"/>
                    </a:lnTo>
                    <a:lnTo>
                      <a:pt x="1053" y="11"/>
                    </a:lnTo>
                    <a:lnTo>
                      <a:pt x="1067" y="70"/>
                    </a:lnTo>
                    <a:lnTo>
                      <a:pt x="950" y="114"/>
                    </a:lnTo>
                    <a:lnTo>
                      <a:pt x="996" y="200"/>
                    </a:lnTo>
                    <a:lnTo>
                      <a:pt x="1242" y="305"/>
                    </a:lnTo>
                    <a:lnTo>
                      <a:pt x="1401" y="413"/>
                    </a:lnTo>
                    <a:lnTo>
                      <a:pt x="1376" y="507"/>
                    </a:lnTo>
                    <a:lnTo>
                      <a:pt x="1210" y="436"/>
                    </a:lnTo>
                    <a:lnTo>
                      <a:pt x="890" y="436"/>
                    </a:lnTo>
                    <a:lnTo>
                      <a:pt x="783" y="388"/>
                    </a:lnTo>
                    <a:lnTo>
                      <a:pt x="664" y="459"/>
                    </a:lnTo>
                    <a:lnTo>
                      <a:pt x="523" y="494"/>
                    </a:lnTo>
                    <a:lnTo>
                      <a:pt x="427" y="482"/>
                    </a:lnTo>
                    <a:lnTo>
                      <a:pt x="284" y="577"/>
                    </a:lnTo>
                    <a:lnTo>
                      <a:pt x="23" y="659"/>
                    </a:lnTo>
                    <a:lnTo>
                      <a:pt x="0" y="625"/>
                    </a:lnTo>
                    <a:lnTo>
                      <a:pt x="179" y="436"/>
                    </a:lnTo>
                    <a:lnTo>
                      <a:pt x="405" y="364"/>
                    </a:lnTo>
                    <a:lnTo>
                      <a:pt x="583" y="235"/>
                    </a:lnTo>
                    <a:lnTo>
                      <a:pt x="616" y="129"/>
                    </a:lnTo>
                    <a:lnTo>
                      <a:pt x="556" y="114"/>
                    </a:lnTo>
                    <a:lnTo>
                      <a:pt x="451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014880" y="2367720"/>
                <a:ext cx="60840" cy="253440"/>
              </a:xfrm>
              <a:custGeom>
                <a:avLst/>
                <a:gdLst/>
                <a:ahLst/>
                <a:rect l="l" t="t" r="r" b="b"/>
                <a:pathLst>
                  <a:path w="393" h="1538">
                    <a:moveTo>
                      <a:pt x="358" y="0"/>
                    </a:moveTo>
                    <a:lnTo>
                      <a:pt x="380" y="237"/>
                    </a:lnTo>
                    <a:lnTo>
                      <a:pt x="393" y="556"/>
                    </a:lnTo>
                    <a:lnTo>
                      <a:pt x="369" y="947"/>
                    </a:lnTo>
                    <a:lnTo>
                      <a:pt x="344" y="1147"/>
                    </a:lnTo>
                    <a:lnTo>
                      <a:pt x="215" y="1538"/>
                    </a:lnTo>
                    <a:lnTo>
                      <a:pt x="129" y="1430"/>
                    </a:lnTo>
                    <a:lnTo>
                      <a:pt x="129" y="1158"/>
                    </a:lnTo>
                    <a:lnTo>
                      <a:pt x="70" y="1124"/>
                    </a:lnTo>
                    <a:lnTo>
                      <a:pt x="0" y="1182"/>
                    </a:lnTo>
                    <a:lnTo>
                      <a:pt x="85" y="1087"/>
                    </a:lnTo>
                    <a:lnTo>
                      <a:pt x="166" y="1124"/>
                    </a:lnTo>
                    <a:lnTo>
                      <a:pt x="178" y="1373"/>
                    </a:lnTo>
                    <a:lnTo>
                      <a:pt x="298" y="1158"/>
                    </a:lnTo>
                    <a:lnTo>
                      <a:pt x="344" y="887"/>
                    </a:lnTo>
                    <a:lnTo>
                      <a:pt x="369" y="532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659920" y="2532960"/>
                <a:ext cx="209880" cy="245160"/>
              </a:xfrm>
              <a:custGeom>
                <a:avLst/>
                <a:gdLst/>
                <a:ahLst/>
                <a:rect l="l" t="t" r="r" b="b"/>
                <a:pathLst>
                  <a:path w="1352" h="1489">
                    <a:moveTo>
                      <a:pt x="11" y="0"/>
                    </a:moveTo>
                    <a:lnTo>
                      <a:pt x="154" y="141"/>
                    </a:lnTo>
                    <a:lnTo>
                      <a:pt x="343" y="553"/>
                    </a:lnTo>
                    <a:lnTo>
                      <a:pt x="437" y="624"/>
                    </a:lnTo>
                    <a:lnTo>
                      <a:pt x="629" y="685"/>
                    </a:lnTo>
                    <a:lnTo>
                      <a:pt x="558" y="402"/>
                    </a:lnTo>
                    <a:lnTo>
                      <a:pt x="558" y="164"/>
                    </a:lnTo>
                    <a:lnTo>
                      <a:pt x="594" y="367"/>
                    </a:lnTo>
                    <a:lnTo>
                      <a:pt x="829" y="639"/>
                    </a:lnTo>
                    <a:lnTo>
                      <a:pt x="982" y="580"/>
                    </a:lnTo>
                    <a:lnTo>
                      <a:pt x="1115" y="353"/>
                    </a:lnTo>
                    <a:lnTo>
                      <a:pt x="1196" y="249"/>
                    </a:lnTo>
                    <a:lnTo>
                      <a:pt x="1352" y="224"/>
                    </a:lnTo>
                    <a:lnTo>
                      <a:pt x="1184" y="321"/>
                    </a:lnTo>
                    <a:lnTo>
                      <a:pt x="1020" y="624"/>
                    </a:lnTo>
                    <a:lnTo>
                      <a:pt x="1152" y="569"/>
                    </a:lnTo>
                    <a:lnTo>
                      <a:pt x="972" y="685"/>
                    </a:lnTo>
                    <a:lnTo>
                      <a:pt x="866" y="723"/>
                    </a:lnTo>
                    <a:lnTo>
                      <a:pt x="783" y="804"/>
                    </a:lnTo>
                    <a:lnTo>
                      <a:pt x="783" y="874"/>
                    </a:lnTo>
                    <a:lnTo>
                      <a:pt x="877" y="1194"/>
                    </a:lnTo>
                    <a:lnTo>
                      <a:pt x="912" y="1230"/>
                    </a:lnTo>
                    <a:lnTo>
                      <a:pt x="1173" y="1300"/>
                    </a:lnTo>
                    <a:lnTo>
                      <a:pt x="936" y="1300"/>
                    </a:lnTo>
                    <a:lnTo>
                      <a:pt x="936" y="1489"/>
                    </a:lnTo>
                    <a:lnTo>
                      <a:pt x="877" y="1465"/>
                    </a:lnTo>
                    <a:lnTo>
                      <a:pt x="818" y="1408"/>
                    </a:lnTo>
                    <a:lnTo>
                      <a:pt x="650" y="1289"/>
                    </a:lnTo>
                    <a:lnTo>
                      <a:pt x="391" y="1147"/>
                    </a:lnTo>
                    <a:lnTo>
                      <a:pt x="225" y="1004"/>
                    </a:lnTo>
                    <a:lnTo>
                      <a:pt x="143" y="874"/>
                    </a:lnTo>
                    <a:lnTo>
                      <a:pt x="84" y="733"/>
                    </a:lnTo>
                    <a:lnTo>
                      <a:pt x="84" y="613"/>
                    </a:lnTo>
                    <a:lnTo>
                      <a:pt x="84" y="402"/>
                    </a:lnTo>
                    <a:lnTo>
                      <a:pt x="48" y="249"/>
                    </a:lnTo>
                    <a:lnTo>
                      <a:pt x="0" y="118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883480" y="2532960"/>
                <a:ext cx="504000" cy="383760"/>
              </a:xfrm>
              <a:custGeom>
                <a:avLst/>
                <a:gdLst/>
                <a:ahLst/>
                <a:rect l="l" t="t" r="r" b="b"/>
                <a:pathLst>
                  <a:path w="3243" h="2330">
                    <a:moveTo>
                      <a:pt x="0" y="217"/>
                    </a:moveTo>
                    <a:lnTo>
                      <a:pt x="157" y="150"/>
                    </a:lnTo>
                    <a:lnTo>
                      <a:pt x="316" y="12"/>
                    </a:lnTo>
                    <a:lnTo>
                      <a:pt x="390" y="0"/>
                    </a:lnTo>
                    <a:lnTo>
                      <a:pt x="705" y="29"/>
                    </a:lnTo>
                    <a:lnTo>
                      <a:pt x="770" y="86"/>
                    </a:lnTo>
                    <a:lnTo>
                      <a:pt x="892" y="233"/>
                    </a:lnTo>
                    <a:lnTo>
                      <a:pt x="1041" y="466"/>
                    </a:lnTo>
                    <a:lnTo>
                      <a:pt x="1096" y="549"/>
                    </a:lnTo>
                    <a:lnTo>
                      <a:pt x="1430" y="668"/>
                    </a:lnTo>
                    <a:lnTo>
                      <a:pt x="1745" y="892"/>
                    </a:lnTo>
                    <a:lnTo>
                      <a:pt x="2034" y="1033"/>
                    </a:lnTo>
                    <a:lnTo>
                      <a:pt x="2416" y="1162"/>
                    </a:lnTo>
                    <a:lnTo>
                      <a:pt x="2590" y="1254"/>
                    </a:lnTo>
                    <a:lnTo>
                      <a:pt x="3002" y="1385"/>
                    </a:lnTo>
                    <a:lnTo>
                      <a:pt x="3243" y="1551"/>
                    </a:lnTo>
                    <a:lnTo>
                      <a:pt x="2964" y="1385"/>
                    </a:lnTo>
                    <a:lnTo>
                      <a:pt x="2610" y="1281"/>
                    </a:lnTo>
                    <a:lnTo>
                      <a:pt x="2416" y="1208"/>
                    </a:lnTo>
                    <a:lnTo>
                      <a:pt x="2175" y="1200"/>
                    </a:lnTo>
                    <a:lnTo>
                      <a:pt x="1865" y="1154"/>
                    </a:lnTo>
                    <a:lnTo>
                      <a:pt x="1623" y="1116"/>
                    </a:lnTo>
                    <a:lnTo>
                      <a:pt x="1700" y="1246"/>
                    </a:lnTo>
                    <a:lnTo>
                      <a:pt x="1838" y="1385"/>
                    </a:lnTo>
                    <a:lnTo>
                      <a:pt x="2006" y="1525"/>
                    </a:lnTo>
                    <a:lnTo>
                      <a:pt x="2227" y="1654"/>
                    </a:lnTo>
                    <a:lnTo>
                      <a:pt x="2582" y="1784"/>
                    </a:lnTo>
                    <a:lnTo>
                      <a:pt x="2788" y="1859"/>
                    </a:lnTo>
                    <a:lnTo>
                      <a:pt x="2824" y="1894"/>
                    </a:lnTo>
                    <a:lnTo>
                      <a:pt x="2518" y="1979"/>
                    </a:lnTo>
                    <a:lnTo>
                      <a:pt x="2175" y="2060"/>
                    </a:lnTo>
                    <a:lnTo>
                      <a:pt x="2155" y="2219"/>
                    </a:lnTo>
                    <a:lnTo>
                      <a:pt x="2146" y="2089"/>
                    </a:lnTo>
                    <a:lnTo>
                      <a:pt x="2098" y="1968"/>
                    </a:lnTo>
                    <a:lnTo>
                      <a:pt x="2026" y="1867"/>
                    </a:lnTo>
                    <a:lnTo>
                      <a:pt x="1951" y="1802"/>
                    </a:lnTo>
                    <a:lnTo>
                      <a:pt x="1885" y="1784"/>
                    </a:lnTo>
                    <a:lnTo>
                      <a:pt x="1830" y="1784"/>
                    </a:lnTo>
                    <a:lnTo>
                      <a:pt x="1792" y="1821"/>
                    </a:lnTo>
                    <a:lnTo>
                      <a:pt x="1775" y="1885"/>
                    </a:lnTo>
                    <a:lnTo>
                      <a:pt x="1784" y="1968"/>
                    </a:lnTo>
                    <a:lnTo>
                      <a:pt x="1821" y="2069"/>
                    </a:lnTo>
                    <a:lnTo>
                      <a:pt x="1896" y="2164"/>
                    </a:lnTo>
                    <a:lnTo>
                      <a:pt x="1960" y="2228"/>
                    </a:lnTo>
                    <a:lnTo>
                      <a:pt x="2034" y="2276"/>
                    </a:lnTo>
                    <a:lnTo>
                      <a:pt x="2080" y="2276"/>
                    </a:lnTo>
                    <a:lnTo>
                      <a:pt x="2146" y="2245"/>
                    </a:lnTo>
                    <a:lnTo>
                      <a:pt x="2098" y="2311"/>
                    </a:lnTo>
                    <a:lnTo>
                      <a:pt x="2026" y="2330"/>
                    </a:lnTo>
                    <a:lnTo>
                      <a:pt x="1933" y="2311"/>
                    </a:lnTo>
                    <a:lnTo>
                      <a:pt x="1874" y="2304"/>
                    </a:lnTo>
                    <a:lnTo>
                      <a:pt x="1745" y="2118"/>
                    </a:lnTo>
                    <a:lnTo>
                      <a:pt x="1874" y="2258"/>
                    </a:lnTo>
                    <a:lnTo>
                      <a:pt x="1885" y="2190"/>
                    </a:lnTo>
                    <a:lnTo>
                      <a:pt x="1801" y="2078"/>
                    </a:lnTo>
                    <a:lnTo>
                      <a:pt x="1775" y="2005"/>
                    </a:lnTo>
                    <a:lnTo>
                      <a:pt x="1718" y="2069"/>
                    </a:lnTo>
                    <a:lnTo>
                      <a:pt x="1718" y="1959"/>
                    </a:lnTo>
                    <a:lnTo>
                      <a:pt x="1729" y="1848"/>
                    </a:lnTo>
                    <a:lnTo>
                      <a:pt x="1753" y="1793"/>
                    </a:lnTo>
                    <a:lnTo>
                      <a:pt x="1559" y="1516"/>
                    </a:lnTo>
                    <a:lnTo>
                      <a:pt x="1467" y="1385"/>
                    </a:lnTo>
                    <a:lnTo>
                      <a:pt x="1234" y="857"/>
                    </a:lnTo>
                    <a:lnTo>
                      <a:pt x="975" y="438"/>
                    </a:lnTo>
                    <a:lnTo>
                      <a:pt x="817" y="178"/>
                    </a:lnTo>
                    <a:lnTo>
                      <a:pt x="705" y="86"/>
                    </a:lnTo>
                    <a:lnTo>
                      <a:pt x="632" y="60"/>
                    </a:lnTo>
                    <a:lnTo>
                      <a:pt x="512" y="69"/>
                    </a:lnTo>
                    <a:lnTo>
                      <a:pt x="436" y="113"/>
                    </a:lnTo>
                    <a:lnTo>
                      <a:pt x="307" y="122"/>
                    </a:lnTo>
                    <a:lnTo>
                      <a:pt x="194" y="178"/>
                    </a:lnTo>
                    <a:lnTo>
                      <a:pt x="92" y="207"/>
                    </a:lnTo>
                    <a:lnTo>
                      <a:pt x="0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952960" y="2572560"/>
                <a:ext cx="80640" cy="125280"/>
              </a:xfrm>
              <a:custGeom>
                <a:avLst/>
                <a:gdLst/>
                <a:ahLst/>
                <a:rect l="l" t="t" r="r" b="b"/>
                <a:pathLst>
                  <a:path w="519" h="763">
                    <a:moveTo>
                      <a:pt x="0" y="0"/>
                    </a:moveTo>
                    <a:lnTo>
                      <a:pt x="176" y="167"/>
                    </a:lnTo>
                    <a:lnTo>
                      <a:pt x="214" y="334"/>
                    </a:lnTo>
                    <a:lnTo>
                      <a:pt x="277" y="436"/>
                    </a:lnTo>
                    <a:lnTo>
                      <a:pt x="519" y="763"/>
                    </a:lnTo>
                    <a:lnTo>
                      <a:pt x="325" y="565"/>
                    </a:lnTo>
                    <a:lnTo>
                      <a:pt x="286" y="484"/>
                    </a:lnTo>
                    <a:lnTo>
                      <a:pt x="7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915880" y="2614680"/>
                <a:ext cx="37080" cy="55080"/>
              </a:xfrm>
              <a:custGeom>
                <a:avLst/>
                <a:gdLst/>
                <a:ahLst/>
                <a:rect l="l" t="t" r="r" b="b"/>
                <a:pathLst>
                  <a:path w="242" h="336">
                    <a:moveTo>
                      <a:pt x="0" y="0"/>
                    </a:moveTo>
                    <a:lnTo>
                      <a:pt x="129" y="94"/>
                    </a:lnTo>
                    <a:lnTo>
                      <a:pt x="187" y="242"/>
                    </a:lnTo>
                    <a:lnTo>
                      <a:pt x="242" y="336"/>
                    </a:lnTo>
                    <a:lnTo>
                      <a:pt x="113" y="198"/>
                    </a:lnTo>
                    <a:lnTo>
                      <a:pt x="18" y="5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816520" y="2675520"/>
                <a:ext cx="397080" cy="367920"/>
              </a:xfrm>
              <a:custGeom>
                <a:avLst/>
                <a:gdLst/>
                <a:ahLst/>
                <a:rect l="l" t="t" r="r" b="b"/>
                <a:pathLst>
                  <a:path w="2564" h="2233">
                    <a:moveTo>
                      <a:pt x="37" y="118"/>
                    </a:moveTo>
                    <a:lnTo>
                      <a:pt x="37" y="194"/>
                    </a:lnTo>
                    <a:lnTo>
                      <a:pt x="9" y="342"/>
                    </a:lnTo>
                    <a:lnTo>
                      <a:pt x="67" y="266"/>
                    </a:lnTo>
                    <a:lnTo>
                      <a:pt x="130" y="342"/>
                    </a:lnTo>
                    <a:lnTo>
                      <a:pt x="173" y="445"/>
                    </a:lnTo>
                    <a:lnTo>
                      <a:pt x="173" y="334"/>
                    </a:lnTo>
                    <a:lnTo>
                      <a:pt x="113" y="185"/>
                    </a:lnTo>
                    <a:lnTo>
                      <a:pt x="213" y="155"/>
                    </a:lnTo>
                    <a:lnTo>
                      <a:pt x="233" y="127"/>
                    </a:lnTo>
                    <a:lnTo>
                      <a:pt x="409" y="351"/>
                    </a:lnTo>
                    <a:lnTo>
                      <a:pt x="530" y="630"/>
                    </a:lnTo>
                    <a:lnTo>
                      <a:pt x="708" y="881"/>
                    </a:lnTo>
                    <a:lnTo>
                      <a:pt x="967" y="1085"/>
                    </a:lnTo>
                    <a:lnTo>
                      <a:pt x="1208" y="1212"/>
                    </a:lnTo>
                    <a:lnTo>
                      <a:pt x="1310" y="1280"/>
                    </a:lnTo>
                    <a:lnTo>
                      <a:pt x="1471" y="1502"/>
                    </a:lnTo>
                    <a:lnTo>
                      <a:pt x="1591" y="1678"/>
                    </a:lnTo>
                    <a:lnTo>
                      <a:pt x="1681" y="1890"/>
                    </a:lnTo>
                    <a:lnTo>
                      <a:pt x="1729" y="2180"/>
                    </a:lnTo>
                    <a:lnTo>
                      <a:pt x="1803" y="2233"/>
                    </a:lnTo>
                    <a:lnTo>
                      <a:pt x="1960" y="2180"/>
                    </a:lnTo>
                    <a:lnTo>
                      <a:pt x="2167" y="2031"/>
                    </a:lnTo>
                    <a:lnTo>
                      <a:pt x="2294" y="1882"/>
                    </a:lnTo>
                    <a:lnTo>
                      <a:pt x="2424" y="1696"/>
                    </a:lnTo>
                    <a:lnTo>
                      <a:pt x="2510" y="1510"/>
                    </a:lnTo>
                    <a:lnTo>
                      <a:pt x="2564" y="1401"/>
                    </a:lnTo>
                    <a:lnTo>
                      <a:pt x="2380" y="1715"/>
                    </a:lnTo>
                    <a:lnTo>
                      <a:pt x="2250" y="1882"/>
                    </a:lnTo>
                    <a:lnTo>
                      <a:pt x="1971" y="2095"/>
                    </a:lnTo>
                    <a:lnTo>
                      <a:pt x="1886" y="2113"/>
                    </a:lnTo>
                    <a:lnTo>
                      <a:pt x="1738" y="1816"/>
                    </a:lnTo>
                    <a:lnTo>
                      <a:pt x="2061" y="1632"/>
                    </a:lnTo>
                    <a:lnTo>
                      <a:pt x="2213" y="1537"/>
                    </a:lnTo>
                    <a:lnTo>
                      <a:pt x="2334" y="1445"/>
                    </a:lnTo>
                    <a:lnTo>
                      <a:pt x="2323" y="1438"/>
                    </a:lnTo>
                    <a:lnTo>
                      <a:pt x="2174" y="1528"/>
                    </a:lnTo>
                    <a:lnTo>
                      <a:pt x="1953" y="1657"/>
                    </a:lnTo>
                    <a:lnTo>
                      <a:pt x="1840" y="1482"/>
                    </a:lnTo>
                    <a:lnTo>
                      <a:pt x="2061" y="1307"/>
                    </a:lnTo>
                    <a:lnTo>
                      <a:pt x="2061" y="1280"/>
                    </a:lnTo>
                    <a:lnTo>
                      <a:pt x="1941" y="1370"/>
                    </a:lnTo>
                    <a:lnTo>
                      <a:pt x="1785" y="1464"/>
                    </a:lnTo>
                    <a:lnTo>
                      <a:pt x="1607" y="1559"/>
                    </a:lnTo>
                    <a:lnTo>
                      <a:pt x="1413" y="1272"/>
                    </a:lnTo>
                    <a:lnTo>
                      <a:pt x="1515" y="1203"/>
                    </a:lnTo>
                    <a:lnTo>
                      <a:pt x="1462" y="1168"/>
                    </a:lnTo>
                    <a:lnTo>
                      <a:pt x="1321" y="1168"/>
                    </a:lnTo>
                    <a:lnTo>
                      <a:pt x="1151" y="1113"/>
                    </a:lnTo>
                    <a:lnTo>
                      <a:pt x="1013" y="1019"/>
                    </a:lnTo>
                    <a:lnTo>
                      <a:pt x="837" y="852"/>
                    </a:lnTo>
                    <a:lnTo>
                      <a:pt x="668" y="665"/>
                    </a:lnTo>
                    <a:lnTo>
                      <a:pt x="547" y="480"/>
                    </a:lnTo>
                    <a:lnTo>
                      <a:pt x="466" y="342"/>
                    </a:lnTo>
                    <a:lnTo>
                      <a:pt x="334" y="167"/>
                    </a:lnTo>
                    <a:lnTo>
                      <a:pt x="187" y="0"/>
                    </a:lnTo>
                    <a:lnTo>
                      <a:pt x="139" y="54"/>
                    </a:lnTo>
                    <a:lnTo>
                      <a:pt x="0" y="101"/>
                    </a:lnTo>
                    <a:lnTo>
                      <a:pt x="37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110640" y="2902320"/>
                <a:ext cx="28440" cy="42120"/>
              </a:xfrm>
              <a:custGeom>
                <a:avLst/>
                <a:gdLst/>
                <a:ahLst/>
                <a:rect l="l" t="t" r="r" b="b"/>
                <a:pathLst>
                  <a:path w="185" h="253">
                    <a:moveTo>
                      <a:pt x="0" y="48"/>
                    </a:moveTo>
                    <a:lnTo>
                      <a:pt x="120" y="253"/>
                    </a:lnTo>
                    <a:lnTo>
                      <a:pt x="185" y="207"/>
                    </a:lnTo>
                    <a:lnTo>
                      <a:pt x="63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042240" y="2975040"/>
                <a:ext cx="98280" cy="163440"/>
              </a:xfrm>
              <a:custGeom>
                <a:avLst/>
                <a:gdLst/>
                <a:ahLst/>
                <a:rect l="l" t="t" r="r" b="b"/>
                <a:pathLst>
                  <a:path w="630" h="995">
                    <a:moveTo>
                      <a:pt x="173" y="0"/>
                    </a:moveTo>
                    <a:lnTo>
                      <a:pt x="120" y="103"/>
                    </a:lnTo>
                    <a:lnTo>
                      <a:pt x="44" y="253"/>
                    </a:lnTo>
                    <a:lnTo>
                      <a:pt x="0" y="364"/>
                    </a:lnTo>
                    <a:lnTo>
                      <a:pt x="17" y="408"/>
                    </a:lnTo>
                    <a:lnTo>
                      <a:pt x="156" y="512"/>
                    </a:lnTo>
                    <a:lnTo>
                      <a:pt x="242" y="613"/>
                    </a:lnTo>
                    <a:lnTo>
                      <a:pt x="302" y="762"/>
                    </a:lnTo>
                    <a:lnTo>
                      <a:pt x="397" y="917"/>
                    </a:lnTo>
                    <a:lnTo>
                      <a:pt x="452" y="956"/>
                    </a:lnTo>
                    <a:lnTo>
                      <a:pt x="630" y="995"/>
                    </a:lnTo>
                    <a:lnTo>
                      <a:pt x="620" y="917"/>
                    </a:lnTo>
                    <a:lnTo>
                      <a:pt x="491" y="892"/>
                    </a:lnTo>
                    <a:lnTo>
                      <a:pt x="435" y="825"/>
                    </a:lnTo>
                    <a:lnTo>
                      <a:pt x="378" y="696"/>
                    </a:lnTo>
                    <a:lnTo>
                      <a:pt x="276" y="558"/>
                    </a:lnTo>
                    <a:lnTo>
                      <a:pt x="164" y="445"/>
                    </a:lnTo>
                    <a:lnTo>
                      <a:pt x="62" y="364"/>
                    </a:lnTo>
                    <a:lnTo>
                      <a:pt x="62" y="305"/>
                    </a:lnTo>
                    <a:lnTo>
                      <a:pt x="120" y="166"/>
                    </a:lnTo>
                    <a:lnTo>
                      <a:pt x="156" y="94"/>
                    </a:lnTo>
                    <a:lnTo>
                      <a:pt x="251" y="94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144120" y="2870640"/>
                <a:ext cx="87840" cy="254880"/>
              </a:xfrm>
              <a:custGeom>
                <a:avLst/>
                <a:gdLst/>
                <a:ahLst/>
                <a:rect l="l" t="t" r="r" b="b"/>
                <a:pathLst>
                  <a:path w="567" h="1548">
                    <a:moveTo>
                      <a:pt x="483" y="159"/>
                    </a:moveTo>
                    <a:lnTo>
                      <a:pt x="503" y="366"/>
                    </a:lnTo>
                    <a:lnTo>
                      <a:pt x="483" y="596"/>
                    </a:lnTo>
                    <a:lnTo>
                      <a:pt x="410" y="797"/>
                    </a:lnTo>
                    <a:lnTo>
                      <a:pt x="261" y="1122"/>
                    </a:lnTo>
                    <a:lnTo>
                      <a:pt x="0" y="1548"/>
                    </a:lnTo>
                    <a:lnTo>
                      <a:pt x="270" y="1143"/>
                    </a:lnTo>
                    <a:lnTo>
                      <a:pt x="454" y="778"/>
                    </a:lnTo>
                    <a:lnTo>
                      <a:pt x="530" y="530"/>
                    </a:lnTo>
                    <a:lnTo>
                      <a:pt x="567" y="317"/>
                    </a:lnTo>
                    <a:lnTo>
                      <a:pt x="558" y="159"/>
                    </a:lnTo>
                    <a:lnTo>
                      <a:pt x="537" y="67"/>
                    </a:lnTo>
                    <a:lnTo>
                      <a:pt x="503" y="0"/>
                    </a:lnTo>
                    <a:lnTo>
                      <a:pt x="483" y="1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227640" y="2845800"/>
                <a:ext cx="229320" cy="679680"/>
              </a:xfrm>
              <a:custGeom>
                <a:avLst/>
                <a:gdLst/>
                <a:ahLst/>
                <a:rect l="l" t="t" r="r" b="b"/>
                <a:pathLst>
                  <a:path w="1477" h="4119">
                    <a:moveTo>
                      <a:pt x="0" y="237"/>
                    </a:moveTo>
                    <a:lnTo>
                      <a:pt x="253" y="613"/>
                    </a:lnTo>
                    <a:lnTo>
                      <a:pt x="486" y="933"/>
                    </a:lnTo>
                    <a:lnTo>
                      <a:pt x="598" y="557"/>
                    </a:lnTo>
                    <a:lnTo>
                      <a:pt x="862" y="0"/>
                    </a:lnTo>
                    <a:lnTo>
                      <a:pt x="629" y="586"/>
                    </a:lnTo>
                    <a:lnTo>
                      <a:pt x="559" y="989"/>
                    </a:lnTo>
                    <a:lnTo>
                      <a:pt x="781" y="1267"/>
                    </a:lnTo>
                    <a:lnTo>
                      <a:pt x="1115" y="1556"/>
                    </a:lnTo>
                    <a:lnTo>
                      <a:pt x="1383" y="2074"/>
                    </a:lnTo>
                    <a:lnTo>
                      <a:pt x="1477" y="2588"/>
                    </a:lnTo>
                    <a:lnTo>
                      <a:pt x="1409" y="3060"/>
                    </a:lnTo>
                    <a:lnTo>
                      <a:pt x="1409" y="3673"/>
                    </a:lnTo>
                    <a:lnTo>
                      <a:pt x="1464" y="4119"/>
                    </a:lnTo>
                    <a:lnTo>
                      <a:pt x="1115" y="3394"/>
                    </a:lnTo>
                    <a:lnTo>
                      <a:pt x="1256" y="3147"/>
                    </a:lnTo>
                    <a:lnTo>
                      <a:pt x="1297" y="2910"/>
                    </a:lnTo>
                    <a:lnTo>
                      <a:pt x="1311" y="2643"/>
                    </a:lnTo>
                    <a:lnTo>
                      <a:pt x="1256" y="2382"/>
                    </a:lnTo>
                    <a:lnTo>
                      <a:pt x="1130" y="1921"/>
                    </a:lnTo>
                    <a:lnTo>
                      <a:pt x="947" y="1504"/>
                    </a:lnTo>
                    <a:lnTo>
                      <a:pt x="809" y="1337"/>
                    </a:lnTo>
                    <a:lnTo>
                      <a:pt x="629" y="1170"/>
                    </a:lnTo>
                    <a:lnTo>
                      <a:pt x="710" y="1556"/>
                    </a:lnTo>
                    <a:lnTo>
                      <a:pt x="781" y="2129"/>
                    </a:lnTo>
                    <a:lnTo>
                      <a:pt x="797" y="2549"/>
                    </a:lnTo>
                    <a:lnTo>
                      <a:pt x="754" y="2795"/>
                    </a:lnTo>
                    <a:lnTo>
                      <a:pt x="697" y="2894"/>
                    </a:lnTo>
                    <a:lnTo>
                      <a:pt x="629" y="2935"/>
                    </a:lnTo>
                    <a:lnTo>
                      <a:pt x="530" y="2922"/>
                    </a:lnTo>
                    <a:lnTo>
                      <a:pt x="306" y="2855"/>
                    </a:lnTo>
                    <a:lnTo>
                      <a:pt x="486" y="2841"/>
                    </a:lnTo>
                    <a:lnTo>
                      <a:pt x="569" y="2771"/>
                    </a:lnTo>
                    <a:lnTo>
                      <a:pt x="642" y="2602"/>
                    </a:lnTo>
                    <a:lnTo>
                      <a:pt x="656" y="2338"/>
                    </a:lnTo>
                    <a:lnTo>
                      <a:pt x="598" y="1864"/>
                    </a:lnTo>
                    <a:lnTo>
                      <a:pt x="486" y="1392"/>
                    </a:lnTo>
                    <a:lnTo>
                      <a:pt x="322" y="891"/>
                    </a:lnTo>
                    <a:lnTo>
                      <a:pt x="154" y="557"/>
                    </a:lnTo>
                    <a:lnTo>
                      <a:pt x="13" y="307"/>
                    </a:lnTo>
                    <a:lnTo>
                      <a:pt x="0" y="2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331680" y="2807280"/>
                <a:ext cx="146160" cy="408960"/>
              </a:xfrm>
              <a:custGeom>
                <a:avLst/>
                <a:gdLst/>
                <a:ahLst/>
                <a:rect l="l" t="t" r="r" b="b"/>
                <a:pathLst>
                  <a:path w="948" h="2477">
                    <a:moveTo>
                      <a:pt x="558" y="0"/>
                    </a:moveTo>
                    <a:lnTo>
                      <a:pt x="558" y="111"/>
                    </a:lnTo>
                    <a:lnTo>
                      <a:pt x="532" y="291"/>
                    </a:lnTo>
                    <a:lnTo>
                      <a:pt x="433" y="445"/>
                    </a:lnTo>
                    <a:lnTo>
                      <a:pt x="212" y="680"/>
                    </a:lnTo>
                    <a:lnTo>
                      <a:pt x="113" y="860"/>
                    </a:lnTo>
                    <a:lnTo>
                      <a:pt x="58" y="1014"/>
                    </a:lnTo>
                    <a:lnTo>
                      <a:pt x="0" y="1392"/>
                    </a:lnTo>
                    <a:lnTo>
                      <a:pt x="71" y="1238"/>
                    </a:lnTo>
                    <a:lnTo>
                      <a:pt x="194" y="1099"/>
                    </a:lnTo>
                    <a:lnTo>
                      <a:pt x="321" y="1042"/>
                    </a:lnTo>
                    <a:lnTo>
                      <a:pt x="420" y="1042"/>
                    </a:lnTo>
                    <a:lnTo>
                      <a:pt x="475" y="1071"/>
                    </a:lnTo>
                    <a:lnTo>
                      <a:pt x="517" y="1139"/>
                    </a:lnTo>
                    <a:lnTo>
                      <a:pt x="504" y="1238"/>
                    </a:lnTo>
                    <a:lnTo>
                      <a:pt x="376" y="1418"/>
                    </a:lnTo>
                    <a:lnTo>
                      <a:pt x="253" y="1546"/>
                    </a:lnTo>
                    <a:lnTo>
                      <a:pt x="180" y="1572"/>
                    </a:lnTo>
                    <a:lnTo>
                      <a:pt x="405" y="1791"/>
                    </a:lnTo>
                    <a:lnTo>
                      <a:pt x="602" y="2129"/>
                    </a:lnTo>
                    <a:lnTo>
                      <a:pt x="697" y="2265"/>
                    </a:lnTo>
                    <a:lnTo>
                      <a:pt x="880" y="2325"/>
                    </a:lnTo>
                    <a:lnTo>
                      <a:pt x="948" y="2477"/>
                    </a:lnTo>
                    <a:lnTo>
                      <a:pt x="948" y="2005"/>
                    </a:lnTo>
                    <a:lnTo>
                      <a:pt x="741" y="1696"/>
                    </a:lnTo>
                    <a:lnTo>
                      <a:pt x="715" y="1546"/>
                    </a:lnTo>
                    <a:lnTo>
                      <a:pt x="781" y="1392"/>
                    </a:lnTo>
                    <a:lnTo>
                      <a:pt x="781" y="1224"/>
                    </a:lnTo>
                    <a:lnTo>
                      <a:pt x="643" y="1139"/>
                    </a:lnTo>
                    <a:lnTo>
                      <a:pt x="629" y="931"/>
                    </a:lnTo>
                    <a:lnTo>
                      <a:pt x="754" y="751"/>
                    </a:lnTo>
                    <a:lnTo>
                      <a:pt x="781" y="558"/>
                    </a:lnTo>
                    <a:lnTo>
                      <a:pt x="754" y="388"/>
                    </a:lnTo>
                    <a:lnTo>
                      <a:pt x="655" y="180"/>
                    </a:lnTo>
                    <a:lnTo>
                      <a:pt x="55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483240" y="3229920"/>
                <a:ext cx="50760" cy="394560"/>
              </a:xfrm>
              <a:custGeom>
                <a:avLst/>
                <a:gdLst/>
                <a:ahLst/>
                <a:rect l="l" t="t" r="r" b="b"/>
                <a:pathLst>
                  <a:path w="332" h="2396">
                    <a:moveTo>
                      <a:pt x="0" y="0"/>
                    </a:moveTo>
                    <a:lnTo>
                      <a:pt x="165" y="85"/>
                    </a:lnTo>
                    <a:lnTo>
                      <a:pt x="332" y="488"/>
                    </a:lnTo>
                    <a:lnTo>
                      <a:pt x="332" y="737"/>
                    </a:lnTo>
                    <a:lnTo>
                      <a:pt x="278" y="1016"/>
                    </a:lnTo>
                    <a:lnTo>
                      <a:pt x="193" y="1434"/>
                    </a:lnTo>
                    <a:lnTo>
                      <a:pt x="152" y="1937"/>
                    </a:lnTo>
                    <a:lnTo>
                      <a:pt x="126" y="2396"/>
                    </a:lnTo>
                    <a:lnTo>
                      <a:pt x="94" y="1976"/>
                    </a:lnTo>
                    <a:lnTo>
                      <a:pt x="94" y="1530"/>
                    </a:lnTo>
                    <a:lnTo>
                      <a:pt x="152" y="1030"/>
                    </a:lnTo>
                    <a:lnTo>
                      <a:pt x="152" y="628"/>
                    </a:lnTo>
                    <a:lnTo>
                      <a:pt x="110" y="23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463440" y="3307680"/>
                <a:ext cx="142560" cy="381240"/>
              </a:xfrm>
              <a:custGeom>
                <a:avLst/>
                <a:gdLst/>
                <a:ahLst/>
                <a:rect l="l" t="t" r="r" b="b"/>
                <a:pathLst>
                  <a:path w="921" h="2313">
                    <a:moveTo>
                      <a:pt x="459" y="99"/>
                    </a:moveTo>
                    <a:lnTo>
                      <a:pt x="558" y="447"/>
                    </a:lnTo>
                    <a:lnTo>
                      <a:pt x="585" y="808"/>
                    </a:lnTo>
                    <a:lnTo>
                      <a:pt x="532" y="1173"/>
                    </a:lnTo>
                    <a:lnTo>
                      <a:pt x="449" y="1478"/>
                    </a:lnTo>
                    <a:lnTo>
                      <a:pt x="334" y="1755"/>
                    </a:lnTo>
                    <a:lnTo>
                      <a:pt x="221" y="1952"/>
                    </a:lnTo>
                    <a:lnTo>
                      <a:pt x="110" y="1952"/>
                    </a:lnTo>
                    <a:lnTo>
                      <a:pt x="0" y="1880"/>
                    </a:lnTo>
                    <a:lnTo>
                      <a:pt x="170" y="2062"/>
                    </a:lnTo>
                    <a:lnTo>
                      <a:pt x="334" y="2200"/>
                    </a:lnTo>
                    <a:lnTo>
                      <a:pt x="170" y="2313"/>
                    </a:lnTo>
                    <a:lnTo>
                      <a:pt x="459" y="2255"/>
                    </a:lnTo>
                    <a:lnTo>
                      <a:pt x="670" y="2117"/>
                    </a:lnTo>
                    <a:lnTo>
                      <a:pt x="809" y="1924"/>
                    </a:lnTo>
                    <a:lnTo>
                      <a:pt x="878" y="1686"/>
                    </a:lnTo>
                    <a:lnTo>
                      <a:pt x="921" y="1433"/>
                    </a:lnTo>
                    <a:lnTo>
                      <a:pt x="908" y="1103"/>
                    </a:lnTo>
                    <a:lnTo>
                      <a:pt x="864" y="740"/>
                    </a:lnTo>
                    <a:lnTo>
                      <a:pt x="809" y="505"/>
                    </a:lnTo>
                    <a:lnTo>
                      <a:pt x="725" y="447"/>
                    </a:lnTo>
                    <a:lnTo>
                      <a:pt x="631" y="336"/>
                    </a:lnTo>
                    <a:lnTo>
                      <a:pt x="503" y="156"/>
                    </a:lnTo>
                    <a:lnTo>
                      <a:pt x="449" y="0"/>
                    </a:lnTo>
                    <a:lnTo>
                      <a:pt x="459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77200" y="2841480"/>
                <a:ext cx="859320" cy="856440"/>
              </a:xfrm>
              <a:custGeom>
                <a:avLst/>
                <a:gdLst/>
                <a:ahLst/>
                <a:rect l="l" t="t" r="r" b="b"/>
                <a:pathLst>
                  <a:path w="5538" h="5192">
                    <a:moveTo>
                      <a:pt x="1807" y="0"/>
                    </a:moveTo>
                    <a:lnTo>
                      <a:pt x="1690" y="384"/>
                    </a:lnTo>
                    <a:lnTo>
                      <a:pt x="1515" y="1124"/>
                    </a:lnTo>
                    <a:lnTo>
                      <a:pt x="1381" y="1684"/>
                    </a:lnTo>
                    <a:lnTo>
                      <a:pt x="1243" y="2248"/>
                    </a:lnTo>
                    <a:lnTo>
                      <a:pt x="1108" y="2633"/>
                    </a:lnTo>
                    <a:lnTo>
                      <a:pt x="952" y="2888"/>
                    </a:lnTo>
                    <a:lnTo>
                      <a:pt x="739" y="3138"/>
                    </a:lnTo>
                    <a:lnTo>
                      <a:pt x="487" y="3391"/>
                    </a:lnTo>
                    <a:lnTo>
                      <a:pt x="271" y="3566"/>
                    </a:lnTo>
                    <a:lnTo>
                      <a:pt x="137" y="3739"/>
                    </a:lnTo>
                    <a:lnTo>
                      <a:pt x="60" y="3973"/>
                    </a:lnTo>
                    <a:lnTo>
                      <a:pt x="60" y="4168"/>
                    </a:lnTo>
                    <a:lnTo>
                      <a:pt x="137" y="3913"/>
                    </a:lnTo>
                    <a:lnTo>
                      <a:pt x="194" y="3856"/>
                    </a:lnTo>
                    <a:lnTo>
                      <a:pt x="310" y="3856"/>
                    </a:lnTo>
                    <a:lnTo>
                      <a:pt x="293" y="3757"/>
                    </a:lnTo>
                    <a:lnTo>
                      <a:pt x="310" y="3681"/>
                    </a:lnTo>
                    <a:lnTo>
                      <a:pt x="409" y="3660"/>
                    </a:lnTo>
                    <a:lnTo>
                      <a:pt x="526" y="3660"/>
                    </a:lnTo>
                    <a:lnTo>
                      <a:pt x="563" y="3739"/>
                    </a:lnTo>
                    <a:lnTo>
                      <a:pt x="563" y="3836"/>
                    </a:lnTo>
                    <a:lnTo>
                      <a:pt x="487" y="3874"/>
                    </a:lnTo>
                    <a:lnTo>
                      <a:pt x="796" y="3895"/>
                    </a:lnTo>
                    <a:lnTo>
                      <a:pt x="1301" y="4049"/>
                    </a:lnTo>
                    <a:lnTo>
                      <a:pt x="1515" y="4185"/>
                    </a:lnTo>
                    <a:lnTo>
                      <a:pt x="1574" y="4340"/>
                    </a:lnTo>
                    <a:lnTo>
                      <a:pt x="1554" y="4476"/>
                    </a:lnTo>
                    <a:lnTo>
                      <a:pt x="1460" y="4535"/>
                    </a:lnTo>
                    <a:lnTo>
                      <a:pt x="1243" y="4497"/>
                    </a:lnTo>
                    <a:lnTo>
                      <a:pt x="875" y="4418"/>
                    </a:lnTo>
                    <a:lnTo>
                      <a:pt x="526" y="4359"/>
                    </a:lnTo>
                    <a:lnTo>
                      <a:pt x="215" y="4359"/>
                    </a:lnTo>
                    <a:lnTo>
                      <a:pt x="77" y="4262"/>
                    </a:lnTo>
                    <a:lnTo>
                      <a:pt x="60" y="4476"/>
                    </a:lnTo>
                    <a:lnTo>
                      <a:pt x="0" y="4805"/>
                    </a:lnTo>
                    <a:lnTo>
                      <a:pt x="117" y="4805"/>
                    </a:lnTo>
                    <a:lnTo>
                      <a:pt x="157" y="4690"/>
                    </a:lnTo>
                    <a:lnTo>
                      <a:pt x="254" y="4651"/>
                    </a:lnTo>
                    <a:lnTo>
                      <a:pt x="370" y="4669"/>
                    </a:lnTo>
                    <a:lnTo>
                      <a:pt x="427" y="4748"/>
                    </a:lnTo>
                    <a:lnTo>
                      <a:pt x="409" y="4805"/>
                    </a:lnTo>
                    <a:lnTo>
                      <a:pt x="2022" y="4805"/>
                    </a:lnTo>
                    <a:lnTo>
                      <a:pt x="1904" y="4418"/>
                    </a:lnTo>
                    <a:lnTo>
                      <a:pt x="1807" y="3990"/>
                    </a:lnTo>
                    <a:lnTo>
                      <a:pt x="1748" y="3547"/>
                    </a:lnTo>
                    <a:lnTo>
                      <a:pt x="1983" y="3913"/>
                    </a:lnTo>
                    <a:lnTo>
                      <a:pt x="2255" y="4302"/>
                    </a:lnTo>
                    <a:lnTo>
                      <a:pt x="2504" y="4612"/>
                    </a:lnTo>
                    <a:lnTo>
                      <a:pt x="2661" y="4805"/>
                    </a:lnTo>
                    <a:lnTo>
                      <a:pt x="4002" y="4805"/>
                    </a:lnTo>
                    <a:lnTo>
                      <a:pt x="4545" y="5116"/>
                    </a:lnTo>
                    <a:lnTo>
                      <a:pt x="4874" y="5192"/>
                    </a:lnTo>
                    <a:lnTo>
                      <a:pt x="5224" y="5176"/>
                    </a:lnTo>
                    <a:lnTo>
                      <a:pt x="5478" y="5116"/>
                    </a:lnTo>
                    <a:lnTo>
                      <a:pt x="5538" y="5057"/>
                    </a:lnTo>
                    <a:lnTo>
                      <a:pt x="5264" y="5057"/>
                    </a:lnTo>
                    <a:lnTo>
                      <a:pt x="4934" y="4959"/>
                    </a:lnTo>
                    <a:lnTo>
                      <a:pt x="4528" y="4727"/>
                    </a:lnTo>
                    <a:lnTo>
                      <a:pt x="4178" y="4458"/>
                    </a:lnTo>
                    <a:lnTo>
                      <a:pt x="4662" y="4572"/>
                    </a:lnTo>
                    <a:lnTo>
                      <a:pt x="5013" y="4690"/>
                    </a:lnTo>
                    <a:lnTo>
                      <a:pt x="4567" y="4398"/>
                    </a:lnTo>
                    <a:lnTo>
                      <a:pt x="4196" y="4168"/>
                    </a:lnTo>
                    <a:lnTo>
                      <a:pt x="3925" y="3933"/>
                    </a:lnTo>
                    <a:lnTo>
                      <a:pt x="3670" y="3547"/>
                    </a:lnTo>
                    <a:lnTo>
                      <a:pt x="3982" y="3739"/>
                    </a:lnTo>
                    <a:lnTo>
                      <a:pt x="4275" y="3856"/>
                    </a:lnTo>
                    <a:lnTo>
                      <a:pt x="4545" y="3990"/>
                    </a:lnTo>
                    <a:lnTo>
                      <a:pt x="4835" y="4302"/>
                    </a:lnTo>
                    <a:lnTo>
                      <a:pt x="5031" y="4612"/>
                    </a:lnTo>
                    <a:lnTo>
                      <a:pt x="4874" y="4223"/>
                    </a:lnTo>
                    <a:lnTo>
                      <a:pt x="4468" y="3700"/>
                    </a:lnTo>
                    <a:lnTo>
                      <a:pt x="3864" y="3004"/>
                    </a:lnTo>
                    <a:lnTo>
                      <a:pt x="3516" y="2593"/>
                    </a:lnTo>
                    <a:lnTo>
                      <a:pt x="3013" y="1764"/>
                    </a:lnTo>
                    <a:lnTo>
                      <a:pt x="2796" y="1684"/>
                    </a:lnTo>
                    <a:lnTo>
                      <a:pt x="2525" y="1511"/>
                    </a:lnTo>
                    <a:lnTo>
                      <a:pt x="2117" y="1103"/>
                    </a:lnTo>
                    <a:lnTo>
                      <a:pt x="2022" y="909"/>
                    </a:lnTo>
                    <a:lnTo>
                      <a:pt x="1864" y="792"/>
                    </a:lnTo>
                    <a:lnTo>
                      <a:pt x="1807" y="580"/>
                    </a:lnTo>
                    <a:lnTo>
                      <a:pt x="1807" y="269"/>
                    </a:lnTo>
                    <a:lnTo>
                      <a:pt x="1864" y="57"/>
                    </a:lnTo>
                    <a:lnTo>
                      <a:pt x="18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308200" y="2592360"/>
                <a:ext cx="519120" cy="1018800"/>
              </a:xfrm>
              <a:custGeom>
                <a:avLst/>
                <a:gdLst/>
                <a:ahLst/>
                <a:rect l="l" t="t" r="r" b="b"/>
                <a:pathLst>
                  <a:path w="3344" h="6183">
                    <a:moveTo>
                      <a:pt x="2237" y="41"/>
                    </a:moveTo>
                    <a:lnTo>
                      <a:pt x="2158" y="196"/>
                    </a:lnTo>
                    <a:lnTo>
                      <a:pt x="2138" y="389"/>
                    </a:lnTo>
                    <a:lnTo>
                      <a:pt x="2177" y="930"/>
                    </a:lnTo>
                    <a:lnTo>
                      <a:pt x="2370" y="2326"/>
                    </a:lnTo>
                    <a:lnTo>
                      <a:pt x="2564" y="3877"/>
                    </a:lnTo>
                    <a:lnTo>
                      <a:pt x="3071" y="2520"/>
                    </a:lnTo>
                    <a:lnTo>
                      <a:pt x="3148" y="2210"/>
                    </a:lnTo>
                    <a:lnTo>
                      <a:pt x="3166" y="2036"/>
                    </a:lnTo>
                    <a:lnTo>
                      <a:pt x="3109" y="2016"/>
                    </a:lnTo>
                    <a:lnTo>
                      <a:pt x="3071" y="1898"/>
                    </a:lnTo>
                    <a:lnTo>
                      <a:pt x="3012" y="1764"/>
                    </a:lnTo>
                    <a:lnTo>
                      <a:pt x="2834" y="1571"/>
                    </a:lnTo>
                    <a:lnTo>
                      <a:pt x="2624" y="1783"/>
                    </a:lnTo>
                    <a:lnTo>
                      <a:pt x="2469" y="2153"/>
                    </a:lnTo>
                    <a:lnTo>
                      <a:pt x="2546" y="1861"/>
                    </a:lnTo>
                    <a:lnTo>
                      <a:pt x="2680" y="1608"/>
                    </a:lnTo>
                    <a:lnTo>
                      <a:pt x="2857" y="1375"/>
                    </a:lnTo>
                    <a:lnTo>
                      <a:pt x="3032" y="1182"/>
                    </a:lnTo>
                    <a:lnTo>
                      <a:pt x="3148" y="1085"/>
                    </a:lnTo>
                    <a:lnTo>
                      <a:pt x="3344" y="1182"/>
                    </a:lnTo>
                    <a:lnTo>
                      <a:pt x="3205" y="1242"/>
                    </a:lnTo>
                    <a:lnTo>
                      <a:pt x="3052" y="1358"/>
                    </a:lnTo>
                    <a:lnTo>
                      <a:pt x="2972" y="1474"/>
                    </a:lnTo>
                    <a:lnTo>
                      <a:pt x="3089" y="1647"/>
                    </a:lnTo>
                    <a:lnTo>
                      <a:pt x="3226" y="1921"/>
                    </a:lnTo>
                    <a:lnTo>
                      <a:pt x="3245" y="2016"/>
                    </a:lnTo>
                    <a:lnTo>
                      <a:pt x="3344" y="2016"/>
                    </a:lnTo>
                    <a:lnTo>
                      <a:pt x="3245" y="2133"/>
                    </a:lnTo>
                    <a:lnTo>
                      <a:pt x="3127" y="2539"/>
                    </a:lnTo>
                    <a:lnTo>
                      <a:pt x="2933" y="3218"/>
                    </a:lnTo>
                    <a:lnTo>
                      <a:pt x="2779" y="3896"/>
                    </a:lnTo>
                    <a:lnTo>
                      <a:pt x="2680" y="4324"/>
                    </a:lnTo>
                    <a:lnTo>
                      <a:pt x="2779" y="4518"/>
                    </a:lnTo>
                    <a:lnTo>
                      <a:pt x="2876" y="4633"/>
                    </a:lnTo>
                    <a:lnTo>
                      <a:pt x="2933" y="4672"/>
                    </a:lnTo>
                    <a:lnTo>
                      <a:pt x="2797" y="4808"/>
                    </a:lnTo>
                    <a:lnTo>
                      <a:pt x="2663" y="4925"/>
                    </a:lnTo>
                    <a:lnTo>
                      <a:pt x="2507" y="5080"/>
                    </a:lnTo>
                    <a:lnTo>
                      <a:pt x="2410" y="4964"/>
                    </a:lnTo>
                    <a:lnTo>
                      <a:pt x="2294" y="4905"/>
                    </a:lnTo>
                    <a:lnTo>
                      <a:pt x="2138" y="4925"/>
                    </a:lnTo>
                    <a:lnTo>
                      <a:pt x="1865" y="5041"/>
                    </a:lnTo>
                    <a:lnTo>
                      <a:pt x="2158" y="4847"/>
                    </a:lnTo>
                    <a:lnTo>
                      <a:pt x="2313" y="4672"/>
                    </a:lnTo>
                    <a:lnTo>
                      <a:pt x="2391" y="4496"/>
                    </a:lnTo>
                    <a:lnTo>
                      <a:pt x="2430" y="4285"/>
                    </a:lnTo>
                    <a:lnTo>
                      <a:pt x="2430" y="3916"/>
                    </a:lnTo>
                    <a:lnTo>
                      <a:pt x="2391" y="2868"/>
                    </a:lnTo>
                    <a:lnTo>
                      <a:pt x="2331" y="2267"/>
                    </a:lnTo>
                    <a:lnTo>
                      <a:pt x="2177" y="1299"/>
                    </a:lnTo>
                    <a:lnTo>
                      <a:pt x="2001" y="3508"/>
                    </a:lnTo>
                    <a:lnTo>
                      <a:pt x="1884" y="4246"/>
                    </a:lnTo>
                    <a:lnTo>
                      <a:pt x="1790" y="4944"/>
                    </a:lnTo>
                    <a:lnTo>
                      <a:pt x="1729" y="5563"/>
                    </a:lnTo>
                    <a:lnTo>
                      <a:pt x="1729" y="6183"/>
                    </a:lnTo>
                    <a:lnTo>
                      <a:pt x="1692" y="5543"/>
                    </a:lnTo>
                    <a:lnTo>
                      <a:pt x="1711" y="4884"/>
                    </a:lnTo>
                    <a:lnTo>
                      <a:pt x="1826" y="3916"/>
                    </a:lnTo>
                    <a:lnTo>
                      <a:pt x="1826" y="3374"/>
                    </a:lnTo>
                    <a:lnTo>
                      <a:pt x="1884" y="2735"/>
                    </a:lnTo>
                    <a:lnTo>
                      <a:pt x="2001" y="2115"/>
                    </a:lnTo>
                    <a:lnTo>
                      <a:pt x="2098" y="1454"/>
                    </a:lnTo>
                    <a:lnTo>
                      <a:pt x="2117" y="1029"/>
                    </a:lnTo>
                    <a:lnTo>
                      <a:pt x="2061" y="776"/>
                    </a:lnTo>
                    <a:lnTo>
                      <a:pt x="1865" y="541"/>
                    </a:lnTo>
                    <a:lnTo>
                      <a:pt x="1692" y="466"/>
                    </a:lnTo>
                    <a:lnTo>
                      <a:pt x="1478" y="447"/>
                    </a:lnTo>
                    <a:lnTo>
                      <a:pt x="1127" y="852"/>
                    </a:lnTo>
                    <a:lnTo>
                      <a:pt x="1439" y="407"/>
                    </a:lnTo>
                    <a:lnTo>
                      <a:pt x="817" y="562"/>
                    </a:lnTo>
                    <a:lnTo>
                      <a:pt x="408" y="447"/>
                    </a:lnTo>
                    <a:lnTo>
                      <a:pt x="0" y="466"/>
                    </a:lnTo>
                    <a:lnTo>
                      <a:pt x="390" y="389"/>
                    </a:lnTo>
                    <a:lnTo>
                      <a:pt x="800" y="447"/>
                    </a:lnTo>
                    <a:lnTo>
                      <a:pt x="1013" y="447"/>
                    </a:lnTo>
                    <a:lnTo>
                      <a:pt x="1478" y="370"/>
                    </a:lnTo>
                    <a:lnTo>
                      <a:pt x="1845" y="137"/>
                    </a:lnTo>
                    <a:lnTo>
                      <a:pt x="2255" y="0"/>
                    </a:lnTo>
                    <a:lnTo>
                      <a:pt x="2237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800320" y="2774520"/>
                <a:ext cx="117720" cy="408960"/>
              </a:xfrm>
              <a:custGeom>
                <a:avLst/>
                <a:gdLst/>
                <a:ahLst/>
                <a:rect l="l" t="t" r="r" b="b"/>
                <a:pathLst>
                  <a:path w="758" h="2480">
                    <a:moveTo>
                      <a:pt x="39" y="0"/>
                    </a:moveTo>
                    <a:lnTo>
                      <a:pt x="233" y="60"/>
                    </a:lnTo>
                    <a:lnTo>
                      <a:pt x="431" y="253"/>
                    </a:lnTo>
                    <a:lnTo>
                      <a:pt x="565" y="446"/>
                    </a:lnTo>
                    <a:lnTo>
                      <a:pt x="701" y="736"/>
                    </a:lnTo>
                    <a:lnTo>
                      <a:pt x="758" y="989"/>
                    </a:lnTo>
                    <a:lnTo>
                      <a:pt x="719" y="1010"/>
                    </a:lnTo>
                    <a:lnTo>
                      <a:pt x="408" y="486"/>
                    </a:lnTo>
                    <a:lnTo>
                      <a:pt x="312" y="639"/>
                    </a:lnTo>
                    <a:lnTo>
                      <a:pt x="332" y="775"/>
                    </a:lnTo>
                    <a:lnTo>
                      <a:pt x="350" y="892"/>
                    </a:lnTo>
                    <a:lnTo>
                      <a:pt x="332" y="931"/>
                    </a:lnTo>
                    <a:lnTo>
                      <a:pt x="408" y="1105"/>
                    </a:lnTo>
                    <a:lnTo>
                      <a:pt x="447" y="1454"/>
                    </a:lnTo>
                    <a:lnTo>
                      <a:pt x="447" y="1802"/>
                    </a:lnTo>
                    <a:lnTo>
                      <a:pt x="468" y="2074"/>
                    </a:lnTo>
                    <a:lnTo>
                      <a:pt x="468" y="2269"/>
                    </a:lnTo>
                    <a:lnTo>
                      <a:pt x="408" y="2480"/>
                    </a:lnTo>
                    <a:lnTo>
                      <a:pt x="431" y="2019"/>
                    </a:lnTo>
                    <a:lnTo>
                      <a:pt x="389" y="1494"/>
                    </a:lnTo>
                    <a:lnTo>
                      <a:pt x="350" y="1123"/>
                    </a:lnTo>
                    <a:lnTo>
                      <a:pt x="253" y="931"/>
                    </a:lnTo>
                    <a:lnTo>
                      <a:pt x="272" y="855"/>
                    </a:lnTo>
                    <a:lnTo>
                      <a:pt x="272" y="699"/>
                    </a:lnTo>
                    <a:lnTo>
                      <a:pt x="312" y="446"/>
                    </a:lnTo>
                    <a:lnTo>
                      <a:pt x="350" y="332"/>
                    </a:lnTo>
                    <a:lnTo>
                      <a:pt x="216" y="194"/>
                    </a:lnTo>
                    <a:lnTo>
                      <a:pt x="0" y="114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447520" y="2786040"/>
                <a:ext cx="75600" cy="38160"/>
              </a:xfrm>
              <a:custGeom>
                <a:avLst/>
                <a:gdLst/>
                <a:ahLst/>
                <a:rect l="l" t="t" r="r" b="b"/>
                <a:pathLst>
                  <a:path w="485" h="233">
                    <a:moveTo>
                      <a:pt x="0" y="37"/>
                    </a:moveTo>
                    <a:lnTo>
                      <a:pt x="331" y="233"/>
                    </a:lnTo>
                    <a:lnTo>
                      <a:pt x="485" y="136"/>
                    </a:lnTo>
                    <a:lnTo>
                      <a:pt x="386" y="60"/>
                    </a:lnTo>
                    <a:lnTo>
                      <a:pt x="215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225400" y="2783520"/>
                <a:ext cx="261720" cy="849960"/>
              </a:xfrm>
              <a:custGeom>
                <a:avLst/>
                <a:gdLst/>
                <a:ahLst/>
                <a:rect l="l" t="t" r="r" b="b"/>
                <a:pathLst>
                  <a:path w="1687" h="5154">
                    <a:moveTo>
                      <a:pt x="1435" y="696"/>
                    </a:moveTo>
                    <a:lnTo>
                      <a:pt x="1378" y="1280"/>
                    </a:lnTo>
                    <a:lnTo>
                      <a:pt x="1378" y="2092"/>
                    </a:lnTo>
                    <a:lnTo>
                      <a:pt x="1395" y="2982"/>
                    </a:lnTo>
                    <a:lnTo>
                      <a:pt x="1494" y="3972"/>
                    </a:lnTo>
                    <a:lnTo>
                      <a:pt x="1611" y="4747"/>
                    </a:lnTo>
                    <a:lnTo>
                      <a:pt x="1687" y="5154"/>
                    </a:lnTo>
                    <a:lnTo>
                      <a:pt x="1611" y="5154"/>
                    </a:lnTo>
                    <a:lnTo>
                      <a:pt x="1261" y="4592"/>
                    </a:lnTo>
                    <a:lnTo>
                      <a:pt x="872" y="3876"/>
                    </a:lnTo>
                    <a:lnTo>
                      <a:pt x="541" y="3041"/>
                    </a:lnTo>
                    <a:lnTo>
                      <a:pt x="253" y="2130"/>
                    </a:lnTo>
                    <a:lnTo>
                      <a:pt x="97" y="1355"/>
                    </a:lnTo>
                    <a:lnTo>
                      <a:pt x="0" y="522"/>
                    </a:lnTo>
                    <a:lnTo>
                      <a:pt x="0" y="0"/>
                    </a:lnTo>
                    <a:lnTo>
                      <a:pt x="74" y="851"/>
                    </a:lnTo>
                    <a:lnTo>
                      <a:pt x="193" y="1570"/>
                    </a:lnTo>
                    <a:lnTo>
                      <a:pt x="387" y="2286"/>
                    </a:lnTo>
                    <a:lnTo>
                      <a:pt x="620" y="2942"/>
                    </a:lnTo>
                    <a:lnTo>
                      <a:pt x="872" y="3566"/>
                    </a:lnTo>
                    <a:lnTo>
                      <a:pt x="1143" y="4129"/>
                    </a:lnTo>
                    <a:lnTo>
                      <a:pt x="1475" y="4629"/>
                    </a:lnTo>
                    <a:lnTo>
                      <a:pt x="1300" y="3779"/>
                    </a:lnTo>
                    <a:lnTo>
                      <a:pt x="1242" y="2942"/>
                    </a:lnTo>
                    <a:lnTo>
                      <a:pt x="1242" y="2072"/>
                    </a:lnTo>
                    <a:lnTo>
                      <a:pt x="1300" y="1201"/>
                    </a:lnTo>
                    <a:lnTo>
                      <a:pt x="1378" y="715"/>
                    </a:lnTo>
                    <a:lnTo>
                      <a:pt x="1435" y="6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053680" y="3105720"/>
                <a:ext cx="433440" cy="592560"/>
              </a:xfrm>
              <a:custGeom>
                <a:avLst/>
                <a:gdLst/>
                <a:ahLst/>
                <a:rect l="l" t="t" r="r" b="b"/>
                <a:pathLst>
                  <a:path w="2786" h="3589">
                    <a:moveTo>
                      <a:pt x="842" y="1516"/>
                    </a:moveTo>
                    <a:lnTo>
                      <a:pt x="877" y="1500"/>
                    </a:lnTo>
                    <a:lnTo>
                      <a:pt x="1306" y="1976"/>
                    </a:lnTo>
                    <a:lnTo>
                      <a:pt x="1306" y="1614"/>
                    </a:lnTo>
                    <a:lnTo>
                      <a:pt x="1205" y="1234"/>
                    </a:lnTo>
                    <a:lnTo>
                      <a:pt x="1205" y="1006"/>
                    </a:lnTo>
                    <a:lnTo>
                      <a:pt x="1039" y="1104"/>
                    </a:lnTo>
                    <a:lnTo>
                      <a:pt x="940" y="871"/>
                    </a:lnTo>
                    <a:lnTo>
                      <a:pt x="363" y="641"/>
                    </a:lnTo>
                    <a:lnTo>
                      <a:pt x="0" y="347"/>
                    </a:lnTo>
                    <a:lnTo>
                      <a:pt x="264" y="493"/>
                    </a:lnTo>
                    <a:lnTo>
                      <a:pt x="1057" y="380"/>
                    </a:lnTo>
                    <a:lnTo>
                      <a:pt x="827" y="0"/>
                    </a:lnTo>
                    <a:lnTo>
                      <a:pt x="1158" y="165"/>
                    </a:lnTo>
                    <a:lnTo>
                      <a:pt x="1354" y="165"/>
                    </a:lnTo>
                    <a:lnTo>
                      <a:pt x="1767" y="1318"/>
                    </a:lnTo>
                    <a:lnTo>
                      <a:pt x="2097" y="2126"/>
                    </a:lnTo>
                    <a:lnTo>
                      <a:pt x="2376" y="2600"/>
                    </a:lnTo>
                    <a:lnTo>
                      <a:pt x="2786" y="3195"/>
                    </a:lnTo>
                    <a:lnTo>
                      <a:pt x="2492" y="3195"/>
                    </a:lnTo>
                    <a:lnTo>
                      <a:pt x="2492" y="3507"/>
                    </a:lnTo>
                    <a:lnTo>
                      <a:pt x="2360" y="3589"/>
                    </a:lnTo>
                    <a:lnTo>
                      <a:pt x="2459" y="3474"/>
                    </a:lnTo>
                    <a:lnTo>
                      <a:pt x="2459" y="3195"/>
                    </a:lnTo>
                    <a:lnTo>
                      <a:pt x="1899" y="2419"/>
                    </a:lnTo>
                    <a:lnTo>
                      <a:pt x="1124" y="2174"/>
                    </a:lnTo>
                    <a:lnTo>
                      <a:pt x="1336" y="2225"/>
                    </a:lnTo>
                    <a:lnTo>
                      <a:pt x="857" y="1566"/>
                    </a:lnTo>
                    <a:lnTo>
                      <a:pt x="842" y="15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000400" y="2668680"/>
                <a:ext cx="269280" cy="521280"/>
              </a:xfrm>
              <a:custGeom>
                <a:avLst/>
                <a:gdLst/>
                <a:ahLst/>
                <a:rect l="l" t="t" r="r" b="b"/>
                <a:pathLst>
                  <a:path w="1732" h="3160">
                    <a:moveTo>
                      <a:pt x="1732" y="15"/>
                    </a:moveTo>
                    <a:lnTo>
                      <a:pt x="1584" y="231"/>
                    </a:lnTo>
                    <a:lnTo>
                      <a:pt x="1483" y="428"/>
                    </a:lnTo>
                    <a:lnTo>
                      <a:pt x="1453" y="644"/>
                    </a:lnTo>
                    <a:lnTo>
                      <a:pt x="1435" y="923"/>
                    </a:lnTo>
                    <a:lnTo>
                      <a:pt x="1384" y="494"/>
                    </a:lnTo>
                    <a:lnTo>
                      <a:pt x="1237" y="806"/>
                    </a:lnTo>
                    <a:lnTo>
                      <a:pt x="1187" y="1089"/>
                    </a:lnTo>
                    <a:lnTo>
                      <a:pt x="1187" y="1384"/>
                    </a:lnTo>
                    <a:lnTo>
                      <a:pt x="1268" y="1860"/>
                    </a:lnTo>
                    <a:lnTo>
                      <a:pt x="1402" y="2257"/>
                    </a:lnTo>
                    <a:lnTo>
                      <a:pt x="1600" y="2701"/>
                    </a:lnTo>
                    <a:lnTo>
                      <a:pt x="1319" y="2306"/>
                    </a:lnTo>
                    <a:lnTo>
                      <a:pt x="1121" y="1911"/>
                    </a:lnTo>
                    <a:lnTo>
                      <a:pt x="971" y="1501"/>
                    </a:lnTo>
                    <a:lnTo>
                      <a:pt x="872" y="1089"/>
                    </a:lnTo>
                    <a:lnTo>
                      <a:pt x="840" y="1368"/>
                    </a:lnTo>
                    <a:lnTo>
                      <a:pt x="860" y="1748"/>
                    </a:lnTo>
                    <a:lnTo>
                      <a:pt x="958" y="2142"/>
                    </a:lnTo>
                    <a:lnTo>
                      <a:pt x="1073" y="2519"/>
                    </a:lnTo>
                    <a:lnTo>
                      <a:pt x="593" y="1748"/>
                    </a:lnTo>
                    <a:lnTo>
                      <a:pt x="510" y="1748"/>
                    </a:lnTo>
                    <a:lnTo>
                      <a:pt x="558" y="2142"/>
                    </a:lnTo>
                    <a:lnTo>
                      <a:pt x="741" y="2681"/>
                    </a:lnTo>
                    <a:lnTo>
                      <a:pt x="989" y="3160"/>
                    </a:lnTo>
                    <a:lnTo>
                      <a:pt x="890" y="3160"/>
                    </a:lnTo>
                    <a:lnTo>
                      <a:pt x="0" y="2209"/>
                    </a:lnTo>
                    <a:lnTo>
                      <a:pt x="644" y="2701"/>
                    </a:lnTo>
                    <a:lnTo>
                      <a:pt x="429" y="2306"/>
                    </a:lnTo>
                    <a:lnTo>
                      <a:pt x="314" y="1928"/>
                    </a:lnTo>
                    <a:lnTo>
                      <a:pt x="296" y="1649"/>
                    </a:lnTo>
                    <a:lnTo>
                      <a:pt x="494" y="1400"/>
                    </a:lnTo>
                    <a:lnTo>
                      <a:pt x="727" y="1054"/>
                    </a:lnTo>
                    <a:lnTo>
                      <a:pt x="872" y="824"/>
                    </a:lnTo>
                    <a:lnTo>
                      <a:pt x="1121" y="776"/>
                    </a:lnTo>
                    <a:lnTo>
                      <a:pt x="1137" y="510"/>
                    </a:lnTo>
                    <a:lnTo>
                      <a:pt x="1402" y="84"/>
                    </a:lnTo>
                    <a:lnTo>
                      <a:pt x="1651" y="0"/>
                    </a:lnTo>
                    <a:lnTo>
                      <a:pt x="173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983120" y="2940840"/>
                <a:ext cx="70560" cy="224280"/>
              </a:xfrm>
              <a:custGeom>
                <a:avLst/>
                <a:gdLst/>
                <a:ahLst/>
                <a:rect l="l" t="t" r="r" b="b"/>
                <a:pathLst>
                  <a:path w="462" h="1364">
                    <a:moveTo>
                      <a:pt x="431" y="0"/>
                    </a:moveTo>
                    <a:lnTo>
                      <a:pt x="216" y="244"/>
                    </a:lnTo>
                    <a:lnTo>
                      <a:pt x="0" y="574"/>
                    </a:lnTo>
                    <a:lnTo>
                      <a:pt x="18" y="753"/>
                    </a:lnTo>
                    <a:lnTo>
                      <a:pt x="231" y="1083"/>
                    </a:lnTo>
                    <a:lnTo>
                      <a:pt x="462" y="1364"/>
                    </a:lnTo>
                    <a:lnTo>
                      <a:pt x="267" y="1002"/>
                    </a:lnTo>
                    <a:lnTo>
                      <a:pt x="231" y="642"/>
                    </a:lnTo>
                    <a:lnTo>
                      <a:pt x="462" y="163"/>
                    </a:lnTo>
                    <a:lnTo>
                      <a:pt x="4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708440" y="3054240"/>
                <a:ext cx="268200" cy="282600"/>
              </a:xfrm>
              <a:custGeom>
                <a:avLst/>
                <a:gdLst/>
                <a:ahLst/>
                <a:rect l="l" t="t" r="r" b="b"/>
                <a:pathLst>
                  <a:path w="1734" h="1711">
                    <a:moveTo>
                      <a:pt x="1619" y="0"/>
                    </a:moveTo>
                    <a:lnTo>
                      <a:pt x="1619" y="149"/>
                    </a:lnTo>
                    <a:lnTo>
                      <a:pt x="1734" y="393"/>
                    </a:lnTo>
                    <a:lnTo>
                      <a:pt x="1619" y="342"/>
                    </a:lnTo>
                    <a:lnTo>
                      <a:pt x="1503" y="461"/>
                    </a:lnTo>
                    <a:lnTo>
                      <a:pt x="1437" y="659"/>
                    </a:lnTo>
                    <a:lnTo>
                      <a:pt x="1371" y="1003"/>
                    </a:lnTo>
                    <a:lnTo>
                      <a:pt x="1371" y="1416"/>
                    </a:lnTo>
                    <a:lnTo>
                      <a:pt x="1404" y="1711"/>
                    </a:lnTo>
                    <a:lnTo>
                      <a:pt x="1287" y="1447"/>
                    </a:lnTo>
                    <a:lnTo>
                      <a:pt x="1141" y="1333"/>
                    </a:lnTo>
                    <a:lnTo>
                      <a:pt x="991" y="1282"/>
                    </a:lnTo>
                    <a:lnTo>
                      <a:pt x="793" y="1282"/>
                    </a:lnTo>
                    <a:lnTo>
                      <a:pt x="532" y="1318"/>
                    </a:lnTo>
                    <a:lnTo>
                      <a:pt x="231" y="1416"/>
                    </a:lnTo>
                    <a:lnTo>
                      <a:pt x="0" y="1546"/>
                    </a:lnTo>
                    <a:lnTo>
                      <a:pt x="169" y="1282"/>
                    </a:lnTo>
                    <a:lnTo>
                      <a:pt x="413" y="986"/>
                    </a:lnTo>
                    <a:lnTo>
                      <a:pt x="694" y="740"/>
                    </a:lnTo>
                    <a:lnTo>
                      <a:pt x="1074" y="492"/>
                    </a:lnTo>
                    <a:lnTo>
                      <a:pt x="1338" y="294"/>
                    </a:lnTo>
                    <a:lnTo>
                      <a:pt x="1503" y="114"/>
                    </a:lnTo>
                    <a:lnTo>
                      <a:pt x="16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664880" y="3154680"/>
                <a:ext cx="581040" cy="505080"/>
              </a:xfrm>
              <a:custGeom>
                <a:avLst/>
                <a:gdLst/>
                <a:ahLst/>
                <a:rect l="l" t="t" r="r" b="b"/>
                <a:pathLst>
                  <a:path w="3746" h="3058">
                    <a:moveTo>
                      <a:pt x="2144" y="0"/>
                    </a:moveTo>
                    <a:lnTo>
                      <a:pt x="2312" y="245"/>
                    </a:lnTo>
                    <a:lnTo>
                      <a:pt x="2540" y="441"/>
                    </a:lnTo>
                    <a:lnTo>
                      <a:pt x="2771" y="572"/>
                    </a:lnTo>
                    <a:lnTo>
                      <a:pt x="3168" y="740"/>
                    </a:lnTo>
                    <a:lnTo>
                      <a:pt x="3384" y="756"/>
                    </a:lnTo>
                    <a:lnTo>
                      <a:pt x="3546" y="641"/>
                    </a:lnTo>
                    <a:lnTo>
                      <a:pt x="3746" y="722"/>
                    </a:lnTo>
                    <a:lnTo>
                      <a:pt x="3447" y="970"/>
                    </a:lnTo>
                    <a:lnTo>
                      <a:pt x="3217" y="1231"/>
                    </a:lnTo>
                    <a:lnTo>
                      <a:pt x="3133" y="1514"/>
                    </a:lnTo>
                    <a:lnTo>
                      <a:pt x="2852" y="1627"/>
                    </a:lnTo>
                    <a:lnTo>
                      <a:pt x="2476" y="1842"/>
                    </a:lnTo>
                    <a:lnTo>
                      <a:pt x="2327" y="1842"/>
                    </a:lnTo>
                    <a:lnTo>
                      <a:pt x="2342" y="1989"/>
                    </a:lnTo>
                    <a:lnTo>
                      <a:pt x="2540" y="2088"/>
                    </a:lnTo>
                    <a:lnTo>
                      <a:pt x="2591" y="2237"/>
                    </a:lnTo>
                    <a:lnTo>
                      <a:pt x="2507" y="2120"/>
                    </a:lnTo>
                    <a:lnTo>
                      <a:pt x="2377" y="2055"/>
                    </a:lnTo>
                    <a:lnTo>
                      <a:pt x="2211" y="2037"/>
                    </a:lnTo>
                    <a:lnTo>
                      <a:pt x="1914" y="2037"/>
                    </a:lnTo>
                    <a:lnTo>
                      <a:pt x="1566" y="2136"/>
                    </a:lnTo>
                    <a:lnTo>
                      <a:pt x="1123" y="2435"/>
                    </a:lnTo>
                    <a:lnTo>
                      <a:pt x="1123" y="2696"/>
                    </a:lnTo>
                    <a:lnTo>
                      <a:pt x="1092" y="2878"/>
                    </a:lnTo>
                    <a:lnTo>
                      <a:pt x="1173" y="3046"/>
                    </a:lnTo>
                    <a:lnTo>
                      <a:pt x="909" y="3046"/>
                    </a:lnTo>
                    <a:lnTo>
                      <a:pt x="578" y="2963"/>
                    </a:lnTo>
                    <a:lnTo>
                      <a:pt x="510" y="3058"/>
                    </a:lnTo>
                    <a:lnTo>
                      <a:pt x="544" y="2945"/>
                    </a:lnTo>
                    <a:lnTo>
                      <a:pt x="710" y="2716"/>
                    </a:lnTo>
                    <a:lnTo>
                      <a:pt x="957" y="2486"/>
                    </a:lnTo>
                    <a:lnTo>
                      <a:pt x="1189" y="2286"/>
                    </a:lnTo>
                    <a:lnTo>
                      <a:pt x="1566" y="2025"/>
                    </a:lnTo>
                    <a:lnTo>
                      <a:pt x="1929" y="1875"/>
                    </a:lnTo>
                    <a:lnTo>
                      <a:pt x="1798" y="1758"/>
                    </a:lnTo>
                    <a:lnTo>
                      <a:pt x="1566" y="1710"/>
                    </a:lnTo>
                    <a:lnTo>
                      <a:pt x="1353" y="1677"/>
                    </a:lnTo>
                    <a:lnTo>
                      <a:pt x="1204" y="1576"/>
                    </a:lnTo>
                    <a:lnTo>
                      <a:pt x="1024" y="1366"/>
                    </a:lnTo>
                    <a:lnTo>
                      <a:pt x="874" y="1217"/>
                    </a:lnTo>
                    <a:lnTo>
                      <a:pt x="678" y="1185"/>
                    </a:lnTo>
                    <a:lnTo>
                      <a:pt x="448" y="1201"/>
                    </a:lnTo>
                    <a:lnTo>
                      <a:pt x="265" y="1267"/>
                    </a:lnTo>
                    <a:lnTo>
                      <a:pt x="413" y="1166"/>
                    </a:lnTo>
                    <a:lnTo>
                      <a:pt x="662" y="1118"/>
                    </a:lnTo>
                    <a:lnTo>
                      <a:pt x="892" y="1134"/>
                    </a:lnTo>
                    <a:lnTo>
                      <a:pt x="1105" y="1249"/>
                    </a:lnTo>
                    <a:lnTo>
                      <a:pt x="1270" y="1396"/>
                    </a:lnTo>
                    <a:lnTo>
                      <a:pt x="1434" y="1447"/>
                    </a:lnTo>
                    <a:lnTo>
                      <a:pt x="1683" y="1480"/>
                    </a:lnTo>
                    <a:lnTo>
                      <a:pt x="1995" y="1480"/>
                    </a:lnTo>
                    <a:lnTo>
                      <a:pt x="1734" y="1267"/>
                    </a:lnTo>
                    <a:lnTo>
                      <a:pt x="1434" y="1134"/>
                    </a:lnTo>
                    <a:lnTo>
                      <a:pt x="1024" y="1001"/>
                    </a:lnTo>
                    <a:lnTo>
                      <a:pt x="644" y="952"/>
                    </a:lnTo>
                    <a:lnTo>
                      <a:pt x="314" y="986"/>
                    </a:lnTo>
                    <a:lnTo>
                      <a:pt x="0" y="1085"/>
                    </a:lnTo>
                    <a:lnTo>
                      <a:pt x="330" y="920"/>
                    </a:lnTo>
                    <a:lnTo>
                      <a:pt x="725" y="887"/>
                    </a:lnTo>
                    <a:lnTo>
                      <a:pt x="1139" y="920"/>
                    </a:lnTo>
                    <a:lnTo>
                      <a:pt x="1519" y="1019"/>
                    </a:lnTo>
                    <a:lnTo>
                      <a:pt x="1914" y="1166"/>
                    </a:lnTo>
                    <a:lnTo>
                      <a:pt x="2312" y="1366"/>
                    </a:lnTo>
                    <a:lnTo>
                      <a:pt x="2294" y="852"/>
                    </a:lnTo>
                    <a:lnTo>
                      <a:pt x="2225" y="441"/>
                    </a:lnTo>
                    <a:lnTo>
                      <a:pt x="2144" y="97"/>
                    </a:lnTo>
                    <a:lnTo>
                      <a:pt x="214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4572000" y="3356640"/>
                <a:ext cx="190080" cy="311400"/>
              </a:xfrm>
              <a:custGeom>
                <a:avLst/>
                <a:gdLst/>
                <a:ahLst/>
                <a:rect l="l" t="t" r="r" b="b"/>
                <a:pathLst>
                  <a:path w="1225" h="1881">
                    <a:moveTo>
                      <a:pt x="500" y="0"/>
                    </a:moveTo>
                    <a:lnTo>
                      <a:pt x="245" y="208"/>
                    </a:lnTo>
                    <a:lnTo>
                      <a:pt x="60" y="441"/>
                    </a:lnTo>
                    <a:lnTo>
                      <a:pt x="0" y="671"/>
                    </a:lnTo>
                    <a:lnTo>
                      <a:pt x="0" y="867"/>
                    </a:lnTo>
                    <a:lnTo>
                      <a:pt x="50" y="1063"/>
                    </a:lnTo>
                    <a:lnTo>
                      <a:pt x="111" y="1271"/>
                    </a:lnTo>
                    <a:lnTo>
                      <a:pt x="136" y="1392"/>
                    </a:lnTo>
                    <a:lnTo>
                      <a:pt x="159" y="1427"/>
                    </a:lnTo>
                    <a:lnTo>
                      <a:pt x="379" y="1478"/>
                    </a:lnTo>
                    <a:lnTo>
                      <a:pt x="588" y="1563"/>
                    </a:lnTo>
                    <a:lnTo>
                      <a:pt x="744" y="1697"/>
                    </a:lnTo>
                    <a:lnTo>
                      <a:pt x="1003" y="1881"/>
                    </a:lnTo>
                    <a:lnTo>
                      <a:pt x="992" y="1772"/>
                    </a:lnTo>
                    <a:lnTo>
                      <a:pt x="1038" y="1600"/>
                    </a:lnTo>
                    <a:lnTo>
                      <a:pt x="1137" y="1478"/>
                    </a:lnTo>
                    <a:lnTo>
                      <a:pt x="1225" y="1381"/>
                    </a:lnTo>
                    <a:lnTo>
                      <a:pt x="1148" y="1406"/>
                    </a:lnTo>
                    <a:lnTo>
                      <a:pt x="1148" y="1271"/>
                    </a:lnTo>
                    <a:lnTo>
                      <a:pt x="1199" y="1001"/>
                    </a:lnTo>
                    <a:lnTo>
                      <a:pt x="1089" y="942"/>
                    </a:lnTo>
                    <a:lnTo>
                      <a:pt x="588" y="1282"/>
                    </a:lnTo>
                    <a:lnTo>
                      <a:pt x="685" y="1014"/>
                    </a:lnTo>
                    <a:lnTo>
                      <a:pt x="821" y="843"/>
                    </a:lnTo>
                    <a:lnTo>
                      <a:pt x="660" y="915"/>
                    </a:lnTo>
                    <a:lnTo>
                      <a:pt x="463" y="1052"/>
                    </a:lnTo>
                    <a:lnTo>
                      <a:pt x="304" y="1150"/>
                    </a:lnTo>
                    <a:lnTo>
                      <a:pt x="342" y="1026"/>
                    </a:lnTo>
                    <a:lnTo>
                      <a:pt x="427" y="867"/>
                    </a:lnTo>
                    <a:lnTo>
                      <a:pt x="599" y="696"/>
                    </a:lnTo>
                    <a:lnTo>
                      <a:pt x="759" y="562"/>
                    </a:lnTo>
                    <a:lnTo>
                      <a:pt x="572" y="623"/>
                    </a:lnTo>
                    <a:lnTo>
                      <a:pt x="379" y="733"/>
                    </a:lnTo>
                    <a:lnTo>
                      <a:pt x="208" y="867"/>
                    </a:lnTo>
                    <a:lnTo>
                      <a:pt x="171" y="745"/>
                    </a:lnTo>
                    <a:lnTo>
                      <a:pt x="159" y="573"/>
                    </a:lnTo>
                    <a:lnTo>
                      <a:pt x="184" y="415"/>
                    </a:lnTo>
                    <a:lnTo>
                      <a:pt x="256" y="243"/>
                    </a:lnTo>
                    <a:lnTo>
                      <a:pt x="318" y="160"/>
                    </a:lnTo>
                    <a:lnTo>
                      <a:pt x="5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865040" y="3471480"/>
                <a:ext cx="341280" cy="286200"/>
              </a:xfrm>
              <a:custGeom>
                <a:avLst/>
                <a:gdLst/>
                <a:ahLst/>
                <a:rect l="l" t="t" r="r" b="b"/>
                <a:pathLst>
                  <a:path w="2203" h="1735">
                    <a:moveTo>
                      <a:pt x="0" y="1100"/>
                    </a:moveTo>
                    <a:lnTo>
                      <a:pt x="147" y="929"/>
                    </a:lnTo>
                    <a:lnTo>
                      <a:pt x="380" y="671"/>
                    </a:lnTo>
                    <a:lnTo>
                      <a:pt x="587" y="528"/>
                    </a:lnTo>
                    <a:lnTo>
                      <a:pt x="820" y="429"/>
                    </a:lnTo>
                    <a:lnTo>
                      <a:pt x="1113" y="356"/>
                    </a:lnTo>
                    <a:lnTo>
                      <a:pt x="673" y="528"/>
                    </a:lnTo>
                    <a:lnTo>
                      <a:pt x="525" y="637"/>
                    </a:lnTo>
                    <a:lnTo>
                      <a:pt x="491" y="782"/>
                    </a:lnTo>
                    <a:lnTo>
                      <a:pt x="491" y="918"/>
                    </a:lnTo>
                    <a:lnTo>
                      <a:pt x="525" y="1049"/>
                    </a:lnTo>
                    <a:lnTo>
                      <a:pt x="574" y="1138"/>
                    </a:lnTo>
                    <a:lnTo>
                      <a:pt x="979" y="1210"/>
                    </a:lnTo>
                    <a:lnTo>
                      <a:pt x="1173" y="1258"/>
                    </a:lnTo>
                    <a:lnTo>
                      <a:pt x="1139" y="1111"/>
                    </a:lnTo>
                    <a:lnTo>
                      <a:pt x="1139" y="940"/>
                    </a:lnTo>
                    <a:lnTo>
                      <a:pt x="1200" y="720"/>
                    </a:lnTo>
                    <a:lnTo>
                      <a:pt x="1602" y="415"/>
                    </a:lnTo>
                    <a:lnTo>
                      <a:pt x="1311" y="356"/>
                    </a:lnTo>
                    <a:lnTo>
                      <a:pt x="1664" y="356"/>
                    </a:lnTo>
                    <a:lnTo>
                      <a:pt x="1798" y="294"/>
                    </a:lnTo>
                    <a:lnTo>
                      <a:pt x="1934" y="246"/>
                    </a:lnTo>
                    <a:lnTo>
                      <a:pt x="1996" y="86"/>
                    </a:lnTo>
                    <a:lnTo>
                      <a:pt x="2203" y="0"/>
                    </a:lnTo>
                    <a:lnTo>
                      <a:pt x="2031" y="147"/>
                    </a:lnTo>
                    <a:lnTo>
                      <a:pt x="2017" y="281"/>
                    </a:lnTo>
                    <a:lnTo>
                      <a:pt x="1860" y="318"/>
                    </a:lnTo>
                    <a:lnTo>
                      <a:pt x="1747" y="477"/>
                    </a:lnTo>
                    <a:lnTo>
                      <a:pt x="1747" y="637"/>
                    </a:lnTo>
                    <a:lnTo>
                      <a:pt x="1651" y="747"/>
                    </a:lnTo>
                    <a:lnTo>
                      <a:pt x="1627" y="904"/>
                    </a:lnTo>
                    <a:lnTo>
                      <a:pt x="1664" y="1065"/>
                    </a:lnTo>
                    <a:lnTo>
                      <a:pt x="1602" y="1210"/>
                    </a:lnTo>
                    <a:lnTo>
                      <a:pt x="1602" y="1357"/>
                    </a:lnTo>
                    <a:lnTo>
                      <a:pt x="1712" y="1478"/>
                    </a:lnTo>
                    <a:lnTo>
                      <a:pt x="2130" y="1735"/>
                    </a:lnTo>
                    <a:lnTo>
                      <a:pt x="1908" y="1708"/>
                    </a:lnTo>
                    <a:lnTo>
                      <a:pt x="1482" y="1553"/>
                    </a:lnTo>
                    <a:lnTo>
                      <a:pt x="1090" y="1330"/>
                    </a:lnTo>
                    <a:lnTo>
                      <a:pt x="930" y="1258"/>
                    </a:lnTo>
                    <a:lnTo>
                      <a:pt x="785" y="1221"/>
                    </a:lnTo>
                    <a:lnTo>
                      <a:pt x="465" y="1221"/>
                    </a:lnTo>
                    <a:lnTo>
                      <a:pt x="320" y="1185"/>
                    </a:lnTo>
                    <a:lnTo>
                      <a:pt x="221" y="1138"/>
                    </a:lnTo>
                    <a:lnTo>
                      <a:pt x="133" y="1065"/>
                    </a:lnTo>
                    <a:lnTo>
                      <a:pt x="0" y="1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252400" y="3534840"/>
                <a:ext cx="183600" cy="210960"/>
              </a:xfrm>
              <a:custGeom>
                <a:avLst/>
                <a:gdLst/>
                <a:ahLst/>
                <a:rect l="l" t="t" r="r" b="b"/>
                <a:pathLst>
                  <a:path w="1190" h="1284">
                    <a:moveTo>
                      <a:pt x="0" y="0"/>
                    </a:moveTo>
                    <a:lnTo>
                      <a:pt x="590" y="307"/>
                    </a:lnTo>
                    <a:lnTo>
                      <a:pt x="994" y="843"/>
                    </a:lnTo>
                    <a:lnTo>
                      <a:pt x="1190" y="904"/>
                    </a:lnTo>
                    <a:lnTo>
                      <a:pt x="1077" y="991"/>
                    </a:lnTo>
                    <a:lnTo>
                      <a:pt x="1005" y="979"/>
                    </a:lnTo>
                    <a:lnTo>
                      <a:pt x="1040" y="1233"/>
                    </a:lnTo>
                    <a:lnTo>
                      <a:pt x="968" y="1284"/>
                    </a:lnTo>
                    <a:lnTo>
                      <a:pt x="1005" y="1210"/>
                    </a:lnTo>
                    <a:lnTo>
                      <a:pt x="943" y="942"/>
                    </a:lnTo>
                    <a:lnTo>
                      <a:pt x="541" y="369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212800" y="3590280"/>
                <a:ext cx="179640" cy="167400"/>
              </a:xfrm>
              <a:custGeom>
                <a:avLst/>
                <a:gdLst/>
                <a:ahLst/>
                <a:rect l="l" t="t" r="r" b="b"/>
                <a:pathLst>
                  <a:path w="1160" h="1015">
                    <a:moveTo>
                      <a:pt x="99" y="0"/>
                    </a:moveTo>
                    <a:lnTo>
                      <a:pt x="316" y="235"/>
                    </a:lnTo>
                    <a:lnTo>
                      <a:pt x="613" y="391"/>
                    </a:lnTo>
                    <a:lnTo>
                      <a:pt x="989" y="817"/>
                    </a:lnTo>
                    <a:lnTo>
                      <a:pt x="1160" y="916"/>
                    </a:lnTo>
                    <a:lnTo>
                      <a:pt x="978" y="868"/>
                    </a:lnTo>
                    <a:lnTo>
                      <a:pt x="720" y="916"/>
                    </a:lnTo>
                    <a:lnTo>
                      <a:pt x="525" y="916"/>
                    </a:lnTo>
                    <a:lnTo>
                      <a:pt x="342" y="999"/>
                    </a:lnTo>
                    <a:lnTo>
                      <a:pt x="233" y="1015"/>
                    </a:lnTo>
                    <a:lnTo>
                      <a:pt x="208" y="988"/>
                    </a:lnTo>
                    <a:lnTo>
                      <a:pt x="353" y="868"/>
                    </a:lnTo>
                    <a:lnTo>
                      <a:pt x="0" y="575"/>
                    </a:lnTo>
                    <a:lnTo>
                      <a:pt x="294" y="734"/>
                    </a:lnTo>
                    <a:lnTo>
                      <a:pt x="477" y="833"/>
                    </a:lnTo>
                    <a:lnTo>
                      <a:pt x="613" y="843"/>
                    </a:lnTo>
                    <a:lnTo>
                      <a:pt x="699" y="769"/>
                    </a:lnTo>
                    <a:lnTo>
                      <a:pt x="771" y="720"/>
                    </a:lnTo>
                    <a:lnTo>
                      <a:pt x="613" y="514"/>
                    </a:lnTo>
                    <a:lnTo>
                      <a:pt x="244" y="271"/>
                    </a:lnTo>
                    <a:lnTo>
                      <a:pt x="72" y="62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841280" y="3657600"/>
                <a:ext cx="135360" cy="29880"/>
              </a:xfrm>
              <a:custGeom>
                <a:avLst/>
                <a:gdLst/>
                <a:ahLst/>
                <a:rect l="l" t="t" r="r" b="b"/>
                <a:pathLst>
                  <a:path w="869" h="182">
                    <a:moveTo>
                      <a:pt x="134" y="0"/>
                    </a:moveTo>
                    <a:lnTo>
                      <a:pt x="268" y="85"/>
                    </a:lnTo>
                    <a:lnTo>
                      <a:pt x="415" y="133"/>
                    </a:lnTo>
                    <a:lnTo>
                      <a:pt x="586" y="133"/>
                    </a:lnTo>
                    <a:lnTo>
                      <a:pt x="733" y="74"/>
                    </a:lnTo>
                    <a:lnTo>
                      <a:pt x="869" y="85"/>
                    </a:lnTo>
                    <a:lnTo>
                      <a:pt x="671" y="170"/>
                    </a:lnTo>
                    <a:lnTo>
                      <a:pt x="487" y="182"/>
                    </a:lnTo>
                    <a:lnTo>
                      <a:pt x="293" y="147"/>
                    </a:lnTo>
                    <a:lnTo>
                      <a:pt x="0" y="13"/>
                    </a:lnTo>
                    <a:lnTo>
                      <a:pt x="1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410440" y="3681360"/>
                <a:ext cx="49320" cy="57960"/>
              </a:xfrm>
              <a:custGeom>
                <a:avLst/>
                <a:gdLst/>
                <a:ahLst/>
                <a:rect l="l" t="t" r="r" b="b"/>
                <a:pathLst>
                  <a:path w="318" h="353">
                    <a:moveTo>
                      <a:pt x="193" y="0"/>
                    </a:moveTo>
                    <a:lnTo>
                      <a:pt x="318" y="353"/>
                    </a:lnTo>
                    <a:lnTo>
                      <a:pt x="83" y="157"/>
                    </a:lnTo>
                    <a:lnTo>
                      <a:pt x="0" y="48"/>
                    </a:lnTo>
                    <a:lnTo>
                      <a:pt x="72" y="58"/>
                    </a:lnTo>
                    <a:lnTo>
                      <a:pt x="133" y="157"/>
                    </a:lnTo>
                    <a:lnTo>
                      <a:pt x="270" y="291"/>
                    </a:lnTo>
                    <a:lnTo>
                      <a:pt x="147" y="35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137200" y="3677400"/>
                <a:ext cx="1039320" cy="283680"/>
              </a:xfrm>
              <a:custGeom>
                <a:avLst/>
                <a:gdLst/>
                <a:ahLst/>
                <a:rect l="l" t="t" r="r" b="b"/>
                <a:pathLst>
                  <a:path w="6692" h="1720">
                    <a:moveTo>
                      <a:pt x="1985" y="202"/>
                    </a:moveTo>
                    <a:lnTo>
                      <a:pt x="3910" y="0"/>
                    </a:lnTo>
                    <a:lnTo>
                      <a:pt x="6692" y="1085"/>
                    </a:lnTo>
                    <a:lnTo>
                      <a:pt x="2319" y="1720"/>
                    </a:lnTo>
                    <a:lnTo>
                      <a:pt x="0" y="4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572000" y="3635280"/>
                <a:ext cx="1242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438880" y="3635280"/>
                <a:ext cx="7848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577560" y="3635280"/>
                <a:ext cx="35640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798880" y="2693880"/>
                <a:ext cx="81720" cy="86760"/>
              </a:xfrm>
              <a:custGeom>
                <a:avLst/>
                <a:gdLst/>
                <a:ahLst/>
                <a:rect l="l" t="t" r="r" b="b"/>
                <a:pathLst>
                  <a:path w="530" h="530">
                    <a:moveTo>
                      <a:pt x="152" y="530"/>
                    </a:moveTo>
                    <a:lnTo>
                      <a:pt x="442" y="366"/>
                    </a:lnTo>
                    <a:lnTo>
                      <a:pt x="530" y="265"/>
                    </a:lnTo>
                    <a:lnTo>
                      <a:pt x="341" y="0"/>
                    </a:lnTo>
                    <a:lnTo>
                      <a:pt x="214" y="65"/>
                    </a:lnTo>
                    <a:lnTo>
                      <a:pt x="251" y="265"/>
                    </a:lnTo>
                    <a:lnTo>
                      <a:pt x="200" y="315"/>
                    </a:lnTo>
                    <a:lnTo>
                      <a:pt x="0" y="328"/>
                    </a:lnTo>
                    <a:lnTo>
                      <a:pt x="0" y="517"/>
                    </a:lnTo>
                    <a:lnTo>
                      <a:pt x="152" y="5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0" name=""/>
            <p:cNvGrpSpPr/>
            <p:nvPr/>
          </p:nvGrpSpPr>
          <p:grpSpPr>
            <a:xfrm>
              <a:off x="6477120" y="152280"/>
              <a:ext cx="2514600" cy="2057400"/>
              <a:chOff x="6477120" y="152280"/>
              <a:chExt cx="2514600" cy="2057400"/>
            </a:xfrm>
          </p:grpSpPr>
          <p:sp>
            <p:nvSpPr>
              <p:cNvPr id="1121" name=""/>
              <p:cNvSpPr/>
              <p:nvPr/>
            </p:nvSpPr>
            <p:spPr>
              <a:xfrm>
                <a:off x="6477120" y="152280"/>
                <a:ext cx="2514600" cy="2057400"/>
              </a:xfrm>
              <a:prstGeom prst="cloudCallout">
                <a:avLst>
                  <a:gd name="adj1" fmla="val -64393"/>
                  <a:gd name="adj2" fmla="val 41050"/>
                </a:avLst>
              </a:prstGeom>
              <a:solidFill>
                <a:srgbClr val="c4d8d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2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0" y="609480"/>
                <a:ext cx="1600200" cy="96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4038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Perencanaan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05880" y="1981080"/>
            <a:ext cx="28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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66cc"/>
                </a:solidFill>
                <a:latin typeface="Times New Roman"/>
              </a:rPr>
              <a:t>…………</a:t>
            </a:r>
            <a:r>
              <a:rPr b="0" i="1" lang="en-US" sz="1600" spc="-1" strike="noStrike">
                <a:solidFill>
                  <a:srgbClr val="3366cc"/>
                </a:solidFill>
                <a:latin typeface="Times New Roman"/>
              </a:rPr>
              <a:t>is the future thin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05880" y="2286000"/>
            <a:ext cx="297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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66cc"/>
                </a:solidFill>
                <a:latin typeface="Times New Roman"/>
              </a:rPr>
              <a:t>………</a:t>
            </a:r>
            <a:r>
              <a:rPr b="0" i="1" lang="en-US" sz="1600" spc="-1" strike="noStrike">
                <a:solidFill>
                  <a:srgbClr val="3366cc"/>
                </a:solidFill>
                <a:latin typeface="Times New Roman"/>
              </a:rPr>
              <a:t>..is controlling the fu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04440" y="2590920"/>
            <a:ext cx="264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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3366cc"/>
                </a:solidFill>
                <a:latin typeface="Times New Roman"/>
              </a:rPr>
              <a:t>…………</a:t>
            </a:r>
            <a:r>
              <a:rPr b="0" i="1" lang="en-US" sz="1600" spc="-1" strike="noStrike">
                <a:solidFill>
                  <a:srgbClr val="3366cc"/>
                </a:solidFill>
                <a:latin typeface="Times New Roman"/>
              </a:rPr>
              <a:t>is decision 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05520" y="2895480"/>
            <a:ext cx="345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</a:t>
            </a:r>
            <a:r>
              <a:rPr b="0" i="1" lang="en-US" sz="1600" spc="-1" strike="noStrike">
                <a:solidFill>
                  <a:srgbClr val="3366cc"/>
                </a:solidFill>
                <a:latin typeface="Times New Roman"/>
              </a:rPr>
              <a:t> ………</a:t>
            </a:r>
            <a:r>
              <a:rPr b="0" i="1" lang="en-US" sz="1600" spc="-1" strike="noStrike">
                <a:solidFill>
                  <a:srgbClr val="3366cc"/>
                </a:solidFill>
                <a:latin typeface="Times New Roman"/>
              </a:rPr>
              <a:t>..is integrated decision 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09480" y="3186000"/>
            <a:ext cx="367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</a:t>
            </a:r>
            <a:r>
              <a:rPr b="0" i="1" lang="en-US" sz="1600" spc="-1" strike="noStrike">
                <a:solidFill>
                  <a:srgbClr val="3366cc"/>
                </a:solidFill>
                <a:latin typeface="Times New Roman"/>
              </a:rPr>
              <a:t> …………</a:t>
            </a:r>
            <a:r>
              <a:rPr b="0" i="1" lang="en-US" sz="1600" spc="-1" strike="noStrike">
                <a:solidFill>
                  <a:srgbClr val="3366cc"/>
                </a:solidFill>
                <a:latin typeface="Times New Roman"/>
              </a:rPr>
              <a:t>is a formalized procedure to produce an articulate results, in the form of an integrated system of deci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10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9" name=""/>
          <p:cNvGrpSpPr/>
          <p:nvPr/>
        </p:nvGrpSpPr>
        <p:grpSpPr>
          <a:xfrm>
            <a:off x="3200400" y="4191120"/>
            <a:ext cx="3018960" cy="2382840"/>
            <a:chOff x="3200400" y="4191120"/>
            <a:chExt cx="3018960" cy="2382840"/>
          </a:xfrm>
        </p:grpSpPr>
        <p:sp>
          <p:nvSpPr>
            <p:cNvPr id="1130" name=""/>
            <p:cNvSpPr/>
            <p:nvPr/>
          </p:nvSpPr>
          <p:spPr>
            <a:xfrm>
              <a:off x="3935160" y="6231240"/>
              <a:ext cx="1314000" cy="342720"/>
            </a:xfrm>
            <a:custGeom>
              <a:avLst/>
              <a:gdLst/>
              <a:ahLst/>
              <a:rect l="l" t="t" r="r" b="b"/>
              <a:pathLst>
                <a:path w="6619" h="1728">
                  <a:moveTo>
                    <a:pt x="6619" y="1083"/>
                  </a:moveTo>
                  <a:lnTo>
                    <a:pt x="2248" y="1728"/>
                  </a:lnTo>
                  <a:lnTo>
                    <a:pt x="0" y="463"/>
                  </a:lnTo>
                  <a:lnTo>
                    <a:pt x="3828" y="0"/>
                  </a:lnTo>
                  <a:lnTo>
                    <a:pt x="6619" y="10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282920" y="6239160"/>
              <a:ext cx="43920" cy="58680"/>
            </a:xfrm>
            <a:custGeom>
              <a:avLst/>
              <a:gdLst/>
              <a:ahLst/>
              <a:rect l="l" t="t" r="r" b="b"/>
              <a:pathLst>
                <a:path w="227" h="293">
                  <a:moveTo>
                    <a:pt x="108" y="0"/>
                  </a:moveTo>
                  <a:lnTo>
                    <a:pt x="227" y="293"/>
                  </a:lnTo>
                  <a:lnTo>
                    <a:pt x="53" y="133"/>
                  </a:lnTo>
                  <a:lnTo>
                    <a:pt x="0" y="65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217680" y="4924800"/>
              <a:ext cx="2549160" cy="1315800"/>
            </a:xfrm>
            <a:custGeom>
              <a:avLst/>
              <a:gdLst/>
              <a:ahLst/>
              <a:rect l="l" t="t" r="r" b="b"/>
              <a:pathLst>
                <a:path w="12853" h="6633">
                  <a:moveTo>
                    <a:pt x="929" y="6532"/>
                  </a:moveTo>
                  <a:lnTo>
                    <a:pt x="1058" y="6454"/>
                  </a:lnTo>
                  <a:lnTo>
                    <a:pt x="1136" y="6297"/>
                  </a:lnTo>
                  <a:lnTo>
                    <a:pt x="2353" y="5963"/>
                  </a:lnTo>
                  <a:lnTo>
                    <a:pt x="2688" y="5138"/>
                  </a:lnTo>
                  <a:lnTo>
                    <a:pt x="4214" y="4078"/>
                  </a:lnTo>
                  <a:lnTo>
                    <a:pt x="4809" y="5164"/>
                  </a:lnTo>
                  <a:lnTo>
                    <a:pt x="5535" y="6324"/>
                  </a:lnTo>
                  <a:lnTo>
                    <a:pt x="11248" y="6324"/>
                  </a:lnTo>
                  <a:lnTo>
                    <a:pt x="12233" y="6633"/>
                  </a:lnTo>
                  <a:lnTo>
                    <a:pt x="12543" y="6532"/>
                  </a:lnTo>
                  <a:lnTo>
                    <a:pt x="12853" y="5396"/>
                  </a:lnTo>
                  <a:lnTo>
                    <a:pt x="12648" y="4546"/>
                  </a:lnTo>
                  <a:lnTo>
                    <a:pt x="12233" y="3847"/>
                  </a:lnTo>
                  <a:lnTo>
                    <a:pt x="12106" y="3486"/>
                  </a:lnTo>
                  <a:lnTo>
                    <a:pt x="11845" y="2762"/>
                  </a:lnTo>
                  <a:lnTo>
                    <a:pt x="11820" y="2376"/>
                  </a:lnTo>
                  <a:lnTo>
                    <a:pt x="11820" y="1420"/>
                  </a:lnTo>
                  <a:lnTo>
                    <a:pt x="11767" y="1265"/>
                  </a:lnTo>
                  <a:lnTo>
                    <a:pt x="11510" y="1111"/>
                  </a:lnTo>
                  <a:lnTo>
                    <a:pt x="10939" y="904"/>
                  </a:lnTo>
                  <a:lnTo>
                    <a:pt x="10473" y="772"/>
                  </a:lnTo>
                  <a:lnTo>
                    <a:pt x="9673" y="438"/>
                  </a:lnTo>
                  <a:lnTo>
                    <a:pt x="9102" y="0"/>
                  </a:lnTo>
                  <a:lnTo>
                    <a:pt x="6907" y="26"/>
                  </a:lnTo>
                  <a:lnTo>
                    <a:pt x="6155" y="386"/>
                  </a:lnTo>
                  <a:lnTo>
                    <a:pt x="5689" y="465"/>
                  </a:lnTo>
                  <a:lnTo>
                    <a:pt x="5120" y="438"/>
                  </a:lnTo>
                  <a:lnTo>
                    <a:pt x="4836" y="412"/>
                  </a:lnTo>
                  <a:lnTo>
                    <a:pt x="4240" y="542"/>
                  </a:lnTo>
                  <a:lnTo>
                    <a:pt x="3903" y="1032"/>
                  </a:lnTo>
                  <a:lnTo>
                    <a:pt x="3827" y="1392"/>
                  </a:lnTo>
                  <a:lnTo>
                    <a:pt x="3569" y="1470"/>
                  </a:lnTo>
                  <a:lnTo>
                    <a:pt x="2559" y="2683"/>
                  </a:lnTo>
                  <a:lnTo>
                    <a:pt x="2353" y="2862"/>
                  </a:lnTo>
                  <a:lnTo>
                    <a:pt x="1990" y="3408"/>
                  </a:lnTo>
                  <a:lnTo>
                    <a:pt x="1085" y="4130"/>
                  </a:lnTo>
                  <a:lnTo>
                    <a:pt x="853" y="4365"/>
                  </a:lnTo>
                  <a:lnTo>
                    <a:pt x="569" y="4466"/>
                  </a:lnTo>
                  <a:lnTo>
                    <a:pt x="154" y="4852"/>
                  </a:lnTo>
                  <a:lnTo>
                    <a:pt x="0" y="5290"/>
                  </a:lnTo>
                  <a:lnTo>
                    <a:pt x="53" y="5728"/>
                  </a:lnTo>
                  <a:lnTo>
                    <a:pt x="540" y="6144"/>
                  </a:lnTo>
                  <a:lnTo>
                    <a:pt x="929" y="6532"/>
                  </a:lnTo>
                  <a:close/>
                </a:path>
              </a:pathLst>
            </a:custGeom>
            <a:solidFill>
              <a:srgbClr val="515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165640" y="5259600"/>
              <a:ext cx="155160" cy="308160"/>
            </a:xfrm>
            <a:custGeom>
              <a:avLst/>
              <a:gdLst/>
              <a:ahLst/>
              <a:rect l="l" t="t" r="r" b="b"/>
              <a:pathLst>
                <a:path w="782" h="1558">
                  <a:moveTo>
                    <a:pt x="723" y="0"/>
                  </a:moveTo>
                  <a:lnTo>
                    <a:pt x="775" y="102"/>
                  </a:lnTo>
                  <a:lnTo>
                    <a:pt x="782" y="287"/>
                  </a:lnTo>
                  <a:lnTo>
                    <a:pt x="750" y="533"/>
                  </a:lnTo>
                  <a:lnTo>
                    <a:pt x="697" y="674"/>
                  </a:lnTo>
                  <a:lnTo>
                    <a:pt x="628" y="871"/>
                  </a:lnTo>
                  <a:lnTo>
                    <a:pt x="543" y="1047"/>
                  </a:lnTo>
                  <a:lnTo>
                    <a:pt x="453" y="1205"/>
                  </a:lnTo>
                  <a:lnTo>
                    <a:pt x="136" y="1558"/>
                  </a:lnTo>
                  <a:lnTo>
                    <a:pt x="0" y="968"/>
                  </a:lnTo>
                  <a:lnTo>
                    <a:pt x="664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508200" y="5996160"/>
              <a:ext cx="334440" cy="223920"/>
            </a:xfrm>
            <a:custGeom>
              <a:avLst/>
              <a:gdLst/>
              <a:ahLst/>
              <a:rect l="l" t="t" r="r" b="b"/>
              <a:pathLst>
                <a:path w="1688" h="1124">
                  <a:moveTo>
                    <a:pt x="120" y="483"/>
                  </a:moveTo>
                  <a:lnTo>
                    <a:pt x="321" y="283"/>
                  </a:lnTo>
                  <a:lnTo>
                    <a:pt x="806" y="40"/>
                  </a:lnTo>
                  <a:lnTo>
                    <a:pt x="1127" y="0"/>
                  </a:lnTo>
                  <a:lnTo>
                    <a:pt x="1364" y="40"/>
                  </a:lnTo>
                  <a:lnTo>
                    <a:pt x="1571" y="161"/>
                  </a:lnTo>
                  <a:lnTo>
                    <a:pt x="1688" y="321"/>
                  </a:lnTo>
                  <a:lnTo>
                    <a:pt x="844" y="1124"/>
                  </a:lnTo>
                  <a:lnTo>
                    <a:pt x="362" y="1085"/>
                  </a:lnTo>
                  <a:lnTo>
                    <a:pt x="0" y="845"/>
                  </a:lnTo>
                  <a:lnTo>
                    <a:pt x="120" y="4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079600" y="5375520"/>
              <a:ext cx="174600" cy="198360"/>
            </a:xfrm>
            <a:custGeom>
              <a:avLst/>
              <a:gdLst/>
              <a:ahLst/>
              <a:rect l="l" t="t" r="r" b="b"/>
              <a:pathLst>
                <a:path w="884" h="1000">
                  <a:moveTo>
                    <a:pt x="683" y="279"/>
                  </a:moveTo>
                  <a:lnTo>
                    <a:pt x="884" y="599"/>
                  </a:lnTo>
                  <a:lnTo>
                    <a:pt x="561" y="1000"/>
                  </a:lnTo>
                  <a:lnTo>
                    <a:pt x="400" y="920"/>
                  </a:lnTo>
                  <a:lnTo>
                    <a:pt x="282" y="599"/>
                  </a:lnTo>
                  <a:lnTo>
                    <a:pt x="0" y="442"/>
                  </a:lnTo>
                  <a:lnTo>
                    <a:pt x="198" y="0"/>
                  </a:lnTo>
                  <a:lnTo>
                    <a:pt x="683" y="27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476520" y="6059880"/>
              <a:ext cx="231120" cy="183960"/>
            </a:xfrm>
            <a:custGeom>
              <a:avLst/>
              <a:gdLst/>
              <a:ahLst/>
              <a:rect l="l" t="t" r="r" b="b"/>
              <a:pathLst>
                <a:path w="1167" h="925">
                  <a:moveTo>
                    <a:pt x="482" y="0"/>
                  </a:moveTo>
                  <a:lnTo>
                    <a:pt x="1167" y="162"/>
                  </a:lnTo>
                  <a:lnTo>
                    <a:pt x="1005" y="885"/>
                  </a:lnTo>
                  <a:lnTo>
                    <a:pt x="765" y="925"/>
                  </a:lnTo>
                  <a:lnTo>
                    <a:pt x="482" y="844"/>
                  </a:lnTo>
                  <a:lnTo>
                    <a:pt x="323" y="722"/>
                  </a:lnTo>
                  <a:lnTo>
                    <a:pt x="0" y="563"/>
                  </a:lnTo>
                  <a:lnTo>
                    <a:pt x="281" y="123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557600" y="4918320"/>
              <a:ext cx="421920" cy="954000"/>
            </a:xfrm>
            <a:custGeom>
              <a:avLst/>
              <a:gdLst/>
              <a:ahLst/>
              <a:rect l="l" t="t" r="r" b="b"/>
              <a:pathLst>
                <a:path w="2123" h="4812">
                  <a:moveTo>
                    <a:pt x="265" y="0"/>
                  </a:moveTo>
                  <a:lnTo>
                    <a:pt x="101" y="77"/>
                  </a:lnTo>
                  <a:lnTo>
                    <a:pt x="0" y="391"/>
                  </a:lnTo>
                  <a:lnTo>
                    <a:pt x="16" y="808"/>
                  </a:lnTo>
                  <a:lnTo>
                    <a:pt x="127" y="1414"/>
                  </a:lnTo>
                  <a:lnTo>
                    <a:pt x="279" y="2484"/>
                  </a:lnTo>
                  <a:lnTo>
                    <a:pt x="364" y="3253"/>
                  </a:lnTo>
                  <a:lnTo>
                    <a:pt x="431" y="4059"/>
                  </a:lnTo>
                  <a:lnTo>
                    <a:pt x="556" y="4812"/>
                  </a:lnTo>
                  <a:lnTo>
                    <a:pt x="960" y="4271"/>
                  </a:lnTo>
                  <a:lnTo>
                    <a:pt x="1476" y="3644"/>
                  </a:lnTo>
                  <a:lnTo>
                    <a:pt x="1679" y="3176"/>
                  </a:lnTo>
                  <a:lnTo>
                    <a:pt x="2123" y="1564"/>
                  </a:lnTo>
                  <a:lnTo>
                    <a:pt x="1630" y="833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646520" y="5154840"/>
              <a:ext cx="212400" cy="698400"/>
            </a:xfrm>
            <a:custGeom>
              <a:avLst/>
              <a:gdLst/>
              <a:ahLst/>
              <a:rect l="l" t="t" r="r" b="b"/>
              <a:pathLst>
                <a:path w="1074" h="3516">
                  <a:moveTo>
                    <a:pt x="645" y="13"/>
                  </a:moveTo>
                  <a:lnTo>
                    <a:pt x="355" y="266"/>
                  </a:lnTo>
                  <a:lnTo>
                    <a:pt x="392" y="431"/>
                  </a:lnTo>
                  <a:lnTo>
                    <a:pt x="629" y="832"/>
                  </a:lnTo>
                  <a:lnTo>
                    <a:pt x="645" y="982"/>
                  </a:lnTo>
                  <a:lnTo>
                    <a:pt x="579" y="1274"/>
                  </a:lnTo>
                  <a:lnTo>
                    <a:pt x="417" y="1830"/>
                  </a:lnTo>
                  <a:lnTo>
                    <a:pt x="0" y="3178"/>
                  </a:lnTo>
                  <a:lnTo>
                    <a:pt x="366" y="3516"/>
                  </a:lnTo>
                  <a:lnTo>
                    <a:pt x="405" y="3505"/>
                  </a:lnTo>
                  <a:lnTo>
                    <a:pt x="645" y="3215"/>
                  </a:lnTo>
                  <a:lnTo>
                    <a:pt x="795" y="2963"/>
                  </a:lnTo>
                  <a:lnTo>
                    <a:pt x="1049" y="2420"/>
                  </a:lnTo>
                  <a:lnTo>
                    <a:pt x="1074" y="2117"/>
                  </a:lnTo>
                  <a:lnTo>
                    <a:pt x="1060" y="1816"/>
                  </a:lnTo>
                  <a:lnTo>
                    <a:pt x="1033" y="1311"/>
                  </a:lnTo>
                  <a:lnTo>
                    <a:pt x="984" y="1021"/>
                  </a:lnTo>
                  <a:lnTo>
                    <a:pt x="908" y="858"/>
                  </a:lnTo>
                  <a:lnTo>
                    <a:pt x="933" y="542"/>
                  </a:lnTo>
                  <a:lnTo>
                    <a:pt x="1023" y="252"/>
                  </a:lnTo>
                  <a:lnTo>
                    <a:pt x="959" y="127"/>
                  </a:lnTo>
                  <a:lnTo>
                    <a:pt x="783" y="0"/>
                  </a:lnTo>
                  <a:lnTo>
                    <a:pt x="645" y="1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833720" y="5127840"/>
              <a:ext cx="140760" cy="466560"/>
            </a:xfrm>
            <a:custGeom>
              <a:avLst/>
              <a:gdLst/>
              <a:ahLst/>
              <a:rect l="l" t="t" r="r" b="b"/>
              <a:pathLst>
                <a:path w="707" h="2355">
                  <a:moveTo>
                    <a:pt x="50" y="279"/>
                  </a:moveTo>
                  <a:lnTo>
                    <a:pt x="288" y="0"/>
                  </a:lnTo>
                  <a:lnTo>
                    <a:pt x="707" y="505"/>
                  </a:lnTo>
                  <a:lnTo>
                    <a:pt x="453" y="1689"/>
                  </a:lnTo>
                  <a:lnTo>
                    <a:pt x="225" y="2355"/>
                  </a:lnTo>
                  <a:lnTo>
                    <a:pt x="365" y="1601"/>
                  </a:lnTo>
                  <a:lnTo>
                    <a:pt x="378" y="1247"/>
                  </a:lnTo>
                  <a:lnTo>
                    <a:pt x="264" y="1021"/>
                  </a:lnTo>
                  <a:lnTo>
                    <a:pt x="0" y="720"/>
                  </a:lnTo>
                  <a:lnTo>
                    <a:pt x="75" y="454"/>
                  </a:lnTo>
                  <a:lnTo>
                    <a:pt x="50" y="27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557600" y="4923000"/>
              <a:ext cx="220320" cy="830160"/>
            </a:xfrm>
            <a:custGeom>
              <a:avLst/>
              <a:gdLst/>
              <a:ahLst/>
              <a:rect l="l" t="t" r="r" b="b"/>
              <a:pathLst>
                <a:path w="1112" h="4184">
                  <a:moveTo>
                    <a:pt x="152" y="0"/>
                  </a:moveTo>
                  <a:lnTo>
                    <a:pt x="127" y="364"/>
                  </a:lnTo>
                  <a:lnTo>
                    <a:pt x="279" y="818"/>
                  </a:lnTo>
                  <a:lnTo>
                    <a:pt x="848" y="1297"/>
                  </a:lnTo>
                  <a:lnTo>
                    <a:pt x="773" y="1511"/>
                  </a:lnTo>
                  <a:lnTo>
                    <a:pt x="1022" y="1827"/>
                  </a:lnTo>
                  <a:lnTo>
                    <a:pt x="1112" y="2079"/>
                  </a:lnTo>
                  <a:lnTo>
                    <a:pt x="1010" y="2544"/>
                  </a:lnTo>
                  <a:lnTo>
                    <a:pt x="644" y="3691"/>
                  </a:lnTo>
                  <a:lnTo>
                    <a:pt x="454" y="4184"/>
                  </a:lnTo>
                  <a:lnTo>
                    <a:pt x="394" y="3691"/>
                  </a:lnTo>
                  <a:lnTo>
                    <a:pt x="809" y="2558"/>
                  </a:lnTo>
                  <a:lnTo>
                    <a:pt x="897" y="2191"/>
                  </a:lnTo>
                  <a:lnTo>
                    <a:pt x="860" y="1938"/>
                  </a:lnTo>
                  <a:lnTo>
                    <a:pt x="745" y="1776"/>
                  </a:lnTo>
                  <a:lnTo>
                    <a:pt x="593" y="1979"/>
                  </a:lnTo>
                  <a:lnTo>
                    <a:pt x="505" y="2228"/>
                  </a:lnTo>
                  <a:lnTo>
                    <a:pt x="420" y="2117"/>
                  </a:lnTo>
                  <a:lnTo>
                    <a:pt x="353" y="2279"/>
                  </a:lnTo>
                  <a:lnTo>
                    <a:pt x="303" y="2885"/>
                  </a:lnTo>
                  <a:lnTo>
                    <a:pt x="265" y="2318"/>
                  </a:lnTo>
                  <a:lnTo>
                    <a:pt x="205" y="1912"/>
                  </a:lnTo>
                  <a:lnTo>
                    <a:pt x="90" y="1233"/>
                  </a:lnTo>
                  <a:lnTo>
                    <a:pt x="26" y="843"/>
                  </a:lnTo>
                  <a:lnTo>
                    <a:pt x="0" y="514"/>
                  </a:lnTo>
                  <a:lnTo>
                    <a:pt x="16" y="302"/>
                  </a:lnTo>
                  <a:lnTo>
                    <a:pt x="90" y="138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652560" y="5973840"/>
              <a:ext cx="657000" cy="355680"/>
            </a:xfrm>
            <a:custGeom>
              <a:avLst/>
              <a:gdLst/>
              <a:ahLst/>
              <a:rect l="l" t="t" r="r" b="b"/>
              <a:pathLst>
                <a:path w="3310" h="1788">
                  <a:moveTo>
                    <a:pt x="165" y="1245"/>
                  </a:moveTo>
                  <a:lnTo>
                    <a:pt x="0" y="1089"/>
                  </a:lnTo>
                  <a:lnTo>
                    <a:pt x="55" y="709"/>
                  </a:lnTo>
                  <a:lnTo>
                    <a:pt x="182" y="590"/>
                  </a:lnTo>
                  <a:lnTo>
                    <a:pt x="431" y="498"/>
                  </a:lnTo>
                  <a:lnTo>
                    <a:pt x="728" y="408"/>
                  </a:lnTo>
                  <a:lnTo>
                    <a:pt x="929" y="408"/>
                  </a:lnTo>
                  <a:lnTo>
                    <a:pt x="1344" y="419"/>
                  </a:lnTo>
                  <a:lnTo>
                    <a:pt x="1473" y="327"/>
                  </a:lnTo>
                  <a:lnTo>
                    <a:pt x="1563" y="309"/>
                  </a:lnTo>
                  <a:lnTo>
                    <a:pt x="1635" y="118"/>
                  </a:lnTo>
                  <a:lnTo>
                    <a:pt x="1916" y="0"/>
                  </a:lnTo>
                  <a:lnTo>
                    <a:pt x="2745" y="228"/>
                  </a:lnTo>
                  <a:lnTo>
                    <a:pt x="3299" y="1016"/>
                  </a:lnTo>
                  <a:lnTo>
                    <a:pt x="3310" y="1332"/>
                  </a:lnTo>
                  <a:lnTo>
                    <a:pt x="3188" y="1368"/>
                  </a:lnTo>
                  <a:lnTo>
                    <a:pt x="3061" y="1352"/>
                  </a:lnTo>
                  <a:lnTo>
                    <a:pt x="3135" y="1643"/>
                  </a:lnTo>
                  <a:lnTo>
                    <a:pt x="3061" y="1714"/>
                  </a:lnTo>
                  <a:lnTo>
                    <a:pt x="2817" y="1622"/>
                  </a:lnTo>
                  <a:lnTo>
                    <a:pt x="2397" y="1668"/>
                  </a:lnTo>
                  <a:lnTo>
                    <a:pt x="2263" y="1659"/>
                  </a:lnTo>
                  <a:lnTo>
                    <a:pt x="2081" y="1788"/>
                  </a:lnTo>
                  <a:lnTo>
                    <a:pt x="1745" y="1788"/>
                  </a:lnTo>
                  <a:lnTo>
                    <a:pt x="1452" y="1677"/>
                  </a:lnTo>
                  <a:lnTo>
                    <a:pt x="710" y="1324"/>
                  </a:lnTo>
                  <a:lnTo>
                    <a:pt x="431" y="1245"/>
                  </a:lnTo>
                  <a:lnTo>
                    <a:pt x="272" y="1253"/>
                  </a:lnTo>
                  <a:lnTo>
                    <a:pt x="165" y="1245"/>
                  </a:lnTo>
                  <a:close/>
                </a:path>
              </a:pathLst>
            </a:custGeom>
            <a:solidFill>
              <a:srgbClr val="ffc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466880" y="4289760"/>
              <a:ext cx="830160" cy="1163520"/>
            </a:xfrm>
            <a:custGeom>
              <a:avLst/>
              <a:gdLst/>
              <a:ahLst/>
              <a:rect l="l" t="t" r="r" b="b"/>
              <a:pathLst>
                <a:path w="4184" h="5866">
                  <a:moveTo>
                    <a:pt x="107" y="1993"/>
                  </a:moveTo>
                  <a:lnTo>
                    <a:pt x="42" y="2104"/>
                  </a:lnTo>
                  <a:lnTo>
                    <a:pt x="0" y="2255"/>
                  </a:lnTo>
                  <a:lnTo>
                    <a:pt x="0" y="2352"/>
                  </a:lnTo>
                  <a:lnTo>
                    <a:pt x="12" y="2516"/>
                  </a:lnTo>
                  <a:lnTo>
                    <a:pt x="123" y="2698"/>
                  </a:lnTo>
                  <a:lnTo>
                    <a:pt x="235" y="2782"/>
                  </a:lnTo>
                  <a:lnTo>
                    <a:pt x="316" y="2809"/>
                  </a:lnTo>
                  <a:lnTo>
                    <a:pt x="480" y="2975"/>
                  </a:lnTo>
                  <a:lnTo>
                    <a:pt x="609" y="2988"/>
                  </a:lnTo>
                  <a:lnTo>
                    <a:pt x="690" y="2975"/>
                  </a:lnTo>
                  <a:lnTo>
                    <a:pt x="982" y="3597"/>
                  </a:lnTo>
                  <a:lnTo>
                    <a:pt x="1522" y="4122"/>
                  </a:lnTo>
                  <a:lnTo>
                    <a:pt x="1784" y="4152"/>
                  </a:lnTo>
                  <a:lnTo>
                    <a:pt x="1784" y="4053"/>
                  </a:lnTo>
                  <a:lnTo>
                    <a:pt x="1702" y="3915"/>
                  </a:lnTo>
                  <a:lnTo>
                    <a:pt x="1854" y="3804"/>
                  </a:lnTo>
                  <a:lnTo>
                    <a:pt x="2010" y="3944"/>
                  </a:lnTo>
                  <a:lnTo>
                    <a:pt x="2204" y="4288"/>
                  </a:lnTo>
                  <a:lnTo>
                    <a:pt x="2384" y="4539"/>
                  </a:lnTo>
                  <a:lnTo>
                    <a:pt x="2577" y="4703"/>
                  </a:lnTo>
                  <a:lnTo>
                    <a:pt x="2771" y="4813"/>
                  </a:lnTo>
                  <a:lnTo>
                    <a:pt x="2964" y="4912"/>
                  </a:lnTo>
                  <a:lnTo>
                    <a:pt x="3105" y="5103"/>
                  </a:lnTo>
                  <a:lnTo>
                    <a:pt x="3298" y="5424"/>
                  </a:lnTo>
                  <a:lnTo>
                    <a:pt x="3465" y="5866"/>
                  </a:lnTo>
                  <a:lnTo>
                    <a:pt x="3768" y="5742"/>
                  </a:lnTo>
                  <a:lnTo>
                    <a:pt x="3977" y="5492"/>
                  </a:lnTo>
                  <a:lnTo>
                    <a:pt x="4141" y="5218"/>
                  </a:lnTo>
                  <a:lnTo>
                    <a:pt x="4184" y="5103"/>
                  </a:lnTo>
                  <a:lnTo>
                    <a:pt x="3781" y="4429"/>
                  </a:lnTo>
                  <a:lnTo>
                    <a:pt x="3145" y="3375"/>
                  </a:lnTo>
                  <a:lnTo>
                    <a:pt x="3241" y="2975"/>
                  </a:lnTo>
                  <a:lnTo>
                    <a:pt x="3298" y="2477"/>
                  </a:lnTo>
                  <a:lnTo>
                    <a:pt x="3272" y="1979"/>
                  </a:lnTo>
                  <a:lnTo>
                    <a:pt x="3226" y="1495"/>
                  </a:lnTo>
                  <a:lnTo>
                    <a:pt x="3131" y="984"/>
                  </a:lnTo>
                  <a:lnTo>
                    <a:pt x="2757" y="208"/>
                  </a:lnTo>
                  <a:lnTo>
                    <a:pt x="2342" y="0"/>
                  </a:lnTo>
                  <a:lnTo>
                    <a:pt x="760" y="235"/>
                  </a:lnTo>
                  <a:lnTo>
                    <a:pt x="360" y="678"/>
                  </a:lnTo>
                  <a:lnTo>
                    <a:pt x="107" y="1993"/>
                  </a:lnTo>
                  <a:close/>
                </a:path>
              </a:pathLst>
            </a:custGeom>
            <a:solidFill>
              <a:srgbClr val="ffc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993920" y="4578480"/>
              <a:ext cx="74520" cy="38160"/>
            </a:xfrm>
            <a:custGeom>
              <a:avLst/>
              <a:gdLst/>
              <a:ahLst/>
              <a:rect l="l" t="t" r="r" b="b"/>
              <a:pathLst>
                <a:path w="374" h="193">
                  <a:moveTo>
                    <a:pt x="0" y="193"/>
                  </a:moveTo>
                  <a:lnTo>
                    <a:pt x="125" y="164"/>
                  </a:lnTo>
                  <a:lnTo>
                    <a:pt x="374" y="150"/>
                  </a:lnTo>
                  <a:lnTo>
                    <a:pt x="361" y="55"/>
                  </a:lnTo>
                  <a:lnTo>
                    <a:pt x="321" y="0"/>
                  </a:lnTo>
                  <a:lnTo>
                    <a:pt x="168" y="12"/>
                  </a:lnTo>
                  <a:lnTo>
                    <a:pt x="58" y="67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746240" y="4608720"/>
              <a:ext cx="101520" cy="49320"/>
            </a:xfrm>
            <a:custGeom>
              <a:avLst/>
              <a:gdLst/>
              <a:ahLst/>
              <a:rect l="l" t="t" r="r" b="b"/>
              <a:pathLst>
                <a:path w="514" h="249">
                  <a:moveTo>
                    <a:pt x="14" y="249"/>
                  </a:moveTo>
                  <a:lnTo>
                    <a:pt x="180" y="249"/>
                  </a:lnTo>
                  <a:lnTo>
                    <a:pt x="514" y="111"/>
                  </a:lnTo>
                  <a:lnTo>
                    <a:pt x="500" y="43"/>
                  </a:lnTo>
                  <a:lnTo>
                    <a:pt x="346" y="0"/>
                  </a:lnTo>
                  <a:lnTo>
                    <a:pt x="210" y="58"/>
                  </a:lnTo>
                  <a:lnTo>
                    <a:pt x="56" y="140"/>
                  </a:lnTo>
                  <a:lnTo>
                    <a:pt x="0" y="194"/>
                  </a:lnTo>
                  <a:lnTo>
                    <a:pt x="14" y="2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140080" y="5239080"/>
              <a:ext cx="129960" cy="123840"/>
            </a:xfrm>
            <a:custGeom>
              <a:avLst/>
              <a:gdLst/>
              <a:ahLst/>
              <a:rect l="l" t="t" r="r" b="b"/>
              <a:pathLst>
                <a:path w="654" h="621">
                  <a:moveTo>
                    <a:pt x="0" y="415"/>
                  </a:moveTo>
                  <a:lnTo>
                    <a:pt x="140" y="334"/>
                  </a:lnTo>
                  <a:lnTo>
                    <a:pt x="275" y="226"/>
                  </a:lnTo>
                  <a:lnTo>
                    <a:pt x="334" y="173"/>
                  </a:lnTo>
                  <a:lnTo>
                    <a:pt x="389" y="127"/>
                  </a:lnTo>
                  <a:lnTo>
                    <a:pt x="391" y="63"/>
                  </a:lnTo>
                  <a:lnTo>
                    <a:pt x="474" y="0"/>
                  </a:lnTo>
                  <a:lnTo>
                    <a:pt x="654" y="318"/>
                  </a:lnTo>
                  <a:lnTo>
                    <a:pt x="556" y="376"/>
                  </a:lnTo>
                  <a:lnTo>
                    <a:pt x="407" y="479"/>
                  </a:lnTo>
                  <a:lnTo>
                    <a:pt x="132" y="621"/>
                  </a:lnTo>
                  <a:lnTo>
                    <a:pt x="0" y="415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27560" y="5205600"/>
              <a:ext cx="77400" cy="101520"/>
            </a:xfrm>
            <a:custGeom>
              <a:avLst/>
              <a:gdLst/>
              <a:ahLst/>
              <a:rect l="l" t="t" r="r" b="b"/>
              <a:pathLst>
                <a:path w="385" h="507">
                  <a:moveTo>
                    <a:pt x="60" y="0"/>
                  </a:moveTo>
                  <a:lnTo>
                    <a:pt x="16" y="50"/>
                  </a:lnTo>
                  <a:lnTo>
                    <a:pt x="0" y="119"/>
                  </a:lnTo>
                  <a:lnTo>
                    <a:pt x="12" y="202"/>
                  </a:lnTo>
                  <a:lnTo>
                    <a:pt x="44" y="312"/>
                  </a:lnTo>
                  <a:lnTo>
                    <a:pt x="155" y="444"/>
                  </a:lnTo>
                  <a:lnTo>
                    <a:pt x="256" y="507"/>
                  </a:lnTo>
                  <a:lnTo>
                    <a:pt x="310" y="503"/>
                  </a:lnTo>
                  <a:lnTo>
                    <a:pt x="367" y="474"/>
                  </a:lnTo>
                  <a:lnTo>
                    <a:pt x="385" y="442"/>
                  </a:lnTo>
                  <a:lnTo>
                    <a:pt x="385" y="305"/>
                  </a:lnTo>
                  <a:lnTo>
                    <a:pt x="344" y="167"/>
                  </a:lnTo>
                  <a:lnTo>
                    <a:pt x="245" y="50"/>
                  </a:lnTo>
                  <a:lnTo>
                    <a:pt x="167" y="6"/>
                  </a:lnTo>
                  <a:lnTo>
                    <a:pt x="108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160600" y="5288040"/>
              <a:ext cx="61560" cy="65160"/>
            </a:xfrm>
            <a:custGeom>
              <a:avLst/>
              <a:gdLst/>
              <a:ahLst/>
              <a:rect l="l" t="t" r="r" b="b"/>
              <a:pathLst>
                <a:path w="317" h="327">
                  <a:moveTo>
                    <a:pt x="174" y="0"/>
                  </a:moveTo>
                  <a:lnTo>
                    <a:pt x="317" y="208"/>
                  </a:lnTo>
                  <a:lnTo>
                    <a:pt x="123" y="327"/>
                  </a:lnTo>
                  <a:lnTo>
                    <a:pt x="0" y="125"/>
                  </a:lnTo>
                  <a:lnTo>
                    <a:pt x="103" y="49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441680" y="4191120"/>
              <a:ext cx="666360" cy="698760"/>
            </a:xfrm>
            <a:custGeom>
              <a:avLst/>
              <a:gdLst/>
              <a:ahLst/>
              <a:rect l="l" t="t" r="r" b="b"/>
              <a:pathLst>
                <a:path w="3366" h="3521">
                  <a:moveTo>
                    <a:pt x="770" y="2719"/>
                  </a:moveTo>
                  <a:lnTo>
                    <a:pt x="733" y="2599"/>
                  </a:lnTo>
                  <a:lnTo>
                    <a:pt x="733" y="2221"/>
                  </a:lnTo>
                  <a:lnTo>
                    <a:pt x="880" y="1867"/>
                  </a:lnTo>
                  <a:lnTo>
                    <a:pt x="795" y="1452"/>
                  </a:lnTo>
                  <a:lnTo>
                    <a:pt x="759" y="1050"/>
                  </a:lnTo>
                  <a:lnTo>
                    <a:pt x="1067" y="873"/>
                  </a:lnTo>
                  <a:lnTo>
                    <a:pt x="1399" y="754"/>
                  </a:lnTo>
                  <a:lnTo>
                    <a:pt x="1752" y="684"/>
                  </a:lnTo>
                  <a:lnTo>
                    <a:pt x="2157" y="673"/>
                  </a:lnTo>
                  <a:lnTo>
                    <a:pt x="2618" y="708"/>
                  </a:lnTo>
                  <a:lnTo>
                    <a:pt x="2858" y="778"/>
                  </a:lnTo>
                  <a:lnTo>
                    <a:pt x="2985" y="931"/>
                  </a:lnTo>
                  <a:lnTo>
                    <a:pt x="3130" y="1311"/>
                  </a:lnTo>
                  <a:lnTo>
                    <a:pt x="3211" y="1463"/>
                  </a:lnTo>
                  <a:lnTo>
                    <a:pt x="3071" y="1560"/>
                  </a:lnTo>
                  <a:lnTo>
                    <a:pt x="2939" y="1714"/>
                  </a:lnTo>
                  <a:lnTo>
                    <a:pt x="2928" y="1762"/>
                  </a:lnTo>
                  <a:lnTo>
                    <a:pt x="3152" y="1641"/>
                  </a:lnTo>
                  <a:lnTo>
                    <a:pt x="3260" y="1619"/>
                  </a:lnTo>
                  <a:lnTo>
                    <a:pt x="3285" y="1749"/>
                  </a:lnTo>
                  <a:lnTo>
                    <a:pt x="3285" y="1821"/>
                  </a:lnTo>
                  <a:lnTo>
                    <a:pt x="3211" y="1984"/>
                  </a:lnTo>
                  <a:lnTo>
                    <a:pt x="3236" y="2021"/>
                  </a:lnTo>
                  <a:lnTo>
                    <a:pt x="3343" y="1913"/>
                  </a:lnTo>
                  <a:lnTo>
                    <a:pt x="3366" y="2067"/>
                  </a:lnTo>
                  <a:lnTo>
                    <a:pt x="3366" y="1808"/>
                  </a:lnTo>
                  <a:lnTo>
                    <a:pt x="3343" y="1665"/>
                  </a:lnTo>
                  <a:lnTo>
                    <a:pt x="3333" y="1393"/>
                  </a:lnTo>
                  <a:lnTo>
                    <a:pt x="3260" y="1088"/>
                  </a:lnTo>
                  <a:lnTo>
                    <a:pt x="3103" y="719"/>
                  </a:lnTo>
                  <a:lnTo>
                    <a:pt x="2893" y="435"/>
                  </a:lnTo>
                  <a:lnTo>
                    <a:pt x="2596" y="212"/>
                  </a:lnTo>
                  <a:lnTo>
                    <a:pt x="2312" y="81"/>
                  </a:lnTo>
                  <a:lnTo>
                    <a:pt x="2040" y="0"/>
                  </a:lnTo>
                  <a:lnTo>
                    <a:pt x="1577" y="0"/>
                  </a:lnTo>
                  <a:lnTo>
                    <a:pt x="1162" y="104"/>
                  </a:lnTo>
                  <a:lnTo>
                    <a:pt x="700" y="306"/>
                  </a:lnTo>
                  <a:lnTo>
                    <a:pt x="392" y="519"/>
                  </a:lnTo>
                  <a:lnTo>
                    <a:pt x="166" y="850"/>
                  </a:lnTo>
                  <a:lnTo>
                    <a:pt x="36" y="1168"/>
                  </a:lnTo>
                  <a:lnTo>
                    <a:pt x="0" y="1489"/>
                  </a:lnTo>
                  <a:lnTo>
                    <a:pt x="25" y="1903"/>
                  </a:lnTo>
                  <a:lnTo>
                    <a:pt x="106" y="2280"/>
                  </a:lnTo>
                  <a:lnTo>
                    <a:pt x="166" y="2479"/>
                  </a:lnTo>
                  <a:lnTo>
                    <a:pt x="177" y="2539"/>
                  </a:lnTo>
                  <a:lnTo>
                    <a:pt x="133" y="2636"/>
                  </a:lnTo>
                  <a:lnTo>
                    <a:pt x="95" y="2801"/>
                  </a:lnTo>
                  <a:lnTo>
                    <a:pt x="133" y="3000"/>
                  </a:lnTo>
                  <a:lnTo>
                    <a:pt x="225" y="3191"/>
                  </a:lnTo>
                  <a:lnTo>
                    <a:pt x="320" y="3274"/>
                  </a:lnTo>
                  <a:lnTo>
                    <a:pt x="427" y="3310"/>
                  </a:lnTo>
                  <a:lnTo>
                    <a:pt x="521" y="3405"/>
                  </a:lnTo>
                  <a:lnTo>
                    <a:pt x="581" y="3474"/>
                  </a:lnTo>
                  <a:lnTo>
                    <a:pt x="652" y="3521"/>
                  </a:lnTo>
                  <a:lnTo>
                    <a:pt x="722" y="3521"/>
                  </a:lnTo>
                  <a:lnTo>
                    <a:pt x="759" y="3497"/>
                  </a:lnTo>
                  <a:lnTo>
                    <a:pt x="781" y="3426"/>
                  </a:lnTo>
                  <a:lnTo>
                    <a:pt x="781" y="3380"/>
                  </a:lnTo>
                  <a:lnTo>
                    <a:pt x="749" y="3426"/>
                  </a:lnTo>
                  <a:lnTo>
                    <a:pt x="652" y="3463"/>
                  </a:lnTo>
                  <a:lnTo>
                    <a:pt x="592" y="3440"/>
                  </a:lnTo>
                  <a:lnTo>
                    <a:pt x="440" y="3262"/>
                  </a:lnTo>
                  <a:lnTo>
                    <a:pt x="332" y="3240"/>
                  </a:lnTo>
                  <a:lnTo>
                    <a:pt x="225" y="3121"/>
                  </a:lnTo>
                  <a:lnTo>
                    <a:pt x="155" y="2952"/>
                  </a:lnTo>
                  <a:lnTo>
                    <a:pt x="133" y="2801"/>
                  </a:lnTo>
                  <a:lnTo>
                    <a:pt x="166" y="2647"/>
                  </a:lnTo>
                  <a:lnTo>
                    <a:pt x="225" y="2539"/>
                  </a:lnTo>
                  <a:lnTo>
                    <a:pt x="309" y="2506"/>
                  </a:lnTo>
                  <a:lnTo>
                    <a:pt x="381" y="2506"/>
                  </a:lnTo>
                  <a:lnTo>
                    <a:pt x="463" y="2566"/>
                  </a:lnTo>
                  <a:lnTo>
                    <a:pt x="546" y="2576"/>
                  </a:lnTo>
                  <a:lnTo>
                    <a:pt x="616" y="2636"/>
                  </a:lnTo>
                  <a:lnTo>
                    <a:pt x="652" y="2682"/>
                  </a:lnTo>
                  <a:lnTo>
                    <a:pt x="710" y="2682"/>
                  </a:lnTo>
                  <a:lnTo>
                    <a:pt x="770" y="27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765320" y="4554720"/>
              <a:ext cx="69480" cy="25560"/>
            </a:xfrm>
            <a:custGeom>
              <a:avLst/>
              <a:gdLst/>
              <a:ahLst/>
              <a:rect l="l" t="t" r="r" b="b"/>
              <a:pathLst>
                <a:path w="356" h="129">
                  <a:moveTo>
                    <a:pt x="70" y="59"/>
                  </a:moveTo>
                  <a:lnTo>
                    <a:pt x="0" y="129"/>
                  </a:lnTo>
                  <a:lnTo>
                    <a:pt x="275" y="129"/>
                  </a:lnTo>
                  <a:lnTo>
                    <a:pt x="356" y="46"/>
                  </a:lnTo>
                  <a:lnTo>
                    <a:pt x="307" y="0"/>
                  </a:lnTo>
                  <a:lnTo>
                    <a:pt x="202" y="46"/>
                  </a:lnTo>
                  <a:lnTo>
                    <a:pt x="70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829040" y="4580280"/>
              <a:ext cx="50400" cy="99720"/>
            </a:xfrm>
            <a:custGeom>
              <a:avLst/>
              <a:gdLst/>
              <a:ahLst/>
              <a:rect l="l" t="t" r="r" b="b"/>
              <a:pathLst>
                <a:path w="261" h="497">
                  <a:moveTo>
                    <a:pt x="0" y="0"/>
                  </a:moveTo>
                  <a:lnTo>
                    <a:pt x="166" y="60"/>
                  </a:lnTo>
                  <a:lnTo>
                    <a:pt x="248" y="154"/>
                  </a:lnTo>
                  <a:lnTo>
                    <a:pt x="261" y="286"/>
                  </a:lnTo>
                  <a:lnTo>
                    <a:pt x="237" y="378"/>
                  </a:lnTo>
                  <a:lnTo>
                    <a:pt x="131" y="497"/>
                  </a:lnTo>
                  <a:lnTo>
                    <a:pt x="215" y="368"/>
                  </a:lnTo>
                  <a:lnTo>
                    <a:pt x="215" y="237"/>
                  </a:lnTo>
                  <a:lnTo>
                    <a:pt x="74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694040" y="4604040"/>
              <a:ext cx="164880" cy="77760"/>
            </a:xfrm>
            <a:custGeom>
              <a:avLst/>
              <a:gdLst/>
              <a:ahLst/>
              <a:rect l="l" t="t" r="r" b="b"/>
              <a:pathLst>
                <a:path w="831" h="391">
                  <a:moveTo>
                    <a:pt x="749" y="202"/>
                  </a:moveTo>
                  <a:lnTo>
                    <a:pt x="831" y="97"/>
                  </a:lnTo>
                  <a:lnTo>
                    <a:pt x="831" y="72"/>
                  </a:lnTo>
                  <a:lnTo>
                    <a:pt x="690" y="0"/>
                  </a:lnTo>
                  <a:lnTo>
                    <a:pt x="523" y="0"/>
                  </a:lnTo>
                  <a:lnTo>
                    <a:pt x="402" y="83"/>
                  </a:lnTo>
                  <a:lnTo>
                    <a:pt x="297" y="169"/>
                  </a:lnTo>
                  <a:lnTo>
                    <a:pt x="73" y="143"/>
                  </a:lnTo>
                  <a:lnTo>
                    <a:pt x="0" y="272"/>
                  </a:lnTo>
                  <a:lnTo>
                    <a:pt x="189" y="391"/>
                  </a:lnTo>
                  <a:lnTo>
                    <a:pt x="308" y="332"/>
                  </a:lnTo>
                  <a:lnTo>
                    <a:pt x="248" y="309"/>
                  </a:lnTo>
                  <a:lnTo>
                    <a:pt x="274" y="240"/>
                  </a:lnTo>
                  <a:lnTo>
                    <a:pt x="380" y="143"/>
                  </a:lnTo>
                  <a:lnTo>
                    <a:pt x="440" y="108"/>
                  </a:lnTo>
                  <a:lnTo>
                    <a:pt x="523" y="240"/>
                  </a:lnTo>
                  <a:lnTo>
                    <a:pt x="652" y="191"/>
                  </a:lnTo>
                  <a:lnTo>
                    <a:pt x="663" y="97"/>
                  </a:lnTo>
                  <a:lnTo>
                    <a:pt x="749" y="108"/>
                  </a:lnTo>
                  <a:lnTo>
                    <a:pt x="749" y="169"/>
                  </a:lnTo>
                  <a:lnTo>
                    <a:pt x="749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646520" y="4486680"/>
              <a:ext cx="36000" cy="163440"/>
            </a:xfrm>
            <a:custGeom>
              <a:avLst/>
              <a:gdLst/>
              <a:ahLst/>
              <a:rect l="l" t="t" r="r" b="b"/>
              <a:pathLst>
                <a:path w="188" h="817">
                  <a:moveTo>
                    <a:pt x="0" y="188"/>
                  </a:moveTo>
                  <a:lnTo>
                    <a:pt x="94" y="414"/>
                  </a:lnTo>
                  <a:lnTo>
                    <a:pt x="10" y="745"/>
                  </a:lnTo>
                  <a:lnTo>
                    <a:pt x="164" y="817"/>
                  </a:lnTo>
                  <a:lnTo>
                    <a:pt x="188" y="402"/>
                  </a:lnTo>
                  <a:lnTo>
                    <a:pt x="24" y="163"/>
                  </a:lnTo>
                  <a:lnTo>
                    <a:pt x="24" y="0"/>
                  </a:lnTo>
                  <a:lnTo>
                    <a:pt x="0" y="34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622400" y="4669200"/>
              <a:ext cx="79200" cy="141120"/>
            </a:xfrm>
            <a:custGeom>
              <a:avLst/>
              <a:gdLst/>
              <a:ahLst/>
              <a:rect l="l" t="t" r="r" b="b"/>
              <a:pathLst>
                <a:path w="404" h="711">
                  <a:moveTo>
                    <a:pt x="83" y="0"/>
                  </a:moveTo>
                  <a:lnTo>
                    <a:pt x="0" y="272"/>
                  </a:lnTo>
                  <a:lnTo>
                    <a:pt x="0" y="428"/>
                  </a:lnTo>
                  <a:lnTo>
                    <a:pt x="143" y="580"/>
                  </a:lnTo>
                  <a:lnTo>
                    <a:pt x="237" y="569"/>
                  </a:lnTo>
                  <a:lnTo>
                    <a:pt x="404" y="711"/>
                  </a:lnTo>
                  <a:lnTo>
                    <a:pt x="321" y="509"/>
                  </a:lnTo>
                  <a:lnTo>
                    <a:pt x="83" y="285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962240" y="4562640"/>
              <a:ext cx="47160" cy="106560"/>
            </a:xfrm>
            <a:custGeom>
              <a:avLst/>
              <a:gdLst/>
              <a:ahLst/>
              <a:rect l="l" t="t" r="r" b="b"/>
              <a:pathLst>
                <a:path w="239" h="543">
                  <a:moveTo>
                    <a:pt x="121" y="0"/>
                  </a:moveTo>
                  <a:lnTo>
                    <a:pt x="27" y="165"/>
                  </a:lnTo>
                  <a:lnTo>
                    <a:pt x="0" y="248"/>
                  </a:lnTo>
                  <a:lnTo>
                    <a:pt x="0" y="308"/>
                  </a:lnTo>
                  <a:lnTo>
                    <a:pt x="156" y="543"/>
                  </a:lnTo>
                  <a:lnTo>
                    <a:pt x="156" y="248"/>
                  </a:lnTo>
                  <a:lnTo>
                    <a:pt x="239" y="130"/>
                  </a:lnTo>
                  <a:lnTo>
                    <a:pt x="96" y="225"/>
                  </a:lnTo>
                  <a:lnTo>
                    <a:pt x="27" y="225"/>
                  </a:lnTo>
                  <a:lnTo>
                    <a:pt x="27" y="200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020920" y="4573800"/>
              <a:ext cx="66600" cy="55440"/>
            </a:xfrm>
            <a:custGeom>
              <a:avLst/>
              <a:gdLst/>
              <a:ahLst/>
              <a:rect l="l" t="t" r="r" b="b"/>
              <a:pathLst>
                <a:path w="332" h="284">
                  <a:moveTo>
                    <a:pt x="0" y="35"/>
                  </a:moveTo>
                  <a:lnTo>
                    <a:pt x="71" y="0"/>
                  </a:lnTo>
                  <a:lnTo>
                    <a:pt x="246" y="0"/>
                  </a:lnTo>
                  <a:lnTo>
                    <a:pt x="332" y="71"/>
                  </a:lnTo>
                  <a:lnTo>
                    <a:pt x="332" y="212"/>
                  </a:lnTo>
                  <a:lnTo>
                    <a:pt x="246" y="212"/>
                  </a:lnTo>
                  <a:lnTo>
                    <a:pt x="94" y="284"/>
                  </a:lnTo>
                  <a:lnTo>
                    <a:pt x="235" y="189"/>
                  </a:lnTo>
                  <a:lnTo>
                    <a:pt x="214" y="71"/>
                  </a:lnTo>
                  <a:lnTo>
                    <a:pt x="165" y="35"/>
                  </a:lnTo>
                  <a:lnTo>
                    <a:pt x="165" y="166"/>
                  </a:lnTo>
                  <a:lnTo>
                    <a:pt x="57" y="166"/>
                  </a:lnTo>
                  <a:lnTo>
                    <a:pt x="94" y="117"/>
                  </a:lnTo>
                  <a:lnTo>
                    <a:pt x="46" y="81"/>
                  </a:lnTo>
                  <a:lnTo>
                    <a:pt x="46" y="23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487760" y="4716720"/>
              <a:ext cx="74160" cy="103320"/>
            </a:xfrm>
            <a:custGeom>
              <a:avLst/>
              <a:gdLst/>
              <a:ahLst/>
              <a:rect l="l" t="t" r="r" b="b"/>
              <a:pathLst>
                <a:path w="380" h="523">
                  <a:moveTo>
                    <a:pt x="0" y="120"/>
                  </a:moveTo>
                  <a:lnTo>
                    <a:pt x="59" y="24"/>
                  </a:lnTo>
                  <a:lnTo>
                    <a:pt x="191" y="0"/>
                  </a:lnTo>
                  <a:lnTo>
                    <a:pt x="227" y="94"/>
                  </a:lnTo>
                  <a:lnTo>
                    <a:pt x="285" y="224"/>
                  </a:lnTo>
                  <a:lnTo>
                    <a:pt x="370" y="283"/>
                  </a:lnTo>
                  <a:lnTo>
                    <a:pt x="380" y="426"/>
                  </a:lnTo>
                  <a:lnTo>
                    <a:pt x="275" y="523"/>
                  </a:lnTo>
                  <a:lnTo>
                    <a:pt x="275" y="295"/>
                  </a:lnTo>
                  <a:lnTo>
                    <a:pt x="227" y="248"/>
                  </a:lnTo>
                  <a:lnTo>
                    <a:pt x="156" y="343"/>
                  </a:lnTo>
                  <a:lnTo>
                    <a:pt x="191" y="437"/>
                  </a:lnTo>
                  <a:lnTo>
                    <a:pt x="169" y="450"/>
                  </a:lnTo>
                  <a:lnTo>
                    <a:pt x="121" y="364"/>
                  </a:lnTo>
                  <a:lnTo>
                    <a:pt x="121" y="295"/>
                  </a:lnTo>
                  <a:lnTo>
                    <a:pt x="59" y="295"/>
                  </a:lnTo>
                  <a:lnTo>
                    <a:pt x="132" y="224"/>
                  </a:lnTo>
                  <a:lnTo>
                    <a:pt x="132" y="120"/>
                  </a:lnTo>
                  <a:lnTo>
                    <a:pt x="181" y="72"/>
                  </a:lnTo>
                  <a:lnTo>
                    <a:pt x="48" y="72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876560" y="4689720"/>
              <a:ext cx="64800" cy="104760"/>
            </a:xfrm>
            <a:custGeom>
              <a:avLst/>
              <a:gdLst/>
              <a:ahLst/>
              <a:rect l="l" t="t" r="r" b="b"/>
              <a:pathLst>
                <a:path w="334" h="532">
                  <a:moveTo>
                    <a:pt x="275" y="0"/>
                  </a:moveTo>
                  <a:lnTo>
                    <a:pt x="334" y="70"/>
                  </a:lnTo>
                  <a:lnTo>
                    <a:pt x="249" y="261"/>
                  </a:lnTo>
                  <a:lnTo>
                    <a:pt x="132" y="261"/>
                  </a:lnTo>
                  <a:lnTo>
                    <a:pt x="48" y="413"/>
                  </a:lnTo>
                  <a:lnTo>
                    <a:pt x="48" y="473"/>
                  </a:lnTo>
                  <a:lnTo>
                    <a:pt x="155" y="532"/>
                  </a:lnTo>
                  <a:lnTo>
                    <a:pt x="72" y="532"/>
                  </a:lnTo>
                  <a:lnTo>
                    <a:pt x="0" y="473"/>
                  </a:lnTo>
                  <a:lnTo>
                    <a:pt x="0" y="365"/>
                  </a:lnTo>
                  <a:lnTo>
                    <a:pt x="155" y="176"/>
                  </a:lnTo>
                  <a:lnTo>
                    <a:pt x="215" y="176"/>
                  </a:lnTo>
                  <a:lnTo>
                    <a:pt x="249" y="22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824360" y="4754880"/>
              <a:ext cx="277200" cy="129960"/>
            </a:xfrm>
            <a:custGeom>
              <a:avLst/>
              <a:gdLst/>
              <a:ahLst/>
              <a:rect l="l" t="t" r="r" b="b"/>
              <a:pathLst>
                <a:path w="1401" h="659">
                  <a:moveTo>
                    <a:pt x="451" y="114"/>
                  </a:moveTo>
                  <a:lnTo>
                    <a:pt x="556" y="44"/>
                  </a:lnTo>
                  <a:lnTo>
                    <a:pt x="627" y="44"/>
                  </a:lnTo>
                  <a:lnTo>
                    <a:pt x="793" y="141"/>
                  </a:lnTo>
                  <a:lnTo>
                    <a:pt x="878" y="141"/>
                  </a:lnTo>
                  <a:lnTo>
                    <a:pt x="972" y="0"/>
                  </a:lnTo>
                  <a:lnTo>
                    <a:pt x="1053" y="11"/>
                  </a:lnTo>
                  <a:lnTo>
                    <a:pt x="1067" y="70"/>
                  </a:lnTo>
                  <a:lnTo>
                    <a:pt x="950" y="114"/>
                  </a:lnTo>
                  <a:lnTo>
                    <a:pt x="996" y="200"/>
                  </a:lnTo>
                  <a:lnTo>
                    <a:pt x="1242" y="305"/>
                  </a:lnTo>
                  <a:lnTo>
                    <a:pt x="1401" y="413"/>
                  </a:lnTo>
                  <a:lnTo>
                    <a:pt x="1376" y="507"/>
                  </a:lnTo>
                  <a:lnTo>
                    <a:pt x="1210" y="436"/>
                  </a:lnTo>
                  <a:lnTo>
                    <a:pt x="890" y="436"/>
                  </a:lnTo>
                  <a:lnTo>
                    <a:pt x="783" y="388"/>
                  </a:lnTo>
                  <a:lnTo>
                    <a:pt x="664" y="459"/>
                  </a:lnTo>
                  <a:lnTo>
                    <a:pt x="523" y="494"/>
                  </a:lnTo>
                  <a:lnTo>
                    <a:pt x="427" y="482"/>
                  </a:lnTo>
                  <a:lnTo>
                    <a:pt x="284" y="577"/>
                  </a:lnTo>
                  <a:lnTo>
                    <a:pt x="23" y="659"/>
                  </a:lnTo>
                  <a:lnTo>
                    <a:pt x="0" y="625"/>
                  </a:lnTo>
                  <a:lnTo>
                    <a:pt x="179" y="436"/>
                  </a:lnTo>
                  <a:lnTo>
                    <a:pt x="405" y="364"/>
                  </a:lnTo>
                  <a:lnTo>
                    <a:pt x="583" y="235"/>
                  </a:lnTo>
                  <a:lnTo>
                    <a:pt x="616" y="129"/>
                  </a:lnTo>
                  <a:lnTo>
                    <a:pt x="556" y="114"/>
                  </a:lnTo>
                  <a:lnTo>
                    <a:pt x="451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5044680" y="4656240"/>
              <a:ext cx="77760" cy="304920"/>
            </a:xfrm>
            <a:custGeom>
              <a:avLst/>
              <a:gdLst/>
              <a:ahLst/>
              <a:rect l="l" t="t" r="r" b="b"/>
              <a:pathLst>
                <a:path w="393" h="1538">
                  <a:moveTo>
                    <a:pt x="358" y="0"/>
                  </a:moveTo>
                  <a:lnTo>
                    <a:pt x="380" y="237"/>
                  </a:lnTo>
                  <a:lnTo>
                    <a:pt x="393" y="556"/>
                  </a:lnTo>
                  <a:lnTo>
                    <a:pt x="369" y="947"/>
                  </a:lnTo>
                  <a:lnTo>
                    <a:pt x="344" y="1147"/>
                  </a:lnTo>
                  <a:lnTo>
                    <a:pt x="215" y="1538"/>
                  </a:lnTo>
                  <a:lnTo>
                    <a:pt x="129" y="1430"/>
                  </a:lnTo>
                  <a:lnTo>
                    <a:pt x="129" y="1158"/>
                  </a:lnTo>
                  <a:lnTo>
                    <a:pt x="70" y="1124"/>
                  </a:lnTo>
                  <a:lnTo>
                    <a:pt x="0" y="1182"/>
                  </a:lnTo>
                  <a:lnTo>
                    <a:pt x="85" y="1087"/>
                  </a:lnTo>
                  <a:lnTo>
                    <a:pt x="166" y="1124"/>
                  </a:lnTo>
                  <a:lnTo>
                    <a:pt x="178" y="1373"/>
                  </a:lnTo>
                  <a:lnTo>
                    <a:pt x="298" y="1158"/>
                  </a:lnTo>
                  <a:lnTo>
                    <a:pt x="344" y="887"/>
                  </a:lnTo>
                  <a:lnTo>
                    <a:pt x="369" y="532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590720" y="4854960"/>
              <a:ext cx="268200" cy="295200"/>
            </a:xfrm>
            <a:custGeom>
              <a:avLst/>
              <a:gdLst/>
              <a:ahLst/>
              <a:rect l="l" t="t" r="r" b="b"/>
              <a:pathLst>
                <a:path w="1352" h="1489">
                  <a:moveTo>
                    <a:pt x="11" y="0"/>
                  </a:moveTo>
                  <a:lnTo>
                    <a:pt x="154" y="141"/>
                  </a:lnTo>
                  <a:lnTo>
                    <a:pt x="343" y="553"/>
                  </a:lnTo>
                  <a:lnTo>
                    <a:pt x="437" y="624"/>
                  </a:lnTo>
                  <a:lnTo>
                    <a:pt x="629" y="685"/>
                  </a:lnTo>
                  <a:lnTo>
                    <a:pt x="558" y="402"/>
                  </a:lnTo>
                  <a:lnTo>
                    <a:pt x="558" y="164"/>
                  </a:lnTo>
                  <a:lnTo>
                    <a:pt x="594" y="367"/>
                  </a:lnTo>
                  <a:lnTo>
                    <a:pt x="829" y="639"/>
                  </a:lnTo>
                  <a:lnTo>
                    <a:pt x="982" y="580"/>
                  </a:lnTo>
                  <a:lnTo>
                    <a:pt x="1115" y="353"/>
                  </a:lnTo>
                  <a:lnTo>
                    <a:pt x="1196" y="249"/>
                  </a:lnTo>
                  <a:lnTo>
                    <a:pt x="1352" y="224"/>
                  </a:lnTo>
                  <a:lnTo>
                    <a:pt x="1184" y="321"/>
                  </a:lnTo>
                  <a:lnTo>
                    <a:pt x="1020" y="624"/>
                  </a:lnTo>
                  <a:lnTo>
                    <a:pt x="1152" y="569"/>
                  </a:lnTo>
                  <a:lnTo>
                    <a:pt x="972" y="685"/>
                  </a:lnTo>
                  <a:lnTo>
                    <a:pt x="866" y="723"/>
                  </a:lnTo>
                  <a:lnTo>
                    <a:pt x="783" y="804"/>
                  </a:lnTo>
                  <a:lnTo>
                    <a:pt x="783" y="874"/>
                  </a:lnTo>
                  <a:lnTo>
                    <a:pt x="877" y="1194"/>
                  </a:lnTo>
                  <a:lnTo>
                    <a:pt x="912" y="1230"/>
                  </a:lnTo>
                  <a:lnTo>
                    <a:pt x="1173" y="1300"/>
                  </a:lnTo>
                  <a:lnTo>
                    <a:pt x="936" y="1300"/>
                  </a:lnTo>
                  <a:lnTo>
                    <a:pt x="936" y="1489"/>
                  </a:lnTo>
                  <a:lnTo>
                    <a:pt x="877" y="1465"/>
                  </a:lnTo>
                  <a:lnTo>
                    <a:pt x="818" y="1408"/>
                  </a:lnTo>
                  <a:lnTo>
                    <a:pt x="650" y="1289"/>
                  </a:lnTo>
                  <a:lnTo>
                    <a:pt x="391" y="1147"/>
                  </a:lnTo>
                  <a:lnTo>
                    <a:pt x="225" y="1004"/>
                  </a:lnTo>
                  <a:lnTo>
                    <a:pt x="143" y="874"/>
                  </a:lnTo>
                  <a:lnTo>
                    <a:pt x="84" y="733"/>
                  </a:lnTo>
                  <a:lnTo>
                    <a:pt x="84" y="613"/>
                  </a:lnTo>
                  <a:lnTo>
                    <a:pt x="84" y="402"/>
                  </a:lnTo>
                  <a:lnTo>
                    <a:pt x="48" y="249"/>
                  </a:lnTo>
                  <a:lnTo>
                    <a:pt x="0" y="11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876560" y="4854960"/>
              <a:ext cx="644040" cy="461880"/>
            </a:xfrm>
            <a:custGeom>
              <a:avLst/>
              <a:gdLst/>
              <a:ahLst/>
              <a:rect l="l" t="t" r="r" b="b"/>
              <a:pathLst>
                <a:path w="3243" h="2330">
                  <a:moveTo>
                    <a:pt x="0" y="217"/>
                  </a:moveTo>
                  <a:lnTo>
                    <a:pt x="157" y="150"/>
                  </a:lnTo>
                  <a:lnTo>
                    <a:pt x="316" y="12"/>
                  </a:lnTo>
                  <a:lnTo>
                    <a:pt x="390" y="0"/>
                  </a:lnTo>
                  <a:lnTo>
                    <a:pt x="705" y="29"/>
                  </a:lnTo>
                  <a:lnTo>
                    <a:pt x="770" y="86"/>
                  </a:lnTo>
                  <a:lnTo>
                    <a:pt x="892" y="233"/>
                  </a:lnTo>
                  <a:lnTo>
                    <a:pt x="1041" y="466"/>
                  </a:lnTo>
                  <a:lnTo>
                    <a:pt x="1096" y="549"/>
                  </a:lnTo>
                  <a:lnTo>
                    <a:pt x="1430" y="668"/>
                  </a:lnTo>
                  <a:lnTo>
                    <a:pt x="1745" y="892"/>
                  </a:lnTo>
                  <a:lnTo>
                    <a:pt x="2034" y="1033"/>
                  </a:lnTo>
                  <a:lnTo>
                    <a:pt x="2416" y="1162"/>
                  </a:lnTo>
                  <a:lnTo>
                    <a:pt x="2590" y="1254"/>
                  </a:lnTo>
                  <a:lnTo>
                    <a:pt x="3002" y="1385"/>
                  </a:lnTo>
                  <a:lnTo>
                    <a:pt x="3243" y="1551"/>
                  </a:lnTo>
                  <a:lnTo>
                    <a:pt x="2964" y="1385"/>
                  </a:lnTo>
                  <a:lnTo>
                    <a:pt x="2610" y="1281"/>
                  </a:lnTo>
                  <a:lnTo>
                    <a:pt x="2416" y="1208"/>
                  </a:lnTo>
                  <a:lnTo>
                    <a:pt x="2175" y="1200"/>
                  </a:lnTo>
                  <a:lnTo>
                    <a:pt x="1865" y="1154"/>
                  </a:lnTo>
                  <a:lnTo>
                    <a:pt x="1623" y="1116"/>
                  </a:lnTo>
                  <a:lnTo>
                    <a:pt x="1700" y="1246"/>
                  </a:lnTo>
                  <a:lnTo>
                    <a:pt x="1838" y="1385"/>
                  </a:lnTo>
                  <a:lnTo>
                    <a:pt x="2006" y="1525"/>
                  </a:lnTo>
                  <a:lnTo>
                    <a:pt x="2227" y="1654"/>
                  </a:lnTo>
                  <a:lnTo>
                    <a:pt x="2582" y="1784"/>
                  </a:lnTo>
                  <a:lnTo>
                    <a:pt x="2788" y="1859"/>
                  </a:lnTo>
                  <a:lnTo>
                    <a:pt x="2824" y="1894"/>
                  </a:lnTo>
                  <a:lnTo>
                    <a:pt x="2518" y="1979"/>
                  </a:lnTo>
                  <a:lnTo>
                    <a:pt x="2175" y="2060"/>
                  </a:lnTo>
                  <a:lnTo>
                    <a:pt x="2155" y="2219"/>
                  </a:lnTo>
                  <a:lnTo>
                    <a:pt x="2146" y="2089"/>
                  </a:lnTo>
                  <a:lnTo>
                    <a:pt x="2098" y="1968"/>
                  </a:lnTo>
                  <a:lnTo>
                    <a:pt x="2026" y="1867"/>
                  </a:lnTo>
                  <a:lnTo>
                    <a:pt x="1951" y="1802"/>
                  </a:lnTo>
                  <a:lnTo>
                    <a:pt x="1885" y="1784"/>
                  </a:lnTo>
                  <a:lnTo>
                    <a:pt x="1830" y="1784"/>
                  </a:lnTo>
                  <a:lnTo>
                    <a:pt x="1792" y="1821"/>
                  </a:lnTo>
                  <a:lnTo>
                    <a:pt x="1775" y="1885"/>
                  </a:lnTo>
                  <a:lnTo>
                    <a:pt x="1784" y="1968"/>
                  </a:lnTo>
                  <a:lnTo>
                    <a:pt x="1821" y="2069"/>
                  </a:lnTo>
                  <a:lnTo>
                    <a:pt x="1896" y="2164"/>
                  </a:lnTo>
                  <a:lnTo>
                    <a:pt x="1960" y="2228"/>
                  </a:lnTo>
                  <a:lnTo>
                    <a:pt x="2034" y="2276"/>
                  </a:lnTo>
                  <a:lnTo>
                    <a:pt x="2080" y="2276"/>
                  </a:lnTo>
                  <a:lnTo>
                    <a:pt x="2146" y="2245"/>
                  </a:lnTo>
                  <a:lnTo>
                    <a:pt x="2098" y="2311"/>
                  </a:lnTo>
                  <a:lnTo>
                    <a:pt x="2026" y="2330"/>
                  </a:lnTo>
                  <a:lnTo>
                    <a:pt x="1933" y="2311"/>
                  </a:lnTo>
                  <a:lnTo>
                    <a:pt x="1874" y="2304"/>
                  </a:lnTo>
                  <a:lnTo>
                    <a:pt x="1745" y="2118"/>
                  </a:lnTo>
                  <a:lnTo>
                    <a:pt x="1874" y="2258"/>
                  </a:lnTo>
                  <a:lnTo>
                    <a:pt x="1885" y="2190"/>
                  </a:lnTo>
                  <a:lnTo>
                    <a:pt x="1801" y="2078"/>
                  </a:lnTo>
                  <a:lnTo>
                    <a:pt x="1775" y="2005"/>
                  </a:lnTo>
                  <a:lnTo>
                    <a:pt x="1718" y="2069"/>
                  </a:lnTo>
                  <a:lnTo>
                    <a:pt x="1718" y="1959"/>
                  </a:lnTo>
                  <a:lnTo>
                    <a:pt x="1729" y="1848"/>
                  </a:lnTo>
                  <a:lnTo>
                    <a:pt x="1753" y="1793"/>
                  </a:lnTo>
                  <a:lnTo>
                    <a:pt x="1559" y="1516"/>
                  </a:lnTo>
                  <a:lnTo>
                    <a:pt x="1467" y="1385"/>
                  </a:lnTo>
                  <a:lnTo>
                    <a:pt x="1234" y="857"/>
                  </a:lnTo>
                  <a:lnTo>
                    <a:pt x="975" y="438"/>
                  </a:lnTo>
                  <a:lnTo>
                    <a:pt x="817" y="178"/>
                  </a:lnTo>
                  <a:lnTo>
                    <a:pt x="705" y="86"/>
                  </a:lnTo>
                  <a:lnTo>
                    <a:pt x="632" y="60"/>
                  </a:lnTo>
                  <a:lnTo>
                    <a:pt x="512" y="69"/>
                  </a:lnTo>
                  <a:lnTo>
                    <a:pt x="436" y="113"/>
                  </a:lnTo>
                  <a:lnTo>
                    <a:pt x="307" y="122"/>
                  </a:lnTo>
                  <a:lnTo>
                    <a:pt x="194" y="178"/>
                  </a:lnTo>
                  <a:lnTo>
                    <a:pt x="92" y="207"/>
                  </a:lnTo>
                  <a:lnTo>
                    <a:pt x="0" y="2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965480" y="4902480"/>
              <a:ext cx="102960" cy="150840"/>
            </a:xfrm>
            <a:custGeom>
              <a:avLst/>
              <a:gdLst/>
              <a:ahLst/>
              <a:rect l="l" t="t" r="r" b="b"/>
              <a:pathLst>
                <a:path w="519" h="763">
                  <a:moveTo>
                    <a:pt x="0" y="0"/>
                  </a:moveTo>
                  <a:lnTo>
                    <a:pt x="176" y="167"/>
                  </a:lnTo>
                  <a:lnTo>
                    <a:pt x="214" y="334"/>
                  </a:lnTo>
                  <a:lnTo>
                    <a:pt x="277" y="436"/>
                  </a:lnTo>
                  <a:lnTo>
                    <a:pt x="519" y="763"/>
                  </a:lnTo>
                  <a:lnTo>
                    <a:pt x="325" y="565"/>
                  </a:lnTo>
                  <a:lnTo>
                    <a:pt x="286" y="484"/>
                  </a:lnTo>
                  <a:lnTo>
                    <a:pt x="7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917960" y="4953240"/>
              <a:ext cx="47160" cy="66600"/>
            </a:xfrm>
            <a:custGeom>
              <a:avLst/>
              <a:gdLst/>
              <a:ahLst/>
              <a:rect l="l" t="t" r="r" b="b"/>
              <a:pathLst>
                <a:path w="242" h="336">
                  <a:moveTo>
                    <a:pt x="0" y="0"/>
                  </a:moveTo>
                  <a:lnTo>
                    <a:pt x="129" y="94"/>
                  </a:lnTo>
                  <a:lnTo>
                    <a:pt x="187" y="242"/>
                  </a:lnTo>
                  <a:lnTo>
                    <a:pt x="242" y="336"/>
                  </a:lnTo>
                  <a:lnTo>
                    <a:pt x="113" y="198"/>
                  </a:lnTo>
                  <a:lnTo>
                    <a:pt x="18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790880" y="5026320"/>
              <a:ext cx="507600" cy="442800"/>
            </a:xfrm>
            <a:custGeom>
              <a:avLst/>
              <a:gdLst/>
              <a:ahLst/>
              <a:rect l="l" t="t" r="r" b="b"/>
              <a:pathLst>
                <a:path w="2564" h="2233">
                  <a:moveTo>
                    <a:pt x="37" y="118"/>
                  </a:moveTo>
                  <a:lnTo>
                    <a:pt x="37" y="194"/>
                  </a:lnTo>
                  <a:lnTo>
                    <a:pt x="9" y="342"/>
                  </a:lnTo>
                  <a:lnTo>
                    <a:pt x="67" y="266"/>
                  </a:lnTo>
                  <a:lnTo>
                    <a:pt x="130" y="342"/>
                  </a:lnTo>
                  <a:lnTo>
                    <a:pt x="173" y="445"/>
                  </a:lnTo>
                  <a:lnTo>
                    <a:pt x="173" y="334"/>
                  </a:lnTo>
                  <a:lnTo>
                    <a:pt x="113" y="185"/>
                  </a:lnTo>
                  <a:lnTo>
                    <a:pt x="213" y="155"/>
                  </a:lnTo>
                  <a:lnTo>
                    <a:pt x="233" y="127"/>
                  </a:lnTo>
                  <a:lnTo>
                    <a:pt x="409" y="351"/>
                  </a:lnTo>
                  <a:lnTo>
                    <a:pt x="530" y="630"/>
                  </a:lnTo>
                  <a:lnTo>
                    <a:pt x="708" y="881"/>
                  </a:lnTo>
                  <a:lnTo>
                    <a:pt x="967" y="1085"/>
                  </a:lnTo>
                  <a:lnTo>
                    <a:pt x="1208" y="1212"/>
                  </a:lnTo>
                  <a:lnTo>
                    <a:pt x="1310" y="1280"/>
                  </a:lnTo>
                  <a:lnTo>
                    <a:pt x="1471" y="1502"/>
                  </a:lnTo>
                  <a:lnTo>
                    <a:pt x="1591" y="1678"/>
                  </a:lnTo>
                  <a:lnTo>
                    <a:pt x="1681" y="1890"/>
                  </a:lnTo>
                  <a:lnTo>
                    <a:pt x="1729" y="2180"/>
                  </a:lnTo>
                  <a:lnTo>
                    <a:pt x="1803" y="2233"/>
                  </a:lnTo>
                  <a:lnTo>
                    <a:pt x="1960" y="2180"/>
                  </a:lnTo>
                  <a:lnTo>
                    <a:pt x="2167" y="2031"/>
                  </a:lnTo>
                  <a:lnTo>
                    <a:pt x="2294" y="1882"/>
                  </a:lnTo>
                  <a:lnTo>
                    <a:pt x="2424" y="1696"/>
                  </a:lnTo>
                  <a:lnTo>
                    <a:pt x="2510" y="1510"/>
                  </a:lnTo>
                  <a:lnTo>
                    <a:pt x="2564" y="1401"/>
                  </a:lnTo>
                  <a:lnTo>
                    <a:pt x="2380" y="1715"/>
                  </a:lnTo>
                  <a:lnTo>
                    <a:pt x="2250" y="1882"/>
                  </a:lnTo>
                  <a:lnTo>
                    <a:pt x="1971" y="2095"/>
                  </a:lnTo>
                  <a:lnTo>
                    <a:pt x="1886" y="2113"/>
                  </a:lnTo>
                  <a:lnTo>
                    <a:pt x="1738" y="1816"/>
                  </a:lnTo>
                  <a:lnTo>
                    <a:pt x="2061" y="1632"/>
                  </a:lnTo>
                  <a:lnTo>
                    <a:pt x="2213" y="1537"/>
                  </a:lnTo>
                  <a:lnTo>
                    <a:pt x="2334" y="1445"/>
                  </a:lnTo>
                  <a:lnTo>
                    <a:pt x="2323" y="1438"/>
                  </a:lnTo>
                  <a:lnTo>
                    <a:pt x="2174" y="1528"/>
                  </a:lnTo>
                  <a:lnTo>
                    <a:pt x="1953" y="1657"/>
                  </a:lnTo>
                  <a:lnTo>
                    <a:pt x="1840" y="1482"/>
                  </a:lnTo>
                  <a:lnTo>
                    <a:pt x="2061" y="1307"/>
                  </a:lnTo>
                  <a:lnTo>
                    <a:pt x="2061" y="1280"/>
                  </a:lnTo>
                  <a:lnTo>
                    <a:pt x="1941" y="1370"/>
                  </a:lnTo>
                  <a:lnTo>
                    <a:pt x="1785" y="1464"/>
                  </a:lnTo>
                  <a:lnTo>
                    <a:pt x="1607" y="1559"/>
                  </a:lnTo>
                  <a:lnTo>
                    <a:pt x="1413" y="1272"/>
                  </a:lnTo>
                  <a:lnTo>
                    <a:pt x="1515" y="1203"/>
                  </a:lnTo>
                  <a:lnTo>
                    <a:pt x="1462" y="1168"/>
                  </a:lnTo>
                  <a:lnTo>
                    <a:pt x="1321" y="1168"/>
                  </a:lnTo>
                  <a:lnTo>
                    <a:pt x="1151" y="1113"/>
                  </a:lnTo>
                  <a:lnTo>
                    <a:pt x="1013" y="1019"/>
                  </a:lnTo>
                  <a:lnTo>
                    <a:pt x="837" y="852"/>
                  </a:lnTo>
                  <a:lnTo>
                    <a:pt x="668" y="665"/>
                  </a:lnTo>
                  <a:lnTo>
                    <a:pt x="547" y="480"/>
                  </a:lnTo>
                  <a:lnTo>
                    <a:pt x="466" y="342"/>
                  </a:lnTo>
                  <a:lnTo>
                    <a:pt x="334" y="167"/>
                  </a:lnTo>
                  <a:lnTo>
                    <a:pt x="187" y="0"/>
                  </a:lnTo>
                  <a:lnTo>
                    <a:pt x="139" y="54"/>
                  </a:lnTo>
                  <a:lnTo>
                    <a:pt x="0" y="101"/>
                  </a:lnTo>
                  <a:lnTo>
                    <a:pt x="37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167080" y="5299200"/>
              <a:ext cx="36000" cy="50760"/>
            </a:xfrm>
            <a:custGeom>
              <a:avLst/>
              <a:gdLst/>
              <a:ahLst/>
              <a:rect l="l" t="t" r="r" b="b"/>
              <a:pathLst>
                <a:path w="185" h="253">
                  <a:moveTo>
                    <a:pt x="0" y="48"/>
                  </a:moveTo>
                  <a:lnTo>
                    <a:pt x="120" y="253"/>
                  </a:lnTo>
                  <a:lnTo>
                    <a:pt x="185" y="207"/>
                  </a:lnTo>
                  <a:lnTo>
                    <a:pt x="63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079600" y="5386680"/>
              <a:ext cx="125280" cy="196920"/>
            </a:xfrm>
            <a:custGeom>
              <a:avLst/>
              <a:gdLst/>
              <a:ahLst/>
              <a:rect l="l" t="t" r="r" b="b"/>
              <a:pathLst>
                <a:path w="630" h="995">
                  <a:moveTo>
                    <a:pt x="173" y="0"/>
                  </a:moveTo>
                  <a:lnTo>
                    <a:pt x="120" y="103"/>
                  </a:lnTo>
                  <a:lnTo>
                    <a:pt x="44" y="253"/>
                  </a:lnTo>
                  <a:lnTo>
                    <a:pt x="0" y="364"/>
                  </a:lnTo>
                  <a:lnTo>
                    <a:pt x="17" y="408"/>
                  </a:lnTo>
                  <a:lnTo>
                    <a:pt x="156" y="512"/>
                  </a:lnTo>
                  <a:lnTo>
                    <a:pt x="242" y="613"/>
                  </a:lnTo>
                  <a:lnTo>
                    <a:pt x="302" y="762"/>
                  </a:lnTo>
                  <a:lnTo>
                    <a:pt x="397" y="917"/>
                  </a:lnTo>
                  <a:lnTo>
                    <a:pt x="452" y="956"/>
                  </a:lnTo>
                  <a:lnTo>
                    <a:pt x="630" y="995"/>
                  </a:lnTo>
                  <a:lnTo>
                    <a:pt x="620" y="917"/>
                  </a:lnTo>
                  <a:lnTo>
                    <a:pt x="491" y="892"/>
                  </a:lnTo>
                  <a:lnTo>
                    <a:pt x="435" y="825"/>
                  </a:lnTo>
                  <a:lnTo>
                    <a:pt x="378" y="696"/>
                  </a:lnTo>
                  <a:lnTo>
                    <a:pt x="276" y="558"/>
                  </a:lnTo>
                  <a:lnTo>
                    <a:pt x="164" y="445"/>
                  </a:lnTo>
                  <a:lnTo>
                    <a:pt x="62" y="364"/>
                  </a:lnTo>
                  <a:lnTo>
                    <a:pt x="62" y="305"/>
                  </a:lnTo>
                  <a:lnTo>
                    <a:pt x="120" y="166"/>
                  </a:lnTo>
                  <a:lnTo>
                    <a:pt x="156" y="94"/>
                  </a:lnTo>
                  <a:lnTo>
                    <a:pt x="251" y="94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209920" y="5261040"/>
              <a:ext cx="112320" cy="306720"/>
            </a:xfrm>
            <a:custGeom>
              <a:avLst/>
              <a:gdLst/>
              <a:ahLst/>
              <a:rect l="l" t="t" r="r" b="b"/>
              <a:pathLst>
                <a:path w="567" h="1548">
                  <a:moveTo>
                    <a:pt x="483" y="159"/>
                  </a:moveTo>
                  <a:lnTo>
                    <a:pt x="503" y="366"/>
                  </a:lnTo>
                  <a:lnTo>
                    <a:pt x="483" y="596"/>
                  </a:lnTo>
                  <a:lnTo>
                    <a:pt x="410" y="797"/>
                  </a:lnTo>
                  <a:lnTo>
                    <a:pt x="261" y="1122"/>
                  </a:lnTo>
                  <a:lnTo>
                    <a:pt x="0" y="1548"/>
                  </a:lnTo>
                  <a:lnTo>
                    <a:pt x="270" y="1143"/>
                  </a:lnTo>
                  <a:lnTo>
                    <a:pt x="454" y="778"/>
                  </a:lnTo>
                  <a:lnTo>
                    <a:pt x="530" y="530"/>
                  </a:lnTo>
                  <a:lnTo>
                    <a:pt x="567" y="317"/>
                  </a:lnTo>
                  <a:lnTo>
                    <a:pt x="558" y="159"/>
                  </a:lnTo>
                  <a:lnTo>
                    <a:pt x="537" y="67"/>
                  </a:lnTo>
                  <a:lnTo>
                    <a:pt x="503" y="0"/>
                  </a:lnTo>
                  <a:lnTo>
                    <a:pt x="483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316480" y="5231160"/>
              <a:ext cx="293040" cy="817560"/>
            </a:xfrm>
            <a:custGeom>
              <a:avLst/>
              <a:gdLst/>
              <a:ahLst/>
              <a:rect l="l" t="t" r="r" b="b"/>
              <a:pathLst>
                <a:path w="1477" h="4119">
                  <a:moveTo>
                    <a:pt x="0" y="237"/>
                  </a:moveTo>
                  <a:lnTo>
                    <a:pt x="253" y="613"/>
                  </a:lnTo>
                  <a:lnTo>
                    <a:pt x="486" y="933"/>
                  </a:lnTo>
                  <a:lnTo>
                    <a:pt x="598" y="557"/>
                  </a:lnTo>
                  <a:lnTo>
                    <a:pt x="862" y="0"/>
                  </a:lnTo>
                  <a:lnTo>
                    <a:pt x="629" y="586"/>
                  </a:lnTo>
                  <a:lnTo>
                    <a:pt x="559" y="989"/>
                  </a:lnTo>
                  <a:lnTo>
                    <a:pt x="781" y="1267"/>
                  </a:lnTo>
                  <a:lnTo>
                    <a:pt x="1115" y="1556"/>
                  </a:lnTo>
                  <a:lnTo>
                    <a:pt x="1383" y="2074"/>
                  </a:lnTo>
                  <a:lnTo>
                    <a:pt x="1477" y="2588"/>
                  </a:lnTo>
                  <a:lnTo>
                    <a:pt x="1409" y="3060"/>
                  </a:lnTo>
                  <a:lnTo>
                    <a:pt x="1409" y="3673"/>
                  </a:lnTo>
                  <a:lnTo>
                    <a:pt x="1464" y="4119"/>
                  </a:lnTo>
                  <a:lnTo>
                    <a:pt x="1115" y="3394"/>
                  </a:lnTo>
                  <a:lnTo>
                    <a:pt x="1256" y="3147"/>
                  </a:lnTo>
                  <a:lnTo>
                    <a:pt x="1297" y="2910"/>
                  </a:lnTo>
                  <a:lnTo>
                    <a:pt x="1311" y="2643"/>
                  </a:lnTo>
                  <a:lnTo>
                    <a:pt x="1256" y="2382"/>
                  </a:lnTo>
                  <a:lnTo>
                    <a:pt x="1130" y="1921"/>
                  </a:lnTo>
                  <a:lnTo>
                    <a:pt x="947" y="1504"/>
                  </a:lnTo>
                  <a:lnTo>
                    <a:pt x="809" y="1337"/>
                  </a:lnTo>
                  <a:lnTo>
                    <a:pt x="629" y="1170"/>
                  </a:lnTo>
                  <a:lnTo>
                    <a:pt x="710" y="1556"/>
                  </a:lnTo>
                  <a:lnTo>
                    <a:pt x="781" y="2129"/>
                  </a:lnTo>
                  <a:lnTo>
                    <a:pt x="797" y="2549"/>
                  </a:lnTo>
                  <a:lnTo>
                    <a:pt x="754" y="2795"/>
                  </a:lnTo>
                  <a:lnTo>
                    <a:pt x="697" y="2894"/>
                  </a:lnTo>
                  <a:lnTo>
                    <a:pt x="629" y="2935"/>
                  </a:lnTo>
                  <a:lnTo>
                    <a:pt x="530" y="2922"/>
                  </a:lnTo>
                  <a:lnTo>
                    <a:pt x="306" y="2855"/>
                  </a:lnTo>
                  <a:lnTo>
                    <a:pt x="486" y="2841"/>
                  </a:lnTo>
                  <a:lnTo>
                    <a:pt x="569" y="2771"/>
                  </a:lnTo>
                  <a:lnTo>
                    <a:pt x="642" y="2602"/>
                  </a:lnTo>
                  <a:lnTo>
                    <a:pt x="656" y="2338"/>
                  </a:lnTo>
                  <a:lnTo>
                    <a:pt x="598" y="1864"/>
                  </a:lnTo>
                  <a:lnTo>
                    <a:pt x="486" y="1392"/>
                  </a:lnTo>
                  <a:lnTo>
                    <a:pt x="322" y="891"/>
                  </a:lnTo>
                  <a:lnTo>
                    <a:pt x="154" y="557"/>
                  </a:lnTo>
                  <a:lnTo>
                    <a:pt x="13" y="307"/>
                  </a:lnTo>
                  <a:lnTo>
                    <a:pt x="0" y="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449680" y="5185080"/>
              <a:ext cx="186840" cy="492120"/>
            </a:xfrm>
            <a:custGeom>
              <a:avLst/>
              <a:gdLst/>
              <a:ahLst/>
              <a:rect l="l" t="t" r="r" b="b"/>
              <a:pathLst>
                <a:path w="948" h="2477">
                  <a:moveTo>
                    <a:pt x="558" y="0"/>
                  </a:moveTo>
                  <a:lnTo>
                    <a:pt x="558" y="111"/>
                  </a:lnTo>
                  <a:lnTo>
                    <a:pt x="532" y="291"/>
                  </a:lnTo>
                  <a:lnTo>
                    <a:pt x="433" y="445"/>
                  </a:lnTo>
                  <a:lnTo>
                    <a:pt x="212" y="680"/>
                  </a:lnTo>
                  <a:lnTo>
                    <a:pt x="113" y="860"/>
                  </a:lnTo>
                  <a:lnTo>
                    <a:pt x="58" y="1014"/>
                  </a:lnTo>
                  <a:lnTo>
                    <a:pt x="0" y="1392"/>
                  </a:lnTo>
                  <a:lnTo>
                    <a:pt x="71" y="1238"/>
                  </a:lnTo>
                  <a:lnTo>
                    <a:pt x="194" y="1099"/>
                  </a:lnTo>
                  <a:lnTo>
                    <a:pt x="321" y="1042"/>
                  </a:lnTo>
                  <a:lnTo>
                    <a:pt x="420" y="1042"/>
                  </a:lnTo>
                  <a:lnTo>
                    <a:pt x="475" y="1071"/>
                  </a:lnTo>
                  <a:lnTo>
                    <a:pt x="517" y="1139"/>
                  </a:lnTo>
                  <a:lnTo>
                    <a:pt x="504" y="1238"/>
                  </a:lnTo>
                  <a:lnTo>
                    <a:pt x="376" y="1418"/>
                  </a:lnTo>
                  <a:lnTo>
                    <a:pt x="253" y="1546"/>
                  </a:lnTo>
                  <a:lnTo>
                    <a:pt x="180" y="1572"/>
                  </a:lnTo>
                  <a:lnTo>
                    <a:pt x="405" y="1791"/>
                  </a:lnTo>
                  <a:lnTo>
                    <a:pt x="602" y="2129"/>
                  </a:lnTo>
                  <a:lnTo>
                    <a:pt x="697" y="2265"/>
                  </a:lnTo>
                  <a:lnTo>
                    <a:pt x="880" y="2325"/>
                  </a:lnTo>
                  <a:lnTo>
                    <a:pt x="948" y="2477"/>
                  </a:lnTo>
                  <a:lnTo>
                    <a:pt x="948" y="2005"/>
                  </a:lnTo>
                  <a:lnTo>
                    <a:pt x="741" y="1696"/>
                  </a:lnTo>
                  <a:lnTo>
                    <a:pt x="715" y="1546"/>
                  </a:lnTo>
                  <a:lnTo>
                    <a:pt x="781" y="1392"/>
                  </a:lnTo>
                  <a:lnTo>
                    <a:pt x="781" y="1224"/>
                  </a:lnTo>
                  <a:lnTo>
                    <a:pt x="643" y="1139"/>
                  </a:lnTo>
                  <a:lnTo>
                    <a:pt x="629" y="931"/>
                  </a:lnTo>
                  <a:lnTo>
                    <a:pt x="754" y="751"/>
                  </a:lnTo>
                  <a:lnTo>
                    <a:pt x="781" y="558"/>
                  </a:lnTo>
                  <a:lnTo>
                    <a:pt x="754" y="388"/>
                  </a:lnTo>
                  <a:lnTo>
                    <a:pt x="655" y="180"/>
                  </a:lnTo>
                  <a:lnTo>
                    <a:pt x="5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643360" y="5693040"/>
              <a:ext cx="64800" cy="474480"/>
            </a:xfrm>
            <a:custGeom>
              <a:avLst/>
              <a:gdLst/>
              <a:ahLst/>
              <a:rect l="l" t="t" r="r" b="b"/>
              <a:pathLst>
                <a:path w="332" h="2396">
                  <a:moveTo>
                    <a:pt x="0" y="0"/>
                  </a:moveTo>
                  <a:lnTo>
                    <a:pt x="165" y="85"/>
                  </a:lnTo>
                  <a:lnTo>
                    <a:pt x="332" y="488"/>
                  </a:lnTo>
                  <a:lnTo>
                    <a:pt x="332" y="737"/>
                  </a:lnTo>
                  <a:lnTo>
                    <a:pt x="278" y="1016"/>
                  </a:lnTo>
                  <a:lnTo>
                    <a:pt x="193" y="1434"/>
                  </a:lnTo>
                  <a:lnTo>
                    <a:pt x="152" y="1937"/>
                  </a:lnTo>
                  <a:lnTo>
                    <a:pt x="126" y="2396"/>
                  </a:lnTo>
                  <a:lnTo>
                    <a:pt x="94" y="1976"/>
                  </a:lnTo>
                  <a:lnTo>
                    <a:pt x="94" y="1530"/>
                  </a:lnTo>
                  <a:lnTo>
                    <a:pt x="152" y="1030"/>
                  </a:lnTo>
                  <a:lnTo>
                    <a:pt x="152" y="628"/>
                  </a:lnTo>
                  <a:lnTo>
                    <a:pt x="110" y="23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617800" y="5786640"/>
              <a:ext cx="182160" cy="458640"/>
            </a:xfrm>
            <a:custGeom>
              <a:avLst/>
              <a:gdLst/>
              <a:ahLst/>
              <a:rect l="l" t="t" r="r" b="b"/>
              <a:pathLst>
                <a:path w="921" h="2313">
                  <a:moveTo>
                    <a:pt x="459" y="99"/>
                  </a:moveTo>
                  <a:lnTo>
                    <a:pt x="558" y="447"/>
                  </a:lnTo>
                  <a:lnTo>
                    <a:pt x="585" y="808"/>
                  </a:lnTo>
                  <a:lnTo>
                    <a:pt x="532" y="1173"/>
                  </a:lnTo>
                  <a:lnTo>
                    <a:pt x="449" y="1478"/>
                  </a:lnTo>
                  <a:lnTo>
                    <a:pt x="334" y="1755"/>
                  </a:lnTo>
                  <a:lnTo>
                    <a:pt x="221" y="1952"/>
                  </a:lnTo>
                  <a:lnTo>
                    <a:pt x="110" y="1952"/>
                  </a:lnTo>
                  <a:lnTo>
                    <a:pt x="0" y="1880"/>
                  </a:lnTo>
                  <a:lnTo>
                    <a:pt x="170" y="2062"/>
                  </a:lnTo>
                  <a:lnTo>
                    <a:pt x="334" y="2200"/>
                  </a:lnTo>
                  <a:lnTo>
                    <a:pt x="170" y="2313"/>
                  </a:lnTo>
                  <a:lnTo>
                    <a:pt x="459" y="2255"/>
                  </a:lnTo>
                  <a:lnTo>
                    <a:pt x="670" y="2117"/>
                  </a:lnTo>
                  <a:lnTo>
                    <a:pt x="809" y="1924"/>
                  </a:lnTo>
                  <a:lnTo>
                    <a:pt x="878" y="1686"/>
                  </a:lnTo>
                  <a:lnTo>
                    <a:pt x="921" y="1433"/>
                  </a:lnTo>
                  <a:lnTo>
                    <a:pt x="908" y="1103"/>
                  </a:lnTo>
                  <a:lnTo>
                    <a:pt x="864" y="740"/>
                  </a:lnTo>
                  <a:lnTo>
                    <a:pt x="809" y="505"/>
                  </a:lnTo>
                  <a:lnTo>
                    <a:pt x="725" y="447"/>
                  </a:lnTo>
                  <a:lnTo>
                    <a:pt x="631" y="336"/>
                  </a:lnTo>
                  <a:lnTo>
                    <a:pt x="503" y="156"/>
                  </a:lnTo>
                  <a:lnTo>
                    <a:pt x="449" y="0"/>
                  </a:lnTo>
                  <a:lnTo>
                    <a:pt x="459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613040" y="5226120"/>
              <a:ext cx="1098360" cy="1030320"/>
            </a:xfrm>
            <a:custGeom>
              <a:avLst/>
              <a:gdLst/>
              <a:ahLst/>
              <a:rect l="l" t="t" r="r" b="b"/>
              <a:pathLst>
                <a:path w="5538" h="5192">
                  <a:moveTo>
                    <a:pt x="1807" y="0"/>
                  </a:moveTo>
                  <a:lnTo>
                    <a:pt x="1690" y="384"/>
                  </a:lnTo>
                  <a:lnTo>
                    <a:pt x="1515" y="1124"/>
                  </a:lnTo>
                  <a:lnTo>
                    <a:pt x="1381" y="1684"/>
                  </a:lnTo>
                  <a:lnTo>
                    <a:pt x="1243" y="2248"/>
                  </a:lnTo>
                  <a:lnTo>
                    <a:pt x="1108" y="2633"/>
                  </a:lnTo>
                  <a:lnTo>
                    <a:pt x="952" y="2888"/>
                  </a:lnTo>
                  <a:lnTo>
                    <a:pt x="739" y="3138"/>
                  </a:lnTo>
                  <a:lnTo>
                    <a:pt x="487" y="3391"/>
                  </a:lnTo>
                  <a:lnTo>
                    <a:pt x="271" y="3566"/>
                  </a:lnTo>
                  <a:lnTo>
                    <a:pt x="137" y="3739"/>
                  </a:lnTo>
                  <a:lnTo>
                    <a:pt x="60" y="3973"/>
                  </a:lnTo>
                  <a:lnTo>
                    <a:pt x="60" y="4168"/>
                  </a:lnTo>
                  <a:lnTo>
                    <a:pt x="137" y="3913"/>
                  </a:lnTo>
                  <a:lnTo>
                    <a:pt x="194" y="3856"/>
                  </a:lnTo>
                  <a:lnTo>
                    <a:pt x="310" y="3856"/>
                  </a:lnTo>
                  <a:lnTo>
                    <a:pt x="293" y="3757"/>
                  </a:lnTo>
                  <a:lnTo>
                    <a:pt x="310" y="3681"/>
                  </a:lnTo>
                  <a:lnTo>
                    <a:pt x="409" y="3660"/>
                  </a:lnTo>
                  <a:lnTo>
                    <a:pt x="526" y="3660"/>
                  </a:lnTo>
                  <a:lnTo>
                    <a:pt x="563" y="3739"/>
                  </a:lnTo>
                  <a:lnTo>
                    <a:pt x="563" y="3836"/>
                  </a:lnTo>
                  <a:lnTo>
                    <a:pt x="487" y="3874"/>
                  </a:lnTo>
                  <a:lnTo>
                    <a:pt x="796" y="3895"/>
                  </a:lnTo>
                  <a:lnTo>
                    <a:pt x="1301" y="4049"/>
                  </a:lnTo>
                  <a:lnTo>
                    <a:pt x="1515" y="4185"/>
                  </a:lnTo>
                  <a:lnTo>
                    <a:pt x="1574" y="4340"/>
                  </a:lnTo>
                  <a:lnTo>
                    <a:pt x="1554" y="4476"/>
                  </a:lnTo>
                  <a:lnTo>
                    <a:pt x="1460" y="4535"/>
                  </a:lnTo>
                  <a:lnTo>
                    <a:pt x="1243" y="4497"/>
                  </a:lnTo>
                  <a:lnTo>
                    <a:pt x="875" y="4418"/>
                  </a:lnTo>
                  <a:lnTo>
                    <a:pt x="526" y="4359"/>
                  </a:lnTo>
                  <a:lnTo>
                    <a:pt x="215" y="4359"/>
                  </a:lnTo>
                  <a:lnTo>
                    <a:pt x="77" y="4262"/>
                  </a:lnTo>
                  <a:lnTo>
                    <a:pt x="60" y="4476"/>
                  </a:lnTo>
                  <a:lnTo>
                    <a:pt x="0" y="4805"/>
                  </a:lnTo>
                  <a:lnTo>
                    <a:pt x="117" y="4805"/>
                  </a:lnTo>
                  <a:lnTo>
                    <a:pt x="157" y="4690"/>
                  </a:lnTo>
                  <a:lnTo>
                    <a:pt x="254" y="4651"/>
                  </a:lnTo>
                  <a:lnTo>
                    <a:pt x="370" y="4669"/>
                  </a:lnTo>
                  <a:lnTo>
                    <a:pt x="427" y="4748"/>
                  </a:lnTo>
                  <a:lnTo>
                    <a:pt x="409" y="4805"/>
                  </a:lnTo>
                  <a:lnTo>
                    <a:pt x="2022" y="4805"/>
                  </a:lnTo>
                  <a:lnTo>
                    <a:pt x="1904" y="4418"/>
                  </a:lnTo>
                  <a:lnTo>
                    <a:pt x="1807" y="3990"/>
                  </a:lnTo>
                  <a:lnTo>
                    <a:pt x="1748" y="3547"/>
                  </a:lnTo>
                  <a:lnTo>
                    <a:pt x="1983" y="3913"/>
                  </a:lnTo>
                  <a:lnTo>
                    <a:pt x="2255" y="4302"/>
                  </a:lnTo>
                  <a:lnTo>
                    <a:pt x="2504" y="4612"/>
                  </a:lnTo>
                  <a:lnTo>
                    <a:pt x="2661" y="4805"/>
                  </a:lnTo>
                  <a:lnTo>
                    <a:pt x="4002" y="4805"/>
                  </a:lnTo>
                  <a:lnTo>
                    <a:pt x="4545" y="5116"/>
                  </a:lnTo>
                  <a:lnTo>
                    <a:pt x="4874" y="5192"/>
                  </a:lnTo>
                  <a:lnTo>
                    <a:pt x="5224" y="5176"/>
                  </a:lnTo>
                  <a:lnTo>
                    <a:pt x="5478" y="5116"/>
                  </a:lnTo>
                  <a:lnTo>
                    <a:pt x="5538" y="5057"/>
                  </a:lnTo>
                  <a:lnTo>
                    <a:pt x="5264" y="5057"/>
                  </a:lnTo>
                  <a:lnTo>
                    <a:pt x="4934" y="4959"/>
                  </a:lnTo>
                  <a:lnTo>
                    <a:pt x="4528" y="4727"/>
                  </a:lnTo>
                  <a:lnTo>
                    <a:pt x="4178" y="4458"/>
                  </a:lnTo>
                  <a:lnTo>
                    <a:pt x="4662" y="4572"/>
                  </a:lnTo>
                  <a:lnTo>
                    <a:pt x="5013" y="4690"/>
                  </a:lnTo>
                  <a:lnTo>
                    <a:pt x="4567" y="4398"/>
                  </a:lnTo>
                  <a:lnTo>
                    <a:pt x="4196" y="4168"/>
                  </a:lnTo>
                  <a:lnTo>
                    <a:pt x="3925" y="3933"/>
                  </a:lnTo>
                  <a:lnTo>
                    <a:pt x="3670" y="3547"/>
                  </a:lnTo>
                  <a:lnTo>
                    <a:pt x="3982" y="3739"/>
                  </a:lnTo>
                  <a:lnTo>
                    <a:pt x="4275" y="3856"/>
                  </a:lnTo>
                  <a:lnTo>
                    <a:pt x="4545" y="3990"/>
                  </a:lnTo>
                  <a:lnTo>
                    <a:pt x="4835" y="4302"/>
                  </a:lnTo>
                  <a:lnTo>
                    <a:pt x="5031" y="4612"/>
                  </a:lnTo>
                  <a:lnTo>
                    <a:pt x="4874" y="4223"/>
                  </a:lnTo>
                  <a:lnTo>
                    <a:pt x="4468" y="3700"/>
                  </a:lnTo>
                  <a:lnTo>
                    <a:pt x="3864" y="3004"/>
                  </a:lnTo>
                  <a:lnTo>
                    <a:pt x="3516" y="2593"/>
                  </a:lnTo>
                  <a:lnTo>
                    <a:pt x="3013" y="1764"/>
                  </a:lnTo>
                  <a:lnTo>
                    <a:pt x="2796" y="1684"/>
                  </a:lnTo>
                  <a:lnTo>
                    <a:pt x="2525" y="1511"/>
                  </a:lnTo>
                  <a:lnTo>
                    <a:pt x="2117" y="1103"/>
                  </a:lnTo>
                  <a:lnTo>
                    <a:pt x="2022" y="909"/>
                  </a:lnTo>
                  <a:lnTo>
                    <a:pt x="1864" y="792"/>
                  </a:lnTo>
                  <a:lnTo>
                    <a:pt x="1807" y="580"/>
                  </a:lnTo>
                  <a:lnTo>
                    <a:pt x="1807" y="269"/>
                  </a:lnTo>
                  <a:lnTo>
                    <a:pt x="1864" y="57"/>
                  </a:lnTo>
                  <a:lnTo>
                    <a:pt x="18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41440" y="4926240"/>
              <a:ext cx="663480" cy="1225440"/>
            </a:xfrm>
            <a:custGeom>
              <a:avLst/>
              <a:gdLst/>
              <a:ahLst/>
              <a:rect l="l" t="t" r="r" b="b"/>
              <a:pathLst>
                <a:path w="3344" h="6183">
                  <a:moveTo>
                    <a:pt x="2237" y="41"/>
                  </a:moveTo>
                  <a:lnTo>
                    <a:pt x="2158" y="196"/>
                  </a:lnTo>
                  <a:lnTo>
                    <a:pt x="2138" y="389"/>
                  </a:lnTo>
                  <a:lnTo>
                    <a:pt x="2177" y="930"/>
                  </a:lnTo>
                  <a:lnTo>
                    <a:pt x="2370" y="2326"/>
                  </a:lnTo>
                  <a:lnTo>
                    <a:pt x="2564" y="3877"/>
                  </a:lnTo>
                  <a:lnTo>
                    <a:pt x="3071" y="2520"/>
                  </a:lnTo>
                  <a:lnTo>
                    <a:pt x="3148" y="2210"/>
                  </a:lnTo>
                  <a:lnTo>
                    <a:pt x="3166" y="2036"/>
                  </a:lnTo>
                  <a:lnTo>
                    <a:pt x="3109" y="2016"/>
                  </a:lnTo>
                  <a:lnTo>
                    <a:pt x="3071" y="1898"/>
                  </a:lnTo>
                  <a:lnTo>
                    <a:pt x="3012" y="1764"/>
                  </a:lnTo>
                  <a:lnTo>
                    <a:pt x="2834" y="1571"/>
                  </a:lnTo>
                  <a:lnTo>
                    <a:pt x="2624" y="1783"/>
                  </a:lnTo>
                  <a:lnTo>
                    <a:pt x="2469" y="2153"/>
                  </a:lnTo>
                  <a:lnTo>
                    <a:pt x="2546" y="1861"/>
                  </a:lnTo>
                  <a:lnTo>
                    <a:pt x="2680" y="1608"/>
                  </a:lnTo>
                  <a:lnTo>
                    <a:pt x="2857" y="1375"/>
                  </a:lnTo>
                  <a:lnTo>
                    <a:pt x="3032" y="1182"/>
                  </a:lnTo>
                  <a:lnTo>
                    <a:pt x="3148" y="1085"/>
                  </a:lnTo>
                  <a:lnTo>
                    <a:pt x="3344" y="1182"/>
                  </a:lnTo>
                  <a:lnTo>
                    <a:pt x="3205" y="1242"/>
                  </a:lnTo>
                  <a:lnTo>
                    <a:pt x="3052" y="1358"/>
                  </a:lnTo>
                  <a:lnTo>
                    <a:pt x="2972" y="1474"/>
                  </a:lnTo>
                  <a:lnTo>
                    <a:pt x="3089" y="1647"/>
                  </a:lnTo>
                  <a:lnTo>
                    <a:pt x="3226" y="1921"/>
                  </a:lnTo>
                  <a:lnTo>
                    <a:pt x="3245" y="2016"/>
                  </a:lnTo>
                  <a:lnTo>
                    <a:pt x="3344" y="2016"/>
                  </a:lnTo>
                  <a:lnTo>
                    <a:pt x="3245" y="2133"/>
                  </a:lnTo>
                  <a:lnTo>
                    <a:pt x="3127" y="2539"/>
                  </a:lnTo>
                  <a:lnTo>
                    <a:pt x="2933" y="3218"/>
                  </a:lnTo>
                  <a:lnTo>
                    <a:pt x="2779" y="3896"/>
                  </a:lnTo>
                  <a:lnTo>
                    <a:pt x="2680" y="4324"/>
                  </a:lnTo>
                  <a:lnTo>
                    <a:pt x="2779" y="4518"/>
                  </a:lnTo>
                  <a:lnTo>
                    <a:pt x="2876" y="4633"/>
                  </a:lnTo>
                  <a:lnTo>
                    <a:pt x="2933" y="4672"/>
                  </a:lnTo>
                  <a:lnTo>
                    <a:pt x="2797" y="4808"/>
                  </a:lnTo>
                  <a:lnTo>
                    <a:pt x="2663" y="4925"/>
                  </a:lnTo>
                  <a:lnTo>
                    <a:pt x="2507" y="5080"/>
                  </a:lnTo>
                  <a:lnTo>
                    <a:pt x="2410" y="4964"/>
                  </a:lnTo>
                  <a:lnTo>
                    <a:pt x="2294" y="4905"/>
                  </a:lnTo>
                  <a:lnTo>
                    <a:pt x="2138" y="4925"/>
                  </a:lnTo>
                  <a:lnTo>
                    <a:pt x="1865" y="5041"/>
                  </a:lnTo>
                  <a:lnTo>
                    <a:pt x="2158" y="4847"/>
                  </a:lnTo>
                  <a:lnTo>
                    <a:pt x="2313" y="4672"/>
                  </a:lnTo>
                  <a:lnTo>
                    <a:pt x="2391" y="4496"/>
                  </a:lnTo>
                  <a:lnTo>
                    <a:pt x="2430" y="4285"/>
                  </a:lnTo>
                  <a:lnTo>
                    <a:pt x="2430" y="3916"/>
                  </a:lnTo>
                  <a:lnTo>
                    <a:pt x="2391" y="2868"/>
                  </a:lnTo>
                  <a:lnTo>
                    <a:pt x="2331" y="2267"/>
                  </a:lnTo>
                  <a:lnTo>
                    <a:pt x="2177" y="1299"/>
                  </a:lnTo>
                  <a:lnTo>
                    <a:pt x="2001" y="3508"/>
                  </a:lnTo>
                  <a:lnTo>
                    <a:pt x="1884" y="4246"/>
                  </a:lnTo>
                  <a:lnTo>
                    <a:pt x="1790" y="4944"/>
                  </a:lnTo>
                  <a:lnTo>
                    <a:pt x="1729" y="5563"/>
                  </a:lnTo>
                  <a:lnTo>
                    <a:pt x="1729" y="6183"/>
                  </a:lnTo>
                  <a:lnTo>
                    <a:pt x="1692" y="5543"/>
                  </a:lnTo>
                  <a:lnTo>
                    <a:pt x="1711" y="4884"/>
                  </a:lnTo>
                  <a:lnTo>
                    <a:pt x="1826" y="3916"/>
                  </a:lnTo>
                  <a:lnTo>
                    <a:pt x="1826" y="3374"/>
                  </a:lnTo>
                  <a:lnTo>
                    <a:pt x="1884" y="2735"/>
                  </a:lnTo>
                  <a:lnTo>
                    <a:pt x="2001" y="2115"/>
                  </a:lnTo>
                  <a:lnTo>
                    <a:pt x="2098" y="1454"/>
                  </a:lnTo>
                  <a:lnTo>
                    <a:pt x="2117" y="1029"/>
                  </a:lnTo>
                  <a:lnTo>
                    <a:pt x="2061" y="776"/>
                  </a:lnTo>
                  <a:lnTo>
                    <a:pt x="1865" y="541"/>
                  </a:lnTo>
                  <a:lnTo>
                    <a:pt x="1692" y="466"/>
                  </a:lnTo>
                  <a:lnTo>
                    <a:pt x="1478" y="447"/>
                  </a:lnTo>
                  <a:lnTo>
                    <a:pt x="1127" y="852"/>
                  </a:lnTo>
                  <a:lnTo>
                    <a:pt x="1439" y="407"/>
                  </a:lnTo>
                  <a:lnTo>
                    <a:pt x="817" y="562"/>
                  </a:lnTo>
                  <a:lnTo>
                    <a:pt x="408" y="447"/>
                  </a:lnTo>
                  <a:lnTo>
                    <a:pt x="0" y="466"/>
                  </a:lnTo>
                  <a:lnTo>
                    <a:pt x="390" y="389"/>
                  </a:lnTo>
                  <a:lnTo>
                    <a:pt x="800" y="447"/>
                  </a:lnTo>
                  <a:lnTo>
                    <a:pt x="1013" y="447"/>
                  </a:lnTo>
                  <a:lnTo>
                    <a:pt x="1478" y="370"/>
                  </a:lnTo>
                  <a:lnTo>
                    <a:pt x="1845" y="137"/>
                  </a:lnTo>
                  <a:lnTo>
                    <a:pt x="2255" y="0"/>
                  </a:lnTo>
                  <a:lnTo>
                    <a:pt x="223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770360" y="5145480"/>
              <a:ext cx="150120" cy="492120"/>
            </a:xfrm>
            <a:custGeom>
              <a:avLst/>
              <a:gdLst/>
              <a:ahLst/>
              <a:rect l="l" t="t" r="r" b="b"/>
              <a:pathLst>
                <a:path w="758" h="2480">
                  <a:moveTo>
                    <a:pt x="39" y="0"/>
                  </a:moveTo>
                  <a:lnTo>
                    <a:pt x="233" y="60"/>
                  </a:lnTo>
                  <a:lnTo>
                    <a:pt x="431" y="253"/>
                  </a:lnTo>
                  <a:lnTo>
                    <a:pt x="565" y="446"/>
                  </a:lnTo>
                  <a:lnTo>
                    <a:pt x="701" y="736"/>
                  </a:lnTo>
                  <a:lnTo>
                    <a:pt x="758" y="989"/>
                  </a:lnTo>
                  <a:lnTo>
                    <a:pt x="719" y="1010"/>
                  </a:lnTo>
                  <a:lnTo>
                    <a:pt x="408" y="486"/>
                  </a:lnTo>
                  <a:lnTo>
                    <a:pt x="312" y="639"/>
                  </a:lnTo>
                  <a:lnTo>
                    <a:pt x="332" y="775"/>
                  </a:lnTo>
                  <a:lnTo>
                    <a:pt x="350" y="892"/>
                  </a:lnTo>
                  <a:lnTo>
                    <a:pt x="332" y="931"/>
                  </a:lnTo>
                  <a:lnTo>
                    <a:pt x="408" y="1105"/>
                  </a:lnTo>
                  <a:lnTo>
                    <a:pt x="447" y="1454"/>
                  </a:lnTo>
                  <a:lnTo>
                    <a:pt x="447" y="1802"/>
                  </a:lnTo>
                  <a:lnTo>
                    <a:pt x="468" y="2074"/>
                  </a:lnTo>
                  <a:lnTo>
                    <a:pt x="468" y="2269"/>
                  </a:lnTo>
                  <a:lnTo>
                    <a:pt x="408" y="2480"/>
                  </a:lnTo>
                  <a:lnTo>
                    <a:pt x="431" y="2019"/>
                  </a:lnTo>
                  <a:lnTo>
                    <a:pt x="389" y="1494"/>
                  </a:lnTo>
                  <a:lnTo>
                    <a:pt x="350" y="1123"/>
                  </a:lnTo>
                  <a:lnTo>
                    <a:pt x="253" y="931"/>
                  </a:lnTo>
                  <a:lnTo>
                    <a:pt x="272" y="855"/>
                  </a:lnTo>
                  <a:lnTo>
                    <a:pt x="272" y="699"/>
                  </a:lnTo>
                  <a:lnTo>
                    <a:pt x="312" y="446"/>
                  </a:lnTo>
                  <a:lnTo>
                    <a:pt x="350" y="332"/>
                  </a:lnTo>
                  <a:lnTo>
                    <a:pt x="216" y="194"/>
                  </a:lnTo>
                  <a:lnTo>
                    <a:pt x="0" y="11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319280" y="5159520"/>
              <a:ext cx="96480" cy="46080"/>
            </a:xfrm>
            <a:custGeom>
              <a:avLst/>
              <a:gdLst/>
              <a:ahLst/>
              <a:rect l="l" t="t" r="r" b="b"/>
              <a:pathLst>
                <a:path w="485" h="233">
                  <a:moveTo>
                    <a:pt x="0" y="37"/>
                  </a:moveTo>
                  <a:lnTo>
                    <a:pt x="331" y="233"/>
                  </a:lnTo>
                  <a:lnTo>
                    <a:pt x="485" y="136"/>
                  </a:lnTo>
                  <a:lnTo>
                    <a:pt x="386" y="60"/>
                  </a:lnTo>
                  <a:lnTo>
                    <a:pt x="215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035240" y="5156280"/>
              <a:ext cx="334440" cy="1022400"/>
            </a:xfrm>
            <a:custGeom>
              <a:avLst/>
              <a:gdLst/>
              <a:ahLst/>
              <a:rect l="l" t="t" r="r" b="b"/>
              <a:pathLst>
                <a:path w="1687" h="5154">
                  <a:moveTo>
                    <a:pt x="1435" y="696"/>
                  </a:moveTo>
                  <a:lnTo>
                    <a:pt x="1378" y="1280"/>
                  </a:lnTo>
                  <a:lnTo>
                    <a:pt x="1378" y="2092"/>
                  </a:lnTo>
                  <a:lnTo>
                    <a:pt x="1395" y="2982"/>
                  </a:lnTo>
                  <a:lnTo>
                    <a:pt x="1494" y="3972"/>
                  </a:lnTo>
                  <a:lnTo>
                    <a:pt x="1611" y="4747"/>
                  </a:lnTo>
                  <a:lnTo>
                    <a:pt x="1687" y="5154"/>
                  </a:lnTo>
                  <a:lnTo>
                    <a:pt x="1611" y="5154"/>
                  </a:lnTo>
                  <a:lnTo>
                    <a:pt x="1261" y="4592"/>
                  </a:lnTo>
                  <a:lnTo>
                    <a:pt x="872" y="3876"/>
                  </a:lnTo>
                  <a:lnTo>
                    <a:pt x="541" y="3041"/>
                  </a:lnTo>
                  <a:lnTo>
                    <a:pt x="253" y="2130"/>
                  </a:lnTo>
                  <a:lnTo>
                    <a:pt x="97" y="1355"/>
                  </a:lnTo>
                  <a:lnTo>
                    <a:pt x="0" y="522"/>
                  </a:lnTo>
                  <a:lnTo>
                    <a:pt x="0" y="0"/>
                  </a:lnTo>
                  <a:lnTo>
                    <a:pt x="74" y="851"/>
                  </a:lnTo>
                  <a:lnTo>
                    <a:pt x="193" y="1570"/>
                  </a:lnTo>
                  <a:lnTo>
                    <a:pt x="387" y="2286"/>
                  </a:lnTo>
                  <a:lnTo>
                    <a:pt x="620" y="2942"/>
                  </a:lnTo>
                  <a:lnTo>
                    <a:pt x="872" y="3566"/>
                  </a:lnTo>
                  <a:lnTo>
                    <a:pt x="1143" y="4129"/>
                  </a:lnTo>
                  <a:lnTo>
                    <a:pt x="1475" y="4629"/>
                  </a:lnTo>
                  <a:lnTo>
                    <a:pt x="1300" y="3779"/>
                  </a:lnTo>
                  <a:lnTo>
                    <a:pt x="1242" y="2942"/>
                  </a:lnTo>
                  <a:lnTo>
                    <a:pt x="1242" y="2072"/>
                  </a:lnTo>
                  <a:lnTo>
                    <a:pt x="1300" y="1201"/>
                  </a:lnTo>
                  <a:lnTo>
                    <a:pt x="1378" y="715"/>
                  </a:lnTo>
                  <a:lnTo>
                    <a:pt x="1435" y="6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816000" y="5543640"/>
              <a:ext cx="553680" cy="712800"/>
            </a:xfrm>
            <a:custGeom>
              <a:avLst/>
              <a:gdLst/>
              <a:ahLst/>
              <a:rect l="l" t="t" r="r" b="b"/>
              <a:pathLst>
                <a:path w="2786" h="3589">
                  <a:moveTo>
                    <a:pt x="842" y="1516"/>
                  </a:moveTo>
                  <a:lnTo>
                    <a:pt x="877" y="1500"/>
                  </a:lnTo>
                  <a:lnTo>
                    <a:pt x="1306" y="1976"/>
                  </a:lnTo>
                  <a:lnTo>
                    <a:pt x="1306" y="1614"/>
                  </a:lnTo>
                  <a:lnTo>
                    <a:pt x="1205" y="1234"/>
                  </a:lnTo>
                  <a:lnTo>
                    <a:pt x="1205" y="1006"/>
                  </a:lnTo>
                  <a:lnTo>
                    <a:pt x="1039" y="1104"/>
                  </a:lnTo>
                  <a:lnTo>
                    <a:pt x="940" y="871"/>
                  </a:lnTo>
                  <a:lnTo>
                    <a:pt x="363" y="641"/>
                  </a:lnTo>
                  <a:lnTo>
                    <a:pt x="0" y="347"/>
                  </a:lnTo>
                  <a:lnTo>
                    <a:pt x="264" y="493"/>
                  </a:lnTo>
                  <a:lnTo>
                    <a:pt x="1057" y="380"/>
                  </a:lnTo>
                  <a:lnTo>
                    <a:pt x="827" y="0"/>
                  </a:lnTo>
                  <a:lnTo>
                    <a:pt x="1158" y="165"/>
                  </a:lnTo>
                  <a:lnTo>
                    <a:pt x="1354" y="165"/>
                  </a:lnTo>
                  <a:lnTo>
                    <a:pt x="1767" y="1318"/>
                  </a:lnTo>
                  <a:lnTo>
                    <a:pt x="2097" y="2126"/>
                  </a:lnTo>
                  <a:lnTo>
                    <a:pt x="2376" y="2600"/>
                  </a:lnTo>
                  <a:lnTo>
                    <a:pt x="2786" y="3195"/>
                  </a:lnTo>
                  <a:lnTo>
                    <a:pt x="2492" y="3195"/>
                  </a:lnTo>
                  <a:lnTo>
                    <a:pt x="2492" y="3507"/>
                  </a:lnTo>
                  <a:lnTo>
                    <a:pt x="2360" y="3589"/>
                  </a:lnTo>
                  <a:lnTo>
                    <a:pt x="2459" y="3474"/>
                  </a:lnTo>
                  <a:lnTo>
                    <a:pt x="2459" y="3195"/>
                  </a:lnTo>
                  <a:lnTo>
                    <a:pt x="1899" y="2419"/>
                  </a:lnTo>
                  <a:lnTo>
                    <a:pt x="1124" y="2174"/>
                  </a:lnTo>
                  <a:lnTo>
                    <a:pt x="1336" y="2225"/>
                  </a:lnTo>
                  <a:lnTo>
                    <a:pt x="857" y="1566"/>
                  </a:lnTo>
                  <a:lnTo>
                    <a:pt x="842" y="15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747960" y="5018400"/>
              <a:ext cx="344160" cy="627120"/>
            </a:xfrm>
            <a:custGeom>
              <a:avLst/>
              <a:gdLst/>
              <a:ahLst/>
              <a:rect l="l" t="t" r="r" b="b"/>
              <a:pathLst>
                <a:path w="1732" h="3160">
                  <a:moveTo>
                    <a:pt x="1732" y="15"/>
                  </a:moveTo>
                  <a:lnTo>
                    <a:pt x="1584" y="231"/>
                  </a:lnTo>
                  <a:lnTo>
                    <a:pt x="1483" y="428"/>
                  </a:lnTo>
                  <a:lnTo>
                    <a:pt x="1453" y="644"/>
                  </a:lnTo>
                  <a:lnTo>
                    <a:pt x="1435" y="923"/>
                  </a:lnTo>
                  <a:lnTo>
                    <a:pt x="1384" y="494"/>
                  </a:lnTo>
                  <a:lnTo>
                    <a:pt x="1237" y="806"/>
                  </a:lnTo>
                  <a:lnTo>
                    <a:pt x="1187" y="1089"/>
                  </a:lnTo>
                  <a:lnTo>
                    <a:pt x="1187" y="1384"/>
                  </a:lnTo>
                  <a:lnTo>
                    <a:pt x="1268" y="1860"/>
                  </a:lnTo>
                  <a:lnTo>
                    <a:pt x="1402" y="2257"/>
                  </a:lnTo>
                  <a:lnTo>
                    <a:pt x="1600" y="2701"/>
                  </a:lnTo>
                  <a:lnTo>
                    <a:pt x="1319" y="2306"/>
                  </a:lnTo>
                  <a:lnTo>
                    <a:pt x="1121" y="1911"/>
                  </a:lnTo>
                  <a:lnTo>
                    <a:pt x="971" y="1501"/>
                  </a:lnTo>
                  <a:lnTo>
                    <a:pt x="872" y="1089"/>
                  </a:lnTo>
                  <a:lnTo>
                    <a:pt x="840" y="1368"/>
                  </a:lnTo>
                  <a:lnTo>
                    <a:pt x="860" y="1748"/>
                  </a:lnTo>
                  <a:lnTo>
                    <a:pt x="958" y="2142"/>
                  </a:lnTo>
                  <a:lnTo>
                    <a:pt x="1073" y="2519"/>
                  </a:lnTo>
                  <a:lnTo>
                    <a:pt x="593" y="1748"/>
                  </a:lnTo>
                  <a:lnTo>
                    <a:pt x="510" y="1748"/>
                  </a:lnTo>
                  <a:lnTo>
                    <a:pt x="558" y="2142"/>
                  </a:lnTo>
                  <a:lnTo>
                    <a:pt x="741" y="2681"/>
                  </a:lnTo>
                  <a:lnTo>
                    <a:pt x="989" y="3160"/>
                  </a:lnTo>
                  <a:lnTo>
                    <a:pt x="890" y="3160"/>
                  </a:lnTo>
                  <a:lnTo>
                    <a:pt x="0" y="2209"/>
                  </a:lnTo>
                  <a:lnTo>
                    <a:pt x="644" y="2701"/>
                  </a:lnTo>
                  <a:lnTo>
                    <a:pt x="429" y="2306"/>
                  </a:lnTo>
                  <a:lnTo>
                    <a:pt x="314" y="1928"/>
                  </a:lnTo>
                  <a:lnTo>
                    <a:pt x="296" y="1649"/>
                  </a:lnTo>
                  <a:lnTo>
                    <a:pt x="494" y="1400"/>
                  </a:lnTo>
                  <a:lnTo>
                    <a:pt x="727" y="1054"/>
                  </a:lnTo>
                  <a:lnTo>
                    <a:pt x="872" y="824"/>
                  </a:lnTo>
                  <a:lnTo>
                    <a:pt x="1121" y="776"/>
                  </a:lnTo>
                  <a:lnTo>
                    <a:pt x="1137" y="510"/>
                  </a:lnTo>
                  <a:lnTo>
                    <a:pt x="1402" y="84"/>
                  </a:lnTo>
                  <a:lnTo>
                    <a:pt x="1651" y="0"/>
                  </a:lnTo>
                  <a:lnTo>
                    <a:pt x="17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725640" y="5345280"/>
              <a:ext cx="90000" cy="270000"/>
            </a:xfrm>
            <a:custGeom>
              <a:avLst/>
              <a:gdLst/>
              <a:ahLst/>
              <a:rect l="l" t="t" r="r" b="b"/>
              <a:pathLst>
                <a:path w="462" h="1364">
                  <a:moveTo>
                    <a:pt x="431" y="0"/>
                  </a:moveTo>
                  <a:lnTo>
                    <a:pt x="216" y="244"/>
                  </a:lnTo>
                  <a:lnTo>
                    <a:pt x="0" y="574"/>
                  </a:lnTo>
                  <a:lnTo>
                    <a:pt x="18" y="753"/>
                  </a:lnTo>
                  <a:lnTo>
                    <a:pt x="231" y="1083"/>
                  </a:lnTo>
                  <a:lnTo>
                    <a:pt x="462" y="1364"/>
                  </a:lnTo>
                  <a:lnTo>
                    <a:pt x="267" y="1002"/>
                  </a:lnTo>
                  <a:lnTo>
                    <a:pt x="231" y="642"/>
                  </a:lnTo>
                  <a:lnTo>
                    <a:pt x="462" y="163"/>
                  </a:lnTo>
                  <a:lnTo>
                    <a:pt x="4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374640" y="5481720"/>
              <a:ext cx="342720" cy="339840"/>
            </a:xfrm>
            <a:custGeom>
              <a:avLst/>
              <a:gdLst/>
              <a:ahLst/>
              <a:rect l="l" t="t" r="r" b="b"/>
              <a:pathLst>
                <a:path w="1734" h="1711">
                  <a:moveTo>
                    <a:pt x="1619" y="0"/>
                  </a:moveTo>
                  <a:lnTo>
                    <a:pt x="1619" y="149"/>
                  </a:lnTo>
                  <a:lnTo>
                    <a:pt x="1734" y="393"/>
                  </a:lnTo>
                  <a:lnTo>
                    <a:pt x="1619" y="342"/>
                  </a:lnTo>
                  <a:lnTo>
                    <a:pt x="1503" y="461"/>
                  </a:lnTo>
                  <a:lnTo>
                    <a:pt x="1437" y="659"/>
                  </a:lnTo>
                  <a:lnTo>
                    <a:pt x="1371" y="1003"/>
                  </a:lnTo>
                  <a:lnTo>
                    <a:pt x="1371" y="1416"/>
                  </a:lnTo>
                  <a:lnTo>
                    <a:pt x="1404" y="1711"/>
                  </a:lnTo>
                  <a:lnTo>
                    <a:pt x="1287" y="1447"/>
                  </a:lnTo>
                  <a:lnTo>
                    <a:pt x="1141" y="1333"/>
                  </a:lnTo>
                  <a:lnTo>
                    <a:pt x="991" y="1282"/>
                  </a:lnTo>
                  <a:lnTo>
                    <a:pt x="793" y="1282"/>
                  </a:lnTo>
                  <a:lnTo>
                    <a:pt x="532" y="1318"/>
                  </a:lnTo>
                  <a:lnTo>
                    <a:pt x="231" y="1416"/>
                  </a:lnTo>
                  <a:lnTo>
                    <a:pt x="0" y="1546"/>
                  </a:lnTo>
                  <a:lnTo>
                    <a:pt x="169" y="1282"/>
                  </a:lnTo>
                  <a:lnTo>
                    <a:pt x="413" y="986"/>
                  </a:lnTo>
                  <a:lnTo>
                    <a:pt x="694" y="740"/>
                  </a:lnTo>
                  <a:lnTo>
                    <a:pt x="1074" y="492"/>
                  </a:lnTo>
                  <a:lnTo>
                    <a:pt x="1338" y="294"/>
                  </a:lnTo>
                  <a:lnTo>
                    <a:pt x="1503" y="114"/>
                  </a:lnTo>
                  <a:lnTo>
                    <a:pt x="16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319200" y="5602680"/>
              <a:ext cx="742680" cy="607680"/>
            </a:xfrm>
            <a:custGeom>
              <a:avLst/>
              <a:gdLst/>
              <a:ahLst/>
              <a:rect l="l" t="t" r="r" b="b"/>
              <a:pathLst>
                <a:path w="3746" h="3058">
                  <a:moveTo>
                    <a:pt x="2144" y="0"/>
                  </a:moveTo>
                  <a:lnTo>
                    <a:pt x="2312" y="245"/>
                  </a:lnTo>
                  <a:lnTo>
                    <a:pt x="2540" y="441"/>
                  </a:lnTo>
                  <a:lnTo>
                    <a:pt x="2771" y="572"/>
                  </a:lnTo>
                  <a:lnTo>
                    <a:pt x="3168" y="740"/>
                  </a:lnTo>
                  <a:lnTo>
                    <a:pt x="3384" y="756"/>
                  </a:lnTo>
                  <a:lnTo>
                    <a:pt x="3546" y="641"/>
                  </a:lnTo>
                  <a:lnTo>
                    <a:pt x="3746" y="722"/>
                  </a:lnTo>
                  <a:lnTo>
                    <a:pt x="3447" y="970"/>
                  </a:lnTo>
                  <a:lnTo>
                    <a:pt x="3217" y="1231"/>
                  </a:lnTo>
                  <a:lnTo>
                    <a:pt x="3133" y="1514"/>
                  </a:lnTo>
                  <a:lnTo>
                    <a:pt x="2852" y="1627"/>
                  </a:lnTo>
                  <a:lnTo>
                    <a:pt x="2476" y="1842"/>
                  </a:lnTo>
                  <a:lnTo>
                    <a:pt x="2327" y="1842"/>
                  </a:lnTo>
                  <a:lnTo>
                    <a:pt x="2342" y="1989"/>
                  </a:lnTo>
                  <a:lnTo>
                    <a:pt x="2540" y="2088"/>
                  </a:lnTo>
                  <a:lnTo>
                    <a:pt x="2591" y="2237"/>
                  </a:lnTo>
                  <a:lnTo>
                    <a:pt x="2507" y="2120"/>
                  </a:lnTo>
                  <a:lnTo>
                    <a:pt x="2377" y="2055"/>
                  </a:lnTo>
                  <a:lnTo>
                    <a:pt x="2211" y="2037"/>
                  </a:lnTo>
                  <a:lnTo>
                    <a:pt x="1914" y="2037"/>
                  </a:lnTo>
                  <a:lnTo>
                    <a:pt x="1566" y="2136"/>
                  </a:lnTo>
                  <a:lnTo>
                    <a:pt x="1123" y="2435"/>
                  </a:lnTo>
                  <a:lnTo>
                    <a:pt x="1123" y="2696"/>
                  </a:lnTo>
                  <a:lnTo>
                    <a:pt x="1092" y="2878"/>
                  </a:lnTo>
                  <a:lnTo>
                    <a:pt x="1173" y="3046"/>
                  </a:lnTo>
                  <a:lnTo>
                    <a:pt x="909" y="3046"/>
                  </a:lnTo>
                  <a:lnTo>
                    <a:pt x="578" y="2963"/>
                  </a:lnTo>
                  <a:lnTo>
                    <a:pt x="510" y="3058"/>
                  </a:lnTo>
                  <a:lnTo>
                    <a:pt x="544" y="2945"/>
                  </a:lnTo>
                  <a:lnTo>
                    <a:pt x="710" y="2716"/>
                  </a:lnTo>
                  <a:lnTo>
                    <a:pt x="957" y="2486"/>
                  </a:lnTo>
                  <a:lnTo>
                    <a:pt x="1189" y="2286"/>
                  </a:lnTo>
                  <a:lnTo>
                    <a:pt x="1566" y="2025"/>
                  </a:lnTo>
                  <a:lnTo>
                    <a:pt x="1929" y="1875"/>
                  </a:lnTo>
                  <a:lnTo>
                    <a:pt x="1798" y="1758"/>
                  </a:lnTo>
                  <a:lnTo>
                    <a:pt x="1566" y="1710"/>
                  </a:lnTo>
                  <a:lnTo>
                    <a:pt x="1353" y="1677"/>
                  </a:lnTo>
                  <a:lnTo>
                    <a:pt x="1204" y="1576"/>
                  </a:lnTo>
                  <a:lnTo>
                    <a:pt x="1024" y="1366"/>
                  </a:lnTo>
                  <a:lnTo>
                    <a:pt x="874" y="1217"/>
                  </a:lnTo>
                  <a:lnTo>
                    <a:pt x="678" y="1185"/>
                  </a:lnTo>
                  <a:lnTo>
                    <a:pt x="448" y="1201"/>
                  </a:lnTo>
                  <a:lnTo>
                    <a:pt x="265" y="1267"/>
                  </a:lnTo>
                  <a:lnTo>
                    <a:pt x="413" y="1166"/>
                  </a:lnTo>
                  <a:lnTo>
                    <a:pt x="662" y="1118"/>
                  </a:lnTo>
                  <a:lnTo>
                    <a:pt x="892" y="1134"/>
                  </a:lnTo>
                  <a:lnTo>
                    <a:pt x="1105" y="1249"/>
                  </a:lnTo>
                  <a:lnTo>
                    <a:pt x="1270" y="1396"/>
                  </a:lnTo>
                  <a:lnTo>
                    <a:pt x="1434" y="1447"/>
                  </a:lnTo>
                  <a:lnTo>
                    <a:pt x="1683" y="1480"/>
                  </a:lnTo>
                  <a:lnTo>
                    <a:pt x="1995" y="1480"/>
                  </a:lnTo>
                  <a:lnTo>
                    <a:pt x="1734" y="1267"/>
                  </a:lnTo>
                  <a:lnTo>
                    <a:pt x="1434" y="1134"/>
                  </a:lnTo>
                  <a:lnTo>
                    <a:pt x="1024" y="1001"/>
                  </a:lnTo>
                  <a:lnTo>
                    <a:pt x="644" y="952"/>
                  </a:lnTo>
                  <a:lnTo>
                    <a:pt x="314" y="986"/>
                  </a:lnTo>
                  <a:lnTo>
                    <a:pt x="0" y="1085"/>
                  </a:lnTo>
                  <a:lnTo>
                    <a:pt x="330" y="920"/>
                  </a:lnTo>
                  <a:lnTo>
                    <a:pt x="725" y="887"/>
                  </a:lnTo>
                  <a:lnTo>
                    <a:pt x="1139" y="920"/>
                  </a:lnTo>
                  <a:lnTo>
                    <a:pt x="1519" y="1019"/>
                  </a:lnTo>
                  <a:lnTo>
                    <a:pt x="1914" y="1166"/>
                  </a:lnTo>
                  <a:lnTo>
                    <a:pt x="2312" y="1366"/>
                  </a:lnTo>
                  <a:lnTo>
                    <a:pt x="2294" y="852"/>
                  </a:lnTo>
                  <a:lnTo>
                    <a:pt x="2225" y="441"/>
                  </a:lnTo>
                  <a:lnTo>
                    <a:pt x="2144" y="97"/>
                  </a:lnTo>
                  <a:lnTo>
                    <a:pt x="21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200400" y="5845320"/>
              <a:ext cx="242640" cy="374760"/>
            </a:xfrm>
            <a:custGeom>
              <a:avLst/>
              <a:gdLst/>
              <a:ahLst/>
              <a:rect l="l" t="t" r="r" b="b"/>
              <a:pathLst>
                <a:path w="1225" h="1881">
                  <a:moveTo>
                    <a:pt x="500" y="0"/>
                  </a:moveTo>
                  <a:lnTo>
                    <a:pt x="245" y="208"/>
                  </a:lnTo>
                  <a:lnTo>
                    <a:pt x="60" y="441"/>
                  </a:lnTo>
                  <a:lnTo>
                    <a:pt x="0" y="671"/>
                  </a:lnTo>
                  <a:lnTo>
                    <a:pt x="0" y="867"/>
                  </a:lnTo>
                  <a:lnTo>
                    <a:pt x="50" y="1063"/>
                  </a:lnTo>
                  <a:lnTo>
                    <a:pt x="111" y="1271"/>
                  </a:lnTo>
                  <a:lnTo>
                    <a:pt x="136" y="1392"/>
                  </a:lnTo>
                  <a:lnTo>
                    <a:pt x="159" y="1427"/>
                  </a:lnTo>
                  <a:lnTo>
                    <a:pt x="379" y="1478"/>
                  </a:lnTo>
                  <a:lnTo>
                    <a:pt x="588" y="1563"/>
                  </a:lnTo>
                  <a:lnTo>
                    <a:pt x="744" y="1697"/>
                  </a:lnTo>
                  <a:lnTo>
                    <a:pt x="1003" y="1881"/>
                  </a:lnTo>
                  <a:lnTo>
                    <a:pt x="992" y="1772"/>
                  </a:lnTo>
                  <a:lnTo>
                    <a:pt x="1038" y="1600"/>
                  </a:lnTo>
                  <a:lnTo>
                    <a:pt x="1137" y="1478"/>
                  </a:lnTo>
                  <a:lnTo>
                    <a:pt x="1225" y="1381"/>
                  </a:lnTo>
                  <a:lnTo>
                    <a:pt x="1148" y="1406"/>
                  </a:lnTo>
                  <a:lnTo>
                    <a:pt x="1148" y="1271"/>
                  </a:lnTo>
                  <a:lnTo>
                    <a:pt x="1199" y="1001"/>
                  </a:lnTo>
                  <a:lnTo>
                    <a:pt x="1089" y="942"/>
                  </a:lnTo>
                  <a:lnTo>
                    <a:pt x="588" y="1282"/>
                  </a:lnTo>
                  <a:lnTo>
                    <a:pt x="685" y="1014"/>
                  </a:lnTo>
                  <a:lnTo>
                    <a:pt x="821" y="843"/>
                  </a:lnTo>
                  <a:lnTo>
                    <a:pt x="660" y="915"/>
                  </a:lnTo>
                  <a:lnTo>
                    <a:pt x="463" y="1052"/>
                  </a:lnTo>
                  <a:lnTo>
                    <a:pt x="304" y="1150"/>
                  </a:lnTo>
                  <a:lnTo>
                    <a:pt x="342" y="1026"/>
                  </a:lnTo>
                  <a:lnTo>
                    <a:pt x="427" y="867"/>
                  </a:lnTo>
                  <a:lnTo>
                    <a:pt x="599" y="696"/>
                  </a:lnTo>
                  <a:lnTo>
                    <a:pt x="759" y="562"/>
                  </a:lnTo>
                  <a:lnTo>
                    <a:pt x="572" y="623"/>
                  </a:lnTo>
                  <a:lnTo>
                    <a:pt x="379" y="733"/>
                  </a:lnTo>
                  <a:lnTo>
                    <a:pt x="208" y="867"/>
                  </a:lnTo>
                  <a:lnTo>
                    <a:pt x="171" y="745"/>
                  </a:lnTo>
                  <a:lnTo>
                    <a:pt x="159" y="573"/>
                  </a:lnTo>
                  <a:lnTo>
                    <a:pt x="184" y="415"/>
                  </a:lnTo>
                  <a:lnTo>
                    <a:pt x="256" y="243"/>
                  </a:lnTo>
                  <a:lnTo>
                    <a:pt x="318" y="160"/>
                  </a:lnTo>
                  <a:lnTo>
                    <a:pt x="5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574800" y="5983560"/>
              <a:ext cx="436320" cy="344520"/>
            </a:xfrm>
            <a:custGeom>
              <a:avLst/>
              <a:gdLst/>
              <a:ahLst/>
              <a:rect l="l" t="t" r="r" b="b"/>
              <a:pathLst>
                <a:path w="2203" h="1735">
                  <a:moveTo>
                    <a:pt x="0" y="1100"/>
                  </a:moveTo>
                  <a:lnTo>
                    <a:pt x="147" y="929"/>
                  </a:lnTo>
                  <a:lnTo>
                    <a:pt x="380" y="671"/>
                  </a:lnTo>
                  <a:lnTo>
                    <a:pt x="587" y="528"/>
                  </a:lnTo>
                  <a:lnTo>
                    <a:pt x="820" y="429"/>
                  </a:lnTo>
                  <a:lnTo>
                    <a:pt x="1113" y="356"/>
                  </a:lnTo>
                  <a:lnTo>
                    <a:pt x="673" y="528"/>
                  </a:lnTo>
                  <a:lnTo>
                    <a:pt x="525" y="637"/>
                  </a:lnTo>
                  <a:lnTo>
                    <a:pt x="491" y="782"/>
                  </a:lnTo>
                  <a:lnTo>
                    <a:pt x="491" y="918"/>
                  </a:lnTo>
                  <a:lnTo>
                    <a:pt x="525" y="1049"/>
                  </a:lnTo>
                  <a:lnTo>
                    <a:pt x="574" y="1138"/>
                  </a:lnTo>
                  <a:lnTo>
                    <a:pt x="979" y="1210"/>
                  </a:lnTo>
                  <a:lnTo>
                    <a:pt x="1173" y="1258"/>
                  </a:lnTo>
                  <a:lnTo>
                    <a:pt x="1139" y="1111"/>
                  </a:lnTo>
                  <a:lnTo>
                    <a:pt x="1139" y="940"/>
                  </a:lnTo>
                  <a:lnTo>
                    <a:pt x="1200" y="720"/>
                  </a:lnTo>
                  <a:lnTo>
                    <a:pt x="1602" y="415"/>
                  </a:lnTo>
                  <a:lnTo>
                    <a:pt x="1311" y="356"/>
                  </a:lnTo>
                  <a:lnTo>
                    <a:pt x="1664" y="356"/>
                  </a:lnTo>
                  <a:lnTo>
                    <a:pt x="1798" y="294"/>
                  </a:lnTo>
                  <a:lnTo>
                    <a:pt x="1934" y="246"/>
                  </a:lnTo>
                  <a:lnTo>
                    <a:pt x="1996" y="86"/>
                  </a:lnTo>
                  <a:lnTo>
                    <a:pt x="2203" y="0"/>
                  </a:lnTo>
                  <a:lnTo>
                    <a:pt x="2031" y="147"/>
                  </a:lnTo>
                  <a:lnTo>
                    <a:pt x="2017" y="281"/>
                  </a:lnTo>
                  <a:lnTo>
                    <a:pt x="1860" y="318"/>
                  </a:lnTo>
                  <a:lnTo>
                    <a:pt x="1747" y="477"/>
                  </a:lnTo>
                  <a:lnTo>
                    <a:pt x="1747" y="637"/>
                  </a:lnTo>
                  <a:lnTo>
                    <a:pt x="1651" y="747"/>
                  </a:lnTo>
                  <a:lnTo>
                    <a:pt x="1627" y="904"/>
                  </a:lnTo>
                  <a:lnTo>
                    <a:pt x="1664" y="1065"/>
                  </a:lnTo>
                  <a:lnTo>
                    <a:pt x="1602" y="1210"/>
                  </a:lnTo>
                  <a:lnTo>
                    <a:pt x="1602" y="1357"/>
                  </a:lnTo>
                  <a:lnTo>
                    <a:pt x="1712" y="1478"/>
                  </a:lnTo>
                  <a:lnTo>
                    <a:pt x="2130" y="1735"/>
                  </a:lnTo>
                  <a:lnTo>
                    <a:pt x="1908" y="1708"/>
                  </a:lnTo>
                  <a:lnTo>
                    <a:pt x="1482" y="1553"/>
                  </a:lnTo>
                  <a:lnTo>
                    <a:pt x="1090" y="1330"/>
                  </a:lnTo>
                  <a:lnTo>
                    <a:pt x="930" y="1258"/>
                  </a:lnTo>
                  <a:lnTo>
                    <a:pt x="785" y="1221"/>
                  </a:lnTo>
                  <a:lnTo>
                    <a:pt x="465" y="1221"/>
                  </a:lnTo>
                  <a:lnTo>
                    <a:pt x="320" y="1185"/>
                  </a:lnTo>
                  <a:lnTo>
                    <a:pt x="221" y="1138"/>
                  </a:lnTo>
                  <a:lnTo>
                    <a:pt x="133" y="1065"/>
                  </a:lnTo>
                  <a:lnTo>
                    <a:pt x="0" y="1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070160" y="6059880"/>
              <a:ext cx="234720" cy="253800"/>
            </a:xfrm>
            <a:custGeom>
              <a:avLst/>
              <a:gdLst/>
              <a:ahLst/>
              <a:rect l="l" t="t" r="r" b="b"/>
              <a:pathLst>
                <a:path w="1190" h="1284">
                  <a:moveTo>
                    <a:pt x="0" y="0"/>
                  </a:moveTo>
                  <a:lnTo>
                    <a:pt x="590" y="307"/>
                  </a:lnTo>
                  <a:lnTo>
                    <a:pt x="994" y="843"/>
                  </a:lnTo>
                  <a:lnTo>
                    <a:pt x="1190" y="904"/>
                  </a:lnTo>
                  <a:lnTo>
                    <a:pt x="1077" y="991"/>
                  </a:lnTo>
                  <a:lnTo>
                    <a:pt x="1005" y="979"/>
                  </a:lnTo>
                  <a:lnTo>
                    <a:pt x="1040" y="1233"/>
                  </a:lnTo>
                  <a:lnTo>
                    <a:pt x="968" y="1284"/>
                  </a:lnTo>
                  <a:lnTo>
                    <a:pt x="1005" y="1210"/>
                  </a:lnTo>
                  <a:lnTo>
                    <a:pt x="943" y="942"/>
                  </a:lnTo>
                  <a:lnTo>
                    <a:pt x="541" y="369"/>
                  </a:lnTo>
                  <a:lnTo>
                    <a:pt x="0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019400" y="6126480"/>
              <a:ext cx="229680" cy="201600"/>
            </a:xfrm>
            <a:custGeom>
              <a:avLst/>
              <a:gdLst/>
              <a:ahLst/>
              <a:rect l="l" t="t" r="r" b="b"/>
              <a:pathLst>
                <a:path w="1160" h="1015">
                  <a:moveTo>
                    <a:pt x="99" y="0"/>
                  </a:moveTo>
                  <a:lnTo>
                    <a:pt x="316" y="235"/>
                  </a:lnTo>
                  <a:lnTo>
                    <a:pt x="613" y="391"/>
                  </a:lnTo>
                  <a:lnTo>
                    <a:pt x="989" y="817"/>
                  </a:lnTo>
                  <a:lnTo>
                    <a:pt x="1160" y="916"/>
                  </a:lnTo>
                  <a:lnTo>
                    <a:pt x="978" y="868"/>
                  </a:lnTo>
                  <a:lnTo>
                    <a:pt x="720" y="916"/>
                  </a:lnTo>
                  <a:lnTo>
                    <a:pt x="525" y="916"/>
                  </a:lnTo>
                  <a:lnTo>
                    <a:pt x="342" y="999"/>
                  </a:lnTo>
                  <a:lnTo>
                    <a:pt x="233" y="1015"/>
                  </a:lnTo>
                  <a:lnTo>
                    <a:pt x="208" y="988"/>
                  </a:lnTo>
                  <a:lnTo>
                    <a:pt x="353" y="868"/>
                  </a:lnTo>
                  <a:lnTo>
                    <a:pt x="0" y="575"/>
                  </a:lnTo>
                  <a:lnTo>
                    <a:pt x="294" y="734"/>
                  </a:lnTo>
                  <a:lnTo>
                    <a:pt x="477" y="833"/>
                  </a:lnTo>
                  <a:lnTo>
                    <a:pt x="613" y="843"/>
                  </a:lnTo>
                  <a:lnTo>
                    <a:pt x="699" y="769"/>
                  </a:lnTo>
                  <a:lnTo>
                    <a:pt x="771" y="720"/>
                  </a:lnTo>
                  <a:lnTo>
                    <a:pt x="613" y="514"/>
                  </a:lnTo>
                  <a:lnTo>
                    <a:pt x="244" y="271"/>
                  </a:lnTo>
                  <a:lnTo>
                    <a:pt x="72" y="62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544560" y="6207480"/>
              <a:ext cx="172800" cy="36360"/>
            </a:xfrm>
            <a:custGeom>
              <a:avLst/>
              <a:gdLst/>
              <a:ahLst/>
              <a:rect l="l" t="t" r="r" b="b"/>
              <a:pathLst>
                <a:path w="869" h="182">
                  <a:moveTo>
                    <a:pt x="134" y="0"/>
                  </a:moveTo>
                  <a:lnTo>
                    <a:pt x="268" y="85"/>
                  </a:lnTo>
                  <a:lnTo>
                    <a:pt x="415" y="133"/>
                  </a:lnTo>
                  <a:lnTo>
                    <a:pt x="586" y="133"/>
                  </a:lnTo>
                  <a:lnTo>
                    <a:pt x="733" y="74"/>
                  </a:lnTo>
                  <a:lnTo>
                    <a:pt x="869" y="85"/>
                  </a:lnTo>
                  <a:lnTo>
                    <a:pt x="671" y="170"/>
                  </a:lnTo>
                  <a:lnTo>
                    <a:pt x="487" y="182"/>
                  </a:lnTo>
                  <a:lnTo>
                    <a:pt x="293" y="147"/>
                  </a:lnTo>
                  <a:lnTo>
                    <a:pt x="0" y="13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271760" y="6235920"/>
              <a:ext cx="63000" cy="69840"/>
            </a:xfrm>
            <a:custGeom>
              <a:avLst/>
              <a:gdLst/>
              <a:ahLst/>
              <a:rect l="l" t="t" r="r" b="b"/>
              <a:pathLst>
                <a:path w="318" h="353">
                  <a:moveTo>
                    <a:pt x="193" y="0"/>
                  </a:moveTo>
                  <a:lnTo>
                    <a:pt x="318" y="353"/>
                  </a:lnTo>
                  <a:lnTo>
                    <a:pt x="83" y="157"/>
                  </a:lnTo>
                  <a:lnTo>
                    <a:pt x="0" y="48"/>
                  </a:lnTo>
                  <a:lnTo>
                    <a:pt x="72" y="58"/>
                  </a:lnTo>
                  <a:lnTo>
                    <a:pt x="133" y="157"/>
                  </a:lnTo>
                  <a:lnTo>
                    <a:pt x="270" y="291"/>
                  </a:lnTo>
                  <a:lnTo>
                    <a:pt x="147" y="35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922560" y="6231240"/>
              <a:ext cx="1328400" cy="341280"/>
            </a:xfrm>
            <a:custGeom>
              <a:avLst/>
              <a:gdLst/>
              <a:ahLst/>
              <a:rect l="l" t="t" r="r" b="b"/>
              <a:pathLst>
                <a:path w="6692" h="1720">
                  <a:moveTo>
                    <a:pt x="1985" y="202"/>
                  </a:moveTo>
                  <a:lnTo>
                    <a:pt x="3910" y="0"/>
                  </a:lnTo>
                  <a:lnTo>
                    <a:pt x="6692" y="1085"/>
                  </a:lnTo>
                  <a:lnTo>
                    <a:pt x="2319" y="1720"/>
                  </a:lnTo>
                  <a:lnTo>
                    <a:pt x="0" y="4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200400" y="6180480"/>
              <a:ext cx="15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308120" y="6180480"/>
              <a:ext cx="1002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763960" y="6180480"/>
              <a:ext cx="45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768560" y="5048640"/>
              <a:ext cx="104400" cy="104760"/>
            </a:xfrm>
            <a:custGeom>
              <a:avLst/>
              <a:gdLst/>
              <a:ahLst/>
              <a:rect l="l" t="t" r="r" b="b"/>
              <a:pathLst>
                <a:path w="530" h="530">
                  <a:moveTo>
                    <a:pt x="152" y="530"/>
                  </a:moveTo>
                  <a:lnTo>
                    <a:pt x="442" y="366"/>
                  </a:lnTo>
                  <a:lnTo>
                    <a:pt x="530" y="265"/>
                  </a:lnTo>
                  <a:lnTo>
                    <a:pt x="341" y="0"/>
                  </a:lnTo>
                  <a:lnTo>
                    <a:pt x="214" y="65"/>
                  </a:lnTo>
                  <a:lnTo>
                    <a:pt x="251" y="265"/>
                  </a:lnTo>
                  <a:lnTo>
                    <a:pt x="200" y="315"/>
                  </a:lnTo>
                  <a:lnTo>
                    <a:pt x="0" y="328"/>
                  </a:lnTo>
                  <a:lnTo>
                    <a:pt x="0" y="517"/>
                  </a:lnTo>
                  <a:lnTo>
                    <a:pt x="152" y="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5562720" y="2133720"/>
            <a:ext cx="2514600" cy="2057400"/>
            <a:chOff x="5562720" y="2133720"/>
            <a:chExt cx="2514600" cy="2057400"/>
          </a:xfrm>
        </p:grpSpPr>
        <p:sp>
          <p:nvSpPr>
            <p:cNvPr id="1194" name=""/>
            <p:cNvSpPr/>
            <p:nvPr/>
          </p:nvSpPr>
          <p:spPr>
            <a:xfrm>
              <a:off x="5562720" y="2133720"/>
              <a:ext cx="2514600" cy="2057400"/>
            </a:xfrm>
            <a:prstGeom prst="cloudCallout">
              <a:avLst>
                <a:gd name="adj1" fmla="val -64013"/>
                <a:gd name="adj2" fmla="val 50773"/>
              </a:avLst>
            </a:prstGeom>
            <a:solidFill>
              <a:srgbClr val="c4d8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5" name="" descr=""/>
            <p:cNvPicPr/>
            <p:nvPr/>
          </p:nvPicPr>
          <p:blipFill>
            <a:blip r:embed="rId1"/>
            <a:stretch/>
          </p:blipFill>
          <p:spPr>
            <a:xfrm>
              <a:off x="5943600" y="2590920"/>
              <a:ext cx="1600200" cy="968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6" name=""/>
          <p:cNvGrpSpPr/>
          <p:nvPr/>
        </p:nvGrpSpPr>
        <p:grpSpPr>
          <a:xfrm>
            <a:off x="1371600" y="2362320"/>
            <a:ext cx="2514600" cy="2057400"/>
            <a:chOff x="1371600" y="2362320"/>
            <a:chExt cx="2514600" cy="2057400"/>
          </a:xfrm>
        </p:grpSpPr>
        <p:sp>
          <p:nvSpPr>
            <p:cNvPr id="1197" name=""/>
            <p:cNvSpPr/>
            <p:nvPr/>
          </p:nvSpPr>
          <p:spPr>
            <a:xfrm>
              <a:off x="1371600" y="2362320"/>
              <a:ext cx="2514600" cy="2057400"/>
            </a:xfrm>
            <a:prstGeom prst="cloudCallout">
              <a:avLst>
                <a:gd name="adj1" fmla="val 67425"/>
                <a:gd name="adj2" fmla="val 41050"/>
              </a:avLst>
            </a:prstGeom>
            <a:solidFill>
              <a:srgbClr val="c4d8d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8" name=""/>
            <p:cNvGrpSpPr/>
            <p:nvPr/>
          </p:nvGrpSpPr>
          <p:grpSpPr>
            <a:xfrm>
              <a:off x="1752480" y="2819520"/>
              <a:ext cx="1600200" cy="914400"/>
              <a:chOff x="1752480" y="2819520"/>
              <a:chExt cx="1600200" cy="914400"/>
            </a:xfrm>
          </p:grpSpPr>
          <p:sp>
            <p:nvSpPr>
              <p:cNvPr id="1199" name=""/>
              <p:cNvSpPr/>
              <p:nvPr/>
            </p:nvSpPr>
            <p:spPr>
              <a:xfrm>
                <a:off x="1752480" y="2819520"/>
                <a:ext cx="1600200" cy="849600"/>
              </a:xfrm>
              <a:prstGeom prst="rect">
                <a:avLst/>
              </a:prstGeom>
              <a:solidFill>
                <a:srgbClr val="c4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2382120" y="3328920"/>
                <a:ext cx="970560" cy="284040"/>
              </a:xfrm>
              <a:custGeom>
                <a:avLst/>
                <a:gdLst/>
                <a:ahLst/>
                <a:rect l="l" t="t" r="r" b="b"/>
                <a:pathLst>
                  <a:path w="1498" h="464">
                    <a:moveTo>
                      <a:pt x="211" y="199"/>
                    </a:moveTo>
                    <a:lnTo>
                      <a:pt x="393" y="185"/>
                    </a:lnTo>
                    <a:lnTo>
                      <a:pt x="549" y="146"/>
                    </a:lnTo>
                    <a:lnTo>
                      <a:pt x="692" y="80"/>
                    </a:lnTo>
                    <a:lnTo>
                      <a:pt x="809" y="93"/>
                    </a:lnTo>
                    <a:lnTo>
                      <a:pt x="900" y="93"/>
                    </a:lnTo>
                    <a:lnTo>
                      <a:pt x="978" y="93"/>
                    </a:lnTo>
                    <a:lnTo>
                      <a:pt x="1069" y="27"/>
                    </a:lnTo>
                    <a:lnTo>
                      <a:pt x="1498" y="0"/>
                    </a:lnTo>
                    <a:lnTo>
                      <a:pt x="1498" y="463"/>
                    </a:lnTo>
                    <a:lnTo>
                      <a:pt x="224" y="450"/>
                    </a:lnTo>
                    <a:lnTo>
                      <a:pt x="18" y="464"/>
                    </a:lnTo>
                    <a:lnTo>
                      <a:pt x="0" y="368"/>
                    </a:lnTo>
                    <a:lnTo>
                      <a:pt x="114" y="308"/>
                    </a:lnTo>
                    <a:lnTo>
                      <a:pt x="211" y="199"/>
                    </a:lnTo>
                    <a:close/>
                  </a:path>
                </a:pathLst>
              </a:custGeom>
              <a:solidFill>
                <a:srgbClr val="008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752480" y="3588120"/>
                <a:ext cx="1600200" cy="145800"/>
              </a:xfrm>
              <a:custGeom>
                <a:avLst/>
                <a:gdLst/>
                <a:ahLst/>
                <a:rect l="l" t="t" r="r" b="b"/>
                <a:pathLst>
                  <a:path w="2470" h="238">
                    <a:moveTo>
                      <a:pt x="0" y="0"/>
                    </a:moveTo>
                    <a:lnTo>
                      <a:pt x="1456" y="0"/>
                    </a:lnTo>
                    <a:lnTo>
                      <a:pt x="2132" y="0"/>
                    </a:lnTo>
                    <a:lnTo>
                      <a:pt x="2379" y="13"/>
                    </a:lnTo>
                    <a:lnTo>
                      <a:pt x="2470" y="27"/>
                    </a:lnTo>
                    <a:lnTo>
                      <a:pt x="2470" y="238"/>
                    </a:lnTo>
                    <a:lnTo>
                      <a:pt x="0" y="23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b3d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791000" y="3458880"/>
                <a:ext cx="662760" cy="172440"/>
              </a:xfrm>
              <a:custGeom>
                <a:avLst/>
                <a:gdLst/>
                <a:ahLst/>
                <a:rect l="l" t="t" r="r" b="b"/>
                <a:pathLst>
                  <a:path w="1023" h="282">
                    <a:moveTo>
                      <a:pt x="759" y="18"/>
                    </a:moveTo>
                    <a:lnTo>
                      <a:pt x="1023" y="69"/>
                    </a:lnTo>
                    <a:lnTo>
                      <a:pt x="1011" y="72"/>
                    </a:lnTo>
                    <a:lnTo>
                      <a:pt x="978" y="72"/>
                    </a:lnTo>
                    <a:lnTo>
                      <a:pt x="981" y="243"/>
                    </a:lnTo>
                    <a:lnTo>
                      <a:pt x="225" y="282"/>
                    </a:lnTo>
                    <a:lnTo>
                      <a:pt x="30" y="273"/>
                    </a:lnTo>
                    <a:lnTo>
                      <a:pt x="39" y="96"/>
                    </a:lnTo>
                    <a:lnTo>
                      <a:pt x="0" y="81"/>
                    </a:lnTo>
                    <a:lnTo>
                      <a:pt x="0" y="63"/>
                    </a:lnTo>
                    <a:lnTo>
                      <a:pt x="240" y="0"/>
                    </a:lnTo>
                  </a:path>
                </a:pathLst>
              </a:custGeom>
              <a:solidFill>
                <a:srgbClr val="000f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785960" y="3458880"/>
                <a:ext cx="404280" cy="40320"/>
              </a:xfrm>
              <a:custGeom>
                <a:avLst/>
                <a:gdLst/>
                <a:ahLst/>
                <a:rect l="l" t="t" r="r" b="b"/>
                <a:pathLst>
                  <a:path w="624" h="66">
                    <a:moveTo>
                      <a:pt x="247" y="0"/>
                    </a:moveTo>
                    <a:lnTo>
                      <a:pt x="624" y="0"/>
                    </a:lnTo>
                    <a:lnTo>
                      <a:pt x="195" y="66"/>
                    </a:lnTo>
                    <a:lnTo>
                      <a:pt x="0" y="66"/>
                    </a:lnTo>
                    <a:lnTo>
                      <a:pt x="247" y="0"/>
                    </a:lnTo>
                    <a:close/>
                  </a:path>
                </a:pathLst>
              </a:custGeom>
              <a:solidFill>
                <a:srgbClr val="9b84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929240" y="3474720"/>
                <a:ext cx="496800" cy="137880"/>
              </a:xfrm>
              <a:custGeom>
                <a:avLst/>
                <a:gdLst/>
                <a:ahLst/>
                <a:rect l="l" t="t" r="r" b="b"/>
                <a:pathLst>
                  <a:path w="767" h="225">
                    <a:moveTo>
                      <a:pt x="0" y="53"/>
                    </a:moveTo>
                    <a:lnTo>
                      <a:pt x="377" y="0"/>
                    </a:lnTo>
                    <a:lnTo>
                      <a:pt x="767" y="40"/>
                    </a:lnTo>
                    <a:lnTo>
                      <a:pt x="767" y="212"/>
                    </a:lnTo>
                    <a:lnTo>
                      <a:pt x="338" y="225"/>
                    </a:lnTo>
                    <a:lnTo>
                      <a:pt x="338" y="79"/>
                    </a:lnTo>
                    <a:lnTo>
                      <a:pt x="208" y="79"/>
                    </a:lnTo>
                    <a:lnTo>
                      <a:pt x="208" y="212"/>
                    </a:lnTo>
                    <a:lnTo>
                      <a:pt x="13" y="225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9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937520" y="3482640"/>
                <a:ext cx="488520" cy="121680"/>
              </a:xfrm>
              <a:custGeom>
                <a:avLst/>
                <a:gdLst/>
                <a:ahLst/>
                <a:rect l="l" t="t" r="r" b="b"/>
                <a:pathLst>
                  <a:path w="754" h="199">
                    <a:moveTo>
                      <a:pt x="403" y="0"/>
                    </a:moveTo>
                    <a:lnTo>
                      <a:pt x="754" y="40"/>
                    </a:lnTo>
                    <a:lnTo>
                      <a:pt x="754" y="185"/>
                    </a:lnTo>
                    <a:lnTo>
                      <a:pt x="741" y="66"/>
                    </a:lnTo>
                    <a:lnTo>
                      <a:pt x="702" y="80"/>
                    </a:lnTo>
                    <a:lnTo>
                      <a:pt x="702" y="146"/>
                    </a:lnTo>
                    <a:lnTo>
                      <a:pt x="702" y="185"/>
                    </a:lnTo>
                    <a:lnTo>
                      <a:pt x="663" y="185"/>
                    </a:lnTo>
                    <a:lnTo>
                      <a:pt x="663" y="66"/>
                    </a:lnTo>
                    <a:lnTo>
                      <a:pt x="624" y="53"/>
                    </a:lnTo>
                    <a:lnTo>
                      <a:pt x="624" y="93"/>
                    </a:lnTo>
                    <a:lnTo>
                      <a:pt x="598" y="133"/>
                    </a:lnTo>
                    <a:lnTo>
                      <a:pt x="598" y="53"/>
                    </a:lnTo>
                    <a:lnTo>
                      <a:pt x="559" y="53"/>
                    </a:lnTo>
                    <a:lnTo>
                      <a:pt x="559" y="133"/>
                    </a:lnTo>
                    <a:lnTo>
                      <a:pt x="559" y="199"/>
                    </a:lnTo>
                    <a:lnTo>
                      <a:pt x="481" y="199"/>
                    </a:lnTo>
                    <a:lnTo>
                      <a:pt x="481" y="133"/>
                    </a:lnTo>
                    <a:lnTo>
                      <a:pt x="481" y="53"/>
                    </a:lnTo>
                    <a:lnTo>
                      <a:pt x="455" y="53"/>
                    </a:lnTo>
                    <a:lnTo>
                      <a:pt x="455" y="93"/>
                    </a:lnTo>
                    <a:lnTo>
                      <a:pt x="455" y="146"/>
                    </a:lnTo>
                    <a:lnTo>
                      <a:pt x="416" y="133"/>
                    </a:lnTo>
                    <a:lnTo>
                      <a:pt x="416" y="53"/>
                    </a:lnTo>
                    <a:lnTo>
                      <a:pt x="377" y="66"/>
                    </a:lnTo>
                    <a:lnTo>
                      <a:pt x="377" y="146"/>
                    </a:lnTo>
                    <a:lnTo>
                      <a:pt x="377" y="199"/>
                    </a:lnTo>
                    <a:lnTo>
                      <a:pt x="325" y="199"/>
                    </a:lnTo>
                    <a:lnTo>
                      <a:pt x="325" y="53"/>
                    </a:lnTo>
                    <a:lnTo>
                      <a:pt x="325" y="14"/>
                    </a:lnTo>
                    <a:lnTo>
                      <a:pt x="299" y="27"/>
                    </a:lnTo>
                    <a:lnTo>
                      <a:pt x="299" y="66"/>
                    </a:lnTo>
                    <a:lnTo>
                      <a:pt x="247" y="66"/>
                    </a:lnTo>
                    <a:lnTo>
                      <a:pt x="247" y="27"/>
                    </a:lnTo>
                    <a:lnTo>
                      <a:pt x="208" y="40"/>
                    </a:lnTo>
                    <a:lnTo>
                      <a:pt x="182" y="53"/>
                    </a:lnTo>
                    <a:lnTo>
                      <a:pt x="182" y="185"/>
                    </a:lnTo>
                    <a:lnTo>
                      <a:pt x="156" y="172"/>
                    </a:lnTo>
                    <a:lnTo>
                      <a:pt x="156" y="119"/>
                    </a:lnTo>
                    <a:lnTo>
                      <a:pt x="130" y="119"/>
                    </a:lnTo>
                    <a:lnTo>
                      <a:pt x="130" y="185"/>
                    </a:lnTo>
                    <a:lnTo>
                      <a:pt x="91" y="199"/>
                    </a:lnTo>
                    <a:lnTo>
                      <a:pt x="91" y="119"/>
                    </a:lnTo>
                    <a:lnTo>
                      <a:pt x="91" y="66"/>
                    </a:lnTo>
                    <a:lnTo>
                      <a:pt x="52" y="66"/>
                    </a:lnTo>
                    <a:lnTo>
                      <a:pt x="52" y="133"/>
                    </a:lnTo>
                    <a:lnTo>
                      <a:pt x="0" y="146"/>
                    </a:lnTo>
                    <a:lnTo>
                      <a:pt x="0" y="53"/>
                    </a:lnTo>
                    <a:lnTo>
                      <a:pt x="117" y="27"/>
                    </a:lnTo>
                    <a:lnTo>
                      <a:pt x="117" y="80"/>
                    </a:lnTo>
                    <a:lnTo>
                      <a:pt x="130" y="66"/>
                    </a:lnTo>
                    <a:lnTo>
                      <a:pt x="130" y="27"/>
                    </a:lnTo>
                    <a:lnTo>
                      <a:pt x="208" y="14"/>
                    </a:lnTo>
                    <a:lnTo>
                      <a:pt x="403" y="0"/>
                    </a:lnTo>
                    <a:close/>
                  </a:path>
                </a:pathLst>
              </a:custGeom>
              <a:solidFill>
                <a:srgbClr val="a0b5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2165040" y="3458880"/>
                <a:ext cx="286200" cy="40320"/>
              </a:xfrm>
              <a:custGeom>
                <a:avLst/>
                <a:gdLst/>
                <a:ahLst/>
                <a:rect l="l" t="t" r="r" b="b"/>
                <a:pathLst>
                  <a:path w="442" h="66">
                    <a:moveTo>
                      <a:pt x="26" y="0"/>
                    </a:moveTo>
                    <a:lnTo>
                      <a:pt x="429" y="53"/>
                    </a:lnTo>
                    <a:lnTo>
                      <a:pt x="442" y="66"/>
                    </a:lnTo>
                    <a:lnTo>
                      <a:pt x="0" y="13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fa5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819440" y="3507120"/>
                <a:ext cx="117720" cy="105120"/>
              </a:xfrm>
              <a:custGeom>
                <a:avLst/>
                <a:gdLst/>
                <a:ahLst/>
                <a:rect l="l" t="t" r="r" b="b"/>
                <a:pathLst>
                  <a:path w="182" h="172">
                    <a:moveTo>
                      <a:pt x="182" y="0"/>
                    </a:moveTo>
                    <a:lnTo>
                      <a:pt x="182" y="172"/>
                    </a:lnTo>
                    <a:lnTo>
                      <a:pt x="130" y="172"/>
                    </a:lnTo>
                    <a:lnTo>
                      <a:pt x="130" y="119"/>
                    </a:lnTo>
                    <a:lnTo>
                      <a:pt x="130" y="93"/>
                    </a:lnTo>
                    <a:lnTo>
                      <a:pt x="104" y="106"/>
                    </a:lnTo>
                    <a:lnTo>
                      <a:pt x="104" y="159"/>
                    </a:lnTo>
                    <a:lnTo>
                      <a:pt x="65" y="172"/>
                    </a:lnTo>
                    <a:lnTo>
                      <a:pt x="65" y="132"/>
                    </a:lnTo>
                    <a:lnTo>
                      <a:pt x="65" y="40"/>
                    </a:lnTo>
                    <a:lnTo>
                      <a:pt x="39" y="40"/>
                    </a:lnTo>
                    <a:lnTo>
                      <a:pt x="39" y="66"/>
                    </a:lnTo>
                    <a:lnTo>
                      <a:pt x="0" y="93"/>
                    </a:lnTo>
                    <a:lnTo>
                      <a:pt x="0" y="13"/>
                    </a:lnTo>
                    <a:lnTo>
                      <a:pt x="104" y="13"/>
                    </a:lnTo>
                    <a:lnTo>
                      <a:pt x="104" y="53"/>
                    </a:lnTo>
                    <a:lnTo>
                      <a:pt x="143" y="4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2d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8" name=""/>
          <p:cNvSpPr/>
          <p:nvPr/>
        </p:nvSpPr>
        <p:spPr>
          <a:xfrm>
            <a:off x="2438280" y="30492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Perencana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038480" y="2743200"/>
            <a:ext cx="1371600" cy="914400"/>
          </a:xfrm>
          <a:custGeom>
            <a:avLst/>
            <a:gdLst>
              <a:gd name="textAreaLeft" fmla="*/ 214200 w 1371600"/>
              <a:gd name="textAreaRight" fmla="*/ 1148760 w 1371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4580" y="5400"/>
                </a:lnTo>
                <a:lnTo>
                  <a:pt x="14580" y="0"/>
                </a:lnTo>
                <a:lnTo>
                  <a:pt x="21600" y="10800"/>
                </a:lnTo>
                <a:lnTo>
                  <a:pt x="14580" y="21600"/>
                </a:lnTo>
                <a:lnTo>
                  <a:pt x="1458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6540840" y="4114800"/>
            <a:ext cx="1985040" cy="1236960"/>
            <a:chOff x="6540840" y="4114800"/>
            <a:chExt cx="1985040" cy="1236960"/>
          </a:xfrm>
        </p:grpSpPr>
        <p:sp>
          <p:nvSpPr>
            <p:cNvPr id="1211" name=""/>
            <p:cNvSpPr/>
            <p:nvPr/>
          </p:nvSpPr>
          <p:spPr>
            <a:xfrm>
              <a:off x="6540840" y="4952880"/>
              <a:ext cx="198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Benguiat Bk BT"/>
                </a:rPr>
                <a:t>Future Situ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238880" y="4114800"/>
              <a:ext cx="352440" cy="838080"/>
            </a:xfrm>
            <a:custGeom>
              <a:avLst/>
              <a:gdLst/>
              <a:ahLst/>
              <a:rect l="l" t="t" r="r" b="b"/>
              <a:pathLst>
                <a:path w="222" h="528">
                  <a:moveTo>
                    <a:pt x="0" y="0"/>
                  </a:moveTo>
                  <a:cubicBezTo>
                    <a:pt x="222" y="126"/>
                    <a:pt x="192" y="528"/>
                    <a:pt x="192" y="528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3" name=""/>
          <p:cNvGrpSpPr/>
          <p:nvPr/>
        </p:nvGrpSpPr>
        <p:grpSpPr>
          <a:xfrm>
            <a:off x="900720" y="4419720"/>
            <a:ext cx="2113200" cy="1062360"/>
            <a:chOff x="900720" y="4419720"/>
            <a:chExt cx="2113200" cy="1062360"/>
          </a:xfrm>
        </p:grpSpPr>
        <p:sp>
          <p:nvSpPr>
            <p:cNvPr id="1214" name=""/>
            <p:cNvSpPr/>
            <p:nvPr/>
          </p:nvSpPr>
          <p:spPr>
            <a:xfrm>
              <a:off x="900720" y="5083200"/>
              <a:ext cx="21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Benguiat Bk BT"/>
                </a:rPr>
                <a:t>Current Situ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695600" y="4419720"/>
              <a:ext cx="285480" cy="685800"/>
            </a:xfrm>
            <a:custGeom>
              <a:avLst/>
              <a:gdLst/>
              <a:ahLst/>
              <a:rect l="l" t="t" r="r" b="b"/>
              <a:pathLst>
                <a:path w="180" h="432">
                  <a:moveTo>
                    <a:pt x="180" y="0"/>
                  </a:moveTo>
                  <a:cubicBezTo>
                    <a:pt x="0" y="54"/>
                    <a:pt x="36" y="432"/>
                    <a:pt x="36" y="432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7169040" y="5410080"/>
            <a:ext cx="747720" cy="977760"/>
            <a:chOff x="7169040" y="5410080"/>
            <a:chExt cx="747720" cy="977760"/>
          </a:xfrm>
        </p:grpSpPr>
        <p:sp>
          <p:nvSpPr>
            <p:cNvPr id="1217" name=""/>
            <p:cNvSpPr/>
            <p:nvPr/>
          </p:nvSpPr>
          <p:spPr>
            <a:xfrm>
              <a:off x="7169040" y="5867280"/>
              <a:ext cx="74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66cc"/>
                  </a:solidFill>
                  <a:latin typeface="Benguiat Bk BT"/>
                </a:rPr>
                <a:t>Vis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7543800" y="541008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9" name=""/>
          <p:cNvGrpSpPr/>
          <p:nvPr/>
        </p:nvGrpSpPr>
        <p:grpSpPr>
          <a:xfrm>
            <a:off x="759600" y="5486400"/>
            <a:ext cx="1927080" cy="1145520"/>
            <a:chOff x="759600" y="5486400"/>
            <a:chExt cx="1927080" cy="1145520"/>
          </a:xfrm>
        </p:grpSpPr>
        <p:sp>
          <p:nvSpPr>
            <p:cNvPr id="1220" name=""/>
            <p:cNvSpPr/>
            <p:nvPr/>
          </p:nvSpPr>
          <p:spPr>
            <a:xfrm>
              <a:off x="759600" y="5867280"/>
              <a:ext cx="19270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erlu dilakuk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Benguiat Bk BT"/>
                </a:rPr>
                <a:t>Evaluasi Dir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593720" y="5486400"/>
              <a:ext cx="381240" cy="380880"/>
            </a:xfrm>
            <a:prstGeom prst="downArrow">
              <a:avLst>
                <a:gd name="adj1" fmla="val 45000"/>
                <a:gd name="adj2" fmla="val 375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3726360" y="1600200"/>
            <a:ext cx="2322000" cy="1254240"/>
            <a:chOff x="3726360" y="1600200"/>
            <a:chExt cx="2322000" cy="1254240"/>
          </a:xfrm>
        </p:grpSpPr>
        <p:sp>
          <p:nvSpPr>
            <p:cNvPr id="1223" name=""/>
            <p:cNvSpPr/>
            <p:nvPr/>
          </p:nvSpPr>
          <p:spPr>
            <a:xfrm>
              <a:off x="3726360" y="1600200"/>
              <a:ext cx="2322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enguiat Bk BT"/>
                </a:rPr>
                <a:t>Aktivitas untu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enguiat Bk BT"/>
                </a:rPr>
                <a:t>mengubah situas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48000" y="2359080"/>
              <a:ext cx="552600" cy="495360"/>
            </a:xfrm>
            <a:custGeom>
              <a:avLst/>
              <a:gdLst/>
              <a:ahLst/>
              <a:rect l="l" t="t" r="r" b="b"/>
              <a:pathLst>
                <a:path w="348" h="312">
                  <a:moveTo>
                    <a:pt x="120" y="312"/>
                  </a:moveTo>
                  <a:cubicBezTo>
                    <a:pt x="0" y="176"/>
                    <a:pt x="348" y="0"/>
                    <a:pt x="348" y="0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1600200" y="76320"/>
            <a:ext cx="7238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Perencanaan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Strateg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1371600" y="152280"/>
            <a:ext cx="4114800" cy="3627000"/>
            <a:chOff x="1371600" y="152280"/>
            <a:chExt cx="4114800" cy="3627000"/>
          </a:xfrm>
        </p:grpSpPr>
        <p:sp>
          <p:nvSpPr>
            <p:cNvPr id="1227" name=""/>
            <p:cNvSpPr/>
            <p:nvPr/>
          </p:nvSpPr>
          <p:spPr>
            <a:xfrm>
              <a:off x="1371600" y="152280"/>
              <a:ext cx="4114800" cy="3200400"/>
            </a:xfrm>
            <a:prstGeom prst="wedgeRoundRectCallout">
              <a:avLst>
                <a:gd name="adj1" fmla="val -54129"/>
                <a:gd name="adj2" fmla="val 60666"/>
                <a:gd name="adj3" fmla="val 16667"/>
              </a:avLst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600200" y="304920"/>
              <a:ext cx="3749760" cy="34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nguiat Bk BT"/>
                </a:rPr>
                <a:t>Tujuan organisasi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Benguiat Bk BT"/>
                </a:rPr>
                <a:t>institutional objective</a:t>
              </a:r>
              <a:r>
                <a:rPr b="0" lang="en-US" sz="1800" spc="-1" strike="noStrike">
                  <a:solidFill>
                    <a:srgbClr val="000000"/>
                  </a:solidFill>
                  <a:latin typeface="Benguiat Bk BT"/>
                </a:rPr>
                <a:t>)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echnical"/>
                </a:rPr>
                <a:t>Rincian yang jelas mengenai kondisi yang dicita-citakan (dengan </a:t>
              </a:r>
              <a:r>
                <a:rPr b="1" lang="en-US" sz="1400" spc="-1" strike="noStrike">
                  <a:solidFill>
                    <a:srgbClr val="ff0000"/>
                  </a:solidFill>
                  <a:latin typeface="Technical"/>
                </a:rPr>
                <a:t>standar</a:t>
              </a:r>
              <a:r>
                <a:rPr b="1" lang="en-US" sz="1400" spc="-1" strike="noStrike">
                  <a:solidFill>
                    <a:srgbClr val="000000"/>
                  </a:solidFill>
                  <a:latin typeface="Technical"/>
                </a:rPr>
                <a:t> yang telah ditentukan) melalui pelaksanaan kegiatan dalam penyelenggaraan </a:t>
              </a:r>
              <a:r>
                <a:rPr b="1" lang="en-US" sz="1400" spc="-1" strike="noStrike">
                  <a:solidFill>
                    <a:srgbClr val="ff0000"/>
                  </a:solidFill>
                  <a:latin typeface="Technical"/>
                </a:rPr>
                <a:t>mis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nguiat Bk BT"/>
                </a:rPr>
                <a:t>Tujuan perencanaan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echnical"/>
                </a:rPr>
                <a:t>Rincian yang jelas mengenai apa yang akan dicapai atau masalah yang akan diselesaikan (dengan </a:t>
              </a:r>
              <a:r>
                <a:rPr b="1" lang="en-US" sz="1400" spc="-1" strike="noStrike">
                  <a:solidFill>
                    <a:srgbClr val="ff0000"/>
                  </a:solidFill>
                  <a:latin typeface="Technical"/>
                </a:rPr>
                <a:t>kriteria keberhasilan</a:t>
              </a:r>
              <a:r>
                <a:rPr b="1" lang="en-US" sz="1400" spc="-1" strike="noStrike">
                  <a:solidFill>
                    <a:srgbClr val="000000"/>
                  </a:solidFill>
                  <a:latin typeface="Technical"/>
                </a:rPr>
                <a:t> yang pasti) melalui pelaksanaan kegiat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9" name=""/>
          <p:cNvGrpSpPr/>
          <p:nvPr/>
        </p:nvGrpSpPr>
        <p:grpSpPr>
          <a:xfrm>
            <a:off x="1600200" y="457200"/>
            <a:ext cx="4114800" cy="2940840"/>
            <a:chOff x="1600200" y="457200"/>
            <a:chExt cx="4114800" cy="2940840"/>
          </a:xfrm>
        </p:grpSpPr>
        <p:sp>
          <p:nvSpPr>
            <p:cNvPr id="1230" name=""/>
            <p:cNvSpPr/>
            <p:nvPr/>
          </p:nvSpPr>
          <p:spPr>
            <a:xfrm>
              <a:off x="1600200" y="457200"/>
              <a:ext cx="4114800" cy="2895480"/>
            </a:xfrm>
            <a:prstGeom prst="wedgeRoundRectCallout">
              <a:avLst>
                <a:gd name="adj1" fmla="val -58875"/>
                <a:gd name="adj2" fmla="val 68365"/>
                <a:gd name="adj3" fmla="val 16667"/>
              </a:avLst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828800" y="685440"/>
              <a:ext cx="3749760" cy="27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nguiat Bk BT"/>
                </a:rPr>
                <a:t>Misi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echnical"/>
                </a:rPr>
                <a:t>Menguraikan kegiatan utama yang harus diselenggarakan untuk mencapai </a:t>
              </a:r>
              <a:r>
                <a:rPr b="1" lang="en-US" sz="1400" spc="-1" strike="noStrike">
                  <a:solidFill>
                    <a:srgbClr val="ff0000"/>
                  </a:solidFill>
                  <a:latin typeface="Technical"/>
                </a:rPr>
                <a:t>Vis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Pada umumnya misi mengandung 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Alasan utama keberadaan lembaga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  dimasyarakat (jati diri lembaga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Masalah utama yang dihadapi da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  diselesaikan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Falsafah, tata nilai dan kultur organisasi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Times New Roman"/>
                </a:rPr>
                <a:t>  yang menjadi landasan kegiatan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1447920" y="1752480"/>
            <a:ext cx="3962160" cy="1676160"/>
            <a:chOff x="1447920" y="1752480"/>
            <a:chExt cx="3962160" cy="1676160"/>
          </a:xfrm>
        </p:grpSpPr>
        <p:sp>
          <p:nvSpPr>
            <p:cNvPr id="1233" name=""/>
            <p:cNvSpPr/>
            <p:nvPr/>
          </p:nvSpPr>
          <p:spPr>
            <a:xfrm>
              <a:off x="1447920" y="1752480"/>
              <a:ext cx="3962160" cy="1676160"/>
            </a:xfrm>
            <a:prstGeom prst="wedgeRoundRectCallout">
              <a:avLst>
                <a:gd name="adj1" fmla="val -56050"/>
                <a:gd name="adj2" fmla="val 89962"/>
                <a:gd name="adj3" fmla="val 16667"/>
              </a:avLst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523880" y="1904760"/>
              <a:ext cx="3749760" cy="14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nguiat Bk BT"/>
                </a:rPr>
                <a:t>Vis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echnical"/>
                </a:rPr>
                <a:t>Keadaan lembaga yang dicita-citakan secara kolektif pada akhir suatu kurun waktu tertentu, karena terselenggaranya </a:t>
              </a:r>
              <a:r>
                <a:rPr b="1" lang="en-US" sz="1400" spc="-1" strike="noStrike">
                  <a:solidFill>
                    <a:srgbClr val="ff0000"/>
                  </a:solidFill>
                  <a:latin typeface="Technical"/>
                </a:rPr>
                <a:t>Misi</a:t>
              </a:r>
              <a:r>
                <a:rPr b="1" lang="en-US" sz="1400" spc="-1" strike="noStrike">
                  <a:solidFill>
                    <a:srgbClr val="000000"/>
                  </a:solidFill>
                  <a:latin typeface="Technical"/>
                </a:rPr>
                <a:t> dan tercapainya </a:t>
              </a:r>
              <a:r>
                <a:rPr b="1" lang="en-US" sz="1400" spc="-1" strike="noStrike">
                  <a:solidFill>
                    <a:srgbClr val="ff0000"/>
                  </a:solidFill>
                  <a:latin typeface="Technical"/>
                </a:rPr>
                <a:t>Tuju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447920" y="1981080"/>
            <a:ext cx="3962160" cy="1799640"/>
            <a:chOff x="1447920" y="1981080"/>
            <a:chExt cx="3962160" cy="1799640"/>
          </a:xfrm>
        </p:grpSpPr>
        <p:sp>
          <p:nvSpPr>
            <p:cNvPr id="1236" name=""/>
            <p:cNvSpPr/>
            <p:nvPr/>
          </p:nvSpPr>
          <p:spPr>
            <a:xfrm>
              <a:off x="1447920" y="1981080"/>
              <a:ext cx="3962160" cy="1676520"/>
            </a:xfrm>
            <a:prstGeom prst="wedgeRoundRectCallout">
              <a:avLst>
                <a:gd name="adj1" fmla="val -56050"/>
                <a:gd name="adj2" fmla="val 89962"/>
                <a:gd name="adj3" fmla="val 16667"/>
              </a:avLst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23880" y="2133720"/>
              <a:ext cx="374904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nguiat Bk BT"/>
                </a:rPr>
                <a:t>Mandat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echnical"/>
                </a:rPr>
                <a:t>Kewenangan, kewajiban dan hak yang ada dan mengikat lembaga/perguruan tinggi untuk mencapai tujuan dalam kesepakatan dengan „stake-holders“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150120" y="4495680"/>
            <a:ext cx="1927080" cy="1556640"/>
            <a:chOff x="150120" y="4495680"/>
            <a:chExt cx="1927080" cy="1556640"/>
          </a:xfrm>
        </p:grpSpPr>
        <p:grpSp>
          <p:nvGrpSpPr>
            <p:cNvPr id="1239" name=""/>
            <p:cNvGrpSpPr/>
            <p:nvPr/>
          </p:nvGrpSpPr>
          <p:grpSpPr>
            <a:xfrm>
              <a:off x="150120" y="4952880"/>
              <a:ext cx="1927080" cy="1099440"/>
              <a:chOff x="150120" y="4952880"/>
              <a:chExt cx="1927080" cy="1099440"/>
            </a:xfrm>
          </p:grpSpPr>
          <p:pic>
            <p:nvPicPr>
              <p:cNvPr id="124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4952880"/>
                <a:ext cx="1371600" cy="91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>
                <a:off x="150120" y="5715000"/>
                <a:ext cx="1927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Benguiat Bk BT"/>
                  </a:rPr>
                  <a:t>Board of Directo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2" name=""/>
            <p:cNvSpPr/>
            <p:nvPr/>
          </p:nvSpPr>
          <p:spPr>
            <a:xfrm flipV="1">
              <a:off x="762120" y="4495680"/>
              <a:ext cx="304560" cy="380880"/>
            </a:xfrm>
            <a:prstGeom prst="downArrow">
              <a:avLst>
                <a:gd name="adj1" fmla="val 50000"/>
                <a:gd name="adj2" fmla="val 4689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3" name=""/>
          <p:cNvSpPr/>
          <p:nvPr/>
        </p:nvSpPr>
        <p:spPr>
          <a:xfrm>
            <a:off x="234720" y="3556080"/>
            <a:ext cx="985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n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2895480" y="3660840"/>
            <a:ext cx="1295280" cy="685800"/>
            <a:chOff x="2895480" y="3660840"/>
            <a:chExt cx="1295280" cy="685800"/>
          </a:xfrm>
        </p:grpSpPr>
        <p:grpSp>
          <p:nvGrpSpPr>
            <p:cNvPr id="1245" name=""/>
            <p:cNvGrpSpPr/>
            <p:nvPr/>
          </p:nvGrpSpPr>
          <p:grpSpPr>
            <a:xfrm>
              <a:off x="3200040" y="3660840"/>
              <a:ext cx="990720" cy="685800"/>
              <a:chOff x="3200040" y="3660840"/>
              <a:chExt cx="990720" cy="685800"/>
            </a:xfrm>
          </p:grpSpPr>
          <p:sp>
            <p:nvSpPr>
              <p:cNvPr id="1246" name=""/>
              <p:cNvSpPr/>
              <p:nvPr/>
            </p:nvSpPr>
            <p:spPr>
              <a:xfrm>
                <a:off x="3200040" y="3660840"/>
                <a:ext cx="990720" cy="685800"/>
              </a:xfrm>
              <a:prstGeom prst="roundRect">
                <a:avLst>
                  <a:gd name="adj" fmla="val 16667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263040" y="3745080"/>
                <a:ext cx="866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trateg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ssu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8" name=""/>
            <p:cNvSpPr/>
            <p:nvPr/>
          </p:nvSpPr>
          <p:spPr>
            <a:xfrm>
              <a:off x="2895480" y="3851280"/>
              <a:ext cx="304560" cy="30492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9" name=""/>
          <p:cNvGrpSpPr/>
          <p:nvPr/>
        </p:nvGrpSpPr>
        <p:grpSpPr>
          <a:xfrm>
            <a:off x="228600" y="4532040"/>
            <a:ext cx="5562720" cy="2046600"/>
            <a:chOff x="228600" y="4532040"/>
            <a:chExt cx="5562720" cy="2046600"/>
          </a:xfrm>
        </p:grpSpPr>
        <p:grpSp>
          <p:nvGrpSpPr>
            <p:cNvPr id="1250" name=""/>
            <p:cNvGrpSpPr/>
            <p:nvPr/>
          </p:nvGrpSpPr>
          <p:grpSpPr>
            <a:xfrm>
              <a:off x="228600" y="4800600"/>
              <a:ext cx="5562720" cy="1778040"/>
              <a:chOff x="228600" y="4800600"/>
              <a:chExt cx="5562720" cy="1778040"/>
            </a:xfrm>
          </p:grpSpPr>
          <p:sp>
            <p:nvSpPr>
              <p:cNvPr id="1251" name=""/>
              <p:cNvSpPr/>
              <p:nvPr/>
            </p:nvSpPr>
            <p:spPr>
              <a:xfrm>
                <a:off x="228600" y="4800600"/>
                <a:ext cx="5562720" cy="177804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52" name=""/>
              <p:cNvGrpSpPr/>
              <p:nvPr/>
            </p:nvGrpSpPr>
            <p:grpSpPr>
              <a:xfrm>
                <a:off x="423360" y="4819680"/>
                <a:ext cx="5198400" cy="1219680"/>
                <a:chOff x="423360" y="4819680"/>
                <a:chExt cx="5198400" cy="1219680"/>
              </a:xfrm>
            </p:grpSpPr>
            <p:sp>
              <p:nvSpPr>
                <p:cNvPr id="1253" name=""/>
                <p:cNvSpPr/>
                <p:nvPr/>
              </p:nvSpPr>
              <p:spPr>
                <a:xfrm>
                  <a:off x="1875960" y="4819680"/>
                  <a:ext cx="148680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Resourc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Hum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Financi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hysic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nform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Flow of Cooper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423360" y="4819680"/>
                  <a:ext cx="13359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Organization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ultu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3475800" y="4819680"/>
                  <a:ext cx="9489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Process &amp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Servic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4694400" y="4819680"/>
                  <a:ext cx="9273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Output &amp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Outcom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7" name=""/>
              <p:cNvSpPr/>
              <p:nvPr/>
            </p:nvSpPr>
            <p:spPr>
              <a:xfrm>
                <a:off x="1916280" y="6180120"/>
                <a:ext cx="25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Benguiat Bk BT"/>
                  </a:rPr>
                  <a:t>Internal Environ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8" name=""/>
            <p:cNvSpPr/>
            <p:nvPr/>
          </p:nvSpPr>
          <p:spPr>
            <a:xfrm rot="16200000">
              <a:off x="2147760" y="4227120"/>
              <a:ext cx="228600" cy="838080"/>
            </a:xfrm>
            <a:prstGeom prst="rightArrow">
              <a:avLst>
                <a:gd name="adj1" fmla="val 47731"/>
                <a:gd name="adj2" fmla="val 65972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1233360" y="3556080"/>
            <a:ext cx="1662120" cy="914400"/>
            <a:chOff x="1233360" y="3556080"/>
            <a:chExt cx="1662120" cy="914400"/>
          </a:xfrm>
        </p:grpSpPr>
        <p:grpSp>
          <p:nvGrpSpPr>
            <p:cNvPr id="1260" name=""/>
            <p:cNvGrpSpPr/>
            <p:nvPr/>
          </p:nvGrpSpPr>
          <p:grpSpPr>
            <a:xfrm>
              <a:off x="1600200" y="3556080"/>
              <a:ext cx="1295280" cy="914400"/>
              <a:chOff x="1600200" y="3556080"/>
              <a:chExt cx="1295280" cy="914400"/>
            </a:xfrm>
          </p:grpSpPr>
          <p:sp>
            <p:nvSpPr>
              <p:cNvPr id="1261" name=""/>
              <p:cNvSpPr/>
              <p:nvPr/>
            </p:nvSpPr>
            <p:spPr>
              <a:xfrm>
                <a:off x="1600200" y="3556080"/>
                <a:ext cx="1295280" cy="91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611000" y="3648240"/>
                <a:ext cx="12733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valu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nalys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terpret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3" name=""/>
            <p:cNvSpPr/>
            <p:nvPr/>
          </p:nvSpPr>
          <p:spPr>
            <a:xfrm>
              <a:off x="1233360" y="3632040"/>
              <a:ext cx="324000" cy="838440"/>
            </a:xfrm>
            <a:prstGeom prst="rightArrow">
              <a:avLst>
                <a:gd name="adj1" fmla="val 47731"/>
                <a:gd name="adj2" fmla="val 65972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4" name=""/>
          <p:cNvGrpSpPr/>
          <p:nvPr/>
        </p:nvGrpSpPr>
        <p:grpSpPr>
          <a:xfrm>
            <a:off x="533520" y="1523880"/>
            <a:ext cx="4876560" cy="1983600"/>
            <a:chOff x="533520" y="1523880"/>
            <a:chExt cx="4876560" cy="1983600"/>
          </a:xfrm>
        </p:grpSpPr>
        <p:grpSp>
          <p:nvGrpSpPr>
            <p:cNvPr id="1265" name=""/>
            <p:cNvGrpSpPr/>
            <p:nvPr/>
          </p:nvGrpSpPr>
          <p:grpSpPr>
            <a:xfrm>
              <a:off x="533520" y="1523880"/>
              <a:ext cx="4876560" cy="1676160"/>
              <a:chOff x="533520" y="1523880"/>
              <a:chExt cx="4876560" cy="1676160"/>
            </a:xfrm>
          </p:grpSpPr>
          <p:sp>
            <p:nvSpPr>
              <p:cNvPr id="1266" name=""/>
              <p:cNvSpPr/>
              <p:nvPr/>
            </p:nvSpPr>
            <p:spPr>
              <a:xfrm>
                <a:off x="533520" y="1523880"/>
                <a:ext cx="4876560" cy="167616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34680" y="1923840"/>
                <a:ext cx="1312920" cy="121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re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di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olitic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ult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ci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Education Syste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106720" y="1930320"/>
                <a:ext cx="1233720" cy="10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take-holde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tud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cademic Staf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s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Gover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3860640" y="1930320"/>
                <a:ext cx="1078200" cy="10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Job Mark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ndust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mmun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Gover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90560" y="1549080"/>
                <a:ext cx="433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Benguiat Bk BT"/>
                  </a:rPr>
                  <a:t>External Environment 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Benguiat Bk BT"/>
                  </a:rPr>
                  <a:t>(Local, National, Global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 flipV="1" rot="5400000">
              <a:off x="2143080" y="2973600"/>
              <a:ext cx="228600" cy="838440"/>
            </a:xfrm>
            <a:prstGeom prst="rightArrow">
              <a:avLst>
                <a:gd name="adj1" fmla="val 47731"/>
                <a:gd name="adj2" fmla="val 65972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6019920" y="1676520"/>
            <a:ext cx="2286000" cy="1371600"/>
            <a:chOff x="6019920" y="1676520"/>
            <a:chExt cx="2286000" cy="1371600"/>
          </a:xfrm>
        </p:grpSpPr>
        <p:grpSp>
          <p:nvGrpSpPr>
            <p:cNvPr id="1273" name=""/>
            <p:cNvGrpSpPr/>
            <p:nvPr/>
          </p:nvGrpSpPr>
          <p:grpSpPr>
            <a:xfrm>
              <a:off x="6781680" y="1676520"/>
              <a:ext cx="1524240" cy="1371600"/>
              <a:chOff x="6781680" y="1676520"/>
              <a:chExt cx="1524240" cy="1371600"/>
            </a:xfrm>
          </p:grpSpPr>
          <p:sp>
            <p:nvSpPr>
              <p:cNvPr id="1274" name=""/>
              <p:cNvSpPr/>
              <p:nvPr/>
            </p:nvSpPr>
            <p:spPr>
              <a:xfrm>
                <a:off x="6781680" y="1676520"/>
                <a:ext cx="1524240" cy="1371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859800" y="1981440"/>
                <a:ext cx="1412280" cy="64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Opportunit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&amp; Threa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6" name=""/>
            <p:cNvSpPr/>
            <p:nvPr/>
          </p:nvSpPr>
          <p:spPr>
            <a:xfrm>
              <a:off x="6019920" y="2209680"/>
              <a:ext cx="609480" cy="457200"/>
            </a:xfrm>
            <a:prstGeom prst="rightArrow">
              <a:avLst>
                <a:gd name="adj1" fmla="val 50000"/>
                <a:gd name="adj2" fmla="val 645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7" name=""/>
          <p:cNvGrpSpPr/>
          <p:nvPr/>
        </p:nvGrpSpPr>
        <p:grpSpPr>
          <a:xfrm>
            <a:off x="6019920" y="3352680"/>
            <a:ext cx="2286000" cy="1371600"/>
            <a:chOff x="6019920" y="3352680"/>
            <a:chExt cx="2286000" cy="1371600"/>
          </a:xfrm>
        </p:grpSpPr>
        <p:grpSp>
          <p:nvGrpSpPr>
            <p:cNvPr id="1278" name=""/>
            <p:cNvGrpSpPr/>
            <p:nvPr/>
          </p:nvGrpSpPr>
          <p:grpSpPr>
            <a:xfrm>
              <a:off x="6781680" y="3352680"/>
              <a:ext cx="1524240" cy="1371600"/>
              <a:chOff x="6781680" y="3352680"/>
              <a:chExt cx="1524240" cy="1371600"/>
            </a:xfrm>
          </p:grpSpPr>
          <p:sp>
            <p:nvSpPr>
              <p:cNvPr id="1279" name=""/>
              <p:cNvSpPr/>
              <p:nvPr/>
            </p:nvSpPr>
            <p:spPr>
              <a:xfrm>
                <a:off x="6781680" y="3352680"/>
                <a:ext cx="1524240" cy="1371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935400" y="3809880"/>
                <a:ext cx="1213920" cy="398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L-RAI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1" name=""/>
            <p:cNvSpPr/>
            <p:nvPr/>
          </p:nvSpPr>
          <p:spPr>
            <a:xfrm>
              <a:off x="6019920" y="3733920"/>
              <a:ext cx="609480" cy="457200"/>
            </a:xfrm>
            <a:prstGeom prst="rightArrow">
              <a:avLst>
                <a:gd name="adj1" fmla="val 50000"/>
                <a:gd name="adj2" fmla="val 645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6019920" y="5105520"/>
            <a:ext cx="2285640" cy="1371600"/>
            <a:chOff x="6019920" y="5105520"/>
            <a:chExt cx="2285640" cy="1371600"/>
          </a:xfrm>
        </p:grpSpPr>
        <p:grpSp>
          <p:nvGrpSpPr>
            <p:cNvPr id="1283" name=""/>
            <p:cNvGrpSpPr/>
            <p:nvPr/>
          </p:nvGrpSpPr>
          <p:grpSpPr>
            <a:xfrm>
              <a:off x="6781680" y="5105520"/>
              <a:ext cx="1523880" cy="1371600"/>
              <a:chOff x="6781680" y="5105520"/>
              <a:chExt cx="1523880" cy="1371600"/>
            </a:xfrm>
          </p:grpSpPr>
          <p:sp>
            <p:nvSpPr>
              <p:cNvPr id="1284" name=""/>
              <p:cNvSpPr/>
              <p:nvPr/>
            </p:nvSpPr>
            <p:spPr>
              <a:xfrm>
                <a:off x="6781680" y="5105520"/>
                <a:ext cx="1523880" cy="1371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859800" y="5410440"/>
                <a:ext cx="1348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trength &amp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Weakness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6" name=""/>
            <p:cNvSpPr/>
            <p:nvPr/>
          </p:nvSpPr>
          <p:spPr>
            <a:xfrm>
              <a:off x="6019920" y="5486400"/>
              <a:ext cx="609480" cy="457200"/>
            </a:xfrm>
            <a:prstGeom prst="rightArrow">
              <a:avLst>
                <a:gd name="adj1" fmla="val 50000"/>
                <a:gd name="adj2" fmla="val 645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3617280" y="1289880"/>
            <a:ext cx="5374080" cy="2719800"/>
            <a:chOff x="3617280" y="1289880"/>
            <a:chExt cx="5374080" cy="2719800"/>
          </a:xfrm>
        </p:grpSpPr>
        <p:grpSp>
          <p:nvGrpSpPr>
            <p:cNvPr id="1288" name=""/>
            <p:cNvGrpSpPr/>
            <p:nvPr/>
          </p:nvGrpSpPr>
          <p:grpSpPr>
            <a:xfrm>
              <a:off x="5562360" y="1828800"/>
              <a:ext cx="3429000" cy="1142640"/>
              <a:chOff x="5562360" y="1828800"/>
              <a:chExt cx="3429000" cy="1142640"/>
            </a:xfrm>
          </p:grpSpPr>
          <p:sp>
            <p:nvSpPr>
              <p:cNvPr id="1289" name=""/>
              <p:cNvSpPr/>
              <p:nvPr/>
            </p:nvSpPr>
            <p:spPr>
              <a:xfrm>
                <a:off x="5562360" y="1828800"/>
                <a:ext cx="3429000" cy="114264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592600" y="1942920"/>
                <a:ext cx="3368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ssue yang sangat menentukan keberadaan, keadaan dan kinerja organisasi kerj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1" name=""/>
            <p:cNvGrpSpPr/>
            <p:nvPr/>
          </p:nvGrpSpPr>
          <p:grpSpPr>
            <a:xfrm>
              <a:off x="3617280" y="1289880"/>
              <a:ext cx="2156400" cy="2719800"/>
              <a:chOff x="3617280" y="1289880"/>
              <a:chExt cx="2156400" cy="2719800"/>
            </a:xfrm>
          </p:grpSpPr>
          <p:sp>
            <p:nvSpPr>
              <p:cNvPr id="1292" name=""/>
              <p:cNvSpPr/>
              <p:nvPr/>
            </p:nvSpPr>
            <p:spPr>
              <a:xfrm rot="17553000">
                <a:off x="3581640" y="2637720"/>
                <a:ext cx="1422720" cy="863640"/>
              </a:xfrm>
              <a:custGeom>
                <a:avLst/>
                <a:gdLst/>
                <a:ahLst/>
                <a:rect l="l" t="t" r="r" b="b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17553000">
                <a:off x="4978800" y="1707120"/>
                <a:ext cx="736560" cy="617040"/>
              </a:xfrm>
              <a:custGeom>
                <a:avLst/>
                <a:gdLst/>
                <a:ahLst/>
                <a:rect l="l" t="t" r="r" b="b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rot="17553000">
                <a:off x="4702320" y="2617560"/>
                <a:ext cx="880560" cy="384120"/>
              </a:xfrm>
              <a:custGeom>
                <a:avLst/>
                <a:gdLst/>
                <a:ahLst/>
                <a:rect l="l" t="t" r="r" b="b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rot="17553000">
                <a:off x="3399840" y="2064240"/>
                <a:ext cx="2458800" cy="1170720"/>
              </a:xfrm>
              <a:custGeom>
                <a:avLst/>
                <a:gdLst/>
                <a:ahLst/>
                <a:rect l="l" t="t" r="r" b="b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6" name=""/>
          <p:cNvGrpSpPr/>
          <p:nvPr/>
        </p:nvGrpSpPr>
        <p:grpSpPr>
          <a:xfrm>
            <a:off x="5943600" y="3124080"/>
            <a:ext cx="2911320" cy="2057400"/>
            <a:chOff x="5943600" y="3124080"/>
            <a:chExt cx="2911320" cy="2057400"/>
          </a:xfrm>
        </p:grpSpPr>
        <p:grpSp>
          <p:nvGrpSpPr>
            <p:cNvPr id="1297" name=""/>
            <p:cNvGrpSpPr/>
            <p:nvPr/>
          </p:nvGrpSpPr>
          <p:grpSpPr>
            <a:xfrm>
              <a:off x="5943600" y="3657600"/>
              <a:ext cx="2911320" cy="1523880"/>
              <a:chOff x="5943600" y="3657600"/>
              <a:chExt cx="2911320" cy="1523880"/>
            </a:xfrm>
          </p:grpSpPr>
          <p:sp>
            <p:nvSpPr>
              <p:cNvPr id="1298" name=""/>
              <p:cNvSpPr/>
              <p:nvPr/>
            </p:nvSpPr>
            <p:spPr>
              <a:xfrm>
                <a:off x="5943600" y="3657600"/>
                <a:ext cx="2895480" cy="152388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943600" y="3657600"/>
                <a:ext cx="29113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Kalau ditangani dengan tidak baik atau diabaikan, keadaan dan kinerja organisasi kerja akan sangat menurun, bahkan keberadaannya teranca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0" name=""/>
            <p:cNvSpPr/>
            <p:nvPr/>
          </p:nvSpPr>
          <p:spPr>
            <a:xfrm>
              <a:off x="7238880" y="3124080"/>
              <a:ext cx="380880" cy="381240"/>
            </a:xfrm>
            <a:prstGeom prst="downArrow">
              <a:avLst>
                <a:gd name="adj1" fmla="val 50000"/>
                <a:gd name="adj2" fmla="val 38369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1" name=""/>
          <p:cNvGrpSpPr/>
          <p:nvPr/>
        </p:nvGrpSpPr>
        <p:grpSpPr>
          <a:xfrm>
            <a:off x="228600" y="1523880"/>
            <a:ext cx="5562720" cy="5054760"/>
            <a:chOff x="228600" y="1523880"/>
            <a:chExt cx="5562720" cy="5054760"/>
          </a:xfrm>
        </p:grpSpPr>
        <p:grpSp>
          <p:nvGrpSpPr>
            <p:cNvPr id="1302" name=""/>
            <p:cNvGrpSpPr/>
            <p:nvPr/>
          </p:nvGrpSpPr>
          <p:grpSpPr>
            <a:xfrm>
              <a:off x="533520" y="1523880"/>
              <a:ext cx="4876560" cy="1676160"/>
              <a:chOff x="533520" y="1523880"/>
              <a:chExt cx="4876560" cy="1676160"/>
            </a:xfrm>
          </p:grpSpPr>
          <p:sp>
            <p:nvSpPr>
              <p:cNvPr id="1303" name=""/>
              <p:cNvSpPr/>
              <p:nvPr/>
            </p:nvSpPr>
            <p:spPr>
              <a:xfrm>
                <a:off x="533520" y="1523880"/>
                <a:ext cx="4876560" cy="167616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34680" y="1923840"/>
                <a:ext cx="1312920" cy="121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Tre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diolog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olitic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ultu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ci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Education Syste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106720" y="1930320"/>
                <a:ext cx="1233720" cy="10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take-holde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tud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cademic Staf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Us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Gover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860640" y="1930320"/>
                <a:ext cx="1078200" cy="10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Job Mark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ndust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mmun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Gover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90560" y="1549080"/>
                <a:ext cx="433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Benguiat Bk BT"/>
                  </a:rPr>
                  <a:t>External Environment </a:t>
                </a:r>
                <a:r>
                  <a:rPr b="1" i="1" lang="en-US" sz="1200" spc="-1" strike="noStrike">
                    <a:solidFill>
                      <a:srgbClr val="000000"/>
                    </a:solidFill>
                    <a:latin typeface="Benguiat Bk BT"/>
                  </a:rPr>
                  <a:t>(Local, National, Global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8" name=""/>
            <p:cNvSpPr/>
            <p:nvPr/>
          </p:nvSpPr>
          <p:spPr>
            <a:xfrm>
              <a:off x="234720" y="3556080"/>
              <a:ext cx="9853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bjecti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i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n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228600" y="4800600"/>
              <a:ext cx="5562720" cy="1778040"/>
              <a:chOff x="228600" y="4800600"/>
              <a:chExt cx="5562720" cy="1778040"/>
            </a:xfrm>
          </p:grpSpPr>
          <p:sp>
            <p:nvSpPr>
              <p:cNvPr id="1310" name=""/>
              <p:cNvSpPr/>
              <p:nvPr/>
            </p:nvSpPr>
            <p:spPr>
              <a:xfrm>
                <a:off x="228600" y="4800600"/>
                <a:ext cx="5562720" cy="177804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1" name=""/>
              <p:cNvGrpSpPr/>
              <p:nvPr/>
            </p:nvGrpSpPr>
            <p:grpSpPr>
              <a:xfrm>
                <a:off x="423360" y="4819680"/>
                <a:ext cx="5198400" cy="1219680"/>
                <a:chOff x="423360" y="4819680"/>
                <a:chExt cx="5198400" cy="121968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1875960" y="4819680"/>
                  <a:ext cx="148680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Resourc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Huma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Financi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hysic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nform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Flow of Cooper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423360" y="4819680"/>
                  <a:ext cx="13359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Organization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Cultu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3475800" y="4819680"/>
                  <a:ext cx="9489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Process &amp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Servic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4694400" y="4819680"/>
                  <a:ext cx="92736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Output &amp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 u="sng">
                      <a:solidFill>
                        <a:srgbClr val="000000"/>
                      </a:solidFill>
                      <a:uFillTx/>
                      <a:latin typeface="Times New Roman"/>
                    </a:rPr>
                    <a:t>Outcom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6" name=""/>
              <p:cNvSpPr/>
              <p:nvPr/>
            </p:nvSpPr>
            <p:spPr>
              <a:xfrm>
                <a:off x="1916280" y="6180120"/>
                <a:ext cx="2512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0000"/>
                    </a:solidFill>
                    <a:latin typeface="Benguiat Bk BT"/>
                  </a:rPr>
                  <a:t>Internal Environ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7" name=""/>
            <p:cNvGrpSpPr/>
            <p:nvPr/>
          </p:nvGrpSpPr>
          <p:grpSpPr>
            <a:xfrm>
              <a:off x="1233360" y="3278880"/>
              <a:ext cx="1662120" cy="1481400"/>
              <a:chOff x="1233360" y="3278880"/>
              <a:chExt cx="1662120" cy="1481400"/>
            </a:xfrm>
          </p:grpSpPr>
          <p:grpSp>
            <p:nvGrpSpPr>
              <p:cNvPr id="1318" name=""/>
              <p:cNvGrpSpPr/>
              <p:nvPr/>
            </p:nvGrpSpPr>
            <p:grpSpPr>
              <a:xfrm>
                <a:off x="1600200" y="3555720"/>
                <a:ext cx="1295280" cy="914400"/>
                <a:chOff x="1600200" y="3555720"/>
                <a:chExt cx="1295280" cy="91440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1600200" y="3555720"/>
                  <a:ext cx="1295280" cy="914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5490a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1611000" y="3647880"/>
                  <a:ext cx="1273320" cy="733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valua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nalys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Interpretat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1" name=""/>
              <p:cNvSpPr/>
              <p:nvPr/>
            </p:nvSpPr>
            <p:spPr>
              <a:xfrm>
                <a:off x="1233360" y="3632040"/>
                <a:ext cx="324000" cy="838080"/>
              </a:xfrm>
              <a:prstGeom prst="rightArrow">
                <a:avLst>
                  <a:gd name="adj1" fmla="val 47731"/>
                  <a:gd name="adj2" fmla="val 65972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rot="16200000">
                <a:off x="2147760" y="4226760"/>
                <a:ext cx="228600" cy="838080"/>
              </a:xfrm>
              <a:prstGeom prst="rightArrow">
                <a:avLst>
                  <a:gd name="adj1" fmla="val 47731"/>
                  <a:gd name="adj2" fmla="val 65972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V="1" rot="5400000">
                <a:off x="2143080" y="2973600"/>
                <a:ext cx="228600" cy="838080"/>
              </a:xfrm>
              <a:prstGeom prst="rightArrow">
                <a:avLst>
                  <a:gd name="adj1" fmla="val 47731"/>
                  <a:gd name="adj2" fmla="val 65972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4" name=""/>
          <p:cNvGrpSpPr/>
          <p:nvPr/>
        </p:nvGrpSpPr>
        <p:grpSpPr>
          <a:xfrm>
            <a:off x="2895480" y="3676680"/>
            <a:ext cx="1524240" cy="685800"/>
            <a:chOff x="2895480" y="3676680"/>
            <a:chExt cx="1524240" cy="685800"/>
          </a:xfrm>
        </p:grpSpPr>
        <p:grpSp>
          <p:nvGrpSpPr>
            <p:cNvPr id="1325" name=""/>
            <p:cNvGrpSpPr/>
            <p:nvPr/>
          </p:nvGrpSpPr>
          <p:grpSpPr>
            <a:xfrm>
              <a:off x="3200400" y="3676680"/>
              <a:ext cx="1219320" cy="685800"/>
              <a:chOff x="3200400" y="3676680"/>
              <a:chExt cx="1219320" cy="685800"/>
            </a:xfrm>
          </p:grpSpPr>
          <p:sp>
            <p:nvSpPr>
              <p:cNvPr id="1326" name=""/>
              <p:cNvSpPr/>
              <p:nvPr/>
            </p:nvSpPr>
            <p:spPr>
              <a:xfrm>
                <a:off x="3200400" y="3676680"/>
                <a:ext cx="1219320" cy="685800"/>
              </a:xfrm>
              <a:prstGeom prst="roundRect">
                <a:avLst>
                  <a:gd name="adj" fmla="val 16667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3202560" y="3760920"/>
                <a:ext cx="12153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blem’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dentific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8" name=""/>
            <p:cNvSpPr/>
            <p:nvPr/>
          </p:nvSpPr>
          <p:spPr>
            <a:xfrm>
              <a:off x="2895480" y="3867120"/>
              <a:ext cx="304920" cy="30456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4419720" y="3676680"/>
            <a:ext cx="1523880" cy="685800"/>
            <a:chOff x="4419720" y="3676680"/>
            <a:chExt cx="1523880" cy="685800"/>
          </a:xfrm>
        </p:grpSpPr>
        <p:grpSp>
          <p:nvGrpSpPr>
            <p:cNvPr id="1330" name=""/>
            <p:cNvGrpSpPr/>
            <p:nvPr/>
          </p:nvGrpSpPr>
          <p:grpSpPr>
            <a:xfrm>
              <a:off x="4724280" y="3676680"/>
              <a:ext cx="1219320" cy="685800"/>
              <a:chOff x="4724280" y="3676680"/>
              <a:chExt cx="1219320" cy="685800"/>
            </a:xfrm>
          </p:grpSpPr>
          <p:sp>
            <p:nvSpPr>
              <p:cNvPr id="1331" name=""/>
              <p:cNvSpPr/>
              <p:nvPr/>
            </p:nvSpPr>
            <p:spPr>
              <a:xfrm>
                <a:off x="4724280" y="3676680"/>
                <a:ext cx="1219320" cy="685800"/>
              </a:xfrm>
              <a:prstGeom prst="roundRect">
                <a:avLst>
                  <a:gd name="adj" fmla="val 16667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4848120" y="3760920"/>
                <a:ext cx="9640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oo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blem’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3" name=""/>
            <p:cNvSpPr/>
            <p:nvPr/>
          </p:nvSpPr>
          <p:spPr>
            <a:xfrm>
              <a:off x="4419720" y="3867120"/>
              <a:ext cx="304560" cy="30456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5943600" y="3676680"/>
            <a:ext cx="1523880" cy="685800"/>
            <a:chOff x="5943600" y="3676680"/>
            <a:chExt cx="1523880" cy="685800"/>
          </a:xfrm>
        </p:grpSpPr>
        <p:grpSp>
          <p:nvGrpSpPr>
            <p:cNvPr id="1335" name=""/>
            <p:cNvGrpSpPr/>
            <p:nvPr/>
          </p:nvGrpSpPr>
          <p:grpSpPr>
            <a:xfrm>
              <a:off x="6248520" y="3676680"/>
              <a:ext cx="1218960" cy="685800"/>
              <a:chOff x="6248520" y="3676680"/>
              <a:chExt cx="1218960" cy="685800"/>
            </a:xfrm>
          </p:grpSpPr>
          <p:sp>
            <p:nvSpPr>
              <p:cNvPr id="1336" name=""/>
              <p:cNvSpPr/>
              <p:nvPr/>
            </p:nvSpPr>
            <p:spPr>
              <a:xfrm>
                <a:off x="6248520" y="3676680"/>
                <a:ext cx="1218960" cy="685800"/>
              </a:xfrm>
              <a:prstGeom prst="roundRect">
                <a:avLst>
                  <a:gd name="adj" fmla="val 16667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333120" y="3760920"/>
                <a:ext cx="1044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ternati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olu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8" name=""/>
            <p:cNvSpPr/>
            <p:nvPr/>
          </p:nvSpPr>
          <p:spPr>
            <a:xfrm>
              <a:off x="5943600" y="3867120"/>
              <a:ext cx="304920" cy="30456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7467480" y="3676680"/>
            <a:ext cx="1524240" cy="685800"/>
            <a:chOff x="7467480" y="3676680"/>
            <a:chExt cx="1524240" cy="685800"/>
          </a:xfrm>
        </p:grpSpPr>
        <p:grpSp>
          <p:nvGrpSpPr>
            <p:cNvPr id="1340" name=""/>
            <p:cNvGrpSpPr/>
            <p:nvPr/>
          </p:nvGrpSpPr>
          <p:grpSpPr>
            <a:xfrm>
              <a:off x="7772400" y="3676680"/>
              <a:ext cx="1219320" cy="685800"/>
              <a:chOff x="7772400" y="3676680"/>
              <a:chExt cx="1219320" cy="685800"/>
            </a:xfrm>
          </p:grpSpPr>
          <p:sp>
            <p:nvSpPr>
              <p:cNvPr id="1341" name=""/>
              <p:cNvSpPr/>
              <p:nvPr/>
            </p:nvSpPr>
            <p:spPr>
              <a:xfrm>
                <a:off x="7772400" y="3676680"/>
                <a:ext cx="1219320" cy="685800"/>
              </a:xfrm>
              <a:prstGeom prst="roundRect">
                <a:avLst>
                  <a:gd name="adj" fmla="val 16667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7792920" y="3760920"/>
                <a:ext cx="1181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velop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3" name=""/>
            <p:cNvSpPr/>
            <p:nvPr/>
          </p:nvSpPr>
          <p:spPr>
            <a:xfrm>
              <a:off x="7467480" y="3867120"/>
              <a:ext cx="304920" cy="30456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"/>
          <p:cNvSpPr/>
          <p:nvPr/>
        </p:nvSpPr>
        <p:spPr>
          <a:xfrm>
            <a:off x="1600200" y="76320"/>
            <a:ext cx="7238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Perencanaan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Taktis-Operasion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5" name=""/>
          <p:cNvGrpSpPr/>
          <p:nvPr/>
        </p:nvGrpSpPr>
        <p:grpSpPr>
          <a:xfrm>
            <a:off x="5943600" y="1447920"/>
            <a:ext cx="2596680" cy="2354760"/>
            <a:chOff x="5943600" y="1447920"/>
            <a:chExt cx="2596680" cy="2354760"/>
          </a:xfrm>
        </p:grpSpPr>
        <p:grpSp>
          <p:nvGrpSpPr>
            <p:cNvPr id="1346" name=""/>
            <p:cNvGrpSpPr/>
            <p:nvPr/>
          </p:nvGrpSpPr>
          <p:grpSpPr>
            <a:xfrm>
              <a:off x="5943600" y="1447920"/>
              <a:ext cx="1324080" cy="1981080"/>
              <a:chOff x="5943600" y="1447920"/>
              <a:chExt cx="1324080" cy="1981080"/>
            </a:xfrm>
          </p:grpSpPr>
          <p:grpSp>
            <p:nvGrpSpPr>
              <p:cNvPr id="1347" name=""/>
              <p:cNvGrpSpPr/>
              <p:nvPr/>
            </p:nvGrpSpPr>
            <p:grpSpPr>
              <a:xfrm>
                <a:off x="5943600" y="1447920"/>
                <a:ext cx="1324080" cy="1981080"/>
                <a:chOff x="5943600" y="1447920"/>
                <a:chExt cx="1324080" cy="198108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5943600" y="1447920"/>
                  <a:ext cx="152640" cy="1862640"/>
                </a:xfrm>
                <a:custGeom>
                  <a:avLst/>
                  <a:gdLst/>
                  <a:ahLst/>
                  <a:rect l="l" t="t" r="r" b="b"/>
                  <a:pathLst>
                    <a:path w="288" h="3024">
                      <a:moveTo>
                        <a:pt x="288" y="0"/>
                      </a:moveTo>
                      <a:lnTo>
                        <a:pt x="0" y="48"/>
                      </a:lnTo>
                      <a:lnTo>
                        <a:pt x="0" y="2928"/>
                      </a:lnTo>
                      <a:lnTo>
                        <a:pt x="0" y="3024"/>
                      </a:lnTo>
                      <a:lnTo>
                        <a:pt x="288" y="2928"/>
                      </a:lnTo>
                      <a:lnTo>
                        <a:pt x="288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6096240" y="1447920"/>
                  <a:ext cx="1171080" cy="180396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5968800" y="3251880"/>
                  <a:ext cx="1298880" cy="118080"/>
                </a:xfrm>
                <a:custGeom>
                  <a:avLst/>
                  <a:gdLst/>
                  <a:ahLst/>
                  <a:rect l="l" t="t" r="r" b="b"/>
                  <a:pathLst>
                    <a:path w="2448" h="288">
                      <a:moveTo>
                        <a:pt x="0" y="96"/>
                      </a:moveTo>
                      <a:lnTo>
                        <a:pt x="1152" y="288"/>
                      </a:lnTo>
                      <a:lnTo>
                        <a:pt x="2448" y="0"/>
                      </a:lnTo>
                      <a:lnTo>
                        <a:pt x="240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5962320" y="3303720"/>
                  <a:ext cx="184320" cy="125280"/>
                </a:xfrm>
                <a:custGeom>
                  <a:avLst/>
                  <a:gdLst/>
                  <a:ahLst/>
                  <a:rect l="l" t="t" r="r" b="b"/>
                  <a:pathLst>
                    <a:path w="348" h="348">
                      <a:moveTo>
                        <a:pt x="0" y="0"/>
                      </a:moveTo>
                      <a:cubicBezTo>
                        <a:pt x="38" y="56"/>
                        <a:pt x="55" y="96"/>
                        <a:pt x="108" y="132"/>
                      </a:cubicBezTo>
                      <a:cubicBezTo>
                        <a:pt x="172" y="228"/>
                        <a:pt x="88" y="112"/>
                        <a:pt x="168" y="192"/>
                      </a:cubicBezTo>
                      <a:cubicBezTo>
                        <a:pt x="207" y="231"/>
                        <a:pt x="174" y="228"/>
                        <a:pt x="204" y="228"/>
                      </a:cubicBezTo>
                      <a:lnTo>
                        <a:pt x="348" y="348"/>
                      </a:lnTo>
                      <a:lnTo>
                        <a:pt x="348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2" name=""/>
              <p:cNvSpPr/>
              <p:nvPr/>
            </p:nvSpPr>
            <p:spPr>
              <a:xfrm>
                <a:off x="6148440" y="1980360"/>
                <a:ext cx="1066680" cy="21564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 Narrow"/>
                  </a:rPr>
                  <a:t>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 Narrow"/>
                  </a:rPr>
                  <a:t>PROJECT ………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145920" y="2361600"/>
                <a:ext cx="997560" cy="3373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 Narrow"/>
                  </a:rPr>
                  <a:t>PROPOSAL  ...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ffff"/>
                    </a:solidFill>
                    <a:latin typeface="Arial Narrow"/>
                  </a:rPr>
                  <a:t>(Name of University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354" name=""/>
              <p:cNvGraphicFramePr/>
              <p:nvPr/>
            </p:nvGraphicFramePr>
            <p:xfrm>
              <a:off x="6595920" y="1689120"/>
              <a:ext cx="166680" cy="1756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35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595920" y="1689120"/>
                        <a:ext cx="166680" cy="175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356" name=""/>
            <p:cNvGrpSpPr/>
            <p:nvPr/>
          </p:nvGrpSpPr>
          <p:grpSpPr>
            <a:xfrm>
              <a:off x="7236360" y="1976040"/>
              <a:ext cx="1303920" cy="1826640"/>
              <a:chOff x="7236360" y="1976040"/>
              <a:chExt cx="1303920" cy="1826640"/>
            </a:xfrm>
          </p:grpSpPr>
          <p:sp>
            <p:nvSpPr>
              <p:cNvPr id="1357" name=""/>
              <p:cNvSpPr/>
              <p:nvPr/>
            </p:nvSpPr>
            <p:spPr>
              <a:xfrm flipH="1" rot="4723200">
                <a:off x="7634160" y="2887560"/>
                <a:ext cx="975600" cy="652680"/>
              </a:xfrm>
              <a:custGeom>
                <a:avLst/>
                <a:gdLst/>
                <a:ahLst/>
                <a:rect l="l" t="t" r="r" b="b"/>
                <a:pathLst>
                  <a:path w="952" h="607">
                    <a:moveTo>
                      <a:pt x="0" y="0"/>
                    </a:moveTo>
                    <a:lnTo>
                      <a:pt x="0" y="45"/>
                    </a:lnTo>
                    <a:lnTo>
                      <a:pt x="69" y="57"/>
                    </a:lnTo>
                    <a:lnTo>
                      <a:pt x="132" y="72"/>
                    </a:lnTo>
                    <a:lnTo>
                      <a:pt x="189" y="90"/>
                    </a:lnTo>
                    <a:lnTo>
                      <a:pt x="248" y="108"/>
                    </a:lnTo>
                    <a:lnTo>
                      <a:pt x="298" y="126"/>
                    </a:lnTo>
                    <a:lnTo>
                      <a:pt x="340" y="144"/>
                    </a:lnTo>
                    <a:lnTo>
                      <a:pt x="379" y="160"/>
                    </a:lnTo>
                    <a:lnTo>
                      <a:pt x="424" y="181"/>
                    </a:lnTo>
                    <a:lnTo>
                      <a:pt x="463" y="205"/>
                    </a:lnTo>
                    <a:lnTo>
                      <a:pt x="508" y="235"/>
                    </a:lnTo>
                    <a:lnTo>
                      <a:pt x="544" y="262"/>
                    </a:lnTo>
                    <a:lnTo>
                      <a:pt x="580" y="289"/>
                    </a:lnTo>
                    <a:lnTo>
                      <a:pt x="613" y="319"/>
                    </a:lnTo>
                    <a:lnTo>
                      <a:pt x="655" y="355"/>
                    </a:lnTo>
                    <a:lnTo>
                      <a:pt x="700" y="397"/>
                    </a:lnTo>
                    <a:lnTo>
                      <a:pt x="726" y="427"/>
                    </a:lnTo>
                    <a:lnTo>
                      <a:pt x="753" y="459"/>
                    </a:lnTo>
                    <a:lnTo>
                      <a:pt x="780" y="490"/>
                    </a:lnTo>
                    <a:lnTo>
                      <a:pt x="804" y="520"/>
                    </a:lnTo>
                    <a:lnTo>
                      <a:pt x="834" y="568"/>
                    </a:lnTo>
                    <a:lnTo>
                      <a:pt x="852" y="607"/>
                    </a:lnTo>
                    <a:lnTo>
                      <a:pt x="952" y="595"/>
                    </a:lnTo>
                    <a:lnTo>
                      <a:pt x="919" y="529"/>
                    </a:lnTo>
                    <a:lnTo>
                      <a:pt x="870" y="459"/>
                    </a:lnTo>
                    <a:lnTo>
                      <a:pt x="819" y="400"/>
                    </a:lnTo>
                    <a:lnTo>
                      <a:pt x="753" y="337"/>
                    </a:lnTo>
                    <a:lnTo>
                      <a:pt x="664" y="247"/>
                    </a:lnTo>
                    <a:lnTo>
                      <a:pt x="565" y="172"/>
                    </a:lnTo>
                    <a:lnTo>
                      <a:pt x="460" y="108"/>
                    </a:lnTo>
                    <a:lnTo>
                      <a:pt x="367" y="69"/>
                    </a:lnTo>
                    <a:lnTo>
                      <a:pt x="251" y="30"/>
                    </a:lnTo>
                    <a:lnTo>
                      <a:pt x="15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H="1" rot="4723200">
                <a:off x="7261560" y="2139480"/>
                <a:ext cx="505080" cy="466560"/>
              </a:xfrm>
              <a:custGeom>
                <a:avLst/>
                <a:gdLst/>
                <a:ahLst/>
                <a:rect l="l" t="t" r="r" b="b"/>
                <a:pathLst>
                  <a:path w="493" h="434">
                    <a:moveTo>
                      <a:pt x="0" y="335"/>
                    </a:moveTo>
                    <a:lnTo>
                      <a:pt x="0" y="434"/>
                    </a:lnTo>
                    <a:lnTo>
                      <a:pt x="20" y="409"/>
                    </a:lnTo>
                    <a:lnTo>
                      <a:pt x="42" y="383"/>
                    </a:lnTo>
                    <a:lnTo>
                      <a:pt x="71" y="356"/>
                    </a:lnTo>
                    <a:lnTo>
                      <a:pt x="107" y="325"/>
                    </a:lnTo>
                    <a:lnTo>
                      <a:pt x="142" y="291"/>
                    </a:lnTo>
                    <a:lnTo>
                      <a:pt x="178" y="259"/>
                    </a:lnTo>
                    <a:lnTo>
                      <a:pt x="211" y="232"/>
                    </a:lnTo>
                    <a:lnTo>
                      <a:pt x="241" y="208"/>
                    </a:lnTo>
                    <a:lnTo>
                      <a:pt x="274" y="186"/>
                    </a:lnTo>
                    <a:lnTo>
                      <a:pt x="308" y="164"/>
                    </a:lnTo>
                    <a:lnTo>
                      <a:pt x="348" y="141"/>
                    </a:lnTo>
                    <a:lnTo>
                      <a:pt x="385" y="123"/>
                    </a:lnTo>
                    <a:lnTo>
                      <a:pt x="423" y="107"/>
                    </a:lnTo>
                    <a:lnTo>
                      <a:pt x="463" y="90"/>
                    </a:lnTo>
                    <a:lnTo>
                      <a:pt x="493" y="76"/>
                    </a:lnTo>
                    <a:lnTo>
                      <a:pt x="493" y="0"/>
                    </a:lnTo>
                    <a:lnTo>
                      <a:pt x="439" y="15"/>
                    </a:lnTo>
                    <a:lnTo>
                      <a:pt x="360" y="49"/>
                    </a:lnTo>
                    <a:lnTo>
                      <a:pt x="259" y="92"/>
                    </a:lnTo>
                    <a:lnTo>
                      <a:pt x="185" y="138"/>
                    </a:lnTo>
                    <a:lnTo>
                      <a:pt x="117" y="204"/>
                    </a:lnTo>
                    <a:lnTo>
                      <a:pt x="50" y="259"/>
                    </a:lnTo>
                    <a:lnTo>
                      <a:pt x="0" y="312"/>
                    </a:lnTo>
                    <a:lnTo>
                      <a:pt x="0" y="433"/>
                    </a:lnTo>
                    <a:lnTo>
                      <a:pt x="0" y="431"/>
                    </a:lnTo>
                    <a:lnTo>
                      <a:pt x="0" y="33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H="1" rot="4723200">
                <a:off x="7236360" y="2790000"/>
                <a:ext cx="603720" cy="290160"/>
              </a:xfrm>
              <a:custGeom>
                <a:avLst/>
                <a:gdLst/>
                <a:ahLst/>
                <a:rect l="l" t="t" r="r" b="b"/>
                <a:pathLst>
                  <a:path w="589" h="270">
                    <a:moveTo>
                      <a:pt x="0" y="0"/>
                    </a:moveTo>
                    <a:lnTo>
                      <a:pt x="0" y="83"/>
                    </a:lnTo>
                    <a:lnTo>
                      <a:pt x="38" y="90"/>
                    </a:lnTo>
                    <a:lnTo>
                      <a:pt x="77" y="97"/>
                    </a:lnTo>
                    <a:lnTo>
                      <a:pt x="114" y="106"/>
                    </a:lnTo>
                    <a:lnTo>
                      <a:pt x="152" y="115"/>
                    </a:lnTo>
                    <a:lnTo>
                      <a:pt x="196" y="126"/>
                    </a:lnTo>
                    <a:lnTo>
                      <a:pt x="244" y="138"/>
                    </a:lnTo>
                    <a:lnTo>
                      <a:pt x="304" y="156"/>
                    </a:lnTo>
                    <a:lnTo>
                      <a:pt x="362" y="172"/>
                    </a:lnTo>
                    <a:lnTo>
                      <a:pt x="400" y="185"/>
                    </a:lnTo>
                    <a:lnTo>
                      <a:pt x="445" y="203"/>
                    </a:lnTo>
                    <a:lnTo>
                      <a:pt x="494" y="223"/>
                    </a:lnTo>
                    <a:lnTo>
                      <a:pt x="538" y="243"/>
                    </a:lnTo>
                    <a:lnTo>
                      <a:pt x="570" y="259"/>
                    </a:lnTo>
                    <a:lnTo>
                      <a:pt x="589" y="270"/>
                    </a:lnTo>
                    <a:lnTo>
                      <a:pt x="589" y="167"/>
                    </a:lnTo>
                    <a:lnTo>
                      <a:pt x="552" y="141"/>
                    </a:lnTo>
                    <a:lnTo>
                      <a:pt x="478" y="105"/>
                    </a:lnTo>
                    <a:lnTo>
                      <a:pt x="392" y="69"/>
                    </a:lnTo>
                    <a:lnTo>
                      <a:pt x="315" y="49"/>
                    </a:lnTo>
                    <a:lnTo>
                      <a:pt x="226" y="24"/>
                    </a:lnTo>
                    <a:lnTo>
                      <a:pt x="137" y="7"/>
                    </a:lnTo>
                    <a:lnTo>
                      <a:pt x="7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 rot="4723200">
                <a:off x="7098120" y="2446560"/>
                <a:ext cx="1685880" cy="885240"/>
              </a:xfrm>
              <a:custGeom>
                <a:avLst/>
                <a:gdLst/>
                <a:ahLst/>
                <a:rect l="l" t="t" r="r" b="b"/>
                <a:pathLst>
                  <a:path w="1645" h="823">
                    <a:moveTo>
                      <a:pt x="0" y="6"/>
                    </a:moveTo>
                    <a:lnTo>
                      <a:pt x="90" y="0"/>
                    </a:lnTo>
                    <a:lnTo>
                      <a:pt x="135" y="0"/>
                    </a:lnTo>
                    <a:lnTo>
                      <a:pt x="189" y="0"/>
                    </a:lnTo>
                    <a:lnTo>
                      <a:pt x="240" y="3"/>
                    </a:lnTo>
                    <a:lnTo>
                      <a:pt x="291" y="6"/>
                    </a:lnTo>
                    <a:lnTo>
                      <a:pt x="341" y="12"/>
                    </a:lnTo>
                    <a:lnTo>
                      <a:pt x="386" y="21"/>
                    </a:lnTo>
                    <a:lnTo>
                      <a:pt x="436" y="30"/>
                    </a:lnTo>
                    <a:lnTo>
                      <a:pt x="496" y="45"/>
                    </a:lnTo>
                    <a:lnTo>
                      <a:pt x="550" y="63"/>
                    </a:lnTo>
                    <a:lnTo>
                      <a:pt x="601" y="78"/>
                    </a:lnTo>
                    <a:lnTo>
                      <a:pt x="658" y="99"/>
                    </a:lnTo>
                    <a:lnTo>
                      <a:pt x="712" y="123"/>
                    </a:lnTo>
                    <a:lnTo>
                      <a:pt x="766" y="147"/>
                    </a:lnTo>
                    <a:lnTo>
                      <a:pt x="811" y="170"/>
                    </a:lnTo>
                    <a:lnTo>
                      <a:pt x="862" y="194"/>
                    </a:lnTo>
                    <a:lnTo>
                      <a:pt x="905" y="217"/>
                    </a:lnTo>
                    <a:lnTo>
                      <a:pt x="953" y="244"/>
                    </a:lnTo>
                    <a:lnTo>
                      <a:pt x="1001" y="271"/>
                    </a:lnTo>
                    <a:lnTo>
                      <a:pt x="1049" y="304"/>
                    </a:lnTo>
                    <a:lnTo>
                      <a:pt x="1091" y="331"/>
                    </a:lnTo>
                    <a:lnTo>
                      <a:pt x="1136" y="367"/>
                    </a:lnTo>
                    <a:lnTo>
                      <a:pt x="1178" y="400"/>
                    </a:lnTo>
                    <a:lnTo>
                      <a:pt x="1217" y="433"/>
                    </a:lnTo>
                    <a:lnTo>
                      <a:pt x="1249" y="469"/>
                    </a:lnTo>
                    <a:lnTo>
                      <a:pt x="1276" y="500"/>
                    </a:lnTo>
                    <a:lnTo>
                      <a:pt x="1297" y="533"/>
                    </a:lnTo>
                    <a:lnTo>
                      <a:pt x="1645" y="489"/>
                    </a:lnTo>
                    <a:lnTo>
                      <a:pt x="1596" y="512"/>
                    </a:lnTo>
                    <a:lnTo>
                      <a:pt x="1539" y="536"/>
                    </a:lnTo>
                    <a:lnTo>
                      <a:pt x="1494" y="557"/>
                    </a:lnTo>
                    <a:lnTo>
                      <a:pt x="1460" y="573"/>
                    </a:lnTo>
                    <a:lnTo>
                      <a:pt x="1423" y="593"/>
                    </a:lnTo>
                    <a:lnTo>
                      <a:pt x="1393" y="611"/>
                    </a:lnTo>
                    <a:lnTo>
                      <a:pt x="1364" y="630"/>
                    </a:lnTo>
                    <a:lnTo>
                      <a:pt x="1335" y="653"/>
                    </a:lnTo>
                    <a:lnTo>
                      <a:pt x="1307" y="676"/>
                    </a:lnTo>
                    <a:lnTo>
                      <a:pt x="1273" y="705"/>
                    </a:lnTo>
                    <a:lnTo>
                      <a:pt x="1240" y="736"/>
                    </a:lnTo>
                    <a:lnTo>
                      <a:pt x="1211" y="762"/>
                    </a:lnTo>
                    <a:lnTo>
                      <a:pt x="1178" y="796"/>
                    </a:lnTo>
                    <a:lnTo>
                      <a:pt x="1151" y="823"/>
                    </a:lnTo>
                    <a:lnTo>
                      <a:pt x="1124" y="811"/>
                    </a:lnTo>
                    <a:lnTo>
                      <a:pt x="1097" y="796"/>
                    </a:lnTo>
                    <a:lnTo>
                      <a:pt x="1068" y="783"/>
                    </a:lnTo>
                    <a:lnTo>
                      <a:pt x="1034" y="769"/>
                    </a:lnTo>
                    <a:lnTo>
                      <a:pt x="999" y="755"/>
                    </a:lnTo>
                    <a:lnTo>
                      <a:pt x="967" y="744"/>
                    </a:lnTo>
                    <a:lnTo>
                      <a:pt x="936" y="735"/>
                    </a:lnTo>
                    <a:lnTo>
                      <a:pt x="901" y="724"/>
                    </a:lnTo>
                    <a:lnTo>
                      <a:pt x="864" y="715"/>
                    </a:lnTo>
                    <a:lnTo>
                      <a:pt x="826" y="705"/>
                    </a:lnTo>
                    <a:lnTo>
                      <a:pt x="791" y="696"/>
                    </a:lnTo>
                    <a:lnTo>
                      <a:pt x="757" y="687"/>
                    </a:lnTo>
                    <a:lnTo>
                      <a:pt x="720" y="681"/>
                    </a:lnTo>
                    <a:lnTo>
                      <a:pt x="685" y="673"/>
                    </a:lnTo>
                    <a:lnTo>
                      <a:pt x="652" y="666"/>
                    </a:lnTo>
                    <a:lnTo>
                      <a:pt x="613" y="658"/>
                    </a:lnTo>
                    <a:lnTo>
                      <a:pt x="560" y="652"/>
                    </a:lnTo>
                    <a:lnTo>
                      <a:pt x="920" y="590"/>
                    </a:lnTo>
                    <a:lnTo>
                      <a:pt x="896" y="542"/>
                    </a:lnTo>
                    <a:lnTo>
                      <a:pt x="868" y="506"/>
                    </a:lnTo>
                    <a:lnTo>
                      <a:pt x="817" y="439"/>
                    </a:lnTo>
                    <a:lnTo>
                      <a:pt x="787" y="409"/>
                    </a:lnTo>
                    <a:lnTo>
                      <a:pt x="757" y="379"/>
                    </a:lnTo>
                    <a:lnTo>
                      <a:pt x="703" y="328"/>
                    </a:lnTo>
                    <a:lnTo>
                      <a:pt x="670" y="298"/>
                    </a:lnTo>
                    <a:lnTo>
                      <a:pt x="631" y="262"/>
                    </a:lnTo>
                    <a:lnTo>
                      <a:pt x="595" y="235"/>
                    </a:lnTo>
                    <a:lnTo>
                      <a:pt x="565" y="211"/>
                    </a:lnTo>
                    <a:lnTo>
                      <a:pt x="535" y="188"/>
                    </a:lnTo>
                    <a:lnTo>
                      <a:pt x="499" y="164"/>
                    </a:lnTo>
                    <a:lnTo>
                      <a:pt x="460" y="141"/>
                    </a:lnTo>
                    <a:lnTo>
                      <a:pt x="421" y="123"/>
                    </a:lnTo>
                    <a:lnTo>
                      <a:pt x="383" y="102"/>
                    </a:lnTo>
                    <a:lnTo>
                      <a:pt x="335" y="84"/>
                    </a:lnTo>
                    <a:lnTo>
                      <a:pt x="291" y="69"/>
                    </a:lnTo>
                    <a:lnTo>
                      <a:pt x="240" y="57"/>
                    </a:lnTo>
                    <a:lnTo>
                      <a:pt x="192" y="45"/>
                    </a:lnTo>
                    <a:lnTo>
                      <a:pt x="141" y="33"/>
                    </a:lnTo>
                    <a:lnTo>
                      <a:pt x="87" y="2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Jangka Waktu Perencanaan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cana Strategis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5 Tahunan atau lebi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cana Taktis Operasional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ahun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3" name=""/>
          <p:cNvGrpSpPr/>
          <p:nvPr/>
        </p:nvGrpSpPr>
        <p:grpSpPr>
          <a:xfrm>
            <a:off x="838080" y="4419720"/>
            <a:ext cx="7620120" cy="533160"/>
            <a:chOff x="838080" y="4419720"/>
            <a:chExt cx="7620120" cy="533160"/>
          </a:xfrm>
        </p:grpSpPr>
        <p:sp>
          <p:nvSpPr>
            <p:cNvPr id="1364" name=""/>
            <p:cNvSpPr/>
            <p:nvPr/>
          </p:nvSpPr>
          <p:spPr>
            <a:xfrm>
              <a:off x="6172200" y="4724280"/>
              <a:ext cx="2286000" cy="0"/>
            </a:xfrm>
            <a:prstGeom prst="line">
              <a:avLst/>
            </a:prstGeom>
            <a:ln w="7632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838080" y="4724280"/>
              <a:ext cx="53341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38080" y="4419720"/>
              <a:ext cx="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905120" y="4419720"/>
              <a:ext cx="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971800" y="4419720"/>
              <a:ext cx="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038480" y="4419720"/>
              <a:ext cx="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105520" y="4419720"/>
              <a:ext cx="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172200" y="4419720"/>
              <a:ext cx="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458200" y="4419720"/>
              <a:ext cx="0" cy="533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457200" y="3962520"/>
            <a:ext cx="773280" cy="427320"/>
            <a:chOff x="457200" y="3962520"/>
            <a:chExt cx="773280" cy="427320"/>
          </a:xfrm>
        </p:grpSpPr>
        <p:sp>
          <p:nvSpPr>
            <p:cNvPr id="1374" name=""/>
            <p:cNvSpPr/>
            <p:nvPr/>
          </p:nvSpPr>
          <p:spPr>
            <a:xfrm>
              <a:off x="1099800" y="4057560"/>
              <a:ext cx="49680" cy="36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099800" y="4057560"/>
              <a:ext cx="49680" cy="36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099800" y="4090320"/>
              <a:ext cx="49680" cy="36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0720" y="4253400"/>
              <a:ext cx="75600" cy="360"/>
            </a:xfrm>
            <a:prstGeom prst="rect">
              <a:avLst/>
            </a:pr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6120" y="4263840"/>
              <a:ext cx="65880" cy="36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72920" y="4389480"/>
              <a:ext cx="90000" cy="360"/>
            </a:xfrm>
            <a:prstGeom prst="rect">
              <a:avLst/>
            </a:pr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817200" y="4310280"/>
              <a:ext cx="360" cy="6876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817200" y="4310280"/>
              <a:ext cx="360" cy="6876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93080" y="4329000"/>
              <a:ext cx="49680" cy="36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93080" y="4329000"/>
              <a:ext cx="49680" cy="36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3080" y="4346640"/>
              <a:ext cx="49680" cy="36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793080" y="4346640"/>
              <a:ext cx="49680" cy="36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93080" y="4361400"/>
              <a:ext cx="49680" cy="36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928080" y="4389480"/>
              <a:ext cx="84600" cy="360"/>
            </a:xfrm>
            <a:prstGeom prst="rect">
              <a:avLst/>
            </a:pr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968760" y="4310280"/>
              <a:ext cx="360" cy="6876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948240" y="4329000"/>
              <a:ext cx="49680" cy="36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948240" y="4329000"/>
              <a:ext cx="49680" cy="36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948240" y="4346640"/>
              <a:ext cx="49680" cy="36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948240" y="4346640"/>
              <a:ext cx="49680" cy="36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948240" y="4361400"/>
              <a:ext cx="49680" cy="36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028160" y="4277520"/>
              <a:ext cx="360" cy="10656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079280" y="4389480"/>
              <a:ext cx="90000" cy="360"/>
            </a:xfrm>
            <a:prstGeom prst="rect">
              <a:avLst/>
            </a:pr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099800" y="4329000"/>
              <a:ext cx="49680" cy="36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099800" y="4329000"/>
              <a:ext cx="49680" cy="36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099800" y="4346640"/>
              <a:ext cx="49680" cy="36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099800" y="4346640"/>
              <a:ext cx="49680" cy="36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099800" y="4361400"/>
              <a:ext cx="49680" cy="36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93280" y="4097880"/>
              <a:ext cx="480600" cy="360"/>
            </a:xfrm>
            <a:prstGeom prst="rect">
              <a:avLst/>
            </a:prstGeom>
            <a:solidFill>
              <a:srgbClr val="828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57200" y="4293720"/>
              <a:ext cx="773280" cy="360"/>
            </a:xfrm>
            <a:prstGeom prst="rect">
              <a:avLst/>
            </a:prstGeom>
            <a:solidFill>
              <a:srgbClr val="757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57200" y="4316400"/>
              <a:ext cx="773280" cy="360"/>
            </a:xfrm>
            <a:prstGeom prst="rect">
              <a:avLst/>
            </a:prstGeom>
            <a:solidFill>
              <a:srgbClr val="757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90680" y="4311360"/>
              <a:ext cx="88920" cy="360"/>
            </a:xfrm>
            <a:prstGeom prst="rect">
              <a:avLst/>
            </a:pr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10840" y="4271400"/>
              <a:ext cx="48600" cy="36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10840" y="4271400"/>
              <a:ext cx="48600" cy="36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43320" y="4311360"/>
              <a:ext cx="82080" cy="360"/>
            </a:xfrm>
            <a:prstGeom prst="rect">
              <a:avLst/>
            </a:pr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82200" y="4234680"/>
              <a:ext cx="360" cy="6768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62040" y="4271400"/>
              <a:ext cx="48600" cy="36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62040" y="4271400"/>
              <a:ext cx="48600" cy="36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28560" y="4203360"/>
              <a:ext cx="360" cy="10404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88760" y="4311360"/>
              <a:ext cx="88920" cy="360"/>
            </a:xfrm>
            <a:prstGeom prst="rect">
              <a:avLst/>
            </a:pr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833760" y="4234680"/>
              <a:ext cx="360" cy="6768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809280" y="4271400"/>
              <a:ext cx="48240" cy="36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809280" y="4271400"/>
              <a:ext cx="48240" cy="36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941760" y="4311360"/>
              <a:ext cx="82080" cy="360"/>
            </a:xfrm>
            <a:prstGeom prst="rect">
              <a:avLst/>
            </a:pr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956520" y="4271400"/>
              <a:ext cx="52560" cy="36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956520" y="4271400"/>
              <a:ext cx="52560" cy="36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038600" y="4203360"/>
              <a:ext cx="360" cy="10404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087560" y="4311360"/>
              <a:ext cx="88920" cy="360"/>
            </a:xfrm>
            <a:prstGeom prst="rect">
              <a:avLst/>
            </a:pr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107720" y="4271400"/>
              <a:ext cx="48600" cy="36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107720" y="4271400"/>
              <a:ext cx="48600" cy="36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990000" y="3962520"/>
              <a:ext cx="240120" cy="158040"/>
            </a:xfrm>
            <a:custGeom>
              <a:avLst/>
              <a:gdLst/>
              <a:ahLst/>
              <a:rect l="l" t="t" r="r" b="b"/>
              <a:pathLst>
                <a:path w="178" h="126">
                  <a:moveTo>
                    <a:pt x="0" y="0"/>
                  </a:moveTo>
                  <a:lnTo>
                    <a:pt x="163" y="47"/>
                  </a:lnTo>
                  <a:lnTo>
                    <a:pt x="178" y="123"/>
                  </a:lnTo>
                  <a:lnTo>
                    <a:pt x="152" y="126"/>
                  </a:lnTo>
                  <a:lnTo>
                    <a:pt x="116" y="123"/>
                  </a:lnTo>
                  <a:lnTo>
                    <a:pt x="62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3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57200" y="3962520"/>
              <a:ext cx="240120" cy="158040"/>
            </a:xfrm>
            <a:custGeom>
              <a:avLst/>
              <a:gdLst/>
              <a:ahLst/>
              <a:rect l="l" t="t" r="r" b="b"/>
              <a:pathLst>
                <a:path w="178" h="126">
                  <a:moveTo>
                    <a:pt x="178" y="0"/>
                  </a:moveTo>
                  <a:lnTo>
                    <a:pt x="14" y="47"/>
                  </a:lnTo>
                  <a:lnTo>
                    <a:pt x="0" y="123"/>
                  </a:lnTo>
                  <a:lnTo>
                    <a:pt x="25" y="126"/>
                  </a:lnTo>
                  <a:lnTo>
                    <a:pt x="62" y="123"/>
                  </a:lnTo>
                  <a:lnTo>
                    <a:pt x="116" y="126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633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93280" y="4116960"/>
              <a:ext cx="480600" cy="3600"/>
            </a:xfrm>
            <a:prstGeom prst="rect">
              <a:avLst/>
            </a:prstGeom>
            <a:solidFill>
              <a:srgbClr val="828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57200" y="4125600"/>
              <a:ext cx="773280" cy="258480"/>
            </a:xfrm>
            <a:prstGeom prst="rect">
              <a:avLst/>
            </a:prstGeom>
            <a:solidFill>
              <a:srgbClr val="c9c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57200" y="4125600"/>
              <a:ext cx="773280" cy="13680"/>
            </a:xfrm>
            <a:prstGeom prst="rect">
              <a:avLst/>
            </a:prstGeom>
            <a:solidFill>
              <a:srgbClr val="a8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57200" y="4139280"/>
              <a:ext cx="773280" cy="5040"/>
            </a:xfrm>
            <a:prstGeom prst="rect">
              <a:avLst/>
            </a:prstGeom>
            <a:solidFill>
              <a:srgbClr val="757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57200" y="4148280"/>
              <a:ext cx="773280" cy="13320"/>
            </a:xfrm>
            <a:prstGeom prst="rect">
              <a:avLst/>
            </a:prstGeom>
            <a:solidFill>
              <a:srgbClr val="a8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57200" y="4161960"/>
              <a:ext cx="773280" cy="5040"/>
            </a:xfrm>
            <a:prstGeom prst="rect">
              <a:avLst/>
            </a:prstGeom>
            <a:solidFill>
              <a:srgbClr val="757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57200" y="4170600"/>
              <a:ext cx="773280" cy="13680"/>
            </a:xfrm>
            <a:prstGeom prst="rect">
              <a:avLst/>
            </a:prstGeom>
            <a:solidFill>
              <a:srgbClr val="a8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57200" y="4184640"/>
              <a:ext cx="773280" cy="4680"/>
            </a:xfrm>
            <a:prstGeom prst="rect">
              <a:avLst/>
            </a:prstGeom>
            <a:solidFill>
              <a:srgbClr val="757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57200" y="4189680"/>
              <a:ext cx="773280" cy="17640"/>
            </a:xfrm>
            <a:prstGeom prst="rect">
              <a:avLst/>
            </a:prstGeom>
            <a:solidFill>
              <a:srgbClr val="a8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57200" y="4212360"/>
              <a:ext cx="773280" cy="13320"/>
            </a:xfrm>
            <a:prstGeom prst="rect">
              <a:avLst/>
            </a:prstGeom>
            <a:solidFill>
              <a:srgbClr val="a8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57200" y="4226040"/>
              <a:ext cx="773280" cy="3600"/>
            </a:xfrm>
            <a:prstGeom prst="rect">
              <a:avLst/>
            </a:prstGeom>
            <a:solidFill>
              <a:srgbClr val="757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57200" y="4234680"/>
              <a:ext cx="773280" cy="13680"/>
            </a:xfrm>
            <a:prstGeom prst="rect">
              <a:avLst/>
            </a:prstGeom>
            <a:solidFill>
              <a:srgbClr val="a8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57200" y="4248720"/>
              <a:ext cx="773280" cy="3600"/>
            </a:xfrm>
            <a:prstGeom prst="rect">
              <a:avLst/>
            </a:prstGeom>
            <a:solidFill>
              <a:srgbClr val="757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57200" y="4257360"/>
              <a:ext cx="773280" cy="13680"/>
            </a:xfrm>
            <a:prstGeom prst="rect">
              <a:avLst/>
            </a:prstGeom>
            <a:solidFill>
              <a:srgbClr val="a8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57200" y="4271400"/>
              <a:ext cx="773280" cy="3600"/>
            </a:xfrm>
            <a:prstGeom prst="rect">
              <a:avLst/>
            </a:prstGeom>
            <a:solidFill>
              <a:srgbClr val="757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57200" y="4280040"/>
              <a:ext cx="773280" cy="13320"/>
            </a:xfrm>
            <a:prstGeom prst="rect">
              <a:avLst/>
            </a:prstGeom>
            <a:solidFill>
              <a:srgbClr val="a8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57200" y="4298760"/>
              <a:ext cx="773280" cy="17640"/>
            </a:xfrm>
            <a:prstGeom prst="rect">
              <a:avLst/>
            </a:prstGeom>
            <a:solidFill>
              <a:srgbClr val="a8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57200" y="4321440"/>
              <a:ext cx="773280" cy="12240"/>
            </a:xfrm>
            <a:prstGeom prst="rect">
              <a:avLst/>
            </a:prstGeom>
            <a:solidFill>
              <a:srgbClr val="a8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57200" y="4334040"/>
              <a:ext cx="773280" cy="5040"/>
            </a:xfrm>
            <a:prstGeom prst="rect">
              <a:avLst/>
            </a:prstGeom>
            <a:solidFill>
              <a:srgbClr val="757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57200" y="4344120"/>
              <a:ext cx="773280" cy="13320"/>
            </a:xfrm>
            <a:prstGeom prst="rect">
              <a:avLst/>
            </a:prstGeom>
            <a:solidFill>
              <a:srgbClr val="a8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57200" y="4357800"/>
              <a:ext cx="773280" cy="3600"/>
            </a:xfrm>
            <a:prstGeom prst="rect">
              <a:avLst/>
            </a:prstGeom>
            <a:solidFill>
              <a:srgbClr val="757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57200" y="4366440"/>
              <a:ext cx="773280" cy="13680"/>
            </a:xfrm>
            <a:prstGeom prst="rect">
              <a:avLst/>
            </a:prstGeom>
            <a:solidFill>
              <a:srgbClr val="a8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57200" y="4380480"/>
              <a:ext cx="773280" cy="3600"/>
            </a:xfrm>
            <a:prstGeom prst="rect">
              <a:avLst/>
            </a:prstGeom>
            <a:solidFill>
              <a:srgbClr val="757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57200" y="4111920"/>
              <a:ext cx="773280" cy="13320"/>
            </a:xfrm>
            <a:prstGeom prst="rect">
              <a:avLst/>
            </a:prstGeom>
            <a:solidFill>
              <a:srgbClr val="704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57200" y="4125600"/>
              <a:ext cx="773280" cy="5040"/>
            </a:xfrm>
            <a:prstGeom prst="rect">
              <a:avLst/>
            </a:prstGeom>
            <a:solidFill>
              <a:srgbClr val="828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57200" y="4120560"/>
              <a:ext cx="773280" cy="4680"/>
            </a:xfrm>
            <a:prstGeom prst="rect">
              <a:avLst/>
            </a:prstGeom>
            <a:solidFill>
              <a:srgbClr val="d6d6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57200" y="4125600"/>
              <a:ext cx="773280" cy="5040"/>
            </a:xfrm>
            <a:prstGeom prst="rect">
              <a:avLst/>
            </a:prstGeom>
            <a:solidFill>
              <a:srgbClr val="b5b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57200" y="4130640"/>
              <a:ext cx="773280" cy="3600"/>
            </a:xfrm>
            <a:prstGeom prst="rect">
              <a:avLst/>
            </a:prstGeom>
            <a:solidFill>
              <a:srgbClr val="8f8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86720" y="4184640"/>
              <a:ext cx="96840" cy="4680"/>
            </a:xfrm>
            <a:prstGeom prst="rect">
              <a:avLst/>
            </a:pr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86720" y="4179600"/>
              <a:ext cx="96840" cy="5040"/>
            </a:xfrm>
            <a:prstGeom prst="rect">
              <a:avLst/>
            </a:pr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86720" y="4184640"/>
              <a:ext cx="96840" cy="4680"/>
            </a:xfrm>
            <a:prstGeom prst="rect">
              <a:avLst/>
            </a:pr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96080" y="4193640"/>
              <a:ext cx="77760" cy="972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96080" y="4189680"/>
              <a:ext cx="77760" cy="396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96080" y="4193640"/>
              <a:ext cx="77760" cy="468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90680" y="4311360"/>
              <a:ext cx="88920" cy="5040"/>
            </a:xfrm>
            <a:prstGeom prst="rect">
              <a:avLst/>
            </a:pr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90680" y="4307760"/>
              <a:ext cx="88920" cy="3600"/>
            </a:xfrm>
            <a:prstGeom prst="rect">
              <a:avLst/>
            </a:pr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501480" y="4203360"/>
              <a:ext cx="67320" cy="1076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505440" y="4203360"/>
              <a:ext cx="59040" cy="10404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10840" y="4207320"/>
              <a:ext cx="48600" cy="950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10840" y="4207320"/>
              <a:ext cx="42840" cy="95040"/>
            </a:xfrm>
            <a:prstGeom prst="rect">
              <a:avLst/>
            </a:prstGeom>
            <a:solidFill>
              <a:srgbClr val="404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10840" y="4234680"/>
              <a:ext cx="48600" cy="50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29920" y="4234680"/>
              <a:ext cx="5040" cy="6768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10840" y="4248720"/>
              <a:ext cx="48600" cy="360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10840" y="4266000"/>
              <a:ext cx="48600" cy="504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10840" y="4285080"/>
              <a:ext cx="48600" cy="36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10840" y="4285080"/>
              <a:ext cx="48600" cy="360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81320" y="4203360"/>
              <a:ext cx="20160" cy="1040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75560" y="4203360"/>
              <a:ext cx="5400" cy="10404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4840" y="4203360"/>
              <a:ext cx="24480" cy="1040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37920" y="4184640"/>
              <a:ext cx="92880" cy="4680"/>
            </a:xfrm>
            <a:prstGeom prst="rect">
              <a:avLst/>
            </a:pr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37920" y="4179600"/>
              <a:ext cx="92880" cy="5040"/>
            </a:xfrm>
            <a:prstGeom prst="rect">
              <a:avLst/>
            </a:pr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37920" y="4184640"/>
              <a:ext cx="92880" cy="4680"/>
            </a:xfrm>
            <a:prstGeom prst="rect">
              <a:avLst/>
            </a:pr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47280" y="4193640"/>
              <a:ext cx="78120" cy="972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47280" y="4189680"/>
              <a:ext cx="78120" cy="396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47280" y="4193640"/>
              <a:ext cx="78120" cy="468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43320" y="4311360"/>
              <a:ext cx="82080" cy="5040"/>
            </a:xfrm>
            <a:prstGeom prst="rect">
              <a:avLst/>
            </a:pr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43320" y="4307760"/>
              <a:ext cx="82080" cy="3600"/>
            </a:xfrm>
            <a:prstGeom prst="rect">
              <a:avLst/>
            </a:pr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52680" y="4203360"/>
              <a:ext cx="63360" cy="1076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52680" y="4203360"/>
              <a:ext cx="63360" cy="10404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62040" y="4207320"/>
              <a:ext cx="44280" cy="950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62040" y="4207320"/>
              <a:ext cx="44280" cy="95040"/>
            </a:xfrm>
            <a:prstGeom prst="rect">
              <a:avLst/>
            </a:prstGeom>
            <a:solidFill>
              <a:srgbClr val="404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62040" y="4234680"/>
              <a:ext cx="48600" cy="50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82200" y="4234680"/>
              <a:ext cx="3960" cy="6768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82200" y="4234680"/>
              <a:ext cx="3960" cy="6768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62040" y="4248720"/>
              <a:ext cx="48600" cy="360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62040" y="4266000"/>
              <a:ext cx="48600" cy="504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62040" y="4285080"/>
              <a:ext cx="48600" cy="36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62040" y="4285080"/>
              <a:ext cx="48600" cy="360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28560" y="4203360"/>
              <a:ext cx="24120" cy="1040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16040" y="4203360"/>
              <a:ext cx="24480" cy="1040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88760" y="4184640"/>
              <a:ext cx="93240" cy="4680"/>
            </a:xfrm>
            <a:prstGeom prst="rect">
              <a:avLst/>
            </a:pr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88760" y="4179600"/>
              <a:ext cx="93240" cy="5040"/>
            </a:xfrm>
            <a:prstGeom prst="rect">
              <a:avLst/>
            </a:pr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88760" y="4184640"/>
              <a:ext cx="93240" cy="4680"/>
            </a:xfrm>
            <a:prstGeom prst="rect">
              <a:avLst/>
            </a:pr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94520" y="4193640"/>
              <a:ext cx="78120" cy="972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94520" y="4189680"/>
              <a:ext cx="78120" cy="396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94520" y="4193640"/>
              <a:ext cx="78120" cy="468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88760" y="4311360"/>
              <a:ext cx="88920" cy="5040"/>
            </a:xfrm>
            <a:prstGeom prst="rect">
              <a:avLst/>
            </a:pr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788760" y="4307760"/>
              <a:ext cx="88920" cy="3600"/>
            </a:xfrm>
            <a:prstGeom prst="rect">
              <a:avLst/>
            </a:pr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99920" y="4203360"/>
              <a:ext cx="63360" cy="1076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03880" y="4203360"/>
              <a:ext cx="59040" cy="10404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09280" y="4207320"/>
              <a:ext cx="48240" cy="950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14680" y="4207320"/>
              <a:ext cx="42840" cy="95040"/>
            </a:xfrm>
            <a:prstGeom prst="rect">
              <a:avLst/>
            </a:prstGeom>
            <a:solidFill>
              <a:srgbClr val="404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09280" y="4234680"/>
              <a:ext cx="48240" cy="50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33760" y="4234680"/>
              <a:ext cx="5400" cy="6768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28000" y="4234680"/>
              <a:ext cx="5400" cy="6768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09280" y="4248720"/>
              <a:ext cx="48240" cy="360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09280" y="4266000"/>
              <a:ext cx="48240" cy="504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09280" y="4285080"/>
              <a:ext cx="48240" cy="36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09280" y="4285080"/>
              <a:ext cx="48240" cy="360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79760" y="4203360"/>
              <a:ext cx="24120" cy="1040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75440" y="4203360"/>
              <a:ext cx="3960" cy="10404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63280" y="4203360"/>
              <a:ext cx="24120" cy="1040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87400" y="4203360"/>
              <a:ext cx="3960" cy="10404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936000" y="4184640"/>
              <a:ext cx="92880" cy="4680"/>
            </a:xfrm>
            <a:prstGeom prst="rect">
              <a:avLst/>
            </a:pr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936000" y="4179600"/>
              <a:ext cx="92880" cy="5040"/>
            </a:xfrm>
            <a:prstGeom prst="rect">
              <a:avLst/>
            </a:pr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936000" y="4184640"/>
              <a:ext cx="92880" cy="4680"/>
            </a:xfrm>
            <a:prstGeom prst="rect">
              <a:avLst/>
            </a:pr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941760" y="4193640"/>
              <a:ext cx="77760" cy="972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941760" y="4189680"/>
              <a:ext cx="77760" cy="396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941760" y="4193640"/>
              <a:ext cx="77760" cy="468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941760" y="4311360"/>
              <a:ext cx="82080" cy="5040"/>
            </a:xfrm>
            <a:prstGeom prst="rect">
              <a:avLst/>
            </a:pr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941760" y="4307760"/>
              <a:ext cx="82080" cy="3600"/>
            </a:xfrm>
            <a:prstGeom prst="rect">
              <a:avLst/>
            </a:pr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951120" y="4203360"/>
              <a:ext cx="63360" cy="1076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951120" y="4203360"/>
              <a:ext cx="63360" cy="10404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956520" y="4207320"/>
              <a:ext cx="52560" cy="950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960480" y="4207320"/>
              <a:ext cx="44640" cy="95040"/>
            </a:xfrm>
            <a:prstGeom prst="rect">
              <a:avLst/>
            </a:prstGeom>
            <a:solidFill>
              <a:srgbClr val="404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956520" y="4234680"/>
              <a:ext cx="52560" cy="50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981000" y="4234680"/>
              <a:ext cx="3960" cy="6768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981000" y="4234680"/>
              <a:ext cx="3960" cy="6768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956520" y="4248720"/>
              <a:ext cx="52560" cy="360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956520" y="4266000"/>
              <a:ext cx="52560" cy="504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956520" y="4285080"/>
              <a:ext cx="52560" cy="36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956520" y="4285080"/>
              <a:ext cx="52560" cy="360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926640" y="4203360"/>
              <a:ext cx="24480" cy="1040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014480" y="4203360"/>
              <a:ext cx="24120" cy="1040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083240" y="4184640"/>
              <a:ext cx="96840" cy="4680"/>
            </a:xfrm>
            <a:prstGeom prst="rect">
              <a:avLst/>
            </a:pr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083240" y="4179600"/>
              <a:ext cx="96840" cy="5040"/>
            </a:xfrm>
            <a:prstGeom prst="rect">
              <a:avLst/>
            </a:pr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083240" y="4184640"/>
              <a:ext cx="96840" cy="4680"/>
            </a:xfrm>
            <a:prstGeom prst="rect">
              <a:avLst/>
            </a:pr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092960" y="4193640"/>
              <a:ext cx="77760" cy="972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092960" y="4189680"/>
              <a:ext cx="77760" cy="396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092960" y="4193640"/>
              <a:ext cx="77760" cy="468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087560" y="4311360"/>
              <a:ext cx="88920" cy="5040"/>
            </a:xfrm>
            <a:prstGeom prst="rect">
              <a:avLst/>
            </a:pr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087560" y="4307760"/>
              <a:ext cx="88920" cy="3600"/>
            </a:xfrm>
            <a:prstGeom prst="rect">
              <a:avLst/>
            </a:pr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098000" y="4203360"/>
              <a:ext cx="67320" cy="1076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101960" y="4203360"/>
              <a:ext cx="59400" cy="10404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107720" y="4207320"/>
              <a:ext cx="48600" cy="950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107720" y="4207320"/>
              <a:ext cx="48600" cy="95040"/>
            </a:xfrm>
            <a:prstGeom prst="rect">
              <a:avLst/>
            </a:prstGeom>
            <a:solidFill>
              <a:srgbClr val="404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107720" y="4234680"/>
              <a:ext cx="48600" cy="50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132200" y="4234680"/>
              <a:ext cx="5040" cy="6768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126440" y="4234680"/>
              <a:ext cx="5400" cy="6768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107720" y="4248720"/>
              <a:ext cx="48600" cy="360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107720" y="4266000"/>
              <a:ext cx="48600" cy="504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107720" y="4285080"/>
              <a:ext cx="48600" cy="36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107720" y="4285080"/>
              <a:ext cx="48600" cy="360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077840" y="4203360"/>
              <a:ext cx="24120" cy="1040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073880" y="4203360"/>
              <a:ext cx="3960" cy="10404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165680" y="4203360"/>
              <a:ext cx="20160" cy="1040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185840" y="4203360"/>
              <a:ext cx="5400" cy="10404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01200" y="3965040"/>
              <a:ext cx="480600" cy="146880"/>
            </a:xfrm>
            <a:custGeom>
              <a:avLst/>
              <a:gdLst/>
              <a:ahLst/>
              <a:rect l="l" t="t" r="r" b="b"/>
              <a:pathLst>
                <a:path w="356" h="117">
                  <a:moveTo>
                    <a:pt x="69" y="0"/>
                  </a:moveTo>
                  <a:lnTo>
                    <a:pt x="290" y="0"/>
                  </a:lnTo>
                  <a:lnTo>
                    <a:pt x="356" y="117"/>
                  </a:lnTo>
                  <a:lnTo>
                    <a:pt x="0" y="117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633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3" name="" descr=""/>
          <p:cNvPicPr/>
          <p:nvPr/>
        </p:nvPicPr>
        <p:blipFill>
          <a:blip r:embed="rId1"/>
          <a:stretch/>
        </p:blipFill>
        <p:spPr>
          <a:xfrm>
            <a:off x="6553080" y="5715000"/>
            <a:ext cx="2397240" cy="663480"/>
          </a:xfrm>
          <a:prstGeom prst="rect">
            <a:avLst/>
          </a:prstGeom>
          <a:ln w="0">
            <a:noFill/>
          </a:ln>
        </p:spPr>
      </p:pic>
      <p:grpSp>
        <p:nvGrpSpPr>
          <p:cNvPr id="1564" name=""/>
          <p:cNvGrpSpPr/>
          <p:nvPr/>
        </p:nvGrpSpPr>
        <p:grpSpPr>
          <a:xfrm>
            <a:off x="5410080" y="3962520"/>
            <a:ext cx="1564920" cy="431640"/>
            <a:chOff x="5410080" y="3962520"/>
            <a:chExt cx="1564920" cy="431640"/>
          </a:xfrm>
        </p:grpSpPr>
        <p:sp>
          <p:nvSpPr>
            <p:cNvPr id="1565" name=""/>
            <p:cNvSpPr/>
            <p:nvPr/>
          </p:nvSpPr>
          <p:spPr>
            <a:xfrm>
              <a:off x="6334200" y="3962520"/>
              <a:ext cx="240120" cy="158400"/>
            </a:xfrm>
            <a:custGeom>
              <a:avLst/>
              <a:gdLst/>
              <a:ahLst/>
              <a:rect l="l" t="t" r="r" b="b"/>
              <a:pathLst>
                <a:path w="178" h="126">
                  <a:moveTo>
                    <a:pt x="0" y="0"/>
                  </a:moveTo>
                  <a:lnTo>
                    <a:pt x="163" y="47"/>
                  </a:lnTo>
                  <a:lnTo>
                    <a:pt x="178" y="123"/>
                  </a:lnTo>
                  <a:lnTo>
                    <a:pt x="152" y="126"/>
                  </a:lnTo>
                  <a:lnTo>
                    <a:pt x="116" y="123"/>
                  </a:lnTo>
                  <a:lnTo>
                    <a:pt x="62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33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801400" y="3962520"/>
              <a:ext cx="240120" cy="158400"/>
            </a:xfrm>
            <a:custGeom>
              <a:avLst/>
              <a:gdLst/>
              <a:ahLst/>
              <a:rect l="l" t="t" r="r" b="b"/>
              <a:pathLst>
                <a:path w="178" h="126">
                  <a:moveTo>
                    <a:pt x="178" y="0"/>
                  </a:moveTo>
                  <a:lnTo>
                    <a:pt x="14" y="47"/>
                  </a:lnTo>
                  <a:lnTo>
                    <a:pt x="0" y="123"/>
                  </a:lnTo>
                  <a:lnTo>
                    <a:pt x="25" y="126"/>
                  </a:lnTo>
                  <a:lnTo>
                    <a:pt x="62" y="123"/>
                  </a:lnTo>
                  <a:lnTo>
                    <a:pt x="116" y="126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633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937840" y="4117320"/>
              <a:ext cx="480240" cy="3600"/>
            </a:xfrm>
            <a:prstGeom prst="rect">
              <a:avLst/>
            </a:prstGeom>
            <a:solidFill>
              <a:srgbClr val="828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801400" y="4125960"/>
              <a:ext cx="772920" cy="259200"/>
            </a:xfrm>
            <a:prstGeom prst="rect">
              <a:avLst/>
            </a:prstGeom>
            <a:solidFill>
              <a:srgbClr val="c9c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801400" y="4125960"/>
              <a:ext cx="772920" cy="13680"/>
            </a:xfrm>
            <a:prstGeom prst="rect">
              <a:avLst/>
            </a:prstGeom>
            <a:solidFill>
              <a:srgbClr val="a8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801400" y="4139640"/>
              <a:ext cx="772920" cy="5040"/>
            </a:xfrm>
            <a:prstGeom prst="rect">
              <a:avLst/>
            </a:prstGeom>
            <a:solidFill>
              <a:srgbClr val="757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801400" y="4148640"/>
              <a:ext cx="772920" cy="13680"/>
            </a:xfrm>
            <a:prstGeom prst="rect">
              <a:avLst/>
            </a:prstGeom>
            <a:solidFill>
              <a:srgbClr val="a8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801400" y="4162320"/>
              <a:ext cx="772920" cy="5040"/>
            </a:xfrm>
            <a:prstGeom prst="rect">
              <a:avLst/>
            </a:prstGeom>
            <a:solidFill>
              <a:srgbClr val="757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801400" y="4171320"/>
              <a:ext cx="772920" cy="13680"/>
            </a:xfrm>
            <a:prstGeom prst="rect">
              <a:avLst/>
            </a:prstGeom>
            <a:solidFill>
              <a:srgbClr val="a8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801400" y="4185360"/>
              <a:ext cx="772920" cy="4680"/>
            </a:xfrm>
            <a:prstGeom prst="rect">
              <a:avLst/>
            </a:prstGeom>
            <a:solidFill>
              <a:srgbClr val="757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801400" y="4190040"/>
              <a:ext cx="772920" cy="17640"/>
            </a:xfrm>
            <a:prstGeom prst="rect">
              <a:avLst/>
            </a:prstGeom>
            <a:solidFill>
              <a:srgbClr val="a8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801400" y="4212720"/>
              <a:ext cx="772920" cy="13680"/>
            </a:xfrm>
            <a:prstGeom prst="rect">
              <a:avLst/>
            </a:prstGeom>
            <a:solidFill>
              <a:srgbClr val="a8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801400" y="4226400"/>
              <a:ext cx="772920" cy="3600"/>
            </a:xfrm>
            <a:prstGeom prst="rect">
              <a:avLst/>
            </a:prstGeom>
            <a:solidFill>
              <a:srgbClr val="757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801400" y="4235400"/>
              <a:ext cx="772920" cy="13680"/>
            </a:xfrm>
            <a:prstGeom prst="rect">
              <a:avLst/>
            </a:prstGeom>
            <a:solidFill>
              <a:srgbClr val="a8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801400" y="4249440"/>
              <a:ext cx="772920" cy="3600"/>
            </a:xfrm>
            <a:prstGeom prst="rect">
              <a:avLst/>
            </a:prstGeom>
            <a:solidFill>
              <a:srgbClr val="757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801400" y="4258080"/>
              <a:ext cx="772920" cy="13680"/>
            </a:xfrm>
            <a:prstGeom prst="rect">
              <a:avLst/>
            </a:prstGeom>
            <a:solidFill>
              <a:srgbClr val="a8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801400" y="4271760"/>
              <a:ext cx="772920" cy="3600"/>
            </a:xfrm>
            <a:prstGeom prst="rect">
              <a:avLst/>
            </a:prstGeom>
            <a:solidFill>
              <a:srgbClr val="757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801400" y="4280760"/>
              <a:ext cx="772920" cy="13680"/>
            </a:xfrm>
            <a:prstGeom prst="rect">
              <a:avLst/>
            </a:prstGeom>
            <a:solidFill>
              <a:srgbClr val="a8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801400" y="4299480"/>
              <a:ext cx="772920" cy="17640"/>
            </a:xfrm>
            <a:prstGeom prst="rect">
              <a:avLst/>
            </a:prstGeom>
            <a:solidFill>
              <a:srgbClr val="a8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801400" y="4322160"/>
              <a:ext cx="772920" cy="12240"/>
            </a:xfrm>
            <a:prstGeom prst="rect">
              <a:avLst/>
            </a:prstGeom>
            <a:solidFill>
              <a:srgbClr val="a8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801400" y="4334760"/>
              <a:ext cx="772920" cy="5040"/>
            </a:xfrm>
            <a:prstGeom prst="rect">
              <a:avLst/>
            </a:prstGeom>
            <a:solidFill>
              <a:srgbClr val="757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801400" y="4344840"/>
              <a:ext cx="772920" cy="13680"/>
            </a:xfrm>
            <a:prstGeom prst="rect">
              <a:avLst/>
            </a:prstGeom>
            <a:solidFill>
              <a:srgbClr val="a8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801400" y="4358520"/>
              <a:ext cx="772920" cy="3600"/>
            </a:xfrm>
            <a:prstGeom prst="rect">
              <a:avLst/>
            </a:prstGeom>
            <a:solidFill>
              <a:srgbClr val="757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801400" y="4367520"/>
              <a:ext cx="772920" cy="13680"/>
            </a:xfrm>
            <a:prstGeom prst="rect">
              <a:avLst/>
            </a:prstGeom>
            <a:solidFill>
              <a:srgbClr val="a8a8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801400" y="4381560"/>
              <a:ext cx="772920" cy="3600"/>
            </a:xfrm>
            <a:prstGeom prst="rect">
              <a:avLst/>
            </a:prstGeom>
            <a:solidFill>
              <a:srgbClr val="757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801400" y="4112280"/>
              <a:ext cx="772920" cy="13680"/>
            </a:xfrm>
            <a:prstGeom prst="rect">
              <a:avLst/>
            </a:prstGeom>
            <a:solidFill>
              <a:srgbClr val="704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801400" y="4125960"/>
              <a:ext cx="772920" cy="5040"/>
            </a:xfrm>
            <a:prstGeom prst="rect">
              <a:avLst/>
            </a:prstGeom>
            <a:solidFill>
              <a:srgbClr val="828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801400" y="4120920"/>
              <a:ext cx="772920" cy="4680"/>
            </a:xfrm>
            <a:prstGeom prst="rect">
              <a:avLst/>
            </a:prstGeom>
            <a:solidFill>
              <a:srgbClr val="d6d6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801400" y="4125960"/>
              <a:ext cx="772920" cy="5040"/>
            </a:xfrm>
            <a:prstGeom prst="rect">
              <a:avLst/>
            </a:prstGeom>
            <a:solidFill>
              <a:srgbClr val="b5b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801400" y="4131000"/>
              <a:ext cx="772920" cy="3600"/>
            </a:xfrm>
            <a:prstGeom prst="rect">
              <a:avLst/>
            </a:prstGeom>
            <a:solidFill>
              <a:srgbClr val="8f8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554160" y="3993840"/>
              <a:ext cx="244080" cy="127080"/>
            </a:xfrm>
            <a:custGeom>
              <a:avLst/>
              <a:gdLst/>
              <a:ahLst/>
              <a:rect l="l" t="t" r="r" b="b"/>
              <a:pathLst>
                <a:path w="181" h="101">
                  <a:moveTo>
                    <a:pt x="181" y="0"/>
                  </a:moveTo>
                  <a:lnTo>
                    <a:pt x="0" y="22"/>
                  </a:lnTo>
                  <a:lnTo>
                    <a:pt x="15" y="98"/>
                  </a:lnTo>
                  <a:lnTo>
                    <a:pt x="15" y="101"/>
                  </a:lnTo>
                  <a:lnTo>
                    <a:pt x="51" y="98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4a2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622920" y="3993840"/>
              <a:ext cx="352080" cy="127080"/>
            </a:xfrm>
            <a:custGeom>
              <a:avLst/>
              <a:gdLst/>
              <a:ahLst/>
              <a:rect l="l" t="t" r="r" b="b"/>
              <a:pathLst>
                <a:path w="261" h="101">
                  <a:moveTo>
                    <a:pt x="257" y="101"/>
                  </a:moveTo>
                  <a:lnTo>
                    <a:pt x="0" y="98"/>
                  </a:lnTo>
                  <a:lnTo>
                    <a:pt x="0" y="98"/>
                  </a:lnTo>
                  <a:lnTo>
                    <a:pt x="130" y="0"/>
                  </a:lnTo>
                  <a:lnTo>
                    <a:pt x="261" y="98"/>
                  </a:lnTo>
                  <a:lnTo>
                    <a:pt x="257" y="101"/>
                  </a:lnTo>
                  <a:close/>
                </a:path>
              </a:pathLst>
            </a:custGeom>
            <a:solidFill>
              <a:srgbClr val="704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622920" y="4007880"/>
              <a:ext cx="352080" cy="113040"/>
            </a:xfrm>
            <a:custGeom>
              <a:avLst/>
              <a:gdLst/>
              <a:ahLst/>
              <a:rect l="l" t="t" r="r" b="b"/>
              <a:pathLst>
                <a:path w="261" h="90">
                  <a:moveTo>
                    <a:pt x="130" y="0"/>
                  </a:moveTo>
                  <a:lnTo>
                    <a:pt x="261" y="90"/>
                  </a:lnTo>
                  <a:lnTo>
                    <a:pt x="0" y="9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bd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774120" y="4007880"/>
              <a:ext cx="48240" cy="1368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36" y="11"/>
                  </a:moveTo>
                  <a:lnTo>
                    <a:pt x="0" y="11"/>
                  </a:lnTo>
                  <a:lnTo>
                    <a:pt x="18" y="0"/>
                  </a:lnTo>
                  <a:lnTo>
                    <a:pt x="36" y="11"/>
                  </a:lnTo>
                  <a:close/>
                </a:path>
              </a:pathLst>
            </a:custGeom>
            <a:solidFill>
              <a:srgbClr val="9c9c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769800" y="4021560"/>
              <a:ext cx="57960" cy="5040"/>
            </a:xfrm>
            <a:custGeom>
              <a:avLst/>
              <a:gdLst/>
              <a:ahLst/>
              <a:rect l="l" t="t" r="r" b="b"/>
              <a:pathLst>
                <a:path w="43" h="4">
                  <a:moveTo>
                    <a:pt x="0" y="4"/>
                  </a:moveTo>
                  <a:lnTo>
                    <a:pt x="43" y="4"/>
                  </a:lnTo>
                  <a:lnTo>
                    <a:pt x="39" y="0"/>
                  </a:lnTo>
                  <a:lnTo>
                    <a:pt x="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96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740280" y="4030200"/>
              <a:ext cx="117360" cy="1872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18" y="0"/>
                  </a:moveTo>
                  <a:lnTo>
                    <a:pt x="69" y="0"/>
                  </a:lnTo>
                  <a:lnTo>
                    <a:pt x="87" y="15"/>
                  </a:lnTo>
                  <a:lnTo>
                    <a:pt x="0" y="15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c9c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734880" y="4048920"/>
              <a:ext cx="126360" cy="1080"/>
            </a:xfrm>
            <a:custGeom>
              <a:avLst/>
              <a:gdLst/>
              <a:ahLst/>
              <a:rect l="l" t="t" r="r" b="b"/>
              <a:pathLst>
                <a:path w="94" h="0">
                  <a:moveTo>
                    <a:pt x="0" y="0"/>
                  </a:moveTo>
                  <a:lnTo>
                    <a:pt x="94" y="0"/>
                  </a:lnTo>
                  <a:lnTo>
                    <a:pt x="91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96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01400" y="4053240"/>
              <a:ext cx="189720" cy="18720"/>
            </a:xfrm>
            <a:custGeom>
              <a:avLst/>
              <a:gdLst/>
              <a:ahLst/>
              <a:rect l="l" t="t" r="r" b="b"/>
              <a:pathLst>
                <a:path w="141" h="15">
                  <a:moveTo>
                    <a:pt x="22" y="0"/>
                  </a:moveTo>
                  <a:lnTo>
                    <a:pt x="123" y="0"/>
                  </a:lnTo>
                  <a:lnTo>
                    <a:pt x="141" y="15"/>
                  </a:lnTo>
                  <a:lnTo>
                    <a:pt x="0" y="1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c9c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696000" y="4071960"/>
              <a:ext cx="204840" cy="3600"/>
            </a:xfrm>
            <a:custGeom>
              <a:avLst/>
              <a:gdLst/>
              <a:ahLst/>
              <a:rect l="l" t="t" r="r" b="b"/>
              <a:pathLst>
                <a:path w="152" h="3">
                  <a:moveTo>
                    <a:pt x="0" y="3"/>
                  </a:moveTo>
                  <a:lnTo>
                    <a:pt x="152" y="3"/>
                  </a:lnTo>
                  <a:lnTo>
                    <a:pt x="145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96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666120" y="4075560"/>
              <a:ext cx="264240" cy="18720"/>
            </a:xfrm>
            <a:custGeom>
              <a:avLst/>
              <a:gdLst/>
              <a:ahLst/>
              <a:rect l="l" t="t" r="r" b="b"/>
              <a:pathLst>
                <a:path w="196" h="15">
                  <a:moveTo>
                    <a:pt x="19" y="0"/>
                  </a:moveTo>
                  <a:lnTo>
                    <a:pt x="178" y="0"/>
                  </a:lnTo>
                  <a:lnTo>
                    <a:pt x="196" y="15"/>
                  </a:lnTo>
                  <a:lnTo>
                    <a:pt x="0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c9c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662160" y="4094280"/>
              <a:ext cx="273600" cy="3600"/>
            </a:xfrm>
            <a:custGeom>
              <a:avLst/>
              <a:gdLst/>
              <a:ahLst/>
              <a:rect l="l" t="t" r="r" b="b"/>
              <a:pathLst>
                <a:path w="203" h="3">
                  <a:moveTo>
                    <a:pt x="0" y="3"/>
                  </a:moveTo>
                  <a:lnTo>
                    <a:pt x="203" y="3"/>
                  </a:lnTo>
                  <a:lnTo>
                    <a:pt x="199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696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626880" y="4103280"/>
              <a:ext cx="338400" cy="13680"/>
            </a:xfrm>
            <a:custGeom>
              <a:avLst/>
              <a:gdLst/>
              <a:ahLst/>
              <a:rect l="l" t="t" r="r" b="b"/>
              <a:pathLst>
                <a:path w="251" h="11">
                  <a:moveTo>
                    <a:pt x="19" y="0"/>
                  </a:moveTo>
                  <a:lnTo>
                    <a:pt x="232" y="0"/>
                  </a:lnTo>
                  <a:lnTo>
                    <a:pt x="251" y="11"/>
                  </a:lnTo>
                  <a:lnTo>
                    <a:pt x="0" y="1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c9c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22920" y="4117320"/>
              <a:ext cx="352080" cy="3600"/>
            </a:xfrm>
            <a:custGeom>
              <a:avLst/>
              <a:gdLst/>
              <a:ahLst/>
              <a:rect l="l" t="t" r="r" b="b"/>
              <a:pathLst>
                <a:path w="261" h="3">
                  <a:moveTo>
                    <a:pt x="254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261" y="3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696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647400" y="4035240"/>
              <a:ext cx="298080" cy="85320"/>
            </a:xfrm>
            <a:custGeom>
              <a:avLst/>
              <a:gdLst/>
              <a:ahLst/>
              <a:rect l="l" t="t" r="r" b="b"/>
              <a:pathLst>
                <a:path w="221" h="68">
                  <a:moveTo>
                    <a:pt x="112" y="0"/>
                  </a:moveTo>
                  <a:lnTo>
                    <a:pt x="221" y="68"/>
                  </a:lnTo>
                  <a:lnTo>
                    <a:pt x="0" y="68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d6d6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779520" y="4035240"/>
              <a:ext cx="33840" cy="136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25" y="11"/>
                  </a:moveTo>
                  <a:lnTo>
                    <a:pt x="0" y="11"/>
                  </a:lnTo>
                  <a:lnTo>
                    <a:pt x="14" y="0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b5b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774120" y="4048920"/>
              <a:ext cx="48240" cy="1080"/>
            </a:xfrm>
            <a:custGeom>
              <a:avLst/>
              <a:gdLst/>
              <a:ahLst/>
              <a:rect l="l" t="t" r="r" b="b"/>
              <a:pathLst>
                <a:path w="36" h="0">
                  <a:moveTo>
                    <a:pt x="0" y="0"/>
                  </a:moveTo>
                  <a:lnTo>
                    <a:pt x="36" y="0"/>
                  </a:lnTo>
                  <a:lnTo>
                    <a:pt x="29" y="0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8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734880" y="4053240"/>
              <a:ext cx="122400" cy="18720"/>
            </a:xfrm>
            <a:custGeom>
              <a:avLst/>
              <a:gdLst/>
              <a:ahLst/>
              <a:rect l="l" t="t" r="r" b="b"/>
              <a:pathLst>
                <a:path w="91" h="15">
                  <a:moveTo>
                    <a:pt x="22" y="0"/>
                  </a:moveTo>
                  <a:lnTo>
                    <a:pt x="69" y="0"/>
                  </a:lnTo>
                  <a:lnTo>
                    <a:pt x="91" y="15"/>
                  </a:lnTo>
                  <a:lnTo>
                    <a:pt x="0" y="1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5b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730920" y="4071960"/>
              <a:ext cx="130320" cy="3600"/>
            </a:xfrm>
            <a:custGeom>
              <a:avLst/>
              <a:gdLst/>
              <a:ahLst/>
              <a:rect l="l" t="t" r="r" b="b"/>
              <a:pathLst>
                <a:path w="97" h="3">
                  <a:moveTo>
                    <a:pt x="0" y="3"/>
                  </a:moveTo>
                  <a:lnTo>
                    <a:pt x="97" y="3"/>
                  </a:lnTo>
                  <a:lnTo>
                    <a:pt x="94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28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696000" y="4075560"/>
              <a:ext cx="200880" cy="18720"/>
            </a:xfrm>
            <a:custGeom>
              <a:avLst/>
              <a:gdLst/>
              <a:ahLst/>
              <a:rect l="l" t="t" r="r" b="b"/>
              <a:pathLst>
                <a:path w="149" h="15">
                  <a:moveTo>
                    <a:pt x="22" y="0"/>
                  </a:moveTo>
                  <a:lnTo>
                    <a:pt x="127" y="0"/>
                  </a:lnTo>
                  <a:lnTo>
                    <a:pt x="149" y="15"/>
                  </a:lnTo>
                  <a:lnTo>
                    <a:pt x="0" y="1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5b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686280" y="4094280"/>
              <a:ext cx="219960" cy="3600"/>
            </a:xfrm>
            <a:custGeom>
              <a:avLst/>
              <a:gdLst/>
              <a:ahLst/>
              <a:rect l="l" t="t" r="r" b="b"/>
              <a:pathLst>
                <a:path w="163" h="3">
                  <a:moveTo>
                    <a:pt x="0" y="3"/>
                  </a:moveTo>
                  <a:lnTo>
                    <a:pt x="163" y="3"/>
                  </a:lnTo>
                  <a:lnTo>
                    <a:pt x="156" y="0"/>
                  </a:lnTo>
                  <a:lnTo>
                    <a:pt x="7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28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652800" y="4103280"/>
              <a:ext cx="287280" cy="13680"/>
            </a:xfrm>
            <a:custGeom>
              <a:avLst/>
              <a:gdLst/>
              <a:ahLst/>
              <a:rect l="l" t="t" r="r" b="b"/>
              <a:pathLst>
                <a:path w="213" h="11">
                  <a:moveTo>
                    <a:pt x="21" y="0"/>
                  </a:moveTo>
                  <a:lnTo>
                    <a:pt x="192" y="0"/>
                  </a:lnTo>
                  <a:lnTo>
                    <a:pt x="213" y="11"/>
                  </a:lnTo>
                  <a:lnTo>
                    <a:pt x="0" y="1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5b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647400" y="4117320"/>
              <a:ext cx="298080" cy="3600"/>
            </a:xfrm>
            <a:custGeom>
              <a:avLst/>
              <a:gdLst/>
              <a:ahLst/>
              <a:rect l="l" t="t" r="r" b="b"/>
              <a:pathLst>
                <a:path w="221" h="3">
                  <a:moveTo>
                    <a:pt x="21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221" y="3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828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626880" y="4103280"/>
              <a:ext cx="338400" cy="17640"/>
            </a:xfrm>
            <a:custGeom>
              <a:avLst/>
              <a:gdLst/>
              <a:ahLst/>
              <a:rect l="l" t="t" r="r" b="b"/>
              <a:pathLst>
                <a:path w="251" h="14">
                  <a:moveTo>
                    <a:pt x="44" y="0"/>
                  </a:moveTo>
                  <a:lnTo>
                    <a:pt x="211" y="0"/>
                  </a:lnTo>
                  <a:lnTo>
                    <a:pt x="251" y="14"/>
                  </a:lnTo>
                  <a:lnTo>
                    <a:pt x="0" y="14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04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626880" y="4007880"/>
              <a:ext cx="171000" cy="118080"/>
            </a:xfrm>
            <a:custGeom>
              <a:avLst/>
              <a:gdLst/>
              <a:ahLst/>
              <a:rect l="l" t="t" r="r" b="b"/>
              <a:pathLst>
                <a:path w="127" h="94">
                  <a:moveTo>
                    <a:pt x="0" y="94"/>
                  </a:moveTo>
                  <a:lnTo>
                    <a:pt x="127" y="7"/>
                  </a:lnTo>
                  <a:lnTo>
                    <a:pt x="127" y="0"/>
                  </a:lnTo>
                  <a:lnTo>
                    <a:pt x="0" y="9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626880" y="4002480"/>
              <a:ext cx="171000" cy="118080"/>
            </a:xfrm>
            <a:custGeom>
              <a:avLst/>
              <a:gdLst/>
              <a:ahLst/>
              <a:rect l="l" t="t" r="r" b="b"/>
              <a:pathLst>
                <a:path w="127" h="94">
                  <a:moveTo>
                    <a:pt x="0" y="94"/>
                  </a:moveTo>
                  <a:lnTo>
                    <a:pt x="127" y="4"/>
                  </a:lnTo>
                  <a:lnTo>
                    <a:pt x="127" y="0"/>
                  </a:lnTo>
                  <a:lnTo>
                    <a:pt x="0" y="91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626880" y="4007880"/>
              <a:ext cx="171000" cy="113040"/>
            </a:xfrm>
            <a:custGeom>
              <a:avLst/>
              <a:gdLst/>
              <a:ahLst/>
              <a:rect l="l" t="t" r="r" b="b"/>
              <a:pathLst>
                <a:path w="127" h="90">
                  <a:moveTo>
                    <a:pt x="0" y="90"/>
                  </a:moveTo>
                  <a:lnTo>
                    <a:pt x="127" y="0"/>
                  </a:lnTo>
                  <a:lnTo>
                    <a:pt x="127" y="4"/>
                  </a:lnTo>
                  <a:lnTo>
                    <a:pt x="0" y="9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798240" y="4007880"/>
              <a:ext cx="171000" cy="118080"/>
            </a:xfrm>
            <a:custGeom>
              <a:avLst/>
              <a:gdLst/>
              <a:ahLst/>
              <a:rect l="l" t="t" r="r" b="b"/>
              <a:pathLst>
                <a:path w="127" h="94">
                  <a:moveTo>
                    <a:pt x="127" y="94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27" y="90"/>
                  </a:lnTo>
                  <a:lnTo>
                    <a:pt x="127" y="94"/>
                  </a:lnTo>
                  <a:close/>
                </a:path>
              </a:pathLst>
            </a:cu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798240" y="4002480"/>
              <a:ext cx="171000" cy="118080"/>
            </a:xfrm>
            <a:custGeom>
              <a:avLst/>
              <a:gdLst/>
              <a:ahLst/>
              <a:rect l="l" t="t" r="r" b="b"/>
              <a:pathLst>
                <a:path w="127" h="94">
                  <a:moveTo>
                    <a:pt x="127" y="94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127" y="91"/>
                  </a:lnTo>
                  <a:lnTo>
                    <a:pt x="127" y="94"/>
                  </a:lnTo>
                  <a:close/>
                </a:path>
              </a:pathLst>
            </a:cu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798240" y="4007880"/>
              <a:ext cx="171000" cy="113040"/>
            </a:xfrm>
            <a:custGeom>
              <a:avLst/>
              <a:gdLst/>
              <a:ahLst/>
              <a:rect l="l" t="t" r="r" b="b"/>
              <a:pathLst>
                <a:path w="127" h="90">
                  <a:moveTo>
                    <a:pt x="127" y="9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127" y="90"/>
                  </a:lnTo>
                  <a:lnTo>
                    <a:pt x="127" y="90"/>
                  </a:lnTo>
                  <a:close/>
                </a:path>
              </a:pathLst>
            </a:cu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622920" y="4120920"/>
              <a:ext cx="346320" cy="272880"/>
            </a:xfrm>
            <a:prstGeom prst="rect">
              <a:avLst/>
            </a:prstGeom>
            <a:solidFill>
              <a:srgbClr val="d6d6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622920" y="4120920"/>
              <a:ext cx="346320" cy="13680"/>
            </a:xfrm>
            <a:prstGeom prst="rect">
              <a:avLst/>
            </a:prstGeom>
            <a:solidFill>
              <a:srgbClr val="b5b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622920" y="4134600"/>
              <a:ext cx="346320" cy="5040"/>
            </a:xfrm>
            <a:prstGeom prst="rect">
              <a:avLst/>
            </a:prstGeom>
            <a:solidFill>
              <a:srgbClr val="828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622920" y="4145040"/>
              <a:ext cx="346320" cy="12240"/>
            </a:xfrm>
            <a:prstGeom prst="rect">
              <a:avLst/>
            </a:prstGeom>
            <a:solidFill>
              <a:srgbClr val="b5b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622920" y="4157640"/>
              <a:ext cx="346320" cy="4680"/>
            </a:xfrm>
            <a:prstGeom prst="rect">
              <a:avLst/>
            </a:prstGeom>
            <a:solidFill>
              <a:srgbClr val="828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622920" y="4167360"/>
              <a:ext cx="346320" cy="17640"/>
            </a:xfrm>
            <a:prstGeom prst="rect">
              <a:avLst/>
            </a:prstGeom>
            <a:solidFill>
              <a:srgbClr val="b5b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622920" y="4190040"/>
              <a:ext cx="346320" cy="17640"/>
            </a:xfrm>
            <a:prstGeom prst="rect">
              <a:avLst/>
            </a:prstGeom>
            <a:solidFill>
              <a:srgbClr val="b5b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622920" y="4207680"/>
              <a:ext cx="346320" cy="5040"/>
            </a:xfrm>
            <a:prstGeom prst="rect">
              <a:avLst/>
            </a:prstGeom>
            <a:solidFill>
              <a:srgbClr val="828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622920" y="4212720"/>
              <a:ext cx="346320" cy="17280"/>
            </a:xfrm>
            <a:prstGeom prst="rect">
              <a:avLst/>
            </a:prstGeom>
            <a:solidFill>
              <a:srgbClr val="b5b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622920" y="4230360"/>
              <a:ext cx="346320" cy="5040"/>
            </a:xfrm>
            <a:prstGeom prst="rect">
              <a:avLst/>
            </a:prstGeom>
            <a:solidFill>
              <a:srgbClr val="828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622920" y="4235400"/>
              <a:ext cx="346320" cy="17640"/>
            </a:xfrm>
            <a:prstGeom prst="rect">
              <a:avLst/>
            </a:prstGeom>
            <a:solidFill>
              <a:srgbClr val="b5b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622920" y="4253040"/>
              <a:ext cx="346320" cy="4680"/>
            </a:xfrm>
            <a:prstGeom prst="rect">
              <a:avLst/>
            </a:prstGeom>
            <a:solidFill>
              <a:srgbClr val="828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622920" y="4258080"/>
              <a:ext cx="346320" cy="17640"/>
            </a:xfrm>
            <a:prstGeom prst="rect">
              <a:avLst/>
            </a:prstGeom>
            <a:solidFill>
              <a:srgbClr val="b5b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622920" y="4275720"/>
              <a:ext cx="346320" cy="5040"/>
            </a:xfrm>
            <a:prstGeom prst="rect">
              <a:avLst/>
            </a:prstGeom>
            <a:solidFill>
              <a:srgbClr val="828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622920" y="4285800"/>
              <a:ext cx="346320" cy="13680"/>
            </a:xfrm>
            <a:prstGeom prst="rect">
              <a:avLst/>
            </a:prstGeom>
            <a:solidFill>
              <a:srgbClr val="b5b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622920" y="4299480"/>
              <a:ext cx="346320" cy="3600"/>
            </a:xfrm>
            <a:prstGeom prst="rect">
              <a:avLst/>
            </a:prstGeom>
            <a:solidFill>
              <a:srgbClr val="828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622920" y="4308480"/>
              <a:ext cx="346320" cy="13680"/>
            </a:xfrm>
            <a:prstGeom prst="rect">
              <a:avLst/>
            </a:prstGeom>
            <a:solidFill>
              <a:srgbClr val="b5b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622920" y="4322160"/>
              <a:ext cx="346320" cy="3960"/>
            </a:xfrm>
            <a:prstGeom prst="rect">
              <a:avLst/>
            </a:prstGeom>
            <a:solidFill>
              <a:srgbClr val="828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622920" y="4331160"/>
              <a:ext cx="346320" cy="13680"/>
            </a:xfrm>
            <a:prstGeom prst="rect">
              <a:avLst/>
            </a:prstGeom>
            <a:solidFill>
              <a:srgbClr val="b5b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622920" y="4344840"/>
              <a:ext cx="346320" cy="3600"/>
            </a:xfrm>
            <a:prstGeom prst="rect">
              <a:avLst/>
            </a:prstGeom>
            <a:solidFill>
              <a:srgbClr val="828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622920" y="4353840"/>
              <a:ext cx="346320" cy="13680"/>
            </a:xfrm>
            <a:prstGeom prst="rect">
              <a:avLst/>
            </a:prstGeom>
            <a:solidFill>
              <a:srgbClr val="b5b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622920" y="4367520"/>
              <a:ext cx="346320" cy="3600"/>
            </a:xfrm>
            <a:prstGeom prst="rect">
              <a:avLst/>
            </a:prstGeom>
            <a:solidFill>
              <a:srgbClr val="828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622920" y="4376520"/>
              <a:ext cx="346320" cy="13680"/>
            </a:xfrm>
            <a:prstGeom prst="rect">
              <a:avLst/>
            </a:prstGeom>
            <a:solidFill>
              <a:srgbClr val="b5b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622920" y="4390200"/>
              <a:ext cx="346320" cy="3600"/>
            </a:xfrm>
            <a:prstGeom prst="rect">
              <a:avLst/>
            </a:prstGeom>
            <a:solidFill>
              <a:srgbClr val="828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622920" y="4120920"/>
              <a:ext cx="346320" cy="4680"/>
            </a:xfrm>
            <a:prstGeom prst="rect">
              <a:avLst/>
            </a:pr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622920" y="4117320"/>
              <a:ext cx="346320" cy="3600"/>
            </a:xfrm>
            <a:prstGeom prst="rect">
              <a:avLst/>
            </a:pr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626880" y="4125960"/>
              <a:ext cx="342360" cy="8640"/>
            </a:xfrm>
            <a:prstGeom prst="rect">
              <a:avLst/>
            </a:prstGeom>
            <a:solidFill>
              <a:srgbClr val="9c9c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574320" y="4120920"/>
              <a:ext cx="52560" cy="272880"/>
            </a:xfrm>
            <a:custGeom>
              <a:avLst/>
              <a:gdLst/>
              <a:ahLst/>
              <a:rect l="l" t="t" r="r" b="b"/>
              <a:pathLst>
                <a:path w="39" h="217">
                  <a:moveTo>
                    <a:pt x="39" y="0"/>
                  </a:moveTo>
                  <a:lnTo>
                    <a:pt x="32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9"/>
                  </a:lnTo>
                  <a:lnTo>
                    <a:pt x="0" y="80"/>
                  </a:lnTo>
                  <a:lnTo>
                    <a:pt x="0" y="95"/>
                  </a:lnTo>
                  <a:lnTo>
                    <a:pt x="0" y="105"/>
                  </a:lnTo>
                  <a:lnTo>
                    <a:pt x="0" y="120"/>
                  </a:lnTo>
                  <a:lnTo>
                    <a:pt x="0" y="131"/>
                  </a:lnTo>
                  <a:lnTo>
                    <a:pt x="0" y="145"/>
                  </a:lnTo>
                  <a:lnTo>
                    <a:pt x="0" y="156"/>
                  </a:lnTo>
                  <a:lnTo>
                    <a:pt x="0" y="170"/>
                  </a:lnTo>
                  <a:lnTo>
                    <a:pt x="0" y="185"/>
                  </a:lnTo>
                  <a:lnTo>
                    <a:pt x="0" y="196"/>
                  </a:lnTo>
                  <a:lnTo>
                    <a:pt x="0" y="210"/>
                  </a:lnTo>
                  <a:lnTo>
                    <a:pt x="3" y="210"/>
                  </a:lnTo>
                  <a:lnTo>
                    <a:pt x="7" y="210"/>
                  </a:lnTo>
                  <a:lnTo>
                    <a:pt x="10" y="210"/>
                  </a:lnTo>
                  <a:lnTo>
                    <a:pt x="18" y="214"/>
                  </a:lnTo>
                  <a:lnTo>
                    <a:pt x="21" y="214"/>
                  </a:lnTo>
                  <a:lnTo>
                    <a:pt x="29" y="217"/>
                  </a:lnTo>
                  <a:lnTo>
                    <a:pt x="32" y="217"/>
                  </a:lnTo>
                  <a:lnTo>
                    <a:pt x="39" y="217"/>
                  </a:lnTo>
                  <a:lnTo>
                    <a:pt x="39" y="203"/>
                  </a:lnTo>
                  <a:lnTo>
                    <a:pt x="39" y="192"/>
                  </a:lnTo>
                  <a:lnTo>
                    <a:pt x="39" y="178"/>
                  </a:lnTo>
                  <a:lnTo>
                    <a:pt x="39" y="163"/>
                  </a:lnTo>
                  <a:lnTo>
                    <a:pt x="39" y="149"/>
                  </a:lnTo>
                  <a:lnTo>
                    <a:pt x="39" y="138"/>
                  </a:lnTo>
                  <a:lnTo>
                    <a:pt x="39" y="123"/>
                  </a:lnTo>
                  <a:lnTo>
                    <a:pt x="39" y="109"/>
                  </a:lnTo>
                  <a:lnTo>
                    <a:pt x="39" y="95"/>
                  </a:lnTo>
                  <a:lnTo>
                    <a:pt x="39" y="80"/>
                  </a:lnTo>
                  <a:lnTo>
                    <a:pt x="39" y="69"/>
                  </a:lnTo>
                  <a:lnTo>
                    <a:pt x="39" y="55"/>
                  </a:lnTo>
                  <a:lnTo>
                    <a:pt x="39" y="40"/>
                  </a:lnTo>
                  <a:lnTo>
                    <a:pt x="39" y="26"/>
                  </a:lnTo>
                  <a:lnTo>
                    <a:pt x="39" y="1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b0b0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574320" y="4120920"/>
              <a:ext cx="52560" cy="18720"/>
            </a:xfrm>
            <a:custGeom>
              <a:avLst/>
              <a:gdLst/>
              <a:ahLst/>
              <a:rect l="l" t="t" r="r" b="b"/>
              <a:pathLst>
                <a:path w="39" h="15">
                  <a:moveTo>
                    <a:pt x="39" y="0"/>
                  </a:moveTo>
                  <a:lnTo>
                    <a:pt x="32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8" y="15"/>
                  </a:lnTo>
                  <a:lnTo>
                    <a:pt x="21" y="15"/>
                  </a:lnTo>
                  <a:lnTo>
                    <a:pt x="29" y="15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8"/>
                  </a:lnTo>
                  <a:lnTo>
                    <a:pt x="39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f8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574320" y="4134600"/>
              <a:ext cx="52560" cy="10080"/>
            </a:xfrm>
            <a:custGeom>
              <a:avLst/>
              <a:gdLst/>
              <a:ahLst/>
              <a:rect l="l" t="t" r="r" b="b"/>
              <a:pathLst>
                <a:path w="39" h="8">
                  <a:moveTo>
                    <a:pt x="39" y="4"/>
                  </a:moveTo>
                  <a:lnTo>
                    <a:pt x="32" y="4"/>
                  </a:lnTo>
                  <a:lnTo>
                    <a:pt x="29" y="4"/>
                  </a:lnTo>
                  <a:lnTo>
                    <a:pt x="21" y="8"/>
                  </a:lnTo>
                  <a:lnTo>
                    <a:pt x="18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9" y="4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4"/>
                  </a:lnTo>
                  <a:lnTo>
                    <a:pt x="39" y="4"/>
                  </a:lnTo>
                  <a:close/>
                </a:path>
              </a:pathLst>
            </a:custGeom>
            <a:solidFill>
              <a:srgbClr val="5c5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574320" y="4145040"/>
              <a:ext cx="52560" cy="1728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39" y="0"/>
                  </a:moveTo>
                  <a:lnTo>
                    <a:pt x="32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9" y="14"/>
                  </a:lnTo>
                  <a:lnTo>
                    <a:pt x="32" y="10"/>
                  </a:lnTo>
                  <a:lnTo>
                    <a:pt x="39" y="10"/>
                  </a:lnTo>
                  <a:lnTo>
                    <a:pt x="39" y="10"/>
                  </a:lnTo>
                  <a:lnTo>
                    <a:pt x="39" y="7"/>
                  </a:lnTo>
                  <a:lnTo>
                    <a:pt x="39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f8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574320" y="4157640"/>
              <a:ext cx="52560" cy="9720"/>
            </a:xfrm>
            <a:custGeom>
              <a:avLst/>
              <a:gdLst/>
              <a:ahLst/>
              <a:rect l="l" t="t" r="r" b="b"/>
              <a:pathLst>
                <a:path w="39" h="8">
                  <a:moveTo>
                    <a:pt x="39" y="4"/>
                  </a:moveTo>
                  <a:lnTo>
                    <a:pt x="32" y="4"/>
                  </a:lnTo>
                  <a:lnTo>
                    <a:pt x="29" y="4"/>
                  </a:lnTo>
                  <a:lnTo>
                    <a:pt x="21" y="4"/>
                  </a:lnTo>
                  <a:lnTo>
                    <a:pt x="18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9" y="4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4"/>
                  </a:lnTo>
                  <a:lnTo>
                    <a:pt x="39" y="4"/>
                  </a:lnTo>
                  <a:close/>
                </a:path>
              </a:pathLst>
            </a:custGeom>
            <a:solidFill>
              <a:srgbClr val="5c5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574320" y="4167360"/>
              <a:ext cx="52560" cy="1764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39" y="0"/>
                  </a:moveTo>
                  <a:lnTo>
                    <a:pt x="32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9" y="14"/>
                  </a:lnTo>
                  <a:lnTo>
                    <a:pt x="32" y="14"/>
                  </a:lnTo>
                  <a:lnTo>
                    <a:pt x="39" y="14"/>
                  </a:lnTo>
                  <a:lnTo>
                    <a:pt x="39" y="10"/>
                  </a:lnTo>
                  <a:lnTo>
                    <a:pt x="39" y="7"/>
                  </a:lnTo>
                  <a:lnTo>
                    <a:pt x="39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f8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574320" y="4185360"/>
              <a:ext cx="52560" cy="4680"/>
            </a:xfrm>
            <a:custGeom>
              <a:avLst/>
              <a:gdLst/>
              <a:ahLst/>
              <a:rect l="l" t="t" r="r" b="b"/>
              <a:pathLst>
                <a:path w="39" h="4">
                  <a:moveTo>
                    <a:pt x="39" y="0"/>
                  </a:moveTo>
                  <a:lnTo>
                    <a:pt x="32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5c5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574320" y="4190040"/>
              <a:ext cx="52560" cy="1764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39" y="0"/>
                  </a:moveTo>
                  <a:lnTo>
                    <a:pt x="32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9" y="14"/>
                  </a:lnTo>
                  <a:lnTo>
                    <a:pt x="32" y="14"/>
                  </a:lnTo>
                  <a:lnTo>
                    <a:pt x="39" y="14"/>
                  </a:lnTo>
                  <a:lnTo>
                    <a:pt x="39" y="11"/>
                  </a:lnTo>
                  <a:lnTo>
                    <a:pt x="39" y="7"/>
                  </a:lnTo>
                  <a:lnTo>
                    <a:pt x="39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f8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574320" y="4204080"/>
              <a:ext cx="52560" cy="864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39" y="7"/>
                  </a:moveTo>
                  <a:lnTo>
                    <a:pt x="32" y="3"/>
                  </a:lnTo>
                  <a:lnTo>
                    <a:pt x="29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9" y="3"/>
                  </a:lnTo>
                  <a:lnTo>
                    <a:pt x="32" y="3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7"/>
                  </a:lnTo>
                  <a:close/>
                </a:path>
              </a:pathLst>
            </a:custGeom>
            <a:solidFill>
              <a:srgbClr val="5c5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574320" y="4212720"/>
              <a:ext cx="52560" cy="1728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39" y="0"/>
                  </a:moveTo>
                  <a:lnTo>
                    <a:pt x="32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8" y="11"/>
                  </a:lnTo>
                  <a:lnTo>
                    <a:pt x="21" y="11"/>
                  </a:lnTo>
                  <a:lnTo>
                    <a:pt x="29" y="11"/>
                  </a:lnTo>
                  <a:lnTo>
                    <a:pt x="32" y="11"/>
                  </a:lnTo>
                  <a:lnTo>
                    <a:pt x="39" y="14"/>
                  </a:lnTo>
                  <a:lnTo>
                    <a:pt x="39" y="11"/>
                  </a:lnTo>
                  <a:lnTo>
                    <a:pt x="39" y="7"/>
                  </a:lnTo>
                  <a:lnTo>
                    <a:pt x="39" y="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f8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574320" y="4226400"/>
              <a:ext cx="52560" cy="864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39" y="7"/>
                  </a:moveTo>
                  <a:lnTo>
                    <a:pt x="32" y="3"/>
                  </a:lnTo>
                  <a:lnTo>
                    <a:pt x="29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7"/>
                  </a:lnTo>
                  <a:close/>
                </a:path>
              </a:pathLst>
            </a:custGeom>
            <a:solidFill>
              <a:srgbClr val="5c5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574320" y="4235400"/>
              <a:ext cx="52560" cy="1764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39" y="0"/>
                  </a:moveTo>
                  <a:lnTo>
                    <a:pt x="32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8" y="11"/>
                  </a:lnTo>
                  <a:lnTo>
                    <a:pt x="21" y="11"/>
                  </a:lnTo>
                  <a:lnTo>
                    <a:pt x="29" y="11"/>
                  </a:lnTo>
                  <a:lnTo>
                    <a:pt x="32" y="14"/>
                  </a:lnTo>
                  <a:lnTo>
                    <a:pt x="39" y="14"/>
                  </a:lnTo>
                  <a:lnTo>
                    <a:pt x="39" y="11"/>
                  </a:lnTo>
                  <a:lnTo>
                    <a:pt x="39" y="7"/>
                  </a:lnTo>
                  <a:lnTo>
                    <a:pt x="39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8f8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574320" y="4249440"/>
              <a:ext cx="52560" cy="828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39" y="7"/>
                  </a:moveTo>
                  <a:lnTo>
                    <a:pt x="32" y="3"/>
                  </a:lnTo>
                  <a:lnTo>
                    <a:pt x="29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2" y="3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7"/>
                  </a:lnTo>
                  <a:close/>
                </a:path>
              </a:pathLst>
            </a:custGeom>
            <a:solidFill>
              <a:srgbClr val="5c5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574320" y="4253040"/>
              <a:ext cx="52560" cy="22320"/>
            </a:xfrm>
            <a:custGeom>
              <a:avLst/>
              <a:gdLst/>
              <a:ahLst/>
              <a:rect l="l" t="t" r="r" b="b"/>
              <a:pathLst>
                <a:path w="39" h="18">
                  <a:moveTo>
                    <a:pt x="39" y="4"/>
                  </a:moveTo>
                  <a:lnTo>
                    <a:pt x="32" y="4"/>
                  </a:lnTo>
                  <a:lnTo>
                    <a:pt x="29" y="4"/>
                  </a:lnTo>
                  <a:lnTo>
                    <a:pt x="21" y="4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8" y="15"/>
                  </a:lnTo>
                  <a:lnTo>
                    <a:pt x="21" y="15"/>
                  </a:lnTo>
                  <a:lnTo>
                    <a:pt x="29" y="15"/>
                  </a:lnTo>
                  <a:lnTo>
                    <a:pt x="32" y="18"/>
                  </a:lnTo>
                  <a:lnTo>
                    <a:pt x="39" y="18"/>
                  </a:lnTo>
                  <a:lnTo>
                    <a:pt x="39" y="15"/>
                  </a:lnTo>
                  <a:lnTo>
                    <a:pt x="39" y="11"/>
                  </a:lnTo>
                  <a:lnTo>
                    <a:pt x="39" y="8"/>
                  </a:lnTo>
                  <a:lnTo>
                    <a:pt x="39" y="4"/>
                  </a:lnTo>
                  <a:close/>
                </a:path>
              </a:pathLst>
            </a:custGeom>
            <a:solidFill>
              <a:srgbClr val="8f8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574320" y="4271760"/>
              <a:ext cx="52560" cy="864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39" y="7"/>
                  </a:moveTo>
                  <a:lnTo>
                    <a:pt x="32" y="3"/>
                  </a:lnTo>
                  <a:lnTo>
                    <a:pt x="29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0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2" y="3"/>
                  </a:lnTo>
                  <a:lnTo>
                    <a:pt x="39" y="3"/>
                  </a:lnTo>
                  <a:lnTo>
                    <a:pt x="39" y="3"/>
                  </a:lnTo>
                  <a:lnTo>
                    <a:pt x="39" y="7"/>
                  </a:lnTo>
                  <a:close/>
                </a:path>
              </a:pathLst>
            </a:custGeom>
            <a:solidFill>
              <a:srgbClr val="5c5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574320" y="4275720"/>
              <a:ext cx="52560" cy="2376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8"/>
                  </a:moveTo>
                  <a:lnTo>
                    <a:pt x="32" y="4"/>
                  </a:lnTo>
                  <a:lnTo>
                    <a:pt x="29" y="4"/>
                  </a:lnTo>
                  <a:lnTo>
                    <a:pt x="21" y="4"/>
                  </a:lnTo>
                  <a:lnTo>
                    <a:pt x="18" y="4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8" y="15"/>
                  </a:lnTo>
                  <a:lnTo>
                    <a:pt x="21" y="15"/>
                  </a:lnTo>
                  <a:lnTo>
                    <a:pt x="29" y="15"/>
                  </a:lnTo>
                  <a:lnTo>
                    <a:pt x="32" y="19"/>
                  </a:lnTo>
                  <a:lnTo>
                    <a:pt x="39" y="19"/>
                  </a:lnTo>
                  <a:lnTo>
                    <a:pt x="39" y="15"/>
                  </a:lnTo>
                  <a:lnTo>
                    <a:pt x="39" y="11"/>
                  </a:lnTo>
                  <a:lnTo>
                    <a:pt x="39" y="8"/>
                  </a:lnTo>
                  <a:lnTo>
                    <a:pt x="39" y="8"/>
                  </a:lnTo>
                  <a:close/>
                </a:path>
              </a:pathLst>
            </a:custGeom>
            <a:solidFill>
              <a:srgbClr val="8f8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574320" y="4289760"/>
              <a:ext cx="52560" cy="1368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39" y="11"/>
                  </a:moveTo>
                  <a:lnTo>
                    <a:pt x="32" y="8"/>
                  </a:lnTo>
                  <a:lnTo>
                    <a:pt x="29" y="8"/>
                  </a:lnTo>
                  <a:lnTo>
                    <a:pt x="21" y="8"/>
                  </a:lnTo>
                  <a:lnTo>
                    <a:pt x="18" y="8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9" y="4"/>
                  </a:lnTo>
                  <a:lnTo>
                    <a:pt x="32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5c5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574320" y="4299480"/>
              <a:ext cx="52560" cy="22320"/>
            </a:xfrm>
            <a:custGeom>
              <a:avLst/>
              <a:gdLst/>
              <a:ahLst/>
              <a:rect l="l" t="t" r="r" b="b"/>
              <a:pathLst>
                <a:path w="39" h="18">
                  <a:moveTo>
                    <a:pt x="39" y="7"/>
                  </a:moveTo>
                  <a:lnTo>
                    <a:pt x="32" y="3"/>
                  </a:lnTo>
                  <a:lnTo>
                    <a:pt x="29" y="3"/>
                  </a:lnTo>
                  <a:lnTo>
                    <a:pt x="21" y="3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8" y="14"/>
                  </a:lnTo>
                  <a:lnTo>
                    <a:pt x="21" y="14"/>
                  </a:lnTo>
                  <a:lnTo>
                    <a:pt x="29" y="14"/>
                  </a:lnTo>
                  <a:lnTo>
                    <a:pt x="32" y="18"/>
                  </a:lnTo>
                  <a:lnTo>
                    <a:pt x="39" y="18"/>
                  </a:lnTo>
                  <a:lnTo>
                    <a:pt x="39" y="14"/>
                  </a:lnTo>
                  <a:lnTo>
                    <a:pt x="39" y="10"/>
                  </a:lnTo>
                  <a:lnTo>
                    <a:pt x="39" y="7"/>
                  </a:lnTo>
                  <a:lnTo>
                    <a:pt x="39" y="7"/>
                  </a:lnTo>
                  <a:close/>
                </a:path>
              </a:pathLst>
            </a:custGeom>
            <a:solidFill>
              <a:srgbClr val="8f8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574320" y="4312080"/>
              <a:ext cx="52560" cy="1368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39" y="11"/>
                  </a:moveTo>
                  <a:lnTo>
                    <a:pt x="32" y="8"/>
                  </a:lnTo>
                  <a:lnTo>
                    <a:pt x="29" y="8"/>
                  </a:lnTo>
                  <a:lnTo>
                    <a:pt x="21" y="8"/>
                  </a:lnTo>
                  <a:lnTo>
                    <a:pt x="18" y="8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4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9" y="4"/>
                  </a:lnTo>
                  <a:lnTo>
                    <a:pt x="32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5c5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574320" y="4317120"/>
              <a:ext cx="52560" cy="2736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39" y="11"/>
                  </a:moveTo>
                  <a:lnTo>
                    <a:pt x="32" y="7"/>
                  </a:lnTo>
                  <a:lnTo>
                    <a:pt x="29" y="7"/>
                  </a:lnTo>
                  <a:lnTo>
                    <a:pt x="21" y="7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8" y="18"/>
                  </a:lnTo>
                  <a:lnTo>
                    <a:pt x="21" y="18"/>
                  </a:lnTo>
                  <a:lnTo>
                    <a:pt x="29" y="18"/>
                  </a:lnTo>
                  <a:lnTo>
                    <a:pt x="32" y="22"/>
                  </a:lnTo>
                  <a:lnTo>
                    <a:pt x="39" y="22"/>
                  </a:lnTo>
                  <a:lnTo>
                    <a:pt x="39" y="18"/>
                  </a:lnTo>
                  <a:lnTo>
                    <a:pt x="39" y="14"/>
                  </a:lnTo>
                  <a:lnTo>
                    <a:pt x="39" y="11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8f8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574320" y="4334760"/>
              <a:ext cx="52560" cy="1368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39" y="11"/>
                  </a:moveTo>
                  <a:lnTo>
                    <a:pt x="32" y="8"/>
                  </a:lnTo>
                  <a:lnTo>
                    <a:pt x="29" y="8"/>
                  </a:lnTo>
                  <a:lnTo>
                    <a:pt x="21" y="8"/>
                  </a:lnTo>
                  <a:lnTo>
                    <a:pt x="18" y="8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9" y="4"/>
                  </a:lnTo>
                  <a:lnTo>
                    <a:pt x="32" y="8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5c5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574320" y="4339800"/>
              <a:ext cx="52560" cy="2736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39" y="11"/>
                  </a:moveTo>
                  <a:lnTo>
                    <a:pt x="32" y="7"/>
                  </a:lnTo>
                  <a:lnTo>
                    <a:pt x="29" y="7"/>
                  </a:lnTo>
                  <a:lnTo>
                    <a:pt x="21" y="4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1"/>
                  </a:lnTo>
                  <a:lnTo>
                    <a:pt x="3" y="15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8" y="18"/>
                  </a:lnTo>
                  <a:lnTo>
                    <a:pt x="21" y="18"/>
                  </a:lnTo>
                  <a:lnTo>
                    <a:pt x="29" y="18"/>
                  </a:lnTo>
                  <a:lnTo>
                    <a:pt x="32" y="22"/>
                  </a:lnTo>
                  <a:lnTo>
                    <a:pt x="39" y="22"/>
                  </a:lnTo>
                  <a:lnTo>
                    <a:pt x="39" y="18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8f8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574320" y="4353840"/>
              <a:ext cx="52560" cy="1728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39" y="14"/>
                  </a:moveTo>
                  <a:lnTo>
                    <a:pt x="32" y="14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0" y="7"/>
                  </a:lnTo>
                  <a:lnTo>
                    <a:pt x="7" y="7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9" y="7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39" y="14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5c5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574320" y="4362480"/>
              <a:ext cx="52560" cy="27720"/>
            </a:xfrm>
            <a:custGeom>
              <a:avLst/>
              <a:gdLst/>
              <a:ahLst/>
              <a:rect l="l" t="t" r="r" b="b"/>
              <a:pathLst>
                <a:path w="39" h="22">
                  <a:moveTo>
                    <a:pt x="39" y="11"/>
                  </a:moveTo>
                  <a:lnTo>
                    <a:pt x="32" y="7"/>
                  </a:lnTo>
                  <a:lnTo>
                    <a:pt x="29" y="7"/>
                  </a:lnTo>
                  <a:lnTo>
                    <a:pt x="21" y="7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7" y="15"/>
                  </a:lnTo>
                  <a:lnTo>
                    <a:pt x="10" y="15"/>
                  </a:lnTo>
                  <a:lnTo>
                    <a:pt x="18" y="18"/>
                  </a:lnTo>
                  <a:lnTo>
                    <a:pt x="21" y="18"/>
                  </a:lnTo>
                  <a:lnTo>
                    <a:pt x="29" y="18"/>
                  </a:lnTo>
                  <a:lnTo>
                    <a:pt x="32" y="22"/>
                  </a:lnTo>
                  <a:lnTo>
                    <a:pt x="39" y="22"/>
                  </a:lnTo>
                  <a:lnTo>
                    <a:pt x="39" y="18"/>
                  </a:lnTo>
                  <a:lnTo>
                    <a:pt x="39" y="15"/>
                  </a:lnTo>
                  <a:lnTo>
                    <a:pt x="39" y="15"/>
                  </a:lnTo>
                  <a:lnTo>
                    <a:pt x="39" y="11"/>
                  </a:lnTo>
                  <a:close/>
                </a:path>
              </a:pathLst>
            </a:custGeom>
            <a:solidFill>
              <a:srgbClr val="8f8f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574320" y="4376520"/>
              <a:ext cx="52560" cy="17640"/>
            </a:xfrm>
            <a:custGeom>
              <a:avLst/>
              <a:gdLst/>
              <a:ahLst/>
              <a:rect l="l" t="t" r="r" b="b"/>
              <a:pathLst>
                <a:path w="39" h="14">
                  <a:moveTo>
                    <a:pt x="39" y="14"/>
                  </a:moveTo>
                  <a:lnTo>
                    <a:pt x="32" y="14"/>
                  </a:lnTo>
                  <a:lnTo>
                    <a:pt x="29" y="11"/>
                  </a:lnTo>
                  <a:lnTo>
                    <a:pt x="21" y="11"/>
                  </a:lnTo>
                  <a:lnTo>
                    <a:pt x="18" y="7"/>
                  </a:lnTo>
                  <a:lnTo>
                    <a:pt x="10" y="7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9" y="7"/>
                  </a:lnTo>
                  <a:lnTo>
                    <a:pt x="32" y="11"/>
                  </a:lnTo>
                  <a:lnTo>
                    <a:pt x="39" y="11"/>
                  </a:lnTo>
                  <a:lnTo>
                    <a:pt x="39" y="14"/>
                  </a:lnTo>
                  <a:lnTo>
                    <a:pt x="39" y="14"/>
                  </a:lnTo>
                  <a:close/>
                </a:path>
              </a:pathLst>
            </a:custGeom>
            <a:solidFill>
              <a:srgbClr val="5c5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574320" y="4120920"/>
              <a:ext cx="52560" cy="1368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39" y="4"/>
                  </a:moveTo>
                  <a:lnTo>
                    <a:pt x="32" y="4"/>
                  </a:lnTo>
                  <a:lnTo>
                    <a:pt x="29" y="8"/>
                  </a:lnTo>
                  <a:lnTo>
                    <a:pt x="21" y="8"/>
                  </a:lnTo>
                  <a:lnTo>
                    <a:pt x="18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3" y="8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3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8" y="4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4"/>
                  </a:lnTo>
                  <a:lnTo>
                    <a:pt x="39" y="4"/>
                  </a:lnTo>
                  <a:close/>
                </a:path>
              </a:pathLst>
            </a:cu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574320" y="4117320"/>
              <a:ext cx="52560" cy="828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39" y="3"/>
                  </a:moveTo>
                  <a:lnTo>
                    <a:pt x="32" y="3"/>
                  </a:lnTo>
                  <a:lnTo>
                    <a:pt x="29" y="3"/>
                  </a:lnTo>
                  <a:lnTo>
                    <a:pt x="21" y="3"/>
                  </a:lnTo>
                  <a:lnTo>
                    <a:pt x="18" y="7"/>
                  </a:lnTo>
                  <a:lnTo>
                    <a:pt x="10" y="7"/>
                  </a:lnTo>
                  <a:lnTo>
                    <a:pt x="7" y="7"/>
                  </a:lnTo>
                  <a:lnTo>
                    <a:pt x="3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3"/>
                  </a:lnTo>
                  <a:lnTo>
                    <a:pt x="10" y="3"/>
                  </a:lnTo>
                  <a:lnTo>
                    <a:pt x="18" y="3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3"/>
                  </a:lnTo>
                  <a:close/>
                </a:path>
              </a:pathLst>
            </a:cu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6574320" y="4120920"/>
              <a:ext cx="52560" cy="9720"/>
            </a:xfrm>
            <a:custGeom>
              <a:avLst/>
              <a:gdLst/>
              <a:ahLst/>
              <a:rect l="l" t="t" r="r" b="b"/>
              <a:pathLst>
                <a:path w="39" h="8">
                  <a:moveTo>
                    <a:pt x="39" y="0"/>
                  </a:moveTo>
                  <a:lnTo>
                    <a:pt x="32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3" y="4"/>
                  </a:lnTo>
                  <a:lnTo>
                    <a:pt x="7" y="4"/>
                  </a:lnTo>
                  <a:lnTo>
                    <a:pt x="10" y="4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9" y="4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574320" y="4125960"/>
              <a:ext cx="52560" cy="1368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39" y="0"/>
                  </a:moveTo>
                  <a:lnTo>
                    <a:pt x="32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8" y="7"/>
                  </a:lnTo>
                  <a:lnTo>
                    <a:pt x="21" y="7"/>
                  </a:lnTo>
                  <a:lnTo>
                    <a:pt x="29" y="7"/>
                  </a:lnTo>
                  <a:lnTo>
                    <a:pt x="32" y="7"/>
                  </a:lnTo>
                  <a:lnTo>
                    <a:pt x="39" y="7"/>
                  </a:lnTo>
                  <a:lnTo>
                    <a:pt x="39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9c9c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755400" y="4053240"/>
              <a:ext cx="87480" cy="41040"/>
            </a:xfrm>
            <a:custGeom>
              <a:avLst/>
              <a:gdLst/>
              <a:ahLst/>
              <a:rect l="l" t="t" r="r" b="b"/>
              <a:pathLst>
                <a:path w="65" h="33">
                  <a:moveTo>
                    <a:pt x="32" y="0"/>
                  </a:moveTo>
                  <a:lnTo>
                    <a:pt x="36" y="0"/>
                  </a:lnTo>
                  <a:lnTo>
                    <a:pt x="43" y="0"/>
                  </a:lnTo>
                  <a:lnTo>
                    <a:pt x="50" y="4"/>
                  </a:lnTo>
                  <a:lnTo>
                    <a:pt x="54" y="7"/>
                  </a:lnTo>
                  <a:lnTo>
                    <a:pt x="58" y="15"/>
                  </a:lnTo>
                  <a:lnTo>
                    <a:pt x="61" y="18"/>
                  </a:lnTo>
                  <a:lnTo>
                    <a:pt x="61" y="26"/>
                  </a:lnTo>
                  <a:lnTo>
                    <a:pt x="65" y="33"/>
                  </a:lnTo>
                  <a:lnTo>
                    <a:pt x="54" y="33"/>
                  </a:lnTo>
                  <a:lnTo>
                    <a:pt x="47" y="33"/>
                  </a:lnTo>
                  <a:lnTo>
                    <a:pt x="40" y="33"/>
                  </a:lnTo>
                  <a:lnTo>
                    <a:pt x="32" y="33"/>
                  </a:lnTo>
                  <a:lnTo>
                    <a:pt x="25" y="33"/>
                  </a:lnTo>
                  <a:lnTo>
                    <a:pt x="14" y="33"/>
                  </a:lnTo>
                  <a:lnTo>
                    <a:pt x="7" y="33"/>
                  </a:lnTo>
                  <a:lnTo>
                    <a:pt x="0" y="33"/>
                  </a:lnTo>
                  <a:lnTo>
                    <a:pt x="0" y="26"/>
                  </a:lnTo>
                  <a:lnTo>
                    <a:pt x="3" y="18"/>
                  </a:lnTo>
                  <a:lnTo>
                    <a:pt x="3" y="15"/>
                  </a:lnTo>
                  <a:lnTo>
                    <a:pt x="7" y="7"/>
                  </a:lnTo>
                  <a:lnTo>
                    <a:pt x="14" y="4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755400" y="4053240"/>
              <a:ext cx="82080" cy="3636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32" y="0"/>
                  </a:moveTo>
                  <a:lnTo>
                    <a:pt x="36" y="0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54" y="7"/>
                  </a:lnTo>
                  <a:lnTo>
                    <a:pt x="58" y="15"/>
                  </a:lnTo>
                  <a:lnTo>
                    <a:pt x="61" y="18"/>
                  </a:lnTo>
                  <a:lnTo>
                    <a:pt x="61" y="22"/>
                  </a:lnTo>
                  <a:lnTo>
                    <a:pt x="61" y="29"/>
                  </a:lnTo>
                  <a:lnTo>
                    <a:pt x="54" y="29"/>
                  </a:lnTo>
                  <a:lnTo>
                    <a:pt x="47" y="29"/>
                  </a:lnTo>
                  <a:lnTo>
                    <a:pt x="40" y="29"/>
                  </a:lnTo>
                  <a:lnTo>
                    <a:pt x="32" y="29"/>
                  </a:lnTo>
                  <a:lnTo>
                    <a:pt x="25" y="29"/>
                  </a:lnTo>
                  <a:lnTo>
                    <a:pt x="18" y="29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3" y="18"/>
                  </a:lnTo>
                  <a:lnTo>
                    <a:pt x="7" y="15"/>
                  </a:lnTo>
                  <a:lnTo>
                    <a:pt x="11" y="7"/>
                  </a:lnTo>
                  <a:lnTo>
                    <a:pt x="14" y="4"/>
                  </a:lnTo>
                  <a:lnTo>
                    <a:pt x="21" y="4"/>
                  </a:lnTo>
                  <a:lnTo>
                    <a:pt x="25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764760" y="4057920"/>
              <a:ext cx="68760" cy="3132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25" y="0"/>
                  </a:moveTo>
                  <a:lnTo>
                    <a:pt x="29" y="0"/>
                  </a:lnTo>
                  <a:lnTo>
                    <a:pt x="33" y="0"/>
                  </a:lnTo>
                  <a:lnTo>
                    <a:pt x="36" y="3"/>
                  </a:lnTo>
                  <a:lnTo>
                    <a:pt x="43" y="7"/>
                  </a:lnTo>
                  <a:lnTo>
                    <a:pt x="43" y="11"/>
                  </a:lnTo>
                  <a:lnTo>
                    <a:pt x="47" y="14"/>
                  </a:lnTo>
                  <a:lnTo>
                    <a:pt x="47" y="18"/>
                  </a:lnTo>
                  <a:lnTo>
                    <a:pt x="51" y="25"/>
                  </a:lnTo>
                  <a:lnTo>
                    <a:pt x="43" y="25"/>
                  </a:lnTo>
                  <a:lnTo>
                    <a:pt x="36" y="25"/>
                  </a:lnTo>
                  <a:lnTo>
                    <a:pt x="29" y="25"/>
                  </a:lnTo>
                  <a:lnTo>
                    <a:pt x="25" y="25"/>
                  </a:lnTo>
                  <a:lnTo>
                    <a:pt x="18" y="25"/>
                  </a:lnTo>
                  <a:lnTo>
                    <a:pt x="11" y="25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4" y="11"/>
                  </a:lnTo>
                  <a:lnTo>
                    <a:pt x="7" y="7"/>
                  </a:lnTo>
                  <a:lnTo>
                    <a:pt x="11" y="3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769800" y="4061880"/>
              <a:ext cx="57960" cy="27360"/>
            </a:xfrm>
            <a:custGeom>
              <a:avLst/>
              <a:gdLst/>
              <a:ahLst/>
              <a:rect l="l" t="t" r="r" b="b"/>
              <a:pathLst>
                <a:path w="43" h="22">
                  <a:moveTo>
                    <a:pt x="21" y="0"/>
                  </a:move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6" y="4"/>
                  </a:lnTo>
                  <a:lnTo>
                    <a:pt x="39" y="8"/>
                  </a:lnTo>
                  <a:lnTo>
                    <a:pt x="39" y="11"/>
                  </a:lnTo>
                  <a:lnTo>
                    <a:pt x="43" y="15"/>
                  </a:lnTo>
                  <a:lnTo>
                    <a:pt x="43" y="22"/>
                  </a:lnTo>
                  <a:lnTo>
                    <a:pt x="36" y="22"/>
                  </a:lnTo>
                  <a:lnTo>
                    <a:pt x="32" y="22"/>
                  </a:lnTo>
                  <a:lnTo>
                    <a:pt x="25" y="22"/>
                  </a:lnTo>
                  <a:lnTo>
                    <a:pt x="21" y="22"/>
                  </a:lnTo>
                  <a:lnTo>
                    <a:pt x="14" y="22"/>
                  </a:lnTo>
                  <a:lnTo>
                    <a:pt x="10" y="22"/>
                  </a:lnTo>
                  <a:lnTo>
                    <a:pt x="3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3" y="8"/>
                  </a:lnTo>
                  <a:lnTo>
                    <a:pt x="3" y="4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959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764760" y="4085640"/>
              <a:ext cx="29520" cy="3960"/>
            </a:xfrm>
            <a:prstGeom prst="rect">
              <a:avLst/>
            </a:prstGeom>
            <a:solidFill>
              <a:srgbClr val="a3a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774120" y="4066920"/>
              <a:ext cx="24120" cy="187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4" y="0"/>
                  </a:moveTo>
                  <a:lnTo>
                    <a:pt x="18" y="15"/>
                  </a:lnTo>
                  <a:lnTo>
                    <a:pt x="15" y="15"/>
                  </a:lnTo>
                  <a:lnTo>
                    <a:pt x="0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3a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794280" y="4061880"/>
              <a:ext cx="3960" cy="23400"/>
            </a:xfrm>
            <a:prstGeom prst="rect">
              <a:avLst/>
            </a:prstGeom>
            <a:solidFill>
              <a:srgbClr val="a3a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798240" y="4066920"/>
              <a:ext cx="20160" cy="18720"/>
            </a:xfrm>
            <a:custGeom>
              <a:avLst/>
              <a:gdLst/>
              <a:ahLst/>
              <a:rect l="l" t="t" r="r" b="b"/>
              <a:pathLst>
                <a:path w="15" h="15">
                  <a:moveTo>
                    <a:pt x="15" y="0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3a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798240" y="4085640"/>
              <a:ext cx="29520" cy="3960"/>
            </a:xfrm>
            <a:prstGeom prst="rect">
              <a:avLst/>
            </a:prstGeom>
            <a:solidFill>
              <a:srgbClr val="a3a3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788880" y="4080600"/>
              <a:ext cx="9360" cy="46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701400" y="4179960"/>
              <a:ext cx="72720" cy="5040"/>
            </a:xfrm>
            <a:prstGeom prst="rect">
              <a:avLst/>
            </a:pr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701400" y="4179960"/>
              <a:ext cx="72720" cy="5040"/>
            </a:xfrm>
            <a:prstGeom prst="rect">
              <a:avLst/>
            </a:pr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701400" y="4162320"/>
              <a:ext cx="38520" cy="2268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18"/>
                  </a:moveTo>
                  <a:lnTo>
                    <a:pt x="29" y="4"/>
                  </a:lnTo>
                  <a:lnTo>
                    <a:pt x="29" y="0"/>
                  </a:lnTo>
                  <a:lnTo>
                    <a:pt x="0" y="1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701400" y="4157640"/>
              <a:ext cx="38520" cy="2232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18"/>
                  </a:moveTo>
                  <a:lnTo>
                    <a:pt x="29" y="4"/>
                  </a:lnTo>
                  <a:lnTo>
                    <a:pt x="29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701400" y="4157640"/>
              <a:ext cx="38520" cy="2736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18"/>
                  </a:moveTo>
                  <a:lnTo>
                    <a:pt x="29" y="0"/>
                  </a:lnTo>
                  <a:lnTo>
                    <a:pt x="29" y="4"/>
                  </a:lnTo>
                  <a:lnTo>
                    <a:pt x="0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740280" y="4162320"/>
              <a:ext cx="33840" cy="2268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5" y="18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8"/>
                  </a:lnTo>
                  <a:close/>
                </a:path>
              </a:pathLst>
            </a:cu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740280" y="4157640"/>
              <a:ext cx="33840" cy="2232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5" y="18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25" y="18"/>
                  </a:lnTo>
                  <a:lnTo>
                    <a:pt x="25" y="18"/>
                  </a:lnTo>
                  <a:close/>
                </a:path>
              </a:pathLst>
            </a:cu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740280" y="4157640"/>
              <a:ext cx="33840" cy="273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18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5" y="22"/>
                  </a:lnTo>
                  <a:lnTo>
                    <a:pt x="25" y="18"/>
                  </a:lnTo>
                  <a:close/>
                </a:path>
              </a:pathLst>
            </a:cu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705360" y="4190040"/>
              <a:ext cx="68760" cy="396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705360" y="4185360"/>
              <a:ext cx="68760" cy="468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701400" y="4303440"/>
              <a:ext cx="72720" cy="5040"/>
            </a:xfrm>
            <a:prstGeom prst="rect">
              <a:avLst/>
            </a:pr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701400" y="4299480"/>
              <a:ext cx="72720" cy="3600"/>
            </a:xfrm>
            <a:prstGeom prst="rect">
              <a:avLst/>
            </a:pr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710400" y="4194000"/>
              <a:ext cx="59040" cy="10548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716160" y="4194000"/>
              <a:ext cx="48600" cy="10548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716160" y="4199040"/>
              <a:ext cx="42840" cy="954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720120" y="4199040"/>
              <a:ext cx="38880" cy="95400"/>
            </a:xfrm>
            <a:prstGeom prst="rect">
              <a:avLst/>
            </a:prstGeom>
            <a:solidFill>
              <a:srgbClr val="404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716160" y="4226400"/>
              <a:ext cx="48600" cy="36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720120" y="4240440"/>
              <a:ext cx="44640" cy="360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720120" y="4258080"/>
              <a:ext cx="44640" cy="504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720120" y="4275720"/>
              <a:ext cx="44640" cy="504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720120" y="4275720"/>
              <a:ext cx="44640" cy="504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692040" y="4194000"/>
              <a:ext cx="18360" cy="10548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764760" y="4194000"/>
              <a:ext cx="24120" cy="10548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818400" y="4179960"/>
              <a:ext cx="72720" cy="5040"/>
            </a:xfrm>
            <a:prstGeom prst="rect">
              <a:avLst/>
            </a:pr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18400" y="4179960"/>
              <a:ext cx="72720" cy="5040"/>
            </a:xfrm>
            <a:prstGeom prst="rect">
              <a:avLst/>
            </a:pr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818400" y="4162320"/>
              <a:ext cx="38880" cy="2268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18"/>
                  </a:moveTo>
                  <a:lnTo>
                    <a:pt x="29" y="4"/>
                  </a:lnTo>
                  <a:lnTo>
                    <a:pt x="29" y="0"/>
                  </a:lnTo>
                  <a:lnTo>
                    <a:pt x="0" y="14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818400" y="4157640"/>
              <a:ext cx="38880" cy="2232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0" y="18"/>
                  </a:moveTo>
                  <a:lnTo>
                    <a:pt x="29" y="4"/>
                  </a:lnTo>
                  <a:lnTo>
                    <a:pt x="29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818400" y="4157640"/>
              <a:ext cx="38880" cy="2736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18"/>
                  </a:moveTo>
                  <a:lnTo>
                    <a:pt x="29" y="0"/>
                  </a:lnTo>
                  <a:lnTo>
                    <a:pt x="29" y="4"/>
                  </a:lnTo>
                  <a:lnTo>
                    <a:pt x="0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857640" y="4162320"/>
              <a:ext cx="33480" cy="2268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5" y="18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25" y="14"/>
                  </a:lnTo>
                  <a:lnTo>
                    <a:pt x="25" y="18"/>
                  </a:lnTo>
                  <a:close/>
                </a:path>
              </a:pathLst>
            </a:cu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857640" y="4157640"/>
              <a:ext cx="33480" cy="22320"/>
            </a:xfrm>
            <a:custGeom>
              <a:avLst/>
              <a:gdLst/>
              <a:ahLst/>
              <a:rect l="l" t="t" r="r" b="b"/>
              <a:pathLst>
                <a:path w="25" h="18">
                  <a:moveTo>
                    <a:pt x="25" y="18"/>
                  </a:moveTo>
                  <a:lnTo>
                    <a:pt x="0" y="4"/>
                  </a:lnTo>
                  <a:lnTo>
                    <a:pt x="0" y="0"/>
                  </a:lnTo>
                  <a:lnTo>
                    <a:pt x="25" y="18"/>
                  </a:lnTo>
                  <a:lnTo>
                    <a:pt x="25" y="18"/>
                  </a:lnTo>
                  <a:close/>
                </a:path>
              </a:pathLst>
            </a:cu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857640" y="4157640"/>
              <a:ext cx="33480" cy="2736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18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5" y="22"/>
                  </a:lnTo>
                  <a:lnTo>
                    <a:pt x="25" y="18"/>
                  </a:lnTo>
                  <a:close/>
                </a:path>
              </a:pathLst>
            </a:cu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822720" y="4190040"/>
              <a:ext cx="68760" cy="396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822720" y="4185360"/>
              <a:ext cx="68760" cy="468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818400" y="4303440"/>
              <a:ext cx="72720" cy="5040"/>
            </a:xfrm>
            <a:prstGeom prst="rect">
              <a:avLst/>
            </a:pr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818400" y="4299480"/>
              <a:ext cx="72720" cy="3600"/>
            </a:xfrm>
            <a:prstGeom prst="rect">
              <a:avLst/>
            </a:pr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828120" y="4194000"/>
              <a:ext cx="59040" cy="10548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828120" y="4194000"/>
              <a:ext cx="59040" cy="10548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837480" y="4199040"/>
              <a:ext cx="38880" cy="954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837480" y="4199040"/>
              <a:ext cx="38880" cy="95400"/>
            </a:xfrm>
            <a:prstGeom prst="rect">
              <a:avLst/>
            </a:prstGeom>
            <a:solidFill>
              <a:srgbClr val="404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837480" y="4226400"/>
              <a:ext cx="38880" cy="36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6857640" y="4226400"/>
              <a:ext cx="3960" cy="6768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6852240" y="4226400"/>
              <a:ext cx="5400" cy="6768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837480" y="4240440"/>
              <a:ext cx="38880" cy="360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837480" y="4258080"/>
              <a:ext cx="38880" cy="504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837480" y="4275720"/>
              <a:ext cx="38880" cy="504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837480" y="4275720"/>
              <a:ext cx="38880" cy="504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809040" y="4194000"/>
              <a:ext cx="18720" cy="10548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887520" y="4194000"/>
              <a:ext cx="13320" cy="10548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900840" y="4194000"/>
              <a:ext cx="5400" cy="105480"/>
            </a:xfrm>
            <a:prstGeom prst="rect">
              <a:avLst/>
            </a:prstGeom>
            <a:solidFill>
              <a:srgbClr val="c2c2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590800" y="3993840"/>
              <a:ext cx="240120" cy="127080"/>
            </a:xfrm>
            <a:custGeom>
              <a:avLst/>
              <a:gdLst/>
              <a:ahLst/>
              <a:rect l="l" t="t" r="r" b="b"/>
              <a:pathLst>
                <a:path w="178" h="101">
                  <a:moveTo>
                    <a:pt x="0" y="0"/>
                  </a:moveTo>
                  <a:lnTo>
                    <a:pt x="178" y="22"/>
                  </a:lnTo>
                  <a:lnTo>
                    <a:pt x="163" y="98"/>
                  </a:lnTo>
                  <a:lnTo>
                    <a:pt x="163" y="101"/>
                  </a:lnTo>
                  <a:lnTo>
                    <a:pt x="127" y="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a24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410080" y="3993840"/>
              <a:ext cx="357480" cy="127080"/>
            </a:xfrm>
            <a:custGeom>
              <a:avLst/>
              <a:gdLst/>
              <a:ahLst/>
              <a:rect l="l" t="t" r="r" b="b"/>
              <a:pathLst>
                <a:path w="265" h="101">
                  <a:moveTo>
                    <a:pt x="4" y="101"/>
                  </a:moveTo>
                  <a:lnTo>
                    <a:pt x="261" y="98"/>
                  </a:lnTo>
                  <a:lnTo>
                    <a:pt x="265" y="98"/>
                  </a:lnTo>
                  <a:lnTo>
                    <a:pt x="134" y="0"/>
                  </a:lnTo>
                  <a:lnTo>
                    <a:pt x="0" y="98"/>
                  </a:lnTo>
                  <a:lnTo>
                    <a:pt x="4" y="101"/>
                  </a:lnTo>
                  <a:close/>
                </a:path>
              </a:pathLst>
            </a:custGeom>
            <a:solidFill>
              <a:srgbClr val="704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415480" y="4007880"/>
              <a:ext cx="346320" cy="113040"/>
            </a:xfrm>
            <a:custGeom>
              <a:avLst/>
              <a:gdLst/>
              <a:ahLst/>
              <a:rect l="l" t="t" r="r" b="b"/>
              <a:pathLst>
                <a:path w="257" h="90">
                  <a:moveTo>
                    <a:pt x="126" y="0"/>
                  </a:moveTo>
                  <a:lnTo>
                    <a:pt x="0" y="90"/>
                  </a:lnTo>
                  <a:lnTo>
                    <a:pt x="257" y="9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bdbd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566680" y="4007880"/>
              <a:ext cx="44640" cy="1368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0" y="11"/>
                  </a:moveTo>
                  <a:lnTo>
                    <a:pt x="33" y="11"/>
                  </a:lnTo>
                  <a:lnTo>
                    <a:pt x="1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9c9c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556960" y="4021560"/>
              <a:ext cx="57960" cy="5040"/>
            </a:xfrm>
            <a:custGeom>
              <a:avLst/>
              <a:gdLst/>
              <a:ahLst/>
              <a:rect l="l" t="t" r="r" b="b"/>
              <a:pathLst>
                <a:path w="43" h="4">
                  <a:moveTo>
                    <a:pt x="43" y="4"/>
                  </a:moveTo>
                  <a:lnTo>
                    <a:pt x="0" y="4"/>
                  </a:lnTo>
                  <a:lnTo>
                    <a:pt x="7" y="0"/>
                  </a:lnTo>
                  <a:lnTo>
                    <a:pt x="40" y="0"/>
                  </a:lnTo>
                  <a:lnTo>
                    <a:pt x="43" y="4"/>
                  </a:lnTo>
                  <a:close/>
                </a:path>
              </a:pathLst>
            </a:custGeom>
            <a:solidFill>
              <a:srgbClr val="696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527440" y="4030200"/>
              <a:ext cx="117360" cy="18720"/>
            </a:xfrm>
            <a:custGeom>
              <a:avLst/>
              <a:gdLst/>
              <a:ahLst/>
              <a:rect l="l" t="t" r="r" b="b"/>
              <a:pathLst>
                <a:path w="87" h="15">
                  <a:moveTo>
                    <a:pt x="69" y="0"/>
                  </a:moveTo>
                  <a:lnTo>
                    <a:pt x="18" y="0"/>
                  </a:lnTo>
                  <a:lnTo>
                    <a:pt x="0" y="15"/>
                  </a:lnTo>
                  <a:lnTo>
                    <a:pt x="87" y="15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9c9c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522040" y="4048920"/>
              <a:ext cx="132480" cy="1080"/>
            </a:xfrm>
            <a:custGeom>
              <a:avLst/>
              <a:gdLst/>
              <a:ahLst/>
              <a:rect l="l" t="t" r="r" b="b"/>
              <a:pathLst>
                <a:path w="98" h="0">
                  <a:moveTo>
                    <a:pt x="98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91" y="0"/>
                  </a:lnTo>
                  <a:lnTo>
                    <a:pt x="98" y="0"/>
                  </a:lnTo>
                  <a:close/>
                </a:path>
              </a:pathLst>
            </a:custGeom>
            <a:solidFill>
              <a:srgbClr val="696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493600" y="4053240"/>
              <a:ext cx="190080" cy="18720"/>
            </a:xfrm>
            <a:custGeom>
              <a:avLst/>
              <a:gdLst/>
              <a:ahLst/>
              <a:rect l="l" t="t" r="r" b="b"/>
              <a:pathLst>
                <a:path w="141" h="15">
                  <a:moveTo>
                    <a:pt x="123" y="0"/>
                  </a:moveTo>
                  <a:lnTo>
                    <a:pt x="18" y="0"/>
                  </a:lnTo>
                  <a:lnTo>
                    <a:pt x="0" y="15"/>
                  </a:lnTo>
                  <a:lnTo>
                    <a:pt x="141" y="15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9c9c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483160" y="4071960"/>
              <a:ext cx="205920" cy="3600"/>
            </a:xfrm>
            <a:custGeom>
              <a:avLst/>
              <a:gdLst/>
              <a:ahLst/>
              <a:rect l="l" t="t" r="r" b="b"/>
              <a:pathLst>
                <a:path w="153" h="3">
                  <a:moveTo>
                    <a:pt x="153" y="3"/>
                  </a:moveTo>
                  <a:lnTo>
                    <a:pt x="0" y="3"/>
                  </a:lnTo>
                  <a:lnTo>
                    <a:pt x="8" y="0"/>
                  </a:lnTo>
                  <a:lnTo>
                    <a:pt x="149" y="0"/>
                  </a:lnTo>
                  <a:lnTo>
                    <a:pt x="153" y="3"/>
                  </a:lnTo>
                  <a:close/>
                </a:path>
              </a:pathLst>
            </a:custGeom>
            <a:solidFill>
              <a:srgbClr val="696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454720" y="4075560"/>
              <a:ext cx="268560" cy="18720"/>
            </a:xfrm>
            <a:custGeom>
              <a:avLst/>
              <a:gdLst/>
              <a:ahLst/>
              <a:rect l="l" t="t" r="r" b="b"/>
              <a:pathLst>
                <a:path w="199" h="15">
                  <a:moveTo>
                    <a:pt x="177" y="0"/>
                  </a:moveTo>
                  <a:lnTo>
                    <a:pt x="18" y="0"/>
                  </a:lnTo>
                  <a:lnTo>
                    <a:pt x="0" y="15"/>
                  </a:lnTo>
                  <a:lnTo>
                    <a:pt x="199" y="15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9c9c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448960" y="4094280"/>
              <a:ext cx="279000" cy="3600"/>
            </a:xfrm>
            <a:custGeom>
              <a:avLst/>
              <a:gdLst/>
              <a:ahLst/>
              <a:rect l="l" t="t" r="r" b="b"/>
              <a:pathLst>
                <a:path w="207" h="3">
                  <a:moveTo>
                    <a:pt x="207" y="3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203" y="0"/>
                  </a:lnTo>
                  <a:lnTo>
                    <a:pt x="207" y="3"/>
                  </a:lnTo>
                  <a:close/>
                </a:path>
              </a:pathLst>
            </a:custGeom>
            <a:solidFill>
              <a:srgbClr val="696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419440" y="4103280"/>
              <a:ext cx="337320" cy="13680"/>
            </a:xfrm>
            <a:custGeom>
              <a:avLst/>
              <a:gdLst/>
              <a:ahLst/>
              <a:rect l="l" t="t" r="r" b="b"/>
              <a:pathLst>
                <a:path w="250" h="11">
                  <a:moveTo>
                    <a:pt x="232" y="0"/>
                  </a:moveTo>
                  <a:lnTo>
                    <a:pt x="18" y="0"/>
                  </a:lnTo>
                  <a:lnTo>
                    <a:pt x="0" y="11"/>
                  </a:lnTo>
                  <a:lnTo>
                    <a:pt x="250" y="11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9c9c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415480" y="4117320"/>
              <a:ext cx="346320" cy="3600"/>
            </a:xfrm>
            <a:custGeom>
              <a:avLst/>
              <a:gdLst/>
              <a:ahLst/>
              <a:rect l="l" t="t" r="r" b="b"/>
              <a:pathLst>
                <a:path w="257" h="3">
                  <a:moveTo>
                    <a:pt x="3" y="0"/>
                  </a:moveTo>
                  <a:lnTo>
                    <a:pt x="253" y="0"/>
                  </a:lnTo>
                  <a:lnTo>
                    <a:pt x="257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969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443920" y="4035240"/>
              <a:ext cx="297720" cy="85320"/>
            </a:xfrm>
            <a:custGeom>
              <a:avLst/>
              <a:gdLst/>
              <a:ahLst/>
              <a:rect l="l" t="t" r="r" b="b"/>
              <a:pathLst>
                <a:path w="221" h="68">
                  <a:moveTo>
                    <a:pt x="109" y="0"/>
                  </a:moveTo>
                  <a:lnTo>
                    <a:pt x="0" y="68"/>
                  </a:lnTo>
                  <a:lnTo>
                    <a:pt x="221" y="68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d6d6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572080" y="4035240"/>
              <a:ext cx="33480" cy="136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11"/>
                  </a:moveTo>
                  <a:lnTo>
                    <a:pt x="25" y="11"/>
                  </a:lnTo>
                  <a:lnTo>
                    <a:pt x="1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5b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560920" y="4048920"/>
              <a:ext cx="54000" cy="1080"/>
            </a:xfrm>
            <a:custGeom>
              <a:avLst/>
              <a:gdLst/>
              <a:ahLst/>
              <a:rect l="l" t="t" r="r" b="b"/>
              <a:pathLst>
                <a:path w="40" h="0">
                  <a:moveTo>
                    <a:pt x="40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33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828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527440" y="4053240"/>
              <a:ext cx="122400" cy="18720"/>
            </a:xfrm>
            <a:custGeom>
              <a:avLst/>
              <a:gdLst/>
              <a:ahLst/>
              <a:rect l="l" t="t" r="r" b="b"/>
              <a:pathLst>
                <a:path w="91" h="15">
                  <a:moveTo>
                    <a:pt x="69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91" y="15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b5b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522040" y="4071960"/>
              <a:ext cx="132480" cy="3600"/>
            </a:xfrm>
            <a:custGeom>
              <a:avLst/>
              <a:gdLst/>
              <a:ahLst/>
              <a:rect l="l" t="t" r="r" b="b"/>
              <a:pathLst>
                <a:path w="98" h="3">
                  <a:moveTo>
                    <a:pt x="98" y="3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95" y="0"/>
                  </a:lnTo>
                  <a:lnTo>
                    <a:pt x="98" y="3"/>
                  </a:lnTo>
                  <a:close/>
                </a:path>
              </a:pathLst>
            </a:custGeom>
            <a:solidFill>
              <a:srgbClr val="828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488200" y="4075560"/>
              <a:ext cx="205200" cy="18720"/>
            </a:xfrm>
            <a:custGeom>
              <a:avLst/>
              <a:gdLst/>
              <a:ahLst/>
              <a:rect l="l" t="t" r="r" b="b"/>
              <a:pathLst>
                <a:path w="152" h="15">
                  <a:moveTo>
                    <a:pt x="130" y="0"/>
                  </a:moveTo>
                  <a:lnTo>
                    <a:pt x="22" y="0"/>
                  </a:lnTo>
                  <a:lnTo>
                    <a:pt x="0" y="15"/>
                  </a:lnTo>
                  <a:lnTo>
                    <a:pt x="152" y="15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5b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483160" y="4094280"/>
              <a:ext cx="215640" cy="3600"/>
            </a:xfrm>
            <a:custGeom>
              <a:avLst/>
              <a:gdLst/>
              <a:ahLst/>
              <a:rect l="l" t="t" r="r" b="b"/>
              <a:pathLst>
                <a:path w="160" h="3">
                  <a:moveTo>
                    <a:pt x="160" y="3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156" y="0"/>
                  </a:lnTo>
                  <a:lnTo>
                    <a:pt x="160" y="3"/>
                  </a:lnTo>
                  <a:close/>
                </a:path>
              </a:pathLst>
            </a:custGeom>
            <a:solidFill>
              <a:srgbClr val="828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448960" y="4103280"/>
              <a:ext cx="283320" cy="13680"/>
            </a:xfrm>
            <a:custGeom>
              <a:avLst/>
              <a:gdLst/>
              <a:ahLst/>
              <a:rect l="l" t="t" r="r" b="b"/>
              <a:pathLst>
                <a:path w="210" h="11">
                  <a:moveTo>
                    <a:pt x="188" y="0"/>
                  </a:moveTo>
                  <a:lnTo>
                    <a:pt x="22" y="0"/>
                  </a:lnTo>
                  <a:lnTo>
                    <a:pt x="0" y="11"/>
                  </a:lnTo>
                  <a:lnTo>
                    <a:pt x="210" y="11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b5b5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443920" y="4117320"/>
              <a:ext cx="297720" cy="3600"/>
            </a:xfrm>
            <a:custGeom>
              <a:avLst/>
              <a:gdLst/>
              <a:ahLst/>
              <a:rect l="l" t="t" r="r" b="b"/>
              <a:pathLst>
                <a:path w="221" h="3">
                  <a:moveTo>
                    <a:pt x="4" y="0"/>
                  </a:moveTo>
                  <a:lnTo>
                    <a:pt x="214" y="0"/>
                  </a:lnTo>
                  <a:lnTo>
                    <a:pt x="221" y="3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282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419440" y="4103280"/>
              <a:ext cx="337320" cy="17640"/>
            </a:xfrm>
            <a:custGeom>
              <a:avLst/>
              <a:gdLst/>
              <a:ahLst/>
              <a:rect l="l" t="t" r="r" b="b"/>
              <a:pathLst>
                <a:path w="250" h="14">
                  <a:moveTo>
                    <a:pt x="210" y="0"/>
                  </a:moveTo>
                  <a:lnTo>
                    <a:pt x="44" y="0"/>
                  </a:lnTo>
                  <a:lnTo>
                    <a:pt x="0" y="14"/>
                  </a:lnTo>
                  <a:lnTo>
                    <a:pt x="250" y="14"/>
                  </a:lnTo>
                  <a:lnTo>
                    <a:pt x="210" y="0"/>
                  </a:lnTo>
                  <a:close/>
                </a:path>
              </a:pathLst>
            </a:custGeom>
            <a:solidFill>
              <a:srgbClr val="704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585400" y="4007880"/>
              <a:ext cx="176400" cy="118080"/>
            </a:xfrm>
            <a:custGeom>
              <a:avLst/>
              <a:gdLst/>
              <a:ahLst/>
              <a:rect l="l" t="t" r="r" b="b"/>
              <a:pathLst>
                <a:path w="131" h="94">
                  <a:moveTo>
                    <a:pt x="131" y="94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31" y="90"/>
                  </a:lnTo>
                  <a:lnTo>
                    <a:pt x="131" y="94"/>
                  </a:lnTo>
                  <a:close/>
                </a:path>
              </a:pathLst>
            </a:cu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5415480" y="4002480"/>
              <a:ext cx="659160" cy="391320"/>
              <a:chOff x="5415480" y="4002480"/>
              <a:chExt cx="659160" cy="391320"/>
            </a:xfrm>
          </p:grpSpPr>
          <p:sp>
            <p:nvSpPr>
              <p:cNvPr id="1764" name=""/>
              <p:cNvSpPr/>
              <p:nvPr/>
            </p:nvSpPr>
            <p:spPr>
              <a:xfrm>
                <a:off x="5585400" y="4002480"/>
                <a:ext cx="176400" cy="118080"/>
              </a:xfrm>
              <a:custGeom>
                <a:avLst/>
                <a:gdLst/>
                <a:ahLst/>
                <a:rect l="l" t="t" r="r" b="b"/>
                <a:pathLst>
                  <a:path w="131" h="94">
                    <a:moveTo>
                      <a:pt x="131" y="94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31" y="91"/>
                    </a:lnTo>
                    <a:lnTo>
                      <a:pt x="131" y="94"/>
                    </a:lnTo>
                    <a:close/>
                  </a:path>
                </a:pathLst>
              </a:custGeom>
              <a:solidFill>
                <a:srgbClr val="e0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585400" y="4007520"/>
                <a:ext cx="176400" cy="113040"/>
              </a:xfrm>
              <a:custGeom>
                <a:avLst/>
                <a:gdLst/>
                <a:ahLst/>
                <a:rect l="l" t="t" r="r" b="b"/>
                <a:pathLst>
                  <a:path w="131" h="90">
                    <a:moveTo>
                      <a:pt x="131" y="9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31" y="90"/>
                    </a:lnTo>
                    <a:lnTo>
                      <a:pt x="131" y="90"/>
                    </a:lnTo>
                    <a:close/>
                  </a:path>
                </a:pathLst>
              </a:custGeom>
              <a:solidFill>
                <a:srgbClr val="bf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415480" y="4007520"/>
                <a:ext cx="169920" cy="118080"/>
              </a:xfrm>
              <a:custGeom>
                <a:avLst/>
                <a:gdLst/>
                <a:ahLst/>
                <a:rect l="l" t="t" r="r" b="b"/>
                <a:pathLst>
                  <a:path w="126" h="94">
                    <a:moveTo>
                      <a:pt x="0" y="94"/>
                    </a:moveTo>
                    <a:lnTo>
                      <a:pt x="126" y="7"/>
                    </a:lnTo>
                    <a:lnTo>
                      <a:pt x="126" y="0"/>
                    </a:lnTo>
                    <a:lnTo>
                      <a:pt x="0" y="90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8c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5415480" y="4002480"/>
                <a:ext cx="169920" cy="118080"/>
              </a:xfrm>
              <a:custGeom>
                <a:avLst/>
                <a:gdLst/>
                <a:ahLst/>
                <a:rect l="l" t="t" r="r" b="b"/>
                <a:pathLst>
                  <a:path w="126" h="94">
                    <a:moveTo>
                      <a:pt x="0" y="94"/>
                    </a:moveTo>
                    <a:lnTo>
                      <a:pt x="126" y="4"/>
                    </a:lnTo>
                    <a:lnTo>
                      <a:pt x="126" y="0"/>
                    </a:lnTo>
                    <a:lnTo>
                      <a:pt x="0" y="91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e0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5415480" y="4007520"/>
                <a:ext cx="169920" cy="113040"/>
              </a:xfrm>
              <a:custGeom>
                <a:avLst/>
                <a:gdLst/>
                <a:ahLst/>
                <a:rect l="l" t="t" r="r" b="b"/>
                <a:pathLst>
                  <a:path w="126" h="90">
                    <a:moveTo>
                      <a:pt x="0" y="90"/>
                    </a:moveTo>
                    <a:lnTo>
                      <a:pt x="126" y="0"/>
                    </a:lnTo>
                    <a:lnTo>
                      <a:pt x="126" y="4"/>
                    </a:lnTo>
                    <a:lnTo>
                      <a:pt x="0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bf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5415480" y="4120560"/>
                <a:ext cx="346320" cy="272880"/>
              </a:xfrm>
              <a:prstGeom prst="rect">
                <a:avLst/>
              </a:prstGeom>
              <a:solidFill>
                <a:srgbClr val="d6d6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5415480" y="4120560"/>
                <a:ext cx="346320" cy="13680"/>
              </a:xfrm>
              <a:prstGeom prst="rect">
                <a:avLst/>
              </a:prstGeom>
              <a:solidFill>
                <a:srgbClr val="b5b5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5415480" y="4134240"/>
                <a:ext cx="346320" cy="5040"/>
              </a:xfrm>
              <a:prstGeom prst="rect">
                <a:avLst/>
              </a:prstGeom>
              <a:solidFill>
                <a:srgbClr val="82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415480" y="4144680"/>
                <a:ext cx="346320" cy="12240"/>
              </a:xfrm>
              <a:prstGeom prst="rect">
                <a:avLst/>
              </a:prstGeom>
              <a:solidFill>
                <a:srgbClr val="b5b5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5415480" y="4157280"/>
                <a:ext cx="346320" cy="4680"/>
              </a:xfrm>
              <a:prstGeom prst="rect">
                <a:avLst/>
              </a:prstGeom>
              <a:solidFill>
                <a:srgbClr val="82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5415480" y="4167360"/>
                <a:ext cx="346320" cy="17640"/>
              </a:xfrm>
              <a:prstGeom prst="rect">
                <a:avLst/>
              </a:prstGeom>
              <a:solidFill>
                <a:srgbClr val="b5b5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5415480" y="4185000"/>
                <a:ext cx="346320" cy="360"/>
              </a:xfrm>
              <a:prstGeom prst="rect">
                <a:avLst/>
              </a:prstGeom>
              <a:solidFill>
                <a:srgbClr val="82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5415480" y="4189680"/>
                <a:ext cx="346320" cy="17640"/>
              </a:xfrm>
              <a:prstGeom prst="rect">
                <a:avLst/>
              </a:prstGeom>
              <a:solidFill>
                <a:srgbClr val="b5b5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5415480" y="4207320"/>
                <a:ext cx="346320" cy="5040"/>
              </a:xfrm>
              <a:prstGeom prst="rect">
                <a:avLst/>
              </a:prstGeom>
              <a:solidFill>
                <a:srgbClr val="82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5415480" y="4212720"/>
                <a:ext cx="346320" cy="17280"/>
              </a:xfrm>
              <a:prstGeom prst="rect">
                <a:avLst/>
              </a:prstGeom>
              <a:solidFill>
                <a:srgbClr val="b5b5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5415480" y="4230000"/>
                <a:ext cx="346320" cy="5040"/>
              </a:xfrm>
              <a:prstGeom prst="rect">
                <a:avLst/>
              </a:prstGeom>
              <a:solidFill>
                <a:srgbClr val="82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5415480" y="4235040"/>
                <a:ext cx="346320" cy="17640"/>
              </a:xfrm>
              <a:prstGeom prst="rect">
                <a:avLst/>
              </a:prstGeom>
              <a:solidFill>
                <a:srgbClr val="b5b5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5415480" y="4252680"/>
                <a:ext cx="346320" cy="4680"/>
              </a:xfrm>
              <a:prstGeom prst="rect">
                <a:avLst/>
              </a:prstGeom>
              <a:solidFill>
                <a:srgbClr val="82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5415480" y="4257720"/>
                <a:ext cx="346320" cy="17640"/>
              </a:xfrm>
              <a:prstGeom prst="rect">
                <a:avLst/>
              </a:prstGeom>
              <a:solidFill>
                <a:srgbClr val="b5b5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5415480" y="4275360"/>
                <a:ext cx="346320" cy="5040"/>
              </a:xfrm>
              <a:prstGeom prst="rect">
                <a:avLst/>
              </a:prstGeom>
              <a:solidFill>
                <a:srgbClr val="82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5415480" y="4285440"/>
                <a:ext cx="346320" cy="13680"/>
              </a:xfrm>
              <a:prstGeom prst="rect">
                <a:avLst/>
              </a:prstGeom>
              <a:solidFill>
                <a:srgbClr val="b5b5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415480" y="4299120"/>
                <a:ext cx="346320" cy="3600"/>
              </a:xfrm>
              <a:prstGeom prst="rect">
                <a:avLst/>
              </a:prstGeom>
              <a:solidFill>
                <a:srgbClr val="82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5415480" y="4308120"/>
                <a:ext cx="346320" cy="13680"/>
              </a:xfrm>
              <a:prstGeom prst="rect">
                <a:avLst/>
              </a:prstGeom>
              <a:solidFill>
                <a:srgbClr val="b5b5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415480" y="4321800"/>
                <a:ext cx="346320" cy="3960"/>
              </a:xfrm>
              <a:prstGeom prst="rect">
                <a:avLst/>
              </a:prstGeom>
              <a:solidFill>
                <a:srgbClr val="82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5415480" y="4330800"/>
                <a:ext cx="346320" cy="13680"/>
              </a:xfrm>
              <a:prstGeom prst="rect">
                <a:avLst/>
              </a:prstGeom>
              <a:solidFill>
                <a:srgbClr val="b5b5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415480" y="4344480"/>
                <a:ext cx="346320" cy="3600"/>
              </a:xfrm>
              <a:prstGeom prst="rect">
                <a:avLst/>
              </a:prstGeom>
              <a:solidFill>
                <a:srgbClr val="82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5415480" y="4353480"/>
                <a:ext cx="346320" cy="13680"/>
              </a:xfrm>
              <a:prstGeom prst="rect">
                <a:avLst/>
              </a:prstGeom>
              <a:solidFill>
                <a:srgbClr val="b5b5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415480" y="4367160"/>
                <a:ext cx="346320" cy="3600"/>
              </a:xfrm>
              <a:prstGeom prst="rect">
                <a:avLst/>
              </a:prstGeom>
              <a:solidFill>
                <a:srgbClr val="82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415480" y="4376160"/>
                <a:ext cx="346320" cy="13680"/>
              </a:xfrm>
              <a:prstGeom prst="rect">
                <a:avLst/>
              </a:prstGeom>
              <a:solidFill>
                <a:srgbClr val="b5b5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415480" y="4389840"/>
                <a:ext cx="346320" cy="3600"/>
              </a:xfrm>
              <a:prstGeom prst="rect">
                <a:avLst/>
              </a:prstGeom>
              <a:solidFill>
                <a:srgbClr val="8282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415480" y="4120560"/>
                <a:ext cx="346320" cy="4680"/>
              </a:xfrm>
              <a:prstGeom prst="rect">
                <a:avLst/>
              </a:prstGeom>
              <a:solidFill>
                <a:srgbClr val="8c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415480" y="4116960"/>
                <a:ext cx="346320" cy="3600"/>
              </a:xfrm>
              <a:prstGeom prst="rect">
                <a:avLst/>
              </a:prstGeom>
              <a:solidFill>
                <a:srgbClr val="e0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415480" y="4120560"/>
                <a:ext cx="346320" cy="360"/>
              </a:xfrm>
              <a:prstGeom prst="rect">
                <a:avLst/>
              </a:prstGeom>
              <a:solidFill>
                <a:srgbClr val="bf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415480" y="4125600"/>
                <a:ext cx="346320" cy="8640"/>
              </a:xfrm>
              <a:prstGeom prst="rect">
                <a:avLst/>
              </a:prstGeom>
              <a:solidFill>
                <a:srgbClr val="9c9c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761800" y="4120560"/>
                <a:ext cx="48600" cy="272880"/>
              </a:xfrm>
              <a:custGeom>
                <a:avLst/>
                <a:gdLst/>
                <a:ahLst/>
                <a:rect l="l" t="t" r="r" b="b"/>
                <a:pathLst>
                  <a:path w="36" h="217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8" y="4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6" y="19"/>
                    </a:lnTo>
                    <a:lnTo>
                      <a:pt x="36" y="29"/>
                    </a:lnTo>
                    <a:lnTo>
                      <a:pt x="36" y="44"/>
                    </a:lnTo>
                    <a:lnTo>
                      <a:pt x="36" y="55"/>
                    </a:lnTo>
                    <a:lnTo>
                      <a:pt x="36" y="69"/>
                    </a:lnTo>
                    <a:lnTo>
                      <a:pt x="36" y="80"/>
                    </a:lnTo>
                    <a:lnTo>
                      <a:pt x="36" y="95"/>
                    </a:lnTo>
                    <a:lnTo>
                      <a:pt x="36" y="105"/>
                    </a:lnTo>
                    <a:lnTo>
                      <a:pt x="36" y="120"/>
                    </a:lnTo>
                    <a:lnTo>
                      <a:pt x="36" y="131"/>
                    </a:lnTo>
                    <a:lnTo>
                      <a:pt x="36" y="145"/>
                    </a:lnTo>
                    <a:lnTo>
                      <a:pt x="36" y="156"/>
                    </a:lnTo>
                    <a:lnTo>
                      <a:pt x="36" y="170"/>
                    </a:lnTo>
                    <a:lnTo>
                      <a:pt x="36" y="185"/>
                    </a:lnTo>
                    <a:lnTo>
                      <a:pt x="36" y="196"/>
                    </a:lnTo>
                    <a:lnTo>
                      <a:pt x="36" y="210"/>
                    </a:lnTo>
                    <a:lnTo>
                      <a:pt x="33" y="210"/>
                    </a:lnTo>
                    <a:lnTo>
                      <a:pt x="29" y="210"/>
                    </a:lnTo>
                    <a:lnTo>
                      <a:pt x="25" y="210"/>
                    </a:lnTo>
                    <a:lnTo>
                      <a:pt x="18" y="214"/>
                    </a:lnTo>
                    <a:lnTo>
                      <a:pt x="14" y="214"/>
                    </a:lnTo>
                    <a:lnTo>
                      <a:pt x="7" y="217"/>
                    </a:lnTo>
                    <a:lnTo>
                      <a:pt x="4" y="217"/>
                    </a:lnTo>
                    <a:lnTo>
                      <a:pt x="0" y="217"/>
                    </a:lnTo>
                    <a:lnTo>
                      <a:pt x="0" y="203"/>
                    </a:lnTo>
                    <a:lnTo>
                      <a:pt x="0" y="192"/>
                    </a:lnTo>
                    <a:lnTo>
                      <a:pt x="0" y="178"/>
                    </a:lnTo>
                    <a:lnTo>
                      <a:pt x="0" y="163"/>
                    </a:lnTo>
                    <a:lnTo>
                      <a:pt x="0" y="149"/>
                    </a:lnTo>
                    <a:lnTo>
                      <a:pt x="0" y="138"/>
                    </a:lnTo>
                    <a:lnTo>
                      <a:pt x="0" y="123"/>
                    </a:lnTo>
                    <a:lnTo>
                      <a:pt x="0" y="109"/>
                    </a:lnTo>
                    <a:lnTo>
                      <a:pt x="0" y="95"/>
                    </a:lnTo>
                    <a:lnTo>
                      <a:pt x="0" y="80"/>
                    </a:lnTo>
                    <a:lnTo>
                      <a:pt x="0" y="69"/>
                    </a:lnTo>
                    <a:lnTo>
                      <a:pt x="0" y="55"/>
                    </a:lnTo>
                    <a:lnTo>
                      <a:pt x="0" y="40"/>
                    </a:lnTo>
                    <a:lnTo>
                      <a:pt x="0" y="26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0b0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761800" y="4120560"/>
                <a:ext cx="48600" cy="18720"/>
              </a:xfrm>
              <a:custGeom>
                <a:avLst/>
                <a:gdLst/>
                <a:ahLst/>
                <a:rect l="l" t="t" r="r" b="b"/>
                <a:pathLst>
                  <a:path w="36" h="15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8" y="4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6" y="11"/>
                    </a:lnTo>
                    <a:lnTo>
                      <a:pt x="36" y="15"/>
                    </a:lnTo>
                    <a:lnTo>
                      <a:pt x="33" y="15"/>
                    </a:lnTo>
                    <a:lnTo>
                      <a:pt x="29" y="15"/>
                    </a:lnTo>
                    <a:lnTo>
                      <a:pt x="25" y="15"/>
                    </a:lnTo>
                    <a:lnTo>
                      <a:pt x="18" y="15"/>
                    </a:lnTo>
                    <a:lnTo>
                      <a:pt x="14" y="15"/>
                    </a:lnTo>
                    <a:lnTo>
                      <a:pt x="11" y="15"/>
                    </a:lnTo>
                    <a:lnTo>
                      <a:pt x="4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f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761800" y="4134240"/>
                <a:ext cx="48600" cy="1008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0" y="4"/>
                    </a:moveTo>
                    <a:lnTo>
                      <a:pt x="4" y="4"/>
                    </a:lnTo>
                    <a:lnTo>
                      <a:pt x="11" y="4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5" y="8"/>
                    </a:lnTo>
                    <a:lnTo>
                      <a:pt x="29" y="8"/>
                    </a:lnTo>
                    <a:lnTo>
                      <a:pt x="33" y="8"/>
                    </a:lnTo>
                    <a:lnTo>
                      <a:pt x="36" y="8"/>
                    </a:lnTo>
                    <a:lnTo>
                      <a:pt x="36" y="8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29" y="4"/>
                    </a:lnTo>
                    <a:lnTo>
                      <a:pt x="25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c5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761800" y="4144680"/>
                <a:ext cx="48600" cy="1728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0" y="0"/>
                    </a:moveTo>
                    <a:lnTo>
                      <a:pt x="4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29" y="3"/>
                    </a:lnTo>
                    <a:lnTo>
                      <a:pt x="33" y="3"/>
                    </a:lnTo>
                    <a:lnTo>
                      <a:pt x="36" y="3"/>
                    </a:lnTo>
                    <a:lnTo>
                      <a:pt x="36" y="7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36" y="14"/>
                    </a:lnTo>
                    <a:lnTo>
                      <a:pt x="33" y="14"/>
                    </a:lnTo>
                    <a:lnTo>
                      <a:pt x="29" y="14"/>
                    </a:lnTo>
                    <a:lnTo>
                      <a:pt x="25" y="14"/>
                    </a:lnTo>
                    <a:lnTo>
                      <a:pt x="18" y="14"/>
                    </a:lnTo>
                    <a:lnTo>
                      <a:pt x="14" y="14"/>
                    </a:lnTo>
                    <a:lnTo>
                      <a:pt x="11" y="14"/>
                    </a:lnTo>
                    <a:lnTo>
                      <a:pt x="4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f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761800" y="4157280"/>
                <a:ext cx="48600" cy="972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0" y="4"/>
                    </a:moveTo>
                    <a:lnTo>
                      <a:pt x="4" y="4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8" y="8"/>
                    </a:lnTo>
                    <a:lnTo>
                      <a:pt x="25" y="8"/>
                    </a:lnTo>
                    <a:lnTo>
                      <a:pt x="29" y="8"/>
                    </a:lnTo>
                    <a:lnTo>
                      <a:pt x="33" y="8"/>
                    </a:lnTo>
                    <a:lnTo>
                      <a:pt x="36" y="8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29" y="4"/>
                    </a:lnTo>
                    <a:lnTo>
                      <a:pt x="25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5c5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5761800" y="4167360"/>
                <a:ext cx="48600" cy="1764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0" y="0"/>
                    </a:moveTo>
                    <a:lnTo>
                      <a:pt x="4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7"/>
                    </a:lnTo>
                    <a:lnTo>
                      <a:pt x="36" y="10"/>
                    </a:lnTo>
                    <a:lnTo>
                      <a:pt x="36" y="14"/>
                    </a:lnTo>
                    <a:lnTo>
                      <a:pt x="33" y="14"/>
                    </a:lnTo>
                    <a:lnTo>
                      <a:pt x="29" y="14"/>
                    </a:lnTo>
                    <a:lnTo>
                      <a:pt x="25" y="14"/>
                    </a:lnTo>
                    <a:lnTo>
                      <a:pt x="18" y="14"/>
                    </a:lnTo>
                    <a:lnTo>
                      <a:pt x="14" y="14"/>
                    </a:lnTo>
                    <a:lnTo>
                      <a:pt x="11" y="14"/>
                    </a:lnTo>
                    <a:lnTo>
                      <a:pt x="4" y="14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f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761800" y="4185000"/>
                <a:ext cx="48600" cy="4680"/>
              </a:xfrm>
              <a:custGeom>
                <a:avLst/>
                <a:gdLst/>
                <a:ahLst/>
                <a:rect l="l" t="t" r="r" b="b"/>
                <a:pathLst>
                  <a:path w="36" h="4">
                    <a:moveTo>
                      <a:pt x="0" y="0"/>
                    </a:moveTo>
                    <a:lnTo>
                      <a:pt x="4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8" y="4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5761800" y="4189680"/>
                <a:ext cx="48600" cy="1764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0" y="0"/>
                    </a:moveTo>
                    <a:lnTo>
                      <a:pt x="4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6" y="3"/>
                    </a:lnTo>
                    <a:lnTo>
                      <a:pt x="36" y="7"/>
                    </a:lnTo>
                    <a:lnTo>
                      <a:pt x="36" y="11"/>
                    </a:lnTo>
                    <a:lnTo>
                      <a:pt x="36" y="11"/>
                    </a:lnTo>
                    <a:lnTo>
                      <a:pt x="33" y="11"/>
                    </a:lnTo>
                    <a:lnTo>
                      <a:pt x="29" y="11"/>
                    </a:lnTo>
                    <a:lnTo>
                      <a:pt x="25" y="11"/>
                    </a:lnTo>
                    <a:lnTo>
                      <a:pt x="18" y="14"/>
                    </a:lnTo>
                    <a:lnTo>
                      <a:pt x="14" y="14"/>
                    </a:lnTo>
                    <a:lnTo>
                      <a:pt x="11" y="14"/>
                    </a:lnTo>
                    <a:lnTo>
                      <a:pt x="4" y="14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f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5761800" y="4203720"/>
                <a:ext cx="48600" cy="8640"/>
              </a:xfrm>
              <a:custGeom>
                <a:avLst/>
                <a:gdLst/>
                <a:ahLst/>
                <a:rect l="l" t="t" r="r" b="b"/>
                <a:pathLst>
                  <a:path w="36" h="7">
                    <a:moveTo>
                      <a:pt x="0" y="7"/>
                    </a:moveTo>
                    <a:lnTo>
                      <a:pt x="4" y="3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5" y="3"/>
                    </a:lnTo>
                    <a:lnTo>
                      <a:pt x="29" y="3"/>
                    </a:lnTo>
                    <a:lnTo>
                      <a:pt x="33" y="3"/>
                    </a:lnTo>
                    <a:lnTo>
                      <a:pt x="36" y="3"/>
                    </a:lnTo>
                    <a:lnTo>
                      <a:pt x="36" y="3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1" y="3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5c5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761800" y="4212720"/>
                <a:ext cx="48600" cy="1728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0" y="0"/>
                    </a:moveTo>
                    <a:lnTo>
                      <a:pt x="4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6" y="7"/>
                    </a:lnTo>
                    <a:lnTo>
                      <a:pt x="36" y="11"/>
                    </a:lnTo>
                    <a:lnTo>
                      <a:pt x="33" y="11"/>
                    </a:lnTo>
                    <a:lnTo>
                      <a:pt x="29" y="11"/>
                    </a:lnTo>
                    <a:lnTo>
                      <a:pt x="25" y="11"/>
                    </a:lnTo>
                    <a:lnTo>
                      <a:pt x="18" y="11"/>
                    </a:lnTo>
                    <a:lnTo>
                      <a:pt x="14" y="11"/>
                    </a:lnTo>
                    <a:lnTo>
                      <a:pt x="11" y="11"/>
                    </a:lnTo>
                    <a:lnTo>
                      <a:pt x="4" y="11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f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761800" y="4226400"/>
                <a:ext cx="48600" cy="8640"/>
              </a:xfrm>
              <a:custGeom>
                <a:avLst/>
                <a:gdLst/>
                <a:ahLst/>
                <a:rect l="l" t="t" r="r" b="b"/>
                <a:pathLst>
                  <a:path w="36" h="7">
                    <a:moveTo>
                      <a:pt x="0" y="7"/>
                    </a:moveTo>
                    <a:lnTo>
                      <a:pt x="4" y="3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5" y="3"/>
                    </a:lnTo>
                    <a:lnTo>
                      <a:pt x="29" y="3"/>
                    </a:lnTo>
                    <a:lnTo>
                      <a:pt x="33" y="3"/>
                    </a:lnTo>
                    <a:lnTo>
                      <a:pt x="36" y="3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5c5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761800" y="4235040"/>
                <a:ext cx="48600" cy="1764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0" y="0"/>
                    </a:moveTo>
                    <a:lnTo>
                      <a:pt x="4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6" y="4"/>
                    </a:lnTo>
                    <a:lnTo>
                      <a:pt x="36" y="11"/>
                    </a:lnTo>
                    <a:lnTo>
                      <a:pt x="33" y="11"/>
                    </a:lnTo>
                    <a:lnTo>
                      <a:pt x="29" y="11"/>
                    </a:lnTo>
                    <a:lnTo>
                      <a:pt x="25" y="11"/>
                    </a:lnTo>
                    <a:lnTo>
                      <a:pt x="18" y="11"/>
                    </a:lnTo>
                    <a:lnTo>
                      <a:pt x="14" y="11"/>
                    </a:lnTo>
                    <a:lnTo>
                      <a:pt x="11" y="11"/>
                    </a:lnTo>
                    <a:lnTo>
                      <a:pt x="4" y="14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f8f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761800" y="4249080"/>
                <a:ext cx="48600" cy="8280"/>
              </a:xfrm>
              <a:custGeom>
                <a:avLst/>
                <a:gdLst/>
                <a:ahLst/>
                <a:rect l="l" t="t" r="r" b="b"/>
                <a:pathLst>
                  <a:path w="36" h="7">
                    <a:moveTo>
                      <a:pt x="0" y="7"/>
                    </a:moveTo>
                    <a:lnTo>
                      <a:pt x="4" y="3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5" y="3"/>
                    </a:lnTo>
                    <a:lnTo>
                      <a:pt x="29" y="3"/>
                    </a:lnTo>
                    <a:lnTo>
                      <a:pt x="33" y="3"/>
                    </a:lnTo>
                    <a:lnTo>
                      <a:pt x="36" y="3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5c5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761800" y="4252680"/>
                <a:ext cx="48600" cy="223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4"/>
                    </a:moveTo>
                    <a:lnTo>
                      <a:pt x="4" y="4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8" y="4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6" y="4"/>
                    </a:lnTo>
                    <a:lnTo>
                      <a:pt x="36" y="8"/>
                    </a:lnTo>
                    <a:lnTo>
                      <a:pt x="36" y="11"/>
                    </a:lnTo>
                    <a:lnTo>
                      <a:pt x="36" y="15"/>
                    </a:lnTo>
                    <a:lnTo>
                      <a:pt x="33" y="15"/>
                    </a:lnTo>
                    <a:lnTo>
                      <a:pt x="29" y="15"/>
                    </a:lnTo>
                    <a:lnTo>
                      <a:pt x="25" y="15"/>
                    </a:lnTo>
                    <a:lnTo>
                      <a:pt x="18" y="15"/>
                    </a:lnTo>
                    <a:lnTo>
                      <a:pt x="14" y="15"/>
                    </a:lnTo>
                    <a:lnTo>
                      <a:pt x="11" y="15"/>
                    </a:lnTo>
                    <a:lnTo>
                      <a:pt x="4" y="18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f8f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761800" y="4271760"/>
                <a:ext cx="48600" cy="8640"/>
              </a:xfrm>
              <a:custGeom>
                <a:avLst/>
                <a:gdLst/>
                <a:ahLst/>
                <a:rect l="l" t="t" r="r" b="b"/>
                <a:pathLst>
                  <a:path w="36" h="7">
                    <a:moveTo>
                      <a:pt x="0" y="7"/>
                    </a:moveTo>
                    <a:lnTo>
                      <a:pt x="4" y="3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8" y="3"/>
                    </a:lnTo>
                    <a:lnTo>
                      <a:pt x="25" y="3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5c5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761800" y="4275360"/>
                <a:ext cx="48600" cy="23760"/>
              </a:xfrm>
              <a:custGeom>
                <a:avLst/>
                <a:gdLst/>
                <a:ahLst/>
                <a:rect l="l" t="t" r="r" b="b"/>
                <a:pathLst>
                  <a:path w="36" h="19">
                    <a:moveTo>
                      <a:pt x="0" y="8"/>
                    </a:moveTo>
                    <a:lnTo>
                      <a:pt x="4" y="4"/>
                    </a:lnTo>
                    <a:lnTo>
                      <a:pt x="11" y="4"/>
                    </a:lnTo>
                    <a:lnTo>
                      <a:pt x="14" y="4"/>
                    </a:lnTo>
                    <a:lnTo>
                      <a:pt x="18" y="4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6" y="8"/>
                    </a:lnTo>
                    <a:lnTo>
                      <a:pt x="36" y="11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5" y="15"/>
                    </a:lnTo>
                    <a:lnTo>
                      <a:pt x="18" y="15"/>
                    </a:lnTo>
                    <a:lnTo>
                      <a:pt x="14" y="15"/>
                    </a:lnTo>
                    <a:lnTo>
                      <a:pt x="11" y="15"/>
                    </a:lnTo>
                    <a:lnTo>
                      <a:pt x="4" y="19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8f8f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761800" y="4289400"/>
                <a:ext cx="48600" cy="1368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0" y="11"/>
                    </a:moveTo>
                    <a:lnTo>
                      <a:pt x="4" y="8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29" y="4"/>
                    </a:lnTo>
                    <a:lnTo>
                      <a:pt x="25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5c5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761800" y="4299120"/>
                <a:ext cx="48600" cy="223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0" y="7"/>
                    </a:moveTo>
                    <a:lnTo>
                      <a:pt x="4" y="3"/>
                    </a:lnTo>
                    <a:lnTo>
                      <a:pt x="11" y="3"/>
                    </a:lnTo>
                    <a:lnTo>
                      <a:pt x="14" y="3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3"/>
                    </a:lnTo>
                    <a:lnTo>
                      <a:pt x="36" y="7"/>
                    </a:lnTo>
                    <a:lnTo>
                      <a:pt x="36" y="10"/>
                    </a:lnTo>
                    <a:lnTo>
                      <a:pt x="33" y="10"/>
                    </a:lnTo>
                    <a:lnTo>
                      <a:pt x="29" y="10"/>
                    </a:lnTo>
                    <a:lnTo>
                      <a:pt x="25" y="14"/>
                    </a:lnTo>
                    <a:lnTo>
                      <a:pt x="18" y="14"/>
                    </a:lnTo>
                    <a:lnTo>
                      <a:pt x="14" y="14"/>
                    </a:lnTo>
                    <a:lnTo>
                      <a:pt x="11" y="14"/>
                    </a:lnTo>
                    <a:lnTo>
                      <a:pt x="4" y="18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f8f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761800" y="4311720"/>
                <a:ext cx="48600" cy="1368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0" y="11"/>
                    </a:moveTo>
                    <a:lnTo>
                      <a:pt x="4" y="8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5c5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5761800" y="4317120"/>
                <a:ext cx="48600" cy="2736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0" y="11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4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6" y="7"/>
                    </a:lnTo>
                    <a:lnTo>
                      <a:pt x="36" y="14"/>
                    </a:lnTo>
                    <a:lnTo>
                      <a:pt x="33" y="14"/>
                    </a:lnTo>
                    <a:lnTo>
                      <a:pt x="29" y="14"/>
                    </a:lnTo>
                    <a:lnTo>
                      <a:pt x="25" y="14"/>
                    </a:lnTo>
                    <a:lnTo>
                      <a:pt x="18" y="18"/>
                    </a:lnTo>
                    <a:lnTo>
                      <a:pt x="14" y="18"/>
                    </a:lnTo>
                    <a:lnTo>
                      <a:pt x="11" y="18"/>
                    </a:lnTo>
                    <a:lnTo>
                      <a:pt x="4" y="22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f8f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761800" y="4334400"/>
                <a:ext cx="48600" cy="1368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0" y="11"/>
                    </a:moveTo>
                    <a:lnTo>
                      <a:pt x="4" y="8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3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1" y="4"/>
                    </a:lnTo>
                    <a:lnTo>
                      <a:pt x="4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5c5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761800" y="4339440"/>
                <a:ext cx="48600" cy="2736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0" y="11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4"/>
                    </a:lnTo>
                    <a:lnTo>
                      <a:pt x="18" y="4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6" y="7"/>
                    </a:lnTo>
                    <a:lnTo>
                      <a:pt x="36" y="11"/>
                    </a:lnTo>
                    <a:lnTo>
                      <a:pt x="33" y="15"/>
                    </a:lnTo>
                    <a:lnTo>
                      <a:pt x="29" y="15"/>
                    </a:lnTo>
                    <a:lnTo>
                      <a:pt x="25" y="15"/>
                    </a:lnTo>
                    <a:lnTo>
                      <a:pt x="18" y="18"/>
                    </a:lnTo>
                    <a:lnTo>
                      <a:pt x="14" y="18"/>
                    </a:lnTo>
                    <a:lnTo>
                      <a:pt x="11" y="18"/>
                    </a:lnTo>
                    <a:lnTo>
                      <a:pt x="4" y="22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f8f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761800" y="4353480"/>
                <a:ext cx="48600" cy="1728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0" y="14"/>
                    </a:moveTo>
                    <a:lnTo>
                      <a:pt x="4" y="14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18" y="7"/>
                    </a:lnTo>
                    <a:lnTo>
                      <a:pt x="25" y="7"/>
                    </a:lnTo>
                    <a:lnTo>
                      <a:pt x="29" y="7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0"/>
                    </a:lnTo>
                    <a:lnTo>
                      <a:pt x="33" y="4"/>
                    </a:lnTo>
                    <a:lnTo>
                      <a:pt x="29" y="4"/>
                    </a:lnTo>
                    <a:lnTo>
                      <a:pt x="25" y="4"/>
                    </a:lnTo>
                    <a:lnTo>
                      <a:pt x="18" y="7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4" y="11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5c5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761800" y="4362120"/>
                <a:ext cx="48600" cy="277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0" y="11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4"/>
                    </a:lnTo>
                    <a:lnTo>
                      <a:pt x="25" y="4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6" y="0"/>
                    </a:lnTo>
                    <a:lnTo>
                      <a:pt x="36" y="4"/>
                    </a:lnTo>
                    <a:lnTo>
                      <a:pt x="36" y="11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5" y="15"/>
                    </a:lnTo>
                    <a:lnTo>
                      <a:pt x="18" y="18"/>
                    </a:lnTo>
                    <a:lnTo>
                      <a:pt x="14" y="18"/>
                    </a:lnTo>
                    <a:lnTo>
                      <a:pt x="11" y="18"/>
                    </a:lnTo>
                    <a:lnTo>
                      <a:pt x="4" y="22"/>
                    </a:lnTo>
                    <a:lnTo>
                      <a:pt x="0" y="22"/>
                    </a:lnTo>
                    <a:lnTo>
                      <a:pt x="0" y="1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f8f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5761800" y="4376160"/>
                <a:ext cx="48600" cy="17640"/>
              </a:xfrm>
              <a:custGeom>
                <a:avLst/>
                <a:gdLst/>
                <a:ahLst/>
                <a:rect l="l" t="t" r="r" b="b"/>
                <a:pathLst>
                  <a:path w="36" h="14">
                    <a:moveTo>
                      <a:pt x="0" y="14"/>
                    </a:moveTo>
                    <a:lnTo>
                      <a:pt x="4" y="14"/>
                    </a:lnTo>
                    <a:lnTo>
                      <a:pt x="11" y="11"/>
                    </a:lnTo>
                    <a:lnTo>
                      <a:pt x="14" y="11"/>
                    </a:lnTo>
                    <a:lnTo>
                      <a:pt x="18" y="7"/>
                    </a:lnTo>
                    <a:lnTo>
                      <a:pt x="25" y="7"/>
                    </a:lnTo>
                    <a:lnTo>
                      <a:pt x="29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29" y="4"/>
                    </a:lnTo>
                    <a:lnTo>
                      <a:pt x="25" y="4"/>
                    </a:lnTo>
                    <a:lnTo>
                      <a:pt x="18" y="7"/>
                    </a:lnTo>
                    <a:lnTo>
                      <a:pt x="14" y="7"/>
                    </a:lnTo>
                    <a:lnTo>
                      <a:pt x="11" y="7"/>
                    </a:lnTo>
                    <a:lnTo>
                      <a:pt x="4" y="11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5c5c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761800" y="4120560"/>
                <a:ext cx="48600" cy="1368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0" y="4"/>
                    </a:moveTo>
                    <a:lnTo>
                      <a:pt x="4" y="4"/>
                    </a:lnTo>
                    <a:lnTo>
                      <a:pt x="7" y="8"/>
                    </a:lnTo>
                    <a:lnTo>
                      <a:pt x="14" y="8"/>
                    </a:lnTo>
                    <a:lnTo>
                      <a:pt x="18" y="8"/>
                    </a:lnTo>
                    <a:lnTo>
                      <a:pt x="25" y="8"/>
                    </a:lnTo>
                    <a:lnTo>
                      <a:pt x="29" y="8"/>
                    </a:lnTo>
                    <a:lnTo>
                      <a:pt x="33" y="8"/>
                    </a:lnTo>
                    <a:lnTo>
                      <a:pt x="36" y="11"/>
                    </a:lnTo>
                    <a:lnTo>
                      <a:pt x="36" y="8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29" y="4"/>
                    </a:lnTo>
                    <a:lnTo>
                      <a:pt x="25" y="4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8c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5761800" y="4116960"/>
                <a:ext cx="48600" cy="8280"/>
              </a:xfrm>
              <a:custGeom>
                <a:avLst/>
                <a:gdLst/>
                <a:ahLst/>
                <a:rect l="l" t="t" r="r" b="b"/>
                <a:pathLst>
                  <a:path w="36" h="7">
                    <a:moveTo>
                      <a:pt x="0" y="3"/>
                    </a:moveTo>
                    <a:lnTo>
                      <a:pt x="4" y="3"/>
                    </a:lnTo>
                    <a:lnTo>
                      <a:pt x="7" y="3"/>
                    </a:lnTo>
                    <a:lnTo>
                      <a:pt x="14" y="3"/>
                    </a:lnTo>
                    <a:lnTo>
                      <a:pt x="18" y="7"/>
                    </a:lnTo>
                    <a:lnTo>
                      <a:pt x="25" y="7"/>
                    </a:lnTo>
                    <a:lnTo>
                      <a:pt x="29" y="7"/>
                    </a:lnTo>
                    <a:lnTo>
                      <a:pt x="33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6" y="3"/>
                    </a:lnTo>
                    <a:lnTo>
                      <a:pt x="33" y="3"/>
                    </a:lnTo>
                    <a:lnTo>
                      <a:pt x="29" y="3"/>
                    </a:lnTo>
                    <a:lnTo>
                      <a:pt x="25" y="3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0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5761800" y="4120560"/>
                <a:ext cx="48600" cy="972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25" y="0"/>
                    </a:lnTo>
                    <a:lnTo>
                      <a:pt x="29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6" y="8"/>
                    </a:lnTo>
                    <a:lnTo>
                      <a:pt x="33" y="4"/>
                    </a:lnTo>
                    <a:lnTo>
                      <a:pt x="29" y="4"/>
                    </a:lnTo>
                    <a:lnTo>
                      <a:pt x="25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7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761800" y="4125600"/>
                <a:ext cx="48600" cy="13680"/>
              </a:xfrm>
              <a:custGeom>
                <a:avLst/>
                <a:gdLst/>
                <a:ahLst/>
                <a:rect l="l" t="t" r="r" b="b"/>
                <a:pathLst>
                  <a:path w="36" h="1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8" y="4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3" y="4"/>
                    </a:lnTo>
                    <a:lnTo>
                      <a:pt x="36" y="4"/>
                    </a:lnTo>
                    <a:lnTo>
                      <a:pt x="36" y="7"/>
                    </a:lnTo>
                    <a:lnTo>
                      <a:pt x="36" y="11"/>
                    </a:lnTo>
                    <a:lnTo>
                      <a:pt x="33" y="11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18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4" y="7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c9c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5546160" y="4052880"/>
                <a:ext cx="83160" cy="41040"/>
              </a:xfrm>
              <a:custGeom>
                <a:avLst/>
                <a:gdLst/>
                <a:ahLst/>
                <a:rect l="l" t="t" r="r" b="b"/>
                <a:pathLst>
                  <a:path w="62" h="33">
                    <a:moveTo>
                      <a:pt x="33" y="0"/>
                    </a:moveTo>
                    <a:lnTo>
                      <a:pt x="26" y="0"/>
                    </a:lnTo>
                    <a:lnTo>
                      <a:pt x="19" y="0"/>
                    </a:lnTo>
                    <a:lnTo>
                      <a:pt x="11" y="4"/>
                    </a:lnTo>
                    <a:lnTo>
                      <a:pt x="8" y="7"/>
                    </a:lnTo>
                    <a:lnTo>
                      <a:pt x="4" y="15"/>
                    </a:lnTo>
                    <a:lnTo>
                      <a:pt x="0" y="18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8" y="33"/>
                    </a:lnTo>
                    <a:lnTo>
                      <a:pt x="15" y="33"/>
                    </a:lnTo>
                    <a:lnTo>
                      <a:pt x="22" y="33"/>
                    </a:lnTo>
                    <a:lnTo>
                      <a:pt x="29" y="33"/>
                    </a:lnTo>
                    <a:lnTo>
                      <a:pt x="40" y="33"/>
                    </a:lnTo>
                    <a:lnTo>
                      <a:pt x="48" y="33"/>
                    </a:lnTo>
                    <a:lnTo>
                      <a:pt x="55" y="33"/>
                    </a:lnTo>
                    <a:lnTo>
                      <a:pt x="62" y="33"/>
                    </a:lnTo>
                    <a:lnTo>
                      <a:pt x="62" y="26"/>
                    </a:lnTo>
                    <a:lnTo>
                      <a:pt x="62" y="18"/>
                    </a:lnTo>
                    <a:lnTo>
                      <a:pt x="58" y="15"/>
                    </a:lnTo>
                    <a:lnTo>
                      <a:pt x="55" y="7"/>
                    </a:lnTo>
                    <a:lnTo>
                      <a:pt x="48" y="4"/>
                    </a:lnTo>
                    <a:lnTo>
                      <a:pt x="44" y="0"/>
                    </a:lnTo>
                    <a:lnTo>
                      <a:pt x="37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5546160" y="4052880"/>
                <a:ext cx="83160" cy="36360"/>
              </a:xfrm>
              <a:custGeom>
                <a:avLst/>
                <a:gdLst/>
                <a:ahLst/>
                <a:rect l="l" t="t" r="r" b="b"/>
                <a:pathLst>
                  <a:path w="62" h="29">
                    <a:moveTo>
                      <a:pt x="33" y="0"/>
                    </a:moveTo>
                    <a:lnTo>
                      <a:pt x="26" y="0"/>
                    </a:lnTo>
                    <a:lnTo>
                      <a:pt x="19" y="4"/>
                    </a:lnTo>
                    <a:lnTo>
                      <a:pt x="15" y="4"/>
                    </a:lnTo>
                    <a:lnTo>
                      <a:pt x="8" y="7"/>
                    </a:lnTo>
                    <a:lnTo>
                      <a:pt x="4" y="15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8" y="29"/>
                    </a:lnTo>
                    <a:lnTo>
                      <a:pt x="15" y="29"/>
                    </a:lnTo>
                    <a:lnTo>
                      <a:pt x="22" y="29"/>
                    </a:lnTo>
                    <a:lnTo>
                      <a:pt x="29" y="29"/>
                    </a:lnTo>
                    <a:lnTo>
                      <a:pt x="37" y="29"/>
                    </a:lnTo>
                    <a:lnTo>
                      <a:pt x="44" y="29"/>
                    </a:lnTo>
                    <a:lnTo>
                      <a:pt x="55" y="29"/>
                    </a:lnTo>
                    <a:lnTo>
                      <a:pt x="62" y="29"/>
                    </a:lnTo>
                    <a:lnTo>
                      <a:pt x="62" y="22"/>
                    </a:lnTo>
                    <a:lnTo>
                      <a:pt x="58" y="18"/>
                    </a:lnTo>
                    <a:lnTo>
                      <a:pt x="55" y="15"/>
                    </a:lnTo>
                    <a:lnTo>
                      <a:pt x="51" y="7"/>
                    </a:lnTo>
                    <a:lnTo>
                      <a:pt x="48" y="4"/>
                    </a:lnTo>
                    <a:lnTo>
                      <a:pt x="44" y="4"/>
                    </a:lnTo>
                    <a:lnTo>
                      <a:pt x="37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bf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5556960" y="4057560"/>
                <a:ext cx="63000" cy="31320"/>
              </a:xfrm>
              <a:custGeom>
                <a:avLst/>
                <a:gdLst/>
                <a:ahLst/>
                <a:rect l="l" t="t" r="r" b="b"/>
                <a:pathLst>
                  <a:path w="47" h="25">
                    <a:moveTo>
                      <a:pt x="25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1" y="3"/>
                    </a:lnTo>
                    <a:lnTo>
                      <a:pt x="7" y="7"/>
                    </a:lnTo>
                    <a:lnTo>
                      <a:pt x="3" y="11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3" y="25"/>
                    </a:lnTo>
                    <a:lnTo>
                      <a:pt x="11" y="25"/>
                    </a:lnTo>
                    <a:lnTo>
                      <a:pt x="18" y="25"/>
                    </a:lnTo>
                    <a:lnTo>
                      <a:pt x="21" y="25"/>
                    </a:lnTo>
                    <a:lnTo>
                      <a:pt x="29" y="25"/>
                    </a:lnTo>
                    <a:lnTo>
                      <a:pt x="36" y="25"/>
                    </a:lnTo>
                    <a:lnTo>
                      <a:pt x="40" y="25"/>
                    </a:lnTo>
                    <a:lnTo>
                      <a:pt x="47" y="25"/>
                    </a:lnTo>
                    <a:lnTo>
                      <a:pt x="47" y="18"/>
                    </a:lnTo>
                    <a:lnTo>
                      <a:pt x="47" y="14"/>
                    </a:lnTo>
                    <a:lnTo>
                      <a:pt x="43" y="11"/>
                    </a:lnTo>
                    <a:lnTo>
                      <a:pt x="40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8c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5556960" y="4061520"/>
                <a:ext cx="63000" cy="27360"/>
              </a:xfrm>
              <a:custGeom>
                <a:avLst/>
                <a:gdLst/>
                <a:ahLst/>
                <a:rect l="l" t="t" r="r" b="b"/>
                <a:pathLst>
                  <a:path w="47" h="22">
                    <a:moveTo>
                      <a:pt x="25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4"/>
                    </a:lnTo>
                    <a:lnTo>
                      <a:pt x="3" y="8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7" y="22"/>
                    </a:lnTo>
                    <a:lnTo>
                      <a:pt x="11" y="22"/>
                    </a:lnTo>
                    <a:lnTo>
                      <a:pt x="18" y="22"/>
                    </a:lnTo>
                    <a:lnTo>
                      <a:pt x="21" y="22"/>
                    </a:lnTo>
                    <a:lnTo>
                      <a:pt x="29" y="22"/>
                    </a:lnTo>
                    <a:lnTo>
                      <a:pt x="32" y="22"/>
                    </a:lnTo>
                    <a:lnTo>
                      <a:pt x="40" y="22"/>
                    </a:lnTo>
                    <a:lnTo>
                      <a:pt x="47" y="22"/>
                    </a:lnTo>
                    <a:lnTo>
                      <a:pt x="43" y="15"/>
                    </a:lnTo>
                    <a:lnTo>
                      <a:pt x="43" y="11"/>
                    </a:lnTo>
                    <a:lnTo>
                      <a:pt x="40" y="8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5959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590440" y="4085280"/>
                <a:ext cx="29520" cy="3960"/>
              </a:xfrm>
              <a:prstGeom prst="rect">
                <a:avLst/>
              </a:prstGeom>
              <a:solidFill>
                <a:srgbClr val="a3a3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590440" y="4066560"/>
                <a:ext cx="20160" cy="187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5" y="0"/>
                    </a:moveTo>
                    <a:lnTo>
                      <a:pt x="0" y="15"/>
                    </a:lnTo>
                    <a:lnTo>
                      <a:pt x="0" y="15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a3a3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5590440" y="4061520"/>
                <a:ext cx="360" cy="23400"/>
              </a:xfrm>
              <a:prstGeom prst="rect">
                <a:avLst/>
              </a:prstGeom>
              <a:solidFill>
                <a:srgbClr val="a3a3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5566320" y="4066560"/>
                <a:ext cx="24120" cy="18720"/>
              </a:xfrm>
              <a:custGeom>
                <a:avLst/>
                <a:gdLst/>
                <a:ahLst/>
                <a:rect l="l" t="t" r="r" b="b"/>
                <a:pathLst>
                  <a:path w="18" h="15">
                    <a:moveTo>
                      <a:pt x="0" y="0"/>
                    </a:moveTo>
                    <a:lnTo>
                      <a:pt x="18" y="15"/>
                    </a:lnTo>
                    <a:lnTo>
                      <a:pt x="18" y="15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3a3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5556960" y="4085280"/>
                <a:ext cx="33480" cy="3960"/>
              </a:xfrm>
              <a:prstGeom prst="rect">
                <a:avLst/>
              </a:prstGeom>
              <a:solidFill>
                <a:srgbClr val="a3a3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5585400" y="4080600"/>
                <a:ext cx="10440" cy="46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4" y="0"/>
                    </a:moveTo>
                    <a:lnTo>
                      <a:pt x="0" y="4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f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5610960" y="4179600"/>
                <a:ext cx="72720" cy="5040"/>
              </a:xfrm>
              <a:prstGeom prst="rect">
                <a:avLst/>
              </a:prstGeom>
              <a:solidFill>
                <a:srgbClr val="8c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5610960" y="4179600"/>
                <a:ext cx="72720" cy="360"/>
              </a:xfrm>
              <a:prstGeom prst="rect">
                <a:avLst/>
              </a:prstGeom>
              <a:solidFill>
                <a:srgbClr val="e0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5610960" y="4179600"/>
                <a:ext cx="72720" cy="5040"/>
              </a:xfrm>
              <a:prstGeom prst="rect">
                <a:avLst/>
              </a:prstGeom>
              <a:solidFill>
                <a:srgbClr val="bf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5649840" y="4161960"/>
                <a:ext cx="33840" cy="2268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25" y="18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5" y="14"/>
                    </a:lnTo>
                    <a:lnTo>
                      <a:pt x="25" y="18"/>
                    </a:lnTo>
                    <a:close/>
                  </a:path>
                </a:pathLst>
              </a:custGeom>
              <a:solidFill>
                <a:srgbClr val="8c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5649840" y="4157280"/>
                <a:ext cx="33840" cy="2232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25" y="18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5" y="18"/>
                    </a:lnTo>
                    <a:lnTo>
                      <a:pt x="25" y="18"/>
                    </a:lnTo>
                    <a:close/>
                  </a:path>
                </a:pathLst>
              </a:custGeom>
              <a:solidFill>
                <a:srgbClr val="e0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649840" y="4157280"/>
                <a:ext cx="33840" cy="2736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25" y="18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5" y="22"/>
                    </a:lnTo>
                    <a:lnTo>
                      <a:pt x="25" y="18"/>
                    </a:lnTo>
                    <a:close/>
                  </a:path>
                </a:pathLst>
              </a:custGeom>
              <a:solidFill>
                <a:srgbClr val="bf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5610960" y="4161960"/>
                <a:ext cx="38520" cy="2268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0" y="18"/>
                    </a:moveTo>
                    <a:lnTo>
                      <a:pt x="29" y="4"/>
                    </a:lnTo>
                    <a:lnTo>
                      <a:pt x="29" y="0"/>
                    </a:lnTo>
                    <a:lnTo>
                      <a:pt x="0" y="1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8c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5610960" y="4157280"/>
                <a:ext cx="38520" cy="2232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0" y="18"/>
                    </a:moveTo>
                    <a:lnTo>
                      <a:pt x="29" y="4"/>
                    </a:lnTo>
                    <a:lnTo>
                      <a:pt x="29" y="0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0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5610960" y="4157280"/>
                <a:ext cx="38520" cy="2736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0" y="18"/>
                    </a:moveTo>
                    <a:lnTo>
                      <a:pt x="29" y="0"/>
                    </a:lnTo>
                    <a:lnTo>
                      <a:pt x="29" y="4"/>
                    </a:lnTo>
                    <a:lnTo>
                      <a:pt x="0" y="22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bf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5614920" y="4189680"/>
                <a:ext cx="63000" cy="396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5614920" y="4185000"/>
                <a:ext cx="63000" cy="4680"/>
              </a:xfrm>
              <a:prstGeom prst="rect">
                <a:avLst/>
              </a:prstGeom>
              <a:solidFill>
                <a:srgbClr val="c7c7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614920" y="4189680"/>
                <a:ext cx="63000" cy="36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610960" y="4303080"/>
                <a:ext cx="72720" cy="5040"/>
              </a:xfrm>
              <a:prstGeom prst="rect">
                <a:avLst/>
              </a:prstGeom>
              <a:solidFill>
                <a:srgbClr val="8c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5610960" y="4299120"/>
                <a:ext cx="72720" cy="3600"/>
              </a:xfrm>
              <a:prstGeom prst="rect">
                <a:avLst/>
              </a:prstGeom>
              <a:solidFill>
                <a:srgbClr val="e0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5610960" y="4303080"/>
                <a:ext cx="72720" cy="360"/>
              </a:xfrm>
              <a:prstGeom prst="rect">
                <a:avLst/>
              </a:prstGeom>
              <a:solidFill>
                <a:srgbClr val="bf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620320" y="4193640"/>
                <a:ext cx="54000" cy="10548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620320" y="4193640"/>
                <a:ext cx="54000" cy="10548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5624640" y="4198680"/>
                <a:ext cx="44280" cy="9540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624640" y="4198680"/>
                <a:ext cx="38880" cy="95400"/>
              </a:xfrm>
              <a:prstGeom prst="rect">
                <a:avLst/>
              </a:prstGeom>
              <a:solidFill>
                <a:srgbClr val="404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5624640" y="4226400"/>
                <a:ext cx="44280" cy="360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5624640" y="4226400"/>
                <a:ext cx="44280" cy="360"/>
              </a:xfrm>
              <a:prstGeom prst="rect">
                <a:avLst/>
              </a:prstGeom>
              <a:solidFill>
                <a:srgbClr val="c7c7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5624640" y="4226400"/>
                <a:ext cx="44280" cy="36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5644800" y="4226400"/>
                <a:ext cx="360" cy="6768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644800" y="4226400"/>
                <a:ext cx="5040" cy="67680"/>
              </a:xfrm>
              <a:prstGeom prst="rect">
                <a:avLst/>
              </a:prstGeom>
              <a:solidFill>
                <a:srgbClr val="c7c7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5644800" y="4226400"/>
                <a:ext cx="360" cy="6768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624640" y="4244040"/>
                <a:ext cx="44280" cy="36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624640" y="4240080"/>
                <a:ext cx="44280" cy="3600"/>
              </a:xfrm>
              <a:prstGeom prst="rect">
                <a:avLst/>
              </a:prstGeom>
              <a:solidFill>
                <a:srgbClr val="c7c7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5624640" y="4244040"/>
                <a:ext cx="44280" cy="36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5624640" y="4262760"/>
                <a:ext cx="44280" cy="36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624640" y="4257720"/>
                <a:ext cx="44280" cy="5040"/>
              </a:xfrm>
              <a:prstGeom prst="rect">
                <a:avLst/>
              </a:prstGeom>
              <a:solidFill>
                <a:srgbClr val="c7c7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5624640" y="4262760"/>
                <a:ext cx="44280" cy="36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5624640" y="4280400"/>
                <a:ext cx="44280" cy="36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624640" y="4275360"/>
                <a:ext cx="44280" cy="5040"/>
              </a:xfrm>
              <a:prstGeom prst="rect">
                <a:avLst/>
              </a:prstGeom>
              <a:solidFill>
                <a:srgbClr val="c7c7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5624640" y="4275360"/>
                <a:ext cx="44280" cy="504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5674320" y="4193640"/>
                <a:ext cx="18720" cy="10548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5693400" y="4193640"/>
                <a:ext cx="5040" cy="105480"/>
              </a:xfrm>
              <a:prstGeom prst="rect">
                <a:avLst/>
              </a:prstGeom>
              <a:solidFill>
                <a:srgbClr val="c2c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5600160" y="4193640"/>
                <a:ext cx="20160" cy="10548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5596200" y="4193640"/>
                <a:ext cx="3960" cy="105480"/>
              </a:xfrm>
              <a:prstGeom prst="rect">
                <a:avLst/>
              </a:prstGeom>
              <a:solidFill>
                <a:srgbClr val="c2c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5493600" y="4179600"/>
                <a:ext cx="72720" cy="5040"/>
              </a:xfrm>
              <a:prstGeom prst="rect">
                <a:avLst/>
              </a:prstGeom>
              <a:solidFill>
                <a:srgbClr val="8c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5493600" y="4179600"/>
                <a:ext cx="72720" cy="360"/>
              </a:xfrm>
              <a:prstGeom prst="rect">
                <a:avLst/>
              </a:prstGeom>
              <a:solidFill>
                <a:srgbClr val="e0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493600" y="4179600"/>
                <a:ext cx="72720" cy="5040"/>
              </a:xfrm>
              <a:prstGeom prst="rect">
                <a:avLst/>
              </a:prstGeom>
              <a:solidFill>
                <a:srgbClr val="bf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532840" y="4161960"/>
                <a:ext cx="33480" cy="2268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25" y="18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5" y="14"/>
                    </a:lnTo>
                    <a:lnTo>
                      <a:pt x="25" y="18"/>
                    </a:lnTo>
                    <a:close/>
                  </a:path>
                </a:pathLst>
              </a:custGeom>
              <a:solidFill>
                <a:srgbClr val="8c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532840" y="415728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25" y="18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5" y="18"/>
                    </a:lnTo>
                    <a:lnTo>
                      <a:pt x="25" y="18"/>
                    </a:lnTo>
                    <a:close/>
                  </a:path>
                </a:pathLst>
              </a:custGeom>
              <a:solidFill>
                <a:srgbClr val="e0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532840" y="4157280"/>
                <a:ext cx="33480" cy="27360"/>
              </a:xfrm>
              <a:custGeom>
                <a:avLst/>
                <a:gdLst/>
                <a:ahLst/>
                <a:rect l="l" t="t" r="r" b="b"/>
                <a:pathLst>
                  <a:path w="25" h="22">
                    <a:moveTo>
                      <a:pt x="25" y="18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5" y="22"/>
                    </a:lnTo>
                    <a:lnTo>
                      <a:pt x="25" y="18"/>
                    </a:lnTo>
                    <a:close/>
                  </a:path>
                </a:pathLst>
              </a:custGeom>
              <a:solidFill>
                <a:srgbClr val="bf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493600" y="4161960"/>
                <a:ext cx="38880" cy="2268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0" y="18"/>
                    </a:moveTo>
                    <a:lnTo>
                      <a:pt x="29" y="4"/>
                    </a:lnTo>
                    <a:lnTo>
                      <a:pt x="29" y="0"/>
                    </a:lnTo>
                    <a:lnTo>
                      <a:pt x="0" y="14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8c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493600" y="4157280"/>
                <a:ext cx="38880" cy="2232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0" y="18"/>
                    </a:moveTo>
                    <a:lnTo>
                      <a:pt x="29" y="4"/>
                    </a:lnTo>
                    <a:lnTo>
                      <a:pt x="29" y="0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0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493600" y="4157280"/>
                <a:ext cx="38880" cy="2736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0" y="18"/>
                    </a:moveTo>
                    <a:lnTo>
                      <a:pt x="29" y="0"/>
                    </a:lnTo>
                    <a:lnTo>
                      <a:pt x="29" y="4"/>
                    </a:lnTo>
                    <a:lnTo>
                      <a:pt x="0" y="22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bf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5497560" y="4189680"/>
                <a:ext cx="68760" cy="396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5497560" y="4185000"/>
                <a:ext cx="68760" cy="4680"/>
              </a:xfrm>
              <a:prstGeom prst="rect">
                <a:avLst/>
              </a:prstGeom>
              <a:solidFill>
                <a:srgbClr val="c7c7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5497560" y="4189680"/>
                <a:ext cx="68760" cy="36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5493600" y="4303080"/>
                <a:ext cx="72720" cy="5040"/>
              </a:xfrm>
              <a:prstGeom prst="rect">
                <a:avLst/>
              </a:prstGeom>
              <a:solidFill>
                <a:srgbClr val="8c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5493600" y="4299120"/>
                <a:ext cx="72720" cy="3600"/>
              </a:xfrm>
              <a:prstGeom prst="rect">
                <a:avLst/>
              </a:prstGeom>
              <a:solidFill>
                <a:srgbClr val="e0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5493600" y="4303080"/>
                <a:ext cx="72720" cy="360"/>
              </a:xfrm>
              <a:prstGeom prst="rect">
                <a:avLst/>
              </a:prstGeom>
              <a:solidFill>
                <a:srgbClr val="bf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5502960" y="4193640"/>
                <a:ext cx="53640" cy="10548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502960" y="4193640"/>
                <a:ext cx="53640" cy="10548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506920" y="4198680"/>
                <a:ext cx="44640" cy="9540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506920" y="4198680"/>
                <a:ext cx="38880" cy="95400"/>
              </a:xfrm>
              <a:prstGeom prst="rect">
                <a:avLst/>
              </a:prstGeom>
              <a:solidFill>
                <a:srgbClr val="404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506920" y="4226400"/>
                <a:ext cx="44640" cy="360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506920" y="4226400"/>
                <a:ext cx="44640" cy="360"/>
              </a:xfrm>
              <a:prstGeom prst="rect">
                <a:avLst/>
              </a:prstGeom>
              <a:solidFill>
                <a:srgbClr val="c7c7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506920" y="4226400"/>
                <a:ext cx="44640" cy="36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527440" y="4226400"/>
                <a:ext cx="360" cy="6768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527440" y="4226400"/>
                <a:ext cx="5400" cy="67680"/>
              </a:xfrm>
              <a:prstGeom prst="rect">
                <a:avLst/>
              </a:prstGeom>
              <a:solidFill>
                <a:srgbClr val="c7c7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527440" y="4226400"/>
                <a:ext cx="5400" cy="6768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506920" y="4244040"/>
                <a:ext cx="44640" cy="36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5506920" y="4240080"/>
                <a:ext cx="44640" cy="3600"/>
              </a:xfrm>
              <a:prstGeom prst="rect">
                <a:avLst/>
              </a:prstGeom>
              <a:solidFill>
                <a:srgbClr val="c7c7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5506920" y="4244040"/>
                <a:ext cx="44640" cy="36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506920" y="4262760"/>
                <a:ext cx="44640" cy="36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506920" y="4257720"/>
                <a:ext cx="44640" cy="5040"/>
              </a:xfrm>
              <a:prstGeom prst="rect">
                <a:avLst/>
              </a:prstGeom>
              <a:solidFill>
                <a:srgbClr val="c7c7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506920" y="4262760"/>
                <a:ext cx="44640" cy="36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506920" y="4280400"/>
                <a:ext cx="44640" cy="36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506920" y="4275360"/>
                <a:ext cx="44640" cy="5040"/>
              </a:xfrm>
              <a:prstGeom prst="rect">
                <a:avLst/>
              </a:prstGeom>
              <a:solidFill>
                <a:srgbClr val="c7c7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5506920" y="4275360"/>
                <a:ext cx="44640" cy="504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5556960" y="4193640"/>
                <a:ext cx="18720" cy="10548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5576040" y="4193640"/>
                <a:ext cx="5400" cy="105480"/>
              </a:xfrm>
              <a:prstGeom prst="rect">
                <a:avLst/>
              </a:prstGeom>
              <a:solidFill>
                <a:srgbClr val="c2c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482800" y="4193640"/>
                <a:ext cx="20160" cy="10548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5478480" y="4193640"/>
                <a:ext cx="3960" cy="105480"/>
              </a:xfrm>
              <a:prstGeom prst="rect">
                <a:avLst/>
              </a:prstGeom>
              <a:solidFill>
                <a:srgbClr val="c2c2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5830920" y="4185000"/>
                <a:ext cx="97200" cy="4680"/>
              </a:xfrm>
              <a:prstGeom prst="rect">
                <a:avLst/>
              </a:prstGeom>
              <a:solidFill>
                <a:srgbClr val="8c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5830920" y="4179600"/>
                <a:ext cx="97200" cy="5040"/>
              </a:xfrm>
              <a:prstGeom prst="rect">
                <a:avLst/>
              </a:prstGeom>
              <a:solidFill>
                <a:srgbClr val="e0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5830920" y="4185000"/>
                <a:ext cx="97200" cy="4680"/>
              </a:xfrm>
              <a:prstGeom prst="rect">
                <a:avLst/>
              </a:prstGeom>
              <a:solidFill>
                <a:srgbClr val="bf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5840280" y="4193640"/>
                <a:ext cx="78120" cy="972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5840280" y="4189680"/>
                <a:ext cx="78120" cy="3960"/>
              </a:xfrm>
              <a:prstGeom prst="rect">
                <a:avLst/>
              </a:prstGeom>
              <a:solidFill>
                <a:srgbClr val="c7c7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840280" y="4193640"/>
                <a:ext cx="78120" cy="468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834880" y="4311720"/>
                <a:ext cx="88920" cy="5040"/>
              </a:xfrm>
              <a:prstGeom prst="rect">
                <a:avLst/>
              </a:prstGeom>
              <a:solidFill>
                <a:srgbClr val="8c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834880" y="4308120"/>
                <a:ext cx="88920" cy="3600"/>
              </a:xfrm>
              <a:prstGeom prst="rect">
                <a:avLst/>
              </a:prstGeom>
              <a:solidFill>
                <a:srgbClr val="e0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834880" y="4311720"/>
                <a:ext cx="88920" cy="360"/>
              </a:xfrm>
              <a:prstGeom prst="rect">
                <a:avLst/>
              </a:prstGeom>
              <a:solidFill>
                <a:srgbClr val="bf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845680" y="4203720"/>
                <a:ext cx="66960" cy="10800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849640" y="4203720"/>
                <a:ext cx="59040" cy="10440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855400" y="4207320"/>
                <a:ext cx="48240" cy="9540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855400" y="4207320"/>
                <a:ext cx="42840" cy="95400"/>
              </a:xfrm>
              <a:prstGeom prst="rect">
                <a:avLst/>
              </a:prstGeom>
              <a:solidFill>
                <a:srgbClr val="404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855400" y="4235040"/>
                <a:ext cx="48240" cy="504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855400" y="4235040"/>
                <a:ext cx="48240" cy="360"/>
              </a:xfrm>
              <a:prstGeom prst="rect">
                <a:avLst/>
              </a:prstGeom>
              <a:solidFill>
                <a:srgbClr val="c7c7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855400" y="4235040"/>
                <a:ext cx="48240" cy="36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879520" y="4235040"/>
                <a:ext cx="360" cy="6768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873760" y="4235040"/>
                <a:ext cx="5400" cy="67680"/>
              </a:xfrm>
              <a:prstGeom prst="rect">
                <a:avLst/>
              </a:prstGeom>
              <a:solidFill>
                <a:srgbClr val="c7c7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879520" y="4235040"/>
                <a:ext cx="360" cy="6768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855400" y="4252680"/>
                <a:ext cx="48240" cy="36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855400" y="4249080"/>
                <a:ext cx="48240" cy="3600"/>
              </a:xfrm>
              <a:prstGeom prst="rect">
                <a:avLst/>
              </a:prstGeom>
              <a:solidFill>
                <a:srgbClr val="c7c7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5855400" y="4252680"/>
                <a:ext cx="48240" cy="36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5855400" y="4271760"/>
                <a:ext cx="48240" cy="36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5855400" y="4266360"/>
                <a:ext cx="48240" cy="5040"/>
              </a:xfrm>
              <a:prstGeom prst="rect">
                <a:avLst/>
              </a:prstGeom>
              <a:solidFill>
                <a:srgbClr val="c7c7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855400" y="4271760"/>
                <a:ext cx="48240" cy="36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855400" y="4285440"/>
                <a:ext cx="48240" cy="360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855400" y="4285440"/>
                <a:ext cx="48240" cy="360"/>
              </a:xfrm>
              <a:prstGeom prst="rect">
                <a:avLst/>
              </a:prstGeom>
              <a:solidFill>
                <a:srgbClr val="c7c7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855400" y="4285440"/>
                <a:ext cx="48240" cy="360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5825520" y="4203720"/>
                <a:ext cx="20160" cy="10440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5820120" y="4203720"/>
                <a:ext cx="5400" cy="10440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5909040" y="4203720"/>
                <a:ext cx="24120" cy="10440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5933160" y="4203720"/>
                <a:ext cx="360" cy="10440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5981760" y="4185000"/>
                <a:ext cx="92880" cy="4680"/>
              </a:xfrm>
              <a:prstGeom prst="rect">
                <a:avLst/>
              </a:prstGeom>
              <a:solidFill>
                <a:srgbClr val="8c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981760" y="4179600"/>
                <a:ext cx="92880" cy="5040"/>
              </a:xfrm>
              <a:prstGeom prst="rect">
                <a:avLst/>
              </a:prstGeom>
              <a:solidFill>
                <a:srgbClr val="e0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981760" y="4185000"/>
                <a:ext cx="92880" cy="4680"/>
              </a:xfrm>
              <a:prstGeom prst="rect">
                <a:avLst/>
              </a:prstGeom>
              <a:solidFill>
                <a:srgbClr val="bf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991480" y="4193640"/>
                <a:ext cx="78120" cy="972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5991480" y="4189680"/>
                <a:ext cx="78120" cy="3960"/>
              </a:xfrm>
              <a:prstGeom prst="rect">
                <a:avLst/>
              </a:prstGeom>
              <a:solidFill>
                <a:srgbClr val="c7c7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5991480" y="4193640"/>
                <a:ext cx="78120" cy="468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987520" y="4311720"/>
                <a:ext cx="82080" cy="5040"/>
              </a:xfrm>
              <a:prstGeom prst="rect">
                <a:avLst/>
              </a:prstGeom>
              <a:solidFill>
                <a:srgbClr val="8c8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987520" y="4308120"/>
                <a:ext cx="82080" cy="3600"/>
              </a:xfrm>
              <a:prstGeom prst="rect">
                <a:avLst/>
              </a:prstGeom>
              <a:solidFill>
                <a:srgbClr val="e0e0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987520" y="4311720"/>
                <a:ext cx="82080" cy="360"/>
              </a:xfrm>
              <a:prstGeom prst="rect">
                <a:avLst/>
              </a:prstGeom>
              <a:solidFill>
                <a:srgbClr val="bfb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996880" y="4203720"/>
                <a:ext cx="63000" cy="10800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996880" y="4203720"/>
                <a:ext cx="63000" cy="10440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6006240" y="4207320"/>
                <a:ext cx="44280" cy="9540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006240" y="4207320"/>
                <a:ext cx="44280" cy="95400"/>
              </a:xfrm>
              <a:prstGeom prst="rect">
                <a:avLst/>
              </a:prstGeom>
              <a:solidFill>
                <a:srgbClr val="404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6006240" y="4235040"/>
                <a:ext cx="48240" cy="504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6006240" y="4235040"/>
                <a:ext cx="48240" cy="360"/>
              </a:xfrm>
              <a:prstGeom prst="rect">
                <a:avLst/>
              </a:prstGeom>
              <a:solidFill>
                <a:srgbClr val="c7c7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6006240" y="4235040"/>
                <a:ext cx="48240" cy="36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6026400" y="4235040"/>
                <a:ext cx="3960" cy="67680"/>
              </a:xfrm>
              <a:prstGeom prst="rect">
                <a:avLst/>
              </a:prstGeom>
              <a:solidFill>
                <a:srgbClr val="7373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6026400" y="4235040"/>
                <a:ext cx="360" cy="67680"/>
              </a:xfrm>
              <a:prstGeom prst="rect">
                <a:avLst/>
              </a:prstGeom>
              <a:solidFill>
                <a:srgbClr val="c7c7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026400" y="4235040"/>
                <a:ext cx="3960" cy="67680"/>
              </a:xfrm>
              <a:prstGeom prst="rect">
                <a:avLst/>
              </a:prstGeom>
              <a:solidFill>
                <a:srgbClr val="a6a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4" name=""/>
            <p:cNvSpPr/>
            <p:nvPr/>
          </p:nvSpPr>
          <p:spPr>
            <a:xfrm>
              <a:off x="6006600" y="4249440"/>
              <a:ext cx="48240" cy="360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006600" y="4266720"/>
              <a:ext cx="48240" cy="504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6006600" y="4285800"/>
              <a:ext cx="48240" cy="36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006600" y="4285800"/>
              <a:ext cx="48240" cy="360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972400" y="4204080"/>
              <a:ext cx="24120" cy="1044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060240" y="4204080"/>
              <a:ext cx="24120" cy="1044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6133320" y="4185360"/>
              <a:ext cx="92880" cy="4680"/>
            </a:xfrm>
            <a:prstGeom prst="rect">
              <a:avLst/>
            </a:pr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133320" y="4179960"/>
              <a:ext cx="92880" cy="5040"/>
            </a:xfrm>
            <a:prstGeom prst="rect">
              <a:avLst/>
            </a:pr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133320" y="4185360"/>
              <a:ext cx="92880" cy="4680"/>
            </a:xfrm>
            <a:prstGeom prst="rect">
              <a:avLst/>
            </a:pr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138720" y="4194000"/>
              <a:ext cx="78120" cy="972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6138720" y="4190040"/>
              <a:ext cx="78120" cy="396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138720" y="4194000"/>
              <a:ext cx="78120" cy="468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6133320" y="4312080"/>
              <a:ext cx="88920" cy="5040"/>
            </a:xfrm>
            <a:prstGeom prst="rect">
              <a:avLst/>
            </a:pr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133320" y="4308480"/>
              <a:ext cx="88920" cy="3600"/>
            </a:xfrm>
            <a:prstGeom prst="rect">
              <a:avLst/>
            </a:pr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143760" y="4204080"/>
              <a:ext cx="63360" cy="1080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148080" y="4204080"/>
              <a:ext cx="59040" cy="10440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153480" y="4207680"/>
              <a:ext cx="48600" cy="954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158880" y="4207680"/>
              <a:ext cx="42840" cy="95400"/>
            </a:xfrm>
            <a:prstGeom prst="rect">
              <a:avLst/>
            </a:prstGeom>
            <a:solidFill>
              <a:srgbClr val="404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153480" y="4235400"/>
              <a:ext cx="48600" cy="50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177960" y="4235400"/>
              <a:ext cx="5040" cy="6768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172200" y="4235400"/>
              <a:ext cx="5400" cy="6768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153480" y="4249440"/>
              <a:ext cx="48600" cy="360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153480" y="4266720"/>
              <a:ext cx="48600" cy="504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153480" y="4285800"/>
              <a:ext cx="48600" cy="36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6153480" y="4285800"/>
              <a:ext cx="48600" cy="360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6123600" y="4204080"/>
              <a:ext cx="24120" cy="1044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6119640" y="4204080"/>
              <a:ext cx="3960" cy="10440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207480" y="4204080"/>
              <a:ext cx="24120" cy="1044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231600" y="4204080"/>
              <a:ext cx="3960" cy="10440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280200" y="4185360"/>
              <a:ext cx="92880" cy="4680"/>
            </a:xfrm>
            <a:prstGeom prst="rect">
              <a:avLst/>
            </a:pr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280200" y="4179960"/>
              <a:ext cx="92880" cy="5040"/>
            </a:xfrm>
            <a:prstGeom prst="rect">
              <a:avLst/>
            </a:pr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280200" y="4185360"/>
              <a:ext cx="92880" cy="4680"/>
            </a:xfrm>
            <a:prstGeom prst="rect">
              <a:avLst/>
            </a:pr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285600" y="4194000"/>
              <a:ext cx="78120" cy="972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285600" y="4190040"/>
              <a:ext cx="78120" cy="396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285600" y="4194000"/>
              <a:ext cx="78120" cy="468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285600" y="4312080"/>
              <a:ext cx="82080" cy="5040"/>
            </a:xfrm>
            <a:prstGeom prst="rect">
              <a:avLst/>
            </a:pr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285600" y="4308480"/>
              <a:ext cx="82080" cy="3600"/>
            </a:xfrm>
            <a:prstGeom prst="rect">
              <a:avLst/>
            </a:pr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294960" y="4204080"/>
              <a:ext cx="63360" cy="1080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294960" y="4204080"/>
              <a:ext cx="63360" cy="10440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300720" y="4207680"/>
              <a:ext cx="52560" cy="954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304680" y="4207680"/>
              <a:ext cx="44640" cy="95400"/>
            </a:xfrm>
            <a:prstGeom prst="rect">
              <a:avLst/>
            </a:prstGeom>
            <a:solidFill>
              <a:srgbClr val="404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300720" y="4235400"/>
              <a:ext cx="52560" cy="50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324840" y="4235400"/>
              <a:ext cx="3960" cy="6768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324840" y="4235400"/>
              <a:ext cx="3960" cy="6768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300720" y="4249440"/>
              <a:ext cx="52560" cy="360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300720" y="4266720"/>
              <a:ext cx="52560" cy="504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6300720" y="4285800"/>
              <a:ext cx="52560" cy="36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300720" y="4285800"/>
              <a:ext cx="52560" cy="360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270840" y="4204080"/>
              <a:ext cx="24120" cy="1044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358680" y="4204080"/>
              <a:ext cx="24120" cy="1044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427080" y="4185360"/>
              <a:ext cx="97200" cy="4680"/>
            </a:xfrm>
            <a:prstGeom prst="rect">
              <a:avLst/>
            </a:pr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6427080" y="4179960"/>
              <a:ext cx="97200" cy="5040"/>
            </a:xfrm>
            <a:prstGeom prst="rect">
              <a:avLst/>
            </a:pr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427080" y="4185360"/>
              <a:ext cx="97200" cy="4680"/>
            </a:xfrm>
            <a:prstGeom prst="rect">
              <a:avLst/>
            </a:prstGeom>
            <a:solidFill>
              <a:srgbClr val="bfbf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436800" y="4194000"/>
              <a:ext cx="78120" cy="972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436800" y="4190040"/>
              <a:ext cx="78120" cy="396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436800" y="4194000"/>
              <a:ext cx="78120" cy="468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431400" y="4312080"/>
              <a:ext cx="88920" cy="5040"/>
            </a:xfrm>
            <a:prstGeom prst="rect">
              <a:avLst/>
            </a:prstGeom>
            <a:solidFill>
              <a:srgbClr val="8c8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431400" y="4308480"/>
              <a:ext cx="88920" cy="3600"/>
            </a:xfrm>
            <a:prstGeom prst="rect">
              <a:avLst/>
            </a:prstGeom>
            <a:solidFill>
              <a:srgbClr val="e0e0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442200" y="4204080"/>
              <a:ext cx="66960" cy="1080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446160" y="4204080"/>
              <a:ext cx="59040" cy="10440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451560" y="4207680"/>
              <a:ext cx="48600" cy="954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451560" y="4207680"/>
              <a:ext cx="48600" cy="95400"/>
            </a:xfrm>
            <a:prstGeom prst="rect">
              <a:avLst/>
            </a:prstGeom>
            <a:solidFill>
              <a:srgbClr val="404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451560" y="4235400"/>
              <a:ext cx="48600" cy="504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476040" y="4235400"/>
              <a:ext cx="5400" cy="6768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470640" y="4235400"/>
              <a:ext cx="5040" cy="6768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451560" y="4249440"/>
              <a:ext cx="48600" cy="360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451560" y="4266720"/>
              <a:ext cx="48600" cy="5040"/>
            </a:xfrm>
            <a:prstGeom prst="rect">
              <a:avLst/>
            </a:prstGeom>
            <a:solidFill>
              <a:srgbClr val="c7c7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6451560" y="4285800"/>
              <a:ext cx="48600" cy="36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451560" y="4285800"/>
              <a:ext cx="48600" cy="360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422040" y="4204080"/>
              <a:ext cx="24120" cy="1044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418080" y="4204080"/>
              <a:ext cx="3960" cy="10440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509520" y="4204080"/>
              <a:ext cx="20160" cy="104400"/>
            </a:xfrm>
            <a:prstGeom prst="rect">
              <a:avLst/>
            </a:prstGeom>
            <a:solidFill>
              <a:srgbClr val="7373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530040" y="4204080"/>
              <a:ext cx="5040" cy="104400"/>
            </a:xfrm>
            <a:prstGeom prst="rect">
              <a:avLst/>
            </a:prstGeom>
            <a:solidFill>
              <a:srgbClr val="a6a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5941800" y="3963600"/>
              <a:ext cx="497520" cy="150840"/>
            </a:xfrm>
            <a:custGeom>
              <a:avLst/>
              <a:gdLst/>
              <a:ahLst/>
              <a:rect l="l" t="t" r="r" b="b"/>
              <a:pathLst>
                <a:path w="369" h="120">
                  <a:moveTo>
                    <a:pt x="74" y="0"/>
                  </a:moveTo>
                  <a:lnTo>
                    <a:pt x="294" y="1"/>
                  </a:lnTo>
                  <a:lnTo>
                    <a:pt x="369" y="120"/>
                  </a:lnTo>
                  <a:lnTo>
                    <a:pt x="0" y="12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633d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8" name=""/>
          <p:cNvSpPr/>
          <p:nvPr/>
        </p:nvSpPr>
        <p:spPr>
          <a:xfrm>
            <a:off x="7569360" y="5029200"/>
            <a:ext cx="1012680" cy="609480"/>
          </a:xfrm>
          <a:custGeom>
            <a:avLst/>
            <a:gdLst/>
            <a:ahLst/>
            <a:rect l="l" t="t" r="r" b="b"/>
            <a:pathLst>
              <a:path w="638" h="384">
                <a:moveTo>
                  <a:pt x="80" y="384"/>
                </a:moveTo>
                <a:cubicBezTo>
                  <a:pt x="42" y="262"/>
                  <a:pt x="0" y="154"/>
                  <a:pt x="80" y="134"/>
                </a:cubicBezTo>
                <a:cubicBezTo>
                  <a:pt x="160" y="114"/>
                  <a:pt x="478" y="284"/>
                  <a:pt x="558" y="262"/>
                </a:cubicBezTo>
                <a:cubicBezTo>
                  <a:pt x="638" y="240"/>
                  <a:pt x="600" y="140"/>
                  <a:pt x="56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1371600" y="3886200"/>
            <a:ext cx="3962520" cy="533520"/>
          </a:xfrm>
          <a:prstGeom prst="rightArrow">
            <a:avLst>
              <a:gd name="adj1" fmla="val 38537"/>
              <a:gd name="adj2" fmla="val 70558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038480" y="4952880"/>
            <a:ext cx="1067040" cy="533520"/>
          </a:xfrm>
          <a:prstGeom prst="rightArrow">
            <a:avLst>
              <a:gd name="adj1" fmla="val 41667"/>
              <a:gd name="adj2" fmla="val 7291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971800" y="4952880"/>
            <a:ext cx="1066680" cy="533520"/>
          </a:xfrm>
          <a:prstGeom prst="rightArrow">
            <a:avLst>
              <a:gd name="adj1" fmla="val 41667"/>
              <a:gd name="adj2" fmla="val 7289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1905120" y="4952880"/>
            <a:ext cx="1066680" cy="533520"/>
          </a:xfrm>
          <a:prstGeom prst="rightArrow">
            <a:avLst>
              <a:gd name="adj1" fmla="val 41667"/>
              <a:gd name="adj2" fmla="val 7289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838080" y="4952880"/>
            <a:ext cx="1067040" cy="533520"/>
          </a:xfrm>
          <a:prstGeom prst="rightArrow">
            <a:avLst>
              <a:gd name="adj1" fmla="val 41667"/>
              <a:gd name="adj2" fmla="val 7291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105520" y="4952880"/>
            <a:ext cx="1066680" cy="533520"/>
          </a:xfrm>
          <a:prstGeom prst="rightArrow">
            <a:avLst>
              <a:gd name="adj1" fmla="val 41667"/>
              <a:gd name="adj2" fmla="val 72892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277920" y="2514600"/>
            <a:ext cx="1322280" cy="1523880"/>
          </a:xfrm>
          <a:custGeom>
            <a:avLst/>
            <a:gdLst/>
            <a:ahLst/>
            <a:rect l="l" t="t" r="r" b="b"/>
            <a:pathLst>
              <a:path w="977" h="912">
                <a:moveTo>
                  <a:pt x="401" y="0"/>
                </a:moveTo>
                <a:cubicBezTo>
                  <a:pt x="229" y="104"/>
                  <a:pt x="0" y="175"/>
                  <a:pt x="96" y="327"/>
                </a:cubicBezTo>
                <a:cubicBezTo>
                  <a:pt x="192" y="479"/>
                  <a:pt x="793" y="790"/>
                  <a:pt x="977" y="912"/>
                </a:cubicBezTo>
              </a:path>
            </a:pathLst>
          </a:custGeom>
          <a:noFill/>
          <a:ln w="28440">
            <a:solidFill>
              <a:srgbClr val="0099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28600" y="3033720"/>
            <a:ext cx="1066680" cy="1995480"/>
          </a:xfrm>
          <a:custGeom>
            <a:avLst/>
            <a:gdLst/>
            <a:ahLst/>
            <a:rect l="l" t="t" r="r" b="b"/>
            <a:pathLst>
              <a:path w="672" h="1257">
                <a:moveTo>
                  <a:pt x="355" y="0"/>
                </a:moveTo>
                <a:cubicBezTo>
                  <a:pt x="180" y="106"/>
                  <a:pt x="0" y="248"/>
                  <a:pt x="66" y="456"/>
                </a:cubicBezTo>
                <a:cubicBezTo>
                  <a:pt x="132" y="664"/>
                  <a:pt x="545" y="1090"/>
                  <a:pt x="672" y="1257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1128960" y="43434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2119680" y="43434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262680" y="43434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4329360" y="43434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5396040" y="43434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1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500"/>
                            </p:stCondLst>
                            <p:childTnLst>
                              <p:par>
                                <p:cTn id="71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3" dur="5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5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50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2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2543040" y="30510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enguiat Bk BT"/>
              </a:rPr>
              <a:t>Rencana Pengemban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409680" y="3886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nguiat Bk BT"/>
              </a:rPr>
              <a:t>SUMBERDA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6810480" y="38862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nguiat Bk BT"/>
              </a:rPr>
              <a:t>PR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 flipH="1">
            <a:off x="1780920" y="2057400"/>
            <a:ext cx="1981080" cy="1676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514840" y="2057400"/>
            <a:ext cx="1981440" cy="17524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152880" y="4114800"/>
            <a:ext cx="3429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147636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Kelaik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353280" y="2438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Kebolehja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686040" y="40384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Kemungkin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533760" y="47242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enguiat Bk BT"/>
              </a:rPr>
              <a:t>Manajemen Sumberd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228840" y="603396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nguiat Bk BT"/>
              </a:rPr>
              <a:t>KEMAMPU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1933560" y="4343400"/>
            <a:ext cx="2209680" cy="17524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 flipH="1">
            <a:off x="4981320" y="4343400"/>
            <a:ext cx="2438280" cy="17524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152960" y="1522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nguiat Bk BT"/>
              </a:rPr>
              <a:t>Vi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6" name=""/>
          <p:cNvGrpSpPr/>
          <p:nvPr/>
        </p:nvGrpSpPr>
        <p:grpSpPr>
          <a:xfrm>
            <a:off x="1752480" y="76320"/>
            <a:ext cx="6048360" cy="825480"/>
            <a:chOff x="1752480" y="76320"/>
            <a:chExt cx="6048360" cy="825480"/>
          </a:xfrm>
        </p:grpSpPr>
        <p:sp>
          <p:nvSpPr>
            <p:cNvPr id="2067" name=""/>
            <p:cNvSpPr/>
            <p:nvPr/>
          </p:nvSpPr>
          <p:spPr>
            <a:xfrm>
              <a:off x="1752480" y="76320"/>
              <a:ext cx="118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kto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er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276960" y="7632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kto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kster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9" name=""/>
          <p:cNvGrpSpPr/>
          <p:nvPr/>
        </p:nvGrpSpPr>
        <p:grpSpPr>
          <a:xfrm>
            <a:off x="3048120" y="380880"/>
            <a:ext cx="3076560" cy="0"/>
            <a:chOff x="3048120" y="380880"/>
            <a:chExt cx="3076560" cy="0"/>
          </a:xfrm>
        </p:grpSpPr>
        <p:sp>
          <p:nvSpPr>
            <p:cNvPr id="2070" name=""/>
            <p:cNvSpPr/>
            <p:nvPr/>
          </p:nvSpPr>
          <p:spPr>
            <a:xfrm>
              <a:off x="3048120" y="380880"/>
              <a:ext cx="99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H="1">
              <a:off x="5057640" y="380880"/>
              <a:ext cx="1067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2" name=""/>
          <p:cNvSpPr/>
          <p:nvPr/>
        </p:nvSpPr>
        <p:spPr>
          <a:xfrm>
            <a:off x="6505560" y="48769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emberdayaan/interak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3" name=""/>
          <p:cNvGrpSpPr/>
          <p:nvPr/>
        </p:nvGrpSpPr>
        <p:grpSpPr>
          <a:xfrm>
            <a:off x="4114800" y="609480"/>
            <a:ext cx="914400" cy="749160"/>
            <a:chOff x="4114800" y="609480"/>
            <a:chExt cx="914400" cy="749160"/>
          </a:xfrm>
        </p:grpSpPr>
        <p:sp>
          <p:nvSpPr>
            <p:cNvPr id="2074" name=""/>
            <p:cNvSpPr/>
            <p:nvPr/>
          </p:nvSpPr>
          <p:spPr>
            <a:xfrm>
              <a:off x="4572000" y="609480"/>
              <a:ext cx="0" cy="32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114800" y="8380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Benguiat Bk BT"/>
                </a:rPr>
                <a:t>Mis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2971800" y="762120"/>
            <a:ext cx="3276360" cy="1906920"/>
            <a:chOff x="2971800" y="762120"/>
            <a:chExt cx="3276360" cy="1906920"/>
          </a:xfrm>
        </p:grpSpPr>
        <p:sp>
          <p:nvSpPr>
            <p:cNvPr id="2077" name=""/>
            <p:cNvSpPr/>
            <p:nvPr/>
          </p:nvSpPr>
          <p:spPr>
            <a:xfrm>
              <a:off x="3733920" y="1600200"/>
              <a:ext cx="1676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Benguiat Bk BT"/>
                </a:rPr>
                <a:t>TUJUA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971800" y="762120"/>
              <a:ext cx="124776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H="1">
              <a:off x="4828680" y="762120"/>
              <a:ext cx="1419480" cy="838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4572000" y="129528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6477120" y="1219320"/>
            <a:ext cx="2361960" cy="914400"/>
            <a:chOff x="6477120" y="1219320"/>
            <a:chExt cx="2361960" cy="914400"/>
          </a:xfrm>
        </p:grpSpPr>
        <p:sp>
          <p:nvSpPr>
            <p:cNvPr id="2082" name=""/>
            <p:cNvSpPr/>
            <p:nvPr/>
          </p:nvSpPr>
          <p:spPr>
            <a:xfrm>
              <a:off x="6477120" y="1219320"/>
              <a:ext cx="2361960" cy="914400"/>
            </a:xfrm>
            <a:prstGeom prst="rect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603840" y="1265400"/>
              <a:ext cx="216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enguiat Bk BT"/>
                </a:rPr>
                <a:t>Implementa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enguiat Bk BT"/>
                </a:rPr>
                <a:t>Strateg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4" name=""/>
          <p:cNvSpPr/>
          <p:nvPr/>
        </p:nvSpPr>
        <p:spPr>
          <a:xfrm>
            <a:off x="990720" y="4800600"/>
            <a:ext cx="20858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Mobilisasi</a:t>
            </a:r>
            <a:br>
              <a:rPr sz="2400"/>
            </a:b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(alokasi, distribusi, penyediaan, pendidikan, pelatihan, pengarah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2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2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0" dur="5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2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2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5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0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9" dur="5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4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3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7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2" dur="5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7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2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6" dur="5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500"/>
                                        <p:tgtEl>
                                          <p:spTgt spid="2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7840" y="1139760"/>
            <a:ext cx="4599000" cy="3724200"/>
          </a:xfrm>
          <a:custGeom>
            <a:avLst/>
            <a:gdLst/>
            <a:ahLst/>
            <a:rect l="l" t="t" r="r" b="b"/>
            <a:pathLst>
              <a:path w="2897" h="2346">
                <a:moveTo>
                  <a:pt x="413" y="971"/>
                </a:moveTo>
                <a:cubicBezTo>
                  <a:pt x="653" y="699"/>
                  <a:pt x="1143" y="284"/>
                  <a:pt x="1472" y="146"/>
                </a:cubicBezTo>
                <a:cubicBezTo>
                  <a:pt x="1801" y="8"/>
                  <a:pt x="2239" y="0"/>
                  <a:pt x="2384" y="146"/>
                </a:cubicBezTo>
                <a:cubicBezTo>
                  <a:pt x="2529" y="292"/>
                  <a:pt x="2262" y="765"/>
                  <a:pt x="2344" y="1020"/>
                </a:cubicBezTo>
                <a:cubicBezTo>
                  <a:pt x="2426" y="1275"/>
                  <a:pt x="2859" y="1473"/>
                  <a:pt x="2878" y="1678"/>
                </a:cubicBezTo>
                <a:cubicBezTo>
                  <a:pt x="2897" y="1883"/>
                  <a:pt x="2838" y="2160"/>
                  <a:pt x="2459" y="2253"/>
                </a:cubicBezTo>
                <a:cubicBezTo>
                  <a:pt x="2080" y="2346"/>
                  <a:pt x="1006" y="2316"/>
                  <a:pt x="602" y="2237"/>
                </a:cubicBezTo>
                <a:cubicBezTo>
                  <a:pt x="198" y="2158"/>
                  <a:pt x="64" y="1989"/>
                  <a:pt x="32" y="1778"/>
                </a:cubicBezTo>
                <a:cubicBezTo>
                  <a:pt x="0" y="1567"/>
                  <a:pt x="173" y="1243"/>
                  <a:pt x="413" y="971"/>
                </a:cubicBez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38880" y="419112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Benguiat Bk BT"/>
              </a:rPr>
              <a:t>Paradigma Ba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nguiat Bk BT"/>
              </a:rPr>
              <a:t>Pengertian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8840" y="2666880"/>
            <a:ext cx="3886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enguiat Bk BT"/>
              </a:rPr>
              <a:t>Evaluas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SzPct val="7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aya </a:t>
            </a:r>
            <a:r>
              <a:rPr b="0" lang="en-US" sz="1600" spc="-1" strike="noStrike">
                <a:solidFill>
                  <a:srgbClr val="ff0066"/>
                </a:solidFill>
                <a:latin typeface="Times New Roman"/>
              </a:rPr>
              <a:t>sistemati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ntuk menghimpun dan mengolah data (fakta dan informasi) yang handal dan syahih, darimana dapat disimpulkan kenyataan, yang dapat digunakan sebagai landasan tindakan manajemen untuk mengelola kelangsungan lembaga atau progr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160800" y="3478320"/>
            <a:ext cx="183960" cy="196920"/>
            <a:chOff x="3160800" y="3478320"/>
            <a:chExt cx="183960" cy="196920"/>
          </a:xfrm>
        </p:grpSpPr>
        <p:sp>
          <p:nvSpPr>
            <p:cNvPr id="94" name=""/>
            <p:cNvSpPr/>
            <p:nvPr/>
          </p:nvSpPr>
          <p:spPr>
            <a:xfrm>
              <a:off x="3283200" y="3561840"/>
              <a:ext cx="61560" cy="106920"/>
            </a:xfrm>
            <a:custGeom>
              <a:avLst/>
              <a:gdLst/>
              <a:ahLst/>
              <a:rect l="l" t="t" r="r" b="b"/>
              <a:pathLst>
                <a:path w="140" h="220">
                  <a:moveTo>
                    <a:pt x="139" y="0"/>
                  </a:moveTo>
                  <a:lnTo>
                    <a:pt x="140" y="7"/>
                  </a:lnTo>
                  <a:lnTo>
                    <a:pt x="140" y="14"/>
                  </a:lnTo>
                  <a:lnTo>
                    <a:pt x="140" y="21"/>
                  </a:lnTo>
                  <a:lnTo>
                    <a:pt x="140" y="29"/>
                  </a:lnTo>
                  <a:lnTo>
                    <a:pt x="139" y="46"/>
                  </a:lnTo>
                  <a:lnTo>
                    <a:pt x="138" y="61"/>
                  </a:lnTo>
                  <a:lnTo>
                    <a:pt x="134" y="77"/>
                  </a:lnTo>
                  <a:lnTo>
                    <a:pt x="129" y="92"/>
                  </a:lnTo>
                  <a:lnTo>
                    <a:pt x="125" y="107"/>
                  </a:lnTo>
                  <a:lnTo>
                    <a:pt x="118" y="121"/>
                  </a:lnTo>
                  <a:lnTo>
                    <a:pt x="109" y="135"/>
                  </a:lnTo>
                  <a:lnTo>
                    <a:pt x="101" y="147"/>
                  </a:lnTo>
                  <a:lnTo>
                    <a:pt x="91" y="160"/>
                  </a:lnTo>
                  <a:lnTo>
                    <a:pt x="81" y="171"/>
                  </a:lnTo>
                  <a:lnTo>
                    <a:pt x="69" y="182"/>
                  </a:lnTo>
                  <a:lnTo>
                    <a:pt x="57" y="191"/>
                  </a:lnTo>
                  <a:lnTo>
                    <a:pt x="44" y="199"/>
                  </a:lnTo>
                  <a:lnTo>
                    <a:pt x="30" y="208"/>
                  </a:lnTo>
                  <a:lnTo>
                    <a:pt x="16" y="214"/>
                  </a:lnTo>
                  <a:lnTo>
                    <a:pt x="0" y="220"/>
                  </a:lnTo>
                  <a:lnTo>
                    <a:pt x="6" y="216"/>
                  </a:lnTo>
                  <a:lnTo>
                    <a:pt x="30" y="198"/>
                  </a:lnTo>
                  <a:lnTo>
                    <a:pt x="51" y="178"/>
                  </a:lnTo>
                  <a:lnTo>
                    <a:pt x="71" y="157"/>
                  </a:lnTo>
                  <a:lnTo>
                    <a:pt x="89" y="133"/>
                  </a:lnTo>
                  <a:lnTo>
                    <a:pt x="105" y="108"/>
                  </a:lnTo>
                  <a:lnTo>
                    <a:pt x="118" y="82"/>
                  </a:lnTo>
                  <a:lnTo>
                    <a:pt x="127" y="53"/>
                  </a:lnTo>
                  <a:lnTo>
                    <a:pt x="135" y="25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e0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53320" y="3533760"/>
              <a:ext cx="90720" cy="141480"/>
            </a:xfrm>
            <a:custGeom>
              <a:avLst/>
              <a:gdLst/>
              <a:ahLst/>
              <a:rect l="l" t="t" r="r" b="b"/>
              <a:pathLst>
                <a:path w="205" h="290">
                  <a:moveTo>
                    <a:pt x="186" y="0"/>
                  </a:moveTo>
                  <a:lnTo>
                    <a:pt x="188" y="6"/>
                  </a:lnTo>
                  <a:lnTo>
                    <a:pt x="191" y="11"/>
                  </a:lnTo>
                  <a:lnTo>
                    <a:pt x="193" y="17"/>
                  </a:lnTo>
                  <a:lnTo>
                    <a:pt x="195" y="23"/>
                  </a:lnTo>
                  <a:lnTo>
                    <a:pt x="187" y="23"/>
                  </a:lnTo>
                  <a:lnTo>
                    <a:pt x="186" y="0"/>
                  </a:lnTo>
                  <a:close/>
                  <a:moveTo>
                    <a:pt x="205" y="64"/>
                  </a:moveTo>
                  <a:lnTo>
                    <a:pt x="205" y="60"/>
                  </a:lnTo>
                  <a:lnTo>
                    <a:pt x="204" y="54"/>
                  </a:lnTo>
                  <a:lnTo>
                    <a:pt x="203" y="49"/>
                  </a:lnTo>
                  <a:lnTo>
                    <a:pt x="201" y="43"/>
                  </a:lnTo>
                  <a:lnTo>
                    <a:pt x="200" y="38"/>
                  </a:lnTo>
                  <a:lnTo>
                    <a:pt x="199" y="32"/>
                  </a:lnTo>
                  <a:lnTo>
                    <a:pt x="197" y="27"/>
                  </a:lnTo>
                  <a:lnTo>
                    <a:pt x="195" y="23"/>
                  </a:lnTo>
                  <a:lnTo>
                    <a:pt x="187" y="23"/>
                  </a:lnTo>
                  <a:lnTo>
                    <a:pt x="186" y="51"/>
                  </a:lnTo>
                  <a:lnTo>
                    <a:pt x="181" y="80"/>
                  </a:lnTo>
                  <a:lnTo>
                    <a:pt x="174" y="107"/>
                  </a:lnTo>
                  <a:lnTo>
                    <a:pt x="165" y="133"/>
                  </a:lnTo>
                  <a:lnTo>
                    <a:pt x="153" y="158"/>
                  </a:lnTo>
                  <a:lnTo>
                    <a:pt x="138" y="182"/>
                  </a:lnTo>
                  <a:lnTo>
                    <a:pt x="122" y="204"/>
                  </a:lnTo>
                  <a:lnTo>
                    <a:pt x="104" y="224"/>
                  </a:lnTo>
                  <a:lnTo>
                    <a:pt x="83" y="243"/>
                  </a:lnTo>
                  <a:lnTo>
                    <a:pt x="61" y="259"/>
                  </a:lnTo>
                  <a:lnTo>
                    <a:pt x="38" y="274"/>
                  </a:lnTo>
                  <a:lnTo>
                    <a:pt x="13" y="286"/>
                  </a:lnTo>
                  <a:lnTo>
                    <a:pt x="0" y="290"/>
                  </a:lnTo>
                  <a:lnTo>
                    <a:pt x="9" y="290"/>
                  </a:lnTo>
                  <a:lnTo>
                    <a:pt x="19" y="289"/>
                  </a:lnTo>
                  <a:lnTo>
                    <a:pt x="28" y="288"/>
                  </a:lnTo>
                  <a:lnTo>
                    <a:pt x="36" y="287"/>
                  </a:lnTo>
                  <a:lnTo>
                    <a:pt x="46" y="286"/>
                  </a:lnTo>
                  <a:lnTo>
                    <a:pt x="55" y="283"/>
                  </a:lnTo>
                  <a:lnTo>
                    <a:pt x="64" y="280"/>
                  </a:lnTo>
                  <a:lnTo>
                    <a:pt x="73" y="277"/>
                  </a:lnTo>
                  <a:lnTo>
                    <a:pt x="97" y="259"/>
                  </a:lnTo>
                  <a:lnTo>
                    <a:pt x="118" y="239"/>
                  </a:lnTo>
                  <a:lnTo>
                    <a:pt x="138" y="218"/>
                  </a:lnTo>
                  <a:lnTo>
                    <a:pt x="156" y="194"/>
                  </a:lnTo>
                  <a:lnTo>
                    <a:pt x="172" y="169"/>
                  </a:lnTo>
                  <a:lnTo>
                    <a:pt x="185" y="142"/>
                  </a:lnTo>
                  <a:lnTo>
                    <a:pt x="194" y="114"/>
                  </a:lnTo>
                  <a:lnTo>
                    <a:pt x="203" y="85"/>
                  </a:lnTo>
                  <a:lnTo>
                    <a:pt x="205" y="64"/>
                  </a:lnTo>
                  <a:close/>
                </a:path>
              </a:pathLst>
            </a:custGeom>
            <a:solidFill>
              <a:srgbClr val="eb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29560" y="3513240"/>
              <a:ext cx="107280" cy="161640"/>
            </a:xfrm>
            <a:custGeom>
              <a:avLst/>
              <a:gdLst/>
              <a:ahLst/>
              <a:rect l="l" t="t" r="r" b="b"/>
              <a:pathLst>
                <a:path w="243" h="333">
                  <a:moveTo>
                    <a:pt x="242" y="44"/>
                  </a:moveTo>
                  <a:lnTo>
                    <a:pt x="239" y="38"/>
                  </a:lnTo>
                  <a:lnTo>
                    <a:pt x="236" y="32"/>
                  </a:lnTo>
                  <a:lnTo>
                    <a:pt x="233" y="26"/>
                  </a:lnTo>
                  <a:lnTo>
                    <a:pt x="229" y="20"/>
                  </a:lnTo>
                  <a:lnTo>
                    <a:pt x="224" y="15"/>
                  </a:lnTo>
                  <a:lnTo>
                    <a:pt x="221" y="9"/>
                  </a:lnTo>
                  <a:lnTo>
                    <a:pt x="217" y="4"/>
                  </a:lnTo>
                  <a:lnTo>
                    <a:pt x="212" y="0"/>
                  </a:lnTo>
                  <a:lnTo>
                    <a:pt x="216" y="10"/>
                  </a:lnTo>
                  <a:lnTo>
                    <a:pt x="221" y="36"/>
                  </a:lnTo>
                  <a:lnTo>
                    <a:pt x="222" y="64"/>
                  </a:lnTo>
                  <a:lnTo>
                    <a:pt x="243" y="64"/>
                  </a:lnTo>
                  <a:lnTo>
                    <a:pt x="242" y="93"/>
                  </a:lnTo>
                  <a:lnTo>
                    <a:pt x="237" y="122"/>
                  </a:lnTo>
                  <a:lnTo>
                    <a:pt x="230" y="149"/>
                  </a:lnTo>
                  <a:lnTo>
                    <a:pt x="221" y="176"/>
                  </a:lnTo>
                  <a:lnTo>
                    <a:pt x="209" y="201"/>
                  </a:lnTo>
                  <a:lnTo>
                    <a:pt x="195" y="224"/>
                  </a:lnTo>
                  <a:lnTo>
                    <a:pt x="178" y="246"/>
                  </a:lnTo>
                  <a:lnTo>
                    <a:pt x="159" y="266"/>
                  </a:lnTo>
                  <a:lnTo>
                    <a:pt x="139" y="285"/>
                  </a:lnTo>
                  <a:lnTo>
                    <a:pt x="118" y="302"/>
                  </a:lnTo>
                  <a:lnTo>
                    <a:pt x="94" y="316"/>
                  </a:lnTo>
                  <a:lnTo>
                    <a:pt x="69" y="328"/>
                  </a:lnTo>
                  <a:lnTo>
                    <a:pt x="58" y="331"/>
                  </a:lnTo>
                  <a:lnTo>
                    <a:pt x="57" y="331"/>
                  </a:lnTo>
                  <a:lnTo>
                    <a:pt x="56" y="331"/>
                  </a:lnTo>
                  <a:lnTo>
                    <a:pt x="53" y="333"/>
                  </a:lnTo>
                  <a:lnTo>
                    <a:pt x="52" y="333"/>
                  </a:lnTo>
                  <a:lnTo>
                    <a:pt x="45" y="333"/>
                  </a:lnTo>
                  <a:lnTo>
                    <a:pt x="39" y="333"/>
                  </a:lnTo>
                  <a:lnTo>
                    <a:pt x="32" y="331"/>
                  </a:lnTo>
                  <a:lnTo>
                    <a:pt x="26" y="330"/>
                  </a:lnTo>
                  <a:lnTo>
                    <a:pt x="19" y="330"/>
                  </a:lnTo>
                  <a:lnTo>
                    <a:pt x="13" y="329"/>
                  </a:lnTo>
                  <a:lnTo>
                    <a:pt x="6" y="327"/>
                  </a:lnTo>
                  <a:lnTo>
                    <a:pt x="0" y="325"/>
                  </a:lnTo>
                  <a:lnTo>
                    <a:pt x="11" y="323"/>
                  </a:lnTo>
                  <a:lnTo>
                    <a:pt x="36" y="317"/>
                  </a:lnTo>
                  <a:lnTo>
                    <a:pt x="61" y="308"/>
                  </a:lnTo>
                  <a:lnTo>
                    <a:pt x="83" y="297"/>
                  </a:lnTo>
                  <a:lnTo>
                    <a:pt x="106" y="284"/>
                  </a:lnTo>
                  <a:lnTo>
                    <a:pt x="126" y="268"/>
                  </a:lnTo>
                  <a:lnTo>
                    <a:pt x="145" y="252"/>
                  </a:lnTo>
                  <a:lnTo>
                    <a:pt x="161" y="233"/>
                  </a:lnTo>
                  <a:lnTo>
                    <a:pt x="177" y="212"/>
                  </a:lnTo>
                  <a:lnTo>
                    <a:pt x="190" y="190"/>
                  </a:lnTo>
                  <a:lnTo>
                    <a:pt x="201" y="167"/>
                  </a:lnTo>
                  <a:lnTo>
                    <a:pt x="210" y="142"/>
                  </a:lnTo>
                  <a:lnTo>
                    <a:pt x="216" y="117"/>
                  </a:lnTo>
                  <a:lnTo>
                    <a:pt x="221" y="91"/>
                  </a:lnTo>
                  <a:lnTo>
                    <a:pt x="222" y="64"/>
                  </a:lnTo>
                  <a:lnTo>
                    <a:pt x="243" y="64"/>
                  </a:lnTo>
                  <a:lnTo>
                    <a:pt x="242" y="44"/>
                  </a:lnTo>
                  <a:close/>
                </a:path>
              </a:pathLst>
            </a:custGeom>
            <a:solidFill>
              <a:srgbClr val="f50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10840" y="3498840"/>
              <a:ext cx="117000" cy="173520"/>
            </a:xfrm>
            <a:custGeom>
              <a:avLst/>
              <a:gdLst/>
              <a:ahLst/>
              <a:rect l="l" t="t" r="r" b="b"/>
              <a:pathLst>
                <a:path w="266" h="356">
                  <a:moveTo>
                    <a:pt x="258" y="30"/>
                  </a:moveTo>
                  <a:lnTo>
                    <a:pt x="251" y="21"/>
                  </a:lnTo>
                  <a:lnTo>
                    <a:pt x="242" y="14"/>
                  </a:lnTo>
                  <a:lnTo>
                    <a:pt x="234" y="7"/>
                  </a:lnTo>
                  <a:lnTo>
                    <a:pt x="226" y="0"/>
                  </a:lnTo>
                  <a:lnTo>
                    <a:pt x="234" y="20"/>
                  </a:lnTo>
                  <a:lnTo>
                    <a:pt x="240" y="44"/>
                  </a:lnTo>
                  <a:lnTo>
                    <a:pt x="244" y="68"/>
                  </a:lnTo>
                  <a:lnTo>
                    <a:pt x="245" y="93"/>
                  </a:lnTo>
                  <a:lnTo>
                    <a:pt x="266" y="93"/>
                  </a:lnTo>
                  <a:lnTo>
                    <a:pt x="265" y="120"/>
                  </a:lnTo>
                  <a:lnTo>
                    <a:pt x="260" y="146"/>
                  </a:lnTo>
                  <a:lnTo>
                    <a:pt x="254" y="171"/>
                  </a:lnTo>
                  <a:lnTo>
                    <a:pt x="245" y="196"/>
                  </a:lnTo>
                  <a:lnTo>
                    <a:pt x="234" y="219"/>
                  </a:lnTo>
                  <a:lnTo>
                    <a:pt x="221" y="241"/>
                  </a:lnTo>
                  <a:lnTo>
                    <a:pt x="206" y="262"/>
                  </a:lnTo>
                  <a:lnTo>
                    <a:pt x="188" y="281"/>
                  </a:lnTo>
                  <a:lnTo>
                    <a:pt x="169" y="299"/>
                  </a:lnTo>
                  <a:lnTo>
                    <a:pt x="149" y="314"/>
                  </a:lnTo>
                  <a:lnTo>
                    <a:pt x="126" y="327"/>
                  </a:lnTo>
                  <a:lnTo>
                    <a:pt x="104" y="338"/>
                  </a:lnTo>
                  <a:lnTo>
                    <a:pt x="79" y="347"/>
                  </a:lnTo>
                  <a:lnTo>
                    <a:pt x="54" y="353"/>
                  </a:lnTo>
                  <a:lnTo>
                    <a:pt x="47" y="356"/>
                  </a:lnTo>
                  <a:lnTo>
                    <a:pt x="41" y="353"/>
                  </a:lnTo>
                  <a:lnTo>
                    <a:pt x="35" y="352"/>
                  </a:lnTo>
                  <a:lnTo>
                    <a:pt x="29" y="350"/>
                  </a:lnTo>
                  <a:lnTo>
                    <a:pt x="23" y="348"/>
                  </a:lnTo>
                  <a:lnTo>
                    <a:pt x="17" y="346"/>
                  </a:lnTo>
                  <a:lnTo>
                    <a:pt x="11" y="344"/>
                  </a:lnTo>
                  <a:lnTo>
                    <a:pt x="6" y="340"/>
                  </a:lnTo>
                  <a:lnTo>
                    <a:pt x="0" y="338"/>
                  </a:lnTo>
                  <a:lnTo>
                    <a:pt x="25" y="337"/>
                  </a:lnTo>
                  <a:lnTo>
                    <a:pt x="49" y="333"/>
                  </a:lnTo>
                  <a:lnTo>
                    <a:pt x="73" y="327"/>
                  </a:lnTo>
                  <a:lnTo>
                    <a:pt x="95" y="319"/>
                  </a:lnTo>
                  <a:lnTo>
                    <a:pt x="117" y="308"/>
                  </a:lnTo>
                  <a:lnTo>
                    <a:pt x="137" y="296"/>
                  </a:lnTo>
                  <a:lnTo>
                    <a:pt x="156" y="282"/>
                  </a:lnTo>
                  <a:lnTo>
                    <a:pt x="172" y="265"/>
                  </a:lnTo>
                  <a:lnTo>
                    <a:pt x="189" y="249"/>
                  </a:lnTo>
                  <a:lnTo>
                    <a:pt x="203" y="230"/>
                  </a:lnTo>
                  <a:lnTo>
                    <a:pt x="215" y="209"/>
                  </a:lnTo>
                  <a:lnTo>
                    <a:pt x="226" y="188"/>
                  </a:lnTo>
                  <a:lnTo>
                    <a:pt x="234" y="165"/>
                  </a:lnTo>
                  <a:lnTo>
                    <a:pt x="240" y="142"/>
                  </a:lnTo>
                  <a:lnTo>
                    <a:pt x="244" y="118"/>
                  </a:lnTo>
                  <a:lnTo>
                    <a:pt x="245" y="93"/>
                  </a:lnTo>
                  <a:lnTo>
                    <a:pt x="266" y="93"/>
                  </a:lnTo>
                  <a:lnTo>
                    <a:pt x="265" y="65"/>
                  </a:lnTo>
                  <a:lnTo>
                    <a:pt x="260" y="39"/>
                  </a:lnTo>
                  <a:lnTo>
                    <a:pt x="258" y="30"/>
                  </a:lnTo>
                  <a:close/>
                </a:path>
              </a:pathLst>
            </a:custGeom>
            <a:solidFill>
              <a:srgbClr val="ff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93920" y="3489120"/>
              <a:ext cx="124200" cy="175320"/>
            </a:xfrm>
            <a:custGeom>
              <a:avLst/>
              <a:gdLst/>
              <a:ahLst/>
              <a:rect l="l" t="t" r="r" b="b"/>
              <a:pathLst>
                <a:path w="282" h="359">
                  <a:moveTo>
                    <a:pt x="264" y="21"/>
                  </a:moveTo>
                  <a:lnTo>
                    <a:pt x="259" y="18"/>
                  </a:lnTo>
                  <a:lnTo>
                    <a:pt x="256" y="15"/>
                  </a:lnTo>
                  <a:lnTo>
                    <a:pt x="251" y="13"/>
                  </a:lnTo>
                  <a:lnTo>
                    <a:pt x="246" y="9"/>
                  </a:lnTo>
                  <a:lnTo>
                    <a:pt x="243" y="7"/>
                  </a:lnTo>
                  <a:lnTo>
                    <a:pt x="238" y="4"/>
                  </a:lnTo>
                  <a:lnTo>
                    <a:pt x="233" y="2"/>
                  </a:lnTo>
                  <a:lnTo>
                    <a:pt x="229" y="0"/>
                  </a:lnTo>
                  <a:lnTo>
                    <a:pt x="233" y="6"/>
                  </a:lnTo>
                  <a:lnTo>
                    <a:pt x="243" y="26"/>
                  </a:lnTo>
                  <a:lnTo>
                    <a:pt x="250" y="46"/>
                  </a:lnTo>
                  <a:lnTo>
                    <a:pt x="256" y="68"/>
                  </a:lnTo>
                  <a:lnTo>
                    <a:pt x="259" y="90"/>
                  </a:lnTo>
                  <a:lnTo>
                    <a:pt x="261" y="113"/>
                  </a:lnTo>
                  <a:lnTo>
                    <a:pt x="282" y="113"/>
                  </a:lnTo>
                  <a:lnTo>
                    <a:pt x="281" y="138"/>
                  </a:lnTo>
                  <a:lnTo>
                    <a:pt x="277" y="163"/>
                  </a:lnTo>
                  <a:lnTo>
                    <a:pt x="271" y="185"/>
                  </a:lnTo>
                  <a:lnTo>
                    <a:pt x="263" y="208"/>
                  </a:lnTo>
                  <a:lnTo>
                    <a:pt x="252" y="230"/>
                  </a:lnTo>
                  <a:lnTo>
                    <a:pt x="240" y="251"/>
                  </a:lnTo>
                  <a:lnTo>
                    <a:pt x="226" y="270"/>
                  </a:lnTo>
                  <a:lnTo>
                    <a:pt x="210" y="286"/>
                  </a:lnTo>
                  <a:lnTo>
                    <a:pt x="193" y="303"/>
                  </a:lnTo>
                  <a:lnTo>
                    <a:pt x="174" y="317"/>
                  </a:lnTo>
                  <a:lnTo>
                    <a:pt x="154" y="329"/>
                  </a:lnTo>
                  <a:lnTo>
                    <a:pt x="131" y="340"/>
                  </a:lnTo>
                  <a:lnTo>
                    <a:pt x="109" y="348"/>
                  </a:lnTo>
                  <a:lnTo>
                    <a:pt x="86" y="354"/>
                  </a:lnTo>
                  <a:lnTo>
                    <a:pt x="61" y="358"/>
                  </a:lnTo>
                  <a:lnTo>
                    <a:pt x="39" y="359"/>
                  </a:lnTo>
                  <a:lnTo>
                    <a:pt x="34" y="357"/>
                  </a:lnTo>
                  <a:lnTo>
                    <a:pt x="28" y="354"/>
                  </a:lnTo>
                  <a:lnTo>
                    <a:pt x="23" y="352"/>
                  </a:lnTo>
                  <a:lnTo>
                    <a:pt x="19" y="348"/>
                  </a:lnTo>
                  <a:lnTo>
                    <a:pt x="14" y="346"/>
                  </a:lnTo>
                  <a:lnTo>
                    <a:pt x="9" y="342"/>
                  </a:lnTo>
                  <a:lnTo>
                    <a:pt x="4" y="339"/>
                  </a:lnTo>
                  <a:lnTo>
                    <a:pt x="0" y="335"/>
                  </a:lnTo>
                  <a:lnTo>
                    <a:pt x="14" y="336"/>
                  </a:lnTo>
                  <a:lnTo>
                    <a:pt x="36" y="338"/>
                  </a:lnTo>
                  <a:lnTo>
                    <a:pt x="59" y="336"/>
                  </a:lnTo>
                  <a:lnTo>
                    <a:pt x="81" y="333"/>
                  </a:lnTo>
                  <a:lnTo>
                    <a:pt x="103" y="327"/>
                  </a:lnTo>
                  <a:lnTo>
                    <a:pt x="123" y="320"/>
                  </a:lnTo>
                  <a:lnTo>
                    <a:pt x="143" y="310"/>
                  </a:lnTo>
                  <a:lnTo>
                    <a:pt x="162" y="299"/>
                  </a:lnTo>
                  <a:lnTo>
                    <a:pt x="179" y="286"/>
                  </a:lnTo>
                  <a:lnTo>
                    <a:pt x="195" y="271"/>
                  </a:lnTo>
                  <a:lnTo>
                    <a:pt x="210" y="255"/>
                  </a:lnTo>
                  <a:lnTo>
                    <a:pt x="223" y="239"/>
                  </a:lnTo>
                  <a:lnTo>
                    <a:pt x="233" y="220"/>
                  </a:lnTo>
                  <a:lnTo>
                    <a:pt x="243" y="200"/>
                  </a:lnTo>
                  <a:lnTo>
                    <a:pt x="250" y="179"/>
                  </a:lnTo>
                  <a:lnTo>
                    <a:pt x="256" y="158"/>
                  </a:lnTo>
                  <a:lnTo>
                    <a:pt x="259" y="135"/>
                  </a:lnTo>
                  <a:lnTo>
                    <a:pt x="261" y="113"/>
                  </a:lnTo>
                  <a:lnTo>
                    <a:pt x="282" y="113"/>
                  </a:lnTo>
                  <a:lnTo>
                    <a:pt x="281" y="88"/>
                  </a:lnTo>
                  <a:lnTo>
                    <a:pt x="277" y="63"/>
                  </a:lnTo>
                  <a:lnTo>
                    <a:pt x="271" y="40"/>
                  </a:lnTo>
                  <a:lnTo>
                    <a:pt x="264" y="21"/>
                  </a:lnTo>
                  <a:close/>
                </a:path>
              </a:pathLst>
            </a:custGeom>
            <a:solidFill>
              <a:srgbClr val="ff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80960" y="3482280"/>
              <a:ext cx="128520" cy="172440"/>
            </a:xfrm>
            <a:custGeom>
              <a:avLst/>
              <a:gdLst/>
              <a:ahLst/>
              <a:rect l="l" t="t" r="r" b="b"/>
              <a:pathLst>
                <a:path w="293" h="354">
                  <a:moveTo>
                    <a:pt x="261" y="15"/>
                  </a:moveTo>
                  <a:lnTo>
                    <a:pt x="256" y="12"/>
                  </a:lnTo>
                  <a:lnTo>
                    <a:pt x="252" y="10"/>
                  </a:lnTo>
                  <a:lnTo>
                    <a:pt x="248" y="9"/>
                  </a:lnTo>
                  <a:lnTo>
                    <a:pt x="243" y="6"/>
                  </a:lnTo>
                  <a:lnTo>
                    <a:pt x="238" y="5"/>
                  </a:lnTo>
                  <a:lnTo>
                    <a:pt x="235" y="3"/>
                  </a:lnTo>
                  <a:lnTo>
                    <a:pt x="230" y="2"/>
                  </a:lnTo>
                  <a:lnTo>
                    <a:pt x="225" y="0"/>
                  </a:lnTo>
                  <a:lnTo>
                    <a:pt x="236" y="15"/>
                  </a:lnTo>
                  <a:lnTo>
                    <a:pt x="245" y="31"/>
                  </a:lnTo>
                  <a:lnTo>
                    <a:pt x="255" y="49"/>
                  </a:lnTo>
                  <a:lnTo>
                    <a:pt x="261" y="67"/>
                  </a:lnTo>
                  <a:lnTo>
                    <a:pt x="267" y="87"/>
                  </a:lnTo>
                  <a:lnTo>
                    <a:pt x="269" y="108"/>
                  </a:lnTo>
                  <a:lnTo>
                    <a:pt x="270" y="128"/>
                  </a:lnTo>
                  <a:lnTo>
                    <a:pt x="293" y="128"/>
                  </a:lnTo>
                  <a:lnTo>
                    <a:pt x="292" y="150"/>
                  </a:lnTo>
                  <a:lnTo>
                    <a:pt x="288" y="173"/>
                  </a:lnTo>
                  <a:lnTo>
                    <a:pt x="282" y="194"/>
                  </a:lnTo>
                  <a:lnTo>
                    <a:pt x="275" y="216"/>
                  </a:lnTo>
                  <a:lnTo>
                    <a:pt x="266" y="235"/>
                  </a:lnTo>
                  <a:lnTo>
                    <a:pt x="254" y="254"/>
                  </a:lnTo>
                  <a:lnTo>
                    <a:pt x="241" y="270"/>
                  </a:lnTo>
                  <a:lnTo>
                    <a:pt x="226" y="287"/>
                  </a:lnTo>
                  <a:lnTo>
                    <a:pt x="210" y="301"/>
                  </a:lnTo>
                  <a:lnTo>
                    <a:pt x="193" y="314"/>
                  </a:lnTo>
                  <a:lnTo>
                    <a:pt x="174" y="326"/>
                  </a:lnTo>
                  <a:lnTo>
                    <a:pt x="155" y="336"/>
                  </a:lnTo>
                  <a:lnTo>
                    <a:pt x="134" y="343"/>
                  </a:lnTo>
                  <a:lnTo>
                    <a:pt x="112" y="349"/>
                  </a:lnTo>
                  <a:lnTo>
                    <a:pt x="90" y="353"/>
                  </a:lnTo>
                  <a:lnTo>
                    <a:pt x="67" y="354"/>
                  </a:lnTo>
                  <a:lnTo>
                    <a:pt x="45" y="353"/>
                  </a:lnTo>
                  <a:lnTo>
                    <a:pt x="33" y="351"/>
                  </a:lnTo>
                  <a:lnTo>
                    <a:pt x="23" y="344"/>
                  </a:lnTo>
                  <a:lnTo>
                    <a:pt x="15" y="336"/>
                  </a:lnTo>
                  <a:lnTo>
                    <a:pt x="7" y="328"/>
                  </a:lnTo>
                  <a:lnTo>
                    <a:pt x="0" y="319"/>
                  </a:lnTo>
                  <a:lnTo>
                    <a:pt x="7" y="322"/>
                  </a:lnTo>
                  <a:lnTo>
                    <a:pt x="27" y="328"/>
                  </a:lnTo>
                  <a:lnTo>
                    <a:pt x="47" y="330"/>
                  </a:lnTo>
                  <a:lnTo>
                    <a:pt x="67" y="331"/>
                  </a:lnTo>
                  <a:lnTo>
                    <a:pt x="88" y="330"/>
                  </a:lnTo>
                  <a:lnTo>
                    <a:pt x="108" y="328"/>
                  </a:lnTo>
                  <a:lnTo>
                    <a:pt x="128" y="322"/>
                  </a:lnTo>
                  <a:lnTo>
                    <a:pt x="146" y="314"/>
                  </a:lnTo>
                  <a:lnTo>
                    <a:pt x="163" y="306"/>
                  </a:lnTo>
                  <a:lnTo>
                    <a:pt x="180" y="297"/>
                  </a:lnTo>
                  <a:lnTo>
                    <a:pt x="197" y="285"/>
                  </a:lnTo>
                  <a:lnTo>
                    <a:pt x="211" y="272"/>
                  </a:lnTo>
                  <a:lnTo>
                    <a:pt x="224" y="257"/>
                  </a:lnTo>
                  <a:lnTo>
                    <a:pt x="236" y="241"/>
                  </a:lnTo>
                  <a:lnTo>
                    <a:pt x="245" y="224"/>
                  </a:lnTo>
                  <a:lnTo>
                    <a:pt x="255" y="206"/>
                  </a:lnTo>
                  <a:lnTo>
                    <a:pt x="261" y="188"/>
                  </a:lnTo>
                  <a:lnTo>
                    <a:pt x="267" y="168"/>
                  </a:lnTo>
                  <a:lnTo>
                    <a:pt x="269" y="148"/>
                  </a:lnTo>
                  <a:lnTo>
                    <a:pt x="270" y="128"/>
                  </a:lnTo>
                  <a:lnTo>
                    <a:pt x="293" y="128"/>
                  </a:lnTo>
                  <a:lnTo>
                    <a:pt x="292" y="105"/>
                  </a:lnTo>
                  <a:lnTo>
                    <a:pt x="288" y="83"/>
                  </a:lnTo>
                  <a:lnTo>
                    <a:pt x="282" y="61"/>
                  </a:lnTo>
                  <a:lnTo>
                    <a:pt x="275" y="40"/>
                  </a:lnTo>
                  <a:lnTo>
                    <a:pt x="266" y="21"/>
                  </a:lnTo>
                  <a:lnTo>
                    <a:pt x="261" y="15"/>
                  </a:lnTo>
                  <a:close/>
                </a:path>
              </a:pathLst>
            </a:custGeom>
            <a:solidFill>
              <a:srgbClr val="ff2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71240" y="3479400"/>
              <a:ext cx="129240" cy="164520"/>
            </a:xfrm>
            <a:custGeom>
              <a:avLst/>
              <a:gdLst/>
              <a:ahLst/>
              <a:rect l="l" t="t" r="r" b="b"/>
              <a:pathLst>
                <a:path w="293" h="339">
                  <a:moveTo>
                    <a:pt x="247" y="7"/>
                  </a:moveTo>
                  <a:lnTo>
                    <a:pt x="242" y="6"/>
                  </a:lnTo>
                  <a:lnTo>
                    <a:pt x="239" y="5"/>
                  </a:lnTo>
                  <a:lnTo>
                    <a:pt x="234" y="4"/>
                  </a:lnTo>
                  <a:lnTo>
                    <a:pt x="229" y="3"/>
                  </a:lnTo>
                  <a:lnTo>
                    <a:pt x="225" y="3"/>
                  </a:lnTo>
                  <a:lnTo>
                    <a:pt x="221" y="2"/>
                  </a:lnTo>
                  <a:lnTo>
                    <a:pt x="216" y="0"/>
                  </a:lnTo>
                  <a:lnTo>
                    <a:pt x="212" y="0"/>
                  </a:lnTo>
                  <a:lnTo>
                    <a:pt x="219" y="5"/>
                  </a:lnTo>
                  <a:lnTo>
                    <a:pt x="241" y="32"/>
                  </a:lnTo>
                  <a:lnTo>
                    <a:pt x="258" y="63"/>
                  </a:lnTo>
                  <a:lnTo>
                    <a:pt x="269" y="98"/>
                  </a:lnTo>
                  <a:lnTo>
                    <a:pt x="272" y="135"/>
                  </a:lnTo>
                  <a:lnTo>
                    <a:pt x="293" y="135"/>
                  </a:lnTo>
                  <a:lnTo>
                    <a:pt x="292" y="155"/>
                  </a:lnTo>
                  <a:lnTo>
                    <a:pt x="289" y="175"/>
                  </a:lnTo>
                  <a:lnTo>
                    <a:pt x="284" y="195"/>
                  </a:lnTo>
                  <a:lnTo>
                    <a:pt x="277" y="214"/>
                  </a:lnTo>
                  <a:lnTo>
                    <a:pt x="269" y="232"/>
                  </a:lnTo>
                  <a:lnTo>
                    <a:pt x="258" y="249"/>
                  </a:lnTo>
                  <a:lnTo>
                    <a:pt x="246" y="264"/>
                  </a:lnTo>
                  <a:lnTo>
                    <a:pt x="233" y="279"/>
                  </a:lnTo>
                  <a:lnTo>
                    <a:pt x="219" y="292"/>
                  </a:lnTo>
                  <a:lnTo>
                    <a:pt x="203" y="304"/>
                  </a:lnTo>
                  <a:lnTo>
                    <a:pt x="187" y="314"/>
                  </a:lnTo>
                  <a:lnTo>
                    <a:pt x="169" y="323"/>
                  </a:lnTo>
                  <a:lnTo>
                    <a:pt x="150" y="330"/>
                  </a:lnTo>
                  <a:lnTo>
                    <a:pt x="130" y="335"/>
                  </a:lnTo>
                  <a:lnTo>
                    <a:pt x="110" y="338"/>
                  </a:lnTo>
                  <a:lnTo>
                    <a:pt x="89" y="339"/>
                  </a:lnTo>
                  <a:lnTo>
                    <a:pt x="69" y="338"/>
                  </a:lnTo>
                  <a:lnTo>
                    <a:pt x="49" y="335"/>
                  </a:lnTo>
                  <a:lnTo>
                    <a:pt x="29" y="330"/>
                  </a:lnTo>
                  <a:lnTo>
                    <a:pt x="24" y="329"/>
                  </a:lnTo>
                  <a:lnTo>
                    <a:pt x="17" y="320"/>
                  </a:lnTo>
                  <a:lnTo>
                    <a:pt x="11" y="312"/>
                  </a:lnTo>
                  <a:lnTo>
                    <a:pt x="5" y="304"/>
                  </a:lnTo>
                  <a:lnTo>
                    <a:pt x="0" y="295"/>
                  </a:lnTo>
                  <a:lnTo>
                    <a:pt x="18" y="304"/>
                  </a:lnTo>
                  <a:lnTo>
                    <a:pt x="53" y="314"/>
                  </a:lnTo>
                  <a:lnTo>
                    <a:pt x="89" y="318"/>
                  </a:lnTo>
                  <a:lnTo>
                    <a:pt x="126" y="314"/>
                  </a:lnTo>
                  <a:lnTo>
                    <a:pt x="161" y="304"/>
                  </a:lnTo>
                  <a:lnTo>
                    <a:pt x="191" y="287"/>
                  </a:lnTo>
                  <a:lnTo>
                    <a:pt x="219" y="264"/>
                  </a:lnTo>
                  <a:lnTo>
                    <a:pt x="241" y="237"/>
                  </a:lnTo>
                  <a:lnTo>
                    <a:pt x="258" y="206"/>
                  </a:lnTo>
                  <a:lnTo>
                    <a:pt x="269" y="172"/>
                  </a:lnTo>
                  <a:lnTo>
                    <a:pt x="272" y="135"/>
                  </a:lnTo>
                  <a:lnTo>
                    <a:pt x="293" y="135"/>
                  </a:lnTo>
                  <a:lnTo>
                    <a:pt x="292" y="115"/>
                  </a:lnTo>
                  <a:lnTo>
                    <a:pt x="289" y="94"/>
                  </a:lnTo>
                  <a:lnTo>
                    <a:pt x="284" y="74"/>
                  </a:lnTo>
                  <a:lnTo>
                    <a:pt x="277" y="55"/>
                  </a:lnTo>
                  <a:lnTo>
                    <a:pt x="269" y="37"/>
                  </a:lnTo>
                  <a:lnTo>
                    <a:pt x="258" y="21"/>
                  </a:lnTo>
                  <a:lnTo>
                    <a:pt x="247" y="7"/>
                  </a:lnTo>
                  <a:close/>
                </a:path>
              </a:pathLst>
            </a:custGeom>
            <a:solidFill>
              <a:srgbClr val="ff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4040" y="3478320"/>
              <a:ext cx="127800" cy="155880"/>
            </a:xfrm>
            <a:custGeom>
              <a:avLst/>
              <a:gdLst/>
              <a:ahLst/>
              <a:rect l="l" t="t" r="r" b="b"/>
              <a:pathLst>
                <a:path w="288" h="320">
                  <a:moveTo>
                    <a:pt x="227" y="1"/>
                  </a:moveTo>
                  <a:lnTo>
                    <a:pt x="221" y="0"/>
                  </a:lnTo>
                  <a:lnTo>
                    <a:pt x="214" y="0"/>
                  </a:lnTo>
                  <a:lnTo>
                    <a:pt x="206" y="0"/>
                  </a:lnTo>
                  <a:lnTo>
                    <a:pt x="199" y="0"/>
                  </a:lnTo>
                  <a:lnTo>
                    <a:pt x="197" y="0"/>
                  </a:lnTo>
                  <a:lnTo>
                    <a:pt x="195" y="0"/>
                  </a:lnTo>
                  <a:lnTo>
                    <a:pt x="192" y="0"/>
                  </a:lnTo>
                  <a:lnTo>
                    <a:pt x="190" y="0"/>
                  </a:lnTo>
                  <a:lnTo>
                    <a:pt x="195" y="1"/>
                  </a:lnTo>
                  <a:lnTo>
                    <a:pt x="219" y="20"/>
                  </a:lnTo>
                  <a:lnTo>
                    <a:pt x="238" y="45"/>
                  </a:lnTo>
                  <a:lnTo>
                    <a:pt x="254" y="73"/>
                  </a:lnTo>
                  <a:lnTo>
                    <a:pt x="263" y="104"/>
                  </a:lnTo>
                  <a:lnTo>
                    <a:pt x="267" y="136"/>
                  </a:lnTo>
                  <a:lnTo>
                    <a:pt x="288" y="136"/>
                  </a:lnTo>
                  <a:lnTo>
                    <a:pt x="285" y="173"/>
                  </a:lnTo>
                  <a:lnTo>
                    <a:pt x="274" y="207"/>
                  </a:lnTo>
                  <a:lnTo>
                    <a:pt x="256" y="238"/>
                  </a:lnTo>
                  <a:lnTo>
                    <a:pt x="234" y="265"/>
                  </a:lnTo>
                  <a:lnTo>
                    <a:pt x="206" y="288"/>
                  </a:lnTo>
                  <a:lnTo>
                    <a:pt x="176" y="306"/>
                  </a:lnTo>
                  <a:lnTo>
                    <a:pt x="141" y="317"/>
                  </a:lnTo>
                  <a:lnTo>
                    <a:pt x="104" y="320"/>
                  </a:lnTo>
                  <a:lnTo>
                    <a:pt x="68" y="317"/>
                  </a:lnTo>
                  <a:lnTo>
                    <a:pt x="33" y="306"/>
                  </a:lnTo>
                  <a:lnTo>
                    <a:pt x="15" y="296"/>
                  </a:lnTo>
                  <a:lnTo>
                    <a:pt x="13" y="293"/>
                  </a:lnTo>
                  <a:lnTo>
                    <a:pt x="11" y="288"/>
                  </a:lnTo>
                  <a:lnTo>
                    <a:pt x="8" y="283"/>
                  </a:lnTo>
                  <a:lnTo>
                    <a:pt x="7" y="278"/>
                  </a:lnTo>
                  <a:lnTo>
                    <a:pt x="5" y="275"/>
                  </a:lnTo>
                  <a:lnTo>
                    <a:pt x="3" y="270"/>
                  </a:lnTo>
                  <a:lnTo>
                    <a:pt x="1" y="265"/>
                  </a:lnTo>
                  <a:lnTo>
                    <a:pt x="0" y="261"/>
                  </a:lnTo>
                  <a:lnTo>
                    <a:pt x="14" y="270"/>
                  </a:lnTo>
                  <a:lnTo>
                    <a:pt x="41" y="286"/>
                  </a:lnTo>
                  <a:lnTo>
                    <a:pt x="72" y="295"/>
                  </a:lnTo>
                  <a:lnTo>
                    <a:pt x="104" y="299"/>
                  </a:lnTo>
                  <a:lnTo>
                    <a:pt x="136" y="295"/>
                  </a:lnTo>
                  <a:lnTo>
                    <a:pt x="167" y="286"/>
                  </a:lnTo>
                  <a:lnTo>
                    <a:pt x="195" y="270"/>
                  </a:lnTo>
                  <a:lnTo>
                    <a:pt x="219" y="251"/>
                  </a:lnTo>
                  <a:lnTo>
                    <a:pt x="238" y="226"/>
                  </a:lnTo>
                  <a:lnTo>
                    <a:pt x="254" y="199"/>
                  </a:lnTo>
                  <a:lnTo>
                    <a:pt x="263" y="168"/>
                  </a:lnTo>
                  <a:lnTo>
                    <a:pt x="267" y="136"/>
                  </a:lnTo>
                  <a:lnTo>
                    <a:pt x="288" y="136"/>
                  </a:lnTo>
                  <a:lnTo>
                    <a:pt x="285" y="99"/>
                  </a:lnTo>
                  <a:lnTo>
                    <a:pt x="274" y="64"/>
                  </a:lnTo>
                  <a:lnTo>
                    <a:pt x="256" y="33"/>
                  </a:lnTo>
                  <a:lnTo>
                    <a:pt x="234" y="6"/>
                  </a:lnTo>
                  <a:lnTo>
                    <a:pt x="227" y="1"/>
                  </a:lnTo>
                  <a:close/>
                </a:path>
              </a:pathLst>
            </a:custGeom>
            <a:solidFill>
              <a:srgbClr val="ff4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61520" y="3478320"/>
              <a:ext cx="121680" cy="146160"/>
            </a:xfrm>
            <a:custGeom>
              <a:avLst/>
              <a:gdLst/>
              <a:ahLst/>
              <a:rect l="l" t="t" r="r" b="b"/>
              <a:pathLst>
                <a:path w="275" h="300">
                  <a:moveTo>
                    <a:pt x="0" y="224"/>
                  </a:moveTo>
                  <a:lnTo>
                    <a:pt x="0" y="229"/>
                  </a:lnTo>
                  <a:lnTo>
                    <a:pt x="1" y="233"/>
                  </a:lnTo>
                  <a:lnTo>
                    <a:pt x="2" y="238"/>
                  </a:lnTo>
                  <a:lnTo>
                    <a:pt x="2" y="243"/>
                  </a:lnTo>
                  <a:lnTo>
                    <a:pt x="3" y="248"/>
                  </a:lnTo>
                  <a:lnTo>
                    <a:pt x="5" y="252"/>
                  </a:lnTo>
                  <a:lnTo>
                    <a:pt x="6" y="257"/>
                  </a:lnTo>
                  <a:lnTo>
                    <a:pt x="7" y="262"/>
                  </a:lnTo>
                  <a:lnTo>
                    <a:pt x="20" y="271"/>
                  </a:lnTo>
                  <a:lnTo>
                    <a:pt x="47" y="287"/>
                  </a:lnTo>
                  <a:lnTo>
                    <a:pt x="78" y="296"/>
                  </a:lnTo>
                  <a:lnTo>
                    <a:pt x="111" y="300"/>
                  </a:lnTo>
                  <a:lnTo>
                    <a:pt x="145" y="296"/>
                  </a:lnTo>
                  <a:lnTo>
                    <a:pt x="175" y="287"/>
                  </a:lnTo>
                  <a:lnTo>
                    <a:pt x="203" y="271"/>
                  </a:lnTo>
                  <a:lnTo>
                    <a:pt x="228" y="251"/>
                  </a:lnTo>
                  <a:lnTo>
                    <a:pt x="247" y="227"/>
                  </a:lnTo>
                  <a:lnTo>
                    <a:pt x="262" y="200"/>
                  </a:lnTo>
                  <a:lnTo>
                    <a:pt x="272" y="169"/>
                  </a:lnTo>
                  <a:lnTo>
                    <a:pt x="275" y="136"/>
                  </a:lnTo>
                  <a:lnTo>
                    <a:pt x="254" y="136"/>
                  </a:lnTo>
                  <a:lnTo>
                    <a:pt x="251" y="107"/>
                  </a:lnTo>
                  <a:lnTo>
                    <a:pt x="243" y="80"/>
                  </a:lnTo>
                  <a:lnTo>
                    <a:pt x="229" y="56"/>
                  </a:lnTo>
                  <a:lnTo>
                    <a:pt x="212" y="35"/>
                  </a:lnTo>
                  <a:lnTo>
                    <a:pt x="191" y="18"/>
                  </a:lnTo>
                  <a:lnTo>
                    <a:pt x="167" y="4"/>
                  </a:lnTo>
                  <a:lnTo>
                    <a:pt x="165" y="4"/>
                  </a:lnTo>
                  <a:lnTo>
                    <a:pt x="169" y="3"/>
                  </a:lnTo>
                  <a:lnTo>
                    <a:pt x="174" y="3"/>
                  </a:lnTo>
                  <a:lnTo>
                    <a:pt x="178" y="1"/>
                  </a:lnTo>
                  <a:lnTo>
                    <a:pt x="183" y="1"/>
                  </a:lnTo>
                  <a:lnTo>
                    <a:pt x="187" y="0"/>
                  </a:lnTo>
                  <a:lnTo>
                    <a:pt x="192" y="0"/>
                  </a:lnTo>
                  <a:lnTo>
                    <a:pt x="196" y="0"/>
                  </a:lnTo>
                  <a:lnTo>
                    <a:pt x="200" y="0"/>
                  </a:lnTo>
                  <a:lnTo>
                    <a:pt x="203" y="0"/>
                  </a:lnTo>
                  <a:lnTo>
                    <a:pt x="228" y="19"/>
                  </a:lnTo>
                  <a:lnTo>
                    <a:pt x="247" y="44"/>
                  </a:lnTo>
                  <a:lnTo>
                    <a:pt x="262" y="72"/>
                  </a:lnTo>
                  <a:lnTo>
                    <a:pt x="272" y="102"/>
                  </a:lnTo>
                  <a:lnTo>
                    <a:pt x="275" y="136"/>
                  </a:lnTo>
                  <a:lnTo>
                    <a:pt x="254" y="136"/>
                  </a:lnTo>
                  <a:lnTo>
                    <a:pt x="251" y="164"/>
                  </a:lnTo>
                  <a:lnTo>
                    <a:pt x="243" y="192"/>
                  </a:lnTo>
                  <a:lnTo>
                    <a:pt x="229" y="215"/>
                  </a:lnTo>
                  <a:lnTo>
                    <a:pt x="212" y="237"/>
                  </a:lnTo>
                  <a:lnTo>
                    <a:pt x="191" y="253"/>
                  </a:lnTo>
                  <a:lnTo>
                    <a:pt x="167" y="268"/>
                  </a:lnTo>
                  <a:lnTo>
                    <a:pt x="140" y="276"/>
                  </a:lnTo>
                  <a:lnTo>
                    <a:pt x="111" y="278"/>
                  </a:lnTo>
                  <a:lnTo>
                    <a:pt x="83" y="276"/>
                  </a:lnTo>
                  <a:lnTo>
                    <a:pt x="56" y="268"/>
                  </a:lnTo>
                  <a:lnTo>
                    <a:pt x="32" y="253"/>
                  </a:lnTo>
                  <a:lnTo>
                    <a:pt x="10" y="237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5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60800" y="3480120"/>
              <a:ext cx="112680" cy="134280"/>
            </a:xfrm>
            <a:custGeom>
              <a:avLst/>
              <a:gdLst/>
              <a:ahLst/>
              <a:rect l="l" t="t" r="r" b="b"/>
              <a:pathLst>
                <a:path w="258" h="276">
                  <a:moveTo>
                    <a:pt x="3" y="221"/>
                  </a:moveTo>
                  <a:lnTo>
                    <a:pt x="2" y="215"/>
                  </a:lnTo>
                  <a:lnTo>
                    <a:pt x="2" y="209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0" y="194"/>
                  </a:lnTo>
                  <a:lnTo>
                    <a:pt x="2" y="190"/>
                  </a:lnTo>
                  <a:lnTo>
                    <a:pt x="2" y="185"/>
                  </a:lnTo>
                  <a:lnTo>
                    <a:pt x="2" y="182"/>
                  </a:lnTo>
                  <a:lnTo>
                    <a:pt x="13" y="200"/>
                  </a:lnTo>
                  <a:lnTo>
                    <a:pt x="29" y="217"/>
                  </a:lnTo>
                  <a:lnTo>
                    <a:pt x="47" y="233"/>
                  </a:lnTo>
                  <a:lnTo>
                    <a:pt x="67" y="245"/>
                  </a:lnTo>
                  <a:lnTo>
                    <a:pt x="89" y="252"/>
                  </a:lnTo>
                  <a:lnTo>
                    <a:pt x="114" y="254"/>
                  </a:lnTo>
                  <a:lnTo>
                    <a:pt x="139" y="252"/>
                  </a:lnTo>
                  <a:lnTo>
                    <a:pt x="162" y="245"/>
                  </a:lnTo>
                  <a:lnTo>
                    <a:pt x="182" y="233"/>
                  </a:lnTo>
                  <a:lnTo>
                    <a:pt x="201" y="217"/>
                  </a:lnTo>
                  <a:lnTo>
                    <a:pt x="215" y="200"/>
                  </a:lnTo>
                  <a:lnTo>
                    <a:pt x="227" y="179"/>
                  </a:lnTo>
                  <a:lnTo>
                    <a:pt x="234" y="157"/>
                  </a:lnTo>
                  <a:lnTo>
                    <a:pt x="237" y="132"/>
                  </a:lnTo>
                  <a:lnTo>
                    <a:pt x="258" y="132"/>
                  </a:lnTo>
                  <a:lnTo>
                    <a:pt x="256" y="103"/>
                  </a:lnTo>
                  <a:lnTo>
                    <a:pt x="246" y="76"/>
                  </a:lnTo>
                  <a:lnTo>
                    <a:pt x="233" y="52"/>
                  </a:lnTo>
                  <a:lnTo>
                    <a:pt x="215" y="31"/>
                  </a:lnTo>
                  <a:lnTo>
                    <a:pt x="194" y="13"/>
                  </a:lnTo>
                  <a:lnTo>
                    <a:pt x="170" y="0"/>
                  </a:lnTo>
                  <a:lnTo>
                    <a:pt x="168" y="0"/>
                  </a:lnTo>
                  <a:lnTo>
                    <a:pt x="163" y="1"/>
                  </a:lnTo>
                  <a:lnTo>
                    <a:pt x="158" y="2"/>
                  </a:lnTo>
                  <a:lnTo>
                    <a:pt x="153" y="3"/>
                  </a:lnTo>
                  <a:lnTo>
                    <a:pt x="149" y="4"/>
                  </a:lnTo>
                  <a:lnTo>
                    <a:pt x="144" y="7"/>
                  </a:lnTo>
                  <a:lnTo>
                    <a:pt x="139" y="8"/>
                  </a:lnTo>
                  <a:lnTo>
                    <a:pt x="135" y="10"/>
                  </a:lnTo>
                  <a:lnTo>
                    <a:pt x="130" y="12"/>
                  </a:lnTo>
                  <a:lnTo>
                    <a:pt x="139" y="12"/>
                  </a:lnTo>
                  <a:lnTo>
                    <a:pt x="162" y="19"/>
                  </a:lnTo>
                  <a:lnTo>
                    <a:pt x="182" y="31"/>
                  </a:lnTo>
                  <a:lnTo>
                    <a:pt x="201" y="45"/>
                  </a:lnTo>
                  <a:lnTo>
                    <a:pt x="215" y="64"/>
                  </a:lnTo>
                  <a:lnTo>
                    <a:pt x="227" y="84"/>
                  </a:lnTo>
                  <a:lnTo>
                    <a:pt x="234" y="107"/>
                  </a:lnTo>
                  <a:lnTo>
                    <a:pt x="237" y="132"/>
                  </a:lnTo>
                  <a:lnTo>
                    <a:pt x="258" y="132"/>
                  </a:lnTo>
                  <a:lnTo>
                    <a:pt x="256" y="160"/>
                  </a:lnTo>
                  <a:lnTo>
                    <a:pt x="246" y="188"/>
                  </a:lnTo>
                  <a:lnTo>
                    <a:pt x="233" y="211"/>
                  </a:lnTo>
                  <a:lnTo>
                    <a:pt x="215" y="233"/>
                  </a:lnTo>
                  <a:lnTo>
                    <a:pt x="194" y="251"/>
                  </a:lnTo>
                  <a:lnTo>
                    <a:pt x="170" y="264"/>
                  </a:lnTo>
                  <a:lnTo>
                    <a:pt x="143" y="273"/>
                  </a:lnTo>
                  <a:lnTo>
                    <a:pt x="114" y="276"/>
                  </a:lnTo>
                  <a:lnTo>
                    <a:pt x="86" y="273"/>
                  </a:lnTo>
                  <a:lnTo>
                    <a:pt x="59" y="264"/>
                  </a:lnTo>
                  <a:lnTo>
                    <a:pt x="35" y="251"/>
                  </a:lnTo>
                  <a:lnTo>
                    <a:pt x="13" y="233"/>
                  </a:lnTo>
                  <a:lnTo>
                    <a:pt x="3" y="221"/>
                  </a:lnTo>
                  <a:close/>
                </a:path>
              </a:pathLst>
            </a:custGeom>
            <a:solidFill>
              <a:srgbClr val="ff6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60800" y="3485160"/>
              <a:ext cx="103680" cy="119520"/>
            </a:xfrm>
            <a:custGeom>
              <a:avLst/>
              <a:gdLst/>
              <a:ahLst/>
              <a:rect l="l" t="t" r="r" b="b"/>
              <a:pathLst>
                <a:path w="236" h="245">
                  <a:moveTo>
                    <a:pt x="10" y="124"/>
                  </a:moveTo>
                  <a:lnTo>
                    <a:pt x="8" y="130"/>
                  </a:lnTo>
                  <a:lnTo>
                    <a:pt x="7" y="136"/>
                  </a:lnTo>
                  <a:lnTo>
                    <a:pt x="4" y="142"/>
                  </a:lnTo>
                  <a:lnTo>
                    <a:pt x="3" y="148"/>
                  </a:lnTo>
                  <a:lnTo>
                    <a:pt x="2" y="154"/>
                  </a:lnTo>
                  <a:lnTo>
                    <a:pt x="1" y="161"/>
                  </a:lnTo>
                  <a:lnTo>
                    <a:pt x="0" y="167"/>
                  </a:lnTo>
                  <a:lnTo>
                    <a:pt x="0" y="173"/>
                  </a:lnTo>
                  <a:lnTo>
                    <a:pt x="10" y="191"/>
                  </a:lnTo>
                  <a:lnTo>
                    <a:pt x="26" y="209"/>
                  </a:lnTo>
                  <a:lnTo>
                    <a:pt x="44" y="224"/>
                  </a:lnTo>
                  <a:lnTo>
                    <a:pt x="65" y="236"/>
                  </a:lnTo>
                  <a:lnTo>
                    <a:pt x="87" y="243"/>
                  </a:lnTo>
                  <a:lnTo>
                    <a:pt x="112" y="245"/>
                  </a:lnTo>
                  <a:lnTo>
                    <a:pt x="137" y="243"/>
                  </a:lnTo>
                  <a:lnTo>
                    <a:pt x="160" y="236"/>
                  </a:lnTo>
                  <a:lnTo>
                    <a:pt x="181" y="224"/>
                  </a:lnTo>
                  <a:lnTo>
                    <a:pt x="199" y="209"/>
                  </a:lnTo>
                  <a:lnTo>
                    <a:pt x="214" y="191"/>
                  </a:lnTo>
                  <a:lnTo>
                    <a:pt x="226" y="169"/>
                  </a:lnTo>
                  <a:lnTo>
                    <a:pt x="233" y="147"/>
                  </a:lnTo>
                  <a:lnTo>
                    <a:pt x="236" y="122"/>
                  </a:lnTo>
                  <a:lnTo>
                    <a:pt x="214" y="122"/>
                  </a:lnTo>
                  <a:lnTo>
                    <a:pt x="212" y="102"/>
                  </a:lnTo>
                  <a:lnTo>
                    <a:pt x="206" y="82"/>
                  </a:lnTo>
                  <a:lnTo>
                    <a:pt x="197" y="65"/>
                  </a:lnTo>
                  <a:lnTo>
                    <a:pt x="185" y="49"/>
                  </a:lnTo>
                  <a:lnTo>
                    <a:pt x="169" y="37"/>
                  </a:lnTo>
                  <a:lnTo>
                    <a:pt x="151" y="28"/>
                  </a:lnTo>
                  <a:lnTo>
                    <a:pt x="133" y="22"/>
                  </a:lnTo>
                  <a:lnTo>
                    <a:pt x="112" y="19"/>
                  </a:lnTo>
                  <a:lnTo>
                    <a:pt x="92" y="22"/>
                  </a:lnTo>
                  <a:lnTo>
                    <a:pt x="85" y="24"/>
                  </a:lnTo>
                  <a:lnTo>
                    <a:pt x="91" y="21"/>
                  </a:lnTo>
                  <a:lnTo>
                    <a:pt x="96" y="17"/>
                  </a:lnTo>
                  <a:lnTo>
                    <a:pt x="102" y="13"/>
                  </a:lnTo>
                  <a:lnTo>
                    <a:pt x="106" y="11"/>
                  </a:lnTo>
                  <a:lnTo>
                    <a:pt x="112" y="8"/>
                  </a:lnTo>
                  <a:lnTo>
                    <a:pt x="118" y="5"/>
                  </a:lnTo>
                  <a:lnTo>
                    <a:pt x="124" y="3"/>
                  </a:lnTo>
                  <a:lnTo>
                    <a:pt x="130" y="0"/>
                  </a:lnTo>
                  <a:lnTo>
                    <a:pt x="137" y="0"/>
                  </a:lnTo>
                  <a:lnTo>
                    <a:pt x="160" y="8"/>
                  </a:lnTo>
                  <a:lnTo>
                    <a:pt x="181" y="19"/>
                  </a:lnTo>
                  <a:lnTo>
                    <a:pt x="199" y="35"/>
                  </a:lnTo>
                  <a:lnTo>
                    <a:pt x="214" y="53"/>
                  </a:lnTo>
                  <a:lnTo>
                    <a:pt x="226" y="74"/>
                  </a:lnTo>
                  <a:lnTo>
                    <a:pt x="233" y="97"/>
                  </a:lnTo>
                  <a:lnTo>
                    <a:pt x="236" y="122"/>
                  </a:lnTo>
                  <a:lnTo>
                    <a:pt x="214" y="122"/>
                  </a:lnTo>
                  <a:lnTo>
                    <a:pt x="212" y="142"/>
                  </a:lnTo>
                  <a:lnTo>
                    <a:pt x="206" y="161"/>
                  </a:lnTo>
                  <a:lnTo>
                    <a:pt x="197" y="179"/>
                  </a:lnTo>
                  <a:lnTo>
                    <a:pt x="185" y="194"/>
                  </a:lnTo>
                  <a:lnTo>
                    <a:pt x="169" y="206"/>
                  </a:lnTo>
                  <a:lnTo>
                    <a:pt x="151" y="216"/>
                  </a:lnTo>
                  <a:lnTo>
                    <a:pt x="133" y="222"/>
                  </a:lnTo>
                  <a:lnTo>
                    <a:pt x="112" y="224"/>
                  </a:lnTo>
                  <a:lnTo>
                    <a:pt x="92" y="222"/>
                  </a:lnTo>
                  <a:lnTo>
                    <a:pt x="73" y="216"/>
                  </a:lnTo>
                  <a:lnTo>
                    <a:pt x="55" y="206"/>
                  </a:lnTo>
                  <a:lnTo>
                    <a:pt x="40" y="194"/>
                  </a:lnTo>
                  <a:lnTo>
                    <a:pt x="28" y="179"/>
                  </a:lnTo>
                  <a:lnTo>
                    <a:pt x="19" y="161"/>
                  </a:lnTo>
                  <a:lnTo>
                    <a:pt x="13" y="142"/>
                  </a:lnTo>
                  <a:lnTo>
                    <a:pt x="10" y="124"/>
                  </a:lnTo>
                  <a:close/>
                </a:path>
              </a:pathLst>
            </a:custGeom>
            <a:solidFill>
              <a:srgbClr val="ff7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65120" y="3493800"/>
              <a:ext cx="90720" cy="10116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81" y="4"/>
                  </a:moveTo>
                  <a:lnTo>
                    <a:pt x="67" y="13"/>
                  </a:lnTo>
                  <a:lnTo>
                    <a:pt x="55" y="25"/>
                  </a:lnTo>
                  <a:lnTo>
                    <a:pt x="43" y="37"/>
                  </a:lnTo>
                  <a:lnTo>
                    <a:pt x="32" y="49"/>
                  </a:lnTo>
                  <a:lnTo>
                    <a:pt x="21" y="63"/>
                  </a:lnTo>
                  <a:lnTo>
                    <a:pt x="13" y="78"/>
                  </a:lnTo>
                  <a:lnTo>
                    <a:pt x="6" y="93"/>
                  </a:lnTo>
                  <a:lnTo>
                    <a:pt x="0" y="108"/>
                  </a:lnTo>
                  <a:lnTo>
                    <a:pt x="2" y="125"/>
                  </a:lnTo>
                  <a:lnTo>
                    <a:pt x="8" y="144"/>
                  </a:lnTo>
                  <a:lnTo>
                    <a:pt x="18" y="162"/>
                  </a:lnTo>
                  <a:lnTo>
                    <a:pt x="31" y="176"/>
                  </a:lnTo>
                  <a:lnTo>
                    <a:pt x="45" y="189"/>
                  </a:lnTo>
                  <a:lnTo>
                    <a:pt x="63" y="199"/>
                  </a:lnTo>
                  <a:lnTo>
                    <a:pt x="82" y="205"/>
                  </a:lnTo>
                  <a:lnTo>
                    <a:pt x="103" y="207"/>
                  </a:lnTo>
                  <a:lnTo>
                    <a:pt x="125" y="205"/>
                  </a:lnTo>
                  <a:lnTo>
                    <a:pt x="144" y="199"/>
                  </a:lnTo>
                  <a:lnTo>
                    <a:pt x="161" y="189"/>
                  </a:lnTo>
                  <a:lnTo>
                    <a:pt x="177" y="176"/>
                  </a:lnTo>
                  <a:lnTo>
                    <a:pt x="189" y="162"/>
                  </a:lnTo>
                  <a:lnTo>
                    <a:pt x="198" y="144"/>
                  </a:lnTo>
                  <a:lnTo>
                    <a:pt x="204" y="125"/>
                  </a:lnTo>
                  <a:lnTo>
                    <a:pt x="207" y="104"/>
                  </a:lnTo>
                  <a:lnTo>
                    <a:pt x="185" y="104"/>
                  </a:lnTo>
                  <a:lnTo>
                    <a:pt x="184" y="87"/>
                  </a:lnTo>
                  <a:lnTo>
                    <a:pt x="179" y="72"/>
                  </a:lnTo>
                  <a:lnTo>
                    <a:pt x="171" y="57"/>
                  </a:lnTo>
                  <a:lnTo>
                    <a:pt x="161" y="45"/>
                  </a:lnTo>
                  <a:lnTo>
                    <a:pt x="150" y="36"/>
                  </a:lnTo>
                  <a:lnTo>
                    <a:pt x="135" y="28"/>
                  </a:lnTo>
                  <a:lnTo>
                    <a:pt x="120" y="23"/>
                  </a:lnTo>
                  <a:lnTo>
                    <a:pt x="103" y="22"/>
                  </a:lnTo>
                  <a:lnTo>
                    <a:pt x="87" y="23"/>
                  </a:lnTo>
                  <a:lnTo>
                    <a:pt x="71" y="28"/>
                  </a:lnTo>
                  <a:lnTo>
                    <a:pt x="57" y="36"/>
                  </a:lnTo>
                  <a:lnTo>
                    <a:pt x="45" y="45"/>
                  </a:lnTo>
                  <a:lnTo>
                    <a:pt x="36" y="57"/>
                  </a:lnTo>
                  <a:lnTo>
                    <a:pt x="27" y="72"/>
                  </a:lnTo>
                  <a:lnTo>
                    <a:pt x="23" y="87"/>
                  </a:lnTo>
                  <a:lnTo>
                    <a:pt x="21" y="104"/>
                  </a:lnTo>
                  <a:lnTo>
                    <a:pt x="23" y="120"/>
                  </a:lnTo>
                  <a:lnTo>
                    <a:pt x="27" y="136"/>
                  </a:lnTo>
                  <a:lnTo>
                    <a:pt x="36" y="150"/>
                  </a:lnTo>
                  <a:lnTo>
                    <a:pt x="45" y="162"/>
                  </a:lnTo>
                  <a:lnTo>
                    <a:pt x="57" y="172"/>
                  </a:lnTo>
                  <a:lnTo>
                    <a:pt x="71" y="180"/>
                  </a:lnTo>
                  <a:lnTo>
                    <a:pt x="87" y="185"/>
                  </a:lnTo>
                  <a:lnTo>
                    <a:pt x="103" y="186"/>
                  </a:lnTo>
                  <a:lnTo>
                    <a:pt x="120" y="185"/>
                  </a:lnTo>
                  <a:lnTo>
                    <a:pt x="135" y="180"/>
                  </a:lnTo>
                  <a:lnTo>
                    <a:pt x="150" y="172"/>
                  </a:lnTo>
                  <a:lnTo>
                    <a:pt x="161" y="162"/>
                  </a:lnTo>
                  <a:lnTo>
                    <a:pt x="171" y="150"/>
                  </a:lnTo>
                  <a:lnTo>
                    <a:pt x="179" y="136"/>
                  </a:lnTo>
                  <a:lnTo>
                    <a:pt x="184" y="120"/>
                  </a:lnTo>
                  <a:lnTo>
                    <a:pt x="185" y="104"/>
                  </a:lnTo>
                  <a:lnTo>
                    <a:pt x="207" y="104"/>
                  </a:lnTo>
                  <a:lnTo>
                    <a:pt x="204" y="82"/>
                  </a:lnTo>
                  <a:lnTo>
                    <a:pt x="198" y="63"/>
                  </a:lnTo>
                  <a:lnTo>
                    <a:pt x="189" y="45"/>
                  </a:lnTo>
                  <a:lnTo>
                    <a:pt x="177" y="30"/>
                  </a:lnTo>
                  <a:lnTo>
                    <a:pt x="161" y="18"/>
                  </a:lnTo>
                  <a:lnTo>
                    <a:pt x="144" y="9"/>
                  </a:lnTo>
                  <a:lnTo>
                    <a:pt x="125" y="3"/>
                  </a:lnTo>
                  <a:lnTo>
                    <a:pt x="103" y="0"/>
                  </a:lnTo>
                  <a:lnTo>
                    <a:pt x="82" y="3"/>
                  </a:lnTo>
                  <a:lnTo>
                    <a:pt x="81" y="4"/>
                  </a:lnTo>
                  <a:close/>
                </a:path>
              </a:pathLst>
            </a:custGeom>
            <a:solidFill>
              <a:srgbClr val="ff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73760" y="3503520"/>
              <a:ext cx="73080" cy="8064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166" y="84"/>
                  </a:moveTo>
                  <a:lnTo>
                    <a:pt x="165" y="67"/>
                  </a:lnTo>
                  <a:lnTo>
                    <a:pt x="159" y="52"/>
                  </a:lnTo>
                  <a:lnTo>
                    <a:pt x="152" y="37"/>
                  </a:lnTo>
                  <a:lnTo>
                    <a:pt x="141" y="25"/>
                  </a:lnTo>
                  <a:lnTo>
                    <a:pt x="130" y="15"/>
                  </a:lnTo>
                  <a:lnTo>
                    <a:pt x="115" y="8"/>
                  </a:lnTo>
                  <a:lnTo>
                    <a:pt x="100" y="2"/>
                  </a:lnTo>
                  <a:lnTo>
                    <a:pt x="83" y="0"/>
                  </a:lnTo>
                  <a:lnTo>
                    <a:pt x="67" y="2"/>
                  </a:lnTo>
                  <a:lnTo>
                    <a:pt x="51" y="8"/>
                  </a:lnTo>
                  <a:lnTo>
                    <a:pt x="37" y="15"/>
                  </a:lnTo>
                  <a:lnTo>
                    <a:pt x="25" y="25"/>
                  </a:lnTo>
                  <a:lnTo>
                    <a:pt x="15" y="37"/>
                  </a:lnTo>
                  <a:lnTo>
                    <a:pt x="7" y="52"/>
                  </a:lnTo>
                  <a:lnTo>
                    <a:pt x="1" y="67"/>
                  </a:lnTo>
                  <a:lnTo>
                    <a:pt x="0" y="84"/>
                  </a:lnTo>
                  <a:lnTo>
                    <a:pt x="1" y="100"/>
                  </a:lnTo>
                  <a:lnTo>
                    <a:pt x="7" y="116"/>
                  </a:lnTo>
                  <a:lnTo>
                    <a:pt x="15" y="130"/>
                  </a:lnTo>
                  <a:lnTo>
                    <a:pt x="25" y="142"/>
                  </a:lnTo>
                  <a:lnTo>
                    <a:pt x="37" y="153"/>
                  </a:lnTo>
                  <a:lnTo>
                    <a:pt x="51" y="160"/>
                  </a:lnTo>
                  <a:lnTo>
                    <a:pt x="67" y="166"/>
                  </a:lnTo>
                  <a:lnTo>
                    <a:pt x="83" y="167"/>
                  </a:lnTo>
                  <a:lnTo>
                    <a:pt x="100" y="166"/>
                  </a:lnTo>
                  <a:lnTo>
                    <a:pt x="115" y="160"/>
                  </a:lnTo>
                  <a:lnTo>
                    <a:pt x="130" y="153"/>
                  </a:lnTo>
                  <a:lnTo>
                    <a:pt x="141" y="142"/>
                  </a:lnTo>
                  <a:lnTo>
                    <a:pt x="152" y="130"/>
                  </a:lnTo>
                  <a:lnTo>
                    <a:pt x="159" y="116"/>
                  </a:lnTo>
                  <a:lnTo>
                    <a:pt x="165" y="100"/>
                  </a:lnTo>
                  <a:lnTo>
                    <a:pt x="166" y="84"/>
                  </a:lnTo>
                  <a:lnTo>
                    <a:pt x="145" y="84"/>
                  </a:lnTo>
                  <a:lnTo>
                    <a:pt x="144" y="72"/>
                  </a:lnTo>
                  <a:lnTo>
                    <a:pt x="140" y="60"/>
                  </a:lnTo>
                  <a:lnTo>
                    <a:pt x="134" y="49"/>
                  </a:lnTo>
                  <a:lnTo>
                    <a:pt x="127" y="40"/>
                  </a:lnTo>
                  <a:lnTo>
                    <a:pt x="118" y="33"/>
                  </a:lnTo>
                  <a:lnTo>
                    <a:pt x="107" y="27"/>
                  </a:lnTo>
                  <a:lnTo>
                    <a:pt x="95" y="23"/>
                  </a:lnTo>
                  <a:lnTo>
                    <a:pt x="83" y="22"/>
                  </a:lnTo>
                  <a:lnTo>
                    <a:pt x="71" y="23"/>
                  </a:lnTo>
                  <a:lnTo>
                    <a:pt x="60" y="27"/>
                  </a:lnTo>
                  <a:lnTo>
                    <a:pt x="49" y="33"/>
                  </a:lnTo>
                  <a:lnTo>
                    <a:pt x="41" y="40"/>
                  </a:lnTo>
                  <a:lnTo>
                    <a:pt x="32" y="49"/>
                  </a:lnTo>
                  <a:lnTo>
                    <a:pt x="26" y="60"/>
                  </a:lnTo>
                  <a:lnTo>
                    <a:pt x="23" y="72"/>
                  </a:lnTo>
                  <a:lnTo>
                    <a:pt x="22" y="84"/>
                  </a:lnTo>
                  <a:lnTo>
                    <a:pt x="23" y="96"/>
                  </a:lnTo>
                  <a:lnTo>
                    <a:pt x="26" y="108"/>
                  </a:lnTo>
                  <a:lnTo>
                    <a:pt x="32" y="118"/>
                  </a:lnTo>
                  <a:lnTo>
                    <a:pt x="41" y="127"/>
                  </a:lnTo>
                  <a:lnTo>
                    <a:pt x="49" y="135"/>
                  </a:lnTo>
                  <a:lnTo>
                    <a:pt x="60" y="141"/>
                  </a:lnTo>
                  <a:lnTo>
                    <a:pt x="71" y="144"/>
                  </a:lnTo>
                  <a:lnTo>
                    <a:pt x="83" y="146"/>
                  </a:lnTo>
                  <a:lnTo>
                    <a:pt x="95" y="144"/>
                  </a:lnTo>
                  <a:lnTo>
                    <a:pt x="107" y="141"/>
                  </a:lnTo>
                  <a:lnTo>
                    <a:pt x="118" y="135"/>
                  </a:lnTo>
                  <a:lnTo>
                    <a:pt x="127" y="127"/>
                  </a:lnTo>
                  <a:lnTo>
                    <a:pt x="134" y="118"/>
                  </a:lnTo>
                  <a:lnTo>
                    <a:pt x="140" y="108"/>
                  </a:lnTo>
                  <a:lnTo>
                    <a:pt x="144" y="96"/>
                  </a:lnTo>
                  <a:lnTo>
                    <a:pt x="145" y="84"/>
                  </a:lnTo>
                  <a:lnTo>
                    <a:pt x="166" y="84"/>
                  </a:lnTo>
                  <a:close/>
                </a:path>
              </a:pathLst>
            </a:custGeom>
            <a:solidFill>
              <a:srgbClr val="ffa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82760" y="3513240"/>
              <a:ext cx="55440" cy="61200"/>
            </a:xfrm>
            <a:custGeom>
              <a:avLst/>
              <a:gdLst/>
              <a:ahLst/>
              <a:rect l="l" t="t" r="r" b="b"/>
              <a:pathLst>
                <a:path w="126" h="126">
                  <a:moveTo>
                    <a:pt x="126" y="63"/>
                  </a:moveTo>
                  <a:lnTo>
                    <a:pt x="125" y="50"/>
                  </a:lnTo>
                  <a:lnTo>
                    <a:pt x="121" y="38"/>
                  </a:lnTo>
                  <a:lnTo>
                    <a:pt x="116" y="27"/>
                  </a:lnTo>
                  <a:lnTo>
                    <a:pt x="107" y="19"/>
                  </a:lnTo>
                  <a:lnTo>
                    <a:pt x="99" y="10"/>
                  </a:lnTo>
                  <a:lnTo>
                    <a:pt x="88" y="4"/>
                  </a:lnTo>
                  <a:lnTo>
                    <a:pt x="76" y="1"/>
                  </a:lnTo>
                  <a:lnTo>
                    <a:pt x="63" y="0"/>
                  </a:lnTo>
                  <a:lnTo>
                    <a:pt x="50" y="1"/>
                  </a:lnTo>
                  <a:lnTo>
                    <a:pt x="38" y="4"/>
                  </a:lnTo>
                  <a:lnTo>
                    <a:pt x="28" y="10"/>
                  </a:lnTo>
                  <a:lnTo>
                    <a:pt x="19" y="19"/>
                  </a:lnTo>
                  <a:lnTo>
                    <a:pt x="11" y="27"/>
                  </a:lnTo>
                  <a:lnTo>
                    <a:pt x="5" y="38"/>
                  </a:lnTo>
                  <a:lnTo>
                    <a:pt x="2" y="50"/>
                  </a:lnTo>
                  <a:lnTo>
                    <a:pt x="0" y="63"/>
                  </a:lnTo>
                  <a:lnTo>
                    <a:pt x="2" y="76"/>
                  </a:lnTo>
                  <a:lnTo>
                    <a:pt x="5" y="88"/>
                  </a:lnTo>
                  <a:lnTo>
                    <a:pt x="11" y="98"/>
                  </a:lnTo>
                  <a:lnTo>
                    <a:pt x="19" y="107"/>
                  </a:lnTo>
                  <a:lnTo>
                    <a:pt x="28" y="115"/>
                  </a:lnTo>
                  <a:lnTo>
                    <a:pt x="38" y="121"/>
                  </a:lnTo>
                  <a:lnTo>
                    <a:pt x="50" y="125"/>
                  </a:lnTo>
                  <a:lnTo>
                    <a:pt x="63" y="126"/>
                  </a:lnTo>
                  <a:lnTo>
                    <a:pt x="76" y="125"/>
                  </a:lnTo>
                  <a:lnTo>
                    <a:pt x="88" y="121"/>
                  </a:lnTo>
                  <a:lnTo>
                    <a:pt x="99" y="115"/>
                  </a:lnTo>
                  <a:lnTo>
                    <a:pt x="107" y="107"/>
                  </a:lnTo>
                  <a:lnTo>
                    <a:pt x="116" y="98"/>
                  </a:lnTo>
                  <a:lnTo>
                    <a:pt x="121" y="88"/>
                  </a:lnTo>
                  <a:lnTo>
                    <a:pt x="125" y="76"/>
                  </a:lnTo>
                  <a:lnTo>
                    <a:pt x="126" y="63"/>
                  </a:lnTo>
                  <a:lnTo>
                    <a:pt x="105" y="63"/>
                  </a:lnTo>
                  <a:lnTo>
                    <a:pt x="104" y="54"/>
                  </a:lnTo>
                  <a:lnTo>
                    <a:pt x="101" y="47"/>
                  </a:lnTo>
                  <a:lnTo>
                    <a:pt x="98" y="40"/>
                  </a:lnTo>
                  <a:lnTo>
                    <a:pt x="93" y="33"/>
                  </a:lnTo>
                  <a:lnTo>
                    <a:pt x="86" y="28"/>
                  </a:lnTo>
                  <a:lnTo>
                    <a:pt x="79" y="25"/>
                  </a:lnTo>
                  <a:lnTo>
                    <a:pt x="72" y="22"/>
                  </a:lnTo>
                  <a:lnTo>
                    <a:pt x="63" y="21"/>
                  </a:lnTo>
                  <a:lnTo>
                    <a:pt x="55" y="22"/>
                  </a:lnTo>
                  <a:lnTo>
                    <a:pt x="48" y="25"/>
                  </a:lnTo>
                  <a:lnTo>
                    <a:pt x="41" y="28"/>
                  </a:lnTo>
                  <a:lnTo>
                    <a:pt x="34" y="33"/>
                  </a:lnTo>
                  <a:lnTo>
                    <a:pt x="29" y="40"/>
                  </a:lnTo>
                  <a:lnTo>
                    <a:pt x="25" y="47"/>
                  </a:lnTo>
                  <a:lnTo>
                    <a:pt x="23" y="54"/>
                  </a:lnTo>
                  <a:lnTo>
                    <a:pt x="22" y="63"/>
                  </a:lnTo>
                  <a:lnTo>
                    <a:pt x="23" y="71"/>
                  </a:lnTo>
                  <a:lnTo>
                    <a:pt x="25" y="78"/>
                  </a:lnTo>
                  <a:lnTo>
                    <a:pt x="29" y="85"/>
                  </a:lnTo>
                  <a:lnTo>
                    <a:pt x="34" y="92"/>
                  </a:lnTo>
                  <a:lnTo>
                    <a:pt x="41" y="97"/>
                  </a:lnTo>
                  <a:lnTo>
                    <a:pt x="48" y="101"/>
                  </a:lnTo>
                  <a:lnTo>
                    <a:pt x="55" y="103"/>
                  </a:lnTo>
                  <a:lnTo>
                    <a:pt x="63" y="104"/>
                  </a:lnTo>
                  <a:lnTo>
                    <a:pt x="72" y="103"/>
                  </a:lnTo>
                  <a:lnTo>
                    <a:pt x="79" y="101"/>
                  </a:lnTo>
                  <a:lnTo>
                    <a:pt x="86" y="97"/>
                  </a:lnTo>
                  <a:lnTo>
                    <a:pt x="93" y="92"/>
                  </a:lnTo>
                  <a:lnTo>
                    <a:pt x="98" y="85"/>
                  </a:lnTo>
                  <a:lnTo>
                    <a:pt x="101" y="78"/>
                  </a:lnTo>
                  <a:lnTo>
                    <a:pt x="104" y="71"/>
                  </a:lnTo>
                  <a:lnTo>
                    <a:pt x="105" y="63"/>
                  </a:lnTo>
                  <a:lnTo>
                    <a:pt x="126" y="63"/>
                  </a:lnTo>
                  <a:close/>
                </a:path>
              </a:pathLst>
            </a:custGeom>
            <a:solidFill>
              <a:srgbClr val="f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91400" y="3522960"/>
              <a:ext cx="37800" cy="4176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85" y="43"/>
                  </a:moveTo>
                  <a:lnTo>
                    <a:pt x="84" y="34"/>
                  </a:lnTo>
                  <a:lnTo>
                    <a:pt x="81" y="26"/>
                  </a:lnTo>
                  <a:lnTo>
                    <a:pt x="78" y="19"/>
                  </a:lnTo>
                  <a:lnTo>
                    <a:pt x="72" y="13"/>
                  </a:lnTo>
                  <a:lnTo>
                    <a:pt x="66" y="7"/>
                  </a:lnTo>
                  <a:lnTo>
                    <a:pt x="59" y="3"/>
                  </a:lnTo>
                  <a:lnTo>
                    <a:pt x="51" y="1"/>
                  </a:lnTo>
                  <a:lnTo>
                    <a:pt x="42" y="0"/>
                  </a:lnTo>
                  <a:lnTo>
                    <a:pt x="34" y="1"/>
                  </a:lnTo>
                  <a:lnTo>
                    <a:pt x="26" y="3"/>
                  </a:lnTo>
                  <a:lnTo>
                    <a:pt x="19" y="7"/>
                  </a:lnTo>
                  <a:lnTo>
                    <a:pt x="13" y="13"/>
                  </a:lnTo>
                  <a:lnTo>
                    <a:pt x="7" y="19"/>
                  </a:lnTo>
                  <a:lnTo>
                    <a:pt x="3" y="26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1" y="51"/>
                  </a:lnTo>
                  <a:lnTo>
                    <a:pt x="3" y="59"/>
                  </a:lnTo>
                  <a:lnTo>
                    <a:pt x="7" y="67"/>
                  </a:lnTo>
                  <a:lnTo>
                    <a:pt x="13" y="72"/>
                  </a:lnTo>
                  <a:lnTo>
                    <a:pt x="19" y="78"/>
                  </a:lnTo>
                  <a:lnTo>
                    <a:pt x="26" y="82"/>
                  </a:lnTo>
                  <a:lnTo>
                    <a:pt x="34" y="84"/>
                  </a:lnTo>
                  <a:lnTo>
                    <a:pt x="42" y="86"/>
                  </a:lnTo>
                  <a:lnTo>
                    <a:pt x="51" y="84"/>
                  </a:lnTo>
                  <a:lnTo>
                    <a:pt x="59" y="82"/>
                  </a:lnTo>
                  <a:lnTo>
                    <a:pt x="66" y="78"/>
                  </a:lnTo>
                  <a:lnTo>
                    <a:pt x="72" y="72"/>
                  </a:lnTo>
                  <a:lnTo>
                    <a:pt x="78" y="67"/>
                  </a:lnTo>
                  <a:lnTo>
                    <a:pt x="81" y="59"/>
                  </a:lnTo>
                  <a:lnTo>
                    <a:pt x="84" y="51"/>
                  </a:lnTo>
                  <a:lnTo>
                    <a:pt x="85" y="43"/>
                  </a:lnTo>
                  <a:lnTo>
                    <a:pt x="85" y="43"/>
                  </a:lnTo>
                  <a:close/>
                </a:path>
              </a:pathLst>
            </a:custGeom>
            <a:solidFill>
              <a:srgbClr val="f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00040" y="3533760"/>
              <a:ext cx="20160" cy="21240"/>
            </a:xfrm>
            <a:custGeom>
              <a:avLst/>
              <a:gdLst/>
              <a:ahLst/>
              <a:rect l="l" t="t" r="r" b="b"/>
              <a:pathLst>
                <a:path w="45" h="45">
                  <a:moveTo>
                    <a:pt x="45" y="23"/>
                  </a:moveTo>
                  <a:lnTo>
                    <a:pt x="43" y="14"/>
                  </a:lnTo>
                  <a:lnTo>
                    <a:pt x="38" y="7"/>
                  </a:lnTo>
                  <a:lnTo>
                    <a:pt x="31" y="3"/>
                  </a:lnTo>
                  <a:lnTo>
                    <a:pt x="22" y="0"/>
                  </a:lnTo>
                  <a:lnTo>
                    <a:pt x="14" y="3"/>
                  </a:lnTo>
                  <a:lnTo>
                    <a:pt x="7" y="7"/>
                  </a:lnTo>
                  <a:lnTo>
                    <a:pt x="2" y="14"/>
                  </a:lnTo>
                  <a:lnTo>
                    <a:pt x="0" y="23"/>
                  </a:lnTo>
                  <a:lnTo>
                    <a:pt x="2" y="31"/>
                  </a:lnTo>
                  <a:lnTo>
                    <a:pt x="7" y="38"/>
                  </a:lnTo>
                  <a:lnTo>
                    <a:pt x="14" y="43"/>
                  </a:lnTo>
                  <a:lnTo>
                    <a:pt x="22" y="45"/>
                  </a:lnTo>
                  <a:lnTo>
                    <a:pt x="31" y="43"/>
                  </a:lnTo>
                  <a:lnTo>
                    <a:pt x="38" y="38"/>
                  </a:lnTo>
                  <a:lnTo>
                    <a:pt x="43" y="31"/>
                  </a:lnTo>
                  <a:lnTo>
                    <a:pt x="45" y="23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135160" y="3276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tono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1760" y="1530360"/>
            <a:ext cx="531720" cy="1979640"/>
          </a:xfrm>
          <a:custGeom>
            <a:avLst/>
            <a:gdLst/>
            <a:ahLst/>
            <a:rect l="l" t="t" r="r" b="b"/>
            <a:pathLst>
              <a:path w="1210" h="4079">
                <a:moveTo>
                  <a:pt x="1151" y="4063"/>
                </a:moveTo>
                <a:lnTo>
                  <a:pt x="1210" y="4048"/>
                </a:lnTo>
                <a:lnTo>
                  <a:pt x="117" y="0"/>
                </a:lnTo>
                <a:lnTo>
                  <a:pt x="0" y="31"/>
                </a:lnTo>
                <a:lnTo>
                  <a:pt x="1093" y="4079"/>
                </a:lnTo>
                <a:lnTo>
                  <a:pt x="1151" y="4063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3160" y="3562200"/>
            <a:ext cx="2382840" cy="231840"/>
          </a:xfrm>
          <a:custGeom>
            <a:avLst/>
            <a:gdLst/>
            <a:ahLst/>
            <a:rect l="l" t="t" r="r" b="b"/>
            <a:pathLst>
              <a:path w="5413" h="479">
                <a:moveTo>
                  <a:pt x="4" y="419"/>
                </a:moveTo>
                <a:lnTo>
                  <a:pt x="7" y="479"/>
                </a:lnTo>
                <a:lnTo>
                  <a:pt x="5413" y="119"/>
                </a:lnTo>
                <a:lnTo>
                  <a:pt x="5405" y="0"/>
                </a:lnTo>
                <a:lnTo>
                  <a:pt x="0" y="360"/>
                </a:lnTo>
                <a:lnTo>
                  <a:pt x="4" y="419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06600" y="3573360"/>
            <a:ext cx="803520" cy="317520"/>
          </a:xfrm>
          <a:custGeom>
            <a:avLst/>
            <a:gdLst/>
            <a:ahLst/>
            <a:rect l="l" t="t" r="r" b="b"/>
            <a:pathLst>
              <a:path w="1824" h="655">
                <a:moveTo>
                  <a:pt x="1807" y="598"/>
                </a:moveTo>
                <a:lnTo>
                  <a:pt x="1824" y="541"/>
                </a:lnTo>
                <a:lnTo>
                  <a:pt x="33" y="0"/>
                </a:lnTo>
                <a:lnTo>
                  <a:pt x="0" y="114"/>
                </a:lnTo>
                <a:lnTo>
                  <a:pt x="1791" y="655"/>
                </a:lnTo>
                <a:lnTo>
                  <a:pt x="1807" y="59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90640" y="2682720"/>
            <a:ext cx="574920" cy="909720"/>
          </a:xfrm>
          <a:custGeom>
            <a:avLst/>
            <a:gdLst/>
            <a:ahLst/>
            <a:rect l="l" t="t" r="r" b="b"/>
            <a:pathLst>
              <a:path w="1305" h="1873">
                <a:moveTo>
                  <a:pt x="29" y="20"/>
                </a:moveTo>
                <a:lnTo>
                  <a:pt x="0" y="40"/>
                </a:lnTo>
                <a:lnTo>
                  <a:pt x="1246" y="1873"/>
                </a:lnTo>
                <a:lnTo>
                  <a:pt x="1305" y="1833"/>
                </a:lnTo>
                <a:lnTo>
                  <a:pt x="59" y="0"/>
                </a:lnTo>
                <a:lnTo>
                  <a:pt x="29" y="20"/>
                </a:lnTo>
                <a:close/>
              </a:path>
            </a:pathLst>
          </a:cu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97040" y="2575080"/>
            <a:ext cx="211320" cy="225000"/>
            <a:chOff x="2597040" y="2575080"/>
            <a:chExt cx="211320" cy="225000"/>
          </a:xfrm>
        </p:grpSpPr>
        <p:sp>
          <p:nvSpPr>
            <p:cNvPr id="116" name=""/>
            <p:cNvSpPr/>
            <p:nvPr/>
          </p:nvSpPr>
          <p:spPr>
            <a:xfrm>
              <a:off x="2688120" y="2674080"/>
              <a:ext cx="28800" cy="27000"/>
            </a:xfrm>
            <a:custGeom>
              <a:avLst/>
              <a:gdLst/>
              <a:ahLst/>
              <a:rect l="l" t="t" r="r" b="b"/>
              <a:pathLst>
                <a:path w="65" h="56">
                  <a:moveTo>
                    <a:pt x="65" y="16"/>
                  </a:moveTo>
                  <a:lnTo>
                    <a:pt x="54" y="5"/>
                  </a:lnTo>
                  <a:lnTo>
                    <a:pt x="41" y="0"/>
                  </a:lnTo>
                  <a:lnTo>
                    <a:pt x="28" y="2"/>
                  </a:lnTo>
                  <a:lnTo>
                    <a:pt x="16" y="6"/>
                  </a:lnTo>
                  <a:lnTo>
                    <a:pt x="6" y="16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6" y="56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36360" y="2665440"/>
              <a:ext cx="72000" cy="128160"/>
            </a:xfrm>
            <a:custGeom>
              <a:avLst/>
              <a:gdLst/>
              <a:ahLst/>
              <a:rect l="l" t="t" r="r" b="b"/>
              <a:pathLst>
                <a:path w="164" h="266">
                  <a:moveTo>
                    <a:pt x="160" y="0"/>
                  </a:moveTo>
                  <a:lnTo>
                    <a:pt x="161" y="6"/>
                  </a:lnTo>
                  <a:lnTo>
                    <a:pt x="161" y="11"/>
                  </a:lnTo>
                  <a:lnTo>
                    <a:pt x="162" y="17"/>
                  </a:lnTo>
                  <a:lnTo>
                    <a:pt x="162" y="23"/>
                  </a:lnTo>
                  <a:lnTo>
                    <a:pt x="164" y="28"/>
                  </a:lnTo>
                  <a:lnTo>
                    <a:pt x="164" y="34"/>
                  </a:lnTo>
                  <a:lnTo>
                    <a:pt x="164" y="40"/>
                  </a:lnTo>
                  <a:lnTo>
                    <a:pt x="164" y="46"/>
                  </a:lnTo>
                  <a:lnTo>
                    <a:pt x="162" y="65"/>
                  </a:lnTo>
                  <a:lnTo>
                    <a:pt x="160" y="84"/>
                  </a:lnTo>
                  <a:lnTo>
                    <a:pt x="156" y="101"/>
                  </a:lnTo>
                  <a:lnTo>
                    <a:pt x="152" y="119"/>
                  </a:lnTo>
                  <a:lnTo>
                    <a:pt x="145" y="136"/>
                  </a:lnTo>
                  <a:lnTo>
                    <a:pt x="136" y="151"/>
                  </a:lnTo>
                  <a:lnTo>
                    <a:pt x="128" y="168"/>
                  </a:lnTo>
                  <a:lnTo>
                    <a:pt x="117" y="182"/>
                  </a:lnTo>
                  <a:lnTo>
                    <a:pt x="105" y="197"/>
                  </a:lnTo>
                  <a:lnTo>
                    <a:pt x="94" y="210"/>
                  </a:lnTo>
                  <a:lnTo>
                    <a:pt x="79" y="222"/>
                  </a:lnTo>
                  <a:lnTo>
                    <a:pt x="65" y="232"/>
                  </a:lnTo>
                  <a:lnTo>
                    <a:pt x="50" y="243"/>
                  </a:lnTo>
                  <a:lnTo>
                    <a:pt x="34" y="251"/>
                  </a:lnTo>
                  <a:lnTo>
                    <a:pt x="18" y="260"/>
                  </a:lnTo>
                  <a:lnTo>
                    <a:pt x="0" y="266"/>
                  </a:lnTo>
                  <a:lnTo>
                    <a:pt x="7" y="261"/>
                  </a:lnTo>
                  <a:lnTo>
                    <a:pt x="34" y="241"/>
                  </a:lnTo>
                  <a:lnTo>
                    <a:pt x="59" y="218"/>
                  </a:lnTo>
                  <a:lnTo>
                    <a:pt x="82" y="193"/>
                  </a:lnTo>
                  <a:lnTo>
                    <a:pt x="102" y="166"/>
                  </a:lnTo>
                  <a:lnTo>
                    <a:pt x="120" y="137"/>
                  </a:lnTo>
                  <a:lnTo>
                    <a:pt x="135" y="106"/>
                  </a:lnTo>
                  <a:lnTo>
                    <a:pt x="147" y="74"/>
                  </a:lnTo>
                  <a:lnTo>
                    <a:pt x="155" y="41"/>
                  </a:lnTo>
                  <a:lnTo>
                    <a:pt x="160" y="5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e0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02160" y="2635200"/>
              <a:ext cx="105120" cy="164160"/>
            </a:xfrm>
            <a:custGeom>
              <a:avLst/>
              <a:gdLst/>
              <a:ahLst/>
              <a:rect l="l" t="t" r="r" b="b"/>
              <a:pathLst>
                <a:path w="238" h="339">
                  <a:moveTo>
                    <a:pt x="214" y="0"/>
                  </a:moveTo>
                  <a:lnTo>
                    <a:pt x="218" y="7"/>
                  </a:lnTo>
                  <a:lnTo>
                    <a:pt x="222" y="15"/>
                  </a:lnTo>
                  <a:lnTo>
                    <a:pt x="225" y="22"/>
                  </a:lnTo>
                  <a:lnTo>
                    <a:pt x="229" y="30"/>
                  </a:lnTo>
                  <a:lnTo>
                    <a:pt x="216" y="30"/>
                  </a:lnTo>
                  <a:lnTo>
                    <a:pt x="214" y="0"/>
                  </a:lnTo>
                  <a:close/>
                  <a:moveTo>
                    <a:pt x="238" y="66"/>
                  </a:moveTo>
                  <a:lnTo>
                    <a:pt x="237" y="61"/>
                  </a:lnTo>
                  <a:lnTo>
                    <a:pt x="236" y="57"/>
                  </a:lnTo>
                  <a:lnTo>
                    <a:pt x="235" y="53"/>
                  </a:lnTo>
                  <a:lnTo>
                    <a:pt x="233" y="48"/>
                  </a:lnTo>
                  <a:lnTo>
                    <a:pt x="232" y="44"/>
                  </a:lnTo>
                  <a:lnTo>
                    <a:pt x="231" y="39"/>
                  </a:lnTo>
                  <a:lnTo>
                    <a:pt x="230" y="35"/>
                  </a:lnTo>
                  <a:lnTo>
                    <a:pt x="229" y="30"/>
                  </a:lnTo>
                  <a:lnTo>
                    <a:pt x="216" y="30"/>
                  </a:lnTo>
                  <a:lnTo>
                    <a:pt x="214" y="64"/>
                  </a:lnTo>
                  <a:lnTo>
                    <a:pt x="209" y="96"/>
                  </a:lnTo>
                  <a:lnTo>
                    <a:pt x="201" y="128"/>
                  </a:lnTo>
                  <a:lnTo>
                    <a:pt x="190" y="158"/>
                  </a:lnTo>
                  <a:lnTo>
                    <a:pt x="177" y="186"/>
                  </a:lnTo>
                  <a:lnTo>
                    <a:pt x="160" y="214"/>
                  </a:lnTo>
                  <a:lnTo>
                    <a:pt x="141" y="239"/>
                  </a:lnTo>
                  <a:lnTo>
                    <a:pt x="120" y="262"/>
                  </a:lnTo>
                  <a:lnTo>
                    <a:pt x="96" y="284"/>
                  </a:lnTo>
                  <a:lnTo>
                    <a:pt x="71" y="303"/>
                  </a:lnTo>
                  <a:lnTo>
                    <a:pt x="44" y="320"/>
                  </a:lnTo>
                  <a:lnTo>
                    <a:pt x="15" y="333"/>
                  </a:lnTo>
                  <a:lnTo>
                    <a:pt x="0" y="339"/>
                  </a:lnTo>
                  <a:lnTo>
                    <a:pt x="10" y="339"/>
                  </a:lnTo>
                  <a:lnTo>
                    <a:pt x="21" y="337"/>
                  </a:lnTo>
                  <a:lnTo>
                    <a:pt x="32" y="336"/>
                  </a:lnTo>
                  <a:lnTo>
                    <a:pt x="42" y="335"/>
                  </a:lnTo>
                  <a:lnTo>
                    <a:pt x="53" y="333"/>
                  </a:lnTo>
                  <a:lnTo>
                    <a:pt x="63" y="330"/>
                  </a:lnTo>
                  <a:lnTo>
                    <a:pt x="73" y="328"/>
                  </a:lnTo>
                  <a:lnTo>
                    <a:pt x="83" y="324"/>
                  </a:lnTo>
                  <a:lnTo>
                    <a:pt x="85" y="323"/>
                  </a:lnTo>
                  <a:lnTo>
                    <a:pt x="112" y="303"/>
                  </a:lnTo>
                  <a:lnTo>
                    <a:pt x="137" y="280"/>
                  </a:lnTo>
                  <a:lnTo>
                    <a:pt x="160" y="255"/>
                  </a:lnTo>
                  <a:lnTo>
                    <a:pt x="180" y="228"/>
                  </a:lnTo>
                  <a:lnTo>
                    <a:pt x="198" y="199"/>
                  </a:lnTo>
                  <a:lnTo>
                    <a:pt x="213" y="168"/>
                  </a:lnTo>
                  <a:lnTo>
                    <a:pt x="225" y="135"/>
                  </a:lnTo>
                  <a:lnTo>
                    <a:pt x="233" y="102"/>
                  </a:lnTo>
                  <a:lnTo>
                    <a:pt x="238" y="66"/>
                  </a:lnTo>
                  <a:lnTo>
                    <a:pt x="238" y="66"/>
                  </a:lnTo>
                  <a:close/>
                </a:path>
              </a:pathLst>
            </a:custGeom>
            <a:solidFill>
              <a:srgbClr val="eb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76600" y="2613600"/>
              <a:ext cx="120960" cy="186480"/>
            </a:xfrm>
            <a:custGeom>
              <a:avLst/>
              <a:gdLst/>
              <a:ahLst/>
              <a:rect l="l" t="t" r="r" b="b"/>
              <a:pathLst>
                <a:path w="275" h="384">
                  <a:moveTo>
                    <a:pt x="274" y="46"/>
                  </a:moveTo>
                  <a:lnTo>
                    <a:pt x="270" y="40"/>
                  </a:lnTo>
                  <a:lnTo>
                    <a:pt x="267" y="34"/>
                  </a:lnTo>
                  <a:lnTo>
                    <a:pt x="263" y="28"/>
                  </a:lnTo>
                  <a:lnTo>
                    <a:pt x="258" y="22"/>
                  </a:lnTo>
                  <a:lnTo>
                    <a:pt x="255" y="16"/>
                  </a:lnTo>
                  <a:lnTo>
                    <a:pt x="250" y="10"/>
                  </a:lnTo>
                  <a:lnTo>
                    <a:pt x="245" y="5"/>
                  </a:lnTo>
                  <a:lnTo>
                    <a:pt x="240" y="0"/>
                  </a:lnTo>
                  <a:lnTo>
                    <a:pt x="245" y="13"/>
                  </a:lnTo>
                  <a:lnTo>
                    <a:pt x="250" y="44"/>
                  </a:lnTo>
                  <a:lnTo>
                    <a:pt x="251" y="74"/>
                  </a:lnTo>
                  <a:lnTo>
                    <a:pt x="275" y="74"/>
                  </a:lnTo>
                  <a:lnTo>
                    <a:pt x="274" y="108"/>
                  </a:lnTo>
                  <a:lnTo>
                    <a:pt x="268" y="141"/>
                  </a:lnTo>
                  <a:lnTo>
                    <a:pt x="259" y="172"/>
                  </a:lnTo>
                  <a:lnTo>
                    <a:pt x="249" y="202"/>
                  </a:lnTo>
                  <a:lnTo>
                    <a:pt x="235" y="231"/>
                  </a:lnTo>
                  <a:lnTo>
                    <a:pt x="218" y="258"/>
                  </a:lnTo>
                  <a:lnTo>
                    <a:pt x="199" y="284"/>
                  </a:lnTo>
                  <a:lnTo>
                    <a:pt x="179" y="306"/>
                  </a:lnTo>
                  <a:lnTo>
                    <a:pt x="155" y="328"/>
                  </a:lnTo>
                  <a:lnTo>
                    <a:pt x="129" y="347"/>
                  </a:lnTo>
                  <a:lnTo>
                    <a:pt x="103" y="364"/>
                  </a:lnTo>
                  <a:lnTo>
                    <a:pt x="73" y="378"/>
                  </a:lnTo>
                  <a:lnTo>
                    <a:pt x="59" y="383"/>
                  </a:lnTo>
                  <a:lnTo>
                    <a:pt x="59" y="383"/>
                  </a:lnTo>
                  <a:lnTo>
                    <a:pt x="58" y="383"/>
                  </a:lnTo>
                  <a:lnTo>
                    <a:pt x="58" y="384"/>
                  </a:lnTo>
                  <a:lnTo>
                    <a:pt x="56" y="384"/>
                  </a:lnTo>
                  <a:lnTo>
                    <a:pt x="49" y="384"/>
                  </a:lnTo>
                  <a:lnTo>
                    <a:pt x="42" y="383"/>
                  </a:lnTo>
                  <a:lnTo>
                    <a:pt x="35" y="383"/>
                  </a:lnTo>
                  <a:lnTo>
                    <a:pt x="28" y="381"/>
                  </a:lnTo>
                  <a:lnTo>
                    <a:pt x="21" y="380"/>
                  </a:lnTo>
                  <a:lnTo>
                    <a:pt x="14" y="379"/>
                  </a:lnTo>
                  <a:lnTo>
                    <a:pt x="7" y="378"/>
                  </a:lnTo>
                  <a:lnTo>
                    <a:pt x="0" y="377"/>
                  </a:lnTo>
                  <a:lnTo>
                    <a:pt x="8" y="374"/>
                  </a:lnTo>
                  <a:lnTo>
                    <a:pt x="36" y="366"/>
                  </a:lnTo>
                  <a:lnTo>
                    <a:pt x="65" y="356"/>
                  </a:lnTo>
                  <a:lnTo>
                    <a:pt x="91" y="343"/>
                  </a:lnTo>
                  <a:lnTo>
                    <a:pt x="116" y="328"/>
                  </a:lnTo>
                  <a:lnTo>
                    <a:pt x="140" y="310"/>
                  </a:lnTo>
                  <a:lnTo>
                    <a:pt x="161" y="290"/>
                  </a:lnTo>
                  <a:lnTo>
                    <a:pt x="181" y="268"/>
                  </a:lnTo>
                  <a:lnTo>
                    <a:pt x="199" y="245"/>
                  </a:lnTo>
                  <a:lnTo>
                    <a:pt x="214" y="220"/>
                  </a:lnTo>
                  <a:lnTo>
                    <a:pt x="227" y="193"/>
                  </a:lnTo>
                  <a:lnTo>
                    <a:pt x="237" y="165"/>
                  </a:lnTo>
                  <a:lnTo>
                    <a:pt x="245" y="136"/>
                  </a:lnTo>
                  <a:lnTo>
                    <a:pt x="250" y="105"/>
                  </a:lnTo>
                  <a:lnTo>
                    <a:pt x="251" y="74"/>
                  </a:lnTo>
                  <a:lnTo>
                    <a:pt x="275" y="74"/>
                  </a:lnTo>
                  <a:lnTo>
                    <a:pt x="274" y="46"/>
                  </a:lnTo>
                  <a:close/>
                </a:path>
              </a:pathLst>
            </a:custGeom>
            <a:solidFill>
              <a:srgbClr val="f50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53920" y="2598120"/>
              <a:ext cx="133920" cy="198000"/>
            </a:xfrm>
            <a:custGeom>
              <a:avLst/>
              <a:gdLst/>
              <a:ahLst/>
              <a:rect l="l" t="t" r="r" b="b"/>
              <a:pathLst>
                <a:path w="305" h="410">
                  <a:moveTo>
                    <a:pt x="296" y="35"/>
                  </a:moveTo>
                  <a:lnTo>
                    <a:pt x="291" y="30"/>
                  </a:lnTo>
                  <a:lnTo>
                    <a:pt x="286" y="25"/>
                  </a:lnTo>
                  <a:lnTo>
                    <a:pt x="283" y="21"/>
                  </a:lnTo>
                  <a:lnTo>
                    <a:pt x="278" y="16"/>
                  </a:lnTo>
                  <a:lnTo>
                    <a:pt x="273" y="12"/>
                  </a:lnTo>
                  <a:lnTo>
                    <a:pt x="269" y="8"/>
                  </a:lnTo>
                  <a:lnTo>
                    <a:pt x="263" y="4"/>
                  </a:lnTo>
                  <a:lnTo>
                    <a:pt x="258" y="0"/>
                  </a:lnTo>
                  <a:lnTo>
                    <a:pt x="267" y="24"/>
                  </a:lnTo>
                  <a:lnTo>
                    <a:pt x="274" y="50"/>
                  </a:lnTo>
                  <a:lnTo>
                    <a:pt x="279" y="79"/>
                  </a:lnTo>
                  <a:lnTo>
                    <a:pt x="280" y="107"/>
                  </a:lnTo>
                  <a:lnTo>
                    <a:pt x="305" y="107"/>
                  </a:lnTo>
                  <a:lnTo>
                    <a:pt x="304" y="138"/>
                  </a:lnTo>
                  <a:lnTo>
                    <a:pt x="299" y="169"/>
                  </a:lnTo>
                  <a:lnTo>
                    <a:pt x="291" y="199"/>
                  </a:lnTo>
                  <a:lnTo>
                    <a:pt x="282" y="226"/>
                  </a:lnTo>
                  <a:lnTo>
                    <a:pt x="269" y="254"/>
                  </a:lnTo>
                  <a:lnTo>
                    <a:pt x="253" y="279"/>
                  </a:lnTo>
                  <a:lnTo>
                    <a:pt x="235" y="303"/>
                  </a:lnTo>
                  <a:lnTo>
                    <a:pt x="215" y="324"/>
                  </a:lnTo>
                  <a:lnTo>
                    <a:pt x="194" y="344"/>
                  </a:lnTo>
                  <a:lnTo>
                    <a:pt x="170" y="362"/>
                  </a:lnTo>
                  <a:lnTo>
                    <a:pt x="145" y="377"/>
                  </a:lnTo>
                  <a:lnTo>
                    <a:pt x="118" y="391"/>
                  </a:lnTo>
                  <a:lnTo>
                    <a:pt x="91" y="400"/>
                  </a:lnTo>
                  <a:lnTo>
                    <a:pt x="61" y="408"/>
                  </a:lnTo>
                  <a:lnTo>
                    <a:pt x="55" y="410"/>
                  </a:lnTo>
                  <a:lnTo>
                    <a:pt x="48" y="407"/>
                  </a:lnTo>
                  <a:lnTo>
                    <a:pt x="41" y="406"/>
                  </a:lnTo>
                  <a:lnTo>
                    <a:pt x="34" y="404"/>
                  </a:lnTo>
                  <a:lnTo>
                    <a:pt x="28" y="401"/>
                  </a:lnTo>
                  <a:lnTo>
                    <a:pt x="20" y="399"/>
                  </a:lnTo>
                  <a:lnTo>
                    <a:pt x="13" y="395"/>
                  </a:lnTo>
                  <a:lnTo>
                    <a:pt x="7" y="393"/>
                  </a:lnTo>
                  <a:lnTo>
                    <a:pt x="0" y="389"/>
                  </a:lnTo>
                  <a:lnTo>
                    <a:pt x="28" y="388"/>
                  </a:lnTo>
                  <a:lnTo>
                    <a:pt x="56" y="383"/>
                  </a:lnTo>
                  <a:lnTo>
                    <a:pt x="82" y="376"/>
                  </a:lnTo>
                  <a:lnTo>
                    <a:pt x="108" y="367"/>
                  </a:lnTo>
                  <a:lnTo>
                    <a:pt x="133" y="355"/>
                  </a:lnTo>
                  <a:lnTo>
                    <a:pt x="156" y="341"/>
                  </a:lnTo>
                  <a:lnTo>
                    <a:pt x="177" y="325"/>
                  </a:lnTo>
                  <a:lnTo>
                    <a:pt x="197" y="306"/>
                  </a:lnTo>
                  <a:lnTo>
                    <a:pt x="216" y="286"/>
                  </a:lnTo>
                  <a:lnTo>
                    <a:pt x="232" y="264"/>
                  </a:lnTo>
                  <a:lnTo>
                    <a:pt x="246" y="242"/>
                  </a:lnTo>
                  <a:lnTo>
                    <a:pt x="258" y="217"/>
                  </a:lnTo>
                  <a:lnTo>
                    <a:pt x="267" y="191"/>
                  </a:lnTo>
                  <a:lnTo>
                    <a:pt x="274" y="165"/>
                  </a:lnTo>
                  <a:lnTo>
                    <a:pt x="279" y="136"/>
                  </a:lnTo>
                  <a:lnTo>
                    <a:pt x="280" y="107"/>
                  </a:lnTo>
                  <a:lnTo>
                    <a:pt x="305" y="107"/>
                  </a:lnTo>
                  <a:lnTo>
                    <a:pt x="304" y="77"/>
                  </a:lnTo>
                  <a:lnTo>
                    <a:pt x="299" y="46"/>
                  </a:lnTo>
                  <a:lnTo>
                    <a:pt x="296" y="35"/>
                  </a:lnTo>
                  <a:close/>
                </a:path>
              </a:pathLst>
            </a:custGeom>
            <a:solidFill>
              <a:srgbClr val="ff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35560" y="2586600"/>
              <a:ext cx="141840" cy="201240"/>
            </a:xfrm>
            <a:custGeom>
              <a:avLst/>
              <a:gdLst/>
              <a:ahLst/>
              <a:rect l="l" t="t" r="r" b="b"/>
              <a:pathLst>
                <a:path w="323" h="413">
                  <a:moveTo>
                    <a:pt x="300" y="24"/>
                  </a:moveTo>
                  <a:lnTo>
                    <a:pt x="295" y="20"/>
                  </a:lnTo>
                  <a:lnTo>
                    <a:pt x="291" y="16"/>
                  </a:lnTo>
                  <a:lnTo>
                    <a:pt x="286" y="13"/>
                  </a:lnTo>
                  <a:lnTo>
                    <a:pt x="281" y="11"/>
                  </a:lnTo>
                  <a:lnTo>
                    <a:pt x="276" y="7"/>
                  </a:lnTo>
                  <a:lnTo>
                    <a:pt x="272" y="5"/>
                  </a:lnTo>
                  <a:lnTo>
                    <a:pt x="266" y="2"/>
                  </a:lnTo>
                  <a:lnTo>
                    <a:pt x="261" y="0"/>
                  </a:lnTo>
                  <a:lnTo>
                    <a:pt x="267" y="7"/>
                  </a:lnTo>
                  <a:lnTo>
                    <a:pt x="277" y="30"/>
                  </a:lnTo>
                  <a:lnTo>
                    <a:pt x="286" y="53"/>
                  </a:lnTo>
                  <a:lnTo>
                    <a:pt x="293" y="78"/>
                  </a:lnTo>
                  <a:lnTo>
                    <a:pt x="296" y="103"/>
                  </a:lnTo>
                  <a:lnTo>
                    <a:pt x="298" y="129"/>
                  </a:lnTo>
                  <a:lnTo>
                    <a:pt x="323" y="129"/>
                  </a:lnTo>
                  <a:lnTo>
                    <a:pt x="321" y="158"/>
                  </a:lnTo>
                  <a:lnTo>
                    <a:pt x="317" y="187"/>
                  </a:lnTo>
                  <a:lnTo>
                    <a:pt x="310" y="214"/>
                  </a:lnTo>
                  <a:lnTo>
                    <a:pt x="300" y="239"/>
                  </a:lnTo>
                  <a:lnTo>
                    <a:pt x="288" y="264"/>
                  </a:lnTo>
                  <a:lnTo>
                    <a:pt x="274" y="288"/>
                  </a:lnTo>
                  <a:lnTo>
                    <a:pt x="258" y="309"/>
                  </a:lnTo>
                  <a:lnTo>
                    <a:pt x="239" y="329"/>
                  </a:lnTo>
                  <a:lnTo>
                    <a:pt x="219" y="348"/>
                  </a:lnTo>
                  <a:lnTo>
                    <a:pt x="198" y="364"/>
                  </a:lnTo>
                  <a:lnTo>
                    <a:pt x="174" y="378"/>
                  </a:lnTo>
                  <a:lnTo>
                    <a:pt x="149" y="390"/>
                  </a:lnTo>
                  <a:lnTo>
                    <a:pt x="124" y="399"/>
                  </a:lnTo>
                  <a:lnTo>
                    <a:pt x="97" y="407"/>
                  </a:lnTo>
                  <a:lnTo>
                    <a:pt x="69" y="411"/>
                  </a:lnTo>
                  <a:lnTo>
                    <a:pt x="44" y="413"/>
                  </a:lnTo>
                  <a:lnTo>
                    <a:pt x="38" y="410"/>
                  </a:lnTo>
                  <a:lnTo>
                    <a:pt x="32" y="407"/>
                  </a:lnTo>
                  <a:lnTo>
                    <a:pt x="26" y="403"/>
                  </a:lnTo>
                  <a:lnTo>
                    <a:pt x="21" y="401"/>
                  </a:lnTo>
                  <a:lnTo>
                    <a:pt x="15" y="397"/>
                  </a:lnTo>
                  <a:lnTo>
                    <a:pt x="10" y="394"/>
                  </a:lnTo>
                  <a:lnTo>
                    <a:pt x="5" y="389"/>
                  </a:lnTo>
                  <a:lnTo>
                    <a:pt x="0" y="385"/>
                  </a:lnTo>
                  <a:lnTo>
                    <a:pt x="14" y="386"/>
                  </a:lnTo>
                  <a:lnTo>
                    <a:pt x="40" y="388"/>
                  </a:lnTo>
                  <a:lnTo>
                    <a:pt x="66" y="386"/>
                  </a:lnTo>
                  <a:lnTo>
                    <a:pt x="91" y="383"/>
                  </a:lnTo>
                  <a:lnTo>
                    <a:pt x="116" y="376"/>
                  </a:lnTo>
                  <a:lnTo>
                    <a:pt x="140" y="367"/>
                  </a:lnTo>
                  <a:lnTo>
                    <a:pt x="162" y="357"/>
                  </a:lnTo>
                  <a:lnTo>
                    <a:pt x="184" y="344"/>
                  </a:lnTo>
                  <a:lnTo>
                    <a:pt x="204" y="328"/>
                  </a:lnTo>
                  <a:lnTo>
                    <a:pt x="222" y="311"/>
                  </a:lnTo>
                  <a:lnTo>
                    <a:pt x="238" y="294"/>
                  </a:lnTo>
                  <a:lnTo>
                    <a:pt x="254" y="273"/>
                  </a:lnTo>
                  <a:lnTo>
                    <a:pt x="267" y="252"/>
                  </a:lnTo>
                  <a:lnTo>
                    <a:pt x="277" y="229"/>
                  </a:lnTo>
                  <a:lnTo>
                    <a:pt x="286" y="206"/>
                  </a:lnTo>
                  <a:lnTo>
                    <a:pt x="293" y="181"/>
                  </a:lnTo>
                  <a:lnTo>
                    <a:pt x="296" y="156"/>
                  </a:lnTo>
                  <a:lnTo>
                    <a:pt x="298" y="129"/>
                  </a:lnTo>
                  <a:lnTo>
                    <a:pt x="323" y="129"/>
                  </a:lnTo>
                  <a:lnTo>
                    <a:pt x="321" y="101"/>
                  </a:lnTo>
                  <a:lnTo>
                    <a:pt x="317" y="72"/>
                  </a:lnTo>
                  <a:lnTo>
                    <a:pt x="310" y="45"/>
                  </a:lnTo>
                  <a:lnTo>
                    <a:pt x="300" y="24"/>
                  </a:lnTo>
                  <a:close/>
                </a:path>
              </a:pathLst>
            </a:custGeom>
            <a:solidFill>
              <a:srgbClr val="ff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20440" y="2579760"/>
              <a:ext cx="146520" cy="196200"/>
            </a:xfrm>
            <a:custGeom>
              <a:avLst/>
              <a:gdLst/>
              <a:ahLst/>
              <a:rect l="l" t="t" r="r" b="b"/>
              <a:pathLst>
                <a:path w="334" h="405">
                  <a:moveTo>
                    <a:pt x="299" y="17"/>
                  </a:moveTo>
                  <a:lnTo>
                    <a:pt x="295" y="15"/>
                  </a:lnTo>
                  <a:lnTo>
                    <a:pt x="289" y="12"/>
                  </a:lnTo>
                  <a:lnTo>
                    <a:pt x="284" y="10"/>
                  </a:lnTo>
                  <a:lnTo>
                    <a:pt x="278" y="7"/>
                  </a:lnTo>
                  <a:lnTo>
                    <a:pt x="273" y="6"/>
                  </a:lnTo>
                  <a:lnTo>
                    <a:pt x="267" y="4"/>
                  </a:lnTo>
                  <a:lnTo>
                    <a:pt x="263" y="3"/>
                  </a:lnTo>
                  <a:lnTo>
                    <a:pt x="257" y="0"/>
                  </a:lnTo>
                  <a:lnTo>
                    <a:pt x="269" y="15"/>
                  </a:lnTo>
                  <a:lnTo>
                    <a:pt x="280" y="34"/>
                  </a:lnTo>
                  <a:lnTo>
                    <a:pt x="290" y="55"/>
                  </a:lnTo>
                  <a:lnTo>
                    <a:pt x="298" y="76"/>
                  </a:lnTo>
                  <a:lnTo>
                    <a:pt x="304" y="99"/>
                  </a:lnTo>
                  <a:lnTo>
                    <a:pt x="308" y="122"/>
                  </a:lnTo>
                  <a:lnTo>
                    <a:pt x="309" y="145"/>
                  </a:lnTo>
                  <a:lnTo>
                    <a:pt x="334" y="145"/>
                  </a:lnTo>
                  <a:lnTo>
                    <a:pt x="333" y="172"/>
                  </a:lnTo>
                  <a:lnTo>
                    <a:pt x="329" y="198"/>
                  </a:lnTo>
                  <a:lnTo>
                    <a:pt x="322" y="223"/>
                  </a:lnTo>
                  <a:lnTo>
                    <a:pt x="314" y="247"/>
                  </a:lnTo>
                  <a:lnTo>
                    <a:pt x="303" y="269"/>
                  </a:lnTo>
                  <a:lnTo>
                    <a:pt x="290" y="291"/>
                  </a:lnTo>
                  <a:lnTo>
                    <a:pt x="274" y="311"/>
                  </a:lnTo>
                  <a:lnTo>
                    <a:pt x="258" y="329"/>
                  </a:lnTo>
                  <a:lnTo>
                    <a:pt x="240" y="345"/>
                  </a:lnTo>
                  <a:lnTo>
                    <a:pt x="220" y="361"/>
                  </a:lnTo>
                  <a:lnTo>
                    <a:pt x="199" y="374"/>
                  </a:lnTo>
                  <a:lnTo>
                    <a:pt x="176" y="385"/>
                  </a:lnTo>
                  <a:lnTo>
                    <a:pt x="152" y="393"/>
                  </a:lnTo>
                  <a:lnTo>
                    <a:pt x="127" y="400"/>
                  </a:lnTo>
                  <a:lnTo>
                    <a:pt x="101" y="404"/>
                  </a:lnTo>
                  <a:lnTo>
                    <a:pt x="75" y="405"/>
                  </a:lnTo>
                  <a:lnTo>
                    <a:pt x="49" y="404"/>
                  </a:lnTo>
                  <a:lnTo>
                    <a:pt x="37" y="402"/>
                  </a:lnTo>
                  <a:lnTo>
                    <a:pt x="32" y="399"/>
                  </a:lnTo>
                  <a:lnTo>
                    <a:pt x="26" y="394"/>
                  </a:lnTo>
                  <a:lnTo>
                    <a:pt x="22" y="390"/>
                  </a:lnTo>
                  <a:lnTo>
                    <a:pt x="17" y="386"/>
                  </a:lnTo>
                  <a:lnTo>
                    <a:pt x="13" y="382"/>
                  </a:lnTo>
                  <a:lnTo>
                    <a:pt x="9" y="377"/>
                  </a:lnTo>
                  <a:lnTo>
                    <a:pt x="4" y="373"/>
                  </a:lnTo>
                  <a:lnTo>
                    <a:pt x="0" y="368"/>
                  </a:lnTo>
                  <a:lnTo>
                    <a:pt x="6" y="369"/>
                  </a:lnTo>
                  <a:lnTo>
                    <a:pt x="29" y="375"/>
                  </a:lnTo>
                  <a:lnTo>
                    <a:pt x="51" y="379"/>
                  </a:lnTo>
                  <a:lnTo>
                    <a:pt x="75" y="380"/>
                  </a:lnTo>
                  <a:lnTo>
                    <a:pt x="99" y="379"/>
                  </a:lnTo>
                  <a:lnTo>
                    <a:pt x="121" y="375"/>
                  </a:lnTo>
                  <a:lnTo>
                    <a:pt x="144" y="369"/>
                  </a:lnTo>
                  <a:lnTo>
                    <a:pt x="165" y="361"/>
                  </a:lnTo>
                  <a:lnTo>
                    <a:pt x="187" y="351"/>
                  </a:lnTo>
                  <a:lnTo>
                    <a:pt x="206" y="339"/>
                  </a:lnTo>
                  <a:lnTo>
                    <a:pt x="223" y="326"/>
                  </a:lnTo>
                  <a:lnTo>
                    <a:pt x="240" y="311"/>
                  </a:lnTo>
                  <a:lnTo>
                    <a:pt x="256" y="294"/>
                  </a:lnTo>
                  <a:lnTo>
                    <a:pt x="269" y="276"/>
                  </a:lnTo>
                  <a:lnTo>
                    <a:pt x="280" y="257"/>
                  </a:lnTo>
                  <a:lnTo>
                    <a:pt x="290" y="236"/>
                  </a:lnTo>
                  <a:lnTo>
                    <a:pt x="298" y="214"/>
                  </a:lnTo>
                  <a:lnTo>
                    <a:pt x="304" y="192"/>
                  </a:lnTo>
                  <a:lnTo>
                    <a:pt x="308" y="169"/>
                  </a:lnTo>
                  <a:lnTo>
                    <a:pt x="309" y="145"/>
                  </a:lnTo>
                  <a:lnTo>
                    <a:pt x="334" y="145"/>
                  </a:lnTo>
                  <a:lnTo>
                    <a:pt x="333" y="119"/>
                  </a:lnTo>
                  <a:lnTo>
                    <a:pt x="329" y="93"/>
                  </a:lnTo>
                  <a:lnTo>
                    <a:pt x="322" y="68"/>
                  </a:lnTo>
                  <a:lnTo>
                    <a:pt x="314" y="44"/>
                  </a:lnTo>
                  <a:lnTo>
                    <a:pt x="303" y="22"/>
                  </a:lnTo>
                  <a:lnTo>
                    <a:pt x="299" y="17"/>
                  </a:lnTo>
                  <a:close/>
                </a:path>
              </a:pathLst>
            </a:custGeom>
            <a:solidFill>
              <a:srgbClr val="ff2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10000" y="2575800"/>
              <a:ext cx="146520" cy="188640"/>
            </a:xfrm>
            <a:custGeom>
              <a:avLst/>
              <a:gdLst/>
              <a:ahLst/>
              <a:rect l="l" t="t" r="r" b="b"/>
              <a:pathLst>
                <a:path w="333" h="389">
                  <a:moveTo>
                    <a:pt x="283" y="10"/>
                  </a:moveTo>
                  <a:lnTo>
                    <a:pt x="279" y="8"/>
                  </a:lnTo>
                  <a:lnTo>
                    <a:pt x="274" y="6"/>
                  </a:lnTo>
                  <a:lnTo>
                    <a:pt x="268" y="5"/>
                  </a:lnTo>
                  <a:lnTo>
                    <a:pt x="263" y="4"/>
                  </a:lnTo>
                  <a:lnTo>
                    <a:pt x="258" y="2"/>
                  </a:lnTo>
                  <a:lnTo>
                    <a:pt x="252" y="2"/>
                  </a:lnTo>
                  <a:lnTo>
                    <a:pt x="248" y="1"/>
                  </a:lnTo>
                  <a:lnTo>
                    <a:pt x="243" y="0"/>
                  </a:lnTo>
                  <a:lnTo>
                    <a:pt x="248" y="4"/>
                  </a:lnTo>
                  <a:lnTo>
                    <a:pt x="261" y="19"/>
                  </a:lnTo>
                  <a:lnTo>
                    <a:pt x="274" y="36"/>
                  </a:lnTo>
                  <a:lnTo>
                    <a:pt x="283" y="52"/>
                  </a:lnTo>
                  <a:lnTo>
                    <a:pt x="293" y="71"/>
                  </a:lnTo>
                  <a:lnTo>
                    <a:pt x="300" y="90"/>
                  </a:lnTo>
                  <a:lnTo>
                    <a:pt x="305" y="111"/>
                  </a:lnTo>
                  <a:lnTo>
                    <a:pt x="308" y="132"/>
                  </a:lnTo>
                  <a:lnTo>
                    <a:pt x="309" y="153"/>
                  </a:lnTo>
                  <a:lnTo>
                    <a:pt x="333" y="153"/>
                  </a:lnTo>
                  <a:lnTo>
                    <a:pt x="332" y="177"/>
                  </a:lnTo>
                  <a:lnTo>
                    <a:pt x="328" y="201"/>
                  </a:lnTo>
                  <a:lnTo>
                    <a:pt x="322" y="224"/>
                  </a:lnTo>
                  <a:lnTo>
                    <a:pt x="314" y="245"/>
                  </a:lnTo>
                  <a:lnTo>
                    <a:pt x="305" y="265"/>
                  </a:lnTo>
                  <a:lnTo>
                    <a:pt x="293" y="285"/>
                  </a:lnTo>
                  <a:lnTo>
                    <a:pt x="280" y="303"/>
                  </a:lnTo>
                  <a:lnTo>
                    <a:pt x="264" y="320"/>
                  </a:lnTo>
                  <a:lnTo>
                    <a:pt x="248" y="335"/>
                  </a:lnTo>
                  <a:lnTo>
                    <a:pt x="230" y="349"/>
                  </a:lnTo>
                  <a:lnTo>
                    <a:pt x="210" y="360"/>
                  </a:lnTo>
                  <a:lnTo>
                    <a:pt x="190" y="370"/>
                  </a:lnTo>
                  <a:lnTo>
                    <a:pt x="168" y="378"/>
                  </a:lnTo>
                  <a:lnTo>
                    <a:pt x="146" y="384"/>
                  </a:lnTo>
                  <a:lnTo>
                    <a:pt x="122" y="388"/>
                  </a:lnTo>
                  <a:lnTo>
                    <a:pt x="98" y="389"/>
                  </a:lnTo>
                  <a:lnTo>
                    <a:pt x="74" y="388"/>
                  </a:lnTo>
                  <a:lnTo>
                    <a:pt x="51" y="384"/>
                  </a:lnTo>
                  <a:lnTo>
                    <a:pt x="28" y="378"/>
                  </a:lnTo>
                  <a:lnTo>
                    <a:pt x="26" y="378"/>
                  </a:lnTo>
                  <a:lnTo>
                    <a:pt x="22" y="374"/>
                  </a:lnTo>
                  <a:lnTo>
                    <a:pt x="19" y="369"/>
                  </a:lnTo>
                  <a:lnTo>
                    <a:pt x="15" y="365"/>
                  </a:lnTo>
                  <a:lnTo>
                    <a:pt x="12" y="360"/>
                  </a:lnTo>
                  <a:lnTo>
                    <a:pt x="8" y="356"/>
                  </a:lnTo>
                  <a:lnTo>
                    <a:pt x="6" y="351"/>
                  </a:lnTo>
                  <a:lnTo>
                    <a:pt x="2" y="346"/>
                  </a:lnTo>
                  <a:lnTo>
                    <a:pt x="0" y="341"/>
                  </a:lnTo>
                  <a:lnTo>
                    <a:pt x="16" y="349"/>
                  </a:lnTo>
                  <a:lnTo>
                    <a:pt x="35" y="356"/>
                  </a:lnTo>
                  <a:lnTo>
                    <a:pt x="55" y="360"/>
                  </a:lnTo>
                  <a:lnTo>
                    <a:pt x="77" y="364"/>
                  </a:lnTo>
                  <a:lnTo>
                    <a:pt x="98" y="365"/>
                  </a:lnTo>
                  <a:lnTo>
                    <a:pt x="119" y="364"/>
                  </a:lnTo>
                  <a:lnTo>
                    <a:pt x="141" y="360"/>
                  </a:lnTo>
                  <a:lnTo>
                    <a:pt x="161" y="356"/>
                  </a:lnTo>
                  <a:lnTo>
                    <a:pt x="180" y="349"/>
                  </a:lnTo>
                  <a:lnTo>
                    <a:pt x="199" y="339"/>
                  </a:lnTo>
                  <a:lnTo>
                    <a:pt x="216" y="330"/>
                  </a:lnTo>
                  <a:lnTo>
                    <a:pt x="232" y="316"/>
                  </a:lnTo>
                  <a:lnTo>
                    <a:pt x="248" y="303"/>
                  </a:lnTo>
                  <a:lnTo>
                    <a:pt x="261" y="288"/>
                  </a:lnTo>
                  <a:lnTo>
                    <a:pt x="274" y="271"/>
                  </a:lnTo>
                  <a:lnTo>
                    <a:pt x="283" y="255"/>
                  </a:lnTo>
                  <a:lnTo>
                    <a:pt x="293" y="236"/>
                  </a:lnTo>
                  <a:lnTo>
                    <a:pt x="300" y="217"/>
                  </a:lnTo>
                  <a:lnTo>
                    <a:pt x="305" y="196"/>
                  </a:lnTo>
                  <a:lnTo>
                    <a:pt x="308" y="175"/>
                  </a:lnTo>
                  <a:lnTo>
                    <a:pt x="309" y="153"/>
                  </a:lnTo>
                  <a:lnTo>
                    <a:pt x="333" y="153"/>
                  </a:lnTo>
                  <a:lnTo>
                    <a:pt x="332" y="130"/>
                  </a:lnTo>
                  <a:lnTo>
                    <a:pt x="328" y="106"/>
                  </a:lnTo>
                  <a:lnTo>
                    <a:pt x="322" y="83"/>
                  </a:lnTo>
                  <a:lnTo>
                    <a:pt x="314" y="62"/>
                  </a:lnTo>
                  <a:lnTo>
                    <a:pt x="305" y="42"/>
                  </a:lnTo>
                  <a:lnTo>
                    <a:pt x="293" y="21"/>
                  </a:lnTo>
                  <a:lnTo>
                    <a:pt x="283" y="10"/>
                  </a:lnTo>
                  <a:close/>
                </a:path>
              </a:pathLst>
            </a:custGeom>
            <a:solidFill>
              <a:srgbClr val="ff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02080" y="2575080"/>
              <a:ext cx="144360" cy="178560"/>
            </a:xfrm>
            <a:custGeom>
              <a:avLst/>
              <a:gdLst/>
              <a:ahLst/>
              <a:rect l="l" t="t" r="r" b="b"/>
              <a:pathLst>
                <a:path w="330" h="367">
                  <a:moveTo>
                    <a:pt x="262" y="1"/>
                  </a:moveTo>
                  <a:lnTo>
                    <a:pt x="254" y="0"/>
                  </a:lnTo>
                  <a:lnTo>
                    <a:pt x="245" y="0"/>
                  </a:lnTo>
                  <a:lnTo>
                    <a:pt x="236" y="0"/>
                  </a:lnTo>
                  <a:lnTo>
                    <a:pt x="227" y="0"/>
                  </a:lnTo>
                  <a:lnTo>
                    <a:pt x="226" y="0"/>
                  </a:lnTo>
                  <a:lnTo>
                    <a:pt x="225" y="0"/>
                  </a:lnTo>
                  <a:lnTo>
                    <a:pt x="223" y="0"/>
                  </a:lnTo>
                  <a:lnTo>
                    <a:pt x="222" y="0"/>
                  </a:lnTo>
                  <a:lnTo>
                    <a:pt x="250" y="21"/>
                  </a:lnTo>
                  <a:lnTo>
                    <a:pt x="273" y="50"/>
                  </a:lnTo>
                  <a:lnTo>
                    <a:pt x="290" y="82"/>
                  </a:lnTo>
                  <a:lnTo>
                    <a:pt x="301" y="116"/>
                  </a:lnTo>
                  <a:lnTo>
                    <a:pt x="305" y="154"/>
                  </a:lnTo>
                  <a:lnTo>
                    <a:pt x="330" y="154"/>
                  </a:lnTo>
                  <a:lnTo>
                    <a:pt x="328" y="176"/>
                  </a:lnTo>
                  <a:lnTo>
                    <a:pt x="325" y="197"/>
                  </a:lnTo>
                  <a:lnTo>
                    <a:pt x="320" y="218"/>
                  </a:lnTo>
                  <a:lnTo>
                    <a:pt x="313" y="237"/>
                  </a:lnTo>
                  <a:lnTo>
                    <a:pt x="303" y="256"/>
                  </a:lnTo>
                  <a:lnTo>
                    <a:pt x="293" y="273"/>
                  </a:lnTo>
                  <a:lnTo>
                    <a:pt x="281" y="290"/>
                  </a:lnTo>
                  <a:lnTo>
                    <a:pt x="267" y="304"/>
                  </a:lnTo>
                  <a:lnTo>
                    <a:pt x="252" y="319"/>
                  </a:lnTo>
                  <a:lnTo>
                    <a:pt x="236" y="331"/>
                  </a:lnTo>
                  <a:lnTo>
                    <a:pt x="218" y="341"/>
                  </a:lnTo>
                  <a:lnTo>
                    <a:pt x="199" y="351"/>
                  </a:lnTo>
                  <a:lnTo>
                    <a:pt x="180" y="358"/>
                  </a:lnTo>
                  <a:lnTo>
                    <a:pt x="160" y="363"/>
                  </a:lnTo>
                  <a:lnTo>
                    <a:pt x="138" y="366"/>
                  </a:lnTo>
                  <a:lnTo>
                    <a:pt x="117" y="367"/>
                  </a:lnTo>
                  <a:lnTo>
                    <a:pt x="96" y="366"/>
                  </a:lnTo>
                  <a:lnTo>
                    <a:pt x="74" y="363"/>
                  </a:lnTo>
                  <a:lnTo>
                    <a:pt x="54" y="358"/>
                  </a:lnTo>
                  <a:lnTo>
                    <a:pt x="35" y="351"/>
                  </a:lnTo>
                  <a:lnTo>
                    <a:pt x="19" y="344"/>
                  </a:lnTo>
                  <a:lnTo>
                    <a:pt x="16" y="339"/>
                  </a:lnTo>
                  <a:lnTo>
                    <a:pt x="14" y="334"/>
                  </a:lnTo>
                  <a:lnTo>
                    <a:pt x="10" y="328"/>
                  </a:lnTo>
                  <a:lnTo>
                    <a:pt x="8" y="323"/>
                  </a:lnTo>
                  <a:lnTo>
                    <a:pt x="6" y="317"/>
                  </a:lnTo>
                  <a:lnTo>
                    <a:pt x="3" y="313"/>
                  </a:lnTo>
                  <a:lnTo>
                    <a:pt x="2" y="307"/>
                  </a:lnTo>
                  <a:lnTo>
                    <a:pt x="0" y="301"/>
                  </a:lnTo>
                  <a:lnTo>
                    <a:pt x="13" y="310"/>
                  </a:lnTo>
                  <a:lnTo>
                    <a:pt x="45" y="328"/>
                  </a:lnTo>
                  <a:lnTo>
                    <a:pt x="79" y="339"/>
                  </a:lnTo>
                  <a:lnTo>
                    <a:pt x="117" y="342"/>
                  </a:lnTo>
                  <a:lnTo>
                    <a:pt x="155" y="339"/>
                  </a:lnTo>
                  <a:lnTo>
                    <a:pt x="190" y="328"/>
                  </a:lnTo>
                  <a:lnTo>
                    <a:pt x="222" y="310"/>
                  </a:lnTo>
                  <a:lnTo>
                    <a:pt x="250" y="288"/>
                  </a:lnTo>
                  <a:lnTo>
                    <a:pt x="273" y="259"/>
                  </a:lnTo>
                  <a:lnTo>
                    <a:pt x="290" y="227"/>
                  </a:lnTo>
                  <a:lnTo>
                    <a:pt x="301" y="193"/>
                  </a:lnTo>
                  <a:lnTo>
                    <a:pt x="305" y="154"/>
                  </a:lnTo>
                  <a:lnTo>
                    <a:pt x="330" y="154"/>
                  </a:lnTo>
                  <a:lnTo>
                    <a:pt x="328" y="133"/>
                  </a:lnTo>
                  <a:lnTo>
                    <a:pt x="325" y="112"/>
                  </a:lnTo>
                  <a:lnTo>
                    <a:pt x="320" y="91"/>
                  </a:lnTo>
                  <a:lnTo>
                    <a:pt x="313" y="72"/>
                  </a:lnTo>
                  <a:lnTo>
                    <a:pt x="303" y="53"/>
                  </a:lnTo>
                  <a:lnTo>
                    <a:pt x="293" y="36"/>
                  </a:lnTo>
                  <a:lnTo>
                    <a:pt x="281" y="19"/>
                  </a:lnTo>
                  <a:lnTo>
                    <a:pt x="267" y="5"/>
                  </a:lnTo>
                  <a:lnTo>
                    <a:pt x="262" y="1"/>
                  </a:lnTo>
                  <a:close/>
                </a:path>
              </a:pathLst>
            </a:custGeom>
            <a:solidFill>
              <a:srgbClr val="ff4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97760" y="2575080"/>
              <a:ext cx="138600" cy="167040"/>
            </a:xfrm>
            <a:custGeom>
              <a:avLst/>
              <a:gdLst/>
              <a:ahLst/>
              <a:rect l="l" t="t" r="r" b="b"/>
              <a:pathLst>
                <a:path w="316" h="344">
                  <a:moveTo>
                    <a:pt x="0" y="257"/>
                  </a:moveTo>
                  <a:lnTo>
                    <a:pt x="1" y="263"/>
                  </a:lnTo>
                  <a:lnTo>
                    <a:pt x="1" y="269"/>
                  </a:lnTo>
                  <a:lnTo>
                    <a:pt x="3" y="275"/>
                  </a:lnTo>
                  <a:lnTo>
                    <a:pt x="4" y="281"/>
                  </a:lnTo>
                  <a:lnTo>
                    <a:pt x="6" y="286"/>
                  </a:lnTo>
                  <a:lnTo>
                    <a:pt x="7" y="292"/>
                  </a:lnTo>
                  <a:lnTo>
                    <a:pt x="10" y="297"/>
                  </a:lnTo>
                  <a:lnTo>
                    <a:pt x="11" y="303"/>
                  </a:lnTo>
                  <a:lnTo>
                    <a:pt x="22" y="311"/>
                  </a:lnTo>
                  <a:lnTo>
                    <a:pt x="54" y="328"/>
                  </a:lnTo>
                  <a:lnTo>
                    <a:pt x="89" y="340"/>
                  </a:lnTo>
                  <a:lnTo>
                    <a:pt x="127" y="344"/>
                  </a:lnTo>
                  <a:lnTo>
                    <a:pt x="165" y="340"/>
                  </a:lnTo>
                  <a:lnTo>
                    <a:pt x="201" y="328"/>
                  </a:lnTo>
                  <a:lnTo>
                    <a:pt x="233" y="311"/>
                  </a:lnTo>
                  <a:lnTo>
                    <a:pt x="260" y="288"/>
                  </a:lnTo>
                  <a:lnTo>
                    <a:pt x="284" y="260"/>
                  </a:lnTo>
                  <a:lnTo>
                    <a:pt x="300" y="228"/>
                  </a:lnTo>
                  <a:lnTo>
                    <a:pt x="312" y="193"/>
                  </a:lnTo>
                  <a:lnTo>
                    <a:pt x="316" y="154"/>
                  </a:lnTo>
                  <a:lnTo>
                    <a:pt x="291" y="154"/>
                  </a:lnTo>
                  <a:lnTo>
                    <a:pt x="287" y="121"/>
                  </a:lnTo>
                  <a:lnTo>
                    <a:pt x="278" y="90"/>
                  </a:lnTo>
                  <a:lnTo>
                    <a:pt x="262" y="63"/>
                  </a:lnTo>
                  <a:lnTo>
                    <a:pt x="243" y="38"/>
                  </a:lnTo>
                  <a:lnTo>
                    <a:pt x="219" y="19"/>
                  </a:lnTo>
                  <a:lnTo>
                    <a:pt x="191" y="3"/>
                  </a:lnTo>
                  <a:lnTo>
                    <a:pt x="190" y="3"/>
                  </a:lnTo>
                  <a:lnTo>
                    <a:pt x="196" y="2"/>
                  </a:lnTo>
                  <a:lnTo>
                    <a:pt x="201" y="2"/>
                  </a:lnTo>
                  <a:lnTo>
                    <a:pt x="207" y="1"/>
                  </a:lnTo>
                  <a:lnTo>
                    <a:pt x="211" y="1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60" y="21"/>
                  </a:lnTo>
                  <a:lnTo>
                    <a:pt x="284" y="49"/>
                  </a:lnTo>
                  <a:lnTo>
                    <a:pt x="300" y="81"/>
                  </a:lnTo>
                  <a:lnTo>
                    <a:pt x="312" y="116"/>
                  </a:lnTo>
                  <a:lnTo>
                    <a:pt x="316" y="154"/>
                  </a:lnTo>
                  <a:lnTo>
                    <a:pt x="291" y="154"/>
                  </a:lnTo>
                  <a:lnTo>
                    <a:pt x="287" y="188"/>
                  </a:lnTo>
                  <a:lnTo>
                    <a:pt x="278" y="219"/>
                  </a:lnTo>
                  <a:lnTo>
                    <a:pt x="262" y="246"/>
                  </a:lnTo>
                  <a:lnTo>
                    <a:pt x="243" y="270"/>
                  </a:lnTo>
                  <a:lnTo>
                    <a:pt x="219" y="290"/>
                  </a:lnTo>
                  <a:lnTo>
                    <a:pt x="191" y="306"/>
                  </a:lnTo>
                  <a:lnTo>
                    <a:pt x="160" y="315"/>
                  </a:lnTo>
                  <a:lnTo>
                    <a:pt x="127" y="319"/>
                  </a:lnTo>
                  <a:lnTo>
                    <a:pt x="94" y="315"/>
                  </a:lnTo>
                  <a:lnTo>
                    <a:pt x="63" y="306"/>
                  </a:lnTo>
                  <a:lnTo>
                    <a:pt x="36" y="290"/>
                  </a:lnTo>
                  <a:lnTo>
                    <a:pt x="12" y="270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ff5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7040" y="2576880"/>
              <a:ext cx="128880" cy="153360"/>
            </a:xfrm>
            <a:custGeom>
              <a:avLst/>
              <a:gdLst/>
              <a:ahLst/>
              <a:rect l="l" t="t" r="r" b="b"/>
              <a:pathLst>
                <a:path w="294" h="317">
                  <a:moveTo>
                    <a:pt x="2" y="256"/>
                  </a:moveTo>
                  <a:lnTo>
                    <a:pt x="1" y="249"/>
                  </a:lnTo>
                  <a:lnTo>
                    <a:pt x="1" y="242"/>
                  </a:lnTo>
                  <a:lnTo>
                    <a:pt x="0" y="235"/>
                  </a:lnTo>
                  <a:lnTo>
                    <a:pt x="0" y="228"/>
                  </a:lnTo>
                  <a:lnTo>
                    <a:pt x="0" y="223"/>
                  </a:lnTo>
                  <a:lnTo>
                    <a:pt x="1" y="219"/>
                  </a:lnTo>
                  <a:lnTo>
                    <a:pt x="1" y="216"/>
                  </a:lnTo>
                  <a:lnTo>
                    <a:pt x="1" y="212"/>
                  </a:lnTo>
                  <a:lnTo>
                    <a:pt x="13" y="230"/>
                  </a:lnTo>
                  <a:lnTo>
                    <a:pt x="29" y="251"/>
                  </a:lnTo>
                  <a:lnTo>
                    <a:pt x="51" y="268"/>
                  </a:lnTo>
                  <a:lnTo>
                    <a:pt x="75" y="282"/>
                  </a:lnTo>
                  <a:lnTo>
                    <a:pt x="101" y="291"/>
                  </a:lnTo>
                  <a:lnTo>
                    <a:pt x="129" y="293"/>
                  </a:lnTo>
                  <a:lnTo>
                    <a:pt x="158" y="291"/>
                  </a:lnTo>
                  <a:lnTo>
                    <a:pt x="184" y="282"/>
                  </a:lnTo>
                  <a:lnTo>
                    <a:pt x="207" y="268"/>
                  </a:lnTo>
                  <a:lnTo>
                    <a:pt x="229" y="251"/>
                  </a:lnTo>
                  <a:lnTo>
                    <a:pt x="245" y="230"/>
                  </a:lnTo>
                  <a:lnTo>
                    <a:pt x="260" y="206"/>
                  </a:lnTo>
                  <a:lnTo>
                    <a:pt x="268" y="180"/>
                  </a:lnTo>
                  <a:lnTo>
                    <a:pt x="270" y="151"/>
                  </a:lnTo>
                  <a:lnTo>
                    <a:pt x="294" y="151"/>
                  </a:lnTo>
                  <a:lnTo>
                    <a:pt x="291" y="118"/>
                  </a:lnTo>
                  <a:lnTo>
                    <a:pt x="281" y="87"/>
                  </a:lnTo>
                  <a:lnTo>
                    <a:pt x="266" y="60"/>
                  </a:lnTo>
                  <a:lnTo>
                    <a:pt x="245" y="35"/>
                  </a:lnTo>
                  <a:lnTo>
                    <a:pt x="221" y="15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3"/>
                  </a:lnTo>
                  <a:lnTo>
                    <a:pt x="178" y="4"/>
                  </a:lnTo>
                  <a:lnTo>
                    <a:pt x="173" y="5"/>
                  </a:lnTo>
                  <a:lnTo>
                    <a:pt x="167" y="8"/>
                  </a:lnTo>
                  <a:lnTo>
                    <a:pt x="162" y="9"/>
                  </a:lnTo>
                  <a:lnTo>
                    <a:pt x="156" y="11"/>
                  </a:lnTo>
                  <a:lnTo>
                    <a:pt x="152" y="12"/>
                  </a:lnTo>
                  <a:lnTo>
                    <a:pt x="158" y="12"/>
                  </a:lnTo>
                  <a:lnTo>
                    <a:pt x="184" y="21"/>
                  </a:lnTo>
                  <a:lnTo>
                    <a:pt x="207" y="35"/>
                  </a:lnTo>
                  <a:lnTo>
                    <a:pt x="229" y="52"/>
                  </a:lnTo>
                  <a:lnTo>
                    <a:pt x="245" y="73"/>
                  </a:lnTo>
                  <a:lnTo>
                    <a:pt x="260" y="97"/>
                  </a:lnTo>
                  <a:lnTo>
                    <a:pt x="268" y="123"/>
                  </a:lnTo>
                  <a:lnTo>
                    <a:pt x="270" y="151"/>
                  </a:lnTo>
                  <a:lnTo>
                    <a:pt x="294" y="151"/>
                  </a:lnTo>
                  <a:lnTo>
                    <a:pt x="291" y="185"/>
                  </a:lnTo>
                  <a:lnTo>
                    <a:pt x="281" y="216"/>
                  </a:lnTo>
                  <a:lnTo>
                    <a:pt x="266" y="243"/>
                  </a:lnTo>
                  <a:lnTo>
                    <a:pt x="245" y="268"/>
                  </a:lnTo>
                  <a:lnTo>
                    <a:pt x="221" y="288"/>
                  </a:lnTo>
                  <a:lnTo>
                    <a:pt x="193" y="304"/>
                  </a:lnTo>
                  <a:lnTo>
                    <a:pt x="162" y="313"/>
                  </a:lnTo>
                  <a:lnTo>
                    <a:pt x="129" y="317"/>
                  </a:lnTo>
                  <a:lnTo>
                    <a:pt x="96" y="313"/>
                  </a:lnTo>
                  <a:lnTo>
                    <a:pt x="65" y="304"/>
                  </a:lnTo>
                  <a:lnTo>
                    <a:pt x="38" y="288"/>
                  </a:lnTo>
                  <a:lnTo>
                    <a:pt x="13" y="268"/>
                  </a:lnTo>
                  <a:lnTo>
                    <a:pt x="2" y="256"/>
                  </a:lnTo>
                  <a:close/>
                </a:path>
              </a:pathLst>
            </a:custGeom>
            <a:solidFill>
              <a:srgbClr val="ff6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7040" y="2581560"/>
              <a:ext cx="119160" cy="137880"/>
            </a:xfrm>
            <a:custGeom>
              <a:avLst/>
              <a:gdLst/>
              <a:ahLst/>
              <a:rect l="l" t="t" r="r" b="b"/>
              <a:pathLst>
                <a:path w="271" h="283">
                  <a:moveTo>
                    <a:pt x="11" y="146"/>
                  </a:moveTo>
                  <a:lnTo>
                    <a:pt x="8" y="154"/>
                  </a:lnTo>
                  <a:lnTo>
                    <a:pt x="7" y="160"/>
                  </a:lnTo>
                  <a:lnTo>
                    <a:pt x="5" y="167"/>
                  </a:lnTo>
                  <a:lnTo>
                    <a:pt x="4" y="174"/>
                  </a:lnTo>
                  <a:lnTo>
                    <a:pt x="2" y="181"/>
                  </a:lnTo>
                  <a:lnTo>
                    <a:pt x="1" y="188"/>
                  </a:lnTo>
                  <a:lnTo>
                    <a:pt x="0" y="196"/>
                  </a:lnTo>
                  <a:lnTo>
                    <a:pt x="0" y="204"/>
                  </a:lnTo>
                  <a:lnTo>
                    <a:pt x="11" y="220"/>
                  </a:lnTo>
                  <a:lnTo>
                    <a:pt x="27" y="242"/>
                  </a:lnTo>
                  <a:lnTo>
                    <a:pt x="49" y="258"/>
                  </a:lnTo>
                  <a:lnTo>
                    <a:pt x="72" y="272"/>
                  </a:lnTo>
                  <a:lnTo>
                    <a:pt x="100" y="281"/>
                  </a:lnTo>
                  <a:lnTo>
                    <a:pt x="128" y="283"/>
                  </a:lnTo>
                  <a:lnTo>
                    <a:pt x="157" y="281"/>
                  </a:lnTo>
                  <a:lnTo>
                    <a:pt x="184" y="272"/>
                  </a:lnTo>
                  <a:lnTo>
                    <a:pt x="208" y="258"/>
                  </a:lnTo>
                  <a:lnTo>
                    <a:pt x="229" y="242"/>
                  </a:lnTo>
                  <a:lnTo>
                    <a:pt x="246" y="220"/>
                  </a:lnTo>
                  <a:lnTo>
                    <a:pt x="260" y="196"/>
                  </a:lnTo>
                  <a:lnTo>
                    <a:pt x="268" y="169"/>
                  </a:lnTo>
                  <a:lnTo>
                    <a:pt x="271" y="140"/>
                  </a:lnTo>
                  <a:lnTo>
                    <a:pt x="246" y="140"/>
                  </a:lnTo>
                  <a:lnTo>
                    <a:pt x="243" y="117"/>
                  </a:lnTo>
                  <a:lnTo>
                    <a:pt x="236" y="95"/>
                  </a:lnTo>
                  <a:lnTo>
                    <a:pt x="225" y="75"/>
                  </a:lnTo>
                  <a:lnTo>
                    <a:pt x="211" y="57"/>
                  </a:lnTo>
                  <a:lnTo>
                    <a:pt x="193" y="43"/>
                  </a:lnTo>
                  <a:lnTo>
                    <a:pt x="173" y="32"/>
                  </a:lnTo>
                  <a:lnTo>
                    <a:pt x="152" y="25"/>
                  </a:lnTo>
                  <a:lnTo>
                    <a:pt x="128" y="23"/>
                  </a:lnTo>
                  <a:lnTo>
                    <a:pt x="104" y="25"/>
                  </a:lnTo>
                  <a:lnTo>
                    <a:pt x="110" y="22"/>
                  </a:lnTo>
                  <a:lnTo>
                    <a:pt x="116" y="18"/>
                  </a:lnTo>
                  <a:lnTo>
                    <a:pt x="122" y="14"/>
                  </a:lnTo>
                  <a:lnTo>
                    <a:pt x="128" y="12"/>
                  </a:lnTo>
                  <a:lnTo>
                    <a:pt x="134" y="8"/>
                  </a:lnTo>
                  <a:lnTo>
                    <a:pt x="141" y="6"/>
                  </a:lnTo>
                  <a:lnTo>
                    <a:pt x="147" y="2"/>
                  </a:lnTo>
                  <a:lnTo>
                    <a:pt x="153" y="0"/>
                  </a:lnTo>
                  <a:lnTo>
                    <a:pt x="157" y="0"/>
                  </a:lnTo>
                  <a:lnTo>
                    <a:pt x="184" y="8"/>
                  </a:lnTo>
                  <a:lnTo>
                    <a:pt x="208" y="23"/>
                  </a:lnTo>
                  <a:lnTo>
                    <a:pt x="229" y="39"/>
                  </a:lnTo>
                  <a:lnTo>
                    <a:pt x="246" y="61"/>
                  </a:lnTo>
                  <a:lnTo>
                    <a:pt x="260" y="85"/>
                  </a:lnTo>
                  <a:lnTo>
                    <a:pt x="268" y="112"/>
                  </a:lnTo>
                  <a:lnTo>
                    <a:pt x="271" y="140"/>
                  </a:lnTo>
                  <a:lnTo>
                    <a:pt x="246" y="140"/>
                  </a:lnTo>
                  <a:lnTo>
                    <a:pt x="243" y="164"/>
                  </a:lnTo>
                  <a:lnTo>
                    <a:pt x="236" y="186"/>
                  </a:lnTo>
                  <a:lnTo>
                    <a:pt x="225" y="206"/>
                  </a:lnTo>
                  <a:lnTo>
                    <a:pt x="211" y="224"/>
                  </a:lnTo>
                  <a:lnTo>
                    <a:pt x="193" y="238"/>
                  </a:lnTo>
                  <a:lnTo>
                    <a:pt x="173" y="249"/>
                  </a:lnTo>
                  <a:lnTo>
                    <a:pt x="152" y="256"/>
                  </a:lnTo>
                  <a:lnTo>
                    <a:pt x="128" y="258"/>
                  </a:lnTo>
                  <a:lnTo>
                    <a:pt x="104" y="256"/>
                  </a:lnTo>
                  <a:lnTo>
                    <a:pt x="83" y="249"/>
                  </a:lnTo>
                  <a:lnTo>
                    <a:pt x="63" y="238"/>
                  </a:lnTo>
                  <a:lnTo>
                    <a:pt x="45" y="224"/>
                  </a:lnTo>
                  <a:lnTo>
                    <a:pt x="31" y="206"/>
                  </a:lnTo>
                  <a:lnTo>
                    <a:pt x="20" y="186"/>
                  </a:lnTo>
                  <a:lnTo>
                    <a:pt x="13" y="164"/>
                  </a:lnTo>
                  <a:lnTo>
                    <a:pt x="11" y="146"/>
                  </a:lnTo>
                  <a:close/>
                </a:path>
              </a:pathLst>
            </a:custGeom>
            <a:solidFill>
              <a:srgbClr val="ff7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01360" y="2592360"/>
              <a:ext cx="104400" cy="115560"/>
            </a:xfrm>
            <a:custGeom>
              <a:avLst/>
              <a:gdLst/>
              <a:ahLst/>
              <a:rect l="l" t="t" r="r" b="b"/>
              <a:pathLst>
                <a:path w="238" h="237">
                  <a:moveTo>
                    <a:pt x="97" y="2"/>
                  </a:moveTo>
                  <a:lnTo>
                    <a:pt x="80" y="14"/>
                  </a:lnTo>
                  <a:lnTo>
                    <a:pt x="65" y="27"/>
                  </a:lnTo>
                  <a:lnTo>
                    <a:pt x="50" y="41"/>
                  </a:lnTo>
                  <a:lnTo>
                    <a:pt x="38" y="57"/>
                  </a:lnTo>
                  <a:lnTo>
                    <a:pt x="27" y="72"/>
                  </a:lnTo>
                  <a:lnTo>
                    <a:pt x="16" y="90"/>
                  </a:lnTo>
                  <a:lnTo>
                    <a:pt x="8" y="108"/>
                  </a:lnTo>
                  <a:lnTo>
                    <a:pt x="0" y="127"/>
                  </a:lnTo>
                  <a:lnTo>
                    <a:pt x="3" y="142"/>
                  </a:lnTo>
                  <a:lnTo>
                    <a:pt x="10" y="165"/>
                  </a:lnTo>
                  <a:lnTo>
                    <a:pt x="21" y="185"/>
                  </a:lnTo>
                  <a:lnTo>
                    <a:pt x="35" y="203"/>
                  </a:lnTo>
                  <a:lnTo>
                    <a:pt x="53" y="217"/>
                  </a:lnTo>
                  <a:lnTo>
                    <a:pt x="73" y="228"/>
                  </a:lnTo>
                  <a:lnTo>
                    <a:pt x="95" y="235"/>
                  </a:lnTo>
                  <a:lnTo>
                    <a:pt x="119" y="237"/>
                  </a:lnTo>
                  <a:lnTo>
                    <a:pt x="143" y="235"/>
                  </a:lnTo>
                  <a:lnTo>
                    <a:pt x="165" y="228"/>
                  </a:lnTo>
                  <a:lnTo>
                    <a:pt x="186" y="217"/>
                  </a:lnTo>
                  <a:lnTo>
                    <a:pt x="203" y="203"/>
                  </a:lnTo>
                  <a:lnTo>
                    <a:pt x="218" y="185"/>
                  </a:lnTo>
                  <a:lnTo>
                    <a:pt x="228" y="165"/>
                  </a:lnTo>
                  <a:lnTo>
                    <a:pt x="235" y="142"/>
                  </a:lnTo>
                  <a:lnTo>
                    <a:pt x="238" y="118"/>
                  </a:lnTo>
                  <a:lnTo>
                    <a:pt x="213" y="118"/>
                  </a:lnTo>
                  <a:lnTo>
                    <a:pt x="211" y="99"/>
                  </a:lnTo>
                  <a:lnTo>
                    <a:pt x="206" y="83"/>
                  </a:lnTo>
                  <a:lnTo>
                    <a:pt x="196" y="66"/>
                  </a:lnTo>
                  <a:lnTo>
                    <a:pt x="186" y="52"/>
                  </a:lnTo>
                  <a:lnTo>
                    <a:pt x="171" y="41"/>
                  </a:lnTo>
                  <a:lnTo>
                    <a:pt x="155" y="32"/>
                  </a:lnTo>
                  <a:lnTo>
                    <a:pt x="138" y="27"/>
                  </a:lnTo>
                  <a:lnTo>
                    <a:pt x="119" y="25"/>
                  </a:lnTo>
                  <a:lnTo>
                    <a:pt x="100" y="27"/>
                  </a:lnTo>
                  <a:lnTo>
                    <a:pt x="84" y="32"/>
                  </a:lnTo>
                  <a:lnTo>
                    <a:pt x="67" y="41"/>
                  </a:lnTo>
                  <a:lnTo>
                    <a:pt x="53" y="52"/>
                  </a:lnTo>
                  <a:lnTo>
                    <a:pt x="42" y="66"/>
                  </a:lnTo>
                  <a:lnTo>
                    <a:pt x="33" y="83"/>
                  </a:lnTo>
                  <a:lnTo>
                    <a:pt x="28" y="99"/>
                  </a:lnTo>
                  <a:lnTo>
                    <a:pt x="25" y="118"/>
                  </a:lnTo>
                  <a:lnTo>
                    <a:pt x="28" y="138"/>
                  </a:lnTo>
                  <a:lnTo>
                    <a:pt x="33" y="154"/>
                  </a:lnTo>
                  <a:lnTo>
                    <a:pt x="42" y="171"/>
                  </a:lnTo>
                  <a:lnTo>
                    <a:pt x="53" y="185"/>
                  </a:lnTo>
                  <a:lnTo>
                    <a:pt x="67" y="196"/>
                  </a:lnTo>
                  <a:lnTo>
                    <a:pt x="84" y="205"/>
                  </a:lnTo>
                  <a:lnTo>
                    <a:pt x="100" y="210"/>
                  </a:lnTo>
                  <a:lnTo>
                    <a:pt x="119" y="212"/>
                  </a:lnTo>
                  <a:lnTo>
                    <a:pt x="138" y="210"/>
                  </a:lnTo>
                  <a:lnTo>
                    <a:pt x="155" y="205"/>
                  </a:lnTo>
                  <a:lnTo>
                    <a:pt x="171" y="196"/>
                  </a:lnTo>
                  <a:lnTo>
                    <a:pt x="186" y="185"/>
                  </a:lnTo>
                  <a:lnTo>
                    <a:pt x="196" y="171"/>
                  </a:lnTo>
                  <a:lnTo>
                    <a:pt x="206" y="154"/>
                  </a:lnTo>
                  <a:lnTo>
                    <a:pt x="211" y="138"/>
                  </a:lnTo>
                  <a:lnTo>
                    <a:pt x="213" y="118"/>
                  </a:lnTo>
                  <a:lnTo>
                    <a:pt x="238" y="118"/>
                  </a:lnTo>
                  <a:lnTo>
                    <a:pt x="235" y="95"/>
                  </a:lnTo>
                  <a:lnTo>
                    <a:pt x="228" y="72"/>
                  </a:lnTo>
                  <a:lnTo>
                    <a:pt x="218" y="52"/>
                  </a:lnTo>
                  <a:lnTo>
                    <a:pt x="203" y="34"/>
                  </a:lnTo>
                  <a:lnTo>
                    <a:pt x="186" y="20"/>
                  </a:lnTo>
                  <a:lnTo>
                    <a:pt x="165" y="9"/>
                  </a:lnTo>
                  <a:lnTo>
                    <a:pt x="143" y="2"/>
                  </a:lnTo>
                  <a:lnTo>
                    <a:pt x="119" y="0"/>
                  </a:lnTo>
                  <a:lnTo>
                    <a:pt x="97" y="2"/>
                  </a:lnTo>
                  <a:close/>
                </a:path>
              </a:pathLst>
            </a:custGeom>
            <a:solidFill>
              <a:srgbClr val="ff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11800" y="2603880"/>
              <a:ext cx="83160" cy="92160"/>
            </a:xfrm>
            <a:custGeom>
              <a:avLst/>
              <a:gdLst/>
              <a:ahLst/>
              <a:rect l="l" t="t" r="r" b="b"/>
              <a:pathLst>
                <a:path w="190" h="191">
                  <a:moveTo>
                    <a:pt x="190" y="95"/>
                  </a:moveTo>
                  <a:lnTo>
                    <a:pt x="188" y="76"/>
                  </a:lnTo>
                  <a:lnTo>
                    <a:pt x="183" y="59"/>
                  </a:lnTo>
                  <a:lnTo>
                    <a:pt x="173" y="42"/>
                  </a:lnTo>
                  <a:lnTo>
                    <a:pt x="163" y="28"/>
                  </a:lnTo>
                  <a:lnTo>
                    <a:pt x="149" y="17"/>
                  </a:lnTo>
                  <a:lnTo>
                    <a:pt x="132" y="7"/>
                  </a:lnTo>
                  <a:lnTo>
                    <a:pt x="114" y="3"/>
                  </a:lnTo>
                  <a:lnTo>
                    <a:pt x="95" y="0"/>
                  </a:lnTo>
                  <a:lnTo>
                    <a:pt x="76" y="3"/>
                  </a:lnTo>
                  <a:lnTo>
                    <a:pt x="58" y="7"/>
                  </a:lnTo>
                  <a:lnTo>
                    <a:pt x="42" y="17"/>
                  </a:lnTo>
                  <a:lnTo>
                    <a:pt x="29" y="28"/>
                  </a:lnTo>
                  <a:lnTo>
                    <a:pt x="17" y="42"/>
                  </a:lnTo>
                  <a:lnTo>
                    <a:pt x="7" y="59"/>
                  </a:lnTo>
                  <a:lnTo>
                    <a:pt x="3" y="76"/>
                  </a:lnTo>
                  <a:lnTo>
                    <a:pt x="0" y="95"/>
                  </a:lnTo>
                  <a:lnTo>
                    <a:pt x="3" y="115"/>
                  </a:lnTo>
                  <a:lnTo>
                    <a:pt x="7" y="132"/>
                  </a:lnTo>
                  <a:lnTo>
                    <a:pt x="17" y="149"/>
                  </a:lnTo>
                  <a:lnTo>
                    <a:pt x="29" y="162"/>
                  </a:lnTo>
                  <a:lnTo>
                    <a:pt x="42" y="174"/>
                  </a:lnTo>
                  <a:lnTo>
                    <a:pt x="58" y="183"/>
                  </a:lnTo>
                  <a:lnTo>
                    <a:pt x="76" y="188"/>
                  </a:lnTo>
                  <a:lnTo>
                    <a:pt x="95" y="191"/>
                  </a:lnTo>
                  <a:lnTo>
                    <a:pt x="114" y="188"/>
                  </a:lnTo>
                  <a:lnTo>
                    <a:pt x="132" y="183"/>
                  </a:lnTo>
                  <a:lnTo>
                    <a:pt x="149" y="174"/>
                  </a:lnTo>
                  <a:lnTo>
                    <a:pt x="163" y="162"/>
                  </a:lnTo>
                  <a:lnTo>
                    <a:pt x="173" y="149"/>
                  </a:lnTo>
                  <a:lnTo>
                    <a:pt x="183" y="132"/>
                  </a:lnTo>
                  <a:lnTo>
                    <a:pt x="188" y="115"/>
                  </a:lnTo>
                  <a:lnTo>
                    <a:pt x="190" y="95"/>
                  </a:lnTo>
                  <a:lnTo>
                    <a:pt x="166" y="95"/>
                  </a:lnTo>
                  <a:lnTo>
                    <a:pt x="165" y="81"/>
                  </a:lnTo>
                  <a:lnTo>
                    <a:pt x="160" y="68"/>
                  </a:lnTo>
                  <a:lnTo>
                    <a:pt x="154" y="56"/>
                  </a:lnTo>
                  <a:lnTo>
                    <a:pt x="145" y="46"/>
                  </a:lnTo>
                  <a:lnTo>
                    <a:pt x="134" y="36"/>
                  </a:lnTo>
                  <a:lnTo>
                    <a:pt x="122" y="30"/>
                  </a:lnTo>
                  <a:lnTo>
                    <a:pt x="109" y="25"/>
                  </a:lnTo>
                  <a:lnTo>
                    <a:pt x="95" y="24"/>
                  </a:lnTo>
                  <a:lnTo>
                    <a:pt x="81" y="25"/>
                  </a:lnTo>
                  <a:lnTo>
                    <a:pt x="68" y="30"/>
                  </a:lnTo>
                  <a:lnTo>
                    <a:pt x="56" y="36"/>
                  </a:lnTo>
                  <a:lnTo>
                    <a:pt x="45" y="46"/>
                  </a:lnTo>
                  <a:lnTo>
                    <a:pt x="36" y="56"/>
                  </a:lnTo>
                  <a:lnTo>
                    <a:pt x="30" y="68"/>
                  </a:lnTo>
                  <a:lnTo>
                    <a:pt x="25" y="81"/>
                  </a:lnTo>
                  <a:lnTo>
                    <a:pt x="24" y="95"/>
                  </a:lnTo>
                  <a:lnTo>
                    <a:pt x="25" y="110"/>
                  </a:lnTo>
                  <a:lnTo>
                    <a:pt x="30" y="123"/>
                  </a:lnTo>
                  <a:lnTo>
                    <a:pt x="36" y="135"/>
                  </a:lnTo>
                  <a:lnTo>
                    <a:pt x="45" y="145"/>
                  </a:lnTo>
                  <a:lnTo>
                    <a:pt x="56" y="155"/>
                  </a:lnTo>
                  <a:lnTo>
                    <a:pt x="68" y="161"/>
                  </a:lnTo>
                  <a:lnTo>
                    <a:pt x="81" y="166"/>
                  </a:lnTo>
                  <a:lnTo>
                    <a:pt x="95" y="167"/>
                  </a:lnTo>
                  <a:lnTo>
                    <a:pt x="109" y="166"/>
                  </a:lnTo>
                  <a:lnTo>
                    <a:pt x="122" y="161"/>
                  </a:lnTo>
                  <a:lnTo>
                    <a:pt x="134" y="155"/>
                  </a:lnTo>
                  <a:lnTo>
                    <a:pt x="145" y="145"/>
                  </a:lnTo>
                  <a:lnTo>
                    <a:pt x="154" y="135"/>
                  </a:lnTo>
                  <a:lnTo>
                    <a:pt x="160" y="123"/>
                  </a:lnTo>
                  <a:lnTo>
                    <a:pt x="165" y="110"/>
                  </a:lnTo>
                  <a:lnTo>
                    <a:pt x="166" y="95"/>
                  </a:lnTo>
                  <a:lnTo>
                    <a:pt x="190" y="95"/>
                  </a:lnTo>
                  <a:close/>
                </a:path>
              </a:pathLst>
            </a:custGeom>
            <a:solidFill>
              <a:srgbClr val="ffa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21520" y="2614680"/>
              <a:ext cx="63720" cy="7092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145" y="72"/>
                  </a:moveTo>
                  <a:lnTo>
                    <a:pt x="143" y="58"/>
                  </a:lnTo>
                  <a:lnTo>
                    <a:pt x="139" y="45"/>
                  </a:lnTo>
                  <a:lnTo>
                    <a:pt x="131" y="32"/>
                  </a:lnTo>
                  <a:lnTo>
                    <a:pt x="123" y="21"/>
                  </a:lnTo>
                  <a:lnTo>
                    <a:pt x="112" y="13"/>
                  </a:lnTo>
                  <a:lnTo>
                    <a:pt x="99" y="6"/>
                  </a:lnTo>
                  <a:lnTo>
                    <a:pt x="86" y="1"/>
                  </a:lnTo>
                  <a:lnTo>
                    <a:pt x="72" y="0"/>
                  </a:lnTo>
                  <a:lnTo>
                    <a:pt x="58" y="1"/>
                  </a:lnTo>
                  <a:lnTo>
                    <a:pt x="45" y="6"/>
                  </a:lnTo>
                  <a:lnTo>
                    <a:pt x="32" y="13"/>
                  </a:lnTo>
                  <a:lnTo>
                    <a:pt x="21" y="21"/>
                  </a:lnTo>
                  <a:lnTo>
                    <a:pt x="13" y="32"/>
                  </a:lnTo>
                  <a:lnTo>
                    <a:pt x="6" y="45"/>
                  </a:lnTo>
                  <a:lnTo>
                    <a:pt x="1" y="58"/>
                  </a:lnTo>
                  <a:lnTo>
                    <a:pt x="0" y="72"/>
                  </a:lnTo>
                  <a:lnTo>
                    <a:pt x="1" y="87"/>
                  </a:lnTo>
                  <a:lnTo>
                    <a:pt x="6" y="100"/>
                  </a:lnTo>
                  <a:lnTo>
                    <a:pt x="13" y="113"/>
                  </a:lnTo>
                  <a:lnTo>
                    <a:pt x="21" y="124"/>
                  </a:lnTo>
                  <a:lnTo>
                    <a:pt x="32" y="132"/>
                  </a:lnTo>
                  <a:lnTo>
                    <a:pt x="45" y="139"/>
                  </a:lnTo>
                  <a:lnTo>
                    <a:pt x="58" y="144"/>
                  </a:lnTo>
                  <a:lnTo>
                    <a:pt x="72" y="145"/>
                  </a:lnTo>
                  <a:lnTo>
                    <a:pt x="86" y="144"/>
                  </a:lnTo>
                  <a:lnTo>
                    <a:pt x="99" y="139"/>
                  </a:lnTo>
                  <a:lnTo>
                    <a:pt x="112" y="132"/>
                  </a:lnTo>
                  <a:lnTo>
                    <a:pt x="123" y="124"/>
                  </a:lnTo>
                  <a:lnTo>
                    <a:pt x="131" y="113"/>
                  </a:lnTo>
                  <a:lnTo>
                    <a:pt x="139" y="100"/>
                  </a:lnTo>
                  <a:lnTo>
                    <a:pt x="143" y="87"/>
                  </a:lnTo>
                  <a:lnTo>
                    <a:pt x="145" y="72"/>
                  </a:lnTo>
                  <a:lnTo>
                    <a:pt x="120" y="72"/>
                  </a:lnTo>
                  <a:lnTo>
                    <a:pt x="118" y="63"/>
                  </a:lnTo>
                  <a:lnTo>
                    <a:pt x="116" y="53"/>
                  </a:lnTo>
                  <a:lnTo>
                    <a:pt x="111" y="46"/>
                  </a:lnTo>
                  <a:lnTo>
                    <a:pt x="105" y="39"/>
                  </a:lnTo>
                  <a:lnTo>
                    <a:pt x="98" y="33"/>
                  </a:lnTo>
                  <a:lnTo>
                    <a:pt x="91" y="28"/>
                  </a:lnTo>
                  <a:lnTo>
                    <a:pt x="82" y="26"/>
                  </a:lnTo>
                  <a:lnTo>
                    <a:pt x="72" y="25"/>
                  </a:lnTo>
                  <a:lnTo>
                    <a:pt x="63" y="26"/>
                  </a:lnTo>
                  <a:lnTo>
                    <a:pt x="53" y="28"/>
                  </a:lnTo>
                  <a:lnTo>
                    <a:pt x="46" y="33"/>
                  </a:lnTo>
                  <a:lnTo>
                    <a:pt x="39" y="39"/>
                  </a:lnTo>
                  <a:lnTo>
                    <a:pt x="33" y="46"/>
                  </a:lnTo>
                  <a:lnTo>
                    <a:pt x="28" y="53"/>
                  </a:lnTo>
                  <a:lnTo>
                    <a:pt x="26" y="63"/>
                  </a:lnTo>
                  <a:lnTo>
                    <a:pt x="25" y="72"/>
                  </a:lnTo>
                  <a:lnTo>
                    <a:pt x="26" y="82"/>
                  </a:lnTo>
                  <a:lnTo>
                    <a:pt x="28" y="92"/>
                  </a:lnTo>
                  <a:lnTo>
                    <a:pt x="33" y="99"/>
                  </a:lnTo>
                  <a:lnTo>
                    <a:pt x="39" y="106"/>
                  </a:lnTo>
                  <a:lnTo>
                    <a:pt x="46" y="112"/>
                  </a:lnTo>
                  <a:lnTo>
                    <a:pt x="53" y="116"/>
                  </a:lnTo>
                  <a:lnTo>
                    <a:pt x="63" y="119"/>
                  </a:lnTo>
                  <a:lnTo>
                    <a:pt x="72" y="120"/>
                  </a:lnTo>
                  <a:lnTo>
                    <a:pt x="82" y="119"/>
                  </a:lnTo>
                  <a:lnTo>
                    <a:pt x="91" y="116"/>
                  </a:lnTo>
                  <a:lnTo>
                    <a:pt x="98" y="112"/>
                  </a:lnTo>
                  <a:lnTo>
                    <a:pt x="105" y="106"/>
                  </a:lnTo>
                  <a:lnTo>
                    <a:pt x="111" y="99"/>
                  </a:lnTo>
                  <a:lnTo>
                    <a:pt x="116" y="92"/>
                  </a:lnTo>
                  <a:lnTo>
                    <a:pt x="118" y="82"/>
                  </a:lnTo>
                  <a:lnTo>
                    <a:pt x="120" y="72"/>
                  </a:lnTo>
                  <a:lnTo>
                    <a:pt x="145" y="72"/>
                  </a:lnTo>
                  <a:close/>
                </a:path>
              </a:pathLst>
            </a:custGeom>
            <a:solidFill>
              <a:srgbClr val="f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31960" y="2626560"/>
              <a:ext cx="42840" cy="47520"/>
            </a:xfrm>
            <a:custGeom>
              <a:avLst/>
              <a:gdLst/>
              <a:ahLst/>
              <a:rect l="l" t="t" r="r" b="b"/>
              <a:pathLst>
                <a:path w="98" h="97">
                  <a:moveTo>
                    <a:pt x="98" y="48"/>
                  </a:moveTo>
                  <a:lnTo>
                    <a:pt x="97" y="39"/>
                  </a:lnTo>
                  <a:lnTo>
                    <a:pt x="94" y="29"/>
                  </a:lnTo>
                  <a:lnTo>
                    <a:pt x="89" y="21"/>
                  </a:lnTo>
                  <a:lnTo>
                    <a:pt x="84" y="14"/>
                  </a:lnTo>
                  <a:lnTo>
                    <a:pt x="76" y="8"/>
                  </a:lnTo>
                  <a:lnTo>
                    <a:pt x="68" y="3"/>
                  </a:lnTo>
                  <a:lnTo>
                    <a:pt x="59" y="1"/>
                  </a:lnTo>
                  <a:lnTo>
                    <a:pt x="49" y="0"/>
                  </a:lnTo>
                  <a:lnTo>
                    <a:pt x="40" y="1"/>
                  </a:lnTo>
                  <a:lnTo>
                    <a:pt x="30" y="3"/>
                  </a:lnTo>
                  <a:lnTo>
                    <a:pt x="22" y="8"/>
                  </a:lnTo>
                  <a:lnTo>
                    <a:pt x="15" y="14"/>
                  </a:lnTo>
                  <a:lnTo>
                    <a:pt x="9" y="21"/>
                  </a:lnTo>
                  <a:lnTo>
                    <a:pt x="4" y="29"/>
                  </a:lnTo>
                  <a:lnTo>
                    <a:pt x="2" y="39"/>
                  </a:lnTo>
                  <a:lnTo>
                    <a:pt x="0" y="48"/>
                  </a:lnTo>
                  <a:lnTo>
                    <a:pt x="2" y="58"/>
                  </a:lnTo>
                  <a:lnTo>
                    <a:pt x="4" y="68"/>
                  </a:lnTo>
                  <a:lnTo>
                    <a:pt x="9" y="76"/>
                  </a:lnTo>
                  <a:lnTo>
                    <a:pt x="15" y="83"/>
                  </a:lnTo>
                  <a:lnTo>
                    <a:pt x="22" y="89"/>
                  </a:lnTo>
                  <a:lnTo>
                    <a:pt x="30" y="94"/>
                  </a:lnTo>
                  <a:lnTo>
                    <a:pt x="40" y="96"/>
                  </a:lnTo>
                  <a:lnTo>
                    <a:pt x="49" y="97"/>
                  </a:lnTo>
                  <a:lnTo>
                    <a:pt x="59" y="96"/>
                  </a:lnTo>
                  <a:lnTo>
                    <a:pt x="68" y="94"/>
                  </a:lnTo>
                  <a:lnTo>
                    <a:pt x="76" y="89"/>
                  </a:lnTo>
                  <a:lnTo>
                    <a:pt x="84" y="83"/>
                  </a:lnTo>
                  <a:lnTo>
                    <a:pt x="89" y="76"/>
                  </a:lnTo>
                  <a:lnTo>
                    <a:pt x="94" y="68"/>
                  </a:lnTo>
                  <a:lnTo>
                    <a:pt x="97" y="58"/>
                  </a:lnTo>
                  <a:lnTo>
                    <a:pt x="98" y="48"/>
                  </a:lnTo>
                  <a:lnTo>
                    <a:pt x="98" y="48"/>
                  </a:lnTo>
                  <a:close/>
                </a:path>
              </a:pathLst>
            </a:custGeom>
            <a:solidFill>
              <a:srgbClr val="f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42400" y="2638080"/>
              <a:ext cx="21960" cy="241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25"/>
                  </a:moveTo>
                  <a:lnTo>
                    <a:pt x="48" y="16"/>
                  </a:lnTo>
                  <a:lnTo>
                    <a:pt x="43" y="8"/>
                  </a:lnTo>
                  <a:lnTo>
                    <a:pt x="35" y="3"/>
                  </a:lnTo>
                  <a:lnTo>
                    <a:pt x="25" y="0"/>
                  </a:lnTo>
                  <a:lnTo>
                    <a:pt x="16" y="3"/>
                  </a:lnTo>
                  <a:lnTo>
                    <a:pt x="7" y="8"/>
                  </a:lnTo>
                  <a:lnTo>
                    <a:pt x="3" y="16"/>
                  </a:lnTo>
                  <a:lnTo>
                    <a:pt x="0" y="25"/>
                  </a:lnTo>
                  <a:lnTo>
                    <a:pt x="3" y="35"/>
                  </a:lnTo>
                  <a:lnTo>
                    <a:pt x="7" y="43"/>
                  </a:lnTo>
                  <a:lnTo>
                    <a:pt x="16" y="48"/>
                  </a:lnTo>
                  <a:lnTo>
                    <a:pt x="25" y="50"/>
                  </a:lnTo>
                  <a:lnTo>
                    <a:pt x="35" y="48"/>
                  </a:lnTo>
                  <a:lnTo>
                    <a:pt x="43" y="43"/>
                  </a:lnTo>
                  <a:lnTo>
                    <a:pt x="48" y="35"/>
                  </a:lnTo>
                  <a:lnTo>
                    <a:pt x="50" y="25"/>
                  </a:lnTo>
                  <a:lnTo>
                    <a:pt x="5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685960" y="1635120"/>
            <a:ext cx="88920" cy="973080"/>
          </a:xfrm>
          <a:custGeom>
            <a:avLst/>
            <a:gdLst/>
            <a:ahLst/>
            <a:rect l="l" t="t" r="r" b="b"/>
            <a:pathLst>
              <a:path w="202" h="2002">
                <a:moveTo>
                  <a:pt x="166" y="3"/>
                </a:moveTo>
                <a:lnTo>
                  <a:pt x="130" y="0"/>
                </a:lnTo>
                <a:lnTo>
                  <a:pt x="0" y="1998"/>
                </a:lnTo>
                <a:lnTo>
                  <a:pt x="71" y="2002"/>
                </a:lnTo>
                <a:lnTo>
                  <a:pt x="202" y="5"/>
                </a:lnTo>
                <a:lnTo>
                  <a:pt x="166" y="3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6400" y="2690640"/>
            <a:ext cx="1847880" cy="1089360"/>
          </a:xfrm>
          <a:custGeom>
            <a:avLst/>
            <a:gdLst/>
            <a:ahLst/>
            <a:rect l="l" t="t" r="r" b="b"/>
            <a:pathLst>
              <a:path w="4198" h="2244">
                <a:moveTo>
                  <a:pt x="4182" y="32"/>
                </a:moveTo>
                <a:lnTo>
                  <a:pt x="4165" y="0"/>
                </a:lnTo>
                <a:lnTo>
                  <a:pt x="0" y="2180"/>
                </a:lnTo>
                <a:lnTo>
                  <a:pt x="33" y="2244"/>
                </a:lnTo>
                <a:lnTo>
                  <a:pt x="4198" y="64"/>
                </a:lnTo>
                <a:lnTo>
                  <a:pt x="4182" y="32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57600" y="2684520"/>
            <a:ext cx="1355760" cy="1192320"/>
          </a:xfrm>
          <a:custGeom>
            <a:avLst/>
            <a:gdLst/>
            <a:ahLst/>
            <a:rect l="l" t="t" r="r" b="b"/>
            <a:pathLst>
              <a:path w="3081" h="2458">
                <a:moveTo>
                  <a:pt x="3058" y="2429"/>
                </a:moveTo>
                <a:lnTo>
                  <a:pt x="3081" y="2401"/>
                </a:lnTo>
                <a:lnTo>
                  <a:pt x="45" y="0"/>
                </a:lnTo>
                <a:lnTo>
                  <a:pt x="0" y="58"/>
                </a:lnTo>
                <a:lnTo>
                  <a:pt x="3036" y="2458"/>
                </a:lnTo>
                <a:lnTo>
                  <a:pt x="3058" y="2429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651040" y="1409760"/>
            <a:ext cx="230400" cy="245880"/>
            <a:chOff x="2651040" y="1409760"/>
            <a:chExt cx="230400" cy="245880"/>
          </a:xfrm>
        </p:grpSpPr>
        <p:sp>
          <p:nvSpPr>
            <p:cNvPr id="137" name=""/>
            <p:cNvSpPr/>
            <p:nvPr/>
          </p:nvSpPr>
          <p:spPr>
            <a:xfrm>
              <a:off x="2740320" y="1508760"/>
              <a:ext cx="51840" cy="3672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118" y="44"/>
                  </a:moveTo>
                  <a:lnTo>
                    <a:pt x="106" y="20"/>
                  </a:lnTo>
                  <a:lnTo>
                    <a:pt x="88" y="5"/>
                  </a:lnTo>
                  <a:lnTo>
                    <a:pt x="67" y="0"/>
                  </a:lnTo>
                  <a:lnTo>
                    <a:pt x="44" y="1"/>
                  </a:lnTo>
                  <a:lnTo>
                    <a:pt x="24" y="11"/>
                  </a:lnTo>
                  <a:lnTo>
                    <a:pt x="8" y="26"/>
                  </a:lnTo>
                  <a:lnTo>
                    <a:pt x="0" y="49"/>
                  </a:lnTo>
                  <a:lnTo>
                    <a:pt x="1" y="75"/>
                  </a:lnTo>
                  <a:lnTo>
                    <a:pt x="118" y="4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00440" y="1512720"/>
              <a:ext cx="81000" cy="136800"/>
            </a:xfrm>
            <a:custGeom>
              <a:avLst/>
              <a:gdLst/>
              <a:ahLst/>
              <a:rect l="l" t="t" r="r" b="b"/>
              <a:pathLst>
                <a:path w="182" h="282">
                  <a:moveTo>
                    <a:pt x="180" y="0"/>
                  </a:moveTo>
                  <a:lnTo>
                    <a:pt x="181" y="5"/>
                  </a:lnTo>
                  <a:lnTo>
                    <a:pt x="181" y="10"/>
                  </a:lnTo>
                  <a:lnTo>
                    <a:pt x="182" y="15"/>
                  </a:lnTo>
                  <a:lnTo>
                    <a:pt x="182" y="19"/>
                  </a:lnTo>
                  <a:lnTo>
                    <a:pt x="182" y="24"/>
                  </a:lnTo>
                  <a:lnTo>
                    <a:pt x="182" y="29"/>
                  </a:lnTo>
                  <a:lnTo>
                    <a:pt x="182" y="35"/>
                  </a:lnTo>
                  <a:lnTo>
                    <a:pt x="182" y="40"/>
                  </a:lnTo>
                  <a:lnTo>
                    <a:pt x="181" y="61"/>
                  </a:lnTo>
                  <a:lnTo>
                    <a:pt x="179" y="81"/>
                  </a:lnTo>
                  <a:lnTo>
                    <a:pt x="175" y="102"/>
                  </a:lnTo>
                  <a:lnTo>
                    <a:pt x="169" y="121"/>
                  </a:lnTo>
                  <a:lnTo>
                    <a:pt x="161" y="140"/>
                  </a:lnTo>
                  <a:lnTo>
                    <a:pt x="153" y="157"/>
                  </a:lnTo>
                  <a:lnTo>
                    <a:pt x="142" y="175"/>
                  </a:lnTo>
                  <a:lnTo>
                    <a:pt x="131" y="191"/>
                  </a:lnTo>
                  <a:lnTo>
                    <a:pt x="118" y="206"/>
                  </a:lnTo>
                  <a:lnTo>
                    <a:pt x="104" y="222"/>
                  </a:lnTo>
                  <a:lnTo>
                    <a:pt x="90" y="235"/>
                  </a:lnTo>
                  <a:lnTo>
                    <a:pt x="73" y="247"/>
                  </a:lnTo>
                  <a:lnTo>
                    <a:pt x="57" y="257"/>
                  </a:lnTo>
                  <a:lnTo>
                    <a:pt x="38" y="267"/>
                  </a:lnTo>
                  <a:lnTo>
                    <a:pt x="20" y="275"/>
                  </a:lnTo>
                  <a:lnTo>
                    <a:pt x="0" y="282"/>
                  </a:lnTo>
                  <a:lnTo>
                    <a:pt x="15" y="273"/>
                  </a:lnTo>
                  <a:lnTo>
                    <a:pt x="44" y="250"/>
                  </a:lnTo>
                  <a:lnTo>
                    <a:pt x="71" y="225"/>
                  </a:lnTo>
                  <a:lnTo>
                    <a:pt x="96" y="198"/>
                  </a:lnTo>
                  <a:lnTo>
                    <a:pt x="118" y="169"/>
                  </a:lnTo>
                  <a:lnTo>
                    <a:pt x="137" y="137"/>
                  </a:lnTo>
                  <a:lnTo>
                    <a:pt x="154" y="104"/>
                  </a:lnTo>
                  <a:lnTo>
                    <a:pt x="166" y="68"/>
                  </a:lnTo>
                  <a:lnTo>
                    <a:pt x="175" y="33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e0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64080" y="1477800"/>
              <a:ext cx="115560" cy="177840"/>
            </a:xfrm>
            <a:custGeom>
              <a:avLst/>
              <a:gdLst/>
              <a:ahLst/>
              <a:rect l="l" t="t" r="r" b="b"/>
              <a:pathLst>
                <a:path w="263" h="366">
                  <a:moveTo>
                    <a:pt x="239" y="0"/>
                  </a:moveTo>
                  <a:lnTo>
                    <a:pt x="243" y="7"/>
                  </a:lnTo>
                  <a:lnTo>
                    <a:pt x="245" y="14"/>
                  </a:lnTo>
                  <a:lnTo>
                    <a:pt x="249" y="21"/>
                  </a:lnTo>
                  <a:lnTo>
                    <a:pt x="251" y="27"/>
                  </a:lnTo>
                  <a:lnTo>
                    <a:pt x="242" y="27"/>
                  </a:lnTo>
                  <a:lnTo>
                    <a:pt x="239" y="0"/>
                  </a:lnTo>
                  <a:close/>
                  <a:moveTo>
                    <a:pt x="263" y="76"/>
                  </a:moveTo>
                  <a:lnTo>
                    <a:pt x="262" y="70"/>
                  </a:lnTo>
                  <a:lnTo>
                    <a:pt x="261" y="64"/>
                  </a:lnTo>
                  <a:lnTo>
                    <a:pt x="259" y="57"/>
                  </a:lnTo>
                  <a:lnTo>
                    <a:pt x="258" y="51"/>
                  </a:lnTo>
                  <a:lnTo>
                    <a:pt x="257" y="45"/>
                  </a:lnTo>
                  <a:lnTo>
                    <a:pt x="255" y="39"/>
                  </a:lnTo>
                  <a:lnTo>
                    <a:pt x="253" y="33"/>
                  </a:lnTo>
                  <a:lnTo>
                    <a:pt x="251" y="27"/>
                  </a:lnTo>
                  <a:lnTo>
                    <a:pt x="242" y="27"/>
                  </a:lnTo>
                  <a:lnTo>
                    <a:pt x="239" y="64"/>
                  </a:lnTo>
                  <a:lnTo>
                    <a:pt x="234" y="100"/>
                  </a:lnTo>
                  <a:lnTo>
                    <a:pt x="225" y="133"/>
                  </a:lnTo>
                  <a:lnTo>
                    <a:pt x="213" y="166"/>
                  </a:lnTo>
                  <a:lnTo>
                    <a:pt x="199" y="197"/>
                  </a:lnTo>
                  <a:lnTo>
                    <a:pt x="181" y="227"/>
                  </a:lnTo>
                  <a:lnTo>
                    <a:pt x="160" y="254"/>
                  </a:lnTo>
                  <a:lnTo>
                    <a:pt x="137" y="281"/>
                  </a:lnTo>
                  <a:lnTo>
                    <a:pt x="111" y="303"/>
                  </a:lnTo>
                  <a:lnTo>
                    <a:pt x="84" y="325"/>
                  </a:lnTo>
                  <a:lnTo>
                    <a:pt x="54" y="342"/>
                  </a:lnTo>
                  <a:lnTo>
                    <a:pt x="23" y="357"/>
                  </a:lnTo>
                  <a:lnTo>
                    <a:pt x="0" y="365"/>
                  </a:lnTo>
                  <a:lnTo>
                    <a:pt x="1" y="365"/>
                  </a:lnTo>
                  <a:lnTo>
                    <a:pt x="2" y="365"/>
                  </a:lnTo>
                  <a:lnTo>
                    <a:pt x="3" y="366"/>
                  </a:lnTo>
                  <a:lnTo>
                    <a:pt x="4" y="366"/>
                  </a:lnTo>
                  <a:lnTo>
                    <a:pt x="15" y="366"/>
                  </a:lnTo>
                  <a:lnTo>
                    <a:pt x="26" y="365"/>
                  </a:lnTo>
                  <a:lnTo>
                    <a:pt x="36" y="364"/>
                  </a:lnTo>
                  <a:lnTo>
                    <a:pt x="47" y="363"/>
                  </a:lnTo>
                  <a:lnTo>
                    <a:pt x="58" y="361"/>
                  </a:lnTo>
                  <a:lnTo>
                    <a:pt x="67" y="359"/>
                  </a:lnTo>
                  <a:lnTo>
                    <a:pt x="78" y="356"/>
                  </a:lnTo>
                  <a:lnTo>
                    <a:pt x="87" y="353"/>
                  </a:lnTo>
                  <a:lnTo>
                    <a:pt x="98" y="346"/>
                  </a:lnTo>
                  <a:lnTo>
                    <a:pt x="128" y="323"/>
                  </a:lnTo>
                  <a:lnTo>
                    <a:pt x="155" y="298"/>
                  </a:lnTo>
                  <a:lnTo>
                    <a:pt x="180" y="271"/>
                  </a:lnTo>
                  <a:lnTo>
                    <a:pt x="202" y="241"/>
                  </a:lnTo>
                  <a:lnTo>
                    <a:pt x="221" y="210"/>
                  </a:lnTo>
                  <a:lnTo>
                    <a:pt x="238" y="177"/>
                  </a:lnTo>
                  <a:lnTo>
                    <a:pt x="250" y="141"/>
                  </a:lnTo>
                  <a:lnTo>
                    <a:pt x="259" y="105"/>
                  </a:lnTo>
                  <a:lnTo>
                    <a:pt x="263" y="76"/>
                  </a:lnTo>
                  <a:close/>
                </a:path>
              </a:pathLst>
            </a:custGeom>
            <a:solidFill>
              <a:srgbClr val="eb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34920" y="1452240"/>
              <a:ext cx="135720" cy="203040"/>
            </a:xfrm>
            <a:custGeom>
              <a:avLst/>
              <a:gdLst/>
              <a:ahLst/>
              <a:rect l="l" t="t" r="r" b="b"/>
              <a:pathLst>
                <a:path w="310" h="416">
                  <a:moveTo>
                    <a:pt x="307" y="54"/>
                  </a:moveTo>
                  <a:lnTo>
                    <a:pt x="304" y="47"/>
                  </a:lnTo>
                  <a:lnTo>
                    <a:pt x="300" y="40"/>
                  </a:lnTo>
                  <a:lnTo>
                    <a:pt x="296" y="33"/>
                  </a:lnTo>
                  <a:lnTo>
                    <a:pt x="292" y="26"/>
                  </a:lnTo>
                  <a:lnTo>
                    <a:pt x="287" y="19"/>
                  </a:lnTo>
                  <a:lnTo>
                    <a:pt x="283" y="13"/>
                  </a:lnTo>
                  <a:lnTo>
                    <a:pt x="277" y="6"/>
                  </a:lnTo>
                  <a:lnTo>
                    <a:pt x="272" y="0"/>
                  </a:lnTo>
                  <a:lnTo>
                    <a:pt x="275" y="12"/>
                  </a:lnTo>
                  <a:lnTo>
                    <a:pt x="281" y="44"/>
                  </a:lnTo>
                  <a:lnTo>
                    <a:pt x="283" y="78"/>
                  </a:lnTo>
                  <a:lnTo>
                    <a:pt x="310" y="78"/>
                  </a:lnTo>
                  <a:lnTo>
                    <a:pt x="307" y="115"/>
                  </a:lnTo>
                  <a:lnTo>
                    <a:pt x="303" y="151"/>
                  </a:lnTo>
                  <a:lnTo>
                    <a:pt x="293" y="185"/>
                  </a:lnTo>
                  <a:lnTo>
                    <a:pt x="281" y="217"/>
                  </a:lnTo>
                  <a:lnTo>
                    <a:pt x="266" y="250"/>
                  </a:lnTo>
                  <a:lnTo>
                    <a:pt x="248" y="279"/>
                  </a:lnTo>
                  <a:lnTo>
                    <a:pt x="228" y="307"/>
                  </a:lnTo>
                  <a:lnTo>
                    <a:pt x="204" y="332"/>
                  </a:lnTo>
                  <a:lnTo>
                    <a:pt x="179" y="355"/>
                  </a:lnTo>
                  <a:lnTo>
                    <a:pt x="152" y="376"/>
                  </a:lnTo>
                  <a:lnTo>
                    <a:pt x="122" y="393"/>
                  </a:lnTo>
                  <a:lnTo>
                    <a:pt x="90" y="409"/>
                  </a:lnTo>
                  <a:lnTo>
                    <a:pt x="70" y="416"/>
                  </a:lnTo>
                  <a:lnTo>
                    <a:pt x="62" y="416"/>
                  </a:lnTo>
                  <a:lnTo>
                    <a:pt x="52" y="415"/>
                  </a:lnTo>
                  <a:lnTo>
                    <a:pt x="44" y="415"/>
                  </a:lnTo>
                  <a:lnTo>
                    <a:pt x="34" y="414"/>
                  </a:lnTo>
                  <a:lnTo>
                    <a:pt x="26" y="412"/>
                  </a:lnTo>
                  <a:lnTo>
                    <a:pt x="17" y="410"/>
                  </a:lnTo>
                  <a:lnTo>
                    <a:pt x="8" y="409"/>
                  </a:lnTo>
                  <a:lnTo>
                    <a:pt x="0" y="407"/>
                  </a:lnTo>
                  <a:lnTo>
                    <a:pt x="18" y="403"/>
                  </a:lnTo>
                  <a:lnTo>
                    <a:pt x="50" y="395"/>
                  </a:lnTo>
                  <a:lnTo>
                    <a:pt x="81" y="384"/>
                  </a:lnTo>
                  <a:lnTo>
                    <a:pt x="109" y="370"/>
                  </a:lnTo>
                  <a:lnTo>
                    <a:pt x="137" y="353"/>
                  </a:lnTo>
                  <a:lnTo>
                    <a:pt x="161" y="334"/>
                  </a:lnTo>
                  <a:lnTo>
                    <a:pt x="185" y="313"/>
                  </a:lnTo>
                  <a:lnTo>
                    <a:pt x="207" y="289"/>
                  </a:lnTo>
                  <a:lnTo>
                    <a:pt x="226" y="264"/>
                  </a:lnTo>
                  <a:lnTo>
                    <a:pt x="242" y="236"/>
                  </a:lnTo>
                  <a:lnTo>
                    <a:pt x="256" y="208"/>
                  </a:lnTo>
                  <a:lnTo>
                    <a:pt x="267" y="177"/>
                  </a:lnTo>
                  <a:lnTo>
                    <a:pt x="275" y="145"/>
                  </a:lnTo>
                  <a:lnTo>
                    <a:pt x="281" y="113"/>
                  </a:lnTo>
                  <a:lnTo>
                    <a:pt x="283" y="78"/>
                  </a:lnTo>
                  <a:lnTo>
                    <a:pt x="310" y="78"/>
                  </a:lnTo>
                  <a:lnTo>
                    <a:pt x="307" y="54"/>
                  </a:lnTo>
                  <a:close/>
                </a:path>
              </a:pathLst>
            </a:custGeom>
            <a:solidFill>
              <a:srgbClr val="f50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10800" y="1435680"/>
              <a:ext cx="148320" cy="214920"/>
            </a:xfrm>
            <a:custGeom>
              <a:avLst/>
              <a:gdLst/>
              <a:ahLst/>
              <a:rect l="l" t="t" r="r" b="b"/>
              <a:pathLst>
                <a:path w="336" h="443">
                  <a:moveTo>
                    <a:pt x="325" y="37"/>
                  </a:moveTo>
                  <a:lnTo>
                    <a:pt x="321" y="32"/>
                  </a:lnTo>
                  <a:lnTo>
                    <a:pt x="317" y="28"/>
                  </a:lnTo>
                  <a:lnTo>
                    <a:pt x="312" y="23"/>
                  </a:lnTo>
                  <a:lnTo>
                    <a:pt x="307" y="18"/>
                  </a:lnTo>
                  <a:lnTo>
                    <a:pt x="302" y="13"/>
                  </a:lnTo>
                  <a:lnTo>
                    <a:pt x="298" y="9"/>
                  </a:lnTo>
                  <a:lnTo>
                    <a:pt x="292" y="4"/>
                  </a:lnTo>
                  <a:lnTo>
                    <a:pt x="287" y="0"/>
                  </a:lnTo>
                  <a:lnTo>
                    <a:pt x="295" y="22"/>
                  </a:lnTo>
                  <a:lnTo>
                    <a:pt x="304" y="51"/>
                  </a:lnTo>
                  <a:lnTo>
                    <a:pt x="308" y="82"/>
                  </a:lnTo>
                  <a:lnTo>
                    <a:pt x="310" y="113"/>
                  </a:lnTo>
                  <a:lnTo>
                    <a:pt x="336" y="113"/>
                  </a:lnTo>
                  <a:lnTo>
                    <a:pt x="335" y="148"/>
                  </a:lnTo>
                  <a:lnTo>
                    <a:pt x="329" y="180"/>
                  </a:lnTo>
                  <a:lnTo>
                    <a:pt x="320" y="212"/>
                  </a:lnTo>
                  <a:lnTo>
                    <a:pt x="310" y="243"/>
                  </a:lnTo>
                  <a:lnTo>
                    <a:pt x="295" y="271"/>
                  </a:lnTo>
                  <a:lnTo>
                    <a:pt x="279" y="299"/>
                  </a:lnTo>
                  <a:lnTo>
                    <a:pt x="260" y="325"/>
                  </a:lnTo>
                  <a:lnTo>
                    <a:pt x="238" y="349"/>
                  </a:lnTo>
                  <a:lnTo>
                    <a:pt x="215" y="370"/>
                  </a:lnTo>
                  <a:lnTo>
                    <a:pt x="189" y="389"/>
                  </a:lnTo>
                  <a:lnTo>
                    <a:pt x="161" y="406"/>
                  </a:lnTo>
                  <a:lnTo>
                    <a:pt x="133" y="420"/>
                  </a:lnTo>
                  <a:lnTo>
                    <a:pt x="102" y="431"/>
                  </a:lnTo>
                  <a:lnTo>
                    <a:pt x="70" y="439"/>
                  </a:lnTo>
                  <a:lnTo>
                    <a:pt x="54" y="443"/>
                  </a:lnTo>
                  <a:lnTo>
                    <a:pt x="47" y="440"/>
                  </a:lnTo>
                  <a:lnTo>
                    <a:pt x="40" y="438"/>
                  </a:lnTo>
                  <a:lnTo>
                    <a:pt x="33" y="436"/>
                  </a:lnTo>
                  <a:lnTo>
                    <a:pt x="26" y="433"/>
                  </a:lnTo>
                  <a:lnTo>
                    <a:pt x="19" y="430"/>
                  </a:lnTo>
                  <a:lnTo>
                    <a:pt x="13" y="427"/>
                  </a:lnTo>
                  <a:lnTo>
                    <a:pt x="6" y="424"/>
                  </a:lnTo>
                  <a:lnTo>
                    <a:pt x="0" y="420"/>
                  </a:lnTo>
                  <a:lnTo>
                    <a:pt x="3" y="420"/>
                  </a:lnTo>
                  <a:lnTo>
                    <a:pt x="34" y="419"/>
                  </a:lnTo>
                  <a:lnTo>
                    <a:pt x="65" y="414"/>
                  </a:lnTo>
                  <a:lnTo>
                    <a:pt x="95" y="406"/>
                  </a:lnTo>
                  <a:lnTo>
                    <a:pt x="122" y="396"/>
                  </a:lnTo>
                  <a:lnTo>
                    <a:pt x="149" y="383"/>
                  </a:lnTo>
                  <a:lnTo>
                    <a:pt x="174" y="368"/>
                  </a:lnTo>
                  <a:lnTo>
                    <a:pt x="198" y="350"/>
                  </a:lnTo>
                  <a:lnTo>
                    <a:pt x="219" y="330"/>
                  </a:lnTo>
                  <a:lnTo>
                    <a:pt x="240" y="308"/>
                  </a:lnTo>
                  <a:lnTo>
                    <a:pt x="257" y="285"/>
                  </a:lnTo>
                  <a:lnTo>
                    <a:pt x="273" y="260"/>
                  </a:lnTo>
                  <a:lnTo>
                    <a:pt x="286" y="232"/>
                  </a:lnTo>
                  <a:lnTo>
                    <a:pt x="295" y="205"/>
                  </a:lnTo>
                  <a:lnTo>
                    <a:pt x="304" y="175"/>
                  </a:lnTo>
                  <a:lnTo>
                    <a:pt x="308" y="144"/>
                  </a:lnTo>
                  <a:lnTo>
                    <a:pt x="310" y="113"/>
                  </a:lnTo>
                  <a:lnTo>
                    <a:pt x="336" y="113"/>
                  </a:lnTo>
                  <a:lnTo>
                    <a:pt x="335" y="79"/>
                  </a:lnTo>
                  <a:lnTo>
                    <a:pt x="329" y="47"/>
                  </a:lnTo>
                  <a:lnTo>
                    <a:pt x="325" y="37"/>
                  </a:lnTo>
                  <a:close/>
                </a:path>
              </a:pathLst>
            </a:custGeom>
            <a:solidFill>
              <a:srgbClr val="ff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1360" y="1423080"/>
              <a:ext cx="156960" cy="217800"/>
            </a:xfrm>
            <a:custGeom>
              <a:avLst/>
              <a:gdLst/>
              <a:ahLst/>
              <a:rect l="l" t="t" r="r" b="b"/>
              <a:pathLst>
                <a:path w="356" h="447">
                  <a:moveTo>
                    <a:pt x="334" y="29"/>
                  </a:moveTo>
                  <a:lnTo>
                    <a:pt x="328" y="24"/>
                  </a:lnTo>
                  <a:lnTo>
                    <a:pt x="324" y="20"/>
                  </a:lnTo>
                  <a:lnTo>
                    <a:pt x="318" y="17"/>
                  </a:lnTo>
                  <a:lnTo>
                    <a:pt x="313" y="12"/>
                  </a:lnTo>
                  <a:lnTo>
                    <a:pt x="307" y="10"/>
                  </a:lnTo>
                  <a:lnTo>
                    <a:pt x="301" y="6"/>
                  </a:lnTo>
                  <a:lnTo>
                    <a:pt x="295" y="2"/>
                  </a:lnTo>
                  <a:lnTo>
                    <a:pt x="289" y="0"/>
                  </a:lnTo>
                  <a:lnTo>
                    <a:pt x="294" y="6"/>
                  </a:lnTo>
                  <a:lnTo>
                    <a:pt x="306" y="30"/>
                  </a:lnTo>
                  <a:lnTo>
                    <a:pt x="315" y="56"/>
                  </a:lnTo>
                  <a:lnTo>
                    <a:pt x="323" y="83"/>
                  </a:lnTo>
                  <a:lnTo>
                    <a:pt x="327" y="111"/>
                  </a:lnTo>
                  <a:lnTo>
                    <a:pt x="328" y="139"/>
                  </a:lnTo>
                  <a:lnTo>
                    <a:pt x="356" y="139"/>
                  </a:lnTo>
                  <a:lnTo>
                    <a:pt x="355" y="170"/>
                  </a:lnTo>
                  <a:lnTo>
                    <a:pt x="350" y="201"/>
                  </a:lnTo>
                  <a:lnTo>
                    <a:pt x="342" y="231"/>
                  </a:lnTo>
                  <a:lnTo>
                    <a:pt x="332" y="259"/>
                  </a:lnTo>
                  <a:lnTo>
                    <a:pt x="319" y="286"/>
                  </a:lnTo>
                  <a:lnTo>
                    <a:pt x="304" y="312"/>
                  </a:lnTo>
                  <a:lnTo>
                    <a:pt x="286" y="336"/>
                  </a:lnTo>
                  <a:lnTo>
                    <a:pt x="266" y="357"/>
                  </a:lnTo>
                  <a:lnTo>
                    <a:pt x="244" y="377"/>
                  </a:lnTo>
                  <a:lnTo>
                    <a:pt x="220" y="395"/>
                  </a:lnTo>
                  <a:lnTo>
                    <a:pt x="194" y="410"/>
                  </a:lnTo>
                  <a:lnTo>
                    <a:pt x="168" y="424"/>
                  </a:lnTo>
                  <a:lnTo>
                    <a:pt x="140" y="433"/>
                  </a:lnTo>
                  <a:lnTo>
                    <a:pt x="110" y="441"/>
                  </a:lnTo>
                  <a:lnTo>
                    <a:pt x="79" y="446"/>
                  </a:lnTo>
                  <a:lnTo>
                    <a:pt x="48" y="447"/>
                  </a:lnTo>
                  <a:lnTo>
                    <a:pt x="47" y="447"/>
                  </a:lnTo>
                  <a:lnTo>
                    <a:pt x="40" y="444"/>
                  </a:lnTo>
                  <a:lnTo>
                    <a:pt x="34" y="440"/>
                  </a:lnTo>
                  <a:lnTo>
                    <a:pt x="28" y="437"/>
                  </a:lnTo>
                  <a:lnTo>
                    <a:pt x="22" y="433"/>
                  </a:lnTo>
                  <a:lnTo>
                    <a:pt x="16" y="429"/>
                  </a:lnTo>
                  <a:lnTo>
                    <a:pt x="10" y="425"/>
                  </a:lnTo>
                  <a:lnTo>
                    <a:pt x="6" y="421"/>
                  </a:lnTo>
                  <a:lnTo>
                    <a:pt x="0" y="416"/>
                  </a:lnTo>
                  <a:lnTo>
                    <a:pt x="20" y="419"/>
                  </a:lnTo>
                  <a:lnTo>
                    <a:pt x="48" y="420"/>
                  </a:lnTo>
                  <a:lnTo>
                    <a:pt x="77" y="419"/>
                  </a:lnTo>
                  <a:lnTo>
                    <a:pt x="104" y="414"/>
                  </a:lnTo>
                  <a:lnTo>
                    <a:pt x="131" y="407"/>
                  </a:lnTo>
                  <a:lnTo>
                    <a:pt x="158" y="397"/>
                  </a:lnTo>
                  <a:lnTo>
                    <a:pt x="181" y="385"/>
                  </a:lnTo>
                  <a:lnTo>
                    <a:pt x="205" y="372"/>
                  </a:lnTo>
                  <a:lnTo>
                    <a:pt x="226" y="356"/>
                  </a:lnTo>
                  <a:lnTo>
                    <a:pt x="247" y="338"/>
                  </a:lnTo>
                  <a:lnTo>
                    <a:pt x="264" y="318"/>
                  </a:lnTo>
                  <a:lnTo>
                    <a:pt x="281" y="296"/>
                  </a:lnTo>
                  <a:lnTo>
                    <a:pt x="294" y="272"/>
                  </a:lnTo>
                  <a:lnTo>
                    <a:pt x="306" y="249"/>
                  </a:lnTo>
                  <a:lnTo>
                    <a:pt x="315" y="223"/>
                  </a:lnTo>
                  <a:lnTo>
                    <a:pt x="323" y="195"/>
                  </a:lnTo>
                  <a:lnTo>
                    <a:pt x="327" y="168"/>
                  </a:lnTo>
                  <a:lnTo>
                    <a:pt x="328" y="139"/>
                  </a:lnTo>
                  <a:lnTo>
                    <a:pt x="356" y="139"/>
                  </a:lnTo>
                  <a:lnTo>
                    <a:pt x="355" y="108"/>
                  </a:lnTo>
                  <a:lnTo>
                    <a:pt x="350" y="77"/>
                  </a:lnTo>
                  <a:lnTo>
                    <a:pt x="342" y="48"/>
                  </a:lnTo>
                  <a:lnTo>
                    <a:pt x="334" y="29"/>
                  </a:lnTo>
                  <a:close/>
                </a:path>
              </a:pathLst>
            </a:custGeom>
            <a:solidFill>
              <a:srgbClr val="ff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76600" y="1415520"/>
              <a:ext cx="160560" cy="212760"/>
            </a:xfrm>
            <a:custGeom>
              <a:avLst/>
              <a:gdLst/>
              <a:ahLst/>
              <a:rect l="l" t="t" r="r" b="b"/>
              <a:pathLst>
                <a:path w="365" h="438">
                  <a:moveTo>
                    <a:pt x="327" y="17"/>
                  </a:moveTo>
                  <a:lnTo>
                    <a:pt x="322" y="15"/>
                  </a:lnTo>
                  <a:lnTo>
                    <a:pt x="316" y="12"/>
                  </a:lnTo>
                  <a:lnTo>
                    <a:pt x="311" y="10"/>
                  </a:lnTo>
                  <a:lnTo>
                    <a:pt x="305" y="8"/>
                  </a:lnTo>
                  <a:lnTo>
                    <a:pt x="301" y="5"/>
                  </a:lnTo>
                  <a:lnTo>
                    <a:pt x="295" y="4"/>
                  </a:lnTo>
                  <a:lnTo>
                    <a:pt x="290" y="2"/>
                  </a:lnTo>
                  <a:lnTo>
                    <a:pt x="284" y="0"/>
                  </a:lnTo>
                  <a:lnTo>
                    <a:pt x="295" y="14"/>
                  </a:lnTo>
                  <a:lnTo>
                    <a:pt x="308" y="35"/>
                  </a:lnTo>
                  <a:lnTo>
                    <a:pt x="318" y="58"/>
                  </a:lnTo>
                  <a:lnTo>
                    <a:pt x="327" y="80"/>
                  </a:lnTo>
                  <a:lnTo>
                    <a:pt x="334" y="105"/>
                  </a:lnTo>
                  <a:lnTo>
                    <a:pt x="337" y="130"/>
                  </a:lnTo>
                  <a:lnTo>
                    <a:pt x="339" y="156"/>
                  </a:lnTo>
                  <a:lnTo>
                    <a:pt x="365" y="156"/>
                  </a:lnTo>
                  <a:lnTo>
                    <a:pt x="363" y="185"/>
                  </a:lnTo>
                  <a:lnTo>
                    <a:pt x="359" y="213"/>
                  </a:lnTo>
                  <a:lnTo>
                    <a:pt x="352" y="240"/>
                  </a:lnTo>
                  <a:lnTo>
                    <a:pt x="342" y="266"/>
                  </a:lnTo>
                  <a:lnTo>
                    <a:pt x="330" y="291"/>
                  </a:lnTo>
                  <a:lnTo>
                    <a:pt x="316" y="313"/>
                  </a:lnTo>
                  <a:lnTo>
                    <a:pt x="301" y="335"/>
                  </a:lnTo>
                  <a:lnTo>
                    <a:pt x="282" y="355"/>
                  </a:lnTo>
                  <a:lnTo>
                    <a:pt x="261" y="374"/>
                  </a:lnTo>
                  <a:lnTo>
                    <a:pt x="240" y="389"/>
                  </a:lnTo>
                  <a:lnTo>
                    <a:pt x="218" y="404"/>
                  </a:lnTo>
                  <a:lnTo>
                    <a:pt x="193" y="416"/>
                  </a:lnTo>
                  <a:lnTo>
                    <a:pt x="166" y="425"/>
                  </a:lnTo>
                  <a:lnTo>
                    <a:pt x="140" y="432"/>
                  </a:lnTo>
                  <a:lnTo>
                    <a:pt x="112" y="437"/>
                  </a:lnTo>
                  <a:lnTo>
                    <a:pt x="83" y="438"/>
                  </a:lnTo>
                  <a:lnTo>
                    <a:pt x="55" y="437"/>
                  </a:lnTo>
                  <a:lnTo>
                    <a:pt x="36" y="435"/>
                  </a:lnTo>
                  <a:lnTo>
                    <a:pt x="31" y="431"/>
                  </a:lnTo>
                  <a:lnTo>
                    <a:pt x="26" y="426"/>
                  </a:lnTo>
                  <a:lnTo>
                    <a:pt x="22" y="421"/>
                  </a:lnTo>
                  <a:lnTo>
                    <a:pt x="17" y="417"/>
                  </a:lnTo>
                  <a:lnTo>
                    <a:pt x="13" y="412"/>
                  </a:lnTo>
                  <a:lnTo>
                    <a:pt x="9" y="407"/>
                  </a:lnTo>
                  <a:lnTo>
                    <a:pt x="4" y="402"/>
                  </a:lnTo>
                  <a:lnTo>
                    <a:pt x="0" y="398"/>
                  </a:lnTo>
                  <a:lnTo>
                    <a:pt x="7" y="400"/>
                  </a:lnTo>
                  <a:lnTo>
                    <a:pt x="32" y="407"/>
                  </a:lnTo>
                  <a:lnTo>
                    <a:pt x="57" y="411"/>
                  </a:lnTo>
                  <a:lnTo>
                    <a:pt x="83" y="412"/>
                  </a:lnTo>
                  <a:lnTo>
                    <a:pt x="110" y="411"/>
                  </a:lnTo>
                  <a:lnTo>
                    <a:pt x="134" y="407"/>
                  </a:lnTo>
                  <a:lnTo>
                    <a:pt x="159" y="400"/>
                  </a:lnTo>
                  <a:lnTo>
                    <a:pt x="182" y="392"/>
                  </a:lnTo>
                  <a:lnTo>
                    <a:pt x="204" y="381"/>
                  </a:lnTo>
                  <a:lnTo>
                    <a:pt x="226" y="368"/>
                  </a:lnTo>
                  <a:lnTo>
                    <a:pt x="245" y="354"/>
                  </a:lnTo>
                  <a:lnTo>
                    <a:pt x="264" y="337"/>
                  </a:lnTo>
                  <a:lnTo>
                    <a:pt x="280" y="318"/>
                  </a:lnTo>
                  <a:lnTo>
                    <a:pt x="295" y="299"/>
                  </a:lnTo>
                  <a:lnTo>
                    <a:pt x="308" y="278"/>
                  </a:lnTo>
                  <a:lnTo>
                    <a:pt x="318" y="255"/>
                  </a:lnTo>
                  <a:lnTo>
                    <a:pt x="327" y="232"/>
                  </a:lnTo>
                  <a:lnTo>
                    <a:pt x="334" y="207"/>
                  </a:lnTo>
                  <a:lnTo>
                    <a:pt x="337" y="182"/>
                  </a:lnTo>
                  <a:lnTo>
                    <a:pt x="339" y="156"/>
                  </a:lnTo>
                  <a:lnTo>
                    <a:pt x="365" y="156"/>
                  </a:lnTo>
                  <a:lnTo>
                    <a:pt x="363" y="128"/>
                  </a:lnTo>
                  <a:lnTo>
                    <a:pt x="359" y="99"/>
                  </a:lnTo>
                  <a:lnTo>
                    <a:pt x="352" y="73"/>
                  </a:lnTo>
                  <a:lnTo>
                    <a:pt x="342" y="47"/>
                  </a:lnTo>
                  <a:lnTo>
                    <a:pt x="330" y="22"/>
                  </a:lnTo>
                  <a:lnTo>
                    <a:pt x="327" y="17"/>
                  </a:lnTo>
                  <a:close/>
                </a:path>
              </a:pathLst>
            </a:custGeom>
            <a:solidFill>
              <a:srgbClr val="ff2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65080" y="1410840"/>
              <a:ext cx="160560" cy="204840"/>
            </a:xfrm>
            <a:custGeom>
              <a:avLst/>
              <a:gdLst/>
              <a:ahLst/>
              <a:rect l="l" t="t" r="r" b="b"/>
              <a:pathLst>
                <a:path w="366" h="422">
                  <a:moveTo>
                    <a:pt x="312" y="9"/>
                  </a:moveTo>
                  <a:lnTo>
                    <a:pt x="306" y="8"/>
                  </a:lnTo>
                  <a:lnTo>
                    <a:pt x="302" y="6"/>
                  </a:lnTo>
                  <a:lnTo>
                    <a:pt x="296" y="5"/>
                  </a:lnTo>
                  <a:lnTo>
                    <a:pt x="291" y="3"/>
                  </a:lnTo>
                  <a:lnTo>
                    <a:pt x="285" y="2"/>
                  </a:lnTo>
                  <a:lnTo>
                    <a:pt x="279" y="2"/>
                  </a:lnTo>
                  <a:lnTo>
                    <a:pt x="274" y="1"/>
                  </a:lnTo>
                  <a:lnTo>
                    <a:pt x="268" y="0"/>
                  </a:lnTo>
                  <a:lnTo>
                    <a:pt x="272" y="2"/>
                  </a:lnTo>
                  <a:lnTo>
                    <a:pt x="287" y="19"/>
                  </a:lnTo>
                  <a:lnTo>
                    <a:pt x="300" y="37"/>
                  </a:lnTo>
                  <a:lnTo>
                    <a:pt x="312" y="56"/>
                  </a:lnTo>
                  <a:lnTo>
                    <a:pt x="322" y="76"/>
                  </a:lnTo>
                  <a:lnTo>
                    <a:pt x="329" y="96"/>
                  </a:lnTo>
                  <a:lnTo>
                    <a:pt x="335" y="119"/>
                  </a:lnTo>
                  <a:lnTo>
                    <a:pt x="338" y="141"/>
                  </a:lnTo>
                  <a:lnTo>
                    <a:pt x="340" y="165"/>
                  </a:lnTo>
                  <a:lnTo>
                    <a:pt x="366" y="165"/>
                  </a:lnTo>
                  <a:lnTo>
                    <a:pt x="365" y="191"/>
                  </a:lnTo>
                  <a:lnTo>
                    <a:pt x="361" y="216"/>
                  </a:lnTo>
                  <a:lnTo>
                    <a:pt x="354" y="241"/>
                  </a:lnTo>
                  <a:lnTo>
                    <a:pt x="346" y="265"/>
                  </a:lnTo>
                  <a:lnTo>
                    <a:pt x="335" y="288"/>
                  </a:lnTo>
                  <a:lnTo>
                    <a:pt x="322" y="309"/>
                  </a:lnTo>
                  <a:lnTo>
                    <a:pt x="308" y="328"/>
                  </a:lnTo>
                  <a:lnTo>
                    <a:pt x="291" y="347"/>
                  </a:lnTo>
                  <a:lnTo>
                    <a:pt x="272" y="364"/>
                  </a:lnTo>
                  <a:lnTo>
                    <a:pt x="253" y="378"/>
                  </a:lnTo>
                  <a:lnTo>
                    <a:pt x="232" y="391"/>
                  </a:lnTo>
                  <a:lnTo>
                    <a:pt x="209" y="402"/>
                  </a:lnTo>
                  <a:lnTo>
                    <a:pt x="185" y="410"/>
                  </a:lnTo>
                  <a:lnTo>
                    <a:pt x="160" y="417"/>
                  </a:lnTo>
                  <a:lnTo>
                    <a:pt x="136" y="421"/>
                  </a:lnTo>
                  <a:lnTo>
                    <a:pt x="109" y="422"/>
                  </a:lnTo>
                  <a:lnTo>
                    <a:pt x="83" y="421"/>
                  </a:lnTo>
                  <a:lnTo>
                    <a:pt x="58" y="417"/>
                  </a:lnTo>
                  <a:lnTo>
                    <a:pt x="33" y="410"/>
                  </a:lnTo>
                  <a:lnTo>
                    <a:pt x="28" y="409"/>
                  </a:lnTo>
                  <a:lnTo>
                    <a:pt x="24" y="404"/>
                  </a:lnTo>
                  <a:lnTo>
                    <a:pt x="20" y="400"/>
                  </a:lnTo>
                  <a:lnTo>
                    <a:pt x="17" y="395"/>
                  </a:lnTo>
                  <a:lnTo>
                    <a:pt x="13" y="390"/>
                  </a:lnTo>
                  <a:lnTo>
                    <a:pt x="10" y="385"/>
                  </a:lnTo>
                  <a:lnTo>
                    <a:pt x="6" y="379"/>
                  </a:lnTo>
                  <a:lnTo>
                    <a:pt x="4" y="375"/>
                  </a:lnTo>
                  <a:lnTo>
                    <a:pt x="0" y="370"/>
                  </a:lnTo>
                  <a:lnTo>
                    <a:pt x="20" y="378"/>
                  </a:lnTo>
                  <a:lnTo>
                    <a:pt x="41" y="385"/>
                  </a:lnTo>
                  <a:lnTo>
                    <a:pt x="63" y="391"/>
                  </a:lnTo>
                  <a:lnTo>
                    <a:pt x="86" y="395"/>
                  </a:lnTo>
                  <a:lnTo>
                    <a:pt x="109" y="396"/>
                  </a:lnTo>
                  <a:lnTo>
                    <a:pt x="133" y="395"/>
                  </a:lnTo>
                  <a:lnTo>
                    <a:pt x="156" y="391"/>
                  </a:lnTo>
                  <a:lnTo>
                    <a:pt x="178" y="385"/>
                  </a:lnTo>
                  <a:lnTo>
                    <a:pt x="198" y="378"/>
                  </a:lnTo>
                  <a:lnTo>
                    <a:pt x="219" y="369"/>
                  </a:lnTo>
                  <a:lnTo>
                    <a:pt x="238" y="357"/>
                  </a:lnTo>
                  <a:lnTo>
                    <a:pt x="255" y="344"/>
                  </a:lnTo>
                  <a:lnTo>
                    <a:pt x="272" y="328"/>
                  </a:lnTo>
                  <a:lnTo>
                    <a:pt x="287" y="312"/>
                  </a:lnTo>
                  <a:lnTo>
                    <a:pt x="300" y="294"/>
                  </a:lnTo>
                  <a:lnTo>
                    <a:pt x="312" y="275"/>
                  </a:lnTo>
                  <a:lnTo>
                    <a:pt x="322" y="254"/>
                  </a:lnTo>
                  <a:lnTo>
                    <a:pt x="329" y="234"/>
                  </a:lnTo>
                  <a:lnTo>
                    <a:pt x="335" y="212"/>
                  </a:lnTo>
                  <a:lnTo>
                    <a:pt x="338" y="189"/>
                  </a:lnTo>
                  <a:lnTo>
                    <a:pt x="340" y="165"/>
                  </a:lnTo>
                  <a:lnTo>
                    <a:pt x="366" y="165"/>
                  </a:lnTo>
                  <a:lnTo>
                    <a:pt x="365" y="139"/>
                  </a:lnTo>
                  <a:lnTo>
                    <a:pt x="361" y="114"/>
                  </a:lnTo>
                  <a:lnTo>
                    <a:pt x="354" y="89"/>
                  </a:lnTo>
                  <a:lnTo>
                    <a:pt x="346" y="65"/>
                  </a:lnTo>
                  <a:lnTo>
                    <a:pt x="335" y="43"/>
                  </a:lnTo>
                  <a:lnTo>
                    <a:pt x="322" y="21"/>
                  </a:lnTo>
                  <a:lnTo>
                    <a:pt x="312" y="9"/>
                  </a:lnTo>
                  <a:close/>
                </a:path>
              </a:pathLst>
            </a:custGeom>
            <a:solidFill>
              <a:srgbClr val="ff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56440" y="1409760"/>
              <a:ext cx="158760" cy="194400"/>
            </a:xfrm>
            <a:custGeom>
              <a:avLst/>
              <a:gdLst/>
              <a:ahLst/>
              <a:rect l="l" t="t" r="r" b="b"/>
              <a:pathLst>
                <a:path w="361" h="399">
                  <a:moveTo>
                    <a:pt x="291" y="2"/>
                  </a:moveTo>
                  <a:lnTo>
                    <a:pt x="286" y="1"/>
                  </a:lnTo>
                  <a:lnTo>
                    <a:pt x="281" y="1"/>
                  </a:lnTo>
                  <a:lnTo>
                    <a:pt x="275" y="0"/>
                  </a:lnTo>
                  <a:lnTo>
                    <a:pt x="271" y="0"/>
                  </a:lnTo>
                  <a:lnTo>
                    <a:pt x="265" y="0"/>
                  </a:lnTo>
                  <a:lnTo>
                    <a:pt x="260" y="0"/>
                  </a:lnTo>
                  <a:lnTo>
                    <a:pt x="254" y="0"/>
                  </a:lnTo>
                  <a:lnTo>
                    <a:pt x="249" y="0"/>
                  </a:lnTo>
                  <a:lnTo>
                    <a:pt x="248" y="0"/>
                  </a:lnTo>
                  <a:lnTo>
                    <a:pt x="247" y="0"/>
                  </a:lnTo>
                  <a:lnTo>
                    <a:pt x="245" y="0"/>
                  </a:lnTo>
                  <a:lnTo>
                    <a:pt x="243" y="0"/>
                  </a:lnTo>
                  <a:lnTo>
                    <a:pt x="259" y="10"/>
                  </a:lnTo>
                  <a:lnTo>
                    <a:pt x="273" y="23"/>
                  </a:lnTo>
                  <a:lnTo>
                    <a:pt x="286" y="38"/>
                  </a:lnTo>
                  <a:lnTo>
                    <a:pt x="298" y="53"/>
                  </a:lnTo>
                  <a:lnTo>
                    <a:pt x="309" y="70"/>
                  </a:lnTo>
                  <a:lnTo>
                    <a:pt x="317" y="88"/>
                  </a:lnTo>
                  <a:lnTo>
                    <a:pt x="324" y="107"/>
                  </a:lnTo>
                  <a:lnTo>
                    <a:pt x="329" y="127"/>
                  </a:lnTo>
                  <a:lnTo>
                    <a:pt x="332" y="147"/>
                  </a:lnTo>
                  <a:lnTo>
                    <a:pt x="334" y="167"/>
                  </a:lnTo>
                  <a:lnTo>
                    <a:pt x="361" y="167"/>
                  </a:lnTo>
                  <a:lnTo>
                    <a:pt x="360" y="191"/>
                  </a:lnTo>
                  <a:lnTo>
                    <a:pt x="356" y="214"/>
                  </a:lnTo>
                  <a:lnTo>
                    <a:pt x="350" y="236"/>
                  </a:lnTo>
                  <a:lnTo>
                    <a:pt x="343" y="258"/>
                  </a:lnTo>
                  <a:lnTo>
                    <a:pt x="332" y="278"/>
                  </a:lnTo>
                  <a:lnTo>
                    <a:pt x="322" y="297"/>
                  </a:lnTo>
                  <a:lnTo>
                    <a:pt x="307" y="315"/>
                  </a:lnTo>
                  <a:lnTo>
                    <a:pt x="293" y="331"/>
                  </a:lnTo>
                  <a:lnTo>
                    <a:pt x="277" y="346"/>
                  </a:lnTo>
                  <a:lnTo>
                    <a:pt x="259" y="360"/>
                  </a:lnTo>
                  <a:lnTo>
                    <a:pt x="240" y="371"/>
                  </a:lnTo>
                  <a:lnTo>
                    <a:pt x="220" y="381"/>
                  </a:lnTo>
                  <a:lnTo>
                    <a:pt x="198" y="388"/>
                  </a:lnTo>
                  <a:lnTo>
                    <a:pt x="176" y="394"/>
                  </a:lnTo>
                  <a:lnTo>
                    <a:pt x="153" y="398"/>
                  </a:lnTo>
                  <a:lnTo>
                    <a:pt x="129" y="399"/>
                  </a:lnTo>
                  <a:lnTo>
                    <a:pt x="106" y="398"/>
                  </a:lnTo>
                  <a:lnTo>
                    <a:pt x="83" y="394"/>
                  </a:lnTo>
                  <a:lnTo>
                    <a:pt x="61" y="388"/>
                  </a:lnTo>
                  <a:lnTo>
                    <a:pt x="39" y="381"/>
                  </a:lnTo>
                  <a:lnTo>
                    <a:pt x="20" y="373"/>
                  </a:lnTo>
                  <a:lnTo>
                    <a:pt x="17" y="367"/>
                  </a:lnTo>
                  <a:lnTo>
                    <a:pt x="14" y="361"/>
                  </a:lnTo>
                  <a:lnTo>
                    <a:pt x="12" y="355"/>
                  </a:lnTo>
                  <a:lnTo>
                    <a:pt x="10" y="349"/>
                  </a:lnTo>
                  <a:lnTo>
                    <a:pt x="7" y="343"/>
                  </a:lnTo>
                  <a:lnTo>
                    <a:pt x="5" y="337"/>
                  </a:lnTo>
                  <a:lnTo>
                    <a:pt x="2" y="331"/>
                  </a:lnTo>
                  <a:lnTo>
                    <a:pt x="0" y="325"/>
                  </a:lnTo>
                  <a:lnTo>
                    <a:pt x="15" y="336"/>
                  </a:lnTo>
                  <a:lnTo>
                    <a:pt x="32" y="347"/>
                  </a:lnTo>
                  <a:lnTo>
                    <a:pt x="50" y="355"/>
                  </a:lnTo>
                  <a:lnTo>
                    <a:pt x="69" y="362"/>
                  </a:lnTo>
                  <a:lnTo>
                    <a:pt x="89" y="367"/>
                  </a:lnTo>
                  <a:lnTo>
                    <a:pt x="109" y="371"/>
                  </a:lnTo>
                  <a:lnTo>
                    <a:pt x="129" y="372"/>
                  </a:lnTo>
                  <a:lnTo>
                    <a:pt x="150" y="371"/>
                  </a:lnTo>
                  <a:lnTo>
                    <a:pt x="170" y="367"/>
                  </a:lnTo>
                  <a:lnTo>
                    <a:pt x="190" y="362"/>
                  </a:lnTo>
                  <a:lnTo>
                    <a:pt x="209" y="355"/>
                  </a:lnTo>
                  <a:lnTo>
                    <a:pt x="227" y="347"/>
                  </a:lnTo>
                  <a:lnTo>
                    <a:pt x="243" y="336"/>
                  </a:lnTo>
                  <a:lnTo>
                    <a:pt x="259" y="324"/>
                  </a:lnTo>
                  <a:lnTo>
                    <a:pt x="273" y="311"/>
                  </a:lnTo>
                  <a:lnTo>
                    <a:pt x="286" y="297"/>
                  </a:lnTo>
                  <a:lnTo>
                    <a:pt x="298" y="281"/>
                  </a:lnTo>
                  <a:lnTo>
                    <a:pt x="309" y="265"/>
                  </a:lnTo>
                  <a:lnTo>
                    <a:pt x="317" y="247"/>
                  </a:lnTo>
                  <a:lnTo>
                    <a:pt x="324" y="228"/>
                  </a:lnTo>
                  <a:lnTo>
                    <a:pt x="329" y="208"/>
                  </a:lnTo>
                  <a:lnTo>
                    <a:pt x="332" y="187"/>
                  </a:lnTo>
                  <a:lnTo>
                    <a:pt x="334" y="167"/>
                  </a:lnTo>
                  <a:lnTo>
                    <a:pt x="361" y="167"/>
                  </a:lnTo>
                  <a:lnTo>
                    <a:pt x="360" y="143"/>
                  </a:lnTo>
                  <a:lnTo>
                    <a:pt x="356" y="121"/>
                  </a:lnTo>
                  <a:lnTo>
                    <a:pt x="350" y="98"/>
                  </a:lnTo>
                  <a:lnTo>
                    <a:pt x="343" y="77"/>
                  </a:lnTo>
                  <a:lnTo>
                    <a:pt x="332" y="57"/>
                  </a:lnTo>
                  <a:lnTo>
                    <a:pt x="322" y="38"/>
                  </a:lnTo>
                  <a:lnTo>
                    <a:pt x="307" y="20"/>
                  </a:lnTo>
                  <a:lnTo>
                    <a:pt x="293" y="3"/>
                  </a:lnTo>
                  <a:lnTo>
                    <a:pt x="291" y="2"/>
                  </a:lnTo>
                  <a:close/>
                </a:path>
              </a:pathLst>
            </a:custGeom>
            <a:solidFill>
              <a:srgbClr val="ff4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51760" y="1409760"/>
              <a:ext cx="151560" cy="181800"/>
            </a:xfrm>
            <a:custGeom>
              <a:avLst/>
              <a:gdLst/>
              <a:ahLst/>
              <a:rect l="l" t="t" r="r" b="b"/>
              <a:pathLst>
                <a:path w="344" h="373">
                  <a:moveTo>
                    <a:pt x="0" y="280"/>
                  </a:moveTo>
                  <a:lnTo>
                    <a:pt x="1" y="286"/>
                  </a:lnTo>
                  <a:lnTo>
                    <a:pt x="2" y="292"/>
                  </a:lnTo>
                  <a:lnTo>
                    <a:pt x="3" y="298"/>
                  </a:lnTo>
                  <a:lnTo>
                    <a:pt x="4" y="304"/>
                  </a:lnTo>
                  <a:lnTo>
                    <a:pt x="6" y="310"/>
                  </a:lnTo>
                  <a:lnTo>
                    <a:pt x="7" y="316"/>
                  </a:lnTo>
                  <a:lnTo>
                    <a:pt x="9" y="322"/>
                  </a:lnTo>
                  <a:lnTo>
                    <a:pt x="10" y="328"/>
                  </a:lnTo>
                  <a:lnTo>
                    <a:pt x="24" y="337"/>
                  </a:lnTo>
                  <a:lnTo>
                    <a:pt x="41" y="348"/>
                  </a:lnTo>
                  <a:lnTo>
                    <a:pt x="59" y="356"/>
                  </a:lnTo>
                  <a:lnTo>
                    <a:pt x="78" y="364"/>
                  </a:lnTo>
                  <a:lnTo>
                    <a:pt x="97" y="368"/>
                  </a:lnTo>
                  <a:lnTo>
                    <a:pt x="117" y="372"/>
                  </a:lnTo>
                  <a:lnTo>
                    <a:pt x="138" y="373"/>
                  </a:lnTo>
                  <a:lnTo>
                    <a:pt x="160" y="372"/>
                  </a:lnTo>
                  <a:lnTo>
                    <a:pt x="180" y="368"/>
                  </a:lnTo>
                  <a:lnTo>
                    <a:pt x="199" y="364"/>
                  </a:lnTo>
                  <a:lnTo>
                    <a:pt x="218" y="356"/>
                  </a:lnTo>
                  <a:lnTo>
                    <a:pt x="236" y="348"/>
                  </a:lnTo>
                  <a:lnTo>
                    <a:pt x="252" y="337"/>
                  </a:lnTo>
                  <a:lnTo>
                    <a:pt x="269" y="325"/>
                  </a:lnTo>
                  <a:lnTo>
                    <a:pt x="283" y="312"/>
                  </a:lnTo>
                  <a:lnTo>
                    <a:pt x="296" y="298"/>
                  </a:lnTo>
                  <a:lnTo>
                    <a:pt x="308" y="281"/>
                  </a:lnTo>
                  <a:lnTo>
                    <a:pt x="319" y="265"/>
                  </a:lnTo>
                  <a:lnTo>
                    <a:pt x="327" y="247"/>
                  </a:lnTo>
                  <a:lnTo>
                    <a:pt x="334" y="228"/>
                  </a:lnTo>
                  <a:lnTo>
                    <a:pt x="339" y="209"/>
                  </a:lnTo>
                  <a:lnTo>
                    <a:pt x="343" y="189"/>
                  </a:lnTo>
                  <a:lnTo>
                    <a:pt x="344" y="167"/>
                  </a:lnTo>
                  <a:lnTo>
                    <a:pt x="318" y="167"/>
                  </a:lnTo>
                  <a:lnTo>
                    <a:pt x="314" y="132"/>
                  </a:lnTo>
                  <a:lnTo>
                    <a:pt x="303" y="97"/>
                  </a:lnTo>
                  <a:lnTo>
                    <a:pt x="287" y="67"/>
                  </a:lnTo>
                  <a:lnTo>
                    <a:pt x="265" y="40"/>
                  </a:lnTo>
                  <a:lnTo>
                    <a:pt x="238" y="19"/>
                  </a:lnTo>
                  <a:lnTo>
                    <a:pt x="210" y="3"/>
                  </a:lnTo>
                  <a:lnTo>
                    <a:pt x="216" y="2"/>
                  </a:lnTo>
                  <a:lnTo>
                    <a:pt x="220" y="2"/>
                  </a:lnTo>
                  <a:lnTo>
                    <a:pt x="226" y="1"/>
                  </a:lnTo>
                  <a:lnTo>
                    <a:pt x="231" y="1"/>
                  </a:lnTo>
                  <a:lnTo>
                    <a:pt x="237" y="0"/>
                  </a:lnTo>
                  <a:lnTo>
                    <a:pt x="242" y="0"/>
                  </a:lnTo>
                  <a:lnTo>
                    <a:pt x="248" y="0"/>
                  </a:lnTo>
                  <a:lnTo>
                    <a:pt x="254" y="0"/>
                  </a:lnTo>
                  <a:lnTo>
                    <a:pt x="269" y="9"/>
                  </a:lnTo>
                  <a:lnTo>
                    <a:pt x="283" y="22"/>
                  </a:lnTo>
                  <a:lnTo>
                    <a:pt x="296" y="36"/>
                  </a:lnTo>
                  <a:lnTo>
                    <a:pt x="308" y="53"/>
                  </a:lnTo>
                  <a:lnTo>
                    <a:pt x="319" y="70"/>
                  </a:lnTo>
                  <a:lnTo>
                    <a:pt x="327" y="88"/>
                  </a:lnTo>
                  <a:lnTo>
                    <a:pt x="334" y="107"/>
                  </a:lnTo>
                  <a:lnTo>
                    <a:pt x="339" y="126"/>
                  </a:lnTo>
                  <a:lnTo>
                    <a:pt x="343" y="146"/>
                  </a:lnTo>
                  <a:lnTo>
                    <a:pt x="344" y="167"/>
                  </a:lnTo>
                  <a:lnTo>
                    <a:pt x="318" y="167"/>
                  </a:lnTo>
                  <a:lnTo>
                    <a:pt x="314" y="203"/>
                  </a:lnTo>
                  <a:lnTo>
                    <a:pt x="303" y="237"/>
                  </a:lnTo>
                  <a:lnTo>
                    <a:pt x="287" y="267"/>
                  </a:lnTo>
                  <a:lnTo>
                    <a:pt x="265" y="295"/>
                  </a:lnTo>
                  <a:lnTo>
                    <a:pt x="238" y="316"/>
                  </a:lnTo>
                  <a:lnTo>
                    <a:pt x="208" y="333"/>
                  </a:lnTo>
                  <a:lnTo>
                    <a:pt x="174" y="343"/>
                  </a:lnTo>
                  <a:lnTo>
                    <a:pt x="138" y="347"/>
                  </a:lnTo>
                  <a:lnTo>
                    <a:pt x="103" y="343"/>
                  </a:lnTo>
                  <a:lnTo>
                    <a:pt x="68" y="333"/>
                  </a:lnTo>
                  <a:lnTo>
                    <a:pt x="39" y="316"/>
                  </a:lnTo>
                  <a:lnTo>
                    <a:pt x="11" y="295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ff5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51040" y="1411560"/>
              <a:ext cx="141120" cy="167040"/>
            </a:xfrm>
            <a:custGeom>
              <a:avLst/>
              <a:gdLst/>
              <a:ahLst/>
              <a:rect l="l" t="t" r="r" b="b"/>
              <a:pathLst>
                <a:path w="322" h="345">
                  <a:moveTo>
                    <a:pt x="3" y="280"/>
                  </a:moveTo>
                  <a:lnTo>
                    <a:pt x="1" y="271"/>
                  </a:lnTo>
                  <a:lnTo>
                    <a:pt x="1" y="264"/>
                  </a:lnTo>
                  <a:lnTo>
                    <a:pt x="0" y="256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1" y="238"/>
                  </a:lnTo>
                  <a:lnTo>
                    <a:pt x="1" y="233"/>
                  </a:lnTo>
                  <a:lnTo>
                    <a:pt x="1" y="228"/>
                  </a:lnTo>
                  <a:lnTo>
                    <a:pt x="14" y="250"/>
                  </a:lnTo>
                  <a:lnTo>
                    <a:pt x="33" y="272"/>
                  </a:lnTo>
                  <a:lnTo>
                    <a:pt x="56" y="292"/>
                  </a:lnTo>
                  <a:lnTo>
                    <a:pt x="82" y="306"/>
                  </a:lnTo>
                  <a:lnTo>
                    <a:pt x="111" y="314"/>
                  </a:lnTo>
                  <a:lnTo>
                    <a:pt x="141" y="318"/>
                  </a:lnTo>
                  <a:lnTo>
                    <a:pt x="172" y="314"/>
                  </a:lnTo>
                  <a:lnTo>
                    <a:pt x="201" y="306"/>
                  </a:lnTo>
                  <a:lnTo>
                    <a:pt x="227" y="292"/>
                  </a:lnTo>
                  <a:lnTo>
                    <a:pt x="249" y="272"/>
                  </a:lnTo>
                  <a:lnTo>
                    <a:pt x="268" y="250"/>
                  </a:lnTo>
                  <a:lnTo>
                    <a:pt x="283" y="224"/>
                  </a:lnTo>
                  <a:lnTo>
                    <a:pt x="291" y="195"/>
                  </a:lnTo>
                  <a:lnTo>
                    <a:pt x="295" y="164"/>
                  </a:lnTo>
                  <a:lnTo>
                    <a:pt x="322" y="164"/>
                  </a:lnTo>
                  <a:lnTo>
                    <a:pt x="318" y="129"/>
                  </a:lnTo>
                  <a:lnTo>
                    <a:pt x="308" y="94"/>
                  </a:lnTo>
                  <a:lnTo>
                    <a:pt x="291" y="63"/>
                  </a:lnTo>
                  <a:lnTo>
                    <a:pt x="268" y="37"/>
                  </a:lnTo>
                  <a:lnTo>
                    <a:pt x="242" y="14"/>
                  </a:lnTo>
                  <a:lnTo>
                    <a:pt x="215" y="0"/>
                  </a:lnTo>
                  <a:lnTo>
                    <a:pt x="208" y="1"/>
                  </a:lnTo>
                  <a:lnTo>
                    <a:pt x="202" y="2"/>
                  </a:lnTo>
                  <a:lnTo>
                    <a:pt x="196" y="5"/>
                  </a:lnTo>
                  <a:lnTo>
                    <a:pt x="189" y="6"/>
                  </a:lnTo>
                  <a:lnTo>
                    <a:pt x="183" y="8"/>
                  </a:lnTo>
                  <a:lnTo>
                    <a:pt x="177" y="10"/>
                  </a:lnTo>
                  <a:lnTo>
                    <a:pt x="171" y="12"/>
                  </a:lnTo>
                  <a:lnTo>
                    <a:pt x="165" y="14"/>
                  </a:lnTo>
                  <a:lnTo>
                    <a:pt x="172" y="14"/>
                  </a:lnTo>
                  <a:lnTo>
                    <a:pt x="201" y="23"/>
                  </a:lnTo>
                  <a:lnTo>
                    <a:pt x="227" y="37"/>
                  </a:lnTo>
                  <a:lnTo>
                    <a:pt x="249" y="56"/>
                  </a:lnTo>
                  <a:lnTo>
                    <a:pt x="268" y="79"/>
                  </a:lnTo>
                  <a:lnTo>
                    <a:pt x="283" y="105"/>
                  </a:lnTo>
                  <a:lnTo>
                    <a:pt x="291" y="133"/>
                  </a:lnTo>
                  <a:lnTo>
                    <a:pt x="295" y="164"/>
                  </a:lnTo>
                  <a:lnTo>
                    <a:pt x="322" y="164"/>
                  </a:lnTo>
                  <a:lnTo>
                    <a:pt x="318" y="200"/>
                  </a:lnTo>
                  <a:lnTo>
                    <a:pt x="308" y="234"/>
                  </a:lnTo>
                  <a:lnTo>
                    <a:pt x="291" y="265"/>
                  </a:lnTo>
                  <a:lnTo>
                    <a:pt x="268" y="292"/>
                  </a:lnTo>
                  <a:lnTo>
                    <a:pt x="242" y="314"/>
                  </a:lnTo>
                  <a:lnTo>
                    <a:pt x="211" y="331"/>
                  </a:lnTo>
                  <a:lnTo>
                    <a:pt x="177" y="341"/>
                  </a:lnTo>
                  <a:lnTo>
                    <a:pt x="141" y="345"/>
                  </a:lnTo>
                  <a:lnTo>
                    <a:pt x="106" y="341"/>
                  </a:lnTo>
                  <a:lnTo>
                    <a:pt x="71" y="331"/>
                  </a:lnTo>
                  <a:lnTo>
                    <a:pt x="41" y="314"/>
                  </a:lnTo>
                  <a:lnTo>
                    <a:pt x="14" y="292"/>
                  </a:lnTo>
                  <a:lnTo>
                    <a:pt x="3" y="280"/>
                  </a:lnTo>
                  <a:close/>
                </a:path>
              </a:pathLst>
            </a:custGeom>
            <a:solidFill>
              <a:srgbClr val="ff6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51040" y="1417680"/>
              <a:ext cx="129960" cy="148320"/>
            </a:xfrm>
            <a:custGeom>
              <a:avLst/>
              <a:gdLst/>
              <a:ahLst/>
              <a:rect l="l" t="t" r="r" b="b"/>
              <a:pathLst>
                <a:path w="295" h="306">
                  <a:moveTo>
                    <a:pt x="12" y="158"/>
                  </a:moveTo>
                  <a:lnTo>
                    <a:pt x="10" y="166"/>
                  </a:lnTo>
                  <a:lnTo>
                    <a:pt x="8" y="173"/>
                  </a:lnTo>
                  <a:lnTo>
                    <a:pt x="6" y="180"/>
                  </a:lnTo>
                  <a:lnTo>
                    <a:pt x="5" y="187"/>
                  </a:lnTo>
                  <a:lnTo>
                    <a:pt x="3" y="194"/>
                  </a:lnTo>
                  <a:lnTo>
                    <a:pt x="2" y="201"/>
                  </a:lnTo>
                  <a:lnTo>
                    <a:pt x="2" y="210"/>
                  </a:lnTo>
                  <a:lnTo>
                    <a:pt x="0" y="217"/>
                  </a:lnTo>
                  <a:lnTo>
                    <a:pt x="12" y="237"/>
                  </a:lnTo>
                  <a:lnTo>
                    <a:pt x="31" y="261"/>
                  </a:lnTo>
                  <a:lnTo>
                    <a:pt x="55" y="280"/>
                  </a:lnTo>
                  <a:lnTo>
                    <a:pt x="81" y="294"/>
                  </a:lnTo>
                  <a:lnTo>
                    <a:pt x="110" y="302"/>
                  </a:lnTo>
                  <a:lnTo>
                    <a:pt x="140" y="306"/>
                  </a:lnTo>
                  <a:lnTo>
                    <a:pt x="171" y="302"/>
                  </a:lnTo>
                  <a:lnTo>
                    <a:pt x="200" y="294"/>
                  </a:lnTo>
                  <a:lnTo>
                    <a:pt x="226" y="280"/>
                  </a:lnTo>
                  <a:lnTo>
                    <a:pt x="250" y="261"/>
                  </a:lnTo>
                  <a:lnTo>
                    <a:pt x="269" y="237"/>
                  </a:lnTo>
                  <a:lnTo>
                    <a:pt x="283" y="211"/>
                  </a:lnTo>
                  <a:lnTo>
                    <a:pt x="291" y="182"/>
                  </a:lnTo>
                  <a:lnTo>
                    <a:pt x="295" y="151"/>
                  </a:lnTo>
                  <a:lnTo>
                    <a:pt x="269" y="151"/>
                  </a:lnTo>
                  <a:lnTo>
                    <a:pt x="266" y="125"/>
                  </a:lnTo>
                  <a:lnTo>
                    <a:pt x="258" y="101"/>
                  </a:lnTo>
                  <a:lnTo>
                    <a:pt x="246" y="80"/>
                  </a:lnTo>
                  <a:lnTo>
                    <a:pt x="231" y="61"/>
                  </a:lnTo>
                  <a:lnTo>
                    <a:pt x="212" y="45"/>
                  </a:lnTo>
                  <a:lnTo>
                    <a:pt x="190" y="33"/>
                  </a:lnTo>
                  <a:lnTo>
                    <a:pt x="167" y="25"/>
                  </a:lnTo>
                  <a:lnTo>
                    <a:pt x="140" y="23"/>
                  </a:lnTo>
                  <a:lnTo>
                    <a:pt x="117" y="25"/>
                  </a:lnTo>
                  <a:lnTo>
                    <a:pt x="123" y="22"/>
                  </a:lnTo>
                  <a:lnTo>
                    <a:pt x="129" y="18"/>
                  </a:lnTo>
                  <a:lnTo>
                    <a:pt x="134" y="14"/>
                  </a:lnTo>
                  <a:lnTo>
                    <a:pt x="140" y="12"/>
                  </a:lnTo>
                  <a:lnTo>
                    <a:pt x="148" y="9"/>
                  </a:lnTo>
                  <a:lnTo>
                    <a:pt x="153" y="6"/>
                  </a:lnTo>
                  <a:lnTo>
                    <a:pt x="159" y="3"/>
                  </a:lnTo>
                  <a:lnTo>
                    <a:pt x="167" y="0"/>
                  </a:lnTo>
                  <a:lnTo>
                    <a:pt x="171" y="0"/>
                  </a:lnTo>
                  <a:lnTo>
                    <a:pt x="200" y="9"/>
                  </a:lnTo>
                  <a:lnTo>
                    <a:pt x="226" y="23"/>
                  </a:lnTo>
                  <a:lnTo>
                    <a:pt x="250" y="42"/>
                  </a:lnTo>
                  <a:lnTo>
                    <a:pt x="269" y="66"/>
                  </a:lnTo>
                  <a:lnTo>
                    <a:pt x="283" y="92"/>
                  </a:lnTo>
                  <a:lnTo>
                    <a:pt x="291" y="120"/>
                  </a:lnTo>
                  <a:lnTo>
                    <a:pt x="295" y="151"/>
                  </a:lnTo>
                  <a:lnTo>
                    <a:pt x="269" y="151"/>
                  </a:lnTo>
                  <a:lnTo>
                    <a:pt x="266" y="177"/>
                  </a:lnTo>
                  <a:lnTo>
                    <a:pt x="258" y="201"/>
                  </a:lnTo>
                  <a:lnTo>
                    <a:pt x="246" y="223"/>
                  </a:lnTo>
                  <a:lnTo>
                    <a:pt x="231" y="242"/>
                  </a:lnTo>
                  <a:lnTo>
                    <a:pt x="212" y="257"/>
                  </a:lnTo>
                  <a:lnTo>
                    <a:pt x="190" y="269"/>
                  </a:lnTo>
                  <a:lnTo>
                    <a:pt x="167" y="277"/>
                  </a:lnTo>
                  <a:lnTo>
                    <a:pt x="140" y="280"/>
                  </a:lnTo>
                  <a:lnTo>
                    <a:pt x="114" y="277"/>
                  </a:lnTo>
                  <a:lnTo>
                    <a:pt x="91" y="269"/>
                  </a:lnTo>
                  <a:lnTo>
                    <a:pt x="69" y="257"/>
                  </a:lnTo>
                  <a:lnTo>
                    <a:pt x="50" y="242"/>
                  </a:lnTo>
                  <a:lnTo>
                    <a:pt x="35" y="223"/>
                  </a:lnTo>
                  <a:lnTo>
                    <a:pt x="23" y="201"/>
                  </a:lnTo>
                  <a:lnTo>
                    <a:pt x="15" y="177"/>
                  </a:lnTo>
                  <a:lnTo>
                    <a:pt x="12" y="158"/>
                  </a:lnTo>
                  <a:close/>
                </a:path>
              </a:pathLst>
            </a:custGeom>
            <a:solidFill>
              <a:srgbClr val="ff7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440" y="1428120"/>
              <a:ext cx="113760" cy="125280"/>
            </a:xfrm>
            <a:custGeom>
              <a:avLst/>
              <a:gdLst/>
              <a:ahLst/>
              <a:rect l="l" t="t" r="r" b="b"/>
              <a:pathLst>
                <a:path w="259" h="259">
                  <a:moveTo>
                    <a:pt x="108" y="2"/>
                  </a:moveTo>
                  <a:lnTo>
                    <a:pt x="89" y="15"/>
                  </a:lnTo>
                  <a:lnTo>
                    <a:pt x="72" y="29"/>
                  </a:lnTo>
                  <a:lnTo>
                    <a:pt x="57" y="45"/>
                  </a:lnTo>
                  <a:lnTo>
                    <a:pt x="42" y="61"/>
                  </a:lnTo>
                  <a:lnTo>
                    <a:pt x="29" y="79"/>
                  </a:lnTo>
                  <a:lnTo>
                    <a:pt x="18" y="98"/>
                  </a:lnTo>
                  <a:lnTo>
                    <a:pt x="8" y="119"/>
                  </a:lnTo>
                  <a:lnTo>
                    <a:pt x="0" y="140"/>
                  </a:lnTo>
                  <a:lnTo>
                    <a:pt x="2" y="155"/>
                  </a:lnTo>
                  <a:lnTo>
                    <a:pt x="11" y="179"/>
                  </a:lnTo>
                  <a:lnTo>
                    <a:pt x="23" y="202"/>
                  </a:lnTo>
                  <a:lnTo>
                    <a:pt x="38" y="221"/>
                  </a:lnTo>
                  <a:lnTo>
                    <a:pt x="57" y="236"/>
                  </a:lnTo>
                  <a:lnTo>
                    <a:pt x="80" y="248"/>
                  </a:lnTo>
                  <a:lnTo>
                    <a:pt x="103" y="257"/>
                  </a:lnTo>
                  <a:lnTo>
                    <a:pt x="129" y="259"/>
                  </a:lnTo>
                  <a:lnTo>
                    <a:pt x="156" y="257"/>
                  </a:lnTo>
                  <a:lnTo>
                    <a:pt x="179" y="248"/>
                  </a:lnTo>
                  <a:lnTo>
                    <a:pt x="202" y="236"/>
                  </a:lnTo>
                  <a:lnTo>
                    <a:pt x="221" y="221"/>
                  </a:lnTo>
                  <a:lnTo>
                    <a:pt x="236" y="202"/>
                  </a:lnTo>
                  <a:lnTo>
                    <a:pt x="248" y="179"/>
                  </a:lnTo>
                  <a:lnTo>
                    <a:pt x="256" y="155"/>
                  </a:lnTo>
                  <a:lnTo>
                    <a:pt x="259" y="129"/>
                  </a:lnTo>
                  <a:lnTo>
                    <a:pt x="231" y="129"/>
                  </a:lnTo>
                  <a:lnTo>
                    <a:pt x="229" y="109"/>
                  </a:lnTo>
                  <a:lnTo>
                    <a:pt x="223" y="90"/>
                  </a:lnTo>
                  <a:lnTo>
                    <a:pt x="214" y="72"/>
                  </a:lnTo>
                  <a:lnTo>
                    <a:pt x="202" y="57"/>
                  </a:lnTo>
                  <a:lnTo>
                    <a:pt x="186" y="45"/>
                  </a:lnTo>
                  <a:lnTo>
                    <a:pt x="169" y="35"/>
                  </a:lnTo>
                  <a:lnTo>
                    <a:pt x="150" y="29"/>
                  </a:lnTo>
                  <a:lnTo>
                    <a:pt x="129" y="27"/>
                  </a:lnTo>
                  <a:lnTo>
                    <a:pt x="109" y="29"/>
                  </a:lnTo>
                  <a:lnTo>
                    <a:pt x="90" y="35"/>
                  </a:lnTo>
                  <a:lnTo>
                    <a:pt x="72" y="45"/>
                  </a:lnTo>
                  <a:lnTo>
                    <a:pt x="57" y="57"/>
                  </a:lnTo>
                  <a:lnTo>
                    <a:pt x="45" y="72"/>
                  </a:lnTo>
                  <a:lnTo>
                    <a:pt x="36" y="90"/>
                  </a:lnTo>
                  <a:lnTo>
                    <a:pt x="30" y="109"/>
                  </a:lnTo>
                  <a:lnTo>
                    <a:pt x="27" y="129"/>
                  </a:lnTo>
                  <a:lnTo>
                    <a:pt x="30" y="149"/>
                  </a:lnTo>
                  <a:lnTo>
                    <a:pt x="36" y="169"/>
                  </a:lnTo>
                  <a:lnTo>
                    <a:pt x="45" y="186"/>
                  </a:lnTo>
                  <a:lnTo>
                    <a:pt x="57" y="202"/>
                  </a:lnTo>
                  <a:lnTo>
                    <a:pt x="72" y="214"/>
                  </a:lnTo>
                  <a:lnTo>
                    <a:pt x="90" y="223"/>
                  </a:lnTo>
                  <a:lnTo>
                    <a:pt x="109" y="229"/>
                  </a:lnTo>
                  <a:lnTo>
                    <a:pt x="129" y="232"/>
                  </a:lnTo>
                  <a:lnTo>
                    <a:pt x="150" y="229"/>
                  </a:lnTo>
                  <a:lnTo>
                    <a:pt x="169" y="223"/>
                  </a:lnTo>
                  <a:lnTo>
                    <a:pt x="186" y="214"/>
                  </a:lnTo>
                  <a:lnTo>
                    <a:pt x="202" y="202"/>
                  </a:lnTo>
                  <a:lnTo>
                    <a:pt x="214" y="186"/>
                  </a:lnTo>
                  <a:lnTo>
                    <a:pt x="223" y="169"/>
                  </a:lnTo>
                  <a:lnTo>
                    <a:pt x="229" y="149"/>
                  </a:lnTo>
                  <a:lnTo>
                    <a:pt x="231" y="129"/>
                  </a:lnTo>
                  <a:lnTo>
                    <a:pt x="259" y="129"/>
                  </a:lnTo>
                  <a:lnTo>
                    <a:pt x="256" y="103"/>
                  </a:lnTo>
                  <a:lnTo>
                    <a:pt x="248" y="79"/>
                  </a:lnTo>
                  <a:lnTo>
                    <a:pt x="236" y="57"/>
                  </a:lnTo>
                  <a:lnTo>
                    <a:pt x="221" y="38"/>
                  </a:lnTo>
                  <a:lnTo>
                    <a:pt x="202" y="22"/>
                  </a:lnTo>
                  <a:lnTo>
                    <a:pt x="179" y="10"/>
                  </a:lnTo>
                  <a:lnTo>
                    <a:pt x="156" y="2"/>
                  </a:lnTo>
                  <a:lnTo>
                    <a:pt x="129" y="0"/>
                  </a:lnTo>
                  <a:lnTo>
                    <a:pt x="108" y="2"/>
                  </a:lnTo>
                  <a:close/>
                </a:path>
              </a:pathLst>
            </a:custGeom>
            <a:solidFill>
              <a:srgbClr val="ff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67600" y="1440720"/>
              <a:ext cx="90720" cy="100080"/>
            </a:xfrm>
            <a:custGeom>
              <a:avLst/>
              <a:gdLst/>
              <a:ahLst/>
              <a:rect l="l" t="t" r="r" b="b"/>
              <a:pathLst>
                <a:path w="207" h="207">
                  <a:moveTo>
                    <a:pt x="207" y="103"/>
                  </a:moveTo>
                  <a:lnTo>
                    <a:pt x="204" y="82"/>
                  </a:lnTo>
                  <a:lnTo>
                    <a:pt x="198" y="63"/>
                  </a:lnTo>
                  <a:lnTo>
                    <a:pt x="189" y="45"/>
                  </a:lnTo>
                  <a:lnTo>
                    <a:pt x="177" y="30"/>
                  </a:lnTo>
                  <a:lnTo>
                    <a:pt x="162" y="18"/>
                  </a:lnTo>
                  <a:lnTo>
                    <a:pt x="144" y="8"/>
                  </a:lnTo>
                  <a:lnTo>
                    <a:pt x="125" y="2"/>
                  </a:lnTo>
                  <a:lnTo>
                    <a:pt x="103" y="0"/>
                  </a:lnTo>
                  <a:lnTo>
                    <a:pt x="82" y="2"/>
                  </a:lnTo>
                  <a:lnTo>
                    <a:pt x="63" y="8"/>
                  </a:lnTo>
                  <a:lnTo>
                    <a:pt x="45" y="18"/>
                  </a:lnTo>
                  <a:lnTo>
                    <a:pt x="31" y="30"/>
                  </a:lnTo>
                  <a:lnTo>
                    <a:pt x="18" y="45"/>
                  </a:lnTo>
                  <a:lnTo>
                    <a:pt x="8" y="63"/>
                  </a:lnTo>
                  <a:lnTo>
                    <a:pt x="3" y="82"/>
                  </a:lnTo>
                  <a:lnTo>
                    <a:pt x="0" y="103"/>
                  </a:lnTo>
                  <a:lnTo>
                    <a:pt x="3" y="125"/>
                  </a:lnTo>
                  <a:lnTo>
                    <a:pt x="8" y="144"/>
                  </a:lnTo>
                  <a:lnTo>
                    <a:pt x="18" y="162"/>
                  </a:lnTo>
                  <a:lnTo>
                    <a:pt x="31" y="176"/>
                  </a:lnTo>
                  <a:lnTo>
                    <a:pt x="45" y="189"/>
                  </a:lnTo>
                  <a:lnTo>
                    <a:pt x="63" y="198"/>
                  </a:lnTo>
                  <a:lnTo>
                    <a:pt x="82" y="204"/>
                  </a:lnTo>
                  <a:lnTo>
                    <a:pt x="103" y="207"/>
                  </a:lnTo>
                  <a:lnTo>
                    <a:pt x="125" y="204"/>
                  </a:lnTo>
                  <a:lnTo>
                    <a:pt x="144" y="198"/>
                  </a:lnTo>
                  <a:lnTo>
                    <a:pt x="162" y="189"/>
                  </a:lnTo>
                  <a:lnTo>
                    <a:pt x="177" y="176"/>
                  </a:lnTo>
                  <a:lnTo>
                    <a:pt x="189" y="162"/>
                  </a:lnTo>
                  <a:lnTo>
                    <a:pt x="198" y="144"/>
                  </a:lnTo>
                  <a:lnTo>
                    <a:pt x="204" y="125"/>
                  </a:lnTo>
                  <a:lnTo>
                    <a:pt x="207" y="103"/>
                  </a:lnTo>
                  <a:lnTo>
                    <a:pt x="181" y="103"/>
                  </a:lnTo>
                  <a:lnTo>
                    <a:pt x="179" y="88"/>
                  </a:lnTo>
                  <a:lnTo>
                    <a:pt x="175" y="74"/>
                  </a:lnTo>
                  <a:lnTo>
                    <a:pt x="167" y="60"/>
                  </a:lnTo>
                  <a:lnTo>
                    <a:pt x="158" y="49"/>
                  </a:lnTo>
                  <a:lnTo>
                    <a:pt x="146" y="39"/>
                  </a:lnTo>
                  <a:lnTo>
                    <a:pt x="133" y="32"/>
                  </a:lnTo>
                  <a:lnTo>
                    <a:pt x="119" y="27"/>
                  </a:lnTo>
                  <a:lnTo>
                    <a:pt x="103" y="26"/>
                  </a:lnTo>
                  <a:lnTo>
                    <a:pt x="88" y="27"/>
                  </a:lnTo>
                  <a:lnTo>
                    <a:pt x="74" y="32"/>
                  </a:lnTo>
                  <a:lnTo>
                    <a:pt x="61" y="39"/>
                  </a:lnTo>
                  <a:lnTo>
                    <a:pt x="49" y="49"/>
                  </a:lnTo>
                  <a:lnTo>
                    <a:pt x="39" y="60"/>
                  </a:lnTo>
                  <a:lnTo>
                    <a:pt x="32" y="74"/>
                  </a:lnTo>
                  <a:lnTo>
                    <a:pt x="27" y="88"/>
                  </a:lnTo>
                  <a:lnTo>
                    <a:pt x="26" y="103"/>
                  </a:lnTo>
                  <a:lnTo>
                    <a:pt x="27" y="119"/>
                  </a:lnTo>
                  <a:lnTo>
                    <a:pt x="32" y="133"/>
                  </a:lnTo>
                  <a:lnTo>
                    <a:pt x="39" y="146"/>
                  </a:lnTo>
                  <a:lnTo>
                    <a:pt x="49" y="158"/>
                  </a:lnTo>
                  <a:lnTo>
                    <a:pt x="61" y="167"/>
                  </a:lnTo>
                  <a:lnTo>
                    <a:pt x="74" y="175"/>
                  </a:lnTo>
                  <a:lnTo>
                    <a:pt x="88" y="179"/>
                  </a:lnTo>
                  <a:lnTo>
                    <a:pt x="103" y="181"/>
                  </a:lnTo>
                  <a:lnTo>
                    <a:pt x="119" y="179"/>
                  </a:lnTo>
                  <a:lnTo>
                    <a:pt x="133" y="175"/>
                  </a:lnTo>
                  <a:lnTo>
                    <a:pt x="146" y="167"/>
                  </a:lnTo>
                  <a:lnTo>
                    <a:pt x="158" y="158"/>
                  </a:lnTo>
                  <a:lnTo>
                    <a:pt x="167" y="146"/>
                  </a:lnTo>
                  <a:lnTo>
                    <a:pt x="175" y="133"/>
                  </a:lnTo>
                  <a:lnTo>
                    <a:pt x="179" y="119"/>
                  </a:lnTo>
                  <a:lnTo>
                    <a:pt x="181" y="103"/>
                  </a:lnTo>
                  <a:lnTo>
                    <a:pt x="207" y="103"/>
                  </a:lnTo>
                  <a:close/>
                </a:path>
              </a:pathLst>
            </a:custGeom>
            <a:solidFill>
              <a:srgbClr val="ffa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78400" y="1452240"/>
              <a:ext cx="68760" cy="76680"/>
            </a:xfrm>
            <a:custGeom>
              <a:avLst/>
              <a:gdLst/>
              <a:ahLst/>
              <a:rect l="l" t="t" r="r" b="b"/>
              <a:pathLst>
                <a:path w="157" h="157">
                  <a:moveTo>
                    <a:pt x="157" y="78"/>
                  </a:moveTo>
                  <a:lnTo>
                    <a:pt x="156" y="63"/>
                  </a:lnTo>
                  <a:lnTo>
                    <a:pt x="151" y="47"/>
                  </a:lnTo>
                  <a:lnTo>
                    <a:pt x="144" y="34"/>
                  </a:lnTo>
                  <a:lnTo>
                    <a:pt x="134" y="22"/>
                  </a:lnTo>
                  <a:lnTo>
                    <a:pt x="122" y="13"/>
                  </a:lnTo>
                  <a:lnTo>
                    <a:pt x="109" y="6"/>
                  </a:lnTo>
                  <a:lnTo>
                    <a:pt x="94" y="1"/>
                  </a:lnTo>
                  <a:lnTo>
                    <a:pt x="78" y="0"/>
                  </a:lnTo>
                  <a:lnTo>
                    <a:pt x="63" y="1"/>
                  </a:lnTo>
                  <a:lnTo>
                    <a:pt x="49" y="6"/>
                  </a:lnTo>
                  <a:lnTo>
                    <a:pt x="35" y="13"/>
                  </a:lnTo>
                  <a:lnTo>
                    <a:pt x="24" y="22"/>
                  </a:lnTo>
                  <a:lnTo>
                    <a:pt x="13" y="34"/>
                  </a:lnTo>
                  <a:lnTo>
                    <a:pt x="6" y="47"/>
                  </a:lnTo>
                  <a:lnTo>
                    <a:pt x="1" y="63"/>
                  </a:lnTo>
                  <a:lnTo>
                    <a:pt x="0" y="78"/>
                  </a:lnTo>
                  <a:lnTo>
                    <a:pt x="1" y="94"/>
                  </a:lnTo>
                  <a:lnTo>
                    <a:pt x="6" y="108"/>
                  </a:lnTo>
                  <a:lnTo>
                    <a:pt x="13" y="122"/>
                  </a:lnTo>
                  <a:lnTo>
                    <a:pt x="24" y="133"/>
                  </a:lnTo>
                  <a:lnTo>
                    <a:pt x="35" y="144"/>
                  </a:lnTo>
                  <a:lnTo>
                    <a:pt x="49" y="151"/>
                  </a:lnTo>
                  <a:lnTo>
                    <a:pt x="63" y="156"/>
                  </a:lnTo>
                  <a:lnTo>
                    <a:pt x="78" y="157"/>
                  </a:lnTo>
                  <a:lnTo>
                    <a:pt x="94" y="156"/>
                  </a:lnTo>
                  <a:lnTo>
                    <a:pt x="109" y="151"/>
                  </a:lnTo>
                  <a:lnTo>
                    <a:pt x="122" y="144"/>
                  </a:lnTo>
                  <a:lnTo>
                    <a:pt x="134" y="133"/>
                  </a:lnTo>
                  <a:lnTo>
                    <a:pt x="144" y="122"/>
                  </a:lnTo>
                  <a:lnTo>
                    <a:pt x="151" y="108"/>
                  </a:lnTo>
                  <a:lnTo>
                    <a:pt x="156" y="94"/>
                  </a:lnTo>
                  <a:lnTo>
                    <a:pt x="157" y="78"/>
                  </a:lnTo>
                  <a:lnTo>
                    <a:pt x="129" y="78"/>
                  </a:lnTo>
                  <a:lnTo>
                    <a:pt x="128" y="69"/>
                  </a:lnTo>
                  <a:lnTo>
                    <a:pt x="126" y="59"/>
                  </a:lnTo>
                  <a:lnTo>
                    <a:pt x="120" y="50"/>
                  </a:lnTo>
                  <a:lnTo>
                    <a:pt x="114" y="43"/>
                  </a:lnTo>
                  <a:lnTo>
                    <a:pt x="107" y="37"/>
                  </a:lnTo>
                  <a:lnTo>
                    <a:pt x="97" y="31"/>
                  </a:lnTo>
                  <a:lnTo>
                    <a:pt x="88" y="28"/>
                  </a:lnTo>
                  <a:lnTo>
                    <a:pt x="78" y="27"/>
                  </a:lnTo>
                  <a:lnTo>
                    <a:pt x="69" y="28"/>
                  </a:lnTo>
                  <a:lnTo>
                    <a:pt x="59" y="31"/>
                  </a:lnTo>
                  <a:lnTo>
                    <a:pt x="50" y="37"/>
                  </a:lnTo>
                  <a:lnTo>
                    <a:pt x="43" y="43"/>
                  </a:lnTo>
                  <a:lnTo>
                    <a:pt x="37" y="50"/>
                  </a:lnTo>
                  <a:lnTo>
                    <a:pt x="31" y="59"/>
                  </a:lnTo>
                  <a:lnTo>
                    <a:pt x="29" y="69"/>
                  </a:lnTo>
                  <a:lnTo>
                    <a:pt x="27" y="78"/>
                  </a:lnTo>
                  <a:lnTo>
                    <a:pt x="29" y="88"/>
                  </a:lnTo>
                  <a:lnTo>
                    <a:pt x="31" y="97"/>
                  </a:lnTo>
                  <a:lnTo>
                    <a:pt x="37" y="107"/>
                  </a:lnTo>
                  <a:lnTo>
                    <a:pt x="43" y="114"/>
                  </a:lnTo>
                  <a:lnTo>
                    <a:pt x="50" y="120"/>
                  </a:lnTo>
                  <a:lnTo>
                    <a:pt x="59" y="126"/>
                  </a:lnTo>
                  <a:lnTo>
                    <a:pt x="69" y="128"/>
                  </a:lnTo>
                  <a:lnTo>
                    <a:pt x="78" y="129"/>
                  </a:lnTo>
                  <a:lnTo>
                    <a:pt x="88" y="128"/>
                  </a:lnTo>
                  <a:lnTo>
                    <a:pt x="97" y="126"/>
                  </a:lnTo>
                  <a:lnTo>
                    <a:pt x="107" y="120"/>
                  </a:lnTo>
                  <a:lnTo>
                    <a:pt x="114" y="114"/>
                  </a:lnTo>
                  <a:lnTo>
                    <a:pt x="120" y="107"/>
                  </a:lnTo>
                  <a:lnTo>
                    <a:pt x="126" y="97"/>
                  </a:lnTo>
                  <a:lnTo>
                    <a:pt x="128" y="88"/>
                  </a:lnTo>
                  <a:lnTo>
                    <a:pt x="129" y="78"/>
                  </a:lnTo>
                  <a:lnTo>
                    <a:pt x="157" y="78"/>
                  </a:lnTo>
                  <a:close/>
                </a:path>
              </a:pathLst>
            </a:custGeom>
            <a:solidFill>
              <a:srgbClr val="f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89560" y="1465200"/>
              <a:ext cx="45720" cy="51120"/>
            </a:xfrm>
            <a:custGeom>
              <a:avLst/>
              <a:gdLst/>
              <a:ahLst/>
              <a:rect l="l" t="t" r="r" b="b"/>
              <a:pathLst>
                <a:path w="105" h="105">
                  <a:moveTo>
                    <a:pt x="105" y="52"/>
                  </a:moveTo>
                  <a:lnTo>
                    <a:pt x="103" y="42"/>
                  </a:lnTo>
                  <a:lnTo>
                    <a:pt x="101" y="32"/>
                  </a:lnTo>
                  <a:lnTo>
                    <a:pt x="95" y="24"/>
                  </a:lnTo>
                  <a:lnTo>
                    <a:pt x="89" y="15"/>
                  </a:lnTo>
                  <a:lnTo>
                    <a:pt x="81" y="9"/>
                  </a:lnTo>
                  <a:lnTo>
                    <a:pt x="73" y="3"/>
                  </a:lnTo>
                  <a:lnTo>
                    <a:pt x="63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3"/>
                  </a:lnTo>
                  <a:lnTo>
                    <a:pt x="24" y="9"/>
                  </a:lnTo>
                  <a:lnTo>
                    <a:pt x="16" y="15"/>
                  </a:lnTo>
                  <a:lnTo>
                    <a:pt x="10" y="24"/>
                  </a:lnTo>
                  <a:lnTo>
                    <a:pt x="5" y="32"/>
                  </a:lnTo>
                  <a:lnTo>
                    <a:pt x="1" y="42"/>
                  </a:lnTo>
                  <a:lnTo>
                    <a:pt x="0" y="52"/>
                  </a:lnTo>
                  <a:lnTo>
                    <a:pt x="1" y="63"/>
                  </a:lnTo>
                  <a:lnTo>
                    <a:pt x="5" y="72"/>
                  </a:lnTo>
                  <a:lnTo>
                    <a:pt x="10" y="81"/>
                  </a:lnTo>
                  <a:lnTo>
                    <a:pt x="16" y="89"/>
                  </a:lnTo>
                  <a:lnTo>
                    <a:pt x="24" y="95"/>
                  </a:lnTo>
                  <a:lnTo>
                    <a:pt x="32" y="100"/>
                  </a:lnTo>
                  <a:lnTo>
                    <a:pt x="42" y="103"/>
                  </a:lnTo>
                  <a:lnTo>
                    <a:pt x="52" y="105"/>
                  </a:lnTo>
                  <a:lnTo>
                    <a:pt x="63" y="103"/>
                  </a:lnTo>
                  <a:lnTo>
                    <a:pt x="73" y="100"/>
                  </a:lnTo>
                  <a:lnTo>
                    <a:pt x="81" y="95"/>
                  </a:lnTo>
                  <a:lnTo>
                    <a:pt x="89" y="89"/>
                  </a:lnTo>
                  <a:lnTo>
                    <a:pt x="95" y="81"/>
                  </a:lnTo>
                  <a:lnTo>
                    <a:pt x="101" y="72"/>
                  </a:lnTo>
                  <a:lnTo>
                    <a:pt x="103" y="63"/>
                  </a:lnTo>
                  <a:lnTo>
                    <a:pt x="105" y="52"/>
                  </a:lnTo>
                  <a:lnTo>
                    <a:pt x="105" y="52"/>
                  </a:lnTo>
                  <a:close/>
                </a:path>
              </a:pathLst>
            </a:custGeom>
            <a:solidFill>
              <a:srgbClr val="f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01440" y="1477800"/>
              <a:ext cx="23760" cy="259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7"/>
                  </a:moveTo>
                  <a:lnTo>
                    <a:pt x="52" y="17"/>
                  </a:lnTo>
                  <a:lnTo>
                    <a:pt x="46" y="8"/>
                  </a:lnTo>
                  <a:lnTo>
                    <a:pt x="38" y="2"/>
                  </a:lnTo>
                  <a:lnTo>
                    <a:pt x="27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8"/>
                  </a:lnTo>
                  <a:lnTo>
                    <a:pt x="8" y="46"/>
                  </a:lnTo>
                  <a:lnTo>
                    <a:pt x="17" y="52"/>
                  </a:lnTo>
                  <a:lnTo>
                    <a:pt x="27" y="55"/>
                  </a:lnTo>
                  <a:lnTo>
                    <a:pt x="38" y="52"/>
                  </a:lnTo>
                  <a:lnTo>
                    <a:pt x="46" y="46"/>
                  </a:lnTo>
                  <a:lnTo>
                    <a:pt x="52" y="38"/>
                  </a:lnTo>
                  <a:lnTo>
                    <a:pt x="55" y="27"/>
                  </a:lnTo>
                  <a:lnTo>
                    <a:pt x="55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821320" y="129528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valu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984480" y="3733920"/>
            <a:ext cx="230400" cy="245880"/>
            <a:chOff x="3984480" y="3733920"/>
            <a:chExt cx="230400" cy="245880"/>
          </a:xfrm>
        </p:grpSpPr>
        <p:sp>
          <p:nvSpPr>
            <p:cNvPr id="156" name=""/>
            <p:cNvSpPr/>
            <p:nvPr/>
          </p:nvSpPr>
          <p:spPr>
            <a:xfrm>
              <a:off x="4093200" y="3849480"/>
              <a:ext cx="25200" cy="31680"/>
            </a:xfrm>
            <a:custGeom>
              <a:avLst/>
              <a:gdLst/>
              <a:ahLst/>
              <a:rect l="l" t="t" r="r" b="b"/>
              <a:pathLst>
                <a:path w="59" h="65">
                  <a:moveTo>
                    <a:pt x="0" y="57"/>
                  </a:moveTo>
                  <a:lnTo>
                    <a:pt x="14" y="64"/>
                  </a:lnTo>
                  <a:lnTo>
                    <a:pt x="28" y="65"/>
                  </a:lnTo>
                  <a:lnTo>
                    <a:pt x="41" y="59"/>
                  </a:lnTo>
                  <a:lnTo>
                    <a:pt x="51" y="51"/>
                  </a:lnTo>
                  <a:lnTo>
                    <a:pt x="57" y="39"/>
                  </a:lnTo>
                  <a:lnTo>
                    <a:pt x="59" y="26"/>
                  </a:lnTo>
                  <a:lnTo>
                    <a:pt x="55" y="12"/>
                  </a:lnTo>
                  <a:lnTo>
                    <a:pt x="45" y="0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95720" y="3835800"/>
              <a:ext cx="33120" cy="56160"/>
            </a:xfrm>
            <a:custGeom>
              <a:avLst/>
              <a:gdLst/>
              <a:ahLst/>
              <a:rect l="l" t="t" r="r" b="b"/>
              <a:pathLst>
                <a:path w="76" h="117">
                  <a:moveTo>
                    <a:pt x="0" y="114"/>
                  </a:moveTo>
                  <a:lnTo>
                    <a:pt x="26" y="117"/>
                  </a:lnTo>
                  <a:lnTo>
                    <a:pt x="47" y="108"/>
                  </a:lnTo>
                  <a:lnTo>
                    <a:pt x="64" y="93"/>
                  </a:lnTo>
                  <a:lnTo>
                    <a:pt x="73" y="73"/>
                  </a:lnTo>
                  <a:lnTo>
                    <a:pt x="76" y="51"/>
                  </a:lnTo>
                  <a:lnTo>
                    <a:pt x="71" y="30"/>
                  </a:lnTo>
                  <a:lnTo>
                    <a:pt x="57" y="12"/>
                  </a:lnTo>
                  <a:lnTo>
                    <a:pt x="33" y="0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32080" y="3835800"/>
              <a:ext cx="82800" cy="138600"/>
            </a:xfrm>
            <a:custGeom>
              <a:avLst/>
              <a:gdLst/>
              <a:ahLst/>
              <a:rect l="l" t="t" r="r" b="b"/>
              <a:pathLst>
                <a:path w="187" h="287">
                  <a:moveTo>
                    <a:pt x="184" y="0"/>
                  </a:moveTo>
                  <a:lnTo>
                    <a:pt x="185" y="5"/>
                  </a:lnTo>
                  <a:lnTo>
                    <a:pt x="185" y="10"/>
                  </a:lnTo>
                  <a:lnTo>
                    <a:pt x="186" y="16"/>
                  </a:lnTo>
                  <a:lnTo>
                    <a:pt x="186" y="20"/>
                  </a:lnTo>
                  <a:lnTo>
                    <a:pt x="187" y="26"/>
                  </a:lnTo>
                  <a:lnTo>
                    <a:pt x="187" y="31"/>
                  </a:lnTo>
                  <a:lnTo>
                    <a:pt x="187" y="37"/>
                  </a:lnTo>
                  <a:lnTo>
                    <a:pt x="187" y="43"/>
                  </a:lnTo>
                  <a:lnTo>
                    <a:pt x="186" y="64"/>
                  </a:lnTo>
                  <a:lnTo>
                    <a:pt x="184" y="86"/>
                  </a:lnTo>
                  <a:lnTo>
                    <a:pt x="179" y="106"/>
                  </a:lnTo>
                  <a:lnTo>
                    <a:pt x="173" y="125"/>
                  </a:lnTo>
                  <a:lnTo>
                    <a:pt x="166" y="144"/>
                  </a:lnTo>
                  <a:lnTo>
                    <a:pt x="156" y="163"/>
                  </a:lnTo>
                  <a:lnTo>
                    <a:pt x="146" y="180"/>
                  </a:lnTo>
                  <a:lnTo>
                    <a:pt x="135" y="196"/>
                  </a:lnTo>
                  <a:lnTo>
                    <a:pt x="121" y="212"/>
                  </a:lnTo>
                  <a:lnTo>
                    <a:pt x="106" y="226"/>
                  </a:lnTo>
                  <a:lnTo>
                    <a:pt x="91" y="239"/>
                  </a:lnTo>
                  <a:lnTo>
                    <a:pt x="76" y="252"/>
                  </a:lnTo>
                  <a:lnTo>
                    <a:pt x="58" y="263"/>
                  </a:lnTo>
                  <a:lnTo>
                    <a:pt x="39" y="273"/>
                  </a:lnTo>
                  <a:lnTo>
                    <a:pt x="20" y="280"/>
                  </a:lnTo>
                  <a:lnTo>
                    <a:pt x="0" y="287"/>
                  </a:lnTo>
                  <a:lnTo>
                    <a:pt x="19" y="275"/>
                  </a:lnTo>
                  <a:lnTo>
                    <a:pt x="48" y="254"/>
                  </a:lnTo>
                  <a:lnTo>
                    <a:pt x="76" y="229"/>
                  </a:lnTo>
                  <a:lnTo>
                    <a:pt x="101" y="201"/>
                  </a:lnTo>
                  <a:lnTo>
                    <a:pt x="122" y="171"/>
                  </a:lnTo>
                  <a:lnTo>
                    <a:pt x="141" y="141"/>
                  </a:lnTo>
                  <a:lnTo>
                    <a:pt x="157" y="107"/>
                  </a:lnTo>
                  <a:lnTo>
                    <a:pt x="171" y="72"/>
                  </a:lnTo>
                  <a:lnTo>
                    <a:pt x="179" y="36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e0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95720" y="3800880"/>
              <a:ext cx="118080" cy="178920"/>
            </a:xfrm>
            <a:custGeom>
              <a:avLst/>
              <a:gdLst/>
              <a:ahLst/>
              <a:rect l="l" t="t" r="r" b="b"/>
              <a:pathLst>
                <a:path w="267" h="369">
                  <a:moveTo>
                    <a:pt x="242" y="0"/>
                  </a:moveTo>
                  <a:lnTo>
                    <a:pt x="245" y="7"/>
                  </a:lnTo>
                  <a:lnTo>
                    <a:pt x="249" y="14"/>
                  </a:lnTo>
                  <a:lnTo>
                    <a:pt x="253" y="22"/>
                  </a:lnTo>
                  <a:lnTo>
                    <a:pt x="255" y="30"/>
                  </a:lnTo>
                  <a:lnTo>
                    <a:pt x="244" y="30"/>
                  </a:lnTo>
                  <a:lnTo>
                    <a:pt x="242" y="0"/>
                  </a:lnTo>
                  <a:close/>
                  <a:moveTo>
                    <a:pt x="267" y="75"/>
                  </a:moveTo>
                  <a:lnTo>
                    <a:pt x="266" y="69"/>
                  </a:lnTo>
                  <a:lnTo>
                    <a:pt x="264" y="63"/>
                  </a:lnTo>
                  <a:lnTo>
                    <a:pt x="263" y="57"/>
                  </a:lnTo>
                  <a:lnTo>
                    <a:pt x="262" y="52"/>
                  </a:lnTo>
                  <a:lnTo>
                    <a:pt x="260" y="46"/>
                  </a:lnTo>
                  <a:lnTo>
                    <a:pt x="258" y="40"/>
                  </a:lnTo>
                  <a:lnTo>
                    <a:pt x="256" y="36"/>
                  </a:lnTo>
                  <a:lnTo>
                    <a:pt x="255" y="30"/>
                  </a:lnTo>
                  <a:lnTo>
                    <a:pt x="244" y="30"/>
                  </a:lnTo>
                  <a:lnTo>
                    <a:pt x="242" y="66"/>
                  </a:lnTo>
                  <a:lnTo>
                    <a:pt x="237" y="101"/>
                  </a:lnTo>
                  <a:lnTo>
                    <a:pt x="228" y="135"/>
                  </a:lnTo>
                  <a:lnTo>
                    <a:pt x="216" y="168"/>
                  </a:lnTo>
                  <a:lnTo>
                    <a:pt x="202" y="200"/>
                  </a:lnTo>
                  <a:lnTo>
                    <a:pt x="184" y="228"/>
                  </a:lnTo>
                  <a:lnTo>
                    <a:pt x="162" y="257"/>
                  </a:lnTo>
                  <a:lnTo>
                    <a:pt x="140" y="282"/>
                  </a:lnTo>
                  <a:lnTo>
                    <a:pt x="115" y="304"/>
                  </a:lnTo>
                  <a:lnTo>
                    <a:pt x="86" y="326"/>
                  </a:lnTo>
                  <a:lnTo>
                    <a:pt x="58" y="344"/>
                  </a:lnTo>
                  <a:lnTo>
                    <a:pt x="26" y="358"/>
                  </a:lnTo>
                  <a:lnTo>
                    <a:pt x="0" y="367"/>
                  </a:lnTo>
                  <a:lnTo>
                    <a:pt x="2" y="367"/>
                  </a:lnTo>
                  <a:lnTo>
                    <a:pt x="5" y="367"/>
                  </a:lnTo>
                  <a:lnTo>
                    <a:pt x="6" y="369"/>
                  </a:lnTo>
                  <a:lnTo>
                    <a:pt x="8" y="369"/>
                  </a:lnTo>
                  <a:lnTo>
                    <a:pt x="19" y="369"/>
                  </a:lnTo>
                  <a:lnTo>
                    <a:pt x="28" y="367"/>
                  </a:lnTo>
                  <a:lnTo>
                    <a:pt x="38" y="366"/>
                  </a:lnTo>
                  <a:lnTo>
                    <a:pt x="48" y="365"/>
                  </a:lnTo>
                  <a:lnTo>
                    <a:pt x="58" y="364"/>
                  </a:lnTo>
                  <a:lnTo>
                    <a:pt x="67" y="361"/>
                  </a:lnTo>
                  <a:lnTo>
                    <a:pt x="77" y="359"/>
                  </a:lnTo>
                  <a:lnTo>
                    <a:pt x="86" y="357"/>
                  </a:lnTo>
                  <a:lnTo>
                    <a:pt x="102" y="347"/>
                  </a:lnTo>
                  <a:lnTo>
                    <a:pt x="130" y="325"/>
                  </a:lnTo>
                  <a:lnTo>
                    <a:pt x="158" y="300"/>
                  </a:lnTo>
                  <a:lnTo>
                    <a:pt x="183" y="272"/>
                  </a:lnTo>
                  <a:lnTo>
                    <a:pt x="205" y="244"/>
                  </a:lnTo>
                  <a:lnTo>
                    <a:pt x="224" y="212"/>
                  </a:lnTo>
                  <a:lnTo>
                    <a:pt x="241" y="178"/>
                  </a:lnTo>
                  <a:lnTo>
                    <a:pt x="253" y="143"/>
                  </a:lnTo>
                  <a:lnTo>
                    <a:pt x="262" y="107"/>
                  </a:lnTo>
                  <a:lnTo>
                    <a:pt x="267" y="75"/>
                  </a:lnTo>
                  <a:close/>
                </a:path>
              </a:pathLst>
            </a:custGeom>
            <a:solidFill>
              <a:srgbClr val="eb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68360" y="3777480"/>
              <a:ext cx="135720" cy="202320"/>
            </a:xfrm>
            <a:custGeom>
              <a:avLst/>
              <a:gdLst/>
              <a:ahLst/>
              <a:rect l="l" t="t" r="r" b="b"/>
              <a:pathLst>
                <a:path w="308" h="416">
                  <a:moveTo>
                    <a:pt x="306" y="51"/>
                  </a:moveTo>
                  <a:lnTo>
                    <a:pt x="302" y="44"/>
                  </a:lnTo>
                  <a:lnTo>
                    <a:pt x="299" y="38"/>
                  </a:lnTo>
                  <a:lnTo>
                    <a:pt x="294" y="31"/>
                  </a:lnTo>
                  <a:lnTo>
                    <a:pt x="291" y="25"/>
                  </a:lnTo>
                  <a:lnTo>
                    <a:pt x="286" y="18"/>
                  </a:lnTo>
                  <a:lnTo>
                    <a:pt x="281" y="12"/>
                  </a:lnTo>
                  <a:lnTo>
                    <a:pt x="276" y="6"/>
                  </a:lnTo>
                  <a:lnTo>
                    <a:pt x="272" y="0"/>
                  </a:lnTo>
                  <a:lnTo>
                    <a:pt x="275" y="12"/>
                  </a:lnTo>
                  <a:lnTo>
                    <a:pt x="281" y="44"/>
                  </a:lnTo>
                  <a:lnTo>
                    <a:pt x="282" y="79"/>
                  </a:lnTo>
                  <a:lnTo>
                    <a:pt x="308" y="79"/>
                  </a:lnTo>
                  <a:lnTo>
                    <a:pt x="306" y="115"/>
                  </a:lnTo>
                  <a:lnTo>
                    <a:pt x="301" y="151"/>
                  </a:lnTo>
                  <a:lnTo>
                    <a:pt x="292" y="184"/>
                  </a:lnTo>
                  <a:lnTo>
                    <a:pt x="280" y="218"/>
                  </a:lnTo>
                  <a:lnTo>
                    <a:pt x="266" y="249"/>
                  </a:lnTo>
                  <a:lnTo>
                    <a:pt x="248" y="278"/>
                  </a:lnTo>
                  <a:lnTo>
                    <a:pt x="227" y="306"/>
                  </a:lnTo>
                  <a:lnTo>
                    <a:pt x="204" y="332"/>
                  </a:lnTo>
                  <a:lnTo>
                    <a:pt x="178" y="355"/>
                  </a:lnTo>
                  <a:lnTo>
                    <a:pt x="151" y="376"/>
                  </a:lnTo>
                  <a:lnTo>
                    <a:pt x="121" y="394"/>
                  </a:lnTo>
                  <a:lnTo>
                    <a:pt x="90" y="408"/>
                  </a:lnTo>
                  <a:lnTo>
                    <a:pt x="66" y="416"/>
                  </a:lnTo>
                  <a:lnTo>
                    <a:pt x="58" y="416"/>
                  </a:lnTo>
                  <a:lnTo>
                    <a:pt x="50" y="415"/>
                  </a:lnTo>
                  <a:lnTo>
                    <a:pt x="41" y="415"/>
                  </a:lnTo>
                  <a:lnTo>
                    <a:pt x="33" y="414"/>
                  </a:lnTo>
                  <a:lnTo>
                    <a:pt x="25" y="413"/>
                  </a:lnTo>
                  <a:lnTo>
                    <a:pt x="16" y="410"/>
                  </a:lnTo>
                  <a:lnTo>
                    <a:pt x="8" y="409"/>
                  </a:lnTo>
                  <a:lnTo>
                    <a:pt x="0" y="407"/>
                  </a:lnTo>
                  <a:lnTo>
                    <a:pt x="18" y="403"/>
                  </a:lnTo>
                  <a:lnTo>
                    <a:pt x="50" y="395"/>
                  </a:lnTo>
                  <a:lnTo>
                    <a:pt x="81" y="384"/>
                  </a:lnTo>
                  <a:lnTo>
                    <a:pt x="109" y="370"/>
                  </a:lnTo>
                  <a:lnTo>
                    <a:pt x="136" y="353"/>
                  </a:lnTo>
                  <a:lnTo>
                    <a:pt x="161" y="334"/>
                  </a:lnTo>
                  <a:lnTo>
                    <a:pt x="185" y="313"/>
                  </a:lnTo>
                  <a:lnTo>
                    <a:pt x="206" y="289"/>
                  </a:lnTo>
                  <a:lnTo>
                    <a:pt x="225" y="264"/>
                  </a:lnTo>
                  <a:lnTo>
                    <a:pt x="242" y="237"/>
                  </a:lnTo>
                  <a:lnTo>
                    <a:pt x="256" y="208"/>
                  </a:lnTo>
                  <a:lnTo>
                    <a:pt x="267" y="177"/>
                  </a:lnTo>
                  <a:lnTo>
                    <a:pt x="275" y="145"/>
                  </a:lnTo>
                  <a:lnTo>
                    <a:pt x="281" y="113"/>
                  </a:lnTo>
                  <a:lnTo>
                    <a:pt x="282" y="79"/>
                  </a:lnTo>
                  <a:lnTo>
                    <a:pt x="308" y="79"/>
                  </a:lnTo>
                  <a:lnTo>
                    <a:pt x="306" y="51"/>
                  </a:lnTo>
                  <a:close/>
                </a:path>
              </a:pathLst>
            </a:custGeom>
            <a:solidFill>
              <a:srgbClr val="f50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4240" y="3759840"/>
              <a:ext cx="149040" cy="215640"/>
            </a:xfrm>
            <a:custGeom>
              <a:avLst/>
              <a:gdLst/>
              <a:ahLst/>
              <a:rect l="l" t="t" r="r" b="b"/>
              <a:pathLst>
                <a:path w="338" h="444">
                  <a:moveTo>
                    <a:pt x="328" y="38"/>
                  </a:moveTo>
                  <a:lnTo>
                    <a:pt x="323" y="34"/>
                  </a:lnTo>
                  <a:lnTo>
                    <a:pt x="318" y="28"/>
                  </a:lnTo>
                  <a:lnTo>
                    <a:pt x="314" y="23"/>
                  </a:lnTo>
                  <a:lnTo>
                    <a:pt x="309" y="18"/>
                  </a:lnTo>
                  <a:lnTo>
                    <a:pt x="304" y="13"/>
                  </a:lnTo>
                  <a:lnTo>
                    <a:pt x="299" y="10"/>
                  </a:lnTo>
                  <a:lnTo>
                    <a:pt x="293" y="5"/>
                  </a:lnTo>
                  <a:lnTo>
                    <a:pt x="289" y="0"/>
                  </a:lnTo>
                  <a:lnTo>
                    <a:pt x="297" y="24"/>
                  </a:lnTo>
                  <a:lnTo>
                    <a:pt x="305" y="53"/>
                  </a:lnTo>
                  <a:lnTo>
                    <a:pt x="310" y="84"/>
                  </a:lnTo>
                  <a:lnTo>
                    <a:pt x="311" y="115"/>
                  </a:lnTo>
                  <a:lnTo>
                    <a:pt x="338" y="115"/>
                  </a:lnTo>
                  <a:lnTo>
                    <a:pt x="337" y="149"/>
                  </a:lnTo>
                  <a:lnTo>
                    <a:pt x="331" y="181"/>
                  </a:lnTo>
                  <a:lnTo>
                    <a:pt x="323" y="213"/>
                  </a:lnTo>
                  <a:lnTo>
                    <a:pt x="312" y="244"/>
                  </a:lnTo>
                  <a:lnTo>
                    <a:pt x="298" y="273"/>
                  </a:lnTo>
                  <a:lnTo>
                    <a:pt x="282" y="300"/>
                  </a:lnTo>
                  <a:lnTo>
                    <a:pt x="263" y="326"/>
                  </a:lnTo>
                  <a:lnTo>
                    <a:pt x="241" y="350"/>
                  </a:lnTo>
                  <a:lnTo>
                    <a:pt x="217" y="372"/>
                  </a:lnTo>
                  <a:lnTo>
                    <a:pt x="191" y="391"/>
                  </a:lnTo>
                  <a:lnTo>
                    <a:pt x="164" y="407"/>
                  </a:lnTo>
                  <a:lnTo>
                    <a:pt x="136" y="421"/>
                  </a:lnTo>
                  <a:lnTo>
                    <a:pt x="105" y="432"/>
                  </a:lnTo>
                  <a:lnTo>
                    <a:pt x="73" y="440"/>
                  </a:lnTo>
                  <a:lnTo>
                    <a:pt x="57" y="444"/>
                  </a:lnTo>
                  <a:lnTo>
                    <a:pt x="50" y="442"/>
                  </a:lnTo>
                  <a:lnTo>
                    <a:pt x="42" y="439"/>
                  </a:lnTo>
                  <a:lnTo>
                    <a:pt x="35" y="437"/>
                  </a:lnTo>
                  <a:lnTo>
                    <a:pt x="28" y="433"/>
                  </a:lnTo>
                  <a:lnTo>
                    <a:pt x="20" y="431"/>
                  </a:lnTo>
                  <a:lnTo>
                    <a:pt x="13" y="427"/>
                  </a:lnTo>
                  <a:lnTo>
                    <a:pt x="7" y="424"/>
                  </a:lnTo>
                  <a:lnTo>
                    <a:pt x="0" y="420"/>
                  </a:lnTo>
                  <a:lnTo>
                    <a:pt x="6" y="420"/>
                  </a:lnTo>
                  <a:lnTo>
                    <a:pt x="37" y="419"/>
                  </a:lnTo>
                  <a:lnTo>
                    <a:pt x="68" y="414"/>
                  </a:lnTo>
                  <a:lnTo>
                    <a:pt x="96" y="406"/>
                  </a:lnTo>
                  <a:lnTo>
                    <a:pt x="125" y="396"/>
                  </a:lnTo>
                  <a:lnTo>
                    <a:pt x="151" y="383"/>
                  </a:lnTo>
                  <a:lnTo>
                    <a:pt x="176" y="368"/>
                  </a:lnTo>
                  <a:lnTo>
                    <a:pt x="200" y="350"/>
                  </a:lnTo>
                  <a:lnTo>
                    <a:pt x="221" y="330"/>
                  </a:lnTo>
                  <a:lnTo>
                    <a:pt x="241" y="308"/>
                  </a:lnTo>
                  <a:lnTo>
                    <a:pt x="259" y="285"/>
                  </a:lnTo>
                  <a:lnTo>
                    <a:pt x="274" y="260"/>
                  </a:lnTo>
                  <a:lnTo>
                    <a:pt x="287" y="234"/>
                  </a:lnTo>
                  <a:lnTo>
                    <a:pt x="297" y="205"/>
                  </a:lnTo>
                  <a:lnTo>
                    <a:pt x="305" y="176"/>
                  </a:lnTo>
                  <a:lnTo>
                    <a:pt x="310" y="146"/>
                  </a:lnTo>
                  <a:lnTo>
                    <a:pt x="311" y="115"/>
                  </a:lnTo>
                  <a:lnTo>
                    <a:pt x="338" y="115"/>
                  </a:lnTo>
                  <a:lnTo>
                    <a:pt x="337" y="80"/>
                  </a:lnTo>
                  <a:lnTo>
                    <a:pt x="331" y="48"/>
                  </a:lnTo>
                  <a:lnTo>
                    <a:pt x="328" y="38"/>
                  </a:lnTo>
                  <a:close/>
                </a:path>
              </a:pathLst>
            </a:custGeom>
            <a:solidFill>
              <a:srgbClr val="ff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24800" y="3747240"/>
              <a:ext cx="156960" cy="216360"/>
            </a:xfrm>
            <a:custGeom>
              <a:avLst/>
              <a:gdLst/>
              <a:ahLst/>
              <a:rect l="l" t="t" r="r" b="b"/>
              <a:pathLst>
                <a:path w="356" h="446">
                  <a:moveTo>
                    <a:pt x="334" y="27"/>
                  </a:moveTo>
                  <a:lnTo>
                    <a:pt x="329" y="23"/>
                  </a:lnTo>
                  <a:lnTo>
                    <a:pt x="324" y="19"/>
                  </a:lnTo>
                  <a:lnTo>
                    <a:pt x="318" y="16"/>
                  </a:lnTo>
                  <a:lnTo>
                    <a:pt x="314" y="12"/>
                  </a:lnTo>
                  <a:lnTo>
                    <a:pt x="308" y="9"/>
                  </a:lnTo>
                  <a:lnTo>
                    <a:pt x="303" y="6"/>
                  </a:lnTo>
                  <a:lnTo>
                    <a:pt x="297" y="3"/>
                  </a:lnTo>
                  <a:lnTo>
                    <a:pt x="291" y="0"/>
                  </a:lnTo>
                  <a:lnTo>
                    <a:pt x="296" y="6"/>
                  </a:lnTo>
                  <a:lnTo>
                    <a:pt x="308" y="30"/>
                  </a:lnTo>
                  <a:lnTo>
                    <a:pt x="317" y="56"/>
                  </a:lnTo>
                  <a:lnTo>
                    <a:pt x="324" y="84"/>
                  </a:lnTo>
                  <a:lnTo>
                    <a:pt x="329" y="111"/>
                  </a:lnTo>
                  <a:lnTo>
                    <a:pt x="330" y="140"/>
                  </a:lnTo>
                  <a:lnTo>
                    <a:pt x="356" y="140"/>
                  </a:lnTo>
                  <a:lnTo>
                    <a:pt x="355" y="171"/>
                  </a:lnTo>
                  <a:lnTo>
                    <a:pt x="350" y="201"/>
                  </a:lnTo>
                  <a:lnTo>
                    <a:pt x="342" y="231"/>
                  </a:lnTo>
                  <a:lnTo>
                    <a:pt x="333" y="259"/>
                  </a:lnTo>
                  <a:lnTo>
                    <a:pt x="320" y="286"/>
                  </a:lnTo>
                  <a:lnTo>
                    <a:pt x="304" y="311"/>
                  </a:lnTo>
                  <a:lnTo>
                    <a:pt x="286" y="335"/>
                  </a:lnTo>
                  <a:lnTo>
                    <a:pt x="266" y="356"/>
                  </a:lnTo>
                  <a:lnTo>
                    <a:pt x="245" y="376"/>
                  </a:lnTo>
                  <a:lnTo>
                    <a:pt x="221" y="394"/>
                  </a:lnTo>
                  <a:lnTo>
                    <a:pt x="196" y="410"/>
                  </a:lnTo>
                  <a:lnTo>
                    <a:pt x="169" y="423"/>
                  </a:lnTo>
                  <a:lnTo>
                    <a:pt x="142" y="432"/>
                  </a:lnTo>
                  <a:lnTo>
                    <a:pt x="112" y="441"/>
                  </a:lnTo>
                  <a:lnTo>
                    <a:pt x="81" y="445"/>
                  </a:lnTo>
                  <a:lnTo>
                    <a:pt x="50" y="446"/>
                  </a:lnTo>
                  <a:lnTo>
                    <a:pt x="47" y="446"/>
                  </a:lnTo>
                  <a:lnTo>
                    <a:pt x="41" y="443"/>
                  </a:lnTo>
                  <a:lnTo>
                    <a:pt x="35" y="439"/>
                  </a:lnTo>
                  <a:lnTo>
                    <a:pt x="29" y="436"/>
                  </a:lnTo>
                  <a:lnTo>
                    <a:pt x="23" y="432"/>
                  </a:lnTo>
                  <a:lnTo>
                    <a:pt x="17" y="429"/>
                  </a:lnTo>
                  <a:lnTo>
                    <a:pt x="11" y="425"/>
                  </a:lnTo>
                  <a:lnTo>
                    <a:pt x="6" y="420"/>
                  </a:lnTo>
                  <a:lnTo>
                    <a:pt x="0" y="417"/>
                  </a:lnTo>
                  <a:lnTo>
                    <a:pt x="22" y="419"/>
                  </a:lnTo>
                  <a:lnTo>
                    <a:pt x="50" y="420"/>
                  </a:lnTo>
                  <a:lnTo>
                    <a:pt x="79" y="419"/>
                  </a:lnTo>
                  <a:lnTo>
                    <a:pt x="106" y="414"/>
                  </a:lnTo>
                  <a:lnTo>
                    <a:pt x="133" y="407"/>
                  </a:lnTo>
                  <a:lnTo>
                    <a:pt x="159" y="398"/>
                  </a:lnTo>
                  <a:lnTo>
                    <a:pt x="183" y="386"/>
                  </a:lnTo>
                  <a:lnTo>
                    <a:pt x="207" y="373"/>
                  </a:lnTo>
                  <a:lnTo>
                    <a:pt x="228" y="356"/>
                  </a:lnTo>
                  <a:lnTo>
                    <a:pt x="248" y="338"/>
                  </a:lnTo>
                  <a:lnTo>
                    <a:pt x="266" y="318"/>
                  </a:lnTo>
                  <a:lnTo>
                    <a:pt x="283" y="297"/>
                  </a:lnTo>
                  <a:lnTo>
                    <a:pt x="296" y="273"/>
                  </a:lnTo>
                  <a:lnTo>
                    <a:pt x="308" y="249"/>
                  </a:lnTo>
                  <a:lnTo>
                    <a:pt x="317" y="223"/>
                  </a:lnTo>
                  <a:lnTo>
                    <a:pt x="324" y="195"/>
                  </a:lnTo>
                  <a:lnTo>
                    <a:pt x="329" y="168"/>
                  </a:lnTo>
                  <a:lnTo>
                    <a:pt x="330" y="140"/>
                  </a:lnTo>
                  <a:lnTo>
                    <a:pt x="356" y="140"/>
                  </a:lnTo>
                  <a:lnTo>
                    <a:pt x="355" y="109"/>
                  </a:lnTo>
                  <a:lnTo>
                    <a:pt x="350" y="78"/>
                  </a:lnTo>
                  <a:lnTo>
                    <a:pt x="342" y="48"/>
                  </a:lnTo>
                  <a:lnTo>
                    <a:pt x="334" y="27"/>
                  </a:lnTo>
                  <a:close/>
                </a:path>
              </a:pathLst>
            </a:custGeom>
            <a:solidFill>
              <a:srgbClr val="ff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08960" y="3738600"/>
              <a:ext cx="161640" cy="213480"/>
            </a:xfrm>
            <a:custGeom>
              <a:avLst/>
              <a:gdLst/>
              <a:ahLst/>
              <a:rect l="l" t="t" r="r" b="b"/>
              <a:pathLst>
                <a:path w="366" h="438">
                  <a:moveTo>
                    <a:pt x="328" y="17"/>
                  </a:moveTo>
                  <a:lnTo>
                    <a:pt x="323" y="15"/>
                  </a:lnTo>
                  <a:lnTo>
                    <a:pt x="318" y="13"/>
                  </a:lnTo>
                  <a:lnTo>
                    <a:pt x="312" y="10"/>
                  </a:lnTo>
                  <a:lnTo>
                    <a:pt x="306" y="8"/>
                  </a:lnTo>
                  <a:lnTo>
                    <a:pt x="301" y="6"/>
                  </a:lnTo>
                  <a:lnTo>
                    <a:pt x="295" y="3"/>
                  </a:lnTo>
                  <a:lnTo>
                    <a:pt x="289" y="2"/>
                  </a:lnTo>
                  <a:lnTo>
                    <a:pt x="283" y="0"/>
                  </a:lnTo>
                  <a:lnTo>
                    <a:pt x="295" y="14"/>
                  </a:lnTo>
                  <a:lnTo>
                    <a:pt x="308" y="35"/>
                  </a:lnTo>
                  <a:lnTo>
                    <a:pt x="319" y="58"/>
                  </a:lnTo>
                  <a:lnTo>
                    <a:pt x="327" y="80"/>
                  </a:lnTo>
                  <a:lnTo>
                    <a:pt x="334" y="105"/>
                  </a:lnTo>
                  <a:lnTo>
                    <a:pt x="338" y="130"/>
                  </a:lnTo>
                  <a:lnTo>
                    <a:pt x="339" y="157"/>
                  </a:lnTo>
                  <a:lnTo>
                    <a:pt x="366" y="157"/>
                  </a:lnTo>
                  <a:lnTo>
                    <a:pt x="365" y="185"/>
                  </a:lnTo>
                  <a:lnTo>
                    <a:pt x="361" y="214"/>
                  </a:lnTo>
                  <a:lnTo>
                    <a:pt x="353" y="240"/>
                  </a:lnTo>
                  <a:lnTo>
                    <a:pt x="344" y="266"/>
                  </a:lnTo>
                  <a:lnTo>
                    <a:pt x="332" y="291"/>
                  </a:lnTo>
                  <a:lnTo>
                    <a:pt x="318" y="314"/>
                  </a:lnTo>
                  <a:lnTo>
                    <a:pt x="302" y="335"/>
                  </a:lnTo>
                  <a:lnTo>
                    <a:pt x="283" y="355"/>
                  </a:lnTo>
                  <a:lnTo>
                    <a:pt x="263" y="374"/>
                  </a:lnTo>
                  <a:lnTo>
                    <a:pt x="242" y="390"/>
                  </a:lnTo>
                  <a:lnTo>
                    <a:pt x="219" y="404"/>
                  </a:lnTo>
                  <a:lnTo>
                    <a:pt x="194" y="416"/>
                  </a:lnTo>
                  <a:lnTo>
                    <a:pt x="168" y="425"/>
                  </a:lnTo>
                  <a:lnTo>
                    <a:pt x="142" y="433"/>
                  </a:lnTo>
                  <a:lnTo>
                    <a:pt x="114" y="437"/>
                  </a:lnTo>
                  <a:lnTo>
                    <a:pt x="85" y="438"/>
                  </a:lnTo>
                  <a:lnTo>
                    <a:pt x="57" y="437"/>
                  </a:lnTo>
                  <a:lnTo>
                    <a:pt x="38" y="435"/>
                  </a:lnTo>
                  <a:lnTo>
                    <a:pt x="33" y="430"/>
                  </a:lnTo>
                  <a:lnTo>
                    <a:pt x="28" y="425"/>
                  </a:lnTo>
                  <a:lnTo>
                    <a:pt x="24" y="422"/>
                  </a:lnTo>
                  <a:lnTo>
                    <a:pt x="19" y="417"/>
                  </a:lnTo>
                  <a:lnTo>
                    <a:pt x="14" y="412"/>
                  </a:lnTo>
                  <a:lnTo>
                    <a:pt x="9" y="408"/>
                  </a:lnTo>
                  <a:lnTo>
                    <a:pt x="5" y="402"/>
                  </a:lnTo>
                  <a:lnTo>
                    <a:pt x="0" y="397"/>
                  </a:lnTo>
                  <a:lnTo>
                    <a:pt x="9" y="399"/>
                  </a:lnTo>
                  <a:lnTo>
                    <a:pt x="34" y="406"/>
                  </a:lnTo>
                  <a:lnTo>
                    <a:pt x="59" y="410"/>
                  </a:lnTo>
                  <a:lnTo>
                    <a:pt x="85" y="411"/>
                  </a:lnTo>
                  <a:lnTo>
                    <a:pt x="111" y="410"/>
                  </a:lnTo>
                  <a:lnTo>
                    <a:pt x="136" y="406"/>
                  </a:lnTo>
                  <a:lnTo>
                    <a:pt x="161" y="399"/>
                  </a:lnTo>
                  <a:lnTo>
                    <a:pt x="184" y="391"/>
                  </a:lnTo>
                  <a:lnTo>
                    <a:pt x="206" y="380"/>
                  </a:lnTo>
                  <a:lnTo>
                    <a:pt x="228" y="367"/>
                  </a:lnTo>
                  <a:lnTo>
                    <a:pt x="247" y="353"/>
                  </a:lnTo>
                  <a:lnTo>
                    <a:pt x="264" y="336"/>
                  </a:lnTo>
                  <a:lnTo>
                    <a:pt x="281" y="318"/>
                  </a:lnTo>
                  <a:lnTo>
                    <a:pt x="295" y="299"/>
                  </a:lnTo>
                  <a:lnTo>
                    <a:pt x="308" y="278"/>
                  </a:lnTo>
                  <a:lnTo>
                    <a:pt x="319" y="255"/>
                  </a:lnTo>
                  <a:lnTo>
                    <a:pt x="327" y="233"/>
                  </a:lnTo>
                  <a:lnTo>
                    <a:pt x="334" y="208"/>
                  </a:lnTo>
                  <a:lnTo>
                    <a:pt x="338" y="183"/>
                  </a:lnTo>
                  <a:lnTo>
                    <a:pt x="339" y="157"/>
                  </a:lnTo>
                  <a:lnTo>
                    <a:pt x="366" y="157"/>
                  </a:lnTo>
                  <a:lnTo>
                    <a:pt x="365" y="128"/>
                  </a:lnTo>
                  <a:lnTo>
                    <a:pt x="361" y="99"/>
                  </a:lnTo>
                  <a:lnTo>
                    <a:pt x="353" y="73"/>
                  </a:lnTo>
                  <a:lnTo>
                    <a:pt x="344" y="47"/>
                  </a:lnTo>
                  <a:lnTo>
                    <a:pt x="332" y="22"/>
                  </a:lnTo>
                  <a:lnTo>
                    <a:pt x="328" y="17"/>
                  </a:lnTo>
                  <a:close/>
                </a:path>
              </a:pathLst>
            </a:custGeom>
            <a:solidFill>
              <a:srgbClr val="ff2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97440" y="3734640"/>
              <a:ext cx="161640" cy="205200"/>
            </a:xfrm>
            <a:custGeom>
              <a:avLst/>
              <a:gdLst/>
              <a:ahLst/>
              <a:rect l="l" t="t" r="r" b="b"/>
              <a:pathLst>
                <a:path w="365" h="422">
                  <a:moveTo>
                    <a:pt x="311" y="11"/>
                  </a:moveTo>
                  <a:lnTo>
                    <a:pt x="305" y="10"/>
                  </a:lnTo>
                  <a:lnTo>
                    <a:pt x="300" y="7"/>
                  </a:lnTo>
                  <a:lnTo>
                    <a:pt x="294" y="6"/>
                  </a:lnTo>
                  <a:lnTo>
                    <a:pt x="288" y="5"/>
                  </a:lnTo>
                  <a:lnTo>
                    <a:pt x="283" y="4"/>
                  </a:lnTo>
                  <a:lnTo>
                    <a:pt x="278" y="2"/>
                  </a:lnTo>
                  <a:lnTo>
                    <a:pt x="272" y="1"/>
                  </a:lnTo>
                  <a:lnTo>
                    <a:pt x="266" y="0"/>
                  </a:lnTo>
                  <a:lnTo>
                    <a:pt x="272" y="5"/>
                  </a:lnTo>
                  <a:lnTo>
                    <a:pt x="287" y="20"/>
                  </a:lnTo>
                  <a:lnTo>
                    <a:pt x="300" y="38"/>
                  </a:lnTo>
                  <a:lnTo>
                    <a:pt x="312" y="57"/>
                  </a:lnTo>
                  <a:lnTo>
                    <a:pt x="321" y="77"/>
                  </a:lnTo>
                  <a:lnTo>
                    <a:pt x="329" y="99"/>
                  </a:lnTo>
                  <a:lnTo>
                    <a:pt x="335" y="120"/>
                  </a:lnTo>
                  <a:lnTo>
                    <a:pt x="338" y="143"/>
                  </a:lnTo>
                  <a:lnTo>
                    <a:pt x="339" y="167"/>
                  </a:lnTo>
                  <a:lnTo>
                    <a:pt x="365" y="167"/>
                  </a:lnTo>
                  <a:lnTo>
                    <a:pt x="364" y="193"/>
                  </a:lnTo>
                  <a:lnTo>
                    <a:pt x="361" y="218"/>
                  </a:lnTo>
                  <a:lnTo>
                    <a:pt x="353" y="243"/>
                  </a:lnTo>
                  <a:lnTo>
                    <a:pt x="345" y="265"/>
                  </a:lnTo>
                  <a:lnTo>
                    <a:pt x="335" y="288"/>
                  </a:lnTo>
                  <a:lnTo>
                    <a:pt x="321" y="309"/>
                  </a:lnTo>
                  <a:lnTo>
                    <a:pt x="307" y="328"/>
                  </a:lnTo>
                  <a:lnTo>
                    <a:pt x="291" y="347"/>
                  </a:lnTo>
                  <a:lnTo>
                    <a:pt x="272" y="364"/>
                  </a:lnTo>
                  <a:lnTo>
                    <a:pt x="253" y="378"/>
                  </a:lnTo>
                  <a:lnTo>
                    <a:pt x="231" y="391"/>
                  </a:lnTo>
                  <a:lnTo>
                    <a:pt x="209" y="402"/>
                  </a:lnTo>
                  <a:lnTo>
                    <a:pt x="186" y="410"/>
                  </a:lnTo>
                  <a:lnTo>
                    <a:pt x="161" y="418"/>
                  </a:lnTo>
                  <a:lnTo>
                    <a:pt x="136" y="421"/>
                  </a:lnTo>
                  <a:lnTo>
                    <a:pt x="110" y="422"/>
                  </a:lnTo>
                  <a:lnTo>
                    <a:pt x="84" y="421"/>
                  </a:lnTo>
                  <a:lnTo>
                    <a:pt x="59" y="418"/>
                  </a:lnTo>
                  <a:lnTo>
                    <a:pt x="34" y="410"/>
                  </a:lnTo>
                  <a:lnTo>
                    <a:pt x="27" y="408"/>
                  </a:lnTo>
                  <a:lnTo>
                    <a:pt x="24" y="403"/>
                  </a:lnTo>
                  <a:lnTo>
                    <a:pt x="20" y="399"/>
                  </a:lnTo>
                  <a:lnTo>
                    <a:pt x="16" y="394"/>
                  </a:lnTo>
                  <a:lnTo>
                    <a:pt x="13" y="389"/>
                  </a:lnTo>
                  <a:lnTo>
                    <a:pt x="9" y="384"/>
                  </a:lnTo>
                  <a:lnTo>
                    <a:pt x="6" y="379"/>
                  </a:lnTo>
                  <a:lnTo>
                    <a:pt x="3" y="374"/>
                  </a:lnTo>
                  <a:lnTo>
                    <a:pt x="0" y="369"/>
                  </a:lnTo>
                  <a:lnTo>
                    <a:pt x="1" y="369"/>
                  </a:lnTo>
                  <a:lnTo>
                    <a:pt x="21" y="378"/>
                  </a:lnTo>
                  <a:lnTo>
                    <a:pt x="43" y="385"/>
                  </a:lnTo>
                  <a:lnTo>
                    <a:pt x="64" y="391"/>
                  </a:lnTo>
                  <a:lnTo>
                    <a:pt x="86" y="395"/>
                  </a:lnTo>
                  <a:lnTo>
                    <a:pt x="110" y="396"/>
                  </a:lnTo>
                  <a:lnTo>
                    <a:pt x="134" y="395"/>
                  </a:lnTo>
                  <a:lnTo>
                    <a:pt x="157" y="391"/>
                  </a:lnTo>
                  <a:lnTo>
                    <a:pt x="178" y="385"/>
                  </a:lnTo>
                  <a:lnTo>
                    <a:pt x="199" y="378"/>
                  </a:lnTo>
                  <a:lnTo>
                    <a:pt x="219" y="369"/>
                  </a:lnTo>
                  <a:lnTo>
                    <a:pt x="238" y="357"/>
                  </a:lnTo>
                  <a:lnTo>
                    <a:pt x="256" y="344"/>
                  </a:lnTo>
                  <a:lnTo>
                    <a:pt x="272" y="328"/>
                  </a:lnTo>
                  <a:lnTo>
                    <a:pt x="287" y="313"/>
                  </a:lnTo>
                  <a:lnTo>
                    <a:pt x="300" y="295"/>
                  </a:lnTo>
                  <a:lnTo>
                    <a:pt x="312" y="276"/>
                  </a:lnTo>
                  <a:lnTo>
                    <a:pt x="321" y="256"/>
                  </a:lnTo>
                  <a:lnTo>
                    <a:pt x="329" y="234"/>
                  </a:lnTo>
                  <a:lnTo>
                    <a:pt x="335" y="213"/>
                  </a:lnTo>
                  <a:lnTo>
                    <a:pt x="338" y="190"/>
                  </a:lnTo>
                  <a:lnTo>
                    <a:pt x="339" y="167"/>
                  </a:lnTo>
                  <a:lnTo>
                    <a:pt x="365" y="167"/>
                  </a:lnTo>
                  <a:lnTo>
                    <a:pt x="364" y="140"/>
                  </a:lnTo>
                  <a:lnTo>
                    <a:pt x="361" y="115"/>
                  </a:lnTo>
                  <a:lnTo>
                    <a:pt x="353" y="90"/>
                  </a:lnTo>
                  <a:lnTo>
                    <a:pt x="345" y="68"/>
                  </a:lnTo>
                  <a:lnTo>
                    <a:pt x="335" y="45"/>
                  </a:lnTo>
                  <a:lnTo>
                    <a:pt x="321" y="24"/>
                  </a:lnTo>
                  <a:lnTo>
                    <a:pt x="311" y="11"/>
                  </a:lnTo>
                  <a:close/>
                </a:path>
              </a:pathLst>
            </a:custGeom>
            <a:solidFill>
              <a:srgbClr val="ff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89880" y="3733920"/>
              <a:ext cx="158760" cy="193320"/>
            </a:xfrm>
            <a:custGeom>
              <a:avLst/>
              <a:gdLst/>
              <a:ahLst/>
              <a:rect l="l" t="t" r="r" b="b"/>
              <a:pathLst>
                <a:path w="359" h="398">
                  <a:moveTo>
                    <a:pt x="288" y="2"/>
                  </a:moveTo>
                  <a:lnTo>
                    <a:pt x="283" y="1"/>
                  </a:lnTo>
                  <a:lnTo>
                    <a:pt x="279" y="1"/>
                  </a:lnTo>
                  <a:lnTo>
                    <a:pt x="274" y="0"/>
                  </a:lnTo>
                  <a:lnTo>
                    <a:pt x="269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4" y="0"/>
                  </a:lnTo>
                  <a:lnTo>
                    <a:pt x="249" y="0"/>
                  </a:lnTo>
                  <a:lnTo>
                    <a:pt x="248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3" y="0"/>
                  </a:lnTo>
                  <a:lnTo>
                    <a:pt x="259" y="11"/>
                  </a:lnTo>
                  <a:lnTo>
                    <a:pt x="273" y="24"/>
                  </a:lnTo>
                  <a:lnTo>
                    <a:pt x="286" y="38"/>
                  </a:lnTo>
                  <a:lnTo>
                    <a:pt x="298" y="53"/>
                  </a:lnTo>
                  <a:lnTo>
                    <a:pt x="308" y="70"/>
                  </a:lnTo>
                  <a:lnTo>
                    <a:pt x="317" y="88"/>
                  </a:lnTo>
                  <a:lnTo>
                    <a:pt x="324" y="107"/>
                  </a:lnTo>
                  <a:lnTo>
                    <a:pt x="329" y="127"/>
                  </a:lnTo>
                  <a:lnTo>
                    <a:pt x="332" y="147"/>
                  </a:lnTo>
                  <a:lnTo>
                    <a:pt x="333" y="168"/>
                  </a:lnTo>
                  <a:lnTo>
                    <a:pt x="359" y="168"/>
                  </a:lnTo>
                  <a:lnTo>
                    <a:pt x="358" y="191"/>
                  </a:lnTo>
                  <a:lnTo>
                    <a:pt x="355" y="214"/>
                  </a:lnTo>
                  <a:lnTo>
                    <a:pt x="349" y="237"/>
                  </a:lnTo>
                  <a:lnTo>
                    <a:pt x="342" y="257"/>
                  </a:lnTo>
                  <a:lnTo>
                    <a:pt x="332" y="277"/>
                  </a:lnTo>
                  <a:lnTo>
                    <a:pt x="320" y="296"/>
                  </a:lnTo>
                  <a:lnTo>
                    <a:pt x="307" y="314"/>
                  </a:lnTo>
                  <a:lnTo>
                    <a:pt x="292" y="331"/>
                  </a:lnTo>
                  <a:lnTo>
                    <a:pt x="275" y="346"/>
                  </a:lnTo>
                  <a:lnTo>
                    <a:pt x="257" y="359"/>
                  </a:lnTo>
                  <a:lnTo>
                    <a:pt x="238" y="371"/>
                  </a:lnTo>
                  <a:lnTo>
                    <a:pt x="218" y="380"/>
                  </a:lnTo>
                  <a:lnTo>
                    <a:pt x="198" y="388"/>
                  </a:lnTo>
                  <a:lnTo>
                    <a:pt x="176" y="394"/>
                  </a:lnTo>
                  <a:lnTo>
                    <a:pt x="153" y="397"/>
                  </a:lnTo>
                  <a:lnTo>
                    <a:pt x="129" y="398"/>
                  </a:lnTo>
                  <a:lnTo>
                    <a:pt x="105" y="397"/>
                  </a:lnTo>
                  <a:lnTo>
                    <a:pt x="83" y="394"/>
                  </a:lnTo>
                  <a:lnTo>
                    <a:pt x="60" y="388"/>
                  </a:lnTo>
                  <a:lnTo>
                    <a:pt x="40" y="380"/>
                  </a:lnTo>
                  <a:lnTo>
                    <a:pt x="20" y="372"/>
                  </a:lnTo>
                  <a:lnTo>
                    <a:pt x="16" y="366"/>
                  </a:lnTo>
                  <a:lnTo>
                    <a:pt x="14" y="360"/>
                  </a:lnTo>
                  <a:lnTo>
                    <a:pt x="12" y="356"/>
                  </a:lnTo>
                  <a:lnTo>
                    <a:pt x="8" y="350"/>
                  </a:lnTo>
                  <a:lnTo>
                    <a:pt x="6" y="344"/>
                  </a:lnTo>
                  <a:lnTo>
                    <a:pt x="3" y="338"/>
                  </a:lnTo>
                  <a:lnTo>
                    <a:pt x="2" y="332"/>
                  </a:lnTo>
                  <a:lnTo>
                    <a:pt x="0" y="326"/>
                  </a:lnTo>
                  <a:lnTo>
                    <a:pt x="15" y="336"/>
                  </a:lnTo>
                  <a:lnTo>
                    <a:pt x="32" y="347"/>
                  </a:lnTo>
                  <a:lnTo>
                    <a:pt x="50" y="356"/>
                  </a:lnTo>
                  <a:lnTo>
                    <a:pt x="69" y="363"/>
                  </a:lnTo>
                  <a:lnTo>
                    <a:pt x="89" y="367"/>
                  </a:lnTo>
                  <a:lnTo>
                    <a:pt x="109" y="371"/>
                  </a:lnTo>
                  <a:lnTo>
                    <a:pt x="129" y="372"/>
                  </a:lnTo>
                  <a:lnTo>
                    <a:pt x="149" y="371"/>
                  </a:lnTo>
                  <a:lnTo>
                    <a:pt x="170" y="367"/>
                  </a:lnTo>
                  <a:lnTo>
                    <a:pt x="190" y="363"/>
                  </a:lnTo>
                  <a:lnTo>
                    <a:pt x="209" y="356"/>
                  </a:lnTo>
                  <a:lnTo>
                    <a:pt x="227" y="347"/>
                  </a:lnTo>
                  <a:lnTo>
                    <a:pt x="243" y="336"/>
                  </a:lnTo>
                  <a:lnTo>
                    <a:pt x="259" y="325"/>
                  </a:lnTo>
                  <a:lnTo>
                    <a:pt x="273" y="312"/>
                  </a:lnTo>
                  <a:lnTo>
                    <a:pt x="286" y="297"/>
                  </a:lnTo>
                  <a:lnTo>
                    <a:pt x="298" y="282"/>
                  </a:lnTo>
                  <a:lnTo>
                    <a:pt x="308" y="265"/>
                  </a:lnTo>
                  <a:lnTo>
                    <a:pt x="317" y="247"/>
                  </a:lnTo>
                  <a:lnTo>
                    <a:pt x="324" y="228"/>
                  </a:lnTo>
                  <a:lnTo>
                    <a:pt x="329" y="208"/>
                  </a:lnTo>
                  <a:lnTo>
                    <a:pt x="332" y="188"/>
                  </a:lnTo>
                  <a:lnTo>
                    <a:pt x="333" y="168"/>
                  </a:lnTo>
                  <a:lnTo>
                    <a:pt x="359" y="168"/>
                  </a:lnTo>
                  <a:lnTo>
                    <a:pt x="358" y="144"/>
                  </a:lnTo>
                  <a:lnTo>
                    <a:pt x="355" y="121"/>
                  </a:lnTo>
                  <a:lnTo>
                    <a:pt x="349" y="99"/>
                  </a:lnTo>
                  <a:lnTo>
                    <a:pt x="342" y="78"/>
                  </a:lnTo>
                  <a:lnTo>
                    <a:pt x="332" y="58"/>
                  </a:lnTo>
                  <a:lnTo>
                    <a:pt x="320" y="39"/>
                  </a:lnTo>
                  <a:lnTo>
                    <a:pt x="307" y="21"/>
                  </a:lnTo>
                  <a:lnTo>
                    <a:pt x="292" y="5"/>
                  </a:lnTo>
                  <a:lnTo>
                    <a:pt x="288" y="2"/>
                  </a:lnTo>
                  <a:close/>
                </a:path>
              </a:pathLst>
            </a:custGeom>
            <a:solidFill>
              <a:srgbClr val="ff4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85200" y="3733920"/>
              <a:ext cx="151560" cy="181440"/>
            </a:xfrm>
            <a:custGeom>
              <a:avLst/>
              <a:gdLst/>
              <a:ahLst/>
              <a:rect l="l" t="t" r="r" b="b"/>
              <a:pathLst>
                <a:path w="345" h="373">
                  <a:moveTo>
                    <a:pt x="0" y="278"/>
                  </a:moveTo>
                  <a:lnTo>
                    <a:pt x="0" y="284"/>
                  </a:lnTo>
                  <a:lnTo>
                    <a:pt x="2" y="291"/>
                  </a:lnTo>
                  <a:lnTo>
                    <a:pt x="3" y="297"/>
                  </a:lnTo>
                  <a:lnTo>
                    <a:pt x="4" y="303"/>
                  </a:lnTo>
                  <a:lnTo>
                    <a:pt x="5" y="310"/>
                  </a:lnTo>
                  <a:lnTo>
                    <a:pt x="7" y="316"/>
                  </a:lnTo>
                  <a:lnTo>
                    <a:pt x="9" y="322"/>
                  </a:lnTo>
                  <a:lnTo>
                    <a:pt x="11" y="328"/>
                  </a:lnTo>
                  <a:lnTo>
                    <a:pt x="25" y="338"/>
                  </a:lnTo>
                  <a:lnTo>
                    <a:pt x="42" y="348"/>
                  </a:lnTo>
                  <a:lnTo>
                    <a:pt x="60" y="357"/>
                  </a:lnTo>
                  <a:lnTo>
                    <a:pt x="79" y="364"/>
                  </a:lnTo>
                  <a:lnTo>
                    <a:pt x="98" y="369"/>
                  </a:lnTo>
                  <a:lnTo>
                    <a:pt x="118" y="372"/>
                  </a:lnTo>
                  <a:lnTo>
                    <a:pt x="139" y="373"/>
                  </a:lnTo>
                  <a:lnTo>
                    <a:pt x="161" y="372"/>
                  </a:lnTo>
                  <a:lnTo>
                    <a:pt x="181" y="369"/>
                  </a:lnTo>
                  <a:lnTo>
                    <a:pt x="200" y="364"/>
                  </a:lnTo>
                  <a:lnTo>
                    <a:pt x="219" y="357"/>
                  </a:lnTo>
                  <a:lnTo>
                    <a:pt x="237" y="348"/>
                  </a:lnTo>
                  <a:lnTo>
                    <a:pt x="253" y="338"/>
                  </a:lnTo>
                  <a:lnTo>
                    <a:pt x="270" y="326"/>
                  </a:lnTo>
                  <a:lnTo>
                    <a:pt x="284" y="313"/>
                  </a:lnTo>
                  <a:lnTo>
                    <a:pt x="297" y="298"/>
                  </a:lnTo>
                  <a:lnTo>
                    <a:pt x="309" y="282"/>
                  </a:lnTo>
                  <a:lnTo>
                    <a:pt x="320" y="265"/>
                  </a:lnTo>
                  <a:lnTo>
                    <a:pt x="328" y="247"/>
                  </a:lnTo>
                  <a:lnTo>
                    <a:pt x="335" y="228"/>
                  </a:lnTo>
                  <a:lnTo>
                    <a:pt x="340" y="209"/>
                  </a:lnTo>
                  <a:lnTo>
                    <a:pt x="343" y="189"/>
                  </a:lnTo>
                  <a:lnTo>
                    <a:pt x="345" y="168"/>
                  </a:lnTo>
                  <a:lnTo>
                    <a:pt x="317" y="168"/>
                  </a:lnTo>
                  <a:lnTo>
                    <a:pt x="314" y="132"/>
                  </a:lnTo>
                  <a:lnTo>
                    <a:pt x="303" y="99"/>
                  </a:lnTo>
                  <a:lnTo>
                    <a:pt x="286" y="69"/>
                  </a:lnTo>
                  <a:lnTo>
                    <a:pt x="265" y="42"/>
                  </a:lnTo>
                  <a:lnTo>
                    <a:pt x="238" y="20"/>
                  </a:lnTo>
                  <a:lnTo>
                    <a:pt x="208" y="5"/>
                  </a:lnTo>
                  <a:lnTo>
                    <a:pt x="214" y="3"/>
                  </a:lnTo>
                  <a:lnTo>
                    <a:pt x="220" y="2"/>
                  </a:lnTo>
                  <a:lnTo>
                    <a:pt x="226" y="1"/>
                  </a:lnTo>
                  <a:lnTo>
                    <a:pt x="232" y="1"/>
                  </a:lnTo>
                  <a:lnTo>
                    <a:pt x="237" y="0"/>
                  </a:lnTo>
                  <a:lnTo>
                    <a:pt x="242" y="0"/>
                  </a:lnTo>
                  <a:lnTo>
                    <a:pt x="248" y="0"/>
                  </a:lnTo>
                  <a:lnTo>
                    <a:pt x="254" y="0"/>
                  </a:lnTo>
                  <a:lnTo>
                    <a:pt x="270" y="9"/>
                  </a:lnTo>
                  <a:lnTo>
                    <a:pt x="284" y="22"/>
                  </a:lnTo>
                  <a:lnTo>
                    <a:pt x="297" y="37"/>
                  </a:lnTo>
                  <a:lnTo>
                    <a:pt x="309" y="53"/>
                  </a:lnTo>
                  <a:lnTo>
                    <a:pt x="320" y="70"/>
                  </a:lnTo>
                  <a:lnTo>
                    <a:pt x="328" y="88"/>
                  </a:lnTo>
                  <a:lnTo>
                    <a:pt x="335" y="107"/>
                  </a:lnTo>
                  <a:lnTo>
                    <a:pt x="340" y="126"/>
                  </a:lnTo>
                  <a:lnTo>
                    <a:pt x="343" y="146"/>
                  </a:lnTo>
                  <a:lnTo>
                    <a:pt x="345" y="168"/>
                  </a:lnTo>
                  <a:lnTo>
                    <a:pt x="317" y="168"/>
                  </a:lnTo>
                  <a:lnTo>
                    <a:pt x="314" y="203"/>
                  </a:lnTo>
                  <a:lnTo>
                    <a:pt x="303" y="237"/>
                  </a:lnTo>
                  <a:lnTo>
                    <a:pt x="286" y="266"/>
                  </a:lnTo>
                  <a:lnTo>
                    <a:pt x="265" y="294"/>
                  </a:lnTo>
                  <a:lnTo>
                    <a:pt x="238" y="315"/>
                  </a:lnTo>
                  <a:lnTo>
                    <a:pt x="208" y="332"/>
                  </a:lnTo>
                  <a:lnTo>
                    <a:pt x="175" y="342"/>
                  </a:lnTo>
                  <a:lnTo>
                    <a:pt x="139" y="346"/>
                  </a:lnTo>
                  <a:lnTo>
                    <a:pt x="104" y="342"/>
                  </a:lnTo>
                  <a:lnTo>
                    <a:pt x="70" y="332"/>
                  </a:lnTo>
                  <a:lnTo>
                    <a:pt x="41" y="315"/>
                  </a:lnTo>
                  <a:lnTo>
                    <a:pt x="13" y="294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ff5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84480" y="3735720"/>
              <a:ext cx="141120" cy="167040"/>
            </a:xfrm>
            <a:custGeom>
              <a:avLst/>
              <a:gdLst/>
              <a:ahLst/>
              <a:rect l="l" t="t" r="r" b="b"/>
              <a:pathLst>
                <a:path w="320" h="344">
                  <a:moveTo>
                    <a:pt x="2" y="278"/>
                  </a:moveTo>
                  <a:lnTo>
                    <a:pt x="1" y="270"/>
                  </a:lnTo>
                  <a:lnTo>
                    <a:pt x="1" y="263"/>
                  </a:lnTo>
                  <a:lnTo>
                    <a:pt x="0" y="256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1" y="238"/>
                  </a:lnTo>
                  <a:lnTo>
                    <a:pt x="1" y="234"/>
                  </a:lnTo>
                  <a:lnTo>
                    <a:pt x="1" y="229"/>
                  </a:lnTo>
                  <a:lnTo>
                    <a:pt x="14" y="250"/>
                  </a:lnTo>
                  <a:lnTo>
                    <a:pt x="33" y="273"/>
                  </a:lnTo>
                  <a:lnTo>
                    <a:pt x="56" y="292"/>
                  </a:lnTo>
                  <a:lnTo>
                    <a:pt x="82" y="306"/>
                  </a:lnTo>
                  <a:lnTo>
                    <a:pt x="110" y="314"/>
                  </a:lnTo>
                  <a:lnTo>
                    <a:pt x="141" y="318"/>
                  </a:lnTo>
                  <a:lnTo>
                    <a:pt x="172" y="314"/>
                  </a:lnTo>
                  <a:lnTo>
                    <a:pt x="201" y="306"/>
                  </a:lnTo>
                  <a:lnTo>
                    <a:pt x="227" y="292"/>
                  </a:lnTo>
                  <a:lnTo>
                    <a:pt x="249" y="273"/>
                  </a:lnTo>
                  <a:lnTo>
                    <a:pt x="268" y="250"/>
                  </a:lnTo>
                  <a:lnTo>
                    <a:pt x="282" y="224"/>
                  </a:lnTo>
                  <a:lnTo>
                    <a:pt x="291" y="196"/>
                  </a:lnTo>
                  <a:lnTo>
                    <a:pt x="294" y="165"/>
                  </a:lnTo>
                  <a:lnTo>
                    <a:pt x="320" y="165"/>
                  </a:lnTo>
                  <a:lnTo>
                    <a:pt x="317" y="129"/>
                  </a:lnTo>
                  <a:lnTo>
                    <a:pt x="306" y="94"/>
                  </a:lnTo>
                  <a:lnTo>
                    <a:pt x="290" y="65"/>
                  </a:lnTo>
                  <a:lnTo>
                    <a:pt x="268" y="37"/>
                  </a:lnTo>
                  <a:lnTo>
                    <a:pt x="241" y="16"/>
                  </a:lnTo>
                  <a:lnTo>
                    <a:pt x="212" y="0"/>
                  </a:lnTo>
                  <a:lnTo>
                    <a:pt x="206" y="2"/>
                  </a:lnTo>
                  <a:lnTo>
                    <a:pt x="201" y="3"/>
                  </a:lnTo>
                  <a:lnTo>
                    <a:pt x="195" y="5"/>
                  </a:lnTo>
                  <a:lnTo>
                    <a:pt x="189" y="6"/>
                  </a:lnTo>
                  <a:lnTo>
                    <a:pt x="183" y="9"/>
                  </a:lnTo>
                  <a:lnTo>
                    <a:pt x="177" y="10"/>
                  </a:lnTo>
                  <a:lnTo>
                    <a:pt x="171" y="12"/>
                  </a:lnTo>
                  <a:lnTo>
                    <a:pt x="165" y="15"/>
                  </a:lnTo>
                  <a:lnTo>
                    <a:pt x="172" y="15"/>
                  </a:lnTo>
                  <a:lnTo>
                    <a:pt x="201" y="23"/>
                  </a:lnTo>
                  <a:lnTo>
                    <a:pt x="227" y="37"/>
                  </a:lnTo>
                  <a:lnTo>
                    <a:pt x="249" y="56"/>
                  </a:lnTo>
                  <a:lnTo>
                    <a:pt x="268" y="79"/>
                  </a:lnTo>
                  <a:lnTo>
                    <a:pt x="282" y="105"/>
                  </a:lnTo>
                  <a:lnTo>
                    <a:pt x="291" y="134"/>
                  </a:lnTo>
                  <a:lnTo>
                    <a:pt x="294" y="165"/>
                  </a:lnTo>
                  <a:lnTo>
                    <a:pt x="320" y="165"/>
                  </a:lnTo>
                  <a:lnTo>
                    <a:pt x="317" y="200"/>
                  </a:lnTo>
                  <a:lnTo>
                    <a:pt x="306" y="235"/>
                  </a:lnTo>
                  <a:lnTo>
                    <a:pt x="290" y="264"/>
                  </a:lnTo>
                  <a:lnTo>
                    <a:pt x="268" y="292"/>
                  </a:lnTo>
                  <a:lnTo>
                    <a:pt x="241" y="313"/>
                  </a:lnTo>
                  <a:lnTo>
                    <a:pt x="211" y="330"/>
                  </a:lnTo>
                  <a:lnTo>
                    <a:pt x="177" y="341"/>
                  </a:lnTo>
                  <a:lnTo>
                    <a:pt x="141" y="344"/>
                  </a:lnTo>
                  <a:lnTo>
                    <a:pt x="106" y="341"/>
                  </a:lnTo>
                  <a:lnTo>
                    <a:pt x="71" y="330"/>
                  </a:lnTo>
                  <a:lnTo>
                    <a:pt x="42" y="313"/>
                  </a:lnTo>
                  <a:lnTo>
                    <a:pt x="14" y="292"/>
                  </a:lnTo>
                  <a:lnTo>
                    <a:pt x="2" y="278"/>
                  </a:lnTo>
                  <a:close/>
                </a:path>
              </a:pathLst>
            </a:custGeom>
            <a:solidFill>
              <a:srgbClr val="ff6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85200" y="3741480"/>
              <a:ext cx="129600" cy="148680"/>
            </a:xfrm>
            <a:custGeom>
              <a:avLst/>
              <a:gdLst/>
              <a:ahLst/>
              <a:rect l="l" t="t" r="r" b="b"/>
              <a:pathLst>
                <a:path w="294" h="305">
                  <a:moveTo>
                    <a:pt x="13" y="155"/>
                  </a:moveTo>
                  <a:lnTo>
                    <a:pt x="11" y="162"/>
                  </a:lnTo>
                  <a:lnTo>
                    <a:pt x="8" y="170"/>
                  </a:lnTo>
                  <a:lnTo>
                    <a:pt x="6" y="178"/>
                  </a:lnTo>
                  <a:lnTo>
                    <a:pt x="5" y="185"/>
                  </a:lnTo>
                  <a:lnTo>
                    <a:pt x="3" y="193"/>
                  </a:lnTo>
                  <a:lnTo>
                    <a:pt x="1" y="201"/>
                  </a:lnTo>
                  <a:lnTo>
                    <a:pt x="1" y="209"/>
                  </a:lnTo>
                  <a:lnTo>
                    <a:pt x="0" y="216"/>
                  </a:lnTo>
                  <a:lnTo>
                    <a:pt x="12" y="236"/>
                  </a:lnTo>
                  <a:lnTo>
                    <a:pt x="31" y="260"/>
                  </a:lnTo>
                  <a:lnTo>
                    <a:pt x="55" y="279"/>
                  </a:lnTo>
                  <a:lnTo>
                    <a:pt x="81" y="293"/>
                  </a:lnTo>
                  <a:lnTo>
                    <a:pt x="109" y="302"/>
                  </a:lnTo>
                  <a:lnTo>
                    <a:pt x="140" y="305"/>
                  </a:lnTo>
                  <a:lnTo>
                    <a:pt x="171" y="302"/>
                  </a:lnTo>
                  <a:lnTo>
                    <a:pt x="200" y="293"/>
                  </a:lnTo>
                  <a:lnTo>
                    <a:pt x="226" y="279"/>
                  </a:lnTo>
                  <a:lnTo>
                    <a:pt x="249" y="260"/>
                  </a:lnTo>
                  <a:lnTo>
                    <a:pt x="268" y="236"/>
                  </a:lnTo>
                  <a:lnTo>
                    <a:pt x="283" y="210"/>
                  </a:lnTo>
                  <a:lnTo>
                    <a:pt x="291" y="182"/>
                  </a:lnTo>
                  <a:lnTo>
                    <a:pt x="294" y="151"/>
                  </a:lnTo>
                  <a:lnTo>
                    <a:pt x="267" y="151"/>
                  </a:lnTo>
                  <a:lnTo>
                    <a:pt x="265" y="124"/>
                  </a:lnTo>
                  <a:lnTo>
                    <a:pt x="258" y="101"/>
                  </a:lnTo>
                  <a:lnTo>
                    <a:pt x="246" y="79"/>
                  </a:lnTo>
                  <a:lnTo>
                    <a:pt x="230" y="60"/>
                  </a:lnTo>
                  <a:lnTo>
                    <a:pt x="211" y="45"/>
                  </a:lnTo>
                  <a:lnTo>
                    <a:pt x="190" y="33"/>
                  </a:lnTo>
                  <a:lnTo>
                    <a:pt x="166" y="26"/>
                  </a:lnTo>
                  <a:lnTo>
                    <a:pt x="140" y="23"/>
                  </a:lnTo>
                  <a:lnTo>
                    <a:pt x="115" y="26"/>
                  </a:lnTo>
                  <a:lnTo>
                    <a:pt x="121" y="22"/>
                  </a:lnTo>
                  <a:lnTo>
                    <a:pt x="127" y="19"/>
                  </a:lnTo>
                  <a:lnTo>
                    <a:pt x="133" y="15"/>
                  </a:lnTo>
                  <a:lnTo>
                    <a:pt x="140" y="11"/>
                  </a:lnTo>
                  <a:lnTo>
                    <a:pt x="146" y="8"/>
                  </a:lnTo>
                  <a:lnTo>
                    <a:pt x="153" y="5"/>
                  </a:lnTo>
                  <a:lnTo>
                    <a:pt x="159" y="2"/>
                  </a:lnTo>
                  <a:lnTo>
                    <a:pt x="166" y="0"/>
                  </a:lnTo>
                  <a:lnTo>
                    <a:pt x="171" y="0"/>
                  </a:lnTo>
                  <a:lnTo>
                    <a:pt x="200" y="8"/>
                  </a:lnTo>
                  <a:lnTo>
                    <a:pt x="226" y="22"/>
                  </a:lnTo>
                  <a:lnTo>
                    <a:pt x="249" y="41"/>
                  </a:lnTo>
                  <a:lnTo>
                    <a:pt x="268" y="65"/>
                  </a:lnTo>
                  <a:lnTo>
                    <a:pt x="283" y="91"/>
                  </a:lnTo>
                  <a:lnTo>
                    <a:pt x="291" y="120"/>
                  </a:lnTo>
                  <a:lnTo>
                    <a:pt x="294" y="151"/>
                  </a:lnTo>
                  <a:lnTo>
                    <a:pt x="267" y="151"/>
                  </a:lnTo>
                  <a:lnTo>
                    <a:pt x="265" y="177"/>
                  </a:lnTo>
                  <a:lnTo>
                    <a:pt x="258" y="201"/>
                  </a:lnTo>
                  <a:lnTo>
                    <a:pt x="246" y="222"/>
                  </a:lnTo>
                  <a:lnTo>
                    <a:pt x="230" y="241"/>
                  </a:lnTo>
                  <a:lnTo>
                    <a:pt x="211" y="256"/>
                  </a:lnTo>
                  <a:lnTo>
                    <a:pt x="190" y="268"/>
                  </a:lnTo>
                  <a:lnTo>
                    <a:pt x="166" y="275"/>
                  </a:lnTo>
                  <a:lnTo>
                    <a:pt x="140" y="278"/>
                  </a:lnTo>
                  <a:lnTo>
                    <a:pt x="114" y="275"/>
                  </a:lnTo>
                  <a:lnTo>
                    <a:pt x="90" y="268"/>
                  </a:lnTo>
                  <a:lnTo>
                    <a:pt x="69" y="256"/>
                  </a:lnTo>
                  <a:lnTo>
                    <a:pt x="50" y="241"/>
                  </a:lnTo>
                  <a:lnTo>
                    <a:pt x="35" y="222"/>
                  </a:lnTo>
                  <a:lnTo>
                    <a:pt x="23" y="201"/>
                  </a:lnTo>
                  <a:lnTo>
                    <a:pt x="16" y="177"/>
                  </a:lnTo>
                  <a:lnTo>
                    <a:pt x="13" y="155"/>
                  </a:lnTo>
                  <a:close/>
                </a:path>
              </a:pathLst>
            </a:custGeom>
            <a:solidFill>
              <a:srgbClr val="ff7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90600" y="3753000"/>
              <a:ext cx="113040" cy="124200"/>
            </a:xfrm>
            <a:custGeom>
              <a:avLst/>
              <a:gdLst/>
              <a:ahLst/>
              <a:rect l="l" t="t" r="r" b="b"/>
              <a:pathLst>
                <a:path w="256" h="257">
                  <a:moveTo>
                    <a:pt x="104" y="3"/>
                  </a:moveTo>
                  <a:lnTo>
                    <a:pt x="87" y="16"/>
                  </a:lnTo>
                  <a:lnTo>
                    <a:pt x="70" y="29"/>
                  </a:lnTo>
                  <a:lnTo>
                    <a:pt x="55" y="44"/>
                  </a:lnTo>
                  <a:lnTo>
                    <a:pt x="42" y="61"/>
                  </a:lnTo>
                  <a:lnTo>
                    <a:pt x="29" y="77"/>
                  </a:lnTo>
                  <a:lnTo>
                    <a:pt x="18" y="96"/>
                  </a:lnTo>
                  <a:lnTo>
                    <a:pt x="8" y="115"/>
                  </a:lnTo>
                  <a:lnTo>
                    <a:pt x="0" y="136"/>
                  </a:lnTo>
                  <a:lnTo>
                    <a:pt x="2" y="155"/>
                  </a:lnTo>
                  <a:lnTo>
                    <a:pt x="11" y="179"/>
                  </a:lnTo>
                  <a:lnTo>
                    <a:pt x="23" y="200"/>
                  </a:lnTo>
                  <a:lnTo>
                    <a:pt x="38" y="219"/>
                  </a:lnTo>
                  <a:lnTo>
                    <a:pt x="57" y="234"/>
                  </a:lnTo>
                  <a:lnTo>
                    <a:pt x="78" y="246"/>
                  </a:lnTo>
                  <a:lnTo>
                    <a:pt x="102" y="255"/>
                  </a:lnTo>
                  <a:lnTo>
                    <a:pt x="128" y="257"/>
                  </a:lnTo>
                  <a:lnTo>
                    <a:pt x="154" y="255"/>
                  </a:lnTo>
                  <a:lnTo>
                    <a:pt x="178" y="246"/>
                  </a:lnTo>
                  <a:lnTo>
                    <a:pt x="199" y="234"/>
                  </a:lnTo>
                  <a:lnTo>
                    <a:pt x="218" y="219"/>
                  </a:lnTo>
                  <a:lnTo>
                    <a:pt x="234" y="200"/>
                  </a:lnTo>
                  <a:lnTo>
                    <a:pt x="246" y="179"/>
                  </a:lnTo>
                  <a:lnTo>
                    <a:pt x="254" y="155"/>
                  </a:lnTo>
                  <a:lnTo>
                    <a:pt x="256" y="129"/>
                  </a:lnTo>
                  <a:lnTo>
                    <a:pt x="230" y="129"/>
                  </a:lnTo>
                  <a:lnTo>
                    <a:pt x="228" y="108"/>
                  </a:lnTo>
                  <a:lnTo>
                    <a:pt x="222" y="89"/>
                  </a:lnTo>
                  <a:lnTo>
                    <a:pt x="212" y="71"/>
                  </a:lnTo>
                  <a:lnTo>
                    <a:pt x="201" y="56"/>
                  </a:lnTo>
                  <a:lnTo>
                    <a:pt x="185" y="44"/>
                  </a:lnTo>
                  <a:lnTo>
                    <a:pt x="167" y="35"/>
                  </a:lnTo>
                  <a:lnTo>
                    <a:pt x="148" y="29"/>
                  </a:lnTo>
                  <a:lnTo>
                    <a:pt x="128" y="26"/>
                  </a:lnTo>
                  <a:lnTo>
                    <a:pt x="108" y="29"/>
                  </a:lnTo>
                  <a:lnTo>
                    <a:pt x="89" y="35"/>
                  </a:lnTo>
                  <a:lnTo>
                    <a:pt x="71" y="44"/>
                  </a:lnTo>
                  <a:lnTo>
                    <a:pt x="56" y="56"/>
                  </a:lnTo>
                  <a:lnTo>
                    <a:pt x="44" y="71"/>
                  </a:lnTo>
                  <a:lnTo>
                    <a:pt x="34" y="89"/>
                  </a:lnTo>
                  <a:lnTo>
                    <a:pt x="29" y="108"/>
                  </a:lnTo>
                  <a:lnTo>
                    <a:pt x="26" y="129"/>
                  </a:lnTo>
                  <a:lnTo>
                    <a:pt x="29" y="149"/>
                  </a:lnTo>
                  <a:lnTo>
                    <a:pt x="34" y="168"/>
                  </a:lnTo>
                  <a:lnTo>
                    <a:pt x="44" y="186"/>
                  </a:lnTo>
                  <a:lnTo>
                    <a:pt x="56" y="201"/>
                  </a:lnTo>
                  <a:lnTo>
                    <a:pt x="71" y="213"/>
                  </a:lnTo>
                  <a:lnTo>
                    <a:pt x="89" y="223"/>
                  </a:lnTo>
                  <a:lnTo>
                    <a:pt x="108" y="228"/>
                  </a:lnTo>
                  <a:lnTo>
                    <a:pt x="128" y="231"/>
                  </a:lnTo>
                  <a:lnTo>
                    <a:pt x="148" y="228"/>
                  </a:lnTo>
                  <a:lnTo>
                    <a:pt x="167" y="223"/>
                  </a:lnTo>
                  <a:lnTo>
                    <a:pt x="185" y="213"/>
                  </a:lnTo>
                  <a:lnTo>
                    <a:pt x="201" y="201"/>
                  </a:lnTo>
                  <a:lnTo>
                    <a:pt x="212" y="186"/>
                  </a:lnTo>
                  <a:lnTo>
                    <a:pt x="222" y="168"/>
                  </a:lnTo>
                  <a:lnTo>
                    <a:pt x="228" y="149"/>
                  </a:lnTo>
                  <a:lnTo>
                    <a:pt x="230" y="129"/>
                  </a:lnTo>
                  <a:lnTo>
                    <a:pt x="256" y="129"/>
                  </a:lnTo>
                  <a:lnTo>
                    <a:pt x="254" y="102"/>
                  </a:lnTo>
                  <a:lnTo>
                    <a:pt x="246" y="79"/>
                  </a:lnTo>
                  <a:lnTo>
                    <a:pt x="234" y="57"/>
                  </a:lnTo>
                  <a:lnTo>
                    <a:pt x="218" y="38"/>
                  </a:lnTo>
                  <a:lnTo>
                    <a:pt x="199" y="23"/>
                  </a:lnTo>
                  <a:lnTo>
                    <a:pt x="178" y="11"/>
                  </a:lnTo>
                  <a:lnTo>
                    <a:pt x="154" y="3"/>
                  </a:lnTo>
                  <a:lnTo>
                    <a:pt x="128" y="0"/>
                  </a:lnTo>
                  <a:lnTo>
                    <a:pt x="104" y="3"/>
                  </a:lnTo>
                  <a:close/>
                </a:path>
              </a:pathLst>
            </a:custGeom>
            <a:solidFill>
              <a:srgbClr val="ff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01040" y="3764880"/>
              <a:ext cx="90720" cy="101160"/>
            </a:xfrm>
            <a:custGeom>
              <a:avLst/>
              <a:gdLst/>
              <a:ahLst/>
              <a:rect l="l" t="t" r="r" b="b"/>
              <a:pathLst>
                <a:path w="206" h="207">
                  <a:moveTo>
                    <a:pt x="206" y="104"/>
                  </a:moveTo>
                  <a:lnTo>
                    <a:pt x="204" y="82"/>
                  </a:lnTo>
                  <a:lnTo>
                    <a:pt x="198" y="63"/>
                  </a:lnTo>
                  <a:lnTo>
                    <a:pt x="189" y="45"/>
                  </a:lnTo>
                  <a:lnTo>
                    <a:pt x="177" y="30"/>
                  </a:lnTo>
                  <a:lnTo>
                    <a:pt x="161" y="18"/>
                  </a:lnTo>
                  <a:lnTo>
                    <a:pt x="144" y="8"/>
                  </a:lnTo>
                  <a:lnTo>
                    <a:pt x="125" y="2"/>
                  </a:lnTo>
                  <a:lnTo>
                    <a:pt x="103" y="0"/>
                  </a:lnTo>
                  <a:lnTo>
                    <a:pt x="82" y="2"/>
                  </a:lnTo>
                  <a:lnTo>
                    <a:pt x="63" y="8"/>
                  </a:lnTo>
                  <a:lnTo>
                    <a:pt x="45" y="18"/>
                  </a:lnTo>
                  <a:lnTo>
                    <a:pt x="31" y="30"/>
                  </a:lnTo>
                  <a:lnTo>
                    <a:pt x="18" y="45"/>
                  </a:lnTo>
                  <a:lnTo>
                    <a:pt x="8" y="63"/>
                  </a:lnTo>
                  <a:lnTo>
                    <a:pt x="2" y="82"/>
                  </a:lnTo>
                  <a:lnTo>
                    <a:pt x="0" y="104"/>
                  </a:lnTo>
                  <a:lnTo>
                    <a:pt x="2" y="125"/>
                  </a:lnTo>
                  <a:lnTo>
                    <a:pt x="8" y="144"/>
                  </a:lnTo>
                  <a:lnTo>
                    <a:pt x="18" y="162"/>
                  </a:lnTo>
                  <a:lnTo>
                    <a:pt x="31" y="176"/>
                  </a:lnTo>
                  <a:lnTo>
                    <a:pt x="45" y="189"/>
                  </a:lnTo>
                  <a:lnTo>
                    <a:pt x="63" y="199"/>
                  </a:lnTo>
                  <a:lnTo>
                    <a:pt x="82" y="205"/>
                  </a:lnTo>
                  <a:lnTo>
                    <a:pt x="103" y="207"/>
                  </a:lnTo>
                  <a:lnTo>
                    <a:pt x="125" y="205"/>
                  </a:lnTo>
                  <a:lnTo>
                    <a:pt x="144" y="199"/>
                  </a:lnTo>
                  <a:lnTo>
                    <a:pt x="161" y="189"/>
                  </a:lnTo>
                  <a:lnTo>
                    <a:pt x="177" y="176"/>
                  </a:lnTo>
                  <a:lnTo>
                    <a:pt x="189" y="162"/>
                  </a:lnTo>
                  <a:lnTo>
                    <a:pt x="198" y="144"/>
                  </a:lnTo>
                  <a:lnTo>
                    <a:pt x="204" y="125"/>
                  </a:lnTo>
                  <a:lnTo>
                    <a:pt x="206" y="104"/>
                  </a:lnTo>
                  <a:lnTo>
                    <a:pt x="180" y="104"/>
                  </a:lnTo>
                  <a:lnTo>
                    <a:pt x="179" y="88"/>
                  </a:lnTo>
                  <a:lnTo>
                    <a:pt x="174" y="74"/>
                  </a:lnTo>
                  <a:lnTo>
                    <a:pt x="167" y="61"/>
                  </a:lnTo>
                  <a:lnTo>
                    <a:pt x="158" y="49"/>
                  </a:lnTo>
                  <a:lnTo>
                    <a:pt x="146" y="39"/>
                  </a:lnTo>
                  <a:lnTo>
                    <a:pt x="133" y="32"/>
                  </a:lnTo>
                  <a:lnTo>
                    <a:pt x="119" y="27"/>
                  </a:lnTo>
                  <a:lnTo>
                    <a:pt x="103" y="26"/>
                  </a:lnTo>
                  <a:lnTo>
                    <a:pt x="88" y="27"/>
                  </a:lnTo>
                  <a:lnTo>
                    <a:pt x="74" y="32"/>
                  </a:lnTo>
                  <a:lnTo>
                    <a:pt x="61" y="39"/>
                  </a:lnTo>
                  <a:lnTo>
                    <a:pt x="49" y="49"/>
                  </a:lnTo>
                  <a:lnTo>
                    <a:pt x="39" y="61"/>
                  </a:lnTo>
                  <a:lnTo>
                    <a:pt x="32" y="74"/>
                  </a:lnTo>
                  <a:lnTo>
                    <a:pt x="27" y="88"/>
                  </a:lnTo>
                  <a:lnTo>
                    <a:pt x="26" y="104"/>
                  </a:lnTo>
                  <a:lnTo>
                    <a:pt x="27" y="119"/>
                  </a:lnTo>
                  <a:lnTo>
                    <a:pt x="32" y="133"/>
                  </a:lnTo>
                  <a:lnTo>
                    <a:pt x="39" y="146"/>
                  </a:lnTo>
                  <a:lnTo>
                    <a:pt x="49" y="158"/>
                  </a:lnTo>
                  <a:lnTo>
                    <a:pt x="61" y="168"/>
                  </a:lnTo>
                  <a:lnTo>
                    <a:pt x="74" y="175"/>
                  </a:lnTo>
                  <a:lnTo>
                    <a:pt x="88" y="180"/>
                  </a:lnTo>
                  <a:lnTo>
                    <a:pt x="103" y="181"/>
                  </a:lnTo>
                  <a:lnTo>
                    <a:pt x="119" y="180"/>
                  </a:lnTo>
                  <a:lnTo>
                    <a:pt x="133" y="175"/>
                  </a:lnTo>
                  <a:lnTo>
                    <a:pt x="146" y="168"/>
                  </a:lnTo>
                  <a:lnTo>
                    <a:pt x="158" y="158"/>
                  </a:lnTo>
                  <a:lnTo>
                    <a:pt x="167" y="146"/>
                  </a:lnTo>
                  <a:lnTo>
                    <a:pt x="174" y="133"/>
                  </a:lnTo>
                  <a:lnTo>
                    <a:pt x="179" y="119"/>
                  </a:lnTo>
                  <a:lnTo>
                    <a:pt x="180" y="104"/>
                  </a:lnTo>
                  <a:lnTo>
                    <a:pt x="206" y="104"/>
                  </a:lnTo>
                  <a:close/>
                </a:path>
              </a:pathLst>
            </a:custGeom>
            <a:solidFill>
              <a:srgbClr val="ffa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1840" y="3777480"/>
              <a:ext cx="69480" cy="75600"/>
            </a:xfrm>
            <a:custGeom>
              <a:avLst/>
              <a:gdLst/>
              <a:ahLst/>
              <a:rect l="l" t="t" r="r" b="b"/>
              <a:pathLst>
                <a:path w="157" h="157">
                  <a:moveTo>
                    <a:pt x="157" y="79"/>
                  </a:moveTo>
                  <a:lnTo>
                    <a:pt x="155" y="63"/>
                  </a:lnTo>
                  <a:lnTo>
                    <a:pt x="151" y="48"/>
                  </a:lnTo>
                  <a:lnTo>
                    <a:pt x="143" y="35"/>
                  </a:lnTo>
                  <a:lnTo>
                    <a:pt x="134" y="23"/>
                  </a:lnTo>
                  <a:lnTo>
                    <a:pt x="122" y="13"/>
                  </a:lnTo>
                  <a:lnTo>
                    <a:pt x="109" y="6"/>
                  </a:lnTo>
                  <a:lnTo>
                    <a:pt x="94" y="1"/>
                  </a:lnTo>
                  <a:lnTo>
                    <a:pt x="78" y="0"/>
                  </a:lnTo>
                  <a:lnTo>
                    <a:pt x="63" y="1"/>
                  </a:lnTo>
                  <a:lnTo>
                    <a:pt x="49" y="6"/>
                  </a:lnTo>
                  <a:lnTo>
                    <a:pt x="34" y="13"/>
                  </a:lnTo>
                  <a:lnTo>
                    <a:pt x="24" y="23"/>
                  </a:lnTo>
                  <a:lnTo>
                    <a:pt x="13" y="35"/>
                  </a:lnTo>
                  <a:lnTo>
                    <a:pt x="6" y="48"/>
                  </a:lnTo>
                  <a:lnTo>
                    <a:pt x="1" y="63"/>
                  </a:lnTo>
                  <a:lnTo>
                    <a:pt x="0" y="79"/>
                  </a:lnTo>
                  <a:lnTo>
                    <a:pt x="1" y="94"/>
                  </a:lnTo>
                  <a:lnTo>
                    <a:pt x="6" y="108"/>
                  </a:lnTo>
                  <a:lnTo>
                    <a:pt x="13" y="123"/>
                  </a:lnTo>
                  <a:lnTo>
                    <a:pt x="24" y="133"/>
                  </a:lnTo>
                  <a:lnTo>
                    <a:pt x="34" y="144"/>
                  </a:lnTo>
                  <a:lnTo>
                    <a:pt x="49" y="151"/>
                  </a:lnTo>
                  <a:lnTo>
                    <a:pt x="63" y="156"/>
                  </a:lnTo>
                  <a:lnTo>
                    <a:pt x="78" y="157"/>
                  </a:lnTo>
                  <a:lnTo>
                    <a:pt x="94" y="156"/>
                  </a:lnTo>
                  <a:lnTo>
                    <a:pt x="109" y="151"/>
                  </a:lnTo>
                  <a:lnTo>
                    <a:pt x="122" y="144"/>
                  </a:lnTo>
                  <a:lnTo>
                    <a:pt x="134" y="133"/>
                  </a:lnTo>
                  <a:lnTo>
                    <a:pt x="143" y="123"/>
                  </a:lnTo>
                  <a:lnTo>
                    <a:pt x="151" y="108"/>
                  </a:lnTo>
                  <a:lnTo>
                    <a:pt x="155" y="94"/>
                  </a:lnTo>
                  <a:lnTo>
                    <a:pt x="157" y="79"/>
                  </a:lnTo>
                  <a:lnTo>
                    <a:pt x="129" y="79"/>
                  </a:lnTo>
                  <a:lnTo>
                    <a:pt x="128" y="69"/>
                  </a:lnTo>
                  <a:lnTo>
                    <a:pt x="126" y="60"/>
                  </a:lnTo>
                  <a:lnTo>
                    <a:pt x="120" y="50"/>
                  </a:lnTo>
                  <a:lnTo>
                    <a:pt x="114" y="43"/>
                  </a:lnTo>
                  <a:lnTo>
                    <a:pt x="107" y="37"/>
                  </a:lnTo>
                  <a:lnTo>
                    <a:pt x="97" y="31"/>
                  </a:lnTo>
                  <a:lnTo>
                    <a:pt x="88" y="29"/>
                  </a:lnTo>
                  <a:lnTo>
                    <a:pt x="78" y="27"/>
                  </a:lnTo>
                  <a:lnTo>
                    <a:pt x="69" y="29"/>
                  </a:lnTo>
                  <a:lnTo>
                    <a:pt x="59" y="31"/>
                  </a:lnTo>
                  <a:lnTo>
                    <a:pt x="50" y="37"/>
                  </a:lnTo>
                  <a:lnTo>
                    <a:pt x="43" y="43"/>
                  </a:lnTo>
                  <a:lnTo>
                    <a:pt x="37" y="50"/>
                  </a:lnTo>
                  <a:lnTo>
                    <a:pt x="31" y="60"/>
                  </a:lnTo>
                  <a:lnTo>
                    <a:pt x="28" y="69"/>
                  </a:lnTo>
                  <a:lnTo>
                    <a:pt x="27" y="79"/>
                  </a:lnTo>
                  <a:lnTo>
                    <a:pt x="28" y="88"/>
                  </a:lnTo>
                  <a:lnTo>
                    <a:pt x="31" y="98"/>
                  </a:lnTo>
                  <a:lnTo>
                    <a:pt x="37" y="107"/>
                  </a:lnTo>
                  <a:lnTo>
                    <a:pt x="43" y="114"/>
                  </a:lnTo>
                  <a:lnTo>
                    <a:pt x="50" y="120"/>
                  </a:lnTo>
                  <a:lnTo>
                    <a:pt x="59" y="126"/>
                  </a:lnTo>
                  <a:lnTo>
                    <a:pt x="69" y="129"/>
                  </a:lnTo>
                  <a:lnTo>
                    <a:pt x="78" y="130"/>
                  </a:lnTo>
                  <a:lnTo>
                    <a:pt x="88" y="129"/>
                  </a:lnTo>
                  <a:lnTo>
                    <a:pt x="97" y="126"/>
                  </a:lnTo>
                  <a:lnTo>
                    <a:pt x="107" y="120"/>
                  </a:lnTo>
                  <a:lnTo>
                    <a:pt x="114" y="114"/>
                  </a:lnTo>
                  <a:lnTo>
                    <a:pt x="120" y="107"/>
                  </a:lnTo>
                  <a:lnTo>
                    <a:pt x="126" y="98"/>
                  </a:lnTo>
                  <a:lnTo>
                    <a:pt x="128" y="88"/>
                  </a:lnTo>
                  <a:lnTo>
                    <a:pt x="129" y="79"/>
                  </a:lnTo>
                  <a:lnTo>
                    <a:pt x="157" y="79"/>
                  </a:lnTo>
                  <a:close/>
                </a:path>
              </a:pathLst>
            </a:custGeom>
            <a:solidFill>
              <a:srgbClr val="f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24080" y="3790080"/>
              <a:ext cx="45720" cy="5040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04" y="53"/>
                  </a:moveTo>
                  <a:lnTo>
                    <a:pt x="103" y="42"/>
                  </a:lnTo>
                  <a:lnTo>
                    <a:pt x="101" y="32"/>
                  </a:lnTo>
                  <a:lnTo>
                    <a:pt x="95" y="24"/>
                  </a:lnTo>
                  <a:lnTo>
                    <a:pt x="89" y="16"/>
                  </a:lnTo>
                  <a:lnTo>
                    <a:pt x="81" y="10"/>
                  </a:lnTo>
                  <a:lnTo>
                    <a:pt x="72" y="4"/>
                  </a:lnTo>
                  <a:lnTo>
                    <a:pt x="63" y="1"/>
                  </a:lnTo>
                  <a:lnTo>
                    <a:pt x="52" y="0"/>
                  </a:lnTo>
                  <a:lnTo>
                    <a:pt x="42" y="1"/>
                  </a:lnTo>
                  <a:lnTo>
                    <a:pt x="32" y="4"/>
                  </a:lnTo>
                  <a:lnTo>
                    <a:pt x="24" y="10"/>
                  </a:lnTo>
                  <a:lnTo>
                    <a:pt x="15" y="16"/>
                  </a:lnTo>
                  <a:lnTo>
                    <a:pt x="10" y="24"/>
                  </a:lnTo>
                  <a:lnTo>
                    <a:pt x="5" y="32"/>
                  </a:lnTo>
                  <a:lnTo>
                    <a:pt x="1" y="42"/>
                  </a:lnTo>
                  <a:lnTo>
                    <a:pt x="0" y="53"/>
                  </a:lnTo>
                  <a:lnTo>
                    <a:pt x="1" y="63"/>
                  </a:lnTo>
                  <a:lnTo>
                    <a:pt x="5" y="73"/>
                  </a:lnTo>
                  <a:lnTo>
                    <a:pt x="10" y="81"/>
                  </a:lnTo>
                  <a:lnTo>
                    <a:pt x="15" y="89"/>
                  </a:lnTo>
                  <a:lnTo>
                    <a:pt x="24" y="95"/>
                  </a:lnTo>
                  <a:lnTo>
                    <a:pt x="32" y="100"/>
                  </a:lnTo>
                  <a:lnTo>
                    <a:pt x="42" y="104"/>
                  </a:lnTo>
                  <a:lnTo>
                    <a:pt x="52" y="105"/>
                  </a:lnTo>
                  <a:lnTo>
                    <a:pt x="63" y="104"/>
                  </a:lnTo>
                  <a:lnTo>
                    <a:pt x="72" y="100"/>
                  </a:lnTo>
                  <a:lnTo>
                    <a:pt x="81" y="95"/>
                  </a:lnTo>
                  <a:lnTo>
                    <a:pt x="89" y="89"/>
                  </a:lnTo>
                  <a:lnTo>
                    <a:pt x="95" y="81"/>
                  </a:lnTo>
                  <a:lnTo>
                    <a:pt x="101" y="73"/>
                  </a:lnTo>
                  <a:lnTo>
                    <a:pt x="103" y="63"/>
                  </a:lnTo>
                  <a:lnTo>
                    <a:pt x="104" y="53"/>
                  </a:lnTo>
                  <a:lnTo>
                    <a:pt x="104" y="53"/>
                  </a:lnTo>
                  <a:close/>
                </a:path>
              </a:pathLst>
            </a:custGeom>
            <a:solidFill>
              <a:srgbClr val="f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4880" y="3801960"/>
              <a:ext cx="23760" cy="2592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28"/>
                  </a:moveTo>
                  <a:lnTo>
                    <a:pt x="52" y="17"/>
                  </a:lnTo>
                  <a:lnTo>
                    <a:pt x="46" y="9"/>
                  </a:lnTo>
                  <a:lnTo>
                    <a:pt x="38" y="3"/>
                  </a:lnTo>
                  <a:lnTo>
                    <a:pt x="27" y="0"/>
                  </a:lnTo>
                  <a:lnTo>
                    <a:pt x="17" y="3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2" y="38"/>
                  </a:lnTo>
                  <a:lnTo>
                    <a:pt x="8" y="47"/>
                  </a:lnTo>
                  <a:lnTo>
                    <a:pt x="17" y="53"/>
                  </a:lnTo>
                  <a:lnTo>
                    <a:pt x="27" y="55"/>
                  </a:lnTo>
                  <a:lnTo>
                    <a:pt x="38" y="53"/>
                  </a:lnTo>
                  <a:lnTo>
                    <a:pt x="46" y="47"/>
                  </a:lnTo>
                  <a:lnTo>
                    <a:pt x="52" y="38"/>
                  </a:lnTo>
                  <a:lnTo>
                    <a:pt x="55" y="28"/>
                  </a:lnTo>
                  <a:lnTo>
                    <a:pt x="55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354120" y="39625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kredita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85800" y="3637080"/>
            <a:ext cx="229680" cy="244080"/>
            <a:chOff x="685800" y="3637080"/>
            <a:chExt cx="229680" cy="244080"/>
          </a:xfrm>
        </p:grpSpPr>
        <p:sp>
          <p:nvSpPr>
            <p:cNvPr id="176" name=""/>
            <p:cNvSpPr/>
            <p:nvPr/>
          </p:nvSpPr>
          <p:spPr>
            <a:xfrm>
              <a:off x="779400" y="3736080"/>
              <a:ext cx="27000" cy="57960"/>
            </a:xfrm>
            <a:custGeom>
              <a:avLst/>
              <a:gdLst/>
              <a:ahLst/>
              <a:rect l="l" t="t" r="r" b="b"/>
              <a:pathLst>
                <a:path w="62" h="119">
                  <a:moveTo>
                    <a:pt x="55" y="0"/>
                  </a:moveTo>
                  <a:lnTo>
                    <a:pt x="30" y="7"/>
                  </a:lnTo>
                  <a:lnTo>
                    <a:pt x="12" y="21"/>
                  </a:lnTo>
                  <a:lnTo>
                    <a:pt x="2" y="40"/>
                  </a:lnTo>
                  <a:lnTo>
                    <a:pt x="0" y="63"/>
                  </a:lnTo>
                  <a:lnTo>
                    <a:pt x="5" y="84"/>
                  </a:lnTo>
                  <a:lnTo>
                    <a:pt x="17" y="103"/>
                  </a:lnTo>
                  <a:lnTo>
                    <a:pt x="36" y="115"/>
                  </a:lnTo>
                  <a:lnTo>
                    <a:pt x="62" y="119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97400" y="3749400"/>
              <a:ext cx="23400" cy="32760"/>
            </a:xfrm>
            <a:custGeom>
              <a:avLst/>
              <a:gdLst/>
              <a:ahLst/>
              <a:rect l="l" t="t" r="r" b="b"/>
              <a:pathLst>
                <a:path w="52" h="69">
                  <a:moveTo>
                    <a:pt x="19" y="0"/>
                  </a:moveTo>
                  <a:lnTo>
                    <a:pt x="6" y="10"/>
                  </a:lnTo>
                  <a:lnTo>
                    <a:pt x="0" y="23"/>
                  </a:lnTo>
                  <a:lnTo>
                    <a:pt x="0" y="36"/>
                  </a:lnTo>
                  <a:lnTo>
                    <a:pt x="3" y="48"/>
                  </a:lnTo>
                  <a:lnTo>
                    <a:pt x="12" y="59"/>
                  </a:lnTo>
                  <a:lnTo>
                    <a:pt x="22" y="67"/>
                  </a:lnTo>
                  <a:lnTo>
                    <a:pt x="37" y="69"/>
                  </a:lnTo>
                  <a:lnTo>
                    <a:pt x="52" y="64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4120" y="3736080"/>
              <a:ext cx="81360" cy="139680"/>
            </a:xfrm>
            <a:custGeom>
              <a:avLst/>
              <a:gdLst/>
              <a:ahLst/>
              <a:rect l="l" t="t" r="r" b="b"/>
              <a:pathLst>
                <a:path w="185" h="287">
                  <a:moveTo>
                    <a:pt x="181" y="0"/>
                  </a:moveTo>
                  <a:lnTo>
                    <a:pt x="183" y="6"/>
                  </a:lnTo>
                  <a:lnTo>
                    <a:pt x="183" y="12"/>
                  </a:lnTo>
                  <a:lnTo>
                    <a:pt x="184" y="17"/>
                  </a:lnTo>
                  <a:lnTo>
                    <a:pt x="184" y="23"/>
                  </a:lnTo>
                  <a:lnTo>
                    <a:pt x="185" y="29"/>
                  </a:lnTo>
                  <a:lnTo>
                    <a:pt x="185" y="35"/>
                  </a:lnTo>
                  <a:lnTo>
                    <a:pt x="185" y="41"/>
                  </a:lnTo>
                  <a:lnTo>
                    <a:pt x="185" y="47"/>
                  </a:lnTo>
                  <a:lnTo>
                    <a:pt x="184" y="67"/>
                  </a:lnTo>
                  <a:lnTo>
                    <a:pt x="181" y="89"/>
                  </a:lnTo>
                  <a:lnTo>
                    <a:pt x="177" y="108"/>
                  </a:lnTo>
                  <a:lnTo>
                    <a:pt x="171" y="128"/>
                  </a:lnTo>
                  <a:lnTo>
                    <a:pt x="164" y="146"/>
                  </a:lnTo>
                  <a:lnTo>
                    <a:pt x="154" y="164"/>
                  </a:lnTo>
                  <a:lnTo>
                    <a:pt x="145" y="182"/>
                  </a:lnTo>
                  <a:lnTo>
                    <a:pt x="133" y="197"/>
                  </a:lnTo>
                  <a:lnTo>
                    <a:pt x="120" y="213"/>
                  </a:lnTo>
                  <a:lnTo>
                    <a:pt x="106" y="227"/>
                  </a:lnTo>
                  <a:lnTo>
                    <a:pt x="90" y="241"/>
                  </a:lnTo>
                  <a:lnTo>
                    <a:pt x="73" y="253"/>
                  </a:lnTo>
                  <a:lnTo>
                    <a:pt x="57" y="264"/>
                  </a:lnTo>
                  <a:lnTo>
                    <a:pt x="39" y="273"/>
                  </a:lnTo>
                  <a:lnTo>
                    <a:pt x="20" y="280"/>
                  </a:lnTo>
                  <a:lnTo>
                    <a:pt x="0" y="287"/>
                  </a:lnTo>
                  <a:lnTo>
                    <a:pt x="15" y="278"/>
                  </a:lnTo>
                  <a:lnTo>
                    <a:pt x="45" y="257"/>
                  </a:lnTo>
                  <a:lnTo>
                    <a:pt x="72" y="232"/>
                  </a:lnTo>
                  <a:lnTo>
                    <a:pt x="97" y="204"/>
                  </a:lnTo>
                  <a:lnTo>
                    <a:pt x="119" y="174"/>
                  </a:lnTo>
                  <a:lnTo>
                    <a:pt x="138" y="144"/>
                  </a:lnTo>
                  <a:lnTo>
                    <a:pt x="154" y="110"/>
                  </a:lnTo>
                  <a:lnTo>
                    <a:pt x="167" y="75"/>
                  </a:lnTo>
                  <a:lnTo>
                    <a:pt x="176" y="39"/>
                  </a:lnTo>
                  <a:lnTo>
                    <a:pt x="181" y="1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e02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8120" y="3702960"/>
              <a:ext cx="115920" cy="178200"/>
            </a:xfrm>
            <a:custGeom>
              <a:avLst/>
              <a:gdLst/>
              <a:ahLst/>
              <a:rect l="l" t="t" r="r" b="b"/>
              <a:pathLst>
                <a:path w="263" h="368">
                  <a:moveTo>
                    <a:pt x="239" y="0"/>
                  </a:moveTo>
                  <a:lnTo>
                    <a:pt x="242" y="7"/>
                  </a:lnTo>
                  <a:lnTo>
                    <a:pt x="246" y="15"/>
                  </a:lnTo>
                  <a:lnTo>
                    <a:pt x="249" y="22"/>
                  </a:lnTo>
                  <a:lnTo>
                    <a:pt x="253" y="31"/>
                  </a:lnTo>
                  <a:lnTo>
                    <a:pt x="241" y="31"/>
                  </a:lnTo>
                  <a:lnTo>
                    <a:pt x="239" y="0"/>
                  </a:lnTo>
                  <a:close/>
                  <a:moveTo>
                    <a:pt x="263" y="72"/>
                  </a:moveTo>
                  <a:lnTo>
                    <a:pt x="262" y="67"/>
                  </a:lnTo>
                  <a:lnTo>
                    <a:pt x="261" y="61"/>
                  </a:lnTo>
                  <a:lnTo>
                    <a:pt x="260" y="57"/>
                  </a:lnTo>
                  <a:lnTo>
                    <a:pt x="259" y="51"/>
                  </a:lnTo>
                  <a:lnTo>
                    <a:pt x="258" y="46"/>
                  </a:lnTo>
                  <a:lnTo>
                    <a:pt x="256" y="41"/>
                  </a:lnTo>
                  <a:lnTo>
                    <a:pt x="254" y="35"/>
                  </a:lnTo>
                  <a:lnTo>
                    <a:pt x="253" y="31"/>
                  </a:lnTo>
                  <a:lnTo>
                    <a:pt x="241" y="31"/>
                  </a:lnTo>
                  <a:lnTo>
                    <a:pt x="239" y="67"/>
                  </a:lnTo>
                  <a:lnTo>
                    <a:pt x="234" y="102"/>
                  </a:lnTo>
                  <a:lnTo>
                    <a:pt x="224" y="136"/>
                  </a:lnTo>
                  <a:lnTo>
                    <a:pt x="212" y="169"/>
                  </a:lnTo>
                  <a:lnTo>
                    <a:pt x="198" y="201"/>
                  </a:lnTo>
                  <a:lnTo>
                    <a:pt x="180" y="229"/>
                  </a:lnTo>
                  <a:lnTo>
                    <a:pt x="159" y="258"/>
                  </a:lnTo>
                  <a:lnTo>
                    <a:pt x="136" y="283"/>
                  </a:lnTo>
                  <a:lnTo>
                    <a:pt x="112" y="305"/>
                  </a:lnTo>
                  <a:lnTo>
                    <a:pt x="83" y="327"/>
                  </a:lnTo>
                  <a:lnTo>
                    <a:pt x="55" y="345"/>
                  </a:lnTo>
                  <a:lnTo>
                    <a:pt x="23" y="359"/>
                  </a:lnTo>
                  <a:lnTo>
                    <a:pt x="0" y="367"/>
                  </a:lnTo>
                  <a:lnTo>
                    <a:pt x="1" y="367"/>
                  </a:lnTo>
                  <a:lnTo>
                    <a:pt x="4" y="367"/>
                  </a:lnTo>
                  <a:lnTo>
                    <a:pt x="5" y="368"/>
                  </a:lnTo>
                  <a:lnTo>
                    <a:pt x="6" y="368"/>
                  </a:lnTo>
                  <a:lnTo>
                    <a:pt x="17" y="368"/>
                  </a:lnTo>
                  <a:lnTo>
                    <a:pt x="27" y="367"/>
                  </a:lnTo>
                  <a:lnTo>
                    <a:pt x="38" y="366"/>
                  </a:lnTo>
                  <a:lnTo>
                    <a:pt x="47" y="365"/>
                  </a:lnTo>
                  <a:lnTo>
                    <a:pt x="58" y="364"/>
                  </a:lnTo>
                  <a:lnTo>
                    <a:pt x="68" y="361"/>
                  </a:lnTo>
                  <a:lnTo>
                    <a:pt x="77" y="358"/>
                  </a:lnTo>
                  <a:lnTo>
                    <a:pt x="87" y="355"/>
                  </a:lnTo>
                  <a:lnTo>
                    <a:pt x="99" y="348"/>
                  </a:lnTo>
                  <a:lnTo>
                    <a:pt x="127" y="326"/>
                  </a:lnTo>
                  <a:lnTo>
                    <a:pt x="154" y="301"/>
                  </a:lnTo>
                  <a:lnTo>
                    <a:pt x="179" y="273"/>
                  </a:lnTo>
                  <a:lnTo>
                    <a:pt x="202" y="245"/>
                  </a:lnTo>
                  <a:lnTo>
                    <a:pt x="221" y="213"/>
                  </a:lnTo>
                  <a:lnTo>
                    <a:pt x="237" y="179"/>
                  </a:lnTo>
                  <a:lnTo>
                    <a:pt x="249" y="144"/>
                  </a:lnTo>
                  <a:lnTo>
                    <a:pt x="259" y="108"/>
                  </a:lnTo>
                  <a:lnTo>
                    <a:pt x="263" y="72"/>
                  </a:lnTo>
                  <a:close/>
                </a:path>
              </a:pathLst>
            </a:custGeom>
            <a:solidFill>
              <a:srgbClr val="eb1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0040" y="3679560"/>
              <a:ext cx="134280" cy="201600"/>
            </a:xfrm>
            <a:custGeom>
              <a:avLst/>
              <a:gdLst/>
              <a:ahLst/>
              <a:rect l="l" t="t" r="r" b="b"/>
              <a:pathLst>
                <a:path w="306" h="415">
                  <a:moveTo>
                    <a:pt x="304" y="50"/>
                  </a:moveTo>
                  <a:lnTo>
                    <a:pt x="300" y="43"/>
                  </a:lnTo>
                  <a:lnTo>
                    <a:pt x="297" y="37"/>
                  </a:lnTo>
                  <a:lnTo>
                    <a:pt x="292" y="31"/>
                  </a:lnTo>
                  <a:lnTo>
                    <a:pt x="288" y="24"/>
                  </a:lnTo>
                  <a:lnTo>
                    <a:pt x="284" y="18"/>
                  </a:lnTo>
                  <a:lnTo>
                    <a:pt x="279" y="12"/>
                  </a:lnTo>
                  <a:lnTo>
                    <a:pt x="274" y="6"/>
                  </a:lnTo>
                  <a:lnTo>
                    <a:pt x="269" y="0"/>
                  </a:lnTo>
                  <a:lnTo>
                    <a:pt x="273" y="12"/>
                  </a:lnTo>
                  <a:lnTo>
                    <a:pt x="279" y="44"/>
                  </a:lnTo>
                  <a:lnTo>
                    <a:pt x="280" y="79"/>
                  </a:lnTo>
                  <a:lnTo>
                    <a:pt x="306" y="79"/>
                  </a:lnTo>
                  <a:lnTo>
                    <a:pt x="304" y="115"/>
                  </a:lnTo>
                  <a:lnTo>
                    <a:pt x="299" y="151"/>
                  </a:lnTo>
                  <a:lnTo>
                    <a:pt x="289" y="184"/>
                  </a:lnTo>
                  <a:lnTo>
                    <a:pt x="278" y="218"/>
                  </a:lnTo>
                  <a:lnTo>
                    <a:pt x="263" y="249"/>
                  </a:lnTo>
                  <a:lnTo>
                    <a:pt x="246" y="278"/>
                  </a:lnTo>
                  <a:lnTo>
                    <a:pt x="224" y="306"/>
                  </a:lnTo>
                  <a:lnTo>
                    <a:pt x="202" y="332"/>
                  </a:lnTo>
                  <a:lnTo>
                    <a:pt x="176" y="355"/>
                  </a:lnTo>
                  <a:lnTo>
                    <a:pt x="148" y="376"/>
                  </a:lnTo>
                  <a:lnTo>
                    <a:pt x="119" y="394"/>
                  </a:lnTo>
                  <a:lnTo>
                    <a:pt x="88" y="408"/>
                  </a:lnTo>
                  <a:lnTo>
                    <a:pt x="68" y="415"/>
                  </a:lnTo>
                  <a:lnTo>
                    <a:pt x="59" y="415"/>
                  </a:lnTo>
                  <a:lnTo>
                    <a:pt x="50" y="415"/>
                  </a:lnTo>
                  <a:lnTo>
                    <a:pt x="41" y="414"/>
                  </a:lnTo>
                  <a:lnTo>
                    <a:pt x="33" y="413"/>
                  </a:lnTo>
                  <a:lnTo>
                    <a:pt x="25" y="412"/>
                  </a:lnTo>
                  <a:lnTo>
                    <a:pt x="17" y="410"/>
                  </a:lnTo>
                  <a:lnTo>
                    <a:pt x="8" y="409"/>
                  </a:lnTo>
                  <a:lnTo>
                    <a:pt x="0" y="407"/>
                  </a:lnTo>
                  <a:lnTo>
                    <a:pt x="15" y="403"/>
                  </a:lnTo>
                  <a:lnTo>
                    <a:pt x="47" y="395"/>
                  </a:lnTo>
                  <a:lnTo>
                    <a:pt x="78" y="384"/>
                  </a:lnTo>
                  <a:lnTo>
                    <a:pt x="107" y="370"/>
                  </a:lnTo>
                  <a:lnTo>
                    <a:pt x="134" y="353"/>
                  </a:lnTo>
                  <a:lnTo>
                    <a:pt x="159" y="334"/>
                  </a:lnTo>
                  <a:lnTo>
                    <a:pt x="183" y="313"/>
                  </a:lnTo>
                  <a:lnTo>
                    <a:pt x="204" y="289"/>
                  </a:lnTo>
                  <a:lnTo>
                    <a:pt x="223" y="264"/>
                  </a:lnTo>
                  <a:lnTo>
                    <a:pt x="240" y="237"/>
                  </a:lnTo>
                  <a:lnTo>
                    <a:pt x="254" y="208"/>
                  </a:lnTo>
                  <a:lnTo>
                    <a:pt x="265" y="177"/>
                  </a:lnTo>
                  <a:lnTo>
                    <a:pt x="273" y="145"/>
                  </a:lnTo>
                  <a:lnTo>
                    <a:pt x="279" y="113"/>
                  </a:lnTo>
                  <a:lnTo>
                    <a:pt x="280" y="79"/>
                  </a:lnTo>
                  <a:lnTo>
                    <a:pt x="306" y="79"/>
                  </a:lnTo>
                  <a:lnTo>
                    <a:pt x="304" y="50"/>
                  </a:lnTo>
                  <a:close/>
                </a:path>
              </a:pathLst>
            </a:custGeom>
            <a:solidFill>
              <a:srgbClr val="f50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6280" y="3663000"/>
              <a:ext cx="147600" cy="213480"/>
            </a:xfrm>
            <a:custGeom>
              <a:avLst/>
              <a:gdLst/>
              <a:ahLst/>
              <a:rect l="l" t="t" r="r" b="b"/>
              <a:pathLst>
                <a:path w="336" h="441">
                  <a:moveTo>
                    <a:pt x="326" y="36"/>
                  </a:moveTo>
                  <a:lnTo>
                    <a:pt x="321" y="32"/>
                  </a:lnTo>
                  <a:lnTo>
                    <a:pt x="316" y="26"/>
                  </a:lnTo>
                  <a:lnTo>
                    <a:pt x="311" y="21"/>
                  </a:lnTo>
                  <a:lnTo>
                    <a:pt x="307" y="16"/>
                  </a:lnTo>
                  <a:lnTo>
                    <a:pt x="302" y="13"/>
                  </a:lnTo>
                  <a:lnTo>
                    <a:pt x="297" y="8"/>
                  </a:lnTo>
                  <a:lnTo>
                    <a:pt x="291" y="3"/>
                  </a:lnTo>
                  <a:lnTo>
                    <a:pt x="286" y="0"/>
                  </a:lnTo>
                  <a:lnTo>
                    <a:pt x="295" y="22"/>
                  </a:lnTo>
                  <a:lnTo>
                    <a:pt x="303" y="51"/>
                  </a:lnTo>
                  <a:lnTo>
                    <a:pt x="308" y="82"/>
                  </a:lnTo>
                  <a:lnTo>
                    <a:pt x="309" y="113"/>
                  </a:lnTo>
                  <a:lnTo>
                    <a:pt x="336" y="113"/>
                  </a:lnTo>
                  <a:lnTo>
                    <a:pt x="335" y="147"/>
                  </a:lnTo>
                  <a:lnTo>
                    <a:pt x="329" y="179"/>
                  </a:lnTo>
                  <a:lnTo>
                    <a:pt x="321" y="211"/>
                  </a:lnTo>
                  <a:lnTo>
                    <a:pt x="310" y="242"/>
                  </a:lnTo>
                  <a:lnTo>
                    <a:pt x="296" y="271"/>
                  </a:lnTo>
                  <a:lnTo>
                    <a:pt x="279" y="298"/>
                  </a:lnTo>
                  <a:lnTo>
                    <a:pt x="260" y="324"/>
                  </a:lnTo>
                  <a:lnTo>
                    <a:pt x="239" y="348"/>
                  </a:lnTo>
                  <a:lnTo>
                    <a:pt x="215" y="369"/>
                  </a:lnTo>
                  <a:lnTo>
                    <a:pt x="189" y="389"/>
                  </a:lnTo>
                  <a:lnTo>
                    <a:pt x="162" y="405"/>
                  </a:lnTo>
                  <a:lnTo>
                    <a:pt x="133" y="419"/>
                  </a:lnTo>
                  <a:lnTo>
                    <a:pt x="102" y="430"/>
                  </a:lnTo>
                  <a:lnTo>
                    <a:pt x="70" y="438"/>
                  </a:lnTo>
                  <a:lnTo>
                    <a:pt x="58" y="441"/>
                  </a:lnTo>
                  <a:lnTo>
                    <a:pt x="50" y="438"/>
                  </a:lnTo>
                  <a:lnTo>
                    <a:pt x="43" y="436"/>
                  </a:lnTo>
                  <a:lnTo>
                    <a:pt x="36" y="434"/>
                  </a:lnTo>
                  <a:lnTo>
                    <a:pt x="28" y="431"/>
                  </a:lnTo>
                  <a:lnTo>
                    <a:pt x="21" y="428"/>
                  </a:lnTo>
                  <a:lnTo>
                    <a:pt x="13" y="425"/>
                  </a:lnTo>
                  <a:lnTo>
                    <a:pt x="7" y="422"/>
                  </a:lnTo>
                  <a:lnTo>
                    <a:pt x="0" y="418"/>
                  </a:lnTo>
                  <a:lnTo>
                    <a:pt x="4" y="418"/>
                  </a:lnTo>
                  <a:lnTo>
                    <a:pt x="35" y="417"/>
                  </a:lnTo>
                  <a:lnTo>
                    <a:pt x="66" y="412"/>
                  </a:lnTo>
                  <a:lnTo>
                    <a:pt x="94" y="404"/>
                  </a:lnTo>
                  <a:lnTo>
                    <a:pt x="123" y="394"/>
                  </a:lnTo>
                  <a:lnTo>
                    <a:pt x="149" y="381"/>
                  </a:lnTo>
                  <a:lnTo>
                    <a:pt x="174" y="366"/>
                  </a:lnTo>
                  <a:lnTo>
                    <a:pt x="197" y="348"/>
                  </a:lnTo>
                  <a:lnTo>
                    <a:pt x="219" y="328"/>
                  </a:lnTo>
                  <a:lnTo>
                    <a:pt x="239" y="306"/>
                  </a:lnTo>
                  <a:lnTo>
                    <a:pt x="257" y="283"/>
                  </a:lnTo>
                  <a:lnTo>
                    <a:pt x="272" y="258"/>
                  </a:lnTo>
                  <a:lnTo>
                    <a:pt x="285" y="232"/>
                  </a:lnTo>
                  <a:lnTo>
                    <a:pt x="295" y="203"/>
                  </a:lnTo>
                  <a:lnTo>
                    <a:pt x="303" y="174"/>
                  </a:lnTo>
                  <a:lnTo>
                    <a:pt x="308" y="143"/>
                  </a:lnTo>
                  <a:lnTo>
                    <a:pt x="309" y="113"/>
                  </a:lnTo>
                  <a:lnTo>
                    <a:pt x="336" y="113"/>
                  </a:lnTo>
                  <a:lnTo>
                    <a:pt x="335" y="78"/>
                  </a:lnTo>
                  <a:lnTo>
                    <a:pt x="329" y="46"/>
                  </a:lnTo>
                  <a:lnTo>
                    <a:pt x="326" y="36"/>
                  </a:lnTo>
                  <a:close/>
                </a:path>
              </a:pathLst>
            </a:custGeom>
            <a:solidFill>
              <a:srgbClr val="ff03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6840" y="3650400"/>
              <a:ext cx="155160" cy="216360"/>
            </a:xfrm>
            <a:custGeom>
              <a:avLst/>
              <a:gdLst/>
              <a:ahLst/>
              <a:rect l="l" t="t" r="r" b="b"/>
              <a:pathLst>
                <a:path w="354" h="446">
                  <a:moveTo>
                    <a:pt x="332" y="28"/>
                  </a:moveTo>
                  <a:lnTo>
                    <a:pt x="327" y="24"/>
                  </a:lnTo>
                  <a:lnTo>
                    <a:pt x="322" y="21"/>
                  </a:lnTo>
                  <a:lnTo>
                    <a:pt x="316" y="17"/>
                  </a:lnTo>
                  <a:lnTo>
                    <a:pt x="311" y="13"/>
                  </a:lnTo>
                  <a:lnTo>
                    <a:pt x="305" y="10"/>
                  </a:lnTo>
                  <a:lnTo>
                    <a:pt x="301" y="6"/>
                  </a:lnTo>
                  <a:lnTo>
                    <a:pt x="295" y="4"/>
                  </a:lnTo>
                  <a:lnTo>
                    <a:pt x="290" y="0"/>
                  </a:lnTo>
                  <a:lnTo>
                    <a:pt x="294" y="6"/>
                  </a:lnTo>
                  <a:lnTo>
                    <a:pt x="305" y="30"/>
                  </a:lnTo>
                  <a:lnTo>
                    <a:pt x="315" y="56"/>
                  </a:lnTo>
                  <a:lnTo>
                    <a:pt x="322" y="84"/>
                  </a:lnTo>
                  <a:lnTo>
                    <a:pt x="327" y="111"/>
                  </a:lnTo>
                  <a:lnTo>
                    <a:pt x="328" y="140"/>
                  </a:lnTo>
                  <a:lnTo>
                    <a:pt x="354" y="140"/>
                  </a:lnTo>
                  <a:lnTo>
                    <a:pt x="353" y="170"/>
                  </a:lnTo>
                  <a:lnTo>
                    <a:pt x="348" y="201"/>
                  </a:lnTo>
                  <a:lnTo>
                    <a:pt x="340" y="231"/>
                  </a:lnTo>
                  <a:lnTo>
                    <a:pt x="330" y="259"/>
                  </a:lnTo>
                  <a:lnTo>
                    <a:pt x="317" y="286"/>
                  </a:lnTo>
                  <a:lnTo>
                    <a:pt x="302" y="311"/>
                  </a:lnTo>
                  <a:lnTo>
                    <a:pt x="284" y="335"/>
                  </a:lnTo>
                  <a:lnTo>
                    <a:pt x="264" y="356"/>
                  </a:lnTo>
                  <a:lnTo>
                    <a:pt x="243" y="376"/>
                  </a:lnTo>
                  <a:lnTo>
                    <a:pt x="219" y="394"/>
                  </a:lnTo>
                  <a:lnTo>
                    <a:pt x="194" y="410"/>
                  </a:lnTo>
                  <a:lnTo>
                    <a:pt x="167" y="423"/>
                  </a:lnTo>
                  <a:lnTo>
                    <a:pt x="139" y="432"/>
                  </a:lnTo>
                  <a:lnTo>
                    <a:pt x="110" y="440"/>
                  </a:lnTo>
                  <a:lnTo>
                    <a:pt x="79" y="445"/>
                  </a:lnTo>
                  <a:lnTo>
                    <a:pt x="48" y="446"/>
                  </a:lnTo>
                  <a:lnTo>
                    <a:pt x="47" y="446"/>
                  </a:lnTo>
                  <a:lnTo>
                    <a:pt x="41" y="443"/>
                  </a:lnTo>
                  <a:lnTo>
                    <a:pt x="35" y="440"/>
                  </a:lnTo>
                  <a:lnTo>
                    <a:pt x="29" y="437"/>
                  </a:lnTo>
                  <a:lnTo>
                    <a:pt x="23" y="433"/>
                  </a:lnTo>
                  <a:lnTo>
                    <a:pt x="17" y="429"/>
                  </a:lnTo>
                  <a:lnTo>
                    <a:pt x="11" y="425"/>
                  </a:lnTo>
                  <a:lnTo>
                    <a:pt x="6" y="421"/>
                  </a:lnTo>
                  <a:lnTo>
                    <a:pt x="0" y="417"/>
                  </a:lnTo>
                  <a:lnTo>
                    <a:pt x="19" y="419"/>
                  </a:lnTo>
                  <a:lnTo>
                    <a:pt x="48" y="420"/>
                  </a:lnTo>
                  <a:lnTo>
                    <a:pt x="76" y="419"/>
                  </a:lnTo>
                  <a:lnTo>
                    <a:pt x="104" y="414"/>
                  </a:lnTo>
                  <a:lnTo>
                    <a:pt x="131" y="407"/>
                  </a:lnTo>
                  <a:lnTo>
                    <a:pt x="157" y="398"/>
                  </a:lnTo>
                  <a:lnTo>
                    <a:pt x="181" y="386"/>
                  </a:lnTo>
                  <a:lnTo>
                    <a:pt x="205" y="373"/>
                  </a:lnTo>
                  <a:lnTo>
                    <a:pt x="226" y="356"/>
                  </a:lnTo>
                  <a:lnTo>
                    <a:pt x="246" y="338"/>
                  </a:lnTo>
                  <a:lnTo>
                    <a:pt x="264" y="318"/>
                  </a:lnTo>
                  <a:lnTo>
                    <a:pt x="280" y="297"/>
                  </a:lnTo>
                  <a:lnTo>
                    <a:pt x="294" y="273"/>
                  </a:lnTo>
                  <a:lnTo>
                    <a:pt x="305" y="249"/>
                  </a:lnTo>
                  <a:lnTo>
                    <a:pt x="315" y="223"/>
                  </a:lnTo>
                  <a:lnTo>
                    <a:pt x="322" y="195"/>
                  </a:lnTo>
                  <a:lnTo>
                    <a:pt x="327" y="168"/>
                  </a:lnTo>
                  <a:lnTo>
                    <a:pt x="328" y="140"/>
                  </a:lnTo>
                  <a:lnTo>
                    <a:pt x="354" y="140"/>
                  </a:lnTo>
                  <a:lnTo>
                    <a:pt x="353" y="109"/>
                  </a:lnTo>
                  <a:lnTo>
                    <a:pt x="348" y="78"/>
                  </a:lnTo>
                  <a:lnTo>
                    <a:pt x="340" y="48"/>
                  </a:lnTo>
                  <a:lnTo>
                    <a:pt x="332" y="28"/>
                  </a:lnTo>
                  <a:close/>
                </a:path>
              </a:pathLst>
            </a:custGeom>
            <a:solidFill>
              <a:srgbClr val="ff1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11000" y="3641760"/>
              <a:ext cx="159840" cy="212400"/>
            </a:xfrm>
            <a:custGeom>
              <a:avLst/>
              <a:gdLst/>
              <a:ahLst/>
              <a:rect l="l" t="t" r="r" b="b"/>
              <a:pathLst>
                <a:path w="364" h="437">
                  <a:moveTo>
                    <a:pt x="326" y="18"/>
                  </a:moveTo>
                  <a:lnTo>
                    <a:pt x="321" y="15"/>
                  </a:lnTo>
                  <a:lnTo>
                    <a:pt x="315" y="13"/>
                  </a:lnTo>
                  <a:lnTo>
                    <a:pt x="311" y="10"/>
                  </a:lnTo>
                  <a:lnTo>
                    <a:pt x="305" y="8"/>
                  </a:lnTo>
                  <a:lnTo>
                    <a:pt x="300" y="6"/>
                  </a:lnTo>
                  <a:lnTo>
                    <a:pt x="294" y="3"/>
                  </a:lnTo>
                  <a:lnTo>
                    <a:pt x="288" y="2"/>
                  </a:lnTo>
                  <a:lnTo>
                    <a:pt x="282" y="0"/>
                  </a:lnTo>
                  <a:lnTo>
                    <a:pt x="293" y="13"/>
                  </a:lnTo>
                  <a:lnTo>
                    <a:pt x="306" y="34"/>
                  </a:lnTo>
                  <a:lnTo>
                    <a:pt x="317" y="57"/>
                  </a:lnTo>
                  <a:lnTo>
                    <a:pt x="325" y="79"/>
                  </a:lnTo>
                  <a:lnTo>
                    <a:pt x="332" y="104"/>
                  </a:lnTo>
                  <a:lnTo>
                    <a:pt x="336" y="129"/>
                  </a:lnTo>
                  <a:lnTo>
                    <a:pt x="337" y="156"/>
                  </a:lnTo>
                  <a:lnTo>
                    <a:pt x="364" y="156"/>
                  </a:lnTo>
                  <a:lnTo>
                    <a:pt x="363" y="184"/>
                  </a:lnTo>
                  <a:lnTo>
                    <a:pt x="358" y="213"/>
                  </a:lnTo>
                  <a:lnTo>
                    <a:pt x="351" y="239"/>
                  </a:lnTo>
                  <a:lnTo>
                    <a:pt x="342" y="265"/>
                  </a:lnTo>
                  <a:lnTo>
                    <a:pt x="330" y="290"/>
                  </a:lnTo>
                  <a:lnTo>
                    <a:pt x="315" y="313"/>
                  </a:lnTo>
                  <a:lnTo>
                    <a:pt x="300" y="334"/>
                  </a:lnTo>
                  <a:lnTo>
                    <a:pt x="281" y="354"/>
                  </a:lnTo>
                  <a:lnTo>
                    <a:pt x="261" y="373"/>
                  </a:lnTo>
                  <a:lnTo>
                    <a:pt x="240" y="389"/>
                  </a:lnTo>
                  <a:lnTo>
                    <a:pt x="217" y="403"/>
                  </a:lnTo>
                  <a:lnTo>
                    <a:pt x="192" y="415"/>
                  </a:lnTo>
                  <a:lnTo>
                    <a:pt x="166" y="424"/>
                  </a:lnTo>
                  <a:lnTo>
                    <a:pt x="140" y="432"/>
                  </a:lnTo>
                  <a:lnTo>
                    <a:pt x="111" y="436"/>
                  </a:lnTo>
                  <a:lnTo>
                    <a:pt x="83" y="437"/>
                  </a:lnTo>
                  <a:lnTo>
                    <a:pt x="54" y="436"/>
                  </a:lnTo>
                  <a:lnTo>
                    <a:pt x="38" y="434"/>
                  </a:lnTo>
                  <a:lnTo>
                    <a:pt x="33" y="430"/>
                  </a:lnTo>
                  <a:lnTo>
                    <a:pt x="27" y="426"/>
                  </a:lnTo>
                  <a:lnTo>
                    <a:pt x="22" y="421"/>
                  </a:lnTo>
                  <a:lnTo>
                    <a:pt x="18" y="416"/>
                  </a:lnTo>
                  <a:lnTo>
                    <a:pt x="13" y="411"/>
                  </a:lnTo>
                  <a:lnTo>
                    <a:pt x="8" y="407"/>
                  </a:lnTo>
                  <a:lnTo>
                    <a:pt x="3" y="401"/>
                  </a:lnTo>
                  <a:lnTo>
                    <a:pt x="0" y="396"/>
                  </a:lnTo>
                  <a:lnTo>
                    <a:pt x="7" y="398"/>
                  </a:lnTo>
                  <a:lnTo>
                    <a:pt x="32" y="405"/>
                  </a:lnTo>
                  <a:lnTo>
                    <a:pt x="57" y="409"/>
                  </a:lnTo>
                  <a:lnTo>
                    <a:pt x="83" y="410"/>
                  </a:lnTo>
                  <a:lnTo>
                    <a:pt x="109" y="409"/>
                  </a:lnTo>
                  <a:lnTo>
                    <a:pt x="134" y="405"/>
                  </a:lnTo>
                  <a:lnTo>
                    <a:pt x="159" y="398"/>
                  </a:lnTo>
                  <a:lnTo>
                    <a:pt x="181" y="390"/>
                  </a:lnTo>
                  <a:lnTo>
                    <a:pt x="204" y="379"/>
                  </a:lnTo>
                  <a:lnTo>
                    <a:pt x="225" y="366"/>
                  </a:lnTo>
                  <a:lnTo>
                    <a:pt x="244" y="352"/>
                  </a:lnTo>
                  <a:lnTo>
                    <a:pt x="262" y="335"/>
                  </a:lnTo>
                  <a:lnTo>
                    <a:pt x="279" y="317"/>
                  </a:lnTo>
                  <a:lnTo>
                    <a:pt x="293" y="298"/>
                  </a:lnTo>
                  <a:lnTo>
                    <a:pt x="306" y="277"/>
                  </a:lnTo>
                  <a:lnTo>
                    <a:pt x="317" y="254"/>
                  </a:lnTo>
                  <a:lnTo>
                    <a:pt x="325" y="232"/>
                  </a:lnTo>
                  <a:lnTo>
                    <a:pt x="332" y="207"/>
                  </a:lnTo>
                  <a:lnTo>
                    <a:pt x="336" y="182"/>
                  </a:lnTo>
                  <a:lnTo>
                    <a:pt x="337" y="156"/>
                  </a:lnTo>
                  <a:lnTo>
                    <a:pt x="364" y="156"/>
                  </a:lnTo>
                  <a:lnTo>
                    <a:pt x="363" y="127"/>
                  </a:lnTo>
                  <a:lnTo>
                    <a:pt x="358" y="98"/>
                  </a:lnTo>
                  <a:lnTo>
                    <a:pt x="351" y="72"/>
                  </a:lnTo>
                  <a:lnTo>
                    <a:pt x="342" y="46"/>
                  </a:lnTo>
                  <a:lnTo>
                    <a:pt x="330" y="21"/>
                  </a:lnTo>
                  <a:lnTo>
                    <a:pt x="326" y="18"/>
                  </a:lnTo>
                  <a:close/>
                </a:path>
              </a:pathLst>
            </a:custGeom>
            <a:solidFill>
              <a:srgbClr val="ff26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9480" y="3637800"/>
              <a:ext cx="159840" cy="203760"/>
            </a:xfrm>
            <a:custGeom>
              <a:avLst/>
              <a:gdLst/>
              <a:ahLst/>
              <a:rect l="l" t="t" r="r" b="b"/>
              <a:pathLst>
                <a:path w="364" h="421">
                  <a:moveTo>
                    <a:pt x="309" y="11"/>
                  </a:moveTo>
                  <a:lnTo>
                    <a:pt x="304" y="10"/>
                  </a:lnTo>
                  <a:lnTo>
                    <a:pt x="299" y="7"/>
                  </a:lnTo>
                  <a:lnTo>
                    <a:pt x="293" y="6"/>
                  </a:lnTo>
                  <a:lnTo>
                    <a:pt x="288" y="5"/>
                  </a:lnTo>
                  <a:lnTo>
                    <a:pt x="282" y="4"/>
                  </a:lnTo>
                  <a:lnTo>
                    <a:pt x="277" y="3"/>
                  </a:lnTo>
                  <a:lnTo>
                    <a:pt x="271" y="1"/>
                  </a:lnTo>
                  <a:lnTo>
                    <a:pt x="266" y="0"/>
                  </a:lnTo>
                  <a:lnTo>
                    <a:pt x="270" y="4"/>
                  </a:lnTo>
                  <a:lnTo>
                    <a:pt x="286" y="19"/>
                  </a:lnTo>
                  <a:lnTo>
                    <a:pt x="299" y="37"/>
                  </a:lnTo>
                  <a:lnTo>
                    <a:pt x="311" y="56"/>
                  </a:lnTo>
                  <a:lnTo>
                    <a:pt x="320" y="76"/>
                  </a:lnTo>
                  <a:lnTo>
                    <a:pt x="327" y="98"/>
                  </a:lnTo>
                  <a:lnTo>
                    <a:pt x="333" y="119"/>
                  </a:lnTo>
                  <a:lnTo>
                    <a:pt x="337" y="142"/>
                  </a:lnTo>
                  <a:lnTo>
                    <a:pt x="338" y="166"/>
                  </a:lnTo>
                  <a:lnTo>
                    <a:pt x="364" y="166"/>
                  </a:lnTo>
                  <a:lnTo>
                    <a:pt x="363" y="192"/>
                  </a:lnTo>
                  <a:lnTo>
                    <a:pt x="359" y="217"/>
                  </a:lnTo>
                  <a:lnTo>
                    <a:pt x="352" y="242"/>
                  </a:lnTo>
                  <a:lnTo>
                    <a:pt x="344" y="264"/>
                  </a:lnTo>
                  <a:lnTo>
                    <a:pt x="333" y="287"/>
                  </a:lnTo>
                  <a:lnTo>
                    <a:pt x="320" y="308"/>
                  </a:lnTo>
                  <a:lnTo>
                    <a:pt x="306" y="327"/>
                  </a:lnTo>
                  <a:lnTo>
                    <a:pt x="289" y="346"/>
                  </a:lnTo>
                  <a:lnTo>
                    <a:pt x="270" y="363"/>
                  </a:lnTo>
                  <a:lnTo>
                    <a:pt x="251" y="377"/>
                  </a:lnTo>
                  <a:lnTo>
                    <a:pt x="230" y="390"/>
                  </a:lnTo>
                  <a:lnTo>
                    <a:pt x="207" y="401"/>
                  </a:lnTo>
                  <a:lnTo>
                    <a:pt x="185" y="409"/>
                  </a:lnTo>
                  <a:lnTo>
                    <a:pt x="160" y="417"/>
                  </a:lnTo>
                  <a:lnTo>
                    <a:pt x="135" y="420"/>
                  </a:lnTo>
                  <a:lnTo>
                    <a:pt x="109" y="421"/>
                  </a:lnTo>
                  <a:lnTo>
                    <a:pt x="83" y="420"/>
                  </a:lnTo>
                  <a:lnTo>
                    <a:pt x="58" y="417"/>
                  </a:lnTo>
                  <a:lnTo>
                    <a:pt x="33" y="409"/>
                  </a:lnTo>
                  <a:lnTo>
                    <a:pt x="27" y="408"/>
                  </a:lnTo>
                  <a:lnTo>
                    <a:pt x="23" y="403"/>
                  </a:lnTo>
                  <a:lnTo>
                    <a:pt x="20" y="399"/>
                  </a:lnTo>
                  <a:lnTo>
                    <a:pt x="16" y="394"/>
                  </a:lnTo>
                  <a:lnTo>
                    <a:pt x="13" y="389"/>
                  </a:lnTo>
                  <a:lnTo>
                    <a:pt x="9" y="384"/>
                  </a:lnTo>
                  <a:lnTo>
                    <a:pt x="6" y="380"/>
                  </a:lnTo>
                  <a:lnTo>
                    <a:pt x="3" y="374"/>
                  </a:lnTo>
                  <a:lnTo>
                    <a:pt x="0" y="369"/>
                  </a:lnTo>
                  <a:lnTo>
                    <a:pt x="20" y="377"/>
                  </a:lnTo>
                  <a:lnTo>
                    <a:pt x="41" y="384"/>
                  </a:lnTo>
                  <a:lnTo>
                    <a:pt x="63" y="390"/>
                  </a:lnTo>
                  <a:lnTo>
                    <a:pt x="85" y="394"/>
                  </a:lnTo>
                  <a:lnTo>
                    <a:pt x="109" y="395"/>
                  </a:lnTo>
                  <a:lnTo>
                    <a:pt x="133" y="394"/>
                  </a:lnTo>
                  <a:lnTo>
                    <a:pt x="155" y="390"/>
                  </a:lnTo>
                  <a:lnTo>
                    <a:pt x="177" y="384"/>
                  </a:lnTo>
                  <a:lnTo>
                    <a:pt x="198" y="377"/>
                  </a:lnTo>
                  <a:lnTo>
                    <a:pt x="218" y="368"/>
                  </a:lnTo>
                  <a:lnTo>
                    <a:pt x="237" y="356"/>
                  </a:lnTo>
                  <a:lnTo>
                    <a:pt x="255" y="343"/>
                  </a:lnTo>
                  <a:lnTo>
                    <a:pt x="270" y="327"/>
                  </a:lnTo>
                  <a:lnTo>
                    <a:pt x="286" y="312"/>
                  </a:lnTo>
                  <a:lnTo>
                    <a:pt x="299" y="294"/>
                  </a:lnTo>
                  <a:lnTo>
                    <a:pt x="311" y="275"/>
                  </a:lnTo>
                  <a:lnTo>
                    <a:pt x="320" y="255"/>
                  </a:lnTo>
                  <a:lnTo>
                    <a:pt x="327" y="233"/>
                  </a:lnTo>
                  <a:lnTo>
                    <a:pt x="333" y="212"/>
                  </a:lnTo>
                  <a:lnTo>
                    <a:pt x="337" y="189"/>
                  </a:lnTo>
                  <a:lnTo>
                    <a:pt x="338" y="166"/>
                  </a:lnTo>
                  <a:lnTo>
                    <a:pt x="364" y="166"/>
                  </a:lnTo>
                  <a:lnTo>
                    <a:pt x="363" y="139"/>
                  </a:lnTo>
                  <a:lnTo>
                    <a:pt x="359" y="114"/>
                  </a:lnTo>
                  <a:lnTo>
                    <a:pt x="352" y="89"/>
                  </a:lnTo>
                  <a:lnTo>
                    <a:pt x="344" y="67"/>
                  </a:lnTo>
                  <a:lnTo>
                    <a:pt x="333" y="44"/>
                  </a:lnTo>
                  <a:lnTo>
                    <a:pt x="320" y="23"/>
                  </a:lnTo>
                  <a:lnTo>
                    <a:pt x="309" y="11"/>
                  </a:lnTo>
                  <a:close/>
                </a:path>
              </a:pathLst>
            </a:custGeom>
            <a:solidFill>
              <a:srgbClr val="ff3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0840" y="3637080"/>
              <a:ext cx="158040" cy="192960"/>
            </a:xfrm>
            <a:custGeom>
              <a:avLst/>
              <a:gdLst/>
              <a:ahLst/>
              <a:rect l="l" t="t" r="r" b="b"/>
              <a:pathLst>
                <a:path w="358" h="397">
                  <a:moveTo>
                    <a:pt x="288" y="2"/>
                  </a:moveTo>
                  <a:lnTo>
                    <a:pt x="283" y="1"/>
                  </a:lnTo>
                  <a:lnTo>
                    <a:pt x="279" y="1"/>
                  </a:lnTo>
                  <a:lnTo>
                    <a:pt x="274" y="0"/>
                  </a:lnTo>
                  <a:lnTo>
                    <a:pt x="269" y="0"/>
                  </a:lnTo>
                  <a:lnTo>
                    <a:pt x="263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9" y="0"/>
                  </a:lnTo>
                  <a:lnTo>
                    <a:pt x="248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3" y="0"/>
                  </a:lnTo>
                  <a:lnTo>
                    <a:pt x="257" y="10"/>
                  </a:lnTo>
                  <a:lnTo>
                    <a:pt x="271" y="23"/>
                  </a:lnTo>
                  <a:lnTo>
                    <a:pt x="285" y="37"/>
                  </a:lnTo>
                  <a:lnTo>
                    <a:pt x="296" y="52"/>
                  </a:lnTo>
                  <a:lnTo>
                    <a:pt x="307" y="69"/>
                  </a:lnTo>
                  <a:lnTo>
                    <a:pt x="315" y="87"/>
                  </a:lnTo>
                  <a:lnTo>
                    <a:pt x="323" y="106"/>
                  </a:lnTo>
                  <a:lnTo>
                    <a:pt x="327" y="126"/>
                  </a:lnTo>
                  <a:lnTo>
                    <a:pt x="331" y="146"/>
                  </a:lnTo>
                  <a:lnTo>
                    <a:pt x="332" y="167"/>
                  </a:lnTo>
                  <a:lnTo>
                    <a:pt x="358" y="167"/>
                  </a:lnTo>
                  <a:lnTo>
                    <a:pt x="357" y="190"/>
                  </a:lnTo>
                  <a:lnTo>
                    <a:pt x="353" y="213"/>
                  </a:lnTo>
                  <a:lnTo>
                    <a:pt x="347" y="236"/>
                  </a:lnTo>
                  <a:lnTo>
                    <a:pt x="340" y="256"/>
                  </a:lnTo>
                  <a:lnTo>
                    <a:pt x="331" y="276"/>
                  </a:lnTo>
                  <a:lnTo>
                    <a:pt x="319" y="295"/>
                  </a:lnTo>
                  <a:lnTo>
                    <a:pt x="306" y="313"/>
                  </a:lnTo>
                  <a:lnTo>
                    <a:pt x="290" y="330"/>
                  </a:lnTo>
                  <a:lnTo>
                    <a:pt x="274" y="345"/>
                  </a:lnTo>
                  <a:lnTo>
                    <a:pt x="256" y="358"/>
                  </a:lnTo>
                  <a:lnTo>
                    <a:pt x="237" y="370"/>
                  </a:lnTo>
                  <a:lnTo>
                    <a:pt x="217" y="379"/>
                  </a:lnTo>
                  <a:lnTo>
                    <a:pt x="197" y="387"/>
                  </a:lnTo>
                  <a:lnTo>
                    <a:pt x="174" y="393"/>
                  </a:lnTo>
                  <a:lnTo>
                    <a:pt x="152" y="396"/>
                  </a:lnTo>
                  <a:lnTo>
                    <a:pt x="128" y="397"/>
                  </a:lnTo>
                  <a:lnTo>
                    <a:pt x="104" y="396"/>
                  </a:lnTo>
                  <a:lnTo>
                    <a:pt x="82" y="393"/>
                  </a:lnTo>
                  <a:lnTo>
                    <a:pt x="59" y="387"/>
                  </a:lnTo>
                  <a:lnTo>
                    <a:pt x="39" y="379"/>
                  </a:lnTo>
                  <a:lnTo>
                    <a:pt x="20" y="371"/>
                  </a:lnTo>
                  <a:lnTo>
                    <a:pt x="16" y="365"/>
                  </a:lnTo>
                  <a:lnTo>
                    <a:pt x="14" y="360"/>
                  </a:lnTo>
                  <a:lnTo>
                    <a:pt x="12" y="354"/>
                  </a:lnTo>
                  <a:lnTo>
                    <a:pt x="9" y="349"/>
                  </a:lnTo>
                  <a:lnTo>
                    <a:pt x="7" y="344"/>
                  </a:lnTo>
                  <a:lnTo>
                    <a:pt x="4" y="338"/>
                  </a:lnTo>
                  <a:lnTo>
                    <a:pt x="2" y="332"/>
                  </a:lnTo>
                  <a:lnTo>
                    <a:pt x="0" y="326"/>
                  </a:lnTo>
                  <a:lnTo>
                    <a:pt x="14" y="335"/>
                  </a:lnTo>
                  <a:lnTo>
                    <a:pt x="31" y="346"/>
                  </a:lnTo>
                  <a:lnTo>
                    <a:pt x="48" y="354"/>
                  </a:lnTo>
                  <a:lnTo>
                    <a:pt x="67" y="362"/>
                  </a:lnTo>
                  <a:lnTo>
                    <a:pt x="88" y="366"/>
                  </a:lnTo>
                  <a:lnTo>
                    <a:pt x="108" y="370"/>
                  </a:lnTo>
                  <a:lnTo>
                    <a:pt x="128" y="371"/>
                  </a:lnTo>
                  <a:lnTo>
                    <a:pt x="148" y="370"/>
                  </a:lnTo>
                  <a:lnTo>
                    <a:pt x="168" y="366"/>
                  </a:lnTo>
                  <a:lnTo>
                    <a:pt x="188" y="362"/>
                  </a:lnTo>
                  <a:lnTo>
                    <a:pt x="207" y="354"/>
                  </a:lnTo>
                  <a:lnTo>
                    <a:pt x="225" y="346"/>
                  </a:lnTo>
                  <a:lnTo>
                    <a:pt x="242" y="335"/>
                  </a:lnTo>
                  <a:lnTo>
                    <a:pt x="257" y="324"/>
                  </a:lnTo>
                  <a:lnTo>
                    <a:pt x="271" y="310"/>
                  </a:lnTo>
                  <a:lnTo>
                    <a:pt x="285" y="296"/>
                  </a:lnTo>
                  <a:lnTo>
                    <a:pt x="296" y="281"/>
                  </a:lnTo>
                  <a:lnTo>
                    <a:pt x="307" y="264"/>
                  </a:lnTo>
                  <a:lnTo>
                    <a:pt x="315" y="246"/>
                  </a:lnTo>
                  <a:lnTo>
                    <a:pt x="323" y="227"/>
                  </a:lnTo>
                  <a:lnTo>
                    <a:pt x="327" y="207"/>
                  </a:lnTo>
                  <a:lnTo>
                    <a:pt x="331" y="187"/>
                  </a:lnTo>
                  <a:lnTo>
                    <a:pt x="332" y="167"/>
                  </a:lnTo>
                  <a:lnTo>
                    <a:pt x="358" y="167"/>
                  </a:lnTo>
                  <a:lnTo>
                    <a:pt x="357" y="143"/>
                  </a:lnTo>
                  <a:lnTo>
                    <a:pt x="353" y="120"/>
                  </a:lnTo>
                  <a:lnTo>
                    <a:pt x="347" y="98"/>
                  </a:lnTo>
                  <a:lnTo>
                    <a:pt x="340" y="77"/>
                  </a:lnTo>
                  <a:lnTo>
                    <a:pt x="331" y="57"/>
                  </a:lnTo>
                  <a:lnTo>
                    <a:pt x="319" y="38"/>
                  </a:lnTo>
                  <a:lnTo>
                    <a:pt x="306" y="20"/>
                  </a:lnTo>
                  <a:lnTo>
                    <a:pt x="290" y="4"/>
                  </a:lnTo>
                  <a:lnTo>
                    <a:pt x="288" y="2"/>
                  </a:lnTo>
                  <a:close/>
                </a:path>
              </a:pathLst>
            </a:custGeom>
            <a:solidFill>
              <a:srgbClr val="ff4a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7240" y="3637080"/>
              <a:ext cx="150120" cy="180360"/>
            </a:xfrm>
            <a:custGeom>
              <a:avLst/>
              <a:gdLst/>
              <a:ahLst/>
              <a:rect l="l" t="t" r="r" b="b"/>
              <a:pathLst>
                <a:path w="343" h="372">
                  <a:moveTo>
                    <a:pt x="0" y="278"/>
                  </a:moveTo>
                  <a:lnTo>
                    <a:pt x="0" y="284"/>
                  </a:lnTo>
                  <a:lnTo>
                    <a:pt x="1" y="291"/>
                  </a:lnTo>
                  <a:lnTo>
                    <a:pt x="3" y="297"/>
                  </a:lnTo>
                  <a:lnTo>
                    <a:pt x="4" y="303"/>
                  </a:lnTo>
                  <a:lnTo>
                    <a:pt x="5" y="310"/>
                  </a:lnTo>
                  <a:lnTo>
                    <a:pt x="7" y="316"/>
                  </a:lnTo>
                  <a:lnTo>
                    <a:pt x="9" y="322"/>
                  </a:lnTo>
                  <a:lnTo>
                    <a:pt x="11" y="328"/>
                  </a:lnTo>
                  <a:lnTo>
                    <a:pt x="24" y="337"/>
                  </a:lnTo>
                  <a:lnTo>
                    <a:pt x="41" y="347"/>
                  </a:lnTo>
                  <a:lnTo>
                    <a:pt x="58" y="356"/>
                  </a:lnTo>
                  <a:lnTo>
                    <a:pt x="77" y="363"/>
                  </a:lnTo>
                  <a:lnTo>
                    <a:pt x="96" y="368"/>
                  </a:lnTo>
                  <a:lnTo>
                    <a:pt x="117" y="371"/>
                  </a:lnTo>
                  <a:lnTo>
                    <a:pt x="138" y="372"/>
                  </a:lnTo>
                  <a:lnTo>
                    <a:pt x="159" y="371"/>
                  </a:lnTo>
                  <a:lnTo>
                    <a:pt x="179" y="368"/>
                  </a:lnTo>
                  <a:lnTo>
                    <a:pt x="198" y="363"/>
                  </a:lnTo>
                  <a:lnTo>
                    <a:pt x="217" y="356"/>
                  </a:lnTo>
                  <a:lnTo>
                    <a:pt x="235" y="347"/>
                  </a:lnTo>
                  <a:lnTo>
                    <a:pt x="252" y="337"/>
                  </a:lnTo>
                  <a:lnTo>
                    <a:pt x="268" y="325"/>
                  </a:lnTo>
                  <a:lnTo>
                    <a:pt x="283" y="312"/>
                  </a:lnTo>
                  <a:lnTo>
                    <a:pt x="296" y="297"/>
                  </a:lnTo>
                  <a:lnTo>
                    <a:pt x="308" y="281"/>
                  </a:lnTo>
                  <a:lnTo>
                    <a:pt x="318" y="264"/>
                  </a:lnTo>
                  <a:lnTo>
                    <a:pt x="327" y="246"/>
                  </a:lnTo>
                  <a:lnTo>
                    <a:pt x="334" y="227"/>
                  </a:lnTo>
                  <a:lnTo>
                    <a:pt x="338" y="208"/>
                  </a:lnTo>
                  <a:lnTo>
                    <a:pt x="342" y="188"/>
                  </a:lnTo>
                  <a:lnTo>
                    <a:pt x="343" y="167"/>
                  </a:lnTo>
                  <a:lnTo>
                    <a:pt x="316" y="167"/>
                  </a:lnTo>
                  <a:lnTo>
                    <a:pt x="312" y="131"/>
                  </a:lnTo>
                  <a:lnTo>
                    <a:pt x="302" y="98"/>
                  </a:lnTo>
                  <a:lnTo>
                    <a:pt x="285" y="68"/>
                  </a:lnTo>
                  <a:lnTo>
                    <a:pt x="264" y="40"/>
                  </a:lnTo>
                  <a:lnTo>
                    <a:pt x="236" y="19"/>
                  </a:lnTo>
                  <a:lnTo>
                    <a:pt x="208" y="5"/>
                  </a:lnTo>
                  <a:lnTo>
                    <a:pt x="214" y="4"/>
                  </a:lnTo>
                  <a:lnTo>
                    <a:pt x="220" y="2"/>
                  </a:lnTo>
                  <a:lnTo>
                    <a:pt x="226" y="1"/>
                  </a:lnTo>
                  <a:lnTo>
                    <a:pt x="232" y="1"/>
                  </a:lnTo>
                  <a:lnTo>
                    <a:pt x="236" y="0"/>
                  </a:lnTo>
                  <a:lnTo>
                    <a:pt x="242" y="0"/>
                  </a:lnTo>
                  <a:lnTo>
                    <a:pt x="248" y="0"/>
                  </a:lnTo>
                  <a:lnTo>
                    <a:pt x="254" y="0"/>
                  </a:lnTo>
                  <a:lnTo>
                    <a:pt x="268" y="8"/>
                  </a:lnTo>
                  <a:lnTo>
                    <a:pt x="283" y="21"/>
                  </a:lnTo>
                  <a:lnTo>
                    <a:pt x="296" y="36"/>
                  </a:lnTo>
                  <a:lnTo>
                    <a:pt x="308" y="52"/>
                  </a:lnTo>
                  <a:lnTo>
                    <a:pt x="318" y="69"/>
                  </a:lnTo>
                  <a:lnTo>
                    <a:pt x="327" y="87"/>
                  </a:lnTo>
                  <a:lnTo>
                    <a:pt x="334" y="106"/>
                  </a:lnTo>
                  <a:lnTo>
                    <a:pt x="338" y="125"/>
                  </a:lnTo>
                  <a:lnTo>
                    <a:pt x="342" y="145"/>
                  </a:lnTo>
                  <a:lnTo>
                    <a:pt x="343" y="167"/>
                  </a:lnTo>
                  <a:lnTo>
                    <a:pt x="316" y="167"/>
                  </a:lnTo>
                  <a:lnTo>
                    <a:pt x="312" y="202"/>
                  </a:lnTo>
                  <a:lnTo>
                    <a:pt x="302" y="236"/>
                  </a:lnTo>
                  <a:lnTo>
                    <a:pt x="285" y="265"/>
                  </a:lnTo>
                  <a:lnTo>
                    <a:pt x="264" y="293"/>
                  </a:lnTo>
                  <a:lnTo>
                    <a:pt x="236" y="314"/>
                  </a:lnTo>
                  <a:lnTo>
                    <a:pt x="207" y="331"/>
                  </a:lnTo>
                  <a:lnTo>
                    <a:pt x="174" y="341"/>
                  </a:lnTo>
                  <a:lnTo>
                    <a:pt x="138" y="345"/>
                  </a:lnTo>
                  <a:lnTo>
                    <a:pt x="102" y="341"/>
                  </a:lnTo>
                  <a:lnTo>
                    <a:pt x="69" y="331"/>
                  </a:lnTo>
                  <a:lnTo>
                    <a:pt x="39" y="314"/>
                  </a:lnTo>
                  <a:lnTo>
                    <a:pt x="12" y="293"/>
                  </a:lnTo>
                  <a:lnTo>
                    <a:pt x="0" y="278"/>
                  </a:lnTo>
                  <a:close/>
                </a:path>
              </a:pathLst>
            </a:custGeom>
            <a:solidFill>
              <a:srgbClr val="ff5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5800" y="3638880"/>
              <a:ext cx="140400" cy="165960"/>
            </a:xfrm>
            <a:custGeom>
              <a:avLst/>
              <a:gdLst/>
              <a:ahLst/>
              <a:rect l="l" t="t" r="r" b="b"/>
              <a:pathLst>
                <a:path w="319" h="342">
                  <a:moveTo>
                    <a:pt x="2" y="278"/>
                  </a:moveTo>
                  <a:lnTo>
                    <a:pt x="1" y="270"/>
                  </a:lnTo>
                  <a:lnTo>
                    <a:pt x="1" y="262"/>
                  </a:lnTo>
                  <a:lnTo>
                    <a:pt x="0" y="255"/>
                  </a:lnTo>
                  <a:lnTo>
                    <a:pt x="0" y="248"/>
                  </a:lnTo>
                  <a:lnTo>
                    <a:pt x="0" y="243"/>
                  </a:lnTo>
                  <a:lnTo>
                    <a:pt x="1" y="238"/>
                  </a:lnTo>
                  <a:lnTo>
                    <a:pt x="1" y="233"/>
                  </a:lnTo>
                  <a:lnTo>
                    <a:pt x="1" y="228"/>
                  </a:lnTo>
                  <a:lnTo>
                    <a:pt x="13" y="248"/>
                  </a:lnTo>
                  <a:lnTo>
                    <a:pt x="32" y="271"/>
                  </a:lnTo>
                  <a:lnTo>
                    <a:pt x="54" y="290"/>
                  </a:lnTo>
                  <a:lnTo>
                    <a:pt x="81" y="304"/>
                  </a:lnTo>
                  <a:lnTo>
                    <a:pt x="109" y="312"/>
                  </a:lnTo>
                  <a:lnTo>
                    <a:pt x="140" y="316"/>
                  </a:lnTo>
                  <a:lnTo>
                    <a:pt x="171" y="312"/>
                  </a:lnTo>
                  <a:lnTo>
                    <a:pt x="199" y="304"/>
                  </a:lnTo>
                  <a:lnTo>
                    <a:pt x="225" y="290"/>
                  </a:lnTo>
                  <a:lnTo>
                    <a:pt x="248" y="271"/>
                  </a:lnTo>
                  <a:lnTo>
                    <a:pt x="267" y="248"/>
                  </a:lnTo>
                  <a:lnTo>
                    <a:pt x="281" y="222"/>
                  </a:lnTo>
                  <a:lnTo>
                    <a:pt x="289" y="193"/>
                  </a:lnTo>
                  <a:lnTo>
                    <a:pt x="293" y="163"/>
                  </a:lnTo>
                  <a:lnTo>
                    <a:pt x="319" y="163"/>
                  </a:lnTo>
                  <a:lnTo>
                    <a:pt x="316" y="127"/>
                  </a:lnTo>
                  <a:lnTo>
                    <a:pt x="305" y="92"/>
                  </a:lnTo>
                  <a:lnTo>
                    <a:pt x="288" y="63"/>
                  </a:lnTo>
                  <a:lnTo>
                    <a:pt x="267" y="35"/>
                  </a:lnTo>
                  <a:lnTo>
                    <a:pt x="240" y="14"/>
                  </a:lnTo>
                  <a:lnTo>
                    <a:pt x="212" y="0"/>
                  </a:lnTo>
                  <a:lnTo>
                    <a:pt x="206" y="1"/>
                  </a:lnTo>
                  <a:lnTo>
                    <a:pt x="200" y="2"/>
                  </a:lnTo>
                  <a:lnTo>
                    <a:pt x="194" y="3"/>
                  </a:lnTo>
                  <a:lnTo>
                    <a:pt x="189" y="6"/>
                  </a:lnTo>
                  <a:lnTo>
                    <a:pt x="183" y="7"/>
                  </a:lnTo>
                  <a:lnTo>
                    <a:pt x="177" y="9"/>
                  </a:lnTo>
                  <a:lnTo>
                    <a:pt x="172" y="10"/>
                  </a:lnTo>
                  <a:lnTo>
                    <a:pt x="166" y="13"/>
                  </a:lnTo>
                  <a:lnTo>
                    <a:pt x="171" y="13"/>
                  </a:lnTo>
                  <a:lnTo>
                    <a:pt x="199" y="21"/>
                  </a:lnTo>
                  <a:lnTo>
                    <a:pt x="225" y="35"/>
                  </a:lnTo>
                  <a:lnTo>
                    <a:pt x="248" y="54"/>
                  </a:lnTo>
                  <a:lnTo>
                    <a:pt x="267" y="77"/>
                  </a:lnTo>
                  <a:lnTo>
                    <a:pt x="281" y="103"/>
                  </a:lnTo>
                  <a:lnTo>
                    <a:pt x="289" y="132"/>
                  </a:lnTo>
                  <a:lnTo>
                    <a:pt x="293" y="163"/>
                  </a:lnTo>
                  <a:lnTo>
                    <a:pt x="319" y="163"/>
                  </a:lnTo>
                  <a:lnTo>
                    <a:pt x="316" y="198"/>
                  </a:lnTo>
                  <a:lnTo>
                    <a:pt x="305" y="233"/>
                  </a:lnTo>
                  <a:lnTo>
                    <a:pt x="288" y="262"/>
                  </a:lnTo>
                  <a:lnTo>
                    <a:pt x="267" y="290"/>
                  </a:lnTo>
                  <a:lnTo>
                    <a:pt x="240" y="311"/>
                  </a:lnTo>
                  <a:lnTo>
                    <a:pt x="210" y="328"/>
                  </a:lnTo>
                  <a:lnTo>
                    <a:pt x="176" y="339"/>
                  </a:lnTo>
                  <a:lnTo>
                    <a:pt x="140" y="342"/>
                  </a:lnTo>
                  <a:lnTo>
                    <a:pt x="104" y="339"/>
                  </a:lnTo>
                  <a:lnTo>
                    <a:pt x="70" y="328"/>
                  </a:lnTo>
                  <a:lnTo>
                    <a:pt x="40" y="311"/>
                  </a:lnTo>
                  <a:lnTo>
                    <a:pt x="13" y="290"/>
                  </a:lnTo>
                  <a:lnTo>
                    <a:pt x="2" y="278"/>
                  </a:lnTo>
                  <a:close/>
                </a:path>
              </a:pathLst>
            </a:custGeom>
            <a:solidFill>
              <a:srgbClr val="ff6b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6520" y="3644640"/>
              <a:ext cx="128880" cy="148320"/>
            </a:xfrm>
            <a:custGeom>
              <a:avLst/>
              <a:gdLst/>
              <a:ahLst/>
              <a:rect l="l" t="t" r="r" b="b"/>
              <a:pathLst>
                <a:path w="293" h="305">
                  <a:moveTo>
                    <a:pt x="12" y="158"/>
                  </a:moveTo>
                  <a:lnTo>
                    <a:pt x="10" y="165"/>
                  </a:lnTo>
                  <a:lnTo>
                    <a:pt x="7" y="172"/>
                  </a:lnTo>
                  <a:lnTo>
                    <a:pt x="6" y="179"/>
                  </a:lnTo>
                  <a:lnTo>
                    <a:pt x="5" y="187"/>
                  </a:lnTo>
                  <a:lnTo>
                    <a:pt x="2" y="195"/>
                  </a:lnTo>
                  <a:lnTo>
                    <a:pt x="1" y="203"/>
                  </a:lnTo>
                  <a:lnTo>
                    <a:pt x="1" y="210"/>
                  </a:lnTo>
                  <a:lnTo>
                    <a:pt x="0" y="218"/>
                  </a:lnTo>
                  <a:lnTo>
                    <a:pt x="11" y="236"/>
                  </a:lnTo>
                  <a:lnTo>
                    <a:pt x="30" y="260"/>
                  </a:lnTo>
                  <a:lnTo>
                    <a:pt x="53" y="279"/>
                  </a:lnTo>
                  <a:lnTo>
                    <a:pt x="80" y="293"/>
                  </a:lnTo>
                  <a:lnTo>
                    <a:pt x="108" y="302"/>
                  </a:lnTo>
                  <a:lnTo>
                    <a:pt x="139" y="305"/>
                  </a:lnTo>
                  <a:lnTo>
                    <a:pt x="170" y="302"/>
                  </a:lnTo>
                  <a:lnTo>
                    <a:pt x="198" y="293"/>
                  </a:lnTo>
                  <a:lnTo>
                    <a:pt x="224" y="279"/>
                  </a:lnTo>
                  <a:lnTo>
                    <a:pt x="248" y="260"/>
                  </a:lnTo>
                  <a:lnTo>
                    <a:pt x="267" y="236"/>
                  </a:lnTo>
                  <a:lnTo>
                    <a:pt x="281" y="210"/>
                  </a:lnTo>
                  <a:lnTo>
                    <a:pt x="290" y="181"/>
                  </a:lnTo>
                  <a:lnTo>
                    <a:pt x="293" y="151"/>
                  </a:lnTo>
                  <a:lnTo>
                    <a:pt x="266" y="151"/>
                  </a:lnTo>
                  <a:lnTo>
                    <a:pt x="264" y="124"/>
                  </a:lnTo>
                  <a:lnTo>
                    <a:pt x="256" y="101"/>
                  </a:lnTo>
                  <a:lnTo>
                    <a:pt x="245" y="79"/>
                  </a:lnTo>
                  <a:lnTo>
                    <a:pt x="229" y="60"/>
                  </a:lnTo>
                  <a:lnTo>
                    <a:pt x="210" y="45"/>
                  </a:lnTo>
                  <a:lnTo>
                    <a:pt x="189" y="33"/>
                  </a:lnTo>
                  <a:lnTo>
                    <a:pt x="165" y="26"/>
                  </a:lnTo>
                  <a:lnTo>
                    <a:pt x="139" y="23"/>
                  </a:lnTo>
                  <a:lnTo>
                    <a:pt x="115" y="26"/>
                  </a:lnTo>
                  <a:lnTo>
                    <a:pt x="121" y="22"/>
                  </a:lnTo>
                  <a:lnTo>
                    <a:pt x="127" y="19"/>
                  </a:lnTo>
                  <a:lnTo>
                    <a:pt x="133" y="15"/>
                  </a:lnTo>
                  <a:lnTo>
                    <a:pt x="140" y="11"/>
                  </a:lnTo>
                  <a:lnTo>
                    <a:pt x="146" y="8"/>
                  </a:lnTo>
                  <a:lnTo>
                    <a:pt x="153" y="5"/>
                  </a:lnTo>
                  <a:lnTo>
                    <a:pt x="160" y="2"/>
                  </a:lnTo>
                  <a:lnTo>
                    <a:pt x="167" y="0"/>
                  </a:lnTo>
                  <a:lnTo>
                    <a:pt x="170" y="0"/>
                  </a:lnTo>
                  <a:lnTo>
                    <a:pt x="198" y="8"/>
                  </a:lnTo>
                  <a:lnTo>
                    <a:pt x="224" y="22"/>
                  </a:lnTo>
                  <a:lnTo>
                    <a:pt x="248" y="41"/>
                  </a:lnTo>
                  <a:lnTo>
                    <a:pt x="267" y="65"/>
                  </a:lnTo>
                  <a:lnTo>
                    <a:pt x="281" y="91"/>
                  </a:lnTo>
                  <a:lnTo>
                    <a:pt x="290" y="120"/>
                  </a:lnTo>
                  <a:lnTo>
                    <a:pt x="293" y="151"/>
                  </a:lnTo>
                  <a:lnTo>
                    <a:pt x="266" y="151"/>
                  </a:lnTo>
                  <a:lnTo>
                    <a:pt x="264" y="177"/>
                  </a:lnTo>
                  <a:lnTo>
                    <a:pt x="256" y="201"/>
                  </a:lnTo>
                  <a:lnTo>
                    <a:pt x="245" y="222"/>
                  </a:lnTo>
                  <a:lnTo>
                    <a:pt x="229" y="241"/>
                  </a:lnTo>
                  <a:lnTo>
                    <a:pt x="210" y="256"/>
                  </a:lnTo>
                  <a:lnTo>
                    <a:pt x="189" y="268"/>
                  </a:lnTo>
                  <a:lnTo>
                    <a:pt x="165" y="275"/>
                  </a:lnTo>
                  <a:lnTo>
                    <a:pt x="139" y="278"/>
                  </a:lnTo>
                  <a:lnTo>
                    <a:pt x="113" y="275"/>
                  </a:lnTo>
                  <a:lnTo>
                    <a:pt x="89" y="268"/>
                  </a:lnTo>
                  <a:lnTo>
                    <a:pt x="68" y="256"/>
                  </a:lnTo>
                  <a:lnTo>
                    <a:pt x="49" y="241"/>
                  </a:lnTo>
                  <a:lnTo>
                    <a:pt x="33" y="222"/>
                  </a:lnTo>
                  <a:lnTo>
                    <a:pt x="21" y="201"/>
                  </a:lnTo>
                  <a:lnTo>
                    <a:pt x="14" y="177"/>
                  </a:lnTo>
                  <a:lnTo>
                    <a:pt x="12" y="158"/>
                  </a:lnTo>
                  <a:close/>
                </a:path>
              </a:pathLst>
            </a:custGeom>
            <a:solidFill>
              <a:srgbClr val="ff7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0840" y="3655440"/>
              <a:ext cx="113400" cy="124920"/>
            </a:xfrm>
            <a:custGeom>
              <a:avLst/>
              <a:gdLst/>
              <a:ahLst/>
              <a:rect l="l" t="t" r="r" b="b"/>
              <a:pathLst>
                <a:path w="256" h="257">
                  <a:moveTo>
                    <a:pt x="105" y="2"/>
                  </a:moveTo>
                  <a:lnTo>
                    <a:pt x="88" y="16"/>
                  </a:lnTo>
                  <a:lnTo>
                    <a:pt x="70" y="30"/>
                  </a:lnTo>
                  <a:lnTo>
                    <a:pt x="54" y="45"/>
                  </a:lnTo>
                  <a:lnTo>
                    <a:pt x="40" y="62"/>
                  </a:lnTo>
                  <a:lnTo>
                    <a:pt x="28" y="80"/>
                  </a:lnTo>
                  <a:lnTo>
                    <a:pt x="16" y="99"/>
                  </a:lnTo>
                  <a:lnTo>
                    <a:pt x="7" y="118"/>
                  </a:lnTo>
                  <a:lnTo>
                    <a:pt x="0" y="139"/>
                  </a:lnTo>
                  <a:lnTo>
                    <a:pt x="2" y="155"/>
                  </a:lnTo>
                  <a:lnTo>
                    <a:pt x="10" y="179"/>
                  </a:lnTo>
                  <a:lnTo>
                    <a:pt x="22" y="200"/>
                  </a:lnTo>
                  <a:lnTo>
                    <a:pt x="38" y="219"/>
                  </a:lnTo>
                  <a:lnTo>
                    <a:pt x="57" y="234"/>
                  </a:lnTo>
                  <a:lnTo>
                    <a:pt x="78" y="246"/>
                  </a:lnTo>
                  <a:lnTo>
                    <a:pt x="102" y="255"/>
                  </a:lnTo>
                  <a:lnTo>
                    <a:pt x="128" y="257"/>
                  </a:lnTo>
                  <a:lnTo>
                    <a:pt x="154" y="255"/>
                  </a:lnTo>
                  <a:lnTo>
                    <a:pt x="178" y="246"/>
                  </a:lnTo>
                  <a:lnTo>
                    <a:pt x="199" y="234"/>
                  </a:lnTo>
                  <a:lnTo>
                    <a:pt x="218" y="219"/>
                  </a:lnTo>
                  <a:lnTo>
                    <a:pt x="234" y="200"/>
                  </a:lnTo>
                  <a:lnTo>
                    <a:pt x="245" y="179"/>
                  </a:lnTo>
                  <a:lnTo>
                    <a:pt x="254" y="155"/>
                  </a:lnTo>
                  <a:lnTo>
                    <a:pt x="256" y="129"/>
                  </a:lnTo>
                  <a:lnTo>
                    <a:pt x="230" y="129"/>
                  </a:lnTo>
                  <a:lnTo>
                    <a:pt x="228" y="108"/>
                  </a:lnTo>
                  <a:lnTo>
                    <a:pt x="222" y="89"/>
                  </a:lnTo>
                  <a:lnTo>
                    <a:pt x="212" y="71"/>
                  </a:lnTo>
                  <a:lnTo>
                    <a:pt x="200" y="56"/>
                  </a:lnTo>
                  <a:lnTo>
                    <a:pt x="185" y="44"/>
                  </a:lnTo>
                  <a:lnTo>
                    <a:pt x="167" y="35"/>
                  </a:lnTo>
                  <a:lnTo>
                    <a:pt x="148" y="29"/>
                  </a:lnTo>
                  <a:lnTo>
                    <a:pt x="128" y="26"/>
                  </a:lnTo>
                  <a:lnTo>
                    <a:pt x="108" y="29"/>
                  </a:lnTo>
                  <a:lnTo>
                    <a:pt x="89" y="35"/>
                  </a:lnTo>
                  <a:lnTo>
                    <a:pt x="71" y="44"/>
                  </a:lnTo>
                  <a:lnTo>
                    <a:pt x="56" y="56"/>
                  </a:lnTo>
                  <a:lnTo>
                    <a:pt x="44" y="71"/>
                  </a:lnTo>
                  <a:lnTo>
                    <a:pt x="34" y="89"/>
                  </a:lnTo>
                  <a:lnTo>
                    <a:pt x="28" y="108"/>
                  </a:lnTo>
                  <a:lnTo>
                    <a:pt x="26" y="129"/>
                  </a:lnTo>
                  <a:lnTo>
                    <a:pt x="28" y="149"/>
                  </a:lnTo>
                  <a:lnTo>
                    <a:pt x="34" y="168"/>
                  </a:lnTo>
                  <a:lnTo>
                    <a:pt x="44" y="186"/>
                  </a:lnTo>
                  <a:lnTo>
                    <a:pt x="56" y="201"/>
                  </a:lnTo>
                  <a:lnTo>
                    <a:pt x="71" y="213"/>
                  </a:lnTo>
                  <a:lnTo>
                    <a:pt x="89" y="223"/>
                  </a:lnTo>
                  <a:lnTo>
                    <a:pt x="108" y="228"/>
                  </a:lnTo>
                  <a:lnTo>
                    <a:pt x="128" y="231"/>
                  </a:lnTo>
                  <a:lnTo>
                    <a:pt x="148" y="228"/>
                  </a:lnTo>
                  <a:lnTo>
                    <a:pt x="167" y="223"/>
                  </a:lnTo>
                  <a:lnTo>
                    <a:pt x="185" y="213"/>
                  </a:lnTo>
                  <a:lnTo>
                    <a:pt x="200" y="201"/>
                  </a:lnTo>
                  <a:lnTo>
                    <a:pt x="212" y="186"/>
                  </a:lnTo>
                  <a:lnTo>
                    <a:pt x="222" y="168"/>
                  </a:lnTo>
                  <a:lnTo>
                    <a:pt x="228" y="149"/>
                  </a:lnTo>
                  <a:lnTo>
                    <a:pt x="230" y="129"/>
                  </a:lnTo>
                  <a:lnTo>
                    <a:pt x="256" y="129"/>
                  </a:lnTo>
                  <a:lnTo>
                    <a:pt x="254" y="102"/>
                  </a:lnTo>
                  <a:lnTo>
                    <a:pt x="245" y="79"/>
                  </a:lnTo>
                  <a:lnTo>
                    <a:pt x="234" y="57"/>
                  </a:lnTo>
                  <a:lnTo>
                    <a:pt x="218" y="38"/>
                  </a:lnTo>
                  <a:lnTo>
                    <a:pt x="199" y="23"/>
                  </a:lnTo>
                  <a:lnTo>
                    <a:pt x="178" y="11"/>
                  </a:lnTo>
                  <a:lnTo>
                    <a:pt x="154" y="2"/>
                  </a:lnTo>
                  <a:lnTo>
                    <a:pt x="128" y="0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8f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2000" y="3668040"/>
              <a:ext cx="90360" cy="99720"/>
            </a:xfrm>
            <a:custGeom>
              <a:avLst/>
              <a:gdLst/>
              <a:ahLst/>
              <a:rect l="l" t="t" r="r" b="b"/>
              <a:pathLst>
                <a:path w="206" h="207">
                  <a:moveTo>
                    <a:pt x="206" y="104"/>
                  </a:moveTo>
                  <a:lnTo>
                    <a:pt x="204" y="82"/>
                  </a:lnTo>
                  <a:lnTo>
                    <a:pt x="198" y="63"/>
                  </a:lnTo>
                  <a:lnTo>
                    <a:pt x="188" y="45"/>
                  </a:lnTo>
                  <a:lnTo>
                    <a:pt x="176" y="30"/>
                  </a:lnTo>
                  <a:lnTo>
                    <a:pt x="161" y="18"/>
                  </a:lnTo>
                  <a:lnTo>
                    <a:pt x="143" y="8"/>
                  </a:lnTo>
                  <a:lnTo>
                    <a:pt x="124" y="2"/>
                  </a:lnTo>
                  <a:lnTo>
                    <a:pt x="103" y="0"/>
                  </a:lnTo>
                  <a:lnTo>
                    <a:pt x="82" y="2"/>
                  </a:lnTo>
                  <a:lnTo>
                    <a:pt x="63" y="8"/>
                  </a:lnTo>
                  <a:lnTo>
                    <a:pt x="45" y="18"/>
                  </a:lnTo>
                  <a:lnTo>
                    <a:pt x="31" y="30"/>
                  </a:lnTo>
                  <a:lnTo>
                    <a:pt x="17" y="45"/>
                  </a:lnTo>
                  <a:lnTo>
                    <a:pt x="8" y="63"/>
                  </a:lnTo>
                  <a:lnTo>
                    <a:pt x="2" y="82"/>
                  </a:lnTo>
                  <a:lnTo>
                    <a:pt x="0" y="104"/>
                  </a:lnTo>
                  <a:lnTo>
                    <a:pt x="2" y="125"/>
                  </a:lnTo>
                  <a:lnTo>
                    <a:pt x="8" y="144"/>
                  </a:lnTo>
                  <a:lnTo>
                    <a:pt x="17" y="162"/>
                  </a:lnTo>
                  <a:lnTo>
                    <a:pt x="31" y="176"/>
                  </a:lnTo>
                  <a:lnTo>
                    <a:pt x="45" y="189"/>
                  </a:lnTo>
                  <a:lnTo>
                    <a:pt x="63" y="199"/>
                  </a:lnTo>
                  <a:lnTo>
                    <a:pt x="82" y="205"/>
                  </a:lnTo>
                  <a:lnTo>
                    <a:pt x="103" y="207"/>
                  </a:lnTo>
                  <a:lnTo>
                    <a:pt x="124" y="205"/>
                  </a:lnTo>
                  <a:lnTo>
                    <a:pt x="143" y="199"/>
                  </a:lnTo>
                  <a:lnTo>
                    <a:pt x="161" y="189"/>
                  </a:lnTo>
                  <a:lnTo>
                    <a:pt x="176" y="176"/>
                  </a:lnTo>
                  <a:lnTo>
                    <a:pt x="188" y="162"/>
                  </a:lnTo>
                  <a:lnTo>
                    <a:pt x="198" y="144"/>
                  </a:lnTo>
                  <a:lnTo>
                    <a:pt x="204" y="125"/>
                  </a:lnTo>
                  <a:lnTo>
                    <a:pt x="206" y="104"/>
                  </a:lnTo>
                  <a:lnTo>
                    <a:pt x="180" y="104"/>
                  </a:lnTo>
                  <a:lnTo>
                    <a:pt x="179" y="88"/>
                  </a:lnTo>
                  <a:lnTo>
                    <a:pt x="174" y="74"/>
                  </a:lnTo>
                  <a:lnTo>
                    <a:pt x="167" y="61"/>
                  </a:lnTo>
                  <a:lnTo>
                    <a:pt x="157" y="49"/>
                  </a:lnTo>
                  <a:lnTo>
                    <a:pt x="146" y="39"/>
                  </a:lnTo>
                  <a:lnTo>
                    <a:pt x="133" y="32"/>
                  </a:lnTo>
                  <a:lnTo>
                    <a:pt x="118" y="27"/>
                  </a:lnTo>
                  <a:lnTo>
                    <a:pt x="103" y="26"/>
                  </a:lnTo>
                  <a:lnTo>
                    <a:pt x="87" y="27"/>
                  </a:lnTo>
                  <a:lnTo>
                    <a:pt x="73" y="32"/>
                  </a:lnTo>
                  <a:lnTo>
                    <a:pt x="60" y="39"/>
                  </a:lnTo>
                  <a:lnTo>
                    <a:pt x="48" y="49"/>
                  </a:lnTo>
                  <a:lnTo>
                    <a:pt x="39" y="61"/>
                  </a:lnTo>
                  <a:lnTo>
                    <a:pt x="32" y="74"/>
                  </a:lnTo>
                  <a:lnTo>
                    <a:pt x="27" y="88"/>
                  </a:lnTo>
                  <a:lnTo>
                    <a:pt x="26" y="104"/>
                  </a:lnTo>
                  <a:lnTo>
                    <a:pt x="27" y="119"/>
                  </a:lnTo>
                  <a:lnTo>
                    <a:pt x="32" y="133"/>
                  </a:lnTo>
                  <a:lnTo>
                    <a:pt x="39" y="146"/>
                  </a:lnTo>
                  <a:lnTo>
                    <a:pt x="48" y="158"/>
                  </a:lnTo>
                  <a:lnTo>
                    <a:pt x="60" y="168"/>
                  </a:lnTo>
                  <a:lnTo>
                    <a:pt x="73" y="175"/>
                  </a:lnTo>
                  <a:lnTo>
                    <a:pt x="87" y="180"/>
                  </a:lnTo>
                  <a:lnTo>
                    <a:pt x="103" y="181"/>
                  </a:lnTo>
                  <a:lnTo>
                    <a:pt x="118" y="180"/>
                  </a:lnTo>
                  <a:lnTo>
                    <a:pt x="133" y="175"/>
                  </a:lnTo>
                  <a:lnTo>
                    <a:pt x="146" y="168"/>
                  </a:lnTo>
                  <a:lnTo>
                    <a:pt x="157" y="158"/>
                  </a:lnTo>
                  <a:lnTo>
                    <a:pt x="167" y="146"/>
                  </a:lnTo>
                  <a:lnTo>
                    <a:pt x="174" y="133"/>
                  </a:lnTo>
                  <a:lnTo>
                    <a:pt x="179" y="119"/>
                  </a:lnTo>
                  <a:lnTo>
                    <a:pt x="180" y="104"/>
                  </a:lnTo>
                  <a:lnTo>
                    <a:pt x="206" y="104"/>
                  </a:lnTo>
                  <a:close/>
                </a:path>
              </a:pathLst>
            </a:custGeom>
            <a:solidFill>
              <a:srgbClr val="ffa1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12800" y="3679560"/>
              <a:ext cx="69480" cy="76320"/>
            </a:xfrm>
            <a:custGeom>
              <a:avLst/>
              <a:gdLst/>
              <a:ahLst/>
              <a:rect l="l" t="t" r="r" b="b"/>
              <a:pathLst>
                <a:path w="156" h="157">
                  <a:moveTo>
                    <a:pt x="156" y="79"/>
                  </a:moveTo>
                  <a:lnTo>
                    <a:pt x="155" y="63"/>
                  </a:lnTo>
                  <a:lnTo>
                    <a:pt x="150" y="48"/>
                  </a:lnTo>
                  <a:lnTo>
                    <a:pt x="143" y="35"/>
                  </a:lnTo>
                  <a:lnTo>
                    <a:pt x="134" y="23"/>
                  </a:lnTo>
                  <a:lnTo>
                    <a:pt x="122" y="13"/>
                  </a:lnTo>
                  <a:lnTo>
                    <a:pt x="109" y="6"/>
                  </a:lnTo>
                  <a:lnTo>
                    <a:pt x="93" y="1"/>
                  </a:lnTo>
                  <a:lnTo>
                    <a:pt x="78" y="0"/>
                  </a:lnTo>
                  <a:lnTo>
                    <a:pt x="62" y="1"/>
                  </a:lnTo>
                  <a:lnTo>
                    <a:pt x="48" y="6"/>
                  </a:lnTo>
                  <a:lnTo>
                    <a:pt x="34" y="13"/>
                  </a:lnTo>
                  <a:lnTo>
                    <a:pt x="23" y="23"/>
                  </a:lnTo>
                  <a:lnTo>
                    <a:pt x="13" y="35"/>
                  </a:lnTo>
                  <a:lnTo>
                    <a:pt x="6" y="48"/>
                  </a:lnTo>
                  <a:lnTo>
                    <a:pt x="1" y="63"/>
                  </a:lnTo>
                  <a:lnTo>
                    <a:pt x="0" y="79"/>
                  </a:lnTo>
                  <a:lnTo>
                    <a:pt x="1" y="94"/>
                  </a:lnTo>
                  <a:lnTo>
                    <a:pt x="6" y="108"/>
                  </a:lnTo>
                  <a:lnTo>
                    <a:pt x="13" y="123"/>
                  </a:lnTo>
                  <a:lnTo>
                    <a:pt x="23" y="133"/>
                  </a:lnTo>
                  <a:lnTo>
                    <a:pt x="34" y="144"/>
                  </a:lnTo>
                  <a:lnTo>
                    <a:pt x="48" y="151"/>
                  </a:lnTo>
                  <a:lnTo>
                    <a:pt x="62" y="156"/>
                  </a:lnTo>
                  <a:lnTo>
                    <a:pt x="78" y="157"/>
                  </a:lnTo>
                  <a:lnTo>
                    <a:pt x="93" y="156"/>
                  </a:lnTo>
                  <a:lnTo>
                    <a:pt x="109" y="151"/>
                  </a:lnTo>
                  <a:lnTo>
                    <a:pt x="122" y="144"/>
                  </a:lnTo>
                  <a:lnTo>
                    <a:pt x="134" y="133"/>
                  </a:lnTo>
                  <a:lnTo>
                    <a:pt x="143" y="123"/>
                  </a:lnTo>
                  <a:lnTo>
                    <a:pt x="150" y="108"/>
                  </a:lnTo>
                  <a:lnTo>
                    <a:pt x="155" y="94"/>
                  </a:lnTo>
                  <a:lnTo>
                    <a:pt x="156" y="79"/>
                  </a:lnTo>
                  <a:lnTo>
                    <a:pt x="129" y="79"/>
                  </a:lnTo>
                  <a:lnTo>
                    <a:pt x="128" y="69"/>
                  </a:lnTo>
                  <a:lnTo>
                    <a:pt x="125" y="60"/>
                  </a:lnTo>
                  <a:lnTo>
                    <a:pt x="119" y="50"/>
                  </a:lnTo>
                  <a:lnTo>
                    <a:pt x="114" y="43"/>
                  </a:lnTo>
                  <a:lnTo>
                    <a:pt x="106" y="37"/>
                  </a:lnTo>
                  <a:lnTo>
                    <a:pt x="97" y="31"/>
                  </a:lnTo>
                  <a:lnTo>
                    <a:pt x="87" y="29"/>
                  </a:lnTo>
                  <a:lnTo>
                    <a:pt x="78" y="27"/>
                  </a:lnTo>
                  <a:lnTo>
                    <a:pt x="68" y="29"/>
                  </a:lnTo>
                  <a:lnTo>
                    <a:pt x="59" y="31"/>
                  </a:lnTo>
                  <a:lnTo>
                    <a:pt x="49" y="37"/>
                  </a:lnTo>
                  <a:lnTo>
                    <a:pt x="42" y="43"/>
                  </a:lnTo>
                  <a:lnTo>
                    <a:pt x="36" y="50"/>
                  </a:lnTo>
                  <a:lnTo>
                    <a:pt x="30" y="60"/>
                  </a:lnTo>
                  <a:lnTo>
                    <a:pt x="28" y="69"/>
                  </a:lnTo>
                  <a:lnTo>
                    <a:pt x="27" y="79"/>
                  </a:lnTo>
                  <a:lnTo>
                    <a:pt x="28" y="88"/>
                  </a:lnTo>
                  <a:lnTo>
                    <a:pt x="30" y="98"/>
                  </a:lnTo>
                  <a:lnTo>
                    <a:pt x="36" y="107"/>
                  </a:lnTo>
                  <a:lnTo>
                    <a:pt x="42" y="114"/>
                  </a:lnTo>
                  <a:lnTo>
                    <a:pt x="49" y="120"/>
                  </a:lnTo>
                  <a:lnTo>
                    <a:pt x="59" y="126"/>
                  </a:lnTo>
                  <a:lnTo>
                    <a:pt x="68" y="129"/>
                  </a:lnTo>
                  <a:lnTo>
                    <a:pt x="78" y="130"/>
                  </a:lnTo>
                  <a:lnTo>
                    <a:pt x="87" y="129"/>
                  </a:lnTo>
                  <a:lnTo>
                    <a:pt x="97" y="126"/>
                  </a:lnTo>
                  <a:lnTo>
                    <a:pt x="106" y="120"/>
                  </a:lnTo>
                  <a:lnTo>
                    <a:pt x="114" y="114"/>
                  </a:lnTo>
                  <a:lnTo>
                    <a:pt x="119" y="107"/>
                  </a:lnTo>
                  <a:lnTo>
                    <a:pt x="125" y="98"/>
                  </a:lnTo>
                  <a:lnTo>
                    <a:pt x="128" y="88"/>
                  </a:lnTo>
                  <a:lnTo>
                    <a:pt x="129" y="79"/>
                  </a:lnTo>
                  <a:lnTo>
                    <a:pt x="156" y="79"/>
                  </a:lnTo>
                  <a:close/>
                </a:path>
              </a:pathLst>
            </a:custGeom>
            <a:solidFill>
              <a:srgbClr val="ffb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4320" y="3692160"/>
              <a:ext cx="46080" cy="50400"/>
            </a:xfrm>
            <a:custGeom>
              <a:avLst/>
              <a:gdLst/>
              <a:ahLst/>
              <a:rect l="l" t="t" r="r" b="b"/>
              <a:pathLst>
                <a:path w="104" h="105">
                  <a:moveTo>
                    <a:pt x="104" y="53"/>
                  </a:moveTo>
                  <a:lnTo>
                    <a:pt x="103" y="42"/>
                  </a:lnTo>
                  <a:lnTo>
                    <a:pt x="101" y="32"/>
                  </a:lnTo>
                  <a:lnTo>
                    <a:pt x="95" y="24"/>
                  </a:lnTo>
                  <a:lnTo>
                    <a:pt x="89" y="16"/>
                  </a:lnTo>
                  <a:lnTo>
                    <a:pt x="80" y="10"/>
                  </a:lnTo>
                  <a:lnTo>
                    <a:pt x="72" y="4"/>
                  </a:lnTo>
                  <a:lnTo>
                    <a:pt x="63" y="1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2" y="4"/>
                  </a:lnTo>
                  <a:lnTo>
                    <a:pt x="23" y="10"/>
                  </a:lnTo>
                  <a:lnTo>
                    <a:pt x="15" y="16"/>
                  </a:lnTo>
                  <a:lnTo>
                    <a:pt x="9" y="24"/>
                  </a:lnTo>
                  <a:lnTo>
                    <a:pt x="4" y="32"/>
                  </a:lnTo>
                  <a:lnTo>
                    <a:pt x="1" y="42"/>
                  </a:lnTo>
                  <a:lnTo>
                    <a:pt x="0" y="53"/>
                  </a:lnTo>
                  <a:lnTo>
                    <a:pt x="1" y="63"/>
                  </a:lnTo>
                  <a:lnTo>
                    <a:pt x="4" y="73"/>
                  </a:lnTo>
                  <a:lnTo>
                    <a:pt x="9" y="81"/>
                  </a:lnTo>
                  <a:lnTo>
                    <a:pt x="15" y="89"/>
                  </a:lnTo>
                  <a:lnTo>
                    <a:pt x="23" y="95"/>
                  </a:lnTo>
                  <a:lnTo>
                    <a:pt x="32" y="100"/>
                  </a:lnTo>
                  <a:lnTo>
                    <a:pt x="41" y="104"/>
                  </a:lnTo>
                  <a:lnTo>
                    <a:pt x="52" y="105"/>
                  </a:lnTo>
                  <a:lnTo>
                    <a:pt x="63" y="104"/>
                  </a:lnTo>
                  <a:lnTo>
                    <a:pt x="72" y="100"/>
                  </a:lnTo>
                  <a:lnTo>
                    <a:pt x="80" y="95"/>
                  </a:lnTo>
                  <a:lnTo>
                    <a:pt x="89" y="89"/>
                  </a:lnTo>
                  <a:lnTo>
                    <a:pt x="95" y="81"/>
                  </a:lnTo>
                  <a:lnTo>
                    <a:pt x="101" y="73"/>
                  </a:lnTo>
                  <a:lnTo>
                    <a:pt x="103" y="63"/>
                  </a:lnTo>
                  <a:lnTo>
                    <a:pt x="104" y="53"/>
                  </a:lnTo>
                  <a:lnTo>
                    <a:pt x="104" y="53"/>
                  </a:lnTo>
                  <a:close/>
                </a:path>
              </a:pathLst>
            </a:custGeom>
            <a:solidFill>
              <a:srgbClr val="ffc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5480" y="3704760"/>
              <a:ext cx="23400" cy="259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54" y="28"/>
                  </a:moveTo>
                  <a:lnTo>
                    <a:pt x="52" y="17"/>
                  </a:lnTo>
                  <a:lnTo>
                    <a:pt x="46" y="9"/>
                  </a:lnTo>
                  <a:lnTo>
                    <a:pt x="38" y="3"/>
                  </a:lnTo>
                  <a:lnTo>
                    <a:pt x="27" y="0"/>
                  </a:lnTo>
                  <a:lnTo>
                    <a:pt x="16" y="3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8"/>
                  </a:lnTo>
                  <a:lnTo>
                    <a:pt x="2" y="38"/>
                  </a:lnTo>
                  <a:lnTo>
                    <a:pt x="8" y="47"/>
                  </a:lnTo>
                  <a:lnTo>
                    <a:pt x="16" y="53"/>
                  </a:lnTo>
                  <a:lnTo>
                    <a:pt x="27" y="55"/>
                  </a:lnTo>
                  <a:lnTo>
                    <a:pt x="38" y="53"/>
                  </a:lnTo>
                  <a:lnTo>
                    <a:pt x="46" y="47"/>
                  </a:lnTo>
                  <a:lnTo>
                    <a:pt x="52" y="38"/>
                  </a:lnTo>
                  <a:lnTo>
                    <a:pt x="54" y="28"/>
                  </a:lnTo>
                  <a:lnTo>
                    <a:pt x="54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7080" y="38098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kuntabili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5480" y="1573200"/>
            <a:ext cx="1897200" cy="2119320"/>
          </a:xfrm>
          <a:custGeom>
            <a:avLst/>
            <a:gdLst/>
            <a:ahLst/>
            <a:rect l="l" t="t" r="r" b="b"/>
            <a:pathLst>
              <a:path w="4307" h="4366">
                <a:moveTo>
                  <a:pt x="46" y="4320"/>
                </a:moveTo>
                <a:lnTo>
                  <a:pt x="92" y="4366"/>
                </a:lnTo>
                <a:lnTo>
                  <a:pt x="4307" y="93"/>
                </a:lnTo>
                <a:lnTo>
                  <a:pt x="4215" y="0"/>
                </a:lnTo>
                <a:lnTo>
                  <a:pt x="0" y="4273"/>
                </a:lnTo>
                <a:lnTo>
                  <a:pt x="46" y="43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85960" y="3738600"/>
            <a:ext cx="3143160" cy="156960"/>
          </a:xfrm>
          <a:custGeom>
            <a:avLst/>
            <a:gdLst/>
            <a:ahLst/>
            <a:rect l="l" t="t" r="r" b="b"/>
            <a:pathLst>
              <a:path w="7138" h="324">
                <a:moveTo>
                  <a:pt x="7136" y="258"/>
                </a:moveTo>
                <a:lnTo>
                  <a:pt x="7138" y="193"/>
                </a:lnTo>
                <a:lnTo>
                  <a:pt x="2" y="0"/>
                </a:lnTo>
                <a:lnTo>
                  <a:pt x="0" y="131"/>
                </a:lnTo>
                <a:lnTo>
                  <a:pt x="7135" y="324"/>
                </a:lnTo>
                <a:lnTo>
                  <a:pt x="7136" y="2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03680" y="1573200"/>
            <a:ext cx="1288800" cy="2208240"/>
          </a:xfrm>
          <a:custGeom>
            <a:avLst/>
            <a:gdLst/>
            <a:ahLst/>
            <a:rect l="l" t="t" r="r" b="b"/>
            <a:pathLst>
              <a:path w="2926" h="4549">
                <a:moveTo>
                  <a:pt x="55" y="34"/>
                </a:moveTo>
                <a:lnTo>
                  <a:pt x="0" y="69"/>
                </a:lnTo>
                <a:lnTo>
                  <a:pt x="2815" y="4549"/>
                </a:lnTo>
                <a:lnTo>
                  <a:pt x="2926" y="4480"/>
                </a:lnTo>
                <a:lnTo>
                  <a:pt x="111" y="0"/>
                </a:lnTo>
                <a:lnTo>
                  <a:pt x="55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6080" y="23623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00"/>
                </a:solidFill>
                <a:uFillTx/>
                <a:latin typeface="Times New Roman"/>
              </a:rPr>
              <a:t>Kuali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886200" y="1447920"/>
            <a:ext cx="2438280" cy="1066320"/>
            <a:chOff x="3886200" y="1447920"/>
            <a:chExt cx="2438280" cy="1066320"/>
          </a:xfrm>
        </p:grpSpPr>
        <p:sp>
          <p:nvSpPr>
            <p:cNvPr id="200" name=""/>
            <p:cNvSpPr/>
            <p:nvPr/>
          </p:nvSpPr>
          <p:spPr>
            <a:xfrm>
              <a:off x="3887640" y="1451160"/>
              <a:ext cx="1410840" cy="700920"/>
            </a:xfrm>
            <a:custGeom>
              <a:avLst/>
              <a:gdLst/>
              <a:ahLst/>
              <a:rect l="l" t="t" r="r" b="b"/>
              <a:pathLst>
                <a:path w="952" h="607">
                  <a:moveTo>
                    <a:pt x="0" y="0"/>
                  </a:moveTo>
                  <a:lnTo>
                    <a:pt x="0" y="45"/>
                  </a:lnTo>
                  <a:lnTo>
                    <a:pt x="69" y="57"/>
                  </a:lnTo>
                  <a:lnTo>
                    <a:pt x="132" y="72"/>
                  </a:lnTo>
                  <a:lnTo>
                    <a:pt x="189" y="90"/>
                  </a:lnTo>
                  <a:lnTo>
                    <a:pt x="248" y="108"/>
                  </a:lnTo>
                  <a:lnTo>
                    <a:pt x="298" y="126"/>
                  </a:lnTo>
                  <a:lnTo>
                    <a:pt x="340" y="144"/>
                  </a:lnTo>
                  <a:lnTo>
                    <a:pt x="379" y="160"/>
                  </a:lnTo>
                  <a:lnTo>
                    <a:pt x="424" y="181"/>
                  </a:lnTo>
                  <a:lnTo>
                    <a:pt x="463" y="205"/>
                  </a:lnTo>
                  <a:lnTo>
                    <a:pt x="508" y="235"/>
                  </a:lnTo>
                  <a:lnTo>
                    <a:pt x="544" y="262"/>
                  </a:lnTo>
                  <a:lnTo>
                    <a:pt x="580" y="289"/>
                  </a:lnTo>
                  <a:lnTo>
                    <a:pt x="613" y="319"/>
                  </a:lnTo>
                  <a:lnTo>
                    <a:pt x="655" y="355"/>
                  </a:lnTo>
                  <a:lnTo>
                    <a:pt x="700" y="397"/>
                  </a:lnTo>
                  <a:lnTo>
                    <a:pt x="726" y="427"/>
                  </a:lnTo>
                  <a:lnTo>
                    <a:pt x="753" y="459"/>
                  </a:lnTo>
                  <a:lnTo>
                    <a:pt x="780" y="490"/>
                  </a:lnTo>
                  <a:lnTo>
                    <a:pt x="804" y="520"/>
                  </a:lnTo>
                  <a:lnTo>
                    <a:pt x="834" y="568"/>
                  </a:lnTo>
                  <a:lnTo>
                    <a:pt x="852" y="607"/>
                  </a:lnTo>
                  <a:lnTo>
                    <a:pt x="952" y="595"/>
                  </a:lnTo>
                  <a:lnTo>
                    <a:pt x="919" y="529"/>
                  </a:lnTo>
                  <a:lnTo>
                    <a:pt x="870" y="459"/>
                  </a:lnTo>
                  <a:lnTo>
                    <a:pt x="819" y="400"/>
                  </a:lnTo>
                  <a:lnTo>
                    <a:pt x="753" y="337"/>
                  </a:lnTo>
                  <a:lnTo>
                    <a:pt x="664" y="247"/>
                  </a:lnTo>
                  <a:lnTo>
                    <a:pt x="565" y="172"/>
                  </a:lnTo>
                  <a:lnTo>
                    <a:pt x="460" y="108"/>
                  </a:lnTo>
                  <a:lnTo>
                    <a:pt x="367" y="69"/>
                  </a:lnTo>
                  <a:lnTo>
                    <a:pt x="251" y="30"/>
                  </a:lnTo>
                  <a:lnTo>
                    <a:pt x="156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3680" y="2013480"/>
              <a:ext cx="730440" cy="500760"/>
            </a:xfrm>
            <a:custGeom>
              <a:avLst/>
              <a:gdLst/>
              <a:ahLst/>
              <a:rect l="l" t="t" r="r" b="b"/>
              <a:pathLst>
                <a:path w="493" h="434">
                  <a:moveTo>
                    <a:pt x="0" y="335"/>
                  </a:moveTo>
                  <a:lnTo>
                    <a:pt x="0" y="434"/>
                  </a:lnTo>
                  <a:lnTo>
                    <a:pt x="20" y="409"/>
                  </a:lnTo>
                  <a:lnTo>
                    <a:pt x="42" y="383"/>
                  </a:lnTo>
                  <a:lnTo>
                    <a:pt x="71" y="356"/>
                  </a:lnTo>
                  <a:lnTo>
                    <a:pt x="107" y="325"/>
                  </a:lnTo>
                  <a:lnTo>
                    <a:pt x="142" y="291"/>
                  </a:lnTo>
                  <a:lnTo>
                    <a:pt x="178" y="259"/>
                  </a:lnTo>
                  <a:lnTo>
                    <a:pt x="211" y="232"/>
                  </a:lnTo>
                  <a:lnTo>
                    <a:pt x="241" y="208"/>
                  </a:lnTo>
                  <a:lnTo>
                    <a:pt x="274" y="186"/>
                  </a:lnTo>
                  <a:lnTo>
                    <a:pt x="308" y="164"/>
                  </a:lnTo>
                  <a:lnTo>
                    <a:pt x="348" y="141"/>
                  </a:lnTo>
                  <a:lnTo>
                    <a:pt x="385" y="123"/>
                  </a:lnTo>
                  <a:lnTo>
                    <a:pt x="423" y="107"/>
                  </a:lnTo>
                  <a:lnTo>
                    <a:pt x="463" y="90"/>
                  </a:lnTo>
                  <a:lnTo>
                    <a:pt x="493" y="76"/>
                  </a:lnTo>
                  <a:lnTo>
                    <a:pt x="493" y="0"/>
                  </a:lnTo>
                  <a:lnTo>
                    <a:pt x="439" y="15"/>
                  </a:lnTo>
                  <a:lnTo>
                    <a:pt x="360" y="49"/>
                  </a:lnTo>
                  <a:lnTo>
                    <a:pt x="259" y="92"/>
                  </a:lnTo>
                  <a:lnTo>
                    <a:pt x="185" y="138"/>
                  </a:lnTo>
                  <a:lnTo>
                    <a:pt x="117" y="204"/>
                  </a:lnTo>
                  <a:lnTo>
                    <a:pt x="50" y="259"/>
                  </a:lnTo>
                  <a:lnTo>
                    <a:pt x="0" y="312"/>
                  </a:lnTo>
                  <a:lnTo>
                    <a:pt x="0" y="433"/>
                  </a:lnTo>
                  <a:lnTo>
                    <a:pt x="0" y="431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17440" y="2201760"/>
              <a:ext cx="873000" cy="31176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0" y="0"/>
                  </a:moveTo>
                  <a:lnTo>
                    <a:pt x="0" y="83"/>
                  </a:lnTo>
                  <a:lnTo>
                    <a:pt x="38" y="90"/>
                  </a:lnTo>
                  <a:lnTo>
                    <a:pt x="77" y="97"/>
                  </a:lnTo>
                  <a:lnTo>
                    <a:pt x="114" y="106"/>
                  </a:lnTo>
                  <a:lnTo>
                    <a:pt x="152" y="115"/>
                  </a:lnTo>
                  <a:lnTo>
                    <a:pt x="196" y="126"/>
                  </a:lnTo>
                  <a:lnTo>
                    <a:pt x="244" y="138"/>
                  </a:lnTo>
                  <a:lnTo>
                    <a:pt x="304" y="156"/>
                  </a:lnTo>
                  <a:lnTo>
                    <a:pt x="362" y="172"/>
                  </a:lnTo>
                  <a:lnTo>
                    <a:pt x="400" y="185"/>
                  </a:lnTo>
                  <a:lnTo>
                    <a:pt x="445" y="203"/>
                  </a:lnTo>
                  <a:lnTo>
                    <a:pt x="494" y="223"/>
                  </a:lnTo>
                  <a:lnTo>
                    <a:pt x="538" y="243"/>
                  </a:lnTo>
                  <a:lnTo>
                    <a:pt x="570" y="259"/>
                  </a:lnTo>
                  <a:lnTo>
                    <a:pt x="589" y="270"/>
                  </a:lnTo>
                  <a:lnTo>
                    <a:pt x="589" y="167"/>
                  </a:lnTo>
                  <a:lnTo>
                    <a:pt x="552" y="141"/>
                  </a:lnTo>
                  <a:lnTo>
                    <a:pt x="478" y="105"/>
                  </a:lnTo>
                  <a:lnTo>
                    <a:pt x="392" y="69"/>
                  </a:lnTo>
                  <a:lnTo>
                    <a:pt x="315" y="49"/>
                  </a:lnTo>
                  <a:lnTo>
                    <a:pt x="226" y="24"/>
                  </a:lnTo>
                  <a:lnTo>
                    <a:pt x="137" y="7"/>
                  </a:lnTo>
                  <a:lnTo>
                    <a:pt x="7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886200" y="1447920"/>
              <a:ext cx="2438280" cy="950040"/>
            </a:xfrm>
            <a:custGeom>
              <a:avLst/>
              <a:gdLst/>
              <a:ahLst/>
              <a:rect l="l" t="t" r="r" b="b"/>
              <a:pathLst>
                <a:path w="1645" h="823">
                  <a:moveTo>
                    <a:pt x="0" y="6"/>
                  </a:moveTo>
                  <a:lnTo>
                    <a:pt x="90" y="0"/>
                  </a:lnTo>
                  <a:lnTo>
                    <a:pt x="135" y="0"/>
                  </a:lnTo>
                  <a:lnTo>
                    <a:pt x="189" y="0"/>
                  </a:lnTo>
                  <a:lnTo>
                    <a:pt x="240" y="3"/>
                  </a:lnTo>
                  <a:lnTo>
                    <a:pt x="291" y="6"/>
                  </a:lnTo>
                  <a:lnTo>
                    <a:pt x="341" y="12"/>
                  </a:lnTo>
                  <a:lnTo>
                    <a:pt x="386" y="21"/>
                  </a:lnTo>
                  <a:lnTo>
                    <a:pt x="436" y="30"/>
                  </a:lnTo>
                  <a:lnTo>
                    <a:pt x="496" y="45"/>
                  </a:lnTo>
                  <a:lnTo>
                    <a:pt x="550" y="63"/>
                  </a:lnTo>
                  <a:lnTo>
                    <a:pt x="601" y="78"/>
                  </a:lnTo>
                  <a:lnTo>
                    <a:pt x="658" y="99"/>
                  </a:lnTo>
                  <a:lnTo>
                    <a:pt x="712" y="123"/>
                  </a:lnTo>
                  <a:lnTo>
                    <a:pt x="766" y="147"/>
                  </a:lnTo>
                  <a:lnTo>
                    <a:pt x="811" y="170"/>
                  </a:lnTo>
                  <a:lnTo>
                    <a:pt x="862" y="194"/>
                  </a:lnTo>
                  <a:lnTo>
                    <a:pt x="905" y="217"/>
                  </a:lnTo>
                  <a:lnTo>
                    <a:pt x="953" y="244"/>
                  </a:lnTo>
                  <a:lnTo>
                    <a:pt x="1001" y="271"/>
                  </a:lnTo>
                  <a:lnTo>
                    <a:pt x="1049" y="304"/>
                  </a:lnTo>
                  <a:lnTo>
                    <a:pt x="1091" y="331"/>
                  </a:lnTo>
                  <a:lnTo>
                    <a:pt x="1136" y="367"/>
                  </a:lnTo>
                  <a:lnTo>
                    <a:pt x="1178" y="400"/>
                  </a:lnTo>
                  <a:lnTo>
                    <a:pt x="1217" y="433"/>
                  </a:lnTo>
                  <a:lnTo>
                    <a:pt x="1249" y="469"/>
                  </a:lnTo>
                  <a:lnTo>
                    <a:pt x="1276" y="500"/>
                  </a:lnTo>
                  <a:lnTo>
                    <a:pt x="1297" y="533"/>
                  </a:lnTo>
                  <a:lnTo>
                    <a:pt x="1645" y="489"/>
                  </a:lnTo>
                  <a:lnTo>
                    <a:pt x="1596" y="512"/>
                  </a:lnTo>
                  <a:lnTo>
                    <a:pt x="1539" y="536"/>
                  </a:lnTo>
                  <a:lnTo>
                    <a:pt x="1494" y="557"/>
                  </a:lnTo>
                  <a:lnTo>
                    <a:pt x="1460" y="573"/>
                  </a:lnTo>
                  <a:lnTo>
                    <a:pt x="1423" y="593"/>
                  </a:lnTo>
                  <a:lnTo>
                    <a:pt x="1393" y="611"/>
                  </a:lnTo>
                  <a:lnTo>
                    <a:pt x="1364" y="630"/>
                  </a:lnTo>
                  <a:lnTo>
                    <a:pt x="1335" y="653"/>
                  </a:lnTo>
                  <a:lnTo>
                    <a:pt x="1307" y="676"/>
                  </a:lnTo>
                  <a:lnTo>
                    <a:pt x="1273" y="705"/>
                  </a:lnTo>
                  <a:lnTo>
                    <a:pt x="1240" y="736"/>
                  </a:lnTo>
                  <a:lnTo>
                    <a:pt x="1211" y="762"/>
                  </a:lnTo>
                  <a:lnTo>
                    <a:pt x="1178" y="796"/>
                  </a:lnTo>
                  <a:lnTo>
                    <a:pt x="1151" y="823"/>
                  </a:lnTo>
                  <a:lnTo>
                    <a:pt x="1124" y="811"/>
                  </a:lnTo>
                  <a:lnTo>
                    <a:pt x="1097" y="796"/>
                  </a:lnTo>
                  <a:lnTo>
                    <a:pt x="1068" y="783"/>
                  </a:lnTo>
                  <a:lnTo>
                    <a:pt x="1034" y="769"/>
                  </a:lnTo>
                  <a:lnTo>
                    <a:pt x="999" y="755"/>
                  </a:lnTo>
                  <a:lnTo>
                    <a:pt x="967" y="744"/>
                  </a:lnTo>
                  <a:lnTo>
                    <a:pt x="936" y="735"/>
                  </a:lnTo>
                  <a:lnTo>
                    <a:pt x="901" y="724"/>
                  </a:lnTo>
                  <a:lnTo>
                    <a:pt x="864" y="715"/>
                  </a:lnTo>
                  <a:lnTo>
                    <a:pt x="826" y="705"/>
                  </a:lnTo>
                  <a:lnTo>
                    <a:pt x="791" y="696"/>
                  </a:lnTo>
                  <a:lnTo>
                    <a:pt x="757" y="687"/>
                  </a:lnTo>
                  <a:lnTo>
                    <a:pt x="720" y="681"/>
                  </a:lnTo>
                  <a:lnTo>
                    <a:pt x="685" y="673"/>
                  </a:lnTo>
                  <a:lnTo>
                    <a:pt x="652" y="666"/>
                  </a:lnTo>
                  <a:lnTo>
                    <a:pt x="613" y="658"/>
                  </a:lnTo>
                  <a:lnTo>
                    <a:pt x="560" y="652"/>
                  </a:lnTo>
                  <a:lnTo>
                    <a:pt x="920" y="590"/>
                  </a:lnTo>
                  <a:lnTo>
                    <a:pt x="896" y="542"/>
                  </a:lnTo>
                  <a:lnTo>
                    <a:pt x="868" y="506"/>
                  </a:lnTo>
                  <a:lnTo>
                    <a:pt x="817" y="439"/>
                  </a:lnTo>
                  <a:lnTo>
                    <a:pt x="787" y="409"/>
                  </a:lnTo>
                  <a:lnTo>
                    <a:pt x="757" y="379"/>
                  </a:lnTo>
                  <a:lnTo>
                    <a:pt x="703" y="328"/>
                  </a:lnTo>
                  <a:lnTo>
                    <a:pt x="670" y="298"/>
                  </a:lnTo>
                  <a:lnTo>
                    <a:pt x="631" y="262"/>
                  </a:lnTo>
                  <a:lnTo>
                    <a:pt x="595" y="235"/>
                  </a:lnTo>
                  <a:lnTo>
                    <a:pt x="565" y="211"/>
                  </a:lnTo>
                  <a:lnTo>
                    <a:pt x="535" y="188"/>
                  </a:lnTo>
                  <a:lnTo>
                    <a:pt x="499" y="164"/>
                  </a:lnTo>
                  <a:lnTo>
                    <a:pt x="460" y="141"/>
                  </a:lnTo>
                  <a:lnTo>
                    <a:pt x="421" y="123"/>
                  </a:lnTo>
                  <a:lnTo>
                    <a:pt x="383" y="102"/>
                  </a:lnTo>
                  <a:lnTo>
                    <a:pt x="335" y="84"/>
                  </a:lnTo>
                  <a:lnTo>
                    <a:pt x="291" y="69"/>
                  </a:lnTo>
                  <a:lnTo>
                    <a:pt x="240" y="57"/>
                  </a:lnTo>
                  <a:lnTo>
                    <a:pt x="192" y="45"/>
                  </a:lnTo>
                  <a:lnTo>
                    <a:pt x="141" y="33"/>
                  </a:lnTo>
                  <a:lnTo>
                    <a:pt x="87" y="24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90920" y="5257800"/>
            <a:ext cx="464796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Benguiat Bk BT"/>
              </a:rPr>
              <a:t>The purpose of evaluation is not to prove but to impro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3366"/>
                </a:solidFill>
                <a:latin typeface="Arial"/>
              </a:rPr>
              <a:t>(Stufflebeam et al., Educational Evaluation and D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ecision</a:t>
            </a:r>
            <a:r>
              <a:rPr b="1" i="1" lang="de-DE" sz="1200" spc="-1" strike="noStrike">
                <a:solidFill>
                  <a:srgbClr val="003366"/>
                </a:solidFill>
                <a:latin typeface="Arial"/>
              </a:rPr>
              <a:t> Making, 199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5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750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8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000"/>
                            </p:stCondLst>
                            <p:childTnLst>
                              <p:par>
                                <p:cTn id="8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95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Cara Pembuatan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Tujuan Perencanaan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6" name=""/>
          <p:cNvGrpSpPr/>
          <p:nvPr/>
        </p:nvGrpSpPr>
        <p:grpSpPr>
          <a:xfrm>
            <a:off x="4270320" y="2705040"/>
            <a:ext cx="1873440" cy="2133720"/>
            <a:chOff x="4270320" y="2705040"/>
            <a:chExt cx="1873440" cy="2133720"/>
          </a:xfrm>
        </p:grpSpPr>
        <p:sp>
          <p:nvSpPr>
            <p:cNvPr id="2087" name=""/>
            <p:cNvSpPr/>
            <p:nvPr/>
          </p:nvSpPr>
          <p:spPr>
            <a:xfrm>
              <a:off x="4314960" y="2705040"/>
              <a:ext cx="1828800" cy="685800"/>
            </a:xfrm>
            <a:prstGeom prst="rect">
              <a:avLst/>
            </a:prstGeom>
            <a:solidFill>
              <a:srgbClr val="ffca8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4434480" y="2727360"/>
              <a:ext cx="158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nguiat Bk BT"/>
                </a:rPr>
                <a:t>The Busin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enguiat Bk BT"/>
                </a:rPr>
                <a:t>To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314960" y="3390840"/>
              <a:ext cx="1828800" cy="1447920"/>
            </a:xfrm>
            <a:prstGeom prst="rect">
              <a:avLst/>
            </a:prstGeom>
            <a:solidFill>
              <a:srgbClr val="e1e1b7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270320" y="3467160"/>
              <a:ext cx="17319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cop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igm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petenc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WOT, CRA, et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1" name=""/>
          <p:cNvGrpSpPr/>
          <p:nvPr/>
        </p:nvGrpSpPr>
        <p:grpSpPr>
          <a:xfrm>
            <a:off x="3733920" y="2819520"/>
            <a:ext cx="459720" cy="1904760"/>
            <a:chOff x="3733920" y="2819520"/>
            <a:chExt cx="459720" cy="1904760"/>
          </a:xfrm>
        </p:grpSpPr>
        <p:sp>
          <p:nvSpPr>
            <p:cNvPr id="2092" name=""/>
            <p:cNvSpPr/>
            <p:nvPr/>
          </p:nvSpPr>
          <p:spPr>
            <a:xfrm>
              <a:off x="3733920" y="2819520"/>
              <a:ext cx="457200" cy="1904760"/>
            </a:xfrm>
            <a:prstGeom prst="rect">
              <a:avLst/>
            </a:prstGeom>
            <a:solidFill>
              <a:srgbClr val="fddf0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rot="16200000">
              <a:off x="3467160" y="354132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A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4" name=""/>
          <p:cNvGrpSpPr/>
          <p:nvPr/>
        </p:nvGrpSpPr>
        <p:grpSpPr>
          <a:xfrm>
            <a:off x="148320" y="3314880"/>
            <a:ext cx="1375560" cy="914400"/>
            <a:chOff x="148320" y="3314880"/>
            <a:chExt cx="1375560" cy="914400"/>
          </a:xfrm>
        </p:grpSpPr>
        <p:sp>
          <p:nvSpPr>
            <p:cNvPr id="2095" name=""/>
            <p:cNvSpPr/>
            <p:nvPr/>
          </p:nvSpPr>
          <p:spPr>
            <a:xfrm>
              <a:off x="152280" y="3314880"/>
              <a:ext cx="1371600" cy="914400"/>
            </a:xfrm>
            <a:prstGeom prst="ellipse">
              <a:avLst/>
            </a:prstGeom>
            <a:solidFill>
              <a:srgbClr val="e1e1b7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48320" y="3619440"/>
              <a:ext cx="131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nguiat Bk BT"/>
                </a:rPr>
                <a:t>Assess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7" name=""/>
          <p:cNvGrpSpPr/>
          <p:nvPr/>
        </p:nvGrpSpPr>
        <p:grpSpPr>
          <a:xfrm>
            <a:off x="6324480" y="2819520"/>
            <a:ext cx="459720" cy="1904760"/>
            <a:chOff x="6324480" y="2819520"/>
            <a:chExt cx="459720" cy="1904760"/>
          </a:xfrm>
        </p:grpSpPr>
        <p:sp>
          <p:nvSpPr>
            <p:cNvPr id="2098" name=""/>
            <p:cNvSpPr/>
            <p:nvPr/>
          </p:nvSpPr>
          <p:spPr>
            <a:xfrm>
              <a:off x="6324480" y="2819520"/>
              <a:ext cx="457200" cy="1904760"/>
            </a:xfrm>
            <a:prstGeom prst="rect">
              <a:avLst/>
            </a:prstGeom>
            <a:solidFill>
              <a:srgbClr val="fddf0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rot="16200000">
              <a:off x="6057720" y="354132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GA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0" name=""/>
          <p:cNvGrpSpPr/>
          <p:nvPr/>
        </p:nvGrpSpPr>
        <p:grpSpPr>
          <a:xfrm>
            <a:off x="1676520" y="3124080"/>
            <a:ext cx="1937160" cy="1295640"/>
            <a:chOff x="1676520" y="3124080"/>
            <a:chExt cx="1937160" cy="1295640"/>
          </a:xfrm>
        </p:grpSpPr>
        <p:grpSp>
          <p:nvGrpSpPr>
            <p:cNvPr id="2101" name=""/>
            <p:cNvGrpSpPr/>
            <p:nvPr/>
          </p:nvGrpSpPr>
          <p:grpSpPr>
            <a:xfrm>
              <a:off x="2136600" y="3124080"/>
              <a:ext cx="1477080" cy="1295640"/>
              <a:chOff x="2136600" y="3124080"/>
              <a:chExt cx="1477080" cy="1295640"/>
            </a:xfrm>
          </p:grpSpPr>
          <p:sp>
            <p:nvSpPr>
              <p:cNvPr id="2102" name=""/>
              <p:cNvSpPr/>
              <p:nvPr/>
            </p:nvSpPr>
            <p:spPr>
              <a:xfrm>
                <a:off x="2136600" y="3124080"/>
                <a:ext cx="1476720" cy="1295640"/>
              </a:xfrm>
              <a:prstGeom prst="rect">
                <a:avLst/>
              </a:prstGeom>
              <a:solidFill>
                <a:srgbClr val="e1e1b7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137680" y="358776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Benguiat Bk BT"/>
                  </a:rPr>
                  <a:t>Conclusion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4" name=""/>
            <p:cNvSpPr/>
            <p:nvPr/>
          </p:nvSpPr>
          <p:spPr>
            <a:xfrm>
              <a:off x="1676520" y="3619440"/>
              <a:ext cx="304560" cy="381240"/>
            </a:xfrm>
            <a:prstGeom prst="rightArrow">
              <a:avLst>
                <a:gd name="adj1" fmla="val 55000"/>
                <a:gd name="adj2" fmla="val 40625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833760" y="4838760"/>
            <a:ext cx="5719320" cy="946800"/>
            <a:chOff x="833760" y="4838760"/>
            <a:chExt cx="5719320" cy="946800"/>
          </a:xfrm>
        </p:grpSpPr>
        <p:grpSp>
          <p:nvGrpSpPr>
            <p:cNvPr id="2106" name=""/>
            <p:cNvGrpSpPr/>
            <p:nvPr/>
          </p:nvGrpSpPr>
          <p:grpSpPr>
            <a:xfrm>
              <a:off x="833760" y="5143680"/>
              <a:ext cx="1299960" cy="533160"/>
              <a:chOff x="833760" y="5143680"/>
              <a:chExt cx="1299960" cy="533160"/>
            </a:xfrm>
          </p:grpSpPr>
          <p:sp>
            <p:nvSpPr>
              <p:cNvPr id="2107" name=""/>
              <p:cNvSpPr/>
              <p:nvPr/>
            </p:nvSpPr>
            <p:spPr>
              <a:xfrm>
                <a:off x="838080" y="5143680"/>
                <a:ext cx="1295640" cy="533160"/>
              </a:xfrm>
              <a:prstGeom prst="rect">
                <a:avLst/>
              </a:prstGeom>
              <a:solidFill>
                <a:srgbClr val="e1e1b7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833760" y="5219640"/>
                <a:ext cx="129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Benguiat Bk BT"/>
                  </a:rPr>
                  <a:t>Objectiv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9" name=""/>
            <p:cNvGrpSpPr/>
            <p:nvPr/>
          </p:nvGrpSpPr>
          <p:grpSpPr>
            <a:xfrm>
              <a:off x="2286000" y="4838760"/>
              <a:ext cx="4267080" cy="946800"/>
              <a:chOff x="2286000" y="4838760"/>
              <a:chExt cx="4267080" cy="946800"/>
            </a:xfrm>
          </p:grpSpPr>
          <p:sp>
            <p:nvSpPr>
              <p:cNvPr id="2110" name=""/>
              <p:cNvSpPr/>
              <p:nvPr/>
            </p:nvSpPr>
            <p:spPr>
              <a:xfrm>
                <a:off x="2900520" y="5448240"/>
                <a:ext cx="2509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+ Visi + Wawasan (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sight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1" name=""/>
              <p:cNvGrpSpPr/>
              <p:nvPr/>
            </p:nvGrpSpPr>
            <p:grpSpPr>
              <a:xfrm>
                <a:off x="2286000" y="4838760"/>
                <a:ext cx="4267080" cy="609480"/>
                <a:chOff x="2286000" y="4838760"/>
                <a:chExt cx="4267080" cy="609480"/>
              </a:xfrm>
            </p:grpSpPr>
            <p:sp>
              <p:nvSpPr>
                <p:cNvPr id="2112" name=""/>
                <p:cNvSpPr/>
                <p:nvPr/>
              </p:nvSpPr>
              <p:spPr>
                <a:xfrm>
                  <a:off x="2286000" y="4838760"/>
                  <a:ext cx="4267080" cy="609480"/>
                </a:xfrm>
                <a:custGeom>
                  <a:avLst/>
                  <a:gdLst/>
                  <a:ahLst/>
                  <a:rect l="l" t="t" r="r" b="b"/>
                  <a:pathLst>
                    <a:path w="2688" h="384">
                      <a:moveTo>
                        <a:pt x="0" y="384"/>
                      </a:moveTo>
                      <a:lnTo>
                        <a:pt x="2688" y="384"/>
                      </a:lnTo>
                      <a:lnTo>
                        <a:pt x="2688" y="0"/>
                      </a:lnTo>
                    </a:path>
                  </a:pathLst>
                </a:custGeom>
                <a:noFill/>
                <a:ln w="5724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3962520" y="4838760"/>
                  <a:ext cx="0" cy="6094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14" name=""/>
          <p:cNvSpPr/>
          <p:nvPr/>
        </p:nvSpPr>
        <p:spPr>
          <a:xfrm>
            <a:off x="7398000" y="5334120"/>
            <a:ext cx="107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Benguiat Bk BT"/>
              </a:rPr>
              <a:t>Vi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5" name=""/>
          <p:cNvGrpSpPr/>
          <p:nvPr/>
        </p:nvGrpSpPr>
        <p:grpSpPr>
          <a:xfrm>
            <a:off x="6889680" y="2705040"/>
            <a:ext cx="1873440" cy="2705040"/>
            <a:chOff x="6889680" y="2705040"/>
            <a:chExt cx="1873440" cy="2705040"/>
          </a:xfrm>
        </p:grpSpPr>
        <p:grpSp>
          <p:nvGrpSpPr>
            <p:cNvPr id="2116" name=""/>
            <p:cNvGrpSpPr/>
            <p:nvPr/>
          </p:nvGrpSpPr>
          <p:grpSpPr>
            <a:xfrm>
              <a:off x="6889680" y="2705040"/>
              <a:ext cx="1873440" cy="2133720"/>
              <a:chOff x="6889680" y="2705040"/>
              <a:chExt cx="1873440" cy="2133720"/>
            </a:xfrm>
          </p:grpSpPr>
          <p:sp>
            <p:nvSpPr>
              <p:cNvPr id="2117" name=""/>
              <p:cNvSpPr/>
              <p:nvPr/>
            </p:nvSpPr>
            <p:spPr>
              <a:xfrm>
                <a:off x="6934320" y="2705040"/>
                <a:ext cx="1828800" cy="685800"/>
              </a:xfrm>
              <a:prstGeom prst="rect">
                <a:avLst/>
              </a:prstGeom>
              <a:solidFill>
                <a:srgbClr val="ffca8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7053840" y="2727360"/>
                <a:ext cx="1589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Benguiat Bk BT"/>
                  </a:rPr>
                  <a:t>The Busines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Benguiat Bk BT"/>
                  </a:rPr>
                  <a:t>Tommorow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6934320" y="3390840"/>
                <a:ext cx="1828800" cy="1447920"/>
              </a:xfrm>
              <a:prstGeom prst="rect">
                <a:avLst/>
              </a:prstGeom>
              <a:solidFill>
                <a:srgbClr val="e1e1b7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5490a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6889680" y="3467160"/>
                <a:ext cx="173196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cop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Posi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Aligm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ompetenc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WOT, CRA, et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1" name=""/>
            <p:cNvSpPr/>
            <p:nvPr/>
          </p:nvSpPr>
          <p:spPr>
            <a:xfrm flipV="1">
              <a:off x="7924680" y="4952880"/>
              <a:ext cx="0" cy="45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7" dur="500"/>
                                        <p:tgtEl>
                                          <p:spTgt spid="2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7" dur="500"/>
                                        <p:tgtEl>
                                          <p:spTgt spid="2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2" dur="500"/>
                                        <p:tgtEl>
                                          <p:spTgt spid="2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2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1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"/>
          <p:cNvSpPr/>
          <p:nvPr/>
        </p:nvSpPr>
        <p:spPr>
          <a:xfrm>
            <a:off x="1676520" y="3049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enguiat Bk BT"/>
              </a:rPr>
              <a:t>Objective</a:t>
            </a:r>
            <a:r>
              <a:rPr b="0" lang="en-US" sz="4000" spc="-1" strike="noStrike">
                <a:solidFill>
                  <a:srgbClr val="000000"/>
                </a:solidFill>
                <a:latin typeface="Benguiat Bk BT"/>
              </a:rPr>
              <a:t>/Tujuan yang baik 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1828800" y="1066680"/>
            <a:ext cx="7086600" cy="1003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nguiat Bk BT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Benguiat Bk BT"/>
              </a:rPr>
              <a:t>pecifi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jelas bagi semua fih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tidak ada kerancua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1828800" y="2133720"/>
            <a:ext cx="7086600" cy="1003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nguiat Bk BT"/>
              </a:rPr>
              <a:t>P</a:t>
            </a:r>
            <a:r>
              <a:rPr b="0" lang="en-US" sz="2400" spc="-1" strike="noStrike">
                <a:solidFill>
                  <a:srgbClr val="ff0000"/>
                </a:solidFill>
                <a:latin typeface="Benguiat Bk BT"/>
              </a:rPr>
              <a:t>erformanc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indikator kinerja je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nyata, terukur, teramat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1828800" y="3200400"/>
            <a:ext cx="7086600" cy="1112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nguiat Bk BT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Benguiat Bk BT"/>
              </a:rPr>
              <a:t>ntrinsically Rewardin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nilai tambah yan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las bagi semua fihak (yang terlib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828800" y="4267080"/>
            <a:ext cx="7086600" cy="1112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nguiat Bk BT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Benguiat Bk BT"/>
              </a:rPr>
              <a:t>ealisti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sesuai dengan kemampua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elayakan, kemungkinan, kebolehjadian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1828800" y="5334120"/>
            <a:ext cx="7086600" cy="13032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nguiat Bk BT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Benguiat Bk BT"/>
              </a:rPr>
              <a:t>pen &amp; Objectiv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Transpara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Tidak ditujukan unt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untungan/kerugian kelompok terten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828800" y="1066680"/>
            <a:ext cx="533520" cy="5029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0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5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2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2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2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2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2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enguiat Bk BT"/>
              </a:rPr>
              <a:t>Objective</a:t>
            </a:r>
            <a:r>
              <a:rPr b="0" lang="en-US" sz="4400" spc="-1" strike="noStrike">
                <a:solidFill>
                  <a:srgbClr val="000000"/>
                </a:solidFill>
                <a:latin typeface="Benguiat Bk BT"/>
              </a:rPr>
              <a:t>/Tujua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enguiat Bk BT"/>
              </a:rPr>
              <a:t>yang baik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Measur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terukur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Achiev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dapat dicapai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Explic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tega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uccin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ringkas) &amp;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le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elas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Da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ada waktu/tanggal akan dicapai) 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Consist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ng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ang lain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alau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ang ditetapkan lebih dari sat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0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500"/>
                                        <p:tgtEl>
                                          <p:spTgt spid="2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2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2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2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2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1" name=""/>
          <p:cNvGrpSpPr/>
          <p:nvPr/>
        </p:nvGrpSpPr>
        <p:grpSpPr>
          <a:xfrm>
            <a:off x="7410600" y="614520"/>
            <a:ext cx="1171440" cy="495000"/>
            <a:chOff x="7410600" y="614520"/>
            <a:chExt cx="1171440" cy="495000"/>
          </a:xfrm>
        </p:grpSpPr>
        <p:sp>
          <p:nvSpPr>
            <p:cNvPr id="2132" name=""/>
            <p:cNvSpPr/>
            <p:nvPr/>
          </p:nvSpPr>
          <p:spPr>
            <a:xfrm>
              <a:off x="7410600" y="614520"/>
              <a:ext cx="1171440" cy="495000"/>
            </a:xfrm>
            <a:prstGeom prst="rect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491600" y="63324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i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7077240" y="2214720"/>
            <a:ext cx="1838160" cy="2190600"/>
            <a:chOff x="7077240" y="2214720"/>
            <a:chExt cx="1838160" cy="2190600"/>
          </a:xfrm>
        </p:grpSpPr>
        <p:grpSp>
          <p:nvGrpSpPr>
            <p:cNvPr id="2135" name=""/>
            <p:cNvGrpSpPr/>
            <p:nvPr/>
          </p:nvGrpSpPr>
          <p:grpSpPr>
            <a:xfrm>
              <a:off x="7077240" y="2548080"/>
              <a:ext cx="1838160" cy="1857240"/>
              <a:chOff x="7077240" y="2548080"/>
              <a:chExt cx="1838160" cy="1857240"/>
            </a:xfrm>
          </p:grpSpPr>
          <p:sp>
            <p:nvSpPr>
              <p:cNvPr id="2136" name=""/>
              <p:cNvSpPr/>
              <p:nvPr/>
            </p:nvSpPr>
            <p:spPr>
              <a:xfrm>
                <a:off x="7077240" y="2548080"/>
                <a:ext cx="1838160" cy="1857240"/>
              </a:xfrm>
              <a:prstGeom prst="ellipse">
                <a:avLst/>
              </a:prstGeom>
              <a:solidFill>
                <a:srgbClr val="ff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7167240" y="3065400"/>
                <a:ext cx="1658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stitution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bjectiv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8" name=""/>
            <p:cNvSpPr/>
            <p:nvPr/>
          </p:nvSpPr>
          <p:spPr>
            <a:xfrm>
              <a:off x="7800840" y="2214720"/>
              <a:ext cx="390600" cy="266400"/>
            </a:xfrm>
            <a:prstGeom prst="downArrow">
              <a:avLst>
                <a:gd name="adj1" fmla="val 49593"/>
                <a:gd name="adj2" fmla="val 4106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9" name=""/>
          <p:cNvGrpSpPr/>
          <p:nvPr/>
        </p:nvGrpSpPr>
        <p:grpSpPr>
          <a:xfrm>
            <a:off x="7300800" y="1252440"/>
            <a:ext cx="1390680" cy="881280"/>
            <a:chOff x="7300800" y="1252440"/>
            <a:chExt cx="1390680" cy="881280"/>
          </a:xfrm>
        </p:grpSpPr>
        <p:grpSp>
          <p:nvGrpSpPr>
            <p:cNvPr id="2140" name=""/>
            <p:cNvGrpSpPr/>
            <p:nvPr/>
          </p:nvGrpSpPr>
          <p:grpSpPr>
            <a:xfrm>
              <a:off x="7300800" y="1590840"/>
              <a:ext cx="1390680" cy="542880"/>
              <a:chOff x="7300800" y="1590840"/>
              <a:chExt cx="1390680" cy="542880"/>
            </a:xfrm>
          </p:grpSpPr>
          <p:sp>
            <p:nvSpPr>
              <p:cNvPr id="2141" name=""/>
              <p:cNvSpPr/>
              <p:nvPr/>
            </p:nvSpPr>
            <p:spPr>
              <a:xfrm>
                <a:off x="7300800" y="1590840"/>
                <a:ext cx="1390680" cy="5428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396560" y="1633680"/>
                <a:ext cx="119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iss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3" name=""/>
            <p:cNvSpPr/>
            <p:nvPr/>
          </p:nvSpPr>
          <p:spPr>
            <a:xfrm>
              <a:off x="7800840" y="1252440"/>
              <a:ext cx="390600" cy="266760"/>
            </a:xfrm>
            <a:prstGeom prst="downArrow">
              <a:avLst>
                <a:gd name="adj1" fmla="val 49593"/>
                <a:gd name="adj2" fmla="val 4106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4" name=""/>
          <p:cNvGrpSpPr/>
          <p:nvPr/>
        </p:nvGrpSpPr>
        <p:grpSpPr>
          <a:xfrm>
            <a:off x="466560" y="1781280"/>
            <a:ext cx="2343240" cy="3409920"/>
            <a:chOff x="466560" y="1781280"/>
            <a:chExt cx="2343240" cy="3409920"/>
          </a:xfrm>
        </p:grpSpPr>
        <p:sp>
          <p:nvSpPr>
            <p:cNvPr id="2145" name=""/>
            <p:cNvSpPr/>
            <p:nvPr/>
          </p:nvSpPr>
          <p:spPr>
            <a:xfrm>
              <a:off x="466560" y="1781280"/>
              <a:ext cx="2343240" cy="3409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6" name=""/>
            <p:cNvGrpSpPr/>
            <p:nvPr/>
          </p:nvGrpSpPr>
          <p:grpSpPr>
            <a:xfrm>
              <a:off x="771480" y="1933560"/>
              <a:ext cx="1552680" cy="1019160"/>
              <a:chOff x="771480" y="1933560"/>
              <a:chExt cx="1552680" cy="1019160"/>
            </a:xfrm>
          </p:grpSpPr>
          <p:grpSp>
            <p:nvGrpSpPr>
              <p:cNvPr id="2147" name=""/>
              <p:cNvGrpSpPr/>
              <p:nvPr/>
            </p:nvGrpSpPr>
            <p:grpSpPr>
              <a:xfrm>
                <a:off x="1076400" y="2238480"/>
                <a:ext cx="1247760" cy="714240"/>
                <a:chOff x="1076400" y="2238480"/>
                <a:chExt cx="1247760" cy="714240"/>
              </a:xfrm>
            </p:grpSpPr>
            <p:sp>
              <p:nvSpPr>
                <p:cNvPr id="2148" name=""/>
                <p:cNvSpPr/>
                <p:nvPr/>
              </p:nvSpPr>
              <p:spPr>
                <a:xfrm>
                  <a:off x="1076400" y="2238480"/>
                  <a:ext cx="1247760" cy="714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2149" name=""/>
                <p:cNvGraphicFramePr/>
                <p:nvPr/>
              </p:nvGraphicFramePr>
              <p:xfrm>
                <a:off x="1127880" y="2313000"/>
                <a:ext cx="1135800" cy="55620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2150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127880" y="2313000"/>
                          <a:ext cx="1135800" cy="556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2151" name=""/>
              <p:cNvGrpSpPr/>
              <p:nvPr/>
            </p:nvGrpSpPr>
            <p:grpSpPr>
              <a:xfrm>
                <a:off x="924120" y="2086200"/>
                <a:ext cx="1199880" cy="714240"/>
                <a:chOff x="924120" y="2086200"/>
                <a:chExt cx="1199880" cy="714240"/>
              </a:xfrm>
            </p:grpSpPr>
            <p:sp>
              <p:nvSpPr>
                <p:cNvPr id="2152" name=""/>
                <p:cNvSpPr/>
                <p:nvPr/>
              </p:nvSpPr>
              <p:spPr>
                <a:xfrm>
                  <a:off x="924120" y="2086200"/>
                  <a:ext cx="1199880" cy="714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2153" name=""/>
                <p:cNvGraphicFramePr/>
                <p:nvPr/>
              </p:nvGraphicFramePr>
              <p:xfrm>
                <a:off x="973440" y="2160720"/>
                <a:ext cx="1092240" cy="55620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215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973440" y="2160720"/>
                          <a:ext cx="1092240" cy="5562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2155" name=""/>
              <p:cNvGrpSpPr/>
              <p:nvPr/>
            </p:nvGrpSpPr>
            <p:grpSpPr>
              <a:xfrm>
                <a:off x="771480" y="1933560"/>
                <a:ext cx="1266840" cy="723960"/>
                <a:chOff x="771480" y="1933560"/>
                <a:chExt cx="1266840" cy="723960"/>
              </a:xfrm>
            </p:grpSpPr>
            <p:sp>
              <p:nvSpPr>
                <p:cNvPr id="2156" name=""/>
                <p:cNvSpPr/>
                <p:nvPr/>
              </p:nvSpPr>
              <p:spPr>
                <a:xfrm>
                  <a:off x="771480" y="1933560"/>
                  <a:ext cx="1266840" cy="723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57" name=""/>
                <p:cNvGrpSpPr/>
                <p:nvPr/>
              </p:nvGrpSpPr>
              <p:grpSpPr>
                <a:xfrm>
                  <a:off x="848880" y="2009160"/>
                  <a:ext cx="1051200" cy="555480"/>
                  <a:chOff x="848880" y="2009160"/>
                  <a:chExt cx="1051200" cy="555480"/>
                </a:xfrm>
              </p:grpSpPr>
              <p:sp>
                <p:nvSpPr>
                  <p:cNvPr id="2158" name=""/>
                  <p:cNvSpPr/>
                  <p:nvPr/>
                </p:nvSpPr>
                <p:spPr>
                  <a:xfrm>
                    <a:off x="848880" y="2556360"/>
                    <a:ext cx="105120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2" h="3">
                        <a:moveTo>
                          <a:pt x="0" y="3"/>
                        </a:moveTo>
                        <a:lnTo>
                          <a:pt x="732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840" bIns="-42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9" name=""/>
                  <p:cNvSpPr/>
                  <p:nvPr/>
                </p:nvSpPr>
                <p:spPr>
                  <a:xfrm>
                    <a:off x="848880" y="2404800"/>
                    <a:ext cx="1044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0" name=""/>
                  <p:cNvSpPr/>
                  <p:nvPr/>
                </p:nvSpPr>
                <p:spPr>
                  <a:xfrm>
                    <a:off x="848880" y="2093400"/>
                    <a:ext cx="1044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1" name=""/>
                  <p:cNvSpPr/>
                  <p:nvPr/>
                </p:nvSpPr>
                <p:spPr>
                  <a:xfrm>
                    <a:off x="848880" y="2296440"/>
                    <a:ext cx="103932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3726" h="426">
                        <a:moveTo>
                          <a:pt x="0" y="426"/>
                        </a:moveTo>
                        <a:cubicBezTo>
                          <a:pt x="281" y="373"/>
                          <a:pt x="1065" y="175"/>
                          <a:pt x="1686" y="108"/>
                        </a:cubicBezTo>
                        <a:cubicBezTo>
                          <a:pt x="2430" y="0"/>
                          <a:pt x="3301" y="42"/>
                          <a:pt x="3726" y="2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2" name=""/>
                  <p:cNvSpPr/>
                  <p:nvPr/>
                </p:nvSpPr>
                <p:spPr>
                  <a:xfrm>
                    <a:off x="848880" y="2187000"/>
                    <a:ext cx="1029240" cy="207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90" h="902">
                        <a:moveTo>
                          <a:pt x="0" y="902"/>
                        </a:moveTo>
                        <a:cubicBezTo>
                          <a:pt x="309" y="777"/>
                          <a:pt x="1239" y="300"/>
                          <a:pt x="1854" y="152"/>
                        </a:cubicBezTo>
                        <a:cubicBezTo>
                          <a:pt x="2470" y="0"/>
                          <a:pt x="3308" y="43"/>
                          <a:pt x="3690" y="14"/>
                        </a:cubicBezTo>
                      </a:path>
                    </a:pathLst>
                  </a:custGeom>
                  <a:noFill/>
                  <a:ln w="9360">
                    <a:solidFill>
                      <a:srgbClr val="33cc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>
                    <a:off x="848880" y="2076480"/>
                    <a:ext cx="1033920" cy="318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08" h="1379">
                        <a:moveTo>
                          <a:pt x="0" y="1379"/>
                        </a:moveTo>
                        <a:cubicBezTo>
                          <a:pt x="121" y="1310"/>
                          <a:pt x="408" y="1199"/>
                          <a:pt x="726" y="965"/>
                        </a:cubicBezTo>
                        <a:cubicBezTo>
                          <a:pt x="1044" y="731"/>
                          <a:pt x="1643" y="298"/>
                          <a:pt x="2118" y="149"/>
                        </a:cubicBezTo>
                        <a:cubicBezTo>
                          <a:pt x="2593" y="0"/>
                          <a:pt x="3377" y="34"/>
                          <a:pt x="3708" y="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"/>
                  <p:cNvSpPr/>
                  <p:nvPr/>
                </p:nvSpPr>
                <p:spPr>
                  <a:xfrm>
                    <a:off x="848880" y="2009160"/>
                    <a:ext cx="1080" cy="55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2400">
                        <a:moveTo>
                          <a:pt x="0" y="0"/>
                        </a:moveTo>
                        <a:lnTo>
                          <a:pt x="3" y="240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165" name=""/>
            <p:cNvGrpSpPr/>
            <p:nvPr/>
          </p:nvGrpSpPr>
          <p:grpSpPr>
            <a:xfrm>
              <a:off x="819000" y="3124080"/>
              <a:ext cx="1523880" cy="1038240"/>
              <a:chOff x="819000" y="3124080"/>
              <a:chExt cx="1523880" cy="1038240"/>
            </a:xfrm>
          </p:grpSpPr>
          <p:grpSp>
            <p:nvGrpSpPr>
              <p:cNvPr id="2166" name=""/>
              <p:cNvGrpSpPr/>
              <p:nvPr/>
            </p:nvGrpSpPr>
            <p:grpSpPr>
              <a:xfrm>
                <a:off x="1008000" y="3428640"/>
                <a:ext cx="1334880" cy="733680"/>
                <a:chOff x="1008000" y="3428640"/>
                <a:chExt cx="1334880" cy="733680"/>
              </a:xfrm>
            </p:grpSpPr>
            <p:sp>
              <p:nvSpPr>
                <p:cNvPr id="2167" name=""/>
                <p:cNvSpPr/>
                <p:nvPr/>
              </p:nvSpPr>
              <p:spPr>
                <a:xfrm>
                  <a:off x="1008000" y="3428640"/>
                  <a:ext cx="1334880" cy="733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2168" name=""/>
                <p:cNvGraphicFramePr/>
                <p:nvPr/>
              </p:nvGraphicFramePr>
              <p:xfrm>
                <a:off x="1062720" y="3505320"/>
                <a:ext cx="1215000" cy="571320"/>
              </p:xfrm>
              <a:graphic>
                <a:graphicData uri="http://schemas.openxmlformats.org/presentationml/2006/ole">
                  <p:oleObj progId="Excel.Sheet.12" r:id="rId5" spid="">
                    <p:embed/>
                    <p:pic>
                      <p:nvPicPr>
                        <p:cNvPr id="2169" name="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1062720" y="3505320"/>
                          <a:ext cx="1215000" cy="5713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2170" name=""/>
              <p:cNvGrpSpPr/>
              <p:nvPr/>
            </p:nvGrpSpPr>
            <p:grpSpPr>
              <a:xfrm>
                <a:off x="912600" y="3276360"/>
                <a:ext cx="1289160" cy="723960"/>
                <a:chOff x="912600" y="3276360"/>
                <a:chExt cx="1289160" cy="723960"/>
              </a:xfrm>
            </p:grpSpPr>
            <p:sp>
              <p:nvSpPr>
                <p:cNvPr id="2171" name=""/>
                <p:cNvSpPr/>
                <p:nvPr/>
              </p:nvSpPr>
              <p:spPr>
                <a:xfrm>
                  <a:off x="912600" y="3276360"/>
                  <a:ext cx="1289160" cy="723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2172" name=""/>
                <p:cNvGraphicFramePr/>
                <p:nvPr/>
              </p:nvGraphicFramePr>
              <p:xfrm>
                <a:off x="965520" y="3351960"/>
                <a:ext cx="1173600" cy="563760"/>
              </p:xfrm>
              <a:graphic>
                <a:graphicData uri="http://schemas.openxmlformats.org/presentationml/2006/ole">
                  <p:oleObj progId="Excel.Sheet.12" r:id="rId7" spid="">
                    <p:embed/>
                    <p:pic>
                      <p:nvPicPr>
                        <p:cNvPr id="2173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965520" y="3351960"/>
                          <a:ext cx="1173600" cy="563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grpSp>
            <p:nvGrpSpPr>
              <p:cNvPr id="2174" name=""/>
              <p:cNvGrpSpPr/>
              <p:nvPr/>
            </p:nvGrpSpPr>
            <p:grpSpPr>
              <a:xfrm>
                <a:off x="819000" y="3124080"/>
                <a:ext cx="1258920" cy="685800"/>
                <a:chOff x="819000" y="3124080"/>
                <a:chExt cx="1258920" cy="685800"/>
              </a:xfrm>
            </p:grpSpPr>
            <p:sp>
              <p:nvSpPr>
                <p:cNvPr id="2175" name=""/>
                <p:cNvSpPr/>
                <p:nvPr/>
              </p:nvSpPr>
              <p:spPr>
                <a:xfrm>
                  <a:off x="819000" y="3124080"/>
                  <a:ext cx="1258920" cy="6858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2176" name=""/>
                <p:cNvGraphicFramePr/>
                <p:nvPr/>
              </p:nvGraphicFramePr>
              <p:xfrm>
                <a:off x="870840" y="3195720"/>
                <a:ext cx="1145880" cy="534240"/>
              </p:xfrm>
              <a:graphic>
                <a:graphicData uri="http://schemas.openxmlformats.org/presentationml/2006/ole">
                  <p:oleObj progId="Excel.Sheet.12" r:id="rId9" spid="">
                    <p:embed/>
                    <p:pic>
                      <p:nvPicPr>
                        <p:cNvPr id="2177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870840" y="3195720"/>
                          <a:ext cx="1145880" cy="534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  <p:sp>
          <p:nvSpPr>
            <p:cNvPr id="2178" name=""/>
            <p:cNvSpPr/>
            <p:nvPr/>
          </p:nvSpPr>
          <p:spPr>
            <a:xfrm>
              <a:off x="1573200" y="4237200"/>
              <a:ext cx="1174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nguiat Bk BT"/>
                </a:rPr>
                <a:t>Sel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nguiat Bk BT"/>
                </a:rPr>
                <a:t>Evalu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enguiat Bk BT"/>
                </a:rPr>
                <a:t>Re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9" name="" descr=""/>
            <p:cNvPicPr/>
            <p:nvPr/>
          </p:nvPicPr>
          <p:blipFill>
            <a:blip r:embed="rId11"/>
            <a:stretch/>
          </p:blipFill>
          <p:spPr>
            <a:xfrm>
              <a:off x="519120" y="4267080"/>
              <a:ext cx="1085760" cy="77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80" name=""/>
          <p:cNvGrpSpPr/>
          <p:nvPr/>
        </p:nvGrpSpPr>
        <p:grpSpPr>
          <a:xfrm>
            <a:off x="7476480" y="4538520"/>
            <a:ext cx="1072440" cy="1099440"/>
            <a:chOff x="7476480" y="4538520"/>
            <a:chExt cx="1072440" cy="1099440"/>
          </a:xfrm>
        </p:grpSpPr>
        <p:sp>
          <p:nvSpPr>
            <p:cNvPr id="2181" name=""/>
            <p:cNvSpPr/>
            <p:nvPr/>
          </p:nvSpPr>
          <p:spPr>
            <a:xfrm>
              <a:off x="7781760" y="4538520"/>
              <a:ext cx="390600" cy="266760"/>
            </a:xfrm>
            <a:prstGeom prst="downArrow">
              <a:avLst>
                <a:gd name="adj1" fmla="val 49593"/>
                <a:gd name="adj2" fmla="val 4106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2" name=""/>
            <p:cNvGrpSpPr/>
            <p:nvPr/>
          </p:nvGrpSpPr>
          <p:grpSpPr>
            <a:xfrm>
              <a:off x="7476480" y="4815000"/>
              <a:ext cx="1072440" cy="822960"/>
              <a:chOff x="7476480" y="4815000"/>
              <a:chExt cx="1072440" cy="822960"/>
            </a:xfrm>
          </p:grpSpPr>
          <p:pic>
            <p:nvPicPr>
              <p:cNvPr id="218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493040" y="4815000"/>
                <a:ext cx="1035000" cy="50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84" name=""/>
              <p:cNvSpPr/>
              <p:nvPr/>
            </p:nvSpPr>
            <p:spPr>
              <a:xfrm>
                <a:off x="7476480" y="5300640"/>
                <a:ext cx="107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Indicator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85" name=""/>
          <p:cNvGrpSpPr/>
          <p:nvPr/>
        </p:nvGrpSpPr>
        <p:grpSpPr>
          <a:xfrm>
            <a:off x="230760" y="5324400"/>
            <a:ext cx="6246360" cy="1409760"/>
            <a:chOff x="230760" y="5324400"/>
            <a:chExt cx="6246360" cy="1409760"/>
          </a:xfrm>
        </p:grpSpPr>
        <p:sp>
          <p:nvSpPr>
            <p:cNvPr id="2186" name=""/>
            <p:cNvSpPr/>
            <p:nvPr/>
          </p:nvSpPr>
          <p:spPr>
            <a:xfrm>
              <a:off x="2914560" y="5972040"/>
              <a:ext cx="3562560" cy="762120"/>
            </a:xfrm>
            <a:custGeom>
              <a:avLst/>
              <a:gdLst>
                <a:gd name="textAreaLeft" fmla="*/ 556560 w 3562560"/>
                <a:gd name="textAreaRight" fmla="*/ 3309480 w 3562560"/>
                <a:gd name="textAreaTop" fmla="*/ 198360 h 762120"/>
                <a:gd name="textAreaBottom" fmla="*/ 56376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625"/>
                  </a:moveTo>
                  <a:lnTo>
                    <a:pt x="18398" y="5625"/>
                  </a:lnTo>
                  <a:lnTo>
                    <a:pt x="18398" y="0"/>
                  </a:lnTo>
                  <a:lnTo>
                    <a:pt x="21600" y="10800"/>
                  </a:lnTo>
                  <a:lnTo>
                    <a:pt x="18398" y="21600"/>
                  </a:lnTo>
                  <a:lnTo>
                    <a:pt x="18398" y="15975"/>
                  </a:lnTo>
                  <a:lnTo>
                    <a:pt x="3375" y="15975"/>
                  </a:lnTo>
                  <a:close/>
                </a:path>
                <a:path w="21600" h="21600">
                  <a:moveTo>
                    <a:pt x="0" y="5625"/>
                  </a:moveTo>
                  <a:lnTo>
                    <a:pt x="675" y="5625"/>
                  </a:lnTo>
                  <a:lnTo>
                    <a:pt x="675" y="15975"/>
                  </a:lnTo>
                  <a:lnTo>
                    <a:pt x="0" y="15975"/>
                  </a:lnTo>
                  <a:close/>
                </a:path>
                <a:path w="21600" h="21600">
                  <a:moveTo>
                    <a:pt x="1350" y="5625"/>
                  </a:moveTo>
                  <a:lnTo>
                    <a:pt x="2700" y="5625"/>
                  </a:lnTo>
                  <a:lnTo>
                    <a:pt x="2700" y="15975"/>
                  </a:lnTo>
                  <a:lnTo>
                    <a:pt x="1350" y="15975"/>
                  </a:ln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7" name=""/>
            <p:cNvGrpSpPr/>
            <p:nvPr/>
          </p:nvGrpSpPr>
          <p:grpSpPr>
            <a:xfrm>
              <a:off x="230760" y="5324400"/>
              <a:ext cx="2643480" cy="1352520"/>
              <a:chOff x="230760" y="5324400"/>
              <a:chExt cx="2643480" cy="1352520"/>
            </a:xfrm>
          </p:grpSpPr>
          <p:sp>
            <p:nvSpPr>
              <p:cNvPr id="2188" name=""/>
              <p:cNvSpPr/>
              <p:nvPr/>
            </p:nvSpPr>
            <p:spPr>
              <a:xfrm>
                <a:off x="230760" y="6134040"/>
                <a:ext cx="2643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Benguiat Bk BT"/>
                  </a:rPr>
                  <a:t>Current Situat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2838600" y="5324400"/>
                <a:ext cx="0" cy="135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0" name=""/>
          <p:cNvGrpSpPr/>
          <p:nvPr/>
        </p:nvGrpSpPr>
        <p:grpSpPr>
          <a:xfrm>
            <a:off x="2379960" y="1235880"/>
            <a:ext cx="5206680" cy="5313600"/>
            <a:chOff x="2379960" y="1235880"/>
            <a:chExt cx="5206680" cy="5313600"/>
          </a:xfrm>
        </p:grpSpPr>
        <p:grpSp>
          <p:nvGrpSpPr>
            <p:cNvPr id="2191" name=""/>
            <p:cNvGrpSpPr/>
            <p:nvPr/>
          </p:nvGrpSpPr>
          <p:grpSpPr>
            <a:xfrm>
              <a:off x="2379960" y="1235880"/>
              <a:ext cx="5206680" cy="5313600"/>
              <a:chOff x="2379960" y="1235880"/>
              <a:chExt cx="5206680" cy="5313600"/>
            </a:xfrm>
          </p:grpSpPr>
          <p:sp>
            <p:nvSpPr>
              <p:cNvPr id="2192" name=""/>
              <p:cNvSpPr/>
              <p:nvPr/>
            </p:nvSpPr>
            <p:spPr>
              <a:xfrm>
                <a:off x="4100400" y="3986280"/>
                <a:ext cx="309600" cy="952560"/>
              </a:xfrm>
              <a:custGeom>
                <a:avLst/>
                <a:gdLst/>
                <a:ahLst/>
                <a:rect l="l" t="t" r="r" b="b"/>
                <a:pathLst>
                  <a:path w="195" h="600">
                    <a:moveTo>
                      <a:pt x="0" y="24"/>
                    </a:moveTo>
                    <a:lnTo>
                      <a:pt x="96" y="600"/>
                    </a:lnTo>
                    <a:lnTo>
                      <a:pt x="195" y="558"/>
                    </a:lnTo>
                    <a:lnTo>
                      <a:pt x="9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686040" y="2157480"/>
                <a:ext cx="3900600" cy="2752560"/>
              </a:xfrm>
              <a:custGeom>
                <a:avLst/>
                <a:gdLst/>
                <a:ahLst/>
                <a:rect l="l" t="t" r="r" b="b"/>
                <a:pathLst>
                  <a:path w="2457" h="1734">
                    <a:moveTo>
                      <a:pt x="87" y="0"/>
                    </a:moveTo>
                    <a:lnTo>
                      <a:pt x="219" y="498"/>
                    </a:lnTo>
                    <a:cubicBezTo>
                      <a:pt x="1491" y="546"/>
                      <a:pt x="2223" y="1080"/>
                      <a:pt x="2457" y="1698"/>
                    </a:cubicBezTo>
                    <a:cubicBezTo>
                      <a:pt x="2391" y="1728"/>
                      <a:pt x="2421" y="1716"/>
                      <a:pt x="2367" y="1734"/>
                    </a:cubicBezTo>
                    <a:cubicBezTo>
                      <a:pt x="2229" y="1164"/>
                      <a:pt x="1368" y="561"/>
                      <a:pt x="141" y="576"/>
                    </a:cubicBezTo>
                    <a:cubicBezTo>
                      <a:pt x="69" y="318"/>
                      <a:pt x="7" y="134"/>
                      <a:pt x="0" y="39"/>
                    </a:cubicBezTo>
                    <a:lnTo>
                      <a:pt x="87" y="0"/>
                    </a:lnTo>
                    <a:close/>
                  </a:path>
                </a:pathLst>
              </a:custGeom>
              <a:solidFill>
                <a:srgbClr val="008000"/>
              </a:solidFill>
              <a:ln w="93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rot="3793800">
                <a:off x="2873880" y="2072160"/>
                <a:ext cx="4114800" cy="3640320"/>
              </a:xfrm>
              <a:custGeom>
                <a:avLst/>
                <a:gdLst/>
                <a:ahLst/>
                <a:rect l="l" t="t" r="r" b="b"/>
                <a:pathLst>
                  <a:path w="1646" h="855">
                    <a:moveTo>
                      <a:pt x="1646" y="6"/>
                    </a:moveTo>
                    <a:lnTo>
                      <a:pt x="1554" y="0"/>
                    </a:lnTo>
                    <a:lnTo>
                      <a:pt x="1510" y="0"/>
                    </a:lnTo>
                    <a:lnTo>
                      <a:pt x="1456" y="0"/>
                    </a:lnTo>
                    <a:lnTo>
                      <a:pt x="1405" y="3"/>
                    </a:lnTo>
                    <a:lnTo>
                      <a:pt x="1354" y="6"/>
                    </a:lnTo>
                    <a:lnTo>
                      <a:pt x="1304" y="12"/>
                    </a:lnTo>
                    <a:lnTo>
                      <a:pt x="1259" y="21"/>
                    </a:lnTo>
                    <a:lnTo>
                      <a:pt x="1209" y="31"/>
                    </a:lnTo>
                    <a:lnTo>
                      <a:pt x="1149" y="46"/>
                    </a:lnTo>
                    <a:lnTo>
                      <a:pt x="1095" y="65"/>
                    </a:lnTo>
                    <a:lnTo>
                      <a:pt x="1044" y="81"/>
                    </a:lnTo>
                    <a:lnTo>
                      <a:pt x="987" y="103"/>
                    </a:lnTo>
                    <a:lnTo>
                      <a:pt x="933" y="127"/>
                    </a:lnTo>
                    <a:lnTo>
                      <a:pt x="879" y="152"/>
                    </a:lnTo>
                    <a:lnTo>
                      <a:pt x="834" y="177"/>
                    </a:lnTo>
                    <a:lnTo>
                      <a:pt x="783" y="202"/>
                    </a:lnTo>
                    <a:lnTo>
                      <a:pt x="740" y="226"/>
                    </a:lnTo>
                    <a:lnTo>
                      <a:pt x="692" y="254"/>
                    </a:lnTo>
                    <a:lnTo>
                      <a:pt x="644" y="282"/>
                    </a:lnTo>
                    <a:lnTo>
                      <a:pt x="596" y="317"/>
                    </a:lnTo>
                    <a:lnTo>
                      <a:pt x="554" y="345"/>
                    </a:lnTo>
                    <a:lnTo>
                      <a:pt x="509" y="383"/>
                    </a:lnTo>
                    <a:lnTo>
                      <a:pt x="467" y="417"/>
                    </a:lnTo>
                    <a:lnTo>
                      <a:pt x="428" y="452"/>
                    </a:lnTo>
                    <a:lnTo>
                      <a:pt x="396" y="490"/>
                    </a:lnTo>
                    <a:lnTo>
                      <a:pt x="369" y="521"/>
                    </a:lnTo>
                    <a:lnTo>
                      <a:pt x="348" y="556"/>
                    </a:lnTo>
                    <a:lnTo>
                      <a:pt x="0" y="510"/>
                    </a:lnTo>
                    <a:lnTo>
                      <a:pt x="55" y="534"/>
                    </a:lnTo>
                    <a:lnTo>
                      <a:pt x="97" y="556"/>
                    </a:lnTo>
                    <a:lnTo>
                      <a:pt x="148" y="578"/>
                    </a:lnTo>
                    <a:lnTo>
                      <a:pt x="185" y="600"/>
                    </a:lnTo>
                    <a:lnTo>
                      <a:pt x="219" y="621"/>
                    </a:lnTo>
                    <a:lnTo>
                      <a:pt x="249" y="637"/>
                    </a:lnTo>
                    <a:lnTo>
                      <a:pt x="278" y="660"/>
                    </a:lnTo>
                    <a:lnTo>
                      <a:pt x="307" y="681"/>
                    </a:lnTo>
                    <a:lnTo>
                      <a:pt x="338" y="705"/>
                    </a:lnTo>
                    <a:lnTo>
                      <a:pt x="372" y="735"/>
                    </a:lnTo>
                    <a:lnTo>
                      <a:pt x="408" y="765"/>
                    </a:lnTo>
                    <a:lnTo>
                      <a:pt x="437" y="794"/>
                    </a:lnTo>
                    <a:lnTo>
                      <a:pt x="469" y="827"/>
                    </a:lnTo>
                    <a:lnTo>
                      <a:pt x="494" y="855"/>
                    </a:lnTo>
                    <a:lnTo>
                      <a:pt x="521" y="845"/>
                    </a:lnTo>
                    <a:lnTo>
                      <a:pt x="548" y="829"/>
                    </a:lnTo>
                    <a:lnTo>
                      <a:pt x="577" y="816"/>
                    </a:lnTo>
                    <a:lnTo>
                      <a:pt x="611" y="801"/>
                    </a:lnTo>
                    <a:lnTo>
                      <a:pt x="646" y="786"/>
                    </a:lnTo>
                    <a:lnTo>
                      <a:pt x="678" y="775"/>
                    </a:lnTo>
                    <a:lnTo>
                      <a:pt x="709" y="767"/>
                    </a:lnTo>
                    <a:lnTo>
                      <a:pt x="744" y="755"/>
                    </a:lnTo>
                    <a:lnTo>
                      <a:pt x="781" y="746"/>
                    </a:lnTo>
                    <a:lnTo>
                      <a:pt x="819" y="735"/>
                    </a:lnTo>
                    <a:lnTo>
                      <a:pt x="854" y="726"/>
                    </a:lnTo>
                    <a:lnTo>
                      <a:pt x="888" y="717"/>
                    </a:lnTo>
                    <a:lnTo>
                      <a:pt x="925" y="710"/>
                    </a:lnTo>
                    <a:lnTo>
                      <a:pt x="960" y="702"/>
                    </a:lnTo>
                    <a:lnTo>
                      <a:pt x="993" y="695"/>
                    </a:lnTo>
                    <a:lnTo>
                      <a:pt x="1032" y="686"/>
                    </a:lnTo>
                    <a:lnTo>
                      <a:pt x="1083" y="680"/>
                    </a:lnTo>
                    <a:lnTo>
                      <a:pt x="725" y="615"/>
                    </a:lnTo>
                    <a:lnTo>
                      <a:pt x="749" y="565"/>
                    </a:lnTo>
                    <a:lnTo>
                      <a:pt x="777" y="528"/>
                    </a:lnTo>
                    <a:lnTo>
                      <a:pt x="828" y="459"/>
                    </a:lnTo>
                    <a:lnTo>
                      <a:pt x="858" y="426"/>
                    </a:lnTo>
                    <a:lnTo>
                      <a:pt x="888" y="395"/>
                    </a:lnTo>
                    <a:lnTo>
                      <a:pt x="942" y="342"/>
                    </a:lnTo>
                    <a:lnTo>
                      <a:pt x="975" y="311"/>
                    </a:lnTo>
                    <a:lnTo>
                      <a:pt x="1014" y="273"/>
                    </a:lnTo>
                    <a:lnTo>
                      <a:pt x="1050" y="245"/>
                    </a:lnTo>
                    <a:lnTo>
                      <a:pt x="1080" y="220"/>
                    </a:lnTo>
                    <a:lnTo>
                      <a:pt x="1110" y="196"/>
                    </a:lnTo>
                    <a:lnTo>
                      <a:pt x="1146" y="171"/>
                    </a:lnTo>
                    <a:lnTo>
                      <a:pt x="1185" y="146"/>
                    </a:lnTo>
                    <a:lnTo>
                      <a:pt x="1224" y="127"/>
                    </a:lnTo>
                    <a:lnTo>
                      <a:pt x="1262" y="105"/>
                    </a:lnTo>
                    <a:lnTo>
                      <a:pt x="1310" y="87"/>
                    </a:lnTo>
                    <a:lnTo>
                      <a:pt x="1354" y="72"/>
                    </a:lnTo>
                    <a:lnTo>
                      <a:pt x="1405" y="59"/>
                    </a:lnTo>
                    <a:lnTo>
                      <a:pt x="1453" y="46"/>
                    </a:lnTo>
                    <a:lnTo>
                      <a:pt x="1504" y="34"/>
                    </a:lnTo>
                    <a:lnTo>
                      <a:pt x="1559" y="23"/>
                    </a:lnTo>
                    <a:lnTo>
                      <a:pt x="1646" y="6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5" name=""/>
            <p:cNvSpPr/>
            <p:nvPr/>
          </p:nvSpPr>
          <p:spPr>
            <a:xfrm rot="21009600">
              <a:off x="3234240" y="3257280"/>
              <a:ext cx="2102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</a:rPr>
                <a:t>Digunakan untu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Times New Roman"/>
                </a:rPr>
                <a:t>Standar Acu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6" name=""/>
          <p:cNvSpPr/>
          <p:nvPr/>
        </p:nvSpPr>
        <p:spPr>
          <a:xfrm>
            <a:off x="2867040" y="1438200"/>
            <a:ext cx="4857840" cy="3705480"/>
          </a:xfrm>
          <a:custGeom>
            <a:avLst/>
            <a:gdLst/>
            <a:ahLst/>
            <a:rect l="l" t="t" r="r" b="b"/>
            <a:pathLst>
              <a:path w="3060" h="2334">
                <a:moveTo>
                  <a:pt x="0" y="0"/>
                </a:moveTo>
                <a:lnTo>
                  <a:pt x="2580" y="1440"/>
                </a:lnTo>
                <a:lnTo>
                  <a:pt x="3060" y="2112"/>
                </a:lnTo>
                <a:lnTo>
                  <a:pt x="2772" y="2334"/>
                </a:lnTo>
                <a:lnTo>
                  <a:pt x="18" y="229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7" name=""/>
          <p:cNvGrpSpPr/>
          <p:nvPr/>
        </p:nvGrpSpPr>
        <p:grpSpPr>
          <a:xfrm>
            <a:off x="6550560" y="2505240"/>
            <a:ext cx="2483640" cy="4209840"/>
            <a:chOff x="6550560" y="2505240"/>
            <a:chExt cx="2483640" cy="4209840"/>
          </a:xfrm>
        </p:grpSpPr>
        <p:sp>
          <p:nvSpPr>
            <p:cNvPr id="2198" name=""/>
            <p:cNvSpPr/>
            <p:nvPr/>
          </p:nvSpPr>
          <p:spPr>
            <a:xfrm>
              <a:off x="6550560" y="6114960"/>
              <a:ext cx="248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enguiat Bk BT"/>
                </a:rPr>
                <a:t>Future Situ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6581880" y="2505240"/>
              <a:ext cx="2276280" cy="4209840"/>
            </a:xfrm>
            <a:custGeom>
              <a:avLst/>
              <a:gdLst/>
              <a:ahLst/>
              <a:rect l="l" t="t" r="r" b="b"/>
              <a:pathLst>
                <a:path w="1434" h="2652">
                  <a:moveTo>
                    <a:pt x="1434" y="0"/>
                  </a:moveTo>
                  <a:lnTo>
                    <a:pt x="0" y="0"/>
                  </a:lnTo>
                  <a:lnTo>
                    <a:pt x="1" y="26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0" name=""/>
          <p:cNvGrpSpPr/>
          <p:nvPr/>
        </p:nvGrpSpPr>
        <p:grpSpPr>
          <a:xfrm>
            <a:off x="2914560" y="1352520"/>
            <a:ext cx="4066920" cy="4248000"/>
            <a:chOff x="2914560" y="1352520"/>
            <a:chExt cx="4066920" cy="4248000"/>
          </a:xfrm>
        </p:grpSpPr>
        <p:sp>
          <p:nvSpPr>
            <p:cNvPr id="2201" name=""/>
            <p:cNvSpPr/>
            <p:nvPr/>
          </p:nvSpPr>
          <p:spPr>
            <a:xfrm>
              <a:off x="2914560" y="1352520"/>
              <a:ext cx="4066920" cy="4248000"/>
            </a:xfrm>
            <a:prstGeom prst="rightArrow">
              <a:avLst>
                <a:gd name="adj1" fmla="val 79593"/>
                <a:gd name="adj2" fmla="val 54097"/>
              </a:avLst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072480" y="3236760"/>
              <a:ext cx="80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enguiat Bk BT"/>
                </a:rPr>
                <a:t>Pl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3" name=""/>
          <p:cNvGrpSpPr/>
          <p:nvPr/>
        </p:nvGrpSpPr>
        <p:grpSpPr>
          <a:xfrm>
            <a:off x="2924280" y="1362240"/>
            <a:ext cx="4066920" cy="4248000"/>
            <a:chOff x="2924280" y="1362240"/>
            <a:chExt cx="4066920" cy="4248000"/>
          </a:xfrm>
        </p:grpSpPr>
        <p:sp>
          <p:nvSpPr>
            <p:cNvPr id="2204" name=""/>
            <p:cNvSpPr/>
            <p:nvPr/>
          </p:nvSpPr>
          <p:spPr>
            <a:xfrm>
              <a:off x="2924280" y="1362240"/>
              <a:ext cx="4066920" cy="4248000"/>
            </a:xfrm>
            <a:prstGeom prst="rightArrow">
              <a:avLst>
                <a:gd name="adj1" fmla="val 79593"/>
                <a:gd name="adj2" fmla="val 5409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5" name=""/>
            <p:cNvGrpSpPr/>
            <p:nvPr/>
          </p:nvGrpSpPr>
          <p:grpSpPr>
            <a:xfrm>
              <a:off x="4849920" y="3002040"/>
              <a:ext cx="1619280" cy="549720"/>
              <a:chOff x="4849920" y="3002040"/>
              <a:chExt cx="1619280" cy="549720"/>
            </a:xfrm>
          </p:grpSpPr>
          <p:sp>
            <p:nvSpPr>
              <p:cNvPr id="2206" name=""/>
              <p:cNvSpPr/>
              <p:nvPr/>
            </p:nvSpPr>
            <p:spPr>
              <a:xfrm>
                <a:off x="4849920" y="3002040"/>
                <a:ext cx="1619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ject Proposal 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4854600" y="3275280"/>
                <a:ext cx="805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Objectiv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8" name=""/>
          <p:cNvGrpSpPr/>
          <p:nvPr/>
        </p:nvGrpSpPr>
        <p:grpSpPr>
          <a:xfrm>
            <a:off x="2924280" y="3629160"/>
            <a:ext cx="3524040" cy="1981080"/>
            <a:chOff x="2924280" y="3629160"/>
            <a:chExt cx="3524040" cy="1981080"/>
          </a:xfrm>
        </p:grpSpPr>
        <p:sp>
          <p:nvSpPr>
            <p:cNvPr id="2209" name=""/>
            <p:cNvSpPr/>
            <p:nvPr/>
          </p:nvSpPr>
          <p:spPr>
            <a:xfrm>
              <a:off x="2924280" y="3629160"/>
              <a:ext cx="3524040" cy="1981080"/>
            </a:xfrm>
            <a:custGeom>
              <a:avLst/>
              <a:gdLst/>
              <a:ahLst/>
              <a:rect l="l" t="t" r="r" b="b"/>
              <a:pathLst>
                <a:path w="2220" h="1248">
                  <a:moveTo>
                    <a:pt x="0" y="0"/>
                  </a:moveTo>
                  <a:lnTo>
                    <a:pt x="1308" y="0"/>
                  </a:lnTo>
                  <a:lnTo>
                    <a:pt x="1311" y="240"/>
                  </a:lnTo>
                  <a:lnTo>
                    <a:pt x="2220" y="240"/>
                  </a:lnTo>
                  <a:lnTo>
                    <a:pt x="1173" y="1248"/>
                  </a:lnTo>
                  <a:lnTo>
                    <a:pt x="1173" y="975"/>
                  </a:lnTo>
                  <a:lnTo>
                    <a:pt x="0" y="9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0" name=""/>
            <p:cNvGrpSpPr/>
            <p:nvPr/>
          </p:nvGrpSpPr>
          <p:grpSpPr>
            <a:xfrm>
              <a:off x="3068640" y="4040280"/>
              <a:ext cx="1628640" cy="596880"/>
              <a:chOff x="3068640" y="4040280"/>
              <a:chExt cx="1628640" cy="596880"/>
            </a:xfrm>
          </p:grpSpPr>
          <p:sp>
            <p:nvSpPr>
              <p:cNvPr id="2211" name=""/>
              <p:cNvSpPr/>
              <p:nvPr/>
            </p:nvSpPr>
            <p:spPr>
              <a:xfrm>
                <a:off x="3068640" y="4040280"/>
                <a:ext cx="162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ject Proposal 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3073680" y="4360680"/>
                <a:ext cx="805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Objectiv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3" name=""/>
          <p:cNvGrpSpPr/>
          <p:nvPr/>
        </p:nvGrpSpPr>
        <p:grpSpPr>
          <a:xfrm>
            <a:off x="2924280" y="1795320"/>
            <a:ext cx="1866960" cy="1828800"/>
            <a:chOff x="2924280" y="1795320"/>
            <a:chExt cx="1866960" cy="1828800"/>
          </a:xfrm>
        </p:grpSpPr>
        <p:sp>
          <p:nvSpPr>
            <p:cNvPr id="2214" name=""/>
            <p:cNvSpPr/>
            <p:nvPr/>
          </p:nvSpPr>
          <p:spPr>
            <a:xfrm>
              <a:off x="2924280" y="1795320"/>
              <a:ext cx="1866960" cy="1828800"/>
            </a:xfrm>
            <a:prstGeom prst="rect">
              <a:avLst/>
            </a:prstGeom>
            <a:solidFill>
              <a:srgbClr val="e1e1b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5" name=""/>
            <p:cNvGrpSpPr/>
            <p:nvPr/>
          </p:nvGrpSpPr>
          <p:grpSpPr>
            <a:xfrm>
              <a:off x="3002040" y="2201760"/>
              <a:ext cx="1628640" cy="549720"/>
              <a:chOff x="3002040" y="2201760"/>
              <a:chExt cx="1628640" cy="549720"/>
            </a:xfrm>
          </p:grpSpPr>
          <p:sp>
            <p:nvSpPr>
              <p:cNvPr id="2216" name=""/>
              <p:cNvSpPr/>
              <p:nvPr/>
            </p:nvSpPr>
            <p:spPr>
              <a:xfrm>
                <a:off x="3002040" y="2201760"/>
                <a:ext cx="162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oject Proposal 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3007080" y="2475000"/>
                <a:ext cx="805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imes New Roman"/>
                  </a:rPr>
                  <a:t>Objectiv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8" name=""/>
          <p:cNvSpPr/>
          <p:nvPr/>
        </p:nvSpPr>
        <p:spPr>
          <a:xfrm>
            <a:off x="3857760" y="4022640"/>
            <a:ext cx="3233520" cy="1158840"/>
          </a:xfrm>
          <a:custGeom>
            <a:avLst/>
            <a:gdLst/>
            <a:ahLst/>
            <a:rect l="l" t="t" r="r" b="b"/>
            <a:pathLst>
              <a:path w="2037" h="730">
                <a:moveTo>
                  <a:pt x="0" y="370"/>
                </a:moveTo>
                <a:cubicBezTo>
                  <a:pt x="696" y="730"/>
                  <a:pt x="1422" y="590"/>
                  <a:pt x="2037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3429000" y="2743200"/>
            <a:ext cx="3648240" cy="1933560"/>
          </a:xfrm>
          <a:custGeom>
            <a:avLst/>
            <a:gdLst/>
            <a:ahLst/>
            <a:rect l="l" t="t" r="r" b="b"/>
            <a:pathLst>
              <a:path w="2298" h="1218">
                <a:moveTo>
                  <a:pt x="0" y="0"/>
                </a:moveTo>
                <a:cubicBezTo>
                  <a:pt x="120" y="876"/>
                  <a:pt x="1362" y="1218"/>
                  <a:pt x="2298" y="761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5305320" y="3591000"/>
            <a:ext cx="1771920" cy="590400"/>
          </a:xfrm>
          <a:custGeom>
            <a:avLst/>
            <a:gdLst/>
            <a:ahLst/>
            <a:rect l="l" t="t" r="r" b="b"/>
            <a:pathLst>
              <a:path w="1116" h="372">
                <a:moveTo>
                  <a:pt x="0" y="0"/>
                </a:moveTo>
                <a:cubicBezTo>
                  <a:pt x="59" y="372"/>
                  <a:pt x="616" y="348"/>
                  <a:pt x="1116" y="19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0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7" dur="500"/>
                                        <p:tgtEl>
                                          <p:spTgt spid="2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2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"/>
                            </p:stCondLst>
                            <p:childTnLst>
                              <p:par>
                                <p:cTn id="10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5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500"/>
                            </p:stCondLst>
                            <p:childTnLst>
                              <p:par>
                                <p:cTn id="10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2" dur="500"/>
                                        <p:tgtEl>
                                          <p:spTgt spid="2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6" dur="500"/>
                                        <p:tgtEl>
                                          <p:spTgt spid="2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0" dur="5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1218960" y="1219320"/>
            <a:ext cx="7467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Benguiat Bk BT"/>
              </a:rPr>
              <a:t>Evaluasi Diri</a:t>
            </a:r>
            <a:br>
              <a:rPr sz="6600"/>
            </a:br>
            <a:r>
              <a:rPr b="0" i="1" lang="en-US" sz="6600" spc="-1" strike="noStrike">
                <a:solidFill>
                  <a:srgbClr val="000000"/>
                </a:solidFill>
                <a:latin typeface="Benguiat Bk BT"/>
              </a:rPr>
              <a:t>Program Hibah</a:t>
            </a:r>
            <a:br>
              <a:rPr sz="6600"/>
            </a:br>
            <a:r>
              <a:rPr b="0" i="1" lang="en-US" sz="6600" spc="-1" strike="noStrike">
                <a:solidFill>
                  <a:srgbClr val="000000"/>
                </a:solidFill>
                <a:latin typeface="Benguiat Bk BT"/>
              </a:rPr>
              <a:t>Kompetisi</a:t>
            </a:r>
            <a:br>
              <a:rPr sz="6600"/>
            </a:br>
            <a:r>
              <a:rPr b="0" i="1" lang="en-US" sz="6600" spc="-1" strike="noStrike">
                <a:solidFill>
                  <a:srgbClr val="000000"/>
                </a:solidFill>
                <a:latin typeface="Benguiat Bk BT"/>
              </a:rPr>
              <a:t>2004</a:t>
            </a:r>
            <a:endParaRPr b="1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1" dur="indefinite" restart="never" nodeType="tmRoot">
          <p:childTnLst>
            <p:seq>
              <p:cTn id="1082" dur="indefinite" nodeType="mainSeq">
                <p:childTnLst>
                  <p:par>
                    <p:cTn id="1083" fill="hold">
                      <p:stCondLst>
                        <p:cond delay="0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500"/>
                                        <p:tgtEl>
                                          <p:spTgt spid="2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2" name=""/>
          <p:cNvGrpSpPr/>
          <p:nvPr/>
        </p:nvGrpSpPr>
        <p:grpSpPr>
          <a:xfrm>
            <a:off x="457200" y="2590920"/>
            <a:ext cx="6477120" cy="3809880"/>
            <a:chOff x="457200" y="2590920"/>
            <a:chExt cx="6477120" cy="3809880"/>
          </a:xfrm>
        </p:grpSpPr>
        <p:grpSp>
          <p:nvGrpSpPr>
            <p:cNvPr id="2223" name=""/>
            <p:cNvGrpSpPr/>
            <p:nvPr/>
          </p:nvGrpSpPr>
          <p:grpSpPr>
            <a:xfrm>
              <a:off x="1219320" y="3352680"/>
              <a:ext cx="457200" cy="533520"/>
              <a:chOff x="1219320" y="3352680"/>
              <a:chExt cx="457200" cy="533520"/>
            </a:xfrm>
          </p:grpSpPr>
          <p:sp>
            <p:nvSpPr>
              <p:cNvPr id="2224" name=""/>
              <p:cNvSpPr/>
              <p:nvPr/>
            </p:nvSpPr>
            <p:spPr>
              <a:xfrm>
                <a:off x="1219320" y="3352680"/>
                <a:ext cx="457200" cy="53352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1221120" y="342900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6" name=""/>
            <p:cNvGrpSpPr/>
            <p:nvPr/>
          </p:nvGrpSpPr>
          <p:grpSpPr>
            <a:xfrm>
              <a:off x="1752480" y="3352680"/>
              <a:ext cx="457200" cy="533520"/>
              <a:chOff x="1752480" y="3352680"/>
              <a:chExt cx="457200" cy="533520"/>
            </a:xfrm>
          </p:grpSpPr>
          <p:sp>
            <p:nvSpPr>
              <p:cNvPr id="2227" name=""/>
              <p:cNvSpPr/>
              <p:nvPr/>
            </p:nvSpPr>
            <p:spPr>
              <a:xfrm>
                <a:off x="1752480" y="3352680"/>
                <a:ext cx="457200" cy="53352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754280" y="342900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9" name=""/>
            <p:cNvGrpSpPr/>
            <p:nvPr/>
          </p:nvGrpSpPr>
          <p:grpSpPr>
            <a:xfrm>
              <a:off x="1219320" y="4038480"/>
              <a:ext cx="990360" cy="381240"/>
              <a:chOff x="1219320" y="4038480"/>
              <a:chExt cx="990360" cy="381240"/>
            </a:xfrm>
          </p:grpSpPr>
          <p:sp>
            <p:nvSpPr>
              <p:cNvPr id="2230" name=""/>
              <p:cNvSpPr/>
              <p:nvPr/>
            </p:nvSpPr>
            <p:spPr>
              <a:xfrm>
                <a:off x="1219320" y="4038480"/>
                <a:ext cx="990360" cy="3812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449000" y="4038480"/>
                <a:ext cx="52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Ju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2" name=""/>
            <p:cNvGrpSpPr/>
            <p:nvPr/>
          </p:nvGrpSpPr>
          <p:grpSpPr>
            <a:xfrm>
              <a:off x="647640" y="3352680"/>
              <a:ext cx="457200" cy="533520"/>
              <a:chOff x="647640" y="3352680"/>
              <a:chExt cx="457200" cy="533520"/>
            </a:xfrm>
          </p:grpSpPr>
          <p:sp>
            <p:nvSpPr>
              <p:cNvPr id="2233" name=""/>
              <p:cNvSpPr/>
              <p:nvPr/>
            </p:nvSpPr>
            <p:spPr>
              <a:xfrm>
                <a:off x="647640" y="3352680"/>
                <a:ext cx="457200" cy="53352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49440" y="342900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5" name=""/>
            <p:cNvGrpSpPr/>
            <p:nvPr/>
          </p:nvGrpSpPr>
          <p:grpSpPr>
            <a:xfrm>
              <a:off x="609480" y="4038480"/>
              <a:ext cx="533520" cy="380880"/>
              <a:chOff x="609480" y="4038480"/>
              <a:chExt cx="533520" cy="380880"/>
            </a:xfrm>
          </p:grpSpPr>
          <p:sp>
            <p:nvSpPr>
              <p:cNvPr id="2236" name=""/>
              <p:cNvSpPr/>
              <p:nvPr/>
            </p:nvSpPr>
            <p:spPr>
              <a:xfrm>
                <a:off x="609480" y="4038480"/>
                <a:ext cx="533520" cy="3808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10920" y="4038480"/>
                <a:ext cx="52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Ju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8" name=""/>
            <p:cNvGrpSpPr/>
            <p:nvPr/>
          </p:nvGrpSpPr>
          <p:grpSpPr>
            <a:xfrm>
              <a:off x="609480" y="4495680"/>
              <a:ext cx="1600200" cy="381240"/>
              <a:chOff x="609480" y="4495680"/>
              <a:chExt cx="1600200" cy="381240"/>
            </a:xfrm>
          </p:grpSpPr>
          <p:sp>
            <p:nvSpPr>
              <p:cNvPr id="2239" name=""/>
              <p:cNvSpPr/>
              <p:nvPr/>
            </p:nvSpPr>
            <p:spPr>
              <a:xfrm>
                <a:off x="609480" y="4495680"/>
                <a:ext cx="1600200" cy="38124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1068120" y="449568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a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1" name=""/>
            <p:cNvGrpSpPr/>
            <p:nvPr/>
          </p:nvGrpSpPr>
          <p:grpSpPr>
            <a:xfrm>
              <a:off x="4000680" y="3352680"/>
              <a:ext cx="457200" cy="533520"/>
              <a:chOff x="4000680" y="3352680"/>
              <a:chExt cx="457200" cy="533520"/>
            </a:xfrm>
          </p:grpSpPr>
          <p:sp>
            <p:nvSpPr>
              <p:cNvPr id="2242" name=""/>
              <p:cNvSpPr/>
              <p:nvPr/>
            </p:nvSpPr>
            <p:spPr>
              <a:xfrm>
                <a:off x="4000680" y="3352680"/>
                <a:ext cx="457200" cy="53352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4002480" y="342900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4" name=""/>
            <p:cNvGrpSpPr/>
            <p:nvPr/>
          </p:nvGrpSpPr>
          <p:grpSpPr>
            <a:xfrm>
              <a:off x="2895480" y="3352680"/>
              <a:ext cx="457200" cy="533520"/>
              <a:chOff x="2895480" y="3352680"/>
              <a:chExt cx="457200" cy="533520"/>
            </a:xfrm>
          </p:grpSpPr>
          <p:sp>
            <p:nvSpPr>
              <p:cNvPr id="2245" name=""/>
              <p:cNvSpPr/>
              <p:nvPr/>
            </p:nvSpPr>
            <p:spPr>
              <a:xfrm>
                <a:off x="2895480" y="3352680"/>
                <a:ext cx="457200" cy="53352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2897280" y="342900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7" name=""/>
            <p:cNvGrpSpPr/>
            <p:nvPr/>
          </p:nvGrpSpPr>
          <p:grpSpPr>
            <a:xfrm>
              <a:off x="3429000" y="3352680"/>
              <a:ext cx="457200" cy="533520"/>
              <a:chOff x="3429000" y="3352680"/>
              <a:chExt cx="457200" cy="533520"/>
            </a:xfrm>
          </p:grpSpPr>
          <p:sp>
            <p:nvSpPr>
              <p:cNvPr id="2248" name=""/>
              <p:cNvSpPr/>
              <p:nvPr/>
            </p:nvSpPr>
            <p:spPr>
              <a:xfrm>
                <a:off x="3429000" y="3352680"/>
                <a:ext cx="457200" cy="53352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3430800" y="342900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0" name=""/>
            <p:cNvGrpSpPr/>
            <p:nvPr/>
          </p:nvGrpSpPr>
          <p:grpSpPr>
            <a:xfrm>
              <a:off x="3962520" y="4038480"/>
              <a:ext cx="533160" cy="380880"/>
              <a:chOff x="3962520" y="4038480"/>
              <a:chExt cx="533160" cy="380880"/>
            </a:xfrm>
          </p:grpSpPr>
          <p:sp>
            <p:nvSpPr>
              <p:cNvPr id="2251" name=""/>
              <p:cNvSpPr/>
              <p:nvPr/>
            </p:nvSpPr>
            <p:spPr>
              <a:xfrm>
                <a:off x="3962520" y="4038480"/>
                <a:ext cx="533160" cy="3808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3963960" y="4038480"/>
                <a:ext cx="52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Ju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3" name=""/>
            <p:cNvGrpSpPr/>
            <p:nvPr/>
          </p:nvGrpSpPr>
          <p:grpSpPr>
            <a:xfrm>
              <a:off x="2895480" y="4038480"/>
              <a:ext cx="990720" cy="381240"/>
              <a:chOff x="2895480" y="4038480"/>
              <a:chExt cx="990720" cy="381240"/>
            </a:xfrm>
          </p:grpSpPr>
          <p:sp>
            <p:nvSpPr>
              <p:cNvPr id="2254" name=""/>
              <p:cNvSpPr/>
              <p:nvPr/>
            </p:nvSpPr>
            <p:spPr>
              <a:xfrm>
                <a:off x="2895480" y="4038480"/>
                <a:ext cx="990720" cy="3812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3125520" y="4038480"/>
                <a:ext cx="52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Ju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6" name=""/>
            <p:cNvGrpSpPr/>
            <p:nvPr/>
          </p:nvGrpSpPr>
          <p:grpSpPr>
            <a:xfrm>
              <a:off x="4610160" y="3352680"/>
              <a:ext cx="457200" cy="533520"/>
              <a:chOff x="4610160" y="3352680"/>
              <a:chExt cx="457200" cy="533520"/>
            </a:xfrm>
          </p:grpSpPr>
          <p:sp>
            <p:nvSpPr>
              <p:cNvPr id="2257" name=""/>
              <p:cNvSpPr/>
              <p:nvPr/>
            </p:nvSpPr>
            <p:spPr>
              <a:xfrm>
                <a:off x="4610160" y="3352680"/>
                <a:ext cx="457200" cy="53352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4611960" y="342900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9" name=""/>
            <p:cNvGrpSpPr/>
            <p:nvPr/>
          </p:nvGrpSpPr>
          <p:grpSpPr>
            <a:xfrm>
              <a:off x="4572000" y="4038480"/>
              <a:ext cx="533520" cy="380880"/>
              <a:chOff x="4572000" y="4038480"/>
              <a:chExt cx="533520" cy="380880"/>
            </a:xfrm>
          </p:grpSpPr>
          <p:sp>
            <p:nvSpPr>
              <p:cNvPr id="2260" name=""/>
              <p:cNvSpPr/>
              <p:nvPr/>
            </p:nvSpPr>
            <p:spPr>
              <a:xfrm>
                <a:off x="4572000" y="4038480"/>
                <a:ext cx="533520" cy="3808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4573440" y="4038480"/>
                <a:ext cx="52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Ju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2" name=""/>
            <p:cNvGrpSpPr/>
            <p:nvPr/>
          </p:nvGrpSpPr>
          <p:grpSpPr>
            <a:xfrm>
              <a:off x="2895480" y="4495680"/>
              <a:ext cx="2210040" cy="381240"/>
              <a:chOff x="2895480" y="4495680"/>
              <a:chExt cx="2210040" cy="381240"/>
            </a:xfrm>
          </p:grpSpPr>
          <p:sp>
            <p:nvSpPr>
              <p:cNvPr id="2263" name=""/>
              <p:cNvSpPr/>
              <p:nvPr/>
            </p:nvSpPr>
            <p:spPr>
              <a:xfrm>
                <a:off x="2895480" y="4495680"/>
                <a:ext cx="2210040" cy="38124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3659040" y="449568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a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5" name=""/>
            <p:cNvGrpSpPr/>
            <p:nvPr/>
          </p:nvGrpSpPr>
          <p:grpSpPr>
            <a:xfrm>
              <a:off x="2324160" y="3352680"/>
              <a:ext cx="457200" cy="533520"/>
              <a:chOff x="2324160" y="3352680"/>
              <a:chExt cx="457200" cy="533520"/>
            </a:xfrm>
          </p:grpSpPr>
          <p:sp>
            <p:nvSpPr>
              <p:cNvPr id="2266" name=""/>
              <p:cNvSpPr/>
              <p:nvPr/>
            </p:nvSpPr>
            <p:spPr>
              <a:xfrm>
                <a:off x="2324160" y="3352680"/>
                <a:ext cx="457200" cy="53352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2325960" y="342900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2286000" y="4038480"/>
              <a:ext cx="533520" cy="380880"/>
              <a:chOff x="2286000" y="4038480"/>
              <a:chExt cx="533520" cy="380880"/>
            </a:xfrm>
          </p:grpSpPr>
          <p:sp>
            <p:nvSpPr>
              <p:cNvPr id="2269" name=""/>
              <p:cNvSpPr/>
              <p:nvPr/>
            </p:nvSpPr>
            <p:spPr>
              <a:xfrm>
                <a:off x="2286000" y="4038480"/>
                <a:ext cx="533520" cy="3808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287440" y="4038480"/>
                <a:ext cx="52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Ju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1" name=""/>
            <p:cNvGrpSpPr/>
            <p:nvPr/>
          </p:nvGrpSpPr>
          <p:grpSpPr>
            <a:xfrm>
              <a:off x="2286000" y="4495680"/>
              <a:ext cx="533520" cy="381240"/>
              <a:chOff x="2286000" y="4495680"/>
              <a:chExt cx="533520" cy="381240"/>
            </a:xfrm>
          </p:grpSpPr>
          <p:sp>
            <p:nvSpPr>
              <p:cNvPr id="2272" name=""/>
              <p:cNvSpPr/>
              <p:nvPr/>
            </p:nvSpPr>
            <p:spPr>
              <a:xfrm>
                <a:off x="2286000" y="4495680"/>
                <a:ext cx="533520" cy="38124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287440" y="449568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a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4" name=""/>
            <p:cNvGrpSpPr/>
            <p:nvPr/>
          </p:nvGrpSpPr>
          <p:grpSpPr>
            <a:xfrm>
              <a:off x="5791320" y="3352680"/>
              <a:ext cx="457200" cy="533520"/>
              <a:chOff x="5791320" y="3352680"/>
              <a:chExt cx="457200" cy="533520"/>
            </a:xfrm>
          </p:grpSpPr>
          <p:sp>
            <p:nvSpPr>
              <p:cNvPr id="2275" name=""/>
              <p:cNvSpPr/>
              <p:nvPr/>
            </p:nvSpPr>
            <p:spPr>
              <a:xfrm>
                <a:off x="5791320" y="3352680"/>
                <a:ext cx="457200" cy="533520"/>
              </a:xfrm>
              <a:prstGeom prst="rect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5792760" y="342900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7" name=""/>
            <p:cNvGrpSpPr/>
            <p:nvPr/>
          </p:nvGrpSpPr>
          <p:grpSpPr>
            <a:xfrm>
              <a:off x="6324480" y="3352680"/>
              <a:ext cx="457200" cy="533520"/>
              <a:chOff x="6324480" y="3352680"/>
              <a:chExt cx="457200" cy="533520"/>
            </a:xfrm>
          </p:grpSpPr>
          <p:sp>
            <p:nvSpPr>
              <p:cNvPr id="2278" name=""/>
              <p:cNvSpPr/>
              <p:nvPr/>
            </p:nvSpPr>
            <p:spPr>
              <a:xfrm>
                <a:off x="6324480" y="3352680"/>
                <a:ext cx="457200" cy="533520"/>
              </a:xfrm>
              <a:prstGeom prst="rect">
                <a:avLst/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6326280" y="342900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0" name=""/>
            <p:cNvGrpSpPr/>
            <p:nvPr/>
          </p:nvGrpSpPr>
          <p:grpSpPr>
            <a:xfrm>
              <a:off x="5791320" y="4038480"/>
              <a:ext cx="990360" cy="381240"/>
              <a:chOff x="5791320" y="4038480"/>
              <a:chExt cx="990360" cy="381240"/>
            </a:xfrm>
          </p:grpSpPr>
          <p:sp>
            <p:nvSpPr>
              <p:cNvPr id="2281" name=""/>
              <p:cNvSpPr/>
              <p:nvPr/>
            </p:nvSpPr>
            <p:spPr>
              <a:xfrm>
                <a:off x="5791320" y="4038480"/>
                <a:ext cx="990360" cy="3812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6021000" y="4038480"/>
                <a:ext cx="52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Ju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3" name=""/>
            <p:cNvGrpSpPr/>
            <p:nvPr/>
          </p:nvGrpSpPr>
          <p:grpSpPr>
            <a:xfrm>
              <a:off x="5219640" y="3352680"/>
              <a:ext cx="457200" cy="533520"/>
              <a:chOff x="5219640" y="3352680"/>
              <a:chExt cx="457200" cy="533520"/>
            </a:xfrm>
          </p:grpSpPr>
          <p:sp>
            <p:nvSpPr>
              <p:cNvPr id="2284" name=""/>
              <p:cNvSpPr/>
              <p:nvPr/>
            </p:nvSpPr>
            <p:spPr>
              <a:xfrm>
                <a:off x="5219640" y="3352680"/>
                <a:ext cx="457200" cy="53352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5221440" y="3429000"/>
                <a:ext cx="447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6" name=""/>
            <p:cNvGrpSpPr/>
            <p:nvPr/>
          </p:nvGrpSpPr>
          <p:grpSpPr>
            <a:xfrm>
              <a:off x="5181480" y="4038480"/>
              <a:ext cx="533520" cy="380880"/>
              <a:chOff x="5181480" y="4038480"/>
              <a:chExt cx="533520" cy="380880"/>
            </a:xfrm>
          </p:grpSpPr>
          <p:sp>
            <p:nvSpPr>
              <p:cNvPr id="2287" name=""/>
              <p:cNvSpPr/>
              <p:nvPr/>
            </p:nvSpPr>
            <p:spPr>
              <a:xfrm>
                <a:off x="5181480" y="4038480"/>
                <a:ext cx="533520" cy="3808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5182920" y="4038480"/>
                <a:ext cx="52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Ju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9" name=""/>
            <p:cNvGrpSpPr/>
            <p:nvPr/>
          </p:nvGrpSpPr>
          <p:grpSpPr>
            <a:xfrm>
              <a:off x="5181480" y="4495680"/>
              <a:ext cx="1600200" cy="381240"/>
              <a:chOff x="5181480" y="4495680"/>
              <a:chExt cx="1600200" cy="381240"/>
            </a:xfrm>
          </p:grpSpPr>
          <p:sp>
            <p:nvSpPr>
              <p:cNvPr id="2290" name=""/>
              <p:cNvSpPr/>
              <p:nvPr/>
            </p:nvSpPr>
            <p:spPr>
              <a:xfrm>
                <a:off x="5181480" y="4495680"/>
                <a:ext cx="1600200" cy="381240"/>
              </a:xfrm>
              <a:prstGeom prst="rect">
                <a:avLst/>
              </a:prstGeom>
              <a:solidFill>
                <a:srgbClr val="e1e1b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5640120" y="449568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Fa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2" name=""/>
            <p:cNvGrpSpPr/>
            <p:nvPr/>
          </p:nvGrpSpPr>
          <p:grpSpPr>
            <a:xfrm>
              <a:off x="609480" y="5029200"/>
              <a:ext cx="6172200" cy="380880"/>
              <a:chOff x="609480" y="5029200"/>
              <a:chExt cx="6172200" cy="380880"/>
            </a:xfrm>
          </p:grpSpPr>
          <p:sp>
            <p:nvSpPr>
              <p:cNvPr id="2293" name=""/>
              <p:cNvSpPr/>
              <p:nvPr/>
            </p:nvSpPr>
            <p:spPr>
              <a:xfrm>
                <a:off x="609480" y="5029200"/>
                <a:ext cx="6172200" cy="380880"/>
              </a:xfrm>
              <a:prstGeom prst="rect">
                <a:avLst/>
              </a:prstGeom>
              <a:solidFill>
                <a:srgbClr val="b3ce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1244520" y="5029200"/>
                <a:ext cx="490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upporting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: Teknis (UPT, Lembaga, Pusat, ds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5" name=""/>
            <p:cNvGrpSpPr/>
            <p:nvPr/>
          </p:nvGrpSpPr>
          <p:grpSpPr>
            <a:xfrm>
              <a:off x="609480" y="5486400"/>
              <a:ext cx="6172200" cy="380880"/>
              <a:chOff x="609480" y="5486400"/>
              <a:chExt cx="6172200" cy="380880"/>
            </a:xfrm>
          </p:grpSpPr>
          <p:sp>
            <p:nvSpPr>
              <p:cNvPr id="2296" name=""/>
              <p:cNvSpPr/>
              <p:nvPr/>
            </p:nvSpPr>
            <p:spPr>
              <a:xfrm>
                <a:off x="609480" y="5486400"/>
                <a:ext cx="6172200" cy="380880"/>
              </a:xfrm>
              <a:prstGeom prst="rect">
                <a:avLst/>
              </a:prstGeom>
              <a:solidFill>
                <a:srgbClr val="b3ced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1365120" y="5486400"/>
                <a:ext cx="466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upporting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 : Administratif (Biro, Bagian, ds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8" name=""/>
            <p:cNvSpPr/>
            <p:nvPr/>
          </p:nvSpPr>
          <p:spPr>
            <a:xfrm>
              <a:off x="2514240" y="2819520"/>
              <a:ext cx="136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rketable 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emand driv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748480" y="2819520"/>
              <a:ext cx="110952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09480" y="2819520"/>
              <a:ext cx="5114880" cy="114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790960" y="2819520"/>
              <a:ext cx="107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rket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2111400" y="5867280"/>
              <a:ext cx="255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Benguiat Bk BT"/>
                </a:rPr>
                <a:t>Perguruan Tingg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57200" y="2590920"/>
              <a:ext cx="6477120" cy="3809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04" name="" descr=""/>
          <p:cNvPicPr/>
          <p:nvPr/>
        </p:nvPicPr>
        <p:blipFill>
          <a:blip r:embed="rId1"/>
          <a:stretch/>
        </p:blipFill>
        <p:spPr>
          <a:xfrm>
            <a:off x="7772400" y="152280"/>
            <a:ext cx="923760" cy="954360"/>
          </a:xfrm>
          <a:prstGeom prst="rect">
            <a:avLst/>
          </a:prstGeom>
          <a:ln w="0">
            <a:noFill/>
          </a:ln>
        </p:spPr>
      </p:pic>
      <p:grpSp>
        <p:nvGrpSpPr>
          <p:cNvPr id="2305" name=""/>
          <p:cNvGrpSpPr/>
          <p:nvPr/>
        </p:nvGrpSpPr>
        <p:grpSpPr>
          <a:xfrm>
            <a:off x="7359480" y="1219320"/>
            <a:ext cx="1406160" cy="1985760"/>
            <a:chOff x="7359480" y="1219320"/>
            <a:chExt cx="1406160" cy="1985760"/>
          </a:xfrm>
        </p:grpSpPr>
        <p:sp>
          <p:nvSpPr>
            <p:cNvPr id="2306" name=""/>
            <p:cNvSpPr/>
            <p:nvPr/>
          </p:nvSpPr>
          <p:spPr>
            <a:xfrm>
              <a:off x="7466400" y="2057400"/>
              <a:ext cx="129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llo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07" name="" descr=""/>
            <p:cNvPicPr/>
            <p:nvPr/>
          </p:nvPicPr>
          <p:blipFill>
            <a:blip r:embed="rId2"/>
            <a:stretch/>
          </p:blipFill>
          <p:spPr>
            <a:xfrm>
              <a:off x="7772400" y="2666880"/>
              <a:ext cx="76212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8" name=""/>
            <p:cNvSpPr/>
            <p:nvPr/>
          </p:nvSpPr>
          <p:spPr>
            <a:xfrm>
              <a:off x="7359480" y="1219320"/>
              <a:ext cx="1162080" cy="838080"/>
            </a:xfrm>
            <a:custGeom>
              <a:avLst/>
              <a:gdLst/>
              <a:ahLst/>
              <a:rect l="l" t="t" r="r" b="b"/>
              <a:pathLst>
                <a:path w="732" h="528">
                  <a:moveTo>
                    <a:pt x="308" y="0"/>
                  </a:moveTo>
                  <a:cubicBezTo>
                    <a:pt x="266" y="31"/>
                    <a:pt x="0" y="122"/>
                    <a:pt x="58" y="188"/>
                  </a:cubicBezTo>
                  <a:cubicBezTo>
                    <a:pt x="49" y="248"/>
                    <a:pt x="584" y="338"/>
                    <a:pt x="658" y="395"/>
                  </a:cubicBezTo>
                  <a:cubicBezTo>
                    <a:pt x="732" y="452"/>
                    <a:pt x="533" y="500"/>
                    <a:pt x="500" y="52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9" name=""/>
          <p:cNvGrpSpPr/>
          <p:nvPr/>
        </p:nvGrpSpPr>
        <p:grpSpPr>
          <a:xfrm>
            <a:off x="5562720" y="990720"/>
            <a:ext cx="2286000" cy="1313280"/>
            <a:chOff x="5562720" y="990720"/>
            <a:chExt cx="2286000" cy="1313280"/>
          </a:xfrm>
        </p:grpSpPr>
        <p:sp>
          <p:nvSpPr>
            <p:cNvPr id="2310" name=""/>
            <p:cNvSpPr/>
            <p:nvPr/>
          </p:nvSpPr>
          <p:spPr>
            <a:xfrm>
              <a:off x="5789880" y="1600200"/>
              <a:ext cx="1511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eti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und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11" name="" descr=""/>
            <p:cNvPicPr/>
            <p:nvPr/>
          </p:nvPicPr>
          <p:blipFill>
            <a:blip r:embed="rId3"/>
            <a:stretch/>
          </p:blipFill>
          <p:spPr>
            <a:xfrm>
              <a:off x="5562720" y="990720"/>
              <a:ext cx="66996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2" name=""/>
            <p:cNvSpPr/>
            <p:nvPr/>
          </p:nvSpPr>
          <p:spPr>
            <a:xfrm>
              <a:off x="6629400" y="1022400"/>
              <a:ext cx="1219320" cy="439560"/>
            </a:xfrm>
            <a:custGeom>
              <a:avLst/>
              <a:gdLst/>
              <a:ahLst/>
              <a:rect l="l" t="t" r="r" b="b"/>
              <a:pathLst>
                <a:path w="768" h="277">
                  <a:moveTo>
                    <a:pt x="768" y="124"/>
                  </a:moveTo>
                  <a:cubicBezTo>
                    <a:pt x="711" y="146"/>
                    <a:pt x="485" y="277"/>
                    <a:pt x="427" y="259"/>
                  </a:cubicBezTo>
                  <a:cubicBezTo>
                    <a:pt x="326" y="274"/>
                    <a:pt x="488" y="28"/>
                    <a:pt x="417" y="14"/>
                  </a:cubicBezTo>
                  <a:cubicBezTo>
                    <a:pt x="346" y="0"/>
                    <a:pt x="87" y="139"/>
                    <a:pt x="0" y="17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3" name=""/>
          <p:cNvGrpSpPr/>
          <p:nvPr/>
        </p:nvGrpSpPr>
        <p:grpSpPr>
          <a:xfrm>
            <a:off x="6858000" y="3276720"/>
            <a:ext cx="1523880" cy="2493720"/>
            <a:chOff x="6858000" y="3276720"/>
            <a:chExt cx="1523880" cy="2493720"/>
          </a:xfrm>
        </p:grpSpPr>
        <p:sp>
          <p:nvSpPr>
            <p:cNvPr id="2314" name=""/>
            <p:cNvSpPr/>
            <p:nvPr/>
          </p:nvSpPr>
          <p:spPr>
            <a:xfrm>
              <a:off x="6912000" y="3276720"/>
              <a:ext cx="1469880" cy="635040"/>
            </a:xfrm>
            <a:custGeom>
              <a:avLst/>
              <a:gdLst/>
              <a:ahLst/>
              <a:rect l="l" t="t" r="r" b="b"/>
              <a:pathLst>
                <a:path w="926" h="400">
                  <a:moveTo>
                    <a:pt x="878" y="0"/>
                  </a:moveTo>
                  <a:cubicBezTo>
                    <a:pt x="862" y="61"/>
                    <a:pt x="926" y="339"/>
                    <a:pt x="780" y="368"/>
                  </a:cubicBezTo>
                  <a:cubicBezTo>
                    <a:pt x="636" y="400"/>
                    <a:pt x="198" y="246"/>
                    <a:pt x="0" y="177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858000" y="3276720"/>
              <a:ext cx="1517760" cy="2493720"/>
            </a:xfrm>
            <a:custGeom>
              <a:avLst/>
              <a:gdLst/>
              <a:ahLst/>
              <a:rect l="l" t="t" r="r" b="b"/>
              <a:pathLst>
                <a:path w="956" h="1571">
                  <a:moveTo>
                    <a:pt x="912" y="0"/>
                  </a:moveTo>
                  <a:cubicBezTo>
                    <a:pt x="894" y="220"/>
                    <a:pt x="956" y="1075"/>
                    <a:pt x="804" y="1323"/>
                  </a:cubicBezTo>
                  <a:cubicBezTo>
                    <a:pt x="652" y="1571"/>
                    <a:pt x="315" y="1509"/>
                    <a:pt x="0" y="148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6" name=""/>
          <p:cNvGrpSpPr/>
          <p:nvPr/>
        </p:nvGrpSpPr>
        <p:grpSpPr>
          <a:xfrm>
            <a:off x="3276720" y="1625760"/>
            <a:ext cx="2485800" cy="3327120"/>
            <a:chOff x="3276720" y="1625760"/>
            <a:chExt cx="2485800" cy="3327120"/>
          </a:xfrm>
        </p:grpSpPr>
        <p:sp>
          <p:nvSpPr>
            <p:cNvPr id="2317" name=""/>
            <p:cNvSpPr/>
            <p:nvPr/>
          </p:nvSpPr>
          <p:spPr>
            <a:xfrm>
              <a:off x="3276720" y="1625760"/>
              <a:ext cx="2209680" cy="1269720"/>
            </a:xfrm>
            <a:custGeom>
              <a:avLst/>
              <a:gdLst/>
              <a:ahLst/>
              <a:rect l="l" t="t" r="r" b="b"/>
              <a:pathLst>
                <a:path w="1392" h="800">
                  <a:moveTo>
                    <a:pt x="1392" y="80"/>
                  </a:moveTo>
                  <a:cubicBezTo>
                    <a:pt x="1356" y="107"/>
                    <a:pt x="1356" y="233"/>
                    <a:pt x="1175" y="240"/>
                  </a:cubicBezTo>
                  <a:cubicBezTo>
                    <a:pt x="994" y="247"/>
                    <a:pt x="455" y="0"/>
                    <a:pt x="304" y="123"/>
                  </a:cubicBezTo>
                  <a:cubicBezTo>
                    <a:pt x="72" y="243"/>
                    <a:pt x="17" y="553"/>
                    <a:pt x="0" y="8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886200" y="1752480"/>
              <a:ext cx="1876320" cy="3200400"/>
            </a:xfrm>
            <a:custGeom>
              <a:avLst/>
              <a:gdLst/>
              <a:ahLst/>
              <a:rect l="l" t="t" r="r" b="b"/>
              <a:pathLst>
                <a:path w="1182" h="2016">
                  <a:moveTo>
                    <a:pt x="1008" y="0"/>
                  </a:moveTo>
                  <a:cubicBezTo>
                    <a:pt x="796" y="282"/>
                    <a:pt x="1182" y="132"/>
                    <a:pt x="1014" y="468"/>
                  </a:cubicBezTo>
                  <a:cubicBezTo>
                    <a:pt x="846" y="804"/>
                    <a:pt x="211" y="1694"/>
                    <a:pt x="0" y="201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9" name=""/>
          <p:cNvSpPr/>
          <p:nvPr/>
        </p:nvSpPr>
        <p:spPr>
          <a:xfrm>
            <a:off x="1676520" y="15228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0000"/>
                </a:solidFill>
                <a:latin typeface="Benguiat Bk BT"/>
              </a:rPr>
              <a:t>Dana Pembangun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500"/>
                                        <p:tgtEl>
                                          <p:spTgt spid="2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2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2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2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2" dur="500"/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Perbedaan</a:t>
            </a:r>
            <a:br>
              <a:rPr sz="4800"/>
            </a:br>
            <a:r>
              <a:rPr b="0" i="1" lang="en-US" sz="4800" spc="-1" strike="noStrike">
                <a:solidFill>
                  <a:srgbClr val="000000"/>
                </a:solidFill>
                <a:latin typeface="Benguiat Bk BT"/>
              </a:rPr>
              <a:t>Sistem Hibah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nguiat Bk BT"/>
              </a:rPr>
              <a:t>Lama </a:t>
            </a:r>
            <a:r>
              <a:rPr b="0" lang="en-US" sz="2000" spc="-1" strike="noStrike">
                <a:solidFill>
                  <a:srgbClr val="000000"/>
                </a:solidFill>
                <a:latin typeface="Benguiat Bk BT"/>
              </a:rPr>
              <a:t>(&lt; 2004)</a:t>
            </a:r>
            <a:br>
              <a:rPr sz="28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DUE, QUE, DUE-like, TPSDP, Semi-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Grantee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gram Stu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SER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gram Stu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engembangan 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Stu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valuasi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gram Stu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571640" y="1752120"/>
            <a:ext cx="4267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nguiat Bk BT"/>
              </a:rPr>
              <a:t>Baru </a:t>
            </a:r>
            <a:r>
              <a:rPr b="0" lang="en-US" sz="2000" spc="-1" strike="noStrike">
                <a:solidFill>
                  <a:srgbClr val="000000"/>
                </a:solidFill>
                <a:latin typeface="Benguiat Bk BT"/>
              </a:rPr>
              <a:t>(2004 - dst)</a:t>
            </a:r>
            <a:br>
              <a:rPr sz="28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Program Hibah Kompetisi, SP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Grantee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urusan/Departe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SER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urusan/Departe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engembangan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urusan/Departe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okus 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Studi y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valuasi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Jurusan &amp; Program Studi y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l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3" name=""/>
          <p:cNvGrpSpPr/>
          <p:nvPr/>
        </p:nvGrpSpPr>
        <p:grpSpPr>
          <a:xfrm>
            <a:off x="827280" y="5181480"/>
            <a:ext cx="2695320" cy="1085040"/>
            <a:chOff x="827280" y="5181480"/>
            <a:chExt cx="2695320" cy="1085040"/>
          </a:xfrm>
        </p:grpSpPr>
        <p:sp>
          <p:nvSpPr>
            <p:cNvPr id="2324" name=""/>
            <p:cNvSpPr/>
            <p:nvPr/>
          </p:nvSpPr>
          <p:spPr>
            <a:xfrm>
              <a:off x="827280" y="5562720"/>
              <a:ext cx="269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enguiat Bk BT"/>
                </a:rPr>
                <a:t>Peningkatan Kualit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enguiat Bk BT"/>
                </a:rPr>
                <a:t>Program Stud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905120" y="5181480"/>
              <a:ext cx="380880" cy="381240"/>
            </a:xfrm>
            <a:prstGeom prst="downArrow">
              <a:avLst>
                <a:gd name="adj1" fmla="val 54167"/>
                <a:gd name="adj2" fmla="val 471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6" name=""/>
          <p:cNvGrpSpPr/>
          <p:nvPr/>
        </p:nvGrpSpPr>
        <p:grpSpPr>
          <a:xfrm>
            <a:off x="5059440" y="5181480"/>
            <a:ext cx="3469680" cy="1389960"/>
            <a:chOff x="5059440" y="5181480"/>
            <a:chExt cx="3469680" cy="1389960"/>
          </a:xfrm>
        </p:grpSpPr>
        <p:sp>
          <p:nvSpPr>
            <p:cNvPr id="2327" name=""/>
            <p:cNvSpPr/>
            <p:nvPr/>
          </p:nvSpPr>
          <p:spPr>
            <a:xfrm>
              <a:off x="5059440" y="5562720"/>
              <a:ext cx="3469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enguiat Bk BT"/>
                </a:rPr>
                <a:t>Peningkatan Kualit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enguiat Bk BT"/>
                </a:rPr>
                <a:t>Jurusan/Departemen d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enguiat Bk BT"/>
                </a:rPr>
                <a:t>semua PS yg ada di Jurus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629400" y="5181480"/>
              <a:ext cx="380880" cy="381240"/>
            </a:xfrm>
            <a:prstGeom prst="downArrow">
              <a:avLst>
                <a:gd name="adj1" fmla="val 54167"/>
                <a:gd name="adj2" fmla="val 4712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0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500"/>
                                        <p:tgtEl>
                                          <p:spTgt spid="2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1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8" dur="500"/>
                                        <p:tgtEl>
                                          <p:spTgt spid="2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500"/>
                                        <p:tgtEl>
                                          <p:spTgt spid="2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2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500"/>
                                        <p:tgtEl>
                                          <p:spTgt spid="2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2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2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8" dur="500"/>
                                        <p:tgtEl>
                                          <p:spTgt spid="2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500"/>
                                        <p:tgtEl>
                                          <p:spTgt spid="2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1600200" y="4568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Benguiat Bk BT"/>
              </a:rPr>
              <a:t>Karakteristik</a:t>
            </a:r>
            <a:br>
              <a:rPr sz="4800"/>
            </a:br>
            <a:r>
              <a:rPr b="0" i="1" lang="en-US" sz="4800" spc="-1" strike="noStrike">
                <a:solidFill>
                  <a:srgbClr val="cc0000"/>
                </a:solidFill>
                <a:latin typeface="Benguiat Bk BT"/>
              </a:rPr>
              <a:t>Hibah Kompetisi 2004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Grantee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urusan dengan kegiatan untuk Academic Progr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) y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lig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elf Evaluation Repor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rusan/Departemen </a:t>
            </a:r>
            <a:r>
              <a:rPr b="0" lang="en-US" sz="20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la &gt; dari 1 Jurs/D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kult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Monotype Sorts"/>
                <a:ea typeface="Monotype Sort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la hanya ada 1 Jurs/D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ua proposal yang diajukan oleh Jurusan/Departemen/Fak. tsb, didasarkan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at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aporan Evaluasi Diri yang sama </a:t>
            </a:r>
            <a:r>
              <a:rPr b="0" lang="en-US" sz="1800" spc="-1" strike="noStrike">
                <a:solidFill>
                  <a:srgbClr val="008000"/>
                </a:solidFill>
                <a:latin typeface="Monotype Sorts"/>
                <a:ea typeface="Monotype Sort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haru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ompreh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500"/>
                                        <p:tgtEl>
                                          <p:spTgt spid="2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2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2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2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2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2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3" dur="500"/>
                                        <p:tgtEl>
                                          <p:spTgt spid="2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nguiat Bk BT"/>
              </a:rPr>
              <a:t>Lama </a:t>
            </a:r>
            <a:r>
              <a:rPr b="0" lang="en-US" sz="2000" spc="-1" strike="noStrike">
                <a:solidFill>
                  <a:srgbClr val="000000"/>
                </a:solidFill>
                <a:latin typeface="Benguiat Bk BT"/>
              </a:rPr>
              <a:t>(&lt; 2004)</a:t>
            </a:r>
            <a:br>
              <a:rPr sz="28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DUE, QUE, DUE-like, TPSDP, Semi-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kus pada proses pendidik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jem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urang dapat perhat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ks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dak ad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haring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berdaya yg diperoleh dari proyek milik 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ncul tembok pemisah antar 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 ketidakharmonisan antara PS dan Jurus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4724280" y="182880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nguiat Bk BT"/>
              </a:rPr>
              <a:t>Baru </a:t>
            </a:r>
            <a:r>
              <a:rPr b="0" lang="en-US" sz="2000" spc="-1" strike="noStrike">
                <a:solidFill>
                  <a:srgbClr val="000000"/>
                </a:solidFill>
                <a:latin typeface="Benguiat Bk BT"/>
              </a:rPr>
              <a:t>(2004 - dst)</a:t>
            </a:r>
            <a:br>
              <a:rPr sz="28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Program Hibah Kompetisi, SP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kus pada Manajem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n Aktivitas Akademi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entuan prioritas menjadi kehar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Keuntung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haring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eadershi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urusan/ Departemen meningk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SzPct val="70000"/>
              <a:buFont typeface="Monotype Sorts" charset="2"/>
              <a:buChar char="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pp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emanfaata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jelas &amp; tidak ada yg dapat disembunyik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3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Benguiat Bk BT"/>
              </a:rPr>
              <a:t>Karakteristik</a:t>
            </a:r>
            <a:br>
              <a:rPr sz="4800"/>
            </a:br>
            <a:r>
              <a:rPr b="0" i="1" lang="en-US" sz="4800" spc="-1" strike="noStrike">
                <a:solidFill>
                  <a:srgbClr val="cc0000"/>
                </a:solidFill>
                <a:latin typeface="Benguiat Bk BT"/>
              </a:rPr>
              <a:t>Hibah Kompetisi 2004</a:t>
            </a:r>
            <a:endParaRPr b="1" i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0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0" dur="500"/>
                                        <p:tgtEl>
                                          <p:spTgt spid="2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5" dur="500"/>
                                        <p:tgtEl>
                                          <p:spTgt spid="2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8" dur="500"/>
                                        <p:tgtEl>
                                          <p:spTgt spid="2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2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4" dur="500"/>
                                        <p:tgtEl>
                                          <p:spTgt spid="2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2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2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3" dur="500"/>
                                        <p:tgtEl>
                                          <p:spTgt spid="2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6" dur="500"/>
                                        <p:tgtEl>
                                          <p:spTgt spid="2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0" dur="500"/>
                                        <p:tgtEl>
                                          <p:spTgt spid="2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3" dur="500"/>
                                        <p:tgtEl>
                                          <p:spTgt spid="2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6" dur="500"/>
                                        <p:tgtEl>
                                          <p:spTgt spid="2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9" dur="500"/>
                                        <p:tgtEl>
                                          <p:spTgt spid="2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500"/>
                                        <p:tgtEl>
                                          <p:spTgt spid="2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5" dur="500"/>
                                        <p:tgtEl>
                                          <p:spTgt spid="2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500"/>
                                        <p:tgtEl>
                                          <p:spTgt spid="2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4760" y="990360"/>
            <a:ext cx="701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Benguiat Bk BT"/>
              </a:rPr>
              <a:t>Siklus </a:t>
            </a:r>
            <a:br>
              <a:rPr sz="6600"/>
            </a:br>
            <a:r>
              <a:rPr b="0" i="1" lang="en-US" sz="6600" spc="-1" strike="noStrike">
                <a:solidFill>
                  <a:srgbClr val="000000"/>
                </a:solidFill>
                <a:latin typeface="Benguiat Bk BT"/>
              </a:rPr>
              <a:t>Pengembangan</a:t>
            </a:r>
            <a:br>
              <a:rPr sz="6600"/>
            </a:br>
            <a:r>
              <a:rPr b="0" i="1" lang="en-US" sz="6600" spc="-1" strike="noStrike">
                <a:solidFill>
                  <a:srgbClr val="000000"/>
                </a:solidFill>
                <a:latin typeface="Benguiat Bk BT"/>
              </a:rPr>
              <a:t>Institusi</a:t>
            </a:r>
            <a:endParaRPr b="1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286000" y="838080"/>
            <a:ext cx="5105520" cy="1600200"/>
          </a:xfrm>
          <a:prstGeom prst="rightArrow">
            <a:avLst>
              <a:gd name="adj1" fmla="val 50000"/>
              <a:gd name="adj2" fmla="val 79764"/>
            </a:avLst>
          </a:prstGeom>
          <a:solidFill>
            <a:srgbClr val="eaeaea"/>
          </a:solidFill>
          <a:ln w="28440">
            <a:solidFill>
              <a:srgbClr val="00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444320" y="982800"/>
            <a:ext cx="1046520" cy="1952280"/>
            <a:chOff x="1444320" y="982800"/>
            <a:chExt cx="1046520" cy="19522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1731960" y="982800"/>
              <a:ext cx="4716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444320" y="2201760"/>
              <a:ext cx="1046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gaim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encap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ujuan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476440" y="838080"/>
            <a:ext cx="1055880" cy="1790280"/>
            <a:chOff x="2476440" y="838080"/>
            <a:chExt cx="1055880" cy="179028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2476440" y="838080"/>
              <a:ext cx="105588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2559600" y="2108160"/>
              <a:ext cx="839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valuas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634560" y="774720"/>
            <a:ext cx="787320" cy="1828440"/>
            <a:chOff x="3634560" y="774720"/>
            <a:chExt cx="787320" cy="1828440"/>
          </a:xfrm>
        </p:grpSpPr>
        <p:pic>
          <p:nvPicPr>
            <p:cNvPr id="214" name="" descr=""/>
            <p:cNvPicPr/>
            <p:nvPr/>
          </p:nvPicPr>
          <p:blipFill>
            <a:blip r:embed="rId3"/>
            <a:stretch/>
          </p:blipFill>
          <p:spPr>
            <a:xfrm>
              <a:off x="3772080" y="774720"/>
              <a:ext cx="426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3634560" y="2082960"/>
              <a:ext cx="78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a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trateg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784840" y="1054080"/>
            <a:ext cx="1125720" cy="1586880"/>
            <a:chOff x="5784840" y="1054080"/>
            <a:chExt cx="1125720" cy="1586880"/>
          </a:xfrm>
        </p:grpSpPr>
        <p:pic>
          <p:nvPicPr>
            <p:cNvPr id="217" name="" descr=""/>
            <p:cNvPicPr/>
            <p:nvPr/>
          </p:nvPicPr>
          <p:blipFill>
            <a:blip r:embed="rId4"/>
            <a:stretch/>
          </p:blipFill>
          <p:spPr>
            <a:xfrm>
              <a:off x="5978520" y="1054080"/>
              <a:ext cx="7347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784840" y="2120760"/>
              <a:ext cx="112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ksanak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nc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543800" y="800280"/>
            <a:ext cx="1219320" cy="1674000"/>
            <a:chOff x="7543800" y="800280"/>
            <a:chExt cx="1219320" cy="1674000"/>
          </a:xfrm>
        </p:grpSpPr>
        <p:grpSp>
          <p:nvGrpSpPr>
            <p:cNvPr id="220" name=""/>
            <p:cNvGrpSpPr/>
            <p:nvPr/>
          </p:nvGrpSpPr>
          <p:grpSpPr>
            <a:xfrm>
              <a:off x="7543800" y="800280"/>
              <a:ext cx="1219320" cy="1066680"/>
              <a:chOff x="7543800" y="800280"/>
              <a:chExt cx="1219320" cy="106668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7551720" y="1324080"/>
                <a:ext cx="1211400" cy="241200"/>
                <a:chOff x="7551720" y="1324080"/>
                <a:chExt cx="1211400" cy="2412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7574040" y="1328760"/>
                  <a:ext cx="1174680" cy="231840"/>
                </a:xfrm>
                <a:custGeom>
                  <a:avLst/>
                  <a:gdLst/>
                  <a:ahLst/>
                  <a:rect l="l" t="t" r="r" b="b"/>
                  <a:pathLst>
                    <a:path w="2961" h="436">
                      <a:moveTo>
                        <a:pt x="1809" y="54"/>
                      </a:moveTo>
                      <a:lnTo>
                        <a:pt x="1947" y="116"/>
                      </a:lnTo>
                      <a:lnTo>
                        <a:pt x="2048" y="157"/>
                      </a:lnTo>
                      <a:lnTo>
                        <a:pt x="2119" y="171"/>
                      </a:lnTo>
                      <a:lnTo>
                        <a:pt x="2223" y="174"/>
                      </a:lnTo>
                      <a:lnTo>
                        <a:pt x="2335" y="164"/>
                      </a:lnTo>
                      <a:lnTo>
                        <a:pt x="2420" y="146"/>
                      </a:lnTo>
                      <a:lnTo>
                        <a:pt x="2499" y="131"/>
                      </a:lnTo>
                      <a:lnTo>
                        <a:pt x="2590" y="107"/>
                      </a:lnTo>
                      <a:lnTo>
                        <a:pt x="2675" y="84"/>
                      </a:lnTo>
                      <a:lnTo>
                        <a:pt x="2740" y="80"/>
                      </a:lnTo>
                      <a:lnTo>
                        <a:pt x="2809" y="86"/>
                      </a:lnTo>
                      <a:lnTo>
                        <a:pt x="2885" y="113"/>
                      </a:lnTo>
                      <a:lnTo>
                        <a:pt x="2961" y="149"/>
                      </a:lnTo>
                      <a:lnTo>
                        <a:pt x="2939" y="161"/>
                      </a:lnTo>
                      <a:lnTo>
                        <a:pt x="2863" y="157"/>
                      </a:lnTo>
                      <a:lnTo>
                        <a:pt x="2757" y="153"/>
                      </a:lnTo>
                      <a:lnTo>
                        <a:pt x="2686" y="163"/>
                      </a:lnTo>
                      <a:lnTo>
                        <a:pt x="2584" y="189"/>
                      </a:lnTo>
                      <a:lnTo>
                        <a:pt x="2469" y="223"/>
                      </a:lnTo>
                      <a:lnTo>
                        <a:pt x="2385" y="250"/>
                      </a:lnTo>
                      <a:lnTo>
                        <a:pt x="2304" y="273"/>
                      </a:lnTo>
                      <a:lnTo>
                        <a:pt x="2211" y="277"/>
                      </a:lnTo>
                      <a:lnTo>
                        <a:pt x="2076" y="280"/>
                      </a:lnTo>
                      <a:lnTo>
                        <a:pt x="1980" y="274"/>
                      </a:lnTo>
                      <a:lnTo>
                        <a:pt x="1896" y="263"/>
                      </a:lnTo>
                      <a:lnTo>
                        <a:pt x="1813" y="240"/>
                      </a:lnTo>
                      <a:lnTo>
                        <a:pt x="1736" y="209"/>
                      </a:lnTo>
                      <a:lnTo>
                        <a:pt x="1655" y="186"/>
                      </a:lnTo>
                      <a:lnTo>
                        <a:pt x="1563" y="167"/>
                      </a:lnTo>
                      <a:lnTo>
                        <a:pt x="1475" y="156"/>
                      </a:lnTo>
                      <a:lnTo>
                        <a:pt x="1366" y="151"/>
                      </a:lnTo>
                      <a:lnTo>
                        <a:pt x="1264" y="153"/>
                      </a:lnTo>
                      <a:lnTo>
                        <a:pt x="1186" y="153"/>
                      </a:lnTo>
                      <a:lnTo>
                        <a:pt x="1099" y="167"/>
                      </a:lnTo>
                      <a:lnTo>
                        <a:pt x="1008" y="189"/>
                      </a:lnTo>
                      <a:lnTo>
                        <a:pt x="913" y="216"/>
                      </a:lnTo>
                      <a:lnTo>
                        <a:pt x="843" y="243"/>
                      </a:lnTo>
                      <a:lnTo>
                        <a:pt x="728" y="276"/>
                      </a:lnTo>
                      <a:lnTo>
                        <a:pt x="627" y="313"/>
                      </a:lnTo>
                      <a:lnTo>
                        <a:pt x="539" y="359"/>
                      </a:lnTo>
                      <a:lnTo>
                        <a:pt x="472" y="397"/>
                      </a:lnTo>
                      <a:lnTo>
                        <a:pt x="418" y="420"/>
                      </a:lnTo>
                      <a:lnTo>
                        <a:pt x="412" y="422"/>
                      </a:lnTo>
                      <a:lnTo>
                        <a:pt x="354" y="432"/>
                      </a:lnTo>
                      <a:lnTo>
                        <a:pt x="348" y="434"/>
                      </a:lnTo>
                      <a:lnTo>
                        <a:pt x="270" y="436"/>
                      </a:lnTo>
                      <a:lnTo>
                        <a:pt x="190" y="434"/>
                      </a:lnTo>
                      <a:lnTo>
                        <a:pt x="123" y="427"/>
                      </a:lnTo>
                      <a:lnTo>
                        <a:pt x="74" y="416"/>
                      </a:lnTo>
                      <a:lnTo>
                        <a:pt x="27" y="392"/>
                      </a:lnTo>
                      <a:lnTo>
                        <a:pt x="22" y="392"/>
                      </a:lnTo>
                      <a:lnTo>
                        <a:pt x="0" y="374"/>
                      </a:lnTo>
                      <a:lnTo>
                        <a:pt x="69" y="374"/>
                      </a:lnTo>
                      <a:lnTo>
                        <a:pt x="156" y="360"/>
                      </a:lnTo>
                      <a:lnTo>
                        <a:pt x="237" y="340"/>
                      </a:lnTo>
                      <a:lnTo>
                        <a:pt x="301" y="320"/>
                      </a:lnTo>
                      <a:lnTo>
                        <a:pt x="379" y="294"/>
                      </a:lnTo>
                      <a:lnTo>
                        <a:pt x="469" y="256"/>
                      </a:lnTo>
                      <a:lnTo>
                        <a:pt x="571" y="206"/>
                      </a:lnTo>
                      <a:lnTo>
                        <a:pt x="645" y="173"/>
                      </a:lnTo>
                      <a:lnTo>
                        <a:pt x="722" y="143"/>
                      </a:lnTo>
                      <a:lnTo>
                        <a:pt x="816" y="113"/>
                      </a:lnTo>
                      <a:lnTo>
                        <a:pt x="925" y="80"/>
                      </a:lnTo>
                      <a:lnTo>
                        <a:pt x="1015" y="54"/>
                      </a:lnTo>
                      <a:lnTo>
                        <a:pt x="1083" y="37"/>
                      </a:lnTo>
                      <a:lnTo>
                        <a:pt x="1171" y="21"/>
                      </a:lnTo>
                      <a:lnTo>
                        <a:pt x="1274" y="11"/>
                      </a:lnTo>
                      <a:lnTo>
                        <a:pt x="1345" y="1"/>
                      </a:lnTo>
                      <a:lnTo>
                        <a:pt x="1442" y="0"/>
                      </a:lnTo>
                      <a:lnTo>
                        <a:pt x="1537" y="1"/>
                      </a:lnTo>
                      <a:lnTo>
                        <a:pt x="1604" y="10"/>
                      </a:lnTo>
                      <a:lnTo>
                        <a:pt x="1684" y="20"/>
                      </a:lnTo>
                      <a:lnTo>
                        <a:pt x="1749" y="34"/>
                      </a:lnTo>
                      <a:lnTo>
                        <a:pt x="1809" y="54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551720" y="1324080"/>
                  <a:ext cx="1211400" cy="214200"/>
                </a:xfrm>
                <a:custGeom>
                  <a:avLst/>
                  <a:gdLst/>
                  <a:ahLst/>
                  <a:rect l="l" t="t" r="r" b="b"/>
                  <a:pathLst>
                    <a:path w="3050" h="406">
                      <a:moveTo>
                        <a:pt x="2925" y="131"/>
                      </a:moveTo>
                      <a:lnTo>
                        <a:pt x="2850" y="106"/>
                      </a:lnTo>
                      <a:lnTo>
                        <a:pt x="2780" y="103"/>
                      </a:lnTo>
                      <a:lnTo>
                        <a:pt x="2710" y="111"/>
                      </a:lnTo>
                      <a:lnTo>
                        <a:pt x="2648" y="130"/>
                      </a:lnTo>
                      <a:lnTo>
                        <a:pt x="2558" y="151"/>
                      </a:lnTo>
                      <a:lnTo>
                        <a:pt x="2497" y="166"/>
                      </a:lnTo>
                      <a:lnTo>
                        <a:pt x="2433" y="177"/>
                      </a:lnTo>
                      <a:lnTo>
                        <a:pt x="2366" y="193"/>
                      </a:lnTo>
                      <a:lnTo>
                        <a:pt x="2311" y="197"/>
                      </a:lnTo>
                      <a:lnTo>
                        <a:pt x="2261" y="199"/>
                      </a:lnTo>
                      <a:lnTo>
                        <a:pt x="2201" y="199"/>
                      </a:lnTo>
                      <a:lnTo>
                        <a:pt x="2140" y="194"/>
                      </a:lnTo>
                      <a:lnTo>
                        <a:pt x="2095" y="184"/>
                      </a:lnTo>
                      <a:lnTo>
                        <a:pt x="2042" y="161"/>
                      </a:lnTo>
                      <a:lnTo>
                        <a:pt x="1981" y="130"/>
                      </a:lnTo>
                      <a:lnTo>
                        <a:pt x="1918" y="101"/>
                      </a:lnTo>
                      <a:lnTo>
                        <a:pt x="1863" y="80"/>
                      </a:lnTo>
                      <a:lnTo>
                        <a:pt x="1793" y="54"/>
                      </a:lnTo>
                      <a:lnTo>
                        <a:pt x="1704" y="36"/>
                      </a:lnTo>
                      <a:lnTo>
                        <a:pt x="1633" y="27"/>
                      </a:lnTo>
                      <a:lnTo>
                        <a:pt x="1536" y="21"/>
                      </a:lnTo>
                      <a:lnTo>
                        <a:pt x="1449" y="21"/>
                      </a:lnTo>
                      <a:lnTo>
                        <a:pt x="1355" y="27"/>
                      </a:lnTo>
                      <a:lnTo>
                        <a:pt x="1268" y="37"/>
                      </a:lnTo>
                      <a:lnTo>
                        <a:pt x="1184" y="54"/>
                      </a:lnTo>
                      <a:lnTo>
                        <a:pt x="1070" y="77"/>
                      </a:lnTo>
                      <a:lnTo>
                        <a:pt x="944" y="113"/>
                      </a:lnTo>
                      <a:lnTo>
                        <a:pt x="827" y="147"/>
                      </a:lnTo>
                      <a:lnTo>
                        <a:pt x="708" y="191"/>
                      </a:lnTo>
                      <a:lnTo>
                        <a:pt x="618" y="230"/>
                      </a:lnTo>
                      <a:lnTo>
                        <a:pt x="614" y="233"/>
                      </a:lnTo>
                      <a:lnTo>
                        <a:pt x="539" y="269"/>
                      </a:lnTo>
                      <a:lnTo>
                        <a:pt x="482" y="297"/>
                      </a:lnTo>
                      <a:lnTo>
                        <a:pt x="419" y="326"/>
                      </a:lnTo>
                      <a:lnTo>
                        <a:pt x="354" y="350"/>
                      </a:lnTo>
                      <a:lnTo>
                        <a:pt x="283" y="367"/>
                      </a:lnTo>
                      <a:lnTo>
                        <a:pt x="278" y="370"/>
                      </a:lnTo>
                      <a:lnTo>
                        <a:pt x="220" y="387"/>
                      </a:lnTo>
                      <a:lnTo>
                        <a:pt x="216" y="389"/>
                      </a:lnTo>
                      <a:lnTo>
                        <a:pt x="155" y="397"/>
                      </a:lnTo>
                      <a:lnTo>
                        <a:pt x="91" y="404"/>
                      </a:lnTo>
                      <a:lnTo>
                        <a:pt x="86" y="406"/>
                      </a:lnTo>
                      <a:lnTo>
                        <a:pt x="62" y="404"/>
                      </a:lnTo>
                      <a:lnTo>
                        <a:pt x="28" y="390"/>
                      </a:lnTo>
                      <a:lnTo>
                        <a:pt x="0" y="376"/>
                      </a:lnTo>
                      <a:lnTo>
                        <a:pt x="7" y="367"/>
                      </a:lnTo>
                      <a:lnTo>
                        <a:pt x="24" y="366"/>
                      </a:lnTo>
                      <a:lnTo>
                        <a:pt x="74" y="369"/>
                      </a:lnTo>
                      <a:lnTo>
                        <a:pt x="138" y="369"/>
                      </a:lnTo>
                      <a:lnTo>
                        <a:pt x="189" y="363"/>
                      </a:lnTo>
                      <a:lnTo>
                        <a:pt x="250" y="347"/>
                      </a:lnTo>
                      <a:lnTo>
                        <a:pt x="332" y="327"/>
                      </a:lnTo>
                      <a:lnTo>
                        <a:pt x="388" y="307"/>
                      </a:lnTo>
                      <a:lnTo>
                        <a:pt x="456" y="276"/>
                      </a:lnTo>
                      <a:lnTo>
                        <a:pt x="530" y="243"/>
                      </a:lnTo>
                      <a:lnTo>
                        <a:pt x="595" y="211"/>
                      </a:lnTo>
                      <a:lnTo>
                        <a:pt x="678" y="174"/>
                      </a:lnTo>
                      <a:lnTo>
                        <a:pt x="752" y="147"/>
                      </a:lnTo>
                      <a:lnTo>
                        <a:pt x="820" y="124"/>
                      </a:lnTo>
                      <a:lnTo>
                        <a:pt x="897" y="101"/>
                      </a:lnTo>
                      <a:lnTo>
                        <a:pt x="967" y="80"/>
                      </a:lnTo>
                      <a:lnTo>
                        <a:pt x="1056" y="54"/>
                      </a:lnTo>
                      <a:lnTo>
                        <a:pt x="1133" y="37"/>
                      </a:lnTo>
                      <a:lnTo>
                        <a:pt x="1193" y="26"/>
                      </a:lnTo>
                      <a:lnTo>
                        <a:pt x="1275" y="13"/>
                      </a:lnTo>
                      <a:lnTo>
                        <a:pt x="1372" y="3"/>
                      </a:lnTo>
                      <a:lnTo>
                        <a:pt x="1452" y="0"/>
                      </a:lnTo>
                      <a:lnTo>
                        <a:pt x="1549" y="0"/>
                      </a:lnTo>
                      <a:lnTo>
                        <a:pt x="1655" y="4"/>
                      </a:lnTo>
                      <a:lnTo>
                        <a:pt x="1715" y="14"/>
                      </a:lnTo>
                      <a:lnTo>
                        <a:pt x="1775" y="26"/>
                      </a:lnTo>
                      <a:lnTo>
                        <a:pt x="1836" y="46"/>
                      </a:lnTo>
                      <a:lnTo>
                        <a:pt x="1893" y="64"/>
                      </a:lnTo>
                      <a:lnTo>
                        <a:pt x="1951" y="86"/>
                      </a:lnTo>
                      <a:lnTo>
                        <a:pt x="2002" y="111"/>
                      </a:lnTo>
                      <a:lnTo>
                        <a:pt x="2058" y="136"/>
                      </a:lnTo>
                      <a:lnTo>
                        <a:pt x="2106" y="154"/>
                      </a:lnTo>
                      <a:lnTo>
                        <a:pt x="2146" y="166"/>
                      </a:lnTo>
                      <a:lnTo>
                        <a:pt x="2189" y="173"/>
                      </a:lnTo>
                      <a:lnTo>
                        <a:pt x="2260" y="171"/>
                      </a:lnTo>
                      <a:lnTo>
                        <a:pt x="2324" y="169"/>
                      </a:lnTo>
                      <a:lnTo>
                        <a:pt x="2385" y="161"/>
                      </a:lnTo>
                      <a:lnTo>
                        <a:pt x="2435" y="149"/>
                      </a:lnTo>
                      <a:lnTo>
                        <a:pt x="2523" y="134"/>
                      </a:lnTo>
                      <a:lnTo>
                        <a:pt x="2592" y="116"/>
                      </a:lnTo>
                      <a:lnTo>
                        <a:pt x="2675" y="96"/>
                      </a:lnTo>
                      <a:lnTo>
                        <a:pt x="2733" y="80"/>
                      </a:lnTo>
                      <a:lnTo>
                        <a:pt x="2786" y="76"/>
                      </a:lnTo>
                      <a:lnTo>
                        <a:pt x="2833" y="76"/>
                      </a:lnTo>
                      <a:lnTo>
                        <a:pt x="2858" y="81"/>
                      </a:lnTo>
                      <a:lnTo>
                        <a:pt x="2922" y="100"/>
                      </a:lnTo>
                      <a:lnTo>
                        <a:pt x="2988" y="127"/>
                      </a:lnTo>
                      <a:lnTo>
                        <a:pt x="3032" y="149"/>
                      </a:lnTo>
                      <a:lnTo>
                        <a:pt x="3050" y="157"/>
                      </a:lnTo>
                      <a:lnTo>
                        <a:pt x="3045" y="163"/>
                      </a:lnTo>
                      <a:lnTo>
                        <a:pt x="3029" y="167"/>
                      </a:lnTo>
                      <a:lnTo>
                        <a:pt x="2995" y="163"/>
                      </a:lnTo>
                      <a:lnTo>
                        <a:pt x="2951" y="144"/>
                      </a:lnTo>
                      <a:lnTo>
                        <a:pt x="2925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559640" y="1401840"/>
                  <a:ext cx="1201680" cy="163440"/>
                </a:xfrm>
                <a:custGeom>
                  <a:avLst/>
                  <a:gdLst/>
                  <a:ahLst/>
                  <a:rect l="l" t="t" r="r" b="b"/>
                  <a:pathLst>
                    <a:path w="3026" h="311">
                      <a:moveTo>
                        <a:pt x="2982" y="15"/>
                      </a:moveTo>
                      <a:lnTo>
                        <a:pt x="2938" y="15"/>
                      </a:lnTo>
                      <a:lnTo>
                        <a:pt x="2883" y="8"/>
                      </a:lnTo>
                      <a:lnTo>
                        <a:pt x="2820" y="0"/>
                      </a:lnTo>
                      <a:lnTo>
                        <a:pt x="2765" y="3"/>
                      </a:lnTo>
                      <a:lnTo>
                        <a:pt x="2698" y="17"/>
                      </a:lnTo>
                      <a:lnTo>
                        <a:pt x="2614" y="41"/>
                      </a:lnTo>
                      <a:lnTo>
                        <a:pt x="2543" y="63"/>
                      </a:lnTo>
                      <a:lnTo>
                        <a:pt x="2475" y="83"/>
                      </a:lnTo>
                      <a:lnTo>
                        <a:pt x="2412" y="101"/>
                      </a:lnTo>
                      <a:lnTo>
                        <a:pt x="2358" y="113"/>
                      </a:lnTo>
                      <a:lnTo>
                        <a:pt x="2354" y="113"/>
                      </a:lnTo>
                      <a:lnTo>
                        <a:pt x="2291" y="123"/>
                      </a:lnTo>
                      <a:lnTo>
                        <a:pt x="2222" y="124"/>
                      </a:lnTo>
                      <a:lnTo>
                        <a:pt x="2148" y="128"/>
                      </a:lnTo>
                      <a:lnTo>
                        <a:pt x="2143" y="128"/>
                      </a:lnTo>
                      <a:lnTo>
                        <a:pt x="2047" y="127"/>
                      </a:lnTo>
                      <a:lnTo>
                        <a:pt x="1956" y="117"/>
                      </a:lnTo>
                      <a:lnTo>
                        <a:pt x="1914" y="110"/>
                      </a:lnTo>
                      <a:lnTo>
                        <a:pt x="1856" y="91"/>
                      </a:lnTo>
                      <a:lnTo>
                        <a:pt x="1796" y="67"/>
                      </a:lnTo>
                      <a:lnTo>
                        <a:pt x="1732" y="45"/>
                      </a:lnTo>
                      <a:lnTo>
                        <a:pt x="1674" y="30"/>
                      </a:lnTo>
                      <a:lnTo>
                        <a:pt x="1617" y="20"/>
                      </a:lnTo>
                      <a:lnTo>
                        <a:pt x="1529" y="8"/>
                      </a:lnTo>
                      <a:lnTo>
                        <a:pt x="1434" y="3"/>
                      </a:lnTo>
                      <a:lnTo>
                        <a:pt x="1341" y="0"/>
                      </a:lnTo>
                      <a:lnTo>
                        <a:pt x="1246" y="0"/>
                      </a:lnTo>
                      <a:lnTo>
                        <a:pt x="1189" y="7"/>
                      </a:lnTo>
                      <a:lnTo>
                        <a:pt x="1116" y="20"/>
                      </a:lnTo>
                      <a:lnTo>
                        <a:pt x="1052" y="37"/>
                      </a:lnTo>
                      <a:lnTo>
                        <a:pt x="975" y="58"/>
                      </a:lnTo>
                      <a:lnTo>
                        <a:pt x="899" y="83"/>
                      </a:lnTo>
                      <a:lnTo>
                        <a:pt x="823" y="108"/>
                      </a:lnTo>
                      <a:lnTo>
                        <a:pt x="738" y="133"/>
                      </a:lnTo>
                      <a:lnTo>
                        <a:pt x="668" y="161"/>
                      </a:lnTo>
                      <a:lnTo>
                        <a:pt x="611" y="190"/>
                      </a:lnTo>
                      <a:lnTo>
                        <a:pt x="550" y="221"/>
                      </a:lnTo>
                      <a:lnTo>
                        <a:pt x="498" y="251"/>
                      </a:lnTo>
                      <a:lnTo>
                        <a:pt x="456" y="266"/>
                      </a:lnTo>
                      <a:lnTo>
                        <a:pt x="398" y="280"/>
                      </a:lnTo>
                      <a:lnTo>
                        <a:pt x="350" y="286"/>
                      </a:lnTo>
                      <a:lnTo>
                        <a:pt x="343" y="284"/>
                      </a:lnTo>
                      <a:lnTo>
                        <a:pt x="284" y="288"/>
                      </a:lnTo>
                      <a:lnTo>
                        <a:pt x="215" y="283"/>
                      </a:lnTo>
                      <a:lnTo>
                        <a:pt x="148" y="274"/>
                      </a:lnTo>
                      <a:lnTo>
                        <a:pt x="107" y="263"/>
                      </a:lnTo>
                      <a:lnTo>
                        <a:pt x="80" y="244"/>
                      </a:lnTo>
                      <a:lnTo>
                        <a:pt x="0" y="233"/>
                      </a:lnTo>
                      <a:lnTo>
                        <a:pt x="6" y="244"/>
                      </a:lnTo>
                      <a:lnTo>
                        <a:pt x="43" y="268"/>
                      </a:lnTo>
                      <a:lnTo>
                        <a:pt x="82" y="288"/>
                      </a:lnTo>
                      <a:lnTo>
                        <a:pt x="125" y="298"/>
                      </a:lnTo>
                      <a:lnTo>
                        <a:pt x="176" y="306"/>
                      </a:lnTo>
                      <a:lnTo>
                        <a:pt x="235" y="310"/>
                      </a:lnTo>
                      <a:lnTo>
                        <a:pt x="303" y="311"/>
                      </a:lnTo>
                      <a:lnTo>
                        <a:pt x="348" y="310"/>
                      </a:lnTo>
                      <a:lnTo>
                        <a:pt x="417" y="304"/>
                      </a:lnTo>
                      <a:lnTo>
                        <a:pt x="475" y="293"/>
                      </a:lnTo>
                      <a:lnTo>
                        <a:pt x="535" y="266"/>
                      </a:lnTo>
                      <a:lnTo>
                        <a:pt x="579" y="238"/>
                      </a:lnTo>
                      <a:lnTo>
                        <a:pt x="643" y="207"/>
                      </a:lnTo>
                      <a:lnTo>
                        <a:pt x="714" y="173"/>
                      </a:lnTo>
                      <a:lnTo>
                        <a:pt x="775" y="151"/>
                      </a:lnTo>
                      <a:lnTo>
                        <a:pt x="839" y="133"/>
                      </a:lnTo>
                      <a:lnTo>
                        <a:pt x="914" y="107"/>
                      </a:lnTo>
                      <a:lnTo>
                        <a:pt x="998" y="80"/>
                      </a:lnTo>
                      <a:lnTo>
                        <a:pt x="1074" y="60"/>
                      </a:lnTo>
                      <a:lnTo>
                        <a:pt x="1139" y="45"/>
                      </a:lnTo>
                      <a:lnTo>
                        <a:pt x="1190" y="37"/>
                      </a:lnTo>
                      <a:lnTo>
                        <a:pt x="1246" y="30"/>
                      </a:lnTo>
                      <a:lnTo>
                        <a:pt x="1315" y="27"/>
                      </a:lnTo>
                      <a:lnTo>
                        <a:pt x="1415" y="30"/>
                      </a:lnTo>
                      <a:lnTo>
                        <a:pt x="1506" y="37"/>
                      </a:lnTo>
                      <a:lnTo>
                        <a:pt x="1597" y="45"/>
                      </a:lnTo>
                      <a:lnTo>
                        <a:pt x="1673" y="60"/>
                      </a:lnTo>
                      <a:lnTo>
                        <a:pt x="1738" y="77"/>
                      </a:lnTo>
                      <a:lnTo>
                        <a:pt x="1799" y="98"/>
                      </a:lnTo>
                      <a:lnTo>
                        <a:pt x="1856" y="120"/>
                      </a:lnTo>
                      <a:lnTo>
                        <a:pt x="1912" y="137"/>
                      </a:lnTo>
                      <a:lnTo>
                        <a:pt x="1973" y="144"/>
                      </a:lnTo>
                      <a:lnTo>
                        <a:pt x="2040" y="154"/>
                      </a:lnTo>
                      <a:lnTo>
                        <a:pt x="2099" y="158"/>
                      </a:lnTo>
                      <a:lnTo>
                        <a:pt x="2163" y="158"/>
                      </a:lnTo>
                      <a:lnTo>
                        <a:pt x="2239" y="154"/>
                      </a:lnTo>
                      <a:lnTo>
                        <a:pt x="2304" y="150"/>
                      </a:lnTo>
                      <a:lnTo>
                        <a:pt x="2372" y="143"/>
                      </a:lnTo>
                      <a:lnTo>
                        <a:pt x="2432" y="128"/>
                      </a:lnTo>
                      <a:lnTo>
                        <a:pt x="2490" y="108"/>
                      </a:lnTo>
                      <a:lnTo>
                        <a:pt x="2530" y="93"/>
                      </a:lnTo>
                      <a:lnTo>
                        <a:pt x="2596" y="71"/>
                      </a:lnTo>
                      <a:lnTo>
                        <a:pt x="2660" y="55"/>
                      </a:lnTo>
                      <a:lnTo>
                        <a:pt x="2719" y="38"/>
                      </a:lnTo>
                      <a:lnTo>
                        <a:pt x="2768" y="30"/>
                      </a:lnTo>
                      <a:lnTo>
                        <a:pt x="2805" y="27"/>
                      </a:lnTo>
                      <a:lnTo>
                        <a:pt x="2847" y="28"/>
                      </a:lnTo>
                      <a:lnTo>
                        <a:pt x="2900" y="33"/>
                      </a:lnTo>
                      <a:lnTo>
                        <a:pt x="2945" y="38"/>
                      </a:lnTo>
                      <a:lnTo>
                        <a:pt x="2984" y="40"/>
                      </a:lnTo>
                      <a:lnTo>
                        <a:pt x="3005" y="31"/>
                      </a:lnTo>
                      <a:lnTo>
                        <a:pt x="3024" y="23"/>
                      </a:lnTo>
                      <a:lnTo>
                        <a:pt x="3026" y="13"/>
                      </a:lnTo>
                      <a:lnTo>
                        <a:pt x="3014" y="10"/>
                      </a:lnTo>
                      <a:lnTo>
                        <a:pt x="2982" y="1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7729560" y="800280"/>
                <a:ext cx="622440" cy="1066680"/>
                <a:chOff x="7729560" y="800280"/>
                <a:chExt cx="622440" cy="10666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988400" y="903240"/>
                  <a:ext cx="150840" cy="185760"/>
                </a:xfrm>
                <a:custGeom>
                  <a:avLst/>
                  <a:gdLst/>
                  <a:ahLst/>
                  <a:rect l="l" t="t" r="r" b="b"/>
                  <a:pathLst>
                    <a:path w="380" h="350">
                      <a:moveTo>
                        <a:pt x="295" y="183"/>
                      </a:moveTo>
                      <a:lnTo>
                        <a:pt x="276" y="122"/>
                      </a:lnTo>
                      <a:lnTo>
                        <a:pt x="258" y="90"/>
                      </a:lnTo>
                      <a:lnTo>
                        <a:pt x="239" y="64"/>
                      </a:lnTo>
                      <a:lnTo>
                        <a:pt x="216" y="37"/>
                      </a:lnTo>
                      <a:lnTo>
                        <a:pt x="191" y="19"/>
                      </a:lnTo>
                      <a:lnTo>
                        <a:pt x="167" y="6"/>
                      </a:lnTo>
                      <a:lnTo>
                        <a:pt x="140" y="0"/>
                      </a:lnTo>
                      <a:lnTo>
                        <a:pt x="108" y="0"/>
                      </a:lnTo>
                      <a:lnTo>
                        <a:pt x="74" y="9"/>
                      </a:lnTo>
                      <a:lnTo>
                        <a:pt x="49" y="24"/>
                      </a:lnTo>
                      <a:lnTo>
                        <a:pt x="27" y="49"/>
                      </a:lnTo>
                      <a:lnTo>
                        <a:pt x="10" y="79"/>
                      </a:lnTo>
                      <a:lnTo>
                        <a:pt x="0" y="114"/>
                      </a:lnTo>
                      <a:lnTo>
                        <a:pt x="0" y="149"/>
                      </a:lnTo>
                      <a:lnTo>
                        <a:pt x="7" y="183"/>
                      </a:lnTo>
                      <a:lnTo>
                        <a:pt x="24" y="230"/>
                      </a:lnTo>
                      <a:lnTo>
                        <a:pt x="49" y="267"/>
                      </a:lnTo>
                      <a:lnTo>
                        <a:pt x="76" y="296"/>
                      </a:lnTo>
                      <a:lnTo>
                        <a:pt x="113" y="322"/>
                      </a:lnTo>
                      <a:lnTo>
                        <a:pt x="144" y="339"/>
                      </a:lnTo>
                      <a:lnTo>
                        <a:pt x="177" y="347"/>
                      </a:lnTo>
                      <a:lnTo>
                        <a:pt x="208" y="350"/>
                      </a:lnTo>
                      <a:lnTo>
                        <a:pt x="231" y="345"/>
                      </a:lnTo>
                      <a:lnTo>
                        <a:pt x="253" y="332"/>
                      </a:lnTo>
                      <a:lnTo>
                        <a:pt x="270" y="317"/>
                      </a:lnTo>
                      <a:lnTo>
                        <a:pt x="279" y="297"/>
                      </a:lnTo>
                      <a:lnTo>
                        <a:pt x="282" y="272"/>
                      </a:lnTo>
                      <a:lnTo>
                        <a:pt x="285" y="239"/>
                      </a:lnTo>
                      <a:lnTo>
                        <a:pt x="326" y="259"/>
                      </a:lnTo>
                      <a:lnTo>
                        <a:pt x="363" y="266"/>
                      </a:lnTo>
                      <a:lnTo>
                        <a:pt x="380" y="257"/>
                      </a:lnTo>
                      <a:lnTo>
                        <a:pt x="378" y="239"/>
                      </a:lnTo>
                      <a:lnTo>
                        <a:pt x="370" y="220"/>
                      </a:lnTo>
                      <a:lnTo>
                        <a:pt x="348" y="207"/>
                      </a:lnTo>
                      <a:lnTo>
                        <a:pt x="319" y="200"/>
                      </a:lnTo>
                      <a:lnTo>
                        <a:pt x="297" y="190"/>
                      </a:lnTo>
                      <a:lnTo>
                        <a:pt x="295" y="1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047080" y="1141560"/>
                  <a:ext cx="164880" cy="403200"/>
                </a:xfrm>
                <a:custGeom>
                  <a:avLst/>
                  <a:gdLst/>
                  <a:ahLst/>
                  <a:rect l="l" t="t" r="r" b="b"/>
                  <a:pathLst>
                    <a:path w="415" h="760">
                      <a:moveTo>
                        <a:pt x="15" y="55"/>
                      </a:moveTo>
                      <a:lnTo>
                        <a:pt x="32" y="30"/>
                      </a:lnTo>
                      <a:lnTo>
                        <a:pt x="54" y="12"/>
                      </a:lnTo>
                      <a:lnTo>
                        <a:pt x="82" y="0"/>
                      </a:lnTo>
                      <a:lnTo>
                        <a:pt x="119" y="0"/>
                      </a:lnTo>
                      <a:lnTo>
                        <a:pt x="155" y="0"/>
                      </a:lnTo>
                      <a:lnTo>
                        <a:pt x="191" y="9"/>
                      </a:lnTo>
                      <a:lnTo>
                        <a:pt x="226" y="26"/>
                      </a:lnTo>
                      <a:lnTo>
                        <a:pt x="256" y="53"/>
                      </a:lnTo>
                      <a:lnTo>
                        <a:pt x="289" y="90"/>
                      </a:lnTo>
                      <a:lnTo>
                        <a:pt x="317" y="135"/>
                      </a:lnTo>
                      <a:lnTo>
                        <a:pt x="340" y="178"/>
                      </a:lnTo>
                      <a:lnTo>
                        <a:pt x="361" y="225"/>
                      </a:lnTo>
                      <a:lnTo>
                        <a:pt x="374" y="274"/>
                      </a:lnTo>
                      <a:lnTo>
                        <a:pt x="384" y="318"/>
                      </a:lnTo>
                      <a:lnTo>
                        <a:pt x="398" y="368"/>
                      </a:lnTo>
                      <a:lnTo>
                        <a:pt x="408" y="417"/>
                      </a:lnTo>
                      <a:lnTo>
                        <a:pt x="413" y="467"/>
                      </a:lnTo>
                      <a:lnTo>
                        <a:pt x="415" y="515"/>
                      </a:lnTo>
                      <a:lnTo>
                        <a:pt x="415" y="560"/>
                      </a:lnTo>
                      <a:lnTo>
                        <a:pt x="408" y="604"/>
                      </a:lnTo>
                      <a:lnTo>
                        <a:pt x="400" y="644"/>
                      </a:lnTo>
                      <a:lnTo>
                        <a:pt x="384" y="678"/>
                      </a:lnTo>
                      <a:lnTo>
                        <a:pt x="366" y="703"/>
                      </a:lnTo>
                      <a:lnTo>
                        <a:pt x="344" y="723"/>
                      </a:lnTo>
                      <a:lnTo>
                        <a:pt x="319" y="740"/>
                      </a:lnTo>
                      <a:lnTo>
                        <a:pt x="287" y="751"/>
                      </a:lnTo>
                      <a:lnTo>
                        <a:pt x="253" y="760"/>
                      </a:lnTo>
                      <a:lnTo>
                        <a:pt x="219" y="760"/>
                      </a:lnTo>
                      <a:lnTo>
                        <a:pt x="187" y="756"/>
                      </a:lnTo>
                      <a:lnTo>
                        <a:pt x="158" y="748"/>
                      </a:lnTo>
                      <a:lnTo>
                        <a:pt x="138" y="738"/>
                      </a:lnTo>
                      <a:lnTo>
                        <a:pt x="121" y="721"/>
                      </a:lnTo>
                      <a:lnTo>
                        <a:pt x="112" y="700"/>
                      </a:lnTo>
                      <a:lnTo>
                        <a:pt x="102" y="670"/>
                      </a:lnTo>
                      <a:lnTo>
                        <a:pt x="99" y="644"/>
                      </a:lnTo>
                      <a:lnTo>
                        <a:pt x="101" y="603"/>
                      </a:lnTo>
                      <a:lnTo>
                        <a:pt x="106" y="571"/>
                      </a:lnTo>
                      <a:lnTo>
                        <a:pt x="118" y="541"/>
                      </a:lnTo>
                      <a:lnTo>
                        <a:pt x="129" y="511"/>
                      </a:lnTo>
                      <a:lnTo>
                        <a:pt x="133" y="478"/>
                      </a:lnTo>
                      <a:lnTo>
                        <a:pt x="135" y="440"/>
                      </a:lnTo>
                      <a:lnTo>
                        <a:pt x="126" y="397"/>
                      </a:lnTo>
                      <a:lnTo>
                        <a:pt x="105" y="355"/>
                      </a:lnTo>
                      <a:lnTo>
                        <a:pt x="78" y="315"/>
                      </a:lnTo>
                      <a:lnTo>
                        <a:pt x="44" y="280"/>
                      </a:lnTo>
                      <a:lnTo>
                        <a:pt x="25" y="250"/>
                      </a:lnTo>
                      <a:lnTo>
                        <a:pt x="10" y="212"/>
                      </a:lnTo>
                      <a:lnTo>
                        <a:pt x="1" y="169"/>
                      </a:lnTo>
                      <a:lnTo>
                        <a:pt x="0" y="128"/>
                      </a:lnTo>
                      <a:lnTo>
                        <a:pt x="1" y="89"/>
                      </a:lnTo>
                      <a:lnTo>
                        <a:pt x="15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093160" y="800280"/>
                  <a:ext cx="258840" cy="369720"/>
                </a:xfrm>
                <a:custGeom>
                  <a:avLst/>
                  <a:gdLst/>
                  <a:ahLst/>
                  <a:rect l="l" t="t" r="r" b="b"/>
                  <a:pathLst>
                    <a:path w="653" h="699">
                      <a:moveTo>
                        <a:pt x="3" y="666"/>
                      </a:moveTo>
                      <a:lnTo>
                        <a:pt x="40" y="631"/>
                      </a:lnTo>
                      <a:lnTo>
                        <a:pt x="77" y="602"/>
                      </a:lnTo>
                      <a:lnTo>
                        <a:pt x="134" y="569"/>
                      </a:lnTo>
                      <a:lnTo>
                        <a:pt x="192" y="548"/>
                      </a:lnTo>
                      <a:lnTo>
                        <a:pt x="241" y="531"/>
                      </a:lnTo>
                      <a:lnTo>
                        <a:pt x="300" y="516"/>
                      </a:lnTo>
                      <a:lnTo>
                        <a:pt x="333" y="508"/>
                      </a:lnTo>
                      <a:lnTo>
                        <a:pt x="352" y="502"/>
                      </a:lnTo>
                      <a:lnTo>
                        <a:pt x="360" y="489"/>
                      </a:lnTo>
                      <a:lnTo>
                        <a:pt x="364" y="469"/>
                      </a:lnTo>
                      <a:lnTo>
                        <a:pt x="367" y="422"/>
                      </a:lnTo>
                      <a:lnTo>
                        <a:pt x="373" y="378"/>
                      </a:lnTo>
                      <a:lnTo>
                        <a:pt x="384" y="333"/>
                      </a:lnTo>
                      <a:lnTo>
                        <a:pt x="394" y="296"/>
                      </a:lnTo>
                      <a:lnTo>
                        <a:pt x="418" y="253"/>
                      </a:lnTo>
                      <a:lnTo>
                        <a:pt x="438" y="223"/>
                      </a:lnTo>
                      <a:lnTo>
                        <a:pt x="467" y="185"/>
                      </a:lnTo>
                      <a:lnTo>
                        <a:pt x="484" y="155"/>
                      </a:lnTo>
                      <a:lnTo>
                        <a:pt x="485" y="132"/>
                      </a:lnTo>
                      <a:lnTo>
                        <a:pt x="484" y="110"/>
                      </a:lnTo>
                      <a:lnTo>
                        <a:pt x="485" y="105"/>
                      </a:lnTo>
                      <a:lnTo>
                        <a:pt x="485" y="100"/>
                      </a:lnTo>
                      <a:lnTo>
                        <a:pt x="484" y="95"/>
                      </a:lnTo>
                      <a:lnTo>
                        <a:pt x="482" y="90"/>
                      </a:lnTo>
                      <a:lnTo>
                        <a:pt x="478" y="85"/>
                      </a:lnTo>
                      <a:lnTo>
                        <a:pt x="478" y="80"/>
                      </a:lnTo>
                      <a:lnTo>
                        <a:pt x="474" y="77"/>
                      </a:lnTo>
                      <a:lnTo>
                        <a:pt x="468" y="73"/>
                      </a:lnTo>
                      <a:lnTo>
                        <a:pt x="465" y="69"/>
                      </a:lnTo>
                      <a:lnTo>
                        <a:pt x="460" y="67"/>
                      </a:lnTo>
                      <a:lnTo>
                        <a:pt x="455" y="65"/>
                      </a:lnTo>
                      <a:lnTo>
                        <a:pt x="450" y="62"/>
                      </a:lnTo>
                      <a:lnTo>
                        <a:pt x="444" y="60"/>
                      </a:lnTo>
                      <a:lnTo>
                        <a:pt x="440" y="57"/>
                      </a:lnTo>
                      <a:lnTo>
                        <a:pt x="437" y="52"/>
                      </a:lnTo>
                      <a:lnTo>
                        <a:pt x="431" y="49"/>
                      </a:lnTo>
                      <a:lnTo>
                        <a:pt x="424" y="43"/>
                      </a:lnTo>
                      <a:lnTo>
                        <a:pt x="424" y="39"/>
                      </a:lnTo>
                      <a:lnTo>
                        <a:pt x="424" y="33"/>
                      </a:lnTo>
                      <a:lnTo>
                        <a:pt x="424" y="29"/>
                      </a:lnTo>
                      <a:lnTo>
                        <a:pt x="424" y="23"/>
                      </a:lnTo>
                      <a:lnTo>
                        <a:pt x="424" y="19"/>
                      </a:lnTo>
                      <a:lnTo>
                        <a:pt x="428" y="13"/>
                      </a:lnTo>
                      <a:lnTo>
                        <a:pt x="431" y="9"/>
                      </a:lnTo>
                      <a:lnTo>
                        <a:pt x="438" y="6"/>
                      </a:lnTo>
                      <a:lnTo>
                        <a:pt x="443" y="2"/>
                      </a:lnTo>
                      <a:lnTo>
                        <a:pt x="448" y="0"/>
                      </a:lnTo>
                      <a:lnTo>
                        <a:pt x="453" y="0"/>
                      </a:lnTo>
                      <a:lnTo>
                        <a:pt x="458" y="0"/>
                      </a:lnTo>
                      <a:lnTo>
                        <a:pt x="464" y="2"/>
                      </a:lnTo>
                      <a:lnTo>
                        <a:pt x="468" y="3"/>
                      </a:lnTo>
                      <a:lnTo>
                        <a:pt x="474" y="7"/>
                      </a:lnTo>
                      <a:lnTo>
                        <a:pt x="478" y="10"/>
                      </a:lnTo>
                      <a:lnTo>
                        <a:pt x="482" y="16"/>
                      </a:lnTo>
                      <a:lnTo>
                        <a:pt x="487" y="19"/>
                      </a:lnTo>
                      <a:lnTo>
                        <a:pt x="488" y="23"/>
                      </a:lnTo>
                      <a:lnTo>
                        <a:pt x="492" y="29"/>
                      </a:lnTo>
                      <a:lnTo>
                        <a:pt x="494" y="33"/>
                      </a:lnTo>
                      <a:lnTo>
                        <a:pt x="495" y="39"/>
                      </a:lnTo>
                      <a:lnTo>
                        <a:pt x="498" y="43"/>
                      </a:lnTo>
                      <a:lnTo>
                        <a:pt x="501" y="49"/>
                      </a:lnTo>
                      <a:lnTo>
                        <a:pt x="502" y="53"/>
                      </a:lnTo>
                      <a:lnTo>
                        <a:pt x="502" y="59"/>
                      </a:lnTo>
                      <a:lnTo>
                        <a:pt x="504" y="63"/>
                      </a:lnTo>
                      <a:lnTo>
                        <a:pt x="508" y="67"/>
                      </a:lnTo>
                      <a:lnTo>
                        <a:pt x="514" y="70"/>
                      </a:lnTo>
                      <a:lnTo>
                        <a:pt x="519" y="73"/>
                      </a:lnTo>
                      <a:lnTo>
                        <a:pt x="524" y="75"/>
                      </a:lnTo>
                      <a:lnTo>
                        <a:pt x="529" y="72"/>
                      </a:lnTo>
                      <a:lnTo>
                        <a:pt x="534" y="70"/>
                      </a:lnTo>
                      <a:lnTo>
                        <a:pt x="538" y="63"/>
                      </a:lnTo>
                      <a:lnTo>
                        <a:pt x="541" y="59"/>
                      </a:lnTo>
                      <a:lnTo>
                        <a:pt x="542" y="53"/>
                      </a:lnTo>
                      <a:lnTo>
                        <a:pt x="542" y="49"/>
                      </a:lnTo>
                      <a:lnTo>
                        <a:pt x="544" y="43"/>
                      </a:lnTo>
                      <a:lnTo>
                        <a:pt x="546" y="39"/>
                      </a:lnTo>
                      <a:lnTo>
                        <a:pt x="548" y="33"/>
                      </a:lnTo>
                      <a:lnTo>
                        <a:pt x="551" y="29"/>
                      </a:lnTo>
                      <a:lnTo>
                        <a:pt x="556" y="23"/>
                      </a:lnTo>
                      <a:lnTo>
                        <a:pt x="561" y="19"/>
                      </a:lnTo>
                      <a:lnTo>
                        <a:pt x="566" y="17"/>
                      </a:lnTo>
                      <a:lnTo>
                        <a:pt x="571" y="16"/>
                      </a:lnTo>
                      <a:lnTo>
                        <a:pt x="578" y="16"/>
                      </a:lnTo>
                      <a:lnTo>
                        <a:pt x="583" y="16"/>
                      </a:lnTo>
                      <a:lnTo>
                        <a:pt x="588" y="16"/>
                      </a:lnTo>
                      <a:lnTo>
                        <a:pt x="593" y="17"/>
                      </a:lnTo>
                      <a:lnTo>
                        <a:pt x="598" y="19"/>
                      </a:lnTo>
                      <a:lnTo>
                        <a:pt x="603" y="23"/>
                      </a:lnTo>
                      <a:lnTo>
                        <a:pt x="605" y="29"/>
                      </a:lnTo>
                      <a:lnTo>
                        <a:pt x="605" y="33"/>
                      </a:lnTo>
                      <a:lnTo>
                        <a:pt x="606" y="39"/>
                      </a:lnTo>
                      <a:lnTo>
                        <a:pt x="606" y="43"/>
                      </a:lnTo>
                      <a:lnTo>
                        <a:pt x="605" y="49"/>
                      </a:lnTo>
                      <a:lnTo>
                        <a:pt x="602" y="53"/>
                      </a:lnTo>
                      <a:lnTo>
                        <a:pt x="596" y="57"/>
                      </a:lnTo>
                      <a:lnTo>
                        <a:pt x="592" y="62"/>
                      </a:lnTo>
                      <a:lnTo>
                        <a:pt x="586" y="65"/>
                      </a:lnTo>
                      <a:lnTo>
                        <a:pt x="583" y="70"/>
                      </a:lnTo>
                      <a:lnTo>
                        <a:pt x="578" y="75"/>
                      </a:lnTo>
                      <a:lnTo>
                        <a:pt x="573" y="80"/>
                      </a:lnTo>
                      <a:lnTo>
                        <a:pt x="568" y="83"/>
                      </a:lnTo>
                      <a:lnTo>
                        <a:pt x="566" y="89"/>
                      </a:lnTo>
                      <a:lnTo>
                        <a:pt x="562" y="93"/>
                      </a:lnTo>
                      <a:lnTo>
                        <a:pt x="559" y="99"/>
                      </a:lnTo>
                      <a:lnTo>
                        <a:pt x="559" y="103"/>
                      </a:lnTo>
                      <a:lnTo>
                        <a:pt x="559" y="109"/>
                      </a:lnTo>
                      <a:lnTo>
                        <a:pt x="565" y="110"/>
                      </a:lnTo>
                      <a:lnTo>
                        <a:pt x="569" y="112"/>
                      </a:lnTo>
                      <a:lnTo>
                        <a:pt x="576" y="110"/>
                      </a:lnTo>
                      <a:lnTo>
                        <a:pt x="582" y="110"/>
                      </a:lnTo>
                      <a:lnTo>
                        <a:pt x="586" y="109"/>
                      </a:lnTo>
                      <a:lnTo>
                        <a:pt x="593" y="107"/>
                      </a:lnTo>
                      <a:lnTo>
                        <a:pt x="599" y="105"/>
                      </a:lnTo>
                      <a:lnTo>
                        <a:pt x="605" y="103"/>
                      </a:lnTo>
                      <a:lnTo>
                        <a:pt x="610" y="102"/>
                      </a:lnTo>
                      <a:lnTo>
                        <a:pt x="616" y="102"/>
                      </a:lnTo>
                      <a:lnTo>
                        <a:pt x="622" y="102"/>
                      </a:lnTo>
                      <a:lnTo>
                        <a:pt x="626" y="102"/>
                      </a:lnTo>
                      <a:lnTo>
                        <a:pt x="633" y="103"/>
                      </a:lnTo>
                      <a:lnTo>
                        <a:pt x="642" y="105"/>
                      </a:lnTo>
                      <a:lnTo>
                        <a:pt x="646" y="110"/>
                      </a:lnTo>
                      <a:lnTo>
                        <a:pt x="650" y="113"/>
                      </a:lnTo>
                      <a:lnTo>
                        <a:pt x="652" y="119"/>
                      </a:lnTo>
                      <a:lnTo>
                        <a:pt x="653" y="125"/>
                      </a:lnTo>
                      <a:lnTo>
                        <a:pt x="652" y="130"/>
                      </a:lnTo>
                      <a:lnTo>
                        <a:pt x="650" y="135"/>
                      </a:lnTo>
                      <a:lnTo>
                        <a:pt x="646" y="140"/>
                      </a:lnTo>
                      <a:lnTo>
                        <a:pt x="642" y="145"/>
                      </a:lnTo>
                      <a:lnTo>
                        <a:pt x="637" y="145"/>
                      </a:lnTo>
                      <a:lnTo>
                        <a:pt x="630" y="150"/>
                      </a:lnTo>
                      <a:lnTo>
                        <a:pt x="625" y="152"/>
                      </a:lnTo>
                      <a:lnTo>
                        <a:pt x="620" y="153"/>
                      </a:lnTo>
                      <a:lnTo>
                        <a:pt x="615" y="155"/>
                      </a:lnTo>
                      <a:lnTo>
                        <a:pt x="610" y="155"/>
                      </a:lnTo>
                      <a:lnTo>
                        <a:pt x="603" y="155"/>
                      </a:lnTo>
                      <a:lnTo>
                        <a:pt x="596" y="156"/>
                      </a:lnTo>
                      <a:lnTo>
                        <a:pt x="589" y="156"/>
                      </a:lnTo>
                      <a:lnTo>
                        <a:pt x="585" y="156"/>
                      </a:lnTo>
                      <a:lnTo>
                        <a:pt x="579" y="156"/>
                      </a:lnTo>
                      <a:lnTo>
                        <a:pt x="575" y="155"/>
                      </a:lnTo>
                      <a:lnTo>
                        <a:pt x="569" y="155"/>
                      </a:lnTo>
                      <a:lnTo>
                        <a:pt x="565" y="155"/>
                      </a:lnTo>
                      <a:lnTo>
                        <a:pt x="559" y="153"/>
                      </a:lnTo>
                      <a:lnTo>
                        <a:pt x="555" y="156"/>
                      </a:lnTo>
                      <a:lnTo>
                        <a:pt x="549" y="159"/>
                      </a:lnTo>
                      <a:lnTo>
                        <a:pt x="544" y="162"/>
                      </a:lnTo>
                      <a:lnTo>
                        <a:pt x="539" y="165"/>
                      </a:lnTo>
                      <a:lnTo>
                        <a:pt x="535" y="170"/>
                      </a:lnTo>
                      <a:lnTo>
                        <a:pt x="508" y="183"/>
                      </a:lnTo>
                      <a:lnTo>
                        <a:pt x="482" y="220"/>
                      </a:lnTo>
                      <a:lnTo>
                        <a:pt x="460" y="259"/>
                      </a:lnTo>
                      <a:lnTo>
                        <a:pt x="440" y="318"/>
                      </a:lnTo>
                      <a:lnTo>
                        <a:pt x="433" y="373"/>
                      </a:lnTo>
                      <a:lnTo>
                        <a:pt x="430" y="448"/>
                      </a:lnTo>
                      <a:lnTo>
                        <a:pt x="428" y="493"/>
                      </a:lnTo>
                      <a:lnTo>
                        <a:pt x="424" y="516"/>
                      </a:lnTo>
                      <a:lnTo>
                        <a:pt x="414" y="536"/>
                      </a:lnTo>
                      <a:lnTo>
                        <a:pt x="403" y="549"/>
                      </a:lnTo>
                      <a:lnTo>
                        <a:pt x="380" y="565"/>
                      </a:lnTo>
                      <a:lnTo>
                        <a:pt x="339" y="585"/>
                      </a:lnTo>
                      <a:lnTo>
                        <a:pt x="293" y="601"/>
                      </a:lnTo>
                      <a:lnTo>
                        <a:pt x="252" y="618"/>
                      </a:lnTo>
                      <a:lnTo>
                        <a:pt x="218" y="631"/>
                      </a:lnTo>
                      <a:lnTo>
                        <a:pt x="170" y="651"/>
                      </a:lnTo>
                      <a:lnTo>
                        <a:pt x="131" y="668"/>
                      </a:lnTo>
                      <a:lnTo>
                        <a:pt x="97" y="688"/>
                      </a:lnTo>
                      <a:lnTo>
                        <a:pt x="60" y="699"/>
                      </a:lnTo>
                      <a:lnTo>
                        <a:pt x="31" y="698"/>
                      </a:lnTo>
                      <a:lnTo>
                        <a:pt x="11" y="691"/>
                      </a:lnTo>
                      <a:lnTo>
                        <a:pt x="0" y="682"/>
                      </a:lnTo>
                      <a:lnTo>
                        <a:pt x="3" y="6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729560" y="1015920"/>
                  <a:ext cx="352440" cy="204840"/>
                </a:xfrm>
                <a:custGeom>
                  <a:avLst/>
                  <a:gdLst/>
                  <a:ahLst/>
                  <a:rect l="l" t="t" r="r" b="b"/>
                  <a:pathLst>
                    <a:path w="891" h="387">
                      <a:moveTo>
                        <a:pt x="719" y="292"/>
                      </a:moveTo>
                      <a:lnTo>
                        <a:pt x="775" y="270"/>
                      </a:lnTo>
                      <a:lnTo>
                        <a:pt x="829" y="259"/>
                      </a:lnTo>
                      <a:lnTo>
                        <a:pt x="864" y="257"/>
                      </a:lnTo>
                      <a:lnTo>
                        <a:pt x="881" y="269"/>
                      </a:lnTo>
                      <a:lnTo>
                        <a:pt x="891" y="292"/>
                      </a:lnTo>
                      <a:lnTo>
                        <a:pt x="884" y="317"/>
                      </a:lnTo>
                      <a:lnTo>
                        <a:pt x="854" y="339"/>
                      </a:lnTo>
                      <a:lnTo>
                        <a:pt x="817" y="349"/>
                      </a:lnTo>
                      <a:lnTo>
                        <a:pt x="772" y="355"/>
                      </a:lnTo>
                      <a:lnTo>
                        <a:pt x="716" y="359"/>
                      </a:lnTo>
                      <a:lnTo>
                        <a:pt x="650" y="367"/>
                      </a:lnTo>
                      <a:lnTo>
                        <a:pt x="594" y="373"/>
                      </a:lnTo>
                      <a:lnTo>
                        <a:pt x="544" y="383"/>
                      </a:lnTo>
                      <a:lnTo>
                        <a:pt x="510" y="385"/>
                      </a:lnTo>
                      <a:lnTo>
                        <a:pt x="506" y="387"/>
                      </a:lnTo>
                      <a:lnTo>
                        <a:pt x="483" y="377"/>
                      </a:lnTo>
                      <a:lnTo>
                        <a:pt x="470" y="357"/>
                      </a:lnTo>
                      <a:lnTo>
                        <a:pt x="453" y="330"/>
                      </a:lnTo>
                      <a:lnTo>
                        <a:pt x="426" y="289"/>
                      </a:lnTo>
                      <a:lnTo>
                        <a:pt x="396" y="262"/>
                      </a:lnTo>
                      <a:lnTo>
                        <a:pt x="364" y="236"/>
                      </a:lnTo>
                      <a:lnTo>
                        <a:pt x="321" y="216"/>
                      </a:lnTo>
                      <a:lnTo>
                        <a:pt x="288" y="202"/>
                      </a:lnTo>
                      <a:lnTo>
                        <a:pt x="283" y="202"/>
                      </a:lnTo>
                      <a:lnTo>
                        <a:pt x="230" y="187"/>
                      </a:lnTo>
                      <a:lnTo>
                        <a:pt x="197" y="183"/>
                      </a:lnTo>
                      <a:lnTo>
                        <a:pt x="192" y="187"/>
                      </a:lnTo>
                      <a:lnTo>
                        <a:pt x="187" y="187"/>
                      </a:lnTo>
                      <a:lnTo>
                        <a:pt x="180" y="187"/>
                      </a:lnTo>
                      <a:lnTo>
                        <a:pt x="173" y="189"/>
                      </a:lnTo>
                      <a:lnTo>
                        <a:pt x="169" y="193"/>
                      </a:lnTo>
                      <a:lnTo>
                        <a:pt x="163" y="197"/>
                      </a:lnTo>
                      <a:lnTo>
                        <a:pt x="159" y="202"/>
                      </a:lnTo>
                      <a:lnTo>
                        <a:pt x="152" y="209"/>
                      </a:lnTo>
                      <a:lnTo>
                        <a:pt x="146" y="210"/>
                      </a:lnTo>
                      <a:lnTo>
                        <a:pt x="143" y="216"/>
                      </a:lnTo>
                      <a:lnTo>
                        <a:pt x="139" y="220"/>
                      </a:lnTo>
                      <a:lnTo>
                        <a:pt x="133" y="223"/>
                      </a:lnTo>
                      <a:lnTo>
                        <a:pt x="128" y="230"/>
                      </a:lnTo>
                      <a:lnTo>
                        <a:pt x="123" y="236"/>
                      </a:lnTo>
                      <a:lnTo>
                        <a:pt x="118" y="240"/>
                      </a:lnTo>
                      <a:lnTo>
                        <a:pt x="115" y="246"/>
                      </a:lnTo>
                      <a:lnTo>
                        <a:pt x="108" y="249"/>
                      </a:lnTo>
                      <a:lnTo>
                        <a:pt x="101" y="252"/>
                      </a:lnTo>
                      <a:lnTo>
                        <a:pt x="96" y="253"/>
                      </a:lnTo>
                      <a:lnTo>
                        <a:pt x="89" y="253"/>
                      </a:lnTo>
                      <a:lnTo>
                        <a:pt x="82" y="256"/>
                      </a:lnTo>
                      <a:lnTo>
                        <a:pt x="78" y="256"/>
                      </a:lnTo>
                      <a:lnTo>
                        <a:pt x="71" y="253"/>
                      </a:lnTo>
                      <a:lnTo>
                        <a:pt x="62" y="252"/>
                      </a:lnTo>
                      <a:lnTo>
                        <a:pt x="59" y="247"/>
                      </a:lnTo>
                      <a:lnTo>
                        <a:pt x="52" y="242"/>
                      </a:lnTo>
                      <a:lnTo>
                        <a:pt x="48" y="237"/>
                      </a:lnTo>
                      <a:lnTo>
                        <a:pt x="47" y="232"/>
                      </a:lnTo>
                      <a:lnTo>
                        <a:pt x="47" y="227"/>
                      </a:lnTo>
                      <a:lnTo>
                        <a:pt x="48" y="222"/>
                      </a:lnTo>
                      <a:lnTo>
                        <a:pt x="52" y="217"/>
                      </a:lnTo>
                      <a:lnTo>
                        <a:pt x="57" y="216"/>
                      </a:lnTo>
                      <a:lnTo>
                        <a:pt x="62" y="209"/>
                      </a:lnTo>
                      <a:lnTo>
                        <a:pt x="71" y="203"/>
                      </a:lnTo>
                      <a:lnTo>
                        <a:pt x="75" y="203"/>
                      </a:lnTo>
                      <a:lnTo>
                        <a:pt x="81" y="202"/>
                      </a:lnTo>
                      <a:lnTo>
                        <a:pt x="88" y="199"/>
                      </a:lnTo>
                      <a:lnTo>
                        <a:pt x="92" y="196"/>
                      </a:lnTo>
                      <a:lnTo>
                        <a:pt x="98" y="193"/>
                      </a:lnTo>
                      <a:lnTo>
                        <a:pt x="102" y="190"/>
                      </a:lnTo>
                      <a:lnTo>
                        <a:pt x="109" y="187"/>
                      </a:lnTo>
                      <a:lnTo>
                        <a:pt x="115" y="186"/>
                      </a:lnTo>
                      <a:lnTo>
                        <a:pt x="119" y="182"/>
                      </a:lnTo>
                      <a:lnTo>
                        <a:pt x="125" y="179"/>
                      </a:lnTo>
                      <a:lnTo>
                        <a:pt x="129" y="177"/>
                      </a:lnTo>
                      <a:lnTo>
                        <a:pt x="133" y="172"/>
                      </a:lnTo>
                      <a:lnTo>
                        <a:pt x="133" y="167"/>
                      </a:lnTo>
                      <a:lnTo>
                        <a:pt x="129" y="162"/>
                      </a:lnTo>
                      <a:lnTo>
                        <a:pt x="125" y="159"/>
                      </a:lnTo>
                      <a:lnTo>
                        <a:pt x="119" y="157"/>
                      </a:lnTo>
                      <a:lnTo>
                        <a:pt x="115" y="156"/>
                      </a:lnTo>
                      <a:lnTo>
                        <a:pt x="109" y="156"/>
                      </a:lnTo>
                      <a:lnTo>
                        <a:pt x="105" y="156"/>
                      </a:lnTo>
                      <a:lnTo>
                        <a:pt x="99" y="156"/>
                      </a:lnTo>
                      <a:lnTo>
                        <a:pt x="94" y="156"/>
                      </a:lnTo>
                      <a:lnTo>
                        <a:pt x="89" y="156"/>
                      </a:lnTo>
                      <a:lnTo>
                        <a:pt x="82" y="156"/>
                      </a:lnTo>
                      <a:lnTo>
                        <a:pt x="78" y="156"/>
                      </a:lnTo>
                      <a:lnTo>
                        <a:pt x="72" y="156"/>
                      </a:lnTo>
                      <a:lnTo>
                        <a:pt x="68" y="156"/>
                      </a:lnTo>
                      <a:lnTo>
                        <a:pt x="62" y="156"/>
                      </a:lnTo>
                      <a:lnTo>
                        <a:pt x="55" y="156"/>
                      </a:lnTo>
                      <a:lnTo>
                        <a:pt x="48" y="156"/>
                      </a:lnTo>
                      <a:lnTo>
                        <a:pt x="42" y="156"/>
                      </a:lnTo>
                      <a:lnTo>
                        <a:pt x="37" y="156"/>
                      </a:lnTo>
                      <a:lnTo>
                        <a:pt x="32" y="156"/>
                      </a:lnTo>
                      <a:lnTo>
                        <a:pt x="27" y="156"/>
                      </a:lnTo>
                      <a:lnTo>
                        <a:pt x="18" y="152"/>
                      </a:lnTo>
                      <a:lnTo>
                        <a:pt x="14" y="150"/>
                      </a:lnTo>
                      <a:lnTo>
                        <a:pt x="8" y="149"/>
                      </a:lnTo>
                      <a:lnTo>
                        <a:pt x="7" y="144"/>
                      </a:lnTo>
                      <a:lnTo>
                        <a:pt x="1" y="137"/>
                      </a:lnTo>
                      <a:lnTo>
                        <a:pt x="0" y="132"/>
                      </a:lnTo>
                      <a:lnTo>
                        <a:pt x="0" y="127"/>
                      </a:lnTo>
                      <a:lnTo>
                        <a:pt x="1" y="120"/>
                      </a:lnTo>
                      <a:lnTo>
                        <a:pt x="4" y="116"/>
                      </a:lnTo>
                      <a:lnTo>
                        <a:pt x="5" y="110"/>
                      </a:lnTo>
                      <a:lnTo>
                        <a:pt x="10" y="107"/>
                      </a:lnTo>
                      <a:lnTo>
                        <a:pt x="15" y="104"/>
                      </a:lnTo>
                      <a:lnTo>
                        <a:pt x="21" y="102"/>
                      </a:lnTo>
                      <a:lnTo>
                        <a:pt x="32" y="99"/>
                      </a:lnTo>
                      <a:lnTo>
                        <a:pt x="38" y="99"/>
                      </a:lnTo>
                      <a:lnTo>
                        <a:pt x="44" y="97"/>
                      </a:lnTo>
                      <a:lnTo>
                        <a:pt x="48" y="96"/>
                      </a:lnTo>
                      <a:lnTo>
                        <a:pt x="55" y="96"/>
                      </a:lnTo>
                      <a:lnTo>
                        <a:pt x="62" y="96"/>
                      </a:lnTo>
                      <a:lnTo>
                        <a:pt x="69" y="96"/>
                      </a:lnTo>
                      <a:lnTo>
                        <a:pt x="75" y="96"/>
                      </a:lnTo>
                      <a:lnTo>
                        <a:pt x="81" y="96"/>
                      </a:lnTo>
                      <a:lnTo>
                        <a:pt x="85" y="96"/>
                      </a:lnTo>
                      <a:lnTo>
                        <a:pt x="92" y="99"/>
                      </a:lnTo>
                      <a:lnTo>
                        <a:pt x="98" y="100"/>
                      </a:lnTo>
                      <a:lnTo>
                        <a:pt x="102" y="102"/>
                      </a:lnTo>
                      <a:lnTo>
                        <a:pt x="109" y="106"/>
                      </a:lnTo>
                      <a:lnTo>
                        <a:pt x="115" y="107"/>
                      </a:lnTo>
                      <a:lnTo>
                        <a:pt x="119" y="110"/>
                      </a:lnTo>
                      <a:lnTo>
                        <a:pt x="125" y="114"/>
                      </a:lnTo>
                      <a:lnTo>
                        <a:pt x="129" y="116"/>
                      </a:lnTo>
                      <a:lnTo>
                        <a:pt x="135" y="119"/>
                      </a:lnTo>
                      <a:lnTo>
                        <a:pt x="139" y="120"/>
                      </a:lnTo>
                      <a:lnTo>
                        <a:pt x="146" y="122"/>
                      </a:lnTo>
                      <a:lnTo>
                        <a:pt x="152" y="126"/>
                      </a:lnTo>
                      <a:lnTo>
                        <a:pt x="156" y="126"/>
                      </a:lnTo>
                      <a:lnTo>
                        <a:pt x="162" y="126"/>
                      </a:lnTo>
                      <a:lnTo>
                        <a:pt x="166" y="122"/>
                      </a:lnTo>
                      <a:lnTo>
                        <a:pt x="172" y="119"/>
                      </a:lnTo>
                      <a:lnTo>
                        <a:pt x="175" y="114"/>
                      </a:lnTo>
                      <a:lnTo>
                        <a:pt x="176" y="109"/>
                      </a:lnTo>
                      <a:lnTo>
                        <a:pt x="176" y="104"/>
                      </a:lnTo>
                      <a:lnTo>
                        <a:pt x="176" y="99"/>
                      </a:lnTo>
                      <a:lnTo>
                        <a:pt x="176" y="93"/>
                      </a:lnTo>
                      <a:lnTo>
                        <a:pt x="176" y="87"/>
                      </a:lnTo>
                      <a:lnTo>
                        <a:pt x="173" y="83"/>
                      </a:lnTo>
                      <a:lnTo>
                        <a:pt x="170" y="76"/>
                      </a:lnTo>
                      <a:lnTo>
                        <a:pt x="170" y="70"/>
                      </a:lnTo>
                      <a:lnTo>
                        <a:pt x="169" y="66"/>
                      </a:lnTo>
                      <a:lnTo>
                        <a:pt x="166" y="60"/>
                      </a:lnTo>
                      <a:lnTo>
                        <a:pt x="165" y="56"/>
                      </a:lnTo>
                      <a:lnTo>
                        <a:pt x="165" y="49"/>
                      </a:lnTo>
                      <a:lnTo>
                        <a:pt x="165" y="44"/>
                      </a:lnTo>
                      <a:lnTo>
                        <a:pt x="165" y="39"/>
                      </a:lnTo>
                      <a:lnTo>
                        <a:pt x="166" y="34"/>
                      </a:lnTo>
                      <a:lnTo>
                        <a:pt x="169" y="27"/>
                      </a:lnTo>
                      <a:lnTo>
                        <a:pt x="170" y="20"/>
                      </a:lnTo>
                      <a:lnTo>
                        <a:pt x="175" y="16"/>
                      </a:lnTo>
                      <a:lnTo>
                        <a:pt x="180" y="14"/>
                      </a:lnTo>
                      <a:lnTo>
                        <a:pt x="183" y="9"/>
                      </a:lnTo>
                      <a:lnTo>
                        <a:pt x="189" y="6"/>
                      </a:lnTo>
                      <a:lnTo>
                        <a:pt x="193" y="3"/>
                      </a:lnTo>
                      <a:lnTo>
                        <a:pt x="199" y="0"/>
                      </a:lnTo>
                      <a:lnTo>
                        <a:pt x="203" y="0"/>
                      </a:lnTo>
                      <a:lnTo>
                        <a:pt x="209" y="0"/>
                      </a:lnTo>
                      <a:lnTo>
                        <a:pt x="214" y="0"/>
                      </a:lnTo>
                      <a:lnTo>
                        <a:pt x="219" y="4"/>
                      </a:lnTo>
                      <a:lnTo>
                        <a:pt x="224" y="6"/>
                      </a:lnTo>
                      <a:lnTo>
                        <a:pt x="229" y="9"/>
                      </a:lnTo>
                      <a:lnTo>
                        <a:pt x="234" y="10"/>
                      </a:lnTo>
                      <a:lnTo>
                        <a:pt x="234" y="16"/>
                      </a:lnTo>
                      <a:lnTo>
                        <a:pt x="237" y="20"/>
                      </a:lnTo>
                      <a:lnTo>
                        <a:pt x="239" y="27"/>
                      </a:lnTo>
                      <a:lnTo>
                        <a:pt x="241" y="33"/>
                      </a:lnTo>
                      <a:lnTo>
                        <a:pt x="241" y="39"/>
                      </a:lnTo>
                      <a:lnTo>
                        <a:pt x="241" y="44"/>
                      </a:lnTo>
                      <a:lnTo>
                        <a:pt x="241" y="49"/>
                      </a:lnTo>
                      <a:lnTo>
                        <a:pt x="241" y="54"/>
                      </a:lnTo>
                      <a:lnTo>
                        <a:pt x="241" y="59"/>
                      </a:lnTo>
                      <a:lnTo>
                        <a:pt x="241" y="64"/>
                      </a:lnTo>
                      <a:lnTo>
                        <a:pt x="239" y="70"/>
                      </a:lnTo>
                      <a:lnTo>
                        <a:pt x="237" y="76"/>
                      </a:lnTo>
                      <a:lnTo>
                        <a:pt x="236" y="80"/>
                      </a:lnTo>
                      <a:lnTo>
                        <a:pt x="233" y="86"/>
                      </a:lnTo>
                      <a:lnTo>
                        <a:pt x="230" y="90"/>
                      </a:lnTo>
                      <a:lnTo>
                        <a:pt x="227" y="96"/>
                      </a:lnTo>
                      <a:lnTo>
                        <a:pt x="224" y="102"/>
                      </a:lnTo>
                      <a:lnTo>
                        <a:pt x="220" y="107"/>
                      </a:lnTo>
                      <a:lnTo>
                        <a:pt x="220" y="112"/>
                      </a:lnTo>
                      <a:lnTo>
                        <a:pt x="220" y="117"/>
                      </a:lnTo>
                      <a:lnTo>
                        <a:pt x="220" y="122"/>
                      </a:lnTo>
                      <a:lnTo>
                        <a:pt x="220" y="127"/>
                      </a:lnTo>
                      <a:lnTo>
                        <a:pt x="226" y="132"/>
                      </a:lnTo>
                      <a:lnTo>
                        <a:pt x="230" y="137"/>
                      </a:lnTo>
                      <a:lnTo>
                        <a:pt x="236" y="140"/>
                      </a:lnTo>
                      <a:lnTo>
                        <a:pt x="264" y="152"/>
                      </a:lnTo>
                      <a:lnTo>
                        <a:pt x="318" y="164"/>
                      </a:lnTo>
                      <a:lnTo>
                        <a:pt x="361" y="180"/>
                      </a:lnTo>
                      <a:lnTo>
                        <a:pt x="402" y="203"/>
                      </a:lnTo>
                      <a:lnTo>
                        <a:pt x="443" y="233"/>
                      </a:lnTo>
                      <a:lnTo>
                        <a:pt x="482" y="263"/>
                      </a:lnTo>
                      <a:lnTo>
                        <a:pt x="520" y="296"/>
                      </a:lnTo>
                      <a:lnTo>
                        <a:pt x="547" y="312"/>
                      </a:lnTo>
                      <a:lnTo>
                        <a:pt x="570" y="322"/>
                      </a:lnTo>
                      <a:lnTo>
                        <a:pt x="593" y="323"/>
                      </a:lnTo>
                      <a:lnTo>
                        <a:pt x="641" y="319"/>
                      </a:lnTo>
                      <a:lnTo>
                        <a:pt x="682" y="309"/>
                      </a:lnTo>
                      <a:lnTo>
                        <a:pt x="719" y="2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950240" y="1482840"/>
                  <a:ext cx="196920" cy="257040"/>
                </a:xfrm>
                <a:custGeom>
                  <a:avLst/>
                  <a:gdLst/>
                  <a:ahLst/>
                  <a:rect l="l" t="t" r="r" b="b"/>
                  <a:pathLst>
                    <a:path w="497" h="485">
                      <a:moveTo>
                        <a:pt x="381" y="186"/>
                      </a:moveTo>
                      <a:lnTo>
                        <a:pt x="374" y="74"/>
                      </a:lnTo>
                      <a:lnTo>
                        <a:pt x="377" y="39"/>
                      </a:lnTo>
                      <a:lnTo>
                        <a:pt x="388" y="16"/>
                      </a:lnTo>
                      <a:lnTo>
                        <a:pt x="411" y="3"/>
                      </a:lnTo>
                      <a:lnTo>
                        <a:pt x="444" y="0"/>
                      </a:lnTo>
                      <a:lnTo>
                        <a:pt x="470" y="6"/>
                      </a:lnTo>
                      <a:lnTo>
                        <a:pt x="484" y="19"/>
                      </a:lnTo>
                      <a:lnTo>
                        <a:pt x="497" y="50"/>
                      </a:lnTo>
                      <a:lnTo>
                        <a:pt x="497" y="96"/>
                      </a:lnTo>
                      <a:lnTo>
                        <a:pt x="491" y="153"/>
                      </a:lnTo>
                      <a:lnTo>
                        <a:pt x="484" y="219"/>
                      </a:lnTo>
                      <a:lnTo>
                        <a:pt x="473" y="277"/>
                      </a:lnTo>
                      <a:lnTo>
                        <a:pt x="464" y="335"/>
                      </a:lnTo>
                      <a:lnTo>
                        <a:pt x="454" y="380"/>
                      </a:lnTo>
                      <a:lnTo>
                        <a:pt x="439" y="419"/>
                      </a:lnTo>
                      <a:lnTo>
                        <a:pt x="418" y="446"/>
                      </a:lnTo>
                      <a:lnTo>
                        <a:pt x="393" y="472"/>
                      </a:lnTo>
                      <a:lnTo>
                        <a:pt x="371" y="480"/>
                      </a:lnTo>
                      <a:lnTo>
                        <a:pt x="344" y="485"/>
                      </a:lnTo>
                      <a:lnTo>
                        <a:pt x="314" y="482"/>
                      </a:lnTo>
                      <a:lnTo>
                        <a:pt x="283" y="466"/>
                      </a:lnTo>
                      <a:lnTo>
                        <a:pt x="256" y="439"/>
                      </a:lnTo>
                      <a:lnTo>
                        <a:pt x="232" y="403"/>
                      </a:lnTo>
                      <a:lnTo>
                        <a:pt x="209" y="370"/>
                      </a:lnTo>
                      <a:lnTo>
                        <a:pt x="189" y="329"/>
                      </a:lnTo>
                      <a:lnTo>
                        <a:pt x="169" y="277"/>
                      </a:lnTo>
                      <a:lnTo>
                        <a:pt x="149" y="243"/>
                      </a:lnTo>
                      <a:lnTo>
                        <a:pt x="131" y="213"/>
                      </a:lnTo>
                      <a:lnTo>
                        <a:pt x="101" y="186"/>
                      </a:lnTo>
                      <a:lnTo>
                        <a:pt x="81" y="173"/>
                      </a:lnTo>
                      <a:lnTo>
                        <a:pt x="73" y="179"/>
                      </a:lnTo>
                      <a:lnTo>
                        <a:pt x="78" y="233"/>
                      </a:lnTo>
                      <a:lnTo>
                        <a:pt x="90" y="276"/>
                      </a:lnTo>
                      <a:lnTo>
                        <a:pt x="107" y="296"/>
                      </a:lnTo>
                      <a:lnTo>
                        <a:pt x="110" y="310"/>
                      </a:lnTo>
                      <a:lnTo>
                        <a:pt x="104" y="327"/>
                      </a:lnTo>
                      <a:lnTo>
                        <a:pt x="68" y="343"/>
                      </a:lnTo>
                      <a:lnTo>
                        <a:pt x="40" y="345"/>
                      </a:lnTo>
                      <a:lnTo>
                        <a:pt x="10" y="339"/>
                      </a:lnTo>
                      <a:lnTo>
                        <a:pt x="0" y="315"/>
                      </a:lnTo>
                      <a:lnTo>
                        <a:pt x="2" y="270"/>
                      </a:lnTo>
                      <a:lnTo>
                        <a:pt x="14" y="212"/>
                      </a:lnTo>
                      <a:lnTo>
                        <a:pt x="17" y="167"/>
                      </a:lnTo>
                      <a:lnTo>
                        <a:pt x="16" y="122"/>
                      </a:lnTo>
                      <a:lnTo>
                        <a:pt x="14" y="77"/>
                      </a:lnTo>
                      <a:lnTo>
                        <a:pt x="29" y="54"/>
                      </a:lnTo>
                      <a:lnTo>
                        <a:pt x="56" y="47"/>
                      </a:lnTo>
                      <a:lnTo>
                        <a:pt x="78" y="54"/>
                      </a:lnTo>
                      <a:lnTo>
                        <a:pt x="90" y="70"/>
                      </a:lnTo>
                      <a:lnTo>
                        <a:pt x="107" y="104"/>
                      </a:lnTo>
                      <a:lnTo>
                        <a:pt x="122" y="126"/>
                      </a:lnTo>
                      <a:lnTo>
                        <a:pt x="147" y="157"/>
                      </a:lnTo>
                      <a:lnTo>
                        <a:pt x="175" y="183"/>
                      </a:lnTo>
                      <a:lnTo>
                        <a:pt x="199" y="213"/>
                      </a:lnTo>
                      <a:lnTo>
                        <a:pt x="223" y="247"/>
                      </a:lnTo>
                      <a:lnTo>
                        <a:pt x="252" y="289"/>
                      </a:lnTo>
                      <a:lnTo>
                        <a:pt x="279" y="322"/>
                      </a:lnTo>
                      <a:lnTo>
                        <a:pt x="304" y="355"/>
                      </a:lnTo>
                      <a:lnTo>
                        <a:pt x="326" y="377"/>
                      </a:lnTo>
                      <a:lnTo>
                        <a:pt x="346" y="386"/>
                      </a:lnTo>
                      <a:lnTo>
                        <a:pt x="357" y="386"/>
                      </a:lnTo>
                      <a:lnTo>
                        <a:pt x="373" y="375"/>
                      </a:lnTo>
                      <a:lnTo>
                        <a:pt x="381" y="345"/>
                      </a:lnTo>
                      <a:lnTo>
                        <a:pt x="383" y="297"/>
                      </a:lnTo>
                      <a:lnTo>
                        <a:pt x="381" y="253"/>
                      </a:lnTo>
                      <a:lnTo>
                        <a:pt x="381" y="212"/>
                      </a:lnTo>
                      <a:lnTo>
                        <a:pt x="381" y="1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8124840" y="1481040"/>
                  <a:ext cx="169920" cy="385920"/>
                </a:xfrm>
                <a:custGeom>
                  <a:avLst/>
                  <a:gdLst/>
                  <a:ahLst/>
                  <a:rect l="l" t="t" r="r" b="b"/>
                  <a:pathLst>
                    <a:path w="424" h="728">
                      <a:moveTo>
                        <a:pt x="95" y="6"/>
                      </a:moveTo>
                      <a:lnTo>
                        <a:pt x="148" y="13"/>
                      </a:lnTo>
                      <a:lnTo>
                        <a:pt x="233" y="29"/>
                      </a:lnTo>
                      <a:lnTo>
                        <a:pt x="301" y="47"/>
                      </a:lnTo>
                      <a:lnTo>
                        <a:pt x="355" y="67"/>
                      </a:lnTo>
                      <a:lnTo>
                        <a:pt x="399" y="93"/>
                      </a:lnTo>
                      <a:lnTo>
                        <a:pt x="414" y="110"/>
                      </a:lnTo>
                      <a:lnTo>
                        <a:pt x="422" y="129"/>
                      </a:lnTo>
                      <a:lnTo>
                        <a:pt x="424" y="152"/>
                      </a:lnTo>
                      <a:lnTo>
                        <a:pt x="418" y="179"/>
                      </a:lnTo>
                      <a:lnTo>
                        <a:pt x="402" y="206"/>
                      </a:lnTo>
                      <a:lnTo>
                        <a:pt x="377" y="239"/>
                      </a:lnTo>
                      <a:lnTo>
                        <a:pt x="344" y="285"/>
                      </a:lnTo>
                      <a:lnTo>
                        <a:pt x="311" y="326"/>
                      </a:lnTo>
                      <a:lnTo>
                        <a:pt x="294" y="365"/>
                      </a:lnTo>
                      <a:lnTo>
                        <a:pt x="274" y="412"/>
                      </a:lnTo>
                      <a:lnTo>
                        <a:pt x="259" y="459"/>
                      </a:lnTo>
                      <a:lnTo>
                        <a:pt x="254" y="503"/>
                      </a:lnTo>
                      <a:lnTo>
                        <a:pt x="253" y="538"/>
                      </a:lnTo>
                      <a:lnTo>
                        <a:pt x="259" y="556"/>
                      </a:lnTo>
                      <a:lnTo>
                        <a:pt x="284" y="575"/>
                      </a:lnTo>
                      <a:lnTo>
                        <a:pt x="324" y="591"/>
                      </a:lnTo>
                      <a:lnTo>
                        <a:pt x="360" y="613"/>
                      </a:lnTo>
                      <a:lnTo>
                        <a:pt x="387" y="645"/>
                      </a:lnTo>
                      <a:lnTo>
                        <a:pt x="395" y="671"/>
                      </a:lnTo>
                      <a:lnTo>
                        <a:pt x="392" y="688"/>
                      </a:lnTo>
                      <a:lnTo>
                        <a:pt x="377" y="702"/>
                      </a:lnTo>
                      <a:lnTo>
                        <a:pt x="338" y="728"/>
                      </a:lnTo>
                      <a:lnTo>
                        <a:pt x="318" y="725"/>
                      </a:lnTo>
                      <a:lnTo>
                        <a:pt x="308" y="705"/>
                      </a:lnTo>
                      <a:lnTo>
                        <a:pt x="304" y="678"/>
                      </a:lnTo>
                      <a:lnTo>
                        <a:pt x="283" y="645"/>
                      </a:lnTo>
                      <a:lnTo>
                        <a:pt x="250" y="619"/>
                      </a:lnTo>
                      <a:lnTo>
                        <a:pt x="222" y="606"/>
                      </a:lnTo>
                      <a:lnTo>
                        <a:pt x="186" y="601"/>
                      </a:lnTo>
                      <a:lnTo>
                        <a:pt x="166" y="585"/>
                      </a:lnTo>
                      <a:lnTo>
                        <a:pt x="159" y="565"/>
                      </a:lnTo>
                      <a:lnTo>
                        <a:pt x="162" y="539"/>
                      </a:lnTo>
                      <a:lnTo>
                        <a:pt x="180" y="515"/>
                      </a:lnTo>
                      <a:lnTo>
                        <a:pt x="196" y="489"/>
                      </a:lnTo>
                      <a:lnTo>
                        <a:pt x="210" y="452"/>
                      </a:lnTo>
                      <a:lnTo>
                        <a:pt x="220" y="402"/>
                      </a:lnTo>
                      <a:lnTo>
                        <a:pt x="227" y="348"/>
                      </a:lnTo>
                      <a:lnTo>
                        <a:pt x="237" y="302"/>
                      </a:lnTo>
                      <a:lnTo>
                        <a:pt x="250" y="259"/>
                      </a:lnTo>
                      <a:lnTo>
                        <a:pt x="267" y="223"/>
                      </a:lnTo>
                      <a:lnTo>
                        <a:pt x="291" y="185"/>
                      </a:lnTo>
                      <a:lnTo>
                        <a:pt x="308" y="160"/>
                      </a:lnTo>
                      <a:lnTo>
                        <a:pt x="308" y="147"/>
                      </a:lnTo>
                      <a:lnTo>
                        <a:pt x="291" y="133"/>
                      </a:lnTo>
                      <a:lnTo>
                        <a:pt x="220" y="132"/>
                      </a:lnTo>
                      <a:lnTo>
                        <a:pt x="153" y="120"/>
                      </a:lnTo>
                      <a:lnTo>
                        <a:pt x="101" y="110"/>
                      </a:lnTo>
                      <a:lnTo>
                        <a:pt x="55" y="100"/>
                      </a:lnTo>
                      <a:lnTo>
                        <a:pt x="21" y="85"/>
                      </a:lnTo>
                      <a:lnTo>
                        <a:pt x="1" y="60"/>
                      </a:lnTo>
                      <a:lnTo>
                        <a:pt x="0" y="29"/>
                      </a:lnTo>
                      <a:lnTo>
                        <a:pt x="14" y="3"/>
                      </a:lnTo>
                      <a:lnTo>
                        <a:pt x="45" y="0"/>
                      </a:lnTo>
                      <a:lnTo>
                        <a:pt x="9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7543800" y="1003320"/>
                <a:ext cx="981000" cy="385920"/>
                <a:chOff x="7543800" y="1003320"/>
                <a:chExt cx="981000" cy="3859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7543800" y="1141560"/>
                  <a:ext cx="130320" cy="31680"/>
                </a:xfrm>
                <a:custGeom>
                  <a:avLst/>
                  <a:gdLst/>
                  <a:ahLst/>
                  <a:rect l="l" t="t" r="r" b="b"/>
                  <a:pathLst>
                    <a:path w="328" h="62">
                      <a:moveTo>
                        <a:pt x="328" y="24"/>
                      </a:moveTo>
                      <a:lnTo>
                        <a:pt x="61" y="0"/>
                      </a:lnTo>
                      <a:lnTo>
                        <a:pt x="54" y="2"/>
                      </a:lnTo>
                      <a:lnTo>
                        <a:pt x="47" y="2"/>
                      </a:lnTo>
                      <a:lnTo>
                        <a:pt x="40" y="4"/>
                      </a:lnTo>
                      <a:lnTo>
                        <a:pt x="34" y="4"/>
                      </a:lnTo>
                      <a:lnTo>
                        <a:pt x="27" y="6"/>
                      </a:lnTo>
                      <a:lnTo>
                        <a:pt x="20" y="11"/>
                      </a:lnTo>
                      <a:lnTo>
                        <a:pt x="13" y="13"/>
                      </a:lnTo>
                      <a:lnTo>
                        <a:pt x="11" y="19"/>
                      </a:lnTo>
                      <a:lnTo>
                        <a:pt x="4" y="24"/>
                      </a:lnTo>
                      <a:lnTo>
                        <a:pt x="0" y="31"/>
                      </a:lnTo>
                      <a:lnTo>
                        <a:pt x="0" y="37"/>
                      </a:lnTo>
                      <a:lnTo>
                        <a:pt x="2" y="44"/>
                      </a:lnTo>
                      <a:lnTo>
                        <a:pt x="9" y="48"/>
                      </a:lnTo>
                      <a:lnTo>
                        <a:pt x="16" y="55"/>
                      </a:lnTo>
                      <a:lnTo>
                        <a:pt x="22" y="57"/>
                      </a:lnTo>
                      <a:lnTo>
                        <a:pt x="29" y="59"/>
                      </a:lnTo>
                      <a:lnTo>
                        <a:pt x="38" y="59"/>
                      </a:lnTo>
                      <a:lnTo>
                        <a:pt x="45" y="62"/>
                      </a:lnTo>
                      <a:lnTo>
                        <a:pt x="54" y="62"/>
                      </a:lnTo>
                      <a:lnTo>
                        <a:pt x="321" y="39"/>
                      </a:lnTo>
                      <a:lnTo>
                        <a:pt x="328" y="24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585200" y="1316160"/>
                  <a:ext cx="122040" cy="73080"/>
                </a:xfrm>
                <a:custGeom>
                  <a:avLst/>
                  <a:gdLst/>
                  <a:ahLst/>
                  <a:rect l="l" t="t" r="r" b="b"/>
                  <a:pathLst>
                    <a:path w="305" h="136">
                      <a:moveTo>
                        <a:pt x="305" y="0"/>
                      </a:moveTo>
                      <a:lnTo>
                        <a:pt x="46" y="68"/>
                      </a:lnTo>
                      <a:lnTo>
                        <a:pt x="40" y="72"/>
                      </a:lnTo>
                      <a:lnTo>
                        <a:pt x="33" y="75"/>
                      </a:lnTo>
                      <a:lnTo>
                        <a:pt x="28" y="79"/>
                      </a:lnTo>
                      <a:lnTo>
                        <a:pt x="22" y="81"/>
                      </a:lnTo>
                      <a:lnTo>
                        <a:pt x="16" y="86"/>
                      </a:lnTo>
                      <a:lnTo>
                        <a:pt x="12" y="92"/>
                      </a:lnTo>
                      <a:lnTo>
                        <a:pt x="6" y="97"/>
                      </a:lnTo>
                      <a:lnTo>
                        <a:pt x="6" y="104"/>
                      </a:lnTo>
                      <a:lnTo>
                        <a:pt x="2" y="110"/>
                      </a:lnTo>
                      <a:lnTo>
                        <a:pt x="0" y="118"/>
                      </a:lnTo>
                      <a:lnTo>
                        <a:pt x="2" y="125"/>
                      </a:lnTo>
                      <a:lnTo>
                        <a:pt x="6" y="130"/>
                      </a:lnTo>
                      <a:lnTo>
                        <a:pt x="14" y="131"/>
                      </a:lnTo>
                      <a:lnTo>
                        <a:pt x="22" y="136"/>
                      </a:lnTo>
                      <a:lnTo>
                        <a:pt x="30" y="136"/>
                      </a:lnTo>
                      <a:lnTo>
                        <a:pt x="37" y="135"/>
                      </a:lnTo>
                      <a:lnTo>
                        <a:pt x="46" y="132"/>
                      </a:lnTo>
                      <a:lnTo>
                        <a:pt x="52" y="132"/>
                      </a:lnTo>
                      <a:lnTo>
                        <a:pt x="60" y="129"/>
                      </a:lnTo>
                      <a:lnTo>
                        <a:pt x="304" y="18"/>
                      </a:lnTo>
                      <a:lnTo>
                        <a:pt x="305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394840" y="1003320"/>
                  <a:ext cx="125280" cy="65160"/>
                </a:xfrm>
                <a:custGeom>
                  <a:avLst/>
                  <a:gdLst/>
                  <a:ahLst/>
                  <a:rect l="l" t="t" r="r" b="b"/>
                  <a:pathLst>
                    <a:path w="317" h="122">
                      <a:moveTo>
                        <a:pt x="0" y="109"/>
                      </a:moveTo>
                      <a:lnTo>
                        <a:pt x="247" y="4"/>
                      </a:lnTo>
                      <a:lnTo>
                        <a:pt x="254" y="4"/>
                      </a:lnTo>
                      <a:lnTo>
                        <a:pt x="261" y="2"/>
                      </a:lnTo>
                      <a:lnTo>
                        <a:pt x="267" y="2"/>
                      </a:lnTo>
                      <a:lnTo>
                        <a:pt x="274" y="0"/>
                      </a:lnTo>
                      <a:lnTo>
                        <a:pt x="281" y="0"/>
                      </a:lnTo>
                      <a:lnTo>
                        <a:pt x="289" y="2"/>
                      </a:lnTo>
                      <a:lnTo>
                        <a:pt x="296" y="2"/>
                      </a:lnTo>
                      <a:lnTo>
                        <a:pt x="300" y="8"/>
                      </a:lnTo>
                      <a:lnTo>
                        <a:pt x="308" y="10"/>
                      </a:lnTo>
                      <a:lnTo>
                        <a:pt x="315" y="15"/>
                      </a:lnTo>
                      <a:lnTo>
                        <a:pt x="317" y="22"/>
                      </a:lnTo>
                      <a:lnTo>
                        <a:pt x="317" y="29"/>
                      </a:lnTo>
                      <a:lnTo>
                        <a:pt x="311" y="35"/>
                      </a:lnTo>
                      <a:lnTo>
                        <a:pt x="307" y="43"/>
                      </a:lnTo>
                      <a:lnTo>
                        <a:pt x="301" y="48"/>
                      </a:lnTo>
                      <a:lnTo>
                        <a:pt x="296" y="52"/>
                      </a:lnTo>
                      <a:lnTo>
                        <a:pt x="288" y="54"/>
                      </a:lnTo>
                      <a:lnTo>
                        <a:pt x="281" y="59"/>
                      </a:lnTo>
                      <a:lnTo>
                        <a:pt x="273" y="61"/>
                      </a:lnTo>
                      <a:lnTo>
                        <a:pt x="11" y="122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8402760" y="1217520"/>
                  <a:ext cx="122040" cy="71640"/>
                </a:xfrm>
                <a:custGeom>
                  <a:avLst/>
                  <a:gdLst/>
                  <a:ahLst/>
                  <a:rect l="l" t="t" r="r" b="b"/>
                  <a:pathLst>
                    <a:path w="305" h="135">
                      <a:moveTo>
                        <a:pt x="0" y="0"/>
                      </a:moveTo>
                      <a:lnTo>
                        <a:pt x="259" y="67"/>
                      </a:lnTo>
                      <a:lnTo>
                        <a:pt x="265" y="72"/>
                      </a:lnTo>
                      <a:lnTo>
                        <a:pt x="271" y="74"/>
                      </a:lnTo>
                      <a:lnTo>
                        <a:pt x="277" y="79"/>
                      </a:lnTo>
                      <a:lnTo>
                        <a:pt x="283" y="81"/>
                      </a:lnTo>
                      <a:lnTo>
                        <a:pt x="288" y="85"/>
                      </a:lnTo>
                      <a:lnTo>
                        <a:pt x="293" y="92"/>
                      </a:lnTo>
                      <a:lnTo>
                        <a:pt x="298" y="96"/>
                      </a:lnTo>
                      <a:lnTo>
                        <a:pt x="298" y="103"/>
                      </a:lnTo>
                      <a:lnTo>
                        <a:pt x="303" y="110"/>
                      </a:lnTo>
                      <a:lnTo>
                        <a:pt x="305" y="117"/>
                      </a:lnTo>
                      <a:lnTo>
                        <a:pt x="303" y="124"/>
                      </a:lnTo>
                      <a:lnTo>
                        <a:pt x="298" y="130"/>
                      </a:lnTo>
                      <a:lnTo>
                        <a:pt x="290" y="131"/>
                      </a:lnTo>
                      <a:lnTo>
                        <a:pt x="283" y="135"/>
                      </a:lnTo>
                      <a:lnTo>
                        <a:pt x="275" y="135"/>
                      </a:lnTo>
                      <a:lnTo>
                        <a:pt x="268" y="134"/>
                      </a:lnTo>
                      <a:lnTo>
                        <a:pt x="259" y="132"/>
                      </a:lnTo>
                      <a:lnTo>
                        <a:pt x="252" y="132"/>
                      </a:lnTo>
                      <a:lnTo>
                        <a:pt x="244" y="128"/>
                      </a:lnTo>
                      <a:lnTo>
                        <a:pt x="1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7" name=""/>
            <p:cNvSpPr/>
            <p:nvPr/>
          </p:nvSpPr>
          <p:spPr>
            <a:xfrm>
              <a:off x="7737120" y="1954080"/>
              <a:ext cx="807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ujua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ercap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444920" y="635040"/>
            <a:ext cx="1154160" cy="1966320"/>
            <a:chOff x="4444920" y="635040"/>
            <a:chExt cx="1154160" cy="1966320"/>
          </a:xfrm>
        </p:grpSpPr>
        <p:pic>
          <p:nvPicPr>
            <p:cNvPr id="239" name="" descr=""/>
            <p:cNvPicPr/>
            <p:nvPr/>
          </p:nvPicPr>
          <p:blipFill>
            <a:blip r:embed="rId9"/>
            <a:stretch/>
          </p:blipFill>
          <p:spPr>
            <a:xfrm>
              <a:off x="4444920" y="635040"/>
              <a:ext cx="11541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4656600" y="2081160"/>
              <a:ext cx="84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s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nc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80880" y="704880"/>
            <a:ext cx="7224840" cy="5848200"/>
            <a:chOff x="380880" y="704880"/>
            <a:chExt cx="7224840" cy="5848200"/>
          </a:xfrm>
        </p:grpSpPr>
        <p:sp>
          <p:nvSpPr>
            <p:cNvPr id="242" name=""/>
            <p:cNvSpPr/>
            <p:nvPr/>
          </p:nvSpPr>
          <p:spPr>
            <a:xfrm>
              <a:off x="380880" y="3067200"/>
              <a:ext cx="7224840" cy="857160"/>
            </a:xfrm>
            <a:custGeom>
              <a:avLst/>
              <a:gdLst/>
              <a:ahLst/>
              <a:rect l="l" t="t" r="r" b="b"/>
              <a:pathLst>
                <a:path w="4551" h="540">
                  <a:moveTo>
                    <a:pt x="1296" y="0"/>
                  </a:moveTo>
                  <a:lnTo>
                    <a:pt x="4551" y="537"/>
                  </a:lnTo>
                  <a:lnTo>
                    <a:pt x="0" y="540"/>
                  </a:lnTo>
                  <a:lnTo>
                    <a:pt x="696" y="0"/>
                  </a:lnTo>
                  <a:lnTo>
                    <a:pt x="1296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e1e1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498680" y="704880"/>
              <a:ext cx="936720" cy="23623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0880" y="3924360"/>
              <a:ext cx="7220160" cy="26287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09760" y="3124080"/>
              <a:ext cx="1057320" cy="743040"/>
            </a:xfrm>
            <a:prstGeom prst="downArrow">
              <a:avLst>
                <a:gd name="adj1" fmla="val 55130"/>
                <a:gd name="adj2" fmla="val 5922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631800" y="4314960"/>
            <a:ext cx="1019160" cy="1836000"/>
            <a:chOff x="631800" y="4314960"/>
            <a:chExt cx="1019160" cy="1836000"/>
          </a:xfrm>
        </p:grpSpPr>
        <p:pic>
          <p:nvPicPr>
            <p:cNvPr id="247" name="" descr=""/>
            <p:cNvPicPr/>
            <p:nvPr/>
          </p:nvPicPr>
          <p:blipFill>
            <a:blip r:embed="rId10"/>
            <a:stretch/>
          </p:blipFill>
          <p:spPr>
            <a:xfrm>
              <a:off x="631800" y="4314960"/>
              <a:ext cx="101916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77880" y="5630760"/>
              <a:ext cx="924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entuk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uju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676520" y="4314960"/>
            <a:ext cx="1702800" cy="1802520"/>
            <a:chOff x="1676520" y="4314960"/>
            <a:chExt cx="1702800" cy="1802520"/>
          </a:xfrm>
        </p:grpSpPr>
        <p:grpSp>
          <p:nvGrpSpPr>
            <p:cNvPr id="250" name=""/>
            <p:cNvGrpSpPr/>
            <p:nvPr/>
          </p:nvGrpSpPr>
          <p:grpSpPr>
            <a:xfrm>
              <a:off x="2185200" y="4314960"/>
              <a:ext cx="1194120" cy="1802520"/>
              <a:chOff x="2185200" y="4314960"/>
              <a:chExt cx="1194120" cy="1802520"/>
            </a:xfrm>
          </p:grpSpPr>
          <p:pic>
            <p:nvPicPr>
              <p:cNvPr id="25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334960" y="4314960"/>
                <a:ext cx="893880" cy="127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2185200" y="5597280"/>
                <a:ext cx="1194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skripsik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uju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1676520" y="4957920"/>
              <a:ext cx="285480" cy="333360"/>
            </a:xfrm>
            <a:prstGeom prst="rightArrow">
              <a:avLst>
                <a:gd name="adj1" fmla="val 55241"/>
                <a:gd name="adj2" fmla="val 51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400560" y="4314960"/>
            <a:ext cx="1944360" cy="1925640"/>
            <a:chOff x="3400560" y="4314960"/>
            <a:chExt cx="1944360" cy="1925640"/>
          </a:xfrm>
        </p:grpSpPr>
        <p:grpSp>
          <p:nvGrpSpPr>
            <p:cNvPr id="255" name=""/>
            <p:cNvGrpSpPr/>
            <p:nvPr/>
          </p:nvGrpSpPr>
          <p:grpSpPr>
            <a:xfrm>
              <a:off x="3922560" y="4314960"/>
              <a:ext cx="1422360" cy="1925640"/>
              <a:chOff x="3922560" y="4314960"/>
              <a:chExt cx="1422360" cy="1925640"/>
            </a:xfrm>
          </p:grpSpPr>
          <p:pic>
            <p:nvPicPr>
              <p:cNvPr id="25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922560" y="4314960"/>
                <a:ext cx="1422360" cy="126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040280" y="5507280"/>
                <a:ext cx="12049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entuk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dikat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Keberhasil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3400560" y="4957920"/>
              <a:ext cx="285480" cy="333360"/>
            </a:xfrm>
            <a:prstGeom prst="rightArrow">
              <a:avLst>
                <a:gd name="adj1" fmla="val 55241"/>
                <a:gd name="adj2" fmla="val 51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72280" y="4429080"/>
            <a:ext cx="1949040" cy="1935000"/>
            <a:chOff x="5372280" y="4429080"/>
            <a:chExt cx="1949040" cy="1935000"/>
          </a:xfrm>
        </p:grpSpPr>
        <p:sp>
          <p:nvSpPr>
            <p:cNvPr id="260" name=""/>
            <p:cNvSpPr/>
            <p:nvPr/>
          </p:nvSpPr>
          <p:spPr>
            <a:xfrm>
              <a:off x="5372280" y="4957920"/>
              <a:ext cx="285480" cy="333360"/>
            </a:xfrm>
            <a:prstGeom prst="rightArrow">
              <a:avLst>
                <a:gd name="adj1" fmla="val 55241"/>
                <a:gd name="adj2" fmla="val 51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5918400" y="4429080"/>
              <a:ext cx="1402920" cy="1935000"/>
              <a:chOff x="5918400" y="4429080"/>
              <a:chExt cx="1402920" cy="1935000"/>
            </a:xfrm>
          </p:grpSpPr>
          <p:sp>
            <p:nvSpPr>
              <p:cNvPr id="262" name=""/>
              <p:cNvSpPr/>
              <p:nvPr/>
            </p:nvSpPr>
            <p:spPr>
              <a:xfrm>
                <a:off x="5918400" y="5630760"/>
                <a:ext cx="14029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osialisasik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ada semu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ihak yg terkai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6014880" y="4429080"/>
                <a:ext cx="1207800" cy="1066680"/>
                <a:chOff x="6014880" y="4429080"/>
                <a:chExt cx="1207800" cy="1066680"/>
              </a:xfrm>
            </p:grpSpPr>
            <p:pic>
              <p:nvPicPr>
                <p:cNvPr id="26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014880" y="4429080"/>
                  <a:ext cx="1207800" cy="1066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5" name=""/>
                <p:cNvSpPr/>
                <p:nvPr/>
              </p:nvSpPr>
              <p:spPr>
                <a:xfrm rot="19729200">
                  <a:off x="6507000" y="4830480"/>
                  <a:ext cx="128520" cy="183960"/>
                </a:xfrm>
                <a:custGeom>
                  <a:avLst/>
                  <a:gdLst/>
                  <a:ahLst/>
                  <a:rect l="l" t="t" r="r" b="b"/>
                  <a:pathLst>
                    <a:path w="384" h="562">
                      <a:moveTo>
                        <a:pt x="46" y="155"/>
                      </a:moveTo>
                      <a:lnTo>
                        <a:pt x="130" y="63"/>
                      </a:lnTo>
                      <a:lnTo>
                        <a:pt x="268" y="0"/>
                      </a:lnTo>
                      <a:lnTo>
                        <a:pt x="337" y="124"/>
                      </a:lnTo>
                      <a:lnTo>
                        <a:pt x="384" y="285"/>
                      </a:lnTo>
                      <a:lnTo>
                        <a:pt x="276" y="562"/>
                      </a:lnTo>
                      <a:lnTo>
                        <a:pt x="138" y="554"/>
                      </a:lnTo>
                      <a:lnTo>
                        <a:pt x="0" y="462"/>
                      </a:lnTo>
                      <a:lnTo>
                        <a:pt x="0" y="224"/>
                      </a:lnTo>
                      <a:lnTo>
                        <a:pt x="38" y="216"/>
                      </a:lnTo>
                      <a:lnTo>
                        <a:pt x="69" y="254"/>
                      </a:lnTo>
                      <a:lnTo>
                        <a:pt x="61" y="438"/>
                      </a:lnTo>
                      <a:lnTo>
                        <a:pt x="154" y="507"/>
                      </a:lnTo>
                      <a:lnTo>
                        <a:pt x="260" y="492"/>
                      </a:lnTo>
                      <a:lnTo>
                        <a:pt x="322" y="293"/>
                      </a:lnTo>
                      <a:lnTo>
                        <a:pt x="237" y="293"/>
                      </a:lnTo>
                      <a:lnTo>
                        <a:pt x="130" y="239"/>
                      </a:lnTo>
                      <a:lnTo>
                        <a:pt x="138" y="224"/>
                      </a:lnTo>
                      <a:lnTo>
                        <a:pt x="268" y="254"/>
                      </a:lnTo>
                      <a:lnTo>
                        <a:pt x="337" y="246"/>
                      </a:lnTo>
                      <a:lnTo>
                        <a:pt x="253" y="55"/>
                      </a:lnTo>
                      <a:lnTo>
                        <a:pt x="160" y="116"/>
                      </a:lnTo>
                      <a:lnTo>
                        <a:pt x="77" y="208"/>
                      </a:lnTo>
                      <a:lnTo>
                        <a:pt x="46" y="1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806880" y="4697280"/>
                  <a:ext cx="152280" cy="222480"/>
                </a:xfrm>
                <a:custGeom>
                  <a:avLst/>
                  <a:gdLst/>
                  <a:ahLst/>
                  <a:rect l="l" t="t" r="r" b="b"/>
                  <a:pathLst>
                    <a:path w="384" h="562">
                      <a:moveTo>
                        <a:pt x="46" y="155"/>
                      </a:moveTo>
                      <a:lnTo>
                        <a:pt x="130" y="63"/>
                      </a:lnTo>
                      <a:lnTo>
                        <a:pt x="268" y="0"/>
                      </a:lnTo>
                      <a:lnTo>
                        <a:pt x="337" y="124"/>
                      </a:lnTo>
                      <a:lnTo>
                        <a:pt x="384" y="285"/>
                      </a:lnTo>
                      <a:lnTo>
                        <a:pt x="276" y="562"/>
                      </a:lnTo>
                      <a:lnTo>
                        <a:pt x="138" y="554"/>
                      </a:lnTo>
                      <a:lnTo>
                        <a:pt x="0" y="462"/>
                      </a:lnTo>
                      <a:lnTo>
                        <a:pt x="0" y="224"/>
                      </a:lnTo>
                      <a:lnTo>
                        <a:pt x="38" y="216"/>
                      </a:lnTo>
                      <a:lnTo>
                        <a:pt x="69" y="254"/>
                      </a:lnTo>
                      <a:lnTo>
                        <a:pt x="61" y="438"/>
                      </a:lnTo>
                      <a:lnTo>
                        <a:pt x="154" y="507"/>
                      </a:lnTo>
                      <a:lnTo>
                        <a:pt x="260" y="492"/>
                      </a:lnTo>
                      <a:lnTo>
                        <a:pt x="322" y="293"/>
                      </a:lnTo>
                      <a:lnTo>
                        <a:pt x="237" y="293"/>
                      </a:lnTo>
                      <a:lnTo>
                        <a:pt x="130" y="239"/>
                      </a:lnTo>
                      <a:lnTo>
                        <a:pt x="138" y="224"/>
                      </a:lnTo>
                      <a:lnTo>
                        <a:pt x="268" y="254"/>
                      </a:lnTo>
                      <a:lnTo>
                        <a:pt x="337" y="246"/>
                      </a:lnTo>
                      <a:lnTo>
                        <a:pt x="253" y="55"/>
                      </a:lnTo>
                      <a:lnTo>
                        <a:pt x="160" y="116"/>
                      </a:lnTo>
                      <a:lnTo>
                        <a:pt x="77" y="208"/>
                      </a:lnTo>
                      <a:lnTo>
                        <a:pt x="46" y="1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584760" y="4684680"/>
                  <a:ext cx="206280" cy="149400"/>
                </a:xfrm>
                <a:custGeom>
                  <a:avLst/>
                  <a:gdLst/>
                  <a:ahLst/>
                  <a:rect l="l" t="t" r="r" b="b"/>
                  <a:pathLst>
                    <a:path w="130" h="94">
                      <a:moveTo>
                        <a:pt x="13" y="94"/>
                      </a:moveTo>
                      <a:cubicBezTo>
                        <a:pt x="6" y="57"/>
                        <a:pt x="0" y="20"/>
                        <a:pt x="19" y="10"/>
                      </a:cubicBezTo>
                      <a:cubicBezTo>
                        <a:pt x="38" y="0"/>
                        <a:pt x="112" y="32"/>
                        <a:pt x="130" y="34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"/>
          <p:cNvGrpSpPr/>
          <p:nvPr/>
        </p:nvGrpSpPr>
        <p:grpSpPr>
          <a:xfrm>
            <a:off x="371520" y="2881440"/>
            <a:ext cx="7715160" cy="3452760"/>
            <a:chOff x="371520" y="2881440"/>
            <a:chExt cx="7715160" cy="3452760"/>
          </a:xfrm>
        </p:grpSpPr>
        <p:sp>
          <p:nvSpPr>
            <p:cNvPr id="269" name=""/>
            <p:cNvSpPr/>
            <p:nvPr/>
          </p:nvSpPr>
          <p:spPr>
            <a:xfrm>
              <a:off x="371520" y="2881440"/>
              <a:ext cx="7715160" cy="1042920"/>
            </a:xfrm>
            <a:custGeom>
              <a:avLst/>
              <a:gdLst/>
              <a:ahLst/>
              <a:rect l="l" t="t" r="r" b="b"/>
              <a:pathLst>
                <a:path w="4860" h="657">
                  <a:moveTo>
                    <a:pt x="2034" y="9"/>
                  </a:moveTo>
                  <a:lnTo>
                    <a:pt x="4860" y="657"/>
                  </a:lnTo>
                  <a:lnTo>
                    <a:pt x="0" y="651"/>
                  </a:lnTo>
                  <a:lnTo>
                    <a:pt x="1302" y="0"/>
                  </a:lnTo>
                  <a:lnTo>
                    <a:pt x="2034" y="9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e1e1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0880" y="3924360"/>
              <a:ext cx="7705800" cy="240984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02000" y="2927520"/>
              <a:ext cx="790560" cy="542880"/>
            </a:xfrm>
            <a:prstGeom prst="downArrow">
              <a:avLst>
                <a:gd name="adj1" fmla="val 55130"/>
                <a:gd name="adj2" fmla="val 5922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286000" y="838080"/>
            <a:ext cx="5105520" cy="1600200"/>
          </a:xfrm>
          <a:prstGeom prst="rightArrow">
            <a:avLst>
              <a:gd name="adj1" fmla="val 50000"/>
              <a:gd name="adj2" fmla="val 79764"/>
            </a:avLst>
          </a:prstGeom>
          <a:solidFill>
            <a:srgbClr val="eaeaea"/>
          </a:solidFill>
          <a:ln w="28440">
            <a:solidFill>
              <a:srgbClr val="00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444320" y="982800"/>
            <a:ext cx="1046520" cy="1952280"/>
            <a:chOff x="1444320" y="982800"/>
            <a:chExt cx="1046520" cy="1952280"/>
          </a:xfrm>
        </p:grpSpPr>
        <p:pic>
          <p:nvPicPr>
            <p:cNvPr id="274" name="" descr=""/>
            <p:cNvPicPr/>
            <p:nvPr/>
          </p:nvPicPr>
          <p:blipFill>
            <a:blip r:embed="rId1"/>
            <a:stretch/>
          </p:blipFill>
          <p:spPr>
            <a:xfrm>
              <a:off x="1731960" y="982800"/>
              <a:ext cx="4716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444320" y="2201760"/>
              <a:ext cx="1046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gaim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encap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ujuan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476440" y="838080"/>
            <a:ext cx="1055880" cy="1790280"/>
            <a:chOff x="2476440" y="838080"/>
            <a:chExt cx="1055880" cy="179028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2476440" y="838080"/>
              <a:ext cx="105588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559600" y="2108160"/>
              <a:ext cx="839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valuas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634560" y="774720"/>
            <a:ext cx="787320" cy="1828440"/>
            <a:chOff x="3634560" y="774720"/>
            <a:chExt cx="787320" cy="1828440"/>
          </a:xfrm>
        </p:grpSpPr>
        <p:pic>
          <p:nvPicPr>
            <p:cNvPr id="280" name="" descr=""/>
            <p:cNvPicPr/>
            <p:nvPr/>
          </p:nvPicPr>
          <p:blipFill>
            <a:blip r:embed="rId3"/>
            <a:stretch/>
          </p:blipFill>
          <p:spPr>
            <a:xfrm>
              <a:off x="3772080" y="774720"/>
              <a:ext cx="426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3634560" y="2082960"/>
              <a:ext cx="78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a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trateg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784840" y="1054080"/>
            <a:ext cx="1125720" cy="1586880"/>
            <a:chOff x="5784840" y="1054080"/>
            <a:chExt cx="1125720" cy="1586880"/>
          </a:xfrm>
        </p:grpSpPr>
        <p:pic>
          <p:nvPicPr>
            <p:cNvPr id="283" name="" descr=""/>
            <p:cNvPicPr/>
            <p:nvPr/>
          </p:nvPicPr>
          <p:blipFill>
            <a:blip r:embed="rId4"/>
            <a:stretch/>
          </p:blipFill>
          <p:spPr>
            <a:xfrm>
              <a:off x="5978520" y="1054080"/>
              <a:ext cx="7347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5784840" y="2120760"/>
              <a:ext cx="112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ksanak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nc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7543800" y="800280"/>
            <a:ext cx="1219320" cy="1674000"/>
            <a:chOff x="7543800" y="800280"/>
            <a:chExt cx="1219320" cy="1674000"/>
          </a:xfrm>
        </p:grpSpPr>
        <p:grpSp>
          <p:nvGrpSpPr>
            <p:cNvPr id="286" name=""/>
            <p:cNvGrpSpPr/>
            <p:nvPr/>
          </p:nvGrpSpPr>
          <p:grpSpPr>
            <a:xfrm>
              <a:off x="7543800" y="800280"/>
              <a:ext cx="1219320" cy="1066680"/>
              <a:chOff x="7543800" y="800280"/>
              <a:chExt cx="1219320" cy="1066680"/>
            </a:xfrm>
          </p:grpSpPr>
          <p:grpSp>
            <p:nvGrpSpPr>
              <p:cNvPr id="287" name=""/>
              <p:cNvGrpSpPr/>
              <p:nvPr/>
            </p:nvGrpSpPr>
            <p:grpSpPr>
              <a:xfrm>
                <a:off x="7551720" y="1324080"/>
                <a:ext cx="1211400" cy="241200"/>
                <a:chOff x="7551720" y="1324080"/>
                <a:chExt cx="1211400" cy="2412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7574040" y="1328760"/>
                  <a:ext cx="1174680" cy="231840"/>
                </a:xfrm>
                <a:custGeom>
                  <a:avLst/>
                  <a:gdLst/>
                  <a:ahLst/>
                  <a:rect l="l" t="t" r="r" b="b"/>
                  <a:pathLst>
                    <a:path w="2961" h="436">
                      <a:moveTo>
                        <a:pt x="1809" y="54"/>
                      </a:moveTo>
                      <a:lnTo>
                        <a:pt x="1947" y="116"/>
                      </a:lnTo>
                      <a:lnTo>
                        <a:pt x="2048" y="157"/>
                      </a:lnTo>
                      <a:lnTo>
                        <a:pt x="2119" y="171"/>
                      </a:lnTo>
                      <a:lnTo>
                        <a:pt x="2223" y="174"/>
                      </a:lnTo>
                      <a:lnTo>
                        <a:pt x="2335" y="164"/>
                      </a:lnTo>
                      <a:lnTo>
                        <a:pt x="2420" y="146"/>
                      </a:lnTo>
                      <a:lnTo>
                        <a:pt x="2499" y="131"/>
                      </a:lnTo>
                      <a:lnTo>
                        <a:pt x="2590" y="107"/>
                      </a:lnTo>
                      <a:lnTo>
                        <a:pt x="2675" y="84"/>
                      </a:lnTo>
                      <a:lnTo>
                        <a:pt x="2740" y="80"/>
                      </a:lnTo>
                      <a:lnTo>
                        <a:pt x="2809" y="86"/>
                      </a:lnTo>
                      <a:lnTo>
                        <a:pt x="2885" y="113"/>
                      </a:lnTo>
                      <a:lnTo>
                        <a:pt x="2961" y="149"/>
                      </a:lnTo>
                      <a:lnTo>
                        <a:pt x="2939" y="161"/>
                      </a:lnTo>
                      <a:lnTo>
                        <a:pt x="2863" y="157"/>
                      </a:lnTo>
                      <a:lnTo>
                        <a:pt x="2757" y="153"/>
                      </a:lnTo>
                      <a:lnTo>
                        <a:pt x="2686" y="163"/>
                      </a:lnTo>
                      <a:lnTo>
                        <a:pt x="2584" y="189"/>
                      </a:lnTo>
                      <a:lnTo>
                        <a:pt x="2469" y="223"/>
                      </a:lnTo>
                      <a:lnTo>
                        <a:pt x="2385" y="250"/>
                      </a:lnTo>
                      <a:lnTo>
                        <a:pt x="2304" y="273"/>
                      </a:lnTo>
                      <a:lnTo>
                        <a:pt x="2211" y="277"/>
                      </a:lnTo>
                      <a:lnTo>
                        <a:pt x="2076" y="280"/>
                      </a:lnTo>
                      <a:lnTo>
                        <a:pt x="1980" y="274"/>
                      </a:lnTo>
                      <a:lnTo>
                        <a:pt x="1896" y="263"/>
                      </a:lnTo>
                      <a:lnTo>
                        <a:pt x="1813" y="240"/>
                      </a:lnTo>
                      <a:lnTo>
                        <a:pt x="1736" y="209"/>
                      </a:lnTo>
                      <a:lnTo>
                        <a:pt x="1655" y="186"/>
                      </a:lnTo>
                      <a:lnTo>
                        <a:pt x="1563" y="167"/>
                      </a:lnTo>
                      <a:lnTo>
                        <a:pt x="1475" y="156"/>
                      </a:lnTo>
                      <a:lnTo>
                        <a:pt x="1366" y="151"/>
                      </a:lnTo>
                      <a:lnTo>
                        <a:pt x="1264" y="153"/>
                      </a:lnTo>
                      <a:lnTo>
                        <a:pt x="1186" y="153"/>
                      </a:lnTo>
                      <a:lnTo>
                        <a:pt x="1099" y="167"/>
                      </a:lnTo>
                      <a:lnTo>
                        <a:pt x="1008" y="189"/>
                      </a:lnTo>
                      <a:lnTo>
                        <a:pt x="913" y="216"/>
                      </a:lnTo>
                      <a:lnTo>
                        <a:pt x="843" y="243"/>
                      </a:lnTo>
                      <a:lnTo>
                        <a:pt x="728" y="276"/>
                      </a:lnTo>
                      <a:lnTo>
                        <a:pt x="627" y="313"/>
                      </a:lnTo>
                      <a:lnTo>
                        <a:pt x="539" y="359"/>
                      </a:lnTo>
                      <a:lnTo>
                        <a:pt x="472" y="397"/>
                      </a:lnTo>
                      <a:lnTo>
                        <a:pt x="418" y="420"/>
                      </a:lnTo>
                      <a:lnTo>
                        <a:pt x="412" y="422"/>
                      </a:lnTo>
                      <a:lnTo>
                        <a:pt x="354" y="432"/>
                      </a:lnTo>
                      <a:lnTo>
                        <a:pt x="348" y="434"/>
                      </a:lnTo>
                      <a:lnTo>
                        <a:pt x="270" y="436"/>
                      </a:lnTo>
                      <a:lnTo>
                        <a:pt x="190" y="434"/>
                      </a:lnTo>
                      <a:lnTo>
                        <a:pt x="123" y="427"/>
                      </a:lnTo>
                      <a:lnTo>
                        <a:pt x="74" y="416"/>
                      </a:lnTo>
                      <a:lnTo>
                        <a:pt x="27" y="392"/>
                      </a:lnTo>
                      <a:lnTo>
                        <a:pt x="22" y="392"/>
                      </a:lnTo>
                      <a:lnTo>
                        <a:pt x="0" y="374"/>
                      </a:lnTo>
                      <a:lnTo>
                        <a:pt x="69" y="374"/>
                      </a:lnTo>
                      <a:lnTo>
                        <a:pt x="156" y="360"/>
                      </a:lnTo>
                      <a:lnTo>
                        <a:pt x="237" y="340"/>
                      </a:lnTo>
                      <a:lnTo>
                        <a:pt x="301" y="320"/>
                      </a:lnTo>
                      <a:lnTo>
                        <a:pt x="379" y="294"/>
                      </a:lnTo>
                      <a:lnTo>
                        <a:pt x="469" y="256"/>
                      </a:lnTo>
                      <a:lnTo>
                        <a:pt x="571" y="206"/>
                      </a:lnTo>
                      <a:lnTo>
                        <a:pt x="645" y="173"/>
                      </a:lnTo>
                      <a:lnTo>
                        <a:pt x="722" y="143"/>
                      </a:lnTo>
                      <a:lnTo>
                        <a:pt x="816" y="113"/>
                      </a:lnTo>
                      <a:lnTo>
                        <a:pt x="925" y="80"/>
                      </a:lnTo>
                      <a:lnTo>
                        <a:pt x="1015" y="54"/>
                      </a:lnTo>
                      <a:lnTo>
                        <a:pt x="1083" y="37"/>
                      </a:lnTo>
                      <a:lnTo>
                        <a:pt x="1171" y="21"/>
                      </a:lnTo>
                      <a:lnTo>
                        <a:pt x="1274" y="11"/>
                      </a:lnTo>
                      <a:lnTo>
                        <a:pt x="1345" y="1"/>
                      </a:lnTo>
                      <a:lnTo>
                        <a:pt x="1442" y="0"/>
                      </a:lnTo>
                      <a:lnTo>
                        <a:pt x="1537" y="1"/>
                      </a:lnTo>
                      <a:lnTo>
                        <a:pt x="1604" y="10"/>
                      </a:lnTo>
                      <a:lnTo>
                        <a:pt x="1684" y="20"/>
                      </a:lnTo>
                      <a:lnTo>
                        <a:pt x="1749" y="34"/>
                      </a:lnTo>
                      <a:lnTo>
                        <a:pt x="1809" y="54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551720" y="1324080"/>
                  <a:ext cx="1211400" cy="214200"/>
                </a:xfrm>
                <a:custGeom>
                  <a:avLst/>
                  <a:gdLst/>
                  <a:ahLst/>
                  <a:rect l="l" t="t" r="r" b="b"/>
                  <a:pathLst>
                    <a:path w="3050" h="406">
                      <a:moveTo>
                        <a:pt x="2925" y="131"/>
                      </a:moveTo>
                      <a:lnTo>
                        <a:pt x="2850" y="106"/>
                      </a:lnTo>
                      <a:lnTo>
                        <a:pt x="2780" y="103"/>
                      </a:lnTo>
                      <a:lnTo>
                        <a:pt x="2710" y="111"/>
                      </a:lnTo>
                      <a:lnTo>
                        <a:pt x="2648" y="130"/>
                      </a:lnTo>
                      <a:lnTo>
                        <a:pt x="2558" y="151"/>
                      </a:lnTo>
                      <a:lnTo>
                        <a:pt x="2497" y="166"/>
                      </a:lnTo>
                      <a:lnTo>
                        <a:pt x="2433" y="177"/>
                      </a:lnTo>
                      <a:lnTo>
                        <a:pt x="2366" y="193"/>
                      </a:lnTo>
                      <a:lnTo>
                        <a:pt x="2311" y="197"/>
                      </a:lnTo>
                      <a:lnTo>
                        <a:pt x="2261" y="199"/>
                      </a:lnTo>
                      <a:lnTo>
                        <a:pt x="2201" y="199"/>
                      </a:lnTo>
                      <a:lnTo>
                        <a:pt x="2140" y="194"/>
                      </a:lnTo>
                      <a:lnTo>
                        <a:pt x="2095" y="184"/>
                      </a:lnTo>
                      <a:lnTo>
                        <a:pt x="2042" y="161"/>
                      </a:lnTo>
                      <a:lnTo>
                        <a:pt x="1981" y="130"/>
                      </a:lnTo>
                      <a:lnTo>
                        <a:pt x="1918" y="101"/>
                      </a:lnTo>
                      <a:lnTo>
                        <a:pt x="1863" y="80"/>
                      </a:lnTo>
                      <a:lnTo>
                        <a:pt x="1793" y="54"/>
                      </a:lnTo>
                      <a:lnTo>
                        <a:pt x="1704" y="36"/>
                      </a:lnTo>
                      <a:lnTo>
                        <a:pt x="1633" y="27"/>
                      </a:lnTo>
                      <a:lnTo>
                        <a:pt x="1536" y="21"/>
                      </a:lnTo>
                      <a:lnTo>
                        <a:pt x="1449" y="21"/>
                      </a:lnTo>
                      <a:lnTo>
                        <a:pt x="1355" y="27"/>
                      </a:lnTo>
                      <a:lnTo>
                        <a:pt x="1268" y="37"/>
                      </a:lnTo>
                      <a:lnTo>
                        <a:pt x="1184" y="54"/>
                      </a:lnTo>
                      <a:lnTo>
                        <a:pt x="1070" y="77"/>
                      </a:lnTo>
                      <a:lnTo>
                        <a:pt x="944" y="113"/>
                      </a:lnTo>
                      <a:lnTo>
                        <a:pt x="827" y="147"/>
                      </a:lnTo>
                      <a:lnTo>
                        <a:pt x="708" y="191"/>
                      </a:lnTo>
                      <a:lnTo>
                        <a:pt x="618" y="230"/>
                      </a:lnTo>
                      <a:lnTo>
                        <a:pt x="614" y="233"/>
                      </a:lnTo>
                      <a:lnTo>
                        <a:pt x="539" y="269"/>
                      </a:lnTo>
                      <a:lnTo>
                        <a:pt x="482" y="297"/>
                      </a:lnTo>
                      <a:lnTo>
                        <a:pt x="419" y="326"/>
                      </a:lnTo>
                      <a:lnTo>
                        <a:pt x="354" y="350"/>
                      </a:lnTo>
                      <a:lnTo>
                        <a:pt x="283" y="367"/>
                      </a:lnTo>
                      <a:lnTo>
                        <a:pt x="278" y="370"/>
                      </a:lnTo>
                      <a:lnTo>
                        <a:pt x="220" y="387"/>
                      </a:lnTo>
                      <a:lnTo>
                        <a:pt x="216" y="389"/>
                      </a:lnTo>
                      <a:lnTo>
                        <a:pt x="155" y="397"/>
                      </a:lnTo>
                      <a:lnTo>
                        <a:pt x="91" y="404"/>
                      </a:lnTo>
                      <a:lnTo>
                        <a:pt x="86" y="406"/>
                      </a:lnTo>
                      <a:lnTo>
                        <a:pt x="62" y="404"/>
                      </a:lnTo>
                      <a:lnTo>
                        <a:pt x="28" y="390"/>
                      </a:lnTo>
                      <a:lnTo>
                        <a:pt x="0" y="376"/>
                      </a:lnTo>
                      <a:lnTo>
                        <a:pt x="7" y="367"/>
                      </a:lnTo>
                      <a:lnTo>
                        <a:pt x="24" y="366"/>
                      </a:lnTo>
                      <a:lnTo>
                        <a:pt x="74" y="369"/>
                      </a:lnTo>
                      <a:lnTo>
                        <a:pt x="138" y="369"/>
                      </a:lnTo>
                      <a:lnTo>
                        <a:pt x="189" y="363"/>
                      </a:lnTo>
                      <a:lnTo>
                        <a:pt x="250" y="347"/>
                      </a:lnTo>
                      <a:lnTo>
                        <a:pt x="332" y="327"/>
                      </a:lnTo>
                      <a:lnTo>
                        <a:pt x="388" y="307"/>
                      </a:lnTo>
                      <a:lnTo>
                        <a:pt x="456" y="276"/>
                      </a:lnTo>
                      <a:lnTo>
                        <a:pt x="530" y="243"/>
                      </a:lnTo>
                      <a:lnTo>
                        <a:pt x="595" y="211"/>
                      </a:lnTo>
                      <a:lnTo>
                        <a:pt x="678" y="174"/>
                      </a:lnTo>
                      <a:lnTo>
                        <a:pt x="752" y="147"/>
                      </a:lnTo>
                      <a:lnTo>
                        <a:pt x="820" y="124"/>
                      </a:lnTo>
                      <a:lnTo>
                        <a:pt x="897" y="101"/>
                      </a:lnTo>
                      <a:lnTo>
                        <a:pt x="967" y="80"/>
                      </a:lnTo>
                      <a:lnTo>
                        <a:pt x="1056" y="54"/>
                      </a:lnTo>
                      <a:lnTo>
                        <a:pt x="1133" y="37"/>
                      </a:lnTo>
                      <a:lnTo>
                        <a:pt x="1193" y="26"/>
                      </a:lnTo>
                      <a:lnTo>
                        <a:pt x="1275" y="13"/>
                      </a:lnTo>
                      <a:lnTo>
                        <a:pt x="1372" y="3"/>
                      </a:lnTo>
                      <a:lnTo>
                        <a:pt x="1452" y="0"/>
                      </a:lnTo>
                      <a:lnTo>
                        <a:pt x="1549" y="0"/>
                      </a:lnTo>
                      <a:lnTo>
                        <a:pt x="1655" y="4"/>
                      </a:lnTo>
                      <a:lnTo>
                        <a:pt x="1715" y="14"/>
                      </a:lnTo>
                      <a:lnTo>
                        <a:pt x="1775" y="26"/>
                      </a:lnTo>
                      <a:lnTo>
                        <a:pt x="1836" y="46"/>
                      </a:lnTo>
                      <a:lnTo>
                        <a:pt x="1893" y="64"/>
                      </a:lnTo>
                      <a:lnTo>
                        <a:pt x="1951" y="86"/>
                      </a:lnTo>
                      <a:lnTo>
                        <a:pt x="2002" y="111"/>
                      </a:lnTo>
                      <a:lnTo>
                        <a:pt x="2058" y="136"/>
                      </a:lnTo>
                      <a:lnTo>
                        <a:pt x="2106" y="154"/>
                      </a:lnTo>
                      <a:lnTo>
                        <a:pt x="2146" y="166"/>
                      </a:lnTo>
                      <a:lnTo>
                        <a:pt x="2189" y="173"/>
                      </a:lnTo>
                      <a:lnTo>
                        <a:pt x="2260" y="171"/>
                      </a:lnTo>
                      <a:lnTo>
                        <a:pt x="2324" y="169"/>
                      </a:lnTo>
                      <a:lnTo>
                        <a:pt x="2385" y="161"/>
                      </a:lnTo>
                      <a:lnTo>
                        <a:pt x="2435" y="149"/>
                      </a:lnTo>
                      <a:lnTo>
                        <a:pt x="2523" y="134"/>
                      </a:lnTo>
                      <a:lnTo>
                        <a:pt x="2592" y="116"/>
                      </a:lnTo>
                      <a:lnTo>
                        <a:pt x="2675" y="96"/>
                      </a:lnTo>
                      <a:lnTo>
                        <a:pt x="2733" y="80"/>
                      </a:lnTo>
                      <a:lnTo>
                        <a:pt x="2786" y="76"/>
                      </a:lnTo>
                      <a:lnTo>
                        <a:pt x="2833" y="76"/>
                      </a:lnTo>
                      <a:lnTo>
                        <a:pt x="2858" y="81"/>
                      </a:lnTo>
                      <a:lnTo>
                        <a:pt x="2922" y="100"/>
                      </a:lnTo>
                      <a:lnTo>
                        <a:pt x="2988" y="127"/>
                      </a:lnTo>
                      <a:lnTo>
                        <a:pt x="3032" y="149"/>
                      </a:lnTo>
                      <a:lnTo>
                        <a:pt x="3050" y="157"/>
                      </a:lnTo>
                      <a:lnTo>
                        <a:pt x="3045" y="163"/>
                      </a:lnTo>
                      <a:lnTo>
                        <a:pt x="3029" y="167"/>
                      </a:lnTo>
                      <a:lnTo>
                        <a:pt x="2995" y="163"/>
                      </a:lnTo>
                      <a:lnTo>
                        <a:pt x="2951" y="144"/>
                      </a:lnTo>
                      <a:lnTo>
                        <a:pt x="2925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559640" y="1401840"/>
                  <a:ext cx="1201680" cy="163440"/>
                </a:xfrm>
                <a:custGeom>
                  <a:avLst/>
                  <a:gdLst/>
                  <a:ahLst/>
                  <a:rect l="l" t="t" r="r" b="b"/>
                  <a:pathLst>
                    <a:path w="3026" h="311">
                      <a:moveTo>
                        <a:pt x="2982" y="15"/>
                      </a:moveTo>
                      <a:lnTo>
                        <a:pt x="2938" y="15"/>
                      </a:lnTo>
                      <a:lnTo>
                        <a:pt x="2883" y="8"/>
                      </a:lnTo>
                      <a:lnTo>
                        <a:pt x="2820" y="0"/>
                      </a:lnTo>
                      <a:lnTo>
                        <a:pt x="2765" y="3"/>
                      </a:lnTo>
                      <a:lnTo>
                        <a:pt x="2698" y="17"/>
                      </a:lnTo>
                      <a:lnTo>
                        <a:pt x="2614" y="41"/>
                      </a:lnTo>
                      <a:lnTo>
                        <a:pt x="2543" y="63"/>
                      </a:lnTo>
                      <a:lnTo>
                        <a:pt x="2475" y="83"/>
                      </a:lnTo>
                      <a:lnTo>
                        <a:pt x="2412" y="101"/>
                      </a:lnTo>
                      <a:lnTo>
                        <a:pt x="2358" y="113"/>
                      </a:lnTo>
                      <a:lnTo>
                        <a:pt x="2354" y="113"/>
                      </a:lnTo>
                      <a:lnTo>
                        <a:pt x="2291" y="123"/>
                      </a:lnTo>
                      <a:lnTo>
                        <a:pt x="2222" y="124"/>
                      </a:lnTo>
                      <a:lnTo>
                        <a:pt x="2148" y="128"/>
                      </a:lnTo>
                      <a:lnTo>
                        <a:pt x="2143" y="128"/>
                      </a:lnTo>
                      <a:lnTo>
                        <a:pt x="2047" y="127"/>
                      </a:lnTo>
                      <a:lnTo>
                        <a:pt x="1956" y="117"/>
                      </a:lnTo>
                      <a:lnTo>
                        <a:pt x="1914" y="110"/>
                      </a:lnTo>
                      <a:lnTo>
                        <a:pt x="1856" y="91"/>
                      </a:lnTo>
                      <a:lnTo>
                        <a:pt x="1796" y="67"/>
                      </a:lnTo>
                      <a:lnTo>
                        <a:pt x="1732" y="45"/>
                      </a:lnTo>
                      <a:lnTo>
                        <a:pt x="1674" y="30"/>
                      </a:lnTo>
                      <a:lnTo>
                        <a:pt x="1617" y="20"/>
                      </a:lnTo>
                      <a:lnTo>
                        <a:pt x="1529" y="8"/>
                      </a:lnTo>
                      <a:lnTo>
                        <a:pt x="1434" y="3"/>
                      </a:lnTo>
                      <a:lnTo>
                        <a:pt x="1341" y="0"/>
                      </a:lnTo>
                      <a:lnTo>
                        <a:pt x="1246" y="0"/>
                      </a:lnTo>
                      <a:lnTo>
                        <a:pt x="1189" y="7"/>
                      </a:lnTo>
                      <a:lnTo>
                        <a:pt x="1116" y="20"/>
                      </a:lnTo>
                      <a:lnTo>
                        <a:pt x="1052" y="37"/>
                      </a:lnTo>
                      <a:lnTo>
                        <a:pt x="975" y="58"/>
                      </a:lnTo>
                      <a:lnTo>
                        <a:pt x="899" y="83"/>
                      </a:lnTo>
                      <a:lnTo>
                        <a:pt x="823" y="108"/>
                      </a:lnTo>
                      <a:lnTo>
                        <a:pt x="738" y="133"/>
                      </a:lnTo>
                      <a:lnTo>
                        <a:pt x="668" y="161"/>
                      </a:lnTo>
                      <a:lnTo>
                        <a:pt x="611" y="190"/>
                      </a:lnTo>
                      <a:lnTo>
                        <a:pt x="550" y="221"/>
                      </a:lnTo>
                      <a:lnTo>
                        <a:pt x="498" y="251"/>
                      </a:lnTo>
                      <a:lnTo>
                        <a:pt x="456" y="266"/>
                      </a:lnTo>
                      <a:lnTo>
                        <a:pt x="398" y="280"/>
                      </a:lnTo>
                      <a:lnTo>
                        <a:pt x="350" y="286"/>
                      </a:lnTo>
                      <a:lnTo>
                        <a:pt x="343" y="284"/>
                      </a:lnTo>
                      <a:lnTo>
                        <a:pt x="284" y="288"/>
                      </a:lnTo>
                      <a:lnTo>
                        <a:pt x="215" y="283"/>
                      </a:lnTo>
                      <a:lnTo>
                        <a:pt x="148" y="274"/>
                      </a:lnTo>
                      <a:lnTo>
                        <a:pt x="107" y="263"/>
                      </a:lnTo>
                      <a:lnTo>
                        <a:pt x="80" y="244"/>
                      </a:lnTo>
                      <a:lnTo>
                        <a:pt x="0" y="233"/>
                      </a:lnTo>
                      <a:lnTo>
                        <a:pt x="6" y="244"/>
                      </a:lnTo>
                      <a:lnTo>
                        <a:pt x="43" y="268"/>
                      </a:lnTo>
                      <a:lnTo>
                        <a:pt x="82" y="288"/>
                      </a:lnTo>
                      <a:lnTo>
                        <a:pt x="125" y="298"/>
                      </a:lnTo>
                      <a:lnTo>
                        <a:pt x="176" y="306"/>
                      </a:lnTo>
                      <a:lnTo>
                        <a:pt x="235" y="310"/>
                      </a:lnTo>
                      <a:lnTo>
                        <a:pt x="303" y="311"/>
                      </a:lnTo>
                      <a:lnTo>
                        <a:pt x="348" y="310"/>
                      </a:lnTo>
                      <a:lnTo>
                        <a:pt x="417" y="304"/>
                      </a:lnTo>
                      <a:lnTo>
                        <a:pt x="475" y="293"/>
                      </a:lnTo>
                      <a:lnTo>
                        <a:pt x="535" y="266"/>
                      </a:lnTo>
                      <a:lnTo>
                        <a:pt x="579" y="238"/>
                      </a:lnTo>
                      <a:lnTo>
                        <a:pt x="643" y="207"/>
                      </a:lnTo>
                      <a:lnTo>
                        <a:pt x="714" y="173"/>
                      </a:lnTo>
                      <a:lnTo>
                        <a:pt x="775" y="151"/>
                      </a:lnTo>
                      <a:lnTo>
                        <a:pt x="839" y="133"/>
                      </a:lnTo>
                      <a:lnTo>
                        <a:pt x="914" y="107"/>
                      </a:lnTo>
                      <a:lnTo>
                        <a:pt x="998" y="80"/>
                      </a:lnTo>
                      <a:lnTo>
                        <a:pt x="1074" y="60"/>
                      </a:lnTo>
                      <a:lnTo>
                        <a:pt x="1139" y="45"/>
                      </a:lnTo>
                      <a:lnTo>
                        <a:pt x="1190" y="37"/>
                      </a:lnTo>
                      <a:lnTo>
                        <a:pt x="1246" y="30"/>
                      </a:lnTo>
                      <a:lnTo>
                        <a:pt x="1315" y="27"/>
                      </a:lnTo>
                      <a:lnTo>
                        <a:pt x="1415" y="30"/>
                      </a:lnTo>
                      <a:lnTo>
                        <a:pt x="1506" y="37"/>
                      </a:lnTo>
                      <a:lnTo>
                        <a:pt x="1597" y="45"/>
                      </a:lnTo>
                      <a:lnTo>
                        <a:pt x="1673" y="60"/>
                      </a:lnTo>
                      <a:lnTo>
                        <a:pt x="1738" y="77"/>
                      </a:lnTo>
                      <a:lnTo>
                        <a:pt x="1799" y="98"/>
                      </a:lnTo>
                      <a:lnTo>
                        <a:pt x="1856" y="120"/>
                      </a:lnTo>
                      <a:lnTo>
                        <a:pt x="1912" y="137"/>
                      </a:lnTo>
                      <a:lnTo>
                        <a:pt x="1973" y="144"/>
                      </a:lnTo>
                      <a:lnTo>
                        <a:pt x="2040" y="154"/>
                      </a:lnTo>
                      <a:lnTo>
                        <a:pt x="2099" y="158"/>
                      </a:lnTo>
                      <a:lnTo>
                        <a:pt x="2163" y="158"/>
                      </a:lnTo>
                      <a:lnTo>
                        <a:pt x="2239" y="154"/>
                      </a:lnTo>
                      <a:lnTo>
                        <a:pt x="2304" y="150"/>
                      </a:lnTo>
                      <a:lnTo>
                        <a:pt x="2372" y="143"/>
                      </a:lnTo>
                      <a:lnTo>
                        <a:pt x="2432" y="128"/>
                      </a:lnTo>
                      <a:lnTo>
                        <a:pt x="2490" y="108"/>
                      </a:lnTo>
                      <a:lnTo>
                        <a:pt x="2530" y="93"/>
                      </a:lnTo>
                      <a:lnTo>
                        <a:pt x="2596" y="71"/>
                      </a:lnTo>
                      <a:lnTo>
                        <a:pt x="2660" y="55"/>
                      </a:lnTo>
                      <a:lnTo>
                        <a:pt x="2719" y="38"/>
                      </a:lnTo>
                      <a:lnTo>
                        <a:pt x="2768" y="30"/>
                      </a:lnTo>
                      <a:lnTo>
                        <a:pt x="2805" y="27"/>
                      </a:lnTo>
                      <a:lnTo>
                        <a:pt x="2847" y="28"/>
                      </a:lnTo>
                      <a:lnTo>
                        <a:pt x="2900" y="33"/>
                      </a:lnTo>
                      <a:lnTo>
                        <a:pt x="2945" y="38"/>
                      </a:lnTo>
                      <a:lnTo>
                        <a:pt x="2984" y="40"/>
                      </a:lnTo>
                      <a:lnTo>
                        <a:pt x="3005" y="31"/>
                      </a:lnTo>
                      <a:lnTo>
                        <a:pt x="3024" y="23"/>
                      </a:lnTo>
                      <a:lnTo>
                        <a:pt x="3026" y="13"/>
                      </a:lnTo>
                      <a:lnTo>
                        <a:pt x="3014" y="10"/>
                      </a:lnTo>
                      <a:lnTo>
                        <a:pt x="2982" y="1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7729560" y="800280"/>
                <a:ext cx="622440" cy="1066680"/>
                <a:chOff x="7729560" y="800280"/>
                <a:chExt cx="622440" cy="10666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7988400" y="903240"/>
                  <a:ext cx="150840" cy="185760"/>
                </a:xfrm>
                <a:custGeom>
                  <a:avLst/>
                  <a:gdLst/>
                  <a:ahLst/>
                  <a:rect l="l" t="t" r="r" b="b"/>
                  <a:pathLst>
                    <a:path w="380" h="350">
                      <a:moveTo>
                        <a:pt x="295" y="183"/>
                      </a:moveTo>
                      <a:lnTo>
                        <a:pt x="276" y="122"/>
                      </a:lnTo>
                      <a:lnTo>
                        <a:pt x="258" y="90"/>
                      </a:lnTo>
                      <a:lnTo>
                        <a:pt x="239" y="64"/>
                      </a:lnTo>
                      <a:lnTo>
                        <a:pt x="216" y="37"/>
                      </a:lnTo>
                      <a:lnTo>
                        <a:pt x="191" y="19"/>
                      </a:lnTo>
                      <a:lnTo>
                        <a:pt x="167" y="6"/>
                      </a:lnTo>
                      <a:lnTo>
                        <a:pt x="140" y="0"/>
                      </a:lnTo>
                      <a:lnTo>
                        <a:pt x="108" y="0"/>
                      </a:lnTo>
                      <a:lnTo>
                        <a:pt x="74" y="9"/>
                      </a:lnTo>
                      <a:lnTo>
                        <a:pt x="49" y="24"/>
                      </a:lnTo>
                      <a:lnTo>
                        <a:pt x="27" y="49"/>
                      </a:lnTo>
                      <a:lnTo>
                        <a:pt x="10" y="79"/>
                      </a:lnTo>
                      <a:lnTo>
                        <a:pt x="0" y="114"/>
                      </a:lnTo>
                      <a:lnTo>
                        <a:pt x="0" y="149"/>
                      </a:lnTo>
                      <a:lnTo>
                        <a:pt x="7" y="183"/>
                      </a:lnTo>
                      <a:lnTo>
                        <a:pt x="24" y="230"/>
                      </a:lnTo>
                      <a:lnTo>
                        <a:pt x="49" y="267"/>
                      </a:lnTo>
                      <a:lnTo>
                        <a:pt x="76" y="296"/>
                      </a:lnTo>
                      <a:lnTo>
                        <a:pt x="113" y="322"/>
                      </a:lnTo>
                      <a:lnTo>
                        <a:pt x="144" y="339"/>
                      </a:lnTo>
                      <a:lnTo>
                        <a:pt x="177" y="347"/>
                      </a:lnTo>
                      <a:lnTo>
                        <a:pt x="208" y="350"/>
                      </a:lnTo>
                      <a:lnTo>
                        <a:pt x="231" y="345"/>
                      </a:lnTo>
                      <a:lnTo>
                        <a:pt x="253" y="332"/>
                      </a:lnTo>
                      <a:lnTo>
                        <a:pt x="270" y="317"/>
                      </a:lnTo>
                      <a:lnTo>
                        <a:pt x="279" y="297"/>
                      </a:lnTo>
                      <a:lnTo>
                        <a:pt x="282" y="272"/>
                      </a:lnTo>
                      <a:lnTo>
                        <a:pt x="285" y="239"/>
                      </a:lnTo>
                      <a:lnTo>
                        <a:pt x="326" y="259"/>
                      </a:lnTo>
                      <a:lnTo>
                        <a:pt x="363" y="266"/>
                      </a:lnTo>
                      <a:lnTo>
                        <a:pt x="380" y="257"/>
                      </a:lnTo>
                      <a:lnTo>
                        <a:pt x="378" y="239"/>
                      </a:lnTo>
                      <a:lnTo>
                        <a:pt x="370" y="220"/>
                      </a:lnTo>
                      <a:lnTo>
                        <a:pt x="348" y="207"/>
                      </a:lnTo>
                      <a:lnTo>
                        <a:pt x="319" y="200"/>
                      </a:lnTo>
                      <a:lnTo>
                        <a:pt x="297" y="190"/>
                      </a:lnTo>
                      <a:lnTo>
                        <a:pt x="295" y="1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8047080" y="1141560"/>
                  <a:ext cx="164880" cy="403200"/>
                </a:xfrm>
                <a:custGeom>
                  <a:avLst/>
                  <a:gdLst/>
                  <a:ahLst/>
                  <a:rect l="l" t="t" r="r" b="b"/>
                  <a:pathLst>
                    <a:path w="415" h="760">
                      <a:moveTo>
                        <a:pt x="15" y="55"/>
                      </a:moveTo>
                      <a:lnTo>
                        <a:pt x="32" y="30"/>
                      </a:lnTo>
                      <a:lnTo>
                        <a:pt x="54" y="12"/>
                      </a:lnTo>
                      <a:lnTo>
                        <a:pt x="82" y="0"/>
                      </a:lnTo>
                      <a:lnTo>
                        <a:pt x="119" y="0"/>
                      </a:lnTo>
                      <a:lnTo>
                        <a:pt x="155" y="0"/>
                      </a:lnTo>
                      <a:lnTo>
                        <a:pt x="191" y="9"/>
                      </a:lnTo>
                      <a:lnTo>
                        <a:pt x="226" y="26"/>
                      </a:lnTo>
                      <a:lnTo>
                        <a:pt x="256" y="53"/>
                      </a:lnTo>
                      <a:lnTo>
                        <a:pt x="289" y="90"/>
                      </a:lnTo>
                      <a:lnTo>
                        <a:pt x="317" y="135"/>
                      </a:lnTo>
                      <a:lnTo>
                        <a:pt x="340" y="178"/>
                      </a:lnTo>
                      <a:lnTo>
                        <a:pt x="361" y="225"/>
                      </a:lnTo>
                      <a:lnTo>
                        <a:pt x="374" y="274"/>
                      </a:lnTo>
                      <a:lnTo>
                        <a:pt x="384" y="318"/>
                      </a:lnTo>
                      <a:lnTo>
                        <a:pt x="398" y="368"/>
                      </a:lnTo>
                      <a:lnTo>
                        <a:pt x="408" y="417"/>
                      </a:lnTo>
                      <a:lnTo>
                        <a:pt x="413" y="467"/>
                      </a:lnTo>
                      <a:lnTo>
                        <a:pt x="415" y="515"/>
                      </a:lnTo>
                      <a:lnTo>
                        <a:pt x="415" y="560"/>
                      </a:lnTo>
                      <a:lnTo>
                        <a:pt x="408" y="604"/>
                      </a:lnTo>
                      <a:lnTo>
                        <a:pt x="400" y="644"/>
                      </a:lnTo>
                      <a:lnTo>
                        <a:pt x="384" y="678"/>
                      </a:lnTo>
                      <a:lnTo>
                        <a:pt x="366" y="703"/>
                      </a:lnTo>
                      <a:lnTo>
                        <a:pt x="344" y="723"/>
                      </a:lnTo>
                      <a:lnTo>
                        <a:pt x="319" y="740"/>
                      </a:lnTo>
                      <a:lnTo>
                        <a:pt x="287" y="751"/>
                      </a:lnTo>
                      <a:lnTo>
                        <a:pt x="253" y="760"/>
                      </a:lnTo>
                      <a:lnTo>
                        <a:pt x="219" y="760"/>
                      </a:lnTo>
                      <a:lnTo>
                        <a:pt x="187" y="756"/>
                      </a:lnTo>
                      <a:lnTo>
                        <a:pt x="158" y="748"/>
                      </a:lnTo>
                      <a:lnTo>
                        <a:pt x="138" y="738"/>
                      </a:lnTo>
                      <a:lnTo>
                        <a:pt x="121" y="721"/>
                      </a:lnTo>
                      <a:lnTo>
                        <a:pt x="112" y="700"/>
                      </a:lnTo>
                      <a:lnTo>
                        <a:pt x="102" y="670"/>
                      </a:lnTo>
                      <a:lnTo>
                        <a:pt x="99" y="644"/>
                      </a:lnTo>
                      <a:lnTo>
                        <a:pt x="101" y="603"/>
                      </a:lnTo>
                      <a:lnTo>
                        <a:pt x="106" y="571"/>
                      </a:lnTo>
                      <a:lnTo>
                        <a:pt x="118" y="541"/>
                      </a:lnTo>
                      <a:lnTo>
                        <a:pt x="129" y="511"/>
                      </a:lnTo>
                      <a:lnTo>
                        <a:pt x="133" y="478"/>
                      </a:lnTo>
                      <a:lnTo>
                        <a:pt x="135" y="440"/>
                      </a:lnTo>
                      <a:lnTo>
                        <a:pt x="126" y="397"/>
                      </a:lnTo>
                      <a:lnTo>
                        <a:pt x="105" y="355"/>
                      </a:lnTo>
                      <a:lnTo>
                        <a:pt x="78" y="315"/>
                      </a:lnTo>
                      <a:lnTo>
                        <a:pt x="44" y="280"/>
                      </a:lnTo>
                      <a:lnTo>
                        <a:pt x="25" y="250"/>
                      </a:lnTo>
                      <a:lnTo>
                        <a:pt x="10" y="212"/>
                      </a:lnTo>
                      <a:lnTo>
                        <a:pt x="1" y="169"/>
                      </a:lnTo>
                      <a:lnTo>
                        <a:pt x="0" y="128"/>
                      </a:lnTo>
                      <a:lnTo>
                        <a:pt x="1" y="89"/>
                      </a:lnTo>
                      <a:lnTo>
                        <a:pt x="15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8093160" y="800280"/>
                  <a:ext cx="258840" cy="369720"/>
                </a:xfrm>
                <a:custGeom>
                  <a:avLst/>
                  <a:gdLst/>
                  <a:ahLst/>
                  <a:rect l="l" t="t" r="r" b="b"/>
                  <a:pathLst>
                    <a:path w="653" h="699">
                      <a:moveTo>
                        <a:pt x="3" y="666"/>
                      </a:moveTo>
                      <a:lnTo>
                        <a:pt x="40" y="631"/>
                      </a:lnTo>
                      <a:lnTo>
                        <a:pt x="77" y="602"/>
                      </a:lnTo>
                      <a:lnTo>
                        <a:pt x="134" y="569"/>
                      </a:lnTo>
                      <a:lnTo>
                        <a:pt x="192" y="548"/>
                      </a:lnTo>
                      <a:lnTo>
                        <a:pt x="241" y="531"/>
                      </a:lnTo>
                      <a:lnTo>
                        <a:pt x="300" y="516"/>
                      </a:lnTo>
                      <a:lnTo>
                        <a:pt x="333" y="508"/>
                      </a:lnTo>
                      <a:lnTo>
                        <a:pt x="352" y="502"/>
                      </a:lnTo>
                      <a:lnTo>
                        <a:pt x="360" y="489"/>
                      </a:lnTo>
                      <a:lnTo>
                        <a:pt x="364" y="469"/>
                      </a:lnTo>
                      <a:lnTo>
                        <a:pt x="367" y="422"/>
                      </a:lnTo>
                      <a:lnTo>
                        <a:pt x="373" y="378"/>
                      </a:lnTo>
                      <a:lnTo>
                        <a:pt x="384" y="333"/>
                      </a:lnTo>
                      <a:lnTo>
                        <a:pt x="394" y="296"/>
                      </a:lnTo>
                      <a:lnTo>
                        <a:pt x="418" y="253"/>
                      </a:lnTo>
                      <a:lnTo>
                        <a:pt x="438" y="223"/>
                      </a:lnTo>
                      <a:lnTo>
                        <a:pt x="467" y="185"/>
                      </a:lnTo>
                      <a:lnTo>
                        <a:pt x="484" y="155"/>
                      </a:lnTo>
                      <a:lnTo>
                        <a:pt x="485" y="132"/>
                      </a:lnTo>
                      <a:lnTo>
                        <a:pt x="484" y="110"/>
                      </a:lnTo>
                      <a:lnTo>
                        <a:pt x="485" y="105"/>
                      </a:lnTo>
                      <a:lnTo>
                        <a:pt x="485" y="100"/>
                      </a:lnTo>
                      <a:lnTo>
                        <a:pt x="484" y="95"/>
                      </a:lnTo>
                      <a:lnTo>
                        <a:pt x="482" y="90"/>
                      </a:lnTo>
                      <a:lnTo>
                        <a:pt x="478" y="85"/>
                      </a:lnTo>
                      <a:lnTo>
                        <a:pt x="478" y="80"/>
                      </a:lnTo>
                      <a:lnTo>
                        <a:pt x="474" y="77"/>
                      </a:lnTo>
                      <a:lnTo>
                        <a:pt x="468" y="73"/>
                      </a:lnTo>
                      <a:lnTo>
                        <a:pt x="465" y="69"/>
                      </a:lnTo>
                      <a:lnTo>
                        <a:pt x="460" y="67"/>
                      </a:lnTo>
                      <a:lnTo>
                        <a:pt x="455" y="65"/>
                      </a:lnTo>
                      <a:lnTo>
                        <a:pt x="450" y="62"/>
                      </a:lnTo>
                      <a:lnTo>
                        <a:pt x="444" y="60"/>
                      </a:lnTo>
                      <a:lnTo>
                        <a:pt x="440" y="57"/>
                      </a:lnTo>
                      <a:lnTo>
                        <a:pt x="437" y="52"/>
                      </a:lnTo>
                      <a:lnTo>
                        <a:pt x="431" y="49"/>
                      </a:lnTo>
                      <a:lnTo>
                        <a:pt x="424" y="43"/>
                      </a:lnTo>
                      <a:lnTo>
                        <a:pt x="424" y="39"/>
                      </a:lnTo>
                      <a:lnTo>
                        <a:pt x="424" y="33"/>
                      </a:lnTo>
                      <a:lnTo>
                        <a:pt x="424" y="29"/>
                      </a:lnTo>
                      <a:lnTo>
                        <a:pt x="424" y="23"/>
                      </a:lnTo>
                      <a:lnTo>
                        <a:pt x="424" y="19"/>
                      </a:lnTo>
                      <a:lnTo>
                        <a:pt x="428" y="13"/>
                      </a:lnTo>
                      <a:lnTo>
                        <a:pt x="431" y="9"/>
                      </a:lnTo>
                      <a:lnTo>
                        <a:pt x="438" y="6"/>
                      </a:lnTo>
                      <a:lnTo>
                        <a:pt x="443" y="2"/>
                      </a:lnTo>
                      <a:lnTo>
                        <a:pt x="448" y="0"/>
                      </a:lnTo>
                      <a:lnTo>
                        <a:pt x="453" y="0"/>
                      </a:lnTo>
                      <a:lnTo>
                        <a:pt x="458" y="0"/>
                      </a:lnTo>
                      <a:lnTo>
                        <a:pt x="464" y="2"/>
                      </a:lnTo>
                      <a:lnTo>
                        <a:pt x="468" y="3"/>
                      </a:lnTo>
                      <a:lnTo>
                        <a:pt x="474" y="7"/>
                      </a:lnTo>
                      <a:lnTo>
                        <a:pt x="478" y="10"/>
                      </a:lnTo>
                      <a:lnTo>
                        <a:pt x="482" y="16"/>
                      </a:lnTo>
                      <a:lnTo>
                        <a:pt x="487" y="19"/>
                      </a:lnTo>
                      <a:lnTo>
                        <a:pt x="488" y="23"/>
                      </a:lnTo>
                      <a:lnTo>
                        <a:pt x="492" y="29"/>
                      </a:lnTo>
                      <a:lnTo>
                        <a:pt x="494" y="33"/>
                      </a:lnTo>
                      <a:lnTo>
                        <a:pt x="495" y="39"/>
                      </a:lnTo>
                      <a:lnTo>
                        <a:pt x="498" y="43"/>
                      </a:lnTo>
                      <a:lnTo>
                        <a:pt x="501" y="49"/>
                      </a:lnTo>
                      <a:lnTo>
                        <a:pt x="502" y="53"/>
                      </a:lnTo>
                      <a:lnTo>
                        <a:pt x="502" y="59"/>
                      </a:lnTo>
                      <a:lnTo>
                        <a:pt x="504" y="63"/>
                      </a:lnTo>
                      <a:lnTo>
                        <a:pt x="508" y="67"/>
                      </a:lnTo>
                      <a:lnTo>
                        <a:pt x="514" y="70"/>
                      </a:lnTo>
                      <a:lnTo>
                        <a:pt x="519" y="73"/>
                      </a:lnTo>
                      <a:lnTo>
                        <a:pt x="524" y="75"/>
                      </a:lnTo>
                      <a:lnTo>
                        <a:pt x="529" y="72"/>
                      </a:lnTo>
                      <a:lnTo>
                        <a:pt x="534" y="70"/>
                      </a:lnTo>
                      <a:lnTo>
                        <a:pt x="538" y="63"/>
                      </a:lnTo>
                      <a:lnTo>
                        <a:pt x="541" y="59"/>
                      </a:lnTo>
                      <a:lnTo>
                        <a:pt x="542" y="53"/>
                      </a:lnTo>
                      <a:lnTo>
                        <a:pt x="542" y="49"/>
                      </a:lnTo>
                      <a:lnTo>
                        <a:pt x="544" y="43"/>
                      </a:lnTo>
                      <a:lnTo>
                        <a:pt x="546" y="39"/>
                      </a:lnTo>
                      <a:lnTo>
                        <a:pt x="548" y="33"/>
                      </a:lnTo>
                      <a:lnTo>
                        <a:pt x="551" y="29"/>
                      </a:lnTo>
                      <a:lnTo>
                        <a:pt x="556" y="23"/>
                      </a:lnTo>
                      <a:lnTo>
                        <a:pt x="561" y="19"/>
                      </a:lnTo>
                      <a:lnTo>
                        <a:pt x="566" y="17"/>
                      </a:lnTo>
                      <a:lnTo>
                        <a:pt x="571" y="16"/>
                      </a:lnTo>
                      <a:lnTo>
                        <a:pt x="578" y="16"/>
                      </a:lnTo>
                      <a:lnTo>
                        <a:pt x="583" y="16"/>
                      </a:lnTo>
                      <a:lnTo>
                        <a:pt x="588" y="16"/>
                      </a:lnTo>
                      <a:lnTo>
                        <a:pt x="593" y="17"/>
                      </a:lnTo>
                      <a:lnTo>
                        <a:pt x="598" y="19"/>
                      </a:lnTo>
                      <a:lnTo>
                        <a:pt x="603" y="23"/>
                      </a:lnTo>
                      <a:lnTo>
                        <a:pt x="605" y="29"/>
                      </a:lnTo>
                      <a:lnTo>
                        <a:pt x="605" y="33"/>
                      </a:lnTo>
                      <a:lnTo>
                        <a:pt x="606" y="39"/>
                      </a:lnTo>
                      <a:lnTo>
                        <a:pt x="606" y="43"/>
                      </a:lnTo>
                      <a:lnTo>
                        <a:pt x="605" y="49"/>
                      </a:lnTo>
                      <a:lnTo>
                        <a:pt x="602" y="53"/>
                      </a:lnTo>
                      <a:lnTo>
                        <a:pt x="596" y="57"/>
                      </a:lnTo>
                      <a:lnTo>
                        <a:pt x="592" y="62"/>
                      </a:lnTo>
                      <a:lnTo>
                        <a:pt x="586" y="65"/>
                      </a:lnTo>
                      <a:lnTo>
                        <a:pt x="583" y="70"/>
                      </a:lnTo>
                      <a:lnTo>
                        <a:pt x="578" y="75"/>
                      </a:lnTo>
                      <a:lnTo>
                        <a:pt x="573" y="80"/>
                      </a:lnTo>
                      <a:lnTo>
                        <a:pt x="568" y="83"/>
                      </a:lnTo>
                      <a:lnTo>
                        <a:pt x="566" y="89"/>
                      </a:lnTo>
                      <a:lnTo>
                        <a:pt x="562" y="93"/>
                      </a:lnTo>
                      <a:lnTo>
                        <a:pt x="559" y="99"/>
                      </a:lnTo>
                      <a:lnTo>
                        <a:pt x="559" y="103"/>
                      </a:lnTo>
                      <a:lnTo>
                        <a:pt x="559" y="109"/>
                      </a:lnTo>
                      <a:lnTo>
                        <a:pt x="565" y="110"/>
                      </a:lnTo>
                      <a:lnTo>
                        <a:pt x="569" y="112"/>
                      </a:lnTo>
                      <a:lnTo>
                        <a:pt x="576" y="110"/>
                      </a:lnTo>
                      <a:lnTo>
                        <a:pt x="582" y="110"/>
                      </a:lnTo>
                      <a:lnTo>
                        <a:pt x="586" y="109"/>
                      </a:lnTo>
                      <a:lnTo>
                        <a:pt x="593" y="107"/>
                      </a:lnTo>
                      <a:lnTo>
                        <a:pt x="599" y="105"/>
                      </a:lnTo>
                      <a:lnTo>
                        <a:pt x="605" y="103"/>
                      </a:lnTo>
                      <a:lnTo>
                        <a:pt x="610" y="102"/>
                      </a:lnTo>
                      <a:lnTo>
                        <a:pt x="616" y="102"/>
                      </a:lnTo>
                      <a:lnTo>
                        <a:pt x="622" y="102"/>
                      </a:lnTo>
                      <a:lnTo>
                        <a:pt x="626" y="102"/>
                      </a:lnTo>
                      <a:lnTo>
                        <a:pt x="633" y="103"/>
                      </a:lnTo>
                      <a:lnTo>
                        <a:pt x="642" y="105"/>
                      </a:lnTo>
                      <a:lnTo>
                        <a:pt x="646" y="110"/>
                      </a:lnTo>
                      <a:lnTo>
                        <a:pt x="650" y="113"/>
                      </a:lnTo>
                      <a:lnTo>
                        <a:pt x="652" y="119"/>
                      </a:lnTo>
                      <a:lnTo>
                        <a:pt x="653" y="125"/>
                      </a:lnTo>
                      <a:lnTo>
                        <a:pt x="652" y="130"/>
                      </a:lnTo>
                      <a:lnTo>
                        <a:pt x="650" y="135"/>
                      </a:lnTo>
                      <a:lnTo>
                        <a:pt x="646" y="140"/>
                      </a:lnTo>
                      <a:lnTo>
                        <a:pt x="642" y="145"/>
                      </a:lnTo>
                      <a:lnTo>
                        <a:pt x="637" y="145"/>
                      </a:lnTo>
                      <a:lnTo>
                        <a:pt x="630" y="150"/>
                      </a:lnTo>
                      <a:lnTo>
                        <a:pt x="625" y="152"/>
                      </a:lnTo>
                      <a:lnTo>
                        <a:pt x="620" y="153"/>
                      </a:lnTo>
                      <a:lnTo>
                        <a:pt x="615" y="155"/>
                      </a:lnTo>
                      <a:lnTo>
                        <a:pt x="610" y="155"/>
                      </a:lnTo>
                      <a:lnTo>
                        <a:pt x="603" y="155"/>
                      </a:lnTo>
                      <a:lnTo>
                        <a:pt x="596" y="156"/>
                      </a:lnTo>
                      <a:lnTo>
                        <a:pt x="589" y="156"/>
                      </a:lnTo>
                      <a:lnTo>
                        <a:pt x="585" y="156"/>
                      </a:lnTo>
                      <a:lnTo>
                        <a:pt x="579" y="156"/>
                      </a:lnTo>
                      <a:lnTo>
                        <a:pt x="575" y="155"/>
                      </a:lnTo>
                      <a:lnTo>
                        <a:pt x="569" y="155"/>
                      </a:lnTo>
                      <a:lnTo>
                        <a:pt x="565" y="155"/>
                      </a:lnTo>
                      <a:lnTo>
                        <a:pt x="559" y="153"/>
                      </a:lnTo>
                      <a:lnTo>
                        <a:pt x="555" y="156"/>
                      </a:lnTo>
                      <a:lnTo>
                        <a:pt x="549" y="159"/>
                      </a:lnTo>
                      <a:lnTo>
                        <a:pt x="544" y="162"/>
                      </a:lnTo>
                      <a:lnTo>
                        <a:pt x="539" y="165"/>
                      </a:lnTo>
                      <a:lnTo>
                        <a:pt x="535" y="170"/>
                      </a:lnTo>
                      <a:lnTo>
                        <a:pt x="508" y="183"/>
                      </a:lnTo>
                      <a:lnTo>
                        <a:pt x="482" y="220"/>
                      </a:lnTo>
                      <a:lnTo>
                        <a:pt x="460" y="259"/>
                      </a:lnTo>
                      <a:lnTo>
                        <a:pt x="440" y="318"/>
                      </a:lnTo>
                      <a:lnTo>
                        <a:pt x="433" y="373"/>
                      </a:lnTo>
                      <a:lnTo>
                        <a:pt x="430" y="448"/>
                      </a:lnTo>
                      <a:lnTo>
                        <a:pt x="428" y="493"/>
                      </a:lnTo>
                      <a:lnTo>
                        <a:pt x="424" y="516"/>
                      </a:lnTo>
                      <a:lnTo>
                        <a:pt x="414" y="536"/>
                      </a:lnTo>
                      <a:lnTo>
                        <a:pt x="403" y="549"/>
                      </a:lnTo>
                      <a:lnTo>
                        <a:pt x="380" y="565"/>
                      </a:lnTo>
                      <a:lnTo>
                        <a:pt x="339" y="585"/>
                      </a:lnTo>
                      <a:lnTo>
                        <a:pt x="293" y="601"/>
                      </a:lnTo>
                      <a:lnTo>
                        <a:pt x="252" y="618"/>
                      </a:lnTo>
                      <a:lnTo>
                        <a:pt x="218" y="631"/>
                      </a:lnTo>
                      <a:lnTo>
                        <a:pt x="170" y="651"/>
                      </a:lnTo>
                      <a:lnTo>
                        <a:pt x="131" y="668"/>
                      </a:lnTo>
                      <a:lnTo>
                        <a:pt x="97" y="688"/>
                      </a:lnTo>
                      <a:lnTo>
                        <a:pt x="60" y="699"/>
                      </a:lnTo>
                      <a:lnTo>
                        <a:pt x="31" y="698"/>
                      </a:lnTo>
                      <a:lnTo>
                        <a:pt x="11" y="691"/>
                      </a:lnTo>
                      <a:lnTo>
                        <a:pt x="0" y="682"/>
                      </a:lnTo>
                      <a:lnTo>
                        <a:pt x="3" y="6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729560" y="1015920"/>
                  <a:ext cx="352440" cy="204840"/>
                </a:xfrm>
                <a:custGeom>
                  <a:avLst/>
                  <a:gdLst/>
                  <a:ahLst/>
                  <a:rect l="l" t="t" r="r" b="b"/>
                  <a:pathLst>
                    <a:path w="891" h="387">
                      <a:moveTo>
                        <a:pt x="719" y="292"/>
                      </a:moveTo>
                      <a:lnTo>
                        <a:pt x="775" y="270"/>
                      </a:lnTo>
                      <a:lnTo>
                        <a:pt x="829" y="259"/>
                      </a:lnTo>
                      <a:lnTo>
                        <a:pt x="864" y="257"/>
                      </a:lnTo>
                      <a:lnTo>
                        <a:pt x="881" y="269"/>
                      </a:lnTo>
                      <a:lnTo>
                        <a:pt x="891" y="292"/>
                      </a:lnTo>
                      <a:lnTo>
                        <a:pt x="884" y="317"/>
                      </a:lnTo>
                      <a:lnTo>
                        <a:pt x="854" y="339"/>
                      </a:lnTo>
                      <a:lnTo>
                        <a:pt x="817" y="349"/>
                      </a:lnTo>
                      <a:lnTo>
                        <a:pt x="772" y="355"/>
                      </a:lnTo>
                      <a:lnTo>
                        <a:pt x="716" y="359"/>
                      </a:lnTo>
                      <a:lnTo>
                        <a:pt x="650" y="367"/>
                      </a:lnTo>
                      <a:lnTo>
                        <a:pt x="594" y="373"/>
                      </a:lnTo>
                      <a:lnTo>
                        <a:pt x="544" y="383"/>
                      </a:lnTo>
                      <a:lnTo>
                        <a:pt x="510" y="385"/>
                      </a:lnTo>
                      <a:lnTo>
                        <a:pt x="506" y="387"/>
                      </a:lnTo>
                      <a:lnTo>
                        <a:pt x="483" y="377"/>
                      </a:lnTo>
                      <a:lnTo>
                        <a:pt x="470" y="357"/>
                      </a:lnTo>
                      <a:lnTo>
                        <a:pt x="453" y="330"/>
                      </a:lnTo>
                      <a:lnTo>
                        <a:pt x="426" y="289"/>
                      </a:lnTo>
                      <a:lnTo>
                        <a:pt x="396" y="262"/>
                      </a:lnTo>
                      <a:lnTo>
                        <a:pt x="364" y="236"/>
                      </a:lnTo>
                      <a:lnTo>
                        <a:pt x="321" y="216"/>
                      </a:lnTo>
                      <a:lnTo>
                        <a:pt x="288" y="202"/>
                      </a:lnTo>
                      <a:lnTo>
                        <a:pt x="283" y="202"/>
                      </a:lnTo>
                      <a:lnTo>
                        <a:pt x="230" y="187"/>
                      </a:lnTo>
                      <a:lnTo>
                        <a:pt x="197" y="183"/>
                      </a:lnTo>
                      <a:lnTo>
                        <a:pt x="192" y="187"/>
                      </a:lnTo>
                      <a:lnTo>
                        <a:pt x="187" y="187"/>
                      </a:lnTo>
                      <a:lnTo>
                        <a:pt x="180" y="187"/>
                      </a:lnTo>
                      <a:lnTo>
                        <a:pt x="173" y="189"/>
                      </a:lnTo>
                      <a:lnTo>
                        <a:pt x="169" y="193"/>
                      </a:lnTo>
                      <a:lnTo>
                        <a:pt x="163" y="197"/>
                      </a:lnTo>
                      <a:lnTo>
                        <a:pt x="159" y="202"/>
                      </a:lnTo>
                      <a:lnTo>
                        <a:pt x="152" y="209"/>
                      </a:lnTo>
                      <a:lnTo>
                        <a:pt x="146" y="210"/>
                      </a:lnTo>
                      <a:lnTo>
                        <a:pt x="143" y="216"/>
                      </a:lnTo>
                      <a:lnTo>
                        <a:pt x="139" y="220"/>
                      </a:lnTo>
                      <a:lnTo>
                        <a:pt x="133" y="223"/>
                      </a:lnTo>
                      <a:lnTo>
                        <a:pt x="128" y="230"/>
                      </a:lnTo>
                      <a:lnTo>
                        <a:pt x="123" y="236"/>
                      </a:lnTo>
                      <a:lnTo>
                        <a:pt x="118" y="240"/>
                      </a:lnTo>
                      <a:lnTo>
                        <a:pt x="115" y="246"/>
                      </a:lnTo>
                      <a:lnTo>
                        <a:pt x="108" y="249"/>
                      </a:lnTo>
                      <a:lnTo>
                        <a:pt x="101" y="252"/>
                      </a:lnTo>
                      <a:lnTo>
                        <a:pt x="96" y="253"/>
                      </a:lnTo>
                      <a:lnTo>
                        <a:pt x="89" y="253"/>
                      </a:lnTo>
                      <a:lnTo>
                        <a:pt x="82" y="256"/>
                      </a:lnTo>
                      <a:lnTo>
                        <a:pt x="78" y="256"/>
                      </a:lnTo>
                      <a:lnTo>
                        <a:pt x="71" y="253"/>
                      </a:lnTo>
                      <a:lnTo>
                        <a:pt x="62" y="252"/>
                      </a:lnTo>
                      <a:lnTo>
                        <a:pt x="59" y="247"/>
                      </a:lnTo>
                      <a:lnTo>
                        <a:pt x="52" y="242"/>
                      </a:lnTo>
                      <a:lnTo>
                        <a:pt x="48" y="237"/>
                      </a:lnTo>
                      <a:lnTo>
                        <a:pt x="47" y="232"/>
                      </a:lnTo>
                      <a:lnTo>
                        <a:pt x="47" y="227"/>
                      </a:lnTo>
                      <a:lnTo>
                        <a:pt x="48" y="222"/>
                      </a:lnTo>
                      <a:lnTo>
                        <a:pt x="52" y="217"/>
                      </a:lnTo>
                      <a:lnTo>
                        <a:pt x="57" y="216"/>
                      </a:lnTo>
                      <a:lnTo>
                        <a:pt x="62" y="209"/>
                      </a:lnTo>
                      <a:lnTo>
                        <a:pt x="71" y="203"/>
                      </a:lnTo>
                      <a:lnTo>
                        <a:pt x="75" y="203"/>
                      </a:lnTo>
                      <a:lnTo>
                        <a:pt x="81" y="202"/>
                      </a:lnTo>
                      <a:lnTo>
                        <a:pt x="88" y="199"/>
                      </a:lnTo>
                      <a:lnTo>
                        <a:pt x="92" y="196"/>
                      </a:lnTo>
                      <a:lnTo>
                        <a:pt x="98" y="193"/>
                      </a:lnTo>
                      <a:lnTo>
                        <a:pt x="102" y="190"/>
                      </a:lnTo>
                      <a:lnTo>
                        <a:pt x="109" y="187"/>
                      </a:lnTo>
                      <a:lnTo>
                        <a:pt x="115" y="186"/>
                      </a:lnTo>
                      <a:lnTo>
                        <a:pt x="119" y="182"/>
                      </a:lnTo>
                      <a:lnTo>
                        <a:pt x="125" y="179"/>
                      </a:lnTo>
                      <a:lnTo>
                        <a:pt x="129" y="177"/>
                      </a:lnTo>
                      <a:lnTo>
                        <a:pt x="133" y="172"/>
                      </a:lnTo>
                      <a:lnTo>
                        <a:pt x="133" y="167"/>
                      </a:lnTo>
                      <a:lnTo>
                        <a:pt x="129" y="162"/>
                      </a:lnTo>
                      <a:lnTo>
                        <a:pt x="125" y="159"/>
                      </a:lnTo>
                      <a:lnTo>
                        <a:pt x="119" y="157"/>
                      </a:lnTo>
                      <a:lnTo>
                        <a:pt x="115" y="156"/>
                      </a:lnTo>
                      <a:lnTo>
                        <a:pt x="109" y="156"/>
                      </a:lnTo>
                      <a:lnTo>
                        <a:pt x="105" y="156"/>
                      </a:lnTo>
                      <a:lnTo>
                        <a:pt x="99" y="156"/>
                      </a:lnTo>
                      <a:lnTo>
                        <a:pt x="94" y="156"/>
                      </a:lnTo>
                      <a:lnTo>
                        <a:pt x="89" y="156"/>
                      </a:lnTo>
                      <a:lnTo>
                        <a:pt x="82" y="156"/>
                      </a:lnTo>
                      <a:lnTo>
                        <a:pt x="78" y="156"/>
                      </a:lnTo>
                      <a:lnTo>
                        <a:pt x="72" y="156"/>
                      </a:lnTo>
                      <a:lnTo>
                        <a:pt x="68" y="156"/>
                      </a:lnTo>
                      <a:lnTo>
                        <a:pt x="62" y="156"/>
                      </a:lnTo>
                      <a:lnTo>
                        <a:pt x="55" y="156"/>
                      </a:lnTo>
                      <a:lnTo>
                        <a:pt x="48" y="156"/>
                      </a:lnTo>
                      <a:lnTo>
                        <a:pt x="42" y="156"/>
                      </a:lnTo>
                      <a:lnTo>
                        <a:pt x="37" y="156"/>
                      </a:lnTo>
                      <a:lnTo>
                        <a:pt x="32" y="156"/>
                      </a:lnTo>
                      <a:lnTo>
                        <a:pt x="27" y="156"/>
                      </a:lnTo>
                      <a:lnTo>
                        <a:pt x="18" y="152"/>
                      </a:lnTo>
                      <a:lnTo>
                        <a:pt x="14" y="150"/>
                      </a:lnTo>
                      <a:lnTo>
                        <a:pt x="8" y="149"/>
                      </a:lnTo>
                      <a:lnTo>
                        <a:pt x="7" y="144"/>
                      </a:lnTo>
                      <a:lnTo>
                        <a:pt x="1" y="137"/>
                      </a:lnTo>
                      <a:lnTo>
                        <a:pt x="0" y="132"/>
                      </a:lnTo>
                      <a:lnTo>
                        <a:pt x="0" y="127"/>
                      </a:lnTo>
                      <a:lnTo>
                        <a:pt x="1" y="120"/>
                      </a:lnTo>
                      <a:lnTo>
                        <a:pt x="4" y="116"/>
                      </a:lnTo>
                      <a:lnTo>
                        <a:pt x="5" y="110"/>
                      </a:lnTo>
                      <a:lnTo>
                        <a:pt x="10" y="107"/>
                      </a:lnTo>
                      <a:lnTo>
                        <a:pt x="15" y="104"/>
                      </a:lnTo>
                      <a:lnTo>
                        <a:pt x="21" y="102"/>
                      </a:lnTo>
                      <a:lnTo>
                        <a:pt x="32" y="99"/>
                      </a:lnTo>
                      <a:lnTo>
                        <a:pt x="38" y="99"/>
                      </a:lnTo>
                      <a:lnTo>
                        <a:pt x="44" y="97"/>
                      </a:lnTo>
                      <a:lnTo>
                        <a:pt x="48" y="96"/>
                      </a:lnTo>
                      <a:lnTo>
                        <a:pt x="55" y="96"/>
                      </a:lnTo>
                      <a:lnTo>
                        <a:pt x="62" y="96"/>
                      </a:lnTo>
                      <a:lnTo>
                        <a:pt x="69" y="96"/>
                      </a:lnTo>
                      <a:lnTo>
                        <a:pt x="75" y="96"/>
                      </a:lnTo>
                      <a:lnTo>
                        <a:pt x="81" y="96"/>
                      </a:lnTo>
                      <a:lnTo>
                        <a:pt x="85" y="96"/>
                      </a:lnTo>
                      <a:lnTo>
                        <a:pt x="92" y="99"/>
                      </a:lnTo>
                      <a:lnTo>
                        <a:pt x="98" y="100"/>
                      </a:lnTo>
                      <a:lnTo>
                        <a:pt x="102" y="102"/>
                      </a:lnTo>
                      <a:lnTo>
                        <a:pt x="109" y="106"/>
                      </a:lnTo>
                      <a:lnTo>
                        <a:pt x="115" y="107"/>
                      </a:lnTo>
                      <a:lnTo>
                        <a:pt x="119" y="110"/>
                      </a:lnTo>
                      <a:lnTo>
                        <a:pt x="125" y="114"/>
                      </a:lnTo>
                      <a:lnTo>
                        <a:pt x="129" y="116"/>
                      </a:lnTo>
                      <a:lnTo>
                        <a:pt x="135" y="119"/>
                      </a:lnTo>
                      <a:lnTo>
                        <a:pt x="139" y="120"/>
                      </a:lnTo>
                      <a:lnTo>
                        <a:pt x="146" y="122"/>
                      </a:lnTo>
                      <a:lnTo>
                        <a:pt x="152" y="126"/>
                      </a:lnTo>
                      <a:lnTo>
                        <a:pt x="156" y="126"/>
                      </a:lnTo>
                      <a:lnTo>
                        <a:pt x="162" y="126"/>
                      </a:lnTo>
                      <a:lnTo>
                        <a:pt x="166" y="122"/>
                      </a:lnTo>
                      <a:lnTo>
                        <a:pt x="172" y="119"/>
                      </a:lnTo>
                      <a:lnTo>
                        <a:pt x="175" y="114"/>
                      </a:lnTo>
                      <a:lnTo>
                        <a:pt x="176" y="109"/>
                      </a:lnTo>
                      <a:lnTo>
                        <a:pt x="176" y="104"/>
                      </a:lnTo>
                      <a:lnTo>
                        <a:pt x="176" y="99"/>
                      </a:lnTo>
                      <a:lnTo>
                        <a:pt x="176" y="93"/>
                      </a:lnTo>
                      <a:lnTo>
                        <a:pt x="176" y="87"/>
                      </a:lnTo>
                      <a:lnTo>
                        <a:pt x="173" y="83"/>
                      </a:lnTo>
                      <a:lnTo>
                        <a:pt x="170" y="76"/>
                      </a:lnTo>
                      <a:lnTo>
                        <a:pt x="170" y="70"/>
                      </a:lnTo>
                      <a:lnTo>
                        <a:pt x="169" y="66"/>
                      </a:lnTo>
                      <a:lnTo>
                        <a:pt x="166" y="60"/>
                      </a:lnTo>
                      <a:lnTo>
                        <a:pt x="165" y="56"/>
                      </a:lnTo>
                      <a:lnTo>
                        <a:pt x="165" y="49"/>
                      </a:lnTo>
                      <a:lnTo>
                        <a:pt x="165" y="44"/>
                      </a:lnTo>
                      <a:lnTo>
                        <a:pt x="165" y="39"/>
                      </a:lnTo>
                      <a:lnTo>
                        <a:pt x="166" y="34"/>
                      </a:lnTo>
                      <a:lnTo>
                        <a:pt x="169" y="27"/>
                      </a:lnTo>
                      <a:lnTo>
                        <a:pt x="170" y="20"/>
                      </a:lnTo>
                      <a:lnTo>
                        <a:pt x="175" y="16"/>
                      </a:lnTo>
                      <a:lnTo>
                        <a:pt x="180" y="14"/>
                      </a:lnTo>
                      <a:lnTo>
                        <a:pt x="183" y="9"/>
                      </a:lnTo>
                      <a:lnTo>
                        <a:pt x="189" y="6"/>
                      </a:lnTo>
                      <a:lnTo>
                        <a:pt x="193" y="3"/>
                      </a:lnTo>
                      <a:lnTo>
                        <a:pt x="199" y="0"/>
                      </a:lnTo>
                      <a:lnTo>
                        <a:pt x="203" y="0"/>
                      </a:lnTo>
                      <a:lnTo>
                        <a:pt x="209" y="0"/>
                      </a:lnTo>
                      <a:lnTo>
                        <a:pt x="214" y="0"/>
                      </a:lnTo>
                      <a:lnTo>
                        <a:pt x="219" y="4"/>
                      </a:lnTo>
                      <a:lnTo>
                        <a:pt x="224" y="6"/>
                      </a:lnTo>
                      <a:lnTo>
                        <a:pt x="229" y="9"/>
                      </a:lnTo>
                      <a:lnTo>
                        <a:pt x="234" y="10"/>
                      </a:lnTo>
                      <a:lnTo>
                        <a:pt x="234" y="16"/>
                      </a:lnTo>
                      <a:lnTo>
                        <a:pt x="237" y="20"/>
                      </a:lnTo>
                      <a:lnTo>
                        <a:pt x="239" y="27"/>
                      </a:lnTo>
                      <a:lnTo>
                        <a:pt x="241" y="33"/>
                      </a:lnTo>
                      <a:lnTo>
                        <a:pt x="241" y="39"/>
                      </a:lnTo>
                      <a:lnTo>
                        <a:pt x="241" y="44"/>
                      </a:lnTo>
                      <a:lnTo>
                        <a:pt x="241" y="49"/>
                      </a:lnTo>
                      <a:lnTo>
                        <a:pt x="241" y="54"/>
                      </a:lnTo>
                      <a:lnTo>
                        <a:pt x="241" y="59"/>
                      </a:lnTo>
                      <a:lnTo>
                        <a:pt x="241" y="64"/>
                      </a:lnTo>
                      <a:lnTo>
                        <a:pt x="239" y="70"/>
                      </a:lnTo>
                      <a:lnTo>
                        <a:pt x="237" y="76"/>
                      </a:lnTo>
                      <a:lnTo>
                        <a:pt x="236" y="80"/>
                      </a:lnTo>
                      <a:lnTo>
                        <a:pt x="233" y="86"/>
                      </a:lnTo>
                      <a:lnTo>
                        <a:pt x="230" y="90"/>
                      </a:lnTo>
                      <a:lnTo>
                        <a:pt x="227" y="96"/>
                      </a:lnTo>
                      <a:lnTo>
                        <a:pt x="224" y="102"/>
                      </a:lnTo>
                      <a:lnTo>
                        <a:pt x="220" y="107"/>
                      </a:lnTo>
                      <a:lnTo>
                        <a:pt x="220" y="112"/>
                      </a:lnTo>
                      <a:lnTo>
                        <a:pt x="220" y="117"/>
                      </a:lnTo>
                      <a:lnTo>
                        <a:pt x="220" y="122"/>
                      </a:lnTo>
                      <a:lnTo>
                        <a:pt x="220" y="127"/>
                      </a:lnTo>
                      <a:lnTo>
                        <a:pt x="226" y="132"/>
                      </a:lnTo>
                      <a:lnTo>
                        <a:pt x="230" y="137"/>
                      </a:lnTo>
                      <a:lnTo>
                        <a:pt x="236" y="140"/>
                      </a:lnTo>
                      <a:lnTo>
                        <a:pt x="264" y="152"/>
                      </a:lnTo>
                      <a:lnTo>
                        <a:pt x="318" y="164"/>
                      </a:lnTo>
                      <a:lnTo>
                        <a:pt x="361" y="180"/>
                      </a:lnTo>
                      <a:lnTo>
                        <a:pt x="402" y="203"/>
                      </a:lnTo>
                      <a:lnTo>
                        <a:pt x="443" y="233"/>
                      </a:lnTo>
                      <a:lnTo>
                        <a:pt x="482" y="263"/>
                      </a:lnTo>
                      <a:lnTo>
                        <a:pt x="520" y="296"/>
                      </a:lnTo>
                      <a:lnTo>
                        <a:pt x="547" y="312"/>
                      </a:lnTo>
                      <a:lnTo>
                        <a:pt x="570" y="322"/>
                      </a:lnTo>
                      <a:lnTo>
                        <a:pt x="593" y="323"/>
                      </a:lnTo>
                      <a:lnTo>
                        <a:pt x="641" y="319"/>
                      </a:lnTo>
                      <a:lnTo>
                        <a:pt x="682" y="309"/>
                      </a:lnTo>
                      <a:lnTo>
                        <a:pt x="719" y="2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7950240" y="1482840"/>
                  <a:ext cx="196920" cy="257040"/>
                </a:xfrm>
                <a:custGeom>
                  <a:avLst/>
                  <a:gdLst/>
                  <a:ahLst/>
                  <a:rect l="l" t="t" r="r" b="b"/>
                  <a:pathLst>
                    <a:path w="497" h="485">
                      <a:moveTo>
                        <a:pt x="381" y="186"/>
                      </a:moveTo>
                      <a:lnTo>
                        <a:pt x="374" y="74"/>
                      </a:lnTo>
                      <a:lnTo>
                        <a:pt x="377" y="39"/>
                      </a:lnTo>
                      <a:lnTo>
                        <a:pt x="388" y="16"/>
                      </a:lnTo>
                      <a:lnTo>
                        <a:pt x="411" y="3"/>
                      </a:lnTo>
                      <a:lnTo>
                        <a:pt x="444" y="0"/>
                      </a:lnTo>
                      <a:lnTo>
                        <a:pt x="470" y="6"/>
                      </a:lnTo>
                      <a:lnTo>
                        <a:pt x="484" y="19"/>
                      </a:lnTo>
                      <a:lnTo>
                        <a:pt x="497" y="50"/>
                      </a:lnTo>
                      <a:lnTo>
                        <a:pt x="497" y="96"/>
                      </a:lnTo>
                      <a:lnTo>
                        <a:pt x="491" y="153"/>
                      </a:lnTo>
                      <a:lnTo>
                        <a:pt x="484" y="219"/>
                      </a:lnTo>
                      <a:lnTo>
                        <a:pt x="473" y="277"/>
                      </a:lnTo>
                      <a:lnTo>
                        <a:pt x="464" y="335"/>
                      </a:lnTo>
                      <a:lnTo>
                        <a:pt x="454" y="380"/>
                      </a:lnTo>
                      <a:lnTo>
                        <a:pt x="439" y="419"/>
                      </a:lnTo>
                      <a:lnTo>
                        <a:pt x="418" y="446"/>
                      </a:lnTo>
                      <a:lnTo>
                        <a:pt x="393" y="472"/>
                      </a:lnTo>
                      <a:lnTo>
                        <a:pt x="371" y="480"/>
                      </a:lnTo>
                      <a:lnTo>
                        <a:pt x="344" y="485"/>
                      </a:lnTo>
                      <a:lnTo>
                        <a:pt x="314" y="482"/>
                      </a:lnTo>
                      <a:lnTo>
                        <a:pt x="283" y="466"/>
                      </a:lnTo>
                      <a:lnTo>
                        <a:pt x="256" y="439"/>
                      </a:lnTo>
                      <a:lnTo>
                        <a:pt x="232" y="403"/>
                      </a:lnTo>
                      <a:lnTo>
                        <a:pt x="209" y="370"/>
                      </a:lnTo>
                      <a:lnTo>
                        <a:pt x="189" y="329"/>
                      </a:lnTo>
                      <a:lnTo>
                        <a:pt x="169" y="277"/>
                      </a:lnTo>
                      <a:lnTo>
                        <a:pt x="149" y="243"/>
                      </a:lnTo>
                      <a:lnTo>
                        <a:pt x="131" y="213"/>
                      </a:lnTo>
                      <a:lnTo>
                        <a:pt x="101" y="186"/>
                      </a:lnTo>
                      <a:lnTo>
                        <a:pt x="81" y="173"/>
                      </a:lnTo>
                      <a:lnTo>
                        <a:pt x="73" y="179"/>
                      </a:lnTo>
                      <a:lnTo>
                        <a:pt x="78" y="233"/>
                      </a:lnTo>
                      <a:lnTo>
                        <a:pt x="90" y="276"/>
                      </a:lnTo>
                      <a:lnTo>
                        <a:pt x="107" y="296"/>
                      </a:lnTo>
                      <a:lnTo>
                        <a:pt x="110" y="310"/>
                      </a:lnTo>
                      <a:lnTo>
                        <a:pt x="104" y="327"/>
                      </a:lnTo>
                      <a:lnTo>
                        <a:pt x="68" y="343"/>
                      </a:lnTo>
                      <a:lnTo>
                        <a:pt x="40" y="345"/>
                      </a:lnTo>
                      <a:lnTo>
                        <a:pt x="10" y="339"/>
                      </a:lnTo>
                      <a:lnTo>
                        <a:pt x="0" y="315"/>
                      </a:lnTo>
                      <a:lnTo>
                        <a:pt x="2" y="270"/>
                      </a:lnTo>
                      <a:lnTo>
                        <a:pt x="14" y="212"/>
                      </a:lnTo>
                      <a:lnTo>
                        <a:pt x="17" y="167"/>
                      </a:lnTo>
                      <a:lnTo>
                        <a:pt x="16" y="122"/>
                      </a:lnTo>
                      <a:lnTo>
                        <a:pt x="14" y="77"/>
                      </a:lnTo>
                      <a:lnTo>
                        <a:pt x="29" y="54"/>
                      </a:lnTo>
                      <a:lnTo>
                        <a:pt x="56" y="47"/>
                      </a:lnTo>
                      <a:lnTo>
                        <a:pt x="78" y="54"/>
                      </a:lnTo>
                      <a:lnTo>
                        <a:pt x="90" y="70"/>
                      </a:lnTo>
                      <a:lnTo>
                        <a:pt x="107" y="104"/>
                      </a:lnTo>
                      <a:lnTo>
                        <a:pt x="122" y="126"/>
                      </a:lnTo>
                      <a:lnTo>
                        <a:pt x="147" y="157"/>
                      </a:lnTo>
                      <a:lnTo>
                        <a:pt x="175" y="183"/>
                      </a:lnTo>
                      <a:lnTo>
                        <a:pt x="199" y="213"/>
                      </a:lnTo>
                      <a:lnTo>
                        <a:pt x="223" y="247"/>
                      </a:lnTo>
                      <a:lnTo>
                        <a:pt x="252" y="289"/>
                      </a:lnTo>
                      <a:lnTo>
                        <a:pt x="279" y="322"/>
                      </a:lnTo>
                      <a:lnTo>
                        <a:pt x="304" y="355"/>
                      </a:lnTo>
                      <a:lnTo>
                        <a:pt x="326" y="377"/>
                      </a:lnTo>
                      <a:lnTo>
                        <a:pt x="346" y="386"/>
                      </a:lnTo>
                      <a:lnTo>
                        <a:pt x="357" y="386"/>
                      </a:lnTo>
                      <a:lnTo>
                        <a:pt x="373" y="375"/>
                      </a:lnTo>
                      <a:lnTo>
                        <a:pt x="381" y="345"/>
                      </a:lnTo>
                      <a:lnTo>
                        <a:pt x="383" y="297"/>
                      </a:lnTo>
                      <a:lnTo>
                        <a:pt x="381" y="253"/>
                      </a:lnTo>
                      <a:lnTo>
                        <a:pt x="381" y="212"/>
                      </a:lnTo>
                      <a:lnTo>
                        <a:pt x="381" y="1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8124840" y="1481040"/>
                  <a:ext cx="169920" cy="385920"/>
                </a:xfrm>
                <a:custGeom>
                  <a:avLst/>
                  <a:gdLst/>
                  <a:ahLst/>
                  <a:rect l="l" t="t" r="r" b="b"/>
                  <a:pathLst>
                    <a:path w="424" h="728">
                      <a:moveTo>
                        <a:pt x="95" y="6"/>
                      </a:moveTo>
                      <a:lnTo>
                        <a:pt x="148" y="13"/>
                      </a:lnTo>
                      <a:lnTo>
                        <a:pt x="233" y="29"/>
                      </a:lnTo>
                      <a:lnTo>
                        <a:pt x="301" y="47"/>
                      </a:lnTo>
                      <a:lnTo>
                        <a:pt x="355" y="67"/>
                      </a:lnTo>
                      <a:lnTo>
                        <a:pt x="399" y="93"/>
                      </a:lnTo>
                      <a:lnTo>
                        <a:pt x="414" y="110"/>
                      </a:lnTo>
                      <a:lnTo>
                        <a:pt x="422" y="129"/>
                      </a:lnTo>
                      <a:lnTo>
                        <a:pt x="424" y="152"/>
                      </a:lnTo>
                      <a:lnTo>
                        <a:pt x="418" y="179"/>
                      </a:lnTo>
                      <a:lnTo>
                        <a:pt x="402" y="206"/>
                      </a:lnTo>
                      <a:lnTo>
                        <a:pt x="377" y="239"/>
                      </a:lnTo>
                      <a:lnTo>
                        <a:pt x="344" y="285"/>
                      </a:lnTo>
                      <a:lnTo>
                        <a:pt x="311" y="326"/>
                      </a:lnTo>
                      <a:lnTo>
                        <a:pt x="294" y="365"/>
                      </a:lnTo>
                      <a:lnTo>
                        <a:pt x="274" y="412"/>
                      </a:lnTo>
                      <a:lnTo>
                        <a:pt x="259" y="459"/>
                      </a:lnTo>
                      <a:lnTo>
                        <a:pt x="254" y="503"/>
                      </a:lnTo>
                      <a:lnTo>
                        <a:pt x="253" y="538"/>
                      </a:lnTo>
                      <a:lnTo>
                        <a:pt x="259" y="556"/>
                      </a:lnTo>
                      <a:lnTo>
                        <a:pt x="284" y="575"/>
                      </a:lnTo>
                      <a:lnTo>
                        <a:pt x="324" y="591"/>
                      </a:lnTo>
                      <a:lnTo>
                        <a:pt x="360" y="613"/>
                      </a:lnTo>
                      <a:lnTo>
                        <a:pt x="387" y="645"/>
                      </a:lnTo>
                      <a:lnTo>
                        <a:pt x="395" y="671"/>
                      </a:lnTo>
                      <a:lnTo>
                        <a:pt x="392" y="688"/>
                      </a:lnTo>
                      <a:lnTo>
                        <a:pt x="377" y="702"/>
                      </a:lnTo>
                      <a:lnTo>
                        <a:pt x="338" y="728"/>
                      </a:lnTo>
                      <a:lnTo>
                        <a:pt x="318" y="725"/>
                      </a:lnTo>
                      <a:lnTo>
                        <a:pt x="308" y="705"/>
                      </a:lnTo>
                      <a:lnTo>
                        <a:pt x="304" y="678"/>
                      </a:lnTo>
                      <a:lnTo>
                        <a:pt x="283" y="645"/>
                      </a:lnTo>
                      <a:lnTo>
                        <a:pt x="250" y="619"/>
                      </a:lnTo>
                      <a:lnTo>
                        <a:pt x="222" y="606"/>
                      </a:lnTo>
                      <a:lnTo>
                        <a:pt x="186" y="601"/>
                      </a:lnTo>
                      <a:lnTo>
                        <a:pt x="166" y="585"/>
                      </a:lnTo>
                      <a:lnTo>
                        <a:pt x="159" y="565"/>
                      </a:lnTo>
                      <a:lnTo>
                        <a:pt x="162" y="539"/>
                      </a:lnTo>
                      <a:lnTo>
                        <a:pt x="180" y="515"/>
                      </a:lnTo>
                      <a:lnTo>
                        <a:pt x="196" y="489"/>
                      </a:lnTo>
                      <a:lnTo>
                        <a:pt x="210" y="452"/>
                      </a:lnTo>
                      <a:lnTo>
                        <a:pt x="220" y="402"/>
                      </a:lnTo>
                      <a:lnTo>
                        <a:pt x="227" y="348"/>
                      </a:lnTo>
                      <a:lnTo>
                        <a:pt x="237" y="302"/>
                      </a:lnTo>
                      <a:lnTo>
                        <a:pt x="250" y="259"/>
                      </a:lnTo>
                      <a:lnTo>
                        <a:pt x="267" y="223"/>
                      </a:lnTo>
                      <a:lnTo>
                        <a:pt x="291" y="185"/>
                      </a:lnTo>
                      <a:lnTo>
                        <a:pt x="308" y="160"/>
                      </a:lnTo>
                      <a:lnTo>
                        <a:pt x="308" y="147"/>
                      </a:lnTo>
                      <a:lnTo>
                        <a:pt x="291" y="133"/>
                      </a:lnTo>
                      <a:lnTo>
                        <a:pt x="220" y="132"/>
                      </a:lnTo>
                      <a:lnTo>
                        <a:pt x="153" y="120"/>
                      </a:lnTo>
                      <a:lnTo>
                        <a:pt x="101" y="110"/>
                      </a:lnTo>
                      <a:lnTo>
                        <a:pt x="55" y="100"/>
                      </a:lnTo>
                      <a:lnTo>
                        <a:pt x="21" y="85"/>
                      </a:lnTo>
                      <a:lnTo>
                        <a:pt x="1" y="60"/>
                      </a:lnTo>
                      <a:lnTo>
                        <a:pt x="0" y="29"/>
                      </a:lnTo>
                      <a:lnTo>
                        <a:pt x="14" y="3"/>
                      </a:lnTo>
                      <a:lnTo>
                        <a:pt x="45" y="0"/>
                      </a:lnTo>
                      <a:lnTo>
                        <a:pt x="9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7543800" y="1003320"/>
                <a:ext cx="981000" cy="385920"/>
                <a:chOff x="7543800" y="1003320"/>
                <a:chExt cx="981000" cy="3859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7543800" y="1141560"/>
                  <a:ext cx="130320" cy="31680"/>
                </a:xfrm>
                <a:custGeom>
                  <a:avLst/>
                  <a:gdLst/>
                  <a:ahLst/>
                  <a:rect l="l" t="t" r="r" b="b"/>
                  <a:pathLst>
                    <a:path w="328" h="62">
                      <a:moveTo>
                        <a:pt x="328" y="24"/>
                      </a:moveTo>
                      <a:lnTo>
                        <a:pt x="61" y="0"/>
                      </a:lnTo>
                      <a:lnTo>
                        <a:pt x="54" y="2"/>
                      </a:lnTo>
                      <a:lnTo>
                        <a:pt x="47" y="2"/>
                      </a:lnTo>
                      <a:lnTo>
                        <a:pt x="40" y="4"/>
                      </a:lnTo>
                      <a:lnTo>
                        <a:pt x="34" y="4"/>
                      </a:lnTo>
                      <a:lnTo>
                        <a:pt x="27" y="6"/>
                      </a:lnTo>
                      <a:lnTo>
                        <a:pt x="20" y="11"/>
                      </a:lnTo>
                      <a:lnTo>
                        <a:pt x="13" y="13"/>
                      </a:lnTo>
                      <a:lnTo>
                        <a:pt x="11" y="19"/>
                      </a:lnTo>
                      <a:lnTo>
                        <a:pt x="4" y="24"/>
                      </a:lnTo>
                      <a:lnTo>
                        <a:pt x="0" y="31"/>
                      </a:lnTo>
                      <a:lnTo>
                        <a:pt x="0" y="37"/>
                      </a:lnTo>
                      <a:lnTo>
                        <a:pt x="2" y="44"/>
                      </a:lnTo>
                      <a:lnTo>
                        <a:pt x="9" y="48"/>
                      </a:lnTo>
                      <a:lnTo>
                        <a:pt x="16" y="55"/>
                      </a:lnTo>
                      <a:lnTo>
                        <a:pt x="22" y="57"/>
                      </a:lnTo>
                      <a:lnTo>
                        <a:pt x="29" y="59"/>
                      </a:lnTo>
                      <a:lnTo>
                        <a:pt x="38" y="59"/>
                      </a:lnTo>
                      <a:lnTo>
                        <a:pt x="45" y="62"/>
                      </a:lnTo>
                      <a:lnTo>
                        <a:pt x="54" y="62"/>
                      </a:lnTo>
                      <a:lnTo>
                        <a:pt x="321" y="39"/>
                      </a:lnTo>
                      <a:lnTo>
                        <a:pt x="328" y="24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585200" y="1316160"/>
                  <a:ext cx="122040" cy="73080"/>
                </a:xfrm>
                <a:custGeom>
                  <a:avLst/>
                  <a:gdLst/>
                  <a:ahLst/>
                  <a:rect l="l" t="t" r="r" b="b"/>
                  <a:pathLst>
                    <a:path w="305" h="136">
                      <a:moveTo>
                        <a:pt x="305" y="0"/>
                      </a:moveTo>
                      <a:lnTo>
                        <a:pt x="46" y="68"/>
                      </a:lnTo>
                      <a:lnTo>
                        <a:pt x="40" y="72"/>
                      </a:lnTo>
                      <a:lnTo>
                        <a:pt x="33" y="75"/>
                      </a:lnTo>
                      <a:lnTo>
                        <a:pt x="28" y="79"/>
                      </a:lnTo>
                      <a:lnTo>
                        <a:pt x="22" y="81"/>
                      </a:lnTo>
                      <a:lnTo>
                        <a:pt x="16" y="86"/>
                      </a:lnTo>
                      <a:lnTo>
                        <a:pt x="12" y="92"/>
                      </a:lnTo>
                      <a:lnTo>
                        <a:pt x="6" y="97"/>
                      </a:lnTo>
                      <a:lnTo>
                        <a:pt x="6" y="104"/>
                      </a:lnTo>
                      <a:lnTo>
                        <a:pt x="2" y="110"/>
                      </a:lnTo>
                      <a:lnTo>
                        <a:pt x="0" y="118"/>
                      </a:lnTo>
                      <a:lnTo>
                        <a:pt x="2" y="125"/>
                      </a:lnTo>
                      <a:lnTo>
                        <a:pt x="6" y="130"/>
                      </a:lnTo>
                      <a:lnTo>
                        <a:pt x="14" y="131"/>
                      </a:lnTo>
                      <a:lnTo>
                        <a:pt x="22" y="136"/>
                      </a:lnTo>
                      <a:lnTo>
                        <a:pt x="30" y="136"/>
                      </a:lnTo>
                      <a:lnTo>
                        <a:pt x="37" y="135"/>
                      </a:lnTo>
                      <a:lnTo>
                        <a:pt x="46" y="132"/>
                      </a:lnTo>
                      <a:lnTo>
                        <a:pt x="52" y="132"/>
                      </a:lnTo>
                      <a:lnTo>
                        <a:pt x="60" y="129"/>
                      </a:lnTo>
                      <a:lnTo>
                        <a:pt x="304" y="18"/>
                      </a:lnTo>
                      <a:lnTo>
                        <a:pt x="305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8394840" y="1003320"/>
                  <a:ext cx="125280" cy="65160"/>
                </a:xfrm>
                <a:custGeom>
                  <a:avLst/>
                  <a:gdLst/>
                  <a:ahLst/>
                  <a:rect l="l" t="t" r="r" b="b"/>
                  <a:pathLst>
                    <a:path w="317" h="122">
                      <a:moveTo>
                        <a:pt x="0" y="109"/>
                      </a:moveTo>
                      <a:lnTo>
                        <a:pt x="247" y="4"/>
                      </a:lnTo>
                      <a:lnTo>
                        <a:pt x="254" y="4"/>
                      </a:lnTo>
                      <a:lnTo>
                        <a:pt x="261" y="2"/>
                      </a:lnTo>
                      <a:lnTo>
                        <a:pt x="267" y="2"/>
                      </a:lnTo>
                      <a:lnTo>
                        <a:pt x="274" y="0"/>
                      </a:lnTo>
                      <a:lnTo>
                        <a:pt x="281" y="0"/>
                      </a:lnTo>
                      <a:lnTo>
                        <a:pt x="289" y="2"/>
                      </a:lnTo>
                      <a:lnTo>
                        <a:pt x="296" y="2"/>
                      </a:lnTo>
                      <a:lnTo>
                        <a:pt x="300" y="8"/>
                      </a:lnTo>
                      <a:lnTo>
                        <a:pt x="308" y="10"/>
                      </a:lnTo>
                      <a:lnTo>
                        <a:pt x="315" y="15"/>
                      </a:lnTo>
                      <a:lnTo>
                        <a:pt x="317" y="22"/>
                      </a:lnTo>
                      <a:lnTo>
                        <a:pt x="317" y="29"/>
                      </a:lnTo>
                      <a:lnTo>
                        <a:pt x="311" y="35"/>
                      </a:lnTo>
                      <a:lnTo>
                        <a:pt x="307" y="43"/>
                      </a:lnTo>
                      <a:lnTo>
                        <a:pt x="301" y="48"/>
                      </a:lnTo>
                      <a:lnTo>
                        <a:pt x="296" y="52"/>
                      </a:lnTo>
                      <a:lnTo>
                        <a:pt x="288" y="54"/>
                      </a:lnTo>
                      <a:lnTo>
                        <a:pt x="281" y="59"/>
                      </a:lnTo>
                      <a:lnTo>
                        <a:pt x="273" y="61"/>
                      </a:lnTo>
                      <a:lnTo>
                        <a:pt x="11" y="122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8402760" y="1217520"/>
                  <a:ext cx="122040" cy="71640"/>
                </a:xfrm>
                <a:custGeom>
                  <a:avLst/>
                  <a:gdLst/>
                  <a:ahLst/>
                  <a:rect l="l" t="t" r="r" b="b"/>
                  <a:pathLst>
                    <a:path w="305" h="135">
                      <a:moveTo>
                        <a:pt x="0" y="0"/>
                      </a:moveTo>
                      <a:lnTo>
                        <a:pt x="259" y="67"/>
                      </a:lnTo>
                      <a:lnTo>
                        <a:pt x="265" y="72"/>
                      </a:lnTo>
                      <a:lnTo>
                        <a:pt x="271" y="74"/>
                      </a:lnTo>
                      <a:lnTo>
                        <a:pt x="277" y="79"/>
                      </a:lnTo>
                      <a:lnTo>
                        <a:pt x="283" y="81"/>
                      </a:lnTo>
                      <a:lnTo>
                        <a:pt x="288" y="85"/>
                      </a:lnTo>
                      <a:lnTo>
                        <a:pt x="293" y="92"/>
                      </a:lnTo>
                      <a:lnTo>
                        <a:pt x="298" y="96"/>
                      </a:lnTo>
                      <a:lnTo>
                        <a:pt x="298" y="103"/>
                      </a:lnTo>
                      <a:lnTo>
                        <a:pt x="303" y="110"/>
                      </a:lnTo>
                      <a:lnTo>
                        <a:pt x="305" y="117"/>
                      </a:lnTo>
                      <a:lnTo>
                        <a:pt x="303" y="124"/>
                      </a:lnTo>
                      <a:lnTo>
                        <a:pt x="298" y="130"/>
                      </a:lnTo>
                      <a:lnTo>
                        <a:pt x="290" y="131"/>
                      </a:lnTo>
                      <a:lnTo>
                        <a:pt x="283" y="135"/>
                      </a:lnTo>
                      <a:lnTo>
                        <a:pt x="275" y="135"/>
                      </a:lnTo>
                      <a:lnTo>
                        <a:pt x="268" y="134"/>
                      </a:lnTo>
                      <a:lnTo>
                        <a:pt x="259" y="132"/>
                      </a:lnTo>
                      <a:lnTo>
                        <a:pt x="252" y="132"/>
                      </a:lnTo>
                      <a:lnTo>
                        <a:pt x="244" y="128"/>
                      </a:lnTo>
                      <a:lnTo>
                        <a:pt x="1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3" name=""/>
            <p:cNvSpPr/>
            <p:nvPr/>
          </p:nvSpPr>
          <p:spPr>
            <a:xfrm>
              <a:off x="7737120" y="1954080"/>
              <a:ext cx="807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ujua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ercap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4444920" y="635040"/>
            <a:ext cx="1154160" cy="1966320"/>
            <a:chOff x="4444920" y="635040"/>
            <a:chExt cx="1154160" cy="1966320"/>
          </a:xfrm>
        </p:grpSpPr>
        <p:pic>
          <p:nvPicPr>
            <p:cNvPr id="305" name="" descr=""/>
            <p:cNvPicPr/>
            <p:nvPr/>
          </p:nvPicPr>
          <p:blipFill>
            <a:blip r:embed="rId9"/>
            <a:stretch/>
          </p:blipFill>
          <p:spPr>
            <a:xfrm>
              <a:off x="4444920" y="635040"/>
              <a:ext cx="11541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656600" y="2081160"/>
              <a:ext cx="84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s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nc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441520" y="704880"/>
            <a:ext cx="1155600" cy="218124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49280" y="4110120"/>
            <a:ext cx="1295280" cy="1897920"/>
            <a:chOff x="449280" y="4110120"/>
            <a:chExt cx="1295280" cy="1897920"/>
          </a:xfrm>
        </p:grpSpPr>
        <p:pic>
          <p:nvPicPr>
            <p:cNvPr id="309" name="" descr=""/>
            <p:cNvPicPr/>
            <p:nvPr/>
          </p:nvPicPr>
          <p:blipFill>
            <a:blip r:embed="rId10"/>
            <a:stretch/>
          </p:blipFill>
          <p:spPr>
            <a:xfrm>
              <a:off x="449280" y="4110120"/>
              <a:ext cx="1295280" cy="121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74840" y="5487840"/>
              <a:ext cx="1241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engumpu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857240" y="4040280"/>
            <a:ext cx="2587680" cy="2021760"/>
            <a:chOff x="1857240" y="4040280"/>
            <a:chExt cx="2587680" cy="2021760"/>
          </a:xfrm>
        </p:grpSpPr>
        <p:grpSp>
          <p:nvGrpSpPr>
            <p:cNvPr id="312" name=""/>
            <p:cNvGrpSpPr/>
            <p:nvPr/>
          </p:nvGrpSpPr>
          <p:grpSpPr>
            <a:xfrm>
              <a:off x="2233440" y="4040280"/>
              <a:ext cx="2211480" cy="2021760"/>
              <a:chOff x="2233440" y="4040280"/>
              <a:chExt cx="2211480" cy="202176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233440" y="4040280"/>
                <a:ext cx="2211480" cy="1545840"/>
                <a:chOff x="2233440" y="4040280"/>
                <a:chExt cx="2211480" cy="1545840"/>
              </a:xfrm>
            </p:grpSpPr>
            <p:pic>
              <p:nvPicPr>
                <p:cNvPr id="314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198600" y="4040280"/>
                  <a:ext cx="1246320" cy="1338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2233440" y="4548240"/>
                  <a:ext cx="1233360" cy="1037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16" name=""/>
              <p:cNvSpPr/>
              <p:nvPr/>
            </p:nvSpPr>
            <p:spPr>
              <a:xfrm>
                <a:off x="2595960" y="5754960"/>
                <a:ext cx="148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engolahan 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1857240" y="4781520"/>
              <a:ext cx="285840" cy="333360"/>
            </a:xfrm>
            <a:prstGeom prst="rightArrow">
              <a:avLst>
                <a:gd name="adj1" fmla="val 55241"/>
                <a:gd name="adj2" fmla="val 51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610160" y="4290840"/>
            <a:ext cx="1388880" cy="1726560"/>
            <a:chOff x="4610160" y="4290840"/>
            <a:chExt cx="1388880" cy="1726560"/>
          </a:xfrm>
        </p:grpSpPr>
        <p:grpSp>
          <p:nvGrpSpPr>
            <p:cNvPr id="319" name=""/>
            <p:cNvGrpSpPr/>
            <p:nvPr/>
          </p:nvGrpSpPr>
          <p:grpSpPr>
            <a:xfrm>
              <a:off x="5005440" y="4290840"/>
              <a:ext cx="993600" cy="1726560"/>
              <a:chOff x="5005440" y="4290840"/>
              <a:chExt cx="993600" cy="1726560"/>
            </a:xfrm>
          </p:grpSpPr>
          <p:pic>
            <p:nvPicPr>
              <p:cNvPr id="32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005440" y="4290840"/>
                <a:ext cx="993600" cy="105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>
                <a:off x="5123520" y="5497200"/>
                <a:ext cx="758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nalis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4610160" y="4781520"/>
              <a:ext cx="285840" cy="333360"/>
            </a:xfrm>
            <a:prstGeom prst="rightArrow">
              <a:avLst>
                <a:gd name="adj1" fmla="val 55241"/>
                <a:gd name="adj2" fmla="val 51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172200" y="4352760"/>
            <a:ext cx="1753560" cy="1769760"/>
            <a:chOff x="6172200" y="4352760"/>
            <a:chExt cx="1753560" cy="1769760"/>
          </a:xfrm>
        </p:grpSpPr>
        <p:grpSp>
          <p:nvGrpSpPr>
            <p:cNvPr id="324" name=""/>
            <p:cNvGrpSpPr/>
            <p:nvPr/>
          </p:nvGrpSpPr>
          <p:grpSpPr>
            <a:xfrm>
              <a:off x="6620040" y="4352760"/>
              <a:ext cx="1305720" cy="1769760"/>
              <a:chOff x="6620040" y="4352760"/>
              <a:chExt cx="1305720" cy="1769760"/>
            </a:xfrm>
          </p:grpSpPr>
          <p:pic>
            <p:nvPicPr>
              <p:cNvPr id="325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620040" y="4352760"/>
                <a:ext cx="1253880" cy="107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6812280" y="5602320"/>
                <a:ext cx="1113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enyusun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apor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>
              <a:off x="6172200" y="4781520"/>
              <a:ext cx="285840" cy="333360"/>
            </a:xfrm>
            <a:prstGeom prst="rightArrow">
              <a:avLst>
                <a:gd name="adj1" fmla="val 55241"/>
                <a:gd name="adj2" fmla="val 51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1442880" y="2876400"/>
            <a:ext cx="5776920" cy="3581640"/>
            <a:chOff x="1442880" y="2876400"/>
            <a:chExt cx="5776920" cy="3581640"/>
          </a:xfrm>
        </p:grpSpPr>
        <p:sp>
          <p:nvSpPr>
            <p:cNvPr id="329" name=""/>
            <p:cNvSpPr/>
            <p:nvPr/>
          </p:nvSpPr>
          <p:spPr>
            <a:xfrm>
              <a:off x="1442880" y="2876400"/>
              <a:ext cx="5776920" cy="1047960"/>
            </a:xfrm>
            <a:custGeom>
              <a:avLst/>
              <a:gdLst/>
              <a:ahLst/>
              <a:rect l="l" t="t" r="r" b="b"/>
              <a:pathLst>
                <a:path w="3639" h="660">
                  <a:moveTo>
                    <a:pt x="1851" y="0"/>
                  </a:moveTo>
                  <a:lnTo>
                    <a:pt x="3639" y="660"/>
                  </a:lnTo>
                  <a:lnTo>
                    <a:pt x="0" y="657"/>
                  </a:lnTo>
                  <a:lnTo>
                    <a:pt x="1359" y="0"/>
                  </a:lnTo>
                  <a:lnTo>
                    <a:pt x="1851" y="0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e1e1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47920" y="3924360"/>
              <a:ext cx="5771880" cy="253368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35280" y="3146400"/>
              <a:ext cx="790560" cy="542880"/>
            </a:xfrm>
            <a:prstGeom prst="downArrow">
              <a:avLst>
                <a:gd name="adj1" fmla="val 55130"/>
                <a:gd name="adj2" fmla="val 5922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2286000" y="838080"/>
            <a:ext cx="5105520" cy="1600200"/>
          </a:xfrm>
          <a:prstGeom prst="rightArrow">
            <a:avLst>
              <a:gd name="adj1" fmla="val 50000"/>
              <a:gd name="adj2" fmla="val 79764"/>
            </a:avLst>
          </a:prstGeom>
          <a:solidFill>
            <a:srgbClr val="eaeaea"/>
          </a:solidFill>
          <a:ln w="28440">
            <a:solidFill>
              <a:srgbClr val="00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444320" y="982800"/>
            <a:ext cx="1046520" cy="1952280"/>
            <a:chOff x="1444320" y="982800"/>
            <a:chExt cx="1046520" cy="1952280"/>
          </a:xfrm>
        </p:grpSpPr>
        <p:pic>
          <p:nvPicPr>
            <p:cNvPr id="334" name="" descr=""/>
            <p:cNvPicPr/>
            <p:nvPr/>
          </p:nvPicPr>
          <p:blipFill>
            <a:blip r:embed="rId1"/>
            <a:stretch/>
          </p:blipFill>
          <p:spPr>
            <a:xfrm>
              <a:off x="1731960" y="982800"/>
              <a:ext cx="4716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444320" y="2201760"/>
              <a:ext cx="1046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gaim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encap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ujuan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2476440" y="838080"/>
            <a:ext cx="1055880" cy="1790280"/>
            <a:chOff x="2476440" y="838080"/>
            <a:chExt cx="1055880" cy="1790280"/>
          </a:xfrm>
        </p:grpSpPr>
        <p:pic>
          <p:nvPicPr>
            <p:cNvPr id="337" name="" descr=""/>
            <p:cNvPicPr/>
            <p:nvPr/>
          </p:nvPicPr>
          <p:blipFill>
            <a:blip r:embed="rId2"/>
            <a:stretch/>
          </p:blipFill>
          <p:spPr>
            <a:xfrm>
              <a:off x="2476440" y="838080"/>
              <a:ext cx="105588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2559600" y="2108160"/>
              <a:ext cx="839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valuas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634560" y="774720"/>
            <a:ext cx="787320" cy="1828440"/>
            <a:chOff x="3634560" y="774720"/>
            <a:chExt cx="787320" cy="1828440"/>
          </a:xfrm>
        </p:grpSpPr>
        <p:pic>
          <p:nvPicPr>
            <p:cNvPr id="340" name="" descr=""/>
            <p:cNvPicPr/>
            <p:nvPr/>
          </p:nvPicPr>
          <p:blipFill>
            <a:blip r:embed="rId3"/>
            <a:stretch/>
          </p:blipFill>
          <p:spPr>
            <a:xfrm>
              <a:off x="3772080" y="774720"/>
              <a:ext cx="426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3634560" y="2082960"/>
              <a:ext cx="78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a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trateg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5784840" y="1054080"/>
            <a:ext cx="1125720" cy="1586880"/>
            <a:chOff x="5784840" y="1054080"/>
            <a:chExt cx="1125720" cy="1586880"/>
          </a:xfrm>
        </p:grpSpPr>
        <p:pic>
          <p:nvPicPr>
            <p:cNvPr id="343" name="" descr=""/>
            <p:cNvPicPr/>
            <p:nvPr/>
          </p:nvPicPr>
          <p:blipFill>
            <a:blip r:embed="rId4"/>
            <a:stretch/>
          </p:blipFill>
          <p:spPr>
            <a:xfrm>
              <a:off x="5978520" y="1054080"/>
              <a:ext cx="7347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784840" y="2120760"/>
              <a:ext cx="112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ksanak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nc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7543800" y="800280"/>
            <a:ext cx="1219320" cy="1674000"/>
            <a:chOff x="7543800" y="800280"/>
            <a:chExt cx="1219320" cy="1674000"/>
          </a:xfrm>
        </p:grpSpPr>
        <p:grpSp>
          <p:nvGrpSpPr>
            <p:cNvPr id="346" name=""/>
            <p:cNvGrpSpPr/>
            <p:nvPr/>
          </p:nvGrpSpPr>
          <p:grpSpPr>
            <a:xfrm>
              <a:off x="7543800" y="800280"/>
              <a:ext cx="1219320" cy="1066680"/>
              <a:chOff x="7543800" y="800280"/>
              <a:chExt cx="1219320" cy="1066680"/>
            </a:xfrm>
          </p:grpSpPr>
          <p:grpSp>
            <p:nvGrpSpPr>
              <p:cNvPr id="347" name=""/>
              <p:cNvGrpSpPr/>
              <p:nvPr/>
            </p:nvGrpSpPr>
            <p:grpSpPr>
              <a:xfrm>
                <a:off x="7551720" y="1324080"/>
                <a:ext cx="1211400" cy="241200"/>
                <a:chOff x="7551720" y="1324080"/>
                <a:chExt cx="1211400" cy="24120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574040" y="1328760"/>
                  <a:ext cx="1174680" cy="231840"/>
                </a:xfrm>
                <a:custGeom>
                  <a:avLst/>
                  <a:gdLst/>
                  <a:ahLst/>
                  <a:rect l="l" t="t" r="r" b="b"/>
                  <a:pathLst>
                    <a:path w="2961" h="436">
                      <a:moveTo>
                        <a:pt x="1809" y="54"/>
                      </a:moveTo>
                      <a:lnTo>
                        <a:pt x="1947" y="116"/>
                      </a:lnTo>
                      <a:lnTo>
                        <a:pt x="2048" y="157"/>
                      </a:lnTo>
                      <a:lnTo>
                        <a:pt x="2119" y="171"/>
                      </a:lnTo>
                      <a:lnTo>
                        <a:pt x="2223" y="174"/>
                      </a:lnTo>
                      <a:lnTo>
                        <a:pt x="2335" y="164"/>
                      </a:lnTo>
                      <a:lnTo>
                        <a:pt x="2420" y="146"/>
                      </a:lnTo>
                      <a:lnTo>
                        <a:pt x="2499" y="131"/>
                      </a:lnTo>
                      <a:lnTo>
                        <a:pt x="2590" y="107"/>
                      </a:lnTo>
                      <a:lnTo>
                        <a:pt x="2675" y="84"/>
                      </a:lnTo>
                      <a:lnTo>
                        <a:pt x="2740" y="80"/>
                      </a:lnTo>
                      <a:lnTo>
                        <a:pt x="2809" y="86"/>
                      </a:lnTo>
                      <a:lnTo>
                        <a:pt x="2885" y="113"/>
                      </a:lnTo>
                      <a:lnTo>
                        <a:pt x="2961" y="149"/>
                      </a:lnTo>
                      <a:lnTo>
                        <a:pt x="2939" y="161"/>
                      </a:lnTo>
                      <a:lnTo>
                        <a:pt x="2863" y="157"/>
                      </a:lnTo>
                      <a:lnTo>
                        <a:pt x="2757" y="153"/>
                      </a:lnTo>
                      <a:lnTo>
                        <a:pt x="2686" y="163"/>
                      </a:lnTo>
                      <a:lnTo>
                        <a:pt x="2584" y="189"/>
                      </a:lnTo>
                      <a:lnTo>
                        <a:pt x="2469" y="223"/>
                      </a:lnTo>
                      <a:lnTo>
                        <a:pt x="2385" y="250"/>
                      </a:lnTo>
                      <a:lnTo>
                        <a:pt x="2304" y="273"/>
                      </a:lnTo>
                      <a:lnTo>
                        <a:pt x="2211" y="277"/>
                      </a:lnTo>
                      <a:lnTo>
                        <a:pt x="2076" y="280"/>
                      </a:lnTo>
                      <a:lnTo>
                        <a:pt x="1980" y="274"/>
                      </a:lnTo>
                      <a:lnTo>
                        <a:pt x="1896" y="263"/>
                      </a:lnTo>
                      <a:lnTo>
                        <a:pt x="1813" y="240"/>
                      </a:lnTo>
                      <a:lnTo>
                        <a:pt x="1736" y="209"/>
                      </a:lnTo>
                      <a:lnTo>
                        <a:pt x="1655" y="186"/>
                      </a:lnTo>
                      <a:lnTo>
                        <a:pt x="1563" y="167"/>
                      </a:lnTo>
                      <a:lnTo>
                        <a:pt x="1475" y="156"/>
                      </a:lnTo>
                      <a:lnTo>
                        <a:pt x="1366" y="151"/>
                      </a:lnTo>
                      <a:lnTo>
                        <a:pt x="1264" y="153"/>
                      </a:lnTo>
                      <a:lnTo>
                        <a:pt x="1186" y="153"/>
                      </a:lnTo>
                      <a:lnTo>
                        <a:pt x="1099" y="167"/>
                      </a:lnTo>
                      <a:lnTo>
                        <a:pt x="1008" y="189"/>
                      </a:lnTo>
                      <a:lnTo>
                        <a:pt x="913" y="216"/>
                      </a:lnTo>
                      <a:lnTo>
                        <a:pt x="843" y="243"/>
                      </a:lnTo>
                      <a:lnTo>
                        <a:pt x="728" y="276"/>
                      </a:lnTo>
                      <a:lnTo>
                        <a:pt x="627" y="313"/>
                      </a:lnTo>
                      <a:lnTo>
                        <a:pt x="539" y="359"/>
                      </a:lnTo>
                      <a:lnTo>
                        <a:pt x="472" y="397"/>
                      </a:lnTo>
                      <a:lnTo>
                        <a:pt x="418" y="420"/>
                      </a:lnTo>
                      <a:lnTo>
                        <a:pt x="412" y="422"/>
                      </a:lnTo>
                      <a:lnTo>
                        <a:pt x="354" y="432"/>
                      </a:lnTo>
                      <a:lnTo>
                        <a:pt x="348" y="434"/>
                      </a:lnTo>
                      <a:lnTo>
                        <a:pt x="270" y="436"/>
                      </a:lnTo>
                      <a:lnTo>
                        <a:pt x="190" y="434"/>
                      </a:lnTo>
                      <a:lnTo>
                        <a:pt x="123" y="427"/>
                      </a:lnTo>
                      <a:lnTo>
                        <a:pt x="74" y="416"/>
                      </a:lnTo>
                      <a:lnTo>
                        <a:pt x="27" y="392"/>
                      </a:lnTo>
                      <a:lnTo>
                        <a:pt x="22" y="392"/>
                      </a:lnTo>
                      <a:lnTo>
                        <a:pt x="0" y="374"/>
                      </a:lnTo>
                      <a:lnTo>
                        <a:pt x="69" y="374"/>
                      </a:lnTo>
                      <a:lnTo>
                        <a:pt x="156" y="360"/>
                      </a:lnTo>
                      <a:lnTo>
                        <a:pt x="237" y="340"/>
                      </a:lnTo>
                      <a:lnTo>
                        <a:pt x="301" y="320"/>
                      </a:lnTo>
                      <a:lnTo>
                        <a:pt x="379" y="294"/>
                      </a:lnTo>
                      <a:lnTo>
                        <a:pt x="469" y="256"/>
                      </a:lnTo>
                      <a:lnTo>
                        <a:pt x="571" y="206"/>
                      </a:lnTo>
                      <a:lnTo>
                        <a:pt x="645" y="173"/>
                      </a:lnTo>
                      <a:lnTo>
                        <a:pt x="722" y="143"/>
                      </a:lnTo>
                      <a:lnTo>
                        <a:pt x="816" y="113"/>
                      </a:lnTo>
                      <a:lnTo>
                        <a:pt x="925" y="80"/>
                      </a:lnTo>
                      <a:lnTo>
                        <a:pt x="1015" y="54"/>
                      </a:lnTo>
                      <a:lnTo>
                        <a:pt x="1083" y="37"/>
                      </a:lnTo>
                      <a:lnTo>
                        <a:pt x="1171" y="21"/>
                      </a:lnTo>
                      <a:lnTo>
                        <a:pt x="1274" y="11"/>
                      </a:lnTo>
                      <a:lnTo>
                        <a:pt x="1345" y="1"/>
                      </a:lnTo>
                      <a:lnTo>
                        <a:pt x="1442" y="0"/>
                      </a:lnTo>
                      <a:lnTo>
                        <a:pt x="1537" y="1"/>
                      </a:lnTo>
                      <a:lnTo>
                        <a:pt x="1604" y="10"/>
                      </a:lnTo>
                      <a:lnTo>
                        <a:pt x="1684" y="20"/>
                      </a:lnTo>
                      <a:lnTo>
                        <a:pt x="1749" y="34"/>
                      </a:lnTo>
                      <a:lnTo>
                        <a:pt x="1809" y="54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551720" y="1324080"/>
                  <a:ext cx="1211400" cy="214200"/>
                </a:xfrm>
                <a:custGeom>
                  <a:avLst/>
                  <a:gdLst/>
                  <a:ahLst/>
                  <a:rect l="l" t="t" r="r" b="b"/>
                  <a:pathLst>
                    <a:path w="3050" h="406">
                      <a:moveTo>
                        <a:pt x="2925" y="131"/>
                      </a:moveTo>
                      <a:lnTo>
                        <a:pt x="2850" y="106"/>
                      </a:lnTo>
                      <a:lnTo>
                        <a:pt x="2780" y="103"/>
                      </a:lnTo>
                      <a:lnTo>
                        <a:pt x="2710" y="111"/>
                      </a:lnTo>
                      <a:lnTo>
                        <a:pt x="2648" y="130"/>
                      </a:lnTo>
                      <a:lnTo>
                        <a:pt x="2558" y="151"/>
                      </a:lnTo>
                      <a:lnTo>
                        <a:pt x="2497" y="166"/>
                      </a:lnTo>
                      <a:lnTo>
                        <a:pt x="2433" y="177"/>
                      </a:lnTo>
                      <a:lnTo>
                        <a:pt x="2366" y="193"/>
                      </a:lnTo>
                      <a:lnTo>
                        <a:pt x="2311" y="197"/>
                      </a:lnTo>
                      <a:lnTo>
                        <a:pt x="2261" y="199"/>
                      </a:lnTo>
                      <a:lnTo>
                        <a:pt x="2201" y="199"/>
                      </a:lnTo>
                      <a:lnTo>
                        <a:pt x="2140" y="194"/>
                      </a:lnTo>
                      <a:lnTo>
                        <a:pt x="2095" y="184"/>
                      </a:lnTo>
                      <a:lnTo>
                        <a:pt x="2042" y="161"/>
                      </a:lnTo>
                      <a:lnTo>
                        <a:pt x="1981" y="130"/>
                      </a:lnTo>
                      <a:lnTo>
                        <a:pt x="1918" y="101"/>
                      </a:lnTo>
                      <a:lnTo>
                        <a:pt x="1863" y="80"/>
                      </a:lnTo>
                      <a:lnTo>
                        <a:pt x="1793" y="54"/>
                      </a:lnTo>
                      <a:lnTo>
                        <a:pt x="1704" y="36"/>
                      </a:lnTo>
                      <a:lnTo>
                        <a:pt x="1633" y="27"/>
                      </a:lnTo>
                      <a:lnTo>
                        <a:pt x="1536" y="21"/>
                      </a:lnTo>
                      <a:lnTo>
                        <a:pt x="1449" y="21"/>
                      </a:lnTo>
                      <a:lnTo>
                        <a:pt x="1355" y="27"/>
                      </a:lnTo>
                      <a:lnTo>
                        <a:pt x="1268" y="37"/>
                      </a:lnTo>
                      <a:lnTo>
                        <a:pt x="1184" y="54"/>
                      </a:lnTo>
                      <a:lnTo>
                        <a:pt x="1070" y="77"/>
                      </a:lnTo>
                      <a:lnTo>
                        <a:pt x="944" y="113"/>
                      </a:lnTo>
                      <a:lnTo>
                        <a:pt x="827" y="147"/>
                      </a:lnTo>
                      <a:lnTo>
                        <a:pt x="708" y="191"/>
                      </a:lnTo>
                      <a:lnTo>
                        <a:pt x="618" y="230"/>
                      </a:lnTo>
                      <a:lnTo>
                        <a:pt x="614" y="233"/>
                      </a:lnTo>
                      <a:lnTo>
                        <a:pt x="539" y="269"/>
                      </a:lnTo>
                      <a:lnTo>
                        <a:pt x="482" y="297"/>
                      </a:lnTo>
                      <a:lnTo>
                        <a:pt x="419" y="326"/>
                      </a:lnTo>
                      <a:lnTo>
                        <a:pt x="354" y="350"/>
                      </a:lnTo>
                      <a:lnTo>
                        <a:pt x="283" y="367"/>
                      </a:lnTo>
                      <a:lnTo>
                        <a:pt x="278" y="370"/>
                      </a:lnTo>
                      <a:lnTo>
                        <a:pt x="220" y="387"/>
                      </a:lnTo>
                      <a:lnTo>
                        <a:pt x="216" y="389"/>
                      </a:lnTo>
                      <a:lnTo>
                        <a:pt x="155" y="397"/>
                      </a:lnTo>
                      <a:lnTo>
                        <a:pt x="91" y="404"/>
                      </a:lnTo>
                      <a:lnTo>
                        <a:pt x="86" y="406"/>
                      </a:lnTo>
                      <a:lnTo>
                        <a:pt x="62" y="404"/>
                      </a:lnTo>
                      <a:lnTo>
                        <a:pt x="28" y="390"/>
                      </a:lnTo>
                      <a:lnTo>
                        <a:pt x="0" y="376"/>
                      </a:lnTo>
                      <a:lnTo>
                        <a:pt x="7" y="367"/>
                      </a:lnTo>
                      <a:lnTo>
                        <a:pt x="24" y="366"/>
                      </a:lnTo>
                      <a:lnTo>
                        <a:pt x="74" y="369"/>
                      </a:lnTo>
                      <a:lnTo>
                        <a:pt x="138" y="369"/>
                      </a:lnTo>
                      <a:lnTo>
                        <a:pt x="189" y="363"/>
                      </a:lnTo>
                      <a:lnTo>
                        <a:pt x="250" y="347"/>
                      </a:lnTo>
                      <a:lnTo>
                        <a:pt x="332" y="327"/>
                      </a:lnTo>
                      <a:lnTo>
                        <a:pt x="388" y="307"/>
                      </a:lnTo>
                      <a:lnTo>
                        <a:pt x="456" y="276"/>
                      </a:lnTo>
                      <a:lnTo>
                        <a:pt x="530" y="243"/>
                      </a:lnTo>
                      <a:lnTo>
                        <a:pt x="595" y="211"/>
                      </a:lnTo>
                      <a:lnTo>
                        <a:pt x="678" y="174"/>
                      </a:lnTo>
                      <a:lnTo>
                        <a:pt x="752" y="147"/>
                      </a:lnTo>
                      <a:lnTo>
                        <a:pt x="820" y="124"/>
                      </a:lnTo>
                      <a:lnTo>
                        <a:pt x="897" y="101"/>
                      </a:lnTo>
                      <a:lnTo>
                        <a:pt x="967" y="80"/>
                      </a:lnTo>
                      <a:lnTo>
                        <a:pt x="1056" y="54"/>
                      </a:lnTo>
                      <a:lnTo>
                        <a:pt x="1133" y="37"/>
                      </a:lnTo>
                      <a:lnTo>
                        <a:pt x="1193" y="26"/>
                      </a:lnTo>
                      <a:lnTo>
                        <a:pt x="1275" y="13"/>
                      </a:lnTo>
                      <a:lnTo>
                        <a:pt x="1372" y="3"/>
                      </a:lnTo>
                      <a:lnTo>
                        <a:pt x="1452" y="0"/>
                      </a:lnTo>
                      <a:lnTo>
                        <a:pt x="1549" y="0"/>
                      </a:lnTo>
                      <a:lnTo>
                        <a:pt x="1655" y="4"/>
                      </a:lnTo>
                      <a:lnTo>
                        <a:pt x="1715" y="14"/>
                      </a:lnTo>
                      <a:lnTo>
                        <a:pt x="1775" y="26"/>
                      </a:lnTo>
                      <a:lnTo>
                        <a:pt x="1836" y="46"/>
                      </a:lnTo>
                      <a:lnTo>
                        <a:pt x="1893" y="64"/>
                      </a:lnTo>
                      <a:lnTo>
                        <a:pt x="1951" y="86"/>
                      </a:lnTo>
                      <a:lnTo>
                        <a:pt x="2002" y="111"/>
                      </a:lnTo>
                      <a:lnTo>
                        <a:pt x="2058" y="136"/>
                      </a:lnTo>
                      <a:lnTo>
                        <a:pt x="2106" y="154"/>
                      </a:lnTo>
                      <a:lnTo>
                        <a:pt x="2146" y="166"/>
                      </a:lnTo>
                      <a:lnTo>
                        <a:pt x="2189" y="173"/>
                      </a:lnTo>
                      <a:lnTo>
                        <a:pt x="2260" y="171"/>
                      </a:lnTo>
                      <a:lnTo>
                        <a:pt x="2324" y="169"/>
                      </a:lnTo>
                      <a:lnTo>
                        <a:pt x="2385" y="161"/>
                      </a:lnTo>
                      <a:lnTo>
                        <a:pt x="2435" y="149"/>
                      </a:lnTo>
                      <a:lnTo>
                        <a:pt x="2523" y="134"/>
                      </a:lnTo>
                      <a:lnTo>
                        <a:pt x="2592" y="116"/>
                      </a:lnTo>
                      <a:lnTo>
                        <a:pt x="2675" y="96"/>
                      </a:lnTo>
                      <a:lnTo>
                        <a:pt x="2733" y="80"/>
                      </a:lnTo>
                      <a:lnTo>
                        <a:pt x="2786" y="76"/>
                      </a:lnTo>
                      <a:lnTo>
                        <a:pt x="2833" y="76"/>
                      </a:lnTo>
                      <a:lnTo>
                        <a:pt x="2858" y="81"/>
                      </a:lnTo>
                      <a:lnTo>
                        <a:pt x="2922" y="100"/>
                      </a:lnTo>
                      <a:lnTo>
                        <a:pt x="2988" y="127"/>
                      </a:lnTo>
                      <a:lnTo>
                        <a:pt x="3032" y="149"/>
                      </a:lnTo>
                      <a:lnTo>
                        <a:pt x="3050" y="157"/>
                      </a:lnTo>
                      <a:lnTo>
                        <a:pt x="3045" y="163"/>
                      </a:lnTo>
                      <a:lnTo>
                        <a:pt x="3029" y="167"/>
                      </a:lnTo>
                      <a:lnTo>
                        <a:pt x="2995" y="163"/>
                      </a:lnTo>
                      <a:lnTo>
                        <a:pt x="2951" y="144"/>
                      </a:lnTo>
                      <a:lnTo>
                        <a:pt x="2925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559640" y="1401840"/>
                  <a:ext cx="1201680" cy="163440"/>
                </a:xfrm>
                <a:custGeom>
                  <a:avLst/>
                  <a:gdLst/>
                  <a:ahLst/>
                  <a:rect l="l" t="t" r="r" b="b"/>
                  <a:pathLst>
                    <a:path w="3026" h="311">
                      <a:moveTo>
                        <a:pt x="2982" y="15"/>
                      </a:moveTo>
                      <a:lnTo>
                        <a:pt x="2938" y="15"/>
                      </a:lnTo>
                      <a:lnTo>
                        <a:pt x="2883" y="8"/>
                      </a:lnTo>
                      <a:lnTo>
                        <a:pt x="2820" y="0"/>
                      </a:lnTo>
                      <a:lnTo>
                        <a:pt x="2765" y="3"/>
                      </a:lnTo>
                      <a:lnTo>
                        <a:pt x="2698" y="17"/>
                      </a:lnTo>
                      <a:lnTo>
                        <a:pt x="2614" y="41"/>
                      </a:lnTo>
                      <a:lnTo>
                        <a:pt x="2543" y="63"/>
                      </a:lnTo>
                      <a:lnTo>
                        <a:pt x="2475" y="83"/>
                      </a:lnTo>
                      <a:lnTo>
                        <a:pt x="2412" y="101"/>
                      </a:lnTo>
                      <a:lnTo>
                        <a:pt x="2358" y="113"/>
                      </a:lnTo>
                      <a:lnTo>
                        <a:pt x="2354" y="113"/>
                      </a:lnTo>
                      <a:lnTo>
                        <a:pt x="2291" y="123"/>
                      </a:lnTo>
                      <a:lnTo>
                        <a:pt x="2222" y="124"/>
                      </a:lnTo>
                      <a:lnTo>
                        <a:pt x="2148" y="128"/>
                      </a:lnTo>
                      <a:lnTo>
                        <a:pt x="2143" y="128"/>
                      </a:lnTo>
                      <a:lnTo>
                        <a:pt x="2047" y="127"/>
                      </a:lnTo>
                      <a:lnTo>
                        <a:pt x="1956" y="117"/>
                      </a:lnTo>
                      <a:lnTo>
                        <a:pt x="1914" y="110"/>
                      </a:lnTo>
                      <a:lnTo>
                        <a:pt x="1856" y="91"/>
                      </a:lnTo>
                      <a:lnTo>
                        <a:pt x="1796" y="67"/>
                      </a:lnTo>
                      <a:lnTo>
                        <a:pt x="1732" y="45"/>
                      </a:lnTo>
                      <a:lnTo>
                        <a:pt x="1674" y="30"/>
                      </a:lnTo>
                      <a:lnTo>
                        <a:pt x="1617" y="20"/>
                      </a:lnTo>
                      <a:lnTo>
                        <a:pt x="1529" y="8"/>
                      </a:lnTo>
                      <a:lnTo>
                        <a:pt x="1434" y="3"/>
                      </a:lnTo>
                      <a:lnTo>
                        <a:pt x="1341" y="0"/>
                      </a:lnTo>
                      <a:lnTo>
                        <a:pt x="1246" y="0"/>
                      </a:lnTo>
                      <a:lnTo>
                        <a:pt x="1189" y="7"/>
                      </a:lnTo>
                      <a:lnTo>
                        <a:pt x="1116" y="20"/>
                      </a:lnTo>
                      <a:lnTo>
                        <a:pt x="1052" y="37"/>
                      </a:lnTo>
                      <a:lnTo>
                        <a:pt x="975" y="58"/>
                      </a:lnTo>
                      <a:lnTo>
                        <a:pt x="899" y="83"/>
                      </a:lnTo>
                      <a:lnTo>
                        <a:pt x="823" y="108"/>
                      </a:lnTo>
                      <a:lnTo>
                        <a:pt x="738" y="133"/>
                      </a:lnTo>
                      <a:lnTo>
                        <a:pt x="668" y="161"/>
                      </a:lnTo>
                      <a:lnTo>
                        <a:pt x="611" y="190"/>
                      </a:lnTo>
                      <a:lnTo>
                        <a:pt x="550" y="221"/>
                      </a:lnTo>
                      <a:lnTo>
                        <a:pt x="498" y="251"/>
                      </a:lnTo>
                      <a:lnTo>
                        <a:pt x="456" y="266"/>
                      </a:lnTo>
                      <a:lnTo>
                        <a:pt x="398" y="280"/>
                      </a:lnTo>
                      <a:lnTo>
                        <a:pt x="350" y="286"/>
                      </a:lnTo>
                      <a:lnTo>
                        <a:pt x="343" y="284"/>
                      </a:lnTo>
                      <a:lnTo>
                        <a:pt x="284" y="288"/>
                      </a:lnTo>
                      <a:lnTo>
                        <a:pt x="215" y="283"/>
                      </a:lnTo>
                      <a:lnTo>
                        <a:pt x="148" y="274"/>
                      </a:lnTo>
                      <a:lnTo>
                        <a:pt x="107" y="263"/>
                      </a:lnTo>
                      <a:lnTo>
                        <a:pt x="80" y="244"/>
                      </a:lnTo>
                      <a:lnTo>
                        <a:pt x="0" y="233"/>
                      </a:lnTo>
                      <a:lnTo>
                        <a:pt x="6" y="244"/>
                      </a:lnTo>
                      <a:lnTo>
                        <a:pt x="43" y="268"/>
                      </a:lnTo>
                      <a:lnTo>
                        <a:pt x="82" y="288"/>
                      </a:lnTo>
                      <a:lnTo>
                        <a:pt x="125" y="298"/>
                      </a:lnTo>
                      <a:lnTo>
                        <a:pt x="176" y="306"/>
                      </a:lnTo>
                      <a:lnTo>
                        <a:pt x="235" y="310"/>
                      </a:lnTo>
                      <a:lnTo>
                        <a:pt x="303" y="311"/>
                      </a:lnTo>
                      <a:lnTo>
                        <a:pt x="348" y="310"/>
                      </a:lnTo>
                      <a:lnTo>
                        <a:pt x="417" y="304"/>
                      </a:lnTo>
                      <a:lnTo>
                        <a:pt x="475" y="293"/>
                      </a:lnTo>
                      <a:lnTo>
                        <a:pt x="535" y="266"/>
                      </a:lnTo>
                      <a:lnTo>
                        <a:pt x="579" y="238"/>
                      </a:lnTo>
                      <a:lnTo>
                        <a:pt x="643" y="207"/>
                      </a:lnTo>
                      <a:lnTo>
                        <a:pt x="714" y="173"/>
                      </a:lnTo>
                      <a:lnTo>
                        <a:pt x="775" y="151"/>
                      </a:lnTo>
                      <a:lnTo>
                        <a:pt x="839" y="133"/>
                      </a:lnTo>
                      <a:lnTo>
                        <a:pt x="914" y="107"/>
                      </a:lnTo>
                      <a:lnTo>
                        <a:pt x="998" y="80"/>
                      </a:lnTo>
                      <a:lnTo>
                        <a:pt x="1074" y="60"/>
                      </a:lnTo>
                      <a:lnTo>
                        <a:pt x="1139" y="45"/>
                      </a:lnTo>
                      <a:lnTo>
                        <a:pt x="1190" y="37"/>
                      </a:lnTo>
                      <a:lnTo>
                        <a:pt x="1246" y="30"/>
                      </a:lnTo>
                      <a:lnTo>
                        <a:pt x="1315" y="27"/>
                      </a:lnTo>
                      <a:lnTo>
                        <a:pt x="1415" y="30"/>
                      </a:lnTo>
                      <a:lnTo>
                        <a:pt x="1506" y="37"/>
                      </a:lnTo>
                      <a:lnTo>
                        <a:pt x="1597" y="45"/>
                      </a:lnTo>
                      <a:lnTo>
                        <a:pt x="1673" y="60"/>
                      </a:lnTo>
                      <a:lnTo>
                        <a:pt x="1738" y="77"/>
                      </a:lnTo>
                      <a:lnTo>
                        <a:pt x="1799" y="98"/>
                      </a:lnTo>
                      <a:lnTo>
                        <a:pt x="1856" y="120"/>
                      </a:lnTo>
                      <a:lnTo>
                        <a:pt x="1912" y="137"/>
                      </a:lnTo>
                      <a:lnTo>
                        <a:pt x="1973" y="144"/>
                      </a:lnTo>
                      <a:lnTo>
                        <a:pt x="2040" y="154"/>
                      </a:lnTo>
                      <a:lnTo>
                        <a:pt x="2099" y="158"/>
                      </a:lnTo>
                      <a:lnTo>
                        <a:pt x="2163" y="158"/>
                      </a:lnTo>
                      <a:lnTo>
                        <a:pt x="2239" y="154"/>
                      </a:lnTo>
                      <a:lnTo>
                        <a:pt x="2304" y="150"/>
                      </a:lnTo>
                      <a:lnTo>
                        <a:pt x="2372" y="143"/>
                      </a:lnTo>
                      <a:lnTo>
                        <a:pt x="2432" y="128"/>
                      </a:lnTo>
                      <a:lnTo>
                        <a:pt x="2490" y="108"/>
                      </a:lnTo>
                      <a:lnTo>
                        <a:pt x="2530" y="93"/>
                      </a:lnTo>
                      <a:lnTo>
                        <a:pt x="2596" y="71"/>
                      </a:lnTo>
                      <a:lnTo>
                        <a:pt x="2660" y="55"/>
                      </a:lnTo>
                      <a:lnTo>
                        <a:pt x="2719" y="38"/>
                      </a:lnTo>
                      <a:lnTo>
                        <a:pt x="2768" y="30"/>
                      </a:lnTo>
                      <a:lnTo>
                        <a:pt x="2805" y="27"/>
                      </a:lnTo>
                      <a:lnTo>
                        <a:pt x="2847" y="28"/>
                      </a:lnTo>
                      <a:lnTo>
                        <a:pt x="2900" y="33"/>
                      </a:lnTo>
                      <a:lnTo>
                        <a:pt x="2945" y="38"/>
                      </a:lnTo>
                      <a:lnTo>
                        <a:pt x="2984" y="40"/>
                      </a:lnTo>
                      <a:lnTo>
                        <a:pt x="3005" y="31"/>
                      </a:lnTo>
                      <a:lnTo>
                        <a:pt x="3024" y="23"/>
                      </a:lnTo>
                      <a:lnTo>
                        <a:pt x="3026" y="13"/>
                      </a:lnTo>
                      <a:lnTo>
                        <a:pt x="3014" y="10"/>
                      </a:lnTo>
                      <a:lnTo>
                        <a:pt x="2982" y="1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7729560" y="800280"/>
                <a:ext cx="622440" cy="1066680"/>
                <a:chOff x="7729560" y="800280"/>
                <a:chExt cx="622440" cy="106668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7988400" y="903240"/>
                  <a:ext cx="150840" cy="185760"/>
                </a:xfrm>
                <a:custGeom>
                  <a:avLst/>
                  <a:gdLst/>
                  <a:ahLst/>
                  <a:rect l="l" t="t" r="r" b="b"/>
                  <a:pathLst>
                    <a:path w="380" h="350">
                      <a:moveTo>
                        <a:pt x="295" y="183"/>
                      </a:moveTo>
                      <a:lnTo>
                        <a:pt x="276" y="122"/>
                      </a:lnTo>
                      <a:lnTo>
                        <a:pt x="258" y="90"/>
                      </a:lnTo>
                      <a:lnTo>
                        <a:pt x="239" y="64"/>
                      </a:lnTo>
                      <a:lnTo>
                        <a:pt x="216" y="37"/>
                      </a:lnTo>
                      <a:lnTo>
                        <a:pt x="191" y="19"/>
                      </a:lnTo>
                      <a:lnTo>
                        <a:pt x="167" y="6"/>
                      </a:lnTo>
                      <a:lnTo>
                        <a:pt x="140" y="0"/>
                      </a:lnTo>
                      <a:lnTo>
                        <a:pt x="108" y="0"/>
                      </a:lnTo>
                      <a:lnTo>
                        <a:pt x="74" y="9"/>
                      </a:lnTo>
                      <a:lnTo>
                        <a:pt x="49" y="24"/>
                      </a:lnTo>
                      <a:lnTo>
                        <a:pt x="27" y="49"/>
                      </a:lnTo>
                      <a:lnTo>
                        <a:pt x="10" y="79"/>
                      </a:lnTo>
                      <a:lnTo>
                        <a:pt x="0" y="114"/>
                      </a:lnTo>
                      <a:lnTo>
                        <a:pt x="0" y="149"/>
                      </a:lnTo>
                      <a:lnTo>
                        <a:pt x="7" y="183"/>
                      </a:lnTo>
                      <a:lnTo>
                        <a:pt x="24" y="230"/>
                      </a:lnTo>
                      <a:lnTo>
                        <a:pt x="49" y="267"/>
                      </a:lnTo>
                      <a:lnTo>
                        <a:pt x="76" y="296"/>
                      </a:lnTo>
                      <a:lnTo>
                        <a:pt x="113" y="322"/>
                      </a:lnTo>
                      <a:lnTo>
                        <a:pt x="144" y="339"/>
                      </a:lnTo>
                      <a:lnTo>
                        <a:pt x="177" y="347"/>
                      </a:lnTo>
                      <a:lnTo>
                        <a:pt x="208" y="350"/>
                      </a:lnTo>
                      <a:lnTo>
                        <a:pt x="231" y="345"/>
                      </a:lnTo>
                      <a:lnTo>
                        <a:pt x="253" y="332"/>
                      </a:lnTo>
                      <a:lnTo>
                        <a:pt x="270" y="317"/>
                      </a:lnTo>
                      <a:lnTo>
                        <a:pt x="279" y="297"/>
                      </a:lnTo>
                      <a:lnTo>
                        <a:pt x="282" y="272"/>
                      </a:lnTo>
                      <a:lnTo>
                        <a:pt x="285" y="239"/>
                      </a:lnTo>
                      <a:lnTo>
                        <a:pt x="326" y="259"/>
                      </a:lnTo>
                      <a:lnTo>
                        <a:pt x="363" y="266"/>
                      </a:lnTo>
                      <a:lnTo>
                        <a:pt x="380" y="257"/>
                      </a:lnTo>
                      <a:lnTo>
                        <a:pt x="378" y="239"/>
                      </a:lnTo>
                      <a:lnTo>
                        <a:pt x="370" y="220"/>
                      </a:lnTo>
                      <a:lnTo>
                        <a:pt x="348" y="207"/>
                      </a:lnTo>
                      <a:lnTo>
                        <a:pt x="319" y="200"/>
                      </a:lnTo>
                      <a:lnTo>
                        <a:pt x="297" y="190"/>
                      </a:lnTo>
                      <a:lnTo>
                        <a:pt x="295" y="1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047080" y="1141560"/>
                  <a:ext cx="164880" cy="403200"/>
                </a:xfrm>
                <a:custGeom>
                  <a:avLst/>
                  <a:gdLst/>
                  <a:ahLst/>
                  <a:rect l="l" t="t" r="r" b="b"/>
                  <a:pathLst>
                    <a:path w="415" h="760">
                      <a:moveTo>
                        <a:pt x="15" y="55"/>
                      </a:moveTo>
                      <a:lnTo>
                        <a:pt x="32" y="30"/>
                      </a:lnTo>
                      <a:lnTo>
                        <a:pt x="54" y="12"/>
                      </a:lnTo>
                      <a:lnTo>
                        <a:pt x="82" y="0"/>
                      </a:lnTo>
                      <a:lnTo>
                        <a:pt x="119" y="0"/>
                      </a:lnTo>
                      <a:lnTo>
                        <a:pt x="155" y="0"/>
                      </a:lnTo>
                      <a:lnTo>
                        <a:pt x="191" y="9"/>
                      </a:lnTo>
                      <a:lnTo>
                        <a:pt x="226" y="26"/>
                      </a:lnTo>
                      <a:lnTo>
                        <a:pt x="256" y="53"/>
                      </a:lnTo>
                      <a:lnTo>
                        <a:pt x="289" y="90"/>
                      </a:lnTo>
                      <a:lnTo>
                        <a:pt x="317" y="135"/>
                      </a:lnTo>
                      <a:lnTo>
                        <a:pt x="340" y="178"/>
                      </a:lnTo>
                      <a:lnTo>
                        <a:pt x="361" y="225"/>
                      </a:lnTo>
                      <a:lnTo>
                        <a:pt x="374" y="274"/>
                      </a:lnTo>
                      <a:lnTo>
                        <a:pt x="384" y="318"/>
                      </a:lnTo>
                      <a:lnTo>
                        <a:pt x="398" y="368"/>
                      </a:lnTo>
                      <a:lnTo>
                        <a:pt x="408" y="417"/>
                      </a:lnTo>
                      <a:lnTo>
                        <a:pt x="413" y="467"/>
                      </a:lnTo>
                      <a:lnTo>
                        <a:pt x="415" y="515"/>
                      </a:lnTo>
                      <a:lnTo>
                        <a:pt x="415" y="560"/>
                      </a:lnTo>
                      <a:lnTo>
                        <a:pt x="408" y="604"/>
                      </a:lnTo>
                      <a:lnTo>
                        <a:pt x="400" y="644"/>
                      </a:lnTo>
                      <a:lnTo>
                        <a:pt x="384" y="678"/>
                      </a:lnTo>
                      <a:lnTo>
                        <a:pt x="366" y="703"/>
                      </a:lnTo>
                      <a:lnTo>
                        <a:pt x="344" y="723"/>
                      </a:lnTo>
                      <a:lnTo>
                        <a:pt x="319" y="740"/>
                      </a:lnTo>
                      <a:lnTo>
                        <a:pt x="287" y="751"/>
                      </a:lnTo>
                      <a:lnTo>
                        <a:pt x="253" y="760"/>
                      </a:lnTo>
                      <a:lnTo>
                        <a:pt x="219" y="760"/>
                      </a:lnTo>
                      <a:lnTo>
                        <a:pt x="187" y="756"/>
                      </a:lnTo>
                      <a:lnTo>
                        <a:pt x="158" y="748"/>
                      </a:lnTo>
                      <a:lnTo>
                        <a:pt x="138" y="738"/>
                      </a:lnTo>
                      <a:lnTo>
                        <a:pt x="121" y="721"/>
                      </a:lnTo>
                      <a:lnTo>
                        <a:pt x="112" y="700"/>
                      </a:lnTo>
                      <a:lnTo>
                        <a:pt x="102" y="670"/>
                      </a:lnTo>
                      <a:lnTo>
                        <a:pt x="99" y="644"/>
                      </a:lnTo>
                      <a:lnTo>
                        <a:pt x="101" y="603"/>
                      </a:lnTo>
                      <a:lnTo>
                        <a:pt x="106" y="571"/>
                      </a:lnTo>
                      <a:lnTo>
                        <a:pt x="118" y="541"/>
                      </a:lnTo>
                      <a:lnTo>
                        <a:pt x="129" y="511"/>
                      </a:lnTo>
                      <a:lnTo>
                        <a:pt x="133" y="478"/>
                      </a:lnTo>
                      <a:lnTo>
                        <a:pt x="135" y="440"/>
                      </a:lnTo>
                      <a:lnTo>
                        <a:pt x="126" y="397"/>
                      </a:lnTo>
                      <a:lnTo>
                        <a:pt x="105" y="355"/>
                      </a:lnTo>
                      <a:lnTo>
                        <a:pt x="78" y="315"/>
                      </a:lnTo>
                      <a:lnTo>
                        <a:pt x="44" y="280"/>
                      </a:lnTo>
                      <a:lnTo>
                        <a:pt x="25" y="250"/>
                      </a:lnTo>
                      <a:lnTo>
                        <a:pt x="10" y="212"/>
                      </a:lnTo>
                      <a:lnTo>
                        <a:pt x="1" y="169"/>
                      </a:lnTo>
                      <a:lnTo>
                        <a:pt x="0" y="128"/>
                      </a:lnTo>
                      <a:lnTo>
                        <a:pt x="1" y="89"/>
                      </a:lnTo>
                      <a:lnTo>
                        <a:pt x="15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8093160" y="800280"/>
                  <a:ext cx="258840" cy="369720"/>
                </a:xfrm>
                <a:custGeom>
                  <a:avLst/>
                  <a:gdLst/>
                  <a:ahLst/>
                  <a:rect l="l" t="t" r="r" b="b"/>
                  <a:pathLst>
                    <a:path w="653" h="699">
                      <a:moveTo>
                        <a:pt x="3" y="666"/>
                      </a:moveTo>
                      <a:lnTo>
                        <a:pt x="40" y="631"/>
                      </a:lnTo>
                      <a:lnTo>
                        <a:pt x="77" y="602"/>
                      </a:lnTo>
                      <a:lnTo>
                        <a:pt x="134" y="569"/>
                      </a:lnTo>
                      <a:lnTo>
                        <a:pt x="192" y="548"/>
                      </a:lnTo>
                      <a:lnTo>
                        <a:pt x="241" y="531"/>
                      </a:lnTo>
                      <a:lnTo>
                        <a:pt x="300" y="516"/>
                      </a:lnTo>
                      <a:lnTo>
                        <a:pt x="333" y="508"/>
                      </a:lnTo>
                      <a:lnTo>
                        <a:pt x="352" y="502"/>
                      </a:lnTo>
                      <a:lnTo>
                        <a:pt x="360" y="489"/>
                      </a:lnTo>
                      <a:lnTo>
                        <a:pt x="364" y="469"/>
                      </a:lnTo>
                      <a:lnTo>
                        <a:pt x="367" y="422"/>
                      </a:lnTo>
                      <a:lnTo>
                        <a:pt x="373" y="378"/>
                      </a:lnTo>
                      <a:lnTo>
                        <a:pt x="384" y="333"/>
                      </a:lnTo>
                      <a:lnTo>
                        <a:pt x="394" y="296"/>
                      </a:lnTo>
                      <a:lnTo>
                        <a:pt x="418" y="253"/>
                      </a:lnTo>
                      <a:lnTo>
                        <a:pt x="438" y="223"/>
                      </a:lnTo>
                      <a:lnTo>
                        <a:pt x="467" y="185"/>
                      </a:lnTo>
                      <a:lnTo>
                        <a:pt x="484" y="155"/>
                      </a:lnTo>
                      <a:lnTo>
                        <a:pt x="485" y="132"/>
                      </a:lnTo>
                      <a:lnTo>
                        <a:pt x="484" y="110"/>
                      </a:lnTo>
                      <a:lnTo>
                        <a:pt x="485" y="105"/>
                      </a:lnTo>
                      <a:lnTo>
                        <a:pt x="485" y="100"/>
                      </a:lnTo>
                      <a:lnTo>
                        <a:pt x="484" y="95"/>
                      </a:lnTo>
                      <a:lnTo>
                        <a:pt x="482" y="90"/>
                      </a:lnTo>
                      <a:lnTo>
                        <a:pt x="478" y="85"/>
                      </a:lnTo>
                      <a:lnTo>
                        <a:pt x="478" y="80"/>
                      </a:lnTo>
                      <a:lnTo>
                        <a:pt x="474" y="77"/>
                      </a:lnTo>
                      <a:lnTo>
                        <a:pt x="468" y="73"/>
                      </a:lnTo>
                      <a:lnTo>
                        <a:pt x="465" y="69"/>
                      </a:lnTo>
                      <a:lnTo>
                        <a:pt x="460" y="67"/>
                      </a:lnTo>
                      <a:lnTo>
                        <a:pt x="455" y="65"/>
                      </a:lnTo>
                      <a:lnTo>
                        <a:pt x="450" y="62"/>
                      </a:lnTo>
                      <a:lnTo>
                        <a:pt x="444" y="60"/>
                      </a:lnTo>
                      <a:lnTo>
                        <a:pt x="440" y="57"/>
                      </a:lnTo>
                      <a:lnTo>
                        <a:pt x="437" y="52"/>
                      </a:lnTo>
                      <a:lnTo>
                        <a:pt x="431" y="49"/>
                      </a:lnTo>
                      <a:lnTo>
                        <a:pt x="424" y="43"/>
                      </a:lnTo>
                      <a:lnTo>
                        <a:pt x="424" y="39"/>
                      </a:lnTo>
                      <a:lnTo>
                        <a:pt x="424" y="33"/>
                      </a:lnTo>
                      <a:lnTo>
                        <a:pt x="424" y="29"/>
                      </a:lnTo>
                      <a:lnTo>
                        <a:pt x="424" y="23"/>
                      </a:lnTo>
                      <a:lnTo>
                        <a:pt x="424" y="19"/>
                      </a:lnTo>
                      <a:lnTo>
                        <a:pt x="428" y="13"/>
                      </a:lnTo>
                      <a:lnTo>
                        <a:pt x="431" y="9"/>
                      </a:lnTo>
                      <a:lnTo>
                        <a:pt x="438" y="6"/>
                      </a:lnTo>
                      <a:lnTo>
                        <a:pt x="443" y="2"/>
                      </a:lnTo>
                      <a:lnTo>
                        <a:pt x="448" y="0"/>
                      </a:lnTo>
                      <a:lnTo>
                        <a:pt x="453" y="0"/>
                      </a:lnTo>
                      <a:lnTo>
                        <a:pt x="458" y="0"/>
                      </a:lnTo>
                      <a:lnTo>
                        <a:pt x="464" y="2"/>
                      </a:lnTo>
                      <a:lnTo>
                        <a:pt x="468" y="3"/>
                      </a:lnTo>
                      <a:lnTo>
                        <a:pt x="474" y="7"/>
                      </a:lnTo>
                      <a:lnTo>
                        <a:pt x="478" y="10"/>
                      </a:lnTo>
                      <a:lnTo>
                        <a:pt x="482" y="16"/>
                      </a:lnTo>
                      <a:lnTo>
                        <a:pt x="487" y="19"/>
                      </a:lnTo>
                      <a:lnTo>
                        <a:pt x="488" y="23"/>
                      </a:lnTo>
                      <a:lnTo>
                        <a:pt x="492" y="29"/>
                      </a:lnTo>
                      <a:lnTo>
                        <a:pt x="494" y="33"/>
                      </a:lnTo>
                      <a:lnTo>
                        <a:pt x="495" y="39"/>
                      </a:lnTo>
                      <a:lnTo>
                        <a:pt x="498" y="43"/>
                      </a:lnTo>
                      <a:lnTo>
                        <a:pt x="501" y="49"/>
                      </a:lnTo>
                      <a:lnTo>
                        <a:pt x="502" y="53"/>
                      </a:lnTo>
                      <a:lnTo>
                        <a:pt x="502" y="59"/>
                      </a:lnTo>
                      <a:lnTo>
                        <a:pt x="504" y="63"/>
                      </a:lnTo>
                      <a:lnTo>
                        <a:pt x="508" y="67"/>
                      </a:lnTo>
                      <a:lnTo>
                        <a:pt x="514" y="70"/>
                      </a:lnTo>
                      <a:lnTo>
                        <a:pt x="519" y="73"/>
                      </a:lnTo>
                      <a:lnTo>
                        <a:pt x="524" y="75"/>
                      </a:lnTo>
                      <a:lnTo>
                        <a:pt x="529" y="72"/>
                      </a:lnTo>
                      <a:lnTo>
                        <a:pt x="534" y="70"/>
                      </a:lnTo>
                      <a:lnTo>
                        <a:pt x="538" y="63"/>
                      </a:lnTo>
                      <a:lnTo>
                        <a:pt x="541" y="59"/>
                      </a:lnTo>
                      <a:lnTo>
                        <a:pt x="542" y="53"/>
                      </a:lnTo>
                      <a:lnTo>
                        <a:pt x="542" y="49"/>
                      </a:lnTo>
                      <a:lnTo>
                        <a:pt x="544" y="43"/>
                      </a:lnTo>
                      <a:lnTo>
                        <a:pt x="546" y="39"/>
                      </a:lnTo>
                      <a:lnTo>
                        <a:pt x="548" y="33"/>
                      </a:lnTo>
                      <a:lnTo>
                        <a:pt x="551" y="29"/>
                      </a:lnTo>
                      <a:lnTo>
                        <a:pt x="556" y="23"/>
                      </a:lnTo>
                      <a:lnTo>
                        <a:pt x="561" y="19"/>
                      </a:lnTo>
                      <a:lnTo>
                        <a:pt x="566" y="17"/>
                      </a:lnTo>
                      <a:lnTo>
                        <a:pt x="571" y="16"/>
                      </a:lnTo>
                      <a:lnTo>
                        <a:pt x="578" y="16"/>
                      </a:lnTo>
                      <a:lnTo>
                        <a:pt x="583" y="16"/>
                      </a:lnTo>
                      <a:lnTo>
                        <a:pt x="588" y="16"/>
                      </a:lnTo>
                      <a:lnTo>
                        <a:pt x="593" y="17"/>
                      </a:lnTo>
                      <a:lnTo>
                        <a:pt x="598" y="19"/>
                      </a:lnTo>
                      <a:lnTo>
                        <a:pt x="603" y="23"/>
                      </a:lnTo>
                      <a:lnTo>
                        <a:pt x="605" y="29"/>
                      </a:lnTo>
                      <a:lnTo>
                        <a:pt x="605" y="33"/>
                      </a:lnTo>
                      <a:lnTo>
                        <a:pt x="606" y="39"/>
                      </a:lnTo>
                      <a:lnTo>
                        <a:pt x="606" y="43"/>
                      </a:lnTo>
                      <a:lnTo>
                        <a:pt x="605" y="49"/>
                      </a:lnTo>
                      <a:lnTo>
                        <a:pt x="602" y="53"/>
                      </a:lnTo>
                      <a:lnTo>
                        <a:pt x="596" y="57"/>
                      </a:lnTo>
                      <a:lnTo>
                        <a:pt x="592" y="62"/>
                      </a:lnTo>
                      <a:lnTo>
                        <a:pt x="586" y="65"/>
                      </a:lnTo>
                      <a:lnTo>
                        <a:pt x="583" y="70"/>
                      </a:lnTo>
                      <a:lnTo>
                        <a:pt x="578" y="75"/>
                      </a:lnTo>
                      <a:lnTo>
                        <a:pt x="573" y="80"/>
                      </a:lnTo>
                      <a:lnTo>
                        <a:pt x="568" y="83"/>
                      </a:lnTo>
                      <a:lnTo>
                        <a:pt x="566" y="89"/>
                      </a:lnTo>
                      <a:lnTo>
                        <a:pt x="562" y="93"/>
                      </a:lnTo>
                      <a:lnTo>
                        <a:pt x="559" y="99"/>
                      </a:lnTo>
                      <a:lnTo>
                        <a:pt x="559" y="103"/>
                      </a:lnTo>
                      <a:lnTo>
                        <a:pt x="559" y="109"/>
                      </a:lnTo>
                      <a:lnTo>
                        <a:pt x="565" y="110"/>
                      </a:lnTo>
                      <a:lnTo>
                        <a:pt x="569" y="112"/>
                      </a:lnTo>
                      <a:lnTo>
                        <a:pt x="576" y="110"/>
                      </a:lnTo>
                      <a:lnTo>
                        <a:pt x="582" y="110"/>
                      </a:lnTo>
                      <a:lnTo>
                        <a:pt x="586" y="109"/>
                      </a:lnTo>
                      <a:lnTo>
                        <a:pt x="593" y="107"/>
                      </a:lnTo>
                      <a:lnTo>
                        <a:pt x="599" y="105"/>
                      </a:lnTo>
                      <a:lnTo>
                        <a:pt x="605" y="103"/>
                      </a:lnTo>
                      <a:lnTo>
                        <a:pt x="610" y="102"/>
                      </a:lnTo>
                      <a:lnTo>
                        <a:pt x="616" y="102"/>
                      </a:lnTo>
                      <a:lnTo>
                        <a:pt x="622" y="102"/>
                      </a:lnTo>
                      <a:lnTo>
                        <a:pt x="626" y="102"/>
                      </a:lnTo>
                      <a:lnTo>
                        <a:pt x="633" y="103"/>
                      </a:lnTo>
                      <a:lnTo>
                        <a:pt x="642" y="105"/>
                      </a:lnTo>
                      <a:lnTo>
                        <a:pt x="646" y="110"/>
                      </a:lnTo>
                      <a:lnTo>
                        <a:pt x="650" y="113"/>
                      </a:lnTo>
                      <a:lnTo>
                        <a:pt x="652" y="119"/>
                      </a:lnTo>
                      <a:lnTo>
                        <a:pt x="653" y="125"/>
                      </a:lnTo>
                      <a:lnTo>
                        <a:pt x="652" y="130"/>
                      </a:lnTo>
                      <a:lnTo>
                        <a:pt x="650" y="135"/>
                      </a:lnTo>
                      <a:lnTo>
                        <a:pt x="646" y="140"/>
                      </a:lnTo>
                      <a:lnTo>
                        <a:pt x="642" y="145"/>
                      </a:lnTo>
                      <a:lnTo>
                        <a:pt x="637" y="145"/>
                      </a:lnTo>
                      <a:lnTo>
                        <a:pt x="630" y="150"/>
                      </a:lnTo>
                      <a:lnTo>
                        <a:pt x="625" y="152"/>
                      </a:lnTo>
                      <a:lnTo>
                        <a:pt x="620" y="153"/>
                      </a:lnTo>
                      <a:lnTo>
                        <a:pt x="615" y="155"/>
                      </a:lnTo>
                      <a:lnTo>
                        <a:pt x="610" y="155"/>
                      </a:lnTo>
                      <a:lnTo>
                        <a:pt x="603" y="155"/>
                      </a:lnTo>
                      <a:lnTo>
                        <a:pt x="596" y="156"/>
                      </a:lnTo>
                      <a:lnTo>
                        <a:pt x="589" y="156"/>
                      </a:lnTo>
                      <a:lnTo>
                        <a:pt x="585" y="156"/>
                      </a:lnTo>
                      <a:lnTo>
                        <a:pt x="579" y="156"/>
                      </a:lnTo>
                      <a:lnTo>
                        <a:pt x="575" y="155"/>
                      </a:lnTo>
                      <a:lnTo>
                        <a:pt x="569" y="155"/>
                      </a:lnTo>
                      <a:lnTo>
                        <a:pt x="565" y="155"/>
                      </a:lnTo>
                      <a:lnTo>
                        <a:pt x="559" y="153"/>
                      </a:lnTo>
                      <a:lnTo>
                        <a:pt x="555" y="156"/>
                      </a:lnTo>
                      <a:lnTo>
                        <a:pt x="549" y="159"/>
                      </a:lnTo>
                      <a:lnTo>
                        <a:pt x="544" y="162"/>
                      </a:lnTo>
                      <a:lnTo>
                        <a:pt x="539" y="165"/>
                      </a:lnTo>
                      <a:lnTo>
                        <a:pt x="535" y="170"/>
                      </a:lnTo>
                      <a:lnTo>
                        <a:pt x="508" y="183"/>
                      </a:lnTo>
                      <a:lnTo>
                        <a:pt x="482" y="220"/>
                      </a:lnTo>
                      <a:lnTo>
                        <a:pt x="460" y="259"/>
                      </a:lnTo>
                      <a:lnTo>
                        <a:pt x="440" y="318"/>
                      </a:lnTo>
                      <a:lnTo>
                        <a:pt x="433" y="373"/>
                      </a:lnTo>
                      <a:lnTo>
                        <a:pt x="430" y="448"/>
                      </a:lnTo>
                      <a:lnTo>
                        <a:pt x="428" y="493"/>
                      </a:lnTo>
                      <a:lnTo>
                        <a:pt x="424" y="516"/>
                      </a:lnTo>
                      <a:lnTo>
                        <a:pt x="414" y="536"/>
                      </a:lnTo>
                      <a:lnTo>
                        <a:pt x="403" y="549"/>
                      </a:lnTo>
                      <a:lnTo>
                        <a:pt x="380" y="565"/>
                      </a:lnTo>
                      <a:lnTo>
                        <a:pt x="339" y="585"/>
                      </a:lnTo>
                      <a:lnTo>
                        <a:pt x="293" y="601"/>
                      </a:lnTo>
                      <a:lnTo>
                        <a:pt x="252" y="618"/>
                      </a:lnTo>
                      <a:lnTo>
                        <a:pt x="218" y="631"/>
                      </a:lnTo>
                      <a:lnTo>
                        <a:pt x="170" y="651"/>
                      </a:lnTo>
                      <a:lnTo>
                        <a:pt x="131" y="668"/>
                      </a:lnTo>
                      <a:lnTo>
                        <a:pt x="97" y="688"/>
                      </a:lnTo>
                      <a:lnTo>
                        <a:pt x="60" y="699"/>
                      </a:lnTo>
                      <a:lnTo>
                        <a:pt x="31" y="698"/>
                      </a:lnTo>
                      <a:lnTo>
                        <a:pt x="11" y="691"/>
                      </a:lnTo>
                      <a:lnTo>
                        <a:pt x="0" y="682"/>
                      </a:lnTo>
                      <a:lnTo>
                        <a:pt x="3" y="6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729560" y="1015920"/>
                  <a:ext cx="352440" cy="204840"/>
                </a:xfrm>
                <a:custGeom>
                  <a:avLst/>
                  <a:gdLst/>
                  <a:ahLst/>
                  <a:rect l="l" t="t" r="r" b="b"/>
                  <a:pathLst>
                    <a:path w="891" h="387">
                      <a:moveTo>
                        <a:pt x="719" y="292"/>
                      </a:moveTo>
                      <a:lnTo>
                        <a:pt x="775" y="270"/>
                      </a:lnTo>
                      <a:lnTo>
                        <a:pt x="829" y="259"/>
                      </a:lnTo>
                      <a:lnTo>
                        <a:pt x="864" y="257"/>
                      </a:lnTo>
                      <a:lnTo>
                        <a:pt x="881" y="269"/>
                      </a:lnTo>
                      <a:lnTo>
                        <a:pt x="891" y="292"/>
                      </a:lnTo>
                      <a:lnTo>
                        <a:pt x="884" y="317"/>
                      </a:lnTo>
                      <a:lnTo>
                        <a:pt x="854" y="339"/>
                      </a:lnTo>
                      <a:lnTo>
                        <a:pt x="817" y="349"/>
                      </a:lnTo>
                      <a:lnTo>
                        <a:pt x="772" y="355"/>
                      </a:lnTo>
                      <a:lnTo>
                        <a:pt x="716" y="359"/>
                      </a:lnTo>
                      <a:lnTo>
                        <a:pt x="650" y="367"/>
                      </a:lnTo>
                      <a:lnTo>
                        <a:pt x="594" y="373"/>
                      </a:lnTo>
                      <a:lnTo>
                        <a:pt x="544" y="383"/>
                      </a:lnTo>
                      <a:lnTo>
                        <a:pt x="510" y="385"/>
                      </a:lnTo>
                      <a:lnTo>
                        <a:pt x="506" y="387"/>
                      </a:lnTo>
                      <a:lnTo>
                        <a:pt x="483" y="377"/>
                      </a:lnTo>
                      <a:lnTo>
                        <a:pt x="470" y="357"/>
                      </a:lnTo>
                      <a:lnTo>
                        <a:pt x="453" y="330"/>
                      </a:lnTo>
                      <a:lnTo>
                        <a:pt x="426" y="289"/>
                      </a:lnTo>
                      <a:lnTo>
                        <a:pt x="396" y="262"/>
                      </a:lnTo>
                      <a:lnTo>
                        <a:pt x="364" y="236"/>
                      </a:lnTo>
                      <a:lnTo>
                        <a:pt x="321" y="216"/>
                      </a:lnTo>
                      <a:lnTo>
                        <a:pt x="288" y="202"/>
                      </a:lnTo>
                      <a:lnTo>
                        <a:pt x="283" y="202"/>
                      </a:lnTo>
                      <a:lnTo>
                        <a:pt x="230" y="187"/>
                      </a:lnTo>
                      <a:lnTo>
                        <a:pt x="197" y="183"/>
                      </a:lnTo>
                      <a:lnTo>
                        <a:pt x="192" y="187"/>
                      </a:lnTo>
                      <a:lnTo>
                        <a:pt x="187" y="187"/>
                      </a:lnTo>
                      <a:lnTo>
                        <a:pt x="180" y="187"/>
                      </a:lnTo>
                      <a:lnTo>
                        <a:pt x="173" y="189"/>
                      </a:lnTo>
                      <a:lnTo>
                        <a:pt x="169" y="193"/>
                      </a:lnTo>
                      <a:lnTo>
                        <a:pt x="163" y="197"/>
                      </a:lnTo>
                      <a:lnTo>
                        <a:pt x="159" y="202"/>
                      </a:lnTo>
                      <a:lnTo>
                        <a:pt x="152" y="209"/>
                      </a:lnTo>
                      <a:lnTo>
                        <a:pt x="146" y="210"/>
                      </a:lnTo>
                      <a:lnTo>
                        <a:pt x="143" y="216"/>
                      </a:lnTo>
                      <a:lnTo>
                        <a:pt x="139" y="220"/>
                      </a:lnTo>
                      <a:lnTo>
                        <a:pt x="133" y="223"/>
                      </a:lnTo>
                      <a:lnTo>
                        <a:pt x="128" y="230"/>
                      </a:lnTo>
                      <a:lnTo>
                        <a:pt x="123" y="236"/>
                      </a:lnTo>
                      <a:lnTo>
                        <a:pt x="118" y="240"/>
                      </a:lnTo>
                      <a:lnTo>
                        <a:pt x="115" y="246"/>
                      </a:lnTo>
                      <a:lnTo>
                        <a:pt x="108" y="249"/>
                      </a:lnTo>
                      <a:lnTo>
                        <a:pt x="101" y="252"/>
                      </a:lnTo>
                      <a:lnTo>
                        <a:pt x="96" y="253"/>
                      </a:lnTo>
                      <a:lnTo>
                        <a:pt x="89" y="253"/>
                      </a:lnTo>
                      <a:lnTo>
                        <a:pt x="82" y="256"/>
                      </a:lnTo>
                      <a:lnTo>
                        <a:pt x="78" y="256"/>
                      </a:lnTo>
                      <a:lnTo>
                        <a:pt x="71" y="253"/>
                      </a:lnTo>
                      <a:lnTo>
                        <a:pt x="62" y="252"/>
                      </a:lnTo>
                      <a:lnTo>
                        <a:pt x="59" y="247"/>
                      </a:lnTo>
                      <a:lnTo>
                        <a:pt x="52" y="242"/>
                      </a:lnTo>
                      <a:lnTo>
                        <a:pt x="48" y="237"/>
                      </a:lnTo>
                      <a:lnTo>
                        <a:pt x="47" y="232"/>
                      </a:lnTo>
                      <a:lnTo>
                        <a:pt x="47" y="227"/>
                      </a:lnTo>
                      <a:lnTo>
                        <a:pt x="48" y="222"/>
                      </a:lnTo>
                      <a:lnTo>
                        <a:pt x="52" y="217"/>
                      </a:lnTo>
                      <a:lnTo>
                        <a:pt x="57" y="216"/>
                      </a:lnTo>
                      <a:lnTo>
                        <a:pt x="62" y="209"/>
                      </a:lnTo>
                      <a:lnTo>
                        <a:pt x="71" y="203"/>
                      </a:lnTo>
                      <a:lnTo>
                        <a:pt x="75" y="203"/>
                      </a:lnTo>
                      <a:lnTo>
                        <a:pt x="81" y="202"/>
                      </a:lnTo>
                      <a:lnTo>
                        <a:pt x="88" y="199"/>
                      </a:lnTo>
                      <a:lnTo>
                        <a:pt x="92" y="196"/>
                      </a:lnTo>
                      <a:lnTo>
                        <a:pt x="98" y="193"/>
                      </a:lnTo>
                      <a:lnTo>
                        <a:pt x="102" y="190"/>
                      </a:lnTo>
                      <a:lnTo>
                        <a:pt x="109" y="187"/>
                      </a:lnTo>
                      <a:lnTo>
                        <a:pt x="115" y="186"/>
                      </a:lnTo>
                      <a:lnTo>
                        <a:pt x="119" y="182"/>
                      </a:lnTo>
                      <a:lnTo>
                        <a:pt x="125" y="179"/>
                      </a:lnTo>
                      <a:lnTo>
                        <a:pt x="129" y="177"/>
                      </a:lnTo>
                      <a:lnTo>
                        <a:pt x="133" y="172"/>
                      </a:lnTo>
                      <a:lnTo>
                        <a:pt x="133" y="167"/>
                      </a:lnTo>
                      <a:lnTo>
                        <a:pt x="129" y="162"/>
                      </a:lnTo>
                      <a:lnTo>
                        <a:pt x="125" y="159"/>
                      </a:lnTo>
                      <a:lnTo>
                        <a:pt x="119" y="157"/>
                      </a:lnTo>
                      <a:lnTo>
                        <a:pt x="115" y="156"/>
                      </a:lnTo>
                      <a:lnTo>
                        <a:pt x="109" y="156"/>
                      </a:lnTo>
                      <a:lnTo>
                        <a:pt x="105" y="156"/>
                      </a:lnTo>
                      <a:lnTo>
                        <a:pt x="99" y="156"/>
                      </a:lnTo>
                      <a:lnTo>
                        <a:pt x="94" y="156"/>
                      </a:lnTo>
                      <a:lnTo>
                        <a:pt x="89" y="156"/>
                      </a:lnTo>
                      <a:lnTo>
                        <a:pt x="82" y="156"/>
                      </a:lnTo>
                      <a:lnTo>
                        <a:pt x="78" y="156"/>
                      </a:lnTo>
                      <a:lnTo>
                        <a:pt x="72" y="156"/>
                      </a:lnTo>
                      <a:lnTo>
                        <a:pt x="68" y="156"/>
                      </a:lnTo>
                      <a:lnTo>
                        <a:pt x="62" y="156"/>
                      </a:lnTo>
                      <a:lnTo>
                        <a:pt x="55" y="156"/>
                      </a:lnTo>
                      <a:lnTo>
                        <a:pt x="48" y="156"/>
                      </a:lnTo>
                      <a:lnTo>
                        <a:pt x="42" y="156"/>
                      </a:lnTo>
                      <a:lnTo>
                        <a:pt x="37" y="156"/>
                      </a:lnTo>
                      <a:lnTo>
                        <a:pt x="32" y="156"/>
                      </a:lnTo>
                      <a:lnTo>
                        <a:pt x="27" y="156"/>
                      </a:lnTo>
                      <a:lnTo>
                        <a:pt x="18" y="152"/>
                      </a:lnTo>
                      <a:lnTo>
                        <a:pt x="14" y="150"/>
                      </a:lnTo>
                      <a:lnTo>
                        <a:pt x="8" y="149"/>
                      </a:lnTo>
                      <a:lnTo>
                        <a:pt x="7" y="144"/>
                      </a:lnTo>
                      <a:lnTo>
                        <a:pt x="1" y="137"/>
                      </a:lnTo>
                      <a:lnTo>
                        <a:pt x="0" y="132"/>
                      </a:lnTo>
                      <a:lnTo>
                        <a:pt x="0" y="127"/>
                      </a:lnTo>
                      <a:lnTo>
                        <a:pt x="1" y="120"/>
                      </a:lnTo>
                      <a:lnTo>
                        <a:pt x="4" y="116"/>
                      </a:lnTo>
                      <a:lnTo>
                        <a:pt x="5" y="110"/>
                      </a:lnTo>
                      <a:lnTo>
                        <a:pt x="10" y="107"/>
                      </a:lnTo>
                      <a:lnTo>
                        <a:pt x="15" y="104"/>
                      </a:lnTo>
                      <a:lnTo>
                        <a:pt x="21" y="102"/>
                      </a:lnTo>
                      <a:lnTo>
                        <a:pt x="32" y="99"/>
                      </a:lnTo>
                      <a:lnTo>
                        <a:pt x="38" y="99"/>
                      </a:lnTo>
                      <a:lnTo>
                        <a:pt x="44" y="97"/>
                      </a:lnTo>
                      <a:lnTo>
                        <a:pt x="48" y="96"/>
                      </a:lnTo>
                      <a:lnTo>
                        <a:pt x="55" y="96"/>
                      </a:lnTo>
                      <a:lnTo>
                        <a:pt x="62" y="96"/>
                      </a:lnTo>
                      <a:lnTo>
                        <a:pt x="69" y="96"/>
                      </a:lnTo>
                      <a:lnTo>
                        <a:pt x="75" y="96"/>
                      </a:lnTo>
                      <a:lnTo>
                        <a:pt x="81" y="96"/>
                      </a:lnTo>
                      <a:lnTo>
                        <a:pt x="85" y="96"/>
                      </a:lnTo>
                      <a:lnTo>
                        <a:pt x="92" y="99"/>
                      </a:lnTo>
                      <a:lnTo>
                        <a:pt x="98" y="100"/>
                      </a:lnTo>
                      <a:lnTo>
                        <a:pt x="102" y="102"/>
                      </a:lnTo>
                      <a:lnTo>
                        <a:pt x="109" y="106"/>
                      </a:lnTo>
                      <a:lnTo>
                        <a:pt x="115" y="107"/>
                      </a:lnTo>
                      <a:lnTo>
                        <a:pt x="119" y="110"/>
                      </a:lnTo>
                      <a:lnTo>
                        <a:pt x="125" y="114"/>
                      </a:lnTo>
                      <a:lnTo>
                        <a:pt x="129" y="116"/>
                      </a:lnTo>
                      <a:lnTo>
                        <a:pt x="135" y="119"/>
                      </a:lnTo>
                      <a:lnTo>
                        <a:pt x="139" y="120"/>
                      </a:lnTo>
                      <a:lnTo>
                        <a:pt x="146" y="122"/>
                      </a:lnTo>
                      <a:lnTo>
                        <a:pt x="152" y="126"/>
                      </a:lnTo>
                      <a:lnTo>
                        <a:pt x="156" y="126"/>
                      </a:lnTo>
                      <a:lnTo>
                        <a:pt x="162" y="126"/>
                      </a:lnTo>
                      <a:lnTo>
                        <a:pt x="166" y="122"/>
                      </a:lnTo>
                      <a:lnTo>
                        <a:pt x="172" y="119"/>
                      </a:lnTo>
                      <a:lnTo>
                        <a:pt x="175" y="114"/>
                      </a:lnTo>
                      <a:lnTo>
                        <a:pt x="176" y="109"/>
                      </a:lnTo>
                      <a:lnTo>
                        <a:pt x="176" y="104"/>
                      </a:lnTo>
                      <a:lnTo>
                        <a:pt x="176" y="99"/>
                      </a:lnTo>
                      <a:lnTo>
                        <a:pt x="176" y="93"/>
                      </a:lnTo>
                      <a:lnTo>
                        <a:pt x="176" y="87"/>
                      </a:lnTo>
                      <a:lnTo>
                        <a:pt x="173" y="83"/>
                      </a:lnTo>
                      <a:lnTo>
                        <a:pt x="170" y="76"/>
                      </a:lnTo>
                      <a:lnTo>
                        <a:pt x="170" y="70"/>
                      </a:lnTo>
                      <a:lnTo>
                        <a:pt x="169" y="66"/>
                      </a:lnTo>
                      <a:lnTo>
                        <a:pt x="166" y="60"/>
                      </a:lnTo>
                      <a:lnTo>
                        <a:pt x="165" y="56"/>
                      </a:lnTo>
                      <a:lnTo>
                        <a:pt x="165" y="49"/>
                      </a:lnTo>
                      <a:lnTo>
                        <a:pt x="165" y="44"/>
                      </a:lnTo>
                      <a:lnTo>
                        <a:pt x="165" y="39"/>
                      </a:lnTo>
                      <a:lnTo>
                        <a:pt x="166" y="34"/>
                      </a:lnTo>
                      <a:lnTo>
                        <a:pt x="169" y="27"/>
                      </a:lnTo>
                      <a:lnTo>
                        <a:pt x="170" y="20"/>
                      </a:lnTo>
                      <a:lnTo>
                        <a:pt x="175" y="16"/>
                      </a:lnTo>
                      <a:lnTo>
                        <a:pt x="180" y="14"/>
                      </a:lnTo>
                      <a:lnTo>
                        <a:pt x="183" y="9"/>
                      </a:lnTo>
                      <a:lnTo>
                        <a:pt x="189" y="6"/>
                      </a:lnTo>
                      <a:lnTo>
                        <a:pt x="193" y="3"/>
                      </a:lnTo>
                      <a:lnTo>
                        <a:pt x="199" y="0"/>
                      </a:lnTo>
                      <a:lnTo>
                        <a:pt x="203" y="0"/>
                      </a:lnTo>
                      <a:lnTo>
                        <a:pt x="209" y="0"/>
                      </a:lnTo>
                      <a:lnTo>
                        <a:pt x="214" y="0"/>
                      </a:lnTo>
                      <a:lnTo>
                        <a:pt x="219" y="4"/>
                      </a:lnTo>
                      <a:lnTo>
                        <a:pt x="224" y="6"/>
                      </a:lnTo>
                      <a:lnTo>
                        <a:pt x="229" y="9"/>
                      </a:lnTo>
                      <a:lnTo>
                        <a:pt x="234" y="10"/>
                      </a:lnTo>
                      <a:lnTo>
                        <a:pt x="234" y="16"/>
                      </a:lnTo>
                      <a:lnTo>
                        <a:pt x="237" y="20"/>
                      </a:lnTo>
                      <a:lnTo>
                        <a:pt x="239" y="27"/>
                      </a:lnTo>
                      <a:lnTo>
                        <a:pt x="241" y="33"/>
                      </a:lnTo>
                      <a:lnTo>
                        <a:pt x="241" y="39"/>
                      </a:lnTo>
                      <a:lnTo>
                        <a:pt x="241" y="44"/>
                      </a:lnTo>
                      <a:lnTo>
                        <a:pt x="241" y="49"/>
                      </a:lnTo>
                      <a:lnTo>
                        <a:pt x="241" y="54"/>
                      </a:lnTo>
                      <a:lnTo>
                        <a:pt x="241" y="59"/>
                      </a:lnTo>
                      <a:lnTo>
                        <a:pt x="241" y="64"/>
                      </a:lnTo>
                      <a:lnTo>
                        <a:pt x="239" y="70"/>
                      </a:lnTo>
                      <a:lnTo>
                        <a:pt x="237" y="76"/>
                      </a:lnTo>
                      <a:lnTo>
                        <a:pt x="236" y="80"/>
                      </a:lnTo>
                      <a:lnTo>
                        <a:pt x="233" y="86"/>
                      </a:lnTo>
                      <a:lnTo>
                        <a:pt x="230" y="90"/>
                      </a:lnTo>
                      <a:lnTo>
                        <a:pt x="227" y="96"/>
                      </a:lnTo>
                      <a:lnTo>
                        <a:pt x="224" y="102"/>
                      </a:lnTo>
                      <a:lnTo>
                        <a:pt x="220" y="107"/>
                      </a:lnTo>
                      <a:lnTo>
                        <a:pt x="220" y="112"/>
                      </a:lnTo>
                      <a:lnTo>
                        <a:pt x="220" y="117"/>
                      </a:lnTo>
                      <a:lnTo>
                        <a:pt x="220" y="122"/>
                      </a:lnTo>
                      <a:lnTo>
                        <a:pt x="220" y="127"/>
                      </a:lnTo>
                      <a:lnTo>
                        <a:pt x="226" y="132"/>
                      </a:lnTo>
                      <a:lnTo>
                        <a:pt x="230" y="137"/>
                      </a:lnTo>
                      <a:lnTo>
                        <a:pt x="236" y="140"/>
                      </a:lnTo>
                      <a:lnTo>
                        <a:pt x="264" y="152"/>
                      </a:lnTo>
                      <a:lnTo>
                        <a:pt x="318" y="164"/>
                      </a:lnTo>
                      <a:lnTo>
                        <a:pt x="361" y="180"/>
                      </a:lnTo>
                      <a:lnTo>
                        <a:pt x="402" y="203"/>
                      </a:lnTo>
                      <a:lnTo>
                        <a:pt x="443" y="233"/>
                      </a:lnTo>
                      <a:lnTo>
                        <a:pt x="482" y="263"/>
                      </a:lnTo>
                      <a:lnTo>
                        <a:pt x="520" y="296"/>
                      </a:lnTo>
                      <a:lnTo>
                        <a:pt x="547" y="312"/>
                      </a:lnTo>
                      <a:lnTo>
                        <a:pt x="570" y="322"/>
                      </a:lnTo>
                      <a:lnTo>
                        <a:pt x="593" y="323"/>
                      </a:lnTo>
                      <a:lnTo>
                        <a:pt x="641" y="319"/>
                      </a:lnTo>
                      <a:lnTo>
                        <a:pt x="682" y="309"/>
                      </a:lnTo>
                      <a:lnTo>
                        <a:pt x="719" y="2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950240" y="1482840"/>
                  <a:ext cx="196920" cy="257040"/>
                </a:xfrm>
                <a:custGeom>
                  <a:avLst/>
                  <a:gdLst/>
                  <a:ahLst/>
                  <a:rect l="l" t="t" r="r" b="b"/>
                  <a:pathLst>
                    <a:path w="497" h="485">
                      <a:moveTo>
                        <a:pt x="381" y="186"/>
                      </a:moveTo>
                      <a:lnTo>
                        <a:pt x="374" y="74"/>
                      </a:lnTo>
                      <a:lnTo>
                        <a:pt x="377" y="39"/>
                      </a:lnTo>
                      <a:lnTo>
                        <a:pt x="388" y="16"/>
                      </a:lnTo>
                      <a:lnTo>
                        <a:pt x="411" y="3"/>
                      </a:lnTo>
                      <a:lnTo>
                        <a:pt x="444" y="0"/>
                      </a:lnTo>
                      <a:lnTo>
                        <a:pt x="470" y="6"/>
                      </a:lnTo>
                      <a:lnTo>
                        <a:pt x="484" y="19"/>
                      </a:lnTo>
                      <a:lnTo>
                        <a:pt x="497" y="50"/>
                      </a:lnTo>
                      <a:lnTo>
                        <a:pt x="497" y="96"/>
                      </a:lnTo>
                      <a:lnTo>
                        <a:pt x="491" y="153"/>
                      </a:lnTo>
                      <a:lnTo>
                        <a:pt x="484" y="219"/>
                      </a:lnTo>
                      <a:lnTo>
                        <a:pt x="473" y="277"/>
                      </a:lnTo>
                      <a:lnTo>
                        <a:pt x="464" y="335"/>
                      </a:lnTo>
                      <a:lnTo>
                        <a:pt x="454" y="380"/>
                      </a:lnTo>
                      <a:lnTo>
                        <a:pt x="439" y="419"/>
                      </a:lnTo>
                      <a:lnTo>
                        <a:pt x="418" y="446"/>
                      </a:lnTo>
                      <a:lnTo>
                        <a:pt x="393" y="472"/>
                      </a:lnTo>
                      <a:lnTo>
                        <a:pt x="371" y="480"/>
                      </a:lnTo>
                      <a:lnTo>
                        <a:pt x="344" y="485"/>
                      </a:lnTo>
                      <a:lnTo>
                        <a:pt x="314" y="482"/>
                      </a:lnTo>
                      <a:lnTo>
                        <a:pt x="283" y="466"/>
                      </a:lnTo>
                      <a:lnTo>
                        <a:pt x="256" y="439"/>
                      </a:lnTo>
                      <a:lnTo>
                        <a:pt x="232" y="403"/>
                      </a:lnTo>
                      <a:lnTo>
                        <a:pt x="209" y="370"/>
                      </a:lnTo>
                      <a:lnTo>
                        <a:pt x="189" y="329"/>
                      </a:lnTo>
                      <a:lnTo>
                        <a:pt x="169" y="277"/>
                      </a:lnTo>
                      <a:lnTo>
                        <a:pt x="149" y="243"/>
                      </a:lnTo>
                      <a:lnTo>
                        <a:pt x="131" y="213"/>
                      </a:lnTo>
                      <a:lnTo>
                        <a:pt x="101" y="186"/>
                      </a:lnTo>
                      <a:lnTo>
                        <a:pt x="81" y="173"/>
                      </a:lnTo>
                      <a:lnTo>
                        <a:pt x="73" y="179"/>
                      </a:lnTo>
                      <a:lnTo>
                        <a:pt x="78" y="233"/>
                      </a:lnTo>
                      <a:lnTo>
                        <a:pt x="90" y="276"/>
                      </a:lnTo>
                      <a:lnTo>
                        <a:pt x="107" y="296"/>
                      </a:lnTo>
                      <a:lnTo>
                        <a:pt x="110" y="310"/>
                      </a:lnTo>
                      <a:lnTo>
                        <a:pt x="104" y="327"/>
                      </a:lnTo>
                      <a:lnTo>
                        <a:pt x="68" y="343"/>
                      </a:lnTo>
                      <a:lnTo>
                        <a:pt x="40" y="345"/>
                      </a:lnTo>
                      <a:lnTo>
                        <a:pt x="10" y="339"/>
                      </a:lnTo>
                      <a:lnTo>
                        <a:pt x="0" y="315"/>
                      </a:lnTo>
                      <a:lnTo>
                        <a:pt x="2" y="270"/>
                      </a:lnTo>
                      <a:lnTo>
                        <a:pt x="14" y="212"/>
                      </a:lnTo>
                      <a:lnTo>
                        <a:pt x="17" y="167"/>
                      </a:lnTo>
                      <a:lnTo>
                        <a:pt x="16" y="122"/>
                      </a:lnTo>
                      <a:lnTo>
                        <a:pt x="14" y="77"/>
                      </a:lnTo>
                      <a:lnTo>
                        <a:pt x="29" y="54"/>
                      </a:lnTo>
                      <a:lnTo>
                        <a:pt x="56" y="47"/>
                      </a:lnTo>
                      <a:lnTo>
                        <a:pt x="78" y="54"/>
                      </a:lnTo>
                      <a:lnTo>
                        <a:pt x="90" y="70"/>
                      </a:lnTo>
                      <a:lnTo>
                        <a:pt x="107" y="104"/>
                      </a:lnTo>
                      <a:lnTo>
                        <a:pt x="122" y="126"/>
                      </a:lnTo>
                      <a:lnTo>
                        <a:pt x="147" y="157"/>
                      </a:lnTo>
                      <a:lnTo>
                        <a:pt x="175" y="183"/>
                      </a:lnTo>
                      <a:lnTo>
                        <a:pt x="199" y="213"/>
                      </a:lnTo>
                      <a:lnTo>
                        <a:pt x="223" y="247"/>
                      </a:lnTo>
                      <a:lnTo>
                        <a:pt x="252" y="289"/>
                      </a:lnTo>
                      <a:lnTo>
                        <a:pt x="279" y="322"/>
                      </a:lnTo>
                      <a:lnTo>
                        <a:pt x="304" y="355"/>
                      </a:lnTo>
                      <a:lnTo>
                        <a:pt x="326" y="377"/>
                      </a:lnTo>
                      <a:lnTo>
                        <a:pt x="346" y="386"/>
                      </a:lnTo>
                      <a:lnTo>
                        <a:pt x="357" y="386"/>
                      </a:lnTo>
                      <a:lnTo>
                        <a:pt x="373" y="375"/>
                      </a:lnTo>
                      <a:lnTo>
                        <a:pt x="381" y="345"/>
                      </a:lnTo>
                      <a:lnTo>
                        <a:pt x="383" y="297"/>
                      </a:lnTo>
                      <a:lnTo>
                        <a:pt x="381" y="253"/>
                      </a:lnTo>
                      <a:lnTo>
                        <a:pt x="381" y="212"/>
                      </a:lnTo>
                      <a:lnTo>
                        <a:pt x="381" y="1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124840" y="1481040"/>
                  <a:ext cx="169920" cy="385920"/>
                </a:xfrm>
                <a:custGeom>
                  <a:avLst/>
                  <a:gdLst/>
                  <a:ahLst/>
                  <a:rect l="l" t="t" r="r" b="b"/>
                  <a:pathLst>
                    <a:path w="424" h="728">
                      <a:moveTo>
                        <a:pt x="95" y="6"/>
                      </a:moveTo>
                      <a:lnTo>
                        <a:pt x="148" y="13"/>
                      </a:lnTo>
                      <a:lnTo>
                        <a:pt x="233" y="29"/>
                      </a:lnTo>
                      <a:lnTo>
                        <a:pt x="301" y="47"/>
                      </a:lnTo>
                      <a:lnTo>
                        <a:pt x="355" y="67"/>
                      </a:lnTo>
                      <a:lnTo>
                        <a:pt x="399" y="93"/>
                      </a:lnTo>
                      <a:lnTo>
                        <a:pt x="414" y="110"/>
                      </a:lnTo>
                      <a:lnTo>
                        <a:pt x="422" y="129"/>
                      </a:lnTo>
                      <a:lnTo>
                        <a:pt x="424" y="152"/>
                      </a:lnTo>
                      <a:lnTo>
                        <a:pt x="418" y="179"/>
                      </a:lnTo>
                      <a:lnTo>
                        <a:pt x="402" y="206"/>
                      </a:lnTo>
                      <a:lnTo>
                        <a:pt x="377" y="239"/>
                      </a:lnTo>
                      <a:lnTo>
                        <a:pt x="344" y="285"/>
                      </a:lnTo>
                      <a:lnTo>
                        <a:pt x="311" y="326"/>
                      </a:lnTo>
                      <a:lnTo>
                        <a:pt x="294" y="365"/>
                      </a:lnTo>
                      <a:lnTo>
                        <a:pt x="274" y="412"/>
                      </a:lnTo>
                      <a:lnTo>
                        <a:pt x="259" y="459"/>
                      </a:lnTo>
                      <a:lnTo>
                        <a:pt x="254" y="503"/>
                      </a:lnTo>
                      <a:lnTo>
                        <a:pt x="253" y="538"/>
                      </a:lnTo>
                      <a:lnTo>
                        <a:pt x="259" y="556"/>
                      </a:lnTo>
                      <a:lnTo>
                        <a:pt x="284" y="575"/>
                      </a:lnTo>
                      <a:lnTo>
                        <a:pt x="324" y="591"/>
                      </a:lnTo>
                      <a:lnTo>
                        <a:pt x="360" y="613"/>
                      </a:lnTo>
                      <a:lnTo>
                        <a:pt x="387" y="645"/>
                      </a:lnTo>
                      <a:lnTo>
                        <a:pt x="395" y="671"/>
                      </a:lnTo>
                      <a:lnTo>
                        <a:pt x="392" y="688"/>
                      </a:lnTo>
                      <a:lnTo>
                        <a:pt x="377" y="702"/>
                      </a:lnTo>
                      <a:lnTo>
                        <a:pt x="338" y="728"/>
                      </a:lnTo>
                      <a:lnTo>
                        <a:pt x="318" y="725"/>
                      </a:lnTo>
                      <a:lnTo>
                        <a:pt x="308" y="705"/>
                      </a:lnTo>
                      <a:lnTo>
                        <a:pt x="304" y="678"/>
                      </a:lnTo>
                      <a:lnTo>
                        <a:pt x="283" y="645"/>
                      </a:lnTo>
                      <a:lnTo>
                        <a:pt x="250" y="619"/>
                      </a:lnTo>
                      <a:lnTo>
                        <a:pt x="222" y="606"/>
                      </a:lnTo>
                      <a:lnTo>
                        <a:pt x="186" y="601"/>
                      </a:lnTo>
                      <a:lnTo>
                        <a:pt x="166" y="585"/>
                      </a:lnTo>
                      <a:lnTo>
                        <a:pt x="159" y="565"/>
                      </a:lnTo>
                      <a:lnTo>
                        <a:pt x="162" y="539"/>
                      </a:lnTo>
                      <a:lnTo>
                        <a:pt x="180" y="515"/>
                      </a:lnTo>
                      <a:lnTo>
                        <a:pt x="196" y="489"/>
                      </a:lnTo>
                      <a:lnTo>
                        <a:pt x="210" y="452"/>
                      </a:lnTo>
                      <a:lnTo>
                        <a:pt x="220" y="402"/>
                      </a:lnTo>
                      <a:lnTo>
                        <a:pt x="227" y="348"/>
                      </a:lnTo>
                      <a:lnTo>
                        <a:pt x="237" y="302"/>
                      </a:lnTo>
                      <a:lnTo>
                        <a:pt x="250" y="259"/>
                      </a:lnTo>
                      <a:lnTo>
                        <a:pt x="267" y="223"/>
                      </a:lnTo>
                      <a:lnTo>
                        <a:pt x="291" y="185"/>
                      </a:lnTo>
                      <a:lnTo>
                        <a:pt x="308" y="160"/>
                      </a:lnTo>
                      <a:lnTo>
                        <a:pt x="308" y="147"/>
                      </a:lnTo>
                      <a:lnTo>
                        <a:pt x="291" y="133"/>
                      </a:lnTo>
                      <a:lnTo>
                        <a:pt x="220" y="132"/>
                      </a:lnTo>
                      <a:lnTo>
                        <a:pt x="153" y="120"/>
                      </a:lnTo>
                      <a:lnTo>
                        <a:pt x="101" y="110"/>
                      </a:lnTo>
                      <a:lnTo>
                        <a:pt x="55" y="100"/>
                      </a:lnTo>
                      <a:lnTo>
                        <a:pt x="21" y="85"/>
                      </a:lnTo>
                      <a:lnTo>
                        <a:pt x="1" y="60"/>
                      </a:lnTo>
                      <a:lnTo>
                        <a:pt x="0" y="29"/>
                      </a:lnTo>
                      <a:lnTo>
                        <a:pt x="14" y="3"/>
                      </a:lnTo>
                      <a:lnTo>
                        <a:pt x="45" y="0"/>
                      </a:lnTo>
                      <a:lnTo>
                        <a:pt x="9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7543800" y="1003320"/>
                <a:ext cx="981000" cy="385920"/>
                <a:chOff x="7543800" y="1003320"/>
                <a:chExt cx="981000" cy="3859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7543800" y="1141560"/>
                  <a:ext cx="130320" cy="31680"/>
                </a:xfrm>
                <a:custGeom>
                  <a:avLst/>
                  <a:gdLst/>
                  <a:ahLst/>
                  <a:rect l="l" t="t" r="r" b="b"/>
                  <a:pathLst>
                    <a:path w="328" h="62">
                      <a:moveTo>
                        <a:pt x="328" y="24"/>
                      </a:moveTo>
                      <a:lnTo>
                        <a:pt x="61" y="0"/>
                      </a:lnTo>
                      <a:lnTo>
                        <a:pt x="54" y="2"/>
                      </a:lnTo>
                      <a:lnTo>
                        <a:pt x="47" y="2"/>
                      </a:lnTo>
                      <a:lnTo>
                        <a:pt x="40" y="4"/>
                      </a:lnTo>
                      <a:lnTo>
                        <a:pt x="34" y="4"/>
                      </a:lnTo>
                      <a:lnTo>
                        <a:pt x="27" y="6"/>
                      </a:lnTo>
                      <a:lnTo>
                        <a:pt x="20" y="11"/>
                      </a:lnTo>
                      <a:lnTo>
                        <a:pt x="13" y="13"/>
                      </a:lnTo>
                      <a:lnTo>
                        <a:pt x="11" y="19"/>
                      </a:lnTo>
                      <a:lnTo>
                        <a:pt x="4" y="24"/>
                      </a:lnTo>
                      <a:lnTo>
                        <a:pt x="0" y="31"/>
                      </a:lnTo>
                      <a:lnTo>
                        <a:pt x="0" y="37"/>
                      </a:lnTo>
                      <a:lnTo>
                        <a:pt x="2" y="44"/>
                      </a:lnTo>
                      <a:lnTo>
                        <a:pt x="9" y="48"/>
                      </a:lnTo>
                      <a:lnTo>
                        <a:pt x="16" y="55"/>
                      </a:lnTo>
                      <a:lnTo>
                        <a:pt x="22" y="57"/>
                      </a:lnTo>
                      <a:lnTo>
                        <a:pt x="29" y="59"/>
                      </a:lnTo>
                      <a:lnTo>
                        <a:pt x="38" y="59"/>
                      </a:lnTo>
                      <a:lnTo>
                        <a:pt x="45" y="62"/>
                      </a:lnTo>
                      <a:lnTo>
                        <a:pt x="54" y="62"/>
                      </a:lnTo>
                      <a:lnTo>
                        <a:pt x="321" y="39"/>
                      </a:lnTo>
                      <a:lnTo>
                        <a:pt x="328" y="24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585200" y="1316160"/>
                  <a:ext cx="122040" cy="73080"/>
                </a:xfrm>
                <a:custGeom>
                  <a:avLst/>
                  <a:gdLst/>
                  <a:ahLst/>
                  <a:rect l="l" t="t" r="r" b="b"/>
                  <a:pathLst>
                    <a:path w="305" h="136">
                      <a:moveTo>
                        <a:pt x="305" y="0"/>
                      </a:moveTo>
                      <a:lnTo>
                        <a:pt x="46" y="68"/>
                      </a:lnTo>
                      <a:lnTo>
                        <a:pt x="40" y="72"/>
                      </a:lnTo>
                      <a:lnTo>
                        <a:pt x="33" y="75"/>
                      </a:lnTo>
                      <a:lnTo>
                        <a:pt x="28" y="79"/>
                      </a:lnTo>
                      <a:lnTo>
                        <a:pt x="22" y="81"/>
                      </a:lnTo>
                      <a:lnTo>
                        <a:pt x="16" y="86"/>
                      </a:lnTo>
                      <a:lnTo>
                        <a:pt x="12" y="92"/>
                      </a:lnTo>
                      <a:lnTo>
                        <a:pt x="6" y="97"/>
                      </a:lnTo>
                      <a:lnTo>
                        <a:pt x="6" y="104"/>
                      </a:lnTo>
                      <a:lnTo>
                        <a:pt x="2" y="110"/>
                      </a:lnTo>
                      <a:lnTo>
                        <a:pt x="0" y="118"/>
                      </a:lnTo>
                      <a:lnTo>
                        <a:pt x="2" y="125"/>
                      </a:lnTo>
                      <a:lnTo>
                        <a:pt x="6" y="130"/>
                      </a:lnTo>
                      <a:lnTo>
                        <a:pt x="14" y="131"/>
                      </a:lnTo>
                      <a:lnTo>
                        <a:pt x="22" y="136"/>
                      </a:lnTo>
                      <a:lnTo>
                        <a:pt x="30" y="136"/>
                      </a:lnTo>
                      <a:lnTo>
                        <a:pt x="37" y="135"/>
                      </a:lnTo>
                      <a:lnTo>
                        <a:pt x="46" y="132"/>
                      </a:lnTo>
                      <a:lnTo>
                        <a:pt x="52" y="132"/>
                      </a:lnTo>
                      <a:lnTo>
                        <a:pt x="60" y="129"/>
                      </a:lnTo>
                      <a:lnTo>
                        <a:pt x="304" y="18"/>
                      </a:lnTo>
                      <a:lnTo>
                        <a:pt x="305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8394840" y="1003320"/>
                  <a:ext cx="125280" cy="65160"/>
                </a:xfrm>
                <a:custGeom>
                  <a:avLst/>
                  <a:gdLst/>
                  <a:ahLst/>
                  <a:rect l="l" t="t" r="r" b="b"/>
                  <a:pathLst>
                    <a:path w="317" h="122">
                      <a:moveTo>
                        <a:pt x="0" y="109"/>
                      </a:moveTo>
                      <a:lnTo>
                        <a:pt x="247" y="4"/>
                      </a:lnTo>
                      <a:lnTo>
                        <a:pt x="254" y="4"/>
                      </a:lnTo>
                      <a:lnTo>
                        <a:pt x="261" y="2"/>
                      </a:lnTo>
                      <a:lnTo>
                        <a:pt x="267" y="2"/>
                      </a:lnTo>
                      <a:lnTo>
                        <a:pt x="274" y="0"/>
                      </a:lnTo>
                      <a:lnTo>
                        <a:pt x="281" y="0"/>
                      </a:lnTo>
                      <a:lnTo>
                        <a:pt x="289" y="2"/>
                      </a:lnTo>
                      <a:lnTo>
                        <a:pt x="296" y="2"/>
                      </a:lnTo>
                      <a:lnTo>
                        <a:pt x="300" y="8"/>
                      </a:lnTo>
                      <a:lnTo>
                        <a:pt x="308" y="10"/>
                      </a:lnTo>
                      <a:lnTo>
                        <a:pt x="315" y="15"/>
                      </a:lnTo>
                      <a:lnTo>
                        <a:pt x="317" y="22"/>
                      </a:lnTo>
                      <a:lnTo>
                        <a:pt x="317" y="29"/>
                      </a:lnTo>
                      <a:lnTo>
                        <a:pt x="311" y="35"/>
                      </a:lnTo>
                      <a:lnTo>
                        <a:pt x="307" y="43"/>
                      </a:lnTo>
                      <a:lnTo>
                        <a:pt x="301" y="48"/>
                      </a:lnTo>
                      <a:lnTo>
                        <a:pt x="296" y="52"/>
                      </a:lnTo>
                      <a:lnTo>
                        <a:pt x="288" y="54"/>
                      </a:lnTo>
                      <a:lnTo>
                        <a:pt x="281" y="59"/>
                      </a:lnTo>
                      <a:lnTo>
                        <a:pt x="273" y="61"/>
                      </a:lnTo>
                      <a:lnTo>
                        <a:pt x="11" y="122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8402760" y="1217520"/>
                  <a:ext cx="122040" cy="71640"/>
                </a:xfrm>
                <a:custGeom>
                  <a:avLst/>
                  <a:gdLst/>
                  <a:ahLst/>
                  <a:rect l="l" t="t" r="r" b="b"/>
                  <a:pathLst>
                    <a:path w="305" h="135">
                      <a:moveTo>
                        <a:pt x="0" y="0"/>
                      </a:moveTo>
                      <a:lnTo>
                        <a:pt x="259" y="67"/>
                      </a:lnTo>
                      <a:lnTo>
                        <a:pt x="265" y="72"/>
                      </a:lnTo>
                      <a:lnTo>
                        <a:pt x="271" y="74"/>
                      </a:lnTo>
                      <a:lnTo>
                        <a:pt x="277" y="79"/>
                      </a:lnTo>
                      <a:lnTo>
                        <a:pt x="283" y="81"/>
                      </a:lnTo>
                      <a:lnTo>
                        <a:pt x="288" y="85"/>
                      </a:lnTo>
                      <a:lnTo>
                        <a:pt x="293" y="92"/>
                      </a:lnTo>
                      <a:lnTo>
                        <a:pt x="298" y="96"/>
                      </a:lnTo>
                      <a:lnTo>
                        <a:pt x="298" y="103"/>
                      </a:lnTo>
                      <a:lnTo>
                        <a:pt x="303" y="110"/>
                      </a:lnTo>
                      <a:lnTo>
                        <a:pt x="305" y="117"/>
                      </a:lnTo>
                      <a:lnTo>
                        <a:pt x="303" y="124"/>
                      </a:lnTo>
                      <a:lnTo>
                        <a:pt x="298" y="130"/>
                      </a:lnTo>
                      <a:lnTo>
                        <a:pt x="290" y="131"/>
                      </a:lnTo>
                      <a:lnTo>
                        <a:pt x="283" y="135"/>
                      </a:lnTo>
                      <a:lnTo>
                        <a:pt x="275" y="135"/>
                      </a:lnTo>
                      <a:lnTo>
                        <a:pt x="268" y="134"/>
                      </a:lnTo>
                      <a:lnTo>
                        <a:pt x="259" y="132"/>
                      </a:lnTo>
                      <a:lnTo>
                        <a:pt x="252" y="132"/>
                      </a:lnTo>
                      <a:lnTo>
                        <a:pt x="244" y="128"/>
                      </a:lnTo>
                      <a:lnTo>
                        <a:pt x="1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3" name=""/>
            <p:cNvSpPr/>
            <p:nvPr/>
          </p:nvSpPr>
          <p:spPr>
            <a:xfrm>
              <a:off x="7737120" y="1954080"/>
              <a:ext cx="807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ujua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ercap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444920" y="635040"/>
            <a:ext cx="1154160" cy="1966320"/>
            <a:chOff x="4444920" y="635040"/>
            <a:chExt cx="1154160" cy="1966320"/>
          </a:xfrm>
        </p:grpSpPr>
        <p:pic>
          <p:nvPicPr>
            <p:cNvPr id="365" name="" descr=""/>
            <p:cNvPicPr/>
            <p:nvPr/>
          </p:nvPicPr>
          <p:blipFill>
            <a:blip r:embed="rId9"/>
            <a:stretch/>
          </p:blipFill>
          <p:spPr>
            <a:xfrm>
              <a:off x="4444920" y="635040"/>
              <a:ext cx="11541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656600" y="2081160"/>
              <a:ext cx="84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s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nc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3594240" y="695160"/>
            <a:ext cx="784080" cy="218124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808280" y="4014720"/>
            <a:ext cx="1217520" cy="2320920"/>
            <a:chOff x="1808280" y="4014720"/>
            <a:chExt cx="1217520" cy="2320920"/>
          </a:xfrm>
        </p:grpSpPr>
        <p:grpSp>
          <p:nvGrpSpPr>
            <p:cNvPr id="369" name=""/>
            <p:cNvGrpSpPr/>
            <p:nvPr/>
          </p:nvGrpSpPr>
          <p:grpSpPr>
            <a:xfrm>
              <a:off x="1808280" y="4014720"/>
              <a:ext cx="1217520" cy="1569600"/>
              <a:chOff x="1808280" y="4014720"/>
              <a:chExt cx="1217520" cy="156960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1808280" y="4014720"/>
                <a:ext cx="399600" cy="487080"/>
                <a:chOff x="1808280" y="4014720"/>
                <a:chExt cx="399600" cy="48708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1808280" y="4014720"/>
                  <a:ext cx="399600" cy="487080"/>
                  <a:chOff x="1808280" y="4014720"/>
                  <a:chExt cx="399600" cy="48708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1808280" y="4014720"/>
                    <a:ext cx="39060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49" h="892">
                        <a:moveTo>
                          <a:pt x="1334" y="32"/>
                        </a:moveTo>
                        <a:lnTo>
                          <a:pt x="1140" y="41"/>
                        </a:lnTo>
                        <a:lnTo>
                          <a:pt x="895" y="45"/>
                        </a:lnTo>
                        <a:lnTo>
                          <a:pt x="627" y="43"/>
                        </a:lnTo>
                        <a:lnTo>
                          <a:pt x="352" y="32"/>
                        </a:lnTo>
                        <a:lnTo>
                          <a:pt x="179" y="23"/>
                        </a:lnTo>
                        <a:lnTo>
                          <a:pt x="38" y="25"/>
                        </a:lnTo>
                        <a:lnTo>
                          <a:pt x="18" y="41"/>
                        </a:lnTo>
                        <a:lnTo>
                          <a:pt x="15" y="88"/>
                        </a:lnTo>
                        <a:lnTo>
                          <a:pt x="15" y="244"/>
                        </a:lnTo>
                        <a:lnTo>
                          <a:pt x="30" y="414"/>
                        </a:lnTo>
                        <a:lnTo>
                          <a:pt x="32" y="560"/>
                        </a:lnTo>
                        <a:lnTo>
                          <a:pt x="48" y="701"/>
                        </a:lnTo>
                        <a:lnTo>
                          <a:pt x="55" y="842"/>
                        </a:lnTo>
                        <a:lnTo>
                          <a:pt x="63" y="874"/>
                        </a:lnTo>
                        <a:lnTo>
                          <a:pt x="66" y="892"/>
                        </a:lnTo>
                        <a:lnTo>
                          <a:pt x="27" y="890"/>
                        </a:lnTo>
                        <a:lnTo>
                          <a:pt x="30" y="857"/>
                        </a:lnTo>
                        <a:lnTo>
                          <a:pt x="32" y="774"/>
                        </a:lnTo>
                        <a:lnTo>
                          <a:pt x="23" y="641"/>
                        </a:lnTo>
                        <a:lnTo>
                          <a:pt x="13" y="490"/>
                        </a:lnTo>
                        <a:lnTo>
                          <a:pt x="5" y="362"/>
                        </a:lnTo>
                        <a:lnTo>
                          <a:pt x="2" y="223"/>
                        </a:lnTo>
                        <a:lnTo>
                          <a:pt x="0" y="85"/>
                        </a:lnTo>
                        <a:lnTo>
                          <a:pt x="5" y="25"/>
                        </a:lnTo>
                        <a:lnTo>
                          <a:pt x="13" y="2"/>
                        </a:lnTo>
                        <a:lnTo>
                          <a:pt x="43" y="0"/>
                        </a:lnTo>
                        <a:lnTo>
                          <a:pt x="128" y="12"/>
                        </a:lnTo>
                        <a:lnTo>
                          <a:pt x="244" y="10"/>
                        </a:lnTo>
                        <a:lnTo>
                          <a:pt x="411" y="20"/>
                        </a:lnTo>
                        <a:lnTo>
                          <a:pt x="604" y="27"/>
                        </a:lnTo>
                        <a:lnTo>
                          <a:pt x="870" y="32"/>
                        </a:lnTo>
                        <a:lnTo>
                          <a:pt x="1049" y="27"/>
                        </a:lnTo>
                        <a:lnTo>
                          <a:pt x="1243" y="23"/>
                        </a:lnTo>
                        <a:lnTo>
                          <a:pt x="1349" y="15"/>
                        </a:lnTo>
                        <a:lnTo>
                          <a:pt x="1334" y="32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1819080" y="4026240"/>
                    <a:ext cx="388800" cy="475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43" h="895">
                        <a:moveTo>
                          <a:pt x="14" y="847"/>
                        </a:moveTo>
                        <a:lnTo>
                          <a:pt x="321" y="852"/>
                        </a:lnTo>
                        <a:lnTo>
                          <a:pt x="639" y="854"/>
                        </a:lnTo>
                        <a:lnTo>
                          <a:pt x="835" y="854"/>
                        </a:lnTo>
                        <a:lnTo>
                          <a:pt x="1023" y="858"/>
                        </a:lnTo>
                        <a:lnTo>
                          <a:pt x="1288" y="865"/>
                        </a:lnTo>
                        <a:lnTo>
                          <a:pt x="1328" y="872"/>
                        </a:lnTo>
                        <a:lnTo>
                          <a:pt x="1325" y="752"/>
                        </a:lnTo>
                        <a:lnTo>
                          <a:pt x="1300" y="599"/>
                        </a:lnTo>
                        <a:lnTo>
                          <a:pt x="1280" y="462"/>
                        </a:lnTo>
                        <a:lnTo>
                          <a:pt x="1275" y="259"/>
                        </a:lnTo>
                        <a:lnTo>
                          <a:pt x="1280" y="151"/>
                        </a:lnTo>
                        <a:lnTo>
                          <a:pt x="1298" y="41"/>
                        </a:lnTo>
                        <a:lnTo>
                          <a:pt x="1290" y="5"/>
                        </a:lnTo>
                        <a:lnTo>
                          <a:pt x="1300" y="0"/>
                        </a:lnTo>
                        <a:lnTo>
                          <a:pt x="1313" y="45"/>
                        </a:lnTo>
                        <a:lnTo>
                          <a:pt x="1305" y="110"/>
                        </a:lnTo>
                        <a:lnTo>
                          <a:pt x="1290" y="198"/>
                        </a:lnTo>
                        <a:lnTo>
                          <a:pt x="1288" y="294"/>
                        </a:lnTo>
                        <a:lnTo>
                          <a:pt x="1298" y="445"/>
                        </a:lnTo>
                        <a:lnTo>
                          <a:pt x="1307" y="546"/>
                        </a:lnTo>
                        <a:lnTo>
                          <a:pt x="1320" y="631"/>
                        </a:lnTo>
                        <a:lnTo>
                          <a:pt x="1332" y="727"/>
                        </a:lnTo>
                        <a:lnTo>
                          <a:pt x="1341" y="795"/>
                        </a:lnTo>
                        <a:lnTo>
                          <a:pt x="1343" y="888"/>
                        </a:lnTo>
                        <a:lnTo>
                          <a:pt x="1330" y="895"/>
                        </a:lnTo>
                        <a:lnTo>
                          <a:pt x="1288" y="883"/>
                        </a:lnTo>
                        <a:lnTo>
                          <a:pt x="1162" y="877"/>
                        </a:lnTo>
                        <a:lnTo>
                          <a:pt x="958" y="872"/>
                        </a:lnTo>
                        <a:lnTo>
                          <a:pt x="814" y="867"/>
                        </a:lnTo>
                        <a:lnTo>
                          <a:pt x="689" y="867"/>
                        </a:lnTo>
                        <a:lnTo>
                          <a:pt x="516" y="863"/>
                        </a:lnTo>
                        <a:lnTo>
                          <a:pt x="342" y="863"/>
                        </a:lnTo>
                        <a:lnTo>
                          <a:pt x="150" y="863"/>
                        </a:lnTo>
                        <a:lnTo>
                          <a:pt x="0" y="867"/>
                        </a:lnTo>
                        <a:lnTo>
                          <a:pt x="14" y="847"/>
                        </a:lnTo>
                        <a:close/>
                      </a:path>
                    </a:pathLst>
                  </a:custGeom>
                  <a:solidFill>
                    <a:srgbClr val="919191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4" name=""/>
                <p:cNvSpPr/>
                <p:nvPr/>
              </p:nvSpPr>
              <p:spPr>
                <a:xfrm rot="19729200">
                  <a:off x="1925640" y="4173120"/>
                  <a:ext cx="128520" cy="183960"/>
                </a:xfrm>
                <a:custGeom>
                  <a:avLst/>
                  <a:gdLst/>
                  <a:ahLst/>
                  <a:rect l="l" t="t" r="r" b="b"/>
                  <a:pathLst>
                    <a:path w="384" h="562">
                      <a:moveTo>
                        <a:pt x="46" y="155"/>
                      </a:moveTo>
                      <a:lnTo>
                        <a:pt x="130" y="63"/>
                      </a:lnTo>
                      <a:lnTo>
                        <a:pt x="268" y="0"/>
                      </a:lnTo>
                      <a:lnTo>
                        <a:pt x="337" y="124"/>
                      </a:lnTo>
                      <a:lnTo>
                        <a:pt x="384" y="285"/>
                      </a:lnTo>
                      <a:lnTo>
                        <a:pt x="276" y="562"/>
                      </a:lnTo>
                      <a:lnTo>
                        <a:pt x="138" y="554"/>
                      </a:lnTo>
                      <a:lnTo>
                        <a:pt x="0" y="462"/>
                      </a:lnTo>
                      <a:lnTo>
                        <a:pt x="0" y="224"/>
                      </a:lnTo>
                      <a:lnTo>
                        <a:pt x="38" y="216"/>
                      </a:lnTo>
                      <a:lnTo>
                        <a:pt x="69" y="254"/>
                      </a:lnTo>
                      <a:lnTo>
                        <a:pt x="61" y="438"/>
                      </a:lnTo>
                      <a:lnTo>
                        <a:pt x="154" y="507"/>
                      </a:lnTo>
                      <a:lnTo>
                        <a:pt x="260" y="492"/>
                      </a:lnTo>
                      <a:lnTo>
                        <a:pt x="322" y="293"/>
                      </a:lnTo>
                      <a:lnTo>
                        <a:pt x="237" y="293"/>
                      </a:lnTo>
                      <a:lnTo>
                        <a:pt x="130" y="239"/>
                      </a:lnTo>
                      <a:lnTo>
                        <a:pt x="138" y="224"/>
                      </a:lnTo>
                      <a:lnTo>
                        <a:pt x="268" y="254"/>
                      </a:lnTo>
                      <a:lnTo>
                        <a:pt x="337" y="246"/>
                      </a:lnTo>
                      <a:lnTo>
                        <a:pt x="253" y="55"/>
                      </a:lnTo>
                      <a:lnTo>
                        <a:pt x="160" y="116"/>
                      </a:lnTo>
                      <a:lnTo>
                        <a:pt x="77" y="208"/>
                      </a:lnTo>
                      <a:lnTo>
                        <a:pt x="46" y="1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021040" y="4352760"/>
                <a:ext cx="802440" cy="1231560"/>
                <a:chOff x="2021040" y="4352760"/>
                <a:chExt cx="802440" cy="123156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2242800" y="4515480"/>
                  <a:ext cx="221760" cy="238320"/>
                </a:xfrm>
                <a:custGeom>
                  <a:avLst/>
                  <a:gdLst/>
                  <a:ahLst/>
                  <a:rect l="l" t="t" r="r" b="b"/>
                  <a:pathLst>
                    <a:path w="175" h="169">
                      <a:moveTo>
                        <a:pt x="112" y="37"/>
                      </a:moveTo>
                      <a:lnTo>
                        <a:pt x="91" y="15"/>
                      </a:lnTo>
                      <a:lnTo>
                        <a:pt x="63" y="3"/>
                      </a:lnTo>
                      <a:lnTo>
                        <a:pt x="48" y="0"/>
                      </a:lnTo>
                      <a:lnTo>
                        <a:pt x="26" y="8"/>
                      </a:lnTo>
                      <a:lnTo>
                        <a:pt x="13" y="22"/>
                      </a:lnTo>
                      <a:lnTo>
                        <a:pt x="6" y="46"/>
                      </a:lnTo>
                      <a:lnTo>
                        <a:pt x="0" y="71"/>
                      </a:lnTo>
                      <a:lnTo>
                        <a:pt x="4" y="112"/>
                      </a:lnTo>
                      <a:lnTo>
                        <a:pt x="13" y="136"/>
                      </a:lnTo>
                      <a:lnTo>
                        <a:pt x="25" y="153"/>
                      </a:lnTo>
                      <a:lnTo>
                        <a:pt x="46" y="163"/>
                      </a:lnTo>
                      <a:lnTo>
                        <a:pt x="63" y="169"/>
                      </a:lnTo>
                      <a:lnTo>
                        <a:pt x="84" y="168"/>
                      </a:lnTo>
                      <a:lnTo>
                        <a:pt x="99" y="159"/>
                      </a:lnTo>
                      <a:lnTo>
                        <a:pt x="111" y="145"/>
                      </a:lnTo>
                      <a:lnTo>
                        <a:pt x="117" y="124"/>
                      </a:lnTo>
                      <a:lnTo>
                        <a:pt x="123" y="101"/>
                      </a:lnTo>
                      <a:lnTo>
                        <a:pt x="127" y="73"/>
                      </a:lnTo>
                      <a:lnTo>
                        <a:pt x="124" y="57"/>
                      </a:lnTo>
                      <a:lnTo>
                        <a:pt x="143" y="41"/>
                      </a:lnTo>
                      <a:lnTo>
                        <a:pt x="167" y="30"/>
                      </a:lnTo>
                      <a:lnTo>
                        <a:pt x="175" y="18"/>
                      </a:lnTo>
                      <a:lnTo>
                        <a:pt x="174" y="11"/>
                      </a:lnTo>
                      <a:lnTo>
                        <a:pt x="159" y="6"/>
                      </a:lnTo>
                      <a:lnTo>
                        <a:pt x="146" y="11"/>
                      </a:lnTo>
                      <a:lnTo>
                        <a:pt x="134" y="31"/>
                      </a:lnTo>
                      <a:lnTo>
                        <a:pt x="112" y="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319120" y="4770720"/>
                  <a:ext cx="188640" cy="361800"/>
                </a:xfrm>
                <a:custGeom>
                  <a:avLst/>
                  <a:gdLst/>
                  <a:ahLst/>
                  <a:rect l="l" t="t" r="r" b="b"/>
                  <a:pathLst>
                    <a:path w="150" h="258">
                      <a:moveTo>
                        <a:pt x="20" y="5"/>
                      </a:moveTo>
                      <a:lnTo>
                        <a:pt x="51" y="0"/>
                      </a:lnTo>
                      <a:lnTo>
                        <a:pt x="79" y="5"/>
                      </a:lnTo>
                      <a:lnTo>
                        <a:pt x="103" y="17"/>
                      </a:lnTo>
                      <a:lnTo>
                        <a:pt x="121" y="35"/>
                      </a:lnTo>
                      <a:lnTo>
                        <a:pt x="134" y="55"/>
                      </a:lnTo>
                      <a:lnTo>
                        <a:pt x="142" y="82"/>
                      </a:lnTo>
                      <a:lnTo>
                        <a:pt x="149" y="108"/>
                      </a:lnTo>
                      <a:lnTo>
                        <a:pt x="150" y="138"/>
                      </a:lnTo>
                      <a:lnTo>
                        <a:pt x="145" y="172"/>
                      </a:lnTo>
                      <a:lnTo>
                        <a:pt x="137" y="199"/>
                      </a:lnTo>
                      <a:lnTo>
                        <a:pt x="126" y="223"/>
                      </a:lnTo>
                      <a:lnTo>
                        <a:pt x="115" y="242"/>
                      </a:lnTo>
                      <a:lnTo>
                        <a:pt x="97" y="254"/>
                      </a:lnTo>
                      <a:lnTo>
                        <a:pt x="74" y="258"/>
                      </a:lnTo>
                      <a:lnTo>
                        <a:pt x="54" y="256"/>
                      </a:lnTo>
                      <a:lnTo>
                        <a:pt x="39" y="246"/>
                      </a:lnTo>
                      <a:lnTo>
                        <a:pt x="30" y="235"/>
                      </a:lnTo>
                      <a:lnTo>
                        <a:pt x="24" y="213"/>
                      </a:lnTo>
                      <a:lnTo>
                        <a:pt x="26" y="186"/>
                      </a:lnTo>
                      <a:lnTo>
                        <a:pt x="35" y="169"/>
                      </a:lnTo>
                      <a:lnTo>
                        <a:pt x="42" y="147"/>
                      </a:lnTo>
                      <a:lnTo>
                        <a:pt x="42" y="132"/>
                      </a:lnTo>
                      <a:lnTo>
                        <a:pt x="36" y="119"/>
                      </a:lnTo>
                      <a:lnTo>
                        <a:pt x="26" y="99"/>
                      </a:lnTo>
                      <a:lnTo>
                        <a:pt x="12" y="81"/>
                      </a:lnTo>
                      <a:lnTo>
                        <a:pt x="0" y="59"/>
                      </a:lnTo>
                      <a:lnTo>
                        <a:pt x="0" y="39"/>
                      </a:lnTo>
                      <a:lnTo>
                        <a:pt x="4" y="23"/>
                      </a:lnTo>
                      <a:lnTo>
                        <a:pt x="2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021040" y="4352760"/>
                  <a:ext cx="343080" cy="505080"/>
                </a:xfrm>
                <a:custGeom>
                  <a:avLst/>
                  <a:gdLst/>
                  <a:ahLst/>
                  <a:rect l="l" t="t" r="r" b="b"/>
                  <a:pathLst>
                    <a:path w="274" h="360">
                      <a:moveTo>
                        <a:pt x="215" y="323"/>
                      </a:moveTo>
                      <a:lnTo>
                        <a:pt x="244" y="321"/>
                      </a:lnTo>
                      <a:lnTo>
                        <a:pt x="266" y="323"/>
                      </a:lnTo>
                      <a:lnTo>
                        <a:pt x="274" y="338"/>
                      </a:lnTo>
                      <a:lnTo>
                        <a:pt x="267" y="352"/>
                      </a:lnTo>
                      <a:lnTo>
                        <a:pt x="252" y="360"/>
                      </a:lnTo>
                      <a:lnTo>
                        <a:pt x="208" y="353"/>
                      </a:lnTo>
                      <a:lnTo>
                        <a:pt x="151" y="338"/>
                      </a:lnTo>
                      <a:lnTo>
                        <a:pt x="104" y="300"/>
                      </a:lnTo>
                      <a:lnTo>
                        <a:pt x="77" y="241"/>
                      </a:lnTo>
                      <a:lnTo>
                        <a:pt x="51" y="153"/>
                      </a:lnTo>
                      <a:lnTo>
                        <a:pt x="40" y="93"/>
                      </a:lnTo>
                      <a:lnTo>
                        <a:pt x="37" y="73"/>
                      </a:lnTo>
                      <a:lnTo>
                        <a:pt x="16" y="61"/>
                      </a:lnTo>
                      <a:lnTo>
                        <a:pt x="0" y="38"/>
                      </a:lnTo>
                      <a:lnTo>
                        <a:pt x="4" y="21"/>
                      </a:lnTo>
                      <a:lnTo>
                        <a:pt x="21" y="21"/>
                      </a:lnTo>
                      <a:lnTo>
                        <a:pt x="34" y="44"/>
                      </a:lnTo>
                      <a:lnTo>
                        <a:pt x="44" y="41"/>
                      </a:lnTo>
                      <a:lnTo>
                        <a:pt x="32" y="11"/>
                      </a:lnTo>
                      <a:lnTo>
                        <a:pt x="44" y="0"/>
                      </a:lnTo>
                      <a:lnTo>
                        <a:pt x="62" y="24"/>
                      </a:lnTo>
                      <a:lnTo>
                        <a:pt x="59" y="47"/>
                      </a:lnTo>
                      <a:lnTo>
                        <a:pt x="75" y="7"/>
                      </a:lnTo>
                      <a:lnTo>
                        <a:pt x="89" y="11"/>
                      </a:lnTo>
                      <a:lnTo>
                        <a:pt x="93" y="28"/>
                      </a:lnTo>
                      <a:lnTo>
                        <a:pt x="78" y="46"/>
                      </a:lnTo>
                      <a:lnTo>
                        <a:pt x="64" y="67"/>
                      </a:lnTo>
                      <a:lnTo>
                        <a:pt x="60" y="84"/>
                      </a:lnTo>
                      <a:lnTo>
                        <a:pt x="66" y="122"/>
                      </a:lnTo>
                      <a:lnTo>
                        <a:pt x="78" y="172"/>
                      </a:lnTo>
                      <a:lnTo>
                        <a:pt x="98" y="222"/>
                      </a:lnTo>
                      <a:lnTo>
                        <a:pt x="124" y="268"/>
                      </a:lnTo>
                      <a:lnTo>
                        <a:pt x="141" y="295"/>
                      </a:lnTo>
                      <a:lnTo>
                        <a:pt x="163" y="312"/>
                      </a:lnTo>
                      <a:lnTo>
                        <a:pt x="190" y="318"/>
                      </a:lnTo>
                      <a:lnTo>
                        <a:pt x="215" y="3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401920" y="4450680"/>
                  <a:ext cx="421560" cy="401400"/>
                </a:xfrm>
                <a:custGeom>
                  <a:avLst/>
                  <a:gdLst/>
                  <a:ahLst/>
                  <a:rect l="l" t="t" r="r" b="b"/>
                  <a:pathLst>
                    <a:path w="333" h="286">
                      <a:moveTo>
                        <a:pt x="10" y="251"/>
                      </a:moveTo>
                      <a:lnTo>
                        <a:pt x="46" y="248"/>
                      </a:lnTo>
                      <a:lnTo>
                        <a:pt x="92" y="241"/>
                      </a:lnTo>
                      <a:lnTo>
                        <a:pt x="153" y="221"/>
                      </a:lnTo>
                      <a:lnTo>
                        <a:pt x="191" y="198"/>
                      </a:lnTo>
                      <a:lnTo>
                        <a:pt x="208" y="174"/>
                      </a:lnTo>
                      <a:lnTo>
                        <a:pt x="226" y="131"/>
                      </a:lnTo>
                      <a:lnTo>
                        <a:pt x="237" y="88"/>
                      </a:lnTo>
                      <a:lnTo>
                        <a:pt x="238" y="65"/>
                      </a:lnTo>
                      <a:lnTo>
                        <a:pt x="235" y="54"/>
                      </a:lnTo>
                      <a:lnTo>
                        <a:pt x="207" y="50"/>
                      </a:lnTo>
                      <a:lnTo>
                        <a:pt x="196" y="38"/>
                      </a:lnTo>
                      <a:lnTo>
                        <a:pt x="203" y="28"/>
                      </a:lnTo>
                      <a:lnTo>
                        <a:pt x="215" y="28"/>
                      </a:lnTo>
                      <a:lnTo>
                        <a:pt x="233" y="36"/>
                      </a:lnTo>
                      <a:lnTo>
                        <a:pt x="242" y="39"/>
                      </a:lnTo>
                      <a:lnTo>
                        <a:pt x="254" y="34"/>
                      </a:lnTo>
                      <a:lnTo>
                        <a:pt x="267" y="23"/>
                      </a:lnTo>
                      <a:lnTo>
                        <a:pt x="277" y="5"/>
                      </a:lnTo>
                      <a:lnTo>
                        <a:pt x="287" y="0"/>
                      </a:lnTo>
                      <a:lnTo>
                        <a:pt x="299" y="1"/>
                      </a:lnTo>
                      <a:lnTo>
                        <a:pt x="296" y="16"/>
                      </a:lnTo>
                      <a:lnTo>
                        <a:pt x="279" y="34"/>
                      </a:lnTo>
                      <a:lnTo>
                        <a:pt x="267" y="42"/>
                      </a:lnTo>
                      <a:lnTo>
                        <a:pt x="269" y="46"/>
                      </a:lnTo>
                      <a:lnTo>
                        <a:pt x="283" y="46"/>
                      </a:lnTo>
                      <a:lnTo>
                        <a:pt x="300" y="44"/>
                      </a:lnTo>
                      <a:lnTo>
                        <a:pt x="314" y="38"/>
                      </a:lnTo>
                      <a:lnTo>
                        <a:pt x="320" y="27"/>
                      </a:lnTo>
                      <a:lnTo>
                        <a:pt x="331" y="31"/>
                      </a:lnTo>
                      <a:lnTo>
                        <a:pt x="333" y="46"/>
                      </a:lnTo>
                      <a:lnTo>
                        <a:pt x="317" y="58"/>
                      </a:lnTo>
                      <a:lnTo>
                        <a:pt x="294" y="61"/>
                      </a:lnTo>
                      <a:lnTo>
                        <a:pt x="269" y="59"/>
                      </a:lnTo>
                      <a:lnTo>
                        <a:pt x="260" y="65"/>
                      </a:lnTo>
                      <a:lnTo>
                        <a:pt x="254" y="89"/>
                      </a:lnTo>
                      <a:lnTo>
                        <a:pt x="250" y="117"/>
                      </a:lnTo>
                      <a:lnTo>
                        <a:pt x="242" y="150"/>
                      </a:lnTo>
                      <a:lnTo>
                        <a:pt x="235" y="174"/>
                      </a:lnTo>
                      <a:lnTo>
                        <a:pt x="226" y="194"/>
                      </a:lnTo>
                      <a:lnTo>
                        <a:pt x="211" y="214"/>
                      </a:lnTo>
                      <a:lnTo>
                        <a:pt x="198" y="221"/>
                      </a:lnTo>
                      <a:lnTo>
                        <a:pt x="175" y="236"/>
                      </a:lnTo>
                      <a:lnTo>
                        <a:pt x="145" y="251"/>
                      </a:lnTo>
                      <a:lnTo>
                        <a:pt x="102" y="263"/>
                      </a:lnTo>
                      <a:lnTo>
                        <a:pt x="68" y="271"/>
                      </a:lnTo>
                      <a:lnTo>
                        <a:pt x="29" y="286"/>
                      </a:lnTo>
                      <a:lnTo>
                        <a:pt x="10" y="281"/>
                      </a:lnTo>
                      <a:lnTo>
                        <a:pt x="0" y="263"/>
                      </a:lnTo>
                      <a:lnTo>
                        <a:pt x="10" y="2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326320" y="5062680"/>
                  <a:ext cx="133920" cy="513360"/>
                </a:xfrm>
                <a:custGeom>
                  <a:avLst/>
                  <a:gdLst/>
                  <a:ahLst/>
                  <a:rect l="l" t="t" r="r" b="b"/>
                  <a:pathLst>
                    <a:path w="107" h="366">
                      <a:moveTo>
                        <a:pt x="27" y="4"/>
                      </a:moveTo>
                      <a:lnTo>
                        <a:pt x="48" y="0"/>
                      </a:lnTo>
                      <a:lnTo>
                        <a:pt x="59" y="10"/>
                      </a:lnTo>
                      <a:lnTo>
                        <a:pt x="62" y="31"/>
                      </a:lnTo>
                      <a:lnTo>
                        <a:pt x="64" y="70"/>
                      </a:lnTo>
                      <a:lnTo>
                        <a:pt x="60" y="132"/>
                      </a:lnTo>
                      <a:lnTo>
                        <a:pt x="53" y="193"/>
                      </a:lnTo>
                      <a:lnTo>
                        <a:pt x="42" y="255"/>
                      </a:lnTo>
                      <a:lnTo>
                        <a:pt x="34" y="309"/>
                      </a:lnTo>
                      <a:lnTo>
                        <a:pt x="33" y="320"/>
                      </a:lnTo>
                      <a:lnTo>
                        <a:pt x="38" y="325"/>
                      </a:lnTo>
                      <a:lnTo>
                        <a:pt x="56" y="318"/>
                      </a:lnTo>
                      <a:lnTo>
                        <a:pt x="68" y="297"/>
                      </a:lnTo>
                      <a:lnTo>
                        <a:pt x="78" y="289"/>
                      </a:lnTo>
                      <a:lnTo>
                        <a:pt x="96" y="283"/>
                      </a:lnTo>
                      <a:lnTo>
                        <a:pt x="104" y="287"/>
                      </a:lnTo>
                      <a:lnTo>
                        <a:pt x="107" y="306"/>
                      </a:lnTo>
                      <a:lnTo>
                        <a:pt x="84" y="316"/>
                      </a:lnTo>
                      <a:lnTo>
                        <a:pt x="59" y="338"/>
                      </a:lnTo>
                      <a:lnTo>
                        <a:pt x="37" y="360"/>
                      </a:lnTo>
                      <a:lnTo>
                        <a:pt x="22" y="366"/>
                      </a:lnTo>
                      <a:lnTo>
                        <a:pt x="11" y="362"/>
                      </a:lnTo>
                      <a:lnTo>
                        <a:pt x="0" y="354"/>
                      </a:lnTo>
                      <a:lnTo>
                        <a:pt x="0" y="346"/>
                      </a:lnTo>
                      <a:lnTo>
                        <a:pt x="10" y="324"/>
                      </a:lnTo>
                      <a:lnTo>
                        <a:pt x="19" y="310"/>
                      </a:lnTo>
                      <a:lnTo>
                        <a:pt x="23" y="274"/>
                      </a:lnTo>
                      <a:lnTo>
                        <a:pt x="23" y="228"/>
                      </a:lnTo>
                      <a:lnTo>
                        <a:pt x="22" y="164"/>
                      </a:lnTo>
                      <a:lnTo>
                        <a:pt x="30" y="116"/>
                      </a:lnTo>
                      <a:lnTo>
                        <a:pt x="24" y="65"/>
                      </a:lnTo>
                      <a:lnTo>
                        <a:pt x="24" y="25"/>
                      </a:lnTo>
                      <a:lnTo>
                        <a:pt x="2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412360" y="5068440"/>
                  <a:ext cx="141120" cy="515880"/>
                </a:xfrm>
                <a:custGeom>
                  <a:avLst/>
                  <a:gdLst/>
                  <a:ahLst/>
                  <a:rect l="l" t="t" r="r" b="b"/>
                  <a:pathLst>
                    <a:path w="112" h="367">
                      <a:moveTo>
                        <a:pt x="0" y="6"/>
                      </a:moveTo>
                      <a:lnTo>
                        <a:pt x="19" y="0"/>
                      </a:lnTo>
                      <a:lnTo>
                        <a:pt x="32" y="7"/>
                      </a:lnTo>
                      <a:lnTo>
                        <a:pt x="38" y="29"/>
                      </a:lnTo>
                      <a:lnTo>
                        <a:pt x="42" y="68"/>
                      </a:lnTo>
                      <a:lnTo>
                        <a:pt x="46" y="130"/>
                      </a:lnTo>
                      <a:lnTo>
                        <a:pt x="45" y="191"/>
                      </a:lnTo>
                      <a:lnTo>
                        <a:pt x="42" y="257"/>
                      </a:lnTo>
                      <a:lnTo>
                        <a:pt x="39" y="310"/>
                      </a:lnTo>
                      <a:lnTo>
                        <a:pt x="41" y="321"/>
                      </a:lnTo>
                      <a:lnTo>
                        <a:pt x="46" y="327"/>
                      </a:lnTo>
                      <a:lnTo>
                        <a:pt x="61" y="316"/>
                      </a:lnTo>
                      <a:lnTo>
                        <a:pt x="73" y="293"/>
                      </a:lnTo>
                      <a:lnTo>
                        <a:pt x="80" y="285"/>
                      </a:lnTo>
                      <a:lnTo>
                        <a:pt x="98" y="275"/>
                      </a:lnTo>
                      <a:lnTo>
                        <a:pt x="107" y="281"/>
                      </a:lnTo>
                      <a:lnTo>
                        <a:pt x="112" y="298"/>
                      </a:lnTo>
                      <a:lnTo>
                        <a:pt x="89" y="312"/>
                      </a:lnTo>
                      <a:lnTo>
                        <a:pt x="66" y="337"/>
                      </a:lnTo>
                      <a:lnTo>
                        <a:pt x="47" y="361"/>
                      </a:lnTo>
                      <a:lnTo>
                        <a:pt x="36" y="367"/>
                      </a:lnTo>
                      <a:lnTo>
                        <a:pt x="22" y="366"/>
                      </a:lnTo>
                      <a:lnTo>
                        <a:pt x="11" y="357"/>
                      </a:lnTo>
                      <a:lnTo>
                        <a:pt x="11" y="350"/>
                      </a:lnTo>
                      <a:lnTo>
                        <a:pt x="18" y="328"/>
                      </a:lnTo>
                      <a:lnTo>
                        <a:pt x="24" y="311"/>
                      </a:lnTo>
                      <a:lnTo>
                        <a:pt x="25" y="275"/>
                      </a:lnTo>
                      <a:lnTo>
                        <a:pt x="20" y="230"/>
                      </a:lnTo>
                      <a:lnTo>
                        <a:pt x="11" y="167"/>
                      </a:lnTo>
                      <a:lnTo>
                        <a:pt x="14" y="116"/>
                      </a:lnTo>
                      <a:lnTo>
                        <a:pt x="3" y="68"/>
                      </a:lnTo>
                      <a:lnTo>
                        <a:pt x="0" y="28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2540160" y="4038480"/>
                <a:ext cx="485640" cy="623880"/>
                <a:chOff x="2540160" y="4038480"/>
                <a:chExt cx="485640" cy="6238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2540160" y="4038480"/>
                  <a:ext cx="485640" cy="623880"/>
                </a:xfrm>
                <a:custGeom>
                  <a:avLst/>
                  <a:gdLst/>
                  <a:ahLst/>
                  <a:rect l="l" t="t" r="r" b="b"/>
                  <a:pathLst>
                    <a:path w="1221" h="1573">
                      <a:moveTo>
                        <a:pt x="15" y="330"/>
                      </a:moveTo>
                      <a:lnTo>
                        <a:pt x="7" y="207"/>
                      </a:lnTo>
                      <a:lnTo>
                        <a:pt x="69" y="92"/>
                      </a:lnTo>
                      <a:lnTo>
                        <a:pt x="185" y="0"/>
                      </a:lnTo>
                      <a:lnTo>
                        <a:pt x="360" y="39"/>
                      </a:lnTo>
                      <a:lnTo>
                        <a:pt x="514" y="146"/>
                      </a:lnTo>
                      <a:lnTo>
                        <a:pt x="707" y="230"/>
                      </a:lnTo>
                      <a:lnTo>
                        <a:pt x="913" y="315"/>
                      </a:lnTo>
                      <a:lnTo>
                        <a:pt x="1106" y="430"/>
                      </a:lnTo>
                      <a:lnTo>
                        <a:pt x="1221" y="537"/>
                      </a:lnTo>
                      <a:lnTo>
                        <a:pt x="1197" y="568"/>
                      </a:lnTo>
                      <a:lnTo>
                        <a:pt x="982" y="767"/>
                      </a:lnTo>
                      <a:lnTo>
                        <a:pt x="906" y="875"/>
                      </a:lnTo>
                      <a:lnTo>
                        <a:pt x="890" y="975"/>
                      </a:lnTo>
                      <a:lnTo>
                        <a:pt x="882" y="1105"/>
                      </a:lnTo>
                      <a:lnTo>
                        <a:pt x="868" y="1274"/>
                      </a:lnTo>
                      <a:lnTo>
                        <a:pt x="829" y="1451"/>
                      </a:lnTo>
                      <a:lnTo>
                        <a:pt x="768" y="1550"/>
                      </a:lnTo>
                      <a:lnTo>
                        <a:pt x="707" y="1573"/>
                      </a:lnTo>
                      <a:lnTo>
                        <a:pt x="638" y="1520"/>
                      </a:lnTo>
                      <a:lnTo>
                        <a:pt x="522" y="1451"/>
                      </a:lnTo>
                      <a:lnTo>
                        <a:pt x="399" y="1374"/>
                      </a:lnTo>
                      <a:lnTo>
                        <a:pt x="261" y="1319"/>
                      </a:lnTo>
                      <a:lnTo>
                        <a:pt x="138" y="1304"/>
                      </a:lnTo>
                      <a:lnTo>
                        <a:pt x="76" y="1205"/>
                      </a:lnTo>
                      <a:lnTo>
                        <a:pt x="31" y="1059"/>
                      </a:lnTo>
                      <a:lnTo>
                        <a:pt x="0" y="822"/>
                      </a:lnTo>
                      <a:lnTo>
                        <a:pt x="7" y="614"/>
                      </a:lnTo>
                      <a:lnTo>
                        <a:pt x="23" y="491"/>
                      </a:lnTo>
                      <a:lnTo>
                        <a:pt x="76" y="491"/>
                      </a:lnTo>
                      <a:lnTo>
                        <a:pt x="69" y="698"/>
                      </a:lnTo>
                      <a:lnTo>
                        <a:pt x="69" y="920"/>
                      </a:lnTo>
                      <a:lnTo>
                        <a:pt x="100" y="1052"/>
                      </a:lnTo>
                      <a:lnTo>
                        <a:pt x="153" y="1205"/>
                      </a:lnTo>
                      <a:lnTo>
                        <a:pt x="276" y="1266"/>
                      </a:lnTo>
                      <a:lnTo>
                        <a:pt x="445" y="1312"/>
                      </a:lnTo>
                      <a:lnTo>
                        <a:pt x="583" y="1388"/>
                      </a:lnTo>
                      <a:lnTo>
                        <a:pt x="714" y="1481"/>
                      </a:lnTo>
                      <a:lnTo>
                        <a:pt x="768" y="1420"/>
                      </a:lnTo>
                      <a:lnTo>
                        <a:pt x="799" y="1290"/>
                      </a:lnTo>
                      <a:lnTo>
                        <a:pt x="813" y="1121"/>
                      </a:lnTo>
                      <a:lnTo>
                        <a:pt x="829" y="944"/>
                      </a:lnTo>
                      <a:lnTo>
                        <a:pt x="882" y="790"/>
                      </a:lnTo>
                      <a:lnTo>
                        <a:pt x="1036" y="629"/>
                      </a:lnTo>
                      <a:lnTo>
                        <a:pt x="1106" y="545"/>
                      </a:lnTo>
                      <a:lnTo>
                        <a:pt x="1098" y="513"/>
                      </a:lnTo>
                      <a:lnTo>
                        <a:pt x="906" y="383"/>
                      </a:lnTo>
                      <a:lnTo>
                        <a:pt x="714" y="299"/>
                      </a:lnTo>
                      <a:lnTo>
                        <a:pt x="553" y="222"/>
                      </a:lnTo>
                      <a:lnTo>
                        <a:pt x="453" y="177"/>
                      </a:lnTo>
                      <a:lnTo>
                        <a:pt x="352" y="116"/>
                      </a:lnTo>
                      <a:lnTo>
                        <a:pt x="291" y="84"/>
                      </a:lnTo>
                      <a:lnTo>
                        <a:pt x="191" y="77"/>
                      </a:lnTo>
                      <a:lnTo>
                        <a:pt x="130" y="130"/>
                      </a:lnTo>
                      <a:lnTo>
                        <a:pt x="84" y="214"/>
                      </a:lnTo>
                      <a:lnTo>
                        <a:pt x="84" y="291"/>
                      </a:lnTo>
                      <a:lnTo>
                        <a:pt x="76" y="368"/>
                      </a:lnTo>
                      <a:lnTo>
                        <a:pt x="15" y="3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644560" y="4230720"/>
                  <a:ext cx="152280" cy="222120"/>
                </a:xfrm>
                <a:custGeom>
                  <a:avLst/>
                  <a:gdLst/>
                  <a:ahLst/>
                  <a:rect l="l" t="t" r="r" b="b"/>
                  <a:pathLst>
                    <a:path w="384" h="562">
                      <a:moveTo>
                        <a:pt x="46" y="155"/>
                      </a:moveTo>
                      <a:lnTo>
                        <a:pt x="130" y="63"/>
                      </a:lnTo>
                      <a:lnTo>
                        <a:pt x="268" y="0"/>
                      </a:lnTo>
                      <a:lnTo>
                        <a:pt x="337" y="124"/>
                      </a:lnTo>
                      <a:lnTo>
                        <a:pt x="384" y="285"/>
                      </a:lnTo>
                      <a:lnTo>
                        <a:pt x="276" y="562"/>
                      </a:lnTo>
                      <a:lnTo>
                        <a:pt x="138" y="554"/>
                      </a:lnTo>
                      <a:lnTo>
                        <a:pt x="0" y="462"/>
                      </a:lnTo>
                      <a:lnTo>
                        <a:pt x="0" y="224"/>
                      </a:lnTo>
                      <a:lnTo>
                        <a:pt x="38" y="216"/>
                      </a:lnTo>
                      <a:lnTo>
                        <a:pt x="69" y="254"/>
                      </a:lnTo>
                      <a:lnTo>
                        <a:pt x="61" y="438"/>
                      </a:lnTo>
                      <a:lnTo>
                        <a:pt x="154" y="507"/>
                      </a:lnTo>
                      <a:lnTo>
                        <a:pt x="260" y="492"/>
                      </a:lnTo>
                      <a:lnTo>
                        <a:pt x="322" y="293"/>
                      </a:lnTo>
                      <a:lnTo>
                        <a:pt x="237" y="293"/>
                      </a:lnTo>
                      <a:lnTo>
                        <a:pt x="130" y="239"/>
                      </a:lnTo>
                      <a:lnTo>
                        <a:pt x="138" y="224"/>
                      </a:lnTo>
                      <a:lnTo>
                        <a:pt x="268" y="254"/>
                      </a:lnTo>
                      <a:lnTo>
                        <a:pt x="337" y="246"/>
                      </a:lnTo>
                      <a:lnTo>
                        <a:pt x="253" y="55"/>
                      </a:lnTo>
                      <a:lnTo>
                        <a:pt x="160" y="116"/>
                      </a:lnTo>
                      <a:lnTo>
                        <a:pt x="77" y="208"/>
                      </a:lnTo>
                      <a:lnTo>
                        <a:pt x="46" y="1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5" name=""/>
            <p:cNvSpPr/>
            <p:nvPr/>
          </p:nvSpPr>
          <p:spPr>
            <a:xfrm>
              <a:off x="1861200" y="5602320"/>
              <a:ext cx="11102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nalisa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G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ekarang 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uju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3219480" y="4219560"/>
            <a:ext cx="1796040" cy="1940760"/>
            <a:chOff x="3219480" y="4219560"/>
            <a:chExt cx="1796040" cy="1940760"/>
          </a:xfrm>
        </p:grpSpPr>
        <p:sp>
          <p:nvSpPr>
            <p:cNvPr id="387" name=""/>
            <p:cNvSpPr/>
            <p:nvPr/>
          </p:nvSpPr>
          <p:spPr>
            <a:xfrm>
              <a:off x="3219480" y="4848120"/>
              <a:ext cx="285840" cy="333360"/>
            </a:xfrm>
            <a:prstGeom prst="rightArrow">
              <a:avLst>
                <a:gd name="adj1" fmla="val 55241"/>
                <a:gd name="adj2" fmla="val 51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528720" y="4219560"/>
              <a:ext cx="1486800" cy="1940760"/>
              <a:chOff x="3528720" y="4219560"/>
              <a:chExt cx="1486800" cy="194076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3654000" y="4219560"/>
                <a:ext cx="1235160" cy="1363680"/>
                <a:chOff x="3654000" y="4219560"/>
                <a:chExt cx="1235160" cy="1363680"/>
              </a:xfrm>
            </p:grpSpPr>
            <p:grpSp>
              <p:nvGrpSpPr>
                <p:cNvPr id="390" name=""/>
                <p:cNvGrpSpPr/>
                <p:nvPr/>
              </p:nvGrpSpPr>
              <p:grpSpPr>
                <a:xfrm>
                  <a:off x="4079520" y="4219560"/>
                  <a:ext cx="809640" cy="1033560"/>
                  <a:chOff x="4079520" y="4219560"/>
                  <a:chExt cx="809640" cy="103356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>
                    <a:off x="4079520" y="4219560"/>
                    <a:ext cx="809640" cy="10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1" h="1573">
                        <a:moveTo>
                          <a:pt x="15" y="330"/>
                        </a:moveTo>
                        <a:lnTo>
                          <a:pt x="7" y="207"/>
                        </a:lnTo>
                        <a:lnTo>
                          <a:pt x="69" y="92"/>
                        </a:lnTo>
                        <a:lnTo>
                          <a:pt x="185" y="0"/>
                        </a:lnTo>
                        <a:lnTo>
                          <a:pt x="360" y="39"/>
                        </a:lnTo>
                        <a:lnTo>
                          <a:pt x="514" y="146"/>
                        </a:lnTo>
                        <a:lnTo>
                          <a:pt x="707" y="230"/>
                        </a:lnTo>
                        <a:lnTo>
                          <a:pt x="913" y="315"/>
                        </a:lnTo>
                        <a:lnTo>
                          <a:pt x="1106" y="430"/>
                        </a:lnTo>
                        <a:lnTo>
                          <a:pt x="1221" y="537"/>
                        </a:lnTo>
                        <a:lnTo>
                          <a:pt x="1197" y="568"/>
                        </a:lnTo>
                        <a:lnTo>
                          <a:pt x="982" y="767"/>
                        </a:lnTo>
                        <a:lnTo>
                          <a:pt x="906" y="875"/>
                        </a:lnTo>
                        <a:lnTo>
                          <a:pt x="890" y="975"/>
                        </a:lnTo>
                        <a:lnTo>
                          <a:pt x="882" y="1105"/>
                        </a:lnTo>
                        <a:lnTo>
                          <a:pt x="868" y="1274"/>
                        </a:lnTo>
                        <a:lnTo>
                          <a:pt x="829" y="1451"/>
                        </a:lnTo>
                        <a:lnTo>
                          <a:pt x="768" y="1550"/>
                        </a:lnTo>
                        <a:lnTo>
                          <a:pt x="707" y="1573"/>
                        </a:lnTo>
                        <a:lnTo>
                          <a:pt x="638" y="1520"/>
                        </a:lnTo>
                        <a:lnTo>
                          <a:pt x="522" y="1451"/>
                        </a:lnTo>
                        <a:lnTo>
                          <a:pt x="399" y="1374"/>
                        </a:lnTo>
                        <a:lnTo>
                          <a:pt x="261" y="1319"/>
                        </a:lnTo>
                        <a:lnTo>
                          <a:pt x="138" y="1304"/>
                        </a:lnTo>
                        <a:lnTo>
                          <a:pt x="76" y="1205"/>
                        </a:lnTo>
                        <a:lnTo>
                          <a:pt x="31" y="1059"/>
                        </a:lnTo>
                        <a:lnTo>
                          <a:pt x="0" y="822"/>
                        </a:lnTo>
                        <a:lnTo>
                          <a:pt x="7" y="614"/>
                        </a:lnTo>
                        <a:lnTo>
                          <a:pt x="23" y="491"/>
                        </a:lnTo>
                        <a:lnTo>
                          <a:pt x="76" y="491"/>
                        </a:lnTo>
                        <a:lnTo>
                          <a:pt x="69" y="698"/>
                        </a:lnTo>
                        <a:lnTo>
                          <a:pt x="69" y="920"/>
                        </a:lnTo>
                        <a:lnTo>
                          <a:pt x="100" y="1052"/>
                        </a:lnTo>
                        <a:lnTo>
                          <a:pt x="153" y="1205"/>
                        </a:lnTo>
                        <a:lnTo>
                          <a:pt x="276" y="1266"/>
                        </a:lnTo>
                        <a:lnTo>
                          <a:pt x="445" y="1312"/>
                        </a:lnTo>
                        <a:lnTo>
                          <a:pt x="583" y="1388"/>
                        </a:lnTo>
                        <a:lnTo>
                          <a:pt x="714" y="1481"/>
                        </a:lnTo>
                        <a:lnTo>
                          <a:pt x="768" y="1420"/>
                        </a:lnTo>
                        <a:lnTo>
                          <a:pt x="799" y="1290"/>
                        </a:lnTo>
                        <a:lnTo>
                          <a:pt x="813" y="1121"/>
                        </a:lnTo>
                        <a:lnTo>
                          <a:pt x="829" y="944"/>
                        </a:lnTo>
                        <a:lnTo>
                          <a:pt x="882" y="790"/>
                        </a:lnTo>
                        <a:lnTo>
                          <a:pt x="1036" y="629"/>
                        </a:lnTo>
                        <a:lnTo>
                          <a:pt x="1106" y="545"/>
                        </a:lnTo>
                        <a:lnTo>
                          <a:pt x="1098" y="513"/>
                        </a:lnTo>
                        <a:lnTo>
                          <a:pt x="906" y="383"/>
                        </a:lnTo>
                        <a:lnTo>
                          <a:pt x="714" y="299"/>
                        </a:lnTo>
                        <a:lnTo>
                          <a:pt x="553" y="222"/>
                        </a:lnTo>
                        <a:lnTo>
                          <a:pt x="453" y="177"/>
                        </a:lnTo>
                        <a:lnTo>
                          <a:pt x="352" y="116"/>
                        </a:lnTo>
                        <a:lnTo>
                          <a:pt x="291" y="84"/>
                        </a:lnTo>
                        <a:lnTo>
                          <a:pt x="191" y="77"/>
                        </a:lnTo>
                        <a:lnTo>
                          <a:pt x="130" y="130"/>
                        </a:lnTo>
                        <a:lnTo>
                          <a:pt x="84" y="214"/>
                        </a:lnTo>
                        <a:lnTo>
                          <a:pt x="84" y="291"/>
                        </a:lnTo>
                        <a:lnTo>
                          <a:pt x="76" y="368"/>
                        </a:lnTo>
                        <a:lnTo>
                          <a:pt x="15" y="3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4222080" y="4691160"/>
                    <a:ext cx="9072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1" h="1573">
                        <a:moveTo>
                          <a:pt x="15" y="330"/>
                        </a:moveTo>
                        <a:lnTo>
                          <a:pt x="7" y="207"/>
                        </a:lnTo>
                        <a:lnTo>
                          <a:pt x="69" y="92"/>
                        </a:lnTo>
                        <a:lnTo>
                          <a:pt x="185" y="0"/>
                        </a:lnTo>
                        <a:lnTo>
                          <a:pt x="360" y="39"/>
                        </a:lnTo>
                        <a:lnTo>
                          <a:pt x="514" y="146"/>
                        </a:lnTo>
                        <a:lnTo>
                          <a:pt x="707" y="230"/>
                        </a:lnTo>
                        <a:lnTo>
                          <a:pt x="913" y="315"/>
                        </a:lnTo>
                        <a:lnTo>
                          <a:pt x="1106" y="430"/>
                        </a:lnTo>
                        <a:lnTo>
                          <a:pt x="1221" y="537"/>
                        </a:lnTo>
                        <a:lnTo>
                          <a:pt x="1197" y="568"/>
                        </a:lnTo>
                        <a:lnTo>
                          <a:pt x="982" y="767"/>
                        </a:lnTo>
                        <a:lnTo>
                          <a:pt x="906" y="875"/>
                        </a:lnTo>
                        <a:lnTo>
                          <a:pt x="890" y="975"/>
                        </a:lnTo>
                        <a:lnTo>
                          <a:pt x="882" y="1105"/>
                        </a:lnTo>
                        <a:lnTo>
                          <a:pt x="868" y="1274"/>
                        </a:lnTo>
                        <a:lnTo>
                          <a:pt x="829" y="1451"/>
                        </a:lnTo>
                        <a:lnTo>
                          <a:pt x="768" y="1550"/>
                        </a:lnTo>
                        <a:lnTo>
                          <a:pt x="707" y="1573"/>
                        </a:lnTo>
                        <a:lnTo>
                          <a:pt x="638" y="1520"/>
                        </a:lnTo>
                        <a:lnTo>
                          <a:pt x="522" y="1451"/>
                        </a:lnTo>
                        <a:lnTo>
                          <a:pt x="399" y="1374"/>
                        </a:lnTo>
                        <a:lnTo>
                          <a:pt x="261" y="1319"/>
                        </a:lnTo>
                        <a:lnTo>
                          <a:pt x="138" y="1304"/>
                        </a:lnTo>
                        <a:lnTo>
                          <a:pt x="76" y="1205"/>
                        </a:lnTo>
                        <a:lnTo>
                          <a:pt x="31" y="1059"/>
                        </a:lnTo>
                        <a:lnTo>
                          <a:pt x="0" y="822"/>
                        </a:lnTo>
                        <a:lnTo>
                          <a:pt x="7" y="614"/>
                        </a:lnTo>
                        <a:lnTo>
                          <a:pt x="23" y="491"/>
                        </a:lnTo>
                        <a:lnTo>
                          <a:pt x="76" y="491"/>
                        </a:lnTo>
                        <a:lnTo>
                          <a:pt x="69" y="698"/>
                        </a:lnTo>
                        <a:lnTo>
                          <a:pt x="69" y="920"/>
                        </a:lnTo>
                        <a:lnTo>
                          <a:pt x="100" y="1052"/>
                        </a:lnTo>
                        <a:lnTo>
                          <a:pt x="153" y="1205"/>
                        </a:lnTo>
                        <a:lnTo>
                          <a:pt x="276" y="1266"/>
                        </a:lnTo>
                        <a:lnTo>
                          <a:pt x="445" y="1312"/>
                        </a:lnTo>
                        <a:lnTo>
                          <a:pt x="583" y="1388"/>
                        </a:lnTo>
                        <a:lnTo>
                          <a:pt x="714" y="1481"/>
                        </a:lnTo>
                        <a:lnTo>
                          <a:pt x="768" y="1420"/>
                        </a:lnTo>
                        <a:lnTo>
                          <a:pt x="799" y="1290"/>
                        </a:lnTo>
                        <a:lnTo>
                          <a:pt x="813" y="1121"/>
                        </a:lnTo>
                        <a:lnTo>
                          <a:pt x="829" y="944"/>
                        </a:lnTo>
                        <a:lnTo>
                          <a:pt x="882" y="790"/>
                        </a:lnTo>
                        <a:lnTo>
                          <a:pt x="1036" y="629"/>
                        </a:lnTo>
                        <a:lnTo>
                          <a:pt x="1106" y="545"/>
                        </a:lnTo>
                        <a:lnTo>
                          <a:pt x="1098" y="513"/>
                        </a:lnTo>
                        <a:lnTo>
                          <a:pt x="906" y="383"/>
                        </a:lnTo>
                        <a:lnTo>
                          <a:pt x="714" y="299"/>
                        </a:lnTo>
                        <a:lnTo>
                          <a:pt x="553" y="222"/>
                        </a:lnTo>
                        <a:lnTo>
                          <a:pt x="453" y="177"/>
                        </a:lnTo>
                        <a:lnTo>
                          <a:pt x="352" y="116"/>
                        </a:lnTo>
                        <a:lnTo>
                          <a:pt x="291" y="84"/>
                        </a:lnTo>
                        <a:lnTo>
                          <a:pt x="191" y="77"/>
                        </a:lnTo>
                        <a:lnTo>
                          <a:pt x="130" y="130"/>
                        </a:lnTo>
                        <a:lnTo>
                          <a:pt x="84" y="214"/>
                        </a:lnTo>
                        <a:lnTo>
                          <a:pt x="84" y="291"/>
                        </a:lnTo>
                        <a:lnTo>
                          <a:pt x="76" y="368"/>
                        </a:lnTo>
                        <a:lnTo>
                          <a:pt x="15" y="3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4255560" y="4481640"/>
                    <a:ext cx="9036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1" h="1573">
                        <a:moveTo>
                          <a:pt x="15" y="330"/>
                        </a:moveTo>
                        <a:lnTo>
                          <a:pt x="7" y="207"/>
                        </a:lnTo>
                        <a:lnTo>
                          <a:pt x="69" y="92"/>
                        </a:lnTo>
                        <a:lnTo>
                          <a:pt x="185" y="0"/>
                        </a:lnTo>
                        <a:lnTo>
                          <a:pt x="360" y="39"/>
                        </a:lnTo>
                        <a:lnTo>
                          <a:pt x="514" y="146"/>
                        </a:lnTo>
                        <a:lnTo>
                          <a:pt x="707" y="230"/>
                        </a:lnTo>
                        <a:lnTo>
                          <a:pt x="913" y="315"/>
                        </a:lnTo>
                        <a:lnTo>
                          <a:pt x="1106" y="430"/>
                        </a:lnTo>
                        <a:lnTo>
                          <a:pt x="1221" y="537"/>
                        </a:lnTo>
                        <a:lnTo>
                          <a:pt x="1197" y="568"/>
                        </a:lnTo>
                        <a:lnTo>
                          <a:pt x="982" y="767"/>
                        </a:lnTo>
                        <a:lnTo>
                          <a:pt x="906" y="875"/>
                        </a:lnTo>
                        <a:lnTo>
                          <a:pt x="890" y="975"/>
                        </a:lnTo>
                        <a:lnTo>
                          <a:pt x="882" y="1105"/>
                        </a:lnTo>
                        <a:lnTo>
                          <a:pt x="868" y="1274"/>
                        </a:lnTo>
                        <a:lnTo>
                          <a:pt x="829" y="1451"/>
                        </a:lnTo>
                        <a:lnTo>
                          <a:pt x="768" y="1550"/>
                        </a:lnTo>
                        <a:lnTo>
                          <a:pt x="707" y="1573"/>
                        </a:lnTo>
                        <a:lnTo>
                          <a:pt x="638" y="1520"/>
                        </a:lnTo>
                        <a:lnTo>
                          <a:pt x="522" y="1451"/>
                        </a:lnTo>
                        <a:lnTo>
                          <a:pt x="399" y="1374"/>
                        </a:lnTo>
                        <a:lnTo>
                          <a:pt x="261" y="1319"/>
                        </a:lnTo>
                        <a:lnTo>
                          <a:pt x="138" y="1304"/>
                        </a:lnTo>
                        <a:lnTo>
                          <a:pt x="76" y="1205"/>
                        </a:lnTo>
                        <a:lnTo>
                          <a:pt x="31" y="1059"/>
                        </a:lnTo>
                        <a:lnTo>
                          <a:pt x="0" y="822"/>
                        </a:lnTo>
                        <a:lnTo>
                          <a:pt x="7" y="614"/>
                        </a:lnTo>
                        <a:lnTo>
                          <a:pt x="23" y="491"/>
                        </a:lnTo>
                        <a:lnTo>
                          <a:pt x="76" y="491"/>
                        </a:lnTo>
                        <a:lnTo>
                          <a:pt x="69" y="698"/>
                        </a:lnTo>
                        <a:lnTo>
                          <a:pt x="69" y="920"/>
                        </a:lnTo>
                        <a:lnTo>
                          <a:pt x="100" y="1052"/>
                        </a:lnTo>
                        <a:lnTo>
                          <a:pt x="153" y="1205"/>
                        </a:lnTo>
                        <a:lnTo>
                          <a:pt x="276" y="1266"/>
                        </a:lnTo>
                        <a:lnTo>
                          <a:pt x="445" y="1312"/>
                        </a:lnTo>
                        <a:lnTo>
                          <a:pt x="583" y="1388"/>
                        </a:lnTo>
                        <a:lnTo>
                          <a:pt x="714" y="1481"/>
                        </a:lnTo>
                        <a:lnTo>
                          <a:pt x="768" y="1420"/>
                        </a:lnTo>
                        <a:lnTo>
                          <a:pt x="799" y="1290"/>
                        </a:lnTo>
                        <a:lnTo>
                          <a:pt x="813" y="1121"/>
                        </a:lnTo>
                        <a:lnTo>
                          <a:pt x="829" y="944"/>
                        </a:lnTo>
                        <a:lnTo>
                          <a:pt x="882" y="790"/>
                        </a:lnTo>
                        <a:lnTo>
                          <a:pt x="1036" y="629"/>
                        </a:lnTo>
                        <a:lnTo>
                          <a:pt x="1106" y="545"/>
                        </a:lnTo>
                        <a:lnTo>
                          <a:pt x="1098" y="513"/>
                        </a:lnTo>
                        <a:lnTo>
                          <a:pt x="906" y="383"/>
                        </a:lnTo>
                        <a:lnTo>
                          <a:pt x="714" y="299"/>
                        </a:lnTo>
                        <a:lnTo>
                          <a:pt x="553" y="222"/>
                        </a:lnTo>
                        <a:lnTo>
                          <a:pt x="453" y="177"/>
                        </a:lnTo>
                        <a:lnTo>
                          <a:pt x="352" y="116"/>
                        </a:lnTo>
                        <a:lnTo>
                          <a:pt x="291" y="84"/>
                        </a:lnTo>
                        <a:lnTo>
                          <a:pt x="191" y="77"/>
                        </a:lnTo>
                        <a:lnTo>
                          <a:pt x="130" y="130"/>
                        </a:lnTo>
                        <a:lnTo>
                          <a:pt x="84" y="214"/>
                        </a:lnTo>
                        <a:lnTo>
                          <a:pt x="84" y="291"/>
                        </a:lnTo>
                        <a:lnTo>
                          <a:pt x="76" y="368"/>
                        </a:lnTo>
                        <a:lnTo>
                          <a:pt x="15" y="3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4355640" y="4729320"/>
                    <a:ext cx="9036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1" h="1573">
                        <a:moveTo>
                          <a:pt x="15" y="330"/>
                        </a:moveTo>
                        <a:lnTo>
                          <a:pt x="7" y="207"/>
                        </a:lnTo>
                        <a:lnTo>
                          <a:pt x="69" y="92"/>
                        </a:lnTo>
                        <a:lnTo>
                          <a:pt x="185" y="0"/>
                        </a:lnTo>
                        <a:lnTo>
                          <a:pt x="360" y="39"/>
                        </a:lnTo>
                        <a:lnTo>
                          <a:pt x="514" y="146"/>
                        </a:lnTo>
                        <a:lnTo>
                          <a:pt x="707" y="230"/>
                        </a:lnTo>
                        <a:lnTo>
                          <a:pt x="913" y="315"/>
                        </a:lnTo>
                        <a:lnTo>
                          <a:pt x="1106" y="430"/>
                        </a:lnTo>
                        <a:lnTo>
                          <a:pt x="1221" y="537"/>
                        </a:lnTo>
                        <a:lnTo>
                          <a:pt x="1197" y="568"/>
                        </a:lnTo>
                        <a:lnTo>
                          <a:pt x="982" y="767"/>
                        </a:lnTo>
                        <a:lnTo>
                          <a:pt x="906" y="875"/>
                        </a:lnTo>
                        <a:lnTo>
                          <a:pt x="890" y="975"/>
                        </a:lnTo>
                        <a:lnTo>
                          <a:pt x="882" y="1105"/>
                        </a:lnTo>
                        <a:lnTo>
                          <a:pt x="868" y="1274"/>
                        </a:lnTo>
                        <a:lnTo>
                          <a:pt x="829" y="1451"/>
                        </a:lnTo>
                        <a:lnTo>
                          <a:pt x="768" y="1550"/>
                        </a:lnTo>
                        <a:lnTo>
                          <a:pt x="707" y="1573"/>
                        </a:lnTo>
                        <a:lnTo>
                          <a:pt x="638" y="1520"/>
                        </a:lnTo>
                        <a:lnTo>
                          <a:pt x="522" y="1451"/>
                        </a:lnTo>
                        <a:lnTo>
                          <a:pt x="399" y="1374"/>
                        </a:lnTo>
                        <a:lnTo>
                          <a:pt x="261" y="1319"/>
                        </a:lnTo>
                        <a:lnTo>
                          <a:pt x="138" y="1304"/>
                        </a:lnTo>
                        <a:lnTo>
                          <a:pt x="76" y="1205"/>
                        </a:lnTo>
                        <a:lnTo>
                          <a:pt x="31" y="1059"/>
                        </a:lnTo>
                        <a:lnTo>
                          <a:pt x="0" y="822"/>
                        </a:lnTo>
                        <a:lnTo>
                          <a:pt x="7" y="614"/>
                        </a:lnTo>
                        <a:lnTo>
                          <a:pt x="23" y="491"/>
                        </a:lnTo>
                        <a:lnTo>
                          <a:pt x="76" y="491"/>
                        </a:lnTo>
                        <a:lnTo>
                          <a:pt x="69" y="698"/>
                        </a:lnTo>
                        <a:lnTo>
                          <a:pt x="69" y="920"/>
                        </a:lnTo>
                        <a:lnTo>
                          <a:pt x="100" y="1052"/>
                        </a:lnTo>
                        <a:lnTo>
                          <a:pt x="153" y="1205"/>
                        </a:lnTo>
                        <a:lnTo>
                          <a:pt x="276" y="1266"/>
                        </a:lnTo>
                        <a:lnTo>
                          <a:pt x="445" y="1312"/>
                        </a:lnTo>
                        <a:lnTo>
                          <a:pt x="583" y="1388"/>
                        </a:lnTo>
                        <a:lnTo>
                          <a:pt x="714" y="1481"/>
                        </a:lnTo>
                        <a:lnTo>
                          <a:pt x="768" y="1420"/>
                        </a:lnTo>
                        <a:lnTo>
                          <a:pt x="799" y="1290"/>
                        </a:lnTo>
                        <a:lnTo>
                          <a:pt x="813" y="1121"/>
                        </a:lnTo>
                        <a:lnTo>
                          <a:pt x="829" y="944"/>
                        </a:lnTo>
                        <a:lnTo>
                          <a:pt x="882" y="790"/>
                        </a:lnTo>
                        <a:lnTo>
                          <a:pt x="1036" y="629"/>
                        </a:lnTo>
                        <a:lnTo>
                          <a:pt x="1106" y="545"/>
                        </a:lnTo>
                        <a:lnTo>
                          <a:pt x="1098" y="513"/>
                        </a:lnTo>
                        <a:lnTo>
                          <a:pt x="906" y="383"/>
                        </a:lnTo>
                        <a:lnTo>
                          <a:pt x="714" y="299"/>
                        </a:lnTo>
                        <a:lnTo>
                          <a:pt x="553" y="222"/>
                        </a:lnTo>
                        <a:lnTo>
                          <a:pt x="453" y="177"/>
                        </a:lnTo>
                        <a:lnTo>
                          <a:pt x="352" y="116"/>
                        </a:lnTo>
                        <a:lnTo>
                          <a:pt x="291" y="84"/>
                        </a:lnTo>
                        <a:lnTo>
                          <a:pt x="191" y="77"/>
                        </a:lnTo>
                        <a:lnTo>
                          <a:pt x="130" y="130"/>
                        </a:lnTo>
                        <a:lnTo>
                          <a:pt x="84" y="214"/>
                        </a:lnTo>
                        <a:lnTo>
                          <a:pt x="84" y="291"/>
                        </a:lnTo>
                        <a:lnTo>
                          <a:pt x="76" y="368"/>
                        </a:lnTo>
                        <a:lnTo>
                          <a:pt x="15" y="3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4498560" y="4781520"/>
                    <a:ext cx="9036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1" h="1573">
                        <a:moveTo>
                          <a:pt x="15" y="330"/>
                        </a:moveTo>
                        <a:lnTo>
                          <a:pt x="7" y="207"/>
                        </a:lnTo>
                        <a:lnTo>
                          <a:pt x="69" y="92"/>
                        </a:lnTo>
                        <a:lnTo>
                          <a:pt x="185" y="0"/>
                        </a:lnTo>
                        <a:lnTo>
                          <a:pt x="360" y="39"/>
                        </a:lnTo>
                        <a:lnTo>
                          <a:pt x="514" y="146"/>
                        </a:lnTo>
                        <a:lnTo>
                          <a:pt x="707" y="230"/>
                        </a:lnTo>
                        <a:lnTo>
                          <a:pt x="913" y="315"/>
                        </a:lnTo>
                        <a:lnTo>
                          <a:pt x="1106" y="430"/>
                        </a:lnTo>
                        <a:lnTo>
                          <a:pt x="1221" y="537"/>
                        </a:lnTo>
                        <a:lnTo>
                          <a:pt x="1197" y="568"/>
                        </a:lnTo>
                        <a:lnTo>
                          <a:pt x="982" y="767"/>
                        </a:lnTo>
                        <a:lnTo>
                          <a:pt x="906" y="875"/>
                        </a:lnTo>
                        <a:lnTo>
                          <a:pt x="890" y="975"/>
                        </a:lnTo>
                        <a:lnTo>
                          <a:pt x="882" y="1105"/>
                        </a:lnTo>
                        <a:lnTo>
                          <a:pt x="868" y="1274"/>
                        </a:lnTo>
                        <a:lnTo>
                          <a:pt x="829" y="1451"/>
                        </a:lnTo>
                        <a:lnTo>
                          <a:pt x="768" y="1550"/>
                        </a:lnTo>
                        <a:lnTo>
                          <a:pt x="707" y="1573"/>
                        </a:lnTo>
                        <a:lnTo>
                          <a:pt x="638" y="1520"/>
                        </a:lnTo>
                        <a:lnTo>
                          <a:pt x="522" y="1451"/>
                        </a:lnTo>
                        <a:lnTo>
                          <a:pt x="399" y="1374"/>
                        </a:lnTo>
                        <a:lnTo>
                          <a:pt x="261" y="1319"/>
                        </a:lnTo>
                        <a:lnTo>
                          <a:pt x="138" y="1304"/>
                        </a:lnTo>
                        <a:lnTo>
                          <a:pt x="76" y="1205"/>
                        </a:lnTo>
                        <a:lnTo>
                          <a:pt x="31" y="1059"/>
                        </a:lnTo>
                        <a:lnTo>
                          <a:pt x="0" y="822"/>
                        </a:lnTo>
                        <a:lnTo>
                          <a:pt x="7" y="614"/>
                        </a:lnTo>
                        <a:lnTo>
                          <a:pt x="23" y="491"/>
                        </a:lnTo>
                        <a:lnTo>
                          <a:pt x="76" y="491"/>
                        </a:lnTo>
                        <a:lnTo>
                          <a:pt x="69" y="698"/>
                        </a:lnTo>
                        <a:lnTo>
                          <a:pt x="69" y="920"/>
                        </a:lnTo>
                        <a:lnTo>
                          <a:pt x="100" y="1052"/>
                        </a:lnTo>
                        <a:lnTo>
                          <a:pt x="153" y="1205"/>
                        </a:lnTo>
                        <a:lnTo>
                          <a:pt x="276" y="1266"/>
                        </a:lnTo>
                        <a:lnTo>
                          <a:pt x="445" y="1312"/>
                        </a:lnTo>
                        <a:lnTo>
                          <a:pt x="583" y="1388"/>
                        </a:lnTo>
                        <a:lnTo>
                          <a:pt x="714" y="1481"/>
                        </a:lnTo>
                        <a:lnTo>
                          <a:pt x="768" y="1420"/>
                        </a:lnTo>
                        <a:lnTo>
                          <a:pt x="799" y="1290"/>
                        </a:lnTo>
                        <a:lnTo>
                          <a:pt x="813" y="1121"/>
                        </a:lnTo>
                        <a:lnTo>
                          <a:pt x="829" y="944"/>
                        </a:lnTo>
                        <a:lnTo>
                          <a:pt x="882" y="790"/>
                        </a:lnTo>
                        <a:lnTo>
                          <a:pt x="1036" y="629"/>
                        </a:lnTo>
                        <a:lnTo>
                          <a:pt x="1106" y="545"/>
                        </a:lnTo>
                        <a:lnTo>
                          <a:pt x="1098" y="513"/>
                        </a:lnTo>
                        <a:lnTo>
                          <a:pt x="906" y="383"/>
                        </a:lnTo>
                        <a:lnTo>
                          <a:pt x="714" y="299"/>
                        </a:lnTo>
                        <a:lnTo>
                          <a:pt x="553" y="222"/>
                        </a:lnTo>
                        <a:lnTo>
                          <a:pt x="453" y="177"/>
                        </a:lnTo>
                        <a:lnTo>
                          <a:pt x="352" y="116"/>
                        </a:lnTo>
                        <a:lnTo>
                          <a:pt x="291" y="84"/>
                        </a:lnTo>
                        <a:lnTo>
                          <a:pt x="191" y="77"/>
                        </a:lnTo>
                        <a:lnTo>
                          <a:pt x="130" y="130"/>
                        </a:lnTo>
                        <a:lnTo>
                          <a:pt x="84" y="214"/>
                        </a:lnTo>
                        <a:lnTo>
                          <a:pt x="84" y="291"/>
                        </a:lnTo>
                        <a:lnTo>
                          <a:pt x="76" y="368"/>
                        </a:lnTo>
                        <a:lnTo>
                          <a:pt x="15" y="3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 rot="4892400">
                    <a:off x="4339800" y="4950720"/>
                    <a:ext cx="74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290">
                        <a:moveTo>
                          <a:pt x="229" y="104"/>
                        </a:moveTo>
                        <a:lnTo>
                          <a:pt x="186" y="55"/>
                        </a:lnTo>
                        <a:lnTo>
                          <a:pt x="133" y="17"/>
                        </a:lnTo>
                        <a:lnTo>
                          <a:pt x="65" y="0"/>
                        </a:lnTo>
                        <a:lnTo>
                          <a:pt x="25" y="13"/>
                        </a:lnTo>
                        <a:lnTo>
                          <a:pt x="0" y="49"/>
                        </a:lnTo>
                        <a:lnTo>
                          <a:pt x="4" y="108"/>
                        </a:lnTo>
                        <a:lnTo>
                          <a:pt x="29" y="165"/>
                        </a:lnTo>
                        <a:lnTo>
                          <a:pt x="61" y="199"/>
                        </a:lnTo>
                        <a:lnTo>
                          <a:pt x="4" y="231"/>
                        </a:lnTo>
                        <a:lnTo>
                          <a:pt x="0" y="255"/>
                        </a:lnTo>
                        <a:lnTo>
                          <a:pt x="25" y="265"/>
                        </a:lnTo>
                        <a:lnTo>
                          <a:pt x="73" y="225"/>
                        </a:lnTo>
                        <a:lnTo>
                          <a:pt x="108" y="260"/>
                        </a:lnTo>
                        <a:lnTo>
                          <a:pt x="143" y="278"/>
                        </a:lnTo>
                        <a:lnTo>
                          <a:pt x="173" y="290"/>
                        </a:lnTo>
                        <a:lnTo>
                          <a:pt x="199" y="286"/>
                        </a:lnTo>
                        <a:lnTo>
                          <a:pt x="234" y="278"/>
                        </a:lnTo>
                        <a:lnTo>
                          <a:pt x="252" y="260"/>
                        </a:lnTo>
                        <a:lnTo>
                          <a:pt x="264" y="231"/>
                        </a:lnTo>
                        <a:lnTo>
                          <a:pt x="264" y="195"/>
                        </a:lnTo>
                        <a:lnTo>
                          <a:pt x="260" y="152"/>
                        </a:lnTo>
                        <a:lnTo>
                          <a:pt x="229" y="10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rot="14956200">
                    <a:off x="4421880" y="4404600"/>
                    <a:ext cx="7452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290">
                        <a:moveTo>
                          <a:pt x="229" y="104"/>
                        </a:moveTo>
                        <a:lnTo>
                          <a:pt x="186" y="55"/>
                        </a:lnTo>
                        <a:lnTo>
                          <a:pt x="133" y="17"/>
                        </a:lnTo>
                        <a:lnTo>
                          <a:pt x="65" y="0"/>
                        </a:lnTo>
                        <a:lnTo>
                          <a:pt x="25" y="13"/>
                        </a:lnTo>
                        <a:lnTo>
                          <a:pt x="0" y="49"/>
                        </a:lnTo>
                        <a:lnTo>
                          <a:pt x="4" y="108"/>
                        </a:lnTo>
                        <a:lnTo>
                          <a:pt x="29" y="165"/>
                        </a:lnTo>
                        <a:lnTo>
                          <a:pt x="61" y="199"/>
                        </a:lnTo>
                        <a:lnTo>
                          <a:pt x="4" y="231"/>
                        </a:lnTo>
                        <a:lnTo>
                          <a:pt x="0" y="255"/>
                        </a:lnTo>
                        <a:lnTo>
                          <a:pt x="25" y="265"/>
                        </a:lnTo>
                        <a:lnTo>
                          <a:pt x="73" y="225"/>
                        </a:lnTo>
                        <a:lnTo>
                          <a:pt x="108" y="260"/>
                        </a:lnTo>
                        <a:lnTo>
                          <a:pt x="143" y="278"/>
                        </a:lnTo>
                        <a:lnTo>
                          <a:pt x="173" y="290"/>
                        </a:lnTo>
                        <a:lnTo>
                          <a:pt x="199" y="286"/>
                        </a:lnTo>
                        <a:lnTo>
                          <a:pt x="234" y="278"/>
                        </a:lnTo>
                        <a:lnTo>
                          <a:pt x="252" y="260"/>
                        </a:lnTo>
                        <a:lnTo>
                          <a:pt x="264" y="231"/>
                        </a:lnTo>
                        <a:lnTo>
                          <a:pt x="264" y="195"/>
                        </a:lnTo>
                        <a:lnTo>
                          <a:pt x="260" y="152"/>
                        </a:lnTo>
                        <a:lnTo>
                          <a:pt x="229" y="10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4436640" y="4564080"/>
                    <a:ext cx="9036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1221" h="1573">
                        <a:moveTo>
                          <a:pt x="15" y="330"/>
                        </a:moveTo>
                        <a:lnTo>
                          <a:pt x="7" y="207"/>
                        </a:lnTo>
                        <a:lnTo>
                          <a:pt x="69" y="92"/>
                        </a:lnTo>
                        <a:lnTo>
                          <a:pt x="185" y="0"/>
                        </a:lnTo>
                        <a:lnTo>
                          <a:pt x="360" y="39"/>
                        </a:lnTo>
                        <a:lnTo>
                          <a:pt x="514" y="146"/>
                        </a:lnTo>
                        <a:lnTo>
                          <a:pt x="707" y="230"/>
                        </a:lnTo>
                        <a:lnTo>
                          <a:pt x="913" y="315"/>
                        </a:lnTo>
                        <a:lnTo>
                          <a:pt x="1106" y="430"/>
                        </a:lnTo>
                        <a:lnTo>
                          <a:pt x="1221" y="537"/>
                        </a:lnTo>
                        <a:lnTo>
                          <a:pt x="1197" y="568"/>
                        </a:lnTo>
                        <a:lnTo>
                          <a:pt x="982" y="767"/>
                        </a:lnTo>
                        <a:lnTo>
                          <a:pt x="906" y="875"/>
                        </a:lnTo>
                        <a:lnTo>
                          <a:pt x="890" y="975"/>
                        </a:lnTo>
                        <a:lnTo>
                          <a:pt x="882" y="1105"/>
                        </a:lnTo>
                        <a:lnTo>
                          <a:pt x="868" y="1274"/>
                        </a:lnTo>
                        <a:lnTo>
                          <a:pt x="829" y="1451"/>
                        </a:lnTo>
                        <a:lnTo>
                          <a:pt x="768" y="1550"/>
                        </a:lnTo>
                        <a:lnTo>
                          <a:pt x="707" y="1573"/>
                        </a:lnTo>
                        <a:lnTo>
                          <a:pt x="638" y="1520"/>
                        </a:lnTo>
                        <a:lnTo>
                          <a:pt x="522" y="1451"/>
                        </a:lnTo>
                        <a:lnTo>
                          <a:pt x="399" y="1374"/>
                        </a:lnTo>
                        <a:lnTo>
                          <a:pt x="261" y="1319"/>
                        </a:lnTo>
                        <a:lnTo>
                          <a:pt x="138" y="1304"/>
                        </a:lnTo>
                        <a:lnTo>
                          <a:pt x="76" y="1205"/>
                        </a:lnTo>
                        <a:lnTo>
                          <a:pt x="31" y="1059"/>
                        </a:lnTo>
                        <a:lnTo>
                          <a:pt x="0" y="822"/>
                        </a:lnTo>
                        <a:lnTo>
                          <a:pt x="7" y="614"/>
                        </a:lnTo>
                        <a:lnTo>
                          <a:pt x="23" y="491"/>
                        </a:lnTo>
                        <a:lnTo>
                          <a:pt x="76" y="491"/>
                        </a:lnTo>
                        <a:lnTo>
                          <a:pt x="69" y="698"/>
                        </a:lnTo>
                        <a:lnTo>
                          <a:pt x="69" y="920"/>
                        </a:lnTo>
                        <a:lnTo>
                          <a:pt x="100" y="1052"/>
                        </a:lnTo>
                        <a:lnTo>
                          <a:pt x="153" y="1205"/>
                        </a:lnTo>
                        <a:lnTo>
                          <a:pt x="276" y="1266"/>
                        </a:lnTo>
                        <a:lnTo>
                          <a:pt x="445" y="1312"/>
                        </a:lnTo>
                        <a:lnTo>
                          <a:pt x="583" y="1388"/>
                        </a:lnTo>
                        <a:lnTo>
                          <a:pt x="714" y="1481"/>
                        </a:lnTo>
                        <a:lnTo>
                          <a:pt x="768" y="1420"/>
                        </a:lnTo>
                        <a:lnTo>
                          <a:pt x="799" y="1290"/>
                        </a:lnTo>
                        <a:lnTo>
                          <a:pt x="813" y="1121"/>
                        </a:lnTo>
                        <a:lnTo>
                          <a:pt x="829" y="944"/>
                        </a:lnTo>
                        <a:lnTo>
                          <a:pt x="882" y="790"/>
                        </a:lnTo>
                        <a:lnTo>
                          <a:pt x="1036" y="629"/>
                        </a:lnTo>
                        <a:lnTo>
                          <a:pt x="1106" y="545"/>
                        </a:lnTo>
                        <a:lnTo>
                          <a:pt x="1098" y="513"/>
                        </a:lnTo>
                        <a:lnTo>
                          <a:pt x="906" y="383"/>
                        </a:lnTo>
                        <a:lnTo>
                          <a:pt x="714" y="299"/>
                        </a:lnTo>
                        <a:lnTo>
                          <a:pt x="553" y="222"/>
                        </a:lnTo>
                        <a:lnTo>
                          <a:pt x="453" y="177"/>
                        </a:lnTo>
                        <a:lnTo>
                          <a:pt x="352" y="116"/>
                        </a:lnTo>
                        <a:lnTo>
                          <a:pt x="291" y="84"/>
                        </a:lnTo>
                        <a:lnTo>
                          <a:pt x="191" y="77"/>
                        </a:lnTo>
                        <a:lnTo>
                          <a:pt x="130" y="130"/>
                        </a:lnTo>
                        <a:lnTo>
                          <a:pt x="84" y="214"/>
                        </a:lnTo>
                        <a:lnTo>
                          <a:pt x="84" y="291"/>
                        </a:lnTo>
                        <a:lnTo>
                          <a:pt x="76" y="368"/>
                        </a:lnTo>
                        <a:lnTo>
                          <a:pt x="15" y="3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4238280" y="4464000"/>
                    <a:ext cx="21564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44">
                        <a:moveTo>
                          <a:pt x="84" y="344"/>
                        </a:moveTo>
                        <a:lnTo>
                          <a:pt x="0" y="274"/>
                        </a:lnTo>
                        <a:lnTo>
                          <a:pt x="30" y="48"/>
                        </a:lnTo>
                        <a:lnTo>
                          <a:pt x="136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4371480" y="4470480"/>
                    <a:ext cx="98280" cy="53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338">
                        <a:moveTo>
                          <a:pt x="0" y="338"/>
                        </a:moveTo>
                        <a:lnTo>
                          <a:pt x="12" y="214"/>
                        </a:lnTo>
                        <a:lnTo>
                          <a:pt x="62" y="114"/>
                        </a:lnTo>
                        <a:lnTo>
                          <a:pt x="52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4371480" y="4464000"/>
                    <a:ext cx="165240" cy="54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342">
                        <a:moveTo>
                          <a:pt x="0" y="342"/>
                        </a:moveTo>
                        <a:lnTo>
                          <a:pt x="104" y="260"/>
                        </a:lnTo>
                        <a:lnTo>
                          <a:pt x="62" y="118"/>
                        </a:lnTo>
                        <a:lnTo>
                          <a:pt x="52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2" name=""/>
                <p:cNvGrpSpPr/>
                <p:nvPr/>
              </p:nvGrpSpPr>
              <p:grpSpPr>
                <a:xfrm>
                  <a:off x="3654000" y="4524480"/>
                  <a:ext cx="422280" cy="1058760"/>
                  <a:chOff x="3654000" y="4524480"/>
                  <a:chExt cx="422280" cy="1058760"/>
                </a:xfrm>
              </p:grpSpPr>
              <p:sp>
                <p:nvSpPr>
                  <p:cNvPr id="403" name=""/>
                  <p:cNvSpPr/>
                  <p:nvPr/>
                </p:nvSpPr>
                <p:spPr>
                  <a:xfrm flipH="1">
                    <a:off x="3720600" y="4565520"/>
                    <a:ext cx="24768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25" h="610">
                        <a:moveTo>
                          <a:pt x="190" y="258"/>
                        </a:moveTo>
                        <a:lnTo>
                          <a:pt x="245" y="176"/>
                        </a:lnTo>
                        <a:lnTo>
                          <a:pt x="306" y="116"/>
                        </a:lnTo>
                        <a:lnTo>
                          <a:pt x="367" y="41"/>
                        </a:lnTo>
                        <a:lnTo>
                          <a:pt x="442" y="7"/>
                        </a:lnTo>
                        <a:lnTo>
                          <a:pt x="502" y="0"/>
                        </a:lnTo>
                        <a:lnTo>
                          <a:pt x="564" y="20"/>
                        </a:lnTo>
                        <a:lnTo>
                          <a:pt x="598" y="68"/>
                        </a:lnTo>
                        <a:lnTo>
                          <a:pt x="625" y="156"/>
                        </a:lnTo>
                        <a:lnTo>
                          <a:pt x="618" y="251"/>
                        </a:lnTo>
                        <a:lnTo>
                          <a:pt x="591" y="332"/>
                        </a:lnTo>
                        <a:lnTo>
                          <a:pt x="523" y="428"/>
                        </a:lnTo>
                        <a:lnTo>
                          <a:pt x="449" y="495"/>
                        </a:lnTo>
                        <a:lnTo>
                          <a:pt x="367" y="556"/>
                        </a:lnTo>
                        <a:lnTo>
                          <a:pt x="279" y="596"/>
                        </a:lnTo>
                        <a:lnTo>
                          <a:pt x="204" y="610"/>
                        </a:lnTo>
                        <a:lnTo>
                          <a:pt x="170" y="591"/>
                        </a:lnTo>
                        <a:lnTo>
                          <a:pt x="142" y="509"/>
                        </a:lnTo>
                        <a:lnTo>
                          <a:pt x="149" y="401"/>
                        </a:lnTo>
                        <a:lnTo>
                          <a:pt x="20" y="407"/>
                        </a:lnTo>
                        <a:lnTo>
                          <a:pt x="0" y="387"/>
                        </a:lnTo>
                        <a:lnTo>
                          <a:pt x="20" y="346"/>
                        </a:lnTo>
                        <a:lnTo>
                          <a:pt x="156" y="339"/>
                        </a:lnTo>
                        <a:lnTo>
                          <a:pt x="190" y="25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H="1">
                    <a:off x="3809520" y="4821120"/>
                    <a:ext cx="172800" cy="35568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896">
                        <a:moveTo>
                          <a:pt x="122" y="76"/>
                        </a:moveTo>
                        <a:lnTo>
                          <a:pt x="182" y="21"/>
                        </a:lnTo>
                        <a:lnTo>
                          <a:pt x="277" y="0"/>
                        </a:lnTo>
                        <a:lnTo>
                          <a:pt x="358" y="14"/>
                        </a:lnTo>
                        <a:lnTo>
                          <a:pt x="419" y="69"/>
                        </a:lnTo>
                        <a:lnTo>
                          <a:pt x="433" y="109"/>
                        </a:lnTo>
                        <a:lnTo>
                          <a:pt x="433" y="163"/>
                        </a:lnTo>
                        <a:lnTo>
                          <a:pt x="406" y="211"/>
                        </a:lnTo>
                        <a:lnTo>
                          <a:pt x="358" y="292"/>
                        </a:lnTo>
                        <a:lnTo>
                          <a:pt x="339" y="388"/>
                        </a:lnTo>
                        <a:lnTo>
                          <a:pt x="332" y="468"/>
                        </a:lnTo>
                        <a:lnTo>
                          <a:pt x="351" y="557"/>
                        </a:lnTo>
                        <a:lnTo>
                          <a:pt x="406" y="638"/>
                        </a:lnTo>
                        <a:lnTo>
                          <a:pt x="426" y="719"/>
                        </a:lnTo>
                        <a:lnTo>
                          <a:pt x="419" y="794"/>
                        </a:lnTo>
                        <a:lnTo>
                          <a:pt x="379" y="856"/>
                        </a:lnTo>
                        <a:lnTo>
                          <a:pt x="325" y="889"/>
                        </a:lnTo>
                        <a:lnTo>
                          <a:pt x="257" y="896"/>
                        </a:lnTo>
                        <a:lnTo>
                          <a:pt x="175" y="896"/>
                        </a:lnTo>
                        <a:lnTo>
                          <a:pt x="115" y="861"/>
                        </a:lnTo>
                        <a:lnTo>
                          <a:pt x="53" y="760"/>
                        </a:lnTo>
                        <a:lnTo>
                          <a:pt x="14" y="672"/>
                        </a:lnTo>
                        <a:lnTo>
                          <a:pt x="0" y="537"/>
                        </a:lnTo>
                        <a:lnTo>
                          <a:pt x="14" y="414"/>
                        </a:lnTo>
                        <a:lnTo>
                          <a:pt x="40" y="285"/>
                        </a:lnTo>
                        <a:lnTo>
                          <a:pt x="81" y="156"/>
                        </a:lnTo>
                        <a:lnTo>
                          <a:pt x="122" y="7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flipH="1">
                    <a:off x="3653640" y="4832280"/>
                    <a:ext cx="190440" cy="31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81" h="807">
                        <a:moveTo>
                          <a:pt x="0" y="40"/>
                        </a:moveTo>
                        <a:lnTo>
                          <a:pt x="5" y="6"/>
                        </a:lnTo>
                        <a:lnTo>
                          <a:pt x="80" y="0"/>
                        </a:lnTo>
                        <a:lnTo>
                          <a:pt x="121" y="34"/>
                        </a:lnTo>
                        <a:lnTo>
                          <a:pt x="182" y="121"/>
                        </a:lnTo>
                        <a:lnTo>
                          <a:pt x="263" y="236"/>
                        </a:lnTo>
                        <a:lnTo>
                          <a:pt x="337" y="318"/>
                        </a:lnTo>
                        <a:lnTo>
                          <a:pt x="474" y="467"/>
                        </a:lnTo>
                        <a:lnTo>
                          <a:pt x="481" y="501"/>
                        </a:lnTo>
                        <a:lnTo>
                          <a:pt x="453" y="522"/>
                        </a:lnTo>
                        <a:lnTo>
                          <a:pt x="385" y="548"/>
                        </a:lnTo>
                        <a:lnTo>
                          <a:pt x="291" y="569"/>
                        </a:lnTo>
                        <a:lnTo>
                          <a:pt x="175" y="576"/>
                        </a:lnTo>
                        <a:lnTo>
                          <a:pt x="135" y="582"/>
                        </a:lnTo>
                        <a:lnTo>
                          <a:pt x="121" y="610"/>
                        </a:lnTo>
                        <a:lnTo>
                          <a:pt x="147" y="657"/>
                        </a:lnTo>
                        <a:lnTo>
                          <a:pt x="243" y="738"/>
                        </a:lnTo>
                        <a:lnTo>
                          <a:pt x="310" y="759"/>
                        </a:lnTo>
                        <a:lnTo>
                          <a:pt x="324" y="786"/>
                        </a:lnTo>
                        <a:lnTo>
                          <a:pt x="297" y="807"/>
                        </a:lnTo>
                        <a:lnTo>
                          <a:pt x="236" y="807"/>
                        </a:lnTo>
                        <a:lnTo>
                          <a:pt x="154" y="759"/>
                        </a:lnTo>
                        <a:lnTo>
                          <a:pt x="87" y="692"/>
                        </a:lnTo>
                        <a:lnTo>
                          <a:pt x="46" y="630"/>
                        </a:lnTo>
                        <a:lnTo>
                          <a:pt x="46" y="582"/>
                        </a:lnTo>
                        <a:lnTo>
                          <a:pt x="73" y="548"/>
                        </a:lnTo>
                        <a:lnTo>
                          <a:pt x="114" y="536"/>
                        </a:lnTo>
                        <a:lnTo>
                          <a:pt x="175" y="529"/>
                        </a:lnTo>
                        <a:lnTo>
                          <a:pt x="243" y="529"/>
                        </a:lnTo>
                        <a:lnTo>
                          <a:pt x="324" y="515"/>
                        </a:lnTo>
                        <a:lnTo>
                          <a:pt x="365" y="501"/>
                        </a:lnTo>
                        <a:lnTo>
                          <a:pt x="385" y="481"/>
                        </a:lnTo>
                        <a:lnTo>
                          <a:pt x="378" y="461"/>
                        </a:lnTo>
                        <a:lnTo>
                          <a:pt x="317" y="406"/>
                        </a:lnTo>
                        <a:lnTo>
                          <a:pt x="222" y="311"/>
                        </a:lnTo>
                        <a:lnTo>
                          <a:pt x="135" y="231"/>
                        </a:lnTo>
                        <a:lnTo>
                          <a:pt x="39" y="142"/>
                        </a:lnTo>
                        <a:lnTo>
                          <a:pt x="5" y="80"/>
                        </a:lnTo>
                        <a:lnTo>
                          <a:pt x="0" y="4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>
                    <a:off x="3761640" y="5100480"/>
                    <a:ext cx="206640" cy="482760"/>
                  </a:xfrm>
                  <a:custGeom>
                    <a:avLst/>
                    <a:gdLst/>
                    <a:ahLst/>
                    <a:rect l="l" t="t" r="r" b="b"/>
                    <a:pathLst>
                      <a:path w="522" h="1215">
                        <a:moveTo>
                          <a:pt x="258" y="0"/>
                        </a:moveTo>
                        <a:lnTo>
                          <a:pt x="332" y="13"/>
                        </a:lnTo>
                        <a:lnTo>
                          <a:pt x="366" y="68"/>
                        </a:lnTo>
                        <a:lnTo>
                          <a:pt x="359" y="196"/>
                        </a:lnTo>
                        <a:lnTo>
                          <a:pt x="346" y="332"/>
                        </a:lnTo>
                        <a:lnTo>
                          <a:pt x="346" y="474"/>
                        </a:lnTo>
                        <a:lnTo>
                          <a:pt x="414" y="644"/>
                        </a:lnTo>
                        <a:lnTo>
                          <a:pt x="467" y="767"/>
                        </a:lnTo>
                        <a:lnTo>
                          <a:pt x="495" y="889"/>
                        </a:lnTo>
                        <a:lnTo>
                          <a:pt x="488" y="997"/>
                        </a:lnTo>
                        <a:lnTo>
                          <a:pt x="488" y="1038"/>
                        </a:lnTo>
                        <a:lnTo>
                          <a:pt x="515" y="1079"/>
                        </a:lnTo>
                        <a:lnTo>
                          <a:pt x="522" y="1119"/>
                        </a:lnTo>
                        <a:lnTo>
                          <a:pt x="502" y="1139"/>
                        </a:lnTo>
                        <a:lnTo>
                          <a:pt x="448" y="1126"/>
                        </a:lnTo>
                        <a:lnTo>
                          <a:pt x="346" y="1112"/>
                        </a:lnTo>
                        <a:lnTo>
                          <a:pt x="224" y="1139"/>
                        </a:lnTo>
                        <a:lnTo>
                          <a:pt x="142" y="1187"/>
                        </a:lnTo>
                        <a:lnTo>
                          <a:pt x="102" y="1215"/>
                        </a:lnTo>
                        <a:lnTo>
                          <a:pt x="61" y="1215"/>
                        </a:lnTo>
                        <a:lnTo>
                          <a:pt x="0" y="1126"/>
                        </a:lnTo>
                        <a:lnTo>
                          <a:pt x="7" y="1112"/>
                        </a:lnTo>
                        <a:lnTo>
                          <a:pt x="130" y="1072"/>
                        </a:lnTo>
                        <a:lnTo>
                          <a:pt x="272" y="1052"/>
                        </a:lnTo>
                        <a:lnTo>
                          <a:pt x="373" y="1045"/>
                        </a:lnTo>
                        <a:lnTo>
                          <a:pt x="434" y="1045"/>
                        </a:lnTo>
                        <a:lnTo>
                          <a:pt x="448" y="1004"/>
                        </a:lnTo>
                        <a:lnTo>
                          <a:pt x="428" y="889"/>
                        </a:lnTo>
                        <a:lnTo>
                          <a:pt x="380" y="767"/>
                        </a:lnTo>
                        <a:lnTo>
                          <a:pt x="306" y="611"/>
                        </a:lnTo>
                        <a:lnTo>
                          <a:pt x="244" y="474"/>
                        </a:lnTo>
                        <a:lnTo>
                          <a:pt x="217" y="352"/>
                        </a:lnTo>
                        <a:lnTo>
                          <a:pt x="210" y="217"/>
                        </a:lnTo>
                        <a:lnTo>
                          <a:pt x="210" y="88"/>
                        </a:lnTo>
                        <a:lnTo>
                          <a:pt x="238" y="34"/>
                        </a:lnTo>
                        <a:lnTo>
                          <a:pt x="25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>
                    <a:off x="3898440" y="5114880"/>
                    <a:ext cx="172800" cy="399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1011">
                        <a:moveTo>
                          <a:pt x="325" y="0"/>
                        </a:moveTo>
                        <a:lnTo>
                          <a:pt x="385" y="0"/>
                        </a:lnTo>
                        <a:lnTo>
                          <a:pt x="406" y="41"/>
                        </a:lnTo>
                        <a:lnTo>
                          <a:pt x="419" y="130"/>
                        </a:lnTo>
                        <a:lnTo>
                          <a:pt x="406" y="224"/>
                        </a:lnTo>
                        <a:lnTo>
                          <a:pt x="373" y="414"/>
                        </a:lnTo>
                        <a:lnTo>
                          <a:pt x="379" y="495"/>
                        </a:lnTo>
                        <a:lnTo>
                          <a:pt x="419" y="658"/>
                        </a:lnTo>
                        <a:lnTo>
                          <a:pt x="433" y="773"/>
                        </a:lnTo>
                        <a:lnTo>
                          <a:pt x="433" y="862"/>
                        </a:lnTo>
                        <a:lnTo>
                          <a:pt x="413" y="882"/>
                        </a:lnTo>
                        <a:lnTo>
                          <a:pt x="352" y="896"/>
                        </a:lnTo>
                        <a:lnTo>
                          <a:pt x="270" y="915"/>
                        </a:lnTo>
                        <a:lnTo>
                          <a:pt x="190" y="956"/>
                        </a:lnTo>
                        <a:lnTo>
                          <a:pt x="108" y="1011"/>
                        </a:lnTo>
                        <a:lnTo>
                          <a:pt x="75" y="1011"/>
                        </a:lnTo>
                        <a:lnTo>
                          <a:pt x="0" y="950"/>
                        </a:lnTo>
                        <a:lnTo>
                          <a:pt x="7" y="922"/>
                        </a:lnTo>
                        <a:lnTo>
                          <a:pt x="101" y="882"/>
                        </a:lnTo>
                        <a:lnTo>
                          <a:pt x="264" y="841"/>
                        </a:lnTo>
                        <a:lnTo>
                          <a:pt x="339" y="814"/>
                        </a:lnTo>
                        <a:lnTo>
                          <a:pt x="352" y="787"/>
                        </a:lnTo>
                        <a:lnTo>
                          <a:pt x="352" y="672"/>
                        </a:lnTo>
                        <a:lnTo>
                          <a:pt x="325" y="523"/>
                        </a:lnTo>
                        <a:lnTo>
                          <a:pt x="311" y="428"/>
                        </a:lnTo>
                        <a:lnTo>
                          <a:pt x="298" y="279"/>
                        </a:lnTo>
                        <a:lnTo>
                          <a:pt x="291" y="116"/>
                        </a:lnTo>
                        <a:lnTo>
                          <a:pt x="298" y="41"/>
                        </a:lnTo>
                        <a:lnTo>
                          <a:pt x="32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>
                    <a:off x="3793320" y="4524480"/>
                    <a:ext cx="282600" cy="357120"/>
                  </a:xfrm>
                  <a:custGeom>
                    <a:avLst/>
                    <a:gdLst/>
                    <a:ahLst/>
                    <a:rect l="l" t="t" r="r" b="b"/>
                    <a:pathLst>
                      <a:path w="712" h="901">
                        <a:moveTo>
                          <a:pt x="379" y="901"/>
                        </a:moveTo>
                        <a:lnTo>
                          <a:pt x="412" y="860"/>
                        </a:lnTo>
                        <a:lnTo>
                          <a:pt x="399" y="799"/>
                        </a:lnTo>
                        <a:lnTo>
                          <a:pt x="373" y="718"/>
                        </a:lnTo>
                        <a:lnTo>
                          <a:pt x="270" y="623"/>
                        </a:lnTo>
                        <a:lnTo>
                          <a:pt x="169" y="535"/>
                        </a:lnTo>
                        <a:lnTo>
                          <a:pt x="121" y="440"/>
                        </a:lnTo>
                        <a:lnTo>
                          <a:pt x="101" y="291"/>
                        </a:lnTo>
                        <a:lnTo>
                          <a:pt x="217" y="250"/>
                        </a:lnTo>
                        <a:lnTo>
                          <a:pt x="399" y="230"/>
                        </a:lnTo>
                        <a:lnTo>
                          <a:pt x="474" y="237"/>
                        </a:lnTo>
                        <a:lnTo>
                          <a:pt x="494" y="257"/>
                        </a:lnTo>
                        <a:lnTo>
                          <a:pt x="528" y="223"/>
                        </a:lnTo>
                        <a:lnTo>
                          <a:pt x="515" y="189"/>
                        </a:lnTo>
                        <a:lnTo>
                          <a:pt x="535" y="129"/>
                        </a:lnTo>
                        <a:lnTo>
                          <a:pt x="589" y="74"/>
                        </a:lnTo>
                        <a:lnTo>
                          <a:pt x="630" y="60"/>
                        </a:lnTo>
                        <a:lnTo>
                          <a:pt x="684" y="94"/>
                        </a:lnTo>
                        <a:lnTo>
                          <a:pt x="712" y="60"/>
                        </a:lnTo>
                        <a:lnTo>
                          <a:pt x="664" y="0"/>
                        </a:lnTo>
                        <a:lnTo>
                          <a:pt x="602" y="0"/>
                        </a:lnTo>
                        <a:lnTo>
                          <a:pt x="528" y="33"/>
                        </a:lnTo>
                        <a:lnTo>
                          <a:pt x="481" y="122"/>
                        </a:lnTo>
                        <a:lnTo>
                          <a:pt x="419" y="163"/>
                        </a:lnTo>
                        <a:lnTo>
                          <a:pt x="325" y="175"/>
                        </a:lnTo>
                        <a:lnTo>
                          <a:pt x="155" y="196"/>
                        </a:lnTo>
                        <a:lnTo>
                          <a:pt x="20" y="237"/>
                        </a:lnTo>
                        <a:lnTo>
                          <a:pt x="0" y="271"/>
                        </a:lnTo>
                        <a:lnTo>
                          <a:pt x="13" y="379"/>
                        </a:lnTo>
                        <a:lnTo>
                          <a:pt x="61" y="528"/>
                        </a:lnTo>
                        <a:lnTo>
                          <a:pt x="128" y="650"/>
                        </a:lnTo>
                        <a:lnTo>
                          <a:pt x="196" y="759"/>
                        </a:lnTo>
                        <a:lnTo>
                          <a:pt x="257" y="833"/>
                        </a:lnTo>
                        <a:lnTo>
                          <a:pt x="318" y="887"/>
                        </a:lnTo>
                        <a:lnTo>
                          <a:pt x="379" y="90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3805200" y="4373640"/>
                  <a:ext cx="96840" cy="121680"/>
                  <a:chOff x="3805200" y="4373640"/>
                  <a:chExt cx="96840" cy="12168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3824280" y="4373640"/>
                    <a:ext cx="7776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7" h="224">
                        <a:moveTo>
                          <a:pt x="61" y="14"/>
                        </a:moveTo>
                        <a:lnTo>
                          <a:pt x="115" y="0"/>
                        </a:lnTo>
                        <a:lnTo>
                          <a:pt x="183" y="20"/>
                        </a:lnTo>
                        <a:lnTo>
                          <a:pt x="197" y="68"/>
                        </a:lnTo>
                        <a:lnTo>
                          <a:pt x="190" y="129"/>
                        </a:lnTo>
                        <a:lnTo>
                          <a:pt x="156" y="169"/>
                        </a:lnTo>
                        <a:lnTo>
                          <a:pt x="108" y="176"/>
                        </a:lnTo>
                        <a:lnTo>
                          <a:pt x="61" y="176"/>
                        </a:lnTo>
                        <a:lnTo>
                          <a:pt x="40" y="197"/>
                        </a:lnTo>
                        <a:lnTo>
                          <a:pt x="40" y="210"/>
                        </a:lnTo>
                        <a:lnTo>
                          <a:pt x="27" y="224"/>
                        </a:lnTo>
                        <a:lnTo>
                          <a:pt x="0" y="217"/>
                        </a:lnTo>
                        <a:lnTo>
                          <a:pt x="6" y="183"/>
                        </a:lnTo>
                        <a:lnTo>
                          <a:pt x="27" y="156"/>
                        </a:lnTo>
                        <a:lnTo>
                          <a:pt x="68" y="135"/>
                        </a:lnTo>
                        <a:lnTo>
                          <a:pt x="108" y="142"/>
                        </a:lnTo>
                        <a:lnTo>
                          <a:pt x="142" y="135"/>
                        </a:lnTo>
                        <a:lnTo>
                          <a:pt x="162" y="101"/>
                        </a:lnTo>
                        <a:lnTo>
                          <a:pt x="162" y="61"/>
                        </a:lnTo>
                        <a:lnTo>
                          <a:pt x="142" y="41"/>
                        </a:lnTo>
                        <a:lnTo>
                          <a:pt x="115" y="41"/>
                        </a:lnTo>
                        <a:lnTo>
                          <a:pt x="87" y="48"/>
                        </a:lnTo>
                        <a:lnTo>
                          <a:pt x="68" y="61"/>
                        </a:lnTo>
                        <a:lnTo>
                          <a:pt x="47" y="48"/>
                        </a:lnTo>
                        <a:lnTo>
                          <a:pt x="6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3805200" y="4473360"/>
                    <a:ext cx="22320" cy="21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2" name=""/>
              <p:cNvSpPr/>
              <p:nvPr/>
            </p:nvSpPr>
            <p:spPr>
              <a:xfrm>
                <a:off x="3528720" y="5640120"/>
                <a:ext cx="14868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usun Alternati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ra pencapai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3" name=""/>
          <p:cNvGrpSpPr/>
          <p:nvPr/>
        </p:nvGrpSpPr>
        <p:grpSpPr>
          <a:xfrm>
            <a:off x="5124600" y="4094280"/>
            <a:ext cx="1694880" cy="2088720"/>
            <a:chOff x="5124600" y="4094280"/>
            <a:chExt cx="1694880" cy="2088720"/>
          </a:xfrm>
        </p:grpSpPr>
        <p:grpSp>
          <p:nvGrpSpPr>
            <p:cNvPr id="414" name=""/>
            <p:cNvGrpSpPr/>
            <p:nvPr/>
          </p:nvGrpSpPr>
          <p:grpSpPr>
            <a:xfrm>
              <a:off x="5544720" y="4094280"/>
              <a:ext cx="1274760" cy="2088720"/>
              <a:chOff x="5544720" y="4094280"/>
              <a:chExt cx="1274760" cy="2088720"/>
            </a:xfrm>
          </p:grpSpPr>
          <p:grpSp>
            <p:nvGrpSpPr>
              <p:cNvPr id="415" name=""/>
              <p:cNvGrpSpPr/>
              <p:nvPr/>
            </p:nvGrpSpPr>
            <p:grpSpPr>
              <a:xfrm>
                <a:off x="5544720" y="4094280"/>
                <a:ext cx="1274760" cy="1317240"/>
                <a:chOff x="5544720" y="4094280"/>
                <a:chExt cx="1274760" cy="1317240"/>
              </a:xfrm>
            </p:grpSpPr>
            <p:sp>
              <p:nvSpPr>
                <p:cNvPr id="416" name=""/>
                <p:cNvSpPr/>
                <p:nvPr/>
              </p:nvSpPr>
              <p:spPr>
                <a:xfrm flipH="1">
                  <a:off x="6176160" y="4476960"/>
                  <a:ext cx="247320" cy="379800"/>
                </a:xfrm>
                <a:custGeom>
                  <a:avLst/>
                  <a:gdLst/>
                  <a:ahLst/>
                  <a:rect l="l" t="t" r="r" b="b"/>
                  <a:pathLst>
                    <a:path w="555" h="822">
                      <a:moveTo>
                        <a:pt x="211" y="234"/>
                      </a:moveTo>
                      <a:lnTo>
                        <a:pt x="188" y="219"/>
                      </a:lnTo>
                      <a:lnTo>
                        <a:pt x="171" y="189"/>
                      </a:lnTo>
                      <a:lnTo>
                        <a:pt x="158" y="156"/>
                      </a:lnTo>
                      <a:lnTo>
                        <a:pt x="154" y="109"/>
                      </a:lnTo>
                      <a:lnTo>
                        <a:pt x="169" y="48"/>
                      </a:lnTo>
                      <a:lnTo>
                        <a:pt x="196" y="18"/>
                      </a:lnTo>
                      <a:lnTo>
                        <a:pt x="239" y="0"/>
                      </a:lnTo>
                      <a:lnTo>
                        <a:pt x="279" y="0"/>
                      </a:lnTo>
                      <a:lnTo>
                        <a:pt x="313" y="10"/>
                      </a:lnTo>
                      <a:lnTo>
                        <a:pt x="351" y="30"/>
                      </a:lnTo>
                      <a:lnTo>
                        <a:pt x="368" y="80"/>
                      </a:lnTo>
                      <a:lnTo>
                        <a:pt x="378" y="118"/>
                      </a:lnTo>
                      <a:lnTo>
                        <a:pt x="375" y="166"/>
                      </a:lnTo>
                      <a:lnTo>
                        <a:pt x="360" y="199"/>
                      </a:lnTo>
                      <a:lnTo>
                        <a:pt x="322" y="226"/>
                      </a:lnTo>
                      <a:lnTo>
                        <a:pt x="313" y="234"/>
                      </a:lnTo>
                      <a:lnTo>
                        <a:pt x="315" y="315"/>
                      </a:lnTo>
                      <a:lnTo>
                        <a:pt x="332" y="408"/>
                      </a:lnTo>
                      <a:lnTo>
                        <a:pt x="366" y="506"/>
                      </a:lnTo>
                      <a:lnTo>
                        <a:pt x="385" y="544"/>
                      </a:lnTo>
                      <a:lnTo>
                        <a:pt x="411" y="572"/>
                      </a:lnTo>
                      <a:lnTo>
                        <a:pt x="469" y="587"/>
                      </a:lnTo>
                      <a:lnTo>
                        <a:pt x="512" y="604"/>
                      </a:lnTo>
                      <a:lnTo>
                        <a:pt x="544" y="635"/>
                      </a:lnTo>
                      <a:lnTo>
                        <a:pt x="555" y="680"/>
                      </a:lnTo>
                      <a:lnTo>
                        <a:pt x="550" y="723"/>
                      </a:lnTo>
                      <a:lnTo>
                        <a:pt x="527" y="758"/>
                      </a:lnTo>
                      <a:lnTo>
                        <a:pt x="469" y="793"/>
                      </a:lnTo>
                      <a:lnTo>
                        <a:pt x="393" y="811"/>
                      </a:lnTo>
                      <a:lnTo>
                        <a:pt x="315" y="822"/>
                      </a:lnTo>
                      <a:lnTo>
                        <a:pt x="194" y="822"/>
                      </a:lnTo>
                      <a:lnTo>
                        <a:pt x="108" y="803"/>
                      </a:lnTo>
                      <a:lnTo>
                        <a:pt x="35" y="761"/>
                      </a:lnTo>
                      <a:lnTo>
                        <a:pt x="0" y="712"/>
                      </a:lnTo>
                      <a:lnTo>
                        <a:pt x="0" y="667"/>
                      </a:lnTo>
                      <a:lnTo>
                        <a:pt x="17" y="635"/>
                      </a:lnTo>
                      <a:lnTo>
                        <a:pt x="42" y="614"/>
                      </a:lnTo>
                      <a:lnTo>
                        <a:pt x="68" y="599"/>
                      </a:lnTo>
                      <a:lnTo>
                        <a:pt x="106" y="580"/>
                      </a:lnTo>
                      <a:lnTo>
                        <a:pt x="144" y="561"/>
                      </a:lnTo>
                      <a:lnTo>
                        <a:pt x="169" y="527"/>
                      </a:lnTo>
                      <a:lnTo>
                        <a:pt x="188" y="481"/>
                      </a:lnTo>
                      <a:lnTo>
                        <a:pt x="211" y="436"/>
                      </a:lnTo>
                      <a:lnTo>
                        <a:pt x="207" y="499"/>
                      </a:lnTo>
                      <a:lnTo>
                        <a:pt x="176" y="544"/>
                      </a:lnTo>
                      <a:lnTo>
                        <a:pt x="141" y="595"/>
                      </a:lnTo>
                      <a:lnTo>
                        <a:pt x="97" y="614"/>
                      </a:lnTo>
                      <a:lnTo>
                        <a:pt x="73" y="635"/>
                      </a:lnTo>
                      <a:lnTo>
                        <a:pt x="63" y="670"/>
                      </a:lnTo>
                      <a:lnTo>
                        <a:pt x="73" y="725"/>
                      </a:lnTo>
                      <a:lnTo>
                        <a:pt x="106" y="761"/>
                      </a:lnTo>
                      <a:lnTo>
                        <a:pt x="141" y="778"/>
                      </a:lnTo>
                      <a:lnTo>
                        <a:pt x="222" y="793"/>
                      </a:lnTo>
                      <a:lnTo>
                        <a:pt x="330" y="793"/>
                      </a:lnTo>
                      <a:lnTo>
                        <a:pt x="441" y="786"/>
                      </a:lnTo>
                      <a:lnTo>
                        <a:pt x="491" y="753"/>
                      </a:lnTo>
                      <a:lnTo>
                        <a:pt x="512" y="731"/>
                      </a:lnTo>
                      <a:lnTo>
                        <a:pt x="522" y="697"/>
                      </a:lnTo>
                      <a:lnTo>
                        <a:pt x="522" y="661"/>
                      </a:lnTo>
                      <a:lnTo>
                        <a:pt x="512" y="650"/>
                      </a:lnTo>
                      <a:lnTo>
                        <a:pt x="481" y="678"/>
                      </a:lnTo>
                      <a:lnTo>
                        <a:pt x="438" y="703"/>
                      </a:lnTo>
                      <a:lnTo>
                        <a:pt x="378" y="708"/>
                      </a:lnTo>
                      <a:lnTo>
                        <a:pt x="279" y="708"/>
                      </a:lnTo>
                      <a:lnTo>
                        <a:pt x="260" y="695"/>
                      </a:lnTo>
                      <a:lnTo>
                        <a:pt x="400" y="695"/>
                      </a:lnTo>
                      <a:lnTo>
                        <a:pt x="449" y="670"/>
                      </a:lnTo>
                      <a:lnTo>
                        <a:pt x="476" y="640"/>
                      </a:lnTo>
                      <a:lnTo>
                        <a:pt x="476" y="622"/>
                      </a:lnTo>
                      <a:lnTo>
                        <a:pt x="413" y="608"/>
                      </a:lnTo>
                      <a:lnTo>
                        <a:pt x="378" y="576"/>
                      </a:lnTo>
                      <a:lnTo>
                        <a:pt x="347" y="514"/>
                      </a:lnTo>
                      <a:lnTo>
                        <a:pt x="322" y="446"/>
                      </a:lnTo>
                      <a:lnTo>
                        <a:pt x="302" y="362"/>
                      </a:lnTo>
                      <a:lnTo>
                        <a:pt x="287" y="298"/>
                      </a:lnTo>
                      <a:lnTo>
                        <a:pt x="285" y="237"/>
                      </a:lnTo>
                      <a:lnTo>
                        <a:pt x="249" y="237"/>
                      </a:lnTo>
                      <a:lnTo>
                        <a:pt x="252" y="199"/>
                      </a:lnTo>
                      <a:lnTo>
                        <a:pt x="279" y="192"/>
                      </a:lnTo>
                      <a:lnTo>
                        <a:pt x="313" y="171"/>
                      </a:lnTo>
                      <a:lnTo>
                        <a:pt x="322" y="136"/>
                      </a:lnTo>
                      <a:lnTo>
                        <a:pt x="320" y="103"/>
                      </a:lnTo>
                      <a:lnTo>
                        <a:pt x="313" y="63"/>
                      </a:lnTo>
                      <a:lnTo>
                        <a:pt x="298" y="45"/>
                      </a:lnTo>
                      <a:lnTo>
                        <a:pt x="269" y="28"/>
                      </a:lnTo>
                      <a:lnTo>
                        <a:pt x="239" y="18"/>
                      </a:lnTo>
                      <a:lnTo>
                        <a:pt x="207" y="35"/>
                      </a:lnTo>
                      <a:lnTo>
                        <a:pt x="188" y="63"/>
                      </a:lnTo>
                      <a:lnTo>
                        <a:pt x="176" y="93"/>
                      </a:lnTo>
                      <a:lnTo>
                        <a:pt x="179" y="128"/>
                      </a:lnTo>
                      <a:lnTo>
                        <a:pt x="194" y="173"/>
                      </a:lnTo>
                      <a:lnTo>
                        <a:pt x="224" y="192"/>
                      </a:lnTo>
                      <a:lnTo>
                        <a:pt x="241" y="192"/>
                      </a:lnTo>
                      <a:lnTo>
                        <a:pt x="256" y="201"/>
                      </a:lnTo>
                      <a:lnTo>
                        <a:pt x="252" y="245"/>
                      </a:lnTo>
                      <a:lnTo>
                        <a:pt x="256" y="400"/>
                      </a:lnTo>
                      <a:lnTo>
                        <a:pt x="260" y="468"/>
                      </a:lnTo>
                      <a:lnTo>
                        <a:pt x="252" y="542"/>
                      </a:lnTo>
                      <a:lnTo>
                        <a:pt x="224" y="604"/>
                      </a:lnTo>
                      <a:lnTo>
                        <a:pt x="186" y="640"/>
                      </a:lnTo>
                      <a:lnTo>
                        <a:pt x="158" y="635"/>
                      </a:lnTo>
                      <a:lnTo>
                        <a:pt x="179" y="587"/>
                      </a:lnTo>
                      <a:lnTo>
                        <a:pt x="194" y="544"/>
                      </a:lnTo>
                      <a:lnTo>
                        <a:pt x="207" y="523"/>
                      </a:lnTo>
                      <a:lnTo>
                        <a:pt x="211" y="428"/>
                      </a:lnTo>
                      <a:lnTo>
                        <a:pt x="211" y="2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>
                  <a:off x="6512760" y="4781880"/>
                  <a:ext cx="248760" cy="381240"/>
                </a:xfrm>
                <a:custGeom>
                  <a:avLst/>
                  <a:gdLst/>
                  <a:ahLst/>
                  <a:rect l="l" t="t" r="r" b="b"/>
                  <a:pathLst>
                    <a:path w="556" h="825">
                      <a:moveTo>
                        <a:pt x="213" y="235"/>
                      </a:moveTo>
                      <a:lnTo>
                        <a:pt x="189" y="220"/>
                      </a:lnTo>
                      <a:lnTo>
                        <a:pt x="171" y="189"/>
                      </a:lnTo>
                      <a:lnTo>
                        <a:pt x="158" y="157"/>
                      </a:lnTo>
                      <a:lnTo>
                        <a:pt x="153" y="109"/>
                      </a:lnTo>
                      <a:lnTo>
                        <a:pt x="168" y="49"/>
                      </a:lnTo>
                      <a:lnTo>
                        <a:pt x="198" y="18"/>
                      </a:lnTo>
                      <a:lnTo>
                        <a:pt x="241" y="0"/>
                      </a:lnTo>
                      <a:lnTo>
                        <a:pt x="279" y="0"/>
                      </a:lnTo>
                      <a:lnTo>
                        <a:pt x="312" y="11"/>
                      </a:lnTo>
                      <a:lnTo>
                        <a:pt x="352" y="30"/>
                      </a:lnTo>
                      <a:lnTo>
                        <a:pt x="370" y="81"/>
                      </a:lnTo>
                      <a:lnTo>
                        <a:pt x="380" y="119"/>
                      </a:lnTo>
                      <a:lnTo>
                        <a:pt x="374" y="167"/>
                      </a:lnTo>
                      <a:lnTo>
                        <a:pt x="359" y="200"/>
                      </a:lnTo>
                      <a:lnTo>
                        <a:pt x="325" y="227"/>
                      </a:lnTo>
                      <a:lnTo>
                        <a:pt x="312" y="235"/>
                      </a:lnTo>
                      <a:lnTo>
                        <a:pt x="314" y="318"/>
                      </a:lnTo>
                      <a:lnTo>
                        <a:pt x="334" y="412"/>
                      </a:lnTo>
                      <a:lnTo>
                        <a:pt x="367" y="507"/>
                      </a:lnTo>
                      <a:lnTo>
                        <a:pt x="387" y="548"/>
                      </a:lnTo>
                      <a:lnTo>
                        <a:pt x="412" y="575"/>
                      </a:lnTo>
                      <a:lnTo>
                        <a:pt x="468" y="590"/>
                      </a:lnTo>
                      <a:lnTo>
                        <a:pt x="512" y="609"/>
                      </a:lnTo>
                      <a:lnTo>
                        <a:pt x="546" y="639"/>
                      </a:lnTo>
                      <a:lnTo>
                        <a:pt x="556" y="683"/>
                      </a:lnTo>
                      <a:lnTo>
                        <a:pt x="550" y="725"/>
                      </a:lnTo>
                      <a:lnTo>
                        <a:pt x="529" y="762"/>
                      </a:lnTo>
                      <a:lnTo>
                        <a:pt x="468" y="798"/>
                      </a:lnTo>
                      <a:lnTo>
                        <a:pt x="393" y="815"/>
                      </a:lnTo>
                      <a:lnTo>
                        <a:pt x="314" y="825"/>
                      </a:lnTo>
                      <a:lnTo>
                        <a:pt x="196" y="825"/>
                      </a:lnTo>
                      <a:lnTo>
                        <a:pt x="108" y="808"/>
                      </a:lnTo>
                      <a:lnTo>
                        <a:pt x="35" y="765"/>
                      </a:lnTo>
                      <a:lnTo>
                        <a:pt x="0" y="717"/>
                      </a:lnTo>
                      <a:lnTo>
                        <a:pt x="0" y="672"/>
                      </a:lnTo>
                      <a:lnTo>
                        <a:pt x="17" y="639"/>
                      </a:lnTo>
                      <a:lnTo>
                        <a:pt x="43" y="616"/>
                      </a:lnTo>
                      <a:lnTo>
                        <a:pt x="68" y="601"/>
                      </a:lnTo>
                      <a:lnTo>
                        <a:pt x="105" y="583"/>
                      </a:lnTo>
                      <a:lnTo>
                        <a:pt x="143" y="566"/>
                      </a:lnTo>
                      <a:lnTo>
                        <a:pt x="168" y="530"/>
                      </a:lnTo>
                      <a:lnTo>
                        <a:pt x="189" y="484"/>
                      </a:lnTo>
                      <a:lnTo>
                        <a:pt x="213" y="439"/>
                      </a:lnTo>
                      <a:lnTo>
                        <a:pt x="206" y="503"/>
                      </a:lnTo>
                      <a:lnTo>
                        <a:pt x="176" y="548"/>
                      </a:lnTo>
                      <a:lnTo>
                        <a:pt x="141" y="598"/>
                      </a:lnTo>
                      <a:lnTo>
                        <a:pt x="98" y="616"/>
                      </a:lnTo>
                      <a:lnTo>
                        <a:pt x="73" y="639"/>
                      </a:lnTo>
                      <a:lnTo>
                        <a:pt x="62" y="674"/>
                      </a:lnTo>
                      <a:lnTo>
                        <a:pt x="73" y="730"/>
                      </a:lnTo>
                      <a:lnTo>
                        <a:pt x="105" y="765"/>
                      </a:lnTo>
                      <a:lnTo>
                        <a:pt x="141" y="783"/>
                      </a:lnTo>
                      <a:lnTo>
                        <a:pt x="221" y="798"/>
                      </a:lnTo>
                      <a:lnTo>
                        <a:pt x="329" y="798"/>
                      </a:lnTo>
                      <a:lnTo>
                        <a:pt x="442" y="789"/>
                      </a:lnTo>
                      <a:lnTo>
                        <a:pt x="493" y="755"/>
                      </a:lnTo>
                      <a:lnTo>
                        <a:pt x="512" y="734"/>
                      </a:lnTo>
                      <a:lnTo>
                        <a:pt x="523" y="702"/>
                      </a:lnTo>
                      <a:lnTo>
                        <a:pt x="523" y="662"/>
                      </a:lnTo>
                      <a:lnTo>
                        <a:pt x="512" y="654"/>
                      </a:lnTo>
                      <a:lnTo>
                        <a:pt x="483" y="681"/>
                      </a:lnTo>
                      <a:lnTo>
                        <a:pt x="438" y="707"/>
                      </a:lnTo>
                      <a:lnTo>
                        <a:pt x="380" y="709"/>
                      </a:lnTo>
                      <a:lnTo>
                        <a:pt x="279" y="709"/>
                      </a:lnTo>
                      <a:lnTo>
                        <a:pt x="261" y="700"/>
                      </a:lnTo>
                      <a:lnTo>
                        <a:pt x="402" y="700"/>
                      </a:lnTo>
                      <a:lnTo>
                        <a:pt x="450" y="674"/>
                      </a:lnTo>
                      <a:lnTo>
                        <a:pt x="478" y="643"/>
                      </a:lnTo>
                      <a:lnTo>
                        <a:pt x="478" y="626"/>
                      </a:lnTo>
                      <a:lnTo>
                        <a:pt x="415" y="611"/>
                      </a:lnTo>
                      <a:lnTo>
                        <a:pt x="380" y="581"/>
                      </a:lnTo>
                      <a:lnTo>
                        <a:pt x="349" y="518"/>
                      </a:lnTo>
                      <a:lnTo>
                        <a:pt x="325" y="447"/>
                      </a:lnTo>
                      <a:lnTo>
                        <a:pt x="304" y="367"/>
                      </a:lnTo>
                      <a:lnTo>
                        <a:pt x="289" y="301"/>
                      </a:lnTo>
                      <a:lnTo>
                        <a:pt x="285" y="240"/>
                      </a:lnTo>
                      <a:lnTo>
                        <a:pt x="249" y="240"/>
                      </a:lnTo>
                      <a:lnTo>
                        <a:pt x="251" y="200"/>
                      </a:lnTo>
                      <a:lnTo>
                        <a:pt x="279" y="195"/>
                      </a:lnTo>
                      <a:lnTo>
                        <a:pt x="312" y="172"/>
                      </a:lnTo>
                      <a:lnTo>
                        <a:pt x="325" y="136"/>
                      </a:lnTo>
                      <a:lnTo>
                        <a:pt x="321" y="104"/>
                      </a:lnTo>
                      <a:lnTo>
                        <a:pt x="312" y="64"/>
                      </a:lnTo>
                      <a:lnTo>
                        <a:pt x="296" y="46"/>
                      </a:lnTo>
                      <a:lnTo>
                        <a:pt x="272" y="28"/>
                      </a:lnTo>
                      <a:lnTo>
                        <a:pt x="241" y="18"/>
                      </a:lnTo>
                      <a:lnTo>
                        <a:pt x="206" y="36"/>
                      </a:lnTo>
                      <a:lnTo>
                        <a:pt x="189" y="64"/>
                      </a:lnTo>
                      <a:lnTo>
                        <a:pt x="176" y="94"/>
                      </a:lnTo>
                      <a:lnTo>
                        <a:pt x="181" y="132"/>
                      </a:lnTo>
                      <a:lnTo>
                        <a:pt x="196" y="174"/>
                      </a:lnTo>
                      <a:lnTo>
                        <a:pt x="226" y="195"/>
                      </a:lnTo>
                      <a:lnTo>
                        <a:pt x="244" y="195"/>
                      </a:lnTo>
                      <a:lnTo>
                        <a:pt x="259" y="202"/>
                      </a:lnTo>
                      <a:lnTo>
                        <a:pt x="251" y="245"/>
                      </a:lnTo>
                      <a:lnTo>
                        <a:pt x="259" y="401"/>
                      </a:lnTo>
                      <a:lnTo>
                        <a:pt x="261" y="473"/>
                      </a:lnTo>
                      <a:lnTo>
                        <a:pt x="251" y="545"/>
                      </a:lnTo>
                      <a:lnTo>
                        <a:pt x="226" y="609"/>
                      </a:lnTo>
                      <a:lnTo>
                        <a:pt x="185" y="643"/>
                      </a:lnTo>
                      <a:lnTo>
                        <a:pt x="158" y="639"/>
                      </a:lnTo>
                      <a:lnTo>
                        <a:pt x="181" y="590"/>
                      </a:lnTo>
                      <a:lnTo>
                        <a:pt x="196" y="548"/>
                      </a:lnTo>
                      <a:lnTo>
                        <a:pt x="206" y="526"/>
                      </a:lnTo>
                      <a:lnTo>
                        <a:pt x="213" y="429"/>
                      </a:lnTo>
                      <a:lnTo>
                        <a:pt x="213" y="2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H="1">
                  <a:off x="6421320" y="4693320"/>
                  <a:ext cx="59760" cy="718200"/>
                </a:xfrm>
                <a:custGeom>
                  <a:avLst/>
                  <a:gdLst/>
                  <a:ahLst/>
                  <a:rect l="l" t="t" r="r" b="b"/>
                  <a:pathLst>
                    <a:path w="136" h="1555">
                      <a:moveTo>
                        <a:pt x="100" y="1495"/>
                      </a:moveTo>
                      <a:lnTo>
                        <a:pt x="65" y="1283"/>
                      </a:lnTo>
                      <a:lnTo>
                        <a:pt x="48" y="1103"/>
                      </a:lnTo>
                      <a:lnTo>
                        <a:pt x="35" y="927"/>
                      </a:lnTo>
                      <a:lnTo>
                        <a:pt x="30" y="681"/>
                      </a:lnTo>
                      <a:lnTo>
                        <a:pt x="30" y="390"/>
                      </a:lnTo>
                      <a:lnTo>
                        <a:pt x="30" y="169"/>
                      </a:lnTo>
                      <a:lnTo>
                        <a:pt x="17" y="114"/>
                      </a:lnTo>
                      <a:lnTo>
                        <a:pt x="0" y="55"/>
                      </a:lnTo>
                      <a:lnTo>
                        <a:pt x="23" y="0"/>
                      </a:lnTo>
                      <a:lnTo>
                        <a:pt x="40" y="30"/>
                      </a:lnTo>
                      <a:lnTo>
                        <a:pt x="57" y="108"/>
                      </a:lnTo>
                      <a:lnTo>
                        <a:pt x="65" y="199"/>
                      </a:lnTo>
                      <a:lnTo>
                        <a:pt x="65" y="530"/>
                      </a:lnTo>
                      <a:lnTo>
                        <a:pt x="65" y="806"/>
                      </a:lnTo>
                      <a:lnTo>
                        <a:pt x="70" y="1014"/>
                      </a:lnTo>
                      <a:lnTo>
                        <a:pt x="87" y="1205"/>
                      </a:lnTo>
                      <a:lnTo>
                        <a:pt x="113" y="1398"/>
                      </a:lnTo>
                      <a:lnTo>
                        <a:pt x="136" y="1555"/>
                      </a:lnTo>
                      <a:lnTo>
                        <a:pt x="100" y="149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H="1">
                  <a:off x="5882040" y="4715280"/>
                  <a:ext cx="288720" cy="628200"/>
                </a:xfrm>
                <a:custGeom>
                  <a:avLst/>
                  <a:gdLst/>
                  <a:ahLst/>
                  <a:rect l="l" t="t" r="r" b="b"/>
                  <a:pathLst>
                    <a:path w="648" h="1360">
                      <a:moveTo>
                        <a:pt x="648" y="1360"/>
                      </a:moveTo>
                      <a:lnTo>
                        <a:pt x="554" y="1271"/>
                      </a:lnTo>
                      <a:lnTo>
                        <a:pt x="484" y="1141"/>
                      </a:lnTo>
                      <a:lnTo>
                        <a:pt x="408" y="976"/>
                      </a:lnTo>
                      <a:lnTo>
                        <a:pt x="306" y="745"/>
                      </a:lnTo>
                      <a:lnTo>
                        <a:pt x="192" y="522"/>
                      </a:lnTo>
                      <a:lnTo>
                        <a:pt x="117" y="351"/>
                      </a:lnTo>
                      <a:lnTo>
                        <a:pt x="41" y="164"/>
                      </a:lnTo>
                      <a:lnTo>
                        <a:pt x="0" y="64"/>
                      </a:lnTo>
                      <a:lnTo>
                        <a:pt x="0" y="30"/>
                      </a:lnTo>
                      <a:lnTo>
                        <a:pt x="5" y="8"/>
                      </a:lnTo>
                      <a:lnTo>
                        <a:pt x="26" y="0"/>
                      </a:lnTo>
                      <a:lnTo>
                        <a:pt x="45" y="15"/>
                      </a:lnTo>
                      <a:lnTo>
                        <a:pt x="58" y="81"/>
                      </a:lnTo>
                      <a:lnTo>
                        <a:pt x="86" y="180"/>
                      </a:lnTo>
                      <a:lnTo>
                        <a:pt x="139" y="314"/>
                      </a:lnTo>
                      <a:lnTo>
                        <a:pt x="230" y="518"/>
                      </a:lnTo>
                      <a:lnTo>
                        <a:pt x="315" y="696"/>
                      </a:lnTo>
                      <a:lnTo>
                        <a:pt x="383" y="836"/>
                      </a:lnTo>
                      <a:lnTo>
                        <a:pt x="456" y="1012"/>
                      </a:lnTo>
                      <a:lnTo>
                        <a:pt x="542" y="1183"/>
                      </a:lnTo>
                      <a:lnTo>
                        <a:pt x="648" y="13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H="1">
                  <a:off x="5544360" y="5115960"/>
                  <a:ext cx="1274760" cy="131760"/>
                </a:xfrm>
                <a:custGeom>
                  <a:avLst/>
                  <a:gdLst/>
                  <a:ahLst/>
                  <a:rect l="l" t="t" r="r" b="b"/>
                  <a:pathLst>
                    <a:path w="2858" h="285">
                      <a:moveTo>
                        <a:pt x="0" y="235"/>
                      </a:moveTo>
                      <a:lnTo>
                        <a:pt x="146" y="245"/>
                      </a:lnTo>
                      <a:lnTo>
                        <a:pt x="368" y="250"/>
                      </a:lnTo>
                      <a:lnTo>
                        <a:pt x="698" y="233"/>
                      </a:lnTo>
                      <a:lnTo>
                        <a:pt x="1020" y="222"/>
                      </a:lnTo>
                      <a:lnTo>
                        <a:pt x="1490" y="192"/>
                      </a:lnTo>
                      <a:lnTo>
                        <a:pt x="1868" y="154"/>
                      </a:lnTo>
                      <a:lnTo>
                        <a:pt x="2245" y="121"/>
                      </a:lnTo>
                      <a:lnTo>
                        <a:pt x="2548" y="74"/>
                      </a:lnTo>
                      <a:lnTo>
                        <a:pt x="2745" y="36"/>
                      </a:lnTo>
                      <a:lnTo>
                        <a:pt x="2807" y="0"/>
                      </a:lnTo>
                      <a:lnTo>
                        <a:pt x="2858" y="2"/>
                      </a:lnTo>
                      <a:lnTo>
                        <a:pt x="2792" y="42"/>
                      </a:lnTo>
                      <a:lnTo>
                        <a:pt x="2656" y="80"/>
                      </a:lnTo>
                      <a:lnTo>
                        <a:pt x="2436" y="118"/>
                      </a:lnTo>
                      <a:lnTo>
                        <a:pt x="2137" y="156"/>
                      </a:lnTo>
                      <a:lnTo>
                        <a:pt x="1819" y="188"/>
                      </a:lnTo>
                      <a:lnTo>
                        <a:pt x="1371" y="228"/>
                      </a:lnTo>
                      <a:lnTo>
                        <a:pt x="910" y="253"/>
                      </a:lnTo>
                      <a:lnTo>
                        <a:pt x="623" y="268"/>
                      </a:lnTo>
                      <a:lnTo>
                        <a:pt x="288" y="285"/>
                      </a:lnTo>
                      <a:lnTo>
                        <a:pt x="38" y="281"/>
                      </a:lnTo>
                      <a:lnTo>
                        <a:pt x="0" y="2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>
                  <a:off x="6005520" y="4891320"/>
                  <a:ext cx="482400" cy="63720"/>
                </a:xfrm>
                <a:custGeom>
                  <a:avLst/>
                  <a:gdLst/>
                  <a:ahLst/>
                  <a:rect l="l" t="t" r="r" b="b"/>
                  <a:pathLst>
                    <a:path w="1081" h="138">
                      <a:moveTo>
                        <a:pt x="1081" y="0"/>
                      </a:moveTo>
                      <a:lnTo>
                        <a:pt x="978" y="23"/>
                      </a:lnTo>
                      <a:lnTo>
                        <a:pt x="814" y="50"/>
                      </a:lnTo>
                      <a:lnTo>
                        <a:pt x="575" y="70"/>
                      </a:lnTo>
                      <a:lnTo>
                        <a:pt x="342" y="95"/>
                      </a:lnTo>
                      <a:lnTo>
                        <a:pt x="0" y="123"/>
                      </a:lnTo>
                      <a:lnTo>
                        <a:pt x="90" y="138"/>
                      </a:lnTo>
                      <a:lnTo>
                        <a:pt x="426" y="108"/>
                      </a:lnTo>
                      <a:lnTo>
                        <a:pt x="634" y="87"/>
                      </a:lnTo>
                      <a:lnTo>
                        <a:pt x="879" y="68"/>
                      </a:lnTo>
                      <a:lnTo>
                        <a:pt x="1056" y="38"/>
                      </a:lnTo>
                      <a:lnTo>
                        <a:pt x="108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H="1">
                  <a:off x="5625000" y="4349160"/>
                  <a:ext cx="350640" cy="424440"/>
                </a:xfrm>
                <a:custGeom>
                  <a:avLst/>
                  <a:gdLst/>
                  <a:ahLst/>
                  <a:rect l="l" t="t" r="r" b="b"/>
                  <a:pathLst>
                    <a:path w="786" h="920">
                      <a:moveTo>
                        <a:pt x="153" y="829"/>
                      </a:moveTo>
                      <a:lnTo>
                        <a:pt x="181" y="738"/>
                      </a:lnTo>
                      <a:lnTo>
                        <a:pt x="214" y="672"/>
                      </a:lnTo>
                      <a:lnTo>
                        <a:pt x="257" y="602"/>
                      </a:lnTo>
                      <a:lnTo>
                        <a:pt x="279" y="534"/>
                      </a:lnTo>
                      <a:lnTo>
                        <a:pt x="304" y="511"/>
                      </a:lnTo>
                      <a:lnTo>
                        <a:pt x="304" y="486"/>
                      </a:lnTo>
                      <a:lnTo>
                        <a:pt x="289" y="473"/>
                      </a:lnTo>
                      <a:lnTo>
                        <a:pt x="251" y="486"/>
                      </a:lnTo>
                      <a:lnTo>
                        <a:pt x="223" y="511"/>
                      </a:lnTo>
                      <a:lnTo>
                        <a:pt x="196" y="581"/>
                      </a:lnTo>
                      <a:lnTo>
                        <a:pt x="185" y="613"/>
                      </a:lnTo>
                      <a:lnTo>
                        <a:pt x="148" y="624"/>
                      </a:lnTo>
                      <a:lnTo>
                        <a:pt x="108" y="602"/>
                      </a:lnTo>
                      <a:lnTo>
                        <a:pt x="108" y="581"/>
                      </a:lnTo>
                      <a:lnTo>
                        <a:pt x="136" y="572"/>
                      </a:lnTo>
                      <a:lnTo>
                        <a:pt x="158" y="564"/>
                      </a:lnTo>
                      <a:lnTo>
                        <a:pt x="158" y="534"/>
                      </a:lnTo>
                      <a:lnTo>
                        <a:pt x="136" y="528"/>
                      </a:lnTo>
                      <a:lnTo>
                        <a:pt x="121" y="541"/>
                      </a:lnTo>
                      <a:lnTo>
                        <a:pt x="92" y="560"/>
                      </a:lnTo>
                      <a:lnTo>
                        <a:pt x="70" y="560"/>
                      </a:lnTo>
                      <a:lnTo>
                        <a:pt x="32" y="560"/>
                      </a:lnTo>
                      <a:lnTo>
                        <a:pt x="9" y="528"/>
                      </a:lnTo>
                      <a:lnTo>
                        <a:pt x="0" y="494"/>
                      </a:lnTo>
                      <a:lnTo>
                        <a:pt x="0" y="445"/>
                      </a:lnTo>
                      <a:lnTo>
                        <a:pt x="37" y="403"/>
                      </a:lnTo>
                      <a:lnTo>
                        <a:pt x="121" y="312"/>
                      </a:lnTo>
                      <a:lnTo>
                        <a:pt x="125" y="259"/>
                      </a:lnTo>
                      <a:lnTo>
                        <a:pt x="136" y="216"/>
                      </a:lnTo>
                      <a:lnTo>
                        <a:pt x="234" y="102"/>
                      </a:lnTo>
                      <a:lnTo>
                        <a:pt x="246" y="65"/>
                      </a:lnTo>
                      <a:lnTo>
                        <a:pt x="238" y="4"/>
                      </a:lnTo>
                      <a:lnTo>
                        <a:pt x="261" y="17"/>
                      </a:lnTo>
                      <a:lnTo>
                        <a:pt x="289" y="0"/>
                      </a:lnTo>
                      <a:lnTo>
                        <a:pt x="344" y="53"/>
                      </a:lnTo>
                      <a:lnTo>
                        <a:pt x="360" y="4"/>
                      </a:lnTo>
                      <a:lnTo>
                        <a:pt x="378" y="30"/>
                      </a:lnTo>
                      <a:lnTo>
                        <a:pt x="403" y="12"/>
                      </a:lnTo>
                      <a:lnTo>
                        <a:pt x="420" y="34"/>
                      </a:lnTo>
                      <a:lnTo>
                        <a:pt x="469" y="24"/>
                      </a:lnTo>
                      <a:lnTo>
                        <a:pt x="475" y="60"/>
                      </a:lnTo>
                      <a:lnTo>
                        <a:pt x="509" y="42"/>
                      </a:lnTo>
                      <a:lnTo>
                        <a:pt x="524" y="77"/>
                      </a:lnTo>
                      <a:lnTo>
                        <a:pt x="556" y="60"/>
                      </a:lnTo>
                      <a:lnTo>
                        <a:pt x="566" y="102"/>
                      </a:lnTo>
                      <a:lnTo>
                        <a:pt x="589" y="102"/>
                      </a:lnTo>
                      <a:lnTo>
                        <a:pt x="594" y="130"/>
                      </a:lnTo>
                      <a:lnTo>
                        <a:pt x="622" y="130"/>
                      </a:lnTo>
                      <a:lnTo>
                        <a:pt x="627" y="168"/>
                      </a:lnTo>
                      <a:lnTo>
                        <a:pt x="660" y="168"/>
                      </a:lnTo>
                      <a:lnTo>
                        <a:pt x="660" y="204"/>
                      </a:lnTo>
                      <a:lnTo>
                        <a:pt x="693" y="208"/>
                      </a:lnTo>
                      <a:lnTo>
                        <a:pt x="687" y="233"/>
                      </a:lnTo>
                      <a:lnTo>
                        <a:pt x="715" y="246"/>
                      </a:lnTo>
                      <a:lnTo>
                        <a:pt x="710" y="282"/>
                      </a:lnTo>
                      <a:lnTo>
                        <a:pt x="730" y="282"/>
                      </a:lnTo>
                      <a:lnTo>
                        <a:pt x="730" y="325"/>
                      </a:lnTo>
                      <a:lnTo>
                        <a:pt x="748" y="337"/>
                      </a:lnTo>
                      <a:lnTo>
                        <a:pt x="743" y="373"/>
                      </a:lnTo>
                      <a:lnTo>
                        <a:pt x="770" y="377"/>
                      </a:lnTo>
                      <a:lnTo>
                        <a:pt x="753" y="433"/>
                      </a:lnTo>
                      <a:lnTo>
                        <a:pt x="781" y="456"/>
                      </a:lnTo>
                      <a:lnTo>
                        <a:pt x="758" y="473"/>
                      </a:lnTo>
                      <a:lnTo>
                        <a:pt x="776" y="503"/>
                      </a:lnTo>
                      <a:lnTo>
                        <a:pt x="763" y="528"/>
                      </a:lnTo>
                      <a:lnTo>
                        <a:pt x="781" y="551"/>
                      </a:lnTo>
                      <a:lnTo>
                        <a:pt x="758" y="581"/>
                      </a:lnTo>
                      <a:lnTo>
                        <a:pt x="786" y="613"/>
                      </a:lnTo>
                      <a:lnTo>
                        <a:pt x="763" y="630"/>
                      </a:lnTo>
                      <a:lnTo>
                        <a:pt x="786" y="660"/>
                      </a:lnTo>
                      <a:lnTo>
                        <a:pt x="763" y="690"/>
                      </a:lnTo>
                      <a:lnTo>
                        <a:pt x="786" y="733"/>
                      </a:lnTo>
                      <a:lnTo>
                        <a:pt x="763" y="758"/>
                      </a:lnTo>
                      <a:lnTo>
                        <a:pt x="786" y="789"/>
                      </a:lnTo>
                      <a:lnTo>
                        <a:pt x="770" y="827"/>
                      </a:lnTo>
                      <a:lnTo>
                        <a:pt x="738" y="859"/>
                      </a:lnTo>
                      <a:lnTo>
                        <a:pt x="677" y="892"/>
                      </a:lnTo>
                      <a:lnTo>
                        <a:pt x="609" y="914"/>
                      </a:lnTo>
                      <a:lnTo>
                        <a:pt x="531" y="920"/>
                      </a:lnTo>
                      <a:lnTo>
                        <a:pt x="602" y="842"/>
                      </a:lnTo>
                      <a:lnTo>
                        <a:pt x="662" y="796"/>
                      </a:lnTo>
                      <a:lnTo>
                        <a:pt x="700" y="748"/>
                      </a:lnTo>
                      <a:lnTo>
                        <a:pt x="738" y="680"/>
                      </a:lnTo>
                      <a:lnTo>
                        <a:pt x="740" y="566"/>
                      </a:lnTo>
                      <a:lnTo>
                        <a:pt x="730" y="466"/>
                      </a:lnTo>
                      <a:lnTo>
                        <a:pt x="715" y="390"/>
                      </a:lnTo>
                      <a:lnTo>
                        <a:pt x="698" y="325"/>
                      </a:lnTo>
                      <a:lnTo>
                        <a:pt x="657" y="261"/>
                      </a:lnTo>
                      <a:lnTo>
                        <a:pt x="579" y="174"/>
                      </a:lnTo>
                      <a:lnTo>
                        <a:pt x="516" y="123"/>
                      </a:lnTo>
                      <a:lnTo>
                        <a:pt x="443" y="87"/>
                      </a:lnTo>
                      <a:lnTo>
                        <a:pt x="397" y="83"/>
                      </a:lnTo>
                      <a:lnTo>
                        <a:pt x="382" y="65"/>
                      </a:lnTo>
                      <a:lnTo>
                        <a:pt x="365" y="90"/>
                      </a:lnTo>
                      <a:lnTo>
                        <a:pt x="335" y="98"/>
                      </a:lnTo>
                      <a:lnTo>
                        <a:pt x="317" y="83"/>
                      </a:lnTo>
                      <a:lnTo>
                        <a:pt x="291" y="60"/>
                      </a:lnTo>
                      <a:lnTo>
                        <a:pt x="272" y="60"/>
                      </a:lnTo>
                      <a:lnTo>
                        <a:pt x="272" y="95"/>
                      </a:lnTo>
                      <a:lnTo>
                        <a:pt x="261" y="130"/>
                      </a:lnTo>
                      <a:lnTo>
                        <a:pt x="231" y="161"/>
                      </a:lnTo>
                      <a:lnTo>
                        <a:pt x="201" y="186"/>
                      </a:lnTo>
                      <a:lnTo>
                        <a:pt x="185" y="214"/>
                      </a:lnTo>
                      <a:lnTo>
                        <a:pt x="155" y="251"/>
                      </a:lnTo>
                      <a:lnTo>
                        <a:pt x="158" y="299"/>
                      </a:lnTo>
                      <a:lnTo>
                        <a:pt x="136" y="329"/>
                      </a:lnTo>
                      <a:lnTo>
                        <a:pt x="92" y="377"/>
                      </a:lnTo>
                      <a:lnTo>
                        <a:pt x="70" y="407"/>
                      </a:lnTo>
                      <a:lnTo>
                        <a:pt x="30" y="460"/>
                      </a:lnTo>
                      <a:lnTo>
                        <a:pt x="37" y="488"/>
                      </a:lnTo>
                      <a:lnTo>
                        <a:pt x="58" y="519"/>
                      </a:lnTo>
                      <a:lnTo>
                        <a:pt x="90" y="526"/>
                      </a:lnTo>
                      <a:lnTo>
                        <a:pt x="125" y="503"/>
                      </a:lnTo>
                      <a:lnTo>
                        <a:pt x="163" y="498"/>
                      </a:lnTo>
                      <a:lnTo>
                        <a:pt x="196" y="496"/>
                      </a:lnTo>
                      <a:lnTo>
                        <a:pt x="216" y="463"/>
                      </a:lnTo>
                      <a:lnTo>
                        <a:pt x="269" y="448"/>
                      </a:lnTo>
                      <a:lnTo>
                        <a:pt x="320" y="454"/>
                      </a:lnTo>
                      <a:lnTo>
                        <a:pt x="344" y="483"/>
                      </a:lnTo>
                      <a:lnTo>
                        <a:pt x="332" y="547"/>
                      </a:lnTo>
                      <a:lnTo>
                        <a:pt x="289" y="619"/>
                      </a:lnTo>
                      <a:lnTo>
                        <a:pt x="257" y="690"/>
                      </a:lnTo>
                      <a:lnTo>
                        <a:pt x="246" y="758"/>
                      </a:lnTo>
                      <a:lnTo>
                        <a:pt x="234" y="846"/>
                      </a:lnTo>
                      <a:lnTo>
                        <a:pt x="234" y="902"/>
                      </a:lnTo>
                      <a:lnTo>
                        <a:pt x="185" y="876"/>
                      </a:lnTo>
                      <a:lnTo>
                        <a:pt x="153" y="8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>
                  <a:off x="5586480" y="4679280"/>
                  <a:ext cx="401040" cy="456120"/>
                </a:xfrm>
                <a:custGeom>
                  <a:avLst/>
                  <a:gdLst/>
                  <a:ahLst/>
                  <a:rect l="l" t="t" r="r" b="b"/>
                  <a:pathLst>
                    <a:path w="900" h="988">
                      <a:moveTo>
                        <a:pt x="791" y="30"/>
                      </a:moveTo>
                      <a:lnTo>
                        <a:pt x="834" y="55"/>
                      </a:lnTo>
                      <a:lnTo>
                        <a:pt x="884" y="108"/>
                      </a:lnTo>
                      <a:lnTo>
                        <a:pt x="900" y="157"/>
                      </a:lnTo>
                      <a:lnTo>
                        <a:pt x="900" y="217"/>
                      </a:lnTo>
                      <a:lnTo>
                        <a:pt x="884" y="272"/>
                      </a:lnTo>
                      <a:lnTo>
                        <a:pt x="843" y="320"/>
                      </a:lnTo>
                      <a:lnTo>
                        <a:pt x="806" y="338"/>
                      </a:lnTo>
                      <a:lnTo>
                        <a:pt x="754" y="369"/>
                      </a:lnTo>
                      <a:lnTo>
                        <a:pt x="796" y="399"/>
                      </a:lnTo>
                      <a:lnTo>
                        <a:pt x="819" y="433"/>
                      </a:lnTo>
                      <a:lnTo>
                        <a:pt x="839" y="482"/>
                      </a:lnTo>
                      <a:lnTo>
                        <a:pt x="843" y="567"/>
                      </a:lnTo>
                      <a:lnTo>
                        <a:pt x="828" y="645"/>
                      </a:lnTo>
                      <a:lnTo>
                        <a:pt x="819" y="668"/>
                      </a:lnTo>
                      <a:lnTo>
                        <a:pt x="843" y="694"/>
                      </a:lnTo>
                      <a:lnTo>
                        <a:pt x="872" y="729"/>
                      </a:lnTo>
                      <a:lnTo>
                        <a:pt x="884" y="776"/>
                      </a:lnTo>
                      <a:lnTo>
                        <a:pt x="877" y="832"/>
                      </a:lnTo>
                      <a:lnTo>
                        <a:pt x="839" y="880"/>
                      </a:lnTo>
                      <a:lnTo>
                        <a:pt x="758" y="933"/>
                      </a:lnTo>
                      <a:lnTo>
                        <a:pt x="654" y="971"/>
                      </a:lnTo>
                      <a:lnTo>
                        <a:pt x="524" y="988"/>
                      </a:lnTo>
                      <a:lnTo>
                        <a:pt x="380" y="988"/>
                      </a:lnTo>
                      <a:lnTo>
                        <a:pt x="230" y="963"/>
                      </a:lnTo>
                      <a:lnTo>
                        <a:pt x="126" y="933"/>
                      </a:lnTo>
                      <a:lnTo>
                        <a:pt x="48" y="880"/>
                      </a:lnTo>
                      <a:lnTo>
                        <a:pt x="28" y="819"/>
                      </a:lnTo>
                      <a:lnTo>
                        <a:pt x="0" y="766"/>
                      </a:lnTo>
                      <a:lnTo>
                        <a:pt x="5" y="685"/>
                      </a:lnTo>
                      <a:lnTo>
                        <a:pt x="43" y="638"/>
                      </a:lnTo>
                      <a:lnTo>
                        <a:pt x="94" y="628"/>
                      </a:lnTo>
                      <a:lnTo>
                        <a:pt x="71" y="558"/>
                      </a:lnTo>
                      <a:lnTo>
                        <a:pt x="78" y="467"/>
                      </a:lnTo>
                      <a:lnTo>
                        <a:pt x="113" y="386"/>
                      </a:lnTo>
                      <a:lnTo>
                        <a:pt x="158" y="350"/>
                      </a:lnTo>
                      <a:lnTo>
                        <a:pt x="169" y="343"/>
                      </a:lnTo>
                      <a:lnTo>
                        <a:pt x="109" y="308"/>
                      </a:lnTo>
                      <a:lnTo>
                        <a:pt x="88" y="247"/>
                      </a:lnTo>
                      <a:lnTo>
                        <a:pt x="88" y="182"/>
                      </a:lnTo>
                      <a:lnTo>
                        <a:pt x="98" y="83"/>
                      </a:lnTo>
                      <a:lnTo>
                        <a:pt x="141" y="43"/>
                      </a:lnTo>
                      <a:lnTo>
                        <a:pt x="192" y="13"/>
                      </a:lnTo>
                      <a:lnTo>
                        <a:pt x="239" y="0"/>
                      </a:lnTo>
                      <a:lnTo>
                        <a:pt x="219" y="61"/>
                      </a:lnTo>
                      <a:lnTo>
                        <a:pt x="169" y="66"/>
                      </a:lnTo>
                      <a:lnTo>
                        <a:pt x="131" y="108"/>
                      </a:lnTo>
                      <a:lnTo>
                        <a:pt x="113" y="164"/>
                      </a:lnTo>
                      <a:lnTo>
                        <a:pt x="113" y="235"/>
                      </a:lnTo>
                      <a:lnTo>
                        <a:pt x="136" y="272"/>
                      </a:lnTo>
                      <a:lnTo>
                        <a:pt x="169" y="290"/>
                      </a:lnTo>
                      <a:lnTo>
                        <a:pt x="215" y="323"/>
                      </a:lnTo>
                      <a:lnTo>
                        <a:pt x="199" y="371"/>
                      </a:lnTo>
                      <a:lnTo>
                        <a:pt x="156" y="401"/>
                      </a:lnTo>
                      <a:lnTo>
                        <a:pt x="139" y="464"/>
                      </a:lnTo>
                      <a:lnTo>
                        <a:pt x="124" y="526"/>
                      </a:lnTo>
                      <a:lnTo>
                        <a:pt x="131" y="598"/>
                      </a:lnTo>
                      <a:lnTo>
                        <a:pt x="154" y="653"/>
                      </a:lnTo>
                      <a:lnTo>
                        <a:pt x="196" y="700"/>
                      </a:lnTo>
                      <a:lnTo>
                        <a:pt x="289" y="751"/>
                      </a:lnTo>
                      <a:lnTo>
                        <a:pt x="413" y="785"/>
                      </a:lnTo>
                      <a:lnTo>
                        <a:pt x="387" y="797"/>
                      </a:lnTo>
                      <a:lnTo>
                        <a:pt x="313" y="782"/>
                      </a:lnTo>
                      <a:lnTo>
                        <a:pt x="204" y="744"/>
                      </a:lnTo>
                      <a:lnTo>
                        <a:pt x="121" y="706"/>
                      </a:lnTo>
                      <a:lnTo>
                        <a:pt x="88" y="706"/>
                      </a:lnTo>
                      <a:lnTo>
                        <a:pt x="56" y="736"/>
                      </a:lnTo>
                      <a:lnTo>
                        <a:pt x="56" y="789"/>
                      </a:lnTo>
                      <a:lnTo>
                        <a:pt x="98" y="855"/>
                      </a:lnTo>
                      <a:lnTo>
                        <a:pt x="164" y="893"/>
                      </a:lnTo>
                      <a:lnTo>
                        <a:pt x="285" y="927"/>
                      </a:lnTo>
                      <a:lnTo>
                        <a:pt x="387" y="946"/>
                      </a:lnTo>
                      <a:lnTo>
                        <a:pt x="506" y="953"/>
                      </a:lnTo>
                      <a:lnTo>
                        <a:pt x="614" y="940"/>
                      </a:lnTo>
                      <a:lnTo>
                        <a:pt x="720" y="897"/>
                      </a:lnTo>
                      <a:lnTo>
                        <a:pt x="786" y="855"/>
                      </a:lnTo>
                      <a:lnTo>
                        <a:pt x="806" y="825"/>
                      </a:lnTo>
                      <a:lnTo>
                        <a:pt x="819" y="785"/>
                      </a:lnTo>
                      <a:lnTo>
                        <a:pt x="796" y="736"/>
                      </a:lnTo>
                      <a:lnTo>
                        <a:pt x="745" y="706"/>
                      </a:lnTo>
                      <a:lnTo>
                        <a:pt x="773" y="645"/>
                      </a:lnTo>
                      <a:lnTo>
                        <a:pt x="788" y="567"/>
                      </a:lnTo>
                      <a:lnTo>
                        <a:pt x="773" y="469"/>
                      </a:lnTo>
                      <a:lnTo>
                        <a:pt x="730" y="422"/>
                      </a:lnTo>
                      <a:lnTo>
                        <a:pt x="692" y="391"/>
                      </a:lnTo>
                      <a:lnTo>
                        <a:pt x="627" y="373"/>
                      </a:lnTo>
                      <a:lnTo>
                        <a:pt x="648" y="356"/>
                      </a:lnTo>
                      <a:lnTo>
                        <a:pt x="741" y="343"/>
                      </a:lnTo>
                      <a:lnTo>
                        <a:pt x="801" y="303"/>
                      </a:lnTo>
                      <a:lnTo>
                        <a:pt x="843" y="247"/>
                      </a:lnTo>
                      <a:lnTo>
                        <a:pt x="851" y="199"/>
                      </a:lnTo>
                      <a:lnTo>
                        <a:pt x="834" y="187"/>
                      </a:lnTo>
                      <a:lnTo>
                        <a:pt x="796" y="229"/>
                      </a:lnTo>
                      <a:lnTo>
                        <a:pt x="730" y="278"/>
                      </a:lnTo>
                      <a:lnTo>
                        <a:pt x="595" y="303"/>
                      </a:lnTo>
                      <a:lnTo>
                        <a:pt x="446" y="308"/>
                      </a:lnTo>
                      <a:lnTo>
                        <a:pt x="332" y="282"/>
                      </a:lnTo>
                      <a:lnTo>
                        <a:pt x="245" y="252"/>
                      </a:lnTo>
                      <a:lnTo>
                        <a:pt x="266" y="235"/>
                      </a:lnTo>
                      <a:lnTo>
                        <a:pt x="332" y="265"/>
                      </a:lnTo>
                      <a:lnTo>
                        <a:pt x="459" y="272"/>
                      </a:lnTo>
                      <a:lnTo>
                        <a:pt x="577" y="265"/>
                      </a:lnTo>
                      <a:lnTo>
                        <a:pt x="703" y="247"/>
                      </a:lnTo>
                      <a:lnTo>
                        <a:pt x="779" y="204"/>
                      </a:lnTo>
                      <a:lnTo>
                        <a:pt x="811" y="164"/>
                      </a:lnTo>
                      <a:lnTo>
                        <a:pt x="828" y="121"/>
                      </a:lnTo>
                      <a:lnTo>
                        <a:pt x="819" y="83"/>
                      </a:lnTo>
                      <a:lnTo>
                        <a:pt x="758" y="55"/>
                      </a:lnTo>
                      <a:lnTo>
                        <a:pt x="791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>
                  <a:off x="5713560" y="4094280"/>
                  <a:ext cx="117360" cy="134280"/>
                </a:xfrm>
                <a:custGeom>
                  <a:avLst/>
                  <a:gdLst/>
                  <a:ahLst/>
                  <a:rect l="l" t="t" r="r" b="b"/>
                  <a:pathLst>
                    <a:path w="264" h="290">
                      <a:moveTo>
                        <a:pt x="229" y="104"/>
                      </a:moveTo>
                      <a:lnTo>
                        <a:pt x="186" y="55"/>
                      </a:lnTo>
                      <a:lnTo>
                        <a:pt x="133" y="17"/>
                      </a:lnTo>
                      <a:lnTo>
                        <a:pt x="65" y="0"/>
                      </a:lnTo>
                      <a:lnTo>
                        <a:pt x="25" y="13"/>
                      </a:lnTo>
                      <a:lnTo>
                        <a:pt x="0" y="49"/>
                      </a:lnTo>
                      <a:lnTo>
                        <a:pt x="4" y="108"/>
                      </a:lnTo>
                      <a:lnTo>
                        <a:pt x="29" y="165"/>
                      </a:lnTo>
                      <a:lnTo>
                        <a:pt x="61" y="199"/>
                      </a:lnTo>
                      <a:lnTo>
                        <a:pt x="4" y="231"/>
                      </a:lnTo>
                      <a:lnTo>
                        <a:pt x="0" y="255"/>
                      </a:lnTo>
                      <a:lnTo>
                        <a:pt x="25" y="265"/>
                      </a:lnTo>
                      <a:lnTo>
                        <a:pt x="73" y="225"/>
                      </a:lnTo>
                      <a:lnTo>
                        <a:pt x="108" y="260"/>
                      </a:lnTo>
                      <a:lnTo>
                        <a:pt x="143" y="278"/>
                      </a:lnTo>
                      <a:lnTo>
                        <a:pt x="173" y="290"/>
                      </a:lnTo>
                      <a:lnTo>
                        <a:pt x="199" y="286"/>
                      </a:lnTo>
                      <a:lnTo>
                        <a:pt x="234" y="278"/>
                      </a:lnTo>
                      <a:lnTo>
                        <a:pt x="252" y="260"/>
                      </a:lnTo>
                      <a:lnTo>
                        <a:pt x="264" y="231"/>
                      </a:lnTo>
                      <a:lnTo>
                        <a:pt x="264" y="195"/>
                      </a:lnTo>
                      <a:lnTo>
                        <a:pt x="260" y="152"/>
                      </a:lnTo>
                      <a:lnTo>
                        <a:pt x="229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H="1">
                  <a:off x="5691960" y="4246560"/>
                  <a:ext cx="383760" cy="51120"/>
                </a:xfrm>
                <a:custGeom>
                  <a:avLst/>
                  <a:gdLst/>
                  <a:ahLst/>
                  <a:rect l="l" t="t" r="r" b="b"/>
                  <a:pathLst>
                    <a:path w="862" h="110">
                      <a:moveTo>
                        <a:pt x="743" y="0"/>
                      </a:moveTo>
                      <a:lnTo>
                        <a:pt x="836" y="4"/>
                      </a:lnTo>
                      <a:lnTo>
                        <a:pt x="862" y="30"/>
                      </a:lnTo>
                      <a:lnTo>
                        <a:pt x="857" y="57"/>
                      </a:lnTo>
                      <a:lnTo>
                        <a:pt x="819" y="80"/>
                      </a:lnTo>
                      <a:lnTo>
                        <a:pt x="794" y="80"/>
                      </a:lnTo>
                      <a:lnTo>
                        <a:pt x="743" y="74"/>
                      </a:lnTo>
                      <a:lnTo>
                        <a:pt x="671" y="47"/>
                      </a:lnTo>
                      <a:lnTo>
                        <a:pt x="569" y="35"/>
                      </a:lnTo>
                      <a:lnTo>
                        <a:pt x="484" y="35"/>
                      </a:lnTo>
                      <a:lnTo>
                        <a:pt x="373" y="40"/>
                      </a:lnTo>
                      <a:lnTo>
                        <a:pt x="323" y="47"/>
                      </a:lnTo>
                      <a:lnTo>
                        <a:pt x="348" y="70"/>
                      </a:lnTo>
                      <a:lnTo>
                        <a:pt x="340" y="98"/>
                      </a:lnTo>
                      <a:lnTo>
                        <a:pt x="306" y="110"/>
                      </a:lnTo>
                      <a:lnTo>
                        <a:pt x="247" y="110"/>
                      </a:lnTo>
                      <a:lnTo>
                        <a:pt x="212" y="93"/>
                      </a:lnTo>
                      <a:lnTo>
                        <a:pt x="200" y="63"/>
                      </a:lnTo>
                      <a:lnTo>
                        <a:pt x="200" y="40"/>
                      </a:lnTo>
                      <a:lnTo>
                        <a:pt x="13" y="57"/>
                      </a:lnTo>
                      <a:lnTo>
                        <a:pt x="0" y="47"/>
                      </a:lnTo>
                      <a:lnTo>
                        <a:pt x="5" y="30"/>
                      </a:lnTo>
                      <a:lnTo>
                        <a:pt x="200" y="17"/>
                      </a:lnTo>
                      <a:lnTo>
                        <a:pt x="327" y="12"/>
                      </a:lnTo>
                      <a:lnTo>
                        <a:pt x="408" y="12"/>
                      </a:lnTo>
                      <a:lnTo>
                        <a:pt x="552" y="0"/>
                      </a:lnTo>
                      <a:lnTo>
                        <a:pt x="662" y="0"/>
                      </a:lnTo>
                      <a:lnTo>
                        <a:pt x="74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H="1">
                  <a:off x="5623560" y="4250880"/>
                  <a:ext cx="133560" cy="245520"/>
                </a:xfrm>
                <a:custGeom>
                  <a:avLst/>
                  <a:gdLst/>
                  <a:ahLst/>
                  <a:rect l="l" t="t" r="r" b="b"/>
                  <a:pathLst>
                    <a:path w="301" h="530">
                      <a:moveTo>
                        <a:pt x="265" y="169"/>
                      </a:moveTo>
                      <a:lnTo>
                        <a:pt x="223" y="95"/>
                      </a:lnTo>
                      <a:lnTo>
                        <a:pt x="162" y="30"/>
                      </a:lnTo>
                      <a:lnTo>
                        <a:pt x="113" y="4"/>
                      </a:lnTo>
                      <a:lnTo>
                        <a:pt x="66" y="0"/>
                      </a:lnTo>
                      <a:lnTo>
                        <a:pt x="13" y="25"/>
                      </a:lnTo>
                      <a:lnTo>
                        <a:pt x="0" y="48"/>
                      </a:lnTo>
                      <a:lnTo>
                        <a:pt x="18" y="91"/>
                      </a:lnTo>
                      <a:lnTo>
                        <a:pt x="48" y="138"/>
                      </a:lnTo>
                      <a:lnTo>
                        <a:pt x="91" y="161"/>
                      </a:lnTo>
                      <a:lnTo>
                        <a:pt x="126" y="204"/>
                      </a:lnTo>
                      <a:lnTo>
                        <a:pt x="126" y="260"/>
                      </a:lnTo>
                      <a:lnTo>
                        <a:pt x="113" y="301"/>
                      </a:lnTo>
                      <a:lnTo>
                        <a:pt x="73" y="330"/>
                      </a:lnTo>
                      <a:lnTo>
                        <a:pt x="48" y="373"/>
                      </a:lnTo>
                      <a:lnTo>
                        <a:pt x="43" y="451"/>
                      </a:lnTo>
                      <a:lnTo>
                        <a:pt x="73" y="500"/>
                      </a:lnTo>
                      <a:lnTo>
                        <a:pt x="121" y="530"/>
                      </a:lnTo>
                      <a:lnTo>
                        <a:pt x="204" y="525"/>
                      </a:lnTo>
                      <a:lnTo>
                        <a:pt x="265" y="500"/>
                      </a:lnTo>
                      <a:lnTo>
                        <a:pt x="288" y="451"/>
                      </a:lnTo>
                      <a:lnTo>
                        <a:pt x="301" y="360"/>
                      </a:lnTo>
                      <a:lnTo>
                        <a:pt x="295" y="248"/>
                      </a:lnTo>
                      <a:lnTo>
                        <a:pt x="282" y="212"/>
                      </a:lnTo>
                      <a:lnTo>
                        <a:pt x="265" y="1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H="1">
                  <a:off x="5678280" y="4435200"/>
                  <a:ext cx="122760" cy="242280"/>
                </a:xfrm>
                <a:custGeom>
                  <a:avLst/>
                  <a:gdLst/>
                  <a:ahLst/>
                  <a:rect l="l" t="t" r="r" b="b"/>
                  <a:pathLst>
                    <a:path w="278" h="526">
                      <a:moveTo>
                        <a:pt x="230" y="0"/>
                      </a:moveTo>
                      <a:lnTo>
                        <a:pt x="169" y="0"/>
                      </a:lnTo>
                      <a:lnTo>
                        <a:pt x="127" y="36"/>
                      </a:lnTo>
                      <a:lnTo>
                        <a:pt x="97" y="91"/>
                      </a:lnTo>
                      <a:lnTo>
                        <a:pt x="48" y="134"/>
                      </a:lnTo>
                      <a:lnTo>
                        <a:pt x="13" y="174"/>
                      </a:lnTo>
                      <a:lnTo>
                        <a:pt x="0" y="212"/>
                      </a:lnTo>
                      <a:lnTo>
                        <a:pt x="13" y="248"/>
                      </a:lnTo>
                      <a:lnTo>
                        <a:pt x="66" y="291"/>
                      </a:lnTo>
                      <a:lnTo>
                        <a:pt x="139" y="326"/>
                      </a:lnTo>
                      <a:lnTo>
                        <a:pt x="195" y="344"/>
                      </a:lnTo>
                      <a:lnTo>
                        <a:pt x="222" y="352"/>
                      </a:lnTo>
                      <a:lnTo>
                        <a:pt x="230" y="374"/>
                      </a:lnTo>
                      <a:lnTo>
                        <a:pt x="205" y="416"/>
                      </a:lnTo>
                      <a:lnTo>
                        <a:pt x="165" y="447"/>
                      </a:lnTo>
                      <a:lnTo>
                        <a:pt x="114" y="469"/>
                      </a:lnTo>
                      <a:lnTo>
                        <a:pt x="84" y="490"/>
                      </a:lnTo>
                      <a:lnTo>
                        <a:pt x="84" y="507"/>
                      </a:lnTo>
                      <a:lnTo>
                        <a:pt x="114" y="526"/>
                      </a:lnTo>
                      <a:lnTo>
                        <a:pt x="195" y="513"/>
                      </a:lnTo>
                      <a:lnTo>
                        <a:pt x="243" y="460"/>
                      </a:lnTo>
                      <a:lnTo>
                        <a:pt x="266" y="392"/>
                      </a:lnTo>
                      <a:lnTo>
                        <a:pt x="278" y="321"/>
                      </a:lnTo>
                      <a:lnTo>
                        <a:pt x="273" y="295"/>
                      </a:lnTo>
                      <a:lnTo>
                        <a:pt x="243" y="303"/>
                      </a:lnTo>
                      <a:lnTo>
                        <a:pt x="222" y="308"/>
                      </a:lnTo>
                      <a:lnTo>
                        <a:pt x="157" y="295"/>
                      </a:lnTo>
                      <a:lnTo>
                        <a:pt x="104" y="265"/>
                      </a:lnTo>
                      <a:lnTo>
                        <a:pt x="48" y="235"/>
                      </a:lnTo>
                      <a:lnTo>
                        <a:pt x="48" y="212"/>
                      </a:lnTo>
                      <a:lnTo>
                        <a:pt x="74" y="182"/>
                      </a:lnTo>
                      <a:lnTo>
                        <a:pt x="135" y="144"/>
                      </a:lnTo>
                      <a:lnTo>
                        <a:pt x="195" y="114"/>
                      </a:lnTo>
                      <a:lnTo>
                        <a:pt x="235" y="79"/>
                      </a:lnTo>
                      <a:lnTo>
                        <a:pt x="23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H="1">
                  <a:off x="5688000" y="4254840"/>
                  <a:ext cx="185760" cy="253440"/>
                </a:xfrm>
                <a:custGeom>
                  <a:avLst/>
                  <a:gdLst/>
                  <a:ahLst/>
                  <a:rect l="l" t="t" r="r" b="b"/>
                  <a:pathLst>
                    <a:path w="416" h="547">
                      <a:moveTo>
                        <a:pt x="380" y="0"/>
                      </a:moveTo>
                      <a:lnTo>
                        <a:pt x="408" y="13"/>
                      </a:lnTo>
                      <a:lnTo>
                        <a:pt x="416" y="58"/>
                      </a:lnTo>
                      <a:lnTo>
                        <a:pt x="397" y="106"/>
                      </a:lnTo>
                      <a:lnTo>
                        <a:pt x="372" y="153"/>
                      </a:lnTo>
                      <a:lnTo>
                        <a:pt x="348" y="199"/>
                      </a:lnTo>
                      <a:lnTo>
                        <a:pt x="314" y="249"/>
                      </a:lnTo>
                      <a:lnTo>
                        <a:pt x="284" y="293"/>
                      </a:lnTo>
                      <a:lnTo>
                        <a:pt x="238" y="350"/>
                      </a:lnTo>
                      <a:lnTo>
                        <a:pt x="178" y="421"/>
                      </a:lnTo>
                      <a:lnTo>
                        <a:pt x="128" y="450"/>
                      </a:lnTo>
                      <a:lnTo>
                        <a:pt x="115" y="478"/>
                      </a:lnTo>
                      <a:lnTo>
                        <a:pt x="133" y="524"/>
                      </a:lnTo>
                      <a:lnTo>
                        <a:pt x="115" y="529"/>
                      </a:lnTo>
                      <a:lnTo>
                        <a:pt x="90" y="486"/>
                      </a:lnTo>
                      <a:lnTo>
                        <a:pt x="77" y="488"/>
                      </a:lnTo>
                      <a:lnTo>
                        <a:pt x="37" y="547"/>
                      </a:lnTo>
                      <a:lnTo>
                        <a:pt x="24" y="529"/>
                      </a:lnTo>
                      <a:lnTo>
                        <a:pt x="53" y="484"/>
                      </a:lnTo>
                      <a:lnTo>
                        <a:pt x="53" y="467"/>
                      </a:lnTo>
                      <a:lnTo>
                        <a:pt x="0" y="459"/>
                      </a:lnTo>
                      <a:lnTo>
                        <a:pt x="2" y="444"/>
                      </a:lnTo>
                      <a:lnTo>
                        <a:pt x="15" y="441"/>
                      </a:lnTo>
                      <a:lnTo>
                        <a:pt x="72" y="450"/>
                      </a:lnTo>
                      <a:lnTo>
                        <a:pt x="85" y="441"/>
                      </a:lnTo>
                      <a:lnTo>
                        <a:pt x="145" y="406"/>
                      </a:lnTo>
                      <a:lnTo>
                        <a:pt x="216" y="340"/>
                      </a:lnTo>
                      <a:lnTo>
                        <a:pt x="284" y="229"/>
                      </a:lnTo>
                      <a:lnTo>
                        <a:pt x="337" y="113"/>
                      </a:lnTo>
                      <a:lnTo>
                        <a:pt x="340" y="53"/>
                      </a:lnTo>
                      <a:lnTo>
                        <a:pt x="357" y="20"/>
                      </a:lnTo>
                      <a:lnTo>
                        <a:pt x="3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" name=""/>
              <p:cNvSpPr/>
              <p:nvPr/>
            </p:nvSpPr>
            <p:spPr>
              <a:xfrm>
                <a:off x="5650560" y="5449680"/>
                <a:ext cx="106452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Tetapk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lternati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encapai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124600" y="4848120"/>
              <a:ext cx="285480" cy="333360"/>
            </a:xfrm>
            <a:prstGeom prst="rightArrow">
              <a:avLst>
                <a:gd name="adj1" fmla="val 55241"/>
                <a:gd name="adj2" fmla="val 51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"/>
          <p:cNvGrpSpPr/>
          <p:nvPr/>
        </p:nvGrpSpPr>
        <p:grpSpPr>
          <a:xfrm>
            <a:off x="1552680" y="2610000"/>
            <a:ext cx="6476760" cy="3867120"/>
            <a:chOff x="1552680" y="2610000"/>
            <a:chExt cx="6476760" cy="3867120"/>
          </a:xfrm>
        </p:grpSpPr>
        <p:sp>
          <p:nvSpPr>
            <p:cNvPr id="432" name=""/>
            <p:cNvSpPr/>
            <p:nvPr/>
          </p:nvSpPr>
          <p:spPr>
            <a:xfrm>
              <a:off x="1552680" y="2610000"/>
              <a:ext cx="6467400" cy="1333440"/>
            </a:xfrm>
            <a:custGeom>
              <a:avLst/>
              <a:gdLst/>
              <a:ahLst/>
              <a:rect l="l" t="t" r="r" b="b"/>
              <a:pathLst>
                <a:path w="4074" h="840">
                  <a:moveTo>
                    <a:pt x="2670" y="6"/>
                  </a:moveTo>
                  <a:lnTo>
                    <a:pt x="4074" y="840"/>
                  </a:lnTo>
                  <a:lnTo>
                    <a:pt x="0" y="840"/>
                  </a:lnTo>
                  <a:lnTo>
                    <a:pt x="1782" y="0"/>
                  </a:lnTo>
                  <a:lnTo>
                    <a:pt x="2670" y="6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e1e1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571760" y="3943440"/>
              <a:ext cx="6457680" cy="253368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06920" y="2879640"/>
              <a:ext cx="790560" cy="542880"/>
            </a:xfrm>
            <a:prstGeom prst="downArrow">
              <a:avLst>
                <a:gd name="adj1" fmla="val 55130"/>
                <a:gd name="adj2" fmla="val 5922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2286000" y="838080"/>
            <a:ext cx="5105520" cy="1600200"/>
          </a:xfrm>
          <a:prstGeom prst="rightArrow">
            <a:avLst>
              <a:gd name="adj1" fmla="val 50000"/>
              <a:gd name="adj2" fmla="val 79764"/>
            </a:avLst>
          </a:prstGeom>
          <a:solidFill>
            <a:srgbClr val="eaeaea"/>
          </a:solidFill>
          <a:ln w="28440">
            <a:solidFill>
              <a:srgbClr val="00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444320" y="982800"/>
            <a:ext cx="1046520" cy="1952280"/>
            <a:chOff x="1444320" y="982800"/>
            <a:chExt cx="1046520" cy="1952280"/>
          </a:xfrm>
        </p:grpSpPr>
        <p:pic>
          <p:nvPicPr>
            <p:cNvPr id="437" name="" descr=""/>
            <p:cNvPicPr/>
            <p:nvPr/>
          </p:nvPicPr>
          <p:blipFill>
            <a:blip r:embed="rId1"/>
            <a:stretch/>
          </p:blipFill>
          <p:spPr>
            <a:xfrm>
              <a:off x="1731960" y="982800"/>
              <a:ext cx="4716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1444320" y="2201760"/>
              <a:ext cx="1046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gaim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encap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ujuan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476440" y="838080"/>
            <a:ext cx="1055880" cy="1790280"/>
            <a:chOff x="2476440" y="838080"/>
            <a:chExt cx="1055880" cy="1790280"/>
          </a:xfrm>
        </p:grpSpPr>
        <p:pic>
          <p:nvPicPr>
            <p:cNvPr id="440" name="" descr=""/>
            <p:cNvPicPr/>
            <p:nvPr/>
          </p:nvPicPr>
          <p:blipFill>
            <a:blip r:embed="rId2"/>
            <a:stretch/>
          </p:blipFill>
          <p:spPr>
            <a:xfrm>
              <a:off x="2476440" y="838080"/>
              <a:ext cx="105588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2559600" y="2108160"/>
              <a:ext cx="839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valuas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634560" y="774720"/>
            <a:ext cx="787320" cy="1828440"/>
            <a:chOff x="3634560" y="774720"/>
            <a:chExt cx="787320" cy="1828440"/>
          </a:xfrm>
        </p:grpSpPr>
        <p:pic>
          <p:nvPicPr>
            <p:cNvPr id="443" name="" descr=""/>
            <p:cNvPicPr/>
            <p:nvPr/>
          </p:nvPicPr>
          <p:blipFill>
            <a:blip r:embed="rId3"/>
            <a:stretch/>
          </p:blipFill>
          <p:spPr>
            <a:xfrm>
              <a:off x="3772080" y="774720"/>
              <a:ext cx="426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3634560" y="2082960"/>
              <a:ext cx="78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a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trateg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5784840" y="1054080"/>
            <a:ext cx="1125720" cy="1586880"/>
            <a:chOff x="5784840" y="1054080"/>
            <a:chExt cx="1125720" cy="1586880"/>
          </a:xfrm>
        </p:grpSpPr>
        <p:pic>
          <p:nvPicPr>
            <p:cNvPr id="446" name="" descr=""/>
            <p:cNvPicPr/>
            <p:nvPr/>
          </p:nvPicPr>
          <p:blipFill>
            <a:blip r:embed="rId4"/>
            <a:stretch/>
          </p:blipFill>
          <p:spPr>
            <a:xfrm>
              <a:off x="5978520" y="1054080"/>
              <a:ext cx="7347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5784840" y="2120760"/>
              <a:ext cx="112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ksanak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nc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7543800" y="800280"/>
            <a:ext cx="1219320" cy="1674000"/>
            <a:chOff x="7543800" y="800280"/>
            <a:chExt cx="1219320" cy="1674000"/>
          </a:xfrm>
        </p:grpSpPr>
        <p:grpSp>
          <p:nvGrpSpPr>
            <p:cNvPr id="449" name=""/>
            <p:cNvGrpSpPr/>
            <p:nvPr/>
          </p:nvGrpSpPr>
          <p:grpSpPr>
            <a:xfrm>
              <a:off x="7543800" y="800280"/>
              <a:ext cx="1219320" cy="1066680"/>
              <a:chOff x="7543800" y="800280"/>
              <a:chExt cx="1219320" cy="1066680"/>
            </a:xfrm>
          </p:grpSpPr>
          <p:grpSp>
            <p:nvGrpSpPr>
              <p:cNvPr id="450" name=""/>
              <p:cNvGrpSpPr/>
              <p:nvPr/>
            </p:nvGrpSpPr>
            <p:grpSpPr>
              <a:xfrm>
                <a:off x="7551720" y="1324080"/>
                <a:ext cx="1211400" cy="241200"/>
                <a:chOff x="7551720" y="1324080"/>
                <a:chExt cx="1211400" cy="2412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7574040" y="1328760"/>
                  <a:ext cx="1174680" cy="231840"/>
                </a:xfrm>
                <a:custGeom>
                  <a:avLst/>
                  <a:gdLst/>
                  <a:ahLst/>
                  <a:rect l="l" t="t" r="r" b="b"/>
                  <a:pathLst>
                    <a:path w="2961" h="436">
                      <a:moveTo>
                        <a:pt x="1809" y="54"/>
                      </a:moveTo>
                      <a:lnTo>
                        <a:pt x="1947" y="116"/>
                      </a:lnTo>
                      <a:lnTo>
                        <a:pt x="2048" y="157"/>
                      </a:lnTo>
                      <a:lnTo>
                        <a:pt x="2119" y="171"/>
                      </a:lnTo>
                      <a:lnTo>
                        <a:pt x="2223" y="174"/>
                      </a:lnTo>
                      <a:lnTo>
                        <a:pt x="2335" y="164"/>
                      </a:lnTo>
                      <a:lnTo>
                        <a:pt x="2420" y="146"/>
                      </a:lnTo>
                      <a:lnTo>
                        <a:pt x="2499" y="131"/>
                      </a:lnTo>
                      <a:lnTo>
                        <a:pt x="2590" y="107"/>
                      </a:lnTo>
                      <a:lnTo>
                        <a:pt x="2675" y="84"/>
                      </a:lnTo>
                      <a:lnTo>
                        <a:pt x="2740" y="80"/>
                      </a:lnTo>
                      <a:lnTo>
                        <a:pt x="2809" y="86"/>
                      </a:lnTo>
                      <a:lnTo>
                        <a:pt x="2885" y="113"/>
                      </a:lnTo>
                      <a:lnTo>
                        <a:pt x="2961" y="149"/>
                      </a:lnTo>
                      <a:lnTo>
                        <a:pt x="2939" y="161"/>
                      </a:lnTo>
                      <a:lnTo>
                        <a:pt x="2863" y="157"/>
                      </a:lnTo>
                      <a:lnTo>
                        <a:pt x="2757" y="153"/>
                      </a:lnTo>
                      <a:lnTo>
                        <a:pt x="2686" y="163"/>
                      </a:lnTo>
                      <a:lnTo>
                        <a:pt x="2584" y="189"/>
                      </a:lnTo>
                      <a:lnTo>
                        <a:pt x="2469" y="223"/>
                      </a:lnTo>
                      <a:lnTo>
                        <a:pt x="2385" y="250"/>
                      </a:lnTo>
                      <a:lnTo>
                        <a:pt x="2304" y="273"/>
                      </a:lnTo>
                      <a:lnTo>
                        <a:pt x="2211" y="277"/>
                      </a:lnTo>
                      <a:lnTo>
                        <a:pt x="2076" y="280"/>
                      </a:lnTo>
                      <a:lnTo>
                        <a:pt x="1980" y="274"/>
                      </a:lnTo>
                      <a:lnTo>
                        <a:pt x="1896" y="263"/>
                      </a:lnTo>
                      <a:lnTo>
                        <a:pt x="1813" y="240"/>
                      </a:lnTo>
                      <a:lnTo>
                        <a:pt x="1736" y="209"/>
                      </a:lnTo>
                      <a:lnTo>
                        <a:pt x="1655" y="186"/>
                      </a:lnTo>
                      <a:lnTo>
                        <a:pt x="1563" y="167"/>
                      </a:lnTo>
                      <a:lnTo>
                        <a:pt x="1475" y="156"/>
                      </a:lnTo>
                      <a:lnTo>
                        <a:pt x="1366" y="151"/>
                      </a:lnTo>
                      <a:lnTo>
                        <a:pt x="1264" y="153"/>
                      </a:lnTo>
                      <a:lnTo>
                        <a:pt x="1186" y="153"/>
                      </a:lnTo>
                      <a:lnTo>
                        <a:pt x="1099" y="167"/>
                      </a:lnTo>
                      <a:lnTo>
                        <a:pt x="1008" y="189"/>
                      </a:lnTo>
                      <a:lnTo>
                        <a:pt x="913" y="216"/>
                      </a:lnTo>
                      <a:lnTo>
                        <a:pt x="843" y="243"/>
                      </a:lnTo>
                      <a:lnTo>
                        <a:pt x="728" y="276"/>
                      </a:lnTo>
                      <a:lnTo>
                        <a:pt x="627" y="313"/>
                      </a:lnTo>
                      <a:lnTo>
                        <a:pt x="539" y="359"/>
                      </a:lnTo>
                      <a:lnTo>
                        <a:pt x="472" y="397"/>
                      </a:lnTo>
                      <a:lnTo>
                        <a:pt x="418" y="420"/>
                      </a:lnTo>
                      <a:lnTo>
                        <a:pt x="412" y="422"/>
                      </a:lnTo>
                      <a:lnTo>
                        <a:pt x="354" y="432"/>
                      </a:lnTo>
                      <a:lnTo>
                        <a:pt x="348" y="434"/>
                      </a:lnTo>
                      <a:lnTo>
                        <a:pt x="270" y="436"/>
                      </a:lnTo>
                      <a:lnTo>
                        <a:pt x="190" y="434"/>
                      </a:lnTo>
                      <a:lnTo>
                        <a:pt x="123" y="427"/>
                      </a:lnTo>
                      <a:lnTo>
                        <a:pt x="74" y="416"/>
                      </a:lnTo>
                      <a:lnTo>
                        <a:pt x="27" y="392"/>
                      </a:lnTo>
                      <a:lnTo>
                        <a:pt x="22" y="392"/>
                      </a:lnTo>
                      <a:lnTo>
                        <a:pt x="0" y="374"/>
                      </a:lnTo>
                      <a:lnTo>
                        <a:pt x="69" y="374"/>
                      </a:lnTo>
                      <a:lnTo>
                        <a:pt x="156" y="360"/>
                      </a:lnTo>
                      <a:lnTo>
                        <a:pt x="237" y="340"/>
                      </a:lnTo>
                      <a:lnTo>
                        <a:pt x="301" y="320"/>
                      </a:lnTo>
                      <a:lnTo>
                        <a:pt x="379" y="294"/>
                      </a:lnTo>
                      <a:lnTo>
                        <a:pt x="469" y="256"/>
                      </a:lnTo>
                      <a:lnTo>
                        <a:pt x="571" y="206"/>
                      </a:lnTo>
                      <a:lnTo>
                        <a:pt x="645" y="173"/>
                      </a:lnTo>
                      <a:lnTo>
                        <a:pt x="722" y="143"/>
                      </a:lnTo>
                      <a:lnTo>
                        <a:pt x="816" y="113"/>
                      </a:lnTo>
                      <a:lnTo>
                        <a:pt x="925" y="80"/>
                      </a:lnTo>
                      <a:lnTo>
                        <a:pt x="1015" y="54"/>
                      </a:lnTo>
                      <a:lnTo>
                        <a:pt x="1083" y="37"/>
                      </a:lnTo>
                      <a:lnTo>
                        <a:pt x="1171" y="21"/>
                      </a:lnTo>
                      <a:lnTo>
                        <a:pt x="1274" y="11"/>
                      </a:lnTo>
                      <a:lnTo>
                        <a:pt x="1345" y="1"/>
                      </a:lnTo>
                      <a:lnTo>
                        <a:pt x="1442" y="0"/>
                      </a:lnTo>
                      <a:lnTo>
                        <a:pt x="1537" y="1"/>
                      </a:lnTo>
                      <a:lnTo>
                        <a:pt x="1604" y="10"/>
                      </a:lnTo>
                      <a:lnTo>
                        <a:pt x="1684" y="20"/>
                      </a:lnTo>
                      <a:lnTo>
                        <a:pt x="1749" y="34"/>
                      </a:lnTo>
                      <a:lnTo>
                        <a:pt x="1809" y="54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551720" y="1324080"/>
                  <a:ext cx="1211400" cy="214200"/>
                </a:xfrm>
                <a:custGeom>
                  <a:avLst/>
                  <a:gdLst/>
                  <a:ahLst/>
                  <a:rect l="l" t="t" r="r" b="b"/>
                  <a:pathLst>
                    <a:path w="3050" h="406">
                      <a:moveTo>
                        <a:pt x="2925" y="131"/>
                      </a:moveTo>
                      <a:lnTo>
                        <a:pt x="2850" y="106"/>
                      </a:lnTo>
                      <a:lnTo>
                        <a:pt x="2780" y="103"/>
                      </a:lnTo>
                      <a:lnTo>
                        <a:pt x="2710" y="111"/>
                      </a:lnTo>
                      <a:lnTo>
                        <a:pt x="2648" y="130"/>
                      </a:lnTo>
                      <a:lnTo>
                        <a:pt x="2558" y="151"/>
                      </a:lnTo>
                      <a:lnTo>
                        <a:pt x="2497" y="166"/>
                      </a:lnTo>
                      <a:lnTo>
                        <a:pt x="2433" y="177"/>
                      </a:lnTo>
                      <a:lnTo>
                        <a:pt x="2366" y="193"/>
                      </a:lnTo>
                      <a:lnTo>
                        <a:pt x="2311" y="197"/>
                      </a:lnTo>
                      <a:lnTo>
                        <a:pt x="2261" y="199"/>
                      </a:lnTo>
                      <a:lnTo>
                        <a:pt x="2201" y="199"/>
                      </a:lnTo>
                      <a:lnTo>
                        <a:pt x="2140" y="194"/>
                      </a:lnTo>
                      <a:lnTo>
                        <a:pt x="2095" y="184"/>
                      </a:lnTo>
                      <a:lnTo>
                        <a:pt x="2042" y="161"/>
                      </a:lnTo>
                      <a:lnTo>
                        <a:pt x="1981" y="130"/>
                      </a:lnTo>
                      <a:lnTo>
                        <a:pt x="1918" y="101"/>
                      </a:lnTo>
                      <a:lnTo>
                        <a:pt x="1863" y="80"/>
                      </a:lnTo>
                      <a:lnTo>
                        <a:pt x="1793" y="54"/>
                      </a:lnTo>
                      <a:lnTo>
                        <a:pt x="1704" y="36"/>
                      </a:lnTo>
                      <a:lnTo>
                        <a:pt x="1633" y="27"/>
                      </a:lnTo>
                      <a:lnTo>
                        <a:pt x="1536" y="21"/>
                      </a:lnTo>
                      <a:lnTo>
                        <a:pt x="1449" y="21"/>
                      </a:lnTo>
                      <a:lnTo>
                        <a:pt x="1355" y="27"/>
                      </a:lnTo>
                      <a:lnTo>
                        <a:pt x="1268" y="37"/>
                      </a:lnTo>
                      <a:lnTo>
                        <a:pt x="1184" y="54"/>
                      </a:lnTo>
                      <a:lnTo>
                        <a:pt x="1070" y="77"/>
                      </a:lnTo>
                      <a:lnTo>
                        <a:pt x="944" y="113"/>
                      </a:lnTo>
                      <a:lnTo>
                        <a:pt x="827" y="147"/>
                      </a:lnTo>
                      <a:lnTo>
                        <a:pt x="708" y="191"/>
                      </a:lnTo>
                      <a:lnTo>
                        <a:pt x="618" y="230"/>
                      </a:lnTo>
                      <a:lnTo>
                        <a:pt x="614" y="233"/>
                      </a:lnTo>
                      <a:lnTo>
                        <a:pt x="539" y="269"/>
                      </a:lnTo>
                      <a:lnTo>
                        <a:pt x="482" y="297"/>
                      </a:lnTo>
                      <a:lnTo>
                        <a:pt x="419" y="326"/>
                      </a:lnTo>
                      <a:lnTo>
                        <a:pt x="354" y="350"/>
                      </a:lnTo>
                      <a:lnTo>
                        <a:pt x="283" y="367"/>
                      </a:lnTo>
                      <a:lnTo>
                        <a:pt x="278" y="370"/>
                      </a:lnTo>
                      <a:lnTo>
                        <a:pt x="220" y="387"/>
                      </a:lnTo>
                      <a:lnTo>
                        <a:pt x="216" y="389"/>
                      </a:lnTo>
                      <a:lnTo>
                        <a:pt x="155" y="397"/>
                      </a:lnTo>
                      <a:lnTo>
                        <a:pt x="91" y="404"/>
                      </a:lnTo>
                      <a:lnTo>
                        <a:pt x="86" y="406"/>
                      </a:lnTo>
                      <a:lnTo>
                        <a:pt x="62" y="404"/>
                      </a:lnTo>
                      <a:lnTo>
                        <a:pt x="28" y="390"/>
                      </a:lnTo>
                      <a:lnTo>
                        <a:pt x="0" y="376"/>
                      </a:lnTo>
                      <a:lnTo>
                        <a:pt x="7" y="367"/>
                      </a:lnTo>
                      <a:lnTo>
                        <a:pt x="24" y="366"/>
                      </a:lnTo>
                      <a:lnTo>
                        <a:pt x="74" y="369"/>
                      </a:lnTo>
                      <a:lnTo>
                        <a:pt x="138" y="369"/>
                      </a:lnTo>
                      <a:lnTo>
                        <a:pt x="189" y="363"/>
                      </a:lnTo>
                      <a:lnTo>
                        <a:pt x="250" y="347"/>
                      </a:lnTo>
                      <a:lnTo>
                        <a:pt x="332" y="327"/>
                      </a:lnTo>
                      <a:lnTo>
                        <a:pt x="388" y="307"/>
                      </a:lnTo>
                      <a:lnTo>
                        <a:pt x="456" y="276"/>
                      </a:lnTo>
                      <a:lnTo>
                        <a:pt x="530" y="243"/>
                      </a:lnTo>
                      <a:lnTo>
                        <a:pt x="595" y="211"/>
                      </a:lnTo>
                      <a:lnTo>
                        <a:pt x="678" y="174"/>
                      </a:lnTo>
                      <a:lnTo>
                        <a:pt x="752" y="147"/>
                      </a:lnTo>
                      <a:lnTo>
                        <a:pt x="820" y="124"/>
                      </a:lnTo>
                      <a:lnTo>
                        <a:pt x="897" y="101"/>
                      </a:lnTo>
                      <a:lnTo>
                        <a:pt x="967" y="80"/>
                      </a:lnTo>
                      <a:lnTo>
                        <a:pt x="1056" y="54"/>
                      </a:lnTo>
                      <a:lnTo>
                        <a:pt x="1133" y="37"/>
                      </a:lnTo>
                      <a:lnTo>
                        <a:pt x="1193" y="26"/>
                      </a:lnTo>
                      <a:lnTo>
                        <a:pt x="1275" y="13"/>
                      </a:lnTo>
                      <a:lnTo>
                        <a:pt x="1372" y="3"/>
                      </a:lnTo>
                      <a:lnTo>
                        <a:pt x="1452" y="0"/>
                      </a:lnTo>
                      <a:lnTo>
                        <a:pt x="1549" y="0"/>
                      </a:lnTo>
                      <a:lnTo>
                        <a:pt x="1655" y="4"/>
                      </a:lnTo>
                      <a:lnTo>
                        <a:pt x="1715" y="14"/>
                      </a:lnTo>
                      <a:lnTo>
                        <a:pt x="1775" y="26"/>
                      </a:lnTo>
                      <a:lnTo>
                        <a:pt x="1836" y="46"/>
                      </a:lnTo>
                      <a:lnTo>
                        <a:pt x="1893" y="64"/>
                      </a:lnTo>
                      <a:lnTo>
                        <a:pt x="1951" y="86"/>
                      </a:lnTo>
                      <a:lnTo>
                        <a:pt x="2002" y="111"/>
                      </a:lnTo>
                      <a:lnTo>
                        <a:pt x="2058" y="136"/>
                      </a:lnTo>
                      <a:lnTo>
                        <a:pt x="2106" y="154"/>
                      </a:lnTo>
                      <a:lnTo>
                        <a:pt x="2146" y="166"/>
                      </a:lnTo>
                      <a:lnTo>
                        <a:pt x="2189" y="173"/>
                      </a:lnTo>
                      <a:lnTo>
                        <a:pt x="2260" y="171"/>
                      </a:lnTo>
                      <a:lnTo>
                        <a:pt x="2324" y="169"/>
                      </a:lnTo>
                      <a:lnTo>
                        <a:pt x="2385" y="161"/>
                      </a:lnTo>
                      <a:lnTo>
                        <a:pt x="2435" y="149"/>
                      </a:lnTo>
                      <a:lnTo>
                        <a:pt x="2523" y="134"/>
                      </a:lnTo>
                      <a:lnTo>
                        <a:pt x="2592" y="116"/>
                      </a:lnTo>
                      <a:lnTo>
                        <a:pt x="2675" y="96"/>
                      </a:lnTo>
                      <a:lnTo>
                        <a:pt x="2733" y="80"/>
                      </a:lnTo>
                      <a:lnTo>
                        <a:pt x="2786" y="76"/>
                      </a:lnTo>
                      <a:lnTo>
                        <a:pt x="2833" y="76"/>
                      </a:lnTo>
                      <a:lnTo>
                        <a:pt x="2858" y="81"/>
                      </a:lnTo>
                      <a:lnTo>
                        <a:pt x="2922" y="100"/>
                      </a:lnTo>
                      <a:lnTo>
                        <a:pt x="2988" y="127"/>
                      </a:lnTo>
                      <a:lnTo>
                        <a:pt x="3032" y="149"/>
                      </a:lnTo>
                      <a:lnTo>
                        <a:pt x="3050" y="157"/>
                      </a:lnTo>
                      <a:lnTo>
                        <a:pt x="3045" y="163"/>
                      </a:lnTo>
                      <a:lnTo>
                        <a:pt x="3029" y="167"/>
                      </a:lnTo>
                      <a:lnTo>
                        <a:pt x="2995" y="163"/>
                      </a:lnTo>
                      <a:lnTo>
                        <a:pt x="2951" y="144"/>
                      </a:lnTo>
                      <a:lnTo>
                        <a:pt x="2925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7559640" y="1401840"/>
                  <a:ext cx="1201680" cy="163440"/>
                </a:xfrm>
                <a:custGeom>
                  <a:avLst/>
                  <a:gdLst/>
                  <a:ahLst/>
                  <a:rect l="l" t="t" r="r" b="b"/>
                  <a:pathLst>
                    <a:path w="3026" h="311">
                      <a:moveTo>
                        <a:pt x="2982" y="15"/>
                      </a:moveTo>
                      <a:lnTo>
                        <a:pt x="2938" y="15"/>
                      </a:lnTo>
                      <a:lnTo>
                        <a:pt x="2883" y="8"/>
                      </a:lnTo>
                      <a:lnTo>
                        <a:pt x="2820" y="0"/>
                      </a:lnTo>
                      <a:lnTo>
                        <a:pt x="2765" y="3"/>
                      </a:lnTo>
                      <a:lnTo>
                        <a:pt x="2698" y="17"/>
                      </a:lnTo>
                      <a:lnTo>
                        <a:pt x="2614" y="41"/>
                      </a:lnTo>
                      <a:lnTo>
                        <a:pt x="2543" y="63"/>
                      </a:lnTo>
                      <a:lnTo>
                        <a:pt x="2475" y="83"/>
                      </a:lnTo>
                      <a:lnTo>
                        <a:pt x="2412" y="101"/>
                      </a:lnTo>
                      <a:lnTo>
                        <a:pt x="2358" y="113"/>
                      </a:lnTo>
                      <a:lnTo>
                        <a:pt x="2354" y="113"/>
                      </a:lnTo>
                      <a:lnTo>
                        <a:pt x="2291" y="123"/>
                      </a:lnTo>
                      <a:lnTo>
                        <a:pt x="2222" y="124"/>
                      </a:lnTo>
                      <a:lnTo>
                        <a:pt x="2148" y="128"/>
                      </a:lnTo>
                      <a:lnTo>
                        <a:pt x="2143" y="128"/>
                      </a:lnTo>
                      <a:lnTo>
                        <a:pt x="2047" y="127"/>
                      </a:lnTo>
                      <a:lnTo>
                        <a:pt x="1956" y="117"/>
                      </a:lnTo>
                      <a:lnTo>
                        <a:pt x="1914" y="110"/>
                      </a:lnTo>
                      <a:lnTo>
                        <a:pt x="1856" y="91"/>
                      </a:lnTo>
                      <a:lnTo>
                        <a:pt x="1796" y="67"/>
                      </a:lnTo>
                      <a:lnTo>
                        <a:pt x="1732" y="45"/>
                      </a:lnTo>
                      <a:lnTo>
                        <a:pt x="1674" y="30"/>
                      </a:lnTo>
                      <a:lnTo>
                        <a:pt x="1617" y="20"/>
                      </a:lnTo>
                      <a:lnTo>
                        <a:pt x="1529" y="8"/>
                      </a:lnTo>
                      <a:lnTo>
                        <a:pt x="1434" y="3"/>
                      </a:lnTo>
                      <a:lnTo>
                        <a:pt x="1341" y="0"/>
                      </a:lnTo>
                      <a:lnTo>
                        <a:pt x="1246" y="0"/>
                      </a:lnTo>
                      <a:lnTo>
                        <a:pt x="1189" y="7"/>
                      </a:lnTo>
                      <a:lnTo>
                        <a:pt x="1116" y="20"/>
                      </a:lnTo>
                      <a:lnTo>
                        <a:pt x="1052" y="37"/>
                      </a:lnTo>
                      <a:lnTo>
                        <a:pt x="975" y="58"/>
                      </a:lnTo>
                      <a:lnTo>
                        <a:pt x="899" y="83"/>
                      </a:lnTo>
                      <a:lnTo>
                        <a:pt x="823" y="108"/>
                      </a:lnTo>
                      <a:lnTo>
                        <a:pt x="738" y="133"/>
                      </a:lnTo>
                      <a:lnTo>
                        <a:pt x="668" y="161"/>
                      </a:lnTo>
                      <a:lnTo>
                        <a:pt x="611" y="190"/>
                      </a:lnTo>
                      <a:lnTo>
                        <a:pt x="550" y="221"/>
                      </a:lnTo>
                      <a:lnTo>
                        <a:pt x="498" y="251"/>
                      </a:lnTo>
                      <a:lnTo>
                        <a:pt x="456" y="266"/>
                      </a:lnTo>
                      <a:lnTo>
                        <a:pt x="398" y="280"/>
                      </a:lnTo>
                      <a:lnTo>
                        <a:pt x="350" y="286"/>
                      </a:lnTo>
                      <a:lnTo>
                        <a:pt x="343" y="284"/>
                      </a:lnTo>
                      <a:lnTo>
                        <a:pt x="284" y="288"/>
                      </a:lnTo>
                      <a:lnTo>
                        <a:pt x="215" y="283"/>
                      </a:lnTo>
                      <a:lnTo>
                        <a:pt x="148" y="274"/>
                      </a:lnTo>
                      <a:lnTo>
                        <a:pt x="107" y="263"/>
                      </a:lnTo>
                      <a:lnTo>
                        <a:pt x="80" y="244"/>
                      </a:lnTo>
                      <a:lnTo>
                        <a:pt x="0" y="233"/>
                      </a:lnTo>
                      <a:lnTo>
                        <a:pt x="6" y="244"/>
                      </a:lnTo>
                      <a:lnTo>
                        <a:pt x="43" y="268"/>
                      </a:lnTo>
                      <a:lnTo>
                        <a:pt x="82" y="288"/>
                      </a:lnTo>
                      <a:lnTo>
                        <a:pt x="125" y="298"/>
                      </a:lnTo>
                      <a:lnTo>
                        <a:pt x="176" y="306"/>
                      </a:lnTo>
                      <a:lnTo>
                        <a:pt x="235" y="310"/>
                      </a:lnTo>
                      <a:lnTo>
                        <a:pt x="303" y="311"/>
                      </a:lnTo>
                      <a:lnTo>
                        <a:pt x="348" y="310"/>
                      </a:lnTo>
                      <a:lnTo>
                        <a:pt x="417" y="304"/>
                      </a:lnTo>
                      <a:lnTo>
                        <a:pt x="475" y="293"/>
                      </a:lnTo>
                      <a:lnTo>
                        <a:pt x="535" y="266"/>
                      </a:lnTo>
                      <a:lnTo>
                        <a:pt x="579" y="238"/>
                      </a:lnTo>
                      <a:lnTo>
                        <a:pt x="643" y="207"/>
                      </a:lnTo>
                      <a:lnTo>
                        <a:pt x="714" y="173"/>
                      </a:lnTo>
                      <a:lnTo>
                        <a:pt x="775" y="151"/>
                      </a:lnTo>
                      <a:lnTo>
                        <a:pt x="839" y="133"/>
                      </a:lnTo>
                      <a:lnTo>
                        <a:pt x="914" y="107"/>
                      </a:lnTo>
                      <a:lnTo>
                        <a:pt x="998" y="80"/>
                      </a:lnTo>
                      <a:lnTo>
                        <a:pt x="1074" y="60"/>
                      </a:lnTo>
                      <a:lnTo>
                        <a:pt x="1139" y="45"/>
                      </a:lnTo>
                      <a:lnTo>
                        <a:pt x="1190" y="37"/>
                      </a:lnTo>
                      <a:lnTo>
                        <a:pt x="1246" y="30"/>
                      </a:lnTo>
                      <a:lnTo>
                        <a:pt x="1315" y="27"/>
                      </a:lnTo>
                      <a:lnTo>
                        <a:pt x="1415" y="30"/>
                      </a:lnTo>
                      <a:lnTo>
                        <a:pt x="1506" y="37"/>
                      </a:lnTo>
                      <a:lnTo>
                        <a:pt x="1597" y="45"/>
                      </a:lnTo>
                      <a:lnTo>
                        <a:pt x="1673" y="60"/>
                      </a:lnTo>
                      <a:lnTo>
                        <a:pt x="1738" y="77"/>
                      </a:lnTo>
                      <a:lnTo>
                        <a:pt x="1799" y="98"/>
                      </a:lnTo>
                      <a:lnTo>
                        <a:pt x="1856" y="120"/>
                      </a:lnTo>
                      <a:lnTo>
                        <a:pt x="1912" y="137"/>
                      </a:lnTo>
                      <a:lnTo>
                        <a:pt x="1973" y="144"/>
                      </a:lnTo>
                      <a:lnTo>
                        <a:pt x="2040" y="154"/>
                      </a:lnTo>
                      <a:lnTo>
                        <a:pt x="2099" y="158"/>
                      </a:lnTo>
                      <a:lnTo>
                        <a:pt x="2163" y="158"/>
                      </a:lnTo>
                      <a:lnTo>
                        <a:pt x="2239" y="154"/>
                      </a:lnTo>
                      <a:lnTo>
                        <a:pt x="2304" y="150"/>
                      </a:lnTo>
                      <a:lnTo>
                        <a:pt x="2372" y="143"/>
                      </a:lnTo>
                      <a:lnTo>
                        <a:pt x="2432" y="128"/>
                      </a:lnTo>
                      <a:lnTo>
                        <a:pt x="2490" y="108"/>
                      </a:lnTo>
                      <a:lnTo>
                        <a:pt x="2530" y="93"/>
                      </a:lnTo>
                      <a:lnTo>
                        <a:pt x="2596" y="71"/>
                      </a:lnTo>
                      <a:lnTo>
                        <a:pt x="2660" y="55"/>
                      </a:lnTo>
                      <a:lnTo>
                        <a:pt x="2719" y="38"/>
                      </a:lnTo>
                      <a:lnTo>
                        <a:pt x="2768" y="30"/>
                      </a:lnTo>
                      <a:lnTo>
                        <a:pt x="2805" y="27"/>
                      </a:lnTo>
                      <a:lnTo>
                        <a:pt x="2847" y="28"/>
                      </a:lnTo>
                      <a:lnTo>
                        <a:pt x="2900" y="33"/>
                      </a:lnTo>
                      <a:lnTo>
                        <a:pt x="2945" y="38"/>
                      </a:lnTo>
                      <a:lnTo>
                        <a:pt x="2984" y="40"/>
                      </a:lnTo>
                      <a:lnTo>
                        <a:pt x="3005" y="31"/>
                      </a:lnTo>
                      <a:lnTo>
                        <a:pt x="3024" y="23"/>
                      </a:lnTo>
                      <a:lnTo>
                        <a:pt x="3026" y="13"/>
                      </a:lnTo>
                      <a:lnTo>
                        <a:pt x="3014" y="10"/>
                      </a:lnTo>
                      <a:lnTo>
                        <a:pt x="2982" y="1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7729560" y="800280"/>
                <a:ext cx="622440" cy="1066680"/>
                <a:chOff x="7729560" y="800280"/>
                <a:chExt cx="622440" cy="106668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7988400" y="903240"/>
                  <a:ext cx="150840" cy="185760"/>
                </a:xfrm>
                <a:custGeom>
                  <a:avLst/>
                  <a:gdLst/>
                  <a:ahLst/>
                  <a:rect l="l" t="t" r="r" b="b"/>
                  <a:pathLst>
                    <a:path w="380" h="350">
                      <a:moveTo>
                        <a:pt x="295" y="183"/>
                      </a:moveTo>
                      <a:lnTo>
                        <a:pt x="276" y="122"/>
                      </a:lnTo>
                      <a:lnTo>
                        <a:pt x="258" y="90"/>
                      </a:lnTo>
                      <a:lnTo>
                        <a:pt x="239" y="64"/>
                      </a:lnTo>
                      <a:lnTo>
                        <a:pt x="216" y="37"/>
                      </a:lnTo>
                      <a:lnTo>
                        <a:pt x="191" y="19"/>
                      </a:lnTo>
                      <a:lnTo>
                        <a:pt x="167" y="6"/>
                      </a:lnTo>
                      <a:lnTo>
                        <a:pt x="140" y="0"/>
                      </a:lnTo>
                      <a:lnTo>
                        <a:pt x="108" y="0"/>
                      </a:lnTo>
                      <a:lnTo>
                        <a:pt x="74" y="9"/>
                      </a:lnTo>
                      <a:lnTo>
                        <a:pt x="49" y="24"/>
                      </a:lnTo>
                      <a:lnTo>
                        <a:pt x="27" y="49"/>
                      </a:lnTo>
                      <a:lnTo>
                        <a:pt x="10" y="79"/>
                      </a:lnTo>
                      <a:lnTo>
                        <a:pt x="0" y="114"/>
                      </a:lnTo>
                      <a:lnTo>
                        <a:pt x="0" y="149"/>
                      </a:lnTo>
                      <a:lnTo>
                        <a:pt x="7" y="183"/>
                      </a:lnTo>
                      <a:lnTo>
                        <a:pt x="24" y="230"/>
                      </a:lnTo>
                      <a:lnTo>
                        <a:pt x="49" y="267"/>
                      </a:lnTo>
                      <a:lnTo>
                        <a:pt x="76" y="296"/>
                      </a:lnTo>
                      <a:lnTo>
                        <a:pt x="113" y="322"/>
                      </a:lnTo>
                      <a:lnTo>
                        <a:pt x="144" y="339"/>
                      </a:lnTo>
                      <a:lnTo>
                        <a:pt x="177" y="347"/>
                      </a:lnTo>
                      <a:lnTo>
                        <a:pt x="208" y="350"/>
                      </a:lnTo>
                      <a:lnTo>
                        <a:pt x="231" y="345"/>
                      </a:lnTo>
                      <a:lnTo>
                        <a:pt x="253" y="332"/>
                      </a:lnTo>
                      <a:lnTo>
                        <a:pt x="270" y="317"/>
                      </a:lnTo>
                      <a:lnTo>
                        <a:pt x="279" y="297"/>
                      </a:lnTo>
                      <a:lnTo>
                        <a:pt x="282" y="272"/>
                      </a:lnTo>
                      <a:lnTo>
                        <a:pt x="285" y="239"/>
                      </a:lnTo>
                      <a:lnTo>
                        <a:pt x="326" y="259"/>
                      </a:lnTo>
                      <a:lnTo>
                        <a:pt x="363" y="266"/>
                      </a:lnTo>
                      <a:lnTo>
                        <a:pt x="380" y="257"/>
                      </a:lnTo>
                      <a:lnTo>
                        <a:pt x="378" y="239"/>
                      </a:lnTo>
                      <a:lnTo>
                        <a:pt x="370" y="220"/>
                      </a:lnTo>
                      <a:lnTo>
                        <a:pt x="348" y="207"/>
                      </a:lnTo>
                      <a:lnTo>
                        <a:pt x="319" y="200"/>
                      </a:lnTo>
                      <a:lnTo>
                        <a:pt x="297" y="190"/>
                      </a:lnTo>
                      <a:lnTo>
                        <a:pt x="295" y="1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047080" y="1141560"/>
                  <a:ext cx="164880" cy="403200"/>
                </a:xfrm>
                <a:custGeom>
                  <a:avLst/>
                  <a:gdLst/>
                  <a:ahLst/>
                  <a:rect l="l" t="t" r="r" b="b"/>
                  <a:pathLst>
                    <a:path w="415" h="760">
                      <a:moveTo>
                        <a:pt x="15" y="55"/>
                      </a:moveTo>
                      <a:lnTo>
                        <a:pt x="32" y="30"/>
                      </a:lnTo>
                      <a:lnTo>
                        <a:pt x="54" y="12"/>
                      </a:lnTo>
                      <a:lnTo>
                        <a:pt x="82" y="0"/>
                      </a:lnTo>
                      <a:lnTo>
                        <a:pt x="119" y="0"/>
                      </a:lnTo>
                      <a:lnTo>
                        <a:pt x="155" y="0"/>
                      </a:lnTo>
                      <a:lnTo>
                        <a:pt x="191" y="9"/>
                      </a:lnTo>
                      <a:lnTo>
                        <a:pt x="226" y="26"/>
                      </a:lnTo>
                      <a:lnTo>
                        <a:pt x="256" y="53"/>
                      </a:lnTo>
                      <a:lnTo>
                        <a:pt x="289" y="90"/>
                      </a:lnTo>
                      <a:lnTo>
                        <a:pt x="317" y="135"/>
                      </a:lnTo>
                      <a:lnTo>
                        <a:pt x="340" y="178"/>
                      </a:lnTo>
                      <a:lnTo>
                        <a:pt x="361" y="225"/>
                      </a:lnTo>
                      <a:lnTo>
                        <a:pt x="374" y="274"/>
                      </a:lnTo>
                      <a:lnTo>
                        <a:pt x="384" y="318"/>
                      </a:lnTo>
                      <a:lnTo>
                        <a:pt x="398" y="368"/>
                      </a:lnTo>
                      <a:lnTo>
                        <a:pt x="408" y="417"/>
                      </a:lnTo>
                      <a:lnTo>
                        <a:pt x="413" y="467"/>
                      </a:lnTo>
                      <a:lnTo>
                        <a:pt x="415" y="515"/>
                      </a:lnTo>
                      <a:lnTo>
                        <a:pt x="415" y="560"/>
                      </a:lnTo>
                      <a:lnTo>
                        <a:pt x="408" y="604"/>
                      </a:lnTo>
                      <a:lnTo>
                        <a:pt x="400" y="644"/>
                      </a:lnTo>
                      <a:lnTo>
                        <a:pt x="384" y="678"/>
                      </a:lnTo>
                      <a:lnTo>
                        <a:pt x="366" y="703"/>
                      </a:lnTo>
                      <a:lnTo>
                        <a:pt x="344" y="723"/>
                      </a:lnTo>
                      <a:lnTo>
                        <a:pt x="319" y="740"/>
                      </a:lnTo>
                      <a:lnTo>
                        <a:pt x="287" y="751"/>
                      </a:lnTo>
                      <a:lnTo>
                        <a:pt x="253" y="760"/>
                      </a:lnTo>
                      <a:lnTo>
                        <a:pt x="219" y="760"/>
                      </a:lnTo>
                      <a:lnTo>
                        <a:pt x="187" y="756"/>
                      </a:lnTo>
                      <a:lnTo>
                        <a:pt x="158" y="748"/>
                      </a:lnTo>
                      <a:lnTo>
                        <a:pt x="138" y="738"/>
                      </a:lnTo>
                      <a:lnTo>
                        <a:pt x="121" y="721"/>
                      </a:lnTo>
                      <a:lnTo>
                        <a:pt x="112" y="700"/>
                      </a:lnTo>
                      <a:lnTo>
                        <a:pt x="102" y="670"/>
                      </a:lnTo>
                      <a:lnTo>
                        <a:pt x="99" y="644"/>
                      </a:lnTo>
                      <a:lnTo>
                        <a:pt x="101" y="603"/>
                      </a:lnTo>
                      <a:lnTo>
                        <a:pt x="106" y="571"/>
                      </a:lnTo>
                      <a:lnTo>
                        <a:pt x="118" y="541"/>
                      </a:lnTo>
                      <a:lnTo>
                        <a:pt x="129" y="511"/>
                      </a:lnTo>
                      <a:lnTo>
                        <a:pt x="133" y="478"/>
                      </a:lnTo>
                      <a:lnTo>
                        <a:pt x="135" y="440"/>
                      </a:lnTo>
                      <a:lnTo>
                        <a:pt x="126" y="397"/>
                      </a:lnTo>
                      <a:lnTo>
                        <a:pt x="105" y="355"/>
                      </a:lnTo>
                      <a:lnTo>
                        <a:pt x="78" y="315"/>
                      </a:lnTo>
                      <a:lnTo>
                        <a:pt x="44" y="280"/>
                      </a:lnTo>
                      <a:lnTo>
                        <a:pt x="25" y="250"/>
                      </a:lnTo>
                      <a:lnTo>
                        <a:pt x="10" y="212"/>
                      </a:lnTo>
                      <a:lnTo>
                        <a:pt x="1" y="169"/>
                      </a:lnTo>
                      <a:lnTo>
                        <a:pt x="0" y="128"/>
                      </a:lnTo>
                      <a:lnTo>
                        <a:pt x="1" y="89"/>
                      </a:lnTo>
                      <a:lnTo>
                        <a:pt x="15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8093160" y="800280"/>
                  <a:ext cx="258840" cy="369720"/>
                </a:xfrm>
                <a:custGeom>
                  <a:avLst/>
                  <a:gdLst/>
                  <a:ahLst/>
                  <a:rect l="l" t="t" r="r" b="b"/>
                  <a:pathLst>
                    <a:path w="653" h="699">
                      <a:moveTo>
                        <a:pt x="3" y="666"/>
                      </a:moveTo>
                      <a:lnTo>
                        <a:pt x="40" y="631"/>
                      </a:lnTo>
                      <a:lnTo>
                        <a:pt x="77" y="602"/>
                      </a:lnTo>
                      <a:lnTo>
                        <a:pt x="134" y="569"/>
                      </a:lnTo>
                      <a:lnTo>
                        <a:pt x="192" y="548"/>
                      </a:lnTo>
                      <a:lnTo>
                        <a:pt x="241" y="531"/>
                      </a:lnTo>
                      <a:lnTo>
                        <a:pt x="300" y="516"/>
                      </a:lnTo>
                      <a:lnTo>
                        <a:pt x="333" y="508"/>
                      </a:lnTo>
                      <a:lnTo>
                        <a:pt x="352" y="502"/>
                      </a:lnTo>
                      <a:lnTo>
                        <a:pt x="360" y="489"/>
                      </a:lnTo>
                      <a:lnTo>
                        <a:pt x="364" y="469"/>
                      </a:lnTo>
                      <a:lnTo>
                        <a:pt x="367" y="422"/>
                      </a:lnTo>
                      <a:lnTo>
                        <a:pt x="373" y="378"/>
                      </a:lnTo>
                      <a:lnTo>
                        <a:pt x="384" y="333"/>
                      </a:lnTo>
                      <a:lnTo>
                        <a:pt x="394" y="296"/>
                      </a:lnTo>
                      <a:lnTo>
                        <a:pt x="418" y="253"/>
                      </a:lnTo>
                      <a:lnTo>
                        <a:pt x="438" y="223"/>
                      </a:lnTo>
                      <a:lnTo>
                        <a:pt x="467" y="185"/>
                      </a:lnTo>
                      <a:lnTo>
                        <a:pt x="484" y="155"/>
                      </a:lnTo>
                      <a:lnTo>
                        <a:pt x="485" y="132"/>
                      </a:lnTo>
                      <a:lnTo>
                        <a:pt x="484" y="110"/>
                      </a:lnTo>
                      <a:lnTo>
                        <a:pt x="485" y="105"/>
                      </a:lnTo>
                      <a:lnTo>
                        <a:pt x="485" y="100"/>
                      </a:lnTo>
                      <a:lnTo>
                        <a:pt x="484" y="95"/>
                      </a:lnTo>
                      <a:lnTo>
                        <a:pt x="482" y="90"/>
                      </a:lnTo>
                      <a:lnTo>
                        <a:pt x="478" y="85"/>
                      </a:lnTo>
                      <a:lnTo>
                        <a:pt x="478" y="80"/>
                      </a:lnTo>
                      <a:lnTo>
                        <a:pt x="474" y="77"/>
                      </a:lnTo>
                      <a:lnTo>
                        <a:pt x="468" y="73"/>
                      </a:lnTo>
                      <a:lnTo>
                        <a:pt x="465" y="69"/>
                      </a:lnTo>
                      <a:lnTo>
                        <a:pt x="460" y="67"/>
                      </a:lnTo>
                      <a:lnTo>
                        <a:pt x="455" y="65"/>
                      </a:lnTo>
                      <a:lnTo>
                        <a:pt x="450" y="62"/>
                      </a:lnTo>
                      <a:lnTo>
                        <a:pt x="444" y="60"/>
                      </a:lnTo>
                      <a:lnTo>
                        <a:pt x="440" y="57"/>
                      </a:lnTo>
                      <a:lnTo>
                        <a:pt x="437" y="52"/>
                      </a:lnTo>
                      <a:lnTo>
                        <a:pt x="431" y="49"/>
                      </a:lnTo>
                      <a:lnTo>
                        <a:pt x="424" y="43"/>
                      </a:lnTo>
                      <a:lnTo>
                        <a:pt x="424" y="39"/>
                      </a:lnTo>
                      <a:lnTo>
                        <a:pt x="424" y="33"/>
                      </a:lnTo>
                      <a:lnTo>
                        <a:pt x="424" y="29"/>
                      </a:lnTo>
                      <a:lnTo>
                        <a:pt x="424" y="23"/>
                      </a:lnTo>
                      <a:lnTo>
                        <a:pt x="424" y="19"/>
                      </a:lnTo>
                      <a:lnTo>
                        <a:pt x="428" y="13"/>
                      </a:lnTo>
                      <a:lnTo>
                        <a:pt x="431" y="9"/>
                      </a:lnTo>
                      <a:lnTo>
                        <a:pt x="438" y="6"/>
                      </a:lnTo>
                      <a:lnTo>
                        <a:pt x="443" y="2"/>
                      </a:lnTo>
                      <a:lnTo>
                        <a:pt x="448" y="0"/>
                      </a:lnTo>
                      <a:lnTo>
                        <a:pt x="453" y="0"/>
                      </a:lnTo>
                      <a:lnTo>
                        <a:pt x="458" y="0"/>
                      </a:lnTo>
                      <a:lnTo>
                        <a:pt x="464" y="2"/>
                      </a:lnTo>
                      <a:lnTo>
                        <a:pt x="468" y="3"/>
                      </a:lnTo>
                      <a:lnTo>
                        <a:pt x="474" y="7"/>
                      </a:lnTo>
                      <a:lnTo>
                        <a:pt x="478" y="10"/>
                      </a:lnTo>
                      <a:lnTo>
                        <a:pt x="482" y="16"/>
                      </a:lnTo>
                      <a:lnTo>
                        <a:pt x="487" y="19"/>
                      </a:lnTo>
                      <a:lnTo>
                        <a:pt x="488" y="23"/>
                      </a:lnTo>
                      <a:lnTo>
                        <a:pt x="492" y="29"/>
                      </a:lnTo>
                      <a:lnTo>
                        <a:pt x="494" y="33"/>
                      </a:lnTo>
                      <a:lnTo>
                        <a:pt x="495" y="39"/>
                      </a:lnTo>
                      <a:lnTo>
                        <a:pt x="498" y="43"/>
                      </a:lnTo>
                      <a:lnTo>
                        <a:pt x="501" y="49"/>
                      </a:lnTo>
                      <a:lnTo>
                        <a:pt x="502" y="53"/>
                      </a:lnTo>
                      <a:lnTo>
                        <a:pt x="502" y="59"/>
                      </a:lnTo>
                      <a:lnTo>
                        <a:pt x="504" y="63"/>
                      </a:lnTo>
                      <a:lnTo>
                        <a:pt x="508" y="67"/>
                      </a:lnTo>
                      <a:lnTo>
                        <a:pt x="514" y="70"/>
                      </a:lnTo>
                      <a:lnTo>
                        <a:pt x="519" y="73"/>
                      </a:lnTo>
                      <a:lnTo>
                        <a:pt x="524" y="75"/>
                      </a:lnTo>
                      <a:lnTo>
                        <a:pt x="529" y="72"/>
                      </a:lnTo>
                      <a:lnTo>
                        <a:pt x="534" y="70"/>
                      </a:lnTo>
                      <a:lnTo>
                        <a:pt x="538" y="63"/>
                      </a:lnTo>
                      <a:lnTo>
                        <a:pt x="541" y="59"/>
                      </a:lnTo>
                      <a:lnTo>
                        <a:pt x="542" y="53"/>
                      </a:lnTo>
                      <a:lnTo>
                        <a:pt x="542" y="49"/>
                      </a:lnTo>
                      <a:lnTo>
                        <a:pt x="544" y="43"/>
                      </a:lnTo>
                      <a:lnTo>
                        <a:pt x="546" y="39"/>
                      </a:lnTo>
                      <a:lnTo>
                        <a:pt x="548" y="33"/>
                      </a:lnTo>
                      <a:lnTo>
                        <a:pt x="551" y="29"/>
                      </a:lnTo>
                      <a:lnTo>
                        <a:pt x="556" y="23"/>
                      </a:lnTo>
                      <a:lnTo>
                        <a:pt x="561" y="19"/>
                      </a:lnTo>
                      <a:lnTo>
                        <a:pt x="566" y="17"/>
                      </a:lnTo>
                      <a:lnTo>
                        <a:pt x="571" y="16"/>
                      </a:lnTo>
                      <a:lnTo>
                        <a:pt x="578" y="16"/>
                      </a:lnTo>
                      <a:lnTo>
                        <a:pt x="583" y="16"/>
                      </a:lnTo>
                      <a:lnTo>
                        <a:pt x="588" y="16"/>
                      </a:lnTo>
                      <a:lnTo>
                        <a:pt x="593" y="17"/>
                      </a:lnTo>
                      <a:lnTo>
                        <a:pt x="598" y="19"/>
                      </a:lnTo>
                      <a:lnTo>
                        <a:pt x="603" y="23"/>
                      </a:lnTo>
                      <a:lnTo>
                        <a:pt x="605" y="29"/>
                      </a:lnTo>
                      <a:lnTo>
                        <a:pt x="605" y="33"/>
                      </a:lnTo>
                      <a:lnTo>
                        <a:pt x="606" y="39"/>
                      </a:lnTo>
                      <a:lnTo>
                        <a:pt x="606" y="43"/>
                      </a:lnTo>
                      <a:lnTo>
                        <a:pt x="605" y="49"/>
                      </a:lnTo>
                      <a:lnTo>
                        <a:pt x="602" y="53"/>
                      </a:lnTo>
                      <a:lnTo>
                        <a:pt x="596" y="57"/>
                      </a:lnTo>
                      <a:lnTo>
                        <a:pt x="592" y="62"/>
                      </a:lnTo>
                      <a:lnTo>
                        <a:pt x="586" y="65"/>
                      </a:lnTo>
                      <a:lnTo>
                        <a:pt x="583" y="70"/>
                      </a:lnTo>
                      <a:lnTo>
                        <a:pt x="578" y="75"/>
                      </a:lnTo>
                      <a:lnTo>
                        <a:pt x="573" y="80"/>
                      </a:lnTo>
                      <a:lnTo>
                        <a:pt x="568" y="83"/>
                      </a:lnTo>
                      <a:lnTo>
                        <a:pt x="566" y="89"/>
                      </a:lnTo>
                      <a:lnTo>
                        <a:pt x="562" y="93"/>
                      </a:lnTo>
                      <a:lnTo>
                        <a:pt x="559" y="99"/>
                      </a:lnTo>
                      <a:lnTo>
                        <a:pt x="559" y="103"/>
                      </a:lnTo>
                      <a:lnTo>
                        <a:pt x="559" y="109"/>
                      </a:lnTo>
                      <a:lnTo>
                        <a:pt x="565" y="110"/>
                      </a:lnTo>
                      <a:lnTo>
                        <a:pt x="569" y="112"/>
                      </a:lnTo>
                      <a:lnTo>
                        <a:pt x="576" y="110"/>
                      </a:lnTo>
                      <a:lnTo>
                        <a:pt x="582" y="110"/>
                      </a:lnTo>
                      <a:lnTo>
                        <a:pt x="586" y="109"/>
                      </a:lnTo>
                      <a:lnTo>
                        <a:pt x="593" y="107"/>
                      </a:lnTo>
                      <a:lnTo>
                        <a:pt x="599" y="105"/>
                      </a:lnTo>
                      <a:lnTo>
                        <a:pt x="605" y="103"/>
                      </a:lnTo>
                      <a:lnTo>
                        <a:pt x="610" y="102"/>
                      </a:lnTo>
                      <a:lnTo>
                        <a:pt x="616" y="102"/>
                      </a:lnTo>
                      <a:lnTo>
                        <a:pt x="622" y="102"/>
                      </a:lnTo>
                      <a:lnTo>
                        <a:pt x="626" y="102"/>
                      </a:lnTo>
                      <a:lnTo>
                        <a:pt x="633" y="103"/>
                      </a:lnTo>
                      <a:lnTo>
                        <a:pt x="642" y="105"/>
                      </a:lnTo>
                      <a:lnTo>
                        <a:pt x="646" y="110"/>
                      </a:lnTo>
                      <a:lnTo>
                        <a:pt x="650" y="113"/>
                      </a:lnTo>
                      <a:lnTo>
                        <a:pt x="652" y="119"/>
                      </a:lnTo>
                      <a:lnTo>
                        <a:pt x="653" y="125"/>
                      </a:lnTo>
                      <a:lnTo>
                        <a:pt x="652" y="130"/>
                      </a:lnTo>
                      <a:lnTo>
                        <a:pt x="650" y="135"/>
                      </a:lnTo>
                      <a:lnTo>
                        <a:pt x="646" y="140"/>
                      </a:lnTo>
                      <a:lnTo>
                        <a:pt x="642" y="145"/>
                      </a:lnTo>
                      <a:lnTo>
                        <a:pt x="637" y="145"/>
                      </a:lnTo>
                      <a:lnTo>
                        <a:pt x="630" y="150"/>
                      </a:lnTo>
                      <a:lnTo>
                        <a:pt x="625" y="152"/>
                      </a:lnTo>
                      <a:lnTo>
                        <a:pt x="620" y="153"/>
                      </a:lnTo>
                      <a:lnTo>
                        <a:pt x="615" y="155"/>
                      </a:lnTo>
                      <a:lnTo>
                        <a:pt x="610" y="155"/>
                      </a:lnTo>
                      <a:lnTo>
                        <a:pt x="603" y="155"/>
                      </a:lnTo>
                      <a:lnTo>
                        <a:pt x="596" y="156"/>
                      </a:lnTo>
                      <a:lnTo>
                        <a:pt x="589" y="156"/>
                      </a:lnTo>
                      <a:lnTo>
                        <a:pt x="585" y="156"/>
                      </a:lnTo>
                      <a:lnTo>
                        <a:pt x="579" y="156"/>
                      </a:lnTo>
                      <a:lnTo>
                        <a:pt x="575" y="155"/>
                      </a:lnTo>
                      <a:lnTo>
                        <a:pt x="569" y="155"/>
                      </a:lnTo>
                      <a:lnTo>
                        <a:pt x="565" y="155"/>
                      </a:lnTo>
                      <a:lnTo>
                        <a:pt x="559" y="153"/>
                      </a:lnTo>
                      <a:lnTo>
                        <a:pt x="555" y="156"/>
                      </a:lnTo>
                      <a:lnTo>
                        <a:pt x="549" y="159"/>
                      </a:lnTo>
                      <a:lnTo>
                        <a:pt x="544" y="162"/>
                      </a:lnTo>
                      <a:lnTo>
                        <a:pt x="539" y="165"/>
                      </a:lnTo>
                      <a:lnTo>
                        <a:pt x="535" y="170"/>
                      </a:lnTo>
                      <a:lnTo>
                        <a:pt x="508" y="183"/>
                      </a:lnTo>
                      <a:lnTo>
                        <a:pt x="482" y="220"/>
                      </a:lnTo>
                      <a:lnTo>
                        <a:pt x="460" y="259"/>
                      </a:lnTo>
                      <a:lnTo>
                        <a:pt x="440" y="318"/>
                      </a:lnTo>
                      <a:lnTo>
                        <a:pt x="433" y="373"/>
                      </a:lnTo>
                      <a:lnTo>
                        <a:pt x="430" y="448"/>
                      </a:lnTo>
                      <a:lnTo>
                        <a:pt x="428" y="493"/>
                      </a:lnTo>
                      <a:lnTo>
                        <a:pt x="424" y="516"/>
                      </a:lnTo>
                      <a:lnTo>
                        <a:pt x="414" y="536"/>
                      </a:lnTo>
                      <a:lnTo>
                        <a:pt x="403" y="549"/>
                      </a:lnTo>
                      <a:lnTo>
                        <a:pt x="380" y="565"/>
                      </a:lnTo>
                      <a:lnTo>
                        <a:pt x="339" y="585"/>
                      </a:lnTo>
                      <a:lnTo>
                        <a:pt x="293" y="601"/>
                      </a:lnTo>
                      <a:lnTo>
                        <a:pt x="252" y="618"/>
                      </a:lnTo>
                      <a:lnTo>
                        <a:pt x="218" y="631"/>
                      </a:lnTo>
                      <a:lnTo>
                        <a:pt x="170" y="651"/>
                      </a:lnTo>
                      <a:lnTo>
                        <a:pt x="131" y="668"/>
                      </a:lnTo>
                      <a:lnTo>
                        <a:pt x="97" y="688"/>
                      </a:lnTo>
                      <a:lnTo>
                        <a:pt x="60" y="699"/>
                      </a:lnTo>
                      <a:lnTo>
                        <a:pt x="31" y="698"/>
                      </a:lnTo>
                      <a:lnTo>
                        <a:pt x="11" y="691"/>
                      </a:lnTo>
                      <a:lnTo>
                        <a:pt x="0" y="682"/>
                      </a:lnTo>
                      <a:lnTo>
                        <a:pt x="3" y="6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7729560" y="1015920"/>
                  <a:ext cx="352440" cy="204840"/>
                </a:xfrm>
                <a:custGeom>
                  <a:avLst/>
                  <a:gdLst/>
                  <a:ahLst/>
                  <a:rect l="l" t="t" r="r" b="b"/>
                  <a:pathLst>
                    <a:path w="891" h="387">
                      <a:moveTo>
                        <a:pt x="719" y="292"/>
                      </a:moveTo>
                      <a:lnTo>
                        <a:pt x="775" y="270"/>
                      </a:lnTo>
                      <a:lnTo>
                        <a:pt x="829" y="259"/>
                      </a:lnTo>
                      <a:lnTo>
                        <a:pt x="864" y="257"/>
                      </a:lnTo>
                      <a:lnTo>
                        <a:pt x="881" y="269"/>
                      </a:lnTo>
                      <a:lnTo>
                        <a:pt x="891" y="292"/>
                      </a:lnTo>
                      <a:lnTo>
                        <a:pt x="884" y="317"/>
                      </a:lnTo>
                      <a:lnTo>
                        <a:pt x="854" y="339"/>
                      </a:lnTo>
                      <a:lnTo>
                        <a:pt x="817" y="349"/>
                      </a:lnTo>
                      <a:lnTo>
                        <a:pt x="772" y="355"/>
                      </a:lnTo>
                      <a:lnTo>
                        <a:pt x="716" y="359"/>
                      </a:lnTo>
                      <a:lnTo>
                        <a:pt x="650" y="367"/>
                      </a:lnTo>
                      <a:lnTo>
                        <a:pt x="594" y="373"/>
                      </a:lnTo>
                      <a:lnTo>
                        <a:pt x="544" y="383"/>
                      </a:lnTo>
                      <a:lnTo>
                        <a:pt x="510" y="385"/>
                      </a:lnTo>
                      <a:lnTo>
                        <a:pt x="506" y="387"/>
                      </a:lnTo>
                      <a:lnTo>
                        <a:pt x="483" y="377"/>
                      </a:lnTo>
                      <a:lnTo>
                        <a:pt x="470" y="357"/>
                      </a:lnTo>
                      <a:lnTo>
                        <a:pt x="453" y="330"/>
                      </a:lnTo>
                      <a:lnTo>
                        <a:pt x="426" y="289"/>
                      </a:lnTo>
                      <a:lnTo>
                        <a:pt x="396" y="262"/>
                      </a:lnTo>
                      <a:lnTo>
                        <a:pt x="364" y="236"/>
                      </a:lnTo>
                      <a:lnTo>
                        <a:pt x="321" y="216"/>
                      </a:lnTo>
                      <a:lnTo>
                        <a:pt x="288" y="202"/>
                      </a:lnTo>
                      <a:lnTo>
                        <a:pt x="283" y="202"/>
                      </a:lnTo>
                      <a:lnTo>
                        <a:pt x="230" y="187"/>
                      </a:lnTo>
                      <a:lnTo>
                        <a:pt x="197" y="183"/>
                      </a:lnTo>
                      <a:lnTo>
                        <a:pt x="192" y="187"/>
                      </a:lnTo>
                      <a:lnTo>
                        <a:pt x="187" y="187"/>
                      </a:lnTo>
                      <a:lnTo>
                        <a:pt x="180" y="187"/>
                      </a:lnTo>
                      <a:lnTo>
                        <a:pt x="173" y="189"/>
                      </a:lnTo>
                      <a:lnTo>
                        <a:pt x="169" y="193"/>
                      </a:lnTo>
                      <a:lnTo>
                        <a:pt x="163" y="197"/>
                      </a:lnTo>
                      <a:lnTo>
                        <a:pt x="159" y="202"/>
                      </a:lnTo>
                      <a:lnTo>
                        <a:pt x="152" y="209"/>
                      </a:lnTo>
                      <a:lnTo>
                        <a:pt x="146" y="210"/>
                      </a:lnTo>
                      <a:lnTo>
                        <a:pt x="143" y="216"/>
                      </a:lnTo>
                      <a:lnTo>
                        <a:pt x="139" y="220"/>
                      </a:lnTo>
                      <a:lnTo>
                        <a:pt x="133" y="223"/>
                      </a:lnTo>
                      <a:lnTo>
                        <a:pt x="128" y="230"/>
                      </a:lnTo>
                      <a:lnTo>
                        <a:pt x="123" y="236"/>
                      </a:lnTo>
                      <a:lnTo>
                        <a:pt x="118" y="240"/>
                      </a:lnTo>
                      <a:lnTo>
                        <a:pt x="115" y="246"/>
                      </a:lnTo>
                      <a:lnTo>
                        <a:pt x="108" y="249"/>
                      </a:lnTo>
                      <a:lnTo>
                        <a:pt x="101" y="252"/>
                      </a:lnTo>
                      <a:lnTo>
                        <a:pt x="96" y="253"/>
                      </a:lnTo>
                      <a:lnTo>
                        <a:pt x="89" y="253"/>
                      </a:lnTo>
                      <a:lnTo>
                        <a:pt x="82" y="256"/>
                      </a:lnTo>
                      <a:lnTo>
                        <a:pt x="78" y="256"/>
                      </a:lnTo>
                      <a:lnTo>
                        <a:pt x="71" y="253"/>
                      </a:lnTo>
                      <a:lnTo>
                        <a:pt x="62" y="252"/>
                      </a:lnTo>
                      <a:lnTo>
                        <a:pt x="59" y="247"/>
                      </a:lnTo>
                      <a:lnTo>
                        <a:pt x="52" y="242"/>
                      </a:lnTo>
                      <a:lnTo>
                        <a:pt x="48" y="237"/>
                      </a:lnTo>
                      <a:lnTo>
                        <a:pt x="47" y="232"/>
                      </a:lnTo>
                      <a:lnTo>
                        <a:pt x="47" y="227"/>
                      </a:lnTo>
                      <a:lnTo>
                        <a:pt x="48" y="222"/>
                      </a:lnTo>
                      <a:lnTo>
                        <a:pt x="52" y="217"/>
                      </a:lnTo>
                      <a:lnTo>
                        <a:pt x="57" y="216"/>
                      </a:lnTo>
                      <a:lnTo>
                        <a:pt x="62" y="209"/>
                      </a:lnTo>
                      <a:lnTo>
                        <a:pt x="71" y="203"/>
                      </a:lnTo>
                      <a:lnTo>
                        <a:pt x="75" y="203"/>
                      </a:lnTo>
                      <a:lnTo>
                        <a:pt x="81" y="202"/>
                      </a:lnTo>
                      <a:lnTo>
                        <a:pt x="88" y="199"/>
                      </a:lnTo>
                      <a:lnTo>
                        <a:pt x="92" y="196"/>
                      </a:lnTo>
                      <a:lnTo>
                        <a:pt x="98" y="193"/>
                      </a:lnTo>
                      <a:lnTo>
                        <a:pt x="102" y="190"/>
                      </a:lnTo>
                      <a:lnTo>
                        <a:pt x="109" y="187"/>
                      </a:lnTo>
                      <a:lnTo>
                        <a:pt x="115" y="186"/>
                      </a:lnTo>
                      <a:lnTo>
                        <a:pt x="119" y="182"/>
                      </a:lnTo>
                      <a:lnTo>
                        <a:pt x="125" y="179"/>
                      </a:lnTo>
                      <a:lnTo>
                        <a:pt x="129" y="177"/>
                      </a:lnTo>
                      <a:lnTo>
                        <a:pt x="133" y="172"/>
                      </a:lnTo>
                      <a:lnTo>
                        <a:pt x="133" y="167"/>
                      </a:lnTo>
                      <a:lnTo>
                        <a:pt x="129" y="162"/>
                      </a:lnTo>
                      <a:lnTo>
                        <a:pt x="125" y="159"/>
                      </a:lnTo>
                      <a:lnTo>
                        <a:pt x="119" y="157"/>
                      </a:lnTo>
                      <a:lnTo>
                        <a:pt x="115" y="156"/>
                      </a:lnTo>
                      <a:lnTo>
                        <a:pt x="109" y="156"/>
                      </a:lnTo>
                      <a:lnTo>
                        <a:pt x="105" y="156"/>
                      </a:lnTo>
                      <a:lnTo>
                        <a:pt x="99" y="156"/>
                      </a:lnTo>
                      <a:lnTo>
                        <a:pt x="94" y="156"/>
                      </a:lnTo>
                      <a:lnTo>
                        <a:pt x="89" y="156"/>
                      </a:lnTo>
                      <a:lnTo>
                        <a:pt x="82" y="156"/>
                      </a:lnTo>
                      <a:lnTo>
                        <a:pt x="78" y="156"/>
                      </a:lnTo>
                      <a:lnTo>
                        <a:pt x="72" y="156"/>
                      </a:lnTo>
                      <a:lnTo>
                        <a:pt x="68" y="156"/>
                      </a:lnTo>
                      <a:lnTo>
                        <a:pt x="62" y="156"/>
                      </a:lnTo>
                      <a:lnTo>
                        <a:pt x="55" y="156"/>
                      </a:lnTo>
                      <a:lnTo>
                        <a:pt x="48" y="156"/>
                      </a:lnTo>
                      <a:lnTo>
                        <a:pt x="42" y="156"/>
                      </a:lnTo>
                      <a:lnTo>
                        <a:pt x="37" y="156"/>
                      </a:lnTo>
                      <a:lnTo>
                        <a:pt x="32" y="156"/>
                      </a:lnTo>
                      <a:lnTo>
                        <a:pt x="27" y="156"/>
                      </a:lnTo>
                      <a:lnTo>
                        <a:pt x="18" y="152"/>
                      </a:lnTo>
                      <a:lnTo>
                        <a:pt x="14" y="150"/>
                      </a:lnTo>
                      <a:lnTo>
                        <a:pt x="8" y="149"/>
                      </a:lnTo>
                      <a:lnTo>
                        <a:pt x="7" y="144"/>
                      </a:lnTo>
                      <a:lnTo>
                        <a:pt x="1" y="137"/>
                      </a:lnTo>
                      <a:lnTo>
                        <a:pt x="0" y="132"/>
                      </a:lnTo>
                      <a:lnTo>
                        <a:pt x="0" y="127"/>
                      </a:lnTo>
                      <a:lnTo>
                        <a:pt x="1" y="120"/>
                      </a:lnTo>
                      <a:lnTo>
                        <a:pt x="4" y="116"/>
                      </a:lnTo>
                      <a:lnTo>
                        <a:pt x="5" y="110"/>
                      </a:lnTo>
                      <a:lnTo>
                        <a:pt x="10" y="107"/>
                      </a:lnTo>
                      <a:lnTo>
                        <a:pt x="15" y="104"/>
                      </a:lnTo>
                      <a:lnTo>
                        <a:pt x="21" y="102"/>
                      </a:lnTo>
                      <a:lnTo>
                        <a:pt x="32" y="99"/>
                      </a:lnTo>
                      <a:lnTo>
                        <a:pt x="38" y="99"/>
                      </a:lnTo>
                      <a:lnTo>
                        <a:pt x="44" y="97"/>
                      </a:lnTo>
                      <a:lnTo>
                        <a:pt x="48" y="96"/>
                      </a:lnTo>
                      <a:lnTo>
                        <a:pt x="55" y="96"/>
                      </a:lnTo>
                      <a:lnTo>
                        <a:pt x="62" y="96"/>
                      </a:lnTo>
                      <a:lnTo>
                        <a:pt x="69" y="96"/>
                      </a:lnTo>
                      <a:lnTo>
                        <a:pt x="75" y="96"/>
                      </a:lnTo>
                      <a:lnTo>
                        <a:pt x="81" y="96"/>
                      </a:lnTo>
                      <a:lnTo>
                        <a:pt x="85" y="96"/>
                      </a:lnTo>
                      <a:lnTo>
                        <a:pt x="92" y="99"/>
                      </a:lnTo>
                      <a:lnTo>
                        <a:pt x="98" y="100"/>
                      </a:lnTo>
                      <a:lnTo>
                        <a:pt x="102" y="102"/>
                      </a:lnTo>
                      <a:lnTo>
                        <a:pt x="109" y="106"/>
                      </a:lnTo>
                      <a:lnTo>
                        <a:pt x="115" y="107"/>
                      </a:lnTo>
                      <a:lnTo>
                        <a:pt x="119" y="110"/>
                      </a:lnTo>
                      <a:lnTo>
                        <a:pt x="125" y="114"/>
                      </a:lnTo>
                      <a:lnTo>
                        <a:pt x="129" y="116"/>
                      </a:lnTo>
                      <a:lnTo>
                        <a:pt x="135" y="119"/>
                      </a:lnTo>
                      <a:lnTo>
                        <a:pt x="139" y="120"/>
                      </a:lnTo>
                      <a:lnTo>
                        <a:pt x="146" y="122"/>
                      </a:lnTo>
                      <a:lnTo>
                        <a:pt x="152" y="126"/>
                      </a:lnTo>
                      <a:lnTo>
                        <a:pt x="156" y="126"/>
                      </a:lnTo>
                      <a:lnTo>
                        <a:pt x="162" y="126"/>
                      </a:lnTo>
                      <a:lnTo>
                        <a:pt x="166" y="122"/>
                      </a:lnTo>
                      <a:lnTo>
                        <a:pt x="172" y="119"/>
                      </a:lnTo>
                      <a:lnTo>
                        <a:pt x="175" y="114"/>
                      </a:lnTo>
                      <a:lnTo>
                        <a:pt x="176" y="109"/>
                      </a:lnTo>
                      <a:lnTo>
                        <a:pt x="176" y="104"/>
                      </a:lnTo>
                      <a:lnTo>
                        <a:pt x="176" y="99"/>
                      </a:lnTo>
                      <a:lnTo>
                        <a:pt x="176" y="93"/>
                      </a:lnTo>
                      <a:lnTo>
                        <a:pt x="176" y="87"/>
                      </a:lnTo>
                      <a:lnTo>
                        <a:pt x="173" y="83"/>
                      </a:lnTo>
                      <a:lnTo>
                        <a:pt x="170" y="76"/>
                      </a:lnTo>
                      <a:lnTo>
                        <a:pt x="170" y="70"/>
                      </a:lnTo>
                      <a:lnTo>
                        <a:pt x="169" y="66"/>
                      </a:lnTo>
                      <a:lnTo>
                        <a:pt x="166" y="60"/>
                      </a:lnTo>
                      <a:lnTo>
                        <a:pt x="165" y="56"/>
                      </a:lnTo>
                      <a:lnTo>
                        <a:pt x="165" y="49"/>
                      </a:lnTo>
                      <a:lnTo>
                        <a:pt x="165" y="44"/>
                      </a:lnTo>
                      <a:lnTo>
                        <a:pt x="165" y="39"/>
                      </a:lnTo>
                      <a:lnTo>
                        <a:pt x="166" y="34"/>
                      </a:lnTo>
                      <a:lnTo>
                        <a:pt x="169" y="27"/>
                      </a:lnTo>
                      <a:lnTo>
                        <a:pt x="170" y="20"/>
                      </a:lnTo>
                      <a:lnTo>
                        <a:pt x="175" y="16"/>
                      </a:lnTo>
                      <a:lnTo>
                        <a:pt x="180" y="14"/>
                      </a:lnTo>
                      <a:lnTo>
                        <a:pt x="183" y="9"/>
                      </a:lnTo>
                      <a:lnTo>
                        <a:pt x="189" y="6"/>
                      </a:lnTo>
                      <a:lnTo>
                        <a:pt x="193" y="3"/>
                      </a:lnTo>
                      <a:lnTo>
                        <a:pt x="199" y="0"/>
                      </a:lnTo>
                      <a:lnTo>
                        <a:pt x="203" y="0"/>
                      </a:lnTo>
                      <a:lnTo>
                        <a:pt x="209" y="0"/>
                      </a:lnTo>
                      <a:lnTo>
                        <a:pt x="214" y="0"/>
                      </a:lnTo>
                      <a:lnTo>
                        <a:pt x="219" y="4"/>
                      </a:lnTo>
                      <a:lnTo>
                        <a:pt x="224" y="6"/>
                      </a:lnTo>
                      <a:lnTo>
                        <a:pt x="229" y="9"/>
                      </a:lnTo>
                      <a:lnTo>
                        <a:pt x="234" y="10"/>
                      </a:lnTo>
                      <a:lnTo>
                        <a:pt x="234" y="16"/>
                      </a:lnTo>
                      <a:lnTo>
                        <a:pt x="237" y="20"/>
                      </a:lnTo>
                      <a:lnTo>
                        <a:pt x="239" y="27"/>
                      </a:lnTo>
                      <a:lnTo>
                        <a:pt x="241" y="33"/>
                      </a:lnTo>
                      <a:lnTo>
                        <a:pt x="241" y="39"/>
                      </a:lnTo>
                      <a:lnTo>
                        <a:pt x="241" y="44"/>
                      </a:lnTo>
                      <a:lnTo>
                        <a:pt x="241" y="49"/>
                      </a:lnTo>
                      <a:lnTo>
                        <a:pt x="241" y="54"/>
                      </a:lnTo>
                      <a:lnTo>
                        <a:pt x="241" y="59"/>
                      </a:lnTo>
                      <a:lnTo>
                        <a:pt x="241" y="64"/>
                      </a:lnTo>
                      <a:lnTo>
                        <a:pt x="239" y="70"/>
                      </a:lnTo>
                      <a:lnTo>
                        <a:pt x="237" y="76"/>
                      </a:lnTo>
                      <a:lnTo>
                        <a:pt x="236" y="80"/>
                      </a:lnTo>
                      <a:lnTo>
                        <a:pt x="233" y="86"/>
                      </a:lnTo>
                      <a:lnTo>
                        <a:pt x="230" y="90"/>
                      </a:lnTo>
                      <a:lnTo>
                        <a:pt x="227" y="96"/>
                      </a:lnTo>
                      <a:lnTo>
                        <a:pt x="224" y="102"/>
                      </a:lnTo>
                      <a:lnTo>
                        <a:pt x="220" y="107"/>
                      </a:lnTo>
                      <a:lnTo>
                        <a:pt x="220" y="112"/>
                      </a:lnTo>
                      <a:lnTo>
                        <a:pt x="220" y="117"/>
                      </a:lnTo>
                      <a:lnTo>
                        <a:pt x="220" y="122"/>
                      </a:lnTo>
                      <a:lnTo>
                        <a:pt x="220" y="127"/>
                      </a:lnTo>
                      <a:lnTo>
                        <a:pt x="226" y="132"/>
                      </a:lnTo>
                      <a:lnTo>
                        <a:pt x="230" y="137"/>
                      </a:lnTo>
                      <a:lnTo>
                        <a:pt x="236" y="140"/>
                      </a:lnTo>
                      <a:lnTo>
                        <a:pt x="264" y="152"/>
                      </a:lnTo>
                      <a:lnTo>
                        <a:pt x="318" y="164"/>
                      </a:lnTo>
                      <a:lnTo>
                        <a:pt x="361" y="180"/>
                      </a:lnTo>
                      <a:lnTo>
                        <a:pt x="402" y="203"/>
                      </a:lnTo>
                      <a:lnTo>
                        <a:pt x="443" y="233"/>
                      </a:lnTo>
                      <a:lnTo>
                        <a:pt x="482" y="263"/>
                      </a:lnTo>
                      <a:lnTo>
                        <a:pt x="520" y="296"/>
                      </a:lnTo>
                      <a:lnTo>
                        <a:pt x="547" y="312"/>
                      </a:lnTo>
                      <a:lnTo>
                        <a:pt x="570" y="322"/>
                      </a:lnTo>
                      <a:lnTo>
                        <a:pt x="593" y="323"/>
                      </a:lnTo>
                      <a:lnTo>
                        <a:pt x="641" y="319"/>
                      </a:lnTo>
                      <a:lnTo>
                        <a:pt x="682" y="309"/>
                      </a:lnTo>
                      <a:lnTo>
                        <a:pt x="719" y="2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7950240" y="1482840"/>
                  <a:ext cx="196920" cy="257040"/>
                </a:xfrm>
                <a:custGeom>
                  <a:avLst/>
                  <a:gdLst/>
                  <a:ahLst/>
                  <a:rect l="l" t="t" r="r" b="b"/>
                  <a:pathLst>
                    <a:path w="497" h="485">
                      <a:moveTo>
                        <a:pt x="381" y="186"/>
                      </a:moveTo>
                      <a:lnTo>
                        <a:pt x="374" y="74"/>
                      </a:lnTo>
                      <a:lnTo>
                        <a:pt x="377" y="39"/>
                      </a:lnTo>
                      <a:lnTo>
                        <a:pt x="388" y="16"/>
                      </a:lnTo>
                      <a:lnTo>
                        <a:pt x="411" y="3"/>
                      </a:lnTo>
                      <a:lnTo>
                        <a:pt x="444" y="0"/>
                      </a:lnTo>
                      <a:lnTo>
                        <a:pt x="470" y="6"/>
                      </a:lnTo>
                      <a:lnTo>
                        <a:pt x="484" y="19"/>
                      </a:lnTo>
                      <a:lnTo>
                        <a:pt x="497" y="50"/>
                      </a:lnTo>
                      <a:lnTo>
                        <a:pt x="497" y="96"/>
                      </a:lnTo>
                      <a:lnTo>
                        <a:pt x="491" y="153"/>
                      </a:lnTo>
                      <a:lnTo>
                        <a:pt x="484" y="219"/>
                      </a:lnTo>
                      <a:lnTo>
                        <a:pt x="473" y="277"/>
                      </a:lnTo>
                      <a:lnTo>
                        <a:pt x="464" y="335"/>
                      </a:lnTo>
                      <a:lnTo>
                        <a:pt x="454" y="380"/>
                      </a:lnTo>
                      <a:lnTo>
                        <a:pt x="439" y="419"/>
                      </a:lnTo>
                      <a:lnTo>
                        <a:pt x="418" y="446"/>
                      </a:lnTo>
                      <a:lnTo>
                        <a:pt x="393" y="472"/>
                      </a:lnTo>
                      <a:lnTo>
                        <a:pt x="371" y="480"/>
                      </a:lnTo>
                      <a:lnTo>
                        <a:pt x="344" y="485"/>
                      </a:lnTo>
                      <a:lnTo>
                        <a:pt x="314" y="482"/>
                      </a:lnTo>
                      <a:lnTo>
                        <a:pt x="283" y="466"/>
                      </a:lnTo>
                      <a:lnTo>
                        <a:pt x="256" y="439"/>
                      </a:lnTo>
                      <a:lnTo>
                        <a:pt x="232" y="403"/>
                      </a:lnTo>
                      <a:lnTo>
                        <a:pt x="209" y="370"/>
                      </a:lnTo>
                      <a:lnTo>
                        <a:pt x="189" y="329"/>
                      </a:lnTo>
                      <a:lnTo>
                        <a:pt x="169" y="277"/>
                      </a:lnTo>
                      <a:lnTo>
                        <a:pt x="149" y="243"/>
                      </a:lnTo>
                      <a:lnTo>
                        <a:pt x="131" y="213"/>
                      </a:lnTo>
                      <a:lnTo>
                        <a:pt x="101" y="186"/>
                      </a:lnTo>
                      <a:lnTo>
                        <a:pt x="81" y="173"/>
                      </a:lnTo>
                      <a:lnTo>
                        <a:pt x="73" y="179"/>
                      </a:lnTo>
                      <a:lnTo>
                        <a:pt x="78" y="233"/>
                      </a:lnTo>
                      <a:lnTo>
                        <a:pt x="90" y="276"/>
                      </a:lnTo>
                      <a:lnTo>
                        <a:pt x="107" y="296"/>
                      </a:lnTo>
                      <a:lnTo>
                        <a:pt x="110" y="310"/>
                      </a:lnTo>
                      <a:lnTo>
                        <a:pt x="104" y="327"/>
                      </a:lnTo>
                      <a:lnTo>
                        <a:pt x="68" y="343"/>
                      </a:lnTo>
                      <a:lnTo>
                        <a:pt x="40" y="345"/>
                      </a:lnTo>
                      <a:lnTo>
                        <a:pt x="10" y="339"/>
                      </a:lnTo>
                      <a:lnTo>
                        <a:pt x="0" y="315"/>
                      </a:lnTo>
                      <a:lnTo>
                        <a:pt x="2" y="270"/>
                      </a:lnTo>
                      <a:lnTo>
                        <a:pt x="14" y="212"/>
                      </a:lnTo>
                      <a:lnTo>
                        <a:pt x="17" y="167"/>
                      </a:lnTo>
                      <a:lnTo>
                        <a:pt x="16" y="122"/>
                      </a:lnTo>
                      <a:lnTo>
                        <a:pt x="14" y="77"/>
                      </a:lnTo>
                      <a:lnTo>
                        <a:pt x="29" y="54"/>
                      </a:lnTo>
                      <a:lnTo>
                        <a:pt x="56" y="47"/>
                      </a:lnTo>
                      <a:lnTo>
                        <a:pt x="78" y="54"/>
                      </a:lnTo>
                      <a:lnTo>
                        <a:pt x="90" y="70"/>
                      </a:lnTo>
                      <a:lnTo>
                        <a:pt x="107" y="104"/>
                      </a:lnTo>
                      <a:lnTo>
                        <a:pt x="122" y="126"/>
                      </a:lnTo>
                      <a:lnTo>
                        <a:pt x="147" y="157"/>
                      </a:lnTo>
                      <a:lnTo>
                        <a:pt x="175" y="183"/>
                      </a:lnTo>
                      <a:lnTo>
                        <a:pt x="199" y="213"/>
                      </a:lnTo>
                      <a:lnTo>
                        <a:pt x="223" y="247"/>
                      </a:lnTo>
                      <a:lnTo>
                        <a:pt x="252" y="289"/>
                      </a:lnTo>
                      <a:lnTo>
                        <a:pt x="279" y="322"/>
                      </a:lnTo>
                      <a:lnTo>
                        <a:pt x="304" y="355"/>
                      </a:lnTo>
                      <a:lnTo>
                        <a:pt x="326" y="377"/>
                      </a:lnTo>
                      <a:lnTo>
                        <a:pt x="346" y="386"/>
                      </a:lnTo>
                      <a:lnTo>
                        <a:pt x="357" y="386"/>
                      </a:lnTo>
                      <a:lnTo>
                        <a:pt x="373" y="375"/>
                      </a:lnTo>
                      <a:lnTo>
                        <a:pt x="381" y="345"/>
                      </a:lnTo>
                      <a:lnTo>
                        <a:pt x="383" y="297"/>
                      </a:lnTo>
                      <a:lnTo>
                        <a:pt x="381" y="253"/>
                      </a:lnTo>
                      <a:lnTo>
                        <a:pt x="381" y="212"/>
                      </a:lnTo>
                      <a:lnTo>
                        <a:pt x="381" y="1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124840" y="1481040"/>
                  <a:ext cx="169920" cy="385920"/>
                </a:xfrm>
                <a:custGeom>
                  <a:avLst/>
                  <a:gdLst/>
                  <a:ahLst/>
                  <a:rect l="l" t="t" r="r" b="b"/>
                  <a:pathLst>
                    <a:path w="424" h="728">
                      <a:moveTo>
                        <a:pt x="95" y="6"/>
                      </a:moveTo>
                      <a:lnTo>
                        <a:pt x="148" y="13"/>
                      </a:lnTo>
                      <a:lnTo>
                        <a:pt x="233" y="29"/>
                      </a:lnTo>
                      <a:lnTo>
                        <a:pt x="301" y="47"/>
                      </a:lnTo>
                      <a:lnTo>
                        <a:pt x="355" y="67"/>
                      </a:lnTo>
                      <a:lnTo>
                        <a:pt x="399" y="93"/>
                      </a:lnTo>
                      <a:lnTo>
                        <a:pt x="414" y="110"/>
                      </a:lnTo>
                      <a:lnTo>
                        <a:pt x="422" y="129"/>
                      </a:lnTo>
                      <a:lnTo>
                        <a:pt x="424" y="152"/>
                      </a:lnTo>
                      <a:lnTo>
                        <a:pt x="418" y="179"/>
                      </a:lnTo>
                      <a:lnTo>
                        <a:pt x="402" y="206"/>
                      </a:lnTo>
                      <a:lnTo>
                        <a:pt x="377" y="239"/>
                      </a:lnTo>
                      <a:lnTo>
                        <a:pt x="344" y="285"/>
                      </a:lnTo>
                      <a:lnTo>
                        <a:pt x="311" y="326"/>
                      </a:lnTo>
                      <a:lnTo>
                        <a:pt x="294" y="365"/>
                      </a:lnTo>
                      <a:lnTo>
                        <a:pt x="274" y="412"/>
                      </a:lnTo>
                      <a:lnTo>
                        <a:pt x="259" y="459"/>
                      </a:lnTo>
                      <a:lnTo>
                        <a:pt x="254" y="503"/>
                      </a:lnTo>
                      <a:lnTo>
                        <a:pt x="253" y="538"/>
                      </a:lnTo>
                      <a:lnTo>
                        <a:pt x="259" y="556"/>
                      </a:lnTo>
                      <a:lnTo>
                        <a:pt x="284" y="575"/>
                      </a:lnTo>
                      <a:lnTo>
                        <a:pt x="324" y="591"/>
                      </a:lnTo>
                      <a:lnTo>
                        <a:pt x="360" y="613"/>
                      </a:lnTo>
                      <a:lnTo>
                        <a:pt x="387" y="645"/>
                      </a:lnTo>
                      <a:lnTo>
                        <a:pt x="395" y="671"/>
                      </a:lnTo>
                      <a:lnTo>
                        <a:pt x="392" y="688"/>
                      </a:lnTo>
                      <a:lnTo>
                        <a:pt x="377" y="702"/>
                      </a:lnTo>
                      <a:lnTo>
                        <a:pt x="338" y="728"/>
                      </a:lnTo>
                      <a:lnTo>
                        <a:pt x="318" y="725"/>
                      </a:lnTo>
                      <a:lnTo>
                        <a:pt x="308" y="705"/>
                      </a:lnTo>
                      <a:lnTo>
                        <a:pt x="304" y="678"/>
                      </a:lnTo>
                      <a:lnTo>
                        <a:pt x="283" y="645"/>
                      </a:lnTo>
                      <a:lnTo>
                        <a:pt x="250" y="619"/>
                      </a:lnTo>
                      <a:lnTo>
                        <a:pt x="222" y="606"/>
                      </a:lnTo>
                      <a:lnTo>
                        <a:pt x="186" y="601"/>
                      </a:lnTo>
                      <a:lnTo>
                        <a:pt x="166" y="585"/>
                      </a:lnTo>
                      <a:lnTo>
                        <a:pt x="159" y="565"/>
                      </a:lnTo>
                      <a:lnTo>
                        <a:pt x="162" y="539"/>
                      </a:lnTo>
                      <a:lnTo>
                        <a:pt x="180" y="515"/>
                      </a:lnTo>
                      <a:lnTo>
                        <a:pt x="196" y="489"/>
                      </a:lnTo>
                      <a:lnTo>
                        <a:pt x="210" y="452"/>
                      </a:lnTo>
                      <a:lnTo>
                        <a:pt x="220" y="402"/>
                      </a:lnTo>
                      <a:lnTo>
                        <a:pt x="227" y="348"/>
                      </a:lnTo>
                      <a:lnTo>
                        <a:pt x="237" y="302"/>
                      </a:lnTo>
                      <a:lnTo>
                        <a:pt x="250" y="259"/>
                      </a:lnTo>
                      <a:lnTo>
                        <a:pt x="267" y="223"/>
                      </a:lnTo>
                      <a:lnTo>
                        <a:pt x="291" y="185"/>
                      </a:lnTo>
                      <a:lnTo>
                        <a:pt x="308" y="160"/>
                      </a:lnTo>
                      <a:lnTo>
                        <a:pt x="308" y="147"/>
                      </a:lnTo>
                      <a:lnTo>
                        <a:pt x="291" y="133"/>
                      </a:lnTo>
                      <a:lnTo>
                        <a:pt x="220" y="132"/>
                      </a:lnTo>
                      <a:lnTo>
                        <a:pt x="153" y="120"/>
                      </a:lnTo>
                      <a:lnTo>
                        <a:pt x="101" y="110"/>
                      </a:lnTo>
                      <a:lnTo>
                        <a:pt x="55" y="100"/>
                      </a:lnTo>
                      <a:lnTo>
                        <a:pt x="21" y="85"/>
                      </a:lnTo>
                      <a:lnTo>
                        <a:pt x="1" y="60"/>
                      </a:lnTo>
                      <a:lnTo>
                        <a:pt x="0" y="29"/>
                      </a:lnTo>
                      <a:lnTo>
                        <a:pt x="14" y="3"/>
                      </a:lnTo>
                      <a:lnTo>
                        <a:pt x="45" y="0"/>
                      </a:lnTo>
                      <a:lnTo>
                        <a:pt x="9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7543800" y="1003320"/>
                <a:ext cx="981000" cy="385920"/>
                <a:chOff x="7543800" y="1003320"/>
                <a:chExt cx="981000" cy="3859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7543800" y="1141560"/>
                  <a:ext cx="130320" cy="31680"/>
                </a:xfrm>
                <a:custGeom>
                  <a:avLst/>
                  <a:gdLst/>
                  <a:ahLst/>
                  <a:rect l="l" t="t" r="r" b="b"/>
                  <a:pathLst>
                    <a:path w="328" h="62">
                      <a:moveTo>
                        <a:pt x="328" y="24"/>
                      </a:moveTo>
                      <a:lnTo>
                        <a:pt x="61" y="0"/>
                      </a:lnTo>
                      <a:lnTo>
                        <a:pt x="54" y="2"/>
                      </a:lnTo>
                      <a:lnTo>
                        <a:pt x="47" y="2"/>
                      </a:lnTo>
                      <a:lnTo>
                        <a:pt x="40" y="4"/>
                      </a:lnTo>
                      <a:lnTo>
                        <a:pt x="34" y="4"/>
                      </a:lnTo>
                      <a:lnTo>
                        <a:pt x="27" y="6"/>
                      </a:lnTo>
                      <a:lnTo>
                        <a:pt x="20" y="11"/>
                      </a:lnTo>
                      <a:lnTo>
                        <a:pt x="13" y="13"/>
                      </a:lnTo>
                      <a:lnTo>
                        <a:pt x="11" y="19"/>
                      </a:lnTo>
                      <a:lnTo>
                        <a:pt x="4" y="24"/>
                      </a:lnTo>
                      <a:lnTo>
                        <a:pt x="0" y="31"/>
                      </a:lnTo>
                      <a:lnTo>
                        <a:pt x="0" y="37"/>
                      </a:lnTo>
                      <a:lnTo>
                        <a:pt x="2" y="44"/>
                      </a:lnTo>
                      <a:lnTo>
                        <a:pt x="9" y="48"/>
                      </a:lnTo>
                      <a:lnTo>
                        <a:pt x="16" y="55"/>
                      </a:lnTo>
                      <a:lnTo>
                        <a:pt x="22" y="57"/>
                      </a:lnTo>
                      <a:lnTo>
                        <a:pt x="29" y="59"/>
                      </a:lnTo>
                      <a:lnTo>
                        <a:pt x="38" y="59"/>
                      </a:lnTo>
                      <a:lnTo>
                        <a:pt x="45" y="62"/>
                      </a:lnTo>
                      <a:lnTo>
                        <a:pt x="54" y="62"/>
                      </a:lnTo>
                      <a:lnTo>
                        <a:pt x="321" y="39"/>
                      </a:lnTo>
                      <a:lnTo>
                        <a:pt x="328" y="24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7585200" y="1316160"/>
                  <a:ext cx="122040" cy="73080"/>
                </a:xfrm>
                <a:custGeom>
                  <a:avLst/>
                  <a:gdLst/>
                  <a:ahLst/>
                  <a:rect l="l" t="t" r="r" b="b"/>
                  <a:pathLst>
                    <a:path w="305" h="136">
                      <a:moveTo>
                        <a:pt x="305" y="0"/>
                      </a:moveTo>
                      <a:lnTo>
                        <a:pt x="46" y="68"/>
                      </a:lnTo>
                      <a:lnTo>
                        <a:pt x="40" y="72"/>
                      </a:lnTo>
                      <a:lnTo>
                        <a:pt x="33" y="75"/>
                      </a:lnTo>
                      <a:lnTo>
                        <a:pt x="28" y="79"/>
                      </a:lnTo>
                      <a:lnTo>
                        <a:pt x="22" y="81"/>
                      </a:lnTo>
                      <a:lnTo>
                        <a:pt x="16" y="86"/>
                      </a:lnTo>
                      <a:lnTo>
                        <a:pt x="12" y="92"/>
                      </a:lnTo>
                      <a:lnTo>
                        <a:pt x="6" y="97"/>
                      </a:lnTo>
                      <a:lnTo>
                        <a:pt x="6" y="104"/>
                      </a:lnTo>
                      <a:lnTo>
                        <a:pt x="2" y="110"/>
                      </a:lnTo>
                      <a:lnTo>
                        <a:pt x="0" y="118"/>
                      </a:lnTo>
                      <a:lnTo>
                        <a:pt x="2" y="125"/>
                      </a:lnTo>
                      <a:lnTo>
                        <a:pt x="6" y="130"/>
                      </a:lnTo>
                      <a:lnTo>
                        <a:pt x="14" y="131"/>
                      </a:lnTo>
                      <a:lnTo>
                        <a:pt x="22" y="136"/>
                      </a:lnTo>
                      <a:lnTo>
                        <a:pt x="30" y="136"/>
                      </a:lnTo>
                      <a:lnTo>
                        <a:pt x="37" y="135"/>
                      </a:lnTo>
                      <a:lnTo>
                        <a:pt x="46" y="132"/>
                      </a:lnTo>
                      <a:lnTo>
                        <a:pt x="52" y="132"/>
                      </a:lnTo>
                      <a:lnTo>
                        <a:pt x="60" y="129"/>
                      </a:lnTo>
                      <a:lnTo>
                        <a:pt x="304" y="18"/>
                      </a:lnTo>
                      <a:lnTo>
                        <a:pt x="305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394840" y="1003320"/>
                  <a:ext cx="125280" cy="65160"/>
                </a:xfrm>
                <a:custGeom>
                  <a:avLst/>
                  <a:gdLst/>
                  <a:ahLst/>
                  <a:rect l="l" t="t" r="r" b="b"/>
                  <a:pathLst>
                    <a:path w="317" h="122">
                      <a:moveTo>
                        <a:pt x="0" y="109"/>
                      </a:moveTo>
                      <a:lnTo>
                        <a:pt x="247" y="4"/>
                      </a:lnTo>
                      <a:lnTo>
                        <a:pt x="254" y="4"/>
                      </a:lnTo>
                      <a:lnTo>
                        <a:pt x="261" y="2"/>
                      </a:lnTo>
                      <a:lnTo>
                        <a:pt x="267" y="2"/>
                      </a:lnTo>
                      <a:lnTo>
                        <a:pt x="274" y="0"/>
                      </a:lnTo>
                      <a:lnTo>
                        <a:pt x="281" y="0"/>
                      </a:lnTo>
                      <a:lnTo>
                        <a:pt x="289" y="2"/>
                      </a:lnTo>
                      <a:lnTo>
                        <a:pt x="296" y="2"/>
                      </a:lnTo>
                      <a:lnTo>
                        <a:pt x="300" y="8"/>
                      </a:lnTo>
                      <a:lnTo>
                        <a:pt x="308" y="10"/>
                      </a:lnTo>
                      <a:lnTo>
                        <a:pt x="315" y="15"/>
                      </a:lnTo>
                      <a:lnTo>
                        <a:pt x="317" y="22"/>
                      </a:lnTo>
                      <a:lnTo>
                        <a:pt x="317" y="29"/>
                      </a:lnTo>
                      <a:lnTo>
                        <a:pt x="311" y="35"/>
                      </a:lnTo>
                      <a:lnTo>
                        <a:pt x="307" y="43"/>
                      </a:lnTo>
                      <a:lnTo>
                        <a:pt x="301" y="48"/>
                      </a:lnTo>
                      <a:lnTo>
                        <a:pt x="296" y="52"/>
                      </a:lnTo>
                      <a:lnTo>
                        <a:pt x="288" y="54"/>
                      </a:lnTo>
                      <a:lnTo>
                        <a:pt x="281" y="59"/>
                      </a:lnTo>
                      <a:lnTo>
                        <a:pt x="273" y="61"/>
                      </a:lnTo>
                      <a:lnTo>
                        <a:pt x="11" y="122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8402760" y="1217520"/>
                  <a:ext cx="122040" cy="71640"/>
                </a:xfrm>
                <a:custGeom>
                  <a:avLst/>
                  <a:gdLst/>
                  <a:ahLst/>
                  <a:rect l="l" t="t" r="r" b="b"/>
                  <a:pathLst>
                    <a:path w="305" h="135">
                      <a:moveTo>
                        <a:pt x="0" y="0"/>
                      </a:moveTo>
                      <a:lnTo>
                        <a:pt x="259" y="67"/>
                      </a:lnTo>
                      <a:lnTo>
                        <a:pt x="265" y="72"/>
                      </a:lnTo>
                      <a:lnTo>
                        <a:pt x="271" y="74"/>
                      </a:lnTo>
                      <a:lnTo>
                        <a:pt x="277" y="79"/>
                      </a:lnTo>
                      <a:lnTo>
                        <a:pt x="283" y="81"/>
                      </a:lnTo>
                      <a:lnTo>
                        <a:pt x="288" y="85"/>
                      </a:lnTo>
                      <a:lnTo>
                        <a:pt x="293" y="92"/>
                      </a:lnTo>
                      <a:lnTo>
                        <a:pt x="298" y="96"/>
                      </a:lnTo>
                      <a:lnTo>
                        <a:pt x="298" y="103"/>
                      </a:lnTo>
                      <a:lnTo>
                        <a:pt x="303" y="110"/>
                      </a:lnTo>
                      <a:lnTo>
                        <a:pt x="305" y="117"/>
                      </a:lnTo>
                      <a:lnTo>
                        <a:pt x="303" y="124"/>
                      </a:lnTo>
                      <a:lnTo>
                        <a:pt x="298" y="130"/>
                      </a:lnTo>
                      <a:lnTo>
                        <a:pt x="290" y="131"/>
                      </a:lnTo>
                      <a:lnTo>
                        <a:pt x="283" y="135"/>
                      </a:lnTo>
                      <a:lnTo>
                        <a:pt x="275" y="135"/>
                      </a:lnTo>
                      <a:lnTo>
                        <a:pt x="268" y="134"/>
                      </a:lnTo>
                      <a:lnTo>
                        <a:pt x="259" y="132"/>
                      </a:lnTo>
                      <a:lnTo>
                        <a:pt x="252" y="132"/>
                      </a:lnTo>
                      <a:lnTo>
                        <a:pt x="244" y="128"/>
                      </a:lnTo>
                      <a:lnTo>
                        <a:pt x="1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6" name=""/>
            <p:cNvSpPr/>
            <p:nvPr/>
          </p:nvSpPr>
          <p:spPr>
            <a:xfrm>
              <a:off x="7737120" y="1954080"/>
              <a:ext cx="807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ujua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ercap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4444920" y="635040"/>
            <a:ext cx="1154160" cy="1966320"/>
            <a:chOff x="4444920" y="635040"/>
            <a:chExt cx="1154160" cy="1966320"/>
          </a:xfrm>
        </p:grpSpPr>
        <p:pic>
          <p:nvPicPr>
            <p:cNvPr id="468" name="" descr=""/>
            <p:cNvPicPr/>
            <p:nvPr/>
          </p:nvPicPr>
          <p:blipFill>
            <a:blip r:embed="rId9"/>
            <a:stretch/>
          </p:blipFill>
          <p:spPr>
            <a:xfrm>
              <a:off x="4444920" y="635040"/>
              <a:ext cx="11541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4656600" y="2081160"/>
              <a:ext cx="84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s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nc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4384800" y="485640"/>
            <a:ext cx="1403280" cy="2133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5705640" y="4181400"/>
            <a:ext cx="1976400" cy="2049480"/>
            <a:chOff x="5705640" y="4181400"/>
            <a:chExt cx="1976400" cy="2049480"/>
          </a:xfrm>
        </p:grpSpPr>
        <p:grpSp>
          <p:nvGrpSpPr>
            <p:cNvPr id="472" name=""/>
            <p:cNvGrpSpPr/>
            <p:nvPr/>
          </p:nvGrpSpPr>
          <p:grpSpPr>
            <a:xfrm>
              <a:off x="6224760" y="4181400"/>
              <a:ext cx="1457280" cy="2049480"/>
              <a:chOff x="6224760" y="4181400"/>
              <a:chExt cx="1457280" cy="2049480"/>
            </a:xfrm>
          </p:grpSpPr>
          <p:pic>
            <p:nvPicPr>
              <p:cNvPr id="47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224760" y="4181400"/>
                <a:ext cx="1457280" cy="12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>
                <a:off x="6261120" y="5497560"/>
                <a:ext cx="13816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ri Dan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ri pihak y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erkepenting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5705640" y="4824360"/>
              <a:ext cx="285840" cy="333360"/>
            </a:xfrm>
            <a:prstGeom prst="rightArrow">
              <a:avLst>
                <a:gd name="adj1" fmla="val 55241"/>
                <a:gd name="adj2" fmla="val 51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1668600" y="4019400"/>
            <a:ext cx="1971360" cy="2249280"/>
            <a:chOff x="1668600" y="4019400"/>
            <a:chExt cx="1971360" cy="2249280"/>
          </a:xfrm>
        </p:grpSpPr>
        <p:grpSp>
          <p:nvGrpSpPr>
            <p:cNvPr id="477" name=""/>
            <p:cNvGrpSpPr/>
            <p:nvPr/>
          </p:nvGrpSpPr>
          <p:grpSpPr>
            <a:xfrm>
              <a:off x="1668600" y="4019400"/>
              <a:ext cx="1971360" cy="1554120"/>
              <a:chOff x="1668600" y="4019400"/>
              <a:chExt cx="1971360" cy="1554120"/>
            </a:xfrm>
          </p:grpSpPr>
          <p:pic>
            <p:nvPicPr>
              <p:cNvPr id="47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668600" y="4093920"/>
                <a:ext cx="1971360" cy="1479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79" name=""/>
              <p:cNvGrpSpPr/>
              <p:nvPr/>
            </p:nvGrpSpPr>
            <p:grpSpPr>
              <a:xfrm>
                <a:off x="2860560" y="4019400"/>
                <a:ext cx="514080" cy="919080"/>
                <a:chOff x="2860560" y="4019400"/>
                <a:chExt cx="514080" cy="9190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2860560" y="4019400"/>
                  <a:ext cx="514080" cy="919080"/>
                </a:xfrm>
                <a:custGeom>
                  <a:avLst/>
                  <a:gdLst/>
                  <a:ahLst/>
                  <a:rect l="l" t="t" r="r" b="b"/>
                  <a:pathLst>
                    <a:path w="1221" h="1573">
                      <a:moveTo>
                        <a:pt x="15" y="330"/>
                      </a:moveTo>
                      <a:lnTo>
                        <a:pt x="7" y="207"/>
                      </a:lnTo>
                      <a:lnTo>
                        <a:pt x="69" y="92"/>
                      </a:lnTo>
                      <a:lnTo>
                        <a:pt x="185" y="0"/>
                      </a:lnTo>
                      <a:lnTo>
                        <a:pt x="360" y="39"/>
                      </a:lnTo>
                      <a:lnTo>
                        <a:pt x="514" y="146"/>
                      </a:lnTo>
                      <a:lnTo>
                        <a:pt x="707" y="230"/>
                      </a:lnTo>
                      <a:lnTo>
                        <a:pt x="913" y="315"/>
                      </a:lnTo>
                      <a:lnTo>
                        <a:pt x="1106" y="430"/>
                      </a:lnTo>
                      <a:lnTo>
                        <a:pt x="1221" y="537"/>
                      </a:lnTo>
                      <a:lnTo>
                        <a:pt x="1197" y="568"/>
                      </a:lnTo>
                      <a:lnTo>
                        <a:pt x="982" y="767"/>
                      </a:lnTo>
                      <a:lnTo>
                        <a:pt x="906" y="875"/>
                      </a:lnTo>
                      <a:lnTo>
                        <a:pt x="890" y="975"/>
                      </a:lnTo>
                      <a:lnTo>
                        <a:pt x="882" y="1105"/>
                      </a:lnTo>
                      <a:lnTo>
                        <a:pt x="868" y="1274"/>
                      </a:lnTo>
                      <a:lnTo>
                        <a:pt x="829" y="1451"/>
                      </a:lnTo>
                      <a:lnTo>
                        <a:pt x="768" y="1550"/>
                      </a:lnTo>
                      <a:lnTo>
                        <a:pt x="707" y="1573"/>
                      </a:lnTo>
                      <a:lnTo>
                        <a:pt x="638" y="1520"/>
                      </a:lnTo>
                      <a:lnTo>
                        <a:pt x="522" y="1451"/>
                      </a:lnTo>
                      <a:lnTo>
                        <a:pt x="399" y="1374"/>
                      </a:lnTo>
                      <a:lnTo>
                        <a:pt x="261" y="1319"/>
                      </a:lnTo>
                      <a:lnTo>
                        <a:pt x="138" y="1304"/>
                      </a:lnTo>
                      <a:lnTo>
                        <a:pt x="76" y="1205"/>
                      </a:lnTo>
                      <a:lnTo>
                        <a:pt x="31" y="1059"/>
                      </a:lnTo>
                      <a:lnTo>
                        <a:pt x="0" y="822"/>
                      </a:lnTo>
                      <a:lnTo>
                        <a:pt x="7" y="614"/>
                      </a:lnTo>
                      <a:lnTo>
                        <a:pt x="23" y="491"/>
                      </a:lnTo>
                      <a:lnTo>
                        <a:pt x="76" y="491"/>
                      </a:lnTo>
                      <a:lnTo>
                        <a:pt x="69" y="698"/>
                      </a:lnTo>
                      <a:lnTo>
                        <a:pt x="69" y="920"/>
                      </a:lnTo>
                      <a:lnTo>
                        <a:pt x="100" y="1052"/>
                      </a:lnTo>
                      <a:lnTo>
                        <a:pt x="153" y="1205"/>
                      </a:lnTo>
                      <a:lnTo>
                        <a:pt x="276" y="1266"/>
                      </a:lnTo>
                      <a:lnTo>
                        <a:pt x="445" y="1312"/>
                      </a:lnTo>
                      <a:lnTo>
                        <a:pt x="583" y="1388"/>
                      </a:lnTo>
                      <a:lnTo>
                        <a:pt x="714" y="1481"/>
                      </a:lnTo>
                      <a:lnTo>
                        <a:pt x="768" y="1420"/>
                      </a:lnTo>
                      <a:lnTo>
                        <a:pt x="799" y="1290"/>
                      </a:lnTo>
                      <a:lnTo>
                        <a:pt x="813" y="1121"/>
                      </a:lnTo>
                      <a:lnTo>
                        <a:pt x="829" y="944"/>
                      </a:lnTo>
                      <a:lnTo>
                        <a:pt x="882" y="790"/>
                      </a:lnTo>
                      <a:lnTo>
                        <a:pt x="1036" y="629"/>
                      </a:lnTo>
                      <a:lnTo>
                        <a:pt x="1106" y="545"/>
                      </a:lnTo>
                      <a:lnTo>
                        <a:pt x="1098" y="513"/>
                      </a:lnTo>
                      <a:lnTo>
                        <a:pt x="906" y="383"/>
                      </a:lnTo>
                      <a:lnTo>
                        <a:pt x="714" y="299"/>
                      </a:lnTo>
                      <a:lnTo>
                        <a:pt x="553" y="222"/>
                      </a:lnTo>
                      <a:lnTo>
                        <a:pt x="453" y="177"/>
                      </a:lnTo>
                      <a:lnTo>
                        <a:pt x="352" y="116"/>
                      </a:lnTo>
                      <a:lnTo>
                        <a:pt x="291" y="84"/>
                      </a:lnTo>
                      <a:lnTo>
                        <a:pt x="191" y="77"/>
                      </a:lnTo>
                      <a:lnTo>
                        <a:pt x="130" y="130"/>
                      </a:lnTo>
                      <a:lnTo>
                        <a:pt x="84" y="214"/>
                      </a:lnTo>
                      <a:lnTo>
                        <a:pt x="84" y="291"/>
                      </a:lnTo>
                      <a:lnTo>
                        <a:pt x="76" y="368"/>
                      </a:lnTo>
                      <a:lnTo>
                        <a:pt x="15" y="3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950920" y="4439160"/>
                  <a:ext cx="57600" cy="164160"/>
                </a:xfrm>
                <a:custGeom>
                  <a:avLst/>
                  <a:gdLst/>
                  <a:ahLst/>
                  <a:rect l="l" t="t" r="r" b="b"/>
                  <a:pathLst>
                    <a:path w="1221" h="1573">
                      <a:moveTo>
                        <a:pt x="15" y="330"/>
                      </a:moveTo>
                      <a:lnTo>
                        <a:pt x="7" y="207"/>
                      </a:lnTo>
                      <a:lnTo>
                        <a:pt x="69" y="92"/>
                      </a:lnTo>
                      <a:lnTo>
                        <a:pt x="185" y="0"/>
                      </a:lnTo>
                      <a:lnTo>
                        <a:pt x="360" y="39"/>
                      </a:lnTo>
                      <a:lnTo>
                        <a:pt x="514" y="146"/>
                      </a:lnTo>
                      <a:lnTo>
                        <a:pt x="707" y="230"/>
                      </a:lnTo>
                      <a:lnTo>
                        <a:pt x="913" y="315"/>
                      </a:lnTo>
                      <a:lnTo>
                        <a:pt x="1106" y="430"/>
                      </a:lnTo>
                      <a:lnTo>
                        <a:pt x="1221" y="537"/>
                      </a:lnTo>
                      <a:lnTo>
                        <a:pt x="1197" y="568"/>
                      </a:lnTo>
                      <a:lnTo>
                        <a:pt x="982" y="767"/>
                      </a:lnTo>
                      <a:lnTo>
                        <a:pt x="906" y="875"/>
                      </a:lnTo>
                      <a:lnTo>
                        <a:pt x="890" y="975"/>
                      </a:lnTo>
                      <a:lnTo>
                        <a:pt x="882" y="1105"/>
                      </a:lnTo>
                      <a:lnTo>
                        <a:pt x="868" y="1274"/>
                      </a:lnTo>
                      <a:lnTo>
                        <a:pt x="829" y="1451"/>
                      </a:lnTo>
                      <a:lnTo>
                        <a:pt x="768" y="1550"/>
                      </a:lnTo>
                      <a:lnTo>
                        <a:pt x="707" y="1573"/>
                      </a:lnTo>
                      <a:lnTo>
                        <a:pt x="638" y="1520"/>
                      </a:lnTo>
                      <a:lnTo>
                        <a:pt x="522" y="1451"/>
                      </a:lnTo>
                      <a:lnTo>
                        <a:pt x="399" y="1374"/>
                      </a:lnTo>
                      <a:lnTo>
                        <a:pt x="261" y="1319"/>
                      </a:lnTo>
                      <a:lnTo>
                        <a:pt x="138" y="1304"/>
                      </a:lnTo>
                      <a:lnTo>
                        <a:pt x="76" y="1205"/>
                      </a:lnTo>
                      <a:lnTo>
                        <a:pt x="31" y="1059"/>
                      </a:lnTo>
                      <a:lnTo>
                        <a:pt x="0" y="822"/>
                      </a:lnTo>
                      <a:lnTo>
                        <a:pt x="7" y="614"/>
                      </a:lnTo>
                      <a:lnTo>
                        <a:pt x="23" y="491"/>
                      </a:lnTo>
                      <a:lnTo>
                        <a:pt x="76" y="491"/>
                      </a:lnTo>
                      <a:lnTo>
                        <a:pt x="69" y="698"/>
                      </a:lnTo>
                      <a:lnTo>
                        <a:pt x="69" y="920"/>
                      </a:lnTo>
                      <a:lnTo>
                        <a:pt x="100" y="1052"/>
                      </a:lnTo>
                      <a:lnTo>
                        <a:pt x="153" y="1205"/>
                      </a:lnTo>
                      <a:lnTo>
                        <a:pt x="276" y="1266"/>
                      </a:lnTo>
                      <a:lnTo>
                        <a:pt x="445" y="1312"/>
                      </a:lnTo>
                      <a:lnTo>
                        <a:pt x="583" y="1388"/>
                      </a:lnTo>
                      <a:lnTo>
                        <a:pt x="714" y="1481"/>
                      </a:lnTo>
                      <a:lnTo>
                        <a:pt x="768" y="1420"/>
                      </a:lnTo>
                      <a:lnTo>
                        <a:pt x="799" y="1290"/>
                      </a:lnTo>
                      <a:lnTo>
                        <a:pt x="813" y="1121"/>
                      </a:lnTo>
                      <a:lnTo>
                        <a:pt x="829" y="944"/>
                      </a:lnTo>
                      <a:lnTo>
                        <a:pt x="882" y="790"/>
                      </a:lnTo>
                      <a:lnTo>
                        <a:pt x="1036" y="629"/>
                      </a:lnTo>
                      <a:lnTo>
                        <a:pt x="1106" y="545"/>
                      </a:lnTo>
                      <a:lnTo>
                        <a:pt x="1098" y="513"/>
                      </a:lnTo>
                      <a:lnTo>
                        <a:pt x="906" y="383"/>
                      </a:lnTo>
                      <a:lnTo>
                        <a:pt x="714" y="299"/>
                      </a:lnTo>
                      <a:lnTo>
                        <a:pt x="553" y="222"/>
                      </a:lnTo>
                      <a:lnTo>
                        <a:pt x="453" y="177"/>
                      </a:lnTo>
                      <a:lnTo>
                        <a:pt x="352" y="116"/>
                      </a:lnTo>
                      <a:lnTo>
                        <a:pt x="291" y="84"/>
                      </a:lnTo>
                      <a:lnTo>
                        <a:pt x="191" y="77"/>
                      </a:lnTo>
                      <a:lnTo>
                        <a:pt x="130" y="130"/>
                      </a:lnTo>
                      <a:lnTo>
                        <a:pt x="84" y="214"/>
                      </a:lnTo>
                      <a:lnTo>
                        <a:pt x="84" y="291"/>
                      </a:lnTo>
                      <a:lnTo>
                        <a:pt x="76" y="368"/>
                      </a:lnTo>
                      <a:lnTo>
                        <a:pt x="15" y="3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972160" y="4252320"/>
                  <a:ext cx="57600" cy="165240"/>
                </a:xfrm>
                <a:custGeom>
                  <a:avLst/>
                  <a:gdLst/>
                  <a:ahLst/>
                  <a:rect l="l" t="t" r="r" b="b"/>
                  <a:pathLst>
                    <a:path w="1221" h="1573">
                      <a:moveTo>
                        <a:pt x="15" y="330"/>
                      </a:moveTo>
                      <a:lnTo>
                        <a:pt x="7" y="207"/>
                      </a:lnTo>
                      <a:lnTo>
                        <a:pt x="69" y="92"/>
                      </a:lnTo>
                      <a:lnTo>
                        <a:pt x="185" y="0"/>
                      </a:lnTo>
                      <a:lnTo>
                        <a:pt x="360" y="39"/>
                      </a:lnTo>
                      <a:lnTo>
                        <a:pt x="514" y="146"/>
                      </a:lnTo>
                      <a:lnTo>
                        <a:pt x="707" y="230"/>
                      </a:lnTo>
                      <a:lnTo>
                        <a:pt x="913" y="315"/>
                      </a:lnTo>
                      <a:lnTo>
                        <a:pt x="1106" y="430"/>
                      </a:lnTo>
                      <a:lnTo>
                        <a:pt x="1221" y="537"/>
                      </a:lnTo>
                      <a:lnTo>
                        <a:pt x="1197" y="568"/>
                      </a:lnTo>
                      <a:lnTo>
                        <a:pt x="982" y="767"/>
                      </a:lnTo>
                      <a:lnTo>
                        <a:pt x="906" y="875"/>
                      </a:lnTo>
                      <a:lnTo>
                        <a:pt x="890" y="975"/>
                      </a:lnTo>
                      <a:lnTo>
                        <a:pt x="882" y="1105"/>
                      </a:lnTo>
                      <a:lnTo>
                        <a:pt x="868" y="1274"/>
                      </a:lnTo>
                      <a:lnTo>
                        <a:pt x="829" y="1451"/>
                      </a:lnTo>
                      <a:lnTo>
                        <a:pt x="768" y="1550"/>
                      </a:lnTo>
                      <a:lnTo>
                        <a:pt x="707" y="1573"/>
                      </a:lnTo>
                      <a:lnTo>
                        <a:pt x="638" y="1520"/>
                      </a:lnTo>
                      <a:lnTo>
                        <a:pt x="522" y="1451"/>
                      </a:lnTo>
                      <a:lnTo>
                        <a:pt x="399" y="1374"/>
                      </a:lnTo>
                      <a:lnTo>
                        <a:pt x="261" y="1319"/>
                      </a:lnTo>
                      <a:lnTo>
                        <a:pt x="138" y="1304"/>
                      </a:lnTo>
                      <a:lnTo>
                        <a:pt x="76" y="1205"/>
                      </a:lnTo>
                      <a:lnTo>
                        <a:pt x="31" y="1059"/>
                      </a:lnTo>
                      <a:lnTo>
                        <a:pt x="0" y="822"/>
                      </a:lnTo>
                      <a:lnTo>
                        <a:pt x="7" y="614"/>
                      </a:lnTo>
                      <a:lnTo>
                        <a:pt x="23" y="491"/>
                      </a:lnTo>
                      <a:lnTo>
                        <a:pt x="76" y="491"/>
                      </a:lnTo>
                      <a:lnTo>
                        <a:pt x="69" y="698"/>
                      </a:lnTo>
                      <a:lnTo>
                        <a:pt x="69" y="920"/>
                      </a:lnTo>
                      <a:lnTo>
                        <a:pt x="100" y="1052"/>
                      </a:lnTo>
                      <a:lnTo>
                        <a:pt x="153" y="1205"/>
                      </a:lnTo>
                      <a:lnTo>
                        <a:pt x="276" y="1266"/>
                      </a:lnTo>
                      <a:lnTo>
                        <a:pt x="445" y="1312"/>
                      </a:lnTo>
                      <a:lnTo>
                        <a:pt x="583" y="1388"/>
                      </a:lnTo>
                      <a:lnTo>
                        <a:pt x="714" y="1481"/>
                      </a:lnTo>
                      <a:lnTo>
                        <a:pt x="768" y="1420"/>
                      </a:lnTo>
                      <a:lnTo>
                        <a:pt x="799" y="1290"/>
                      </a:lnTo>
                      <a:lnTo>
                        <a:pt x="813" y="1121"/>
                      </a:lnTo>
                      <a:lnTo>
                        <a:pt x="829" y="944"/>
                      </a:lnTo>
                      <a:lnTo>
                        <a:pt x="882" y="790"/>
                      </a:lnTo>
                      <a:lnTo>
                        <a:pt x="1036" y="629"/>
                      </a:lnTo>
                      <a:lnTo>
                        <a:pt x="1106" y="545"/>
                      </a:lnTo>
                      <a:lnTo>
                        <a:pt x="1098" y="513"/>
                      </a:lnTo>
                      <a:lnTo>
                        <a:pt x="906" y="383"/>
                      </a:lnTo>
                      <a:lnTo>
                        <a:pt x="714" y="299"/>
                      </a:lnTo>
                      <a:lnTo>
                        <a:pt x="553" y="222"/>
                      </a:lnTo>
                      <a:lnTo>
                        <a:pt x="453" y="177"/>
                      </a:lnTo>
                      <a:lnTo>
                        <a:pt x="352" y="116"/>
                      </a:lnTo>
                      <a:lnTo>
                        <a:pt x="291" y="84"/>
                      </a:lnTo>
                      <a:lnTo>
                        <a:pt x="191" y="77"/>
                      </a:lnTo>
                      <a:lnTo>
                        <a:pt x="130" y="130"/>
                      </a:lnTo>
                      <a:lnTo>
                        <a:pt x="84" y="214"/>
                      </a:lnTo>
                      <a:lnTo>
                        <a:pt x="84" y="291"/>
                      </a:lnTo>
                      <a:lnTo>
                        <a:pt x="76" y="368"/>
                      </a:lnTo>
                      <a:lnTo>
                        <a:pt x="15" y="3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036240" y="4473000"/>
                  <a:ext cx="57240" cy="164160"/>
                </a:xfrm>
                <a:custGeom>
                  <a:avLst/>
                  <a:gdLst/>
                  <a:ahLst/>
                  <a:rect l="l" t="t" r="r" b="b"/>
                  <a:pathLst>
                    <a:path w="1221" h="1573">
                      <a:moveTo>
                        <a:pt x="15" y="330"/>
                      </a:moveTo>
                      <a:lnTo>
                        <a:pt x="7" y="207"/>
                      </a:lnTo>
                      <a:lnTo>
                        <a:pt x="69" y="92"/>
                      </a:lnTo>
                      <a:lnTo>
                        <a:pt x="185" y="0"/>
                      </a:lnTo>
                      <a:lnTo>
                        <a:pt x="360" y="39"/>
                      </a:lnTo>
                      <a:lnTo>
                        <a:pt x="514" y="146"/>
                      </a:lnTo>
                      <a:lnTo>
                        <a:pt x="707" y="230"/>
                      </a:lnTo>
                      <a:lnTo>
                        <a:pt x="913" y="315"/>
                      </a:lnTo>
                      <a:lnTo>
                        <a:pt x="1106" y="430"/>
                      </a:lnTo>
                      <a:lnTo>
                        <a:pt x="1221" y="537"/>
                      </a:lnTo>
                      <a:lnTo>
                        <a:pt x="1197" y="568"/>
                      </a:lnTo>
                      <a:lnTo>
                        <a:pt x="982" y="767"/>
                      </a:lnTo>
                      <a:lnTo>
                        <a:pt x="906" y="875"/>
                      </a:lnTo>
                      <a:lnTo>
                        <a:pt x="890" y="975"/>
                      </a:lnTo>
                      <a:lnTo>
                        <a:pt x="882" y="1105"/>
                      </a:lnTo>
                      <a:lnTo>
                        <a:pt x="868" y="1274"/>
                      </a:lnTo>
                      <a:lnTo>
                        <a:pt x="829" y="1451"/>
                      </a:lnTo>
                      <a:lnTo>
                        <a:pt x="768" y="1550"/>
                      </a:lnTo>
                      <a:lnTo>
                        <a:pt x="707" y="1573"/>
                      </a:lnTo>
                      <a:lnTo>
                        <a:pt x="638" y="1520"/>
                      </a:lnTo>
                      <a:lnTo>
                        <a:pt x="522" y="1451"/>
                      </a:lnTo>
                      <a:lnTo>
                        <a:pt x="399" y="1374"/>
                      </a:lnTo>
                      <a:lnTo>
                        <a:pt x="261" y="1319"/>
                      </a:lnTo>
                      <a:lnTo>
                        <a:pt x="138" y="1304"/>
                      </a:lnTo>
                      <a:lnTo>
                        <a:pt x="76" y="1205"/>
                      </a:lnTo>
                      <a:lnTo>
                        <a:pt x="31" y="1059"/>
                      </a:lnTo>
                      <a:lnTo>
                        <a:pt x="0" y="822"/>
                      </a:lnTo>
                      <a:lnTo>
                        <a:pt x="7" y="614"/>
                      </a:lnTo>
                      <a:lnTo>
                        <a:pt x="23" y="491"/>
                      </a:lnTo>
                      <a:lnTo>
                        <a:pt x="76" y="491"/>
                      </a:lnTo>
                      <a:lnTo>
                        <a:pt x="69" y="698"/>
                      </a:lnTo>
                      <a:lnTo>
                        <a:pt x="69" y="920"/>
                      </a:lnTo>
                      <a:lnTo>
                        <a:pt x="100" y="1052"/>
                      </a:lnTo>
                      <a:lnTo>
                        <a:pt x="153" y="1205"/>
                      </a:lnTo>
                      <a:lnTo>
                        <a:pt x="276" y="1266"/>
                      </a:lnTo>
                      <a:lnTo>
                        <a:pt x="445" y="1312"/>
                      </a:lnTo>
                      <a:lnTo>
                        <a:pt x="583" y="1388"/>
                      </a:lnTo>
                      <a:lnTo>
                        <a:pt x="714" y="1481"/>
                      </a:lnTo>
                      <a:lnTo>
                        <a:pt x="768" y="1420"/>
                      </a:lnTo>
                      <a:lnTo>
                        <a:pt x="799" y="1290"/>
                      </a:lnTo>
                      <a:lnTo>
                        <a:pt x="813" y="1121"/>
                      </a:lnTo>
                      <a:lnTo>
                        <a:pt x="829" y="944"/>
                      </a:lnTo>
                      <a:lnTo>
                        <a:pt x="882" y="790"/>
                      </a:lnTo>
                      <a:lnTo>
                        <a:pt x="1036" y="629"/>
                      </a:lnTo>
                      <a:lnTo>
                        <a:pt x="1106" y="545"/>
                      </a:lnTo>
                      <a:lnTo>
                        <a:pt x="1098" y="513"/>
                      </a:lnTo>
                      <a:lnTo>
                        <a:pt x="906" y="383"/>
                      </a:lnTo>
                      <a:lnTo>
                        <a:pt x="714" y="299"/>
                      </a:lnTo>
                      <a:lnTo>
                        <a:pt x="553" y="222"/>
                      </a:lnTo>
                      <a:lnTo>
                        <a:pt x="453" y="177"/>
                      </a:lnTo>
                      <a:lnTo>
                        <a:pt x="352" y="116"/>
                      </a:lnTo>
                      <a:lnTo>
                        <a:pt x="291" y="84"/>
                      </a:lnTo>
                      <a:lnTo>
                        <a:pt x="191" y="77"/>
                      </a:lnTo>
                      <a:lnTo>
                        <a:pt x="130" y="130"/>
                      </a:lnTo>
                      <a:lnTo>
                        <a:pt x="84" y="214"/>
                      </a:lnTo>
                      <a:lnTo>
                        <a:pt x="84" y="291"/>
                      </a:lnTo>
                      <a:lnTo>
                        <a:pt x="76" y="368"/>
                      </a:lnTo>
                      <a:lnTo>
                        <a:pt x="15" y="3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126600" y="4518720"/>
                  <a:ext cx="57240" cy="165240"/>
                </a:xfrm>
                <a:custGeom>
                  <a:avLst/>
                  <a:gdLst/>
                  <a:ahLst/>
                  <a:rect l="l" t="t" r="r" b="b"/>
                  <a:pathLst>
                    <a:path w="1221" h="1573">
                      <a:moveTo>
                        <a:pt x="15" y="330"/>
                      </a:moveTo>
                      <a:lnTo>
                        <a:pt x="7" y="207"/>
                      </a:lnTo>
                      <a:lnTo>
                        <a:pt x="69" y="92"/>
                      </a:lnTo>
                      <a:lnTo>
                        <a:pt x="185" y="0"/>
                      </a:lnTo>
                      <a:lnTo>
                        <a:pt x="360" y="39"/>
                      </a:lnTo>
                      <a:lnTo>
                        <a:pt x="514" y="146"/>
                      </a:lnTo>
                      <a:lnTo>
                        <a:pt x="707" y="230"/>
                      </a:lnTo>
                      <a:lnTo>
                        <a:pt x="913" y="315"/>
                      </a:lnTo>
                      <a:lnTo>
                        <a:pt x="1106" y="430"/>
                      </a:lnTo>
                      <a:lnTo>
                        <a:pt x="1221" y="537"/>
                      </a:lnTo>
                      <a:lnTo>
                        <a:pt x="1197" y="568"/>
                      </a:lnTo>
                      <a:lnTo>
                        <a:pt x="982" y="767"/>
                      </a:lnTo>
                      <a:lnTo>
                        <a:pt x="906" y="875"/>
                      </a:lnTo>
                      <a:lnTo>
                        <a:pt x="890" y="975"/>
                      </a:lnTo>
                      <a:lnTo>
                        <a:pt x="882" y="1105"/>
                      </a:lnTo>
                      <a:lnTo>
                        <a:pt x="868" y="1274"/>
                      </a:lnTo>
                      <a:lnTo>
                        <a:pt x="829" y="1451"/>
                      </a:lnTo>
                      <a:lnTo>
                        <a:pt x="768" y="1550"/>
                      </a:lnTo>
                      <a:lnTo>
                        <a:pt x="707" y="1573"/>
                      </a:lnTo>
                      <a:lnTo>
                        <a:pt x="638" y="1520"/>
                      </a:lnTo>
                      <a:lnTo>
                        <a:pt x="522" y="1451"/>
                      </a:lnTo>
                      <a:lnTo>
                        <a:pt x="399" y="1374"/>
                      </a:lnTo>
                      <a:lnTo>
                        <a:pt x="261" y="1319"/>
                      </a:lnTo>
                      <a:lnTo>
                        <a:pt x="138" y="1304"/>
                      </a:lnTo>
                      <a:lnTo>
                        <a:pt x="76" y="1205"/>
                      </a:lnTo>
                      <a:lnTo>
                        <a:pt x="31" y="1059"/>
                      </a:lnTo>
                      <a:lnTo>
                        <a:pt x="0" y="822"/>
                      </a:lnTo>
                      <a:lnTo>
                        <a:pt x="7" y="614"/>
                      </a:lnTo>
                      <a:lnTo>
                        <a:pt x="23" y="491"/>
                      </a:lnTo>
                      <a:lnTo>
                        <a:pt x="76" y="491"/>
                      </a:lnTo>
                      <a:lnTo>
                        <a:pt x="69" y="698"/>
                      </a:lnTo>
                      <a:lnTo>
                        <a:pt x="69" y="920"/>
                      </a:lnTo>
                      <a:lnTo>
                        <a:pt x="100" y="1052"/>
                      </a:lnTo>
                      <a:lnTo>
                        <a:pt x="153" y="1205"/>
                      </a:lnTo>
                      <a:lnTo>
                        <a:pt x="276" y="1266"/>
                      </a:lnTo>
                      <a:lnTo>
                        <a:pt x="445" y="1312"/>
                      </a:lnTo>
                      <a:lnTo>
                        <a:pt x="583" y="1388"/>
                      </a:lnTo>
                      <a:lnTo>
                        <a:pt x="714" y="1481"/>
                      </a:lnTo>
                      <a:lnTo>
                        <a:pt x="768" y="1420"/>
                      </a:lnTo>
                      <a:lnTo>
                        <a:pt x="799" y="1290"/>
                      </a:lnTo>
                      <a:lnTo>
                        <a:pt x="813" y="1121"/>
                      </a:lnTo>
                      <a:lnTo>
                        <a:pt x="829" y="944"/>
                      </a:lnTo>
                      <a:lnTo>
                        <a:pt x="882" y="790"/>
                      </a:lnTo>
                      <a:lnTo>
                        <a:pt x="1036" y="629"/>
                      </a:lnTo>
                      <a:lnTo>
                        <a:pt x="1106" y="545"/>
                      </a:lnTo>
                      <a:lnTo>
                        <a:pt x="1098" y="513"/>
                      </a:lnTo>
                      <a:lnTo>
                        <a:pt x="906" y="383"/>
                      </a:lnTo>
                      <a:lnTo>
                        <a:pt x="714" y="299"/>
                      </a:lnTo>
                      <a:lnTo>
                        <a:pt x="553" y="222"/>
                      </a:lnTo>
                      <a:lnTo>
                        <a:pt x="453" y="177"/>
                      </a:lnTo>
                      <a:lnTo>
                        <a:pt x="352" y="116"/>
                      </a:lnTo>
                      <a:lnTo>
                        <a:pt x="291" y="84"/>
                      </a:lnTo>
                      <a:lnTo>
                        <a:pt x="191" y="77"/>
                      </a:lnTo>
                      <a:lnTo>
                        <a:pt x="130" y="130"/>
                      </a:lnTo>
                      <a:lnTo>
                        <a:pt x="84" y="214"/>
                      </a:lnTo>
                      <a:lnTo>
                        <a:pt x="84" y="291"/>
                      </a:lnTo>
                      <a:lnTo>
                        <a:pt x="76" y="368"/>
                      </a:lnTo>
                      <a:lnTo>
                        <a:pt x="15" y="3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 rot="4892400">
                  <a:off x="3016800" y="4683600"/>
                  <a:ext cx="65520" cy="70560"/>
                </a:xfrm>
                <a:custGeom>
                  <a:avLst/>
                  <a:gdLst/>
                  <a:ahLst/>
                  <a:rect l="l" t="t" r="r" b="b"/>
                  <a:pathLst>
                    <a:path w="264" h="290">
                      <a:moveTo>
                        <a:pt x="229" y="104"/>
                      </a:moveTo>
                      <a:lnTo>
                        <a:pt x="186" y="55"/>
                      </a:lnTo>
                      <a:lnTo>
                        <a:pt x="133" y="17"/>
                      </a:lnTo>
                      <a:lnTo>
                        <a:pt x="65" y="0"/>
                      </a:lnTo>
                      <a:lnTo>
                        <a:pt x="25" y="13"/>
                      </a:lnTo>
                      <a:lnTo>
                        <a:pt x="0" y="49"/>
                      </a:lnTo>
                      <a:lnTo>
                        <a:pt x="4" y="108"/>
                      </a:lnTo>
                      <a:lnTo>
                        <a:pt x="29" y="165"/>
                      </a:lnTo>
                      <a:lnTo>
                        <a:pt x="61" y="199"/>
                      </a:lnTo>
                      <a:lnTo>
                        <a:pt x="4" y="231"/>
                      </a:lnTo>
                      <a:lnTo>
                        <a:pt x="0" y="255"/>
                      </a:lnTo>
                      <a:lnTo>
                        <a:pt x="25" y="265"/>
                      </a:lnTo>
                      <a:lnTo>
                        <a:pt x="73" y="225"/>
                      </a:lnTo>
                      <a:lnTo>
                        <a:pt x="108" y="260"/>
                      </a:lnTo>
                      <a:lnTo>
                        <a:pt x="143" y="278"/>
                      </a:lnTo>
                      <a:lnTo>
                        <a:pt x="173" y="290"/>
                      </a:lnTo>
                      <a:lnTo>
                        <a:pt x="199" y="286"/>
                      </a:lnTo>
                      <a:lnTo>
                        <a:pt x="234" y="278"/>
                      </a:lnTo>
                      <a:lnTo>
                        <a:pt x="252" y="260"/>
                      </a:lnTo>
                      <a:lnTo>
                        <a:pt x="264" y="231"/>
                      </a:lnTo>
                      <a:lnTo>
                        <a:pt x="264" y="195"/>
                      </a:lnTo>
                      <a:lnTo>
                        <a:pt x="260" y="152"/>
                      </a:lnTo>
                      <a:lnTo>
                        <a:pt x="229" y="10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H="1" rot="14956200">
                  <a:off x="3067560" y="4197240"/>
                  <a:ext cx="66600" cy="70920"/>
                </a:xfrm>
                <a:custGeom>
                  <a:avLst/>
                  <a:gdLst/>
                  <a:ahLst/>
                  <a:rect l="l" t="t" r="r" b="b"/>
                  <a:pathLst>
                    <a:path w="264" h="290">
                      <a:moveTo>
                        <a:pt x="229" y="104"/>
                      </a:moveTo>
                      <a:lnTo>
                        <a:pt x="186" y="55"/>
                      </a:lnTo>
                      <a:lnTo>
                        <a:pt x="133" y="17"/>
                      </a:lnTo>
                      <a:lnTo>
                        <a:pt x="65" y="0"/>
                      </a:lnTo>
                      <a:lnTo>
                        <a:pt x="25" y="13"/>
                      </a:lnTo>
                      <a:lnTo>
                        <a:pt x="0" y="49"/>
                      </a:lnTo>
                      <a:lnTo>
                        <a:pt x="4" y="108"/>
                      </a:lnTo>
                      <a:lnTo>
                        <a:pt x="29" y="165"/>
                      </a:lnTo>
                      <a:lnTo>
                        <a:pt x="61" y="199"/>
                      </a:lnTo>
                      <a:lnTo>
                        <a:pt x="4" y="231"/>
                      </a:lnTo>
                      <a:lnTo>
                        <a:pt x="0" y="255"/>
                      </a:lnTo>
                      <a:lnTo>
                        <a:pt x="25" y="265"/>
                      </a:lnTo>
                      <a:lnTo>
                        <a:pt x="73" y="225"/>
                      </a:lnTo>
                      <a:lnTo>
                        <a:pt x="108" y="260"/>
                      </a:lnTo>
                      <a:lnTo>
                        <a:pt x="143" y="278"/>
                      </a:lnTo>
                      <a:lnTo>
                        <a:pt x="173" y="290"/>
                      </a:lnTo>
                      <a:lnTo>
                        <a:pt x="199" y="286"/>
                      </a:lnTo>
                      <a:lnTo>
                        <a:pt x="234" y="278"/>
                      </a:lnTo>
                      <a:lnTo>
                        <a:pt x="252" y="260"/>
                      </a:lnTo>
                      <a:lnTo>
                        <a:pt x="264" y="231"/>
                      </a:lnTo>
                      <a:lnTo>
                        <a:pt x="264" y="195"/>
                      </a:lnTo>
                      <a:lnTo>
                        <a:pt x="260" y="152"/>
                      </a:lnTo>
                      <a:lnTo>
                        <a:pt x="229" y="10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3087360" y="4325400"/>
                  <a:ext cx="57240" cy="165240"/>
                </a:xfrm>
                <a:custGeom>
                  <a:avLst/>
                  <a:gdLst/>
                  <a:ahLst/>
                  <a:rect l="l" t="t" r="r" b="b"/>
                  <a:pathLst>
                    <a:path w="1221" h="1573">
                      <a:moveTo>
                        <a:pt x="15" y="330"/>
                      </a:moveTo>
                      <a:lnTo>
                        <a:pt x="7" y="207"/>
                      </a:lnTo>
                      <a:lnTo>
                        <a:pt x="69" y="92"/>
                      </a:lnTo>
                      <a:lnTo>
                        <a:pt x="185" y="0"/>
                      </a:lnTo>
                      <a:lnTo>
                        <a:pt x="360" y="39"/>
                      </a:lnTo>
                      <a:lnTo>
                        <a:pt x="514" y="146"/>
                      </a:lnTo>
                      <a:lnTo>
                        <a:pt x="707" y="230"/>
                      </a:lnTo>
                      <a:lnTo>
                        <a:pt x="913" y="315"/>
                      </a:lnTo>
                      <a:lnTo>
                        <a:pt x="1106" y="430"/>
                      </a:lnTo>
                      <a:lnTo>
                        <a:pt x="1221" y="537"/>
                      </a:lnTo>
                      <a:lnTo>
                        <a:pt x="1197" y="568"/>
                      </a:lnTo>
                      <a:lnTo>
                        <a:pt x="982" y="767"/>
                      </a:lnTo>
                      <a:lnTo>
                        <a:pt x="906" y="875"/>
                      </a:lnTo>
                      <a:lnTo>
                        <a:pt x="890" y="975"/>
                      </a:lnTo>
                      <a:lnTo>
                        <a:pt x="882" y="1105"/>
                      </a:lnTo>
                      <a:lnTo>
                        <a:pt x="868" y="1274"/>
                      </a:lnTo>
                      <a:lnTo>
                        <a:pt x="829" y="1451"/>
                      </a:lnTo>
                      <a:lnTo>
                        <a:pt x="768" y="1550"/>
                      </a:lnTo>
                      <a:lnTo>
                        <a:pt x="707" y="1573"/>
                      </a:lnTo>
                      <a:lnTo>
                        <a:pt x="638" y="1520"/>
                      </a:lnTo>
                      <a:lnTo>
                        <a:pt x="522" y="1451"/>
                      </a:lnTo>
                      <a:lnTo>
                        <a:pt x="399" y="1374"/>
                      </a:lnTo>
                      <a:lnTo>
                        <a:pt x="261" y="1319"/>
                      </a:lnTo>
                      <a:lnTo>
                        <a:pt x="138" y="1304"/>
                      </a:lnTo>
                      <a:lnTo>
                        <a:pt x="76" y="1205"/>
                      </a:lnTo>
                      <a:lnTo>
                        <a:pt x="31" y="1059"/>
                      </a:lnTo>
                      <a:lnTo>
                        <a:pt x="0" y="822"/>
                      </a:lnTo>
                      <a:lnTo>
                        <a:pt x="7" y="614"/>
                      </a:lnTo>
                      <a:lnTo>
                        <a:pt x="23" y="491"/>
                      </a:lnTo>
                      <a:lnTo>
                        <a:pt x="76" y="491"/>
                      </a:lnTo>
                      <a:lnTo>
                        <a:pt x="69" y="698"/>
                      </a:lnTo>
                      <a:lnTo>
                        <a:pt x="69" y="920"/>
                      </a:lnTo>
                      <a:lnTo>
                        <a:pt x="100" y="1052"/>
                      </a:lnTo>
                      <a:lnTo>
                        <a:pt x="153" y="1205"/>
                      </a:lnTo>
                      <a:lnTo>
                        <a:pt x="276" y="1266"/>
                      </a:lnTo>
                      <a:lnTo>
                        <a:pt x="445" y="1312"/>
                      </a:lnTo>
                      <a:lnTo>
                        <a:pt x="583" y="1388"/>
                      </a:lnTo>
                      <a:lnTo>
                        <a:pt x="714" y="1481"/>
                      </a:lnTo>
                      <a:lnTo>
                        <a:pt x="768" y="1420"/>
                      </a:lnTo>
                      <a:lnTo>
                        <a:pt x="799" y="1290"/>
                      </a:lnTo>
                      <a:lnTo>
                        <a:pt x="813" y="1121"/>
                      </a:lnTo>
                      <a:lnTo>
                        <a:pt x="829" y="944"/>
                      </a:lnTo>
                      <a:lnTo>
                        <a:pt x="882" y="790"/>
                      </a:lnTo>
                      <a:lnTo>
                        <a:pt x="1036" y="629"/>
                      </a:lnTo>
                      <a:lnTo>
                        <a:pt x="1106" y="545"/>
                      </a:lnTo>
                      <a:lnTo>
                        <a:pt x="1098" y="513"/>
                      </a:lnTo>
                      <a:lnTo>
                        <a:pt x="906" y="383"/>
                      </a:lnTo>
                      <a:lnTo>
                        <a:pt x="714" y="299"/>
                      </a:lnTo>
                      <a:lnTo>
                        <a:pt x="553" y="222"/>
                      </a:lnTo>
                      <a:lnTo>
                        <a:pt x="453" y="177"/>
                      </a:lnTo>
                      <a:lnTo>
                        <a:pt x="352" y="116"/>
                      </a:lnTo>
                      <a:lnTo>
                        <a:pt x="291" y="84"/>
                      </a:lnTo>
                      <a:lnTo>
                        <a:pt x="191" y="77"/>
                      </a:lnTo>
                      <a:lnTo>
                        <a:pt x="130" y="130"/>
                      </a:lnTo>
                      <a:lnTo>
                        <a:pt x="84" y="214"/>
                      </a:lnTo>
                      <a:lnTo>
                        <a:pt x="84" y="291"/>
                      </a:lnTo>
                      <a:lnTo>
                        <a:pt x="76" y="368"/>
                      </a:lnTo>
                      <a:lnTo>
                        <a:pt x="15" y="3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2961360" y="4236480"/>
                  <a:ext cx="136800" cy="485640"/>
                </a:xfrm>
                <a:custGeom>
                  <a:avLst/>
                  <a:gdLst/>
                  <a:ahLst/>
                  <a:rect l="l" t="t" r="r" b="b"/>
                  <a:pathLst>
                    <a:path w="136" h="344">
                      <a:moveTo>
                        <a:pt x="84" y="344"/>
                      </a:moveTo>
                      <a:lnTo>
                        <a:pt x="0" y="274"/>
                      </a:lnTo>
                      <a:lnTo>
                        <a:pt x="30" y="48"/>
                      </a:lnTo>
                      <a:lnTo>
                        <a:pt x="136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045600" y="4241880"/>
                  <a:ext cx="62640" cy="478080"/>
                </a:xfrm>
                <a:custGeom>
                  <a:avLst/>
                  <a:gdLst/>
                  <a:ahLst/>
                  <a:rect l="l" t="t" r="r" b="b"/>
                  <a:pathLst>
                    <a:path w="62" h="338">
                      <a:moveTo>
                        <a:pt x="0" y="338"/>
                      </a:moveTo>
                      <a:lnTo>
                        <a:pt x="12" y="214"/>
                      </a:lnTo>
                      <a:lnTo>
                        <a:pt x="62" y="114"/>
                      </a:lnTo>
                      <a:lnTo>
                        <a:pt x="5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045600" y="4236480"/>
                  <a:ext cx="104760" cy="483480"/>
                </a:xfrm>
                <a:custGeom>
                  <a:avLst/>
                  <a:gdLst/>
                  <a:ahLst/>
                  <a:rect l="l" t="t" r="r" b="b"/>
                  <a:pathLst>
                    <a:path w="104" h="342">
                      <a:moveTo>
                        <a:pt x="0" y="342"/>
                      </a:moveTo>
                      <a:lnTo>
                        <a:pt x="104" y="260"/>
                      </a:lnTo>
                      <a:lnTo>
                        <a:pt x="62" y="118"/>
                      </a:lnTo>
                      <a:lnTo>
                        <a:pt x="5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1" name=""/>
            <p:cNvSpPr/>
            <p:nvPr/>
          </p:nvSpPr>
          <p:spPr>
            <a:xfrm>
              <a:off x="1765080" y="5535360"/>
              <a:ext cx="1778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abarkan Alternati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encapaian, menjad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Kegiatan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724200" y="4057560"/>
            <a:ext cx="1727280" cy="2316240"/>
            <a:chOff x="3724200" y="4057560"/>
            <a:chExt cx="1727280" cy="2316240"/>
          </a:xfrm>
        </p:grpSpPr>
        <p:sp>
          <p:nvSpPr>
            <p:cNvPr id="493" name=""/>
            <p:cNvSpPr/>
            <p:nvPr/>
          </p:nvSpPr>
          <p:spPr>
            <a:xfrm>
              <a:off x="3724200" y="4991040"/>
              <a:ext cx="285840" cy="333360"/>
            </a:xfrm>
            <a:prstGeom prst="rightArrow">
              <a:avLst>
                <a:gd name="adj1" fmla="val 55241"/>
                <a:gd name="adj2" fmla="val 51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490a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4105080" y="4057560"/>
              <a:ext cx="1346400" cy="2316240"/>
              <a:chOff x="4105080" y="4057560"/>
              <a:chExt cx="1346400" cy="2316240"/>
            </a:xfrm>
          </p:grpSpPr>
          <p:pic>
            <p:nvPicPr>
              <p:cNvPr id="49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05080" y="4057560"/>
                <a:ext cx="1346400" cy="16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"/>
              <p:cNvSpPr/>
              <p:nvPr/>
            </p:nvSpPr>
            <p:spPr>
              <a:xfrm>
                <a:off x="4159080" y="5640480"/>
                <a:ext cx="12384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usun Jadw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elaksana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Kegiata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376200" y="2967120"/>
            <a:ext cx="8462880" cy="3585960"/>
            <a:chOff x="376200" y="2967120"/>
            <a:chExt cx="8462880" cy="3585960"/>
          </a:xfrm>
        </p:grpSpPr>
        <p:sp>
          <p:nvSpPr>
            <p:cNvPr id="498" name=""/>
            <p:cNvSpPr/>
            <p:nvPr/>
          </p:nvSpPr>
          <p:spPr>
            <a:xfrm>
              <a:off x="376200" y="2967120"/>
              <a:ext cx="8458200" cy="538200"/>
            </a:xfrm>
            <a:custGeom>
              <a:avLst/>
              <a:gdLst/>
              <a:ahLst/>
              <a:rect l="l" t="t" r="r" b="b"/>
              <a:pathLst>
                <a:path w="5328" h="339">
                  <a:moveTo>
                    <a:pt x="4170" y="3"/>
                  </a:moveTo>
                  <a:lnTo>
                    <a:pt x="5328" y="336"/>
                  </a:lnTo>
                  <a:lnTo>
                    <a:pt x="0" y="339"/>
                  </a:lnTo>
                  <a:lnTo>
                    <a:pt x="3321" y="0"/>
                  </a:lnTo>
                  <a:lnTo>
                    <a:pt x="4170" y="3"/>
                  </a:lnTo>
                  <a:close/>
                </a:path>
              </a:pathLst>
            </a:custGeom>
            <a:solidFill>
              <a:srgbClr val="e1e1b7"/>
            </a:solidFill>
            <a:ln w="9360">
              <a:solidFill>
                <a:srgbClr val="e1e1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0880" y="3505320"/>
              <a:ext cx="8458200" cy="304776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715000" y="2971800"/>
              <a:ext cx="990720" cy="533520"/>
            </a:xfrm>
            <a:prstGeom prst="downArrow">
              <a:avLst>
                <a:gd name="adj1" fmla="val 55130"/>
                <a:gd name="adj2" fmla="val 5922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286000" y="838080"/>
            <a:ext cx="5105520" cy="1600200"/>
          </a:xfrm>
          <a:prstGeom prst="rightArrow">
            <a:avLst>
              <a:gd name="adj1" fmla="val 50000"/>
              <a:gd name="adj2" fmla="val 79764"/>
            </a:avLst>
          </a:prstGeom>
          <a:solidFill>
            <a:srgbClr val="eaeaea"/>
          </a:solidFill>
          <a:ln w="28440">
            <a:solidFill>
              <a:srgbClr val="0099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444320" y="982800"/>
            <a:ext cx="1046520" cy="1952280"/>
            <a:chOff x="1444320" y="982800"/>
            <a:chExt cx="1046520" cy="1952280"/>
          </a:xfrm>
        </p:grpSpPr>
        <p:pic>
          <p:nvPicPr>
            <p:cNvPr id="503" name="" descr=""/>
            <p:cNvPicPr/>
            <p:nvPr/>
          </p:nvPicPr>
          <p:blipFill>
            <a:blip r:embed="rId1"/>
            <a:stretch/>
          </p:blipFill>
          <p:spPr>
            <a:xfrm>
              <a:off x="1731960" y="982800"/>
              <a:ext cx="4716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1444320" y="2201760"/>
              <a:ext cx="10465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gaim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encap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ujuan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2476440" y="838080"/>
            <a:ext cx="1055880" cy="1790280"/>
            <a:chOff x="2476440" y="838080"/>
            <a:chExt cx="1055880" cy="1790280"/>
          </a:xfrm>
        </p:grpSpPr>
        <p:pic>
          <p:nvPicPr>
            <p:cNvPr id="506" name="" descr=""/>
            <p:cNvPicPr/>
            <p:nvPr/>
          </p:nvPicPr>
          <p:blipFill>
            <a:blip r:embed="rId2"/>
            <a:stretch/>
          </p:blipFill>
          <p:spPr>
            <a:xfrm>
              <a:off x="2476440" y="838080"/>
              <a:ext cx="105588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2559600" y="2108160"/>
              <a:ext cx="839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valuas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i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3634560" y="774720"/>
            <a:ext cx="787320" cy="1828440"/>
            <a:chOff x="3634560" y="774720"/>
            <a:chExt cx="787320" cy="1828440"/>
          </a:xfrm>
        </p:grpSpPr>
        <p:pic>
          <p:nvPicPr>
            <p:cNvPr id="509" name="" descr=""/>
            <p:cNvPicPr/>
            <p:nvPr/>
          </p:nvPicPr>
          <p:blipFill>
            <a:blip r:embed="rId3"/>
            <a:stretch/>
          </p:blipFill>
          <p:spPr>
            <a:xfrm>
              <a:off x="3772080" y="774720"/>
              <a:ext cx="42696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>
              <a:off x="3634560" y="2082960"/>
              <a:ext cx="78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ar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trateg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784840" y="1054080"/>
            <a:ext cx="1125720" cy="1586880"/>
            <a:chOff x="5784840" y="1054080"/>
            <a:chExt cx="1125720" cy="1586880"/>
          </a:xfrm>
        </p:grpSpPr>
        <p:pic>
          <p:nvPicPr>
            <p:cNvPr id="512" name="" descr=""/>
            <p:cNvPicPr/>
            <p:nvPr/>
          </p:nvPicPr>
          <p:blipFill>
            <a:blip r:embed="rId4"/>
            <a:stretch/>
          </p:blipFill>
          <p:spPr>
            <a:xfrm>
              <a:off x="5978520" y="1054080"/>
              <a:ext cx="7347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5784840" y="2120760"/>
              <a:ext cx="1125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aksanak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nc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7543800" y="800280"/>
            <a:ext cx="1219320" cy="1674000"/>
            <a:chOff x="7543800" y="800280"/>
            <a:chExt cx="1219320" cy="1674000"/>
          </a:xfrm>
        </p:grpSpPr>
        <p:grpSp>
          <p:nvGrpSpPr>
            <p:cNvPr id="515" name=""/>
            <p:cNvGrpSpPr/>
            <p:nvPr/>
          </p:nvGrpSpPr>
          <p:grpSpPr>
            <a:xfrm>
              <a:off x="7543800" y="800280"/>
              <a:ext cx="1219320" cy="1066680"/>
              <a:chOff x="7543800" y="800280"/>
              <a:chExt cx="1219320" cy="1066680"/>
            </a:xfrm>
          </p:grpSpPr>
          <p:grpSp>
            <p:nvGrpSpPr>
              <p:cNvPr id="516" name=""/>
              <p:cNvGrpSpPr/>
              <p:nvPr/>
            </p:nvGrpSpPr>
            <p:grpSpPr>
              <a:xfrm>
                <a:off x="7551720" y="1324080"/>
                <a:ext cx="1211400" cy="241200"/>
                <a:chOff x="7551720" y="1324080"/>
                <a:chExt cx="1211400" cy="24120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7574040" y="1328760"/>
                  <a:ext cx="1174680" cy="231840"/>
                </a:xfrm>
                <a:custGeom>
                  <a:avLst/>
                  <a:gdLst/>
                  <a:ahLst/>
                  <a:rect l="l" t="t" r="r" b="b"/>
                  <a:pathLst>
                    <a:path w="2961" h="436">
                      <a:moveTo>
                        <a:pt x="1809" y="54"/>
                      </a:moveTo>
                      <a:lnTo>
                        <a:pt x="1947" y="116"/>
                      </a:lnTo>
                      <a:lnTo>
                        <a:pt x="2048" y="157"/>
                      </a:lnTo>
                      <a:lnTo>
                        <a:pt x="2119" y="171"/>
                      </a:lnTo>
                      <a:lnTo>
                        <a:pt x="2223" y="174"/>
                      </a:lnTo>
                      <a:lnTo>
                        <a:pt x="2335" y="164"/>
                      </a:lnTo>
                      <a:lnTo>
                        <a:pt x="2420" y="146"/>
                      </a:lnTo>
                      <a:lnTo>
                        <a:pt x="2499" y="131"/>
                      </a:lnTo>
                      <a:lnTo>
                        <a:pt x="2590" y="107"/>
                      </a:lnTo>
                      <a:lnTo>
                        <a:pt x="2675" y="84"/>
                      </a:lnTo>
                      <a:lnTo>
                        <a:pt x="2740" y="80"/>
                      </a:lnTo>
                      <a:lnTo>
                        <a:pt x="2809" y="86"/>
                      </a:lnTo>
                      <a:lnTo>
                        <a:pt x="2885" y="113"/>
                      </a:lnTo>
                      <a:lnTo>
                        <a:pt x="2961" y="149"/>
                      </a:lnTo>
                      <a:lnTo>
                        <a:pt x="2939" y="161"/>
                      </a:lnTo>
                      <a:lnTo>
                        <a:pt x="2863" y="157"/>
                      </a:lnTo>
                      <a:lnTo>
                        <a:pt x="2757" y="153"/>
                      </a:lnTo>
                      <a:lnTo>
                        <a:pt x="2686" y="163"/>
                      </a:lnTo>
                      <a:lnTo>
                        <a:pt x="2584" y="189"/>
                      </a:lnTo>
                      <a:lnTo>
                        <a:pt x="2469" y="223"/>
                      </a:lnTo>
                      <a:lnTo>
                        <a:pt x="2385" y="250"/>
                      </a:lnTo>
                      <a:lnTo>
                        <a:pt x="2304" y="273"/>
                      </a:lnTo>
                      <a:lnTo>
                        <a:pt x="2211" y="277"/>
                      </a:lnTo>
                      <a:lnTo>
                        <a:pt x="2076" y="280"/>
                      </a:lnTo>
                      <a:lnTo>
                        <a:pt x="1980" y="274"/>
                      </a:lnTo>
                      <a:lnTo>
                        <a:pt x="1896" y="263"/>
                      </a:lnTo>
                      <a:lnTo>
                        <a:pt x="1813" y="240"/>
                      </a:lnTo>
                      <a:lnTo>
                        <a:pt x="1736" y="209"/>
                      </a:lnTo>
                      <a:lnTo>
                        <a:pt x="1655" y="186"/>
                      </a:lnTo>
                      <a:lnTo>
                        <a:pt x="1563" y="167"/>
                      </a:lnTo>
                      <a:lnTo>
                        <a:pt x="1475" y="156"/>
                      </a:lnTo>
                      <a:lnTo>
                        <a:pt x="1366" y="151"/>
                      </a:lnTo>
                      <a:lnTo>
                        <a:pt x="1264" y="153"/>
                      </a:lnTo>
                      <a:lnTo>
                        <a:pt x="1186" y="153"/>
                      </a:lnTo>
                      <a:lnTo>
                        <a:pt x="1099" y="167"/>
                      </a:lnTo>
                      <a:lnTo>
                        <a:pt x="1008" y="189"/>
                      </a:lnTo>
                      <a:lnTo>
                        <a:pt x="913" y="216"/>
                      </a:lnTo>
                      <a:lnTo>
                        <a:pt x="843" y="243"/>
                      </a:lnTo>
                      <a:lnTo>
                        <a:pt x="728" y="276"/>
                      </a:lnTo>
                      <a:lnTo>
                        <a:pt x="627" y="313"/>
                      </a:lnTo>
                      <a:lnTo>
                        <a:pt x="539" y="359"/>
                      </a:lnTo>
                      <a:lnTo>
                        <a:pt x="472" y="397"/>
                      </a:lnTo>
                      <a:lnTo>
                        <a:pt x="418" y="420"/>
                      </a:lnTo>
                      <a:lnTo>
                        <a:pt x="412" y="422"/>
                      </a:lnTo>
                      <a:lnTo>
                        <a:pt x="354" y="432"/>
                      </a:lnTo>
                      <a:lnTo>
                        <a:pt x="348" y="434"/>
                      </a:lnTo>
                      <a:lnTo>
                        <a:pt x="270" y="436"/>
                      </a:lnTo>
                      <a:lnTo>
                        <a:pt x="190" y="434"/>
                      </a:lnTo>
                      <a:lnTo>
                        <a:pt x="123" y="427"/>
                      </a:lnTo>
                      <a:lnTo>
                        <a:pt x="74" y="416"/>
                      </a:lnTo>
                      <a:lnTo>
                        <a:pt x="27" y="392"/>
                      </a:lnTo>
                      <a:lnTo>
                        <a:pt x="22" y="392"/>
                      </a:lnTo>
                      <a:lnTo>
                        <a:pt x="0" y="374"/>
                      </a:lnTo>
                      <a:lnTo>
                        <a:pt x="69" y="374"/>
                      </a:lnTo>
                      <a:lnTo>
                        <a:pt x="156" y="360"/>
                      </a:lnTo>
                      <a:lnTo>
                        <a:pt x="237" y="340"/>
                      </a:lnTo>
                      <a:lnTo>
                        <a:pt x="301" y="320"/>
                      </a:lnTo>
                      <a:lnTo>
                        <a:pt x="379" y="294"/>
                      </a:lnTo>
                      <a:lnTo>
                        <a:pt x="469" y="256"/>
                      </a:lnTo>
                      <a:lnTo>
                        <a:pt x="571" y="206"/>
                      </a:lnTo>
                      <a:lnTo>
                        <a:pt x="645" y="173"/>
                      </a:lnTo>
                      <a:lnTo>
                        <a:pt x="722" y="143"/>
                      </a:lnTo>
                      <a:lnTo>
                        <a:pt x="816" y="113"/>
                      </a:lnTo>
                      <a:lnTo>
                        <a:pt x="925" y="80"/>
                      </a:lnTo>
                      <a:lnTo>
                        <a:pt x="1015" y="54"/>
                      </a:lnTo>
                      <a:lnTo>
                        <a:pt x="1083" y="37"/>
                      </a:lnTo>
                      <a:lnTo>
                        <a:pt x="1171" y="21"/>
                      </a:lnTo>
                      <a:lnTo>
                        <a:pt x="1274" y="11"/>
                      </a:lnTo>
                      <a:lnTo>
                        <a:pt x="1345" y="1"/>
                      </a:lnTo>
                      <a:lnTo>
                        <a:pt x="1442" y="0"/>
                      </a:lnTo>
                      <a:lnTo>
                        <a:pt x="1537" y="1"/>
                      </a:lnTo>
                      <a:lnTo>
                        <a:pt x="1604" y="10"/>
                      </a:lnTo>
                      <a:lnTo>
                        <a:pt x="1684" y="20"/>
                      </a:lnTo>
                      <a:lnTo>
                        <a:pt x="1749" y="34"/>
                      </a:lnTo>
                      <a:lnTo>
                        <a:pt x="1809" y="54"/>
                      </a:lnTo>
                      <a:close/>
                    </a:path>
                  </a:pathLst>
                </a:custGeom>
                <a:solidFill>
                  <a:srgbClr val="ff0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7551720" y="1324080"/>
                  <a:ext cx="1211400" cy="214200"/>
                </a:xfrm>
                <a:custGeom>
                  <a:avLst/>
                  <a:gdLst/>
                  <a:ahLst/>
                  <a:rect l="l" t="t" r="r" b="b"/>
                  <a:pathLst>
                    <a:path w="3050" h="406">
                      <a:moveTo>
                        <a:pt x="2925" y="131"/>
                      </a:moveTo>
                      <a:lnTo>
                        <a:pt x="2850" y="106"/>
                      </a:lnTo>
                      <a:lnTo>
                        <a:pt x="2780" y="103"/>
                      </a:lnTo>
                      <a:lnTo>
                        <a:pt x="2710" y="111"/>
                      </a:lnTo>
                      <a:lnTo>
                        <a:pt x="2648" y="130"/>
                      </a:lnTo>
                      <a:lnTo>
                        <a:pt x="2558" y="151"/>
                      </a:lnTo>
                      <a:lnTo>
                        <a:pt x="2497" y="166"/>
                      </a:lnTo>
                      <a:lnTo>
                        <a:pt x="2433" y="177"/>
                      </a:lnTo>
                      <a:lnTo>
                        <a:pt x="2366" y="193"/>
                      </a:lnTo>
                      <a:lnTo>
                        <a:pt x="2311" y="197"/>
                      </a:lnTo>
                      <a:lnTo>
                        <a:pt x="2261" y="199"/>
                      </a:lnTo>
                      <a:lnTo>
                        <a:pt x="2201" y="199"/>
                      </a:lnTo>
                      <a:lnTo>
                        <a:pt x="2140" y="194"/>
                      </a:lnTo>
                      <a:lnTo>
                        <a:pt x="2095" y="184"/>
                      </a:lnTo>
                      <a:lnTo>
                        <a:pt x="2042" y="161"/>
                      </a:lnTo>
                      <a:lnTo>
                        <a:pt x="1981" y="130"/>
                      </a:lnTo>
                      <a:lnTo>
                        <a:pt x="1918" y="101"/>
                      </a:lnTo>
                      <a:lnTo>
                        <a:pt x="1863" y="80"/>
                      </a:lnTo>
                      <a:lnTo>
                        <a:pt x="1793" y="54"/>
                      </a:lnTo>
                      <a:lnTo>
                        <a:pt x="1704" y="36"/>
                      </a:lnTo>
                      <a:lnTo>
                        <a:pt x="1633" y="27"/>
                      </a:lnTo>
                      <a:lnTo>
                        <a:pt x="1536" y="21"/>
                      </a:lnTo>
                      <a:lnTo>
                        <a:pt x="1449" y="21"/>
                      </a:lnTo>
                      <a:lnTo>
                        <a:pt x="1355" y="27"/>
                      </a:lnTo>
                      <a:lnTo>
                        <a:pt x="1268" y="37"/>
                      </a:lnTo>
                      <a:lnTo>
                        <a:pt x="1184" y="54"/>
                      </a:lnTo>
                      <a:lnTo>
                        <a:pt x="1070" y="77"/>
                      </a:lnTo>
                      <a:lnTo>
                        <a:pt x="944" y="113"/>
                      </a:lnTo>
                      <a:lnTo>
                        <a:pt x="827" y="147"/>
                      </a:lnTo>
                      <a:lnTo>
                        <a:pt x="708" y="191"/>
                      </a:lnTo>
                      <a:lnTo>
                        <a:pt x="618" y="230"/>
                      </a:lnTo>
                      <a:lnTo>
                        <a:pt x="614" y="233"/>
                      </a:lnTo>
                      <a:lnTo>
                        <a:pt x="539" y="269"/>
                      </a:lnTo>
                      <a:lnTo>
                        <a:pt x="482" y="297"/>
                      </a:lnTo>
                      <a:lnTo>
                        <a:pt x="419" y="326"/>
                      </a:lnTo>
                      <a:lnTo>
                        <a:pt x="354" y="350"/>
                      </a:lnTo>
                      <a:lnTo>
                        <a:pt x="283" y="367"/>
                      </a:lnTo>
                      <a:lnTo>
                        <a:pt x="278" y="370"/>
                      </a:lnTo>
                      <a:lnTo>
                        <a:pt x="220" y="387"/>
                      </a:lnTo>
                      <a:lnTo>
                        <a:pt x="216" y="389"/>
                      </a:lnTo>
                      <a:lnTo>
                        <a:pt x="155" y="397"/>
                      </a:lnTo>
                      <a:lnTo>
                        <a:pt x="91" y="404"/>
                      </a:lnTo>
                      <a:lnTo>
                        <a:pt x="86" y="406"/>
                      </a:lnTo>
                      <a:lnTo>
                        <a:pt x="62" y="404"/>
                      </a:lnTo>
                      <a:lnTo>
                        <a:pt x="28" y="390"/>
                      </a:lnTo>
                      <a:lnTo>
                        <a:pt x="0" y="376"/>
                      </a:lnTo>
                      <a:lnTo>
                        <a:pt x="7" y="367"/>
                      </a:lnTo>
                      <a:lnTo>
                        <a:pt x="24" y="366"/>
                      </a:lnTo>
                      <a:lnTo>
                        <a:pt x="74" y="369"/>
                      </a:lnTo>
                      <a:lnTo>
                        <a:pt x="138" y="369"/>
                      </a:lnTo>
                      <a:lnTo>
                        <a:pt x="189" y="363"/>
                      </a:lnTo>
                      <a:lnTo>
                        <a:pt x="250" y="347"/>
                      </a:lnTo>
                      <a:lnTo>
                        <a:pt x="332" y="327"/>
                      </a:lnTo>
                      <a:lnTo>
                        <a:pt x="388" y="307"/>
                      </a:lnTo>
                      <a:lnTo>
                        <a:pt x="456" y="276"/>
                      </a:lnTo>
                      <a:lnTo>
                        <a:pt x="530" y="243"/>
                      </a:lnTo>
                      <a:lnTo>
                        <a:pt x="595" y="211"/>
                      </a:lnTo>
                      <a:lnTo>
                        <a:pt x="678" y="174"/>
                      </a:lnTo>
                      <a:lnTo>
                        <a:pt x="752" y="147"/>
                      </a:lnTo>
                      <a:lnTo>
                        <a:pt x="820" y="124"/>
                      </a:lnTo>
                      <a:lnTo>
                        <a:pt x="897" y="101"/>
                      </a:lnTo>
                      <a:lnTo>
                        <a:pt x="967" y="80"/>
                      </a:lnTo>
                      <a:lnTo>
                        <a:pt x="1056" y="54"/>
                      </a:lnTo>
                      <a:lnTo>
                        <a:pt x="1133" y="37"/>
                      </a:lnTo>
                      <a:lnTo>
                        <a:pt x="1193" y="26"/>
                      </a:lnTo>
                      <a:lnTo>
                        <a:pt x="1275" y="13"/>
                      </a:lnTo>
                      <a:lnTo>
                        <a:pt x="1372" y="3"/>
                      </a:lnTo>
                      <a:lnTo>
                        <a:pt x="1452" y="0"/>
                      </a:lnTo>
                      <a:lnTo>
                        <a:pt x="1549" y="0"/>
                      </a:lnTo>
                      <a:lnTo>
                        <a:pt x="1655" y="4"/>
                      </a:lnTo>
                      <a:lnTo>
                        <a:pt x="1715" y="14"/>
                      </a:lnTo>
                      <a:lnTo>
                        <a:pt x="1775" y="26"/>
                      </a:lnTo>
                      <a:lnTo>
                        <a:pt x="1836" y="46"/>
                      </a:lnTo>
                      <a:lnTo>
                        <a:pt x="1893" y="64"/>
                      </a:lnTo>
                      <a:lnTo>
                        <a:pt x="1951" y="86"/>
                      </a:lnTo>
                      <a:lnTo>
                        <a:pt x="2002" y="111"/>
                      </a:lnTo>
                      <a:lnTo>
                        <a:pt x="2058" y="136"/>
                      </a:lnTo>
                      <a:lnTo>
                        <a:pt x="2106" y="154"/>
                      </a:lnTo>
                      <a:lnTo>
                        <a:pt x="2146" y="166"/>
                      </a:lnTo>
                      <a:lnTo>
                        <a:pt x="2189" y="173"/>
                      </a:lnTo>
                      <a:lnTo>
                        <a:pt x="2260" y="171"/>
                      </a:lnTo>
                      <a:lnTo>
                        <a:pt x="2324" y="169"/>
                      </a:lnTo>
                      <a:lnTo>
                        <a:pt x="2385" y="161"/>
                      </a:lnTo>
                      <a:lnTo>
                        <a:pt x="2435" y="149"/>
                      </a:lnTo>
                      <a:lnTo>
                        <a:pt x="2523" y="134"/>
                      </a:lnTo>
                      <a:lnTo>
                        <a:pt x="2592" y="116"/>
                      </a:lnTo>
                      <a:lnTo>
                        <a:pt x="2675" y="96"/>
                      </a:lnTo>
                      <a:lnTo>
                        <a:pt x="2733" y="80"/>
                      </a:lnTo>
                      <a:lnTo>
                        <a:pt x="2786" y="76"/>
                      </a:lnTo>
                      <a:lnTo>
                        <a:pt x="2833" y="76"/>
                      </a:lnTo>
                      <a:lnTo>
                        <a:pt x="2858" y="81"/>
                      </a:lnTo>
                      <a:lnTo>
                        <a:pt x="2922" y="100"/>
                      </a:lnTo>
                      <a:lnTo>
                        <a:pt x="2988" y="127"/>
                      </a:lnTo>
                      <a:lnTo>
                        <a:pt x="3032" y="149"/>
                      </a:lnTo>
                      <a:lnTo>
                        <a:pt x="3050" y="157"/>
                      </a:lnTo>
                      <a:lnTo>
                        <a:pt x="3045" y="163"/>
                      </a:lnTo>
                      <a:lnTo>
                        <a:pt x="3029" y="167"/>
                      </a:lnTo>
                      <a:lnTo>
                        <a:pt x="2995" y="163"/>
                      </a:lnTo>
                      <a:lnTo>
                        <a:pt x="2951" y="144"/>
                      </a:lnTo>
                      <a:lnTo>
                        <a:pt x="2925" y="13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7559640" y="1401840"/>
                  <a:ext cx="1201680" cy="163440"/>
                </a:xfrm>
                <a:custGeom>
                  <a:avLst/>
                  <a:gdLst/>
                  <a:ahLst/>
                  <a:rect l="l" t="t" r="r" b="b"/>
                  <a:pathLst>
                    <a:path w="3026" h="311">
                      <a:moveTo>
                        <a:pt x="2982" y="15"/>
                      </a:moveTo>
                      <a:lnTo>
                        <a:pt x="2938" y="15"/>
                      </a:lnTo>
                      <a:lnTo>
                        <a:pt x="2883" y="8"/>
                      </a:lnTo>
                      <a:lnTo>
                        <a:pt x="2820" y="0"/>
                      </a:lnTo>
                      <a:lnTo>
                        <a:pt x="2765" y="3"/>
                      </a:lnTo>
                      <a:lnTo>
                        <a:pt x="2698" y="17"/>
                      </a:lnTo>
                      <a:lnTo>
                        <a:pt x="2614" y="41"/>
                      </a:lnTo>
                      <a:lnTo>
                        <a:pt x="2543" y="63"/>
                      </a:lnTo>
                      <a:lnTo>
                        <a:pt x="2475" y="83"/>
                      </a:lnTo>
                      <a:lnTo>
                        <a:pt x="2412" y="101"/>
                      </a:lnTo>
                      <a:lnTo>
                        <a:pt x="2358" y="113"/>
                      </a:lnTo>
                      <a:lnTo>
                        <a:pt x="2354" y="113"/>
                      </a:lnTo>
                      <a:lnTo>
                        <a:pt x="2291" y="123"/>
                      </a:lnTo>
                      <a:lnTo>
                        <a:pt x="2222" y="124"/>
                      </a:lnTo>
                      <a:lnTo>
                        <a:pt x="2148" y="128"/>
                      </a:lnTo>
                      <a:lnTo>
                        <a:pt x="2143" y="128"/>
                      </a:lnTo>
                      <a:lnTo>
                        <a:pt x="2047" y="127"/>
                      </a:lnTo>
                      <a:lnTo>
                        <a:pt x="1956" y="117"/>
                      </a:lnTo>
                      <a:lnTo>
                        <a:pt x="1914" y="110"/>
                      </a:lnTo>
                      <a:lnTo>
                        <a:pt x="1856" y="91"/>
                      </a:lnTo>
                      <a:lnTo>
                        <a:pt x="1796" y="67"/>
                      </a:lnTo>
                      <a:lnTo>
                        <a:pt x="1732" y="45"/>
                      </a:lnTo>
                      <a:lnTo>
                        <a:pt x="1674" y="30"/>
                      </a:lnTo>
                      <a:lnTo>
                        <a:pt x="1617" y="20"/>
                      </a:lnTo>
                      <a:lnTo>
                        <a:pt x="1529" y="8"/>
                      </a:lnTo>
                      <a:lnTo>
                        <a:pt x="1434" y="3"/>
                      </a:lnTo>
                      <a:lnTo>
                        <a:pt x="1341" y="0"/>
                      </a:lnTo>
                      <a:lnTo>
                        <a:pt x="1246" y="0"/>
                      </a:lnTo>
                      <a:lnTo>
                        <a:pt x="1189" y="7"/>
                      </a:lnTo>
                      <a:lnTo>
                        <a:pt x="1116" y="20"/>
                      </a:lnTo>
                      <a:lnTo>
                        <a:pt x="1052" y="37"/>
                      </a:lnTo>
                      <a:lnTo>
                        <a:pt x="975" y="58"/>
                      </a:lnTo>
                      <a:lnTo>
                        <a:pt x="899" y="83"/>
                      </a:lnTo>
                      <a:lnTo>
                        <a:pt x="823" y="108"/>
                      </a:lnTo>
                      <a:lnTo>
                        <a:pt x="738" y="133"/>
                      </a:lnTo>
                      <a:lnTo>
                        <a:pt x="668" y="161"/>
                      </a:lnTo>
                      <a:lnTo>
                        <a:pt x="611" y="190"/>
                      </a:lnTo>
                      <a:lnTo>
                        <a:pt x="550" y="221"/>
                      </a:lnTo>
                      <a:lnTo>
                        <a:pt x="498" y="251"/>
                      </a:lnTo>
                      <a:lnTo>
                        <a:pt x="456" y="266"/>
                      </a:lnTo>
                      <a:lnTo>
                        <a:pt x="398" y="280"/>
                      </a:lnTo>
                      <a:lnTo>
                        <a:pt x="350" y="286"/>
                      </a:lnTo>
                      <a:lnTo>
                        <a:pt x="343" y="284"/>
                      </a:lnTo>
                      <a:lnTo>
                        <a:pt x="284" y="288"/>
                      </a:lnTo>
                      <a:lnTo>
                        <a:pt x="215" y="283"/>
                      </a:lnTo>
                      <a:lnTo>
                        <a:pt x="148" y="274"/>
                      </a:lnTo>
                      <a:lnTo>
                        <a:pt x="107" y="263"/>
                      </a:lnTo>
                      <a:lnTo>
                        <a:pt x="80" y="244"/>
                      </a:lnTo>
                      <a:lnTo>
                        <a:pt x="0" y="233"/>
                      </a:lnTo>
                      <a:lnTo>
                        <a:pt x="6" y="244"/>
                      </a:lnTo>
                      <a:lnTo>
                        <a:pt x="43" y="268"/>
                      </a:lnTo>
                      <a:lnTo>
                        <a:pt x="82" y="288"/>
                      </a:lnTo>
                      <a:lnTo>
                        <a:pt x="125" y="298"/>
                      </a:lnTo>
                      <a:lnTo>
                        <a:pt x="176" y="306"/>
                      </a:lnTo>
                      <a:lnTo>
                        <a:pt x="235" y="310"/>
                      </a:lnTo>
                      <a:lnTo>
                        <a:pt x="303" y="311"/>
                      </a:lnTo>
                      <a:lnTo>
                        <a:pt x="348" y="310"/>
                      </a:lnTo>
                      <a:lnTo>
                        <a:pt x="417" y="304"/>
                      </a:lnTo>
                      <a:lnTo>
                        <a:pt x="475" y="293"/>
                      </a:lnTo>
                      <a:lnTo>
                        <a:pt x="535" y="266"/>
                      </a:lnTo>
                      <a:lnTo>
                        <a:pt x="579" y="238"/>
                      </a:lnTo>
                      <a:lnTo>
                        <a:pt x="643" y="207"/>
                      </a:lnTo>
                      <a:lnTo>
                        <a:pt x="714" y="173"/>
                      </a:lnTo>
                      <a:lnTo>
                        <a:pt x="775" y="151"/>
                      </a:lnTo>
                      <a:lnTo>
                        <a:pt x="839" y="133"/>
                      </a:lnTo>
                      <a:lnTo>
                        <a:pt x="914" y="107"/>
                      </a:lnTo>
                      <a:lnTo>
                        <a:pt x="998" y="80"/>
                      </a:lnTo>
                      <a:lnTo>
                        <a:pt x="1074" y="60"/>
                      </a:lnTo>
                      <a:lnTo>
                        <a:pt x="1139" y="45"/>
                      </a:lnTo>
                      <a:lnTo>
                        <a:pt x="1190" y="37"/>
                      </a:lnTo>
                      <a:lnTo>
                        <a:pt x="1246" y="30"/>
                      </a:lnTo>
                      <a:lnTo>
                        <a:pt x="1315" y="27"/>
                      </a:lnTo>
                      <a:lnTo>
                        <a:pt x="1415" y="30"/>
                      </a:lnTo>
                      <a:lnTo>
                        <a:pt x="1506" y="37"/>
                      </a:lnTo>
                      <a:lnTo>
                        <a:pt x="1597" y="45"/>
                      </a:lnTo>
                      <a:lnTo>
                        <a:pt x="1673" y="60"/>
                      </a:lnTo>
                      <a:lnTo>
                        <a:pt x="1738" y="77"/>
                      </a:lnTo>
                      <a:lnTo>
                        <a:pt x="1799" y="98"/>
                      </a:lnTo>
                      <a:lnTo>
                        <a:pt x="1856" y="120"/>
                      </a:lnTo>
                      <a:lnTo>
                        <a:pt x="1912" y="137"/>
                      </a:lnTo>
                      <a:lnTo>
                        <a:pt x="1973" y="144"/>
                      </a:lnTo>
                      <a:lnTo>
                        <a:pt x="2040" y="154"/>
                      </a:lnTo>
                      <a:lnTo>
                        <a:pt x="2099" y="158"/>
                      </a:lnTo>
                      <a:lnTo>
                        <a:pt x="2163" y="158"/>
                      </a:lnTo>
                      <a:lnTo>
                        <a:pt x="2239" y="154"/>
                      </a:lnTo>
                      <a:lnTo>
                        <a:pt x="2304" y="150"/>
                      </a:lnTo>
                      <a:lnTo>
                        <a:pt x="2372" y="143"/>
                      </a:lnTo>
                      <a:lnTo>
                        <a:pt x="2432" y="128"/>
                      </a:lnTo>
                      <a:lnTo>
                        <a:pt x="2490" y="108"/>
                      </a:lnTo>
                      <a:lnTo>
                        <a:pt x="2530" y="93"/>
                      </a:lnTo>
                      <a:lnTo>
                        <a:pt x="2596" y="71"/>
                      </a:lnTo>
                      <a:lnTo>
                        <a:pt x="2660" y="55"/>
                      </a:lnTo>
                      <a:lnTo>
                        <a:pt x="2719" y="38"/>
                      </a:lnTo>
                      <a:lnTo>
                        <a:pt x="2768" y="30"/>
                      </a:lnTo>
                      <a:lnTo>
                        <a:pt x="2805" y="27"/>
                      </a:lnTo>
                      <a:lnTo>
                        <a:pt x="2847" y="28"/>
                      </a:lnTo>
                      <a:lnTo>
                        <a:pt x="2900" y="33"/>
                      </a:lnTo>
                      <a:lnTo>
                        <a:pt x="2945" y="38"/>
                      </a:lnTo>
                      <a:lnTo>
                        <a:pt x="2984" y="40"/>
                      </a:lnTo>
                      <a:lnTo>
                        <a:pt x="3005" y="31"/>
                      </a:lnTo>
                      <a:lnTo>
                        <a:pt x="3024" y="23"/>
                      </a:lnTo>
                      <a:lnTo>
                        <a:pt x="3026" y="13"/>
                      </a:lnTo>
                      <a:lnTo>
                        <a:pt x="3014" y="10"/>
                      </a:lnTo>
                      <a:lnTo>
                        <a:pt x="2982" y="1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7729560" y="800280"/>
                <a:ext cx="622440" cy="1066680"/>
                <a:chOff x="7729560" y="800280"/>
                <a:chExt cx="622440" cy="106668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7988400" y="903240"/>
                  <a:ext cx="150840" cy="185760"/>
                </a:xfrm>
                <a:custGeom>
                  <a:avLst/>
                  <a:gdLst/>
                  <a:ahLst/>
                  <a:rect l="l" t="t" r="r" b="b"/>
                  <a:pathLst>
                    <a:path w="380" h="350">
                      <a:moveTo>
                        <a:pt x="295" y="183"/>
                      </a:moveTo>
                      <a:lnTo>
                        <a:pt x="276" y="122"/>
                      </a:lnTo>
                      <a:lnTo>
                        <a:pt x="258" y="90"/>
                      </a:lnTo>
                      <a:lnTo>
                        <a:pt x="239" y="64"/>
                      </a:lnTo>
                      <a:lnTo>
                        <a:pt x="216" y="37"/>
                      </a:lnTo>
                      <a:lnTo>
                        <a:pt x="191" y="19"/>
                      </a:lnTo>
                      <a:lnTo>
                        <a:pt x="167" y="6"/>
                      </a:lnTo>
                      <a:lnTo>
                        <a:pt x="140" y="0"/>
                      </a:lnTo>
                      <a:lnTo>
                        <a:pt x="108" y="0"/>
                      </a:lnTo>
                      <a:lnTo>
                        <a:pt x="74" y="9"/>
                      </a:lnTo>
                      <a:lnTo>
                        <a:pt x="49" y="24"/>
                      </a:lnTo>
                      <a:lnTo>
                        <a:pt x="27" y="49"/>
                      </a:lnTo>
                      <a:lnTo>
                        <a:pt x="10" y="79"/>
                      </a:lnTo>
                      <a:lnTo>
                        <a:pt x="0" y="114"/>
                      </a:lnTo>
                      <a:lnTo>
                        <a:pt x="0" y="149"/>
                      </a:lnTo>
                      <a:lnTo>
                        <a:pt x="7" y="183"/>
                      </a:lnTo>
                      <a:lnTo>
                        <a:pt x="24" y="230"/>
                      </a:lnTo>
                      <a:lnTo>
                        <a:pt x="49" y="267"/>
                      </a:lnTo>
                      <a:lnTo>
                        <a:pt x="76" y="296"/>
                      </a:lnTo>
                      <a:lnTo>
                        <a:pt x="113" y="322"/>
                      </a:lnTo>
                      <a:lnTo>
                        <a:pt x="144" y="339"/>
                      </a:lnTo>
                      <a:lnTo>
                        <a:pt x="177" y="347"/>
                      </a:lnTo>
                      <a:lnTo>
                        <a:pt x="208" y="350"/>
                      </a:lnTo>
                      <a:lnTo>
                        <a:pt x="231" y="345"/>
                      </a:lnTo>
                      <a:lnTo>
                        <a:pt x="253" y="332"/>
                      </a:lnTo>
                      <a:lnTo>
                        <a:pt x="270" y="317"/>
                      </a:lnTo>
                      <a:lnTo>
                        <a:pt x="279" y="297"/>
                      </a:lnTo>
                      <a:lnTo>
                        <a:pt x="282" y="272"/>
                      </a:lnTo>
                      <a:lnTo>
                        <a:pt x="285" y="239"/>
                      </a:lnTo>
                      <a:lnTo>
                        <a:pt x="326" y="259"/>
                      </a:lnTo>
                      <a:lnTo>
                        <a:pt x="363" y="266"/>
                      </a:lnTo>
                      <a:lnTo>
                        <a:pt x="380" y="257"/>
                      </a:lnTo>
                      <a:lnTo>
                        <a:pt x="378" y="239"/>
                      </a:lnTo>
                      <a:lnTo>
                        <a:pt x="370" y="220"/>
                      </a:lnTo>
                      <a:lnTo>
                        <a:pt x="348" y="207"/>
                      </a:lnTo>
                      <a:lnTo>
                        <a:pt x="319" y="200"/>
                      </a:lnTo>
                      <a:lnTo>
                        <a:pt x="297" y="190"/>
                      </a:lnTo>
                      <a:lnTo>
                        <a:pt x="295" y="1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047080" y="1141560"/>
                  <a:ext cx="164880" cy="403200"/>
                </a:xfrm>
                <a:custGeom>
                  <a:avLst/>
                  <a:gdLst/>
                  <a:ahLst/>
                  <a:rect l="l" t="t" r="r" b="b"/>
                  <a:pathLst>
                    <a:path w="415" h="760">
                      <a:moveTo>
                        <a:pt x="15" y="55"/>
                      </a:moveTo>
                      <a:lnTo>
                        <a:pt x="32" y="30"/>
                      </a:lnTo>
                      <a:lnTo>
                        <a:pt x="54" y="12"/>
                      </a:lnTo>
                      <a:lnTo>
                        <a:pt x="82" y="0"/>
                      </a:lnTo>
                      <a:lnTo>
                        <a:pt x="119" y="0"/>
                      </a:lnTo>
                      <a:lnTo>
                        <a:pt x="155" y="0"/>
                      </a:lnTo>
                      <a:lnTo>
                        <a:pt x="191" y="9"/>
                      </a:lnTo>
                      <a:lnTo>
                        <a:pt x="226" y="26"/>
                      </a:lnTo>
                      <a:lnTo>
                        <a:pt x="256" y="53"/>
                      </a:lnTo>
                      <a:lnTo>
                        <a:pt x="289" y="90"/>
                      </a:lnTo>
                      <a:lnTo>
                        <a:pt x="317" y="135"/>
                      </a:lnTo>
                      <a:lnTo>
                        <a:pt x="340" y="178"/>
                      </a:lnTo>
                      <a:lnTo>
                        <a:pt x="361" y="225"/>
                      </a:lnTo>
                      <a:lnTo>
                        <a:pt x="374" y="274"/>
                      </a:lnTo>
                      <a:lnTo>
                        <a:pt x="384" y="318"/>
                      </a:lnTo>
                      <a:lnTo>
                        <a:pt x="398" y="368"/>
                      </a:lnTo>
                      <a:lnTo>
                        <a:pt x="408" y="417"/>
                      </a:lnTo>
                      <a:lnTo>
                        <a:pt x="413" y="467"/>
                      </a:lnTo>
                      <a:lnTo>
                        <a:pt x="415" y="515"/>
                      </a:lnTo>
                      <a:lnTo>
                        <a:pt x="415" y="560"/>
                      </a:lnTo>
                      <a:lnTo>
                        <a:pt x="408" y="604"/>
                      </a:lnTo>
                      <a:lnTo>
                        <a:pt x="400" y="644"/>
                      </a:lnTo>
                      <a:lnTo>
                        <a:pt x="384" y="678"/>
                      </a:lnTo>
                      <a:lnTo>
                        <a:pt x="366" y="703"/>
                      </a:lnTo>
                      <a:lnTo>
                        <a:pt x="344" y="723"/>
                      </a:lnTo>
                      <a:lnTo>
                        <a:pt x="319" y="740"/>
                      </a:lnTo>
                      <a:lnTo>
                        <a:pt x="287" y="751"/>
                      </a:lnTo>
                      <a:lnTo>
                        <a:pt x="253" y="760"/>
                      </a:lnTo>
                      <a:lnTo>
                        <a:pt x="219" y="760"/>
                      </a:lnTo>
                      <a:lnTo>
                        <a:pt x="187" y="756"/>
                      </a:lnTo>
                      <a:lnTo>
                        <a:pt x="158" y="748"/>
                      </a:lnTo>
                      <a:lnTo>
                        <a:pt x="138" y="738"/>
                      </a:lnTo>
                      <a:lnTo>
                        <a:pt x="121" y="721"/>
                      </a:lnTo>
                      <a:lnTo>
                        <a:pt x="112" y="700"/>
                      </a:lnTo>
                      <a:lnTo>
                        <a:pt x="102" y="670"/>
                      </a:lnTo>
                      <a:lnTo>
                        <a:pt x="99" y="644"/>
                      </a:lnTo>
                      <a:lnTo>
                        <a:pt x="101" y="603"/>
                      </a:lnTo>
                      <a:lnTo>
                        <a:pt x="106" y="571"/>
                      </a:lnTo>
                      <a:lnTo>
                        <a:pt x="118" y="541"/>
                      </a:lnTo>
                      <a:lnTo>
                        <a:pt x="129" y="511"/>
                      </a:lnTo>
                      <a:lnTo>
                        <a:pt x="133" y="478"/>
                      </a:lnTo>
                      <a:lnTo>
                        <a:pt x="135" y="440"/>
                      </a:lnTo>
                      <a:lnTo>
                        <a:pt x="126" y="397"/>
                      </a:lnTo>
                      <a:lnTo>
                        <a:pt x="105" y="355"/>
                      </a:lnTo>
                      <a:lnTo>
                        <a:pt x="78" y="315"/>
                      </a:lnTo>
                      <a:lnTo>
                        <a:pt x="44" y="280"/>
                      </a:lnTo>
                      <a:lnTo>
                        <a:pt x="25" y="250"/>
                      </a:lnTo>
                      <a:lnTo>
                        <a:pt x="10" y="212"/>
                      </a:lnTo>
                      <a:lnTo>
                        <a:pt x="1" y="169"/>
                      </a:lnTo>
                      <a:lnTo>
                        <a:pt x="0" y="128"/>
                      </a:lnTo>
                      <a:lnTo>
                        <a:pt x="1" y="89"/>
                      </a:lnTo>
                      <a:lnTo>
                        <a:pt x="15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093160" y="800280"/>
                  <a:ext cx="258840" cy="369720"/>
                </a:xfrm>
                <a:custGeom>
                  <a:avLst/>
                  <a:gdLst/>
                  <a:ahLst/>
                  <a:rect l="l" t="t" r="r" b="b"/>
                  <a:pathLst>
                    <a:path w="653" h="699">
                      <a:moveTo>
                        <a:pt x="3" y="666"/>
                      </a:moveTo>
                      <a:lnTo>
                        <a:pt x="40" y="631"/>
                      </a:lnTo>
                      <a:lnTo>
                        <a:pt x="77" y="602"/>
                      </a:lnTo>
                      <a:lnTo>
                        <a:pt x="134" y="569"/>
                      </a:lnTo>
                      <a:lnTo>
                        <a:pt x="192" y="548"/>
                      </a:lnTo>
                      <a:lnTo>
                        <a:pt x="241" y="531"/>
                      </a:lnTo>
                      <a:lnTo>
                        <a:pt x="300" y="516"/>
                      </a:lnTo>
                      <a:lnTo>
                        <a:pt x="333" y="508"/>
                      </a:lnTo>
                      <a:lnTo>
                        <a:pt x="352" y="502"/>
                      </a:lnTo>
                      <a:lnTo>
                        <a:pt x="360" y="489"/>
                      </a:lnTo>
                      <a:lnTo>
                        <a:pt x="364" y="469"/>
                      </a:lnTo>
                      <a:lnTo>
                        <a:pt x="367" y="422"/>
                      </a:lnTo>
                      <a:lnTo>
                        <a:pt x="373" y="378"/>
                      </a:lnTo>
                      <a:lnTo>
                        <a:pt x="384" y="333"/>
                      </a:lnTo>
                      <a:lnTo>
                        <a:pt x="394" y="296"/>
                      </a:lnTo>
                      <a:lnTo>
                        <a:pt x="418" y="253"/>
                      </a:lnTo>
                      <a:lnTo>
                        <a:pt x="438" y="223"/>
                      </a:lnTo>
                      <a:lnTo>
                        <a:pt x="467" y="185"/>
                      </a:lnTo>
                      <a:lnTo>
                        <a:pt x="484" y="155"/>
                      </a:lnTo>
                      <a:lnTo>
                        <a:pt x="485" y="132"/>
                      </a:lnTo>
                      <a:lnTo>
                        <a:pt x="484" y="110"/>
                      </a:lnTo>
                      <a:lnTo>
                        <a:pt x="485" y="105"/>
                      </a:lnTo>
                      <a:lnTo>
                        <a:pt x="485" y="100"/>
                      </a:lnTo>
                      <a:lnTo>
                        <a:pt x="484" y="95"/>
                      </a:lnTo>
                      <a:lnTo>
                        <a:pt x="482" y="90"/>
                      </a:lnTo>
                      <a:lnTo>
                        <a:pt x="478" y="85"/>
                      </a:lnTo>
                      <a:lnTo>
                        <a:pt x="478" y="80"/>
                      </a:lnTo>
                      <a:lnTo>
                        <a:pt x="474" y="77"/>
                      </a:lnTo>
                      <a:lnTo>
                        <a:pt x="468" y="73"/>
                      </a:lnTo>
                      <a:lnTo>
                        <a:pt x="465" y="69"/>
                      </a:lnTo>
                      <a:lnTo>
                        <a:pt x="460" y="67"/>
                      </a:lnTo>
                      <a:lnTo>
                        <a:pt x="455" y="65"/>
                      </a:lnTo>
                      <a:lnTo>
                        <a:pt x="450" y="62"/>
                      </a:lnTo>
                      <a:lnTo>
                        <a:pt x="444" y="60"/>
                      </a:lnTo>
                      <a:lnTo>
                        <a:pt x="440" y="57"/>
                      </a:lnTo>
                      <a:lnTo>
                        <a:pt x="437" y="52"/>
                      </a:lnTo>
                      <a:lnTo>
                        <a:pt x="431" y="49"/>
                      </a:lnTo>
                      <a:lnTo>
                        <a:pt x="424" y="43"/>
                      </a:lnTo>
                      <a:lnTo>
                        <a:pt x="424" y="39"/>
                      </a:lnTo>
                      <a:lnTo>
                        <a:pt x="424" y="33"/>
                      </a:lnTo>
                      <a:lnTo>
                        <a:pt x="424" y="29"/>
                      </a:lnTo>
                      <a:lnTo>
                        <a:pt x="424" y="23"/>
                      </a:lnTo>
                      <a:lnTo>
                        <a:pt x="424" y="19"/>
                      </a:lnTo>
                      <a:lnTo>
                        <a:pt x="428" y="13"/>
                      </a:lnTo>
                      <a:lnTo>
                        <a:pt x="431" y="9"/>
                      </a:lnTo>
                      <a:lnTo>
                        <a:pt x="438" y="6"/>
                      </a:lnTo>
                      <a:lnTo>
                        <a:pt x="443" y="2"/>
                      </a:lnTo>
                      <a:lnTo>
                        <a:pt x="448" y="0"/>
                      </a:lnTo>
                      <a:lnTo>
                        <a:pt x="453" y="0"/>
                      </a:lnTo>
                      <a:lnTo>
                        <a:pt x="458" y="0"/>
                      </a:lnTo>
                      <a:lnTo>
                        <a:pt x="464" y="2"/>
                      </a:lnTo>
                      <a:lnTo>
                        <a:pt x="468" y="3"/>
                      </a:lnTo>
                      <a:lnTo>
                        <a:pt x="474" y="7"/>
                      </a:lnTo>
                      <a:lnTo>
                        <a:pt x="478" y="10"/>
                      </a:lnTo>
                      <a:lnTo>
                        <a:pt x="482" y="16"/>
                      </a:lnTo>
                      <a:lnTo>
                        <a:pt x="487" y="19"/>
                      </a:lnTo>
                      <a:lnTo>
                        <a:pt x="488" y="23"/>
                      </a:lnTo>
                      <a:lnTo>
                        <a:pt x="492" y="29"/>
                      </a:lnTo>
                      <a:lnTo>
                        <a:pt x="494" y="33"/>
                      </a:lnTo>
                      <a:lnTo>
                        <a:pt x="495" y="39"/>
                      </a:lnTo>
                      <a:lnTo>
                        <a:pt x="498" y="43"/>
                      </a:lnTo>
                      <a:lnTo>
                        <a:pt x="501" y="49"/>
                      </a:lnTo>
                      <a:lnTo>
                        <a:pt x="502" y="53"/>
                      </a:lnTo>
                      <a:lnTo>
                        <a:pt x="502" y="59"/>
                      </a:lnTo>
                      <a:lnTo>
                        <a:pt x="504" y="63"/>
                      </a:lnTo>
                      <a:lnTo>
                        <a:pt x="508" y="67"/>
                      </a:lnTo>
                      <a:lnTo>
                        <a:pt x="514" y="70"/>
                      </a:lnTo>
                      <a:lnTo>
                        <a:pt x="519" y="73"/>
                      </a:lnTo>
                      <a:lnTo>
                        <a:pt x="524" y="75"/>
                      </a:lnTo>
                      <a:lnTo>
                        <a:pt x="529" y="72"/>
                      </a:lnTo>
                      <a:lnTo>
                        <a:pt x="534" y="70"/>
                      </a:lnTo>
                      <a:lnTo>
                        <a:pt x="538" y="63"/>
                      </a:lnTo>
                      <a:lnTo>
                        <a:pt x="541" y="59"/>
                      </a:lnTo>
                      <a:lnTo>
                        <a:pt x="542" y="53"/>
                      </a:lnTo>
                      <a:lnTo>
                        <a:pt x="542" y="49"/>
                      </a:lnTo>
                      <a:lnTo>
                        <a:pt x="544" y="43"/>
                      </a:lnTo>
                      <a:lnTo>
                        <a:pt x="546" y="39"/>
                      </a:lnTo>
                      <a:lnTo>
                        <a:pt x="548" y="33"/>
                      </a:lnTo>
                      <a:lnTo>
                        <a:pt x="551" y="29"/>
                      </a:lnTo>
                      <a:lnTo>
                        <a:pt x="556" y="23"/>
                      </a:lnTo>
                      <a:lnTo>
                        <a:pt x="561" y="19"/>
                      </a:lnTo>
                      <a:lnTo>
                        <a:pt x="566" y="17"/>
                      </a:lnTo>
                      <a:lnTo>
                        <a:pt x="571" y="16"/>
                      </a:lnTo>
                      <a:lnTo>
                        <a:pt x="578" y="16"/>
                      </a:lnTo>
                      <a:lnTo>
                        <a:pt x="583" y="16"/>
                      </a:lnTo>
                      <a:lnTo>
                        <a:pt x="588" y="16"/>
                      </a:lnTo>
                      <a:lnTo>
                        <a:pt x="593" y="17"/>
                      </a:lnTo>
                      <a:lnTo>
                        <a:pt x="598" y="19"/>
                      </a:lnTo>
                      <a:lnTo>
                        <a:pt x="603" y="23"/>
                      </a:lnTo>
                      <a:lnTo>
                        <a:pt x="605" y="29"/>
                      </a:lnTo>
                      <a:lnTo>
                        <a:pt x="605" y="33"/>
                      </a:lnTo>
                      <a:lnTo>
                        <a:pt x="606" y="39"/>
                      </a:lnTo>
                      <a:lnTo>
                        <a:pt x="606" y="43"/>
                      </a:lnTo>
                      <a:lnTo>
                        <a:pt x="605" y="49"/>
                      </a:lnTo>
                      <a:lnTo>
                        <a:pt x="602" y="53"/>
                      </a:lnTo>
                      <a:lnTo>
                        <a:pt x="596" y="57"/>
                      </a:lnTo>
                      <a:lnTo>
                        <a:pt x="592" y="62"/>
                      </a:lnTo>
                      <a:lnTo>
                        <a:pt x="586" y="65"/>
                      </a:lnTo>
                      <a:lnTo>
                        <a:pt x="583" y="70"/>
                      </a:lnTo>
                      <a:lnTo>
                        <a:pt x="578" y="75"/>
                      </a:lnTo>
                      <a:lnTo>
                        <a:pt x="573" y="80"/>
                      </a:lnTo>
                      <a:lnTo>
                        <a:pt x="568" y="83"/>
                      </a:lnTo>
                      <a:lnTo>
                        <a:pt x="566" y="89"/>
                      </a:lnTo>
                      <a:lnTo>
                        <a:pt x="562" y="93"/>
                      </a:lnTo>
                      <a:lnTo>
                        <a:pt x="559" y="99"/>
                      </a:lnTo>
                      <a:lnTo>
                        <a:pt x="559" y="103"/>
                      </a:lnTo>
                      <a:lnTo>
                        <a:pt x="559" y="109"/>
                      </a:lnTo>
                      <a:lnTo>
                        <a:pt x="565" y="110"/>
                      </a:lnTo>
                      <a:lnTo>
                        <a:pt x="569" y="112"/>
                      </a:lnTo>
                      <a:lnTo>
                        <a:pt x="576" y="110"/>
                      </a:lnTo>
                      <a:lnTo>
                        <a:pt x="582" y="110"/>
                      </a:lnTo>
                      <a:lnTo>
                        <a:pt x="586" y="109"/>
                      </a:lnTo>
                      <a:lnTo>
                        <a:pt x="593" y="107"/>
                      </a:lnTo>
                      <a:lnTo>
                        <a:pt x="599" y="105"/>
                      </a:lnTo>
                      <a:lnTo>
                        <a:pt x="605" y="103"/>
                      </a:lnTo>
                      <a:lnTo>
                        <a:pt x="610" y="102"/>
                      </a:lnTo>
                      <a:lnTo>
                        <a:pt x="616" y="102"/>
                      </a:lnTo>
                      <a:lnTo>
                        <a:pt x="622" y="102"/>
                      </a:lnTo>
                      <a:lnTo>
                        <a:pt x="626" y="102"/>
                      </a:lnTo>
                      <a:lnTo>
                        <a:pt x="633" y="103"/>
                      </a:lnTo>
                      <a:lnTo>
                        <a:pt x="642" y="105"/>
                      </a:lnTo>
                      <a:lnTo>
                        <a:pt x="646" y="110"/>
                      </a:lnTo>
                      <a:lnTo>
                        <a:pt x="650" y="113"/>
                      </a:lnTo>
                      <a:lnTo>
                        <a:pt x="652" y="119"/>
                      </a:lnTo>
                      <a:lnTo>
                        <a:pt x="653" y="125"/>
                      </a:lnTo>
                      <a:lnTo>
                        <a:pt x="652" y="130"/>
                      </a:lnTo>
                      <a:lnTo>
                        <a:pt x="650" y="135"/>
                      </a:lnTo>
                      <a:lnTo>
                        <a:pt x="646" y="140"/>
                      </a:lnTo>
                      <a:lnTo>
                        <a:pt x="642" y="145"/>
                      </a:lnTo>
                      <a:lnTo>
                        <a:pt x="637" y="145"/>
                      </a:lnTo>
                      <a:lnTo>
                        <a:pt x="630" y="150"/>
                      </a:lnTo>
                      <a:lnTo>
                        <a:pt x="625" y="152"/>
                      </a:lnTo>
                      <a:lnTo>
                        <a:pt x="620" y="153"/>
                      </a:lnTo>
                      <a:lnTo>
                        <a:pt x="615" y="155"/>
                      </a:lnTo>
                      <a:lnTo>
                        <a:pt x="610" y="155"/>
                      </a:lnTo>
                      <a:lnTo>
                        <a:pt x="603" y="155"/>
                      </a:lnTo>
                      <a:lnTo>
                        <a:pt x="596" y="156"/>
                      </a:lnTo>
                      <a:lnTo>
                        <a:pt x="589" y="156"/>
                      </a:lnTo>
                      <a:lnTo>
                        <a:pt x="585" y="156"/>
                      </a:lnTo>
                      <a:lnTo>
                        <a:pt x="579" y="156"/>
                      </a:lnTo>
                      <a:lnTo>
                        <a:pt x="575" y="155"/>
                      </a:lnTo>
                      <a:lnTo>
                        <a:pt x="569" y="155"/>
                      </a:lnTo>
                      <a:lnTo>
                        <a:pt x="565" y="155"/>
                      </a:lnTo>
                      <a:lnTo>
                        <a:pt x="559" y="153"/>
                      </a:lnTo>
                      <a:lnTo>
                        <a:pt x="555" y="156"/>
                      </a:lnTo>
                      <a:lnTo>
                        <a:pt x="549" y="159"/>
                      </a:lnTo>
                      <a:lnTo>
                        <a:pt x="544" y="162"/>
                      </a:lnTo>
                      <a:lnTo>
                        <a:pt x="539" y="165"/>
                      </a:lnTo>
                      <a:lnTo>
                        <a:pt x="535" y="170"/>
                      </a:lnTo>
                      <a:lnTo>
                        <a:pt x="508" y="183"/>
                      </a:lnTo>
                      <a:lnTo>
                        <a:pt x="482" y="220"/>
                      </a:lnTo>
                      <a:lnTo>
                        <a:pt x="460" y="259"/>
                      </a:lnTo>
                      <a:lnTo>
                        <a:pt x="440" y="318"/>
                      </a:lnTo>
                      <a:lnTo>
                        <a:pt x="433" y="373"/>
                      </a:lnTo>
                      <a:lnTo>
                        <a:pt x="430" y="448"/>
                      </a:lnTo>
                      <a:lnTo>
                        <a:pt x="428" y="493"/>
                      </a:lnTo>
                      <a:lnTo>
                        <a:pt x="424" y="516"/>
                      </a:lnTo>
                      <a:lnTo>
                        <a:pt x="414" y="536"/>
                      </a:lnTo>
                      <a:lnTo>
                        <a:pt x="403" y="549"/>
                      </a:lnTo>
                      <a:lnTo>
                        <a:pt x="380" y="565"/>
                      </a:lnTo>
                      <a:lnTo>
                        <a:pt x="339" y="585"/>
                      </a:lnTo>
                      <a:lnTo>
                        <a:pt x="293" y="601"/>
                      </a:lnTo>
                      <a:lnTo>
                        <a:pt x="252" y="618"/>
                      </a:lnTo>
                      <a:lnTo>
                        <a:pt x="218" y="631"/>
                      </a:lnTo>
                      <a:lnTo>
                        <a:pt x="170" y="651"/>
                      </a:lnTo>
                      <a:lnTo>
                        <a:pt x="131" y="668"/>
                      </a:lnTo>
                      <a:lnTo>
                        <a:pt x="97" y="688"/>
                      </a:lnTo>
                      <a:lnTo>
                        <a:pt x="60" y="699"/>
                      </a:lnTo>
                      <a:lnTo>
                        <a:pt x="31" y="698"/>
                      </a:lnTo>
                      <a:lnTo>
                        <a:pt x="11" y="691"/>
                      </a:lnTo>
                      <a:lnTo>
                        <a:pt x="0" y="682"/>
                      </a:lnTo>
                      <a:lnTo>
                        <a:pt x="3" y="6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729560" y="1015920"/>
                  <a:ext cx="352440" cy="204840"/>
                </a:xfrm>
                <a:custGeom>
                  <a:avLst/>
                  <a:gdLst/>
                  <a:ahLst/>
                  <a:rect l="l" t="t" r="r" b="b"/>
                  <a:pathLst>
                    <a:path w="891" h="387">
                      <a:moveTo>
                        <a:pt x="719" y="292"/>
                      </a:moveTo>
                      <a:lnTo>
                        <a:pt x="775" y="270"/>
                      </a:lnTo>
                      <a:lnTo>
                        <a:pt x="829" y="259"/>
                      </a:lnTo>
                      <a:lnTo>
                        <a:pt x="864" y="257"/>
                      </a:lnTo>
                      <a:lnTo>
                        <a:pt x="881" y="269"/>
                      </a:lnTo>
                      <a:lnTo>
                        <a:pt x="891" y="292"/>
                      </a:lnTo>
                      <a:lnTo>
                        <a:pt x="884" y="317"/>
                      </a:lnTo>
                      <a:lnTo>
                        <a:pt x="854" y="339"/>
                      </a:lnTo>
                      <a:lnTo>
                        <a:pt x="817" y="349"/>
                      </a:lnTo>
                      <a:lnTo>
                        <a:pt x="772" y="355"/>
                      </a:lnTo>
                      <a:lnTo>
                        <a:pt x="716" y="359"/>
                      </a:lnTo>
                      <a:lnTo>
                        <a:pt x="650" y="367"/>
                      </a:lnTo>
                      <a:lnTo>
                        <a:pt x="594" y="373"/>
                      </a:lnTo>
                      <a:lnTo>
                        <a:pt x="544" y="383"/>
                      </a:lnTo>
                      <a:lnTo>
                        <a:pt x="510" y="385"/>
                      </a:lnTo>
                      <a:lnTo>
                        <a:pt x="506" y="387"/>
                      </a:lnTo>
                      <a:lnTo>
                        <a:pt x="483" y="377"/>
                      </a:lnTo>
                      <a:lnTo>
                        <a:pt x="470" y="357"/>
                      </a:lnTo>
                      <a:lnTo>
                        <a:pt x="453" y="330"/>
                      </a:lnTo>
                      <a:lnTo>
                        <a:pt x="426" y="289"/>
                      </a:lnTo>
                      <a:lnTo>
                        <a:pt x="396" y="262"/>
                      </a:lnTo>
                      <a:lnTo>
                        <a:pt x="364" y="236"/>
                      </a:lnTo>
                      <a:lnTo>
                        <a:pt x="321" y="216"/>
                      </a:lnTo>
                      <a:lnTo>
                        <a:pt x="288" y="202"/>
                      </a:lnTo>
                      <a:lnTo>
                        <a:pt x="283" y="202"/>
                      </a:lnTo>
                      <a:lnTo>
                        <a:pt x="230" y="187"/>
                      </a:lnTo>
                      <a:lnTo>
                        <a:pt x="197" y="183"/>
                      </a:lnTo>
                      <a:lnTo>
                        <a:pt x="192" y="187"/>
                      </a:lnTo>
                      <a:lnTo>
                        <a:pt x="187" y="187"/>
                      </a:lnTo>
                      <a:lnTo>
                        <a:pt x="180" y="187"/>
                      </a:lnTo>
                      <a:lnTo>
                        <a:pt x="173" y="189"/>
                      </a:lnTo>
                      <a:lnTo>
                        <a:pt x="169" y="193"/>
                      </a:lnTo>
                      <a:lnTo>
                        <a:pt x="163" y="197"/>
                      </a:lnTo>
                      <a:lnTo>
                        <a:pt x="159" y="202"/>
                      </a:lnTo>
                      <a:lnTo>
                        <a:pt x="152" y="209"/>
                      </a:lnTo>
                      <a:lnTo>
                        <a:pt x="146" y="210"/>
                      </a:lnTo>
                      <a:lnTo>
                        <a:pt x="143" y="216"/>
                      </a:lnTo>
                      <a:lnTo>
                        <a:pt x="139" y="220"/>
                      </a:lnTo>
                      <a:lnTo>
                        <a:pt x="133" y="223"/>
                      </a:lnTo>
                      <a:lnTo>
                        <a:pt x="128" y="230"/>
                      </a:lnTo>
                      <a:lnTo>
                        <a:pt x="123" y="236"/>
                      </a:lnTo>
                      <a:lnTo>
                        <a:pt x="118" y="240"/>
                      </a:lnTo>
                      <a:lnTo>
                        <a:pt x="115" y="246"/>
                      </a:lnTo>
                      <a:lnTo>
                        <a:pt x="108" y="249"/>
                      </a:lnTo>
                      <a:lnTo>
                        <a:pt x="101" y="252"/>
                      </a:lnTo>
                      <a:lnTo>
                        <a:pt x="96" y="253"/>
                      </a:lnTo>
                      <a:lnTo>
                        <a:pt x="89" y="253"/>
                      </a:lnTo>
                      <a:lnTo>
                        <a:pt x="82" y="256"/>
                      </a:lnTo>
                      <a:lnTo>
                        <a:pt x="78" y="256"/>
                      </a:lnTo>
                      <a:lnTo>
                        <a:pt x="71" y="253"/>
                      </a:lnTo>
                      <a:lnTo>
                        <a:pt x="62" y="252"/>
                      </a:lnTo>
                      <a:lnTo>
                        <a:pt x="59" y="247"/>
                      </a:lnTo>
                      <a:lnTo>
                        <a:pt x="52" y="242"/>
                      </a:lnTo>
                      <a:lnTo>
                        <a:pt x="48" y="237"/>
                      </a:lnTo>
                      <a:lnTo>
                        <a:pt x="47" y="232"/>
                      </a:lnTo>
                      <a:lnTo>
                        <a:pt x="47" y="227"/>
                      </a:lnTo>
                      <a:lnTo>
                        <a:pt x="48" y="222"/>
                      </a:lnTo>
                      <a:lnTo>
                        <a:pt x="52" y="217"/>
                      </a:lnTo>
                      <a:lnTo>
                        <a:pt x="57" y="216"/>
                      </a:lnTo>
                      <a:lnTo>
                        <a:pt x="62" y="209"/>
                      </a:lnTo>
                      <a:lnTo>
                        <a:pt x="71" y="203"/>
                      </a:lnTo>
                      <a:lnTo>
                        <a:pt x="75" y="203"/>
                      </a:lnTo>
                      <a:lnTo>
                        <a:pt x="81" y="202"/>
                      </a:lnTo>
                      <a:lnTo>
                        <a:pt x="88" y="199"/>
                      </a:lnTo>
                      <a:lnTo>
                        <a:pt x="92" y="196"/>
                      </a:lnTo>
                      <a:lnTo>
                        <a:pt x="98" y="193"/>
                      </a:lnTo>
                      <a:lnTo>
                        <a:pt x="102" y="190"/>
                      </a:lnTo>
                      <a:lnTo>
                        <a:pt x="109" y="187"/>
                      </a:lnTo>
                      <a:lnTo>
                        <a:pt x="115" y="186"/>
                      </a:lnTo>
                      <a:lnTo>
                        <a:pt x="119" y="182"/>
                      </a:lnTo>
                      <a:lnTo>
                        <a:pt x="125" y="179"/>
                      </a:lnTo>
                      <a:lnTo>
                        <a:pt x="129" y="177"/>
                      </a:lnTo>
                      <a:lnTo>
                        <a:pt x="133" y="172"/>
                      </a:lnTo>
                      <a:lnTo>
                        <a:pt x="133" y="167"/>
                      </a:lnTo>
                      <a:lnTo>
                        <a:pt x="129" y="162"/>
                      </a:lnTo>
                      <a:lnTo>
                        <a:pt x="125" y="159"/>
                      </a:lnTo>
                      <a:lnTo>
                        <a:pt x="119" y="157"/>
                      </a:lnTo>
                      <a:lnTo>
                        <a:pt x="115" y="156"/>
                      </a:lnTo>
                      <a:lnTo>
                        <a:pt x="109" y="156"/>
                      </a:lnTo>
                      <a:lnTo>
                        <a:pt x="105" y="156"/>
                      </a:lnTo>
                      <a:lnTo>
                        <a:pt x="99" y="156"/>
                      </a:lnTo>
                      <a:lnTo>
                        <a:pt x="94" y="156"/>
                      </a:lnTo>
                      <a:lnTo>
                        <a:pt x="89" y="156"/>
                      </a:lnTo>
                      <a:lnTo>
                        <a:pt x="82" y="156"/>
                      </a:lnTo>
                      <a:lnTo>
                        <a:pt x="78" y="156"/>
                      </a:lnTo>
                      <a:lnTo>
                        <a:pt x="72" y="156"/>
                      </a:lnTo>
                      <a:lnTo>
                        <a:pt x="68" y="156"/>
                      </a:lnTo>
                      <a:lnTo>
                        <a:pt x="62" y="156"/>
                      </a:lnTo>
                      <a:lnTo>
                        <a:pt x="55" y="156"/>
                      </a:lnTo>
                      <a:lnTo>
                        <a:pt x="48" y="156"/>
                      </a:lnTo>
                      <a:lnTo>
                        <a:pt x="42" y="156"/>
                      </a:lnTo>
                      <a:lnTo>
                        <a:pt x="37" y="156"/>
                      </a:lnTo>
                      <a:lnTo>
                        <a:pt x="32" y="156"/>
                      </a:lnTo>
                      <a:lnTo>
                        <a:pt x="27" y="156"/>
                      </a:lnTo>
                      <a:lnTo>
                        <a:pt x="18" y="152"/>
                      </a:lnTo>
                      <a:lnTo>
                        <a:pt x="14" y="150"/>
                      </a:lnTo>
                      <a:lnTo>
                        <a:pt x="8" y="149"/>
                      </a:lnTo>
                      <a:lnTo>
                        <a:pt x="7" y="144"/>
                      </a:lnTo>
                      <a:lnTo>
                        <a:pt x="1" y="137"/>
                      </a:lnTo>
                      <a:lnTo>
                        <a:pt x="0" y="132"/>
                      </a:lnTo>
                      <a:lnTo>
                        <a:pt x="0" y="127"/>
                      </a:lnTo>
                      <a:lnTo>
                        <a:pt x="1" y="120"/>
                      </a:lnTo>
                      <a:lnTo>
                        <a:pt x="4" y="116"/>
                      </a:lnTo>
                      <a:lnTo>
                        <a:pt x="5" y="110"/>
                      </a:lnTo>
                      <a:lnTo>
                        <a:pt x="10" y="107"/>
                      </a:lnTo>
                      <a:lnTo>
                        <a:pt x="15" y="104"/>
                      </a:lnTo>
                      <a:lnTo>
                        <a:pt x="21" y="102"/>
                      </a:lnTo>
                      <a:lnTo>
                        <a:pt x="32" y="99"/>
                      </a:lnTo>
                      <a:lnTo>
                        <a:pt x="38" y="99"/>
                      </a:lnTo>
                      <a:lnTo>
                        <a:pt x="44" y="97"/>
                      </a:lnTo>
                      <a:lnTo>
                        <a:pt x="48" y="96"/>
                      </a:lnTo>
                      <a:lnTo>
                        <a:pt x="55" y="96"/>
                      </a:lnTo>
                      <a:lnTo>
                        <a:pt x="62" y="96"/>
                      </a:lnTo>
                      <a:lnTo>
                        <a:pt x="69" y="96"/>
                      </a:lnTo>
                      <a:lnTo>
                        <a:pt x="75" y="96"/>
                      </a:lnTo>
                      <a:lnTo>
                        <a:pt x="81" y="96"/>
                      </a:lnTo>
                      <a:lnTo>
                        <a:pt x="85" y="96"/>
                      </a:lnTo>
                      <a:lnTo>
                        <a:pt x="92" y="99"/>
                      </a:lnTo>
                      <a:lnTo>
                        <a:pt x="98" y="100"/>
                      </a:lnTo>
                      <a:lnTo>
                        <a:pt x="102" y="102"/>
                      </a:lnTo>
                      <a:lnTo>
                        <a:pt x="109" y="106"/>
                      </a:lnTo>
                      <a:lnTo>
                        <a:pt x="115" y="107"/>
                      </a:lnTo>
                      <a:lnTo>
                        <a:pt x="119" y="110"/>
                      </a:lnTo>
                      <a:lnTo>
                        <a:pt x="125" y="114"/>
                      </a:lnTo>
                      <a:lnTo>
                        <a:pt x="129" y="116"/>
                      </a:lnTo>
                      <a:lnTo>
                        <a:pt x="135" y="119"/>
                      </a:lnTo>
                      <a:lnTo>
                        <a:pt x="139" y="120"/>
                      </a:lnTo>
                      <a:lnTo>
                        <a:pt x="146" y="122"/>
                      </a:lnTo>
                      <a:lnTo>
                        <a:pt x="152" y="126"/>
                      </a:lnTo>
                      <a:lnTo>
                        <a:pt x="156" y="126"/>
                      </a:lnTo>
                      <a:lnTo>
                        <a:pt x="162" y="126"/>
                      </a:lnTo>
                      <a:lnTo>
                        <a:pt x="166" y="122"/>
                      </a:lnTo>
                      <a:lnTo>
                        <a:pt x="172" y="119"/>
                      </a:lnTo>
                      <a:lnTo>
                        <a:pt x="175" y="114"/>
                      </a:lnTo>
                      <a:lnTo>
                        <a:pt x="176" y="109"/>
                      </a:lnTo>
                      <a:lnTo>
                        <a:pt x="176" y="104"/>
                      </a:lnTo>
                      <a:lnTo>
                        <a:pt x="176" y="99"/>
                      </a:lnTo>
                      <a:lnTo>
                        <a:pt x="176" y="93"/>
                      </a:lnTo>
                      <a:lnTo>
                        <a:pt x="176" y="87"/>
                      </a:lnTo>
                      <a:lnTo>
                        <a:pt x="173" y="83"/>
                      </a:lnTo>
                      <a:lnTo>
                        <a:pt x="170" y="76"/>
                      </a:lnTo>
                      <a:lnTo>
                        <a:pt x="170" y="70"/>
                      </a:lnTo>
                      <a:lnTo>
                        <a:pt x="169" y="66"/>
                      </a:lnTo>
                      <a:lnTo>
                        <a:pt x="166" y="60"/>
                      </a:lnTo>
                      <a:lnTo>
                        <a:pt x="165" y="56"/>
                      </a:lnTo>
                      <a:lnTo>
                        <a:pt x="165" y="49"/>
                      </a:lnTo>
                      <a:lnTo>
                        <a:pt x="165" y="44"/>
                      </a:lnTo>
                      <a:lnTo>
                        <a:pt x="165" y="39"/>
                      </a:lnTo>
                      <a:lnTo>
                        <a:pt x="166" y="34"/>
                      </a:lnTo>
                      <a:lnTo>
                        <a:pt x="169" y="27"/>
                      </a:lnTo>
                      <a:lnTo>
                        <a:pt x="170" y="20"/>
                      </a:lnTo>
                      <a:lnTo>
                        <a:pt x="175" y="16"/>
                      </a:lnTo>
                      <a:lnTo>
                        <a:pt x="180" y="14"/>
                      </a:lnTo>
                      <a:lnTo>
                        <a:pt x="183" y="9"/>
                      </a:lnTo>
                      <a:lnTo>
                        <a:pt x="189" y="6"/>
                      </a:lnTo>
                      <a:lnTo>
                        <a:pt x="193" y="3"/>
                      </a:lnTo>
                      <a:lnTo>
                        <a:pt x="199" y="0"/>
                      </a:lnTo>
                      <a:lnTo>
                        <a:pt x="203" y="0"/>
                      </a:lnTo>
                      <a:lnTo>
                        <a:pt x="209" y="0"/>
                      </a:lnTo>
                      <a:lnTo>
                        <a:pt x="214" y="0"/>
                      </a:lnTo>
                      <a:lnTo>
                        <a:pt x="219" y="4"/>
                      </a:lnTo>
                      <a:lnTo>
                        <a:pt x="224" y="6"/>
                      </a:lnTo>
                      <a:lnTo>
                        <a:pt x="229" y="9"/>
                      </a:lnTo>
                      <a:lnTo>
                        <a:pt x="234" y="10"/>
                      </a:lnTo>
                      <a:lnTo>
                        <a:pt x="234" y="16"/>
                      </a:lnTo>
                      <a:lnTo>
                        <a:pt x="237" y="20"/>
                      </a:lnTo>
                      <a:lnTo>
                        <a:pt x="239" y="27"/>
                      </a:lnTo>
                      <a:lnTo>
                        <a:pt x="241" y="33"/>
                      </a:lnTo>
                      <a:lnTo>
                        <a:pt x="241" y="39"/>
                      </a:lnTo>
                      <a:lnTo>
                        <a:pt x="241" y="44"/>
                      </a:lnTo>
                      <a:lnTo>
                        <a:pt x="241" y="49"/>
                      </a:lnTo>
                      <a:lnTo>
                        <a:pt x="241" y="54"/>
                      </a:lnTo>
                      <a:lnTo>
                        <a:pt x="241" y="59"/>
                      </a:lnTo>
                      <a:lnTo>
                        <a:pt x="241" y="64"/>
                      </a:lnTo>
                      <a:lnTo>
                        <a:pt x="239" y="70"/>
                      </a:lnTo>
                      <a:lnTo>
                        <a:pt x="237" y="76"/>
                      </a:lnTo>
                      <a:lnTo>
                        <a:pt x="236" y="80"/>
                      </a:lnTo>
                      <a:lnTo>
                        <a:pt x="233" y="86"/>
                      </a:lnTo>
                      <a:lnTo>
                        <a:pt x="230" y="90"/>
                      </a:lnTo>
                      <a:lnTo>
                        <a:pt x="227" y="96"/>
                      </a:lnTo>
                      <a:lnTo>
                        <a:pt x="224" y="102"/>
                      </a:lnTo>
                      <a:lnTo>
                        <a:pt x="220" y="107"/>
                      </a:lnTo>
                      <a:lnTo>
                        <a:pt x="220" y="112"/>
                      </a:lnTo>
                      <a:lnTo>
                        <a:pt x="220" y="117"/>
                      </a:lnTo>
                      <a:lnTo>
                        <a:pt x="220" y="122"/>
                      </a:lnTo>
                      <a:lnTo>
                        <a:pt x="220" y="127"/>
                      </a:lnTo>
                      <a:lnTo>
                        <a:pt x="226" y="132"/>
                      </a:lnTo>
                      <a:lnTo>
                        <a:pt x="230" y="137"/>
                      </a:lnTo>
                      <a:lnTo>
                        <a:pt x="236" y="140"/>
                      </a:lnTo>
                      <a:lnTo>
                        <a:pt x="264" y="152"/>
                      </a:lnTo>
                      <a:lnTo>
                        <a:pt x="318" y="164"/>
                      </a:lnTo>
                      <a:lnTo>
                        <a:pt x="361" y="180"/>
                      </a:lnTo>
                      <a:lnTo>
                        <a:pt x="402" y="203"/>
                      </a:lnTo>
                      <a:lnTo>
                        <a:pt x="443" y="233"/>
                      </a:lnTo>
                      <a:lnTo>
                        <a:pt x="482" y="263"/>
                      </a:lnTo>
                      <a:lnTo>
                        <a:pt x="520" y="296"/>
                      </a:lnTo>
                      <a:lnTo>
                        <a:pt x="547" y="312"/>
                      </a:lnTo>
                      <a:lnTo>
                        <a:pt x="570" y="322"/>
                      </a:lnTo>
                      <a:lnTo>
                        <a:pt x="593" y="323"/>
                      </a:lnTo>
                      <a:lnTo>
                        <a:pt x="641" y="319"/>
                      </a:lnTo>
                      <a:lnTo>
                        <a:pt x="682" y="309"/>
                      </a:lnTo>
                      <a:lnTo>
                        <a:pt x="719" y="29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7950240" y="1482840"/>
                  <a:ext cx="196920" cy="257040"/>
                </a:xfrm>
                <a:custGeom>
                  <a:avLst/>
                  <a:gdLst/>
                  <a:ahLst/>
                  <a:rect l="l" t="t" r="r" b="b"/>
                  <a:pathLst>
                    <a:path w="497" h="485">
                      <a:moveTo>
                        <a:pt x="381" y="186"/>
                      </a:moveTo>
                      <a:lnTo>
                        <a:pt x="374" y="74"/>
                      </a:lnTo>
                      <a:lnTo>
                        <a:pt x="377" y="39"/>
                      </a:lnTo>
                      <a:lnTo>
                        <a:pt x="388" y="16"/>
                      </a:lnTo>
                      <a:lnTo>
                        <a:pt x="411" y="3"/>
                      </a:lnTo>
                      <a:lnTo>
                        <a:pt x="444" y="0"/>
                      </a:lnTo>
                      <a:lnTo>
                        <a:pt x="470" y="6"/>
                      </a:lnTo>
                      <a:lnTo>
                        <a:pt x="484" y="19"/>
                      </a:lnTo>
                      <a:lnTo>
                        <a:pt x="497" y="50"/>
                      </a:lnTo>
                      <a:lnTo>
                        <a:pt x="497" y="96"/>
                      </a:lnTo>
                      <a:lnTo>
                        <a:pt x="491" y="153"/>
                      </a:lnTo>
                      <a:lnTo>
                        <a:pt x="484" y="219"/>
                      </a:lnTo>
                      <a:lnTo>
                        <a:pt x="473" y="277"/>
                      </a:lnTo>
                      <a:lnTo>
                        <a:pt x="464" y="335"/>
                      </a:lnTo>
                      <a:lnTo>
                        <a:pt x="454" y="380"/>
                      </a:lnTo>
                      <a:lnTo>
                        <a:pt x="439" y="419"/>
                      </a:lnTo>
                      <a:lnTo>
                        <a:pt x="418" y="446"/>
                      </a:lnTo>
                      <a:lnTo>
                        <a:pt x="393" y="472"/>
                      </a:lnTo>
                      <a:lnTo>
                        <a:pt x="371" y="480"/>
                      </a:lnTo>
                      <a:lnTo>
                        <a:pt x="344" y="485"/>
                      </a:lnTo>
                      <a:lnTo>
                        <a:pt x="314" y="482"/>
                      </a:lnTo>
                      <a:lnTo>
                        <a:pt x="283" y="466"/>
                      </a:lnTo>
                      <a:lnTo>
                        <a:pt x="256" y="439"/>
                      </a:lnTo>
                      <a:lnTo>
                        <a:pt x="232" y="403"/>
                      </a:lnTo>
                      <a:lnTo>
                        <a:pt x="209" y="370"/>
                      </a:lnTo>
                      <a:lnTo>
                        <a:pt x="189" y="329"/>
                      </a:lnTo>
                      <a:lnTo>
                        <a:pt x="169" y="277"/>
                      </a:lnTo>
                      <a:lnTo>
                        <a:pt x="149" y="243"/>
                      </a:lnTo>
                      <a:lnTo>
                        <a:pt x="131" y="213"/>
                      </a:lnTo>
                      <a:lnTo>
                        <a:pt x="101" y="186"/>
                      </a:lnTo>
                      <a:lnTo>
                        <a:pt x="81" y="173"/>
                      </a:lnTo>
                      <a:lnTo>
                        <a:pt x="73" y="179"/>
                      </a:lnTo>
                      <a:lnTo>
                        <a:pt x="78" y="233"/>
                      </a:lnTo>
                      <a:lnTo>
                        <a:pt x="90" y="276"/>
                      </a:lnTo>
                      <a:lnTo>
                        <a:pt x="107" y="296"/>
                      </a:lnTo>
                      <a:lnTo>
                        <a:pt x="110" y="310"/>
                      </a:lnTo>
                      <a:lnTo>
                        <a:pt x="104" y="327"/>
                      </a:lnTo>
                      <a:lnTo>
                        <a:pt x="68" y="343"/>
                      </a:lnTo>
                      <a:lnTo>
                        <a:pt x="40" y="345"/>
                      </a:lnTo>
                      <a:lnTo>
                        <a:pt x="10" y="339"/>
                      </a:lnTo>
                      <a:lnTo>
                        <a:pt x="0" y="315"/>
                      </a:lnTo>
                      <a:lnTo>
                        <a:pt x="2" y="270"/>
                      </a:lnTo>
                      <a:lnTo>
                        <a:pt x="14" y="212"/>
                      </a:lnTo>
                      <a:lnTo>
                        <a:pt x="17" y="167"/>
                      </a:lnTo>
                      <a:lnTo>
                        <a:pt x="16" y="122"/>
                      </a:lnTo>
                      <a:lnTo>
                        <a:pt x="14" y="77"/>
                      </a:lnTo>
                      <a:lnTo>
                        <a:pt x="29" y="54"/>
                      </a:lnTo>
                      <a:lnTo>
                        <a:pt x="56" y="47"/>
                      </a:lnTo>
                      <a:lnTo>
                        <a:pt x="78" y="54"/>
                      </a:lnTo>
                      <a:lnTo>
                        <a:pt x="90" y="70"/>
                      </a:lnTo>
                      <a:lnTo>
                        <a:pt x="107" y="104"/>
                      </a:lnTo>
                      <a:lnTo>
                        <a:pt x="122" y="126"/>
                      </a:lnTo>
                      <a:lnTo>
                        <a:pt x="147" y="157"/>
                      </a:lnTo>
                      <a:lnTo>
                        <a:pt x="175" y="183"/>
                      </a:lnTo>
                      <a:lnTo>
                        <a:pt x="199" y="213"/>
                      </a:lnTo>
                      <a:lnTo>
                        <a:pt x="223" y="247"/>
                      </a:lnTo>
                      <a:lnTo>
                        <a:pt x="252" y="289"/>
                      </a:lnTo>
                      <a:lnTo>
                        <a:pt x="279" y="322"/>
                      </a:lnTo>
                      <a:lnTo>
                        <a:pt x="304" y="355"/>
                      </a:lnTo>
                      <a:lnTo>
                        <a:pt x="326" y="377"/>
                      </a:lnTo>
                      <a:lnTo>
                        <a:pt x="346" y="386"/>
                      </a:lnTo>
                      <a:lnTo>
                        <a:pt x="357" y="386"/>
                      </a:lnTo>
                      <a:lnTo>
                        <a:pt x="373" y="375"/>
                      </a:lnTo>
                      <a:lnTo>
                        <a:pt x="381" y="345"/>
                      </a:lnTo>
                      <a:lnTo>
                        <a:pt x="383" y="297"/>
                      </a:lnTo>
                      <a:lnTo>
                        <a:pt x="381" y="253"/>
                      </a:lnTo>
                      <a:lnTo>
                        <a:pt x="381" y="212"/>
                      </a:lnTo>
                      <a:lnTo>
                        <a:pt x="381" y="18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124840" y="1481040"/>
                  <a:ext cx="169920" cy="385920"/>
                </a:xfrm>
                <a:custGeom>
                  <a:avLst/>
                  <a:gdLst/>
                  <a:ahLst/>
                  <a:rect l="l" t="t" r="r" b="b"/>
                  <a:pathLst>
                    <a:path w="424" h="728">
                      <a:moveTo>
                        <a:pt x="95" y="6"/>
                      </a:moveTo>
                      <a:lnTo>
                        <a:pt x="148" y="13"/>
                      </a:lnTo>
                      <a:lnTo>
                        <a:pt x="233" y="29"/>
                      </a:lnTo>
                      <a:lnTo>
                        <a:pt x="301" y="47"/>
                      </a:lnTo>
                      <a:lnTo>
                        <a:pt x="355" y="67"/>
                      </a:lnTo>
                      <a:lnTo>
                        <a:pt x="399" y="93"/>
                      </a:lnTo>
                      <a:lnTo>
                        <a:pt x="414" y="110"/>
                      </a:lnTo>
                      <a:lnTo>
                        <a:pt x="422" y="129"/>
                      </a:lnTo>
                      <a:lnTo>
                        <a:pt x="424" y="152"/>
                      </a:lnTo>
                      <a:lnTo>
                        <a:pt x="418" y="179"/>
                      </a:lnTo>
                      <a:lnTo>
                        <a:pt x="402" y="206"/>
                      </a:lnTo>
                      <a:lnTo>
                        <a:pt x="377" y="239"/>
                      </a:lnTo>
                      <a:lnTo>
                        <a:pt x="344" y="285"/>
                      </a:lnTo>
                      <a:lnTo>
                        <a:pt x="311" y="326"/>
                      </a:lnTo>
                      <a:lnTo>
                        <a:pt x="294" y="365"/>
                      </a:lnTo>
                      <a:lnTo>
                        <a:pt x="274" y="412"/>
                      </a:lnTo>
                      <a:lnTo>
                        <a:pt x="259" y="459"/>
                      </a:lnTo>
                      <a:lnTo>
                        <a:pt x="254" y="503"/>
                      </a:lnTo>
                      <a:lnTo>
                        <a:pt x="253" y="538"/>
                      </a:lnTo>
                      <a:lnTo>
                        <a:pt x="259" y="556"/>
                      </a:lnTo>
                      <a:lnTo>
                        <a:pt x="284" y="575"/>
                      </a:lnTo>
                      <a:lnTo>
                        <a:pt x="324" y="591"/>
                      </a:lnTo>
                      <a:lnTo>
                        <a:pt x="360" y="613"/>
                      </a:lnTo>
                      <a:lnTo>
                        <a:pt x="387" y="645"/>
                      </a:lnTo>
                      <a:lnTo>
                        <a:pt x="395" y="671"/>
                      </a:lnTo>
                      <a:lnTo>
                        <a:pt x="392" y="688"/>
                      </a:lnTo>
                      <a:lnTo>
                        <a:pt x="377" y="702"/>
                      </a:lnTo>
                      <a:lnTo>
                        <a:pt x="338" y="728"/>
                      </a:lnTo>
                      <a:lnTo>
                        <a:pt x="318" y="725"/>
                      </a:lnTo>
                      <a:lnTo>
                        <a:pt x="308" y="705"/>
                      </a:lnTo>
                      <a:lnTo>
                        <a:pt x="304" y="678"/>
                      </a:lnTo>
                      <a:lnTo>
                        <a:pt x="283" y="645"/>
                      </a:lnTo>
                      <a:lnTo>
                        <a:pt x="250" y="619"/>
                      </a:lnTo>
                      <a:lnTo>
                        <a:pt x="222" y="606"/>
                      </a:lnTo>
                      <a:lnTo>
                        <a:pt x="186" y="601"/>
                      </a:lnTo>
                      <a:lnTo>
                        <a:pt x="166" y="585"/>
                      </a:lnTo>
                      <a:lnTo>
                        <a:pt x="159" y="565"/>
                      </a:lnTo>
                      <a:lnTo>
                        <a:pt x="162" y="539"/>
                      </a:lnTo>
                      <a:lnTo>
                        <a:pt x="180" y="515"/>
                      </a:lnTo>
                      <a:lnTo>
                        <a:pt x="196" y="489"/>
                      </a:lnTo>
                      <a:lnTo>
                        <a:pt x="210" y="452"/>
                      </a:lnTo>
                      <a:lnTo>
                        <a:pt x="220" y="402"/>
                      </a:lnTo>
                      <a:lnTo>
                        <a:pt x="227" y="348"/>
                      </a:lnTo>
                      <a:lnTo>
                        <a:pt x="237" y="302"/>
                      </a:lnTo>
                      <a:lnTo>
                        <a:pt x="250" y="259"/>
                      </a:lnTo>
                      <a:lnTo>
                        <a:pt x="267" y="223"/>
                      </a:lnTo>
                      <a:lnTo>
                        <a:pt x="291" y="185"/>
                      </a:lnTo>
                      <a:lnTo>
                        <a:pt x="308" y="160"/>
                      </a:lnTo>
                      <a:lnTo>
                        <a:pt x="308" y="147"/>
                      </a:lnTo>
                      <a:lnTo>
                        <a:pt x="291" y="133"/>
                      </a:lnTo>
                      <a:lnTo>
                        <a:pt x="220" y="132"/>
                      </a:lnTo>
                      <a:lnTo>
                        <a:pt x="153" y="120"/>
                      </a:lnTo>
                      <a:lnTo>
                        <a:pt x="101" y="110"/>
                      </a:lnTo>
                      <a:lnTo>
                        <a:pt x="55" y="100"/>
                      </a:lnTo>
                      <a:lnTo>
                        <a:pt x="21" y="85"/>
                      </a:lnTo>
                      <a:lnTo>
                        <a:pt x="1" y="60"/>
                      </a:lnTo>
                      <a:lnTo>
                        <a:pt x="0" y="29"/>
                      </a:lnTo>
                      <a:lnTo>
                        <a:pt x="14" y="3"/>
                      </a:lnTo>
                      <a:lnTo>
                        <a:pt x="45" y="0"/>
                      </a:lnTo>
                      <a:lnTo>
                        <a:pt x="9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543800" y="1003320"/>
                <a:ext cx="981000" cy="385920"/>
                <a:chOff x="7543800" y="1003320"/>
                <a:chExt cx="981000" cy="3859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3800" y="1141560"/>
                  <a:ext cx="130320" cy="31680"/>
                </a:xfrm>
                <a:custGeom>
                  <a:avLst/>
                  <a:gdLst/>
                  <a:ahLst/>
                  <a:rect l="l" t="t" r="r" b="b"/>
                  <a:pathLst>
                    <a:path w="328" h="62">
                      <a:moveTo>
                        <a:pt x="328" y="24"/>
                      </a:moveTo>
                      <a:lnTo>
                        <a:pt x="61" y="0"/>
                      </a:lnTo>
                      <a:lnTo>
                        <a:pt x="54" y="2"/>
                      </a:lnTo>
                      <a:lnTo>
                        <a:pt x="47" y="2"/>
                      </a:lnTo>
                      <a:lnTo>
                        <a:pt x="40" y="4"/>
                      </a:lnTo>
                      <a:lnTo>
                        <a:pt x="34" y="4"/>
                      </a:lnTo>
                      <a:lnTo>
                        <a:pt x="27" y="6"/>
                      </a:lnTo>
                      <a:lnTo>
                        <a:pt x="20" y="11"/>
                      </a:lnTo>
                      <a:lnTo>
                        <a:pt x="13" y="13"/>
                      </a:lnTo>
                      <a:lnTo>
                        <a:pt x="11" y="19"/>
                      </a:lnTo>
                      <a:lnTo>
                        <a:pt x="4" y="24"/>
                      </a:lnTo>
                      <a:lnTo>
                        <a:pt x="0" y="31"/>
                      </a:lnTo>
                      <a:lnTo>
                        <a:pt x="0" y="37"/>
                      </a:lnTo>
                      <a:lnTo>
                        <a:pt x="2" y="44"/>
                      </a:lnTo>
                      <a:lnTo>
                        <a:pt x="9" y="48"/>
                      </a:lnTo>
                      <a:lnTo>
                        <a:pt x="16" y="55"/>
                      </a:lnTo>
                      <a:lnTo>
                        <a:pt x="22" y="57"/>
                      </a:lnTo>
                      <a:lnTo>
                        <a:pt x="29" y="59"/>
                      </a:lnTo>
                      <a:lnTo>
                        <a:pt x="38" y="59"/>
                      </a:lnTo>
                      <a:lnTo>
                        <a:pt x="45" y="62"/>
                      </a:lnTo>
                      <a:lnTo>
                        <a:pt x="54" y="62"/>
                      </a:lnTo>
                      <a:lnTo>
                        <a:pt x="321" y="39"/>
                      </a:lnTo>
                      <a:lnTo>
                        <a:pt x="328" y="24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585200" y="1316160"/>
                  <a:ext cx="122040" cy="73080"/>
                </a:xfrm>
                <a:custGeom>
                  <a:avLst/>
                  <a:gdLst/>
                  <a:ahLst/>
                  <a:rect l="l" t="t" r="r" b="b"/>
                  <a:pathLst>
                    <a:path w="305" h="136">
                      <a:moveTo>
                        <a:pt x="305" y="0"/>
                      </a:moveTo>
                      <a:lnTo>
                        <a:pt x="46" y="68"/>
                      </a:lnTo>
                      <a:lnTo>
                        <a:pt x="40" y="72"/>
                      </a:lnTo>
                      <a:lnTo>
                        <a:pt x="33" y="75"/>
                      </a:lnTo>
                      <a:lnTo>
                        <a:pt x="28" y="79"/>
                      </a:lnTo>
                      <a:lnTo>
                        <a:pt x="22" y="81"/>
                      </a:lnTo>
                      <a:lnTo>
                        <a:pt x="16" y="86"/>
                      </a:lnTo>
                      <a:lnTo>
                        <a:pt x="12" y="92"/>
                      </a:lnTo>
                      <a:lnTo>
                        <a:pt x="6" y="97"/>
                      </a:lnTo>
                      <a:lnTo>
                        <a:pt x="6" y="104"/>
                      </a:lnTo>
                      <a:lnTo>
                        <a:pt x="2" y="110"/>
                      </a:lnTo>
                      <a:lnTo>
                        <a:pt x="0" y="118"/>
                      </a:lnTo>
                      <a:lnTo>
                        <a:pt x="2" y="125"/>
                      </a:lnTo>
                      <a:lnTo>
                        <a:pt x="6" y="130"/>
                      </a:lnTo>
                      <a:lnTo>
                        <a:pt x="14" y="131"/>
                      </a:lnTo>
                      <a:lnTo>
                        <a:pt x="22" y="136"/>
                      </a:lnTo>
                      <a:lnTo>
                        <a:pt x="30" y="136"/>
                      </a:lnTo>
                      <a:lnTo>
                        <a:pt x="37" y="135"/>
                      </a:lnTo>
                      <a:lnTo>
                        <a:pt x="46" y="132"/>
                      </a:lnTo>
                      <a:lnTo>
                        <a:pt x="52" y="132"/>
                      </a:lnTo>
                      <a:lnTo>
                        <a:pt x="60" y="129"/>
                      </a:lnTo>
                      <a:lnTo>
                        <a:pt x="304" y="18"/>
                      </a:lnTo>
                      <a:lnTo>
                        <a:pt x="305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8394840" y="1003320"/>
                  <a:ext cx="125280" cy="65160"/>
                </a:xfrm>
                <a:custGeom>
                  <a:avLst/>
                  <a:gdLst/>
                  <a:ahLst/>
                  <a:rect l="l" t="t" r="r" b="b"/>
                  <a:pathLst>
                    <a:path w="317" h="122">
                      <a:moveTo>
                        <a:pt x="0" y="109"/>
                      </a:moveTo>
                      <a:lnTo>
                        <a:pt x="247" y="4"/>
                      </a:lnTo>
                      <a:lnTo>
                        <a:pt x="254" y="4"/>
                      </a:lnTo>
                      <a:lnTo>
                        <a:pt x="261" y="2"/>
                      </a:lnTo>
                      <a:lnTo>
                        <a:pt x="267" y="2"/>
                      </a:lnTo>
                      <a:lnTo>
                        <a:pt x="274" y="0"/>
                      </a:lnTo>
                      <a:lnTo>
                        <a:pt x="281" y="0"/>
                      </a:lnTo>
                      <a:lnTo>
                        <a:pt x="289" y="2"/>
                      </a:lnTo>
                      <a:lnTo>
                        <a:pt x="296" y="2"/>
                      </a:lnTo>
                      <a:lnTo>
                        <a:pt x="300" y="8"/>
                      </a:lnTo>
                      <a:lnTo>
                        <a:pt x="308" y="10"/>
                      </a:lnTo>
                      <a:lnTo>
                        <a:pt x="315" y="15"/>
                      </a:lnTo>
                      <a:lnTo>
                        <a:pt x="317" y="22"/>
                      </a:lnTo>
                      <a:lnTo>
                        <a:pt x="317" y="29"/>
                      </a:lnTo>
                      <a:lnTo>
                        <a:pt x="311" y="35"/>
                      </a:lnTo>
                      <a:lnTo>
                        <a:pt x="307" y="43"/>
                      </a:lnTo>
                      <a:lnTo>
                        <a:pt x="301" y="48"/>
                      </a:lnTo>
                      <a:lnTo>
                        <a:pt x="296" y="52"/>
                      </a:lnTo>
                      <a:lnTo>
                        <a:pt x="288" y="54"/>
                      </a:lnTo>
                      <a:lnTo>
                        <a:pt x="281" y="59"/>
                      </a:lnTo>
                      <a:lnTo>
                        <a:pt x="273" y="61"/>
                      </a:lnTo>
                      <a:lnTo>
                        <a:pt x="11" y="122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8402760" y="1217520"/>
                  <a:ext cx="122040" cy="71640"/>
                </a:xfrm>
                <a:custGeom>
                  <a:avLst/>
                  <a:gdLst/>
                  <a:ahLst/>
                  <a:rect l="l" t="t" r="r" b="b"/>
                  <a:pathLst>
                    <a:path w="305" h="135">
                      <a:moveTo>
                        <a:pt x="0" y="0"/>
                      </a:moveTo>
                      <a:lnTo>
                        <a:pt x="259" y="67"/>
                      </a:lnTo>
                      <a:lnTo>
                        <a:pt x="265" y="72"/>
                      </a:lnTo>
                      <a:lnTo>
                        <a:pt x="271" y="74"/>
                      </a:lnTo>
                      <a:lnTo>
                        <a:pt x="277" y="79"/>
                      </a:lnTo>
                      <a:lnTo>
                        <a:pt x="283" y="81"/>
                      </a:lnTo>
                      <a:lnTo>
                        <a:pt x="288" y="85"/>
                      </a:lnTo>
                      <a:lnTo>
                        <a:pt x="293" y="92"/>
                      </a:lnTo>
                      <a:lnTo>
                        <a:pt x="298" y="96"/>
                      </a:lnTo>
                      <a:lnTo>
                        <a:pt x="298" y="103"/>
                      </a:lnTo>
                      <a:lnTo>
                        <a:pt x="303" y="110"/>
                      </a:lnTo>
                      <a:lnTo>
                        <a:pt x="305" y="117"/>
                      </a:lnTo>
                      <a:lnTo>
                        <a:pt x="303" y="124"/>
                      </a:lnTo>
                      <a:lnTo>
                        <a:pt x="298" y="130"/>
                      </a:lnTo>
                      <a:lnTo>
                        <a:pt x="290" y="131"/>
                      </a:lnTo>
                      <a:lnTo>
                        <a:pt x="283" y="135"/>
                      </a:lnTo>
                      <a:lnTo>
                        <a:pt x="275" y="135"/>
                      </a:lnTo>
                      <a:lnTo>
                        <a:pt x="268" y="134"/>
                      </a:lnTo>
                      <a:lnTo>
                        <a:pt x="259" y="132"/>
                      </a:lnTo>
                      <a:lnTo>
                        <a:pt x="252" y="132"/>
                      </a:lnTo>
                      <a:lnTo>
                        <a:pt x="244" y="128"/>
                      </a:lnTo>
                      <a:lnTo>
                        <a:pt x="1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2" name=""/>
            <p:cNvSpPr/>
            <p:nvPr/>
          </p:nvSpPr>
          <p:spPr>
            <a:xfrm>
              <a:off x="7737120" y="1954080"/>
              <a:ext cx="807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ujua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ercapa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4444920" y="635040"/>
            <a:ext cx="1154160" cy="1966320"/>
            <a:chOff x="4444920" y="635040"/>
            <a:chExt cx="1154160" cy="1966320"/>
          </a:xfrm>
        </p:grpSpPr>
        <p:pic>
          <p:nvPicPr>
            <p:cNvPr id="534" name="" descr=""/>
            <p:cNvPicPr/>
            <p:nvPr/>
          </p:nvPicPr>
          <p:blipFill>
            <a:blip r:embed="rId9"/>
            <a:stretch/>
          </p:blipFill>
          <p:spPr>
            <a:xfrm>
              <a:off x="4444920" y="635040"/>
              <a:ext cx="11541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4656600" y="2081160"/>
              <a:ext cx="84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s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nc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609480" y="4352760"/>
            <a:ext cx="135000" cy="115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087640" y="4352760"/>
            <a:ext cx="135000" cy="115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3298680" y="4352760"/>
            <a:ext cx="282600" cy="325440"/>
            <a:chOff x="3298680" y="4352760"/>
            <a:chExt cx="282600" cy="325440"/>
          </a:xfrm>
        </p:grpSpPr>
        <p:sp>
          <p:nvSpPr>
            <p:cNvPr id="539" name=""/>
            <p:cNvSpPr/>
            <p:nvPr/>
          </p:nvSpPr>
          <p:spPr>
            <a:xfrm>
              <a:off x="3298680" y="4352760"/>
              <a:ext cx="135000" cy="1159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408480" y="4508640"/>
              <a:ext cx="172800" cy="169560"/>
            </a:xfrm>
            <a:custGeom>
              <a:avLst/>
              <a:gdLst/>
              <a:ahLst/>
              <a:rect l="l" t="t" r="r" b="b"/>
              <a:pathLst>
                <a:path w="123" h="141">
                  <a:moveTo>
                    <a:pt x="0" y="0"/>
                  </a:moveTo>
                  <a:cubicBezTo>
                    <a:pt x="48" y="39"/>
                    <a:pt x="102" y="99"/>
                    <a:pt x="123" y="141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5651640" y="609480"/>
            <a:ext cx="1346040" cy="23623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878040" y="3657600"/>
            <a:ext cx="1076040" cy="1038600"/>
            <a:chOff x="878040" y="3657600"/>
            <a:chExt cx="1076040" cy="1038600"/>
          </a:xfrm>
        </p:grpSpPr>
        <p:grpSp>
          <p:nvGrpSpPr>
            <p:cNvPr id="543" name=""/>
            <p:cNvGrpSpPr/>
            <p:nvPr/>
          </p:nvGrpSpPr>
          <p:grpSpPr>
            <a:xfrm>
              <a:off x="878040" y="3657600"/>
              <a:ext cx="1076040" cy="754200"/>
              <a:chOff x="878040" y="3657600"/>
              <a:chExt cx="1076040" cy="754200"/>
            </a:xfrm>
          </p:grpSpPr>
          <p:pic>
            <p:nvPicPr>
              <p:cNvPr id="54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12680" y="3657600"/>
                <a:ext cx="648000" cy="69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>
                <a:off x="878040" y="4411800"/>
                <a:ext cx="10760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990360" y="441972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ahun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1293840" y="5221440"/>
            <a:ext cx="1862280" cy="1333440"/>
            <a:chOff x="1293840" y="5221440"/>
            <a:chExt cx="1862280" cy="1333440"/>
          </a:xfrm>
        </p:grpSpPr>
        <p:sp>
          <p:nvSpPr>
            <p:cNvPr id="548" name=""/>
            <p:cNvSpPr/>
            <p:nvPr/>
          </p:nvSpPr>
          <p:spPr>
            <a:xfrm>
              <a:off x="1811160" y="5622840"/>
              <a:ext cx="290520" cy="285840"/>
            </a:xfrm>
            <a:custGeom>
              <a:avLst/>
              <a:gdLst/>
              <a:ahLst/>
              <a:rect l="l" t="t" r="r" b="b"/>
              <a:pathLst>
                <a:path w="207" h="237">
                  <a:moveTo>
                    <a:pt x="0" y="0"/>
                  </a:moveTo>
                  <a:cubicBezTo>
                    <a:pt x="60" y="117"/>
                    <a:pt x="129" y="180"/>
                    <a:pt x="207" y="237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" name=""/>
            <p:cNvGrpSpPr/>
            <p:nvPr/>
          </p:nvGrpSpPr>
          <p:grpSpPr>
            <a:xfrm>
              <a:off x="1293840" y="5221440"/>
              <a:ext cx="1862280" cy="1333440"/>
              <a:chOff x="1293840" y="5221440"/>
              <a:chExt cx="1862280" cy="1333440"/>
            </a:xfrm>
          </p:grpSpPr>
          <p:pic>
            <p:nvPicPr>
              <p:cNvPr id="55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224080" y="5221440"/>
                <a:ext cx="932040" cy="98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"/>
              <p:cNvSpPr/>
              <p:nvPr/>
            </p:nvSpPr>
            <p:spPr>
              <a:xfrm>
                <a:off x="1293840" y="6095880"/>
                <a:ext cx="1344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Evaluasi Dir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&amp;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Susun Lapora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2" name=""/>
          <p:cNvGrpSpPr/>
          <p:nvPr/>
        </p:nvGrpSpPr>
        <p:grpSpPr>
          <a:xfrm>
            <a:off x="3274920" y="4700520"/>
            <a:ext cx="1042920" cy="1433880"/>
            <a:chOff x="3274920" y="4700520"/>
            <a:chExt cx="1042920" cy="1433880"/>
          </a:xfrm>
        </p:grpSpPr>
        <p:sp>
          <p:nvSpPr>
            <p:cNvPr id="553" name=""/>
            <p:cNvSpPr/>
            <p:nvPr/>
          </p:nvSpPr>
          <p:spPr>
            <a:xfrm>
              <a:off x="3274920" y="5735520"/>
              <a:ext cx="281160" cy="216000"/>
            </a:xfrm>
            <a:custGeom>
              <a:avLst/>
              <a:gdLst/>
              <a:ahLst/>
              <a:rect l="l" t="t" r="r" b="b"/>
              <a:pathLst>
                <a:path w="201" h="180">
                  <a:moveTo>
                    <a:pt x="0" y="180"/>
                  </a:moveTo>
                  <a:cubicBezTo>
                    <a:pt x="69" y="141"/>
                    <a:pt x="165" y="60"/>
                    <a:pt x="201" y="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3300480" y="4700520"/>
              <a:ext cx="1017360" cy="1433880"/>
              <a:chOff x="3300480" y="4700520"/>
              <a:chExt cx="1017360" cy="1433880"/>
            </a:xfrm>
          </p:grpSpPr>
          <p:pic>
            <p:nvPicPr>
              <p:cNvPr id="55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00480" y="4700520"/>
                <a:ext cx="1017360" cy="104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6" name=""/>
              <p:cNvSpPr/>
              <p:nvPr/>
            </p:nvSpPr>
            <p:spPr>
              <a:xfrm>
                <a:off x="3546360" y="5675400"/>
                <a:ext cx="747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erbaik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encan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7" name=""/>
          <p:cNvGrpSpPr/>
          <p:nvPr/>
        </p:nvGrpSpPr>
        <p:grpSpPr>
          <a:xfrm>
            <a:off x="658800" y="4483080"/>
            <a:ext cx="1550880" cy="1386000"/>
            <a:chOff x="658800" y="4483080"/>
            <a:chExt cx="1550880" cy="1386000"/>
          </a:xfrm>
        </p:grpSpPr>
        <p:sp>
          <p:nvSpPr>
            <p:cNvPr id="558" name=""/>
            <p:cNvSpPr/>
            <p:nvPr/>
          </p:nvSpPr>
          <p:spPr>
            <a:xfrm>
              <a:off x="1882800" y="4483080"/>
              <a:ext cx="206280" cy="177840"/>
            </a:xfrm>
            <a:custGeom>
              <a:avLst/>
              <a:gdLst/>
              <a:ahLst/>
              <a:rect l="l" t="t" r="r" b="b"/>
              <a:pathLst>
                <a:path w="147" h="147">
                  <a:moveTo>
                    <a:pt x="147" y="0"/>
                  </a:moveTo>
                  <a:cubicBezTo>
                    <a:pt x="96" y="36"/>
                    <a:pt x="39" y="90"/>
                    <a:pt x="0" y="147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658800" y="4724280"/>
              <a:ext cx="1550880" cy="1144800"/>
              <a:chOff x="658800" y="4724280"/>
              <a:chExt cx="1550880" cy="1144800"/>
            </a:xfrm>
          </p:grpSpPr>
          <p:sp>
            <p:nvSpPr>
              <p:cNvPr id="560" name=""/>
              <p:cNvSpPr/>
              <p:nvPr/>
            </p:nvSpPr>
            <p:spPr>
              <a:xfrm>
                <a:off x="658800" y="5410080"/>
                <a:ext cx="9352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nalis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encapaia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6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219320" y="4724280"/>
                <a:ext cx="990360" cy="884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62" name=""/>
          <p:cNvGrpSpPr/>
          <p:nvPr/>
        </p:nvGrpSpPr>
        <p:grpSpPr>
          <a:xfrm>
            <a:off x="3586320" y="3657600"/>
            <a:ext cx="1912680" cy="1038600"/>
            <a:chOff x="3586320" y="3657600"/>
            <a:chExt cx="1912680" cy="1038600"/>
          </a:xfrm>
        </p:grpSpPr>
        <p:grpSp>
          <p:nvGrpSpPr>
            <p:cNvPr id="563" name=""/>
            <p:cNvGrpSpPr/>
            <p:nvPr/>
          </p:nvGrpSpPr>
          <p:grpSpPr>
            <a:xfrm>
              <a:off x="3586320" y="3657600"/>
              <a:ext cx="1644480" cy="1038600"/>
              <a:chOff x="3586320" y="3657600"/>
              <a:chExt cx="1644480" cy="103860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3586320" y="3657600"/>
                <a:ext cx="1644480" cy="754200"/>
                <a:chOff x="3586320" y="3657600"/>
                <a:chExt cx="1644480" cy="754200"/>
              </a:xfrm>
            </p:grpSpPr>
            <p:pic>
              <p:nvPicPr>
                <p:cNvPr id="56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962520" y="3657600"/>
                  <a:ext cx="647640" cy="69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66" name=""/>
                <p:cNvSpPr/>
                <p:nvPr/>
              </p:nvSpPr>
              <p:spPr>
                <a:xfrm>
                  <a:off x="3586320" y="4410000"/>
                  <a:ext cx="1644480" cy="180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7" name=""/>
              <p:cNvSpPr/>
              <p:nvPr/>
            </p:nvSpPr>
            <p:spPr>
              <a:xfrm>
                <a:off x="3962160" y="441972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Tahun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8" name=""/>
            <p:cNvSpPr/>
            <p:nvPr/>
          </p:nvSpPr>
          <p:spPr>
            <a:xfrm>
              <a:off x="5364000" y="4352760"/>
              <a:ext cx="135000" cy="1159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5087880" y="5221440"/>
            <a:ext cx="1344600" cy="984240"/>
            <a:chOff x="5087880" y="5221440"/>
            <a:chExt cx="1344600" cy="984240"/>
          </a:xfrm>
        </p:grpSpPr>
        <p:pic>
          <p:nvPicPr>
            <p:cNvPr id="570" name="" descr=""/>
            <p:cNvPicPr/>
            <p:nvPr/>
          </p:nvPicPr>
          <p:blipFill>
            <a:blip r:embed="rId15"/>
            <a:stretch/>
          </p:blipFill>
          <p:spPr>
            <a:xfrm>
              <a:off x="5500800" y="5221440"/>
              <a:ext cx="931680" cy="98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5087880" y="5622840"/>
              <a:ext cx="290520" cy="285840"/>
            </a:xfrm>
            <a:custGeom>
              <a:avLst/>
              <a:gdLst/>
              <a:ahLst/>
              <a:rect l="l" t="t" r="r" b="b"/>
              <a:pathLst>
                <a:path w="207" h="237">
                  <a:moveTo>
                    <a:pt x="0" y="0"/>
                  </a:moveTo>
                  <a:cubicBezTo>
                    <a:pt x="60" y="117"/>
                    <a:pt x="129" y="180"/>
                    <a:pt x="207" y="237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6551640" y="4700520"/>
            <a:ext cx="1042920" cy="1251000"/>
            <a:chOff x="6551640" y="4700520"/>
            <a:chExt cx="1042920" cy="1251000"/>
          </a:xfrm>
        </p:grpSpPr>
        <p:pic>
          <p:nvPicPr>
            <p:cNvPr id="573" name="" descr=""/>
            <p:cNvPicPr/>
            <p:nvPr/>
          </p:nvPicPr>
          <p:blipFill>
            <a:blip r:embed="rId16"/>
            <a:stretch/>
          </p:blipFill>
          <p:spPr>
            <a:xfrm>
              <a:off x="6576840" y="4700520"/>
              <a:ext cx="101772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6551640" y="5735520"/>
              <a:ext cx="280800" cy="216000"/>
            </a:xfrm>
            <a:custGeom>
              <a:avLst/>
              <a:gdLst/>
              <a:ahLst/>
              <a:rect l="l" t="t" r="r" b="b"/>
              <a:pathLst>
                <a:path w="201" h="180">
                  <a:moveTo>
                    <a:pt x="0" y="180"/>
                  </a:moveTo>
                  <a:cubicBezTo>
                    <a:pt x="69" y="141"/>
                    <a:pt x="165" y="60"/>
                    <a:pt x="201" y="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6575400" y="4352760"/>
            <a:ext cx="282600" cy="325440"/>
            <a:chOff x="6575400" y="4352760"/>
            <a:chExt cx="282600" cy="325440"/>
          </a:xfrm>
        </p:grpSpPr>
        <p:sp>
          <p:nvSpPr>
            <p:cNvPr id="576" name=""/>
            <p:cNvSpPr/>
            <p:nvPr/>
          </p:nvSpPr>
          <p:spPr>
            <a:xfrm>
              <a:off x="6575400" y="4352760"/>
              <a:ext cx="135000" cy="1159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684840" y="4508640"/>
              <a:ext cx="173160" cy="169560"/>
            </a:xfrm>
            <a:custGeom>
              <a:avLst/>
              <a:gdLst/>
              <a:ahLst/>
              <a:rect l="l" t="t" r="r" b="b"/>
              <a:pathLst>
                <a:path w="123" h="141">
                  <a:moveTo>
                    <a:pt x="0" y="0"/>
                  </a:moveTo>
                  <a:cubicBezTo>
                    <a:pt x="48" y="39"/>
                    <a:pt x="102" y="99"/>
                    <a:pt x="123" y="141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4572000" y="4483080"/>
            <a:ext cx="990720" cy="1125720"/>
            <a:chOff x="4572000" y="4483080"/>
            <a:chExt cx="990720" cy="1125720"/>
          </a:xfrm>
        </p:grpSpPr>
        <p:sp>
          <p:nvSpPr>
            <p:cNvPr id="579" name=""/>
            <p:cNvSpPr/>
            <p:nvPr/>
          </p:nvSpPr>
          <p:spPr>
            <a:xfrm>
              <a:off x="5159520" y="4483080"/>
              <a:ext cx="206280" cy="177840"/>
            </a:xfrm>
            <a:custGeom>
              <a:avLst/>
              <a:gdLst/>
              <a:ahLst/>
              <a:rect l="l" t="t" r="r" b="b"/>
              <a:pathLst>
                <a:path w="147" h="147">
                  <a:moveTo>
                    <a:pt x="147" y="0"/>
                  </a:moveTo>
                  <a:cubicBezTo>
                    <a:pt x="96" y="36"/>
                    <a:pt x="39" y="90"/>
                    <a:pt x="0" y="147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0" name="" descr=""/>
            <p:cNvPicPr/>
            <p:nvPr/>
          </p:nvPicPr>
          <p:blipFill>
            <a:blip r:embed="rId17"/>
            <a:stretch/>
          </p:blipFill>
          <p:spPr>
            <a:xfrm>
              <a:off x="4572000" y="4724280"/>
              <a:ext cx="990720" cy="884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1" name=""/>
          <p:cNvGrpSpPr/>
          <p:nvPr/>
        </p:nvGrpSpPr>
        <p:grpSpPr>
          <a:xfrm>
            <a:off x="6856920" y="3657600"/>
            <a:ext cx="1907640" cy="1038600"/>
            <a:chOff x="6856920" y="3657600"/>
            <a:chExt cx="1907640" cy="1038600"/>
          </a:xfrm>
        </p:grpSpPr>
        <p:pic>
          <p:nvPicPr>
            <p:cNvPr id="582" name="" descr=""/>
            <p:cNvPicPr/>
            <p:nvPr/>
          </p:nvPicPr>
          <p:blipFill>
            <a:blip r:embed="rId18"/>
            <a:stretch/>
          </p:blipFill>
          <p:spPr>
            <a:xfrm>
              <a:off x="6993000" y="3657600"/>
              <a:ext cx="647640" cy="69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8629560" y="4343400"/>
              <a:ext cx="135000" cy="1159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858000" y="4411800"/>
              <a:ext cx="13190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856920" y="4419720"/>
              <a:ext cx="100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ahun 3, d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229600" y="4348080"/>
              <a:ext cx="135000" cy="1159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8424720" y="4348080"/>
              <a:ext cx="135000" cy="115920"/>
            </a:xfrm>
            <a:prstGeom prst="ellipse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05120" y="1676160"/>
            <a:ext cx="57909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Benguiat Bk BT"/>
              </a:rPr>
              <a:t>Evaluasi</a:t>
            </a:r>
            <a:br>
              <a:rPr sz="6600"/>
            </a:br>
            <a:r>
              <a:rPr b="0" i="1" lang="en-US" sz="6600" spc="-1" strike="noStrike">
                <a:solidFill>
                  <a:srgbClr val="000000"/>
                </a:solidFill>
                <a:latin typeface="Benguiat Bk BT"/>
              </a:rPr>
              <a:t>Diri</a:t>
            </a:r>
            <a:endParaRPr b="1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03:35:25Z</dcterms:created>
  <dc:creator>Iik Wilarso</dc:creator>
  <dc:description/>
  <dc:language>en-US</dc:language>
  <cp:lastModifiedBy>Jack la Motta</cp:lastModifiedBy>
  <cp:lastPrinted>2002-09-30T03:18:26Z</cp:lastPrinted>
  <dcterms:modified xsi:type="dcterms:W3CDTF">2003-10-04T23:51:07Z</dcterms:modified>
  <cp:revision>126</cp:revision>
  <dc:subject/>
  <dc:title>Self-Evaluation  dalam Konteks Perencanaan  </dc:title>
</cp:coreProperties>
</file>