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FB16D-617F-4C4C-B581-BADB611A2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81080" y="1371240"/>
            <a:ext cx="701064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19320" y="4343040"/>
            <a:ext cx="767232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1219320" y="4900320"/>
            <a:ext cx="767232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A9F29-715B-4144-BB3F-079E9CAA2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81080" y="1371240"/>
            <a:ext cx="701064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219320" y="4343040"/>
            <a:ext cx="374400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50880" y="4343040"/>
            <a:ext cx="374400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219320" y="4900320"/>
            <a:ext cx="374400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5150880" y="4900320"/>
            <a:ext cx="374400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79D9D-2BD3-4744-BC53-8D45DA570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81080" y="1371240"/>
            <a:ext cx="701064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4343040"/>
            <a:ext cx="247032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13480" y="4343040"/>
            <a:ext cx="247032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407640" y="4343040"/>
            <a:ext cx="247032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1219320" y="4900320"/>
            <a:ext cx="247032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813480" y="4900320"/>
            <a:ext cx="247032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407640" y="4900320"/>
            <a:ext cx="247032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D21E8-D3D4-408F-9212-0B14EEBA4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95FD4-561F-4858-8EED-C254246F9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81080" y="1371240"/>
            <a:ext cx="701064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1219320" y="4343040"/>
            <a:ext cx="76723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60F76-FF92-4967-AF96-AF1926BD8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981080" y="1371240"/>
            <a:ext cx="701064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4343040"/>
            <a:ext cx="7672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D2C9A-FC96-49FD-9133-D7A5F10C7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981080" y="1371240"/>
            <a:ext cx="701064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9320" y="4343040"/>
            <a:ext cx="37440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150880" y="4343040"/>
            <a:ext cx="37440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497D3-8823-4280-ABF2-58808443E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981080" y="1371240"/>
            <a:ext cx="701064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5B3AB-E072-4A8A-9A13-3665841DA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1981080" y="1371240"/>
            <a:ext cx="7010640" cy="113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0D994-DE0A-4496-87AE-D783A6622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981080" y="1371240"/>
            <a:ext cx="701064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219320" y="4343040"/>
            <a:ext cx="374400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50880" y="4343040"/>
            <a:ext cx="37440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1219320" y="4900320"/>
            <a:ext cx="374400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16DA7-969F-4990-8353-32BB880EB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81080" y="1371240"/>
            <a:ext cx="701064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1219320" y="4343040"/>
            <a:ext cx="76723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58CD1-5207-46A8-BE12-A6BD7863F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81080" y="1371240"/>
            <a:ext cx="701064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219320" y="4343040"/>
            <a:ext cx="37440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150880" y="4343040"/>
            <a:ext cx="374400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150880" y="4900320"/>
            <a:ext cx="374400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58E77-E1D4-4A9A-8CAD-F0A61ACAF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81080" y="1371240"/>
            <a:ext cx="701064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219320" y="4343040"/>
            <a:ext cx="374400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50880" y="4343040"/>
            <a:ext cx="374400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219320" y="4900320"/>
            <a:ext cx="767232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04434-DD57-4638-917D-FA6D945C0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981080" y="1371240"/>
            <a:ext cx="701064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219320" y="4343040"/>
            <a:ext cx="767232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1219320" y="4900320"/>
            <a:ext cx="767232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B928E-253F-492D-9B2A-13BB44F9D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981080" y="1371240"/>
            <a:ext cx="701064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219320" y="4343040"/>
            <a:ext cx="374400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150880" y="4343040"/>
            <a:ext cx="374400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1219320" y="4900320"/>
            <a:ext cx="374400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5150880" y="4900320"/>
            <a:ext cx="374400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2CF04-5C0F-4082-A20F-2FD05D319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981080" y="1371240"/>
            <a:ext cx="701064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219320" y="4343040"/>
            <a:ext cx="247032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813480" y="4343040"/>
            <a:ext cx="247032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407640" y="4343040"/>
            <a:ext cx="247032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1219320" y="4900320"/>
            <a:ext cx="247032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813480" y="4900320"/>
            <a:ext cx="247032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407640" y="4900320"/>
            <a:ext cx="247032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50E36-4F7B-46F5-B495-437442F30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F3B09F-EFED-4C66-894E-8FE31E71B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981080" y="1371240"/>
            <a:ext cx="701064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219320" y="4343040"/>
            <a:ext cx="76723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E33679-C63E-43E1-9E43-2FAE083CB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981080" y="1371240"/>
            <a:ext cx="701064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219320" y="4343040"/>
            <a:ext cx="7672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5A3AF1-8890-4062-BEAE-907AF18D3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981080" y="1371240"/>
            <a:ext cx="701064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219320" y="4343040"/>
            <a:ext cx="37440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5150880" y="4343040"/>
            <a:ext cx="37440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7D6E1B-C6E7-437E-A5FC-0C5218C4A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981080" y="1371240"/>
            <a:ext cx="701064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90C0F2-5F50-4E39-8192-055329E59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981080" y="1371240"/>
            <a:ext cx="701064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219320" y="4343040"/>
            <a:ext cx="7672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2492A-2231-4AE6-B30D-01E7A3661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1981080" y="1371240"/>
            <a:ext cx="7010640" cy="113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92B1BF-C26D-4C78-85C7-CCF5FC3C2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981080" y="1371240"/>
            <a:ext cx="701064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219320" y="4343040"/>
            <a:ext cx="374400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150880" y="4343040"/>
            <a:ext cx="37440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1219320" y="4900320"/>
            <a:ext cx="374400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1486E8-E4C3-406F-9BBE-0863222EA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981080" y="1371240"/>
            <a:ext cx="701064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219320" y="4343040"/>
            <a:ext cx="37440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150880" y="4343040"/>
            <a:ext cx="374400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150880" y="4900320"/>
            <a:ext cx="374400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EDB679-0B47-4E73-AFA6-4BA7F9C22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981080" y="1371240"/>
            <a:ext cx="701064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219320" y="4343040"/>
            <a:ext cx="374400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150880" y="4343040"/>
            <a:ext cx="374400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1219320" y="4900320"/>
            <a:ext cx="767232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C15132-C534-44EF-8DDC-9CBAFE434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981080" y="1371240"/>
            <a:ext cx="701064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219320" y="4343040"/>
            <a:ext cx="767232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1219320" y="4900320"/>
            <a:ext cx="767232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2068B0-B713-4A7C-BB95-05D120ABE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981080" y="1371240"/>
            <a:ext cx="701064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219320" y="4343040"/>
            <a:ext cx="374400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150880" y="4343040"/>
            <a:ext cx="374400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1219320" y="4900320"/>
            <a:ext cx="374400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5150880" y="4900320"/>
            <a:ext cx="374400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53DD56-96A8-4726-A7B8-F56312D26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981080" y="1371240"/>
            <a:ext cx="701064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219320" y="4343040"/>
            <a:ext cx="247032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13480" y="4343040"/>
            <a:ext cx="247032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407640" y="4343040"/>
            <a:ext cx="247032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1219320" y="4900320"/>
            <a:ext cx="247032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813480" y="4900320"/>
            <a:ext cx="247032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407640" y="4900320"/>
            <a:ext cx="247032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6E1EE5-3BA9-4717-B85F-9313BEA5B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7ACC6D-8550-4962-A6C4-4C0385FF9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981080" y="1371240"/>
            <a:ext cx="701064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1219320" y="4343040"/>
            <a:ext cx="76723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F8EA87-8494-4482-98F6-9576D6D3A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981080" y="1371240"/>
            <a:ext cx="701064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219320" y="4343040"/>
            <a:ext cx="7672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90480E-A569-4F37-AF65-2D59360CB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981080" y="1371240"/>
            <a:ext cx="701064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219320" y="4343040"/>
            <a:ext cx="37440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5150880" y="4343040"/>
            <a:ext cx="37440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51E8D-A35F-4922-AC03-47B043410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981080" y="1371240"/>
            <a:ext cx="701064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219320" y="4343040"/>
            <a:ext cx="37440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5150880" y="4343040"/>
            <a:ext cx="37440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2B9DE4-E639-4A59-A21F-40B107889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981080" y="1371240"/>
            <a:ext cx="701064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90D0C5-5A05-4718-9098-9790AA1E0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1981080" y="1371240"/>
            <a:ext cx="7010640" cy="113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AE97D5-F2E5-4FC9-A51C-CACD100EF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981080" y="1371240"/>
            <a:ext cx="701064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219320" y="4343040"/>
            <a:ext cx="374400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150880" y="4343040"/>
            <a:ext cx="37440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1219320" y="4900320"/>
            <a:ext cx="374400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F013AF-A805-46EA-AF0E-CA52B33F9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981080" y="1371240"/>
            <a:ext cx="701064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219320" y="4343040"/>
            <a:ext cx="37440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150880" y="4343040"/>
            <a:ext cx="374400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150880" y="4900320"/>
            <a:ext cx="374400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C531D5-DCE5-4E23-8FFB-9867B4C21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981080" y="1371240"/>
            <a:ext cx="701064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219320" y="4343040"/>
            <a:ext cx="374400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5150880" y="4343040"/>
            <a:ext cx="374400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1219320" y="4900320"/>
            <a:ext cx="767232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279A40-287D-4543-936C-660003D1E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981080" y="1371240"/>
            <a:ext cx="701064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219320" y="4343040"/>
            <a:ext cx="767232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1219320" y="4900320"/>
            <a:ext cx="767232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CCE60F-03E3-4D1D-BC58-F79027CC8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981080" y="1371240"/>
            <a:ext cx="701064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219320" y="4343040"/>
            <a:ext cx="374400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5150880" y="4343040"/>
            <a:ext cx="374400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1219320" y="4900320"/>
            <a:ext cx="374400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5150880" y="4900320"/>
            <a:ext cx="374400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9D127B-8219-4846-988B-E20A1A0D4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981080" y="1371240"/>
            <a:ext cx="701064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219320" y="4343040"/>
            <a:ext cx="247032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813480" y="4343040"/>
            <a:ext cx="247032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407640" y="4343040"/>
            <a:ext cx="247032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1219320" y="4900320"/>
            <a:ext cx="247032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3813480" y="4900320"/>
            <a:ext cx="247032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6407640" y="4900320"/>
            <a:ext cx="247032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5C4100-FF0B-4E54-8B03-A047ADA2B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AC9F79-522C-4202-AAF3-83E9588A4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981080" y="1371240"/>
            <a:ext cx="701064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BBEDF-1547-4918-81CD-BD1A08624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981080" y="1371240"/>
            <a:ext cx="701064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1219320" y="4343040"/>
            <a:ext cx="76723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D6A24A-7FEA-4F68-9EBA-0EAC5243A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981080" y="1371240"/>
            <a:ext cx="701064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219320" y="4343040"/>
            <a:ext cx="7672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A5DB30-DC62-4BF5-9FCE-C434F4A29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981080" y="1371240"/>
            <a:ext cx="701064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219320" y="4343040"/>
            <a:ext cx="37440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5150880" y="4343040"/>
            <a:ext cx="37440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A05665-A71C-46DE-ABDF-9A0CAD297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981080" y="1371240"/>
            <a:ext cx="701064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AD5995-4B25-445E-A21F-21F623282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1981080" y="1371240"/>
            <a:ext cx="7010640" cy="113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C7E0C4-7A29-4F4C-ACFC-B95A56931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981080" y="1371240"/>
            <a:ext cx="701064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219320" y="4343040"/>
            <a:ext cx="374400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150880" y="4343040"/>
            <a:ext cx="37440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1219320" y="4900320"/>
            <a:ext cx="374400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35E2BD-2FD4-4E9A-A423-5CD377F2B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981080" y="1371240"/>
            <a:ext cx="701064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219320" y="4343040"/>
            <a:ext cx="37440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5150880" y="4343040"/>
            <a:ext cx="374400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5150880" y="4900320"/>
            <a:ext cx="374400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57C4B8-20DC-4019-AD7A-C3687441F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981080" y="1371240"/>
            <a:ext cx="701064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219320" y="4343040"/>
            <a:ext cx="374400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150880" y="4343040"/>
            <a:ext cx="374400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219320" y="4900320"/>
            <a:ext cx="767232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9899E5-97B2-43B6-AEE8-B50833DD5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981080" y="1371240"/>
            <a:ext cx="701064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219320" y="4343040"/>
            <a:ext cx="767232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1219320" y="4900320"/>
            <a:ext cx="767232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745807-C7C3-4CB5-A706-BEAEB7871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981080" y="1371240"/>
            <a:ext cx="701064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219320" y="4343040"/>
            <a:ext cx="374400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5150880" y="4343040"/>
            <a:ext cx="374400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1219320" y="4900320"/>
            <a:ext cx="374400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5150880" y="4900320"/>
            <a:ext cx="374400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848DCD-4F2D-483D-9CBF-0F2206905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1981080" y="1371240"/>
            <a:ext cx="7010640" cy="113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84ADC-FE56-4F89-839C-B5A3FE624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981080" y="1371240"/>
            <a:ext cx="701064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219320" y="4343040"/>
            <a:ext cx="247032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813480" y="4343040"/>
            <a:ext cx="247032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407640" y="4343040"/>
            <a:ext cx="247032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1219320" y="4900320"/>
            <a:ext cx="247032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813480" y="4900320"/>
            <a:ext cx="247032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407640" y="4900320"/>
            <a:ext cx="247032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3491C0-CDF4-423B-B0C8-1D9216751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4D22AF-45E5-4BEE-B610-467E83F56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981080" y="1371240"/>
            <a:ext cx="701064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1219320" y="4343040"/>
            <a:ext cx="76723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4FCC9E-5D72-4BDC-ACB2-F83E92A58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981080" y="1371240"/>
            <a:ext cx="701064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219320" y="4343040"/>
            <a:ext cx="7672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FE863F-8C7F-493D-B56D-C63F8A589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981080" y="1371240"/>
            <a:ext cx="701064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219320" y="4343040"/>
            <a:ext cx="37440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5150880" y="4343040"/>
            <a:ext cx="37440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053F9D-7D3B-4A22-9044-BC65918A2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981080" y="1371240"/>
            <a:ext cx="701064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B807DB-25A4-4274-B677-C8BE2452C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1981080" y="1371240"/>
            <a:ext cx="7010640" cy="113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91AA3E-0D0E-4CEE-8F63-BC9C44557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981080" y="1371240"/>
            <a:ext cx="701064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219320" y="4343040"/>
            <a:ext cx="374400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5150880" y="4343040"/>
            <a:ext cx="37440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1219320" y="4900320"/>
            <a:ext cx="374400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B2F6B1-5598-448C-8BE1-129F304B7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981080" y="1371240"/>
            <a:ext cx="701064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219320" y="4343040"/>
            <a:ext cx="37440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5150880" y="4343040"/>
            <a:ext cx="374400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5150880" y="4900320"/>
            <a:ext cx="374400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56A371-64EE-413A-B64C-A3C69BE17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981080" y="1371240"/>
            <a:ext cx="701064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219320" y="4343040"/>
            <a:ext cx="374400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5150880" y="4343040"/>
            <a:ext cx="374400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1219320" y="4900320"/>
            <a:ext cx="767232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42485E-CF36-4478-916C-25EADBD09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981080" y="1371240"/>
            <a:ext cx="701064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219320" y="4343040"/>
            <a:ext cx="374400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150880" y="4343040"/>
            <a:ext cx="37440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219320" y="4900320"/>
            <a:ext cx="374400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EF084-8F9D-4253-8476-EE0779CB9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981080" y="1371240"/>
            <a:ext cx="701064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219320" y="4343040"/>
            <a:ext cx="767232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1219320" y="4900320"/>
            <a:ext cx="767232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C8801D-B510-433E-B4D8-B3DBBFF84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981080" y="1371240"/>
            <a:ext cx="701064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219320" y="4343040"/>
            <a:ext cx="374400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5150880" y="4343040"/>
            <a:ext cx="374400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1219320" y="4900320"/>
            <a:ext cx="374400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5150880" y="4900320"/>
            <a:ext cx="374400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DCE54C-F607-4EAF-AD4B-8D1CBBB7A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981080" y="1371240"/>
            <a:ext cx="701064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219320" y="4343040"/>
            <a:ext cx="247032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813480" y="4343040"/>
            <a:ext cx="247032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407640" y="4343040"/>
            <a:ext cx="247032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1219320" y="4900320"/>
            <a:ext cx="247032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813480" y="4900320"/>
            <a:ext cx="247032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407640" y="4900320"/>
            <a:ext cx="247032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85A95D-3514-4688-BC97-E08487327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981080" y="1371240"/>
            <a:ext cx="701064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219320" y="4343040"/>
            <a:ext cx="37440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150880" y="4343040"/>
            <a:ext cx="374400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5150880" y="4900320"/>
            <a:ext cx="374400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351A5-C8A2-4D70-A60D-5D00FB5EE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81080" y="1371240"/>
            <a:ext cx="701064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19320" y="4343040"/>
            <a:ext cx="374400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50880" y="4343040"/>
            <a:ext cx="374400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219320" y="4900320"/>
            <a:ext cx="767232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CCB6B-0307-4E8A-84F6-3486A6872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5D0AE-4011-481F-A720-4582A2DC349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4A5E2-7DD7-4E04-820F-D56FC0126EA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9" name=""/>
          <p:cNvGraphicFramePr/>
          <p:nvPr/>
        </p:nvGraphicFramePr>
        <p:xfrm>
          <a:off x="0" y="0"/>
          <a:ext cx="1600200" cy="1579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1600200" cy="157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600200" y="45684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684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SzPct val="70000"/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SzPct val="70000"/>
              <a:buFont typeface="Monotype Sorts" charset="2"/>
              <a:buChar char="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Monotype Sorts" charset="2"/>
              <a:buChar char="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Monotype Sorts" charset="2"/>
              <a:buChar char="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Monotype Sorts" charset="2"/>
              <a:buChar char="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7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8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9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F8BF3-4576-428C-A389-893AA976CB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2" name=""/>
          <p:cNvGraphicFramePr/>
          <p:nvPr/>
        </p:nvGraphicFramePr>
        <p:xfrm>
          <a:off x="228600" y="1981080"/>
          <a:ext cx="2133720" cy="2103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1981080"/>
                    <a:ext cx="2133720" cy="210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981080" y="1371240"/>
            <a:ext cx="701064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dt" idx="10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ftr" idx="11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 type="sldNum" idx="12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6F1C9-9DAD-4E44-AA9C-FC35FA8982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SzPct val="70000"/>
              <a:buFont typeface="Monotype Sorts" charset="2"/>
              <a:buChar char="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SzPct val="70000"/>
              <a:buFont typeface="Monotype Sorts" charset="2"/>
              <a:buChar char="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65000"/>
              <a:buFont typeface="Monotype Sorts" charset="2"/>
              <a:buChar char="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65000"/>
              <a:buFont typeface="Monotype Sorts" charset="2"/>
              <a:buChar char="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65000"/>
              <a:buFont typeface="Monotype Sorts" charset="2"/>
              <a:buChar char="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5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236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7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3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5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5A813-806B-4BFD-8425-9E857DCC85F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280" name="PlaceHolder 1"/>
          <p:cNvSpPr>
            <a:spLocks noGrp="1"/>
          </p:cNvSpPr>
          <p:nvPr>
            <p:ph type="dt" idx="16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sldNum" idx="18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5454D-1489-4EA6-BAC1-48B1FE8F634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HELTS-Bahan%20Nurturing%20A1.ppt" TargetMode="External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Normatif.ppt" TargetMode="External"/><Relationship Id="rId2" Type="http://schemas.openxmlformats.org/officeDocument/2006/relationships/slideLayout" Target="../slideLayouts/slideLayout3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Evaluasi%20Diri.ppt" TargetMode="External"/><Relationship Id="rId2" Type="http://schemas.openxmlformats.org/officeDocument/2006/relationships/slideLayout" Target="../slideLayouts/slideLayout3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Analisa%20Data.ppt" TargetMode="External"/><Relationship Id="rId2" Type="http://schemas.openxmlformats.org/officeDocument/2006/relationships/slideLayout" Target="../slideLayouts/slideLayout3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Penyusunan%20SE%20Report.ppt" TargetMode="External"/><Relationship Id="rId2" Type="http://schemas.openxmlformats.org/officeDocument/2006/relationships/hyperlink" Target="file:///Penyusunan%20SE%20Report.ppt" TargetMode="External"/><Relationship Id="rId3" Type="http://schemas.openxmlformats.org/officeDocument/2006/relationships/slideLayout" Target="../slideLayouts/slideLayout3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Identifikasi%20Rencana%20Pengembangan.ppt" TargetMode="External"/><Relationship Id="rId2" Type="http://schemas.openxmlformats.org/officeDocument/2006/relationships/slideLayout" Target="../slideLayouts/slideLayout3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Susun%20Rencana%20Pengembangan.ppt" TargetMode="External"/><Relationship Id="rId2" Type="http://schemas.openxmlformats.org/officeDocument/2006/relationships/slideLayout" Target="../slideLayouts/slideLayout3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Bahan Pelatihan</a:t>
            </a:r>
            <a:br>
              <a:rPr sz="5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Evaluasi Dir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2359080" y="3430080"/>
            <a:ext cx="6408720" cy="142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hun 200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HIGHER EDUCATION LONG TERM STRATEGY (HELTS) </a:t>
            </a:r>
            <a:br>
              <a:rPr sz="3600"/>
            </a:b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2003-2010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wan Pendidikan Tingg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tjen Dik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68360" y="3860640"/>
            <a:ext cx="194472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600" spc="-1" strike="noStrike" u="sng">
                <a:solidFill>
                  <a:srgbClr val="7e9ce8"/>
                </a:solidFill>
                <a:uFillTx/>
                <a:latin typeface="Wingdings 2"/>
                <a:ea typeface="Wingdings 2"/>
                <a:hlinkClick r:id="rId1"/>
              </a:rPr>
              <a:t></a:t>
            </a:r>
            <a:endParaRPr b="0" lang="en-US" sz="15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2082960" y="762120"/>
            <a:ext cx="685800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Benguiat Bk BT"/>
              </a:rPr>
              <a:t>Proses Pengelolaan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Benguiat Bk BT"/>
              </a:rPr>
              <a:t>Pendidikan Tinggi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Benguiat Bk BT"/>
              </a:rPr>
              <a:t>yang </a:t>
            </a:r>
            <a:r>
              <a:rPr b="0" i="1" lang="en-US" sz="4400" spc="-1" strike="noStrike">
                <a:solidFill>
                  <a:srgbClr val="ff0000"/>
                </a:solidFill>
                <a:latin typeface="Benguiat Bk BT"/>
              </a:rPr>
              <a:t>Normatif</a:t>
            </a: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subTitle"/>
          </p:nvPr>
        </p:nvSpPr>
        <p:spPr>
          <a:xfrm>
            <a:off x="1219320" y="4571640"/>
            <a:ext cx="76723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echnical"/>
              </a:rPr>
              <a:t>Dewan Pendidikan Tinggi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echnical"/>
              </a:rPr>
              <a:t>Direktorat Jenderal Pendidikan Tinggi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echnical"/>
              </a:rPr>
              <a:t>Departemen Pendidikan Nasional</a:t>
            </a:r>
            <a:br>
              <a:rPr sz="24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eptember, 200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24000" y="4149720"/>
            <a:ext cx="187164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600" spc="-1" strike="noStrike" u="sng">
                <a:solidFill>
                  <a:srgbClr val="99ccff"/>
                </a:solidFill>
                <a:uFillTx/>
                <a:latin typeface="Wingdings 2"/>
                <a:ea typeface="Wingdings 2"/>
                <a:hlinkClick r:id="rId1"/>
              </a:rPr>
              <a:t></a:t>
            </a:r>
            <a:endParaRPr b="0" lang="en-US" sz="15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500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082960" y="1358640"/>
            <a:ext cx="6858000" cy="28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Benguiat Bk BT"/>
              </a:rPr>
              <a:t>Self-Evaluation </a:t>
            </a:r>
            <a:br>
              <a:rPr sz="4400"/>
            </a:br>
            <a:r>
              <a:rPr b="0" i="1" lang="en-US" sz="4000" spc="-1" strike="noStrike">
                <a:solidFill>
                  <a:srgbClr val="ff0000"/>
                </a:solidFill>
                <a:latin typeface="Benguiat Bk BT"/>
              </a:rPr>
              <a:t>dalam Konteks Perencanaan</a:t>
            </a:r>
            <a:r>
              <a:rPr b="0" lang="en-US" sz="4000" spc="-1" strike="noStrike">
                <a:solidFill>
                  <a:srgbClr val="ff0000"/>
                </a:solidFill>
                <a:latin typeface="Benguiat Bk BT"/>
              </a:rPr>
              <a:t> </a:t>
            </a:r>
            <a:br>
              <a:rPr sz="4000"/>
            </a:b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1219320" y="4571640"/>
            <a:ext cx="76723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echnical"/>
              </a:rPr>
              <a:t>Dewan Pendidikan Tinggi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echnical"/>
              </a:rPr>
              <a:t>Direktorat Jenderal Pendidikan Tinggi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echnical"/>
              </a:rPr>
              <a:t>Departemen Pendidikan Nasional</a:t>
            </a:r>
            <a:br>
              <a:rPr sz="24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eptember, 200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84360" y="4149720"/>
            <a:ext cx="215892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600" spc="-1" strike="noStrike" u="sng">
                <a:solidFill>
                  <a:srgbClr val="99ccff"/>
                </a:solidFill>
                <a:uFillTx/>
                <a:latin typeface="Wingdings 2"/>
                <a:ea typeface="Wingdings 2"/>
                <a:hlinkClick r:id="rId1"/>
              </a:rPr>
              <a:t></a:t>
            </a:r>
            <a:endParaRPr b="0" lang="en-US" sz="15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2082960" y="762120"/>
            <a:ext cx="685800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enguiat Bk BT"/>
              </a:rPr>
              <a:t>Teknis Penyusunan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Benguiat Bk BT"/>
              </a:rPr>
              <a:t>Self-Evaluation Report</a:t>
            </a:r>
            <a:br>
              <a:rPr sz="4400"/>
            </a:br>
            <a:r>
              <a:rPr b="0" lang="en-US" sz="4000" spc="-1" strike="noStrike">
                <a:solidFill>
                  <a:srgbClr val="ff0000"/>
                </a:solidFill>
                <a:latin typeface="Benguiat Bk BT"/>
              </a:rPr>
              <a:t>Identifikasi &amp; Analisa Data</a:t>
            </a: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1219320" y="4571640"/>
            <a:ext cx="76723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echnical"/>
              </a:rPr>
              <a:t>Dewan Pendidikan Tinggi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echnical"/>
              </a:rPr>
              <a:t>Direktorat Jenderal Pendidikan Tinggi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echnical"/>
              </a:rPr>
              <a:t>Departemen Pendidikan Nasional</a:t>
            </a:r>
            <a:br>
              <a:rPr sz="24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eptember, 200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39640" y="4005360"/>
            <a:ext cx="208764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600" spc="-1" strike="noStrike" u="sng">
                <a:solidFill>
                  <a:srgbClr val="99ccff"/>
                </a:solidFill>
                <a:uFillTx/>
                <a:latin typeface="Wingdings 2"/>
                <a:ea typeface="Wingdings 2"/>
                <a:hlinkClick r:id="rId1"/>
              </a:rPr>
              <a:t></a:t>
            </a:r>
            <a:endParaRPr b="0" lang="en-US" sz="15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2082960" y="762120"/>
            <a:ext cx="685800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enguiat Bk BT"/>
              </a:rPr>
              <a:t>Teknis Penyusunan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Benguiat Bk BT"/>
              </a:rPr>
              <a:t>Self-Evaluation Report</a:t>
            </a:r>
            <a:br>
              <a:rPr sz="4400"/>
            </a:br>
            <a:r>
              <a:rPr b="0" lang="en-US" sz="4000" spc="-1" strike="noStrike">
                <a:solidFill>
                  <a:srgbClr val="ff0000"/>
                </a:solidFill>
                <a:latin typeface="Benguiat Bk BT"/>
              </a:rPr>
              <a:t>Penyusunan Laporan</a:t>
            </a: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1219320" y="4571640"/>
            <a:ext cx="76723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echnical"/>
              </a:rPr>
              <a:t>Dewan Pendidikan Tinggi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echnical"/>
              </a:rPr>
              <a:t>Direktorat Jenderal Pendidikan Tinggi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echnical"/>
              </a:rPr>
              <a:t>Departemen Pendidikan Nasional</a:t>
            </a:r>
            <a:br>
              <a:rPr sz="24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eptember, 200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>
            <a:hlinkClick r:id="rId1"/>
          </p:cNvPr>
          <p:cNvSpPr/>
          <p:nvPr/>
        </p:nvSpPr>
        <p:spPr>
          <a:xfrm>
            <a:off x="289080" y="4149720"/>
            <a:ext cx="219528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600" spc="-1" strike="noStrike" u="sng">
                <a:solidFill>
                  <a:srgbClr val="99ccff"/>
                </a:solidFill>
                <a:uFillTx/>
                <a:latin typeface="Wingdings 2"/>
                <a:ea typeface="Wingdings 2"/>
                <a:hlinkClick r:id="rId2"/>
              </a:rPr>
              <a:t></a:t>
            </a:r>
            <a:endParaRPr b="0" lang="en-US" sz="15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500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2082960" y="914400"/>
            <a:ext cx="6858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enguiat Bk BT"/>
              </a:rPr>
              <a:t>Tekni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Benguiat Bk BT"/>
              </a:rPr>
              <a:t>Penyusunan Proposal</a:t>
            </a:r>
            <a:br>
              <a:rPr sz="4400"/>
            </a:br>
            <a:r>
              <a:rPr b="0" lang="en-US" sz="4000" spc="-1" strike="noStrike">
                <a:solidFill>
                  <a:srgbClr val="ff0000"/>
                </a:solidFill>
                <a:latin typeface="Benguiat Bk BT"/>
              </a:rPr>
              <a:t>Identifikasi</a:t>
            </a:r>
            <a:br>
              <a:rPr sz="4000"/>
            </a:br>
            <a:r>
              <a:rPr b="0" i="1" lang="en-US" sz="4000" spc="-1" strike="noStrike">
                <a:solidFill>
                  <a:srgbClr val="ff0000"/>
                </a:solidFill>
                <a:latin typeface="Benguiat Bk BT"/>
              </a:rPr>
              <a:t>Proposed Activities</a:t>
            </a: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subTitle"/>
          </p:nvPr>
        </p:nvSpPr>
        <p:spPr>
          <a:xfrm>
            <a:off x="1219320" y="4571640"/>
            <a:ext cx="76723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echnical"/>
              </a:rPr>
              <a:t>Dewan Pendidikan Tinggi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echnical"/>
              </a:rPr>
              <a:t>Direktorat Jenderal Pendidikan Tinggi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echnical"/>
              </a:rPr>
              <a:t>Departemen Pendidikan Nasional</a:t>
            </a:r>
            <a:br>
              <a:rPr sz="24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eptember, 200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11280" y="4149720"/>
            <a:ext cx="208908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600" spc="-1" strike="noStrike" u="sng">
                <a:solidFill>
                  <a:srgbClr val="99ccff"/>
                </a:solidFill>
                <a:uFillTx/>
                <a:latin typeface="Wingdings 2"/>
                <a:ea typeface="Wingdings 2"/>
                <a:hlinkClick r:id="rId1"/>
              </a:rPr>
              <a:t></a:t>
            </a:r>
            <a:endParaRPr b="0" lang="en-US" sz="15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2082960" y="762120"/>
            <a:ext cx="685800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enguiat Bk BT"/>
              </a:rPr>
              <a:t>Tekni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Benguiat Bk BT"/>
              </a:rPr>
              <a:t>Penyusunan Proposal</a:t>
            </a:r>
            <a:br>
              <a:rPr sz="4400"/>
            </a:br>
            <a:r>
              <a:rPr b="0" lang="en-US" sz="4000" spc="-1" strike="noStrike">
                <a:solidFill>
                  <a:srgbClr val="ff0000"/>
                </a:solidFill>
                <a:latin typeface="Benguiat Bk BT"/>
              </a:rPr>
              <a:t>Penyusunan </a:t>
            </a:r>
            <a:r>
              <a:rPr b="0" i="1" lang="en-US" sz="4000" spc="-1" strike="noStrike">
                <a:solidFill>
                  <a:srgbClr val="ff0000"/>
                </a:solidFill>
                <a:latin typeface="Benguiat Bk BT"/>
              </a:rPr>
              <a:t>Proposed Plan</a:t>
            </a: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1219320" y="4571640"/>
            <a:ext cx="76723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echnical"/>
              </a:rPr>
              <a:t>Dewan Pendidikan Tinggi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echnical"/>
              </a:rPr>
              <a:t>Direktorat Jenderal Pendidikan Tinggi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echnical"/>
              </a:rPr>
              <a:t>Departemen Pendidikan Nasional</a:t>
            </a:r>
            <a:br>
              <a:rPr sz="24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eptember, 200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60360" y="4292640"/>
            <a:ext cx="205092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600" spc="-1" strike="noStrike" u="sng">
                <a:solidFill>
                  <a:srgbClr val="99ccff"/>
                </a:solidFill>
                <a:uFillTx/>
                <a:latin typeface="Wingdings 2"/>
                <a:ea typeface="Wingdings 2"/>
                <a:hlinkClick r:id="rId1"/>
              </a:rPr>
              <a:t></a:t>
            </a:r>
            <a:endParaRPr b="0" lang="en-US" sz="15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" dur="500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4T00:55:12Z</dcterms:created>
  <dc:creator>Jack la Motta</dc:creator>
  <dc:description/>
  <dc:language>en-US</dc:language>
  <cp:lastModifiedBy>Jack la Motta</cp:lastModifiedBy>
  <dcterms:modified xsi:type="dcterms:W3CDTF">2003-10-07T06:10:42Z</dcterms:modified>
  <cp:revision>18</cp:revision>
  <dc:subject/>
  <dc:title>Bahan Pelatihan Evaluasi Diri</dc:title>
</cp:coreProperties>
</file>